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43.jpeg" ContentType="image/jpeg"/>
  <Override PartName="/ppt/media/image37.jpeg" ContentType="image/jpeg"/>
  <Override PartName="/ppt/media/image57.png" ContentType="image/png"/>
  <Override PartName="/ppt/media/image54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9.jpeg" ContentType="image/jpeg"/>
  <Override PartName="/ppt/media/image42.jpeg" ContentType="image/jpeg"/>
  <Override PartName="/ppt/media/image71.png" ContentType="image/png"/>
  <Override PartName="/ppt/media/image21.jpeg" ContentType="image/jpeg"/>
  <Override PartName="/ppt/media/image65.png" ContentType="image/png"/>
  <Override PartName="/ppt/media/image49.png" ContentType="image/png"/>
  <Override PartName="/ppt/media/image23.jpeg" ContentType="image/jpeg"/>
  <Override PartName="/ppt/media/image18.jpeg" ContentType="image/jpeg"/>
  <Override PartName="/ppt/media/image73.png" ContentType="image/png"/>
  <Override PartName="/ppt/media/image59.png" ContentType="image/png"/>
  <Override PartName="/ppt/media/image24.jpeg" ContentType="image/jpeg"/>
  <Override PartName="/ppt/media/image6.gif" ContentType="image/gif"/>
  <Override PartName="/ppt/media/image9.png" ContentType="image/png"/>
  <Override PartName="/ppt/media/image22.jpeg" ContentType="image/jpeg"/>
  <Override PartName="/ppt/media/image69.png" ContentType="image/png"/>
  <Override PartName="/ppt/media/image25.jpeg" ContentType="image/jpeg"/>
  <Override PartName="/ppt/media/image2.png" ContentType="image/png"/>
  <Override PartName="/ppt/media/image70.png" ContentType="image/png"/>
  <Override PartName="/ppt/media/image7.jpeg" ContentType="image/jpeg"/>
  <Override PartName="/ppt/media/image68.png" ContentType="image/png"/>
  <Override PartName="/ppt/media/image67.png" ContentType="image/png"/>
  <Override PartName="/ppt/media/image63.png" ContentType="image/png"/>
  <Override PartName="/ppt/media/image62.png" ContentType="image/png"/>
  <Override PartName="/ppt/media/image60.png" ContentType="image/png"/>
  <Override PartName="/ppt/media/image52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26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4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205C-F5BC-465D-99B0-BD0C886E4705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21E0-9B68-45D5-8998-A608BC12079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09C1-7A75-493A-AFAA-383C7A7DF2C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202.100.100.176/computer/article.asp?titid=4292&amp;sort3_a=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znnn.com/article/200331721444.asp" TargetMode="External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netswhere.com/system/system02.htm" TargetMode="External"/><Relationship Id="rId3" Type="http://schemas.openxmlformats.org/officeDocument/2006/relationships/image" Target="../media/image54.png"/><Relationship Id="rId4" Type="http://schemas.openxmlformats.org/officeDocument/2006/relationships/hyperlink" Target="http://www.netswhere.com/system/system02.htm" TargetMode="External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yesky.com/20030311/1656244.shtml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软件与计算机组装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三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主板的安装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62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插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存插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2952720" cy="2111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2724480" cy="203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43280" y="1268280"/>
            <a:ext cx="2730600" cy="2022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主板的安装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62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S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8360" y="458136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集成声卡的主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3664080"/>
            <a:ext cx="37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集成声卡及显示卡的主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1839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4000" y="4365720"/>
            <a:ext cx="26017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451320"/>
            <a:ext cx="381636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rcRect l="0" t="0" r="0" b="9163"/>
          <a:stretch/>
        </p:blipFill>
        <p:spPr>
          <a:xfrm>
            <a:off x="2971800" y="4592520"/>
            <a:ext cx="4191120" cy="22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P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内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内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76720" y="4221000"/>
            <a:ext cx="4628880" cy="210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2571480" cy="2462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将主板装入机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主板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348000" y="2349360"/>
            <a:ext cx="243828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2514600" cy="1841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539040" y="2801880"/>
            <a:ext cx="243828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716360" y="4797360"/>
            <a:ext cx="27432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p0000440.gif (32751 bytes)"/>
          <p:cNvPicPr/>
          <p:nvPr/>
        </p:nvPicPr>
        <p:blipFill>
          <a:blip r:embed="rId6"/>
          <a:stretch/>
        </p:blipFill>
        <p:spPr>
          <a:xfrm>
            <a:off x="1116000" y="4797360"/>
            <a:ext cx="27432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9" name=""/>
          <p:cNvSpPr/>
          <p:nvPr/>
        </p:nvSpPr>
        <p:spPr>
          <a:xfrm>
            <a:off x="2590920" y="2971800"/>
            <a:ext cx="685800" cy="457200"/>
          </a:xfrm>
          <a:custGeom>
            <a:avLst/>
            <a:gdLst>
              <a:gd name="textAreaLeft" fmla="*/ 106920 w 685800"/>
              <a:gd name="textAreaRight" fmla="*/ 600120 w 685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3573360"/>
            <a:ext cx="609840" cy="424080"/>
          </a:xfrm>
          <a:custGeom>
            <a:avLst/>
            <a:gdLst>
              <a:gd name="textAreaLeft" fmla="*/ 95040 w 609840"/>
              <a:gd name="textAreaRight" fmla="*/ 533880 w 609840"/>
              <a:gd name="textAreaTop" fmla="*/ 105840 h 424080"/>
              <a:gd name="textAreaBottom" fmla="*/ 318240 h 42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7595640" y="5228640"/>
            <a:ext cx="772920" cy="755640"/>
          </a:xfrm>
          <a:custGeom>
            <a:avLst/>
            <a:gdLst>
              <a:gd name="textAreaLeft" fmla="*/ -360 w 772920"/>
              <a:gd name="textAreaRight" fmla="*/ 772920 w 772920"/>
              <a:gd name="textAreaTop" fmla="*/ -360 h 755640"/>
              <a:gd name="textAreaBottom" fmla="*/ 755640 h 75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994920" y="5516640"/>
            <a:ext cx="576360" cy="434880"/>
          </a:xfrm>
          <a:custGeom>
            <a:avLst/>
            <a:gdLst>
              <a:gd name="textAreaLeft" fmla="*/ 90000 w 576360"/>
              <a:gd name="textAreaRight" fmla="*/ 504360 w 576360"/>
              <a:gd name="textAreaTop" fmla="*/ 108720 h 434880"/>
              <a:gd name="textAreaBottom" fmla="*/ 326160 h 434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接口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显示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2133720"/>
            <a:ext cx="4629240" cy="294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接口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声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安装声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连接音频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210040" cy="179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771640" y="1365120"/>
            <a:ext cx="2664000" cy="177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2" name="" descr="连接CD音频线"/>
          <p:cNvPicPr/>
          <p:nvPr/>
        </p:nvPicPr>
        <p:blipFill>
          <a:blip r:embed="rId4"/>
          <a:stretch/>
        </p:blipFill>
        <p:spPr>
          <a:xfrm>
            <a:off x="6372360" y="4437000"/>
            <a:ext cx="2374920" cy="176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3" name=""/>
          <p:cNvSpPr/>
          <p:nvPr/>
        </p:nvSpPr>
        <p:spPr>
          <a:xfrm>
            <a:off x="5029200" y="4800600"/>
            <a:ext cx="1143000" cy="5731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43280 h 573120"/>
              <a:gd name="textAreaBottom" fmla="*/ 429840 h 573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292920" y="3483720"/>
            <a:ext cx="1143000" cy="6015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50480 h 601560"/>
              <a:gd name="textAreaBottom" fmla="*/ 451440 h 60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640224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计算机基本硬件的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刷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可以随意拔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输入输出系统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IO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91120" y="3809880"/>
            <a:ext cx="3200400" cy="18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640224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输入输出系统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IOS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611280" y="1628640"/>
          <a:ext cx="7473960" cy="4538880"/>
        </p:xfrm>
        <a:graphic>
          <a:graphicData uri="http://schemas.openxmlformats.org/drawingml/2006/table">
            <a:tbl>
              <a:tblPr/>
              <a:tblGrid>
                <a:gridCol w="3744720"/>
                <a:gridCol w="37292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tandard CMOS Setu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标准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MO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定）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ntegrated Peripheral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整合外围设备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IOS Features Setup (BIO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性设定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upervisor Passwo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管理者密码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hipset Features Setu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芯片组特性设定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ser Passwo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密码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wer Management Setu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电源管理设定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DE HDD Auto Detectio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DE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硬盘自动检测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NP/PCI Configuratio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即插即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PCI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配置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ave &amp; Exit Setu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存并退出设置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oad BIOS Defaul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载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IO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默认设值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xit Without Sav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退出但不保存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oad Optimum Setting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载入最佳设置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机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7429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机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托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拆卸顺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51600" y="2997360"/>
            <a:ext cx="2831760" cy="295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124000" y="2997360"/>
            <a:ext cx="209412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安装硬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硬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安装入托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数据线和电源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主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3841920"/>
            <a:ext cx="2411280" cy="229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2" name="" descr="ATX电源"/>
          <p:cNvPicPr/>
          <p:nvPr/>
        </p:nvPicPr>
        <p:blipFill>
          <a:blip r:embed="rId3"/>
          <a:stretch/>
        </p:blipFill>
        <p:spPr>
          <a:xfrm>
            <a:off x="2646360" y="3787920"/>
            <a:ext cx="2768760" cy="2352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3" name="" descr="IDE\FDD接口"/>
          <p:cNvPicPr/>
          <p:nvPr/>
        </p:nvPicPr>
        <p:blipFill>
          <a:blip r:embed="rId4"/>
          <a:stretch/>
        </p:blipFill>
        <p:spPr>
          <a:xfrm>
            <a:off x="5580000" y="3808440"/>
            <a:ext cx="3168720" cy="2355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输入输出的概念和通讯接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输入输出设备的使用和主要技术指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输入输出设备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的工作原理及使用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接口卡的主要原理及主要技术指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安装光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662472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光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光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入托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连接数据线和电源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连接主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p0000443.gif (27639 bytes)"/>
          <p:cNvPicPr/>
          <p:nvPr/>
        </p:nvPicPr>
        <p:blipFill>
          <a:blip r:embed="rId2"/>
          <a:stretch/>
        </p:blipFill>
        <p:spPr>
          <a:xfrm>
            <a:off x="755640" y="3284640"/>
            <a:ext cx="2881440" cy="192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8" name="" descr="p0000446.gif (29905 bytes)"/>
          <p:cNvPicPr/>
          <p:nvPr/>
        </p:nvPicPr>
        <p:blipFill>
          <a:blip r:embed="rId3"/>
          <a:stretch/>
        </p:blipFill>
        <p:spPr>
          <a:xfrm>
            <a:off x="5562720" y="4495680"/>
            <a:ext cx="28573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9" name=""/>
          <p:cNvSpPr/>
          <p:nvPr/>
        </p:nvSpPr>
        <p:spPr>
          <a:xfrm>
            <a:off x="3962520" y="4572000"/>
            <a:ext cx="1295280" cy="5335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安装软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2280" y="990720"/>
            <a:ext cx="63388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安装软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软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安装入托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连结数据线和电源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连接主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p0000444.gif (28079 bytes)"/>
          <p:cNvPicPr/>
          <p:nvPr/>
        </p:nvPicPr>
        <p:blipFill>
          <a:blip r:embed="rId2"/>
          <a:stretch/>
        </p:blipFill>
        <p:spPr>
          <a:xfrm>
            <a:off x="304920" y="2819520"/>
            <a:ext cx="205740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4" name="" descr="p0000445.gif (30441 bytes)"/>
          <p:cNvPicPr/>
          <p:nvPr/>
        </p:nvPicPr>
        <p:blipFill>
          <a:blip r:embed="rId3"/>
          <a:stretch/>
        </p:blipFill>
        <p:spPr>
          <a:xfrm>
            <a:off x="3851280" y="2852640"/>
            <a:ext cx="1981080" cy="1320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5" name="" descr="连接软驱数据线到软驱"/>
          <p:cNvPicPr/>
          <p:nvPr/>
        </p:nvPicPr>
        <p:blipFill>
          <a:blip r:embed="rId4"/>
          <a:stretch/>
        </p:blipFill>
        <p:spPr>
          <a:xfrm>
            <a:off x="3419640" y="5157720"/>
            <a:ext cx="1769760" cy="1316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6" name="" descr="连接软驱数据线到主板"/>
          <p:cNvPicPr/>
          <p:nvPr/>
        </p:nvPicPr>
        <p:blipFill>
          <a:blip r:embed="rId5"/>
          <a:stretch/>
        </p:blipFill>
        <p:spPr>
          <a:xfrm>
            <a:off x="6877080" y="5157720"/>
            <a:ext cx="1738440" cy="129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7" name=""/>
          <p:cNvSpPr/>
          <p:nvPr/>
        </p:nvSpPr>
        <p:spPr>
          <a:xfrm>
            <a:off x="5435640" y="5589720"/>
            <a:ext cx="1317600" cy="647640"/>
          </a:xfrm>
          <a:custGeom>
            <a:avLst/>
            <a:gdLst>
              <a:gd name="textAreaLeft" fmla="*/ 205920 w 1317600"/>
              <a:gd name="textAreaRight" fmla="*/ 1153080 w 13176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3500280"/>
            <a:ext cx="1295640" cy="64800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367520" y="4352040"/>
            <a:ext cx="766800" cy="647640"/>
          </a:xfrm>
          <a:custGeom>
            <a:avLst/>
            <a:gdLst>
              <a:gd name="textAreaLeft" fmla="*/ 119520 w 766800"/>
              <a:gd name="textAreaRight" fmla="*/ 671040 w 7668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IO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设置硬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641988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存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1341360"/>
            <a:ext cx="1726920" cy="1343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600200" y="3200400"/>
            <a:ext cx="5410080" cy="3381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5" name=""/>
          <p:cNvSpPr/>
          <p:nvPr/>
        </p:nvSpPr>
        <p:spPr>
          <a:xfrm>
            <a:off x="4427640" y="4581360"/>
            <a:ext cx="172872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0720" y="4581360"/>
            <a:ext cx="1800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用软件对硬盘分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硬盘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删除逻辑驱动器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删除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删除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建立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建立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建立逻辑驱动器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激活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软件安装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将软件的全部或部分拷贝到硬盘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将软件信息注册到操作系统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卸载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从硬盘上移除软件的部分或全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移除软件在操作系统中的注册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254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257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操作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80880" y="1844640"/>
            <a:ext cx="21592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检测安装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3321000"/>
            <a:ext cx="21592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选择分区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797360"/>
            <a:ext cx="21592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出现安装向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573360"/>
            <a:ext cx="936720" cy="609840"/>
          </a:xfrm>
          <a:custGeom>
            <a:avLst/>
            <a:gdLst>
              <a:gd name="textAreaLeft" fmla="*/ 146160 w 936720"/>
              <a:gd name="textAreaRight" fmla="*/ 819720 w 9367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1844640"/>
            <a:ext cx="215892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拷贝安装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3352680"/>
            <a:ext cx="215892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安装组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51280" y="4797360"/>
            <a:ext cx="215892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安装硬件驱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6000" y="2924280"/>
            <a:ext cx="1657080" cy="1833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注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登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573360"/>
            <a:ext cx="905040" cy="609840"/>
          </a:xfrm>
          <a:custGeom>
            <a:avLst/>
            <a:gdLst>
              <a:gd name="textAreaLeft" fmla="*/ 141120 w 905040"/>
              <a:gd name="textAreaRight" fmla="*/ 792000 w 9050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000"/>
                            </p:stCondLst>
                            <p:childTnLst>
                              <p:par>
                                <p:cTn id="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4500"/>
                            </p:stCondLst>
                            <p:childTnLst>
                              <p:par>
                                <p:cTn id="8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操作系统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6624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初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同意许可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选择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出现安装向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279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" name="win2k_04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5292720" cy="3844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86" name="win2k_05" descr=""/>
          <p:cNvPicPr/>
          <p:nvPr/>
        </p:nvPicPr>
        <p:blipFill>
          <a:blip r:embed="rId3"/>
          <a:stretch/>
        </p:blipFill>
        <p:spPr>
          <a:xfrm>
            <a:off x="3203640" y="2852640"/>
            <a:ext cx="565128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87" name="win2k_10" descr=""/>
          <p:cNvPicPr/>
          <p:nvPr/>
        </p:nvPicPr>
        <p:blipFill>
          <a:blip r:embed="rId4"/>
          <a:stretch/>
        </p:blipFill>
        <p:spPr>
          <a:xfrm>
            <a:off x="3189240" y="2239920"/>
            <a:ext cx="5796000" cy="385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操作系统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定制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定区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定用户信息及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定密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292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295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win2k_12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6624720" cy="362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02" name="win2k_13" descr=""/>
          <p:cNvPicPr/>
          <p:nvPr/>
        </p:nvPicPr>
        <p:blipFill>
          <a:blip r:embed="rId3"/>
          <a:stretch/>
        </p:blipFill>
        <p:spPr>
          <a:xfrm>
            <a:off x="4030560" y="1444680"/>
            <a:ext cx="4862520" cy="1984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03" name="win2k_15" descr=""/>
          <p:cNvPicPr/>
          <p:nvPr/>
        </p:nvPicPr>
        <p:blipFill>
          <a:blip r:embed="rId4"/>
          <a:stretch/>
        </p:blipFill>
        <p:spPr>
          <a:xfrm>
            <a:off x="1258920" y="3127320"/>
            <a:ext cx="6265800" cy="364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04" name="win2k_16" descr=""/>
          <p:cNvPicPr/>
          <p:nvPr/>
        </p:nvPicPr>
        <p:blipFill>
          <a:blip r:embed="rId5"/>
          <a:stretch/>
        </p:blipFill>
        <p:spPr>
          <a:xfrm>
            <a:off x="1763640" y="3429000"/>
            <a:ext cx="5164200" cy="2644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操作系统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完成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定网络标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登录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309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win2k_22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6156360" cy="339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16" name="win2k_24" descr=""/>
          <p:cNvPicPr/>
          <p:nvPr/>
        </p:nvPicPr>
        <p:blipFill>
          <a:blip r:embed="rId3"/>
          <a:stretch/>
        </p:blipFill>
        <p:spPr>
          <a:xfrm>
            <a:off x="1332000" y="2852640"/>
            <a:ext cx="5761080" cy="2417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、卸载与升级驱动程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6484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驱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升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321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2195640" y="2357280"/>
            <a:ext cx="1739880" cy="1079640"/>
          </a:xfrm>
          <a:prstGeom prst="cube">
            <a:avLst>
              <a:gd name="adj" fmla="val 10069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驱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2276640"/>
            <a:ext cx="1444680" cy="1160280"/>
          </a:xfrm>
          <a:prstGeom prst="can">
            <a:avLst>
              <a:gd name="adj" fmla="val 25856"/>
            </a:avLst>
          </a:prstGeom>
          <a:gradFill rotWithShape="0">
            <a:gsLst>
              <a:gs pos="0">
                <a:srgbClr val="755300"/>
              </a:gs>
              <a:gs pos="50000">
                <a:srgbClr val="ffb601"/>
              </a:gs>
              <a:gs pos="100000">
                <a:srgbClr val="7553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操作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95640" y="4005360"/>
            <a:ext cx="1655640" cy="1066680"/>
          </a:xfrm>
          <a:prstGeom prst="cube">
            <a:avLst>
              <a:gd name="adj" fmla="val 10069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旧驱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95640" y="5589720"/>
            <a:ext cx="1655640" cy="1066680"/>
          </a:xfrm>
          <a:prstGeom prst="cube">
            <a:avLst>
              <a:gd name="adj" fmla="val 10069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新驱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92720" y="4005360"/>
            <a:ext cx="1368360" cy="799920"/>
          </a:xfrm>
          <a:prstGeom prst="flowChartPunchedTape">
            <a:avLst/>
          </a:prstGeom>
          <a:gradFill rotWithShape="0">
            <a:gsLst>
              <a:gs pos="0">
                <a:srgbClr val="bec1c8"/>
              </a:gs>
              <a:gs pos="50000">
                <a:srgbClr val="57585c"/>
              </a:gs>
              <a:gs pos="100000">
                <a:srgbClr val="bec1c8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卸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060640"/>
            <a:ext cx="1622520" cy="1577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365720"/>
            <a:ext cx="1622520" cy="15778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140360" y="2637000"/>
            <a:ext cx="976320" cy="5378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34280 h 537840"/>
              <a:gd name="textAreaBottom" fmla="*/ 403560 h 53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40360" y="4149720"/>
            <a:ext cx="976320" cy="5382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34640 h 538200"/>
              <a:gd name="textAreaBottom" fmla="*/ 403920 h 538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40360" y="5732640"/>
            <a:ext cx="976320" cy="5378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34280 h 537840"/>
              <a:gd name="textAreaBottom" fmla="*/ 403560 h 53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92720" y="5445000"/>
            <a:ext cx="1444680" cy="1160640"/>
          </a:xfrm>
          <a:prstGeom prst="can">
            <a:avLst>
              <a:gd name="adj" fmla="val 25856"/>
            </a:avLst>
          </a:prstGeom>
          <a:gradFill rotWithShape="0">
            <a:gsLst>
              <a:gs pos="0">
                <a:srgbClr val="755300"/>
              </a:gs>
              <a:gs pos="50000">
                <a:srgbClr val="ffb601"/>
              </a:gs>
              <a:gs pos="100000">
                <a:srgbClr val="7553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操作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解计算机操作系统的概念和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解计算机硬件驱动程序与应用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掌握计算机主板的安装与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BIOS</a:t>
            </a: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掌握软盘、硬盘和光驱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掌握计算机各种应用软件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1197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根据所安装设备的不同，设置不同的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125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设备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设备制造厂商和型号。若有厂家的驱动程序，单击“从磁盘安装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选择驱动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择“开始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面板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删除硬件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单击“下一步”按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125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“添加新设备”，单击“下一步”按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689440" cy="40942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896080" cy="42418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692360" y="2060640"/>
            <a:ext cx="5904000" cy="4248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rcRect l="0" t="0" r="0" b="36393"/>
          <a:stretch/>
        </p:blipFill>
        <p:spPr>
          <a:xfrm>
            <a:off x="1547640" y="2133720"/>
            <a:ext cx="5904000" cy="4174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1619280" y="2205000"/>
            <a:ext cx="5905440" cy="4248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任务类型“添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排除设备故障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125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完成驱动程序的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检测新硬件，还是用户自己选择硬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604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、卸载与升级驱动程序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171960" y="1523880"/>
            <a:ext cx="4162320" cy="5334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1476360" y="1989000"/>
            <a:ext cx="5392800" cy="3880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1258920" y="1700280"/>
            <a:ext cx="6337440" cy="45752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1332000" y="1844640"/>
            <a:ext cx="6192720" cy="4456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0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675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、卸载与升级驱动程序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49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卸载驱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选择控制面板中的“添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硬件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选择“卸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拔掉设备 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升级驱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打开设备管理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双击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单击“更新驱动程序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按向导的提示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378320" cy="4608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4397400" cy="4608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rcRect l="10276" t="25774" r="0" b="0"/>
          <a:stretch/>
        </p:blipFill>
        <p:spPr>
          <a:xfrm>
            <a:off x="4427640" y="2781360"/>
            <a:ext cx="4295520" cy="32414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应用软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应用软件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066680" y="1989000"/>
            <a:ext cx="2133720" cy="83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选择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979720"/>
            <a:ext cx="2133720" cy="830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选择安装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3894120"/>
            <a:ext cx="2133720" cy="830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注册用户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4808520"/>
            <a:ext cx="2133720" cy="830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安装完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88000" y="3068640"/>
            <a:ext cx="2232000" cy="1808280"/>
          </a:xfrm>
          <a:prstGeom prst="can">
            <a:avLst>
              <a:gd name="adj" fmla="val 35939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应用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19640" y="3645000"/>
            <a:ext cx="1296720" cy="647640"/>
          </a:xfrm>
          <a:custGeom>
            <a:avLst/>
            <a:gdLst>
              <a:gd name="textAreaLeft" fmla="*/ 202320 w 1296720"/>
              <a:gd name="textAreaRight" fmla="*/ 1134720 w 129672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应用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初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同意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个人信息与序列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377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380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6" name="Image00004" descr=""/>
          <p:cNvPicPr/>
          <p:nvPr/>
        </p:nvPicPr>
        <p:blipFill>
          <a:blip r:embed="rId2"/>
          <a:stretch/>
        </p:blipFill>
        <p:spPr>
          <a:xfrm>
            <a:off x="1692360" y="2492280"/>
            <a:ext cx="5616360" cy="417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7" name="Image00003" descr=""/>
          <p:cNvPicPr/>
          <p:nvPr/>
        </p:nvPicPr>
        <p:blipFill>
          <a:blip r:embed="rId3"/>
          <a:stretch/>
        </p:blipFill>
        <p:spPr>
          <a:xfrm>
            <a:off x="1692360" y="2492280"/>
            <a:ext cx="5688000" cy="424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"/>
                            </p:stCondLst>
                            <p:childTnLst>
                              <p:par>
                                <p:cTn id="1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应用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定制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定制组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选择路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置关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392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395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Image00005" descr=""/>
          <p:cNvPicPr/>
          <p:nvPr/>
        </p:nvPicPr>
        <p:blipFill>
          <a:blip r:embed="rId2"/>
          <a:stretch/>
        </p:blipFill>
        <p:spPr>
          <a:xfrm>
            <a:off x="2700360" y="2414520"/>
            <a:ext cx="5977080" cy="444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02" name="Image00006" descr=""/>
          <p:cNvPicPr/>
          <p:nvPr/>
        </p:nvPicPr>
        <p:blipFill>
          <a:blip r:embed="rId3"/>
          <a:stretch/>
        </p:blipFill>
        <p:spPr>
          <a:xfrm>
            <a:off x="2771640" y="1413000"/>
            <a:ext cx="6048360" cy="516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03" name="Image00007" descr=""/>
          <p:cNvPicPr/>
          <p:nvPr/>
        </p:nvPicPr>
        <p:blipFill>
          <a:blip r:embed="rId4"/>
          <a:stretch/>
        </p:blipFill>
        <p:spPr>
          <a:xfrm>
            <a:off x="2771640" y="2349360"/>
            <a:ext cx="5759640" cy="397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应用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完成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7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408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411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7" name="Image00000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5832360" cy="434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卸载应用软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卸载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422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425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1" name="Image00000" descr=""/>
          <p:cNvPicPr/>
          <p:nvPr/>
        </p:nvPicPr>
        <p:blipFill>
          <a:blip r:embed="rId2"/>
          <a:stretch/>
        </p:blipFill>
        <p:spPr>
          <a:xfrm>
            <a:off x="1763640" y="1557360"/>
            <a:ext cx="4446720" cy="508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596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在计算机系统中呈层状分布。操作系统的作用是使底层硬件对用户“透明”。驱动程序的作用是使操作系统与硬件之间进行沟通。应用软件的作用是扩展计算机的功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主板结构的演变体现了计算机技术和工艺的进步。主板上的各种插槽和接口可以理解为是总线的端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输入输出系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计算机记录基本硬件信息的“心脏”。设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确定硬件的基本工作模式至关重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2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7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64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使用计算机之前必须用软件对硬盘分区，分区是安装软件的前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与升级驱动程序需要注意查看版本，并不是越新的版本就越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软件的安装与卸载都有一定的规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628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独立完成计算机的安装与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独立安装计算机硬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独立设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并对硬盘分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独立安装操作系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独立安装硬件驱动程序及应用软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1640" y="380880"/>
            <a:ext cx="7705800" cy="6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计算机软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19640" y="3047760"/>
            <a:ext cx="936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76520" y="4267080"/>
            <a:ext cx="4983120" cy="1290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计算机硬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276720"/>
            <a:ext cx="3875040" cy="1214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f00"/>
              </a:gs>
              <a:gs pos="50000">
                <a:srgbClr val="ffcf01"/>
              </a:gs>
              <a:gs pos="100000">
                <a:srgbClr val="755f00"/>
              </a:gs>
            </a:gsLst>
            <a:lin ang="5400000"/>
          </a:gradFill>
          <a:ln w="12600">
            <a:solidFill>
              <a:srgbClr val="ffff99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计算机操作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2276640"/>
            <a:ext cx="2664000" cy="1214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99cc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计算机应用软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51640" y="1413000"/>
            <a:ext cx="1607760" cy="914400"/>
            <a:chOff x="5651640" y="1413000"/>
            <a:chExt cx="1607760" cy="914400"/>
          </a:xfrm>
        </p:grpSpPr>
        <p:sp>
          <p:nvSpPr>
            <p:cNvPr id="110" name=""/>
            <p:cNvSpPr/>
            <p:nvPr/>
          </p:nvSpPr>
          <p:spPr>
            <a:xfrm>
              <a:off x="5651640" y="1413000"/>
              <a:ext cx="914040" cy="914400"/>
            </a:xfrm>
            <a:prstGeom prst="smileyFace">
              <a:avLst>
                <a:gd name="adj" fmla="val 9282"/>
              </a:avLst>
            </a:prstGeom>
            <a:solidFill>
              <a:srgbClr val="00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2920" y="1609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2160" y="12952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硬件可以稳定运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分区稳定，完整，可识别，可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系统运行稳定，可以使用所有资源，能够完成操作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硬件运行正常，不存在冲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867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1916280"/>
            <a:ext cx="1219320" cy="45720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314172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400536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479736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58972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2924280"/>
            <a:ext cx="3200400" cy="720720"/>
          </a:xfrm>
          <a:prstGeom prst="cube">
            <a:avLst>
              <a:gd name="adj" fmla="val 12995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桌面用户及企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3787920"/>
            <a:ext cx="3200400" cy="720720"/>
          </a:xfrm>
          <a:prstGeom prst="cube">
            <a:avLst>
              <a:gd name="adj" fmla="val 12995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企业及科研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651200"/>
            <a:ext cx="3200400" cy="648000"/>
          </a:xfrm>
          <a:prstGeom prst="cube">
            <a:avLst>
              <a:gd name="adj" fmla="val 11273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苹果机用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5443560"/>
            <a:ext cx="3200400" cy="719280"/>
          </a:xfrm>
          <a:prstGeom prst="cube">
            <a:avLst>
              <a:gd name="adj" fmla="val 10375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桌面用户及企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792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底层硬件对用户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1628640"/>
            <a:ext cx="419076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硬件驱动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1676520"/>
            <a:ext cx="1218960" cy="52848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1447920"/>
            <a:ext cx="41911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1700280"/>
            <a:ext cx="45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操作系统识别并使用硬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86000" y="4653000"/>
            <a:ext cx="2249280" cy="1828800"/>
          </a:xfrm>
          <a:prstGeom prst="cube">
            <a:avLst>
              <a:gd name="adj" fmla="val 7726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硬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9360" y="4941720"/>
            <a:ext cx="1214280" cy="8524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3560" y="4797360"/>
            <a:ext cx="1919520" cy="1444680"/>
          </a:xfrm>
          <a:prstGeom prst="cube">
            <a:avLst>
              <a:gd name="adj" fmla="val 9231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200400"/>
            <a:ext cx="4005360" cy="914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00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操作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659640" y="2637000"/>
            <a:ext cx="1727640" cy="945720"/>
            <a:chOff x="6659640" y="2637000"/>
            <a:chExt cx="1727640" cy="945720"/>
          </a:xfrm>
        </p:grpSpPr>
        <p:sp>
          <p:nvSpPr>
            <p:cNvPr id="138" name=""/>
            <p:cNvSpPr/>
            <p:nvPr/>
          </p:nvSpPr>
          <p:spPr>
            <a:xfrm>
              <a:off x="6659640" y="2637000"/>
              <a:ext cx="914400" cy="914040"/>
            </a:xfrm>
            <a:prstGeom prst="smileyFace">
              <a:avLst>
                <a:gd name="adj" fmla="val 9282"/>
              </a:avLst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79960" y="3062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4000" y="16286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向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类繁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容丰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1733400" cy="1982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826920" y="3654360"/>
            <a:ext cx="1611360" cy="207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140360" y="1125360"/>
            <a:ext cx="2679480" cy="24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主板的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6240" y="1125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板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L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830240" y="2217600"/>
            <a:ext cx="5483160" cy="2362320"/>
            <a:chOff x="1830240" y="2217600"/>
            <a:chExt cx="5483160" cy="2362320"/>
          </a:xfrm>
        </p:grpSpPr>
        <p:sp>
          <p:nvSpPr>
            <p:cNvPr id="152" name=""/>
            <p:cNvSpPr/>
            <p:nvPr/>
          </p:nvSpPr>
          <p:spPr>
            <a:xfrm>
              <a:off x="1830240" y="2217600"/>
              <a:ext cx="5483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30240" y="2217600"/>
              <a:ext cx="43005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9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 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     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连接AT主板串口线"/>
          <p:cNvPicPr/>
          <p:nvPr/>
        </p:nvPicPr>
        <p:blipFill>
          <a:blip r:embed="rId2"/>
          <a:stretch/>
        </p:blipFill>
        <p:spPr>
          <a:xfrm>
            <a:off x="3635280" y="3213000"/>
            <a:ext cx="2057400" cy="15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19640" y="4869000"/>
            <a:ext cx="2095560" cy="168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059280" y="1413000"/>
            <a:ext cx="1904760" cy="170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主板的安装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6240" y="1125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板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控芯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电子元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3068640"/>
            <a:ext cx="4183200" cy="33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2:55Z</dcterms:modified>
  <cp:revision>700</cp:revision>
  <dc:subject/>
  <dc:title>Understanding Basic HTML</dc:title>
</cp:coreProperties>
</file>