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7.png" ContentType="image/png"/>
  <Override PartName="/ppt/media/image12.wmf" ContentType="image/x-wmf"/>
  <Override PartName="/ppt/media/image10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4.jpeg" ContentType="image/jpeg"/>
  <Override PartName="/ppt/media/image8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34.png" ContentType="image/png"/>
  <Override PartName="/ppt/media/image17.wmf" ContentType="image/x-wmf"/>
  <Override PartName="/ppt/media/image35.wmf" ContentType="image/x-wmf"/>
  <Override PartName="/ppt/media/image15.png" ContentType="image/png"/>
  <Override PartName="/ppt/media/image7.wmf" ContentType="image/x-wmf"/>
  <Override PartName="/ppt/media/image16.wmf" ContentType="image/x-wmf"/>
  <Override PartName="/ppt/media/image33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6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A45E-E7F2-4B83-A093-896F041489E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3D26-24E1-4F36-9D73-DB2515B0E1B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2.wmf"/><Relationship Id="rId10" Type="http://schemas.openxmlformats.org/officeDocument/2006/relationships/image" Target="../media/image14.wmf"/><Relationship Id="rId11" Type="http://schemas.openxmlformats.org/officeDocument/2006/relationships/image" Target="../media/image11.wmf"/><Relationship Id="rId12" Type="http://schemas.openxmlformats.org/officeDocument/2006/relationships/image" Target="../media/image9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网络通讯基础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四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功能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资源共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可靠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高系统处理能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843280" y="3429000"/>
            <a:ext cx="4418280" cy="2742840"/>
            <a:chOff x="2843280" y="3429000"/>
            <a:chExt cx="4418280" cy="2742840"/>
          </a:xfrm>
        </p:grpSpPr>
        <p:grpSp>
          <p:nvGrpSpPr>
            <p:cNvPr id="265" name=""/>
            <p:cNvGrpSpPr/>
            <p:nvPr/>
          </p:nvGrpSpPr>
          <p:grpSpPr>
            <a:xfrm>
              <a:off x="2843280" y="3429000"/>
              <a:ext cx="4418280" cy="2742840"/>
              <a:chOff x="2843280" y="3429000"/>
              <a:chExt cx="4418280" cy="2742840"/>
            </a:xfrm>
          </p:grpSpPr>
          <p:pic>
            <p:nvPicPr>
              <p:cNvPr id="2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73480" y="4220280"/>
                <a:ext cx="2104920" cy="121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7" name=""/>
              <p:cNvGrpSpPr/>
              <p:nvPr/>
            </p:nvGrpSpPr>
            <p:grpSpPr>
              <a:xfrm>
                <a:off x="2843280" y="3694320"/>
                <a:ext cx="1447200" cy="2214000"/>
                <a:chOff x="2843280" y="3694320"/>
                <a:chExt cx="1447200" cy="221400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3027600" y="3694320"/>
                  <a:ext cx="1262880" cy="979200"/>
                  <a:chOff x="3027600" y="3694320"/>
                  <a:chExt cx="1262880" cy="97920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027600" y="3694320"/>
                    <a:ext cx="938520" cy="979200"/>
                    <a:chOff x="3027600" y="3694320"/>
                    <a:chExt cx="938520" cy="979200"/>
                  </a:xfrm>
                </p:grpSpPr>
                <p:grpSp>
                  <p:nvGrpSpPr>
                    <p:cNvPr id="270" name=""/>
                    <p:cNvGrpSpPr/>
                    <p:nvPr/>
                  </p:nvGrpSpPr>
                  <p:grpSpPr>
                    <a:xfrm>
                      <a:off x="3027600" y="3783960"/>
                      <a:ext cx="501480" cy="403560"/>
                      <a:chOff x="3027600" y="3783960"/>
                      <a:chExt cx="501480" cy="403560"/>
                    </a:xfrm>
                  </p:grpSpPr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3034440" y="3783960"/>
                        <a:ext cx="484200" cy="4035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b2b2b2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3045960" y="3789000"/>
                        <a:ext cx="470520" cy="393840"/>
                      </a:xfrm>
                      <a:prstGeom prst="rect">
                        <a:avLst/>
                      </a:pr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3128400" y="4025880"/>
                        <a:ext cx="25200" cy="799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120" bIns="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3125520" y="4060800"/>
                        <a:ext cx="3132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1390">
                            <a:moveTo>
                              <a:pt x="258" y="259"/>
                            </a:moveTo>
                            <a:lnTo>
                              <a:pt x="896" y="259"/>
                            </a:lnTo>
                            <a:lnTo>
                              <a:pt x="896" y="1390"/>
                            </a:lnTo>
                            <a:lnTo>
                              <a:pt x="1154" y="1390"/>
                            </a:lnTo>
                            <a:lnTo>
                              <a:pt x="1154" y="0"/>
                            </a:lnTo>
                            <a:lnTo>
                              <a:pt x="0" y="0"/>
                            </a:lnTo>
                            <a:lnTo>
                              <a:pt x="0" y="1390"/>
                            </a:lnTo>
                            <a:lnTo>
                              <a:pt x="258" y="1390"/>
                            </a:lnTo>
                            <a:lnTo>
                              <a:pt x="258" y="25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3125520" y="4054680"/>
                        <a:ext cx="3132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2282">
                            <a:moveTo>
                              <a:pt x="896" y="2022"/>
                            </a:moveTo>
                            <a:lnTo>
                              <a:pt x="258" y="2022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2282"/>
                            </a:lnTo>
                            <a:lnTo>
                              <a:pt x="1154" y="2282"/>
                            </a:lnTo>
                            <a:lnTo>
                              <a:pt x="1154" y="0"/>
                            </a:lnTo>
                            <a:lnTo>
                              <a:pt x="896" y="0"/>
                            </a:lnTo>
                            <a:lnTo>
                              <a:pt x="896" y="202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3154680" y="4037040"/>
                        <a:ext cx="169200" cy="13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9" h="5525">
                            <a:moveTo>
                              <a:pt x="0" y="0"/>
                            </a:moveTo>
                            <a:lnTo>
                              <a:pt x="0" y="2431"/>
                            </a:lnTo>
                            <a:lnTo>
                              <a:pt x="2030" y="4147"/>
                            </a:lnTo>
                            <a:lnTo>
                              <a:pt x="4503" y="5525"/>
                            </a:lnTo>
                            <a:lnTo>
                              <a:pt x="5094" y="5214"/>
                            </a:lnTo>
                            <a:lnTo>
                              <a:pt x="5618" y="4931"/>
                            </a:lnTo>
                            <a:lnTo>
                              <a:pt x="6129" y="4755"/>
                            </a:lnTo>
                            <a:lnTo>
                              <a:pt x="6088" y="4174"/>
                            </a:lnTo>
                            <a:lnTo>
                              <a:pt x="4664" y="2026"/>
                            </a:lnTo>
                            <a:lnTo>
                              <a:pt x="3871" y="1054"/>
                            </a:lnTo>
                            <a:lnTo>
                              <a:pt x="1895" y="2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3171960" y="4033440"/>
                        <a:ext cx="15660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66" h="5978">
                            <a:moveTo>
                              <a:pt x="5662" y="4579"/>
                            </a:moveTo>
                            <a:lnTo>
                              <a:pt x="5592" y="4304"/>
                            </a:lnTo>
                            <a:lnTo>
                              <a:pt x="5590" y="4294"/>
                            </a:lnTo>
                            <a:lnTo>
                              <a:pt x="5586" y="4284"/>
                            </a:lnTo>
                            <a:lnTo>
                              <a:pt x="5578" y="4266"/>
                            </a:lnTo>
                            <a:lnTo>
                              <a:pt x="5560" y="4225"/>
                            </a:lnTo>
                            <a:lnTo>
                              <a:pt x="5531" y="4163"/>
                            </a:lnTo>
                            <a:lnTo>
                              <a:pt x="5490" y="4081"/>
                            </a:lnTo>
                            <a:lnTo>
                              <a:pt x="5439" y="3978"/>
                            </a:lnTo>
                            <a:lnTo>
                              <a:pt x="5374" y="3857"/>
                            </a:lnTo>
                            <a:lnTo>
                              <a:pt x="5337" y="3788"/>
                            </a:lnTo>
                            <a:lnTo>
                              <a:pt x="5297" y="3716"/>
                            </a:lnTo>
                            <a:lnTo>
                              <a:pt x="5253" y="3639"/>
                            </a:lnTo>
                            <a:lnTo>
                              <a:pt x="5206" y="3557"/>
                            </a:lnTo>
                            <a:lnTo>
                              <a:pt x="5156" y="3471"/>
                            </a:lnTo>
                            <a:lnTo>
                              <a:pt x="5101" y="3380"/>
                            </a:lnTo>
                            <a:lnTo>
                              <a:pt x="5043" y="3286"/>
                            </a:lnTo>
                            <a:lnTo>
                              <a:pt x="4981" y="3187"/>
                            </a:lnTo>
                            <a:lnTo>
                              <a:pt x="4916" y="3084"/>
                            </a:lnTo>
                            <a:lnTo>
                              <a:pt x="4846" y="2978"/>
                            </a:lnTo>
                            <a:lnTo>
                              <a:pt x="4772" y="2866"/>
                            </a:lnTo>
                            <a:lnTo>
                              <a:pt x="4696" y="2752"/>
                            </a:lnTo>
                            <a:lnTo>
                              <a:pt x="4614" y="2634"/>
                            </a:lnTo>
                            <a:lnTo>
                              <a:pt x="4528" y="2512"/>
                            </a:lnTo>
                            <a:lnTo>
                              <a:pt x="4438" y="2386"/>
                            </a:lnTo>
                            <a:lnTo>
                              <a:pt x="4344" y="2257"/>
                            </a:lnTo>
                            <a:lnTo>
                              <a:pt x="4245" y="2124"/>
                            </a:lnTo>
                            <a:lnTo>
                              <a:pt x="4141" y="1989"/>
                            </a:lnTo>
                            <a:lnTo>
                              <a:pt x="4033" y="1849"/>
                            </a:lnTo>
                            <a:lnTo>
                              <a:pt x="3921" y="1706"/>
                            </a:lnTo>
                            <a:lnTo>
                              <a:pt x="3831" y="1599"/>
                            </a:lnTo>
                            <a:lnTo>
                              <a:pt x="3735" y="1496"/>
                            </a:lnTo>
                            <a:lnTo>
                              <a:pt x="3634" y="1398"/>
                            </a:lnTo>
                            <a:lnTo>
                              <a:pt x="3527" y="1303"/>
                            </a:lnTo>
                            <a:lnTo>
                              <a:pt x="3416" y="1213"/>
                            </a:lnTo>
                            <a:lnTo>
                              <a:pt x="3301" y="1127"/>
                            </a:lnTo>
                            <a:lnTo>
                              <a:pt x="3181" y="1044"/>
                            </a:lnTo>
                            <a:lnTo>
                              <a:pt x="3058" y="966"/>
                            </a:lnTo>
                            <a:lnTo>
                              <a:pt x="2932" y="891"/>
                            </a:lnTo>
                            <a:lnTo>
                              <a:pt x="2803" y="820"/>
                            </a:lnTo>
                            <a:lnTo>
                              <a:pt x="2672" y="753"/>
                            </a:lnTo>
                            <a:lnTo>
                              <a:pt x="2538" y="688"/>
                            </a:lnTo>
                            <a:lnTo>
                              <a:pt x="2403" y="628"/>
                            </a:lnTo>
                            <a:lnTo>
                              <a:pt x="2266" y="571"/>
                            </a:lnTo>
                            <a:lnTo>
                              <a:pt x="2128" y="517"/>
                            </a:lnTo>
                            <a:lnTo>
                              <a:pt x="1991" y="465"/>
                            </a:lnTo>
                            <a:lnTo>
                              <a:pt x="1852" y="418"/>
                            </a:lnTo>
                            <a:lnTo>
                              <a:pt x="1714" y="372"/>
                            </a:lnTo>
                            <a:lnTo>
                              <a:pt x="1577" y="330"/>
                            </a:lnTo>
                            <a:lnTo>
                              <a:pt x="1440" y="291"/>
                            </a:lnTo>
                            <a:lnTo>
                              <a:pt x="1303" y="254"/>
                            </a:lnTo>
                            <a:lnTo>
                              <a:pt x="1169" y="220"/>
                            </a:lnTo>
                            <a:lnTo>
                              <a:pt x="1037" y="188"/>
                            </a:lnTo>
                            <a:lnTo>
                              <a:pt x="908" y="159"/>
                            </a:lnTo>
                            <a:lnTo>
                              <a:pt x="781" y="132"/>
                            </a:lnTo>
                            <a:lnTo>
                              <a:pt x="657" y="107"/>
                            </a:lnTo>
                            <a:lnTo>
                              <a:pt x="537" y="84"/>
                            </a:lnTo>
                            <a:lnTo>
                              <a:pt x="421" y="64"/>
                            </a:lnTo>
                            <a:lnTo>
                              <a:pt x="308" y="46"/>
                            </a:lnTo>
                            <a:lnTo>
                              <a:pt x="201" y="28"/>
                            </a:lnTo>
                            <a:lnTo>
                              <a:pt x="98" y="13"/>
                            </a:lnTo>
                            <a:lnTo>
                              <a:pt x="0" y="0"/>
                            </a:lnTo>
                            <a:lnTo>
                              <a:pt x="0" y="264"/>
                            </a:lnTo>
                            <a:lnTo>
                              <a:pt x="95" y="279"/>
                            </a:lnTo>
                            <a:lnTo>
                              <a:pt x="195" y="294"/>
                            </a:lnTo>
                            <a:lnTo>
                              <a:pt x="299" y="310"/>
                            </a:lnTo>
                            <a:lnTo>
                              <a:pt x="408" y="328"/>
                            </a:lnTo>
                            <a:lnTo>
                              <a:pt x="520" y="350"/>
                            </a:lnTo>
                            <a:lnTo>
                              <a:pt x="636" y="372"/>
                            </a:lnTo>
                            <a:lnTo>
                              <a:pt x="755" y="396"/>
                            </a:lnTo>
                            <a:lnTo>
                              <a:pt x="877" y="423"/>
                            </a:lnTo>
                            <a:lnTo>
                              <a:pt x="1001" y="451"/>
                            </a:lnTo>
                            <a:lnTo>
                              <a:pt x="1127" y="481"/>
                            </a:lnTo>
                            <a:lnTo>
                              <a:pt x="1255" y="514"/>
                            </a:lnTo>
                            <a:lnTo>
                              <a:pt x="1384" y="549"/>
                            </a:lnTo>
                            <a:lnTo>
                              <a:pt x="1515" y="587"/>
                            </a:lnTo>
                            <a:lnTo>
                              <a:pt x="1646" y="627"/>
                            </a:lnTo>
                            <a:lnTo>
                              <a:pt x="1777" y="670"/>
                            </a:lnTo>
                            <a:lnTo>
                              <a:pt x="1908" y="716"/>
                            </a:lnTo>
                            <a:lnTo>
                              <a:pt x="2040" y="764"/>
                            </a:lnTo>
                            <a:lnTo>
                              <a:pt x="2170" y="815"/>
                            </a:lnTo>
                            <a:lnTo>
                              <a:pt x="2300" y="869"/>
                            </a:lnTo>
                            <a:lnTo>
                              <a:pt x="2427" y="925"/>
                            </a:lnTo>
                            <a:lnTo>
                              <a:pt x="2553" y="986"/>
                            </a:lnTo>
                            <a:lnTo>
                              <a:pt x="2677" y="1049"/>
                            </a:lnTo>
                            <a:lnTo>
                              <a:pt x="2798" y="1115"/>
                            </a:lnTo>
                            <a:lnTo>
                              <a:pt x="2917" y="1185"/>
                            </a:lnTo>
                            <a:lnTo>
                              <a:pt x="3032" y="1258"/>
                            </a:lnTo>
                            <a:lnTo>
                              <a:pt x="3144" y="1334"/>
                            </a:lnTo>
                            <a:lnTo>
                              <a:pt x="3252" y="1414"/>
                            </a:lnTo>
                            <a:lnTo>
                              <a:pt x="3356" y="1497"/>
                            </a:lnTo>
                            <a:lnTo>
                              <a:pt x="3454" y="1584"/>
                            </a:lnTo>
                            <a:lnTo>
                              <a:pt x="3548" y="1675"/>
                            </a:lnTo>
                            <a:lnTo>
                              <a:pt x="3637" y="1770"/>
                            </a:lnTo>
                            <a:lnTo>
                              <a:pt x="3720" y="1868"/>
                            </a:lnTo>
                            <a:lnTo>
                              <a:pt x="3825" y="2003"/>
                            </a:lnTo>
                            <a:lnTo>
                              <a:pt x="3927" y="2135"/>
                            </a:lnTo>
                            <a:lnTo>
                              <a:pt x="4025" y="2263"/>
                            </a:lnTo>
                            <a:lnTo>
                              <a:pt x="4119" y="2389"/>
                            </a:lnTo>
                            <a:lnTo>
                              <a:pt x="4209" y="2512"/>
                            </a:lnTo>
                            <a:lnTo>
                              <a:pt x="4294" y="2630"/>
                            </a:lnTo>
                            <a:lnTo>
                              <a:pt x="4376" y="2747"/>
                            </a:lnTo>
                            <a:lnTo>
                              <a:pt x="4455" y="2859"/>
                            </a:lnTo>
                            <a:lnTo>
                              <a:pt x="4529" y="2970"/>
                            </a:lnTo>
                            <a:lnTo>
                              <a:pt x="4600" y="3075"/>
                            </a:lnTo>
                            <a:lnTo>
                              <a:pt x="4668" y="3178"/>
                            </a:lnTo>
                            <a:lnTo>
                              <a:pt x="4731" y="3277"/>
                            </a:lnTo>
                            <a:lnTo>
                              <a:pt x="4792" y="3372"/>
                            </a:lnTo>
                            <a:lnTo>
                              <a:pt x="4848" y="3463"/>
                            </a:lnTo>
                            <a:lnTo>
                              <a:pt x="4902" y="3552"/>
                            </a:lnTo>
                            <a:lnTo>
                              <a:pt x="4951" y="3635"/>
                            </a:lnTo>
                            <a:lnTo>
                              <a:pt x="4997" y="3715"/>
                            </a:lnTo>
                            <a:lnTo>
                              <a:pt x="5042" y="3791"/>
                            </a:lnTo>
                            <a:lnTo>
                              <a:pt x="5081" y="3862"/>
                            </a:lnTo>
                            <a:lnTo>
                              <a:pt x="5118" y="3929"/>
                            </a:lnTo>
                            <a:lnTo>
                              <a:pt x="5184" y="4050"/>
                            </a:lnTo>
                            <a:lnTo>
                              <a:pt x="5238" y="4154"/>
                            </a:lnTo>
                            <a:lnTo>
                              <a:pt x="5281" y="4239"/>
                            </a:lnTo>
                            <a:lnTo>
                              <a:pt x="5312" y="4305"/>
                            </a:lnTo>
                            <a:lnTo>
                              <a:pt x="5333" y="4351"/>
                            </a:lnTo>
                            <a:lnTo>
                              <a:pt x="5344" y="4377"/>
                            </a:lnTo>
                            <a:lnTo>
                              <a:pt x="5406" y="4622"/>
                            </a:lnTo>
                            <a:lnTo>
                              <a:pt x="5405" y="4639"/>
                            </a:lnTo>
                            <a:lnTo>
                              <a:pt x="5404" y="4655"/>
                            </a:lnTo>
                            <a:lnTo>
                              <a:pt x="5401" y="4671"/>
                            </a:lnTo>
                            <a:lnTo>
                              <a:pt x="5398" y="4687"/>
                            </a:lnTo>
                            <a:lnTo>
                              <a:pt x="5394" y="4702"/>
                            </a:lnTo>
                            <a:lnTo>
                              <a:pt x="5389" y="4717"/>
                            </a:lnTo>
                            <a:lnTo>
                              <a:pt x="5384" y="4731"/>
                            </a:lnTo>
                            <a:lnTo>
                              <a:pt x="5377" y="4747"/>
                            </a:lnTo>
                            <a:lnTo>
                              <a:pt x="5370" y="4761"/>
                            </a:lnTo>
                            <a:lnTo>
                              <a:pt x="5363" y="4774"/>
                            </a:lnTo>
                            <a:lnTo>
                              <a:pt x="5355" y="4787"/>
                            </a:lnTo>
                            <a:lnTo>
                              <a:pt x="5346" y="4800"/>
                            </a:lnTo>
                            <a:lnTo>
                              <a:pt x="5337" y="4813"/>
                            </a:lnTo>
                            <a:lnTo>
                              <a:pt x="5328" y="4825"/>
                            </a:lnTo>
                            <a:lnTo>
                              <a:pt x="5318" y="4836"/>
                            </a:lnTo>
                            <a:lnTo>
                              <a:pt x="5307" y="4847"/>
                            </a:lnTo>
                            <a:lnTo>
                              <a:pt x="5296" y="4858"/>
                            </a:lnTo>
                            <a:lnTo>
                              <a:pt x="5284" y="4868"/>
                            </a:lnTo>
                            <a:lnTo>
                              <a:pt x="5272" y="4877"/>
                            </a:lnTo>
                            <a:lnTo>
                              <a:pt x="5258" y="4887"/>
                            </a:lnTo>
                            <a:lnTo>
                              <a:pt x="5245" y="4895"/>
                            </a:lnTo>
                            <a:lnTo>
                              <a:pt x="5232" y="4902"/>
                            </a:lnTo>
                            <a:lnTo>
                              <a:pt x="5218" y="4909"/>
                            </a:lnTo>
                            <a:lnTo>
                              <a:pt x="5204" y="4915"/>
                            </a:lnTo>
                            <a:lnTo>
                              <a:pt x="5190" y="4921"/>
                            </a:lnTo>
                            <a:lnTo>
                              <a:pt x="5175" y="4926"/>
                            </a:lnTo>
                            <a:lnTo>
                              <a:pt x="5160" y="4930"/>
                            </a:lnTo>
                            <a:lnTo>
                              <a:pt x="5145" y="4934"/>
                            </a:lnTo>
                            <a:lnTo>
                              <a:pt x="5128" y="4936"/>
                            </a:lnTo>
                            <a:lnTo>
                              <a:pt x="5112" y="4938"/>
                            </a:lnTo>
                            <a:lnTo>
                              <a:pt x="5096" y="4940"/>
                            </a:lnTo>
                            <a:lnTo>
                              <a:pt x="5080" y="4940"/>
                            </a:lnTo>
                            <a:lnTo>
                              <a:pt x="5065" y="4938"/>
                            </a:lnTo>
                            <a:lnTo>
                              <a:pt x="5040" y="4934"/>
                            </a:lnTo>
                            <a:lnTo>
                              <a:pt x="5009" y="4927"/>
                            </a:lnTo>
                            <a:lnTo>
                              <a:pt x="4976" y="4920"/>
                            </a:lnTo>
                            <a:lnTo>
                              <a:pt x="4945" y="4913"/>
                            </a:lnTo>
                            <a:lnTo>
                              <a:pt x="4918" y="4907"/>
                            </a:lnTo>
                            <a:lnTo>
                              <a:pt x="4898" y="4902"/>
                            </a:lnTo>
                            <a:lnTo>
                              <a:pt x="4891" y="4900"/>
                            </a:lnTo>
                            <a:lnTo>
                              <a:pt x="4847" y="5002"/>
                            </a:lnTo>
                            <a:lnTo>
                              <a:pt x="4837" y="5023"/>
                            </a:lnTo>
                            <a:lnTo>
                              <a:pt x="4825" y="5045"/>
                            </a:lnTo>
                            <a:lnTo>
                              <a:pt x="4811" y="5065"/>
                            </a:lnTo>
                            <a:lnTo>
                              <a:pt x="4797" y="5083"/>
                            </a:lnTo>
                            <a:lnTo>
                              <a:pt x="4780" y="5101"/>
                            </a:lnTo>
                            <a:lnTo>
                              <a:pt x="4763" y="5118"/>
                            </a:lnTo>
                            <a:lnTo>
                              <a:pt x="4745" y="5132"/>
                            </a:lnTo>
                            <a:lnTo>
                              <a:pt x="4726" y="5146"/>
                            </a:lnTo>
                            <a:lnTo>
                              <a:pt x="4706" y="5158"/>
                            </a:lnTo>
                            <a:lnTo>
                              <a:pt x="4686" y="5169"/>
                            </a:lnTo>
                            <a:lnTo>
                              <a:pt x="4664" y="5179"/>
                            </a:lnTo>
                            <a:lnTo>
                              <a:pt x="4641" y="5186"/>
                            </a:lnTo>
                            <a:lnTo>
                              <a:pt x="4618" y="5192"/>
                            </a:lnTo>
                            <a:lnTo>
                              <a:pt x="4595" y="5197"/>
                            </a:lnTo>
                            <a:lnTo>
                              <a:pt x="4571" y="5199"/>
                            </a:lnTo>
                            <a:lnTo>
                              <a:pt x="4547" y="5200"/>
                            </a:lnTo>
                            <a:lnTo>
                              <a:pt x="4531" y="5198"/>
                            </a:lnTo>
                            <a:lnTo>
                              <a:pt x="4507" y="5194"/>
                            </a:lnTo>
                            <a:lnTo>
                              <a:pt x="4477" y="5188"/>
                            </a:lnTo>
                            <a:lnTo>
                              <a:pt x="4444" y="5180"/>
                            </a:lnTo>
                            <a:lnTo>
                              <a:pt x="4411" y="5172"/>
                            </a:lnTo>
                            <a:lnTo>
                              <a:pt x="4384" y="5166"/>
                            </a:lnTo>
                            <a:lnTo>
                              <a:pt x="4365" y="5161"/>
                            </a:lnTo>
                            <a:lnTo>
                              <a:pt x="4358" y="5160"/>
                            </a:lnTo>
                            <a:lnTo>
                              <a:pt x="4315" y="5262"/>
                            </a:lnTo>
                            <a:lnTo>
                              <a:pt x="4303" y="5284"/>
                            </a:lnTo>
                            <a:lnTo>
                              <a:pt x="4291" y="5304"/>
                            </a:lnTo>
                            <a:lnTo>
                              <a:pt x="4278" y="5324"/>
                            </a:lnTo>
                            <a:lnTo>
                              <a:pt x="4264" y="5343"/>
                            </a:lnTo>
                            <a:lnTo>
                              <a:pt x="4248" y="5361"/>
                            </a:lnTo>
                            <a:lnTo>
                              <a:pt x="4231" y="5377"/>
                            </a:lnTo>
                            <a:lnTo>
                              <a:pt x="4213" y="5392"/>
                            </a:lnTo>
                            <a:lnTo>
                              <a:pt x="4194" y="5406"/>
                            </a:lnTo>
                            <a:lnTo>
                              <a:pt x="4173" y="5418"/>
                            </a:lnTo>
                            <a:lnTo>
                              <a:pt x="4152" y="5429"/>
                            </a:lnTo>
                            <a:lnTo>
                              <a:pt x="4131" y="5438"/>
                            </a:lnTo>
                            <a:lnTo>
                              <a:pt x="4109" y="5445"/>
                            </a:lnTo>
                            <a:lnTo>
                              <a:pt x="4086" y="5451"/>
                            </a:lnTo>
                            <a:lnTo>
                              <a:pt x="4062" y="5456"/>
                            </a:lnTo>
                            <a:lnTo>
                              <a:pt x="4038" y="5458"/>
                            </a:lnTo>
                            <a:lnTo>
                              <a:pt x="4014" y="5459"/>
                            </a:lnTo>
                            <a:lnTo>
                              <a:pt x="3999" y="5458"/>
                            </a:lnTo>
                            <a:lnTo>
                              <a:pt x="3975" y="5453"/>
                            </a:lnTo>
                            <a:lnTo>
                              <a:pt x="3943" y="5447"/>
                            </a:lnTo>
                            <a:lnTo>
                              <a:pt x="3911" y="5439"/>
                            </a:lnTo>
                            <a:lnTo>
                              <a:pt x="3879" y="5432"/>
                            </a:lnTo>
                            <a:lnTo>
                              <a:pt x="3852" y="5426"/>
                            </a:lnTo>
                            <a:lnTo>
                              <a:pt x="3833" y="5421"/>
                            </a:lnTo>
                            <a:lnTo>
                              <a:pt x="3825" y="5420"/>
                            </a:lnTo>
                            <a:lnTo>
                              <a:pt x="3781" y="5521"/>
                            </a:lnTo>
                            <a:lnTo>
                              <a:pt x="3771" y="5543"/>
                            </a:lnTo>
                            <a:lnTo>
                              <a:pt x="3759" y="5564"/>
                            </a:lnTo>
                            <a:lnTo>
                              <a:pt x="3746" y="5584"/>
                            </a:lnTo>
                            <a:lnTo>
                              <a:pt x="3731" y="5603"/>
                            </a:lnTo>
                            <a:lnTo>
                              <a:pt x="3715" y="5620"/>
                            </a:lnTo>
                            <a:lnTo>
                              <a:pt x="3697" y="5637"/>
                            </a:lnTo>
                            <a:lnTo>
                              <a:pt x="3679" y="5652"/>
                            </a:lnTo>
                            <a:lnTo>
                              <a:pt x="3661" y="5665"/>
                            </a:lnTo>
                            <a:lnTo>
                              <a:pt x="3641" y="5677"/>
                            </a:lnTo>
                            <a:lnTo>
                              <a:pt x="3620" y="5688"/>
                            </a:lnTo>
                            <a:lnTo>
                              <a:pt x="3598" y="5697"/>
                            </a:lnTo>
                            <a:lnTo>
                              <a:pt x="3575" y="5706"/>
                            </a:lnTo>
                            <a:lnTo>
                              <a:pt x="3553" y="5712"/>
                            </a:lnTo>
                            <a:lnTo>
                              <a:pt x="3529" y="5716"/>
                            </a:lnTo>
                            <a:lnTo>
                              <a:pt x="3506" y="5718"/>
                            </a:lnTo>
                            <a:lnTo>
                              <a:pt x="3482" y="5719"/>
                            </a:lnTo>
                            <a:lnTo>
                              <a:pt x="3472" y="5719"/>
                            </a:lnTo>
                            <a:lnTo>
                              <a:pt x="3461" y="5717"/>
                            </a:lnTo>
                            <a:lnTo>
                              <a:pt x="3450" y="5715"/>
                            </a:lnTo>
                            <a:lnTo>
                              <a:pt x="3439" y="5711"/>
                            </a:lnTo>
                            <a:lnTo>
                              <a:pt x="3414" y="5702"/>
                            </a:lnTo>
                            <a:lnTo>
                              <a:pt x="3387" y="5688"/>
                            </a:lnTo>
                            <a:lnTo>
                              <a:pt x="3360" y="5674"/>
                            </a:lnTo>
                            <a:lnTo>
                              <a:pt x="3331" y="5658"/>
                            </a:lnTo>
                            <a:lnTo>
                              <a:pt x="3302" y="5640"/>
                            </a:lnTo>
                            <a:lnTo>
                              <a:pt x="3275" y="5621"/>
                            </a:lnTo>
                            <a:lnTo>
                              <a:pt x="3222" y="5586"/>
                            </a:lnTo>
                            <a:lnTo>
                              <a:pt x="3180" y="5555"/>
                            </a:lnTo>
                            <a:lnTo>
                              <a:pt x="3151" y="5532"/>
                            </a:lnTo>
                            <a:lnTo>
                              <a:pt x="3141" y="5524"/>
                            </a:lnTo>
                            <a:lnTo>
                              <a:pt x="0" y="2858"/>
                            </a:lnTo>
                            <a:lnTo>
                              <a:pt x="0" y="3198"/>
                            </a:lnTo>
                            <a:lnTo>
                              <a:pt x="3092" y="5822"/>
                            </a:lnTo>
                            <a:lnTo>
                              <a:pt x="3113" y="5840"/>
                            </a:lnTo>
                            <a:lnTo>
                              <a:pt x="3134" y="5858"/>
                            </a:lnTo>
                            <a:lnTo>
                              <a:pt x="3155" y="5874"/>
                            </a:lnTo>
                            <a:lnTo>
                              <a:pt x="3178" y="5888"/>
                            </a:lnTo>
                            <a:lnTo>
                              <a:pt x="3200" y="5902"/>
                            </a:lnTo>
                            <a:lnTo>
                              <a:pt x="3224" y="5915"/>
                            </a:lnTo>
                            <a:lnTo>
                              <a:pt x="3248" y="5927"/>
                            </a:lnTo>
                            <a:lnTo>
                              <a:pt x="3273" y="5938"/>
                            </a:lnTo>
                            <a:lnTo>
                              <a:pt x="3297" y="5947"/>
                            </a:lnTo>
                            <a:lnTo>
                              <a:pt x="3322" y="5955"/>
                            </a:lnTo>
                            <a:lnTo>
                              <a:pt x="3349" y="5962"/>
                            </a:lnTo>
                            <a:lnTo>
                              <a:pt x="3375" y="5968"/>
                            </a:lnTo>
                            <a:lnTo>
                              <a:pt x="3401" y="5972"/>
                            </a:lnTo>
                            <a:lnTo>
                              <a:pt x="3427" y="5976"/>
                            </a:lnTo>
                            <a:lnTo>
                              <a:pt x="3454" y="5978"/>
                            </a:lnTo>
                            <a:lnTo>
                              <a:pt x="3482" y="5978"/>
                            </a:lnTo>
                            <a:lnTo>
                              <a:pt x="3500" y="5978"/>
                            </a:lnTo>
                            <a:lnTo>
                              <a:pt x="3519" y="5977"/>
                            </a:lnTo>
                            <a:lnTo>
                              <a:pt x="3537" y="5976"/>
                            </a:lnTo>
                            <a:lnTo>
                              <a:pt x="3555" y="5974"/>
                            </a:lnTo>
                            <a:lnTo>
                              <a:pt x="3573" y="5971"/>
                            </a:lnTo>
                            <a:lnTo>
                              <a:pt x="3592" y="5968"/>
                            </a:lnTo>
                            <a:lnTo>
                              <a:pt x="3609" y="5964"/>
                            </a:lnTo>
                            <a:lnTo>
                              <a:pt x="3627" y="5960"/>
                            </a:lnTo>
                            <a:lnTo>
                              <a:pt x="3661" y="5950"/>
                            </a:lnTo>
                            <a:lnTo>
                              <a:pt x="3695" y="5938"/>
                            </a:lnTo>
                            <a:lnTo>
                              <a:pt x="3728" y="5924"/>
                            </a:lnTo>
                            <a:lnTo>
                              <a:pt x="3760" y="5907"/>
                            </a:lnTo>
                            <a:lnTo>
                              <a:pt x="3791" y="5889"/>
                            </a:lnTo>
                            <a:lnTo>
                              <a:pt x="3820" y="5869"/>
                            </a:lnTo>
                            <a:lnTo>
                              <a:pt x="3849" y="5846"/>
                            </a:lnTo>
                            <a:lnTo>
                              <a:pt x="3876" y="5823"/>
                            </a:lnTo>
                            <a:lnTo>
                              <a:pt x="3902" y="5798"/>
                            </a:lnTo>
                            <a:lnTo>
                              <a:pt x="3926" y="5771"/>
                            </a:lnTo>
                            <a:lnTo>
                              <a:pt x="3949" y="5743"/>
                            </a:lnTo>
                            <a:lnTo>
                              <a:pt x="3970" y="5713"/>
                            </a:lnTo>
                            <a:lnTo>
                              <a:pt x="3975" y="5714"/>
                            </a:lnTo>
                            <a:lnTo>
                              <a:pt x="3981" y="5714"/>
                            </a:lnTo>
                            <a:lnTo>
                              <a:pt x="3987" y="5715"/>
                            </a:lnTo>
                            <a:lnTo>
                              <a:pt x="3992" y="5716"/>
                            </a:lnTo>
                            <a:lnTo>
                              <a:pt x="3998" y="5717"/>
                            </a:lnTo>
                            <a:lnTo>
                              <a:pt x="4003" y="5718"/>
                            </a:lnTo>
                            <a:lnTo>
                              <a:pt x="4009" y="5719"/>
                            </a:lnTo>
                            <a:lnTo>
                              <a:pt x="4014" y="5719"/>
                            </a:lnTo>
                            <a:lnTo>
                              <a:pt x="4033" y="5719"/>
                            </a:lnTo>
                            <a:lnTo>
                              <a:pt x="4051" y="5718"/>
                            </a:lnTo>
                            <a:lnTo>
                              <a:pt x="4070" y="5716"/>
                            </a:lnTo>
                            <a:lnTo>
                              <a:pt x="4088" y="5714"/>
                            </a:lnTo>
                            <a:lnTo>
                              <a:pt x="4106" y="5712"/>
                            </a:lnTo>
                            <a:lnTo>
                              <a:pt x="4124" y="5709"/>
                            </a:lnTo>
                            <a:lnTo>
                              <a:pt x="4142" y="5705"/>
                            </a:lnTo>
                            <a:lnTo>
                              <a:pt x="4159" y="5701"/>
                            </a:lnTo>
                            <a:lnTo>
                              <a:pt x="4194" y="5690"/>
                            </a:lnTo>
                            <a:lnTo>
                              <a:pt x="4228" y="5678"/>
                            </a:lnTo>
                            <a:lnTo>
                              <a:pt x="4261" y="5664"/>
                            </a:lnTo>
                            <a:lnTo>
                              <a:pt x="4292" y="5648"/>
                            </a:lnTo>
                            <a:lnTo>
                              <a:pt x="4324" y="5630"/>
                            </a:lnTo>
                            <a:lnTo>
                              <a:pt x="4353" y="5609"/>
                            </a:lnTo>
                            <a:lnTo>
                              <a:pt x="4382" y="5587"/>
                            </a:lnTo>
                            <a:lnTo>
                              <a:pt x="4409" y="5564"/>
                            </a:lnTo>
                            <a:lnTo>
                              <a:pt x="4435" y="5538"/>
                            </a:lnTo>
                            <a:lnTo>
                              <a:pt x="4459" y="5511"/>
                            </a:lnTo>
                            <a:lnTo>
                              <a:pt x="4482" y="5483"/>
                            </a:lnTo>
                            <a:lnTo>
                              <a:pt x="4502" y="5453"/>
                            </a:lnTo>
                            <a:lnTo>
                              <a:pt x="4524" y="5453"/>
                            </a:lnTo>
                            <a:lnTo>
                              <a:pt x="4576" y="5449"/>
                            </a:lnTo>
                            <a:lnTo>
                              <a:pt x="4609" y="5446"/>
                            </a:lnTo>
                            <a:lnTo>
                              <a:pt x="4646" y="5440"/>
                            </a:lnTo>
                            <a:lnTo>
                              <a:pt x="4688" y="5432"/>
                            </a:lnTo>
                            <a:lnTo>
                              <a:pt x="4731" y="5421"/>
                            </a:lnTo>
                            <a:lnTo>
                              <a:pt x="4753" y="5415"/>
                            </a:lnTo>
                            <a:lnTo>
                              <a:pt x="4775" y="5408"/>
                            </a:lnTo>
                            <a:lnTo>
                              <a:pt x="4798" y="5399"/>
                            </a:lnTo>
                            <a:lnTo>
                              <a:pt x="4820" y="5390"/>
                            </a:lnTo>
                            <a:lnTo>
                              <a:pt x="4841" y="5380"/>
                            </a:lnTo>
                            <a:lnTo>
                              <a:pt x="4863" y="5369"/>
                            </a:lnTo>
                            <a:lnTo>
                              <a:pt x="4884" y="5357"/>
                            </a:lnTo>
                            <a:lnTo>
                              <a:pt x="4906" y="5344"/>
                            </a:lnTo>
                            <a:lnTo>
                              <a:pt x="4925" y="5330"/>
                            </a:lnTo>
                            <a:lnTo>
                              <a:pt x="4944" y="5314"/>
                            </a:lnTo>
                            <a:lnTo>
                              <a:pt x="4962" y="5297"/>
                            </a:lnTo>
                            <a:lnTo>
                              <a:pt x="4980" y="5279"/>
                            </a:lnTo>
                            <a:lnTo>
                              <a:pt x="4995" y="5260"/>
                            </a:lnTo>
                            <a:lnTo>
                              <a:pt x="5010" y="5239"/>
                            </a:lnTo>
                            <a:lnTo>
                              <a:pt x="5024" y="5217"/>
                            </a:lnTo>
                            <a:lnTo>
                              <a:pt x="5036" y="5194"/>
                            </a:lnTo>
                            <a:lnTo>
                              <a:pt x="5041" y="5194"/>
                            </a:lnTo>
                            <a:lnTo>
                              <a:pt x="5047" y="5195"/>
                            </a:lnTo>
                            <a:lnTo>
                              <a:pt x="5052" y="5196"/>
                            </a:lnTo>
                            <a:lnTo>
                              <a:pt x="5058" y="5197"/>
                            </a:lnTo>
                            <a:lnTo>
                              <a:pt x="5063" y="5198"/>
                            </a:lnTo>
                            <a:lnTo>
                              <a:pt x="5069" y="5199"/>
                            </a:lnTo>
                            <a:lnTo>
                              <a:pt x="5074" y="5200"/>
                            </a:lnTo>
                            <a:lnTo>
                              <a:pt x="5080" y="5200"/>
                            </a:lnTo>
                            <a:lnTo>
                              <a:pt x="5109" y="5199"/>
                            </a:lnTo>
                            <a:lnTo>
                              <a:pt x="5137" y="5197"/>
                            </a:lnTo>
                            <a:lnTo>
                              <a:pt x="5167" y="5194"/>
                            </a:lnTo>
                            <a:lnTo>
                              <a:pt x="5195" y="5189"/>
                            </a:lnTo>
                            <a:lnTo>
                              <a:pt x="5223" y="5182"/>
                            </a:lnTo>
                            <a:lnTo>
                              <a:pt x="5250" y="5174"/>
                            </a:lnTo>
                            <a:lnTo>
                              <a:pt x="5278" y="5165"/>
                            </a:lnTo>
                            <a:lnTo>
                              <a:pt x="5304" y="5155"/>
                            </a:lnTo>
                            <a:lnTo>
                              <a:pt x="5330" y="5143"/>
                            </a:lnTo>
                            <a:lnTo>
                              <a:pt x="5355" y="5131"/>
                            </a:lnTo>
                            <a:lnTo>
                              <a:pt x="5381" y="5117"/>
                            </a:lnTo>
                            <a:lnTo>
                              <a:pt x="5405" y="5101"/>
                            </a:lnTo>
                            <a:lnTo>
                              <a:pt x="5428" y="5084"/>
                            </a:lnTo>
                            <a:lnTo>
                              <a:pt x="5451" y="5067"/>
                            </a:lnTo>
                            <a:lnTo>
                              <a:pt x="5472" y="5048"/>
                            </a:lnTo>
                            <a:lnTo>
                              <a:pt x="5493" y="5027"/>
                            </a:lnTo>
                            <a:lnTo>
                              <a:pt x="5514" y="5006"/>
                            </a:lnTo>
                            <a:lnTo>
                              <a:pt x="5533" y="4984"/>
                            </a:lnTo>
                            <a:lnTo>
                              <a:pt x="5551" y="4961"/>
                            </a:lnTo>
                            <a:lnTo>
                              <a:pt x="5567" y="4937"/>
                            </a:lnTo>
                            <a:lnTo>
                              <a:pt x="5582" y="4913"/>
                            </a:lnTo>
                            <a:lnTo>
                              <a:pt x="5596" y="4888"/>
                            </a:lnTo>
                            <a:lnTo>
                              <a:pt x="5609" y="4862"/>
                            </a:lnTo>
                            <a:lnTo>
                              <a:pt x="5622" y="4836"/>
                            </a:lnTo>
                            <a:lnTo>
                              <a:pt x="5632" y="4810"/>
                            </a:lnTo>
                            <a:lnTo>
                              <a:pt x="5641" y="4782"/>
                            </a:lnTo>
                            <a:lnTo>
                              <a:pt x="5648" y="4755"/>
                            </a:lnTo>
                            <a:lnTo>
                              <a:pt x="5654" y="4726"/>
                            </a:lnTo>
                            <a:lnTo>
                              <a:pt x="5659" y="4698"/>
                            </a:lnTo>
                            <a:lnTo>
                              <a:pt x="5663" y="4670"/>
                            </a:lnTo>
                            <a:lnTo>
                              <a:pt x="5665" y="4640"/>
                            </a:lnTo>
                            <a:lnTo>
                              <a:pt x="5666" y="4611"/>
                            </a:lnTo>
                            <a:lnTo>
                              <a:pt x="5666" y="4595"/>
                            </a:lnTo>
                            <a:lnTo>
                              <a:pt x="5662" y="457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3150720" y="4032000"/>
                        <a:ext cx="2124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3" h="3274">
                            <a:moveTo>
                              <a:pt x="257" y="2511"/>
                            </a:moveTo>
                            <a:lnTo>
                              <a:pt x="257" y="278"/>
                            </a:lnTo>
                            <a:lnTo>
                              <a:pt x="299" y="281"/>
                            </a:lnTo>
                            <a:lnTo>
                              <a:pt x="345" y="286"/>
                            </a:lnTo>
                            <a:lnTo>
                              <a:pt x="398" y="291"/>
                            </a:lnTo>
                            <a:lnTo>
                              <a:pt x="456" y="297"/>
                            </a:lnTo>
                            <a:lnTo>
                              <a:pt x="522" y="304"/>
                            </a:lnTo>
                            <a:lnTo>
                              <a:pt x="594" y="311"/>
                            </a:lnTo>
                            <a:lnTo>
                              <a:pt x="674" y="320"/>
                            </a:lnTo>
                            <a:lnTo>
                              <a:pt x="763" y="329"/>
                            </a:lnTo>
                            <a:lnTo>
                              <a:pt x="763" y="65"/>
                            </a:lnTo>
                            <a:lnTo>
                              <a:pt x="628" y="50"/>
                            </a:lnTo>
                            <a:lnTo>
                              <a:pt x="509" y="38"/>
                            </a:lnTo>
                            <a:lnTo>
                              <a:pt x="407" y="28"/>
                            </a:lnTo>
                            <a:lnTo>
                              <a:pt x="320" y="21"/>
                            </a:lnTo>
                            <a:lnTo>
                              <a:pt x="248" y="15"/>
                            </a:lnTo>
                            <a:lnTo>
                              <a:pt x="195" y="11"/>
                            </a:lnTo>
                            <a:lnTo>
                              <a:pt x="157" y="9"/>
                            </a:lnTo>
                            <a:lnTo>
                              <a:pt x="136" y="8"/>
                            </a:lnTo>
                            <a:lnTo>
                              <a:pt x="0" y="0"/>
                            </a:lnTo>
                            <a:lnTo>
                              <a:pt x="46" y="2670"/>
                            </a:lnTo>
                            <a:lnTo>
                              <a:pt x="763" y="3274"/>
                            </a:lnTo>
                            <a:lnTo>
                              <a:pt x="763" y="2934"/>
                            </a:lnTo>
                            <a:lnTo>
                              <a:pt x="257" y="2511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3279240" y="4124520"/>
                        <a:ext cx="3348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4" h="1455">
                            <a:moveTo>
                              <a:pt x="1224" y="1293"/>
                            </a:moveTo>
                            <a:lnTo>
                              <a:pt x="202" y="0"/>
                            </a:lnTo>
                            <a:lnTo>
                              <a:pt x="0" y="161"/>
                            </a:lnTo>
                            <a:lnTo>
                              <a:pt x="1023" y="1455"/>
                            </a:lnTo>
                            <a:lnTo>
                              <a:pt x="1224" y="1293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3263760" y="4134240"/>
                        <a:ext cx="3240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0" h="1325">
                            <a:moveTo>
                              <a:pt x="1190" y="1155"/>
                            </a:moveTo>
                            <a:lnTo>
                              <a:pt x="195" y="0"/>
                            </a:lnTo>
                            <a:lnTo>
                              <a:pt x="0" y="169"/>
                            </a:lnTo>
                            <a:lnTo>
                              <a:pt x="996" y="1325"/>
                            </a:lnTo>
                            <a:lnTo>
                              <a:pt x="1190" y="1155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3210840" y="4135680"/>
                        <a:ext cx="2304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61">
                            <a:moveTo>
                              <a:pt x="428" y="861"/>
                            </a:moveTo>
                            <a:lnTo>
                              <a:pt x="450" y="860"/>
                            </a:lnTo>
                            <a:lnTo>
                              <a:pt x="471" y="858"/>
                            </a:lnTo>
                            <a:lnTo>
                              <a:pt x="492" y="856"/>
                            </a:lnTo>
                            <a:lnTo>
                              <a:pt x="513" y="852"/>
                            </a:lnTo>
                            <a:lnTo>
                              <a:pt x="535" y="847"/>
                            </a:lnTo>
                            <a:lnTo>
                              <a:pt x="555" y="842"/>
                            </a:lnTo>
                            <a:lnTo>
                              <a:pt x="575" y="834"/>
                            </a:lnTo>
                            <a:lnTo>
                              <a:pt x="594" y="826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50" y="798"/>
                            </a:lnTo>
                            <a:lnTo>
                              <a:pt x="667" y="787"/>
                            </a:lnTo>
                            <a:lnTo>
                              <a:pt x="684" y="775"/>
                            </a:lnTo>
                            <a:lnTo>
                              <a:pt x="700" y="762"/>
                            </a:lnTo>
                            <a:lnTo>
                              <a:pt x="715" y="748"/>
                            </a:lnTo>
                            <a:lnTo>
                              <a:pt x="730" y="734"/>
                            </a:lnTo>
                            <a:lnTo>
                              <a:pt x="744" y="720"/>
                            </a:lnTo>
                            <a:lnTo>
                              <a:pt x="757" y="704"/>
                            </a:lnTo>
                            <a:lnTo>
                              <a:pt x="771" y="687"/>
                            </a:lnTo>
                            <a:lnTo>
                              <a:pt x="783" y="671"/>
                            </a:lnTo>
                            <a:lnTo>
                              <a:pt x="794" y="654"/>
                            </a:lnTo>
                            <a:lnTo>
                              <a:pt x="804" y="636"/>
                            </a:lnTo>
                            <a:lnTo>
                              <a:pt x="813" y="617"/>
                            </a:lnTo>
                            <a:lnTo>
                              <a:pt x="822" y="598"/>
                            </a:lnTo>
                            <a:lnTo>
                              <a:pt x="829" y="578"/>
                            </a:lnTo>
                            <a:lnTo>
                              <a:pt x="836" y="559"/>
                            </a:lnTo>
                            <a:lnTo>
                              <a:pt x="842" y="538"/>
                            </a:lnTo>
                            <a:lnTo>
                              <a:pt x="846" y="517"/>
                            </a:lnTo>
                            <a:lnTo>
                              <a:pt x="850" y="496"/>
                            </a:lnTo>
                            <a:lnTo>
                              <a:pt x="853" y="475"/>
                            </a:lnTo>
                            <a:lnTo>
                              <a:pt x="854" y="452"/>
                            </a:lnTo>
                            <a:lnTo>
                              <a:pt x="855" y="431"/>
                            </a:lnTo>
                            <a:lnTo>
                              <a:pt x="854" y="409"/>
                            </a:lnTo>
                            <a:lnTo>
                              <a:pt x="853" y="386"/>
                            </a:lnTo>
                            <a:lnTo>
                              <a:pt x="850" y="365"/>
                            </a:lnTo>
                            <a:lnTo>
                              <a:pt x="846" y="344"/>
                            </a:lnTo>
                            <a:lnTo>
                              <a:pt x="842" y="324"/>
                            </a:lnTo>
                            <a:lnTo>
                              <a:pt x="836" y="302"/>
                            </a:lnTo>
                            <a:lnTo>
                              <a:pt x="829" y="283"/>
                            </a:lnTo>
                            <a:lnTo>
                              <a:pt x="822" y="263"/>
                            </a:lnTo>
                            <a:lnTo>
                              <a:pt x="813" y="245"/>
                            </a:lnTo>
                            <a:lnTo>
                              <a:pt x="804" y="225"/>
                            </a:lnTo>
                            <a:lnTo>
                              <a:pt x="794" y="208"/>
                            </a:lnTo>
                            <a:lnTo>
                              <a:pt x="783" y="190"/>
                            </a:lnTo>
                            <a:lnTo>
                              <a:pt x="771" y="174"/>
                            </a:lnTo>
                            <a:lnTo>
                              <a:pt x="757" y="157"/>
                            </a:lnTo>
                            <a:lnTo>
                              <a:pt x="744" y="141"/>
                            </a:lnTo>
                            <a:lnTo>
                              <a:pt x="730" y="127"/>
                            </a:lnTo>
                            <a:lnTo>
                              <a:pt x="715" y="113"/>
                            </a:lnTo>
                            <a:lnTo>
                              <a:pt x="700" y="99"/>
                            </a:lnTo>
                            <a:lnTo>
                              <a:pt x="684" y="86"/>
                            </a:lnTo>
                            <a:lnTo>
                              <a:pt x="667" y="74"/>
                            </a:lnTo>
                            <a:lnTo>
                              <a:pt x="650" y="63"/>
                            </a:lnTo>
                            <a:lnTo>
                              <a:pt x="631" y="53"/>
                            </a:lnTo>
                            <a:lnTo>
                              <a:pt x="613" y="43"/>
                            </a:lnTo>
                            <a:lnTo>
                              <a:pt x="594" y="35"/>
                            </a:lnTo>
                            <a:lnTo>
                              <a:pt x="575" y="27"/>
                            </a:lnTo>
                            <a:lnTo>
                              <a:pt x="555" y="21"/>
                            </a:lnTo>
                            <a:lnTo>
                              <a:pt x="535" y="14"/>
                            </a:lnTo>
                            <a:lnTo>
                              <a:pt x="513" y="9"/>
                            </a:lnTo>
                            <a:lnTo>
                              <a:pt x="492" y="5"/>
                            </a:lnTo>
                            <a:lnTo>
                              <a:pt x="471" y="3"/>
                            </a:lnTo>
                            <a:lnTo>
                              <a:pt x="450" y="1"/>
                            </a:lnTo>
                            <a:lnTo>
                              <a:pt x="428" y="0"/>
                            </a:lnTo>
                            <a:lnTo>
                              <a:pt x="406" y="1"/>
                            </a:lnTo>
                            <a:lnTo>
                              <a:pt x="384" y="3"/>
                            </a:lnTo>
                            <a:lnTo>
                              <a:pt x="362" y="5"/>
                            </a:lnTo>
                            <a:lnTo>
                              <a:pt x="342" y="9"/>
                            </a:lnTo>
                            <a:lnTo>
                              <a:pt x="321" y="14"/>
                            </a:lnTo>
                            <a:lnTo>
                              <a:pt x="301" y="21"/>
                            </a:lnTo>
                            <a:lnTo>
                              <a:pt x="281" y="27"/>
                            </a:lnTo>
                            <a:lnTo>
                              <a:pt x="261" y="35"/>
                            </a:lnTo>
                            <a:lnTo>
                              <a:pt x="242" y="43"/>
                            </a:lnTo>
                            <a:lnTo>
                              <a:pt x="224" y="53"/>
                            </a:lnTo>
                            <a:lnTo>
                              <a:pt x="206" y="63"/>
                            </a:lnTo>
                            <a:lnTo>
                              <a:pt x="189" y="74"/>
                            </a:lnTo>
                            <a:lnTo>
                              <a:pt x="172" y="86"/>
                            </a:lnTo>
                            <a:lnTo>
                              <a:pt x="155" y="99"/>
                            </a:lnTo>
                            <a:lnTo>
                              <a:pt x="140" y="113"/>
                            </a:lnTo>
                            <a:lnTo>
                              <a:pt x="125" y="127"/>
                            </a:lnTo>
                            <a:lnTo>
                              <a:pt x="111" y="141"/>
                            </a:lnTo>
                            <a:lnTo>
                              <a:pt x="98" y="157"/>
                            </a:lnTo>
                            <a:lnTo>
                              <a:pt x="85" y="174"/>
                            </a:lnTo>
                            <a:lnTo>
                              <a:pt x="73" y="190"/>
                            </a:lnTo>
                            <a:lnTo>
                              <a:pt x="62" y="208"/>
                            </a:lnTo>
                            <a:lnTo>
                              <a:pt x="52" y="225"/>
                            </a:lnTo>
                            <a:lnTo>
                              <a:pt x="43" y="245"/>
                            </a:lnTo>
                            <a:lnTo>
                              <a:pt x="33" y="263"/>
                            </a:lnTo>
                            <a:lnTo>
                              <a:pt x="26" y="283"/>
                            </a:lnTo>
                            <a:lnTo>
                              <a:pt x="19" y="302"/>
                            </a:lnTo>
                            <a:lnTo>
                              <a:pt x="13" y="324"/>
                            </a:lnTo>
                            <a:lnTo>
                              <a:pt x="8" y="344"/>
                            </a:lnTo>
                            <a:lnTo>
                              <a:pt x="5" y="365"/>
                            </a:lnTo>
                            <a:lnTo>
                              <a:pt x="2" y="386"/>
                            </a:lnTo>
                            <a:lnTo>
                              <a:pt x="0" y="409"/>
                            </a:lnTo>
                            <a:lnTo>
                              <a:pt x="0" y="431"/>
                            </a:lnTo>
                            <a:lnTo>
                              <a:pt x="0" y="452"/>
                            </a:lnTo>
                            <a:lnTo>
                              <a:pt x="2" y="475"/>
                            </a:lnTo>
                            <a:lnTo>
                              <a:pt x="5" y="496"/>
                            </a:lnTo>
                            <a:lnTo>
                              <a:pt x="8" y="517"/>
                            </a:lnTo>
                            <a:lnTo>
                              <a:pt x="13" y="538"/>
                            </a:lnTo>
                            <a:lnTo>
                              <a:pt x="19" y="559"/>
                            </a:lnTo>
                            <a:lnTo>
                              <a:pt x="26" y="578"/>
                            </a:lnTo>
                            <a:lnTo>
                              <a:pt x="33" y="598"/>
                            </a:lnTo>
                            <a:lnTo>
                              <a:pt x="43" y="617"/>
                            </a:lnTo>
                            <a:lnTo>
                              <a:pt x="52" y="636"/>
                            </a:lnTo>
                            <a:lnTo>
                              <a:pt x="62" y="654"/>
                            </a:lnTo>
                            <a:lnTo>
                              <a:pt x="73" y="671"/>
                            </a:lnTo>
                            <a:lnTo>
                              <a:pt x="85" y="687"/>
                            </a:lnTo>
                            <a:lnTo>
                              <a:pt x="98" y="704"/>
                            </a:lnTo>
                            <a:lnTo>
                              <a:pt x="111" y="720"/>
                            </a:lnTo>
                            <a:lnTo>
                              <a:pt x="125" y="734"/>
                            </a:lnTo>
                            <a:lnTo>
                              <a:pt x="140" y="748"/>
                            </a:lnTo>
                            <a:lnTo>
                              <a:pt x="155" y="762"/>
                            </a:lnTo>
                            <a:lnTo>
                              <a:pt x="172" y="775"/>
                            </a:lnTo>
                            <a:lnTo>
                              <a:pt x="189" y="787"/>
                            </a:lnTo>
                            <a:lnTo>
                              <a:pt x="206" y="798"/>
                            </a:lnTo>
                            <a:lnTo>
                              <a:pt x="224" y="808"/>
                            </a:lnTo>
                            <a:lnTo>
                              <a:pt x="242" y="818"/>
                            </a:lnTo>
                            <a:lnTo>
                              <a:pt x="261" y="826"/>
                            </a:lnTo>
                            <a:lnTo>
                              <a:pt x="281" y="834"/>
                            </a:lnTo>
                            <a:lnTo>
                              <a:pt x="301" y="842"/>
                            </a:lnTo>
                            <a:lnTo>
                              <a:pt x="321" y="847"/>
                            </a:lnTo>
                            <a:lnTo>
                              <a:pt x="342" y="852"/>
                            </a:lnTo>
                            <a:lnTo>
                              <a:pt x="362" y="856"/>
                            </a:lnTo>
                            <a:lnTo>
                              <a:pt x="384" y="858"/>
                            </a:lnTo>
                            <a:lnTo>
                              <a:pt x="406" y="860"/>
                            </a:lnTo>
                            <a:lnTo>
                              <a:pt x="428" y="861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3206880" y="4132440"/>
                        <a:ext cx="3132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3" h="588">
                            <a:moveTo>
                              <a:pt x="350" y="356"/>
                            </a:moveTo>
                            <a:lnTo>
                              <a:pt x="362" y="344"/>
                            </a:lnTo>
                            <a:lnTo>
                              <a:pt x="374" y="334"/>
                            </a:lnTo>
                            <a:lnTo>
                              <a:pt x="386" y="323"/>
                            </a:lnTo>
                            <a:lnTo>
                              <a:pt x="399" y="314"/>
                            </a:lnTo>
                            <a:lnTo>
                              <a:pt x="413" y="305"/>
                            </a:lnTo>
                            <a:lnTo>
                              <a:pt x="428" y="298"/>
                            </a:lnTo>
                            <a:lnTo>
                              <a:pt x="442" y="290"/>
                            </a:lnTo>
                            <a:lnTo>
                              <a:pt x="456" y="284"/>
                            </a:lnTo>
                            <a:lnTo>
                              <a:pt x="471" y="278"/>
                            </a:lnTo>
                            <a:lnTo>
                              <a:pt x="486" y="273"/>
                            </a:lnTo>
                            <a:lnTo>
                              <a:pt x="501" y="269"/>
                            </a:lnTo>
                            <a:lnTo>
                              <a:pt x="517" y="266"/>
                            </a:lnTo>
                            <a:lnTo>
                              <a:pt x="532" y="263"/>
                            </a:lnTo>
                            <a:lnTo>
                              <a:pt x="549" y="261"/>
                            </a:lnTo>
                            <a:lnTo>
                              <a:pt x="565" y="260"/>
                            </a:lnTo>
                            <a:lnTo>
                              <a:pt x="582" y="259"/>
                            </a:lnTo>
                            <a:lnTo>
                              <a:pt x="598" y="260"/>
                            </a:lnTo>
                            <a:lnTo>
                              <a:pt x="614" y="261"/>
                            </a:lnTo>
                            <a:lnTo>
                              <a:pt x="630" y="263"/>
                            </a:lnTo>
                            <a:lnTo>
                              <a:pt x="645" y="266"/>
                            </a:lnTo>
                            <a:lnTo>
                              <a:pt x="661" y="269"/>
                            </a:lnTo>
                            <a:lnTo>
                              <a:pt x="677" y="273"/>
                            </a:lnTo>
                            <a:lnTo>
                              <a:pt x="692" y="278"/>
                            </a:lnTo>
                            <a:lnTo>
                              <a:pt x="707" y="284"/>
                            </a:lnTo>
                            <a:lnTo>
                              <a:pt x="721" y="290"/>
                            </a:lnTo>
                            <a:lnTo>
                              <a:pt x="735" y="298"/>
                            </a:lnTo>
                            <a:lnTo>
                              <a:pt x="749" y="305"/>
                            </a:lnTo>
                            <a:lnTo>
                              <a:pt x="763" y="314"/>
                            </a:lnTo>
                            <a:lnTo>
                              <a:pt x="776" y="323"/>
                            </a:lnTo>
                            <a:lnTo>
                              <a:pt x="789" y="334"/>
                            </a:lnTo>
                            <a:lnTo>
                              <a:pt x="801" y="344"/>
                            </a:lnTo>
                            <a:lnTo>
                              <a:pt x="813" y="356"/>
                            </a:lnTo>
                            <a:lnTo>
                              <a:pt x="823" y="366"/>
                            </a:lnTo>
                            <a:lnTo>
                              <a:pt x="832" y="376"/>
                            </a:lnTo>
                            <a:lnTo>
                              <a:pt x="840" y="386"/>
                            </a:lnTo>
                            <a:lnTo>
                              <a:pt x="848" y="398"/>
                            </a:lnTo>
                            <a:lnTo>
                              <a:pt x="855" y="410"/>
                            </a:lnTo>
                            <a:lnTo>
                              <a:pt x="862" y="423"/>
                            </a:lnTo>
                            <a:lnTo>
                              <a:pt x="869" y="435"/>
                            </a:lnTo>
                            <a:lnTo>
                              <a:pt x="875" y="449"/>
                            </a:lnTo>
                            <a:lnTo>
                              <a:pt x="880" y="463"/>
                            </a:lnTo>
                            <a:lnTo>
                              <a:pt x="885" y="478"/>
                            </a:lnTo>
                            <a:lnTo>
                              <a:pt x="890" y="495"/>
                            </a:lnTo>
                            <a:lnTo>
                              <a:pt x="894" y="511"/>
                            </a:lnTo>
                            <a:lnTo>
                              <a:pt x="897" y="529"/>
                            </a:lnTo>
                            <a:lnTo>
                              <a:pt x="900" y="547"/>
                            </a:lnTo>
                            <a:lnTo>
                              <a:pt x="902" y="568"/>
                            </a:lnTo>
                            <a:lnTo>
                              <a:pt x="906" y="588"/>
                            </a:lnTo>
                            <a:lnTo>
                              <a:pt x="1163" y="588"/>
                            </a:lnTo>
                            <a:lnTo>
                              <a:pt x="1161" y="554"/>
                            </a:lnTo>
                            <a:lnTo>
                              <a:pt x="1157" y="522"/>
                            </a:lnTo>
                            <a:lnTo>
                              <a:pt x="1153" y="491"/>
                            </a:lnTo>
                            <a:lnTo>
                              <a:pt x="1147" y="460"/>
                            </a:lnTo>
                            <a:lnTo>
                              <a:pt x="1140" y="431"/>
                            </a:lnTo>
                            <a:lnTo>
                              <a:pt x="1132" y="403"/>
                            </a:lnTo>
                            <a:lnTo>
                              <a:pt x="1123" y="376"/>
                            </a:lnTo>
                            <a:lnTo>
                              <a:pt x="1113" y="350"/>
                            </a:lnTo>
                            <a:lnTo>
                              <a:pt x="1102" y="324"/>
                            </a:lnTo>
                            <a:lnTo>
                              <a:pt x="1090" y="300"/>
                            </a:lnTo>
                            <a:lnTo>
                              <a:pt x="1077" y="277"/>
                            </a:lnTo>
                            <a:lnTo>
                              <a:pt x="1063" y="254"/>
                            </a:lnTo>
                            <a:lnTo>
                              <a:pt x="1048" y="232"/>
                            </a:lnTo>
                            <a:lnTo>
                              <a:pt x="1032" y="212"/>
                            </a:lnTo>
                            <a:lnTo>
                              <a:pt x="1013" y="192"/>
                            </a:lnTo>
                            <a:lnTo>
                              <a:pt x="995" y="172"/>
                            </a:lnTo>
                            <a:lnTo>
                              <a:pt x="974" y="152"/>
                            </a:lnTo>
                            <a:lnTo>
                              <a:pt x="952" y="133"/>
                            </a:lnTo>
                            <a:lnTo>
                              <a:pt x="930" y="115"/>
                            </a:lnTo>
                            <a:lnTo>
                              <a:pt x="907" y="98"/>
                            </a:lnTo>
                            <a:lnTo>
                              <a:pt x="882" y="83"/>
                            </a:lnTo>
                            <a:lnTo>
                              <a:pt x="857" y="69"/>
                            </a:lnTo>
                            <a:lnTo>
                              <a:pt x="832" y="56"/>
                            </a:lnTo>
                            <a:lnTo>
                              <a:pt x="806" y="45"/>
                            </a:lnTo>
                            <a:lnTo>
                              <a:pt x="778" y="33"/>
                            </a:lnTo>
                            <a:lnTo>
                              <a:pt x="752" y="25"/>
                            </a:lnTo>
                            <a:lnTo>
                              <a:pt x="724" y="17"/>
                            </a:lnTo>
                            <a:lnTo>
                              <a:pt x="697" y="11"/>
                            </a:lnTo>
                            <a:lnTo>
                              <a:pt x="669" y="6"/>
                            </a:lnTo>
                            <a:lnTo>
                              <a:pt x="639" y="2"/>
                            </a:lnTo>
                            <a:lnTo>
                              <a:pt x="611" y="0"/>
                            </a:lnTo>
                            <a:lnTo>
                              <a:pt x="582" y="0"/>
                            </a:lnTo>
                            <a:lnTo>
                              <a:pt x="553" y="0"/>
                            </a:lnTo>
                            <a:lnTo>
                              <a:pt x="524" y="2"/>
                            </a:lnTo>
                            <a:lnTo>
                              <a:pt x="496" y="6"/>
                            </a:lnTo>
                            <a:lnTo>
                              <a:pt x="469" y="11"/>
                            </a:lnTo>
                            <a:lnTo>
                              <a:pt x="442" y="17"/>
                            </a:lnTo>
                            <a:lnTo>
                              <a:pt x="414" y="24"/>
                            </a:lnTo>
                            <a:lnTo>
                              <a:pt x="388" y="33"/>
                            </a:lnTo>
                            <a:lnTo>
                              <a:pt x="363" y="43"/>
                            </a:lnTo>
                            <a:lnTo>
                              <a:pt x="338" y="54"/>
                            </a:lnTo>
                            <a:lnTo>
                              <a:pt x="314" y="67"/>
                            </a:lnTo>
                            <a:lnTo>
                              <a:pt x="290" y="80"/>
                            </a:lnTo>
                            <a:lnTo>
                              <a:pt x="267" y="94"/>
                            </a:lnTo>
                            <a:lnTo>
                              <a:pt x="245" y="111"/>
                            </a:lnTo>
                            <a:lnTo>
                              <a:pt x="224" y="128"/>
                            </a:lnTo>
                            <a:lnTo>
                              <a:pt x="203" y="145"/>
                            </a:lnTo>
                            <a:lnTo>
                              <a:pt x="182" y="164"/>
                            </a:lnTo>
                            <a:lnTo>
                              <a:pt x="163" y="185"/>
                            </a:lnTo>
                            <a:lnTo>
                              <a:pt x="145" y="205"/>
                            </a:lnTo>
                            <a:lnTo>
                              <a:pt x="128" y="227"/>
                            </a:lnTo>
                            <a:lnTo>
                              <a:pt x="112" y="249"/>
                            </a:lnTo>
                            <a:lnTo>
                              <a:pt x="97" y="274"/>
                            </a:lnTo>
                            <a:lnTo>
                              <a:pt x="82" y="298"/>
                            </a:lnTo>
                            <a:lnTo>
                              <a:pt x="69" y="323"/>
                            </a:lnTo>
                            <a:lnTo>
                              <a:pt x="56" y="350"/>
                            </a:lnTo>
                            <a:lnTo>
                              <a:pt x="45" y="377"/>
                            </a:lnTo>
                            <a:lnTo>
                              <a:pt x="35" y="405"/>
                            </a:lnTo>
                            <a:lnTo>
                              <a:pt x="26" y="434"/>
                            </a:lnTo>
                            <a:lnTo>
                              <a:pt x="18" y="463"/>
                            </a:lnTo>
                            <a:lnTo>
                              <a:pt x="12" y="494"/>
                            </a:lnTo>
                            <a:lnTo>
                              <a:pt x="6" y="524"/>
                            </a:lnTo>
                            <a:lnTo>
                              <a:pt x="3" y="556"/>
                            </a:lnTo>
                            <a:lnTo>
                              <a:pt x="0" y="588"/>
                            </a:lnTo>
                            <a:lnTo>
                              <a:pt x="258" y="588"/>
                            </a:lnTo>
                            <a:lnTo>
                              <a:pt x="260" y="568"/>
                            </a:lnTo>
                            <a:lnTo>
                              <a:pt x="262" y="547"/>
                            </a:lnTo>
                            <a:lnTo>
                              <a:pt x="265" y="529"/>
                            </a:lnTo>
                            <a:lnTo>
                              <a:pt x="268" y="511"/>
                            </a:lnTo>
                            <a:lnTo>
                              <a:pt x="272" y="495"/>
                            </a:lnTo>
                            <a:lnTo>
                              <a:pt x="277" y="478"/>
                            </a:lnTo>
                            <a:lnTo>
                              <a:pt x="282" y="463"/>
                            </a:lnTo>
                            <a:lnTo>
                              <a:pt x="287" y="449"/>
                            </a:lnTo>
                            <a:lnTo>
                              <a:pt x="293" y="435"/>
                            </a:lnTo>
                            <a:lnTo>
                              <a:pt x="300" y="423"/>
                            </a:lnTo>
                            <a:lnTo>
                              <a:pt x="306" y="410"/>
                            </a:lnTo>
                            <a:lnTo>
                              <a:pt x="315" y="398"/>
                            </a:lnTo>
                            <a:lnTo>
                              <a:pt x="323" y="386"/>
                            </a:lnTo>
                            <a:lnTo>
                              <a:pt x="331" y="376"/>
                            </a:lnTo>
                            <a:lnTo>
                              <a:pt x="340" y="366"/>
                            </a:lnTo>
                            <a:lnTo>
                              <a:pt x="350" y="356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3205800" y="4146120"/>
                        <a:ext cx="32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1" h="589">
                            <a:moveTo>
                              <a:pt x="913" y="0"/>
                            </a:moveTo>
                            <a:lnTo>
                              <a:pt x="913" y="17"/>
                            </a:lnTo>
                            <a:lnTo>
                              <a:pt x="912" y="34"/>
                            </a:lnTo>
                            <a:lnTo>
                              <a:pt x="910" y="51"/>
                            </a:lnTo>
                            <a:lnTo>
                              <a:pt x="906" y="67"/>
                            </a:lnTo>
                            <a:lnTo>
                              <a:pt x="902" y="82"/>
                            </a:lnTo>
                            <a:lnTo>
                              <a:pt x="898" y="98"/>
                            </a:lnTo>
                            <a:lnTo>
                              <a:pt x="893" y="113"/>
                            </a:lnTo>
                            <a:lnTo>
                              <a:pt x="887" y="129"/>
                            </a:lnTo>
                            <a:lnTo>
                              <a:pt x="880" y="143"/>
                            </a:lnTo>
                            <a:lnTo>
                              <a:pt x="873" y="157"/>
                            </a:lnTo>
                            <a:lnTo>
                              <a:pt x="865" y="171"/>
                            </a:lnTo>
                            <a:lnTo>
                              <a:pt x="857" y="184"/>
                            </a:lnTo>
                            <a:lnTo>
                              <a:pt x="848" y="198"/>
                            </a:lnTo>
                            <a:lnTo>
                              <a:pt x="838" y="210"/>
                            </a:lnTo>
                            <a:lnTo>
                              <a:pt x="828" y="222"/>
                            </a:lnTo>
                            <a:lnTo>
                              <a:pt x="817" y="233"/>
                            </a:lnTo>
                            <a:lnTo>
                              <a:pt x="806" y="244"/>
                            </a:lnTo>
                            <a:lnTo>
                              <a:pt x="794" y="254"/>
                            </a:lnTo>
                            <a:lnTo>
                              <a:pt x="781" y="264"/>
                            </a:lnTo>
                            <a:lnTo>
                              <a:pt x="768" y="274"/>
                            </a:lnTo>
                            <a:lnTo>
                              <a:pt x="755" y="282"/>
                            </a:lnTo>
                            <a:lnTo>
                              <a:pt x="741" y="290"/>
                            </a:lnTo>
                            <a:lnTo>
                              <a:pt x="727" y="297"/>
                            </a:lnTo>
                            <a:lnTo>
                              <a:pt x="713" y="304"/>
                            </a:lnTo>
                            <a:lnTo>
                              <a:pt x="698" y="310"/>
                            </a:lnTo>
                            <a:lnTo>
                              <a:pt x="683" y="315"/>
                            </a:lnTo>
                            <a:lnTo>
                              <a:pt x="667" y="319"/>
                            </a:lnTo>
                            <a:lnTo>
                              <a:pt x="651" y="323"/>
                            </a:lnTo>
                            <a:lnTo>
                              <a:pt x="635" y="326"/>
                            </a:lnTo>
                            <a:lnTo>
                              <a:pt x="619" y="328"/>
                            </a:lnTo>
                            <a:lnTo>
                              <a:pt x="602" y="329"/>
                            </a:lnTo>
                            <a:lnTo>
                              <a:pt x="586" y="329"/>
                            </a:lnTo>
                            <a:lnTo>
                              <a:pt x="569" y="329"/>
                            </a:lnTo>
                            <a:lnTo>
                              <a:pt x="553" y="328"/>
                            </a:lnTo>
                            <a:lnTo>
                              <a:pt x="536" y="326"/>
                            </a:lnTo>
                            <a:lnTo>
                              <a:pt x="521" y="323"/>
                            </a:lnTo>
                            <a:lnTo>
                              <a:pt x="505" y="320"/>
                            </a:lnTo>
                            <a:lnTo>
                              <a:pt x="490" y="315"/>
                            </a:lnTo>
                            <a:lnTo>
                              <a:pt x="475" y="310"/>
                            </a:lnTo>
                            <a:lnTo>
                              <a:pt x="460" y="305"/>
                            </a:lnTo>
                            <a:lnTo>
                              <a:pt x="446" y="298"/>
                            </a:lnTo>
                            <a:lnTo>
                              <a:pt x="432" y="291"/>
                            </a:lnTo>
                            <a:lnTo>
                              <a:pt x="417" y="283"/>
                            </a:lnTo>
                            <a:lnTo>
                              <a:pt x="403" y="275"/>
                            </a:lnTo>
                            <a:lnTo>
                              <a:pt x="390" y="266"/>
                            </a:lnTo>
                            <a:lnTo>
                              <a:pt x="378" y="255"/>
                            </a:lnTo>
                            <a:lnTo>
                              <a:pt x="365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9"/>
                            </a:lnTo>
                            <a:lnTo>
                              <a:pt x="322" y="197"/>
                            </a:lnTo>
                            <a:lnTo>
                              <a:pt x="313" y="182"/>
                            </a:lnTo>
                            <a:lnTo>
                              <a:pt x="303" y="169"/>
                            </a:lnTo>
                            <a:lnTo>
                              <a:pt x="296" y="155"/>
                            </a:lnTo>
                            <a:lnTo>
                              <a:pt x="289" y="141"/>
                            </a:lnTo>
                            <a:lnTo>
                              <a:pt x="282" y="127"/>
                            </a:lnTo>
                            <a:lnTo>
                              <a:pt x="277" y="111"/>
                            </a:lnTo>
                            <a:lnTo>
                              <a:pt x="272" y="96"/>
                            </a:lnTo>
                            <a:lnTo>
                              <a:pt x="267" y="81"/>
                            </a:lnTo>
                            <a:lnTo>
                              <a:pt x="264" y="65"/>
                            </a:lnTo>
                            <a:lnTo>
                              <a:pt x="261" y="50"/>
                            </a:lnTo>
                            <a:lnTo>
                              <a:pt x="259" y="33"/>
                            </a:lnTo>
                            <a:lnTo>
                              <a:pt x="258" y="17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29"/>
                            </a:lnTo>
                            <a:lnTo>
                              <a:pt x="3" y="59"/>
                            </a:lnTo>
                            <a:lnTo>
                              <a:pt x="6" y="87"/>
                            </a:lnTo>
                            <a:lnTo>
                              <a:pt x="11" y="117"/>
                            </a:lnTo>
                            <a:lnTo>
                              <a:pt x="17" y="144"/>
                            </a:lnTo>
                            <a:lnTo>
                              <a:pt x="25" y="172"/>
                            </a:lnTo>
                            <a:lnTo>
                              <a:pt x="33" y="199"/>
                            </a:lnTo>
                            <a:lnTo>
                              <a:pt x="44" y="226"/>
                            </a:lnTo>
                            <a:lnTo>
                              <a:pt x="55" y="252"/>
                            </a:lnTo>
                            <a:lnTo>
                              <a:pt x="68" y="278"/>
                            </a:lnTo>
                            <a:lnTo>
                              <a:pt x="83" y="302"/>
                            </a:lnTo>
                            <a:lnTo>
                              <a:pt x="98" y="326"/>
                            </a:lnTo>
                            <a:lnTo>
                              <a:pt x="114" y="351"/>
                            </a:lnTo>
                            <a:lnTo>
                              <a:pt x="132" y="373"/>
                            </a:lnTo>
                            <a:lnTo>
                              <a:pt x="151" y="395"/>
                            </a:lnTo>
                            <a:lnTo>
                              <a:pt x="171" y="417"/>
                            </a:lnTo>
                            <a:lnTo>
                              <a:pt x="193" y="437"/>
                            </a:lnTo>
                            <a:lnTo>
                              <a:pt x="215" y="456"/>
                            </a:lnTo>
                            <a:lnTo>
                              <a:pt x="237" y="473"/>
                            </a:lnTo>
                            <a:lnTo>
                              <a:pt x="260" y="491"/>
                            </a:lnTo>
                            <a:lnTo>
                              <a:pt x="284" y="506"/>
                            </a:lnTo>
                            <a:lnTo>
                              <a:pt x="309" y="520"/>
                            </a:lnTo>
                            <a:lnTo>
                              <a:pt x="335" y="533"/>
                            </a:lnTo>
                            <a:lnTo>
                              <a:pt x="361" y="544"/>
                            </a:lnTo>
                            <a:lnTo>
                              <a:pt x="387" y="554"/>
                            </a:lnTo>
                            <a:lnTo>
                              <a:pt x="414" y="564"/>
                            </a:lnTo>
                            <a:lnTo>
                              <a:pt x="443" y="572"/>
                            </a:lnTo>
                            <a:lnTo>
                              <a:pt x="470" y="578"/>
                            </a:lnTo>
                            <a:lnTo>
                              <a:pt x="498" y="583"/>
                            </a:lnTo>
                            <a:lnTo>
                              <a:pt x="527" y="586"/>
                            </a:lnTo>
                            <a:lnTo>
                              <a:pt x="557" y="588"/>
                            </a:lnTo>
                            <a:lnTo>
                              <a:pt x="586" y="589"/>
                            </a:lnTo>
                            <a:lnTo>
                              <a:pt x="615" y="588"/>
                            </a:lnTo>
                            <a:lnTo>
                              <a:pt x="643" y="586"/>
                            </a:lnTo>
                            <a:lnTo>
                              <a:pt x="673" y="583"/>
                            </a:lnTo>
                            <a:lnTo>
                              <a:pt x="701" y="578"/>
                            </a:lnTo>
                            <a:lnTo>
                              <a:pt x="728" y="572"/>
                            </a:lnTo>
                            <a:lnTo>
                              <a:pt x="756" y="564"/>
                            </a:lnTo>
                            <a:lnTo>
                              <a:pt x="782" y="554"/>
                            </a:lnTo>
                            <a:lnTo>
                              <a:pt x="810" y="544"/>
                            </a:lnTo>
                            <a:lnTo>
                              <a:pt x="836" y="533"/>
                            </a:lnTo>
                            <a:lnTo>
                              <a:pt x="861" y="520"/>
                            </a:lnTo>
                            <a:lnTo>
                              <a:pt x="886" y="506"/>
                            </a:lnTo>
                            <a:lnTo>
                              <a:pt x="911" y="491"/>
                            </a:lnTo>
                            <a:lnTo>
                              <a:pt x="934" y="473"/>
                            </a:lnTo>
                            <a:lnTo>
                              <a:pt x="956" y="456"/>
                            </a:lnTo>
                            <a:lnTo>
                              <a:pt x="978" y="437"/>
                            </a:lnTo>
                            <a:lnTo>
                              <a:pt x="999" y="417"/>
                            </a:lnTo>
                            <a:lnTo>
                              <a:pt x="1019" y="395"/>
                            </a:lnTo>
                            <a:lnTo>
                              <a:pt x="1039" y="373"/>
                            </a:lnTo>
                            <a:lnTo>
                              <a:pt x="1057" y="351"/>
                            </a:lnTo>
                            <a:lnTo>
                              <a:pt x="1073" y="326"/>
                            </a:lnTo>
                            <a:lnTo>
                              <a:pt x="1088" y="302"/>
                            </a:lnTo>
                            <a:lnTo>
                              <a:pt x="1102" y="278"/>
                            </a:lnTo>
                            <a:lnTo>
                              <a:pt x="1115" y="252"/>
                            </a:lnTo>
                            <a:lnTo>
                              <a:pt x="1126" y="226"/>
                            </a:lnTo>
                            <a:lnTo>
                              <a:pt x="1137" y="199"/>
                            </a:lnTo>
                            <a:lnTo>
                              <a:pt x="1145" y="172"/>
                            </a:lnTo>
                            <a:lnTo>
                              <a:pt x="1154" y="144"/>
                            </a:lnTo>
                            <a:lnTo>
                              <a:pt x="1160" y="117"/>
                            </a:lnTo>
                            <a:lnTo>
                              <a:pt x="1165" y="87"/>
                            </a:lnTo>
                            <a:lnTo>
                              <a:pt x="1168" y="59"/>
                            </a:lnTo>
                            <a:lnTo>
                              <a:pt x="1171" y="29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3225240" y="4141800"/>
                        <a:ext cx="2448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59">
                            <a:moveTo>
                              <a:pt x="427" y="859"/>
                            </a:moveTo>
                            <a:lnTo>
                              <a:pt x="449" y="859"/>
                            </a:lnTo>
                            <a:lnTo>
                              <a:pt x="472" y="857"/>
                            </a:lnTo>
                            <a:lnTo>
                              <a:pt x="493" y="855"/>
                            </a:lnTo>
                            <a:lnTo>
                              <a:pt x="514" y="851"/>
                            </a:lnTo>
                            <a:lnTo>
                              <a:pt x="534" y="846"/>
                            </a:lnTo>
                            <a:lnTo>
                              <a:pt x="554" y="840"/>
                            </a:lnTo>
                            <a:lnTo>
                              <a:pt x="574" y="834"/>
                            </a:lnTo>
                            <a:lnTo>
                              <a:pt x="594" y="826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49" y="798"/>
                            </a:lnTo>
                            <a:lnTo>
                              <a:pt x="666" y="786"/>
                            </a:lnTo>
                            <a:lnTo>
                              <a:pt x="683" y="774"/>
                            </a:lnTo>
                            <a:lnTo>
                              <a:pt x="700" y="762"/>
                            </a:lnTo>
                            <a:lnTo>
                              <a:pt x="715" y="748"/>
                            </a:lnTo>
                            <a:lnTo>
                              <a:pt x="730" y="734"/>
                            </a:lnTo>
                            <a:lnTo>
                              <a:pt x="744" y="720"/>
                            </a:lnTo>
                            <a:lnTo>
                              <a:pt x="757" y="703"/>
                            </a:lnTo>
                            <a:lnTo>
                              <a:pt x="770" y="687"/>
                            </a:lnTo>
                            <a:lnTo>
                              <a:pt x="782" y="670"/>
                            </a:lnTo>
                            <a:lnTo>
                              <a:pt x="793" y="653"/>
                            </a:lnTo>
                            <a:lnTo>
                              <a:pt x="803" y="634"/>
                            </a:lnTo>
                            <a:lnTo>
                              <a:pt x="813" y="616"/>
                            </a:lnTo>
                            <a:lnTo>
                              <a:pt x="822" y="597"/>
                            </a:lnTo>
                            <a:lnTo>
                              <a:pt x="830" y="578"/>
                            </a:lnTo>
                            <a:lnTo>
                              <a:pt x="836" y="558"/>
                            </a:lnTo>
                            <a:lnTo>
                              <a:pt x="842" y="537"/>
                            </a:lnTo>
                            <a:lnTo>
                              <a:pt x="847" y="517"/>
                            </a:lnTo>
                            <a:lnTo>
                              <a:pt x="850" y="496"/>
                            </a:lnTo>
                            <a:lnTo>
                              <a:pt x="853" y="474"/>
                            </a:lnTo>
                            <a:lnTo>
                              <a:pt x="855" y="452"/>
                            </a:lnTo>
                            <a:lnTo>
                              <a:pt x="855" y="430"/>
                            </a:lnTo>
                            <a:lnTo>
                              <a:pt x="855" y="408"/>
                            </a:lnTo>
                            <a:lnTo>
                              <a:pt x="853" y="386"/>
                            </a:lnTo>
                            <a:lnTo>
                              <a:pt x="850" y="365"/>
                            </a:lnTo>
                            <a:lnTo>
                              <a:pt x="847" y="344"/>
                            </a:lnTo>
                            <a:lnTo>
                              <a:pt x="842" y="322"/>
                            </a:lnTo>
                            <a:lnTo>
                              <a:pt x="836" y="302"/>
                            </a:lnTo>
                            <a:lnTo>
                              <a:pt x="830" y="283"/>
                            </a:lnTo>
                            <a:lnTo>
                              <a:pt x="822" y="262"/>
                            </a:lnTo>
                            <a:lnTo>
                              <a:pt x="813" y="244"/>
                            </a:lnTo>
                            <a:lnTo>
                              <a:pt x="803" y="225"/>
                            </a:lnTo>
                            <a:lnTo>
                              <a:pt x="793" y="208"/>
                            </a:lnTo>
                            <a:lnTo>
                              <a:pt x="782" y="189"/>
                            </a:lnTo>
                            <a:lnTo>
                              <a:pt x="770" y="173"/>
                            </a:lnTo>
                            <a:lnTo>
                              <a:pt x="757" y="157"/>
                            </a:lnTo>
                            <a:lnTo>
                              <a:pt x="744" y="141"/>
                            </a:lnTo>
                            <a:lnTo>
                              <a:pt x="730" y="126"/>
                            </a:lnTo>
                            <a:lnTo>
                              <a:pt x="715" y="111"/>
                            </a:lnTo>
                            <a:lnTo>
                              <a:pt x="700" y="98"/>
                            </a:lnTo>
                            <a:lnTo>
                              <a:pt x="683" y="86"/>
                            </a:lnTo>
                            <a:lnTo>
                              <a:pt x="666" y="74"/>
                            </a:lnTo>
                            <a:lnTo>
                              <a:pt x="649" y="63"/>
                            </a:lnTo>
                            <a:lnTo>
                              <a:pt x="631" y="53"/>
                            </a:lnTo>
                            <a:lnTo>
                              <a:pt x="613" y="42"/>
                            </a:lnTo>
                            <a:lnTo>
                              <a:pt x="594" y="34"/>
                            </a:lnTo>
                            <a:lnTo>
                              <a:pt x="574" y="26"/>
                            </a:lnTo>
                            <a:lnTo>
                              <a:pt x="554" y="19"/>
                            </a:lnTo>
                            <a:lnTo>
                              <a:pt x="534" y="14"/>
                            </a:lnTo>
                            <a:lnTo>
                              <a:pt x="514" y="9"/>
                            </a:lnTo>
                            <a:lnTo>
                              <a:pt x="493" y="5"/>
                            </a:lnTo>
                            <a:lnTo>
                              <a:pt x="472" y="2"/>
                            </a:lnTo>
                            <a:lnTo>
                              <a:pt x="449" y="1"/>
                            </a:lnTo>
                            <a:lnTo>
                              <a:pt x="427" y="0"/>
                            </a:lnTo>
                            <a:lnTo>
                              <a:pt x="405" y="1"/>
                            </a:lnTo>
                            <a:lnTo>
                              <a:pt x="384" y="2"/>
                            </a:lnTo>
                            <a:lnTo>
                              <a:pt x="363" y="5"/>
                            </a:lnTo>
                            <a:lnTo>
                              <a:pt x="342" y="9"/>
                            </a:lnTo>
                            <a:lnTo>
                              <a:pt x="320" y="14"/>
                            </a:lnTo>
                            <a:lnTo>
                              <a:pt x="300" y="19"/>
                            </a:lnTo>
                            <a:lnTo>
                              <a:pt x="280" y="26"/>
                            </a:lnTo>
                            <a:lnTo>
                              <a:pt x="261" y="34"/>
                            </a:lnTo>
                            <a:lnTo>
                              <a:pt x="242" y="42"/>
                            </a:lnTo>
                            <a:lnTo>
                              <a:pt x="224" y="53"/>
                            </a:lnTo>
                            <a:lnTo>
                              <a:pt x="205" y="63"/>
                            </a:lnTo>
                            <a:lnTo>
                              <a:pt x="188" y="74"/>
                            </a:lnTo>
                            <a:lnTo>
                              <a:pt x="172" y="86"/>
                            </a:lnTo>
                            <a:lnTo>
                              <a:pt x="156" y="98"/>
                            </a:lnTo>
                            <a:lnTo>
                              <a:pt x="140" y="111"/>
                            </a:lnTo>
                            <a:lnTo>
                              <a:pt x="126" y="126"/>
                            </a:lnTo>
                            <a:lnTo>
                              <a:pt x="111" y="141"/>
                            </a:lnTo>
                            <a:lnTo>
                              <a:pt x="98" y="157"/>
                            </a:lnTo>
                            <a:lnTo>
                              <a:pt x="84" y="173"/>
                            </a:lnTo>
                            <a:lnTo>
                              <a:pt x="73" y="189"/>
                            </a:lnTo>
                            <a:lnTo>
                              <a:pt x="62" y="208"/>
                            </a:lnTo>
                            <a:lnTo>
                              <a:pt x="51" y="225"/>
                            </a:lnTo>
                            <a:lnTo>
                              <a:pt x="42" y="244"/>
                            </a:lnTo>
                            <a:lnTo>
                              <a:pt x="34" y="262"/>
                            </a:lnTo>
                            <a:lnTo>
                              <a:pt x="26" y="283"/>
                            </a:lnTo>
                            <a:lnTo>
                              <a:pt x="19" y="302"/>
                            </a:lnTo>
                            <a:lnTo>
                              <a:pt x="14" y="322"/>
                            </a:lnTo>
                            <a:lnTo>
                              <a:pt x="9" y="344"/>
                            </a:lnTo>
                            <a:lnTo>
                              <a:pt x="5" y="365"/>
                            </a:lnTo>
                            <a:lnTo>
                              <a:pt x="2" y="386"/>
                            </a:lnTo>
                            <a:lnTo>
                              <a:pt x="1" y="408"/>
                            </a:lnTo>
                            <a:lnTo>
                              <a:pt x="0" y="430"/>
                            </a:lnTo>
                            <a:lnTo>
                              <a:pt x="1" y="452"/>
                            </a:lnTo>
                            <a:lnTo>
                              <a:pt x="2" y="474"/>
                            </a:lnTo>
                            <a:lnTo>
                              <a:pt x="5" y="496"/>
                            </a:lnTo>
                            <a:lnTo>
                              <a:pt x="9" y="517"/>
                            </a:lnTo>
                            <a:lnTo>
                              <a:pt x="14" y="537"/>
                            </a:lnTo>
                            <a:lnTo>
                              <a:pt x="19" y="558"/>
                            </a:lnTo>
                            <a:lnTo>
                              <a:pt x="26" y="578"/>
                            </a:lnTo>
                            <a:lnTo>
                              <a:pt x="34" y="597"/>
                            </a:lnTo>
                            <a:lnTo>
                              <a:pt x="42" y="616"/>
                            </a:lnTo>
                            <a:lnTo>
                              <a:pt x="51" y="634"/>
                            </a:lnTo>
                            <a:lnTo>
                              <a:pt x="62" y="653"/>
                            </a:lnTo>
                            <a:lnTo>
                              <a:pt x="73" y="670"/>
                            </a:lnTo>
                            <a:lnTo>
                              <a:pt x="84" y="687"/>
                            </a:lnTo>
                            <a:lnTo>
                              <a:pt x="98" y="703"/>
                            </a:lnTo>
                            <a:lnTo>
                              <a:pt x="111" y="720"/>
                            </a:lnTo>
                            <a:lnTo>
                              <a:pt x="126" y="734"/>
                            </a:lnTo>
                            <a:lnTo>
                              <a:pt x="140" y="748"/>
                            </a:lnTo>
                            <a:lnTo>
                              <a:pt x="156" y="762"/>
                            </a:lnTo>
                            <a:lnTo>
                              <a:pt x="172" y="774"/>
                            </a:lnTo>
                            <a:lnTo>
                              <a:pt x="188" y="786"/>
                            </a:lnTo>
                            <a:lnTo>
                              <a:pt x="205" y="798"/>
                            </a:lnTo>
                            <a:lnTo>
                              <a:pt x="224" y="808"/>
                            </a:lnTo>
                            <a:lnTo>
                              <a:pt x="242" y="818"/>
                            </a:lnTo>
                            <a:lnTo>
                              <a:pt x="261" y="826"/>
                            </a:lnTo>
                            <a:lnTo>
                              <a:pt x="280" y="834"/>
                            </a:lnTo>
                            <a:lnTo>
                              <a:pt x="300" y="840"/>
                            </a:lnTo>
                            <a:lnTo>
                              <a:pt x="320" y="846"/>
                            </a:lnTo>
                            <a:lnTo>
                              <a:pt x="342" y="851"/>
                            </a:lnTo>
                            <a:lnTo>
                              <a:pt x="363" y="855"/>
                            </a:lnTo>
                            <a:lnTo>
                              <a:pt x="384" y="857"/>
                            </a:lnTo>
                            <a:lnTo>
                              <a:pt x="405" y="859"/>
                            </a:lnTo>
                            <a:lnTo>
                              <a:pt x="427" y="85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3221280" y="4139280"/>
                        <a:ext cx="32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589">
                            <a:moveTo>
                              <a:pt x="350" y="355"/>
                            </a:moveTo>
                            <a:lnTo>
                              <a:pt x="362" y="344"/>
                            </a:lnTo>
                            <a:lnTo>
                              <a:pt x="375" y="334"/>
                            </a:lnTo>
                            <a:lnTo>
                              <a:pt x="388" y="324"/>
                            </a:lnTo>
                            <a:lnTo>
                              <a:pt x="401" y="315"/>
                            </a:lnTo>
                            <a:lnTo>
                              <a:pt x="414" y="306"/>
                            </a:lnTo>
                            <a:lnTo>
                              <a:pt x="428" y="298"/>
                            </a:lnTo>
                            <a:lnTo>
                              <a:pt x="442" y="291"/>
                            </a:lnTo>
                            <a:lnTo>
                              <a:pt x="457" y="285"/>
                            </a:lnTo>
                            <a:lnTo>
                              <a:pt x="471" y="278"/>
                            </a:lnTo>
                            <a:lnTo>
                              <a:pt x="487" y="273"/>
                            </a:lnTo>
                            <a:lnTo>
                              <a:pt x="502" y="269"/>
                            </a:lnTo>
                            <a:lnTo>
                              <a:pt x="518" y="265"/>
                            </a:lnTo>
                            <a:lnTo>
                              <a:pt x="534" y="263"/>
                            </a:lnTo>
                            <a:lnTo>
                              <a:pt x="550" y="261"/>
                            </a:lnTo>
                            <a:lnTo>
                              <a:pt x="566" y="260"/>
                            </a:lnTo>
                            <a:lnTo>
                              <a:pt x="582" y="259"/>
                            </a:lnTo>
                            <a:lnTo>
                              <a:pt x="598" y="260"/>
                            </a:lnTo>
                            <a:lnTo>
                              <a:pt x="615" y="261"/>
                            </a:lnTo>
                            <a:lnTo>
                              <a:pt x="631" y="263"/>
                            </a:lnTo>
                            <a:lnTo>
                              <a:pt x="647" y="265"/>
                            </a:lnTo>
                            <a:lnTo>
                              <a:pt x="662" y="269"/>
                            </a:lnTo>
                            <a:lnTo>
                              <a:pt x="678" y="273"/>
                            </a:lnTo>
                            <a:lnTo>
                              <a:pt x="692" y="278"/>
                            </a:lnTo>
                            <a:lnTo>
                              <a:pt x="707" y="285"/>
                            </a:lnTo>
                            <a:lnTo>
                              <a:pt x="723" y="291"/>
                            </a:lnTo>
                            <a:lnTo>
                              <a:pt x="737" y="298"/>
                            </a:lnTo>
                            <a:lnTo>
                              <a:pt x="750" y="306"/>
                            </a:lnTo>
                            <a:lnTo>
                              <a:pt x="764" y="315"/>
                            </a:lnTo>
                            <a:lnTo>
                              <a:pt x="777" y="324"/>
                            </a:lnTo>
                            <a:lnTo>
                              <a:pt x="790" y="334"/>
                            </a:lnTo>
                            <a:lnTo>
                              <a:pt x="802" y="344"/>
                            </a:lnTo>
                            <a:lnTo>
                              <a:pt x="814" y="355"/>
                            </a:lnTo>
                            <a:lnTo>
                              <a:pt x="823" y="366"/>
                            </a:lnTo>
                            <a:lnTo>
                              <a:pt x="832" y="377"/>
                            </a:lnTo>
                            <a:lnTo>
                              <a:pt x="840" y="387"/>
                            </a:lnTo>
                            <a:lnTo>
                              <a:pt x="849" y="398"/>
                            </a:lnTo>
                            <a:lnTo>
                              <a:pt x="857" y="410"/>
                            </a:lnTo>
                            <a:lnTo>
                              <a:pt x="864" y="422"/>
                            </a:lnTo>
                            <a:lnTo>
                              <a:pt x="870" y="436"/>
                            </a:lnTo>
                            <a:lnTo>
                              <a:pt x="876" y="450"/>
                            </a:lnTo>
                            <a:lnTo>
                              <a:pt x="882" y="464"/>
                            </a:lnTo>
                            <a:lnTo>
                              <a:pt x="887" y="479"/>
                            </a:lnTo>
                            <a:lnTo>
                              <a:pt x="891" y="495"/>
                            </a:lnTo>
                            <a:lnTo>
                              <a:pt x="895" y="512"/>
                            </a:lnTo>
                            <a:lnTo>
                              <a:pt x="898" y="530"/>
                            </a:lnTo>
                            <a:lnTo>
                              <a:pt x="901" y="548"/>
                            </a:lnTo>
                            <a:lnTo>
                              <a:pt x="904" y="567"/>
                            </a:lnTo>
                            <a:lnTo>
                              <a:pt x="906" y="589"/>
                            </a:lnTo>
                            <a:lnTo>
                              <a:pt x="1164" y="589"/>
                            </a:lnTo>
                            <a:lnTo>
                              <a:pt x="1161" y="555"/>
                            </a:lnTo>
                            <a:lnTo>
                              <a:pt x="1158" y="523"/>
                            </a:lnTo>
                            <a:lnTo>
                              <a:pt x="1153" y="491"/>
                            </a:lnTo>
                            <a:lnTo>
                              <a:pt x="1148" y="461"/>
                            </a:lnTo>
                            <a:lnTo>
                              <a:pt x="1141" y="432"/>
                            </a:lnTo>
                            <a:lnTo>
                              <a:pt x="1133" y="403"/>
                            </a:lnTo>
                            <a:lnTo>
                              <a:pt x="1124" y="377"/>
                            </a:lnTo>
                            <a:lnTo>
                              <a:pt x="1114" y="350"/>
                            </a:lnTo>
                            <a:lnTo>
                              <a:pt x="1103" y="325"/>
                            </a:lnTo>
                            <a:lnTo>
                              <a:pt x="1091" y="301"/>
                            </a:lnTo>
                            <a:lnTo>
                              <a:pt x="1077" y="277"/>
                            </a:lnTo>
                            <a:lnTo>
                              <a:pt x="1063" y="255"/>
                            </a:lnTo>
                            <a:lnTo>
                              <a:pt x="1048" y="233"/>
                            </a:lnTo>
                            <a:lnTo>
                              <a:pt x="1032" y="212"/>
                            </a:lnTo>
                            <a:lnTo>
                              <a:pt x="1015" y="192"/>
                            </a:lnTo>
                            <a:lnTo>
                              <a:pt x="997" y="172"/>
                            </a:lnTo>
                            <a:lnTo>
                              <a:pt x="976" y="153"/>
                            </a:lnTo>
                            <a:lnTo>
                              <a:pt x="953" y="134"/>
                            </a:lnTo>
                            <a:lnTo>
                              <a:pt x="930" y="115"/>
                            </a:lnTo>
                            <a:lnTo>
                              <a:pt x="907" y="99"/>
                            </a:lnTo>
                            <a:lnTo>
                              <a:pt x="883" y="84"/>
                            </a:lnTo>
                            <a:lnTo>
                              <a:pt x="858" y="70"/>
                            </a:lnTo>
                            <a:lnTo>
                              <a:pt x="832" y="56"/>
                            </a:lnTo>
                            <a:lnTo>
                              <a:pt x="806" y="44"/>
                            </a:lnTo>
                            <a:lnTo>
                              <a:pt x="780" y="34"/>
                            </a:lnTo>
                            <a:lnTo>
                              <a:pt x="753" y="25"/>
                            </a:lnTo>
                            <a:lnTo>
                              <a:pt x="726" y="18"/>
                            </a:lnTo>
                            <a:lnTo>
                              <a:pt x="697" y="12"/>
                            </a:lnTo>
                            <a:lnTo>
                              <a:pt x="669" y="7"/>
                            </a:lnTo>
                            <a:lnTo>
                              <a:pt x="641" y="3"/>
                            </a:lnTo>
                            <a:lnTo>
                              <a:pt x="612" y="1"/>
                            </a:lnTo>
                            <a:lnTo>
                              <a:pt x="582" y="0"/>
                            </a:lnTo>
                            <a:lnTo>
                              <a:pt x="553" y="1"/>
                            </a:lnTo>
                            <a:lnTo>
                              <a:pt x="525" y="3"/>
                            </a:lnTo>
                            <a:lnTo>
                              <a:pt x="497" y="7"/>
                            </a:lnTo>
                            <a:lnTo>
                              <a:pt x="469" y="11"/>
                            </a:lnTo>
                            <a:lnTo>
                              <a:pt x="442" y="17"/>
                            </a:lnTo>
                            <a:lnTo>
                              <a:pt x="416" y="25"/>
                            </a:lnTo>
                            <a:lnTo>
                              <a:pt x="390" y="33"/>
                            </a:lnTo>
                            <a:lnTo>
                              <a:pt x="364" y="43"/>
                            </a:lnTo>
                            <a:lnTo>
                              <a:pt x="339" y="54"/>
                            </a:lnTo>
                            <a:lnTo>
                              <a:pt x="315" y="67"/>
                            </a:lnTo>
                            <a:lnTo>
                              <a:pt x="291" y="81"/>
                            </a:lnTo>
                            <a:lnTo>
                              <a:pt x="268" y="95"/>
                            </a:lnTo>
                            <a:lnTo>
                              <a:pt x="246" y="111"/>
                            </a:lnTo>
                            <a:lnTo>
                              <a:pt x="224" y="127"/>
                            </a:lnTo>
                            <a:lnTo>
                              <a:pt x="203" y="146"/>
                            </a:lnTo>
                            <a:lnTo>
                              <a:pt x="184" y="165"/>
                            </a:lnTo>
                            <a:lnTo>
                              <a:pt x="165" y="184"/>
                            </a:lnTo>
                            <a:lnTo>
                              <a:pt x="147" y="205"/>
                            </a:lnTo>
                            <a:lnTo>
                              <a:pt x="129" y="228"/>
                            </a:lnTo>
                            <a:lnTo>
                              <a:pt x="112" y="250"/>
                            </a:lnTo>
                            <a:lnTo>
                              <a:pt x="97" y="274"/>
                            </a:lnTo>
                            <a:lnTo>
                              <a:pt x="83" y="299"/>
                            </a:lnTo>
                            <a:lnTo>
                              <a:pt x="69" y="324"/>
                            </a:lnTo>
                            <a:lnTo>
                              <a:pt x="57" y="350"/>
                            </a:lnTo>
                            <a:lnTo>
                              <a:pt x="46" y="378"/>
                            </a:lnTo>
                            <a:lnTo>
                              <a:pt x="36" y="405"/>
                            </a:lnTo>
                            <a:lnTo>
                              <a:pt x="27" y="435"/>
                            </a:lnTo>
                            <a:lnTo>
                              <a:pt x="19" y="464"/>
                            </a:lnTo>
                            <a:lnTo>
                              <a:pt x="13" y="494"/>
                            </a:lnTo>
                            <a:lnTo>
                              <a:pt x="8" y="525"/>
                            </a:lnTo>
                            <a:lnTo>
                              <a:pt x="3" y="556"/>
                            </a:lnTo>
                            <a:lnTo>
                              <a:pt x="0" y="589"/>
                            </a:lnTo>
                            <a:lnTo>
                              <a:pt x="259" y="589"/>
                            </a:lnTo>
                            <a:lnTo>
                              <a:pt x="261" y="567"/>
                            </a:lnTo>
                            <a:lnTo>
                              <a:pt x="263" y="548"/>
                            </a:lnTo>
                            <a:lnTo>
                              <a:pt x="266" y="530"/>
                            </a:lnTo>
                            <a:lnTo>
                              <a:pt x="270" y="512"/>
                            </a:lnTo>
                            <a:lnTo>
                              <a:pt x="274" y="495"/>
                            </a:lnTo>
                            <a:lnTo>
                              <a:pt x="278" y="479"/>
                            </a:lnTo>
                            <a:lnTo>
                              <a:pt x="283" y="464"/>
                            </a:lnTo>
                            <a:lnTo>
                              <a:pt x="288" y="450"/>
                            </a:lnTo>
                            <a:lnTo>
                              <a:pt x="294" y="436"/>
                            </a:lnTo>
                            <a:lnTo>
                              <a:pt x="301" y="422"/>
                            </a:lnTo>
                            <a:lnTo>
                              <a:pt x="308" y="410"/>
                            </a:lnTo>
                            <a:lnTo>
                              <a:pt x="315" y="398"/>
                            </a:lnTo>
                            <a:lnTo>
                              <a:pt x="323" y="387"/>
                            </a:lnTo>
                            <a:lnTo>
                              <a:pt x="332" y="377"/>
                            </a:lnTo>
                            <a:lnTo>
                              <a:pt x="341" y="366"/>
                            </a:lnTo>
                            <a:lnTo>
                              <a:pt x="350" y="355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3221280" y="4153320"/>
                        <a:ext cx="324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2" h="589">
                            <a:moveTo>
                              <a:pt x="914" y="0"/>
                            </a:moveTo>
                            <a:lnTo>
                              <a:pt x="913" y="17"/>
                            </a:lnTo>
                            <a:lnTo>
                              <a:pt x="912" y="33"/>
                            </a:lnTo>
                            <a:lnTo>
                              <a:pt x="910" y="50"/>
                            </a:lnTo>
                            <a:lnTo>
                              <a:pt x="907" y="67"/>
                            </a:lnTo>
                            <a:lnTo>
                              <a:pt x="903" y="82"/>
                            </a:lnTo>
                            <a:lnTo>
                              <a:pt x="899" y="98"/>
                            </a:lnTo>
                            <a:lnTo>
                              <a:pt x="894" y="113"/>
                            </a:lnTo>
                            <a:lnTo>
                              <a:pt x="888" y="128"/>
                            </a:lnTo>
                            <a:lnTo>
                              <a:pt x="882" y="143"/>
                            </a:lnTo>
                            <a:lnTo>
                              <a:pt x="874" y="157"/>
                            </a:lnTo>
                            <a:lnTo>
                              <a:pt x="867" y="171"/>
                            </a:lnTo>
                            <a:lnTo>
                              <a:pt x="858" y="184"/>
                            </a:lnTo>
                            <a:lnTo>
                              <a:pt x="849" y="196"/>
                            </a:lnTo>
                            <a:lnTo>
                              <a:pt x="838" y="209"/>
                            </a:lnTo>
                            <a:lnTo>
                              <a:pt x="828" y="222"/>
                            </a:lnTo>
                            <a:lnTo>
                              <a:pt x="817" y="233"/>
                            </a:lnTo>
                            <a:lnTo>
                              <a:pt x="806" y="244"/>
                            </a:lnTo>
                            <a:lnTo>
                              <a:pt x="794" y="254"/>
                            </a:lnTo>
                            <a:lnTo>
                              <a:pt x="782" y="263"/>
                            </a:lnTo>
                            <a:lnTo>
                              <a:pt x="769" y="272"/>
                            </a:lnTo>
                            <a:lnTo>
                              <a:pt x="756" y="281"/>
                            </a:lnTo>
                            <a:lnTo>
                              <a:pt x="743" y="290"/>
                            </a:lnTo>
                            <a:lnTo>
                              <a:pt x="728" y="297"/>
                            </a:lnTo>
                            <a:lnTo>
                              <a:pt x="713" y="303"/>
                            </a:lnTo>
                            <a:lnTo>
                              <a:pt x="698" y="309"/>
                            </a:lnTo>
                            <a:lnTo>
                              <a:pt x="683" y="314"/>
                            </a:lnTo>
                            <a:lnTo>
                              <a:pt x="668" y="319"/>
                            </a:lnTo>
                            <a:lnTo>
                              <a:pt x="652" y="322"/>
                            </a:lnTo>
                            <a:lnTo>
                              <a:pt x="636" y="325"/>
                            </a:lnTo>
                            <a:lnTo>
                              <a:pt x="620" y="327"/>
                            </a:lnTo>
                            <a:lnTo>
                              <a:pt x="603" y="329"/>
                            </a:lnTo>
                            <a:lnTo>
                              <a:pt x="586" y="329"/>
                            </a:lnTo>
                            <a:lnTo>
                              <a:pt x="570" y="329"/>
                            </a:lnTo>
                            <a:lnTo>
                              <a:pt x="554" y="327"/>
                            </a:lnTo>
                            <a:lnTo>
                              <a:pt x="538" y="326"/>
                            </a:lnTo>
                            <a:lnTo>
                              <a:pt x="522" y="323"/>
                            </a:lnTo>
                            <a:lnTo>
                              <a:pt x="506" y="319"/>
                            </a:lnTo>
                            <a:lnTo>
                              <a:pt x="491" y="315"/>
                            </a:lnTo>
                            <a:lnTo>
                              <a:pt x="475" y="310"/>
                            </a:lnTo>
                            <a:lnTo>
                              <a:pt x="461" y="304"/>
                            </a:lnTo>
                            <a:lnTo>
                              <a:pt x="446" y="298"/>
                            </a:lnTo>
                            <a:lnTo>
                              <a:pt x="432" y="291"/>
                            </a:lnTo>
                            <a:lnTo>
                              <a:pt x="418" y="282"/>
                            </a:lnTo>
                            <a:lnTo>
                              <a:pt x="405" y="274"/>
                            </a:lnTo>
                            <a:lnTo>
                              <a:pt x="392" y="264"/>
                            </a:lnTo>
                            <a:lnTo>
                              <a:pt x="379" y="255"/>
                            </a:lnTo>
                            <a:lnTo>
                              <a:pt x="366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8"/>
                            </a:lnTo>
                            <a:lnTo>
                              <a:pt x="323" y="195"/>
                            </a:lnTo>
                            <a:lnTo>
                              <a:pt x="313" y="182"/>
                            </a:lnTo>
                            <a:lnTo>
                              <a:pt x="305" y="169"/>
                            </a:lnTo>
                            <a:lnTo>
                              <a:pt x="297" y="155"/>
                            </a:lnTo>
                            <a:lnTo>
                              <a:pt x="290" y="141"/>
                            </a:lnTo>
                            <a:lnTo>
                              <a:pt x="284" y="125"/>
                            </a:lnTo>
                            <a:lnTo>
                              <a:pt x="278" y="111"/>
                            </a:lnTo>
                            <a:lnTo>
                              <a:pt x="273" y="96"/>
                            </a:lnTo>
                            <a:lnTo>
                              <a:pt x="269" y="81"/>
                            </a:lnTo>
                            <a:lnTo>
                              <a:pt x="265" y="64"/>
                            </a:lnTo>
                            <a:lnTo>
                              <a:pt x="262" y="48"/>
                            </a:lnTo>
                            <a:lnTo>
                              <a:pt x="261" y="32"/>
                            </a:lnTo>
                            <a:lnTo>
                              <a:pt x="259" y="16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29"/>
                            </a:lnTo>
                            <a:lnTo>
                              <a:pt x="3" y="58"/>
                            </a:lnTo>
                            <a:lnTo>
                              <a:pt x="6" y="87"/>
                            </a:lnTo>
                            <a:lnTo>
                              <a:pt x="12" y="115"/>
                            </a:lnTo>
                            <a:lnTo>
                              <a:pt x="18" y="144"/>
                            </a:lnTo>
                            <a:lnTo>
                              <a:pt x="26" y="171"/>
                            </a:lnTo>
                            <a:lnTo>
                              <a:pt x="35" y="198"/>
                            </a:lnTo>
                            <a:lnTo>
                              <a:pt x="45" y="225"/>
                            </a:lnTo>
                            <a:lnTo>
                              <a:pt x="56" y="251"/>
                            </a:lnTo>
                            <a:lnTo>
                              <a:pt x="69" y="277"/>
                            </a:lnTo>
                            <a:lnTo>
                              <a:pt x="83" y="302"/>
                            </a:lnTo>
                            <a:lnTo>
                              <a:pt x="98" y="326"/>
                            </a:lnTo>
                            <a:lnTo>
                              <a:pt x="115" y="350"/>
                            </a:lnTo>
                            <a:lnTo>
                              <a:pt x="133" y="373"/>
                            </a:lnTo>
                            <a:lnTo>
                              <a:pt x="152" y="395"/>
                            </a:lnTo>
                            <a:lnTo>
                              <a:pt x="172" y="416"/>
                            </a:lnTo>
                            <a:lnTo>
                              <a:pt x="193" y="436"/>
                            </a:lnTo>
                            <a:lnTo>
                              <a:pt x="215" y="456"/>
                            </a:lnTo>
                            <a:lnTo>
                              <a:pt x="237" y="473"/>
                            </a:lnTo>
                            <a:lnTo>
                              <a:pt x="262" y="490"/>
                            </a:lnTo>
                            <a:lnTo>
                              <a:pt x="286" y="505"/>
                            </a:lnTo>
                            <a:lnTo>
                              <a:pt x="310" y="520"/>
                            </a:lnTo>
                            <a:lnTo>
                              <a:pt x="336" y="533"/>
                            </a:lnTo>
                            <a:lnTo>
                              <a:pt x="362" y="544"/>
                            </a:lnTo>
                            <a:lnTo>
                              <a:pt x="389" y="554"/>
                            </a:lnTo>
                            <a:lnTo>
                              <a:pt x="416" y="563"/>
                            </a:lnTo>
                            <a:lnTo>
                              <a:pt x="443" y="571"/>
                            </a:lnTo>
                            <a:lnTo>
                              <a:pt x="471" y="577"/>
                            </a:lnTo>
                            <a:lnTo>
                              <a:pt x="500" y="582"/>
                            </a:lnTo>
                            <a:lnTo>
                              <a:pt x="528" y="585"/>
                            </a:lnTo>
                            <a:lnTo>
                              <a:pt x="557" y="588"/>
                            </a:lnTo>
                            <a:lnTo>
                              <a:pt x="586" y="589"/>
                            </a:lnTo>
                            <a:lnTo>
                              <a:pt x="616" y="588"/>
                            </a:lnTo>
                            <a:lnTo>
                              <a:pt x="645" y="585"/>
                            </a:lnTo>
                            <a:lnTo>
                              <a:pt x="673" y="582"/>
                            </a:lnTo>
                            <a:lnTo>
                              <a:pt x="701" y="577"/>
                            </a:lnTo>
                            <a:lnTo>
                              <a:pt x="730" y="571"/>
                            </a:lnTo>
                            <a:lnTo>
                              <a:pt x="757" y="563"/>
                            </a:lnTo>
                            <a:lnTo>
                              <a:pt x="784" y="554"/>
                            </a:lnTo>
                            <a:lnTo>
                              <a:pt x="810" y="544"/>
                            </a:lnTo>
                            <a:lnTo>
                              <a:pt x="836" y="533"/>
                            </a:lnTo>
                            <a:lnTo>
                              <a:pt x="862" y="520"/>
                            </a:lnTo>
                            <a:lnTo>
                              <a:pt x="887" y="505"/>
                            </a:lnTo>
                            <a:lnTo>
                              <a:pt x="911" y="490"/>
                            </a:lnTo>
                            <a:lnTo>
                              <a:pt x="934" y="473"/>
                            </a:lnTo>
                            <a:lnTo>
                              <a:pt x="957" y="456"/>
                            </a:lnTo>
                            <a:lnTo>
                              <a:pt x="980" y="436"/>
                            </a:lnTo>
                            <a:lnTo>
                              <a:pt x="1001" y="416"/>
                            </a:lnTo>
                            <a:lnTo>
                              <a:pt x="1020" y="395"/>
                            </a:lnTo>
                            <a:lnTo>
                              <a:pt x="1039" y="373"/>
                            </a:lnTo>
                            <a:lnTo>
                              <a:pt x="1057" y="350"/>
                            </a:lnTo>
                            <a:lnTo>
                              <a:pt x="1073" y="326"/>
                            </a:lnTo>
                            <a:lnTo>
                              <a:pt x="1090" y="302"/>
                            </a:lnTo>
                            <a:lnTo>
                              <a:pt x="1104" y="277"/>
                            </a:lnTo>
                            <a:lnTo>
                              <a:pt x="1116" y="251"/>
                            </a:lnTo>
                            <a:lnTo>
                              <a:pt x="1128" y="225"/>
                            </a:lnTo>
                            <a:lnTo>
                              <a:pt x="1138" y="198"/>
                            </a:lnTo>
                            <a:lnTo>
                              <a:pt x="1147" y="171"/>
                            </a:lnTo>
                            <a:lnTo>
                              <a:pt x="1154" y="144"/>
                            </a:lnTo>
                            <a:lnTo>
                              <a:pt x="1161" y="115"/>
                            </a:lnTo>
                            <a:lnTo>
                              <a:pt x="1165" y="87"/>
                            </a:lnTo>
                            <a:lnTo>
                              <a:pt x="1169" y="58"/>
                            </a:lnTo>
                            <a:lnTo>
                              <a:pt x="1171" y="29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3239280" y="4149000"/>
                        <a:ext cx="2340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60">
                            <a:moveTo>
                              <a:pt x="428" y="860"/>
                            </a:moveTo>
                            <a:lnTo>
                              <a:pt x="450" y="860"/>
                            </a:lnTo>
                            <a:lnTo>
                              <a:pt x="471" y="858"/>
                            </a:lnTo>
                            <a:lnTo>
                              <a:pt x="493" y="856"/>
                            </a:lnTo>
                            <a:lnTo>
                              <a:pt x="514" y="852"/>
                            </a:lnTo>
                            <a:lnTo>
                              <a:pt x="535" y="847"/>
                            </a:lnTo>
                            <a:lnTo>
                              <a:pt x="555" y="841"/>
                            </a:lnTo>
                            <a:lnTo>
                              <a:pt x="575" y="835"/>
                            </a:lnTo>
                            <a:lnTo>
                              <a:pt x="594" y="827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49" y="798"/>
                            </a:lnTo>
                            <a:lnTo>
                              <a:pt x="667" y="787"/>
                            </a:lnTo>
                            <a:lnTo>
                              <a:pt x="684" y="775"/>
                            </a:lnTo>
                            <a:lnTo>
                              <a:pt x="700" y="763"/>
                            </a:lnTo>
                            <a:lnTo>
                              <a:pt x="715" y="749"/>
                            </a:lnTo>
                            <a:lnTo>
                              <a:pt x="730" y="734"/>
                            </a:lnTo>
                            <a:lnTo>
                              <a:pt x="744" y="720"/>
                            </a:lnTo>
                            <a:lnTo>
                              <a:pt x="757" y="704"/>
                            </a:lnTo>
                            <a:lnTo>
                              <a:pt x="770" y="688"/>
                            </a:lnTo>
                            <a:lnTo>
                              <a:pt x="783" y="670"/>
                            </a:lnTo>
                            <a:lnTo>
                              <a:pt x="794" y="653"/>
                            </a:lnTo>
                            <a:lnTo>
                              <a:pt x="804" y="636"/>
                            </a:lnTo>
                            <a:lnTo>
                              <a:pt x="813" y="617"/>
                            </a:lnTo>
                            <a:lnTo>
                              <a:pt x="822" y="598"/>
                            </a:lnTo>
                            <a:lnTo>
                              <a:pt x="829" y="578"/>
                            </a:lnTo>
                            <a:lnTo>
                              <a:pt x="836" y="559"/>
                            </a:lnTo>
                            <a:lnTo>
                              <a:pt x="842" y="538"/>
                            </a:lnTo>
                            <a:lnTo>
                              <a:pt x="847" y="517"/>
                            </a:lnTo>
                            <a:lnTo>
                              <a:pt x="850" y="496"/>
                            </a:lnTo>
                            <a:lnTo>
                              <a:pt x="853" y="475"/>
                            </a:lnTo>
                            <a:lnTo>
                              <a:pt x="855" y="453"/>
                            </a:lnTo>
                            <a:lnTo>
                              <a:pt x="855" y="430"/>
                            </a:lnTo>
                            <a:lnTo>
                              <a:pt x="855" y="409"/>
                            </a:lnTo>
                            <a:lnTo>
                              <a:pt x="853" y="387"/>
                            </a:lnTo>
                            <a:lnTo>
                              <a:pt x="850" y="365"/>
                            </a:lnTo>
                            <a:lnTo>
                              <a:pt x="847" y="344"/>
                            </a:lnTo>
                            <a:lnTo>
                              <a:pt x="842" y="323"/>
                            </a:lnTo>
                            <a:lnTo>
                              <a:pt x="836" y="303"/>
                            </a:lnTo>
                            <a:lnTo>
                              <a:pt x="829" y="283"/>
                            </a:lnTo>
                            <a:lnTo>
                              <a:pt x="822" y="263"/>
                            </a:lnTo>
                            <a:lnTo>
                              <a:pt x="813" y="245"/>
                            </a:lnTo>
                            <a:lnTo>
                              <a:pt x="804" y="226"/>
                            </a:lnTo>
                            <a:lnTo>
                              <a:pt x="794" y="208"/>
                            </a:lnTo>
                            <a:lnTo>
                              <a:pt x="783" y="190"/>
                            </a:lnTo>
                            <a:lnTo>
                              <a:pt x="770" y="174"/>
                            </a:lnTo>
                            <a:lnTo>
                              <a:pt x="757" y="158"/>
                            </a:lnTo>
                            <a:lnTo>
                              <a:pt x="744" y="141"/>
                            </a:lnTo>
                            <a:lnTo>
                              <a:pt x="730" y="127"/>
                            </a:lnTo>
                            <a:lnTo>
                              <a:pt x="715" y="113"/>
                            </a:lnTo>
                            <a:lnTo>
                              <a:pt x="700" y="99"/>
                            </a:lnTo>
                            <a:lnTo>
                              <a:pt x="684" y="87"/>
                            </a:lnTo>
                            <a:lnTo>
                              <a:pt x="667" y="74"/>
                            </a:lnTo>
                            <a:lnTo>
                              <a:pt x="649" y="63"/>
                            </a:lnTo>
                            <a:lnTo>
                              <a:pt x="631" y="53"/>
                            </a:lnTo>
                            <a:lnTo>
                              <a:pt x="613" y="43"/>
                            </a:lnTo>
                            <a:lnTo>
                              <a:pt x="594" y="35"/>
                            </a:lnTo>
                            <a:lnTo>
                              <a:pt x="575" y="27"/>
                            </a:lnTo>
                            <a:lnTo>
                              <a:pt x="555" y="20"/>
                            </a:lnTo>
                            <a:lnTo>
                              <a:pt x="535" y="15"/>
                            </a:lnTo>
                            <a:lnTo>
                              <a:pt x="514" y="10"/>
                            </a:lnTo>
                            <a:lnTo>
                              <a:pt x="493" y="6"/>
                            </a:lnTo>
                            <a:lnTo>
                              <a:pt x="471" y="4"/>
                            </a:lnTo>
                            <a:lnTo>
                              <a:pt x="450" y="2"/>
                            </a:lnTo>
                            <a:lnTo>
                              <a:pt x="428" y="0"/>
                            </a:lnTo>
                            <a:lnTo>
                              <a:pt x="405" y="2"/>
                            </a:lnTo>
                            <a:lnTo>
                              <a:pt x="384" y="4"/>
                            </a:lnTo>
                            <a:lnTo>
                              <a:pt x="362" y="6"/>
                            </a:lnTo>
                            <a:lnTo>
                              <a:pt x="342" y="10"/>
                            </a:lnTo>
                            <a:lnTo>
                              <a:pt x="321" y="15"/>
                            </a:lnTo>
                            <a:lnTo>
                              <a:pt x="301" y="20"/>
                            </a:lnTo>
                            <a:lnTo>
                              <a:pt x="280" y="27"/>
                            </a:lnTo>
                            <a:lnTo>
                              <a:pt x="261" y="35"/>
                            </a:lnTo>
                            <a:lnTo>
                              <a:pt x="242" y="43"/>
                            </a:lnTo>
                            <a:lnTo>
                              <a:pt x="224" y="53"/>
                            </a:lnTo>
                            <a:lnTo>
                              <a:pt x="206" y="63"/>
                            </a:lnTo>
                            <a:lnTo>
                              <a:pt x="189" y="74"/>
                            </a:lnTo>
                            <a:lnTo>
                              <a:pt x="171" y="87"/>
                            </a:lnTo>
                            <a:lnTo>
                              <a:pt x="155" y="99"/>
                            </a:lnTo>
                            <a:lnTo>
                              <a:pt x="140" y="113"/>
                            </a:lnTo>
                            <a:lnTo>
                              <a:pt x="125" y="127"/>
                            </a:lnTo>
                            <a:lnTo>
                              <a:pt x="111" y="141"/>
                            </a:lnTo>
                            <a:lnTo>
                              <a:pt x="98" y="158"/>
                            </a:lnTo>
                            <a:lnTo>
                              <a:pt x="85" y="174"/>
                            </a:lnTo>
                            <a:lnTo>
                              <a:pt x="73" y="190"/>
                            </a:lnTo>
                            <a:lnTo>
                              <a:pt x="62" y="208"/>
                            </a:lnTo>
                            <a:lnTo>
                              <a:pt x="51" y="226"/>
                            </a:lnTo>
                            <a:lnTo>
                              <a:pt x="42" y="245"/>
                            </a:lnTo>
                            <a:lnTo>
                              <a:pt x="33" y="263"/>
                            </a:lnTo>
                            <a:lnTo>
                              <a:pt x="26" y="283"/>
                            </a:lnTo>
                            <a:lnTo>
                              <a:pt x="19" y="303"/>
                            </a:lnTo>
                            <a:lnTo>
                              <a:pt x="13" y="323"/>
                            </a:lnTo>
                            <a:lnTo>
                              <a:pt x="9" y="344"/>
                            </a:lnTo>
                            <a:lnTo>
                              <a:pt x="5" y="365"/>
                            </a:lnTo>
                            <a:lnTo>
                              <a:pt x="2" y="387"/>
                            </a:lnTo>
                            <a:lnTo>
                              <a:pt x="1" y="409"/>
                            </a:lnTo>
                            <a:lnTo>
                              <a:pt x="0" y="430"/>
                            </a:lnTo>
                            <a:lnTo>
                              <a:pt x="1" y="453"/>
                            </a:lnTo>
                            <a:lnTo>
                              <a:pt x="2" y="475"/>
                            </a:lnTo>
                            <a:lnTo>
                              <a:pt x="5" y="496"/>
                            </a:lnTo>
                            <a:lnTo>
                              <a:pt x="9" y="517"/>
                            </a:lnTo>
                            <a:lnTo>
                              <a:pt x="13" y="538"/>
                            </a:lnTo>
                            <a:lnTo>
                              <a:pt x="19" y="559"/>
                            </a:lnTo>
                            <a:lnTo>
                              <a:pt x="26" y="578"/>
                            </a:lnTo>
                            <a:lnTo>
                              <a:pt x="33" y="598"/>
                            </a:lnTo>
                            <a:lnTo>
                              <a:pt x="42" y="617"/>
                            </a:lnTo>
                            <a:lnTo>
                              <a:pt x="51" y="636"/>
                            </a:lnTo>
                            <a:lnTo>
                              <a:pt x="62" y="653"/>
                            </a:lnTo>
                            <a:lnTo>
                              <a:pt x="73" y="670"/>
                            </a:lnTo>
                            <a:lnTo>
                              <a:pt x="85" y="688"/>
                            </a:lnTo>
                            <a:lnTo>
                              <a:pt x="98" y="704"/>
                            </a:lnTo>
                            <a:lnTo>
                              <a:pt x="111" y="720"/>
                            </a:lnTo>
                            <a:lnTo>
                              <a:pt x="125" y="734"/>
                            </a:lnTo>
                            <a:lnTo>
                              <a:pt x="140" y="749"/>
                            </a:lnTo>
                            <a:lnTo>
                              <a:pt x="155" y="763"/>
                            </a:lnTo>
                            <a:lnTo>
                              <a:pt x="171" y="775"/>
                            </a:lnTo>
                            <a:lnTo>
                              <a:pt x="189" y="787"/>
                            </a:lnTo>
                            <a:lnTo>
                              <a:pt x="206" y="798"/>
                            </a:lnTo>
                            <a:lnTo>
                              <a:pt x="224" y="808"/>
                            </a:lnTo>
                            <a:lnTo>
                              <a:pt x="242" y="818"/>
                            </a:lnTo>
                            <a:lnTo>
                              <a:pt x="261" y="827"/>
                            </a:lnTo>
                            <a:lnTo>
                              <a:pt x="280" y="835"/>
                            </a:lnTo>
                            <a:lnTo>
                              <a:pt x="301" y="841"/>
                            </a:lnTo>
                            <a:lnTo>
                              <a:pt x="321" y="847"/>
                            </a:lnTo>
                            <a:lnTo>
                              <a:pt x="342" y="852"/>
                            </a:lnTo>
                            <a:lnTo>
                              <a:pt x="362" y="856"/>
                            </a:lnTo>
                            <a:lnTo>
                              <a:pt x="384" y="858"/>
                            </a:lnTo>
                            <a:lnTo>
                              <a:pt x="405" y="860"/>
                            </a:lnTo>
                            <a:lnTo>
                              <a:pt x="428" y="86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3235320" y="4144680"/>
                        <a:ext cx="324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3" h="589">
                            <a:moveTo>
                              <a:pt x="350" y="356"/>
                            </a:moveTo>
                            <a:lnTo>
                              <a:pt x="362" y="345"/>
                            </a:lnTo>
                            <a:lnTo>
                              <a:pt x="374" y="335"/>
                            </a:lnTo>
                            <a:lnTo>
                              <a:pt x="386" y="325"/>
                            </a:lnTo>
                            <a:lnTo>
                              <a:pt x="400" y="316"/>
                            </a:lnTo>
                            <a:lnTo>
                              <a:pt x="413" y="306"/>
                            </a:lnTo>
                            <a:lnTo>
                              <a:pt x="427" y="298"/>
                            </a:lnTo>
                            <a:lnTo>
                              <a:pt x="442" y="291"/>
                            </a:lnTo>
                            <a:lnTo>
                              <a:pt x="456" y="285"/>
                            </a:lnTo>
                            <a:lnTo>
                              <a:pt x="471" y="279"/>
                            </a:lnTo>
                            <a:lnTo>
                              <a:pt x="486" y="274"/>
                            </a:lnTo>
                            <a:lnTo>
                              <a:pt x="501" y="270"/>
                            </a:lnTo>
                            <a:lnTo>
                              <a:pt x="517" y="267"/>
                            </a:lnTo>
                            <a:lnTo>
                              <a:pt x="532" y="264"/>
                            </a:lnTo>
                            <a:lnTo>
                              <a:pt x="548" y="262"/>
                            </a:lnTo>
                            <a:lnTo>
                              <a:pt x="565" y="261"/>
                            </a:lnTo>
                            <a:lnTo>
                              <a:pt x="582" y="260"/>
                            </a:lnTo>
                            <a:lnTo>
                              <a:pt x="598" y="261"/>
                            </a:lnTo>
                            <a:lnTo>
                              <a:pt x="614" y="262"/>
                            </a:lnTo>
                            <a:lnTo>
                              <a:pt x="630" y="264"/>
                            </a:lnTo>
                            <a:lnTo>
                              <a:pt x="646" y="267"/>
                            </a:lnTo>
                            <a:lnTo>
                              <a:pt x="661" y="270"/>
                            </a:lnTo>
                            <a:lnTo>
                              <a:pt x="676" y="274"/>
                            </a:lnTo>
                            <a:lnTo>
                              <a:pt x="692" y="279"/>
                            </a:lnTo>
                            <a:lnTo>
                              <a:pt x="707" y="285"/>
                            </a:lnTo>
                            <a:lnTo>
                              <a:pt x="721" y="291"/>
                            </a:lnTo>
                            <a:lnTo>
                              <a:pt x="736" y="298"/>
                            </a:lnTo>
                            <a:lnTo>
                              <a:pt x="749" y="306"/>
                            </a:lnTo>
                            <a:lnTo>
                              <a:pt x="763" y="316"/>
                            </a:lnTo>
                            <a:lnTo>
                              <a:pt x="776" y="325"/>
                            </a:lnTo>
                            <a:lnTo>
                              <a:pt x="788" y="335"/>
                            </a:lnTo>
                            <a:lnTo>
                              <a:pt x="802" y="345"/>
                            </a:lnTo>
                            <a:lnTo>
                              <a:pt x="813" y="356"/>
                            </a:lnTo>
                            <a:lnTo>
                              <a:pt x="823" y="366"/>
                            </a:lnTo>
                            <a:lnTo>
                              <a:pt x="832" y="377"/>
                            </a:lnTo>
                            <a:lnTo>
                              <a:pt x="840" y="387"/>
                            </a:lnTo>
                            <a:lnTo>
                              <a:pt x="848" y="399"/>
                            </a:lnTo>
                            <a:lnTo>
                              <a:pt x="856" y="411"/>
                            </a:lnTo>
                            <a:lnTo>
                              <a:pt x="863" y="423"/>
                            </a:lnTo>
                            <a:lnTo>
                              <a:pt x="869" y="436"/>
                            </a:lnTo>
                            <a:lnTo>
                              <a:pt x="875" y="450"/>
                            </a:lnTo>
                            <a:lnTo>
                              <a:pt x="880" y="465"/>
                            </a:lnTo>
                            <a:lnTo>
                              <a:pt x="885" y="480"/>
                            </a:lnTo>
                            <a:lnTo>
                              <a:pt x="890" y="496"/>
                            </a:lnTo>
                            <a:lnTo>
                              <a:pt x="894" y="512"/>
                            </a:lnTo>
                            <a:lnTo>
                              <a:pt x="897" y="530"/>
                            </a:lnTo>
                            <a:lnTo>
                              <a:pt x="900" y="549"/>
                            </a:lnTo>
                            <a:lnTo>
                              <a:pt x="903" y="568"/>
                            </a:lnTo>
                            <a:lnTo>
                              <a:pt x="905" y="589"/>
                            </a:lnTo>
                            <a:lnTo>
                              <a:pt x="1163" y="589"/>
                            </a:lnTo>
                            <a:lnTo>
                              <a:pt x="1161" y="556"/>
                            </a:lnTo>
                            <a:lnTo>
                              <a:pt x="1158" y="523"/>
                            </a:lnTo>
                            <a:lnTo>
                              <a:pt x="1152" y="492"/>
                            </a:lnTo>
                            <a:lnTo>
                              <a:pt x="1146" y="461"/>
                            </a:lnTo>
                            <a:lnTo>
                              <a:pt x="1140" y="432"/>
                            </a:lnTo>
                            <a:lnTo>
                              <a:pt x="1132" y="404"/>
                            </a:lnTo>
                            <a:lnTo>
                              <a:pt x="1123" y="377"/>
                            </a:lnTo>
                            <a:lnTo>
                              <a:pt x="1113" y="351"/>
                            </a:lnTo>
                            <a:lnTo>
                              <a:pt x="1102" y="326"/>
                            </a:lnTo>
                            <a:lnTo>
                              <a:pt x="1090" y="301"/>
                            </a:lnTo>
                            <a:lnTo>
                              <a:pt x="1077" y="278"/>
                            </a:lnTo>
                            <a:lnTo>
                              <a:pt x="1063" y="256"/>
                            </a:lnTo>
                            <a:lnTo>
                              <a:pt x="1048" y="233"/>
                            </a:lnTo>
                            <a:lnTo>
                              <a:pt x="1031" y="212"/>
                            </a:lnTo>
                            <a:lnTo>
                              <a:pt x="1013" y="193"/>
                            </a:lnTo>
                            <a:lnTo>
                              <a:pt x="995" y="173"/>
                            </a:lnTo>
                            <a:lnTo>
                              <a:pt x="974" y="153"/>
                            </a:lnTo>
                            <a:lnTo>
                              <a:pt x="952" y="134"/>
                            </a:lnTo>
                            <a:lnTo>
                              <a:pt x="930" y="116"/>
                            </a:lnTo>
                            <a:lnTo>
                              <a:pt x="906" y="100"/>
                            </a:lnTo>
                            <a:lnTo>
                              <a:pt x="882" y="84"/>
                            </a:lnTo>
                            <a:lnTo>
                              <a:pt x="857" y="70"/>
                            </a:lnTo>
                            <a:lnTo>
                              <a:pt x="832" y="57"/>
                            </a:lnTo>
                            <a:lnTo>
                              <a:pt x="806" y="45"/>
                            </a:lnTo>
                            <a:lnTo>
                              <a:pt x="779" y="35"/>
                            </a:lnTo>
                            <a:lnTo>
                              <a:pt x="752" y="26"/>
                            </a:lnTo>
                            <a:lnTo>
                              <a:pt x="724" y="19"/>
                            </a:lnTo>
                            <a:lnTo>
                              <a:pt x="697" y="12"/>
                            </a:lnTo>
                            <a:lnTo>
                              <a:pt x="668" y="7"/>
                            </a:lnTo>
                            <a:lnTo>
                              <a:pt x="639" y="3"/>
                            </a:lnTo>
                            <a:lnTo>
                              <a:pt x="611" y="1"/>
                            </a:lnTo>
                            <a:lnTo>
                              <a:pt x="582" y="0"/>
                            </a:lnTo>
                            <a:lnTo>
                              <a:pt x="552" y="1"/>
                            </a:lnTo>
                            <a:lnTo>
                              <a:pt x="524" y="3"/>
                            </a:lnTo>
                            <a:lnTo>
                              <a:pt x="496" y="7"/>
                            </a:lnTo>
                            <a:lnTo>
                              <a:pt x="469" y="11"/>
                            </a:lnTo>
                            <a:lnTo>
                              <a:pt x="442" y="18"/>
                            </a:lnTo>
                            <a:lnTo>
                              <a:pt x="414" y="26"/>
                            </a:lnTo>
                            <a:lnTo>
                              <a:pt x="389" y="34"/>
                            </a:lnTo>
                            <a:lnTo>
                              <a:pt x="363" y="44"/>
                            </a:lnTo>
                            <a:lnTo>
                              <a:pt x="338" y="55"/>
                            </a:lnTo>
                            <a:lnTo>
                              <a:pt x="313" y="67"/>
                            </a:lnTo>
                            <a:lnTo>
                              <a:pt x="290" y="81"/>
                            </a:lnTo>
                            <a:lnTo>
                              <a:pt x="267" y="96"/>
                            </a:lnTo>
                            <a:lnTo>
                              <a:pt x="245" y="112"/>
                            </a:lnTo>
                            <a:lnTo>
                              <a:pt x="224" y="128"/>
                            </a:lnTo>
                            <a:lnTo>
                              <a:pt x="203" y="146"/>
                            </a:lnTo>
                            <a:lnTo>
                              <a:pt x="182" y="165"/>
                            </a:lnTo>
                            <a:lnTo>
                              <a:pt x="163" y="185"/>
                            </a:lnTo>
                            <a:lnTo>
                              <a:pt x="145" y="206"/>
                            </a:lnTo>
                            <a:lnTo>
                              <a:pt x="128" y="228"/>
                            </a:lnTo>
                            <a:lnTo>
                              <a:pt x="112" y="251"/>
                            </a:lnTo>
                            <a:lnTo>
                              <a:pt x="97" y="275"/>
                            </a:lnTo>
                            <a:lnTo>
                              <a:pt x="82" y="299"/>
                            </a:lnTo>
                            <a:lnTo>
                              <a:pt x="68" y="325"/>
                            </a:lnTo>
                            <a:lnTo>
                              <a:pt x="56" y="351"/>
                            </a:lnTo>
                            <a:lnTo>
                              <a:pt x="45" y="378"/>
                            </a:lnTo>
                            <a:lnTo>
                              <a:pt x="35" y="407"/>
                            </a:lnTo>
                            <a:lnTo>
                              <a:pt x="26" y="435"/>
                            </a:lnTo>
                            <a:lnTo>
                              <a:pt x="18" y="465"/>
                            </a:lnTo>
                            <a:lnTo>
                              <a:pt x="12" y="495"/>
                            </a:lnTo>
                            <a:lnTo>
                              <a:pt x="7" y="525"/>
                            </a:lnTo>
                            <a:lnTo>
                              <a:pt x="3" y="557"/>
                            </a:lnTo>
                            <a:lnTo>
                              <a:pt x="0" y="589"/>
                            </a:lnTo>
                            <a:lnTo>
                              <a:pt x="258" y="589"/>
                            </a:lnTo>
                            <a:lnTo>
                              <a:pt x="260" y="568"/>
                            </a:lnTo>
                            <a:lnTo>
                              <a:pt x="262" y="549"/>
                            </a:lnTo>
                            <a:lnTo>
                              <a:pt x="265" y="530"/>
                            </a:lnTo>
                            <a:lnTo>
                              <a:pt x="268" y="512"/>
                            </a:lnTo>
                            <a:lnTo>
                              <a:pt x="272" y="496"/>
                            </a:lnTo>
                            <a:lnTo>
                              <a:pt x="277" y="480"/>
                            </a:lnTo>
                            <a:lnTo>
                              <a:pt x="282" y="465"/>
                            </a:lnTo>
                            <a:lnTo>
                              <a:pt x="287" y="450"/>
                            </a:lnTo>
                            <a:lnTo>
                              <a:pt x="293" y="436"/>
                            </a:lnTo>
                            <a:lnTo>
                              <a:pt x="300" y="423"/>
                            </a:lnTo>
                            <a:lnTo>
                              <a:pt x="307" y="411"/>
                            </a:lnTo>
                            <a:lnTo>
                              <a:pt x="314" y="399"/>
                            </a:lnTo>
                            <a:lnTo>
                              <a:pt x="323" y="387"/>
                            </a:lnTo>
                            <a:lnTo>
                              <a:pt x="332" y="377"/>
                            </a:lnTo>
                            <a:lnTo>
                              <a:pt x="341" y="366"/>
                            </a:lnTo>
                            <a:lnTo>
                              <a:pt x="350" y="356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" name=""/>
                      <p:cNvSpPr/>
                      <p:nvPr/>
                    </p:nvSpPr>
                    <p:spPr>
                      <a:xfrm>
                        <a:off x="3235320" y="4159440"/>
                        <a:ext cx="32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1" h="589">
                            <a:moveTo>
                              <a:pt x="913" y="0"/>
                            </a:moveTo>
                            <a:lnTo>
                              <a:pt x="912" y="17"/>
                            </a:lnTo>
                            <a:lnTo>
                              <a:pt x="911" y="34"/>
                            </a:lnTo>
                            <a:lnTo>
                              <a:pt x="909" y="51"/>
                            </a:lnTo>
                            <a:lnTo>
                              <a:pt x="906" y="67"/>
                            </a:lnTo>
                            <a:lnTo>
                              <a:pt x="902" y="82"/>
                            </a:lnTo>
                            <a:lnTo>
                              <a:pt x="898" y="99"/>
                            </a:lnTo>
                            <a:lnTo>
                              <a:pt x="893" y="114"/>
                            </a:lnTo>
                            <a:lnTo>
                              <a:pt x="887" y="129"/>
                            </a:lnTo>
                            <a:lnTo>
                              <a:pt x="880" y="143"/>
                            </a:lnTo>
                            <a:lnTo>
                              <a:pt x="873" y="157"/>
                            </a:lnTo>
                            <a:lnTo>
                              <a:pt x="865" y="171"/>
                            </a:lnTo>
                            <a:lnTo>
                              <a:pt x="857" y="185"/>
                            </a:lnTo>
                            <a:lnTo>
                              <a:pt x="848" y="198"/>
                            </a:lnTo>
                            <a:lnTo>
                              <a:pt x="838" y="210"/>
                            </a:lnTo>
                            <a:lnTo>
                              <a:pt x="828" y="222"/>
                            </a:lnTo>
                            <a:lnTo>
                              <a:pt x="817" y="233"/>
                            </a:lnTo>
                            <a:lnTo>
                              <a:pt x="806" y="244"/>
                            </a:lnTo>
                            <a:lnTo>
                              <a:pt x="793" y="255"/>
                            </a:lnTo>
                            <a:lnTo>
                              <a:pt x="781" y="264"/>
                            </a:lnTo>
                            <a:lnTo>
                              <a:pt x="768" y="274"/>
                            </a:lnTo>
                            <a:lnTo>
                              <a:pt x="755" y="282"/>
                            </a:lnTo>
                            <a:lnTo>
                              <a:pt x="741" y="290"/>
                            </a:lnTo>
                            <a:lnTo>
                              <a:pt x="727" y="297"/>
                            </a:lnTo>
                            <a:lnTo>
                              <a:pt x="713" y="303"/>
                            </a:lnTo>
                            <a:lnTo>
                              <a:pt x="698" y="309"/>
                            </a:lnTo>
                            <a:lnTo>
                              <a:pt x="683" y="314"/>
                            </a:lnTo>
                            <a:lnTo>
                              <a:pt x="667" y="319"/>
                            </a:lnTo>
                            <a:lnTo>
                              <a:pt x="651" y="323"/>
                            </a:lnTo>
                            <a:lnTo>
                              <a:pt x="635" y="326"/>
                            </a:lnTo>
                            <a:lnTo>
                              <a:pt x="619" y="328"/>
                            </a:lnTo>
                            <a:lnTo>
                              <a:pt x="602" y="330"/>
                            </a:lnTo>
                            <a:lnTo>
                              <a:pt x="586" y="330"/>
                            </a:lnTo>
                            <a:lnTo>
                              <a:pt x="569" y="330"/>
                            </a:lnTo>
                            <a:lnTo>
                              <a:pt x="552" y="328"/>
                            </a:lnTo>
                            <a:lnTo>
                              <a:pt x="536" y="327"/>
                            </a:lnTo>
                            <a:lnTo>
                              <a:pt x="521" y="324"/>
                            </a:lnTo>
                            <a:lnTo>
                              <a:pt x="505" y="319"/>
                            </a:lnTo>
                            <a:lnTo>
                              <a:pt x="490" y="315"/>
                            </a:lnTo>
                            <a:lnTo>
                              <a:pt x="475" y="310"/>
                            </a:lnTo>
                            <a:lnTo>
                              <a:pt x="460" y="304"/>
                            </a:lnTo>
                            <a:lnTo>
                              <a:pt x="446" y="298"/>
                            </a:lnTo>
                            <a:lnTo>
                              <a:pt x="431" y="291"/>
                            </a:lnTo>
                            <a:lnTo>
                              <a:pt x="417" y="283"/>
                            </a:lnTo>
                            <a:lnTo>
                              <a:pt x="403" y="275"/>
                            </a:lnTo>
                            <a:lnTo>
                              <a:pt x="390" y="265"/>
                            </a:lnTo>
                            <a:lnTo>
                              <a:pt x="378" y="256"/>
                            </a:lnTo>
                            <a:lnTo>
                              <a:pt x="366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9"/>
                            </a:lnTo>
                            <a:lnTo>
                              <a:pt x="321" y="196"/>
                            </a:lnTo>
                            <a:lnTo>
                              <a:pt x="312" y="183"/>
                            </a:lnTo>
                            <a:lnTo>
                              <a:pt x="304" y="169"/>
                            </a:lnTo>
                            <a:lnTo>
                              <a:pt x="296" y="155"/>
                            </a:lnTo>
                            <a:lnTo>
                              <a:pt x="289" y="141"/>
                            </a:lnTo>
                            <a:lnTo>
                              <a:pt x="282" y="127"/>
                            </a:lnTo>
                            <a:lnTo>
                              <a:pt x="277" y="112"/>
                            </a:lnTo>
                            <a:lnTo>
                              <a:pt x="272" y="96"/>
                            </a:lnTo>
                            <a:lnTo>
                              <a:pt x="267" y="81"/>
                            </a:lnTo>
                            <a:lnTo>
                              <a:pt x="264" y="65"/>
                            </a:lnTo>
                            <a:lnTo>
                              <a:pt x="261" y="49"/>
                            </a:lnTo>
                            <a:lnTo>
                              <a:pt x="259" y="33"/>
                            </a:lnTo>
                            <a:lnTo>
                              <a:pt x="258" y="16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30"/>
                            </a:lnTo>
                            <a:lnTo>
                              <a:pt x="3" y="59"/>
                            </a:lnTo>
                            <a:lnTo>
                              <a:pt x="6" y="87"/>
                            </a:lnTo>
                            <a:lnTo>
                              <a:pt x="11" y="116"/>
                            </a:lnTo>
                            <a:lnTo>
                              <a:pt x="17" y="144"/>
                            </a:lnTo>
                            <a:lnTo>
                              <a:pt x="25" y="171"/>
                            </a:lnTo>
                            <a:lnTo>
                              <a:pt x="34" y="199"/>
                            </a:lnTo>
                            <a:lnTo>
                              <a:pt x="44" y="226"/>
                            </a:lnTo>
                            <a:lnTo>
                              <a:pt x="55" y="252"/>
                            </a:lnTo>
                            <a:lnTo>
                              <a:pt x="68" y="278"/>
                            </a:lnTo>
                            <a:lnTo>
                              <a:pt x="82" y="302"/>
                            </a:lnTo>
                            <a:lnTo>
                              <a:pt x="98" y="327"/>
                            </a:lnTo>
                            <a:lnTo>
                              <a:pt x="115" y="351"/>
                            </a:lnTo>
                            <a:lnTo>
                              <a:pt x="132" y="373"/>
                            </a:lnTo>
                            <a:lnTo>
                              <a:pt x="151" y="396"/>
                            </a:lnTo>
                            <a:lnTo>
                              <a:pt x="171" y="417"/>
                            </a:lnTo>
                            <a:lnTo>
                              <a:pt x="192" y="437"/>
                            </a:lnTo>
                            <a:lnTo>
                              <a:pt x="215" y="456"/>
                            </a:lnTo>
                            <a:lnTo>
                              <a:pt x="237" y="474"/>
                            </a:lnTo>
                            <a:lnTo>
                              <a:pt x="261" y="491"/>
                            </a:lnTo>
                            <a:lnTo>
                              <a:pt x="285" y="506"/>
                            </a:lnTo>
                            <a:lnTo>
                              <a:pt x="309" y="520"/>
                            </a:lnTo>
                            <a:lnTo>
                              <a:pt x="335" y="533"/>
                            </a:lnTo>
                            <a:lnTo>
                              <a:pt x="361" y="545"/>
                            </a:lnTo>
                            <a:lnTo>
                              <a:pt x="388" y="555"/>
                            </a:lnTo>
                            <a:lnTo>
                              <a:pt x="414" y="564"/>
                            </a:lnTo>
                            <a:lnTo>
                              <a:pt x="442" y="572"/>
                            </a:lnTo>
                            <a:lnTo>
                              <a:pt x="470" y="578"/>
                            </a:lnTo>
                            <a:lnTo>
                              <a:pt x="499" y="583"/>
                            </a:lnTo>
                            <a:lnTo>
                              <a:pt x="527" y="586"/>
                            </a:lnTo>
                            <a:lnTo>
                              <a:pt x="556" y="588"/>
                            </a:lnTo>
                            <a:lnTo>
                              <a:pt x="586" y="589"/>
                            </a:lnTo>
                            <a:lnTo>
                              <a:pt x="615" y="588"/>
                            </a:lnTo>
                            <a:lnTo>
                              <a:pt x="643" y="586"/>
                            </a:lnTo>
                            <a:lnTo>
                              <a:pt x="672" y="583"/>
                            </a:lnTo>
                            <a:lnTo>
                              <a:pt x="701" y="578"/>
                            </a:lnTo>
                            <a:lnTo>
                              <a:pt x="728" y="572"/>
                            </a:lnTo>
                            <a:lnTo>
                              <a:pt x="756" y="564"/>
                            </a:lnTo>
                            <a:lnTo>
                              <a:pt x="783" y="555"/>
                            </a:lnTo>
                            <a:lnTo>
                              <a:pt x="810" y="545"/>
                            </a:lnTo>
                            <a:lnTo>
                              <a:pt x="836" y="533"/>
                            </a:lnTo>
                            <a:lnTo>
                              <a:pt x="861" y="520"/>
                            </a:lnTo>
                            <a:lnTo>
                              <a:pt x="886" y="506"/>
                            </a:lnTo>
                            <a:lnTo>
                              <a:pt x="910" y="491"/>
                            </a:lnTo>
                            <a:lnTo>
                              <a:pt x="934" y="474"/>
                            </a:lnTo>
                            <a:lnTo>
                              <a:pt x="956" y="456"/>
                            </a:lnTo>
                            <a:lnTo>
                              <a:pt x="978" y="437"/>
                            </a:lnTo>
                            <a:lnTo>
                              <a:pt x="999" y="417"/>
                            </a:lnTo>
                            <a:lnTo>
                              <a:pt x="1019" y="396"/>
                            </a:lnTo>
                            <a:lnTo>
                              <a:pt x="1038" y="373"/>
                            </a:lnTo>
                            <a:lnTo>
                              <a:pt x="1057" y="351"/>
                            </a:lnTo>
                            <a:lnTo>
                              <a:pt x="1073" y="327"/>
                            </a:lnTo>
                            <a:lnTo>
                              <a:pt x="1088" y="302"/>
                            </a:lnTo>
                            <a:lnTo>
                              <a:pt x="1102" y="278"/>
                            </a:lnTo>
                            <a:lnTo>
                              <a:pt x="1115" y="252"/>
                            </a:lnTo>
                            <a:lnTo>
                              <a:pt x="1126" y="226"/>
                            </a:lnTo>
                            <a:lnTo>
                              <a:pt x="1137" y="199"/>
                            </a:lnTo>
                            <a:lnTo>
                              <a:pt x="1145" y="171"/>
                            </a:lnTo>
                            <a:lnTo>
                              <a:pt x="1153" y="144"/>
                            </a:lnTo>
                            <a:lnTo>
                              <a:pt x="1159" y="116"/>
                            </a:lnTo>
                            <a:lnTo>
                              <a:pt x="1165" y="87"/>
                            </a:lnTo>
                            <a:lnTo>
                              <a:pt x="1169" y="59"/>
                            </a:lnTo>
                            <a:lnTo>
                              <a:pt x="1171" y="3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3253680" y="415584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60">
                            <a:moveTo>
                              <a:pt x="427" y="860"/>
                            </a:moveTo>
                            <a:lnTo>
                              <a:pt x="449" y="860"/>
                            </a:lnTo>
                            <a:lnTo>
                              <a:pt x="470" y="858"/>
                            </a:lnTo>
                            <a:lnTo>
                              <a:pt x="493" y="855"/>
                            </a:lnTo>
                            <a:lnTo>
                              <a:pt x="514" y="852"/>
                            </a:lnTo>
                            <a:lnTo>
                              <a:pt x="534" y="847"/>
                            </a:lnTo>
                            <a:lnTo>
                              <a:pt x="554" y="841"/>
                            </a:lnTo>
                            <a:lnTo>
                              <a:pt x="574" y="835"/>
                            </a:lnTo>
                            <a:lnTo>
                              <a:pt x="594" y="826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49" y="798"/>
                            </a:lnTo>
                            <a:lnTo>
                              <a:pt x="666" y="787"/>
                            </a:lnTo>
                            <a:lnTo>
                              <a:pt x="683" y="775"/>
                            </a:lnTo>
                            <a:lnTo>
                              <a:pt x="699" y="762"/>
                            </a:lnTo>
                            <a:lnTo>
                              <a:pt x="715" y="748"/>
                            </a:lnTo>
                            <a:lnTo>
                              <a:pt x="730" y="734"/>
                            </a:lnTo>
                            <a:lnTo>
                              <a:pt x="744" y="719"/>
                            </a:lnTo>
                            <a:lnTo>
                              <a:pt x="757" y="704"/>
                            </a:lnTo>
                            <a:lnTo>
                              <a:pt x="770" y="688"/>
                            </a:lnTo>
                            <a:lnTo>
                              <a:pt x="782" y="670"/>
                            </a:lnTo>
                            <a:lnTo>
                              <a:pt x="793" y="653"/>
                            </a:lnTo>
                            <a:lnTo>
                              <a:pt x="803" y="635"/>
                            </a:lnTo>
                            <a:lnTo>
                              <a:pt x="812" y="617"/>
                            </a:lnTo>
                            <a:lnTo>
                              <a:pt x="821" y="597"/>
                            </a:lnTo>
                            <a:lnTo>
                              <a:pt x="828" y="578"/>
                            </a:lnTo>
                            <a:lnTo>
                              <a:pt x="836" y="558"/>
                            </a:lnTo>
                            <a:lnTo>
                              <a:pt x="842" y="538"/>
                            </a:lnTo>
                            <a:lnTo>
                              <a:pt x="847" y="517"/>
                            </a:lnTo>
                            <a:lnTo>
                              <a:pt x="850" y="496"/>
                            </a:lnTo>
                            <a:lnTo>
                              <a:pt x="853" y="475"/>
                            </a:lnTo>
                            <a:lnTo>
                              <a:pt x="855" y="452"/>
                            </a:lnTo>
                            <a:lnTo>
                              <a:pt x="855" y="430"/>
                            </a:lnTo>
                            <a:lnTo>
                              <a:pt x="855" y="408"/>
                            </a:lnTo>
                            <a:lnTo>
                              <a:pt x="853" y="386"/>
                            </a:lnTo>
                            <a:lnTo>
                              <a:pt x="850" y="365"/>
                            </a:lnTo>
                            <a:lnTo>
                              <a:pt x="847" y="344"/>
                            </a:lnTo>
                            <a:lnTo>
                              <a:pt x="842" y="323"/>
                            </a:lnTo>
                            <a:lnTo>
                              <a:pt x="836" y="302"/>
                            </a:lnTo>
                            <a:lnTo>
                              <a:pt x="828" y="282"/>
                            </a:lnTo>
                            <a:lnTo>
                              <a:pt x="821" y="263"/>
                            </a:lnTo>
                            <a:lnTo>
                              <a:pt x="812" y="244"/>
                            </a:lnTo>
                            <a:lnTo>
                              <a:pt x="803" y="225"/>
                            </a:lnTo>
                            <a:lnTo>
                              <a:pt x="793" y="207"/>
                            </a:lnTo>
                            <a:lnTo>
                              <a:pt x="782" y="190"/>
                            </a:lnTo>
                            <a:lnTo>
                              <a:pt x="770" y="174"/>
                            </a:lnTo>
                            <a:lnTo>
                              <a:pt x="757" y="157"/>
                            </a:lnTo>
                            <a:lnTo>
                              <a:pt x="744" y="141"/>
                            </a:lnTo>
                            <a:lnTo>
                              <a:pt x="730" y="126"/>
                            </a:lnTo>
                            <a:lnTo>
                              <a:pt x="715" y="112"/>
                            </a:lnTo>
                            <a:lnTo>
                              <a:pt x="699" y="99"/>
                            </a:lnTo>
                            <a:lnTo>
                              <a:pt x="683" y="86"/>
                            </a:lnTo>
                            <a:lnTo>
                              <a:pt x="666" y="74"/>
                            </a:lnTo>
                            <a:lnTo>
                              <a:pt x="649" y="63"/>
                            </a:lnTo>
                            <a:lnTo>
                              <a:pt x="631" y="52"/>
                            </a:lnTo>
                            <a:lnTo>
                              <a:pt x="613" y="43"/>
                            </a:lnTo>
                            <a:lnTo>
                              <a:pt x="594" y="35"/>
                            </a:lnTo>
                            <a:lnTo>
                              <a:pt x="574" y="27"/>
                            </a:lnTo>
                            <a:lnTo>
                              <a:pt x="554" y="20"/>
                            </a:lnTo>
                            <a:lnTo>
                              <a:pt x="534" y="14"/>
                            </a:lnTo>
                            <a:lnTo>
                              <a:pt x="514" y="9"/>
                            </a:lnTo>
                            <a:lnTo>
                              <a:pt x="493" y="5"/>
                            </a:lnTo>
                            <a:lnTo>
                              <a:pt x="470" y="2"/>
                            </a:lnTo>
                            <a:lnTo>
                              <a:pt x="449" y="1"/>
                            </a:lnTo>
                            <a:lnTo>
                              <a:pt x="427" y="0"/>
                            </a:lnTo>
                            <a:lnTo>
                              <a:pt x="405" y="1"/>
                            </a:lnTo>
                            <a:lnTo>
                              <a:pt x="384" y="2"/>
                            </a:lnTo>
                            <a:lnTo>
                              <a:pt x="363" y="5"/>
                            </a:lnTo>
                            <a:lnTo>
                              <a:pt x="341" y="9"/>
                            </a:lnTo>
                            <a:lnTo>
                              <a:pt x="320" y="14"/>
                            </a:lnTo>
                            <a:lnTo>
                              <a:pt x="300" y="20"/>
                            </a:lnTo>
                            <a:lnTo>
                              <a:pt x="280" y="27"/>
                            </a:lnTo>
                            <a:lnTo>
                              <a:pt x="261" y="35"/>
                            </a:lnTo>
                            <a:lnTo>
                              <a:pt x="242" y="43"/>
                            </a:lnTo>
                            <a:lnTo>
                              <a:pt x="223" y="52"/>
                            </a:lnTo>
                            <a:lnTo>
                              <a:pt x="205" y="63"/>
                            </a:lnTo>
                            <a:lnTo>
                              <a:pt x="188" y="74"/>
                            </a:lnTo>
                            <a:lnTo>
                              <a:pt x="171" y="86"/>
                            </a:lnTo>
                            <a:lnTo>
                              <a:pt x="155" y="99"/>
                            </a:lnTo>
                            <a:lnTo>
                              <a:pt x="140" y="112"/>
                            </a:lnTo>
                            <a:lnTo>
                              <a:pt x="125" y="126"/>
                            </a:lnTo>
                            <a:lnTo>
                              <a:pt x="110" y="141"/>
                            </a:lnTo>
                            <a:lnTo>
                              <a:pt x="97" y="157"/>
                            </a:lnTo>
                            <a:lnTo>
                              <a:pt x="84" y="174"/>
                            </a:lnTo>
                            <a:lnTo>
                              <a:pt x="72" y="190"/>
                            </a:lnTo>
                            <a:lnTo>
                              <a:pt x="61" y="207"/>
                            </a:lnTo>
                            <a:lnTo>
                              <a:pt x="51" y="225"/>
                            </a:lnTo>
                            <a:lnTo>
                              <a:pt x="42" y="244"/>
                            </a:lnTo>
                            <a:lnTo>
                              <a:pt x="33" y="263"/>
                            </a:lnTo>
                            <a:lnTo>
                              <a:pt x="26" y="282"/>
                            </a:lnTo>
                            <a:lnTo>
                              <a:pt x="19" y="302"/>
                            </a:lnTo>
                            <a:lnTo>
                              <a:pt x="13" y="323"/>
                            </a:lnTo>
                            <a:lnTo>
                              <a:pt x="9" y="344"/>
                            </a:lnTo>
                            <a:lnTo>
                              <a:pt x="5" y="365"/>
                            </a:lnTo>
                            <a:lnTo>
                              <a:pt x="2" y="386"/>
                            </a:lnTo>
                            <a:lnTo>
                              <a:pt x="1" y="408"/>
                            </a:lnTo>
                            <a:lnTo>
                              <a:pt x="0" y="430"/>
                            </a:lnTo>
                            <a:lnTo>
                              <a:pt x="1" y="452"/>
                            </a:lnTo>
                            <a:lnTo>
                              <a:pt x="2" y="475"/>
                            </a:lnTo>
                            <a:lnTo>
                              <a:pt x="5" y="496"/>
                            </a:lnTo>
                            <a:lnTo>
                              <a:pt x="9" y="517"/>
                            </a:lnTo>
                            <a:lnTo>
                              <a:pt x="13" y="538"/>
                            </a:lnTo>
                            <a:lnTo>
                              <a:pt x="19" y="558"/>
                            </a:lnTo>
                            <a:lnTo>
                              <a:pt x="26" y="578"/>
                            </a:lnTo>
                            <a:lnTo>
                              <a:pt x="33" y="597"/>
                            </a:lnTo>
                            <a:lnTo>
                              <a:pt x="42" y="617"/>
                            </a:lnTo>
                            <a:lnTo>
                              <a:pt x="51" y="635"/>
                            </a:lnTo>
                            <a:lnTo>
                              <a:pt x="61" y="653"/>
                            </a:lnTo>
                            <a:lnTo>
                              <a:pt x="72" y="670"/>
                            </a:lnTo>
                            <a:lnTo>
                              <a:pt x="84" y="688"/>
                            </a:lnTo>
                            <a:lnTo>
                              <a:pt x="97" y="704"/>
                            </a:lnTo>
                            <a:lnTo>
                              <a:pt x="110" y="719"/>
                            </a:lnTo>
                            <a:lnTo>
                              <a:pt x="125" y="734"/>
                            </a:lnTo>
                            <a:lnTo>
                              <a:pt x="140" y="748"/>
                            </a:lnTo>
                            <a:lnTo>
                              <a:pt x="155" y="762"/>
                            </a:lnTo>
                            <a:lnTo>
                              <a:pt x="171" y="775"/>
                            </a:lnTo>
                            <a:lnTo>
                              <a:pt x="188" y="787"/>
                            </a:lnTo>
                            <a:lnTo>
                              <a:pt x="205" y="798"/>
                            </a:lnTo>
                            <a:lnTo>
                              <a:pt x="223" y="808"/>
                            </a:lnTo>
                            <a:lnTo>
                              <a:pt x="242" y="818"/>
                            </a:lnTo>
                            <a:lnTo>
                              <a:pt x="261" y="826"/>
                            </a:lnTo>
                            <a:lnTo>
                              <a:pt x="280" y="835"/>
                            </a:lnTo>
                            <a:lnTo>
                              <a:pt x="300" y="841"/>
                            </a:lnTo>
                            <a:lnTo>
                              <a:pt x="320" y="847"/>
                            </a:lnTo>
                            <a:lnTo>
                              <a:pt x="341" y="852"/>
                            </a:lnTo>
                            <a:lnTo>
                              <a:pt x="363" y="855"/>
                            </a:lnTo>
                            <a:lnTo>
                              <a:pt x="384" y="858"/>
                            </a:lnTo>
                            <a:lnTo>
                              <a:pt x="405" y="860"/>
                            </a:lnTo>
                            <a:lnTo>
                              <a:pt x="427" y="86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3250800" y="4152600"/>
                        <a:ext cx="313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589">
                            <a:moveTo>
                              <a:pt x="350" y="356"/>
                            </a:moveTo>
                            <a:lnTo>
                              <a:pt x="362" y="345"/>
                            </a:lnTo>
                            <a:lnTo>
                              <a:pt x="374" y="335"/>
                            </a:lnTo>
                            <a:lnTo>
                              <a:pt x="388" y="324"/>
                            </a:lnTo>
                            <a:lnTo>
                              <a:pt x="401" y="315"/>
                            </a:lnTo>
                            <a:lnTo>
                              <a:pt x="414" y="306"/>
                            </a:lnTo>
                            <a:lnTo>
                              <a:pt x="428" y="298"/>
                            </a:lnTo>
                            <a:lnTo>
                              <a:pt x="442" y="291"/>
                            </a:lnTo>
                            <a:lnTo>
                              <a:pt x="456" y="285"/>
                            </a:lnTo>
                            <a:lnTo>
                              <a:pt x="471" y="279"/>
                            </a:lnTo>
                            <a:lnTo>
                              <a:pt x="486" y="274"/>
                            </a:lnTo>
                            <a:lnTo>
                              <a:pt x="502" y="270"/>
                            </a:lnTo>
                            <a:lnTo>
                              <a:pt x="518" y="266"/>
                            </a:lnTo>
                            <a:lnTo>
                              <a:pt x="533" y="264"/>
                            </a:lnTo>
                            <a:lnTo>
                              <a:pt x="549" y="262"/>
                            </a:lnTo>
                            <a:lnTo>
                              <a:pt x="565" y="261"/>
                            </a:lnTo>
                            <a:lnTo>
                              <a:pt x="582" y="260"/>
                            </a:lnTo>
                            <a:lnTo>
                              <a:pt x="598" y="261"/>
                            </a:lnTo>
                            <a:lnTo>
                              <a:pt x="614" y="262"/>
                            </a:lnTo>
                            <a:lnTo>
                              <a:pt x="631" y="264"/>
                            </a:lnTo>
                            <a:lnTo>
                              <a:pt x="647" y="266"/>
                            </a:lnTo>
                            <a:lnTo>
                              <a:pt x="662" y="270"/>
                            </a:lnTo>
                            <a:lnTo>
                              <a:pt x="677" y="274"/>
                            </a:lnTo>
                            <a:lnTo>
                              <a:pt x="692" y="279"/>
                            </a:lnTo>
                            <a:lnTo>
                              <a:pt x="707" y="285"/>
                            </a:lnTo>
                            <a:lnTo>
                              <a:pt x="721" y="291"/>
                            </a:lnTo>
                            <a:lnTo>
                              <a:pt x="736" y="298"/>
                            </a:lnTo>
                            <a:lnTo>
                              <a:pt x="750" y="306"/>
                            </a:lnTo>
                            <a:lnTo>
                              <a:pt x="764" y="315"/>
                            </a:lnTo>
                            <a:lnTo>
                              <a:pt x="777" y="324"/>
                            </a:lnTo>
                            <a:lnTo>
                              <a:pt x="789" y="335"/>
                            </a:lnTo>
                            <a:lnTo>
                              <a:pt x="802" y="345"/>
                            </a:lnTo>
                            <a:lnTo>
                              <a:pt x="813" y="356"/>
                            </a:lnTo>
                            <a:lnTo>
                              <a:pt x="823" y="366"/>
                            </a:lnTo>
                            <a:lnTo>
                              <a:pt x="832" y="376"/>
                            </a:lnTo>
                            <a:lnTo>
                              <a:pt x="840" y="387"/>
                            </a:lnTo>
                            <a:lnTo>
                              <a:pt x="848" y="398"/>
                            </a:lnTo>
                            <a:lnTo>
                              <a:pt x="856" y="411"/>
                            </a:lnTo>
                            <a:lnTo>
                              <a:pt x="864" y="423"/>
                            </a:lnTo>
                            <a:lnTo>
                              <a:pt x="870" y="436"/>
                            </a:lnTo>
                            <a:lnTo>
                              <a:pt x="876" y="450"/>
                            </a:lnTo>
                            <a:lnTo>
                              <a:pt x="881" y="464"/>
                            </a:lnTo>
                            <a:lnTo>
                              <a:pt x="886" y="480"/>
                            </a:lnTo>
                            <a:lnTo>
                              <a:pt x="891" y="496"/>
                            </a:lnTo>
                            <a:lnTo>
                              <a:pt x="895" y="512"/>
                            </a:lnTo>
                            <a:lnTo>
                              <a:pt x="898" y="530"/>
                            </a:lnTo>
                            <a:lnTo>
                              <a:pt x="901" y="548"/>
                            </a:lnTo>
                            <a:lnTo>
                              <a:pt x="904" y="568"/>
                            </a:lnTo>
                            <a:lnTo>
                              <a:pt x="906" y="589"/>
                            </a:lnTo>
                            <a:lnTo>
                              <a:pt x="1164" y="589"/>
                            </a:lnTo>
                            <a:lnTo>
                              <a:pt x="1161" y="555"/>
                            </a:lnTo>
                            <a:lnTo>
                              <a:pt x="1158" y="522"/>
                            </a:lnTo>
                            <a:lnTo>
                              <a:pt x="1153" y="492"/>
                            </a:lnTo>
                            <a:lnTo>
                              <a:pt x="1147" y="461"/>
                            </a:lnTo>
                            <a:lnTo>
                              <a:pt x="1141" y="432"/>
                            </a:lnTo>
                            <a:lnTo>
                              <a:pt x="1133" y="404"/>
                            </a:lnTo>
                            <a:lnTo>
                              <a:pt x="1124" y="376"/>
                            </a:lnTo>
                            <a:lnTo>
                              <a:pt x="1114" y="351"/>
                            </a:lnTo>
                            <a:lnTo>
                              <a:pt x="1103" y="325"/>
                            </a:lnTo>
                            <a:lnTo>
                              <a:pt x="1090" y="301"/>
                            </a:lnTo>
                            <a:lnTo>
                              <a:pt x="1077" y="278"/>
                            </a:lnTo>
                            <a:lnTo>
                              <a:pt x="1063" y="255"/>
                            </a:lnTo>
                            <a:lnTo>
                              <a:pt x="1048" y="233"/>
                            </a:lnTo>
                            <a:lnTo>
                              <a:pt x="1032" y="212"/>
                            </a:lnTo>
                            <a:lnTo>
                              <a:pt x="1015" y="193"/>
                            </a:lnTo>
                            <a:lnTo>
                              <a:pt x="996" y="172"/>
                            </a:lnTo>
                            <a:lnTo>
                              <a:pt x="974" y="152"/>
                            </a:lnTo>
                            <a:lnTo>
                              <a:pt x="953" y="134"/>
                            </a:lnTo>
                            <a:lnTo>
                              <a:pt x="930" y="116"/>
                            </a:lnTo>
                            <a:lnTo>
                              <a:pt x="907" y="99"/>
                            </a:lnTo>
                            <a:lnTo>
                              <a:pt x="883" y="83"/>
                            </a:lnTo>
                            <a:lnTo>
                              <a:pt x="857" y="69"/>
                            </a:lnTo>
                            <a:lnTo>
                              <a:pt x="832" y="57"/>
                            </a:lnTo>
                            <a:lnTo>
                              <a:pt x="806" y="45"/>
                            </a:lnTo>
                            <a:lnTo>
                              <a:pt x="780" y="35"/>
                            </a:lnTo>
                            <a:lnTo>
                              <a:pt x="753" y="25"/>
                            </a:lnTo>
                            <a:lnTo>
                              <a:pt x="725" y="18"/>
                            </a:lnTo>
                            <a:lnTo>
                              <a:pt x="697" y="11"/>
                            </a:lnTo>
                            <a:lnTo>
                              <a:pt x="669" y="7"/>
                            </a:lnTo>
                            <a:lnTo>
                              <a:pt x="640" y="3"/>
                            </a:lnTo>
                            <a:lnTo>
                              <a:pt x="611" y="1"/>
                            </a:lnTo>
                            <a:lnTo>
                              <a:pt x="582" y="0"/>
                            </a:lnTo>
                            <a:lnTo>
                              <a:pt x="553" y="1"/>
                            </a:lnTo>
                            <a:lnTo>
                              <a:pt x="525" y="3"/>
                            </a:lnTo>
                            <a:lnTo>
                              <a:pt x="496" y="7"/>
                            </a:lnTo>
                            <a:lnTo>
                              <a:pt x="469" y="11"/>
                            </a:lnTo>
                            <a:lnTo>
                              <a:pt x="442" y="17"/>
                            </a:lnTo>
                            <a:lnTo>
                              <a:pt x="415" y="25"/>
                            </a:lnTo>
                            <a:lnTo>
                              <a:pt x="390" y="34"/>
                            </a:lnTo>
                            <a:lnTo>
                              <a:pt x="363" y="44"/>
                            </a:lnTo>
                            <a:lnTo>
                              <a:pt x="339" y="55"/>
                            </a:lnTo>
                            <a:lnTo>
                              <a:pt x="314" y="67"/>
                            </a:lnTo>
                            <a:lnTo>
                              <a:pt x="291" y="81"/>
                            </a:lnTo>
                            <a:lnTo>
                              <a:pt x="268" y="95"/>
                            </a:lnTo>
                            <a:lnTo>
                              <a:pt x="245" y="112"/>
                            </a:lnTo>
                            <a:lnTo>
                              <a:pt x="224" y="128"/>
                            </a:lnTo>
                            <a:lnTo>
                              <a:pt x="203" y="146"/>
                            </a:lnTo>
                            <a:lnTo>
                              <a:pt x="183" y="165"/>
                            </a:lnTo>
                            <a:lnTo>
                              <a:pt x="164" y="185"/>
                            </a:lnTo>
                            <a:lnTo>
                              <a:pt x="146" y="206"/>
                            </a:lnTo>
                            <a:lnTo>
                              <a:pt x="128" y="228"/>
                            </a:lnTo>
                            <a:lnTo>
                              <a:pt x="112" y="250"/>
                            </a:lnTo>
                            <a:lnTo>
                              <a:pt x="97" y="275"/>
                            </a:lnTo>
                            <a:lnTo>
                              <a:pt x="82" y="299"/>
                            </a:lnTo>
                            <a:lnTo>
                              <a:pt x="69" y="324"/>
                            </a:lnTo>
                            <a:lnTo>
                              <a:pt x="57" y="351"/>
                            </a:lnTo>
                            <a:lnTo>
                              <a:pt x="46" y="378"/>
                            </a:lnTo>
                            <a:lnTo>
                              <a:pt x="36" y="406"/>
                            </a:lnTo>
                            <a:lnTo>
                              <a:pt x="27" y="435"/>
                            </a:lnTo>
                            <a:lnTo>
                              <a:pt x="18" y="464"/>
                            </a:lnTo>
                            <a:lnTo>
                              <a:pt x="12" y="494"/>
                            </a:lnTo>
                            <a:lnTo>
                              <a:pt x="7" y="525"/>
                            </a:lnTo>
                            <a:lnTo>
                              <a:pt x="3" y="557"/>
                            </a:lnTo>
                            <a:lnTo>
                              <a:pt x="0" y="589"/>
                            </a:lnTo>
                            <a:lnTo>
                              <a:pt x="258" y="589"/>
                            </a:lnTo>
                            <a:lnTo>
                              <a:pt x="261" y="568"/>
                            </a:lnTo>
                            <a:lnTo>
                              <a:pt x="263" y="548"/>
                            </a:lnTo>
                            <a:lnTo>
                              <a:pt x="266" y="530"/>
                            </a:lnTo>
                            <a:lnTo>
                              <a:pt x="269" y="512"/>
                            </a:lnTo>
                            <a:lnTo>
                              <a:pt x="273" y="496"/>
                            </a:lnTo>
                            <a:lnTo>
                              <a:pt x="278" y="480"/>
                            </a:lnTo>
                            <a:lnTo>
                              <a:pt x="283" y="464"/>
                            </a:lnTo>
                            <a:lnTo>
                              <a:pt x="288" y="450"/>
                            </a:lnTo>
                            <a:lnTo>
                              <a:pt x="294" y="436"/>
                            </a:lnTo>
                            <a:lnTo>
                              <a:pt x="301" y="423"/>
                            </a:lnTo>
                            <a:lnTo>
                              <a:pt x="308" y="411"/>
                            </a:lnTo>
                            <a:lnTo>
                              <a:pt x="315" y="398"/>
                            </a:lnTo>
                            <a:lnTo>
                              <a:pt x="323" y="387"/>
                            </a:lnTo>
                            <a:lnTo>
                              <a:pt x="332" y="376"/>
                            </a:lnTo>
                            <a:lnTo>
                              <a:pt x="341" y="366"/>
                            </a:lnTo>
                            <a:lnTo>
                              <a:pt x="350" y="356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3250800" y="4166640"/>
                        <a:ext cx="324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1" h="589">
                            <a:moveTo>
                              <a:pt x="914" y="0"/>
                            </a:moveTo>
                            <a:lnTo>
                              <a:pt x="913" y="17"/>
                            </a:lnTo>
                            <a:lnTo>
                              <a:pt x="912" y="33"/>
                            </a:lnTo>
                            <a:lnTo>
                              <a:pt x="910" y="51"/>
                            </a:lnTo>
                            <a:lnTo>
                              <a:pt x="907" y="66"/>
                            </a:lnTo>
                            <a:lnTo>
                              <a:pt x="903" y="82"/>
                            </a:lnTo>
                            <a:lnTo>
                              <a:pt x="899" y="98"/>
                            </a:lnTo>
                            <a:lnTo>
                              <a:pt x="894" y="114"/>
                            </a:lnTo>
                            <a:lnTo>
                              <a:pt x="888" y="128"/>
                            </a:lnTo>
                            <a:lnTo>
                              <a:pt x="881" y="143"/>
                            </a:lnTo>
                            <a:lnTo>
                              <a:pt x="874" y="157"/>
                            </a:lnTo>
                            <a:lnTo>
                              <a:pt x="866" y="170"/>
                            </a:lnTo>
                            <a:lnTo>
                              <a:pt x="857" y="184"/>
                            </a:lnTo>
                            <a:lnTo>
                              <a:pt x="848" y="197"/>
                            </a:lnTo>
                            <a:lnTo>
                              <a:pt x="838" y="210"/>
                            </a:lnTo>
                            <a:lnTo>
                              <a:pt x="828" y="221"/>
                            </a:lnTo>
                            <a:lnTo>
                              <a:pt x="817" y="233"/>
                            </a:lnTo>
                            <a:lnTo>
                              <a:pt x="806" y="243"/>
                            </a:lnTo>
                            <a:lnTo>
                              <a:pt x="794" y="254"/>
                            </a:lnTo>
                            <a:lnTo>
                              <a:pt x="782" y="264"/>
                            </a:lnTo>
                            <a:lnTo>
                              <a:pt x="769" y="273"/>
                            </a:lnTo>
                            <a:lnTo>
                              <a:pt x="756" y="282"/>
                            </a:lnTo>
                            <a:lnTo>
                              <a:pt x="741" y="290"/>
                            </a:lnTo>
                            <a:lnTo>
                              <a:pt x="727" y="297"/>
                            </a:lnTo>
                            <a:lnTo>
                              <a:pt x="713" y="303"/>
                            </a:lnTo>
                            <a:lnTo>
                              <a:pt x="698" y="309"/>
                            </a:lnTo>
                            <a:lnTo>
                              <a:pt x="683" y="314"/>
                            </a:lnTo>
                            <a:lnTo>
                              <a:pt x="668" y="319"/>
                            </a:lnTo>
                            <a:lnTo>
                              <a:pt x="652" y="322"/>
                            </a:lnTo>
                            <a:lnTo>
                              <a:pt x="636" y="325"/>
                            </a:lnTo>
                            <a:lnTo>
                              <a:pt x="619" y="327"/>
                            </a:lnTo>
                            <a:lnTo>
                              <a:pt x="602" y="329"/>
                            </a:lnTo>
                            <a:lnTo>
                              <a:pt x="586" y="329"/>
                            </a:lnTo>
                            <a:lnTo>
                              <a:pt x="569" y="329"/>
                            </a:lnTo>
                            <a:lnTo>
                              <a:pt x="553" y="327"/>
                            </a:lnTo>
                            <a:lnTo>
                              <a:pt x="537" y="325"/>
                            </a:lnTo>
                            <a:lnTo>
                              <a:pt x="522" y="323"/>
                            </a:lnTo>
                            <a:lnTo>
                              <a:pt x="506" y="319"/>
                            </a:lnTo>
                            <a:lnTo>
                              <a:pt x="490" y="315"/>
                            </a:lnTo>
                            <a:lnTo>
                              <a:pt x="475" y="310"/>
                            </a:lnTo>
                            <a:lnTo>
                              <a:pt x="460" y="304"/>
                            </a:lnTo>
                            <a:lnTo>
                              <a:pt x="446" y="298"/>
                            </a:lnTo>
                            <a:lnTo>
                              <a:pt x="432" y="291"/>
                            </a:lnTo>
                            <a:lnTo>
                              <a:pt x="418" y="283"/>
                            </a:lnTo>
                            <a:lnTo>
                              <a:pt x="405" y="275"/>
                            </a:lnTo>
                            <a:lnTo>
                              <a:pt x="392" y="265"/>
                            </a:lnTo>
                            <a:lnTo>
                              <a:pt x="378" y="254"/>
                            </a:lnTo>
                            <a:lnTo>
                              <a:pt x="366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9"/>
                            </a:lnTo>
                            <a:lnTo>
                              <a:pt x="322" y="196"/>
                            </a:lnTo>
                            <a:lnTo>
                              <a:pt x="313" y="182"/>
                            </a:lnTo>
                            <a:lnTo>
                              <a:pt x="305" y="169"/>
                            </a:lnTo>
                            <a:lnTo>
                              <a:pt x="297" y="155"/>
                            </a:lnTo>
                            <a:lnTo>
                              <a:pt x="290" y="141"/>
                            </a:lnTo>
                            <a:lnTo>
                              <a:pt x="283" y="126"/>
                            </a:lnTo>
                            <a:lnTo>
                              <a:pt x="278" y="112"/>
                            </a:lnTo>
                            <a:lnTo>
                              <a:pt x="273" y="96"/>
                            </a:lnTo>
                            <a:lnTo>
                              <a:pt x="268" y="80"/>
                            </a:lnTo>
                            <a:lnTo>
                              <a:pt x="265" y="65"/>
                            </a:lnTo>
                            <a:lnTo>
                              <a:pt x="261" y="49"/>
                            </a:lnTo>
                            <a:lnTo>
                              <a:pt x="259" y="32"/>
                            </a:lnTo>
                            <a:lnTo>
                              <a:pt x="258" y="16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29"/>
                            </a:lnTo>
                            <a:lnTo>
                              <a:pt x="3" y="59"/>
                            </a:lnTo>
                            <a:lnTo>
                              <a:pt x="6" y="87"/>
                            </a:lnTo>
                            <a:lnTo>
                              <a:pt x="11" y="116"/>
                            </a:lnTo>
                            <a:lnTo>
                              <a:pt x="17" y="144"/>
                            </a:lnTo>
                            <a:lnTo>
                              <a:pt x="26" y="171"/>
                            </a:lnTo>
                            <a:lnTo>
                              <a:pt x="35" y="199"/>
                            </a:lnTo>
                            <a:lnTo>
                              <a:pt x="45" y="225"/>
                            </a:lnTo>
                            <a:lnTo>
                              <a:pt x="56" y="251"/>
                            </a:lnTo>
                            <a:lnTo>
                              <a:pt x="69" y="278"/>
                            </a:lnTo>
                            <a:lnTo>
                              <a:pt x="83" y="302"/>
                            </a:lnTo>
                            <a:lnTo>
                              <a:pt x="98" y="326"/>
                            </a:lnTo>
                            <a:lnTo>
                              <a:pt x="115" y="350"/>
                            </a:lnTo>
                            <a:lnTo>
                              <a:pt x="132" y="373"/>
                            </a:lnTo>
                            <a:lnTo>
                              <a:pt x="152" y="395"/>
                            </a:lnTo>
                            <a:lnTo>
                              <a:pt x="172" y="417"/>
                            </a:lnTo>
                            <a:lnTo>
                              <a:pt x="193" y="437"/>
                            </a:lnTo>
                            <a:lnTo>
                              <a:pt x="215" y="456"/>
                            </a:lnTo>
                            <a:lnTo>
                              <a:pt x="237" y="473"/>
                            </a:lnTo>
                            <a:lnTo>
                              <a:pt x="261" y="491"/>
                            </a:lnTo>
                            <a:lnTo>
                              <a:pt x="286" y="506"/>
                            </a:lnTo>
                            <a:lnTo>
                              <a:pt x="310" y="520"/>
                            </a:lnTo>
                            <a:lnTo>
                              <a:pt x="335" y="532"/>
                            </a:lnTo>
                            <a:lnTo>
                              <a:pt x="361" y="544"/>
                            </a:lnTo>
                            <a:lnTo>
                              <a:pt x="389" y="554"/>
                            </a:lnTo>
                            <a:lnTo>
                              <a:pt x="416" y="564"/>
                            </a:lnTo>
                            <a:lnTo>
                              <a:pt x="443" y="571"/>
                            </a:lnTo>
                            <a:lnTo>
                              <a:pt x="471" y="578"/>
                            </a:lnTo>
                            <a:lnTo>
                              <a:pt x="499" y="583"/>
                            </a:lnTo>
                            <a:lnTo>
                              <a:pt x="528" y="586"/>
                            </a:lnTo>
                            <a:lnTo>
                              <a:pt x="557" y="588"/>
                            </a:lnTo>
                            <a:lnTo>
                              <a:pt x="586" y="589"/>
                            </a:lnTo>
                            <a:lnTo>
                              <a:pt x="615" y="588"/>
                            </a:lnTo>
                            <a:lnTo>
                              <a:pt x="644" y="586"/>
                            </a:lnTo>
                            <a:lnTo>
                              <a:pt x="673" y="583"/>
                            </a:lnTo>
                            <a:lnTo>
                              <a:pt x="701" y="578"/>
                            </a:lnTo>
                            <a:lnTo>
                              <a:pt x="729" y="571"/>
                            </a:lnTo>
                            <a:lnTo>
                              <a:pt x="757" y="564"/>
                            </a:lnTo>
                            <a:lnTo>
                              <a:pt x="784" y="554"/>
                            </a:lnTo>
                            <a:lnTo>
                              <a:pt x="810" y="544"/>
                            </a:lnTo>
                            <a:lnTo>
                              <a:pt x="836" y="532"/>
                            </a:lnTo>
                            <a:lnTo>
                              <a:pt x="861" y="520"/>
                            </a:lnTo>
                            <a:lnTo>
                              <a:pt x="887" y="506"/>
                            </a:lnTo>
                            <a:lnTo>
                              <a:pt x="911" y="491"/>
                            </a:lnTo>
                            <a:lnTo>
                              <a:pt x="934" y="473"/>
                            </a:lnTo>
                            <a:lnTo>
                              <a:pt x="957" y="456"/>
                            </a:lnTo>
                            <a:lnTo>
                              <a:pt x="978" y="437"/>
                            </a:lnTo>
                            <a:lnTo>
                              <a:pt x="1000" y="417"/>
                            </a:lnTo>
                            <a:lnTo>
                              <a:pt x="1020" y="395"/>
                            </a:lnTo>
                            <a:lnTo>
                              <a:pt x="1039" y="373"/>
                            </a:lnTo>
                            <a:lnTo>
                              <a:pt x="1057" y="350"/>
                            </a:lnTo>
                            <a:lnTo>
                              <a:pt x="1073" y="326"/>
                            </a:lnTo>
                            <a:lnTo>
                              <a:pt x="1088" y="302"/>
                            </a:lnTo>
                            <a:lnTo>
                              <a:pt x="1103" y="278"/>
                            </a:lnTo>
                            <a:lnTo>
                              <a:pt x="1116" y="251"/>
                            </a:lnTo>
                            <a:lnTo>
                              <a:pt x="1128" y="225"/>
                            </a:lnTo>
                            <a:lnTo>
                              <a:pt x="1138" y="199"/>
                            </a:lnTo>
                            <a:lnTo>
                              <a:pt x="1147" y="171"/>
                            </a:lnTo>
                            <a:lnTo>
                              <a:pt x="1154" y="144"/>
                            </a:lnTo>
                            <a:lnTo>
                              <a:pt x="1160" y="116"/>
                            </a:lnTo>
                            <a:lnTo>
                              <a:pt x="1165" y="87"/>
                            </a:lnTo>
                            <a:lnTo>
                              <a:pt x="1169" y="59"/>
                            </a:lnTo>
                            <a:lnTo>
                              <a:pt x="1171" y="29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3379320" y="4025880"/>
                        <a:ext cx="25200" cy="799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120" bIns="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3376080" y="4060800"/>
                        <a:ext cx="3132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1390">
                            <a:moveTo>
                              <a:pt x="258" y="259"/>
                            </a:moveTo>
                            <a:lnTo>
                              <a:pt x="896" y="259"/>
                            </a:lnTo>
                            <a:lnTo>
                              <a:pt x="896" y="1390"/>
                            </a:lnTo>
                            <a:lnTo>
                              <a:pt x="1154" y="1390"/>
                            </a:lnTo>
                            <a:lnTo>
                              <a:pt x="1154" y="0"/>
                            </a:lnTo>
                            <a:lnTo>
                              <a:pt x="0" y="0"/>
                            </a:lnTo>
                            <a:lnTo>
                              <a:pt x="0" y="1390"/>
                            </a:lnTo>
                            <a:lnTo>
                              <a:pt x="258" y="1390"/>
                            </a:lnTo>
                            <a:lnTo>
                              <a:pt x="258" y="25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3376080" y="4054680"/>
                        <a:ext cx="3132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2282">
                            <a:moveTo>
                              <a:pt x="896" y="2022"/>
                            </a:moveTo>
                            <a:lnTo>
                              <a:pt x="258" y="2022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2282"/>
                            </a:lnTo>
                            <a:lnTo>
                              <a:pt x="1154" y="2282"/>
                            </a:lnTo>
                            <a:lnTo>
                              <a:pt x="1154" y="0"/>
                            </a:lnTo>
                            <a:lnTo>
                              <a:pt x="896" y="0"/>
                            </a:lnTo>
                            <a:lnTo>
                              <a:pt x="896" y="202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3242520" y="4036320"/>
                        <a:ext cx="137520" cy="10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77" h="4148">
                            <a:moveTo>
                              <a:pt x="45" y="3053"/>
                            </a:moveTo>
                            <a:lnTo>
                              <a:pt x="48" y="3057"/>
                            </a:lnTo>
                            <a:lnTo>
                              <a:pt x="60" y="3068"/>
                            </a:lnTo>
                            <a:lnTo>
                              <a:pt x="79" y="3086"/>
                            </a:lnTo>
                            <a:lnTo>
                              <a:pt x="103" y="3105"/>
                            </a:lnTo>
                            <a:lnTo>
                              <a:pt x="118" y="3116"/>
                            </a:lnTo>
                            <a:lnTo>
                              <a:pt x="134" y="3127"/>
                            </a:lnTo>
                            <a:lnTo>
                              <a:pt x="151" y="3137"/>
                            </a:lnTo>
                            <a:lnTo>
                              <a:pt x="170" y="3148"/>
                            </a:lnTo>
                            <a:lnTo>
                              <a:pt x="191" y="3159"/>
                            </a:lnTo>
                            <a:lnTo>
                              <a:pt x="212" y="3168"/>
                            </a:lnTo>
                            <a:lnTo>
                              <a:pt x="235" y="3176"/>
                            </a:lnTo>
                            <a:lnTo>
                              <a:pt x="258" y="3184"/>
                            </a:lnTo>
                            <a:lnTo>
                              <a:pt x="283" y="3189"/>
                            </a:lnTo>
                            <a:lnTo>
                              <a:pt x="309" y="3194"/>
                            </a:lnTo>
                            <a:lnTo>
                              <a:pt x="336" y="3196"/>
                            </a:lnTo>
                            <a:lnTo>
                              <a:pt x="363" y="3197"/>
                            </a:lnTo>
                            <a:lnTo>
                              <a:pt x="391" y="3195"/>
                            </a:lnTo>
                            <a:lnTo>
                              <a:pt x="420" y="3190"/>
                            </a:lnTo>
                            <a:lnTo>
                              <a:pt x="451" y="3183"/>
                            </a:lnTo>
                            <a:lnTo>
                              <a:pt x="481" y="3173"/>
                            </a:lnTo>
                            <a:lnTo>
                              <a:pt x="512" y="3160"/>
                            </a:lnTo>
                            <a:lnTo>
                              <a:pt x="544" y="3143"/>
                            </a:lnTo>
                            <a:lnTo>
                              <a:pt x="577" y="3123"/>
                            </a:lnTo>
                            <a:lnTo>
                              <a:pt x="609" y="3099"/>
                            </a:lnTo>
                            <a:lnTo>
                              <a:pt x="642" y="3070"/>
                            </a:lnTo>
                            <a:lnTo>
                              <a:pt x="676" y="3038"/>
                            </a:lnTo>
                            <a:lnTo>
                              <a:pt x="710" y="3000"/>
                            </a:lnTo>
                            <a:lnTo>
                              <a:pt x="744" y="2959"/>
                            </a:lnTo>
                            <a:lnTo>
                              <a:pt x="808" y="2874"/>
                            </a:lnTo>
                            <a:lnTo>
                              <a:pt x="864" y="2797"/>
                            </a:lnTo>
                            <a:lnTo>
                              <a:pt x="914" y="2726"/>
                            </a:lnTo>
                            <a:lnTo>
                              <a:pt x="956" y="2662"/>
                            </a:lnTo>
                            <a:lnTo>
                              <a:pt x="991" y="2605"/>
                            </a:lnTo>
                            <a:lnTo>
                              <a:pt x="1022" y="2554"/>
                            </a:lnTo>
                            <a:lnTo>
                              <a:pt x="1048" y="2510"/>
                            </a:lnTo>
                            <a:lnTo>
                              <a:pt x="1068" y="2471"/>
                            </a:lnTo>
                            <a:lnTo>
                              <a:pt x="1084" y="2438"/>
                            </a:lnTo>
                            <a:lnTo>
                              <a:pt x="1096" y="2409"/>
                            </a:lnTo>
                            <a:lnTo>
                              <a:pt x="1105" y="2386"/>
                            </a:lnTo>
                            <a:lnTo>
                              <a:pt x="1112" y="2368"/>
                            </a:lnTo>
                            <a:lnTo>
                              <a:pt x="1118" y="2345"/>
                            </a:lnTo>
                            <a:lnTo>
                              <a:pt x="1120" y="2338"/>
                            </a:lnTo>
                            <a:lnTo>
                              <a:pt x="1577" y="2148"/>
                            </a:lnTo>
                            <a:lnTo>
                              <a:pt x="2934" y="4148"/>
                            </a:lnTo>
                            <a:lnTo>
                              <a:pt x="4977" y="2472"/>
                            </a:lnTo>
                            <a:lnTo>
                              <a:pt x="4923" y="0"/>
                            </a:lnTo>
                            <a:lnTo>
                              <a:pt x="2760" y="392"/>
                            </a:lnTo>
                            <a:lnTo>
                              <a:pt x="2701" y="411"/>
                            </a:lnTo>
                            <a:lnTo>
                              <a:pt x="2539" y="463"/>
                            </a:lnTo>
                            <a:lnTo>
                              <a:pt x="2429" y="501"/>
                            </a:lnTo>
                            <a:lnTo>
                              <a:pt x="2303" y="546"/>
                            </a:lnTo>
                            <a:lnTo>
                              <a:pt x="2236" y="572"/>
                            </a:lnTo>
                            <a:lnTo>
                              <a:pt x="2165" y="598"/>
                            </a:lnTo>
                            <a:lnTo>
                              <a:pt x="2091" y="627"/>
                            </a:lnTo>
                            <a:lnTo>
                              <a:pt x="2017" y="656"/>
                            </a:lnTo>
                            <a:lnTo>
                              <a:pt x="1941" y="687"/>
                            </a:lnTo>
                            <a:lnTo>
                              <a:pt x="1864" y="720"/>
                            </a:lnTo>
                            <a:lnTo>
                              <a:pt x="1785" y="753"/>
                            </a:lnTo>
                            <a:lnTo>
                              <a:pt x="1707" y="788"/>
                            </a:lnTo>
                            <a:lnTo>
                              <a:pt x="1629" y="824"/>
                            </a:lnTo>
                            <a:lnTo>
                              <a:pt x="1551" y="862"/>
                            </a:lnTo>
                            <a:lnTo>
                              <a:pt x="1474" y="900"/>
                            </a:lnTo>
                            <a:lnTo>
                              <a:pt x="1399" y="940"/>
                            </a:lnTo>
                            <a:lnTo>
                              <a:pt x="1325" y="980"/>
                            </a:lnTo>
                            <a:lnTo>
                              <a:pt x="1253" y="1021"/>
                            </a:lnTo>
                            <a:lnTo>
                              <a:pt x="1185" y="1063"/>
                            </a:lnTo>
                            <a:lnTo>
                              <a:pt x="1118" y="1106"/>
                            </a:lnTo>
                            <a:lnTo>
                              <a:pt x="1056" y="1150"/>
                            </a:lnTo>
                            <a:lnTo>
                              <a:pt x="996" y="1194"/>
                            </a:lnTo>
                            <a:lnTo>
                              <a:pt x="942" y="1239"/>
                            </a:lnTo>
                            <a:lnTo>
                              <a:pt x="891" y="1283"/>
                            </a:lnTo>
                            <a:lnTo>
                              <a:pt x="844" y="1330"/>
                            </a:lnTo>
                            <a:lnTo>
                              <a:pt x="799" y="1375"/>
                            </a:lnTo>
                            <a:lnTo>
                              <a:pt x="753" y="1420"/>
                            </a:lnTo>
                            <a:lnTo>
                              <a:pt x="710" y="1466"/>
                            </a:lnTo>
                            <a:lnTo>
                              <a:pt x="668" y="1511"/>
                            </a:lnTo>
                            <a:lnTo>
                              <a:pt x="626" y="1557"/>
                            </a:lnTo>
                            <a:lnTo>
                              <a:pt x="586" y="1602"/>
                            </a:lnTo>
                            <a:lnTo>
                              <a:pt x="548" y="1646"/>
                            </a:lnTo>
                            <a:lnTo>
                              <a:pt x="509" y="1691"/>
                            </a:lnTo>
                            <a:lnTo>
                              <a:pt x="473" y="1735"/>
                            </a:lnTo>
                            <a:lnTo>
                              <a:pt x="439" y="1780"/>
                            </a:lnTo>
                            <a:lnTo>
                              <a:pt x="405" y="1824"/>
                            </a:lnTo>
                            <a:lnTo>
                              <a:pt x="372" y="1867"/>
                            </a:lnTo>
                            <a:lnTo>
                              <a:pt x="342" y="1911"/>
                            </a:lnTo>
                            <a:lnTo>
                              <a:pt x="312" y="1953"/>
                            </a:lnTo>
                            <a:lnTo>
                              <a:pt x="283" y="1996"/>
                            </a:lnTo>
                            <a:lnTo>
                              <a:pt x="256" y="2039"/>
                            </a:lnTo>
                            <a:lnTo>
                              <a:pt x="231" y="2080"/>
                            </a:lnTo>
                            <a:lnTo>
                              <a:pt x="207" y="2122"/>
                            </a:lnTo>
                            <a:lnTo>
                              <a:pt x="183" y="2163"/>
                            </a:lnTo>
                            <a:lnTo>
                              <a:pt x="161" y="2203"/>
                            </a:lnTo>
                            <a:lnTo>
                              <a:pt x="141" y="2243"/>
                            </a:lnTo>
                            <a:lnTo>
                              <a:pt x="123" y="2283"/>
                            </a:lnTo>
                            <a:lnTo>
                              <a:pt x="106" y="2321"/>
                            </a:lnTo>
                            <a:lnTo>
                              <a:pt x="90" y="2360"/>
                            </a:lnTo>
                            <a:lnTo>
                              <a:pt x="75" y="2397"/>
                            </a:lnTo>
                            <a:lnTo>
                              <a:pt x="61" y="2434"/>
                            </a:lnTo>
                            <a:lnTo>
                              <a:pt x="50" y="2470"/>
                            </a:lnTo>
                            <a:lnTo>
                              <a:pt x="39" y="2506"/>
                            </a:lnTo>
                            <a:lnTo>
                              <a:pt x="31" y="2540"/>
                            </a:lnTo>
                            <a:lnTo>
                              <a:pt x="24" y="2575"/>
                            </a:lnTo>
                            <a:lnTo>
                              <a:pt x="18" y="2607"/>
                            </a:lnTo>
                            <a:lnTo>
                              <a:pt x="9" y="2671"/>
                            </a:lnTo>
                            <a:lnTo>
                              <a:pt x="4" y="2728"/>
                            </a:lnTo>
                            <a:lnTo>
                              <a:pt x="1" y="2779"/>
                            </a:lnTo>
                            <a:lnTo>
                              <a:pt x="0" y="2825"/>
                            </a:lnTo>
                            <a:lnTo>
                              <a:pt x="0" y="2867"/>
                            </a:lnTo>
                            <a:lnTo>
                              <a:pt x="3" y="2903"/>
                            </a:lnTo>
                            <a:lnTo>
                              <a:pt x="7" y="2935"/>
                            </a:lnTo>
                            <a:lnTo>
                              <a:pt x="11" y="2962"/>
                            </a:lnTo>
                            <a:lnTo>
                              <a:pt x="16" y="2985"/>
                            </a:lnTo>
                            <a:lnTo>
                              <a:pt x="22" y="3004"/>
                            </a:lnTo>
                            <a:lnTo>
                              <a:pt x="28" y="3021"/>
                            </a:lnTo>
                            <a:lnTo>
                              <a:pt x="33" y="3033"/>
                            </a:lnTo>
                            <a:lnTo>
                              <a:pt x="41" y="3049"/>
                            </a:lnTo>
                            <a:lnTo>
                              <a:pt x="45" y="305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3239280" y="4032000"/>
                        <a:ext cx="143640" cy="11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93" h="4558">
                            <a:moveTo>
                              <a:pt x="4958" y="2512"/>
                            </a:moveTo>
                            <a:lnTo>
                              <a:pt x="3040" y="4143"/>
                            </a:lnTo>
                            <a:lnTo>
                              <a:pt x="3002" y="4067"/>
                            </a:lnTo>
                            <a:lnTo>
                              <a:pt x="2958" y="3985"/>
                            </a:lnTo>
                            <a:lnTo>
                              <a:pt x="2907" y="3893"/>
                            </a:lnTo>
                            <a:lnTo>
                              <a:pt x="2853" y="3796"/>
                            </a:lnTo>
                            <a:lnTo>
                              <a:pt x="2791" y="3692"/>
                            </a:lnTo>
                            <a:lnTo>
                              <a:pt x="2726" y="3580"/>
                            </a:lnTo>
                            <a:lnTo>
                              <a:pt x="2654" y="3463"/>
                            </a:lnTo>
                            <a:lnTo>
                              <a:pt x="2576" y="3339"/>
                            </a:lnTo>
                            <a:lnTo>
                              <a:pt x="2494" y="3209"/>
                            </a:lnTo>
                            <a:lnTo>
                              <a:pt x="2405" y="3073"/>
                            </a:lnTo>
                            <a:lnTo>
                              <a:pt x="2311" y="2933"/>
                            </a:lnTo>
                            <a:lnTo>
                              <a:pt x="2212" y="2787"/>
                            </a:lnTo>
                            <a:lnTo>
                              <a:pt x="2107" y="2636"/>
                            </a:lnTo>
                            <a:lnTo>
                              <a:pt x="1996" y="2480"/>
                            </a:lnTo>
                            <a:lnTo>
                              <a:pt x="1879" y="2320"/>
                            </a:lnTo>
                            <a:lnTo>
                              <a:pt x="1757" y="2156"/>
                            </a:lnTo>
                            <a:lnTo>
                              <a:pt x="1695" y="2075"/>
                            </a:lnTo>
                            <a:lnTo>
                              <a:pt x="1069" y="2350"/>
                            </a:lnTo>
                            <a:lnTo>
                              <a:pt x="1055" y="2413"/>
                            </a:lnTo>
                            <a:lnTo>
                              <a:pt x="1052" y="2425"/>
                            </a:lnTo>
                            <a:lnTo>
                              <a:pt x="1045" y="2453"/>
                            </a:lnTo>
                            <a:lnTo>
                              <a:pt x="1033" y="2495"/>
                            </a:lnTo>
                            <a:lnTo>
                              <a:pt x="1015" y="2549"/>
                            </a:lnTo>
                            <a:lnTo>
                              <a:pt x="1004" y="2580"/>
                            </a:lnTo>
                            <a:lnTo>
                              <a:pt x="993" y="2612"/>
                            </a:lnTo>
                            <a:lnTo>
                              <a:pt x="980" y="2647"/>
                            </a:lnTo>
                            <a:lnTo>
                              <a:pt x="965" y="2683"/>
                            </a:lnTo>
                            <a:lnTo>
                              <a:pt x="950" y="2720"/>
                            </a:lnTo>
                            <a:lnTo>
                              <a:pt x="932" y="2757"/>
                            </a:lnTo>
                            <a:lnTo>
                              <a:pt x="914" y="2796"/>
                            </a:lnTo>
                            <a:lnTo>
                              <a:pt x="893" y="2834"/>
                            </a:lnTo>
                            <a:lnTo>
                              <a:pt x="871" y="2872"/>
                            </a:lnTo>
                            <a:lnTo>
                              <a:pt x="848" y="2910"/>
                            </a:lnTo>
                            <a:lnTo>
                              <a:pt x="824" y="2947"/>
                            </a:lnTo>
                            <a:lnTo>
                              <a:pt x="798" y="2982"/>
                            </a:lnTo>
                            <a:lnTo>
                              <a:pt x="769" y="3017"/>
                            </a:lnTo>
                            <a:lnTo>
                              <a:pt x="740" y="3049"/>
                            </a:lnTo>
                            <a:lnTo>
                              <a:pt x="710" y="3078"/>
                            </a:lnTo>
                            <a:lnTo>
                              <a:pt x="677" y="3107"/>
                            </a:lnTo>
                            <a:lnTo>
                              <a:pt x="642" y="3132"/>
                            </a:lnTo>
                            <a:lnTo>
                              <a:pt x="607" y="3154"/>
                            </a:lnTo>
                            <a:lnTo>
                              <a:pt x="570" y="3173"/>
                            </a:lnTo>
                            <a:lnTo>
                              <a:pt x="530" y="3188"/>
                            </a:lnTo>
                            <a:lnTo>
                              <a:pt x="489" y="3199"/>
                            </a:lnTo>
                            <a:lnTo>
                              <a:pt x="446" y="3206"/>
                            </a:lnTo>
                            <a:lnTo>
                              <a:pt x="401" y="3208"/>
                            </a:lnTo>
                            <a:lnTo>
                              <a:pt x="355" y="3205"/>
                            </a:lnTo>
                            <a:lnTo>
                              <a:pt x="342" y="3203"/>
                            </a:lnTo>
                            <a:lnTo>
                              <a:pt x="330" y="3200"/>
                            </a:lnTo>
                            <a:lnTo>
                              <a:pt x="321" y="3197"/>
                            </a:lnTo>
                            <a:lnTo>
                              <a:pt x="312" y="3192"/>
                            </a:lnTo>
                            <a:lnTo>
                              <a:pt x="304" y="3187"/>
                            </a:lnTo>
                            <a:lnTo>
                              <a:pt x="298" y="3181"/>
                            </a:lnTo>
                            <a:lnTo>
                              <a:pt x="293" y="3174"/>
                            </a:lnTo>
                            <a:lnTo>
                              <a:pt x="288" y="3167"/>
                            </a:lnTo>
                            <a:lnTo>
                              <a:pt x="281" y="3153"/>
                            </a:lnTo>
                            <a:lnTo>
                              <a:pt x="275" y="3138"/>
                            </a:lnTo>
                            <a:lnTo>
                              <a:pt x="270" y="3122"/>
                            </a:lnTo>
                            <a:lnTo>
                              <a:pt x="266" y="3105"/>
                            </a:lnTo>
                            <a:lnTo>
                              <a:pt x="262" y="3087"/>
                            </a:lnTo>
                            <a:lnTo>
                              <a:pt x="260" y="3067"/>
                            </a:lnTo>
                            <a:lnTo>
                              <a:pt x="258" y="3046"/>
                            </a:lnTo>
                            <a:lnTo>
                              <a:pt x="257" y="3025"/>
                            </a:lnTo>
                            <a:lnTo>
                              <a:pt x="257" y="3002"/>
                            </a:lnTo>
                            <a:lnTo>
                              <a:pt x="258" y="2979"/>
                            </a:lnTo>
                            <a:lnTo>
                              <a:pt x="259" y="2955"/>
                            </a:lnTo>
                            <a:lnTo>
                              <a:pt x="261" y="2929"/>
                            </a:lnTo>
                            <a:lnTo>
                              <a:pt x="267" y="2879"/>
                            </a:lnTo>
                            <a:lnTo>
                              <a:pt x="275" y="2825"/>
                            </a:lnTo>
                            <a:lnTo>
                              <a:pt x="285" y="2771"/>
                            </a:lnTo>
                            <a:lnTo>
                              <a:pt x="297" y="2716"/>
                            </a:lnTo>
                            <a:lnTo>
                              <a:pt x="311" y="2661"/>
                            </a:lnTo>
                            <a:lnTo>
                              <a:pt x="326" y="2606"/>
                            </a:lnTo>
                            <a:lnTo>
                              <a:pt x="341" y="2552"/>
                            </a:lnTo>
                            <a:lnTo>
                              <a:pt x="357" y="2501"/>
                            </a:lnTo>
                            <a:lnTo>
                              <a:pt x="374" y="2451"/>
                            </a:lnTo>
                            <a:lnTo>
                              <a:pt x="392" y="2404"/>
                            </a:lnTo>
                            <a:lnTo>
                              <a:pt x="402" y="2390"/>
                            </a:lnTo>
                            <a:lnTo>
                              <a:pt x="432" y="2352"/>
                            </a:lnTo>
                            <a:lnTo>
                              <a:pt x="475" y="2295"/>
                            </a:lnTo>
                            <a:lnTo>
                              <a:pt x="527" y="2225"/>
                            </a:lnTo>
                            <a:lnTo>
                              <a:pt x="586" y="2149"/>
                            </a:lnTo>
                            <a:lnTo>
                              <a:pt x="645" y="2071"/>
                            </a:lnTo>
                            <a:lnTo>
                              <a:pt x="701" y="2000"/>
                            </a:lnTo>
                            <a:lnTo>
                              <a:pt x="748" y="1939"/>
                            </a:lnTo>
                            <a:lnTo>
                              <a:pt x="850" y="1819"/>
                            </a:lnTo>
                            <a:lnTo>
                              <a:pt x="960" y="1706"/>
                            </a:lnTo>
                            <a:lnTo>
                              <a:pt x="1077" y="1599"/>
                            </a:lnTo>
                            <a:lnTo>
                              <a:pt x="1201" y="1496"/>
                            </a:lnTo>
                            <a:lnTo>
                              <a:pt x="1332" y="1399"/>
                            </a:lnTo>
                            <a:lnTo>
                              <a:pt x="1469" y="1307"/>
                            </a:lnTo>
                            <a:lnTo>
                              <a:pt x="1610" y="1219"/>
                            </a:lnTo>
                            <a:lnTo>
                              <a:pt x="1757" y="1137"/>
                            </a:lnTo>
                            <a:lnTo>
                              <a:pt x="1907" y="1060"/>
                            </a:lnTo>
                            <a:lnTo>
                              <a:pt x="2060" y="987"/>
                            </a:lnTo>
                            <a:lnTo>
                              <a:pt x="2215" y="919"/>
                            </a:lnTo>
                            <a:lnTo>
                              <a:pt x="2373" y="856"/>
                            </a:lnTo>
                            <a:lnTo>
                              <a:pt x="2532" y="796"/>
                            </a:lnTo>
                            <a:lnTo>
                              <a:pt x="2691" y="740"/>
                            </a:lnTo>
                            <a:lnTo>
                              <a:pt x="2852" y="688"/>
                            </a:lnTo>
                            <a:lnTo>
                              <a:pt x="3011" y="641"/>
                            </a:lnTo>
                            <a:lnTo>
                              <a:pt x="3168" y="596"/>
                            </a:lnTo>
                            <a:lnTo>
                              <a:pt x="3325" y="555"/>
                            </a:lnTo>
                            <a:lnTo>
                              <a:pt x="3478" y="519"/>
                            </a:lnTo>
                            <a:lnTo>
                              <a:pt x="3628" y="485"/>
                            </a:lnTo>
                            <a:lnTo>
                              <a:pt x="3776" y="453"/>
                            </a:lnTo>
                            <a:lnTo>
                              <a:pt x="3918" y="426"/>
                            </a:lnTo>
                            <a:lnTo>
                              <a:pt x="4055" y="400"/>
                            </a:lnTo>
                            <a:lnTo>
                              <a:pt x="4186" y="377"/>
                            </a:lnTo>
                            <a:lnTo>
                              <a:pt x="4311" y="358"/>
                            </a:lnTo>
                            <a:lnTo>
                              <a:pt x="4430" y="340"/>
                            </a:lnTo>
                            <a:lnTo>
                              <a:pt x="4540" y="324"/>
                            </a:lnTo>
                            <a:lnTo>
                              <a:pt x="4643" y="311"/>
                            </a:lnTo>
                            <a:lnTo>
                              <a:pt x="4737" y="300"/>
                            </a:lnTo>
                            <a:lnTo>
                              <a:pt x="4821" y="291"/>
                            </a:lnTo>
                            <a:lnTo>
                              <a:pt x="4895" y="284"/>
                            </a:lnTo>
                            <a:lnTo>
                              <a:pt x="4958" y="278"/>
                            </a:lnTo>
                            <a:lnTo>
                              <a:pt x="4958" y="1422"/>
                            </a:lnTo>
                            <a:lnTo>
                              <a:pt x="5193" y="1422"/>
                            </a:lnTo>
                            <a:lnTo>
                              <a:pt x="5193" y="0"/>
                            </a:lnTo>
                            <a:lnTo>
                              <a:pt x="5080" y="8"/>
                            </a:lnTo>
                            <a:lnTo>
                              <a:pt x="5021" y="12"/>
                            </a:lnTo>
                            <a:lnTo>
                              <a:pt x="4898" y="22"/>
                            </a:lnTo>
                            <a:lnTo>
                              <a:pt x="4815" y="29"/>
                            </a:lnTo>
                            <a:lnTo>
                              <a:pt x="4719" y="40"/>
                            </a:lnTo>
                            <a:lnTo>
                              <a:pt x="4610" y="52"/>
                            </a:lnTo>
                            <a:lnTo>
                              <a:pt x="4491" y="67"/>
                            </a:lnTo>
                            <a:lnTo>
                              <a:pt x="4360" y="85"/>
                            </a:lnTo>
                            <a:lnTo>
                              <a:pt x="4221" y="105"/>
                            </a:lnTo>
                            <a:lnTo>
                              <a:pt x="4072" y="130"/>
                            </a:lnTo>
                            <a:lnTo>
                              <a:pt x="3917" y="157"/>
                            </a:lnTo>
                            <a:lnTo>
                              <a:pt x="3753" y="189"/>
                            </a:lnTo>
                            <a:lnTo>
                              <a:pt x="3584" y="224"/>
                            </a:lnTo>
                            <a:lnTo>
                              <a:pt x="3409" y="264"/>
                            </a:lnTo>
                            <a:lnTo>
                              <a:pt x="3232" y="307"/>
                            </a:lnTo>
                            <a:lnTo>
                              <a:pt x="3050" y="355"/>
                            </a:lnTo>
                            <a:lnTo>
                              <a:pt x="2866" y="409"/>
                            </a:lnTo>
                            <a:lnTo>
                              <a:pt x="2680" y="466"/>
                            </a:lnTo>
                            <a:lnTo>
                              <a:pt x="2495" y="529"/>
                            </a:lnTo>
                            <a:lnTo>
                              <a:pt x="2309" y="598"/>
                            </a:lnTo>
                            <a:lnTo>
                              <a:pt x="2125" y="673"/>
                            </a:lnTo>
                            <a:lnTo>
                              <a:pt x="1942" y="753"/>
                            </a:lnTo>
                            <a:lnTo>
                              <a:pt x="1763" y="839"/>
                            </a:lnTo>
                            <a:lnTo>
                              <a:pt x="1588" y="933"/>
                            </a:lnTo>
                            <a:lnTo>
                              <a:pt x="1418" y="1032"/>
                            </a:lnTo>
                            <a:lnTo>
                              <a:pt x="1252" y="1137"/>
                            </a:lnTo>
                            <a:lnTo>
                              <a:pt x="1095" y="1251"/>
                            </a:lnTo>
                            <a:lnTo>
                              <a:pt x="944" y="1370"/>
                            </a:lnTo>
                            <a:lnTo>
                              <a:pt x="802" y="1498"/>
                            </a:lnTo>
                            <a:lnTo>
                              <a:pt x="670" y="1634"/>
                            </a:lnTo>
                            <a:lnTo>
                              <a:pt x="546" y="1777"/>
                            </a:lnTo>
                            <a:lnTo>
                              <a:pt x="504" y="1831"/>
                            </a:lnTo>
                            <a:lnTo>
                              <a:pt x="462" y="1884"/>
                            </a:lnTo>
                            <a:lnTo>
                              <a:pt x="419" y="1939"/>
                            </a:lnTo>
                            <a:lnTo>
                              <a:pt x="377" y="1993"/>
                            </a:lnTo>
                            <a:lnTo>
                              <a:pt x="336" y="2047"/>
                            </a:lnTo>
                            <a:lnTo>
                              <a:pt x="294" y="2101"/>
                            </a:lnTo>
                            <a:lnTo>
                              <a:pt x="253" y="2155"/>
                            </a:lnTo>
                            <a:lnTo>
                              <a:pt x="213" y="2209"/>
                            </a:lnTo>
                            <a:lnTo>
                              <a:pt x="210" y="2213"/>
                            </a:lnTo>
                            <a:lnTo>
                              <a:pt x="204" y="2222"/>
                            </a:lnTo>
                            <a:lnTo>
                              <a:pt x="196" y="2234"/>
                            </a:lnTo>
                            <a:lnTo>
                              <a:pt x="186" y="2247"/>
                            </a:lnTo>
                            <a:lnTo>
                              <a:pt x="177" y="2260"/>
                            </a:lnTo>
                            <a:lnTo>
                              <a:pt x="169" y="2272"/>
                            </a:lnTo>
                            <a:lnTo>
                              <a:pt x="164" y="2280"/>
                            </a:lnTo>
                            <a:lnTo>
                              <a:pt x="162" y="2283"/>
                            </a:lnTo>
                            <a:lnTo>
                              <a:pt x="156" y="2297"/>
                            </a:lnTo>
                            <a:lnTo>
                              <a:pt x="146" y="2324"/>
                            </a:lnTo>
                            <a:lnTo>
                              <a:pt x="132" y="2361"/>
                            </a:lnTo>
                            <a:lnTo>
                              <a:pt x="116" y="2407"/>
                            </a:lnTo>
                            <a:lnTo>
                              <a:pt x="99" y="2461"/>
                            </a:lnTo>
                            <a:lnTo>
                              <a:pt x="80" y="2522"/>
                            </a:lnTo>
                            <a:lnTo>
                              <a:pt x="61" y="2588"/>
                            </a:lnTo>
                            <a:lnTo>
                              <a:pt x="52" y="2622"/>
                            </a:lnTo>
                            <a:lnTo>
                              <a:pt x="44" y="2658"/>
                            </a:lnTo>
                            <a:lnTo>
                              <a:pt x="36" y="2694"/>
                            </a:lnTo>
                            <a:lnTo>
                              <a:pt x="28" y="2732"/>
                            </a:lnTo>
                            <a:lnTo>
                              <a:pt x="22" y="2769"/>
                            </a:lnTo>
                            <a:lnTo>
                              <a:pt x="16" y="2808"/>
                            </a:lnTo>
                            <a:lnTo>
                              <a:pt x="10" y="2845"/>
                            </a:lnTo>
                            <a:lnTo>
                              <a:pt x="6" y="2884"/>
                            </a:lnTo>
                            <a:lnTo>
                              <a:pt x="3" y="2922"/>
                            </a:lnTo>
                            <a:lnTo>
                              <a:pt x="1" y="2961"/>
                            </a:lnTo>
                            <a:lnTo>
                              <a:pt x="0" y="2998"/>
                            </a:lnTo>
                            <a:lnTo>
                              <a:pt x="1" y="3036"/>
                            </a:lnTo>
                            <a:lnTo>
                              <a:pt x="3" y="3072"/>
                            </a:lnTo>
                            <a:lnTo>
                              <a:pt x="6" y="3108"/>
                            </a:lnTo>
                            <a:lnTo>
                              <a:pt x="11" y="3143"/>
                            </a:lnTo>
                            <a:lnTo>
                              <a:pt x="19" y="3178"/>
                            </a:lnTo>
                            <a:lnTo>
                              <a:pt x="27" y="3210"/>
                            </a:lnTo>
                            <a:lnTo>
                              <a:pt x="38" y="3242"/>
                            </a:lnTo>
                            <a:lnTo>
                              <a:pt x="51" y="3272"/>
                            </a:lnTo>
                            <a:lnTo>
                              <a:pt x="67" y="3300"/>
                            </a:lnTo>
                            <a:lnTo>
                              <a:pt x="79" y="3318"/>
                            </a:lnTo>
                            <a:lnTo>
                              <a:pt x="90" y="3334"/>
                            </a:lnTo>
                            <a:lnTo>
                              <a:pt x="102" y="3349"/>
                            </a:lnTo>
                            <a:lnTo>
                              <a:pt x="116" y="3363"/>
                            </a:lnTo>
                            <a:lnTo>
                              <a:pt x="129" y="3377"/>
                            </a:lnTo>
                            <a:lnTo>
                              <a:pt x="144" y="3390"/>
                            </a:lnTo>
                            <a:lnTo>
                              <a:pt x="159" y="3402"/>
                            </a:lnTo>
                            <a:lnTo>
                              <a:pt x="175" y="3412"/>
                            </a:lnTo>
                            <a:lnTo>
                              <a:pt x="193" y="3422"/>
                            </a:lnTo>
                            <a:lnTo>
                              <a:pt x="210" y="3431"/>
                            </a:lnTo>
                            <a:lnTo>
                              <a:pt x="228" y="3439"/>
                            </a:lnTo>
                            <a:lnTo>
                              <a:pt x="246" y="3445"/>
                            </a:lnTo>
                            <a:lnTo>
                              <a:pt x="265" y="3451"/>
                            </a:lnTo>
                            <a:lnTo>
                              <a:pt x="285" y="3456"/>
                            </a:lnTo>
                            <a:lnTo>
                              <a:pt x="305" y="3461"/>
                            </a:lnTo>
                            <a:lnTo>
                              <a:pt x="327" y="3464"/>
                            </a:lnTo>
                            <a:lnTo>
                              <a:pt x="385" y="3468"/>
                            </a:lnTo>
                            <a:lnTo>
                              <a:pt x="442" y="3468"/>
                            </a:lnTo>
                            <a:lnTo>
                              <a:pt x="496" y="3463"/>
                            </a:lnTo>
                            <a:lnTo>
                              <a:pt x="549" y="3453"/>
                            </a:lnTo>
                            <a:lnTo>
                              <a:pt x="598" y="3440"/>
                            </a:lnTo>
                            <a:lnTo>
                              <a:pt x="646" y="3424"/>
                            </a:lnTo>
                            <a:lnTo>
                              <a:pt x="693" y="3405"/>
                            </a:lnTo>
                            <a:lnTo>
                              <a:pt x="737" y="3381"/>
                            </a:lnTo>
                            <a:lnTo>
                              <a:pt x="778" y="3355"/>
                            </a:lnTo>
                            <a:lnTo>
                              <a:pt x="819" y="3327"/>
                            </a:lnTo>
                            <a:lnTo>
                              <a:pt x="857" y="3295"/>
                            </a:lnTo>
                            <a:lnTo>
                              <a:pt x="894" y="3263"/>
                            </a:lnTo>
                            <a:lnTo>
                              <a:pt x="929" y="3227"/>
                            </a:lnTo>
                            <a:lnTo>
                              <a:pt x="962" y="3191"/>
                            </a:lnTo>
                            <a:lnTo>
                              <a:pt x="993" y="3152"/>
                            </a:lnTo>
                            <a:lnTo>
                              <a:pt x="1022" y="3114"/>
                            </a:lnTo>
                            <a:lnTo>
                              <a:pt x="1051" y="3073"/>
                            </a:lnTo>
                            <a:lnTo>
                              <a:pt x="1077" y="3033"/>
                            </a:lnTo>
                            <a:lnTo>
                              <a:pt x="1101" y="2992"/>
                            </a:lnTo>
                            <a:lnTo>
                              <a:pt x="1124" y="2951"/>
                            </a:lnTo>
                            <a:lnTo>
                              <a:pt x="1145" y="2909"/>
                            </a:lnTo>
                            <a:lnTo>
                              <a:pt x="1166" y="2869"/>
                            </a:lnTo>
                            <a:lnTo>
                              <a:pt x="1184" y="2828"/>
                            </a:lnTo>
                            <a:lnTo>
                              <a:pt x="1201" y="2789"/>
                            </a:lnTo>
                            <a:lnTo>
                              <a:pt x="1217" y="2751"/>
                            </a:lnTo>
                            <a:lnTo>
                              <a:pt x="1231" y="2715"/>
                            </a:lnTo>
                            <a:lnTo>
                              <a:pt x="1244" y="2679"/>
                            </a:lnTo>
                            <a:lnTo>
                              <a:pt x="1255" y="2646"/>
                            </a:lnTo>
                            <a:lnTo>
                              <a:pt x="1275" y="2585"/>
                            </a:lnTo>
                            <a:lnTo>
                              <a:pt x="1290" y="2535"/>
                            </a:lnTo>
                            <a:lnTo>
                              <a:pt x="1611" y="2394"/>
                            </a:lnTo>
                            <a:lnTo>
                              <a:pt x="1695" y="2507"/>
                            </a:lnTo>
                            <a:lnTo>
                              <a:pt x="1775" y="2616"/>
                            </a:lnTo>
                            <a:lnTo>
                              <a:pt x="1851" y="2724"/>
                            </a:lnTo>
                            <a:lnTo>
                              <a:pt x="1925" y="2827"/>
                            </a:lnTo>
                            <a:lnTo>
                              <a:pt x="1996" y="2928"/>
                            </a:lnTo>
                            <a:lnTo>
                              <a:pt x="2062" y="3027"/>
                            </a:lnTo>
                            <a:lnTo>
                              <a:pt x="2127" y="3122"/>
                            </a:lnTo>
                            <a:lnTo>
                              <a:pt x="2188" y="3214"/>
                            </a:lnTo>
                            <a:lnTo>
                              <a:pt x="2247" y="3304"/>
                            </a:lnTo>
                            <a:lnTo>
                              <a:pt x="2303" y="3391"/>
                            </a:lnTo>
                            <a:lnTo>
                              <a:pt x="2356" y="3474"/>
                            </a:lnTo>
                            <a:lnTo>
                              <a:pt x="2406" y="3554"/>
                            </a:lnTo>
                            <a:lnTo>
                              <a:pt x="2498" y="3704"/>
                            </a:lnTo>
                            <a:lnTo>
                              <a:pt x="2578" y="3841"/>
                            </a:lnTo>
                            <a:lnTo>
                              <a:pt x="2650" y="3963"/>
                            </a:lnTo>
                            <a:lnTo>
                              <a:pt x="2711" y="4072"/>
                            </a:lnTo>
                            <a:lnTo>
                              <a:pt x="2761" y="4166"/>
                            </a:lnTo>
                            <a:lnTo>
                              <a:pt x="2802" y="4245"/>
                            </a:lnTo>
                            <a:lnTo>
                              <a:pt x="2859" y="4357"/>
                            </a:lnTo>
                            <a:lnTo>
                              <a:pt x="2880" y="4402"/>
                            </a:lnTo>
                            <a:lnTo>
                              <a:pt x="2951" y="4558"/>
                            </a:lnTo>
                            <a:lnTo>
                              <a:pt x="3081" y="4448"/>
                            </a:lnTo>
                            <a:lnTo>
                              <a:pt x="5193" y="2671"/>
                            </a:lnTo>
                            <a:lnTo>
                              <a:pt x="5193" y="1422"/>
                            </a:lnTo>
                            <a:lnTo>
                              <a:pt x="4958" y="1422"/>
                            </a:lnTo>
                            <a:lnTo>
                              <a:pt x="4958" y="251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3027600" y="3803040"/>
                        <a:ext cx="501480" cy="261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" rIns="9000" tIns="9000" bIns="9000" anchor="t">
                        <a:spAutoFit/>
                      </a:bodyPr>
                      <a:p>
                        <a:pPr algn="ctr">
                          <a:lnSpc>
                            <a:spcPct val="8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0000cc"/>
                            </a:solidFill>
                            <a:latin typeface="Tahoma"/>
                            <a:ea typeface="宋体"/>
                          </a:rPr>
                          <a:t>Healthcar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9" name=""/>
                      <p:cNvGrpSpPr/>
                      <p:nvPr/>
                    </p:nvGrpSpPr>
                    <p:grpSpPr>
                      <a:xfrm>
                        <a:off x="3328920" y="3878280"/>
                        <a:ext cx="117360" cy="113400"/>
                        <a:chOff x="3328920" y="3878280"/>
                        <a:chExt cx="117360" cy="113400"/>
                      </a:xfrm>
                    </p:grpSpPr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3328920" y="3878280"/>
                          <a:ext cx="117360" cy="11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49" h="1437">
                              <a:moveTo>
                                <a:pt x="1116" y="632"/>
                              </a:moveTo>
                              <a:lnTo>
                                <a:pt x="1172" y="632"/>
                              </a:lnTo>
                              <a:lnTo>
                                <a:pt x="1188" y="631"/>
                              </a:lnTo>
                              <a:lnTo>
                                <a:pt x="1202" y="626"/>
                              </a:lnTo>
                              <a:lnTo>
                                <a:pt x="1215" y="620"/>
                              </a:lnTo>
                              <a:lnTo>
                                <a:pt x="1226" y="611"/>
                              </a:lnTo>
                              <a:lnTo>
                                <a:pt x="1237" y="601"/>
                              </a:lnTo>
                              <a:lnTo>
                                <a:pt x="1244" y="589"/>
                              </a:lnTo>
                              <a:lnTo>
                                <a:pt x="1248" y="576"/>
                              </a:lnTo>
                              <a:lnTo>
                                <a:pt x="1249" y="563"/>
                              </a:lnTo>
                              <a:lnTo>
                                <a:pt x="1248" y="549"/>
                              </a:lnTo>
                              <a:lnTo>
                                <a:pt x="1244" y="535"/>
                              </a:lnTo>
                              <a:lnTo>
                                <a:pt x="1237" y="522"/>
                              </a:lnTo>
                              <a:lnTo>
                                <a:pt x="1226" y="512"/>
                              </a:lnTo>
                              <a:lnTo>
                                <a:pt x="1215" y="504"/>
                              </a:lnTo>
                              <a:lnTo>
                                <a:pt x="1202" y="497"/>
                              </a:lnTo>
                              <a:lnTo>
                                <a:pt x="1188" y="492"/>
                              </a:lnTo>
                              <a:lnTo>
                                <a:pt x="1172" y="491"/>
                              </a:lnTo>
                              <a:lnTo>
                                <a:pt x="746" y="491"/>
                              </a:lnTo>
                              <a:lnTo>
                                <a:pt x="962" y="274"/>
                              </a:lnTo>
                              <a:lnTo>
                                <a:pt x="972" y="280"/>
                              </a:lnTo>
                              <a:lnTo>
                                <a:pt x="982" y="286"/>
                              </a:lnTo>
                              <a:lnTo>
                                <a:pt x="992" y="291"/>
                              </a:lnTo>
                              <a:lnTo>
                                <a:pt x="1003" y="295"/>
                              </a:lnTo>
                              <a:lnTo>
                                <a:pt x="1014" y="297"/>
                              </a:lnTo>
                              <a:lnTo>
                                <a:pt x="1026" y="300"/>
                              </a:lnTo>
                              <a:lnTo>
                                <a:pt x="1037" y="302"/>
                              </a:lnTo>
                              <a:lnTo>
                                <a:pt x="1050" y="302"/>
                              </a:lnTo>
                              <a:lnTo>
                                <a:pt x="1080" y="299"/>
                              </a:lnTo>
                              <a:lnTo>
                                <a:pt x="1109" y="291"/>
                              </a:lnTo>
                              <a:lnTo>
                                <a:pt x="1134" y="277"/>
                              </a:lnTo>
                              <a:lnTo>
                                <a:pt x="1157" y="257"/>
                              </a:lnTo>
                              <a:lnTo>
                                <a:pt x="1176" y="235"/>
                              </a:lnTo>
                              <a:lnTo>
                                <a:pt x="1189" y="210"/>
                              </a:lnTo>
                              <a:lnTo>
                                <a:pt x="1198" y="181"/>
                              </a:lnTo>
                              <a:lnTo>
                                <a:pt x="1201" y="151"/>
                              </a:lnTo>
                              <a:lnTo>
                                <a:pt x="1198" y="120"/>
                              </a:lnTo>
                              <a:lnTo>
                                <a:pt x="1189" y="92"/>
                              </a:lnTo>
                              <a:lnTo>
                                <a:pt x="1176" y="66"/>
                              </a:lnTo>
                              <a:lnTo>
                                <a:pt x="1157" y="44"/>
                              </a:lnTo>
                              <a:lnTo>
                                <a:pt x="1134" y="25"/>
                              </a:lnTo>
                              <a:lnTo>
                                <a:pt x="1109" y="12"/>
                              </a:lnTo>
                              <a:lnTo>
                                <a:pt x="1080" y="4"/>
                              </a:lnTo>
                              <a:lnTo>
                                <a:pt x="1050" y="0"/>
                              </a:lnTo>
                              <a:lnTo>
                                <a:pt x="1019" y="4"/>
                              </a:lnTo>
                              <a:lnTo>
                                <a:pt x="991" y="12"/>
                              </a:lnTo>
                              <a:lnTo>
                                <a:pt x="965" y="25"/>
                              </a:lnTo>
                              <a:lnTo>
                                <a:pt x="943" y="44"/>
                              </a:lnTo>
                              <a:lnTo>
                                <a:pt x="924" y="66"/>
                              </a:lnTo>
                              <a:lnTo>
                                <a:pt x="909" y="92"/>
                              </a:lnTo>
                              <a:lnTo>
                                <a:pt x="901" y="120"/>
                              </a:lnTo>
                              <a:lnTo>
                                <a:pt x="898" y="151"/>
                              </a:lnTo>
                              <a:lnTo>
                                <a:pt x="899" y="165"/>
                              </a:lnTo>
                              <a:lnTo>
                                <a:pt x="900" y="178"/>
                              </a:lnTo>
                              <a:lnTo>
                                <a:pt x="904" y="190"/>
                              </a:lnTo>
                              <a:lnTo>
                                <a:pt x="907" y="203"/>
                              </a:lnTo>
                              <a:lnTo>
                                <a:pt x="913" y="214"/>
                              </a:lnTo>
                              <a:lnTo>
                                <a:pt x="919" y="226"/>
                              </a:lnTo>
                              <a:lnTo>
                                <a:pt x="926" y="236"/>
                              </a:lnTo>
                              <a:lnTo>
                                <a:pt x="934" y="247"/>
                              </a:lnTo>
                              <a:lnTo>
                                <a:pt x="696" y="484"/>
                              </a:lnTo>
                              <a:lnTo>
                                <a:pt x="703" y="491"/>
                              </a:lnTo>
                              <a:lnTo>
                                <a:pt x="534" y="491"/>
                              </a:lnTo>
                              <a:lnTo>
                                <a:pt x="77" y="491"/>
                              </a:lnTo>
                              <a:lnTo>
                                <a:pt x="61" y="492"/>
                              </a:lnTo>
                              <a:lnTo>
                                <a:pt x="47" y="497"/>
                              </a:lnTo>
                              <a:lnTo>
                                <a:pt x="35" y="504"/>
                              </a:lnTo>
                              <a:lnTo>
                                <a:pt x="23" y="512"/>
                              </a:lnTo>
                              <a:lnTo>
                                <a:pt x="13" y="522"/>
                              </a:lnTo>
                              <a:lnTo>
                                <a:pt x="6" y="535"/>
                              </a:lnTo>
                              <a:lnTo>
                                <a:pt x="1" y="549"/>
                              </a:lnTo>
                              <a:lnTo>
                                <a:pt x="0" y="563"/>
                              </a:lnTo>
                              <a:lnTo>
                                <a:pt x="1" y="576"/>
                              </a:lnTo>
                              <a:lnTo>
                                <a:pt x="6" y="589"/>
                              </a:lnTo>
                              <a:lnTo>
                                <a:pt x="13" y="601"/>
                              </a:lnTo>
                              <a:lnTo>
                                <a:pt x="23" y="611"/>
                              </a:lnTo>
                              <a:lnTo>
                                <a:pt x="35" y="620"/>
                              </a:lnTo>
                              <a:lnTo>
                                <a:pt x="47" y="626"/>
                              </a:lnTo>
                              <a:lnTo>
                                <a:pt x="61" y="631"/>
                              </a:lnTo>
                              <a:lnTo>
                                <a:pt x="77" y="632"/>
                              </a:lnTo>
                              <a:lnTo>
                                <a:pt x="158" y="632"/>
                              </a:lnTo>
                              <a:lnTo>
                                <a:pt x="173" y="647"/>
                              </a:lnTo>
                              <a:lnTo>
                                <a:pt x="197" y="673"/>
                              </a:lnTo>
                              <a:lnTo>
                                <a:pt x="226" y="708"/>
                              </a:lnTo>
                              <a:lnTo>
                                <a:pt x="258" y="750"/>
                              </a:lnTo>
                              <a:lnTo>
                                <a:pt x="287" y="800"/>
                              </a:lnTo>
                              <a:lnTo>
                                <a:pt x="312" y="854"/>
                              </a:lnTo>
                              <a:lnTo>
                                <a:pt x="331" y="911"/>
                              </a:lnTo>
                              <a:lnTo>
                                <a:pt x="337" y="969"/>
                              </a:lnTo>
                              <a:lnTo>
                                <a:pt x="334" y="1022"/>
                              </a:lnTo>
                              <a:lnTo>
                                <a:pt x="330" y="1072"/>
                              </a:lnTo>
                              <a:lnTo>
                                <a:pt x="322" y="1118"/>
                              </a:lnTo>
                              <a:lnTo>
                                <a:pt x="312" y="1159"/>
                              </a:lnTo>
                              <a:lnTo>
                                <a:pt x="302" y="1198"/>
                              </a:lnTo>
                              <a:lnTo>
                                <a:pt x="291" y="1231"/>
                              </a:lnTo>
                              <a:lnTo>
                                <a:pt x="278" y="1260"/>
                              </a:lnTo>
                              <a:lnTo>
                                <a:pt x="268" y="1284"/>
                              </a:lnTo>
                              <a:lnTo>
                                <a:pt x="162" y="1284"/>
                              </a:lnTo>
                              <a:lnTo>
                                <a:pt x="147" y="1285"/>
                              </a:lnTo>
                              <a:lnTo>
                                <a:pt x="132" y="1290"/>
                              </a:lnTo>
                              <a:lnTo>
                                <a:pt x="119" y="1297"/>
                              </a:lnTo>
                              <a:lnTo>
                                <a:pt x="107" y="1307"/>
                              </a:lnTo>
                              <a:lnTo>
                                <a:pt x="98" y="1319"/>
                              </a:lnTo>
                              <a:lnTo>
                                <a:pt x="91" y="1331"/>
                              </a:lnTo>
                              <a:lnTo>
                                <a:pt x="87" y="1345"/>
                              </a:lnTo>
                              <a:lnTo>
                                <a:pt x="85" y="1361"/>
                              </a:lnTo>
                              <a:lnTo>
                                <a:pt x="87" y="1376"/>
                              </a:lnTo>
                              <a:lnTo>
                                <a:pt x="91" y="1390"/>
                              </a:lnTo>
                              <a:lnTo>
                                <a:pt x="98" y="1404"/>
                              </a:lnTo>
                              <a:lnTo>
                                <a:pt x="107" y="1414"/>
                              </a:lnTo>
                              <a:lnTo>
                                <a:pt x="119" y="1425"/>
                              </a:lnTo>
                              <a:lnTo>
                                <a:pt x="132" y="1431"/>
                              </a:lnTo>
                              <a:lnTo>
                                <a:pt x="147" y="1436"/>
                              </a:lnTo>
                              <a:lnTo>
                                <a:pt x="162" y="1437"/>
                              </a:lnTo>
                              <a:lnTo>
                                <a:pt x="1125" y="1437"/>
                              </a:lnTo>
                              <a:lnTo>
                                <a:pt x="1140" y="1436"/>
                              </a:lnTo>
                              <a:lnTo>
                                <a:pt x="1155" y="1431"/>
                              </a:lnTo>
                              <a:lnTo>
                                <a:pt x="1168" y="1425"/>
                              </a:lnTo>
                              <a:lnTo>
                                <a:pt x="1179" y="1414"/>
                              </a:lnTo>
                              <a:lnTo>
                                <a:pt x="1188" y="1404"/>
                              </a:lnTo>
                              <a:lnTo>
                                <a:pt x="1195" y="1390"/>
                              </a:lnTo>
                              <a:lnTo>
                                <a:pt x="1200" y="1376"/>
                              </a:lnTo>
                              <a:lnTo>
                                <a:pt x="1201" y="1361"/>
                              </a:lnTo>
                              <a:lnTo>
                                <a:pt x="1200" y="1345"/>
                              </a:lnTo>
                              <a:lnTo>
                                <a:pt x="1195" y="1331"/>
                              </a:lnTo>
                              <a:lnTo>
                                <a:pt x="1188" y="1319"/>
                              </a:lnTo>
                              <a:lnTo>
                                <a:pt x="1179" y="1307"/>
                              </a:lnTo>
                              <a:lnTo>
                                <a:pt x="1168" y="1297"/>
                              </a:lnTo>
                              <a:lnTo>
                                <a:pt x="1155" y="1290"/>
                              </a:lnTo>
                              <a:lnTo>
                                <a:pt x="1140" y="1285"/>
                              </a:lnTo>
                              <a:lnTo>
                                <a:pt x="1125" y="1284"/>
                              </a:lnTo>
                              <a:lnTo>
                                <a:pt x="1022" y="1284"/>
                              </a:lnTo>
                              <a:lnTo>
                                <a:pt x="1010" y="1267"/>
                              </a:lnTo>
                              <a:lnTo>
                                <a:pt x="996" y="1245"/>
                              </a:lnTo>
                              <a:lnTo>
                                <a:pt x="982" y="1216"/>
                              </a:lnTo>
                              <a:lnTo>
                                <a:pt x="968" y="1183"/>
                              </a:lnTo>
                              <a:lnTo>
                                <a:pt x="956" y="1142"/>
                              </a:lnTo>
                              <a:lnTo>
                                <a:pt x="945" y="1095"/>
                              </a:lnTo>
                              <a:lnTo>
                                <a:pt x="938" y="1041"/>
                              </a:lnTo>
                              <a:lnTo>
                                <a:pt x="935" y="981"/>
                              </a:lnTo>
                              <a:lnTo>
                                <a:pt x="941" y="934"/>
                              </a:lnTo>
                              <a:lnTo>
                                <a:pt x="959" y="883"/>
                              </a:lnTo>
                              <a:lnTo>
                                <a:pt x="984" y="829"/>
                              </a:lnTo>
                              <a:lnTo>
                                <a:pt x="1014" y="777"/>
                              </a:lnTo>
                              <a:lnTo>
                                <a:pt x="1045" y="727"/>
                              </a:lnTo>
                              <a:lnTo>
                                <a:pt x="1075" y="686"/>
                              </a:lnTo>
                              <a:lnTo>
                                <a:pt x="1100" y="652"/>
                              </a:lnTo>
                              <a:lnTo>
                                <a:pt x="1116" y="6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3417480" y="3880800"/>
                          <a:ext cx="1800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3" h="223">
                              <a:moveTo>
                                <a:pt x="112" y="0"/>
                              </a:moveTo>
                              <a:lnTo>
                                <a:pt x="134" y="3"/>
                              </a:lnTo>
                              <a:lnTo>
                                <a:pt x="155" y="10"/>
                              </a:lnTo>
                              <a:lnTo>
                                <a:pt x="174" y="20"/>
                              </a:lnTo>
                              <a:lnTo>
                                <a:pt x="190" y="34"/>
                              </a:lnTo>
                              <a:lnTo>
                                <a:pt x="204" y="50"/>
                              </a:lnTo>
                              <a:lnTo>
                                <a:pt x="213" y="68"/>
                              </a:lnTo>
                              <a:lnTo>
                                <a:pt x="220" y="90"/>
                              </a:lnTo>
                              <a:lnTo>
                                <a:pt x="223" y="112"/>
                              </a:lnTo>
                              <a:lnTo>
                                <a:pt x="220" y="134"/>
                              </a:lnTo>
                              <a:lnTo>
                                <a:pt x="213" y="155"/>
                              </a:lnTo>
                              <a:lnTo>
                                <a:pt x="204" y="174"/>
                              </a:lnTo>
                              <a:lnTo>
                                <a:pt x="190" y="190"/>
                              </a:lnTo>
                              <a:lnTo>
                                <a:pt x="174" y="204"/>
                              </a:lnTo>
                              <a:lnTo>
                                <a:pt x="155" y="213"/>
                              </a:lnTo>
                              <a:lnTo>
                                <a:pt x="134" y="220"/>
                              </a:lnTo>
                              <a:lnTo>
                                <a:pt x="112" y="223"/>
                              </a:lnTo>
                              <a:lnTo>
                                <a:pt x="89" y="220"/>
                              </a:lnTo>
                              <a:lnTo>
                                <a:pt x="68" y="213"/>
                              </a:lnTo>
                              <a:lnTo>
                                <a:pt x="50" y="204"/>
                              </a:lnTo>
                              <a:lnTo>
                                <a:pt x="33" y="190"/>
                              </a:lnTo>
                              <a:lnTo>
                                <a:pt x="19" y="174"/>
                              </a:lnTo>
                              <a:lnTo>
                                <a:pt x="9" y="155"/>
                              </a:lnTo>
                              <a:lnTo>
                                <a:pt x="3" y="134"/>
                              </a:lnTo>
                              <a:lnTo>
                                <a:pt x="0" y="112"/>
                              </a:lnTo>
                              <a:lnTo>
                                <a:pt x="3" y="90"/>
                              </a:lnTo>
                              <a:lnTo>
                                <a:pt x="9" y="68"/>
                              </a:lnTo>
                              <a:lnTo>
                                <a:pt x="19" y="50"/>
                              </a:lnTo>
                              <a:lnTo>
                                <a:pt x="33" y="34"/>
                              </a:lnTo>
                              <a:lnTo>
                                <a:pt x="50" y="20"/>
                              </a:lnTo>
                              <a:lnTo>
                                <a:pt x="68" y="10"/>
                              </a:lnTo>
                              <a:lnTo>
                                <a:pt x="89" y="3"/>
                              </a:lnTo>
                              <a:lnTo>
                                <a:pt x="11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3333240" y="3920040"/>
                          <a:ext cx="10872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8" h="61">
                              <a:moveTo>
                                <a:pt x="0" y="32"/>
                              </a:moveTo>
                              <a:lnTo>
                                <a:pt x="1" y="26"/>
                              </a:lnTo>
                              <a:lnTo>
                                <a:pt x="2" y="19"/>
                              </a:lnTo>
                              <a:lnTo>
                                <a:pt x="5" y="14"/>
                              </a:lnTo>
                              <a:lnTo>
                                <a:pt x="10" y="10"/>
                              </a:lnTo>
                              <a:lnTo>
                                <a:pt x="16" y="6"/>
                              </a:lnTo>
                              <a:lnTo>
                                <a:pt x="21" y="3"/>
                              </a:lnTo>
                              <a:lnTo>
                                <a:pt x="28" y="2"/>
                              </a:lnTo>
                              <a:lnTo>
                                <a:pt x="36" y="0"/>
                              </a:lnTo>
                              <a:lnTo>
                                <a:pt x="493" y="0"/>
                              </a:lnTo>
                              <a:lnTo>
                                <a:pt x="1131" y="0"/>
                              </a:lnTo>
                              <a:lnTo>
                                <a:pt x="1139" y="2"/>
                              </a:lnTo>
                              <a:lnTo>
                                <a:pt x="1146" y="3"/>
                              </a:lnTo>
                              <a:lnTo>
                                <a:pt x="1152" y="6"/>
                              </a:lnTo>
                              <a:lnTo>
                                <a:pt x="1158" y="10"/>
                              </a:lnTo>
                              <a:lnTo>
                                <a:pt x="1162" y="14"/>
                              </a:lnTo>
                              <a:lnTo>
                                <a:pt x="1166" y="19"/>
                              </a:lnTo>
                              <a:lnTo>
                                <a:pt x="1167" y="26"/>
                              </a:lnTo>
                              <a:lnTo>
                                <a:pt x="1168" y="32"/>
                              </a:lnTo>
                              <a:lnTo>
                                <a:pt x="1167" y="37"/>
                              </a:lnTo>
                              <a:lnTo>
                                <a:pt x="1166" y="43"/>
                              </a:lnTo>
                              <a:lnTo>
                                <a:pt x="1162" y="48"/>
                              </a:lnTo>
                              <a:lnTo>
                                <a:pt x="1158" y="52"/>
                              </a:lnTo>
                              <a:lnTo>
                                <a:pt x="1152" y="56"/>
                              </a:lnTo>
                              <a:lnTo>
                                <a:pt x="1146" y="59"/>
                              </a:lnTo>
                              <a:lnTo>
                                <a:pt x="1139" y="60"/>
                              </a:lnTo>
                              <a:lnTo>
                                <a:pt x="1131" y="61"/>
                              </a:lnTo>
                              <a:lnTo>
                                <a:pt x="36" y="61"/>
                              </a:lnTo>
                              <a:lnTo>
                                <a:pt x="28" y="60"/>
                              </a:lnTo>
                              <a:lnTo>
                                <a:pt x="21" y="59"/>
                              </a:lnTo>
                              <a:lnTo>
                                <a:pt x="16" y="56"/>
                              </a:lnTo>
                              <a:lnTo>
                                <a:pt x="10" y="52"/>
                              </a:lnTo>
                              <a:lnTo>
                                <a:pt x="5" y="48"/>
                              </a:lnTo>
                              <a:lnTo>
                                <a:pt x="2" y="43"/>
                              </a:lnTo>
                              <a:lnTo>
                                <a:pt x="1" y="37"/>
                              </a:lnTo>
                              <a:lnTo>
                                <a:pt x="0" y="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3351240" y="3933000"/>
                          <a:ext cx="75600" cy="5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36" h="763">
                              <a:moveTo>
                                <a:pt x="873" y="683"/>
                              </a:moveTo>
                              <a:lnTo>
                                <a:pt x="879" y="690"/>
                              </a:lnTo>
                              <a:lnTo>
                                <a:pt x="888" y="690"/>
                              </a:lnTo>
                              <a:lnTo>
                                <a:pt x="1000" y="690"/>
                              </a:lnTo>
                              <a:lnTo>
                                <a:pt x="1007" y="691"/>
                              </a:lnTo>
                              <a:lnTo>
                                <a:pt x="1014" y="693"/>
                              </a:lnTo>
                              <a:lnTo>
                                <a:pt x="1020" y="696"/>
                              </a:lnTo>
                              <a:lnTo>
                                <a:pt x="1025" y="701"/>
                              </a:lnTo>
                              <a:lnTo>
                                <a:pt x="1030" y="706"/>
                              </a:lnTo>
                              <a:lnTo>
                                <a:pt x="1033" y="712"/>
                              </a:lnTo>
                              <a:lnTo>
                                <a:pt x="1035" y="719"/>
                              </a:lnTo>
                              <a:lnTo>
                                <a:pt x="1036" y="727"/>
                              </a:lnTo>
                              <a:lnTo>
                                <a:pt x="1035" y="734"/>
                              </a:lnTo>
                              <a:lnTo>
                                <a:pt x="1033" y="741"/>
                              </a:lnTo>
                              <a:lnTo>
                                <a:pt x="1030" y="747"/>
                              </a:lnTo>
                              <a:lnTo>
                                <a:pt x="1025" y="753"/>
                              </a:lnTo>
                              <a:lnTo>
                                <a:pt x="1020" y="757"/>
                              </a:lnTo>
                              <a:lnTo>
                                <a:pt x="1014" y="761"/>
                              </a:lnTo>
                              <a:lnTo>
                                <a:pt x="1007" y="762"/>
                              </a:lnTo>
                              <a:lnTo>
                                <a:pt x="1000" y="763"/>
                              </a:lnTo>
                              <a:lnTo>
                                <a:pt x="37" y="763"/>
                              </a:lnTo>
                              <a:lnTo>
                                <a:pt x="28" y="762"/>
                              </a:lnTo>
                              <a:lnTo>
                                <a:pt x="22" y="761"/>
                              </a:lnTo>
                              <a:lnTo>
                                <a:pt x="16" y="757"/>
                              </a:lnTo>
                              <a:lnTo>
                                <a:pt x="10" y="753"/>
                              </a:lnTo>
                              <a:lnTo>
                                <a:pt x="5" y="747"/>
                              </a:lnTo>
                              <a:lnTo>
                                <a:pt x="2" y="741"/>
                              </a:lnTo>
                              <a:lnTo>
                                <a:pt x="1" y="734"/>
                              </a:lnTo>
                              <a:lnTo>
                                <a:pt x="0" y="727"/>
                              </a:lnTo>
                              <a:lnTo>
                                <a:pt x="1" y="719"/>
                              </a:lnTo>
                              <a:lnTo>
                                <a:pt x="2" y="712"/>
                              </a:lnTo>
                              <a:lnTo>
                                <a:pt x="5" y="706"/>
                              </a:lnTo>
                              <a:lnTo>
                                <a:pt x="10" y="701"/>
                              </a:lnTo>
                              <a:lnTo>
                                <a:pt x="16" y="696"/>
                              </a:lnTo>
                              <a:lnTo>
                                <a:pt x="22" y="693"/>
                              </a:lnTo>
                              <a:lnTo>
                                <a:pt x="28" y="691"/>
                              </a:lnTo>
                              <a:lnTo>
                                <a:pt x="37" y="690"/>
                              </a:lnTo>
                              <a:lnTo>
                                <a:pt x="155" y="690"/>
                              </a:lnTo>
                              <a:lnTo>
                                <a:pt x="167" y="690"/>
                              </a:lnTo>
                              <a:lnTo>
                                <a:pt x="172" y="679"/>
                              </a:lnTo>
                              <a:lnTo>
                                <a:pt x="184" y="655"/>
                              </a:lnTo>
                              <a:lnTo>
                                <a:pt x="198" y="623"/>
                              </a:lnTo>
                              <a:lnTo>
                                <a:pt x="211" y="588"/>
                              </a:lnTo>
                              <a:lnTo>
                                <a:pt x="223" y="547"/>
                              </a:lnTo>
                              <a:lnTo>
                                <a:pt x="235" y="501"/>
                              </a:lnTo>
                              <a:lnTo>
                                <a:pt x="244" y="451"/>
                              </a:lnTo>
                              <a:lnTo>
                                <a:pt x="250" y="395"/>
                              </a:lnTo>
                              <a:lnTo>
                                <a:pt x="252" y="335"/>
                              </a:lnTo>
                              <a:lnTo>
                                <a:pt x="247" y="282"/>
                              </a:lnTo>
                              <a:lnTo>
                                <a:pt x="235" y="232"/>
                              </a:lnTo>
                              <a:lnTo>
                                <a:pt x="216" y="183"/>
                              </a:lnTo>
                              <a:lnTo>
                                <a:pt x="193" y="137"/>
                              </a:lnTo>
                              <a:lnTo>
                                <a:pt x="167" y="94"/>
                              </a:lnTo>
                              <a:lnTo>
                                <a:pt x="140" y="58"/>
                              </a:lnTo>
                              <a:lnTo>
                                <a:pt x="114" y="25"/>
                              </a:lnTo>
                              <a:lnTo>
                                <a:pt x="91" y="0"/>
                              </a:lnTo>
                              <a:lnTo>
                                <a:pt x="939" y="0"/>
                              </a:lnTo>
                              <a:lnTo>
                                <a:pt x="916" y="30"/>
                              </a:lnTo>
                              <a:lnTo>
                                <a:pt x="890" y="68"/>
                              </a:lnTo>
                              <a:lnTo>
                                <a:pt x="862" y="111"/>
                              </a:lnTo>
                              <a:lnTo>
                                <a:pt x="834" y="158"/>
                              </a:lnTo>
                              <a:lnTo>
                                <a:pt x="810" y="206"/>
                              </a:lnTo>
                              <a:lnTo>
                                <a:pt x="789" y="255"/>
                              </a:lnTo>
                              <a:lnTo>
                                <a:pt x="775" y="303"/>
                              </a:lnTo>
                              <a:lnTo>
                                <a:pt x="771" y="347"/>
                              </a:lnTo>
                              <a:lnTo>
                                <a:pt x="774" y="416"/>
                              </a:lnTo>
                              <a:lnTo>
                                <a:pt x="783" y="477"/>
                              </a:lnTo>
                              <a:lnTo>
                                <a:pt x="795" y="530"/>
                              </a:lnTo>
                              <a:lnTo>
                                <a:pt x="811" y="575"/>
                              </a:lnTo>
                              <a:lnTo>
                                <a:pt x="827" y="613"/>
                              </a:lnTo>
                              <a:lnTo>
                                <a:pt x="844" y="643"/>
                              </a:lnTo>
                              <a:lnTo>
                                <a:pt x="859" y="667"/>
                              </a:lnTo>
                              <a:lnTo>
                                <a:pt x="873" y="68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3372480" y="3939480"/>
                          <a:ext cx="3600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6" h="414">
                              <a:moveTo>
                                <a:pt x="386" y="414"/>
                              </a:moveTo>
                              <a:lnTo>
                                <a:pt x="268" y="277"/>
                              </a:lnTo>
                              <a:lnTo>
                                <a:pt x="358" y="151"/>
                              </a:lnTo>
                              <a:lnTo>
                                <a:pt x="295" y="153"/>
                              </a:lnTo>
                              <a:lnTo>
                                <a:pt x="233" y="236"/>
                              </a:lnTo>
                              <a:lnTo>
                                <a:pt x="177" y="174"/>
                              </a:lnTo>
                              <a:lnTo>
                                <a:pt x="185" y="168"/>
                              </a:lnTo>
                              <a:lnTo>
                                <a:pt x="192" y="161"/>
                              </a:lnTo>
                              <a:lnTo>
                                <a:pt x="199" y="153"/>
                              </a:lnTo>
                              <a:lnTo>
                                <a:pt x="205" y="145"/>
                              </a:lnTo>
                              <a:lnTo>
                                <a:pt x="214" y="121"/>
                              </a:lnTo>
                              <a:lnTo>
                                <a:pt x="218" y="94"/>
                              </a:lnTo>
                              <a:lnTo>
                                <a:pt x="214" y="68"/>
                              </a:lnTo>
                              <a:lnTo>
                                <a:pt x="205" y="44"/>
                              </a:lnTo>
                              <a:lnTo>
                                <a:pt x="198" y="33"/>
                              </a:lnTo>
                              <a:lnTo>
                                <a:pt x="191" y="25"/>
                              </a:lnTo>
                              <a:lnTo>
                                <a:pt x="182" y="17"/>
                              </a:lnTo>
                              <a:lnTo>
                                <a:pt x="173" y="12"/>
                              </a:lnTo>
                              <a:lnTo>
                                <a:pt x="162" y="7"/>
                              </a:lnTo>
                              <a:lnTo>
                                <a:pt x="151" y="3"/>
                              </a:lnTo>
                              <a:lnTo>
                                <a:pt x="139" y="1"/>
                              </a:lnTo>
                              <a:lnTo>
                                <a:pt x="127" y="0"/>
                              </a:lnTo>
                              <a:lnTo>
                                <a:pt x="0" y="0"/>
                              </a:lnTo>
                              <a:lnTo>
                                <a:pt x="0" y="279"/>
                              </a:lnTo>
                              <a:lnTo>
                                <a:pt x="52" y="279"/>
                              </a:lnTo>
                              <a:lnTo>
                                <a:pt x="52" y="52"/>
                              </a:lnTo>
                              <a:lnTo>
                                <a:pt x="127" y="52"/>
                              </a:lnTo>
                              <a:lnTo>
                                <a:pt x="139" y="53"/>
                              </a:lnTo>
                              <a:lnTo>
                                <a:pt x="149" y="58"/>
                              </a:lnTo>
                              <a:lnTo>
                                <a:pt x="155" y="63"/>
                              </a:lnTo>
                              <a:lnTo>
                                <a:pt x="160" y="70"/>
                              </a:lnTo>
                              <a:lnTo>
                                <a:pt x="164" y="77"/>
                              </a:lnTo>
                              <a:lnTo>
                                <a:pt x="165" y="84"/>
                              </a:lnTo>
                              <a:lnTo>
                                <a:pt x="166" y="90"/>
                              </a:lnTo>
                              <a:lnTo>
                                <a:pt x="166" y="93"/>
                              </a:lnTo>
                              <a:lnTo>
                                <a:pt x="166" y="99"/>
                              </a:lnTo>
                              <a:lnTo>
                                <a:pt x="165" y="106"/>
                              </a:lnTo>
                              <a:lnTo>
                                <a:pt x="162" y="113"/>
                              </a:lnTo>
                              <a:lnTo>
                                <a:pt x="159" y="120"/>
                              </a:lnTo>
                              <a:lnTo>
                                <a:pt x="153" y="126"/>
                              </a:lnTo>
                              <a:lnTo>
                                <a:pt x="147" y="130"/>
                              </a:lnTo>
                              <a:lnTo>
                                <a:pt x="139" y="134"/>
                              </a:lnTo>
                              <a:lnTo>
                                <a:pt x="130" y="135"/>
                              </a:lnTo>
                              <a:lnTo>
                                <a:pt x="73" y="135"/>
                              </a:lnTo>
                              <a:lnTo>
                                <a:pt x="202" y="279"/>
                              </a:lnTo>
                              <a:lnTo>
                                <a:pt x="106" y="409"/>
                              </a:lnTo>
                              <a:lnTo>
                                <a:pt x="168" y="408"/>
                              </a:lnTo>
                              <a:lnTo>
                                <a:pt x="236" y="319"/>
                              </a:lnTo>
                              <a:lnTo>
                                <a:pt x="318" y="411"/>
                              </a:lnTo>
                              <a:lnTo>
                                <a:pt x="386" y="4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5" name=""/>
                      <p:cNvGrpSpPr/>
                      <p:nvPr/>
                    </p:nvGrpSpPr>
                    <p:grpSpPr>
                      <a:xfrm>
                        <a:off x="3077280" y="3901680"/>
                        <a:ext cx="178200" cy="101160"/>
                        <a:chOff x="3077280" y="3901680"/>
                        <a:chExt cx="178200" cy="101160"/>
                      </a:xfrm>
                    </p:grpSpPr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3077280" y="3901680"/>
                          <a:ext cx="178200" cy="10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2" h="1179">
                              <a:moveTo>
                                <a:pt x="2" y="224"/>
                              </a:moveTo>
                              <a:lnTo>
                                <a:pt x="2" y="1045"/>
                              </a:lnTo>
                              <a:lnTo>
                                <a:pt x="2" y="1045"/>
                              </a:lnTo>
                              <a:lnTo>
                                <a:pt x="1" y="1049"/>
                              </a:lnTo>
                              <a:lnTo>
                                <a:pt x="1" y="1054"/>
                              </a:lnTo>
                              <a:lnTo>
                                <a:pt x="0" y="1059"/>
                              </a:lnTo>
                              <a:lnTo>
                                <a:pt x="0" y="1064"/>
                              </a:lnTo>
                              <a:lnTo>
                                <a:pt x="2" y="1083"/>
                              </a:lnTo>
                              <a:lnTo>
                                <a:pt x="7" y="1101"/>
                              </a:lnTo>
                              <a:lnTo>
                                <a:pt x="16" y="1117"/>
                              </a:lnTo>
                              <a:lnTo>
                                <a:pt x="28" y="1131"/>
                              </a:lnTo>
                              <a:lnTo>
                                <a:pt x="41" y="1142"/>
                              </a:lnTo>
                              <a:lnTo>
                                <a:pt x="58" y="1152"/>
                              </a:lnTo>
                              <a:lnTo>
                                <a:pt x="76" y="1156"/>
                              </a:lnTo>
                              <a:lnTo>
                                <a:pt x="95" y="1159"/>
                              </a:lnTo>
                              <a:lnTo>
                                <a:pt x="113" y="1156"/>
                              </a:lnTo>
                              <a:lnTo>
                                <a:pt x="131" y="1152"/>
                              </a:lnTo>
                              <a:lnTo>
                                <a:pt x="148" y="1142"/>
                              </a:lnTo>
                              <a:lnTo>
                                <a:pt x="161" y="1131"/>
                              </a:lnTo>
                              <a:lnTo>
                                <a:pt x="173" y="1117"/>
                              </a:lnTo>
                              <a:lnTo>
                                <a:pt x="182" y="1101"/>
                              </a:lnTo>
                              <a:lnTo>
                                <a:pt x="187" y="1083"/>
                              </a:lnTo>
                              <a:lnTo>
                                <a:pt x="189" y="1064"/>
                              </a:lnTo>
                              <a:lnTo>
                                <a:pt x="187" y="1046"/>
                              </a:lnTo>
                              <a:lnTo>
                                <a:pt x="182" y="1027"/>
                              </a:lnTo>
                              <a:lnTo>
                                <a:pt x="173" y="1011"/>
                              </a:lnTo>
                              <a:lnTo>
                                <a:pt x="161" y="997"/>
                              </a:lnTo>
                              <a:lnTo>
                                <a:pt x="148" y="986"/>
                              </a:lnTo>
                              <a:lnTo>
                                <a:pt x="131" y="977"/>
                              </a:lnTo>
                              <a:lnTo>
                                <a:pt x="113" y="972"/>
                              </a:lnTo>
                              <a:lnTo>
                                <a:pt x="95" y="970"/>
                              </a:lnTo>
                              <a:lnTo>
                                <a:pt x="88" y="970"/>
                              </a:lnTo>
                              <a:lnTo>
                                <a:pt x="81" y="971"/>
                              </a:lnTo>
                              <a:lnTo>
                                <a:pt x="74" y="972"/>
                              </a:lnTo>
                              <a:lnTo>
                                <a:pt x="67" y="974"/>
                              </a:lnTo>
                              <a:lnTo>
                                <a:pt x="60" y="977"/>
                              </a:lnTo>
                              <a:lnTo>
                                <a:pt x="54" y="979"/>
                              </a:lnTo>
                              <a:lnTo>
                                <a:pt x="48" y="982"/>
                              </a:lnTo>
                              <a:lnTo>
                                <a:pt x="43" y="986"/>
                              </a:lnTo>
                              <a:lnTo>
                                <a:pt x="43" y="614"/>
                              </a:lnTo>
                              <a:lnTo>
                                <a:pt x="71" y="614"/>
                              </a:lnTo>
                              <a:lnTo>
                                <a:pt x="71" y="618"/>
                              </a:lnTo>
                              <a:lnTo>
                                <a:pt x="73" y="630"/>
                              </a:lnTo>
                              <a:lnTo>
                                <a:pt x="76" y="641"/>
                              </a:lnTo>
                              <a:lnTo>
                                <a:pt x="81" y="651"/>
                              </a:lnTo>
                              <a:lnTo>
                                <a:pt x="89" y="660"/>
                              </a:lnTo>
                              <a:lnTo>
                                <a:pt x="97" y="667"/>
                              </a:lnTo>
                              <a:lnTo>
                                <a:pt x="106" y="672"/>
                              </a:lnTo>
                              <a:lnTo>
                                <a:pt x="118" y="676"/>
                              </a:lnTo>
                              <a:lnTo>
                                <a:pt x="129" y="677"/>
                              </a:lnTo>
                              <a:lnTo>
                                <a:pt x="743" y="677"/>
                              </a:lnTo>
                              <a:lnTo>
                                <a:pt x="743" y="707"/>
                              </a:lnTo>
                              <a:lnTo>
                                <a:pt x="354" y="707"/>
                              </a:lnTo>
                              <a:lnTo>
                                <a:pt x="334" y="707"/>
                              </a:lnTo>
                              <a:lnTo>
                                <a:pt x="334" y="727"/>
                              </a:lnTo>
                              <a:lnTo>
                                <a:pt x="334" y="819"/>
                              </a:lnTo>
                              <a:lnTo>
                                <a:pt x="252" y="819"/>
                              </a:lnTo>
                              <a:lnTo>
                                <a:pt x="249" y="811"/>
                              </a:lnTo>
                              <a:lnTo>
                                <a:pt x="245" y="805"/>
                              </a:lnTo>
                              <a:lnTo>
                                <a:pt x="240" y="798"/>
                              </a:lnTo>
                              <a:lnTo>
                                <a:pt x="234" y="793"/>
                              </a:lnTo>
                              <a:lnTo>
                                <a:pt x="227" y="789"/>
                              </a:lnTo>
                              <a:lnTo>
                                <a:pt x="219" y="785"/>
                              </a:lnTo>
                              <a:lnTo>
                                <a:pt x="211" y="784"/>
                              </a:lnTo>
                              <a:lnTo>
                                <a:pt x="203" y="783"/>
                              </a:lnTo>
                              <a:lnTo>
                                <a:pt x="192" y="784"/>
                              </a:lnTo>
                              <a:lnTo>
                                <a:pt x="182" y="788"/>
                              </a:lnTo>
                              <a:lnTo>
                                <a:pt x="174" y="792"/>
                              </a:lnTo>
                              <a:lnTo>
                                <a:pt x="166" y="799"/>
                              </a:lnTo>
                              <a:lnTo>
                                <a:pt x="160" y="806"/>
                              </a:lnTo>
                              <a:lnTo>
                                <a:pt x="156" y="815"/>
                              </a:lnTo>
                              <a:lnTo>
                                <a:pt x="152" y="826"/>
                              </a:lnTo>
                              <a:lnTo>
                                <a:pt x="151" y="836"/>
                              </a:lnTo>
                              <a:lnTo>
                                <a:pt x="152" y="846"/>
                              </a:lnTo>
                              <a:lnTo>
                                <a:pt x="156" y="856"/>
                              </a:lnTo>
                              <a:lnTo>
                                <a:pt x="160" y="865"/>
                              </a:lnTo>
                              <a:lnTo>
                                <a:pt x="166" y="872"/>
                              </a:lnTo>
                              <a:lnTo>
                                <a:pt x="174" y="879"/>
                              </a:lnTo>
                              <a:lnTo>
                                <a:pt x="182" y="883"/>
                              </a:lnTo>
                              <a:lnTo>
                                <a:pt x="192" y="886"/>
                              </a:lnTo>
                              <a:lnTo>
                                <a:pt x="203" y="887"/>
                              </a:lnTo>
                              <a:lnTo>
                                <a:pt x="211" y="887"/>
                              </a:lnTo>
                              <a:lnTo>
                                <a:pt x="218" y="884"/>
                              </a:lnTo>
                              <a:lnTo>
                                <a:pt x="225" y="882"/>
                              </a:lnTo>
                              <a:lnTo>
                                <a:pt x="230" y="879"/>
                              </a:lnTo>
                              <a:lnTo>
                                <a:pt x="236" y="875"/>
                              </a:lnTo>
                              <a:lnTo>
                                <a:pt x="242" y="871"/>
                              </a:lnTo>
                              <a:lnTo>
                                <a:pt x="247" y="865"/>
                              </a:lnTo>
                              <a:lnTo>
                                <a:pt x="250" y="859"/>
                              </a:lnTo>
                              <a:lnTo>
                                <a:pt x="354" y="859"/>
                              </a:lnTo>
                              <a:lnTo>
                                <a:pt x="373" y="859"/>
                              </a:lnTo>
                              <a:lnTo>
                                <a:pt x="373" y="838"/>
                              </a:lnTo>
                              <a:lnTo>
                                <a:pt x="373" y="746"/>
                              </a:lnTo>
                              <a:lnTo>
                                <a:pt x="743" y="746"/>
                              </a:lnTo>
                              <a:lnTo>
                                <a:pt x="743" y="1045"/>
                              </a:lnTo>
                              <a:lnTo>
                                <a:pt x="747" y="1045"/>
                              </a:lnTo>
                              <a:lnTo>
                                <a:pt x="743" y="1054"/>
                              </a:lnTo>
                              <a:lnTo>
                                <a:pt x="740" y="1064"/>
                              </a:lnTo>
                              <a:lnTo>
                                <a:pt x="739" y="1074"/>
                              </a:lnTo>
                              <a:lnTo>
                                <a:pt x="738" y="1086"/>
                              </a:lnTo>
                              <a:lnTo>
                                <a:pt x="740" y="1104"/>
                              </a:lnTo>
                              <a:lnTo>
                                <a:pt x="744" y="1123"/>
                              </a:lnTo>
                              <a:lnTo>
                                <a:pt x="754" y="1138"/>
                              </a:lnTo>
                              <a:lnTo>
                                <a:pt x="765" y="1152"/>
                              </a:lnTo>
                              <a:lnTo>
                                <a:pt x="779" y="1163"/>
                              </a:lnTo>
                              <a:lnTo>
                                <a:pt x="794" y="1172"/>
                              </a:lnTo>
                              <a:lnTo>
                                <a:pt x="812" y="1177"/>
                              </a:lnTo>
                              <a:lnTo>
                                <a:pt x="831" y="1179"/>
                              </a:lnTo>
                              <a:lnTo>
                                <a:pt x="850" y="1177"/>
                              </a:lnTo>
                              <a:lnTo>
                                <a:pt x="868" y="1172"/>
                              </a:lnTo>
                              <a:lnTo>
                                <a:pt x="884" y="1163"/>
                              </a:lnTo>
                              <a:lnTo>
                                <a:pt x="898" y="1152"/>
                              </a:lnTo>
                              <a:lnTo>
                                <a:pt x="909" y="1138"/>
                              </a:lnTo>
                              <a:lnTo>
                                <a:pt x="918" y="1123"/>
                              </a:lnTo>
                              <a:lnTo>
                                <a:pt x="923" y="1104"/>
                              </a:lnTo>
                              <a:lnTo>
                                <a:pt x="925" y="1086"/>
                              </a:lnTo>
                              <a:lnTo>
                                <a:pt x="923" y="1066"/>
                              </a:lnTo>
                              <a:lnTo>
                                <a:pt x="918" y="1049"/>
                              </a:lnTo>
                              <a:lnTo>
                                <a:pt x="909" y="1033"/>
                              </a:lnTo>
                              <a:lnTo>
                                <a:pt x="898" y="1019"/>
                              </a:lnTo>
                              <a:lnTo>
                                <a:pt x="884" y="1008"/>
                              </a:lnTo>
                              <a:lnTo>
                                <a:pt x="868" y="998"/>
                              </a:lnTo>
                              <a:lnTo>
                                <a:pt x="850" y="994"/>
                              </a:lnTo>
                              <a:lnTo>
                                <a:pt x="831" y="992"/>
                              </a:lnTo>
                              <a:lnTo>
                                <a:pt x="824" y="992"/>
                              </a:lnTo>
                              <a:lnTo>
                                <a:pt x="818" y="993"/>
                              </a:lnTo>
                              <a:lnTo>
                                <a:pt x="812" y="994"/>
                              </a:lnTo>
                              <a:lnTo>
                                <a:pt x="806" y="995"/>
                              </a:lnTo>
                              <a:lnTo>
                                <a:pt x="800" y="996"/>
                              </a:lnTo>
                              <a:lnTo>
                                <a:pt x="794" y="998"/>
                              </a:lnTo>
                              <a:lnTo>
                                <a:pt x="789" y="1002"/>
                              </a:lnTo>
                              <a:lnTo>
                                <a:pt x="784" y="1004"/>
                              </a:lnTo>
                              <a:lnTo>
                                <a:pt x="784" y="799"/>
                              </a:lnTo>
                              <a:lnTo>
                                <a:pt x="978" y="799"/>
                              </a:lnTo>
                              <a:lnTo>
                                <a:pt x="974" y="759"/>
                              </a:lnTo>
                              <a:lnTo>
                                <a:pt x="784" y="759"/>
                              </a:lnTo>
                              <a:lnTo>
                                <a:pt x="784" y="677"/>
                              </a:lnTo>
                              <a:lnTo>
                                <a:pt x="1139" y="677"/>
                              </a:lnTo>
                              <a:lnTo>
                                <a:pt x="1139" y="759"/>
                              </a:lnTo>
                              <a:lnTo>
                                <a:pt x="974" y="759"/>
                              </a:lnTo>
                              <a:lnTo>
                                <a:pt x="978" y="799"/>
                              </a:lnTo>
                              <a:lnTo>
                                <a:pt x="1139" y="799"/>
                              </a:lnTo>
                              <a:lnTo>
                                <a:pt x="1139" y="1045"/>
                              </a:lnTo>
                              <a:lnTo>
                                <a:pt x="1140" y="1045"/>
                              </a:lnTo>
                              <a:lnTo>
                                <a:pt x="1139" y="1049"/>
                              </a:lnTo>
                              <a:lnTo>
                                <a:pt x="1139" y="1053"/>
                              </a:lnTo>
                              <a:lnTo>
                                <a:pt x="1139" y="1057"/>
                              </a:lnTo>
                              <a:lnTo>
                                <a:pt x="1139" y="1062"/>
                              </a:lnTo>
                              <a:lnTo>
                                <a:pt x="1141" y="1080"/>
                              </a:lnTo>
                              <a:lnTo>
                                <a:pt x="1146" y="1099"/>
                              </a:lnTo>
                              <a:lnTo>
                                <a:pt x="1154" y="1115"/>
                              </a:lnTo>
                              <a:lnTo>
                                <a:pt x="1165" y="1129"/>
                              </a:lnTo>
                              <a:lnTo>
                                <a:pt x="1179" y="1140"/>
                              </a:lnTo>
                              <a:lnTo>
                                <a:pt x="1195" y="1149"/>
                              </a:lnTo>
                              <a:lnTo>
                                <a:pt x="1212" y="1154"/>
                              </a:lnTo>
                              <a:lnTo>
                                <a:pt x="1231" y="1156"/>
                              </a:lnTo>
                              <a:lnTo>
                                <a:pt x="1250" y="1154"/>
                              </a:lnTo>
                              <a:lnTo>
                                <a:pt x="1268" y="1149"/>
                              </a:lnTo>
                              <a:lnTo>
                                <a:pt x="1284" y="1140"/>
                              </a:lnTo>
                              <a:lnTo>
                                <a:pt x="1298" y="1129"/>
                              </a:lnTo>
                              <a:lnTo>
                                <a:pt x="1309" y="1115"/>
                              </a:lnTo>
                              <a:lnTo>
                                <a:pt x="1318" y="1099"/>
                              </a:lnTo>
                              <a:lnTo>
                                <a:pt x="1323" y="1080"/>
                              </a:lnTo>
                              <a:lnTo>
                                <a:pt x="1325" y="1062"/>
                              </a:lnTo>
                              <a:lnTo>
                                <a:pt x="1323" y="1043"/>
                              </a:lnTo>
                              <a:lnTo>
                                <a:pt x="1318" y="1025"/>
                              </a:lnTo>
                              <a:lnTo>
                                <a:pt x="1309" y="1009"/>
                              </a:lnTo>
                              <a:lnTo>
                                <a:pt x="1298" y="995"/>
                              </a:lnTo>
                              <a:lnTo>
                                <a:pt x="1284" y="983"/>
                              </a:lnTo>
                              <a:lnTo>
                                <a:pt x="1268" y="974"/>
                              </a:lnTo>
                              <a:lnTo>
                                <a:pt x="1250" y="970"/>
                              </a:lnTo>
                              <a:lnTo>
                                <a:pt x="1231" y="967"/>
                              </a:lnTo>
                              <a:lnTo>
                                <a:pt x="1224" y="967"/>
                              </a:lnTo>
                              <a:lnTo>
                                <a:pt x="1216" y="968"/>
                              </a:lnTo>
                              <a:lnTo>
                                <a:pt x="1209" y="970"/>
                              </a:lnTo>
                              <a:lnTo>
                                <a:pt x="1202" y="972"/>
                              </a:lnTo>
                              <a:lnTo>
                                <a:pt x="1196" y="974"/>
                              </a:lnTo>
                              <a:lnTo>
                                <a:pt x="1189" y="977"/>
                              </a:lnTo>
                              <a:lnTo>
                                <a:pt x="1182" y="980"/>
                              </a:lnTo>
                              <a:lnTo>
                                <a:pt x="1177" y="985"/>
                              </a:lnTo>
                              <a:lnTo>
                                <a:pt x="1177" y="799"/>
                              </a:lnTo>
                              <a:lnTo>
                                <a:pt x="1878" y="799"/>
                              </a:lnTo>
                              <a:lnTo>
                                <a:pt x="1878" y="1045"/>
                              </a:lnTo>
                              <a:lnTo>
                                <a:pt x="1881" y="1045"/>
                              </a:lnTo>
                              <a:lnTo>
                                <a:pt x="1877" y="1054"/>
                              </a:lnTo>
                              <a:lnTo>
                                <a:pt x="1875" y="1063"/>
                              </a:lnTo>
                              <a:lnTo>
                                <a:pt x="1874" y="1072"/>
                              </a:lnTo>
                              <a:lnTo>
                                <a:pt x="1873" y="1083"/>
                              </a:lnTo>
                              <a:lnTo>
                                <a:pt x="1875" y="1101"/>
                              </a:lnTo>
                              <a:lnTo>
                                <a:pt x="1880" y="1119"/>
                              </a:lnTo>
                              <a:lnTo>
                                <a:pt x="1889" y="1136"/>
                              </a:lnTo>
                              <a:lnTo>
                                <a:pt x="1900" y="1149"/>
                              </a:lnTo>
                              <a:lnTo>
                                <a:pt x="1914" y="1161"/>
                              </a:lnTo>
                              <a:lnTo>
                                <a:pt x="1930" y="1170"/>
                              </a:lnTo>
                              <a:lnTo>
                                <a:pt x="1949" y="1175"/>
                              </a:lnTo>
                              <a:lnTo>
                                <a:pt x="1967" y="1177"/>
                              </a:lnTo>
                              <a:lnTo>
                                <a:pt x="1986" y="1175"/>
                              </a:lnTo>
                              <a:lnTo>
                                <a:pt x="2004" y="1170"/>
                              </a:lnTo>
                              <a:lnTo>
                                <a:pt x="2020" y="1161"/>
                              </a:lnTo>
                              <a:lnTo>
                                <a:pt x="2034" y="1149"/>
                              </a:lnTo>
                              <a:lnTo>
                                <a:pt x="2046" y="1136"/>
                              </a:lnTo>
                              <a:lnTo>
                                <a:pt x="2055" y="1119"/>
                              </a:lnTo>
                              <a:lnTo>
                                <a:pt x="2059" y="1101"/>
                              </a:lnTo>
                              <a:lnTo>
                                <a:pt x="2062" y="1083"/>
                              </a:lnTo>
                              <a:lnTo>
                                <a:pt x="2059" y="1064"/>
                              </a:lnTo>
                              <a:lnTo>
                                <a:pt x="2055" y="1046"/>
                              </a:lnTo>
                              <a:lnTo>
                                <a:pt x="2046" y="1030"/>
                              </a:lnTo>
                              <a:lnTo>
                                <a:pt x="2034" y="1016"/>
                              </a:lnTo>
                              <a:lnTo>
                                <a:pt x="2020" y="1004"/>
                              </a:lnTo>
                              <a:lnTo>
                                <a:pt x="2004" y="995"/>
                              </a:lnTo>
                              <a:lnTo>
                                <a:pt x="1986" y="990"/>
                              </a:lnTo>
                              <a:lnTo>
                                <a:pt x="1967" y="988"/>
                              </a:lnTo>
                              <a:lnTo>
                                <a:pt x="1960" y="988"/>
                              </a:lnTo>
                              <a:lnTo>
                                <a:pt x="1953" y="989"/>
                              </a:lnTo>
                              <a:lnTo>
                                <a:pt x="1948" y="990"/>
                              </a:lnTo>
                              <a:lnTo>
                                <a:pt x="1941" y="992"/>
                              </a:lnTo>
                              <a:lnTo>
                                <a:pt x="1935" y="994"/>
                              </a:lnTo>
                              <a:lnTo>
                                <a:pt x="1929" y="996"/>
                              </a:lnTo>
                              <a:lnTo>
                                <a:pt x="1923" y="998"/>
                              </a:lnTo>
                              <a:lnTo>
                                <a:pt x="1918" y="1002"/>
                              </a:lnTo>
                              <a:lnTo>
                                <a:pt x="1918" y="166"/>
                              </a:lnTo>
                              <a:lnTo>
                                <a:pt x="1878" y="166"/>
                              </a:lnTo>
                              <a:lnTo>
                                <a:pt x="1878" y="759"/>
                              </a:lnTo>
                              <a:lnTo>
                                <a:pt x="1177" y="759"/>
                              </a:lnTo>
                              <a:lnTo>
                                <a:pt x="1177" y="677"/>
                              </a:lnTo>
                              <a:lnTo>
                                <a:pt x="1755" y="677"/>
                              </a:lnTo>
                              <a:lnTo>
                                <a:pt x="1767" y="676"/>
                              </a:lnTo>
                              <a:lnTo>
                                <a:pt x="1778" y="672"/>
                              </a:lnTo>
                              <a:lnTo>
                                <a:pt x="1787" y="667"/>
                              </a:lnTo>
                              <a:lnTo>
                                <a:pt x="1797" y="660"/>
                              </a:lnTo>
                              <a:lnTo>
                                <a:pt x="1804" y="651"/>
                              </a:lnTo>
                              <a:lnTo>
                                <a:pt x="1808" y="641"/>
                              </a:lnTo>
                              <a:lnTo>
                                <a:pt x="1812" y="630"/>
                              </a:lnTo>
                              <a:lnTo>
                                <a:pt x="1813" y="618"/>
                              </a:lnTo>
                              <a:lnTo>
                                <a:pt x="1813" y="481"/>
                              </a:lnTo>
                              <a:lnTo>
                                <a:pt x="1812" y="470"/>
                              </a:lnTo>
                              <a:lnTo>
                                <a:pt x="1808" y="458"/>
                              </a:lnTo>
                              <a:lnTo>
                                <a:pt x="1804" y="449"/>
                              </a:lnTo>
                              <a:lnTo>
                                <a:pt x="1797" y="440"/>
                              </a:lnTo>
                              <a:lnTo>
                                <a:pt x="1787" y="433"/>
                              </a:lnTo>
                              <a:lnTo>
                                <a:pt x="1778" y="427"/>
                              </a:lnTo>
                              <a:lnTo>
                                <a:pt x="1767" y="424"/>
                              </a:lnTo>
                              <a:lnTo>
                                <a:pt x="1755" y="422"/>
                              </a:lnTo>
                              <a:lnTo>
                                <a:pt x="1739" y="422"/>
                              </a:lnTo>
                              <a:lnTo>
                                <a:pt x="1739" y="376"/>
                              </a:lnTo>
                              <a:lnTo>
                                <a:pt x="1700" y="376"/>
                              </a:lnTo>
                              <a:lnTo>
                                <a:pt x="1700" y="422"/>
                              </a:lnTo>
                              <a:lnTo>
                                <a:pt x="1520" y="422"/>
                              </a:lnTo>
                              <a:lnTo>
                                <a:pt x="1552" y="413"/>
                              </a:lnTo>
                              <a:lnTo>
                                <a:pt x="1582" y="404"/>
                              </a:lnTo>
                              <a:lnTo>
                                <a:pt x="1610" y="394"/>
                              </a:lnTo>
                              <a:lnTo>
                                <a:pt x="1635" y="383"/>
                              </a:lnTo>
                              <a:lnTo>
                                <a:pt x="1656" y="374"/>
                              </a:lnTo>
                              <a:lnTo>
                                <a:pt x="1674" y="365"/>
                              </a:lnTo>
                              <a:lnTo>
                                <a:pt x="1689" y="358"/>
                              </a:lnTo>
                              <a:lnTo>
                                <a:pt x="1700" y="352"/>
                              </a:lnTo>
                              <a:lnTo>
                                <a:pt x="1700" y="376"/>
                              </a:lnTo>
                              <a:lnTo>
                                <a:pt x="1739" y="376"/>
                              </a:lnTo>
                              <a:lnTo>
                                <a:pt x="1739" y="166"/>
                              </a:lnTo>
                              <a:lnTo>
                                <a:pt x="1700" y="163"/>
                              </a:lnTo>
                              <a:lnTo>
                                <a:pt x="1700" y="308"/>
                              </a:lnTo>
                              <a:lnTo>
                                <a:pt x="1691" y="304"/>
                              </a:lnTo>
                              <a:lnTo>
                                <a:pt x="1678" y="297"/>
                              </a:lnTo>
                              <a:lnTo>
                                <a:pt x="1662" y="290"/>
                              </a:lnTo>
                              <a:lnTo>
                                <a:pt x="1646" y="281"/>
                              </a:lnTo>
                              <a:lnTo>
                                <a:pt x="1630" y="274"/>
                              </a:lnTo>
                              <a:lnTo>
                                <a:pt x="1616" y="267"/>
                              </a:lnTo>
                              <a:lnTo>
                                <a:pt x="1606" y="262"/>
                              </a:lnTo>
                              <a:lnTo>
                                <a:pt x="1603" y="261"/>
                              </a:lnTo>
                              <a:lnTo>
                                <a:pt x="1603" y="145"/>
                              </a:lnTo>
                              <a:lnTo>
                                <a:pt x="1563" y="137"/>
                              </a:lnTo>
                              <a:lnTo>
                                <a:pt x="1563" y="250"/>
                              </a:lnTo>
                              <a:lnTo>
                                <a:pt x="1551" y="246"/>
                              </a:lnTo>
                              <a:lnTo>
                                <a:pt x="1541" y="243"/>
                              </a:lnTo>
                              <a:lnTo>
                                <a:pt x="1529" y="239"/>
                              </a:lnTo>
                              <a:lnTo>
                                <a:pt x="1517" y="237"/>
                              </a:lnTo>
                              <a:lnTo>
                                <a:pt x="1505" y="234"/>
                              </a:lnTo>
                              <a:lnTo>
                                <a:pt x="1492" y="231"/>
                              </a:lnTo>
                              <a:lnTo>
                                <a:pt x="1479" y="229"/>
                              </a:lnTo>
                              <a:lnTo>
                                <a:pt x="1466" y="227"/>
                              </a:lnTo>
                              <a:lnTo>
                                <a:pt x="1466" y="110"/>
                              </a:lnTo>
                              <a:lnTo>
                                <a:pt x="1426" y="121"/>
                              </a:lnTo>
                              <a:lnTo>
                                <a:pt x="1426" y="220"/>
                              </a:lnTo>
                              <a:lnTo>
                                <a:pt x="1417" y="219"/>
                              </a:lnTo>
                              <a:lnTo>
                                <a:pt x="1408" y="219"/>
                              </a:lnTo>
                              <a:lnTo>
                                <a:pt x="1400" y="217"/>
                              </a:lnTo>
                              <a:lnTo>
                                <a:pt x="1391" y="217"/>
                              </a:lnTo>
                              <a:lnTo>
                                <a:pt x="1383" y="216"/>
                              </a:lnTo>
                              <a:lnTo>
                                <a:pt x="1374" y="216"/>
                              </a:lnTo>
                              <a:lnTo>
                                <a:pt x="1364" y="216"/>
                              </a:lnTo>
                              <a:lnTo>
                                <a:pt x="1355" y="216"/>
                              </a:lnTo>
                              <a:lnTo>
                                <a:pt x="1348" y="216"/>
                              </a:lnTo>
                              <a:lnTo>
                                <a:pt x="1343" y="216"/>
                              </a:lnTo>
                              <a:lnTo>
                                <a:pt x="1336" y="216"/>
                              </a:lnTo>
                              <a:lnTo>
                                <a:pt x="1330" y="217"/>
                              </a:lnTo>
                              <a:lnTo>
                                <a:pt x="1330" y="107"/>
                              </a:lnTo>
                              <a:lnTo>
                                <a:pt x="1290" y="115"/>
                              </a:lnTo>
                              <a:lnTo>
                                <a:pt x="1290" y="220"/>
                              </a:lnTo>
                              <a:lnTo>
                                <a:pt x="1275" y="222"/>
                              </a:lnTo>
                              <a:lnTo>
                                <a:pt x="1260" y="224"/>
                              </a:lnTo>
                              <a:lnTo>
                                <a:pt x="1246" y="227"/>
                              </a:lnTo>
                              <a:lnTo>
                                <a:pt x="1231" y="229"/>
                              </a:lnTo>
                              <a:lnTo>
                                <a:pt x="1217" y="232"/>
                              </a:lnTo>
                              <a:lnTo>
                                <a:pt x="1203" y="235"/>
                              </a:lnTo>
                              <a:lnTo>
                                <a:pt x="1189" y="238"/>
                              </a:lnTo>
                              <a:lnTo>
                                <a:pt x="1177" y="242"/>
                              </a:lnTo>
                              <a:lnTo>
                                <a:pt x="1177" y="57"/>
                              </a:lnTo>
                              <a:lnTo>
                                <a:pt x="1178" y="50"/>
                              </a:lnTo>
                              <a:lnTo>
                                <a:pt x="1182" y="45"/>
                              </a:lnTo>
                              <a:lnTo>
                                <a:pt x="1188" y="41"/>
                              </a:lnTo>
                              <a:lnTo>
                                <a:pt x="1195" y="40"/>
                              </a:lnTo>
                              <a:lnTo>
                                <a:pt x="1290" y="40"/>
                              </a:lnTo>
                              <a:lnTo>
                                <a:pt x="1290" y="115"/>
                              </a:lnTo>
                              <a:lnTo>
                                <a:pt x="1330" y="107"/>
                              </a:lnTo>
                              <a:lnTo>
                                <a:pt x="1330" y="40"/>
                              </a:lnTo>
                              <a:lnTo>
                                <a:pt x="1426" y="40"/>
                              </a:lnTo>
                              <a:lnTo>
                                <a:pt x="1426" y="121"/>
                              </a:lnTo>
                              <a:lnTo>
                                <a:pt x="1466" y="110"/>
                              </a:lnTo>
                              <a:lnTo>
                                <a:pt x="1466" y="40"/>
                              </a:lnTo>
                              <a:lnTo>
                                <a:pt x="1563" y="40"/>
                              </a:lnTo>
                              <a:lnTo>
                                <a:pt x="1563" y="137"/>
                              </a:lnTo>
                              <a:lnTo>
                                <a:pt x="1603" y="145"/>
                              </a:lnTo>
                              <a:lnTo>
                                <a:pt x="1603" y="40"/>
                              </a:lnTo>
                              <a:lnTo>
                                <a:pt x="1700" y="40"/>
                              </a:lnTo>
                              <a:lnTo>
                                <a:pt x="1700" y="163"/>
                              </a:lnTo>
                              <a:lnTo>
                                <a:pt x="1739" y="166"/>
                              </a:lnTo>
                              <a:lnTo>
                                <a:pt x="1739" y="40"/>
                              </a:lnTo>
                              <a:lnTo>
                                <a:pt x="1860" y="40"/>
                              </a:lnTo>
                              <a:lnTo>
                                <a:pt x="1867" y="41"/>
                              </a:lnTo>
                              <a:lnTo>
                                <a:pt x="1873" y="45"/>
                              </a:lnTo>
                              <a:lnTo>
                                <a:pt x="1877" y="50"/>
                              </a:lnTo>
                              <a:lnTo>
                                <a:pt x="1878" y="57"/>
                              </a:lnTo>
                              <a:lnTo>
                                <a:pt x="1878" y="166"/>
                              </a:lnTo>
                              <a:lnTo>
                                <a:pt x="1918" y="166"/>
                              </a:lnTo>
                              <a:lnTo>
                                <a:pt x="1918" y="57"/>
                              </a:lnTo>
                              <a:lnTo>
                                <a:pt x="1916" y="46"/>
                              </a:lnTo>
                              <a:lnTo>
                                <a:pt x="1913" y="35"/>
                              </a:lnTo>
                              <a:lnTo>
                                <a:pt x="1908" y="25"/>
                              </a:lnTo>
                              <a:lnTo>
                                <a:pt x="1901" y="17"/>
                              </a:lnTo>
                              <a:lnTo>
                                <a:pt x="1892" y="10"/>
                              </a:lnTo>
                              <a:lnTo>
                                <a:pt x="1883" y="4"/>
                              </a:lnTo>
                              <a:lnTo>
                                <a:pt x="1872" y="1"/>
                              </a:lnTo>
                              <a:lnTo>
                                <a:pt x="1860" y="0"/>
                              </a:lnTo>
                              <a:lnTo>
                                <a:pt x="1195" y="0"/>
                              </a:lnTo>
                              <a:lnTo>
                                <a:pt x="1184" y="1"/>
                              </a:lnTo>
                              <a:lnTo>
                                <a:pt x="1173" y="4"/>
                              </a:lnTo>
                              <a:lnTo>
                                <a:pt x="1164" y="10"/>
                              </a:lnTo>
                              <a:lnTo>
                                <a:pt x="1155" y="17"/>
                              </a:lnTo>
                              <a:lnTo>
                                <a:pt x="1148" y="25"/>
                              </a:lnTo>
                              <a:lnTo>
                                <a:pt x="1143" y="35"/>
                              </a:lnTo>
                              <a:lnTo>
                                <a:pt x="1140" y="46"/>
                              </a:lnTo>
                              <a:lnTo>
                                <a:pt x="1139" y="57"/>
                              </a:lnTo>
                              <a:lnTo>
                                <a:pt x="1139" y="253"/>
                              </a:lnTo>
                              <a:lnTo>
                                <a:pt x="1110" y="263"/>
                              </a:lnTo>
                              <a:lnTo>
                                <a:pt x="1084" y="274"/>
                              </a:lnTo>
                              <a:lnTo>
                                <a:pt x="1061" y="283"/>
                              </a:lnTo>
                              <a:lnTo>
                                <a:pt x="1043" y="292"/>
                              </a:lnTo>
                              <a:lnTo>
                                <a:pt x="1027" y="300"/>
                              </a:lnTo>
                              <a:lnTo>
                                <a:pt x="1015" y="306"/>
                              </a:lnTo>
                              <a:lnTo>
                                <a:pt x="1007" y="311"/>
                              </a:lnTo>
                              <a:lnTo>
                                <a:pt x="1004" y="313"/>
                              </a:lnTo>
                              <a:lnTo>
                                <a:pt x="976" y="330"/>
                              </a:lnTo>
                              <a:lnTo>
                                <a:pt x="1004" y="348"/>
                              </a:lnTo>
                              <a:lnTo>
                                <a:pt x="1005" y="349"/>
                              </a:lnTo>
                              <a:lnTo>
                                <a:pt x="1008" y="350"/>
                              </a:lnTo>
                              <a:lnTo>
                                <a:pt x="1013" y="353"/>
                              </a:lnTo>
                              <a:lnTo>
                                <a:pt x="1020" y="357"/>
                              </a:lnTo>
                              <a:lnTo>
                                <a:pt x="1028" y="360"/>
                              </a:lnTo>
                              <a:lnTo>
                                <a:pt x="1036" y="365"/>
                              </a:lnTo>
                              <a:lnTo>
                                <a:pt x="1048" y="371"/>
                              </a:lnTo>
                              <a:lnTo>
                                <a:pt x="1059" y="375"/>
                              </a:lnTo>
                              <a:lnTo>
                                <a:pt x="1072" y="381"/>
                              </a:lnTo>
                              <a:lnTo>
                                <a:pt x="1086" y="387"/>
                              </a:lnTo>
                              <a:lnTo>
                                <a:pt x="1101" y="394"/>
                              </a:lnTo>
                              <a:lnTo>
                                <a:pt x="1117" y="399"/>
                              </a:lnTo>
                              <a:lnTo>
                                <a:pt x="1134" y="405"/>
                              </a:lnTo>
                              <a:lnTo>
                                <a:pt x="1152" y="411"/>
                              </a:lnTo>
                              <a:lnTo>
                                <a:pt x="1171" y="417"/>
                              </a:lnTo>
                              <a:lnTo>
                                <a:pt x="1190" y="422"/>
                              </a:lnTo>
                              <a:lnTo>
                                <a:pt x="784" y="422"/>
                              </a:lnTo>
                              <a:lnTo>
                                <a:pt x="784" y="278"/>
                              </a:lnTo>
                              <a:lnTo>
                                <a:pt x="743" y="283"/>
                              </a:lnTo>
                              <a:lnTo>
                                <a:pt x="743" y="422"/>
                              </a:lnTo>
                              <a:lnTo>
                                <a:pt x="605" y="422"/>
                              </a:lnTo>
                              <a:lnTo>
                                <a:pt x="605" y="243"/>
                              </a:lnTo>
                              <a:lnTo>
                                <a:pt x="565" y="236"/>
                              </a:lnTo>
                              <a:lnTo>
                                <a:pt x="565" y="422"/>
                              </a:lnTo>
                              <a:lnTo>
                                <a:pt x="468" y="422"/>
                              </a:lnTo>
                              <a:lnTo>
                                <a:pt x="468" y="254"/>
                              </a:lnTo>
                              <a:lnTo>
                                <a:pt x="429" y="259"/>
                              </a:lnTo>
                              <a:lnTo>
                                <a:pt x="429" y="422"/>
                              </a:lnTo>
                              <a:lnTo>
                                <a:pt x="332" y="422"/>
                              </a:lnTo>
                              <a:lnTo>
                                <a:pt x="332" y="270"/>
                              </a:lnTo>
                              <a:lnTo>
                                <a:pt x="292" y="259"/>
                              </a:lnTo>
                              <a:lnTo>
                                <a:pt x="292" y="422"/>
                              </a:lnTo>
                              <a:lnTo>
                                <a:pt x="195" y="422"/>
                              </a:lnTo>
                              <a:lnTo>
                                <a:pt x="195" y="270"/>
                              </a:lnTo>
                              <a:lnTo>
                                <a:pt x="156" y="267"/>
                              </a:lnTo>
                              <a:lnTo>
                                <a:pt x="156" y="422"/>
                              </a:lnTo>
                              <a:lnTo>
                                <a:pt x="129" y="422"/>
                              </a:lnTo>
                              <a:lnTo>
                                <a:pt x="118" y="424"/>
                              </a:lnTo>
                              <a:lnTo>
                                <a:pt x="106" y="427"/>
                              </a:lnTo>
                              <a:lnTo>
                                <a:pt x="97" y="433"/>
                              </a:lnTo>
                              <a:lnTo>
                                <a:pt x="89" y="440"/>
                              </a:lnTo>
                              <a:lnTo>
                                <a:pt x="81" y="449"/>
                              </a:lnTo>
                              <a:lnTo>
                                <a:pt x="76" y="458"/>
                              </a:lnTo>
                              <a:lnTo>
                                <a:pt x="73" y="470"/>
                              </a:lnTo>
                              <a:lnTo>
                                <a:pt x="71" y="481"/>
                              </a:lnTo>
                              <a:lnTo>
                                <a:pt x="71" y="573"/>
                              </a:lnTo>
                              <a:lnTo>
                                <a:pt x="43" y="573"/>
                              </a:lnTo>
                              <a:lnTo>
                                <a:pt x="43" y="232"/>
                              </a:lnTo>
                              <a:lnTo>
                                <a:pt x="2" y="2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3178440" y="3988080"/>
                          <a:ext cx="1008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9" h="108">
                              <a:moveTo>
                                <a:pt x="54" y="0"/>
                              </a:moveTo>
                              <a:lnTo>
                                <a:pt x="65" y="1"/>
                              </a:lnTo>
                              <a:lnTo>
                                <a:pt x="75" y="4"/>
                              </a:lnTo>
                              <a:lnTo>
                                <a:pt x="85" y="9"/>
                              </a:lnTo>
                              <a:lnTo>
                                <a:pt x="93" y="16"/>
                              </a:lnTo>
                              <a:lnTo>
                                <a:pt x="100" y="24"/>
                              </a:lnTo>
                              <a:lnTo>
                                <a:pt x="104" y="33"/>
                              </a:lnTo>
                              <a:lnTo>
                                <a:pt x="108" y="43"/>
                              </a:lnTo>
                              <a:lnTo>
                                <a:pt x="109" y="54"/>
                              </a:lnTo>
                              <a:lnTo>
                                <a:pt x="108" y="64"/>
                              </a:lnTo>
                              <a:lnTo>
                                <a:pt x="104" y="75"/>
                              </a:lnTo>
                              <a:lnTo>
                                <a:pt x="100" y="84"/>
                              </a:lnTo>
                              <a:lnTo>
                                <a:pt x="93" y="92"/>
                              </a:lnTo>
                              <a:lnTo>
                                <a:pt x="85" y="99"/>
                              </a:lnTo>
                              <a:lnTo>
                                <a:pt x="75" y="103"/>
                              </a:lnTo>
                              <a:lnTo>
                                <a:pt x="65" y="107"/>
                              </a:lnTo>
                              <a:lnTo>
                                <a:pt x="54" y="108"/>
                              </a:lnTo>
                              <a:lnTo>
                                <a:pt x="43" y="107"/>
                              </a:lnTo>
                              <a:lnTo>
                                <a:pt x="33" y="103"/>
                              </a:lnTo>
                              <a:lnTo>
                                <a:pt x="24" y="99"/>
                              </a:lnTo>
                              <a:lnTo>
                                <a:pt x="16" y="92"/>
                              </a:lnTo>
                              <a:lnTo>
                                <a:pt x="9" y="84"/>
                              </a:lnTo>
                              <a:lnTo>
                                <a:pt x="4" y="75"/>
                              </a:lnTo>
                              <a:lnTo>
                                <a:pt x="1" y="64"/>
                              </a:lnTo>
                              <a:lnTo>
                                <a:pt x="0" y="54"/>
                              </a:lnTo>
                              <a:lnTo>
                                <a:pt x="1" y="43"/>
                              </a:lnTo>
                              <a:lnTo>
                                <a:pt x="4" y="33"/>
                              </a:lnTo>
                              <a:lnTo>
                                <a:pt x="9" y="24"/>
                              </a:lnTo>
                              <a:lnTo>
                                <a:pt x="16" y="16"/>
                              </a:lnTo>
                              <a:lnTo>
                                <a:pt x="24" y="9"/>
                              </a:lnTo>
                              <a:lnTo>
                                <a:pt x="33" y="4"/>
                              </a:lnTo>
                              <a:lnTo>
                                <a:pt x="43" y="1"/>
                              </a:lnTo>
                              <a:lnTo>
                                <a:pt x="5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>
                          <a:off x="3168000" y="3923640"/>
                          <a:ext cx="51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8" h="147">
                              <a:moveTo>
                                <a:pt x="298" y="0"/>
                              </a:moveTo>
                              <a:lnTo>
                                <a:pt x="322" y="0"/>
                              </a:lnTo>
                              <a:lnTo>
                                <a:pt x="347" y="2"/>
                              </a:lnTo>
                              <a:lnTo>
                                <a:pt x="370" y="4"/>
                              </a:lnTo>
                              <a:lnTo>
                                <a:pt x="393" y="8"/>
                              </a:lnTo>
                              <a:lnTo>
                                <a:pt x="416" y="11"/>
                              </a:lnTo>
                              <a:lnTo>
                                <a:pt x="437" y="16"/>
                              </a:lnTo>
                              <a:lnTo>
                                <a:pt x="457" y="21"/>
                              </a:lnTo>
                              <a:lnTo>
                                <a:pt x="478" y="26"/>
                              </a:lnTo>
                              <a:lnTo>
                                <a:pt x="496" y="32"/>
                              </a:lnTo>
                              <a:lnTo>
                                <a:pt x="515" y="39"/>
                              </a:lnTo>
                              <a:lnTo>
                                <a:pt x="531" y="44"/>
                              </a:lnTo>
                              <a:lnTo>
                                <a:pt x="547" y="50"/>
                              </a:lnTo>
                              <a:lnTo>
                                <a:pt x="562" y="57"/>
                              </a:lnTo>
                              <a:lnTo>
                                <a:pt x="575" y="63"/>
                              </a:lnTo>
                              <a:lnTo>
                                <a:pt x="588" y="68"/>
                              </a:lnTo>
                              <a:lnTo>
                                <a:pt x="598" y="73"/>
                              </a:lnTo>
                              <a:lnTo>
                                <a:pt x="588" y="79"/>
                              </a:lnTo>
                              <a:lnTo>
                                <a:pt x="575" y="84"/>
                              </a:lnTo>
                              <a:lnTo>
                                <a:pt x="562" y="89"/>
                              </a:lnTo>
                              <a:lnTo>
                                <a:pt x="547" y="96"/>
                              </a:lnTo>
                              <a:lnTo>
                                <a:pt x="531" y="102"/>
                              </a:lnTo>
                              <a:lnTo>
                                <a:pt x="515" y="108"/>
                              </a:lnTo>
                              <a:lnTo>
                                <a:pt x="496" y="115"/>
                              </a:lnTo>
                              <a:lnTo>
                                <a:pt x="478" y="121"/>
                              </a:lnTo>
                              <a:lnTo>
                                <a:pt x="457" y="125"/>
                              </a:lnTo>
                              <a:lnTo>
                                <a:pt x="437" y="131"/>
                              </a:lnTo>
                              <a:lnTo>
                                <a:pt x="416" y="135"/>
                              </a:lnTo>
                              <a:lnTo>
                                <a:pt x="393" y="139"/>
                              </a:lnTo>
                              <a:lnTo>
                                <a:pt x="370" y="142"/>
                              </a:lnTo>
                              <a:lnTo>
                                <a:pt x="347" y="145"/>
                              </a:lnTo>
                              <a:lnTo>
                                <a:pt x="322" y="147"/>
                              </a:lnTo>
                              <a:lnTo>
                                <a:pt x="298" y="147"/>
                              </a:lnTo>
                              <a:lnTo>
                                <a:pt x="274" y="147"/>
                              </a:lnTo>
                              <a:lnTo>
                                <a:pt x="250" y="145"/>
                              </a:lnTo>
                              <a:lnTo>
                                <a:pt x="227" y="142"/>
                              </a:lnTo>
                              <a:lnTo>
                                <a:pt x="204" y="139"/>
                              </a:lnTo>
                              <a:lnTo>
                                <a:pt x="182" y="135"/>
                              </a:lnTo>
                              <a:lnTo>
                                <a:pt x="160" y="131"/>
                              </a:lnTo>
                              <a:lnTo>
                                <a:pt x="139" y="125"/>
                              </a:lnTo>
                              <a:lnTo>
                                <a:pt x="120" y="121"/>
                              </a:lnTo>
                              <a:lnTo>
                                <a:pt x="101" y="115"/>
                              </a:lnTo>
                              <a:lnTo>
                                <a:pt x="83" y="108"/>
                              </a:lnTo>
                              <a:lnTo>
                                <a:pt x="65" y="102"/>
                              </a:lnTo>
                              <a:lnTo>
                                <a:pt x="50" y="96"/>
                              </a:lnTo>
                              <a:lnTo>
                                <a:pt x="35" y="89"/>
                              </a:lnTo>
                              <a:lnTo>
                                <a:pt x="23" y="84"/>
                              </a:lnTo>
                              <a:lnTo>
                                <a:pt x="10" y="79"/>
                              </a:lnTo>
                              <a:lnTo>
                                <a:pt x="0" y="73"/>
                              </a:lnTo>
                              <a:lnTo>
                                <a:pt x="10" y="68"/>
                              </a:lnTo>
                              <a:lnTo>
                                <a:pt x="23" y="63"/>
                              </a:lnTo>
                              <a:lnTo>
                                <a:pt x="35" y="57"/>
                              </a:lnTo>
                              <a:lnTo>
                                <a:pt x="50" y="50"/>
                              </a:lnTo>
                              <a:lnTo>
                                <a:pt x="65" y="44"/>
                              </a:lnTo>
                              <a:lnTo>
                                <a:pt x="83" y="39"/>
                              </a:lnTo>
                              <a:lnTo>
                                <a:pt x="101" y="32"/>
                              </a:lnTo>
                              <a:lnTo>
                                <a:pt x="120" y="26"/>
                              </a:lnTo>
                              <a:lnTo>
                                <a:pt x="139" y="21"/>
                              </a:lnTo>
                              <a:lnTo>
                                <a:pt x="160" y="16"/>
                              </a:lnTo>
                              <a:lnTo>
                                <a:pt x="182" y="11"/>
                              </a:lnTo>
                              <a:lnTo>
                                <a:pt x="204" y="8"/>
                              </a:lnTo>
                              <a:lnTo>
                                <a:pt x="227" y="4"/>
                              </a:lnTo>
                              <a:lnTo>
                                <a:pt x="250" y="2"/>
                              </a:lnTo>
                              <a:lnTo>
                                <a:pt x="274" y="0"/>
                              </a:lnTo>
                              <a:lnTo>
                                <a:pt x="29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>
                          <a:off x="3144600" y="3941640"/>
                          <a:ext cx="8568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88" h="174">
                              <a:moveTo>
                                <a:pt x="971" y="0"/>
                              </a:moveTo>
                              <a:lnTo>
                                <a:pt x="978" y="1"/>
                              </a:lnTo>
                              <a:lnTo>
                                <a:pt x="984" y="6"/>
                              </a:lnTo>
                              <a:lnTo>
                                <a:pt x="987" y="11"/>
                              </a:lnTo>
                              <a:lnTo>
                                <a:pt x="988" y="18"/>
                              </a:lnTo>
                              <a:lnTo>
                                <a:pt x="988" y="155"/>
                              </a:lnTo>
                              <a:lnTo>
                                <a:pt x="987" y="162"/>
                              </a:lnTo>
                              <a:lnTo>
                                <a:pt x="984" y="168"/>
                              </a:lnTo>
                              <a:lnTo>
                                <a:pt x="978" y="173"/>
                              </a:lnTo>
                              <a:lnTo>
                                <a:pt x="971" y="174"/>
                              </a:lnTo>
                              <a:lnTo>
                                <a:pt x="0" y="174"/>
                              </a:lnTo>
                              <a:lnTo>
                                <a:pt x="0" y="0"/>
                              </a:lnTo>
                              <a:lnTo>
                                <a:pt x="97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3080520" y="3988440"/>
                          <a:ext cx="86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9" h="108">
                              <a:moveTo>
                                <a:pt x="55" y="0"/>
                              </a:moveTo>
                              <a:lnTo>
                                <a:pt x="65" y="1"/>
                              </a:lnTo>
                              <a:lnTo>
                                <a:pt x="75" y="5"/>
                              </a:lnTo>
                              <a:lnTo>
                                <a:pt x="84" y="9"/>
                              </a:lnTo>
                              <a:lnTo>
                                <a:pt x="93" y="16"/>
                              </a:lnTo>
                              <a:lnTo>
                                <a:pt x="99" y="24"/>
                              </a:lnTo>
                              <a:lnTo>
                                <a:pt x="104" y="33"/>
                              </a:lnTo>
                              <a:lnTo>
                                <a:pt x="108" y="44"/>
                              </a:lnTo>
                              <a:lnTo>
                                <a:pt x="109" y="54"/>
                              </a:lnTo>
                              <a:lnTo>
                                <a:pt x="108" y="64"/>
                              </a:lnTo>
                              <a:lnTo>
                                <a:pt x="104" y="75"/>
                              </a:lnTo>
                              <a:lnTo>
                                <a:pt x="99" y="84"/>
                              </a:lnTo>
                              <a:lnTo>
                                <a:pt x="93" y="92"/>
                              </a:lnTo>
                              <a:lnTo>
                                <a:pt x="84" y="99"/>
                              </a:lnTo>
                              <a:lnTo>
                                <a:pt x="75" y="104"/>
                              </a:lnTo>
                              <a:lnTo>
                                <a:pt x="65" y="107"/>
                              </a:lnTo>
                              <a:lnTo>
                                <a:pt x="55" y="108"/>
                              </a:lnTo>
                              <a:lnTo>
                                <a:pt x="44" y="107"/>
                              </a:lnTo>
                              <a:lnTo>
                                <a:pt x="34" y="104"/>
                              </a:lnTo>
                              <a:lnTo>
                                <a:pt x="25" y="99"/>
                              </a:lnTo>
                              <a:lnTo>
                                <a:pt x="16" y="92"/>
                              </a:lnTo>
                              <a:lnTo>
                                <a:pt x="10" y="84"/>
                              </a:lnTo>
                              <a:lnTo>
                                <a:pt x="5" y="75"/>
                              </a:lnTo>
                              <a:lnTo>
                                <a:pt x="1" y="64"/>
                              </a:lnTo>
                              <a:lnTo>
                                <a:pt x="0" y="54"/>
                              </a:lnTo>
                              <a:lnTo>
                                <a:pt x="1" y="44"/>
                              </a:lnTo>
                              <a:lnTo>
                                <a:pt x="5" y="33"/>
                              </a:lnTo>
                              <a:lnTo>
                                <a:pt x="10" y="24"/>
                              </a:lnTo>
                              <a:lnTo>
                                <a:pt x="16" y="16"/>
                              </a:lnTo>
                              <a:lnTo>
                                <a:pt x="25" y="9"/>
                              </a:lnTo>
                              <a:lnTo>
                                <a:pt x="34" y="5"/>
                              </a:lnTo>
                              <a:lnTo>
                                <a:pt x="44" y="1"/>
                              </a:lnTo>
                              <a:lnTo>
                                <a:pt x="5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>
                          <a:off x="3077280" y="3906360"/>
                          <a:ext cx="6732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2" h="229">
                              <a:moveTo>
                                <a:pt x="41" y="178"/>
                              </a:moveTo>
                              <a:lnTo>
                                <a:pt x="41" y="57"/>
                              </a:lnTo>
                              <a:lnTo>
                                <a:pt x="42" y="50"/>
                              </a:lnTo>
                              <a:lnTo>
                                <a:pt x="46" y="45"/>
                              </a:lnTo>
                              <a:lnTo>
                                <a:pt x="51" y="40"/>
                              </a:lnTo>
                              <a:lnTo>
                                <a:pt x="58" y="39"/>
                              </a:lnTo>
                              <a:lnTo>
                                <a:pt x="154" y="39"/>
                              </a:lnTo>
                              <a:lnTo>
                                <a:pt x="154" y="213"/>
                              </a:lnTo>
                              <a:lnTo>
                                <a:pt x="193" y="216"/>
                              </a:lnTo>
                              <a:lnTo>
                                <a:pt x="193" y="39"/>
                              </a:lnTo>
                              <a:lnTo>
                                <a:pt x="290" y="39"/>
                              </a:lnTo>
                              <a:lnTo>
                                <a:pt x="290" y="205"/>
                              </a:lnTo>
                              <a:lnTo>
                                <a:pt x="330" y="216"/>
                              </a:lnTo>
                              <a:lnTo>
                                <a:pt x="330" y="39"/>
                              </a:lnTo>
                              <a:lnTo>
                                <a:pt x="427" y="39"/>
                              </a:lnTo>
                              <a:lnTo>
                                <a:pt x="427" y="205"/>
                              </a:lnTo>
                              <a:lnTo>
                                <a:pt x="466" y="200"/>
                              </a:lnTo>
                              <a:lnTo>
                                <a:pt x="466" y="39"/>
                              </a:lnTo>
                              <a:lnTo>
                                <a:pt x="563" y="39"/>
                              </a:lnTo>
                              <a:lnTo>
                                <a:pt x="563" y="182"/>
                              </a:lnTo>
                              <a:lnTo>
                                <a:pt x="603" y="189"/>
                              </a:lnTo>
                              <a:lnTo>
                                <a:pt x="603" y="39"/>
                              </a:lnTo>
                              <a:lnTo>
                                <a:pt x="724" y="39"/>
                              </a:lnTo>
                              <a:lnTo>
                                <a:pt x="731" y="40"/>
                              </a:lnTo>
                              <a:lnTo>
                                <a:pt x="737" y="45"/>
                              </a:lnTo>
                              <a:lnTo>
                                <a:pt x="740" y="50"/>
                              </a:lnTo>
                              <a:lnTo>
                                <a:pt x="741" y="57"/>
                              </a:lnTo>
                              <a:lnTo>
                                <a:pt x="741" y="229"/>
                              </a:lnTo>
                              <a:lnTo>
                                <a:pt x="782" y="224"/>
                              </a:lnTo>
                              <a:lnTo>
                                <a:pt x="782" y="57"/>
                              </a:lnTo>
                              <a:lnTo>
                                <a:pt x="780" y="46"/>
                              </a:lnTo>
                              <a:lnTo>
                                <a:pt x="777" y="34"/>
                              </a:lnTo>
                              <a:lnTo>
                                <a:pt x="772" y="25"/>
                              </a:lnTo>
                              <a:lnTo>
                                <a:pt x="766" y="16"/>
                              </a:lnTo>
                              <a:lnTo>
                                <a:pt x="756" y="9"/>
                              </a:lnTo>
                              <a:lnTo>
                                <a:pt x="747" y="4"/>
                              </a:lnTo>
                              <a:lnTo>
                                <a:pt x="736" y="1"/>
                              </a:lnTo>
                              <a:lnTo>
                                <a:pt x="724" y="0"/>
                              </a:lnTo>
                              <a:lnTo>
                                <a:pt x="58" y="0"/>
                              </a:lnTo>
                              <a:lnTo>
                                <a:pt x="46" y="1"/>
                              </a:lnTo>
                              <a:lnTo>
                                <a:pt x="36" y="4"/>
                              </a:lnTo>
                              <a:lnTo>
                                <a:pt x="26" y="9"/>
                              </a:lnTo>
                              <a:lnTo>
                                <a:pt x="18" y="16"/>
                              </a:lnTo>
                              <a:lnTo>
                                <a:pt x="11" y="25"/>
                              </a:lnTo>
                              <a:lnTo>
                                <a:pt x="5" y="34"/>
                              </a:lnTo>
                              <a:lnTo>
                                <a:pt x="1" y="46"/>
                              </a:lnTo>
                              <a:lnTo>
                                <a:pt x="0" y="57"/>
                              </a:lnTo>
                              <a:lnTo>
                                <a:pt x="0" y="170"/>
                              </a:lnTo>
                              <a:lnTo>
                                <a:pt x="41" y="17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>
                          <a:off x="3143880" y="3990240"/>
                          <a:ext cx="1008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9" h="109">
                              <a:moveTo>
                                <a:pt x="54" y="0"/>
                              </a:moveTo>
                              <a:lnTo>
                                <a:pt x="65" y="1"/>
                              </a:lnTo>
                              <a:lnTo>
                                <a:pt x="75" y="4"/>
                              </a:lnTo>
                              <a:lnTo>
                                <a:pt x="85" y="9"/>
                              </a:lnTo>
                              <a:lnTo>
                                <a:pt x="93" y="16"/>
                              </a:lnTo>
                              <a:lnTo>
                                <a:pt x="100" y="24"/>
                              </a:lnTo>
                              <a:lnTo>
                                <a:pt x="105" y="34"/>
                              </a:lnTo>
                              <a:lnTo>
                                <a:pt x="108" y="43"/>
                              </a:lnTo>
                              <a:lnTo>
                                <a:pt x="109" y="55"/>
                              </a:lnTo>
                              <a:lnTo>
                                <a:pt x="108" y="65"/>
                              </a:lnTo>
                              <a:lnTo>
                                <a:pt x="105" y="76"/>
                              </a:lnTo>
                              <a:lnTo>
                                <a:pt x="100" y="85"/>
                              </a:lnTo>
                              <a:lnTo>
                                <a:pt x="93" y="93"/>
                              </a:lnTo>
                              <a:lnTo>
                                <a:pt x="85" y="100"/>
                              </a:lnTo>
                              <a:lnTo>
                                <a:pt x="75" y="105"/>
                              </a:lnTo>
                              <a:lnTo>
                                <a:pt x="65" y="108"/>
                              </a:lnTo>
                              <a:lnTo>
                                <a:pt x="54" y="109"/>
                              </a:lnTo>
                              <a:lnTo>
                                <a:pt x="44" y="108"/>
                              </a:lnTo>
                              <a:lnTo>
                                <a:pt x="33" y="105"/>
                              </a:lnTo>
                              <a:lnTo>
                                <a:pt x="24" y="100"/>
                              </a:lnTo>
                              <a:lnTo>
                                <a:pt x="16" y="93"/>
                              </a:lnTo>
                              <a:lnTo>
                                <a:pt x="9" y="85"/>
                              </a:lnTo>
                              <a:lnTo>
                                <a:pt x="4" y="76"/>
                              </a:lnTo>
                              <a:lnTo>
                                <a:pt x="1" y="65"/>
                              </a:lnTo>
                              <a:lnTo>
                                <a:pt x="0" y="55"/>
                              </a:lnTo>
                              <a:lnTo>
                                <a:pt x="1" y="43"/>
                              </a:lnTo>
                              <a:lnTo>
                                <a:pt x="4" y="34"/>
                              </a:lnTo>
                              <a:lnTo>
                                <a:pt x="9" y="24"/>
                              </a:lnTo>
                              <a:lnTo>
                                <a:pt x="16" y="16"/>
                              </a:lnTo>
                              <a:lnTo>
                                <a:pt x="24" y="9"/>
                              </a:lnTo>
                              <a:lnTo>
                                <a:pt x="33" y="4"/>
                              </a:lnTo>
                              <a:lnTo>
                                <a:pt x="44" y="1"/>
                              </a:lnTo>
                              <a:lnTo>
                                <a:pt x="5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>
                          <a:off x="3243240" y="3990240"/>
                          <a:ext cx="86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" h="109">
                              <a:moveTo>
                                <a:pt x="54" y="109"/>
                              </a:moveTo>
                              <a:lnTo>
                                <a:pt x="44" y="108"/>
                              </a:lnTo>
                              <a:lnTo>
                                <a:pt x="33" y="104"/>
                              </a:lnTo>
                              <a:lnTo>
                                <a:pt x="24" y="99"/>
                              </a:lnTo>
                              <a:lnTo>
                                <a:pt x="16" y="93"/>
                              </a:lnTo>
                              <a:lnTo>
                                <a:pt x="9" y="84"/>
                              </a:lnTo>
                              <a:lnTo>
                                <a:pt x="5" y="75"/>
                              </a:lnTo>
                              <a:lnTo>
                                <a:pt x="1" y="65"/>
                              </a:lnTo>
                              <a:lnTo>
                                <a:pt x="0" y="55"/>
                              </a:lnTo>
                              <a:lnTo>
                                <a:pt x="1" y="44"/>
                              </a:lnTo>
                              <a:lnTo>
                                <a:pt x="5" y="34"/>
                              </a:lnTo>
                              <a:lnTo>
                                <a:pt x="9" y="25"/>
                              </a:lnTo>
                              <a:lnTo>
                                <a:pt x="16" y="17"/>
                              </a:lnTo>
                              <a:lnTo>
                                <a:pt x="24" y="10"/>
                              </a:lnTo>
                              <a:lnTo>
                                <a:pt x="33" y="5"/>
                              </a:lnTo>
                              <a:lnTo>
                                <a:pt x="44" y="2"/>
                              </a:lnTo>
                              <a:lnTo>
                                <a:pt x="54" y="0"/>
                              </a:lnTo>
                              <a:lnTo>
                                <a:pt x="65" y="2"/>
                              </a:lnTo>
                              <a:lnTo>
                                <a:pt x="75" y="5"/>
                              </a:lnTo>
                              <a:lnTo>
                                <a:pt x="84" y="10"/>
                              </a:lnTo>
                              <a:lnTo>
                                <a:pt x="92" y="17"/>
                              </a:lnTo>
                              <a:lnTo>
                                <a:pt x="99" y="25"/>
                              </a:lnTo>
                              <a:lnTo>
                                <a:pt x="104" y="34"/>
                              </a:lnTo>
                              <a:lnTo>
                                <a:pt x="107" y="44"/>
                              </a:lnTo>
                              <a:lnTo>
                                <a:pt x="108" y="55"/>
                              </a:lnTo>
                              <a:lnTo>
                                <a:pt x="107" y="65"/>
                              </a:lnTo>
                              <a:lnTo>
                                <a:pt x="104" y="75"/>
                              </a:lnTo>
                              <a:lnTo>
                                <a:pt x="99" y="84"/>
                              </a:lnTo>
                              <a:lnTo>
                                <a:pt x="92" y="93"/>
                              </a:lnTo>
                              <a:lnTo>
                                <a:pt x="84" y="99"/>
                              </a:lnTo>
                              <a:lnTo>
                                <a:pt x="75" y="104"/>
                              </a:lnTo>
                              <a:lnTo>
                                <a:pt x="65" y="108"/>
                              </a:lnTo>
                              <a:lnTo>
                                <a:pt x="54" y="10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4" name=""/>
                    <p:cNvGrpSpPr/>
                    <p:nvPr/>
                  </p:nvGrpSpPr>
                  <p:grpSpPr>
                    <a:xfrm>
                      <a:off x="3498480" y="3694320"/>
                      <a:ext cx="467640" cy="393840"/>
                      <a:chOff x="3498480" y="3694320"/>
                      <a:chExt cx="467640" cy="393840"/>
                    </a:xfrm>
                  </p:grpSpPr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3498480" y="3694320"/>
                        <a:ext cx="467640" cy="393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b2b2b2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3508560" y="3700440"/>
                        <a:ext cx="455400" cy="385920"/>
                      </a:xfrm>
                      <a:prstGeom prst="rect">
                        <a:avLst/>
                      </a:pr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3533760" y="3813120"/>
                        <a:ext cx="132480" cy="92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3548160" y="3826800"/>
                        <a:ext cx="12240" cy="78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3580920" y="3826800"/>
                        <a:ext cx="12240" cy="78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3613320" y="3826800"/>
                        <a:ext cx="11160" cy="78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3646080" y="3826800"/>
                        <a:ext cx="12240" cy="78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3792600" y="3813120"/>
                        <a:ext cx="137520" cy="9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3806280" y="38268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3806280" y="38574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3838680" y="38268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3838680" y="38574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3871440" y="38268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3871440" y="38574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3903840" y="38268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3903840" y="38574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3591000" y="3921120"/>
                        <a:ext cx="25560" cy="80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3588120" y="3916800"/>
                        <a:ext cx="3132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1390">
                            <a:moveTo>
                              <a:pt x="258" y="259"/>
                            </a:moveTo>
                            <a:lnTo>
                              <a:pt x="896" y="259"/>
                            </a:lnTo>
                            <a:lnTo>
                              <a:pt x="896" y="1390"/>
                            </a:lnTo>
                            <a:lnTo>
                              <a:pt x="1154" y="1390"/>
                            </a:lnTo>
                            <a:lnTo>
                              <a:pt x="1154" y="0"/>
                            </a:lnTo>
                            <a:lnTo>
                              <a:pt x="0" y="0"/>
                            </a:lnTo>
                            <a:lnTo>
                              <a:pt x="0" y="1390"/>
                            </a:lnTo>
                            <a:lnTo>
                              <a:pt x="258" y="1390"/>
                            </a:lnTo>
                            <a:lnTo>
                              <a:pt x="258" y="25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3588120" y="3949920"/>
                        <a:ext cx="3132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2282">
                            <a:moveTo>
                              <a:pt x="896" y="2022"/>
                            </a:moveTo>
                            <a:lnTo>
                              <a:pt x="258" y="2022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2282"/>
                            </a:lnTo>
                            <a:lnTo>
                              <a:pt x="1154" y="2282"/>
                            </a:lnTo>
                            <a:lnTo>
                              <a:pt x="1154" y="0"/>
                            </a:lnTo>
                            <a:lnTo>
                              <a:pt x="896" y="0"/>
                            </a:lnTo>
                            <a:lnTo>
                              <a:pt x="896" y="202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3617640" y="3932640"/>
                        <a:ext cx="168840" cy="13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9" h="5525">
                            <a:moveTo>
                              <a:pt x="0" y="0"/>
                            </a:moveTo>
                            <a:lnTo>
                              <a:pt x="0" y="2431"/>
                            </a:lnTo>
                            <a:lnTo>
                              <a:pt x="2030" y="4147"/>
                            </a:lnTo>
                            <a:lnTo>
                              <a:pt x="4503" y="5525"/>
                            </a:lnTo>
                            <a:lnTo>
                              <a:pt x="5094" y="5214"/>
                            </a:lnTo>
                            <a:lnTo>
                              <a:pt x="5618" y="4931"/>
                            </a:lnTo>
                            <a:lnTo>
                              <a:pt x="6129" y="4755"/>
                            </a:lnTo>
                            <a:lnTo>
                              <a:pt x="6088" y="4174"/>
                            </a:lnTo>
                            <a:lnTo>
                              <a:pt x="4664" y="2026"/>
                            </a:lnTo>
                            <a:lnTo>
                              <a:pt x="3871" y="1054"/>
                            </a:lnTo>
                            <a:lnTo>
                              <a:pt x="1895" y="2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3634920" y="3929040"/>
                        <a:ext cx="15660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66" h="5978">
                            <a:moveTo>
                              <a:pt x="5662" y="4579"/>
                            </a:moveTo>
                            <a:lnTo>
                              <a:pt x="5592" y="4304"/>
                            </a:lnTo>
                            <a:lnTo>
                              <a:pt x="5590" y="4294"/>
                            </a:lnTo>
                            <a:lnTo>
                              <a:pt x="5586" y="4284"/>
                            </a:lnTo>
                            <a:lnTo>
                              <a:pt x="5578" y="4266"/>
                            </a:lnTo>
                            <a:lnTo>
                              <a:pt x="5560" y="4225"/>
                            </a:lnTo>
                            <a:lnTo>
                              <a:pt x="5531" y="4163"/>
                            </a:lnTo>
                            <a:lnTo>
                              <a:pt x="5490" y="4081"/>
                            </a:lnTo>
                            <a:lnTo>
                              <a:pt x="5439" y="3978"/>
                            </a:lnTo>
                            <a:lnTo>
                              <a:pt x="5374" y="3857"/>
                            </a:lnTo>
                            <a:lnTo>
                              <a:pt x="5337" y="3788"/>
                            </a:lnTo>
                            <a:lnTo>
                              <a:pt x="5297" y="3716"/>
                            </a:lnTo>
                            <a:lnTo>
                              <a:pt x="5253" y="3639"/>
                            </a:lnTo>
                            <a:lnTo>
                              <a:pt x="5206" y="3557"/>
                            </a:lnTo>
                            <a:lnTo>
                              <a:pt x="5156" y="3471"/>
                            </a:lnTo>
                            <a:lnTo>
                              <a:pt x="5101" y="3380"/>
                            </a:lnTo>
                            <a:lnTo>
                              <a:pt x="5043" y="3286"/>
                            </a:lnTo>
                            <a:lnTo>
                              <a:pt x="4981" y="3187"/>
                            </a:lnTo>
                            <a:lnTo>
                              <a:pt x="4916" y="3084"/>
                            </a:lnTo>
                            <a:lnTo>
                              <a:pt x="4846" y="2978"/>
                            </a:lnTo>
                            <a:lnTo>
                              <a:pt x="4772" y="2866"/>
                            </a:lnTo>
                            <a:lnTo>
                              <a:pt x="4696" y="2752"/>
                            </a:lnTo>
                            <a:lnTo>
                              <a:pt x="4614" y="2634"/>
                            </a:lnTo>
                            <a:lnTo>
                              <a:pt x="4528" y="2512"/>
                            </a:lnTo>
                            <a:lnTo>
                              <a:pt x="4438" y="2386"/>
                            </a:lnTo>
                            <a:lnTo>
                              <a:pt x="4344" y="2257"/>
                            </a:lnTo>
                            <a:lnTo>
                              <a:pt x="4245" y="2124"/>
                            </a:lnTo>
                            <a:lnTo>
                              <a:pt x="4141" y="1989"/>
                            </a:lnTo>
                            <a:lnTo>
                              <a:pt x="4033" y="1849"/>
                            </a:lnTo>
                            <a:lnTo>
                              <a:pt x="3921" y="1706"/>
                            </a:lnTo>
                            <a:lnTo>
                              <a:pt x="3831" y="1599"/>
                            </a:lnTo>
                            <a:lnTo>
                              <a:pt x="3735" y="1496"/>
                            </a:lnTo>
                            <a:lnTo>
                              <a:pt x="3634" y="1398"/>
                            </a:lnTo>
                            <a:lnTo>
                              <a:pt x="3527" y="1303"/>
                            </a:lnTo>
                            <a:lnTo>
                              <a:pt x="3416" y="1213"/>
                            </a:lnTo>
                            <a:lnTo>
                              <a:pt x="3301" y="1127"/>
                            </a:lnTo>
                            <a:lnTo>
                              <a:pt x="3181" y="1044"/>
                            </a:lnTo>
                            <a:lnTo>
                              <a:pt x="3058" y="966"/>
                            </a:lnTo>
                            <a:lnTo>
                              <a:pt x="2932" y="891"/>
                            </a:lnTo>
                            <a:lnTo>
                              <a:pt x="2803" y="820"/>
                            </a:lnTo>
                            <a:lnTo>
                              <a:pt x="2672" y="753"/>
                            </a:lnTo>
                            <a:lnTo>
                              <a:pt x="2538" y="688"/>
                            </a:lnTo>
                            <a:lnTo>
                              <a:pt x="2403" y="628"/>
                            </a:lnTo>
                            <a:lnTo>
                              <a:pt x="2266" y="571"/>
                            </a:lnTo>
                            <a:lnTo>
                              <a:pt x="2128" y="517"/>
                            </a:lnTo>
                            <a:lnTo>
                              <a:pt x="1991" y="465"/>
                            </a:lnTo>
                            <a:lnTo>
                              <a:pt x="1852" y="418"/>
                            </a:lnTo>
                            <a:lnTo>
                              <a:pt x="1714" y="372"/>
                            </a:lnTo>
                            <a:lnTo>
                              <a:pt x="1577" y="330"/>
                            </a:lnTo>
                            <a:lnTo>
                              <a:pt x="1440" y="291"/>
                            </a:lnTo>
                            <a:lnTo>
                              <a:pt x="1303" y="254"/>
                            </a:lnTo>
                            <a:lnTo>
                              <a:pt x="1169" y="220"/>
                            </a:lnTo>
                            <a:lnTo>
                              <a:pt x="1037" y="188"/>
                            </a:lnTo>
                            <a:lnTo>
                              <a:pt x="908" y="159"/>
                            </a:lnTo>
                            <a:lnTo>
                              <a:pt x="781" y="132"/>
                            </a:lnTo>
                            <a:lnTo>
                              <a:pt x="657" y="107"/>
                            </a:lnTo>
                            <a:lnTo>
                              <a:pt x="537" y="84"/>
                            </a:lnTo>
                            <a:lnTo>
                              <a:pt x="421" y="64"/>
                            </a:lnTo>
                            <a:lnTo>
                              <a:pt x="308" y="46"/>
                            </a:lnTo>
                            <a:lnTo>
                              <a:pt x="201" y="28"/>
                            </a:lnTo>
                            <a:lnTo>
                              <a:pt x="98" y="13"/>
                            </a:lnTo>
                            <a:lnTo>
                              <a:pt x="0" y="0"/>
                            </a:lnTo>
                            <a:lnTo>
                              <a:pt x="0" y="264"/>
                            </a:lnTo>
                            <a:lnTo>
                              <a:pt x="95" y="279"/>
                            </a:lnTo>
                            <a:lnTo>
                              <a:pt x="195" y="294"/>
                            </a:lnTo>
                            <a:lnTo>
                              <a:pt x="299" y="310"/>
                            </a:lnTo>
                            <a:lnTo>
                              <a:pt x="408" y="328"/>
                            </a:lnTo>
                            <a:lnTo>
                              <a:pt x="520" y="350"/>
                            </a:lnTo>
                            <a:lnTo>
                              <a:pt x="636" y="372"/>
                            </a:lnTo>
                            <a:lnTo>
                              <a:pt x="755" y="396"/>
                            </a:lnTo>
                            <a:lnTo>
                              <a:pt x="877" y="423"/>
                            </a:lnTo>
                            <a:lnTo>
                              <a:pt x="1001" y="451"/>
                            </a:lnTo>
                            <a:lnTo>
                              <a:pt x="1127" y="481"/>
                            </a:lnTo>
                            <a:lnTo>
                              <a:pt x="1255" y="514"/>
                            </a:lnTo>
                            <a:lnTo>
                              <a:pt x="1384" y="549"/>
                            </a:lnTo>
                            <a:lnTo>
                              <a:pt x="1515" y="587"/>
                            </a:lnTo>
                            <a:lnTo>
                              <a:pt x="1646" y="627"/>
                            </a:lnTo>
                            <a:lnTo>
                              <a:pt x="1777" y="670"/>
                            </a:lnTo>
                            <a:lnTo>
                              <a:pt x="1908" y="716"/>
                            </a:lnTo>
                            <a:lnTo>
                              <a:pt x="2040" y="764"/>
                            </a:lnTo>
                            <a:lnTo>
                              <a:pt x="2170" y="815"/>
                            </a:lnTo>
                            <a:lnTo>
                              <a:pt x="2300" y="869"/>
                            </a:lnTo>
                            <a:lnTo>
                              <a:pt x="2427" y="925"/>
                            </a:lnTo>
                            <a:lnTo>
                              <a:pt x="2553" y="986"/>
                            </a:lnTo>
                            <a:lnTo>
                              <a:pt x="2677" y="1049"/>
                            </a:lnTo>
                            <a:lnTo>
                              <a:pt x="2798" y="1115"/>
                            </a:lnTo>
                            <a:lnTo>
                              <a:pt x="2917" y="1185"/>
                            </a:lnTo>
                            <a:lnTo>
                              <a:pt x="3032" y="1258"/>
                            </a:lnTo>
                            <a:lnTo>
                              <a:pt x="3144" y="1334"/>
                            </a:lnTo>
                            <a:lnTo>
                              <a:pt x="3252" y="1414"/>
                            </a:lnTo>
                            <a:lnTo>
                              <a:pt x="3356" y="1497"/>
                            </a:lnTo>
                            <a:lnTo>
                              <a:pt x="3454" y="1584"/>
                            </a:lnTo>
                            <a:lnTo>
                              <a:pt x="3548" y="1675"/>
                            </a:lnTo>
                            <a:lnTo>
                              <a:pt x="3637" y="1770"/>
                            </a:lnTo>
                            <a:lnTo>
                              <a:pt x="3720" y="1868"/>
                            </a:lnTo>
                            <a:lnTo>
                              <a:pt x="3825" y="2003"/>
                            </a:lnTo>
                            <a:lnTo>
                              <a:pt x="3927" y="2135"/>
                            </a:lnTo>
                            <a:lnTo>
                              <a:pt x="4025" y="2263"/>
                            </a:lnTo>
                            <a:lnTo>
                              <a:pt x="4119" y="2389"/>
                            </a:lnTo>
                            <a:lnTo>
                              <a:pt x="4209" y="2512"/>
                            </a:lnTo>
                            <a:lnTo>
                              <a:pt x="4294" y="2630"/>
                            </a:lnTo>
                            <a:lnTo>
                              <a:pt x="4376" y="2747"/>
                            </a:lnTo>
                            <a:lnTo>
                              <a:pt x="4455" y="2859"/>
                            </a:lnTo>
                            <a:lnTo>
                              <a:pt x="4529" y="2970"/>
                            </a:lnTo>
                            <a:lnTo>
                              <a:pt x="4600" y="3075"/>
                            </a:lnTo>
                            <a:lnTo>
                              <a:pt x="4668" y="3178"/>
                            </a:lnTo>
                            <a:lnTo>
                              <a:pt x="4731" y="3277"/>
                            </a:lnTo>
                            <a:lnTo>
                              <a:pt x="4792" y="3372"/>
                            </a:lnTo>
                            <a:lnTo>
                              <a:pt x="4848" y="3463"/>
                            </a:lnTo>
                            <a:lnTo>
                              <a:pt x="4902" y="3552"/>
                            </a:lnTo>
                            <a:lnTo>
                              <a:pt x="4951" y="3635"/>
                            </a:lnTo>
                            <a:lnTo>
                              <a:pt x="4997" y="3715"/>
                            </a:lnTo>
                            <a:lnTo>
                              <a:pt x="5042" y="3791"/>
                            </a:lnTo>
                            <a:lnTo>
                              <a:pt x="5081" y="3862"/>
                            </a:lnTo>
                            <a:lnTo>
                              <a:pt x="5118" y="3929"/>
                            </a:lnTo>
                            <a:lnTo>
                              <a:pt x="5184" y="4050"/>
                            </a:lnTo>
                            <a:lnTo>
                              <a:pt x="5238" y="4154"/>
                            </a:lnTo>
                            <a:lnTo>
                              <a:pt x="5281" y="4239"/>
                            </a:lnTo>
                            <a:lnTo>
                              <a:pt x="5312" y="4305"/>
                            </a:lnTo>
                            <a:lnTo>
                              <a:pt x="5333" y="4351"/>
                            </a:lnTo>
                            <a:lnTo>
                              <a:pt x="5344" y="4377"/>
                            </a:lnTo>
                            <a:lnTo>
                              <a:pt x="5406" y="4622"/>
                            </a:lnTo>
                            <a:lnTo>
                              <a:pt x="5405" y="4639"/>
                            </a:lnTo>
                            <a:lnTo>
                              <a:pt x="5404" y="4655"/>
                            </a:lnTo>
                            <a:lnTo>
                              <a:pt x="5401" y="4671"/>
                            </a:lnTo>
                            <a:lnTo>
                              <a:pt x="5398" y="4687"/>
                            </a:lnTo>
                            <a:lnTo>
                              <a:pt x="5394" y="4702"/>
                            </a:lnTo>
                            <a:lnTo>
                              <a:pt x="5389" y="4717"/>
                            </a:lnTo>
                            <a:lnTo>
                              <a:pt x="5384" y="4731"/>
                            </a:lnTo>
                            <a:lnTo>
                              <a:pt x="5377" y="4747"/>
                            </a:lnTo>
                            <a:lnTo>
                              <a:pt x="5370" y="4761"/>
                            </a:lnTo>
                            <a:lnTo>
                              <a:pt x="5363" y="4774"/>
                            </a:lnTo>
                            <a:lnTo>
                              <a:pt x="5355" y="4787"/>
                            </a:lnTo>
                            <a:lnTo>
                              <a:pt x="5346" y="4800"/>
                            </a:lnTo>
                            <a:lnTo>
                              <a:pt x="5337" y="4813"/>
                            </a:lnTo>
                            <a:lnTo>
                              <a:pt x="5328" y="4825"/>
                            </a:lnTo>
                            <a:lnTo>
                              <a:pt x="5318" y="4836"/>
                            </a:lnTo>
                            <a:lnTo>
                              <a:pt x="5307" y="4847"/>
                            </a:lnTo>
                            <a:lnTo>
                              <a:pt x="5296" y="4858"/>
                            </a:lnTo>
                            <a:lnTo>
                              <a:pt x="5284" y="4868"/>
                            </a:lnTo>
                            <a:lnTo>
                              <a:pt x="5272" y="4877"/>
                            </a:lnTo>
                            <a:lnTo>
                              <a:pt x="5258" y="4887"/>
                            </a:lnTo>
                            <a:lnTo>
                              <a:pt x="5245" y="4895"/>
                            </a:lnTo>
                            <a:lnTo>
                              <a:pt x="5232" y="4902"/>
                            </a:lnTo>
                            <a:lnTo>
                              <a:pt x="5218" y="4909"/>
                            </a:lnTo>
                            <a:lnTo>
                              <a:pt x="5204" y="4915"/>
                            </a:lnTo>
                            <a:lnTo>
                              <a:pt x="5190" y="4921"/>
                            </a:lnTo>
                            <a:lnTo>
                              <a:pt x="5175" y="4926"/>
                            </a:lnTo>
                            <a:lnTo>
                              <a:pt x="5160" y="4930"/>
                            </a:lnTo>
                            <a:lnTo>
                              <a:pt x="5145" y="4934"/>
                            </a:lnTo>
                            <a:lnTo>
                              <a:pt x="5128" y="4936"/>
                            </a:lnTo>
                            <a:lnTo>
                              <a:pt x="5112" y="4938"/>
                            </a:lnTo>
                            <a:lnTo>
                              <a:pt x="5096" y="4940"/>
                            </a:lnTo>
                            <a:lnTo>
                              <a:pt x="5080" y="4940"/>
                            </a:lnTo>
                            <a:lnTo>
                              <a:pt x="5065" y="4938"/>
                            </a:lnTo>
                            <a:lnTo>
                              <a:pt x="5040" y="4934"/>
                            </a:lnTo>
                            <a:lnTo>
                              <a:pt x="5009" y="4927"/>
                            </a:lnTo>
                            <a:lnTo>
                              <a:pt x="4976" y="4920"/>
                            </a:lnTo>
                            <a:lnTo>
                              <a:pt x="4945" y="4913"/>
                            </a:lnTo>
                            <a:lnTo>
                              <a:pt x="4918" y="4907"/>
                            </a:lnTo>
                            <a:lnTo>
                              <a:pt x="4898" y="4902"/>
                            </a:lnTo>
                            <a:lnTo>
                              <a:pt x="4891" y="4900"/>
                            </a:lnTo>
                            <a:lnTo>
                              <a:pt x="4847" y="5002"/>
                            </a:lnTo>
                            <a:lnTo>
                              <a:pt x="4837" y="5023"/>
                            </a:lnTo>
                            <a:lnTo>
                              <a:pt x="4825" y="5045"/>
                            </a:lnTo>
                            <a:lnTo>
                              <a:pt x="4811" y="5065"/>
                            </a:lnTo>
                            <a:lnTo>
                              <a:pt x="4797" y="5083"/>
                            </a:lnTo>
                            <a:lnTo>
                              <a:pt x="4780" y="5101"/>
                            </a:lnTo>
                            <a:lnTo>
                              <a:pt x="4763" y="5118"/>
                            </a:lnTo>
                            <a:lnTo>
                              <a:pt x="4745" y="5132"/>
                            </a:lnTo>
                            <a:lnTo>
                              <a:pt x="4726" y="5146"/>
                            </a:lnTo>
                            <a:lnTo>
                              <a:pt x="4706" y="5158"/>
                            </a:lnTo>
                            <a:lnTo>
                              <a:pt x="4686" y="5169"/>
                            </a:lnTo>
                            <a:lnTo>
                              <a:pt x="4664" y="5179"/>
                            </a:lnTo>
                            <a:lnTo>
                              <a:pt x="4641" y="5186"/>
                            </a:lnTo>
                            <a:lnTo>
                              <a:pt x="4618" y="5192"/>
                            </a:lnTo>
                            <a:lnTo>
                              <a:pt x="4595" y="5197"/>
                            </a:lnTo>
                            <a:lnTo>
                              <a:pt x="4571" y="5199"/>
                            </a:lnTo>
                            <a:lnTo>
                              <a:pt x="4547" y="5200"/>
                            </a:lnTo>
                            <a:lnTo>
                              <a:pt x="4531" y="5198"/>
                            </a:lnTo>
                            <a:lnTo>
                              <a:pt x="4507" y="5194"/>
                            </a:lnTo>
                            <a:lnTo>
                              <a:pt x="4477" y="5188"/>
                            </a:lnTo>
                            <a:lnTo>
                              <a:pt x="4444" y="5180"/>
                            </a:lnTo>
                            <a:lnTo>
                              <a:pt x="4411" y="5172"/>
                            </a:lnTo>
                            <a:lnTo>
                              <a:pt x="4384" y="5166"/>
                            </a:lnTo>
                            <a:lnTo>
                              <a:pt x="4365" y="5161"/>
                            </a:lnTo>
                            <a:lnTo>
                              <a:pt x="4358" y="5160"/>
                            </a:lnTo>
                            <a:lnTo>
                              <a:pt x="4315" y="5262"/>
                            </a:lnTo>
                            <a:lnTo>
                              <a:pt x="4303" y="5284"/>
                            </a:lnTo>
                            <a:lnTo>
                              <a:pt x="4291" y="5304"/>
                            </a:lnTo>
                            <a:lnTo>
                              <a:pt x="4278" y="5324"/>
                            </a:lnTo>
                            <a:lnTo>
                              <a:pt x="4264" y="5343"/>
                            </a:lnTo>
                            <a:lnTo>
                              <a:pt x="4248" y="5361"/>
                            </a:lnTo>
                            <a:lnTo>
                              <a:pt x="4231" y="5377"/>
                            </a:lnTo>
                            <a:lnTo>
                              <a:pt x="4213" y="5392"/>
                            </a:lnTo>
                            <a:lnTo>
                              <a:pt x="4194" y="5406"/>
                            </a:lnTo>
                            <a:lnTo>
                              <a:pt x="4173" y="5418"/>
                            </a:lnTo>
                            <a:lnTo>
                              <a:pt x="4152" y="5429"/>
                            </a:lnTo>
                            <a:lnTo>
                              <a:pt x="4131" y="5438"/>
                            </a:lnTo>
                            <a:lnTo>
                              <a:pt x="4109" y="5445"/>
                            </a:lnTo>
                            <a:lnTo>
                              <a:pt x="4086" y="5451"/>
                            </a:lnTo>
                            <a:lnTo>
                              <a:pt x="4062" y="5456"/>
                            </a:lnTo>
                            <a:lnTo>
                              <a:pt x="4038" y="5458"/>
                            </a:lnTo>
                            <a:lnTo>
                              <a:pt x="4014" y="5459"/>
                            </a:lnTo>
                            <a:lnTo>
                              <a:pt x="3999" y="5458"/>
                            </a:lnTo>
                            <a:lnTo>
                              <a:pt x="3975" y="5453"/>
                            </a:lnTo>
                            <a:lnTo>
                              <a:pt x="3943" y="5447"/>
                            </a:lnTo>
                            <a:lnTo>
                              <a:pt x="3911" y="5439"/>
                            </a:lnTo>
                            <a:lnTo>
                              <a:pt x="3879" y="5432"/>
                            </a:lnTo>
                            <a:lnTo>
                              <a:pt x="3852" y="5426"/>
                            </a:lnTo>
                            <a:lnTo>
                              <a:pt x="3833" y="5421"/>
                            </a:lnTo>
                            <a:lnTo>
                              <a:pt x="3825" y="5420"/>
                            </a:lnTo>
                            <a:lnTo>
                              <a:pt x="3781" y="5521"/>
                            </a:lnTo>
                            <a:lnTo>
                              <a:pt x="3771" y="5543"/>
                            </a:lnTo>
                            <a:lnTo>
                              <a:pt x="3759" y="5564"/>
                            </a:lnTo>
                            <a:lnTo>
                              <a:pt x="3746" y="5584"/>
                            </a:lnTo>
                            <a:lnTo>
                              <a:pt x="3731" y="5603"/>
                            </a:lnTo>
                            <a:lnTo>
                              <a:pt x="3715" y="5620"/>
                            </a:lnTo>
                            <a:lnTo>
                              <a:pt x="3697" y="5637"/>
                            </a:lnTo>
                            <a:lnTo>
                              <a:pt x="3679" y="5652"/>
                            </a:lnTo>
                            <a:lnTo>
                              <a:pt x="3661" y="5665"/>
                            </a:lnTo>
                            <a:lnTo>
                              <a:pt x="3641" y="5677"/>
                            </a:lnTo>
                            <a:lnTo>
                              <a:pt x="3620" y="5688"/>
                            </a:lnTo>
                            <a:lnTo>
                              <a:pt x="3598" y="5697"/>
                            </a:lnTo>
                            <a:lnTo>
                              <a:pt x="3575" y="5706"/>
                            </a:lnTo>
                            <a:lnTo>
                              <a:pt x="3553" y="5712"/>
                            </a:lnTo>
                            <a:lnTo>
                              <a:pt x="3529" y="5716"/>
                            </a:lnTo>
                            <a:lnTo>
                              <a:pt x="3506" y="5718"/>
                            </a:lnTo>
                            <a:lnTo>
                              <a:pt x="3482" y="5719"/>
                            </a:lnTo>
                            <a:lnTo>
                              <a:pt x="3472" y="5719"/>
                            </a:lnTo>
                            <a:lnTo>
                              <a:pt x="3461" y="5717"/>
                            </a:lnTo>
                            <a:lnTo>
                              <a:pt x="3450" y="5715"/>
                            </a:lnTo>
                            <a:lnTo>
                              <a:pt x="3439" y="5711"/>
                            </a:lnTo>
                            <a:lnTo>
                              <a:pt x="3414" y="5702"/>
                            </a:lnTo>
                            <a:lnTo>
                              <a:pt x="3387" y="5688"/>
                            </a:lnTo>
                            <a:lnTo>
                              <a:pt x="3360" y="5674"/>
                            </a:lnTo>
                            <a:lnTo>
                              <a:pt x="3331" y="5658"/>
                            </a:lnTo>
                            <a:lnTo>
                              <a:pt x="3302" y="5640"/>
                            </a:lnTo>
                            <a:lnTo>
                              <a:pt x="3275" y="5621"/>
                            </a:lnTo>
                            <a:lnTo>
                              <a:pt x="3222" y="5586"/>
                            </a:lnTo>
                            <a:lnTo>
                              <a:pt x="3180" y="5555"/>
                            </a:lnTo>
                            <a:lnTo>
                              <a:pt x="3151" y="5532"/>
                            </a:lnTo>
                            <a:lnTo>
                              <a:pt x="3141" y="5524"/>
                            </a:lnTo>
                            <a:lnTo>
                              <a:pt x="0" y="2858"/>
                            </a:lnTo>
                            <a:lnTo>
                              <a:pt x="0" y="3198"/>
                            </a:lnTo>
                            <a:lnTo>
                              <a:pt x="3092" y="5822"/>
                            </a:lnTo>
                            <a:lnTo>
                              <a:pt x="3113" y="5840"/>
                            </a:lnTo>
                            <a:lnTo>
                              <a:pt x="3134" y="5858"/>
                            </a:lnTo>
                            <a:lnTo>
                              <a:pt x="3155" y="5874"/>
                            </a:lnTo>
                            <a:lnTo>
                              <a:pt x="3178" y="5888"/>
                            </a:lnTo>
                            <a:lnTo>
                              <a:pt x="3200" y="5902"/>
                            </a:lnTo>
                            <a:lnTo>
                              <a:pt x="3224" y="5915"/>
                            </a:lnTo>
                            <a:lnTo>
                              <a:pt x="3248" y="5927"/>
                            </a:lnTo>
                            <a:lnTo>
                              <a:pt x="3273" y="5938"/>
                            </a:lnTo>
                            <a:lnTo>
                              <a:pt x="3297" y="5947"/>
                            </a:lnTo>
                            <a:lnTo>
                              <a:pt x="3322" y="5955"/>
                            </a:lnTo>
                            <a:lnTo>
                              <a:pt x="3349" y="5962"/>
                            </a:lnTo>
                            <a:lnTo>
                              <a:pt x="3375" y="5968"/>
                            </a:lnTo>
                            <a:lnTo>
                              <a:pt x="3401" y="5972"/>
                            </a:lnTo>
                            <a:lnTo>
                              <a:pt x="3427" y="5976"/>
                            </a:lnTo>
                            <a:lnTo>
                              <a:pt x="3454" y="5978"/>
                            </a:lnTo>
                            <a:lnTo>
                              <a:pt x="3482" y="5978"/>
                            </a:lnTo>
                            <a:lnTo>
                              <a:pt x="3500" y="5978"/>
                            </a:lnTo>
                            <a:lnTo>
                              <a:pt x="3519" y="5977"/>
                            </a:lnTo>
                            <a:lnTo>
                              <a:pt x="3537" y="5976"/>
                            </a:lnTo>
                            <a:lnTo>
                              <a:pt x="3555" y="5974"/>
                            </a:lnTo>
                            <a:lnTo>
                              <a:pt x="3573" y="5971"/>
                            </a:lnTo>
                            <a:lnTo>
                              <a:pt x="3592" y="5968"/>
                            </a:lnTo>
                            <a:lnTo>
                              <a:pt x="3609" y="5964"/>
                            </a:lnTo>
                            <a:lnTo>
                              <a:pt x="3627" y="5960"/>
                            </a:lnTo>
                            <a:lnTo>
                              <a:pt x="3661" y="5950"/>
                            </a:lnTo>
                            <a:lnTo>
                              <a:pt x="3695" y="5938"/>
                            </a:lnTo>
                            <a:lnTo>
                              <a:pt x="3728" y="5924"/>
                            </a:lnTo>
                            <a:lnTo>
                              <a:pt x="3760" y="5907"/>
                            </a:lnTo>
                            <a:lnTo>
                              <a:pt x="3791" y="5889"/>
                            </a:lnTo>
                            <a:lnTo>
                              <a:pt x="3820" y="5869"/>
                            </a:lnTo>
                            <a:lnTo>
                              <a:pt x="3849" y="5846"/>
                            </a:lnTo>
                            <a:lnTo>
                              <a:pt x="3876" y="5823"/>
                            </a:lnTo>
                            <a:lnTo>
                              <a:pt x="3902" y="5798"/>
                            </a:lnTo>
                            <a:lnTo>
                              <a:pt x="3926" y="5771"/>
                            </a:lnTo>
                            <a:lnTo>
                              <a:pt x="3949" y="5743"/>
                            </a:lnTo>
                            <a:lnTo>
                              <a:pt x="3970" y="5713"/>
                            </a:lnTo>
                            <a:lnTo>
                              <a:pt x="3975" y="5714"/>
                            </a:lnTo>
                            <a:lnTo>
                              <a:pt x="3981" y="5714"/>
                            </a:lnTo>
                            <a:lnTo>
                              <a:pt x="3987" y="5715"/>
                            </a:lnTo>
                            <a:lnTo>
                              <a:pt x="3992" y="5716"/>
                            </a:lnTo>
                            <a:lnTo>
                              <a:pt x="3998" y="5717"/>
                            </a:lnTo>
                            <a:lnTo>
                              <a:pt x="4003" y="5718"/>
                            </a:lnTo>
                            <a:lnTo>
                              <a:pt x="4009" y="5719"/>
                            </a:lnTo>
                            <a:lnTo>
                              <a:pt x="4014" y="5719"/>
                            </a:lnTo>
                            <a:lnTo>
                              <a:pt x="4033" y="5719"/>
                            </a:lnTo>
                            <a:lnTo>
                              <a:pt x="4051" y="5718"/>
                            </a:lnTo>
                            <a:lnTo>
                              <a:pt x="4070" y="5716"/>
                            </a:lnTo>
                            <a:lnTo>
                              <a:pt x="4088" y="5714"/>
                            </a:lnTo>
                            <a:lnTo>
                              <a:pt x="4106" y="5712"/>
                            </a:lnTo>
                            <a:lnTo>
                              <a:pt x="4124" y="5709"/>
                            </a:lnTo>
                            <a:lnTo>
                              <a:pt x="4142" y="5705"/>
                            </a:lnTo>
                            <a:lnTo>
                              <a:pt x="4159" y="5701"/>
                            </a:lnTo>
                            <a:lnTo>
                              <a:pt x="4194" y="5690"/>
                            </a:lnTo>
                            <a:lnTo>
                              <a:pt x="4228" y="5678"/>
                            </a:lnTo>
                            <a:lnTo>
                              <a:pt x="4261" y="5664"/>
                            </a:lnTo>
                            <a:lnTo>
                              <a:pt x="4292" y="5648"/>
                            </a:lnTo>
                            <a:lnTo>
                              <a:pt x="4324" y="5630"/>
                            </a:lnTo>
                            <a:lnTo>
                              <a:pt x="4353" y="5609"/>
                            </a:lnTo>
                            <a:lnTo>
                              <a:pt x="4382" y="5587"/>
                            </a:lnTo>
                            <a:lnTo>
                              <a:pt x="4409" y="5564"/>
                            </a:lnTo>
                            <a:lnTo>
                              <a:pt x="4435" y="5538"/>
                            </a:lnTo>
                            <a:lnTo>
                              <a:pt x="4459" y="5511"/>
                            </a:lnTo>
                            <a:lnTo>
                              <a:pt x="4482" y="5483"/>
                            </a:lnTo>
                            <a:lnTo>
                              <a:pt x="4502" y="5453"/>
                            </a:lnTo>
                            <a:lnTo>
                              <a:pt x="4524" y="5453"/>
                            </a:lnTo>
                            <a:lnTo>
                              <a:pt x="4576" y="5449"/>
                            </a:lnTo>
                            <a:lnTo>
                              <a:pt x="4609" y="5446"/>
                            </a:lnTo>
                            <a:lnTo>
                              <a:pt x="4646" y="5440"/>
                            </a:lnTo>
                            <a:lnTo>
                              <a:pt x="4688" y="5432"/>
                            </a:lnTo>
                            <a:lnTo>
                              <a:pt x="4731" y="5421"/>
                            </a:lnTo>
                            <a:lnTo>
                              <a:pt x="4753" y="5415"/>
                            </a:lnTo>
                            <a:lnTo>
                              <a:pt x="4775" y="5408"/>
                            </a:lnTo>
                            <a:lnTo>
                              <a:pt x="4798" y="5399"/>
                            </a:lnTo>
                            <a:lnTo>
                              <a:pt x="4820" y="5390"/>
                            </a:lnTo>
                            <a:lnTo>
                              <a:pt x="4841" y="5380"/>
                            </a:lnTo>
                            <a:lnTo>
                              <a:pt x="4863" y="5369"/>
                            </a:lnTo>
                            <a:lnTo>
                              <a:pt x="4884" y="5357"/>
                            </a:lnTo>
                            <a:lnTo>
                              <a:pt x="4906" y="5344"/>
                            </a:lnTo>
                            <a:lnTo>
                              <a:pt x="4925" y="5330"/>
                            </a:lnTo>
                            <a:lnTo>
                              <a:pt x="4944" y="5314"/>
                            </a:lnTo>
                            <a:lnTo>
                              <a:pt x="4962" y="5297"/>
                            </a:lnTo>
                            <a:lnTo>
                              <a:pt x="4980" y="5279"/>
                            </a:lnTo>
                            <a:lnTo>
                              <a:pt x="4995" y="5260"/>
                            </a:lnTo>
                            <a:lnTo>
                              <a:pt x="5010" y="5239"/>
                            </a:lnTo>
                            <a:lnTo>
                              <a:pt x="5024" y="5217"/>
                            </a:lnTo>
                            <a:lnTo>
                              <a:pt x="5036" y="5194"/>
                            </a:lnTo>
                            <a:lnTo>
                              <a:pt x="5041" y="5194"/>
                            </a:lnTo>
                            <a:lnTo>
                              <a:pt x="5047" y="5195"/>
                            </a:lnTo>
                            <a:lnTo>
                              <a:pt x="5052" y="5196"/>
                            </a:lnTo>
                            <a:lnTo>
                              <a:pt x="5058" y="5197"/>
                            </a:lnTo>
                            <a:lnTo>
                              <a:pt x="5063" y="5198"/>
                            </a:lnTo>
                            <a:lnTo>
                              <a:pt x="5069" y="5199"/>
                            </a:lnTo>
                            <a:lnTo>
                              <a:pt x="5074" y="5200"/>
                            </a:lnTo>
                            <a:lnTo>
                              <a:pt x="5080" y="5200"/>
                            </a:lnTo>
                            <a:lnTo>
                              <a:pt x="5109" y="5199"/>
                            </a:lnTo>
                            <a:lnTo>
                              <a:pt x="5137" y="5197"/>
                            </a:lnTo>
                            <a:lnTo>
                              <a:pt x="5167" y="5194"/>
                            </a:lnTo>
                            <a:lnTo>
                              <a:pt x="5195" y="5189"/>
                            </a:lnTo>
                            <a:lnTo>
                              <a:pt x="5223" y="5182"/>
                            </a:lnTo>
                            <a:lnTo>
                              <a:pt x="5250" y="5174"/>
                            </a:lnTo>
                            <a:lnTo>
                              <a:pt x="5278" y="5165"/>
                            </a:lnTo>
                            <a:lnTo>
                              <a:pt x="5304" y="5155"/>
                            </a:lnTo>
                            <a:lnTo>
                              <a:pt x="5330" y="5143"/>
                            </a:lnTo>
                            <a:lnTo>
                              <a:pt x="5355" y="5131"/>
                            </a:lnTo>
                            <a:lnTo>
                              <a:pt x="5381" y="5117"/>
                            </a:lnTo>
                            <a:lnTo>
                              <a:pt x="5405" y="5101"/>
                            </a:lnTo>
                            <a:lnTo>
                              <a:pt x="5428" y="5084"/>
                            </a:lnTo>
                            <a:lnTo>
                              <a:pt x="5451" y="5067"/>
                            </a:lnTo>
                            <a:lnTo>
                              <a:pt x="5472" y="5048"/>
                            </a:lnTo>
                            <a:lnTo>
                              <a:pt x="5493" y="5027"/>
                            </a:lnTo>
                            <a:lnTo>
                              <a:pt x="5514" y="5006"/>
                            </a:lnTo>
                            <a:lnTo>
                              <a:pt x="5533" y="4984"/>
                            </a:lnTo>
                            <a:lnTo>
                              <a:pt x="5551" y="4961"/>
                            </a:lnTo>
                            <a:lnTo>
                              <a:pt x="5567" y="4937"/>
                            </a:lnTo>
                            <a:lnTo>
                              <a:pt x="5582" y="4913"/>
                            </a:lnTo>
                            <a:lnTo>
                              <a:pt x="5596" y="4888"/>
                            </a:lnTo>
                            <a:lnTo>
                              <a:pt x="5609" y="4862"/>
                            </a:lnTo>
                            <a:lnTo>
                              <a:pt x="5622" y="4836"/>
                            </a:lnTo>
                            <a:lnTo>
                              <a:pt x="5632" y="4810"/>
                            </a:lnTo>
                            <a:lnTo>
                              <a:pt x="5641" y="4782"/>
                            </a:lnTo>
                            <a:lnTo>
                              <a:pt x="5648" y="4755"/>
                            </a:lnTo>
                            <a:lnTo>
                              <a:pt x="5654" y="4726"/>
                            </a:lnTo>
                            <a:lnTo>
                              <a:pt x="5659" y="4698"/>
                            </a:lnTo>
                            <a:lnTo>
                              <a:pt x="5663" y="4670"/>
                            </a:lnTo>
                            <a:lnTo>
                              <a:pt x="5665" y="4640"/>
                            </a:lnTo>
                            <a:lnTo>
                              <a:pt x="5666" y="4611"/>
                            </a:lnTo>
                            <a:lnTo>
                              <a:pt x="5666" y="4595"/>
                            </a:lnTo>
                            <a:lnTo>
                              <a:pt x="5662" y="457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3613320" y="3928320"/>
                        <a:ext cx="2124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3" h="3274">
                            <a:moveTo>
                              <a:pt x="257" y="2511"/>
                            </a:moveTo>
                            <a:lnTo>
                              <a:pt x="257" y="278"/>
                            </a:lnTo>
                            <a:lnTo>
                              <a:pt x="299" y="281"/>
                            </a:lnTo>
                            <a:lnTo>
                              <a:pt x="345" y="286"/>
                            </a:lnTo>
                            <a:lnTo>
                              <a:pt x="398" y="291"/>
                            </a:lnTo>
                            <a:lnTo>
                              <a:pt x="456" y="297"/>
                            </a:lnTo>
                            <a:lnTo>
                              <a:pt x="522" y="304"/>
                            </a:lnTo>
                            <a:lnTo>
                              <a:pt x="594" y="311"/>
                            </a:lnTo>
                            <a:lnTo>
                              <a:pt x="674" y="320"/>
                            </a:lnTo>
                            <a:lnTo>
                              <a:pt x="763" y="329"/>
                            </a:lnTo>
                            <a:lnTo>
                              <a:pt x="763" y="65"/>
                            </a:lnTo>
                            <a:lnTo>
                              <a:pt x="628" y="50"/>
                            </a:lnTo>
                            <a:lnTo>
                              <a:pt x="509" y="38"/>
                            </a:lnTo>
                            <a:lnTo>
                              <a:pt x="407" y="28"/>
                            </a:lnTo>
                            <a:lnTo>
                              <a:pt x="320" y="21"/>
                            </a:lnTo>
                            <a:lnTo>
                              <a:pt x="248" y="15"/>
                            </a:lnTo>
                            <a:lnTo>
                              <a:pt x="195" y="11"/>
                            </a:lnTo>
                            <a:lnTo>
                              <a:pt x="157" y="9"/>
                            </a:lnTo>
                            <a:lnTo>
                              <a:pt x="136" y="8"/>
                            </a:lnTo>
                            <a:lnTo>
                              <a:pt x="0" y="0"/>
                            </a:lnTo>
                            <a:lnTo>
                              <a:pt x="46" y="2670"/>
                            </a:lnTo>
                            <a:lnTo>
                              <a:pt x="763" y="3274"/>
                            </a:lnTo>
                            <a:lnTo>
                              <a:pt x="763" y="2934"/>
                            </a:lnTo>
                            <a:lnTo>
                              <a:pt x="257" y="2511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3741840" y="4020840"/>
                        <a:ext cx="334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4" h="1455">
                            <a:moveTo>
                              <a:pt x="1224" y="1293"/>
                            </a:moveTo>
                            <a:lnTo>
                              <a:pt x="202" y="0"/>
                            </a:lnTo>
                            <a:lnTo>
                              <a:pt x="0" y="161"/>
                            </a:lnTo>
                            <a:lnTo>
                              <a:pt x="1023" y="1455"/>
                            </a:lnTo>
                            <a:lnTo>
                              <a:pt x="1224" y="1293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3726720" y="4029480"/>
                        <a:ext cx="3240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0" h="1325">
                            <a:moveTo>
                              <a:pt x="1190" y="1155"/>
                            </a:moveTo>
                            <a:lnTo>
                              <a:pt x="195" y="0"/>
                            </a:lnTo>
                            <a:lnTo>
                              <a:pt x="0" y="169"/>
                            </a:lnTo>
                            <a:lnTo>
                              <a:pt x="996" y="1325"/>
                            </a:lnTo>
                            <a:lnTo>
                              <a:pt x="1190" y="1155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3673440" y="4031280"/>
                        <a:ext cx="2340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61">
                            <a:moveTo>
                              <a:pt x="428" y="861"/>
                            </a:moveTo>
                            <a:lnTo>
                              <a:pt x="450" y="860"/>
                            </a:lnTo>
                            <a:lnTo>
                              <a:pt x="471" y="858"/>
                            </a:lnTo>
                            <a:lnTo>
                              <a:pt x="492" y="856"/>
                            </a:lnTo>
                            <a:lnTo>
                              <a:pt x="513" y="852"/>
                            </a:lnTo>
                            <a:lnTo>
                              <a:pt x="535" y="847"/>
                            </a:lnTo>
                            <a:lnTo>
                              <a:pt x="555" y="842"/>
                            </a:lnTo>
                            <a:lnTo>
                              <a:pt x="575" y="834"/>
                            </a:lnTo>
                            <a:lnTo>
                              <a:pt x="594" y="826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50" y="798"/>
                            </a:lnTo>
                            <a:lnTo>
                              <a:pt x="667" y="787"/>
                            </a:lnTo>
                            <a:lnTo>
                              <a:pt x="684" y="775"/>
                            </a:lnTo>
                            <a:lnTo>
                              <a:pt x="700" y="762"/>
                            </a:lnTo>
                            <a:lnTo>
                              <a:pt x="715" y="748"/>
                            </a:lnTo>
                            <a:lnTo>
                              <a:pt x="730" y="734"/>
                            </a:lnTo>
                            <a:lnTo>
                              <a:pt x="744" y="720"/>
                            </a:lnTo>
                            <a:lnTo>
                              <a:pt x="757" y="704"/>
                            </a:lnTo>
                            <a:lnTo>
                              <a:pt x="771" y="687"/>
                            </a:lnTo>
                            <a:lnTo>
                              <a:pt x="783" y="671"/>
                            </a:lnTo>
                            <a:lnTo>
                              <a:pt x="794" y="654"/>
                            </a:lnTo>
                            <a:lnTo>
                              <a:pt x="804" y="636"/>
                            </a:lnTo>
                            <a:lnTo>
                              <a:pt x="813" y="617"/>
                            </a:lnTo>
                            <a:lnTo>
                              <a:pt x="822" y="598"/>
                            </a:lnTo>
                            <a:lnTo>
                              <a:pt x="829" y="578"/>
                            </a:lnTo>
                            <a:lnTo>
                              <a:pt x="836" y="559"/>
                            </a:lnTo>
                            <a:lnTo>
                              <a:pt x="842" y="538"/>
                            </a:lnTo>
                            <a:lnTo>
                              <a:pt x="846" y="517"/>
                            </a:lnTo>
                            <a:lnTo>
                              <a:pt x="850" y="496"/>
                            </a:lnTo>
                            <a:lnTo>
                              <a:pt x="853" y="475"/>
                            </a:lnTo>
                            <a:lnTo>
                              <a:pt x="854" y="452"/>
                            </a:lnTo>
                            <a:lnTo>
                              <a:pt x="855" y="431"/>
                            </a:lnTo>
                            <a:lnTo>
                              <a:pt x="854" y="409"/>
                            </a:lnTo>
                            <a:lnTo>
                              <a:pt x="853" y="386"/>
                            </a:lnTo>
                            <a:lnTo>
                              <a:pt x="850" y="365"/>
                            </a:lnTo>
                            <a:lnTo>
                              <a:pt x="846" y="344"/>
                            </a:lnTo>
                            <a:lnTo>
                              <a:pt x="842" y="324"/>
                            </a:lnTo>
                            <a:lnTo>
                              <a:pt x="836" y="302"/>
                            </a:lnTo>
                            <a:lnTo>
                              <a:pt x="829" y="283"/>
                            </a:lnTo>
                            <a:lnTo>
                              <a:pt x="822" y="263"/>
                            </a:lnTo>
                            <a:lnTo>
                              <a:pt x="813" y="245"/>
                            </a:lnTo>
                            <a:lnTo>
                              <a:pt x="804" y="225"/>
                            </a:lnTo>
                            <a:lnTo>
                              <a:pt x="794" y="208"/>
                            </a:lnTo>
                            <a:lnTo>
                              <a:pt x="783" y="190"/>
                            </a:lnTo>
                            <a:lnTo>
                              <a:pt x="771" y="174"/>
                            </a:lnTo>
                            <a:lnTo>
                              <a:pt x="757" y="157"/>
                            </a:lnTo>
                            <a:lnTo>
                              <a:pt x="744" y="141"/>
                            </a:lnTo>
                            <a:lnTo>
                              <a:pt x="730" y="127"/>
                            </a:lnTo>
                            <a:lnTo>
                              <a:pt x="715" y="113"/>
                            </a:lnTo>
                            <a:lnTo>
                              <a:pt x="700" y="99"/>
                            </a:lnTo>
                            <a:lnTo>
                              <a:pt x="684" y="86"/>
                            </a:lnTo>
                            <a:lnTo>
                              <a:pt x="667" y="74"/>
                            </a:lnTo>
                            <a:lnTo>
                              <a:pt x="650" y="63"/>
                            </a:lnTo>
                            <a:lnTo>
                              <a:pt x="631" y="53"/>
                            </a:lnTo>
                            <a:lnTo>
                              <a:pt x="613" y="43"/>
                            </a:lnTo>
                            <a:lnTo>
                              <a:pt x="594" y="35"/>
                            </a:lnTo>
                            <a:lnTo>
                              <a:pt x="575" y="27"/>
                            </a:lnTo>
                            <a:lnTo>
                              <a:pt x="555" y="21"/>
                            </a:lnTo>
                            <a:lnTo>
                              <a:pt x="535" y="14"/>
                            </a:lnTo>
                            <a:lnTo>
                              <a:pt x="513" y="9"/>
                            </a:lnTo>
                            <a:lnTo>
                              <a:pt x="492" y="5"/>
                            </a:lnTo>
                            <a:lnTo>
                              <a:pt x="471" y="3"/>
                            </a:lnTo>
                            <a:lnTo>
                              <a:pt x="450" y="1"/>
                            </a:lnTo>
                            <a:lnTo>
                              <a:pt x="428" y="0"/>
                            </a:lnTo>
                            <a:lnTo>
                              <a:pt x="406" y="1"/>
                            </a:lnTo>
                            <a:lnTo>
                              <a:pt x="384" y="3"/>
                            </a:lnTo>
                            <a:lnTo>
                              <a:pt x="362" y="5"/>
                            </a:lnTo>
                            <a:lnTo>
                              <a:pt x="342" y="9"/>
                            </a:lnTo>
                            <a:lnTo>
                              <a:pt x="321" y="14"/>
                            </a:lnTo>
                            <a:lnTo>
                              <a:pt x="301" y="21"/>
                            </a:lnTo>
                            <a:lnTo>
                              <a:pt x="281" y="27"/>
                            </a:lnTo>
                            <a:lnTo>
                              <a:pt x="261" y="35"/>
                            </a:lnTo>
                            <a:lnTo>
                              <a:pt x="242" y="43"/>
                            </a:lnTo>
                            <a:lnTo>
                              <a:pt x="224" y="53"/>
                            </a:lnTo>
                            <a:lnTo>
                              <a:pt x="206" y="63"/>
                            </a:lnTo>
                            <a:lnTo>
                              <a:pt x="189" y="74"/>
                            </a:lnTo>
                            <a:lnTo>
                              <a:pt x="172" y="86"/>
                            </a:lnTo>
                            <a:lnTo>
                              <a:pt x="155" y="99"/>
                            </a:lnTo>
                            <a:lnTo>
                              <a:pt x="140" y="113"/>
                            </a:lnTo>
                            <a:lnTo>
                              <a:pt x="125" y="127"/>
                            </a:lnTo>
                            <a:lnTo>
                              <a:pt x="111" y="141"/>
                            </a:lnTo>
                            <a:lnTo>
                              <a:pt x="98" y="157"/>
                            </a:lnTo>
                            <a:lnTo>
                              <a:pt x="85" y="174"/>
                            </a:lnTo>
                            <a:lnTo>
                              <a:pt x="73" y="190"/>
                            </a:lnTo>
                            <a:lnTo>
                              <a:pt x="62" y="208"/>
                            </a:lnTo>
                            <a:lnTo>
                              <a:pt x="52" y="225"/>
                            </a:lnTo>
                            <a:lnTo>
                              <a:pt x="43" y="245"/>
                            </a:lnTo>
                            <a:lnTo>
                              <a:pt x="33" y="263"/>
                            </a:lnTo>
                            <a:lnTo>
                              <a:pt x="26" y="283"/>
                            </a:lnTo>
                            <a:lnTo>
                              <a:pt x="19" y="302"/>
                            </a:lnTo>
                            <a:lnTo>
                              <a:pt x="13" y="324"/>
                            </a:lnTo>
                            <a:lnTo>
                              <a:pt x="8" y="344"/>
                            </a:lnTo>
                            <a:lnTo>
                              <a:pt x="5" y="365"/>
                            </a:lnTo>
                            <a:lnTo>
                              <a:pt x="2" y="386"/>
                            </a:lnTo>
                            <a:lnTo>
                              <a:pt x="0" y="409"/>
                            </a:lnTo>
                            <a:lnTo>
                              <a:pt x="0" y="431"/>
                            </a:lnTo>
                            <a:lnTo>
                              <a:pt x="0" y="452"/>
                            </a:lnTo>
                            <a:lnTo>
                              <a:pt x="2" y="475"/>
                            </a:lnTo>
                            <a:lnTo>
                              <a:pt x="5" y="496"/>
                            </a:lnTo>
                            <a:lnTo>
                              <a:pt x="8" y="517"/>
                            </a:lnTo>
                            <a:lnTo>
                              <a:pt x="13" y="538"/>
                            </a:lnTo>
                            <a:lnTo>
                              <a:pt x="19" y="559"/>
                            </a:lnTo>
                            <a:lnTo>
                              <a:pt x="26" y="578"/>
                            </a:lnTo>
                            <a:lnTo>
                              <a:pt x="33" y="598"/>
                            </a:lnTo>
                            <a:lnTo>
                              <a:pt x="43" y="617"/>
                            </a:lnTo>
                            <a:lnTo>
                              <a:pt x="52" y="636"/>
                            </a:lnTo>
                            <a:lnTo>
                              <a:pt x="62" y="654"/>
                            </a:lnTo>
                            <a:lnTo>
                              <a:pt x="73" y="671"/>
                            </a:lnTo>
                            <a:lnTo>
                              <a:pt x="85" y="687"/>
                            </a:lnTo>
                            <a:lnTo>
                              <a:pt x="98" y="704"/>
                            </a:lnTo>
                            <a:lnTo>
                              <a:pt x="111" y="720"/>
                            </a:lnTo>
                            <a:lnTo>
                              <a:pt x="125" y="734"/>
                            </a:lnTo>
                            <a:lnTo>
                              <a:pt x="140" y="748"/>
                            </a:lnTo>
                            <a:lnTo>
                              <a:pt x="155" y="762"/>
                            </a:lnTo>
                            <a:lnTo>
                              <a:pt x="172" y="775"/>
                            </a:lnTo>
                            <a:lnTo>
                              <a:pt x="189" y="787"/>
                            </a:lnTo>
                            <a:lnTo>
                              <a:pt x="206" y="798"/>
                            </a:lnTo>
                            <a:lnTo>
                              <a:pt x="224" y="808"/>
                            </a:lnTo>
                            <a:lnTo>
                              <a:pt x="242" y="818"/>
                            </a:lnTo>
                            <a:lnTo>
                              <a:pt x="261" y="826"/>
                            </a:lnTo>
                            <a:lnTo>
                              <a:pt x="281" y="834"/>
                            </a:lnTo>
                            <a:lnTo>
                              <a:pt x="301" y="842"/>
                            </a:lnTo>
                            <a:lnTo>
                              <a:pt x="321" y="847"/>
                            </a:lnTo>
                            <a:lnTo>
                              <a:pt x="342" y="852"/>
                            </a:lnTo>
                            <a:lnTo>
                              <a:pt x="362" y="856"/>
                            </a:lnTo>
                            <a:lnTo>
                              <a:pt x="384" y="858"/>
                            </a:lnTo>
                            <a:lnTo>
                              <a:pt x="406" y="860"/>
                            </a:lnTo>
                            <a:lnTo>
                              <a:pt x="428" y="861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3669480" y="4027680"/>
                        <a:ext cx="313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3" h="588">
                            <a:moveTo>
                              <a:pt x="350" y="356"/>
                            </a:moveTo>
                            <a:lnTo>
                              <a:pt x="362" y="344"/>
                            </a:lnTo>
                            <a:lnTo>
                              <a:pt x="374" y="334"/>
                            </a:lnTo>
                            <a:lnTo>
                              <a:pt x="386" y="323"/>
                            </a:lnTo>
                            <a:lnTo>
                              <a:pt x="399" y="314"/>
                            </a:lnTo>
                            <a:lnTo>
                              <a:pt x="413" y="305"/>
                            </a:lnTo>
                            <a:lnTo>
                              <a:pt x="428" y="298"/>
                            </a:lnTo>
                            <a:lnTo>
                              <a:pt x="442" y="290"/>
                            </a:lnTo>
                            <a:lnTo>
                              <a:pt x="456" y="284"/>
                            </a:lnTo>
                            <a:lnTo>
                              <a:pt x="471" y="278"/>
                            </a:lnTo>
                            <a:lnTo>
                              <a:pt x="486" y="273"/>
                            </a:lnTo>
                            <a:lnTo>
                              <a:pt x="501" y="269"/>
                            </a:lnTo>
                            <a:lnTo>
                              <a:pt x="517" y="266"/>
                            </a:lnTo>
                            <a:lnTo>
                              <a:pt x="532" y="263"/>
                            </a:lnTo>
                            <a:lnTo>
                              <a:pt x="549" y="261"/>
                            </a:lnTo>
                            <a:lnTo>
                              <a:pt x="565" y="260"/>
                            </a:lnTo>
                            <a:lnTo>
                              <a:pt x="582" y="259"/>
                            </a:lnTo>
                            <a:lnTo>
                              <a:pt x="598" y="260"/>
                            </a:lnTo>
                            <a:lnTo>
                              <a:pt x="614" y="261"/>
                            </a:lnTo>
                            <a:lnTo>
                              <a:pt x="630" y="263"/>
                            </a:lnTo>
                            <a:lnTo>
                              <a:pt x="645" y="266"/>
                            </a:lnTo>
                            <a:lnTo>
                              <a:pt x="661" y="269"/>
                            </a:lnTo>
                            <a:lnTo>
                              <a:pt x="677" y="273"/>
                            </a:lnTo>
                            <a:lnTo>
                              <a:pt x="692" y="278"/>
                            </a:lnTo>
                            <a:lnTo>
                              <a:pt x="707" y="284"/>
                            </a:lnTo>
                            <a:lnTo>
                              <a:pt x="721" y="290"/>
                            </a:lnTo>
                            <a:lnTo>
                              <a:pt x="735" y="298"/>
                            </a:lnTo>
                            <a:lnTo>
                              <a:pt x="749" y="305"/>
                            </a:lnTo>
                            <a:lnTo>
                              <a:pt x="763" y="314"/>
                            </a:lnTo>
                            <a:lnTo>
                              <a:pt x="776" y="323"/>
                            </a:lnTo>
                            <a:lnTo>
                              <a:pt x="789" y="334"/>
                            </a:lnTo>
                            <a:lnTo>
                              <a:pt x="801" y="344"/>
                            </a:lnTo>
                            <a:lnTo>
                              <a:pt x="813" y="356"/>
                            </a:lnTo>
                            <a:lnTo>
                              <a:pt x="823" y="366"/>
                            </a:lnTo>
                            <a:lnTo>
                              <a:pt x="832" y="376"/>
                            </a:lnTo>
                            <a:lnTo>
                              <a:pt x="840" y="386"/>
                            </a:lnTo>
                            <a:lnTo>
                              <a:pt x="848" y="398"/>
                            </a:lnTo>
                            <a:lnTo>
                              <a:pt x="855" y="410"/>
                            </a:lnTo>
                            <a:lnTo>
                              <a:pt x="862" y="423"/>
                            </a:lnTo>
                            <a:lnTo>
                              <a:pt x="869" y="435"/>
                            </a:lnTo>
                            <a:lnTo>
                              <a:pt x="875" y="449"/>
                            </a:lnTo>
                            <a:lnTo>
                              <a:pt x="880" y="463"/>
                            </a:lnTo>
                            <a:lnTo>
                              <a:pt x="885" y="478"/>
                            </a:lnTo>
                            <a:lnTo>
                              <a:pt x="890" y="495"/>
                            </a:lnTo>
                            <a:lnTo>
                              <a:pt x="894" y="511"/>
                            </a:lnTo>
                            <a:lnTo>
                              <a:pt x="897" y="529"/>
                            </a:lnTo>
                            <a:lnTo>
                              <a:pt x="900" y="547"/>
                            </a:lnTo>
                            <a:lnTo>
                              <a:pt x="902" y="568"/>
                            </a:lnTo>
                            <a:lnTo>
                              <a:pt x="906" y="588"/>
                            </a:lnTo>
                            <a:lnTo>
                              <a:pt x="1163" y="588"/>
                            </a:lnTo>
                            <a:lnTo>
                              <a:pt x="1161" y="554"/>
                            </a:lnTo>
                            <a:lnTo>
                              <a:pt x="1157" y="522"/>
                            </a:lnTo>
                            <a:lnTo>
                              <a:pt x="1153" y="491"/>
                            </a:lnTo>
                            <a:lnTo>
                              <a:pt x="1147" y="460"/>
                            </a:lnTo>
                            <a:lnTo>
                              <a:pt x="1140" y="431"/>
                            </a:lnTo>
                            <a:lnTo>
                              <a:pt x="1132" y="403"/>
                            </a:lnTo>
                            <a:lnTo>
                              <a:pt x="1123" y="376"/>
                            </a:lnTo>
                            <a:lnTo>
                              <a:pt x="1113" y="350"/>
                            </a:lnTo>
                            <a:lnTo>
                              <a:pt x="1102" y="324"/>
                            </a:lnTo>
                            <a:lnTo>
                              <a:pt x="1090" y="300"/>
                            </a:lnTo>
                            <a:lnTo>
                              <a:pt x="1077" y="277"/>
                            </a:lnTo>
                            <a:lnTo>
                              <a:pt x="1063" y="254"/>
                            </a:lnTo>
                            <a:lnTo>
                              <a:pt x="1048" y="232"/>
                            </a:lnTo>
                            <a:lnTo>
                              <a:pt x="1032" y="212"/>
                            </a:lnTo>
                            <a:lnTo>
                              <a:pt x="1013" y="192"/>
                            </a:lnTo>
                            <a:lnTo>
                              <a:pt x="995" y="172"/>
                            </a:lnTo>
                            <a:lnTo>
                              <a:pt x="974" y="152"/>
                            </a:lnTo>
                            <a:lnTo>
                              <a:pt x="952" y="133"/>
                            </a:lnTo>
                            <a:lnTo>
                              <a:pt x="930" y="115"/>
                            </a:lnTo>
                            <a:lnTo>
                              <a:pt x="907" y="98"/>
                            </a:lnTo>
                            <a:lnTo>
                              <a:pt x="882" y="83"/>
                            </a:lnTo>
                            <a:lnTo>
                              <a:pt x="857" y="69"/>
                            </a:lnTo>
                            <a:lnTo>
                              <a:pt x="832" y="56"/>
                            </a:lnTo>
                            <a:lnTo>
                              <a:pt x="806" y="45"/>
                            </a:lnTo>
                            <a:lnTo>
                              <a:pt x="778" y="33"/>
                            </a:lnTo>
                            <a:lnTo>
                              <a:pt x="752" y="25"/>
                            </a:lnTo>
                            <a:lnTo>
                              <a:pt x="724" y="17"/>
                            </a:lnTo>
                            <a:lnTo>
                              <a:pt x="697" y="11"/>
                            </a:lnTo>
                            <a:lnTo>
                              <a:pt x="669" y="6"/>
                            </a:lnTo>
                            <a:lnTo>
                              <a:pt x="639" y="2"/>
                            </a:lnTo>
                            <a:lnTo>
                              <a:pt x="611" y="0"/>
                            </a:lnTo>
                            <a:lnTo>
                              <a:pt x="582" y="0"/>
                            </a:lnTo>
                            <a:lnTo>
                              <a:pt x="553" y="0"/>
                            </a:lnTo>
                            <a:lnTo>
                              <a:pt x="524" y="2"/>
                            </a:lnTo>
                            <a:lnTo>
                              <a:pt x="496" y="6"/>
                            </a:lnTo>
                            <a:lnTo>
                              <a:pt x="469" y="11"/>
                            </a:lnTo>
                            <a:lnTo>
                              <a:pt x="442" y="17"/>
                            </a:lnTo>
                            <a:lnTo>
                              <a:pt x="414" y="24"/>
                            </a:lnTo>
                            <a:lnTo>
                              <a:pt x="388" y="33"/>
                            </a:lnTo>
                            <a:lnTo>
                              <a:pt x="363" y="43"/>
                            </a:lnTo>
                            <a:lnTo>
                              <a:pt x="338" y="54"/>
                            </a:lnTo>
                            <a:lnTo>
                              <a:pt x="314" y="67"/>
                            </a:lnTo>
                            <a:lnTo>
                              <a:pt x="290" y="80"/>
                            </a:lnTo>
                            <a:lnTo>
                              <a:pt x="267" y="94"/>
                            </a:lnTo>
                            <a:lnTo>
                              <a:pt x="245" y="111"/>
                            </a:lnTo>
                            <a:lnTo>
                              <a:pt x="224" y="128"/>
                            </a:lnTo>
                            <a:lnTo>
                              <a:pt x="203" y="145"/>
                            </a:lnTo>
                            <a:lnTo>
                              <a:pt x="182" y="164"/>
                            </a:lnTo>
                            <a:lnTo>
                              <a:pt x="163" y="185"/>
                            </a:lnTo>
                            <a:lnTo>
                              <a:pt x="145" y="205"/>
                            </a:lnTo>
                            <a:lnTo>
                              <a:pt x="128" y="227"/>
                            </a:lnTo>
                            <a:lnTo>
                              <a:pt x="112" y="249"/>
                            </a:lnTo>
                            <a:lnTo>
                              <a:pt x="97" y="274"/>
                            </a:lnTo>
                            <a:lnTo>
                              <a:pt x="82" y="298"/>
                            </a:lnTo>
                            <a:lnTo>
                              <a:pt x="69" y="323"/>
                            </a:lnTo>
                            <a:lnTo>
                              <a:pt x="56" y="350"/>
                            </a:lnTo>
                            <a:lnTo>
                              <a:pt x="45" y="377"/>
                            </a:lnTo>
                            <a:lnTo>
                              <a:pt x="35" y="405"/>
                            </a:lnTo>
                            <a:lnTo>
                              <a:pt x="26" y="434"/>
                            </a:lnTo>
                            <a:lnTo>
                              <a:pt x="18" y="463"/>
                            </a:lnTo>
                            <a:lnTo>
                              <a:pt x="12" y="494"/>
                            </a:lnTo>
                            <a:lnTo>
                              <a:pt x="6" y="524"/>
                            </a:lnTo>
                            <a:lnTo>
                              <a:pt x="3" y="556"/>
                            </a:lnTo>
                            <a:lnTo>
                              <a:pt x="0" y="588"/>
                            </a:lnTo>
                            <a:lnTo>
                              <a:pt x="258" y="588"/>
                            </a:lnTo>
                            <a:lnTo>
                              <a:pt x="260" y="568"/>
                            </a:lnTo>
                            <a:lnTo>
                              <a:pt x="262" y="547"/>
                            </a:lnTo>
                            <a:lnTo>
                              <a:pt x="265" y="529"/>
                            </a:lnTo>
                            <a:lnTo>
                              <a:pt x="268" y="511"/>
                            </a:lnTo>
                            <a:lnTo>
                              <a:pt x="272" y="495"/>
                            </a:lnTo>
                            <a:lnTo>
                              <a:pt x="277" y="478"/>
                            </a:lnTo>
                            <a:lnTo>
                              <a:pt x="282" y="463"/>
                            </a:lnTo>
                            <a:lnTo>
                              <a:pt x="287" y="449"/>
                            </a:lnTo>
                            <a:lnTo>
                              <a:pt x="293" y="435"/>
                            </a:lnTo>
                            <a:lnTo>
                              <a:pt x="300" y="423"/>
                            </a:lnTo>
                            <a:lnTo>
                              <a:pt x="306" y="410"/>
                            </a:lnTo>
                            <a:lnTo>
                              <a:pt x="315" y="398"/>
                            </a:lnTo>
                            <a:lnTo>
                              <a:pt x="323" y="386"/>
                            </a:lnTo>
                            <a:lnTo>
                              <a:pt x="331" y="376"/>
                            </a:lnTo>
                            <a:lnTo>
                              <a:pt x="340" y="366"/>
                            </a:lnTo>
                            <a:lnTo>
                              <a:pt x="350" y="356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3668400" y="4041720"/>
                        <a:ext cx="3276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1" h="589">
                            <a:moveTo>
                              <a:pt x="913" y="0"/>
                            </a:moveTo>
                            <a:lnTo>
                              <a:pt x="913" y="17"/>
                            </a:lnTo>
                            <a:lnTo>
                              <a:pt x="912" y="34"/>
                            </a:lnTo>
                            <a:lnTo>
                              <a:pt x="910" y="51"/>
                            </a:lnTo>
                            <a:lnTo>
                              <a:pt x="906" y="67"/>
                            </a:lnTo>
                            <a:lnTo>
                              <a:pt x="902" y="82"/>
                            </a:lnTo>
                            <a:lnTo>
                              <a:pt x="898" y="98"/>
                            </a:lnTo>
                            <a:lnTo>
                              <a:pt x="893" y="113"/>
                            </a:lnTo>
                            <a:lnTo>
                              <a:pt x="887" y="129"/>
                            </a:lnTo>
                            <a:lnTo>
                              <a:pt x="880" y="143"/>
                            </a:lnTo>
                            <a:lnTo>
                              <a:pt x="873" y="157"/>
                            </a:lnTo>
                            <a:lnTo>
                              <a:pt x="865" y="171"/>
                            </a:lnTo>
                            <a:lnTo>
                              <a:pt x="857" y="184"/>
                            </a:lnTo>
                            <a:lnTo>
                              <a:pt x="848" y="198"/>
                            </a:lnTo>
                            <a:lnTo>
                              <a:pt x="838" y="210"/>
                            </a:lnTo>
                            <a:lnTo>
                              <a:pt x="828" y="222"/>
                            </a:lnTo>
                            <a:lnTo>
                              <a:pt x="817" y="233"/>
                            </a:lnTo>
                            <a:lnTo>
                              <a:pt x="806" y="244"/>
                            </a:lnTo>
                            <a:lnTo>
                              <a:pt x="794" y="254"/>
                            </a:lnTo>
                            <a:lnTo>
                              <a:pt x="781" y="264"/>
                            </a:lnTo>
                            <a:lnTo>
                              <a:pt x="768" y="274"/>
                            </a:lnTo>
                            <a:lnTo>
                              <a:pt x="755" y="282"/>
                            </a:lnTo>
                            <a:lnTo>
                              <a:pt x="741" y="290"/>
                            </a:lnTo>
                            <a:lnTo>
                              <a:pt x="727" y="297"/>
                            </a:lnTo>
                            <a:lnTo>
                              <a:pt x="713" y="304"/>
                            </a:lnTo>
                            <a:lnTo>
                              <a:pt x="698" y="310"/>
                            </a:lnTo>
                            <a:lnTo>
                              <a:pt x="683" y="315"/>
                            </a:lnTo>
                            <a:lnTo>
                              <a:pt x="667" y="319"/>
                            </a:lnTo>
                            <a:lnTo>
                              <a:pt x="651" y="323"/>
                            </a:lnTo>
                            <a:lnTo>
                              <a:pt x="635" y="326"/>
                            </a:lnTo>
                            <a:lnTo>
                              <a:pt x="619" y="328"/>
                            </a:lnTo>
                            <a:lnTo>
                              <a:pt x="602" y="329"/>
                            </a:lnTo>
                            <a:lnTo>
                              <a:pt x="586" y="329"/>
                            </a:lnTo>
                            <a:lnTo>
                              <a:pt x="569" y="329"/>
                            </a:lnTo>
                            <a:lnTo>
                              <a:pt x="553" y="328"/>
                            </a:lnTo>
                            <a:lnTo>
                              <a:pt x="536" y="326"/>
                            </a:lnTo>
                            <a:lnTo>
                              <a:pt x="521" y="323"/>
                            </a:lnTo>
                            <a:lnTo>
                              <a:pt x="505" y="320"/>
                            </a:lnTo>
                            <a:lnTo>
                              <a:pt x="490" y="315"/>
                            </a:lnTo>
                            <a:lnTo>
                              <a:pt x="475" y="310"/>
                            </a:lnTo>
                            <a:lnTo>
                              <a:pt x="460" y="305"/>
                            </a:lnTo>
                            <a:lnTo>
                              <a:pt x="446" y="298"/>
                            </a:lnTo>
                            <a:lnTo>
                              <a:pt x="432" y="291"/>
                            </a:lnTo>
                            <a:lnTo>
                              <a:pt x="417" y="283"/>
                            </a:lnTo>
                            <a:lnTo>
                              <a:pt x="403" y="275"/>
                            </a:lnTo>
                            <a:lnTo>
                              <a:pt x="390" y="266"/>
                            </a:lnTo>
                            <a:lnTo>
                              <a:pt x="378" y="255"/>
                            </a:lnTo>
                            <a:lnTo>
                              <a:pt x="365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9"/>
                            </a:lnTo>
                            <a:lnTo>
                              <a:pt x="322" y="197"/>
                            </a:lnTo>
                            <a:lnTo>
                              <a:pt x="313" y="182"/>
                            </a:lnTo>
                            <a:lnTo>
                              <a:pt x="303" y="169"/>
                            </a:lnTo>
                            <a:lnTo>
                              <a:pt x="296" y="155"/>
                            </a:lnTo>
                            <a:lnTo>
                              <a:pt x="289" y="141"/>
                            </a:lnTo>
                            <a:lnTo>
                              <a:pt x="282" y="127"/>
                            </a:lnTo>
                            <a:lnTo>
                              <a:pt x="277" y="111"/>
                            </a:lnTo>
                            <a:lnTo>
                              <a:pt x="272" y="96"/>
                            </a:lnTo>
                            <a:lnTo>
                              <a:pt x="267" y="81"/>
                            </a:lnTo>
                            <a:lnTo>
                              <a:pt x="264" y="65"/>
                            </a:lnTo>
                            <a:lnTo>
                              <a:pt x="261" y="50"/>
                            </a:lnTo>
                            <a:lnTo>
                              <a:pt x="259" y="33"/>
                            </a:lnTo>
                            <a:lnTo>
                              <a:pt x="258" y="17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29"/>
                            </a:lnTo>
                            <a:lnTo>
                              <a:pt x="3" y="59"/>
                            </a:lnTo>
                            <a:lnTo>
                              <a:pt x="6" y="87"/>
                            </a:lnTo>
                            <a:lnTo>
                              <a:pt x="11" y="117"/>
                            </a:lnTo>
                            <a:lnTo>
                              <a:pt x="17" y="144"/>
                            </a:lnTo>
                            <a:lnTo>
                              <a:pt x="25" y="172"/>
                            </a:lnTo>
                            <a:lnTo>
                              <a:pt x="33" y="199"/>
                            </a:lnTo>
                            <a:lnTo>
                              <a:pt x="44" y="226"/>
                            </a:lnTo>
                            <a:lnTo>
                              <a:pt x="55" y="252"/>
                            </a:lnTo>
                            <a:lnTo>
                              <a:pt x="68" y="278"/>
                            </a:lnTo>
                            <a:lnTo>
                              <a:pt x="83" y="302"/>
                            </a:lnTo>
                            <a:lnTo>
                              <a:pt x="98" y="326"/>
                            </a:lnTo>
                            <a:lnTo>
                              <a:pt x="114" y="351"/>
                            </a:lnTo>
                            <a:lnTo>
                              <a:pt x="132" y="373"/>
                            </a:lnTo>
                            <a:lnTo>
                              <a:pt x="151" y="395"/>
                            </a:lnTo>
                            <a:lnTo>
                              <a:pt x="171" y="417"/>
                            </a:lnTo>
                            <a:lnTo>
                              <a:pt x="193" y="437"/>
                            </a:lnTo>
                            <a:lnTo>
                              <a:pt x="215" y="456"/>
                            </a:lnTo>
                            <a:lnTo>
                              <a:pt x="237" y="473"/>
                            </a:lnTo>
                            <a:lnTo>
                              <a:pt x="260" y="491"/>
                            </a:lnTo>
                            <a:lnTo>
                              <a:pt x="284" y="506"/>
                            </a:lnTo>
                            <a:lnTo>
                              <a:pt x="309" y="520"/>
                            </a:lnTo>
                            <a:lnTo>
                              <a:pt x="335" y="533"/>
                            </a:lnTo>
                            <a:lnTo>
                              <a:pt x="361" y="544"/>
                            </a:lnTo>
                            <a:lnTo>
                              <a:pt x="387" y="554"/>
                            </a:lnTo>
                            <a:lnTo>
                              <a:pt x="414" y="564"/>
                            </a:lnTo>
                            <a:lnTo>
                              <a:pt x="443" y="572"/>
                            </a:lnTo>
                            <a:lnTo>
                              <a:pt x="470" y="578"/>
                            </a:lnTo>
                            <a:lnTo>
                              <a:pt x="498" y="583"/>
                            </a:lnTo>
                            <a:lnTo>
                              <a:pt x="527" y="586"/>
                            </a:lnTo>
                            <a:lnTo>
                              <a:pt x="557" y="588"/>
                            </a:lnTo>
                            <a:lnTo>
                              <a:pt x="586" y="589"/>
                            </a:lnTo>
                            <a:lnTo>
                              <a:pt x="615" y="588"/>
                            </a:lnTo>
                            <a:lnTo>
                              <a:pt x="643" y="586"/>
                            </a:lnTo>
                            <a:lnTo>
                              <a:pt x="673" y="583"/>
                            </a:lnTo>
                            <a:lnTo>
                              <a:pt x="701" y="578"/>
                            </a:lnTo>
                            <a:lnTo>
                              <a:pt x="728" y="572"/>
                            </a:lnTo>
                            <a:lnTo>
                              <a:pt x="756" y="564"/>
                            </a:lnTo>
                            <a:lnTo>
                              <a:pt x="782" y="554"/>
                            </a:lnTo>
                            <a:lnTo>
                              <a:pt x="810" y="544"/>
                            </a:lnTo>
                            <a:lnTo>
                              <a:pt x="836" y="533"/>
                            </a:lnTo>
                            <a:lnTo>
                              <a:pt x="861" y="520"/>
                            </a:lnTo>
                            <a:lnTo>
                              <a:pt x="886" y="506"/>
                            </a:lnTo>
                            <a:lnTo>
                              <a:pt x="911" y="491"/>
                            </a:lnTo>
                            <a:lnTo>
                              <a:pt x="934" y="473"/>
                            </a:lnTo>
                            <a:lnTo>
                              <a:pt x="956" y="456"/>
                            </a:lnTo>
                            <a:lnTo>
                              <a:pt x="978" y="437"/>
                            </a:lnTo>
                            <a:lnTo>
                              <a:pt x="999" y="417"/>
                            </a:lnTo>
                            <a:lnTo>
                              <a:pt x="1019" y="395"/>
                            </a:lnTo>
                            <a:lnTo>
                              <a:pt x="1039" y="373"/>
                            </a:lnTo>
                            <a:lnTo>
                              <a:pt x="1057" y="351"/>
                            </a:lnTo>
                            <a:lnTo>
                              <a:pt x="1073" y="326"/>
                            </a:lnTo>
                            <a:lnTo>
                              <a:pt x="1088" y="302"/>
                            </a:lnTo>
                            <a:lnTo>
                              <a:pt x="1102" y="278"/>
                            </a:lnTo>
                            <a:lnTo>
                              <a:pt x="1115" y="252"/>
                            </a:lnTo>
                            <a:lnTo>
                              <a:pt x="1126" y="226"/>
                            </a:lnTo>
                            <a:lnTo>
                              <a:pt x="1137" y="199"/>
                            </a:lnTo>
                            <a:lnTo>
                              <a:pt x="1145" y="172"/>
                            </a:lnTo>
                            <a:lnTo>
                              <a:pt x="1154" y="144"/>
                            </a:lnTo>
                            <a:lnTo>
                              <a:pt x="1160" y="117"/>
                            </a:lnTo>
                            <a:lnTo>
                              <a:pt x="1165" y="87"/>
                            </a:lnTo>
                            <a:lnTo>
                              <a:pt x="1168" y="59"/>
                            </a:lnTo>
                            <a:lnTo>
                              <a:pt x="1171" y="29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3687840" y="40381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59">
                            <a:moveTo>
                              <a:pt x="427" y="859"/>
                            </a:moveTo>
                            <a:lnTo>
                              <a:pt x="449" y="859"/>
                            </a:lnTo>
                            <a:lnTo>
                              <a:pt x="472" y="857"/>
                            </a:lnTo>
                            <a:lnTo>
                              <a:pt x="493" y="855"/>
                            </a:lnTo>
                            <a:lnTo>
                              <a:pt x="514" y="851"/>
                            </a:lnTo>
                            <a:lnTo>
                              <a:pt x="534" y="846"/>
                            </a:lnTo>
                            <a:lnTo>
                              <a:pt x="554" y="840"/>
                            </a:lnTo>
                            <a:lnTo>
                              <a:pt x="574" y="834"/>
                            </a:lnTo>
                            <a:lnTo>
                              <a:pt x="594" y="826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49" y="798"/>
                            </a:lnTo>
                            <a:lnTo>
                              <a:pt x="666" y="786"/>
                            </a:lnTo>
                            <a:lnTo>
                              <a:pt x="683" y="774"/>
                            </a:lnTo>
                            <a:lnTo>
                              <a:pt x="700" y="762"/>
                            </a:lnTo>
                            <a:lnTo>
                              <a:pt x="715" y="748"/>
                            </a:lnTo>
                            <a:lnTo>
                              <a:pt x="730" y="734"/>
                            </a:lnTo>
                            <a:lnTo>
                              <a:pt x="744" y="720"/>
                            </a:lnTo>
                            <a:lnTo>
                              <a:pt x="757" y="703"/>
                            </a:lnTo>
                            <a:lnTo>
                              <a:pt x="770" y="687"/>
                            </a:lnTo>
                            <a:lnTo>
                              <a:pt x="782" y="670"/>
                            </a:lnTo>
                            <a:lnTo>
                              <a:pt x="793" y="653"/>
                            </a:lnTo>
                            <a:lnTo>
                              <a:pt x="803" y="634"/>
                            </a:lnTo>
                            <a:lnTo>
                              <a:pt x="813" y="616"/>
                            </a:lnTo>
                            <a:lnTo>
                              <a:pt x="822" y="597"/>
                            </a:lnTo>
                            <a:lnTo>
                              <a:pt x="830" y="578"/>
                            </a:lnTo>
                            <a:lnTo>
                              <a:pt x="836" y="558"/>
                            </a:lnTo>
                            <a:lnTo>
                              <a:pt x="842" y="537"/>
                            </a:lnTo>
                            <a:lnTo>
                              <a:pt x="847" y="517"/>
                            </a:lnTo>
                            <a:lnTo>
                              <a:pt x="850" y="496"/>
                            </a:lnTo>
                            <a:lnTo>
                              <a:pt x="853" y="474"/>
                            </a:lnTo>
                            <a:lnTo>
                              <a:pt x="855" y="452"/>
                            </a:lnTo>
                            <a:lnTo>
                              <a:pt x="855" y="430"/>
                            </a:lnTo>
                            <a:lnTo>
                              <a:pt x="855" y="408"/>
                            </a:lnTo>
                            <a:lnTo>
                              <a:pt x="853" y="386"/>
                            </a:lnTo>
                            <a:lnTo>
                              <a:pt x="850" y="365"/>
                            </a:lnTo>
                            <a:lnTo>
                              <a:pt x="847" y="344"/>
                            </a:lnTo>
                            <a:lnTo>
                              <a:pt x="842" y="322"/>
                            </a:lnTo>
                            <a:lnTo>
                              <a:pt x="836" y="302"/>
                            </a:lnTo>
                            <a:lnTo>
                              <a:pt x="830" y="283"/>
                            </a:lnTo>
                            <a:lnTo>
                              <a:pt x="822" y="262"/>
                            </a:lnTo>
                            <a:lnTo>
                              <a:pt x="813" y="244"/>
                            </a:lnTo>
                            <a:lnTo>
                              <a:pt x="803" y="225"/>
                            </a:lnTo>
                            <a:lnTo>
                              <a:pt x="793" y="208"/>
                            </a:lnTo>
                            <a:lnTo>
                              <a:pt x="782" y="189"/>
                            </a:lnTo>
                            <a:lnTo>
                              <a:pt x="770" y="173"/>
                            </a:lnTo>
                            <a:lnTo>
                              <a:pt x="757" y="157"/>
                            </a:lnTo>
                            <a:lnTo>
                              <a:pt x="744" y="141"/>
                            </a:lnTo>
                            <a:lnTo>
                              <a:pt x="730" y="126"/>
                            </a:lnTo>
                            <a:lnTo>
                              <a:pt x="715" y="111"/>
                            </a:lnTo>
                            <a:lnTo>
                              <a:pt x="700" y="98"/>
                            </a:lnTo>
                            <a:lnTo>
                              <a:pt x="683" y="86"/>
                            </a:lnTo>
                            <a:lnTo>
                              <a:pt x="666" y="74"/>
                            </a:lnTo>
                            <a:lnTo>
                              <a:pt x="649" y="63"/>
                            </a:lnTo>
                            <a:lnTo>
                              <a:pt x="631" y="53"/>
                            </a:lnTo>
                            <a:lnTo>
                              <a:pt x="613" y="42"/>
                            </a:lnTo>
                            <a:lnTo>
                              <a:pt x="594" y="34"/>
                            </a:lnTo>
                            <a:lnTo>
                              <a:pt x="574" y="26"/>
                            </a:lnTo>
                            <a:lnTo>
                              <a:pt x="554" y="19"/>
                            </a:lnTo>
                            <a:lnTo>
                              <a:pt x="534" y="14"/>
                            </a:lnTo>
                            <a:lnTo>
                              <a:pt x="514" y="9"/>
                            </a:lnTo>
                            <a:lnTo>
                              <a:pt x="493" y="5"/>
                            </a:lnTo>
                            <a:lnTo>
                              <a:pt x="472" y="2"/>
                            </a:lnTo>
                            <a:lnTo>
                              <a:pt x="449" y="1"/>
                            </a:lnTo>
                            <a:lnTo>
                              <a:pt x="427" y="0"/>
                            </a:lnTo>
                            <a:lnTo>
                              <a:pt x="405" y="1"/>
                            </a:lnTo>
                            <a:lnTo>
                              <a:pt x="384" y="2"/>
                            </a:lnTo>
                            <a:lnTo>
                              <a:pt x="363" y="5"/>
                            </a:lnTo>
                            <a:lnTo>
                              <a:pt x="342" y="9"/>
                            </a:lnTo>
                            <a:lnTo>
                              <a:pt x="320" y="14"/>
                            </a:lnTo>
                            <a:lnTo>
                              <a:pt x="300" y="19"/>
                            </a:lnTo>
                            <a:lnTo>
                              <a:pt x="280" y="26"/>
                            </a:lnTo>
                            <a:lnTo>
                              <a:pt x="261" y="34"/>
                            </a:lnTo>
                            <a:lnTo>
                              <a:pt x="242" y="42"/>
                            </a:lnTo>
                            <a:lnTo>
                              <a:pt x="224" y="53"/>
                            </a:lnTo>
                            <a:lnTo>
                              <a:pt x="205" y="63"/>
                            </a:lnTo>
                            <a:lnTo>
                              <a:pt x="188" y="74"/>
                            </a:lnTo>
                            <a:lnTo>
                              <a:pt x="172" y="86"/>
                            </a:lnTo>
                            <a:lnTo>
                              <a:pt x="156" y="98"/>
                            </a:lnTo>
                            <a:lnTo>
                              <a:pt x="140" y="111"/>
                            </a:lnTo>
                            <a:lnTo>
                              <a:pt x="126" y="126"/>
                            </a:lnTo>
                            <a:lnTo>
                              <a:pt x="111" y="141"/>
                            </a:lnTo>
                            <a:lnTo>
                              <a:pt x="98" y="157"/>
                            </a:lnTo>
                            <a:lnTo>
                              <a:pt x="84" y="173"/>
                            </a:lnTo>
                            <a:lnTo>
                              <a:pt x="73" y="189"/>
                            </a:lnTo>
                            <a:lnTo>
                              <a:pt x="62" y="208"/>
                            </a:lnTo>
                            <a:lnTo>
                              <a:pt x="51" y="225"/>
                            </a:lnTo>
                            <a:lnTo>
                              <a:pt x="42" y="244"/>
                            </a:lnTo>
                            <a:lnTo>
                              <a:pt x="34" y="262"/>
                            </a:lnTo>
                            <a:lnTo>
                              <a:pt x="26" y="283"/>
                            </a:lnTo>
                            <a:lnTo>
                              <a:pt x="19" y="302"/>
                            </a:lnTo>
                            <a:lnTo>
                              <a:pt x="14" y="322"/>
                            </a:lnTo>
                            <a:lnTo>
                              <a:pt x="9" y="344"/>
                            </a:lnTo>
                            <a:lnTo>
                              <a:pt x="5" y="365"/>
                            </a:lnTo>
                            <a:lnTo>
                              <a:pt x="2" y="386"/>
                            </a:lnTo>
                            <a:lnTo>
                              <a:pt x="1" y="408"/>
                            </a:lnTo>
                            <a:lnTo>
                              <a:pt x="0" y="430"/>
                            </a:lnTo>
                            <a:lnTo>
                              <a:pt x="1" y="452"/>
                            </a:lnTo>
                            <a:lnTo>
                              <a:pt x="2" y="474"/>
                            </a:lnTo>
                            <a:lnTo>
                              <a:pt x="5" y="496"/>
                            </a:lnTo>
                            <a:lnTo>
                              <a:pt x="9" y="517"/>
                            </a:lnTo>
                            <a:lnTo>
                              <a:pt x="14" y="537"/>
                            </a:lnTo>
                            <a:lnTo>
                              <a:pt x="19" y="558"/>
                            </a:lnTo>
                            <a:lnTo>
                              <a:pt x="26" y="578"/>
                            </a:lnTo>
                            <a:lnTo>
                              <a:pt x="34" y="597"/>
                            </a:lnTo>
                            <a:lnTo>
                              <a:pt x="42" y="616"/>
                            </a:lnTo>
                            <a:lnTo>
                              <a:pt x="51" y="634"/>
                            </a:lnTo>
                            <a:lnTo>
                              <a:pt x="62" y="653"/>
                            </a:lnTo>
                            <a:lnTo>
                              <a:pt x="73" y="670"/>
                            </a:lnTo>
                            <a:lnTo>
                              <a:pt x="84" y="687"/>
                            </a:lnTo>
                            <a:lnTo>
                              <a:pt x="98" y="703"/>
                            </a:lnTo>
                            <a:lnTo>
                              <a:pt x="111" y="720"/>
                            </a:lnTo>
                            <a:lnTo>
                              <a:pt x="126" y="734"/>
                            </a:lnTo>
                            <a:lnTo>
                              <a:pt x="140" y="748"/>
                            </a:lnTo>
                            <a:lnTo>
                              <a:pt x="156" y="762"/>
                            </a:lnTo>
                            <a:lnTo>
                              <a:pt x="172" y="774"/>
                            </a:lnTo>
                            <a:lnTo>
                              <a:pt x="188" y="786"/>
                            </a:lnTo>
                            <a:lnTo>
                              <a:pt x="205" y="798"/>
                            </a:lnTo>
                            <a:lnTo>
                              <a:pt x="224" y="808"/>
                            </a:lnTo>
                            <a:lnTo>
                              <a:pt x="242" y="818"/>
                            </a:lnTo>
                            <a:lnTo>
                              <a:pt x="261" y="826"/>
                            </a:lnTo>
                            <a:lnTo>
                              <a:pt x="280" y="834"/>
                            </a:lnTo>
                            <a:lnTo>
                              <a:pt x="300" y="840"/>
                            </a:lnTo>
                            <a:lnTo>
                              <a:pt x="320" y="846"/>
                            </a:lnTo>
                            <a:lnTo>
                              <a:pt x="342" y="851"/>
                            </a:lnTo>
                            <a:lnTo>
                              <a:pt x="363" y="855"/>
                            </a:lnTo>
                            <a:lnTo>
                              <a:pt x="384" y="857"/>
                            </a:lnTo>
                            <a:lnTo>
                              <a:pt x="405" y="859"/>
                            </a:lnTo>
                            <a:lnTo>
                              <a:pt x="427" y="85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3683880" y="4034880"/>
                        <a:ext cx="324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589">
                            <a:moveTo>
                              <a:pt x="350" y="355"/>
                            </a:moveTo>
                            <a:lnTo>
                              <a:pt x="362" y="344"/>
                            </a:lnTo>
                            <a:lnTo>
                              <a:pt x="375" y="334"/>
                            </a:lnTo>
                            <a:lnTo>
                              <a:pt x="388" y="324"/>
                            </a:lnTo>
                            <a:lnTo>
                              <a:pt x="401" y="315"/>
                            </a:lnTo>
                            <a:lnTo>
                              <a:pt x="414" y="306"/>
                            </a:lnTo>
                            <a:lnTo>
                              <a:pt x="428" y="298"/>
                            </a:lnTo>
                            <a:lnTo>
                              <a:pt x="442" y="291"/>
                            </a:lnTo>
                            <a:lnTo>
                              <a:pt x="457" y="285"/>
                            </a:lnTo>
                            <a:lnTo>
                              <a:pt x="471" y="278"/>
                            </a:lnTo>
                            <a:lnTo>
                              <a:pt x="487" y="273"/>
                            </a:lnTo>
                            <a:lnTo>
                              <a:pt x="502" y="269"/>
                            </a:lnTo>
                            <a:lnTo>
                              <a:pt x="518" y="265"/>
                            </a:lnTo>
                            <a:lnTo>
                              <a:pt x="534" y="263"/>
                            </a:lnTo>
                            <a:lnTo>
                              <a:pt x="550" y="261"/>
                            </a:lnTo>
                            <a:lnTo>
                              <a:pt x="566" y="260"/>
                            </a:lnTo>
                            <a:lnTo>
                              <a:pt x="582" y="259"/>
                            </a:lnTo>
                            <a:lnTo>
                              <a:pt x="598" y="260"/>
                            </a:lnTo>
                            <a:lnTo>
                              <a:pt x="615" y="261"/>
                            </a:lnTo>
                            <a:lnTo>
                              <a:pt x="631" y="263"/>
                            </a:lnTo>
                            <a:lnTo>
                              <a:pt x="647" y="265"/>
                            </a:lnTo>
                            <a:lnTo>
                              <a:pt x="662" y="269"/>
                            </a:lnTo>
                            <a:lnTo>
                              <a:pt x="678" y="273"/>
                            </a:lnTo>
                            <a:lnTo>
                              <a:pt x="692" y="278"/>
                            </a:lnTo>
                            <a:lnTo>
                              <a:pt x="707" y="285"/>
                            </a:lnTo>
                            <a:lnTo>
                              <a:pt x="723" y="291"/>
                            </a:lnTo>
                            <a:lnTo>
                              <a:pt x="737" y="298"/>
                            </a:lnTo>
                            <a:lnTo>
                              <a:pt x="750" y="306"/>
                            </a:lnTo>
                            <a:lnTo>
                              <a:pt x="764" y="315"/>
                            </a:lnTo>
                            <a:lnTo>
                              <a:pt x="777" y="324"/>
                            </a:lnTo>
                            <a:lnTo>
                              <a:pt x="790" y="334"/>
                            </a:lnTo>
                            <a:lnTo>
                              <a:pt x="802" y="344"/>
                            </a:lnTo>
                            <a:lnTo>
                              <a:pt x="814" y="355"/>
                            </a:lnTo>
                            <a:lnTo>
                              <a:pt x="823" y="366"/>
                            </a:lnTo>
                            <a:lnTo>
                              <a:pt x="832" y="377"/>
                            </a:lnTo>
                            <a:lnTo>
                              <a:pt x="840" y="387"/>
                            </a:lnTo>
                            <a:lnTo>
                              <a:pt x="849" y="398"/>
                            </a:lnTo>
                            <a:lnTo>
                              <a:pt x="857" y="410"/>
                            </a:lnTo>
                            <a:lnTo>
                              <a:pt x="864" y="422"/>
                            </a:lnTo>
                            <a:lnTo>
                              <a:pt x="870" y="436"/>
                            </a:lnTo>
                            <a:lnTo>
                              <a:pt x="876" y="450"/>
                            </a:lnTo>
                            <a:lnTo>
                              <a:pt x="882" y="464"/>
                            </a:lnTo>
                            <a:lnTo>
                              <a:pt x="887" y="479"/>
                            </a:lnTo>
                            <a:lnTo>
                              <a:pt x="891" y="495"/>
                            </a:lnTo>
                            <a:lnTo>
                              <a:pt x="895" y="512"/>
                            </a:lnTo>
                            <a:lnTo>
                              <a:pt x="898" y="530"/>
                            </a:lnTo>
                            <a:lnTo>
                              <a:pt x="901" y="548"/>
                            </a:lnTo>
                            <a:lnTo>
                              <a:pt x="904" y="567"/>
                            </a:lnTo>
                            <a:lnTo>
                              <a:pt x="906" y="589"/>
                            </a:lnTo>
                            <a:lnTo>
                              <a:pt x="1164" y="589"/>
                            </a:lnTo>
                            <a:lnTo>
                              <a:pt x="1161" y="555"/>
                            </a:lnTo>
                            <a:lnTo>
                              <a:pt x="1158" y="523"/>
                            </a:lnTo>
                            <a:lnTo>
                              <a:pt x="1153" y="491"/>
                            </a:lnTo>
                            <a:lnTo>
                              <a:pt x="1148" y="461"/>
                            </a:lnTo>
                            <a:lnTo>
                              <a:pt x="1141" y="432"/>
                            </a:lnTo>
                            <a:lnTo>
                              <a:pt x="1133" y="403"/>
                            </a:lnTo>
                            <a:lnTo>
                              <a:pt x="1124" y="377"/>
                            </a:lnTo>
                            <a:lnTo>
                              <a:pt x="1114" y="350"/>
                            </a:lnTo>
                            <a:lnTo>
                              <a:pt x="1103" y="325"/>
                            </a:lnTo>
                            <a:lnTo>
                              <a:pt x="1091" y="301"/>
                            </a:lnTo>
                            <a:lnTo>
                              <a:pt x="1077" y="277"/>
                            </a:lnTo>
                            <a:lnTo>
                              <a:pt x="1063" y="255"/>
                            </a:lnTo>
                            <a:lnTo>
                              <a:pt x="1048" y="233"/>
                            </a:lnTo>
                            <a:lnTo>
                              <a:pt x="1032" y="212"/>
                            </a:lnTo>
                            <a:lnTo>
                              <a:pt x="1015" y="192"/>
                            </a:lnTo>
                            <a:lnTo>
                              <a:pt x="997" y="172"/>
                            </a:lnTo>
                            <a:lnTo>
                              <a:pt x="976" y="153"/>
                            </a:lnTo>
                            <a:lnTo>
                              <a:pt x="953" y="134"/>
                            </a:lnTo>
                            <a:lnTo>
                              <a:pt x="930" y="115"/>
                            </a:lnTo>
                            <a:lnTo>
                              <a:pt x="907" y="99"/>
                            </a:lnTo>
                            <a:lnTo>
                              <a:pt x="883" y="84"/>
                            </a:lnTo>
                            <a:lnTo>
                              <a:pt x="858" y="70"/>
                            </a:lnTo>
                            <a:lnTo>
                              <a:pt x="832" y="56"/>
                            </a:lnTo>
                            <a:lnTo>
                              <a:pt x="806" y="44"/>
                            </a:lnTo>
                            <a:lnTo>
                              <a:pt x="780" y="34"/>
                            </a:lnTo>
                            <a:lnTo>
                              <a:pt x="753" y="25"/>
                            </a:lnTo>
                            <a:lnTo>
                              <a:pt x="726" y="18"/>
                            </a:lnTo>
                            <a:lnTo>
                              <a:pt x="697" y="12"/>
                            </a:lnTo>
                            <a:lnTo>
                              <a:pt x="669" y="7"/>
                            </a:lnTo>
                            <a:lnTo>
                              <a:pt x="641" y="3"/>
                            </a:lnTo>
                            <a:lnTo>
                              <a:pt x="612" y="1"/>
                            </a:lnTo>
                            <a:lnTo>
                              <a:pt x="582" y="0"/>
                            </a:lnTo>
                            <a:lnTo>
                              <a:pt x="553" y="1"/>
                            </a:lnTo>
                            <a:lnTo>
                              <a:pt x="525" y="3"/>
                            </a:lnTo>
                            <a:lnTo>
                              <a:pt x="497" y="7"/>
                            </a:lnTo>
                            <a:lnTo>
                              <a:pt x="469" y="11"/>
                            </a:lnTo>
                            <a:lnTo>
                              <a:pt x="442" y="17"/>
                            </a:lnTo>
                            <a:lnTo>
                              <a:pt x="416" y="25"/>
                            </a:lnTo>
                            <a:lnTo>
                              <a:pt x="390" y="33"/>
                            </a:lnTo>
                            <a:lnTo>
                              <a:pt x="364" y="43"/>
                            </a:lnTo>
                            <a:lnTo>
                              <a:pt x="339" y="54"/>
                            </a:lnTo>
                            <a:lnTo>
                              <a:pt x="315" y="67"/>
                            </a:lnTo>
                            <a:lnTo>
                              <a:pt x="291" y="81"/>
                            </a:lnTo>
                            <a:lnTo>
                              <a:pt x="268" y="95"/>
                            </a:lnTo>
                            <a:lnTo>
                              <a:pt x="246" y="111"/>
                            </a:lnTo>
                            <a:lnTo>
                              <a:pt x="224" y="127"/>
                            </a:lnTo>
                            <a:lnTo>
                              <a:pt x="203" y="146"/>
                            </a:lnTo>
                            <a:lnTo>
                              <a:pt x="184" y="165"/>
                            </a:lnTo>
                            <a:lnTo>
                              <a:pt x="165" y="184"/>
                            </a:lnTo>
                            <a:lnTo>
                              <a:pt x="147" y="205"/>
                            </a:lnTo>
                            <a:lnTo>
                              <a:pt x="129" y="228"/>
                            </a:lnTo>
                            <a:lnTo>
                              <a:pt x="112" y="250"/>
                            </a:lnTo>
                            <a:lnTo>
                              <a:pt x="97" y="274"/>
                            </a:lnTo>
                            <a:lnTo>
                              <a:pt x="83" y="299"/>
                            </a:lnTo>
                            <a:lnTo>
                              <a:pt x="69" y="324"/>
                            </a:lnTo>
                            <a:lnTo>
                              <a:pt x="57" y="350"/>
                            </a:lnTo>
                            <a:lnTo>
                              <a:pt x="46" y="378"/>
                            </a:lnTo>
                            <a:lnTo>
                              <a:pt x="36" y="405"/>
                            </a:lnTo>
                            <a:lnTo>
                              <a:pt x="27" y="435"/>
                            </a:lnTo>
                            <a:lnTo>
                              <a:pt x="19" y="464"/>
                            </a:lnTo>
                            <a:lnTo>
                              <a:pt x="13" y="494"/>
                            </a:lnTo>
                            <a:lnTo>
                              <a:pt x="8" y="525"/>
                            </a:lnTo>
                            <a:lnTo>
                              <a:pt x="3" y="556"/>
                            </a:lnTo>
                            <a:lnTo>
                              <a:pt x="0" y="589"/>
                            </a:lnTo>
                            <a:lnTo>
                              <a:pt x="259" y="589"/>
                            </a:lnTo>
                            <a:lnTo>
                              <a:pt x="261" y="567"/>
                            </a:lnTo>
                            <a:lnTo>
                              <a:pt x="263" y="548"/>
                            </a:lnTo>
                            <a:lnTo>
                              <a:pt x="266" y="530"/>
                            </a:lnTo>
                            <a:lnTo>
                              <a:pt x="270" y="512"/>
                            </a:lnTo>
                            <a:lnTo>
                              <a:pt x="274" y="495"/>
                            </a:lnTo>
                            <a:lnTo>
                              <a:pt x="278" y="479"/>
                            </a:lnTo>
                            <a:lnTo>
                              <a:pt x="283" y="464"/>
                            </a:lnTo>
                            <a:lnTo>
                              <a:pt x="288" y="450"/>
                            </a:lnTo>
                            <a:lnTo>
                              <a:pt x="294" y="436"/>
                            </a:lnTo>
                            <a:lnTo>
                              <a:pt x="301" y="422"/>
                            </a:lnTo>
                            <a:lnTo>
                              <a:pt x="308" y="410"/>
                            </a:lnTo>
                            <a:lnTo>
                              <a:pt x="315" y="398"/>
                            </a:lnTo>
                            <a:lnTo>
                              <a:pt x="323" y="387"/>
                            </a:lnTo>
                            <a:lnTo>
                              <a:pt x="332" y="377"/>
                            </a:lnTo>
                            <a:lnTo>
                              <a:pt x="341" y="366"/>
                            </a:lnTo>
                            <a:lnTo>
                              <a:pt x="350" y="355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3683880" y="4048560"/>
                        <a:ext cx="32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2" h="589">
                            <a:moveTo>
                              <a:pt x="914" y="0"/>
                            </a:moveTo>
                            <a:lnTo>
                              <a:pt x="913" y="17"/>
                            </a:lnTo>
                            <a:lnTo>
                              <a:pt x="912" y="33"/>
                            </a:lnTo>
                            <a:lnTo>
                              <a:pt x="910" y="50"/>
                            </a:lnTo>
                            <a:lnTo>
                              <a:pt x="907" y="67"/>
                            </a:lnTo>
                            <a:lnTo>
                              <a:pt x="903" y="82"/>
                            </a:lnTo>
                            <a:lnTo>
                              <a:pt x="899" y="98"/>
                            </a:lnTo>
                            <a:lnTo>
                              <a:pt x="894" y="113"/>
                            </a:lnTo>
                            <a:lnTo>
                              <a:pt x="888" y="128"/>
                            </a:lnTo>
                            <a:lnTo>
                              <a:pt x="882" y="143"/>
                            </a:lnTo>
                            <a:lnTo>
                              <a:pt x="874" y="157"/>
                            </a:lnTo>
                            <a:lnTo>
                              <a:pt x="867" y="171"/>
                            </a:lnTo>
                            <a:lnTo>
                              <a:pt x="858" y="184"/>
                            </a:lnTo>
                            <a:lnTo>
                              <a:pt x="849" y="196"/>
                            </a:lnTo>
                            <a:lnTo>
                              <a:pt x="838" y="209"/>
                            </a:lnTo>
                            <a:lnTo>
                              <a:pt x="828" y="222"/>
                            </a:lnTo>
                            <a:lnTo>
                              <a:pt x="817" y="233"/>
                            </a:lnTo>
                            <a:lnTo>
                              <a:pt x="806" y="244"/>
                            </a:lnTo>
                            <a:lnTo>
                              <a:pt x="794" y="254"/>
                            </a:lnTo>
                            <a:lnTo>
                              <a:pt x="782" y="263"/>
                            </a:lnTo>
                            <a:lnTo>
                              <a:pt x="769" y="272"/>
                            </a:lnTo>
                            <a:lnTo>
                              <a:pt x="756" y="281"/>
                            </a:lnTo>
                            <a:lnTo>
                              <a:pt x="743" y="290"/>
                            </a:lnTo>
                            <a:lnTo>
                              <a:pt x="728" y="297"/>
                            </a:lnTo>
                            <a:lnTo>
                              <a:pt x="713" y="303"/>
                            </a:lnTo>
                            <a:lnTo>
                              <a:pt x="698" y="309"/>
                            </a:lnTo>
                            <a:lnTo>
                              <a:pt x="683" y="314"/>
                            </a:lnTo>
                            <a:lnTo>
                              <a:pt x="668" y="319"/>
                            </a:lnTo>
                            <a:lnTo>
                              <a:pt x="652" y="322"/>
                            </a:lnTo>
                            <a:lnTo>
                              <a:pt x="636" y="325"/>
                            </a:lnTo>
                            <a:lnTo>
                              <a:pt x="620" y="327"/>
                            </a:lnTo>
                            <a:lnTo>
                              <a:pt x="603" y="329"/>
                            </a:lnTo>
                            <a:lnTo>
                              <a:pt x="586" y="329"/>
                            </a:lnTo>
                            <a:lnTo>
                              <a:pt x="570" y="329"/>
                            </a:lnTo>
                            <a:lnTo>
                              <a:pt x="554" y="327"/>
                            </a:lnTo>
                            <a:lnTo>
                              <a:pt x="538" y="326"/>
                            </a:lnTo>
                            <a:lnTo>
                              <a:pt x="522" y="323"/>
                            </a:lnTo>
                            <a:lnTo>
                              <a:pt x="506" y="319"/>
                            </a:lnTo>
                            <a:lnTo>
                              <a:pt x="491" y="315"/>
                            </a:lnTo>
                            <a:lnTo>
                              <a:pt x="475" y="310"/>
                            </a:lnTo>
                            <a:lnTo>
                              <a:pt x="461" y="304"/>
                            </a:lnTo>
                            <a:lnTo>
                              <a:pt x="446" y="298"/>
                            </a:lnTo>
                            <a:lnTo>
                              <a:pt x="432" y="291"/>
                            </a:lnTo>
                            <a:lnTo>
                              <a:pt x="418" y="282"/>
                            </a:lnTo>
                            <a:lnTo>
                              <a:pt x="405" y="274"/>
                            </a:lnTo>
                            <a:lnTo>
                              <a:pt x="392" y="264"/>
                            </a:lnTo>
                            <a:lnTo>
                              <a:pt x="379" y="255"/>
                            </a:lnTo>
                            <a:lnTo>
                              <a:pt x="366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8"/>
                            </a:lnTo>
                            <a:lnTo>
                              <a:pt x="323" y="195"/>
                            </a:lnTo>
                            <a:lnTo>
                              <a:pt x="313" y="182"/>
                            </a:lnTo>
                            <a:lnTo>
                              <a:pt x="305" y="169"/>
                            </a:lnTo>
                            <a:lnTo>
                              <a:pt x="297" y="155"/>
                            </a:lnTo>
                            <a:lnTo>
                              <a:pt x="290" y="141"/>
                            </a:lnTo>
                            <a:lnTo>
                              <a:pt x="284" y="125"/>
                            </a:lnTo>
                            <a:lnTo>
                              <a:pt x="278" y="111"/>
                            </a:lnTo>
                            <a:lnTo>
                              <a:pt x="273" y="96"/>
                            </a:lnTo>
                            <a:lnTo>
                              <a:pt x="269" y="81"/>
                            </a:lnTo>
                            <a:lnTo>
                              <a:pt x="265" y="64"/>
                            </a:lnTo>
                            <a:lnTo>
                              <a:pt x="262" y="48"/>
                            </a:lnTo>
                            <a:lnTo>
                              <a:pt x="261" y="32"/>
                            </a:lnTo>
                            <a:lnTo>
                              <a:pt x="259" y="16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29"/>
                            </a:lnTo>
                            <a:lnTo>
                              <a:pt x="3" y="58"/>
                            </a:lnTo>
                            <a:lnTo>
                              <a:pt x="6" y="87"/>
                            </a:lnTo>
                            <a:lnTo>
                              <a:pt x="12" y="115"/>
                            </a:lnTo>
                            <a:lnTo>
                              <a:pt x="18" y="144"/>
                            </a:lnTo>
                            <a:lnTo>
                              <a:pt x="26" y="171"/>
                            </a:lnTo>
                            <a:lnTo>
                              <a:pt x="35" y="198"/>
                            </a:lnTo>
                            <a:lnTo>
                              <a:pt x="45" y="225"/>
                            </a:lnTo>
                            <a:lnTo>
                              <a:pt x="56" y="251"/>
                            </a:lnTo>
                            <a:lnTo>
                              <a:pt x="69" y="277"/>
                            </a:lnTo>
                            <a:lnTo>
                              <a:pt x="83" y="302"/>
                            </a:lnTo>
                            <a:lnTo>
                              <a:pt x="98" y="326"/>
                            </a:lnTo>
                            <a:lnTo>
                              <a:pt x="115" y="350"/>
                            </a:lnTo>
                            <a:lnTo>
                              <a:pt x="133" y="373"/>
                            </a:lnTo>
                            <a:lnTo>
                              <a:pt x="152" y="395"/>
                            </a:lnTo>
                            <a:lnTo>
                              <a:pt x="172" y="416"/>
                            </a:lnTo>
                            <a:lnTo>
                              <a:pt x="193" y="436"/>
                            </a:lnTo>
                            <a:lnTo>
                              <a:pt x="215" y="456"/>
                            </a:lnTo>
                            <a:lnTo>
                              <a:pt x="237" y="473"/>
                            </a:lnTo>
                            <a:lnTo>
                              <a:pt x="262" y="490"/>
                            </a:lnTo>
                            <a:lnTo>
                              <a:pt x="286" y="505"/>
                            </a:lnTo>
                            <a:lnTo>
                              <a:pt x="310" y="520"/>
                            </a:lnTo>
                            <a:lnTo>
                              <a:pt x="336" y="533"/>
                            </a:lnTo>
                            <a:lnTo>
                              <a:pt x="362" y="544"/>
                            </a:lnTo>
                            <a:lnTo>
                              <a:pt x="389" y="554"/>
                            </a:lnTo>
                            <a:lnTo>
                              <a:pt x="416" y="563"/>
                            </a:lnTo>
                            <a:lnTo>
                              <a:pt x="443" y="571"/>
                            </a:lnTo>
                            <a:lnTo>
                              <a:pt x="471" y="577"/>
                            </a:lnTo>
                            <a:lnTo>
                              <a:pt x="500" y="582"/>
                            </a:lnTo>
                            <a:lnTo>
                              <a:pt x="528" y="585"/>
                            </a:lnTo>
                            <a:lnTo>
                              <a:pt x="557" y="588"/>
                            </a:lnTo>
                            <a:lnTo>
                              <a:pt x="586" y="589"/>
                            </a:lnTo>
                            <a:lnTo>
                              <a:pt x="616" y="588"/>
                            </a:lnTo>
                            <a:lnTo>
                              <a:pt x="645" y="585"/>
                            </a:lnTo>
                            <a:lnTo>
                              <a:pt x="673" y="582"/>
                            </a:lnTo>
                            <a:lnTo>
                              <a:pt x="701" y="577"/>
                            </a:lnTo>
                            <a:lnTo>
                              <a:pt x="730" y="571"/>
                            </a:lnTo>
                            <a:lnTo>
                              <a:pt x="757" y="563"/>
                            </a:lnTo>
                            <a:lnTo>
                              <a:pt x="784" y="554"/>
                            </a:lnTo>
                            <a:lnTo>
                              <a:pt x="810" y="544"/>
                            </a:lnTo>
                            <a:lnTo>
                              <a:pt x="836" y="533"/>
                            </a:lnTo>
                            <a:lnTo>
                              <a:pt x="862" y="520"/>
                            </a:lnTo>
                            <a:lnTo>
                              <a:pt x="887" y="505"/>
                            </a:lnTo>
                            <a:lnTo>
                              <a:pt x="911" y="490"/>
                            </a:lnTo>
                            <a:lnTo>
                              <a:pt x="934" y="473"/>
                            </a:lnTo>
                            <a:lnTo>
                              <a:pt x="957" y="456"/>
                            </a:lnTo>
                            <a:lnTo>
                              <a:pt x="980" y="436"/>
                            </a:lnTo>
                            <a:lnTo>
                              <a:pt x="1001" y="416"/>
                            </a:lnTo>
                            <a:lnTo>
                              <a:pt x="1020" y="395"/>
                            </a:lnTo>
                            <a:lnTo>
                              <a:pt x="1039" y="373"/>
                            </a:lnTo>
                            <a:lnTo>
                              <a:pt x="1057" y="350"/>
                            </a:lnTo>
                            <a:lnTo>
                              <a:pt x="1073" y="326"/>
                            </a:lnTo>
                            <a:lnTo>
                              <a:pt x="1090" y="302"/>
                            </a:lnTo>
                            <a:lnTo>
                              <a:pt x="1104" y="277"/>
                            </a:lnTo>
                            <a:lnTo>
                              <a:pt x="1116" y="251"/>
                            </a:lnTo>
                            <a:lnTo>
                              <a:pt x="1128" y="225"/>
                            </a:lnTo>
                            <a:lnTo>
                              <a:pt x="1138" y="198"/>
                            </a:lnTo>
                            <a:lnTo>
                              <a:pt x="1147" y="171"/>
                            </a:lnTo>
                            <a:lnTo>
                              <a:pt x="1154" y="144"/>
                            </a:lnTo>
                            <a:lnTo>
                              <a:pt x="1161" y="115"/>
                            </a:lnTo>
                            <a:lnTo>
                              <a:pt x="1165" y="87"/>
                            </a:lnTo>
                            <a:lnTo>
                              <a:pt x="1169" y="58"/>
                            </a:lnTo>
                            <a:lnTo>
                              <a:pt x="1171" y="29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3702240" y="4044240"/>
                        <a:ext cx="2304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60">
                            <a:moveTo>
                              <a:pt x="428" y="860"/>
                            </a:moveTo>
                            <a:lnTo>
                              <a:pt x="450" y="860"/>
                            </a:lnTo>
                            <a:lnTo>
                              <a:pt x="471" y="858"/>
                            </a:lnTo>
                            <a:lnTo>
                              <a:pt x="493" y="856"/>
                            </a:lnTo>
                            <a:lnTo>
                              <a:pt x="514" y="852"/>
                            </a:lnTo>
                            <a:lnTo>
                              <a:pt x="535" y="847"/>
                            </a:lnTo>
                            <a:lnTo>
                              <a:pt x="555" y="841"/>
                            </a:lnTo>
                            <a:lnTo>
                              <a:pt x="575" y="835"/>
                            </a:lnTo>
                            <a:lnTo>
                              <a:pt x="594" y="827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49" y="798"/>
                            </a:lnTo>
                            <a:lnTo>
                              <a:pt x="667" y="787"/>
                            </a:lnTo>
                            <a:lnTo>
                              <a:pt x="684" y="775"/>
                            </a:lnTo>
                            <a:lnTo>
                              <a:pt x="700" y="763"/>
                            </a:lnTo>
                            <a:lnTo>
                              <a:pt x="715" y="749"/>
                            </a:lnTo>
                            <a:lnTo>
                              <a:pt x="730" y="734"/>
                            </a:lnTo>
                            <a:lnTo>
                              <a:pt x="744" y="720"/>
                            </a:lnTo>
                            <a:lnTo>
                              <a:pt x="757" y="704"/>
                            </a:lnTo>
                            <a:lnTo>
                              <a:pt x="770" y="688"/>
                            </a:lnTo>
                            <a:lnTo>
                              <a:pt x="783" y="670"/>
                            </a:lnTo>
                            <a:lnTo>
                              <a:pt x="794" y="653"/>
                            </a:lnTo>
                            <a:lnTo>
                              <a:pt x="804" y="636"/>
                            </a:lnTo>
                            <a:lnTo>
                              <a:pt x="813" y="617"/>
                            </a:lnTo>
                            <a:lnTo>
                              <a:pt x="822" y="598"/>
                            </a:lnTo>
                            <a:lnTo>
                              <a:pt x="829" y="578"/>
                            </a:lnTo>
                            <a:lnTo>
                              <a:pt x="836" y="559"/>
                            </a:lnTo>
                            <a:lnTo>
                              <a:pt x="842" y="538"/>
                            </a:lnTo>
                            <a:lnTo>
                              <a:pt x="847" y="517"/>
                            </a:lnTo>
                            <a:lnTo>
                              <a:pt x="850" y="496"/>
                            </a:lnTo>
                            <a:lnTo>
                              <a:pt x="853" y="475"/>
                            </a:lnTo>
                            <a:lnTo>
                              <a:pt x="855" y="453"/>
                            </a:lnTo>
                            <a:lnTo>
                              <a:pt x="855" y="430"/>
                            </a:lnTo>
                            <a:lnTo>
                              <a:pt x="855" y="409"/>
                            </a:lnTo>
                            <a:lnTo>
                              <a:pt x="853" y="387"/>
                            </a:lnTo>
                            <a:lnTo>
                              <a:pt x="850" y="365"/>
                            </a:lnTo>
                            <a:lnTo>
                              <a:pt x="847" y="344"/>
                            </a:lnTo>
                            <a:lnTo>
                              <a:pt x="842" y="323"/>
                            </a:lnTo>
                            <a:lnTo>
                              <a:pt x="836" y="303"/>
                            </a:lnTo>
                            <a:lnTo>
                              <a:pt x="829" y="283"/>
                            </a:lnTo>
                            <a:lnTo>
                              <a:pt x="822" y="263"/>
                            </a:lnTo>
                            <a:lnTo>
                              <a:pt x="813" y="245"/>
                            </a:lnTo>
                            <a:lnTo>
                              <a:pt x="804" y="226"/>
                            </a:lnTo>
                            <a:lnTo>
                              <a:pt x="794" y="208"/>
                            </a:lnTo>
                            <a:lnTo>
                              <a:pt x="783" y="190"/>
                            </a:lnTo>
                            <a:lnTo>
                              <a:pt x="770" y="174"/>
                            </a:lnTo>
                            <a:lnTo>
                              <a:pt x="757" y="158"/>
                            </a:lnTo>
                            <a:lnTo>
                              <a:pt x="744" y="141"/>
                            </a:lnTo>
                            <a:lnTo>
                              <a:pt x="730" y="127"/>
                            </a:lnTo>
                            <a:lnTo>
                              <a:pt x="715" y="113"/>
                            </a:lnTo>
                            <a:lnTo>
                              <a:pt x="700" y="99"/>
                            </a:lnTo>
                            <a:lnTo>
                              <a:pt x="684" y="87"/>
                            </a:lnTo>
                            <a:lnTo>
                              <a:pt x="667" y="74"/>
                            </a:lnTo>
                            <a:lnTo>
                              <a:pt x="649" y="63"/>
                            </a:lnTo>
                            <a:lnTo>
                              <a:pt x="631" y="53"/>
                            </a:lnTo>
                            <a:lnTo>
                              <a:pt x="613" y="43"/>
                            </a:lnTo>
                            <a:lnTo>
                              <a:pt x="594" y="35"/>
                            </a:lnTo>
                            <a:lnTo>
                              <a:pt x="575" y="27"/>
                            </a:lnTo>
                            <a:lnTo>
                              <a:pt x="555" y="20"/>
                            </a:lnTo>
                            <a:lnTo>
                              <a:pt x="535" y="15"/>
                            </a:lnTo>
                            <a:lnTo>
                              <a:pt x="514" y="10"/>
                            </a:lnTo>
                            <a:lnTo>
                              <a:pt x="493" y="6"/>
                            </a:lnTo>
                            <a:lnTo>
                              <a:pt x="471" y="4"/>
                            </a:lnTo>
                            <a:lnTo>
                              <a:pt x="450" y="2"/>
                            </a:lnTo>
                            <a:lnTo>
                              <a:pt x="428" y="0"/>
                            </a:lnTo>
                            <a:lnTo>
                              <a:pt x="405" y="2"/>
                            </a:lnTo>
                            <a:lnTo>
                              <a:pt x="384" y="4"/>
                            </a:lnTo>
                            <a:lnTo>
                              <a:pt x="362" y="6"/>
                            </a:lnTo>
                            <a:lnTo>
                              <a:pt x="342" y="10"/>
                            </a:lnTo>
                            <a:lnTo>
                              <a:pt x="321" y="15"/>
                            </a:lnTo>
                            <a:lnTo>
                              <a:pt x="301" y="20"/>
                            </a:lnTo>
                            <a:lnTo>
                              <a:pt x="280" y="27"/>
                            </a:lnTo>
                            <a:lnTo>
                              <a:pt x="261" y="35"/>
                            </a:lnTo>
                            <a:lnTo>
                              <a:pt x="242" y="43"/>
                            </a:lnTo>
                            <a:lnTo>
                              <a:pt x="224" y="53"/>
                            </a:lnTo>
                            <a:lnTo>
                              <a:pt x="206" y="63"/>
                            </a:lnTo>
                            <a:lnTo>
                              <a:pt x="189" y="74"/>
                            </a:lnTo>
                            <a:lnTo>
                              <a:pt x="171" y="87"/>
                            </a:lnTo>
                            <a:lnTo>
                              <a:pt x="155" y="99"/>
                            </a:lnTo>
                            <a:lnTo>
                              <a:pt x="140" y="113"/>
                            </a:lnTo>
                            <a:lnTo>
                              <a:pt x="125" y="127"/>
                            </a:lnTo>
                            <a:lnTo>
                              <a:pt x="111" y="141"/>
                            </a:lnTo>
                            <a:lnTo>
                              <a:pt x="98" y="158"/>
                            </a:lnTo>
                            <a:lnTo>
                              <a:pt x="85" y="174"/>
                            </a:lnTo>
                            <a:lnTo>
                              <a:pt x="73" y="190"/>
                            </a:lnTo>
                            <a:lnTo>
                              <a:pt x="62" y="208"/>
                            </a:lnTo>
                            <a:lnTo>
                              <a:pt x="51" y="226"/>
                            </a:lnTo>
                            <a:lnTo>
                              <a:pt x="42" y="245"/>
                            </a:lnTo>
                            <a:lnTo>
                              <a:pt x="33" y="263"/>
                            </a:lnTo>
                            <a:lnTo>
                              <a:pt x="26" y="283"/>
                            </a:lnTo>
                            <a:lnTo>
                              <a:pt x="19" y="303"/>
                            </a:lnTo>
                            <a:lnTo>
                              <a:pt x="13" y="323"/>
                            </a:lnTo>
                            <a:lnTo>
                              <a:pt x="9" y="344"/>
                            </a:lnTo>
                            <a:lnTo>
                              <a:pt x="5" y="365"/>
                            </a:lnTo>
                            <a:lnTo>
                              <a:pt x="2" y="387"/>
                            </a:lnTo>
                            <a:lnTo>
                              <a:pt x="1" y="409"/>
                            </a:lnTo>
                            <a:lnTo>
                              <a:pt x="0" y="430"/>
                            </a:lnTo>
                            <a:lnTo>
                              <a:pt x="1" y="453"/>
                            </a:lnTo>
                            <a:lnTo>
                              <a:pt x="2" y="475"/>
                            </a:lnTo>
                            <a:lnTo>
                              <a:pt x="5" y="496"/>
                            </a:lnTo>
                            <a:lnTo>
                              <a:pt x="9" y="517"/>
                            </a:lnTo>
                            <a:lnTo>
                              <a:pt x="13" y="538"/>
                            </a:lnTo>
                            <a:lnTo>
                              <a:pt x="19" y="559"/>
                            </a:lnTo>
                            <a:lnTo>
                              <a:pt x="26" y="578"/>
                            </a:lnTo>
                            <a:lnTo>
                              <a:pt x="33" y="598"/>
                            </a:lnTo>
                            <a:lnTo>
                              <a:pt x="42" y="617"/>
                            </a:lnTo>
                            <a:lnTo>
                              <a:pt x="51" y="636"/>
                            </a:lnTo>
                            <a:lnTo>
                              <a:pt x="62" y="653"/>
                            </a:lnTo>
                            <a:lnTo>
                              <a:pt x="73" y="670"/>
                            </a:lnTo>
                            <a:lnTo>
                              <a:pt x="85" y="688"/>
                            </a:lnTo>
                            <a:lnTo>
                              <a:pt x="98" y="704"/>
                            </a:lnTo>
                            <a:lnTo>
                              <a:pt x="111" y="720"/>
                            </a:lnTo>
                            <a:lnTo>
                              <a:pt x="125" y="734"/>
                            </a:lnTo>
                            <a:lnTo>
                              <a:pt x="140" y="749"/>
                            </a:lnTo>
                            <a:lnTo>
                              <a:pt x="155" y="763"/>
                            </a:lnTo>
                            <a:lnTo>
                              <a:pt x="171" y="775"/>
                            </a:lnTo>
                            <a:lnTo>
                              <a:pt x="189" y="787"/>
                            </a:lnTo>
                            <a:lnTo>
                              <a:pt x="206" y="798"/>
                            </a:lnTo>
                            <a:lnTo>
                              <a:pt x="224" y="808"/>
                            </a:lnTo>
                            <a:lnTo>
                              <a:pt x="242" y="818"/>
                            </a:lnTo>
                            <a:lnTo>
                              <a:pt x="261" y="827"/>
                            </a:lnTo>
                            <a:lnTo>
                              <a:pt x="280" y="835"/>
                            </a:lnTo>
                            <a:lnTo>
                              <a:pt x="301" y="841"/>
                            </a:lnTo>
                            <a:lnTo>
                              <a:pt x="321" y="847"/>
                            </a:lnTo>
                            <a:lnTo>
                              <a:pt x="342" y="852"/>
                            </a:lnTo>
                            <a:lnTo>
                              <a:pt x="362" y="856"/>
                            </a:lnTo>
                            <a:lnTo>
                              <a:pt x="384" y="858"/>
                            </a:lnTo>
                            <a:lnTo>
                              <a:pt x="405" y="860"/>
                            </a:lnTo>
                            <a:lnTo>
                              <a:pt x="428" y="86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3697920" y="4039920"/>
                        <a:ext cx="324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3" h="589">
                            <a:moveTo>
                              <a:pt x="350" y="356"/>
                            </a:moveTo>
                            <a:lnTo>
                              <a:pt x="362" y="345"/>
                            </a:lnTo>
                            <a:lnTo>
                              <a:pt x="374" y="335"/>
                            </a:lnTo>
                            <a:lnTo>
                              <a:pt x="386" y="325"/>
                            </a:lnTo>
                            <a:lnTo>
                              <a:pt x="400" y="316"/>
                            </a:lnTo>
                            <a:lnTo>
                              <a:pt x="413" y="306"/>
                            </a:lnTo>
                            <a:lnTo>
                              <a:pt x="427" y="298"/>
                            </a:lnTo>
                            <a:lnTo>
                              <a:pt x="442" y="291"/>
                            </a:lnTo>
                            <a:lnTo>
                              <a:pt x="456" y="285"/>
                            </a:lnTo>
                            <a:lnTo>
                              <a:pt x="471" y="279"/>
                            </a:lnTo>
                            <a:lnTo>
                              <a:pt x="486" y="274"/>
                            </a:lnTo>
                            <a:lnTo>
                              <a:pt x="501" y="270"/>
                            </a:lnTo>
                            <a:lnTo>
                              <a:pt x="517" y="267"/>
                            </a:lnTo>
                            <a:lnTo>
                              <a:pt x="532" y="264"/>
                            </a:lnTo>
                            <a:lnTo>
                              <a:pt x="548" y="262"/>
                            </a:lnTo>
                            <a:lnTo>
                              <a:pt x="565" y="261"/>
                            </a:lnTo>
                            <a:lnTo>
                              <a:pt x="582" y="260"/>
                            </a:lnTo>
                            <a:lnTo>
                              <a:pt x="598" y="261"/>
                            </a:lnTo>
                            <a:lnTo>
                              <a:pt x="614" y="262"/>
                            </a:lnTo>
                            <a:lnTo>
                              <a:pt x="630" y="264"/>
                            </a:lnTo>
                            <a:lnTo>
                              <a:pt x="646" y="267"/>
                            </a:lnTo>
                            <a:lnTo>
                              <a:pt x="661" y="270"/>
                            </a:lnTo>
                            <a:lnTo>
                              <a:pt x="676" y="274"/>
                            </a:lnTo>
                            <a:lnTo>
                              <a:pt x="692" y="279"/>
                            </a:lnTo>
                            <a:lnTo>
                              <a:pt x="707" y="285"/>
                            </a:lnTo>
                            <a:lnTo>
                              <a:pt x="721" y="291"/>
                            </a:lnTo>
                            <a:lnTo>
                              <a:pt x="736" y="298"/>
                            </a:lnTo>
                            <a:lnTo>
                              <a:pt x="749" y="306"/>
                            </a:lnTo>
                            <a:lnTo>
                              <a:pt x="763" y="316"/>
                            </a:lnTo>
                            <a:lnTo>
                              <a:pt x="776" y="325"/>
                            </a:lnTo>
                            <a:lnTo>
                              <a:pt x="788" y="335"/>
                            </a:lnTo>
                            <a:lnTo>
                              <a:pt x="802" y="345"/>
                            </a:lnTo>
                            <a:lnTo>
                              <a:pt x="813" y="356"/>
                            </a:lnTo>
                            <a:lnTo>
                              <a:pt x="823" y="366"/>
                            </a:lnTo>
                            <a:lnTo>
                              <a:pt x="832" y="377"/>
                            </a:lnTo>
                            <a:lnTo>
                              <a:pt x="840" y="387"/>
                            </a:lnTo>
                            <a:lnTo>
                              <a:pt x="848" y="399"/>
                            </a:lnTo>
                            <a:lnTo>
                              <a:pt x="856" y="411"/>
                            </a:lnTo>
                            <a:lnTo>
                              <a:pt x="863" y="423"/>
                            </a:lnTo>
                            <a:lnTo>
                              <a:pt x="869" y="436"/>
                            </a:lnTo>
                            <a:lnTo>
                              <a:pt x="875" y="450"/>
                            </a:lnTo>
                            <a:lnTo>
                              <a:pt x="880" y="465"/>
                            </a:lnTo>
                            <a:lnTo>
                              <a:pt x="885" y="480"/>
                            </a:lnTo>
                            <a:lnTo>
                              <a:pt x="890" y="496"/>
                            </a:lnTo>
                            <a:lnTo>
                              <a:pt x="894" y="512"/>
                            </a:lnTo>
                            <a:lnTo>
                              <a:pt x="897" y="530"/>
                            </a:lnTo>
                            <a:lnTo>
                              <a:pt x="900" y="549"/>
                            </a:lnTo>
                            <a:lnTo>
                              <a:pt x="903" y="568"/>
                            </a:lnTo>
                            <a:lnTo>
                              <a:pt x="905" y="589"/>
                            </a:lnTo>
                            <a:lnTo>
                              <a:pt x="1163" y="589"/>
                            </a:lnTo>
                            <a:lnTo>
                              <a:pt x="1161" y="556"/>
                            </a:lnTo>
                            <a:lnTo>
                              <a:pt x="1158" y="523"/>
                            </a:lnTo>
                            <a:lnTo>
                              <a:pt x="1152" y="492"/>
                            </a:lnTo>
                            <a:lnTo>
                              <a:pt x="1146" y="461"/>
                            </a:lnTo>
                            <a:lnTo>
                              <a:pt x="1140" y="432"/>
                            </a:lnTo>
                            <a:lnTo>
                              <a:pt x="1132" y="404"/>
                            </a:lnTo>
                            <a:lnTo>
                              <a:pt x="1123" y="377"/>
                            </a:lnTo>
                            <a:lnTo>
                              <a:pt x="1113" y="351"/>
                            </a:lnTo>
                            <a:lnTo>
                              <a:pt x="1102" y="326"/>
                            </a:lnTo>
                            <a:lnTo>
                              <a:pt x="1090" y="301"/>
                            </a:lnTo>
                            <a:lnTo>
                              <a:pt x="1077" y="278"/>
                            </a:lnTo>
                            <a:lnTo>
                              <a:pt x="1063" y="256"/>
                            </a:lnTo>
                            <a:lnTo>
                              <a:pt x="1048" y="233"/>
                            </a:lnTo>
                            <a:lnTo>
                              <a:pt x="1031" y="212"/>
                            </a:lnTo>
                            <a:lnTo>
                              <a:pt x="1013" y="193"/>
                            </a:lnTo>
                            <a:lnTo>
                              <a:pt x="995" y="173"/>
                            </a:lnTo>
                            <a:lnTo>
                              <a:pt x="974" y="153"/>
                            </a:lnTo>
                            <a:lnTo>
                              <a:pt x="952" y="134"/>
                            </a:lnTo>
                            <a:lnTo>
                              <a:pt x="930" y="116"/>
                            </a:lnTo>
                            <a:lnTo>
                              <a:pt x="906" y="100"/>
                            </a:lnTo>
                            <a:lnTo>
                              <a:pt x="882" y="84"/>
                            </a:lnTo>
                            <a:lnTo>
                              <a:pt x="857" y="70"/>
                            </a:lnTo>
                            <a:lnTo>
                              <a:pt x="832" y="57"/>
                            </a:lnTo>
                            <a:lnTo>
                              <a:pt x="806" y="45"/>
                            </a:lnTo>
                            <a:lnTo>
                              <a:pt x="779" y="35"/>
                            </a:lnTo>
                            <a:lnTo>
                              <a:pt x="752" y="26"/>
                            </a:lnTo>
                            <a:lnTo>
                              <a:pt x="724" y="19"/>
                            </a:lnTo>
                            <a:lnTo>
                              <a:pt x="697" y="12"/>
                            </a:lnTo>
                            <a:lnTo>
                              <a:pt x="668" y="7"/>
                            </a:lnTo>
                            <a:lnTo>
                              <a:pt x="639" y="3"/>
                            </a:lnTo>
                            <a:lnTo>
                              <a:pt x="611" y="1"/>
                            </a:lnTo>
                            <a:lnTo>
                              <a:pt x="582" y="0"/>
                            </a:lnTo>
                            <a:lnTo>
                              <a:pt x="552" y="1"/>
                            </a:lnTo>
                            <a:lnTo>
                              <a:pt x="524" y="3"/>
                            </a:lnTo>
                            <a:lnTo>
                              <a:pt x="496" y="7"/>
                            </a:lnTo>
                            <a:lnTo>
                              <a:pt x="469" y="11"/>
                            </a:lnTo>
                            <a:lnTo>
                              <a:pt x="442" y="18"/>
                            </a:lnTo>
                            <a:lnTo>
                              <a:pt x="414" y="26"/>
                            </a:lnTo>
                            <a:lnTo>
                              <a:pt x="389" y="34"/>
                            </a:lnTo>
                            <a:lnTo>
                              <a:pt x="363" y="44"/>
                            </a:lnTo>
                            <a:lnTo>
                              <a:pt x="338" y="55"/>
                            </a:lnTo>
                            <a:lnTo>
                              <a:pt x="313" y="67"/>
                            </a:lnTo>
                            <a:lnTo>
                              <a:pt x="290" y="81"/>
                            </a:lnTo>
                            <a:lnTo>
                              <a:pt x="267" y="96"/>
                            </a:lnTo>
                            <a:lnTo>
                              <a:pt x="245" y="112"/>
                            </a:lnTo>
                            <a:lnTo>
                              <a:pt x="224" y="128"/>
                            </a:lnTo>
                            <a:lnTo>
                              <a:pt x="203" y="146"/>
                            </a:lnTo>
                            <a:lnTo>
                              <a:pt x="182" y="165"/>
                            </a:lnTo>
                            <a:lnTo>
                              <a:pt x="163" y="185"/>
                            </a:lnTo>
                            <a:lnTo>
                              <a:pt x="145" y="206"/>
                            </a:lnTo>
                            <a:lnTo>
                              <a:pt x="128" y="228"/>
                            </a:lnTo>
                            <a:lnTo>
                              <a:pt x="112" y="251"/>
                            </a:lnTo>
                            <a:lnTo>
                              <a:pt x="97" y="275"/>
                            </a:lnTo>
                            <a:lnTo>
                              <a:pt x="82" y="299"/>
                            </a:lnTo>
                            <a:lnTo>
                              <a:pt x="68" y="325"/>
                            </a:lnTo>
                            <a:lnTo>
                              <a:pt x="56" y="351"/>
                            </a:lnTo>
                            <a:lnTo>
                              <a:pt x="45" y="378"/>
                            </a:lnTo>
                            <a:lnTo>
                              <a:pt x="35" y="407"/>
                            </a:lnTo>
                            <a:lnTo>
                              <a:pt x="26" y="435"/>
                            </a:lnTo>
                            <a:lnTo>
                              <a:pt x="18" y="465"/>
                            </a:lnTo>
                            <a:lnTo>
                              <a:pt x="12" y="495"/>
                            </a:lnTo>
                            <a:lnTo>
                              <a:pt x="7" y="525"/>
                            </a:lnTo>
                            <a:lnTo>
                              <a:pt x="3" y="557"/>
                            </a:lnTo>
                            <a:lnTo>
                              <a:pt x="0" y="589"/>
                            </a:lnTo>
                            <a:lnTo>
                              <a:pt x="258" y="589"/>
                            </a:lnTo>
                            <a:lnTo>
                              <a:pt x="260" y="568"/>
                            </a:lnTo>
                            <a:lnTo>
                              <a:pt x="262" y="549"/>
                            </a:lnTo>
                            <a:lnTo>
                              <a:pt x="265" y="530"/>
                            </a:lnTo>
                            <a:lnTo>
                              <a:pt x="268" y="512"/>
                            </a:lnTo>
                            <a:lnTo>
                              <a:pt x="272" y="496"/>
                            </a:lnTo>
                            <a:lnTo>
                              <a:pt x="277" y="480"/>
                            </a:lnTo>
                            <a:lnTo>
                              <a:pt x="282" y="465"/>
                            </a:lnTo>
                            <a:lnTo>
                              <a:pt x="287" y="450"/>
                            </a:lnTo>
                            <a:lnTo>
                              <a:pt x="293" y="436"/>
                            </a:lnTo>
                            <a:lnTo>
                              <a:pt x="300" y="423"/>
                            </a:lnTo>
                            <a:lnTo>
                              <a:pt x="307" y="411"/>
                            </a:lnTo>
                            <a:lnTo>
                              <a:pt x="314" y="399"/>
                            </a:lnTo>
                            <a:lnTo>
                              <a:pt x="323" y="387"/>
                            </a:lnTo>
                            <a:lnTo>
                              <a:pt x="332" y="377"/>
                            </a:lnTo>
                            <a:lnTo>
                              <a:pt x="341" y="366"/>
                            </a:lnTo>
                            <a:lnTo>
                              <a:pt x="350" y="356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" name=""/>
                      <p:cNvSpPr/>
                      <p:nvPr/>
                    </p:nvSpPr>
                    <p:spPr>
                      <a:xfrm>
                        <a:off x="3697920" y="4055760"/>
                        <a:ext cx="324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1" h="589">
                            <a:moveTo>
                              <a:pt x="913" y="0"/>
                            </a:moveTo>
                            <a:lnTo>
                              <a:pt x="912" y="17"/>
                            </a:lnTo>
                            <a:lnTo>
                              <a:pt x="911" y="34"/>
                            </a:lnTo>
                            <a:lnTo>
                              <a:pt x="909" y="51"/>
                            </a:lnTo>
                            <a:lnTo>
                              <a:pt x="906" y="67"/>
                            </a:lnTo>
                            <a:lnTo>
                              <a:pt x="902" y="82"/>
                            </a:lnTo>
                            <a:lnTo>
                              <a:pt x="898" y="99"/>
                            </a:lnTo>
                            <a:lnTo>
                              <a:pt x="893" y="114"/>
                            </a:lnTo>
                            <a:lnTo>
                              <a:pt x="887" y="129"/>
                            </a:lnTo>
                            <a:lnTo>
                              <a:pt x="880" y="143"/>
                            </a:lnTo>
                            <a:lnTo>
                              <a:pt x="873" y="157"/>
                            </a:lnTo>
                            <a:lnTo>
                              <a:pt x="865" y="171"/>
                            </a:lnTo>
                            <a:lnTo>
                              <a:pt x="857" y="185"/>
                            </a:lnTo>
                            <a:lnTo>
                              <a:pt x="848" y="198"/>
                            </a:lnTo>
                            <a:lnTo>
                              <a:pt x="838" y="210"/>
                            </a:lnTo>
                            <a:lnTo>
                              <a:pt x="828" y="222"/>
                            </a:lnTo>
                            <a:lnTo>
                              <a:pt x="817" y="233"/>
                            </a:lnTo>
                            <a:lnTo>
                              <a:pt x="806" y="244"/>
                            </a:lnTo>
                            <a:lnTo>
                              <a:pt x="793" y="255"/>
                            </a:lnTo>
                            <a:lnTo>
                              <a:pt x="781" y="264"/>
                            </a:lnTo>
                            <a:lnTo>
                              <a:pt x="768" y="274"/>
                            </a:lnTo>
                            <a:lnTo>
                              <a:pt x="755" y="282"/>
                            </a:lnTo>
                            <a:lnTo>
                              <a:pt x="741" y="290"/>
                            </a:lnTo>
                            <a:lnTo>
                              <a:pt x="727" y="297"/>
                            </a:lnTo>
                            <a:lnTo>
                              <a:pt x="713" y="303"/>
                            </a:lnTo>
                            <a:lnTo>
                              <a:pt x="698" y="309"/>
                            </a:lnTo>
                            <a:lnTo>
                              <a:pt x="683" y="314"/>
                            </a:lnTo>
                            <a:lnTo>
                              <a:pt x="667" y="319"/>
                            </a:lnTo>
                            <a:lnTo>
                              <a:pt x="651" y="323"/>
                            </a:lnTo>
                            <a:lnTo>
                              <a:pt x="635" y="326"/>
                            </a:lnTo>
                            <a:lnTo>
                              <a:pt x="619" y="328"/>
                            </a:lnTo>
                            <a:lnTo>
                              <a:pt x="602" y="330"/>
                            </a:lnTo>
                            <a:lnTo>
                              <a:pt x="586" y="330"/>
                            </a:lnTo>
                            <a:lnTo>
                              <a:pt x="569" y="330"/>
                            </a:lnTo>
                            <a:lnTo>
                              <a:pt x="552" y="328"/>
                            </a:lnTo>
                            <a:lnTo>
                              <a:pt x="536" y="327"/>
                            </a:lnTo>
                            <a:lnTo>
                              <a:pt x="521" y="324"/>
                            </a:lnTo>
                            <a:lnTo>
                              <a:pt x="505" y="319"/>
                            </a:lnTo>
                            <a:lnTo>
                              <a:pt x="490" y="315"/>
                            </a:lnTo>
                            <a:lnTo>
                              <a:pt x="475" y="310"/>
                            </a:lnTo>
                            <a:lnTo>
                              <a:pt x="460" y="304"/>
                            </a:lnTo>
                            <a:lnTo>
                              <a:pt x="446" y="298"/>
                            </a:lnTo>
                            <a:lnTo>
                              <a:pt x="431" y="291"/>
                            </a:lnTo>
                            <a:lnTo>
                              <a:pt x="417" y="283"/>
                            </a:lnTo>
                            <a:lnTo>
                              <a:pt x="403" y="275"/>
                            </a:lnTo>
                            <a:lnTo>
                              <a:pt x="390" y="265"/>
                            </a:lnTo>
                            <a:lnTo>
                              <a:pt x="378" y="256"/>
                            </a:lnTo>
                            <a:lnTo>
                              <a:pt x="366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9"/>
                            </a:lnTo>
                            <a:lnTo>
                              <a:pt x="321" y="196"/>
                            </a:lnTo>
                            <a:lnTo>
                              <a:pt x="312" y="183"/>
                            </a:lnTo>
                            <a:lnTo>
                              <a:pt x="304" y="169"/>
                            </a:lnTo>
                            <a:lnTo>
                              <a:pt x="296" y="155"/>
                            </a:lnTo>
                            <a:lnTo>
                              <a:pt x="289" y="141"/>
                            </a:lnTo>
                            <a:lnTo>
                              <a:pt x="282" y="127"/>
                            </a:lnTo>
                            <a:lnTo>
                              <a:pt x="277" y="112"/>
                            </a:lnTo>
                            <a:lnTo>
                              <a:pt x="272" y="96"/>
                            </a:lnTo>
                            <a:lnTo>
                              <a:pt x="267" y="81"/>
                            </a:lnTo>
                            <a:lnTo>
                              <a:pt x="264" y="65"/>
                            </a:lnTo>
                            <a:lnTo>
                              <a:pt x="261" y="49"/>
                            </a:lnTo>
                            <a:lnTo>
                              <a:pt x="259" y="33"/>
                            </a:lnTo>
                            <a:lnTo>
                              <a:pt x="258" y="16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30"/>
                            </a:lnTo>
                            <a:lnTo>
                              <a:pt x="3" y="59"/>
                            </a:lnTo>
                            <a:lnTo>
                              <a:pt x="6" y="87"/>
                            </a:lnTo>
                            <a:lnTo>
                              <a:pt x="11" y="116"/>
                            </a:lnTo>
                            <a:lnTo>
                              <a:pt x="17" y="144"/>
                            </a:lnTo>
                            <a:lnTo>
                              <a:pt x="25" y="171"/>
                            </a:lnTo>
                            <a:lnTo>
                              <a:pt x="34" y="199"/>
                            </a:lnTo>
                            <a:lnTo>
                              <a:pt x="44" y="226"/>
                            </a:lnTo>
                            <a:lnTo>
                              <a:pt x="55" y="252"/>
                            </a:lnTo>
                            <a:lnTo>
                              <a:pt x="68" y="278"/>
                            </a:lnTo>
                            <a:lnTo>
                              <a:pt x="82" y="302"/>
                            </a:lnTo>
                            <a:lnTo>
                              <a:pt x="98" y="327"/>
                            </a:lnTo>
                            <a:lnTo>
                              <a:pt x="115" y="351"/>
                            </a:lnTo>
                            <a:lnTo>
                              <a:pt x="132" y="373"/>
                            </a:lnTo>
                            <a:lnTo>
                              <a:pt x="151" y="396"/>
                            </a:lnTo>
                            <a:lnTo>
                              <a:pt x="171" y="417"/>
                            </a:lnTo>
                            <a:lnTo>
                              <a:pt x="192" y="437"/>
                            </a:lnTo>
                            <a:lnTo>
                              <a:pt x="215" y="456"/>
                            </a:lnTo>
                            <a:lnTo>
                              <a:pt x="237" y="474"/>
                            </a:lnTo>
                            <a:lnTo>
                              <a:pt x="261" y="491"/>
                            </a:lnTo>
                            <a:lnTo>
                              <a:pt x="285" y="506"/>
                            </a:lnTo>
                            <a:lnTo>
                              <a:pt x="309" y="520"/>
                            </a:lnTo>
                            <a:lnTo>
                              <a:pt x="335" y="533"/>
                            </a:lnTo>
                            <a:lnTo>
                              <a:pt x="361" y="545"/>
                            </a:lnTo>
                            <a:lnTo>
                              <a:pt x="388" y="555"/>
                            </a:lnTo>
                            <a:lnTo>
                              <a:pt x="414" y="564"/>
                            </a:lnTo>
                            <a:lnTo>
                              <a:pt x="442" y="572"/>
                            </a:lnTo>
                            <a:lnTo>
                              <a:pt x="470" y="578"/>
                            </a:lnTo>
                            <a:lnTo>
                              <a:pt x="499" y="583"/>
                            </a:lnTo>
                            <a:lnTo>
                              <a:pt x="527" y="586"/>
                            </a:lnTo>
                            <a:lnTo>
                              <a:pt x="556" y="588"/>
                            </a:lnTo>
                            <a:lnTo>
                              <a:pt x="586" y="589"/>
                            </a:lnTo>
                            <a:lnTo>
                              <a:pt x="615" y="588"/>
                            </a:lnTo>
                            <a:lnTo>
                              <a:pt x="643" y="586"/>
                            </a:lnTo>
                            <a:lnTo>
                              <a:pt x="672" y="583"/>
                            </a:lnTo>
                            <a:lnTo>
                              <a:pt x="701" y="578"/>
                            </a:lnTo>
                            <a:lnTo>
                              <a:pt x="728" y="572"/>
                            </a:lnTo>
                            <a:lnTo>
                              <a:pt x="756" y="564"/>
                            </a:lnTo>
                            <a:lnTo>
                              <a:pt x="783" y="555"/>
                            </a:lnTo>
                            <a:lnTo>
                              <a:pt x="810" y="545"/>
                            </a:lnTo>
                            <a:lnTo>
                              <a:pt x="836" y="533"/>
                            </a:lnTo>
                            <a:lnTo>
                              <a:pt x="861" y="520"/>
                            </a:lnTo>
                            <a:lnTo>
                              <a:pt x="886" y="506"/>
                            </a:lnTo>
                            <a:lnTo>
                              <a:pt x="910" y="491"/>
                            </a:lnTo>
                            <a:lnTo>
                              <a:pt x="934" y="474"/>
                            </a:lnTo>
                            <a:lnTo>
                              <a:pt x="956" y="456"/>
                            </a:lnTo>
                            <a:lnTo>
                              <a:pt x="978" y="437"/>
                            </a:lnTo>
                            <a:lnTo>
                              <a:pt x="999" y="417"/>
                            </a:lnTo>
                            <a:lnTo>
                              <a:pt x="1019" y="396"/>
                            </a:lnTo>
                            <a:lnTo>
                              <a:pt x="1038" y="373"/>
                            </a:lnTo>
                            <a:lnTo>
                              <a:pt x="1057" y="351"/>
                            </a:lnTo>
                            <a:lnTo>
                              <a:pt x="1073" y="327"/>
                            </a:lnTo>
                            <a:lnTo>
                              <a:pt x="1088" y="302"/>
                            </a:lnTo>
                            <a:lnTo>
                              <a:pt x="1102" y="278"/>
                            </a:lnTo>
                            <a:lnTo>
                              <a:pt x="1115" y="252"/>
                            </a:lnTo>
                            <a:lnTo>
                              <a:pt x="1126" y="226"/>
                            </a:lnTo>
                            <a:lnTo>
                              <a:pt x="1137" y="199"/>
                            </a:lnTo>
                            <a:lnTo>
                              <a:pt x="1145" y="171"/>
                            </a:lnTo>
                            <a:lnTo>
                              <a:pt x="1153" y="144"/>
                            </a:lnTo>
                            <a:lnTo>
                              <a:pt x="1159" y="116"/>
                            </a:lnTo>
                            <a:lnTo>
                              <a:pt x="1165" y="87"/>
                            </a:lnTo>
                            <a:lnTo>
                              <a:pt x="1169" y="59"/>
                            </a:lnTo>
                            <a:lnTo>
                              <a:pt x="1171" y="3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3716640" y="4052160"/>
                        <a:ext cx="2412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60">
                            <a:moveTo>
                              <a:pt x="427" y="860"/>
                            </a:moveTo>
                            <a:lnTo>
                              <a:pt x="449" y="860"/>
                            </a:lnTo>
                            <a:lnTo>
                              <a:pt x="470" y="858"/>
                            </a:lnTo>
                            <a:lnTo>
                              <a:pt x="493" y="855"/>
                            </a:lnTo>
                            <a:lnTo>
                              <a:pt x="514" y="852"/>
                            </a:lnTo>
                            <a:lnTo>
                              <a:pt x="534" y="847"/>
                            </a:lnTo>
                            <a:lnTo>
                              <a:pt x="554" y="841"/>
                            </a:lnTo>
                            <a:lnTo>
                              <a:pt x="574" y="835"/>
                            </a:lnTo>
                            <a:lnTo>
                              <a:pt x="594" y="826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49" y="798"/>
                            </a:lnTo>
                            <a:lnTo>
                              <a:pt x="666" y="787"/>
                            </a:lnTo>
                            <a:lnTo>
                              <a:pt x="683" y="775"/>
                            </a:lnTo>
                            <a:lnTo>
                              <a:pt x="699" y="762"/>
                            </a:lnTo>
                            <a:lnTo>
                              <a:pt x="715" y="748"/>
                            </a:lnTo>
                            <a:lnTo>
                              <a:pt x="730" y="734"/>
                            </a:lnTo>
                            <a:lnTo>
                              <a:pt x="744" y="719"/>
                            </a:lnTo>
                            <a:lnTo>
                              <a:pt x="757" y="704"/>
                            </a:lnTo>
                            <a:lnTo>
                              <a:pt x="770" y="688"/>
                            </a:lnTo>
                            <a:lnTo>
                              <a:pt x="782" y="670"/>
                            </a:lnTo>
                            <a:lnTo>
                              <a:pt x="793" y="653"/>
                            </a:lnTo>
                            <a:lnTo>
                              <a:pt x="803" y="635"/>
                            </a:lnTo>
                            <a:lnTo>
                              <a:pt x="812" y="617"/>
                            </a:lnTo>
                            <a:lnTo>
                              <a:pt x="821" y="597"/>
                            </a:lnTo>
                            <a:lnTo>
                              <a:pt x="828" y="578"/>
                            </a:lnTo>
                            <a:lnTo>
                              <a:pt x="836" y="558"/>
                            </a:lnTo>
                            <a:lnTo>
                              <a:pt x="842" y="538"/>
                            </a:lnTo>
                            <a:lnTo>
                              <a:pt x="847" y="517"/>
                            </a:lnTo>
                            <a:lnTo>
                              <a:pt x="850" y="496"/>
                            </a:lnTo>
                            <a:lnTo>
                              <a:pt x="853" y="475"/>
                            </a:lnTo>
                            <a:lnTo>
                              <a:pt x="855" y="452"/>
                            </a:lnTo>
                            <a:lnTo>
                              <a:pt x="855" y="430"/>
                            </a:lnTo>
                            <a:lnTo>
                              <a:pt x="855" y="408"/>
                            </a:lnTo>
                            <a:lnTo>
                              <a:pt x="853" y="386"/>
                            </a:lnTo>
                            <a:lnTo>
                              <a:pt x="850" y="365"/>
                            </a:lnTo>
                            <a:lnTo>
                              <a:pt x="847" y="344"/>
                            </a:lnTo>
                            <a:lnTo>
                              <a:pt x="842" y="323"/>
                            </a:lnTo>
                            <a:lnTo>
                              <a:pt x="836" y="302"/>
                            </a:lnTo>
                            <a:lnTo>
                              <a:pt x="828" y="282"/>
                            </a:lnTo>
                            <a:lnTo>
                              <a:pt x="821" y="263"/>
                            </a:lnTo>
                            <a:lnTo>
                              <a:pt x="812" y="244"/>
                            </a:lnTo>
                            <a:lnTo>
                              <a:pt x="803" y="225"/>
                            </a:lnTo>
                            <a:lnTo>
                              <a:pt x="793" y="207"/>
                            </a:lnTo>
                            <a:lnTo>
                              <a:pt x="782" y="190"/>
                            </a:lnTo>
                            <a:lnTo>
                              <a:pt x="770" y="174"/>
                            </a:lnTo>
                            <a:lnTo>
                              <a:pt x="757" y="157"/>
                            </a:lnTo>
                            <a:lnTo>
                              <a:pt x="744" y="141"/>
                            </a:lnTo>
                            <a:lnTo>
                              <a:pt x="730" y="126"/>
                            </a:lnTo>
                            <a:lnTo>
                              <a:pt x="715" y="112"/>
                            </a:lnTo>
                            <a:lnTo>
                              <a:pt x="699" y="99"/>
                            </a:lnTo>
                            <a:lnTo>
                              <a:pt x="683" y="86"/>
                            </a:lnTo>
                            <a:lnTo>
                              <a:pt x="666" y="74"/>
                            </a:lnTo>
                            <a:lnTo>
                              <a:pt x="649" y="63"/>
                            </a:lnTo>
                            <a:lnTo>
                              <a:pt x="631" y="52"/>
                            </a:lnTo>
                            <a:lnTo>
                              <a:pt x="613" y="43"/>
                            </a:lnTo>
                            <a:lnTo>
                              <a:pt x="594" y="35"/>
                            </a:lnTo>
                            <a:lnTo>
                              <a:pt x="574" y="27"/>
                            </a:lnTo>
                            <a:lnTo>
                              <a:pt x="554" y="20"/>
                            </a:lnTo>
                            <a:lnTo>
                              <a:pt x="534" y="14"/>
                            </a:lnTo>
                            <a:lnTo>
                              <a:pt x="514" y="9"/>
                            </a:lnTo>
                            <a:lnTo>
                              <a:pt x="493" y="5"/>
                            </a:lnTo>
                            <a:lnTo>
                              <a:pt x="470" y="2"/>
                            </a:lnTo>
                            <a:lnTo>
                              <a:pt x="449" y="1"/>
                            </a:lnTo>
                            <a:lnTo>
                              <a:pt x="427" y="0"/>
                            </a:lnTo>
                            <a:lnTo>
                              <a:pt x="405" y="1"/>
                            </a:lnTo>
                            <a:lnTo>
                              <a:pt x="384" y="2"/>
                            </a:lnTo>
                            <a:lnTo>
                              <a:pt x="363" y="5"/>
                            </a:lnTo>
                            <a:lnTo>
                              <a:pt x="341" y="9"/>
                            </a:lnTo>
                            <a:lnTo>
                              <a:pt x="320" y="14"/>
                            </a:lnTo>
                            <a:lnTo>
                              <a:pt x="300" y="20"/>
                            </a:lnTo>
                            <a:lnTo>
                              <a:pt x="280" y="27"/>
                            </a:lnTo>
                            <a:lnTo>
                              <a:pt x="261" y="35"/>
                            </a:lnTo>
                            <a:lnTo>
                              <a:pt x="242" y="43"/>
                            </a:lnTo>
                            <a:lnTo>
                              <a:pt x="223" y="52"/>
                            </a:lnTo>
                            <a:lnTo>
                              <a:pt x="205" y="63"/>
                            </a:lnTo>
                            <a:lnTo>
                              <a:pt x="188" y="74"/>
                            </a:lnTo>
                            <a:lnTo>
                              <a:pt x="171" y="86"/>
                            </a:lnTo>
                            <a:lnTo>
                              <a:pt x="155" y="99"/>
                            </a:lnTo>
                            <a:lnTo>
                              <a:pt x="140" y="112"/>
                            </a:lnTo>
                            <a:lnTo>
                              <a:pt x="125" y="126"/>
                            </a:lnTo>
                            <a:lnTo>
                              <a:pt x="110" y="141"/>
                            </a:lnTo>
                            <a:lnTo>
                              <a:pt x="97" y="157"/>
                            </a:lnTo>
                            <a:lnTo>
                              <a:pt x="84" y="174"/>
                            </a:lnTo>
                            <a:lnTo>
                              <a:pt x="72" y="190"/>
                            </a:lnTo>
                            <a:lnTo>
                              <a:pt x="61" y="207"/>
                            </a:lnTo>
                            <a:lnTo>
                              <a:pt x="51" y="225"/>
                            </a:lnTo>
                            <a:lnTo>
                              <a:pt x="42" y="244"/>
                            </a:lnTo>
                            <a:lnTo>
                              <a:pt x="33" y="263"/>
                            </a:lnTo>
                            <a:lnTo>
                              <a:pt x="26" y="282"/>
                            </a:lnTo>
                            <a:lnTo>
                              <a:pt x="19" y="302"/>
                            </a:lnTo>
                            <a:lnTo>
                              <a:pt x="13" y="323"/>
                            </a:lnTo>
                            <a:lnTo>
                              <a:pt x="9" y="344"/>
                            </a:lnTo>
                            <a:lnTo>
                              <a:pt x="5" y="365"/>
                            </a:lnTo>
                            <a:lnTo>
                              <a:pt x="2" y="386"/>
                            </a:lnTo>
                            <a:lnTo>
                              <a:pt x="1" y="408"/>
                            </a:lnTo>
                            <a:lnTo>
                              <a:pt x="0" y="430"/>
                            </a:lnTo>
                            <a:lnTo>
                              <a:pt x="1" y="452"/>
                            </a:lnTo>
                            <a:lnTo>
                              <a:pt x="2" y="475"/>
                            </a:lnTo>
                            <a:lnTo>
                              <a:pt x="5" y="496"/>
                            </a:lnTo>
                            <a:lnTo>
                              <a:pt x="9" y="517"/>
                            </a:lnTo>
                            <a:lnTo>
                              <a:pt x="13" y="538"/>
                            </a:lnTo>
                            <a:lnTo>
                              <a:pt x="19" y="558"/>
                            </a:lnTo>
                            <a:lnTo>
                              <a:pt x="26" y="578"/>
                            </a:lnTo>
                            <a:lnTo>
                              <a:pt x="33" y="597"/>
                            </a:lnTo>
                            <a:lnTo>
                              <a:pt x="42" y="617"/>
                            </a:lnTo>
                            <a:lnTo>
                              <a:pt x="51" y="635"/>
                            </a:lnTo>
                            <a:lnTo>
                              <a:pt x="61" y="653"/>
                            </a:lnTo>
                            <a:lnTo>
                              <a:pt x="72" y="670"/>
                            </a:lnTo>
                            <a:lnTo>
                              <a:pt x="84" y="688"/>
                            </a:lnTo>
                            <a:lnTo>
                              <a:pt x="97" y="704"/>
                            </a:lnTo>
                            <a:lnTo>
                              <a:pt x="110" y="719"/>
                            </a:lnTo>
                            <a:lnTo>
                              <a:pt x="125" y="734"/>
                            </a:lnTo>
                            <a:lnTo>
                              <a:pt x="140" y="748"/>
                            </a:lnTo>
                            <a:lnTo>
                              <a:pt x="155" y="762"/>
                            </a:lnTo>
                            <a:lnTo>
                              <a:pt x="171" y="775"/>
                            </a:lnTo>
                            <a:lnTo>
                              <a:pt x="188" y="787"/>
                            </a:lnTo>
                            <a:lnTo>
                              <a:pt x="205" y="798"/>
                            </a:lnTo>
                            <a:lnTo>
                              <a:pt x="223" y="808"/>
                            </a:lnTo>
                            <a:lnTo>
                              <a:pt x="242" y="818"/>
                            </a:lnTo>
                            <a:lnTo>
                              <a:pt x="261" y="826"/>
                            </a:lnTo>
                            <a:lnTo>
                              <a:pt x="280" y="835"/>
                            </a:lnTo>
                            <a:lnTo>
                              <a:pt x="300" y="841"/>
                            </a:lnTo>
                            <a:lnTo>
                              <a:pt x="320" y="847"/>
                            </a:lnTo>
                            <a:lnTo>
                              <a:pt x="341" y="852"/>
                            </a:lnTo>
                            <a:lnTo>
                              <a:pt x="363" y="855"/>
                            </a:lnTo>
                            <a:lnTo>
                              <a:pt x="384" y="858"/>
                            </a:lnTo>
                            <a:lnTo>
                              <a:pt x="405" y="860"/>
                            </a:lnTo>
                            <a:lnTo>
                              <a:pt x="427" y="86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3713400" y="4047840"/>
                        <a:ext cx="3132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589">
                            <a:moveTo>
                              <a:pt x="350" y="356"/>
                            </a:moveTo>
                            <a:lnTo>
                              <a:pt x="362" y="345"/>
                            </a:lnTo>
                            <a:lnTo>
                              <a:pt x="374" y="335"/>
                            </a:lnTo>
                            <a:lnTo>
                              <a:pt x="388" y="324"/>
                            </a:lnTo>
                            <a:lnTo>
                              <a:pt x="401" y="315"/>
                            </a:lnTo>
                            <a:lnTo>
                              <a:pt x="414" y="306"/>
                            </a:lnTo>
                            <a:lnTo>
                              <a:pt x="428" y="298"/>
                            </a:lnTo>
                            <a:lnTo>
                              <a:pt x="442" y="291"/>
                            </a:lnTo>
                            <a:lnTo>
                              <a:pt x="456" y="285"/>
                            </a:lnTo>
                            <a:lnTo>
                              <a:pt x="471" y="279"/>
                            </a:lnTo>
                            <a:lnTo>
                              <a:pt x="486" y="274"/>
                            </a:lnTo>
                            <a:lnTo>
                              <a:pt x="502" y="270"/>
                            </a:lnTo>
                            <a:lnTo>
                              <a:pt x="518" y="266"/>
                            </a:lnTo>
                            <a:lnTo>
                              <a:pt x="533" y="264"/>
                            </a:lnTo>
                            <a:lnTo>
                              <a:pt x="549" y="262"/>
                            </a:lnTo>
                            <a:lnTo>
                              <a:pt x="565" y="261"/>
                            </a:lnTo>
                            <a:lnTo>
                              <a:pt x="582" y="260"/>
                            </a:lnTo>
                            <a:lnTo>
                              <a:pt x="598" y="261"/>
                            </a:lnTo>
                            <a:lnTo>
                              <a:pt x="614" y="262"/>
                            </a:lnTo>
                            <a:lnTo>
                              <a:pt x="631" y="264"/>
                            </a:lnTo>
                            <a:lnTo>
                              <a:pt x="647" y="266"/>
                            </a:lnTo>
                            <a:lnTo>
                              <a:pt x="662" y="270"/>
                            </a:lnTo>
                            <a:lnTo>
                              <a:pt x="677" y="274"/>
                            </a:lnTo>
                            <a:lnTo>
                              <a:pt x="692" y="279"/>
                            </a:lnTo>
                            <a:lnTo>
                              <a:pt x="707" y="285"/>
                            </a:lnTo>
                            <a:lnTo>
                              <a:pt x="721" y="291"/>
                            </a:lnTo>
                            <a:lnTo>
                              <a:pt x="736" y="298"/>
                            </a:lnTo>
                            <a:lnTo>
                              <a:pt x="750" y="306"/>
                            </a:lnTo>
                            <a:lnTo>
                              <a:pt x="764" y="315"/>
                            </a:lnTo>
                            <a:lnTo>
                              <a:pt x="777" y="324"/>
                            </a:lnTo>
                            <a:lnTo>
                              <a:pt x="789" y="335"/>
                            </a:lnTo>
                            <a:lnTo>
                              <a:pt x="802" y="345"/>
                            </a:lnTo>
                            <a:lnTo>
                              <a:pt x="813" y="356"/>
                            </a:lnTo>
                            <a:lnTo>
                              <a:pt x="823" y="366"/>
                            </a:lnTo>
                            <a:lnTo>
                              <a:pt x="832" y="376"/>
                            </a:lnTo>
                            <a:lnTo>
                              <a:pt x="840" y="387"/>
                            </a:lnTo>
                            <a:lnTo>
                              <a:pt x="848" y="398"/>
                            </a:lnTo>
                            <a:lnTo>
                              <a:pt x="856" y="411"/>
                            </a:lnTo>
                            <a:lnTo>
                              <a:pt x="864" y="423"/>
                            </a:lnTo>
                            <a:lnTo>
                              <a:pt x="870" y="436"/>
                            </a:lnTo>
                            <a:lnTo>
                              <a:pt x="876" y="450"/>
                            </a:lnTo>
                            <a:lnTo>
                              <a:pt x="881" y="464"/>
                            </a:lnTo>
                            <a:lnTo>
                              <a:pt x="886" y="480"/>
                            </a:lnTo>
                            <a:lnTo>
                              <a:pt x="891" y="496"/>
                            </a:lnTo>
                            <a:lnTo>
                              <a:pt x="895" y="512"/>
                            </a:lnTo>
                            <a:lnTo>
                              <a:pt x="898" y="530"/>
                            </a:lnTo>
                            <a:lnTo>
                              <a:pt x="901" y="548"/>
                            </a:lnTo>
                            <a:lnTo>
                              <a:pt x="904" y="568"/>
                            </a:lnTo>
                            <a:lnTo>
                              <a:pt x="906" y="589"/>
                            </a:lnTo>
                            <a:lnTo>
                              <a:pt x="1164" y="589"/>
                            </a:lnTo>
                            <a:lnTo>
                              <a:pt x="1161" y="555"/>
                            </a:lnTo>
                            <a:lnTo>
                              <a:pt x="1158" y="522"/>
                            </a:lnTo>
                            <a:lnTo>
                              <a:pt x="1153" y="492"/>
                            </a:lnTo>
                            <a:lnTo>
                              <a:pt x="1147" y="461"/>
                            </a:lnTo>
                            <a:lnTo>
                              <a:pt x="1141" y="432"/>
                            </a:lnTo>
                            <a:lnTo>
                              <a:pt x="1133" y="404"/>
                            </a:lnTo>
                            <a:lnTo>
                              <a:pt x="1124" y="376"/>
                            </a:lnTo>
                            <a:lnTo>
                              <a:pt x="1114" y="351"/>
                            </a:lnTo>
                            <a:lnTo>
                              <a:pt x="1103" y="325"/>
                            </a:lnTo>
                            <a:lnTo>
                              <a:pt x="1090" y="301"/>
                            </a:lnTo>
                            <a:lnTo>
                              <a:pt x="1077" y="278"/>
                            </a:lnTo>
                            <a:lnTo>
                              <a:pt x="1063" y="255"/>
                            </a:lnTo>
                            <a:lnTo>
                              <a:pt x="1048" y="233"/>
                            </a:lnTo>
                            <a:lnTo>
                              <a:pt x="1032" y="212"/>
                            </a:lnTo>
                            <a:lnTo>
                              <a:pt x="1015" y="193"/>
                            </a:lnTo>
                            <a:lnTo>
                              <a:pt x="996" y="172"/>
                            </a:lnTo>
                            <a:lnTo>
                              <a:pt x="974" y="152"/>
                            </a:lnTo>
                            <a:lnTo>
                              <a:pt x="953" y="134"/>
                            </a:lnTo>
                            <a:lnTo>
                              <a:pt x="930" y="116"/>
                            </a:lnTo>
                            <a:lnTo>
                              <a:pt x="907" y="99"/>
                            </a:lnTo>
                            <a:lnTo>
                              <a:pt x="883" y="83"/>
                            </a:lnTo>
                            <a:lnTo>
                              <a:pt x="857" y="69"/>
                            </a:lnTo>
                            <a:lnTo>
                              <a:pt x="832" y="57"/>
                            </a:lnTo>
                            <a:lnTo>
                              <a:pt x="806" y="45"/>
                            </a:lnTo>
                            <a:lnTo>
                              <a:pt x="780" y="35"/>
                            </a:lnTo>
                            <a:lnTo>
                              <a:pt x="753" y="25"/>
                            </a:lnTo>
                            <a:lnTo>
                              <a:pt x="725" y="18"/>
                            </a:lnTo>
                            <a:lnTo>
                              <a:pt x="697" y="11"/>
                            </a:lnTo>
                            <a:lnTo>
                              <a:pt x="669" y="7"/>
                            </a:lnTo>
                            <a:lnTo>
                              <a:pt x="640" y="3"/>
                            </a:lnTo>
                            <a:lnTo>
                              <a:pt x="611" y="1"/>
                            </a:lnTo>
                            <a:lnTo>
                              <a:pt x="582" y="0"/>
                            </a:lnTo>
                            <a:lnTo>
                              <a:pt x="553" y="1"/>
                            </a:lnTo>
                            <a:lnTo>
                              <a:pt x="525" y="3"/>
                            </a:lnTo>
                            <a:lnTo>
                              <a:pt x="496" y="7"/>
                            </a:lnTo>
                            <a:lnTo>
                              <a:pt x="469" y="11"/>
                            </a:lnTo>
                            <a:lnTo>
                              <a:pt x="442" y="17"/>
                            </a:lnTo>
                            <a:lnTo>
                              <a:pt x="415" y="25"/>
                            </a:lnTo>
                            <a:lnTo>
                              <a:pt x="390" y="34"/>
                            </a:lnTo>
                            <a:lnTo>
                              <a:pt x="363" y="44"/>
                            </a:lnTo>
                            <a:lnTo>
                              <a:pt x="339" y="55"/>
                            </a:lnTo>
                            <a:lnTo>
                              <a:pt x="314" y="67"/>
                            </a:lnTo>
                            <a:lnTo>
                              <a:pt x="291" y="81"/>
                            </a:lnTo>
                            <a:lnTo>
                              <a:pt x="268" y="95"/>
                            </a:lnTo>
                            <a:lnTo>
                              <a:pt x="245" y="112"/>
                            </a:lnTo>
                            <a:lnTo>
                              <a:pt x="224" y="128"/>
                            </a:lnTo>
                            <a:lnTo>
                              <a:pt x="203" y="146"/>
                            </a:lnTo>
                            <a:lnTo>
                              <a:pt x="183" y="165"/>
                            </a:lnTo>
                            <a:lnTo>
                              <a:pt x="164" y="185"/>
                            </a:lnTo>
                            <a:lnTo>
                              <a:pt x="146" y="206"/>
                            </a:lnTo>
                            <a:lnTo>
                              <a:pt x="128" y="228"/>
                            </a:lnTo>
                            <a:lnTo>
                              <a:pt x="112" y="250"/>
                            </a:lnTo>
                            <a:lnTo>
                              <a:pt x="97" y="275"/>
                            </a:lnTo>
                            <a:lnTo>
                              <a:pt x="82" y="299"/>
                            </a:lnTo>
                            <a:lnTo>
                              <a:pt x="69" y="324"/>
                            </a:lnTo>
                            <a:lnTo>
                              <a:pt x="57" y="351"/>
                            </a:lnTo>
                            <a:lnTo>
                              <a:pt x="46" y="378"/>
                            </a:lnTo>
                            <a:lnTo>
                              <a:pt x="36" y="406"/>
                            </a:lnTo>
                            <a:lnTo>
                              <a:pt x="27" y="435"/>
                            </a:lnTo>
                            <a:lnTo>
                              <a:pt x="18" y="464"/>
                            </a:lnTo>
                            <a:lnTo>
                              <a:pt x="12" y="494"/>
                            </a:lnTo>
                            <a:lnTo>
                              <a:pt x="7" y="525"/>
                            </a:lnTo>
                            <a:lnTo>
                              <a:pt x="3" y="557"/>
                            </a:lnTo>
                            <a:lnTo>
                              <a:pt x="0" y="589"/>
                            </a:lnTo>
                            <a:lnTo>
                              <a:pt x="258" y="589"/>
                            </a:lnTo>
                            <a:lnTo>
                              <a:pt x="261" y="568"/>
                            </a:lnTo>
                            <a:lnTo>
                              <a:pt x="263" y="548"/>
                            </a:lnTo>
                            <a:lnTo>
                              <a:pt x="266" y="530"/>
                            </a:lnTo>
                            <a:lnTo>
                              <a:pt x="269" y="512"/>
                            </a:lnTo>
                            <a:lnTo>
                              <a:pt x="273" y="496"/>
                            </a:lnTo>
                            <a:lnTo>
                              <a:pt x="278" y="480"/>
                            </a:lnTo>
                            <a:lnTo>
                              <a:pt x="283" y="464"/>
                            </a:lnTo>
                            <a:lnTo>
                              <a:pt x="288" y="450"/>
                            </a:lnTo>
                            <a:lnTo>
                              <a:pt x="294" y="436"/>
                            </a:lnTo>
                            <a:lnTo>
                              <a:pt x="301" y="423"/>
                            </a:lnTo>
                            <a:lnTo>
                              <a:pt x="308" y="411"/>
                            </a:lnTo>
                            <a:lnTo>
                              <a:pt x="315" y="398"/>
                            </a:lnTo>
                            <a:lnTo>
                              <a:pt x="323" y="387"/>
                            </a:lnTo>
                            <a:lnTo>
                              <a:pt x="332" y="376"/>
                            </a:lnTo>
                            <a:lnTo>
                              <a:pt x="341" y="366"/>
                            </a:lnTo>
                            <a:lnTo>
                              <a:pt x="350" y="356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3713400" y="4061880"/>
                        <a:ext cx="3276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1" h="589">
                            <a:moveTo>
                              <a:pt x="914" y="0"/>
                            </a:moveTo>
                            <a:lnTo>
                              <a:pt x="913" y="17"/>
                            </a:lnTo>
                            <a:lnTo>
                              <a:pt x="912" y="33"/>
                            </a:lnTo>
                            <a:lnTo>
                              <a:pt x="910" y="51"/>
                            </a:lnTo>
                            <a:lnTo>
                              <a:pt x="907" y="66"/>
                            </a:lnTo>
                            <a:lnTo>
                              <a:pt x="903" y="82"/>
                            </a:lnTo>
                            <a:lnTo>
                              <a:pt x="899" y="98"/>
                            </a:lnTo>
                            <a:lnTo>
                              <a:pt x="894" y="114"/>
                            </a:lnTo>
                            <a:lnTo>
                              <a:pt x="888" y="128"/>
                            </a:lnTo>
                            <a:lnTo>
                              <a:pt x="881" y="143"/>
                            </a:lnTo>
                            <a:lnTo>
                              <a:pt x="874" y="157"/>
                            </a:lnTo>
                            <a:lnTo>
                              <a:pt x="866" y="170"/>
                            </a:lnTo>
                            <a:lnTo>
                              <a:pt x="857" y="184"/>
                            </a:lnTo>
                            <a:lnTo>
                              <a:pt x="848" y="197"/>
                            </a:lnTo>
                            <a:lnTo>
                              <a:pt x="838" y="210"/>
                            </a:lnTo>
                            <a:lnTo>
                              <a:pt x="828" y="221"/>
                            </a:lnTo>
                            <a:lnTo>
                              <a:pt x="817" y="233"/>
                            </a:lnTo>
                            <a:lnTo>
                              <a:pt x="806" y="243"/>
                            </a:lnTo>
                            <a:lnTo>
                              <a:pt x="794" y="254"/>
                            </a:lnTo>
                            <a:lnTo>
                              <a:pt x="782" y="264"/>
                            </a:lnTo>
                            <a:lnTo>
                              <a:pt x="769" y="273"/>
                            </a:lnTo>
                            <a:lnTo>
                              <a:pt x="756" y="282"/>
                            </a:lnTo>
                            <a:lnTo>
                              <a:pt x="741" y="290"/>
                            </a:lnTo>
                            <a:lnTo>
                              <a:pt x="727" y="297"/>
                            </a:lnTo>
                            <a:lnTo>
                              <a:pt x="713" y="303"/>
                            </a:lnTo>
                            <a:lnTo>
                              <a:pt x="698" y="309"/>
                            </a:lnTo>
                            <a:lnTo>
                              <a:pt x="683" y="314"/>
                            </a:lnTo>
                            <a:lnTo>
                              <a:pt x="668" y="319"/>
                            </a:lnTo>
                            <a:lnTo>
                              <a:pt x="652" y="322"/>
                            </a:lnTo>
                            <a:lnTo>
                              <a:pt x="636" y="325"/>
                            </a:lnTo>
                            <a:lnTo>
                              <a:pt x="619" y="327"/>
                            </a:lnTo>
                            <a:lnTo>
                              <a:pt x="602" y="329"/>
                            </a:lnTo>
                            <a:lnTo>
                              <a:pt x="586" y="329"/>
                            </a:lnTo>
                            <a:lnTo>
                              <a:pt x="569" y="329"/>
                            </a:lnTo>
                            <a:lnTo>
                              <a:pt x="553" y="327"/>
                            </a:lnTo>
                            <a:lnTo>
                              <a:pt x="537" y="325"/>
                            </a:lnTo>
                            <a:lnTo>
                              <a:pt x="522" y="323"/>
                            </a:lnTo>
                            <a:lnTo>
                              <a:pt x="506" y="319"/>
                            </a:lnTo>
                            <a:lnTo>
                              <a:pt x="490" y="315"/>
                            </a:lnTo>
                            <a:lnTo>
                              <a:pt x="475" y="310"/>
                            </a:lnTo>
                            <a:lnTo>
                              <a:pt x="460" y="304"/>
                            </a:lnTo>
                            <a:lnTo>
                              <a:pt x="446" y="298"/>
                            </a:lnTo>
                            <a:lnTo>
                              <a:pt x="432" y="291"/>
                            </a:lnTo>
                            <a:lnTo>
                              <a:pt x="418" y="283"/>
                            </a:lnTo>
                            <a:lnTo>
                              <a:pt x="405" y="275"/>
                            </a:lnTo>
                            <a:lnTo>
                              <a:pt x="392" y="265"/>
                            </a:lnTo>
                            <a:lnTo>
                              <a:pt x="378" y="254"/>
                            </a:lnTo>
                            <a:lnTo>
                              <a:pt x="366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9"/>
                            </a:lnTo>
                            <a:lnTo>
                              <a:pt x="322" y="196"/>
                            </a:lnTo>
                            <a:lnTo>
                              <a:pt x="313" y="182"/>
                            </a:lnTo>
                            <a:lnTo>
                              <a:pt x="305" y="169"/>
                            </a:lnTo>
                            <a:lnTo>
                              <a:pt x="297" y="155"/>
                            </a:lnTo>
                            <a:lnTo>
                              <a:pt x="290" y="141"/>
                            </a:lnTo>
                            <a:lnTo>
                              <a:pt x="283" y="126"/>
                            </a:lnTo>
                            <a:lnTo>
                              <a:pt x="278" y="112"/>
                            </a:lnTo>
                            <a:lnTo>
                              <a:pt x="273" y="96"/>
                            </a:lnTo>
                            <a:lnTo>
                              <a:pt x="268" y="80"/>
                            </a:lnTo>
                            <a:lnTo>
                              <a:pt x="265" y="65"/>
                            </a:lnTo>
                            <a:lnTo>
                              <a:pt x="261" y="49"/>
                            </a:lnTo>
                            <a:lnTo>
                              <a:pt x="259" y="32"/>
                            </a:lnTo>
                            <a:lnTo>
                              <a:pt x="258" y="16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29"/>
                            </a:lnTo>
                            <a:lnTo>
                              <a:pt x="3" y="59"/>
                            </a:lnTo>
                            <a:lnTo>
                              <a:pt x="6" y="87"/>
                            </a:lnTo>
                            <a:lnTo>
                              <a:pt x="11" y="116"/>
                            </a:lnTo>
                            <a:lnTo>
                              <a:pt x="17" y="144"/>
                            </a:lnTo>
                            <a:lnTo>
                              <a:pt x="26" y="171"/>
                            </a:lnTo>
                            <a:lnTo>
                              <a:pt x="35" y="199"/>
                            </a:lnTo>
                            <a:lnTo>
                              <a:pt x="45" y="225"/>
                            </a:lnTo>
                            <a:lnTo>
                              <a:pt x="56" y="251"/>
                            </a:lnTo>
                            <a:lnTo>
                              <a:pt x="69" y="278"/>
                            </a:lnTo>
                            <a:lnTo>
                              <a:pt x="83" y="302"/>
                            </a:lnTo>
                            <a:lnTo>
                              <a:pt x="98" y="326"/>
                            </a:lnTo>
                            <a:lnTo>
                              <a:pt x="115" y="350"/>
                            </a:lnTo>
                            <a:lnTo>
                              <a:pt x="132" y="373"/>
                            </a:lnTo>
                            <a:lnTo>
                              <a:pt x="152" y="395"/>
                            </a:lnTo>
                            <a:lnTo>
                              <a:pt x="172" y="417"/>
                            </a:lnTo>
                            <a:lnTo>
                              <a:pt x="193" y="437"/>
                            </a:lnTo>
                            <a:lnTo>
                              <a:pt x="215" y="456"/>
                            </a:lnTo>
                            <a:lnTo>
                              <a:pt x="237" y="473"/>
                            </a:lnTo>
                            <a:lnTo>
                              <a:pt x="261" y="491"/>
                            </a:lnTo>
                            <a:lnTo>
                              <a:pt x="286" y="506"/>
                            </a:lnTo>
                            <a:lnTo>
                              <a:pt x="310" y="520"/>
                            </a:lnTo>
                            <a:lnTo>
                              <a:pt x="335" y="532"/>
                            </a:lnTo>
                            <a:lnTo>
                              <a:pt x="361" y="544"/>
                            </a:lnTo>
                            <a:lnTo>
                              <a:pt x="389" y="554"/>
                            </a:lnTo>
                            <a:lnTo>
                              <a:pt x="416" y="564"/>
                            </a:lnTo>
                            <a:lnTo>
                              <a:pt x="443" y="571"/>
                            </a:lnTo>
                            <a:lnTo>
                              <a:pt x="471" y="578"/>
                            </a:lnTo>
                            <a:lnTo>
                              <a:pt x="499" y="583"/>
                            </a:lnTo>
                            <a:lnTo>
                              <a:pt x="528" y="586"/>
                            </a:lnTo>
                            <a:lnTo>
                              <a:pt x="557" y="588"/>
                            </a:lnTo>
                            <a:lnTo>
                              <a:pt x="586" y="589"/>
                            </a:lnTo>
                            <a:lnTo>
                              <a:pt x="615" y="588"/>
                            </a:lnTo>
                            <a:lnTo>
                              <a:pt x="644" y="586"/>
                            </a:lnTo>
                            <a:lnTo>
                              <a:pt x="673" y="583"/>
                            </a:lnTo>
                            <a:lnTo>
                              <a:pt x="701" y="578"/>
                            </a:lnTo>
                            <a:lnTo>
                              <a:pt x="729" y="571"/>
                            </a:lnTo>
                            <a:lnTo>
                              <a:pt x="757" y="564"/>
                            </a:lnTo>
                            <a:lnTo>
                              <a:pt x="784" y="554"/>
                            </a:lnTo>
                            <a:lnTo>
                              <a:pt x="810" y="544"/>
                            </a:lnTo>
                            <a:lnTo>
                              <a:pt x="836" y="532"/>
                            </a:lnTo>
                            <a:lnTo>
                              <a:pt x="861" y="520"/>
                            </a:lnTo>
                            <a:lnTo>
                              <a:pt x="887" y="506"/>
                            </a:lnTo>
                            <a:lnTo>
                              <a:pt x="911" y="491"/>
                            </a:lnTo>
                            <a:lnTo>
                              <a:pt x="934" y="473"/>
                            </a:lnTo>
                            <a:lnTo>
                              <a:pt x="957" y="456"/>
                            </a:lnTo>
                            <a:lnTo>
                              <a:pt x="978" y="437"/>
                            </a:lnTo>
                            <a:lnTo>
                              <a:pt x="1000" y="417"/>
                            </a:lnTo>
                            <a:lnTo>
                              <a:pt x="1020" y="395"/>
                            </a:lnTo>
                            <a:lnTo>
                              <a:pt x="1039" y="373"/>
                            </a:lnTo>
                            <a:lnTo>
                              <a:pt x="1057" y="350"/>
                            </a:lnTo>
                            <a:lnTo>
                              <a:pt x="1073" y="326"/>
                            </a:lnTo>
                            <a:lnTo>
                              <a:pt x="1088" y="302"/>
                            </a:lnTo>
                            <a:lnTo>
                              <a:pt x="1103" y="278"/>
                            </a:lnTo>
                            <a:lnTo>
                              <a:pt x="1116" y="251"/>
                            </a:lnTo>
                            <a:lnTo>
                              <a:pt x="1128" y="225"/>
                            </a:lnTo>
                            <a:lnTo>
                              <a:pt x="1138" y="199"/>
                            </a:lnTo>
                            <a:lnTo>
                              <a:pt x="1147" y="171"/>
                            </a:lnTo>
                            <a:lnTo>
                              <a:pt x="1154" y="144"/>
                            </a:lnTo>
                            <a:lnTo>
                              <a:pt x="1160" y="116"/>
                            </a:lnTo>
                            <a:lnTo>
                              <a:pt x="1165" y="87"/>
                            </a:lnTo>
                            <a:lnTo>
                              <a:pt x="1169" y="59"/>
                            </a:lnTo>
                            <a:lnTo>
                              <a:pt x="1171" y="29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>
                        <a:off x="3841560" y="3921120"/>
                        <a:ext cx="25200" cy="80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" name=""/>
                      <p:cNvSpPr/>
                      <p:nvPr/>
                    </p:nvSpPr>
                    <p:spPr>
                      <a:xfrm>
                        <a:off x="3838680" y="3916800"/>
                        <a:ext cx="3132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1390">
                            <a:moveTo>
                              <a:pt x="258" y="259"/>
                            </a:moveTo>
                            <a:lnTo>
                              <a:pt x="896" y="259"/>
                            </a:lnTo>
                            <a:lnTo>
                              <a:pt x="896" y="1390"/>
                            </a:lnTo>
                            <a:lnTo>
                              <a:pt x="1154" y="1390"/>
                            </a:lnTo>
                            <a:lnTo>
                              <a:pt x="1154" y="0"/>
                            </a:lnTo>
                            <a:lnTo>
                              <a:pt x="0" y="0"/>
                            </a:lnTo>
                            <a:lnTo>
                              <a:pt x="0" y="1390"/>
                            </a:lnTo>
                            <a:lnTo>
                              <a:pt x="258" y="1390"/>
                            </a:lnTo>
                            <a:lnTo>
                              <a:pt x="258" y="25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3838680" y="3949920"/>
                        <a:ext cx="3132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2282">
                            <a:moveTo>
                              <a:pt x="896" y="2022"/>
                            </a:moveTo>
                            <a:lnTo>
                              <a:pt x="258" y="2022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2282"/>
                            </a:lnTo>
                            <a:lnTo>
                              <a:pt x="1154" y="2282"/>
                            </a:lnTo>
                            <a:lnTo>
                              <a:pt x="1154" y="0"/>
                            </a:lnTo>
                            <a:lnTo>
                              <a:pt x="896" y="0"/>
                            </a:lnTo>
                            <a:lnTo>
                              <a:pt x="896" y="202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3705120" y="3931560"/>
                        <a:ext cx="137160" cy="10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77" h="4148">
                            <a:moveTo>
                              <a:pt x="45" y="3053"/>
                            </a:moveTo>
                            <a:lnTo>
                              <a:pt x="48" y="3057"/>
                            </a:lnTo>
                            <a:lnTo>
                              <a:pt x="60" y="3068"/>
                            </a:lnTo>
                            <a:lnTo>
                              <a:pt x="79" y="3086"/>
                            </a:lnTo>
                            <a:lnTo>
                              <a:pt x="103" y="3105"/>
                            </a:lnTo>
                            <a:lnTo>
                              <a:pt x="118" y="3116"/>
                            </a:lnTo>
                            <a:lnTo>
                              <a:pt x="134" y="3127"/>
                            </a:lnTo>
                            <a:lnTo>
                              <a:pt x="151" y="3137"/>
                            </a:lnTo>
                            <a:lnTo>
                              <a:pt x="170" y="3148"/>
                            </a:lnTo>
                            <a:lnTo>
                              <a:pt x="191" y="3159"/>
                            </a:lnTo>
                            <a:lnTo>
                              <a:pt x="212" y="3168"/>
                            </a:lnTo>
                            <a:lnTo>
                              <a:pt x="235" y="3176"/>
                            </a:lnTo>
                            <a:lnTo>
                              <a:pt x="258" y="3184"/>
                            </a:lnTo>
                            <a:lnTo>
                              <a:pt x="283" y="3189"/>
                            </a:lnTo>
                            <a:lnTo>
                              <a:pt x="309" y="3194"/>
                            </a:lnTo>
                            <a:lnTo>
                              <a:pt x="336" y="3196"/>
                            </a:lnTo>
                            <a:lnTo>
                              <a:pt x="363" y="3197"/>
                            </a:lnTo>
                            <a:lnTo>
                              <a:pt x="391" y="3195"/>
                            </a:lnTo>
                            <a:lnTo>
                              <a:pt x="420" y="3190"/>
                            </a:lnTo>
                            <a:lnTo>
                              <a:pt x="451" y="3183"/>
                            </a:lnTo>
                            <a:lnTo>
                              <a:pt x="481" y="3173"/>
                            </a:lnTo>
                            <a:lnTo>
                              <a:pt x="512" y="3160"/>
                            </a:lnTo>
                            <a:lnTo>
                              <a:pt x="544" y="3143"/>
                            </a:lnTo>
                            <a:lnTo>
                              <a:pt x="577" y="3123"/>
                            </a:lnTo>
                            <a:lnTo>
                              <a:pt x="609" y="3099"/>
                            </a:lnTo>
                            <a:lnTo>
                              <a:pt x="642" y="3070"/>
                            </a:lnTo>
                            <a:lnTo>
                              <a:pt x="676" y="3038"/>
                            </a:lnTo>
                            <a:lnTo>
                              <a:pt x="710" y="3000"/>
                            </a:lnTo>
                            <a:lnTo>
                              <a:pt x="744" y="2959"/>
                            </a:lnTo>
                            <a:lnTo>
                              <a:pt x="808" y="2874"/>
                            </a:lnTo>
                            <a:lnTo>
                              <a:pt x="864" y="2797"/>
                            </a:lnTo>
                            <a:lnTo>
                              <a:pt x="914" y="2726"/>
                            </a:lnTo>
                            <a:lnTo>
                              <a:pt x="956" y="2662"/>
                            </a:lnTo>
                            <a:lnTo>
                              <a:pt x="991" y="2605"/>
                            </a:lnTo>
                            <a:lnTo>
                              <a:pt x="1022" y="2554"/>
                            </a:lnTo>
                            <a:lnTo>
                              <a:pt x="1048" y="2510"/>
                            </a:lnTo>
                            <a:lnTo>
                              <a:pt x="1068" y="2471"/>
                            </a:lnTo>
                            <a:lnTo>
                              <a:pt x="1084" y="2438"/>
                            </a:lnTo>
                            <a:lnTo>
                              <a:pt x="1096" y="2409"/>
                            </a:lnTo>
                            <a:lnTo>
                              <a:pt x="1105" y="2386"/>
                            </a:lnTo>
                            <a:lnTo>
                              <a:pt x="1112" y="2368"/>
                            </a:lnTo>
                            <a:lnTo>
                              <a:pt x="1118" y="2345"/>
                            </a:lnTo>
                            <a:lnTo>
                              <a:pt x="1120" y="2338"/>
                            </a:lnTo>
                            <a:lnTo>
                              <a:pt x="1577" y="2148"/>
                            </a:lnTo>
                            <a:lnTo>
                              <a:pt x="2934" y="4148"/>
                            </a:lnTo>
                            <a:lnTo>
                              <a:pt x="4977" y="2472"/>
                            </a:lnTo>
                            <a:lnTo>
                              <a:pt x="4923" y="0"/>
                            </a:lnTo>
                            <a:lnTo>
                              <a:pt x="2760" y="392"/>
                            </a:lnTo>
                            <a:lnTo>
                              <a:pt x="2701" y="411"/>
                            </a:lnTo>
                            <a:lnTo>
                              <a:pt x="2539" y="463"/>
                            </a:lnTo>
                            <a:lnTo>
                              <a:pt x="2429" y="501"/>
                            </a:lnTo>
                            <a:lnTo>
                              <a:pt x="2303" y="546"/>
                            </a:lnTo>
                            <a:lnTo>
                              <a:pt x="2236" y="572"/>
                            </a:lnTo>
                            <a:lnTo>
                              <a:pt x="2165" y="598"/>
                            </a:lnTo>
                            <a:lnTo>
                              <a:pt x="2091" y="627"/>
                            </a:lnTo>
                            <a:lnTo>
                              <a:pt x="2017" y="656"/>
                            </a:lnTo>
                            <a:lnTo>
                              <a:pt x="1941" y="687"/>
                            </a:lnTo>
                            <a:lnTo>
                              <a:pt x="1864" y="720"/>
                            </a:lnTo>
                            <a:lnTo>
                              <a:pt x="1785" y="753"/>
                            </a:lnTo>
                            <a:lnTo>
                              <a:pt x="1707" y="788"/>
                            </a:lnTo>
                            <a:lnTo>
                              <a:pt x="1629" y="824"/>
                            </a:lnTo>
                            <a:lnTo>
                              <a:pt x="1551" y="862"/>
                            </a:lnTo>
                            <a:lnTo>
                              <a:pt x="1474" y="900"/>
                            </a:lnTo>
                            <a:lnTo>
                              <a:pt x="1399" y="940"/>
                            </a:lnTo>
                            <a:lnTo>
                              <a:pt x="1325" y="980"/>
                            </a:lnTo>
                            <a:lnTo>
                              <a:pt x="1253" y="1021"/>
                            </a:lnTo>
                            <a:lnTo>
                              <a:pt x="1185" y="1063"/>
                            </a:lnTo>
                            <a:lnTo>
                              <a:pt x="1118" y="1106"/>
                            </a:lnTo>
                            <a:lnTo>
                              <a:pt x="1056" y="1150"/>
                            </a:lnTo>
                            <a:lnTo>
                              <a:pt x="996" y="1194"/>
                            </a:lnTo>
                            <a:lnTo>
                              <a:pt x="942" y="1239"/>
                            </a:lnTo>
                            <a:lnTo>
                              <a:pt x="891" y="1283"/>
                            </a:lnTo>
                            <a:lnTo>
                              <a:pt x="844" y="1330"/>
                            </a:lnTo>
                            <a:lnTo>
                              <a:pt x="799" y="1375"/>
                            </a:lnTo>
                            <a:lnTo>
                              <a:pt x="753" y="1420"/>
                            </a:lnTo>
                            <a:lnTo>
                              <a:pt x="710" y="1466"/>
                            </a:lnTo>
                            <a:lnTo>
                              <a:pt x="668" y="1511"/>
                            </a:lnTo>
                            <a:lnTo>
                              <a:pt x="626" y="1557"/>
                            </a:lnTo>
                            <a:lnTo>
                              <a:pt x="586" y="1602"/>
                            </a:lnTo>
                            <a:lnTo>
                              <a:pt x="548" y="1646"/>
                            </a:lnTo>
                            <a:lnTo>
                              <a:pt x="509" y="1691"/>
                            </a:lnTo>
                            <a:lnTo>
                              <a:pt x="473" y="1735"/>
                            </a:lnTo>
                            <a:lnTo>
                              <a:pt x="439" y="1780"/>
                            </a:lnTo>
                            <a:lnTo>
                              <a:pt x="405" y="1824"/>
                            </a:lnTo>
                            <a:lnTo>
                              <a:pt x="372" y="1867"/>
                            </a:lnTo>
                            <a:lnTo>
                              <a:pt x="342" y="1911"/>
                            </a:lnTo>
                            <a:lnTo>
                              <a:pt x="312" y="1953"/>
                            </a:lnTo>
                            <a:lnTo>
                              <a:pt x="283" y="1996"/>
                            </a:lnTo>
                            <a:lnTo>
                              <a:pt x="256" y="2039"/>
                            </a:lnTo>
                            <a:lnTo>
                              <a:pt x="231" y="2080"/>
                            </a:lnTo>
                            <a:lnTo>
                              <a:pt x="207" y="2122"/>
                            </a:lnTo>
                            <a:lnTo>
                              <a:pt x="183" y="2163"/>
                            </a:lnTo>
                            <a:lnTo>
                              <a:pt x="161" y="2203"/>
                            </a:lnTo>
                            <a:lnTo>
                              <a:pt x="141" y="2243"/>
                            </a:lnTo>
                            <a:lnTo>
                              <a:pt x="123" y="2283"/>
                            </a:lnTo>
                            <a:lnTo>
                              <a:pt x="106" y="2321"/>
                            </a:lnTo>
                            <a:lnTo>
                              <a:pt x="90" y="2360"/>
                            </a:lnTo>
                            <a:lnTo>
                              <a:pt x="75" y="2397"/>
                            </a:lnTo>
                            <a:lnTo>
                              <a:pt x="61" y="2434"/>
                            </a:lnTo>
                            <a:lnTo>
                              <a:pt x="50" y="2470"/>
                            </a:lnTo>
                            <a:lnTo>
                              <a:pt x="39" y="2506"/>
                            </a:lnTo>
                            <a:lnTo>
                              <a:pt x="31" y="2540"/>
                            </a:lnTo>
                            <a:lnTo>
                              <a:pt x="24" y="2575"/>
                            </a:lnTo>
                            <a:lnTo>
                              <a:pt x="18" y="2607"/>
                            </a:lnTo>
                            <a:lnTo>
                              <a:pt x="9" y="2671"/>
                            </a:lnTo>
                            <a:lnTo>
                              <a:pt x="4" y="2728"/>
                            </a:lnTo>
                            <a:lnTo>
                              <a:pt x="1" y="2779"/>
                            </a:lnTo>
                            <a:lnTo>
                              <a:pt x="0" y="2825"/>
                            </a:lnTo>
                            <a:lnTo>
                              <a:pt x="0" y="2867"/>
                            </a:lnTo>
                            <a:lnTo>
                              <a:pt x="3" y="2903"/>
                            </a:lnTo>
                            <a:lnTo>
                              <a:pt x="7" y="2935"/>
                            </a:lnTo>
                            <a:lnTo>
                              <a:pt x="11" y="2962"/>
                            </a:lnTo>
                            <a:lnTo>
                              <a:pt x="16" y="2985"/>
                            </a:lnTo>
                            <a:lnTo>
                              <a:pt x="22" y="3004"/>
                            </a:lnTo>
                            <a:lnTo>
                              <a:pt x="28" y="3021"/>
                            </a:lnTo>
                            <a:lnTo>
                              <a:pt x="33" y="3033"/>
                            </a:lnTo>
                            <a:lnTo>
                              <a:pt x="41" y="3049"/>
                            </a:lnTo>
                            <a:lnTo>
                              <a:pt x="45" y="305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3702240" y="3928320"/>
                        <a:ext cx="143640" cy="11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93" h="4558">
                            <a:moveTo>
                              <a:pt x="4958" y="2512"/>
                            </a:moveTo>
                            <a:lnTo>
                              <a:pt x="3040" y="4143"/>
                            </a:lnTo>
                            <a:lnTo>
                              <a:pt x="3002" y="4067"/>
                            </a:lnTo>
                            <a:lnTo>
                              <a:pt x="2958" y="3985"/>
                            </a:lnTo>
                            <a:lnTo>
                              <a:pt x="2907" y="3893"/>
                            </a:lnTo>
                            <a:lnTo>
                              <a:pt x="2853" y="3796"/>
                            </a:lnTo>
                            <a:lnTo>
                              <a:pt x="2791" y="3692"/>
                            </a:lnTo>
                            <a:lnTo>
                              <a:pt x="2726" y="3580"/>
                            </a:lnTo>
                            <a:lnTo>
                              <a:pt x="2654" y="3463"/>
                            </a:lnTo>
                            <a:lnTo>
                              <a:pt x="2576" y="3339"/>
                            </a:lnTo>
                            <a:lnTo>
                              <a:pt x="2494" y="3209"/>
                            </a:lnTo>
                            <a:lnTo>
                              <a:pt x="2405" y="3073"/>
                            </a:lnTo>
                            <a:lnTo>
                              <a:pt x="2311" y="2933"/>
                            </a:lnTo>
                            <a:lnTo>
                              <a:pt x="2212" y="2787"/>
                            </a:lnTo>
                            <a:lnTo>
                              <a:pt x="2107" y="2636"/>
                            </a:lnTo>
                            <a:lnTo>
                              <a:pt x="1996" y="2480"/>
                            </a:lnTo>
                            <a:lnTo>
                              <a:pt x="1879" y="2320"/>
                            </a:lnTo>
                            <a:lnTo>
                              <a:pt x="1757" y="2156"/>
                            </a:lnTo>
                            <a:lnTo>
                              <a:pt x="1695" y="2075"/>
                            </a:lnTo>
                            <a:lnTo>
                              <a:pt x="1069" y="2350"/>
                            </a:lnTo>
                            <a:lnTo>
                              <a:pt x="1055" y="2413"/>
                            </a:lnTo>
                            <a:lnTo>
                              <a:pt x="1052" y="2425"/>
                            </a:lnTo>
                            <a:lnTo>
                              <a:pt x="1045" y="2453"/>
                            </a:lnTo>
                            <a:lnTo>
                              <a:pt x="1033" y="2495"/>
                            </a:lnTo>
                            <a:lnTo>
                              <a:pt x="1015" y="2549"/>
                            </a:lnTo>
                            <a:lnTo>
                              <a:pt x="1004" y="2580"/>
                            </a:lnTo>
                            <a:lnTo>
                              <a:pt x="993" y="2612"/>
                            </a:lnTo>
                            <a:lnTo>
                              <a:pt x="980" y="2647"/>
                            </a:lnTo>
                            <a:lnTo>
                              <a:pt x="965" y="2683"/>
                            </a:lnTo>
                            <a:lnTo>
                              <a:pt x="950" y="2720"/>
                            </a:lnTo>
                            <a:lnTo>
                              <a:pt x="932" y="2757"/>
                            </a:lnTo>
                            <a:lnTo>
                              <a:pt x="914" y="2796"/>
                            </a:lnTo>
                            <a:lnTo>
                              <a:pt x="893" y="2834"/>
                            </a:lnTo>
                            <a:lnTo>
                              <a:pt x="871" y="2872"/>
                            </a:lnTo>
                            <a:lnTo>
                              <a:pt x="848" y="2910"/>
                            </a:lnTo>
                            <a:lnTo>
                              <a:pt x="824" y="2947"/>
                            </a:lnTo>
                            <a:lnTo>
                              <a:pt x="798" y="2982"/>
                            </a:lnTo>
                            <a:lnTo>
                              <a:pt x="769" y="3017"/>
                            </a:lnTo>
                            <a:lnTo>
                              <a:pt x="740" y="3049"/>
                            </a:lnTo>
                            <a:lnTo>
                              <a:pt x="710" y="3078"/>
                            </a:lnTo>
                            <a:lnTo>
                              <a:pt x="677" y="3107"/>
                            </a:lnTo>
                            <a:lnTo>
                              <a:pt x="642" y="3132"/>
                            </a:lnTo>
                            <a:lnTo>
                              <a:pt x="607" y="3154"/>
                            </a:lnTo>
                            <a:lnTo>
                              <a:pt x="570" y="3173"/>
                            </a:lnTo>
                            <a:lnTo>
                              <a:pt x="530" y="3188"/>
                            </a:lnTo>
                            <a:lnTo>
                              <a:pt x="489" y="3199"/>
                            </a:lnTo>
                            <a:lnTo>
                              <a:pt x="446" y="3206"/>
                            </a:lnTo>
                            <a:lnTo>
                              <a:pt x="401" y="3208"/>
                            </a:lnTo>
                            <a:lnTo>
                              <a:pt x="355" y="3205"/>
                            </a:lnTo>
                            <a:lnTo>
                              <a:pt x="342" y="3203"/>
                            </a:lnTo>
                            <a:lnTo>
                              <a:pt x="330" y="3200"/>
                            </a:lnTo>
                            <a:lnTo>
                              <a:pt x="321" y="3197"/>
                            </a:lnTo>
                            <a:lnTo>
                              <a:pt x="312" y="3192"/>
                            </a:lnTo>
                            <a:lnTo>
                              <a:pt x="304" y="3187"/>
                            </a:lnTo>
                            <a:lnTo>
                              <a:pt x="298" y="3181"/>
                            </a:lnTo>
                            <a:lnTo>
                              <a:pt x="293" y="3174"/>
                            </a:lnTo>
                            <a:lnTo>
                              <a:pt x="288" y="3167"/>
                            </a:lnTo>
                            <a:lnTo>
                              <a:pt x="281" y="3153"/>
                            </a:lnTo>
                            <a:lnTo>
                              <a:pt x="275" y="3138"/>
                            </a:lnTo>
                            <a:lnTo>
                              <a:pt x="270" y="3122"/>
                            </a:lnTo>
                            <a:lnTo>
                              <a:pt x="266" y="3105"/>
                            </a:lnTo>
                            <a:lnTo>
                              <a:pt x="262" y="3087"/>
                            </a:lnTo>
                            <a:lnTo>
                              <a:pt x="260" y="3067"/>
                            </a:lnTo>
                            <a:lnTo>
                              <a:pt x="258" y="3046"/>
                            </a:lnTo>
                            <a:lnTo>
                              <a:pt x="257" y="3025"/>
                            </a:lnTo>
                            <a:lnTo>
                              <a:pt x="257" y="3002"/>
                            </a:lnTo>
                            <a:lnTo>
                              <a:pt x="258" y="2979"/>
                            </a:lnTo>
                            <a:lnTo>
                              <a:pt x="259" y="2955"/>
                            </a:lnTo>
                            <a:lnTo>
                              <a:pt x="261" y="2929"/>
                            </a:lnTo>
                            <a:lnTo>
                              <a:pt x="267" y="2879"/>
                            </a:lnTo>
                            <a:lnTo>
                              <a:pt x="275" y="2825"/>
                            </a:lnTo>
                            <a:lnTo>
                              <a:pt x="285" y="2771"/>
                            </a:lnTo>
                            <a:lnTo>
                              <a:pt x="297" y="2716"/>
                            </a:lnTo>
                            <a:lnTo>
                              <a:pt x="311" y="2661"/>
                            </a:lnTo>
                            <a:lnTo>
                              <a:pt x="326" y="2606"/>
                            </a:lnTo>
                            <a:lnTo>
                              <a:pt x="341" y="2552"/>
                            </a:lnTo>
                            <a:lnTo>
                              <a:pt x="357" y="2501"/>
                            </a:lnTo>
                            <a:lnTo>
                              <a:pt x="374" y="2451"/>
                            </a:lnTo>
                            <a:lnTo>
                              <a:pt x="392" y="2404"/>
                            </a:lnTo>
                            <a:lnTo>
                              <a:pt x="402" y="2390"/>
                            </a:lnTo>
                            <a:lnTo>
                              <a:pt x="432" y="2352"/>
                            </a:lnTo>
                            <a:lnTo>
                              <a:pt x="475" y="2295"/>
                            </a:lnTo>
                            <a:lnTo>
                              <a:pt x="527" y="2225"/>
                            </a:lnTo>
                            <a:lnTo>
                              <a:pt x="586" y="2149"/>
                            </a:lnTo>
                            <a:lnTo>
                              <a:pt x="645" y="2071"/>
                            </a:lnTo>
                            <a:lnTo>
                              <a:pt x="701" y="2000"/>
                            </a:lnTo>
                            <a:lnTo>
                              <a:pt x="748" y="1939"/>
                            </a:lnTo>
                            <a:lnTo>
                              <a:pt x="850" y="1819"/>
                            </a:lnTo>
                            <a:lnTo>
                              <a:pt x="960" y="1706"/>
                            </a:lnTo>
                            <a:lnTo>
                              <a:pt x="1077" y="1599"/>
                            </a:lnTo>
                            <a:lnTo>
                              <a:pt x="1201" y="1496"/>
                            </a:lnTo>
                            <a:lnTo>
                              <a:pt x="1332" y="1399"/>
                            </a:lnTo>
                            <a:lnTo>
                              <a:pt x="1469" y="1307"/>
                            </a:lnTo>
                            <a:lnTo>
                              <a:pt x="1610" y="1219"/>
                            </a:lnTo>
                            <a:lnTo>
                              <a:pt x="1757" y="1137"/>
                            </a:lnTo>
                            <a:lnTo>
                              <a:pt x="1907" y="1060"/>
                            </a:lnTo>
                            <a:lnTo>
                              <a:pt x="2060" y="987"/>
                            </a:lnTo>
                            <a:lnTo>
                              <a:pt x="2215" y="919"/>
                            </a:lnTo>
                            <a:lnTo>
                              <a:pt x="2373" y="856"/>
                            </a:lnTo>
                            <a:lnTo>
                              <a:pt x="2532" y="796"/>
                            </a:lnTo>
                            <a:lnTo>
                              <a:pt x="2691" y="740"/>
                            </a:lnTo>
                            <a:lnTo>
                              <a:pt x="2852" y="688"/>
                            </a:lnTo>
                            <a:lnTo>
                              <a:pt x="3011" y="641"/>
                            </a:lnTo>
                            <a:lnTo>
                              <a:pt x="3168" y="596"/>
                            </a:lnTo>
                            <a:lnTo>
                              <a:pt x="3325" y="555"/>
                            </a:lnTo>
                            <a:lnTo>
                              <a:pt x="3478" y="519"/>
                            </a:lnTo>
                            <a:lnTo>
                              <a:pt x="3628" y="485"/>
                            </a:lnTo>
                            <a:lnTo>
                              <a:pt x="3776" y="453"/>
                            </a:lnTo>
                            <a:lnTo>
                              <a:pt x="3918" y="426"/>
                            </a:lnTo>
                            <a:lnTo>
                              <a:pt x="4055" y="400"/>
                            </a:lnTo>
                            <a:lnTo>
                              <a:pt x="4186" y="377"/>
                            </a:lnTo>
                            <a:lnTo>
                              <a:pt x="4311" y="358"/>
                            </a:lnTo>
                            <a:lnTo>
                              <a:pt x="4430" y="340"/>
                            </a:lnTo>
                            <a:lnTo>
                              <a:pt x="4540" y="324"/>
                            </a:lnTo>
                            <a:lnTo>
                              <a:pt x="4643" y="311"/>
                            </a:lnTo>
                            <a:lnTo>
                              <a:pt x="4737" y="300"/>
                            </a:lnTo>
                            <a:lnTo>
                              <a:pt x="4821" y="291"/>
                            </a:lnTo>
                            <a:lnTo>
                              <a:pt x="4895" y="284"/>
                            </a:lnTo>
                            <a:lnTo>
                              <a:pt x="4958" y="278"/>
                            </a:lnTo>
                            <a:lnTo>
                              <a:pt x="4958" y="1422"/>
                            </a:lnTo>
                            <a:lnTo>
                              <a:pt x="5193" y="1422"/>
                            </a:lnTo>
                            <a:lnTo>
                              <a:pt x="5193" y="0"/>
                            </a:lnTo>
                            <a:lnTo>
                              <a:pt x="5080" y="8"/>
                            </a:lnTo>
                            <a:lnTo>
                              <a:pt x="5021" y="12"/>
                            </a:lnTo>
                            <a:lnTo>
                              <a:pt x="4898" y="22"/>
                            </a:lnTo>
                            <a:lnTo>
                              <a:pt x="4815" y="29"/>
                            </a:lnTo>
                            <a:lnTo>
                              <a:pt x="4719" y="40"/>
                            </a:lnTo>
                            <a:lnTo>
                              <a:pt x="4610" y="52"/>
                            </a:lnTo>
                            <a:lnTo>
                              <a:pt x="4491" y="67"/>
                            </a:lnTo>
                            <a:lnTo>
                              <a:pt x="4360" y="85"/>
                            </a:lnTo>
                            <a:lnTo>
                              <a:pt x="4221" y="105"/>
                            </a:lnTo>
                            <a:lnTo>
                              <a:pt x="4072" y="130"/>
                            </a:lnTo>
                            <a:lnTo>
                              <a:pt x="3917" y="157"/>
                            </a:lnTo>
                            <a:lnTo>
                              <a:pt x="3753" y="189"/>
                            </a:lnTo>
                            <a:lnTo>
                              <a:pt x="3584" y="224"/>
                            </a:lnTo>
                            <a:lnTo>
                              <a:pt x="3409" y="264"/>
                            </a:lnTo>
                            <a:lnTo>
                              <a:pt x="3232" y="307"/>
                            </a:lnTo>
                            <a:lnTo>
                              <a:pt x="3050" y="355"/>
                            </a:lnTo>
                            <a:lnTo>
                              <a:pt x="2866" y="409"/>
                            </a:lnTo>
                            <a:lnTo>
                              <a:pt x="2680" y="466"/>
                            </a:lnTo>
                            <a:lnTo>
                              <a:pt x="2495" y="529"/>
                            </a:lnTo>
                            <a:lnTo>
                              <a:pt x="2309" y="598"/>
                            </a:lnTo>
                            <a:lnTo>
                              <a:pt x="2125" y="673"/>
                            </a:lnTo>
                            <a:lnTo>
                              <a:pt x="1942" y="753"/>
                            </a:lnTo>
                            <a:lnTo>
                              <a:pt x="1763" y="839"/>
                            </a:lnTo>
                            <a:lnTo>
                              <a:pt x="1588" y="933"/>
                            </a:lnTo>
                            <a:lnTo>
                              <a:pt x="1418" y="1032"/>
                            </a:lnTo>
                            <a:lnTo>
                              <a:pt x="1252" y="1137"/>
                            </a:lnTo>
                            <a:lnTo>
                              <a:pt x="1095" y="1251"/>
                            </a:lnTo>
                            <a:lnTo>
                              <a:pt x="944" y="1370"/>
                            </a:lnTo>
                            <a:lnTo>
                              <a:pt x="802" y="1498"/>
                            </a:lnTo>
                            <a:lnTo>
                              <a:pt x="670" y="1634"/>
                            </a:lnTo>
                            <a:lnTo>
                              <a:pt x="546" y="1777"/>
                            </a:lnTo>
                            <a:lnTo>
                              <a:pt x="504" y="1831"/>
                            </a:lnTo>
                            <a:lnTo>
                              <a:pt x="462" y="1884"/>
                            </a:lnTo>
                            <a:lnTo>
                              <a:pt x="419" y="1939"/>
                            </a:lnTo>
                            <a:lnTo>
                              <a:pt x="377" y="1993"/>
                            </a:lnTo>
                            <a:lnTo>
                              <a:pt x="336" y="2047"/>
                            </a:lnTo>
                            <a:lnTo>
                              <a:pt x="294" y="2101"/>
                            </a:lnTo>
                            <a:lnTo>
                              <a:pt x="253" y="2155"/>
                            </a:lnTo>
                            <a:lnTo>
                              <a:pt x="213" y="2209"/>
                            </a:lnTo>
                            <a:lnTo>
                              <a:pt x="210" y="2213"/>
                            </a:lnTo>
                            <a:lnTo>
                              <a:pt x="204" y="2222"/>
                            </a:lnTo>
                            <a:lnTo>
                              <a:pt x="196" y="2234"/>
                            </a:lnTo>
                            <a:lnTo>
                              <a:pt x="186" y="2247"/>
                            </a:lnTo>
                            <a:lnTo>
                              <a:pt x="177" y="2260"/>
                            </a:lnTo>
                            <a:lnTo>
                              <a:pt x="169" y="2272"/>
                            </a:lnTo>
                            <a:lnTo>
                              <a:pt x="164" y="2280"/>
                            </a:lnTo>
                            <a:lnTo>
                              <a:pt x="162" y="2283"/>
                            </a:lnTo>
                            <a:lnTo>
                              <a:pt x="156" y="2297"/>
                            </a:lnTo>
                            <a:lnTo>
                              <a:pt x="146" y="2324"/>
                            </a:lnTo>
                            <a:lnTo>
                              <a:pt x="132" y="2361"/>
                            </a:lnTo>
                            <a:lnTo>
                              <a:pt x="116" y="2407"/>
                            </a:lnTo>
                            <a:lnTo>
                              <a:pt x="99" y="2461"/>
                            </a:lnTo>
                            <a:lnTo>
                              <a:pt x="80" y="2522"/>
                            </a:lnTo>
                            <a:lnTo>
                              <a:pt x="61" y="2588"/>
                            </a:lnTo>
                            <a:lnTo>
                              <a:pt x="52" y="2622"/>
                            </a:lnTo>
                            <a:lnTo>
                              <a:pt x="44" y="2658"/>
                            </a:lnTo>
                            <a:lnTo>
                              <a:pt x="36" y="2694"/>
                            </a:lnTo>
                            <a:lnTo>
                              <a:pt x="28" y="2732"/>
                            </a:lnTo>
                            <a:lnTo>
                              <a:pt x="22" y="2769"/>
                            </a:lnTo>
                            <a:lnTo>
                              <a:pt x="16" y="2808"/>
                            </a:lnTo>
                            <a:lnTo>
                              <a:pt x="10" y="2845"/>
                            </a:lnTo>
                            <a:lnTo>
                              <a:pt x="6" y="2884"/>
                            </a:lnTo>
                            <a:lnTo>
                              <a:pt x="3" y="2922"/>
                            </a:lnTo>
                            <a:lnTo>
                              <a:pt x="1" y="2961"/>
                            </a:lnTo>
                            <a:lnTo>
                              <a:pt x="0" y="2998"/>
                            </a:lnTo>
                            <a:lnTo>
                              <a:pt x="1" y="3036"/>
                            </a:lnTo>
                            <a:lnTo>
                              <a:pt x="3" y="3072"/>
                            </a:lnTo>
                            <a:lnTo>
                              <a:pt x="6" y="3108"/>
                            </a:lnTo>
                            <a:lnTo>
                              <a:pt x="11" y="3143"/>
                            </a:lnTo>
                            <a:lnTo>
                              <a:pt x="19" y="3178"/>
                            </a:lnTo>
                            <a:lnTo>
                              <a:pt x="27" y="3210"/>
                            </a:lnTo>
                            <a:lnTo>
                              <a:pt x="38" y="3242"/>
                            </a:lnTo>
                            <a:lnTo>
                              <a:pt x="51" y="3272"/>
                            </a:lnTo>
                            <a:lnTo>
                              <a:pt x="67" y="3300"/>
                            </a:lnTo>
                            <a:lnTo>
                              <a:pt x="79" y="3318"/>
                            </a:lnTo>
                            <a:lnTo>
                              <a:pt x="90" y="3334"/>
                            </a:lnTo>
                            <a:lnTo>
                              <a:pt x="102" y="3349"/>
                            </a:lnTo>
                            <a:lnTo>
                              <a:pt x="116" y="3363"/>
                            </a:lnTo>
                            <a:lnTo>
                              <a:pt x="129" y="3377"/>
                            </a:lnTo>
                            <a:lnTo>
                              <a:pt x="144" y="3390"/>
                            </a:lnTo>
                            <a:lnTo>
                              <a:pt x="159" y="3402"/>
                            </a:lnTo>
                            <a:lnTo>
                              <a:pt x="175" y="3412"/>
                            </a:lnTo>
                            <a:lnTo>
                              <a:pt x="193" y="3422"/>
                            </a:lnTo>
                            <a:lnTo>
                              <a:pt x="210" y="3431"/>
                            </a:lnTo>
                            <a:lnTo>
                              <a:pt x="228" y="3439"/>
                            </a:lnTo>
                            <a:lnTo>
                              <a:pt x="246" y="3445"/>
                            </a:lnTo>
                            <a:lnTo>
                              <a:pt x="265" y="3451"/>
                            </a:lnTo>
                            <a:lnTo>
                              <a:pt x="285" y="3456"/>
                            </a:lnTo>
                            <a:lnTo>
                              <a:pt x="305" y="3461"/>
                            </a:lnTo>
                            <a:lnTo>
                              <a:pt x="327" y="3464"/>
                            </a:lnTo>
                            <a:lnTo>
                              <a:pt x="385" y="3468"/>
                            </a:lnTo>
                            <a:lnTo>
                              <a:pt x="442" y="3468"/>
                            </a:lnTo>
                            <a:lnTo>
                              <a:pt x="496" y="3463"/>
                            </a:lnTo>
                            <a:lnTo>
                              <a:pt x="549" y="3453"/>
                            </a:lnTo>
                            <a:lnTo>
                              <a:pt x="598" y="3440"/>
                            </a:lnTo>
                            <a:lnTo>
                              <a:pt x="646" y="3424"/>
                            </a:lnTo>
                            <a:lnTo>
                              <a:pt x="693" y="3405"/>
                            </a:lnTo>
                            <a:lnTo>
                              <a:pt x="737" y="3381"/>
                            </a:lnTo>
                            <a:lnTo>
                              <a:pt x="778" y="3355"/>
                            </a:lnTo>
                            <a:lnTo>
                              <a:pt x="819" y="3327"/>
                            </a:lnTo>
                            <a:lnTo>
                              <a:pt x="857" y="3295"/>
                            </a:lnTo>
                            <a:lnTo>
                              <a:pt x="894" y="3263"/>
                            </a:lnTo>
                            <a:lnTo>
                              <a:pt x="929" y="3227"/>
                            </a:lnTo>
                            <a:lnTo>
                              <a:pt x="962" y="3191"/>
                            </a:lnTo>
                            <a:lnTo>
                              <a:pt x="993" y="3152"/>
                            </a:lnTo>
                            <a:lnTo>
                              <a:pt x="1022" y="3114"/>
                            </a:lnTo>
                            <a:lnTo>
                              <a:pt x="1051" y="3073"/>
                            </a:lnTo>
                            <a:lnTo>
                              <a:pt x="1077" y="3033"/>
                            </a:lnTo>
                            <a:lnTo>
                              <a:pt x="1101" y="2992"/>
                            </a:lnTo>
                            <a:lnTo>
                              <a:pt x="1124" y="2951"/>
                            </a:lnTo>
                            <a:lnTo>
                              <a:pt x="1145" y="2909"/>
                            </a:lnTo>
                            <a:lnTo>
                              <a:pt x="1166" y="2869"/>
                            </a:lnTo>
                            <a:lnTo>
                              <a:pt x="1184" y="2828"/>
                            </a:lnTo>
                            <a:lnTo>
                              <a:pt x="1201" y="2789"/>
                            </a:lnTo>
                            <a:lnTo>
                              <a:pt x="1217" y="2751"/>
                            </a:lnTo>
                            <a:lnTo>
                              <a:pt x="1231" y="2715"/>
                            </a:lnTo>
                            <a:lnTo>
                              <a:pt x="1244" y="2679"/>
                            </a:lnTo>
                            <a:lnTo>
                              <a:pt x="1255" y="2646"/>
                            </a:lnTo>
                            <a:lnTo>
                              <a:pt x="1275" y="2585"/>
                            </a:lnTo>
                            <a:lnTo>
                              <a:pt x="1290" y="2535"/>
                            </a:lnTo>
                            <a:lnTo>
                              <a:pt x="1611" y="2394"/>
                            </a:lnTo>
                            <a:lnTo>
                              <a:pt x="1695" y="2507"/>
                            </a:lnTo>
                            <a:lnTo>
                              <a:pt x="1775" y="2616"/>
                            </a:lnTo>
                            <a:lnTo>
                              <a:pt x="1851" y="2724"/>
                            </a:lnTo>
                            <a:lnTo>
                              <a:pt x="1925" y="2827"/>
                            </a:lnTo>
                            <a:lnTo>
                              <a:pt x="1996" y="2928"/>
                            </a:lnTo>
                            <a:lnTo>
                              <a:pt x="2062" y="3027"/>
                            </a:lnTo>
                            <a:lnTo>
                              <a:pt x="2127" y="3122"/>
                            </a:lnTo>
                            <a:lnTo>
                              <a:pt x="2188" y="3214"/>
                            </a:lnTo>
                            <a:lnTo>
                              <a:pt x="2247" y="3304"/>
                            </a:lnTo>
                            <a:lnTo>
                              <a:pt x="2303" y="3391"/>
                            </a:lnTo>
                            <a:lnTo>
                              <a:pt x="2356" y="3474"/>
                            </a:lnTo>
                            <a:lnTo>
                              <a:pt x="2406" y="3554"/>
                            </a:lnTo>
                            <a:lnTo>
                              <a:pt x="2498" y="3704"/>
                            </a:lnTo>
                            <a:lnTo>
                              <a:pt x="2578" y="3841"/>
                            </a:lnTo>
                            <a:lnTo>
                              <a:pt x="2650" y="3963"/>
                            </a:lnTo>
                            <a:lnTo>
                              <a:pt x="2711" y="4072"/>
                            </a:lnTo>
                            <a:lnTo>
                              <a:pt x="2761" y="4166"/>
                            </a:lnTo>
                            <a:lnTo>
                              <a:pt x="2802" y="4245"/>
                            </a:lnTo>
                            <a:lnTo>
                              <a:pt x="2859" y="4357"/>
                            </a:lnTo>
                            <a:lnTo>
                              <a:pt x="2880" y="4402"/>
                            </a:lnTo>
                            <a:lnTo>
                              <a:pt x="2951" y="4558"/>
                            </a:lnTo>
                            <a:lnTo>
                              <a:pt x="3081" y="4448"/>
                            </a:lnTo>
                            <a:lnTo>
                              <a:pt x="5193" y="2671"/>
                            </a:lnTo>
                            <a:lnTo>
                              <a:pt x="5193" y="1422"/>
                            </a:lnTo>
                            <a:lnTo>
                              <a:pt x="4958" y="1422"/>
                            </a:lnTo>
                            <a:lnTo>
                              <a:pt x="4958" y="251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3500280" y="3702240"/>
                        <a:ext cx="453240" cy="286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" rIns="9000" tIns="9000" bIns="9000" anchor="t">
                        <a:spAutoFit/>
                      </a:bodyPr>
                      <a:p>
                        <a:pPr algn="ctr">
                          <a:lnSpc>
                            <a:spcPct val="80000"/>
                          </a:lnSpc>
                          <a:spcBef>
                            <a:spcPts val="68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Tahoma"/>
                            <a:ea typeface="宋体"/>
                          </a:rPr>
                          <a:t>Gov B2B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3508560" y="3781440"/>
                        <a:ext cx="195480" cy="363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>
                        <a:off x="3520800" y="3887280"/>
                        <a:ext cx="162000" cy="22320"/>
                      </a:xfrm>
                      <a:prstGeom prst="rect">
                        <a:avLst/>
                      </a:prstGeom>
                      <a:solidFill>
                        <a:srgbClr val="3333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3825360" y="3781440"/>
                        <a:ext cx="75240" cy="39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0" name=""/>
                    <p:cNvGrpSpPr/>
                    <p:nvPr/>
                  </p:nvGrpSpPr>
                  <p:grpSpPr>
                    <a:xfrm>
                      <a:off x="3241440" y="4071600"/>
                      <a:ext cx="615600" cy="601920"/>
                      <a:chOff x="3241440" y="4071600"/>
                      <a:chExt cx="615600" cy="601920"/>
                    </a:xfrm>
                  </p:grpSpPr>
                  <p:sp>
                    <p:nvSpPr>
                      <p:cNvPr id="361" name=""/>
                      <p:cNvSpPr/>
                      <p:nvPr/>
                    </p:nvSpPr>
                    <p:spPr>
                      <a:xfrm>
                        <a:off x="3340080" y="4071600"/>
                        <a:ext cx="417960" cy="39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333399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b2b2b2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" name=""/>
                      <p:cNvSpPr/>
                      <p:nvPr/>
                    </p:nvSpPr>
                    <p:spPr>
                      <a:xfrm>
                        <a:off x="3344040" y="4074840"/>
                        <a:ext cx="411840" cy="394560"/>
                      </a:xfrm>
                      <a:prstGeom prst="rect">
                        <a:avLst/>
                      </a:pr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3403440" y="4170960"/>
                        <a:ext cx="321840" cy="27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42" h="1977">
                            <a:moveTo>
                              <a:pt x="362" y="261"/>
                            </a:moveTo>
                            <a:lnTo>
                              <a:pt x="0" y="1799"/>
                            </a:lnTo>
                            <a:lnTo>
                              <a:pt x="1" y="1799"/>
                            </a:lnTo>
                            <a:lnTo>
                              <a:pt x="7" y="1801"/>
                            </a:lnTo>
                            <a:lnTo>
                              <a:pt x="10" y="1803"/>
                            </a:lnTo>
                            <a:lnTo>
                              <a:pt x="15" y="1806"/>
                            </a:lnTo>
                            <a:lnTo>
                              <a:pt x="19" y="1808"/>
                            </a:lnTo>
                            <a:lnTo>
                              <a:pt x="26" y="1810"/>
                            </a:lnTo>
                            <a:lnTo>
                              <a:pt x="32" y="1813"/>
                            </a:lnTo>
                            <a:lnTo>
                              <a:pt x="40" y="1816"/>
                            </a:lnTo>
                            <a:lnTo>
                              <a:pt x="48" y="1821"/>
                            </a:lnTo>
                            <a:lnTo>
                              <a:pt x="57" y="1826"/>
                            </a:lnTo>
                            <a:lnTo>
                              <a:pt x="66" y="1829"/>
                            </a:lnTo>
                            <a:lnTo>
                              <a:pt x="77" y="1834"/>
                            </a:lnTo>
                            <a:lnTo>
                              <a:pt x="87" y="1839"/>
                            </a:lnTo>
                            <a:lnTo>
                              <a:pt x="99" y="1844"/>
                            </a:lnTo>
                            <a:lnTo>
                              <a:pt x="111" y="1849"/>
                            </a:lnTo>
                            <a:lnTo>
                              <a:pt x="124" y="1853"/>
                            </a:lnTo>
                            <a:lnTo>
                              <a:pt x="137" y="1858"/>
                            </a:lnTo>
                            <a:lnTo>
                              <a:pt x="152" y="1864"/>
                            </a:lnTo>
                            <a:lnTo>
                              <a:pt x="166" y="1869"/>
                            </a:lnTo>
                            <a:lnTo>
                              <a:pt x="182" y="1875"/>
                            </a:lnTo>
                            <a:lnTo>
                              <a:pt x="197" y="1880"/>
                            </a:lnTo>
                            <a:lnTo>
                              <a:pt x="214" y="1887"/>
                            </a:lnTo>
                            <a:lnTo>
                              <a:pt x="229" y="1891"/>
                            </a:lnTo>
                            <a:lnTo>
                              <a:pt x="247" y="1897"/>
                            </a:lnTo>
                            <a:lnTo>
                              <a:pt x="265" y="1902"/>
                            </a:lnTo>
                            <a:lnTo>
                              <a:pt x="284" y="1908"/>
                            </a:lnTo>
                            <a:lnTo>
                              <a:pt x="302" y="1913"/>
                            </a:lnTo>
                            <a:lnTo>
                              <a:pt x="321" y="1920"/>
                            </a:lnTo>
                            <a:lnTo>
                              <a:pt x="342" y="1924"/>
                            </a:lnTo>
                            <a:lnTo>
                              <a:pt x="363" y="1931"/>
                            </a:lnTo>
                            <a:lnTo>
                              <a:pt x="382" y="1934"/>
                            </a:lnTo>
                            <a:lnTo>
                              <a:pt x="404" y="1939"/>
                            </a:lnTo>
                            <a:lnTo>
                              <a:pt x="424" y="1944"/>
                            </a:lnTo>
                            <a:lnTo>
                              <a:pt x="447" y="1947"/>
                            </a:lnTo>
                            <a:lnTo>
                              <a:pt x="468" y="1952"/>
                            </a:lnTo>
                            <a:lnTo>
                              <a:pt x="492" y="1956"/>
                            </a:lnTo>
                            <a:lnTo>
                              <a:pt x="515" y="1959"/>
                            </a:lnTo>
                            <a:lnTo>
                              <a:pt x="537" y="1963"/>
                            </a:lnTo>
                            <a:lnTo>
                              <a:pt x="561" y="1965"/>
                            </a:lnTo>
                            <a:lnTo>
                              <a:pt x="585" y="1968"/>
                            </a:lnTo>
                            <a:lnTo>
                              <a:pt x="609" y="1970"/>
                            </a:lnTo>
                            <a:lnTo>
                              <a:pt x="634" y="1972"/>
                            </a:lnTo>
                            <a:lnTo>
                              <a:pt x="658" y="1974"/>
                            </a:lnTo>
                            <a:lnTo>
                              <a:pt x="684" y="1975"/>
                            </a:lnTo>
                            <a:lnTo>
                              <a:pt x="709" y="1976"/>
                            </a:lnTo>
                            <a:lnTo>
                              <a:pt x="734" y="1977"/>
                            </a:lnTo>
                            <a:lnTo>
                              <a:pt x="760" y="1976"/>
                            </a:lnTo>
                            <a:lnTo>
                              <a:pt x="785" y="1976"/>
                            </a:lnTo>
                            <a:lnTo>
                              <a:pt x="812" y="1975"/>
                            </a:lnTo>
                            <a:lnTo>
                              <a:pt x="838" y="1974"/>
                            </a:lnTo>
                            <a:lnTo>
                              <a:pt x="864" y="1971"/>
                            </a:lnTo>
                            <a:lnTo>
                              <a:pt x="892" y="1969"/>
                            </a:lnTo>
                            <a:lnTo>
                              <a:pt x="918" y="1965"/>
                            </a:lnTo>
                            <a:lnTo>
                              <a:pt x="945" y="1962"/>
                            </a:lnTo>
                            <a:lnTo>
                              <a:pt x="972" y="1957"/>
                            </a:lnTo>
                            <a:lnTo>
                              <a:pt x="998" y="1952"/>
                            </a:lnTo>
                            <a:lnTo>
                              <a:pt x="1025" y="1946"/>
                            </a:lnTo>
                            <a:lnTo>
                              <a:pt x="1053" y="1940"/>
                            </a:lnTo>
                            <a:lnTo>
                              <a:pt x="1080" y="1933"/>
                            </a:lnTo>
                            <a:lnTo>
                              <a:pt x="1108" y="1926"/>
                            </a:lnTo>
                            <a:lnTo>
                              <a:pt x="1135" y="1918"/>
                            </a:lnTo>
                            <a:lnTo>
                              <a:pt x="1163" y="1908"/>
                            </a:lnTo>
                            <a:lnTo>
                              <a:pt x="1189" y="1899"/>
                            </a:lnTo>
                            <a:lnTo>
                              <a:pt x="1216" y="1889"/>
                            </a:lnTo>
                            <a:lnTo>
                              <a:pt x="1243" y="1880"/>
                            </a:lnTo>
                            <a:lnTo>
                              <a:pt x="1269" y="1874"/>
                            </a:lnTo>
                            <a:lnTo>
                              <a:pt x="1293" y="1865"/>
                            </a:lnTo>
                            <a:lnTo>
                              <a:pt x="1319" y="1858"/>
                            </a:lnTo>
                            <a:lnTo>
                              <a:pt x="1343" y="1851"/>
                            </a:lnTo>
                            <a:lnTo>
                              <a:pt x="1367" y="1845"/>
                            </a:lnTo>
                            <a:lnTo>
                              <a:pt x="1391" y="1838"/>
                            </a:lnTo>
                            <a:lnTo>
                              <a:pt x="1413" y="1832"/>
                            </a:lnTo>
                            <a:lnTo>
                              <a:pt x="1437" y="1826"/>
                            </a:lnTo>
                            <a:lnTo>
                              <a:pt x="1460" y="1821"/>
                            </a:lnTo>
                            <a:lnTo>
                              <a:pt x="1481" y="1816"/>
                            </a:lnTo>
                            <a:lnTo>
                              <a:pt x="1503" y="1813"/>
                            </a:lnTo>
                            <a:lnTo>
                              <a:pt x="1524" y="1808"/>
                            </a:lnTo>
                            <a:lnTo>
                              <a:pt x="1547" y="1804"/>
                            </a:lnTo>
                            <a:lnTo>
                              <a:pt x="1566" y="1800"/>
                            </a:lnTo>
                            <a:lnTo>
                              <a:pt x="1585" y="1797"/>
                            </a:lnTo>
                            <a:lnTo>
                              <a:pt x="1605" y="1794"/>
                            </a:lnTo>
                            <a:lnTo>
                              <a:pt x="1624" y="1791"/>
                            </a:lnTo>
                            <a:lnTo>
                              <a:pt x="1642" y="1788"/>
                            </a:lnTo>
                            <a:lnTo>
                              <a:pt x="1661" y="1785"/>
                            </a:lnTo>
                            <a:lnTo>
                              <a:pt x="1679" y="1784"/>
                            </a:lnTo>
                            <a:lnTo>
                              <a:pt x="1697" y="1783"/>
                            </a:lnTo>
                            <a:lnTo>
                              <a:pt x="1713" y="1781"/>
                            </a:lnTo>
                            <a:lnTo>
                              <a:pt x="1729" y="1779"/>
                            </a:lnTo>
                            <a:lnTo>
                              <a:pt x="1746" y="1777"/>
                            </a:lnTo>
                            <a:lnTo>
                              <a:pt x="1763" y="1777"/>
                            </a:lnTo>
                            <a:lnTo>
                              <a:pt x="1777" y="1776"/>
                            </a:lnTo>
                            <a:lnTo>
                              <a:pt x="1792" y="1776"/>
                            </a:lnTo>
                            <a:lnTo>
                              <a:pt x="1806" y="1776"/>
                            </a:lnTo>
                            <a:lnTo>
                              <a:pt x="1821" y="1776"/>
                            </a:lnTo>
                            <a:lnTo>
                              <a:pt x="1833" y="1775"/>
                            </a:lnTo>
                            <a:lnTo>
                              <a:pt x="1846" y="1775"/>
                            </a:lnTo>
                            <a:lnTo>
                              <a:pt x="1858" y="1775"/>
                            </a:lnTo>
                            <a:lnTo>
                              <a:pt x="1871" y="1776"/>
                            </a:lnTo>
                            <a:lnTo>
                              <a:pt x="1883" y="1776"/>
                            </a:lnTo>
                            <a:lnTo>
                              <a:pt x="1895" y="1777"/>
                            </a:lnTo>
                            <a:lnTo>
                              <a:pt x="1906" y="1777"/>
                            </a:lnTo>
                            <a:lnTo>
                              <a:pt x="1917" y="1778"/>
                            </a:lnTo>
                            <a:lnTo>
                              <a:pt x="1926" y="1778"/>
                            </a:lnTo>
                            <a:lnTo>
                              <a:pt x="1936" y="1779"/>
                            </a:lnTo>
                            <a:lnTo>
                              <a:pt x="1945" y="1779"/>
                            </a:lnTo>
                            <a:lnTo>
                              <a:pt x="1955" y="1782"/>
                            </a:lnTo>
                            <a:lnTo>
                              <a:pt x="1962" y="1782"/>
                            </a:lnTo>
                            <a:lnTo>
                              <a:pt x="1971" y="1784"/>
                            </a:lnTo>
                            <a:lnTo>
                              <a:pt x="1979" y="1784"/>
                            </a:lnTo>
                            <a:lnTo>
                              <a:pt x="1986" y="1785"/>
                            </a:lnTo>
                            <a:lnTo>
                              <a:pt x="1992" y="1787"/>
                            </a:lnTo>
                            <a:lnTo>
                              <a:pt x="1998" y="1788"/>
                            </a:lnTo>
                            <a:lnTo>
                              <a:pt x="2004" y="1788"/>
                            </a:lnTo>
                            <a:lnTo>
                              <a:pt x="2010" y="1790"/>
                            </a:lnTo>
                            <a:lnTo>
                              <a:pt x="2015" y="1790"/>
                            </a:lnTo>
                            <a:lnTo>
                              <a:pt x="2019" y="1793"/>
                            </a:lnTo>
                            <a:lnTo>
                              <a:pt x="2023" y="1793"/>
                            </a:lnTo>
                            <a:lnTo>
                              <a:pt x="2028" y="1795"/>
                            </a:lnTo>
                            <a:lnTo>
                              <a:pt x="2034" y="1795"/>
                            </a:lnTo>
                            <a:lnTo>
                              <a:pt x="2037" y="1797"/>
                            </a:lnTo>
                            <a:lnTo>
                              <a:pt x="2040" y="1797"/>
                            </a:lnTo>
                            <a:lnTo>
                              <a:pt x="2042" y="1799"/>
                            </a:lnTo>
                            <a:lnTo>
                              <a:pt x="2036" y="558"/>
                            </a:lnTo>
                            <a:lnTo>
                              <a:pt x="2035" y="556"/>
                            </a:lnTo>
                            <a:lnTo>
                              <a:pt x="2034" y="553"/>
                            </a:lnTo>
                            <a:lnTo>
                              <a:pt x="2031" y="549"/>
                            </a:lnTo>
                            <a:lnTo>
                              <a:pt x="2030" y="544"/>
                            </a:lnTo>
                            <a:lnTo>
                              <a:pt x="2028" y="539"/>
                            </a:lnTo>
                            <a:lnTo>
                              <a:pt x="2027" y="536"/>
                            </a:lnTo>
                            <a:lnTo>
                              <a:pt x="2023" y="529"/>
                            </a:lnTo>
                            <a:lnTo>
                              <a:pt x="2021" y="523"/>
                            </a:lnTo>
                            <a:lnTo>
                              <a:pt x="2016" y="516"/>
                            </a:lnTo>
                            <a:lnTo>
                              <a:pt x="2013" y="510"/>
                            </a:lnTo>
                            <a:lnTo>
                              <a:pt x="2009" y="500"/>
                            </a:lnTo>
                            <a:lnTo>
                              <a:pt x="2005" y="493"/>
                            </a:lnTo>
                            <a:lnTo>
                              <a:pt x="2000" y="485"/>
                            </a:lnTo>
                            <a:lnTo>
                              <a:pt x="1996" y="476"/>
                            </a:lnTo>
                            <a:lnTo>
                              <a:pt x="1990" y="466"/>
                            </a:lnTo>
                            <a:lnTo>
                              <a:pt x="1984" y="456"/>
                            </a:lnTo>
                            <a:lnTo>
                              <a:pt x="1976" y="445"/>
                            </a:lnTo>
                            <a:lnTo>
                              <a:pt x="1971" y="436"/>
                            </a:lnTo>
                            <a:lnTo>
                              <a:pt x="1963" y="425"/>
                            </a:lnTo>
                            <a:lnTo>
                              <a:pt x="1956" y="414"/>
                            </a:lnTo>
                            <a:lnTo>
                              <a:pt x="1948" y="404"/>
                            </a:lnTo>
                            <a:lnTo>
                              <a:pt x="1939" y="393"/>
                            </a:lnTo>
                            <a:lnTo>
                              <a:pt x="1930" y="380"/>
                            </a:lnTo>
                            <a:lnTo>
                              <a:pt x="1922" y="369"/>
                            </a:lnTo>
                            <a:lnTo>
                              <a:pt x="1911" y="357"/>
                            </a:lnTo>
                            <a:lnTo>
                              <a:pt x="1903" y="345"/>
                            </a:lnTo>
                            <a:lnTo>
                              <a:pt x="1892" y="333"/>
                            </a:lnTo>
                            <a:lnTo>
                              <a:pt x="1880" y="321"/>
                            </a:lnTo>
                            <a:lnTo>
                              <a:pt x="1869" y="311"/>
                            </a:lnTo>
                            <a:lnTo>
                              <a:pt x="1857" y="299"/>
                            </a:lnTo>
                            <a:lnTo>
                              <a:pt x="1844" y="286"/>
                            </a:lnTo>
                            <a:lnTo>
                              <a:pt x="1831" y="274"/>
                            </a:lnTo>
                            <a:lnTo>
                              <a:pt x="1817" y="262"/>
                            </a:lnTo>
                            <a:lnTo>
                              <a:pt x="1803" y="251"/>
                            </a:lnTo>
                            <a:lnTo>
                              <a:pt x="1788" y="238"/>
                            </a:lnTo>
                            <a:lnTo>
                              <a:pt x="1774" y="227"/>
                            </a:lnTo>
                            <a:lnTo>
                              <a:pt x="1757" y="217"/>
                            </a:lnTo>
                            <a:lnTo>
                              <a:pt x="1741" y="205"/>
                            </a:lnTo>
                            <a:lnTo>
                              <a:pt x="1723" y="194"/>
                            </a:lnTo>
                            <a:lnTo>
                              <a:pt x="1707" y="183"/>
                            </a:lnTo>
                            <a:lnTo>
                              <a:pt x="1689" y="173"/>
                            </a:lnTo>
                            <a:lnTo>
                              <a:pt x="1671" y="162"/>
                            </a:lnTo>
                            <a:lnTo>
                              <a:pt x="1651" y="152"/>
                            </a:lnTo>
                            <a:lnTo>
                              <a:pt x="1632" y="143"/>
                            </a:lnTo>
                            <a:lnTo>
                              <a:pt x="1611" y="133"/>
                            </a:lnTo>
                            <a:lnTo>
                              <a:pt x="1592" y="126"/>
                            </a:lnTo>
                            <a:lnTo>
                              <a:pt x="1570" y="117"/>
                            </a:lnTo>
                            <a:lnTo>
                              <a:pt x="1548" y="109"/>
                            </a:lnTo>
                            <a:lnTo>
                              <a:pt x="1524" y="102"/>
                            </a:lnTo>
                            <a:lnTo>
                              <a:pt x="1503" y="95"/>
                            </a:lnTo>
                            <a:lnTo>
                              <a:pt x="1478" y="88"/>
                            </a:lnTo>
                            <a:lnTo>
                              <a:pt x="1454" y="83"/>
                            </a:lnTo>
                            <a:lnTo>
                              <a:pt x="1429" y="78"/>
                            </a:lnTo>
                            <a:lnTo>
                              <a:pt x="1404" y="74"/>
                            </a:lnTo>
                            <a:lnTo>
                              <a:pt x="1376" y="70"/>
                            </a:lnTo>
                            <a:lnTo>
                              <a:pt x="1350" y="67"/>
                            </a:lnTo>
                            <a:lnTo>
                              <a:pt x="1321" y="63"/>
                            </a:lnTo>
                            <a:lnTo>
                              <a:pt x="1294" y="62"/>
                            </a:lnTo>
                            <a:lnTo>
                              <a:pt x="1264" y="61"/>
                            </a:lnTo>
                            <a:lnTo>
                              <a:pt x="1234" y="61"/>
                            </a:lnTo>
                            <a:lnTo>
                              <a:pt x="1203" y="61"/>
                            </a:lnTo>
                            <a:lnTo>
                              <a:pt x="1173" y="63"/>
                            </a:lnTo>
                            <a:lnTo>
                              <a:pt x="1141" y="63"/>
                            </a:lnTo>
                            <a:lnTo>
                              <a:pt x="1111" y="64"/>
                            </a:lnTo>
                            <a:lnTo>
                              <a:pt x="1081" y="65"/>
                            </a:lnTo>
                            <a:lnTo>
                              <a:pt x="1053" y="67"/>
                            </a:lnTo>
                            <a:lnTo>
                              <a:pt x="1024" y="67"/>
                            </a:lnTo>
                            <a:lnTo>
                              <a:pt x="998" y="68"/>
                            </a:lnTo>
                            <a:lnTo>
                              <a:pt x="970" y="68"/>
                            </a:lnTo>
                            <a:lnTo>
                              <a:pt x="945" y="69"/>
                            </a:lnTo>
                            <a:lnTo>
                              <a:pt x="920" y="68"/>
                            </a:lnTo>
                            <a:lnTo>
                              <a:pt x="895" y="68"/>
                            </a:lnTo>
                            <a:lnTo>
                              <a:pt x="871" y="68"/>
                            </a:lnTo>
                            <a:lnTo>
                              <a:pt x="849" y="68"/>
                            </a:lnTo>
                            <a:lnTo>
                              <a:pt x="826" y="68"/>
                            </a:lnTo>
                            <a:lnTo>
                              <a:pt x="805" y="68"/>
                            </a:lnTo>
                            <a:lnTo>
                              <a:pt x="783" y="67"/>
                            </a:lnTo>
                            <a:lnTo>
                              <a:pt x="764" y="67"/>
                            </a:lnTo>
                            <a:lnTo>
                              <a:pt x="743" y="65"/>
                            </a:lnTo>
                            <a:lnTo>
                              <a:pt x="725" y="64"/>
                            </a:lnTo>
                            <a:lnTo>
                              <a:pt x="706" y="63"/>
                            </a:lnTo>
                            <a:lnTo>
                              <a:pt x="689" y="62"/>
                            </a:lnTo>
                            <a:lnTo>
                              <a:pt x="671" y="61"/>
                            </a:lnTo>
                            <a:lnTo>
                              <a:pt x="654" y="58"/>
                            </a:lnTo>
                            <a:lnTo>
                              <a:pt x="639" y="57"/>
                            </a:lnTo>
                            <a:lnTo>
                              <a:pt x="623" y="57"/>
                            </a:lnTo>
                            <a:lnTo>
                              <a:pt x="608" y="55"/>
                            </a:lnTo>
                            <a:lnTo>
                              <a:pt x="593" y="52"/>
                            </a:lnTo>
                            <a:lnTo>
                              <a:pt x="579" y="51"/>
                            </a:lnTo>
                            <a:lnTo>
                              <a:pt x="566" y="50"/>
                            </a:lnTo>
                            <a:lnTo>
                              <a:pt x="553" y="47"/>
                            </a:lnTo>
                            <a:lnTo>
                              <a:pt x="542" y="46"/>
                            </a:lnTo>
                            <a:lnTo>
                              <a:pt x="530" y="45"/>
                            </a:lnTo>
                            <a:lnTo>
                              <a:pt x="519" y="43"/>
                            </a:lnTo>
                            <a:lnTo>
                              <a:pt x="507" y="42"/>
                            </a:lnTo>
                            <a:lnTo>
                              <a:pt x="498" y="39"/>
                            </a:lnTo>
                            <a:lnTo>
                              <a:pt x="487" y="37"/>
                            </a:lnTo>
                            <a:lnTo>
                              <a:pt x="479" y="34"/>
                            </a:lnTo>
                            <a:lnTo>
                              <a:pt x="469" y="32"/>
                            </a:lnTo>
                            <a:lnTo>
                              <a:pt x="461" y="31"/>
                            </a:lnTo>
                            <a:lnTo>
                              <a:pt x="453" y="30"/>
                            </a:lnTo>
                            <a:lnTo>
                              <a:pt x="447" y="28"/>
                            </a:lnTo>
                            <a:lnTo>
                              <a:pt x="438" y="26"/>
                            </a:lnTo>
                            <a:lnTo>
                              <a:pt x="431" y="24"/>
                            </a:lnTo>
                            <a:lnTo>
                              <a:pt x="425" y="21"/>
                            </a:lnTo>
                            <a:lnTo>
                              <a:pt x="420" y="20"/>
                            </a:lnTo>
                            <a:lnTo>
                              <a:pt x="413" y="18"/>
                            </a:lnTo>
                            <a:lnTo>
                              <a:pt x="410" y="17"/>
                            </a:lnTo>
                            <a:lnTo>
                              <a:pt x="405" y="15"/>
                            </a:lnTo>
                            <a:lnTo>
                              <a:pt x="400" y="14"/>
                            </a:lnTo>
                            <a:lnTo>
                              <a:pt x="395" y="12"/>
                            </a:lnTo>
                            <a:lnTo>
                              <a:pt x="392" y="11"/>
                            </a:lnTo>
                            <a:lnTo>
                              <a:pt x="388" y="8"/>
                            </a:lnTo>
                            <a:lnTo>
                              <a:pt x="386" y="8"/>
                            </a:lnTo>
                            <a:lnTo>
                              <a:pt x="380" y="6"/>
                            </a:lnTo>
                            <a:lnTo>
                              <a:pt x="376" y="3"/>
                            </a:lnTo>
                            <a:lnTo>
                              <a:pt x="370" y="0"/>
                            </a:lnTo>
                            <a:lnTo>
                              <a:pt x="370" y="0"/>
                            </a:lnTo>
                            <a:lnTo>
                              <a:pt x="362" y="261"/>
                            </a:lnTo>
                            <a:lnTo>
                              <a:pt x="362" y="261"/>
                            </a:lnTo>
                            <a:close/>
                          </a:path>
                        </a:pathLst>
                      </a:custGeom>
                      <a:solidFill>
                        <a:srgbClr val="96abba"/>
                      </a:solidFill>
                      <a:ln w="0">
                        <a:noFill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3633840" y="4266360"/>
                        <a:ext cx="83160" cy="13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5" h="923">
                            <a:moveTo>
                              <a:pt x="0" y="923"/>
                            </a:moveTo>
                            <a:lnTo>
                              <a:pt x="535" y="923"/>
                            </a:lnTo>
                            <a:lnTo>
                              <a:pt x="535" y="0"/>
                            </a:lnTo>
                            <a:lnTo>
                              <a:pt x="0" y="0"/>
                            </a:lnTo>
                            <a:lnTo>
                              <a:pt x="0" y="923"/>
                            </a:lnTo>
                            <a:lnTo>
                              <a:pt x="0" y="92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3642120" y="4279320"/>
                        <a:ext cx="65880" cy="10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7" h="748">
                            <a:moveTo>
                              <a:pt x="0" y="748"/>
                            </a:moveTo>
                            <a:lnTo>
                              <a:pt x="417" y="748"/>
                            </a:lnTo>
                            <a:lnTo>
                              <a:pt x="417" y="0"/>
                            </a:lnTo>
                            <a:lnTo>
                              <a:pt x="0" y="0"/>
                            </a:lnTo>
                            <a:lnTo>
                              <a:pt x="0" y="748"/>
                            </a:lnTo>
                            <a:lnTo>
                              <a:pt x="0" y="748"/>
                            </a:lnTo>
                            <a:close/>
                          </a:path>
                        </a:pathLst>
                      </a:custGeom>
                      <a:solidFill>
                        <a:srgbClr val="e0f5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"/>
                      <p:cNvSpPr/>
                      <p:nvPr/>
                    </p:nvSpPr>
                    <p:spPr>
                      <a:xfrm>
                        <a:off x="3647160" y="4312440"/>
                        <a:ext cx="5292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9" h="247">
                            <a:moveTo>
                              <a:pt x="169" y="247"/>
                            </a:moveTo>
                            <a:lnTo>
                              <a:pt x="176" y="246"/>
                            </a:lnTo>
                            <a:lnTo>
                              <a:pt x="185" y="245"/>
                            </a:lnTo>
                            <a:lnTo>
                              <a:pt x="189" y="245"/>
                            </a:lnTo>
                            <a:lnTo>
                              <a:pt x="194" y="245"/>
                            </a:lnTo>
                            <a:lnTo>
                              <a:pt x="198" y="243"/>
                            </a:lnTo>
                            <a:lnTo>
                              <a:pt x="203" y="243"/>
                            </a:lnTo>
                            <a:lnTo>
                              <a:pt x="210" y="242"/>
                            </a:lnTo>
                            <a:lnTo>
                              <a:pt x="218" y="240"/>
                            </a:lnTo>
                            <a:lnTo>
                              <a:pt x="226" y="237"/>
                            </a:lnTo>
                            <a:lnTo>
                              <a:pt x="235" y="236"/>
                            </a:lnTo>
                            <a:lnTo>
                              <a:pt x="242" y="234"/>
                            </a:lnTo>
                            <a:lnTo>
                              <a:pt x="249" y="231"/>
                            </a:lnTo>
                            <a:lnTo>
                              <a:pt x="255" y="228"/>
                            </a:lnTo>
                            <a:lnTo>
                              <a:pt x="263" y="224"/>
                            </a:lnTo>
                            <a:lnTo>
                              <a:pt x="269" y="221"/>
                            </a:lnTo>
                            <a:lnTo>
                              <a:pt x="277" y="217"/>
                            </a:lnTo>
                            <a:lnTo>
                              <a:pt x="283" y="214"/>
                            </a:lnTo>
                            <a:lnTo>
                              <a:pt x="289" y="210"/>
                            </a:lnTo>
                            <a:lnTo>
                              <a:pt x="294" y="205"/>
                            </a:lnTo>
                            <a:lnTo>
                              <a:pt x="299" y="200"/>
                            </a:lnTo>
                            <a:lnTo>
                              <a:pt x="304" y="196"/>
                            </a:lnTo>
                            <a:lnTo>
                              <a:pt x="309" y="192"/>
                            </a:lnTo>
                            <a:lnTo>
                              <a:pt x="312" y="186"/>
                            </a:lnTo>
                            <a:lnTo>
                              <a:pt x="317" y="181"/>
                            </a:lnTo>
                            <a:lnTo>
                              <a:pt x="321" y="177"/>
                            </a:lnTo>
                            <a:lnTo>
                              <a:pt x="326" y="172"/>
                            </a:lnTo>
                            <a:lnTo>
                              <a:pt x="328" y="166"/>
                            </a:lnTo>
                            <a:lnTo>
                              <a:pt x="330" y="160"/>
                            </a:lnTo>
                            <a:lnTo>
                              <a:pt x="333" y="154"/>
                            </a:lnTo>
                            <a:lnTo>
                              <a:pt x="335" y="148"/>
                            </a:lnTo>
                            <a:lnTo>
                              <a:pt x="336" y="141"/>
                            </a:lnTo>
                            <a:lnTo>
                              <a:pt x="337" y="136"/>
                            </a:lnTo>
                            <a:lnTo>
                              <a:pt x="339" y="129"/>
                            </a:lnTo>
                            <a:lnTo>
                              <a:pt x="339" y="124"/>
                            </a:lnTo>
                            <a:lnTo>
                              <a:pt x="339" y="117"/>
                            </a:lnTo>
                            <a:lnTo>
                              <a:pt x="337" y="111"/>
                            </a:lnTo>
                            <a:lnTo>
                              <a:pt x="336" y="104"/>
                            </a:lnTo>
                            <a:lnTo>
                              <a:pt x="335" y="98"/>
                            </a:lnTo>
                            <a:lnTo>
                              <a:pt x="333" y="92"/>
                            </a:lnTo>
                            <a:lnTo>
                              <a:pt x="330" y="87"/>
                            </a:lnTo>
                            <a:lnTo>
                              <a:pt x="328" y="80"/>
                            </a:lnTo>
                            <a:lnTo>
                              <a:pt x="326" y="75"/>
                            </a:lnTo>
                            <a:lnTo>
                              <a:pt x="321" y="69"/>
                            </a:lnTo>
                            <a:lnTo>
                              <a:pt x="317" y="64"/>
                            </a:lnTo>
                            <a:lnTo>
                              <a:pt x="312" y="59"/>
                            </a:lnTo>
                            <a:lnTo>
                              <a:pt x="309" y="54"/>
                            </a:lnTo>
                            <a:lnTo>
                              <a:pt x="304" y="49"/>
                            </a:lnTo>
                            <a:lnTo>
                              <a:pt x="299" y="44"/>
                            </a:lnTo>
                            <a:lnTo>
                              <a:pt x="294" y="41"/>
                            </a:lnTo>
                            <a:lnTo>
                              <a:pt x="289" y="36"/>
                            </a:lnTo>
                            <a:lnTo>
                              <a:pt x="283" y="33"/>
                            </a:lnTo>
                            <a:lnTo>
                              <a:pt x="277" y="28"/>
                            </a:lnTo>
                            <a:lnTo>
                              <a:pt x="269" y="23"/>
                            </a:lnTo>
                            <a:lnTo>
                              <a:pt x="263" y="21"/>
                            </a:lnTo>
                            <a:lnTo>
                              <a:pt x="255" y="17"/>
                            </a:lnTo>
                            <a:lnTo>
                              <a:pt x="249" y="15"/>
                            </a:lnTo>
                            <a:lnTo>
                              <a:pt x="242" y="12"/>
                            </a:lnTo>
                            <a:lnTo>
                              <a:pt x="235" y="10"/>
                            </a:lnTo>
                            <a:lnTo>
                              <a:pt x="226" y="8"/>
                            </a:lnTo>
                            <a:lnTo>
                              <a:pt x="218" y="5"/>
                            </a:lnTo>
                            <a:lnTo>
                              <a:pt x="210" y="4"/>
                            </a:lnTo>
                            <a:lnTo>
                              <a:pt x="203" y="3"/>
                            </a:lnTo>
                            <a:lnTo>
                              <a:pt x="198" y="2"/>
                            </a:lnTo>
                            <a:lnTo>
                              <a:pt x="194" y="2"/>
                            </a:lnTo>
                            <a:lnTo>
                              <a:pt x="189" y="0"/>
                            </a:lnTo>
                            <a:lnTo>
                              <a:pt x="185" y="0"/>
                            </a:lnTo>
                            <a:lnTo>
                              <a:pt x="176" y="0"/>
                            </a:lnTo>
                            <a:lnTo>
                              <a:pt x="169" y="0"/>
                            </a:lnTo>
                            <a:lnTo>
                              <a:pt x="164" y="0"/>
                            </a:lnTo>
                            <a:lnTo>
                              <a:pt x="160" y="0"/>
                            </a:lnTo>
                            <a:lnTo>
                              <a:pt x="155" y="0"/>
                            </a:lnTo>
                            <a:lnTo>
                              <a:pt x="150" y="0"/>
                            </a:lnTo>
                            <a:lnTo>
                              <a:pt x="142" y="2"/>
                            </a:lnTo>
                            <a:lnTo>
                              <a:pt x="135" y="3"/>
                            </a:lnTo>
                            <a:lnTo>
                              <a:pt x="130" y="3"/>
                            </a:lnTo>
                            <a:lnTo>
                              <a:pt x="125" y="4"/>
                            </a:lnTo>
                            <a:lnTo>
                              <a:pt x="121" y="4"/>
                            </a:lnTo>
                            <a:lnTo>
                              <a:pt x="118" y="5"/>
                            </a:lnTo>
                            <a:lnTo>
                              <a:pt x="109" y="8"/>
                            </a:lnTo>
                            <a:lnTo>
                              <a:pt x="102" y="10"/>
                            </a:lnTo>
                            <a:lnTo>
                              <a:pt x="94" y="12"/>
                            </a:lnTo>
                            <a:lnTo>
                              <a:pt x="87" y="15"/>
                            </a:lnTo>
                            <a:lnTo>
                              <a:pt x="81" y="17"/>
                            </a:lnTo>
                            <a:lnTo>
                              <a:pt x="74" y="21"/>
                            </a:lnTo>
                            <a:lnTo>
                              <a:pt x="67" y="23"/>
                            </a:lnTo>
                            <a:lnTo>
                              <a:pt x="61" y="28"/>
                            </a:lnTo>
                            <a:lnTo>
                              <a:pt x="55" y="33"/>
                            </a:lnTo>
                            <a:lnTo>
                              <a:pt x="49" y="36"/>
                            </a:lnTo>
                            <a:lnTo>
                              <a:pt x="43" y="41"/>
                            </a:lnTo>
                            <a:lnTo>
                              <a:pt x="37" y="44"/>
                            </a:lnTo>
                            <a:lnTo>
                              <a:pt x="32" y="49"/>
                            </a:lnTo>
                            <a:lnTo>
                              <a:pt x="28" y="54"/>
                            </a:lnTo>
                            <a:lnTo>
                              <a:pt x="24" y="59"/>
                            </a:lnTo>
                            <a:lnTo>
                              <a:pt x="19" y="64"/>
                            </a:lnTo>
                            <a:lnTo>
                              <a:pt x="15" y="69"/>
                            </a:lnTo>
                            <a:lnTo>
                              <a:pt x="13" y="75"/>
                            </a:lnTo>
                            <a:lnTo>
                              <a:pt x="9" y="80"/>
                            </a:lnTo>
                            <a:lnTo>
                              <a:pt x="7" y="87"/>
                            </a:lnTo>
                            <a:lnTo>
                              <a:pt x="4" y="92"/>
                            </a:lnTo>
                            <a:lnTo>
                              <a:pt x="3" y="98"/>
                            </a:lnTo>
                            <a:lnTo>
                              <a:pt x="1" y="104"/>
                            </a:lnTo>
                            <a:lnTo>
                              <a:pt x="0" y="111"/>
                            </a:lnTo>
                            <a:lnTo>
                              <a:pt x="0" y="117"/>
                            </a:lnTo>
                            <a:lnTo>
                              <a:pt x="0" y="124"/>
                            </a:lnTo>
                            <a:lnTo>
                              <a:pt x="0" y="129"/>
                            </a:lnTo>
                            <a:lnTo>
                              <a:pt x="0" y="136"/>
                            </a:lnTo>
                            <a:lnTo>
                              <a:pt x="1" y="141"/>
                            </a:lnTo>
                            <a:lnTo>
                              <a:pt x="3" y="148"/>
                            </a:lnTo>
                            <a:lnTo>
                              <a:pt x="4" y="154"/>
                            </a:lnTo>
                            <a:lnTo>
                              <a:pt x="7" y="160"/>
                            </a:lnTo>
                            <a:lnTo>
                              <a:pt x="9" y="166"/>
                            </a:lnTo>
                            <a:lnTo>
                              <a:pt x="13" y="172"/>
                            </a:lnTo>
                            <a:lnTo>
                              <a:pt x="15" y="177"/>
                            </a:lnTo>
                            <a:lnTo>
                              <a:pt x="19" y="181"/>
                            </a:lnTo>
                            <a:lnTo>
                              <a:pt x="24" y="186"/>
                            </a:lnTo>
                            <a:lnTo>
                              <a:pt x="28" y="192"/>
                            </a:lnTo>
                            <a:lnTo>
                              <a:pt x="32" y="196"/>
                            </a:lnTo>
                            <a:lnTo>
                              <a:pt x="37" y="200"/>
                            </a:lnTo>
                            <a:lnTo>
                              <a:pt x="43" y="205"/>
                            </a:lnTo>
                            <a:lnTo>
                              <a:pt x="49" y="210"/>
                            </a:lnTo>
                            <a:lnTo>
                              <a:pt x="55" y="214"/>
                            </a:lnTo>
                            <a:lnTo>
                              <a:pt x="61" y="217"/>
                            </a:lnTo>
                            <a:lnTo>
                              <a:pt x="67" y="221"/>
                            </a:lnTo>
                            <a:lnTo>
                              <a:pt x="74" y="224"/>
                            </a:lnTo>
                            <a:lnTo>
                              <a:pt x="81" y="228"/>
                            </a:lnTo>
                            <a:lnTo>
                              <a:pt x="87" y="231"/>
                            </a:lnTo>
                            <a:lnTo>
                              <a:pt x="94" y="234"/>
                            </a:lnTo>
                            <a:lnTo>
                              <a:pt x="102" y="236"/>
                            </a:lnTo>
                            <a:lnTo>
                              <a:pt x="109" y="237"/>
                            </a:lnTo>
                            <a:lnTo>
                              <a:pt x="118" y="240"/>
                            </a:lnTo>
                            <a:lnTo>
                              <a:pt x="121" y="240"/>
                            </a:lnTo>
                            <a:lnTo>
                              <a:pt x="125" y="242"/>
                            </a:lnTo>
                            <a:lnTo>
                              <a:pt x="130" y="242"/>
                            </a:lnTo>
                            <a:lnTo>
                              <a:pt x="135" y="243"/>
                            </a:lnTo>
                            <a:lnTo>
                              <a:pt x="142" y="245"/>
                            </a:lnTo>
                            <a:lnTo>
                              <a:pt x="150" y="245"/>
                            </a:lnTo>
                            <a:lnTo>
                              <a:pt x="155" y="245"/>
                            </a:lnTo>
                            <a:lnTo>
                              <a:pt x="160" y="246"/>
                            </a:lnTo>
                            <a:lnTo>
                              <a:pt x="164" y="246"/>
                            </a:lnTo>
                            <a:lnTo>
                              <a:pt x="169" y="247"/>
                            </a:lnTo>
                            <a:lnTo>
                              <a:pt x="169" y="247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3638880" y="4275000"/>
                        <a:ext cx="3132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93">
                            <a:moveTo>
                              <a:pt x="104" y="93"/>
                            </a:moveTo>
                            <a:lnTo>
                              <a:pt x="108" y="92"/>
                            </a:lnTo>
                            <a:lnTo>
                              <a:pt x="113" y="92"/>
                            </a:lnTo>
                            <a:lnTo>
                              <a:pt x="118" y="92"/>
                            </a:lnTo>
                            <a:lnTo>
                              <a:pt x="123" y="92"/>
                            </a:lnTo>
                            <a:lnTo>
                              <a:pt x="127" y="90"/>
                            </a:lnTo>
                            <a:lnTo>
                              <a:pt x="132" y="89"/>
                            </a:lnTo>
                            <a:lnTo>
                              <a:pt x="137" y="89"/>
                            </a:lnTo>
                            <a:lnTo>
                              <a:pt x="143" y="89"/>
                            </a:lnTo>
                            <a:lnTo>
                              <a:pt x="147" y="87"/>
                            </a:lnTo>
                            <a:lnTo>
                              <a:pt x="151" y="87"/>
                            </a:lnTo>
                            <a:lnTo>
                              <a:pt x="156" y="84"/>
                            </a:lnTo>
                            <a:lnTo>
                              <a:pt x="160" y="84"/>
                            </a:lnTo>
                            <a:lnTo>
                              <a:pt x="168" y="81"/>
                            </a:lnTo>
                            <a:lnTo>
                              <a:pt x="175" y="78"/>
                            </a:lnTo>
                            <a:lnTo>
                              <a:pt x="182" y="75"/>
                            </a:lnTo>
                            <a:lnTo>
                              <a:pt x="187" y="71"/>
                            </a:lnTo>
                            <a:lnTo>
                              <a:pt x="192" y="66"/>
                            </a:lnTo>
                            <a:lnTo>
                              <a:pt x="197" y="63"/>
                            </a:lnTo>
                            <a:lnTo>
                              <a:pt x="200" y="58"/>
                            </a:lnTo>
                            <a:lnTo>
                              <a:pt x="204" y="55"/>
                            </a:lnTo>
                            <a:lnTo>
                              <a:pt x="205" y="50"/>
                            </a:lnTo>
                            <a:lnTo>
                              <a:pt x="206" y="45"/>
                            </a:lnTo>
                            <a:lnTo>
                              <a:pt x="205" y="40"/>
                            </a:lnTo>
                            <a:lnTo>
                              <a:pt x="204" y="36"/>
                            </a:lnTo>
                            <a:lnTo>
                              <a:pt x="200" y="31"/>
                            </a:lnTo>
                            <a:lnTo>
                              <a:pt x="197" y="27"/>
                            </a:lnTo>
                            <a:lnTo>
                              <a:pt x="192" y="22"/>
                            </a:lnTo>
                            <a:lnTo>
                              <a:pt x="187" y="19"/>
                            </a:lnTo>
                            <a:lnTo>
                              <a:pt x="182" y="15"/>
                            </a:lnTo>
                            <a:lnTo>
                              <a:pt x="175" y="13"/>
                            </a:lnTo>
                            <a:lnTo>
                              <a:pt x="168" y="8"/>
                            </a:lnTo>
                            <a:lnTo>
                              <a:pt x="160" y="6"/>
                            </a:lnTo>
                            <a:lnTo>
                              <a:pt x="156" y="5"/>
                            </a:lnTo>
                            <a:lnTo>
                              <a:pt x="151" y="3"/>
                            </a:lnTo>
                            <a:lnTo>
                              <a:pt x="147" y="2"/>
                            </a:lnTo>
                            <a:lnTo>
                              <a:pt x="143" y="2"/>
                            </a:lnTo>
                            <a:lnTo>
                              <a:pt x="137" y="1"/>
                            </a:lnTo>
                            <a:lnTo>
                              <a:pt x="132" y="0"/>
                            </a:lnTo>
                            <a:lnTo>
                              <a:pt x="127" y="0"/>
                            </a:lnTo>
                            <a:lnTo>
                              <a:pt x="123" y="0"/>
                            </a:lnTo>
                            <a:lnTo>
                              <a:pt x="118" y="0"/>
                            </a:lnTo>
                            <a:lnTo>
                              <a:pt x="113" y="0"/>
                            </a:lnTo>
                            <a:lnTo>
                              <a:pt x="108" y="0"/>
                            </a:lnTo>
                            <a:lnTo>
                              <a:pt x="104" y="0"/>
                            </a:lnTo>
                            <a:lnTo>
                              <a:pt x="96" y="0"/>
                            </a:lnTo>
                            <a:lnTo>
                              <a:pt x="92" y="0"/>
                            </a:lnTo>
                            <a:lnTo>
                              <a:pt x="86" y="0"/>
                            </a:lnTo>
                            <a:lnTo>
                              <a:pt x="81" y="0"/>
                            </a:lnTo>
                            <a:lnTo>
                              <a:pt x="77" y="0"/>
                            </a:lnTo>
                            <a:lnTo>
                              <a:pt x="73" y="0"/>
                            </a:lnTo>
                            <a:lnTo>
                              <a:pt x="68" y="1"/>
                            </a:lnTo>
                            <a:lnTo>
                              <a:pt x="63" y="2"/>
                            </a:lnTo>
                            <a:lnTo>
                              <a:pt x="58" y="2"/>
                            </a:lnTo>
                            <a:lnTo>
                              <a:pt x="53" y="3"/>
                            </a:lnTo>
                            <a:lnTo>
                              <a:pt x="49" y="5"/>
                            </a:lnTo>
                            <a:lnTo>
                              <a:pt x="45" y="6"/>
                            </a:lnTo>
                            <a:lnTo>
                              <a:pt x="40" y="7"/>
                            </a:lnTo>
                            <a:lnTo>
                              <a:pt x="37" y="8"/>
                            </a:lnTo>
                            <a:lnTo>
                              <a:pt x="33" y="11"/>
                            </a:lnTo>
                            <a:lnTo>
                              <a:pt x="30" y="13"/>
                            </a:lnTo>
                            <a:lnTo>
                              <a:pt x="22" y="15"/>
                            </a:lnTo>
                            <a:lnTo>
                              <a:pt x="16" y="19"/>
                            </a:lnTo>
                            <a:lnTo>
                              <a:pt x="12" y="22"/>
                            </a:lnTo>
                            <a:lnTo>
                              <a:pt x="7" y="27"/>
                            </a:lnTo>
                            <a:lnTo>
                              <a:pt x="3" y="31"/>
                            </a:lnTo>
                            <a:lnTo>
                              <a:pt x="1" y="36"/>
                            </a:lnTo>
                            <a:lnTo>
                              <a:pt x="0" y="40"/>
                            </a:lnTo>
                            <a:lnTo>
                              <a:pt x="0" y="45"/>
                            </a:lnTo>
                            <a:lnTo>
                              <a:pt x="0" y="50"/>
                            </a:lnTo>
                            <a:lnTo>
                              <a:pt x="1" y="55"/>
                            </a:lnTo>
                            <a:lnTo>
                              <a:pt x="3" y="58"/>
                            </a:lnTo>
                            <a:lnTo>
                              <a:pt x="7" y="63"/>
                            </a:lnTo>
                            <a:lnTo>
                              <a:pt x="12" y="66"/>
                            </a:lnTo>
                            <a:lnTo>
                              <a:pt x="16" y="71"/>
                            </a:lnTo>
                            <a:lnTo>
                              <a:pt x="22" y="75"/>
                            </a:lnTo>
                            <a:lnTo>
                              <a:pt x="30" y="78"/>
                            </a:lnTo>
                            <a:lnTo>
                              <a:pt x="33" y="80"/>
                            </a:lnTo>
                            <a:lnTo>
                              <a:pt x="37" y="81"/>
                            </a:lnTo>
                            <a:lnTo>
                              <a:pt x="40" y="82"/>
                            </a:lnTo>
                            <a:lnTo>
                              <a:pt x="45" y="84"/>
                            </a:lnTo>
                            <a:lnTo>
                              <a:pt x="49" y="84"/>
                            </a:lnTo>
                            <a:lnTo>
                              <a:pt x="53" y="87"/>
                            </a:lnTo>
                            <a:lnTo>
                              <a:pt x="58" y="87"/>
                            </a:lnTo>
                            <a:lnTo>
                              <a:pt x="63" y="89"/>
                            </a:lnTo>
                            <a:lnTo>
                              <a:pt x="68" y="89"/>
                            </a:lnTo>
                            <a:lnTo>
                              <a:pt x="73" y="89"/>
                            </a:lnTo>
                            <a:lnTo>
                              <a:pt x="77" y="90"/>
                            </a:lnTo>
                            <a:lnTo>
                              <a:pt x="81" y="92"/>
                            </a:lnTo>
                            <a:lnTo>
                              <a:pt x="86" y="92"/>
                            </a:lnTo>
                            <a:lnTo>
                              <a:pt x="92" y="92"/>
                            </a:lnTo>
                            <a:lnTo>
                              <a:pt x="96" y="92"/>
                            </a:lnTo>
                            <a:lnTo>
                              <a:pt x="104" y="93"/>
                            </a:lnTo>
                            <a:lnTo>
                              <a:pt x="104" y="9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3687840" y="4373640"/>
                        <a:ext cx="2448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88">
                            <a:moveTo>
                              <a:pt x="79" y="88"/>
                            </a:moveTo>
                            <a:lnTo>
                              <a:pt x="87" y="87"/>
                            </a:lnTo>
                            <a:lnTo>
                              <a:pt x="95" y="86"/>
                            </a:lnTo>
                            <a:lnTo>
                              <a:pt x="102" y="85"/>
                            </a:lnTo>
                            <a:lnTo>
                              <a:pt x="109" y="84"/>
                            </a:lnTo>
                            <a:lnTo>
                              <a:pt x="116" y="81"/>
                            </a:lnTo>
                            <a:lnTo>
                              <a:pt x="123" y="79"/>
                            </a:lnTo>
                            <a:lnTo>
                              <a:pt x="128" y="78"/>
                            </a:lnTo>
                            <a:lnTo>
                              <a:pt x="135" y="75"/>
                            </a:lnTo>
                            <a:lnTo>
                              <a:pt x="140" y="71"/>
                            </a:lnTo>
                            <a:lnTo>
                              <a:pt x="143" y="68"/>
                            </a:lnTo>
                            <a:lnTo>
                              <a:pt x="147" y="63"/>
                            </a:lnTo>
                            <a:lnTo>
                              <a:pt x="151" y="61"/>
                            </a:lnTo>
                            <a:lnTo>
                              <a:pt x="153" y="56"/>
                            </a:lnTo>
                            <a:lnTo>
                              <a:pt x="155" y="53"/>
                            </a:lnTo>
                            <a:lnTo>
                              <a:pt x="157" y="48"/>
                            </a:lnTo>
                            <a:lnTo>
                              <a:pt x="158" y="44"/>
                            </a:lnTo>
                            <a:lnTo>
                              <a:pt x="157" y="40"/>
                            </a:lnTo>
                            <a:lnTo>
                              <a:pt x="155" y="35"/>
                            </a:lnTo>
                            <a:lnTo>
                              <a:pt x="153" y="30"/>
                            </a:lnTo>
                            <a:lnTo>
                              <a:pt x="151" y="27"/>
                            </a:lnTo>
                            <a:lnTo>
                              <a:pt x="147" y="22"/>
                            </a:lnTo>
                            <a:lnTo>
                              <a:pt x="143" y="18"/>
                            </a:lnTo>
                            <a:lnTo>
                              <a:pt x="140" y="15"/>
                            </a:lnTo>
                            <a:lnTo>
                              <a:pt x="135" y="12"/>
                            </a:lnTo>
                            <a:lnTo>
                              <a:pt x="128" y="10"/>
                            </a:lnTo>
                            <a:lnTo>
                              <a:pt x="123" y="7"/>
                            </a:lnTo>
                            <a:lnTo>
                              <a:pt x="116" y="5"/>
                            </a:lnTo>
                            <a:lnTo>
                              <a:pt x="109" y="3"/>
                            </a:lnTo>
                            <a:lnTo>
                              <a:pt x="102" y="0"/>
                            </a:lnTo>
                            <a:lnTo>
                              <a:pt x="95" y="0"/>
                            </a:lnTo>
                            <a:lnTo>
                              <a:pt x="87" y="0"/>
                            </a:lnTo>
                            <a:lnTo>
                              <a:pt x="79" y="0"/>
                            </a:lnTo>
                            <a:lnTo>
                              <a:pt x="71" y="0"/>
                            </a:lnTo>
                            <a:lnTo>
                              <a:pt x="64" y="0"/>
                            </a:lnTo>
                            <a:lnTo>
                              <a:pt x="55" y="0"/>
                            </a:lnTo>
                            <a:lnTo>
                              <a:pt x="48" y="3"/>
                            </a:lnTo>
                            <a:lnTo>
                              <a:pt x="41" y="5"/>
                            </a:lnTo>
                            <a:lnTo>
                              <a:pt x="35" y="7"/>
                            </a:lnTo>
                            <a:lnTo>
                              <a:pt x="28" y="10"/>
                            </a:lnTo>
                            <a:lnTo>
                              <a:pt x="24" y="12"/>
                            </a:lnTo>
                            <a:lnTo>
                              <a:pt x="17" y="15"/>
                            </a:lnTo>
                            <a:lnTo>
                              <a:pt x="13" y="18"/>
                            </a:lnTo>
                            <a:lnTo>
                              <a:pt x="9" y="22"/>
                            </a:lnTo>
                            <a:lnTo>
                              <a:pt x="6" y="27"/>
                            </a:lnTo>
                            <a:lnTo>
                              <a:pt x="3" y="30"/>
                            </a:lnTo>
                            <a:lnTo>
                              <a:pt x="1" y="35"/>
                            </a:lnTo>
                            <a:lnTo>
                              <a:pt x="0" y="40"/>
                            </a:lnTo>
                            <a:lnTo>
                              <a:pt x="0" y="44"/>
                            </a:lnTo>
                            <a:lnTo>
                              <a:pt x="0" y="48"/>
                            </a:lnTo>
                            <a:lnTo>
                              <a:pt x="1" y="53"/>
                            </a:lnTo>
                            <a:lnTo>
                              <a:pt x="3" y="56"/>
                            </a:lnTo>
                            <a:lnTo>
                              <a:pt x="6" y="61"/>
                            </a:lnTo>
                            <a:lnTo>
                              <a:pt x="9" y="63"/>
                            </a:lnTo>
                            <a:lnTo>
                              <a:pt x="13" y="68"/>
                            </a:lnTo>
                            <a:lnTo>
                              <a:pt x="17" y="71"/>
                            </a:lnTo>
                            <a:lnTo>
                              <a:pt x="24" y="75"/>
                            </a:lnTo>
                            <a:lnTo>
                              <a:pt x="28" y="78"/>
                            </a:lnTo>
                            <a:lnTo>
                              <a:pt x="35" y="79"/>
                            </a:lnTo>
                            <a:lnTo>
                              <a:pt x="41" y="81"/>
                            </a:lnTo>
                            <a:lnTo>
                              <a:pt x="48" y="84"/>
                            </a:lnTo>
                            <a:lnTo>
                              <a:pt x="55" y="85"/>
                            </a:lnTo>
                            <a:lnTo>
                              <a:pt x="64" y="86"/>
                            </a:lnTo>
                            <a:lnTo>
                              <a:pt x="71" y="87"/>
                            </a:lnTo>
                            <a:lnTo>
                              <a:pt x="79" y="88"/>
                            </a:lnTo>
                            <a:lnTo>
                              <a:pt x="79" y="88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3630600" y="4377240"/>
                        <a:ext cx="255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88">
                            <a:moveTo>
                              <a:pt x="79" y="88"/>
                            </a:moveTo>
                            <a:lnTo>
                              <a:pt x="86" y="87"/>
                            </a:lnTo>
                            <a:lnTo>
                              <a:pt x="94" y="87"/>
                            </a:lnTo>
                            <a:lnTo>
                              <a:pt x="101" y="86"/>
                            </a:lnTo>
                            <a:lnTo>
                              <a:pt x="109" y="85"/>
                            </a:lnTo>
                            <a:lnTo>
                              <a:pt x="115" y="82"/>
                            </a:lnTo>
                            <a:lnTo>
                              <a:pt x="122" y="80"/>
                            </a:lnTo>
                            <a:lnTo>
                              <a:pt x="128" y="78"/>
                            </a:lnTo>
                            <a:lnTo>
                              <a:pt x="134" y="75"/>
                            </a:lnTo>
                            <a:lnTo>
                              <a:pt x="138" y="72"/>
                            </a:lnTo>
                            <a:lnTo>
                              <a:pt x="143" y="68"/>
                            </a:lnTo>
                            <a:lnTo>
                              <a:pt x="147" y="65"/>
                            </a:lnTo>
                            <a:lnTo>
                              <a:pt x="150" y="61"/>
                            </a:lnTo>
                            <a:lnTo>
                              <a:pt x="153" y="57"/>
                            </a:lnTo>
                            <a:lnTo>
                              <a:pt x="155" y="53"/>
                            </a:lnTo>
                            <a:lnTo>
                              <a:pt x="156" y="48"/>
                            </a:lnTo>
                            <a:lnTo>
                              <a:pt x="158" y="44"/>
                            </a:lnTo>
                            <a:lnTo>
                              <a:pt x="156" y="40"/>
                            </a:lnTo>
                            <a:lnTo>
                              <a:pt x="155" y="35"/>
                            </a:lnTo>
                            <a:lnTo>
                              <a:pt x="153" y="31"/>
                            </a:lnTo>
                            <a:lnTo>
                              <a:pt x="150" y="26"/>
                            </a:lnTo>
                            <a:lnTo>
                              <a:pt x="147" y="22"/>
                            </a:lnTo>
                            <a:lnTo>
                              <a:pt x="143" y="19"/>
                            </a:lnTo>
                            <a:lnTo>
                              <a:pt x="138" y="16"/>
                            </a:lnTo>
                            <a:lnTo>
                              <a:pt x="134" y="13"/>
                            </a:lnTo>
                            <a:lnTo>
                              <a:pt x="128" y="9"/>
                            </a:lnTo>
                            <a:lnTo>
                              <a:pt x="122" y="6"/>
                            </a:lnTo>
                            <a:lnTo>
                              <a:pt x="115" y="5"/>
                            </a:lnTo>
                            <a:lnTo>
                              <a:pt x="109" y="3"/>
                            </a:lnTo>
                            <a:lnTo>
                              <a:pt x="101" y="0"/>
                            </a:lnTo>
                            <a:lnTo>
                              <a:pt x="94" y="0"/>
                            </a:lnTo>
                            <a:lnTo>
                              <a:pt x="86" y="0"/>
                            </a:lnTo>
                            <a:lnTo>
                              <a:pt x="79" y="0"/>
                            </a:lnTo>
                            <a:lnTo>
                              <a:pt x="70" y="0"/>
                            </a:lnTo>
                            <a:lnTo>
                              <a:pt x="62" y="0"/>
                            </a:lnTo>
                            <a:lnTo>
                              <a:pt x="55" y="0"/>
                            </a:lnTo>
                            <a:lnTo>
                              <a:pt x="48" y="3"/>
                            </a:lnTo>
                            <a:lnTo>
                              <a:pt x="41" y="5"/>
                            </a:lnTo>
                            <a:lnTo>
                              <a:pt x="33" y="6"/>
                            </a:lnTo>
                            <a:lnTo>
                              <a:pt x="27" y="9"/>
                            </a:lnTo>
                            <a:lnTo>
                              <a:pt x="23" y="13"/>
                            </a:lnTo>
                            <a:lnTo>
                              <a:pt x="17" y="16"/>
                            </a:lnTo>
                            <a:lnTo>
                              <a:pt x="13" y="19"/>
                            </a:lnTo>
                            <a:lnTo>
                              <a:pt x="8" y="22"/>
                            </a:lnTo>
                            <a:lnTo>
                              <a:pt x="5" y="26"/>
                            </a:lnTo>
                            <a:lnTo>
                              <a:pt x="2" y="31"/>
                            </a:lnTo>
                            <a:lnTo>
                              <a:pt x="1" y="35"/>
                            </a:lnTo>
                            <a:lnTo>
                              <a:pt x="0" y="40"/>
                            </a:lnTo>
                            <a:lnTo>
                              <a:pt x="0" y="44"/>
                            </a:lnTo>
                            <a:lnTo>
                              <a:pt x="0" y="48"/>
                            </a:lnTo>
                            <a:lnTo>
                              <a:pt x="1" y="53"/>
                            </a:lnTo>
                            <a:lnTo>
                              <a:pt x="2" y="57"/>
                            </a:lnTo>
                            <a:lnTo>
                              <a:pt x="5" y="61"/>
                            </a:lnTo>
                            <a:lnTo>
                              <a:pt x="8" y="65"/>
                            </a:lnTo>
                            <a:lnTo>
                              <a:pt x="13" y="68"/>
                            </a:lnTo>
                            <a:lnTo>
                              <a:pt x="17" y="72"/>
                            </a:lnTo>
                            <a:lnTo>
                              <a:pt x="23" y="75"/>
                            </a:lnTo>
                            <a:lnTo>
                              <a:pt x="27" y="78"/>
                            </a:lnTo>
                            <a:lnTo>
                              <a:pt x="33" y="80"/>
                            </a:lnTo>
                            <a:lnTo>
                              <a:pt x="41" y="82"/>
                            </a:lnTo>
                            <a:lnTo>
                              <a:pt x="48" y="85"/>
                            </a:lnTo>
                            <a:lnTo>
                              <a:pt x="55" y="86"/>
                            </a:lnTo>
                            <a:lnTo>
                              <a:pt x="62" y="87"/>
                            </a:lnTo>
                            <a:lnTo>
                              <a:pt x="70" y="87"/>
                            </a:lnTo>
                            <a:lnTo>
                              <a:pt x="79" y="88"/>
                            </a:lnTo>
                            <a:lnTo>
                              <a:pt x="79" y="88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3511440" y="4354560"/>
                        <a:ext cx="128520" cy="65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4" h="463">
                            <a:moveTo>
                              <a:pt x="369" y="463"/>
                            </a:moveTo>
                            <a:lnTo>
                              <a:pt x="370" y="460"/>
                            </a:lnTo>
                            <a:lnTo>
                              <a:pt x="376" y="457"/>
                            </a:lnTo>
                            <a:lnTo>
                              <a:pt x="379" y="455"/>
                            </a:lnTo>
                            <a:lnTo>
                              <a:pt x="384" y="453"/>
                            </a:lnTo>
                            <a:lnTo>
                              <a:pt x="387" y="450"/>
                            </a:lnTo>
                            <a:lnTo>
                              <a:pt x="393" y="448"/>
                            </a:lnTo>
                            <a:lnTo>
                              <a:pt x="397" y="444"/>
                            </a:lnTo>
                            <a:lnTo>
                              <a:pt x="404" y="442"/>
                            </a:lnTo>
                            <a:lnTo>
                              <a:pt x="410" y="437"/>
                            </a:lnTo>
                            <a:lnTo>
                              <a:pt x="417" y="435"/>
                            </a:lnTo>
                            <a:lnTo>
                              <a:pt x="423" y="431"/>
                            </a:lnTo>
                            <a:lnTo>
                              <a:pt x="430" y="426"/>
                            </a:lnTo>
                            <a:lnTo>
                              <a:pt x="438" y="423"/>
                            </a:lnTo>
                            <a:lnTo>
                              <a:pt x="447" y="419"/>
                            </a:lnTo>
                            <a:lnTo>
                              <a:pt x="454" y="416"/>
                            </a:lnTo>
                            <a:lnTo>
                              <a:pt x="462" y="411"/>
                            </a:lnTo>
                            <a:lnTo>
                              <a:pt x="471" y="406"/>
                            </a:lnTo>
                            <a:lnTo>
                              <a:pt x="480" y="403"/>
                            </a:lnTo>
                            <a:lnTo>
                              <a:pt x="489" y="398"/>
                            </a:lnTo>
                            <a:lnTo>
                              <a:pt x="498" y="393"/>
                            </a:lnTo>
                            <a:lnTo>
                              <a:pt x="508" y="388"/>
                            </a:lnTo>
                            <a:lnTo>
                              <a:pt x="517" y="384"/>
                            </a:lnTo>
                            <a:lnTo>
                              <a:pt x="527" y="378"/>
                            </a:lnTo>
                            <a:lnTo>
                              <a:pt x="536" y="374"/>
                            </a:lnTo>
                            <a:lnTo>
                              <a:pt x="547" y="369"/>
                            </a:lnTo>
                            <a:lnTo>
                              <a:pt x="557" y="364"/>
                            </a:lnTo>
                            <a:lnTo>
                              <a:pt x="567" y="359"/>
                            </a:lnTo>
                            <a:lnTo>
                              <a:pt x="578" y="354"/>
                            </a:lnTo>
                            <a:lnTo>
                              <a:pt x="588" y="350"/>
                            </a:lnTo>
                            <a:lnTo>
                              <a:pt x="598" y="345"/>
                            </a:lnTo>
                            <a:lnTo>
                              <a:pt x="608" y="339"/>
                            </a:lnTo>
                            <a:lnTo>
                              <a:pt x="619" y="335"/>
                            </a:lnTo>
                            <a:lnTo>
                              <a:pt x="628" y="329"/>
                            </a:lnTo>
                            <a:lnTo>
                              <a:pt x="639" y="324"/>
                            </a:lnTo>
                            <a:lnTo>
                              <a:pt x="648" y="319"/>
                            </a:lnTo>
                            <a:lnTo>
                              <a:pt x="658" y="314"/>
                            </a:lnTo>
                            <a:lnTo>
                              <a:pt x="668" y="311"/>
                            </a:lnTo>
                            <a:lnTo>
                              <a:pt x="677" y="306"/>
                            </a:lnTo>
                            <a:lnTo>
                              <a:pt x="685" y="301"/>
                            </a:lnTo>
                            <a:lnTo>
                              <a:pt x="695" y="297"/>
                            </a:lnTo>
                            <a:lnTo>
                              <a:pt x="705" y="292"/>
                            </a:lnTo>
                            <a:lnTo>
                              <a:pt x="714" y="288"/>
                            </a:lnTo>
                            <a:lnTo>
                              <a:pt x="722" y="283"/>
                            </a:lnTo>
                            <a:lnTo>
                              <a:pt x="731" y="280"/>
                            </a:lnTo>
                            <a:lnTo>
                              <a:pt x="738" y="275"/>
                            </a:lnTo>
                            <a:lnTo>
                              <a:pt x="746" y="273"/>
                            </a:lnTo>
                            <a:lnTo>
                              <a:pt x="753" y="268"/>
                            </a:lnTo>
                            <a:lnTo>
                              <a:pt x="761" y="264"/>
                            </a:lnTo>
                            <a:lnTo>
                              <a:pt x="767" y="261"/>
                            </a:lnTo>
                            <a:lnTo>
                              <a:pt x="774" y="258"/>
                            </a:lnTo>
                            <a:lnTo>
                              <a:pt x="779" y="256"/>
                            </a:lnTo>
                            <a:lnTo>
                              <a:pt x="785" y="254"/>
                            </a:lnTo>
                            <a:lnTo>
                              <a:pt x="790" y="251"/>
                            </a:lnTo>
                            <a:lnTo>
                              <a:pt x="795" y="249"/>
                            </a:lnTo>
                            <a:lnTo>
                              <a:pt x="802" y="244"/>
                            </a:lnTo>
                            <a:lnTo>
                              <a:pt x="808" y="243"/>
                            </a:lnTo>
                            <a:lnTo>
                              <a:pt x="812" y="241"/>
                            </a:lnTo>
                            <a:lnTo>
                              <a:pt x="814" y="241"/>
                            </a:lnTo>
                            <a:lnTo>
                              <a:pt x="641" y="0"/>
                            </a:lnTo>
                            <a:lnTo>
                              <a:pt x="0" y="18"/>
                            </a:lnTo>
                            <a:lnTo>
                              <a:pt x="73" y="460"/>
                            </a:lnTo>
                            <a:lnTo>
                              <a:pt x="369" y="463"/>
                            </a:lnTo>
                            <a:lnTo>
                              <a:pt x="369" y="463"/>
                            </a:lnTo>
                            <a:close/>
                          </a:path>
                        </a:pathLst>
                      </a:custGeom>
                      <a:solidFill>
                        <a:srgbClr val="4a69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720" bIns="18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3403440" y="4185000"/>
                        <a:ext cx="85320" cy="12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7" h="915">
                            <a:moveTo>
                              <a:pt x="0" y="915"/>
                            </a:moveTo>
                            <a:lnTo>
                              <a:pt x="537" y="915"/>
                            </a:lnTo>
                            <a:lnTo>
                              <a:pt x="537" y="0"/>
                            </a:lnTo>
                            <a:lnTo>
                              <a:pt x="0" y="0"/>
                            </a:lnTo>
                            <a:lnTo>
                              <a:pt x="0" y="915"/>
                            </a:lnTo>
                            <a:lnTo>
                              <a:pt x="0" y="915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3413520" y="4198320"/>
                        <a:ext cx="6516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6" h="738">
                            <a:moveTo>
                              <a:pt x="0" y="738"/>
                            </a:moveTo>
                            <a:lnTo>
                              <a:pt x="416" y="738"/>
                            </a:lnTo>
                            <a:lnTo>
                              <a:pt x="416" y="0"/>
                            </a:lnTo>
                            <a:lnTo>
                              <a:pt x="0" y="0"/>
                            </a:lnTo>
                            <a:lnTo>
                              <a:pt x="0" y="738"/>
                            </a:lnTo>
                            <a:lnTo>
                              <a:pt x="0" y="738"/>
                            </a:lnTo>
                            <a:close/>
                          </a:path>
                        </a:pathLst>
                      </a:custGeom>
                      <a:solidFill>
                        <a:srgbClr val="e0f5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" name=""/>
                      <p:cNvSpPr/>
                      <p:nvPr/>
                    </p:nvSpPr>
                    <p:spPr>
                      <a:xfrm>
                        <a:off x="3417840" y="4232160"/>
                        <a:ext cx="5364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9" h="241">
                            <a:moveTo>
                              <a:pt x="170" y="241"/>
                            </a:moveTo>
                            <a:lnTo>
                              <a:pt x="177" y="241"/>
                            </a:lnTo>
                            <a:lnTo>
                              <a:pt x="185" y="240"/>
                            </a:lnTo>
                            <a:lnTo>
                              <a:pt x="190" y="240"/>
                            </a:lnTo>
                            <a:lnTo>
                              <a:pt x="195" y="240"/>
                            </a:lnTo>
                            <a:lnTo>
                              <a:pt x="198" y="239"/>
                            </a:lnTo>
                            <a:lnTo>
                              <a:pt x="203" y="239"/>
                            </a:lnTo>
                            <a:lnTo>
                              <a:pt x="210" y="238"/>
                            </a:lnTo>
                            <a:lnTo>
                              <a:pt x="219" y="236"/>
                            </a:lnTo>
                            <a:lnTo>
                              <a:pt x="227" y="233"/>
                            </a:lnTo>
                            <a:lnTo>
                              <a:pt x="235" y="232"/>
                            </a:lnTo>
                            <a:lnTo>
                              <a:pt x="242" y="228"/>
                            </a:lnTo>
                            <a:lnTo>
                              <a:pt x="248" y="227"/>
                            </a:lnTo>
                            <a:lnTo>
                              <a:pt x="256" y="224"/>
                            </a:lnTo>
                            <a:lnTo>
                              <a:pt x="264" y="220"/>
                            </a:lnTo>
                            <a:lnTo>
                              <a:pt x="270" y="216"/>
                            </a:lnTo>
                            <a:lnTo>
                              <a:pt x="277" y="213"/>
                            </a:lnTo>
                            <a:lnTo>
                              <a:pt x="283" y="209"/>
                            </a:lnTo>
                            <a:lnTo>
                              <a:pt x="289" y="207"/>
                            </a:lnTo>
                            <a:lnTo>
                              <a:pt x="295" y="202"/>
                            </a:lnTo>
                            <a:lnTo>
                              <a:pt x="300" y="197"/>
                            </a:lnTo>
                            <a:lnTo>
                              <a:pt x="304" y="193"/>
                            </a:lnTo>
                            <a:lnTo>
                              <a:pt x="309" y="188"/>
                            </a:lnTo>
                            <a:lnTo>
                              <a:pt x="313" y="183"/>
                            </a:lnTo>
                            <a:lnTo>
                              <a:pt x="318" y="177"/>
                            </a:lnTo>
                            <a:lnTo>
                              <a:pt x="321" y="172"/>
                            </a:lnTo>
                            <a:lnTo>
                              <a:pt x="325" y="168"/>
                            </a:lnTo>
                            <a:lnTo>
                              <a:pt x="327" y="162"/>
                            </a:lnTo>
                            <a:lnTo>
                              <a:pt x="331" y="156"/>
                            </a:lnTo>
                            <a:lnTo>
                              <a:pt x="333" y="150"/>
                            </a:lnTo>
                            <a:lnTo>
                              <a:pt x="335" y="145"/>
                            </a:lnTo>
                            <a:lnTo>
                              <a:pt x="335" y="139"/>
                            </a:lnTo>
                            <a:lnTo>
                              <a:pt x="338" y="133"/>
                            </a:lnTo>
                            <a:lnTo>
                              <a:pt x="338" y="126"/>
                            </a:lnTo>
                            <a:lnTo>
                              <a:pt x="339" y="121"/>
                            </a:lnTo>
                            <a:lnTo>
                              <a:pt x="338" y="114"/>
                            </a:lnTo>
                            <a:lnTo>
                              <a:pt x="338" y="108"/>
                            </a:lnTo>
                            <a:lnTo>
                              <a:pt x="335" y="102"/>
                            </a:lnTo>
                            <a:lnTo>
                              <a:pt x="335" y="95"/>
                            </a:lnTo>
                            <a:lnTo>
                              <a:pt x="333" y="89"/>
                            </a:lnTo>
                            <a:lnTo>
                              <a:pt x="331" y="84"/>
                            </a:lnTo>
                            <a:lnTo>
                              <a:pt x="327" y="78"/>
                            </a:lnTo>
                            <a:lnTo>
                              <a:pt x="325" y="74"/>
                            </a:lnTo>
                            <a:lnTo>
                              <a:pt x="321" y="68"/>
                            </a:lnTo>
                            <a:lnTo>
                              <a:pt x="318" y="62"/>
                            </a:lnTo>
                            <a:lnTo>
                              <a:pt x="313" y="57"/>
                            </a:lnTo>
                            <a:lnTo>
                              <a:pt x="309" y="52"/>
                            </a:lnTo>
                            <a:lnTo>
                              <a:pt x="304" y="47"/>
                            </a:lnTo>
                            <a:lnTo>
                              <a:pt x="300" y="43"/>
                            </a:lnTo>
                            <a:lnTo>
                              <a:pt x="295" y="39"/>
                            </a:lnTo>
                            <a:lnTo>
                              <a:pt x="289" y="34"/>
                            </a:lnTo>
                            <a:lnTo>
                              <a:pt x="283" y="29"/>
                            </a:lnTo>
                            <a:lnTo>
                              <a:pt x="277" y="26"/>
                            </a:lnTo>
                            <a:lnTo>
                              <a:pt x="270" y="22"/>
                            </a:lnTo>
                            <a:lnTo>
                              <a:pt x="264" y="19"/>
                            </a:lnTo>
                            <a:lnTo>
                              <a:pt x="256" y="15"/>
                            </a:lnTo>
                            <a:lnTo>
                              <a:pt x="248" y="13"/>
                            </a:lnTo>
                            <a:lnTo>
                              <a:pt x="242" y="10"/>
                            </a:lnTo>
                            <a:lnTo>
                              <a:pt x="235" y="8"/>
                            </a:lnTo>
                            <a:lnTo>
                              <a:pt x="227" y="6"/>
                            </a:lnTo>
                            <a:lnTo>
                              <a:pt x="219" y="3"/>
                            </a:lnTo>
                            <a:lnTo>
                              <a:pt x="210" y="2"/>
                            </a:lnTo>
                            <a:lnTo>
                              <a:pt x="203" y="2"/>
                            </a:lnTo>
                            <a:lnTo>
                              <a:pt x="198" y="1"/>
                            </a:lnTo>
                            <a:lnTo>
                              <a:pt x="195" y="0"/>
                            </a:lnTo>
                            <a:lnTo>
                              <a:pt x="190" y="0"/>
                            </a:lnTo>
                            <a:lnTo>
                              <a:pt x="185" y="0"/>
                            </a:lnTo>
                            <a:lnTo>
                              <a:pt x="177" y="0"/>
                            </a:lnTo>
                            <a:lnTo>
                              <a:pt x="170" y="0"/>
                            </a:lnTo>
                            <a:lnTo>
                              <a:pt x="165" y="0"/>
                            </a:lnTo>
                            <a:lnTo>
                              <a:pt x="160" y="0"/>
                            </a:lnTo>
                            <a:lnTo>
                              <a:pt x="155" y="0"/>
                            </a:lnTo>
                            <a:lnTo>
                              <a:pt x="152" y="0"/>
                            </a:lnTo>
                            <a:lnTo>
                              <a:pt x="143" y="0"/>
                            </a:lnTo>
                            <a:lnTo>
                              <a:pt x="135" y="2"/>
                            </a:lnTo>
                            <a:lnTo>
                              <a:pt x="131" y="2"/>
                            </a:lnTo>
                            <a:lnTo>
                              <a:pt x="127" y="2"/>
                            </a:lnTo>
                            <a:lnTo>
                              <a:pt x="122" y="3"/>
                            </a:lnTo>
                            <a:lnTo>
                              <a:pt x="118" y="3"/>
                            </a:lnTo>
                            <a:lnTo>
                              <a:pt x="111" y="6"/>
                            </a:lnTo>
                            <a:lnTo>
                              <a:pt x="104" y="8"/>
                            </a:lnTo>
                            <a:lnTo>
                              <a:pt x="96" y="10"/>
                            </a:lnTo>
                            <a:lnTo>
                              <a:pt x="88" y="13"/>
                            </a:lnTo>
                            <a:lnTo>
                              <a:pt x="81" y="15"/>
                            </a:lnTo>
                            <a:lnTo>
                              <a:pt x="74" y="19"/>
                            </a:lnTo>
                            <a:lnTo>
                              <a:pt x="67" y="22"/>
                            </a:lnTo>
                            <a:lnTo>
                              <a:pt x="61" y="26"/>
                            </a:lnTo>
                            <a:lnTo>
                              <a:pt x="55" y="29"/>
                            </a:lnTo>
                            <a:lnTo>
                              <a:pt x="50" y="34"/>
                            </a:lnTo>
                            <a:lnTo>
                              <a:pt x="43" y="39"/>
                            </a:lnTo>
                            <a:lnTo>
                              <a:pt x="38" y="43"/>
                            </a:lnTo>
                            <a:lnTo>
                              <a:pt x="34" y="47"/>
                            </a:lnTo>
                            <a:lnTo>
                              <a:pt x="29" y="52"/>
                            </a:lnTo>
                            <a:lnTo>
                              <a:pt x="24" y="57"/>
                            </a:lnTo>
                            <a:lnTo>
                              <a:pt x="19" y="62"/>
                            </a:lnTo>
                            <a:lnTo>
                              <a:pt x="16" y="68"/>
                            </a:lnTo>
                            <a:lnTo>
                              <a:pt x="13" y="74"/>
                            </a:lnTo>
                            <a:lnTo>
                              <a:pt x="10" y="78"/>
                            </a:lnTo>
                            <a:lnTo>
                              <a:pt x="7" y="84"/>
                            </a:lnTo>
                            <a:lnTo>
                              <a:pt x="5" y="89"/>
                            </a:lnTo>
                            <a:lnTo>
                              <a:pt x="4" y="95"/>
                            </a:lnTo>
                            <a:lnTo>
                              <a:pt x="1" y="102"/>
                            </a:lnTo>
                            <a:lnTo>
                              <a:pt x="0" y="108"/>
                            </a:lnTo>
                            <a:lnTo>
                              <a:pt x="0" y="114"/>
                            </a:lnTo>
                            <a:lnTo>
                              <a:pt x="0" y="121"/>
                            </a:lnTo>
                            <a:lnTo>
                              <a:pt x="0" y="126"/>
                            </a:lnTo>
                            <a:lnTo>
                              <a:pt x="0" y="133"/>
                            </a:lnTo>
                            <a:lnTo>
                              <a:pt x="1" y="139"/>
                            </a:lnTo>
                            <a:lnTo>
                              <a:pt x="4" y="145"/>
                            </a:lnTo>
                            <a:lnTo>
                              <a:pt x="5" y="150"/>
                            </a:lnTo>
                            <a:lnTo>
                              <a:pt x="7" y="156"/>
                            </a:lnTo>
                            <a:lnTo>
                              <a:pt x="10" y="162"/>
                            </a:lnTo>
                            <a:lnTo>
                              <a:pt x="13" y="168"/>
                            </a:lnTo>
                            <a:lnTo>
                              <a:pt x="16" y="172"/>
                            </a:lnTo>
                            <a:lnTo>
                              <a:pt x="19" y="177"/>
                            </a:lnTo>
                            <a:lnTo>
                              <a:pt x="24" y="183"/>
                            </a:lnTo>
                            <a:lnTo>
                              <a:pt x="29" y="188"/>
                            </a:lnTo>
                            <a:lnTo>
                              <a:pt x="34" y="193"/>
                            </a:lnTo>
                            <a:lnTo>
                              <a:pt x="38" y="197"/>
                            </a:lnTo>
                            <a:lnTo>
                              <a:pt x="43" y="202"/>
                            </a:lnTo>
                            <a:lnTo>
                              <a:pt x="50" y="207"/>
                            </a:lnTo>
                            <a:lnTo>
                              <a:pt x="55" y="209"/>
                            </a:lnTo>
                            <a:lnTo>
                              <a:pt x="61" y="213"/>
                            </a:lnTo>
                            <a:lnTo>
                              <a:pt x="67" y="216"/>
                            </a:lnTo>
                            <a:lnTo>
                              <a:pt x="74" y="220"/>
                            </a:lnTo>
                            <a:lnTo>
                              <a:pt x="81" y="224"/>
                            </a:lnTo>
                            <a:lnTo>
                              <a:pt x="88" y="227"/>
                            </a:lnTo>
                            <a:lnTo>
                              <a:pt x="96" y="228"/>
                            </a:lnTo>
                            <a:lnTo>
                              <a:pt x="104" y="232"/>
                            </a:lnTo>
                            <a:lnTo>
                              <a:pt x="111" y="233"/>
                            </a:lnTo>
                            <a:lnTo>
                              <a:pt x="118" y="236"/>
                            </a:lnTo>
                            <a:lnTo>
                              <a:pt x="122" y="236"/>
                            </a:lnTo>
                            <a:lnTo>
                              <a:pt x="127" y="238"/>
                            </a:lnTo>
                            <a:lnTo>
                              <a:pt x="131" y="238"/>
                            </a:lnTo>
                            <a:lnTo>
                              <a:pt x="135" y="239"/>
                            </a:lnTo>
                            <a:lnTo>
                              <a:pt x="143" y="240"/>
                            </a:lnTo>
                            <a:lnTo>
                              <a:pt x="152" y="240"/>
                            </a:lnTo>
                            <a:lnTo>
                              <a:pt x="155" y="240"/>
                            </a:lnTo>
                            <a:lnTo>
                              <a:pt x="160" y="241"/>
                            </a:lnTo>
                            <a:lnTo>
                              <a:pt x="165" y="241"/>
                            </a:lnTo>
                            <a:lnTo>
                              <a:pt x="170" y="241"/>
                            </a:lnTo>
                            <a:lnTo>
                              <a:pt x="170" y="24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3409200" y="4192920"/>
                        <a:ext cx="3276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4" h="94">
                            <a:moveTo>
                              <a:pt x="103" y="94"/>
                            </a:moveTo>
                            <a:lnTo>
                              <a:pt x="108" y="93"/>
                            </a:lnTo>
                            <a:lnTo>
                              <a:pt x="114" y="93"/>
                            </a:lnTo>
                            <a:lnTo>
                              <a:pt x="117" y="92"/>
                            </a:lnTo>
                            <a:lnTo>
                              <a:pt x="123" y="92"/>
                            </a:lnTo>
                            <a:lnTo>
                              <a:pt x="128" y="92"/>
                            </a:lnTo>
                            <a:lnTo>
                              <a:pt x="133" y="91"/>
                            </a:lnTo>
                            <a:lnTo>
                              <a:pt x="138" y="89"/>
                            </a:lnTo>
                            <a:lnTo>
                              <a:pt x="142" y="89"/>
                            </a:lnTo>
                            <a:lnTo>
                              <a:pt x="146" y="88"/>
                            </a:lnTo>
                            <a:lnTo>
                              <a:pt x="151" y="87"/>
                            </a:lnTo>
                            <a:lnTo>
                              <a:pt x="154" y="86"/>
                            </a:lnTo>
                            <a:lnTo>
                              <a:pt x="159" y="85"/>
                            </a:lnTo>
                            <a:lnTo>
                              <a:pt x="167" y="82"/>
                            </a:lnTo>
                            <a:lnTo>
                              <a:pt x="175" y="80"/>
                            </a:lnTo>
                            <a:lnTo>
                              <a:pt x="181" y="76"/>
                            </a:lnTo>
                            <a:lnTo>
                              <a:pt x="187" y="73"/>
                            </a:lnTo>
                            <a:lnTo>
                              <a:pt x="191" y="68"/>
                            </a:lnTo>
                            <a:lnTo>
                              <a:pt x="196" y="64"/>
                            </a:lnTo>
                            <a:lnTo>
                              <a:pt x="200" y="60"/>
                            </a:lnTo>
                            <a:lnTo>
                              <a:pt x="203" y="56"/>
                            </a:lnTo>
                            <a:lnTo>
                              <a:pt x="204" y="51"/>
                            </a:lnTo>
                            <a:lnTo>
                              <a:pt x="204" y="48"/>
                            </a:lnTo>
                            <a:lnTo>
                              <a:pt x="204" y="42"/>
                            </a:lnTo>
                            <a:lnTo>
                              <a:pt x="203" y="37"/>
                            </a:lnTo>
                            <a:lnTo>
                              <a:pt x="200" y="33"/>
                            </a:lnTo>
                            <a:lnTo>
                              <a:pt x="196" y="29"/>
                            </a:lnTo>
                            <a:lnTo>
                              <a:pt x="191" y="24"/>
                            </a:lnTo>
                            <a:lnTo>
                              <a:pt x="187" y="20"/>
                            </a:lnTo>
                            <a:lnTo>
                              <a:pt x="181" y="16"/>
                            </a:lnTo>
                            <a:lnTo>
                              <a:pt x="175" y="13"/>
                            </a:lnTo>
                            <a:lnTo>
                              <a:pt x="167" y="10"/>
                            </a:lnTo>
                            <a:lnTo>
                              <a:pt x="159" y="7"/>
                            </a:lnTo>
                            <a:lnTo>
                              <a:pt x="154" y="6"/>
                            </a:lnTo>
                            <a:lnTo>
                              <a:pt x="151" y="5"/>
                            </a:lnTo>
                            <a:lnTo>
                              <a:pt x="146" y="4"/>
                            </a:lnTo>
                            <a:lnTo>
                              <a:pt x="142" y="4"/>
                            </a:lnTo>
                            <a:lnTo>
                              <a:pt x="138" y="2"/>
                            </a:lnTo>
                            <a:lnTo>
                              <a:pt x="133" y="1"/>
                            </a:lnTo>
                            <a:lnTo>
                              <a:pt x="128" y="0"/>
                            </a:lnTo>
                            <a:lnTo>
                              <a:pt x="123" y="0"/>
                            </a:lnTo>
                            <a:lnTo>
                              <a:pt x="117" y="0"/>
                            </a:lnTo>
                            <a:lnTo>
                              <a:pt x="114" y="0"/>
                            </a:lnTo>
                            <a:lnTo>
                              <a:pt x="108" y="0"/>
                            </a:lnTo>
                            <a:lnTo>
                              <a:pt x="103" y="0"/>
                            </a:lnTo>
                            <a:lnTo>
                              <a:pt x="97" y="0"/>
                            </a:lnTo>
                            <a:lnTo>
                              <a:pt x="91" y="0"/>
                            </a:lnTo>
                            <a:lnTo>
                              <a:pt x="86" y="0"/>
                            </a:lnTo>
                            <a:lnTo>
                              <a:pt x="82" y="0"/>
                            </a:lnTo>
                            <a:lnTo>
                              <a:pt x="76" y="0"/>
                            </a:lnTo>
                            <a:lnTo>
                              <a:pt x="72" y="1"/>
                            </a:lnTo>
                            <a:lnTo>
                              <a:pt x="67" y="2"/>
                            </a:lnTo>
                            <a:lnTo>
                              <a:pt x="62" y="4"/>
                            </a:lnTo>
                            <a:lnTo>
                              <a:pt x="58" y="4"/>
                            </a:lnTo>
                            <a:lnTo>
                              <a:pt x="53" y="5"/>
                            </a:lnTo>
                            <a:lnTo>
                              <a:pt x="48" y="6"/>
                            </a:lnTo>
                            <a:lnTo>
                              <a:pt x="45" y="7"/>
                            </a:lnTo>
                            <a:lnTo>
                              <a:pt x="37" y="10"/>
                            </a:lnTo>
                            <a:lnTo>
                              <a:pt x="30" y="13"/>
                            </a:lnTo>
                            <a:lnTo>
                              <a:pt x="23" y="16"/>
                            </a:lnTo>
                            <a:lnTo>
                              <a:pt x="17" y="20"/>
                            </a:lnTo>
                            <a:lnTo>
                              <a:pt x="12" y="24"/>
                            </a:lnTo>
                            <a:lnTo>
                              <a:pt x="9" y="29"/>
                            </a:lnTo>
                            <a:lnTo>
                              <a:pt x="4" y="33"/>
                            </a:lnTo>
                            <a:lnTo>
                              <a:pt x="2" y="37"/>
                            </a:lnTo>
                            <a:lnTo>
                              <a:pt x="0" y="42"/>
                            </a:lnTo>
                            <a:lnTo>
                              <a:pt x="0" y="48"/>
                            </a:lnTo>
                            <a:lnTo>
                              <a:pt x="0" y="51"/>
                            </a:lnTo>
                            <a:lnTo>
                              <a:pt x="2" y="56"/>
                            </a:lnTo>
                            <a:lnTo>
                              <a:pt x="4" y="60"/>
                            </a:lnTo>
                            <a:lnTo>
                              <a:pt x="9" y="64"/>
                            </a:lnTo>
                            <a:lnTo>
                              <a:pt x="12" y="68"/>
                            </a:lnTo>
                            <a:lnTo>
                              <a:pt x="17" y="73"/>
                            </a:lnTo>
                            <a:lnTo>
                              <a:pt x="23" y="76"/>
                            </a:lnTo>
                            <a:lnTo>
                              <a:pt x="30" y="80"/>
                            </a:lnTo>
                            <a:lnTo>
                              <a:pt x="37" y="82"/>
                            </a:lnTo>
                            <a:lnTo>
                              <a:pt x="45" y="85"/>
                            </a:lnTo>
                            <a:lnTo>
                              <a:pt x="48" y="86"/>
                            </a:lnTo>
                            <a:lnTo>
                              <a:pt x="53" y="87"/>
                            </a:lnTo>
                            <a:lnTo>
                              <a:pt x="58" y="88"/>
                            </a:lnTo>
                            <a:lnTo>
                              <a:pt x="62" y="89"/>
                            </a:lnTo>
                            <a:lnTo>
                              <a:pt x="67" y="89"/>
                            </a:lnTo>
                            <a:lnTo>
                              <a:pt x="72" y="91"/>
                            </a:lnTo>
                            <a:lnTo>
                              <a:pt x="76" y="92"/>
                            </a:lnTo>
                            <a:lnTo>
                              <a:pt x="82" y="92"/>
                            </a:lnTo>
                            <a:lnTo>
                              <a:pt x="86" y="92"/>
                            </a:lnTo>
                            <a:lnTo>
                              <a:pt x="91" y="93"/>
                            </a:lnTo>
                            <a:lnTo>
                              <a:pt x="97" y="93"/>
                            </a:lnTo>
                            <a:lnTo>
                              <a:pt x="103" y="94"/>
                            </a:lnTo>
                            <a:lnTo>
                              <a:pt x="103" y="9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3459600" y="4292640"/>
                        <a:ext cx="2304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88">
                            <a:moveTo>
                              <a:pt x="79" y="88"/>
                            </a:moveTo>
                            <a:lnTo>
                              <a:pt x="86" y="87"/>
                            </a:lnTo>
                            <a:lnTo>
                              <a:pt x="94" y="85"/>
                            </a:lnTo>
                            <a:lnTo>
                              <a:pt x="100" y="84"/>
                            </a:lnTo>
                            <a:lnTo>
                              <a:pt x="108" y="83"/>
                            </a:lnTo>
                            <a:lnTo>
                              <a:pt x="114" y="81"/>
                            </a:lnTo>
                            <a:lnTo>
                              <a:pt x="122" y="78"/>
                            </a:lnTo>
                            <a:lnTo>
                              <a:pt x="128" y="77"/>
                            </a:lnTo>
                            <a:lnTo>
                              <a:pt x="134" y="75"/>
                            </a:lnTo>
                            <a:lnTo>
                              <a:pt x="138" y="70"/>
                            </a:lnTo>
                            <a:lnTo>
                              <a:pt x="143" y="68"/>
                            </a:lnTo>
                            <a:lnTo>
                              <a:pt x="147" y="63"/>
                            </a:lnTo>
                            <a:lnTo>
                              <a:pt x="150" y="60"/>
                            </a:lnTo>
                            <a:lnTo>
                              <a:pt x="153" y="56"/>
                            </a:lnTo>
                            <a:lnTo>
                              <a:pt x="155" y="52"/>
                            </a:lnTo>
                            <a:lnTo>
                              <a:pt x="156" y="47"/>
                            </a:lnTo>
                            <a:lnTo>
                              <a:pt x="157" y="44"/>
                            </a:lnTo>
                            <a:lnTo>
                              <a:pt x="156" y="39"/>
                            </a:lnTo>
                            <a:lnTo>
                              <a:pt x="155" y="34"/>
                            </a:lnTo>
                            <a:lnTo>
                              <a:pt x="153" y="29"/>
                            </a:lnTo>
                            <a:lnTo>
                              <a:pt x="150" y="26"/>
                            </a:lnTo>
                            <a:lnTo>
                              <a:pt x="147" y="21"/>
                            </a:lnTo>
                            <a:lnTo>
                              <a:pt x="143" y="18"/>
                            </a:lnTo>
                            <a:lnTo>
                              <a:pt x="138" y="14"/>
                            </a:lnTo>
                            <a:lnTo>
                              <a:pt x="134" y="12"/>
                            </a:lnTo>
                            <a:lnTo>
                              <a:pt x="128" y="9"/>
                            </a:lnTo>
                            <a:lnTo>
                              <a:pt x="122" y="7"/>
                            </a:lnTo>
                            <a:lnTo>
                              <a:pt x="114" y="4"/>
                            </a:lnTo>
                            <a:lnTo>
                              <a:pt x="108" y="2"/>
                            </a:lnTo>
                            <a:lnTo>
                              <a:pt x="100" y="0"/>
                            </a:lnTo>
                            <a:lnTo>
                              <a:pt x="94" y="0"/>
                            </a:lnTo>
                            <a:lnTo>
                              <a:pt x="86" y="0"/>
                            </a:lnTo>
                            <a:lnTo>
                              <a:pt x="79" y="0"/>
                            </a:lnTo>
                            <a:lnTo>
                              <a:pt x="74" y="0"/>
                            </a:lnTo>
                            <a:lnTo>
                              <a:pt x="69" y="0"/>
                            </a:lnTo>
                            <a:lnTo>
                              <a:pt x="66" y="0"/>
                            </a:lnTo>
                            <a:lnTo>
                              <a:pt x="61" y="0"/>
                            </a:lnTo>
                            <a:lnTo>
                              <a:pt x="54" y="0"/>
                            </a:lnTo>
                            <a:lnTo>
                              <a:pt x="46" y="2"/>
                            </a:lnTo>
                            <a:lnTo>
                              <a:pt x="39" y="4"/>
                            </a:lnTo>
                            <a:lnTo>
                              <a:pt x="32" y="7"/>
                            </a:lnTo>
                            <a:lnTo>
                              <a:pt x="26" y="9"/>
                            </a:lnTo>
                            <a:lnTo>
                              <a:pt x="21" y="12"/>
                            </a:lnTo>
                            <a:lnTo>
                              <a:pt x="17" y="14"/>
                            </a:lnTo>
                            <a:lnTo>
                              <a:pt x="12" y="18"/>
                            </a:lnTo>
                            <a:lnTo>
                              <a:pt x="7" y="21"/>
                            </a:lnTo>
                            <a:lnTo>
                              <a:pt x="5" y="26"/>
                            </a:lnTo>
                            <a:lnTo>
                              <a:pt x="2" y="29"/>
                            </a:lnTo>
                            <a:lnTo>
                              <a:pt x="0" y="34"/>
                            </a:lnTo>
                            <a:lnTo>
                              <a:pt x="0" y="39"/>
                            </a:lnTo>
                            <a:lnTo>
                              <a:pt x="0" y="44"/>
                            </a:lnTo>
                            <a:lnTo>
                              <a:pt x="0" y="47"/>
                            </a:lnTo>
                            <a:lnTo>
                              <a:pt x="0" y="52"/>
                            </a:lnTo>
                            <a:lnTo>
                              <a:pt x="2" y="56"/>
                            </a:lnTo>
                            <a:lnTo>
                              <a:pt x="5" y="60"/>
                            </a:lnTo>
                            <a:lnTo>
                              <a:pt x="7" y="63"/>
                            </a:lnTo>
                            <a:lnTo>
                              <a:pt x="12" y="68"/>
                            </a:lnTo>
                            <a:lnTo>
                              <a:pt x="17" y="70"/>
                            </a:lnTo>
                            <a:lnTo>
                              <a:pt x="21" y="75"/>
                            </a:lnTo>
                            <a:lnTo>
                              <a:pt x="26" y="77"/>
                            </a:lnTo>
                            <a:lnTo>
                              <a:pt x="32" y="78"/>
                            </a:lnTo>
                            <a:lnTo>
                              <a:pt x="39" y="81"/>
                            </a:lnTo>
                            <a:lnTo>
                              <a:pt x="46" y="83"/>
                            </a:lnTo>
                            <a:lnTo>
                              <a:pt x="54" y="84"/>
                            </a:lnTo>
                            <a:lnTo>
                              <a:pt x="61" y="85"/>
                            </a:lnTo>
                            <a:lnTo>
                              <a:pt x="66" y="85"/>
                            </a:lnTo>
                            <a:lnTo>
                              <a:pt x="69" y="87"/>
                            </a:lnTo>
                            <a:lnTo>
                              <a:pt x="74" y="87"/>
                            </a:lnTo>
                            <a:lnTo>
                              <a:pt x="79" y="88"/>
                            </a:lnTo>
                            <a:lnTo>
                              <a:pt x="79" y="88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3363480" y="4264560"/>
                        <a:ext cx="7416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7" h="835">
                            <a:moveTo>
                              <a:pt x="0" y="835"/>
                            </a:moveTo>
                            <a:lnTo>
                              <a:pt x="477" y="835"/>
                            </a:lnTo>
                            <a:lnTo>
                              <a:pt x="477" y="0"/>
                            </a:lnTo>
                            <a:lnTo>
                              <a:pt x="0" y="0"/>
                            </a:lnTo>
                            <a:lnTo>
                              <a:pt x="0" y="835"/>
                            </a:lnTo>
                            <a:lnTo>
                              <a:pt x="0" y="835"/>
                            </a:lnTo>
                            <a:close/>
                          </a:path>
                        </a:pathLst>
                      </a:custGeom>
                      <a:solidFill>
                        <a:srgbClr val="63809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3368520" y="4237560"/>
                        <a:ext cx="85320" cy="13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4" h="924">
                            <a:moveTo>
                              <a:pt x="0" y="924"/>
                            </a:moveTo>
                            <a:lnTo>
                              <a:pt x="534" y="924"/>
                            </a:lnTo>
                            <a:lnTo>
                              <a:pt x="534" y="0"/>
                            </a:lnTo>
                            <a:lnTo>
                              <a:pt x="0" y="0"/>
                            </a:lnTo>
                            <a:lnTo>
                              <a:pt x="0" y="924"/>
                            </a:lnTo>
                            <a:lnTo>
                              <a:pt x="0" y="92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3377880" y="4249800"/>
                        <a:ext cx="680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8" h="747">
                            <a:moveTo>
                              <a:pt x="0" y="747"/>
                            </a:moveTo>
                            <a:lnTo>
                              <a:pt x="428" y="747"/>
                            </a:lnTo>
                            <a:lnTo>
                              <a:pt x="428" y="0"/>
                            </a:lnTo>
                            <a:lnTo>
                              <a:pt x="0" y="0"/>
                            </a:lnTo>
                            <a:lnTo>
                              <a:pt x="0" y="747"/>
                            </a:lnTo>
                            <a:lnTo>
                              <a:pt x="0" y="747"/>
                            </a:lnTo>
                            <a:close/>
                          </a:path>
                        </a:pathLst>
                      </a:custGeom>
                      <a:solidFill>
                        <a:srgbClr val="ebfac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3382920" y="4289040"/>
                        <a:ext cx="5400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8" h="246">
                            <a:moveTo>
                              <a:pt x="169" y="246"/>
                            </a:moveTo>
                            <a:lnTo>
                              <a:pt x="177" y="246"/>
                            </a:lnTo>
                            <a:lnTo>
                              <a:pt x="186" y="245"/>
                            </a:lnTo>
                            <a:lnTo>
                              <a:pt x="189" y="243"/>
                            </a:lnTo>
                            <a:lnTo>
                              <a:pt x="194" y="243"/>
                            </a:lnTo>
                            <a:lnTo>
                              <a:pt x="198" y="243"/>
                            </a:lnTo>
                            <a:lnTo>
                              <a:pt x="202" y="243"/>
                            </a:lnTo>
                            <a:lnTo>
                              <a:pt x="210" y="242"/>
                            </a:lnTo>
                            <a:lnTo>
                              <a:pt x="219" y="240"/>
                            </a:lnTo>
                            <a:lnTo>
                              <a:pt x="226" y="237"/>
                            </a:lnTo>
                            <a:lnTo>
                              <a:pt x="235" y="236"/>
                            </a:lnTo>
                            <a:lnTo>
                              <a:pt x="242" y="233"/>
                            </a:lnTo>
                            <a:lnTo>
                              <a:pt x="249" y="230"/>
                            </a:lnTo>
                            <a:lnTo>
                              <a:pt x="256" y="228"/>
                            </a:lnTo>
                            <a:lnTo>
                              <a:pt x="263" y="224"/>
                            </a:lnTo>
                            <a:lnTo>
                              <a:pt x="269" y="221"/>
                            </a:lnTo>
                            <a:lnTo>
                              <a:pt x="276" y="217"/>
                            </a:lnTo>
                            <a:lnTo>
                              <a:pt x="282" y="214"/>
                            </a:lnTo>
                            <a:lnTo>
                              <a:pt x="288" y="210"/>
                            </a:lnTo>
                            <a:lnTo>
                              <a:pt x="294" y="205"/>
                            </a:lnTo>
                            <a:lnTo>
                              <a:pt x="299" y="201"/>
                            </a:lnTo>
                            <a:lnTo>
                              <a:pt x="304" y="196"/>
                            </a:lnTo>
                            <a:lnTo>
                              <a:pt x="309" y="191"/>
                            </a:lnTo>
                            <a:lnTo>
                              <a:pt x="313" y="186"/>
                            </a:lnTo>
                            <a:lnTo>
                              <a:pt x="317" y="180"/>
                            </a:lnTo>
                            <a:lnTo>
                              <a:pt x="322" y="176"/>
                            </a:lnTo>
                            <a:lnTo>
                              <a:pt x="325" y="171"/>
                            </a:lnTo>
                            <a:lnTo>
                              <a:pt x="328" y="165"/>
                            </a:lnTo>
                            <a:lnTo>
                              <a:pt x="330" y="159"/>
                            </a:lnTo>
                            <a:lnTo>
                              <a:pt x="332" y="153"/>
                            </a:lnTo>
                            <a:lnTo>
                              <a:pt x="335" y="148"/>
                            </a:lnTo>
                            <a:lnTo>
                              <a:pt x="336" y="141"/>
                            </a:lnTo>
                            <a:lnTo>
                              <a:pt x="337" y="135"/>
                            </a:lnTo>
                            <a:lnTo>
                              <a:pt x="338" y="128"/>
                            </a:lnTo>
                            <a:lnTo>
                              <a:pt x="338" y="123"/>
                            </a:lnTo>
                            <a:lnTo>
                              <a:pt x="338" y="116"/>
                            </a:lnTo>
                            <a:lnTo>
                              <a:pt x="337" y="110"/>
                            </a:lnTo>
                            <a:lnTo>
                              <a:pt x="336" y="104"/>
                            </a:lnTo>
                            <a:lnTo>
                              <a:pt x="335" y="98"/>
                            </a:lnTo>
                            <a:lnTo>
                              <a:pt x="332" y="91"/>
                            </a:lnTo>
                            <a:lnTo>
                              <a:pt x="330" y="86"/>
                            </a:lnTo>
                            <a:lnTo>
                              <a:pt x="328" y="80"/>
                            </a:lnTo>
                            <a:lnTo>
                              <a:pt x="325" y="74"/>
                            </a:lnTo>
                            <a:lnTo>
                              <a:pt x="322" y="68"/>
                            </a:lnTo>
                            <a:lnTo>
                              <a:pt x="317" y="62"/>
                            </a:lnTo>
                            <a:lnTo>
                              <a:pt x="313" y="58"/>
                            </a:lnTo>
                            <a:lnTo>
                              <a:pt x="309" y="54"/>
                            </a:lnTo>
                            <a:lnTo>
                              <a:pt x="304" y="48"/>
                            </a:lnTo>
                            <a:lnTo>
                              <a:pt x="299" y="43"/>
                            </a:lnTo>
                            <a:lnTo>
                              <a:pt x="294" y="40"/>
                            </a:lnTo>
                            <a:lnTo>
                              <a:pt x="288" y="36"/>
                            </a:lnTo>
                            <a:lnTo>
                              <a:pt x="282" y="31"/>
                            </a:lnTo>
                            <a:lnTo>
                              <a:pt x="276" y="28"/>
                            </a:lnTo>
                            <a:lnTo>
                              <a:pt x="269" y="23"/>
                            </a:lnTo>
                            <a:lnTo>
                              <a:pt x="263" y="21"/>
                            </a:lnTo>
                            <a:lnTo>
                              <a:pt x="256" y="17"/>
                            </a:lnTo>
                            <a:lnTo>
                              <a:pt x="249" y="15"/>
                            </a:lnTo>
                            <a:lnTo>
                              <a:pt x="242" y="12"/>
                            </a:lnTo>
                            <a:lnTo>
                              <a:pt x="235" y="10"/>
                            </a:lnTo>
                            <a:lnTo>
                              <a:pt x="226" y="8"/>
                            </a:lnTo>
                            <a:lnTo>
                              <a:pt x="219" y="5"/>
                            </a:lnTo>
                            <a:lnTo>
                              <a:pt x="210" y="3"/>
                            </a:lnTo>
                            <a:lnTo>
                              <a:pt x="202" y="3"/>
                            </a:lnTo>
                            <a:lnTo>
                              <a:pt x="198" y="2"/>
                            </a:lnTo>
                            <a:lnTo>
                              <a:pt x="194" y="2"/>
                            </a:lnTo>
                            <a:lnTo>
                              <a:pt x="189" y="0"/>
                            </a:lnTo>
                            <a:lnTo>
                              <a:pt x="186" y="0"/>
                            </a:lnTo>
                            <a:lnTo>
                              <a:pt x="177" y="0"/>
                            </a:lnTo>
                            <a:lnTo>
                              <a:pt x="169" y="0"/>
                            </a:lnTo>
                            <a:lnTo>
                              <a:pt x="164" y="0"/>
                            </a:lnTo>
                            <a:lnTo>
                              <a:pt x="159" y="0"/>
                            </a:lnTo>
                            <a:lnTo>
                              <a:pt x="156" y="0"/>
                            </a:lnTo>
                            <a:lnTo>
                              <a:pt x="151" y="0"/>
                            </a:lnTo>
                            <a:lnTo>
                              <a:pt x="143" y="2"/>
                            </a:lnTo>
                            <a:lnTo>
                              <a:pt x="134" y="3"/>
                            </a:lnTo>
                            <a:lnTo>
                              <a:pt x="130" y="3"/>
                            </a:lnTo>
                            <a:lnTo>
                              <a:pt x="125" y="3"/>
                            </a:lnTo>
                            <a:lnTo>
                              <a:pt x="121" y="4"/>
                            </a:lnTo>
                            <a:lnTo>
                              <a:pt x="118" y="5"/>
                            </a:lnTo>
                            <a:lnTo>
                              <a:pt x="109" y="8"/>
                            </a:lnTo>
                            <a:lnTo>
                              <a:pt x="103" y="10"/>
                            </a:lnTo>
                            <a:lnTo>
                              <a:pt x="94" y="12"/>
                            </a:lnTo>
                            <a:lnTo>
                              <a:pt x="88" y="15"/>
                            </a:lnTo>
                            <a:lnTo>
                              <a:pt x="81" y="17"/>
                            </a:lnTo>
                            <a:lnTo>
                              <a:pt x="74" y="21"/>
                            </a:lnTo>
                            <a:lnTo>
                              <a:pt x="66" y="23"/>
                            </a:lnTo>
                            <a:lnTo>
                              <a:pt x="60" y="28"/>
                            </a:lnTo>
                            <a:lnTo>
                              <a:pt x="54" y="31"/>
                            </a:lnTo>
                            <a:lnTo>
                              <a:pt x="48" y="36"/>
                            </a:lnTo>
                            <a:lnTo>
                              <a:pt x="42" y="40"/>
                            </a:lnTo>
                            <a:lnTo>
                              <a:pt x="38" y="43"/>
                            </a:lnTo>
                            <a:lnTo>
                              <a:pt x="33" y="48"/>
                            </a:lnTo>
                            <a:lnTo>
                              <a:pt x="28" y="54"/>
                            </a:lnTo>
                            <a:lnTo>
                              <a:pt x="23" y="58"/>
                            </a:lnTo>
                            <a:lnTo>
                              <a:pt x="19" y="62"/>
                            </a:lnTo>
                            <a:lnTo>
                              <a:pt x="15" y="68"/>
                            </a:lnTo>
                            <a:lnTo>
                              <a:pt x="13" y="74"/>
                            </a:lnTo>
                            <a:lnTo>
                              <a:pt x="9" y="80"/>
                            </a:lnTo>
                            <a:lnTo>
                              <a:pt x="7" y="86"/>
                            </a:lnTo>
                            <a:lnTo>
                              <a:pt x="4" y="91"/>
                            </a:lnTo>
                            <a:lnTo>
                              <a:pt x="3" y="98"/>
                            </a:lnTo>
                            <a:lnTo>
                              <a:pt x="1" y="104"/>
                            </a:lnTo>
                            <a:lnTo>
                              <a:pt x="0" y="110"/>
                            </a:lnTo>
                            <a:lnTo>
                              <a:pt x="0" y="116"/>
                            </a:lnTo>
                            <a:lnTo>
                              <a:pt x="0" y="123"/>
                            </a:lnTo>
                            <a:lnTo>
                              <a:pt x="0" y="128"/>
                            </a:lnTo>
                            <a:lnTo>
                              <a:pt x="0" y="135"/>
                            </a:lnTo>
                            <a:lnTo>
                              <a:pt x="1" y="141"/>
                            </a:lnTo>
                            <a:lnTo>
                              <a:pt x="3" y="148"/>
                            </a:lnTo>
                            <a:lnTo>
                              <a:pt x="4" y="153"/>
                            </a:lnTo>
                            <a:lnTo>
                              <a:pt x="7" y="159"/>
                            </a:lnTo>
                            <a:lnTo>
                              <a:pt x="9" y="165"/>
                            </a:lnTo>
                            <a:lnTo>
                              <a:pt x="13" y="171"/>
                            </a:lnTo>
                            <a:lnTo>
                              <a:pt x="15" y="176"/>
                            </a:lnTo>
                            <a:lnTo>
                              <a:pt x="19" y="180"/>
                            </a:lnTo>
                            <a:lnTo>
                              <a:pt x="23" y="186"/>
                            </a:lnTo>
                            <a:lnTo>
                              <a:pt x="28" y="191"/>
                            </a:lnTo>
                            <a:lnTo>
                              <a:pt x="33" y="196"/>
                            </a:lnTo>
                            <a:lnTo>
                              <a:pt x="38" y="201"/>
                            </a:lnTo>
                            <a:lnTo>
                              <a:pt x="42" y="205"/>
                            </a:lnTo>
                            <a:lnTo>
                              <a:pt x="48" y="210"/>
                            </a:lnTo>
                            <a:lnTo>
                              <a:pt x="54" y="214"/>
                            </a:lnTo>
                            <a:lnTo>
                              <a:pt x="60" y="217"/>
                            </a:lnTo>
                            <a:lnTo>
                              <a:pt x="66" y="221"/>
                            </a:lnTo>
                            <a:lnTo>
                              <a:pt x="74" y="224"/>
                            </a:lnTo>
                            <a:lnTo>
                              <a:pt x="81" y="228"/>
                            </a:lnTo>
                            <a:lnTo>
                              <a:pt x="88" y="230"/>
                            </a:lnTo>
                            <a:lnTo>
                              <a:pt x="94" y="233"/>
                            </a:lnTo>
                            <a:lnTo>
                              <a:pt x="103" y="236"/>
                            </a:lnTo>
                            <a:lnTo>
                              <a:pt x="109" y="237"/>
                            </a:lnTo>
                            <a:lnTo>
                              <a:pt x="118" y="240"/>
                            </a:lnTo>
                            <a:lnTo>
                              <a:pt x="121" y="240"/>
                            </a:lnTo>
                            <a:lnTo>
                              <a:pt x="125" y="242"/>
                            </a:lnTo>
                            <a:lnTo>
                              <a:pt x="130" y="242"/>
                            </a:lnTo>
                            <a:lnTo>
                              <a:pt x="134" y="243"/>
                            </a:lnTo>
                            <a:lnTo>
                              <a:pt x="143" y="243"/>
                            </a:lnTo>
                            <a:lnTo>
                              <a:pt x="151" y="245"/>
                            </a:lnTo>
                            <a:lnTo>
                              <a:pt x="156" y="245"/>
                            </a:lnTo>
                            <a:lnTo>
                              <a:pt x="159" y="246"/>
                            </a:lnTo>
                            <a:lnTo>
                              <a:pt x="164" y="246"/>
                            </a:lnTo>
                            <a:lnTo>
                              <a:pt x="169" y="246"/>
                            </a:lnTo>
                            <a:lnTo>
                              <a:pt x="169" y="246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3375720" y="4245480"/>
                        <a:ext cx="3132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5" h="93">
                            <a:moveTo>
                              <a:pt x="104" y="93"/>
                            </a:moveTo>
                            <a:lnTo>
                              <a:pt x="107" y="93"/>
                            </a:lnTo>
                            <a:lnTo>
                              <a:pt x="113" y="93"/>
                            </a:lnTo>
                            <a:lnTo>
                              <a:pt x="118" y="92"/>
                            </a:lnTo>
                            <a:lnTo>
                              <a:pt x="123" y="92"/>
                            </a:lnTo>
                            <a:lnTo>
                              <a:pt x="127" y="92"/>
                            </a:lnTo>
                            <a:lnTo>
                              <a:pt x="132" y="91"/>
                            </a:lnTo>
                            <a:lnTo>
                              <a:pt x="137" y="89"/>
                            </a:lnTo>
                            <a:lnTo>
                              <a:pt x="142" y="89"/>
                            </a:lnTo>
                            <a:lnTo>
                              <a:pt x="147" y="88"/>
                            </a:lnTo>
                            <a:lnTo>
                              <a:pt x="151" y="87"/>
                            </a:lnTo>
                            <a:lnTo>
                              <a:pt x="155" y="86"/>
                            </a:lnTo>
                            <a:lnTo>
                              <a:pt x="160" y="85"/>
                            </a:lnTo>
                            <a:lnTo>
                              <a:pt x="167" y="82"/>
                            </a:lnTo>
                            <a:lnTo>
                              <a:pt x="175" y="80"/>
                            </a:lnTo>
                            <a:lnTo>
                              <a:pt x="181" y="76"/>
                            </a:lnTo>
                            <a:lnTo>
                              <a:pt x="186" y="72"/>
                            </a:lnTo>
                            <a:lnTo>
                              <a:pt x="191" y="68"/>
                            </a:lnTo>
                            <a:lnTo>
                              <a:pt x="197" y="64"/>
                            </a:lnTo>
                            <a:lnTo>
                              <a:pt x="199" y="60"/>
                            </a:lnTo>
                            <a:lnTo>
                              <a:pt x="203" y="55"/>
                            </a:lnTo>
                            <a:lnTo>
                              <a:pt x="204" y="50"/>
                            </a:lnTo>
                            <a:lnTo>
                              <a:pt x="205" y="47"/>
                            </a:lnTo>
                            <a:lnTo>
                              <a:pt x="204" y="41"/>
                            </a:lnTo>
                            <a:lnTo>
                              <a:pt x="203" y="37"/>
                            </a:lnTo>
                            <a:lnTo>
                              <a:pt x="199" y="32"/>
                            </a:lnTo>
                            <a:lnTo>
                              <a:pt x="197" y="28"/>
                            </a:lnTo>
                            <a:lnTo>
                              <a:pt x="191" y="24"/>
                            </a:lnTo>
                            <a:lnTo>
                              <a:pt x="186" y="19"/>
                            </a:lnTo>
                            <a:lnTo>
                              <a:pt x="181" y="16"/>
                            </a:lnTo>
                            <a:lnTo>
                              <a:pt x="175" y="13"/>
                            </a:lnTo>
                            <a:lnTo>
                              <a:pt x="167" y="10"/>
                            </a:lnTo>
                            <a:lnTo>
                              <a:pt x="160" y="7"/>
                            </a:lnTo>
                            <a:lnTo>
                              <a:pt x="155" y="6"/>
                            </a:lnTo>
                            <a:lnTo>
                              <a:pt x="151" y="5"/>
                            </a:lnTo>
                            <a:lnTo>
                              <a:pt x="147" y="4"/>
                            </a:lnTo>
                            <a:lnTo>
                              <a:pt x="142" y="4"/>
                            </a:lnTo>
                            <a:lnTo>
                              <a:pt x="137" y="1"/>
                            </a:lnTo>
                            <a:lnTo>
                              <a:pt x="132" y="1"/>
                            </a:lnTo>
                            <a:lnTo>
                              <a:pt x="127" y="0"/>
                            </a:lnTo>
                            <a:lnTo>
                              <a:pt x="123" y="0"/>
                            </a:lnTo>
                            <a:lnTo>
                              <a:pt x="118" y="0"/>
                            </a:lnTo>
                            <a:lnTo>
                              <a:pt x="113" y="0"/>
                            </a:lnTo>
                            <a:lnTo>
                              <a:pt x="107" y="0"/>
                            </a:lnTo>
                            <a:lnTo>
                              <a:pt x="104" y="0"/>
                            </a:lnTo>
                            <a:lnTo>
                              <a:pt x="96" y="0"/>
                            </a:lnTo>
                            <a:lnTo>
                              <a:pt x="92" y="0"/>
                            </a:lnTo>
                            <a:lnTo>
                              <a:pt x="86" y="0"/>
                            </a:lnTo>
                            <a:lnTo>
                              <a:pt x="81" y="0"/>
                            </a:lnTo>
                            <a:lnTo>
                              <a:pt x="77" y="0"/>
                            </a:lnTo>
                            <a:lnTo>
                              <a:pt x="73" y="1"/>
                            </a:lnTo>
                            <a:lnTo>
                              <a:pt x="68" y="1"/>
                            </a:lnTo>
                            <a:lnTo>
                              <a:pt x="63" y="4"/>
                            </a:lnTo>
                            <a:lnTo>
                              <a:pt x="58" y="4"/>
                            </a:lnTo>
                            <a:lnTo>
                              <a:pt x="54" y="5"/>
                            </a:lnTo>
                            <a:lnTo>
                              <a:pt x="49" y="6"/>
                            </a:lnTo>
                            <a:lnTo>
                              <a:pt x="45" y="7"/>
                            </a:lnTo>
                            <a:lnTo>
                              <a:pt x="40" y="8"/>
                            </a:lnTo>
                            <a:lnTo>
                              <a:pt x="37" y="10"/>
                            </a:lnTo>
                            <a:lnTo>
                              <a:pt x="33" y="11"/>
                            </a:lnTo>
                            <a:lnTo>
                              <a:pt x="30" y="13"/>
                            </a:lnTo>
                            <a:lnTo>
                              <a:pt x="22" y="16"/>
                            </a:lnTo>
                            <a:lnTo>
                              <a:pt x="17" y="19"/>
                            </a:lnTo>
                            <a:lnTo>
                              <a:pt x="12" y="24"/>
                            </a:lnTo>
                            <a:lnTo>
                              <a:pt x="7" y="28"/>
                            </a:lnTo>
                            <a:lnTo>
                              <a:pt x="3" y="32"/>
                            </a:lnTo>
                            <a:lnTo>
                              <a:pt x="1" y="37"/>
                            </a:lnTo>
                            <a:lnTo>
                              <a:pt x="0" y="41"/>
                            </a:lnTo>
                            <a:lnTo>
                              <a:pt x="0" y="47"/>
                            </a:lnTo>
                            <a:lnTo>
                              <a:pt x="0" y="50"/>
                            </a:lnTo>
                            <a:lnTo>
                              <a:pt x="1" y="55"/>
                            </a:lnTo>
                            <a:lnTo>
                              <a:pt x="3" y="60"/>
                            </a:lnTo>
                            <a:lnTo>
                              <a:pt x="7" y="64"/>
                            </a:lnTo>
                            <a:lnTo>
                              <a:pt x="12" y="68"/>
                            </a:lnTo>
                            <a:lnTo>
                              <a:pt x="17" y="72"/>
                            </a:lnTo>
                            <a:lnTo>
                              <a:pt x="22" y="76"/>
                            </a:lnTo>
                            <a:lnTo>
                              <a:pt x="30" y="80"/>
                            </a:lnTo>
                            <a:lnTo>
                              <a:pt x="33" y="80"/>
                            </a:lnTo>
                            <a:lnTo>
                              <a:pt x="37" y="82"/>
                            </a:lnTo>
                            <a:lnTo>
                              <a:pt x="40" y="84"/>
                            </a:lnTo>
                            <a:lnTo>
                              <a:pt x="45" y="85"/>
                            </a:lnTo>
                            <a:lnTo>
                              <a:pt x="49" y="86"/>
                            </a:lnTo>
                            <a:lnTo>
                              <a:pt x="54" y="87"/>
                            </a:lnTo>
                            <a:lnTo>
                              <a:pt x="58" y="88"/>
                            </a:lnTo>
                            <a:lnTo>
                              <a:pt x="63" y="89"/>
                            </a:lnTo>
                            <a:lnTo>
                              <a:pt x="68" y="89"/>
                            </a:lnTo>
                            <a:lnTo>
                              <a:pt x="73" y="91"/>
                            </a:lnTo>
                            <a:lnTo>
                              <a:pt x="77" y="92"/>
                            </a:lnTo>
                            <a:lnTo>
                              <a:pt x="81" y="92"/>
                            </a:lnTo>
                            <a:lnTo>
                              <a:pt x="86" y="92"/>
                            </a:lnTo>
                            <a:lnTo>
                              <a:pt x="92" y="93"/>
                            </a:lnTo>
                            <a:lnTo>
                              <a:pt x="96" y="93"/>
                            </a:lnTo>
                            <a:lnTo>
                              <a:pt x="104" y="93"/>
                            </a:lnTo>
                            <a:lnTo>
                              <a:pt x="104" y="9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3424680" y="4344840"/>
                        <a:ext cx="23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88">
                            <a:moveTo>
                              <a:pt x="79" y="88"/>
                            </a:moveTo>
                            <a:lnTo>
                              <a:pt x="87" y="88"/>
                            </a:lnTo>
                            <a:lnTo>
                              <a:pt x="94" y="87"/>
                            </a:lnTo>
                            <a:lnTo>
                              <a:pt x="103" y="85"/>
                            </a:lnTo>
                            <a:lnTo>
                              <a:pt x="110" y="84"/>
                            </a:lnTo>
                            <a:lnTo>
                              <a:pt x="116" y="82"/>
                            </a:lnTo>
                            <a:lnTo>
                              <a:pt x="123" y="80"/>
                            </a:lnTo>
                            <a:lnTo>
                              <a:pt x="129" y="77"/>
                            </a:lnTo>
                            <a:lnTo>
                              <a:pt x="135" y="75"/>
                            </a:lnTo>
                            <a:lnTo>
                              <a:pt x="140" y="71"/>
                            </a:lnTo>
                            <a:lnTo>
                              <a:pt x="144" y="68"/>
                            </a:lnTo>
                            <a:lnTo>
                              <a:pt x="148" y="64"/>
                            </a:lnTo>
                            <a:lnTo>
                              <a:pt x="152" y="62"/>
                            </a:lnTo>
                            <a:lnTo>
                              <a:pt x="153" y="57"/>
                            </a:lnTo>
                            <a:lnTo>
                              <a:pt x="155" y="52"/>
                            </a:lnTo>
                            <a:lnTo>
                              <a:pt x="158" y="47"/>
                            </a:lnTo>
                            <a:lnTo>
                              <a:pt x="158" y="44"/>
                            </a:lnTo>
                            <a:lnTo>
                              <a:pt x="158" y="39"/>
                            </a:lnTo>
                            <a:lnTo>
                              <a:pt x="155" y="34"/>
                            </a:lnTo>
                            <a:lnTo>
                              <a:pt x="153" y="31"/>
                            </a:lnTo>
                            <a:lnTo>
                              <a:pt x="152" y="26"/>
                            </a:lnTo>
                            <a:lnTo>
                              <a:pt x="148" y="22"/>
                            </a:lnTo>
                            <a:lnTo>
                              <a:pt x="144" y="19"/>
                            </a:lnTo>
                            <a:lnTo>
                              <a:pt x="140" y="15"/>
                            </a:lnTo>
                            <a:lnTo>
                              <a:pt x="135" y="13"/>
                            </a:lnTo>
                            <a:lnTo>
                              <a:pt x="129" y="9"/>
                            </a:lnTo>
                            <a:lnTo>
                              <a:pt x="123" y="7"/>
                            </a:lnTo>
                            <a:lnTo>
                              <a:pt x="116" y="4"/>
                            </a:lnTo>
                            <a:lnTo>
                              <a:pt x="110" y="3"/>
                            </a:lnTo>
                            <a:lnTo>
                              <a:pt x="103" y="1"/>
                            </a:lnTo>
                            <a:lnTo>
                              <a:pt x="94" y="0"/>
                            </a:lnTo>
                            <a:lnTo>
                              <a:pt x="87" y="0"/>
                            </a:lnTo>
                            <a:lnTo>
                              <a:pt x="79" y="0"/>
                            </a:lnTo>
                            <a:lnTo>
                              <a:pt x="70" y="0"/>
                            </a:lnTo>
                            <a:lnTo>
                              <a:pt x="63" y="0"/>
                            </a:lnTo>
                            <a:lnTo>
                              <a:pt x="55" y="1"/>
                            </a:lnTo>
                            <a:lnTo>
                              <a:pt x="49" y="3"/>
                            </a:lnTo>
                            <a:lnTo>
                              <a:pt x="42" y="4"/>
                            </a:lnTo>
                            <a:lnTo>
                              <a:pt x="35" y="7"/>
                            </a:lnTo>
                            <a:lnTo>
                              <a:pt x="29" y="9"/>
                            </a:lnTo>
                            <a:lnTo>
                              <a:pt x="24" y="13"/>
                            </a:lnTo>
                            <a:lnTo>
                              <a:pt x="18" y="15"/>
                            </a:lnTo>
                            <a:lnTo>
                              <a:pt x="13" y="19"/>
                            </a:lnTo>
                            <a:lnTo>
                              <a:pt x="10" y="22"/>
                            </a:lnTo>
                            <a:lnTo>
                              <a:pt x="6" y="26"/>
                            </a:lnTo>
                            <a:lnTo>
                              <a:pt x="2" y="31"/>
                            </a:lnTo>
                            <a:lnTo>
                              <a:pt x="1" y="34"/>
                            </a:lnTo>
                            <a:lnTo>
                              <a:pt x="0" y="39"/>
                            </a:lnTo>
                            <a:lnTo>
                              <a:pt x="0" y="44"/>
                            </a:lnTo>
                            <a:lnTo>
                              <a:pt x="0" y="47"/>
                            </a:lnTo>
                            <a:lnTo>
                              <a:pt x="1" y="52"/>
                            </a:lnTo>
                            <a:lnTo>
                              <a:pt x="2" y="57"/>
                            </a:lnTo>
                            <a:lnTo>
                              <a:pt x="6" y="62"/>
                            </a:lnTo>
                            <a:lnTo>
                              <a:pt x="10" y="64"/>
                            </a:lnTo>
                            <a:lnTo>
                              <a:pt x="13" y="68"/>
                            </a:lnTo>
                            <a:lnTo>
                              <a:pt x="18" y="71"/>
                            </a:lnTo>
                            <a:lnTo>
                              <a:pt x="24" y="75"/>
                            </a:lnTo>
                            <a:lnTo>
                              <a:pt x="29" y="77"/>
                            </a:lnTo>
                            <a:lnTo>
                              <a:pt x="35" y="80"/>
                            </a:lnTo>
                            <a:lnTo>
                              <a:pt x="42" y="82"/>
                            </a:lnTo>
                            <a:lnTo>
                              <a:pt x="49" y="84"/>
                            </a:lnTo>
                            <a:lnTo>
                              <a:pt x="55" y="85"/>
                            </a:lnTo>
                            <a:lnTo>
                              <a:pt x="63" y="87"/>
                            </a:lnTo>
                            <a:lnTo>
                              <a:pt x="70" y="88"/>
                            </a:lnTo>
                            <a:lnTo>
                              <a:pt x="79" y="88"/>
                            </a:lnTo>
                            <a:lnTo>
                              <a:pt x="79" y="88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3370680" y="4346640"/>
                        <a:ext cx="2448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90">
                            <a:moveTo>
                              <a:pt x="79" y="90"/>
                            </a:moveTo>
                            <a:lnTo>
                              <a:pt x="87" y="88"/>
                            </a:lnTo>
                            <a:lnTo>
                              <a:pt x="94" y="87"/>
                            </a:lnTo>
                            <a:lnTo>
                              <a:pt x="101" y="86"/>
                            </a:lnTo>
                            <a:lnTo>
                              <a:pt x="110" y="86"/>
                            </a:lnTo>
                            <a:lnTo>
                              <a:pt x="116" y="84"/>
                            </a:lnTo>
                            <a:lnTo>
                              <a:pt x="122" y="81"/>
                            </a:lnTo>
                            <a:lnTo>
                              <a:pt x="129" y="78"/>
                            </a:lnTo>
                            <a:lnTo>
                              <a:pt x="135" y="75"/>
                            </a:lnTo>
                            <a:lnTo>
                              <a:pt x="140" y="72"/>
                            </a:lnTo>
                            <a:lnTo>
                              <a:pt x="144" y="68"/>
                            </a:lnTo>
                            <a:lnTo>
                              <a:pt x="147" y="65"/>
                            </a:lnTo>
                            <a:lnTo>
                              <a:pt x="150" y="61"/>
                            </a:lnTo>
                            <a:lnTo>
                              <a:pt x="155" y="53"/>
                            </a:lnTo>
                            <a:lnTo>
                              <a:pt x="157" y="45"/>
                            </a:lnTo>
                            <a:lnTo>
                              <a:pt x="157" y="41"/>
                            </a:lnTo>
                            <a:lnTo>
                              <a:pt x="155" y="36"/>
                            </a:lnTo>
                            <a:lnTo>
                              <a:pt x="153" y="31"/>
                            </a:lnTo>
                            <a:lnTo>
                              <a:pt x="150" y="28"/>
                            </a:lnTo>
                            <a:lnTo>
                              <a:pt x="147" y="23"/>
                            </a:lnTo>
                            <a:lnTo>
                              <a:pt x="144" y="19"/>
                            </a:lnTo>
                            <a:lnTo>
                              <a:pt x="140" y="16"/>
                            </a:lnTo>
                            <a:lnTo>
                              <a:pt x="135" y="13"/>
                            </a:lnTo>
                            <a:lnTo>
                              <a:pt x="129" y="10"/>
                            </a:lnTo>
                            <a:lnTo>
                              <a:pt x="122" y="7"/>
                            </a:lnTo>
                            <a:lnTo>
                              <a:pt x="116" y="5"/>
                            </a:lnTo>
                            <a:lnTo>
                              <a:pt x="110" y="4"/>
                            </a:lnTo>
                            <a:lnTo>
                              <a:pt x="101" y="1"/>
                            </a:lnTo>
                            <a:lnTo>
                              <a:pt x="94" y="0"/>
                            </a:lnTo>
                            <a:lnTo>
                              <a:pt x="87" y="0"/>
                            </a:lnTo>
                            <a:lnTo>
                              <a:pt x="79" y="0"/>
                            </a:lnTo>
                            <a:lnTo>
                              <a:pt x="74" y="0"/>
                            </a:lnTo>
                            <a:lnTo>
                              <a:pt x="70" y="0"/>
                            </a:lnTo>
                            <a:lnTo>
                              <a:pt x="66" y="0"/>
                            </a:lnTo>
                            <a:lnTo>
                              <a:pt x="62" y="0"/>
                            </a:lnTo>
                            <a:lnTo>
                              <a:pt x="55" y="1"/>
                            </a:lnTo>
                            <a:lnTo>
                              <a:pt x="48" y="4"/>
                            </a:lnTo>
                            <a:lnTo>
                              <a:pt x="41" y="5"/>
                            </a:lnTo>
                            <a:lnTo>
                              <a:pt x="33" y="7"/>
                            </a:lnTo>
                            <a:lnTo>
                              <a:pt x="27" y="10"/>
                            </a:lnTo>
                            <a:lnTo>
                              <a:pt x="23" y="13"/>
                            </a:lnTo>
                            <a:lnTo>
                              <a:pt x="18" y="16"/>
                            </a:lnTo>
                            <a:lnTo>
                              <a:pt x="13" y="19"/>
                            </a:lnTo>
                            <a:lnTo>
                              <a:pt x="8" y="23"/>
                            </a:lnTo>
                            <a:lnTo>
                              <a:pt x="6" y="28"/>
                            </a:lnTo>
                            <a:lnTo>
                              <a:pt x="2" y="31"/>
                            </a:lnTo>
                            <a:lnTo>
                              <a:pt x="1" y="36"/>
                            </a:lnTo>
                            <a:lnTo>
                              <a:pt x="0" y="41"/>
                            </a:lnTo>
                            <a:lnTo>
                              <a:pt x="0" y="45"/>
                            </a:lnTo>
                            <a:lnTo>
                              <a:pt x="1" y="53"/>
                            </a:lnTo>
                            <a:lnTo>
                              <a:pt x="6" y="61"/>
                            </a:lnTo>
                            <a:lnTo>
                              <a:pt x="8" y="65"/>
                            </a:lnTo>
                            <a:lnTo>
                              <a:pt x="13" y="68"/>
                            </a:lnTo>
                            <a:lnTo>
                              <a:pt x="18" y="72"/>
                            </a:lnTo>
                            <a:lnTo>
                              <a:pt x="23" y="75"/>
                            </a:lnTo>
                            <a:lnTo>
                              <a:pt x="27" y="78"/>
                            </a:lnTo>
                            <a:lnTo>
                              <a:pt x="33" y="81"/>
                            </a:lnTo>
                            <a:lnTo>
                              <a:pt x="41" y="84"/>
                            </a:lnTo>
                            <a:lnTo>
                              <a:pt x="48" y="86"/>
                            </a:lnTo>
                            <a:lnTo>
                              <a:pt x="55" y="86"/>
                            </a:lnTo>
                            <a:lnTo>
                              <a:pt x="62" y="87"/>
                            </a:lnTo>
                            <a:lnTo>
                              <a:pt x="66" y="87"/>
                            </a:lnTo>
                            <a:lnTo>
                              <a:pt x="70" y="88"/>
                            </a:lnTo>
                            <a:lnTo>
                              <a:pt x="74" y="88"/>
                            </a:lnTo>
                            <a:lnTo>
                              <a:pt x="79" y="90"/>
                            </a:lnTo>
                            <a:lnTo>
                              <a:pt x="79" y="90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3463560" y="4210200"/>
                        <a:ext cx="1537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3" h="623">
                            <a:moveTo>
                              <a:pt x="0" y="623"/>
                            </a:moveTo>
                            <a:lnTo>
                              <a:pt x="973" y="623"/>
                            </a:lnTo>
                            <a:lnTo>
                              <a:pt x="973" y="0"/>
                            </a:lnTo>
                            <a:lnTo>
                              <a:pt x="0" y="0"/>
                            </a:lnTo>
                            <a:lnTo>
                              <a:pt x="0" y="623"/>
                            </a:lnTo>
                            <a:lnTo>
                              <a:pt x="0" y="623"/>
                            </a:lnTo>
                            <a:close/>
                          </a:path>
                        </a:pathLst>
                      </a:custGeom>
                      <a:solidFill>
                        <a:srgbClr val="bdc9d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400" bIns="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3477960" y="4220640"/>
                        <a:ext cx="127080" cy="6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3" h="481">
                            <a:moveTo>
                              <a:pt x="0" y="481"/>
                            </a:moveTo>
                            <a:lnTo>
                              <a:pt x="803" y="481"/>
                            </a:lnTo>
                            <a:lnTo>
                              <a:pt x="803" y="0"/>
                            </a:lnTo>
                            <a:lnTo>
                              <a:pt x="0" y="0"/>
                            </a:lnTo>
                            <a:lnTo>
                              <a:pt x="0" y="481"/>
                            </a:lnTo>
                            <a:lnTo>
                              <a:pt x="0" y="481"/>
                            </a:lnTo>
                            <a:close/>
                          </a:path>
                        </a:pathLst>
                      </a:custGeom>
                      <a:solidFill>
                        <a:srgbClr val="7a94a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520" bIns="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3557160" y="4278600"/>
                        <a:ext cx="1908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113">
                            <a:moveTo>
                              <a:pt x="0" y="113"/>
                            </a:moveTo>
                            <a:lnTo>
                              <a:pt x="61" y="113"/>
                            </a:lnTo>
                            <a:lnTo>
                              <a:pt x="129" y="0"/>
                            </a:lnTo>
                            <a:lnTo>
                              <a:pt x="68" y="0"/>
                            </a:lnTo>
                            <a:lnTo>
                              <a:pt x="0" y="113"/>
                            </a:lnTo>
                            <a:lnTo>
                              <a:pt x="0" y="113"/>
                            </a:lnTo>
                            <a:close/>
                          </a:path>
                        </a:pathLst>
                      </a:custGeom>
                      <a:solidFill>
                        <a:srgbClr val="4a69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3574800" y="4278600"/>
                        <a:ext cx="1908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2" h="113">
                            <a:moveTo>
                              <a:pt x="0" y="113"/>
                            </a:moveTo>
                            <a:lnTo>
                              <a:pt x="61" y="113"/>
                            </a:lnTo>
                            <a:lnTo>
                              <a:pt x="132" y="0"/>
                            </a:lnTo>
                            <a:lnTo>
                              <a:pt x="70" y="0"/>
                            </a:lnTo>
                            <a:lnTo>
                              <a:pt x="0" y="113"/>
                            </a:lnTo>
                            <a:lnTo>
                              <a:pt x="0" y="113"/>
                            </a:lnTo>
                            <a:close/>
                          </a:path>
                        </a:pathLst>
                      </a:custGeom>
                      <a:solidFill>
                        <a:srgbClr val="4a69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3488760" y="4213800"/>
                        <a:ext cx="205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2" h="114">
                            <a:moveTo>
                              <a:pt x="0" y="114"/>
                            </a:moveTo>
                            <a:lnTo>
                              <a:pt x="62" y="114"/>
                            </a:lnTo>
                            <a:lnTo>
                              <a:pt x="132" y="0"/>
                            </a:lnTo>
                            <a:lnTo>
                              <a:pt x="71" y="0"/>
                            </a:lnTo>
                            <a:lnTo>
                              <a:pt x="0" y="114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4a69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3506400" y="4213800"/>
                        <a:ext cx="190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14">
                            <a:moveTo>
                              <a:pt x="0" y="114"/>
                            </a:moveTo>
                            <a:lnTo>
                              <a:pt x="61" y="114"/>
                            </a:lnTo>
                            <a:lnTo>
                              <a:pt x="130" y="0"/>
                            </a:lnTo>
                            <a:lnTo>
                              <a:pt x="68" y="0"/>
                            </a:lnTo>
                            <a:lnTo>
                              <a:pt x="0" y="114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4a69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9" name=""/>
                      <p:cNvSpPr/>
                      <p:nvPr/>
                    </p:nvSpPr>
                    <p:spPr>
                      <a:xfrm>
                        <a:off x="3394080" y="4227840"/>
                        <a:ext cx="33012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93" h="365">
                            <a:moveTo>
                              <a:pt x="0" y="365"/>
                            </a:moveTo>
                            <a:lnTo>
                              <a:pt x="2093" y="365"/>
                            </a:lnTo>
                            <a:lnTo>
                              <a:pt x="2093" y="0"/>
                            </a:lnTo>
                            <a:lnTo>
                              <a:pt x="0" y="0"/>
                            </a:lnTo>
                            <a:lnTo>
                              <a:pt x="0" y="365"/>
                            </a:lnTo>
                            <a:lnTo>
                              <a:pt x="0" y="365"/>
                            </a:lnTo>
                            <a:close/>
                          </a:path>
                        </a:pathLst>
                      </a:custGeom>
                      <a:solidFill>
                        <a:srgbClr val="33333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" name=""/>
                      <p:cNvSpPr/>
                      <p:nvPr/>
                    </p:nvSpPr>
                    <p:spPr>
                      <a:xfrm>
                        <a:off x="3407400" y="4232160"/>
                        <a:ext cx="201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101">
                            <a:moveTo>
                              <a:pt x="0" y="101"/>
                            </a:moveTo>
                            <a:lnTo>
                              <a:pt x="61" y="101"/>
                            </a:lnTo>
                            <a:lnTo>
                              <a:pt x="131" y="0"/>
                            </a:lnTo>
                            <a:lnTo>
                              <a:pt x="70" y="0"/>
                            </a:lnTo>
                            <a:lnTo>
                              <a:pt x="0" y="101"/>
                            </a:lnTo>
                            <a:lnTo>
                              <a:pt x="0" y="10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3424680" y="4232160"/>
                        <a:ext cx="201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01">
                            <a:moveTo>
                              <a:pt x="0" y="101"/>
                            </a:moveTo>
                            <a:lnTo>
                              <a:pt x="61" y="101"/>
                            </a:lnTo>
                            <a:lnTo>
                              <a:pt x="130" y="0"/>
                            </a:lnTo>
                            <a:lnTo>
                              <a:pt x="68" y="0"/>
                            </a:lnTo>
                            <a:lnTo>
                              <a:pt x="0" y="101"/>
                            </a:lnTo>
                            <a:lnTo>
                              <a:pt x="0" y="10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3440880" y="4232160"/>
                        <a:ext cx="201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2" h="101">
                            <a:moveTo>
                              <a:pt x="0" y="101"/>
                            </a:moveTo>
                            <a:lnTo>
                              <a:pt x="61" y="101"/>
                            </a:lnTo>
                            <a:lnTo>
                              <a:pt x="132" y="0"/>
                            </a:lnTo>
                            <a:lnTo>
                              <a:pt x="70" y="0"/>
                            </a:lnTo>
                            <a:lnTo>
                              <a:pt x="0" y="101"/>
                            </a:lnTo>
                            <a:lnTo>
                              <a:pt x="0" y="10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3458520" y="4232160"/>
                        <a:ext cx="201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101">
                            <a:moveTo>
                              <a:pt x="0" y="101"/>
                            </a:moveTo>
                            <a:lnTo>
                              <a:pt x="60" y="101"/>
                            </a:lnTo>
                            <a:lnTo>
                              <a:pt x="129" y="0"/>
                            </a:lnTo>
                            <a:lnTo>
                              <a:pt x="68" y="0"/>
                            </a:lnTo>
                            <a:lnTo>
                              <a:pt x="0" y="101"/>
                            </a:lnTo>
                            <a:lnTo>
                              <a:pt x="0" y="10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3474720" y="4232160"/>
                        <a:ext cx="201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01">
                            <a:moveTo>
                              <a:pt x="0" y="101"/>
                            </a:moveTo>
                            <a:lnTo>
                              <a:pt x="60" y="101"/>
                            </a:lnTo>
                            <a:lnTo>
                              <a:pt x="130" y="0"/>
                            </a:lnTo>
                            <a:lnTo>
                              <a:pt x="70" y="0"/>
                            </a:lnTo>
                            <a:lnTo>
                              <a:pt x="0" y="101"/>
                            </a:lnTo>
                            <a:lnTo>
                              <a:pt x="0" y="10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3394080" y="4251600"/>
                        <a:ext cx="32004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1" h="29">
                            <a:moveTo>
                              <a:pt x="0" y="29"/>
                            </a:moveTo>
                            <a:lnTo>
                              <a:pt x="2031" y="29"/>
                            </a:lnTo>
                            <a:lnTo>
                              <a:pt x="2031" y="0"/>
                            </a:lnTo>
                            <a:lnTo>
                              <a:pt x="0" y="0"/>
                            </a:lnTo>
                            <a:lnTo>
                              <a:pt x="0" y="29"/>
                            </a:lnTo>
                            <a:lnTo>
                              <a:pt x="0" y="29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3533760" y="4233240"/>
                        <a:ext cx="20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00">
                            <a:moveTo>
                              <a:pt x="0" y="100"/>
                            </a:moveTo>
                            <a:lnTo>
                              <a:pt x="62" y="100"/>
                            </a:lnTo>
                            <a:lnTo>
                              <a:pt x="130" y="0"/>
                            </a:lnTo>
                            <a:lnTo>
                              <a:pt x="71" y="0"/>
                            </a:lnTo>
                            <a:lnTo>
                              <a:pt x="0" y="100"/>
                            </a:lnTo>
                            <a:lnTo>
                              <a:pt x="0" y="100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3551040" y="4233240"/>
                        <a:ext cx="20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100">
                            <a:moveTo>
                              <a:pt x="0" y="100"/>
                            </a:moveTo>
                            <a:lnTo>
                              <a:pt x="62" y="100"/>
                            </a:lnTo>
                            <a:lnTo>
                              <a:pt x="131" y="0"/>
                            </a:lnTo>
                            <a:lnTo>
                              <a:pt x="69" y="0"/>
                            </a:lnTo>
                            <a:lnTo>
                              <a:pt x="0" y="100"/>
                            </a:lnTo>
                            <a:lnTo>
                              <a:pt x="0" y="100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3567600" y="4233240"/>
                        <a:ext cx="2016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00">
                            <a:moveTo>
                              <a:pt x="0" y="100"/>
                            </a:moveTo>
                            <a:lnTo>
                              <a:pt x="62" y="100"/>
                            </a:lnTo>
                            <a:lnTo>
                              <a:pt x="130" y="0"/>
                            </a:lnTo>
                            <a:lnTo>
                              <a:pt x="69" y="0"/>
                            </a:lnTo>
                            <a:lnTo>
                              <a:pt x="0" y="100"/>
                            </a:lnTo>
                            <a:lnTo>
                              <a:pt x="0" y="100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9" name=""/>
                      <p:cNvSpPr/>
                      <p:nvPr/>
                    </p:nvSpPr>
                    <p:spPr>
                      <a:xfrm>
                        <a:off x="3413520" y="4262760"/>
                        <a:ext cx="1512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76">
                            <a:moveTo>
                              <a:pt x="0" y="76"/>
                            </a:moveTo>
                            <a:lnTo>
                              <a:pt x="47" y="76"/>
                            </a:lnTo>
                            <a:lnTo>
                              <a:pt x="98" y="0"/>
                            </a:lnTo>
                            <a:lnTo>
                              <a:pt x="53" y="0"/>
                            </a:lnTo>
                            <a:lnTo>
                              <a:pt x="0" y="76"/>
                            </a:lnTo>
                            <a:lnTo>
                              <a:pt x="0" y="76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3426840" y="4262760"/>
                        <a:ext cx="154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76">
                            <a:moveTo>
                              <a:pt x="0" y="76"/>
                            </a:moveTo>
                            <a:lnTo>
                              <a:pt x="46" y="76"/>
                            </a:lnTo>
                            <a:lnTo>
                              <a:pt x="97" y="0"/>
                            </a:lnTo>
                            <a:lnTo>
                              <a:pt x="51" y="0"/>
                            </a:lnTo>
                            <a:lnTo>
                              <a:pt x="0" y="76"/>
                            </a:lnTo>
                            <a:lnTo>
                              <a:pt x="0" y="76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3439080" y="4262760"/>
                        <a:ext cx="1512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76">
                            <a:moveTo>
                              <a:pt x="0" y="76"/>
                            </a:moveTo>
                            <a:lnTo>
                              <a:pt x="45" y="76"/>
                            </a:lnTo>
                            <a:lnTo>
                              <a:pt x="99" y="0"/>
                            </a:lnTo>
                            <a:lnTo>
                              <a:pt x="51" y="0"/>
                            </a:lnTo>
                            <a:lnTo>
                              <a:pt x="0" y="76"/>
                            </a:lnTo>
                            <a:lnTo>
                              <a:pt x="0" y="76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3534840" y="4260960"/>
                        <a:ext cx="684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87">
                            <a:moveTo>
                              <a:pt x="0" y="87"/>
                            </a:moveTo>
                            <a:lnTo>
                              <a:pt x="43" y="87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87"/>
                            </a:lnTo>
                            <a:lnTo>
                              <a:pt x="0" y="87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3548160" y="4260960"/>
                        <a:ext cx="68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86">
                            <a:moveTo>
                              <a:pt x="0" y="86"/>
                            </a:moveTo>
                            <a:lnTo>
                              <a:pt x="43" y="86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86"/>
                            </a:lnTo>
                            <a:lnTo>
                              <a:pt x="0" y="86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3561120" y="4260960"/>
                        <a:ext cx="68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88">
                            <a:moveTo>
                              <a:pt x="0" y="88"/>
                            </a:moveTo>
                            <a:lnTo>
                              <a:pt x="43" y="88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88"/>
                            </a:lnTo>
                            <a:lnTo>
                              <a:pt x="0" y="88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3574800" y="4260960"/>
                        <a:ext cx="79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85">
                            <a:moveTo>
                              <a:pt x="0" y="85"/>
                            </a:moveTo>
                            <a:lnTo>
                              <a:pt x="43" y="85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85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3615480" y="4262040"/>
                        <a:ext cx="61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87">
                            <a:moveTo>
                              <a:pt x="0" y="87"/>
                            </a:moveTo>
                            <a:lnTo>
                              <a:pt x="43" y="87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87"/>
                            </a:lnTo>
                            <a:lnTo>
                              <a:pt x="0" y="87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3628800" y="4262040"/>
                        <a:ext cx="576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6">
                            <a:moveTo>
                              <a:pt x="0" y="86"/>
                            </a:moveTo>
                            <a:lnTo>
                              <a:pt x="44" y="86"/>
                            </a:lnTo>
                            <a:lnTo>
                              <a:pt x="44" y="0"/>
                            </a:lnTo>
                            <a:lnTo>
                              <a:pt x="0" y="0"/>
                            </a:lnTo>
                            <a:lnTo>
                              <a:pt x="0" y="86"/>
                            </a:lnTo>
                            <a:lnTo>
                              <a:pt x="0" y="86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3642120" y="4262040"/>
                        <a:ext cx="57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5">
                            <a:moveTo>
                              <a:pt x="0" y="85"/>
                            </a:moveTo>
                            <a:lnTo>
                              <a:pt x="44" y="85"/>
                            </a:lnTo>
                            <a:lnTo>
                              <a:pt x="44" y="0"/>
                            </a:lnTo>
                            <a:lnTo>
                              <a:pt x="0" y="0"/>
                            </a:lnTo>
                            <a:lnTo>
                              <a:pt x="0" y="85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3655080" y="4260960"/>
                        <a:ext cx="612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87">
                            <a:moveTo>
                              <a:pt x="0" y="87"/>
                            </a:moveTo>
                            <a:lnTo>
                              <a:pt x="43" y="87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87"/>
                            </a:lnTo>
                            <a:lnTo>
                              <a:pt x="0" y="87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3609360" y="4232160"/>
                        <a:ext cx="172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24">
                            <a:moveTo>
                              <a:pt x="0" y="124"/>
                            </a:moveTo>
                            <a:lnTo>
                              <a:pt x="39" y="124"/>
                            </a:lnTo>
                            <a:lnTo>
                              <a:pt x="110" y="0"/>
                            </a:lnTo>
                            <a:lnTo>
                              <a:pt x="70" y="0"/>
                            </a:lnTo>
                            <a:lnTo>
                              <a:pt x="0" y="124"/>
                            </a:lnTo>
                            <a:lnTo>
                              <a:pt x="0" y="12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3624480" y="4232160"/>
                        <a:ext cx="172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26">
                            <a:moveTo>
                              <a:pt x="0" y="124"/>
                            </a:moveTo>
                            <a:lnTo>
                              <a:pt x="40" y="126"/>
                            </a:lnTo>
                            <a:lnTo>
                              <a:pt x="109" y="1"/>
                            </a:lnTo>
                            <a:lnTo>
                              <a:pt x="71" y="0"/>
                            </a:lnTo>
                            <a:lnTo>
                              <a:pt x="0" y="124"/>
                            </a:lnTo>
                            <a:lnTo>
                              <a:pt x="0" y="12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3639960" y="4232160"/>
                        <a:ext cx="172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26">
                            <a:moveTo>
                              <a:pt x="0" y="124"/>
                            </a:moveTo>
                            <a:lnTo>
                              <a:pt x="39" y="126"/>
                            </a:lnTo>
                            <a:lnTo>
                              <a:pt x="110" y="1"/>
                            </a:lnTo>
                            <a:lnTo>
                              <a:pt x="70" y="0"/>
                            </a:lnTo>
                            <a:lnTo>
                              <a:pt x="0" y="124"/>
                            </a:lnTo>
                            <a:lnTo>
                              <a:pt x="0" y="12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3655080" y="4232160"/>
                        <a:ext cx="1620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126">
                            <a:moveTo>
                              <a:pt x="0" y="124"/>
                            </a:moveTo>
                            <a:lnTo>
                              <a:pt x="39" y="126"/>
                            </a:lnTo>
                            <a:lnTo>
                              <a:pt x="107" y="1"/>
                            </a:lnTo>
                            <a:lnTo>
                              <a:pt x="70" y="0"/>
                            </a:lnTo>
                            <a:lnTo>
                              <a:pt x="0" y="124"/>
                            </a:lnTo>
                            <a:lnTo>
                              <a:pt x="0" y="12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3670560" y="4232160"/>
                        <a:ext cx="172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25">
                            <a:moveTo>
                              <a:pt x="0" y="125"/>
                            </a:moveTo>
                            <a:lnTo>
                              <a:pt x="40" y="125"/>
                            </a:lnTo>
                            <a:lnTo>
                              <a:pt x="110" y="0"/>
                            </a:lnTo>
                            <a:lnTo>
                              <a:pt x="71" y="0"/>
                            </a:lnTo>
                            <a:lnTo>
                              <a:pt x="0" y="125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>
                        <a:off x="3686760" y="4232160"/>
                        <a:ext cx="158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26">
                            <a:moveTo>
                              <a:pt x="0" y="125"/>
                            </a:moveTo>
                            <a:lnTo>
                              <a:pt x="40" y="126"/>
                            </a:lnTo>
                            <a:lnTo>
                              <a:pt x="109" y="0"/>
                            </a:lnTo>
                            <a:lnTo>
                              <a:pt x="69" y="0"/>
                            </a:lnTo>
                            <a:lnTo>
                              <a:pt x="0" y="125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3517560" y="4371840"/>
                        <a:ext cx="10584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8" h="145">
                            <a:moveTo>
                              <a:pt x="129" y="2"/>
                            </a:moveTo>
                            <a:lnTo>
                              <a:pt x="0" y="145"/>
                            </a:lnTo>
                            <a:lnTo>
                              <a:pt x="668" y="141"/>
                            </a:lnTo>
                            <a:lnTo>
                              <a:pt x="566" y="0"/>
                            </a:lnTo>
                            <a:lnTo>
                              <a:pt x="129" y="2"/>
                            </a:lnTo>
                            <a:lnTo>
                              <a:pt x="129" y="2"/>
                            </a:lnTo>
                            <a:close/>
                          </a:path>
                        </a:pathLst>
                      </a:custGeom>
                      <a:solidFill>
                        <a:srgbClr val="c2d6c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3523680" y="4294440"/>
                        <a:ext cx="98640" cy="7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8" h="502">
                            <a:moveTo>
                              <a:pt x="74" y="502"/>
                            </a:moveTo>
                            <a:lnTo>
                              <a:pt x="555" y="502"/>
                            </a:lnTo>
                            <a:lnTo>
                              <a:pt x="562" y="501"/>
                            </a:lnTo>
                            <a:lnTo>
                              <a:pt x="569" y="500"/>
                            </a:lnTo>
                            <a:lnTo>
                              <a:pt x="575" y="498"/>
                            </a:lnTo>
                            <a:lnTo>
                              <a:pt x="582" y="495"/>
                            </a:lnTo>
                            <a:lnTo>
                              <a:pt x="588" y="492"/>
                            </a:lnTo>
                            <a:lnTo>
                              <a:pt x="595" y="488"/>
                            </a:lnTo>
                            <a:lnTo>
                              <a:pt x="600" y="483"/>
                            </a:lnTo>
                            <a:lnTo>
                              <a:pt x="606" y="480"/>
                            </a:lnTo>
                            <a:lnTo>
                              <a:pt x="610" y="474"/>
                            </a:lnTo>
                            <a:lnTo>
                              <a:pt x="614" y="468"/>
                            </a:lnTo>
                            <a:lnTo>
                              <a:pt x="618" y="462"/>
                            </a:lnTo>
                            <a:lnTo>
                              <a:pt x="622" y="456"/>
                            </a:lnTo>
                            <a:lnTo>
                              <a:pt x="623" y="449"/>
                            </a:lnTo>
                            <a:lnTo>
                              <a:pt x="625" y="442"/>
                            </a:lnTo>
                            <a:lnTo>
                              <a:pt x="628" y="435"/>
                            </a:lnTo>
                            <a:lnTo>
                              <a:pt x="628" y="427"/>
                            </a:lnTo>
                            <a:lnTo>
                              <a:pt x="628" y="75"/>
                            </a:lnTo>
                            <a:lnTo>
                              <a:pt x="628" y="66"/>
                            </a:lnTo>
                            <a:lnTo>
                              <a:pt x="625" y="59"/>
                            </a:lnTo>
                            <a:lnTo>
                              <a:pt x="623" y="52"/>
                            </a:lnTo>
                            <a:lnTo>
                              <a:pt x="622" y="45"/>
                            </a:lnTo>
                            <a:lnTo>
                              <a:pt x="618" y="38"/>
                            </a:lnTo>
                            <a:lnTo>
                              <a:pt x="614" y="32"/>
                            </a:lnTo>
                            <a:lnTo>
                              <a:pt x="610" y="26"/>
                            </a:lnTo>
                            <a:lnTo>
                              <a:pt x="606" y="22"/>
                            </a:lnTo>
                            <a:lnTo>
                              <a:pt x="600" y="16"/>
                            </a:lnTo>
                            <a:lnTo>
                              <a:pt x="595" y="12"/>
                            </a:lnTo>
                            <a:lnTo>
                              <a:pt x="588" y="7"/>
                            </a:lnTo>
                            <a:lnTo>
                              <a:pt x="582" y="5"/>
                            </a:lnTo>
                            <a:lnTo>
                              <a:pt x="575" y="2"/>
                            </a:lnTo>
                            <a:lnTo>
                              <a:pt x="569" y="0"/>
                            </a:lnTo>
                            <a:lnTo>
                              <a:pt x="562" y="0"/>
                            </a:lnTo>
                            <a:lnTo>
                              <a:pt x="555" y="0"/>
                            </a:lnTo>
                            <a:lnTo>
                              <a:pt x="74" y="0"/>
                            </a:lnTo>
                            <a:lnTo>
                              <a:pt x="65" y="0"/>
                            </a:lnTo>
                            <a:lnTo>
                              <a:pt x="58" y="0"/>
                            </a:lnTo>
                            <a:lnTo>
                              <a:pt x="51" y="2"/>
                            </a:lnTo>
                            <a:lnTo>
                              <a:pt x="45" y="5"/>
                            </a:lnTo>
                            <a:lnTo>
                              <a:pt x="38" y="7"/>
                            </a:lnTo>
                            <a:lnTo>
                              <a:pt x="32" y="12"/>
                            </a:lnTo>
                            <a:lnTo>
                              <a:pt x="26" y="16"/>
                            </a:lnTo>
                            <a:lnTo>
                              <a:pt x="21" y="22"/>
                            </a:lnTo>
                            <a:lnTo>
                              <a:pt x="17" y="26"/>
                            </a:lnTo>
                            <a:lnTo>
                              <a:pt x="12" y="32"/>
                            </a:lnTo>
                            <a:lnTo>
                              <a:pt x="8" y="38"/>
                            </a:lnTo>
                            <a:lnTo>
                              <a:pt x="6" y="45"/>
                            </a:lnTo>
                            <a:lnTo>
                              <a:pt x="2" y="52"/>
                            </a:lnTo>
                            <a:lnTo>
                              <a:pt x="1" y="59"/>
                            </a:lnTo>
                            <a:lnTo>
                              <a:pt x="0" y="66"/>
                            </a:lnTo>
                            <a:lnTo>
                              <a:pt x="0" y="75"/>
                            </a:lnTo>
                            <a:lnTo>
                              <a:pt x="0" y="427"/>
                            </a:lnTo>
                            <a:lnTo>
                              <a:pt x="0" y="435"/>
                            </a:lnTo>
                            <a:lnTo>
                              <a:pt x="1" y="442"/>
                            </a:lnTo>
                            <a:lnTo>
                              <a:pt x="2" y="449"/>
                            </a:lnTo>
                            <a:lnTo>
                              <a:pt x="6" y="456"/>
                            </a:lnTo>
                            <a:lnTo>
                              <a:pt x="8" y="462"/>
                            </a:lnTo>
                            <a:lnTo>
                              <a:pt x="12" y="468"/>
                            </a:lnTo>
                            <a:lnTo>
                              <a:pt x="17" y="474"/>
                            </a:lnTo>
                            <a:lnTo>
                              <a:pt x="21" y="480"/>
                            </a:lnTo>
                            <a:lnTo>
                              <a:pt x="26" y="483"/>
                            </a:lnTo>
                            <a:lnTo>
                              <a:pt x="32" y="488"/>
                            </a:lnTo>
                            <a:lnTo>
                              <a:pt x="38" y="492"/>
                            </a:lnTo>
                            <a:lnTo>
                              <a:pt x="45" y="495"/>
                            </a:lnTo>
                            <a:lnTo>
                              <a:pt x="51" y="498"/>
                            </a:lnTo>
                            <a:lnTo>
                              <a:pt x="58" y="500"/>
                            </a:lnTo>
                            <a:lnTo>
                              <a:pt x="65" y="501"/>
                            </a:lnTo>
                            <a:lnTo>
                              <a:pt x="74" y="502"/>
                            </a:lnTo>
                            <a:lnTo>
                              <a:pt x="74" y="502"/>
                            </a:lnTo>
                            <a:close/>
                          </a:path>
                        </a:pathLst>
                      </a:custGeom>
                      <a:solidFill>
                        <a:srgbClr val="d4ebd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3531960" y="4300560"/>
                        <a:ext cx="8028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7" h="383">
                            <a:moveTo>
                              <a:pt x="41" y="383"/>
                            </a:moveTo>
                            <a:lnTo>
                              <a:pt x="478" y="383"/>
                            </a:lnTo>
                            <a:lnTo>
                              <a:pt x="485" y="382"/>
                            </a:lnTo>
                            <a:lnTo>
                              <a:pt x="492" y="380"/>
                            </a:lnTo>
                            <a:lnTo>
                              <a:pt x="500" y="375"/>
                            </a:lnTo>
                            <a:lnTo>
                              <a:pt x="507" y="371"/>
                            </a:lnTo>
                            <a:lnTo>
                              <a:pt x="510" y="364"/>
                            </a:lnTo>
                            <a:lnTo>
                              <a:pt x="514" y="358"/>
                            </a:lnTo>
                            <a:lnTo>
                              <a:pt x="516" y="350"/>
                            </a:lnTo>
                            <a:lnTo>
                              <a:pt x="517" y="343"/>
                            </a:lnTo>
                            <a:lnTo>
                              <a:pt x="517" y="40"/>
                            </a:lnTo>
                            <a:lnTo>
                              <a:pt x="516" y="32"/>
                            </a:lnTo>
                            <a:lnTo>
                              <a:pt x="514" y="25"/>
                            </a:lnTo>
                            <a:lnTo>
                              <a:pt x="510" y="16"/>
                            </a:lnTo>
                            <a:lnTo>
                              <a:pt x="507" y="12"/>
                            </a:lnTo>
                            <a:lnTo>
                              <a:pt x="500" y="6"/>
                            </a:lnTo>
                            <a:lnTo>
                              <a:pt x="492" y="3"/>
                            </a:lnTo>
                            <a:lnTo>
                              <a:pt x="485" y="0"/>
                            </a:lnTo>
                            <a:lnTo>
                              <a:pt x="478" y="0"/>
                            </a:lnTo>
                            <a:lnTo>
                              <a:pt x="41" y="0"/>
                            </a:lnTo>
                            <a:lnTo>
                              <a:pt x="37" y="0"/>
                            </a:lnTo>
                            <a:lnTo>
                              <a:pt x="32" y="0"/>
                            </a:lnTo>
                            <a:lnTo>
                              <a:pt x="28" y="1"/>
                            </a:lnTo>
                            <a:lnTo>
                              <a:pt x="25" y="3"/>
                            </a:lnTo>
                            <a:lnTo>
                              <a:pt x="17" y="6"/>
                            </a:lnTo>
                            <a:lnTo>
                              <a:pt x="11" y="12"/>
                            </a:lnTo>
                            <a:lnTo>
                              <a:pt x="5" y="16"/>
                            </a:lnTo>
                            <a:lnTo>
                              <a:pt x="3" y="25"/>
                            </a:lnTo>
                            <a:lnTo>
                              <a:pt x="0" y="32"/>
                            </a:lnTo>
                            <a:lnTo>
                              <a:pt x="0" y="40"/>
                            </a:lnTo>
                            <a:lnTo>
                              <a:pt x="0" y="343"/>
                            </a:lnTo>
                            <a:lnTo>
                              <a:pt x="0" y="350"/>
                            </a:lnTo>
                            <a:lnTo>
                              <a:pt x="3" y="358"/>
                            </a:lnTo>
                            <a:lnTo>
                              <a:pt x="5" y="364"/>
                            </a:lnTo>
                            <a:lnTo>
                              <a:pt x="11" y="371"/>
                            </a:lnTo>
                            <a:lnTo>
                              <a:pt x="17" y="375"/>
                            </a:lnTo>
                            <a:lnTo>
                              <a:pt x="25" y="380"/>
                            </a:lnTo>
                            <a:lnTo>
                              <a:pt x="28" y="380"/>
                            </a:lnTo>
                            <a:lnTo>
                              <a:pt x="32" y="382"/>
                            </a:lnTo>
                            <a:lnTo>
                              <a:pt x="37" y="382"/>
                            </a:lnTo>
                            <a:lnTo>
                              <a:pt x="41" y="383"/>
                            </a:lnTo>
                            <a:lnTo>
                              <a:pt x="41" y="383"/>
                            </a:lnTo>
                            <a:close/>
                          </a:path>
                        </a:pathLst>
                      </a:custGeom>
                      <a:solidFill>
                        <a:srgbClr val="2e332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3538080" y="4308120"/>
                        <a:ext cx="61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68">
                            <a:moveTo>
                              <a:pt x="0" y="68"/>
                            </a:moveTo>
                            <a:lnTo>
                              <a:pt x="43" y="68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68"/>
                            </a:lnTo>
                            <a:lnTo>
                              <a:pt x="0" y="68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3551040" y="4307400"/>
                        <a:ext cx="61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9">
                            <a:moveTo>
                              <a:pt x="0" y="69"/>
                            </a:moveTo>
                            <a:lnTo>
                              <a:pt x="41" y="69"/>
                            </a:lnTo>
                            <a:lnTo>
                              <a:pt x="41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3564360" y="4307400"/>
                        <a:ext cx="57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69">
                            <a:moveTo>
                              <a:pt x="0" y="69"/>
                            </a:moveTo>
                            <a:lnTo>
                              <a:pt x="43" y="69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3576600" y="430740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9">
                            <a:moveTo>
                              <a:pt x="0" y="69"/>
                            </a:moveTo>
                            <a:lnTo>
                              <a:pt x="44" y="69"/>
                            </a:lnTo>
                            <a:lnTo>
                              <a:pt x="44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3" name=""/>
                      <p:cNvSpPr/>
                      <p:nvPr/>
                    </p:nvSpPr>
                    <p:spPr>
                      <a:xfrm>
                        <a:off x="3551040" y="432288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9">
                            <a:moveTo>
                              <a:pt x="0" y="69"/>
                            </a:moveTo>
                            <a:lnTo>
                              <a:pt x="44" y="69"/>
                            </a:lnTo>
                            <a:lnTo>
                              <a:pt x="44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3565440" y="4322880"/>
                        <a:ext cx="61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69">
                            <a:moveTo>
                              <a:pt x="0" y="69"/>
                            </a:moveTo>
                            <a:lnTo>
                              <a:pt x="42" y="69"/>
                            </a:lnTo>
                            <a:lnTo>
                              <a:pt x="42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3577680" y="432288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71">
                            <a:moveTo>
                              <a:pt x="0" y="71"/>
                            </a:moveTo>
                            <a:lnTo>
                              <a:pt x="43" y="71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3551040" y="433872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9">
                            <a:moveTo>
                              <a:pt x="0" y="69"/>
                            </a:moveTo>
                            <a:lnTo>
                              <a:pt x="44" y="69"/>
                            </a:lnTo>
                            <a:lnTo>
                              <a:pt x="44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3565440" y="4338720"/>
                        <a:ext cx="61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9">
                            <a:moveTo>
                              <a:pt x="0" y="69"/>
                            </a:moveTo>
                            <a:lnTo>
                              <a:pt x="44" y="69"/>
                            </a:lnTo>
                            <a:lnTo>
                              <a:pt x="44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3577680" y="433800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70">
                            <a:moveTo>
                              <a:pt x="0" y="70"/>
                            </a:moveTo>
                            <a:lnTo>
                              <a:pt x="43" y="70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70"/>
                            </a:lnTo>
                            <a:lnTo>
                              <a:pt x="0" y="70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3437280" y="4399200"/>
                        <a:ext cx="11088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2" h="152">
                            <a:moveTo>
                              <a:pt x="137" y="1"/>
                            </a:moveTo>
                            <a:lnTo>
                              <a:pt x="0" y="152"/>
                            </a:lnTo>
                            <a:lnTo>
                              <a:pt x="712" y="149"/>
                            </a:lnTo>
                            <a:lnTo>
                              <a:pt x="603" y="0"/>
                            </a:lnTo>
                            <a:lnTo>
                              <a:pt x="137" y="1"/>
                            </a:lnTo>
                            <a:lnTo>
                              <a:pt x="137" y="1"/>
                            </a:lnTo>
                            <a:close/>
                          </a:path>
                        </a:pathLst>
                      </a:custGeom>
                      <a:solidFill>
                        <a:srgbClr val="c2d6c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3438000" y="4319640"/>
                        <a:ext cx="10584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0" h="533">
                            <a:moveTo>
                              <a:pt x="75" y="533"/>
                            </a:moveTo>
                            <a:lnTo>
                              <a:pt x="594" y="533"/>
                            </a:lnTo>
                            <a:lnTo>
                              <a:pt x="602" y="532"/>
                            </a:lnTo>
                            <a:lnTo>
                              <a:pt x="609" y="530"/>
                            </a:lnTo>
                            <a:lnTo>
                              <a:pt x="616" y="528"/>
                            </a:lnTo>
                            <a:lnTo>
                              <a:pt x="623" y="527"/>
                            </a:lnTo>
                            <a:lnTo>
                              <a:pt x="629" y="523"/>
                            </a:lnTo>
                            <a:lnTo>
                              <a:pt x="635" y="520"/>
                            </a:lnTo>
                            <a:lnTo>
                              <a:pt x="641" y="515"/>
                            </a:lnTo>
                            <a:lnTo>
                              <a:pt x="647" y="510"/>
                            </a:lnTo>
                            <a:lnTo>
                              <a:pt x="652" y="504"/>
                            </a:lnTo>
                            <a:lnTo>
                              <a:pt x="657" y="498"/>
                            </a:lnTo>
                            <a:lnTo>
                              <a:pt x="659" y="492"/>
                            </a:lnTo>
                            <a:lnTo>
                              <a:pt x="663" y="486"/>
                            </a:lnTo>
                            <a:lnTo>
                              <a:pt x="665" y="479"/>
                            </a:lnTo>
                            <a:lnTo>
                              <a:pt x="667" y="472"/>
                            </a:lnTo>
                            <a:lnTo>
                              <a:pt x="668" y="465"/>
                            </a:lnTo>
                            <a:lnTo>
                              <a:pt x="670" y="458"/>
                            </a:lnTo>
                            <a:lnTo>
                              <a:pt x="670" y="73"/>
                            </a:lnTo>
                            <a:lnTo>
                              <a:pt x="668" y="66"/>
                            </a:lnTo>
                            <a:lnTo>
                              <a:pt x="667" y="57"/>
                            </a:lnTo>
                            <a:lnTo>
                              <a:pt x="665" y="50"/>
                            </a:lnTo>
                            <a:lnTo>
                              <a:pt x="663" y="44"/>
                            </a:lnTo>
                            <a:lnTo>
                              <a:pt x="659" y="37"/>
                            </a:lnTo>
                            <a:lnTo>
                              <a:pt x="657" y="31"/>
                            </a:lnTo>
                            <a:lnTo>
                              <a:pt x="652" y="26"/>
                            </a:lnTo>
                            <a:lnTo>
                              <a:pt x="647" y="22"/>
                            </a:lnTo>
                            <a:lnTo>
                              <a:pt x="641" y="16"/>
                            </a:lnTo>
                            <a:lnTo>
                              <a:pt x="635" y="12"/>
                            </a:lnTo>
                            <a:lnTo>
                              <a:pt x="629" y="7"/>
                            </a:lnTo>
                            <a:lnTo>
                              <a:pt x="623" y="5"/>
                            </a:lnTo>
                            <a:lnTo>
                              <a:pt x="616" y="3"/>
                            </a:lnTo>
                            <a:lnTo>
                              <a:pt x="609" y="0"/>
                            </a:lnTo>
                            <a:lnTo>
                              <a:pt x="602" y="0"/>
                            </a:lnTo>
                            <a:lnTo>
                              <a:pt x="594" y="0"/>
                            </a:lnTo>
                            <a:lnTo>
                              <a:pt x="75" y="0"/>
                            </a:lnTo>
                            <a:lnTo>
                              <a:pt x="67" y="0"/>
                            </a:lnTo>
                            <a:lnTo>
                              <a:pt x="59" y="0"/>
                            </a:lnTo>
                            <a:lnTo>
                              <a:pt x="51" y="3"/>
                            </a:lnTo>
                            <a:lnTo>
                              <a:pt x="44" y="5"/>
                            </a:lnTo>
                            <a:lnTo>
                              <a:pt x="38" y="7"/>
                            </a:lnTo>
                            <a:lnTo>
                              <a:pt x="32" y="12"/>
                            </a:lnTo>
                            <a:lnTo>
                              <a:pt x="26" y="16"/>
                            </a:lnTo>
                            <a:lnTo>
                              <a:pt x="22" y="22"/>
                            </a:lnTo>
                            <a:lnTo>
                              <a:pt x="17" y="26"/>
                            </a:lnTo>
                            <a:lnTo>
                              <a:pt x="12" y="31"/>
                            </a:lnTo>
                            <a:lnTo>
                              <a:pt x="7" y="37"/>
                            </a:lnTo>
                            <a:lnTo>
                              <a:pt x="6" y="44"/>
                            </a:lnTo>
                            <a:lnTo>
                              <a:pt x="3" y="50"/>
                            </a:lnTo>
                            <a:lnTo>
                              <a:pt x="1" y="57"/>
                            </a:lnTo>
                            <a:lnTo>
                              <a:pt x="0" y="66"/>
                            </a:lnTo>
                            <a:lnTo>
                              <a:pt x="0" y="73"/>
                            </a:lnTo>
                            <a:lnTo>
                              <a:pt x="0" y="458"/>
                            </a:lnTo>
                            <a:lnTo>
                              <a:pt x="0" y="465"/>
                            </a:lnTo>
                            <a:lnTo>
                              <a:pt x="1" y="472"/>
                            </a:lnTo>
                            <a:lnTo>
                              <a:pt x="3" y="479"/>
                            </a:lnTo>
                            <a:lnTo>
                              <a:pt x="6" y="486"/>
                            </a:lnTo>
                            <a:lnTo>
                              <a:pt x="7" y="492"/>
                            </a:lnTo>
                            <a:lnTo>
                              <a:pt x="12" y="498"/>
                            </a:lnTo>
                            <a:lnTo>
                              <a:pt x="17" y="504"/>
                            </a:lnTo>
                            <a:lnTo>
                              <a:pt x="22" y="510"/>
                            </a:lnTo>
                            <a:lnTo>
                              <a:pt x="26" y="515"/>
                            </a:lnTo>
                            <a:lnTo>
                              <a:pt x="32" y="520"/>
                            </a:lnTo>
                            <a:lnTo>
                              <a:pt x="38" y="523"/>
                            </a:lnTo>
                            <a:lnTo>
                              <a:pt x="44" y="527"/>
                            </a:lnTo>
                            <a:lnTo>
                              <a:pt x="51" y="528"/>
                            </a:lnTo>
                            <a:lnTo>
                              <a:pt x="59" y="530"/>
                            </a:lnTo>
                            <a:lnTo>
                              <a:pt x="67" y="532"/>
                            </a:lnTo>
                            <a:lnTo>
                              <a:pt x="75" y="533"/>
                            </a:lnTo>
                            <a:lnTo>
                              <a:pt x="75" y="533"/>
                            </a:lnTo>
                            <a:close/>
                          </a:path>
                        </a:pathLst>
                      </a:custGeom>
                      <a:solidFill>
                        <a:srgbClr val="d4ebd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3448080" y="4325760"/>
                        <a:ext cx="86400" cy="5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0" h="408">
                            <a:moveTo>
                              <a:pt x="39" y="408"/>
                            </a:moveTo>
                            <a:lnTo>
                              <a:pt x="510" y="408"/>
                            </a:lnTo>
                            <a:lnTo>
                              <a:pt x="518" y="407"/>
                            </a:lnTo>
                            <a:lnTo>
                              <a:pt x="526" y="404"/>
                            </a:lnTo>
                            <a:lnTo>
                              <a:pt x="532" y="401"/>
                            </a:lnTo>
                            <a:lnTo>
                              <a:pt x="538" y="396"/>
                            </a:lnTo>
                            <a:lnTo>
                              <a:pt x="543" y="389"/>
                            </a:lnTo>
                            <a:lnTo>
                              <a:pt x="546" y="383"/>
                            </a:lnTo>
                            <a:lnTo>
                              <a:pt x="549" y="376"/>
                            </a:lnTo>
                            <a:lnTo>
                              <a:pt x="550" y="367"/>
                            </a:lnTo>
                            <a:lnTo>
                              <a:pt x="550" y="41"/>
                            </a:lnTo>
                            <a:lnTo>
                              <a:pt x="550" y="36"/>
                            </a:lnTo>
                            <a:lnTo>
                              <a:pt x="549" y="31"/>
                            </a:lnTo>
                            <a:lnTo>
                              <a:pt x="547" y="28"/>
                            </a:lnTo>
                            <a:lnTo>
                              <a:pt x="546" y="24"/>
                            </a:lnTo>
                            <a:lnTo>
                              <a:pt x="543" y="17"/>
                            </a:lnTo>
                            <a:lnTo>
                              <a:pt x="538" y="11"/>
                            </a:lnTo>
                            <a:lnTo>
                              <a:pt x="532" y="6"/>
                            </a:lnTo>
                            <a:lnTo>
                              <a:pt x="526" y="3"/>
                            </a:lnTo>
                            <a:lnTo>
                              <a:pt x="518" y="0"/>
                            </a:lnTo>
                            <a:lnTo>
                              <a:pt x="510" y="0"/>
                            </a:lnTo>
                            <a:lnTo>
                              <a:pt x="39" y="0"/>
                            </a:lnTo>
                            <a:lnTo>
                              <a:pt x="31" y="0"/>
                            </a:lnTo>
                            <a:lnTo>
                              <a:pt x="24" y="3"/>
                            </a:lnTo>
                            <a:lnTo>
                              <a:pt x="16" y="6"/>
                            </a:lnTo>
                            <a:lnTo>
                              <a:pt x="10" y="11"/>
                            </a:lnTo>
                            <a:lnTo>
                              <a:pt x="6" y="17"/>
                            </a:lnTo>
                            <a:lnTo>
                              <a:pt x="2" y="24"/>
                            </a:lnTo>
                            <a:lnTo>
                              <a:pt x="0" y="28"/>
                            </a:lnTo>
                            <a:lnTo>
                              <a:pt x="0" y="31"/>
                            </a:lnTo>
                            <a:lnTo>
                              <a:pt x="0" y="36"/>
                            </a:lnTo>
                            <a:lnTo>
                              <a:pt x="0" y="41"/>
                            </a:lnTo>
                            <a:lnTo>
                              <a:pt x="0" y="367"/>
                            </a:lnTo>
                            <a:lnTo>
                              <a:pt x="0" y="376"/>
                            </a:lnTo>
                            <a:lnTo>
                              <a:pt x="2" y="383"/>
                            </a:lnTo>
                            <a:lnTo>
                              <a:pt x="6" y="389"/>
                            </a:lnTo>
                            <a:lnTo>
                              <a:pt x="10" y="396"/>
                            </a:lnTo>
                            <a:lnTo>
                              <a:pt x="16" y="401"/>
                            </a:lnTo>
                            <a:lnTo>
                              <a:pt x="24" y="404"/>
                            </a:lnTo>
                            <a:lnTo>
                              <a:pt x="31" y="407"/>
                            </a:lnTo>
                            <a:lnTo>
                              <a:pt x="39" y="408"/>
                            </a:lnTo>
                            <a:lnTo>
                              <a:pt x="39" y="408"/>
                            </a:lnTo>
                            <a:close/>
                          </a:path>
                        </a:pathLst>
                      </a:custGeom>
                      <a:solidFill>
                        <a:srgbClr val="2e332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3454200" y="4333680"/>
                        <a:ext cx="6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73">
                            <a:moveTo>
                              <a:pt x="0" y="73"/>
                            </a:moveTo>
                            <a:lnTo>
                              <a:pt x="47" y="73"/>
                            </a:lnTo>
                            <a:lnTo>
                              <a:pt x="47" y="0"/>
                            </a:lnTo>
                            <a:lnTo>
                              <a:pt x="0" y="0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3468600" y="4333680"/>
                        <a:ext cx="6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73">
                            <a:moveTo>
                              <a:pt x="0" y="73"/>
                            </a:moveTo>
                            <a:lnTo>
                              <a:pt x="46" y="73"/>
                            </a:lnTo>
                            <a:lnTo>
                              <a:pt x="46" y="0"/>
                            </a:lnTo>
                            <a:lnTo>
                              <a:pt x="0" y="0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3483000" y="4333680"/>
                        <a:ext cx="57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74">
                            <a:moveTo>
                              <a:pt x="0" y="74"/>
                            </a:moveTo>
                            <a:lnTo>
                              <a:pt x="46" y="74"/>
                            </a:lnTo>
                            <a:lnTo>
                              <a:pt x="46" y="0"/>
                            </a:lnTo>
                            <a:lnTo>
                              <a:pt x="0" y="0"/>
                            </a:lnTo>
                            <a:lnTo>
                              <a:pt x="0" y="74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3497040" y="4332600"/>
                        <a:ext cx="6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3">
                            <a:moveTo>
                              <a:pt x="0" y="73"/>
                            </a:moveTo>
                            <a:lnTo>
                              <a:pt x="45" y="73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3454200" y="4349520"/>
                        <a:ext cx="82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4">
                            <a:moveTo>
                              <a:pt x="0" y="74"/>
                            </a:moveTo>
                            <a:lnTo>
                              <a:pt x="45" y="74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4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3469680" y="4349520"/>
                        <a:ext cx="6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3">
                            <a:moveTo>
                              <a:pt x="0" y="73"/>
                            </a:moveTo>
                            <a:lnTo>
                              <a:pt x="45" y="73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3483000" y="4349520"/>
                        <a:ext cx="6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3">
                            <a:moveTo>
                              <a:pt x="0" y="73"/>
                            </a:moveTo>
                            <a:lnTo>
                              <a:pt x="45" y="73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3497040" y="4349520"/>
                        <a:ext cx="7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4">
                            <a:moveTo>
                              <a:pt x="0" y="74"/>
                            </a:moveTo>
                            <a:lnTo>
                              <a:pt x="45" y="74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4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3454200" y="4365720"/>
                        <a:ext cx="82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2">
                            <a:moveTo>
                              <a:pt x="0" y="72"/>
                            </a:moveTo>
                            <a:lnTo>
                              <a:pt x="45" y="72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3469680" y="4365720"/>
                        <a:ext cx="6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4">
                            <a:moveTo>
                              <a:pt x="0" y="74"/>
                            </a:moveTo>
                            <a:lnTo>
                              <a:pt x="45" y="74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4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3483000" y="436572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4">
                            <a:moveTo>
                              <a:pt x="0" y="74"/>
                            </a:moveTo>
                            <a:lnTo>
                              <a:pt x="45" y="74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4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3497040" y="4365000"/>
                        <a:ext cx="792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3">
                            <a:moveTo>
                              <a:pt x="0" y="73"/>
                            </a:moveTo>
                            <a:lnTo>
                              <a:pt x="45" y="73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3454200" y="4330080"/>
                        <a:ext cx="6012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2" h="44">
                            <a:moveTo>
                              <a:pt x="0" y="44"/>
                            </a:moveTo>
                            <a:lnTo>
                              <a:pt x="382" y="44"/>
                            </a:lnTo>
                            <a:lnTo>
                              <a:pt x="382" y="0"/>
                            </a:lnTo>
                            <a:lnTo>
                              <a:pt x="0" y="0"/>
                            </a:lnTo>
                            <a:lnTo>
                              <a:pt x="0" y="44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3528720" y="4428720"/>
                        <a:ext cx="1224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82">
                            <a:moveTo>
                              <a:pt x="41" y="82"/>
                            </a:moveTo>
                            <a:lnTo>
                              <a:pt x="48" y="81"/>
                            </a:lnTo>
                            <a:lnTo>
                              <a:pt x="55" y="78"/>
                            </a:lnTo>
                            <a:lnTo>
                              <a:pt x="62" y="74"/>
                            </a:lnTo>
                            <a:lnTo>
                              <a:pt x="68" y="70"/>
                            </a:lnTo>
                            <a:lnTo>
                              <a:pt x="73" y="63"/>
                            </a:lnTo>
                            <a:lnTo>
                              <a:pt x="78" y="57"/>
                            </a:lnTo>
                            <a:lnTo>
                              <a:pt x="79" y="49"/>
                            </a:lnTo>
                            <a:lnTo>
                              <a:pt x="81" y="42"/>
                            </a:lnTo>
                            <a:lnTo>
                              <a:pt x="80" y="37"/>
                            </a:lnTo>
                            <a:lnTo>
                              <a:pt x="79" y="32"/>
                            </a:lnTo>
                            <a:lnTo>
                              <a:pt x="78" y="28"/>
                            </a:lnTo>
                            <a:lnTo>
                              <a:pt x="78" y="25"/>
                            </a:lnTo>
                            <a:lnTo>
                              <a:pt x="73" y="18"/>
                            </a:lnTo>
                            <a:lnTo>
                              <a:pt x="68" y="12"/>
                            </a:lnTo>
                            <a:lnTo>
                              <a:pt x="62" y="7"/>
                            </a:lnTo>
                            <a:lnTo>
                              <a:pt x="55" y="3"/>
                            </a:lnTo>
                            <a:lnTo>
                              <a:pt x="48" y="0"/>
                            </a:lnTo>
                            <a:lnTo>
                              <a:pt x="41" y="0"/>
                            </a:lnTo>
                            <a:lnTo>
                              <a:pt x="36" y="0"/>
                            </a:lnTo>
                            <a:lnTo>
                              <a:pt x="31" y="0"/>
                            </a:lnTo>
                            <a:lnTo>
                              <a:pt x="28" y="1"/>
                            </a:lnTo>
                            <a:lnTo>
                              <a:pt x="25" y="3"/>
                            </a:lnTo>
                            <a:lnTo>
                              <a:pt x="17" y="7"/>
                            </a:lnTo>
                            <a:lnTo>
                              <a:pt x="12" y="12"/>
                            </a:lnTo>
                            <a:lnTo>
                              <a:pt x="6" y="18"/>
                            </a:lnTo>
                            <a:lnTo>
                              <a:pt x="3" y="25"/>
                            </a:lnTo>
                            <a:lnTo>
                              <a:pt x="1" y="28"/>
                            </a:lnTo>
                            <a:lnTo>
                              <a:pt x="0" y="32"/>
                            </a:lnTo>
                            <a:lnTo>
                              <a:pt x="0" y="37"/>
                            </a:lnTo>
                            <a:lnTo>
                              <a:pt x="0" y="42"/>
                            </a:lnTo>
                            <a:lnTo>
                              <a:pt x="0" y="49"/>
                            </a:lnTo>
                            <a:lnTo>
                              <a:pt x="3" y="57"/>
                            </a:lnTo>
                            <a:lnTo>
                              <a:pt x="6" y="63"/>
                            </a:lnTo>
                            <a:lnTo>
                              <a:pt x="12" y="70"/>
                            </a:lnTo>
                            <a:lnTo>
                              <a:pt x="17" y="74"/>
                            </a:lnTo>
                            <a:lnTo>
                              <a:pt x="25" y="78"/>
                            </a:lnTo>
                            <a:lnTo>
                              <a:pt x="28" y="78"/>
                            </a:lnTo>
                            <a:lnTo>
                              <a:pt x="31" y="81"/>
                            </a:lnTo>
                            <a:lnTo>
                              <a:pt x="36" y="81"/>
                            </a:lnTo>
                            <a:lnTo>
                              <a:pt x="41" y="82"/>
                            </a:lnTo>
                            <a:lnTo>
                              <a:pt x="41" y="8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3555360" y="4422600"/>
                        <a:ext cx="122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81">
                            <a:moveTo>
                              <a:pt x="41" y="81"/>
                            </a:moveTo>
                            <a:lnTo>
                              <a:pt x="48" y="80"/>
                            </a:lnTo>
                            <a:lnTo>
                              <a:pt x="56" y="78"/>
                            </a:lnTo>
                            <a:lnTo>
                              <a:pt x="62" y="74"/>
                            </a:lnTo>
                            <a:lnTo>
                              <a:pt x="69" y="69"/>
                            </a:lnTo>
                            <a:lnTo>
                              <a:pt x="74" y="62"/>
                            </a:lnTo>
                            <a:lnTo>
                              <a:pt x="78" y="56"/>
                            </a:lnTo>
                            <a:lnTo>
                              <a:pt x="80" y="49"/>
                            </a:lnTo>
                            <a:lnTo>
                              <a:pt x="81" y="41"/>
                            </a:lnTo>
                            <a:lnTo>
                              <a:pt x="80" y="33"/>
                            </a:lnTo>
                            <a:lnTo>
                              <a:pt x="78" y="25"/>
                            </a:lnTo>
                            <a:lnTo>
                              <a:pt x="74" y="18"/>
                            </a:lnTo>
                            <a:lnTo>
                              <a:pt x="69" y="12"/>
                            </a:lnTo>
                            <a:lnTo>
                              <a:pt x="62" y="8"/>
                            </a:lnTo>
                            <a:lnTo>
                              <a:pt x="56" y="4"/>
                            </a:lnTo>
                            <a:lnTo>
                              <a:pt x="48" y="0"/>
                            </a:lnTo>
                            <a:lnTo>
                              <a:pt x="41" y="0"/>
                            </a:lnTo>
                            <a:lnTo>
                              <a:pt x="36" y="0"/>
                            </a:lnTo>
                            <a:lnTo>
                              <a:pt x="32" y="0"/>
                            </a:lnTo>
                            <a:lnTo>
                              <a:pt x="28" y="2"/>
                            </a:lnTo>
                            <a:lnTo>
                              <a:pt x="25" y="4"/>
                            </a:lnTo>
                            <a:lnTo>
                              <a:pt x="17" y="8"/>
                            </a:lnTo>
                            <a:lnTo>
                              <a:pt x="12" y="12"/>
                            </a:lnTo>
                            <a:lnTo>
                              <a:pt x="6" y="18"/>
                            </a:lnTo>
                            <a:lnTo>
                              <a:pt x="4" y="25"/>
                            </a:lnTo>
                            <a:lnTo>
                              <a:pt x="0" y="33"/>
                            </a:lnTo>
                            <a:lnTo>
                              <a:pt x="0" y="41"/>
                            </a:lnTo>
                            <a:lnTo>
                              <a:pt x="0" y="49"/>
                            </a:lnTo>
                            <a:lnTo>
                              <a:pt x="4" y="56"/>
                            </a:lnTo>
                            <a:lnTo>
                              <a:pt x="6" y="62"/>
                            </a:lnTo>
                            <a:lnTo>
                              <a:pt x="12" y="69"/>
                            </a:lnTo>
                            <a:lnTo>
                              <a:pt x="17" y="74"/>
                            </a:lnTo>
                            <a:lnTo>
                              <a:pt x="25" y="78"/>
                            </a:lnTo>
                            <a:lnTo>
                              <a:pt x="28" y="79"/>
                            </a:lnTo>
                            <a:lnTo>
                              <a:pt x="32" y="80"/>
                            </a:lnTo>
                            <a:lnTo>
                              <a:pt x="36" y="81"/>
                            </a:lnTo>
                            <a:lnTo>
                              <a:pt x="41" y="81"/>
                            </a:lnTo>
                            <a:lnTo>
                              <a:pt x="41" y="8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3582720" y="4416480"/>
                        <a:ext cx="122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81">
                            <a:moveTo>
                              <a:pt x="40" y="81"/>
                            </a:moveTo>
                            <a:lnTo>
                              <a:pt x="47" y="80"/>
                            </a:lnTo>
                            <a:lnTo>
                              <a:pt x="54" y="77"/>
                            </a:lnTo>
                            <a:lnTo>
                              <a:pt x="61" y="74"/>
                            </a:lnTo>
                            <a:lnTo>
                              <a:pt x="67" y="69"/>
                            </a:lnTo>
                            <a:lnTo>
                              <a:pt x="72" y="62"/>
                            </a:lnTo>
                            <a:lnTo>
                              <a:pt x="76" y="56"/>
                            </a:lnTo>
                            <a:lnTo>
                              <a:pt x="78" y="48"/>
                            </a:lnTo>
                            <a:lnTo>
                              <a:pt x="79" y="40"/>
                            </a:lnTo>
                            <a:lnTo>
                              <a:pt x="78" y="36"/>
                            </a:lnTo>
                            <a:lnTo>
                              <a:pt x="78" y="32"/>
                            </a:lnTo>
                            <a:lnTo>
                              <a:pt x="77" y="27"/>
                            </a:lnTo>
                            <a:lnTo>
                              <a:pt x="76" y="25"/>
                            </a:lnTo>
                            <a:lnTo>
                              <a:pt x="72" y="17"/>
                            </a:lnTo>
                            <a:lnTo>
                              <a:pt x="67" y="12"/>
                            </a:lnTo>
                            <a:lnTo>
                              <a:pt x="61" y="6"/>
                            </a:lnTo>
                            <a:lnTo>
                              <a:pt x="54" y="4"/>
                            </a:lnTo>
                            <a:lnTo>
                              <a:pt x="47" y="0"/>
                            </a:lnTo>
                            <a:lnTo>
                              <a:pt x="40" y="0"/>
                            </a:lnTo>
                            <a:lnTo>
                              <a:pt x="31" y="0"/>
                            </a:lnTo>
                            <a:lnTo>
                              <a:pt x="24" y="4"/>
                            </a:lnTo>
                            <a:lnTo>
                              <a:pt x="17" y="6"/>
                            </a:lnTo>
                            <a:lnTo>
                              <a:pt x="11" y="12"/>
                            </a:lnTo>
                            <a:lnTo>
                              <a:pt x="6" y="17"/>
                            </a:lnTo>
                            <a:lnTo>
                              <a:pt x="3" y="25"/>
                            </a:lnTo>
                            <a:lnTo>
                              <a:pt x="0" y="27"/>
                            </a:lnTo>
                            <a:lnTo>
                              <a:pt x="0" y="32"/>
                            </a:lnTo>
                            <a:lnTo>
                              <a:pt x="0" y="36"/>
                            </a:lnTo>
                            <a:lnTo>
                              <a:pt x="0" y="40"/>
                            </a:lnTo>
                            <a:lnTo>
                              <a:pt x="0" y="48"/>
                            </a:lnTo>
                            <a:lnTo>
                              <a:pt x="3" y="56"/>
                            </a:lnTo>
                            <a:lnTo>
                              <a:pt x="6" y="62"/>
                            </a:lnTo>
                            <a:lnTo>
                              <a:pt x="11" y="69"/>
                            </a:lnTo>
                            <a:lnTo>
                              <a:pt x="17" y="74"/>
                            </a:lnTo>
                            <a:lnTo>
                              <a:pt x="24" y="77"/>
                            </a:lnTo>
                            <a:lnTo>
                              <a:pt x="31" y="80"/>
                            </a:lnTo>
                            <a:lnTo>
                              <a:pt x="40" y="81"/>
                            </a:lnTo>
                            <a:lnTo>
                              <a:pt x="40" y="8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3609360" y="4409640"/>
                        <a:ext cx="140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81">
                            <a:moveTo>
                              <a:pt x="41" y="81"/>
                            </a:moveTo>
                            <a:lnTo>
                              <a:pt x="48" y="80"/>
                            </a:lnTo>
                            <a:lnTo>
                              <a:pt x="55" y="78"/>
                            </a:lnTo>
                            <a:lnTo>
                              <a:pt x="62" y="74"/>
                            </a:lnTo>
                            <a:lnTo>
                              <a:pt x="68" y="70"/>
                            </a:lnTo>
                            <a:lnTo>
                              <a:pt x="73" y="62"/>
                            </a:lnTo>
                            <a:lnTo>
                              <a:pt x="77" y="56"/>
                            </a:lnTo>
                            <a:lnTo>
                              <a:pt x="79" y="48"/>
                            </a:lnTo>
                            <a:lnTo>
                              <a:pt x="81" y="41"/>
                            </a:lnTo>
                            <a:lnTo>
                              <a:pt x="79" y="33"/>
                            </a:lnTo>
                            <a:lnTo>
                              <a:pt x="77" y="26"/>
                            </a:lnTo>
                            <a:lnTo>
                              <a:pt x="73" y="17"/>
                            </a:lnTo>
                            <a:lnTo>
                              <a:pt x="68" y="12"/>
                            </a:lnTo>
                            <a:lnTo>
                              <a:pt x="62" y="6"/>
                            </a:lnTo>
                            <a:lnTo>
                              <a:pt x="55" y="4"/>
                            </a:lnTo>
                            <a:lnTo>
                              <a:pt x="48" y="0"/>
                            </a:lnTo>
                            <a:lnTo>
                              <a:pt x="41" y="0"/>
                            </a:lnTo>
                            <a:lnTo>
                              <a:pt x="36" y="0"/>
                            </a:lnTo>
                            <a:lnTo>
                              <a:pt x="31" y="0"/>
                            </a:lnTo>
                            <a:lnTo>
                              <a:pt x="28" y="2"/>
                            </a:lnTo>
                            <a:lnTo>
                              <a:pt x="24" y="4"/>
                            </a:lnTo>
                            <a:lnTo>
                              <a:pt x="17" y="6"/>
                            </a:lnTo>
                            <a:lnTo>
                              <a:pt x="11" y="12"/>
                            </a:lnTo>
                            <a:lnTo>
                              <a:pt x="6" y="17"/>
                            </a:lnTo>
                            <a:lnTo>
                              <a:pt x="3" y="26"/>
                            </a:lnTo>
                            <a:lnTo>
                              <a:pt x="0" y="33"/>
                            </a:lnTo>
                            <a:lnTo>
                              <a:pt x="0" y="41"/>
                            </a:lnTo>
                            <a:lnTo>
                              <a:pt x="0" y="48"/>
                            </a:lnTo>
                            <a:lnTo>
                              <a:pt x="3" y="56"/>
                            </a:lnTo>
                            <a:lnTo>
                              <a:pt x="6" y="62"/>
                            </a:lnTo>
                            <a:lnTo>
                              <a:pt x="11" y="70"/>
                            </a:lnTo>
                            <a:lnTo>
                              <a:pt x="17" y="74"/>
                            </a:lnTo>
                            <a:lnTo>
                              <a:pt x="24" y="78"/>
                            </a:lnTo>
                            <a:lnTo>
                              <a:pt x="28" y="79"/>
                            </a:lnTo>
                            <a:lnTo>
                              <a:pt x="31" y="80"/>
                            </a:lnTo>
                            <a:lnTo>
                              <a:pt x="36" y="81"/>
                            </a:lnTo>
                            <a:lnTo>
                              <a:pt x="41" y="81"/>
                            </a:lnTo>
                            <a:lnTo>
                              <a:pt x="41" y="8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3523680" y="4431240"/>
                        <a:ext cx="133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81">
                            <a:moveTo>
                              <a:pt x="40" y="81"/>
                            </a:moveTo>
                            <a:lnTo>
                              <a:pt x="48" y="80"/>
                            </a:lnTo>
                            <a:lnTo>
                              <a:pt x="55" y="77"/>
                            </a:lnTo>
                            <a:lnTo>
                              <a:pt x="61" y="74"/>
                            </a:lnTo>
                            <a:lnTo>
                              <a:pt x="68" y="69"/>
                            </a:lnTo>
                            <a:lnTo>
                              <a:pt x="73" y="62"/>
                            </a:lnTo>
                            <a:lnTo>
                              <a:pt x="77" y="56"/>
                            </a:lnTo>
                            <a:lnTo>
                              <a:pt x="79" y="47"/>
                            </a:lnTo>
                            <a:lnTo>
                              <a:pt x="80" y="40"/>
                            </a:lnTo>
                            <a:lnTo>
                              <a:pt x="79" y="32"/>
                            </a:lnTo>
                            <a:lnTo>
                              <a:pt x="77" y="25"/>
                            </a:lnTo>
                            <a:lnTo>
                              <a:pt x="73" y="16"/>
                            </a:lnTo>
                            <a:lnTo>
                              <a:pt x="68" y="12"/>
                            </a:lnTo>
                            <a:lnTo>
                              <a:pt x="61" y="6"/>
                            </a:lnTo>
                            <a:lnTo>
                              <a:pt x="55" y="3"/>
                            </a:lnTo>
                            <a:lnTo>
                              <a:pt x="48" y="0"/>
                            </a:lnTo>
                            <a:lnTo>
                              <a:pt x="40" y="0"/>
                            </a:lnTo>
                            <a:lnTo>
                              <a:pt x="35" y="0"/>
                            </a:lnTo>
                            <a:lnTo>
                              <a:pt x="30" y="0"/>
                            </a:lnTo>
                            <a:lnTo>
                              <a:pt x="26" y="1"/>
                            </a:lnTo>
                            <a:lnTo>
                              <a:pt x="24" y="3"/>
                            </a:lnTo>
                            <a:lnTo>
                              <a:pt x="17" y="6"/>
                            </a:lnTo>
                            <a:lnTo>
                              <a:pt x="11" y="12"/>
                            </a:lnTo>
                            <a:lnTo>
                              <a:pt x="6" y="16"/>
                            </a:lnTo>
                            <a:lnTo>
                              <a:pt x="3" y="25"/>
                            </a:lnTo>
                            <a:lnTo>
                              <a:pt x="0" y="32"/>
                            </a:lnTo>
                            <a:lnTo>
                              <a:pt x="0" y="40"/>
                            </a:lnTo>
                            <a:lnTo>
                              <a:pt x="0" y="47"/>
                            </a:lnTo>
                            <a:lnTo>
                              <a:pt x="3" y="56"/>
                            </a:lnTo>
                            <a:lnTo>
                              <a:pt x="6" y="62"/>
                            </a:lnTo>
                            <a:lnTo>
                              <a:pt x="11" y="69"/>
                            </a:lnTo>
                            <a:lnTo>
                              <a:pt x="17" y="74"/>
                            </a:lnTo>
                            <a:lnTo>
                              <a:pt x="24" y="77"/>
                            </a:lnTo>
                            <a:lnTo>
                              <a:pt x="26" y="77"/>
                            </a:lnTo>
                            <a:lnTo>
                              <a:pt x="30" y="80"/>
                            </a:lnTo>
                            <a:lnTo>
                              <a:pt x="35" y="80"/>
                            </a:lnTo>
                            <a:lnTo>
                              <a:pt x="40" y="81"/>
                            </a:lnTo>
                            <a:lnTo>
                              <a:pt x="40" y="81"/>
                            </a:lnTo>
                            <a:close/>
                          </a:path>
                        </a:pathLst>
                      </a:custGeom>
                      <a:solidFill>
                        <a:srgbClr val="96abb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>
                        <a:off x="3551040" y="4424400"/>
                        <a:ext cx="133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81">
                            <a:moveTo>
                              <a:pt x="42" y="81"/>
                            </a:moveTo>
                            <a:lnTo>
                              <a:pt x="48" y="79"/>
                            </a:lnTo>
                            <a:lnTo>
                              <a:pt x="56" y="77"/>
                            </a:lnTo>
                            <a:lnTo>
                              <a:pt x="63" y="73"/>
                            </a:lnTo>
                            <a:lnTo>
                              <a:pt x="69" y="68"/>
                            </a:lnTo>
                            <a:lnTo>
                              <a:pt x="74" y="62"/>
                            </a:lnTo>
                            <a:lnTo>
                              <a:pt x="78" y="55"/>
                            </a:lnTo>
                            <a:lnTo>
                              <a:pt x="80" y="48"/>
                            </a:lnTo>
                            <a:lnTo>
                              <a:pt x="81" y="41"/>
                            </a:lnTo>
                            <a:lnTo>
                              <a:pt x="81" y="36"/>
                            </a:lnTo>
                            <a:lnTo>
                              <a:pt x="80" y="31"/>
                            </a:lnTo>
                            <a:lnTo>
                              <a:pt x="79" y="28"/>
                            </a:lnTo>
                            <a:lnTo>
                              <a:pt x="78" y="24"/>
                            </a:lnTo>
                            <a:lnTo>
                              <a:pt x="74" y="17"/>
                            </a:lnTo>
                            <a:lnTo>
                              <a:pt x="69" y="11"/>
                            </a:lnTo>
                            <a:lnTo>
                              <a:pt x="63" y="6"/>
                            </a:lnTo>
                            <a:lnTo>
                              <a:pt x="56" y="3"/>
                            </a:lnTo>
                            <a:lnTo>
                              <a:pt x="48" y="0"/>
                            </a:lnTo>
                            <a:lnTo>
                              <a:pt x="42" y="0"/>
                            </a:lnTo>
                            <a:lnTo>
                              <a:pt x="37" y="0"/>
                            </a:lnTo>
                            <a:lnTo>
                              <a:pt x="32" y="0"/>
                            </a:lnTo>
                            <a:lnTo>
                              <a:pt x="29" y="0"/>
                            </a:lnTo>
                            <a:lnTo>
                              <a:pt x="25" y="3"/>
                            </a:lnTo>
                            <a:lnTo>
                              <a:pt x="18" y="6"/>
                            </a:lnTo>
                            <a:lnTo>
                              <a:pt x="12" y="11"/>
                            </a:lnTo>
                            <a:lnTo>
                              <a:pt x="7" y="17"/>
                            </a:lnTo>
                            <a:lnTo>
                              <a:pt x="4" y="24"/>
                            </a:lnTo>
                            <a:lnTo>
                              <a:pt x="1" y="28"/>
                            </a:lnTo>
                            <a:lnTo>
                              <a:pt x="0" y="31"/>
                            </a:lnTo>
                            <a:lnTo>
                              <a:pt x="0" y="36"/>
                            </a:lnTo>
                            <a:lnTo>
                              <a:pt x="0" y="41"/>
                            </a:lnTo>
                            <a:lnTo>
                              <a:pt x="0" y="48"/>
                            </a:lnTo>
                            <a:lnTo>
                              <a:pt x="4" y="55"/>
                            </a:lnTo>
                            <a:lnTo>
                              <a:pt x="7" y="62"/>
                            </a:lnTo>
                            <a:lnTo>
                              <a:pt x="12" y="68"/>
                            </a:lnTo>
                            <a:lnTo>
                              <a:pt x="18" y="73"/>
                            </a:lnTo>
                            <a:lnTo>
                              <a:pt x="25" y="77"/>
                            </a:lnTo>
                            <a:lnTo>
                              <a:pt x="29" y="78"/>
                            </a:lnTo>
                            <a:lnTo>
                              <a:pt x="32" y="79"/>
                            </a:lnTo>
                            <a:lnTo>
                              <a:pt x="37" y="80"/>
                            </a:lnTo>
                            <a:lnTo>
                              <a:pt x="42" y="81"/>
                            </a:lnTo>
                            <a:lnTo>
                              <a:pt x="42" y="81"/>
                            </a:lnTo>
                            <a:close/>
                          </a:path>
                        </a:pathLst>
                      </a:custGeom>
                      <a:solidFill>
                        <a:srgbClr val="96abb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3578760" y="4417560"/>
                        <a:ext cx="133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81">
                            <a:moveTo>
                              <a:pt x="41" y="81"/>
                            </a:moveTo>
                            <a:lnTo>
                              <a:pt x="48" y="78"/>
                            </a:lnTo>
                            <a:lnTo>
                              <a:pt x="56" y="76"/>
                            </a:lnTo>
                            <a:lnTo>
                              <a:pt x="62" y="73"/>
                            </a:lnTo>
                            <a:lnTo>
                              <a:pt x="69" y="68"/>
                            </a:lnTo>
                            <a:lnTo>
                              <a:pt x="74" y="62"/>
                            </a:lnTo>
                            <a:lnTo>
                              <a:pt x="78" y="55"/>
                            </a:lnTo>
                            <a:lnTo>
                              <a:pt x="80" y="48"/>
                            </a:lnTo>
                            <a:lnTo>
                              <a:pt x="81" y="39"/>
                            </a:lnTo>
                            <a:lnTo>
                              <a:pt x="80" y="31"/>
                            </a:lnTo>
                            <a:lnTo>
                              <a:pt x="78" y="24"/>
                            </a:lnTo>
                            <a:lnTo>
                              <a:pt x="74" y="17"/>
                            </a:lnTo>
                            <a:lnTo>
                              <a:pt x="69" y="11"/>
                            </a:lnTo>
                            <a:lnTo>
                              <a:pt x="62" y="6"/>
                            </a:lnTo>
                            <a:lnTo>
                              <a:pt x="56" y="2"/>
                            </a:lnTo>
                            <a:lnTo>
                              <a:pt x="48" y="0"/>
                            </a:lnTo>
                            <a:lnTo>
                              <a:pt x="41" y="0"/>
                            </a:lnTo>
                            <a:lnTo>
                              <a:pt x="36" y="0"/>
                            </a:lnTo>
                            <a:lnTo>
                              <a:pt x="31" y="0"/>
                            </a:lnTo>
                            <a:lnTo>
                              <a:pt x="28" y="0"/>
                            </a:lnTo>
                            <a:lnTo>
                              <a:pt x="24" y="2"/>
                            </a:lnTo>
                            <a:lnTo>
                              <a:pt x="17" y="6"/>
                            </a:lnTo>
                            <a:lnTo>
                              <a:pt x="11" y="11"/>
                            </a:lnTo>
                            <a:lnTo>
                              <a:pt x="6" y="17"/>
                            </a:lnTo>
                            <a:lnTo>
                              <a:pt x="2" y="24"/>
                            </a:lnTo>
                            <a:lnTo>
                              <a:pt x="0" y="31"/>
                            </a:lnTo>
                            <a:lnTo>
                              <a:pt x="0" y="39"/>
                            </a:lnTo>
                            <a:lnTo>
                              <a:pt x="0" y="48"/>
                            </a:lnTo>
                            <a:lnTo>
                              <a:pt x="2" y="55"/>
                            </a:lnTo>
                            <a:lnTo>
                              <a:pt x="6" y="62"/>
                            </a:lnTo>
                            <a:lnTo>
                              <a:pt x="11" y="68"/>
                            </a:lnTo>
                            <a:lnTo>
                              <a:pt x="17" y="73"/>
                            </a:lnTo>
                            <a:lnTo>
                              <a:pt x="24" y="76"/>
                            </a:lnTo>
                            <a:lnTo>
                              <a:pt x="28" y="77"/>
                            </a:lnTo>
                            <a:lnTo>
                              <a:pt x="31" y="78"/>
                            </a:lnTo>
                            <a:lnTo>
                              <a:pt x="36" y="80"/>
                            </a:lnTo>
                            <a:lnTo>
                              <a:pt x="41" y="81"/>
                            </a:lnTo>
                            <a:lnTo>
                              <a:pt x="41" y="81"/>
                            </a:lnTo>
                            <a:close/>
                          </a:path>
                        </a:pathLst>
                      </a:custGeom>
                      <a:solidFill>
                        <a:srgbClr val="96abb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3606480" y="4411440"/>
                        <a:ext cx="1080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81">
                            <a:moveTo>
                              <a:pt x="41" y="81"/>
                            </a:moveTo>
                            <a:lnTo>
                              <a:pt x="48" y="80"/>
                            </a:lnTo>
                            <a:lnTo>
                              <a:pt x="56" y="78"/>
                            </a:lnTo>
                            <a:lnTo>
                              <a:pt x="62" y="74"/>
                            </a:lnTo>
                            <a:lnTo>
                              <a:pt x="69" y="69"/>
                            </a:lnTo>
                            <a:lnTo>
                              <a:pt x="73" y="63"/>
                            </a:lnTo>
                            <a:lnTo>
                              <a:pt x="76" y="56"/>
                            </a:lnTo>
                            <a:lnTo>
                              <a:pt x="79" y="48"/>
                            </a:lnTo>
                            <a:lnTo>
                              <a:pt x="80" y="42"/>
                            </a:lnTo>
                            <a:lnTo>
                              <a:pt x="80" y="37"/>
                            </a:lnTo>
                            <a:lnTo>
                              <a:pt x="79" y="32"/>
                            </a:lnTo>
                            <a:lnTo>
                              <a:pt x="78" y="29"/>
                            </a:lnTo>
                            <a:lnTo>
                              <a:pt x="76" y="25"/>
                            </a:lnTo>
                            <a:lnTo>
                              <a:pt x="73" y="17"/>
                            </a:lnTo>
                            <a:lnTo>
                              <a:pt x="69" y="12"/>
                            </a:lnTo>
                            <a:lnTo>
                              <a:pt x="62" y="6"/>
                            </a:lnTo>
                            <a:lnTo>
                              <a:pt x="56" y="4"/>
                            </a:lnTo>
                            <a:lnTo>
                              <a:pt x="48" y="0"/>
                            </a:lnTo>
                            <a:lnTo>
                              <a:pt x="41" y="0"/>
                            </a:lnTo>
                            <a:lnTo>
                              <a:pt x="36" y="0"/>
                            </a:lnTo>
                            <a:lnTo>
                              <a:pt x="32" y="0"/>
                            </a:lnTo>
                            <a:lnTo>
                              <a:pt x="28" y="1"/>
                            </a:lnTo>
                            <a:lnTo>
                              <a:pt x="24" y="4"/>
                            </a:lnTo>
                            <a:lnTo>
                              <a:pt x="17" y="6"/>
                            </a:lnTo>
                            <a:lnTo>
                              <a:pt x="11" y="12"/>
                            </a:lnTo>
                            <a:lnTo>
                              <a:pt x="6" y="17"/>
                            </a:lnTo>
                            <a:lnTo>
                              <a:pt x="3" y="25"/>
                            </a:lnTo>
                            <a:lnTo>
                              <a:pt x="1" y="29"/>
                            </a:lnTo>
                            <a:lnTo>
                              <a:pt x="0" y="32"/>
                            </a:lnTo>
                            <a:lnTo>
                              <a:pt x="0" y="37"/>
                            </a:lnTo>
                            <a:lnTo>
                              <a:pt x="0" y="42"/>
                            </a:lnTo>
                            <a:lnTo>
                              <a:pt x="0" y="48"/>
                            </a:lnTo>
                            <a:lnTo>
                              <a:pt x="3" y="56"/>
                            </a:lnTo>
                            <a:lnTo>
                              <a:pt x="6" y="63"/>
                            </a:lnTo>
                            <a:lnTo>
                              <a:pt x="11" y="69"/>
                            </a:lnTo>
                            <a:lnTo>
                              <a:pt x="17" y="74"/>
                            </a:lnTo>
                            <a:lnTo>
                              <a:pt x="24" y="78"/>
                            </a:lnTo>
                            <a:lnTo>
                              <a:pt x="28" y="79"/>
                            </a:lnTo>
                            <a:lnTo>
                              <a:pt x="32" y="80"/>
                            </a:lnTo>
                            <a:lnTo>
                              <a:pt x="36" y="81"/>
                            </a:lnTo>
                            <a:lnTo>
                              <a:pt x="41" y="81"/>
                            </a:lnTo>
                            <a:lnTo>
                              <a:pt x="41" y="81"/>
                            </a:lnTo>
                            <a:close/>
                          </a:path>
                        </a:pathLst>
                      </a:custGeom>
                      <a:solidFill>
                        <a:srgbClr val="96abb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3351240" y="4088160"/>
                        <a:ext cx="388440" cy="97560"/>
                      </a:xfrm>
                      <a:prstGeom prst="rect">
                        <a:avLst/>
                      </a:prstGeom>
                      <a:solidFill>
                        <a:srgbClr val="ff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3353400" y="4095000"/>
                        <a:ext cx="383040" cy="286200"/>
                      </a:xfrm>
                      <a:prstGeom prst="rect">
                        <a:avLst/>
                      </a:prstGeom>
                      <a:solidFill>
                        <a:srgbClr val="ffc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" rIns="9000" tIns="9000" bIns="9000" anchor="t">
                        <a:spAutoFit/>
                      </a:bodyPr>
                      <a:p>
                        <a:pPr>
                          <a:lnSpc>
                            <a:spcPct val="80000"/>
                          </a:lnSpc>
                          <a:spcBef>
                            <a:spcPts val="68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100" spc="-1" strike="noStrike">
                            <a:solidFill>
                              <a:srgbClr val="ffffff"/>
                            </a:solidFill>
                            <a:latin typeface="Arial Narrow"/>
                            <a:ea typeface="宋体"/>
                          </a:rPr>
                          <a:t>      </a:t>
                        </a:r>
                        <a:r>
                          <a:rPr b="1" lang="en-US" sz="1100" spc="-1" strike="noStrike">
                            <a:solidFill>
                              <a:srgbClr val="ffffff"/>
                            </a:solidFill>
                            <a:latin typeface="Arial Narrow"/>
                            <a:ea typeface="宋体"/>
                          </a:rPr>
                          <a:t>Wall </a:t>
                        </a:r>
                        <a:r>
                          <a:rPr b="1" lang="en-US" sz="1100" spc="-1" strike="noStrike" baseline="30000">
                            <a:solidFill>
                              <a:srgbClr val="ffffff"/>
                            </a:solidFill>
                            <a:latin typeface="Arial Narrow"/>
                            <a:ea typeface="宋体"/>
                          </a:rPr>
                          <a:t>St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3241440" y="4382280"/>
                        <a:ext cx="615600" cy="291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360" rIns="18360" tIns="18360" bIns="18360" anchor="t">
                        <a:spAutoFit/>
                      </a:bodyPr>
                      <a:p>
                        <a:pPr algn="ctr">
                          <a:lnSpc>
                            <a:spcPct val="76000"/>
                          </a:lnSpc>
                          <a:spcBef>
                            <a:spcPts val="68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faf400"/>
                            </a:solidFill>
                            <a:latin typeface="Arial"/>
                            <a:ea typeface="宋体"/>
                          </a:rPr>
                          <a:t>Live Data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3758400" y="3872520"/>
                    <a:ext cx="532080" cy="478800"/>
                    <a:chOff x="3758400" y="3872520"/>
                    <a:chExt cx="532080" cy="47880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783600" y="3965400"/>
                      <a:ext cx="474840" cy="385920"/>
                    </a:xfrm>
                    <a:prstGeom prst="rect">
                      <a:avLst/>
                    </a:prstGeom>
                    <a:solidFill>
                      <a:srgbClr val="f5e9df"/>
                    </a:solidFill>
                    <a:ln w="324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b2b2b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787920" y="3971880"/>
                      <a:ext cx="458640" cy="376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843720" y="4031280"/>
                      <a:ext cx="360720" cy="31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3" h="2374">
                          <a:moveTo>
                            <a:pt x="0" y="200"/>
                          </a:moveTo>
                          <a:lnTo>
                            <a:pt x="2186" y="0"/>
                          </a:lnTo>
                          <a:lnTo>
                            <a:pt x="2243" y="2183"/>
                          </a:lnTo>
                          <a:lnTo>
                            <a:pt x="67" y="2374"/>
                          </a:lnTo>
                          <a:lnTo>
                            <a:pt x="0" y="20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849840" y="4042440"/>
                      <a:ext cx="350640" cy="29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5" h="2218">
                          <a:moveTo>
                            <a:pt x="100" y="2218"/>
                          </a:moveTo>
                          <a:lnTo>
                            <a:pt x="0" y="145"/>
                          </a:lnTo>
                          <a:lnTo>
                            <a:pt x="2078" y="0"/>
                          </a:lnTo>
                          <a:lnTo>
                            <a:pt x="2165" y="2081"/>
                          </a:lnTo>
                          <a:lnTo>
                            <a:pt x="100" y="2218"/>
                          </a:lnTo>
                          <a:close/>
                        </a:path>
                      </a:pathLst>
                    </a:custGeom>
                    <a:solidFill>
                      <a:srgbClr val="ead1b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849840" y="4049640"/>
                      <a:ext cx="348480" cy="28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5" h="2218">
                          <a:moveTo>
                            <a:pt x="100" y="2218"/>
                          </a:moveTo>
                          <a:lnTo>
                            <a:pt x="0" y="145"/>
                          </a:lnTo>
                          <a:lnTo>
                            <a:pt x="2078" y="0"/>
                          </a:lnTo>
                          <a:lnTo>
                            <a:pt x="2165" y="2081"/>
                          </a:lnTo>
                          <a:lnTo>
                            <a:pt x="100" y="2218"/>
                          </a:lnTo>
                          <a:close/>
                        </a:path>
                      </a:pathLst>
                    </a:custGeom>
                    <a:solidFill>
                      <a:srgbClr val="ead1b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3834720" y="4203360"/>
                      <a:ext cx="2232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51">
                          <a:moveTo>
                            <a:pt x="72" y="0"/>
                          </a:moveTo>
                          <a:lnTo>
                            <a:pt x="0" y="38"/>
                          </a:lnTo>
                          <a:lnTo>
                            <a:pt x="73" y="151"/>
                          </a:lnTo>
                          <a:lnTo>
                            <a:pt x="138" y="96"/>
                          </a:lnTo>
                          <a:lnTo>
                            <a:pt x="7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3991680" y="4187520"/>
                      <a:ext cx="2016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610">
                          <a:moveTo>
                            <a:pt x="47" y="0"/>
                          </a:moveTo>
                          <a:lnTo>
                            <a:pt x="0" y="6"/>
                          </a:lnTo>
                          <a:lnTo>
                            <a:pt x="133" y="610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3929400" y="4208400"/>
                      <a:ext cx="5364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" h="574">
                          <a:moveTo>
                            <a:pt x="254" y="561"/>
                          </a:moveTo>
                          <a:lnTo>
                            <a:pt x="336" y="431"/>
                          </a:lnTo>
                          <a:lnTo>
                            <a:pt x="51" y="0"/>
                          </a:lnTo>
                          <a:lnTo>
                            <a:pt x="0" y="9"/>
                          </a:lnTo>
                          <a:lnTo>
                            <a:pt x="8" y="178"/>
                          </a:lnTo>
                          <a:lnTo>
                            <a:pt x="106" y="507"/>
                          </a:lnTo>
                          <a:lnTo>
                            <a:pt x="52" y="574"/>
                          </a:lnTo>
                          <a:lnTo>
                            <a:pt x="254" y="561"/>
                          </a:lnTo>
                          <a:close/>
                        </a:path>
                      </a:pathLst>
                    </a:custGeom>
                    <a:solidFill>
                      <a:srgbClr val="e2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3863160" y="4042440"/>
                      <a:ext cx="322920" cy="29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1" h="2135">
                          <a:moveTo>
                            <a:pt x="1305" y="1590"/>
                          </a:moveTo>
                          <a:lnTo>
                            <a:pt x="1340" y="1516"/>
                          </a:lnTo>
                          <a:lnTo>
                            <a:pt x="1361" y="1440"/>
                          </a:lnTo>
                          <a:lnTo>
                            <a:pt x="1371" y="1366"/>
                          </a:lnTo>
                          <a:lnTo>
                            <a:pt x="1373" y="1292"/>
                          </a:lnTo>
                          <a:lnTo>
                            <a:pt x="1367" y="1218"/>
                          </a:lnTo>
                          <a:lnTo>
                            <a:pt x="1354" y="1147"/>
                          </a:lnTo>
                          <a:lnTo>
                            <a:pt x="1337" y="1076"/>
                          </a:lnTo>
                          <a:lnTo>
                            <a:pt x="1317" y="1007"/>
                          </a:lnTo>
                          <a:lnTo>
                            <a:pt x="1305" y="960"/>
                          </a:lnTo>
                          <a:lnTo>
                            <a:pt x="1299" y="913"/>
                          </a:lnTo>
                          <a:lnTo>
                            <a:pt x="1301" y="866"/>
                          </a:lnTo>
                          <a:lnTo>
                            <a:pt x="1305" y="820"/>
                          </a:lnTo>
                          <a:lnTo>
                            <a:pt x="1316" y="776"/>
                          </a:lnTo>
                          <a:lnTo>
                            <a:pt x="1331" y="733"/>
                          </a:lnTo>
                          <a:lnTo>
                            <a:pt x="1350" y="691"/>
                          </a:lnTo>
                          <a:lnTo>
                            <a:pt x="1374" y="651"/>
                          </a:lnTo>
                          <a:lnTo>
                            <a:pt x="1400" y="615"/>
                          </a:lnTo>
                          <a:lnTo>
                            <a:pt x="1429" y="581"/>
                          </a:lnTo>
                          <a:lnTo>
                            <a:pt x="1462" y="549"/>
                          </a:lnTo>
                          <a:lnTo>
                            <a:pt x="1497" y="520"/>
                          </a:lnTo>
                          <a:lnTo>
                            <a:pt x="1532" y="496"/>
                          </a:lnTo>
                          <a:lnTo>
                            <a:pt x="1570" y="474"/>
                          </a:lnTo>
                          <a:lnTo>
                            <a:pt x="1609" y="457"/>
                          </a:lnTo>
                          <a:lnTo>
                            <a:pt x="1649" y="444"/>
                          </a:lnTo>
                          <a:lnTo>
                            <a:pt x="1683" y="434"/>
                          </a:lnTo>
                          <a:lnTo>
                            <a:pt x="1715" y="423"/>
                          </a:lnTo>
                          <a:lnTo>
                            <a:pt x="1746" y="411"/>
                          </a:lnTo>
                          <a:lnTo>
                            <a:pt x="1775" y="397"/>
                          </a:lnTo>
                          <a:lnTo>
                            <a:pt x="1802" y="382"/>
                          </a:lnTo>
                          <a:lnTo>
                            <a:pt x="1827" y="367"/>
                          </a:lnTo>
                          <a:lnTo>
                            <a:pt x="1851" y="352"/>
                          </a:lnTo>
                          <a:lnTo>
                            <a:pt x="1873" y="335"/>
                          </a:lnTo>
                          <a:lnTo>
                            <a:pt x="1894" y="319"/>
                          </a:lnTo>
                          <a:lnTo>
                            <a:pt x="1913" y="301"/>
                          </a:lnTo>
                          <a:lnTo>
                            <a:pt x="1931" y="283"/>
                          </a:lnTo>
                          <a:lnTo>
                            <a:pt x="1947" y="267"/>
                          </a:lnTo>
                          <a:lnTo>
                            <a:pt x="1963" y="249"/>
                          </a:lnTo>
                          <a:lnTo>
                            <a:pt x="1977" y="231"/>
                          </a:lnTo>
                          <a:lnTo>
                            <a:pt x="1989" y="215"/>
                          </a:lnTo>
                          <a:lnTo>
                            <a:pt x="2001" y="198"/>
                          </a:lnTo>
                          <a:lnTo>
                            <a:pt x="1992" y="0"/>
                          </a:lnTo>
                          <a:lnTo>
                            <a:pt x="1973" y="22"/>
                          </a:lnTo>
                          <a:lnTo>
                            <a:pt x="1954" y="40"/>
                          </a:lnTo>
                          <a:lnTo>
                            <a:pt x="1933" y="58"/>
                          </a:lnTo>
                          <a:lnTo>
                            <a:pt x="1912" y="75"/>
                          </a:lnTo>
                          <a:lnTo>
                            <a:pt x="1890" y="89"/>
                          </a:lnTo>
                          <a:lnTo>
                            <a:pt x="1866" y="101"/>
                          </a:lnTo>
                          <a:lnTo>
                            <a:pt x="1842" y="112"/>
                          </a:lnTo>
                          <a:lnTo>
                            <a:pt x="1818" y="122"/>
                          </a:lnTo>
                          <a:lnTo>
                            <a:pt x="1792" y="131"/>
                          </a:lnTo>
                          <a:lnTo>
                            <a:pt x="1766" y="139"/>
                          </a:lnTo>
                          <a:lnTo>
                            <a:pt x="1740" y="147"/>
                          </a:lnTo>
                          <a:lnTo>
                            <a:pt x="1713" y="152"/>
                          </a:lnTo>
                          <a:lnTo>
                            <a:pt x="1684" y="158"/>
                          </a:lnTo>
                          <a:lnTo>
                            <a:pt x="1657" y="163"/>
                          </a:lnTo>
                          <a:lnTo>
                            <a:pt x="1629" y="169"/>
                          </a:lnTo>
                          <a:lnTo>
                            <a:pt x="1599" y="173"/>
                          </a:lnTo>
                          <a:lnTo>
                            <a:pt x="1571" y="177"/>
                          </a:lnTo>
                          <a:lnTo>
                            <a:pt x="1541" y="182"/>
                          </a:lnTo>
                          <a:lnTo>
                            <a:pt x="1512" y="187"/>
                          </a:lnTo>
                          <a:lnTo>
                            <a:pt x="1482" y="191"/>
                          </a:lnTo>
                          <a:lnTo>
                            <a:pt x="1453" y="197"/>
                          </a:lnTo>
                          <a:lnTo>
                            <a:pt x="1423" y="203"/>
                          </a:lnTo>
                          <a:lnTo>
                            <a:pt x="1395" y="209"/>
                          </a:lnTo>
                          <a:lnTo>
                            <a:pt x="1366" y="217"/>
                          </a:lnTo>
                          <a:lnTo>
                            <a:pt x="1336" y="226"/>
                          </a:lnTo>
                          <a:lnTo>
                            <a:pt x="1308" y="234"/>
                          </a:lnTo>
                          <a:lnTo>
                            <a:pt x="1278" y="244"/>
                          </a:lnTo>
                          <a:lnTo>
                            <a:pt x="1250" y="256"/>
                          </a:lnTo>
                          <a:lnTo>
                            <a:pt x="1223" y="269"/>
                          </a:lnTo>
                          <a:lnTo>
                            <a:pt x="1194" y="283"/>
                          </a:lnTo>
                          <a:lnTo>
                            <a:pt x="1167" y="300"/>
                          </a:lnTo>
                          <a:lnTo>
                            <a:pt x="1141" y="318"/>
                          </a:lnTo>
                          <a:lnTo>
                            <a:pt x="1070" y="374"/>
                          </a:lnTo>
                          <a:lnTo>
                            <a:pt x="1015" y="431"/>
                          </a:lnTo>
                          <a:lnTo>
                            <a:pt x="974" y="486"/>
                          </a:lnTo>
                          <a:lnTo>
                            <a:pt x="944" y="543"/>
                          </a:lnTo>
                          <a:lnTo>
                            <a:pt x="925" y="599"/>
                          </a:lnTo>
                          <a:lnTo>
                            <a:pt x="915" y="656"/>
                          </a:lnTo>
                          <a:lnTo>
                            <a:pt x="912" y="713"/>
                          </a:lnTo>
                          <a:lnTo>
                            <a:pt x="917" y="769"/>
                          </a:lnTo>
                          <a:lnTo>
                            <a:pt x="925" y="826"/>
                          </a:lnTo>
                          <a:lnTo>
                            <a:pt x="938" y="882"/>
                          </a:lnTo>
                          <a:lnTo>
                            <a:pt x="952" y="940"/>
                          </a:lnTo>
                          <a:lnTo>
                            <a:pt x="967" y="997"/>
                          </a:lnTo>
                          <a:lnTo>
                            <a:pt x="981" y="1055"/>
                          </a:lnTo>
                          <a:lnTo>
                            <a:pt x="991" y="1112"/>
                          </a:lnTo>
                          <a:lnTo>
                            <a:pt x="998" y="1170"/>
                          </a:lnTo>
                          <a:lnTo>
                            <a:pt x="1001" y="1228"/>
                          </a:lnTo>
                          <a:lnTo>
                            <a:pt x="996" y="1268"/>
                          </a:lnTo>
                          <a:lnTo>
                            <a:pt x="984" y="1303"/>
                          </a:lnTo>
                          <a:lnTo>
                            <a:pt x="965" y="1334"/>
                          </a:lnTo>
                          <a:lnTo>
                            <a:pt x="939" y="1360"/>
                          </a:lnTo>
                          <a:lnTo>
                            <a:pt x="909" y="1382"/>
                          </a:lnTo>
                          <a:lnTo>
                            <a:pt x="873" y="1401"/>
                          </a:lnTo>
                          <a:lnTo>
                            <a:pt x="832" y="1418"/>
                          </a:lnTo>
                          <a:lnTo>
                            <a:pt x="787" y="1432"/>
                          </a:lnTo>
                          <a:lnTo>
                            <a:pt x="739" y="1445"/>
                          </a:lnTo>
                          <a:lnTo>
                            <a:pt x="688" y="1455"/>
                          </a:lnTo>
                          <a:lnTo>
                            <a:pt x="635" y="1467"/>
                          </a:lnTo>
                          <a:lnTo>
                            <a:pt x="581" y="1478"/>
                          </a:lnTo>
                          <a:lnTo>
                            <a:pt x="524" y="1490"/>
                          </a:lnTo>
                          <a:lnTo>
                            <a:pt x="467" y="1503"/>
                          </a:lnTo>
                          <a:lnTo>
                            <a:pt x="411" y="1517"/>
                          </a:lnTo>
                          <a:lnTo>
                            <a:pt x="355" y="1533"/>
                          </a:lnTo>
                          <a:lnTo>
                            <a:pt x="321" y="1546"/>
                          </a:lnTo>
                          <a:lnTo>
                            <a:pt x="288" y="1562"/>
                          </a:lnTo>
                          <a:lnTo>
                            <a:pt x="257" y="1580"/>
                          </a:lnTo>
                          <a:lnTo>
                            <a:pt x="228" y="1602"/>
                          </a:lnTo>
                          <a:lnTo>
                            <a:pt x="201" y="1624"/>
                          </a:lnTo>
                          <a:lnTo>
                            <a:pt x="175" y="1648"/>
                          </a:lnTo>
                          <a:lnTo>
                            <a:pt x="150" y="1672"/>
                          </a:lnTo>
                          <a:lnTo>
                            <a:pt x="127" y="1700"/>
                          </a:lnTo>
                          <a:lnTo>
                            <a:pt x="106" y="1726"/>
                          </a:lnTo>
                          <a:lnTo>
                            <a:pt x="86" y="1753"/>
                          </a:lnTo>
                          <a:lnTo>
                            <a:pt x="68" y="1780"/>
                          </a:lnTo>
                          <a:lnTo>
                            <a:pt x="52" y="1807"/>
                          </a:lnTo>
                          <a:lnTo>
                            <a:pt x="37" y="1833"/>
                          </a:lnTo>
                          <a:lnTo>
                            <a:pt x="22" y="1859"/>
                          </a:lnTo>
                          <a:lnTo>
                            <a:pt x="11" y="1882"/>
                          </a:lnTo>
                          <a:lnTo>
                            <a:pt x="0" y="1905"/>
                          </a:lnTo>
                          <a:lnTo>
                            <a:pt x="11" y="2135"/>
                          </a:lnTo>
                          <a:lnTo>
                            <a:pt x="1553" y="2032"/>
                          </a:lnTo>
                          <a:lnTo>
                            <a:pt x="1507" y="2018"/>
                          </a:lnTo>
                          <a:lnTo>
                            <a:pt x="1465" y="1999"/>
                          </a:lnTo>
                          <a:lnTo>
                            <a:pt x="1427" y="1978"/>
                          </a:lnTo>
                          <a:lnTo>
                            <a:pt x="1395" y="1953"/>
                          </a:lnTo>
                          <a:lnTo>
                            <a:pt x="1366" y="1926"/>
                          </a:lnTo>
                          <a:lnTo>
                            <a:pt x="1342" y="1898"/>
                          </a:lnTo>
                          <a:lnTo>
                            <a:pt x="1322" y="1867"/>
                          </a:lnTo>
                          <a:lnTo>
                            <a:pt x="1305" y="1835"/>
                          </a:lnTo>
                          <a:lnTo>
                            <a:pt x="1294" y="1802"/>
                          </a:lnTo>
                          <a:lnTo>
                            <a:pt x="1284" y="1769"/>
                          </a:lnTo>
                          <a:lnTo>
                            <a:pt x="1279" y="1736"/>
                          </a:lnTo>
                          <a:lnTo>
                            <a:pt x="1278" y="1704"/>
                          </a:lnTo>
                          <a:lnTo>
                            <a:pt x="1281" y="1674"/>
                          </a:lnTo>
                          <a:lnTo>
                            <a:pt x="1285" y="1643"/>
                          </a:lnTo>
                          <a:lnTo>
                            <a:pt x="1294" y="1616"/>
                          </a:lnTo>
                          <a:lnTo>
                            <a:pt x="1305" y="1590"/>
                          </a:lnTo>
                          <a:close/>
                        </a:path>
                      </a:pathLst>
                    </a:custGeom>
                    <a:solidFill>
                      <a:srgbClr val="00214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3984480" y="4088160"/>
                      <a:ext cx="5904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5" h="443">
                          <a:moveTo>
                            <a:pt x="365" y="413"/>
                          </a:moveTo>
                          <a:lnTo>
                            <a:pt x="319" y="0"/>
                          </a:lnTo>
                          <a:lnTo>
                            <a:pt x="0" y="41"/>
                          </a:lnTo>
                          <a:lnTo>
                            <a:pt x="46" y="443"/>
                          </a:lnTo>
                          <a:lnTo>
                            <a:pt x="365" y="413"/>
                          </a:lnTo>
                          <a:close/>
                        </a:path>
                      </a:pathLst>
                    </a:custGeom>
                    <a:solidFill>
                      <a:srgbClr val="e2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3980520" y="4054680"/>
                      <a:ext cx="5688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5" h="286">
                          <a:moveTo>
                            <a:pt x="355" y="243"/>
                          </a:moveTo>
                          <a:lnTo>
                            <a:pt x="327" y="62"/>
                          </a:lnTo>
                          <a:lnTo>
                            <a:pt x="277" y="0"/>
                          </a:lnTo>
                          <a:lnTo>
                            <a:pt x="39" y="27"/>
                          </a:lnTo>
                          <a:lnTo>
                            <a:pt x="0" y="96"/>
                          </a:lnTo>
                          <a:lnTo>
                            <a:pt x="14" y="286"/>
                          </a:lnTo>
                          <a:lnTo>
                            <a:pt x="355" y="243"/>
                          </a:lnTo>
                          <a:close/>
                        </a:path>
                      </a:pathLst>
                    </a:custGeom>
                    <a:solidFill>
                      <a:srgbClr val="e2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3986640" y="40582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4" h="229">
                          <a:moveTo>
                            <a:pt x="264" y="202"/>
                          </a:moveTo>
                          <a:lnTo>
                            <a:pt x="243" y="0"/>
                          </a:lnTo>
                          <a:lnTo>
                            <a:pt x="0" y="27"/>
                          </a:lnTo>
                          <a:lnTo>
                            <a:pt x="22" y="229"/>
                          </a:lnTo>
                          <a:lnTo>
                            <a:pt x="264" y="2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3991680" y="4061520"/>
                      <a:ext cx="32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4" h="181">
                          <a:moveTo>
                            <a:pt x="18" y="181"/>
                          </a:moveTo>
                          <a:lnTo>
                            <a:pt x="0" y="21"/>
                          </a:lnTo>
                          <a:lnTo>
                            <a:pt x="185" y="0"/>
                          </a:lnTo>
                          <a:lnTo>
                            <a:pt x="204" y="160"/>
                          </a:lnTo>
                          <a:lnTo>
                            <a:pt x="18" y="181"/>
                          </a:lnTo>
                          <a:close/>
                        </a:path>
                      </a:pathLst>
                    </a:custGeom>
                    <a:solidFill>
                      <a:srgbClr val="e2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3995640" y="4065120"/>
                      <a:ext cx="2232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35">
                          <a:moveTo>
                            <a:pt x="76" y="135"/>
                          </a:moveTo>
                          <a:lnTo>
                            <a:pt x="62" y="135"/>
                          </a:lnTo>
                          <a:lnTo>
                            <a:pt x="49" y="132"/>
                          </a:lnTo>
                          <a:lnTo>
                            <a:pt x="37" y="127"/>
                          </a:lnTo>
                          <a:lnTo>
                            <a:pt x="26" y="120"/>
                          </a:lnTo>
                          <a:lnTo>
                            <a:pt x="17" y="111"/>
                          </a:lnTo>
                          <a:lnTo>
                            <a:pt x="9" y="100"/>
                          </a:lnTo>
                          <a:lnTo>
                            <a:pt x="4" y="89"/>
                          </a:lnTo>
                          <a:lnTo>
                            <a:pt x="0" y="74"/>
                          </a:lnTo>
                          <a:lnTo>
                            <a:pt x="0" y="61"/>
                          </a:lnTo>
                          <a:lnTo>
                            <a:pt x="3" y="48"/>
                          </a:lnTo>
                          <a:lnTo>
                            <a:pt x="7" y="36"/>
                          </a:lnTo>
                          <a:lnTo>
                            <a:pt x="15" y="25"/>
                          </a:lnTo>
                          <a:lnTo>
                            <a:pt x="24" y="17"/>
                          </a:lnTo>
                          <a:lnTo>
                            <a:pt x="35" y="8"/>
                          </a:lnTo>
                          <a:lnTo>
                            <a:pt x="46" y="4"/>
                          </a:lnTo>
                          <a:lnTo>
                            <a:pt x="61" y="0"/>
                          </a:lnTo>
                          <a:lnTo>
                            <a:pt x="74" y="0"/>
                          </a:lnTo>
                          <a:lnTo>
                            <a:pt x="88" y="3"/>
                          </a:lnTo>
                          <a:lnTo>
                            <a:pt x="100" y="7"/>
                          </a:lnTo>
                          <a:lnTo>
                            <a:pt x="110" y="14"/>
                          </a:lnTo>
                          <a:lnTo>
                            <a:pt x="120" y="24"/>
                          </a:lnTo>
                          <a:lnTo>
                            <a:pt x="127" y="34"/>
                          </a:lnTo>
                          <a:lnTo>
                            <a:pt x="133" y="46"/>
                          </a:lnTo>
                          <a:lnTo>
                            <a:pt x="135" y="60"/>
                          </a:lnTo>
                          <a:lnTo>
                            <a:pt x="135" y="73"/>
                          </a:lnTo>
                          <a:lnTo>
                            <a:pt x="133" y="86"/>
                          </a:lnTo>
                          <a:lnTo>
                            <a:pt x="128" y="99"/>
                          </a:lnTo>
                          <a:lnTo>
                            <a:pt x="121" y="110"/>
                          </a:lnTo>
                          <a:lnTo>
                            <a:pt x="111" y="118"/>
                          </a:lnTo>
                          <a:lnTo>
                            <a:pt x="101" y="126"/>
                          </a:lnTo>
                          <a:lnTo>
                            <a:pt x="89" y="131"/>
                          </a:lnTo>
                          <a:lnTo>
                            <a:pt x="76" y="1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3996720" y="4098600"/>
                      <a:ext cx="79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1"/>
                          </a:moveTo>
                          <a:lnTo>
                            <a:pt x="42" y="0"/>
                          </a:lnTo>
                          <a:lnTo>
                            <a:pt x="0" y="5"/>
                          </a:lnTo>
                          <a:lnTo>
                            <a:pt x="5" y="46"/>
                          </a:lnTo>
                          <a:lnTo>
                            <a:pt x="46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007880" y="4096800"/>
                      <a:ext cx="68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1"/>
                          </a:moveTo>
                          <a:lnTo>
                            <a:pt x="42" y="0"/>
                          </a:lnTo>
                          <a:lnTo>
                            <a:pt x="0" y="5"/>
                          </a:lnTo>
                          <a:lnTo>
                            <a:pt x="5" y="46"/>
                          </a:lnTo>
                          <a:lnTo>
                            <a:pt x="46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017960" y="4095720"/>
                      <a:ext cx="684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1"/>
                          </a:moveTo>
                          <a:lnTo>
                            <a:pt x="41" y="0"/>
                          </a:lnTo>
                          <a:lnTo>
                            <a:pt x="0" y="5"/>
                          </a:lnTo>
                          <a:lnTo>
                            <a:pt x="5" y="46"/>
                          </a:lnTo>
                          <a:lnTo>
                            <a:pt x="46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3998520" y="4107240"/>
                      <a:ext cx="684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1"/>
                          </a:moveTo>
                          <a:lnTo>
                            <a:pt x="41" y="0"/>
                          </a:lnTo>
                          <a:lnTo>
                            <a:pt x="0" y="4"/>
                          </a:lnTo>
                          <a:lnTo>
                            <a:pt x="4" y="46"/>
                          </a:lnTo>
                          <a:lnTo>
                            <a:pt x="46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4008960" y="4106160"/>
                      <a:ext cx="68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4">
                          <a:moveTo>
                            <a:pt x="46" y="40"/>
                          </a:moveTo>
                          <a:lnTo>
                            <a:pt x="42" y="0"/>
                          </a:lnTo>
                          <a:lnTo>
                            <a:pt x="0" y="4"/>
                          </a:lnTo>
                          <a:lnTo>
                            <a:pt x="5" y="44"/>
                          </a:lnTo>
                          <a:lnTo>
                            <a:pt x="46" y="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4019400" y="4105440"/>
                      <a:ext cx="79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2"/>
                          </a:moveTo>
                          <a:lnTo>
                            <a:pt x="42" y="0"/>
                          </a:lnTo>
                          <a:lnTo>
                            <a:pt x="0" y="5"/>
                          </a:lnTo>
                          <a:lnTo>
                            <a:pt x="5" y="46"/>
                          </a:lnTo>
                          <a:lnTo>
                            <a:pt x="46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3999960" y="4117680"/>
                      <a:ext cx="79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1"/>
                          </a:moveTo>
                          <a:lnTo>
                            <a:pt x="41" y="0"/>
                          </a:lnTo>
                          <a:lnTo>
                            <a:pt x="0" y="5"/>
                          </a:lnTo>
                          <a:lnTo>
                            <a:pt x="4" y="46"/>
                          </a:lnTo>
                          <a:lnTo>
                            <a:pt x="46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4010040" y="4115880"/>
                      <a:ext cx="68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1"/>
                          </a:moveTo>
                          <a:lnTo>
                            <a:pt x="41" y="0"/>
                          </a:lnTo>
                          <a:lnTo>
                            <a:pt x="0" y="5"/>
                          </a:lnTo>
                          <a:lnTo>
                            <a:pt x="4" y="46"/>
                          </a:lnTo>
                          <a:lnTo>
                            <a:pt x="46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4021200" y="4114800"/>
                      <a:ext cx="68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6">
                          <a:moveTo>
                            <a:pt x="44" y="41"/>
                          </a:moveTo>
                          <a:lnTo>
                            <a:pt x="41" y="0"/>
                          </a:lnTo>
                          <a:lnTo>
                            <a:pt x="0" y="5"/>
                          </a:lnTo>
                          <a:lnTo>
                            <a:pt x="5" y="46"/>
                          </a:lnTo>
                          <a:lnTo>
                            <a:pt x="44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4000680" y="4126320"/>
                      <a:ext cx="82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5">
                          <a:moveTo>
                            <a:pt x="46" y="40"/>
                          </a:moveTo>
                          <a:lnTo>
                            <a:pt x="41" y="0"/>
                          </a:lnTo>
                          <a:lnTo>
                            <a:pt x="0" y="4"/>
                          </a:lnTo>
                          <a:lnTo>
                            <a:pt x="5" y="45"/>
                          </a:lnTo>
                          <a:lnTo>
                            <a:pt x="46" y="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4010760" y="4125600"/>
                      <a:ext cx="828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46">
                          <a:moveTo>
                            <a:pt x="45" y="42"/>
                          </a:moveTo>
                          <a:lnTo>
                            <a:pt x="40" y="0"/>
                          </a:lnTo>
                          <a:lnTo>
                            <a:pt x="0" y="5"/>
                          </a:lnTo>
                          <a:lnTo>
                            <a:pt x="5" y="46"/>
                          </a:lnTo>
                          <a:lnTo>
                            <a:pt x="45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4022280" y="4124520"/>
                      <a:ext cx="68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6">
                          <a:moveTo>
                            <a:pt x="44" y="42"/>
                          </a:moveTo>
                          <a:lnTo>
                            <a:pt x="40" y="0"/>
                          </a:lnTo>
                          <a:lnTo>
                            <a:pt x="0" y="5"/>
                          </a:lnTo>
                          <a:lnTo>
                            <a:pt x="4" y="46"/>
                          </a:lnTo>
                          <a:lnTo>
                            <a:pt x="44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4014000" y="4000680"/>
                      <a:ext cx="108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400">
                          <a:moveTo>
                            <a:pt x="15" y="400"/>
                          </a:moveTo>
                          <a:lnTo>
                            <a:pt x="0" y="0"/>
                          </a:lnTo>
                          <a:lnTo>
                            <a:pt x="68" y="393"/>
                          </a:lnTo>
                          <a:lnTo>
                            <a:pt x="15" y="40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3985560" y="4107960"/>
                      <a:ext cx="2232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152">
                          <a:moveTo>
                            <a:pt x="73" y="152"/>
                          </a:moveTo>
                          <a:lnTo>
                            <a:pt x="141" y="109"/>
                          </a:lnTo>
                          <a:lnTo>
                            <a:pt x="60" y="0"/>
                          </a:lnTo>
                          <a:lnTo>
                            <a:pt x="0" y="62"/>
                          </a:lnTo>
                          <a:lnTo>
                            <a:pt x="7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3840840" y="4112280"/>
                      <a:ext cx="159840" cy="1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5" h="983">
                          <a:moveTo>
                            <a:pt x="0" y="635"/>
                          </a:moveTo>
                          <a:lnTo>
                            <a:pt x="125" y="831"/>
                          </a:lnTo>
                          <a:lnTo>
                            <a:pt x="452" y="514"/>
                          </a:lnTo>
                          <a:lnTo>
                            <a:pt x="264" y="983"/>
                          </a:lnTo>
                          <a:lnTo>
                            <a:pt x="978" y="849"/>
                          </a:lnTo>
                          <a:lnTo>
                            <a:pt x="750" y="463"/>
                          </a:lnTo>
                          <a:lnTo>
                            <a:pt x="919" y="300"/>
                          </a:lnTo>
                          <a:lnTo>
                            <a:pt x="995" y="122"/>
                          </a:lnTo>
                          <a:lnTo>
                            <a:pt x="894" y="0"/>
                          </a:lnTo>
                          <a:lnTo>
                            <a:pt x="824" y="186"/>
                          </a:lnTo>
                          <a:lnTo>
                            <a:pt x="701" y="216"/>
                          </a:lnTo>
                          <a:lnTo>
                            <a:pt x="369" y="207"/>
                          </a:lnTo>
                          <a:lnTo>
                            <a:pt x="0" y="635"/>
                          </a:lnTo>
                          <a:close/>
                        </a:path>
                      </a:pathLst>
                    </a:custGeom>
                    <a:solidFill>
                      <a:srgbClr val="9600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3909960" y="4124520"/>
                      <a:ext cx="3132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122">
                          <a:moveTo>
                            <a:pt x="0" y="114"/>
                          </a:moveTo>
                          <a:lnTo>
                            <a:pt x="102" y="0"/>
                          </a:lnTo>
                          <a:lnTo>
                            <a:pt x="142" y="5"/>
                          </a:lnTo>
                          <a:lnTo>
                            <a:pt x="200" y="122"/>
                          </a:lnTo>
                          <a:lnTo>
                            <a:pt x="0" y="114"/>
                          </a:lnTo>
                          <a:close/>
                        </a:path>
                      </a:pathLst>
                    </a:custGeom>
                    <a:solidFill>
                      <a:srgbClr val="499e7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3915360" y="4096800"/>
                      <a:ext cx="2808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221">
                          <a:moveTo>
                            <a:pt x="51" y="202"/>
                          </a:moveTo>
                          <a:lnTo>
                            <a:pt x="0" y="184"/>
                          </a:lnTo>
                          <a:lnTo>
                            <a:pt x="65" y="0"/>
                          </a:lnTo>
                          <a:lnTo>
                            <a:pt x="176" y="38"/>
                          </a:lnTo>
                          <a:lnTo>
                            <a:pt x="153" y="221"/>
                          </a:lnTo>
                          <a:lnTo>
                            <a:pt x="51" y="202"/>
                          </a:lnTo>
                          <a:close/>
                        </a:path>
                      </a:pathLst>
                    </a:custGeom>
                    <a:solidFill>
                      <a:srgbClr val="499e7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3882600" y="4183200"/>
                      <a:ext cx="11484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9" h="469">
                          <a:moveTo>
                            <a:pt x="190" y="0"/>
                          </a:moveTo>
                          <a:lnTo>
                            <a:pt x="65" y="423"/>
                          </a:lnTo>
                          <a:lnTo>
                            <a:pt x="697" y="296"/>
                          </a:lnTo>
                          <a:lnTo>
                            <a:pt x="719" y="330"/>
                          </a:lnTo>
                          <a:lnTo>
                            <a:pt x="0" y="469"/>
                          </a:lnTo>
                          <a:lnTo>
                            <a:pt x="19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3928320" y="4098600"/>
                      <a:ext cx="151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09">
                          <a:moveTo>
                            <a:pt x="18" y="0"/>
                          </a:moveTo>
                          <a:lnTo>
                            <a:pt x="46" y="84"/>
                          </a:lnTo>
                          <a:lnTo>
                            <a:pt x="0" y="196"/>
                          </a:lnTo>
                          <a:lnTo>
                            <a:pt x="71" y="209"/>
                          </a:lnTo>
                          <a:lnTo>
                            <a:pt x="94" y="26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3920400" y="4151880"/>
                      <a:ext cx="2628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511">
                          <a:moveTo>
                            <a:pt x="50" y="0"/>
                          </a:moveTo>
                          <a:lnTo>
                            <a:pt x="0" y="165"/>
                          </a:lnTo>
                          <a:lnTo>
                            <a:pt x="163" y="511"/>
                          </a:lnTo>
                          <a:lnTo>
                            <a:pt x="146" y="129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e2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3911040" y="4141440"/>
                      <a:ext cx="29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8" h="107">
                          <a:moveTo>
                            <a:pt x="0" y="0"/>
                          </a:moveTo>
                          <a:lnTo>
                            <a:pt x="109" y="107"/>
                          </a:lnTo>
                          <a:lnTo>
                            <a:pt x="188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2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3840840" y="4140360"/>
                      <a:ext cx="10980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3" h="430">
                          <a:moveTo>
                            <a:pt x="683" y="7"/>
                          </a:moveTo>
                          <a:lnTo>
                            <a:pt x="368" y="0"/>
                          </a:lnTo>
                          <a:lnTo>
                            <a:pt x="32" y="391"/>
                          </a:lnTo>
                          <a:lnTo>
                            <a:pt x="0" y="430"/>
                          </a:lnTo>
                          <a:lnTo>
                            <a:pt x="380" y="16"/>
                          </a:lnTo>
                          <a:lnTo>
                            <a:pt x="683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3983400" y="4274640"/>
                      <a:ext cx="2124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113">
                          <a:moveTo>
                            <a:pt x="134" y="26"/>
                          </a:moveTo>
                          <a:lnTo>
                            <a:pt x="113" y="0"/>
                          </a:lnTo>
                          <a:lnTo>
                            <a:pt x="0" y="87"/>
                          </a:lnTo>
                          <a:lnTo>
                            <a:pt x="20" y="113"/>
                          </a:lnTo>
                          <a:lnTo>
                            <a:pt x="134" y="26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4029480" y="4231080"/>
                      <a:ext cx="1728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36">
                          <a:moveTo>
                            <a:pt x="106" y="18"/>
                          </a:moveTo>
                          <a:lnTo>
                            <a:pt x="79" y="0"/>
                          </a:lnTo>
                          <a:lnTo>
                            <a:pt x="0" y="118"/>
                          </a:lnTo>
                          <a:lnTo>
                            <a:pt x="28" y="136"/>
                          </a:lnTo>
                          <a:lnTo>
                            <a:pt x="106" y="18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4047840" y="4177080"/>
                      <a:ext cx="6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42">
                          <a:moveTo>
                            <a:pt x="31" y="0"/>
                          </a:moveTo>
                          <a:lnTo>
                            <a:pt x="0" y="1"/>
                          </a:lnTo>
                          <a:lnTo>
                            <a:pt x="6" y="142"/>
                          </a:lnTo>
                          <a:lnTo>
                            <a:pt x="39" y="141"/>
                          </a:lnTo>
                          <a:lnTo>
                            <a:pt x="31" y="0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4044600" y="4120920"/>
                      <a:ext cx="1080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146">
                          <a:moveTo>
                            <a:pt x="71" y="9"/>
                          </a:moveTo>
                          <a:lnTo>
                            <a:pt x="39" y="0"/>
                          </a:lnTo>
                          <a:lnTo>
                            <a:pt x="0" y="137"/>
                          </a:lnTo>
                          <a:lnTo>
                            <a:pt x="32" y="146"/>
                          </a:lnTo>
                          <a:lnTo>
                            <a:pt x="71" y="9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4074120" y="4088160"/>
                      <a:ext cx="223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110">
                          <a:moveTo>
                            <a:pt x="134" y="27"/>
                          </a:moveTo>
                          <a:lnTo>
                            <a:pt x="114" y="0"/>
                          </a:lnTo>
                          <a:lnTo>
                            <a:pt x="0" y="83"/>
                          </a:lnTo>
                          <a:lnTo>
                            <a:pt x="18" y="110"/>
                          </a:lnTo>
                          <a:lnTo>
                            <a:pt x="134" y="27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4132440" y="4071240"/>
                      <a:ext cx="234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80">
                          <a:moveTo>
                            <a:pt x="144" y="30"/>
                          </a:moveTo>
                          <a:lnTo>
                            <a:pt x="133" y="0"/>
                          </a:lnTo>
                          <a:lnTo>
                            <a:pt x="0" y="49"/>
                          </a:lnTo>
                          <a:lnTo>
                            <a:pt x="11" y="80"/>
                          </a:lnTo>
                          <a:lnTo>
                            <a:pt x="144" y="30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4181400" y="4052880"/>
                      <a:ext cx="360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51">
                          <a:moveTo>
                            <a:pt x="27" y="0"/>
                          </a:moveTo>
                          <a:lnTo>
                            <a:pt x="0" y="29"/>
                          </a:lnTo>
                          <a:lnTo>
                            <a:pt x="24" y="51"/>
                          </a:lnTo>
                          <a:lnTo>
                            <a:pt x="28" y="46"/>
                          </a:lnTo>
                          <a:lnTo>
                            <a:pt x="27" y="0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3927600" y="4302000"/>
                      <a:ext cx="2232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89">
                          <a:moveTo>
                            <a:pt x="142" y="30"/>
                          </a:moveTo>
                          <a:lnTo>
                            <a:pt x="129" y="0"/>
                          </a:lnTo>
                          <a:lnTo>
                            <a:pt x="0" y="60"/>
                          </a:lnTo>
                          <a:lnTo>
                            <a:pt x="14" y="89"/>
                          </a:lnTo>
                          <a:lnTo>
                            <a:pt x="142" y="30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3867480" y="4323600"/>
                      <a:ext cx="230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79">
                          <a:moveTo>
                            <a:pt x="143" y="29"/>
                          </a:moveTo>
                          <a:lnTo>
                            <a:pt x="129" y="0"/>
                          </a:lnTo>
                          <a:lnTo>
                            <a:pt x="0" y="60"/>
                          </a:lnTo>
                          <a:lnTo>
                            <a:pt x="8" y="79"/>
                          </a:lnTo>
                          <a:lnTo>
                            <a:pt x="42" y="76"/>
                          </a:lnTo>
                          <a:lnTo>
                            <a:pt x="143" y="29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4034520" y="4153320"/>
                      <a:ext cx="16272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5" h="1063">
                          <a:moveTo>
                            <a:pt x="970" y="0"/>
                          </a:moveTo>
                          <a:lnTo>
                            <a:pt x="465" y="0"/>
                          </a:lnTo>
                          <a:lnTo>
                            <a:pt x="446" y="1"/>
                          </a:lnTo>
                          <a:lnTo>
                            <a:pt x="428" y="5"/>
                          </a:lnTo>
                          <a:lnTo>
                            <a:pt x="410" y="13"/>
                          </a:lnTo>
                          <a:lnTo>
                            <a:pt x="392" y="22"/>
                          </a:lnTo>
                          <a:lnTo>
                            <a:pt x="377" y="34"/>
                          </a:lnTo>
                          <a:lnTo>
                            <a:pt x="364" y="47"/>
                          </a:lnTo>
                          <a:lnTo>
                            <a:pt x="353" y="63"/>
                          </a:lnTo>
                          <a:lnTo>
                            <a:pt x="344" y="80"/>
                          </a:lnTo>
                          <a:lnTo>
                            <a:pt x="337" y="99"/>
                          </a:lnTo>
                          <a:lnTo>
                            <a:pt x="315" y="148"/>
                          </a:lnTo>
                          <a:lnTo>
                            <a:pt x="287" y="218"/>
                          </a:lnTo>
                          <a:lnTo>
                            <a:pt x="255" y="298"/>
                          </a:lnTo>
                          <a:lnTo>
                            <a:pt x="222" y="379"/>
                          </a:lnTo>
                          <a:lnTo>
                            <a:pt x="194" y="449"/>
                          </a:lnTo>
                          <a:lnTo>
                            <a:pt x="173" y="498"/>
                          </a:lnTo>
                          <a:lnTo>
                            <a:pt x="166" y="517"/>
                          </a:lnTo>
                          <a:lnTo>
                            <a:pt x="158" y="517"/>
                          </a:lnTo>
                          <a:lnTo>
                            <a:pt x="142" y="518"/>
                          </a:lnTo>
                          <a:lnTo>
                            <a:pt x="117" y="522"/>
                          </a:lnTo>
                          <a:lnTo>
                            <a:pt x="89" y="528"/>
                          </a:lnTo>
                          <a:lnTo>
                            <a:pt x="60" y="537"/>
                          </a:lnTo>
                          <a:lnTo>
                            <a:pt x="35" y="553"/>
                          </a:lnTo>
                          <a:lnTo>
                            <a:pt x="14" y="571"/>
                          </a:lnTo>
                          <a:lnTo>
                            <a:pt x="5" y="597"/>
                          </a:lnTo>
                          <a:lnTo>
                            <a:pt x="1" y="698"/>
                          </a:lnTo>
                          <a:lnTo>
                            <a:pt x="0" y="854"/>
                          </a:lnTo>
                          <a:lnTo>
                            <a:pt x="0" y="1000"/>
                          </a:lnTo>
                          <a:lnTo>
                            <a:pt x="0" y="1063"/>
                          </a:lnTo>
                          <a:lnTo>
                            <a:pt x="1015" y="1063"/>
                          </a:lnTo>
                          <a:lnTo>
                            <a:pt x="970" y="0"/>
                          </a:lnTo>
                          <a:close/>
                        </a:path>
                      </a:pathLst>
                    </a:custGeom>
                    <a:solidFill>
                      <a:srgbClr val="9600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4080240" y="4165560"/>
                      <a:ext cx="1130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2" h="331">
                          <a:moveTo>
                            <a:pt x="688" y="0"/>
                          </a:moveTo>
                          <a:lnTo>
                            <a:pt x="179" y="0"/>
                          </a:lnTo>
                          <a:lnTo>
                            <a:pt x="170" y="2"/>
                          </a:lnTo>
                          <a:lnTo>
                            <a:pt x="160" y="5"/>
                          </a:lnTo>
                          <a:lnTo>
                            <a:pt x="152" y="11"/>
                          </a:lnTo>
                          <a:lnTo>
                            <a:pt x="147" y="18"/>
                          </a:lnTo>
                          <a:lnTo>
                            <a:pt x="1" y="313"/>
                          </a:lnTo>
                          <a:lnTo>
                            <a:pt x="0" y="320"/>
                          </a:lnTo>
                          <a:lnTo>
                            <a:pt x="1" y="325"/>
                          </a:lnTo>
                          <a:lnTo>
                            <a:pt x="7" y="329"/>
                          </a:lnTo>
                          <a:lnTo>
                            <a:pt x="15" y="331"/>
                          </a:lnTo>
                          <a:lnTo>
                            <a:pt x="702" y="331"/>
                          </a:lnTo>
                          <a:lnTo>
                            <a:pt x="688" y="0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4045680" y="4248000"/>
                      <a:ext cx="2556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161">
                          <a:moveTo>
                            <a:pt x="81" y="161"/>
                          </a:moveTo>
                          <a:lnTo>
                            <a:pt x="64" y="160"/>
                          </a:lnTo>
                          <a:lnTo>
                            <a:pt x="49" y="155"/>
                          </a:lnTo>
                          <a:lnTo>
                            <a:pt x="35" y="147"/>
                          </a:lnTo>
                          <a:lnTo>
                            <a:pt x="23" y="138"/>
                          </a:lnTo>
                          <a:lnTo>
                            <a:pt x="14" y="126"/>
                          </a:lnTo>
                          <a:lnTo>
                            <a:pt x="5" y="112"/>
                          </a:lnTo>
                          <a:lnTo>
                            <a:pt x="1" y="97"/>
                          </a:lnTo>
                          <a:lnTo>
                            <a:pt x="0" y="80"/>
                          </a:lnTo>
                          <a:lnTo>
                            <a:pt x="1" y="64"/>
                          </a:lnTo>
                          <a:lnTo>
                            <a:pt x="5" y="48"/>
                          </a:lnTo>
                          <a:lnTo>
                            <a:pt x="14" y="35"/>
                          </a:lnTo>
                          <a:lnTo>
                            <a:pt x="23" y="23"/>
                          </a:lnTo>
                          <a:lnTo>
                            <a:pt x="35" y="13"/>
                          </a:lnTo>
                          <a:lnTo>
                            <a:pt x="49" y="6"/>
                          </a:lnTo>
                          <a:lnTo>
                            <a:pt x="64" y="1"/>
                          </a:lnTo>
                          <a:lnTo>
                            <a:pt x="81" y="0"/>
                          </a:lnTo>
                          <a:lnTo>
                            <a:pt x="98" y="1"/>
                          </a:lnTo>
                          <a:lnTo>
                            <a:pt x="113" y="6"/>
                          </a:lnTo>
                          <a:lnTo>
                            <a:pt x="127" y="13"/>
                          </a:lnTo>
                          <a:lnTo>
                            <a:pt x="139" y="23"/>
                          </a:lnTo>
                          <a:lnTo>
                            <a:pt x="148" y="35"/>
                          </a:lnTo>
                          <a:lnTo>
                            <a:pt x="157" y="48"/>
                          </a:lnTo>
                          <a:lnTo>
                            <a:pt x="161" y="64"/>
                          </a:lnTo>
                          <a:lnTo>
                            <a:pt x="162" y="80"/>
                          </a:lnTo>
                          <a:lnTo>
                            <a:pt x="161" y="97"/>
                          </a:lnTo>
                          <a:lnTo>
                            <a:pt x="157" y="112"/>
                          </a:lnTo>
                          <a:lnTo>
                            <a:pt x="148" y="126"/>
                          </a:lnTo>
                          <a:lnTo>
                            <a:pt x="139" y="138"/>
                          </a:lnTo>
                          <a:lnTo>
                            <a:pt x="127" y="147"/>
                          </a:lnTo>
                          <a:lnTo>
                            <a:pt x="113" y="155"/>
                          </a:lnTo>
                          <a:lnTo>
                            <a:pt x="98" y="160"/>
                          </a:lnTo>
                          <a:lnTo>
                            <a:pt x="81" y="161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4056840" y="4293360"/>
                      <a:ext cx="223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226">
                          <a:moveTo>
                            <a:pt x="113" y="226"/>
                          </a:moveTo>
                          <a:lnTo>
                            <a:pt x="121" y="223"/>
                          </a:lnTo>
                          <a:lnTo>
                            <a:pt x="128" y="219"/>
                          </a:lnTo>
                          <a:lnTo>
                            <a:pt x="133" y="212"/>
                          </a:lnTo>
                          <a:lnTo>
                            <a:pt x="135" y="203"/>
                          </a:lnTo>
                          <a:lnTo>
                            <a:pt x="135" y="23"/>
                          </a:lnTo>
                          <a:lnTo>
                            <a:pt x="133" y="13"/>
                          </a:lnTo>
                          <a:lnTo>
                            <a:pt x="128" y="6"/>
                          </a:lnTo>
                          <a:lnTo>
                            <a:pt x="121" y="2"/>
                          </a:lnTo>
                          <a:lnTo>
                            <a:pt x="113" y="0"/>
                          </a:lnTo>
                          <a:lnTo>
                            <a:pt x="22" y="0"/>
                          </a:lnTo>
                          <a:lnTo>
                            <a:pt x="14" y="2"/>
                          </a:lnTo>
                          <a:lnTo>
                            <a:pt x="7" y="6"/>
                          </a:lnTo>
                          <a:lnTo>
                            <a:pt x="2" y="13"/>
                          </a:lnTo>
                          <a:lnTo>
                            <a:pt x="0" y="23"/>
                          </a:lnTo>
                          <a:lnTo>
                            <a:pt x="0" y="203"/>
                          </a:lnTo>
                          <a:lnTo>
                            <a:pt x="2" y="212"/>
                          </a:lnTo>
                          <a:lnTo>
                            <a:pt x="7" y="219"/>
                          </a:lnTo>
                          <a:lnTo>
                            <a:pt x="14" y="223"/>
                          </a:lnTo>
                          <a:lnTo>
                            <a:pt x="22" y="226"/>
                          </a:lnTo>
                          <a:lnTo>
                            <a:pt x="113" y="226"/>
                          </a:lnTo>
                          <a:close/>
                        </a:path>
                      </a:pathLst>
                    </a:custGeom>
                    <a:solidFill>
                      <a:srgbClr val="dbad8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4060080" y="4293360"/>
                      <a:ext cx="68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26">
                          <a:moveTo>
                            <a:pt x="21" y="0"/>
                          </a:moveTo>
                          <a:lnTo>
                            <a:pt x="19" y="2"/>
                          </a:lnTo>
                          <a:lnTo>
                            <a:pt x="0" y="45"/>
                          </a:lnTo>
                          <a:lnTo>
                            <a:pt x="27" y="70"/>
                          </a:lnTo>
                          <a:lnTo>
                            <a:pt x="5" y="124"/>
                          </a:lnTo>
                          <a:lnTo>
                            <a:pt x="30" y="160"/>
                          </a:lnTo>
                          <a:lnTo>
                            <a:pt x="2" y="225"/>
                          </a:lnTo>
                          <a:lnTo>
                            <a:pt x="4" y="225"/>
                          </a:lnTo>
                          <a:lnTo>
                            <a:pt x="5" y="225"/>
                          </a:lnTo>
                          <a:lnTo>
                            <a:pt x="6" y="226"/>
                          </a:lnTo>
                          <a:lnTo>
                            <a:pt x="7" y="226"/>
                          </a:lnTo>
                          <a:lnTo>
                            <a:pt x="28" y="226"/>
                          </a:lnTo>
                          <a:lnTo>
                            <a:pt x="48" y="160"/>
                          </a:lnTo>
                          <a:lnTo>
                            <a:pt x="19" y="118"/>
                          </a:lnTo>
                          <a:lnTo>
                            <a:pt x="48" y="62"/>
                          </a:lnTo>
                          <a:lnTo>
                            <a:pt x="21" y="37"/>
                          </a:lnTo>
                          <a:lnTo>
                            <a:pt x="31" y="0"/>
                          </a:lnTo>
                          <a:lnTo>
                            <a:pt x="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4066920" y="4293360"/>
                      <a:ext cx="7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226">
                          <a:moveTo>
                            <a:pt x="19" y="118"/>
                          </a:moveTo>
                          <a:lnTo>
                            <a:pt x="49" y="62"/>
                          </a:lnTo>
                          <a:lnTo>
                            <a:pt x="22" y="37"/>
                          </a:lnTo>
                          <a:lnTo>
                            <a:pt x="30" y="0"/>
                          </a:lnTo>
                          <a:lnTo>
                            <a:pt x="21" y="0"/>
                          </a:lnTo>
                          <a:lnTo>
                            <a:pt x="19" y="2"/>
                          </a:lnTo>
                          <a:lnTo>
                            <a:pt x="0" y="45"/>
                          </a:lnTo>
                          <a:lnTo>
                            <a:pt x="27" y="70"/>
                          </a:lnTo>
                          <a:lnTo>
                            <a:pt x="6" y="124"/>
                          </a:lnTo>
                          <a:lnTo>
                            <a:pt x="29" y="160"/>
                          </a:lnTo>
                          <a:lnTo>
                            <a:pt x="4" y="226"/>
                          </a:lnTo>
                          <a:lnTo>
                            <a:pt x="28" y="226"/>
                          </a:lnTo>
                          <a:lnTo>
                            <a:pt x="49" y="160"/>
                          </a:lnTo>
                          <a:lnTo>
                            <a:pt x="19" y="1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4192560" y="4293360"/>
                      <a:ext cx="61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70">
                          <a:moveTo>
                            <a:pt x="0" y="23"/>
                          </a:moveTo>
                          <a:lnTo>
                            <a:pt x="0" y="170"/>
                          </a:lnTo>
                          <a:lnTo>
                            <a:pt x="37" y="168"/>
                          </a:lnTo>
                          <a:lnTo>
                            <a:pt x="30" y="0"/>
                          </a:lnTo>
                          <a:lnTo>
                            <a:pt x="22" y="0"/>
                          </a:lnTo>
                          <a:lnTo>
                            <a:pt x="13" y="2"/>
                          </a:lnTo>
                          <a:lnTo>
                            <a:pt x="6" y="6"/>
                          </a:lnTo>
                          <a:lnTo>
                            <a:pt x="2" y="13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dbad8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3758400" y="3872520"/>
                      <a:ext cx="532080" cy="26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9000" tIns="9000" bIns="90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e4a8"/>
                          </a:solidFill>
                          <a:latin typeface="Tahoma"/>
                          <a:ea typeface="宋体"/>
                        </a:rPr>
                        <a:t>mCommer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2843280" y="4440960"/>
                  <a:ext cx="1420560" cy="963000"/>
                  <a:chOff x="2843280" y="4440960"/>
                  <a:chExt cx="1420560" cy="963000"/>
                </a:xfrm>
              </p:grpSpPr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3515760" y="4440960"/>
                    <a:ext cx="748080" cy="396360"/>
                    <a:chOff x="3515760" y="4440960"/>
                    <a:chExt cx="748080" cy="39636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651120" y="4440960"/>
                      <a:ext cx="464400" cy="396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b2b2b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659400" y="4447800"/>
                      <a:ext cx="447480" cy="382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764160" y="4787280"/>
                      <a:ext cx="874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8" h="120">
                          <a:moveTo>
                            <a:pt x="3" y="22"/>
                          </a:moveTo>
                          <a:lnTo>
                            <a:pt x="6" y="24"/>
                          </a:lnTo>
                          <a:lnTo>
                            <a:pt x="9" y="25"/>
                          </a:lnTo>
                          <a:lnTo>
                            <a:pt x="13" y="25"/>
                          </a:lnTo>
                          <a:lnTo>
                            <a:pt x="18" y="26"/>
                          </a:lnTo>
                          <a:lnTo>
                            <a:pt x="20" y="27"/>
                          </a:lnTo>
                          <a:lnTo>
                            <a:pt x="25" y="29"/>
                          </a:lnTo>
                          <a:lnTo>
                            <a:pt x="29" y="30"/>
                          </a:lnTo>
                          <a:lnTo>
                            <a:pt x="33" y="31"/>
                          </a:lnTo>
                          <a:lnTo>
                            <a:pt x="37" y="32"/>
                          </a:lnTo>
                          <a:lnTo>
                            <a:pt x="40" y="34"/>
                          </a:lnTo>
                          <a:lnTo>
                            <a:pt x="44" y="35"/>
                          </a:lnTo>
                          <a:lnTo>
                            <a:pt x="48" y="36"/>
                          </a:lnTo>
                          <a:lnTo>
                            <a:pt x="52" y="37"/>
                          </a:lnTo>
                          <a:lnTo>
                            <a:pt x="55" y="39"/>
                          </a:lnTo>
                          <a:lnTo>
                            <a:pt x="59" y="40"/>
                          </a:lnTo>
                          <a:lnTo>
                            <a:pt x="64" y="41"/>
                          </a:lnTo>
                          <a:lnTo>
                            <a:pt x="68" y="42"/>
                          </a:lnTo>
                          <a:lnTo>
                            <a:pt x="70" y="44"/>
                          </a:lnTo>
                          <a:lnTo>
                            <a:pt x="74" y="45"/>
                          </a:lnTo>
                          <a:lnTo>
                            <a:pt x="79" y="47"/>
                          </a:lnTo>
                          <a:lnTo>
                            <a:pt x="83" y="47"/>
                          </a:lnTo>
                          <a:lnTo>
                            <a:pt x="87" y="50"/>
                          </a:lnTo>
                          <a:lnTo>
                            <a:pt x="91" y="51"/>
                          </a:lnTo>
                          <a:lnTo>
                            <a:pt x="94" y="52"/>
                          </a:lnTo>
                          <a:lnTo>
                            <a:pt x="98" y="54"/>
                          </a:lnTo>
                          <a:lnTo>
                            <a:pt x="102" y="55"/>
                          </a:lnTo>
                          <a:lnTo>
                            <a:pt x="107" y="56"/>
                          </a:lnTo>
                          <a:lnTo>
                            <a:pt x="111" y="57"/>
                          </a:lnTo>
                          <a:lnTo>
                            <a:pt x="114" y="59"/>
                          </a:lnTo>
                          <a:lnTo>
                            <a:pt x="118" y="61"/>
                          </a:lnTo>
                          <a:lnTo>
                            <a:pt x="122" y="62"/>
                          </a:lnTo>
                          <a:lnTo>
                            <a:pt x="127" y="64"/>
                          </a:lnTo>
                          <a:lnTo>
                            <a:pt x="128" y="60"/>
                          </a:lnTo>
                          <a:lnTo>
                            <a:pt x="131" y="56"/>
                          </a:lnTo>
                          <a:lnTo>
                            <a:pt x="132" y="52"/>
                          </a:lnTo>
                          <a:lnTo>
                            <a:pt x="135" y="49"/>
                          </a:lnTo>
                          <a:lnTo>
                            <a:pt x="136" y="45"/>
                          </a:lnTo>
                          <a:lnTo>
                            <a:pt x="137" y="40"/>
                          </a:lnTo>
                          <a:lnTo>
                            <a:pt x="140" y="36"/>
                          </a:lnTo>
                          <a:lnTo>
                            <a:pt x="141" y="32"/>
                          </a:lnTo>
                          <a:lnTo>
                            <a:pt x="141" y="30"/>
                          </a:lnTo>
                          <a:lnTo>
                            <a:pt x="142" y="27"/>
                          </a:lnTo>
                          <a:lnTo>
                            <a:pt x="142" y="25"/>
                          </a:lnTo>
                          <a:lnTo>
                            <a:pt x="143" y="24"/>
                          </a:lnTo>
                          <a:lnTo>
                            <a:pt x="145" y="19"/>
                          </a:lnTo>
                          <a:lnTo>
                            <a:pt x="147" y="15"/>
                          </a:lnTo>
                          <a:lnTo>
                            <a:pt x="148" y="11"/>
                          </a:lnTo>
                          <a:lnTo>
                            <a:pt x="150" y="6"/>
                          </a:lnTo>
                          <a:lnTo>
                            <a:pt x="152" y="2"/>
                          </a:lnTo>
                          <a:lnTo>
                            <a:pt x="155" y="0"/>
                          </a:lnTo>
                          <a:lnTo>
                            <a:pt x="158" y="0"/>
                          </a:lnTo>
                          <a:lnTo>
                            <a:pt x="161" y="0"/>
                          </a:lnTo>
                          <a:lnTo>
                            <a:pt x="163" y="1"/>
                          </a:lnTo>
                          <a:lnTo>
                            <a:pt x="167" y="1"/>
                          </a:lnTo>
                          <a:lnTo>
                            <a:pt x="170" y="1"/>
                          </a:lnTo>
                          <a:lnTo>
                            <a:pt x="173" y="2"/>
                          </a:lnTo>
                          <a:lnTo>
                            <a:pt x="176" y="2"/>
                          </a:lnTo>
                          <a:lnTo>
                            <a:pt x="180" y="4"/>
                          </a:lnTo>
                          <a:lnTo>
                            <a:pt x="183" y="5"/>
                          </a:lnTo>
                          <a:lnTo>
                            <a:pt x="186" y="5"/>
                          </a:lnTo>
                          <a:lnTo>
                            <a:pt x="190" y="6"/>
                          </a:lnTo>
                          <a:lnTo>
                            <a:pt x="192" y="7"/>
                          </a:lnTo>
                          <a:lnTo>
                            <a:pt x="196" y="9"/>
                          </a:lnTo>
                          <a:lnTo>
                            <a:pt x="200" y="10"/>
                          </a:lnTo>
                          <a:lnTo>
                            <a:pt x="202" y="11"/>
                          </a:lnTo>
                          <a:lnTo>
                            <a:pt x="206" y="12"/>
                          </a:lnTo>
                          <a:lnTo>
                            <a:pt x="209" y="12"/>
                          </a:lnTo>
                          <a:lnTo>
                            <a:pt x="212" y="14"/>
                          </a:lnTo>
                          <a:lnTo>
                            <a:pt x="216" y="15"/>
                          </a:lnTo>
                          <a:lnTo>
                            <a:pt x="220" y="16"/>
                          </a:lnTo>
                          <a:lnTo>
                            <a:pt x="222" y="17"/>
                          </a:lnTo>
                          <a:lnTo>
                            <a:pt x="225" y="19"/>
                          </a:lnTo>
                          <a:lnTo>
                            <a:pt x="229" y="20"/>
                          </a:lnTo>
                          <a:lnTo>
                            <a:pt x="232" y="21"/>
                          </a:lnTo>
                          <a:lnTo>
                            <a:pt x="235" y="21"/>
                          </a:lnTo>
                          <a:lnTo>
                            <a:pt x="239" y="22"/>
                          </a:lnTo>
                          <a:lnTo>
                            <a:pt x="241" y="24"/>
                          </a:lnTo>
                          <a:lnTo>
                            <a:pt x="245" y="25"/>
                          </a:lnTo>
                          <a:lnTo>
                            <a:pt x="248" y="26"/>
                          </a:lnTo>
                          <a:lnTo>
                            <a:pt x="251" y="27"/>
                          </a:lnTo>
                          <a:lnTo>
                            <a:pt x="254" y="29"/>
                          </a:lnTo>
                          <a:lnTo>
                            <a:pt x="258" y="30"/>
                          </a:lnTo>
                          <a:lnTo>
                            <a:pt x="255" y="34"/>
                          </a:lnTo>
                          <a:lnTo>
                            <a:pt x="253" y="36"/>
                          </a:lnTo>
                          <a:lnTo>
                            <a:pt x="250" y="37"/>
                          </a:lnTo>
                          <a:lnTo>
                            <a:pt x="249" y="40"/>
                          </a:lnTo>
                          <a:lnTo>
                            <a:pt x="246" y="41"/>
                          </a:lnTo>
                          <a:lnTo>
                            <a:pt x="244" y="44"/>
                          </a:lnTo>
                          <a:lnTo>
                            <a:pt x="240" y="45"/>
                          </a:lnTo>
                          <a:lnTo>
                            <a:pt x="238" y="46"/>
                          </a:lnTo>
                          <a:lnTo>
                            <a:pt x="234" y="47"/>
                          </a:lnTo>
                          <a:lnTo>
                            <a:pt x="230" y="50"/>
                          </a:lnTo>
                          <a:lnTo>
                            <a:pt x="226" y="51"/>
                          </a:lnTo>
                          <a:lnTo>
                            <a:pt x="222" y="54"/>
                          </a:lnTo>
                          <a:lnTo>
                            <a:pt x="219" y="55"/>
                          </a:lnTo>
                          <a:lnTo>
                            <a:pt x="215" y="57"/>
                          </a:lnTo>
                          <a:lnTo>
                            <a:pt x="211" y="59"/>
                          </a:lnTo>
                          <a:lnTo>
                            <a:pt x="206" y="61"/>
                          </a:lnTo>
                          <a:lnTo>
                            <a:pt x="201" y="62"/>
                          </a:lnTo>
                          <a:lnTo>
                            <a:pt x="197" y="65"/>
                          </a:lnTo>
                          <a:lnTo>
                            <a:pt x="192" y="66"/>
                          </a:lnTo>
                          <a:lnTo>
                            <a:pt x="187" y="68"/>
                          </a:lnTo>
                          <a:lnTo>
                            <a:pt x="182" y="70"/>
                          </a:lnTo>
                          <a:lnTo>
                            <a:pt x="177" y="71"/>
                          </a:lnTo>
                          <a:lnTo>
                            <a:pt x="172" y="74"/>
                          </a:lnTo>
                          <a:lnTo>
                            <a:pt x="167" y="75"/>
                          </a:lnTo>
                          <a:lnTo>
                            <a:pt x="162" y="76"/>
                          </a:lnTo>
                          <a:lnTo>
                            <a:pt x="157" y="79"/>
                          </a:lnTo>
                          <a:lnTo>
                            <a:pt x="151" y="80"/>
                          </a:lnTo>
                          <a:lnTo>
                            <a:pt x="147" y="83"/>
                          </a:lnTo>
                          <a:lnTo>
                            <a:pt x="141" y="84"/>
                          </a:lnTo>
                          <a:lnTo>
                            <a:pt x="136" y="86"/>
                          </a:lnTo>
                          <a:lnTo>
                            <a:pt x="129" y="88"/>
                          </a:lnTo>
                          <a:lnTo>
                            <a:pt x="124" y="89"/>
                          </a:lnTo>
                          <a:lnTo>
                            <a:pt x="119" y="90"/>
                          </a:lnTo>
                          <a:lnTo>
                            <a:pt x="114" y="93"/>
                          </a:lnTo>
                          <a:lnTo>
                            <a:pt x="108" y="94"/>
                          </a:lnTo>
                          <a:lnTo>
                            <a:pt x="103" y="95"/>
                          </a:lnTo>
                          <a:lnTo>
                            <a:pt x="98" y="98"/>
                          </a:lnTo>
                          <a:lnTo>
                            <a:pt x="93" y="99"/>
                          </a:lnTo>
                          <a:lnTo>
                            <a:pt x="88" y="100"/>
                          </a:lnTo>
                          <a:lnTo>
                            <a:pt x="83" y="101"/>
                          </a:lnTo>
                          <a:lnTo>
                            <a:pt x="78" y="103"/>
                          </a:lnTo>
                          <a:lnTo>
                            <a:pt x="73" y="104"/>
                          </a:lnTo>
                          <a:lnTo>
                            <a:pt x="68" y="105"/>
                          </a:lnTo>
                          <a:lnTo>
                            <a:pt x="64" y="106"/>
                          </a:lnTo>
                          <a:lnTo>
                            <a:pt x="59" y="108"/>
                          </a:lnTo>
                          <a:lnTo>
                            <a:pt x="55" y="109"/>
                          </a:lnTo>
                          <a:lnTo>
                            <a:pt x="52" y="110"/>
                          </a:lnTo>
                          <a:lnTo>
                            <a:pt x="48" y="111"/>
                          </a:lnTo>
                          <a:lnTo>
                            <a:pt x="43" y="111"/>
                          </a:lnTo>
                          <a:lnTo>
                            <a:pt x="39" y="113"/>
                          </a:lnTo>
                          <a:lnTo>
                            <a:pt x="37" y="114"/>
                          </a:lnTo>
                          <a:lnTo>
                            <a:pt x="33" y="115"/>
                          </a:lnTo>
                          <a:lnTo>
                            <a:pt x="29" y="115"/>
                          </a:lnTo>
                          <a:lnTo>
                            <a:pt x="26" y="116"/>
                          </a:lnTo>
                          <a:lnTo>
                            <a:pt x="24" y="116"/>
                          </a:lnTo>
                          <a:lnTo>
                            <a:pt x="21" y="118"/>
                          </a:lnTo>
                          <a:lnTo>
                            <a:pt x="19" y="118"/>
                          </a:lnTo>
                          <a:lnTo>
                            <a:pt x="18" y="119"/>
                          </a:lnTo>
                          <a:lnTo>
                            <a:pt x="14" y="119"/>
                          </a:lnTo>
                          <a:lnTo>
                            <a:pt x="11" y="120"/>
                          </a:lnTo>
                          <a:lnTo>
                            <a:pt x="9" y="118"/>
                          </a:lnTo>
                          <a:lnTo>
                            <a:pt x="6" y="115"/>
                          </a:lnTo>
                          <a:lnTo>
                            <a:pt x="5" y="113"/>
                          </a:lnTo>
                          <a:lnTo>
                            <a:pt x="5" y="111"/>
                          </a:lnTo>
                          <a:lnTo>
                            <a:pt x="4" y="108"/>
                          </a:lnTo>
                          <a:lnTo>
                            <a:pt x="4" y="105"/>
                          </a:lnTo>
                          <a:lnTo>
                            <a:pt x="3" y="101"/>
                          </a:lnTo>
                          <a:lnTo>
                            <a:pt x="1" y="99"/>
                          </a:lnTo>
                          <a:lnTo>
                            <a:pt x="1" y="95"/>
                          </a:lnTo>
                          <a:lnTo>
                            <a:pt x="1" y="91"/>
                          </a:lnTo>
                          <a:lnTo>
                            <a:pt x="0" y="88"/>
                          </a:lnTo>
                          <a:lnTo>
                            <a:pt x="0" y="84"/>
                          </a:lnTo>
                          <a:lnTo>
                            <a:pt x="0" y="80"/>
                          </a:lnTo>
                          <a:lnTo>
                            <a:pt x="0" y="76"/>
                          </a:lnTo>
                          <a:lnTo>
                            <a:pt x="0" y="71"/>
                          </a:lnTo>
                          <a:lnTo>
                            <a:pt x="0" y="68"/>
                          </a:lnTo>
                          <a:lnTo>
                            <a:pt x="0" y="62"/>
                          </a:lnTo>
                          <a:lnTo>
                            <a:pt x="0" y="59"/>
                          </a:lnTo>
                          <a:lnTo>
                            <a:pt x="0" y="55"/>
                          </a:lnTo>
                          <a:lnTo>
                            <a:pt x="0" y="51"/>
                          </a:lnTo>
                          <a:lnTo>
                            <a:pt x="0" y="47"/>
                          </a:lnTo>
                          <a:lnTo>
                            <a:pt x="0" y="44"/>
                          </a:lnTo>
                          <a:lnTo>
                            <a:pt x="0" y="40"/>
                          </a:lnTo>
                          <a:lnTo>
                            <a:pt x="0" y="36"/>
                          </a:lnTo>
                          <a:lnTo>
                            <a:pt x="0" y="34"/>
                          </a:lnTo>
                          <a:lnTo>
                            <a:pt x="1" y="31"/>
                          </a:lnTo>
                          <a:lnTo>
                            <a:pt x="1" y="29"/>
                          </a:lnTo>
                          <a:lnTo>
                            <a:pt x="1" y="26"/>
                          </a:lnTo>
                          <a:lnTo>
                            <a:pt x="1" y="24"/>
                          </a:lnTo>
                          <a:lnTo>
                            <a:pt x="3" y="22"/>
                          </a:lnTo>
                          <a:lnTo>
                            <a:pt x="3" y="22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822480" y="4771800"/>
                      <a:ext cx="12744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5" h="173">
                          <a:moveTo>
                            <a:pt x="0" y="31"/>
                          </a:moveTo>
                          <a:lnTo>
                            <a:pt x="1" y="29"/>
                          </a:lnTo>
                          <a:lnTo>
                            <a:pt x="2" y="26"/>
                          </a:lnTo>
                          <a:lnTo>
                            <a:pt x="4" y="24"/>
                          </a:lnTo>
                          <a:lnTo>
                            <a:pt x="5" y="21"/>
                          </a:lnTo>
                          <a:lnTo>
                            <a:pt x="6" y="20"/>
                          </a:lnTo>
                          <a:lnTo>
                            <a:pt x="7" y="18"/>
                          </a:lnTo>
                          <a:lnTo>
                            <a:pt x="10" y="15"/>
                          </a:lnTo>
                          <a:lnTo>
                            <a:pt x="11" y="13"/>
                          </a:lnTo>
                          <a:lnTo>
                            <a:pt x="14" y="10"/>
                          </a:lnTo>
                          <a:lnTo>
                            <a:pt x="15" y="8"/>
                          </a:lnTo>
                          <a:lnTo>
                            <a:pt x="18" y="5"/>
                          </a:lnTo>
                          <a:lnTo>
                            <a:pt x="20" y="5"/>
                          </a:lnTo>
                          <a:lnTo>
                            <a:pt x="23" y="1"/>
                          </a:lnTo>
                          <a:lnTo>
                            <a:pt x="28" y="0"/>
                          </a:lnTo>
                          <a:lnTo>
                            <a:pt x="29" y="0"/>
                          </a:lnTo>
                          <a:lnTo>
                            <a:pt x="31" y="1"/>
                          </a:lnTo>
                          <a:lnTo>
                            <a:pt x="33" y="1"/>
                          </a:lnTo>
                          <a:lnTo>
                            <a:pt x="36" y="3"/>
                          </a:lnTo>
                          <a:lnTo>
                            <a:pt x="39" y="4"/>
                          </a:lnTo>
                          <a:lnTo>
                            <a:pt x="43" y="5"/>
                          </a:lnTo>
                          <a:lnTo>
                            <a:pt x="46" y="6"/>
                          </a:lnTo>
                          <a:lnTo>
                            <a:pt x="50" y="8"/>
                          </a:lnTo>
                          <a:lnTo>
                            <a:pt x="54" y="9"/>
                          </a:lnTo>
                          <a:lnTo>
                            <a:pt x="59" y="11"/>
                          </a:lnTo>
                          <a:lnTo>
                            <a:pt x="64" y="13"/>
                          </a:lnTo>
                          <a:lnTo>
                            <a:pt x="69" y="15"/>
                          </a:lnTo>
                          <a:lnTo>
                            <a:pt x="74" y="18"/>
                          </a:lnTo>
                          <a:lnTo>
                            <a:pt x="80" y="20"/>
                          </a:lnTo>
                          <a:lnTo>
                            <a:pt x="87" y="21"/>
                          </a:lnTo>
                          <a:lnTo>
                            <a:pt x="93" y="24"/>
                          </a:lnTo>
                          <a:lnTo>
                            <a:pt x="99" y="26"/>
                          </a:lnTo>
                          <a:lnTo>
                            <a:pt x="104" y="29"/>
                          </a:lnTo>
                          <a:lnTo>
                            <a:pt x="112" y="31"/>
                          </a:lnTo>
                          <a:lnTo>
                            <a:pt x="118" y="34"/>
                          </a:lnTo>
                          <a:lnTo>
                            <a:pt x="124" y="36"/>
                          </a:lnTo>
                          <a:lnTo>
                            <a:pt x="132" y="39"/>
                          </a:lnTo>
                          <a:lnTo>
                            <a:pt x="139" y="43"/>
                          </a:lnTo>
                          <a:lnTo>
                            <a:pt x="146" y="45"/>
                          </a:lnTo>
                          <a:lnTo>
                            <a:pt x="153" y="48"/>
                          </a:lnTo>
                          <a:lnTo>
                            <a:pt x="161" y="51"/>
                          </a:lnTo>
                          <a:lnTo>
                            <a:pt x="168" y="54"/>
                          </a:lnTo>
                          <a:lnTo>
                            <a:pt x="176" y="56"/>
                          </a:lnTo>
                          <a:lnTo>
                            <a:pt x="183" y="60"/>
                          </a:lnTo>
                          <a:lnTo>
                            <a:pt x="190" y="63"/>
                          </a:lnTo>
                          <a:lnTo>
                            <a:pt x="198" y="66"/>
                          </a:lnTo>
                          <a:lnTo>
                            <a:pt x="206" y="69"/>
                          </a:lnTo>
                          <a:lnTo>
                            <a:pt x="213" y="71"/>
                          </a:lnTo>
                          <a:lnTo>
                            <a:pt x="220" y="75"/>
                          </a:lnTo>
                          <a:lnTo>
                            <a:pt x="227" y="78"/>
                          </a:lnTo>
                          <a:lnTo>
                            <a:pt x="235" y="80"/>
                          </a:lnTo>
                          <a:lnTo>
                            <a:pt x="242" y="83"/>
                          </a:lnTo>
                          <a:lnTo>
                            <a:pt x="250" y="86"/>
                          </a:lnTo>
                          <a:lnTo>
                            <a:pt x="256" y="89"/>
                          </a:lnTo>
                          <a:lnTo>
                            <a:pt x="264" y="91"/>
                          </a:lnTo>
                          <a:lnTo>
                            <a:pt x="270" y="94"/>
                          </a:lnTo>
                          <a:lnTo>
                            <a:pt x="276" y="98"/>
                          </a:lnTo>
                          <a:lnTo>
                            <a:pt x="283" y="100"/>
                          </a:lnTo>
                          <a:lnTo>
                            <a:pt x="290" y="103"/>
                          </a:lnTo>
                          <a:lnTo>
                            <a:pt x="296" y="104"/>
                          </a:lnTo>
                          <a:lnTo>
                            <a:pt x="301" y="106"/>
                          </a:lnTo>
                          <a:lnTo>
                            <a:pt x="308" y="109"/>
                          </a:lnTo>
                          <a:lnTo>
                            <a:pt x="314" y="111"/>
                          </a:lnTo>
                          <a:lnTo>
                            <a:pt x="319" y="114"/>
                          </a:lnTo>
                          <a:lnTo>
                            <a:pt x="324" y="115"/>
                          </a:lnTo>
                          <a:lnTo>
                            <a:pt x="329" y="118"/>
                          </a:lnTo>
                          <a:lnTo>
                            <a:pt x="333" y="119"/>
                          </a:lnTo>
                          <a:lnTo>
                            <a:pt x="338" y="122"/>
                          </a:lnTo>
                          <a:lnTo>
                            <a:pt x="342" y="123"/>
                          </a:lnTo>
                          <a:lnTo>
                            <a:pt x="345" y="124"/>
                          </a:lnTo>
                          <a:lnTo>
                            <a:pt x="349" y="125"/>
                          </a:lnTo>
                          <a:lnTo>
                            <a:pt x="352" y="127"/>
                          </a:lnTo>
                          <a:lnTo>
                            <a:pt x="354" y="128"/>
                          </a:lnTo>
                          <a:lnTo>
                            <a:pt x="357" y="129"/>
                          </a:lnTo>
                          <a:lnTo>
                            <a:pt x="359" y="130"/>
                          </a:lnTo>
                          <a:lnTo>
                            <a:pt x="362" y="130"/>
                          </a:lnTo>
                          <a:lnTo>
                            <a:pt x="363" y="132"/>
                          </a:lnTo>
                          <a:lnTo>
                            <a:pt x="364" y="133"/>
                          </a:lnTo>
                          <a:lnTo>
                            <a:pt x="367" y="135"/>
                          </a:lnTo>
                          <a:lnTo>
                            <a:pt x="368" y="138"/>
                          </a:lnTo>
                          <a:lnTo>
                            <a:pt x="369" y="140"/>
                          </a:lnTo>
                          <a:lnTo>
                            <a:pt x="370" y="143"/>
                          </a:lnTo>
                          <a:lnTo>
                            <a:pt x="372" y="145"/>
                          </a:lnTo>
                          <a:lnTo>
                            <a:pt x="373" y="148"/>
                          </a:lnTo>
                          <a:lnTo>
                            <a:pt x="374" y="150"/>
                          </a:lnTo>
                          <a:lnTo>
                            <a:pt x="374" y="153"/>
                          </a:lnTo>
                          <a:lnTo>
                            <a:pt x="374" y="155"/>
                          </a:lnTo>
                          <a:lnTo>
                            <a:pt x="374" y="159"/>
                          </a:lnTo>
                          <a:lnTo>
                            <a:pt x="375" y="162"/>
                          </a:lnTo>
                          <a:lnTo>
                            <a:pt x="374" y="164"/>
                          </a:lnTo>
                          <a:lnTo>
                            <a:pt x="374" y="167"/>
                          </a:lnTo>
                          <a:lnTo>
                            <a:pt x="374" y="169"/>
                          </a:lnTo>
                          <a:lnTo>
                            <a:pt x="374" y="173"/>
                          </a:lnTo>
                          <a:lnTo>
                            <a:pt x="372" y="172"/>
                          </a:lnTo>
                          <a:lnTo>
                            <a:pt x="369" y="172"/>
                          </a:lnTo>
                          <a:lnTo>
                            <a:pt x="367" y="172"/>
                          </a:lnTo>
                          <a:lnTo>
                            <a:pt x="364" y="170"/>
                          </a:lnTo>
                          <a:lnTo>
                            <a:pt x="360" y="169"/>
                          </a:lnTo>
                          <a:lnTo>
                            <a:pt x="357" y="169"/>
                          </a:lnTo>
                          <a:lnTo>
                            <a:pt x="353" y="168"/>
                          </a:lnTo>
                          <a:lnTo>
                            <a:pt x="349" y="167"/>
                          </a:lnTo>
                          <a:lnTo>
                            <a:pt x="344" y="165"/>
                          </a:lnTo>
                          <a:lnTo>
                            <a:pt x="339" y="164"/>
                          </a:lnTo>
                          <a:lnTo>
                            <a:pt x="334" y="163"/>
                          </a:lnTo>
                          <a:lnTo>
                            <a:pt x="329" y="160"/>
                          </a:lnTo>
                          <a:lnTo>
                            <a:pt x="324" y="159"/>
                          </a:lnTo>
                          <a:lnTo>
                            <a:pt x="318" y="157"/>
                          </a:lnTo>
                          <a:lnTo>
                            <a:pt x="313" y="154"/>
                          </a:lnTo>
                          <a:lnTo>
                            <a:pt x="306" y="153"/>
                          </a:lnTo>
                          <a:lnTo>
                            <a:pt x="300" y="150"/>
                          </a:lnTo>
                          <a:lnTo>
                            <a:pt x="294" y="148"/>
                          </a:lnTo>
                          <a:lnTo>
                            <a:pt x="286" y="145"/>
                          </a:lnTo>
                          <a:lnTo>
                            <a:pt x="280" y="143"/>
                          </a:lnTo>
                          <a:lnTo>
                            <a:pt x="274" y="140"/>
                          </a:lnTo>
                          <a:lnTo>
                            <a:pt x="266" y="138"/>
                          </a:lnTo>
                          <a:lnTo>
                            <a:pt x="259" y="135"/>
                          </a:lnTo>
                          <a:lnTo>
                            <a:pt x="252" y="133"/>
                          </a:lnTo>
                          <a:lnTo>
                            <a:pt x="245" y="129"/>
                          </a:lnTo>
                          <a:lnTo>
                            <a:pt x="237" y="127"/>
                          </a:lnTo>
                          <a:lnTo>
                            <a:pt x="230" y="124"/>
                          </a:lnTo>
                          <a:lnTo>
                            <a:pt x="222" y="120"/>
                          </a:lnTo>
                          <a:lnTo>
                            <a:pt x="215" y="118"/>
                          </a:lnTo>
                          <a:lnTo>
                            <a:pt x="207" y="115"/>
                          </a:lnTo>
                          <a:lnTo>
                            <a:pt x="200" y="111"/>
                          </a:lnTo>
                          <a:lnTo>
                            <a:pt x="192" y="109"/>
                          </a:lnTo>
                          <a:lnTo>
                            <a:pt x="183" y="105"/>
                          </a:lnTo>
                          <a:lnTo>
                            <a:pt x="176" y="103"/>
                          </a:lnTo>
                          <a:lnTo>
                            <a:pt x="168" y="99"/>
                          </a:lnTo>
                          <a:lnTo>
                            <a:pt x="161" y="96"/>
                          </a:lnTo>
                          <a:lnTo>
                            <a:pt x="153" y="93"/>
                          </a:lnTo>
                          <a:lnTo>
                            <a:pt x="146" y="90"/>
                          </a:lnTo>
                          <a:lnTo>
                            <a:pt x="138" y="86"/>
                          </a:lnTo>
                          <a:lnTo>
                            <a:pt x="131" y="84"/>
                          </a:lnTo>
                          <a:lnTo>
                            <a:pt x="123" y="80"/>
                          </a:lnTo>
                          <a:lnTo>
                            <a:pt x="115" y="78"/>
                          </a:lnTo>
                          <a:lnTo>
                            <a:pt x="108" y="74"/>
                          </a:lnTo>
                          <a:lnTo>
                            <a:pt x="102" y="71"/>
                          </a:lnTo>
                          <a:lnTo>
                            <a:pt x="94" y="69"/>
                          </a:lnTo>
                          <a:lnTo>
                            <a:pt x="88" y="66"/>
                          </a:lnTo>
                          <a:lnTo>
                            <a:pt x="80" y="64"/>
                          </a:lnTo>
                          <a:lnTo>
                            <a:pt x="74" y="61"/>
                          </a:lnTo>
                          <a:lnTo>
                            <a:pt x="68" y="58"/>
                          </a:lnTo>
                          <a:lnTo>
                            <a:pt x="61" y="55"/>
                          </a:lnTo>
                          <a:lnTo>
                            <a:pt x="55" y="53"/>
                          </a:lnTo>
                          <a:lnTo>
                            <a:pt x="50" y="51"/>
                          </a:lnTo>
                          <a:lnTo>
                            <a:pt x="44" y="49"/>
                          </a:lnTo>
                          <a:lnTo>
                            <a:pt x="39" y="46"/>
                          </a:lnTo>
                          <a:lnTo>
                            <a:pt x="34" y="44"/>
                          </a:lnTo>
                          <a:lnTo>
                            <a:pt x="29" y="43"/>
                          </a:lnTo>
                          <a:lnTo>
                            <a:pt x="24" y="40"/>
                          </a:lnTo>
                          <a:lnTo>
                            <a:pt x="20" y="38"/>
                          </a:lnTo>
                          <a:lnTo>
                            <a:pt x="15" y="36"/>
                          </a:lnTo>
                          <a:lnTo>
                            <a:pt x="11" y="35"/>
                          </a:lnTo>
                          <a:lnTo>
                            <a:pt x="7" y="34"/>
                          </a:lnTo>
                          <a:lnTo>
                            <a:pt x="5" y="33"/>
                          </a:lnTo>
                          <a:lnTo>
                            <a:pt x="2" y="31"/>
                          </a:lnTo>
                          <a:lnTo>
                            <a:pt x="0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6600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951720" y="4725360"/>
                      <a:ext cx="6624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321">
                          <a:moveTo>
                            <a:pt x="16" y="321"/>
                          </a:moveTo>
                          <a:lnTo>
                            <a:pt x="0" y="273"/>
                          </a:lnTo>
                          <a:lnTo>
                            <a:pt x="1" y="270"/>
                          </a:lnTo>
                          <a:lnTo>
                            <a:pt x="2" y="267"/>
                          </a:lnTo>
                          <a:lnTo>
                            <a:pt x="3" y="264"/>
                          </a:lnTo>
                          <a:lnTo>
                            <a:pt x="5" y="260"/>
                          </a:lnTo>
                          <a:lnTo>
                            <a:pt x="6" y="258"/>
                          </a:lnTo>
                          <a:lnTo>
                            <a:pt x="7" y="255"/>
                          </a:lnTo>
                          <a:lnTo>
                            <a:pt x="8" y="252"/>
                          </a:lnTo>
                          <a:lnTo>
                            <a:pt x="11" y="249"/>
                          </a:lnTo>
                          <a:lnTo>
                            <a:pt x="11" y="245"/>
                          </a:lnTo>
                          <a:lnTo>
                            <a:pt x="13" y="243"/>
                          </a:lnTo>
                          <a:lnTo>
                            <a:pt x="15" y="239"/>
                          </a:lnTo>
                          <a:lnTo>
                            <a:pt x="16" y="237"/>
                          </a:lnTo>
                          <a:lnTo>
                            <a:pt x="17" y="233"/>
                          </a:lnTo>
                          <a:lnTo>
                            <a:pt x="18" y="230"/>
                          </a:lnTo>
                          <a:lnTo>
                            <a:pt x="21" y="228"/>
                          </a:lnTo>
                          <a:lnTo>
                            <a:pt x="22" y="224"/>
                          </a:lnTo>
                          <a:lnTo>
                            <a:pt x="23" y="222"/>
                          </a:lnTo>
                          <a:lnTo>
                            <a:pt x="25" y="218"/>
                          </a:lnTo>
                          <a:lnTo>
                            <a:pt x="26" y="215"/>
                          </a:lnTo>
                          <a:lnTo>
                            <a:pt x="27" y="213"/>
                          </a:lnTo>
                          <a:lnTo>
                            <a:pt x="28" y="209"/>
                          </a:lnTo>
                          <a:lnTo>
                            <a:pt x="31" y="207"/>
                          </a:lnTo>
                          <a:lnTo>
                            <a:pt x="32" y="203"/>
                          </a:lnTo>
                          <a:lnTo>
                            <a:pt x="33" y="200"/>
                          </a:lnTo>
                          <a:lnTo>
                            <a:pt x="35" y="197"/>
                          </a:lnTo>
                          <a:lnTo>
                            <a:pt x="37" y="194"/>
                          </a:lnTo>
                          <a:lnTo>
                            <a:pt x="38" y="192"/>
                          </a:lnTo>
                          <a:lnTo>
                            <a:pt x="40" y="189"/>
                          </a:lnTo>
                          <a:lnTo>
                            <a:pt x="41" y="185"/>
                          </a:lnTo>
                          <a:lnTo>
                            <a:pt x="42" y="183"/>
                          </a:lnTo>
                          <a:lnTo>
                            <a:pt x="45" y="179"/>
                          </a:lnTo>
                          <a:lnTo>
                            <a:pt x="46" y="177"/>
                          </a:lnTo>
                          <a:lnTo>
                            <a:pt x="47" y="174"/>
                          </a:lnTo>
                          <a:lnTo>
                            <a:pt x="48" y="170"/>
                          </a:lnTo>
                          <a:lnTo>
                            <a:pt x="51" y="168"/>
                          </a:lnTo>
                          <a:lnTo>
                            <a:pt x="52" y="164"/>
                          </a:lnTo>
                          <a:lnTo>
                            <a:pt x="54" y="162"/>
                          </a:lnTo>
                          <a:lnTo>
                            <a:pt x="55" y="159"/>
                          </a:lnTo>
                          <a:lnTo>
                            <a:pt x="56" y="155"/>
                          </a:lnTo>
                          <a:lnTo>
                            <a:pt x="59" y="153"/>
                          </a:lnTo>
                          <a:lnTo>
                            <a:pt x="60" y="149"/>
                          </a:lnTo>
                          <a:lnTo>
                            <a:pt x="61" y="147"/>
                          </a:lnTo>
                          <a:lnTo>
                            <a:pt x="62" y="144"/>
                          </a:lnTo>
                          <a:lnTo>
                            <a:pt x="65" y="142"/>
                          </a:lnTo>
                          <a:lnTo>
                            <a:pt x="66" y="138"/>
                          </a:lnTo>
                          <a:lnTo>
                            <a:pt x="67" y="135"/>
                          </a:lnTo>
                          <a:lnTo>
                            <a:pt x="70" y="133"/>
                          </a:lnTo>
                          <a:lnTo>
                            <a:pt x="71" y="130"/>
                          </a:lnTo>
                          <a:lnTo>
                            <a:pt x="72" y="127"/>
                          </a:lnTo>
                          <a:lnTo>
                            <a:pt x="74" y="124"/>
                          </a:lnTo>
                          <a:lnTo>
                            <a:pt x="76" y="120"/>
                          </a:lnTo>
                          <a:lnTo>
                            <a:pt x="77" y="118"/>
                          </a:lnTo>
                          <a:lnTo>
                            <a:pt x="79" y="115"/>
                          </a:lnTo>
                          <a:lnTo>
                            <a:pt x="81" y="113"/>
                          </a:lnTo>
                          <a:lnTo>
                            <a:pt x="82" y="109"/>
                          </a:lnTo>
                          <a:lnTo>
                            <a:pt x="85" y="106"/>
                          </a:lnTo>
                          <a:lnTo>
                            <a:pt x="86" y="104"/>
                          </a:lnTo>
                          <a:lnTo>
                            <a:pt x="87" y="100"/>
                          </a:lnTo>
                          <a:lnTo>
                            <a:pt x="89" y="98"/>
                          </a:lnTo>
                          <a:lnTo>
                            <a:pt x="91" y="95"/>
                          </a:lnTo>
                          <a:lnTo>
                            <a:pt x="92" y="93"/>
                          </a:lnTo>
                          <a:lnTo>
                            <a:pt x="94" y="90"/>
                          </a:lnTo>
                          <a:lnTo>
                            <a:pt x="96" y="86"/>
                          </a:lnTo>
                          <a:lnTo>
                            <a:pt x="97" y="85"/>
                          </a:lnTo>
                          <a:lnTo>
                            <a:pt x="101" y="80"/>
                          </a:lnTo>
                          <a:lnTo>
                            <a:pt x="105" y="76"/>
                          </a:lnTo>
                          <a:lnTo>
                            <a:pt x="108" y="74"/>
                          </a:lnTo>
                          <a:lnTo>
                            <a:pt x="110" y="71"/>
                          </a:lnTo>
                          <a:lnTo>
                            <a:pt x="113" y="69"/>
                          </a:lnTo>
                          <a:lnTo>
                            <a:pt x="116" y="68"/>
                          </a:lnTo>
                          <a:lnTo>
                            <a:pt x="118" y="64"/>
                          </a:lnTo>
                          <a:lnTo>
                            <a:pt x="121" y="61"/>
                          </a:lnTo>
                          <a:lnTo>
                            <a:pt x="124" y="59"/>
                          </a:lnTo>
                          <a:lnTo>
                            <a:pt x="128" y="56"/>
                          </a:lnTo>
                          <a:lnTo>
                            <a:pt x="131" y="53"/>
                          </a:lnTo>
                          <a:lnTo>
                            <a:pt x="134" y="50"/>
                          </a:lnTo>
                          <a:lnTo>
                            <a:pt x="138" y="48"/>
                          </a:lnTo>
                          <a:lnTo>
                            <a:pt x="141" y="45"/>
                          </a:lnTo>
                          <a:lnTo>
                            <a:pt x="145" y="41"/>
                          </a:lnTo>
                          <a:lnTo>
                            <a:pt x="149" y="39"/>
                          </a:lnTo>
                          <a:lnTo>
                            <a:pt x="151" y="36"/>
                          </a:lnTo>
                          <a:lnTo>
                            <a:pt x="155" y="34"/>
                          </a:lnTo>
                          <a:lnTo>
                            <a:pt x="159" y="30"/>
                          </a:lnTo>
                          <a:lnTo>
                            <a:pt x="163" y="28"/>
                          </a:lnTo>
                          <a:lnTo>
                            <a:pt x="165" y="24"/>
                          </a:lnTo>
                          <a:lnTo>
                            <a:pt x="169" y="21"/>
                          </a:lnTo>
                          <a:lnTo>
                            <a:pt x="173" y="19"/>
                          </a:lnTo>
                          <a:lnTo>
                            <a:pt x="175" y="16"/>
                          </a:lnTo>
                          <a:lnTo>
                            <a:pt x="179" y="13"/>
                          </a:lnTo>
                          <a:lnTo>
                            <a:pt x="182" y="10"/>
                          </a:lnTo>
                          <a:lnTo>
                            <a:pt x="185" y="8"/>
                          </a:lnTo>
                          <a:lnTo>
                            <a:pt x="188" y="5"/>
                          </a:lnTo>
                          <a:lnTo>
                            <a:pt x="190" y="3"/>
                          </a:lnTo>
                          <a:lnTo>
                            <a:pt x="194" y="0"/>
                          </a:lnTo>
                          <a:lnTo>
                            <a:pt x="190" y="5"/>
                          </a:lnTo>
                          <a:lnTo>
                            <a:pt x="188" y="10"/>
                          </a:lnTo>
                          <a:lnTo>
                            <a:pt x="185" y="15"/>
                          </a:lnTo>
                          <a:lnTo>
                            <a:pt x="183" y="19"/>
                          </a:lnTo>
                          <a:lnTo>
                            <a:pt x="179" y="24"/>
                          </a:lnTo>
                          <a:lnTo>
                            <a:pt x="177" y="29"/>
                          </a:lnTo>
                          <a:lnTo>
                            <a:pt x="174" y="34"/>
                          </a:lnTo>
                          <a:lnTo>
                            <a:pt x="172" y="39"/>
                          </a:lnTo>
                          <a:lnTo>
                            <a:pt x="169" y="44"/>
                          </a:lnTo>
                          <a:lnTo>
                            <a:pt x="165" y="49"/>
                          </a:lnTo>
                          <a:lnTo>
                            <a:pt x="163" y="54"/>
                          </a:lnTo>
                          <a:lnTo>
                            <a:pt x="160" y="59"/>
                          </a:lnTo>
                          <a:lnTo>
                            <a:pt x="158" y="64"/>
                          </a:lnTo>
                          <a:lnTo>
                            <a:pt x="155" y="69"/>
                          </a:lnTo>
                          <a:lnTo>
                            <a:pt x="151" y="74"/>
                          </a:lnTo>
                          <a:lnTo>
                            <a:pt x="150" y="79"/>
                          </a:lnTo>
                          <a:lnTo>
                            <a:pt x="146" y="84"/>
                          </a:lnTo>
                          <a:lnTo>
                            <a:pt x="144" y="89"/>
                          </a:lnTo>
                          <a:lnTo>
                            <a:pt x="140" y="94"/>
                          </a:lnTo>
                          <a:lnTo>
                            <a:pt x="138" y="99"/>
                          </a:lnTo>
                          <a:lnTo>
                            <a:pt x="135" y="104"/>
                          </a:lnTo>
                          <a:lnTo>
                            <a:pt x="133" y="109"/>
                          </a:lnTo>
                          <a:lnTo>
                            <a:pt x="130" y="114"/>
                          </a:lnTo>
                          <a:lnTo>
                            <a:pt x="128" y="119"/>
                          </a:lnTo>
                          <a:lnTo>
                            <a:pt x="124" y="124"/>
                          </a:lnTo>
                          <a:lnTo>
                            <a:pt x="121" y="130"/>
                          </a:lnTo>
                          <a:lnTo>
                            <a:pt x="119" y="134"/>
                          </a:lnTo>
                          <a:lnTo>
                            <a:pt x="116" y="140"/>
                          </a:lnTo>
                          <a:lnTo>
                            <a:pt x="114" y="145"/>
                          </a:lnTo>
                          <a:lnTo>
                            <a:pt x="110" y="150"/>
                          </a:lnTo>
                          <a:lnTo>
                            <a:pt x="108" y="155"/>
                          </a:lnTo>
                          <a:lnTo>
                            <a:pt x="105" y="160"/>
                          </a:lnTo>
                          <a:lnTo>
                            <a:pt x="103" y="165"/>
                          </a:lnTo>
                          <a:lnTo>
                            <a:pt x="99" y="170"/>
                          </a:lnTo>
                          <a:lnTo>
                            <a:pt x="96" y="175"/>
                          </a:lnTo>
                          <a:lnTo>
                            <a:pt x="94" y="180"/>
                          </a:lnTo>
                          <a:lnTo>
                            <a:pt x="90" y="185"/>
                          </a:lnTo>
                          <a:lnTo>
                            <a:pt x="87" y="190"/>
                          </a:lnTo>
                          <a:lnTo>
                            <a:pt x="85" y="195"/>
                          </a:lnTo>
                          <a:lnTo>
                            <a:pt x="82" y="200"/>
                          </a:lnTo>
                          <a:lnTo>
                            <a:pt x="79" y="205"/>
                          </a:lnTo>
                          <a:lnTo>
                            <a:pt x="76" y="210"/>
                          </a:lnTo>
                          <a:lnTo>
                            <a:pt x="74" y="215"/>
                          </a:lnTo>
                          <a:lnTo>
                            <a:pt x="71" y="220"/>
                          </a:lnTo>
                          <a:lnTo>
                            <a:pt x="69" y="225"/>
                          </a:lnTo>
                          <a:lnTo>
                            <a:pt x="65" y="230"/>
                          </a:lnTo>
                          <a:lnTo>
                            <a:pt x="62" y="235"/>
                          </a:lnTo>
                          <a:lnTo>
                            <a:pt x="60" y="242"/>
                          </a:lnTo>
                          <a:lnTo>
                            <a:pt x="56" y="247"/>
                          </a:lnTo>
                          <a:lnTo>
                            <a:pt x="54" y="250"/>
                          </a:lnTo>
                          <a:lnTo>
                            <a:pt x="51" y="255"/>
                          </a:lnTo>
                          <a:lnTo>
                            <a:pt x="48" y="260"/>
                          </a:lnTo>
                          <a:lnTo>
                            <a:pt x="46" y="265"/>
                          </a:lnTo>
                          <a:lnTo>
                            <a:pt x="42" y="270"/>
                          </a:lnTo>
                          <a:lnTo>
                            <a:pt x="40" y="275"/>
                          </a:lnTo>
                          <a:lnTo>
                            <a:pt x="37" y="281"/>
                          </a:lnTo>
                          <a:lnTo>
                            <a:pt x="35" y="286"/>
                          </a:lnTo>
                          <a:lnTo>
                            <a:pt x="32" y="291"/>
                          </a:lnTo>
                          <a:lnTo>
                            <a:pt x="28" y="296"/>
                          </a:lnTo>
                          <a:lnTo>
                            <a:pt x="27" y="301"/>
                          </a:lnTo>
                          <a:lnTo>
                            <a:pt x="23" y="306"/>
                          </a:lnTo>
                          <a:lnTo>
                            <a:pt x="21" y="311"/>
                          </a:lnTo>
                          <a:lnTo>
                            <a:pt x="18" y="314"/>
                          </a:lnTo>
                          <a:lnTo>
                            <a:pt x="16" y="321"/>
                          </a:lnTo>
                          <a:lnTo>
                            <a:pt x="16" y="321"/>
                          </a:lnTo>
                          <a:close/>
                        </a:path>
                      </a:pathLst>
                    </a:custGeom>
                    <a:solidFill>
                      <a:srgbClr val="6600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839760" y="4749840"/>
                      <a:ext cx="131400" cy="5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6" h="178">
                          <a:moveTo>
                            <a:pt x="313" y="178"/>
                          </a:moveTo>
                          <a:lnTo>
                            <a:pt x="308" y="175"/>
                          </a:lnTo>
                          <a:lnTo>
                            <a:pt x="302" y="174"/>
                          </a:lnTo>
                          <a:lnTo>
                            <a:pt x="297" y="172"/>
                          </a:lnTo>
                          <a:lnTo>
                            <a:pt x="292" y="170"/>
                          </a:lnTo>
                          <a:lnTo>
                            <a:pt x="286" y="168"/>
                          </a:lnTo>
                          <a:lnTo>
                            <a:pt x="281" y="165"/>
                          </a:lnTo>
                          <a:lnTo>
                            <a:pt x="276" y="164"/>
                          </a:lnTo>
                          <a:lnTo>
                            <a:pt x="270" y="162"/>
                          </a:lnTo>
                          <a:lnTo>
                            <a:pt x="264" y="159"/>
                          </a:lnTo>
                          <a:lnTo>
                            <a:pt x="259" y="158"/>
                          </a:lnTo>
                          <a:lnTo>
                            <a:pt x="254" y="155"/>
                          </a:lnTo>
                          <a:lnTo>
                            <a:pt x="249" y="154"/>
                          </a:lnTo>
                          <a:lnTo>
                            <a:pt x="244" y="152"/>
                          </a:lnTo>
                          <a:lnTo>
                            <a:pt x="238" y="150"/>
                          </a:lnTo>
                          <a:lnTo>
                            <a:pt x="234" y="148"/>
                          </a:lnTo>
                          <a:lnTo>
                            <a:pt x="229" y="147"/>
                          </a:lnTo>
                          <a:lnTo>
                            <a:pt x="223" y="144"/>
                          </a:lnTo>
                          <a:lnTo>
                            <a:pt x="218" y="143"/>
                          </a:lnTo>
                          <a:lnTo>
                            <a:pt x="213" y="140"/>
                          </a:lnTo>
                          <a:lnTo>
                            <a:pt x="208" y="138"/>
                          </a:lnTo>
                          <a:lnTo>
                            <a:pt x="203" y="137"/>
                          </a:lnTo>
                          <a:lnTo>
                            <a:pt x="198" y="134"/>
                          </a:lnTo>
                          <a:lnTo>
                            <a:pt x="193" y="132"/>
                          </a:lnTo>
                          <a:lnTo>
                            <a:pt x="188" y="130"/>
                          </a:lnTo>
                          <a:lnTo>
                            <a:pt x="183" y="128"/>
                          </a:lnTo>
                          <a:lnTo>
                            <a:pt x="178" y="127"/>
                          </a:lnTo>
                          <a:lnTo>
                            <a:pt x="173" y="124"/>
                          </a:lnTo>
                          <a:lnTo>
                            <a:pt x="169" y="123"/>
                          </a:lnTo>
                          <a:lnTo>
                            <a:pt x="164" y="120"/>
                          </a:lnTo>
                          <a:lnTo>
                            <a:pt x="159" y="118"/>
                          </a:lnTo>
                          <a:lnTo>
                            <a:pt x="154" y="117"/>
                          </a:lnTo>
                          <a:lnTo>
                            <a:pt x="149" y="114"/>
                          </a:lnTo>
                          <a:lnTo>
                            <a:pt x="144" y="112"/>
                          </a:lnTo>
                          <a:lnTo>
                            <a:pt x="139" y="110"/>
                          </a:lnTo>
                          <a:lnTo>
                            <a:pt x="135" y="108"/>
                          </a:lnTo>
                          <a:lnTo>
                            <a:pt x="130" y="107"/>
                          </a:lnTo>
                          <a:lnTo>
                            <a:pt x="125" y="104"/>
                          </a:lnTo>
                          <a:lnTo>
                            <a:pt x="120" y="103"/>
                          </a:lnTo>
                          <a:lnTo>
                            <a:pt x="115" y="100"/>
                          </a:lnTo>
                          <a:lnTo>
                            <a:pt x="111" y="99"/>
                          </a:lnTo>
                          <a:lnTo>
                            <a:pt x="106" y="97"/>
                          </a:lnTo>
                          <a:lnTo>
                            <a:pt x="101" y="95"/>
                          </a:lnTo>
                          <a:lnTo>
                            <a:pt x="96" y="93"/>
                          </a:lnTo>
                          <a:lnTo>
                            <a:pt x="92" y="92"/>
                          </a:lnTo>
                          <a:lnTo>
                            <a:pt x="87" y="89"/>
                          </a:lnTo>
                          <a:lnTo>
                            <a:pt x="82" y="87"/>
                          </a:lnTo>
                          <a:lnTo>
                            <a:pt x="77" y="85"/>
                          </a:lnTo>
                          <a:lnTo>
                            <a:pt x="73" y="83"/>
                          </a:lnTo>
                          <a:lnTo>
                            <a:pt x="68" y="82"/>
                          </a:lnTo>
                          <a:lnTo>
                            <a:pt x="63" y="79"/>
                          </a:lnTo>
                          <a:lnTo>
                            <a:pt x="59" y="78"/>
                          </a:lnTo>
                          <a:lnTo>
                            <a:pt x="54" y="75"/>
                          </a:lnTo>
                          <a:lnTo>
                            <a:pt x="49" y="73"/>
                          </a:lnTo>
                          <a:lnTo>
                            <a:pt x="46" y="72"/>
                          </a:lnTo>
                          <a:lnTo>
                            <a:pt x="41" y="69"/>
                          </a:lnTo>
                          <a:lnTo>
                            <a:pt x="36" y="68"/>
                          </a:lnTo>
                          <a:lnTo>
                            <a:pt x="32" y="65"/>
                          </a:lnTo>
                          <a:lnTo>
                            <a:pt x="27" y="64"/>
                          </a:lnTo>
                          <a:lnTo>
                            <a:pt x="22" y="62"/>
                          </a:lnTo>
                          <a:lnTo>
                            <a:pt x="18" y="60"/>
                          </a:lnTo>
                          <a:lnTo>
                            <a:pt x="13" y="58"/>
                          </a:lnTo>
                          <a:lnTo>
                            <a:pt x="9" y="57"/>
                          </a:lnTo>
                          <a:lnTo>
                            <a:pt x="4" y="54"/>
                          </a:lnTo>
                          <a:lnTo>
                            <a:pt x="0" y="53"/>
                          </a:lnTo>
                          <a:lnTo>
                            <a:pt x="2" y="49"/>
                          </a:lnTo>
                          <a:lnTo>
                            <a:pt x="5" y="47"/>
                          </a:lnTo>
                          <a:lnTo>
                            <a:pt x="7" y="44"/>
                          </a:lnTo>
                          <a:lnTo>
                            <a:pt x="9" y="43"/>
                          </a:lnTo>
                          <a:lnTo>
                            <a:pt x="12" y="40"/>
                          </a:lnTo>
                          <a:lnTo>
                            <a:pt x="14" y="39"/>
                          </a:lnTo>
                          <a:lnTo>
                            <a:pt x="17" y="36"/>
                          </a:lnTo>
                          <a:lnTo>
                            <a:pt x="19" y="34"/>
                          </a:lnTo>
                          <a:lnTo>
                            <a:pt x="22" y="31"/>
                          </a:lnTo>
                          <a:lnTo>
                            <a:pt x="26" y="30"/>
                          </a:lnTo>
                          <a:lnTo>
                            <a:pt x="28" y="28"/>
                          </a:lnTo>
                          <a:lnTo>
                            <a:pt x="32" y="25"/>
                          </a:lnTo>
                          <a:lnTo>
                            <a:pt x="34" y="24"/>
                          </a:lnTo>
                          <a:lnTo>
                            <a:pt x="38" y="21"/>
                          </a:lnTo>
                          <a:lnTo>
                            <a:pt x="41" y="19"/>
                          </a:lnTo>
                          <a:lnTo>
                            <a:pt x="44" y="18"/>
                          </a:lnTo>
                          <a:lnTo>
                            <a:pt x="48" y="15"/>
                          </a:lnTo>
                          <a:lnTo>
                            <a:pt x="51" y="14"/>
                          </a:lnTo>
                          <a:lnTo>
                            <a:pt x="53" y="11"/>
                          </a:lnTo>
                          <a:lnTo>
                            <a:pt x="57" y="10"/>
                          </a:lnTo>
                          <a:lnTo>
                            <a:pt x="59" y="8"/>
                          </a:lnTo>
                          <a:lnTo>
                            <a:pt x="63" y="6"/>
                          </a:lnTo>
                          <a:lnTo>
                            <a:pt x="66" y="5"/>
                          </a:lnTo>
                          <a:lnTo>
                            <a:pt x="68" y="4"/>
                          </a:lnTo>
                          <a:lnTo>
                            <a:pt x="71" y="3"/>
                          </a:lnTo>
                          <a:lnTo>
                            <a:pt x="73" y="1"/>
                          </a:lnTo>
                          <a:lnTo>
                            <a:pt x="76" y="0"/>
                          </a:lnTo>
                          <a:lnTo>
                            <a:pt x="78" y="0"/>
                          </a:lnTo>
                          <a:lnTo>
                            <a:pt x="80" y="0"/>
                          </a:lnTo>
                          <a:lnTo>
                            <a:pt x="82" y="0"/>
                          </a:lnTo>
                          <a:lnTo>
                            <a:pt x="86" y="0"/>
                          </a:lnTo>
                          <a:lnTo>
                            <a:pt x="90" y="1"/>
                          </a:lnTo>
                          <a:lnTo>
                            <a:pt x="93" y="3"/>
                          </a:lnTo>
                          <a:lnTo>
                            <a:pt x="96" y="4"/>
                          </a:lnTo>
                          <a:lnTo>
                            <a:pt x="100" y="5"/>
                          </a:lnTo>
                          <a:lnTo>
                            <a:pt x="103" y="6"/>
                          </a:lnTo>
                          <a:lnTo>
                            <a:pt x="107" y="8"/>
                          </a:lnTo>
                          <a:lnTo>
                            <a:pt x="111" y="9"/>
                          </a:lnTo>
                          <a:lnTo>
                            <a:pt x="113" y="10"/>
                          </a:lnTo>
                          <a:lnTo>
                            <a:pt x="117" y="11"/>
                          </a:lnTo>
                          <a:lnTo>
                            <a:pt x="121" y="13"/>
                          </a:lnTo>
                          <a:lnTo>
                            <a:pt x="125" y="14"/>
                          </a:lnTo>
                          <a:lnTo>
                            <a:pt x="129" y="14"/>
                          </a:lnTo>
                          <a:lnTo>
                            <a:pt x="132" y="15"/>
                          </a:lnTo>
                          <a:lnTo>
                            <a:pt x="136" y="16"/>
                          </a:lnTo>
                          <a:lnTo>
                            <a:pt x="139" y="18"/>
                          </a:lnTo>
                          <a:lnTo>
                            <a:pt x="142" y="19"/>
                          </a:lnTo>
                          <a:lnTo>
                            <a:pt x="146" y="20"/>
                          </a:lnTo>
                          <a:lnTo>
                            <a:pt x="150" y="21"/>
                          </a:lnTo>
                          <a:lnTo>
                            <a:pt x="154" y="23"/>
                          </a:lnTo>
                          <a:lnTo>
                            <a:pt x="156" y="24"/>
                          </a:lnTo>
                          <a:lnTo>
                            <a:pt x="160" y="25"/>
                          </a:lnTo>
                          <a:lnTo>
                            <a:pt x="164" y="26"/>
                          </a:lnTo>
                          <a:lnTo>
                            <a:pt x="167" y="28"/>
                          </a:lnTo>
                          <a:lnTo>
                            <a:pt x="171" y="29"/>
                          </a:lnTo>
                          <a:lnTo>
                            <a:pt x="175" y="30"/>
                          </a:lnTo>
                          <a:lnTo>
                            <a:pt x="179" y="31"/>
                          </a:lnTo>
                          <a:lnTo>
                            <a:pt x="183" y="33"/>
                          </a:lnTo>
                          <a:lnTo>
                            <a:pt x="186" y="34"/>
                          </a:lnTo>
                          <a:lnTo>
                            <a:pt x="189" y="35"/>
                          </a:lnTo>
                          <a:lnTo>
                            <a:pt x="193" y="36"/>
                          </a:lnTo>
                          <a:lnTo>
                            <a:pt x="196" y="38"/>
                          </a:lnTo>
                          <a:lnTo>
                            <a:pt x="200" y="39"/>
                          </a:lnTo>
                          <a:lnTo>
                            <a:pt x="204" y="40"/>
                          </a:lnTo>
                          <a:lnTo>
                            <a:pt x="206" y="42"/>
                          </a:lnTo>
                          <a:lnTo>
                            <a:pt x="210" y="43"/>
                          </a:lnTo>
                          <a:lnTo>
                            <a:pt x="214" y="44"/>
                          </a:lnTo>
                          <a:lnTo>
                            <a:pt x="218" y="45"/>
                          </a:lnTo>
                          <a:lnTo>
                            <a:pt x="221" y="47"/>
                          </a:lnTo>
                          <a:lnTo>
                            <a:pt x="225" y="48"/>
                          </a:lnTo>
                          <a:lnTo>
                            <a:pt x="229" y="49"/>
                          </a:lnTo>
                          <a:lnTo>
                            <a:pt x="232" y="50"/>
                          </a:lnTo>
                          <a:lnTo>
                            <a:pt x="235" y="52"/>
                          </a:lnTo>
                          <a:lnTo>
                            <a:pt x="239" y="53"/>
                          </a:lnTo>
                          <a:lnTo>
                            <a:pt x="243" y="54"/>
                          </a:lnTo>
                          <a:lnTo>
                            <a:pt x="247" y="55"/>
                          </a:lnTo>
                          <a:lnTo>
                            <a:pt x="250" y="57"/>
                          </a:lnTo>
                          <a:lnTo>
                            <a:pt x="254" y="58"/>
                          </a:lnTo>
                          <a:lnTo>
                            <a:pt x="257" y="59"/>
                          </a:lnTo>
                          <a:lnTo>
                            <a:pt x="260" y="60"/>
                          </a:lnTo>
                          <a:lnTo>
                            <a:pt x="264" y="62"/>
                          </a:lnTo>
                          <a:lnTo>
                            <a:pt x="268" y="62"/>
                          </a:lnTo>
                          <a:lnTo>
                            <a:pt x="272" y="63"/>
                          </a:lnTo>
                          <a:lnTo>
                            <a:pt x="276" y="64"/>
                          </a:lnTo>
                          <a:lnTo>
                            <a:pt x="279" y="65"/>
                          </a:lnTo>
                          <a:lnTo>
                            <a:pt x="282" y="67"/>
                          </a:lnTo>
                          <a:lnTo>
                            <a:pt x="286" y="68"/>
                          </a:lnTo>
                          <a:lnTo>
                            <a:pt x="289" y="69"/>
                          </a:lnTo>
                          <a:lnTo>
                            <a:pt x="293" y="69"/>
                          </a:lnTo>
                          <a:lnTo>
                            <a:pt x="296" y="70"/>
                          </a:lnTo>
                          <a:lnTo>
                            <a:pt x="299" y="72"/>
                          </a:lnTo>
                          <a:lnTo>
                            <a:pt x="303" y="73"/>
                          </a:lnTo>
                          <a:lnTo>
                            <a:pt x="307" y="74"/>
                          </a:lnTo>
                          <a:lnTo>
                            <a:pt x="311" y="75"/>
                          </a:lnTo>
                          <a:lnTo>
                            <a:pt x="313" y="75"/>
                          </a:lnTo>
                          <a:lnTo>
                            <a:pt x="316" y="77"/>
                          </a:lnTo>
                          <a:lnTo>
                            <a:pt x="318" y="77"/>
                          </a:lnTo>
                          <a:lnTo>
                            <a:pt x="322" y="77"/>
                          </a:lnTo>
                          <a:lnTo>
                            <a:pt x="323" y="75"/>
                          </a:lnTo>
                          <a:lnTo>
                            <a:pt x="327" y="74"/>
                          </a:lnTo>
                          <a:lnTo>
                            <a:pt x="330" y="73"/>
                          </a:lnTo>
                          <a:lnTo>
                            <a:pt x="333" y="73"/>
                          </a:lnTo>
                          <a:lnTo>
                            <a:pt x="336" y="70"/>
                          </a:lnTo>
                          <a:lnTo>
                            <a:pt x="340" y="69"/>
                          </a:lnTo>
                          <a:lnTo>
                            <a:pt x="342" y="67"/>
                          </a:lnTo>
                          <a:lnTo>
                            <a:pt x="345" y="65"/>
                          </a:lnTo>
                          <a:lnTo>
                            <a:pt x="348" y="64"/>
                          </a:lnTo>
                          <a:lnTo>
                            <a:pt x="351" y="62"/>
                          </a:lnTo>
                          <a:lnTo>
                            <a:pt x="353" y="59"/>
                          </a:lnTo>
                          <a:lnTo>
                            <a:pt x="357" y="58"/>
                          </a:lnTo>
                          <a:lnTo>
                            <a:pt x="360" y="55"/>
                          </a:lnTo>
                          <a:lnTo>
                            <a:pt x="362" y="53"/>
                          </a:lnTo>
                          <a:lnTo>
                            <a:pt x="365" y="50"/>
                          </a:lnTo>
                          <a:lnTo>
                            <a:pt x="367" y="48"/>
                          </a:lnTo>
                          <a:lnTo>
                            <a:pt x="370" y="47"/>
                          </a:lnTo>
                          <a:lnTo>
                            <a:pt x="371" y="44"/>
                          </a:lnTo>
                          <a:lnTo>
                            <a:pt x="373" y="43"/>
                          </a:lnTo>
                          <a:lnTo>
                            <a:pt x="376" y="42"/>
                          </a:lnTo>
                          <a:lnTo>
                            <a:pt x="378" y="38"/>
                          </a:lnTo>
                          <a:lnTo>
                            <a:pt x="382" y="36"/>
                          </a:lnTo>
                          <a:lnTo>
                            <a:pt x="384" y="35"/>
                          </a:lnTo>
                          <a:lnTo>
                            <a:pt x="386" y="35"/>
                          </a:lnTo>
                          <a:lnTo>
                            <a:pt x="313" y="178"/>
                          </a:lnTo>
                          <a:lnTo>
                            <a:pt x="313" y="178"/>
                          </a:lnTo>
                          <a:close/>
                        </a:path>
                      </a:pathLst>
                    </a:custGeom>
                    <a:solidFill>
                      <a:srgbClr val="6600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3681720" y="4645080"/>
                      <a:ext cx="31572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0" h="523">
                          <a:moveTo>
                            <a:pt x="1" y="393"/>
                          </a:moveTo>
                          <a:lnTo>
                            <a:pt x="0" y="389"/>
                          </a:lnTo>
                          <a:lnTo>
                            <a:pt x="0" y="384"/>
                          </a:lnTo>
                          <a:lnTo>
                            <a:pt x="0" y="380"/>
                          </a:lnTo>
                          <a:lnTo>
                            <a:pt x="1" y="377"/>
                          </a:lnTo>
                          <a:lnTo>
                            <a:pt x="1" y="372"/>
                          </a:lnTo>
                          <a:lnTo>
                            <a:pt x="2" y="368"/>
                          </a:lnTo>
                          <a:lnTo>
                            <a:pt x="3" y="363"/>
                          </a:lnTo>
                          <a:lnTo>
                            <a:pt x="5" y="359"/>
                          </a:lnTo>
                          <a:lnTo>
                            <a:pt x="6" y="354"/>
                          </a:lnTo>
                          <a:lnTo>
                            <a:pt x="7" y="349"/>
                          </a:lnTo>
                          <a:lnTo>
                            <a:pt x="10" y="344"/>
                          </a:lnTo>
                          <a:lnTo>
                            <a:pt x="12" y="340"/>
                          </a:lnTo>
                          <a:lnTo>
                            <a:pt x="14" y="335"/>
                          </a:lnTo>
                          <a:lnTo>
                            <a:pt x="16" y="330"/>
                          </a:lnTo>
                          <a:lnTo>
                            <a:pt x="19" y="325"/>
                          </a:lnTo>
                          <a:lnTo>
                            <a:pt x="22" y="320"/>
                          </a:lnTo>
                          <a:lnTo>
                            <a:pt x="25" y="315"/>
                          </a:lnTo>
                          <a:lnTo>
                            <a:pt x="27" y="310"/>
                          </a:lnTo>
                          <a:lnTo>
                            <a:pt x="31" y="305"/>
                          </a:lnTo>
                          <a:lnTo>
                            <a:pt x="34" y="300"/>
                          </a:lnTo>
                          <a:lnTo>
                            <a:pt x="37" y="295"/>
                          </a:lnTo>
                          <a:lnTo>
                            <a:pt x="41" y="290"/>
                          </a:lnTo>
                          <a:lnTo>
                            <a:pt x="45" y="285"/>
                          </a:lnTo>
                          <a:lnTo>
                            <a:pt x="47" y="280"/>
                          </a:lnTo>
                          <a:lnTo>
                            <a:pt x="51" y="275"/>
                          </a:lnTo>
                          <a:lnTo>
                            <a:pt x="55" y="270"/>
                          </a:lnTo>
                          <a:lnTo>
                            <a:pt x="60" y="265"/>
                          </a:lnTo>
                          <a:lnTo>
                            <a:pt x="64" y="260"/>
                          </a:lnTo>
                          <a:lnTo>
                            <a:pt x="68" y="255"/>
                          </a:lnTo>
                          <a:lnTo>
                            <a:pt x="73" y="250"/>
                          </a:lnTo>
                          <a:lnTo>
                            <a:pt x="76" y="245"/>
                          </a:lnTo>
                          <a:lnTo>
                            <a:pt x="81" y="240"/>
                          </a:lnTo>
                          <a:lnTo>
                            <a:pt x="85" y="235"/>
                          </a:lnTo>
                          <a:lnTo>
                            <a:pt x="90" y="230"/>
                          </a:lnTo>
                          <a:lnTo>
                            <a:pt x="94" y="225"/>
                          </a:lnTo>
                          <a:lnTo>
                            <a:pt x="99" y="220"/>
                          </a:lnTo>
                          <a:lnTo>
                            <a:pt x="104" y="215"/>
                          </a:lnTo>
                          <a:lnTo>
                            <a:pt x="108" y="211"/>
                          </a:lnTo>
                          <a:lnTo>
                            <a:pt x="113" y="206"/>
                          </a:lnTo>
                          <a:lnTo>
                            <a:pt x="118" y="203"/>
                          </a:lnTo>
                          <a:lnTo>
                            <a:pt x="122" y="198"/>
                          </a:lnTo>
                          <a:lnTo>
                            <a:pt x="127" y="193"/>
                          </a:lnTo>
                          <a:lnTo>
                            <a:pt x="130" y="189"/>
                          </a:lnTo>
                          <a:lnTo>
                            <a:pt x="135" y="184"/>
                          </a:lnTo>
                          <a:lnTo>
                            <a:pt x="140" y="180"/>
                          </a:lnTo>
                          <a:lnTo>
                            <a:pt x="145" y="176"/>
                          </a:lnTo>
                          <a:lnTo>
                            <a:pt x="149" y="173"/>
                          </a:lnTo>
                          <a:lnTo>
                            <a:pt x="154" y="169"/>
                          </a:lnTo>
                          <a:lnTo>
                            <a:pt x="158" y="164"/>
                          </a:lnTo>
                          <a:lnTo>
                            <a:pt x="163" y="161"/>
                          </a:lnTo>
                          <a:lnTo>
                            <a:pt x="168" y="158"/>
                          </a:lnTo>
                          <a:lnTo>
                            <a:pt x="172" y="154"/>
                          </a:lnTo>
                          <a:lnTo>
                            <a:pt x="176" y="150"/>
                          </a:lnTo>
                          <a:lnTo>
                            <a:pt x="181" y="148"/>
                          </a:lnTo>
                          <a:lnTo>
                            <a:pt x="184" y="144"/>
                          </a:lnTo>
                          <a:lnTo>
                            <a:pt x="188" y="141"/>
                          </a:lnTo>
                          <a:lnTo>
                            <a:pt x="192" y="138"/>
                          </a:lnTo>
                          <a:lnTo>
                            <a:pt x="196" y="135"/>
                          </a:lnTo>
                          <a:lnTo>
                            <a:pt x="199" y="133"/>
                          </a:lnTo>
                          <a:lnTo>
                            <a:pt x="203" y="131"/>
                          </a:lnTo>
                          <a:lnTo>
                            <a:pt x="207" y="129"/>
                          </a:lnTo>
                          <a:lnTo>
                            <a:pt x="211" y="126"/>
                          </a:lnTo>
                          <a:lnTo>
                            <a:pt x="214" y="124"/>
                          </a:lnTo>
                          <a:lnTo>
                            <a:pt x="218" y="123"/>
                          </a:lnTo>
                          <a:lnTo>
                            <a:pt x="221" y="120"/>
                          </a:lnTo>
                          <a:lnTo>
                            <a:pt x="225" y="119"/>
                          </a:lnTo>
                          <a:lnTo>
                            <a:pt x="228" y="116"/>
                          </a:lnTo>
                          <a:lnTo>
                            <a:pt x="232" y="115"/>
                          </a:lnTo>
                          <a:lnTo>
                            <a:pt x="236" y="113"/>
                          </a:lnTo>
                          <a:lnTo>
                            <a:pt x="241" y="111"/>
                          </a:lnTo>
                          <a:lnTo>
                            <a:pt x="245" y="109"/>
                          </a:lnTo>
                          <a:lnTo>
                            <a:pt x="248" y="108"/>
                          </a:lnTo>
                          <a:lnTo>
                            <a:pt x="252" y="105"/>
                          </a:lnTo>
                          <a:lnTo>
                            <a:pt x="256" y="104"/>
                          </a:lnTo>
                          <a:lnTo>
                            <a:pt x="260" y="101"/>
                          </a:lnTo>
                          <a:lnTo>
                            <a:pt x="262" y="100"/>
                          </a:lnTo>
                          <a:lnTo>
                            <a:pt x="266" y="99"/>
                          </a:lnTo>
                          <a:lnTo>
                            <a:pt x="270" y="97"/>
                          </a:lnTo>
                          <a:lnTo>
                            <a:pt x="274" y="95"/>
                          </a:lnTo>
                          <a:lnTo>
                            <a:pt x="279" y="94"/>
                          </a:lnTo>
                          <a:lnTo>
                            <a:pt x="281" y="91"/>
                          </a:lnTo>
                          <a:lnTo>
                            <a:pt x="285" y="90"/>
                          </a:lnTo>
                          <a:lnTo>
                            <a:pt x="289" y="89"/>
                          </a:lnTo>
                          <a:lnTo>
                            <a:pt x="292" y="86"/>
                          </a:lnTo>
                          <a:lnTo>
                            <a:pt x="295" y="85"/>
                          </a:lnTo>
                          <a:lnTo>
                            <a:pt x="299" y="84"/>
                          </a:lnTo>
                          <a:lnTo>
                            <a:pt x="302" y="81"/>
                          </a:lnTo>
                          <a:lnTo>
                            <a:pt x="306" y="80"/>
                          </a:lnTo>
                          <a:lnTo>
                            <a:pt x="310" y="77"/>
                          </a:lnTo>
                          <a:lnTo>
                            <a:pt x="314" y="76"/>
                          </a:lnTo>
                          <a:lnTo>
                            <a:pt x="316" y="75"/>
                          </a:lnTo>
                          <a:lnTo>
                            <a:pt x="320" y="72"/>
                          </a:lnTo>
                          <a:lnTo>
                            <a:pt x="324" y="71"/>
                          </a:lnTo>
                          <a:lnTo>
                            <a:pt x="328" y="70"/>
                          </a:lnTo>
                          <a:lnTo>
                            <a:pt x="331" y="67"/>
                          </a:lnTo>
                          <a:lnTo>
                            <a:pt x="335" y="66"/>
                          </a:lnTo>
                          <a:lnTo>
                            <a:pt x="338" y="65"/>
                          </a:lnTo>
                          <a:lnTo>
                            <a:pt x="341" y="62"/>
                          </a:lnTo>
                          <a:lnTo>
                            <a:pt x="344" y="61"/>
                          </a:lnTo>
                          <a:lnTo>
                            <a:pt x="348" y="59"/>
                          </a:lnTo>
                          <a:lnTo>
                            <a:pt x="351" y="57"/>
                          </a:lnTo>
                          <a:lnTo>
                            <a:pt x="354" y="55"/>
                          </a:lnTo>
                          <a:lnTo>
                            <a:pt x="358" y="54"/>
                          </a:lnTo>
                          <a:lnTo>
                            <a:pt x="361" y="52"/>
                          </a:lnTo>
                          <a:lnTo>
                            <a:pt x="364" y="50"/>
                          </a:lnTo>
                          <a:lnTo>
                            <a:pt x="368" y="47"/>
                          </a:lnTo>
                          <a:lnTo>
                            <a:pt x="370" y="46"/>
                          </a:lnTo>
                          <a:lnTo>
                            <a:pt x="374" y="44"/>
                          </a:lnTo>
                          <a:lnTo>
                            <a:pt x="377" y="42"/>
                          </a:lnTo>
                          <a:lnTo>
                            <a:pt x="380" y="40"/>
                          </a:lnTo>
                          <a:lnTo>
                            <a:pt x="384" y="37"/>
                          </a:lnTo>
                          <a:lnTo>
                            <a:pt x="387" y="36"/>
                          </a:lnTo>
                          <a:lnTo>
                            <a:pt x="390" y="34"/>
                          </a:lnTo>
                          <a:lnTo>
                            <a:pt x="393" y="32"/>
                          </a:lnTo>
                          <a:lnTo>
                            <a:pt x="397" y="30"/>
                          </a:lnTo>
                          <a:lnTo>
                            <a:pt x="399" y="27"/>
                          </a:lnTo>
                          <a:lnTo>
                            <a:pt x="403" y="25"/>
                          </a:lnTo>
                          <a:lnTo>
                            <a:pt x="405" y="22"/>
                          </a:lnTo>
                          <a:lnTo>
                            <a:pt x="409" y="21"/>
                          </a:lnTo>
                          <a:lnTo>
                            <a:pt x="412" y="19"/>
                          </a:lnTo>
                          <a:lnTo>
                            <a:pt x="415" y="16"/>
                          </a:lnTo>
                          <a:lnTo>
                            <a:pt x="418" y="14"/>
                          </a:lnTo>
                          <a:lnTo>
                            <a:pt x="420" y="11"/>
                          </a:lnTo>
                          <a:lnTo>
                            <a:pt x="424" y="10"/>
                          </a:lnTo>
                          <a:lnTo>
                            <a:pt x="427" y="7"/>
                          </a:lnTo>
                          <a:lnTo>
                            <a:pt x="431" y="5"/>
                          </a:lnTo>
                          <a:lnTo>
                            <a:pt x="433" y="2"/>
                          </a:lnTo>
                          <a:lnTo>
                            <a:pt x="437" y="0"/>
                          </a:lnTo>
                          <a:lnTo>
                            <a:pt x="438" y="1"/>
                          </a:lnTo>
                          <a:lnTo>
                            <a:pt x="441" y="2"/>
                          </a:lnTo>
                          <a:lnTo>
                            <a:pt x="443" y="4"/>
                          </a:lnTo>
                          <a:lnTo>
                            <a:pt x="446" y="5"/>
                          </a:lnTo>
                          <a:lnTo>
                            <a:pt x="448" y="7"/>
                          </a:lnTo>
                          <a:lnTo>
                            <a:pt x="452" y="9"/>
                          </a:lnTo>
                          <a:lnTo>
                            <a:pt x="456" y="11"/>
                          </a:lnTo>
                          <a:lnTo>
                            <a:pt x="461" y="14"/>
                          </a:lnTo>
                          <a:lnTo>
                            <a:pt x="464" y="16"/>
                          </a:lnTo>
                          <a:lnTo>
                            <a:pt x="468" y="19"/>
                          </a:lnTo>
                          <a:lnTo>
                            <a:pt x="472" y="21"/>
                          </a:lnTo>
                          <a:lnTo>
                            <a:pt x="477" y="24"/>
                          </a:lnTo>
                          <a:lnTo>
                            <a:pt x="480" y="25"/>
                          </a:lnTo>
                          <a:lnTo>
                            <a:pt x="482" y="26"/>
                          </a:lnTo>
                          <a:lnTo>
                            <a:pt x="483" y="27"/>
                          </a:lnTo>
                          <a:lnTo>
                            <a:pt x="486" y="29"/>
                          </a:lnTo>
                          <a:lnTo>
                            <a:pt x="488" y="30"/>
                          </a:lnTo>
                          <a:lnTo>
                            <a:pt x="491" y="31"/>
                          </a:lnTo>
                          <a:lnTo>
                            <a:pt x="493" y="32"/>
                          </a:lnTo>
                          <a:lnTo>
                            <a:pt x="496" y="34"/>
                          </a:lnTo>
                          <a:lnTo>
                            <a:pt x="497" y="36"/>
                          </a:lnTo>
                          <a:lnTo>
                            <a:pt x="500" y="36"/>
                          </a:lnTo>
                          <a:lnTo>
                            <a:pt x="502" y="37"/>
                          </a:lnTo>
                          <a:lnTo>
                            <a:pt x="505" y="39"/>
                          </a:lnTo>
                          <a:lnTo>
                            <a:pt x="507" y="40"/>
                          </a:lnTo>
                          <a:lnTo>
                            <a:pt x="510" y="41"/>
                          </a:lnTo>
                          <a:lnTo>
                            <a:pt x="511" y="42"/>
                          </a:lnTo>
                          <a:lnTo>
                            <a:pt x="513" y="44"/>
                          </a:lnTo>
                          <a:lnTo>
                            <a:pt x="517" y="46"/>
                          </a:lnTo>
                          <a:lnTo>
                            <a:pt x="522" y="49"/>
                          </a:lnTo>
                          <a:lnTo>
                            <a:pt x="526" y="50"/>
                          </a:lnTo>
                          <a:lnTo>
                            <a:pt x="531" y="52"/>
                          </a:lnTo>
                          <a:lnTo>
                            <a:pt x="535" y="54"/>
                          </a:lnTo>
                          <a:lnTo>
                            <a:pt x="539" y="56"/>
                          </a:lnTo>
                          <a:lnTo>
                            <a:pt x="541" y="57"/>
                          </a:lnTo>
                          <a:lnTo>
                            <a:pt x="545" y="59"/>
                          </a:lnTo>
                          <a:lnTo>
                            <a:pt x="547" y="59"/>
                          </a:lnTo>
                          <a:lnTo>
                            <a:pt x="550" y="60"/>
                          </a:lnTo>
                          <a:lnTo>
                            <a:pt x="552" y="60"/>
                          </a:lnTo>
                          <a:lnTo>
                            <a:pt x="555" y="61"/>
                          </a:lnTo>
                          <a:lnTo>
                            <a:pt x="518" y="79"/>
                          </a:lnTo>
                          <a:lnTo>
                            <a:pt x="516" y="76"/>
                          </a:lnTo>
                          <a:lnTo>
                            <a:pt x="512" y="75"/>
                          </a:lnTo>
                          <a:lnTo>
                            <a:pt x="508" y="74"/>
                          </a:lnTo>
                          <a:lnTo>
                            <a:pt x="506" y="72"/>
                          </a:lnTo>
                          <a:lnTo>
                            <a:pt x="502" y="70"/>
                          </a:lnTo>
                          <a:lnTo>
                            <a:pt x="498" y="69"/>
                          </a:lnTo>
                          <a:lnTo>
                            <a:pt x="495" y="67"/>
                          </a:lnTo>
                          <a:lnTo>
                            <a:pt x="491" y="67"/>
                          </a:lnTo>
                          <a:lnTo>
                            <a:pt x="487" y="66"/>
                          </a:lnTo>
                          <a:lnTo>
                            <a:pt x="482" y="66"/>
                          </a:lnTo>
                          <a:lnTo>
                            <a:pt x="478" y="65"/>
                          </a:lnTo>
                          <a:lnTo>
                            <a:pt x="474" y="65"/>
                          </a:lnTo>
                          <a:lnTo>
                            <a:pt x="471" y="65"/>
                          </a:lnTo>
                          <a:lnTo>
                            <a:pt x="467" y="65"/>
                          </a:lnTo>
                          <a:lnTo>
                            <a:pt x="463" y="65"/>
                          </a:lnTo>
                          <a:lnTo>
                            <a:pt x="459" y="66"/>
                          </a:lnTo>
                          <a:lnTo>
                            <a:pt x="456" y="66"/>
                          </a:lnTo>
                          <a:lnTo>
                            <a:pt x="451" y="66"/>
                          </a:lnTo>
                          <a:lnTo>
                            <a:pt x="447" y="66"/>
                          </a:lnTo>
                          <a:lnTo>
                            <a:pt x="443" y="67"/>
                          </a:lnTo>
                          <a:lnTo>
                            <a:pt x="439" y="69"/>
                          </a:lnTo>
                          <a:lnTo>
                            <a:pt x="436" y="70"/>
                          </a:lnTo>
                          <a:lnTo>
                            <a:pt x="432" y="71"/>
                          </a:lnTo>
                          <a:lnTo>
                            <a:pt x="429" y="72"/>
                          </a:lnTo>
                          <a:lnTo>
                            <a:pt x="425" y="74"/>
                          </a:lnTo>
                          <a:lnTo>
                            <a:pt x="422" y="75"/>
                          </a:lnTo>
                          <a:lnTo>
                            <a:pt x="418" y="77"/>
                          </a:lnTo>
                          <a:lnTo>
                            <a:pt x="415" y="80"/>
                          </a:lnTo>
                          <a:lnTo>
                            <a:pt x="412" y="81"/>
                          </a:lnTo>
                          <a:lnTo>
                            <a:pt x="409" y="84"/>
                          </a:lnTo>
                          <a:lnTo>
                            <a:pt x="407" y="86"/>
                          </a:lnTo>
                          <a:lnTo>
                            <a:pt x="404" y="89"/>
                          </a:lnTo>
                          <a:lnTo>
                            <a:pt x="400" y="92"/>
                          </a:lnTo>
                          <a:lnTo>
                            <a:pt x="397" y="96"/>
                          </a:lnTo>
                          <a:lnTo>
                            <a:pt x="395" y="99"/>
                          </a:lnTo>
                          <a:lnTo>
                            <a:pt x="394" y="100"/>
                          </a:lnTo>
                          <a:lnTo>
                            <a:pt x="393" y="103"/>
                          </a:lnTo>
                          <a:lnTo>
                            <a:pt x="392" y="105"/>
                          </a:lnTo>
                          <a:lnTo>
                            <a:pt x="390" y="108"/>
                          </a:lnTo>
                          <a:lnTo>
                            <a:pt x="389" y="110"/>
                          </a:lnTo>
                          <a:lnTo>
                            <a:pt x="388" y="113"/>
                          </a:lnTo>
                          <a:lnTo>
                            <a:pt x="387" y="115"/>
                          </a:lnTo>
                          <a:lnTo>
                            <a:pt x="387" y="118"/>
                          </a:lnTo>
                          <a:lnTo>
                            <a:pt x="385" y="120"/>
                          </a:lnTo>
                          <a:lnTo>
                            <a:pt x="385" y="123"/>
                          </a:lnTo>
                          <a:lnTo>
                            <a:pt x="385" y="125"/>
                          </a:lnTo>
                          <a:lnTo>
                            <a:pt x="384" y="128"/>
                          </a:lnTo>
                          <a:lnTo>
                            <a:pt x="384" y="130"/>
                          </a:lnTo>
                          <a:lnTo>
                            <a:pt x="384" y="133"/>
                          </a:lnTo>
                          <a:lnTo>
                            <a:pt x="384" y="135"/>
                          </a:lnTo>
                          <a:lnTo>
                            <a:pt x="383" y="138"/>
                          </a:lnTo>
                          <a:lnTo>
                            <a:pt x="383" y="140"/>
                          </a:lnTo>
                          <a:lnTo>
                            <a:pt x="384" y="144"/>
                          </a:lnTo>
                          <a:lnTo>
                            <a:pt x="384" y="146"/>
                          </a:lnTo>
                          <a:lnTo>
                            <a:pt x="384" y="149"/>
                          </a:lnTo>
                          <a:lnTo>
                            <a:pt x="385" y="151"/>
                          </a:lnTo>
                          <a:lnTo>
                            <a:pt x="385" y="154"/>
                          </a:lnTo>
                          <a:lnTo>
                            <a:pt x="387" y="156"/>
                          </a:lnTo>
                          <a:lnTo>
                            <a:pt x="387" y="159"/>
                          </a:lnTo>
                          <a:lnTo>
                            <a:pt x="388" y="161"/>
                          </a:lnTo>
                          <a:lnTo>
                            <a:pt x="389" y="164"/>
                          </a:lnTo>
                          <a:lnTo>
                            <a:pt x="390" y="168"/>
                          </a:lnTo>
                          <a:lnTo>
                            <a:pt x="392" y="169"/>
                          </a:lnTo>
                          <a:lnTo>
                            <a:pt x="393" y="171"/>
                          </a:lnTo>
                          <a:lnTo>
                            <a:pt x="394" y="174"/>
                          </a:lnTo>
                          <a:lnTo>
                            <a:pt x="397" y="176"/>
                          </a:lnTo>
                          <a:lnTo>
                            <a:pt x="399" y="181"/>
                          </a:lnTo>
                          <a:lnTo>
                            <a:pt x="403" y="185"/>
                          </a:lnTo>
                          <a:lnTo>
                            <a:pt x="407" y="188"/>
                          </a:lnTo>
                          <a:lnTo>
                            <a:pt x="410" y="191"/>
                          </a:lnTo>
                          <a:lnTo>
                            <a:pt x="413" y="193"/>
                          </a:lnTo>
                          <a:lnTo>
                            <a:pt x="415" y="195"/>
                          </a:lnTo>
                          <a:lnTo>
                            <a:pt x="417" y="196"/>
                          </a:lnTo>
                          <a:lnTo>
                            <a:pt x="419" y="198"/>
                          </a:lnTo>
                          <a:lnTo>
                            <a:pt x="422" y="199"/>
                          </a:lnTo>
                          <a:lnTo>
                            <a:pt x="424" y="200"/>
                          </a:lnTo>
                          <a:lnTo>
                            <a:pt x="427" y="200"/>
                          </a:lnTo>
                          <a:lnTo>
                            <a:pt x="429" y="201"/>
                          </a:lnTo>
                          <a:lnTo>
                            <a:pt x="432" y="203"/>
                          </a:lnTo>
                          <a:lnTo>
                            <a:pt x="434" y="204"/>
                          </a:lnTo>
                          <a:lnTo>
                            <a:pt x="437" y="204"/>
                          </a:lnTo>
                          <a:lnTo>
                            <a:pt x="439" y="205"/>
                          </a:lnTo>
                          <a:lnTo>
                            <a:pt x="442" y="205"/>
                          </a:lnTo>
                          <a:lnTo>
                            <a:pt x="444" y="206"/>
                          </a:lnTo>
                          <a:lnTo>
                            <a:pt x="447" y="206"/>
                          </a:lnTo>
                          <a:lnTo>
                            <a:pt x="449" y="208"/>
                          </a:lnTo>
                          <a:lnTo>
                            <a:pt x="452" y="208"/>
                          </a:lnTo>
                          <a:lnTo>
                            <a:pt x="454" y="208"/>
                          </a:lnTo>
                          <a:lnTo>
                            <a:pt x="457" y="209"/>
                          </a:lnTo>
                          <a:lnTo>
                            <a:pt x="461" y="209"/>
                          </a:lnTo>
                          <a:lnTo>
                            <a:pt x="463" y="209"/>
                          </a:lnTo>
                          <a:lnTo>
                            <a:pt x="464" y="209"/>
                          </a:lnTo>
                          <a:lnTo>
                            <a:pt x="467" y="209"/>
                          </a:lnTo>
                          <a:lnTo>
                            <a:pt x="471" y="209"/>
                          </a:lnTo>
                          <a:lnTo>
                            <a:pt x="473" y="208"/>
                          </a:lnTo>
                          <a:lnTo>
                            <a:pt x="476" y="208"/>
                          </a:lnTo>
                          <a:lnTo>
                            <a:pt x="478" y="208"/>
                          </a:lnTo>
                          <a:lnTo>
                            <a:pt x="481" y="206"/>
                          </a:lnTo>
                          <a:lnTo>
                            <a:pt x="483" y="206"/>
                          </a:lnTo>
                          <a:lnTo>
                            <a:pt x="486" y="205"/>
                          </a:lnTo>
                          <a:lnTo>
                            <a:pt x="488" y="205"/>
                          </a:lnTo>
                          <a:lnTo>
                            <a:pt x="491" y="204"/>
                          </a:lnTo>
                          <a:lnTo>
                            <a:pt x="493" y="203"/>
                          </a:lnTo>
                          <a:lnTo>
                            <a:pt x="496" y="203"/>
                          </a:lnTo>
                          <a:lnTo>
                            <a:pt x="497" y="201"/>
                          </a:lnTo>
                          <a:lnTo>
                            <a:pt x="500" y="200"/>
                          </a:lnTo>
                          <a:lnTo>
                            <a:pt x="505" y="198"/>
                          </a:lnTo>
                          <a:lnTo>
                            <a:pt x="508" y="195"/>
                          </a:lnTo>
                          <a:lnTo>
                            <a:pt x="512" y="193"/>
                          </a:lnTo>
                          <a:lnTo>
                            <a:pt x="517" y="190"/>
                          </a:lnTo>
                          <a:lnTo>
                            <a:pt x="520" y="186"/>
                          </a:lnTo>
                          <a:lnTo>
                            <a:pt x="523" y="183"/>
                          </a:lnTo>
                          <a:lnTo>
                            <a:pt x="526" y="180"/>
                          </a:lnTo>
                          <a:lnTo>
                            <a:pt x="530" y="176"/>
                          </a:lnTo>
                          <a:lnTo>
                            <a:pt x="532" y="173"/>
                          </a:lnTo>
                          <a:lnTo>
                            <a:pt x="535" y="170"/>
                          </a:lnTo>
                          <a:lnTo>
                            <a:pt x="536" y="166"/>
                          </a:lnTo>
                          <a:lnTo>
                            <a:pt x="539" y="164"/>
                          </a:lnTo>
                          <a:lnTo>
                            <a:pt x="540" y="160"/>
                          </a:lnTo>
                          <a:lnTo>
                            <a:pt x="541" y="156"/>
                          </a:lnTo>
                          <a:lnTo>
                            <a:pt x="542" y="153"/>
                          </a:lnTo>
                          <a:lnTo>
                            <a:pt x="544" y="150"/>
                          </a:lnTo>
                          <a:lnTo>
                            <a:pt x="544" y="146"/>
                          </a:lnTo>
                          <a:lnTo>
                            <a:pt x="545" y="143"/>
                          </a:lnTo>
                          <a:lnTo>
                            <a:pt x="545" y="139"/>
                          </a:lnTo>
                          <a:lnTo>
                            <a:pt x="546" y="135"/>
                          </a:lnTo>
                          <a:lnTo>
                            <a:pt x="546" y="131"/>
                          </a:lnTo>
                          <a:lnTo>
                            <a:pt x="547" y="129"/>
                          </a:lnTo>
                          <a:lnTo>
                            <a:pt x="547" y="125"/>
                          </a:lnTo>
                          <a:lnTo>
                            <a:pt x="547" y="121"/>
                          </a:lnTo>
                          <a:lnTo>
                            <a:pt x="551" y="119"/>
                          </a:lnTo>
                          <a:lnTo>
                            <a:pt x="555" y="116"/>
                          </a:lnTo>
                          <a:lnTo>
                            <a:pt x="557" y="114"/>
                          </a:lnTo>
                          <a:lnTo>
                            <a:pt x="561" y="113"/>
                          </a:lnTo>
                          <a:lnTo>
                            <a:pt x="565" y="110"/>
                          </a:lnTo>
                          <a:lnTo>
                            <a:pt x="570" y="109"/>
                          </a:lnTo>
                          <a:lnTo>
                            <a:pt x="574" y="106"/>
                          </a:lnTo>
                          <a:lnTo>
                            <a:pt x="577" y="105"/>
                          </a:lnTo>
                          <a:lnTo>
                            <a:pt x="581" y="103"/>
                          </a:lnTo>
                          <a:lnTo>
                            <a:pt x="585" y="101"/>
                          </a:lnTo>
                          <a:lnTo>
                            <a:pt x="589" y="99"/>
                          </a:lnTo>
                          <a:lnTo>
                            <a:pt x="594" y="97"/>
                          </a:lnTo>
                          <a:lnTo>
                            <a:pt x="598" y="95"/>
                          </a:lnTo>
                          <a:lnTo>
                            <a:pt x="601" y="94"/>
                          </a:lnTo>
                          <a:lnTo>
                            <a:pt x="605" y="92"/>
                          </a:lnTo>
                          <a:lnTo>
                            <a:pt x="609" y="90"/>
                          </a:lnTo>
                          <a:lnTo>
                            <a:pt x="610" y="89"/>
                          </a:lnTo>
                          <a:lnTo>
                            <a:pt x="613" y="89"/>
                          </a:lnTo>
                          <a:lnTo>
                            <a:pt x="615" y="89"/>
                          </a:lnTo>
                          <a:lnTo>
                            <a:pt x="619" y="90"/>
                          </a:lnTo>
                          <a:lnTo>
                            <a:pt x="620" y="90"/>
                          </a:lnTo>
                          <a:lnTo>
                            <a:pt x="623" y="90"/>
                          </a:lnTo>
                          <a:lnTo>
                            <a:pt x="625" y="91"/>
                          </a:lnTo>
                          <a:lnTo>
                            <a:pt x="628" y="91"/>
                          </a:lnTo>
                          <a:lnTo>
                            <a:pt x="630" y="92"/>
                          </a:lnTo>
                          <a:lnTo>
                            <a:pt x="633" y="92"/>
                          </a:lnTo>
                          <a:lnTo>
                            <a:pt x="635" y="94"/>
                          </a:lnTo>
                          <a:lnTo>
                            <a:pt x="639" y="95"/>
                          </a:lnTo>
                          <a:lnTo>
                            <a:pt x="642" y="95"/>
                          </a:lnTo>
                          <a:lnTo>
                            <a:pt x="644" y="96"/>
                          </a:lnTo>
                          <a:lnTo>
                            <a:pt x="647" y="96"/>
                          </a:lnTo>
                          <a:lnTo>
                            <a:pt x="650" y="97"/>
                          </a:lnTo>
                          <a:lnTo>
                            <a:pt x="653" y="99"/>
                          </a:lnTo>
                          <a:lnTo>
                            <a:pt x="657" y="100"/>
                          </a:lnTo>
                          <a:lnTo>
                            <a:pt x="660" y="100"/>
                          </a:lnTo>
                          <a:lnTo>
                            <a:pt x="664" y="101"/>
                          </a:lnTo>
                          <a:lnTo>
                            <a:pt x="667" y="103"/>
                          </a:lnTo>
                          <a:lnTo>
                            <a:pt x="670" y="104"/>
                          </a:lnTo>
                          <a:lnTo>
                            <a:pt x="674" y="105"/>
                          </a:lnTo>
                          <a:lnTo>
                            <a:pt x="678" y="106"/>
                          </a:lnTo>
                          <a:lnTo>
                            <a:pt x="682" y="108"/>
                          </a:lnTo>
                          <a:lnTo>
                            <a:pt x="685" y="109"/>
                          </a:lnTo>
                          <a:lnTo>
                            <a:pt x="689" y="110"/>
                          </a:lnTo>
                          <a:lnTo>
                            <a:pt x="694" y="111"/>
                          </a:lnTo>
                          <a:lnTo>
                            <a:pt x="698" y="113"/>
                          </a:lnTo>
                          <a:lnTo>
                            <a:pt x="701" y="114"/>
                          </a:lnTo>
                          <a:lnTo>
                            <a:pt x="704" y="114"/>
                          </a:lnTo>
                          <a:lnTo>
                            <a:pt x="708" y="116"/>
                          </a:lnTo>
                          <a:lnTo>
                            <a:pt x="712" y="116"/>
                          </a:lnTo>
                          <a:lnTo>
                            <a:pt x="716" y="118"/>
                          </a:lnTo>
                          <a:lnTo>
                            <a:pt x="719" y="119"/>
                          </a:lnTo>
                          <a:lnTo>
                            <a:pt x="723" y="120"/>
                          </a:lnTo>
                          <a:lnTo>
                            <a:pt x="727" y="121"/>
                          </a:lnTo>
                          <a:lnTo>
                            <a:pt x="731" y="123"/>
                          </a:lnTo>
                          <a:lnTo>
                            <a:pt x="734" y="124"/>
                          </a:lnTo>
                          <a:lnTo>
                            <a:pt x="738" y="125"/>
                          </a:lnTo>
                          <a:lnTo>
                            <a:pt x="741" y="125"/>
                          </a:lnTo>
                          <a:lnTo>
                            <a:pt x="745" y="126"/>
                          </a:lnTo>
                          <a:lnTo>
                            <a:pt x="748" y="128"/>
                          </a:lnTo>
                          <a:lnTo>
                            <a:pt x="752" y="129"/>
                          </a:lnTo>
                          <a:lnTo>
                            <a:pt x="755" y="130"/>
                          </a:lnTo>
                          <a:lnTo>
                            <a:pt x="757" y="131"/>
                          </a:lnTo>
                          <a:lnTo>
                            <a:pt x="761" y="131"/>
                          </a:lnTo>
                          <a:lnTo>
                            <a:pt x="763" y="133"/>
                          </a:lnTo>
                          <a:lnTo>
                            <a:pt x="767" y="133"/>
                          </a:lnTo>
                          <a:lnTo>
                            <a:pt x="770" y="134"/>
                          </a:lnTo>
                          <a:lnTo>
                            <a:pt x="772" y="134"/>
                          </a:lnTo>
                          <a:lnTo>
                            <a:pt x="775" y="135"/>
                          </a:lnTo>
                          <a:lnTo>
                            <a:pt x="777" y="135"/>
                          </a:lnTo>
                          <a:lnTo>
                            <a:pt x="780" y="136"/>
                          </a:lnTo>
                          <a:lnTo>
                            <a:pt x="781" y="136"/>
                          </a:lnTo>
                          <a:lnTo>
                            <a:pt x="783" y="136"/>
                          </a:lnTo>
                          <a:lnTo>
                            <a:pt x="787" y="138"/>
                          </a:lnTo>
                          <a:lnTo>
                            <a:pt x="791" y="138"/>
                          </a:lnTo>
                          <a:lnTo>
                            <a:pt x="794" y="138"/>
                          </a:lnTo>
                          <a:lnTo>
                            <a:pt x="797" y="138"/>
                          </a:lnTo>
                          <a:lnTo>
                            <a:pt x="800" y="139"/>
                          </a:lnTo>
                          <a:lnTo>
                            <a:pt x="805" y="139"/>
                          </a:lnTo>
                          <a:lnTo>
                            <a:pt x="807" y="139"/>
                          </a:lnTo>
                          <a:lnTo>
                            <a:pt x="812" y="139"/>
                          </a:lnTo>
                          <a:lnTo>
                            <a:pt x="815" y="139"/>
                          </a:lnTo>
                          <a:lnTo>
                            <a:pt x="817" y="139"/>
                          </a:lnTo>
                          <a:lnTo>
                            <a:pt x="820" y="139"/>
                          </a:lnTo>
                          <a:lnTo>
                            <a:pt x="822" y="139"/>
                          </a:lnTo>
                          <a:lnTo>
                            <a:pt x="824" y="139"/>
                          </a:lnTo>
                          <a:lnTo>
                            <a:pt x="826" y="139"/>
                          </a:lnTo>
                          <a:lnTo>
                            <a:pt x="829" y="138"/>
                          </a:lnTo>
                          <a:lnTo>
                            <a:pt x="831" y="138"/>
                          </a:lnTo>
                          <a:lnTo>
                            <a:pt x="834" y="138"/>
                          </a:lnTo>
                          <a:lnTo>
                            <a:pt x="836" y="138"/>
                          </a:lnTo>
                          <a:lnTo>
                            <a:pt x="839" y="136"/>
                          </a:lnTo>
                          <a:lnTo>
                            <a:pt x="841" y="136"/>
                          </a:lnTo>
                          <a:lnTo>
                            <a:pt x="844" y="136"/>
                          </a:lnTo>
                          <a:lnTo>
                            <a:pt x="846" y="135"/>
                          </a:lnTo>
                          <a:lnTo>
                            <a:pt x="849" y="135"/>
                          </a:lnTo>
                          <a:lnTo>
                            <a:pt x="851" y="134"/>
                          </a:lnTo>
                          <a:lnTo>
                            <a:pt x="854" y="134"/>
                          </a:lnTo>
                          <a:lnTo>
                            <a:pt x="856" y="134"/>
                          </a:lnTo>
                          <a:lnTo>
                            <a:pt x="859" y="133"/>
                          </a:lnTo>
                          <a:lnTo>
                            <a:pt x="861" y="131"/>
                          </a:lnTo>
                          <a:lnTo>
                            <a:pt x="865" y="130"/>
                          </a:lnTo>
                          <a:lnTo>
                            <a:pt x="870" y="128"/>
                          </a:lnTo>
                          <a:lnTo>
                            <a:pt x="874" y="125"/>
                          </a:lnTo>
                          <a:lnTo>
                            <a:pt x="878" y="123"/>
                          </a:lnTo>
                          <a:lnTo>
                            <a:pt x="881" y="120"/>
                          </a:lnTo>
                          <a:lnTo>
                            <a:pt x="885" y="116"/>
                          </a:lnTo>
                          <a:lnTo>
                            <a:pt x="888" y="114"/>
                          </a:lnTo>
                          <a:lnTo>
                            <a:pt x="891" y="110"/>
                          </a:lnTo>
                          <a:lnTo>
                            <a:pt x="891" y="108"/>
                          </a:lnTo>
                          <a:lnTo>
                            <a:pt x="893" y="105"/>
                          </a:lnTo>
                          <a:lnTo>
                            <a:pt x="894" y="103"/>
                          </a:lnTo>
                          <a:lnTo>
                            <a:pt x="895" y="100"/>
                          </a:lnTo>
                          <a:lnTo>
                            <a:pt x="895" y="97"/>
                          </a:lnTo>
                          <a:lnTo>
                            <a:pt x="897" y="95"/>
                          </a:lnTo>
                          <a:lnTo>
                            <a:pt x="897" y="92"/>
                          </a:lnTo>
                          <a:lnTo>
                            <a:pt x="897" y="90"/>
                          </a:lnTo>
                          <a:lnTo>
                            <a:pt x="897" y="87"/>
                          </a:lnTo>
                          <a:lnTo>
                            <a:pt x="897" y="84"/>
                          </a:lnTo>
                          <a:lnTo>
                            <a:pt x="897" y="81"/>
                          </a:lnTo>
                          <a:lnTo>
                            <a:pt x="897" y="79"/>
                          </a:lnTo>
                          <a:lnTo>
                            <a:pt x="897" y="75"/>
                          </a:lnTo>
                          <a:lnTo>
                            <a:pt x="895" y="72"/>
                          </a:lnTo>
                          <a:lnTo>
                            <a:pt x="895" y="69"/>
                          </a:lnTo>
                          <a:lnTo>
                            <a:pt x="894" y="66"/>
                          </a:lnTo>
                          <a:lnTo>
                            <a:pt x="893" y="62"/>
                          </a:lnTo>
                          <a:lnTo>
                            <a:pt x="890" y="60"/>
                          </a:lnTo>
                          <a:lnTo>
                            <a:pt x="889" y="57"/>
                          </a:lnTo>
                          <a:lnTo>
                            <a:pt x="888" y="56"/>
                          </a:lnTo>
                          <a:lnTo>
                            <a:pt x="883" y="52"/>
                          </a:lnTo>
                          <a:lnTo>
                            <a:pt x="879" y="50"/>
                          </a:lnTo>
                          <a:lnTo>
                            <a:pt x="876" y="50"/>
                          </a:lnTo>
                          <a:lnTo>
                            <a:pt x="874" y="49"/>
                          </a:lnTo>
                          <a:lnTo>
                            <a:pt x="871" y="49"/>
                          </a:lnTo>
                          <a:lnTo>
                            <a:pt x="869" y="49"/>
                          </a:lnTo>
                          <a:lnTo>
                            <a:pt x="866" y="47"/>
                          </a:lnTo>
                          <a:lnTo>
                            <a:pt x="864" y="47"/>
                          </a:lnTo>
                          <a:lnTo>
                            <a:pt x="861" y="49"/>
                          </a:lnTo>
                          <a:lnTo>
                            <a:pt x="859" y="49"/>
                          </a:lnTo>
                          <a:lnTo>
                            <a:pt x="856" y="49"/>
                          </a:lnTo>
                          <a:lnTo>
                            <a:pt x="854" y="50"/>
                          </a:lnTo>
                          <a:lnTo>
                            <a:pt x="851" y="50"/>
                          </a:lnTo>
                          <a:lnTo>
                            <a:pt x="850" y="52"/>
                          </a:lnTo>
                          <a:lnTo>
                            <a:pt x="845" y="54"/>
                          </a:lnTo>
                          <a:lnTo>
                            <a:pt x="842" y="57"/>
                          </a:lnTo>
                          <a:lnTo>
                            <a:pt x="841" y="60"/>
                          </a:lnTo>
                          <a:lnTo>
                            <a:pt x="840" y="61"/>
                          </a:lnTo>
                          <a:lnTo>
                            <a:pt x="839" y="64"/>
                          </a:lnTo>
                          <a:lnTo>
                            <a:pt x="837" y="66"/>
                          </a:lnTo>
                          <a:lnTo>
                            <a:pt x="837" y="69"/>
                          </a:lnTo>
                          <a:lnTo>
                            <a:pt x="837" y="71"/>
                          </a:lnTo>
                          <a:lnTo>
                            <a:pt x="837" y="75"/>
                          </a:lnTo>
                          <a:lnTo>
                            <a:pt x="839" y="77"/>
                          </a:lnTo>
                          <a:lnTo>
                            <a:pt x="840" y="81"/>
                          </a:lnTo>
                          <a:lnTo>
                            <a:pt x="842" y="84"/>
                          </a:lnTo>
                          <a:lnTo>
                            <a:pt x="846" y="85"/>
                          </a:lnTo>
                          <a:lnTo>
                            <a:pt x="850" y="86"/>
                          </a:lnTo>
                          <a:lnTo>
                            <a:pt x="850" y="82"/>
                          </a:lnTo>
                          <a:lnTo>
                            <a:pt x="854" y="79"/>
                          </a:lnTo>
                          <a:lnTo>
                            <a:pt x="856" y="75"/>
                          </a:lnTo>
                          <a:lnTo>
                            <a:pt x="860" y="71"/>
                          </a:lnTo>
                          <a:lnTo>
                            <a:pt x="864" y="69"/>
                          </a:lnTo>
                          <a:lnTo>
                            <a:pt x="868" y="69"/>
                          </a:lnTo>
                          <a:lnTo>
                            <a:pt x="869" y="69"/>
                          </a:lnTo>
                          <a:lnTo>
                            <a:pt x="871" y="69"/>
                          </a:lnTo>
                          <a:lnTo>
                            <a:pt x="874" y="70"/>
                          </a:lnTo>
                          <a:lnTo>
                            <a:pt x="875" y="72"/>
                          </a:lnTo>
                          <a:lnTo>
                            <a:pt x="876" y="75"/>
                          </a:lnTo>
                          <a:lnTo>
                            <a:pt x="878" y="77"/>
                          </a:lnTo>
                          <a:lnTo>
                            <a:pt x="878" y="81"/>
                          </a:lnTo>
                          <a:lnTo>
                            <a:pt x="878" y="84"/>
                          </a:lnTo>
                          <a:lnTo>
                            <a:pt x="876" y="86"/>
                          </a:lnTo>
                          <a:lnTo>
                            <a:pt x="876" y="89"/>
                          </a:lnTo>
                          <a:lnTo>
                            <a:pt x="875" y="91"/>
                          </a:lnTo>
                          <a:lnTo>
                            <a:pt x="874" y="94"/>
                          </a:lnTo>
                          <a:lnTo>
                            <a:pt x="873" y="96"/>
                          </a:lnTo>
                          <a:lnTo>
                            <a:pt x="870" y="99"/>
                          </a:lnTo>
                          <a:lnTo>
                            <a:pt x="869" y="100"/>
                          </a:lnTo>
                          <a:lnTo>
                            <a:pt x="866" y="103"/>
                          </a:lnTo>
                          <a:lnTo>
                            <a:pt x="865" y="104"/>
                          </a:lnTo>
                          <a:lnTo>
                            <a:pt x="863" y="105"/>
                          </a:lnTo>
                          <a:lnTo>
                            <a:pt x="860" y="106"/>
                          </a:lnTo>
                          <a:lnTo>
                            <a:pt x="859" y="108"/>
                          </a:lnTo>
                          <a:lnTo>
                            <a:pt x="855" y="109"/>
                          </a:lnTo>
                          <a:lnTo>
                            <a:pt x="851" y="110"/>
                          </a:lnTo>
                          <a:lnTo>
                            <a:pt x="848" y="110"/>
                          </a:lnTo>
                          <a:lnTo>
                            <a:pt x="845" y="110"/>
                          </a:lnTo>
                          <a:lnTo>
                            <a:pt x="841" y="110"/>
                          </a:lnTo>
                          <a:lnTo>
                            <a:pt x="839" y="109"/>
                          </a:lnTo>
                          <a:lnTo>
                            <a:pt x="836" y="109"/>
                          </a:lnTo>
                          <a:lnTo>
                            <a:pt x="834" y="108"/>
                          </a:lnTo>
                          <a:lnTo>
                            <a:pt x="831" y="106"/>
                          </a:lnTo>
                          <a:lnTo>
                            <a:pt x="829" y="105"/>
                          </a:lnTo>
                          <a:lnTo>
                            <a:pt x="826" y="103"/>
                          </a:lnTo>
                          <a:lnTo>
                            <a:pt x="824" y="101"/>
                          </a:lnTo>
                          <a:lnTo>
                            <a:pt x="821" y="100"/>
                          </a:lnTo>
                          <a:lnTo>
                            <a:pt x="820" y="97"/>
                          </a:lnTo>
                          <a:lnTo>
                            <a:pt x="819" y="95"/>
                          </a:lnTo>
                          <a:lnTo>
                            <a:pt x="817" y="92"/>
                          </a:lnTo>
                          <a:lnTo>
                            <a:pt x="815" y="90"/>
                          </a:lnTo>
                          <a:lnTo>
                            <a:pt x="814" y="87"/>
                          </a:lnTo>
                          <a:lnTo>
                            <a:pt x="812" y="84"/>
                          </a:lnTo>
                          <a:lnTo>
                            <a:pt x="811" y="82"/>
                          </a:lnTo>
                          <a:lnTo>
                            <a:pt x="810" y="79"/>
                          </a:lnTo>
                          <a:lnTo>
                            <a:pt x="810" y="76"/>
                          </a:lnTo>
                          <a:lnTo>
                            <a:pt x="810" y="72"/>
                          </a:lnTo>
                          <a:lnTo>
                            <a:pt x="810" y="70"/>
                          </a:lnTo>
                          <a:lnTo>
                            <a:pt x="809" y="66"/>
                          </a:lnTo>
                          <a:lnTo>
                            <a:pt x="809" y="64"/>
                          </a:lnTo>
                          <a:lnTo>
                            <a:pt x="810" y="61"/>
                          </a:lnTo>
                          <a:lnTo>
                            <a:pt x="810" y="57"/>
                          </a:lnTo>
                          <a:lnTo>
                            <a:pt x="811" y="55"/>
                          </a:lnTo>
                          <a:lnTo>
                            <a:pt x="812" y="52"/>
                          </a:lnTo>
                          <a:lnTo>
                            <a:pt x="814" y="50"/>
                          </a:lnTo>
                          <a:lnTo>
                            <a:pt x="815" y="47"/>
                          </a:lnTo>
                          <a:lnTo>
                            <a:pt x="817" y="42"/>
                          </a:lnTo>
                          <a:lnTo>
                            <a:pt x="819" y="40"/>
                          </a:lnTo>
                          <a:lnTo>
                            <a:pt x="821" y="36"/>
                          </a:lnTo>
                          <a:lnTo>
                            <a:pt x="824" y="34"/>
                          </a:lnTo>
                          <a:lnTo>
                            <a:pt x="826" y="31"/>
                          </a:lnTo>
                          <a:lnTo>
                            <a:pt x="830" y="29"/>
                          </a:lnTo>
                          <a:lnTo>
                            <a:pt x="832" y="26"/>
                          </a:lnTo>
                          <a:lnTo>
                            <a:pt x="835" y="24"/>
                          </a:lnTo>
                          <a:lnTo>
                            <a:pt x="837" y="21"/>
                          </a:lnTo>
                          <a:lnTo>
                            <a:pt x="841" y="20"/>
                          </a:lnTo>
                          <a:lnTo>
                            <a:pt x="844" y="19"/>
                          </a:lnTo>
                          <a:lnTo>
                            <a:pt x="848" y="19"/>
                          </a:lnTo>
                          <a:lnTo>
                            <a:pt x="851" y="16"/>
                          </a:lnTo>
                          <a:lnTo>
                            <a:pt x="854" y="16"/>
                          </a:lnTo>
                          <a:lnTo>
                            <a:pt x="858" y="16"/>
                          </a:lnTo>
                          <a:lnTo>
                            <a:pt x="861" y="16"/>
                          </a:lnTo>
                          <a:lnTo>
                            <a:pt x="865" y="15"/>
                          </a:lnTo>
                          <a:lnTo>
                            <a:pt x="868" y="15"/>
                          </a:lnTo>
                          <a:lnTo>
                            <a:pt x="871" y="15"/>
                          </a:lnTo>
                          <a:lnTo>
                            <a:pt x="875" y="16"/>
                          </a:lnTo>
                          <a:lnTo>
                            <a:pt x="878" y="16"/>
                          </a:lnTo>
                          <a:lnTo>
                            <a:pt x="881" y="16"/>
                          </a:lnTo>
                          <a:lnTo>
                            <a:pt x="884" y="19"/>
                          </a:lnTo>
                          <a:lnTo>
                            <a:pt x="888" y="20"/>
                          </a:lnTo>
                          <a:lnTo>
                            <a:pt x="891" y="21"/>
                          </a:lnTo>
                          <a:lnTo>
                            <a:pt x="895" y="22"/>
                          </a:lnTo>
                          <a:lnTo>
                            <a:pt x="898" y="24"/>
                          </a:lnTo>
                          <a:lnTo>
                            <a:pt x="902" y="26"/>
                          </a:lnTo>
                          <a:lnTo>
                            <a:pt x="904" y="29"/>
                          </a:lnTo>
                          <a:lnTo>
                            <a:pt x="908" y="31"/>
                          </a:lnTo>
                          <a:lnTo>
                            <a:pt x="912" y="34"/>
                          </a:lnTo>
                          <a:lnTo>
                            <a:pt x="914" y="36"/>
                          </a:lnTo>
                          <a:lnTo>
                            <a:pt x="917" y="37"/>
                          </a:lnTo>
                          <a:lnTo>
                            <a:pt x="918" y="40"/>
                          </a:lnTo>
                          <a:lnTo>
                            <a:pt x="920" y="42"/>
                          </a:lnTo>
                          <a:lnTo>
                            <a:pt x="923" y="46"/>
                          </a:lnTo>
                          <a:lnTo>
                            <a:pt x="924" y="49"/>
                          </a:lnTo>
                          <a:lnTo>
                            <a:pt x="925" y="51"/>
                          </a:lnTo>
                          <a:lnTo>
                            <a:pt x="927" y="54"/>
                          </a:lnTo>
                          <a:lnTo>
                            <a:pt x="928" y="57"/>
                          </a:lnTo>
                          <a:lnTo>
                            <a:pt x="929" y="61"/>
                          </a:lnTo>
                          <a:lnTo>
                            <a:pt x="929" y="64"/>
                          </a:lnTo>
                          <a:lnTo>
                            <a:pt x="930" y="67"/>
                          </a:lnTo>
                          <a:lnTo>
                            <a:pt x="930" y="70"/>
                          </a:lnTo>
                          <a:lnTo>
                            <a:pt x="930" y="74"/>
                          </a:lnTo>
                          <a:lnTo>
                            <a:pt x="930" y="76"/>
                          </a:lnTo>
                          <a:lnTo>
                            <a:pt x="930" y="80"/>
                          </a:lnTo>
                          <a:lnTo>
                            <a:pt x="930" y="84"/>
                          </a:lnTo>
                          <a:lnTo>
                            <a:pt x="928" y="86"/>
                          </a:lnTo>
                          <a:lnTo>
                            <a:pt x="927" y="90"/>
                          </a:lnTo>
                          <a:lnTo>
                            <a:pt x="924" y="94"/>
                          </a:lnTo>
                          <a:lnTo>
                            <a:pt x="923" y="97"/>
                          </a:lnTo>
                          <a:lnTo>
                            <a:pt x="920" y="101"/>
                          </a:lnTo>
                          <a:lnTo>
                            <a:pt x="918" y="104"/>
                          </a:lnTo>
                          <a:lnTo>
                            <a:pt x="917" y="108"/>
                          </a:lnTo>
                          <a:lnTo>
                            <a:pt x="914" y="111"/>
                          </a:lnTo>
                          <a:lnTo>
                            <a:pt x="912" y="114"/>
                          </a:lnTo>
                          <a:lnTo>
                            <a:pt x="909" y="118"/>
                          </a:lnTo>
                          <a:lnTo>
                            <a:pt x="907" y="120"/>
                          </a:lnTo>
                          <a:lnTo>
                            <a:pt x="904" y="124"/>
                          </a:lnTo>
                          <a:lnTo>
                            <a:pt x="902" y="126"/>
                          </a:lnTo>
                          <a:lnTo>
                            <a:pt x="899" y="130"/>
                          </a:lnTo>
                          <a:lnTo>
                            <a:pt x="897" y="133"/>
                          </a:lnTo>
                          <a:lnTo>
                            <a:pt x="894" y="136"/>
                          </a:lnTo>
                          <a:lnTo>
                            <a:pt x="891" y="139"/>
                          </a:lnTo>
                          <a:lnTo>
                            <a:pt x="889" y="141"/>
                          </a:lnTo>
                          <a:lnTo>
                            <a:pt x="885" y="144"/>
                          </a:lnTo>
                          <a:lnTo>
                            <a:pt x="883" y="148"/>
                          </a:lnTo>
                          <a:lnTo>
                            <a:pt x="880" y="149"/>
                          </a:lnTo>
                          <a:lnTo>
                            <a:pt x="876" y="153"/>
                          </a:lnTo>
                          <a:lnTo>
                            <a:pt x="874" y="155"/>
                          </a:lnTo>
                          <a:lnTo>
                            <a:pt x="871" y="158"/>
                          </a:lnTo>
                          <a:lnTo>
                            <a:pt x="868" y="160"/>
                          </a:lnTo>
                          <a:lnTo>
                            <a:pt x="865" y="163"/>
                          </a:lnTo>
                          <a:lnTo>
                            <a:pt x="861" y="165"/>
                          </a:lnTo>
                          <a:lnTo>
                            <a:pt x="858" y="168"/>
                          </a:lnTo>
                          <a:lnTo>
                            <a:pt x="855" y="170"/>
                          </a:lnTo>
                          <a:lnTo>
                            <a:pt x="851" y="173"/>
                          </a:lnTo>
                          <a:lnTo>
                            <a:pt x="849" y="175"/>
                          </a:lnTo>
                          <a:lnTo>
                            <a:pt x="845" y="178"/>
                          </a:lnTo>
                          <a:lnTo>
                            <a:pt x="841" y="179"/>
                          </a:lnTo>
                          <a:lnTo>
                            <a:pt x="837" y="181"/>
                          </a:lnTo>
                          <a:lnTo>
                            <a:pt x="834" y="183"/>
                          </a:lnTo>
                          <a:lnTo>
                            <a:pt x="831" y="185"/>
                          </a:lnTo>
                          <a:lnTo>
                            <a:pt x="827" y="188"/>
                          </a:lnTo>
                          <a:lnTo>
                            <a:pt x="824" y="190"/>
                          </a:lnTo>
                          <a:lnTo>
                            <a:pt x="820" y="193"/>
                          </a:lnTo>
                          <a:lnTo>
                            <a:pt x="816" y="195"/>
                          </a:lnTo>
                          <a:lnTo>
                            <a:pt x="812" y="196"/>
                          </a:lnTo>
                          <a:lnTo>
                            <a:pt x="809" y="199"/>
                          </a:lnTo>
                          <a:lnTo>
                            <a:pt x="805" y="200"/>
                          </a:lnTo>
                          <a:lnTo>
                            <a:pt x="802" y="203"/>
                          </a:lnTo>
                          <a:lnTo>
                            <a:pt x="799" y="205"/>
                          </a:lnTo>
                          <a:lnTo>
                            <a:pt x="795" y="206"/>
                          </a:lnTo>
                          <a:lnTo>
                            <a:pt x="791" y="209"/>
                          </a:lnTo>
                          <a:lnTo>
                            <a:pt x="787" y="211"/>
                          </a:lnTo>
                          <a:lnTo>
                            <a:pt x="783" y="213"/>
                          </a:lnTo>
                          <a:lnTo>
                            <a:pt x="780" y="215"/>
                          </a:lnTo>
                          <a:lnTo>
                            <a:pt x="775" y="216"/>
                          </a:lnTo>
                          <a:lnTo>
                            <a:pt x="772" y="219"/>
                          </a:lnTo>
                          <a:lnTo>
                            <a:pt x="767" y="221"/>
                          </a:lnTo>
                          <a:lnTo>
                            <a:pt x="763" y="224"/>
                          </a:lnTo>
                          <a:lnTo>
                            <a:pt x="760" y="225"/>
                          </a:lnTo>
                          <a:lnTo>
                            <a:pt x="757" y="228"/>
                          </a:lnTo>
                          <a:lnTo>
                            <a:pt x="752" y="230"/>
                          </a:lnTo>
                          <a:lnTo>
                            <a:pt x="748" y="231"/>
                          </a:lnTo>
                          <a:lnTo>
                            <a:pt x="745" y="234"/>
                          </a:lnTo>
                          <a:lnTo>
                            <a:pt x="741" y="236"/>
                          </a:lnTo>
                          <a:lnTo>
                            <a:pt x="737" y="239"/>
                          </a:lnTo>
                          <a:lnTo>
                            <a:pt x="733" y="240"/>
                          </a:lnTo>
                          <a:lnTo>
                            <a:pt x="729" y="243"/>
                          </a:lnTo>
                          <a:lnTo>
                            <a:pt x="726" y="245"/>
                          </a:lnTo>
                          <a:lnTo>
                            <a:pt x="723" y="246"/>
                          </a:lnTo>
                          <a:lnTo>
                            <a:pt x="719" y="248"/>
                          </a:lnTo>
                          <a:lnTo>
                            <a:pt x="717" y="249"/>
                          </a:lnTo>
                          <a:lnTo>
                            <a:pt x="713" y="252"/>
                          </a:lnTo>
                          <a:lnTo>
                            <a:pt x="711" y="253"/>
                          </a:lnTo>
                          <a:lnTo>
                            <a:pt x="708" y="254"/>
                          </a:lnTo>
                          <a:lnTo>
                            <a:pt x="704" y="255"/>
                          </a:lnTo>
                          <a:lnTo>
                            <a:pt x="702" y="258"/>
                          </a:lnTo>
                          <a:lnTo>
                            <a:pt x="698" y="259"/>
                          </a:lnTo>
                          <a:lnTo>
                            <a:pt x="696" y="260"/>
                          </a:lnTo>
                          <a:lnTo>
                            <a:pt x="692" y="262"/>
                          </a:lnTo>
                          <a:lnTo>
                            <a:pt x="689" y="263"/>
                          </a:lnTo>
                          <a:lnTo>
                            <a:pt x="685" y="264"/>
                          </a:lnTo>
                          <a:lnTo>
                            <a:pt x="683" y="265"/>
                          </a:lnTo>
                          <a:lnTo>
                            <a:pt x="680" y="268"/>
                          </a:lnTo>
                          <a:lnTo>
                            <a:pt x="677" y="269"/>
                          </a:lnTo>
                          <a:lnTo>
                            <a:pt x="673" y="270"/>
                          </a:lnTo>
                          <a:lnTo>
                            <a:pt x="670" y="272"/>
                          </a:lnTo>
                          <a:lnTo>
                            <a:pt x="667" y="273"/>
                          </a:lnTo>
                          <a:lnTo>
                            <a:pt x="664" y="275"/>
                          </a:lnTo>
                          <a:lnTo>
                            <a:pt x="660" y="275"/>
                          </a:lnTo>
                          <a:lnTo>
                            <a:pt x="658" y="278"/>
                          </a:lnTo>
                          <a:lnTo>
                            <a:pt x="654" y="279"/>
                          </a:lnTo>
                          <a:lnTo>
                            <a:pt x="652" y="280"/>
                          </a:lnTo>
                          <a:lnTo>
                            <a:pt x="648" y="282"/>
                          </a:lnTo>
                          <a:lnTo>
                            <a:pt x="645" y="284"/>
                          </a:lnTo>
                          <a:lnTo>
                            <a:pt x="642" y="285"/>
                          </a:lnTo>
                          <a:lnTo>
                            <a:pt x="639" y="287"/>
                          </a:lnTo>
                          <a:lnTo>
                            <a:pt x="635" y="288"/>
                          </a:lnTo>
                          <a:lnTo>
                            <a:pt x="633" y="290"/>
                          </a:lnTo>
                          <a:lnTo>
                            <a:pt x="629" y="292"/>
                          </a:lnTo>
                          <a:lnTo>
                            <a:pt x="626" y="293"/>
                          </a:lnTo>
                          <a:lnTo>
                            <a:pt x="623" y="294"/>
                          </a:lnTo>
                          <a:lnTo>
                            <a:pt x="620" y="295"/>
                          </a:lnTo>
                          <a:lnTo>
                            <a:pt x="616" y="298"/>
                          </a:lnTo>
                          <a:lnTo>
                            <a:pt x="614" y="299"/>
                          </a:lnTo>
                          <a:lnTo>
                            <a:pt x="610" y="300"/>
                          </a:lnTo>
                          <a:lnTo>
                            <a:pt x="608" y="302"/>
                          </a:lnTo>
                          <a:lnTo>
                            <a:pt x="604" y="304"/>
                          </a:lnTo>
                          <a:lnTo>
                            <a:pt x="601" y="305"/>
                          </a:lnTo>
                          <a:lnTo>
                            <a:pt x="598" y="307"/>
                          </a:lnTo>
                          <a:lnTo>
                            <a:pt x="595" y="308"/>
                          </a:lnTo>
                          <a:lnTo>
                            <a:pt x="591" y="309"/>
                          </a:lnTo>
                          <a:lnTo>
                            <a:pt x="589" y="312"/>
                          </a:lnTo>
                          <a:lnTo>
                            <a:pt x="585" y="313"/>
                          </a:lnTo>
                          <a:lnTo>
                            <a:pt x="583" y="314"/>
                          </a:lnTo>
                          <a:lnTo>
                            <a:pt x="579" y="315"/>
                          </a:lnTo>
                          <a:lnTo>
                            <a:pt x="576" y="318"/>
                          </a:lnTo>
                          <a:lnTo>
                            <a:pt x="572" y="319"/>
                          </a:lnTo>
                          <a:lnTo>
                            <a:pt x="570" y="320"/>
                          </a:lnTo>
                          <a:lnTo>
                            <a:pt x="567" y="323"/>
                          </a:lnTo>
                          <a:lnTo>
                            <a:pt x="564" y="324"/>
                          </a:lnTo>
                          <a:lnTo>
                            <a:pt x="561" y="325"/>
                          </a:lnTo>
                          <a:lnTo>
                            <a:pt x="557" y="327"/>
                          </a:lnTo>
                          <a:lnTo>
                            <a:pt x="555" y="329"/>
                          </a:lnTo>
                          <a:lnTo>
                            <a:pt x="552" y="330"/>
                          </a:lnTo>
                          <a:lnTo>
                            <a:pt x="549" y="332"/>
                          </a:lnTo>
                          <a:lnTo>
                            <a:pt x="546" y="334"/>
                          </a:lnTo>
                          <a:lnTo>
                            <a:pt x="544" y="335"/>
                          </a:lnTo>
                          <a:lnTo>
                            <a:pt x="540" y="338"/>
                          </a:lnTo>
                          <a:lnTo>
                            <a:pt x="537" y="339"/>
                          </a:lnTo>
                          <a:lnTo>
                            <a:pt x="535" y="342"/>
                          </a:lnTo>
                          <a:lnTo>
                            <a:pt x="531" y="343"/>
                          </a:lnTo>
                          <a:lnTo>
                            <a:pt x="528" y="344"/>
                          </a:lnTo>
                          <a:lnTo>
                            <a:pt x="525" y="347"/>
                          </a:lnTo>
                          <a:lnTo>
                            <a:pt x="521" y="349"/>
                          </a:lnTo>
                          <a:lnTo>
                            <a:pt x="518" y="350"/>
                          </a:lnTo>
                          <a:lnTo>
                            <a:pt x="515" y="353"/>
                          </a:lnTo>
                          <a:lnTo>
                            <a:pt x="511" y="355"/>
                          </a:lnTo>
                          <a:lnTo>
                            <a:pt x="507" y="358"/>
                          </a:lnTo>
                          <a:lnTo>
                            <a:pt x="505" y="359"/>
                          </a:lnTo>
                          <a:lnTo>
                            <a:pt x="501" y="362"/>
                          </a:lnTo>
                          <a:lnTo>
                            <a:pt x="497" y="364"/>
                          </a:lnTo>
                          <a:lnTo>
                            <a:pt x="495" y="367"/>
                          </a:lnTo>
                          <a:lnTo>
                            <a:pt x="491" y="369"/>
                          </a:lnTo>
                          <a:lnTo>
                            <a:pt x="487" y="372"/>
                          </a:lnTo>
                          <a:lnTo>
                            <a:pt x="483" y="373"/>
                          </a:lnTo>
                          <a:lnTo>
                            <a:pt x="481" y="375"/>
                          </a:lnTo>
                          <a:lnTo>
                            <a:pt x="477" y="378"/>
                          </a:lnTo>
                          <a:lnTo>
                            <a:pt x="474" y="380"/>
                          </a:lnTo>
                          <a:lnTo>
                            <a:pt x="471" y="382"/>
                          </a:lnTo>
                          <a:lnTo>
                            <a:pt x="467" y="384"/>
                          </a:lnTo>
                          <a:lnTo>
                            <a:pt x="464" y="387"/>
                          </a:lnTo>
                          <a:lnTo>
                            <a:pt x="461" y="389"/>
                          </a:lnTo>
                          <a:lnTo>
                            <a:pt x="457" y="392"/>
                          </a:lnTo>
                          <a:lnTo>
                            <a:pt x="454" y="394"/>
                          </a:lnTo>
                          <a:lnTo>
                            <a:pt x="451" y="397"/>
                          </a:lnTo>
                          <a:lnTo>
                            <a:pt x="448" y="399"/>
                          </a:lnTo>
                          <a:lnTo>
                            <a:pt x="446" y="401"/>
                          </a:lnTo>
                          <a:lnTo>
                            <a:pt x="442" y="403"/>
                          </a:lnTo>
                          <a:lnTo>
                            <a:pt x="439" y="406"/>
                          </a:lnTo>
                          <a:lnTo>
                            <a:pt x="436" y="408"/>
                          </a:lnTo>
                          <a:lnTo>
                            <a:pt x="433" y="411"/>
                          </a:lnTo>
                          <a:lnTo>
                            <a:pt x="431" y="413"/>
                          </a:lnTo>
                          <a:lnTo>
                            <a:pt x="427" y="416"/>
                          </a:lnTo>
                          <a:lnTo>
                            <a:pt x="424" y="419"/>
                          </a:lnTo>
                          <a:lnTo>
                            <a:pt x="422" y="421"/>
                          </a:lnTo>
                          <a:lnTo>
                            <a:pt x="418" y="423"/>
                          </a:lnTo>
                          <a:lnTo>
                            <a:pt x="415" y="426"/>
                          </a:lnTo>
                          <a:lnTo>
                            <a:pt x="413" y="429"/>
                          </a:lnTo>
                          <a:lnTo>
                            <a:pt x="410" y="432"/>
                          </a:lnTo>
                          <a:lnTo>
                            <a:pt x="407" y="434"/>
                          </a:lnTo>
                          <a:lnTo>
                            <a:pt x="404" y="437"/>
                          </a:lnTo>
                          <a:lnTo>
                            <a:pt x="403" y="441"/>
                          </a:lnTo>
                          <a:lnTo>
                            <a:pt x="399" y="442"/>
                          </a:lnTo>
                          <a:lnTo>
                            <a:pt x="397" y="446"/>
                          </a:lnTo>
                          <a:lnTo>
                            <a:pt x="394" y="448"/>
                          </a:lnTo>
                          <a:lnTo>
                            <a:pt x="392" y="452"/>
                          </a:lnTo>
                          <a:lnTo>
                            <a:pt x="389" y="454"/>
                          </a:lnTo>
                          <a:lnTo>
                            <a:pt x="387" y="458"/>
                          </a:lnTo>
                          <a:lnTo>
                            <a:pt x="385" y="461"/>
                          </a:lnTo>
                          <a:lnTo>
                            <a:pt x="383" y="464"/>
                          </a:lnTo>
                          <a:lnTo>
                            <a:pt x="380" y="467"/>
                          </a:lnTo>
                          <a:lnTo>
                            <a:pt x="378" y="471"/>
                          </a:lnTo>
                          <a:lnTo>
                            <a:pt x="377" y="473"/>
                          </a:lnTo>
                          <a:lnTo>
                            <a:pt x="374" y="477"/>
                          </a:lnTo>
                          <a:lnTo>
                            <a:pt x="371" y="481"/>
                          </a:lnTo>
                          <a:lnTo>
                            <a:pt x="370" y="484"/>
                          </a:lnTo>
                          <a:lnTo>
                            <a:pt x="369" y="488"/>
                          </a:lnTo>
                          <a:lnTo>
                            <a:pt x="366" y="492"/>
                          </a:lnTo>
                          <a:lnTo>
                            <a:pt x="365" y="496"/>
                          </a:lnTo>
                          <a:lnTo>
                            <a:pt x="363" y="499"/>
                          </a:lnTo>
                          <a:lnTo>
                            <a:pt x="361" y="503"/>
                          </a:lnTo>
                          <a:lnTo>
                            <a:pt x="360" y="507"/>
                          </a:lnTo>
                          <a:lnTo>
                            <a:pt x="358" y="511"/>
                          </a:lnTo>
                          <a:lnTo>
                            <a:pt x="356" y="516"/>
                          </a:lnTo>
                          <a:lnTo>
                            <a:pt x="355" y="519"/>
                          </a:lnTo>
                          <a:lnTo>
                            <a:pt x="355" y="523"/>
                          </a:lnTo>
                          <a:lnTo>
                            <a:pt x="353" y="523"/>
                          </a:lnTo>
                          <a:lnTo>
                            <a:pt x="350" y="522"/>
                          </a:lnTo>
                          <a:lnTo>
                            <a:pt x="348" y="521"/>
                          </a:lnTo>
                          <a:lnTo>
                            <a:pt x="344" y="521"/>
                          </a:lnTo>
                          <a:lnTo>
                            <a:pt x="341" y="519"/>
                          </a:lnTo>
                          <a:lnTo>
                            <a:pt x="338" y="518"/>
                          </a:lnTo>
                          <a:lnTo>
                            <a:pt x="334" y="517"/>
                          </a:lnTo>
                          <a:lnTo>
                            <a:pt x="330" y="516"/>
                          </a:lnTo>
                          <a:lnTo>
                            <a:pt x="325" y="514"/>
                          </a:lnTo>
                          <a:lnTo>
                            <a:pt x="321" y="513"/>
                          </a:lnTo>
                          <a:lnTo>
                            <a:pt x="316" y="511"/>
                          </a:lnTo>
                          <a:lnTo>
                            <a:pt x="311" y="509"/>
                          </a:lnTo>
                          <a:lnTo>
                            <a:pt x="305" y="507"/>
                          </a:lnTo>
                          <a:lnTo>
                            <a:pt x="300" y="506"/>
                          </a:lnTo>
                          <a:lnTo>
                            <a:pt x="294" y="503"/>
                          </a:lnTo>
                          <a:lnTo>
                            <a:pt x="289" y="502"/>
                          </a:lnTo>
                          <a:lnTo>
                            <a:pt x="282" y="499"/>
                          </a:lnTo>
                          <a:lnTo>
                            <a:pt x="276" y="497"/>
                          </a:lnTo>
                          <a:lnTo>
                            <a:pt x="270" y="494"/>
                          </a:lnTo>
                          <a:lnTo>
                            <a:pt x="262" y="492"/>
                          </a:lnTo>
                          <a:lnTo>
                            <a:pt x="256" y="489"/>
                          </a:lnTo>
                          <a:lnTo>
                            <a:pt x="248" y="487"/>
                          </a:lnTo>
                          <a:lnTo>
                            <a:pt x="242" y="484"/>
                          </a:lnTo>
                          <a:lnTo>
                            <a:pt x="236" y="482"/>
                          </a:lnTo>
                          <a:lnTo>
                            <a:pt x="228" y="479"/>
                          </a:lnTo>
                          <a:lnTo>
                            <a:pt x="221" y="477"/>
                          </a:lnTo>
                          <a:lnTo>
                            <a:pt x="213" y="473"/>
                          </a:lnTo>
                          <a:lnTo>
                            <a:pt x="207" y="471"/>
                          </a:lnTo>
                          <a:lnTo>
                            <a:pt x="199" y="468"/>
                          </a:lnTo>
                          <a:lnTo>
                            <a:pt x="192" y="466"/>
                          </a:lnTo>
                          <a:lnTo>
                            <a:pt x="184" y="463"/>
                          </a:lnTo>
                          <a:lnTo>
                            <a:pt x="177" y="461"/>
                          </a:lnTo>
                          <a:lnTo>
                            <a:pt x="169" y="457"/>
                          </a:lnTo>
                          <a:lnTo>
                            <a:pt x="162" y="454"/>
                          </a:lnTo>
                          <a:lnTo>
                            <a:pt x="154" y="452"/>
                          </a:lnTo>
                          <a:lnTo>
                            <a:pt x="147" y="449"/>
                          </a:lnTo>
                          <a:lnTo>
                            <a:pt x="139" y="446"/>
                          </a:lnTo>
                          <a:lnTo>
                            <a:pt x="133" y="443"/>
                          </a:lnTo>
                          <a:lnTo>
                            <a:pt x="125" y="441"/>
                          </a:lnTo>
                          <a:lnTo>
                            <a:pt x="119" y="438"/>
                          </a:lnTo>
                          <a:lnTo>
                            <a:pt x="111" y="436"/>
                          </a:lnTo>
                          <a:lnTo>
                            <a:pt x="104" y="433"/>
                          </a:lnTo>
                          <a:lnTo>
                            <a:pt x="98" y="429"/>
                          </a:lnTo>
                          <a:lnTo>
                            <a:pt x="91" y="427"/>
                          </a:lnTo>
                          <a:lnTo>
                            <a:pt x="84" y="424"/>
                          </a:lnTo>
                          <a:lnTo>
                            <a:pt x="78" y="423"/>
                          </a:lnTo>
                          <a:lnTo>
                            <a:pt x="71" y="421"/>
                          </a:lnTo>
                          <a:lnTo>
                            <a:pt x="66" y="418"/>
                          </a:lnTo>
                          <a:lnTo>
                            <a:pt x="60" y="416"/>
                          </a:lnTo>
                          <a:lnTo>
                            <a:pt x="54" y="413"/>
                          </a:lnTo>
                          <a:lnTo>
                            <a:pt x="47" y="411"/>
                          </a:lnTo>
                          <a:lnTo>
                            <a:pt x="44" y="409"/>
                          </a:lnTo>
                          <a:lnTo>
                            <a:pt x="37" y="407"/>
                          </a:lnTo>
                          <a:lnTo>
                            <a:pt x="32" y="406"/>
                          </a:lnTo>
                          <a:lnTo>
                            <a:pt x="29" y="403"/>
                          </a:lnTo>
                          <a:lnTo>
                            <a:pt x="25" y="402"/>
                          </a:lnTo>
                          <a:lnTo>
                            <a:pt x="20" y="401"/>
                          </a:lnTo>
                          <a:lnTo>
                            <a:pt x="16" y="399"/>
                          </a:lnTo>
                          <a:lnTo>
                            <a:pt x="12" y="398"/>
                          </a:lnTo>
                          <a:lnTo>
                            <a:pt x="10" y="397"/>
                          </a:lnTo>
                          <a:lnTo>
                            <a:pt x="6" y="395"/>
                          </a:lnTo>
                          <a:lnTo>
                            <a:pt x="3" y="394"/>
                          </a:lnTo>
                          <a:lnTo>
                            <a:pt x="1" y="393"/>
                          </a:lnTo>
                          <a:lnTo>
                            <a:pt x="1" y="393"/>
                          </a:lnTo>
                          <a:lnTo>
                            <a:pt x="1" y="393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4017960" y="4753440"/>
                      <a:ext cx="352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94">
                          <a:moveTo>
                            <a:pt x="65" y="94"/>
                          </a:moveTo>
                          <a:lnTo>
                            <a:pt x="0" y="26"/>
                          </a:lnTo>
                          <a:lnTo>
                            <a:pt x="21" y="0"/>
                          </a:lnTo>
                          <a:lnTo>
                            <a:pt x="106" y="64"/>
                          </a:lnTo>
                          <a:lnTo>
                            <a:pt x="65" y="94"/>
                          </a:lnTo>
                          <a:lnTo>
                            <a:pt x="65" y="94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3876480" y="4736880"/>
                      <a:ext cx="7020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97">
                          <a:moveTo>
                            <a:pt x="193" y="97"/>
                          </a:moveTo>
                          <a:lnTo>
                            <a:pt x="0" y="29"/>
                          </a:lnTo>
                          <a:lnTo>
                            <a:pt x="62" y="0"/>
                          </a:lnTo>
                          <a:lnTo>
                            <a:pt x="65" y="0"/>
                          </a:lnTo>
                          <a:lnTo>
                            <a:pt x="68" y="1"/>
                          </a:lnTo>
                          <a:lnTo>
                            <a:pt x="72" y="3"/>
                          </a:lnTo>
                          <a:lnTo>
                            <a:pt x="76" y="4"/>
                          </a:lnTo>
                          <a:lnTo>
                            <a:pt x="80" y="5"/>
                          </a:lnTo>
                          <a:lnTo>
                            <a:pt x="83" y="6"/>
                          </a:lnTo>
                          <a:lnTo>
                            <a:pt x="86" y="6"/>
                          </a:lnTo>
                          <a:lnTo>
                            <a:pt x="88" y="8"/>
                          </a:lnTo>
                          <a:lnTo>
                            <a:pt x="91" y="8"/>
                          </a:lnTo>
                          <a:lnTo>
                            <a:pt x="92" y="9"/>
                          </a:lnTo>
                          <a:lnTo>
                            <a:pt x="97" y="10"/>
                          </a:lnTo>
                          <a:lnTo>
                            <a:pt x="101" y="11"/>
                          </a:lnTo>
                          <a:lnTo>
                            <a:pt x="103" y="11"/>
                          </a:lnTo>
                          <a:lnTo>
                            <a:pt x="106" y="13"/>
                          </a:lnTo>
                          <a:lnTo>
                            <a:pt x="108" y="13"/>
                          </a:lnTo>
                          <a:lnTo>
                            <a:pt x="111" y="14"/>
                          </a:lnTo>
                          <a:lnTo>
                            <a:pt x="113" y="15"/>
                          </a:lnTo>
                          <a:lnTo>
                            <a:pt x="116" y="15"/>
                          </a:lnTo>
                          <a:lnTo>
                            <a:pt x="119" y="16"/>
                          </a:lnTo>
                          <a:lnTo>
                            <a:pt x="121" y="18"/>
                          </a:lnTo>
                          <a:lnTo>
                            <a:pt x="124" y="18"/>
                          </a:lnTo>
                          <a:lnTo>
                            <a:pt x="126" y="19"/>
                          </a:lnTo>
                          <a:lnTo>
                            <a:pt x="129" y="19"/>
                          </a:lnTo>
                          <a:lnTo>
                            <a:pt x="131" y="20"/>
                          </a:lnTo>
                          <a:lnTo>
                            <a:pt x="132" y="21"/>
                          </a:lnTo>
                          <a:lnTo>
                            <a:pt x="135" y="21"/>
                          </a:lnTo>
                          <a:lnTo>
                            <a:pt x="137" y="23"/>
                          </a:lnTo>
                          <a:lnTo>
                            <a:pt x="140" y="24"/>
                          </a:lnTo>
                          <a:lnTo>
                            <a:pt x="141" y="24"/>
                          </a:lnTo>
                          <a:lnTo>
                            <a:pt x="144" y="25"/>
                          </a:lnTo>
                          <a:lnTo>
                            <a:pt x="146" y="25"/>
                          </a:lnTo>
                          <a:lnTo>
                            <a:pt x="149" y="26"/>
                          </a:lnTo>
                          <a:lnTo>
                            <a:pt x="151" y="28"/>
                          </a:lnTo>
                          <a:lnTo>
                            <a:pt x="154" y="28"/>
                          </a:lnTo>
                          <a:lnTo>
                            <a:pt x="156" y="29"/>
                          </a:lnTo>
                          <a:lnTo>
                            <a:pt x="157" y="30"/>
                          </a:lnTo>
                          <a:lnTo>
                            <a:pt x="162" y="31"/>
                          </a:lnTo>
                          <a:lnTo>
                            <a:pt x="166" y="34"/>
                          </a:lnTo>
                          <a:lnTo>
                            <a:pt x="170" y="35"/>
                          </a:lnTo>
                          <a:lnTo>
                            <a:pt x="174" y="36"/>
                          </a:lnTo>
                          <a:lnTo>
                            <a:pt x="178" y="39"/>
                          </a:lnTo>
                          <a:lnTo>
                            <a:pt x="181" y="40"/>
                          </a:lnTo>
                          <a:lnTo>
                            <a:pt x="184" y="43"/>
                          </a:lnTo>
                          <a:lnTo>
                            <a:pt x="188" y="44"/>
                          </a:lnTo>
                          <a:lnTo>
                            <a:pt x="189" y="45"/>
                          </a:lnTo>
                          <a:lnTo>
                            <a:pt x="191" y="48"/>
                          </a:lnTo>
                          <a:lnTo>
                            <a:pt x="195" y="51"/>
                          </a:lnTo>
                          <a:lnTo>
                            <a:pt x="198" y="55"/>
                          </a:lnTo>
                          <a:lnTo>
                            <a:pt x="200" y="59"/>
                          </a:lnTo>
                          <a:lnTo>
                            <a:pt x="201" y="61"/>
                          </a:lnTo>
                          <a:lnTo>
                            <a:pt x="203" y="65"/>
                          </a:lnTo>
                          <a:lnTo>
                            <a:pt x="205" y="68"/>
                          </a:lnTo>
                          <a:lnTo>
                            <a:pt x="205" y="71"/>
                          </a:lnTo>
                          <a:lnTo>
                            <a:pt x="206" y="75"/>
                          </a:lnTo>
                          <a:lnTo>
                            <a:pt x="206" y="76"/>
                          </a:lnTo>
                          <a:lnTo>
                            <a:pt x="206" y="80"/>
                          </a:lnTo>
                          <a:lnTo>
                            <a:pt x="205" y="83"/>
                          </a:lnTo>
                          <a:lnTo>
                            <a:pt x="204" y="85"/>
                          </a:lnTo>
                          <a:lnTo>
                            <a:pt x="201" y="88"/>
                          </a:lnTo>
                          <a:lnTo>
                            <a:pt x="200" y="92"/>
                          </a:lnTo>
                          <a:lnTo>
                            <a:pt x="196" y="94"/>
                          </a:lnTo>
                          <a:lnTo>
                            <a:pt x="193" y="97"/>
                          </a:lnTo>
                          <a:lnTo>
                            <a:pt x="193" y="9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3951000" y="4668840"/>
                      <a:ext cx="10476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329">
                          <a:moveTo>
                            <a:pt x="6" y="329"/>
                          </a:moveTo>
                          <a:lnTo>
                            <a:pt x="6" y="327"/>
                          </a:lnTo>
                          <a:lnTo>
                            <a:pt x="6" y="323"/>
                          </a:lnTo>
                          <a:lnTo>
                            <a:pt x="6" y="319"/>
                          </a:lnTo>
                          <a:lnTo>
                            <a:pt x="6" y="316"/>
                          </a:lnTo>
                          <a:lnTo>
                            <a:pt x="6" y="313"/>
                          </a:lnTo>
                          <a:lnTo>
                            <a:pt x="6" y="310"/>
                          </a:lnTo>
                          <a:lnTo>
                            <a:pt x="6" y="306"/>
                          </a:lnTo>
                          <a:lnTo>
                            <a:pt x="8" y="304"/>
                          </a:lnTo>
                          <a:lnTo>
                            <a:pt x="6" y="300"/>
                          </a:lnTo>
                          <a:lnTo>
                            <a:pt x="6" y="298"/>
                          </a:lnTo>
                          <a:lnTo>
                            <a:pt x="5" y="294"/>
                          </a:lnTo>
                          <a:lnTo>
                            <a:pt x="5" y="291"/>
                          </a:lnTo>
                          <a:lnTo>
                            <a:pt x="4" y="288"/>
                          </a:lnTo>
                          <a:lnTo>
                            <a:pt x="3" y="284"/>
                          </a:lnTo>
                          <a:lnTo>
                            <a:pt x="1" y="281"/>
                          </a:lnTo>
                          <a:lnTo>
                            <a:pt x="0" y="278"/>
                          </a:lnTo>
                          <a:lnTo>
                            <a:pt x="3" y="274"/>
                          </a:lnTo>
                          <a:lnTo>
                            <a:pt x="6" y="270"/>
                          </a:lnTo>
                          <a:lnTo>
                            <a:pt x="9" y="266"/>
                          </a:lnTo>
                          <a:lnTo>
                            <a:pt x="13" y="263"/>
                          </a:lnTo>
                          <a:lnTo>
                            <a:pt x="15" y="259"/>
                          </a:lnTo>
                          <a:lnTo>
                            <a:pt x="19" y="255"/>
                          </a:lnTo>
                          <a:lnTo>
                            <a:pt x="23" y="251"/>
                          </a:lnTo>
                          <a:lnTo>
                            <a:pt x="26" y="248"/>
                          </a:lnTo>
                          <a:lnTo>
                            <a:pt x="29" y="244"/>
                          </a:lnTo>
                          <a:lnTo>
                            <a:pt x="33" y="240"/>
                          </a:lnTo>
                          <a:lnTo>
                            <a:pt x="36" y="236"/>
                          </a:lnTo>
                          <a:lnTo>
                            <a:pt x="40" y="233"/>
                          </a:lnTo>
                          <a:lnTo>
                            <a:pt x="44" y="229"/>
                          </a:lnTo>
                          <a:lnTo>
                            <a:pt x="48" y="225"/>
                          </a:lnTo>
                          <a:lnTo>
                            <a:pt x="51" y="221"/>
                          </a:lnTo>
                          <a:lnTo>
                            <a:pt x="55" y="218"/>
                          </a:lnTo>
                          <a:lnTo>
                            <a:pt x="59" y="214"/>
                          </a:lnTo>
                          <a:lnTo>
                            <a:pt x="63" y="210"/>
                          </a:lnTo>
                          <a:lnTo>
                            <a:pt x="67" y="206"/>
                          </a:lnTo>
                          <a:lnTo>
                            <a:pt x="72" y="203"/>
                          </a:lnTo>
                          <a:lnTo>
                            <a:pt x="75" y="199"/>
                          </a:lnTo>
                          <a:lnTo>
                            <a:pt x="79" y="195"/>
                          </a:lnTo>
                          <a:lnTo>
                            <a:pt x="83" y="191"/>
                          </a:lnTo>
                          <a:lnTo>
                            <a:pt x="88" y="188"/>
                          </a:lnTo>
                          <a:lnTo>
                            <a:pt x="92" y="184"/>
                          </a:lnTo>
                          <a:lnTo>
                            <a:pt x="97" y="180"/>
                          </a:lnTo>
                          <a:lnTo>
                            <a:pt x="100" y="178"/>
                          </a:lnTo>
                          <a:lnTo>
                            <a:pt x="106" y="174"/>
                          </a:lnTo>
                          <a:lnTo>
                            <a:pt x="109" y="170"/>
                          </a:lnTo>
                          <a:lnTo>
                            <a:pt x="113" y="166"/>
                          </a:lnTo>
                          <a:lnTo>
                            <a:pt x="118" y="162"/>
                          </a:lnTo>
                          <a:lnTo>
                            <a:pt x="123" y="159"/>
                          </a:lnTo>
                          <a:lnTo>
                            <a:pt x="127" y="155"/>
                          </a:lnTo>
                          <a:lnTo>
                            <a:pt x="131" y="151"/>
                          </a:lnTo>
                          <a:lnTo>
                            <a:pt x="136" y="147"/>
                          </a:lnTo>
                          <a:lnTo>
                            <a:pt x="139" y="144"/>
                          </a:lnTo>
                          <a:lnTo>
                            <a:pt x="143" y="140"/>
                          </a:lnTo>
                          <a:lnTo>
                            <a:pt x="148" y="136"/>
                          </a:lnTo>
                          <a:lnTo>
                            <a:pt x="153" y="132"/>
                          </a:lnTo>
                          <a:lnTo>
                            <a:pt x="157" y="129"/>
                          </a:lnTo>
                          <a:lnTo>
                            <a:pt x="162" y="125"/>
                          </a:lnTo>
                          <a:lnTo>
                            <a:pt x="167" y="121"/>
                          </a:lnTo>
                          <a:lnTo>
                            <a:pt x="171" y="117"/>
                          </a:lnTo>
                          <a:lnTo>
                            <a:pt x="176" y="114"/>
                          </a:lnTo>
                          <a:lnTo>
                            <a:pt x="180" y="110"/>
                          </a:lnTo>
                          <a:lnTo>
                            <a:pt x="185" y="106"/>
                          </a:lnTo>
                          <a:lnTo>
                            <a:pt x="188" y="102"/>
                          </a:lnTo>
                          <a:lnTo>
                            <a:pt x="193" y="100"/>
                          </a:lnTo>
                          <a:lnTo>
                            <a:pt x="198" y="95"/>
                          </a:lnTo>
                          <a:lnTo>
                            <a:pt x="202" y="91"/>
                          </a:lnTo>
                          <a:lnTo>
                            <a:pt x="207" y="87"/>
                          </a:lnTo>
                          <a:lnTo>
                            <a:pt x="211" y="85"/>
                          </a:lnTo>
                          <a:lnTo>
                            <a:pt x="216" y="80"/>
                          </a:lnTo>
                          <a:lnTo>
                            <a:pt x="220" y="76"/>
                          </a:lnTo>
                          <a:lnTo>
                            <a:pt x="225" y="72"/>
                          </a:lnTo>
                          <a:lnTo>
                            <a:pt x="230" y="69"/>
                          </a:lnTo>
                          <a:lnTo>
                            <a:pt x="234" y="65"/>
                          </a:lnTo>
                          <a:lnTo>
                            <a:pt x="237" y="61"/>
                          </a:lnTo>
                          <a:lnTo>
                            <a:pt x="242" y="57"/>
                          </a:lnTo>
                          <a:lnTo>
                            <a:pt x="246" y="54"/>
                          </a:lnTo>
                          <a:lnTo>
                            <a:pt x="250" y="50"/>
                          </a:lnTo>
                          <a:lnTo>
                            <a:pt x="255" y="46"/>
                          </a:lnTo>
                          <a:lnTo>
                            <a:pt x="260" y="42"/>
                          </a:lnTo>
                          <a:lnTo>
                            <a:pt x="264" y="39"/>
                          </a:lnTo>
                          <a:lnTo>
                            <a:pt x="301" y="0"/>
                          </a:lnTo>
                          <a:lnTo>
                            <a:pt x="301" y="2"/>
                          </a:lnTo>
                          <a:lnTo>
                            <a:pt x="303" y="5"/>
                          </a:lnTo>
                          <a:lnTo>
                            <a:pt x="304" y="6"/>
                          </a:lnTo>
                          <a:lnTo>
                            <a:pt x="305" y="10"/>
                          </a:lnTo>
                          <a:lnTo>
                            <a:pt x="305" y="12"/>
                          </a:lnTo>
                          <a:lnTo>
                            <a:pt x="306" y="16"/>
                          </a:lnTo>
                          <a:lnTo>
                            <a:pt x="308" y="20"/>
                          </a:lnTo>
                          <a:lnTo>
                            <a:pt x="308" y="24"/>
                          </a:lnTo>
                          <a:lnTo>
                            <a:pt x="308" y="26"/>
                          </a:lnTo>
                          <a:lnTo>
                            <a:pt x="309" y="30"/>
                          </a:lnTo>
                          <a:lnTo>
                            <a:pt x="309" y="34"/>
                          </a:lnTo>
                          <a:lnTo>
                            <a:pt x="309" y="37"/>
                          </a:lnTo>
                          <a:lnTo>
                            <a:pt x="308" y="40"/>
                          </a:lnTo>
                          <a:lnTo>
                            <a:pt x="308" y="42"/>
                          </a:lnTo>
                          <a:lnTo>
                            <a:pt x="308" y="46"/>
                          </a:lnTo>
                          <a:lnTo>
                            <a:pt x="308" y="49"/>
                          </a:lnTo>
                          <a:lnTo>
                            <a:pt x="306" y="51"/>
                          </a:lnTo>
                          <a:lnTo>
                            <a:pt x="305" y="52"/>
                          </a:lnTo>
                          <a:lnTo>
                            <a:pt x="305" y="55"/>
                          </a:lnTo>
                          <a:lnTo>
                            <a:pt x="304" y="59"/>
                          </a:lnTo>
                          <a:lnTo>
                            <a:pt x="301" y="61"/>
                          </a:lnTo>
                          <a:lnTo>
                            <a:pt x="300" y="65"/>
                          </a:lnTo>
                          <a:lnTo>
                            <a:pt x="298" y="69"/>
                          </a:lnTo>
                          <a:lnTo>
                            <a:pt x="295" y="72"/>
                          </a:lnTo>
                          <a:lnTo>
                            <a:pt x="293" y="76"/>
                          </a:lnTo>
                          <a:lnTo>
                            <a:pt x="290" y="80"/>
                          </a:lnTo>
                          <a:lnTo>
                            <a:pt x="286" y="84"/>
                          </a:lnTo>
                          <a:lnTo>
                            <a:pt x="283" y="87"/>
                          </a:lnTo>
                          <a:lnTo>
                            <a:pt x="279" y="92"/>
                          </a:lnTo>
                          <a:lnTo>
                            <a:pt x="275" y="97"/>
                          </a:lnTo>
                          <a:lnTo>
                            <a:pt x="271" y="102"/>
                          </a:lnTo>
                          <a:lnTo>
                            <a:pt x="268" y="106"/>
                          </a:lnTo>
                          <a:lnTo>
                            <a:pt x="263" y="111"/>
                          </a:lnTo>
                          <a:lnTo>
                            <a:pt x="257" y="116"/>
                          </a:lnTo>
                          <a:lnTo>
                            <a:pt x="252" y="121"/>
                          </a:lnTo>
                          <a:lnTo>
                            <a:pt x="247" y="126"/>
                          </a:lnTo>
                          <a:lnTo>
                            <a:pt x="242" y="131"/>
                          </a:lnTo>
                          <a:lnTo>
                            <a:pt x="236" y="137"/>
                          </a:lnTo>
                          <a:lnTo>
                            <a:pt x="231" y="142"/>
                          </a:lnTo>
                          <a:lnTo>
                            <a:pt x="226" y="149"/>
                          </a:lnTo>
                          <a:lnTo>
                            <a:pt x="220" y="154"/>
                          </a:lnTo>
                          <a:lnTo>
                            <a:pt x="214" y="159"/>
                          </a:lnTo>
                          <a:lnTo>
                            <a:pt x="207" y="165"/>
                          </a:lnTo>
                          <a:lnTo>
                            <a:pt x="202" y="170"/>
                          </a:lnTo>
                          <a:lnTo>
                            <a:pt x="196" y="176"/>
                          </a:lnTo>
                          <a:lnTo>
                            <a:pt x="190" y="181"/>
                          </a:lnTo>
                          <a:lnTo>
                            <a:pt x="183" y="188"/>
                          </a:lnTo>
                          <a:lnTo>
                            <a:pt x="177" y="194"/>
                          </a:lnTo>
                          <a:lnTo>
                            <a:pt x="170" y="199"/>
                          </a:lnTo>
                          <a:lnTo>
                            <a:pt x="165" y="204"/>
                          </a:lnTo>
                          <a:lnTo>
                            <a:pt x="157" y="210"/>
                          </a:lnTo>
                          <a:lnTo>
                            <a:pt x="151" y="215"/>
                          </a:lnTo>
                          <a:lnTo>
                            <a:pt x="144" y="220"/>
                          </a:lnTo>
                          <a:lnTo>
                            <a:pt x="138" y="226"/>
                          </a:lnTo>
                          <a:lnTo>
                            <a:pt x="132" y="231"/>
                          </a:lnTo>
                          <a:lnTo>
                            <a:pt x="126" y="238"/>
                          </a:lnTo>
                          <a:lnTo>
                            <a:pt x="119" y="243"/>
                          </a:lnTo>
                          <a:lnTo>
                            <a:pt x="112" y="248"/>
                          </a:lnTo>
                          <a:lnTo>
                            <a:pt x="107" y="253"/>
                          </a:lnTo>
                          <a:lnTo>
                            <a:pt x="100" y="258"/>
                          </a:lnTo>
                          <a:lnTo>
                            <a:pt x="94" y="263"/>
                          </a:lnTo>
                          <a:lnTo>
                            <a:pt x="88" y="268"/>
                          </a:lnTo>
                          <a:lnTo>
                            <a:pt x="82" y="273"/>
                          </a:lnTo>
                          <a:lnTo>
                            <a:pt x="77" y="278"/>
                          </a:lnTo>
                          <a:lnTo>
                            <a:pt x="70" y="281"/>
                          </a:lnTo>
                          <a:lnTo>
                            <a:pt x="65" y="285"/>
                          </a:lnTo>
                          <a:lnTo>
                            <a:pt x="59" y="290"/>
                          </a:lnTo>
                          <a:lnTo>
                            <a:pt x="54" y="294"/>
                          </a:lnTo>
                          <a:lnTo>
                            <a:pt x="49" y="298"/>
                          </a:lnTo>
                          <a:lnTo>
                            <a:pt x="44" y="301"/>
                          </a:lnTo>
                          <a:lnTo>
                            <a:pt x="39" y="305"/>
                          </a:lnTo>
                          <a:lnTo>
                            <a:pt x="35" y="309"/>
                          </a:lnTo>
                          <a:lnTo>
                            <a:pt x="30" y="311"/>
                          </a:lnTo>
                          <a:lnTo>
                            <a:pt x="26" y="315"/>
                          </a:lnTo>
                          <a:lnTo>
                            <a:pt x="23" y="318"/>
                          </a:lnTo>
                          <a:lnTo>
                            <a:pt x="19" y="320"/>
                          </a:lnTo>
                          <a:lnTo>
                            <a:pt x="15" y="323"/>
                          </a:lnTo>
                          <a:lnTo>
                            <a:pt x="11" y="325"/>
                          </a:lnTo>
                          <a:lnTo>
                            <a:pt x="9" y="328"/>
                          </a:lnTo>
                          <a:lnTo>
                            <a:pt x="6" y="329"/>
                          </a:lnTo>
                          <a:lnTo>
                            <a:pt x="6" y="329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3908880" y="4613760"/>
                      <a:ext cx="141480" cy="13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8" h="450">
                          <a:moveTo>
                            <a:pt x="103" y="450"/>
                          </a:moveTo>
                          <a:lnTo>
                            <a:pt x="99" y="447"/>
                          </a:lnTo>
                          <a:lnTo>
                            <a:pt x="97" y="446"/>
                          </a:lnTo>
                          <a:lnTo>
                            <a:pt x="93" y="445"/>
                          </a:lnTo>
                          <a:lnTo>
                            <a:pt x="89" y="443"/>
                          </a:lnTo>
                          <a:lnTo>
                            <a:pt x="87" y="442"/>
                          </a:lnTo>
                          <a:lnTo>
                            <a:pt x="83" y="440"/>
                          </a:lnTo>
                          <a:lnTo>
                            <a:pt x="80" y="438"/>
                          </a:lnTo>
                          <a:lnTo>
                            <a:pt x="77" y="437"/>
                          </a:lnTo>
                          <a:lnTo>
                            <a:pt x="74" y="436"/>
                          </a:lnTo>
                          <a:lnTo>
                            <a:pt x="70" y="435"/>
                          </a:lnTo>
                          <a:lnTo>
                            <a:pt x="66" y="433"/>
                          </a:lnTo>
                          <a:lnTo>
                            <a:pt x="64" y="432"/>
                          </a:lnTo>
                          <a:lnTo>
                            <a:pt x="60" y="431"/>
                          </a:lnTo>
                          <a:lnTo>
                            <a:pt x="58" y="428"/>
                          </a:lnTo>
                          <a:lnTo>
                            <a:pt x="54" y="427"/>
                          </a:lnTo>
                          <a:lnTo>
                            <a:pt x="51" y="426"/>
                          </a:lnTo>
                          <a:lnTo>
                            <a:pt x="48" y="425"/>
                          </a:lnTo>
                          <a:lnTo>
                            <a:pt x="45" y="423"/>
                          </a:lnTo>
                          <a:lnTo>
                            <a:pt x="41" y="421"/>
                          </a:lnTo>
                          <a:lnTo>
                            <a:pt x="39" y="420"/>
                          </a:lnTo>
                          <a:lnTo>
                            <a:pt x="35" y="418"/>
                          </a:lnTo>
                          <a:lnTo>
                            <a:pt x="31" y="417"/>
                          </a:lnTo>
                          <a:lnTo>
                            <a:pt x="29" y="416"/>
                          </a:lnTo>
                          <a:lnTo>
                            <a:pt x="26" y="415"/>
                          </a:lnTo>
                          <a:lnTo>
                            <a:pt x="23" y="413"/>
                          </a:lnTo>
                          <a:lnTo>
                            <a:pt x="19" y="412"/>
                          </a:lnTo>
                          <a:lnTo>
                            <a:pt x="15" y="411"/>
                          </a:lnTo>
                          <a:lnTo>
                            <a:pt x="12" y="410"/>
                          </a:lnTo>
                          <a:lnTo>
                            <a:pt x="10" y="408"/>
                          </a:lnTo>
                          <a:lnTo>
                            <a:pt x="6" y="407"/>
                          </a:lnTo>
                          <a:lnTo>
                            <a:pt x="2" y="406"/>
                          </a:lnTo>
                          <a:lnTo>
                            <a:pt x="0" y="405"/>
                          </a:lnTo>
                          <a:lnTo>
                            <a:pt x="2" y="401"/>
                          </a:lnTo>
                          <a:lnTo>
                            <a:pt x="5" y="400"/>
                          </a:lnTo>
                          <a:lnTo>
                            <a:pt x="7" y="398"/>
                          </a:lnTo>
                          <a:lnTo>
                            <a:pt x="11" y="396"/>
                          </a:lnTo>
                          <a:lnTo>
                            <a:pt x="15" y="393"/>
                          </a:lnTo>
                          <a:lnTo>
                            <a:pt x="19" y="392"/>
                          </a:lnTo>
                          <a:lnTo>
                            <a:pt x="23" y="390"/>
                          </a:lnTo>
                          <a:lnTo>
                            <a:pt x="28" y="388"/>
                          </a:lnTo>
                          <a:lnTo>
                            <a:pt x="31" y="386"/>
                          </a:lnTo>
                          <a:lnTo>
                            <a:pt x="35" y="385"/>
                          </a:lnTo>
                          <a:lnTo>
                            <a:pt x="39" y="382"/>
                          </a:lnTo>
                          <a:lnTo>
                            <a:pt x="44" y="381"/>
                          </a:lnTo>
                          <a:lnTo>
                            <a:pt x="48" y="378"/>
                          </a:lnTo>
                          <a:lnTo>
                            <a:pt x="51" y="377"/>
                          </a:lnTo>
                          <a:lnTo>
                            <a:pt x="55" y="375"/>
                          </a:lnTo>
                          <a:lnTo>
                            <a:pt x="60" y="373"/>
                          </a:lnTo>
                          <a:lnTo>
                            <a:pt x="64" y="371"/>
                          </a:lnTo>
                          <a:lnTo>
                            <a:pt x="68" y="370"/>
                          </a:lnTo>
                          <a:lnTo>
                            <a:pt x="72" y="367"/>
                          </a:lnTo>
                          <a:lnTo>
                            <a:pt x="77" y="366"/>
                          </a:lnTo>
                          <a:lnTo>
                            <a:pt x="80" y="363"/>
                          </a:lnTo>
                          <a:lnTo>
                            <a:pt x="84" y="361"/>
                          </a:lnTo>
                          <a:lnTo>
                            <a:pt x="88" y="360"/>
                          </a:lnTo>
                          <a:lnTo>
                            <a:pt x="92" y="357"/>
                          </a:lnTo>
                          <a:lnTo>
                            <a:pt x="95" y="354"/>
                          </a:lnTo>
                          <a:lnTo>
                            <a:pt x="100" y="353"/>
                          </a:lnTo>
                          <a:lnTo>
                            <a:pt x="104" y="351"/>
                          </a:lnTo>
                          <a:lnTo>
                            <a:pt x="108" y="349"/>
                          </a:lnTo>
                          <a:lnTo>
                            <a:pt x="112" y="347"/>
                          </a:lnTo>
                          <a:lnTo>
                            <a:pt x="115" y="344"/>
                          </a:lnTo>
                          <a:lnTo>
                            <a:pt x="119" y="343"/>
                          </a:lnTo>
                          <a:lnTo>
                            <a:pt x="123" y="341"/>
                          </a:lnTo>
                          <a:lnTo>
                            <a:pt x="127" y="338"/>
                          </a:lnTo>
                          <a:lnTo>
                            <a:pt x="132" y="337"/>
                          </a:lnTo>
                          <a:lnTo>
                            <a:pt x="136" y="334"/>
                          </a:lnTo>
                          <a:lnTo>
                            <a:pt x="139" y="332"/>
                          </a:lnTo>
                          <a:lnTo>
                            <a:pt x="143" y="329"/>
                          </a:lnTo>
                          <a:lnTo>
                            <a:pt x="147" y="327"/>
                          </a:lnTo>
                          <a:lnTo>
                            <a:pt x="151" y="324"/>
                          </a:lnTo>
                          <a:lnTo>
                            <a:pt x="154" y="323"/>
                          </a:lnTo>
                          <a:lnTo>
                            <a:pt x="158" y="321"/>
                          </a:lnTo>
                          <a:lnTo>
                            <a:pt x="162" y="318"/>
                          </a:lnTo>
                          <a:lnTo>
                            <a:pt x="166" y="316"/>
                          </a:lnTo>
                          <a:lnTo>
                            <a:pt x="169" y="313"/>
                          </a:lnTo>
                          <a:lnTo>
                            <a:pt x="173" y="311"/>
                          </a:lnTo>
                          <a:lnTo>
                            <a:pt x="177" y="308"/>
                          </a:lnTo>
                          <a:lnTo>
                            <a:pt x="181" y="306"/>
                          </a:lnTo>
                          <a:lnTo>
                            <a:pt x="185" y="303"/>
                          </a:lnTo>
                          <a:lnTo>
                            <a:pt x="188" y="301"/>
                          </a:lnTo>
                          <a:lnTo>
                            <a:pt x="192" y="298"/>
                          </a:lnTo>
                          <a:lnTo>
                            <a:pt x="196" y="296"/>
                          </a:lnTo>
                          <a:lnTo>
                            <a:pt x="198" y="293"/>
                          </a:lnTo>
                          <a:lnTo>
                            <a:pt x="202" y="291"/>
                          </a:lnTo>
                          <a:lnTo>
                            <a:pt x="206" y="288"/>
                          </a:lnTo>
                          <a:lnTo>
                            <a:pt x="210" y="286"/>
                          </a:lnTo>
                          <a:lnTo>
                            <a:pt x="212" y="283"/>
                          </a:lnTo>
                          <a:lnTo>
                            <a:pt x="216" y="279"/>
                          </a:lnTo>
                          <a:lnTo>
                            <a:pt x="220" y="277"/>
                          </a:lnTo>
                          <a:lnTo>
                            <a:pt x="223" y="274"/>
                          </a:lnTo>
                          <a:lnTo>
                            <a:pt x="227" y="272"/>
                          </a:lnTo>
                          <a:lnTo>
                            <a:pt x="230" y="268"/>
                          </a:lnTo>
                          <a:lnTo>
                            <a:pt x="234" y="266"/>
                          </a:lnTo>
                          <a:lnTo>
                            <a:pt x="236" y="263"/>
                          </a:lnTo>
                          <a:lnTo>
                            <a:pt x="240" y="259"/>
                          </a:lnTo>
                          <a:lnTo>
                            <a:pt x="244" y="257"/>
                          </a:lnTo>
                          <a:lnTo>
                            <a:pt x="246" y="254"/>
                          </a:lnTo>
                          <a:lnTo>
                            <a:pt x="250" y="251"/>
                          </a:lnTo>
                          <a:lnTo>
                            <a:pt x="254" y="248"/>
                          </a:lnTo>
                          <a:lnTo>
                            <a:pt x="255" y="246"/>
                          </a:lnTo>
                          <a:lnTo>
                            <a:pt x="256" y="243"/>
                          </a:lnTo>
                          <a:lnTo>
                            <a:pt x="257" y="241"/>
                          </a:lnTo>
                          <a:lnTo>
                            <a:pt x="260" y="239"/>
                          </a:lnTo>
                          <a:lnTo>
                            <a:pt x="260" y="237"/>
                          </a:lnTo>
                          <a:lnTo>
                            <a:pt x="261" y="234"/>
                          </a:lnTo>
                          <a:lnTo>
                            <a:pt x="264" y="232"/>
                          </a:lnTo>
                          <a:lnTo>
                            <a:pt x="265" y="229"/>
                          </a:lnTo>
                          <a:lnTo>
                            <a:pt x="266" y="227"/>
                          </a:lnTo>
                          <a:lnTo>
                            <a:pt x="267" y="224"/>
                          </a:lnTo>
                          <a:lnTo>
                            <a:pt x="269" y="222"/>
                          </a:lnTo>
                          <a:lnTo>
                            <a:pt x="271" y="221"/>
                          </a:lnTo>
                          <a:lnTo>
                            <a:pt x="272" y="218"/>
                          </a:lnTo>
                          <a:lnTo>
                            <a:pt x="274" y="216"/>
                          </a:lnTo>
                          <a:lnTo>
                            <a:pt x="275" y="213"/>
                          </a:lnTo>
                          <a:lnTo>
                            <a:pt x="276" y="211"/>
                          </a:lnTo>
                          <a:lnTo>
                            <a:pt x="277" y="208"/>
                          </a:lnTo>
                          <a:lnTo>
                            <a:pt x="277" y="205"/>
                          </a:lnTo>
                          <a:lnTo>
                            <a:pt x="279" y="203"/>
                          </a:lnTo>
                          <a:lnTo>
                            <a:pt x="280" y="200"/>
                          </a:lnTo>
                          <a:lnTo>
                            <a:pt x="280" y="198"/>
                          </a:lnTo>
                          <a:lnTo>
                            <a:pt x="281" y="195"/>
                          </a:lnTo>
                          <a:lnTo>
                            <a:pt x="283" y="193"/>
                          </a:lnTo>
                          <a:lnTo>
                            <a:pt x="283" y="190"/>
                          </a:lnTo>
                          <a:lnTo>
                            <a:pt x="283" y="188"/>
                          </a:lnTo>
                          <a:lnTo>
                            <a:pt x="283" y="185"/>
                          </a:lnTo>
                          <a:lnTo>
                            <a:pt x="283" y="182"/>
                          </a:lnTo>
                          <a:lnTo>
                            <a:pt x="284" y="179"/>
                          </a:lnTo>
                          <a:lnTo>
                            <a:pt x="283" y="177"/>
                          </a:lnTo>
                          <a:lnTo>
                            <a:pt x="283" y="174"/>
                          </a:lnTo>
                          <a:lnTo>
                            <a:pt x="283" y="172"/>
                          </a:lnTo>
                          <a:lnTo>
                            <a:pt x="283" y="169"/>
                          </a:lnTo>
                          <a:lnTo>
                            <a:pt x="281" y="164"/>
                          </a:lnTo>
                          <a:lnTo>
                            <a:pt x="280" y="160"/>
                          </a:lnTo>
                          <a:lnTo>
                            <a:pt x="279" y="157"/>
                          </a:lnTo>
                          <a:lnTo>
                            <a:pt x="277" y="153"/>
                          </a:lnTo>
                          <a:lnTo>
                            <a:pt x="276" y="149"/>
                          </a:lnTo>
                          <a:lnTo>
                            <a:pt x="274" y="145"/>
                          </a:lnTo>
                          <a:lnTo>
                            <a:pt x="272" y="143"/>
                          </a:lnTo>
                          <a:lnTo>
                            <a:pt x="271" y="140"/>
                          </a:lnTo>
                          <a:lnTo>
                            <a:pt x="269" y="137"/>
                          </a:lnTo>
                          <a:lnTo>
                            <a:pt x="266" y="134"/>
                          </a:lnTo>
                          <a:lnTo>
                            <a:pt x="262" y="132"/>
                          </a:lnTo>
                          <a:lnTo>
                            <a:pt x="260" y="129"/>
                          </a:lnTo>
                          <a:lnTo>
                            <a:pt x="257" y="128"/>
                          </a:lnTo>
                          <a:lnTo>
                            <a:pt x="255" y="125"/>
                          </a:lnTo>
                          <a:lnTo>
                            <a:pt x="251" y="123"/>
                          </a:lnTo>
                          <a:lnTo>
                            <a:pt x="249" y="122"/>
                          </a:lnTo>
                          <a:lnTo>
                            <a:pt x="245" y="120"/>
                          </a:lnTo>
                          <a:lnTo>
                            <a:pt x="242" y="118"/>
                          </a:lnTo>
                          <a:lnTo>
                            <a:pt x="239" y="117"/>
                          </a:lnTo>
                          <a:lnTo>
                            <a:pt x="235" y="115"/>
                          </a:lnTo>
                          <a:lnTo>
                            <a:pt x="231" y="114"/>
                          </a:lnTo>
                          <a:lnTo>
                            <a:pt x="229" y="113"/>
                          </a:lnTo>
                          <a:lnTo>
                            <a:pt x="225" y="112"/>
                          </a:lnTo>
                          <a:lnTo>
                            <a:pt x="221" y="110"/>
                          </a:lnTo>
                          <a:lnTo>
                            <a:pt x="217" y="109"/>
                          </a:lnTo>
                          <a:lnTo>
                            <a:pt x="215" y="108"/>
                          </a:lnTo>
                          <a:lnTo>
                            <a:pt x="211" y="107"/>
                          </a:lnTo>
                          <a:lnTo>
                            <a:pt x="207" y="105"/>
                          </a:lnTo>
                          <a:lnTo>
                            <a:pt x="203" y="104"/>
                          </a:lnTo>
                          <a:lnTo>
                            <a:pt x="200" y="103"/>
                          </a:lnTo>
                          <a:lnTo>
                            <a:pt x="197" y="102"/>
                          </a:lnTo>
                          <a:lnTo>
                            <a:pt x="193" y="102"/>
                          </a:lnTo>
                          <a:lnTo>
                            <a:pt x="190" y="100"/>
                          </a:lnTo>
                          <a:lnTo>
                            <a:pt x="186" y="99"/>
                          </a:lnTo>
                          <a:lnTo>
                            <a:pt x="182" y="98"/>
                          </a:lnTo>
                          <a:lnTo>
                            <a:pt x="180" y="97"/>
                          </a:lnTo>
                          <a:lnTo>
                            <a:pt x="176" y="95"/>
                          </a:lnTo>
                          <a:lnTo>
                            <a:pt x="172" y="94"/>
                          </a:lnTo>
                          <a:lnTo>
                            <a:pt x="168" y="94"/>
                          </a:lnTo>
                          <a:lnTo>
                            <a:pt x="166" y="93"/>
                          </a:lnTo>
                          <a:lnTo>
                            <a:pt x="162" y="92"/>
                          </a:lnTo>
                          <a:lnTo>
                            <a:pt x="158" y="92"/>
                          </a:lnTo>
                          <a:lnTo>
                            <a:pt x="154" y="90"/>
                          </a:lnTo>
                          <a:lnTo>
                            <a:pt x="151" y="89"/>
                          </a:lnTo>
                          <a:lnTo>
                            <a:pt x="148" y="88"/>
                          </a:lnTo>
                          <a:lnTo>
                            <a:pt x="144" y="88"/>
                          </a:lnTo>
                          <a:lnTo>
                            <a:pt x="141" y="87"/>
                          </a:lnTo>
                          <a:lnTo>
                            <a:pt x="137" y="85"/>
                          </a:lnTo>
                          <a:lnTo>
                            <a:pt x="134" y="84"/>
                          </a:lnTo>
                          <a:lnTo>
                            <a:pt x="131" y="84"/>
                          </a:lnTo>
                          <a:lnTo>
                            <a:pt x="127" y="83"/>
                          </a:lnTo>
                          <a:lnTo>
                            <a:pt x="123" y="82"/>
                          </a:lnTo>
                          <a:lnTo>
                            <a:pt x="119" y="80"/>
                          </a:lnTo>
                          <a:lnTo>
                            <a:pt x="115" y="80"/>
                          </a:lnTo>
                          <a:lnTo>
                            <a:pt x="112" y="79"/>
                          </a:lnTo>
                          <a:lnTo>
                            <a:pt x="109" y="78"/>
                          </a:lnTo>
                          <a:lnTo>
                            <a:pt x="105" y="77"/>
                          </a:lnTo>
                          <a:lnTo>
                            <a:pt x="102" y="77"/>
                          </a:lnTo>
                          <a:lnTo>
                            <a:pt x="98" y="75"/>
                          </a:lnTo>
                          <a:lnTo>
                            <a:pt x="94" y="74"/>
                          </a:lnTo>
                          <a:lnTo>
                            <a:pt x="92" y="73"/>
                          </a:lnTo>
                          <a:lnTo>
                            <a:pt x="88" y="72"/>
                          </a:lnTo>
                          <a:lnTo>
                            <a:pt x="84" y="70"/>
                          </a:lnTo>
                          <a:lnTo>
                            <a:pt x="82" y="70"/>
                          </a:lnTo>
                          <a:lnTo>
                            <a:pt x="78" y="69"/>
                          </a:lnTo>
                          <a:lnTo>
                            <a:pt x="74" y="68"/>
                          </a:lnTo>
                          <a:lnTo>
                            <a:pt x="70" y="67"/>
                          </a:lnTo>
                          <a:lnTo>
                            <a:pt x="66" y="65"/>
                          </a:lnTo>
                          <a:lnTo>
                            <a:pt x="63" y="64"/>
                          </a:lnTo>
                          <a:lnTo>
                            <a:pt x="60" y="63"/>
                          </a:lnTo>
                          <a:lnTo>
                            <a:pt x="56" y="62"/>
                          </a:lnTo>
                          <a:lnTo>
                            <a:pt x="54" y="60"/>
                          </a:lnTo>
                          <a:lnTo>
                            <a:pt x="50" y="59"/>
                          </a:lnTo>
                          <a:lnTo>
                            <a:pt x="46" y="58"/>
                          </a:lnTo>
                          <a:lnTo>
                            <a:pt x="44" y="57"/>
                          </a:lnTo>
                          <a:lnTo>
                            <a:pt x="40" y="55"/>
                          </a:lnTo>
                          <a:lnTo>
                            <a:pt x="36" y="54"/>
                          </a:lnTo>
                          <a:lnTo>
                            <a:pt x="34" y="53"/>
                          </a:lnTo>
                          <a:lnTo>
                            <a:pt x="30" y="50"/>
                          </a:lnTo>
                          <a:lnTo>
                            <a:pt x="28" y="49"/>
                          </a:lnTo>
                          <a:lnTo>
                            <a:pt x="31" y="46"/>
                          </a:lnTo>
                          <a:lnTo>
                            <a:pt x="35" y="45"/>
                          </a:lnTo>
                          <a:lnTo>
                            <a:pt x="39" y="43"/>
                          </a:lnTo>
                          <a:lnTo>
                            <a:pt x="43" y="41"/>
                          </a:lnTo>
                          <a:lnTo>
                            <a:pt x="46" y="39"/>
                          </a:lnTo>
                          <a:lnTo>
                            <a:pt x="51" y="36"/>
                          </a:lnTo>
                          <a:lnTo>
                            <a:pt x="54" y="35"/>
                          </a:lnTo>
                          <a:lnTo>
                            <a:pt x="56" y="34"/>
                          </a:lnTo>
                          <a:lnTo>
                            <a:pt x="58" y="33"/>
                          </a:lnTo>
                          <a:lnTo>
                            <a:pt x="60" y="31"/>
                          </a:lnTo>
                          <a:lnTo>
                            <a:pt x="63" y="30"/>
                          </a:lnTo>
                          <a:lnTo>
                            <a:pt x="65" y="29"/>
                          </a:lnTo>
                          <a:lnTo>
                            <a:pt x="68" y="26"/>
                          </a:lnTo>
                          <a:lnTo>
                            <a:pt x="70" y="25"/>
                          </a:lnTo>
                          <a:lnTo>
                            <a:pt x="73" y="24"/>
                          </a:lnTo>
                          <a:lnTo>
                            <a:pt x="75" y="21"/>
                          </a:lnTo>
                          <a:lnTo>
                            <a:pt x="77" y="20"/>
                          </a:lnTo>
                          <a:lnTo>
                            <a:pt x="80" y="18"/>
                          </a:lnTo>
                          <a:lnTo>
                            <a:pt x="83" y="16"/>
                          </a:lnTo>
                          <a:lnTo>
                            <a:pt x="85" y="14"/>
                          </a:lnTo>
                          <a:lnTo>
                            <a:pt x="88" y="11"/>
                          </a:lnTo>
                          <a:lnTo>
                            <a:pt x="89" y="10"/>
                          </a:lnTo>
                          <a:lnTo>
                            <a:pt x="92" y="8"/>
                          </a:lnTo>
                          <a:lnTo>
                            <a:pt x="95" y="5"/>
                          </a:lnTo>
                          <a:lnTo>
                            <a:pt x="98" y="3"/>
                          </a:lnTo>
                          <a:lnTo>
                            <a:pt x="100" y="0"/>
                          </a:lnTo>
                          <a:lnTo>
                            <a:pt x="102" y="0"/>
                          </a:lnTo>
                          <a:lnTo>
                            <a:pt x="104" y="0"/>
                          </a:lnTo>
                          <a:lnTo>
                            <a:pt x="107" y="1"/>
                          </a:lnTo>
                          <a:lnTo>
                            <a:pt x="109" y="3"/>
                          </a:lnTo>
                          <a:lnTo>
                            <a:pt x="112" y="4"/>
                          </a:lnTo>
                          <a:lnTo>
                            <a:pt x="115" y="6"/>
                          </a:lnTo>
                          <a:lnTo>
                            <a:pt x="119" y="8"/>
                          </a:lnTo>
                          <a:lnTo>
                            <a:pt x="123" y="10"/>
                          </a:lnTo>
                          <a:lnTo>
                            <a:pt x="127" y="11"/>
                          </a:lnTo>
                          <a:lnTo>
                            <a:pt x="132" y="14"/>
                          </a:lnTo>
                          <a:lnTo>
                            <a:pt x="137" y="16"/>
                          </a:lnTo>
                          <a:lnTo>
                            <a:pt x="142" y="19"/>
                          </a:lnTo>
                          <a:lnTo>
                            <a:pt x="147" y="21"/>
                          </a:lnTo>
                          <a:lnTo>
                            <a:pt x="153" y="24"/>
                          </a:lnTo>
                          <a:lnTo>
                            <a:pt x="158" y="28"/>
                          </a:lnTo>
                          <a:lnTo>
                            <a:pt x="164" y="30"/>
                          </a:lnTo>
                          <a:lnTo>
                            <a:pt x="169" y="33"/>
                          </a:lnTo>
                          <a:lnTo>
                            <a:pt x="176" y="36"/>
                          </a:lnTo>
                          <a:lnTo>
                            <a:pt x="182" y="39"/>
                          </a:lnTo>
                          <a:lnTo>
                            <a:pt x="188" y="43"/>
                          </a:lnTo>
                          <a:lnTo>
                            <a:pt x="195" y="46"/>
                          </a:lnTo>
                          <a:lnTo>
                            <a:pt x="201" y="49"/>
                          </a:lnTo>
                          <a:lnTo>
                            <a:pt x="208" y="53"/>
                          </a:lnTo>
                          <a:lnTo>
                            <a:pt x="215" y="57"/>
                          </a:lnTo>
                          <a:lnTo>
                            <a:pt x="222" y="60"/>
                          </a:lnTo>
                          <a:lnTo>
                            <a:pt x="229" y="64"/>
                          </a:lnTo>
                          <a:lnTo>
                            <a:pt x="236" y="68"/>
                          </a:lnTo>
                          <a:lnTo>
                            <a:pt x="244" y="72"/>
                          </a:lnTo>
                          <a:lnTo>
                            <a:pt x="250" y="75"/>
                          </a:lnTo>
                          <a:lnTo>
                            <a:pt x="257" y="79"/>
                          </a:lnTo>
                          <a:lnTo>
                            <a:pt x="264" y="83"/>
                          </a:lnTo>
                          <a:lnTo>
                            <a:pt x="271" y="87"/>
                          </a:lnTo>
                          <a:lnTo>
                            <a:pt x="277" y="90"/>
                          </a:lnTo>
                          <a:lnTo>
                            <a:pt x="285" y="94"/>
                          </a:lnTo>
                          <a:lnTo>
                            <a:pt x="291" y="98"/>
                          </a:lnTo>
                          <a:lnTo>
                            <a:pt x="299" y="102"/>
                          </a:lnTo>
                          <a:lnTo>
                            <a:pt x="305" y="105"/>
                          </a:lnTo>
                          <a:lnTo>
                            <a:pt x="313" y="109"/>
                          </a:lnTo>
                          <a:lnTo>
                            <a:pt x="319" y="112"/>
                          </a:lnTo>
                          <a:lnTo>
                            <a:pt x="325" y="115"/>
                          </a:lnTo>
                          <a:lnTo>
                            <a:pt x="332" y="119"/>
                          </a:lnTo>
                          <a:lnTo>
                            <a:pt x="339" y="123"/>
                          </a:lnTo>
                          <a:lnTo>
                            <a:pt x="344" y="125"/>
                          </a:lnTo>
                          <a:lnTo>
                            <a:pt x="350" y="129"/>
                          </a:lnTo>
                          <a:lnTo>
                            <a:pt x="355" y="132"/>
                          </a:lnTo>
                          <a:lnTo>
                            <a:pt x="362" y="135"/>
                          </a:lnTo>
                          <a:lnTo>
                            <a:pt x="367" y="138"/>
                          </a:lnTo>
                          <a:lnTo>
                            <a:pt x="373" y="142"/>
                          </a:lnTo>
                          <a:lnTo>
                            <a:pt x="377" y="144"/>
                          </a:lnTo>
                          <a:lnTo>
                            <a:pt x="382" y="147"/>
                          </a:lnTo>
                          <a:lnTo>
                            <a:pt x="387" y="149"/>
                          </a:lnTo>
                          <a:lnTo>
                            <a:pt x="391" y="152"/>
                          </a:lnTo>
                          <a:lnTo>
                            <a:pt x="394" y="154"/>
                          </a:lnTo>
                          <a:lnTo>
                            <a:pt x="398" y="155"/>
                          </a:lnTo>
                          <a:lnTo>
                            <a:pt x="402" y="158"/>
                          </a:lnTo>
                          <a:lnTo>
                            <a:pt x="406" y="160"/>
                          </a:lnTo>
                          <a:lnTo>
                            <a:pt x="408" y="162"/>
                          </a:lnTo>
                          <a:lnTo>
                            <a:pt x="411" y="163"/>
                          </a:lnTo>
                          <a:lnTo>
                            <a:pt x="413" y="164"/>
                          </a:lnTo>
                          <a:lnTo>
                            <a:pt x="414" y="165"/>
                          </a:lnTo>
                          <a:lnTo>
                            <a:pt x="417" y="168"/>
                          </a:lnTo>
                          <a:lnTo>
                            <a:pt x="418" y="169"/>
                          </a:lnTo>
                          <a:lnTo>
                            <a:pt x="413" y="173"/>
                          </a:lnTo>
                          <a:lnTo>
                            <a:pt x="408" y="177"/>
                          </a:lnTo>
                          <a:lnTo>
                            <a:pt x="403" y="182"/>
                          </a:lnTo>
                          <a:lnTo>
                            <a:pt x="399" y="187"/>
                          </a:lnTo>
                          <a:lnTo>
                            <a:pt x="394" y="190"/>
                          </a:lnTo>
                          <a:lnTo>
                            <a:pt x="389" y="195"/>
                          </a:lnTo>
                          <a:lnTo>
                            <a:pt x="384" y="199"/>
                          </a:lnTo>
                          <a:lnTo>
                            <a:pt x="380" y="204"/>
                          </a:lnTo>
                          <a:lnTo>
                            <a:pt x="375" y="208"/>
                          </a:lnTo>
                          <a:lnTo>
                            <a:pt x="370" y="213"/>
                          </a:lnTo>
                          <a:lnTo>
                            <a:pt x="365" y="218"/>
                          </a:lnTo>
                          <a:lnTo>
                            <a:pt x="360" y="222"/>
                          </a:lnTo>
                          <a:lnTo>
                            <a:pt x="355" y="226"/>
                          </a:lnTo>
                          <a:lnTo>
                            <a:pt x="350" y="231"/>
                          </a:lnTo>
                          <a:lnTo>
                            <a:pt x="345" y="236"/>
                          </a:lnTo>
                          <a:lnTo>
                            <a:pt x="342" y="239"/>
                          </a:lnTo>
                          <a:lnTo>
                            <a:pt x="337" y="244"/>
                          </a:lnTo>
                          <a:lnTo>
                            <a:pt x="332" y="248"/>
                          </a:lnTo>
                          <a:lnTo>
                            <a:pt x="326" y="253"/>
                          </a:lnTo>
                          <a:lnTo>
                            <a:pt x="321" y="257"/>
                          </a:lnTo>
                          <a:lnTo>
                            <a:pt x="316" y="262"/>
                          </a:lnTo>
                          <a:lnTo>
                            <a:pt x="311" y="266"/>
                          </a:lnTo>
                          <a:lnTo>
                            <a:pt x="306" y="271"/>
                          </a:lnTo>
                          <a:lnTo>
                            <a:pt x="301" y="274"/>
                          </a:lnTo>
                          <a:lnTo>
                            <a:pt x="296" y="279"/>
                          </a:lnTo>
                          <a:lnTo>
                            <a:pt x="291" y="283"/>
                          </a:lnTo>
                          <a:lnTo>
                            <a:pt x="286" y="288"/>
                          </a:lnTo>
                          <a:lnTo>
                            <a:pt x="281" y="292"/>
                          </a:lnTo>
                          <a:lnTo>
                            <a:pt x="276" y="297"/>
                          </a:lnTo>
                          <a:lnTo>
                            <a:pt x="272" y="301"/>
                          </a:lnTo>
                          <a:lnTo>
                            <a:pt x="267" y="306"/>
                          </a:lnTo>
                          <a:lnTo>
                            <a:pt x="262" y="309"/>
                          </a:lnTo>
                          <a:lnTo>
                            <a:pt x="257" y="314"/>
                          </a:lnTo>
                          <a:lnTo>
                            <a:pt x="252" y="318"/>
                          </a:lnTo>
                          <a:lnTo>
                            <a:pt x="246" y="322"/>
                          </a:lnTo>
                          <a:lnTo>
                            <a:pt x="242" y="327"/>
                          </a:lnTo>
                          <a:lnTo>
                            <a:pt x="236" y="331"/>
                          </a:lnTo>
                          <a:lnTo>
                            <a:pt x="231" y="336"/>
                          </a:lnTo>
                          <a:lnTo>
                            <a:pt x="227" y="339"/>
                          </a:lnTo>
                          <a:lnTo>
                            <a:pt x="222" y="344"/>
                          </a:lnTo>
                          <a:lnTo>
                            <a:pt x="216" y="348"/>
                          </a:lnTo>
                          <a:lnTo>
                            <a:pt x="212" y="353"/>
                          </a:lnTo>
                          <a:lnTo>
                            <a:pt x="206" y="357"/>
                          </a:lnTo>
                          <a:lnTo>
                            <a:pt x="201" y="362"/>
                          </a:lnTo>
                          <a:lnTo>
                            <a:pt x="197" y="366"/>
                          </a:lnTo>
                          <a:lnTo>
                            <a:pt x="192" y="370"/>
                          </a:lnTo>
                          <a:lnTo>
                            <a:pt x="187" y="375"/>
                          </a:lnTo>
                          <a:lnTo>
                            <a:pt x="182" y="380"/>
                          </a:lnTo>
                          <a:lnTo>
                            <a:pt x="177" y="383"/>
                          </a:lnTo>
                          <a:lnTo>
                            <a:pt x="172" y="387"/>
                          </a:lnTo>
                          <a:lnTo>
                            <a:pt x="167" y="392"/>
                          </a:lnTo>
                          <a:lnTo>
                            <a:pt x="162" y="396"/>
                          </a:lnTo>
                          <a:lnTo>
                            <a:pt x="157" y="401"/>
                          </a:lnTo>
                          <a:lnTo>
                            <a:pt x="152" y="405"/>
                          </a:lnTo>
                          <a:lnTo>
                            <a:pt x="147" y="410"/>
                          </a:lnTo>
                          <a:lnTo>
                            <a:pt x="142" y="413"/>
                          </a:lnTo>
                          <a:lnTo>
                            <a:pt x="137" y="417"/>
                          </a:lnTo>
                          <a:lnTo>
                            <a:pt x="132" y="422"/>
                          </a:lnTo>
                          <a:lnTo>
                            <a:pt x="127" y="427"/>
                          </a:lnTo>
                          <a:lnTo>
                            <a:pt x="122" y="431"/>
                          </a:lnTo>
                          <a:lnTo>
                            <a:pt x="118" y="435"/>
                          </a:lnTo>
                          <a:lnTo>
                            <a:pt x="113" y="440"/>
                          </a:lnTo>
                          <a:lnTo>
                            <a:pt x="108" y="445"/>
                          </a:lnTo>
                          <a:lnTo>
                            <a:pt x="103" y="450"/>
                          </a:lnTo>
                          <a:lnTo>
                            <a:pt x="103" y="450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3754080" y="4718520"/>
                      <a:ext cx="374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49">
                          <a:moveTo>
                            <a:pt x="101" y="49"/>
                          </a:moveTo>
                          <a:lnTo>
                            <a:pt x="98" y="48"/>
                          </a:lnTo>
                          <a:lnTo>
                            <a:pt x="95" y="47"/>
                          </a:lnTo>
                          <a:lnTo>
                            <a:pt x="93" y="45"/>
                          </a:lnTo>
                          <a:lnTo>
                            <a:pt x="89" y="45"/>
                          </a:lnTo>
                          <a:lnTo>
                            <a:pt x="86" y="44"/>
                          </a:lnTo>
                          <a:lnTo>
                            <a:pt x="83" y="43"/>
                          </a:lnTo>
                          <a:lnTo>
                            <a:pt x="80" y="43"/>
                          </a:lnTo>
                          <a:lnTo>
                            <a:pt x="78" y="42"/>
                          </a:lnTo>
                          <a:lnTo>
                            <a:pt x="74" y="40"/>
                          </a:lnTo>
                          <a:lnTo>
                            <a:pt x="71" y="39"/>
                          </a:lnTo>
                          <a:lnTo>
                            <a:pt x="68" y="38"/>
                          </a:lnTo>
                          <a:lnTo>
                            <a:pt x="65" y="38"/>
                          </a:lnTo>
                          <a:lnTo>
                            <a:pt x="61" y="37"/>
                          </a:lnTo>
                          <a:lnTo>
                            <a:pt x="59" y="35"/>
                          </a:lnTo>
                          <a:lnTo>
                            <a:pt x="55" y="34"/>
                          </a:lnTo>
                          <a:lnTo>
                            <a:pt x="52" y="34"/>
                          </a:lnTo>
                          <a:lnTo>
                            <a:pt x="49" y="33"/>
                          </a:lnTo>
                          <a:lnTo>
                            <a:pt x="46" y="32"/>
                          </a:lnTo>
                          <a:lnTo>
                            <a:pt x="42" y="30"/>
                          </a:lnTo>
                          <a:lnTo>
                            <a:pt x="39" y="29"/>
                          </a:lnTo>
                          <a:lnTo>
                            <a:pt x="36" y="28"/>
                          </a:lnTo>
                          <a:lnTo>
                            <a:pt x="32" y="28"/>
                          </a:lnTo>
                          <a:lnTo>
                            <a:pt x="29" y="25"/>
                          </a:lnTo>
                          <a:lnTo>
                            <a:pt x="26" y="25"/>
                          </a:lnTo>
                          <a:lnTo>
                            <a:pt x="22" y="24"/>
                          </a:lnTo>
                          <a:lnTo>
                            <a:pt x="19" y="23"/>
                          </a:lnTo>
                          <a:lnTo>
                            <a:pt x="16" y="22"/>
                          </a:lnTo>
                          <a:lnTo>
                            <a:pt x="12" y="20"/>
                          </a:lnTo>
                          <a:lnTo>
                            <a:pt x="9" y="19"/>
                          </a:lnTo>
                          <a:lnTo>
                            <a:pt x="6" y="18"/>
                          </a:lnTo>
                          <a:lnTo>
                            <a:pt x="2" y="17"/>
                          </a:lnTo>
                          <a:lnTo>
                            <a:pt x="0" y="15"/>
                          </a:lnTo>
                          <a:lnTo>
                            <a:pt x="7" y="0"/>
                          </a:lnTo>
                          <a:lnTo>
                            <a:pt x="110" y="29"/>
                          </a:lnTo>
                          <a:lnTo>
                            <a:pt x="112" y="32"/>
                          </a:lnTo>
                          <a:lnTo>
                            <a:pt x="112" y="34"/>
                          </a:lnTo>
                          <a:lnTo>
                            <a:pt x="110" y="37"/>
                          </a:lnTo>
                          <a:lnTo>
                            <a:pt x="110" y="40"/>
                          </a:lnTo>
                          <a:lnTo>
                            <a:pt x="108" y="43"/>
                          </a:lnTo>
                          <a:lnTo>
                            <a:pt x="105" y="45"/>
                          </a:lnTo>
                          <a:lnTo>
                            <a:pt x="103" y="48"/>
                          </a:lnTo>
                          <a:lnTo>
                            <a:pt x="101" y="49"/>
                          </a:lnTo>
                          <a:lnTo>
                            <a:pt x="101" y="4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764160" y="4706280"/>
                      <a:ext cx="4464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62">
                          <a:moveTo>
                            <a:pt x="3" y="17"/>
                          </a:moveTo>
                          <a:lnTo>
                            <a:pt x="0" y="15"/>
                          </a:lnTo>
                          <a:lnTo>
                            <a:pt x="0" y="12"/>
                          </a:lnTo>
                          <a:lnTo>
                            <a:pt x="0" y="10"/>
                          </a:lnTo>
                          <a:lnTo>
                            <a:pt x="1" y="7"/>
                          </a:lnTo>
                          <a:lnTo>
                            <a:pt x="3" y="5"/>
                          </a:lnTo>
                          <a:lnTo>
                            <a:pt x="4" y="2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10" y="0"/>
                          </a:lnTo>
                          <a:lnTo>
                            <a:pt x="14" y="1"/>
                          </a:lnTo>
                          <a:lnTo>
                            <a:pt x="19" y="2"/>
                          </a:lnTo>
                          <a:lnTo>
                            <a:pt x="23" y="3"/>
                          </a:lnTo>
                          <a:lnTo>
                            <a:pt x="26" y="5"/>
                          </a:lnTo>
                          <a:lnTo>
                            <a:pt x="30" y="6"/>
                          </a:lnTo>
                          <a:lnTo>
                            <a:pt x="34" y="7"/>
                          </a:lnTo>
                          <a:lnTo>
                            <a:pt x="38" y="8"/>
                          </a:lnTo>
                          <a:lnTo>
                            <a:pt x="42" y="10"/>
                          </a:lnTo>
                          <a:lnTo>
                            <a:pt x="47" y="11"/>
                          </a:lnTo>
                          <a:lnTo>
                            <a:pt x="50" y="12"/>
                          </a:lnTo>
                          <a:lnTo>
                            <a:pt x="54" y="13"/>
                          </a:lnTo>
                          <a:lnTo>
                            <a:pt x="58" y="15"/>
                          </a:lnTo>
                          <a:lnTo>
                            <a:pt x="63" y="16"/>
                          </a:lnTo>
                          <a:lnTo>
                            <a:pt x="67" y="18"/>
                          </a:lnTo>
                          <a:lnTo>
                            <a:pt x="70" y="20"/>
                          </a:lnTo>
                          <a:lnTo>
                            <a:pt x="74" y="21"/>
                          </a:lnTo>
                          <a:lnTo>
                            <a:pt x="79" y="22"/>
                          </a:lnTo>
                          <a:lnTo>
                            <a:pt x="83" y="23"/>
                          </a:lnTo>
                          <a:lnTo>
                            <a:pt x="87" y="26"/>
                          </a:lnTo>
                          <a:lnTo>
                            <a:pt x="91" y="27"/>
                          </a:lnTo>
                          <a:lnTo>
                            <a:pt x="94" y="28"/>
                          </a:lnTo>
                          <a:lnTo>
                            <a:pt x="99" y="31"/>
                          </a:lnTo>
                          <a:lnTo>
                            <a:pt x="103" y="32"/>
                          </a:lnTo>
                          <a:lnTo>
                            <a:pt x="107" y="35"/>
                          </a:lnTo>
                          <a:lnTo>
                            <a:pt x="111" y="36"/>
                          </a:lnTo>
                          <a:lnTo>
                            <a:pt x="114" y="37"/>
                          </a:lnTo>
                          <a:lnTo>
                            <a:pt x="118" y="40"/>
                          </a:lnTo>
                          <a:lnTo>
                            <a:pt x="122" y="42"/>
                          </a:lnTo>
                          <a:lnTo>
                            <a:pt x="126" y="44"/>
                          </a:lnTo>
                          <a:lnTo>
                            <a:pt x="129" y="46"/>
                          </a:lnTo>
                          <a:lnTo>
                            <a:pt x="133" y="49"/>
                          </a:lnTo>
                          <a:lnTo>
                            <a:pt x="121" y="62"/>
                          </a:lnTo>
                          <a:lnTo>
                            <a:pt x="119" y="62"/>
                          </a:lnTo>
                          <a:lnTo>
                            <a:pt x="118" y="61"/>
                          </a:lnTo>
                          <a:lnTo>
                            <a:pt x="116" y="61"/>
                          </a:lnTo>
                          <a:lnTo>
                            <a:pt x="114" y="60"/>
                          </a:lnTo>
                          <a:lnTo>
                            <a:pt x="112" y="59"/>
                          </a:lnTo>
                          <a:lnTo>
                            <a:pt x="108" y="59"/>
                          </a:lnTo>
                          <a:lnTo>
                            <a:pt x="104" y="57"/>
                          </a:lnTo>
                          <a:lnTo>
                            <a:pt x="101" y="56"/>
                          </a:lnTo>
                          <a:lnTo>
                            <a:pt x="97" y="54"/>
                          </a:lnTo>
                          <a:lnTo>
                            <a:pt x="93" y="52"/>
                          </a:lnTo>
                          <a:lnTo>
                            <a:pt x="91" y="51"/>
                          </a:lnTo>
                          <a:lnTo>
                            <a:pt x="88" y="51"/>
                          </a:lnTo>
                          <a:lnTo>
                            <a:pt x="86" y="50"/>
                          </a:lnTo>
                          <a:lnTo>
                            <a:pt x="83" y="50"/>
                          </a:lnTo>
                          <a:lnTo>
                            <a:pt x="81" y="49"/>
                          </a:lnTo>
                          <a:lnTo>
                            <a:pt x="78" y="47"/>
                          </a:lnTo>
                          <a:lnTo>
                            <a:pt x="75" y="46"/>
                          </a:lnTo>
                          <a:lnTo>
                            <a:pt x="73" y="46"/>
                          </a:lnTo>
                          <a:lnTo>
                            <a:pt x="70" y="45"/>
                          </a:lnTo>
                          <a:lnTo>
                            <a:pt x="68" y="44"/>
                          </a:lnTo>
                          <a:lnTo>
                            <a:pt x="65" y="44"/>
                          </a:lnTo>
                          <a:lnTo>
                            <a:pt x="63" y="42"/>
                          </a:lnTo>
                          <a:lnTo>
                            <a:pt x="60" y="41"/>
                          </a:lnTo>
                          <a:lnTo>
                            <a:pt x="58" y="40"/>
                          </a:lnTo>
                          <a:lnTo>
                            <a:pt x="55" y="38"/>
                          </a:lnTo>
                          <a:lnTo>
                            <a:pt x="53" y="37"/>
                          </a:lnTo>
                          <a:lnTo>
                            <a:pt x="50" y="37"/>
                          </a:lnTo>
                          <a:lnTo>
                            <a:pt x="48" y="36"/>
                          </a:lnTo>
                          <a:lnTo>
                            <a:pt x="45" y="35"/>
                          </a:lnTo>
                          <a:lnTo>
                            <a:pt x="43" y="35"/>
                          </a:lnTo>
                          <a:lnTo>
                            <a:pt x="40" y="33"/>
                          </a:lnTo>
                          <a:lnTo>
                            <a:pt x="38" y="32"/>
                          </a:lnTo>
                          <a:lnTo>
                            <a:pt x="35" y="31"/>
                          </a:lnTo>
                          <a:lnTo>
                            <a:pt x="33" y="30"/>
                          </a:lnTo>
                          <a:lnTo>
                            <a:pt x="30" y="28"/>
                          </a:lnTo>
                          <a:lnTo>
                            <a:pt x="28" y="28"/>
                          </a:lnTo>
                          <a:lnTo>
                            <a:pt x="25" y="27"/>
                          </a:lnTo>
                          <a:lnTo>
                            <a:pt x="24" y="27"/>
                          </a:lnTo>
                          <a:lnTo>
                            <a:pt x="20" y="25"/>
                          </a:lnTo>
                          <a:lnTo>
                            <a:pt x="16" y="23"/>
                          </a:lnTo>
                          <a:lnTo>
                            <a:pt x="13" y="22"/>
                          </a:lnTo>
                          <a:lnTo>
                            <a:pt x="10" y="21"/>
                          </a:lnTo>
                          <a:lnTo>
                            <a:pt x="6" y="20"/>
                          </a:lnTo>
                          <a:lnTo>
                            <a:pt x="5" y="18"/>
                          </a:lnTo>
                          <a:lnTo>
                            <a:pt x="3" y="18"/>
                          </a:lnTo>
                          <a:lnTo>
                            <a:pt x="3" y="17"/>
                          </a:lnTo>
                          <a:lnTo>
                            <a:pt x="3" y="1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772440" y="4694040"/>
                      <a:ext cx="547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78">
                          <a:moveTo>
                            <a:pt x="153" y="78"/>
                          </a:moveTo>
                          <a:lnTo>
                            <a:pt x="151" y="77"/>
                          </a:lnTo>
                          <a:lnTo>
                            <a:pt x="148" y="76"/>
                          </a:lnTo>
                          <a:lnTo>
                            <a:pt x="146" y="75"/>
                          </a:lnTo>
                          <a:lnTo>
                            <a:pt x="143" y="75"/>
                          </a:lnTo>
                          <a:lnTo>
                            <a:pt x="141" y="73"/>
                          </a:lnTo>
                          <a:lnTo>
                            <a:pt x="138" y="72"/>
                          </a:lnTo>
                          <a:lnTo>
                            <a:pt x="137" y="71"/>
                          </a:lnTo>
                          <a:lnTo>
                            <a:pt x="134" y="70"/>
                          </a:lnTo>
                          <a:lnTo>
                            <a:pt x="132" y="68"/>
                          </a:lnTo>
                          <a:lnTo>
                            <a:pt x="129" y="67"/>
                          </a:lnTo>
                          <a:lnTo>
                            <a:pt x="127" y="66"/>
                          </a:lnTo>
                          <a:lnTo>
                            <a:pt x="124" y="66"/>
                          </a:lnTo>
                          <a:lnTo>
                            <a:pt x="123" y="65"/>
                          </a:lnTo>
                          <a:lnTo>
                            <a:pt x="121" y="63"/>
                          </a:lnTo>
                          <a:lnTo>
                            <a:pt x="118" y="63"/>
                          </a:lnTo>
                          <a:lnTo>
                            <a:pt x="116" y="62"/>
                          </a:lnTo>
                          <a:lnTo>
                            <a:pt x="113" y="61"/>
                          </a:lnTo>
                          <a:lnTo>
                            <a:pt x="111" y="60"/>
                          </a:lnTo>
                          <a:lnTo>
                            <a:pt x="108" y="58"/>
                          </a:lnTo>
                          <a:lnTo>
                            <a:pt x="105" y="58"/>
                          </a:lnTo>
                          <a:lnTo>
                            <a:pt x="103" y="57"/>
                          </a:lnTo>
                          <a:lnTo>
                            <a:pt x="100" y="56"/>
                          </a:lnTo>
                          <a:lnTo>
                            <a:pt x="98" y="55"/>
                          </a:lnTo>
                          <a:lnTo>
                            <a:pt x="97" y="55"/>
                          </a:lnTo>
                          <a:lnTo>
                            <a:pt x="94" y="53"/>
                          </a:lnTo>
                          <a:lnTo>
                            <a:pt x="92" y="52"/>
                          </a:lnTo>
                          <a:lnTo>
                            <a:pt x="89" y="51"/>
                          </a:lnTo>
                          <a:lnTo>
                            <a:pt x="87" y="51"/>
                          </a:lnTo>
                          <a:lnTo>
                            <a:pt x="84" y="50"/>
                          </a:lnTo>
                          <a:lnTo>
                            <a:pt x="82" y="48"/>
                          </a:lnTo>
                          <a:lnTo>
                            <a:pt x="79" y="47"/>
                          </a:lnTo>
                          <a:lnTo>
                            <a:pt x="77" y="47"/>
                          </a:lnTo>
                          <a:lnTo>
                            <a:pt x="75" y="46"/>
                          </a:lnTo>
                          <a:lnTo>
                            <a:pt x="73" y="45"/>
                          </a:lnTo>
                          <a:lnTo>
                            <a:pt x="70" y="43"/>
                          </a:lnTo>
                          <a:lnTo>
                            <a:pt x="68" y="43"/>
                          </a:lnTo>
                          <a:lnTo>
                            <a:pt x="65" y="42"/>
                          </a:lnTo>
                          <a:lnTo>
                            <a:pt x="63" y="41"/>
                          </a:lnTo>
                          <a:lnTo>
                            <a:pt x="60" y="40"/>
                          </a:lnTo>
                          <a:lnTo>
                            <a:pt x="58" y="40"/>
                          </a:lnTo>
                          <a:lnTo>
                            <a:pt x="55" y="38"/>
                          </a:lnTo>
                          <a:lnTo>
                            <a:pt x="53" y="37"/>
                          </a:lnTo>
                          <a:lnTo>
                            <a:pt x="50" y="36"/>
                          </a:lnTo>
                          <a:lnTo>
                            <a:pt x="48" y="36"/>
                          </a:lnTo>
                          <a:lnTo>
                            <a:pt x="45" y="35"/>
                          </a:lnTo>
                          <a:lnTo>
                            <a:pt x="43" y="33"/>
                          </a:lnTo>
                          <a:lnTo>
                            <a:pt x="40" y="32"/>
                          </a:lnTo>
                          <a:lnTo>
                            <a:pt x="39" y="32"/>
                          </a:lnTo>
                          <a:lnTo>
                            <a:pt x="36" y="31"/>
                          </a:lnTo>
                          <a:lnTo>
                            <a:pt x="34" y="30"/>
                          </a:lnTo>
                          <a:lnTo>
                            <a:pt x="31" y="30"/>
                          </a:lnTo>
                          <a:lnTo>
                            <a:pt x="29" y="28"/>
                          </a:lnTo>
                          <a:lnTo>
                            <a:pt x="26" y="27"/>
                          </a:lnTo>
                          <a:lnTo>
                            <a:pt x="24" y="26"/>
                          </a:lnTo>
                          <a:lnTo>
                            <a:pt x="21" y="26"/>
                          </a:lnTo>
                          <a:lnTo>
                            <a:pt x="19" y="25"/>
                          </a:lnTo>
                          <a:lnTo>
                            <a:pt x="16" y="23"/>
                          </a:lnTo>
                          <a:lnTo>
                            <a:pt x="14" y="23"/>
                          </a:lnTo>
                          <a:lnTo>
                            <a:pt x="13" y="22"/>
                          </a:lnTo>
                          <a:lnTo>
                            <a:pt x="10" y="21"/>
                          </a:lnTo>
                          <a:lnTo>
                            <a:pt x="8" y="20"/>
                          </a:lnTo>
                          <a:lnTo>
                            <a:pt x="5" y="20"/>
                          </a:lnTo>
                          <a:lnTo>
                            <a:pt x="2" y="18"/>
                          </a:lnTo>
                          <a:lnTo>
                            <a:pt x="0" y="18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3" y="1"/>
                          </a:lnTo>
                          <a:lnTo>
                            <a:pt x="15" y="1"/>
                          </a:lnTo>
                          <a:lnTo>
                            <a:pt x="18" y="2"/>
                          </a:lnTo>
                          <a:lnTo>
                            <a:pt x="20" y="2"/>
                          </a:lnTo>
                          <a:lnTo>
                            <a:pt x="23" y="3"/>
                          </a:lnTo>
                          <a:lnTo>
                            <a:pt x="25" y="3"/>
                          </a:lnTo>
                          <a:lnTo>
                            <a:pt x="28" y="5"/>
                          </a:lnTo>
                          <a:lnTo>
                            <a:pt x="29" y="5"/>
                          </a:lnTo>
                          <a:lnTo>
                            <a:pt x="31" y="6"/>
                          </a:lnTo>
                          <a:lnTo>
                            <a:pt x="34" y="7"/>
                          </a:lnTo>
                          <a:lnTo>
                            <a:pt x="36" y="7"/>
                          </a:lnTo>
                          <a:lnTo>
                            <a:pt x="39" y="8"/>
                          </a:lnTo>
                          <a:lnTo>
                            <a:pt x="41" y="10"/>
                          </a:lnTo>
                          <a:lnTo>
                            <a:pt x="44" y="10"/>
                          </a:lnTo>
                          <a:lnTo>
                            <a:pt x="46" y="11"/>
                          </a:lnTo>
                          <a:lnTo>
                            <a:pt x="49" y="12"/>
                          </a:lnTo>
                          <a:lnTo>
                            <a:pt x="51" y="12"/>
                          </a:lnTo>
                          <a:lnTo>
                            <a:pt x="54" y="13"/>
                          </a:lnTo>
                          <a:lnTo>
                            <a:pt x="57" y="15"/>
                          </a:lnTo>
                          <a:lnTo>
                            <a:pt x="59" y="15"/>
                          </a:lnTo>
                          <a:lnTo>
                            <a:pt x="62" y="16"/>
                          </a:lnTo>
                          <a:lnTo>
                            <a:pt x="64" y="17"/>
                          </a:lnTo>
                          <a:lnTo>
                            <a:pt x="67" y="18"/>
                          </a:lnTo>
                          <a:lnTo>
                            <a:pt x="69" y="18"/>
                          </a:lnTo>
                          <a:lnTo>
                            <a:pt x="72" y="20"/>
                          </a:lnTo>
                          <a:lnTo>
                            <a:pt x="74" y="21"/>
                          </a:lnTo>
                          <a:lnTo>
                            <a:pt x="75" y="22"/>
                          </a:lnTo>
                          <a:lnTo>
                            <a:pt x="78" y="23"/>
                          </a:lnTo>
                          <a:lnTo>
                            <a:pt x="80" y="23"/>
                          </a:lnTo>
                          <a:lnTo>
                            <a:pt x="83" y="25"/>
                          </a:lnTo>
                          <a:lnTo>
                            <a:pt x="85" y="26"/>
                          </a:lnTo>
                          <a:lnTo>
                            <a:pt x="88" y="27"/>
                          </a:lnTo>
                          <a:lnTo>
                            <a:pt x="90" y="27"/>
                          </a:lnTo>
                          <a:lnTo>
                            <a:pt x="93" y="28"/>
                          </a:lnTo>
                          <a:lnTo>
                            <a:pt x="95" y="30"/>
                          </a:lnTo>
                          <a:lnTo>
                            <a:pt x="98" y="31"/>
                          </a:lnTo>
                          <a:lnTo>
                            <a:pt x="100" y="32"/>
                          </a:lnTo>
                          <a:lnTo>
                            <a:pt x="103" y="32"/>
                          </a:lnTo>
                          <a:lnTo>
                            <a:pt x="105" y="33"/>
                          </a:lnTo>
                          <a:lnTo>
                            <a:pt x="107" y="35"/>
                          </a:lnTo>
                          <a:lnTo>
                            <a:pt x="109" y="36"/>
                          </a:lnTo>
                          <a:lnTo>
                            <a:pt x="112" y="37"/>
                          </a:lnTo>
                          <a:lnTo>
                            <a:pt x="114" y="38"/>
                          </a:lnTo>
                          <a:lnTo>
                            <a:pt x="117" y="38"/>
                          </a:lnTo>
                          <a:lnTo>
                            <a:pt x="119" y="40"/>
                          </a:lnTo>
                          <a:lnTo>
                            <a:pt x="122" y="41"/>
                          </a:lnTo>
                          <a:lnTo>
                            <a:pt x="124" y="42"/>
                          </a:lnTo>
                          <a:lnTo>
                            <a:pt x="127" y="43"/>
                          </a:lnTo>
                          <a:lnTo>
                            <a:pt x="129" y="45"/>
                          </a:lnTo>
                          <a:lnTo>
                            <a:pt x="132" y="45"/>
                          </a:lnTo>
                          <a:lnTo>
                            <a:pt x="134" y="46"/>
                          </a:lnTo>
                          <a:lnTo>
                            <a:pt x="137" y="47"/>
                          </a:lnTo>
                          <a:lnTo>
                            <a:pt x="138" y="48"/>
                          </a:lnTo>
                          <a:lnTo>
                            <a:pt x="141" y="50"/>
                          </a:lnTo>
                          <a:lnTo>
                            <a:pt x="143" y="51"/>
                          </a:lnTo>
                          <a:lnTo>
                            <a:pt x="146" y="52"/>
                          </a:lnTo>
                          <a:lnTo>
                            <a:pt x="148" y="53"/>
                          </a:lnTo>
                          <a:lnTo>
                            <a:pt x="151" y="55"/>
                          </a:lnTo>
                          <a:lnTo>
                            <a:pt x="153" y="56"/>
                          </a:lnTo>
                          <a:lnTo>
                            <a:pt x="156" y="57"/>
                          </a:lnTo>
                          <a:lnTo>
                            <a:pt x="158" y="58"/>
                          </a:lnTo>
                          <a:lnTo>
                            <a:pt x="161" y="60"/>
                          </a:lnTo>
                          <a:lnTo>
                            <a:pt x="163" y="61"/>
                          </a:lnTo>
                          <a:lnTo>
                            <a:pt x="153" y="78"/>
                          </a:lnTo>
                          <a:lnTo>
                            <a:pt x="153" y="7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819240" y="466956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107">
                          <a:moveTo>
                            <a:pt x="53" y="107"/>
                          </a:moveTo>
                          <a:lnTo>
                            <a:pt x="48" y="106"/>
                          </a:lnTo>
                          <a:lnTo>
                            <a:pt x="44" y="104"/>
                          </a:lnTo>
                          <a:lnTo>
                            <a:pt x="40" y="103"/>
                          </a:lnTo>
                          <a:lnTo>
                            <a:pt x="38" y="103"/>
                          </a:lnTo>
                          <a:lnTo>
                            <a:pt x="34" y="101"/>
                          </a:lnTo>
                          <a:lnTo>
                            <a:pt x="31" y="99"/>
                          </a:lnTo>
                          <a:lnTo>
                            <a:pt x="28" y="99"/>
                          </a:lnTo>
                          <a:lnTo>
                            <a:pt x="25" y="98"/>
                          </a:lnTo>
                          <a:lnTo>
                            <a:pt x="22" y="96"/>
                          </a:lnTo>
                          <a:lnTo>
                            <a:pt x="20" y="94"/>
                          </a:lnTo>
                          <a:lnTo>
                            <a:pt x="17" y="92"/>
                          </a:lnTo>
                          <a:lnTo>
                            <a:pt x="15" y="91"/>
                          </a:lnTo>
                          <a:lnTo>
                            <a:pt x="11" y="87"/>
                          </a:lnTo>
                          <a:lnTo>
                            <a:pt x="7" y="83"/>
                          </a:lnTo>
                          <a:lnTo>
                            <a:pt x="6" y="81"/>
                          </a:lnTo>
                          <a:lnTo>
                            <a:pt x="5" y="78"/>
                          </a:lnTo>
                          <a:lnTo>
                            <a:pt x="4" y="76"/>
                          </a:lnTo>
                          <a:lnTo>
                            <a:pt x="2" y="73"/>
                          </a:lnTo>
                          <a:lnTo>
                            <a:pt x="1" y="71"/>
                          </a:lnTo>
                          <a:lnTo>
                            <a:pt x="1" y="68"/>
                          </a:lnTo>
                          <a:lnTo>
                            <a:pt x="1" y="66"/>
                          </a:lnTo>
                          <a:lnTo>
                            <a:pt x="1" y="63"/>
                          </a:lnTo>
                          <a:lnTo>
                            <a:pt x="0" y="61"/>
                          </a:lnTo>
                          <a:lnTo>
                            <a:pt x="0" y="58"/>
                          </a:lnTo>
                          <a:lnTo>
                            <a:pt x="1" y="54"/>
                          </a:lnTo>
                          <a:lnTo>
                            <a:pt x="1" y="52"/>
                          </a:lnTo>
                          <a:lnTo>
                            <a:pt x="1" y="49"/>
                          </a:lnTo>
                          <a:lnTo>
                            <a:pt x="2" y="47"/>
                          </a:lnTo>
                          <a:lnTo>
                            <a:pt x="4" y="44"/>
                          </a:lnTo>
                          <a:lnTo>
                            <a:pt x="5" y="42"/>
                          </a:lnTo>
                          <a:lnTo>
                            <a:pt x="6" y="38"/>
                          </a:lnTo>
                          <a:lnTo>
                            <a:pt x="7" y="36"/>
                          </a:lnTo>
                          <a:lnTo>
                            <a:pt x="9" y="32"/>
                          </a:lnTo>
                          <a:lnTo>
                            <a:pt x="10" y="29"/>
                          </a:lnTo>
                          <a:lnTo>
                            <a:pt x="11" y="27"/>
                          </a:lnTo>
                          <a:lnTo>
                            <a:pt x="12" y="24"/>
                          </a:lnTo>
                          <a:lnTo>
                            <a:pt x="14" y="22"/>
                          </a:lnTo>
                          <a:lnTo>
                            <a:pt x="16" y="21"/>
                          </a:lnTo>
                          <a:lnTo>
                            <a:pt x="19" y="17"/>
                          </a:lnTo>
                          <a:lnTo>
                            <a:pt x="22" y="13"/>
                          </a:lnTo>
                          <a:lnTo>
                            <a:pt x="26" y="9"/>
                          </a:lnTo>
                          <a:lnTo>
                            <a:pt x="31" y="8"/>
                          </a:lnTo>
                          <a:lnTo>
                            <a:pt x="34" y="5"/>
                          </a:lnTo>
                          <a:lnTo>
                            <a:pt x="39" y="3"/>
                          </a:lnTo>
                          <a:lnTo>
                            <a:pt x="43" y="2"/>
                          </a:lnTo>
                          <a:lnTo>
                            <a:pt x="48" y="2"/>
                          </a:lnTo>
                          <a:lnTo>
                            <a:pt x="50" y="0"/>
                          </a:lnTo>
                          <a:lnTo>
                            <a:pt x="55" y="0"/>
                          </a:lnTo>
                          <a:lnTo>
                            <a:pt x="59" y="0"/>
                          </a:lnTo>
                          <a:lnTo>
                            <a:pt x="64" y="2"/>
                          </a:lnTo>
                          <a:lnTo>
                            <a:pt x="68" y="2"/>
                          </a:lnTo>
                          <a:lnTo>
                            <a:pt x="71" y="3"/>
                          </a:lnTo>
                          <a:lnTo>
                            <a:pt x="75" y="4"/>
                          </a:lnTo>
                          <a:lnTo>
                            <a:pt x="79" y="5"/>
                          </a:lnTo>
                          <a:lnTo>
                            <a:pt x="83" y="7"/>
                          </a:lnTo>
                          <a:lnTo>
                            <a:pt x="87" y="8"/>
                          </a:lnTo>
                          <a:lnTo>
                            <a:pt x="90" y="10"/>
                          </a:lnTo>
                          <a:lnTo>
                            <a:pt x="93" y="13"/>
                          </a:lnTo>
                          <a:lnTo>
                            <a:pt x="97" y="15"/>
                          </a:lnTo>
                          <a:lnTo>
                            <a:pt x="99" y="17"/>
                          </a:lnTo>
                          <a:lnTo>
                            <a:pt x="102" y="19"/>
                          </a:lnTo>
                          <a:lnTo>
                            <a:pt x="104" y="22"/>
                          </a:lnTo>
                          <a:lnTo>
                            <a:pt x="107" y="24"/>
                          </a:lnTo>
                          <a:lnTo>
                            <a:pt x="108" y="27"/>
                          </a:lnTo>
                          <a:lnTo>
                            <a:pt x="109" y="29"/>
                          </a:lnTo>
                          <a:lnTo>
                            <a:pt x="110" y="32"/>
                          </a:lnTo>
                          <a:lnTo>
                            <a:pt x="112" y="34"/>
                          </a:lnTo>
                          <a:lnTo>
                            <a:pt x="112" y="37"/>
                          </a:lnTo>
                          <a:lnTo>
                            <a:pt x="113" y="39"/>
                          </a:lnTo>
                          <a:lnTo>
                            <a:pt x="114" y="42"/>
                          </a:lnTo>
                          <a:lnTo>
                            <a:pt x="114" y="44"/>
                          </a:lnTo>
                          <a:lnTo>
                            <a:pt x="114" y="47"/>
                          </a:lnTo>
                          <a:lnTo>
                            <a:pt x="115" y="48"/>
                          </a:lnTo>
                          <a:lnTo>
                            <a:pt x="115" y="51"/>
                          </a:lnTo>
                          <a:lnTo>
                            <a:pt x="115" y="54"/>
                          </a:lnTo>
                          <a:lnTo>
                            <a:pt x="117" y="59"/>
                          </a:lnTo>
                          <a:lnTo>
                            <a:pt x="115" y="63"/>
                          </a:lnTo>
                          <a:lnTo>
                            <a:pt x="115" y="67"/>
                          </a:lnTo>
                          <a:lnTo>
                            <a:pt x="114" y="69"/>
                          </a:lnTo>
                          <a:lnTo>
                            <a:pt x="113" y="73"/>
                          </a:lnTo>
                          <a:lnTo>
                            <a:pt x="112" y="76"/>
                          </a:lnTo>
                          <a:lnTo>
                            <a:pt x="110" y="79"/>
                          </a:lnTo>
                          <a:lnTo>
                            <a:pt x="108" y="82"/>
                          </a:lnTo>
                          <a:lnTo>
                            <a:pt x="107" y="84"/>
                          </a:lnTo>
                          <a:lnTo>
                            <a:pt x="104" y="87"/>
                          </a:lnTo>
                          <a:lnTo>
                            <a:pt x="102" y="89"/>
                          </a:lnTo>
                          <a:lnTo>
                            <a:pt x="99" y="91"/>
                          </a:lnTo>
                          <a:lnTo>
                            <a:pt x="97" y="93"/>
                          </a:lnTo>
                          <a:lnTo>
                            <a:pt x="93" y="94"/>
                          </a:lnTo>
                          <a:lnTo>
                            <a:pt x="90" y="97"/>
                          </a:lnTo>
                          <a:lnTo>
                            <a:pt x="88" y="98"/>
                          </a:lnTo>
                          <a:lnTo>
                            <a:pt x="84" y="99"/>
                          </a:lnTo>
                          <a:lnTo>
                            <a:pt x="80" y="101"/>
                          </a:lnTo>
                          <a:lnTo>
                            <a:pt x="78" y="102"/>
                          </a:lnTo>
                          <a:lnTo>
                            <a:pt x="74" y="102"/>
                          </a:lnTo>
                          <a:lnTo>
                            <a:pt x="71" y="103"/>
                          </a:lnTo>
                          <a:lnTo>
                            <a:pt x="68" y="104"/>
                          </a:lnTo>
                          <a:lnTo>
                            <a:pt x="65" y="104"/>
                          </a:lnTo>
                          <a:lnTo>
                            <a:pt x="61" y="106"/>
                          </a:lnTo>
                          <a:lnTo>
                            <a:pt x="59" y="106"/>
                          </a:lnTo>
                          <a:lnTo>
                            <a:pt x="55" y="106"/>
                          </a:lnTo>
                          <a:lnTo>
                            <a:pt x="53" y="107"/>
                          </a:lnTo>
                          <a:lnTo>
                            <a:pt x="53" y="107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825720" y="4673880"/>
                      <a:ext cx="2520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74">
                          <a:moveTo>
                            <a:pt x="2" y="52"/>
                          </a:moveTo>
                          <a:lnTo>
                            <a:pt x="1" y="49"/>
                          </a:lnTo>
                          <a:lnTo>
                            <a:pt x="1" y="47"/>
                          </a:lnTo>
                          <a:lnTo>
                            <a:pt x="0" y="44"/>
                          </a:lnTo>
                          <a:lnTo>
                            <a:pt x="0" y="42"/>
                          </a:lnTo>
                          <a:lnTo>
                            <a:pt x="0" y="39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1" y="32"/>
                          </a:lnTo>
                          <a:lnTo>
                            <a:pt x="1" y="29"/>
                          </a:lnTo>
                          <a:lnTo>
                            <a:pt x="2" y="27"/>
                          </a:lnTo>
                          <a:lnTo>
                            <a:pt x="2" y="24"/>
                          </a:lnTo>
                          <a:lnTo>
                            <a:pt x="3" y="23"/>
                          </a:lnTo>
                          <a:lnTo>
                            <a:pt x="5" y="21"/>
                          </a:lnTo>
                          <a:lnTo>
                            <a:pt x="6" y="18"/>
                          </a:lnTo>
                          <a:lnTo>
                            <a:pt x="7" y="17"/>
                          </a:lnTo>
                          <a:lnTo>
                            <a:pt x="10" y="14"/>
                          </a:lnTo>
                          <a:lnTo>
                            <a:pt x="12" y="12"/>
                          </a:lnTo>
                          <a:lnTo>
                            <a:pt x="16" y="9"/>
                          </a:lnTo>
                          <a:lnTo>
                            <a:pt x="20" y="7"/>
                          </a:lnTo>
                          <a:lnTo>
                            <a:pt x="24" y="6"/>
                          </a:lnTo>
                          <a:lnTo>
                            <a:pt x="26" y="3"/>
                          </a:lnTo>
                          <a:lnTo>
                            <a:pt x="31" y="3"/>
                          </a:lnTo>
                          <a:lnTo>
                            <a:pt x="35" y="2"/>
                          </a:lnTo>
                          <a:lnTo>
                            <a:pt x="39" y="0"/>
                          </a:lnTo>
                          <a:lnTo>
                            <a:pt x="42" y="0"/>
                          </a:lnTo>
                          <a:lnTo>
                            <a:pt x="46" y="0"/>
                          </a:lnTo>
                          <a:lnTo>
                            <a:pt x="50" y="2"/>
                          </a:lnTo>
                          <a:lnTo>
                            <a:pt x="54" y="3"/>
                          </a:lnTo>
                          <a:lnTo>
                            <a:pt x="58" y="4"/>
                          </a:lnTo>
                          <a:lnTo>
                            <a:pt x="61" y="7"/>
                          </a:lnTo>
                          <a:lnTo>
                            <a:pt x="63" y="8"/>
                          </a:lnTo>
                          <a:lnTo>
                            <a:pt x="64" y="11"/>
                          </a:lnTo>
                          <a:lnTo>
                            <a:pt x="65" y="12"/>
                          </a:lnTo>
                          <a:lnTo>
                            <a:pt x="68" y="14"/>
                          </a:lnTo>
                          <a:lnTo>
                            <a:pt x="69" y="19"/>
                          </a:lnTo>
                          <a:lnTo>
                            <a:pt x="71" y="23"/>
                          </a:lnTo>
                          <a:lnTo>
                            <a:pt x="73" y="27"/>
                          </a:lnTo>
                          <a:lnTo>
                            <a:pt x="74" y="31"/>
                          </a:lnTo>
                          <a:lnTo>
                            <a:pt x="74" y="34"/>
                          </a:lnTo>
                          <a:lnTo>
                            <a:pt x="74" y="38"/>
                          </a:lnTo>
                          <a:lnTo>
                            <a:pt x="74" y="42"/>
                          </a:lnTo>
                          <a:lnTo>
                            <a:pt x="74" y="46"/>
                          </a:lnTo>
                          <a:lnTo>
                            <a:pt x="74" y="49"/>
                          </a:lnTo>
                          <a:lnTo>
                            <a:pt x="73" y="52"/>
                          </a:lnTo>
                          <a:lnTo>
                            <a:pt x="71" y="56"/>
                          </a:lnTo>
                          <a:lnTo>
                            <a:pt x="69" y="59"/>
                          </a:lnTo>
                          <a:lnTo>
                            <a:pt x="66" y="62"/>
                          </a:lnTo>
                          <a:lnTo>
                            <a:pt x="64" y="66"/>
                          </a:lnTo>
                          <a:lnTo>
                            <a:pt x="61" y="68"/>
                          </a:lnTo>
                          <a:lnTo>
                            <a:pt x="58" y="72"/>
                          </a:lnTo>
                          <a:lnTo>
                            <a:pt x="54" y="72"/>
                          </a:lnTo>
                          <a:lnTo>
                            <a:pt x="50" y="73"/>
                          </a:lnTo>
                          <a:lnTo>
                            <a:pt x="45" y="73"/>
                          </a:lnTo>
                          <a:lnTo>
                            <a:pt x="41" y="74"/>
                          </a:lnTo>
                          <a:lnTo>
                            <a:pt x="37" y="74"/>
                          </a:lnTo>
                          <a:lnTo>
                            <a:pt x="32" y="74"/>
                          </a:lnTo>
                          <a:lnTo>
                            <a:pt x="29" y="74"/>
                          </a:lnTo>
                          <a:lnTo>
                            <a:pt x="25" y="74"/>
                          </a:lnTo>
                          <a:lnTo>
                            <a:pt x="21" y="72"/>
                          </a:lnTo>
                          <a:lnTo>
                            <a:pt x="17" y="71"/>
                          </a:lnTo>
                          <a:lnTo>
                            <a:pt x="14" y="68"/>
                          </a:lnTo>
                          <a:lnTo>
                            <a:pt x="11" y="67"/>
                          </a:lnTo>
                          <a:lnTo>
                            <a:pt x="9" y="63"/>
                          </a:lnTo>
                          <a:lnTo>
                            <a:pt x="6" y="61"/>
                          </a:lnTo>
                          <a:lnTo>
                            <a:pt x="5" y="58"/>
                          </a:lnTo>
                          <a:lnTo>
                            <a:pt x="3" y="56"/>
                          </a:lnTo>
                          <a:lnTo>
                            <a:pt x="2" y="53"/>
                          </a:lnTo>
                          <a:lnTo>
                            <a:pt x="2" y="52"/>
                          </a:lnTo>
                          <a:lnTo>
                            <a:pt x="2" y="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832560" y="4679280"/>
                      <a:ext cx="108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1" y="20"/>
                          </a:moveTo>
                          <a:lnTo>
                            <a:pt x="0" y="17"/>
                          </a:lnTo>
                          <a:lnTo>
                            <a:pt x="0" y="13"/>
                          </a:lnTo>
                          <a:lnTo>
                            <a:pt x="1" y="9"/>
                          </a:lnTo>
                          <a:lnTo>
                            <a:pt x="4" y="5"/>
                          </a:lnTo>
                          <a:lnTo>
                            <a:pt x="6" y="2"/>
                          </a:lnTo>
                          <a:lnTo>
                            <a:pt x="9" y="0"/>
                          </a:lnTo>
                          <a:lnTo>
                            <a:pt x="12" y="0"/>
                          </a:lnTo>
                          <a:lnTo>
                            <a:pt x="16" y="0"/>
                          </a:lnTo>
                          <a:lnTo>
                            <a:pt x="19" y="0"/>
                          </a:lnTo>
                          <a:lnTo>
                            <a:pt x="22" y="2"/>
                          </a:lnTo>
                          <a:lnTo>
                            <a:pt x="25" y="3"/>
                          </a:lnTo>
                          <a:lnTo>
                            <a:pt x="27" y="5"/>
                          </a:lnTo>
                          <a:lnTo>
                            <a:pt x="30" y="8"/>
                          </a:lnTo>
                          <a:lnTo>
                            <a:pt x="31" y="10"/>
                          </a:lnTo>
                          <a:lnTo>
                            <a:pt x="32" y="13"/>
                          </a:lnTo>
                          <a:lnTo>
                            <a:pt x="35" y="17"/>
                          </a:lnTo>
                          <a:lnTo>
                            <a:pt x="35" y="20"/>
                          </a:lnTo>
                          <a:lnTo>
                            <a:pt x="35" y="23"/>
                          </a:lnTo>
                          <a:lnTo>
                            <a:pt x="34" y="27"/>
                          </a:lnTo>
                          <a:lnTo>
                            <a:pt x="32" y="29"/>
                          </a:lnTo>
                          <a:lnTo>
                            <a:pt x="30" y="32"/>
                          </a:lnTo>
                          <a:lnTo>
                            <a:pt x="27" y="33"/>
                          </a:lnTo>
                          <a:lnTo>
                            <a:pt x="24" y="34"/>
                          </a:lnTo>
                          <a:lnTo>
                            <a:pt x="21" y="35"/>
                          </a:lnTo>
                          <a:lnTo>
                            <a:pt x="17" y="34"/>
                          </a:lnTo>
                          <a:lnTo>
                            <a:pt x="15" y="34"/>
                          </a:lnTo>
                          <a:lnTo>
                            <a:pt x="11" y="33"/>
                          </a:lnTo>
                          <a:lnTo>
                            <a:pt x="9" y="33"/>
                          </a:lnTo>
                          <a:lnTo>
                            <a:pt x="6" y="30"/>
                          </a:lnTo>
                          <a:lnTo>
                            <a:pt x="4" y="28"/>
                          </a:lnTo>
                          <a:lnTo>
                            <a:pt x="2" y="24"/>
                          </a:lnTo>
                          <a:lnTo>
                            <a:pt x="1" y="20"/>
                          </a:lnTo>
                          <a:lnTo>
                            <a:pt x="1" y="2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719520" y="4655520"/>
                      <a:ext cx="417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84">
                          <a:moveTo>
                            <a:pt x="0" y="53"/>
                          </a:moveTo>
                          <a:lnTo>
                            <a:pt x="1" y="49"/>
                          </a:lnTo>
                          <a:lnTo>
                            <a:pt x="2" y="46"/>
                          </a:lnTo>
                          <a:lnTo>
                            <a:pt x="2" y="43"/>
                          </a:lnTo>
                          <a:lnTo>
                            <a:pt x="4" y="40"/>
                          </a:lnTo>
                          <a:lnTo>
                            <a:pt x="4" y="36"/>
                          </a:lnTo>
                          <a:lnTo>
                            <a:pt x="5" y="33"/>
                          </a:lnTo>
                          <a:lnTo>
                            <a:pt x="5" y="30"/>
                          </a:lnTo>
                          <a:lnTo>
                            <a:pt x="5" y="26"/>
                          </a:lnTo>
                          <a:lnTo>
                            <a:pt x="5" y="23"/>
                          </a:lnTo>
                          <a:lnTo>
                            <a:pt x="5" y="20"/>
                          </a:lnTo>
                          <a:lnTo>
                            <a:pt x="4" y="16"/>
                          </a:lnTo>
                          <a:lnTo>
                            <a:pt x="4" y="14"/>
                          </a:lnTo>
                          <a:lnTo>
                            <a:pt x="4" y="10"/>
                          </a:lnTo>
                          <a:lnTo>
                            <a:pt x="2" y="6"/>
                          </a:lnTo>
                          <a:lnTo>
                            <a:pt x="2" y="3"/>
                          </a:lnTo>
                          <a:lnTo>
                            <a:pt x="1" y="0"/>
                          </a:lnTo>
                          <a:lnTo>
                            <a:pt x="5" y="1"/>
                          </a:lnTo>
                          <a:lnTo>
                            <a:pt x="9" y="3"/>
                          </a:lnTo>
                          <a:lnTo>
                            <a:pt x="13" y="4"/>
                          </a:lnTo>
                          <a:lnTo>
                            <a:pt x="16" y="6"/>
                          </a:lnTo>
                          <a:lnTo>
                            <a:pt x="20" y="8"/>
                          </a:lnTo>
                          <a:lnTo>
                            <a:pt x="24" y="9"/>
                          </a:lnTo>
                          <a:lnTo>
                            <a:pt x="28" y="10"/>
                          </a:lnTo>
                          <a:lnTo>
                            <a:pt x="31" y="13"/>
                          </a:lnTo>
                          <a:lnTo>
                            <a:pt x="35" y="14"/>
                          </a:lnTo>
                          <a:lnTo>
                            <a:pt x="39" y="15"/>
                          </a:lnTo>
                          <a:lnTo>
                            <a:pt x="44" y="16"/>
                          </a:lnTo>
                          <a:lnTo>
                            <a:pt x="48" y="18"/>
                          </a:lnTo>
                          <a:lnTo>
                            <a:pt x="51" y="20"/>
                          </a:lnTo>
                          <a:lnTo>
                            <a:pt x="55" y="21"/>
                          </a:lnTo>
                          <a:lnTo>
                            <a:pt x="59" y="23"/>
                          </a:lnTo>
                          <a:lnTo>
                            <a:pt x="63" y="25"/>
                          </a:lnTo>
                          <a:lnTo>
                            <a:pt x="67" y="26"/>
                          </a:lnTo>
                          <a:lnTo>
                            <a:pt x="70" y="28"/>
                          </a:lnTo>
                          <a:lnTo>
                            <a:pt x="74" y="30"/>
                          </a:lnTo>
                          <a:lnTo>
                            <a:pt x="78" y="31"/>
                          </a:lnTo>
                          <a:lnTo>
                            <a:pt x="82" y="33"/>
                          </a:lnTo>
                          <a:lnTo>
                            <a:pt x="85" y="35"/>
                          </a:lnTo>
                          <a:lnTo>
                            <a:pt x="89" y="36"/>
                          </a:lnTo>
                          <a:lnTo>
                            <a:pt x="93" y="39"/>
                          </a:lnTo>
                          <a:lnTo>
                            <a:pt x="97" y="40"/>
                          </a:lnTo>
                          <a:lnTo>
                            <a:pt x="100" y="43"/>
                          </a:lnTo>
                          <a:lnTo>
                            <a:pt x="104" y="44"/>
                          </a:lnTo>
                          <a:lnTo>
                            <a:pt x="108" y="46"/>
                          </a:lnTo>
                          <a:lnTo>
                            <a:pt x="112" y="48"/>
                          </a:lnTo>
                          <a:lnTo>
                            <a:pt x="116" y="50"/>
                          </a:lnTo>
                          <a:lnTo>
                            <a:pt x="119" y="51"/>
                          </a:lnTo>
                          <a:lnTo>
                            <a:pt x="123" y="54"/>
                          </a:lnTo>
                          <a:lnTo>
                            <a:pt x="119" y="55"/>
                          </a:lnTo>
                          <a:lnTo>
                            <a:pt x="117" y="58"/>
                          </a:lnTo>
                          <a:lnTo>
                            <a:pt x="114" y="59"/>
                          </a:lnTo>
                          <a:lnTo>
                            <a:pt x="112" y="61"/>
                          </a:lnTo>
                          <a:lnTo>
                            <a:pt x="109" y="64"/>
                          </a:lnTo>
                          <a:lnTo>
                            <a:pt x="105" y="65"/>
                          </a:lnTo>
                          <a:lnTo>
                            <a:pt x="103" y="68"/>
                          </a:lnTo>
                          <a:lnTo>
                            <a:pt x="100" y="70"/>
                          </a:lnTo>
                          <a:lnTo>
                            <a:pt x="97" y="72"/>
                          </a:lnTo>
                          <a:lnTo>
                            <a:pt x="94" y="74"/>
                          </a:lnTo>
                          <a:lnTo>
                            <a:pt x="92" y="75"/>
                          </a:lnTo>
                          <a:lnTo>
                            <a:pt x="89" y="78"/>
                          </a:lnTo>
                          <a:lnTo>
                            <a:pt x="85" y="79"/>
                          </a:lnTo>
                          <a:lnTo>
                            <a:pt x="83" y="80"/>
                          </a:lnTo>
                          <a:lnTo>
                            <a:pt x="80" y="83"/>
                          </a:lnTo>
                          <a:lnTo>
                            <a:pt x="78" y="84"/>
                          </a:lnTo>
                          <a:lnTo>
                            <a:pt x="0" y="53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890880" y="4631760"/>
                      <a:ext cx="7128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161">
                          <a:moveTo>
                            <a:pt x="187" y="161"/>
                          </a:moveTo>
                          <a:lnTo>
                            <a:pt x="184" y="161"/>
                          </a:lnTo>
                          <a:lnTo>
                            <a:pt x="181" y="161"/>
                          </a:lnTo>
                          <a:lnTo>
                            <a:pt x="179" y="160"/>
                          </a:lnTo>
                          <a:lnTo>
                            <a:pt x="176" y="160"/>
                          </a:lnTo>
                          <a:lnTo>
                            <a:pt x="172" y="160"/>
                          </a:lnTo>
                          <a:lnTo>
                            <a:pt x="170" y="159"/>
                          </a:lnTo>
                          <a:lnTo>
                            <a:pt x="167" y="159"/>
                          </a:lnTo>
                          <a:lnTo>
                            <a:pt x="165" y="159"/>
                          </a:lnTo>
                          <a:lnTo>
                            <a:pt x="161" y="159"/>
                          </a:lnTo>
                          <a:lnTo>
                            <a:pt x="158" y="159"/>
                          </a:lnTo>
                          <a:lnTo>
                            <a:pt x="156" y="158"/>
                          </a:lnTo>
                          <a:lnTo>
                            <a:pt x="153" y="158"/>
                          </a:lnTo>
                          <a:lnTo>
                            <a:pt x="151" y="156"/>
                          </a:lnTo>
                          <a:lnTo>
                            <a:pt x="147" y="156"/>
                          </a:lnTo>
                          <a:lnTo>
                            <a:pt x="145" y="156"/>
                          </a:lnTo>
                          <a:lnTo>
                            <a:pt x="142" y="155"/>
                          </a:lnTo>
                          <a:lnTo>
                            <a:pt x="140" y="155"/>
                          </a:lnTo>
                          <a:lnTo>
                            <a:pt x="137" y="154"/>
                          </a:lnTo>
                          <a:lnTo>
                            <a:pt x="133" y="153"/>
                          </a:lnTo>
                          <a:lnTo>
                            <a:pt x="131" y="153"/>
                          </a:lnTo>
                          <a:lnTo>
                            <a:pt x="128" y="151"/>
                          </a:lnTo>
                          <a:lnTo>
                            <a:pt x="126" y="151"/>
                          </a:lnTo>
                          <a:lnTo>
                            <a:pt x="123" y="150"/>
                          </a:lnTo>
                          <a:lnTo>
                            <a:pt x="121" y="150"/>
                          </a:lnTo>
                          <a:lnTo>
                            <a:pt x="117" y="149"/>
                          </a:lnTo>
                          <a:lnTo>
                            <a:pt x="114" y="149"/>
                          </a:lnTo>
                          <a:lnTo>
                            <a:pt x="112" y="148"/>
                          </a:lnTo>
                          <a:lnTo>
                            <a:pt x="109" y="146"/>
                          </a:lnTo>
                          <a:lnTo>
                            <a:pt x="107" y="146"/>
                          </a:lnTo>
                          <a:lnTo>
                            <a:pt x="103" y="145"/>
                          </a:lnTo>
                          <a:lnTo>
                            <a:pt x="101" y="145"/>
                          </a:lnTo>
                          <a:lnTo>
                            <a:pt x="98" y="144"/>
                          </a:lnTo>
                          <a:lnTo>
                            <a:pt x="96" y="142"/>
                          </a:lnTo>
                          <a:lnTo>
                            <a:pt x="93" y="142"/>
                          </a:lnTo>
                          <a:lnTo>
                            <a:pt x="89" y="141"/>
                          </a:lnTo>
                          <a:lnTo>
                            <a:pt x="87" y="140"/>
                          </a:lnTo>
                          <a:lnTo>
                            <a:pt x="84" y="139"/>
                          </a:lnTo>
                          <a:lnTo>
                            <a:pt x="81" y="137"/>
                          </a:lnTo>
                          <a:lnTo>
                            <a:pt x="78" y="137"/>
                          </a:lnTo>
                          <a:lnTo>
                            <a:pt x="76" y="136"/>
                          </a:lnTo>
                          <a:lnTo>
                            <a:pt x="73" y="135"/>
                          </a:lnTo>
                          <a:lnTo>
                            <a:pt x="70" y="134"/>
                          </a:lnTo>
                          <a:lnTo>
                            <a:pt x="67" y="134"/>
                          </a:lnTo>
                          <a:lnTo>
                            <a:pt x="65" y="132"/>
                          </a:lnTo>
                          <a:lnTo>
                            <a:pt x="62" y="131"/>
                          </a:lnTo>
                          <a:lnTo>
                            <a:pt x="59" y="130"/>
                          </a:lnTo>
                          <a:lnTo>
                            <a:pt x="57" y="130"/>
                          </a:lnTo>
                          <a:lnTo>
                            <a:pt x="54" y="129"/>
                          </a:lnTo>
                          <a:lnTo>
                            <a:pt x="50" y="127"/>
                          </a:lnTo>
                          <a:lnTo>
                            <a:pt x="48" y="127"/>
                          </a:lnTo>
                          <a:lnTo>
                            <a:pt x="45" y="126"/>
                          </a:lnTo>
                          <a:lnTo>
                            <a:pt x="43" y="125"/>
                          </a:lnTo>
                          <a:lnTo>
                            <a:pt x="39" y="124"/>
                          </a:lnTo>
                          <a:lnTo>
                            <a:pt x="37" y="122"/>
                          </a:lnTo>
                          <a:lnTo>
                            <a:pt x="34" y="122"/>
                          </a:lnTo>
                          <a:lnTo>
                            <a:pt x="32" y="121"/>
                          </a:lnTo>
                          <a:lnTo>
                            <a:pt x="29" y="120"/>
                          </a:lnTo>
                          <a:lnTo>
                            <a:pt x="25" y="119"/>
                          </a:lnTo>
                          <a:lnTo>
                            <a:pt x="23" y="119"/>
                          </a:lnTo>
                          <a:lnTo>
                            <a:pt x="20" y="117"/>
                          </a:lnTo>
                          <a:lnTo>
                            <a:pt x="18" y="116"/>
                          </a:lnTo>
                          <a:lnTo>
                            <a:pt x="15" y="115"/>
                          </a:lnTo>
                          <a:lnTo>
                            <a:pt x="11" y="115"/>
                          </a:lnTo>
                          <a:lnTo>
                            <a:pt x="9" y="114"/>
                          </a:lnTo>
                          <a:lnTo>
                            <a:pt x="8" y="111"/>
                          </a:lnTo>
                          <a:lnTo>
                            <a:pt x="5" y="107"/>
                          </a:lnTo>
                          <a:lnTo>
                            <a:pt x="4" y="104"/>
                          </a:lnTo>
                          <a:lnTo>
                            <a:pt x="4" y="101"/>
                          </a:lnTo>
                          <a:lnTo>
                            <a:pt x="3" y="97"/>
                          </a:lnTo>
                          <a:lnTo>
                            <a:pt x="1" y="94"/>
                          </a:lnTo>
                          <a:lnTo>
                            <a:pt x="0" y="89"/>
                          </a:lnTo>
                          <a:lnTo>
                            <a:pt x="0" y="85"/>
                          </a:lnTo>
                          <a:lnTo>
                            <a:pt x="0" y="81"/>
                          </a:lnTo>
                          <a:lnTo>
                            <a:pt x="0" y="77"/>
                          </a:lnTo>
                          <a:lnTo>
                            <a:pt x="0" y="72"/>
                          </a:lnTo>
                          <a:lnTo>
                            <a:pt x="0" y="69"/>
                          </a:lnTo>
                          <a:lnTo>
                            <a:pt x="0" y="64"/>
                          </a:lnTo>
                          <a:lnTo>
                            <a:pt x="0" y="60"/>
                          </a:lnTo>
                          <a:lnTo>
                            <a:pt x="0" y="55"/>
                          </a:lnTo>
                          <a:lnTo>
                            <a:pt x="1" y="51"/>
                          </a:lnTo>
                          <a:lnTo>
                            <a:pt x="3" y="47"/>
                          </a:lnTo>
                          <a:lnTo>
                            <a:pt x="4" y="44"/>
                          </a:lnTo>
                          <a:lnTo>
                            <a:pt x="4" y="39"/>
                          </a:lnTo>
                          <a:lnTo>
                            <a:pt x="6" y="35"/>
                          </a:lnTo>
                          <a:lnTo>
                            <a:pt x="8" y="31"/>
                          </a:lnTo>
                          <a:lnTo>
                            <a:pt x="9" y="27"/>
                          </a:lnTo>
                          <a:lnTo>
                            <a:pt x="11" y="24"/>
                          </a:lnTo>
                          <a:lnTo>
                            <a:pt x="14" y="21"/>
                          </a:lnTo>
                          <a:lnTo>
                            <a:pt x="15" y="17"/>
                          </a:lnTo>
                          <a:lnTo>
                            <a:pt x="18" y="15"/>
                          </a:lnTo>
                          <a:lnTo>
                            <a:pt x="20" y="12"/>
                          </a:lnTo>
                          <a:lnTo>
                            <a:pt x="23" y="10"/>
                          </a:lnTo>
                          <a:lnTo>
                            <a:pt x="25" y="7"/>
                          </a:lnTo>
                          <a:lnTo>
                            <a:pt x="29" y="5"/>
                          </a:lnTo>
                          <a:lnTo>
                            <a:pt x="32" y="4"/>
                          </a:lnTo>
                          <a:lnTo>
                            <a:pt x="35" y="2"/>
                          </a:lnTo>
                          <a:lnTo>
                            <a:pt x="38" y="1"/>
                          </a:lnTo>
                          <a:lnTo>
                            <a:pt x="42" y="1"/>
                          </a:lnTo>
                          <a:lnTo>
                            <a:pt x="45" y="0"/>
                          </a:lnTo>
                          <a:lnTo>
                            <a:pt x="49" y="1"/>
                          </a:lnTo>
                          <a:lnTo>
                            <a:pt x="52" y="1"/>
                          </a:lnTo>
                          <a:lnTo>
                            <a:pt x="54" y="1"/>
                          </a:lnTo>
                          <a:lnTo>
                            <a:pt x="57" y="1"/>
                          </a:lnTo>
                          <a:lnTo>
                            <a:pt x="59" y="1"/>
                          </a:lnTo>
                          <a:lnTo>
                            <a:pt x="62" y="1"/>
                          </a:lnTo>
                          <a:lnTo>
                            <a:pt x="64" y="2"/>
                          </a:lnTo>
                          <a:lnTo>
                            <a:pt x="67" y="2"/>
                          </a:lnTo>
                          <a:lnTo>
                            <a:pt x="70" y="4"/>
                          </a:lnTo>
                          <a:lnTo>
                            <a:pt x="73" y="5"/>
                          </a:lnTo>
                          <a:lnTo>
                            <a:pt x="76" y="5"/>
                          </a:lnTo>
                          <a:lnTo>
                            <a:pt x="78" y="6"/>
                          </a:lnTo>
                          <a:lnTo>
                            <a:pt x="82" y="6"/>
                          </a:lnTo>
                          <a:lnTo>
                            <a:pt x="84" y="7"/>
                          </a:lnTo>
                          <a:lnTo>
                            <a:pt x="88" y="9"/>
                          </a:lnTo>
                          <a:lnTo>
                            <a:pt x="91" y="9"/>
                          </a:lnTo>
                          <a:lnTo>
                            <a:pt x="94" y="10"/>
                          </a:lnTo>
                          <a:lnTo>
                            <a:pt x="97" y="11"/>
                          </a:lnTo>
                          <a:lnTo>
                            <a:pt x="101" y="12"/>
                          </a:lnTo>
                          <a:lnTo>
                            <a:pt x="104" y="14"/>
                          </a:lnTo>
                          <a:lnTo>
                            <a:pt x="108" y="15"/>
                          </a:lnTo>
                          <a:lnTo>
                            <a:pt x="111" y="15"/>
                          </a:lnTo>
                          <a:lnTo>
                            <a:pt x="114" y="17"/>
                          </a:lnTo>
                          <a:lnTo>
                            <a:pt x="117" y="17"/>
                          </a:lnTo>
                          <a:lnTo>
                            <a:pt x="121" y="19"/>
                          </a:lnTo>
                          <a:lnTo>
                            <a:pt x="125" y="20"/>
                          </a:lnTo>
                          <a:lnTo>
                            <a:pt x="127" y="21"/>
                          </a:lnTo>
                          <a:lnTo>
                            <a:pt x="131" y="22"/>
                          </a:lnTo>
                          <a:lnTo>
                            <a:pt x="135" y="24"/>
                          </a:lnTo>
                          <a:lnTo>
                            <a:pt x="137" y="25"/>
                          </a:lnTo>
                          <a:lnTo>
                            <a:pt x="141" y="26"/>
                          </a:lnTo>
                          <a:lnTo>
                            <a:pt x="143" y="27"/>
                          </a:lnTo>
                          <a:lnTo>
                            <a:pt x="147" y="29"/>
                          </a:lnTo>
                          <a:lnTo>
                            <a:pt x="150" y="30"/>
                          </a:lnTo>
                          <a:lnTo>
                            <a:pt x="153" y="31"/>
                          </a:lnTo>
                          <a:lnTo>
                            <a:pt x="157" y="32"/>
                          </a:lnTo>
                          <a:lnTo>
                            <a:pt x="160" y="34"/>
                          </a:lnTo>
                          <a:lnTo>
                            <a:pt x="162" y="35"/>
                          </a:lnTo>
                          <a:lnTo>
                            <a:pt x="166" y="36"/>
                          </a:lnTo>
                          <a:lnTo>
                            <a:pt x="168" y="37"/>
                          </a:lnTo>
                          <a:lnTo>
                            <a:pt x="172" y="39"/>
                          </a:lnTo>
                          <a:lnTo>
                            <a:pt x="175" y="39"/>
                          </a:lnTo>
                          <a:lnTo>
                            <a:pt x="177" y="40"/>
                          </a:lnTo>
                          <a:lnTo>
                            <a:pt x="180" y="41"/>
                          </a:lnTo>
                          <a:lnTo>
                            <a:pt x="184" y="42"/>
                          </a:lnTo>
                          <a:lnTo>
                            <a:pt x="186" y="44"/>
                          </a:lnTo>
                          <a:lnTo>
                            <a:pt x="189" y="45"/>
                          </a:lnTo>
                          <a:lnTo>
                            <a:pt x="190" y="45"/>
                          </a:lnTo>
                          <a:lnTo>
                            <a:pt x="194" y="46"/>
                          </a:lnTo>
                          <a:lnTo>
                            <a:pt x="195" y="47"/>
                          </a:lnTo>
                          <a:lnTo>
                            <a:pt x="197" y="47"/>
                          </a:lnTo>
                          <a:lnTo>
                            <a:pt x="200" y="49"/>
                          </a:lnTo>
                          <a:lnTo>
                            <a:pt x="202" y="50"/>
                          </a:lnTo>
                          <a:lnTo>
                            <a:pt x="206" y="51"/>
                          </a:lnTo>
                          <a:lnTo>
                            <a:pt x="210" y="52"/>
                          </a:lnTo>
                          <a:lnTo>
                            <a:pt x="206" y="54"/>
                          </a:lnTo>
                          <a:lnTo>
                            <a:pt x="204" y="56"/>
                          </a:lnTo>
                          <a:lnTo>
                            <a:pt x="201" y="57"/>
                          </a:lnTo>
                          <a:lnTo>
                            <a:pt x="199" y="60"/>
                          </a:lnTo>
                          <a:lnTo>
                            <a:pt x="196" y="61"/>
                          </a:lnTo>
                          <a:lnTo>
                            <a:pt x="195" y="64"/>
                          </a:lnTo>
                          <a:lnTo>
                            <a:pt x="192" y="65"/>
                          </a:lnTo>
                          <a:lnTo>
                            <a:pt x="191" y="67"/>
                          </a:lnTo>
                          <a:lnTo>
                            <a:pt x="187" y="72"/>
                          </a:lnTo>
                          <a:lnTo>
                            <a:pt x="185" y="76"/>
                          </a:lnTo>
                          <a:lnTo>
                            <a:pt x="182" y="79"/>
                          </a:lnTo>
                          <a:lnTo>
                            <a:pt x="181" y="81"/>
                          </a:lnTo>
                          <a:lnTo>
                            <a:pt x="181" y="82"/>
                          </a:lnTo>
                          <a:lnTo>
                            <a:pt x="180" y="85"/>
                          </a:lnTo>
                          <a:lnTo>
                            <a:pt x="177" y="90"/>
                          </a:lnTo>
                          <a:lnTo>
                            <a:pt x="176" y="94"/>
                          </a:lnTo>
                          <a:lnTo>
                            <a:pt x="176" y="96"/>
                          </a:lnTo>
                          <a:lnTo>
                            <a:pt x="175" y="99"/>
                          </a:lnTo>
                          <a:lnTo>
                            <a:pt x="175" y="100"/>
                          </a:lnTo>
                          <a:lnTo>
                            <a:pt x="175" y="102"/>
                          </a:lnTo>
                          <a:lnTo>
                            <a:pt x="175" y="107"/>
                          </a:lnTo>
                          <a:lnTo>
                            <a:pt x="175" y="111"/>
                          </a:lnTo>
                          <a:lnTo>
                            <a:pt x="175" y="115"/>
                          </a:lnTo>
                          <a:lnTo>
                            <a:pt x="175" y="120"/>
                          </a:lnTo>
                          <a:lnTo>
                            <a:pt x="175" y="124"/>
                          </a:lnTo>
                          <a:lnTo>
                            <a:pt x="176" y="127"/>
                          </a:lnTo>
                          <a:lnTo>
                            <a:pt x="176" y="130"/>
                          </a:lnTo>
                          <a:lnTo>
                            <a:pt x="177" y="135"/>
                          </a:lnTo>
                          <a:lnTo>
                            <a:pt x="179" y="137"/>
                          </a:lnTo>
                          <a:lnTo>
                            <a:pt x="179" y="141"/>
                          </a:lnTo>
                          <a:lnTo>
                            <a:pt x="180" y="144"/>
                          </a:lnTo>
                          <a:lnTo>
                            <a:pt x="181" y="148"/>
                          </a:lnTo>
                          <a:lnTo>
                            <a:pt x="182" y="150"/>
                          </a:lnTo>
                          <a:lnTo>
                            <a:pt x="184" y="153"/>
                          </a:lnTo>
                          <a:lnTo>
                            <a:pt x="184" y="154"/>
                          </a:lnTo>
                          <a:lnTo>
                            <a:pt x="185" y="156"/>
                          </a:lnTo>
                          <a:lnTo>
                            <a:pt x="186" y="159"/>
                          </a:lnTo>
                          <a:lnTo>
                            <a:pt x="187" y="161"/>
                          </a:lnTo>
                          <a:lnTo>
                            <a:pt x="187" y="161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3863160" y="4665960"/>
                      <a:ext cx="201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35">
                          <a:moveTo>
                            <a:pt x="0" y="24"/>
                          </a:moveTo>
                          <a:lnTo>
                            <a:pt x="0" y="22"/>
                          </a:lnTo>
                          <a:lnTo>
                            <a:pt x="2" y="21"/>
                          </a:lnTo>
                          <a:lnTo>
                            <a:pt x="3" y="19"/>
                          </a:lnTo>
                          <a:lnTo>
                            <a:pt x="7" y="17"/>
                          </a:lnTo>
                          <a:lnTo>
                            <a:pt x="9" y="15"/>
                          </a:lnTo>
                          <a:lnTo>
                            <a:pt x="13" y="14"/>
                          </a:lnTo>
                          <a:lnTo>
                            <a:pt x="17" y="11"/>
                          </a:lnTo>
                          <a:lnTo>
                            <a:pt x="20" y="10"/>
                          </a:lnTo>
                          <a:lnTo>
                            <a:pt x="24" y="7"/>
                          </a:lnTo>
                          <a:lnTo>
                            <a:pt x="28" y="6"/>
                          </a:lnTo>
                          <a:lnTo>
                            <a:pt x="32" y="4"/>
                          </a:lnTo>
                          <a:lnTo>
                            <a:pt x="35" y="2"/>
                          </a:lnTo>
                          <a:lnTo>
                            <a:pt x="38" y="1"/>
                          </a:lnTo>
                          <a:lnTo>
                            <a:pt x="40" y="1"/>
                          </a:lnTo>
                          <a:lnTo>
                            <a:pt x="43" y="0"/>
                          </a:lnTo>
                          <a:lnTo>
                            <a:pt x="45" y="0"/>
                          </a:lnTo>
                          <a:lnTo>
                            <a:pt x="61" y="9"/>
                          </a:lnTo>
                          <a:lnTo>
                            <a:pt x="57" y="10"/>
                          </a:lnTo>
                          <a:lnTo>
                            <a:pt x="54" y="12"/>
                          </a:lnTo>
                          <a:lnTo>
                            <a:pt x="52" y="14"/>
                          </a:lnTo>
                          <a:lnTo>
                            <a:pt x="48" y="15"/>
                          </a:lnTo>
                          <a:lnTo>
                            <a:pt x="45" y="16"/>
                          </a:lnTo>
                          <a:lnTo>
                            <a:pt x="42" y="19"/>
                          </a:lnTo>
                          <a:lnTo>
                            <a:pt x="39" y="20"/>
                          </a:lnTo>
                          <a:lnTo>
                            <a:pt x="35" y="21"/>
                          </a:lnTo>
                          <a:lnTo>
                            <a:pt x="32" y="22"/>
                          </a:lnTo>
                          <a:lnTo>
                            <a:pt x="28" y="25"/>
                          </a:lnTo>
                          <a:lnTo>
                            <a:pt x="25" y="26"/>
                          </a:lnTo>
                          <a:lnTo>
                            <a:pt x="22" y="27"/>
                          </a:lnTo>
                          <a:lnTo>
                            <a:pt x="18" y="30"/>
                          </a:lnTo>
                          <a:lnTo>
                            <a:pt x="15" y="31"/>
                          </a:lnTo>
                          <a:lnTo>
                            <a:pt x="12" y="33"/>
                          </a:lnTo>
                          <a:lnTo>
                            <a:pt x="9" y="35"/>
                          </a:lnTo>
                          <a:lnTo>
                            <a:pt x="9" y="35"/>
                          </a:lnTo>
                          <a:lnTo>
                            <a:pt x="8" y="35"/>
                          </a:lnTo>
                          <a:lnTo>
                            <a:pt x="7" y="34"/>
                          </a:lnTo>
                          <a:lnTo>
                            <a:pt x="5" y="31"/>
                          </a:lnTo>
                          <a:lnTo>
                            <a:pt x="3" y="29"/>
                          </a:lnTo>
                          <a:lnTo>
                            <a:pt x="2" y="26"/>
                          </a:lnTo>
                          <a:lnTo>
                            <a:pt x="0" y="25"/>
                          </a:lnTo>
                          <a:lnTo>
                            <a:pt x="0" y="24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3722400" y="4620600"/>
                      <a:ext cx="10188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1" h="163">
                          <a:moveTo>
                            <a:pt x="138" y="163"/>
                          </a:moveTo>
                          <a:lnTo>
                            <a:pt x="136" y="161"/>
                          </a:lnTo>
                          <a:lnTo>
                            <a:pt x="132" y="159"/>
                          </a:lnTo>
                          <a:lnTo>
                            <a:pt x="129" y="158"/>
                          </a:lnTo>
                          <a:lnTo>
                            <a:pt x="126" y="156"/>
                          </a:lnTo>
                          <a:lnTo>
                            <a:pt x="123" y="155"/>
                          </a:lnTo>
                          <a:lnTo>
                            <a:pt x="121" y="154"/>
                          </a:lnTo>
                          <a:lnTo>
                            <a:pt x="118" y="153"/>
                          </a:lnTo>
                          <a:lnTo>
                            <a:pt x="116" y="151"/>
                          </a:lnTo>
                          <a:lnTo>
                            <a:pt x="113" y="150"/>
                          </a:lnTo>
                          <a:lnTo>
                            <a:pt x="112" y="150"/>
                          </a:lnTo>
                          <a:lnTo>
                            <a:pt x="109" y="149"/>
                          </a:lnTo>
                          <a:lnTo>
                            <a:pt x="107" y="148"/>
                          </a:lnTo>
                          <a:lnTo>
                            <a:pt x="103" y="146"/>
                          </a:lnTo>
                          <a:lnTo>
                            <a:pt x="101" y="145"/>
                          </a:lnTo>
                          <a:lnTo>
                            <a:pt x="98" y="144"/>
                          </a:lnTo>
                          <a:lnTo>
                            <a:pt x="95" y="143"/>
                          </a:lnTo>
                          <a:lnTo>
                            <a:pt x="92" y="141"/>
                          </a:lnTo>
                          <a:lnTo>
                            <a:pt x="89" y="140"/>
                          </a:lnTo>
                          <a:lnTo>
                            <a:pt x="85" y="139"/>
                          </a:lnTo>
                          <a:lnTo>
                            <a:pt x="83" y="138"/>
                          </a:lnTo>
                          <a:lnTo>
                            <a:pt x="80" y="136"/>
                          </a:lnTo>
                          <a:lnTo>
                            <a:pt x="78" y="135"/>
                          </a:lnTo>
                          <a:lnTo>
                            <a:pt x="74" y="134"/>
                          </a:lnTo>
                          <a:lnTo>
                            <a:pt x="72" y="133"/>
                          </a:lnTo>
                          <a:lnTo>
                            <a:pt x="68" y="131"/>
                          </a:lnTo>
                          <a:lnTo>
                            <a:pt x="65" y="130"/>
                          </a:lnTo>
                          <a:lnTo>
                            <a:pt x="62" y="129"/>
                          </a:lnTo>
                          <a:lnTo>
                            <a:pt x="59" y="128"/>
                          </a:lnTo>
                          <a:lnTo>
                            <a:pt x="57" y="126"/>
                          </a:lnTo>
                          <a:lnTo>
                            <a:pt x="54" y="125"/>
                          </a:lnTo>
                          <a:lnTo>
                            <a:pt x="50" y="124"/>
                          </a:lnTo>
                          <a:lnTo>
                            <a:pt x="48" y="123"/>
                          </a:lnTo>
                          <a:lnTo>
                            <a:pt x="44" y="121"/>
                          </a:lnTo>
                          <a:lnTo>
                            <a:pt x="41" y="120"/>
                          </a:lnTo>
                          <a:lnTo>
                            <a:pt x="39" y="119"/>
                          </a:lnTo>
                          <a:lnTo>
                            <a:pt x="36" y="118"/>
                          </a:lnTo>
                          <a:lnTo>
                            <a:pt x="34" y="116"/>
                          </a:lnTo>
                          <a:lnTo>
                            <a:pt x="31" y="115"/>
                          </a:lnTo>
                          <a:lnTo>
                            <a:pt x="29" y="114"/>
                          </a:lnTo>
                          <a:lnTo>
                            <a:pt x="26" y="113"/>
                          </a:lnTo>
                          <a:lnTo>
                            <a:pt x="24" y="111"/>
                          </a:lnTo>
                          <a:lnTo>
                            <a:pt x="21" y="111"/>
                          </a:lnTo>
                          <a:lnTo>
                            <a:pt x="19" y="110"/>
                          </a:lnTo>
                          <a:lnTo>
                            <a:pt x="18" y="109"/>
                          </a:lnTo>
                          <a:lnTo>
                            <a:pt x="13" y="108"/>
                          </a:lnTo>
                          <a:lnTo>
                            <a:pt x="10" y="105"/>
                          </a:lnTo>
                          <a:lnTo>
                            <a:pt x="6" y="104"/>
                          </a:lnTo>
                          <a:lnTo>
                            <a:pt x="5" y="104"/>
                          </a:lnTo>
                          <a:lnTo>
                            <a:pt x="3" y="103"/>
                          </a:lnTo>
                          <a:lnTo>
                            <a:pt x="1" y="100"/>
                          </a:lnTo>
                          <a:lnTo>
                            <a:pt x="0" y="100"/>
                          </a:lnTo>
                          <a:lnTo>
                            <a:pt x="0" y="100"/>
                          </a:lnTo>
                          <a:lnTo>
                            <a:pt x="3" y="99"/>
                          </a:lnTo>
                          <a:lnTo>
                            <a:pt x="6" y="96"/>
                          </a:lnTo>
                          <a:lnTo>
                            <a:pt x="9" y="95"/>
                          </a:lnTo>
                          <a:lnTo>
                            <a:pt x="11" y="94"/>
                          </a:lnTo>
                          <a:lnTo>
                            <a:pt x="14" y="93"/>
                          </a:lnTo>
                          <a:lnTo>
                            <a:pt x="16" y="91"/>
                          </a:lnTo>
                          <a:lnTo>
                            <a:pt x="20" y="89"/>
                          </a:lnTo>
                          <a:lnTo>
                            <a:pt x="23" y="88"/>
                          </a:lnTo>
                          <a:lnTo>
                            <a:pt x="25" y="86"/>
                          </a:lnTo>
                          <a:lnTo>
                            <a:pt x="28" y="85"/>
                          </a:lnTo>
                          <a:lnTo>
                            <a:pt x="30" y="84"/>
                          </a:lnTo>
                          <a:lnTo>
                            <a:pt x="34" y="83"/>
                          </a:lnTo>
                          <a:lnTo>
                            <a:pt x="36" y="81"/>
                          </a:lnTo>
                          <a:lnTo>
                            <a:pt x="39" y="79"/>
                          </a:lnTo>
                          <a:lnTo>
                            <a:pt x="41" y="78"/>
                          </a:lnTo>
                          <a:lnTo>
                            <a:pt x="45" y="76"/>
                          </a:lnTo>
                          <a:lnTo>
                            <a:pt x="48" y="75"/>
                          </a:lnTo>
                          <a:lnTo>
                            <a:pt x="50" y="74"/>
                          </a:lnTo>
                          <a:lnTo>
                            <a:pt x="54" y="73"/>
                          </a:lnTo>
                          <a:lnTo>
                            <a:pt x="57" y="71"/>
                          </a:lnTo>
                          <a:lnTo>
                            <a:pt x="59" y="70"/>
                          </a:lnTo>
                          <a:lnTo>
                            <a:pt x="62" y="68"/>
                          </a:lnTo>
                          <a:lnTo>
                            <a:pt x="64" y="66"/>
                          </a:lnTo>
                          <a:lnTo>
                            <a:pt x="68" y="65"/>
                          </a:lnTo>
                          <a:lnTo>
                            <a:pt x="70" y="64"/>
                          </a:lnTo>
                          <a:lnTo>
                            <a:pt x="73" y="63"/>
                          </a:lnTo>
                          <a:lnTo>
                            <a:pt x="75" y="61"/>
                          </a:lnTo>
                          <a:lnTo>
                            <a:pt x="79" y="60"/>
                          </a:lnTo>
                          <a:lnTo>
                            <a:pt x="82" y="58"/>
                          </a:lnTo>
                          <a:lnTo>
                            <a:pt x="84" y="56"/>
                          </a:lnTo>
                          <a:lnTo>
                            <a:pt x="87" y="56"/>
                          </a:lnTo>
                          <a:lnTo>
                            <a:pt x="90" y="54"/>
                          </a:lnTo>
                          <a:lnTo>
                            <a:pt x="93" y="53"/>
                          </a:lnTo>
                          <a:lnTo>
                            <a:pt x="95" y="51"/>
                          </a:lnTo>
                          <a:lnTo>
                            <a:pt x="99" y="50"/>
                          </a:lnTo>
                          <a:lnTo>
                            <a:pt x="102" y="49"/>
                          </a:lnTo>
                          <a:lnTo>
                            <a:pt x="104" y="46"/>
                          </a:lnTo>
                          <a:lnTo>
                            <a:pt x="107" y="45"/>
                          </a:lnTo>
                          <a:lnTo>
                            <a:pt x="111" y="44"/>
                          </a:lnTo>
                          <a:lnTo>
                            <a:pt x="113" y="43"/>
                          </a:lnTo>
                          <a:lnTo>
                            <a:pt x="116" y="41"/>
                          </a:lnTo>
                          <a:lnTo>
                            <a:pt x="118" y="39"/>
                          </a:lnTo>
                          <a:lnTo>
                            <a:pt x="122" y="39"/>
                          </a:lnTo>
                          <a:lnTo>
                            <a:pt x="124" y="36"/>
                          </a:lnTo>
                          <a:lnTo>
                            <a:pt x="127" y="35"/>
                          </a:lnTo>
                          <a:lnTo>
                            <a:pt x="129" y="34"/>
                          </a:lnTo>
                          <a:lnTo>
                            <a:pt x="133" y="33"/>
                          </a:lnTo>
                          <a:lnTo>
                            <a:pt x="136" y="31"/>
                          </a:lnTo>
                          <a:lnTo>
                            <a:pt x="138" y="30"/>
                          </a:lnTo>
                          <a:lnTo>
                            <a:pt x="142" y="27"/>
                          </a:lnTo>
                          <a:lnTo>
                            <a:pt x="144" y="26"/>
                          </a:lnTo>
                          <a:lnTo>
                            <a:pt x="147" y="25"/>
                          </a:lnTo>
                          <a:lnTo>
                            <a:pt x="149" y="24"/>
                          </a:lnTo>
                          <a:lnTo>
                            <a:pt x="153" y="22"/>
                          </a:lnTo>
                          <a:lnTo>
                            <a:pt x="156" y="21"/>
                          </a:lnTo>
                          <a:lnTo>
                            <a:pt x="160" y="20"/>
                          </a:lnTo>
                          <a:lnTo>
                            <a:pt x="161" y="17"/>
                          </a:lnTo>
                          <a:lnTo>
                            <a:pt x="165" y="16"/>
                          </a:lnTo>
                          <a:lnTo>
                            <a:pt x="167" y="15"/>
                          </a:lnTo>
                          <a:lnTo>
                            <a:pt x="171" y="14"/>
                          </a:lnTo>
                          <a:lnTo>
                            <a:pt x="173" y="12"/>
                          </a:lnTo>
                          <a:lnTo>
                            <a:pt x="176" y="10"/>
                          </a:lnTo>
                          <a:lnTo>
                            <a:pt x="178" y="9"/>
                          </a:lnTo>
                          <a:lnTo>
                            <a:pt x="182" y="7"/>
                          </a:lnTo>
                          <a:lnTo>
                            <a:pt x="185" y="5"/>
                          </a:lnTo>
                          <a:lnTo>
                            <a:pt x="188" y="2"/>
                          </a:lnTo>
                          <a:lnTo>
                            <a:pt x="191" y="1"/>
                          </a:lnTo>
                          <a:lnTo>
                            <a:pt x="195" y="0"/>
                          </a:lnTo>
                          <a:lnTo>
                            <a:pt x="198" y="0"/>
                          </a:lnTo>
                          <a:lnTo>
                            <a:pt x="202" y="0"/>
                          </a:lnTo>
                          <a:lnTo>
                            <a:pt x="206" y="1"/>
                          </a:lnTo>
                          <a:lnTo>
                            <a:pt x="210" y="2"/>
                          </a:lnTo>
                          <a:lnTo>
                            <a:pt x="214" y="4"/>
                          </a:lnTo>
                          <a:lnTo>
                            <a:pt x="217" y="5"/>
                          </a:lnTo>
                          <a:lnTo>
                            <a:pt x="221" y="7"/>
                          </a:lnTo>
                          <a:lnTo>
                            <a:pt x="226" y="9"/>
                          </a:lnTo>
                          <a:lnTo>
                            <a:pt x="230" y="11"/>
                          </a:lnTo>
                          <a:lnTo>
                            <a:pt x="235" y="12"/>
                          </a:lnTo>
                          <a:lnTo>
                            <a:pt x="236" y="14"/>
                          </a:lnTo>
                          <a:lnTo>
                            <a:pt x="239" y="15"/>
                          </a:lnTo>
                          <a:lnTo>
                            <a:pt x="241" y="15"/>
                          </a:lnTo>
                          <a:lnTo>
                            <a:pt x="244" y="16"/>
                          </a:lnTo>
                          <a:lnTo>
                            <a:pt x="247" y="17"/>
                          </a:lnTo>
                          <a:lnTo>
                            <a:pt x="251" y="20"/>
                          </a:lnTo>
                          <a:lnTo>
                            <a:pt x="254" y="21"/>
                          </a:lnTo>
                          <a:lnTo>
                            <a:pt x="258" y="22"/>
                          </a:lnTo>
                          <a:lnTo>
                            <a:pt x="261" y="24"/>
                          </a:lnTo>
                          <a:lnTo>
                            <a:pt x="265" y="25"/>
                          </a:lnTo>
                          <a:lnTo>
                            <a:pt x="269" y="26"/>
                          </a:lnTo>
                          <a:lnTo>
                            <a:pt x="273" y="27"/>
                          </a:lnTo>
                          <a:lnTo>
                            <a:pt x="276" y="27"/>
                          </a:lnTo>
                          <a:lnTo>
                            <a:pt x="280" y="29"/>
                          </a:lnTo>
                          <a:lnTo>
                            <a:pt x="284" y="30"/>
                          </a:lnTo>
                          <a:lnTo>
                            <a:pt x="286" y="31"/>
                          </a:lnTo>
                          <a:lnTo>
                            <a:pt x="290" y="31"/>
                          </a:lnTo>
                          <a:lnTo>
                            <a:pt x="294" y="33"/>
                          </a:lnTo>
                          <a:lnTo>
                            <a:pt x="298" y="33"/>
                          </a:lnTo>
                          <a:lnTo>
                            <a:pt x="301" y="34"/>
                          </a:lnTo>
                          <a:lnTo>
                            <a:pt x="300" y="36"/>
                          </a:lnTo>
                          <a:lnTo>
                            <a:pt x="300" y="39"/>
                          </a:lnTo>
                          <a:lnTo>
                            <a:pt x="300" y="41"/>
                          </a:lnTo>
                          <a:lnTo>
                            <a:pt x="300" y="45"/>
                          </a:lnTo>
                          <a:lnTo>
                            <a:pt x="300" y="48"/>
                          </a:lnTo>
                          <a:lnTo>
                            <a:pt x="301" y="50"/>
                          </a:lnTo>
                          <a:lnTo>
                            <a:pt x="301" y="53"/>
                          </a:lnTo>
                          <a:lnTo>
                            <a:pt x="301" y="56"/>
                          </a:lnTo>
                          <a:lnTo>
                            <a:pt x="301" y="58"/>
                          </a:lnTo>
                          <a:lnTo>
                            <a:pt x="301" y="61"/>
                          </a:lnTo>
                          <a:lnTo>
                            <a:pt x="301" y="64"/>
                          </a:lnTo>
                          <a:lnTo>
                            <a:pt x="301" y="66"/>
                          </a:lnTo>
                          <a:lnTo>
                            <a:pt x="301" y="69"/>
                          </a:lnTo>
                          <a:lnTo>
                            <a:pt x="300" y="71"/>
                          </a:lnTo>
                          <a:lnTo>
                            <a:pt x="299" y="75"/>
                          </a:lnTo>
                          <a:lnTo>
                            <a:pt x="298" y="78"/>
                          </a:lnTo>
                          <a:lnTo>
                            <a:pt x="295" y="79"/>
                          </a:lnTo>
                          <a:lnTo>
                            <a:pt x="293" y="80"/>
                          </a:lnTo>
                          <a:lnTo>
                            <a:pt x="290" y="83"/>
                          </a:lnTo>
                          <a:lnTo>
                            <a:pt x="289" y="84"/>
                          </a:lnTo>
                          <a:lnTo>
                            <a:pt x="286" y="85"/>
                          </a:lnTo>
                          <a:lnTo>
                            <a:pt x="284" y="86"/>
                          </a:lnTo>
                          <a:lnTo>
                            <a:pt x="281" y="89"/>
                          </a:lnTo>
                          <a:lnTo>
                            <a:pt x="280" y="90"/>
                          </a:lnTo>
                          <a:lnTo>
                            <a:pt x="278" y="91"/>
                          </a:lnTo>
                          <a:lnTo>
                            <a:pt x="275" y="94"/>
                          </a:lnTo>
                          <a:lnTo>
                            <a:pt x="273" y="95"/>
                          </a:lnTo>
                          <a:lnTo>
                            <a:pt x="270" y="96"/>
                          </a:lnTo>
                          <a:lnTo>
                            <a:pt x="268" y="98"/>
                          </a:lnTo>
                          <a:lnTo>
                            <a:pt x="265" y="100"/>
                          </a:lnTo>
                          <a:lnTo>
                            <a:pt x="263" y="101"/>
                          </a:lnTo>
                          <a:lnTo>
                            <a:pt x="261" y="103"/>
                          </a:lnTo>
                          <a:lnTo>
                            <a:pt x="259" y="104"/>
                          </a:lnTo>
                          <a:lnTo>
                            <a:pt x="256" y="105"/>
                          </a:lnTo>
                          <a:lnTo>
                            <a:pt x="254" y="106"/>
                          </a:lnTo>
                          <a:lnTo>
                            <a:pt x="251" y="109"/>
                          </a:lnTo>
                          <a:lnTo>
                            <a:pt x="249" y="110"/>
                          </a:lnTo>
                          <a:lnTo>
                            <a:pt x="246" y="111"/>
                          </a:lnTo>
                          <a:lnTo>
                            <a:pt x="244" y="113"/>
                          </a:lnTo>
                          <a:lnTo>
                            <a:pt x="241" y="114"/>
                          </a:lnTo>
                          <a:lnTo>
                            <a:pt x="239" y="115"/>
                          </a:lnTo>
                          <a:lnTo>
                            <a:pt x="236" y="116"/>
                          </a:lnTo>
                          <a:lnTo>
                            <a:pt x="234" y="118"/>
                          </a:lnTo>
                          <a:lnTo>
                            <a:pt x="231" y="120"/>
                          </a:lnTo>
                          <a:lnTo>
                            <a:pt x="229" y="120"/>
                          </a:lnTo>
                          <a:lnTo>
                            <a:pt x="226" y="123"/>
                          </a:lnTo>
                          <a:lnTo>
                            <a:pt x="224" y="124"/>
                          </a:lnTo>
                          <a:lnTo>
                            <a:pt x="221" y="125"/>
                          </a:lnTo>
                          <a:lnTo>
                            <a:pt x="219" y="126"/>
                          </a:lnTo>
                          <a:lnTo>
                            <a:pt x="216" y="128"/>
                          </a:lnTo>
                          <a:lnTo>
                            <a:pt x="214" y="129"/>
                          </a:lnTo>
                          <a:lnTo>
                            <a:pt x="211" y="130"/>
                          </a:lnTo>
                          <a:lnTo>
                            <a:pt x="209" y="131"/>
                          </a:lnTo>
                          <a:lnTo>
                            <a:pt x="206" y="133"/>
                          </a:lnTo>
                          <a:lnTo>
                            <a:pt x="204" y="134"/>
                          </a:lnTo>
                          <a:lnTo>
                            <a:pt x="201" y="135"/>
                          </a:lnTo>
                          <a:lnTo>
                            <a:pt x="197" y="136"/>
                          </a:lnTo>
                          <a:lnTo>
                            <a:pt x="195" y="138"/>
                          </a:lnTo>
                          <a:lnTo>
                            <a:pt x="192" y="139"/>
                          </a:lnTo>
                          <a:lnTo>
                            <a:pt x="190" y="140"/>
                          </a:lnTo>
                          <a:lnTo>
                            <a:pt x="187" y="141"/>
                          </a:lnTo>
                          <a:lnTo>
                            <a:pt x="185" y="143"/>
                          </a:lnTo>
                          <a:lnTo>
                            <a:pt x="182" y="144"/>
                          </a:lnTo>
                          <a:lnTo>
                            <a:pt x="180" y="145"/>
                          </a:lnTo>
                          <a:lnTo>
                            <a:pt x="177" y="145"/>
                          </a:lnTo>
                          <a:lnTo>
                            <a:pt x="175" y="146"/>
                          </a:lnTo>
                          <a:lnTo>
                            <a:pt x="172" y="148"/>
                          </a:lnTo>
                          <a:lnTo>
                            <a:pt x="170" y="149"/>
                          </a:lnTo>
                          <a:lnTo>
                            <a:pt x="166" y="150"/>
                          </a:lnTo>
                          <a:lnTo>
                            <a:pt x="163" y="151"/>
                          </a:lnTo>
                          <a:lnTo>
                            <a:pt x="161" y="153"/>
                          </a:lnTo>
                          <a:lnTo>
                            <a:pt x="160" y="154"/>
                          </a:lnTo>
                          <a:lnTo>
                            <a:pt x="156" y="154"/>
                          </a:lnTo>
                          <a:lnTo>
                            <a:pt x="153" y="155"/>
                          </a:lnTo>
                          <a:lnTo>
                            <a:pt x="151" y="156"/>
                          </a:lnTo>
                          <a:lnTo>
                            <a:pt x="148" y="158"/>
                          </a:lnTo>
                          <a:lnTo>
                            <a:pt x="146" y="159"/>
                          </a:lnTo>
                          <a:lnTo>
                            <a:pt x="143" y="160"/>
                          </a:lnTo>
                          <a:lnTo>
                            <a:pt x="141" y="161"/>
                          </a:lnTo>
                          <a:lnTo>
                            <a:pt x="138" y="163"/>
                          </a:lnTo>
                          <a:lnTo>
                            <a:pt x="138" y="163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3878640" y="4628520"/>
                      <a:ext cx="223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19">
                          <a:moveTo>
                            <a:pt x="6" y="113"/>
                          </a:moveTo>
                          <a:lnTo>
                            <a:pt x="5" y="111"/>
                          </a:lnTo>
                          <a:lnTo>
                            <a:pt x="4" y="109"/>
                          </a:lnTo>
                          <a:lnTo>
                            <a:pt x="4" y="106"/>
                          </a:lnTo>
                          <a:lnTo>
                            <a:pt x="2" y="104"/>
                          </a:lnTo>
                          <a:lnTo>
                            <a:pt x="1" y="100"/>
                          </a:lnTo>
                          <a:lnTo>
                            <a:pt x="1" y="95"/>
                          </a:lnTo>
                          <a:lnTo>
                            <a:pt x="0" y="93"/>
                          </a:lnTo>
                          <a:lnTo>
                            <a:pt x="0" y="91"/>
                          </a:lnTo>
                          <a:lnTo>
                            <a:pt x="0" y="89"/>
                          </a:lnTo>
                          <a:lnTo>
                            <a:pt x="0" y="86"/>
                          </a:lnTo>
                          <a:lnTo>
                            <a:pt x="0" y="84"/>
                          </a:lnTo>
                          <a:lnTo>
                            <a:pt x="0" y="83"/>
                          </a:lnTo>
                          <a:lnTo>
                            <a:pt x="0" y="80"/>
                          </a:lnTo>
                          <a:lnTo>
                            <a:pt x="0" y="78"/>
                          </a:lnTo>
                          <a:lnTo>
                            <a:pt x="0" y="75"/>
                          </a:lnTo>
                          <a:lnTo>
                            <a:pt x="0" y="73"/>
                          </a:lnTo>
                          <a:lnTo>
                            <a:pt x="0" y="70"/>
                          </a:lnTo>
                          <a:lnTo>
                            <a:pt x="0" y="69"/>
                          </a:lnTo>
                          <a:lnTo>
                            <a:pt x="0" y="66"/>
                          </a:lnTo>
                          <a:lnTo>
                            <a:pt x="1" y="64"/>
                          </a:lnTo>
                          <a:lnTo>
                            <a:pt x="1" y="61"/>
                          </a:lnTo>
                          <a:lnTo>
                            <a:pt x="2" y="59"/>
                          </a:lnTo>
                          <a:lnTo>
                            <a:pt x="2" y="56"/>
                          </a:lnTo>
                          <a:lnTo>
                            <a:pt x="2" y="55"/>
                          </a:lnTo>
                          <a:lnTo>
                            <a:pt x="4" y="53"/>
                          </a:lnTo>
                          <a:lnTo>
                            <a:pt x="4" y="50"/>
                          </a:lnTo>
                          <a:lnTo>
                            <a:pt x="5" y="45"/>
                          </a:lnTo>
                          <a:lnTo>
                            <a:pt x="7" y="43"/>
                          </a:lnTo>
                          <a:lnTo>
                            <a:pt x="9" y="38"/>
                          </a:lnTo>
                          <a:lnTo>
                            <a:pt x="10" y="34"/>
                          </a:lnTo>
                          <a:lnTo>
                            <a:pt x="12" y="30"/>
                          </a:lnTo>
                          <a:lnTo>
                            <a:pt x="15" y="26"/>
                          </a:lnTo>
                          <a:lnTo>
                            <a:pt x="17" y="23"/>
                          </a:lnTo>
                          <a:lnTo>
                            <a:pt x="20" y="19"/>
                          </a:lnTo>
                          <a:lnTo>
                            <a:pt x="22" y="15"/>
                          </a:lnTo>
                          <a:lnTo>
                            <a:pt x="25" y="14"/>
                          </a:lnTo>
                          <a:lnTo>
                            <a:pt x="27" y="10"/>
                          </a:lnTo>
                          <a:lnTo>
                            <a:pt x="31" y="8"/>
                          </a:lnTo>
                          <a:lnTo>
                            <a:pt x="34" y="5"/>
                          </a:lnTo>
                          <a:lnTo>
                            <a:pt x="37" y="4"/>
                          </a:lnTo>
                          <a:lnTo>
                            <a:pt x="41" y="2"/>
                          </a:lnTo>
                          <a:lnTo>
                            <a:pt x="45" y="1"/>
                          </a:lnTo>
                          <a:lnTo>
                            <a:pt x="49" y="0"/>
                          </a:lnTo>
                          <a:lnTo>
                            <a:pt x="52" y="0"/>
                          </a:lnTo>
                          <a:lnTo>
                            <a:pt x="64" y="5"/>
                          </a:lnTo>
                          <a:lnTo>
                            <a:pt x="61" y="6"/>
                          </a:lnTo>
                          <a:lnTo>
                            <a:pt x="59" y="8"/>
                          </a:lnTo>
                          <a:lnTo>
                            <a:pt x="58" y="9"/>
                          </a:lnTo>
                          <a:lnTo>
                            <a:pt x="55" y="10"/>
                          </a:lnTo>
                          <a:lnTo>
                            <a:pt x="52" y="13"/>
                          </a:lnTo>
                          <a:lnTo>
                            <a:pt x="49" y="15"/>
                          </a:lnTo>
                          <a:lnTo>
                            <a:pt x="45" y="18"/>
                          </a:lnTo>
                          <a:lnTo>
                            <a:pt x="42" y="21"/>
                          </a:lnTo>
                          <a:lnTo>
                            <a:pt x="40" y="25"/>
                          </a:lnTo>
                          <a:lnTo>
                            <a:pt x="37" y="29"/>
                          </a:lnTo>
                          <a:lnTo>
                            <a:pt x="35" y="31"/>
                          </a:lnTo>
                          <a:lnTo>
                            <a:pt x="32" y="35"/>
                          </a:lnTo>
                          <a:lnTo>
                            <a:pt x="31" y="39"/>
                          </a:lnTo>
                          <a:lnTo>
                            <a:pt x="30" y="43"/>
                          </a:lnTo>
                          <a:lnTo>
                            <a:pt x="27" y="45"/>
                          </a:lnTo>
                          <a:lnTo>
                            <a:pt x="26" y="49"/>
                          </a:lnTo>
                          <a:lnTo>
                            <a:pt x="26" y="53"/>
                          </a:lnTo>
                          <a:lnTo>
                            <a:pt x="25" y="58"/>
                          </a:lnTo>
                          <a:lnTo>
                            <a:pt x="24" y="61"/>
                          </a:lnTo>
                          <a:lnTo>
                            <a:pt x="22" y="64"/>
                          </a:lnTo>
                          <a:lnTo>
                            <a:pt x="22" y="69"/>
                          </a:lnTo>
                          <a:lnTo>
                            <a:pt x="22" y="73"/>
                          </a:lnTo>
                          <a:lnTo>
                            <a:pt x="21" y="76"/>
                          </a:lnTo>
                          <a:lnTo>
                            <a:pt x="21" y="80"/>
                          </a:lnTo>
                          <a:lnTo>
                            <a:pt x="21" y="84"/>
                          </a:lnTo>
                          <a:lnTo>
                            <a:pt x="21" y="89"/>
                          </a:lnTo>
                          <a:lnTo>
                            <a:pt x="21" y="93"/>
                          </a:lnTo>
                          <a:lnTo>
                            <a:pt x="21" y="95"/>
                          </a:lnTo>
                          <a:lnTo>
                            <a:pt x="21" y="99"/>
                          </a:lnTo>
                          <a:lnTo>
                            <a:pt x="21" y="104"/>
                          </a:lnTo>
                          <a:lnTo>
                            <a:pt x="21" y="108"/>
                          </a:lnTo>
                          <a:lnTo>
                            <a:pt x="22" y="111"/>
                          </a:lnTo>
                          <a:lnTo>
                            <a:pt x="22" y="114"/>
                          </a:lnTo>
                          <a:lnTo>
                            <a:pt x="24" y="119"/>
                          </a:lnTo>
                          <a:lnTo>
                            <a:pt x="6" y="113"/>
                          </a:lnTo>
                          <a:lnTo>
                            <a:pt x="6" y="113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3832560" y="4611240"/>
                      <a:ext cx="5796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163">
                          <a:moveTo>
                            <a:pt x="2" y="89"/>
                          </a:moveTo>
                          <a:lnTo>
                            <a:pt x="0" y="85"/>
                          </a:lnTo>
                          <a:lnTo>
                            <a:pt x="0" y="83"/>
                          </a:lnTo>
                          <a:lnTo>
                            <a:pt x="0" y="79"/>
                          </a:lnTo>
                          <a:lnTo>
                            <a:pt x="0" y="75"/>
                          </a:lnTo>
                          <a:lnTo>
                            <a:pt x="0" y="72"/>
                          </a:lnTo>
                          <a:lnTo>
                            <a:pt x="0" y="68"/>
                          </a:lnTo>
                          <a:lnTo>
                            <a:pt x="2" y="64"/>
                          </a:lnTo>
                          <a:lnTo>
                            <a:pt x="3" y="60"/>
                          </a:lnTo>
                          <a:lnTo>
                            <a:pt x="4" y="56"/>
                          </a:lnTo>
                          <a:lnTo>
                            <a:pt x="4" y="53"/>
                          </a:lnTo>
                          <a:lnTo>
                            <a:pt x="7" y="49"/>
                          </a:lnTo>
                          <a:lnTo>
                            <a:pt x="8" y="45"/>
                          </a:lnTo>
                          <a:lnTo>
                            <a:pt x="10" y="41"/>
                          </a:lnTo>
                          <a:lnTo>
                            <a:pt x="12" y="38"/>
                          </a:lnTo>
                          <a:lnTo>
                            <a:pt x="14" y="34"/>
                          </a:lnTo>
                          <a:lnTo>
                            <a:pt x="18" y="30"/>
                          </a:lnTo>
                          <a:lnTo>
                            <a:pt x="20" y="26"/>
                          </a:lnTo>
                          <a:lnTo>
                            <a:pt x="22" y="23"/>
                          </a:lnTo>
                          <a:lnTo>
                            <a:pt x="25" y="20"/>
                          </a:lnTo>
                          <a:lnTo>
                            <a:pt x="28" y="18"/>
                          </a:lnTo>
                          <a:lnTo>
                            <a:pt x="30" y="14"/>
                          </a:lnTo>
                          <a:lnTo>
                            <a:pt x="34" y="11"/>
                          </a:lnTo>
                          <a:lnTo>
                            <a:pt x="38" y="9"/>
                          </a:lnTo>
                          <a:lnTo>
                            <a:pt x="42" y="8"/>
                          </a:lnTo>
                          <a:lnTo>
                            <a:pt x="44" y="5"/>
                          </a:lnTo>
                          <a:lnTo>
                            <a:pt x="48" y="4"/>
                          </a:lnTo>
                          <a:lnTo>
                            <a:pt x="52" y="3"/>
                          </a:lnTo>
                          <a:lnTo>
                            <a:pt x="56" y="1"/>
                          </a:lnTo>
                          <a:lnTo>
                            <a:pt x="59" y="0"/>
                          </a:lnTo>
                          <a:lnTo>
                            <a:pt x="63" y="0"/>
                          </a:lnTo>
                          <a:lnTo>
                            <a:pt x="67" y="0"/>
                          </a:lnTo>
                          <a:lnTo>
                            <a:pt x="71" y="1"/>
                          </a:lnTo>
                          <a:lnTo>
                            <a:pt x="73" y="3"/>
                          </a:lnTo>
                          <a:lnTo>
                            <a:pt x="76" y="4"/>
                          </a:lnTo>
                          <a:lnTo>
                            <a:pt x="79" y="5"/>
                          </a:lnTo>
                          <a:lnTo>
                            <a:pt x="82" y="8"/>
                          </a:lnTo>
                          <a:lnTo>
                            <a:pt x="84" y="9"/>
                          </a:lnTo>
                          <a:lnTo>
                            <a:pt x="88" y="10"/>
                          </a:lnTo>
                          <a:lnTo>
                            <a:pt x="91" y="13"/>
                          </a:lnTo>
                          <a:lnTo>
                            <a:pt x="95" y="14"/>
                          </a:lnTo>
                          <a:lnTo>
                            <a:pt x="97" y="15"/>
                          </a:lnTo>
                          <a:lnTo>
                            <a:pt x="100" y="18"/>
                          </a:lnTo>
                          <a:lnTo>
                            <a:pt x="103" y="19"/>
                          </a:lnTo>
                          <a:lnTo>
                            <a:pt x="106" y="21"/>
                          </a:lnTo>
                          <a:lnTo>
                            <a:pt x="110" y="23"/>
                          </a:lnTo>
                          <a:lnTo>
                            <a:pt x="113" y="24"/>
                          </a:lnTo>
                          <a:lnTo>
                            <a:pt x="116" y="25"/>
                          </a:lnTo>
                          <a:lnTo>
                            <a:pt x="120" y="28"/>
                          </a:lnTo>
                          <a:lnTo>
                            <a:pt x="122" y="29"/>
                          </a:lnTo>
                          <a:lnTo>
                            <a:pt x="126" y="30"/>
                          </a:lnTo>
                          <a:lnTo>
                            <a:pt x="128" y="31"/>
                          </a:lnTo>
                          <a:lnTo>
                            <a:pt x="132" y="34"/>
                          </a:lnTo>
                          <a:lnTo>
                            <a:pt x="135" y="35"/>
                          </a:lnTo>
                          <a:lnTo>
                            <a:pt x="139" y="36"/>
                          </a:lnTo>
                          <a:lnTo>
                            <a:pt x="142" y="38"/>
                          </a:lnTo>
                          <a:lnTo>
                            <a:pt x="145" y="40"/>
                          </a:lnTo>
                          <a:lnTo>
                            <a:pt x="147" y="40"/>
                          </a:lnTo>
                          <a:lnTo>
                            <a:pt x="151" y="43"/>
                          </a:lnTo>
                          <a:lnTo>
                            <a:pt x="154" y="44"/>
                          </a:lnTo>
                          <a:lnTo>
                            <a:pt x="157" y="45"/>
                          </a:lnTo>
                          <a:lnTo>
                            <a:pt x="160" y="46"/>
                          </a:lnTo>
                          <a:lnTo>
                            <a:pt x="164" y="49"/>
                          </a:lnTo>
                          <a:lnTo>
                            <a:pt x="166" y="50"/>
                          </a:lnTo>
                          <a:lnTo>
                            <a:pt x="170" y="51"/>
                          </a:lnTo>
                          <a:lnTo>
                            <a:pt x="165" y="53"/>
                          </a:lnTo>
                          <a:lnTo>
                            <a:pt x="161" y="54"/>
                          </a:lnTo>
                          <a:lnTo>
                            <a:pt x="159" y="55"/>
                          </a:lnTo>
                          <a:lnTo>
                            <a:pt x="155" y="56"/>
                          </a:lnTo>
                          <a:lnTo>
                            <a:pt x="151" y="59"/>
                          </a:lnTo>
                          <a:lnTo>
                            <a:pt x="149" y="61"/>
                          </a:lnTo>
                          <a:lnTo>
                            <a:pt x="146" y="64"/>
                          </a:lnTo>
                          <a:lnTo>
                            <a:pt x="144" y="68"/>
                          </a:lnTo>
                          <a:lnTo>
                            <a:pt x="141" y="70"/>
                          </a:lnTo>
                          <a:lnTo>
                            <a:pt x="139" y="73"/>
                          </a:lnTo>
                          <a:lnTo>
                            <a:pt x="137" y="77"/>
                          </a:lnTo>
                          <a:lnTo>
                            <a:pt x="135" y="82"/>
                          </a:lnTo>
                          <a:lnTo>
                            <a:pt x="133" y="85"/>
                          </a:lnTo>
                          <a:lnTo>
                            <a:pt x="131" y="89"/>
                          </a:lnTo>
                          <a:lnTo>
                            <a:pt x="130" y="93"/>
                          </a:lnTo>
                          <a:lnTo>
                            <a:pt x="128" y="98"/>
                          </a:lnTo>
                          <a:lnTo>
                            <a:pt x="127" y="102"/>
                          </a:lnTo>
                          <a:lnTo>
                            <a:pt x="126" y="105"/>
                          </a:lnTo>
                          <a:lnTo>
                            <a:pt x="126" y="108"/>
                          </a:lnTo>
                          <a:lnTo>
                            <a:pt x="126" y="109"/>
                          </a:lnTo>
                          <a:lnTo>
                            <a:pt x="125" y="112"/>
                          </a:lnTo>
                          <a:lnTo>
                            <a:pt x="125" y="114"/>
                          </a:lnTo>
                          <a:lnTo>
                            <a:pt x="123" y="119"/>
                          </a:lnTo>
                          <a:lnTo>
                            <a:pt x="123" y="123"/>
                          </a:lnTo>
                          <a:lnTo>
                            <a:pt x="122" y="125"/>
                          </a:lnTo>
                          <a:lnTo>
                            <a:pt x="122" y="128"/>
                          </a:lnTo>
                          <a:lnTo>
                            <a:pt x="122" y="129"/>
                          </a:lnTo>
                          <a:lnTo>
                            <a:pt x="122" y="132"/>
                          </a:lnTo>
                          <a:lnTo>
                            <a:pt x="121" y="137"/>
                          </a:lnTo>
                          <a:lnTo>
                            <a:pt x="121" y="140"/>
                          </a:lnTo>
                          <a:lnTo>
                            <a:pt x="121" y="144"/>
                          </a:lnTo>
                          <a:lnTo>
                            <a:pt x="121" y="148"/>
                          </a:lnTo>
                          <a:lnTo>
                            <a:pt x="121" y="152"/>
                          </a:lnTo>
                          <a:lnTo>
                            <a:pt x="121" y="155"/>
                          </a:lnTo>
                          <a:lnTo>
                            <a:pt x="121" y="159"/>
                          </a:lnTo>
                          <a:lnTo>
                            <a:pt x="121" y="163"/>
                          </a:lnTo>
                          <a:lnTo>
                            <a:pt x="120" y="163"/>
                          </a:lnTo>
                          <a:lnTo>
                            <a:pt x="118" y="163"/>
                          </a:lnTo>
                          <a:lnTo>
                            <a:pt x="116" y="163"/>
                          </a:lnTo>
                          <a:lnTo>
                            <a:pt x="113" y="162"/>
                          </a:lnTo>
                          <a:lnTo>
                            <a:pt x="111" y="160"/>
                          </a:lnTo>
                          <a:lnTo>
                            <a:pt x="107" y="160"/>
                          </a:lnTo>
                          <a:lnTo>
                            <a:pt x="103" y="158"/>
                          </a:lnTo>
                          <a:lnTo>
                            <a:pt x="100" y="157"/>
                          </a:lnTo>
                          <a:lnTo>
                            <a:pt x="96" y="154"/>
                          </a:lnTo>
                          <a:lnTo>
                            <a:pt x="91" y="153"/>
                          </a:lnTo>
                          <a:lnTo>
                            <a:pt x="88" y="152"/>
                          </a:lnTo>
                          <a:lnTo>
                            <a:pt x="86" y="150"/>
                          </a:lnTo>
                          <a:lnTo>
                            <a:pt x="83" y="149"/>
                          </a:lnTo>
                          <a:lnTo>
                            <a:pt x="82" y="148"/>
                          </a:lnTo>
                          <a:lnTo>
                            <a:pt x="79" y="147"/>
                          </a:lnTo>
                          <a:lnTo>
                            <a:pt x="77" y="145"/>
                          </a:lnTo>
                          <a:lnTo>
                            <a:pt x="74" y="144"/>
                          </a:lnTo>
                          <a:lnTo>
                            <a:pt x="72" y="143"/>
                          </a:lnTo>
                          <a:lnTo>
                            <a:pt x="68" y="142"/>
                          </a:lnTo>
                          <a:lnTo>
                            <a:pt x="66" y="140"/>
                          </a:lnTo>
                          <a:lnTo>
                            <a:pt x="64" y="138"/>
                          </a:lnTo>
                          <a:lnTo>
                            <a:pt x="62" y="138"/>
                          </a:lnTo>
                          <a:lnTo>
                            <a:pt x="58" y="135"/>
                          </a:lnTo>
                          <a:lnTo>
                            <a:pt x="56" y="134"/>
                          </a:lnTo>
                          <a:lnTo>
                            <a:pt x="53" y="132"/>
                          </a:lnTo>
                          <a:lnTo>
                            <a:pt x="51" y="130"/>
                          </a:lnTo>
                          <a:lnTo>
                            <a:pt x="48" y="129"/>
                          </a:lnTo>
                          <a:lnTo>
                            <a:pt x="46" y="128"/>
                          </a:lnTo>
                          <a:lnTo>
                            <a:pt x="43" y="125"/>
                          </a:lnTo>
                          <a:lnTo>
                            <a:pt x="41" y="124"/>
                          </a:lnTo>
                          <a:lnTo>
                            <a:pt x="38" y="122"/>
                          </a:lnTo>
                          <a:lnTo>
                            <a:pt x="36" y="120"/>
                          </a:lnTo>
                          <a:lnTo>
                            <a:pt x="33" y="119"/>
                          </a:lnTo>
                          <a:lnTo>
                            <a:pt x="30" y="118"/>
                          </a:lnTo>
                          <a:lnTo>
                            <a:pt x="28" y="115"/>
                          </a:lnTo>
                          <a:lnTo>
                            <a:pt x="25" y="114"/>
                          </a:lnTo>
                          <a:lnTo>
                            <a:pt x="24" y="113"/>
                          </a:lnTo>
                          <a:lnTo>
                            <a:pt x="22" y="112"/>
                          </a:lnTo>
                          <a:lnTo>
                            <a:pt x="18" y="108"/>
                          </a:lnTo>
                          <a:lnTo>
                            <a:pt x="14" y="105"/>
                          </a:lnTo>
                          <a:lnTo>
                            <a:pt x="10" y="102"/>
                          </a:lnTo>
                          <a:lnTo>
                            <a:pt x="8" y="99"/>
                          </a:lnTo>
                          <a:lnTo>
                            <a:pt x="5" y="97"/>
                          </a:lnTo>
                          <a:lnTo>
                            <a:pt x="4" y="94"/>
                          </a:lnTo>
                          <a:lnTo>
                            <a:pt x="3" y="92"/>
                          </a:lnTo>
                          <a:lnTo>
                            <a:pt x="2" y="89"/>
                          </a:lnTo>
                          <a:lnTo>
                            <a:pt x="2" y="89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3760200" y="4473000"/>
                      <a:ext cx="30564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9" h="614">
                          <a:moveTo>
                            <a:pt x="810" y="614"/>
                          </a:moveTo>
                          <a:lnTo>
                            <a:pt x="805" y="611"/>
                          </a:lnTo>
                          <a:lnTo>
                            <a:pt x="801" y="607"/>
                          </a:lnTo>
                          <a:lnTo>
                            <a:pt x="796" y="605"/>
                          </a:lnTo>
                          <a:lnTo>
                            <a:pt x="791" y="602"/>
                          </a:lnTo>
                          <a:lnTo>
                            <a:pt x="787" y="600"/>
                          </a:lnTo>
                          <a:lnTo>
                            <a:pt x="782" y="597"/>
                          </a:lnTo>
                          <a:lnTo>
                            <a:pt x="777" y="594"/>
                          </a:lnTo>
                          <a:lnTo>
                            <a:pt x="774" y="591"/>
                          </a:lnTo>
                          <a:lnTo>
                            <a:pt x="769" y="589"/>
                          </a:lnTo>
                          <a:lnTo>
                            <a:pt x="763" y="586"/>
                          </a:lnTo>
                          <a:lnTo>
                            <a:pt x="758" y="584"/>
                          </a:lnTo>
                          <a:lnTo>
                            <a:pt x="755" y="581"/>
                          </a:lnTo>
                          <a:lnTo>
                            <a:pt x="750" y="577"/>
                          </a:lnTo>
                          <a:lnTo>
                            <a:pt x="745" y="575"/>
                          </a:lnTo>
                          <a:lnTo>
                            <a:pt x="740" y="572"/>
                          </a:lnTo>
                          <a:lnTo>
                            <a:pt x="736" y="570"/>
                          </a:lnTo>
                          <a:lnTo>
                            <a:pt x="731" y="567"/>
                          </a:lnTo>
                          <a:lnTo>
                            <a:pt x="726" y="565"/>
                          </a:lnTo>
                          <a:lnTo>
                            <a:pt x="721" y="562"/>
                          </a:lnTo>
                          <a:lnTo>
                            <a:pt x="716" y="560"/>
                          </a:lnTo>
                          <a:lnTo>
                            <a:pt x="711" y="556"/>
                          </a:lnTo>
                          <a:lnTo>
                            <a:pt x="706" y="555"/>
                          </a:lnTo>
                          <a:lnTo>
                            <a:pt x="701" y="552"/>
                          </a:lnTo>
                          <a:lnTo>
                            <a:pt x="697" y="550"/>
                          </a:lnTo>
                          <a:lnTo>
                            <a:pt x="692" y="547"/>
                          </a:lnTo>
                          <a:lnTo>
                            <a:pt x="687" y="545"/>
                          </a:lnTo>
                          <a:lnTo>
                            <a:pt x="683" y="542"/>
                          </a:lnTo>
                          <a:lnTo>
                            <a:pt x="678" y="540"/>
                          </a:lnTo>
                          <a:lnTo>
                            <a:pt x="673" y="537"/>
                          </a:lnTo>
                          <a:lnTo>
                            <a:pt x="668" y="535"/>
                          </a:lnTo>
                          <a:lnTo>
                            <a:pt x="664" y="532"/>
                          </a:lnTo>
                          <a:lnTo>
                            <a:pt x="659" y="530"/>
                          </a:lnTo>
                          <a:lnTo>
                            <a:pt x="654" y="527"/>
                          </a:lnTo>
                          <a:lnTo>
                            <a:pt x="650" y="525"/>
                          </a:lnTo>
                          <a:lnTo>
                            <a:pt x="645" y="522"/>
                          </a:lnTo>
                          <a:lnTo>
                            <a:pt x="642" y="520"/>
                          </a:lnTo>
                          <a:lnTo>
                            <a:pt x="637" y="517"/>
                          </a:lnTo>
                          <a:lnTo>
                            <a:pt x="633" y="515"/>
                          </a:lnTo>
                          <a:lnTo>
                            <a:pt x="628" y="512"/>
                          </a:lnTo>
                          <a:lnTo>
                            <a:pt x="624" y="511"/>
                          </a:lnTo>
                          <a:lnTo>
                            <a:pt x="619" y="508"/>
                          </a:lnTo>
                          <a:lnTo>
                            <a:pt x="615" y="506"/>
                          </a:lnTo>
                          <a:lnTo>
                            <a:pt x="610" y="503"/>
                          </a:lnTo>
                          <a:lnTo>
                            <a:pt x="606" y="501"/>
                          </a:lnTo>
                          <a:lnTo>
                            <a:pt x="603" y="498"/>
                          </a:lnTo>
                          <a:lnTo>
                            <a:pt x="598" y="497"/>
                          </a:lnTo>
                          <a:lnTo>
                            <a:pt x="594" y="495"/>
                          </a:lnTo>
                          <a:lnTo>
                            <a:pt x="590" y="492"/>
                          </a:lnTo>
                          <a:lnTo>
                            <a:pt x="586" y="491"/>
                          </a:lnTo>
                          <a:lnTo>
                            <a:pt x="583" y="488"/>
                          </a:lnTo>
                          <a:lnTo>
                            <a:pt x="579" y="486"/>
                          </a:lnTo>
                          <a:lnTo>
                            <a:pt x="575" y="485"/>
                          </a:lnTo>
                          <a:lnTo>
                            <a:pt x="571" y="482"/>
                          </a:lnTo>
                          <a:lnTo>
                            <a:pt x="568" y="480"/>
                          </a:lnTo>
                          <a:lnTo>
                            <a:pt x="565" y="477"/>
                          </a:lnTo>
                          <a:lnTo>
                            <a:pt x="561" y="476"/>
                          </a:lnTo>
                          <a:lnTo>
                            <a:pt x="559" y="473"/>
                          </a:lnTo>
                          <a:lnTo>
                            <a:pt x="555" y="472"/>
                          </a:lnTo>
                          <a:lnTo>
                            <a:pt x="551" y="470"/>
                          </a:lnTo>
                          <a:lnTo>
                            <a:pt x="549" y="468"/>
                          </a:lnTo>
                          <a:lnTo>
                            <a:pt x="545" y="466"/>
                          </a:lnTo>
                          <a:lnTo>
                            <a:pt x="542" y="465"/>
                          </a:lnTo>
                          <a:lnTo>
                            <a:pt x="540" y="462"/>
                          </a:lnTo>
                          <a:lnTo>
                            <a:pt x="537" y="461"/>
                          </a:lnTo>
                          <a:lnTo>
                            <a:pt x="537" y="457"/>
                          </a:lnTo>
                          <a:lnTo>
                            <a:pt x="537" y="455"/>
                          </a:lnTo>
                          <a:lnTo>
                            <a:pt x="537" y="451"/>
                          </a:lnTo>
                          <a:lnTo>
                            <a:pt x="537" y="448"/>
                          </a:lnTo>
                          <a:lnTo>
                            <a:pt x="537" y="446"/>
                          </a:lnTo>
                          <a:lnTo>
                            <a:pt x="537" y="442"/>
                          </a:lnTo>
                          <a:lnTo>
                            <a:pt x="537" y="440"/>
                          </a:lnTo>
                          <a:lnTo>
                            <a:pt x="539" y="437"/>
                          </a:lnTo>
                          <a:lnTo>
                            <a:pt x="537" y="433"/>
                          </a:lnTo>
                          <a:lnTo>
                            <a:pt x="537" y="431"/>
                          </a:lnTo>
                          <a:lnTo>
                            <a:pt x="537" y="427"/>
                          </a:lnTo>
                          <a:lnTo>
                            <a:pt x="537" y="425"/>
                          </a:lnTo>
                          <a:lnTo>
                            <a:pt x="537" y="422"/>
                          </a:lnTo>
                          <a:lnTo>
                            <a:pt x="537" y="420"/>
                          </a:lnTo>
                          <a:lnTo>
                            <a:pt x="537" y="416"/>
                          </a:lnTo>
                          <a:lnTo>
                            <a:pt x="537" y="413"/>
                          </a:lnTo>
                          <a:lnTo>
                            <a:pt x="537" y="410"/>
                          </a:lnTo>
                          <a:lnTo>
                            <a:pt x="537" y="407"/>
                          </a:lnTo>
                          <a:lnTo>
                            <a:pt x="537" y="405"/>
                          </a:lnTo>
                          <a:lnTo>
                            <a:pt x="537" y="402"/>
                          </a:lnTo>
                          <a:lnTo>
                            <a:pt x="537" y="398"/>
                          </a:lnTo>
                          <a:lnTo>
                            <a:pt x="537" y="396"/>
                          </a:lnTo>
                          <a:lnTo>
                            <a:pt x="539" y="393"/>
                          </a:lnTo>
                          <a:lnTo>
                            <a:pt x="539" y="391"/>
                          </a:lnTo>
                          <a:lnTo>
                            <a:pt x="539" y="387"/>
                          </a:lnTo>
                          <a:lnTo>
                            <a:pt x="540" y="384"/>
                          </a:lnTo>
                          <a:lnTo>
                            <a:pt x="540" y="381"/>
                          </a:lnTo>
                          <a:lnTo>
                            <a:pt x="541" y="378"/>
                          </a:lnTo>
                          <a:lnTo>
                            <a:pt x="541" y="376"/>
                          </a:lnTo>
                          <a:lnTo>
                            <a:pt x="542" y="373"/>
                          </a:lnTo>
                          <a:lnTo>
                            <a:pt x="542" y="371"/>
                          </a:lnTo>
                          <a:lnTo>
                            <a:pt x="544" y="368"/>
                          </a:lnTo>
                          <a:lnTo>
                            <a:pt x="546" y="366"/>
                          </a:lnTo>
                          <a:lnTo>
                            <a:pt x="549" y="364"/>
                          </a:lnTo>
                          <a:lnTo>
                            <a:pt x="551" y="363"/>
                          </a:lnTo>
                          <a:lnTo>
                            <a:pt x="554" y="362"/>
                          </a:lnTo>
                          <a:lnTo>
                            <a:pt x="556" y="361"/>
                          </a:lnTo>
                          <a:lnTo>
                            <a:pt x="559" y="359"/>
                          </a:lnTo>
                          <a:lnTo>
                            <a:pt x="561" y="358"/>
                          </a:lnTo>
                          <a:lnTo>
                            <a:pt x="564" y="357"/>
                          </a:lnTo>
                          <a:lnTo>
                            <a:pt x="566" y="356"/>
                          </a:lnTo>
                          <a:lnTo>
                            <a:pt x="569" y="354"/>
                          </a:lnTo>
                          <a:lnTo>
                            <a:pt x="571" y="353"/>
                          </a:lnTo>
                          <a:lnTo>
                            <a:pt x="574" y="352"/>
                          </a:lnTo>
                          <a:lnTo>
                            <a:pt x="576" y="351"/>
                          </a:lnTo>
                          <a:lnTo>
                            <a:pt x="579" y="349"/>
                          </a:lnTo>
                          <a:lnTo>
                            <a:pt x="581" y="348"/>
                          </a:lnTo>
                          <a:lnTo>
                            <a:pt x="584" y="347"/>
                          </a:lnTo>
                          <a:lnTo>
                            <a:pt x="586" y="346"/>
                          </a:lnTo>
                          <a:lnTo>
                            <a:pt x="589" y="344"/>
                          </a:lnTo>
                          <a:lnTo>
                            <a:pt x="591" y="343"/>
                          </a:lnTo>
                          <a:lnTo>
                            <a:pt x="594" y="343"/>
                          </a:lnTo>
                          <a:lnTo>
                            <a:pt x="596" y="342"/>
                          </a:lnTo>
                          <a:lnTo>
                            <a:pt x="599" y="341"/>
                          </a:lnTo>
                          <a:lnTo>
                            <a:pt x="601" y="339"/>
                          </a:lnTo>
                          <a:lnTo>
                            <a:pt x="604" y="338"/>
                          </a:lnTo>
                          <a:lnTo>
                            <a:pt x="606" y="337"/>
                          </a:lnTo>
                          <a:lnTo>
                            <a:pt x="609" y="336"/>
                          </a:lnTo>
                          <a:lnTo>
                            <a:pt x="611" y="334"/>
                          </a:lnTo>
                          <a:lnTo>
                            <a:pt x="615" y="333"/>
                          </a:lnTo>
                          <a:lnTo>
                            <a:pt x="618" y="332"/>
                          </a:lnTo>
                          <a:lnTo>
                            <a:pt x="620" y="332"/>
                          </a:lnTo>
                          <a:lnTo>
                            <a:pt x="623" y="331"/>
                          </a:lnTo>
                          <a:lnTo>
                            <a:pt x="625" y="329"/>
                          </a:lnTo>
                          <a:lnTo>
                            <a:pt x="628" y="328"/>
                          </a:lnTo>
                          <a:lnTo>
                            <a:pt x="630" y="327"/>
                          </a:lnTo>
                          <a:lnTo>
                            <a:pt x="633" y="326"/>
                          </a:lnTo>
                          <a:lnTo>
                            <a:pt x="635" y="324"/>
                          </a:lnTo>
                          <a:lnTo>
                            <a:pt x="638" y="323"/>
                          </a:lnTo>
                          <a:lnTo>
                            <a:pt x="640" y="323"/>
                          </a:lnTo>
                          <a:lnTo>
                            <a:pt x="643" y="322"/>
                          </a:lnTo>
                          <a:lnTo>
                            <a:pt x="647" y="321"/>
                          </a:lnTo>
                          <a:lnTo>
                            <a:pt x="649" y="319"/>
                          </a:lnTo>
                          <a:lnTo>
                            <a:pt x="652" y="318"/>
                          </a:lnTo>
                          <a:lnTo>
                            <a:pt x="654" y="317"/>
                          </a:lnTo>
                          <a:lnTo>
                            <a:pt x="657" y="316"/>
                          </a:lnTo>
                          <a:lnTo>
                            <a:pt x="659" y="314"/>
                          </a:lnTo>
                          <a:lnTo>
                            <a:pt x="662" y="314"/>
                          </a:lnTo>
                          <a:lnTo>
                            <a:pt x="664" y="313"/>
                          </a:lnTo>
                          <a:lnTo>
                            <a:pt x="667" y="312"/>
                          </a:lnTo>
                          <a:lnTo>
                            <a:pt x="669" y="311"/>
                          </a:lnTo>
                          <a:lnTo>
                            <a:pt x="672" y="309"/>
                          </a:lnTo>
                          <a:lnTo>
                            <a:pt x="674" y="308"/>
                          </a:lnTo>
                          <a:lnTo>
                            <a:pt x="678" y="308"/>
                          </a:lnTo>
                          <a:lnTo>
                            <a:pt x="681" y="307"/>
                          </a:lnTo>
                          <a:lnTo>
                            <a:pt x="683" y="306"/>
                          </a:lnTo>
                          <a:lnTo>
                            <a:pt x="686" y="304"/>
                          </a:lnTo>
                          <a:lnTo>
                            <a:pt x="688" y="303"/>
                          </a:lnTo>
                          <a:lnTo>
                            <a:pt x="691" y="302"/>
                          </a:lnTo>
                          <a:lnTo>
                            <a:pt x="693" y="301"/>
                          </a:lnTo>
                          <a:lnTo>
                            <a:pt x="696" y="299"/>
                          </a:lnTo>
                          <a:lnTo>
                            <a:pt x="698" y="298"/>
                          </a:lnTo>
                          <a:lnTo>
                            <a:pt x="701" y="297"/>
                          </a:lnTo>
                          <a:lnTo>
                            <a:pt x="704" y="297"/>
                          </a:lnTo>
                          <a:lnTo>
                            <a:pt x="707" y="296"/>
                          </a:lnTo>
                          <a:lnTo>
                            <a:pt x="709" y="294"/>
                          </a:lnTo>
                          <a:lnTo>
                            <a:pt x="708" y="293"/>
                          </a:lnTo>
                          <a:lnTo>
                            <a:pt x="707" y="291"/>
                          </a:lnTo>
                          <a:lnTo>
                            <a:pt x="707" y="287"/>
                          </a:lnTo>
                          <a:lnTo>
                            <a:pt x="707" y="284"/>
                          </a:lnTo>
                          <a:lnTo>
                            <a:pt x="706" y="282"/>
                          </a:lnTo>
                          <a:lnTo>
                            <a:pt x="706" y="279"/>
                          </a:lnTo>
                          <a:lnTo>
                            <a:pt x="706" y="278"/>
                          </a:lnTo>
                          <a:lnTo>
                            <a:pt x="706" y="276"/>
                          </a:lnTo>
                          <a:lnTo>
                            <a:pt x="704" y="273"/>
                          </a:lnTo>
                          <a:lnTo>
                            <a:pt x="704" y="271"/>
                          </a:lnTo>
                          <a:lnTo>
                            <a:pt x="704" y="268"/>
                          </a:lnTo>
                          <a:lnTo>
                            <a:pt x="704" y="267"/>
                          </a:lnTo>
                          <a:lnTo>
                            <a:pt x="704" y="264"/>
                          </a:lnTo>
                          <a:lnTo>
                            <a:pt x="704" y="262"/>
                          </a:lnTo>
                          <a:lnTo>
                            <a:pt x="704" y="259"/>
                          </a:lnTo>
                          <a:lnTo>
                            <a:pt x="704" y="257"/>
                          </a:lnTo>
                          <a:lnTo>
                            <a:pt x="704" y="254"/>
                          </a:lnTo>
                          <a:lnTo>
                            <a:pt x="704" y="252"/>
                          </a:lnTo>
                          <a:lnTo>
                            <a:pt x="704" y="249"/>
                          </a:lnTo>
                          <a:lnTo>
                            <a:pt x="704" y="248"/>
                          </a:lnTo>
                          <a:lnTo>
                            <a:pt x="704" y="244"/>
                          </a:lnTo>
                          <a:lnTo>
                            <a:pt x="704" y="242"/>
                          </a:lnTo>
                          <a:lnTo>
                            <a:pt x="704" y="239"/>
                          </a:lnTo>
                          <a:lnTo>
                            <a:pt x="704" y="238"/>
                          </a:lnTo>
                          <a:lnTo>
                            <a:pt x="274" y="122"/>
                          </a:lnTo>
                          <a:lnTo>
                            <a:pt x="1" y="229"/>
                          </a:lnTo>
                          <a:lnTo>
                            <a:pt x="0" y="227"/>
                          </a:lnTo>
                          <a:lnTo>
                            <a:pt x="0" y="224"/>
                          </a:lnTo>
                          <a:lnTo>
                            <a:pt x="0" y="222"/>
                          </a:lnTo>
                          <a:lnTo>
                            <a:pt x="0" y="219"/>
                          </a:lnTo>
                          <a:lnTo>
                            <a:pt x="0" y="215"/>
                          </a:lnTo>
                          <a:lnTo>
                            <a:pt x="0" y="213"/>
                          </a:lnTo>
                          <a:lnTo>
                            <a:pt x="0" y="210"/>
                          </a:lnTo>
                          <a:lnTo>
                            <a:pt x="1" y="208"/>
                          </a:lnTo>
                          <a:lnTo>
                            <a:pt x="1" y="204"/>
                          </a:lnTo>
                          <a:lnTo>
                            <a:pt x="1" y="202"/>
                          </a:lnTo>
                          <a:lnTo>
                            <a:pt x="2" y="198"/>
                          </a:lnTo>
                          <a:lnTo>
                            <a:pt x="4" y="195"/>
                          </a:lnTo>
                          <a:lnTo>
                            <a:pt x="5" y="193"/>
                          </a:lnTo>
                          <a:lnTo>
                            <a:pt x="6" y="189"/>
                          </a:lnTo>
                          <a:lnTo>
                            <a:pt x="7" y="187"/>
                          </a:lnTo>
                          <a:lnTo>
                            <a:pt x="9" y="183"/>
                          </a:lnTo>
                          <a:lnTo>
                            <a:pt x="10" y="180"/>
                          </a:lnTo>
                          <a:lnTo>
                            <a:pt x="12" y="177"/>
                          </a:lnTo>
                          <a:lnTo>
                            <a:pt x="14" y="173"/>
                          </a:lnTo>
                          <a:lnTo>
                            <a:pt x="16" y="170"/>
                          </a:lnTo>
                          <a:lnTo>
                            <a:pt x="17" y="168"/>
                          </a:lnTo>
                          <a:lnTo>
                            <a:pt x="19" y="164"/>
                          </a:lnTo>
                          <a:lnTo>
                            <a:pt x="21" y="160"/>
                          </a:lnTo>
                          <a:lnTo>
                            <a:pt x="24" y="158"/>
                          </a:lnTo>
                          <a:lnTo>
                            <a:pt x="26" y="154"/>
                          </a:lnTo>
                          <a:lnTo>
                            <a:pt x="29" y="152"/>
                          </a:lnTo>
                          <a:lnTo>
                            <a:pt x="31" y="148"/>
                          </a:lnTo>
                          <a:lnTo>
                            <a:pt x="34" y="145"/>
                          </a:lnTo>
                          <a:lnTo>
                            <a:pt x="36" y="142"/>
                          </a:lnTo>
                          <a:lnTo>
                            <a:pt x="39" y="139"/>
                          </a:lnTo>
                          <a:lnTo>
                            <a:pt x="41" y="135"/>
                          </a:lnTo>
                          <a:lnTo>
                            <a:pt x="45" y="133"/>
                          </a:lnTo>
                          <a:lnTo>
                            <a:pt x="48" y="129"/>
                          </a:lnTo>
                          <a:lnTo>
                            <a:pt x="49" y="127"/>
                          </a:lnTo>
                          <a:lnTo>
                            <a:pt x="53" y="123"/>
                          </a:lnTo>
                          <a:lnTo>
                            <a:pt x="55" y="120"/>
                          </a:lnTo>
                          <a:lnTo>
                            <a:pt x="58" y="117"/>
                          </a:lnTo>
                          <a:lnTo>
                            <a:pt x="61" y="114"/>
                          </a:lnTo>
                          <a:lnTo>
                            <a:pt x="63" y="112"/>
                          </a:lnTo>
                          <a:lnTo>
                            <a:pt x="66" y="109"/>
                          </a:lnTo>
                          <a:lnTo>
                            <a:pt x="69" y="105"/>
                          </a:lnTo>
                          <a:lnTo>
                            <a:pt x="73" y="103"/>
                          </a:lnTo>
                          <a:lnTo>
                            <a:pt x="75" y="100"/>
                          </a:lnTo>
                          <a:lnTo>
                            <a:pt x="79" y="98"/>
                          </a:lnTo>
                          <a:lnTo>
                            <a:pt x="80" y="95"/>
                          </a:lnTo>
                          <a:lnTo>
                            <a:pt x="84" y="93"/>
                          </a:lnTo>
                          <a:lnTo>
                            <a:pt x="86" y="90"/>
                          </a:lnTo>
                          <a:lnTo>
                            <a:pt x="90" y="88"/>
                          </a:lnTo>
                          <a:lnTo>
                            <a:pt x="93" y="85"/>
                          </a:lnTo>
                          <a:lnTo>
                            <a:pt x="95" y="83"/>
                          </a:lnTo>
                          <a:lnTo>
                            <a:pt x="98" y="80"/>
                          </a:lnTo>
                          <a:lnTo>
                            <a:pt x="102" y="79"/>
                          </a:lnTo>
                          <a:lnTo>
                            <a:pt x="104" y="76"/>
                          </a:lnTo>
                          <a:lnTo>
                            <a:pt x="107" y="75"/>
                          </a:lnTo>
                          <a:lnTo>
                            <a:pt x="110" y="73"/>
                          </a:lnTo>
                          <a:lnTo>
                            <a:pt x="113" y="71"/>
                          </a:lnTo>
                          <a:lnTo>
                            <a:pt x="115" y="69"/>
                          </a:lnTo>
                          <a:lnTo>
                            <a:pt x="118" y="68"/>
                          </a:lnTo>
                          <a:lnTo>
                            <a:pt x="120" y="66"/>
                          </a:lnTo>
                          <a:lnTo>
                            <a:pt x="123" y="65"/>
                          </a:lnTo>
                          <a:lnTo>
                            <a:pt x="124" y="64"/>
                          </a:lnTo>
                          <a:lnTo>
                            <a:pt x="127" y="63"/>
                          </a:lnTo>
                          <a:lnTo>
                            <a:pt x="129" y="61"/>
                          </a:lnTo>
                          <a:lnTo>
                            <a:pt x="132" y="61"/>
                          </a:lnTo>
                          <a:lnTo>
                            <a:pt x="183" y="99"/>
                          </a:lnTo>
                          <a:lnTo>
                            <a:pt x="197" y="91"/>
                          </a:lnTo>
                          <a:lnTo>
                            <a:pt x="183" y="46"/>
                          </a:lnTo>
                          <a:lnTo>
                            <a:pt x="193" y="40"/>
                          </a:lnTo>
                          <a:lnTo>
                            <a:pt x="205" y="34"/>
                          </a:lnTo>
                          <a:lnTo>
                            <a:pt x="215" y="29"/>
                          </a:lnTo>
                          <a:lnTo>
                            <a:pt x="226" y="24"/>
                          </a:lnTo>
                          <a:lnTo>
                            <a:pt x="236" y="20"/>
                          </a:lnTo>
                          <a:lnTo>
                            <a:pt x="247" y="16"/>
                          </a:lnTo>
                          <a:lnTo>
                            <a:pt x="257" y="13"/>
                          </a:lnTo>
                          <a:lnTo>
                            <a:pt x="267" y="10"/>
                          </a:lnTo>
                          <a:lnTo>
                            <a:pt x="277" y="6"/>
                          </a:lnTo>
                          <a:lnTo>
                            <a:pt x="287" y="5"/>
                          </a:lnTo>
                          <a:lnTo>
                            <a:pt x="297" y="3"/>
                          </a:lnTo>
                          <a:lnTo>
                            <a:pt x="309" y="1"/>
                          </a:lnTo>
                          <a:lnTo>
                            <a:pt x="318" y="0"/>
                          </a:lnTo>
                          <a:lnTo>
                            <a:pt x="328" y="0"/>
                          </a:lnTo>
                          <a:lnTo>
                            <a:pt x="338" y="0"/>
                          </a:lnTo>
                          <a:lnTo>
                            <a:pt x="348" y="0"/>
                          </a:lnTo>
                          <a:lnTo>
                            <a:pt x="358" y="0"/>
                          </a:lnTo>
                          <a:lnTo>
                            <a:pt x="367" y="1"/>
                          </a:lnTo>
                          <a:lnTo>
                            <a:pt x="375" y="1"/>
                          </a:lnTo>
                          <a:lnTo>
                            <a:pt x="385" y="3"/>
                          </a:lnTo>
                          <a:lnTo>
                            <a:pt x="394" y="4"/>
                          </a:lnTo>
                          <a:lnTo>
                            <a:pt x="403" y="6"/>
                          </a:lnTo>
                          <a:lnTo>
                            <a:pt x="413" y="8"/>
                          </a:lnTo>
                          <a:lnTo>
                            <a:pt x="422" y="10"/>
                          </a:lnTo>
                          <a:lnTo>
                            <a:pt x="431" y="13"/>
                          </a:lnTo>
                          <a:lnTo>
                            <a:pt x="438" y="15"/>
                          </a:lnTo>
                          <a:lnTo>
                            <a:pt x="447" y="19"/>
                          </a:lnTo>
                          <a:lnTo>
                            <a:pt x="456" y="21"/>
                          </a:lnTo>
                          <a:lnTo>
                            <a:pt x="465" y="25"/>
                          </a:lnTo>
                          <a:lnTo>
                            <a:pt x="472" y="29"/>
                          </a:lnTo>
                          <a:lnTo>
                            <a:pt x="480" y="33"/>
                          </a:lnTo>
                          <a:lnTo>
                            <a:pt x="488" y="36"/>
                          </a:lnTo>
                          <a:lnTo>
                            <a:pt x="495" y="40"/>
                          </a:lnTo>
                          <a:lnTo>
                            <a:pt x="502" y="44"/>
                          </a:lnTo>
                          <a:lnTo>
                            <a:pt x="510" y="49"/>
                          </a:lnTo>
                          <a:lnTo>
                            <a:pt x="516" y="54"/>
                          </a:lnTo>
                          <a:lnTo>
                            <a:pt x="524" y="58"/>
                          </a:lnTo>
                          <a:lnTo>
                            <a:pt x="530" y="63"/>
                          </a:lnTo>
                          <a:lnTo>
                            <a:pt x="536" y="68"/>
                          </a:lnTo>
                          <a:lnTo>
                            <a:pt x="542" y="71"/>
                          </a:lnTo>
                          <a:lnTo>
                            <a:pt x="549" y="76"/>
                          </a:lnTo>
                          <a:lnTo>
                            <a:pt x="555" y="81"/>
                          </a:lnTo>
                          <a:lnTo>
                            <a:pt x="560" y="86"/>
                          </a:lnTo>
                          <a:lnTo>
                            <a:pt x="566" y="91"/>
                          </a:lnTo>
                          <a:lnTo>
                            <a:pt x="571" y="97"/>
                          </a:lnTo>
                          <a:lnTo>
                            <a:pt x="576" y="102"/>
                          </a:lnTo>
                          <a:lnTo>
                            <a:pt x="581" y="107"/>
                          </a:lnTo>
                          <a:lnTo>
                            <a:pt x="586" y="112"/>
                          </a:lnTo>
                          <a:lnTo>
                            <a:pt x="590" y="117"/>
                          </a:lnTo>
                          <a:lnTo>
                            <a:pt x="594" y="120"/>
                          </a:lnTo>
                          <a:lnTo>
                            <a:pt x="598" y="125"/>
                          </a:lnTo>
                          <a:lnTo>
                            <a:pt x="603" y="130"/>
                          </a:lnTo>
                          <a:lnTo>
                            <a:pt x="605" y="135"/>
                          </a:lnTo>
                          <a:lnTo>
                            <a:pt x="609" y="140"/>
                          </a:lnTo>
                          <a:lnTo>
                            <a:pt x="611" y="144"/>
                          </a:lnTo>
                          <a:lnTo>
                            <a:pt x="614" y="149"/>
                          </a:lnTo>
                          <a:lnTo>
                            <a:pt x="617" y="153"/>
                          </a:lnTo>
                          <a:lnTo>
                            <a:pt x="619" y="158"/>
                          </a:lnTo>
                          <a:lnTo>
                            <a:pt x="620" y="162"/>
                          </a:lnTo>
                          <a:lnTo>
                            <a:pt x="623" y="165"/>
                          </a:lnTo>
                          <a:lnTo>
                            <a:pt x="624" y="169"/>
                          </a:lnTo>
                          <a:lnTo>
                            <a:pt x="625" y="173"/>
                          </a:lnTo>
                          <a:lnTo>
                            <a:pt x="625" y="177"/>
                          </a:lnTo>
                          <a:lnTo>
                            <a:pt x="627" y="180"/>
                          </a:lnTo>
                          <a:lnTo>
                            <a:pt x="633" y="179"/>
                          </a:lnTo>
                          <a:lnTo>
                            <a:pt x="639" y="178"/>
                          </a:lnTo>
                          <a:lnTo>
                            <a:pt x="645" y="177"/>
                          </a:lnTo>
                          <a:lnTo>
                            <a:pt x="652" y="177"/>
                          </a:lnTo>
                          <a:lnTo>
                            <a:pt x="658" y="175"/>
                          </a:lnTo>
                          <a:lnTo>
                            <a:pt x="666" y="175"/>
                          </a:lnTo>
                          <a:lnTo>
                            <a:pt x="671" y="175"/>
                          </a:lnTo>
                          <a:lnTo>
                            <a:pt x="678" y="175"/>
                          </a:lnTo>
                          <a:lnTo>
                            <a:pt x="684" y="175"/>
                          </a:lnTo>
                          <a:lnTo>
                            <a:pt x="691" y="175"/>
                          </a:lnTo>
                          <a:lnTo>
                            <a:pt x="697" y="175"/>
                          </a:lnTo>
                          <a:lnTo>
                            <a:pt x="703" y="177"/>
                          </a:lnTo>
                          <a:lnTo>
                            <a:pt x="709" y="177"/>
                          </a:lnTo>
                          <a:lnTo>
                            <a:pt x="716" y="178"/>
                          </a:lnTo>
                          <a:lnTo>
                            <a:pt x="722" y="179"/>
                          </a:lnTo>
                          <a:lnTo>
                            <a:pt x="728" y="180"/>
                          </a:lnTo>
                          <a:lnTo>
                            <a:pt x="735" y="182"/>
                          </a:lnTo>
                          <a:lnTo>
                            <a:pt x="741" y="182"/>
                          </a:lnTo>
                          <a:lnTo>
                            <a:pt x="747" y="183"/>
                          </a:lnTo>
                          <a:lnTo>
                            <a:pt x="753" y="185"/>
                          </a:lnTo>
                          <a:lnTo>
                            <a:pt x="758" y="187"/>
                          </a:lnTo>
                          <a:lnTo>
                            <a:pt x="765" y="189"/>
                          </a:lnTo>
                          <a:lnTo>
                            <a:pt x="771" y="190"/>
                          </a:lnTo>
                          <a:lnTo>
                            <a:pt x="777" y="193"/>
                          </a:lnTo>
                          <a:lnTo>
                            <a:pt x="782" y="195"/>
                          </a:lnTo>
                          <a:lnTo>
                            <a:pt x="789" y="198"/>
                          </a:lnTo>
                          <a:lnTo>
                            <a:pt x="794" y="199"/>
                          </a:lnTo>
                          <a:lnTo>
                            <a:pt x="800" y="202"/>
                          </a:lnTo>
                          <a:lnTo>
                            <a:pt x="805" y="204"/>
                          </a:lnTo>
                          <a:lnTo>
                            <a:pt x="810" y="208"/>
                          </a:lnTo>
                          <a:lnTo>
                            <a:pt x="815" y="210"/>
                          </a:lnTo>
                          <a:lnTo>
                            <a:pt x="820" y="214"/>
                          </a:lnTo>
                          <a:lnTo>
                            <a:pt x="825" y="217"/>
                          </a:lnTo>
                          <a:lnTo>
                            <a:pt x="830" y="220"/>
                          </a:lnTo>
                          <a:lnTo>
                            <a:pt x="835" y="224"/>
                          </a:lnTo>
                          <a:lnTo>
                            <a:pt x="840" y="228"/>
                          </a:lnTo>
                          <a:lnTo>
                            <a:pt x="844" y="232"/>
                          </a:lnTo>
                          <a:lnTo>
                            <a:pt x="849" y="234"/>
                          </a:lnTo>
                          <a:lnTo>
                            <a:pt x="853" y="239"/>
                          </a:lnTo>
                          <a:lnTo>
                            <a:pt x="858" y="243"/>
                          </a:lnTo>
                          <a:lnTo>
                            <a:pt x="861" y="247"/>
                          </a:lnTo>
                          <a:lnTo>
                            <a:pt x="865" y="252"/>
                          </a:lnTo>
                          <a:lnTo>
                            <a:pt x="868" y="256"/>
                          </a:lnTo>
                          <a:lnTo>
                            <a:pt x="873" y="261"/>
                          </a:lnTo>
                          <a:lnTo>
                            <a:pt x="875" y="266"/>
                          </a:lnTo>
                          <a:lnTo>
                            <a:pt x="879" y="271"/>
                          </a:lnTo>
                          <a:lnTo>
                            <a:pt x="883" y="276"/>
                          </a:lnTo>
                          <a:lnTo>
                            <a:pt x="885" y="281"/>
                          </a:lnTo>
                          <a:lnTo>
                            <a:pt x="888" y="286"/>
                          </a:lnTo>
                          <a:lnTo>
                            <a:pt x="890" y="291"/>
                          </a:lnTo>
                          <a:lnTo>
                            <a:pt x="893" y="296"/>
                          </a:lnTo>
                          <a:lnTo>
                            <a:pt x="895" y="302"/>
                          </a:lnTo>
                          <a:lnTo>
                            <a:pt x="898" y="307"/>
                          </a:lnTo>
                          <a:lnTo>
                            <a:pt x="899" y="313"/>
                          </a:lnTo>
                          <a:lnTo>
                            <a:pt x="902" y="318"/>
                          </a:lnTo>
                          <a:lnTo>
                            <a:pt x="903" y="324"/>
                          </a:lnTo>
                          <a:lnTo>
                            <a:pt x="904" y="331"/>
                          </a:lnTo>
                          <a:lnTo>
                            <a:pt x="905" y="337"/>
                          </a:lnTo>
                          <a:lnTo>
                            <a:pt x="907" y="343"/>
                          </a:lnTo>
                          <a:lnTo>
                            <a:pt x="908" y="349"/>
                          </a:lnTo>
                          <a:lnTo>
                            <a:pt x="908" y="356"/>
                          </a:lnTo>
                          <a:lnTo>
                            <a:pt x="909" y="362"/>
                          </a:lnTo>
                          <a:lnTo>
                            <a:pt x="909" y="369"/>
                          </a:lnTo>
                          <a:lnTo>
                            <a:pt x="909" y="377"/>
                          </a:lnTo>
                          <a:lnTo>
                            <a:pt x="795" y="425"/>
                          </a:lnTo>
                          <a:lnTo>
                            <a:pt x="804" y="472"/>
                          </a:lnTo>
                          <a:lnTo>
                            <a:pt x="902" y="457"/>
                          </a:lnTo>
                          <a:lnTo>
                            <a:pt x="902" y="458"/>
                          </a:lnTo>
                          <a:lnTo>
                            <a:pt x="902" y="461"/>
                          </a:lnTo>
                          <a:lnTo>
                            <a:pt x="902" y="463"/>
                          </a:lnTo>
                          <a:lnTo>
                            <a:pt x="902" y="466"/>
                          </a:lnTo>
                          <a:lnTo>
                            <a:pt x="900" y="468"/>
                          </a:lnTo>
                          <a:lnTo>
                            <a:pt x="900" y="471"/>
                          </a:lnTo>
                          <a:lnTo>
                            <a:pt x="900" y="475"/>
                          </a:lnTo>
                          <a:lnTo>
                            <a:pt x="900" y="477"/>
                          </a:lnTo>
                          <a:lnTo>
                            <a:pt x="899" y="480"/>
                          </a:lnTo>
                          <a:lnTo>
                            <a:pt x="899" y="482"/>
                          </a:lnTo>
                          <a:lnTo>
                            <a:pt x="898" y="485"/>
                          </a:lnTo>
                          <a:lnTo>
                            <a:pt x="898" y="487"/>
                          </a:lnTo>
                          <a:lnTo>
                            <a:pt x="897" y="491"/>
                          </a:lnTo>
                          <a:lnTo>
                            <a:pt x="897" y="493"/>
                          </a:lnTo>
                          <a:lnTo>
                            <a:pt x="895" y="496"/>
                          </a:lnTo>
                          <a:lnTo>
                            <a:pt x="895" y="500"/>
                          </a:lnTo>
                          <a:lnTo>
                            <a:pt x="894" y="502"/>
                          </a:lnTo>
                          <a:lnTo>
                            <a:pt x="893" y="505"/>
                          </a:lnTo>
                          <a:lnTo>
                            <a:pt x="892" y="507"/>
                          </a:lnTo>
                          <a:lnTo>
                            <a:pt x="892" y="511"/>
                          </a:lnTo>
                          <a:lnTo>
                            <a:pt x="890" y="513"/>
                          </a:lnTo>
                          <a:lnTo>
                            <a:pt x="889" y="516"/>
                          </a:lnTo>
                          <a:lnTo>
                            <a:pt x="888" y="520"/>
                          </a:lnTo>
                          <a:lnTo>
                            <a:pt x="887" y="522"/>
                          </a:lnTo>
                          <a:lnTo>
                            <a:pt x="885" y="525"/>
                          </a:lnTo>
                          <a:lnTo>
                            <a:pt x="884" y="528"/>
                          </a:lnTo>
                          <a:lnTo>
                            <a:pt x="883" y="531"/>
                          </a:lnTo>
                          <a:lnTo>
                            <a:pt x="882" y="535"/>
                          </a:lnTo>
                          <a:lnTo>
                            <a:pt x="880" y="537"/>
                          </a:lnTo>
                          <a:lnTo>
                            <a:pt x="879" y="540"/>
                          </a:lnTo>
                          <a:lnTo>
                            <a:pt x="878" y="542"/>
                          </a:lnTo>
                          <a:lnTo>
                            <a:pt x="877" y="546"/>
                          </a:lnTo>
                          <a:lnTo>
                            <a:pt x="874" y="549"/>
                          </a:lnTo>
                          <a:lnTo>
                            <a:pt x="873" y="551"/>
                          </a:lnTo>
                          <a:lnTo>
                            <a:pt x="871" y="554"/>
                          </a:lnTo>
                          <a:lnTo>
                            <a:pt x="870" y="556"/>
                          </a:lnTo>
                          <a:lnTo>
                            <a:pt x="868" y="559"/>
                          </a:lnTo>
                          <a:lnTo>
                            <a:pt x="866" y="562"/>
                          </a:lnTo>
                          <a:lnTo>
                            <a:pt x="865" y="565"/>
                          </a:lnTo>
                          <a:lnTo>
                            <a:pt x="863" y="567"/>
                          </a:lnTo>
                          <a:lnTo>
                            <a:pt x="861" y="570"/>
                          </a:lnTo>
                          <a:lnTo>
                            <a:pt x="859" y="572"/>
                          </a:lnTo>
                          <a:lnTo>
                            <a:pt x="856" y="575"/>
                          </a:lnTo>
                          <a:lnTo>
                            <a:pt x="855" y="577"/>
                          </a:lnTo>
                          <a:lnTo>
                            <a:pt x="853" y="580"/>
                          </a:lnTo>
                          <a:lnTo>
                            <a:pt x="851" y="582"/>
                          </a:lnTo>
                          <a:lnTo>
                            <a:pt x="849" y="585"/>
                          </a:lnTo>
                          <a:lnTo>
                            <a:pt x="848" y="587"/>
                          </a:lnTo>
                          <a:lnTo>
                            <a:pt x="845" y="589"/>
                          </a:lnTo>
                          <a:lnTo>
                            <a:pt x="843" y="591"/>
                          </a:lnTo>
                          <a:lnTo>
                            <a:pt x="840" y="592"/>
                          </a:lnTo>
                          <a:lnTo>
                            <a:pt x="838" y="595"/>
                          </a:lnTo>
                          <a:lnTo>
                            <a:pt x="836" y="597"/>
                          </a:lnTo>
                          <a:lnTo>
                            <a:pt x="834" y="599"/>
                          </a:lnTo>
                          <a:lnTo>
                            <a:pt x="831" y="601"/>
                          </a:lnTo>
                          <a:lnTo>
                            <a:pt x="829" y="602"/>
                          </a:lnTo>
                          <a:lnTo>
                            <a:pt x="826" y="604"/>
                          </a:lnTo>
                          <a:lnTo>
                            <a:pt x="824" y="605"/>
                          </a:lnTo>
                          <a:lnTo>
                            <a:pt x="821" y="607"/>
                          </a:lnTo>
                          <a:lnTo>
                            <a:pt x="820" y="609"/>
                          </a:lnTo>
                          <a:lnTo>
                            <a:pt x="817" y="610"/>
                          </a:lnTo>
                          <a:lnTo>
                            <a:pt x="815" y="611"/>
                          </a:lnTo>
                          <a:lnTo>
                            <a:pt x="812" y="612"/>
                          </a:lnTo>
                          <a:lnTo>
                            <a:pt x="810" y="614"/>
                          </a:lnTo>
                          <a:lnTo>
                            <a:pt x="810" y="614"/>
                          </a:lnTo>
                          <a:close/>
                        </a:path>
                      </a:pathLst>
                    </a:custGeom>
                    <a:solidFill>
                      <a:srgbClr val="b3b3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3758400" y="4569840"/>
                      <a:ext cx="2736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186">
                          <a:moveTo>
                            <a:pt x="25" y="186"/>
                          </a:moveTo>
                          <a:lnTo>
                            <a:pt x="23" y="184"/>
                          </a:lnTo>
                          <a:lnTo>
                            <a:pt x="23" y="181"/>
                          </a:lnTo>
                          <a:lnTo>
                            <a:pt x="22" y="177"/>
                          </a:lnTo>
                          <a:lnTo>
                            <a:pt x="21" y="175"/>
                          </a:lnTo>
                          <a:lnTo>
                            <a:pt x="20" y="171"/>
                          </a:lnTo>
                          <a:lnTo>
                            <a:pt x="20" y="169"/>
                          </a:lnTo>
                          <a:lnTo>
                            <a:pt x="18" y="165"/>
                          </a:lnTo>
                          <a:lnTo>
                            <a:pt x="17" y="164"/>
                          </a:lnTo>
                          <a:lnTo>
                            <a:pt x="16" y="160"/>
                          </a:lnTo>
                          <a:lnTo>
                            <a:pt x="16" y="157"/>
                          </a:lnTo>
                          <a:lnTo>
                            <a:pt x="15" y="154"/>
                          </a:lnTo>
                          <a:lnTo>
                            <a:pt x="15" y="151"/>
                          </a:lnTo>
                          <a:lnTo>
                            <a:pt x="13" y="147"/>
                          </a:lnTo>
                          <a:lnTo>
                            <a:pt x="12" y="146"/>
                          </a:lnTo>
                          <a:lnTo>
                            <a:pt x="12" y="142"/>
                          </a:lnTo>
                          <a:lnTo>
                            <a:pt x="11" y="140"/>
                          </a:lnTo>
                          <a:lnTo>
                            <a:pt x="10" y="136"/>
                          </a:lnTo>
                          <a:lnTo>
                            <a:pt x="10" y="134"/>
                          </a:lnTo>
                          <a:lnTo>
                            <a:pt x="10" y="131"/>
                          </a:lnTo>
                          <a:lnTo>
                            <a:pt x="8" y="129"/>
                          </a:lnTo>
                          <a:lnTo>
                            <a:pt x="7" y="125"/>
                          </a:lnTo>
                          <a:lnTo>
                            <a:pt x="7" y="122"/>
                          </a:lnTo>
                          <a:lnTo>
                            <a:pt x="7" y="119"/>
                          </a:lnTo>
                          <a:lnTo>
                            <a:pt x="7" y="116"/>
                          </a:lnTo>
                          <a:lnTo>
                            <a:pt x="6" y="114"/>
                          </a:lnTo>
                          <a:lnTo>
                            <a:pt x="6" y="110"/>
                          </a:lnTo>
                          <a:lnTo>
                            <a:pt x="5" y="107"/>
                          </a:lnTo>
                          <a:lnTo>
                            <a:pt x="5" y="105"/>
                          </a:lnTo>
                          <a:lnTo>
                            <a:pt x="3" y="101"/>
                          </a:lnTo>
                          <a:lnTo>
                            <a:pt x="3" y="99"/>
                          </a:lnTo>
                          <a:lnTo>
                            <a:pt x="3" y="96"/>
                          </a:lnTo>
                          <a:lnTo>
                            <a:pt x="3" y="94"/>
                          </a:lnTo>
                          <a:lnTo>
                            <a:pt x="2" y="90"/>
                          </a:lnTo>
                          <a:lnTo>
                            <a:pt x="2" y="87"/>
                          </a:lnTo>
                          <a:lnTo>
                            <a:pt x="1" y="84"/>
                          </a:lnTo>
                          <a:lnTo>
                            <a:pt x="1" y="81"/>
                          </a:lnTo>
                          <a:lnTo>
                            <a:pt x="1" y="77"/>
                          </a:lnTo>
                          <a:lnTo>
                            <a:pt x="0" y="75"/>
                          </a:lnTo>
                          <a:lnTo>
                            <a:pt x="0" y="72"/>
                          </a:lnTo>
                          <a:lnTo>
                            <a:pt x="0" y="70"/>
                          </a:lnTo>
                          <a:lnTo>
                            <a:pt x="0" y="66"/>
                          </a:lnTo>
                          <a:lnTo>
                            <a:pt x="0" y="64"/>
                          </a:lnTo>
                          <a:lnTo>
                            <a:pt x="0" y="60"/>
                          </a:lnTo>
                          <a:lnTo>
                            <a:pt x="0" y="57"/>
                          </a:lnTo>
                          <a:lnTo>
                            <a:pt x="0" y="53"/>
                          </a:lnTo>
                          <a:lnTo>
                            <a:pt x="0" y="52"/>
                          </a:lnTo>
                          <a:lnTo>
                            <a:pt x="0" y="48"/>
                          </a:lnTo>
                          <a:lnTo>
                            <a:pt x="0" y="46"/>
                          </a:lnTo>
                          <a:lnTo>
                            <a:pt x="0" y="42"/>
                          </a:lnTo>
                          <a:lnTo>
                            <a:pt x="0" y="40"/>
                          </a:lnTo>
                          <a:lnTo>
                            <a:pt x="0" y="37"/>
                          </a:lnTo>
                          <a:lnTo>
                            <a:pt x="0" y="35"/>
                          </a:lnTo>
                          <a:lnTo>
                            <a:pt x="0" y="31"/>
                          </a:lnTo>
                          <a:lnTo>
                            <a:pt x="0" y="28"/>
                          </a:lnTo>
                          <a:lnTo>
                            <a:pt x="0" y="25"/>
                          </a:lnTo>
                          <a:lnTo>
                            <a:pt x="1" y="22"/>
                          </a:lnTo>
                          <a:lnTo>
                            <a:pt x="1" y="20"/>
                          </a:lnTo>
                          <a:lnTo>
                            <a:pt x="1" y="17"/>
                          </a:lnTo>
                          <a:lnTo>
                            <a:pt x="1" y="13"/>
                          </a:lnTo>
                          <a:lnTo>
                            <a:pt x="2" y="11"/>
                          </a:lnTo>
                          <a:lnTo>
                            <a:pt x="2" y="7"/>
                          </a:lnTo>
                          <a:lnTo>
                            <a:pt x="3" y="5"/>
                          </a:lnTo>
                          <a:lnTo>
                            <a:pt x="3" y="2"/>
                          </a:lnTo>
                          <a:lnTo>
                            <a:pt x="5" y="0"/>
                          </a:lnTo>
                          <a:lnTo>
                            <a:pt x="70" y="18"/>
                          </a:lnTo>
                          <a:lnTo>
                            <a:pt x="70" y="22"/>
                          </a:lnTo>
                          <a:lnTo>
                            <a:pt x="70" y="26"/>
                          </a:lnTo>
                          <a:lnTo>
                            <a:pt x="70" y="31"/>
                          </a:lnTo>
                          <a:lnTo>
                            <a:pt x="70" y="35"/>
                          </a:lnTo>
                          <a:lnTo>
                            <a:pt x="70" y="37"/>
                          </a:lnTo>
                          <a:lnTo>
                            <a:pt x="70" y="38"/>
                          </a:lnTo>
                          <a:lnTo>
                            <a:pt x="70" y="41"/>
                          </a:lnTo>
                          <a:lnTo>
                            <a:pt x="70" y="43"/>
                          </a:lnTo>
                          <a:lnTo>
                            <a:pt x="70" y="46"/>
                          </a:lnTo>
                          <a:lnTo>
                            <a:pt x="70" y="48"/>
                          </a:lnTo>
                          <a:lnTo>
                            <a:pt x="70" y="50"/>
                          </a:lnTo>
                          <a:lnTo>
                            <a:pt x="71" y="52"/>
                          </a:lnTo>
                          <a:lnTo>
                            <a:pt x="70" y="57"/>
                          </a:lnTo>
                          <a:lnTo>
                            <a:pt x="70" y="61"/>
                          </a:lnTo>
                          <a:lnTo>
                            <a:pt x="70" y="64"/>
                          </a:lnTo>
                          <a:lnTo>
                            <a:pt x="70" y="66"/>
                          </a:lnTo>
                          <a:lnTo>
                            <a:pt x="70" y="69"/>
                          </a:lnTo>
                          <a:lnTo>
                            <a:pt x="70" y="71"/>
                          </a:lnTo>
                          <a:lnTo>
                            <a:pt x="70" y="75"/>
                          </a:lnTo>
                          <a:lnTo>
                            <a:pt x="70" y="80"/>
                          </a:lnTo>
                          <a:lnTo>
                            <a:pt x="70" y="81"/>
                          </a:lnTo>
                          <a:lnTo>
                            <a:pt x="70" y="84"/>
                          </a:lnTo>
                          <a:lnTo>
                            <a:pt x="70" y="86"/>
                          </a:lnTo>
                          <a:lnTo>
                            <a:pt x="70" y="89"/>
                          </a:lnTo>
                          <a:lnTo>
                            <a:pt x="70" y="92"/>
                          </a:lnTo>
                          <a:lnTo>
                            <a:pt x="70" y="97"/>
                          </a:lnTo>
                          <a:lnTo>
                            <a:pt x="70" y="100"/>
                          </a:lnTo>
                          <a:lnTo>
                            <a:pt x="70" y="101"/>
                          </a:lnTo>
                          <a:lnTo>
                            <a:pt x="70" y="104"/>
                          </a:lnTo>
                          <a:lnTo>
                            <a:pt x="70" y="106"/>
                          </a:lnTo>
                          <a:lnTo>
                            <a:pt x="70" y="109"/>
                          </a:lnTo>
                          <a:lnTo>
                            <a:pt x="70" y="110"/>
                          </a:lnTo>
                          <a:lnTo>
                            <a:pt x="70" y="112"/>
                          </a:lnTo>
                          <a:lnTo>
                            <a:pt x="71" y="115"/>
                          </a:lnTo>
                          <a:lnTo>
                            <a:pt x="71" y="117"/>
                          </a:lnTo>
                          <a:lnTo>
                            <a:pt x="71" y="119"/>
                          </a:lnTo>
                          <a:lnTo>
                            <a:pt x="71" y="121"/>
                          </a:lnTo>
                          <a:lnTo>
                            <a:pt x="72" y="124"/>
                          </a:lnTo>
                          <a:lnTo>
                            <a:pt x="72" y="129"/>
                          </a:lnTo>
                          <a:lnTo>
                            <a:pt x="72" y="132"/>
                          </a:lnTo>
                          <a:lnTo>
                            <a:pt x="74" y="136"/>
                          </a:lnTo>
                          <a:lnTo>
                            <a:pt x="75" y="141"/>
                          </a:lnTo>
                          <a:lnTo>
                            <a:pt x="76" y="145"/>
                          </a:lnTo>
                          <a:lnTo>
                            <a:pt x="77" y="150"/>
                          </a:lnTo>
                          <a:lnTo>
                            <a:pt x="79" y="154"/>
                          </a:lnTo>
                          <a:lnTo>
                            <a:pt x="80" y="159"/>
                          </a:lnTo>
                          <a:lnTo>
                            <a:pt x="25" y="186"/>
                          </a:lnTo>
                          <a:lnTo>
                            <a:pt x="25" y="18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3789720" y="4577040"/>
                      <a:ext cx="14652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4" h="161">
                          <a:moveTo>
                            <a:pt x="109" y="161"/>
                          </a:moveTo>
                          <a:lnTo>
                            <a:pt x="107" y="161"/>
                          </a:lnTo>
                          <a:lnTo>
                            <a:pt x="104" y="160"/>
                          </a:lnTo>
                          <a:lnTo>
                            <a:pt x="102" y="160"/>
                          </a:lnTo>
                          <a:lnTo>
                            <a:pt x="101" y="160"/>
                          </a:lnTo>
                          <a:lnTo>
                            <a:pt x="96" y="159"/>
                          </a:lnTo>
                          <a:lnTo>
                            <a:pt x="92" y="159"/>
                          </a:lnTo>
                          <a:lnTo>
                            <a:pt x="88" y="157"/>
                          </a:lnTo>
                          <a:lnTo>
                            <a:pt x="84" y="156"/>
                          </a:lnTo>
                          <a:lnTo>
                            <a:pt x="81" y="156"/>
                          </a:lnTo>
                          <a:lnTo>
                            <a:pt x="77" y="155"/>
                          </a:lnTo>
                          <a:lnTo>
                            <a:pt x="73" y="154"/>
                          </a:lnTo>
                          <a:lnTo>
                            <a:pt x="69" y="152"/>
                          </a:lnTo>
                          <a:lnTo>
                            <a:pt x="66" y="151"/>
                          </a:lnTo>
                          <a:lnTo>
                            <a:pt x="62" y="150"/>
                          </a:lnTo>
                          <a:lnTo>
                            <a:pt x="58" y="149"/>
                          </a:lnTo>
                          <a:lnTo>
                            <a:pt x="54" y="147"/>
                          </a:lnTo>
                          <a:lnTo>
                            <a:pt x="50" y="146"/>
                          </a:lnTo>
                          <a:lnTo>
                            <a:pt x="48" y="145"/>
                          </a:lnTo>
                          <a:lnTo>
                            <a:pt x="44" y="144"/>
                          </a:lnTo>
                          <a:lnTo>
                            <a:pt x="42" y="142"/>
                          </a:lnTo>
                          <a:lnTo>
                            <a:pt x="38" y="140"/>
                          </a:lnTo>
                          <a:lnTo>
                            <a:pt x="35" y="139"/>
                          </a:lnTo>
                          <a:lnTo>
                            <a:pt x="33" y="137"/>
                          </a:lnTo>
                          <a:lnTo>
                            <a:pt x="29" y="136"/>
                          </a:lnTo>
                          <a:lnTo>
                            <a:pt x="27" y="134"/>
                          </a:lnTo>
                          <a:lnTo>
                            <a:pt x="25" y="132"/>
                          </a:lnTo>
                          <a:lnTo>
                            <a:pt x="22" y="130"/>
                          </a:lnTo>
                          <a:lnTo>
                            <a:pt x="19" y="129"/>
                          </a:lnTo>
                          <a:lnTo>
                            <a:pt x="17" y="126"/>
                          </a:lnTo>
                          <a:lnTo>
                            <a:pt x="15" y="125"/>
                          </a:lnTo>
                          <a:lnTo>
                            <a:pt x="13" y="122"/>
                          </a:lnTo>
                          <a:lnTo>
                            <a:pt x="12" y="120"/>
                          </a:lnTo>
                          <a:lnTo>
                            <a:pt x="9" y="117"/>
                          </a:lnTo>
                          <a:lnTo>
                            <a:pt x="8" y="116"/>
                          </a:lnTo>
                          <a:lnTo>
                            <a:pt x="7" y="112"/>
                          </a:lnTo>
                          <a:lnTo>
                            <a:pt x="5" y="109"/>
                          </a:lnTo>
                          <a:lnTo>
                            <a:pt x="4" y="105"/>
                          </a:lnTo>
                          <a:lnTo>
                            <a:pt x="3" y="102"/>
                          </a:lnTo>
                          <a:lnTo>
                            <a:pt x="1" y="99"/>
                          </a:lnTo>
                          <a:lnTo>
                            <a:pt x="1" y="95"/>
                          </a:lnTo>
                          <a:lnTo>
                            <a:pt x="1" y="91"/>
                          </a:lnTo>
                          <a:lnTo>
                            <a:pt x="1" y="87"/>
                          </a:lnTo>
                          <a:lnTo>
                            <a:pt x="0" y="84"/>
                          </a:lnTo>
                          <a:lnTo>
                            <a:pt x="0" y="80"/>
                          </a:lnTo>
                          <a:lnTo>
                            <a:pt x="0" y="76"/>
                          </a:lnTo>
                          <a:lnTo>
                            <a:pt x="0" y="74"/>
                          </a:lnTo>
                          <a:lnTo>
                            <a:pt x="0" y="70"/>
                          </a:lnTo>
                          <a:lnTo>
                            <a:pt x="0" y="66"/>
                          </a:lnTo>
                          <a:lnTo>
                            <a:pt x="0" y="62"/>
                          </a:lnTo>
                          <a:lnTo>
                            <a:pt x="0" y="59"/>
                          </a:lnTo>
                          <a:lnTo>
                            <a:pt x="0" y="55"/>
                          </a:lnTo>
                          <a:lnTo>
                            <a:pt x="0" y="51"/>
                          </a:lnTo>
                          <a:lnTo>
                            <a:pt x="1" y="47"/>
                          </a:lnTo>
                          <a:lnTo>
                            <a:pt x="1" y="44"/>
                          </a:lnTo>
                          <a:lnTo>
                            <a:pt x="1" y="40"/>
                          </a:lnTo>
                          <a:lnTo>
                            <a:pt x="1" y="36"/>
                          </a:lnTo>
                          <a:lnTo>
                            <a:pt x="3" y="32"/>
                          </a:lnTo>
                          <a:lnTo>
                            <a:pt x="3" y="28"/>
                          </a:lnTo>
                          <a:lnTo>
                            <a:pt x="3" y="25"/>
                          </a:lnTo>
                          <a:lnTo>
                            <a:pt x="3" y="21"/>
                          </a:lnTo>
                          <a:lnTo>
                            <a:pt x="3" y="17"/>
                          </a:lnTo>
                          <a:lnTo>
                            <a:pt x="4" y="13"/>
                          </a:lnTo>
                          <a:lnTo>
                            <a:pt x="4" y="10"/>
                          </a:lnTo>
                          <a:lnTo>
                            <a:pt x="4" y="6"/>
                          </a:lnTo>
                          <a:lnTo>
                            <a:pt x="4" y="2"/>
                          </a:lnTo>
                          <a:lnTo>
                            <a:pt x="4" y="0"/>
                          </a:lnTo>
                          <a:lnTo>
                            <a:pt x="8" y="0"/>
                          </a:lnTo>
                          <a:lnTo>
                            <a:pt x="12" y="1"/>
                          </a:lnTo>
                          <a:lnTo>
                            <a:pt x="17" y="2"/>
                          </a:lnTo>
                          <a:lnTo>
                            <a:pt x="20" y="3"/>
                          </a:lnTo>
                          <a:lnTo>
                            <a:pt x="25" y="3"/>
                          </a:lnTo>
                          <a:lnTo>
                            <a:pt x="29" y="5"/>
                          </a:lnTo>
                          <a:lnTo>
                            <a:pt x="33" y="6"/>
                          </a:lnTo>
                          <a:lnTo>
                            <a:pt x="38" y="7"/>
                          </a:lnTo>
                          <a:lnTo>
                            <a:pt x="42" y="8"/>
                          </a:lnTo>
                          <a:lnTo>
                            <a:pt x="47" y="10"/>
                          </a:lnTo>
                          <a:lnTo>
                            <a:pt x="50" y="11"/>
                          </a:lnTo>
                          <a:lnTo>
                            <a:pt x="55" y="12"/>
                          </a:lnTo>
                          <a:lnTo>
                            <a:pt x="59" y="13"/>
                          </a:lnTo>
                          <a:lnTo>
                            <a:pt x="63" y="15"/>
                          </a:lnTo>
                          <a:lnTo>
                            <a:pt x="68" y="16"/>
                          </a:lnTo>
                          <a:lnTo>
                            <a:pt x="72" y="17"/>
                          </a:lnTo>
                          <a:lnTo>
                            <a:pt x="76" y="18"/>
                          </a:lnTo>
                          <a:lnTo>
                            <a:pt x="81" y="20"/>
                          </a:lnTo>
                          <a:lnTo>
                            <a:pt x="84" y="21"/>
                          </a:lnTo>
                          <a:lnTo>
                            <a:pt x="89" y="22"/>
                          </a:lnTo>
                          <a:lnTo>
                            <a:pt x="93" y="23"/>
                          </a:lnTo>
                          <a:lnTo>
                            <a:pt x="98" y="25"/>
                          </a:lnTo>
                          <a:lnTo>
                            <a:pt x="102" y="25"/>
                          </a:lnTo>
                          <a:lnTo>
                            <a:pt x="106" y="27"/>
                          </a:lnTo>
                          <a:lnTo>
                            <a:pt x="111" y="27"/>
                          </a:lnTo>
                          <a:lnTo>
                            <a:pt x="115" y="28"/>
                          </a:lnTo>
                          <a:lnTo>
                            <a:pt x="118" y="30"/>
                          </a:lnTo>
                          <a:lnTo>
                            <a:pt x="123" y="32"/>
                          </a:lnTo>
                          <a:lnTo>
                            <a:pt x="127" y="34"/>
                          </a:lnTo>
                          <a:lnTo>
                            <a:pt x="132" y="35"/>
                          </a:lnTo>
                          <a:lnTo>
                            <a:pt x="136" y="36"/>
                          </a:lnTo>
                          <a:lnTo>
                            <a:pt x="141" y="37"/>
                          </a:lnTo>
                          <a:lnTo>
                            <a:pt x="145" y="39"/>
                          </a:lnTo>
                          <a:lnTo>
                            <a:pt x="150" y="40"/>
                          </a:lnTo>
                          <a:lnTo>
                            <a:pt x="153" y="41"/>
                          </a:lnTo>
                          <a:lnTo>
                            <a:pt x="158" y="42"/>
                          </a:lnTo>
                          <a:lnTo>
                            <a:pt x="162" y="44"/>
                          </a:lnTo>
                          <a:lnTo>
                            <a:pt x="166" y="46"/>
                          </a:lnTo>
                          <a:lnTo>
                            <a:pt x="171" y="47"/>
                          </a:lnTo>
                          <a:lnTo>
                            <a:pt x="175" y="49"/>
                          </a:lnTo>
                          <a:lnTo>
                            <a:pt x="180" y="50"/>
                          </a:lnTo>
                          <a:lnTo>
                            <a:pt x="184" y="51"/>
                          </a:lnTo>
                          <a:lnTo>
                            <a:pt x="187" y="52"/>
                          </a:lnTo>
                          <a:lnTo>
                            <a:pt x="192" y="54"/>
                          </a:lnTo>
                          <a:lnTo>
                            <a:pt x="196" y="55"/>
                          </a:lnTo>
                          <a:lnTo>
                            <a:pt x="201" y="57"/>
                          </a:lnTo>
                          <a:lnTo>
                            <a:pt x="205" y="59"/>
                          </a:lnTo>
                          <a:lnTo>
                            <a:pt x="210" y="60"/>
                          </a:lnTo>
                          <a:lnTo>
                            <a:pt x="214" y="61"/>
                          </a:lnTo>
                          <a:lnTo>
                            <a:pt x="218" y="62"/>
                          </a:lnTo>
                          <a:lnTo>
                            <a:pt x="221" y="64"/>
                          </a:lnTo>
                          <a:lnTo>
                            <a:pt x="226" y="65"/>
                          </a:lnTo>
                          <a:lnTo>
                            <a:pt x="230" y="66"/>
                          </a:lnTo>
                          <a:lnTo>
                            <a:pt x="235" y="67"/>
                          </a:lnTo>
                          <a:lnTo>
                            <a:pt x="239" y="69"/>
                          </a:lnTo>
                          <a:lnTo>
                            <a:pt x="243" y="70"/>
                          </a:lnTo>
                          <a:lnTo>
                            <a:pt x="248" y="71"/>
                          </a:lnTo>
                          <a:lnTo>
                            <a:pt x="251" y="72"/>
                          </a:lnTo>
                          <a:lnTo>
                            <a:pt x="255" y="74"/>
                          </a:lnTo>
                          <a:lnTo>
                            <a:pt x="260" y="75"/>
                          </a:lnTo>
                          <a:lnTo>
                            <a:pt x="264" y="76"/>
                          </a:lnTo>
                          <a:lnTo>
                            <a:pt x="269" y="79"/>
                          </a:lnTo>
                          <a:lnTo>
                            <a:pt x="273" y="80"/>
                          </a:lnTo>
                          <a:lnTo>
                            <a:pt x="278" y="81"/>
                          </a:lnTo>
                          <a:lnTo>
                            <a:pt x="279" y="81"/>
                          </a:lnTo>
                          <a:lnTo>
                            <a:pt x="280" y="81"/>
                          </a:lnTo>
                          <a:lnTo>
                            <a:pt x="283" y="80"/>
                          </a:lnTo>
                          <a:lnTo>
                            <a:pt x="287" y="80"/>
                          </a:lnTo>
                          <a:lnTo>
                            <a:pt x="290" y="79"/>
                          </a:lnTo>
                          <a:lnTo>
                            <a:pt x="294" y="77"/>
                          </a:lnTo>
                          <a:lnTo>
                            <a:pt x="297" y="76"/>
                          </a:lnTo>
                          <a:lnTo>
                            <a:pt x="299" y="76"/>
                          </a:lnTo>
                          <a:lnTo>
                            <a:pt x="302" y="75"/>
                          </a:lnTo>
                          <a:lnTo>
                            <a:pt x="304" y="75"/>
                          </a:lnTo>
                          <a:lnTo>
                            <a:pt x="307" y="74"/>
                          </a:lnTo>
                          <a:lnTo>
                            <a:pt x="309" y="72"/>
                          </a:lnTo>
                          <a:lnTo>
                            <a:pt x="312" y="71"/>
                          </a:lnTo>
                          <a:lnTo>
                            <a:pt x="314" y="70"/>
                          </a:lnTo>
                          <a:lnTo>
                            <a:pt x="317" y="69"/>
                          </a:lnTo>
                          <a:lnTo>
                            <a:pt x="319" y="67"/>
                          </a:lnTo>
                          <a:lnTo>
                            <a:pt x="322" y="66"/>
                          </a:lnTo>
                          <a:lnTo>
                            <a:pt x="326" y="65"/>
                          </a:lnTo>
                          <a:lnTo>
                            <a:pt x="328" y="64"/>
                          </a:lnTo>
                          <a:lnTo>
                            <a:pt x="332" y="62"/>
                          </a:lnTo>
                          <a:lnTo>
                            <a:pt x="334" y="61"/>
                          </a:lnTo>
                          <a:lnTo>
                            <a:pt x="337" y="60"/>
                          </a:lnTo>
                          <a:lnTo>
                            <a:pt x="341" y="59"/>
                          </a:lnTo>
                          <a:lnTo>
                            <a:pt x="343" y="57"/>
                          </a:lnTo>
                          <a:lnTo>
                            <a:pt x="347" y="56"/>
                          </a:lnTo>
                          <a:lnTo>
                            <a:pt x="351" y="55"/>
                          </a:lnTo>
                          <a:lnTo>
                            <a:pt x="353" y="52"/>
                          </a:lnTo>
                          <a:lnTo>
                            <a:pt x="356" y="51"/>
                          </a:lnTo>
                          <a:lnTo>
                            <a:pt x="358" y="50"/>
                          </a:lnTo>
                          <a:lnTo>
                            <a:pt x="362" y="49"/>
                          </a:lnTo>
                          <a:lnTo>
                            <a:pt x="364" y="46"/>
                          </a:lnTo>
                          <a:lnTo>
                            <a:pt x="368" y="45"/>
                          </a:lnTo>
                          <a:lnTo>
                            <a:pt x="371" y="44"/>
                          </a:lnTo>
                          <a:lnTo>
                            <a:pt x="375" y="42"/>
                          </a:lnTo>
                          <a:lnTo>
                            <a:pt x="377" y="41"/>
                          </a:lnTo>
                          <a:lnTo>
                            <a:pt x="380" y="39"/>
                          </a:lnTo>
                          <a:lnTo>
                            <a:pt x="382" y="37"/>
                          </a:lnTo>
                          <a:lnTo>
                            <a:pt x="386" y="36"/>
                          </a:lnTo>
                          <a:lnTo>
                            <a:pt x="388" y="35"/>
                          </a:lnTo>
                          <a:lnTo>
                            <a:pt x="392" y="34"/>
                          </a:lnTo>
                          <a:lnTo>
                            <a:pt x="395" y="32"/>
                          </a:lnTo>
                          <a:lnTo>
                            <a:pt x="397" y="31"/>
                          </a:lnTo>
                          <a:lnTo>
                            <a:pt x="400" y="28"/>
                          </a:lnTo>
                          <a:lnTo>
                            <a:pt x="402" y="27"/>
                          </a:lnTo>
                          <a:lnTo>
                            <a:pt x="405" y="27"/>
                          </a:lnTo>
                          <a:lnTo>
                            <a:pt x="407" y="25"/>
                          </a:lnTo>
                          <a:lnTo>
                            <a:pt x="410" y="25"/>
                          </a:lnTo>
                          <a:lnTo>
                            <a:pt x="412" y="23"/>
                          </a:lnTo>
                          <a:lnTo>
                            <a:pt x="415" y="22"/>
                          </a:lnTo>
                          <a:lnTo>
                            <a:pt x="417" y="21"/>
                          </a:lnTo>
                          <a:lnTo>
                            <a:pt x="421" y="18"/>
                          </a:lnTo>
                          <a:lnTo>
                            <a:pt x="425" y="17"/>
                          </a:lnTo>
                          <a:lnTo>
                            <a:pt x="427" y="16"/>
                          </a:lnTo>
                          <a:lnTo>
                            <a:pt x="430" y="15"/>
                          </a:lnTo>
                          <a:lnTo>
                            <a:pt x="431" y="17"/>
                          </a:lnTo>
                          <a:lnTo>
                            <a:pt x="431" y="20"/>
                          </a:lnTo>
                          <a:lnTo>
                            <a:pt x="431" y="22"/>
                          </a:lnTo>
                          <a:lnTo>
                            <a:pt x="432" y="26"/>
                          </a:lnTo>
                          <a:lnTo>
                            <a:pt x="432" y="28"/>
                          </a:lnTo>
                          <a:lnTo>
                            <a:pt x="434" y="32"/>
                          </a:lnTo>
                          <a:lnTo>
                            <a:pt x="434" y="36"/>
                          </a:lnTo>
                          <a:lnTo>
                            <a:pt x="434" y="41"/>
                          </a:lnTo>
                          <a:lnTo>
                            <a:pt x="434" y="45"/>
                          </a:lnTo>
                          <a:lnTo>
                            <a:pt x="434" y="50"/>
                          </a:lnTo>
                          <a:lnTo>
                            <a:pt x="434" y="51"/>
                          </a:lnTo>
                          <a:lnTo>
                            <a:pt x="434" y="54"/>
                          </a:lnTo>
                          <a:lnTo>
                            <a:pt x="434" y="56"/>
                          </a:lnTo>
                          <a:lnTo>
                            <a:pt x="434" y="59"/>
                          </a:lnTo>
                          <a:lnTo>
                            <a:pt x="432" y="61"/>
                          </a:lnTo>
                          <a:lnTo>
                            <a:pt x="432" y="64"/>
                          </a:lnTo>
                          <a:lnTo>
                            <a:pt x="432" y="66"/>
                          </a:lnTo>
                          <a:lnTo>
                            <a:pt x="432" y="69"/>
                          </a:lnTo>
                          <a:lnTo>
                            <a:pt x="432" y="71"/>
                          </a:lnTo>
                          <a:lnTo>
                            <a:pt x="432" y="74"/>
                          </a:lnTo>
                          <a:lnTo>
                            <a:pt x="432" y="76"/>
                          </a:lnTo>
                          <a:lnTo>
                            <a:pt x="432" y="79"/>
                          </a:lnTo>
                          <a:lnTo>
                            <a:pt x="431" y="80"/>
                          </a:lnTo>
                          <a:lnTo>
                            <a:pt x="431" y="82"/>
                          </a:lnTo>
                          <a:lnTo>
                            <a:pt x="430" y="85"/>
                          </a:lnTo>
                          <a:lnTo>
                            <a:pt x="430" y="87"/>
                          </a:lnTo>
                          <a:lnTo>
                            <a:pt x="430" y="90"/>
                          </a:lnTo>
                          <a:lnTo>
                            <a:pt x="430" y="92"/>
                          </a:lnTo>
                          <a:lnTo>
                            <a:pt x="429" y="95"/>
                          </a:lnTo>
                          <a:lnTo>
                            <a:pt x="429" y="97"/>
                          </a:lnTo>
                          <a:lnTo>
                            <a:pt x="427" y="101"/>
                          </a:lnTo>
                          <a:lnTo>
                            <a:pt x="426" y="106"/>
                          </a:lnTo>
                          <a:lnTo>
                            <a:pt x="425" y="110"/>
                          </a:lnTo>
                          <a:lnTo>
                            <a:pt x="425" y="114"/>
                          </a:lnTo>
                          <a:lnTo>
                            <a:pt x="422" y="117"/>
                          </a:lnTo>
                          <a:lnTo>
                            <a:pt x="421" y="121"/>
                          </a:lnTo>
                          <a:lnTo>
                            <a:pt x="420" y="124"/>
                          </a:lnTo>
                          <a:lnTo>
                            <a:pt x="418" y="126"/>
                          </a:lnTo>
                          <a:lnTo>
                            <a:pt x="416" y="129"/>
                          </a:lnTo>
                          <a:lnTo>
                            <a:pt x="415" y="131"/>
                          </a:lnTo>
                          <a:lnTo>
                            <a:pt x="413" y="132"/>
                          </a:lnTo>
                          <a:lnTo>
                            <a:pt x="412" y="135"/>
                          </a:lnTo>
                          <a:lnTo>
                            <a:pt x="407" y="137"/>
                          </a:lnTo>
                          <a:lnTo>
                            <a:pt x="403" y="139"/>
                          </a:lnTo>
                          <a:lnTo>
                            <a:pt x="398" y="141"/>
                          </a:lnTo>
                          <a:lnTo>
                            <a:pt x="395" y="145"/>
                          </a:lnTo>
                          <a:lnTo>
                            <a:pt x="392" y="146"/>
                          </a:lnTo>
                          <a:lnTo>
                            <a:pt x="390" y="147"/>
                          </a:lnTo>
                          <a:lnTo>
                            <a:pt x="387" y="149"/>
                          </a:lnTo>
                          <a:lnTo>
                            <a:pt x="385" y="150"/>
                          </a:lnTo>
                          <a:lnTo>
                            <a:pt x="382" y="150"/>
                          </a:lnTo>
                          <a:lnTo>
                            <a:pt x="380" y="151"/>
                          </a:lnTo>
                          <a:lnTo>
                            <a:pt x="377" y="152"/>
                          </a:lnTo>
                          <a:lnTo>
                            <a:pt x="375" y="154"/>
                          </a:lnTo>
                          <a:lnTo>
                            <a:pt x="372" y="155"/>
                          </a:lnTo>
                          <a:lnTo>
                            <a:pt x="369" y="156"/>
                          </a:lnTo>
                          <a:lnTo>
                            <a:pt x="366" y="156"/>
                          </a:lnTo>
                          <a:lnTo>
                            <a:pt x="364" y="157"/>
                          </a:lnTo>
                          <a:lnTo>
                            <a:pt x="361" y="157"/>
                          </a:lnTo>
                          <a:lnTo>
                            <a:pt x="358" y="159"/>
                          </a:lnTo>
                          <a:lnTo>
                            <a:pt x="356" y="159"/>
                          </a:lnTo>
                          <a:lnTo>
                            <a:pt x="353" y="160"/>
                          </a:lnTo>
                          <a:lnTo>
                            <a:pt x="351" y="160"/>
                          </a:lnTo>
                          <a:lnTo>
                            <a:pt x="348" y="160"/>
                          </a:lnTo>
                          <a:lnTo>
                            <a:pt x="346" y="160"/>
                          </a:lnTo>
                          <a:lnTo>
                            <a:pt x="343" y="160"/>
                          </a:lnTo>
                          <a:lnTo>
                            <a:pt x="341" y="160"/>
                          </a:lnTo>
                          <a:lnTo>
                            <a:pt x="338" y="160"/>
                          </a:lnTo>
                          <a:lnTo>
                            <a:pt x="336" y="159"/>
                          </a:lnTo>
                          <a:lnTo>
                            <a:pt x="333" y="159"/>
                          </a:lnTo>
                          <a:lnTo>
                            <a:pt x="332" y="159"/>
                          </a:lnTo>
                          <a:lnTo>
                            <a:pt x="329" y="159"/>
                          </a:lnTo>
                          <a:lnTo>
                            <a:pt x="327" y="157"/>
                          </a:lnTo>
                          <a:lnTo>
                            <a:pt x="324" y="157"/>
                          </a:lnTo>
                          <a:lnTo>
                            <a:pt x="321" y="156"/>
                          </a:lnTo>
                          <a:lnTo>
                            <a:pt x="317" y="155"/>
                          </a:lnTo>
                          <a:lnTo>
                            <a:pt x="313" y="152"/>
                          </a:lnTo>
                          <a:lnTo>
                            <a:pt x="308" y="151"/>
                          </a:lnTo>
                          <a:lnTo>
                            <a:pt x="305" y="150"/>
                          </a:lnTo>
                          <a:lnTo>
                            <a:pt x="303" y="149"/>
                          </a:lnTo>
                          <a:lnTo>
                            <a:pt x="302" y="147"/>
                          </a:lnTo>
                          <a:lnTo>
                            <a:pt x="299" y="146"/>
                          </a:lnTo>
                          <a:lnTo>
                            <a:pt x="295" y="145"/>
                          </a:lnTo>
                          <a:lnTo>
                            <a:pt x="293" y="144"/>
                          </a:lnTo>
                          <a:lnTo>
                            <a:pt x="290" y="142"/>
                          </a:lnTo>
                          <a:lnTo>
                            <a:pt x="288" y="141"/>
                          </a:lnTo>
                          <a:lnTo>
                            <a:pt x="285" y="140"/>
                          </a:lnTo>
                          <a:lnTo>
                            <a:pt x="283" y="139"/>
                          </a:lnTo>
                          <a:lnTo>
                            <a:pt x="279" y="137"/>
                          </a:lnTo>
                          <a:lnTo>
                            <a:pt x="277" y="136"/>
                          </a:lnTo>
                          <a:lnTo>
                            <a:pt x="273" y="135"/>
                          </a:lnTo>
                          <a:lnTo>
                            <a:pt x="272" y="134"/>
                          </a:lnTo>
                          <a:lnTo>
                            <a:pt x="268" y="132"/>
                          </a:lnTo>
                          <a:lnTo>
                            <a:pt x="265" y="131"/>
                          </a:lnTo>
                          <a:lnTo>
                            <a:pt x="261" y="130"/>
                          </a:lnTo>
                          <a:lnTo>
                            <a:pt x="259" y="127"/>
                          </a:lnTo>
                          <a:lnTo>
                            <a:pt x="255" y="126"/>
                          </a:lnTo>
                          <a:lnTo>
                            <a:pt x="254" y="125"/>
                          </a:lnTo>
                          <a:lnTo>
                            <a:pt x="250" y="124"/>
                          </a:lnTo>
                          <a:lnTo>
                            <a:pt x="248" y="122"/>
                          </a:lnTo>
                          <a:lnTo>
                            <a:pt x="244" y="121"/>
                          </a:lnTo>
                          <a:lnTo>
                            <a:pt x="241" y="120"/>
                          </a:lnTo>
                          <a:lnTo>
                            <a:pt x="239" y="117"/>
                          </a:lnTo>
                          <a:lnTo>
                            <a:pt x="236" y="116"/>
                          </a:lnTo>
                          <a:lnTo>
                            <a:pt x="233" y="115"/>
                          </a:lnTo>
                          <a:lnTo>
                            <a:pt x="230" y="114"/>
                          </a:lnTo>
                          <a:lnTo>
                            <a:pt x="228" y="112"/>
                          </a:lnTo>
                          <a:lnTo>
                            <a:pt x="225" y="111"/>
                          </a:lnTo>
                          <a:lnTo>
                            <a:pt x="224" y="110"/>
                          </a:lnTo>
                          <a:lnTo>
                            <a:pt x="221" y="109"/>
                          </a:lnTo>
                          <a:lnTo>
                            <a:pt x="219" y="109"/>
                          </a:lnTo>
                          <a:lnTo>
                            <a:pt x="216" y="107"/>
                          </a:lnTo>
                          <a:lnTo>
                            <a:pt x="214" y="106"/>
                          </a:lnTo>
                          <a:lnTo>
                            <a:pt x="211" y="105"/>
                          </a:lnTo>
                          <a:lnTo>
                            <a:pt x="207" y="102"/>
                          </a:lnTo>
                          <a:lnTo>
                            <a:pt x="204" y="101"/>
                          </a:lnTo>
                          <a:lnTo>
                            <a:pt x="200" y="99"/>
                          </a:lnTo>
                          <a:lnTo>
                            <a:pt x="197" y="97"/>
                          </a:lnTo>
                          <a:lnTo>
                            <a:pt x="195" y="96"/>
                          </a:lnTo>
                          <a:lnTo>
                            <a:pt x="194" y="96"/>
                          </a:lnTo>
                          <a:lnTo>
                            <a:pt x="190" y="97"/>
                          </a:lnTo>
                          <a:lnTo>
                            <a:pt x="185" y="99"/>
                          </a:lnTo>
                          <a:lnTo>
                            <a:pt x="181" y="100"/>
                          </a:lnTo>
                          <a:lnTo>
                            <a:pt x="179" y="101"/>
                          </a:lnTo>
                          <a:lnTo>
                            <a:pt x="175" y="102"/>
                          </a:lnTo>
                          <a:lnTo>
                            <a:pt x="171" y="104"/>
                          </a:lnTo>
                          <a:lnTo>
                            <a:pt x="167" y="105"/>
                          </a:lnTo>
                          <a:lnTo>
                            <a:pt x="165" y="107"/>
                          </a:lnTo>
                          <a:lnTo>
                            <a:pt x="161" y="109"/>
                          </a:lnTo>
                          <a:lnTo>
                            <a:pt x="158" y="109"/>
                          </a:lnTo>
                          <a:lnTo>
                            <a:pt x="156" y="111"/>
                          </a:lnTo>
                          <a:lnTo>
                            <a:pt x="153" y="112"/>
                          </a:lnTo>
                          <a:lnTo>
                            <a:pt x="150" y="114"/>
                          </a:lnTo>
                          <a:lnTo>
                            <a:pt x="148" y="116"/>
                          </a:lnTo>
                          <a:lnTo>
                            <a:pt x="146" y="117"/>
                          </a:lnTo>
                          <a:lnTo>
                            <a:pt x="143" y="120"/>
                          </a:lnTo>
                          <a:lnTo>
                            <a:pt x="141" y="121"/>
                          </a:lnTo>
                          <a:lnTo>
                            <a:pt x="138" y="124"/>
                          </a:lnTo>
                          <a:lnTo>
                            <a:pt x="136" y="125"/>
                          </a:lnTo>
                          <a:lnTo>
                            <a:pt x="135" y="127"/>
                          </a:lnTo>
                          <a:lnTo>
                            <a:pt x="132" y="130"/>
                          </a:lnTo>
                          <a:lnTo>
                            <a:pt x="130" y="132"/>
                          </a:lnTo>
                          <a:lnTo>
                            <a:pt x="127" y="135"/>
                          </a:lnTo>
                          <a:lnTo>
                            <a:pt x="126" y="137"/>
                          </a:lnTo>
                          <a:lnTo>
                            <a:pt x="123" y="140"/>
                          </a:lnTo>
                          <a:lnTo>
                            <a:pt x="122" y="142"/>
                          </a:lnTo>
                          <a:lnTo>
                            <a:pt x="120" y="145"/>
                          </a:lnTo>
                          <a:lnTo>
                            <a:pt x="118" y="149"/>
                          </a:lnTo>
                          <a:lnTo>
                            <a:pt x="116" y="151"/>
                          </a:lnTo>
                          <a:lnTo>
                            <a:pt x="113" y="155"/>
                          </a:lnTo>
                          <a:lnTo>
                            <a:pt x="111" y="157"/>
                          </a:lnTo>
                          <a:lnTo>
                            <a:pt x="109" y="161"/>
                          </a:lnTo>
                          <a:lnTo>
                            <a:pt x="109" y="161"/>
                          </a:lnTo>
                          <a:close/>
                        </a:path>
                      </a:pathLst>
                    </a:custGeom>
                    <a:solidFill>
                      <a:srgbClr val="33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3727440" y="4605840"/>
                      <a:ext cx="612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8">
                          <a:moveTo>
                            <a:pt x="4" y="35"/>
                          </a:move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5" y="0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4" y="0"/>
                          </a:lnTo>
                          <a:lnTo>
                            <a:pt x="15" y="0"/>
                          </a:lnTo>
                          <a:lnTo>
                            <a:pt x="16" y="0"/>
                          </a:lnTo>
                          <a:lnTo>
                            <a:pt x="16" y="2"/>
                          </a:lnTo>
                          <a:lnTo>
                            <a:pt x="16" y="4"/>
                          </a:lnTo>
                          <a:lnTo>
                            <a:pt x="18" y="7"/>
                          </a:lnTo>
                          <a:lnTo>
                            <a:pt x="18" y="9"/>
                          </a:lnTo>
                          <a:lnTo>
                            <a:pt x="18" y="12"/>
                          </a:lnTo>
                          <a:lnTo>
                            <a:pt x="18" y="14"/>
                          </a:lnTo>
                          <a:lnTo>
                            <a:pt x="18" y="17"/>
                          </a:lnTo>
                          <a:lnTo>
                            <a:pt x="19" y="19"/>
                          </a:lnTo>
                          <a:lnTo>
                            <a:pt x="19" y="20"/>
                          </a:lnTo>
                          <a:lnTo>
                            <a:pt x="19" y="23"/>
                          </a:lnTo>
                          <a:lnTo>
                            <a:pt x="19" y="25"/>
                          </a:lnTo>
                          <a:lnTo>
                            <a:pt x="19" y="28"/>
                          </a:lnTo>
                          <a:lnTo>
                            <a:pt x="19" y="30"/>
                          </a:lnTo>
                          <a:lnTo>
                            <a:pt x="19" y="33"/>
                          </a:lnTo>
                          <a:lnTo>
                            <a:pt x="18" y="35"/>
                          </a:lnTo>
                          <a:lnTo>
                            <a:pt x="18" y="38"/>
                          </a:lnTo>
                          <a:lnTo>
                            <a:pt x="14" y="38"/>
                          </a:lnTo>
                          <a:lnTo>
                            <a:pt x="11" y="38"/>
                          </a:lnTo>
                          <a:lnTo>
                            <a:pt x="8" y="37"/>
                          </a:lnTo>
                          <a:lnTo>
                            <a:pt x="4" y="35"/>
                          </a:lnTo>
                          <a:lnTo>
                            <a:pt x="4" y="35"/>
                          </a:lnTo>
                          <a:close/>
                        </a:path>
                      </a:pathLst>
                    </a:custGeom>
                    <a:solidFill>
                      <a:srgbClr val="00d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3729600" y="4581360"/>
                      <a:ext cx="2016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69">
                          <a:moveTo>
                            <a:pt x="0" y="66"/>
                          </a:moveTo>
                          <a:lnTo>
                            <a:pt x="0" y="63"/>
                          </a:lnTo>
                          <a:lnTo>
                            <a:pt x="0" y="61"/>
                          </a:lnTo>
                          <a:lnTo>
                            <a:pt x="0" y="58"/>
                          </a:lnTo>
                          <a:lnTo>
                            <a:pt x="0" y="56"/>
                          </a:lnTo>
                          <a:lnTo>
                            <a:pt x="0" y="53"/>
                          </a:lnTo>
                          <a:lnTo>
                            <a:pt x="2" y="49"/>
                          </a:lnTo>
                          <a:lnTo>
                            <a:pt x="2" y="47"/>
                          </a:lnTo>
                          <a:lnTo>
                            <a:pt x="3" y="44"/>
                          </a:lnTo>
                          <a:lnTo>
                            <a:pt x="3" y="41"/>
                          </a:lnTo>
                          <a:lnTo>
                            <a:pt x="4" y="38"/>
                          </a:lnTo>
                          <a:lnTo>
                            <a:pt x="4" y="34"/>
                          </a:lnTo>
                          <a:lnTo>
                            <a:pt x="5" y="32"/>
                          </a:lnTo>
                          <a:lnTo>
                            <a:pt x="7" y="28"/>
                          </a:lnTo>
                          <a:lnTo>
                            <a:pt x="8" y="26"/>
                          </a:lnTo>
                          <a:lnTo>
                            <a:pt x="9" y="22"/>
                          </a:lnTo>
                          <a:lnTo>
                            <a:pt x="10" y="19"/>
                          </a:lnTo>
                          <a:lnTo>
                            <a:pt x="12" y="17"/>
                          </a:lnTo>
                          <a:lnTo>
                            <a:pt x="13" y="14"/>
                          </a:lnTo>
                          <a:lnTo>
                            <a:pt x="14" y="12"/>
                          </a:lnTo>
                          <a:lnTo>
                            <a:pt x="15" y="9"/>
                          </a:lnTo>
                          <a:lnTo>
                            <a:pt x="18" y="7"/>
                          </a:lnTo>
                          <a:lnTo>
                            <a:pt x="19" y="5"/>
                          </a:lnTo>
                          <a:lnTo>
                            <a:pt x="22" y="4"/>
                          </a:lnTo>
                          <a:lnTo>
                            <a:pt x="24" y="3"/>
                          </a:lnTo>
                          <a:lnTo>
                            <a:pt x="27" y="2"/>
                          </a:lnTo>
                          <a:lnTo>
                            <a:pt x="28" y="2"/>
                          </a:lnTo>
                          <a:lnTo>
                            <a:pt x="31" y="0"/>
                          </a:lnTo>
                          <a:lnTo>
                            <a:pt x="33" y="2"/>
                          </a:lnTo>
                          <a:lnTo>
                            <a:pt x="36" y="2"/>
                          </a:lnTo>
                          <a:lnTo>
                            <a:pt x="39" y="3"/>
                          </a:lnTo>
                          <a:lnTo>
                            <a:pt x="42" y="4"/>
                          </a:lnTo>
                          <a:lnTo>
                            <a:pt x="46" y="5"/>
                          </a:lnTo>
                          <a:lnTo>
                            <a:pt x="47" y="8"/>
                          </a:lnTo>
                          <a:lnTo>
                            <a:pt x="49" y="10"/>
                          </a:lnTo>
                          <a:lnTo>
                            <a:pt x="51" y="14"/>
                          </a:lnTo>
                          <a:lnTo>
                            <a:pt x="53" y="17"/>
                          </a:lnTo>
                          <a:lnTo>
                            <a:pt x="54" y="21"/>
                          </a:lnTo>
                          <a:lnTo>
                            <a:pt x="56" y="26"/>
                          </a:lnTo>
                          <a:lnTo>
                            <a:pt x="57" y="29"/>
                          </a:lnTo>
                          <a:lnTo>
                            <a:pt x="58" y="33"/>
                          </a:lnTo>
                          <a:lnTo>
                            <a:pt x="58" y="38"/>
                          </a:lnTo>
                          <a:lnTo>
                            <a:pt x="59" y="42"/>
                          </a:lnTo>
                          <a:lnTo>
                            <a:pt x="59" y="46"/>
                          </a:lnTo>
                          <a:lnTo>
                            <a:pt x="59" y="51"/>
                          </a:lnTo>
                          <a:lnTo>
                            <a:pt x="59" y="54"/>
                          </a:lnTo>
                          <a:lnTo>
                            <a:pt x="59" y="59"/>
                          </a:lnTo>
                          <a:lnTo>
                            <a:pt x="58" y="63"/>
                          </a:lnTo>
                          <a:lnTo>
                            <a:pt x="58" y="67"/>
                          </a:lnTo>
                          <a:lnTo>
                            <a:pt x="56" y="67"/>
                          </a:lnTo>
                          <a:lnTo>
                            <a:pt x="52" y="68"/>
                          </a:lnTo>
                          <a:lnTo>
                            <a:pt x="48" y="68"/>
                          </a:lnTo>
                          <a:lnTo>
                            <a:pt x="46" y="69"/>
                          </a:lnTo>
                          <a:lnTo>
                            <a:pt x="42" y="69"/>
                          </a:lnTo>
                          <a:lnTo>
                            <a:pt x="37" y="69"/>
                          </a:lnTo>
                          <a:lnTo>
                            <a:pt x="33" y="69"/>
                          </a:lnTo>
                          <a:lnTo>
                            <a:pt x="29" y="69"/>
                          </a:lnTo>
                          <a:lnTo>
                            <a:pt x="26" y="69"/>
                          </a:lnTo>
                          <a:lnTo>
                            <a:pt x="20" y="69"/>
                          </a:lnTo>
                          <a:lnTo>
                            <a:pt x="17" y="69"/>
                          </a:lnTo>
                          <a:lnTo>
                            <a:pt x="13" y="68"/>
                          </a:lnTo>
                          <a:lnTo>
                            <a:pt x="9" y="68"/>
                          </a:lnTo>
                          <a:lnTo>
                            <a:pt x="7" y="67"/>
                          </a:lnTo>
                          <a:lnTo>
                            <a:pt x="3" y="67"/>
                          </a:lnTo>
                          <a:lnTo>
                            <a:pt x="0" y="66"/>
                          </a:lnTo>
                          <a:lnTo>
                            <a:pt x="0" y="66"/>
                          </a:lnTo>
                          <a:close/>
                        </a:path>
                      </a:pathLst>
                    </a:custGeom>
                    <a:solidFill>
                      <a:srgbClr val="33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3741120" y="4552560"/>
                      <a:ext cx="14148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8" h="146">
                          <a:moveTo>
                            <a:pt x="418" y="146"/>
                          </a:moveTo>
                          <a:lnTo>
                            <a:pt x="411" y="144"/>
                          </a:lnTo>
                          <a:lnTo>
                            <a:pt x="404" y="143"/>
                          </a:lnTo>
                          <a:lnTo>
                            <a:pt x="398" y="140"/>
                          </a:lnTo>
                          <a:lnTo>
                            <a:pt x="392" y="138"/>
                          </a:lnTo>
                          <a:lnTo>
                            <a:pt x="384" y="136"/>
                          </a:lnTo>
                          <a:lnTo>
                            <a:pt x="378" y="134"/>
                          </a:lnTo>
                          <a:lnTo>
                            <a:pt x="372" y="131"/>
                          </a:lnTo>
                          <a:lnTo>
                            <a:pt x="366" y="130"/>
                          </a:lnTo>
                          <a:lnTo>
                            <a:pt x="359" y="128"/>
                          </a:lnTo>
                          <a:lnTo>
                            <a:pt x="353" y="126"/>
                          </a:lnTo>
                          <a:lnTo>
                            <a:pt x="345" y="124"/>
                          </a:lnTo>
                          <a:lnTo>
                            <a:pt x="339" y="123"/>
                          </a:lnTo>
                          <a:lnTo>
                            <a:pt x="333" y="120"/>
                          </a:lnTo>
                          <a:lnTo>
                            <a:pt x="327" y="118"/>
                          </a:lnTo>
                          <a:lnTo>
                            <a:pt x="320" y="116"/>
                          </a:lnTo>
                          <a:lnTo>
                            <a:pt x="314" y="114"/>
                          </a:lnTo>
                          <a:lnTo>
                            <a:pt x="307" y="111"/>
                          </a:lnTo>
                          <a:lnTo>
                            <a:pt x="300" y="110"/>
                          </a:lnTo>
                          <a:lnTo>
                            <a:pt x="294" y="109"/>
                          </a:lnTo>
                          <a:lnTo>
                            <a:pt x="288" y="106"/>
                          </a:lnTo>
                          <a:lnTo>
                            <a:pt x="281" y="104"/>
                          </a:lnTo>
                          <a:lnTo>
                            <a:pt x="275" y="102"/>
                          </a:lnTo>
                          <a:lnTo>
                            <a:pt x="268" y="100"/>
                          </a:lnTo>
                          <a:lnTo>
                            <a:pt x="261" y="99"/>
                          </a:lnTo>
                          <a:lnTo>
                            <a:pt x="255" y="96"/>
                          </a:lnTo>
                          <a:lnTo>
                            <a:pt x="249" y="95"/>
                          </a:lnTo>
                          <a:lnTo>
                            <a:pt x="242" y="92"/>
                          </a:lnTo>
                          <a:lnTo>
                            <a:pt x="236" y="91"/>
                          </a:lnTo>
                          <a:lnTo>
                            <a:pt x="230" y="89"/>
                          </a:lnTo>
                          <a:lnTo>
                            <a:pt x="222" y="87"/>
                          </a:lnTo>
                          <a:lnTo>
                            <a:pt x="216" y="85"/>
                          </a:lnTo>
                          <a:lnTo>
                            <a:pt x="210" y="84"/>
                          </a:lnTo>
                          <a:lnTo>
                            <a:pt x="204" y="81"/>
                          </a:lnTo>
                          <a:lnTo>
                            <a:pt x="196" y="80"/>
                          </a:lnTo>
                          <a:lnTo>
                            <a:pt x="190" y="77"/>
                          </a:lnTo>
                          <a:lnTo>
                            <a:pt x="183" y="76"/>
                          </a:lnTo>
                          <a:lnTo>
                            <a:pt x="177" y="74"/>
                          </a:lnTo>
                          <a:lnTo>
                            <a:pt x="171" y="72"/>
                          </a:lnTo>
                          <a:lnTo>
                            <a:pt x="165" y="70"/>
                          </a:lnTo>
                          <a:lnTo>
                            <a:pt x="158" y="69"/>
                          </a:lnTo>
                          <a:lnTo>
                            <a:pt x="151" y="66"/>
                          </a:lnTo>
                          <a:lnTo>
                            <a:pt x="144" y="64"/>
                          </a:lnTo>
                          <a:lnTo>
                            <a:pt x="138" y="62"/>
                          </a:lnTo>
                          <a:lnTo>
                            <a:pt x="132" y="61"/>
                          </a:lnTo>
                          <a:lnTo>
                            <a:pt x="126" y="59"/>
                          </a:lnTo>
                          <a:lnTo>
                            <a:pt x="119" y="57"/>
                          </a:lnTo>
                          <a:lnTo>
                            <a:pt x="112" y="55"/>
                          </a:lnTo>
                          <a:lnTo>
                            <a:pt x="107" y="54"/>
                          </a:lnTo>
                          <a:lnTo>
                            <a:pt x="99" y="51"/>
                          </a:lnTo>
                          <a:lnTo>
                            <a:pt x="93" y="49"/>
                          </a:lnTo>
                          <a:lnTo>
                            <a:pt x="87" y="47"/>
                          </a:lnTo>
                          <a:lnTo>
                            <a:pt x="80" y="45"/>
                          </a:lnTo>
                          <a:lnTo>
                            <a:pt x="73" y="44"/>
                          </a:lnTo>
                          <a:lnTo>
                            <a:pt x="67" y="41"/>
                          </a:lnTo>
                          <a:lnTo>
                            <a:pt x="60" y="40"/>
                          </a:lnTo>
                          <a:lnTo>
                            <a:pt x="54" y="37"/>
                          </a:lnTo>
                          <a:lnTo>
                            <a:pt x="48" y="35"/>
                          </a:lnTo>
                          <a:lnTo>
                            <a:pt x="41" y="34"/>
                          </a:lnTo>
                          <a:lnTo>
                            <a:pt x="34" y="31"/>
                          </a:lnTo>
                          <a:lnTo>
                            <a:pt x="28" y="30"/>
                          </a:lnTo>
                          <a:lnTo>
                            <a:pt x="21" y="27"/>
                          </a:lnTo>
                          <a:lnTo>
                            <a:pt x="15" y="26"/>
                          </a:lnTo>
                          <a:lnTo>
                            <a:pt x="9" y="24"/>
                          </a:lnTo>
                          <a:lnTo>
                            <a:pt x="3" y="22"/>
                          </a:lnTo>
                          <a:lnTo>
                            <a:pt x="1" y="20"/>
                          </a:lnTo>
                          <a:lnTo>
                            <a:pt x="0" y="17"/>
                          </a:lnTo>
                          <a:lnTo>
                            <a:pt x="0" y="15"/>
                          </a:lnTo>
                          <a:lnTo>
                            <a:pt x="1" y="11"/>
                          </a:lnTo>
                          <a:lnTo>
                            <a:pt x="1" y="7"/>
                          </a:lnTo>
                          <a:lnTo>
                            <a:pt x="1" y="5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418" y="128"/>
                          </a:lnTo>
                          <a:lnTo>
                            <a:pt x="418" y="146"/>
                          </a:lnTo>
                          <a:lnTo>
                            <a:pt x="418" y="146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3891600" y="4545720"/>
                      <a:ext cx="10296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" h="166">
                          <a:moveTo>
                            <a:pt x="2" y="166"/>
                          </a:moveTo>
                          <a:lnTo>
                            <a:pt x="0" y="139"/>
                          </a:lnTo>
                          <a:lnTo>
                            <a:pt x="3" y="136"/>
                          </a:lnTo>
                          <a:lnTo>
                            <a:pt x="8" y="134"/>
                          </a:lnTo>
                          <a:lnTo>
                            <a:pt x="12" y="132"/>
                          </a:lnTo>
                          <a:lnTo>
                            <a:pt x="17" y="130"/>
                          </a:lnTo>
                          <a:lnTo>
                            <a:pt x="21" y="127"/>
                          </a:lnTo>
                          <a:lnTo>
                            <a:pt x="26" y="125"/>
                          </a:lnTo>
                          <a:lnTo>
                            <a:pt x="29" y="124"/>
                          </a:lnTo>
                          <a:lnTo>
                            <a:pt x="34" y="121"/>
                          </a:lnTo>
                          <a:lnTo>
                            <a:pt x="38" y="119"/>
                          </a:lnTo>
                          <a:lnTo>
                            <a:pt x="43" y="116"/>
                          </a:lnTo>
                          <a:lnTo>
                            <a:pt x="47" y="114"/>
                          </a:lnTo>
                          <a:lnTo>
                            <a:pt x="52" y="112"/>
                          </a:lnTo>
                          <a:lnTo>
                            <a:pt x="57" y="110"/>
                          </a:lnTo>
                          <a:lnTo>
                            <a:pt x="61" y="107"/>
                          </a:lnTo>
                          <a:lnTo>
                            <a:pt x="66" y="105"/>
                          </a:lnTo>
                          <a:lnTo>
                            <a:pt x="71" y="104"/>
                          </a:lnTo>
                          <a:lnTo>
                            <a:pt x="75" y="101"/>
                          </a:lnTo>
                          <a:lnTo>
                            <a:pt x="80" y="99"/>
                          </a:lnTo>
                          <a:lnTo>
                            <a:pt x="83" y="96"/>
                          </a:lnTo>
                          <a:lnTo>
                            <a:pt x="88" y="95"/>
                          </a:lnTo>
                          <a:lnTo>
                            <a:pt x="93" y="92"/>
                          </a:lnTo>
                          <a:lnTo>
                            <a:pt x="98" y="90"/>
                          </a:lnTo>
                          <a:lnTo>
                            <a:pt x="103" y="87"/>
                          </a:lnTo>
                          <a:lnTo>
                            <a:pt x="108" y="86"/>
                          </a:lnTo>
                          <a:lnTo>
                            <a:pt x="112" y="84"/>
                          </a:lnTo>
                          <a:lnTo>
                            <a:pt x="117" y="81"/>
                          </a:lnTo>
                          <a:lnTo>
                            <a:pt x="122" y="79"/>
                          </a:lnTo>
                          <a:lnTo>
                            <a:pt x="127" y="76"/>
                          </a:lnTo>
                          <a:lnTo>
                            <a:pt x="131" y="74"/>
                          </a:lnTo>
                          <a:lnTo>
                            <a:pt x="136" y="72"/>
                          </a:lnTo>
                          <a:lnTo>
                            <a:pt x="141" y="70"/>
                          </a:lnTo>
                          <a:lnTo>
                            <a:pt x="146" y="69"/>
                          </a:lnTo>
                          <a:lnTo>
                            <a:pt x="151" y="66"/>
                          </a:lnTo>
                          <a:lnTo>
                            <a:pt x="156" y="64"/>
                          </a:lnTo>
                          <a:lnTo>
                            <a:pt x="160" y="61"/>
                          </a:lnTo>
                          <a:lnTo>
                            <a:pt x="165" y="59"/>
                          </a:lnTo>
                          <a:lnTo>
                            <a:pt x="170" y="56"/>
                          </a:lnTo>
                          <a:lnTo>
                            <a:pt x="175" y="55"/>
                          </a:lnTo>
                          <a:lnTo>
                            <a:pt x="180" y="52"/>
                          </a:lnTo>
                          <a:lnTo>
                            <a:pt x="185" y="51"/>
                          </a:lnTo>
                          <a:lnTo>
                            <a:pt x="189" y="49"/>
                          </a:lnTo>
                          <a:lnTo>
                            <a:pt x="194" y="46"/>
                          </a:lnTo>
                          <a:lnTo>
                            <a:pt x="199" y="44"/>
                          </a:lnTo>
                          <a:lnTo>
                            <a:pt x="204" y="42"/>
                          </a:lnTo>
                          <a:lnTo>
                            <a:pt x="209" y="40"/>
                          </a:lnTo>
                          <a:lnTo>
                            <a:pt x="214" y="37"/>
                          </a:lnTo>
                          <a:lnTo>
                            <a:pt x="219" y="36"/>
                          </a:lnTo>
                          <a:lnTo>
                            <a:pt x="224" y="34"/>
                          </a:lnTo>
                          <a:lnTo>
                            <a:pt x="228" y="31"/>
                          </a:lnTo>
                          <a:lnTo>
                            <a:pt x="233" y="29"/>
                          </a:lnTo>
                          <a:lnTo>
                            <a:pt x="238" y="27"/>
                          </a:lnTo>
                          <a:lnTo>
                            <a:pt x="243" y="25"/>
                          </a:lnTo>
                          <a:lnTo>
                            <a:pt x="248" y="22"/>
                          </a:lnTo>
                          <a:lnTo>
                            <a:pt x="252" y="21"/>
                          </a:lnTo>
                          <a:lnTo>
                            <a:pt x="257" y="19"/>
                          </a:lnTo>
                          <a:lnTo>
                            <a:pt x="262" y="16"/>
                          </a:lnTo>
                          <a:lnTo>
                            <a:pt x="267" y="14"/>
                          </a:lnTo>
                          <a:lnTo>
                            <a:pt x="272" y="12"/>
                          </a:lnTo>
                          <a:lnTo>
                            <a:pt x="277" y="10"/>
                          </a:lnTo>
                          <a:lnTo>
                            <a:pt x="282" y="9"/>
                          </a:lnTo>
                          <a:lnTo>
                            <a:pt x="286" y="6"/>
                          </a:lnTo>
                          <a:lnTo>
                            <a:pt x="291" y="4"/>
                          </a:lnTo>
                          <a:lnTo>
                            <a:pt x="296" y="2"/>
                          </a:lnTo>
                          <a:lnTo>
                            <a:pt x="301" y="0"/>
                          </a:lnTo>
                          <a:lnTo>
                            <a:pt x="301" y="2"/>
                          </a:lnTo>
                          <a:lnTo>
                            <a:pt x="302" y="6"/>
                          </a:lnTo>
                          <a:lnTo>
                            <a:pt x="302" y="10"/>
                          </a:lnTo>
                          <a:lnTo>
                            <a:pt x="303" y="15"/>
                          </a:lnTo>
                          <a:lnTo>
                            <a:pt x="303" y="19"/>
                          </a:lnTo>
                          <a:lnTo>
                            <a:pt x="304" y="22"/>
                          </a:lnTo>
                          <a:lnTo>
                            <a:pt x="304" y="25"/>
                          </a:lnTo>
                          <a:lnTo>
                            <a:pt x="304" y="29"/>
                          </a:lnTo>
                          <a:lnTo>
                            <a:pt x="299" y="30"/>
                          </a:lnTo>
                          <a:lnTo>
                            <a:pt x="294" y="32"/>
                          </a:lnTo>
                          <a:lnTo>
                            <a:pt x="289" y="35"/>
                          </a:lnTo>
                          <a:lnTo>
                            <a:pt x="284" y="37"/>
                          </a:lnTo>
                          <a:lnTo>
                            <a:pt x="281" y="39"/>
                          </a:lnTo>
                          <a:lnTo>
                            <a:pt x="275" y="41"/>
                          </a:lnTo>
                          <a:lnTo>
                            <a:pt x="270" y="42"/>
                          </a:lnTo>
                          <a:lnTo>
                            <a:pt x="267" y="45"/>
                          </a:lnTo>
                          <a:lnTo>
                            <a:pt x="262" y="47"/>
                          </a:lnTo>
                          <a:lnTo>
                            <a:pt x="257" y="49"/>
                          </a:lnTo>
                          <a:lnTo>
                            <a:pt x="252" y="51"/>
                          </a:lnTo>
                          <a:lnTo>
                            <a:pt x="247" y="54"/>
                          </a:lnTo>
                          <a:lnTo>
                            <a:pt x="242" y="56"/>
                          </a:lnTo>
                          <a:lnTo>
                            <a:pt x="237" y="57"/>
                          </a:lnTo>
                          <a:lnTo>
                            <a:pt x="233" y="60"/>
                          </a:lnTo>
                          <a:lnTo>
                            <a:pt x="228" y="62"/>
                          </a:lnTo>
                          <a:lnTo>
                            <a:pt x="223" y="64"/>
                          </a:lnTo>
                          <a:lnTo>
                            <a:pt x="218" y="66"/>
                          </a:lnTo>
                          <a:lnTo>
                            <a:pt x="213" y="69"/>
                          </a:lnTo>
                          <a:lnTo>
                            <a:pt x="209" y="70"/>
                          </a:lnTo>
                          <a:lnTo>
                            <a:pt x="204" y="72"/>
                          </a:lnTo>
                          <a:lnTo>
                            <a:pt x="199" y="75"/>
                          </a:lnTo>
                          <a:lnTo>
                            <a:pt x="194" y="76"/>
                          </a:lnTo>
                          <a:lnTo>
                            <a:pt x="189" y="79"/>
                          </a:lnTo>
                          <a:lnTo>
                            <a:pt x="185" y="81"/>
                          </a:lnTo>
                          <a:lnTo>
                            <a:pt x="180" y="84"/>
                          </a:lnTo>
                          <a:lnTo>
                            <a:pt x="175" y="85"/>
                          </a:lnTo>
                          <a:lnTo>
                            <a:pt x="170" y="87"/>
                          </a:lnTo>
                          <a:lnTo>
                            <a:pt x="165" y="90"/>
                          </a:lnTo>
                          <a:lnTo>
                            <a:pt x="161" y="91"/>
                          </a:lnTo>
                          <a:lnTo>
                            <a:pt x="156" y="94"/>
                          </a:lnTo>
                          <a:lnTo>
                            <a:pt x="151" y="96"/>
                          </a:lnTo>
                          <a:lnTo>
                            <a:pt x="146" y="99"/>
                          </a:lnTo>
                          <a:lnTo>
                            <a:pt x="141" y="101"/>
                          </a:lnTo>
                          <a:lnTo>
                            <a:pt x="137" y="102"/>
                          </a:lnTo>
                          <a:lnTo>
                            <a:pt x="132" y="105"/>
                          </a:lnTo>
                          <a:lnTo>
                            <a:pt x="127" y="107"/>
                          </a:lnTo>
                          <a:lnTo>
                            <a:pt x="124" y="109"/>
                          </a:lnTo>
                          <a:lnTo>
                            <a:pt x="118" y="111"/>
                          </a:lnTo>
                          <a:lnTo>
                            <a:pt x="113" y="114"/>
                          </a:lnTo>
                          <a:lnTo>
                            <a:pt x="108" y="116"/>
                          </a:lnTo>
                          <a:lnTo>
                            <a:pt x="103" y="117"/>
                          </a:lnTo>
                          <a:lnTo>
                            <a:pt x="98" y="120"/>
                          </a:lnTo>
                          <a:lnTo>
                            <a:pt x="95" y="122"/>
                          </a:lnTo>
                          <a:lnTo>
                            <a:pt x="90" y="124"/>
                          </a:lnTo>
                          <a:lnTo>
                            <a:pt x="85" y="126"/>
                          </a:lnTo>
                          <a:lnTo>
                            <a:pt x="80" y="129"/>
                          </a:lnTo>
                          <a:lnTo>
                            <a:pt x="76" y="131"/>
                          </a:lnTo>
                          <a:lnTo>
                            <a:pt x="71" y="134"/>
                          </a:lnTo>
                          <a:lnTo>
                            <a:pt x="66" y="135"/>
                          </a:lnTo>
                          <a:lnTo>
                            <a:pt x="62" y="137"/>
                          </a:lnTo>
                          <a:lnTo>
                            <a:pt x="57" y="140"/>
                          </a:lnTo>
                          <a:lnTo>
                            <a:pt x="52" y="141"/>
                          </a:lnTo>
                          <a:lnTo>
                            <a:pt x="47" y="144"/>
                          </a:lnTo>
                          <a:lnTo>
                            <a:pt x="43" y="146"/>
                          </a:lnTo>
                          <a:lnTo>
                            <a:pt x="38" y="149"/>
                          </a:lnTo>
                          <a:lnTo>
                            <a:pt x="33" y="150"/>
                          </a:lnTo>
                          <a:lnTo>
                            <a:pt x="29" y="153"/>
                          </a:lnTo>
                          <a:lnTo>
                            <a:pt x="24" y="155"/>
                          </a:lnTo>
                          <a:lnTo>
                            <a:pt x="19" y="158"/>
                          </a:lnTo>
                          <a:lnTo>
                            <a:pt x="14" y="160"/>
                          </a:lnTo>
                          <a:lnTo>
                            <a:pt x="10" y="161"/>
                          </a:lnTo>
                          <a:lnTo>
                            <a:pt x="5" y="164"/>
                          </a:lnTo>
                          <a:lnTo>
                            <a:pt x="2" y="166"/>
                          </a:lnTo>
                          <a:lnTo>
                            <a:pt x="2" y="166"/>
                          </a:lnTo>
                          <a:close/>
                        </a:path>
                      </a:pathLst>
                    </a:custGeom>
                    <a:solidFill>
                      <a:srgbClr val="33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3744720" y="4511520"/>
                      <a:ext cx="24336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6" h="246">
                          <a:moveTo>
                            <a:pt x="0" y="131"/>
                          </a:moveTo>
                          <a:lnTo>
                            <a:pt x="317" y="0"/>
                          </a:lnTo>
                          <a:lnTo>
                            <a:pt x="716" y="108"/>
                          </a:lnTo>
                          <a:lnTo>
                            <a:pt x="405" y="246"/>
                          </a:lnTo>
                          <a:lnTo>
                            <a:pt x="0" y="131"/>
                          </a:lnTo>
                          <a:lnTo>
                            <a:pt x="0" y="131"/>
                          </a:lnTo>
                          <a:close/>
                        </a:path>
                      </a:pathLst>
                    </a:custGeom>
                    <a:solidFill>
                      <a:srgbClr val="33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3738960" y="4564800"/>
                      <a:ext cx="504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3">
                          <a:moveTo>
                            <a:pt x="0" y="40"/>
                          </a:moveTo>
                          <a:lnTo>
                            <a:pt x="0" y="2"/>
                          </a:lnTo>
                          <a:lnTo>
                            <a:pt x="1" y="0"/>
                          </a:lnTo>
                          <a:lnTo>
                            <a:pt x="5" y="0"/>
                          </a:lnTo>
                          <a:lnTo>
                            <a:pt x="10" y="0"/>
                          </a:lnTo>
                          <a:lnTo>
                            <a:pt x="12" y="2"/>
                          </a:lnTo>
                          <a:lnTo>
                            <a:pt x="17" y="42"/>
                          </a:lnTo>
                          <a:lnTo>
                            <a:pt x="16" y="42"/>
                          </a:lnTo>
                          <a:lnTo>
                            <a:pt x="15" y="43"/>
                          </a:lnTo>
                          <a:lnTo>
                            <a:pt x="12" y="43"/>
                          </a:lnTo>
                          <a:lnTo>
                            <a:pt x="10" y="43"/>
                          </a:lnTo>
                          <a:lnTo>
                            <a:pt x="6" y="42"/>
                          </a:lnTo>
                          <a:lnTo>
                            <a:pt x="3" y="40"/>
                          </a:lnTo>
                          <a:lnTo>
                            <a:pt x="1" y="40"/>
                          </a:lnTo>
                          <a:lnTo>
                            <a:pt x="0" y="40"/>
                          </a:lnTo>
                          <a:lnTo>
                            <a:pt x="0" y="40"/>
                          </a:lnTo>
                          <a:close/>
                        </a:path>
                      </a:pathLst>
                    </a:custGeom>
                    <a:solidFill>
                      <a:srgbClr val="00d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3737880" y="4605120"/>
                      <a:ext cx="61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8">
                          <a:moveTo>
                            <a:pt x="3" y="35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3" y="1"/>
                          </a:lnTo>
                          <a:lnTo>
                            <a:pt x="4" y="0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1" y="0"/>
                          </a:lnTo>
                          <a:lnTo>
                            <a:pt x="14" y="0"/>
                          </a:lnTo>
                          <a:lnTo>
                            <a:pt x="15" y="0"/>
                          </a:lnTo>
                          <a:lnTo>
                            <a:pt x="15" y="1"/>
                          </a:lnTo>
                          <a:lnTo>
                            <a:pt x="15" y="4"/>
                          </a:lnTo>
                          <a:lnTo>
                            <a:pt x="16" y="6"/>
                          </a:lnTo>
                          <a:lnTo>
                            <a:pt x="16" y="9"/>
                          </a:lnTo>
                          <a:lnTo>
                            <a:pt x="16" y="11"/>
                          </a:lnTo>
                          <a:lnTo>
                            <a:pt x="16" y="14"/>
                          </a:lnTo>
                          <a:lnTo>
                            <a:pt x="18" y="16"/>
                          </a:lnTo>
                          <a:lnTo>
                            <a:pt x="18" y="19"/>
                          </a:lnTo>
                          <a:lnTo>
                            <a:pt x="18" y="20"/>
                          </a:lnTo>
                          <a:lnTo>
                            <a:pt x="18" y="23"/>
                          </a:lnTo>
                          <a:lnTo>
                            <a:pt x="18" y="25"/>
                          </a:lnTo>
                          <a:lnTo>
                            <a:pt x="18" y="28"/>
                          </a:lnTo>
                          <a:lnTo>
                            <a:pt x="16" y="29"/>
                          </a:lnTo>
                          <a:lnTo>
                            <a:pt x="16" y="31"/>
                          </a:lnTo>
                          <a:lnTo>
                            <a:pt x="16" y="34"/>
                          </a:lnTo>
                          <a:lnTo>
                            <a:pt x="16" y="36"/>
                          </a:lnTo>
                          <a:lnTo>
                            <a:pt x="13" y="38"/>
                          </a:lnTo>
                          <a:lnTo>
                            <a:pt x="10" y="38"/>
                          </a:lnTo>
                          <a:lnTo>
                            <a:pt x="6" y="35"/>
                          </a:lnTo>
                          <a:lnTo>
                            <a:pt x="3" y="35"/>
                          </a:lnTo>
                          <a:lnTo>
                            <a:pt x="3" y="35"/>
                          </a:lnTo>
                          <a:close/>
                        </a:path>
                      </a:pathLst>
                    </a:custGeom>
                    <a:solidFill>
                      <a:srgbClr val="00d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3746880" y="4605120"/>
                      <a:ext cx="612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7">
                          <a:moveTo>
                            <a:pt x="1" y="35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1" y="0"/>
                          </a:lnTo>
                          <a:lnTo>
                            <a:pt x="14" y="0"/>
                          </a:lnTo>
                          <a:lnTo>
                            <a:pt x="15" y="0"/>
                          </a:lnTo>
                          <a:lnTo>
                            <a:pt x="15" y="1"/>
                          </a:lnTo>
                          <a:lnTo>
                            <a:pt x="15" y="4"/>
                          </a:lnTo>
                          <a:lnTo>
                            <a:pt x="15" y="6"/>
                          </a:lnTo>
                          <a:lnTo>
                            <a:pt x="15" y="9"/>
                          </a:lnTo>
                          <a:lnTo>
                            <a:pt x="15" y="11"/>
                          </a:lnTo>
                          <a:lnTo>
                            <a:pt x="15" y="14"/>
                          </a:lnTo>
                          <a:lnTo>
                            <a:pt x="16" y="16"/>
                          </a:lnTo>
                          <a:lnTo>
                            <a:pt x="16" y="19"/>
                          </a:lnTo>
                          <a:lnTo>
                            <a:pt x="16" y="20"/>
                          </a:lnTo>
                          <a:lnTo>
                            <a:pt x="16" y="22"/>
                          </a:lnTo>
                          <a:lnTo>
                            <a:pt x="16" y="25"/>
                          </a:lnTo>
                          <a:lnTo>
                            <a:pt x="16" y="27"/>
                          </a:lnTo>
                          <a:lnTo>
                            <a:pt x="16" y="30"/>
                          </a:lnTo>
                          <a:lnTo>
                            <a:pt x="16" y="32"/>
                          </a:lnTo>
                          <a:lnTo>
                            <a:pt x="16" y="35"/>
                          </a:lnTo>
                          <a:lnTo>
                            <a:pt x="16" y="37"/>
                          </a:lnTo>
                          <a:lnTo>
                            <a:pt x="12" y="37"/>
                          </a:lnTo>
                          <a:lnTo>
                            <a:pt x="9" y="37"/>
                          </a:lnTo>
                          <a:lnTo>
                            <a:pt x="7" y="36"/>
                          </a:lnTo>
                          <a:lnTo>
                            <a:pt x="5" y="36"/>
                          </a:lnTo>
                          <a:lnTo>
                            <a:pt x="2" y="35"/>
                          </a:lnTo>
                          <a:lnTo>
                            <a:pt x="1" y="35"/>
                          </a:lnTo>
                          <a:lnTo>
                            <a:pt x="1" y="35"/>
                          </a:lnTo>
                          <a:close/>
                        </a:path>
                      </a:pathLst>
                    </a:custGeom>
                    <a:solidFill>
                      <a:srgbClr val="00d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3730680" y="4624200"/>
                      <a:ext cx="7920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5" h="135">
                          <a:moveTo>
                            <a:pt x="169" y="0"/>
                          </a:moveTo>
                          <a:lnTo>
                            <a:pt x="0" y="91"/>
                          </a:lnTo>
                          <a:lnTo>
                            <a:pt x="115" y="135"/>
                          </a:lnTo>
                          <a:lnTo>
                            <a:pt x="81" y="85"/>
                          </a:lnTo>
                          <a:lnTo>
                            <a:pt x="169" y="94"/>
                          </a:lnTo>
                          <a:lnTo>
                            <a:pt x="128" y="51"/>
                          </a:lnTo>
                          <a:lnTo>
                            <a:pt x="235" y="58"/>
                          </a:lnTo>
                          <a:lnTo>
                            <a:pt x="169" y="0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3744720" y="4511520"/>
                      <a:ext cx="1375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7" h="197">
                          <a:moveTo>
                            <a:pt x="317" y="0"/>
                          </a:moveTo>
                          <a:lnTo>
                            <a:pt x="213" y="45"/>
                          </a:lnTo>
                          <a:lnTo>
                            <a:pt x="0" y="130"/>
                          </a:lnTo>
                          <a:lnTo>
                            <a:pt x="234" y="197"/>
                          </a:lnTo>
                          <a:lnTo>
                            <a:pt x="147" y="139"/>
                          </a:lnTo>
                          <a:lnTo>
                            <a:pt x="267" y="160"/>
                          </a:lnTo>
                          <a:lnTo>
                            <a:pt x="198" y="98"/>
                          </a:lnTo>
                          <a:lnTo>
                            <a:pt x="311" y="123"/>
                          </a:lnTo>
                          <a:lnTo>
                            <a:pt x="252" y="64"/>
                          </a:lnTo>
                          <a:lnTo>
                            <a:pt x="358" y="90"/>
                          </a:lnTo>
                          <a:lnTo>
                            <a:pt x="304" y="33"/>
                          </a:lnTo>
                          <a:lnTo>
                            <a:pt x="407" y="55"/>
                          </a:lnTo>
                          <a:lnTo>
                            <a:pt x="377" y="18"/>
                          </a:lnTo>
                          <a:lnTo>
                            <a:pt x="317" y="0"/>
                          </a:lnTo>
                          <a:lnTo>
                            <a:pt x="317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681720" y="4710600"/>
                      <a:ext cx="16092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5" h="297">
                          <a:moveTo>
                            <a:pt x="0" y="168"/>
                          </a:moveTo>
                          <a:lnTo>
                            <a:pt x="127" y="218"/>
                          </a:lnTo>
                          <a:lnTo>
                            <a:pt x="234" y="257"/>
                          </a:lnTo>
                          <a:lnTo>
                            <a:pt x="355" y="297"/>
                          </a:lnTo>
                          <a:lnTo>
                            <a:pt x="371" y="257"/>
                          </a:lnTo>
                          <a:lnTo>
                            <a:pt x="390" y="229"/>
                          </a:lnTo>
                          <a:lnTo>
                            <a:pt x="427" y="191"/>
                          </a:lnTo>
                          <a:lnTo>
                            <a:pt x="475" y="153"/>
                          </a:lnTo>
                          <a:lnTo>
                            <a:pt x="356" y="202"/>
                          </a:lnTo>
                          <a:lnTo>
                            <a:pt x="416" y="130"/>
                          </a:lnTo>
                          <a:lnTo>
                            <a:pt x="302" y="181"/>
                          </a:lnTo>
                          <a:lnTo>
                            <a:pt x="358" y="108"/>
                          </a:lnTo>
                          <a:lnTo>
                            <a:pt x="250" y="164"/>
                          </a:lnTo>
                          <a:lnTo>
                            <a:pt x="297" y="90"/>
                          </a:lnTo>
                          <a:lnTo>
                            <a:pt x="180" y="139"/>
                          </a:lnTo>
                          <a:lnTo>
                            <a:pt x="237" y="69"/>
                          </a:lnTo>
                          <a:lnTo>
                            <a:pt x="134" y="109"/>
                          </a:lnTo>
                          <a:lnTo>
                            <a:pt x="181" y="34"/>
                          </a:lnTo>
                          <a:lnTo>
                            <a:pt x="67" y="92"/>
                          </a:lnTo>
                          <a:lnTo>
                            <a:pt x="136" y="0"/>
                          </a:lnTo>
                          <a:lnTo>
                            <a:pt x="58" y="45"/>
                          </a:lnTo>
                          <a:lnTo>
                            <a:pt x="34" y="75"/>
                          </a:lnTo>
                          <a:lnTo>
                            <a:pt x="14" y="113"/>
                          </a:lnTo>
                          <a:lnTo>
                            <a:pt x="4" y="139"/>
                          </a:lnTo>
                          <a:lnTo>
                            <a:pt x="0" y="168"/>
                          </a:lnTo>
                          <a:lnTo>
                            <a:pt x="0" y="168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3832560" y="4621680"/>
                      <a:ext cx="4248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28">
                          <a:moveTo>
                            <a:pt x="2" y="54"/>
                          </a:moveTo>
                          <a:lnTo>
                            <a:pt x="29" y="81"/>
                          </a:lnTo>
                          <a:lnTo>
                            <a:pt x="68" y="106"/>
                          </a:lnTo>
                          <a:lnTo>
                            <a:pt x="101" y="122"/>
                          </a:lnTo>
                          <a:lnTo>
                            <a:pt x="121" y="128"/>
                          </a:lnTo>
                          <a:lnTo>
                            <a:pt x="122" y="99"/>
                          </a:lnTo>
                          <a:lnTo>
                            <a:pt x="126" y="68"/>
                          </a:lnTo>
                          <a:lnTo>
                            <a:pt x="101" y="99"/>
                          </a:lnTo>
                          <a:lnTo>
                            <a:pt x="96" y="51"/>
                          </a:lnTo>
                          <a:lnTo>
                            <a:pt x="71" y="84"/>
                          </a:lnTo>
                          <a:lnTo>
                            <a:pt x="66" y="37"/>
                          </a:lnTo>
                          <a:lnTo>
                            <a:pt x="42" y="64"/>
                          </a:lnTo>
                          <a:lnTo>
                            <a:pt x="38" y="20"/>
                          </a:lnTo>
                          <a:lnTo>
                            <a:pt x="14" y="47"/>
                          </a:lnTo>
                          <a:lnTo>
                            <a:pt x="14" y="0"/>
                          </a:lnTo>
                          <a:lnTo>
                            <a:pt x="3" y="19"/>
                          </a:lnTo>
                          <a:lnTo>
                            <a:pt x="0" y="37"/>
                          </a:lnTo>
                          <a:lnTo>
                            <a:pt x="2" y="54"/>
                          </a:lnTo>
                          <a:lnTo>
                            <a:pt x="2" y="54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3890880" y="4646880"/>
                      <a:ext cx="6408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110">
                          <a:moveTo>
                            <a:pt x="6" y="61"/>
                          </a:moveTo>
                          <a:lnTo>
                            <a:pt x="53" y="78"/>
                          </a:lnTo>
                          <a:lnTo>
                            <a:pt x="89" y="90"/>
                          </a:lnTo>
                          <a:lnTo>
                            <a:pt x="123" y="99"/>
                          </a:lnTo>
                          <a:lnTo>
                            <a:pt x="146" y="105"/>
                          </a:lnTo>
                          <a:lnTo>
                            <a:pt x="187" y="110"/>
                          </a:lnTo>
                          <a:lnTo>
                            <a:pt x="180" y="94"/>
                          </a:lnTo>
                          <a:lnTo>
                            <a:pt x="175" y="71"/>
                          </a:lnTo>
                          <a:lnTo>
                            <a:pt x="176" y="49"/>
                          </a:lnTo>
                          <a:lnTo>
                            <a:pt x="155" y="90"/>
                          </a:lnTo>
                          <a:lnTo>
                            <a:pt x="146" y="40"/>
                          </a:lnTo>
                          <a:lnTo>
                            <a:pt x="116" y="81"/>
                          </a:lnTo>
                          <a:lnTo>
                            <a:pt x="111" y="28"/>
                          </a:lnTo>
                          <a:lnTo>
                            <a:pt x="81" y="70"/>
                          </a:lnTo>
                          <a:lnTo>
                            <a:pt x="79" y="15"/>
                          </a:lnTo>
                          <a:lnTo>
                            <a:pt x="43" y="59"/>
                          </a:lnTo>
                          <a:lnTo>
                            <a:pt x="44" y="4"/>
                          </a:lnTo>
                          <a:lnTo>
                            <a:pt x="16" y="46"/>
                          </a:lnTo>
                          <a:lnTo>
                            <a:pt x="3" y="0"/>
                          </a:lnTo>
                          <a:lnTo>
                            <a:pt x="0" y="24"/>
                          </a:lnTo>
                          <a:lnTo>
                            <a:pt x="3" y="40"/>
                          </a:lnTo>
                          <a:lnTo>
                            <a:pt x="6" y="61"/>
                          </a:lnTo>
                          <a:lnTo>
                            <a:pt x="6" y="61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3789720" y="4577040"/>
                      <a:ext cx="446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61">
                          <a:moveTo>
                            <a:pt x="4" y="0"/>
                          </a:moveTo>
                          <a:lnTo>
                            <a:pt x="0" y="60"/>
                          </a:lnTo>
                          <a:lnTo>
                            <a:pt x="0" y="86"/>
                          </a:lnTo>
                          <a:lnTo>
                            <a:pt x="3" y="101"/>
                          </a:lnTo>
                          <a:lnTo>
                            <a:pt x="7" y="114"/>
                          </a:lnTo>
                          <a:lnTo>
                            <a:pt x="12" y="124"/>
                          </a:lnTo>
                          <a:lnTo>
                            <a:pt x="21" y="131"/>
                          </a:lnTo>
                          <a:lnTo>
                            <a:pt x="32" y="137"/>
                          </a:lnTo>
                          <a:lnTo>
                            <a:pt x="57" y="151"/>
                          </a:lnTo>
                          <a:lnTo>
                            <a:pt x="106" y="161"/>
                          </a:lnTo>
                          <a:lnTo>
                            <a:pt x="47" y="127"/>
                          </a:lnTo>
                          <a:lnTo>
                            <a:pt x="112" y="134"/>
                          </a:lnTo>
                          <a:lnTo>
                            <a:pt x="52" y="96"/>
                          </a:lnTo>
                          <a:lnTo>
                            <a:pt x="116" y="104"/>
                          </a:lnTo>
                          <a:lnTo>
                            <a:pt x="54" y="61"/>
                          </a:lnTo>
                          <a:lnTo>
                            <a:pt x="122" y="74"/>
                          </a:lnTo>
                          <a:lnTo>
                            <a:pt x="58" y="31"/>
                          </a:lnTo>
                          <a:lnTo>
                            <a:pt x="132" y="47"/>
                          </a:lnTo>
                          <a:lnTo>
                            <a:pt x="97" y="25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840840" y="4749840"/>
                      <a:ext cx="730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114">
                          <a:moveTo>
                            <a:pt x="0" y="49"/>
                          </a:moveTo>
                          <a:lnTo>
                            <a:pt x="174" y="114"/>
                          </a:lnTo>
                          <a:lnTo>
                            <a:pt x="89" y="61"/>
                          </a:lnTo>
                          <a:lnTo>
                            <a:pt x="201" y="84"/>
                          </a:lnTo>
                          <a:lnTo>
                            <a:pt x="115" y="39"/>
                          </a:lnTo>
                          <a:lnTo>
                            <a:pt x="215" y="56"/>
                          </a:lnTo>
                          <a:lnTo>
                            <a:pt x="73" y="0"/>
                          </a:lnTo>
                          <a:lnTo>
                            <a:pt x="0" y="49"/>
                          </a:lnTo>
                          <a:lnTo>
                            <a:pt x="0" y="49"/>
                          </a:lnTo>
                          <a:close/>
                        </a:path>
                      </a:pathLst>
                    </a:custGeom>
                    <a:solidFill>
                      <a:srgbClr val="8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925440" y="4660200"/>
                      <a:ext cx="12132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7" h="274">
                          <a:moveTo>
                            <a:pt x="357" y="15"/>
                          </a:moveTo>
                          <a:lnTo>
                            <a:pt x="137" y="209"/>
                          </a:lnTo>
                          <a:lnTo>
                            <a:pt x="55" y="274"/>
                          </a:lnTo>
                          <a:lnTo>
                            <a:pt x="0" y="247"/>
                          </a:lnTo>
                          <a:lnTo>
                            <a:pt x="171" y="153"/>
                          </a:lnTo>
                          <a:lnTo>
                            <a:pt x="272" y="63"/>
                          </a:lnTo>
                          <a:lnTo>
                            <a:pt x="324" y="0"/>
                          </a:lnTo>
                          <a:lnTo>
                            <a:pt x="357" y="15"/>
                          </a:lnTo>
                          <a:lnTo>
                            <a:pt x="357" y="15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927600" y="4774320"/>
                      <a:ext cx="3132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87">
                          <a:moveTo>
                            <a:pt x="92" y="0"/>
                          </a:moveTo>
                          <a:lnTo>
                            <a:pt x="47" y="87"/>
                          </a:lnTo>
                          <a:lnTo>
                            <a:pt x="0" y="65"/>
                          </a:lnTo>
                          <a:lnTo>
                            <a:pt x="55" y="7"/>
                          </a:lnTo>
                          <a:lnTo>
                            <a:pt x="92" y="0"/>
                          </a:lnTo>
                          <a:lnTo>
                            <a:pt x="92" y="0"/>
                          </a:lnTo>
                          <a:close/>
                        </a:path>
                      </a:pathLst>
                    </a:custGeom>
                    <a:solidFill>
                      <a:srgbClr val="99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3515760" y="4450320"/>
                      <a:ext cx="74808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360" rIns="18360" tIns="18360" bIns="18360" anchor="t">
                      <a:sp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e4a8"/>
                          </a:solidFill>
                          <a:latin typeface="Tahoma"/>
                          <a:ea typeface="宋体"/>
                        </a:rPr>
                        <a:t>Edu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2843280" y="4470840"/>
                    <a:ext cx="1196280" cy="933120"/>
                    <a:chOff x="2843280" y="4470840"/>
                    <a:chExt cx="1196280" cy="933120"/>
                  </a:xfrm>
                </p:grpSpPr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3504600" y="4834800"/>
                      <a:ext cx="534960" cy="569160"/>
                      <a:chOff x="3504600" y="4834800"/>
                      <a:chExt cx="534960" cy="56916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3534120" y="5004360"/>
                        <a:ext cx="469440" cy="399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b2b2b2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3544200" y="5012280"/>
                        <a:ext cx="453240" cy="389160"/>
                      </a:xfrm>
                      <a:prstGeom prst="rect">
                        <a:avLst/>
                      </a:pr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60" name=""/>
                      <p:cNvGrpSpPr/>
                      <p:nvPr/>
                    </p:nvGrpSpPr>
                    <p:grpSpPr>
                      <a:xfrm>
                        <a:off x="3553560" y="5117760"/>
                        <a:ext cx="423360" cy="274320"/>
                        <a:chOff x="3553560" y="5117760"/>
                        <a:chExt cx="423360" cy="274320"/>
                      </a:xfrm>
                    </p:grpSpPr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>
                          <a:off x="3634200" y="5117760"/>
                          <a:ext cx="260280" cy="230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18" h="1533">
                              <a:moveTo>
                                <a:pt x="709" y="1533"/>
                              </a:moveTo>
                              <a:lnTo>
                                <a:pt x="781" y="1529"/>
                              </a:lnTo>
                              <a:lnTo>
                                <a:pt x="852" y="1518"/>
                              </a:lnTo>
                              <a:lnTo>
                                <a:pt x="920" y="1498"/>
                              </a:lnTo>
                              <a:lnTo>
                                <a:pt x="985" y="1472"/>
                              </a:lnTo>
                              <a:lnTo>
                                <a:pt x="1046" y="1440"/>
                              </a:lnTo>
                              <a:lnTo>
                                <a:pt x="1105" y="1402"/>
                              </a:lnTo>
                              <a:lnTo>
                                <a:pt x="1160" y="1358"/>
                              </a:lnTo>
                              <a:lnTo>
                                <a:pt x="1210" y="1309"/>
                              </a:lnTo>
                              <a:lnTo>
                                <a:pt x="1256" y="1254"/>
                              </a:lnTo>
                              <a:lnTo>
                                <a:pt x="1296" y="1195"/>
                              </a:lnTo>
                              <a:lnTo>
                                <a:pt x="1332" y="1132"/>
                              </a:lnTo>
                              <a:lnTo>
                                <a:pt x="1363" y="1065"/>
                              </a:lnTo>
                              <a:lnTo>
                                <a:pt x="1386" y="994"/>
                              </a:lnTo>
                              <a:lnTo>
                                <a:pt x="1404" y="921"/>
                              </a:lnTo>
                              <a:lnTo>
                                <a:pt x="1415" y="845"/>
                              </a:lnTo>
                              <a:lnTo>
                                <a:pt x="1418" y="766"/>
                              </a:lnTo>
                              <a:lnTo>
                                <a:pt x="1415" y="689"/>
                              </a:lnTo>
                              <a:lnTo>
                                <a:pt x="1404" y="612"/>
                              </a:lnTo>
                              <a:lnTo>
                                <a:pt x="1386" y="539"/>
                              </a:lnTo>
                              <a:lnTo>
                                <a:pt x="1363" y="468"/>
                              </a:lnTo>
                              <a:lnTo>
                                <a:pt x="1332" y="402"/>
                              </a:lnTo>
                              <a:lnTo>
                                <a:pt x="1296" y="338"/>
                              </a:lnTo>
                              <a:lnTo>
                                <a:pt x="1256" y="279"/>
                              </a:lnTo>
                              <a:lnTo>
                                <a:pt x="1210" y="224"/>
                              </a:lnTo>
                              <a:lnTo>
                                <a:pt x="1160" y="175"/>
                              </a:lnTo>
                              <a:lnTo>
                                <a:pt x="1105" y="131"/>
                              </a:lnTo>
                              <a:lnTo>
                                <a:pt x="1046" y="93"/>
                              </a:lnTo>
                              <a:lnTo>
                                <a:pt x="985" y="60"/>
                              </a:lnTo>
                              <a:lnTo>
                                <a:pt x="920" y="35"/>
                              </a:lnTo>
                              <a:lnTo>
                                <a:pt x="852" y="15"/>
                              </a:lnTo>
                              <a:lnTo>
                                <a:pt x="781" y="3"/>
                              </a:lnTo>
                              <a:lnTo>
                                <a:pt x="709" y="0"/>
                              </a:lnTo>
                              <a:lnTo>
                                <a:pt x="636" y="3"/>
                              </a:lnTo>
                              <a:lnTo>
                                <a:pt x="567" y="15"/>
                              </a:lnTo>
                              <a:lnTo>
                                <a:pt x="498" y="35"/>
                              </a:lnTo>
                              <a:lnTo>
                                <a:pt x="433" y="60"/>
                              </a:lnTo>
                              <a:lnTo>
                                <a:pt x="371" y="93"/>
                              </a:lnTo>
                              <a:lnTo>
                                <a:pt x="313" y="131"/>
                              </a:lnTo>
                              <a:lnTo>
                                <a:pt x="258" y="175"/>
                              </a:lnTo>
                              <a:lnTo>
                                <a:pt x="207" y="224"/>
                              </a:lnTo>
                              <a:lnTo>
                                <a:pt x="162" y="279"/>
                              </a:lnTo>
                              <a:lnTo>
                                <a:pt x="122" y="338"/>
                              </a:lnTo>
                              <a:lnTo>
                                <a:pt x="86" y="402"/>
                              </a:lnTo>
                              <a:lnTo>
                                <a:pt x="56" y="468"/>
                              </a:lnTo>
                              <a:lnTo>
                                <a:pt x="32" y="539"/>
                              </a:lnTo>
                              <a:lnTo>
                                <a:pt x="14" y="612"/>
                              </a:lnTo>
                              <a:lnTo>
                                <a:pt x="3" y="689"/>
                              </a:lnTo>
                              <a:lnTo>
                                <a:pt x="0" y="766"/>
                              </a:lnTo>
                              <a:lnTo>
                                <a:pt x="3" y="845"/>
                              </a:lnTo>
                              <a:lnTo>
                                <a:pt x="14" y="921"/>
                              </a:lnTo>
                              <a:lnTo>
                                <a:pt x="32" y="994"/>
                              </a:lnTo>
                              <a:lnTo>
                                <a:pt x="56" y="1065"/>
                              </a:lnTo>
                              <a:lnTo>
                                <a:pt x="86" y="1132"/>
                              </a:lnTo>
                              <a:lnTo>
                                <a:pt x="122" y="1195"/>
                              </a:lnTo>
                              <a:lnTo>
                                <a:pt x="162" y="1254"/>
                              </a:lnTo>
                              <a:lnTo>
                                <a:pt x="207" y="1309"/>
                              </a:lnTo>
                              <a:lnTo>
                                <a:pt x="258" y="1358"/>
                              </a:lnTo>
                              <a:lnTo>
                                <a:pt x="313" y="1402"/>
                              </a:lnTo>
                              <a:lnTo>
                                <a:pt x="371" y="1440"/>
                              </a:lnTo>
                              <a:lnTo>
                                <a:pt x="433" y="1472"/>
                              </a:lnTo>
                              <a:lnTo>
                                <a:pt x="498" y="1498"/>
                              </a:lnTo>
                              <a:lnTo>
                                <a:pt x="567" y="1518"/>
                              </a:lnTo>
                              <a:lnTo>
                                <a:pt x="636" y="1529"/>
                              </a:lnTo>
                              <a:lnTo>
                                <a:pt x="709" y="153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e0e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>
                          <a:off x="3637800" y="5121360"/>
                          <a:ext cx="252000" cy="22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77" h="1489">
                              <a:moveTo>
                                <a:pt x="689" y="1489"/>
                              </a:moveTo>
                              <a:lnTo>
                                <a:pt x="760" y="1485"/>
                              </a:lnTo>
                              <a:lnTo>
                                <a:pt x="828" y="1474"/>
                              </a:lnTo>
                              <a:lnTo>
                                <a:pt x="894" y="1455"/>
                              </a:lnTo>
                              <a:lnTo>
                                <a:pt x="957" y="1431"/>
                              </a:lnTo>
                              <a:lnTo>
                                <a:pt x="1017" y="1399"/>
                              </a:lnTo>
                              <a:lnTo>
                                <a:pt x="1074" y="1361"/>
                              </a:lnTo>
                              <a:lnTo>
                                <a:pt x="1127" y="1319"/>
                              </a:lnTo>
                              <a:lnTo>
                                <a:pt x="1176" y="1270"/>
                              </a:lnTo>
                              <a:lnTo>
                                <a:pt x="1220" y="1218"/>
                              </a:lnTo>
                              <a:lnTo>
                                <a:pt x="1260" y="1160"/>
                              </a:lnTo>
                              <a:lnTo>
                                <a:pt x="1294" y="1099"/>
                              </a:lnTo>
                              <a:lnTo>
                                <a:pt x="1323" y="1034"/>
                              </a:lnTo>
                              <a:lnTo>
                                <a:pt x="1346" y="965"/>
                              </a:lnTo>
                              <a:lnTo>
                                <a:pt x="1363" y="894"/>
                              </a:lnTo>
                              <a:lnTo>
                                <a:pt x="1374" y="820"/>
                              </a:lnTo>
                              <a:lnTo>
                                <a:pt x="1377" y="743"/>
                              </a:lnTo>
                              <a:lnTo>
                                <a:pt x="1374" y="668"/>
                              </a:lnTo>
                              <a:lnTo>
                                <a:pt x="1363" y="593"/>
                              </a:lnTo>
                              <a:lnTo>
                                <a:pt x="1346" y="523"/>
                              </a:lnTo>
                              <a:lnTo>
                                <a:pt x="1323" y="454"/>
                              </a:lnTo>
                              <a:lnTo>
                                <a:pt x="1294" y="389"/>
                              </a:lnTo>
                              <a:lnTo>
                                <a:pt x="1260" y="327"/>
                              </a:lnTo>
                              <a:lnTo>
                                <a:pt x="1220" y="271"/>
                              </a:lnTo>
                              <a:lnTo>
                                <a:pt x="1176" y="218"/>
                              </a:lnTo>
                              <a:lnTo>
                                <a:pt x="1127" y="170"/>
                              </a:lnTo>
                              <a:lnTo>
                                <a:pt x="1074" y="127"/>
                              </a:lnTo>
                              <a:lnTo>
                                <a:pt x="1017" y="89"/>
                              </a:lnTo>
                              <a:lnTo>
                                <a:pt x="957" y="58"/>
                              </a:lnTo>
                              <a:lnTo>
                                <a:pt x="894" y="34"/>
                              </a:lnTo>
                              <a:lnTo>
                                <a:pt x="828" y="15"/>
                              </a:lnTo>
                              <a:lnTo>
                                <a:pt x="760" y="3"/>
                              </a:lnTo>
                              <a:lnTo>
                                <a:pt x="689" y="0"/>
                              </a:lnTo>
                              <a:lnTo>
                                <a:pt x="618" y="3"/>
                              </a:lnTo>
                              <a:lnTo>
                                <a:pt x="550" y="15"/>
                              </a:lnTo>
                              <a:lnTo>
                                <a:pt x="484" y="34"/>
                              </a:lnTo>
                              <a:lnTo>
                                <a:pt x="421" y="58"/>
                              </a:lnTo>
                              <a:lnTo>
                                <a:pt x="361" y="89"/>
                              </a:lnTo>
                              <a:lnTo>
                                <a:pt x="304" y="127"/>
                              </a:lnTo>
                              <a:lnTo>
                                <a:pt x="251" y="170"/>
                              </a:lnTo>
                              <a:lnTo>
                                <a:pt x="202" y="218"/>
                              </a:lnTo>
                              <a:lnTo>
                                <a:pt x="157" y="271"/>
                              </a:lnTo>
                              <a:lnTo>
                                <a:pt x="118" y="327"/>
                              </a:lnTo>
                              <a:lnTo>
                                <a:pt x="83" y="389"/>
                              </a:lnTo>
                              <a:lnTo>
                                <a:pt x="54" y="454"/>
                              </a:lnTo>
                              <a:lnTo>
                                <a:pt x="31" y="523"/>
                              </a:lnTo>
                              <a:lnTo>
                                <a:pt x="14" y="593"/>
                              </a:lnTo>
                              <a:lnTo>
                                <a:pt x="3" y="668"/>
                              </a:lnTo>
                              <a:lnTo>
                                <a:pt x="0" y="743"/>
                              </a:lnTo>
                              <a:lnTo>
                                <a:pt x="3" y="820"/>
                              </a:lnTo>
                              <a:lnTo>
                                <a:pt x="14" y="894"/>
                              </a:lnTo>
                              <a:lnTo>
                                <a:pt x="31" y="965"/>
                              </a:lnTo>
                              <a:lnTo>
                                <a:pt x="54" y="1034"/>
                              </a:lnTo>
                              <a:lnTo>
                                <a:pt x="83" y="1099"/>
                              </a:lnTo>
                              <a:lnTo>
                                <a:pt x="118" y="1160"/>
                              </a:lnTo>
                              <a:lnTo>
                                <a:pt x="157" y="1218"/>
                              </a:lnTo>
                              <a:lnTo>
                                <a:pt x="202" y="1270"/>
                              </a:lnTo>
                              <a:lnTo>
                                <a:pt x="251" y="1319"/>
                              </a:lnTo>
                              <a:lnTo>
                                <a:pt x="304" y="1361"/>
                              </a:lnTo>
                              <a:lnTo>
                                <a:pt x="361" y="1399"/>
                              </a:lnTo>
                              <a:lnTo>
                                <a:pt x="421" y="1431"/>
                              </a:lnTo>
                              <a:lnTo>
                                <a:pt x="484" y="1455"/>
                              </a:lnTo>
                              <a:lnTo>
                                <a:pt x="550" y="1474"/>
                              </a:lnTo>
                              <a:lnTo>
                                <a:pt x="618" y="1485"/>
                              </a:lnTo>
                              <a:lnTo>
                                <a:pt x="689" y="148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e0e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>
                          <a:off x="3641400" y="5124240"/>
                          <a:ext cx="244800" cy="21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36" h="1446">
                              <a:moveTo>
                                <a:pt x="669" y="1446"/>
                              </a:moveTo>
                              <a:lnTo>
                                <a:pt x="737" y="1442"/>
                              </a:lnTo>
                              <a:lnTo>
                                <a:pt x="803" y="1431"/>
                              </a:lnTo>
                              <a:lnTo>
                                <a:pt x="867" y="1413"/>
                              </a:lnTo>
                              <a:lnTo>
                                <a:pt x="929" y="1389"/>
                              </a:lnTo>
                              <a:lnTo>
                                <a:pt x="988" y="1359"/>
                              </a:lnTo>
                              <a:lnTo>
                                <a:pt x="1042" y="1323"/>
                              </a:lnTo>
                              <a:lnTo>
                                <a:pt x="1093" y="1281"/>
                              </a:lnTo>
                              <a:lnTo>
                                <a:pt x="1141" y="1233"/>
                              </a:lnTo>
                              <a:lnTo>
                                <a:pt x="1183" y="1182"/>
                              </a:lnTo>
                              <a:lnTo>
                                <a:pt x="1223" y="1126"/>
                              </a:lnTo>
                              <a:lnTo>
                                <a:pt x="1255" y="1067"/>
                              </a:lnTo>
                              <a:lnTo>
                                <a:pt x="1284" y="1003"/>
                              </a:lnTo>
                              <a:lnTo>
                                <a:pt x="1306" y="937"/>
                              </a:lnTo>
                              <a:lnTo>
                                <a:pt x="1323" y="869"/>
                              </a:lnTo>
                              <a:lnTo>
                                <a:pt x="1333" y="797"/>
                              </a:lnTo>
                              <a:lnTo>
                                <a:pt x="1336" y="722"/>
                              </a:lnTo>
                              <a:lnTo>
                                <a:pt x="1333" y="648"/>
                              </a:lnTo>
                              <a:lnTo>
                                <a:pt x="1323" y="577"/>
                              </a:lnTo>
                              <a:lnTo>
                                <a:pt x="1306" y="507"/>
                              </a:lnTo>
                              <a:lnTo>
                                <a:pt x="1284" y="441"/>
                              </a:lnTo>
                              <a:lnTo>
                                <a:pt x="1255" y="378"/>
                              </a:lnTo>
                              <a:lnTo>
                                <a:pt x="1223" y="318"/>
                              </a:lnTo>
                              <a:lnTo>
                                <a:pt x="1183" y="264"/>
                              </a:lnTo>
                              <a:lnTo>
                                <a:pt x="1141" y="211"/>
                              </a:lnTo>
                              <a:lnTo>
                                <a:pt x="1093" y="165"/>
                              </a:lnTo>
                              <a:lnTo>
                                <a:pt x="1042" y="123"/>
                              </a:lnTo>
                              <a:lnTo>
                                <a:pt x="988" y="87"/>
                              </a:lnTo>
                              <a:lnTo>
                                <a:pt x="929" y="57"/>
                              </a:lnTo>
                              <a:lnTo>
                                <a:pt x="867" y="32"/>
                              </a:lnTo>
                              <a:lnTo>
                                <a:pt x="803" y="15"/>
                              </a:lnTo>
                              <a:lnTo>
                                <a:pt x="737" y="3"/>
                              </a:lnTo>
                              <a:lnTo>
                                <a:pt x="669" y="0"/>
                              </a:lnTo>
                              <a:lnTo>
                                <a:pt x="601" y="3"/>
                              </a:lnTo>
                              <a:lnTo>
                                <a:pt x="535" y="15"/>
                              </a:lnTo>
                              <a:lnTo>
                                <a:pt x="470" y="32"/>
                              </a:lnTo>
                              <a:lnTo>
                                <a:pt x="408" y="57"/>
                              </a:lnTo>
                              <a:lnTo>
                                <a:pt x="350" y="87"/>
                              </a:lnTo>
                              <a:lnTo>
                                <a:pt x="295" y="123"/>
                              </a:lnTo>
                              <a:lnTo>
                                <a:pt x="244" y="165"/>
                              </a:lnTo>
                              <a:lnTo>
                                <a:pt x="196" y="211"/>
                              </a:lnTo>
                              <a:lnTo>
                                <a:pt x="153" y="264"/>
                              </a:lnTo>
                              <a:lnTo>
                                <a:pt x="114" y="318"/>
                              </a:lnTo>
                              <a:lnTo>
                                <a:pt x="82" y="378"/>
                              </a:lnTo>
                              <a:lnTo>
                                <a:pt x="53" y="441"/>
                              </a:lnTo>
                              <a:lnTo>
                                <a:pt x="31" y="507"/>
                              </a:lnTo>
                              <a:lnTo>
                                <a:pt x="14" y="577"/>
                              </a:lnTo>
                              <a:lnTo>
                                <a:pt x="4" y="648"/>
                              </a:lnTo>
                              <a:lnTo>
                                <a:pt x="0" y="722"/>
                              </a:lnTo>
                              <a:lnTo>
                                <a:pt x="4" y="797"/>
                              </a:lnTo>
                              <a:lnTo>
                                <a:pt x="14" y="869"/>
                              </a:lnTo>
                              <a:lnTo>
                                <a:pt x="31" y="937"/>
                              </a:lnTo>
                              <a:lnTo>
                                <a:pt x="53" y="1003"/>
                              </a:lnTo>
                              <a:lnTo>
                                <a:pt x="82" y="1067"/>
                              </a:lnTo>
                              <a:lnTo>
                                <a:pt x="114" y="1126"/>
                              </a:lnTo>
                              <a:lnTo>
                                <a:pt x="153" y="1182"/>
                              </a:lnTo>
                              <a:lnTo>
                                <a:pt x="196" y="1233"/>
                              </a:lnTo>
                              <a:lnTo>
                                <a:pt x="244" y="1281"/>
                              </a:lnTo>
                              <a:lnTo>
                                <a:pt x="295" y="1323"/>
                              </a:lnTo>
                              <a:lnTo>
                                <a:pt x="350" y="1359"/>
                              </a:lnTo>
                              <a:lnTo>
                                <a:pt x="408" y="1389"/>
                              </a:lnTo>
                              <a:lnTo>
                                <a:pt x="470" y="1413"/>
                              </a:lnTo>
                              <a:lnTo>
                                <a:pt x="535" y="1431"/>
                              </a:lnTo>
                              <a:lnTo>
                                <a:pt x="601" y="1442"/>
                              </a:lnTo>
                              <a:lnTo>
                                <a:pt x="669" y="14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e5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3645000" y="5127480"/>
                          <a:ext cx="237600" cy="20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97" h="1401">
                              <a:moveTo>
                                <a:pt x="649" y="1401"/>
                              </a:moveTo>
                              <a:lnTo>
                                <a:pt x="715" y="1397"/>
                              </a:lnTo>
                              <a:lnTo>
                                <a:pt x="779" y="1387"/>
                              </a:lnTo>
                              <a:lnTo>
                                <a:pt x="841" y="1369"/>
                              </a:lnTo>
                              <a:lnTo>
                                <a:pt x="900" y="1346"/>
                              </a:lnTo>
                              <a:lnTo>
                                <a:pt x="957" y="1316"/>
                              </a:lnTo>
                              <a:lnTo>
                                <a:pt x="1011" y="1281"/>
                              </a:lnTo>
                              <a:lnTo>
                                <a:pt x="1060" y="1240"/>
                              </a:lnTo>
                              <a:lnTo>
                                <a:pt x="1107" y="1195"/>
                              </a:lnTo>
                              <a:lnTo>
                                <a:pt x="1148" y="1146"/>
                              </a:lnTo>
                              <a:lnTo>
                                <a:pt x="1185" y="1092"/>
                              </a:lnTo>
                              <a:lnTo>
                                <a:pt x="1218" y="1034"/>
                              </a:lnTo>
                              <a:lnTo>
                                <a:pt x="1246" y="973"/>
                              </a:lnTo>
                              <a:lnTo>
                                <a:pt x="1268" y="908"/>
                              </a:lnTo>
                              <a:lnTo>
                                <a:pt x="1284" y="842"/>
                              </a:lnTo>
                              <a:lnTo>
                                <a:pt x="1293" y="772"/>
                              </a:lnTo>
                              <a:lnTo>
                                <a:pt x="1297" y="700"/>
                              </a:lnTo>
                              <a:lnTo>
                                <a:pt x="1293" y="628"/>
                              </a:lnTo>
                              <a:lnTo>
                                <a:pt x="1284" y="559"/>
                              </a:lnTo>
                              <a:lnTo>
                                <a:pt x="1268" y="492"/>
                              </a:lnTo>
                              <a:lnTo>
                                <a:pt x="1246" y="427"/>
                              </a:lnTo>
                              <a:lnTo>
                                <a:pt x="1218" y="367"/>
                              </a:lnTo>
                              <a:lnTo>
                                <a:pt x="1185" y="309"/>
                              </a:lnTo>
                              <a:lnTo>
                                <a:pt x="1148" y="254"/>
                              </a:lnTo>
                              <a:lnTo>
                                <a:pt x="1107" y="206"/>
                              </a:lnTo>
                              <a:lnTo>
                                <a:pt x="1060" y="160"/>
                              </a:lnTo>
                              <a:lnTo>
                                <a:pt x="1011" y="120"/>
                              </a:lnTo>
                              <a:lnTo>
                                <a:pt x="957" y="85"/>
                              </a:lnTo>
                              <a:lnTo>
                                <a:pt x="900" y="55"/>
                              </a:lnTo>
                              <a:lnTo>
                                <a:pt x="841" y="31"/>
                              </a:lnTo>
                              <a:lnTo>
                                <a:pt x="779" y="14"/>
                              </a:lnTo>
                              <a:lnTo>
                                <a:pt x="715" y="3"/>
                              </a:lnTo>
                              <a:lnTo>
                                <a:pt x="649" y="0"/>
                              </a:lnTo>
                              <a:lnTo>
                                <a:pt x="583" y="3"/>
                              </a:lnTo>
                              <a:lnTo>
                                <a:pt x="518" y="14"/>
                              </a:lnTo>
                              <a:lnTo>
                                <a:pt x="457" y="31"/>
                              </a:lnTo>
                              <a:lnTo>
                                <a:pt x="396" y="55"/>
                              </a:lnTo>
                              <a:lnTo>
                                <a:pt x="340" y="85"/>
                              </a:lnTo>
                              <a:lnTo>
                                <a:pt x="286" y="120"/>
                              </a:lnTo>
                              <a:lnTo>
                                <a:pt x="237" y="160"/>
                              </a:lnTo>
                              <a:lnTo>
                                <a:pt x="190" y="206"/>
                              </a:lnTo>
                              <a:lnTo>
                                <a:pt x="148" y="254"/>
                              </a:lnTo>
                              <a:lnTo>
                                <a:pt x="111" y="309"/>
                              </a:lnTo>
                              <a:lnTo>
                                <a:pt x="79" y="367"/>
                              </a:lnTo>
                              <a:lnTo>
                                <a:pt x="51" y="427"/>
                              </a:lnTo>
                              <a:lnTo>
                                <a:pt x="29" y="492"/>
                              </a:lnTo>
                              <a:lnTo>
                                <a:pt x="13" y="559"/>
                              </a:lnTo>
                              <a:lnTo>
                                <a:pt x="4" y="628"/>
                              </a:lnTo>
                              <a:lnTo>
                                <a:pt x="0" y="700"/>
                              </a:lnTo>
                              <a:lnTo>
                                <a:pt x="4" y="772"/>
                              </a:lnTo>
                              <a:lnTo>
                                <a:pt x="13" y="842"/>
                              </a:lnTo>
                              <a:lnTo>
                                <a:pt x="29" y="908"/>
                              </a:lnTo>
                              <a:lnTo>
                                <a:pt x="51" y="973"/>
                              </a:lnTo>
                              <a:lnTo>
                                <a:pt x="79" y="1034"/>
                              </a:lnTo>
                              <a:lnTo>
                                <a:pt x="111" y="1092"/>
                              </a:lnTo>
                              <a:lnTo>
                                <a:pt x="148" y="1146"/>
                              </a:lnTo>
                              <a:lnTo>
                                <a:pt x="190" y="1195"/>
                              </a:lnTo>
                              <a:lnTo>
                                <a:pt x="237" y="1240"/>
                              </a:lnTo>
                              <a:lnTo>
                                <a:pt x="286" y="1281"/>
                              </a:lnTo>
                              <a:lnTo>
                                <a:pt x="340" y="1316"/>
                              </a:lnTo>
                              <a:lnTo>
                                <a:pt x="396" y="1346"/>
                              </a:lnTo>
                              <a:lnTo>
                                <a:pt x="457" y="1369"/>
                              </a:lnTo>
                              <a:lnTo>
                                <a:pt x="518" y="1387"/>
                              </a:lnTo>
                              <a:lnTo>
                                <a:pt x="583" y="1397"/>
                              </a:lnTo>
                              <a:lnTo>
                                <a:pt x="649" y="140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e5e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>
                          <a:off x="3648600" y="5131080"/>
                          <a:ext cx="230040" cy="20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55" h="1356">
                              <a:moveTo>
                                <a:pt x="628" y="1356"/>
                              </a:moveTo>
                              <a:lnTo>
                                <a:pt x="692" y="1353"/>
                              </a:lnTo>
                              <a:lnTo>
                                <a:pt x="754" y="1343"/>
                              </a:lnTo>
                              <a:lnTo>
                                <a:pt x="815" y="1326"/>
                              </a:lnTo>
                              <a:lnTo>
                                <a:pt x="871" y="1303"/>
                              </a:lnTo>
                              <a:lnTo>
                                <a:pt x="927" y="1274"/>
                              </a:lnTo>
                              <a:lnTo>
                                <a:pt x="978" y="1240"/>
                              </a:lnTo>
                              <a:lnTo>
                                <a:pt x="1027" y="1201"/>
                              </a:lnTo>
                              <a:lnTo>
                                <a:pt x="1071" y="1158"/>
                              </a:lnTo>
                              <a:lnTo>
                                <a:pt x="1111" y="1109"/>
                              </a:lnTo>
                              <a:lnTo>
                                <a:pt x="1147" y="1057"/>
                              </a:lnTo>
                              <a:lnTo>
                                <a:pt x="1180" y="1001"/>
                              </a:lnTo>
                              <a:lnTo>
                                <a:pt x="1205" y="942"/>
                              </a:lnTo>
                              <a:lnTo>
                                <a:pt x="1227" y="879"/>
                              </a:lnTo>
                              <a:lnTo>
                                <a:pt x="1242" y="814"/>
                              </a:lnTo>
                              <a:lnTo>
                                <a:pt x="1251" y="747"/>
                              </a:lnTo>
                              <a:lnTo>
                                <a:pt x="1255" y="677"/>
                              </a:lnTo>
                              <a:lnTo>
                                <a:pt x="1251" y="607"/>
                              </a:lnTo>
                              <a:lnTo>
                                <a:pt x="1242" y="540"/>
                              </a:lnTo>
                              <a:lnTo>
                                <a:pt x="1227" y="476"/>
                              </a:lnTo>
                              <a:lnTo>
                                <a:pt x="1205" y="413"/>
                              </a:lnTo>
                              <a:lnTo>
                                <a:pt x="1180" y="354"/>
                              </a:lnTo>
                              <a:lnTo>
                                <a:pt x="1147" y="298"/>
                              </a:lnTo>
                              <a:lnTo>
                                <a:pt x="1111" y="246"/>
                              </a:lnTo>
                              <a:lnTo>
                                <a:pt x="1071" y="199"/>
                              </a:lnTo>
                              <a:lnTo>
                                <a:pt x="1027" y="154"/>
                              </a:lnTo>
                              <a:lnTo>
                                <a:pt x="978" y="116"/>
                              </a:lnTo>
                              <a:lnTo>
                                <a:pt x="927" y="81"/>
                              </a:lnTo>
                              <a:lnTo>
                                <a:pt x="871" y="53"/>
                              </a:lnTo>
                              <a:lnTo>
                                <a:pt x="815" y="30"/>
                              </a:lnTo>
                              <a:lnTo>
                                <a:pt x="754" y="14"/>
                              </a:lnTo>
                              <a:lnTo>
                                <a:pt x="692" y="4"/>
                              </a:lnTo>
                              <a:lnTo>
                                <a:pt x="628" y="0"/>
                              </a:lnTo>
                              <a:lnTo>
                                <a:pt x="563" y="4"/>
                              </a:lnTo>
                              <a:lnTo>
                                <a:pt x="502" y="14"/>
                              </a:lnTo>
                              <a:lnTo>
                                <a:pt x="441" y="30"/>
                              </a:lnTo>
                              <a:lnTo>
                                <a:pt x="384" y="53"/>
                              </a:lnTo>
                              <a:lnTo>
                                <a:pt x="328" y="81"/>
                              </a:lnTo>
                              <a:lnTo>
                                <a:pt x="277" y="116"/>
                              </a:lnTo>
                              <a:lnTo>
                                <a:pt x="228" y="154"/>
                              </a:lnTo>
                              <a:lnTo>
                                <a:pt x="184" y="199"/>
                              </a:lnTo>
                              <a:lnTo>
                                <a:pt x="144" y="246"/>
                              </a:lnTo>
                              <a:lnTo>
                                <a:pt x="107" y="298"/>
                              </a:lnTo>
                              <a:lnTo>
                                <a:pt x="75" y="354"/>
                              </a:lnTo>
                              <a:lnTo>
                                <a:pt x="50" y="413"/>
                              </a:lnTo>
                              <a:lnTo>
                                <a:pt x="28" y="476"/>
                              </a:lnTo>
                              <a:lnTo>
                                <a:pt x="13" y="540"/>
                              </a:lnTo>
                              <a:lnTo>
                                <a:pt x="4" y="607"/>
                              </a:lnTo>
                              <a:lnTo>
                                <a:pt x="0" y="677"/>
                              </a:lnTo>
                              <a:lnTo>
                                <a:pt x="4" y="747"/>
                              </a:lnTo>
                              <a:lnTo>
                                <a:pt x="13" y="814"/>
                              </a:lnTo>
                              <a:lnTo>
                                <a:pt x="28" y="879"/>
                              </a:lnTo>
                              <a:lnTo>
                                <a:pt x="50" y="942"/>
                              </a:lnTo>
                              <a:lnTo>
                                <a:pt x="75" y="1001"/>
                              </a:lnTo>
                              <a:lnTo>
                                <a:pt x="107" y="1057"/>
                              </a:lnTo>
                              <a:lnTo>
                                <a:pt x="144" y="1109"/>
                              </a:lnTo>
                              <a:lnTo>
                                <a:pt x="184" y="1158"/>
                              </a:lnTo>
                              <a:lnTo>
                                <a:pt x="228" y="1201"/>
                              </a:lnTo>
                              <a:lnTo>
                                <a:pt x="277" y="1240"/>
                              </a:lnTo>
                              <a:lnTo>
                                <a:pt x="328" y="1274"/>
                              </a:lnTo>
                              <a:lnTo>
                                <a:pt x="384" y="1303"/>
                              </a:lnTo>
                              <a:lnTo>
                                <a:pt x="441" y="1326"/>
                              </a:lnTo>
                              <a:lnTo>
                                <a:pt x="502" y="1343"/>
                              </a:lnTo>
                              <a:lnTo>
                                <a:pt x="563" y="1353"/>
                              </a:lnTo>
                              <a:lnTo>
                                <a:pt x="628" y="13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7e5e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>
                          <a:off x="3652560" y="5133960"/>
                          <a:ext cx="222840" cy="19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15" h="1313">
                              <a:moveTo>
                                <a:pt x="608" y="1313"/>
                              </a:moveTo>
                              <a:lnTo>
                                <a:pt x="671" y="1310"/>
                              </a:lnTo>
                              <a:lnTo>
                                <a:pt x="730" y="1301"/>
                              </a:lnTo>
                              <a:lnTo>
                                <a:pt x="789" y="1284"/>
                              </a:lnTo>
                              <a:lnTo>
                                <a:pt x="844" y="1262"/>
                              </a:lnTo>
                              <a:lnTo>
                                <a:pt x="898" y="1234"/>
                              </a:lnTo>
                              <a:lnTo>
                                <a:pt x="948" y="1201"/>
                              </a:lnTo>
                              <a:lnTo>
                                <a:pt x="994" y="1164"/>
                              </a:lnTo>
                              <a:lnTo>
                                <a:pt x="1037" y="1121"/>
                              </a:lnTo>
                              <a:lnTo>
                                <a:pt x="1076" y="1074"/>
                              </a:lnTo>
                              <a:lnTo>
                                <a:pt x="1111" y="1024"/>
                              </a:lnTo>
                              <a:lnTo>
                                <a:pt x="1142" y="970"/>
                              </a:lnTo>
                              <a:lnTo>
                                <a:pt x="1168" y="912"/>
                              </a:lnTo>
                              <a:lnTo>
                                <a:pt x="1187" y="851"/>
                              </a:lnTo>
                              <a:lnTo>
                                <a:pt x="1202" y="788"/>
                              </a:lnTo>
                              <a:lnTo>
                                <a:pt x="1212" y="723"/>
                              </a:lnTo>
                              <a:lnTo>
                                <a:pt x="1215" y="656"/>
                              </a:lnTo>
                              <a:lnTo>
                                <a:pt x="1212" y="589"/>
                              </a:lnTo>
                              <a:lnTo>
                                <a:pt x="1202" y="524"/>
                              </a:lnTo>
                              <a:lnTo>
                                <a:pt x="1187" y="461"/>
                              </a:lnTo>
                              <a:lnTo>
                                <a:pt x="1168" y="401"/>
                              </a:lnTo>
                              <a:lnTo>
                                <a:pt x="1142" y="344"/>
                              </a:lnTo>
                              <a:lnTo>
                                <a:pt x="1111" y="289"/>
                              </a:lnTo>
                              <a:lnTo>
                                <a:pt x="1076" y="239"/>
                              </a:lnTo>
                              <a:lnTo>
                                <a:pt x="1037" y="192"/>
                              </a:lnTo>
                              <a:lnTo>
                                <a:pt x="994" y="150"/>
                              </a:lnTo>
                              <a:lnTo>
                                <a:pt x="948" y="113"/>
                              </a:lnTo>
                              <a:lnTo>
                                <a:pt x="898" y="79"/>
                              </a:lnTo>
                              <a:lnTo>
                                <a:pt x="844" y="51"/>
                              </a:lnTo>
                              <a:lnTo>
                                <a:pt x="789" y="29"/>
                              </a:lnTo>
                              <a:lnTo>
                                <a:pt x="730" y="13"/>
                              </a:lnTo>
                              <a:lnTo>
                                <a:pt x="671" y="3"/>
                              </a:lnTo>
                              <a:lnTo>
                                <a:pt x="608" y="0"/>
                              </a:lnTo>
                              <a:lnTo>
                                <a:pt x="545" y="3"/>
                              </a:lnTo>
                              <a:lnTo>
                                <a:pt x="485" y="13"/>
                              </a:lnTo>
                              <a:lnTo>
                                <a:pt x="427" y="29"/>
                              </a:lnTo>
                              <a:lnTo>
                                <a:pt x="372" y="51"/>
                              </a:lnTo>
                              <a:lnTo>
                                <a:pt x="318" y="79"/>
                              </a:lnTo>
                              <a:lnTo>
                                <a:pt x="267" y="113"/>
                              </a:lnTo>
                              <a:lnTo>
                                <a:pt x="221" y="150"/>
                              </a:lnTo>
                              <a:lnTo>
                                <a:pt x="178" y="192"/>
                              </a:lnTo>
                              <a:lnTo>
                                <a:pt x="139" y="239"/>
                              </a:lnTo>
                              <a:lnTo>
                                <a:pt x="104" y="289"/>
                              </a:lnTo>
                              <a:lnTo>
                                <a:pt x="73" y="344"/>
                              </a:lnTo>
                              <a:lnTo>
                                <a:pt x="47" y="401"/>
                              </a:lnTo>
                              <a:lnTo>
                                <a:pt x="28" y="461"/>
                              </a:lnTo>
                              <a:lnTo>
                                <a:pt x="12" y="524"/>
                              </a:lnTo>
                              <a:lnTo>
                                <a:pt x="3" y="589"/>
                              </a:lnTo>
                              <a:lnTo>
                                <a:pt x="0" y="656"/>
                              </a:lnTo>
                              <a:lnTo>
                                <a:pt x="3" y="723"/>
                              </a:lnTo>
                              <a:lnTo>
                                <a:pt x="12" y="788"/>
                              </a:lnTo>
                              <a:lnTo>
                                <a:pt x="28" y="851"/>
                              </a:lnTo>
                              <a:lnTo>
                                <a:pt x="47" y="912"/>
                              </a:lnTo>
                              <a:lnTo>
                                <a:pt x="73" y="970"/>
                              </a:lnTo>
                              <a:lnTo>
                                <a:pt x="104" y="1024"/>
                              </a:lnTo>
                              <a:lnTo>
                                <a:pt x="139" y="1074"/>
                              </a:lnTo>
                              <a:lnTo>
                                <a:pt x="178" y="1121"/>
                              </a:lnTo>
                              <a:lnTo>
                                <a:pt x="221" y="1164"/>
                              </a:lnTo>
                              <a:lnTo>
                                <a:pt x="267" y="1201"/>
                              </a:lnTo>
                              <a:lnTo>
                                <a:pt x="318" y="1234"/>
                              </a:lnTo>
                              <a:lnTo>
                                <a:pt x="372" y="1262"/>
                              </a:lnTo>
                              <a:lnTo>
                                <a:pt x="427" y="1284"/>
                              </a:lnTo>
                              <a:lnTo>
                                <a:pt x="485" y="1301"/>
                              </a:lnTo>
                              <a:lnTo>
                                <a:pt x="545" y="1310"/>
                              </a:lnTo>
                              <a:lnTo>
                                <a:pt x="608" y="13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e5e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>
                          <a:off x="3656160" y="5137200"/>
                          <a:ext cx="215280" cy="19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1269">
                              <a:moveTo>
                                <a:pt x="587" y="1269"/>
                              </a:moveTo>
                              <a:lnTo>
                                <a:pt x="647" y="1266"/>
                              </a:lnTo>
                              <a:lnTo>
                                <a:pt x="705" y="1257"/>
                              </a:lnTo>
                              <a:lnTo>
                                <a:pt x="761" y="1240"/>
                              </a:lnTo>
                              <a:lnTo>
                                <a:pt x="815" y="1219"/>
                              </a:lnTo>
                              <a:lnTo>
                                <a:pt x="866" y="1193"/>
                              </a:lnTo>
                              <a:lnTo>
                                <a:pt x="915" y="1161"/>
                              </a:lnTo>
                              <a:lnTo>
                                <a:pt x="960" y="1124"/>
                              </a:lnTo>
                              <a:lnTo>
                                <a:pt x="1002" y="1084"/>
                              </a:lnTo>
                              <a:lnTo>
                                <a:pt x="1039" y="1038"/>
                              </a:lnTo>
                              <a:lnTo>
                                <a:pt x="1073" y="989"/>
                              </a:lnTo>
                              <a:lnTo>
                                <a:pt x="1103" y="937"/>
                              </a:lnTo>
                              <a:lnTo>
                                <a:pt x="1127" y="881"/>
                              </a:lnTo>
                              <a:lnTo>
                                <a:pt x="1147" y="823"/>
                              </a:lnTo>
                              <a:lnTo>
                                <a:pt x="1162" y="762"/>
                              </a:lnTo>
                              <a:lnTo>
                                <a:pt x="1170" y="699"/>
                              </a:lnTo>
                              <a:lnTo>
                                <a:pt x="1173" y="634"/>
                              </a:lnTo>
                              <a:lnTo>
                                <a:pt x="1170" y="569"/>
                              </a:lnTo>
                              <a:lnTo>
                                <a:pt x="1162" y="506"/>
                              </a:lnTo>
                              <a:lnTo>
                                <a:pt x="1147" y="445"/>
                              </a:lnTo>
                              <a:lnTo>
                                <a:pt x="1127" y="387"/>
                              </a:lnTo>
                              <a:lnTo>
                                <a:pt x="1103" y="332"/>
                              </a:lnTo>
                              <a:lnTo>
                                <a:pt x="1073" y="280"/>
                              </a:lnTo>
                              <a:lnTo>
                                <a:pt x="1039" y="231"/>
                              </a:lnTo>
                              <a:lnTo>
                                <a:pt x="1002" y="186"/>
                              </a:lnTo>
                              <a:lnTo>
                                <a:pt x="960" y="145"/>
                              </a:lnTo>
                              <a:lnTo>
                                <a:pt x="915" y="108"/>
                              </a:lnTo>
                              <a:lnTo>
                                <a:pt x="866" y="77"/>
                              </a:lnTo>
                              <a:lnTo>
                                <a:pt x="815" y="50"/>
                              </a:lnTo>
                              <a:lnTo>
                                <a:pt x="761" y="29"/>
                              </a:lnTo>
                              <a:lnTo>
                                <a:pt x="705" y="13"/>
                              </a:lnTo>
                              <a:lnTo>
                                <a:pt x="647" y="3"/>
                              </a:lnTo>
                              <a:lnTo>
                                <a:pt x="587" y="0"/>
                              </a:lnTo>
                              <a:lnTo>
                                <a:pt x="527" y="3"/>
                              </a:lnTo>
                              <a:lnTo>
                                <a:pt x="469" y="13"/>
                              </a:lnTo>
                              <a:lnTo>
                                <a:pt x="412" y="29"/>
                              </a:lnTo>
                              <a:lnTo>
                                <a:pt x="359" y="50"/>
                              </a:lnTo>
                              <a:lnTo>
                                <a:pt x="307" y="77"/>
                              </a:lnTo>
                              <a:lnTo>
                                <a:pt x="259" y="108"/>
                              </a:lnTo>
                              <a:lnTo>
                                <a:pt x="214" y="145"/>
                              </a:lnTo>
                              <a:lnTo>
                                <a:pt x="172" y="186"/>
                              </a:lnTo>
                              <a:lnTo>
                                <a:pt x="134" y="231"/>
                              </a:lnTo>
                              <a:lnTo>
                                <a:pt x="100" y="280"/>
                              </a:lnTo>
                              <a:lnTo>
                                <a:pt x="70" y="332"/>
                              </a:lnTo>
                              <a:lnTo>
                                <a:pt x="46" y="387"/>
                              </a:lnTo>
                              <a:lnTo>
                                <a:pt x="26" y="445"/>
                              </a:lnTo>
                              <a:lnTo>
                                <a:pt x="11" y="506"/>
                              </a:lnTo>
                              <a:lnTo>
                                <a:pt x="3" y="569"/>
                              </a:lnTo>
                              <a:lnTo>
                                <a:pt x="0" y="634"/>
                              </a:lnTo>
                              <a:lnTo>
                                <a:pt x="3" y="699"/>
                              </a:lnTo>
                              <a:lnTo>
                                <a:pt x="11" y="762"/>
                              </a:lnTo>
                              <a:lnTo>
                                <a:pt x="26" y="823"/>
                              </a:lnTo>
                              <a:lnTo>
                                <a:pt x="46" y="881"/>
                              </a:lnTo>
                              <a:lnTo>
                                <a:pt x="70" y="937"/>
                              </a:lnTo>
                              <a:lnTo>
                                <a:pt x="100" y="989"/>
                              </a:lnTo>
                              <a:lnTo>
                                <a:pt x="134" y="1038"/>
                              </a:lnTo>
                              <a:lnTo>
                                <a:pt x="172" y="1084"/>
                              </a:lnTo>
                              <a:lnTo>
                                <a:pt x="214" y="1124"/>
                              </a:lnTo>
                              <a:lnTo>
                                <a:pt x="259" y="1161"/>
                              </a:lnTo>
                              <a:lnTo>
                                <a:pt x="307" y="1193"/>
                              </a:lnTo>
                              <a:lnTo>
                                <a:pt x="359" y="1219"/>
                              </a:lnTo>
                              <a:lnTo>
                                <a:pt x="412" y="1240"/>
                              </a:lnTo>
                              <a:lnTo>
                                <a:pt x="469" y="1257"/>
                              </a:lnTo>
                              <a:lnTo>
                                <a:pt x="527" y="1266"/>
                              </a:lnTo>
                              <a:lnTo>
                                <a:pt x="587" y="126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4e8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>
                          <a:off x="3659760" y="5140080"/>
                          <a:ext cx="208080" cy="183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5" h="1225">
                              <a:moveTo>
                                <a:pt x="568" y="1225"/>
                              </a:moveTo>
                              <a:lnTo>
                                <a:pt x="626" y="1222"/>
                              </a:lnTo>
                              <a:lnTo>
                                <a:pt x="682" y="1212"/>
                              </a:lnTo>
                              <a:lnTo>
                                <a:pt x="736" y="1197"/>
                              </a:lnTo>
                              <a:lnTo>
                                <a:pt x="788" y="1177"/>
                              </a:lnTo>
                              <a:lnTo>
                                <a:pt x="838" y="1151"/>
                              </a:lnTo>
                              <a:lnTo>
                                <a:pt x="884" y="1121"/>
                              </a:lnTo>
                              <a:lnTo>
                                <a:pt x="928" y="1086"/>
                              </a:lnTo>
                              <a:lnTo>
                                <a:pt x="968" y="1045"/>
                              </a:lnTo>
                              <a:lnTo>
                                <a:pt x="1005" y="1002"/>
                              </a:lnTo>
                              <a:lnTo>
                                <a:pt x="1037" y="955"/>
                              </a:lnTo>
                              <a:lnTo>
                                <a:pt x="1066" y="905"/>
                              </a:lnTo>
                              <a:lnTo>
                                <a:pt x="1089" y="851"/>
                              </a:lnTo>
                              <a:lnTo>
                                <a:pt x="1109" y="794"/>
                              </a:lnTo>
                              <a:lnTo>
                                <a:pt x="1123" y="736"/>
                              </a:lnTo>
                              <a:lnTo>
                                <a:pt x="1131" y="675"/>
                              </a:lnTo>
                              <a:lnTo>
                                <a:pt x="1135" y="612"/>
                              </a:lnTo>
                              <a:lnTo>
                                <a:pt x="1131" y="549"/>
                              </a:lnTo>
                              <a:lnTo>
                                <a:pt x="1123" y="489"/>
                              </a:lnTo>
                              <a:lnTo>
                                <a:pt x="1109" y="431"/>
                              </a:lnTo>
                              <a:lnTo>
                                <a:pt x="1089" y="374"/>
                              </a:lnTo>
                              <a:lnTo>
                                <a:pt x="1066" y="320"/>
                              </a:lnTo>
                              <a:lnTo>
                                <a:pt x="1037" y="270"/>
                              </a:lnTo>
                              <a:lnTo>
                                <a:pt x="1005" y="223"/>
                              </a:lnTo>
                              <a:lnTo>
                                <a:pt x="968" y="180"/>
                              </a:lnTo>
                              <a:lnTo>
                                <a:pt x="928" y="140"/>
                              </a:lnTo>
                              <a:lnTo>
                                <a:pt x="884" y="104"/>
                              </a:lnTo>
                              <a:lnTo>
                                <a:pt x="838" y="74"/>
                              </a:lnTo>
                              <a:lnTo>
                                <a:pt x="788" y="49"/>
                              </a:lnTo>
                              <a:lnTo>
                                <a:pt x="736" y="28"/>
                              </a:lnTo>
                              <a:lnTo>
                                <a:pt x="682" y="13"/>
                              </a:lnTo>
                              <a:lnTo>
                                <a:pt x="626" y="3"/>
                              </a:lnTo>
                              <a:lnTo>
                                <a:pt x="568" y="0"/>
                              </a:lnTo>
                              <a:lnTo>
                                <a:pt x="510" y="3"/>
                              </a:lnTo>
                              <a:lnTo>
                                <a:pt x="453" y="13"/>
                              </a:lnTo>
                              <a:lnTo>
                                <a:pt x="399" y="28"/>
                              </a:lnTo>
                              <a:lnTo>
                                <a:pt x="347" y="49"/>
                              </a:lnTo>
                              <a:lnTo>
                                <a:pt x="297" y="74"/>
                              </a:lnTo>
                              <a:lnTo>
                                <a:pt x="251" y="104"/>
                              </a:lnTo>
                              <a:lnTo>
                                <a:pt x="207" y="140"/>
                              </a:lnTo>
                              <a:lnTo>
                                <a:pt x="166" y="180"/>
                              </a:lnTo>
                              <a:lnTo>
                                <a:pt x="130" y="223"/>
                              </a:lnTo>
                              <a:lnTo>
                                <a:pt x="98" y="270"/>
                              </a:lnTo>
                              <a:lnTo>
                                <a:pt x="69" y="320"/>
                              </a:lnTo>
                              <a:lnTo>
                                <a:pt x="44" y="374"/>
                              </a:lnTo>
                              <a:lnTo>
                                <a:pt x="26" y="431"/>
                              </a:lnTo>
                              <a:lnTo>
                                <a:pt x="12" y="489"/>
                              </a:lnTo>
                              <a:lnTo>
                                <a:pt x="4" y="549"/>
                              </a:lnTo>
                              <a:lnTo>
                                <a:pt x="0" y="612"/>
                              </a:lnTo>
                              <a:lnTo>
                                <a:pt x="4" y="675"/>
                              </a:lnTo>
                              <a:lnTo>
                                <a:pt x="12" y="736"/>
                              </a:lnTo>
                              <a:lnTo>
                                <a:pt x="26" y="794"/>
                              </a:lnTo>
                              <a:lnTo>
                                <a:pt x="44" y="851"/>
                              </a:lnTo>
                              <a:lnTo>
                                <a:pt x="69" y="905"/>
                              </a:lnTo>
                              <a:lnTo>
                                <a:pt x="98" y="955"/>
                              </a:lnTo>
                              <a:lnTo>
                                <a:pt x="130" y="1002"/>
                              </a:lnTo>
                              <a:lnTo>
                                <a:pt x="166" y="1045"/>
                              </a:lnTo>
                              <a:lnTo>
                                <a:pt x="207" y="1086"/>
                              </a:lnTo>
                              <a:lnTo>
                                <a:pt x="251" y="1121"/>
                              </a:lnTo>
                              <a:lnTo>
                                <a:pt x="297" y="1151"/>
                              </a:lnTo>
                              <a:lnTo>
                                <a:pt x="347" y="1177"/>
                              </a:lnTo>
                              <a:lnTo>
                                <a:pt x="399" y="1197"/>
                              </a:lnTo>
                              <a:lnTo>
                                <a:pt x="453" y="1212"/>
                              </a:lnTo>
                              <a:lnTo>
                                <a:pt x="510" y="1222"/>
                              </a:lnTo>
                              <a:lnTo>
                                <a:pt x="568" y="12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9e8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9" name=""/>
                        <p:cNvSpPr/>
                        <p:nvPr/>
                      </p:nvSpPr>
                      <p:spPr>
                        <a:xfrm>
                          <a:off x="3663360" y="5144040"/>
                          <a:ext cx="200880" cy="176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94" h="1181">
                              <a:moveTo>
                                <a:pt x="548" y="1181"/>
                              </a:moveTo>
                              <a:lnTo>
                                <a:pt x="604" y="1178"/>
                              </a:lnTo>
                              <a:lnTo>
                                <a:pt x="658" y="1169"/>
                              </a:lnTo>
                              <a:lnTo>
                                <a:pt x="710" y="1154"/>
                              </a:lnTo>
                              <a:lnTo>
                                <a:pt x="760" y="1135"/>
                              </a:lnTo>
                              <a:lnTo>
                                <a:pt x="808" y="1110"/>
                              </a:lnTo>
                              <a:lnTo>
                                <a:pt x="853" y="1080"/>
                              </a:lnTo>
                              <a:lnTo>
                                <a:pt x="896" y="1046"/>
                              </a:lnTo>
                              <a:lnTo>
                                <a:pt x="934" y="1008"/>
                              </a:lnTo>
                              <a:lnTo>
                                <a:pt x="969" y="966"/>
                              </a:lnTo>
                              <a:lnTo>
                                <a:pt x="1001" y="921"/>
                              </a:lnTo>
                              <a:lnTo>
                                <a:pt x="1028" y="872"/>
                              </a:lnTo>
                              <a:lnTo>
                                <a:pt x="1051" y="820"/>
                              </a:lnTo>
                              <a:lnTo>
                                <a:pt x="1069" y="765"/>
                              </a:lnTo>
                              <a:lnTo>
                                <a:pt x="1082" y="710"/>
                              </a:lnTo>
                              <a:lnTo>
                                <a:pt x="1091" y="650"/>
                              </a:lnTo>
                              <a:lnTo>
                                <a:pt x="1094" y="590"/>
                              </a:lnTo>
                              <a:lnTo>
                                <a:pt x="1091" y="530"/>
                              </a:lnTo>
                              <a:lnTo>
                                <a:pt x="1082" y="471"/>
                              </a:lnTo>
                              <a:lnTo>
                                <a:pt x="1069" y="415"/>
                              </a:lnTo>
                              <a:lnTo>
                                <a:pt x="1051" y="360"/>
                              </a:lnTo>
                              <a:lnTo>
                                <a:pt x="1028" y="309"/>
                              </a:lnTo>
                              <a:lnTo>
                                <a:pt x="1001" y="260"/>
                              </a:lnTo>
                              <a:lnTo>
                                <a:pt x="969" y="215"/>
                              </a:lnTo>
                              <a:lnTo>
                                <a:pt x="934" y="173"/>
                              </a:lnTo>
                              <a:lnTo>
                                <a:pt x="896" y="135"/>
                              </a:lnTo>
                              <a:lnTo>
                                <a:pt x="853" y="101"/>
                              </a:lnTo>
                              <a:lnTo>
                                <a:pt x="808" y="71"/>
                              </a:lnTo>
                              <a:lnTo>
                                <a:pt x="760" y="46"/>
                              </a:lnTo>
                              <a:lnTo>
                                <a:pt x="710" y="27"/>
                              </a:lnTo>
                              <a:lnTo>
                                <a:pt x="658" y="12"/>
                              </a:lnTo>
                              <a:lnTo>
                                <a:pt x="604" y="3"/>
                              </a:lnTo>
                              <a:lnTo>
                                <a:pt x="548" y="0"/>
                              </a:lnTo>
                              <a:lnTo>
                                <a:pt x="492" y="3"/>
                              </a:lnTo>
                              <a:lnTo>
                                <a:pt x="438" y="12"/>
                              </a:lnTo>
                              <a:lnTo>
                                <a:pt x="385" y="27"/>
                              </a:lnTo>
                              <a:lnTo>
                                <a:pt x="335" y="46"/>
                              </a:lnTo>
                              <a:lnTo>
                                <a:pt x="287" y="71"/>
                              </a:lnTo>
                              <a:lnTo>
                                <a:pt x="242" y="101"/>
                              </a:lnTo>
                              <a:lnTo>
                                <a:pt x="199" y="135"/>
                              </a:lnTo>
                              <a:lnTo>
                                <a:pt x="161" y="173"/>
                              </a:lnTo>
                              <a:lnTo>
                                <a:pt x="125" y="215"/>
                              </a:lnTo>
                              <a:lnTo>
                                <a:pt x="94" y="260"/>
                              </a:lnTo>
                              <a:lnTo>
                                <a:pt x="66" y="309"/>
                              </a:lnTo>
                              <a:lnTo>
                                <a:pt x="43" y="360"/>
                              </a:lnTo>
                              <a:lnTo>
                                <a:pt x="24" y="415"/>
                              </a:lnTo>
                              <a:lnTo>
                                <a:pt x="12" y="471"/>
                              </a:lnTo>
                              <a:lnTo>
                                <a:pt x="2" y="530"/>
                              </a:lnTo>
                              <a:lnTo>
                                <a:pt x="0" y="590"/>
                              </a:lnTo>
                              <a:lnTo>
                                <a:pt x="2" y="650"/>
                              </a:lnTo>
                              <a:lnTo>
                                <a:pt x="12" y="710"/>
                              </a:lnTo>
                              <a:lnTo>
                                <a:pt x="24" y="765"/>
                              </a:lnTo>
                              <a:lnTo>
                                <a:pt x="43" y="820"/>
                              </a:lnTo>
                              <a:lnTo>
                                <a:pt x="66" y="872"/>
                              </a:lnTo>
                              <a:lnTo>
                                <a:pt x="94" y="921"/>
                              </a:lnTo>
                              <a:lnTo>
                                <a:pt x="125" y="966"/>
                              </a:lnTo>
                              <a:lnTo>
                                <a:pt x="161" y="1008"/>
                              </a:lnTo>
                              <a:lnTo>
                                <a:pt x="199" y="1046"/>
                              </a:lnTo>
                              <a:lnTo>
                                <a:pt x="242" y="1080"/>
                              </a:lnTo>
                              <a:lnTo>
                                <a:pt x="287" y="1110"/>
                              </a:lnTo>
                              <a:lnTo>
                                <a:pt x="335" y="1135"/>
                              </a:lnTo>
                              <a:lnTo>
                                <a:pt x="385" y="1154"/>
                              </a:lnTo>
                              <a:lnTo>
                                <a:pt x="438" y="1169"/>
                              </a:lnTo>
                              <a:lnTo>
                                <a:pt x="492" y="1178"/>
                              </a:lnTo>
                              <a:lnTo>
                                <a:pt x="548" y="118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1eaed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0" name=""/>
                        <p:cNvSpPr/>
                        <p:nvPr/>
                      </p:nvSpPr>
                      <p:spPr>
                        <a:xfrm>
                          <a:off x="3667320" y="5146920"/>
                          <a:ext cx="193320" cy="171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2" h="1138">
                              <a:moveTo>
                                <a:pt x="527" y="1138"/>
                              </a:moveTo>
                              <a:lnTo>
                                <a:pt x="580" y="1134"/>
                              </a:lnTo>
                              <a:lnTo>
                                <a:pt x="632" y="1126"/>
                              </a:lnTo>
                              <a:lnTo>
                                <a:pt x="683" y="1112"/>
                              </a:lnTo>
                              <a:lnTo>
                                <a:pt x="731" y="1093"/>
                              </a:lnTo>
                              <a:lnTo>
                                <a:pt x="777" y="1069"/>
                              </a:lnTo>
                              <a:lnTo>
                                <a:pt x="820" y="1040"/>
                              </a:lnTo>
                              <a:lnTo>
                                <a:pt x="861" y="1008"/>
                              </a:lnTo>
                              <a:lnTo>
                                <a:pt x="898" y="971"/>
                              </a:lnTo>
                              <a:lnTo>
                                <a:pt x="931" y="930"/>
                              </a:lnTo>
                              <a:lnTo>
                                <a:pt x="963" y="886"/>
                              </a:lnTo>
                              <a:lnTo>
                                <a:pt x="988" y="840"/>
                              </a:lnTo>
                              <a:lnTo>
                                <a:pt x="1010" y="790"/>
                              </a:lnTo>
                              <a:lnTo>
                                <a:pt x="1029" y="737"/>
                              </a:lnTo>
                              <a:lnTo>
                                <a:pt x="1041" y="683"/>
                              </a:lnTo>
                              <a:lnTo>
                                <a:pt x="1050" y="626"/>
                              </a:lnTo>
                              <a:lnTo>
                                <a:pt x="1052" y="568"/>
                              </a:lnTo>
                              <a:lnTo>
                                <a:pt x="1050" y="510"/>
                              </a:lnTo>
                              <a:lnTo>
                                <a:pt x="1041" y="454"/>
                              </a:lnTo>
                              <a:lnTo>
                                <a:pt x="1029" y="399"/>
                              </a:lnTo>
                              <a:lnTo>
                                <a:pt x="1010" y="347"/>
                              </a:lnTo>
                              <a:lnTo>
                                <a:pt x="988" y="297"/>
                              </a:lnTo>
                              <a:lnTo>
                                <a:pt x="963" y="251"/>
                              </a:lnTo>
                              <a:lnTo>
                                <a:pt x="931" y="207"/>
                              </a:lnTo>
                              <a:lnTo>
                                <a:pt x="898" y="167"/>
                              </a:lnTo>
                              <a:lnTo>
                                <a:pt x="861" y="130"/>
                              </a:lnTo>
                              <a:lnTo>
                                <a:pt x="820" y="97"/>
                              </a:lnTo>
                              <a:lnTo>
                                <a:pt x="777" y="68"/>
                              </a:lnTo>
                              <a:lnTo>
                                <a:pt x="731" y="45"/>
                              </a:lnTo>
                              <a:lnTo>
                                <a:pt x="683" y="25"/>
                              </a:lnTo>
                              <a:lnTo>
                                <a:pt x="632" y="11"/>
                              </a:lnTo>
                              <a:lnTo>
                                <a:pt x="580" y="3"/>
                              </a:lnTo>
                              <a:lnTo>
                                <a:pt x="527" y="0"/>
                              </a:lnTo>
                              <a:lnTo>
                                <a:pt x="473" y="3"/>
                              </a:lnTo>
                              <a:lnTo>
                                <a:pt x="420" y="11"/>
                              </a:lnTo>
                              <a:lnTo>
                                <a:pt x="369" y="25"/>
                              </a:lnTo>
                              <a:lnTo>
                                <a:pt x="322" y="45"/>
                              </a:lnTo>
                              <a:lnTo>
                                <a:pt x="276" y="68"/>
                              </a:lnTo>
                              <a:lnTo>
                                <a:pt x="232" y="97"/>
                              </a:lnTo>
                              <a:lnTo>
                                <a:pt x="191" y="130"/>
                              </a:lnTo>
                              <a:lnTo>
                                <a:pt x="154" y="167"/>
                              </a:lnTo>
                              <a:lnTo>
                                <a:pt x="120" y="207"/>
                              </a:lnTo>
                              <a:lnTo>
                                <a:pt x="90" y="251"/>
                              </a:lnTo>
                              <a:lnTo>
                                <a:pt x="64" y="297"/>
                              </a:lnTo>
                              <a:lnTo>
                                <a:pt x="42" y="347"/>
                              </a:lnTo>
                              <a:lnTo>
                                <a:pt x="23" y="399"/>
                              </a:lnTo>
                              <a:lnTo>
                                <a:pt x="10" y="454"/>
                              </a:lnTo>
                              <a:lnTo>
                                <a:pt x="2" y="510"/>
                              </a:lnTo>
                              <a:lnTo>
                                <a:pt x="0" y="568"/>
                              </a:lnTo>
                              <a:lnTo>
                                <a:pt x="2" y="626"/>
                              </a:lnTo>
                              <a:lnTo>
                                <a:pt x="10" y="683"/>
                              </a:lnTo>
                              <a:lnTo>
                                <a:pt x="23" y="737"/>
                              </a:lnTo>
                              <a:lnTo>
                                <a:pt x="42" y="790"/>
                              </a:lnTo>
                              <a:lnTo>
                                <a:pt x="64" y="840"/>
                              </a:lnTo>
                              <a:lnTo>
                                <a:pt x="90" y="886"/>
                              </a:lnTo>
                              <a:lnTo>
                                <a:pt x="120" y="930"/>
                              </a:lnTo>
                              <a:lnTo>
                                <a:pt x="154" y="971"/>
                              </a:lnTo>
                              <a:lnTo>
                                <a:pt x="191" y="1008"/>
                              </a:lnTo>
                              <a:lnTo>
                                <a:pt x="232" y="1040"/>
                              </a:lnTo>
                              <a:lnTo>
                                <a:pt x="276" y="1069"/>
                              </a:lnTo>
                              <a:lnTo>
                                <a:pt x="322" y="1093"/>
                              </a:lnTo>
                              <a:lnTo>
                                <a:pt x="369" y="1112"/>
                              </a:lnTo>
                              <a:lnTo>
                                <a:pt x="420" y="1126"/>
                              </a:lnTo>
                              <a:lnTo>
                                <a:pt x="473" y="1134"/>
                              </a:lnTo>
                              <a:lnTo>
                                <a:pt x="527" y="11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6eded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>
                          <a:off x="3670920" y="5149800"/>
                          <a:ext cx="186120" cy="16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12" h="1094">
                              <a:moveTo>
                                <a:pt x="507" y="1094"/>
                              </a:moveTo>
                              <a:lnTo>
                                <a:pt x="558" y="1092"/>
                              </a:lnTo>
                              <a:lnTo>
                                <a:pt x="609" y="1082"/>
                              </a:lnTo>
                              <a:lnTo>
                                <a:pt x="656" y="1070"/>
                              </a:lnTo>
                              <a:lnTo>
                                <a:pt x="703" y="1051"/>
                              </a:lnTo>
                              <a:lnTo>
                                <a:pt x="747" y="1028"/>
                              </a:lnTo>
                              <a:lnTo>
                                <a:pt x="789" y="1000"/>
                              </a:lnTo>
                              <a:lnTo>
                                <a:pt x="828" y="968"/>
                              </a:lnTo>
                              <a:lnTo>
                                <a:pt x="864" y="934"/>
                              </a:lnTo>
                              <a:lnTo>
                                <a:pt x="896" y="894"/>
                              </a:lnTo>
                              <a:lnTo>
                                <a:pt x="925" y="852"/>
                              </a:lnTo>
                              <a:lnTo>
                                <a:pt x="951" y="807"/>
                              </a:lnTo>
                              <a:lnTo>
                                <a:pt x="973" y="759"/>
                              </a:lnTo>
                              <a:lnTo>
                                <a:pt x="989" y="708"/>
                              </a:lnTo>
                              <a:lnTo>
                                <a:pt x="1002" y="656"/>
                              </a:lnTo>
                              <a:lnTo>
                                <a:pt x="1010" y="601"/>
                              </a:lnTo>
                              <a:lnTo>
                                <a:pt x="1012" y="546"/>
                              </a:lnTo>
                              <a:lnTo>
                                <a:pt x="1010" y="490"/>
                              </a:lnTo>
                              <a:lnTo>
                                <a:pt x="1002" y="435"/>
                              </a:lnTo>
                              <a:lnTo>
                                <a:pt x="989" y="383"/>
                              </a:lnTo>
                              <a:lnTo>
                                <a:pt x="973" y="333"/>
                              </a:lnTo>
                              <a:lnTo>
                                <a:pt x="951" y="286"/>
                              </a:lnTo>
                              <a:lnTo>
                                <a:pt x="925" y="240"/>
                              </a:lnTo>
                              <a:lnTo>
                                <a:pt x="896" y="199"/>
                              </a:lnTo>
                              <a:lnTo>
                                <a:pt x="864" y="160"/>
                              </a:lnTo>
                              <a:lnTo>
                                <a:pt x="828" y="125"/>
                              </a:lnTo>
                              <a:lnTo>
                                <a:pt x="789" y="93"/>
                              </a:lnTo>
                              <a:lnTo>
                                <a:pt x="747" y="66"/>
                              </a:lnTo>
                              <a:lnTo>
                                <a:pt x="703" y="43"/>
                              </a:lnTo>
                              <a:lnTo>
                                <a:pt x="656" y="24"/>
                              </a:lnTo>
                              <a:lnTo>
                                <a:pt x="609" y="12"/>
                              </a:lnTo>
                              <a:lnTo>
                                <a:pt x="558" y="2"/>
                              </a:lnTo>
                              <a:lnTo>
                                <a:pt x="507" y="0"/>
                              </a:lnTo>
                              <a:lnTo>
                                <a:pt x="455" y="2"/>
                              </a:lnTo>
                              <a:lnTo>
                                <a:pt x="405" y="12"/>
                              </a:lnTo>
                              <a:lnTo>
                                <a:pt x="356" y="24"/>
                              </a:lnTo>
                              <a:lnTo>
                                <a:pt x="309" y="43"/>
                              </a:lnTo>
                              <a:lnTo>
                                <a:pt x="265" y="66"/>
                              </a:lnTo>
                              <a:lnTo>
                                <a:pt x="223" y="93"/>
                              </a:lnTo>
                              <a:lnTo>
                                <a:pt x="184" y="125"/>
                              </a:lnTo>
                              <a:lnTo>
                                <a:pt x="148" y="160"/>
                              </a:lnTo>
                              <a:lnTo>
                                <a:pt x="115" y="199"/>
                              </a:lnTo>
                              <a:lnTo>
                                <a:pt x="86" y="240"/>
                              </a:lnTo>
                              <a:lnTo>
                                <a:pt x="61" y="286"/>
                              </a:lnTo>
                              <a:lnTo>
                                <a:pt x="39" y="333"/>
                              </a:lnTo>
                              <a:lnTo>
                                <a:pt x="23" y="383"/>
                              </a:lnTo>
                              <a:lnTo>
                                <a:pt x="10" y="435"/>
                              </a:lnTo>
                              <a:lnTo>
                                <a:pt x="2" y="490"/>
                              </a:lnTo>
                              <a:lnTo>
                                <a:pt x="0" y="546"/>
                              </a:lnTo>
                              <a:lnTo>
                                <a:pt x="2" y="601"/>
                              </a:lnTo>
                              <a:lnTo>
                                <a:pt x="10" y="656"/>
                              </a:lnTo>
                              <a:lnTo>
                                <a:pt x="23" y="708"/>
                              </a:lnTo>
                              <a:lnTo>
                                <a:pt x="39" y="759"/>
                              </a:lnTo>
                              <a:lnTo>
                                <a:pt x="61" y="807"/>
                              </a:lnTo>
                              <a:lnTo>
                                <a:pt x="86" y="852"/>
                              </a:lnTo>
                              <a:lnTo>
                                <a:pt x="115" y="894"/>
                              </a:lnTo>
                              <a:lnTo>
                                <a:pt x="148" y="934"/>
                              </a:lnTo>
                              <a:lnTo>
                                <a:pt x="184" y="968"/>
                              </a:lnTo>
                              <a:lnTo>
                                <a:pt x="223" y="1000"/>
                              </a:lnTo>
                              <a:lnTo>
                                <a:pt x="265" y="1028"/>
                              </a:lnTo>
                              <a:lnTo>
                                <a:pt x="309" y="1051"/>
                              </a:lnTo>
                              <a:lnTo>
                                <a:pt x="356" y="1070"/>
                              </a:lnTo>
                              <a:lnTo>
                                <a:pt x="405" y="1082"/>
                              </a:lnTo>
                              <a:lnTo>
                                <a:pt x="455" y="1092"/>
                              </a:lnTo>
                              <a:lnTo>
                                <a:pt x="507" y="109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beded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2" name=""/>
                        <p:cNvSpPr/>
                        <p:nvPr/>
                      </p:nvSpPr>
                      <p:spPr>
                        <a:xfrm>
                          <a:off x="3674520" y="5153760"/>
                          <a:ext cx="178920" cy="15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71" h="1050">
                              <a:moveTo>
                                <a:pt x="487" y="1050"/>
                              </a:moveTo>
                              <a:lnTo>
                                <a:pt x="537" y="1047"/>
                              </a:lnTo>
                              <a:lnTo>
                                <a:pt x="584" y="1039"/>
                              </a:lnTo>
                              <a:lnTo>
                                <a:pt x="631" y="1026"/>
                              </a:lnTo>
                              <a:lnTo>
                                <a:pt x="675" y="1009"/>
                              </a:lnTo>
                              <a:lnTo>
                                <a:pt x="718" y="987"/>
                              </a:lnTo>
                              <a:lnTo>
                                <a:pt x="757" y="960"/>
                              </a:lnTo>
                              <a:lnTo>
                                <a:pt x="795" y="930"/>
                              </a:lnTo>
                              <a:lnTo>
                                <a:pt x="829" y="896"/>
                              </a:lnTo>
                              <a:lnTo>
                                <a:pt x="860" y="859"/>
                              </a:lnTo>
                              <a:lnTo>
                                <a:pt x="888" y="819"/>
                              </a:lnTo>
                              <a:lnTo>
                                <a:pt x="912" y="776"/>
                              </a:lnTo>
                              <a:lnTo>
                                <a:pt x="933" y="729"/>
                              </a:lnTo>
                              <a:lnTo>
                                <a:pt x="949" y="682"/>
                              </a:lnTo>
                              <a:lnTo>
                                <a:pt x="961" y="630"/>
                              </a:lnTo>
                              <a:lnTo>
                                <a:pt x="969" y="578"/>
                              </a:lnTo>
                              <a:lnTo>
                                <a:pt x="971" y="525"/>
                              </a:lnTo>
                              <a:lnTo>
                                <a:pt x="969" y="471"/>
                              </a:lnTo>
                              <a:lnTo>
                                <a:pt x="961" y="419"/>
                              </a:lnTo>
                              <a:lnTo>
                                <a:pt x="949" y="369"/>
                              </a:lnTo>
                              <a:lnTo>
                                <a:pt x="933" y="320"/>
                              </a:lnTo>
                              <a:lnTo>
                                <a:pt x="912" y="275"/>
                              </a:lnTo>
                              <a:lnTo>
                                <a:pt x="888" y="232"/>
                              </a:lnTo>
                              <a:lnTo>
                                <a:pt x="860" y="191"/>
                              </a:lnTo>
                              <a:lnTo>
                                <a:pt x="829" y="154"/>
                              </a:lnTo>
                              <a:lnTo>
                                <a:pt x="795" y="119"/>
                              </a:lnTo>
                              <a:lnTo>
                                <a:pt x="757" y="89"/>
                              </a:lnTo>
                              <a:lnTo>
                                <a:pt x="718" y="64"/>
                              </a:lnTo>
                              <a:lnTo>
                                <a:pt x="675" y="42"/>
                              </a:lnTo>
                              <a:lnTo>
                                <a:pt x="631" y="23"/>
                              </a:lnTo>
                              <a:lnTo>
                                <a:pt x="584" y="10"/>
                              </a:lnTo>
                              <a:lnTo>
                                <a:pt x="537" y="2"/>
                              </a:lnTo>
                              <a:lnTo>
                                <a:pt x="487" y="0"/>
                              </a:lnTo>
                              <a:lnTo>
                                <a:pt x="437" y="2"/>
                              </a:lnTo>
                              <a:lnTo>
                                <a:pt x="389" y="10"/>
                              </a:lnTo>
                              <a:lnTo>
                                <a:pt x="342" y="23"/>
                              </a:lnTo>
                              <a:lnTo>
                                <a:pt x="298" y="42"/>
                              </a:lnTo>
                              <a:lnTo>
                                <a:pt x="255" y="64"/>
                              </a:lnTo>
                              <a:lnTo>
                                <a:pt x="215" y="89"/>
                              </a:lnTo>
                              <a:lnTo>
                                <a:pt x="178" y="119"/>
                              </a:lnTo>
                              <a:lnTo>
                                <a:pt x="143" y="154"/>
                              </a:lnTo>
                              <a:lnTo>
                                <a:pt x="112" y="191"/>
                              </a:lnTo>
                              <a:lnTo>
                                <a:pt x="84" y="232"/>
                              </a:lnTo>
                              <a:lnTo>
                                <a:pt x="59" y="275"/>
                              </a:lnTo>
                              <a:lnTo>
                                <a:pt x="39" y="320"/>
                              </a:lnTo>
                              <a:lnTo>
                                <a:pt x="22" y="369"/>
                              </a:lnTo>
                              <a:lnTo>
                                <a:pt x="11" y="419"/>
                              </a:lnTo>
                              <a:lnTo>
                                <a:pt x="3" y="471"/>
                              </a:lnTo>
                              <a:lnTo>
                                <a:pt x="0" y="525"/>
                              </a:lnTo>
                              <a:lnTo>
                                <a:pt x="3" y="578"/>
                              </a:lnTo>
                              <a:lnTo>
                                <a:pt x="11" y="630"/>
                              </a:lnTo>
                              <a:lnTo>
                                <a:pt x="22" y="682"/>
                              </a:lnTo>
                              <a:lnTo>
                                <a:pt x="39" y="729"/>
                              </a:lnTo>
                              <a:lnTo>
                                <a:pt x="59" y="776"/>
                              </a:lnTo>
                              <a:lnTo>
                                <a:pt x="84" y="819"/>
                              </a:lnTo>
                              <a:lnTo>
                                <a:pt x="112" y="859"/>
                              </a:lnTo>
                              <a:lnTo>
                                <a:pt x="143" y="896"/>
                              </a:lnTo>
                              <a:lnTo>
                                <a:pt x="178" y="930"/>
                              </a:lnTo>
                              <a:lnTo>
                                <a:pt x="215" y="960"/>
                              </a:lnTo>
                              <a:lnTo>
                                <a:pt x="255" y="987"/>
                              </a:lnTo>
                              <a:lnTo>
                                <a:pt x="298" y="1009"/>
                              </a:lnTo>
                              <a:lnTo>
                                <a:pt x="342" y="1026"/>
                              </a:lnTo>
                              <a:lnTo>
                                <a:pt x="389" y="1039"/>
                              </a:lnTo>
                              <a:lnTo>
                                <a:pt x="437" y="1047"/>
                              </a:lnTo>
                              <a:lnTo>
                                <a:pt x="487" y="1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eded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3" name=""/>
                        <p:cNvSpPr/>
                        <p:nvPr/>
                      </p:nvSpPr>
                      <p:spPr>
                        <a:xfrm>
                          <a:off x="3678120" y="5156640"/>
                          <a:ext cx="171360" cy="150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2" h="1006">
                              <a:moveTo>
                                <a:pt x="466" y="1006"/>
                              </a:moveTo>
                              <a:lnTo>
                                <a:pt x="513" y="1003"/>
                              </a:lnTo>
                              <a:lnTo>
                                <a:pt x="560" y="995"/>
                              </a:lnTo>
                              <a:lnTo>
                                <a:pt x="605" y="984"/>
                              </a:lnTo>
                              <a:lnTo>
                                <a:pt x="647" y="966"/>
                              </a:lnTo>
                              <a:lnTo>
                                <a:pt x="688" y="945"/>
                              </a:lnTo>
                              <a:lnTo>
                                <a:pt x="727" y="920"/>
                              </a:lnTo>
                              <a:lnTo>
                                <a:pt x="762" y="891"/>
                              </a:lnTo>
                              <a:lnTo>
                                <a:pt x="795" y="858"/>
                              </a:lnTo>
                              <a:lnTo>
                                <a:pt x="825" y="822"/>
                              </a:lnTo>
                              <a:lnTo>
                                <a:pt x="852" y="784"/>
                              </a:lnTo>
                              <a:lnTo>
                                <a:pt x="875" y="742"/>
                              </a:lnTo>
                              <a:lnTo>
                                <a:pt x="895" y="698"/>
                              </a:lnTo>
                              <a:lnTo>
                                <a:pt x="911" y="651"/>
                              </a:lnTo>
                              <a:lnTo>
                                <a:pt x="922" y="604"/>
                              </a:lnTo>
                              <a:lnTo>
                                <a:pt x="929" y="553"/>
                              </a:lnTo>
                              <a:lnTo>
                                <a:pt x="932" y="502"/>
                              </a:lnTo>
                              <a:lnTo>
                                <a:pt x="929" y="450"/>
                              </a:lnTo>
                              <a:lnTo>
                                <a:pt x="922" y="401"/>
                              </a:lnTo>
                              <a:lnTo>
                                <a:pt x="911" y="353"/>
                              </a:lnTo>
                              <a:lnTo>
                                <a:pt x="895" y="306"/>
                              </a:lnTo>
                              <a:lnTo>
                                <a:pt x="875" y="262"/>
                              </a:lnTo>
                              <a:lnTo>
                                <a:pt x="852" y="222"/>
                              </a:lnTo>
                              <a:lnTo>
                                <a:pt x="825" y="182"/>
                              </a:lnTo>
                              <a:lnTo>
                                <a:pt x="795" y="147"/>
                              </a:lnTo>
                              <a:lnTo>
                                <a:pt x="762" y="115"/>
                              </a:lnTo>
                              <a:lnTo>
                                <a:pt x="727" y="86"/>
                              </a:lnTo>
                              <a:lnTo>
                                <a:pt x="688" y="60"/>
                              </a:lnTo>
                              <a:lnTo>
                                <a:pt x="647" y="39"/>
                              </a:lnTo>
                              <a:lnTo>
                                <a:pt x="605" y="22"/>
                              </a:lnTo>
                              <a:lnTo>
                                <a:pt x="560" y="10"/>
                              </a:lnTo>
                              <a:lnTo>
                                <a:pt x="513" y="2"/>
                              </a:lnTo>
                              <a:lnTo>
                                <a:pt x="466" y="0"/>
                              </a:lnTo>
                              <a:lnTo>
                                <a:pt x="418" y="2"/>
                              </a:lnTo>
                              <a:lnTo>
                                <a:pt x="372" y="10"/>
                              </a:lnTo>
                              <a:lnTo>
                                <a:pt x="327" y="22"/>
                              </a:lnTo>
                              <a:lnTo>
                                <a:pt x="285" y="39"/>
                              </a:lnTo>
                              <a:lnTo>
                                <a:pt x="243" y="60"/>
                              </a:lnTo>
                              <a:lnTo>
                                <a:pt x="205" y="86"/>
                              </a:lnTo>
                              <a:lnTo>
                                <a:pt x="169" y="115"/>
                              </a:lnTo>
                              <a:lnTo>
                                <a:pt x="137" y="147"/>
                              </a:lnTo>
                              <a:lnTo>
                                <a:pt x="107" y="182"/>
                              </a:lnTo>
                              <a:lnTo>
                                <a:pt x="80" y="222"/>
                              </a:lnTo>
                              <a:lnTo>
                                <a:pt x="57" y="262"/>
                              </a:lnTo>
                              <a:lnTo>
                                <a:pt x="37" y="306"/>
                              </a:lnTo>
                              <a:lnTo>
                                <a:pt x="21" y="353"/>
                              </a:lnTo>
                              <a:lnTo>
                                <a:pt x="9" y="401"/>
                              </a:lnTo>
                              <a:lnTo>
                                <a:pt x="2" y="450"/>
                              </a:lnTo>
                              <a:lnTo>
                                <a:pt x="0" y="502"/>
                              </a:lnTo>
                              <a:lnTo>
                                <a:pt x="2" y="553"/>
                              </a:lnTo>
                              <a:lnTo>
                                <a:pt x="9" y="604"/>
                              </a:lnTo>
                              <a:lnTo>
                                <a:pt x="21" y="651"/>
                              </a:lnTo>
                              <a:lnTo>
                                <a:pt x="37" y="698"/>
                              </a:lnTo>
                              <a:lnTo>
                                <a:pt x="57" y="742"/>
                              </a:lnTo>
                              <a:lnTo>
                                <a:pt x="80" y="784"/>
                              </a:lnTo>
                              <a:lnTo>
                                <a:pt x="107" y="822"/>
                              </a:lnTo>
                              <a:lnTo>
                                <a:pt x="137" y="858"/>
                              </a:lnTo>
                              <a:lnTo>
                                <a:pt x="169" y="891"/>
                              </a:lnTo>
                              <a:lnTo>
                                <a:pt x="205" y="920"/>
                              </a:lnTo>
                              <a:lnTo>
                                <a:pt x="243" y="945"/>
                              </a:lnTo>
                              <a:lnTo>
                                <a:pt x="285" y="966"/>
                              </a:lnTo>
                              <a:lnTo>
                                <a:pt x="327" y="984"/>
                              </a:lnTo>
                              <a:lnTo>
                                <a:pt x="372" y="995"/>
                              </a:lnTo>
                              <a:lnTo>
                                <a:pt x="418" y="1003"/>
                              </a:lnTo>
                              <a:lnTo>
                                <a:pt x="466" y="10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5ede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>
                          <a:off x="3682800" y="5159520"/>
                          <a:ext cx="163080" cy="144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90" h="963">
                              <a:moveTo>
                                <a:pt x="445" y="963"/>
                              </a:moveTo>
                              <a:lnTo>
                                <a:pt x="490" y="960"/>
                              </a:lnTo>
                              <a:lnTo>
                                <a:pt x="534" y="953"/>
                              </a:lnTo>
                              <a:lnTo>
                                <a:pt x="577" y="940"/>
                              </a:lnTo>
                              <a:lnTo>
                                <a:pt x="618" y="924"/>
                              </a:lnTo>
                              <a:lnTo>
                                <a:pt x="657" y="904"/>
                              </a:lnTo>
                              <a:lnTo>
                                <a:pt x="694" y="880"/>
                              </a:lnTo>
                              <a:lnTo>
                                <a:pt x="728" y="852"/>
                              </a:lnTo>
                              <a:lnTo>
                                <a:pt x="760" y="821"/>
                              </a:lnTo>
                              <a:lnTo>
                                <a:pt x="788" y="787"/>
                              </a:lnTo>
                              <a:lnTo>
                                <a:pt x="813" y="750"/>
                              </a:lnTo>
                              <a:lnTo>
                                <a:pt x="836" y="711"/>
                              </a:lnTo>
                              <a:lnTo>
                                <a:pt x="855" y="668"/>
                              </a:lnTo>
                              <a:lnTo>
                                <a:pt x="870" y="623"/>
                              </a:lnTo>
                              <a:lnTo>
                                <a:pt x="881" y="578"/>
                              </a:lnTo>
                              <a:lnTo>
                                <a:pt x="887" y="529"/>
                              </a:lnTo>
                              <a:lnTo>
                                <a:pt x="890" y="481"/>
                              </a:lnTo>
                              <a:lnTo>
                                <a:pt x="887" y="432"/>
                              </a:lnTo>
                              <a:lnTo>
                                <a:pt x="881" y="384"/>
                              </a:lnTo>
                              <a:lnTo>
                                <a:pt x="870" y="338"/>
                              </a:lnTo>
                              <a:lnTo>
                                <a:pt x="855" y="294"/>
                              </a:lnTo>
                              <a:lnTo>
                                <a:pt x="836" y="252"/>
                              </a:lnTo>
                              <a:lnTo>
                                <a:pt x="813" y="212"/>
                              </a:lnTo>
                              <a:lnTo>
                                <a:pt x="788" y="175"/>
                              </a:lnTo>
                              <a:lnTo>
                                <a:pt x="760" y="140"/>
                              </a:lnTo>
                              <a:lnTo>
                                <a:pt x="728" y="110"/>
                              </a:lnTo>
                              <a:lnTo>
                                <a:pt x="694" y="82"/>
                              </a:lnTo>
                              <a:lnTo>
                                <a:pt x="657" y="58"/>
                              </a:lnTo>
                              <a:lnTo>
                                <a:pt x="618" y="38"/>
                              </a:lnTo>
                              <a:lnTo>
                                <a:pt x="577" y="22"/>
                              </a:lnTo>
                              <a:lnTo>
                                <a:pt x="534" y="9"/>
                              </a:lnTo>
                              <a:lnTo>
                                <a:pt x="490" y="2"/>
                              </a:lnTo>
                              <a:lnTo>
                                <a:pt x="445" y="0"/>
                              </a:lnTo>
                              <a:lnTo>
                                <a:pt x="400" y="2"/>
                              </a:lnTo>
                              <a:lnTo>
                                <a:pt x="356" y="9"/>
                              </a:lnTo>
                              <a:lnTo>
                                <a:pt x="313" y="22"/>
                              </a:lnTo>
                              <a:lnTo>
                                <a:pt x="272" y="38"/>
                              </a:lnTo>
                              <a:lnTo>
                                <a:pt x="233" y="58"/>
                              </a:lnTo>
                              <a:lnTo>
                                <a:pt x="196" y="82"/>
                              </a:lnTo>
                              <a:lnTo>
                                <a:pt x="162" y="110"/>
                              </a:lnTo>
                              <a:lnTo>
                                <a:pt x="131" y="140"/>
                              </a:lnTo>
                              <a:lnTo>
                                <a:pt x="102" y="175"/>
                              </a:lnTo>
                              <a:lnTo>
                                <a:pt x="76" y="212"/>
                              </a:lnTo>
                              <a:lnTo>
                                <a:pt x="53" y="252"/>
                              </a:lnTo>
                              <a:lnTo>
                                <a:pt x="35" y="294"/>
                              </a:lnTo>
                              <a:lnTo>
                                <a:pt x="20" y="338"/>
                              </a:lnTo>
                              <a:lnTo>
                                <a:pt x="9" y="384"/>
                              </a:lnTo>
                              <a:lnTo>
                                <a:pt x="2" y="432"/>
                              </a:lnTo>
                              <a:lnTo>
                                <a:pt x="0" y="481"/>
                              </a:lnTo>
                              <a:lnTo>
                                <a:pt x="2" y="529"/>
                              </a:lnTo>
                              <a:lnTo>
                                <a:pt x="9" y="578"/>
                              </a:lnTo>
                              <a:lnTo>
                                <a:pt x="20" y="623"/>
                              </a:lnTo>
                              <a:lnTo>
                                <a:pt x="35" y="668"/>
                              </a:lnTo>
                              <a:lnTo>
                                <a:pt x="53" y="711"/>
                              </a:lnTo>
                              <a:lnTo>
                                <a:pt x="76" y="750"/>
                              </a:lnTo>
                              <a:lnTo>
                                <a:pt x="102" y="787"/>
                              </a:lnTo>
                              <a:lnTo>
                                <a:pt x="131" y="821"/>
                              </a:lnTo>
                              <a:lnTo>
                                <a:pt x="162" y="852"/>
                              </a:lnTo>
                              <a:lnTo>
                                <a:pt x="196" y="880"/>
                              </a:lnTo>
                              <a:lnTo>
                                <a:pt x="233" y="904"/>
                              </a:lnTo>
                              <a:lnTo>
                                <a:pt x="272" y="924"/>
                              </a:lnTo>
                              <a:lnTo>
                                <a:pt x="313" y="940"/>
                              </a:lnTo>
                              <a:lnTo>
                                <a:pt x="356" y="953"/>
                              </a:lnTo>
                              <a:lnTo>
                                <a:pt x="400" y="960"/>
                              </a:lnTo>
                              <a:lnTo>
                                <a:pt x="445" y="96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defe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>
                          <a:off x="3686400" y="5163480"/>
                          <a:ext cx="155880" cy="137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0" h="918">
                              <a:moveTo>
                                <a:pt x="425" y="918"/>
                              </a:moveTo>
                              <a:lnTo>
                                <a:pt x="468" y="916"/>
                              </a:lnTo>
                              <a:lnTo>
                                <a:pt x="511" y="909"/>
                              </a:lnTo>
                              <a:lnTo>
                                <a:pt x="551" y="898"/>
                              </a:lnTo>
                              <a:lnTo>
                                <a:pt x="591" y="882"/>
                              </a:lnTo>
                              <a:lnTo>
                                <a:pt x="628" y="863"/>
                              </a:lnTo>
                              <a:lnTo>
                                <a:pt x="662" y="840"/>
                              </a:lnTo>
                              <a:lnTo>
                                <a:pt x="695" y="813"/>
                              </a:lnTo>
                              <a:lnTo>
                                <a:pt x="725" y="784"/>
                              </a:lnTo>
                              <a:lnTo>
                                <a:pt x="753" y="751"/>
                              </a:lnTo>
                              <a:lnTo>
                                <a:pt x="777" y="715"/>
                              </a:lnTo>
                              <a:lnTo>
                                <a:pt x="799" y="677"/>
                              </a:lnTo>
                              <a:lnTo>
                                <a:pt x="816" y="637"/>
                              </a:lnTo>
                              <a:lnTo>
                                <a:pt x="830" y="594"/>
                              </a:lnTo>
                              <a:lnTo>
                                <a:pt x="842" y="551"/>
                              </a:lnTo>
                              <a:lnTo>
                                <a:pt x="848" y="505"/>
                              </a:lnTo>
                              <a:lnTo>
                                <a:pt x="850" y="459"/>
                              </a:lnTo>
                              <a:lnTo>
                                <a:pt x="848" y="412"/>
                              </a:lnTo>
                              <a:lnTo>
                                <a:pt x="842" y="366"/>
                              </a:lnTo>
                              <a:lnTo>
                                <a:pt x="830" y="323"/>
                              </a:lnTo>
                              <a:lnTo>
                                <a:pt x="816" y="280"/>
                              </a:lnTo>
                              <a:lnTo>
                                <a:pt x="799" y="240"/>
                              </a:lnTo>
                              <a:lnTo>
                                <a:pt x="777" y="202"/>
                              </a:lnTo>
                              <a:lnTo>
                                <a:pt x="753" y="167"/>
                              </a:lnTo>
                              <a:lnTo>
                                <a:pt x="725" y="135"/>
                              </a:lnTo>
                              <a:lnTo>
                                <a:pt x="695" y="104"/>
                              </a:lnTo>
                              <a:lnTo>
                                <a:pt x="662" y="78"/>
                              </a:lnTo>
                              <a:lnTo>
                                <a:pt x="628" y="56"/>
                              </a:lnTo>
                              <a:lnTo>
                                <a:pt x="591" y="36"/>
                              </a:lnTo>
                              <a:lnTo>
                                <a:pt x="551" y="21"/>
                              </a:lnTo>
                              <a:lnTo>
                                <a:pt x="511" y="9"/>
                              </a:lnTo>
                              <a:lnTo>
                                <a:pt x="468" y="2"/>
                              </a:lnTo>
                              <a:lnTo>
                                <a:pt x="425" y="0"/>
                              </a:lnTo>
                              <a:lnTo>
                                <a:pt x="382" y="2"/>
                              </a:lnTo>
                              <a:lnTo>
                                <a:pt x="339" y="9"/>
                              </a:lnTo>
                              <a:lnTo>
                                <a:pt x="299" y="21"/>
                              </a:lnTo>
                              <a:lnTo>
                                <a:pt x="259" y="36"/>
                              </a:lnTo>
                              <a:lnTo>
                                <a:pt x="222" y="56"/>
                              </a:lnTo>
                              <a:lnTo>
                                <a:pt x="187" y="78"/>
                              </a:lnTo>
                              <a:lnTo>
                                <a:pt x="155" y="104"/>
                              </a:lnTo>
                              <a:lnTo>
                                <a:pt x="125" y="135"/>
                              </a:lnTo>
                              <a:lnTo>
                                <a:pt x="97" y="167"/>
                              </a:lnTo>
                              <a:lnTo>
                                <a:pt x="73" y="202"/>
                              </a:lnTo>
                              <a:lnTo>
                                <a:pt x="51" y="240"/>
                              </a:lnTo>
                              <a:lnTo>
                                <a:pt x="33" y="280"/>
                              </a:lnTo>
                              <a:lnTo>
                                <a:pt x="19" y="323"/>
                              </a:lnTo>
                              <a:lnTo>
                                <a:pt x="8" y="366"/>
                              </a:lnTo>
                              <a:lnTo>
                                <a:pt x="2" y="412"/>
                              </a:lnTo>
                              <a:lnTo>
                                <a:pt x="0" y="459"/>
                              </a:lnTo>
                              <a:lnTo>
                                <a:pt x="2" y="505"/>
                              </a:lnTo>
                              <a:lnTo>
                                <a:pt x="8" y="551"/>
                              </a:lnTo>
                              <a:lnTo>
                                <a:pt x="19" y="594"/>
                              </a:lnTo>
                              <a:lnTo>
                                <a:pt x="33" y="637"/>
                              </a:lnTo>
                              <a:lnTo>
                                <a:pt x="51" y="677"/>
                              </a:lnTo>
                              <a:lnTo>
                                <a:pt x="73" y="715"/>
                              </a:lnTo>
                              <a:lnTo>
                                <a:pt x="97" y="751"/>
                              </a:lnTo>
                              <a:lnTo>
                                <a:pt x="125" y="784"/>
                              </a:lnTo>
                              <a:lnTo>
                                <a:pt x="155" y="813"/>
                              </a:lnTo>
                              <a:lnTo>
                                <a:pt x="187" y="840"/>
                              </a:lnTo>
                              <a:lnTo>
                                <a:pt x="222" y="863"/>
                              </a:lnTo>
                              <a:lnTo>
                                <a:pt x="259" y="882"/>
                              </a:lnTo>
                              <a:lnTo>
                                <a:pt x="299" y="898"/>
                              </a:lnTo>
                              <a:lnTo>
                                <a:pt x="339" y="909"/>
                              </a:lnTo>
                              <a:lnTo>
                                <a:pt x="382" y="916"/>
                              </a:lnTo>
                              <a:lnTo>
                                <a:pt x="425" y="9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2efe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" name=""/>
                        <p:cNvSpPr/>
                        <p:nvPr/>
                      </p:nvSpPr>
                      <p:spPr>
                        <a:xfrm>
                          <a:off x="3690000" y="5166360"/>
                          <a:ext cx="147600" cy="13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09" h="874">
                              <a:moveTo>
                                <a:pt x="405" y="874"/>
                              </a:moveTo>
                              <a:lnTo>
                                <a:pt x="447" y="872"/>
                              </a:lnTo>
                              <a:lnTo>
                                <a:pt x="486" y="865"/>
                              </a:lnTo>
                              <a:lnTo>
                                <a:pt x="525" y="855"/>
                              </a:lnTo>
                              <a:lnTo>
                                <a:pt x="562" y="839"/>
                              </a:lnTo>
                              <a:lnTo>
                                <a:pt x="597" y="822"/>
                              </a:lnTo>
                              <a:lnTo>
                                <a:pt x="631" y="800"/>
                              </a:lnTo>
                              <a:lnTo>
                                <a:pt x="662" y="774"/>
                              </a:lnTo>
                              <a:lnTo>
                                <a:pt x="691" y="747"/>
                              </a:lnTo>
                              <a:lnTo>
                                <a:pt x="717" y="715"/>
                              </a:lnTo>
                              <a:lnTo>
                                <a:pt x="740" y="681"/>
                              </a:lnTo>
                              <a:lnTo>
                                <a:pt x="761" y="645"/>
                              </a:lnTo>
                              <a:lnTo>
                                <a:pt x="777" y="607"/>
                              </a:lnTo>
                              <a:lnTo>
                                <a:pt x="791" y="567"/>
                              </a:lnTo>
                              <a:lnTo>
                                <a:pt x="801" y="525"/>
                              </a:lnTo>
                              <a:lnTo>
                                <a:pt x="807" y="482"/>
                              </a:lnTo>
                              <a:lnTo>
                                <a:pt x="809" y="436"/>
                              </a:lnTo>
                              <a:lnTo>
                                <a:pt x="807" y="392"/>
                              </a:lnTo>
                              <a:lnTo>
                                <a:pt x="801" y="348"/>
                              </a:lnTo>
                              <a:lnTo>
                                <a:pt x="791" y="306"/>
                              </a:lnTo>
                              <a:lnTo>
                                <a:pt x="777" y="267"/>
                              </a:lnTo>
                              <a:lnTo>
                                <a:pt x="761" y="229"/>
                              </a:lnTo>
                              <a:lnTo>
                                <a:pt x="740" y="193"/>
                              </a:lnTo>
                              <a:lnTo>
                                <a:pt x="717" y="159"/>
                              </a:lnTo>
                              <a:lnTo>
                                <a:pt x="691" y="128"/>
                              </a:lnTo>
                              <a:lnTo>
                                <a:pt x="662" y="100"/>
                              </a:lnTo>
                              <a:lnTo>
                                <a:pt x="631" y="74"/>
                              </a:lnTo>
                              <a:lnTo>
                                <a:pt x="597" y="53"/>
                              </a:lnTo>
                              <a:lnTo>
                                <a:pt x="562" y="35"/>
                              </a:lnTo>
                              <a:lnTo>
                                <a:pt x="525" y="20"/>
                              </a:lnTo>
                              <a:lnTo>
                                <a:pt x="486" y="9"/>
                              </a:lnTo>
                              <a:lnTo>
                                <a:pt x="447" y="2"/>
                              </a:lnTo>
                              <a:lnTo>
                                <a:pt x="405" y="0"/>
                              </a:lnTo>
                              <a:lnTo>
                                <a:pt x="363" y="2"/>
                              </a:lnTo>
                              <a:lnTo>
                                <a:pt x="324" y="9"/>
                              </a:lnTo>
                              <a:lnTo>
                                <a:pt x="284" y="20"/>
                              </a:lnTo>
                              <a:lnTo>
                                <a:pt x="247" y="35"/>
                              </a:lnTo>
                              <a:lnTo>
                                <a:pt x="213" y="53"/>
                              </a:lnTo>
                              <a:lnTo>
                                <a:pt x="179" y="74"/>
                              </a:lnTo>
                              <a:lnTo>
                                <a:pt x="148" y="100"/>
                              </a:lnTo>
                              <a:lnTo>
                                <a:pt x="119" y="128"/>
                              </a:lnTo>
                              <a:lnTo>
                                <a:pt x="93" y="159"/>
                              </a:lnTo>
                              <a:lnTo>
                                <a:pt x="70" y="193"/>
                              </a:lnTo>
                              <a:lnTo>
                                <a:pt x="49" y="229"/>
                              </a:lnTo>
                              <a:lnTo>
                                <a:pt x="32" y="267"/>
                              </a:lnTo>
                              <a:lnTo>
                                <a:pt x="19" y="306"/>
                              </a:lnTo>
                              <a:lnTo>
                                <a:pt x="9" y="348"/>
                              </a:lnTo>
                              <a:lnTo>
                                <a:pt x="3" y="392"/>
                              </a:lnTo>
                              <a:lnTo>
                                <a:pt x="0" y="436"/>
                              </a:lnTo>
                              <a:lnTo>
                                <a:pt x="3" y="482"/>
                              </a:lnTo>
                              <a:lnTo>
                                <a:pt x="9" y="525"/>
                              </a:lnTo>
                              <a:lnTo>
                                <a:pt x="19" y="567"/>
                              </a:lnTo>
                              <a:lnTo>
                                <a:pt x="32" y="607"/>
                              </a:lnTo>
                              <a:lnTo>
                                <a:pt x="49" y="645"/>
                              </a:lnTo>
                              <a:lnTo>
                                <a:pt x="70" y="681"/>
                              </a:lnTo>
                              <a:lnTo>
                                <a:pt x="93" y="715"/>
                              </a:lnTo>
                              <a:lnTo>
                                <a:pt x="119" y="747"/>
                              </a:lnTo>
                              <a:lnTo>
                                <a:pt x="148" y="774"/>
                              </a:lnTo>
                              <a:lnTo>
                                <a:pt x="179" y="800"/>
                              </a:lnTo>
                              <a:lnTo>
                                <a:pt x="213" y="822"/>
                              </a:lnTo>
                              <a:lnTo>
                                <a:pt x="247" y="839"/>
                              </a:lnTo>
                              <a:lnTo>
                                <a:pt x="284" y="855"/>
                              </a:lnTo>
                              <a:lnTo>
                                <a:pt x="324" y="865"/>
                              </a:lnTo>
                              <a:lnTo>
                                <a:pt x="363" y="872"/>
                              </a:lnTo>
                              <a:lnTo>
                                <a:pt x="405" y="8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7efe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>
                          <a:off x="3693960" y="5169600"/>
                          <a:ext cx="140040" cy="124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8" h="830">
                              <a:moveTo>
                                <a:pt x="385" y="830"/>
                              </a:moveTo>
                              <a:lnTo>
                                <a:pt x="424" y="828"/>
                              </a:lnTo>
                              <a:lnTo>
                                <a:pt x="462" y="822"/>
                              </a:lnTo>
                              <a:lnTo>
                                <a:pt x="500" y="812"/>
                              </a:lnTo>
                              <a:lnTo>
                                <a:pt x="534" y="798"/>
                              </a:lnTo>
                              <a:lnTo>
                                <a:pt x="568" y="780"/>
                              </a:lnTo>
                              <a:lnTo>
                                <a:pt x="599" y="759"/>
                              </a:lnTo>
                              <a:lnTo>
                                <a:pt x="629" y="735"/>
                              </a:lnTo>
                              <a:lnTo>
                                <a:pt x="656" y="708"/>
                              </a:lnTo>
                              <a:lnTo>
                                <a:pt x="680" y="679"/>
                              </a:lnTo>
                              <a:lnTo>
                                <a:pt x="703" y="647"/>
                              </a:lnTo>
                              <a:lnTo>
                                <a:pt x="722" y="613"/>
                              </a:lnTo>
                              <a:lnTo>
                                <a:pt x="738" y="576"/>
                              </a:lnTo>
                              <a:lnTo>
                                <a:pt x="751" y="539"/>
                              </a:lnTo>
                              <a:lnTo>
                                <a:pt x="760" y="498"/>
                              </a:lnTo>
                              <a:lnTo>
                                <a:pt x="766" y="457"/>
                              </a:lnTo>
                              <a:lnTo>
                                <a:pt x="768" y="414"/>
                              </a:lnTo>
                              <a:lnTo>
                                <a:pt x="766" y="373"/>
                              </a:lnTo>
                              <a:lnTo>
                                <a:pt x="760" y="331"/>
                              </a:lnTo>
                              <a:lnTo>
                                <a:pt x="751" y="291"/>
                              </a:lnTo>
                              <a:lnTo>
                                <a:pt x="738" y="253"/>
                              </a:lnTo>
                              <a:lnTo>
                                <a:pt x="722" y="217"/>
                              </a:lnTo>
                              <a:lnTo>
                                <a:pt x="703" y="182"/>
                              </a:lnTo>
                              <a:lnTo>
                                <a:pt x="680" y="151"/>
                              </a:lnTo>
                              <a:lnTo>
                                <a:pt x="656" y="122"/>
                              </a:lnTo>
                              <a:lnTo>
                                <a:pt x="629" y="95"/>
                              </a:lnTo>
                              <a:lnTo>
                                <a:pt x="599" y="71"/>
                              </a:lnTo>
                              <a:lnTo>
                                <a:pt x="568" y="50"/>
                              </a:lnTo>
                              <a:lnTo>
                                <a:pt x="534" y="32"/>
                              </a:lnTo>
                              <a:lnTo>
                                <a:pt x="500" y="18"/>
                              </a:lnTo>
                              <a:lnTo>
                                <a:pt x="462" y="8"/>
                              </a:lnTo>
                              <a:lnTo>
                                <a:pt x="424" y="2"/>
                              </a:lnTo>
                              <a:lnTo>
                                <a:pt x="385" y="0"/>
                              </a:lnTo>
                              <a:lnTo>
                                <a:pt x="345" y="2"/>
                              </a:lnTo>
                              <a:lnTo>
                                <a:pt x="307" y="8"/>
                              </a:lnTo>
                              <a:lnTo>
                                <a:pt x="270" y="18"/>
                              </a:lnTo>
                              <a:lnTo>
                                <a:pt x="235" y="32"/>
                              </a:lnTo>
                              <a:lnTo>
                                <a:pt x="202" y="50"/>
                              </a:lnTo>
                              <a:lnTo>
                                <a:pt x="171" y="71"/>
                              </a:lnTo>
                              <a:lnTo>
                                <a:pt x="140" y="95"/>
                              </a:lnTo>
                              <a:lnTo>
                                <a:pt x="113" y="122"/>
                              </a:lnTo>
                              <a:lnTo>
                                <a:pt x="88" y="151"/>
                              </a:lnTo>
                              <a:lnTo>
                                <a:pt x="66" y="182"/>
                              </a:lnTo>
                              <a:lnTo>
                                <a:pt x="47" y="217"/>
                              </a:lnTo>
                              <a:lnTo>
                                <a:pt x="30" y="253"/>
                              </a:lnTo>
                              <a:lnTo>
                                <a:pt x="18" y="291"/>
                              </a:lnTo>
                              <a:lnTo>
                                <a:pt x="8" y="331"/>
                              </a:lnTo>
                              <a:lnTo>
                                <a:pt x="3" y="373"/>
                              </a:lnTo>
                              <a:lnTo>
                                <a:pt x="0" y="414"/>
                              </a:lnTo>
                              <a:lnTo>
                                <a:pt x="3" y="457"/>
                              </a:lnTo>
                              <a:lnTo>
                                <a:pt x="8" y="498"/>
                              </a:lnTo>
                              <a:lnTo>
                                <a:pt x="18" y="539"/>
                              </a:lnTo>
                              <a:lnTo>
                                <a:pt x="30" y="576"/>
                              </a:lnTo>
                              <a:lnTo>
                                <a:pt x="47" y="613"/>
                              </a:lnTo>
                              <a:lnTo>
                                <a:pt x="66" y="647"/>
                              </a:lnTo>
                              <a:lnTo>
                                <a:pt x="88" y="679"/>
                              </a:lnTo>
                              <a:lnTo>
                                <a:pt x="113" y="708"/>
                              </a:lnTo>
                              <a:lnTo>
                                <a:pt x="140" y="735"/>
                              </a:lnTo>
                              <a:lnTo>
                                <a:pt x="171" y="759"/>
                              </a:lnTo>
                              <a:lnTo>
                                <a:pt x="202" y="780"/>
                              </a:lnTo>
                              <a:lnTo>
                                <a:pt x="235" y="798"/>
                              </a:lnTo>
                              <a:lnTo>
                                <a:pt x="270" y="812"/>
                              </a:lnTo>
                              <a:lnTo>
                                <a:pt x="307" y="822"/>
                              </a:lnTo>
                              <a:lnTo>
                                <a:pt x="345" y="828"/>
                              </a:lnTo>
                              <a:lnTo>
                                <a:pt x="385" y="8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cefe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>
                          <a:off x="3697200" y="5172480"/>
                          <a:ext cx="132840" cy="11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9" h="787">
                              <a:moveTo>
                                <a:pt x="365" y="787"/>
                              </a:moveTo>
                              <a:lnTo>
                                <a:pt x="402" y="785"/>
                              </a:lnTo>
                              <a:lnTo>
                                <a:pt x="438" y="779"/>
                              </a:lnTo>
                              <a:lnTo>
                                <a:pt x="473" y="770"/>
                              </a:lnTo>
                              <a:lnTo>
                                <a:pt x="506" y="756"/>
                              </a:lnTo>
                              <a:lnTo>
                                <a:pt x="538" y="740"/>
                              </a:lnTo>
                              <a:lnTo>
                                <a:pt x="568" y="720"/>
                              </a:lnTo>
                              <a:lnTo>
                                <a:pt x="597" y="698"/>
                              </a:lnTo>
                              <a:lnTo>
                                <a:pt x="622" y="672"/>
                              </a:lnTo>
                              <a:lnTo>
                                <a:pt x="645" y="644"/>
                              </a:lnTo>
                              <a:lnTo>
                                <a:pt x="666" y="613"/>
                              </a:lnTo>
                              <a:lnTo>
                                <a:pt x="685" y="580"/>
                              </a:lnTo>
                              <a:lnTo>
                                <a:pt x="700" y="547"/>
                              </a:lnTo>
                              <a:lnTo>
                                <a:pt x="712" y="511"/>
                              </a:lnTo>
                              <a:lnTo>
                                <a:pt x="722" y="472"/>
                              </a:lnTo>
                              <a:lnTo>
                                <a:pt x="726" y="434"/>
                              </a:lnTo>
                              <a:lnTo>
                                <a:pt x="729" y="393"/>
                              </a:lnTo>
                              <a:lnTo>
                                <a:pt x="726" y="353"/>
                              </a:lnTo>
                              <a:lnTo>
                                <a:pt x="722" y="314"/>
                              </a:lnTo>
                              <a:lnTo>
                                <a:pt x="712" y="276"/>
                              </a:lnTo>
                              <a:lnTo>
                                <a:pt x="700" y="240"/>
                              </a:lnTo>
                              <a:lnTo>
                                <a:pt x="685" y="206"/>
                              </a:lnTo>
                              <a:lnTo>
                                <a:pt x="666" y="174"/>
                              </a:lnTo>
                              <a:lnTo>
                                <a:pt x="645" y="143"/>
                              </a:lnTo>
                              <a:lnTo>
                                <a:pt x="622" y="115"/>
                              </a:lnTo>
                              <a:lnTo>
                                <a:pt x="597" y="89"/>
                              </a:lnTo>
                              <a:lnTo>
                                <a:pt x="568" y="67"/>
                              </a:lnTo>
                              <a:lnTo>
                                <a:pt x="538" y="47"/>
                              </a:lnTo>
                              <a:lnTo>
                                <a:pt x="506" y="31"/>
                              </a:lnTo>
                              <a:lnTo>
                                <a:pt x="473" y="17"/>
                              </a:lnTo>
                              <a:lnTo>
                                <a:pt x="438" y="8"/>
                              </a:lnTo>
                              <a:lnTo>
                                <a:pt x="402" y="2"/>
                              </a:lnTo>
                              <a:lnTo>
                                <a:pt x="365" y="0"/>
                              </a:lnTo>
                              <a:lnTo>
                                <a:pt x="328" y="2"/>
                              </a:lnTo>
                              <a:lnTo>
                                <a:pt x="292" y="8"/>
                              </a:lnTo>
                              <a:lnTo>
                                <a:pt x="256" y="17"/>
                              </a:lnTo>
                              <a:lnTo>
                                <a:pt x="222" y="31"/>
                              </a:lnTo>
                              <a:lnTo>
                                <a:pt x="191" y="47"/>
                              </a:lnTo>
                              <a:lnTo>
                                <a:pt x="161" y="67"/>
                              </a:lnTo>
                              <a:lnTo>
                                <a:pt x="133" y="89"/>
                              </a:lnTo>
                              <a:lnTo>
                                <a:pt x="106" y="115"/>
                              </a:lnTo>
                              <a:lnTo>
                                <a:pt x="83" y="143"/>
                              </a:lnTo>
                              <a:lnTo>
                                <a:pt x="62" y="174"/>
                              </a:lnTo>
                              <a:lnTo>
                                <a:pt x="44" y="206"/>
                              </a:lnTo>
                              <a:lnTo>
                                <a:pt x="29" y="240"/>
                              </a:lnTo>
                              <a:lnTo>
                                <a:pt x="16" y="276"/>
                              </a:lnTo>
                              <a:lnTo>
                                <a:pt x="7" y="314"/>
                              </a:lnTo>
                              <a:lnTo>
                                <a:pt x="2" y="353"/>
                              </a:lnTo>
                              <a:lnTo>
                                <a:pt x="0" y="393"/>
                              </a:lnTo>
                              <a:lnTo>
                                <a:pt x="2" y="434"/>
                              </a:lnTo>
                              <a:lnTo>
                                <a:pt x="7" y="472"/>
                              </a:lnTo>
                              <a:lnTo>
                                <a:pt x="16" y="511"/>
                              </a:lnTo>
                              <a:lnTo>
                                <a:pt x="29" y="547"/>
                              </a:lnTo>
                              <a:lnTo>
                                <a:pt x="44" y="580"/>
                              </a:lnTo>
                              <a:lnTo>
                                <a:pt x="62" y="613"/>
                              </a:lnTo>
                              <a:lnTo>
                                <a:pt x="83" y="644"/>
                              </a:lnTo>
                              <a:lnTo>
                                <a:pt x="106" y="672"/>
                              </a:lnTo>
                              <a:lnTo>
                                <a:pt x="133" y="698"/>
                              </a:lnTo>
                              <a:lnTo>
                                <a:pt x="161" y="720"/>
                              </a:lnTo>
                              <a:lnTo>
                                <a:pt x="191" y="740"/>
                              </a:lnTo>
                              <a:lnTo>
                                <a:pt x="222" y="756"/>
                              </a:lnTo>
                              <a:lnTo>
                                <a:pt x="256" y="770"/>
                              </a:lnTo>
                              <a:lnTo>
                                <a:pt x="292" y="779"/>
                              </a:lnTo>
                              <a:lnTo>
                                <a:pt x="328" y="785"/>
                              </a:lnTo>
                              <a:lnTo>
                                <a:pt x="365" y="78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4f4f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9" name=""/>
                        <p:cNvSpPr/>
                        <p:nvPr/>
                      </p:nvSpPr>
                      <p:spPr>
                        <a:xfrm>
                          <a:off x="3701160" y="5176080"/>
                          <a:ext cx="12564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87" h="743">
                              <a:moveTo>
                                <a:pt x="344" y="743"/>
                              </a:moveTo>
                              <a:lnTo>
                                <a:pt x="379" y="741"/>
                              </a:lnTo>
                              <a:lnTo>
                                <a:pt x="413" y="735"/>
                              </a:lnTo>
                              <a:lnTo>
                                <a:pt x="446" y="727"/>
                              </a:lnTo>
                              <a:lnTo>
                                <a:pt x="477" y="714"/>
                              </a:lnTo>
                              <a:lnTo>
                                <a:pt x="507" y="698"/>
                              </a:lnTo>
                              <a:lnTo>
                                <a:pt x="536" y="679"/>
                              </a:lnTo>
                              <a:lnTo>
                                <a:pt x="563" y="658"/>
                              </a:lnTo>
                              <a:lnTo>
                                <a:pt x="587" y="634"/>
                              </a:lnTo>
                              <a:lnTo>
                                <a:pt x="609" y="607"/>
                              </a:lnTo>
                              <a:lnTo>
                                <a:pt x="629" y="578"/>
                              </a:lnTo>
                              <a:lnTo>
                                <a:pt x="645" y="548"/>
                              </a:lnTo>
                              <a:lnTo>
                                <a:pt x="660" y="515"/>
                              </a:lnTo>
                              <a:lnTo>
                                <a:pt x="672" y="481"/>
                              </a:lnTo>
                              <a:lnTo>
                                <a:pt x="680" y="446"/>
                              </a:lnTo>
                              <a:lnTo>
                                <a:pt x="685" y="409"/>
                              </a:lnTo>
                              <a:lnTo>
                                <a:pt x="687" y="370"/>
                              </a:lnTo>
                              <a:lnTo>
                                <a:pt x="685" y="332"/>
                              </a:lnTo>
                              <a:lnTo>
                                <a:pt x="680" y="296"/>
                              </a:lnTo>
                              <a:lnTo>
                                <a:pt x="672" y="260"/>
                              </a:lnTo>
                              <a:lnTo>
                                <a:pt x="660" y="226"/>
                              </a:lnTo>
                              <a:lnTo>
                                <a:pt x="645" y="194"/>
                              </a:lnTo>
                              <a:lnTo>
                                <a:pt x="629" y="164"/>
                              </a:lnTo>
                              <a:lnTo>
                                <a:pt x="609" y="135"/>
                              </a:lnTo>
                              <a:lnTo>
                                <a:pt x="587" y="108"/>
                              </a:lnTo>
                              <a:lnTo>
                                <a:pt x="563" y="85"/>
                              </a:lnTo>
                              <a:lnTo>
                                <a:pt x="536" y="64"/>
                              </a:lnTo>
                              <a:lnTo>
                                <a:pt x="507" y="45"/>
                              </a:lnTo>
                              <a:lnTo>
                                <a:pt x="477" y="29"/>
                              </a:lnTo>
                              <a:lnTo>
                                <a:pt x="446" y="16"/>
                              </a:lnTo>
                              <a:lnTo>
                                <a:pt x="413" y="7"/>
                              </a:lnTo>
                              <a:lnTo>
                                <a:pt x="379" y="2"/>
                              </a:lnTo>
                              <a:lnTo>
                                <a:pt x="344" y="0"/>
                              </a:lnTo>
                              <a:lnTo>
                                <a:pt x="309" y="2"/>
                              </a:lnTo>
                              <a:lnTo>
                                <a:pt x="274" y="7"/>
                              </a:lnTo>
                              <a:lnTo>
                                <a:pt x="242" y="16"/>
                              </a:lnTo>
                              <a:lnTo>
                                <a:pt x="209" y="29"/>
                              </a:lnTo>
                              <a:lnTo>
                                <a:pt x="179" y="45"/>
                              </a:lnTo>
                              <a:lnTo>
                                <a:pt x="152" y="64"/>
                              </a:lnTo>
                              <a:lnTo>
                                <a:pt x="125" y="85"/>
                              </a:lnTo>
                              <a:lnTo>
                                <a:pt x="101" y="108"/>
                              </a:lnTo>
                              <a:lnTo>
                                <a:pt x="79" y="135"/>
                              </a:lnTo>
                              <a:lnTo>
                                <a:pt x="59" y="164"/>
                              </a:lnTo>
                              <a:lnTo>
                                <a:pt x="41" y="194"/>
                              </a:lnTo>
                              <a:lnTo>
                                <a:pt x="26" y="226"/>
                              </a:lnTo>
                              <a:lnTo>
                                <a:pt x="15" y="260"/>
                              </a:lnTo>
                              <a:lnTo>
                                <a:pt x="7" y="296"/>
                              </a:lnTo>
                              <a:lnTo>
                                <a:pt x="2" y="332"/>
                              </a:lnTo>
                              <a:lnTo>
                                <a:pt x="0" y="370"/>
                              </a:lnTo>
                              <a:lnTo>
                                <a:pt x="2" y="409"/>
                              </a:lnTo>
                              <a:lnTo>
                                <a:pt x="7" y="446"/>
                              </a:lnTo>
                              <a:lnTo>
                                <a:pt x="15" y="481"/>
                              </a:lnTo>
                              <a:lnTo>
                                <a:pt x="26" y="515"/>
                              </a:lnTo>
                              <a:lnTo>
                                <a:pt x="41" y="548"/>
                              </a:lnTo>
                              <a:lnTo>
                                <a:pt x="59" y="578"/>
                              </a:lnTo>
                              <a:lnTo>
                                <a:pt x="79" y="607"/>
                              </a:lnTo>
                              <a:lnTo>
                                <a:pt x="101" y="634"/>
                              </a:lnTo>
                              <a:lnTo>
                                <a:pt x="125" y="658"/>
                              </a:lnTo>
                              <a:lnTo>
                                <a:pt x="152" y="679"/>
                              </a:lnTo>
                              <a:lnTo>
                                <a:pt x="179" y="698"/>
                              </a:lnTo>
                              <a:lnTo>
                                <a:pt x="209" y="714"/>
                              </a:lnTo>
                              <a:lnTo>
                                <a:pt x="242" y="727"/>
                              </a:lnTo>
                              <a:lnTo>
                                <a:pt x="274" y="735"/>
                              </a:lnTo>
                              <a:lnTo>
                                <a:pt x="309" y="741"/>
                              </a:lnTo>
                              <a:lnTo>
                                <a:pt x="344" y="7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f4f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>
                          <a:off x="3704760" y="5179320"/>
                          <a:ext cx="11808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8" h="699">
                              <a:moveTo>
                                <a:pt x="325" y="699"/>
                              </a:moveTo>
                              <a:lnTo>
                                <a:pt x="358" y="697"/>
                              </a:lnTo>
                              <a:lnTo>
                                <a:pt x="390" y="692"/>
                              </a:lnTo>
                              <a:lnTo>
                                <a:pt x="421" y="683"/>
                              </a:lnTo>
                              <a:lnTo>
                                <a:pt x="451" y="671"/>
                              </a:lnTo>
                              <a:lnTo>
                                <a:pt x="479" y="657"/>
                              </a:lnTo>
                              <a:lnTo>
                                <a:pt x="506" y="640"/>
                              </a:lnTo>
                              <a:lnTo>
                                <a:pt x="531" y="619"/>
                              </a:lnTo>
                              <a:lnTo>
                                <a:pt x="554" y="597"/>
                              </a:lnTo>
                              <a:lnTo>
                                <a:pt x="575" y="571"/>
                              </a:lnTo>
                              <a:lnTo>
                                <a:pt x="594" y="544"/>
                              </a:lnTo>
                              <a:lnTo>
                                <a:pt x="610" y="515"/>
                              </a:lnTo>
                              <a:lnTo>
                                <a:pt x="623" y="485"/>
                              </a:lnTo>
                              <a:lnTo>
                                <a:pt x="634" y="453"/>
                              </a:lnTo>
                              <a:lnTo>
                                <a:pt x="641" y="420"/>
                              </a:lnTo>
                              <a:lnTo>
                                <a:pt x="647" y="385"/>
                              </a:lnTo>
                              <a:lnTo>
                                <a:pt x="648" y="349"/>
                              </a:lnTo>
                              <a:lnTo>
                                <a:pt x="647" y="313"/>
                              </a:lnTo>
                              <a:lnTo>
                                <a:pt x="641" y="278"/>
                              </a:lnTo>
                              <a:lnTo>
                                <a:pt x="634" y="246"/>
                              </a:lnTo>
                              <a:lnTo>
                                <a:pt x="623" y="213"/>
                              </a:lnTo>
                              <a:lnTo>
                                <a:pt x="610" y="183"/>
                              </a:lnTo>
                              <a:lnTo>
                                <a:pt x="594" y="154"/>
                              </a:lnTo>
                              <a:lnTo>
                                <a:pt x="575" y="127"/>
                              </a:lnTo>
                              <a:lnTo>
                                <a:pt x="554" y="102"/>
                              </a:lnTo>
                              <a:lnTo>
                                <a:pt x="531" y="80"/>
                              </a:lnTo>
                              <a:lnTo>
                                <a:pt x="506" y="59"/>
                              </a:lnTo>
                              <a:lnTo>
                                <a:pt x="479" y="42"/>
                              </a:lnTo>
                              <a:lnTo>
                                <a:pt x="451" y="28"/>
                              </a:lnTo>
                              <a:lnTo>
                                <a:pt x="421" y="16"/>
                              </a:lnTo>
                              <a:lnTo>
                                <a:pt x="390" y="7"/>
                              </a:lnTo>
                              <a:lnTo>
                                <a:pt x="358" y="2"/>
                              </a:lnTo>
                              <a:lnTo>
                                <a:pt x="325" y="0"/>
                              </a:lnTo>
                              <a:lnTo>
                                <a:pt x="291" y="2"/>
                              </a:lnTo>
                              <a:lnTo>
                                <a:pt x="260" y="7"/>
                              </a:lnTo>
                              <a:lnTo>
                                <a:pt x="229" y="16"/>
                              </a:lnTo>
                              <a:lnTo>
                                <a:pt x="199" y="28"/>
                              </a:lnTo>
                              <a:lnTo>
                                <a:pt x="171" y="42"/>
                              </a:lnTo>
                              <a:lnTo>
                                <a:pt x="144" y="59"/>
                              </a:lnTo>
                              <a:lnTo>
                                <a:pt x="119" y="80"/>
                              </a:lnTo>
                              <a:lnTo>
                                <a:pt x="95" y="102"/>
                              </a:lnTo>
                              <a:lnTo>
                                <a:pt x="75" y="127"/>
                              </a:lnTo>
                              <a:lnTo>
                                <a:pt x="56" y="154"/>
                              </a:lnTo>
                              <a:lnTo>
                                <a:pt x="40" y="183"/>
                              </a:lnTo>
                              <a:lnTo>
                                <a:pt x="26" y="213"/>
                              </a:lnTo>
                              <a:lnTo>
                                <a:pt x="16" y="246"/>
                              </a:lnTo>
                              <a:lnTo>
                                <a:pt x="7" y="278"/>
                              </a:lnTo>
                              <a:lnTo>
                                <a:pt x="2" y="313"/>
                              </a:lnTo>
                              <a:lnTo>
                                <a:pt x="0" y="349"/>
                              </a:lnTo>
                              <a:lnTo>
                                <a:pt x="2" y="385"/>
                              </a:lnTo>
                              <a:lnTo>
                                <a:pt x="7" y="420"/>
                              </a:lnTo>
                              <a:lnTo>
                                <a:pt x="16" y="453"/>
                              </a:lnTo>
                              <a:lnTo>
                                <a:pt x="26" y="485"/>
                              </a:lnTo>
                              <a:lnTo>
                                <a:pt x="40" y="515"/>
                              </a:lnTo>
                              <a:lnTo>
                                <a:pt x="56" y="544"/>
                              </a:lnTo>
                              <a:lnTo>
                                <a:pt x="75" y="571"/>
                              </a:lnTo>
                              <a:lnTo>
                                <a:pt x="95" y="597"/>
                              </a:lnTo>
                              <a:lnTo>
                                <a:pt x="119" y="619"/>
                              </a:lnTo>
                              <a:lnTo>
                                <a:pt x="144" y="640"/>
                              </a:lnTo>
                              <a:lnTo>
                                <a:pt x="171" y="657"/>
                              </a:lnTo>
                              <a:lnTo>
                                <a:pt x="199" y="671"/>
                              </a:lnTo>
                              <a:lnTo>
                                <a:pt x="229" y="683"/>
                              </a:lnTo>
                              <a:lnTo>
                                <a:pt x="260" y="692"/>
                              </a:lnTo>
                              <a:lnTo>
                                <a:pt x="291" y="697"/>
                              </a:lnTo>
                              <a:lnTo>
                                <a:pt x="325" y="6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1f7f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>
                          <a:off x="3708360" y="5182200"/>
                          <a:ext cx="110880" cy="9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6" h="655">
                              <a:moveTo>
                                <a:pt x="304" y="655"/>
                              </a:moveTo>
                              <a:lnTo>
                                <a:pt x="335" y="654"/>
                              </a:lnTo>
                              <a:lnTo>
                                <a:pt x="365" y="648"/>
                              </a:lnTo>
                              <a:lnTo>
                                <a:pt x="394" y="640"/>
                              </a:lnTo>
                              <a:lnTo>
                                <a:pt x="422" y="629"/>
                              </a:lnTo>
                              <a:lnTo>
                                <a:pt x="449" y="615"/>
                              </a:lnTo>
                              <a:lnTo>
                                <a:pt x="473" y="599"/>
                              </a:lnTo>
                              <a:lnTo>
                                <a:pt x="496" y="580"/>
                              </a:lnTo>
                              <a:lnTo>
                                <a:pt x="518" y="558"/>
                              </a:lnTo>
                              <a:lnTo>
                                <a:pt x="538" y="535"/>
                              </a:lnTo>
                              <a:lnTo>
                                <a:pt x="555" y="511"/>
                              </a:lnTo>
                              <a:lnTo>
                                <a:pt x="570" y="483"/>
                              </a:lnTo>
                              <a:lnTo>
                                <a:pt x="583" y="454"/>
                              </a:lnTo>
                              <a:lnTo>
                                <a:pt x="592" y="424"/>
                              </a:lnTo>
                              <a:lnTo>
                                <a:pt x="600" y="392"/>
                              </a:lnTo>
                              <a:lnTo>
                                <a:pt x="605" y="360"/>
                              </a:lnTo>
                              <a:lnTo>
                                <a:pt x="606" y="326"/>
                              </a:lnTo>
                              <a:lnTo>
                                <a:pt x="605" y="292"/>
                              </a:lnTo>
                              <a:lnTo>
                                <a:pt x="600" y="260"/>
                              </a:lnTo>
                              <a:lnTo>
                                <a:pt x="592" y="230"/>
                              </a:lnTo>
                              <a:lnTo>
                                <a:pt x="583" y="200"/>
                              </a:lnTo>
                              <a:lnTo>
                                <a:pt x="570" y="170"/>
                              </a:lnTo>
                              <a:lnTo>
                                <a:pt x="555" y="144"/>
                              </a:lnTo>
                              <a:lnTo>
                                <a:pt x="538" y="118"/>
                              </a:lnTo>
                              <a:lnTo>
                                <a:pt x="518" y="95"/>
                              </a:lnTo>
                              <a:lnTo>
                                <a:pt x="496" y="74"/>
                              </a:lnTo>
                              <a:lnTo>
                                <a:pt x="473" y="56"/>
                              </a:lnTo>
                              <a:lnTo>
                                <a:pt x="449" y="39"/>
                              </a:lnTo>
                              <a:lnTo>
                                <a:pt x="422" y="25"/>
                              </a:lnTo>
                              <a:lnTo>
                                <a:pt x="394" y="15"/>
                              </a:lnTo>
                              <a:lnTo>
                                <a:pt x="365" y="7"/>
                              </a:lnTo>
                              <a:lnTo>
                                <a:pt x="335" y="1"/>
                              </a:lnTo>
                              <a:lnTo>
                                <a:pt x="304" y="0"/>
                              </a:lnTo>
                              <a:lnTo>
                                <a:pt x="273" y="1"/>
                              </a:lnTo>
                              <a:lnTo>
                                <a:pt x="242" y="7"/>
                              </a:lnTo>
                              <a:lnTo>
                                <a:pt x="213" y="15"/>
                              </a:lnTo>
                              <a:lnTo>
                                <a:pt x="186" y="25"/>
                              </a:lnTo>
                              <a:lnTo>
                                <a:pt x="159" y="39"/>
                              </a:lnTo>
                              <a:lnTo>
                                <a:pt x="134" y="56"/>
                              </a:lnTo>
                              <a:lnTo>
                                <a:pt x="110" y="74"/>
                              </a:lnTo>
                              <a:lnTo>
                                <a:pt x="90" y="95"/>
                              </a:lnTo>
                              <a:lnTo>
                                <a:pt x="70" y="118"/>
                              </a:lnTo>
                              <a:lnTo>
                                <a:pt x="52" y="144"/>
                              </a:lnTo>
                              <a:lnTo>
                                <a:pt x="37" y="170"/>
                              </a:lnTo>
                              <a:lnTo>
                                <a:pt x="25" y="200"/>
                              </a:lnTo>
                              <a:lnTo>
                                <a:pt x="14" y="230"/>
                              </a:lnTo>
                              <a:lnTo>
                                <a:pt x="6" y="260"/>
                              </a:lnTo>
                              <a:lnTo>
                                <a:pt x="1" y="292"/>
                              </a:lnTo>
                              <a:lnTo>
                                <a:pt x="0" y="326"/>
                              </a:lnTo>
                              <a:lnTo>
                                <a:pt x="1" y="360"/>
                              </a:lnTo>
                              <a:lnTo>
                                <a:pt x="6" y="392"/>
                              </a:lnTo>
                              <a:lnTo>
                                <a:pt x="14" y="424"/>
                              </a:lnTo>
                              <a:lnTo>
                                <a:pt x="25" y="454"/>
                              </a:lnTo>
                              <a:lnTo>
                                <a:pt x="37" y="483"/>
                              </a:lnTo>
                              <a:lnTo>
                                <a:pt x="52" y="511"/>
                              </a:lnTo>
                              <a:lnTo>
                                <a:pt x="70" y="535"/>
                              </a:lnTo>
                              <a:lnTo>
                                <a:pt x="90" y="558"/>
                              </a:lnTo>
                              <a:lnTo>
                                <a:pt x="110" y="580"/>
                              </a:lnTo>
                              <a:lnTo>
                                <a:pt x="134" y="599"/>
                              </a:lnTo>
                              <a:lnTo>
                                <a:pt x="159" y="615"/>
                              </a:lnTo>
                              <a:lnTo>
                                <a:pt x="186" y="629"/>
                              </a:lnTo>
                              <a:lnTo>
                                <a:pt x="213" y="640"/>
                              </a:lnTo>
                              <a:lnTo>
                                <a:pt x="242" y="648"/>
                              </a:lnTo>
                              <a:lnTo>
                                <a:pt x="273" y="654"/>
                              </a:lnTo>
                              <a:lnTo>
                                <a:pt x="304" y="6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6f7f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>
                          <a:off x="3712320" y="5186160"/>
                          <a:ext cx="103320" cy="9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7" h="612">
                              <a:moveTo>
                                <a:pt x="284" y="612"/>
                              </a:moveTo>
                              <a:lnTo>
                                <a:pt x="313" y="611"/>
                              </a:lnTo>
                              <a:lnTo>
                                <a:pt x="341" y="606"/>
                              </a:lnTo>
                              <a:lnTo>
                                <a:pt x="368" y="598"/>
                              </a:lnTo>
                              <a:lnTo>
                                <a:pt x="394" y="587"/>
                              </a:lnTo>
                              <a:lnTo>
                                <a:pt x="418" y="575"/>
                              </a:lnTo>
                              <a:lnTo>
                                <a:pt x="443" y="559"/>
                              </a:lnTo>
                              <a:lnTo>
                                <a:pt x="463" y="542"/>
                              </a:lnTo>
                              <a:lnTo>
                                <a:pt x="484" y="522"/>
                              </a:lnTo>
                              <a:lnTo>
                                <a:pt x="502" y="500"/>
                              </a:lnTo>
                              <a:lnTo>
                                <a:pt x="518" y="477"/>
                              </a:lnTo>
                              <a:lnTo>
                                <a:pt x="533" y="451"/>
                              </a:lnTo>
                              <a:lnTo>
                                <a:pt x="545" y="425"/>
                              </a:lnTo>
                              <a:lnTo>
                                <a:pt x="554" y="397"/>
                              </a:lnTo>
                              <a:lnTo>
                                <a:pt x="561" y="367"/>
                              </a:lnTo>
                              <a:lnTo>
                                <a:pt x="565" y="336"/>
                              </a:lnTo>
                              <a:lnTo>
                                <a:pt x="567" y="305"/>
                              </a:lnTo>
                              <a:lnTo>
                                <a:pt x="565" y="274"/>
                              </a:lnTo>
                              <a:lnTo>
                                <a:pt x="561" y="244"/>
                              </a:lnTo>
                              <a:lnTo>
                                <a:pt x="554" y="215"/>
                              </a:lnTo>
                              <a:lnTo>
                                <a:pt x="545" y="187"/>
                              </a:lnTo>
                              <a:lnTo>
                                <a:pt x="533" y="160"/>
                              </a:lnTo>
                              <a:lnTo>
                                <a:pt x="518" y="134"/>
                              </a:lnTo>
                              <a:lnTo>
                                <a:pt x="502" y="111"/>
                              </a:lnTo>
                              <a:lnTo>
                                <a:pt x="484" y="89"/>
                              </a:lnTo>
                              <a:lnTo>
                                <a:pt x="463" y="69"/>
                              </a:lnTo>
                              <a:lnTo>
                                <a:pt x="443" y="52"/>
                              </a:lnTo>
                              <a:lnTo>
                                <a:pt x="418" y="37"/>
                              </a:lnTo>
                              <a:lnTo>
                                <a:pt x="394" y="24"/>
                              </a:lnTo>
                              <a:lnTo>
                                <a:pt x="368" y="14"/>
                              </a:lnTo>
                              <a:lnTo>
                                <a:pt x="341" y="5"/>
                              </a:lnTo>
                              <a:lnTo>
                                <a:pt x="313" y="1"/>
                              </a:lnTo>
                              <a:lnTo>
                                <a:pt x="284" y="0"/>
                              </a:lnTo>
                              <a:lnTo>
                                <a:pt x="255" y="1"/>
                              </a:lnTo>
                              <a:lnTo>
                                <a:pt x="227" y="5"/>
                              </a:lnTo>
                              <a:lnTo>
                                <a:pt x="199" y="14"/>
                              </a:lnTo>
                              <a:lnTo>
                                <a:pt x="174" y="24"/>
                              </a:lnTo>
                              <a:lnTo>
                                <a:pt x="148" y="37"/>
                              </a:lnTo>
                              <a:lnTo>
                                <a:pt x="125" y="52"/>
                              </a:lnTo>
                              <a:lnTo>
                                <a:pt x="103" y="69"/>
                              </a:lnTo>
                              <a:lnTo>
                                <a:pt x="83" y="89"/>
                              </a:lnTo>
                              <a:lnTo>
                                <a:pt x="65" y="111"/>
                              </a:lnTo>
                              <a:lnTo>
                                <a:pt x="49" y="134"/>
                              </a:lnTo>
                              <a:lnTo>
                                <a:pt x="35" y="160"/>
                              </a:lnTo>
                              <a:lnTo>
                                <a:pt x="22" y="187"/>
                              </a:lnTo>
                              <a:lnTo>
                                <a:pt x="13" y="215"/>
                              </a:lnTo>
                              <a:lnTo>
                                <a:pt x="6" y="244"/>
                              </a:lnTo>
                              <a:lnTo>
                                <a:pt x="1" y="274"/>
                              </a:lnTo>
                              <a:lnTo>
                                <a:pt x="0" y="305"/>
                              </a:lnTo>
                              <a:lnTo>
                                <a:pt x="1" y="336"/>
                              </a:lnTo>
                              <a:lnTo>
                                <a:pt x="6" y="367"/>
                              </a:lnTo>
                              <a:lnTo>
                                <a:pt x="13" y="397"/>
                              </a:lnTo>
                              <a:lnTo>
                                <a:pt x="22" y="425"/>
                              </a:lnTo>
                              <a:lnTo>
                                <a:pt x="35" y="451"/>
                              </a:lnTo>
                              <a:lnTo>
                                <a:pt x="49" y="477"/>
                              </a:lnTo>
                              <a:lnTo>
                                <a:pt x="65" y="500"/>
                              </a:lnTo>
                              <a:lnTo>
                                <a:pt x="83" y="522"/>
                              </a:lnTo>
                              <a:lnTo>
                                <a:pt x="103" y="542"/>
                              </a:lnTo>
                              <a:lnTo>
                                <a:pt x="125" y="559"/>
                              </a:lnTo>
                              <a:lnTo>
                                <a:pt x="148" y="575"/>
                              </a:lnTo>
                              <a:lnTo>
                                <a:pt x="174" y="587"/>
                              </a:lnTo>
                              <a:lnTo>
                                <a:pt x="199" y="598"/>
                              </a:lnTo>
                              <a:lnTo>
                                <a:pt x="227" y="606"/>
                              </a:lnTo>
                              <a:lnTo>
                                <a:pt x="255" y="611"/>
                              </a:lnTo>
                              <a:lnTo>
                                <a:pt x="284" y="6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bf7f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>
                          <a:off x="3715560" y="5189040"/>
                          <a:ext cx="96120" cy="85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5" h="568">
                              <a:moveTo>
                                <a:pt x="263" y="568"/>
                              </a:moveTo>
                              <a:lnTo>
                                <a:pt x="290" y="566"/>
                              </a:lnTo>
                              <a:lnTo>
                                <a:pt x="316" y="562"/>
                              </a:lnTo>
                              <a:lnTo>
                                <a:pt x="340" y="555"/>
                              </a:lnTo>
                              <a:lnTo>
                                <a:pt x="365" y="546"/>
                              </a:lnTo>
                              <a:lnTo>
                                <a:pt x="388" y="533"/>
                              </a:lnTo>
                              <a:lnTo>
                                <a:pt x="409" y="519"/>
                              </a:lnTo>
                              <a:lnTo>
                                <a:pt x="430" y="503"/>
                              </a:lnTo>
                              <a:lnTo>
                                <a:pt x="448" y="484"/>
                              </a:lnTo>
                              <a:lnTo>
                                <a:pt x="464" y="464"/>
                              </a:lnTo>
                              <a:lnTo>
                                <a:pt x="480" y="442"/>
                              </a:lnTo>
                              <a:lnTo>
                                <a:pt x="493" y="419"/>
                              </a:lnTo>
                              <a:lnTo>
                                <a:pt x="504" y="393"/>
                              </a:lnTo>
                              <a:lnTo>
                                <a:pt x="513" y="368"/>
                              </a:lnTo>
                              <a:lnTo>
                                <a:pt x="519" y="340"/>
                              </a:lnTo>
                              <a:lnTo>
                                <a:pt x="524" y="312"/>
                              </a:lnTo>
                              <a:lnTo>
                                <a:pt x="525" y="283"/>
                              </a:lnTo>
                              <a:lnTo>
                                <a:pt x="524" y="254"/>
                              </a:lnTo>
                              <a:lnTo>
                                <a:pt x="519" y="226"/>
                              </a:lnTo>
                              <a:lnTo>
                                <a:pt x="513" y="198"/>
                              </a:lnTo>
                              <a:lnTo>
                                <a:pt x="504" y="173"/>
                              </a:lnTo>
                              <a:lnTo>
                                <a:pt x="493" y="148"/>
                              </a:lnTo>
                              <a:lnTo>
                                <a:pt x="480" y="124"/>
                              </a:lnTo>
                              <a:lnTo>
                                <a:pt x="464" y="103"/>
                              </a:lnTo>
                              <a:lnTo>
                                <a:pt x="448" y="82"/>
                              </a:lnTo>
                              <a:lnTo>
                                <a:pt x="430" y="65"/>
                              </a:lnTo>
                              <a:lnTo>
                                <a:pt x="409" y="49"/>
                              </a:lnTo>
                              <a:lnTo>
                                <a:pt x="388" y="33"/>
                              </a:lnTo>
                              <a:lnTo>
                                <a:pt x="365" y="22"/>
                              </a:lnTo>
                              <a:lnTo>
                                <a:pt x="340" y="13"/>
                              </a:lnTo>
                              <a:lnTo>
                                <a:pt x="316" y="6"/>
                              </a:lnTo>
                              <a:lnTo>
                                <a:pt x="290" y="1"/>
                              </a:lnTo>
                              <a:lnTo>
                                <a:pt x="263" y="0"/>
                              </a:lnTo>
                              <a:lnTo>
                                <a:pt x="236" y="1"/>
                              </a:lnTo>
                              <a:lnTo>
                                <a:pt x="210" y="6"/>
                              </a:lnTo>
                              <a:lnTo>
                                <a:pt x="184" y="13"/>
                              </a:lnTo>
                              <a:lnTo>
                                <a:pt x="160" y="22"/>
                              </a:lnTo>
                              <a:lnTo>
                                <a:pt x="138" y="33"/>
                              </a:lnTo>
                              <a:lnTo>
                                <a:pt x="116" y="49"/>
                              </a:lnTo>
                              <a:lnTo>
                                <a:pt x="95" y="65"/>
                              </a:lnTo>
                              <a:lnTo>
                                <a:pt x="76" y="82"/>
                              </a:lnTo>
                              <a:lnTo>
                                <a:pt x="60" y="103"/>
                              </a:lnTo>
                              <a:lnTo>
                                <a:pt x="45" y="124"/>
                              </a:lnTo>
                              <a:lnTo>
                                <a:pt x="31" y="148"/>
                              </a:lnTo>
                              <a:lnTo>
                                <a:pt x="21" y="173"/>
                              </a:lnTo>
                              <a:lnTo>
                                <a:pt x="11" y="198"/>
                              </a:lnTo>
                              <a:lnTo>
                                <a:pt x="6" y="226"/>
                              </a:lnTo>
                              <a:lnTo>
                                <a:pt x="1" y="254"/>
                              </a:lnTo>
                              <a:lnTo>
                                <a:pt x="0" y="283"/>
                              </a:lnTo>
                              <a:lnTo>
                                <a:pt x="1" y="312"/>
                              </a:lnTo>
                              <a:lnTo>
                                <a:pt x="6" y="340"/>
                              </a:lnTo>
                              <a:lnTo>
                                <a:pt x="11" y="368"/>
                              </a:lnTo>
                              <a:lnTo>
                                <a:pt x="21" y="393"/>
                              </a:lnTo>
                              <a:lnTo>
                                <a:pt x="31" y="419"/>
                              </a:lnTo>
                              <a:lnTo>
                                <a:pt x="45" y="442"/>
                              </a:lnTo>
                              <a:lnTo>
                                <a:pt x="60" y="464"/>
                              </a:lnTo>
                              <a:lnTo>
                                <a:pt x="76" y="484"/>
                              </a:lnTo>
                              <a:lnTo>
                                <a:pt x="95" y="503"/>
                              </a:lnTo>
                              <a:lnTo>
                                <a:pt x="116" y="519"/>
                              </a:lnTo>
                              <a:lnTo>
                                <a:pt x="138" y="533"/>
                              </a:lnTo>
                              <a:lnTo>
                                <a:pt x="160" y="546"/>
                              </a:lnTo>
                              <a:lnTo>
                                <a:pt x="184" y="555"/>
                              </a:lnTo>
                              <a:lnTo>
                                <a:pt x="210" y="562"/>
                              </a:lnTo>
                              <a:lnTo>
                                <a:pt x="236" y="566"/>
                              </a:lnTo>
                              <a:lnTo>
                                <a:pt x="263" y="5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0f7f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520" bIns="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>
                          <a:off x="3719520" y="5191920"/>
                          <a:ext cx="88920" cy="7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4" h="523">
                              <a:moveTo>
                                <a:pt x="243" y="523"/>
                              </a:moveTo>
                              <a:lnTo>
                                <a:pt x="267" y="522"/>
                              </a:lnTo>
                              <a:lnTo>
                                <a:pt x="292" y="518"/>
                              </a:lnTo>
                              <a:lnTo>
                                <a:pt x="315" y="512"/>
                              </a:lnTo>
                              <a:lnTo>
                                <a:pt x="337" y="503"/>
                              </a:lnTo>
                              <a:lnTo>
                                <a:pt x="359" y="492"/>
                              </a:lnTo>
                              <a:lnTo>
                                <a:pt x="378" y="478"/>
                              </a:lnTo>
                              <a:lnTo>
                                <a:pt x="397" y="463"/>
                              </a:lnTo>
                              <a:lnTo>
                                <a:pt x="414" y="447"/>
                              </a:lnTo>
                              <a:lnTo>
                                <a:pt x="429" y="428"/>
                              </a:lnTo>
                              <a:lnTo>
                                <a:pt x="443" y="407"/>
                              </a:lnTo>
                              <a:lnTo>
                                <a:pt x="455" y="386"/>
                              </a:lnTo>
                              <a:lnTo>
                                <a:pt x="465" y="363"/>
                              </a:lnTo>
                              <a:lnTo>
                                <a:pt x="473" y="339"/>
                              </a:lnTo>
                              <a:lnTo>
                                <a:pt x="479" y="314"/>
                              </a:lnTo>
                              <a:lnTo>
                                <a:pt x="483" y="288"/>
                              </a:lnTo>
                              <a:lnTo>
                                <a:pt x="484" y="261"/>
                              </a:lnTo>
                              <a:lnTo>
                                <a:pt x="483" y="234"/>
                              </a:lnTo>
                              <a:lnTo>
                                <a:pt x="479" y="209"/>
                              </a:lnTo>
                              <a:lnTo>
                                <a:pt x="473" y="183"/>
                              </a:lnTo>
                              <a:lnTo>
                                <a:pt x="465" y="160"/>
                              </a:lnTo>
                              <a:lnTo>
                                <a:pt x="455" y="137"/>
                              </a:lnTo>
                              <a:lnTo>
                                <a:pt x="443" y="115"/>
                              </a:lnTo>
                              <a:lnTo>
                                <a:pt x="429" y="95"/>
                              </a:lnTo>
                              <a:lnTo>
                                <a:pt x="414" y="76"/>
                              </a:lnTo>
                              <a:lnTo>
                                <a:pt x="397" y="59"/>
                              </a:lnTo>
                              <a:lnTo>
                                <a:pt x="378" y="44"/>
                              </a:lnTo>
                              <a:lnTo>
                                <a:pt x="359" y="31"/>
                              </a:lnTo>
                              <a:lnTo>
                                <a:pt x="337" y="21"/>
                              </a:lnTo>
                              <a:lnTo>
                                <a:pt x="315" y="11"/>
                              </a:lnTo>
                              <a:lnTo>
                                <a:pt x="292" y="5"/>
                              </a:lnTo>
                              <a:lnTo>
                                <a:pt x="267" y="1"/>
                              </a:lnTo>
                              <a:lnTo>
                                <a:pt x="243" y="0"/>
                              </a:lnTo>
                              <a:lnTo>
                                <a:pt x="219" y="1"/>
                              </a:lnTo>
                              <a:lnTo>
                                <a:pt x="194" y="5"/>
                              </a:lnTo>
                              <a:lnTo>
                                <a:pt x="171" y="11"/>
                              </a:lnTo>
                              <a:lnTo>
                                <a:pt x="148" y="21"/>
                              </a:lnTo>
                              <a:lnTo>
                                <a:pt x="127" y="31"/>
                              </a:lnTo>
                              <a:lnTo>
                                <a:pt x="107" y="44"/>
                              </a:lnTo>
                              <a:lnTo>
                                <a:pt x="88" y="59"/>
                              </a:lnTo>
                              <a:lnTo>
                                <a:pt x="71" y="76"/>
                              </a:lnTo>
                              <a:lnTo>
                                <a:pt x="55" y="95"/>
                              </a:lnTo>
                              <a:lnTo>
                                <a:pt x="41" y="115"/>
                              </a:lnTo>
                              <a:lnTo>
                                <a:pt x="29" y="137"/>
                              </a:lnTo>
                              <a:lnTo>
                                <a:pt x="19" y="160"/>
                              </a:lnTo>
                              <a:lnTo>
                                <a:pt x="10" y="183"/>
                              </a:lnTo>
                              <a:lnTo>
                                <a:pt x="4" y="209"/>
                              </a:lnTo>
                              <a:lnTo>
                                <a:pt x="1" y="234"/>
                              </a:lnTo>
                              <a:lnTo>
                                <a:pt x="0" y="261"/>
                              </a:lnTo>
                              <a:lnTo>
                                <a:pt x="1" y="288"/>
                              </a:lnTo>
                              <a:lnTo>
                                <a:pt x="4" y="314"/>
                              </a:lnTo>
                              <a:lnTo>
                                <a:pt x="10" y="339"/>
                              </a:lnTo>
                              <a:lnTo>
                                <a:pt x="19" y="363"/>
                              </a:lnTo>
                              <a:lnTo>
                                <a:pt x="29" y="386"/>
                              </a:lnTo>
                              <a:lnTo>
                                <a:pt x="41" y="407"/>
                              </a:lnTo>
                              <a:lnTo>
                                <a:pt x="55" y="428"/>
                              </a:lnTo>
                              <a:lnTo>
                                <a:pt x="71" y="447"/>
                              </a:lnTo>
                              <a:lnTo>
                                <a:pt x="88" y="463"/>
                              </a:lnTo>
                              <a:lnTo>
                                <a:pt x="107" y="478"/>
                              </a:lnTo>
                              <a:lnTo>
                                <a:pt x="127" y="492"/>
                              </a:lnTo>
                              <a:lnTo>
                                <a:pt x="148" y="503"/>
                              </a:lnTo>
                              <a:lnTo>
                                <a:pt x="171" y="512"/>
                              </a:lnTo>
                              <a:lnTo>
                                <a:pt x="194" y="518"/>
                              </a:lnTo>
                              <a:lnTo>
                                <a:pt x="219" y="522"/>
                              </a:lnTo>
                              <a:lnTo>
                                <a:pt x="243" y="52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8fcf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040" bIns="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3723120" y="5195880"/>
                          <a:ext cx="81360" cy="71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5" h="479">
                              <a:moveTo>
                                <a:pt x="224" y="479"/>
                              </a:moveTo>
                              <a:lnTo>
                                <a:pt x="247" y="478"/>
                              </a:lnTo>
                              <a:lnTo>
                                <a:pt x="269" y="475"/>
                              </a:lnTo>
                              <a:lnTo>
                                <a:pt x="290" y="469"/>
                              </a:lnTo>
                              <a:lnTo>
                                <a:pt x="311" y="461"/>
                              </a:lnTo>
                              <a:lnTo>
                                <a:pt x="329" y="450"/>
                              </a:lnTo>
                              <a:lnTo>
                                <a:pt x="348" y="439"/>
                              </a:lnTo>
                              <a:lnTo>
                                <a:pt x="365" y="425"/>
                              </a:lnTo>
                              <a:lnTo>
                                <a:pt x="380" y="409"/>
                              </a:lnTo>
                              <a:lnTo>
                                <a:pt x="395" y="392"/>
                              </a:lnTo>
                              <a:lnTo>
                                <a:pt x="408" y="374"/>
                              </a:lnTo>
                              <a:lnTo>
                                <a:pt x="419" y="354"/>
                              </a:lnTo>
                              <a:lnTo>
                                <a:pt x="428" y="332"/>
                              </a:lnTo>
                              <a:lnTo>
                                <a:pt x="435" y="310"/>
                              </a:lnTo>
                              <a:lnTo>
                                <a:pt x="441" y="288"/>
                              </a:lnTo>
                              <a:lnTo>
                                <a:pt x="444" y="263"/>
                              </a:lnTo>
                              <a:lnTo>
                                <a:pt x="445" y="239"/>
                              </a:lnTo>
                              <a:lnTo>
                                <a:pt x="444" y="215"/>
                              </a:lnTo>
                              <a:lnTo>
                                <a:pt x="441" y="190"/>
                              </a:lnTo>
                              <a:lnTo>
                                <a:pt x="435" y="168"/>
                              </a:lnTo>
                              <a:lnTo>
                                <a:pt x="428" y="146"/>
                              </a:lnTo>
                              <a:lnTo>
                                <a:pt x="419" y="125"/>
                              </a:lnTo>
                              <a:lnTo>
                                <a:pt x="408" y="105"/>
                              </a:lnTo>
                              <a:lnTo>
                                <a:pt x="395" y="87"/>
                              </a:lnTo>
                              <a:lnTo>
                                <a:pt x="380" y="69"/>
                              </a:lnTo>
                              <a:lnTo>
                                <a:pt x="365" y="54"/>
                              </a:lnTo>
                              <a:lnTo>
                                <a:pt x="348" y="40"/>
                              </a:lnTo>
                              <a:lnTo>
                                <a:pt x="329" y="29"/>
                              </a:lnTo>
                              <a:lnTo>
                                <a:pt x="311" y="18"/>
                              </a:lnTo>
                              <a:lnTo>
                                <a:pt x="290" y="10"/>
                              </a:lnTo>
                              <a:lnTo>
                                <a:pt x="269" y="4"/>
                              </a:lnTo>
                              <a:lnTo>
                                <a:pt x="247" y="1"/>
                              </a:lnTo>
                              <a:lnTo>
                                <a:pt x="224" y="0"/>
                              </a:lnTo>
                              <a:lnTo>
                                <a:pt x="201" y="1"/>
                              </a:lnTo>
                              <a:lnTo>
                                <a:pt x="179" y="4"/>
                              </a:lnTo>
                              <a:lnTo>
                                <a:pt x="158" y="10"/>
                              </a:lnTo>
                              <a:lnTo>
                                <a:pt x="137" y="18"/>
                              </a:lnTo>
                              <a:lnTo>
                                <a:pt x="117" y="29"/>
                              </a:lnTo>
                              <a:lnTo>
                                <a:pt x="99" y="40"/>
                              </a:lnTo>
                              <a:lnTo>
                                <a:pt x="81" y="54"/>
                              </a:lnTo>
                              <a:lnTo>
                                <a:pt x="66" y="69"/>
                              </a:lnTo>
                              <a:lnTo>
                                <a:pt x="51" y="87"/>
                              </a:lnTo>
                              <a:lnTo>
                                <a:pt x="38" y="105"/>
                              </a:lnTo>
                              <a:lnTo>
                                <a:pt x="27" y="125"/>
                              </a:lnTo>
                              <a:lnTo>
                                <a:pt x="18" y="146"/>
                              </a:lnTo>
                              <a:lnTo>
                                <a:pt x="11" y="168"/>
                              </a:lnTo>
                              <a:lnTo>
                                <a:pt x="5" y="190"/>
                              </a:lnTo>
                              <a:lnTo>
                                <a:pt x="1" y="215"/>
                              </a:lnTo>
                              <a:lnTo>
                                <a:pt x="0" y="239"/>
                              </a:lnTo>
                              <a:lnTo>
                                <a:pt x="1" y="263"/>
                              </a:lnTo>
                              <a:lnTo>
                                <a:pt x="5" y="288"/>
                              </a:lnTo>
                              <a:lnTo>
                                <a:pt x="11" y="310"/>
                              </a:lnTo>
                              <a:lnTo>
                                <a:pt x="18" y="332"/>
                              </a:lnTo>
                              <a:lnTo>
                                <a:pt x="27" y="354"/>
                              </a:lnTo>
                              <a:lnTo>
                                <a:pt x="38" y="374"/>
                              </a:lnTo>
                              <a:lnTo>
                                <a:pt x="51" y="392"/>
                              </a:lnTo>
                              <a:lnTo>
                                <a:pt x="66" y="409"/>
                              </a:lnTo>
                              <a:lnTo>
                                <a:pt x="81" y="425"/>
                              </a:lnTo>
                              <a:lnTo>
                                <a:pt x="99" y="439"/>
                              </a:lnTo>
                              <a:lnTo>
                                <a:pt x="117" y="450"/>
                              </a:lnTo>
                              <a:lnTo>
                                <a:pt x="137" y="461"/>
                              </a:lnTo>
                              <a:lnTo>
                                <a:pt x="158" y="469"/>
                              </a:lnTo>
                              <a:lnTo>
                                <a:pt x="179" y="475"/>
                              </a:lnTo>
                              <a:lnTo>
                                <a:pt x="201" y="478"/>
                              </a:lnTo>
                              <a:lnTo>
                                <a:pt x="224" y="47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fcf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480" bIns="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6" name=""/>
                        <p:cNvSpPr/>
                        <p:nvPr/>
                      </p:nvSpPr>
                      <p:spPr>
                        <a:xfrm>
                          <a:off x="3726720" y="5198760"/>
                          <a:ext cx="74160" cy="65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3" h="436">
                              <a:moveTo>
                                <a:pt x="203" y="436"/>
                              </a:moveTo>
                              <a:lnTo>
                                <a:pt x="224" y="435"/>
                              </a:lnTo>
                              <a:lnTo>
                                <a:pt x="243" y="432"/>
                              </a:lnTo>
                              <a:lnTo>
                                <a:pt x="263" y="427"/>
                              </a:lnTo>
                              <a:lnTo>
                                <a:pt x="282" y="419"/>
                              </a:lnTo>
                              <a:lnTo>
                                <a:pt x="299" y="410"/>
                              </a:lnTo>
                              <a:lnTo>
                                <a:pt x="315" y="399"/>
                              </a:lnTo>
                              <a:lnTo>
                                <a:pt x="330" y="386"/>
                              </a:lnTo>
                              <a:lnTo>
                                <a:pt x="345" y="372"/>
                              </a:lnTo>
                              <a:lnTo>
                                <a:pt x="358" y="357"/>
                              </a:lnTo>
                              <a:lnTo>
                                <a:pt x="370" y="340"/>
                              </a:lnTo>
                              <a:lnTo>
                                <a:pt x="379" y="322"/>
                              </a:lnTo>
                              <a:lnTo>
                                <a:pt x="387" y="303"/>
                              </a:lnTo>
                              <a:lnTo>
                                <a:pt x="394" y="283"/>
                              </a:lnTo>
                              <a:lnTo>
                                <a:pt x="400" y="262"/>
                              </a:lnTo>
                              <a:lnTo>
                                <a:pt x="402" y="240"/>
                              </a:lnTo>
                              <a:lnTo>
                                <a:pt x="403" y="218"/>
                              </a:lnTo>
                              <a:lnTo>
                                <a:pt x="402" y="196"/>
                              </a:lnTo>
                              <a:lnTo>
                                <a:pt x="400" y="174"/>
                              </a:lnTo>
                              <a:lnTo>
                                <a:pt x="394" y="153"/>
                              </a:lnTo>
                              <a:lnTo>
                                <a:pt x="387" y="133"/>
                              </a:lnTo>
                              <a:lnTo>
                                <a:pt x="379" y="113"/>
                              </a:lnTo>
                              <a:lnTo>
                                <a:pt x="370" y="96"/>
                              </a:lnTo>
                              <a:lnTo>
                                <a:pt x="358" y="79"/>
                              </a:lnTo>
                              <a:lnTo>
                                <a:pt x="345" y="63"/>
                              </a:lnTo>
                              <a:lnTo>
                                <a:pt x="330" y="50"/>
                              </a:lnTo>
                              <a:lnTo>
                                <a:pt x="315" y="37"/>
                              </a:lnTo>
                              <a:lnTo>
                                <a:pt x="299" y="26"/>
                              </a:lnTo>
                              <a:lnTo>
                                <a:pt x="282" y="17"/>
                              </a:lnTo>
                              <a:lnTo>
                                <a:pt x="263" y="9"/>
                              </a:lnTo>
                              <a:lnTo>
                                <a:pt x="243" y="4"/>
                              </a:lnTo>
                              <a:lnTo>
                                <a:pt x="224" y="1"/>
                              </a:lnTo>
                              <a:lnTo>
                                <a:pt x="203" y="0"/>
                              </a:lnTo>
                              <a:lnTo>
                                <a:pt x="182" y="1"/>
                              </a:lnTo>
                              <a:lnTo>
                                <a:pt x="162" y="4"/>
                              </a:lnTo>
                              <a:lnTo>
                                <a:pt x="143" y="9"/>
                              </a:lnTo>
                              <a:lnTo>
                                <a:pt x="124" y="17"/>
                              </a:lnTo>
                              <a:lnTo>
                                <a:pt x="106" y="26"/>
                              </a:lnTo>
                              <a:lnTo>
                                <a:pt x="89" y="37"/>
                              </a:lnTo>
                              <a:lnTo>
                                <a:pt x="74" y="50"/>
                              </a:lnTo>
                              <a:lnTo>
                                <a:pt x="59" y="63"/>
                              </a:lnTo>
                              <a:lnTo>
                                <a:pt x="46" y="79"/>
                              </a:lnTo>
                              <a:lnTo>
                                <a:pt x="35" y="96"/>
                              </a:lnTo>
                              <a:lnTo>
                                <a:pt x="24" y="113"/>
                              </a:lnTo>
                              <a:lnTo>
                                <a:pt x="16" y="133"/>
                              </a:lnTo>
                              <a:lnTo>
                                <a:pt x="9" y="153"/>
                              </a:lnTo>
                              <a:lnTo>
                                <a:pt x="5" y="174"/>
                              </a:lnTo>
                              <a:lnTo>
                                <a:pt x="1" y="196"/>
                              </a:lnTo>
                              <a:lnTo>
                                <a:pt x="0" y="218"/>
                              </a:lnTo>
                              <a:lnTo>
                                <a:pt x="1" y="240"/>
                              </a:lnTo>
                              <a:lnTo>
                                <a:pt x="5" y="262"/>
                              </a:lnTo>
                              <a:lnTo>
                                <a:pt x="9" y="283"/>
                              </a:lnTo>
                              <a:lnTo>
                                <a:pt x="16" y="303"/>
                              </a:lnTo>
                              <a:lnTo>
                                <a:pt x="24" y="322"/>
                              </a:lnTo>
                              <a:lnTo>
                                <a:pt x="35" y="340"/>
                              </a:lnTo>
                              <a:lnTo>
                                <a:pt x="46" y="357"/>
                              </a:lnTo>
                              <a:lnTo>
                                <a:pt x="59" y="372"/>
                              </a:lnTo>
                              <a:lnTo>
                                <a:pt x="74" y="386"/>
                              </a:lnTo>
                              <a:lnTo>
                                <a:pt x="89" y="399"/>
                              </a:lnTo>
                              <a:lnTo>
                                <a:pt x="106" y="410"/>
                              </a:lnTo>
                              <a:lnTo>
                                <a:pt x="124" y="419"/>
                              </a:lnTo>
                              <a:lnTo>
                                <a:pt x="143" y="427"/>
                              </a:lnTo>
                              <a:lnTo>
                                <a:pt x="162" y="432"/>
                              </a:lnTo>
                              <a:lnTo>
                                <a:pt x="182" y="435"/>
                              </a:lnTo>
                              <a:lnTo>
                                <a:pt x="203" y="4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4fcf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>
                          <a:off x="3730320" y="5201640"/>
                          <a:ext cx="6696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5" h="392">
                              <a:moveTo>
                                <a:pt x="183" y="392"/>
                              </a:moveTo>
                              <a:lnTo>
                                <a:pt x="219" y="389"/>
                              </a:lnTo>
                              <a:lnTo>
                                <a:pt x="254" y="377"/>
                              </a:lnTo>
                              <a:lnTo>
                                <a:pt x="284" y="359"/>
                              </a:lnTo>
                              <a:lnTo>
                                <a:pt x="311" y="334"/>
                              </a:lnTo>
                              <a:lnTo>
                                <a:pt x="333" y="305"/>
                              </a:lnTo>
                              <a:lnTo>
                                <a:pt x="351" y="271"/>
                              </a:lnTo>
                              <a:lnTo>
                                <a:pt x="361" y="234"/>
                              </a:lnTo>
                              <a:lnTo>
                                <a:pt x="365" y="195"/>
                              </a:lnTo>
                              <a:lnTo>
                                <a:pt x="361" y="155"/>
                              </a:lnTo>
                              <a:lnTo>
                                <a:pt x="351" y="119"/>
                              </a:lnTo>
                              <a:lnTo>
                                <a:pt x="333" y="86"/>
                              </a:lnTo>
                              <a:lnTo>
                                <a:pt x="311" y="57"/>
                              </a:lnTo>
                              <a:lnTo>
                                <a:pt x="284" y="33"/>
                              </a:lnTo>
                              <a:lnTo>
                                <a:pt x="254" y="15"/>
                              </a:lnTo>
                              <a:lnTo>
                                <a:pt x="219" y="3"/>
                              </a:lnTo>
                              <a:lnTo>
                                <a:pt x="183" y="0"/>
                              </a:lnTo>
                              <a:lnTo>
                                <a:pt x="146" y="3"/>
                              </a:lnTo>
                              <a:lnTo>
                                <a:pt x="112" y="15"/>
                              </a:lnTo>
                              <a:lnTo>
                                <a:pt x="81" y="33"/>
                              </a:lnTo>
                              <a:lnTo>
                                <a:pt x="53" y="57"/>
                              </a:lnTo>
                              <a:lnTo>
                                <a:pt x="31" y="86"/>
                              </a:lnTo>
                              <a:lnTo>
                                <a:pt x="14" y="119"/>
                              </a:lnTo>
                              <a:lnTo>
                                <a:pt x="3" y="155"/>
                              </a:lnTo>
                              <a:lnTo>
                                <a:pt x="0" y="195"/>
                              </a:lnTo>
                              <a:lnTo>
                                <a:pt x="3" y="234"/>
                              </a:lnTo>
                              <a:lnTo>
                                <a:pt x="14" y="271"/>
                              </a:lnTo>
                              <a:lnTo>
                                <a:pt x="31" y="305"/>
                              </a:lnTo>
                              <a:lnTo>
                                <a:pt x="53" y="334"/>
                              </a:lnTo>
                              <a:lnTo>
                                <a:pt x="81" y="359"/>
                              </a:lnTo>
                              <a:lnTo>
                                <a:pt x="112" y="377"/>
                              </a:lnTo>
                              <a:lnTo>
                                <a:pt x="146" y="389"/>
                              </a:lnTo>
                              <a:lnTo>
                                <a:pt x="183" y="39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9fff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3734280" y="5204880"/>
                          <a:ext cx="59400" cy="52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3" h="348">
                              <a:moveTo>
                                <a:pt x="161" y="348"/>
                              </a:moveTo>
                              <a:lnTo>
                                <a:pt x="193" y="345"/>
                              </a:lnTo>
                              <a:lnTo>
                                <a:pt x="224" y="334"/>
                              </a:lnTo>
                              <a:lnTo>
                                <a:pt x="252" y="318"/>
                              </a:lnTo>
                              <a:lnTo>
                                <a:pt x="275" y="297"/>
                              </a:lnTo>
                              <a:lnTo>
                                <a:pt x="295" y="271"/>
                              </a:lnTo>
                              <a:lnTo>
                                <a:pt x="310" y="241"/>
                              </a:lnTo>
                              <a:lnTo>
                                <a:pt x="319" y="209"/>
                              </a:lnTo>
                              <a:lnTo>
                                <a:pt x="323" y="174"/>
                              </a:lnTo>
                              <a:lnTo>
                                <a:pt x="319" y="139"/>
                              </a:lnTo>
                              <a:lnTo>
                                <a:pt x="310" y="106"/>
                              </a:lnTo>
                              <a:lnTo>
                                <a:pt x="295" y="77"/>
                              </a:lnTo>
                              <a:lnTo>
                                <a:pt x="275" y="51"/>
                              </a:lnTo>
                              <a:lnTo>
                                <a:pt x="252" y="30"/>
                              </a:lnTo>
                              <a:lnTo>
                                <a:pt x="224" y="14"/>
                              </a:lnTo>
                              <a:lnTo>
                                <a:pt x="193" y="3"/>
                              </a:lnTo>
                              <a:lnTo>
                                <a:pt x="161" y="0"/>
                              </a:lnTo>
                              <a:lnTo>
                                <a:pt x="128" y="3"/>
                              </a:lnTo>
                              <a:lnTo>
                                <a:pt x="98" y="14"/>
                              </a:lnTo>
                              <a:lnTo>
                                <a:pt x="70" y="30"/>
                              </a:lnTo>
                              <a:lnTo>
                                <a:pt x="47" y="51"/>
                              </a:lnTo>
                              <a:lnTo>
                                <a:pt x="27" y="77"/>
                              </a:lnTo>
                              <a:lnTo>
                                <a:pt x="12" y="106"/>
                              </a:lnTo>
                              <a:lnTo>
                                <a:pt x="3" y="139"/>
                              </a:lnTo>
                              <a:lnTo>
                                <a:pt x="0" y="174"/>
                              </a:lnTo>
                              <a:lnTo>
                                <a:pt x="3" y="209"/>
                              </a:lnTo>
                              <a:lnTo>
                                <a:pt x="12" y="241"/>
                              </a:lnTo>
                              <a:lnTo>
                                <a:pt x="27" y="271"/>
                              </a:lnTo>
                              <a:lnTo>
                                <a:pt x="47" y="297"/>
                              </a:lnTo>
                              <a:lnTo>
                                <a:pt x="70" y="318"/>
                              </a:lnTo>
                              <a:lnTo>
                                <a:pt x="98" y="334"/>
                              </a:lnTo>
                              <a:lnTo>
                                <a:pt x="128" y="345"/>
                              </a:lnTo>
                              <a:lnTo>
                                <a:pt x="161" y="34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3677040" y="5155920"/>
                          <a:ext cx="170280" cy="11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1" h="768">
                              <a:moveTo>
                                <a:pt x="848" y="768"/>
                              </a:moveTo>
                              <a:lnTo>
                                <a:pt x="864" y="767"/>
                              </a:lnTo>
                              <a:lnTo>
                                <a:pt x="881" y="761"/>
                              </a:lnTo>
                              <a:lnTo>
                                <a:pt x="895" y="754"/>
                              </a:lnTo>
                              <a:lnTo>
                                <a:pt x="906" y="743"/>
                              </a:lnTo>
                              <a:lnTo>
                                <a:pt x="917" y="732"/>
                              </a:lnTo>
                              <a:lnTo>
                                <a:pt x="924" y="718"/>
                              </a:lnTo>
                              <a:lnTo>
                                <a:pt x="929" y="702"/>
                              </a:lnTo>
                              <a:lnTo>
                                <a:pt x="931" y="685"/>
                              </a:lnTo>
                              <a:lnTo>
                                <a:pt x="931" y="83"/>
                              </a:lnTo>
                              <a:lnTo>
                                <a:pt x="929" y="65"/>
                              </a:lnTo>
                              <a:lnTo>
                                <a:pt x="924" y="50"/>
                              </a:lnTo>
                              <a:lnTo>
                                <a:pt x="917" y="36"/>
                              </a:lnTo>
                              <a:lnTo>
                                <a:pt x="906" y="23"/>
                              </a:lnTo>
                              <a:lnTo>
                                <a:pt x="895" y="14"/>
                              </a:lnTo>
                              <a:lnTo>
                                <a:pt x="881" y="6"/>
                              </a:lnTo>
                              <a:lnTo>
                                <a:pt x="864" y="1"/>
                              </a:lnTo>
                              <a:lnTo>
                                <a:pt x="848" y="0"/>
                              </a:lnTo>
                              <a:lnTo>
                                <a:pt x="82" y="0"/>
                              </a:lnTo>
                              <a:lnTo>
                                <a:pt x="66" y="1"/>
                              </a:lnTo>
                              <a:lnTo>
                                <a:pt x="50" y="6"/>
                              </a:lnTo>
                              <a:lnTo>
                                <a:pt x="36" y="14"/>
                              </a:lnTo>
                              <a:lnTo>
                                <a:pt x="24" y="23"/>
                              </a:lnTo>
                              <a:lnTo>
                                <a:pt x="14" y="36"/>
                              </a:lnTo>
                              <a:lnTo>
                                <a:pt x="7" y="50"/>
                              </a:lnTo>
                              <a:lnTo>
                                <a:pt x="1" y="65"/>
                              </a:lnTo>
                              <a:lnTo>
                                <a:pt x="0" y="83"/>
                              </a:lnTo>
                              <a:lnTo>
                                <a:pt x="0" y="685"/>
                              </a:lnTo>
                              <a:lnTo>
                                <a:pt x="1" y="702"/>
                              </a:lnTo>
                              <a:lnTo>
                                <a:pt x="7" y="718"/>
                              </a:lnTo>
                              <a:lnTo>
                                <a:pt x="14" y="732"/>
                              </a:lnTo>
                              <a:lnTo>
                                <a:pt x="24" y="743"/>
                              </a:lnTo>
                              <a:lnTo>
                                <a:pt x="36" y="754"/>
                              </a:lnTo>
                              <a:lnTo>
                                <a:pt x="50" y="761"/>
                              </a:lnTo>
                              <a:lnTo>
                                <a:pt x="66" y="767"/>
                              </a:lnTo>
                              <a:lnTo>
                                <a:pt x="82" y="768"/>
                              </a:lnTo>
                              <a:lnTo>
                                <a:pt x="848" y="7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3683520" y="5160600"/>
                          <a:ext cx="156600" cy="10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5" h="705">
                              <a:moveTo>
                                <a:pt x="780" y="705"/>
                              </a:moveTo>
                              <a:lnTo>
                                <a:pt x="795" y="703"/>
                              </a:lnTo>
                              <a:lnTo>
                                <a:pt x="809" y="699"/>
                              </a:lnTo>
                              <a:lnTo>
                                <a:pt x="821" y="692"/>
                              </a:lnTo>
                              <a:lnTo>
                                <a:pt x="833" y="682"/>
                              </a:lnTo>
                              <a:lnTo>
                                <a:pt x="842" y="671"/>
                              </a:lnTo>
                              <a:lnTo>
                                <a:pt x="849" y="658"/>
                              </a:lnTo>
                              <a:lnTo>
                                <a:pt x="854" y="644"/>
                              </a:lnTo>
                              <a:lnTo>
                                <a:pt x="855" y="629"/>
                              </a:lnTo>
                              <a:lnTo>
                                <a:pt x="855" y="75"/>
                              </a:lnTo>
                              <a:lnTo>
                                <a:pt x="854" y="60"/>
                              </a:lnTo>
                              <a:lnTo>
                                <a:pt x="849" y="46"/>
                              </a:lnTo>
                              <a:lnTo>
                                <a:pt x="842" y="33"/>
                              </a:lnTo>
                              <a:lnTo>
                                <a:pt x="833" y="22"/>
                              </a:lnTo>
                              <a:lnTo>
                                <a:pt x="821" y="12"/>
                              </a:lnTo>
                              <a:lnTo>
                                <a:pt x="809" y="5"/>
                              </a:lnTo>
                              <a:lnTo>
                                <a:pt x="795" y="1"/>
                              </a:lnTo>
                              <a:lnTo>
                                <a:pt x="780" y="0"/>
                              </a:lnTo>
                              <a:lnTo>
                                <a:pt x="75" y="0"/>
                              </a:lnTo>
                              <a:lnTo>
                                <a:pt x="60" y="1"/>
                              </a:lnTo>
                              <a:lnTo>
                                <a:pt x="46" y="5"/>
                              </a:lnTo>
                              <a:lnTo>
                                <a:pt x="33" y="12"/>
                              </a:lnTo>
                              <a:lnTo>
                                <a:pt x="22" y="22"/>
                              </a:lnTo>
                              <a:lnTo>
                                <a:pt x="13" y="33"/>
                              </a:lnTo>
                              <a:lnTo>
                                <a:pt x="6" y="46"/>
                              </a:lnTo>
                              <a:lnTo>
                                <a:pt x="1" y="60"/>
                              </a:lnTo>
                              <a:lnTo>
                                <a:pt x="0" y="75"/>
                              </a:lnTo>
                              <a:lnTo>
                                <a:pt x="0" y="629"/>
                              </a:lnTo>
                              <a:lnTo>
                                <a:pt x="1" y="644"/>
                              </a:lnTo>
                              <a:lnTo>
                                <a:pt x="6" y="658"/>
                              </a:lnTo>
                              <a:lnTo>
                                <a:pt x="13" y="671"/>
                              </a:lnTo>
                              <a:lnTo>
                                <a:pt x="22" y="682"/>
                              </a:lnTo>
                              <a:lnTo>
                                <a:pt x="33" y="692"/>
                              </a:lnTo>
                              <a:lnTo>
                                <a:pt x="46" y="699"/>
                              </a:lnTo>
                              <a:lnTo>
                                <a:pt x="60" y="703"/>
                              </a:lnTo>
                              <a:lnTo>
                                <a:pt x="75" y="705"/>
                              </a:lnTo>
                              <a:lnTo>
                                <a:pt x="780" y="70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aa3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>
                          <a:off x="3686400" y="5162760"/>
                          <a:ext cx="151200" cy="10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23" h="680">
                              <a:moveTo>
                                <a:pt x="751" y="680"/>
                              </a:moveTo>
                              <a:lnTo>
                                <a:pt x="765" y="679"/>
                              </a:lnTo>
                              <a:lnTo>
                                <a:pt x="779" y="674"/>
                              </a:lnTo>
                              <a:lnTo>
                                <a:pt x="791" y="667"/>
                              </a:lnTo>
                              <a:lnTo>
                                <a:pt x="802" y="659"/>
                              </a:lnTo>
                              <a:lnTo>
                                <a:pt x="810" y="647"/>
                              </a:lnTo>
                              <a:lnTo>
                                <a:pt x="817" y="636"/>
                              </a:lnTo>
                              <a:lnTo>
                                <a:pt x="822" y="622"/>
                              </a:lnTo>
                              <a:lnTo>
                                <a:pt x="823" y="607"/>
                              </a:lnTo>
                              <a:lnTo>
                                <a:pt x="823" y="74"/>
                              </a:lnTo>
                              <a:lnTo>
                                <a:pt x="822" y="58"/>
                              </a:lnTo>
                              <a:lnTo>
                                <a:pt x="817" y="45"/>
                              </a:lnTo>
                              <a:lnTo>
                                <a:pt x="810" y="33"/>
                              </a:lnTo>
                              <a:lnTo>
                                <a:pt x="802" y="21"/>
                              </a:lnTo>
                              <a:lnTo>
                                <a:pt x="791" y="13"/>
                              </a:lnTo>
                              <a:lnTo>
                                <a:pt x="779" y="6"/>
                              </a:lnTo>
                              <a:lnTo>
                                <a:pt x="765" y="2"/>
                              </a:lnTo>
                              <a:lnTo>
                                <a:pt x="751" y="0"/>
                              </a:lnTo>
                              <a:lnTo>
                                <a:pt x="73" y="0"/>
                              </a:lnTo>
                              <a:lnTo>
                                <a:pt x="58" y="2"/>
                              </a:lnTo>
                              <a:lnTo>
                                <a:pt x="44" y="6"/>
                              </a:lnTo>
                              <a:lnTo>
                                <a:pt x="33" y="13"/>
                              </a:lnTo>
                              <a:lnTo>
                                <a:pt x="21" y="21"/>
                              </a:lnTo>
                              <a:lnTo>
                                <a:pt x="13" y="33"/>
                              </a:lnTo>
                              <a:lnTo>
                                <a:pt x="6" y="45"/>
                              </a:lnTo>
                              <a:lnTo>
                                <a:pt x="1" y="58"/>
                              </a:lnTo>
                              <a:lnTo>
                                <a:pt x="0" y="74"/>
                              </a:lnTo>
                              <a:lnTo>
                                <a:pt x="0" y="607"/>
                              </a:lnTo>
                              <a:lnTo>
                                <a:pt x="1" y="622"/>
                              </a:lnTo>
                              <a:lnTo>
                                <a:pt x="6" y="636"/>
                              </a:lnTo>
                              <a:lnTo>
                                <a:pt x="13" y="647"/>
                              </a:lnTo>
                              <a:lnTo>
                                <a:pt x="21" y="659"/>
                              </a:lnTo>
                              <a:lnTo>
                                <a:pt x="33" y="667"/>
                              </a:lnTo>
                              <a:lnTo>
                                <a:pt x="44" y="674"/>
                              </a:lnTo>
                              <a:lnTo>
                                <a:pt x="58" y="679"/>
                              </a:lnTo>
                              <a:lnTo>
                                <a:pt x="73" y="680"/>
                              </a:lnTo>
                              <a:lnTo>
                                <a:pt x="751" y="68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a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>
                          <a:off x="3688920" y="5164200"/>
                          <a:ext cx="145800" cy="9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93" h="654">
                              <a:moveTo>
                                <a:pt x="722" y="654"/>
                              </a:moveTo>
                              <a:lnTo>
                                <a:pt x="736" y="653"/>
                              </a:lnTo>
                              <a:lnTo>
                                <a:pt x="750" y="648"/>
                              </a:lnTo>
                              <a:lnTo>
                                <a:pt x="761" y="642"/>
                              </a:lnTo>
                              <a:lnTo>
                                <a:pt x="772" y="633"/>
                              </a:lnTo>
                              <a:lnTo>
                                <a:pt x="781" y="623"/>
                              </a:lnTo>
                              <a:lnTo>
                                <a:pt x="787" y="611"/>
                              </a:lnTo>
                              <a:lnTo>
                                <a:pt x="792" y="598"/>
                              </a:lnTo>
                              <a:lnTo>
                                <a:pt x="793" y="584"/>
                              </a:lnTo>
                              <a:lnTo>
                                <a:pt x="793" y="70"/>
                              </a:lnTo>
                              <a:lnTo>
                                <a:pt x="792" y="56"/>
                              </a:lnTo>
                              <a:lnTo>
                                <a:pt x="787" y="43"/>
                              </a:lnTo>
                              <a:lnTo>
                                <a:pt x="781" y="32"/>
                              </a:lnTo>
                              <a:lnTo>
                                <a:pt x="772" y="21"/>
                              </a:lnTo>
                              <a:lnTo>
                                <a:pt x="761" y="12"/>
                              </a:lnTo>
                              <a:lnTo>
                                <a:pt x="750" y="6"/>
                              </a:lnTo>
                              <a:lnTo>
                                <a:pt x="736" y="1"/>
                              </a:lnTo>
                              <a:lnTo>
                                <a:pt x="722" y="0"/>
                              </a:lnTo>
                              <a:lnTo>
                                <a:pt x="71" y="0"/>
                              </a:lnTo>
                              <a:lnTo>
                                <a:pt x="57" y="1"/>
                              </a:lnTo>
                              <a:lnTo>
                                <a:pt x="43" y="6"/>
                              </a:lnTo>
                              <a:lnTo>
                                <a:pt x="31" y="12"/>
                              </a:lnTo>
                              <a:lnTo>
                                <a:pt x="21" y="21"/>
                              </a:lnTo>
                              <a:lnTo>
                                <a:pt x="12" y="32"/>
                              </a:lnTo>
                              <a:lnTo>
                                <a:pt x="6" y="43"/>
                              </a:lnTo>
                              <a:lnTo>
                                <a:pt x="1" y="56"/>
                              </a:lnTo>
                              <a:lnTo>
                                <a:pt x="0" y="70"/>
                              </a:lnTo>
                              <a:lnTo>
                                <a:pt x="0" y="584"/>
                              </a:lnTo>
                              <a:lnTo>
                                <a:pt x="1" y="598"/>
                              </a:lnTo>
                              <a:lnTo>
                                <a:pt x="6" y="611"/>
                              </a:lnTo>
                              <a:lnTo>
                                <a:pt x="12" y="623"/>
                              </a:lnTo>
                              <a:lnTo>
                                <a:pt x="21" y="633"/>
                              </a:lnTo>
                              <a:lnTo>
                                <a:pt x="31" y="642"/>
                              </a:lnTo>
                              <a:lnTo>
                                <a:pt x="43" y="648"/>
                              </a:lnTo>
                              <a:lnTo>
                                <a:pt x="57" y="653"/>
                              </a:lnTo>
                              <a:lnTo>
                                <a:pt x="71" y="654"/>
                              </a:lnTo>
                              <a:lnTo>
                                <a:pt x="722" y="6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b24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>
                          <a:off x="3691800" y="5166360"/>
                          <a:ext cx="13932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0" h="628">
                              <a:moveTo>
                                <a:pt x="693" y="628"/>
                              </a:moveTo>
                              <a:lnTo>
                                <a:pt x="707" y="627"/>
                              </a:lnTo>
                              <a:lnTo>
                                <a:pt x="720" y="622"/>
                              </a:lnTo>
                              <a:lnTo>
                                <a:pt x="730" y="617"/>
                              </a:lnTo>
                              <a:lnTo>
                                <a:pt x="741" y="608"/>
                              </a:lnTo>
                              <a:lnTo>
                                <a:pt x="749" y="598"/>
                              </a:lnTo>
                              <a:lnTo>
                                <a:pt x="755" y="588"/>
                              </a:lnTo>
                              <a:lnTo>
                                <a:pt x="759" y="575"/>
                              </a:lnTo>
                              <a:lnTo>
                                <a:pt x="760" y="561"/>
                              </a:lnTo>
                              <a:lnTo>
                                <a:pt x="760" y="67"/>
                              </a:lnTo>
                              <a:lnTo>
                                <a:pt x="759" y="53"/>
                              </a:lnTo>
                              <a:lnTo>
                                <a:pt x="755" y="41"/>
                              </a:lnTo>
                              <a:lnTo>
                                <a:pt x="749" y="30"/>
                              </a:lnTo>
                              <a:lnTo>
                                <a:pt x="741" y="20"/>
                              </a:lnTo>
                              <a:lnTo>
                                <a:pt x="730" y="12"/>
                              </a:lnTo>
                              <a:lnTo>
                                <a:pt x="720" y="6"/>
                              </a:lnTo>
                              <a:lnTo>
                                <a:pt x="707" y="1"/>
                              </a:lnTo>
                              <a:lnTo>
                                <a:pt x="693" y="0"/>
                              </a:lnTo>
                              <a:lnTo>
                                <a:pt x="68" y="0"/>
                              </a:lnTo>
                              <a:lnTo>
                                <a:pt x="54" y="1"/>
                              </a:lnTo>
                              <a:lnTo>
                                <a:pt x="41" y="6"/>
                              </a:lnTo>
                              <a:lnTo>
                                <a:pt x="31" y="12"/>
                              </a:lnTo>
                              <a:lnTo>
                                <a:pt x="20" y="20"/>
                              </a:lnTo>
                              <a:lnTo>
                                <a:pt x="12" y="30"/>
                              </a:lnTo>
                              <a:lnTo>
                                <a:pt x="6" y="41"/>
                              </a:lnTo>
                              <a:lnTo>
                                <a:pt x="2" y="53"/>
                              </a:lnTo>
                              <a:lnTo>
                                <a:pt x="0" y="67"/>
                              </a:lnTo>
                              <a:lnTo>
                                <a:pt x="0" y="561"/>
                              </a:lnTo>
                              <a:lnTo>
                                <a:pt x="2" y="575"/>
                              </a:lnTo>
                              <a:lnTo>
                                <a:pt x="6" y="588"/>
                              </a:lnTo>
                              <a:lnTo>
                                <a:pt x="12" y="598"/>
                              </a:lnTo>
                              <a:lnTo>
                                <a:pt x="20" y="608"/>
                              </a:lnTo>
                              <a:lnTo>
                                <a:pt x="31" y="617"/>
                              </a:lnTo>
                              <a:lnTo>
                                <a:pt x="41" y="622"/>
                              </a:lnTo>
                              <a:lnTo>
                                <a:pt x="54" y="627"/>
                              </a:lnTo>
                              <a:lnTo>
                                <a:pt x="68" y="628"/>
                              </a:lnTo>
                              <a:lnTo>
                                <a:pt x="693" y="62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b75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3694680" y="5168520"/>
                          <a:ext cx="133920" cy="90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0" h="602">
                              <a:moveTo>
                                <a:pt x="666" y="602"/>
                              </a:moveTo>
                              <a:lnTo>
                                <a:pt x="678" y="601"/>
                              </a:lnTo>
                              <a:lnTo>
                                <a:pt x="691" y="598"/>
                              </a:lnTo>
                              <a:lnTo>
                                <a:pt x="701" y="591"/>
                              </a:lnTo>
                              <a:lnTo>
                                <a:pt x="712" y="584"/>
                              </a:lnTo>
                              <a:lnTo>
                                <a:pt x="719" y="573"/>
                              </a:lnTo>
                              <a:lnTo>
                                <a:pt x="726" y="563"/>
                              </a:lnTo>
                              <a:lnTo>
                                <a:pt x="729" y="550"/>
                              </a:lnTo>
                              <a:lnTo>
                                <a:pt x="730" y="537"/>
                              </a:lnTo>
                              <a:lnTo>
                                <a:pt x="730" y="65"/>
                              </a:lnTo>
                              <a:lnTo>
                                <a:pt x="729" y="52"/>
                              </a:lnTo>
                              <a:lnTo>
                                <a:pt x="726" y="39"/>
                              </a:lnTo>
                              <a:lnTo>
                                <a:pt x="719" y="29"/>
                              </a:lnTo>
                              <a:lnTo>
                                <a:pt x="712" y="18"/>
                              </a:lnTo>
                              <a:lnTo>
                                <a:pt x="701" y="11"/>
                              </a:lnTo>
                              <a:lnTo>
                                <a:pt x="691" y="4"/>
                              </a:lnTo>
                              <a:lnTo>
                                <a:pt x="678" y="1"/>
                              </a:lnTo>
                              <a:lnTo>
                                <a:pt x="666" y="0"/>
                              </a:lnTo>
                              <a:lnTo>
                                <a:pt x="65" y="0"/>
                              </a:lnTo>
                              <a:lnTo>
                                <a:pt x="53" y="1"/>
                              </a:lnTo>
                              <a:lnTo>
                                <a:pt x="40" y="4"/>
                              </a:lnTo>
                              <a:lnTo>
                                <a:pt x="29" y="11"/>
                              </a:lnTo>
                              <a:lnTo>
                                <a:pt x="19" y="18"/>
                              </a:lnTo>
                              <a:lnTo>
                                <a:pt x="12" y="29"/>
                              </a:lnTo>
                              <a:lnTo>
                                <a:pt x="5" y="39"/>
                              </a:lnTo>
                              <a:lnTo>
                                <a:pt x="2" y="52"/>
                              </a:lnTo>
                              <a:lnTo>
                                <a:pt x="0" y="65"/>
                              </a:lnTo>
                              <a:lnTo>
                                <a:pt x="0" y="537"/>
                              </a:lnTo>
                              <a:lnTo>
                                <a:pt x="2" y="550"/>
                              </a:lnTo>
                              <a:lnTo>
                                <a:pt x="5" y="563"/>
                              </a:lnTo>
                              <a:lnTo>
                                <a:pt x="12" y="573"/>
                              </a:lnTo>
                              <a:lnTo>
                                <a:pt x="19" y="584"/>
                              </a:lnTo>
                              <a:lnTo>
                                <a:pt x="29" y="591"/>
                              </a:lnTo>
                              <a:lnTo>
                                <a:pt x="40" y="598"/>
                              </a:lnTo>
                              <a:lnTo>
                                <a:pt x="53" y="601"/>
                              </a:lnTo>
                              <a:lnTo>
                                <a:pt x="65" y="602"/>
                              </a:lnTo>
                              <a:lnTo>
                                <a:pt x="666" y="60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ba5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0" bIns="43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3698280" y="5170320"/>
                          <a:ext cx="127440" cy="86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9" h="578">
                              <a:moveTo>
                                <a:pt x="637" y="578"/>
                              </a:moveTo>
                              <a:lnTo>
                                <a:pt x="650" y="577"/>
                              </a:lnTo>
                              <a:lnTo>
                                <a:pt x="661" y="573"/>
                              </a:lnTo>
                              <a:lnTo>
                                <a:pt x="672" y="567"/>
                              </a:lnTo>
                              <a:lnTo>
                                <a:pt x="681" y="559"/>
                              </a:lnTo>
                              <a:lnTo>
                                <a:pt x="689" y="550"/>
                              </a:lnTo>
                              <a:lnTo>
                                <a:pt x="695" y="539"/>
                              </a:lnTo>
                              <a:lnTo>
                                <a:pt x="698" y="528"/>
                              </a:lnTo>
                              <a:lnTo>
                                <a:pt x="699" y="515"/>
                              </a:lnTo>
                              <a:lnTo>
                                <a:pt x="699" y="63"/>
                              </a:lnTo>
                              <a:lnTo>
                                <a:pt x="698" y="50"/>
                              </a:lnTo>
                              <a:lnTo>
                                <a:pt x="695" y="39"/>
                              </a:lnTo>
                              <a:lnTo>
                                <a:pt x="689" y="28"/>
                              </a:lnTo>
                              <a:lnTo>
                                <a:pt x="681" y="19"/>
                              </a:lnTo>
                              <a:lnTo>
                                <a:pt x="672" y="11"/>
                              </a:lnTo>
                              <a:lnTo>
                                <a:pt x="661" y="5"/>
                              </a:lnTo>
                              <a:lnTo>
                                <a:pt x="650" y="2"/>
                              </a:lnTo>
                              <a:lnTo>
                                <a:pt x="637" y="0"/>
                              </a:lnTo>
                              <a:lnTo>
                                <a:pt x="62" y="0"/>
                              </a:lnTo>
                              <a:lnTo>
                                <a:pt x="49" y="2"/>
                              </a:lnTo>
                              <a:lnTo>
                                <a:pt x="38" y="5"/>
                              </a:lnTo>
                              <a:lnTo>
                                <a:pt x="27" y="11"/>
                              </a:lnTo>
                              <a:lnTo>
                                <a:pt x="18" y="19"/>
                              </a:lnTo>
                              <a:lnTo>
                                <a:pt x="10" y="28"/>
                              </a:lnTo>
                              <a:lnTo>
                                <a:pt x="4" y="39"/>
                              </a:lnTo>
                              <a:lnTo>
                                <a:pt x="1" y="50"/>
                              </a:lnTo>
                              <a:lnTo>
                                <a:pt x="0" y="63"/>
                              </a:lnTo>
                              <a:lnTo>
                                <a:pt x="0" y="515"/>
                              </a:lnTo>
                              <a:lnTo>
                                <a:pt x="1" y="528"/>
                              </a:lnTo>
                              <a:lnTo>
                                <a:pt x="4" y="539"/>
                              </a:lnTo>
                              <a:lnTo>
                                <a:pt x="10" y="550"/>
                              </a:lnTo>
                              <a:lnTo>
                                <a:pt x="18" y="559"/>
                              </a:lnTo>
                              <a:lnTo>
                                <a:pt x="27" y="567"/>
                              </a:lnTo>
                              <a:lnTo>
                                <a:pt x="38" y="573"/>
                              </a:lnTo>
                              <a:lnTo>
                                <a:pt x="49" y="577"/>
                              </a:lnTo>
                              <a:lnTo>
                                <a:pt x="62" y="578"/>
                              </a:lnTo>
                              <a:lnTo>
                                <a:pt x="637" y="57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bf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960" bIns="39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3701160" y="5172480"/>
                          <a:ext cx="1216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7" h="552">
                              <a:moveTo>
                                <a:pt x="608" y="552"/>
                              </a:moveTo>
                              <a:lnTo>
                                <a:pt x="620" y="551"/>
                              </a:lnTo>
                              <a:lnTo>
                                <a:pt x="631" y="547"/>
                              </a:lnTo>
                              <a:lnTo>
                                <a:pt x="640" y="541"/>
                              </a:lnTo>
                              <a:lnTo>
                                <a:pt x="650" y="534"/>
                              </a:lnTo>
                              <a:lnTo>
                                <a:pt x="657" y="525"/>
                              </a:lnTo>
                              <a:lnTo>
                                <a:pt x="662" y="516"/>
                              </a:lnTo>
                              <a:lnTo>
                                <a:pt x="666" y="504"/>
                              </a:lnTo>
                              <a:lnTo>
                                <a:pt x="667" y="493"/>
                              </a:lnTo>
                              <a:lnTo>
                                <a:pt x="667" y="59"/>
                              </a:lnTo>
                              <a:lnTo>
                                <a:pt x="666" y="48"/>
                              </a:lnTo>
                              <a:lnTo>
                                <a:pt x="662" y="36"/>
                              </a:lnTo>
                              <a:lnTo>
                                <a:pt x="657" y="27"/>
                              </a:lnTo>
                              <a:lnTo>
                                <a:pt x="650" y="18"/>
                              </a:lnTo>
                              <a:lnTo>
                                <a:pt x="640" y="11"/>
                              </a:lnTo>
                              <a:lnTo>
                                <a:pt x="631" y="5"/>
                              </a:lnTo>
                              <a:lnTo>
                                <a:pt x="620" y="1"/>
                              </a:lnTo>
                              <a:lnTo>
                                <a:pt x="608" y="0"/>
                              </a:lnTo>
                              <a:lnTo>
                                <a:pt x="59" y="0"/>
                              </a:lnTo>
                              <a:lnTo>
                                <a:pt x="47" y="1"/>
                              </a:lnTo>
                              <a:lnTo>
                                <a:pt x="36" y="5"/>
                              </a:lnTo>
                              <a:lnTo>
                                <a:pt x="26" y="11"/>
                              </a:lnTo>
                              <a:lnTo>
                                <a:pt x="17" y="18"/>
                              </a:lnTo>
                              <a:lnTo>
                                <a:pt x="10" y="27"/>
                              </a:lnTo>
                              <a:lnTo>
                                <a:pt x="4" y="36"/>
                              </a:lnTo>
                              <a:lnTo>
                                <a:pt x="1" y="48"/>
                              </a:lnTo>
                              <a:lnTo>
                                <a:pt x="0" y="59"/>
                              </a:lnTo>
                              <a:lnTo>
                                <a:pt x="0" y="493"/>
                              </a:lnTo>
                              <a:lnTo>
                                <a:pt x="1" y="504"/>
                              </a:lnTo>
                              <a:lnTo>
                                <a:pt x="4" y="516"/>
                              </a:lnTo>
                              <a:lnTo>
                                <a:pt x="10" y="525"/>
                              </a:lnTo>
                              <a:lnTo>
                                <a:pt x="17" y="534"/>
                              </a:lnTo>
                              <a:lnTo>
                                <a:pt x="26" y="541"/>
                              </a:lnTo>
                              <a:lnTo>
                                <a:pt x="36" y="547"/>
                              </a:lnTo>
                              <a:lnTo>
                                <a:pt x="47" y="551"/>
                              </a:lnTo>
                              <a:lnTo>
                                <a:pt x="59" y="552"/>
                              </a:lnTo>
                              <a:lnTo>
                                <a:pt x="608" y="5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c17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640" bIns="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3703680" y="5173920"/>
                          <a:ext cx="116280" cy="7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7" h="526">
                              <a:moveTo>
                                <a:pt x="580" y="526"/>
                              </a:moveTo>
                              <a:lnTo>
                                <a:pt x="592" y="525"/>
                              </a:lnTo>
                              <a:lnTo>
                                <a:pt x="602" y="521"/>
                              </a:lnTo>
                              <a:lnTo>
                                <a:pt x="612" y="517"/>
                              </a:lnTo>
                              <a:lnTo>
                                <a:pt x="621" y="510"/>
                              </a:lnTo>
                              <a:lnTo>
                                <a:pt x="628" y="501"/>
                              </a:lnTo>
                              <a:lnTo>
                                <a:pt x="632" y="491"/>
                              </a:lnTo>
                              <a:lnTo>
                                <a:pt x="636" y="481"/>
                              </a:lnTo>
                              <a:lnTo>
                                <a:pt x="637" y="469"/>
                              </a:lnTo>
                              <a:lnTo>
                                <a:pt x="637" y="57"/>
                              </a:lnTo>
                              <a:lnTo>
                                <a:pt x="636" y="45"/>
                              </a:lnTo>
                              <a:lnTo>
                                <a:pt x="632" y="35"/>
                              </a:lnTo>
                              <a:lnTo>
                                <a:pt x="628" y="26"/>
                              </a:lnTo>
                              <a:lnTo>
                                <a:pt x="621" y="16"/>
                              </a:lnTo>
                              <a:lnTo>
                                <a:pt x="612" y="9"/>
                              </a:lnTo>
                              <a:lnTo>
                                <a:pt x="602" y="5"/>
                              </a:lnTo>
                              <a:lnTo>
                                <a:pt x="592" y="1"/>
                              </a:lnTo>
                              <a:lnTo>
                                <a:pt x="580" y="0"/>
                              </a:lnTo>
                              <a:lnTo>
                                <a:pt x="57" y="0"/>
                              </a:lnTo>
                              <a:lnTo>
                                <a:pt x="45" y="1"/>
                              </a:lnTo>
                              <a:lnTo>
                                <a:pt x="35" y="5"/>
                              </a:lnTo>
                              <a:lnTo>
                                <a:pt x="25" y="9"/>
                              </a:lnTo>
                              <a:lnTo>
                                <a:pt x="16" y="16"/>
                              </a:lnTo>
                              <a:lnTo>
                                <a:pt x="9" y="26"/>
                              </a:lnTo>
                              <a:lnTo>
                                <a:pt x="4" y="35"/>
                              </a:lnTo>
                              <a:lnTo>
                                <a:pt x="1" y="45"/>
                              </a:lnTo>
                              <a:lnTo>
                                <a:pt x="0" y="57"/>
                              </a:lnTo>
                              <a:lnTo>
                                <a:pt x="0" y="469"/>
                              </a:lnTo>
                              <a:lnTo>
                                <a:pt x="1" y="481"/>
                              </a:lnTo>
                              <a:lnTo>
                                <a:pt x="4" y="491"/>
                              </a:lnTo>
                              <a:lnTo>
                                <a:pt x="9" y="501"/>
                              </a:lnTo>
                              <a:lnTo>
                                <a:pt x="16" y="510"/>
                              </a:lnTo>
                              <a:lnTo>
                                <a:pt x="25" y="517"/>
                              </a:lnTo>
                              <a:lnTo>
                                <a:pt x="35" y="521"/>
                              </a:lnTo>
                              <a:lnTo>
                                <a:pt x="45" y="525"/>
                              </a:lnTo>
                              <a:lnTo>
                                <a:pt x="57" y="526"/>
                              </a:lnTo>
                              <a:lnTo>
                                <a:pt x="580" y="5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c67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040" bIns="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>
                          <a:off x="3706560" y="5176080"/>
                          <a:ext cx="110880" cy="74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5" h="500">
                              <a:moveTo>
                                <a:pt x="552" y="500"/>
                              </a:moveTo>
                              <a:lnTo>
                                <a:pt x="562" y="499"/>
                              </a:lnTo>
                              <a:lnTo>
                                <a:pt x="572" y="496"/>
                              </a:lnTo>
                              <a:lnTo>
                                <a:pt x="582" y="491"/>
                              </a:lnTo>
                              <a:lnTo>
                                <a:pt x="590" y="484"/>
                              </a:lnTo>
                              <a:lnTo>
                                <a:pt x="596" y="476"/>
                              </a:lnTo>
                              <a:lnTo>
                                <a:pt x="600" y="467"/>
                              </a:lnTo>
                              <a:lnTo>
                                <a:pt x="604" y="456"/>
                              </a:lnTo>
                              <a:lnTo>
                                <a:pt x="605" y="446"/>
                              </a:lnTo>
                              <a:lnTo>
                                <a:pt x="605" y="54"/>
                              </a:lnTo>
                              <a:lnTo>
                                <a:pt x="604" y="44"/>
                              </a:lnTo>
                              <a:lnTo>
                                <a:pt x="600" y="33"/>
                              </a:lnTo>
                              <a:lnTo>
                                <a:pt x="596" y="24"/>
                              </a:lnTo>
                              <a:lnTo>
                                <a:pt x="590" y="16"/>
                              </a:lnTo>
                              <a:lnTo>
                                <a:pt x="582" y="9"/>
                              </a:lnTo>
                              <a:lnTo>
                                <a:pt x="572" y="4"/>
                              </a:lnTo>
                              <a:lnTo>
                                <a:pt x="562" y="1"/>
                              </a:lnTo>
                              <a:lnTo>
                                <a:pt x="552" y="0"/>
                              </a:lnTo>
                              <a:lnTo>
                                <a:pt x="53" y="0"/>
                              </a:lnTo>
                              <a:lnTo>
                                <a:pt x="43" y="1"/>
                              </a:lnTo>
                              <a:lnTo>
                                <a:pt x="32" y="4"/>
                              </a:lnTo>
                              <a:lnTo>
                                <a:pt x="23" y="9"/>
                              </a:lnTo>
                              <a:lnTo>
                                <a:pt x="15" y="16"/>
                              </a:lnTo>
                              <a:lnTo>
                                <a:pt x="9" y="24"/>
                              </a:lnTo>
                              <a:lnTo>
                                <a:pt x="5" y="33"/>
                              </a:lnTo>
                              <a:lnTo>
                                <a:pt x="1" y="44"/>
                              </a:lnTo>
                              <a:lnTo>
                                <a:pt x="0" y="54"/>
                              </a:lnTo>
                              <a:lnTo>
                                <a:pt x="0" y="446"/>
                              </a:lnTo>
                              <a:lnTo>
                                <a:pt x="1" y="456"/>
                              </a:lnTo>
                              <a:lnTo>
                                <a:pt x="5" y="467"/>
                              </a:lnTo>
                              <a:lnTo>
                                <a:pt x="9" y="476"/>
                              </a:lnTo>
                              <a:lnTo>
                                <a:pt x="15" y="484"/>
                              </a:lnTo>
                              <a:lnTo>
                                <a:pt x="23" y="491"/>
                              </a:lnTo>
                              <a:lnTo>
                                <a:pt x="32" y="496"/>
                              </a:lnTo>
                              <a:lnTo>
                                <a:pt x="43" y="499"/>
                              </a:lnTo>
                              <a:lnTo>
                                <a:pt x="53" y="500"/>
                              </a:lnTo>
                              <a:lnTo>
                                <a:pt x="552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cc8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>
                          <a:off x="3709440" y="5177520"/>
                          <a:ext cx="105480" cy="71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5" h="475">
                              <a:moveTo>
                                <a:pt x="524" y="475"/>
                              </a:moveTo>
                              <a:lnTo>
                                <a:pt x="534" y="473"/>
                              </a:lnTo>
                              <a:lnTo>
                                <a:pt x="544" y="470"/>
                              </a:lnTo>
                              <a:lnTo>
                                <a:pt x="552" y="465"/>
                              </a:lnTo>
                              <a:lnTo>
                                <a:pt x="560" y="459"/>
                              </a:lnTo>
                              <a:lnTo>
                                <a:pt x="566" y="451"/>
                              </a:lnTo>
                              <a:lnTo>
                                <a:pt x="571" y="443"/>
                              </a:lnTo>
                              <a:lnTo>
                                <a:pt x="574" y="434"/>
                              </a:lnTo>
                              <a:lnTo>
                                <a:pt x="575" y="423"/>
                              </a:lnTo>
                              <a:lnTo>
                                <a:pt x="575" y="51"/>
                              </a:lnTo>
                              <a:lnTo>
                                <a:pt x="574" y="40"/>
                              </a:lnTo>
                              <a:lnTo>
                                <a:pt x="571" y="31"/>
                              </a:lnTo>
                              <a:lnTo>
                                <a:pt x="566" y="23"/>
                              </a:lnTo>
                              <a:lnTo>
                                <a:pt x="560" y="15"/>
                              </a:lnTo>
                              <a:lnTo>
                                <a:pt x="552" y="9"/>
                              </a:lnTo>
                              <a:lnTo>
                                <a:pt x="544" y="3"/>
                              </a:lnTo>
                              <a:lnTo>
                                <a:pt x="534" y="1"/>
                              </a:lnTo>
                              <a:lnTo>
                                <a:pt x="524" y="0"/>
                              </a:lnTo>
                              <a:lnTo>
                                <a:pt x="51" y="0"/>
                              </a:lnTo>
                              <a:lnTo>
                                <a:pt x="41" y="1"/>
                              </a:lnTo>
                              <a:lnTo>
                                <a:pt x="31" y="3"/>
                              </a:lnTo>
                              <a:lnTo>
                                <a:pt x="23" y="9"/>
                              </a:lnTo>
                              <a:lnTo>
                                <a:pt x="15" y="15"/>
                              </a:lnTo>
                              <a:lnTo>
                                <a:pt x="9" y="23"/>
                              </a:lnTo>
                              <a:lnTo>
                                <a:pt x="5" y="31"/>
                              </a:lnTo>
                              <a:lnTo>
                                <a:pt x="1" y="40"/>
                              </a:lnTo>
                              <a:lnTo>
                                <a:pt x="0" y="51"/>
                              </a:lnTo>
                              <a:lnTo>
                                <a:pt x="0" y="423"/>
                              </a:lnTo>
                              <a:lnTo>
                                <a:pt x="1" y="434"/>
                              </a:lnTo>
                              <a:lnTo>
                                <a:pt x="5" y="443"/>
                              </a:lnTo>
                              <a:lnTo>
                                <a:pt x="9" y="451"/>
                              </a:lnTo>
                              <a:lnTo>
                                <a:pt x="15" y="459"/>
                              </a:lnTo>
                              <a:lnTo>
                                <a:pt x="23" y="465"/>
                              </a:lnTo>
                              <a:lnTo>
                                <a:pt x="31" y="470"/>
                              </a:lnTo>
                              <a:lnTo>
                                <a:pt x="41" y="473"/>
                              </a:lnTo>
                              <a:lnTo>
                                <a:pt x="51" y="475"/>
                              </a:lnTo>
                              <a:lnTo>
                                <a:pt x="524" y="4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ce8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480" bIns="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3712320" y="5180040"/>
                          <a:ext cx="99720" cy="6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3" h="448">
                              <a:moveTo>
                                <a:pt x="495" y="448"/>
                              </a:moveTo>
                              <a:lnTo>
                                <a:pt x="504" y="447"/>
                              </a:lnTo>
                              <a:lnTo>
                                <a:pt x="514" y="444"/>
                              </a:lnTo>
                              <a:lnTo>
                                <a:pt x="522" y="440"/>
                              </a:lnTo>
                              <a:lnTo>
                                <a:pt x="529" y="434"/>
                              </a:lnTo>
                              <a:lnTo>
                                <a:pt x="534" y="426"/>
                              </a:lnTo>
                              <a:lnTo>
                                <a:pt x="539" y="418"/>
                              </a:lnTo>
                              <a:lnTo>
                                <a:pt x="541" y="408"/>
                              </a:lnTo>
                              <a:lnTo>
                                <a:pt x="543" y="399"/>
                              </a:lnTo>
                              <a:lnTo>
                                <a:pt x="543" y="47"/>
                              </a:lnTo>
                              <a:lnTo>
                                <a:pt x="541" y="38"/>
                              </a:lnTo>
                              <a:lnTo>
                                <a:pt x="539" y="29"/>
                              </a:lnTo>
                              <a:lnTo>
                                <a:pt x="534" y="20"/>
                              </a:lnTo>
                              <a:lnTo>
                                <a:pt x="529" y="13"/>
                              </a:lnTo>
                              <a:lnTo>
                                <a:pt x="522" y="8"/>
                              </a:lnTo>
                              <a:lnTo>
                                <a:pt x="514" y="3"/>
                              </a:lnTo>
                              <a:lnTo>
                                <a:pt x="504" y="1"/>
                              </a:lnTo>
                              <a:lnTo>
                                <a:pt x="495" y="0"/>
                              </a:lnTo>
                              <a:lnTo>
                                <a:pt x="48" y="0"/>
                              </a:lnTo>
                              <a:lnTo>
                                <a:pt x="39" y="1"/>
                              </a:lnTo>
                              <a:lnTo>
                                <a:pt x="29" y="3"/>
                              </a:lnTo>
                              <a:lnTo>
                                <a:pt x="21" y="8"/>
                              </a:lnTo>
                              <a:lnTo>
                                <a:pt x="14" y="13"/>
                              </a:lnTo>
                              <a:lnTo>
                                <a:pt x="8" y="20"/>
                              </a:lnTo>
                              <a:lnTo>
                                <a:pt x="4" y="29"/>
                              </a:lnTo>
                              <a:lnTo>
                                <a:pt x="1" y="38"/>
                              </a:lnTo>
                              <a:lnTo>
                                <a:pt x="0" y="47"/>
                              </a:lnTo>
                              <a:lnTo>
                                <a:pt x="0" y="399"/>
                              </a:lnTo>
                              <a:lnTo>
                                <a:pt x="1" y="408"/>
                              </a:lnTo>
                              <a:lnTo>
                                <a:pt x="4" y="418"/>
                              </a:lnTo>
                              <a:lnTo>
                                <a:pt x="8" y="426"/>
                              </a:lnTo>
                              <a:lnTo>
                                <a:pt x="14" y="434"/>
                              </a:lnTo>
                              <a:lnTo>
                                <a:pt x="21" y="440"/>
                              </a:lnTo>
                              <a:lnTo>
                                <a:pt x="29" y="444"/>
                              </a:lnTo>
                              <a:lnTo>
                                <a:pt x="39" y="447"/>
                              </a:lnTo>
                              <a:lnTo>
                                <a:pt x="48" y="448"/>
                              </a:lnTo>
                              <a:lnTo>
                                <a:pt x="495" y="44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d39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520" bIns="20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3714840" y="5182200"/>
                          <a:ext cx="94320" cy="6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3" h="422">
                              <a:moveTo>
                                <a:pt x="467" y="422"/>
                              </a:moveTo>
                              <a:lnTo>
                                <a:pt x="477" y="421"/>
                              </a:lnTo>
                              <a:lnTo>
                                <a:pt x="485" y="418"/>
                              </a:lnTo>
                              <a:lnTo>
                                <a:pt x="493" y="414"/>
                              </a:lnTo>
                              <a:lnTo>
                                <a:pt x="500" y="409"/>
                              </a:lnTo>
                              <a:lnTo>
                                <a:pt x="504" y="402"/>
                              </a:lnTo>
                              <a:lnTo>
                                <a:pt x="509" y="394"/>
                              </a:lnTo>
                              <a:lnTo>
                                <a:pt x="511" y="386"/>
                              </a:lnTo>
                              <a:lnTo>
                                <a:pt x="513" y="377"/>
                              </a:lnTo>
                              <a:lnTo>
                                <a:pt x="513" y="46"/>
                              </a:lnTo>
                              <a:lnTo>
                                <a:pt x="511" y="36"/>
                              </a:lnTo>
                              <a:lnTo>
                                <a:pt x="509" y="28"/>
                              </a:lnTo>
                              <a:lnTo>
                                <a:pt x="504" y="20"/>
                              </a:lnTo>
                              <a:lnTo>
                                <a:pt x="500" y="13"/>
                              </a:lnTo>
                              <a:lnTo>
                                <a:pt x="493" y="8"/>
                              </a:lnTo>
                              <a:lnTo>
                                <a:pt x="485" y="4"/>
                              </a:lnTo>
                              <a:lnTo>
                                <a:pt x="477" y="1"/>
                              </a:lnTo>
                              <a:lnTo>
                                <a:pt x="467" y="0"/>
                              </a:lnTo>
                              <a:lnTo>
                                <a:pt x="46" y="0"/>
                              </a:lnTo>
                              <a:lnTo>
                                <a:pt x="36" y="1"/>
                              </a:lnTo>
                              <a:lnTo>
                                <a:pt x="28" y="4"/>
                              </a:lnTo>
                              <a:lnTo>
                                <a:pt x="20" y="8"/>
                              </a:lnTo>
                              <a:lnTo>
                                <a:pt x="13" y="13"/>
                              </a:lnTo>
                              <a:lnTo>
                                <a:pt x="8" y="20"/>
                              </a:lnTo>
                              <a:lnTo>
                                <a:pt x="4" y="28"/>
                              </a:lnTo>
                              <a:lnTo>
                                <a:pt x="2" y="36"/>
                              </a:lnTo>
                              <a:lnTo>
                                <a:pt x="0" y="46"/>
                              </a:lnTo>
                              <a:lnTo>
                                <a:pt x="0" y="377"/>
                              </a:lnTo>
                              <a:lnTo>
                                <a:pt x="2" y="386"/>
                              </a:lnTo>
                              <a:lnTo>
                                <a:pt x="4" y="394"/>
                              </a:lnTo>
                              <a:lnTo>
                                <a:pt x="8" y="402"/>
                              </a:lnTo>
                              <a:lnTo>
                                <a:pt x="13" y="409"/>
                              </a:lnTo>
                              <a:lnTo>
                                <a:pt x="20" y="414"/>
                              </a:lnTo>
                              <a:lnTo>
                                <a:pt x="28" y="418"/>
                              </a:lnTo>
                              <a:lnTo>
                                <a:pt x="36" y="421"/>
                              </a:lnTo>
                              <a:lnTo>
                                <a:pt x="46" y="422"/>
                              </a:lnTo>
                              <a:lnTo>
                                <a:pt x="467" y="4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d69e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>
                          <a:off x="3717720" y="5183640"/>
                          <a:ext cx="8892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2" h="396">
                              <a:moveTo>
                                <a:pt x="441" y="396"/>
                              </a:moveTo>
                              <a:lnTo>
                                <a:pt x="449" y="395"/>
                              </a:lnTo>
                              <a:lnTo>
                                <a:pt x="457" y="393"/>
                              </a:lnTo>
                              <a:lnTo>
                                <a:pt x="464" y="389"/>
                              </a:lnTo>
                              <a:lnTo>
                                <a:pt x="470" y="383"/>
                              </a:lnTo>
                              <a:lnTo>
                                <a:pt x="475" y="377"/>
                              </a:lnTo>
                              <a:lnTo>
                                <a:pt x="479" y="371"/>
                              </a:lnTo>
                              <a:lnTo>
                                <a:pt x="481" y="362"/>
                              </a:lnTo>
                              <a:lnTo>
                                <a:pt x="482" y="354"/>
                              </a:lnTo>
                              <a:lnTo>
                                <a:pt x="482" y="42"/>
                              </a:lnTo>
                              <a:lnTo>
                                <a:pt x="481" y="34"/>
                              </a:lnTo>
                              <a:lnTo>
                                <a:pt x="479" y="26"/>
                              </a:lnTo>
                              <a:lnTo>
                                <a:pt x="475" y="19"/>
                              </a:lnTo>
                              <a:lnTo>
                                <a:pt x="470" y="12"/>
                              </a:lnTo>
                              <a:lnTo>
                                <a:pt x="464" y="7"/>
                              </a:lnTo>
                              <a:lnTo>
                                <a:pt x="457" y="4"/>
                              </a:lnTo>
                              <a:lnTo>
                                <a:pt x="449" y="1"/>
                              </a:lnTo>
                              <a:lnTo>
                                <a:pt x="441" y="0"/>
                              </a:lnTo>
                              <a:lnTo>
                                <a:pt x="43" y="0"/>
                              </a:lnTo>
                              <a:lnTo>
                                <a:pt x="35" y="1"/>
                              </a:lnTo>
                              <a:lnTo>
                                <a:pt x="27" y="4"/>
                              </a:lnTo>
                              <a:lnTo>
                                <a:pt x="20" y="7"/>
                              </a:lnTo>
                              <a:lnTo>
                                <a:pt x="13" y="12"/>
                              </a:lnTo>
                              <a:lnTo>
                                <a:pt x="7" y="19"/>
                              </a:lnTo>
                              <a:lnTo>
                                <a:pt x="4" y="26"/>
                              </a:lnTo>
                              <a:lnTo>
                                <a:pt x="2" y="34"/>
                              </a:lnTo>
                              <a:lnTo>
                                <a:pt x="0" y="42"/>
                              </a:lnTo>
                              <a:lnTo>
                                <a:pt x="0" y="354"/>
                              </a:lnTo>
                              <a:lnTo>
                                <a:pt x="2" y="362"/>
                              </a:lnTo>
                              <a:lnTo>
                                <a:pt x="4" y="371"/>
                              </a:lnTo>
                              <a:lnTo>
                                <a:pt x="7" y="377"/>
                              </a:lnTo>
                              <a:lnTo>
                                <a:pt x="13" y="383"/>
                              </a:lnTo>
                              <a:lnTo>
                                <a:pt x="20" y="389"/>
                              </a:lnTo>
                              <a:lnTo>
                                <a:pt x="27" y="393"/>
                              </a:lnTo>
                              <a:lnTo>
                                <a:pt x="35" y="395"/>
                              </a:lnTo>
                              <a:lnTo>
                                <a:pt x="43" y="396"/>
                              </a:lnTo>
                              <a:lnTo>
                                <a:pt x="441" y="39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dba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>
                          <a:off x="3721320" y="5186160"/>
                          <a:ext cx="8136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9" h="370">
                              <a:moveTo>
                                <a:pt x="411" y="370"/>
                              </a:moveTo>
                              <a:lnTo>
                                <a:pt x="419" y="369"/>
                              </a:lnTo>
                              <a:lnTo>
                                <a:pt x="426" y="367"/>
                              </a:lnTo>
                              <a:lnTo>
                                <a:pt x="432" y="363"/>
                              </a:lnTo>
                              <a:lnTo>
                                <a:pt x="438" y="359"/>
                              </a:lnTo>
                              <a:lnTo>
                                <a:pt x="442" y="353"/>
                              </a:lnTo>
                              <a:lnTo>
                                <a:pt x="446" y="346"/>
                              </a:lnTo>
                              <a:lnTo>
                                <a:pt x="448" y="339"/>
                              </a:lnTo>
                              <a:lnTo>
                                <a:pt x="449" y="331"/>
                              </a:lnTo>
                              <a:lnTo>
                                <a:pt x="449" y="39"/>
                              </a:lnTo>
                              <a:lnTo>
                                <a:pt x="448" y="31"/>
                              </a:lnTo>
                              <a:lnTo>
                                <a:pt x="446" y="24"/>
                              </a:lnTo>
                              <a:lnTo>
                                <a:pt x="442" y="17"/>
                              </a:lnTo>
                              <a:lnTo>
                                <a:pt x="438" y="11"/>
                              </a:lnTo>
                              <a:lnTo>
                                <a:pt x="432" y="7"/>
                              </a:lnTo>
                              <a:lnTo>
                                <a:pt x="426" y="3"/>
                              </a:lnTo>
                              <a:lnTo>
                                <a:pt x="419" y="1"/>
                              </a:lnTo>
                              <a:lnTo>
                                <a:pt x="411" y="0"/>
                              </a:lnTo>
                              <a:lnTo>
                                <a:pt x="39" y="0"/>
                              </a:lnTo>
                              <a:lnTo>
                                <a:pt x="31" y="1"/>
                              </a:lnTo>
                              <a:lnTo>
                                <a:pt x="24" y="3"/>
                              </a:lnTo>
                              <a:lnTo>
                                <a:pt x="17" y="7"/>
                              </a:lnTo>
                              <a:lnTo>
                                <a:pt x="11" y="11"/>
                              </a:lnTo>
                              <a:lnTo>
                                <a:pt x="7" y="17"/>
                              </a:lnTo>
                              <a:lnTo>
                                <a:pt x="3" y="24"/>
                              </a:lnTo>
                              <a:lnTo>
                                <a:pt x="1" y="31"/>
                              </a:lnTo>
                              <a:lnTo>
                                <a:pt x="0" y="39"/>
                              </a:lnTo>
                              <a:lnTo>
                                <a:pt x="0" y="331"/>
                              </a:lnTo>
                              <a:lnTo>
                                <a:pt x="1" y="339"/>
                              </a:lnTo>
                              <a:lnTo>
                                <a:pt x="3" y="346"/>
                              </a:lnTo>
                              <a:lnTo>
                                <a:pt x="7" y="353"/>
                              </a:lnTo>
                              <a:lnTo>
                                <a:pt x="11" y="359"/>
                              </a:lnTo>
                              <a:lnTo>
                                <a:pt x="17" y="363"/>
                              </a:lnTo>
                              <a:lnTo>
                                <a:pt x="24" y="367"/>
                              </a:lnTo>
                              <a:lnTo>
                                <a:pt x="31" y="369"/>
                              </a:lnTo>
                              <a:lnTo>
                                <a:pt x="39" y="370"/>
                              </a:lnTo>
                              <a:lnTo>
                                <a:pt x="411" y="3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ddb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3723840" y="5187240"/>
                          <a:ext cx="75960" cy="51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9" h="345">
                              <a:moveTo>
                                <a:pt x="383" y="345"/>
                              </a:moveTo>
                              <a:lnTo>
                                <a:pt x="390" y="343"/>
                              </a:lnTo>
                              <a:lnTo>
                                <a:pt x="397" y="342"/>
                              </a:lnTo>
                              <a:lnTo>
                                <a:pt x="403" y="339"/>
                              </a:lnTo>
                              <a:lnTo>
                                <a:pt x="409" y="334"/>
                              </a:lnTo>
                              <a:lnTo>
                                <a:pt x="413" y="328"/>
                              </a:lnTo>
                              <a:lnTo>
                                <a:pt x="417" y="322"/>
                              </a:lnTo>
                              <a:lnTo>
                                <a:pt x="418" y="315"/>
                              </a:lnTo>
                              <a:lnTo>
                                <a:pt x="419" y="307"/>
                              </a:lnTo>
                              <a:lnTo>
                                <a:pt x="419" y="37"/>
                              </a:lnTo>
                              <a:lnTo>
                                <a:pt x="418" y="29"/>
                              </a:lnTo>
                              <a:lnTo>
                                <a:pt x="417" y="22"/>
                              </a:lnTo>
                              <a:lnTo>
                                <a:pt x="413" y="16"/>
                              </a:lnTo>
                              <a:lnTo>
                                <a:pt x="409" y="10"/>
                              </a:lnTo>
                              <a:lnTo>
                                <a:pt x="403" y="5"/>
                              </a:lnTo>
                              <a:lnTo>
                                <a:pt x="397" y="2"/>
                              </a:lnTo>
                              <a:lnTo>
                                <a:pt x="390" y="1"/>
                              </a:lnTo>
                              <a:lnTo>
                                <a:pt x="383" y="0"/>
                              </a:lnTo>
                              <a:lnTo>
                                <a:pt x="37" y="0"/>
                              </a:lnTo>
                              <a:lnTo>
                                <a:pt x="30" y="1"/>
                              </a:lnTo>
                              <a:lnTo>
                                <a:pt x="23" y="2"/>
                              </a:lnTo>
                              <a:lnTo>
                                <a:pt x="16" y="5"/>
                              </a:lnTo>
                              <a:lnTo>
                                <a:pt x="11" y="10"/>
                              </a:lnTo>
                              <a:lnTo>
                                <a:pt x="7" y="16"/>
                              </a:lnTo>
                              <a:lnTo>
                                <a:pt x="3" y="22"/>
                              </a:lnTo>
                              <a:lnTo>
                                <a:pt x="1" y="29"/>
                              </a:lnTo>
                              <a:lnTo>
                                <a:pt x="0" y="37"/>
                              </a:lnTo>
                              <a:lnTo>
                                <a:pt x="0" y="307"/>
                              </a:lnTo>
                              <a:lnTo>
                                <a:pt x="1" y="315"/>
                              </a:lnTo>
                              <a:lnTo>
                                <a:pt x="3" y="322"/>
                              </a:lnTo>
                              <a:lnTo>
                                <a:pt x="7" y="328"/>
                              </a:lnTo>
                              <a:lnTo>
                                <a:pt x="11" y="334"/>
                              </a:lnTo>
                              <a:lnTo>
                                <a:pt x="16" y="339"/>
                              </a:lnTo>
                              <a:lnTo>
                                <a:pt x="23" y="342"/>
                              </a:lnTo>
                              <a:lnTo>
                                <a:pt x="30" y="343"/>
                              </a:lnTo>
                              <a:lnTo>
                                <a:pt x="37" y="345"/>
                              </a:lnTo>
                              <a:lnTo>
                                <a:pt x="383" y="34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2b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3726720" y="5189760"/>
                          <a:ext cx="70560" cy="4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8" h="320">
                              <a:moveTo>
                                <a:pt x="354" y="320"/>
                              </a:moveTo>
                              <a:lnTo>
                                <a:pt x="367" y="317"/>
                              </a:lnTo>
                              <a:lnTo>
                                <a:pt x="379" y="309"/>
                              </a:lnTo>
                              <a:lnTo>
                                <a:pt x="386" y="299"/>
                              </a:lnTo>
                              <a:lnTo>
                                <a:pt x="388" y="286"/>
                              </a:lnTo>
                              <a:lnTo>
                                <a:pt x="388" y="34"/>
                              </a:lnTo>
                              <a:lnTo>
                                <a:pt x="386" y="21"/>
                              </a:lnTo>
                              <a:lnTo>
                                <a:pt x="379" y="10"/>
                              </a:lnTo>
                              <a:lnTo>
                                <a:pt x="367" y="3"/>
                              </a:lnTo>
                              <a:lnTo>
                                <a:pt x="354" y="0"/>
                              </a:lnTo>
                              <a:lnTo>
                                <a:pt x="34" y="0"/>
                              </a:lnTo>
                              <a:lnTo>
                                <a:pt x="21" y="3"/>
                              </a:lnTo>
                              <a:lnTo>
                                <a:pt x="10" y="10"/>
                              </a:lnTo>
                              <a:lnTo>
                                <a:pt x="2" y="21"/>
                              </a:lnTo>
                              <a:lnTo>
                                <a:pt x="0" y="34"/>
                              </a:lnTo>
                              <a:lnTo>
                                <a:pt x="0" y="286"/>
                              </a:lnTo>
                              <a:lnTo>
                                <a:pt x="2" y="299"/>
                              </a:lnTo>
                              <a:lnTo>
                                <a:pt x="10" y="309"/>
                              </a:lnTo>
                              <a:lnTo>
                                <a:pt x="21" y="317"/>
                              </a:lnTo>
                              <a:lnTo>
                                <a:pt x="34" y="320"/>
                              </a:lnTo>
                              <a:lnTo>
                                <a:pt x="354" y="3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8c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>
                          <a:off x="3729600" y="5191200"/>
                          <a:ext cx="6480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8" h="294">
                              <a:moveTo>
                                <a:pt x="327" y="294"/>
                              </a:moveTo>
                              <a:lnTo>
                                <a:pt x="339" y="292"/>
                              </a:lnTo>
                              <a:lnTo>
                                <a:pt x="349" y="285"/>
                              </a:lnTo>
                              <a:lnTo>
                                <a:pt x="356" y="275"/>
                              </a:lnTo>
                              <a:lnTo>
                                <a:pt x="358" y="263"/>
                              </a:lnTo>
                              <a:lnTo>
                                <a:pt x="358" y="32"/>
                              </a:lnTo>
                              <a:lnTo>
                                <a:pt x="356" y="19"/>
                              </a:lnTo>
                              <a:lnTo>
                                <a:pt x="349" y="9"/>
                              </a:lnTo>
                              <a:lnTo>
                                <a:pt x="339" y="2"/>
                              </a:lnTo>
                              <a:lnTo>
                                <a:pt x="327" y="0"/>
                              </a:lnTo>
                              <a:lnTo>
                                <a:pt x="31" y="0"/>
                              </a:lnTo>
                              <a:lnTo>
                                <a:pt x="19" y="2"/>
                              </a:lnTo>
                              <a:lnTo>
                                <a:pt x="9" y="9"/>
                              </a:lnTo>
                              <a:lnTo>
                                <a:pt x="2" y="19"/>
                              </a:lnTo>
                              <a:lnTo>
                                <a:pt x="0" y="32"/>
                              </a:lnTo>
                              <a:lnTo>
                                <a:pt x="0" y="263"/>
                              </a:lnTo>
                              <a:lnTo>
                                <a:pt x="2" y="275"/>
                              </a:lnTo>
                              <a:lnTo>
                                <a:pt x="9" y="285"/>
                              </a:lnTo>
                              <a:lnTo>
                                <a:pt x="19" y="292"/>
                              </a:lnTo>
                              <a:lnTo>
                                <a:pt x="31" y="294"/>
                              </a:lnTo>
                              <a:lnTo>
                                <a:pt x="327" y="29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ace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3732480" y="5193360"/>
                          <a:ext cx="59400" cy="40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7" h="268">
                              <a:moveTo>
                                <a:pt x="299" y="268"/>
                              </a:moveTo>
                              <a:lnTo>
                                <a:pt x="309" y="266"/>
                              </a:lnTo>
                              <a:lnTo>
                                <a:pt x="319" y="260"/>
                              </a:lnTo>
                              <a:lnTo>
                                <a:pt x="324" y="251"/>
                              </a:lnTo>
                              <a:lnTo>
                                <a:pt x="327" y="239"/>
                              </a:lnTo>
                              <a:lnTo>
                                <a:pt x="327" y="29"/>
                              </a:lnTo>
                              <a:lnTo>
                                <a:pt x="324" y="17"/>
                              </a:lnTo>
                              <a:lnTo>
                                <a:pt x="319" y="8"/>
                              </a:lnTo>
                              <a:lnTo>
                                <a:pt x="309" y="2"/>
                              </a:lnTo>
                              <a:lnTo>
                                <a:pt x="299" y="0"/>
                              </a:lnTo>
                              <a:lnTo>
                                <a:pt x="29" y="0"/>
                              </a:lnTo>
                              <a:lnTo>
                                <a:pt x="19" y="2"/>
                              </a:lnTo>
                              <a:lnTo>
                                <a:pt x="9" y="8"/>
                              </a:lnTo>
                              <a:lnTo>
                                <a:pt x="2" y="17"/>
                              </a:lnTo>
                              <a:lnTo>
                                <a:pt x="0" y="29"/>
                              </a:lnTo>
                              <a:lnTo>
                                <a:pt x="0" y="239"/>
                              </a:lnTo>
                              <a:lnTo>
                                <a:pt x="2" y="251"/>
                              </a:lnTo>
                              <a:lnTo>
                                <a:pt x="9" y="260"/>
                              </a:lnTo>
                              <a:lnTo>
                                <a:pt x="19" y="266"/>
                              </a:lnTo>
                              <a:lnTo>
                                <a:pt x="29" y="268"/>
                              </a:lnTo>
                              <a:lnTo>
                                <a:pt x="299" y="2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fd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480" bIns="-6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3735000" y="5195880"/>
                          <a:ext cx="54000" cy="36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6" h="242">
                              <a:moveTo>
                                <a:pt x="270" y="242"/>
                              </a:moveTo>
                              <a:lnTo>
                                <a:pt x="281" y="240"/>
                              </a:lnTo>
                              <a:lnTo>
                                <a:pt x="289" y="234"/>
                              </a:lnTo>
                              <a:lnTo>
                                <a:pt x="293" y="226"/>
                              </a:lnTo>
                              <a:lnTo>
                                <a:pt x="296" y="217"/>
                              </a:lnTo>
                              <a:lnTo>
                                <a:pt x="296" y="26"/>
                              </a:lnTo>
                              <a:lnTo>
                                <a:pt x="293" y="16"/>
                              </a:lnTo>
                              <a:lnTo>
                                <a:pt x="289" y="8"/>
                              </a:lnTo>
                              <a:lnTo>
                                <a:pt x="281" y="2"/>
                              </a:lnTo>
                              <a:lnTo>
                                <a:pt x="270" y="0"/>
                              </a:lnTo>
                              <a:lnTo>
                                <a:pt x="26" y="0"/>
                              </a:lnTo>
                              <a:lnTo>
                                <a:pt x="17" y="2"/>
                              </a:lnTo>
                              <a:lnTo>
                                <a:pt x="8" y="8"/>
                              </a:lnTo>
                              <a:lnTo>
                                <a:pt x="3" y="16"/>
                              </a:lnTo>
                              <a:lnTo>
                                <a:pt x="0" y="26"/>
                              </a:lnTo>
                              <a:lnTo>
                                <a:pt x="0" y="217"/>
                              </a:lnTo>
                              <a:lnTo>
                                <a:pt x="3" y="226"/>
                              </a:lnTo>
                              <a:lnTo>
                                <a:pt x="8" y="234"/>
                              </a:lnTo>
                              <a:lnTo>
                                <a:pt x="17" y="240"/>
                              </a:lnTo>
                              <a:lnTo>
                                <a:pt x="26" y="242"/>
                              </a:lnTo>
                              <a:lnTo>
                                <a:pt x="270" y="2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2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>
                          <a:off x="3737880" y="5197320"/>
                          <a:ext cx="48600" cy="32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6" h="218">
                              <a:moveTo>
                                <a:pt x="241" y="218"/>
                              </a:moveTo>
                              <a:lnTo>
                                <a:pt x="251" y="215"/>
                              </a:lnTo>
                              <a:lnTo>
                                <a:pt x="259" y="211"/>
                              </a:lnTo>
                              <a:lnTo>
                                <a:pt x="263" y="204"/>
                              </a:lnTo>
                              <a:lnTo>
                                <a:pt x="266" y="194"/>
                              </a:lnTo>
                              <a:lnTo>
                                <a:pt x="266" y="24"/>
                              </a:lnTo>
                              <a:lnTo>
                                <a:pt x="263" y="14"/>
                              </a:lnTo>
                              <a:lnTo>
                                <a:pt x="259" y="7"/>
                              </a:lnTo>
                              <a:lnTo>
                                <a:pt x="251" y="3"/>
                              </a:lnTo>
                              <a:lnTo>
                                <a:pt x="241" y="0"/>
                              </a:lnTo>
                              <a:lnTo>
                                <a:pt x="24" y="0"/>
                              </a:lnTo>
                              <a:lnTo>
                                <a:pt x="14" y="3"/>
                              </a:lnTo>
                              <a:lnTo>
                                <a:pt x="7" y="7"/>
                              </a:lnTo>
                              <a:lnTo>
                                <a:pt x="3" y="14"/>
                              </a:lnTo>
                              <a:lnTo>
                                <a:pt x="0" y="24"/>
                              </a:lnTo>
                              <a:lnTo>
                                <a:pt x="0" y="194"/>
                              </a:lnTo>
                              <a:lnTo>
                                <a:pt x="3" y="204"/>
                              </a:lnTo>
                              <a:lnTo>
                                <a:pt x="7" y="211"/>
                              </a:lnTo>
                              <a:lnTo>
                                <a:pt x="14" y="215"/>
                              </a:lnTo>
                              <a:lnTo>
                                <a:pt x="24" y="218"/>
                              </a:lnTo>
                              <a:lnTo>
                                <a:pt x="241" y="2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7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040" bIns="-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3740400" y="5199480"/>
                          <a:ext cx="4320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2" h="192">
                              <a:moveTo>
                                <a:pt x="212" y="192"/>
                              </a:moveTo>
                              <a:lnTo>
                                <a:pt x="220" y="191"/>
                              </a:lnTo>
                              <a:lnTo>
                                <a:pt x="227" y="186"/>
                              </a:lnTo>
                              <a:lnTo>
                                <a:pt x="231" y="179"/>
                              </a:lnTo>
                              <a:lnTo>
                                <a:pt x="232" y="171"/>
                              </a:lnTo>
                              <a:lnTo>
                                <a:pt x="232" y="21"/>
                              </a:lnTo>
                              <a:lnTo>
                                <a:pt x="231" y="13"/>
                              </a:lnTo>
                              <a:lnTo>
                                <a:pt x="227" y="6"/>
                              </a:lnTo>
                              <a:lnTo>
                                <a:pt x="220" y="1"/>
                              </a:lnTo>
                              <a:lnTo>
                                <a:pt x="212" y="0"/>
                              </a:lnTo>
                              <a:lnTo>
                                <a:pt x="19" y="0"/>
                              </a:lnTo>
                              <a:lnTo>
                                <a:pt x="12" y="1"/>
                              </a:lnTo>
                              <a:lnTo>
                                <a:pt x="5" y="6"/>
                              </a:lnTo>
                              <a:lnTo>
                                <a:pt x="1" y="13"/>
                              </a:lnTo>
                              <a:lnTo>
                                <a:pt x="0" y="21"/>
                              </a:lnTo>
                              <a:lnTo>
                                <a:pt x="0" y="171"/>
                              </a:lnTo>
                              <a:lnTo>
                                <a:pt x="1" y="179"/>
                              </a:lnTo>
                              <a:lnTo>
                                <a:pt x="5" y="186"/>
                              </a:lnTo>
                              <a:lnTo>
                                <a:pt x="12" y="191"/>
                              </a:lnTo>
                              <a:lnTo>
                                <a:pt x="19" y="192"/>
                              </a:lnTo>
                              <a:lnTo>
                                <a:pt x="212" y="19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9f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3743280" y="5200920"/>
                          <a:ext cx="37440" cy="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166">
                              <a:moveTo>
                                <a:pt x="184" y="166"/>
                              </a:moveTo>
                              <a:lnTo>
                                <a:pt x="191" y="165"/>
                              </a:lnTo>
                              <a:lnTo>
                                <a:pt x="197" y="160"/>
                              </a:lnTo>
                              <a:lnTo>
                                <a:pt x="201" y="156"/>
                              </a:lnTo>
                              <a:lnTo>
                                <a:pt x="202" y="149"/>
                              </a:lnTo>
                              <a:lnTo>
                                <a:pt x="202" y="19"/>
                              </a:lnTo>
                              <a:lnTo>
                                <a:pt x="201" y="12"/>
                              </a:lnTo>
                              <a:lnTo>
                                <a:pt x="197" y="6"/>
                              </a:lnTo>
                              <a:lnTo>
                                <a:pt x="191" y="1"/>
                              </a:lnTo>
                              <a:lnTo>
                                <a:pt x="184" y="0"/>
                              </a:lnTo>
                              <a:lnTo>
                                <a:pt x="18" y="0"/>
                              </a:lnTo>
                              <a:lnTo>
                                <a:pt x="11" y="1"/>
                              </a:lnTo>
                              <a:lnTo>
                                <a:pt x="5" y="6"/>
                              </a:lnTo>
                              <a:lnTo>
                                <a:pt x="1" y="12"/>
                              </a:lnTo>
                              <a:lnTo>
                                <a:pt x="0" y="19"/>
                              </a:lnTo>
                              <a:lnTo>
                                <a:pt x="0" y="149"/>
                              </a:lnTo>
                              <a:lnTo>
                                <a:pt x="1" y="156"/>
                              </a:lnTo>
                              <a:lnTo>
                                <a:pt x="5" y="160"/>
                              </a:lnTo>
                              <a:lnTo>
                                <a:pt x="11" y="165"/>
                              </a:lnTo>
                              <a:lnTo>
                                <a:pt x="18" y="166"/>
                              </a:lnTo>
                              <a:lnTo>
                                <a:pt x="184" y="1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3679920" y="5207760"/>
                          <a:ext cx="147600" cy="61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07" h="409">
                              <a:moveTo>
                                <a:pt x="792" y="247"/>
                              </a:moveTo>
                              <a:lnTo>
                                <a:pt x="791" y="239"/>
                              </a:lnTo>
                              <a:lnTo>
                                <a:pt x="787" y="217"/>
                              </a:lnTo>
                              <a:lnTo>
                                <a:pt x="777" y="186"/>
                              </a:lnTo>
                              <a:lnTo>
                                <a:pt x="762" y="149"/>
                              </a:lnTo>
                              <a:lnTo>
                                <a:pt x="740" y="111"/>
                              </a:lnTo>
                              <a:lnTo>
                                <a:pt x="710" y="77"/>
                              </a:lnTo>
                              <a:lnTo>
                                <a:pt x="670" y="50"/>
                              </a:lnTo>
                              <a:lnTo>
                                <a:pt x="617" y="34"/>
                              </a:lnTo>
                              <a:lnTo>
                                <a:pt x="444" y="0"/>
                              </a:lnTo>
                              <a:lnTo>
                                <a:pt x="265" y="39"/>
                              </a:lnTo>
                              <a:lnTo>
                                <a:pt x="261" y="42"/>
                              </a:lnTo>
                              <a:lnTo>
                                <a:pt x="248" y="48"/>
                              </a:lnTo>
                              <a:lnTo>
                                <a:pt x="230" y="58"/>
                              </a:lnTo>
                              <a:lnTo>
                                <a:pt x="210" y="71"/>
                              </a:lnTo>
                              <a:lnTo>
                                <a:pt x="188" y="88"/>
                              </a:lnTo>
                              <a:lnTo>
                                <a:pt x="168" y="108"/>
                              </a:lnTo>
                              <a:lnTo>
                                <a:pt x="153" y="131"/>
                              </a:lnTo>
                              <a:lnTo>
                                <a:pt x="144" y="157"/>
                              </a:lnTo>
                              <a:lnTo>
                                <a:pt x="87" y="46"/>
                              </a:lnTo>
                              <a:lnTo>
                                <a:pt x="84" y="45"/>
                              </a:lnTo>
                              <a:lnTo>
                                <a:pt x="76" y="43"/>
                              </a:lnTo>
                              <a:lnTo>
                                <a:pt x="66" y="41"/>
                              </a:lnTo>
                              <a:lnTo>
                                <a:pt x="54" y="38"/>
                              </a:lnTo>
                              <a:lnTo>
                                <a:pt x="42" y="38"/>
                              </a:lnTo>
                              <a:lnTo>
                                <a:pt x="30" y="43"/>
                              </a:lnTo>
                              <a:lnTo>
                                <a:pt x="20" y="51"/>
                              </a:lnTo>
                              <a:lnTo>
                                <a:pt x="14" y="65"/>
                              </a:lnTo>
                              <a:lnTo>
                                <a:pt x="9" y="91"/>
                              </a:lnTo>
                              <a:lnTo>
                                <a:pt x="5" y="131"/>
                              </a:lnTo>
                              <a:lnTo>
                                <a:pt x="1" y="181"/>
                              </a:lnTo>
                              <a:lnTo>
                                <a:pt x="0" y="235"/>
                              </a:lnTo>
                              <a:lnTo>
                                <a:pt x="3" y="288"/>
                              </a:lnTo>
                              <a:lnTo>
                                <a:pt x="11" y="334"/>
                              </a:lnTo>
                              <a:lnTo>
                                <a:pt x="28" y="372"/>
                              </a:lnTo>
                              <a:lnTo>
                                <a:pt x="53" y="393"/>
                              </a:lnTo>
                              <a:lnTo>
                                <a:pt x="62" y="395"/>
                              </a:lnTo>
                              <a:lnTo>
                                <a:pt x="75" y="397"/>
                              </a:lnTo>
                              <a:lnTo>
                                <a:pt x="90" y="400"/>
                              </a:lnTo>
                              <a:lnTo>
                                <a:pt x="109" y="402"/>
                              </a:lnTo>
                              <a:lnTo>
                                <a:pt x="130" y="403"/>
                              </a:lnTo>
                              <a:lnTo>
                                <a:pt x="153" y="404"/>
                              </a:lnTo>
                              <a:lnTo>
                                <a:pt x="177" y="405"/>
                              </a:lnTo>
                              <a:lnTo>
                                <a:pt x="205" y="406"/>
                              </a:lnTo>
                              <a:lnTo>
                                <a:pt x="234" y="408"/>
                              </a:lnTo>
                              <a:lnTo>
                                <a:pt x="264" y="408"/>
                              </a:lnTo>
                              <a:lnTo>
                                <a:pt x="295" y="409"/>
                              </a:lnTo>
                              <a:lnTo>
                                <a:pt x="327" y="409"/>
                              </a:lnTo>
                              <a:lnTo>
                                <a:pt x="360" y="409"/>
                              </a:lnTo>
                              <a:lnTo>
                                <a:pt x="393" y="409"/>
                              </a:lnTo>
                              <a:lnTo>
                                <a:pt x="426" y="409"/>
                              </a:lnTo>
                              <a:lnTo>
                                <a:pt x="460" y="409"/>
                              </a:lnTo>
                              <a:lnTo>
                                <a:pt x="493" y="409"/>
                              </a:lnTo>
                              <a:lnTo>
                                <a:pt x="527" y="409"/>
                              </a:lnTo>
                              <a:lnTo>
                                <a:pt x="558" y="409"/>
                              </a:lnTo>
                              <a:lnTo>
                                <a:pt x="590" y="408"/>
                              </a:lnTo>
                              <a:lnTo>
                                <a:pt x="620" y="408"/>
                              </a:lnTo>
                              <a:lnTo>
                                <a:pt x="649" y="408"/>
                              </a:lnTo>
                              <a:lnTo>
                                <a:pt x="675" y="406"/>
                              </a:lnTo>
                              <a:lnTo>
                                <a:pt x="701" y="406"/>
                              </a:lnTo>
                              <a:lnTo>
                                <a:pt x="724" y="406"/>
                              </a:lnTo>
                              <a:lnTo>
                                <a:pt x="745" y="405"/>
                              </a:lnTo>
                              <a:lnTo>
                                <a:pt x="763" y="405"/>
                              </a:lnTo>
                              <a:lnTo>
                                <a:pt x="778" y="405"/>
                              </a:lnTo>
                              <a:lnTo>
                                <a:pt x="791" y="404"/>
                              </a:lnTo>
                              <a:lnTo>
                                <a:pt x="799" y="404"/>
                              </a:lnTo>
                              <a:lnTo>
                                <a:pt x="805" y="404"/>
                              </a:lnTo>
                              <a:lnTo>
                                <a:pt x="807" y="404"/>
                              </a:lnTo>
                              <a:lnTo>
                                <a:pt x="792" y="2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760" bIns="14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3682800" y="5191920"/>
                          <a:ext cx="13680" cy="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68">
                              <a:moveTo>
                                <a:pt x="1" y="43"/>
                              </a:moveTo>
                              <a:lnTo>
                                <a:pt x="2" y="41"/>
                              </a:lnTo>
                              <a:lnTo>
                                <a:pt x="7" y="34"/>
                              </a:lnTo>
                              <a:lnTo>
                                <a:pt x="14" y="25"/>
                              </a:lnTo>
                              <a:lnTo>
                                <a:pt x="22" y="15"/>
                              </a:lnTo>
                              <a:lnTo>
                                <a:pt x="34" y="7"/>
                              </a:lnTo>
                              <a:lnTo>
                                <a:pt x="45" y="1"/>
                              </a:lnTo>
                              <a:lnTo>
                                <a:pt x="59" y="0"/>
                              </a:lnTo>
                              <a:lnTo>
                                <a:pt x="74" y="5"/>
                              </a:lnTo>
                              <a:lnTo>
                                <a:pt x="70" y="22"/>
                              </a:lnTo>
                              <a:lnTo>
                                <a:pt x="62" y="63"/>
                              </a:lnTo>
                              <a:lnTo>
                                <a:pt x="58" y="112"/>
                              </a:lnTo>
                              <a:lnTo>
                                <a:pt x="67" y="150"/>
                              </a:lnTo>
                              <a:lnTo>
                                <a:pt x="72" y="161"/>
                              </a:lnTo>
                              <a:lnTo>
                                <a:pt x="67" y="166"/>
                              </a:lnTo>
                              <a:lnTo>
                                <a:pt x="57" y="168"/>
                              </a:lnTo>
                              <a:lnTo>
                                <a:pt x="43" y="166"/>
                              </a:lnTo>
                              <a:lnTo>
                                <a:pt x="28" y="163"/>
                              </a:lnTo>
                              <a:lnTo>
                                <a:pt x="14" y="159"/>
                              </a:lnTo>
                              <a:lnTo>
                                <a:pt x="4" y="156"/>
                              </a:lnTo>
                              <a:lnTo>
                                <a:pt x="0" y="155"/>
                              </a:lnTo>
                              <a:lnTo>
                                <a:pt x="1" y="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3738960" y="5212440"/>
                          <a:ext cx="4104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3" h="300">
                              <a:moveTo>
                                <a:pt x="0" y="20"/>
                              </a:moveTo>
                              <a:lnTo>
                                <a:pt x="95" y="0"/>
                              </a:lnTo>
                              <a:lnTo>
                                <a:pt x="87" y="20"/>
                              </a:lnTo>
                              <a:lnTo>
                                <a:pt x="95" y="38"/>
                              </a:lnTo>
                              <a:lnTo>
                                <a:pt x="70" y="185"/>
                              </a:lnTo>
                              <a:lnTo>
                                <a:pt x="114" y="268"/>
                              </a:lnTo>
                              <a:lnTo>
                                <a:pt x="162" y="165"/>
                              </a:lnTo>
                              <a:lnTo>
                                <a:pt x="122" y="41"/>
                              </a:lnTo>
                              <a:lnTo>
                                <a:pt x="142" y="23"/>
                              </a:lnTo>
                              <a:lnTo>
                                <a:pt x="129" y="0"/>
                              </a:lnTo>
                              <a:lnTo>
                                <a:pt x="223" y="15"/>
                              </a:lnTo>
                              <a:lnTo>
                                <a:pt x="173" y="195"/>
                              </a:lnTo>
                              <a:lnTo>
                                <a:pt x="111" y="300"/>
                              </a:lnTo>
                              <a:lnTo>
                                <a:pt x="44" y="190"/>
                              </a:lnTo>
                              <a:lnTo>
                                <a:pt x="0" y="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3683520" y="5212440"/>
                          <a:ext cx="138240" cy="54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3" h="363">
                              <a:moveTo>
                                <a:pt x="0" y="37"/>
                              </a:moveTo>
                              <a:lnTo>
                                <a:pt x="1" y="36"/>
                              </a:lnTo>
                              <a:lnTo>
                                <a:pt x="3" y="32"/>
                              </a:lnTo>
                              <a:lnTo>
                                <a:pt x="8" y="29"/>
                              </a:lnTo>
                              <a:lnTo>
                                <a:pt x="14" y="24"/>
                              </a:lnTo>
                              <a:lnTo>
                                <a:pt x="22" y="22"/>
                              </a:lnTo>
                              <a:lnTo>
                                <a:pt x="31" y="20"/>
                              </a:lnTo>
                              <a:lnTo>
                                <a:pt x="42" y="24"/>
                              </a:lnTo>
                              <a:lnTo>
                                <a:pt x="54" y="30"/>
                              </a:lnTo>
                              <a:lnTo>
                                <a:pt x="125" y="168"/>
                              </a:lnTo>
                              <a:lnTo>
                                <a:pt x="126" y="163"/>
                              </a:lnTo>
                              <a:lnTo>
                                <a:pt x="129" y="152"/>
                              </a:lnTo>
                              <a:lnTo>
                                <a:pt x="133" y="135"/>
                              </a:lnTo>
                              <a:lnTo>
                                <a:pt x="142" y="114"/>
                              </a:lnTo>
                              <a:lnTo>
                                <a:pt x="156" y="91"/>
                              </a:lnTo>
                              <a:lnTo>
                                <a:pt x="176" y="68"/>
                              </a:lnTo>
                              <a:lnTo>
                                <a:pt x="201" y="47"/>
                              </a:lnTo>
                              <a:lnTo>
                                <a:pt x="235" y="29"/>
                              </a:lnTo>
                              <a:lnTo>
                                <a:pt x="316" y="8"/>
                              </a:lnTo>
                              <a:lnTo>
                                <a:pt x="417" y="249"/>
                              </a:lnTo>
                              <a:lnTo>
                                <a:pt x="512" y="0"/>
                              </a:lnTo>
                              <a:lnTo>
                                <a:pt x="622" y="24"/>
                              </a:lnTo>
                              <a:lnTo>
                                <a:pt x="629" y="26"/>
                              </a:lnTo>
                              <a:lnTo>
                                <a:pt x="645" y="36"/>
                              </a:lnTo>
                              <a:lnTo>
                                <a:pt x="668" y="53"/>
                              </a:lnTo>
                              <a:lnTo>
                                <a:pt x="695" y="81"/>
                              </a:lnTo>
                              <a:lnTo>
                                <a:pt x="721" y="121"/>
                              </a:lnTo>
                              <a:lnTo>
                                <a:pt x="741" y="177"/>
                              </a:lnTo>
                              <a:lnTo>
                                <a:pt x="753" y="248"/>
                              </a:lnTo>
                              <a:lnTo>
                                <a:pt x="752" y="337"/>
                              </a:lnTo>
                              <a:lnTo>
                                <a:pt x="753" y="363"/>
                              </a:lnTo>
                              <a:lnTo>
                                <a:pt x="60" y="363"/>
                              </a:lnTo>
                              <a:lnTo>
                                <a:pt x="58" y="363"/>
                              </a:lnTo>
                              <a:lnTo>
                                <a:pt x="51" y="363"/>
                              </a:lnTo>
                              <a:lnTo>
                                <a:pt x="42" y="362"/>
                              </a:lnTo>
                              <a:lnTo>
                                <a:pt x="31" y="360"/>
                              </a:lnTo>
                              <a:lnTo>
                                <a:pt x="21" y="355"/>
                              </a:lnTo>
                              <a:lnTo>
                                <a:pt x="10" y="347"/>
                              </a:lnTo>
                              <a:lnTo>
                                <a:pt x="3" y="334"/>
                              </a:lnTo>
                              <a:lnTo>
                                <a:pt x="0" y="317"/>
                              </a:lnTo>
                              <a:lnTo>
                                <a:pt x="0" y="3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920" bIns="7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3735000" y="5170320"/>
                          <a:ext cx="42840" cy="50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2" h="334">
                              <a:moveTo>
                                <a:pt x="12" y="118"/>
                              </a:moveTo>
                              <a:lnTo>
                                <a:pt x="12" y="126"/>
                              </a:lnTo>
                              <a:lnTo>
                                <a:pt x="12" y="148"/>
                              </a:lnTo>
                              <a:lnTo>
                                <a:pt x="14" y="180"/>
                              </a:lnTo>
                              <a:lnTo>
                                <a:pt x="21" y="217"/>
                              </a:lnTo>
                              <a:lnTo>
                                <a:pt x="34" y="256"/>
                              </a:lnTo>
                              <a:lnTo>
                                <a:pt x="55" y="291"/>
                              </a:lnTo>
                              <a:lnTo>
                                <a:pt x="84" y="319"/>
                              </a:lnTo>
                              <a:lnTo>
                                <a:pt x="126" y="334"/>
                              </a:lnTo>
                              <a:lnTo>
                                <a:pt x="130" y="334"/>
                              </a:lnTo>
                              <a:lnTo>
                                <a:pt x="143" y="330"/>
                              </a:lnTo>
                              <a:lnTo>
                                <a:pt x="160" y="323"/>
                              </a:lnTo>
                              <a:lnTo>
                                <a:pt x="180" y="307"/>
                              </a:lnTo>
                              <a:lnTo>
                                <a:pt x="199" y="281"/>
                              </a:lnTo>
                              <a:lnTo>
                                <a:pt x="215" y="243"/>
                              </a:lnTo>
                              <a:lnTo>
                                <a:pt x="225" y="190"/>
                              </a:lnTo>
                              <a:lnTo>
                                <a:pt x="226" y="118"/>
                              </a:lnTo>
                              <a:lnTo>
                                <a:pt x="229" y="109"/>
                              </a:lnTo>
                              <a:lnTo>
                                <a:pt x="231" y="90"/>
                              </a:lnTo>
                              <a:lnTo>
                                <a:pt x="232" y="64"/>
                              </a:lnTo>
                              <a:lnTo>
                                <a:pt x="229" y="41"/>
                              </a:lnTo>
                              <a:lnTo>
                                <a:pt x="224" y="32"/>
                              </a:lnTo>
                              <a:lnTo>
                                <a:pt x="218" y="24"/>
                              </a:lnTo>
                              <a:lnTo>
                                <a:pt x="210" y="17"/>
                              </a:lnTo>
                              <a:lnTo>
                                <a:pt x="200" y="11"/>
                              </a:lnTo>
                              <a:lnTo>
                                <a:pt x="186" y="6"/>
                              </a:lnTo>
                              <a:lnTo>
                                <a:pt x="168" y="3"/>
                              </a:lnTo>
                              <a:lnTo>
                                <a:pt x="145" y="1"/>
                              </a:lnTo>
                              <a:lnTo>
                                <a:pt x="119" y="0"/>
                              </a:lnTo>
                              <a:lnTo>
                                <a:pt x="91" y="1"/>
                              </a:lnTo>
                              <a:lnTo>
                                <a:pt x="66" y="6"/>
                              </a:lnTo>
                              <a:lnTo>
                                <a:pt x="46" y="13"/>
                              </a:lnTo>
                              <a:lnTo>
                                <a:pt x="29" y="20"/>
                              </a:lnTo>
                              <a:lnTo>
                                <a:pt x="17" y="27"/>
                              </a:lnTo>
                              <a:lnTo>
                                <a:pt x="7" y="34"/>
                              </a:lnTo>
                              <a:lnTo>
                                <a:pt x="3" y="39"/>
                              </a:lnTo>
                              <a:lnTo>
                                <a:pt x="0" y="40"/>
                              </a:lnTo>
                              <a:lnTo>
                                <a:pt x="5" y="69"/>
                              </a:lnTo>
                              <a:lnTo>
                                <a:pt x="12" y="1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" bIns="3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3739680" y="5186880"/>
                          <a:ext cx="35640" cy="3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2" h="205">
                              <a:moveTo>
                                <a:pt x="0" y="2"/>
                              </a:moveTo>
                              <a:lnTo>
                                <a:pt x="0" y="10"/>
                              </a:lnTo>
                              <a:lnTo>
                                <a:pt x="0" y="31"/>
                              </a:lnTo>
                              <a:lnTo>
                                <a:pt x="1" y="60"/>
                              </a:lnTo>
                              <a:lnTo>
                                <a:pt x="7" y="95"/>
                              </a:lnTo>
                              <a:lnTo>
                                <a:pt x="18" y="131"/>
                              </a:lnTo>
                              <a:lnTo>
                                <a:pt x="37" y="164"/>
                              </a:lnTo>
                              <a:lnTo>
                                <a:pt x="65" y="190"/>
                              </a:lnTo>
                              <a:lnTo>
                                <a:pt x="103" y="205"/>
                              </a:lnTo>
                              <a:lnTo>
                                <a:pt x="108" y="204"/>
                              </a:lnTo>
                              <a:lnTo>
                                <a:pt x="119" y="200"/>
                              </a:lnTo>
                              <a:lnTo>
                                <a:pt x="134" y="189"/>
                              </a:lnTo>
                              <a:lnTo>
                                <a:pt x="153" y="173"/>
                              </a:lnTo>
                              <a:lnTo>
                                <a:pt x="169" y="148"/>
                              </a:lnTo>
                              <a:lnTo>
                                <a:pt x="184" y="115"/>
                              </a:lnTo>
                              <a:lnTo>
                                <a:pt x="192" y="69"/>
                              </a:lnTo>
                              <a:lnTo>
                                <a:pt x="192" y="13"/>
                              </a:lnTo>
                              <a:lnTo>
                                <a:pt x="142" y="0"/>
                              </a:lnTo>
                              <a:lnTo>
                                <a:pt x="95" y="33"/>
                              </a:lnTo>
                              <a:lnTo>
                                <a:pt x="31" y="0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b9ba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3761640" y="5193360"/>
                          <a:ext cx="9000" cy="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19">
                              <a:moveTo>
                                <a:pt x="0" y="15"/>
                              </a:moveTo>
                              <a:lnTo>
                                <a:pt x="49" y="19"/>
                              </a:lnTo>
                              <a:lnTo>
                                <a:pt x="47" y="18"/>
                              </a:lnTo>
                              <a:lnTo>
                                <a:pt x="45" y="13"/>
                              </a:lnTo>
                              <a:lnTo>
                                <a:pt x="41" y="8"/>
                              </a:lnTo>
                              <a:lnTo>
                                <a:pt x="35" y="4"/>
                              </a:lnTo>
                              <a:lnTo>
                                <a:pt x="28" y="0"/>
                              </a:lnTo>
                              <a:lnTo>
                                <a:pt x="20" y="0"/>
                              </a:lnTo>
                              <a:lnTo>
                                <a:pt x="10" y="5"/>
                              </a:lnTo>
                              <a:lnTo>
                                <a:pt x="0" y="1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3744360" y="5194800"/>
                          <a:ext cx="8280" cy="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" h="19">
                              <a:moveTo>
                                <a:pt x="46" y="11"/>
                              </a:moveTo>
                              <a:lnTo>
                                <a:pt x="0" y="19"/>
                              </a:lnTo>
                              <a:lnTo>
                                <a:pt x="1" y="18"/>
                              </a:lnTo>
                              <a:lnTo>
                                <a:pt x="3" y="13"/>
                              </a:lnTo>
                              <a:lnTo>
                                <a:pt x="7" y="8"/>
                              </a:lnTo>
                              <a:lnTo>
                                <a:pt x="12" y="4"/>
                              </a:lnTo>
                              <a:lnTo>
                                <a:pt x="18" y="0"/>
                              </a:lnTo>
                              <a:lnTo>
                                <a:pt x="27" y="0"/>
                              </a:lnTo>
                              <a:lnTo>
                                <a:pt x="36" y="3"/>
                              </a:lnTo>
                              <a:lnTo>
                                <a:pt x="46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>
                          <a:off x="3755880" y="5193360"/>
                          <a:ext cx="1008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" h="95">
                              <a:moveTo>
                                <a:pt x="56" y="1"/>
                              </a:moveTo>
                              <a:lnTo>
                                <a:pt x="53" y="1"/>
                              </a:lnTo>
                              <a:lnTo>
                                <a:pt x="47" y="0"/>
                              </a:lnTo>
                              <a:lnTo>
                                <a:pt x="37" y="3"/>
                              </a:lnTo>
                              <a:lnTo>
                                <a:pt x="27" y="7"/>
                              </a:lnTo>
                              <a:lnTo>
                                <a:pt x="16" y="18"/>
                              </a:lnTo>
                              <a:lnTo>
                                <a:pt x="8" y="34"/>
                              </a:lnTo>
                              <a:lnTo>
                                <a:pt x="1" y="59"/>
                              </a:lnTo>
                              <a:lnTo>
                                <a:pt x="0" y="95"/>
                              </a:lnTo>
                              <a:lnTo>
                                <a:pt x="35" y="92"/>
                              </a:lnTo>
                              <a:lnTo>
                                <a:pt x="12" y="83"/>
                              </a:lnTo>
                              <a:lnTo>
                                <a:pt x="12" y="79"/>
                              </a:lnTo>
                              <a:lnTo>
                                <a:pt x="12" y="70"/>
                              </a:lnTo>
                              <a:lnTo>
                                <a:pt x="12" y="58"/>
                              </a:lnTo>
                              <a:lnTo>
                                <a:pt x="14" y="43"/>
                              </a:lnTo>
                              <a:lnTo>
                                <a:pt x="19" y="29"/>
                              </a:lnTo>
                              <a:lnTo>
                                <a:pt x="27" y="17"/>
                              </a:lnTo>
                              <a:lnTo>
                                <a:pt x="38" y="8"/>
                              </a:lnTo>
                              <a:lnTo>
                                <a:pt x="56" y="6"/>
                              </a:lnTo>
                              <a:lnTo>
                                <a:pt x="56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>
                          <a:off x="3737880" y="5171760"/>
                          <a:ext cx="37440" cy="16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" h="116">
                              <a:moveTo>
                                <a:pt x="161" y="85"/>
                              </a:moveTo>
                              <a:lnTo>
                                <a:pt x="201" y="100"/>
                              </a:lnTo>
                              <a:lnTo>
                                <a:pt x="202" y="95"/>
                              </a:lnTo>
                              <a:lnTo>
                                <a:pt x="205" y="84"/>
                              </a:lnTo>
                              <a:lnTo>
                                <a:pt x="206" y="67"/>
                              </a:lnTo>
                              <a:lnTo>
                                <a:pt x="205" y="49"/>
                              </a:lnTo>
                              <a:lnTo>
                                <a:pt x="197" y="30"/>
                              </a:lnTo>
                              <a:lnTo>
                                <a:pt x="182" y="14"/>
                              </a:lnTo>
                              <a:lnTo>
                                <a:pt x="158" y="3"/>
                              </a:lnTo>
                              <a:lnTo>
                                <a:pt x="120" y="0"/>
                              </a:lnTo>
                              <a:lnTo>
                                <a:pt x="80" y="2"/>
                              </a:lnTo>
                              <a:lnTo>
                                <a:pt x="50" y="7"/>
                              </a:lnTo>
                              <a:lnTo>
                                <a:pt x="29" y="13"/>
                              </a:lnTo>
                              <a:lnTo>
                                <a:pt x="15" y="19"/>
                              </a:lnTo>
                              <a:lnTo>
                                <a:pt x="6" y="25"/>
                              </a:lnTo>
                              <a:lnTo>
                                <a:pt x="3" y="30"/>
                              </a:lnTo>
                              <a:lnTo>
                                <a:pt x="0" y="35"/>
                              </a:lnTo>
                              <a:lnTo>
                                <a:pt x="0" y="36"/>
                              </a:lnTo>
                              <a:lnTo>
                                <a:pt x="7" y="89"/>
                              </a:lnTo>
                              <a:lnTo>
                                <a:pt x="51" y="85"/>
                              </a:lnTo>
                              <a:lnTo>
                                <a:pt x="104" y="116"/>
                              </a:lnTo>
                              <a:lnTo>
                                <a:pt x="161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1193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>
                          <a:off x="3762360" y="5215320"/>
                          <a:ext cx="2556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9" h="222">
                              <a:moveTo>
                                <a:pt x="88" y="0"/>
                              </a:moveTo>
                              <a:lnTo>
                                <a:pt x="139" y="75"/>
                              </a:lnTo>
                              <a:lnTo>
                                <a:pt x="90" y="112"/>
                              </a:lnTo>
                              <a:lnTo>
                                <a:pt x="110" y="154"/>
                              </a:lnTo>
                              <a:lnTo>
                                <a:pt x="0" y="222"/>
                              </a:lnTo>
                              <a:lnTo>
                                <a:pt x="80" y="147"/>
                              </a:lnTo>
                              <a:lnTo>
                                <a:pt x="68" y="94"/>
                              </a:lnTo>
                              <a:lnTo>
                                <a:pt x="122" y="70"/>
                              </a:lnTo>
                              <a:lnTo>
                                <a:pt x="8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1c1c1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3731400" y="5215320"/>
                          <a:ext cx="2556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8" h="225">
                              <a:moveTo>
                                <a:pt x="39" y="0"/>
                              </a:moveTo>
                              <a:lnTo>
                                <a:pt x="0" y="108"/>
                              </a:lnTo>
                              <a:lnTo>
                                <a:pt x="48" y="129"/>
                              </a:lnTo>
                              <a:lnTo>
                                <a:pt x="35" y="187"/>
                              </a:lnTo>
                              <a:lnTo>
                                <a:pt x="138" y="225"/>
                              </a:lnTo>
                              <a:lnTo>
                                <a:pt x="63" y="174"/>
                              </a:lnTo>
                              <a:lnTo>
                                <a:pt x="77" y="112"/>
                              </a:lnTo>
                              <a:lnTo>
                                <a:pt x="75" y="112"/>
                              </a:lnTo>
                              <a:lnTo>
                                <a:pt x="69" y="111"/>
                              </a:lnTo>
                              <a:lnTo>
                                <a:pt x="61" y="109"/>
                              </a:lnTo>
                              <a:lnTo>
                                <a:pt x="52" y="108"/>
                              </a:lnTo>
                              <a:lnTo>
                                <a:pt x="43" y="105"/>
                              </a:lnTo>
                              <a:lnTo>
                                <a:pt x="35" y="103"/>
                              </a:lnTo>
                              <a:lnTo>
                                <a:pt x="29" y="101"/>
                              </a:lnTo>
                              <a:lnTo>
                                <a:pt x="26" y="100"/>
                              </a:lnTo>
                              <a:lnTo>
                                <a:pt x="29" y="83"/>
                              </a:lnTo>
                              <a:lnTo>
                                <a:pt x="33" y="49"/>
                              </a:lnTo>
                              <a:lnTo>
                                <a:pt x="37" y="15"/>
                              </a:lnTo>
                              <a:lnTo>
                                <a:pt x="3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1c1c1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>
                          <a:off x="3706560" y="5232600"/>
                          <a:ext cx="1008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" h="180">
                              <a:moveTo>
                                <a:pt x="0" y="29"/>
                              </a:moveTo>
                              <a:lnTo>
                                <a:pt x="2" y="34"/>
                              </a:lnTo>
                              <a:lnTo>
                                <a:pt x="9" y="48"/>
                              </a:lnTo>
                              <a:lnTo>
                                <a:pt x="17" y="68"/>
                              </a:lnTo>
                              <a:lnTo>
                                <a:pt x="28" y="91"/>
                              </a:lnTo>
                              <a:lnTo>
                                <a:pt x="38" y="116"/>
                              </a:lnTo>
                              <a:lnTo>
                                <a:pt x="46" y="141"/>
                              </a:lnTo>
                              <a:lnTo>
                                <a:pt x="51" y="163"/>
                              </a:lnTo>
                              <a:lnTo>
                                <a:pt x="52" y="180"/>
                              </a:lnTo>
                              <a:lnTo>
                                <a:pt x="52" y="177"/>
                              </a:lnTo>
                              <a:lnTo>
                                <a:pt x="53" y="166"/>
                              </a:lnTo>
                              <a:lnTo>
                                <a:pt x="53" y="150"/>
                              </a:lnTo>
                              <a:lnTo>
                                <a:pt x="51" y="128"/>
                              </a:lnTo>
                              <a:lnTo>
                                <a:pt x="46" y="101"/>
                              </a:lnTo>
                              <a:lnTo>
                                <a:pt x="37" y="71"/>
                              </a:lnTo>
                              <a:lnTo>
                                <a:pt x="22" y="37"/>
                              </a:lnTo>
                              <a:lnTo>
                                <a:pt x="1" y="0"/>
                              </a:lnTo>
                              <a:lnTo>
                                <a:pt x="0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>
                          <a:off x="3792960" y="5244480"/>
                          <a:ext cx="9000" cy="2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76">
                              <a:moveTo>
                                <a:pt x="1" y="151"/>
                              </a:moveTo>
                              <a:lnTo>
                                <a:pt x="3" y="149"/>
                              </a:lnTo>
                              <a:lnTo>
                                <a:pt x="7" y="141"/>
                              </a:lnTo>
                              <a:lnTo>
                                <a:pt x="14" y="128"/>
                              </a:lnTo>
                              <a:lnTo>
                                <a:pt x="21" y="111"/>
                              </a:lnTo>
                              <a:lnTo>
                                <a:pt x="27" y="90"/>
                              </a:lnTo>
                              <a:lnTo>
                                <a:pt x="32" y="63"/>
                              </a:lnTo>
                              <a:lnTo>
                                <a:pt x="34" y="34"/>
                              </a:lnTo>
                              <a:lnTo>
                                <a:pt x="33" y="0"/>
                              </a:lnTo>
                              <a:lnTo>
                                <a:pt x="34" y="5"/>
                              </a:lnTo>
                              <a:lnTo>
                                <a:pt x="39" y="17"/>
                              </a:lnTo>
                              <a:lnTo>
                                <a:pt x="43" y="35"/>
                              </a:lnTo>
                              <a:lnTo>
                                <a:pt x="47" y="57"/>
                              </a:lnTo>
                              <a:lnTo>
                                <a:pt x="50" y="82"/>
                              </a:lnTo>
                              <a:lnTo>
                                <a:pt x="49" y="107"/>
                              </a:lnTo>
                              <a:lnTo>
                                <a:pt x="43" y="132"/>
                              </a:lnTo>
                              <a:lnTo>
                                <a:pt x="33" y="154"/>
                              </a:lnTo>
                              <a:lnTo>
                                <a:pt x="20" y="169"/>
                              </a:lnTo>
                              <a:lnTo>
                                <a:pt x="11" y="176"/>
                              </a:lnTo>
                              <a:lnTo>
                                <a:pt x="6" y="176"/>
                              </a:lnTo>
                              <a:lnTo>
                                <a:pt x="3" y="172"/>
                              </a:lnTo>
                              <a:lnTo>
                                <a:pt x="1" y="165"/>
                              </a:lnTo>
                              <a:lnTo>
                                <a:pt x="0" y="159"/>
                              </a:lnTo>
                              <a:lnTo>
                                <a:pt x="1" y="154"/>
                              </a:lnTo>
                              <a:lnTo>
                                <a:pt x="1" y="1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>
                          <a:off x="3753360" y="5210640"/>
                          <a:ext cx="8280" cy="3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27">
                              <a:moveTo>
                                <a:pt x="23" y="27"/>
                              </a:moveTo>
                              <a:lnTo>
                                <a:pt x="31" y="25"/>
                              </a:lnTo>
                              <a:lnTo>
                                <a:pt x="38" y="23"/>
                              </a:lnTo>
                              <a:lnTo>
                                <a:pt x="43" y="18"/>
                              </a:lnTo>
                              <a:lnTo>
                                <a:pt x="45" y="13"/>
                              </a:lnTo>
                              <a:lnTo>
                                <a:pt x="43" y="8"/>
                              </a:lnTo>
                              <a:lnTo>
                                <a:pt x="38" y="3"/>
                              </a:lnTo>
                              <a:lnTo>
                                <a:pt x="31" y="1"/>
                              </a:lnTo>
                              <a:lnTo>
                                <a:pt x="23" y="0"/>
                              </a:lnTo>
                              <a:lnTo>
                                <a:pt x="14" y="1"/>
                              </a:lnTo>
                              <a:lnTo>
                                <a:pt x="7" y="3"/>
                              </a:lnTo>
                              <a:lnTo>
                                <a:pt x="2" y="8"/>
                              </a:lnTo>
                              <a:lnTo>
                                <a:pt x="0" y="13"/>
                              </a:lnTo>
                              <a:lnTo>
                                <a:pt x="2" y="18"/>
                              </a:lnTo>
                              <a:lnTo>
                                <a:pt x="7" y="23"/>
                              </a:lnTo>
                              <a:lnTo>
                                <a:pt x="14" y="25"/>
                              </a:lnTo>
                              <a:lnTo>
                                <a:pt x="23" y="2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>
                          <a:off x="3683520" y="5193360"/>
                          <a:ext cx="1008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142">
                              <a:moveTo>
                                <a:pt x="7" y="136"/>
                              </a:moveTo>
                              <a:lnTo>
                                <a:pt x="8" y="136"/>
                              </a:lnTo>
                              <a:lnTo>
                                <a:pt x="12" y="135"/>
                              </a:lnTo>
                              <a:lnTo>
                                <a:pt x="16" y="132"/>
                              </a:lnTo>
                              <a:lnTo>
                                <a:pt x="22" y="131"/>
                              </a:lnTo>
                              <a:lnTo>
                                <a:pt x="28" y="131"/>
                              </a:lnTo>
                              <a:lnTo>
                                <a:pt x="35" y="131"/>
                              </a:lnTo>
                              <a:lnTo>
                                <a:pt x="42" y="132"/>
                              </a:lnTo>
                              <a:lnTo>
                                <a:pt x="48" y="136"/>
                              </a:lnTo>
                              <a:lnTo>
                                <a:pt x="44" y="120"/>
                              </a:lnTo>
                              <a:lnTo>
                                <a:pt x="39" y="83"/>
                              </a:lnTo>
                              <a:lnTo>
                                <a:pt x="41" y="38"/>
                              </a:lnTo>
                              <a:lnTo>
                                <a:pt x="55" y="2"/>
                              </a:lnTo>
                              <a:lnTo>
                                <a:pt x="53" y="2"/>
                              </a:lnTo>
                              <a:lnTo>
                                <a:pt x="50" y="1"/>
                              </a:lnTo>
                              <a:lnTo>
                                <a:pt x="44" y="0"/>
                              </a:lnTo>
                              <a:lnTo>
                                <a:pt x="37" y="1"/>
                              </a:lnTo>
                              <a:lnTo>
                                <a:pt x="29" y="5"/>
                              </a:lnTo>
                              <a:lnTo>
                                <a:pt x="20" y="11"/>
                              </a:lnTo>
                              <a:lnTo>
                                <a:pt x="10" y="21"/>
                              </a:lnTo>
                              <a:lnTo>
                                <a:pt x="0" y="36"/>
                              </a:lnTo>
                              <a:lnTo>
                                <a:pt x="0" y="142"/>
                              </a:lnTo>
                              <a:lnTo>
                                <a:pt x="7" y="1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b9ba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8" name=""/>
                        <p:cNvSpPr/>
                        <p:nvPr/>
                      </p:nvSpPr>
                      <p:spPr>
                        <a:xfrm>
                          <a:off x="3854160" y="5142600"/>
                          <a:ext cx="88920" cy="9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7" h="618">
                              <a:moveTo>
                                <a:pt x="188" y="618"/>
                              </a:moveTo>
                              <a:lnTo>
                                <a:pt x="158" y="541"/>
                              </a:lnTo>
                              <a:lnTo>
                                <a:pt x="76" y="562"/>
                              </a:lnTo>
                              <a:lnTo>
                                <a:pt x="73" y="553"/>
                              </a:lnTo>
                              <a:lnTo>
                                <a:pt x="63" y="528"/>
                              </a:lnTo>
                              <a:lnTo>
                                <a:pt x="49" y="490"/>
                              </a:lnTo>
                              <a:lnTo>
                                <a:pt x="36" y="441"/>
                              </a:lnTo>
                              <a:lnTo>
                                <a:pt x="23" y="386"/>
                              </a:lnTo>
                              <a:lnTo>
                                <a:pt x="17" y="324"/>
                              </a:lnTo>
                              <a:lnTo>
                                <a:pt x="17" y="260"/>
                              </a:lnTo>
                              <a:lnTo>
                                <a:pt x="29" y="196"/>
                              </a:lnTo>
                              <a:lnTo>
                                <a:pt x="0" y="158"/>
                              </a:lnTo>
                              <a:lnTo>
                                <a:pt x="3" y="154"/>
                              </a:lnTo>
                              <a:lnTo>
                                <a:pt x="12" y="145"/>
                              </a:lnTo>
                              <a:lnTo>
                                <a:pt x="24" y="130"/>
                              </a:lnTo>
                              <a:lnTo>
                                <a:pt x="43" y="113"/>
                              </a:lnTo>
                              <a:lnTo>
                                <a:pt x="65" y="93"/>
                              </a:lnTo>
                              <a:lnTo>
                                <a:pt x="92" y="72"/>
                              </a:lnTo>
                              <a:lnTo>
                                <a:pt x="120" y="51"/>
                              </a:lnTo>
                              <a:lnTo>
                                <a:pt x="153" y="33"/>
                              </a:lnTo>
                              <a:lnTo>
                                <a:pt x="188" y="16"/>
                              </a:lnTo>
                              <a:lnTo>
                                <a:pt x="225" y="6"/>
                              </a:lnTo>
                              <a:lnTo>
                                <a:pt x="262" y="0"/>
                              </a:lnTo>
                              <a:lnTo>
                                <a:pt x="301" y="1"/>
                              </a:lnTo>
                              <a:lnTo>
                                <a:pt x="342" y="10"/>
                              </a:lnTo>
                              <a:lnTo>
                                <a:pt x="381" y="30"/>
                              </a:lnTo>
                              <a:lnTo>
                                <a:pt x="421" y="60"/>
                              </a:lnTo>
                              <a:lnTo>
                                <a:pt x="460" y="102"/>
                              </a:lnTo>
                              <a:lnTo>
                                <a:pt x="462" y="113"/>
                              </a:lnTo>
                              <a:lnTo>
                                <a:pt x="468" y="143"/>
                              </a:lnTo>
                              <a:lnTo>
                                <a:pt x="475" y="186"/>
                              </a:lnTo>
                              <a:lnTo>
                                <a:pt x="482" y="238"/>
                              </a:lnTo>
                              <a:lnTo>
                                <a:pt x="487" y="294"/>
                              </a:lnTo>
                              <a:lnTo>
                                <a:pt x="487" y="351"/>
                              </a:lnTo>
                              <a:lnTo>
                                <a:pt x="481" y="402"/>
                              </a:lnTo>
                              <a:lnTo>
                                <a:pt x="468" y="444"/>
                              </a:lnTo>
                              <a:lnTo>
                                <a:pt x="434" y="469"/>
                              </a:lnTo>
                              <a:lnTo>
                                <a:pt x="434" y="575"/>
                              </a:lnTo>
                              <a:lnTo>
                                <a:pt x="188" y="6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080" bIns="46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9" name=""/>
                        <p:cNvSpPr/>
                        <p:nvPr/>
                      </p:nvSpPr>
                      <p:spPr>
                        <a:xfrm>
                          <a:off x="3560760" y="5158800"/>
                          <a:ext cx="111600" cy="7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9" h="528">
                              <a:moveTo>
                                <a:pt x="221" y="506"/>
                              </a:moveTo>
                              <a:lnTo>
                                <a:pt x="234" y="466"/>
                              </a:lnTo>
                              <a:lnTo>
                                <a:pt x="232" y="466"/>
                              </a:lnTo>
                              <a:lnTo>
                                <a:pt x="224" y="466"/>
                              </a:lnTo>
                              <a:lnTo>
                                <a:pt x="212" y="466"/>
                              </a:lnTo>
                              <a:lnTo>
                                <a:pt x="197" y="464"/>
                              </a:lnTo>
                              <a:lnTo>
                                <a:pt x="180" y="462"/>
                              </a:lnTo>
                              <a:lnTo>
                                <a:pt x="160" y="459"/>
                              </a:lnTo>
                              <a:lnTo>
                                <a:pt x="139" y="453"/>
                              </a:lnTo>
                              <a:lnTo>
                                <a:pt x="117" y="446"/>
                              </a:lnTo>
                              <a:lnTo>
                                <a:pt x="95" y="435"/>
                              </a:lnTo>
                              <a:lnTo>
                                <a:pt x="74" y="423"/>
                              </a:lnTo>
                              <a:lnTo>
                                <a:pt x="54" y="406"/>
                              </a:lnTo>
                              <a:lnTo>
                                <a:pt x="37" y="387"/>
                              </a:lnTo>
                              <a:lnTo>
                                <a:pt x="22" y="363"/>
                              </a:lnTo>
                              <a:lnTo>
                                <a:pt x="10" y="337"/>
                              </a:lnTo>
                              <a:lnTo>
                                <a:pt x="2" y="304"/>
                              </a:lnTo>
                              <a:lnTo>
                                <a:pt x="0" y="267"/>
                              </a:lnTo>
                              <a:lnTo>
                                <a:pt x="1" y="229"/>
                              </a:lnTo>
                              <a:lnTo>
                                <a:pt x="6" y="195"/>
                              </a:lnTo>
                              <a:lnTo>
                                <a:pt x="13" y="164"/>
                              </a:lnTo>
                              <a:lnTo>
                                <a:pt x="22" y="136"/>
                              </a:lnTo>
                              <a:lnTo>
                                <a:pt x="34" y="111"/>
                              </a:lnTo>
                              <a:lnTo>
                                <a:pt x="48" y="89"/>
                              </a:lnTo>
                              <a:lnTo>
                                <a:pt x="63" y="70"/>
                              </a:lnTo>
                              <a:lnTo>
                                <a:pt x="81" y="53"/>
                              </a:lnTo>
                              <a:lnTo>
                                <a:pt x="100" y="39"/>
                              </a:lnTo>
                              <a:lnTo>
                                <a:pt x="121" y="29"/>
                              </a:lnTo>
                              <a:lnTo>
                                <a:pt x="143" y="18"/>
                              </a:lnTo>
                              <a:lnTo>
                                <a:pt x="166" y="11"/>
                              </a:lnTo>
                              <a:lnTo>
                                <a:pt x="190" y="7"/>
                              </a:lnTo>
                              <a:lnTo>
                                <a:pt x="214" y="2"/>
                              </a:lnTo>
                              <a:lnTo>
                                <a:pt x="240" y="1"/>
                              </a:lnTo>
                              <a:lnTo>
                                <a:pt x="267" y="0"/>
                              </a:lnTo>
                              <a:lnTo>
                                <a:pt x="293" y="0"/>
                              </a:lnTo>
                              <a:lnTo>
                                <a:pt x="320" y="1"/>
                              </a:lnTo>
                              <a:lnTo>
                                <a:pt x="348" y="3"/>
                              </a:lnTo>
                              <a:lnTo>
                                <a:pt x="375" y="6"/>
                              </a:lnTo>
                              <a:lnTo>
                                <a:pt x="402" y="9"/>
                              </a:lnTo>
                              <a:lnTo>
                                <a:pt x="429" y="14"/>
                              </a:lnTo>
                              <a:lnTo>
                                <a:pt x="454" y="20"/>
                              </a:lnTo>
                              <a:lnTo>
                                <a:pt x="479" y="25"/>
                              </a:lnTo>
                              <a:lnTo>
                                <a:pt x="502" y="34"/>
                              </a:lnTo>
                              <a:lnTo>
                                <a:pt x="524" y="43"/>
                              </a:lnTo>
                              <a:lnTo>
                                <a:pt x="545" y="53"/>
                              </a:lnTo>
                              <a:lnTo>
                                <a:pt x="562" y="65"/>
                              </a:lnTo>
                              <a:lnTo>
                                <a:pt x="578" y="78"/>
                              </a:lnTo>
                              <a:lnTo>
                                <a:pt x="591" y="93"/>
                              </a:lnTo>
                              <a:lnTo>
                                <a:pt x="603" y="109"/>
                              </a:lnTo>
                              <a:lnTo>
                                <a:pt x="609" y="126"/>
                              </a:lnTo>
                              <a:lnTo>
                                <a:pt x="583" y="159"/>
                              </a:lnTo>
                              <a:lnTo>
                                <a:pt x="585" y="169"/>
                              </a:lnTo>
                              <a:lnTo>
                                <a:pt x="591" y="200"/>
                              </a:lnTo>
                              <a:lnTo>
                                <a:pt x="597" y="243"/>
                              </a:lnTo>
                              <a:lnTo>
                                <a:pt x="599" y="296"/>
                              </a:lnTo>
                              <a:lnTo>
                                <a:pt x="597" y="354"/>
                              </a:lnTo>
                              <a:lnTo>
                                <a:pt x="586" y="412"/>
                              </a:lnTo>
                              <a:lnTo>
                                <a:pt x="564" y="466"/>
                              </a:lnTo>
                              <a:lnTo>
                                <a:pt x="528" y="511"/>
                              </a:lnTo>
                              <a:lnTo>
                                <a:pt x="455" y="492"/>
                              </a:lnTo>
                              <a:lnTo>
                                <a:pt x="438" y="528"/>
                              </a:lnTo>
                              <a:lnTo>
                                <a:pt x="221" y="5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040" bIns="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0" name=""/>
                        <p:cNvSpPr/>
                        <p:nvPr/>
                      </p:nvSpPr>
                      <p:spPr>
                        <a:xfrm>
                          <a:off x="3862440" y="5173920"/>
                          <a:ext cx="65880" cy="4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9" h="323">
                              <a:moveTo>
                                <a:pt x="5" y="0"/>
                              </a:moveTo>
                              <a:lnTo>
                                <a:pt x="4" y="8"/>
                              </a:lnTo>
                              <a:lnTo>
                                <a:pt x="2" y="33"/>
                              </a:lnTo>
                              <a:lnTo>
                                <a:pt x="0" y="69"/>
                              </a:lnTo>
                              <a:lnTo>
                                <a:pt x="0" y="114"/>
                              </a:lnTo>
                              <a:lnTo>
                                <a:pt x="4" y="165"/>
                              </a:lnTo>
                              <a:lnTo>
                                <a:pt x="12" y="220"/>
                              </a:lnTo>
                              <a:lnTo>
                                <a:pt x="26" y="273"/>
                              </a:lnTo>
                              <a:lnTo>
                                <a:pt x="48" y="323"/>
                              </a:lnTo>
                              <a:lnTo>
                                <a:pt x="146" y="297"/>
                              </a:lnTo>
                              <a:lnTo>
                                <a:pt x="359" y="268"/>
                              </a:lnTo>
                              <a:lnTo>
                                <a:pt x="356" y="268"/>
                              </a:lnTo>
                              <a:lnTo>
                                <a:pt x="348" y="266"/>
                              </a:lnTo>
                              <a:lnTo>
                                <a:pt x="338" y="264"/>
                              </a:lnTo>
                              <a:lnTo>
                                <a:pt x="323" y="260"/>
                              </a:lnTo>
                              <a:lnTo>
                                <a:pt x="304" y="254"/>
                              </a:lnTo>
                              <a:lnTo>
                                <a:pt x="284" y="247"/>
                              </a:lnTo>
                              <a:lnTo>
                                <a:pt x="263" y="239"/>
                              </a:lnTo>
                              <a:lnTo>
                                <a:pt x="241" y="230"/>
                              </a:lnTo>
                              <a:lnTo>
                                <a:pt x="219" y="218"/>
                              </a:lnTo>
                              <a:lnTo>
                                <a:pt x="199" y="204"/>
                              </a:lnTo>
                              <a:lnTo>
                                <a:pt x="179" y="188"/>
                              </a:lnTo>
                              <a:lnTo>
                                <a:pt x="160" y="171"/>
                              </a:lnTo>
                              <a:lnTo>
                                <a:pt x="145" y="151"/>
                              </a:lnTo>
                              <a:lnTo>
                                <a:pt x="133" y="129"/>
                              </a:lnTo>
                              <a:lnTo>
                                <a:pt x="124" y="103"/>
                              </a:lnTo>
                              <a:lnTo>
                                <a:pt x="121" y="77"/>
                              </a:lnTo>
                              <a:lnTo>
                                <a:pt x="120" y="73"/>
                              </a:lnTo>
                              <a:lnTo>
                                <a:pt x="116" y="64"/>
                              </a:lnTo>
                              <a:lnTo>
                                <a:pt x="109" y="50"/>
                              </a:lnTo>
                              <a:lnTo>
                                <a:pt x="98" y="35"/>
                              </a:lnTo>
                              <a:lnTo>
                                <a:pt x="83" y="20"/>
                              </a:lnTo>
                              <a:lnTo>
                                <a:pt x="63" y="8"/>
                              </a:lnTo>
                              <a:lnTo>
                                <a:pt x="38" y="1"/>
                              </a:lnTo>
                              <a:lnTo>
                                <a:pt x="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2b2b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" bIns="1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>
                          <a:off x="3659760" y="5326200"/>
                          <a:ext cx="215640" cy="65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5" h="440">
                              <a:moveTo>
                                <a:pt x="140" y="0"/>
                              </a:moveTo>
                              <a:lnTo>
                                <a:pt x="952" y="0"/>
                              </a:lnTo>
                              <a:lnTo>
                                <a:pt x="1175" y="440"/>
                              </a:lnTo>
                              <a:lnTo>
                                <a:pt x="0" y="437"/>
                              </a:lnTo>
                              <a:lnTo>
                                <a:pt x="1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080" bIns="19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>
                          <a:off x="3668040" y="5329440"/>
                          <a:ext cx="1962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72" h="393">
                              <a:moveTo>
                                <a:pt x="120" y="0"/>
                              </a:moveTo>
                              <a:lnTo>
                                <a:pt x="0" y="393"/>
                              </a:lnTo>
                              <a:lnTo>
                                <a:pt x="1072" y="393"/>
                              </a:lnTo>
                              <a:lnTo>
                                <a:pt x="875" y="0"/>
                              </a:lnTo>
                              <a:lnTo>
                                <a:pt x="12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>
                          <a:off x="3553560" y="5229360"/>
                          <a:ext cx="203400" cy="15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09" h="1019">
                              <a:moveTo>
                                <a:pt x="60" y="830"/>
                              </a:moveTo>
                              <a:lnTo>
                                <a:pt x="50" y="813"/>
                              </a:lnTo>
                              <a:lnTo>
                                <a:pt x="41" y="797"/>
                              </a:lnTo>
                              <a:lnTo>
                                <a:pt x="31" y="781"/>
                              </a:lnTo>
                              <a:lnTo>
                                <a:pt x="24" y="763"/>
                              </a:lnTo>
                              <a:lnTo>
                                <a:pt x="17" y="746"/>
                              </a:lnTo>
                              <a:lnTo>
                                <a:pt x="13" y="729"/>
                              </a:lnTo>
                              <a:lnTo>
                                <a:pt x="8" y="710"/>
                              </a:lnTo>
                              <a:lnTo>
                                <a:pt x="5" y="691"/>
                              </a:lnTo>
                              <a:lnTo>
                                <a:pt x="0" y="636"/>
                              </a:lnTo>
                              <a:lnTo>
                                <a:pt x="1" y="579"/>
                              </a:lnTo>
                              <a:lnTo>
                                <a:pt x="9" y="520"/>
                              </a:lnTo>
                              <a:lnTo>
                                <a:pt x="22" y="462"/>
                              </a:lnTo>
                              <a:lnTo>
                                <a:pt x="35" y="417"/>
                              </a:lnTo>
                              <a:lnTo>
                                <a:pt x="50" y="374"/>
                              </a:lnTo>
                              <a:lnTo>
                                <a:pt x="66" y="331"/>
                              </a:lnTo>
                              <a:lnTo>
                                <a:pt x="83" y="290"/>
                              </a:lnTo>
                              <a:lnTo>
                                <a:pt x="101" y="250"/>
                              </a:lnTo>
                              <a:lnTo>
                                <a:pt x="120" y="212"/>
                              </a:lnTo>
                              <a:lnTo>
                                <a:pt x="139" y="176"/>
                              </a:lnTo>
                              <a:lnTo>
                                <a:pt x="158" y="142"/>
                              </a:lnTo>
                              <a:lnTo>
                                <a:pt x="175" y="112"/>
                              </a:lnTo>
                              <a:lnTo>
                                <a:pt x="192" y="84"/>
                              </a:lnTo>
                              <a:lnTo>
                                <a:pt x="207" y="60"/>
                              </a:lnTo>
                              <a:lnTo>
                                <a:pt x="220" y="39"/>
                              </a:lnTo>
                              <a:lnTo>
                                <a:pt x="232" y="23"/>
                              </a:lnTo>
                              <a:lnTo>
                                <a:pt x="240" y="11"/>
                              </a:lnTo>
                              <a:lnTo>
                                <a:pt x="244" y="3"/>
                              </a:lnTo>
                              <a:lnTo>
                                <a:pt x="247" y="0"/>
                              </a:lnTo>
                              <a:lnTo>
                                <a:pt x="251" y="0"/>
                              </a:lnTo>
                              <a:lnTo>
                                <a:pt x="265" y="0"/>
                              </a:lnTo>
                              <a:lnTo>
                                <a:pt x="286" y="2"/>
                              </a:lnTo>
                              <a:lnTo>
                                <a:pt x="314" y="4"/>
                              </a:lnTo>
                              <a:lnTo>
                                <a:pt x="346" y="7"/>
                              </a:lnTo>
                              <a:lnTo>
                                <a:pt x="383" y="13"/>
                              </a:lnTo>
                              <a:lnTo>
                                <a:pt x="423" y="20"/>
                              </a:lnTo>
                              <a:lnTo>
                                <a:pt x="463" y="31"/>
                              </a:lnTo>
                              <a:lnTo>
                                <a:pt x="504" y="45"/>
                              </a:lnTo>
                              <a:lnTo>
                                <a:pt x="545" y="61"/>
                              </a:lnTo>
                              <a:lnTo>
                                <a:pt x="583" y="82"/>
                              </a:lnTo>
                              <a:lnTo>
                                <a:pt x="618" y="106"/>
                              </a:lnTo>
                              <a:lnTo>
                                <a:pt x="648" y="135"/>
                              </a:lnTo>
                              <a:lnTo>
                                <a:pt x="672" y="169"/>
                              </a:lnTo>
                              <a:lnTo>
                                <a:pt x="688" y="208"/>
                              </a:lnTo>
                              <a:lnTo>
                                <a:pt x="697" y="254"/>
                              </a:lnTo>
                              <a:lnTo>
                                <a:pt x="702" y="301"/>
                              </a:lnTo>
                              <a:lnTo>
                                <a:pt x="708" y="348"/>
                              </a:lnTo>
                              <a:lnTo>
                                <a:pt x="714" y="393"/>
                              </a:lnTo>
                              <a:lnTo>
                                <a:pt x="721" y="437"/>
                              </a:lnTo>
                              <a:lnTo>
                                <a:pt x="728" y="478"/>
                              </a:lnTo>
                              <a:lnTo>
                                <a:pt x="736" y="518"/>
                              </a:lnTo>
                              <a:lnTo>
                                <a:pt x="745" y="556"/>
                              </a:lnTo>
                              <a:lnTo>
                                <a:pt x="757" y="590"/>
                              </a:lnTo>
                              <a:lnTo>
                                <a:pt x="767" y="622"/>
                              </a:lnTo>
                              <a:lnTo>
                                <a:pt x="780" y="651"/>
                              </a:lnTo>
                              <a:lnTo>
                                <a:pt x="794" y="678"/>
                              </a:lnTo>
                              <a:lnTo>
                                <a:pt x="809" y="700"/>
                              </a:lnTo>
                              <a:lnTo>
                                <a:pt x="826" y="719"/>
                              </a:lnTo>
                              <a:lnTo>
                                <a:pt x="843" y="734"/>
                              </a:lnTo>
                              <a:lnTo>
                                <a:pt x="863" y="746"/>
                              </a:lnTo>
                              <a:lnTo>
                                <a:pt x="884" y="753"/>
                              </a:lnTo>
                              <a:lnTo>
                                <a:pt x="905" y="757"/>
                              </a:lnTo>
                              <a:lnTo>
                                <a:pt x="925" y="759"/>
                              </a:lnTo>
                              <a:lnTo>
                                <a:pt x="942" y="759"/>
                              </a:lnTo>
                              <a:lnTo>
                                <a:pt x="957" y="757"/>
                              </a:lnTo>
                              <a:lnTo>
                                <a:pt x="972" y="754"/>
                              </a:lnTo>
                              <a:lnTo>
                                <a:pt x="985" y="751"/>
                              </a:lnTo>
                              <a:lnTo>
                                <a:pt x="998" y="747"/>
                              </a:lnTo>
                              <a:lnTo>
                                <a:pt x="1009" y="744"/>
                              </a:lnTo>
                              <a:lnTo>
                                <a:pt x="1020" y="741"/>
                              </a:lnTo>
                              <a:lnTo>
                                <a:pt x="1030" y="740"/>
                              </a:lnTo>
                              <a:lnTo>
                                <a:pt x="1039" y="739"/>
                              </a:lnTo>
                              <a:lnTo>
                                <a:pt x="1049" y="740"/>
                              </a:lnTo>
                              <a:lnTo>
                                <a:pt x="1058" y="745"/>
                              </a:lnTo>
                              <a:lnTo>
                                <a:pt x="1067" y="751"/>
                              </a:lnTo>
                              <a:lnTo>
                                <a:pt x="1076" y="760"/>
                              </a:lnTo>
                              <a:lnTo>
                                <a:pt x="1087" y="773"/>
                              </a:lnTo>
                              <a:lnTo>
                                <a:pt x="1102" y="799"/>
                              </a:lnTo>
                              <a:lnTo>
                                <a:pt x="1109" y="823"/>
                              </a:lnTo>
                              <a:lnTo>
                                <a:pt x="1108" y="842"/>
                              </a:lnTo>
                              <a:lnTo>
                                <a:pt x="1103" y="859"/>
                              </a:lnTo>
                              <a:lnTo>
                                <a:pt x="1096" y="870"/>
                              </a:lnTo>
                              <a:lnTo>
                                <a:pt x="1088" y="878"/>
                              </a:lnTo>
                              <a:lnTo>
                                <a:pt x="1081" y="884"/>
                              </a:lnTo>
                              <a:lnTo>
                                <a:pt x="1079" y="885"/>
                              </a:lnTo>
                              <a:lnTo>
                                <a:pt x="1076" y="887"/>
                              </a:lnTo>
                              <a:lnTo>
                                <a:pt x="1071" y="891"/>
                              </a:lnTo>
                              <a:lnTo>
                                <a:pt x="1060" y="898"/>
                              </a:lnTo>
                              <a:lnTo>
                                <a:pt x="1045" y="907"/>
                              </a:lnTo>
                              <a:lnTo>
                                <a:pt x="1027" y="919"/>
                              </a:lnTo>
                              <a:lnTo>
                                <a:pt x="1005" y="931"/>
                              </a:lnTo>
                              <a:lnTo>
                                <a:pt x="978" y="943"/>
                              </a:lnTo>
                              <a:lnTo>
                                <a:pt x="948" y="956"/>
                              </a:lnTo>
                              <a:lnTo>
                                <a:pt x="914" y="969"/>
                              </a:lnTo>
                              <a:lnTo>
                                <a:pt x="877" y="982"/>
                              </a:lnTo>
                              <a:lnTo>
                                <a:pt x="835" y="993"/>
                              </a:lnTo>
                              <a:lnTo>
                                <a:pt x="791" y="1003"/>
                              </a:lnTo>
                              <a:lnTo>
                                <a:pt x="744" y="1011"/>
                              </a:lnTo>
                              <a:lnTo>
                                <a:pt x="692" y="1017"/>
                              </a:lnTo>
                              <a:lnTo>
                                <a:pt x="637" y="1019"/>
                              </a:lnTo>
                              <a:lnTo>
                                <a:pt x="579" y="1019"/>
                              </a:lnTo>
                              <a:lnTo>
                                <a:pt x="560" y="1018"/>
                              </a:lnTo>
                              <a:lnTo>
                                <a:pt x="540" y="1017"/>
                              </a:lnTo>
                              <a:lnTo>
                                <a:pt x="520" y="1015"/>
                              </a:lnTo>
                              <a:lnTo>
                                <a:pt x="499" y="1013"/>
                              </a:lnTo>
                              <a:lnTo>
                                <a:pt x="478" y="1011"/>
                              </a:lnTo>
                              <a:lnTo>
                                <a:pt x="458" y="1007"/>
                              </a:lnTo>
                              <a:lnTo>
                                <a:pt x="436" y="1004"/>
                              </a:lnTo>
                              <a:lnTo>
                                <a:pt x="415" y="999"/>
                              </a:lnTo>
                              <a:lnTo>
                                <a:pt x="393" y="995"/>
                              </a:lnTo>
                              <a:lnTo>
                                <a:pt x="371" y="990"/>
                              </a:lnTo>
                              <a:lnTo>
                                <a:pt x="348" y="984"/>
                              </a:lnTo>
                              <a:lnTo>
                                <a:pt x="324" y="978"/>
                              </a:lnTo>
                              <a:lnTo>
                                <a:pt x="301" y="971"/>
                              </a:lnTo>
                              <a:lnTo>
                                <a:pt x="278" y="964"/>
                              </a:lnTo>
                              <a:lnTo>
                                <a:pt x="255" y="956"/>
                              </a:lnTo>
                              <a:lnTo>
                                <a:pt x="231" y="948"/>
                              </a:lnTo>
                              <a:lnTo>
                                <a:pt x="202" y="937"/>
                              </a:lnTo>
                              <a:lnTo>
                                <a:pt x="176" y="925"/>
                              </a:lnTo>
                              <a:lnTo>
                                <a:pt x="152" y="911"/>
                              </a:lnTo>
                              <a:lnTo>
                                <a:pt x="130" y="897"/>
                              </a:lnTo>
                              <a:lnTo>
                                <a:pt x="109" y="881"/>
                              </a:lnTo>
                              <a:lnTo>
                                <a:pt x="90" y="865"/>
                              </a:lnTo>
                              <a:lnTo>
                                <a:pt x="74" y="847"/>
                              </a:lnTo>
                              <a:lnTo>
                                <a:pt x="60" y="8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>
                          <a:off x="3801960" y="5220360"/>
                          <a:ext cx="174960" cy="166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6" h="1111">
                              <a:moveTo>
                                <a:pt x="672" y="0"/>
                              </a:moveTo>
                              <a:lnTo>
                                <a:pt x="666" y="1"/>
                              </a:lnTo>
                              <a:lnTo>
                                <a:pt x="649" y="2"/>
                              </a:lnTo>
                              <a:lnTo>
                                <a:pt x="622" y="7"/>
                              </a:lnTo>
                              <a:lnTo>
                                <a:pt x="589" y="11"/>
                              </a:lnTo>
                              <a:lnTo>
                                <a:pt x="547" y="18"/>
                              </a:lnTo>
                              <a:lnTo>
                                <a:pt x="502" y="26"/>
                              </a:lnTo>
                              <a:lnTo>
                                <a:pt x="453" y="37"/>
                              </a:lnTo>
                              <a:lnTo>
                                <a:pt x="403" y="49"/>
                              </a:lnTo>
                              <a:lnTo>
                                <a:pt x="352" y="62"/>
                              </a:lnTo>
                              <a:lnTo>
                                <a:pt x="304" y="79"/>
                              </a:lnTo>
                              <a:lnTo>
                                <a:pt x="257" y="96"/>
                              </a:lnTo>
                              <a:lnTo>
                                <a:pt x="216" y="116"/>
                              </a:lnTo>
                              <a:lnTo>
                                <a:pt x="181" y="137"/>
                              </a:lnTo>
                              <a:lnTo>
                                <a:pt x="153" y="161"/>
                              </a:lnTo>
                              <a:lnTo>
                                <a:pt x="135" y="187"/>
                              </a:lnTo>
                              <a:lnTo>
                                <a:pt x="128" y="215"/>
                              </a:lnTo>
                              <a:lnTo>
                                <a:pt x="126" y="281"/>
                              </a:lnTo>
                              <a:lnTo>
                                <a:pt x="128" y="360"/>
                              </a:lnTo>
                              <a:lnTo>
                                <a:pt x="132" y="445"/>
                              </a:lnTo>
                              <a:lnTo>
                                <a:pt x="137" y="531"/>
                              </a:lnTo>
                              <a:lnTo>
                                <a:pt x="140" y="612"/>
                              </a:lnTo>
                              <a:lnTo>
                                <a:pt x="144" y="684"/>
                              </a:lnTo>
                              <a:lnTo>
                                <a:pt x="145" y="741"/>
                              </a:lnTo>
                              <a:lnTo>
                                <a:pt x="143" y="777"/>
                              </a:lnTo>
                              <a:lnTo>
                                <a:pt x="136" y="794"/>
                              </a:lnTo>
                              <a:lnTo>
                                <a:pt x="125" y="801"/>
                              </a:lnTo>
                              <a:lnTo>
                                <a:pt x="110" y="802"/>
                              </a:lnTo>
                              <a:lnTo>
                                <a:pt x="94" y="801"/>
                              </a:lnTo>
                              <a:lnTo>
                                <a:pt x="77" y="801"/>
                              </a:lnTo>
                              <a:lnTo>
                                <a:pt x="57" y="805"/>
                              </a:lnTo>
                              <a:lnTo>
                                <a:pt x="40" y="816"/>
                              </a:lnTo>
                              <a:lnTo>
                                <a:pt x="22" y="838"/>
                              </a:lnTo>
                              <a:lnTo>
                                <a:pt x="9" y="866"/>
                              </a:lnTo>
                              <a:lnTo>
                                <a:pt x="2" y="891"/>
                              </a:lnTo>
                              <a:lnTo>
                                <a:pt x="0" y="913"/>
                              </a:lnTo>
                              <a:lnTo>
                                <a:pt x="2" y="932"/>
                              </a:lnTo>
                              <a:lnTo>
                                <a:pt x="8" y="951"/>
                              </a:lnTo>
                              <a:lnTo>
                                <a:pt x="17" y="966"/>
                              </a:lnTo>
                              <a:lnTo>
                                <a:pt x="30" y="981"/>
                              </a:lnTo>
                              <a:lnTo>
                                <a:pt x="45" y="995"/>
                              </a:lnTo>
                              <a:lnTo>
                                <a:pt x="55" y="1002"/>
                              </a:lnTo>
                              <a:lnTo>
                                <a:pt x="67" y="1010"/>
                              </a:lnTo>
                              <a:lnTo>
                                <a:pt x="84" y="1018"/>
                              </a:lnTo>
                              <a:lnTo>
                                <a:pt x="102" y="1028"/>
                              </a:lnTo>
                              <a:lnTo>
                                <a:pt x="123" y="1037"/>
                              </a:lnTo>
                              <a:lnTo>
                                <a:pt x="146" y="1047"/>
                              </a:lnTo>
                              <a:lnTo>
                                <a:pt x="173" y="1057"/>
                              </a:lnTo>
                              <a:lnTo>
                                <a:pt x="201" y="1066"/>
                              </a:lnTo>
                              <a:lnTo>
                                <a:pt x="232" y="1075"/>
                              </a:lnTo>
                              <a:lnTo>
                                <a:pt x="264" y="1083"/>
                              </a:lnTo>
                              <a:lnTo>
                                <a:pt x="298" y="1091"/>
                              </a:lnTo>
                              <a:lnTo>
                                <a:pt x="334" y="1098"/>
                              </a:lnTo>
                              <a:lnTo>
                                <a:pt x="372" y="1103"/>
                              </a:lnTo>
                              <a:lnTo>
                                <a:pt x="411" y="1108"/>
                              </a:lnTo>
                              <a:lnTo>
                                <a:pt x="452" y="1110"/>
                              </a:lnTo>
                              <a:lnTo>
                                <a:pt x="494" y="1111"/>
                              </a:lnTo>
                              <a:lnTo>
                                <a:pt x="537" y="1110"/>
                              </a:lnTo>
                              <a:lnTo>
                                <a:pt x="578" y="1108"/>
                              </a:lnTo>
                              <a:lnTo>
                                <a:pt x="620" y="1103"/>
                              </a:lnTo>
                              <a:lnTo>
                                <a:pt x="662" y="1096"/>
                              </a:lnTo>
                              <a:lnTo>
                                <a:pt x="701" y="1089"/>
                              </a:lnTo>
                              <a:lnTo>
                                <a:pt x="739" y="1082"/>
                              </a:lnTo>
                              <a:lnTo>
                                <a:pt x="775" y="1073"/>
                              </a:lnTo>
                              <a:lnTo>
                                <a:pt x="810" y="1065"/>
                              </a:lnTo>
                              <a:lnTo>
                                <a:pt x="841" y="1057"/>
                              </a:lnTo>
                              <a:lnTo>
                                <a:pt x="869" y="1047"/>
                              </a:lnTo>
                              <a:lnTo>
                                <a:pt x="895" y="1040"/>
                              </a:lnTo>
                              <a:lnTo>
                                <a:pt x="915" y="1032"/>
                              </a:lnTo>
                              <a:lnTo>
                                <a:pt x="933" y="1026"/>
                              </a:lnTo>
                              <a:lnTo>
                                <a:pt x="946" y="1022"/>
                              </a:lnTo>
                              <a:lnTo>
                                <a:pt x="954" y="1019"/>
                              </a:lnTo>
                              <a:lnTo>
                                <a:pt x="956" y="1018"/>
                              </a:lnTo>
                              <a:lnTo>
                                <a:pt x="953" y="11"/>
                              </a:lnTo>
                              <a:lnTo>
                                <a:pt x="67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>
                          <a:off x="3803760" y="5224320"/>
                          <a:ext cx="168480" cy="159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0" h="1068">
                              <a:moveTo>
                                <a:pt x="920" y="10"/>
                              </a:moveTo>
                              <a:lnTo>
                                <a:pt x="916" y="10"/>
                              </a:lnTo>
                              <a:lnTo>
                                <a:pt x="908" y="8"/>
                              </a:lnTo>
                              <a:lnTo>
                                <a:pt x="895" y="8"/>
                              </a:lnTo>
                              <a:lnTo>
                                <a:pt x="878" y="7"/>
                              </a:lnTo>
                              <a:lnTo>
                                <a:pt x="857" y="6"/>
                              </a:lnTo>
                              <a:lnTo>
                                <a:pt x="833" y="5"/>
                              </a:lnTo>
                              <a:lnTo>
                                <a:pt x="807" y="4"/>
                              </a:lnTo>
                              <a:lnTo>
                                <a:pt x="779" y="3"/>
                              </a:lnTo>
                              <a:lnTo>
                                <a:pt x="750" y="1"/>
                              </a:lnTo>
                              <a:lnTo>
                                <a:pt x="721" y="0"/>
                              </a:lnTo>
                              <a:lnTo>
                                <a:pt x="692" y="0"/>
                              </a:lnTo>
                              <a:lnTo>
                                <a:pt x="663" y="0"/>
                              </a:lnTo>
                              <a:lnTo>
                                <a:pt x="637" y="0"/>
                              </a:lnTo>
                              <a:lnTo>
                                <a:pt x="612" y="1"/>
                              </a:lnTo>
                              <a:lnTo>
                                <a:pt x="590" y="4"/>
                              </a:lnTo>
                              <a:lnTo>
                                <a:pt x="572" y="6"/>
                              </a:lnTo>
                              <a:lnTo>
                                <a:pt x="553" y="10"/>
                              </a:lnTo>
                              <a:lnTo>
                                <a:pt x="529" y="15"/>
                              </a:lnTo>
                              <a:lnTo>
                                <a:pt x="502" y="22"/>
                              </a:lnTo>
                              <a:lnTo>
                                <a:pt x="472" y="31"/>
                              </a:lnTo>
                              <a:lnTo>
                                <a:pt x="441" y="40"/>
                              </a:lnTo>
                              <a:lnTo>
                                <a:pt x="409" y="50"/>
                              </a:lnTo>
                              <a:lnTo>
                                <a:pt x="375" y="61"/>
                              </a:lnTo>
                              <a:lnTo>
                                <a:pt x="341" y="71"/>
                              </a:lnTo>
                              <a:lnTo>
                                <a:pt x="309" y="82"/>
                              </a:lnTo>
                              <a:lnTo>
                                <a:pt x="278" y="92"/>
                              </a:lnTo>
                              <a:lnTo>
                                <a:pt x="250" y="103"/>
                              </a:lnTo>
                              <a:lnTo>
                                <a:pt x="224" y="112"/>
                              </a:lnTo>
                              <a:lnTo>
                                <a:pt x="203" y="120"/>
                              </a:lnTo>
                              <a:lnTo>
                                <a:pt x="187" y="128"/>
                              </a:lnTo>
                              <a:lnTo>
                                <a:pt x="176" y="134"/>
                              </a:lnTo>
                              <a:lnTo>
                                <a:pt x="171" y="139"/>
                              </a:lnTo>
                              <a:lnTo>
                                <a:pt x="166" y="150"/>
                              </a:lnTo>
                              <a:lnTo>
                                <a:pt x="161" y="172"/>
                              </a:lnTo>
                              <a:lnTo>
                                <a:pt x="154" y="208"/>
                              </a:lnTo>
                              <a:lnTo>
                                <a:pt x="149" y="263"/>
                              </a:lnTo>
                              <a:lnTo>
                                <a:pt x="147" y="341"/>
                              </a:lnTo>
                              <a:lnTo>
                                <a:pt x="148" y="444"/>
                              </a:lnTo>
                              <a:lnTo>
                                <a:pt x="156" y="579"/>
                              </a:lnTo>
                              <a:lnTo>
                                <a:pt x="171" y="747"/>
                              </a:lnTo>
                              <a:lnTo>
                                <a:pt x="174" y="778"/>
                              </a:lnTo>
                              <a:lnTo>
                                <a:pt x="177" y="806"/>
                              </a:lnTo>
                              <a:lnTo>
                                <a:pt x="179" y="832"/>
                              </a:lnTo>
                              <a:lnTo>
                                <a:pt x="181" y="855"/>
                              </a:lnTo>
                              <a:lnTo>
                                <a:pt x="184" y="898"/>
                              </a:lnTo>
                              <a:lnTo>
                                <a:pt x="186" y="931"/>
                              </a:lnTo>
                              <a:lnTo>
                                <a:pt x="186" y="956"/>
                              </a:lnTo>
                              <a:lnTo>
                                <a:pt x="186" y="972"/>
                              </a:lnTo>
                              <a:lnTo>
                                <a:pt x="183" y="985"/>
                              </a:lnTo>
                              <a:lnTo>
                                <a:pt x="176" y="976"/>
                              </a:lnTo>
                              <a:lnTo>
                                <a:pt x="166" y="950"/>
                              </a:lnTo>
                              <a:lnTo>
                                <a:pt x="157" y="915"/>
                              </a:lnTo>
                              <a:lnTo>
                                <a:pt x="148" y="877"/>
                              </a:lnTo>
                              <a:lnTo>
                                <a:pt x="140" y="842"/>
                              </a:lnTo>
                              <a:lnTo>
                                <a:pt x="134" y="817"/>
                              </a:lnTo>
                              <a:lnTo>
                                <a:pt x="132" y="806"/>
                              </a:lnTo>
                              <a:lnTo>
                                <a:pt x="129" y="805"/>
                              </a:lnTo>
                              <a:lnTo>
                                <a:pt x="124" y="804"/>
                              </a:lnTo>
                              <a:lnTo>
                                <a:pt x="115" y="802"/>
                              </a:lnTo>
                              <a:lnTo>
                                <a:pt x="105" y="799"/>
                              </a:lnTo>
                              <a:lnTo>
                                <a:pt x="93" y="798"/>
                              </a:lnTo>
                              <a:lnTo>
                                <a:pt x="82" y="798"/>
                              </a:lnTo>
                              <a:lnTo>
                                <a:pt x="69" y="800"/>
                              </a:lnTo>
                              <a:lnTo>
                                <a:pt x="59" y="806"/>
                              </a:lnTo>
                              <a:lnTo>
                                <a:pt x="47" y="814"/>
                              </a:lnTo>
                              <a:lnTo>
                                <a:pt x="35" y="825"/>
                              </a:lnTo>
                              <a:lnTo>
                                <a:pt x="23" y="836"/>
                              </a:lnTo>
                              <a:lnTo>
                                <a:pt x="12" y="850"/>
                              </a:lnTo>
                              <a:lnTo>
                                <a:pt x="4" y="866"/>
                              </a:lnTo>
                              <a:lnTo>
                                <a:pt x="0" y="883"/>
                              </a:lnTo>
                              <a:lnTo>
                                <a:pt x="1" y="900"/>
                              </a:lnTo>
                              <a:lnTo>
                                <a:pt x="8" y="919"/>
                              </a:lnTo>
                              <a:lnTo>
                                <a:pt x="18" y="936"/>
                              </a:lnTo>
                              <a:lnTo>
                                <a:pt x="29" y="949"/>
                              </a:lnTo>
                              <a:lnTo>
                                <a:pt x="39" y="958"/>
                              </a:lnTo>
                              <a:lnTo>
                                <a:pt x="49" y="965"/>
                              </a:lnTo>
                              <a:lnTo>
                                <a:pt x="57" y="970"/>
                              </a:lnTo>
                              <a:lnTo>
                                <a:pt x="64" y="972"/>
                              </a:lnTo>
                              <a:lnTo>
                                <a:pt x="69" y="974"/>
                              </a:lnTo>
                              <a:lnTo>
                                <a:pt x="70" y="974"/>
                              </a:lnTo>
                              <a:lnTo>
                                <a:pt x="73" y="975"/>
                              </a:lnTo>
                              <a:lnTo>
                                <a:pt x="78" y="977"/>
                              </a:lnTo>
                              <a:lnTo>
                                <a:pt x="89" y="982"/>
                              </a:lnTo>
                              <a:lnTo>
                                <a:pt x="101" y="987"/>
                              </a:lnTo>
                              <a:lnTo>
                                <a:pt x="118" y="993"/>
                              </a:lnTo>
                              <a:lnTo>
                                <a:pt x="137" y="1001"/>
                              </a:lnTo>
                              <a:lnTo>
                                <a:pt x="159" y="1010"/>
                              </a:lnTo>
                              <a:lnTo>
                                <a:pt x="185" y="1018"/>
                              </a:lnTo>
                              <a:lnTo>
                                <a:pt x="212" y="1026"/>
                              </a:lnTo>
                              <a:lnTo>
                                <a:pt x="239" y="1034"/>
                              </a:lnTo>
                              <a:lnTo>
                                <a:pt x="270" y="1042"/>
                              </a:lnTo>
                              <a:lnTo>
                                <a:pt x="302" y="1049"/>
                              </a:lnTo>
                              <a:lnTo>
                                <a:pt x="334" y="1056"/>
                              </a:lnTo>
                              <a:lnTo>
                                <a:pt x="367" y="1062"/>
                              </a:lnTo>
                              <a:lnTo>
                                <a:pt x="402" y="1065"/>
                              </a:lnTo>
                              <a:lnTo>
                                <a:pt x="435" y="1068"/>
                              </a:lnTo>
                              <a:lnTo>
                                <a:pt x="470" y="1068"/>
                              </a:lnTo>
                              <a:lnTo>
                                <a:pt x="507" y="1066"/>
                              </a:lnTo>
                              <a:lnTo>
                                <a:pt x="545" y="1064"/>
                              </a:lnTo>
                              <a:lnTo>
                                <a:pt x="583" y="1061"/>
                              </a:lnTo>
                              <a:lnTo>
                                <a:pt x="623" y="1056"/>
                              </a:lnTo>
                              <a:lnTo>
                                <a:pt x="661" y="1050"/>
                              </a:lnTo>
                              <a:lnTo>
                                <a:pt x="698" y="1044"/>
                              </a:lnTo>
                              <a:lnTo>
                                <a:pt x="734" y="1037"/>
                              </a:lnTo>
                              <a:lnTo>
                                <a:pt x="768" y="1030"/>
                              </a:lnTo>
                              <a:lnTo>
                                <a:pt x="799" y="1022"/>
                              </a:lnTo>
                              <a:lnTo>
                                <a:pt x="828" y="1015"/>
                              </a:lnTo>
                              <a:lnTo>
                                <a:pt x="852" y="1007"/>
                              </a:lnTo>
                              <a:lnTo>
                                <a:pt x="873" y="1000"/>
                              </a:lnTo>
                              <a:lnTo>
                                <a:pt x="891" y="993"/>
                              </a:lnTo>
                              <a:lnTo>
                                <a:pt x="902" y="987"/>
                              </a:lnTo>
                              <a:lnTo>
                                <a:pt x="908" y="982"/>
                              </a:lnTo>
                              <a:lnTo>
                                <a:pt x="92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6" name=""/>
                        <p:cNvSpPr/>
                        <p:nvPr/>
                      </p:nvSpPr>
                      <p:spPr>
                        <a:xfrm>
                          <a:off x="3934080" y="5250600"/>
                          <a:ext cx="1080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764">
                              <a:moveTo>
                                <a:pt x="0" y="0"/>
                              </a:moveTo>
                              <a:lnTo>
                                <a:pt x="49" y="764"/>
                              </a:lnTo>
                              <a:lnTo>
                                <a:pt x="61" y="29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333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7" name=""/>
                        <p:cNvSpPr/>
                        <p:nvPr/>
                      </p:nvSpPr>
                      <p:spPr>
                        <a:xfrm>
                          <a:off x="3557880" y="5240880"/>
                          <a:ext cx="196200" cy="138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9" h="927">
                              <a:moveTo>
                                <a:pt x="0" y="543"/>
                              </a:moveTo>
                              <a:lnTo>
                                <a:pt x="2" y="515"/>
                              </a:lnTo>
                              <a:lnTo>
                                <a:pt x="4" y="487"/>
                              </a:lnTo>
                              <a:lnTo>
                                <a:pt x="7" y="458"/>
                              </a:lnTo>
                              <a:lnTo>
                                <a:pt x="12" y="428"/>
                              </a:lnTo>
                              <a:lnTo>
                                <a:pt x="19" y="397"/>
                              </a:lnTo>
                              <a:lnTo>
                                <a:pt x="27" y="365"/>
                              </a:lnTo>
                              <a:lnTo>
                                <a:pt x="36" y="333"/>
                              </a:lnTo>
                              <a:lnTo>
                                <a:pt x="47" y="300"/>
                              </a:lnTo>
                              <a:lnTo>
                                <a:pt x="60" y="266"/>
                              </a:lnTo>
                              <a:lnTo>
                                <a:pt x="73" y="233"/>
                              </a:lnTo>
                              <a:lnTo>
                                <a:pt x="89" y="198"/>
                              </a:lnTo>
                              <a:lnTo>
                                <a:pt x="106" y="162"/>
                              </a:lnTo>
                              <a:lnTo>
                                <a:pt x="124" y="127"/>
                              </a:lnTo>
                              <a:lnTo>
                                <a:pt x="145" y="91"/>
                              </a:lnTo>
                              <a:lnTo>
                                <a:pt x="167" y="55"/>
                              </a:lnTo>
                              <a:lnTo>
                                <a:pt x="190" y="18"/>
                              </a:lnTo>
                              <a:lnTo>
                                <a:pt x="194" y="17"/>
                              </a:lnTo>
                              <a:lnTo>
                                <a:pt x="206" y="16"/>
                              </a:lnTo>
                              <a:lnTo>
                                <a:pt x="223" y="12"/>
                              </a:lnTo>
                              <a:lnTo>
                                <a:pt x="245" y="10"/>
                              </a:lnTo>
                              <a:lnTo>
                                <a:pt x="272" y="6"/>
                              </a:lnTo>
                              <a:lnTo>
                                <a:pt x="303" y="3"/>
                              </a:lnTo>
                              <a:lnTo>
                                <a:pt x="336" y="2"/>
                              </a:lnTo>
                              <a:lnTo>
                                <a:pt x="371" y="0"/>
                              </a:lnTo>
                              <a:lnTo>
                                <a:pt x="407" y="2"/>
                              </a:lnTo>
                              <a:lnTo>
                                <a:pt x="443" y="5"/>
                              </a:lnTo>
                              <a:lnTo>
                                <a:pt x="478" y="10"/>
                              </a:lnTo>
                              <a:lnTo>
                                <a:pt x="511" y="18"/>
                              </a:lnTo>
                              <a:lnTo>
                                <a:pt x="543" y="30"/>
                              </a:lnTo>
                              <a:lnTo>
                                <a:pt x="569" y="46"/>
                              </a:lnTo>
                              <a:lnTo>
                                <a:pt x="593" y="64"/>
                              </a:lnTo>
                              <a:lnTo>
                                <a:pt x="610" y="89"/>
                              </a:lnTo>
                              <a:lnTo>
                                <a:pt x="634" y="138"/>
                              </a:lnTo>
                              <a:lnTo>
                                <a:pt x="648" y="179"/>
                              </a:lnTo>
                              <a:lnTo>
                                <a:pt x="655" y="215"/>
                              </a:lnTo>
                              <a:lnTo>
                                <a:pt x="657" y="249"/>
                              </a:lnTo>
                              <a:lnTo>
                                <a:pt x="656" y="280"/>
                              </a:lnTo>
                              <a:lnTo>
                                <a:pt x="654" y="311"/>
                              </a:lnTo>
                              <a:lnTo>
                                <a:pt x="654" y="342"/>
                              </a:lnTo>
                              <a:lnTo>
                                <a:pt x="657" y="377"/>
                              </a:lnTo>
                              <a:lnTo>
                                <a:pt x="664" y="416"/>
                              </a:lnTo>
                              <a:lnTo>
                                <a:pt x="675" y="462"/>
                              </a:lnTo>
                              <a:lnTo>
                                <a:pt x="689" y="509"/>
                              </a:lnTo>
                              <a:lnTo>
                                <a:pt x="706" y="558"/>
                              </a:lnTo>
                              <a:lnTo>
                                <a:pt x="729" y="603"/>
                              </a:lnTo>
                              <a:lnTo>
                                <a:pt x="756" y="643"/>
                              </a:lnTo>
                              <a:lnTo>
                                <a:pt x="789" y="675"/>
                              </a:lnTo>
                              <a:lnTo>
                                <a:pt x="829" y="697"/>
                              </a:lnTo>
                              <a:lnTo>
                                <a:pt x="849" y="704"/>
                              </a:lnTo>
                              <a:lnTo>
                                <a:pt x="867" y="709"/>
                              </a:lnTo>
                              <a:lnTo>
                                <a:pt x="883" y="712"/>
                              </a:lnTo>
                              <a:lnTo>
                                <a:pt x="898" y="714"/>
                              </a:lnTo>
                              <a:lnTo>
                                <a:pt x="912" y="714"/>
                              </a:lnTo>
                              <a:lnTo>
                                <a:pt x="925" y="712"/>
                              </a:lnTo>
                              <a:lnTo>
                                <a:pt x="937" y="711"/>
                              </a:lnTo>
                              <a:lnTo>
                                <a:pt x="947" y="709"/>
                              </a:lnTo>
                              <a:lnTo>
                                <a:pt x="956" y="705"/>
                              </a:lnTo>
                              <a:lnTo>
                                <a:pt x="966" y="702"/>
                              </a:lnTo>
                              <a:lnTo>
                                <a:pt x="974" y="700"/>
                              </a:lnTo>
                              <a:lnTo>
                                <a:pt x="982" y="696"/>
                              </a:lnTo>
                              <a:lnTo>
                                <a:pt x="990" y="694"/>
                              </a:lnTo>
                              <a:lnTo>
                                <a:pt x="998" y="693"/>
                              </a:lnTo>
                              <a:lnTo>
                                <a:pt x="1007" y="691"/>
                              </a:lnTo>
                              <a:lnTo>
                                <a:pt x="1015" y="693"/>
                              </a:lnTo>
                              <a:lnTo>
                                <a:pt x="1032" y="697"/>
                              </a:lnTo>
                              <a:lnTo>
                                <a:pt x="1044" y="704"/>
                              </a:lnTo>
                              <a:lnTo>
                                <a:pt x="1055" y="715"/>
                              </a:lnTo>
                              <a:lnTo>
                                <a:pt x="1062" y="725"/>
                              </a:lnTo>
                              <a:lnTo>
                                <a:pt x="1066" y="738"/>
                              </a:lnTo>
                              <a:lnTo>
                                <a:pt x="1069" y="752"/>
                              </a:lnTo>
                              <a:lnTo>
                                <a:pt x="1069" y="765"/>
                              </a:lnTo>
                              <a:lnTo>
                                <a:pt x="1065" y="779"/>
                              </a:lnTo>
                              <a:lnTo>
                                <a:pt x="1061" y="786"/>
                              </a:lnTo>
                              <a:lnTo>
                                <a:pt x="1051" y="795"/>
                              </a:lnTo>
                              <a:lnTo>
                                <a:pt x="1037" y="805"/>
                              </a:lnTo>
                              <a:lnTo>
                                <a:pt x="1020" y="817"/>
                              </a:lnTo>
                              <a:lnTo>
                                <a:pt x="999" y="829"/>
                              </a:lnTo>
                              <a:lnTo>
                                <a:pt x="975" y="841"/>
                              </a:lnTo>
                              <a:lnTo>
                                <a:pt x="948" y="854"/>
                              </a:lnTo>
                              <a:lnTo>
                                <a:pt x="919" y="866"/>
                              </a:lnTo>
                              <a:lnTo>
                                <a:pt x="887" y="878"/>
                              </a:lnTo>
                              <a:lnTo>
                                <a:pt x="854" y="889"/>
                              </a:lnTo>
                              <a:lnTo>
                                <a:pt x="820" y="899"/>
                              </a:lnTo>
                              <a:lnTo>
                                <a:pt x="784" y="909"/>
                              </a:lnTo>
                              <a:lnTo>
                                <a:pt x="747" y="917"/>
                              </a:lnTo>
                              <a:lnTo>
                                <a:pt x="711" y="923"/>
                              </a:lnTo>
                              <a:lnTo>
                                <a:pt x="674" y="926"/>
                              </a:lnTo>
                              <a:lnTo>
                                <a:pt x="638" y="927"/>
                              </a:lnTo>
                              <a:lnTo>
                                <a:pt x="624" y="927"/>
                              </a:lnTo>
                              <a:lnTo>
                                <a:pt x="611" y="927"/>
                              </a:lnTo>
                              <a:lnTo>
                                <a:pt x="597" y="927"/>
                              </a:lnTo>
                              <a:lnTo>
                                <a:pt x="583" y="926"/>
                              </a:lnTo>
                              <a:lnTo>
                                <a:pt x="569" y="926"/>
                              </a:lnTo>
                              <a:lnTo>
                                <a:pt x="555" y="925"/>
                              </a:lnTo>
                              <a:lnTo>
                                <a:pt x="540" y="925"/>
                              </a:lnTo>
                              <a:lnTo>
                                <a:pt x="526" y="924"/>
                              </a:lnTo>
                              <a:lnTo>
                                <a:pt x="496" y="921"/>
                              </a:lnTo>
                              <a:lnTo>
                                <a:pt x="466" y="919"/>
                              </a:lnTo>
                              <a:lnTo>
                                <a:pt x="435" y="916"/>
                              </a:lnTo>
                              <a:lnTo>
                                <a:pt x="405" y="911"/>
                              </a:lnTo>
                              <a:lnTo>
                                <a:pt x="375" y="906"/>
                              </a:lnTo>
                              <a:lnTo>
                                <a:pt x="346" y="901"/>
                              </a:lnTo>
                              <a:lnTo>
                                <a:pt x="317" y="894"/>
                              </a:lnTo>
                              <a:lnTo>
                                <a:pt x="288" y="885"/>
                              </a:lnTo>
                              <a:lnTo>
                                <a:pt x="259" y="877"/>
                              </a:lnTo>
                              <a:lnTo>
                                <a:pt x="232" y="868"/>
                              </a:lnTo>
                              <a:lnTo>
                                <a:pt x="206" y="858"/>
                              </a:lnTo>
                              <a:lnTo>
                                <a:pt x="180" y="845"/>
                              </a:lnTo>
                              <a:lnTo>
                                <a:pt x="156" y="832"/>
                              </a:lnTo>
                              <a:lnTo>
                                <a:pt x="131" y="818"/>
                              </a:lnTo>
                              <a:lnTo>
                                <a:pt x="109" y="803"/>
                              </a:lnTo>
                              <a:lnTo>
                                <a:pt x="89" y="787"/>
                              </a:lnTo>
                              <a:lnTo>
                                <a:pt x="69" y="767"/>
                              </a:lnTo>
                              <a:lnTo>
                                <a:pt x="50" y="744"/>
                              </a:lnTo>
                              <a:lnTo>
                                <a:pt x="35" y="717"/>
                              </a:lnTo>
                              <a:lnTo>
                                <a:pt x="24" y="687"/>
                              </a:lnTo>
                              <a:lnTo>
                                <a:pt x="13" y="655"/>
                              </a:lnTo>
                              <a:lnTo>
                                <a:pt x="6" y="621"/>
                              </a:lnTo>
                              <a:lnTo>
                                <a:pt x="2" y="582"/>
                              </a:lnTo>
                              <a:lnTo>
                                <a:pt x="0" y="5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>
                          <a:off x="3598200" y="5232600"/>
                          <a:ext cx="3564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8" h="45">
                              <a:moveTo>
                                <a:pt x="23" y="2"/>
                              </a:moveTo>
                              <a:lnTo>
                                <a:pt x="0" y="45"/>
                              </a:lnTo>
                              <a:lnTo>
                                <a:pt x="198" y="37"/>
                              </a:lnTo>
                              <a:lnTo>
                                <a:pt x="197" y="35"/>
                              </a:lnTo>
                              <a:lnTo>
                                <a:pt x="191" y="30"/>
                              </a:lnTo>
                              <a:lnTo>
                                <a:pt x="181" y="23"/>
                              </a:lnTo>
                              <a:lnTo>
                                <a:pt x="165" y="15"/>
                              </a:lnTo>
                              <a:lnTo>
                                <a:pt x="143" y="8"/>
                              </a:lnTo>
                              <a:lnTo>
                                <a:pt x="111" y="2"/>
                              </a:lnTo>
                              <a:lnTo>
                                <a:pt x="72" y="0"/>
                              </a:lnTo>
                              <a:lnTo>
                                <a:pt x="23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>
                          <a:off x="3628440" y="5312880"/>
                          <a:ext cx="49680" cy="6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0" h="449">
                              <a:moveTo>
                                <a:pt x="79" y="371"/>
                              </a:moveTo>
                              <a:lnTo>
                                <a:pt x="57" y="345"/>
                              </a:lnTo>
                              <a:lnTo>
                                <a:pt x="38" y="314"/>
                              </a:lnTo>
                              <a:lnTo>
                                <a:pt x="22" y="278"/>
                              </a:lnTo>
                              <a:lnTo>
                                <a:pt x="10" y="236"/>
                              </a:lnTo>
                              <a:lnTo>
                                <a:pt x="2" y="187"/>
                              </a:lnTo>
                              <a:lnTo>
                                <a:pt x="0" y="133"/>
                              </a:lnTo>
                              <a:lnTo>
                                <a:pt x="3" y="70"/>
                              </a:lnTo>
                              <a:lnTo>
                                <a:pt x="14" y="0"/>
                              </a:lnTo>
                              <a:lnTo>
                                <a:pt x="14" y="5"/>
                              </a:lnTo>
                              <a:lnTo>
                                <a:pt x="14" y="18"/>
                              </a:lnTo>
                              <a:lnTo>
                                <a:pt x="14" y="36"/>
                              </a:lnTo>
                              <a:lnTo>
                                <a:pt x="15" y="62"/>
                              </a:lnTo>
                              <a:lnTo>
                                <a:pt x="17" y="92"/>
                              </a:lnTo>
                              <a:lnTo>
                                <a:pt x="22" y="127"/>
                              </a:lnTo>
                              <a:lnTo>
                                <a:pt x="29" y="164"/>
                              </a:lnTo>
                              <a:lnTo>
                                <a:pt x="38" y="203"/>
                              </a:lnTo>
                              <a:lnTo>
                                <a:pt x="51" y="242"/>
                              </a:lnTo>
                              <a:lnTo>
                                <a:pt x="67" y="281"/>
                              </a:lnTo>
                              <a:lnTo>
                                <a:pt x="88" y="319"/>
                              </a:lnTo>
                              <a:lnTo>
                                <a:pt x="113" y="355"/>
                              </a:lnTo>
                              <a:lnTo>
                                <a:pt x="143" y="386"/>
                              </a:lnTo>
                              <a:lnTo>
                                <a:pt x="179" y="413"/>
                              </a:lnTo>
                              <a:lnTo>
                                <a:pt x="221" y="434"/>
                              </a:lnTo>
                              <a:lnTo>
                                <a:pt x="270" y="449"/>
                              </a:lnTo>
                              <a:lnTo>
                                <a:pt x="269" y="449"/>
                              </a:lnTo>
                              <a:lnTo>
                                <a:pt x="265" y="449"/>
                              </a:lnTo>
                              <a:lnTo>
                                <a:pt x="259" y="449"/>
                              </a:lnTo>
                              <a:lnTo>
                                <a:pt x="251" y="448"/>
                              </a:lnTo>
                              <a:lnTo>
                                <a:pt x="242" y="448"/>
                              </a:lnTo>
                              <a:lnTo>
                                <a:pt x="230" y="445"/>
                              </a:lnTo>
                              <a:lnTo>
                                <a:pt x="218" y="443"/>
                              </a:lnTo>
                              <a:lnTo>
                                <a:pt x="204" y="441"/>
                              </a:lnTo>
                              <a:lnTo>
                                <a:pt x="190" y="436"/>
                              </a:lnTo>
                              <a:lnTo>
                                <a:pt x="175" y="431"/>
                              </a:lnTo>
                              <a:lnTo>
                                <a:pt x="159" y="425"/>
                              </a:lnTo>
                              <a:lnTo>
                                <a:pt x="142" y="417"/>
                              </a:lnTo>
                              <a:lnTo>
                                <a:pt x="126" y="408"/>
                              </a:lnTo>
                              <a:lnTo>
                                <a:pt x="110" y="398"/>
                              </a:lnTo>
                              <a:lnTo>
                                <a:pt x="94" y="385"/>
                              </a:lnTo>
                              <a:lnTo>
                                <a:pt x="79" y="37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520" bIns="20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0" name=""/>
                        <p:cNvSpPr/>
                        <p:nvPr/>
                      </p:nvSpPr>
                      <p:spPr>
                        <a:xfrm>
                          <a:off x="3629520" y="5183640"/>
                          <a:ext cx="37440" cy="4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10">
                              <a:moveTo>
                                <a:pt x="183" y="0"/>
                              </a:moveTo>
                              <a:lnTo>
                                <a:pt x="185" y="9"/>
                              </a:lnTo>
                              <a:lnTo>
                                <a:pt x="191" y="35"/>
                              </a:lnTo>
                              <a:lnTo>
                                <a:pt x="198" y="73"/>
                              </a:lnTo>
                              <a:lnTo>
                                <a:pt x="202" y="118"/>
                              </a:lnTo>
                              <a:lnTo>
                                <a:pt x="201" y="169"/>
                              </a:lnTo>
                              <a:lnTo>
                                <a:pt x="192" y="221"/>
                              </a:lnTo>
                              <a:lnTo>
                                <a:pt x="173" y="269"/>
                              </a:lnTo>
                              <a:lnTo>
                                <a:pt x="140" y="310"/>
                              </a:lnTo>
                              <a:lnTo>
                                <a:pt x="0" y="264"/>
                              </a:lnTo>
                              <a:lnTo>
                                <a:pt x="2" y="260"/>
                              </a:lnTo>
                              <a:lnTo>
                                <a:pt x="9" y="252"/>
                              </a:lnTo>
                              <a:lnTo>
                                <a:pt x="18" y="238"/>
                              </a:lnTo>
                              <a:lnTo>
                                <a:pt x="27" y="218"/>
                              </a:lnTo>
                              <a:lnTo>
                                <a:pt x="36" y="195"/>
                              </a:lnTo>
                              <a:lnTo>
                                <a:pt x="39" y="167"/>
                              </a:lnTo>
                              <a:lnTo>
                                <a:pt x="37" y="136"/>
                              </a:lnTo>
                              <a:lnTo>
                                <a:pt x="26" y="101"/>
                              </a:lnTo>
                              <a:lnTo>
                                <a:pt x="32" y="99"/>
                              </a:lnTo>
                              <a:lnTo>
                                <a:pt x="47" y="94"/>
                              </a:lnTo>
                              <a:lnTo>
                                <a:pt x="68" y="85"/>
                              </a:lnTo>
                              <a:lnTo>
                                <a:pt x="95" y="73"/>
                              </a:lnTo>
                              <a:lnTo>
                                <a:pt x="121" y="59"/>
                              </a:lnTo>
                              <a:lnTo>
                                <a:pt x="147" y="42"/>
                              </a:lnTo>
                              <a:lnTo>
                                <a:pt x="168" y="22"/>
                              </a:lnTo>
                              <a:lnTo>
                                <a:pt x="18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2b2b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41" name=""/>
                      <p:cNvSpPr/>
                      <p:nvPr/>
                    </p:nvSpPr>
                    <p:spPr>
                      <a:xfrm>
                        <a:off x="3504600" y="4834800"/>
                        <a:ext cx="534960" cy="480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" rIns="9000" tIns="9000" bIns="9000" anchor="ctr">
                        <a:spAutoFit/>
                      </a:bodyPr>
                      <a:p>
                        <a:pPr algn="ctr">
                          <a:lnSpc>
                            <a:spcPct val="8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ff9900"/>
                            </a:solidFill>
                            <a:latin typeface="Tahoma"/>
                            <a:ea typeface="宋体"/>
                          </a:rPr>
                          <a:t>Internet </a:t>
                        </a:r>
                        <a:r>
                          <a:rPr b="1" lang="en-US" sz="900" spc="-1" strike="noStrike">
                            <a:solidFill>
                              <a:srgbClr val="ff9900"/>
                            </a:solidFill>
                            <a:latin typeface="Tahoma"/>
                            <a:ea typeface="宋体"/>
                          </a:rPr>
                          <a:t>Conferenc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2" name=""/>
                    <p:cNvGrpSpPr/>
                    <p:nvPr/>
                  </p:nvGrpSpPr>
                  <p:grpSpPr>
                    <a:xfrm>
                      <a:off x="3195720" y="4470840"/>
                      <a:ext cx="536040" cy="497160"/>
                      <a:chOff x="3195720" y="4470840"/>
                      <a:chExt cx="536040" cy="497160"/>
                    </a:xfrm>
                  </p:grpSpPr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3225240" y="4568040"/>
                        <a:ext cx="472680" cy="39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333399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b2b2b2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3229200" y="4577760"/>
                        <a:ext cx="465480" cy="387720"/>
                      </a:xfrm>
                      <a:prstGeom prst="rect">
                        <a:avLst/>
                      </a:pr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45" name=""/>
                      <p:cNvGrpSpPr/>
                      <p:nvPr/>
                    </p:nvGrpSpPr>
                    <p:grpSpPr>
                      <a:xfrm>
                        <a:off x="3284280" y="4649400"/>
                        <a:ext cx="361440" cy="309960"/>
                        <a:chOff x="3284280" y="4649400"/>
                        <a:chExt cx="361440" cy="309960"/>
                      </a:xfrm>
                    </p:grpSpPr>
                    <p:grpSp>
                      <p:nvGrpSpPr>
                        <p:cNvPr id="646" name=""/>
                        <p:cNvGrpSpPr/>
                        <p:nvPr/>
                      </p:nvGrpSpPr>
                      <p:grpSpPr>
                        <a:xfrm>
                          <a:off x="3284280" y="4649400"/>
                          <a:ext cx="361440" cy="309960"/>
                          <a:chOff x="3284280" y="4649400"/>
                          <a:chExt cx="361440" cy="309960"/>
                        </a:xfrm>
                      </p:grpSpPr>
                      <p:sp>
                        <p:nvSpPr>
                          <p:cNvPr id="647" name=""/>
                          <p:cNvSpPr/>
                          <p:nvPr/>
                        </p:nvSpPr>
                        <p:spPr>
                          <a:xfrm>
                            <a:off x="3284280" y="4649400"/>
                            <a:ext cx="361440" cy="3092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8" name=""/>
                          <p:cNvSpPr/>
                          <p:nvPr/>
                        </p:nvSpPr>
                        <p:spPr>
                          <a:xfrm>
                            <a:off x="3290400" y="4831920"/>
                            <a:ext cx="352080" cy="127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84" h="865">
                                <a:moveTo>
                                  <a:pt x="1877" y="865"/>
                                </a:moveTo>
                                <a:lnTo>
                                  <a:pt x="1884" y="0"/>
                                </a:lnTo>
                                <a:lnTo>
                                  <a:pt x="0" y="23"/>
                                </a:lnTo>
                                <a:lnTo>
                                  <a:pt x="0" y="835"/>
                                </a:lnTo>
                                <a:lnTo>
                                  <a:pt x="1877" y="86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3c286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9" name=""/>
                          <p:cNvSpPr/>
                          <p:nvPr/>
                        </p:nvSpPr>
                        <p:spPr>
                          <a:xfrm>
                            <a:off x="3501360" y="4651200"/>
                            <a:ext cx="137520" cy="185040"/>
                          </a:xfrm>
                          <a:prstGeom prst="rect">
                            <a:avLst/>
                          </a:prstGeom>
                          <a:solidFill>
                            <a:srgbClr val="a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0" name=""/>
                          <p:cNvSpPr/>
                          <p:nvPr/>
                        </p:nvSpPr>
                        <p:spPr>
                          <a:xfrm>
                            <a:off x="3506040" y="4683960"/>
                            <a:ext cx="136440" cy="28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36" h="197">
                                <a:moveTo>
                                  <a:pt x="710" y="60"/>
                                </a:moveTo>
                                <a:lnTo>
                                  <a:pt x="638" y="143"/>
                                </a:lnTo>
                                <a:lnTo>
                                  <a:pt x="544" y="14"/>
                                </a:lnTo>
                                <a:lnTo>
                                  <a:pt x="441" y="134"/>
                                </a:lnTo>
                                <a:lnTo>
                                  <a:pt x="348" y="8"/>
                                </a:lnTo>
                                <a:lnTo>
                                  <a:pt x="220" y="119"/>
                                </a:lnTo>
                                <a:lnTo>
                                  <a:pt x="135" y="0"/>
                                </a:lnTo>
                                <a:lnTo>
                                  <a:pt x="0" y="114"/>
                                </a:lnTo>
                                <a:lnTo>
                                  <a:pt x="22" y="140"/>
                                </a:lnTo>
                                <a:lnTo>
                                  <a:pt x="129" y="49"/>
                                </a:lnTo>
                                <a:lnTo>
                                  <a:pt x="214" y="170"/>
                                </a:lnTo>
                                <a:lnTo>
                                  <a:pt x="343" y="57"/>
                                </a:lnTo>
                                <a:lnTo>
                                  <a:pt x="439" y="188"/>
                                </a:lnTo>
                                <a:lnTo>
                                  <a:pt x="542" y="69"/>
                                </a:lnTo>
                                <a:lnTo>
                                  <a:pt x="636" y="197"/>
                                </a:lnTo>
                                <a:lnTo>
                                  <a:pt x="736" y="82"/>
                                </a:lnTo>
                                <a:lnTo>
                                  <a:pt x="710" y="6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3c286"/>
                          </a:solidFill>
                          <a:ln w="3240">
                            <a:solidFill>
                              <a:srgbClr val="c3c28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1" name=""/>
                          <p:cNvSpPr/>
                          <p:nvPr/>
                        </p:nvSpPr>
                        <p:spPr>
                          <a:xfrm>
                            <a:off x="3506760" y="4714560"/>
                            <a:ext cx="135720" cy="29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5" h="201">
                                <a:moveTo>
                                  <a:pt x="704" y="55"/>
                                </a:moveTo>
                                <a:lnTo>
                                  <a:pt x="582" y="147"/>
                                </a:lnTo>
                                <a:lnTo>
                                  <a:pt x="513" y="28"/>
                                </a:lnTo>
                                <a:lnTo>
                                  <a:pt x="402" y="143"/>
                                </a:lnTo>
                                <a:lnTo>
                                  <a:pt x="328" y="0"/>
                                </a:lnTo>
                                <a:lnTo>
                                  <a:pt x="207" y="142"/>
                                </a:lnTo>
                                <a:lnTo>
                                  <a:pt x="132" y="15"/>
                                </a:lnTo>
                                <a:lnTo>
                                  <a:pt x="0" y="43"/>
                                </a:lnTo>
                                <a:lnTo>
                                  <a:pt x="7" y="76"/>
                                </a:lnTo>
                                <a:lnTo>
                                  <a:pt x="116" y="54"/>
                                </a:lnTo>
                                <a:lnTo>
                                  <a:pt x="202" y="201"/>
                                </a:lnTo>
                                <a:lnTo>
                                  <a:pt x="322" y="60"/>
                                </a:lnTo>
                                <a:lnTo>
                                  <a:pt x="393" y="201"/>
                                </a:lnTo>
                                <a:lnTo>
                                  <a:pt x="505" y="84"/>
                                </a:lnTo>
                                <a:lnTo>
                                  <a:pt x="572" y="197"/>
                                </a:lnTo>
                                <a:lnTo>
                                  <a:pt x="725" y="83"/>
                                </a:lnTo>
                                <a:lnTo>
                                  <a:pt x="704" y="5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3c286"/>
                          </a:solidFill>
                          <a:ln w="3240">
                            <a:solidFill>
                              <a:srgbClr val="c3c28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7640" bIns="-17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2" name=""/>
                          <p:cNvSpPr/>
                          <p:nvPr/>
                        </p:nvSpPr>
                        <p:spPr>
                          <a:xfrm>
                            <a:off x="3506040" y="4740840"/>
                            <a:ext cx="135720" cy="34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7" h="233">
                                <a:moveTo>
                                  <a:pt x="702" y="80"/>
                                </a:moveTo>
                                <a:lnTo>
                                  <a:pt x="604" y="177"/>
                                </a:lnTo>
                                <a:lnTo>
                                  <a:pt x="516" y="62"/>
                                </a:lnTo>
                                <a:lnTo>
                                  <a:pt x="513" y="66"/>
                                </a:lnTo>
                                <a:lnTo>
                                  <a:pt x="506" y="78"/>
                                </a:lnTo>
                                <a:lnTo>
                                  <a:pt x="495" y="96"/>
                                </a:lnTo>
                                <a:lnTo>
                                  <a:pt x="482" y="115"/>
                                </a:lnTo>
                                <a:lnTo>
                                  <a:pt x="468" y="138"/>
                                </a:lnTo>
                                <a:lnTo>
                                  <a:pt x="455" y="159"/>
                                </a:lnTo>
                                <a:lnTo>
                                  <a:pt x="443" y="177"/>
                                </a:lnTo>
                                <a:lnTo>
                                  <a:pt x="434" y="191"/>
                                </a:lnTo>
                                <a:lnTo>
                                  <a:pt x="424" y="178"/>
                                </a:lnTo>
                                <a:lnTo>
                                  <a:pt x="410" y="161"/>
                                </a:lnTo>
                                <a:lnTo>
                                  <a:pt x="393" y="139"/>
                                </a:lnTo>
                                <a:lnTo>
                                  <a:pt x="376" y="117"/>
                                </a:lnTo>
                                <a:lnTo>
                                  <a:pt x="359" y="94"/>
                                </a:lnTo>
                                <a:lnTo>
                                  <a:pt x="345" y="76"/>
                                </a:lnTo>
                                <a:lnTo>
                                  <a:pt x="335" y="64"/>
                                </a:lnTo>
                                <a:lnTo>
                                  <a:pt x="332" y="59"/>
                                </a:lnTo>
                                <a:lnTo>
                                  <a:pt x="327" y="64"/>
                                </a:lnTo>
                                <a:lnTo>
                                  <a:pt x="312" y="75"/>
                                </a:lnTo>
                                <a:lnTo>
                                  <a:pt x="291" y="93"/>
                                </a:lnTo>
                                <a:lnTo>
                                  <a:pt x="266" y="113"/>
                                </a:lnTo>
                                <a:lnTo>
                                  <a:pt x="242" y="135"/>
                                </a:lnTo>
                                <a:lnTo>
                                  <a:pt x="218" y="155"/>
                                </a:lnTo>
                                <a:lnTo>
                                  <a:pt x="200" y="171"/>
                                </a:lnTo>
                                <a:lnTo>
                                  <a:pt x="189" y="181"/>
                                </a:lnTo>
                                <a:lnTo>
                                  <a:pt x="180" y="165"/>
                                </a:lnTo>
                                <a:lnTo>
                                  <a:pt x="168" y="140"/>
                                </a:lnTo>
                                <a:lnTo>
                                  <a:pt x="153" y="111"/>
                                </a:lnTo>
                                <a:lnTo>
                                  <a:pt x="137" y="78"/>
                                </a:lnTo>
                                <a:lnTo>
                                  <a:pt x="122" y="49"/>
                                </a:lnTo>
                                <a:lnTo>
                                  <a:pt x="110" y="24"/>
                                </a:lnTo>
                                <a:lnTo>
                                  <a:pt x="102" y="6"/>
                                </a:lnTo>
                                <a:lnTo>
                                  <a:pt x="99" y="0"/>
                                </a:lnTo>
                                <a:lnTo>
                                  <a:pt x="0" y="88"/>
                                </a:lnTo>
                                <a:lnTo>
                                  <a:pt x="7" y="130"/>
                                </a:lnTo>
                                <a:lnTo>
                                  <a:pt x="88" y="56"/>
                                </a:lnTo>
                                <a:lnTo>
                                  <a:pt x="116" y="113"/>
                                </a:lnTo>
                                <a:lnTo>
                                  <a:pt x="139" y="155"/>
                                </a:lnTo>
                                <a:lnTo>
                                  <a:pt x="158" y="185"/>
                                </a:lnTo>
                                <a:lnTo>
                                  <a:pt x="174" y="204"/>
                                </a:lnTo>
                                <a:lnTo>
                                  <a:pt x="185" y="217"/>
                                </a:lnTo>
                                <a:lnTo>
                                  <a:pt x="194" y="223"/>
                                </a:lnTo>
                                <a:lnTo>
                                  <a:pt x="199" y="225"/>
                                </a:lnTo>
                                <a:lnTo>
                                  <a:pt x="200" y="225"/>
                                </a:lnTo>
                                <a:lnTo>
                                  <a:pt x="202" y="221"/>
                                </a:lnTo>
                                <a:lnTo>
                                  <a:pt x="211" y="213"/>
                                </a:lnTo>
                                <a:lnTo>
                                  <a:pt x="224" y="201"/>
                                </a:lnTo>
                                <a:lnTo>
                                  <a:pt x="242" y="183"/>
                                </a:lnTo>
                                <a:lnTo>
                                  <a:pt x="261" y="165"/>
                                </a:lnTo>
                                <a:lnTo>
                                  <a:pt x="282" y="146"/>
                                </a:lnTo>
                                <a:lnTo>
                                  <a:pt x="303" y="127"/>
                                </a:lnTo>
                                <a:lnTo>
                                  <a:pt x="326" y="108"/>
                                </a:lnTo>
                                <a:lnTo>
                                  <a:pt x="359" y="150"/>
                                </a:lnTo>
                                <a:lnTo>
                                  <a:pt x="386" y="182"/>
                                </a:lnTo>
                                <a:lnTo>
                                  <a:pt x="407" y="204"/>
                                </a:lnTo>
                                <a:lnTo>
                                  <a:pt x="424" y="218"/>
                                </a:lnTo>
                                <a:lnTo>
                                  <a:pt x="438" y="226"/>
                                </a:lnTo>
                                <a:lnTo>
                                  <a:pt x="447" y="231"/>
                                </a:lnTo>
                                <a:lnTo>
                                  <a:pt x="451" y="233"/>
                                </a:lnTo>
                                <a:lnTo>
                                  <a:pt x="453" y="233"/>
                                </a:lnTo>
                                <a:lnTo>
                                  <a:pt x="454" y="229"/>
                                </a:lnTo>
                                <a:lnTo>
                                  <a:pt x="459" y="221"/>
                                </a:lnTo>
                                <a:lnTo>
                                  <a:pt x="465" y="209"/>
                                </a:lnTo>
                                <a:lnTo>
                                  <a:pt x="475" y="194"/>
                                </a:lnTo>
                                <a:lnTo>
                                  <a:pt x="485" y="177"/>
                                </a:lnTo>
                                <a:lnTo>
                                  <a:pt x="496" y="159"/>
                                </a:lnTo>
                                <a:lnTo>
                                  <a:pt x="507" y="140"/>
                                </a:lnTo>
                                <a:lnTo>
                                  <a:pt x="518" y="122"/>
                                </a:lnTo>
                                <a:lnTo>
                                  <a:pt x="601" y="229"/>
                                </a:lnTo>
                                <a:lnTo>
                                  <a:pt x="727" y="104"/>
                                </a:lnTo>
                                <a:lnTo>
                                  <a:pt x="702" y="8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3c286"/>
                          </a:solidFill>
                          <a:ln w="3240">
                            <a:solidFill>
                              <a:srgbClr val="c3c28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2240" bIns="-12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3" name=""/>
                          <p:cNvSpPr/>
                          <p:nvPr/>
                        </p:nvSpPr>
                        <p:spPr>
                          <a:xfrm>
                            <a:off x="3497400" y="4651200"/>
                            <a:ext cx="9000" cy="196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" h="1336">
                                <a:moveTo>
                                  <a:pt x="45" y="1336"/>
                                </a:moveTo>
                                <a:lnTo>
                                  <a:pt x="50" y="14"/>
                                </a:lnTo>
                                <a:lnTo>
                                  <a:pt x="0" y="0"/>
                                </a:lnTo>
                                <a:lnTo>
                                  <a:pt x="13" y="1328"/>
                                </a:lnTo>
                                <a:lnTo>
                                  <a:pt x="45" y="13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aaa8c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4" name=""/>
                          <p:cNvSpPr/>
                          <p:nvPr/>
                        </p:nvSpPr>
                        <p:spPr>
                          <a:xfrm>
                            <a:off x="3289320" y="4653000"/>
                            <a:ext cx="210240" cy="181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24" h="1228">
                                <a:moveTo>
                                  <a:pt x="1124" y="1211"/>
                                </a:moveTo>
                                <a:lnTo>
                                  <a:pt x="1120" y="0"/>
                                </a:lnTo>
                                <a:lnTo>
                                  <a:pt x="0" y="20"/>
                                </a:lnTo>
                                <a:lnTo>
                                  <a:pt x="5" y="1228"/>
                                </a:lnTo>
                                <a:lnTo>
                                  <a:pt x="1124" y="12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dd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5" name=""/>
                          <p:cNvSpPr/>
                          <p:nvPr/>
                        </p:nvSpPr>
                        <p:spPr>
                          <a:xfrm>
                            <a:off x="3504600" y="4654440"/>
                            <a:ext cx="4320" cy="191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" h="1299">
                                <a:moveTo>
                                  <a:pt x="7" y="0"/>
                                </a:moveTo>
                                <a:lnTo>
                                  <a:pt x="0" y="1299"/>
                                </a:lnTo>
                                <a:lnTo>
                                  <a:pt x="17" y="1299"/>
                                </a:lnTo>
                                <a:lnTo>
                                  <a:pt x="25" y="0"/>
                                </a:lnTo>
                                <a:lnTo>
                                  <a:pt x="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6" name=""/>
                          <p:cNvSpPr/>
                          <p:nvPr/>
                        </p:nvSpPr>
                        <p:spPr>
                          <a:xfrm>
                            <a:off x="3297960" y="4656240"/>
                            <a:ext cx="15120" cy="176760"/>
                          </a:xfrm>
                          <a:prstGeom prst="rect">
                            <a:avLst/>
                          </a:prstGeom>
                          <a:solidFill>
                            <a:srgbClr val="7fbfb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7" name=""/>
                          <p:cNvSpPr/>
                          <p:nvPr/>
                        </p:nvSpPr>
                        <p:spPr>
                          <a:xfrm>
                            <a:off x="3328560" y="4655520"/>
                            <a:ext cx="19080" cy="177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1" h="1209">
                                <a:moveTo>
                                  <a:pt x="100" y="1209"/>
                                </a:moveTo>
                                <a:lnTo>
                                  <a:pt x="101" y="0"/>
                                </a:lnTo>
                                <a:lnTo>
                                  <a:pt x="1" y="0"/>
                                </a:lnTo>
                                <a:lnTo>
                                  <a:pt x="0" y="1206"/>
                                </a:lnTo>
                                <a:lnTo>
                                  <a:pt x="100" y="120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bfb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8" name=""/>
                          <p:cNvSpPr/>
                          <p:nvPr/>
                        </p:nvSpPr>
                        <p:spPr>
                          <a:xfrm>
                            <a:off x="3362400" y="4655160"/>
                            <a:ext cx="18360" cy="176760"/>
                          </a:xfrm>
                          <a:prstGeom prst="rect">
                            <a:avLst/>
                          </a:prstGeom>
                          <a:solidFill>
                            <a:srgbClr val="7fbfb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9" name=""/>
                          <p:cNvSpPr/>
                          <p:nvPr/>
                        </p:nvSpPr>
                        <p:spPr>
                          <a:xfrm>
                            <a:off x="3401640" y="4653000"/>
                            <a:ext cx="23760" cy="177840"/>
                          </a:xfrm>
                          <a:prstGeom prst="rect">
                            <a:avLst/>
                          </a:prstGeom>
                          <a:solidFill>
                            <a:srgbClr val="7fbfb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0" name=""/>
                          <p:cNvSpPr/>
                          <p:nvPr/>
                        </p:nvSpPr>
                        <p:spPr>
                          <a:xfrm>
                            <a:off x="3450600" y="4653000"/>
                            <a:ext cx="24480" cy="177120"/>
                          </a:xfrm>
                          <a:prstGeom prst="rect">
                            <a:avLst/>
                          </a:prstGeom>
                          <a:solidFill>
                            <a:srgbClr val="7fbfb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1" name=""/>
                          <p:cNvSpPr/>
                          <p:nvPr/>
                        </p:nvSpPr>
                        <p:spPr>
                          <a:xfrm>
                            <a:off x="3497040" y="4654440"/>
                            <a:ext cx="4320" cy="191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1305">
                                <a:moveTo>
                                  <a:pt x="7" y="0"/>
                                </a:moveTo>
                                <a:lnTo>
                                  <a:pt x="0" y="1305"/>
                                </a:lnTo>
                                <a:lnTo>
                                  <a:pt x="17" y="1305"/>
                                </a:lnTo>
                                <a:lnTo>
                                  <a:pt x="24" y="0"/>
                                </a:lnTo>
                                <a:lnTo>
                                  <a:pt x="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2" name=""/>
                          <p:cNvSpPr/>
                          <p:nvPr/>
                        </p:nvSpPr>
                        <p:spPr>
                          <a:xfrm>
                            <a:off x="3323160" y="4677480"/>
                            <a:ext cx="118800" cy="10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5" h="684">
                                <a:moveTo>
                                  <a:pt x="428" y="401"/>
                                </a:moveTo>
                                <a:lnTo>
                                  <a:pt x="457" y="365"/>
                                </a:lnTo>
                                <a:lnTo>
                                  <a:pt x="486" y="331"/>
                                </a:lnTo>
                                <a:lnTo>
                                  <a:pt x="512" y="298"/>
                                </a:lnTo>
                                <a:lnTo>
                                  <a:pt x="536" y="265"/>
                                </a:lnTo>
                                <a:lnTo>
                                  <a:pt x="557" y="235"/>
                                </a:lnTo>
                                <a:lnTo>
                                  <a:pt x="576" y="204"/>
                                </a:lnTo>
                                <a:lnTo>
                                  <a:pt x="593" y="175"/>
                                </a:lnTo>
                                <a:lnTo>
                                  <a:pt x="607" y="148"/>
                                </a:lnTo>
                                <a:lnTo>
                                  <a:pt x="618" y="124"/>
                                </a:lnTo>
                                <a:lnTo>
                                  <a:pt x="627" y="100"/>
                                </a:lnTo>
                                <a:lnTo>
                                  <a:pt x="633" y="78"/>
                                </a:lnTo>
                                <a:lnTo>
                                  <a:pt x="635" y="60"/>
                                </a:lnTo>
                                <a:lnTo>
                                  <a:pt x="635" y="42"/>
                                </a:lnTo>
                                <a:lnTo>
                                  <a:pt x="633" y="27"/>
                                </a:lnTo>
                                <a:lnTo>
                                  <a:pt x="627" y="15"/>
                                </a:lnTo>
                                <a:lnTo>
                                  <a:pt x="617" y="5"/>
                                </a:lnTo>
                                <a:lnTo>
                                  <a:pt x="606" y="0"/>
                                </a:lnTo>
                                <a:lnTo>
                                  <a:pt x="591" y="0"/>
                                </a:lnTo>
                                <a:lnTo>
                                  <a:pt x="572" y="4"/>
                                </a:lnTo>
                                <a:lnTo>
                                  <a:pt x="550" y="11"/>
                                </a:lnTo>
                                <a:lnTo>
                                  <a:pt x="525" y="21"/>
                                </a:lnTo>
                                <a:lnTo>
                                  <a:pt x="498" y="35"/>
                                </a:lnTo>
                                <a:lnTo>
                                  <a:pt x="470" y="52"/>
                                </a:lnTo>
                                <a:lnTo>
                                  <a:pt x="439" y="72"/>
                                </a:lnTo>
                                <a:lnTo>
                                  <a:pt x="406" y="95"/>
                                </a:lnTo>
                                <a:lnTo>
                                  <a:pt x="372" y="120"/>
                                </a:lnTo>
                                <a:lnTo>
                                  <a:pt x="339" y="147"/>
                                </a:lnTo>
                                <a:lnTo>
                                  <a:pt x="305" y="177"/>
                                </a:lnTo>
                                <a:lnTo>
                                  <a:pt x="270" y="208"/>
                                </a:lnTo>
                                <a:lnTo>
                                  <a:pt x="237" y="240"/>
                                </a:lnTo>
                                <a:lnTo>
                                  <a:pt x="203" y="274"/>
                                </a:lnTo>
                                <a:lnTo>
                                  <a:pt x="171" y="309"/>
                                </a:lnTo>
                                <a:lnTo>
                                  <a:pt x="116" y="376"/>
                                </a:lnTo>
                                <a:lnTo>
                                  <a:pt x="71" y="439"/>
                                </a:lnTo>
                                <a:lnTo>
                                  <a:pt x="38" y="496"/>
                                </a:lnTo>
                                <a:lnTo>
                                  <a:pt x="16" y="545"/>
                                </a:lnTo>
                                <a:lnTo>
                                  <a:pt x="3" y="590"/>
                                </a:lnTo>
                                <a:lnTo>
                                  <a:pt x="0" y="626"/>
                                </a:lnTo>
                                <a:lnTo>
                                  <a:pt x="3" y="654"/>
                                </a:lnTo>
                                <a:lnTo>
                                  <a:pt x="15" y="675"/>
                                </a:lnTo>
                                <a:lnTo>
                                  <a:pt x="24" y="681"/>
                                </a:lnTo>
                                <a:lnTo>
                                  <a:pt x="37" y="684"/>
                                </a:lnTo>
                                <a:lnTo>
                                  <a:pt x="53" y="682"/>
                                </a:lnTo>
                                <a:lnTo>
                                  <a:pt x="73" y="677"/>
                                </a:lnTo>
                                <a:lnTo>
                                  <a:pt x="95" y="669"/>
                                </a:lnTo>
                                <a:lnTo>
                                  <a:pt x="119" y="658"/>
                                </a:lnTo>
                                <a:lnTo>
                                  <a:pt x="145" y="643"/>
                                </a:lnTo>
                                <a:lnTo>
                                  <a:pt x="174" y="626"/>
                                </a:lnTo>
                                <a:lnTo>
                                  <a:pt x="203" y="605"/>
                                </a:lnTo>
                                <a:lnTo>
                                  <a:pt x="235" y="582"/>
                                </a:lnTo>
                                <a:lnTo>
                                  <a:pt x="266" y="558"/>
                                </a:lnTo>
                                <a:lnTo>
                                  <a:pt x="300" y="529"/>
                                </a:lnTo>
                                <a:lnTo>
                                  <a:pt x="332" y="500"/>
                                </a:lnTo>
                                <a:lnTo>
                                  <a:pt x="364" y="469"/>
                                </a:lnTo>
                                <a:lnTo>
                                  <a:pt x="397" y="436"/>
                                </a:lnTo>
                                <a:lnTo>
                                  <a:pt x="428" y="40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b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3" name=""/>
                          <p:cNvSpPr/>
                          <p:nvPr/>
                        </p:nvSpPr>
                        <p:spPr>
                          <a:xfrm>
                            <a:off x="3373200" y="4677480"/>
                            <a:ext cx="70560" cy="80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7" h="547">
                                <a:moveTo>
                                  <a:pt x="240" y="26"/>
                                </a:moveTo>
                                <a:lnTo>
                                  <a:pt x="251" y="34"/>
                                </a:lnTo>
                                <a:lnTo>
                                  <a:pt x="259" y="47"/>
                                </a:lnTo>
                                <a:lnTo>
                                  <a:pt x="263" y="69"/>
                                </a:lnTo>
                                <a:lnTo>
                                  <a:pt x="261" y="102"/>
                                </a:lnTo>
                                <a:lnTo>
                                  <a:pt x="256" y="123"/>
                                </a:lnTo>
                                <a:lnTo>
                                  <a:pt x="251" y="145"/>
                                </a:lnTo>
                                <a:lnTo>
                                  <a:pt x="243" y="169"/>
                                </a:lnTo>
                                <a:lnTo>
                                  <a:pt x="236" y="192"/>
                                </a:lnTo>
                                <a:lnTo>
                                  <a:pt x="227" y="216"/>
                                </a:lnTo>
                                <a:lnTo>
                                  <a:pt x="216" y="240"/>
                                </a:lnTo>
                                <a:lnTo>
                                  <a:pt x="204" y="264"/>
                                </a:lnTo>
                                <a:lnTo>
                                  <a:pt x="190" y="287"/>
                                </a:lnTo>
                                <a:lnTo>
                                  <a:pt x="171" y="316"/>
                                </a:lnTo>
                                <a:lnTo>
                                  <a:pt x="145" y="354"/>
                                </a:lnTo>
                                <a:lnTo>
                                  <a:pt x="114" y="397"/>
                                </a:lnTo>
                                <a:lnTo>
                                  <a:pt x="80" y="440"/>
                                </a:lnTo>
                                <a:lnTo>
                                  <a:pt x="51" y="481"/>
                                </a:lnTo>
                                <a:lnTo>
                                  <a:pt x="25" y="515"/>
                                </a:lnTo>
                                <a:lnTo>
                                  <a:pt x="6" y="539"/>
                                </a:lnTo>
                                <a:lnTo>
                                  <a:pt x="0" y="547"/>
                                </a:lnTo>
                                <a:lnTo>
                                  <a:pt x="316" y="256"/>
                                </a:lnTo>
                                <a:lnTo>
                                  <a:pt x="377" y="38"/>
                                </a:lnTo>
                                <a:lnTo>
                                  <a:pt x="356" y="0"/>
                                </a:lnTo>
                                <a:lnTo>
                                  <a:pt x="240" y="2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2b272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840" bIns="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4" name=""/>
                          <p:cNvSpPr/>
                          <p:nvPr/>
                        </p:nvSpPr>
                        <p:spPr>
                          <a:xfrm>
                            <a:off x="3396240" y="4768920"/>
                            <a:ext cx="23760" cy="6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5" h="413">
                                <a:moveTo>
                                  <a:pt x="0" y="36"/>
                                </a:moveTo>
                                <a:lnTo>
                                  <a:pt x="0" y="36"/>
                                </a:lnTo>
                                <a:lnTo>
                                  <a:pt x="5" y="51"/>
                                </a:lnTo>
                                <a:lnTo>
                                  <a:pt x="12" y="80"/>
                                </a:lnTo>
                                <a:lnTo>
                                  <a:pt x="23" y="123"/>
                                </a:lnTo>
                                <a:lnTo>
                                  <a:pt x="37" y="176"/>
                                </a:lnTo>
                                <a:lnTo>
                                  <a:pt x="51" y="234"/>
                                </a:lnTo>
                                <a:lnTo>
                                  <a:pt x="66" y="296"/>
                                </a:lnTo>
                                <a:lnTo>
                                  <a:pt x="82" y="357"/>
                                </a:lnTo>
                                <a:lnTo>
                                  <a:pt x="96" y="413"/>
                                </a:lnTo>
                                <a:lnTo>
                                  <a:pt x="125" y="406"/>
                                </a:lnTo>
                                <a:lnTo>
                                  <a:pt x="119" y="379"/>
                                </a:lnTo>
                                <a:lnTo>
                                  <a:pt x="107" y="329"/>
                                </a:lnTo>
                                <a:lnTo>
                                  <a:pt x="91" y="267"/>
                                </a:lnTo>
                                <a:lnTo>
                                  <a:pt x="74" y="196"/>
                                </a:lnTo>
                                <a:lnTo>
                                  <a:pt x="55" y="127"/>
                                </a:lnTo>
                                <a:lnTo>
                                  <a:pt x="39" y="67"/>
                                </a:lnTo>
                                <a:lnTo>
                                  <a:pt x="27" y="21"/>
                                </a:lnTo>
                                <a:lnTo>
                                  <a:pt x="21" y="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040" bIns="14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5" name=""/>
                          <p:cNvSpPr/>
                          <p:nvPr/>
                        </p:nvSpPr>
                        <p:spPr>
                          <a:xfrm>
                            <a:off x="3360240" y="4784400"/>
                            <a:ext cx="54360" cy="4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5" h="315">
                                <a:moveTo>
                                  <a:pt x="45" y="179"/>
                                </a:moveTo>
                                <a:lnTo>
                                  <a:pt x="241" y="86"/>
                                </a:lnTo>
                                <a:lnTo>
                                  <a:pt x="239" y="58"/>
                                </a:lnTo>
                                <a:lnTo>
                                  <a:pt x="66" y="0"/>
                                </a:lnTo>
                                <a:lnTo>
                                  <a:pt x="56" y="30"/>
                                </a:lnTo>
                                <a:lnTo>
                                  <a:pt x="193" y="75"/>
                                </a:lnTo>
                                <a:lnTo>
                                  <a:pt x="0" y="167"/>
                                </a:lnTo>
                                <a:lnTo>
                                  <a:pt x="0" y="195"/>
                                </a:lnTo>
                                <a:lnTo>
                                  <a:pt x="295" y="315"/>
                                </a:lnTo>
                                <a:lnTo>
                                  <a:pt x="290" y="276"/>
                                </a:lnTo>
                                <a:lnTo>
                                  <a:pt x="45" y="17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" bIns="-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6" name=""/>
                          <p:cNvSpPr/>
                          <p:nvPr/>
                        </p:nvSpPr>
                        <p:spPr>
                          <a:xfrm>
                            <a:off x="3400920" y="4759920"/>
                            <a:ext cx="55080" cy="68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6" h="465">
                                <a:moveTo>
                                  <a:pt x="286" y="199"/>
                                </a:moveTo>
                                <a:lnTo>
                                  <a:pt x="44" y="157"/>
                                </a:lnTo>
                                <a:lnTo>
                                  <a:pt x="179" y="36"/>
                                </a:lnTo>
                                <a:lnTo>
                                  <a:pt x="164" y="0"/>
                                </a:lnTo>
                                <a:lnTo>
                                  <a:pt x="0" y="155"/>
                                </a:lnTo>
                                <a:lnTo>
                                  <a:pt x="7" y="183"/>
                                </a:lnTo>
                                <a:lnTo>
                                  <a:pt x="255" y="224"/>
                                </a:lnTo>
                                <a:lnTo>
                                  <a:pt x="79" y="445"/>
                                </a:lnTo>
                                <a:lnTo>
                                  <a:pt x="104" y="465"/>
                                </a:lnTo>
                                <a:lnTo>
                                  <a:pt x="296" y="223"/>
                                </a:lnTo>
                                <a:lnTo>
                                  <a:pt x="286" y="19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600" bIns="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7" name=""/>
                          <p:cNvSpPr/>
                          <p:nvPr/>
                        </p:nvSpPr>
                        <p:spPr>
                          <a:xfrm>
                            <a:off x="3310200" y="4674240"/>
                            <a:ext cx="105840" cy="88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6" h="602">
                                <a:moveTo>
                                  <a:pt x="566" y="321"/>
                                </a:moveTo>
                                <a:lnTo>
                                  <a:pt x="192" y="183"/>
                                </a:lnTo>
                                <a:lnTo>
                                  <a:pt x="192" y="183"/>
                                </a:lnTo>
                                <a:lnTo>
                                  <a:pt x="51" y="29"/>
                                </a:lnTo>
                                <a:lnTo>
                                  <a:pt x="0" y="0"/>
                                </a:lnTo>
                                <a:lnTo>
                                  <a:pt x="173" y="209"/>
                                </a:lnTo>
                                <a:lnTo>
                                  <a:pt x="279" y="602"/>
                                </a:lnTo>
                                <a:lnTo>
                                  <a:pt x="309" y="593"/>
                                </a:lnTo>
                                <a:lnTo>
                                  <a:pt x="219" y="258"/>
                                </a:lnTo>
                                <a:lnTo>
                                  <a:pt x="425" y="485"/>
                                </a:lnTo>
                                <a:lnTo>
                                  <a:pt x="448" y="464"/>
                                </a:lnTo>
                                <a:lnTo>
                                  <a:pt x="236" y="232"/>
                                </a:lnTo>
                                <a:lnTo>
                                  <a:pt x="554" y="350"/>
                                </a:lnTo>
                                <a:lnTo>
                                  <a:pt x="566" y="3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2120" bIns="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8" name=""/>
                          <p:cNvSpPr/>
                          <p:nvPr/>
                        </p:nvSpPr>
                        <p:spPr>
                          <a:xfrm>
                            <a:off x="3319560" y="4674960"/>
                            <a:ext cx="126720" cy="105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7" h="716">
                                <a:moveTo>
                                  <a:pt x="677" y="46"/>
                                </a:moveTo>
                                <a:lnTo>
                                  <a:pt x="675" y="34"/>
                                </a:lnTo>
                                <a:lnTo>
                                  <a:pt x="668" y="23"/>
                                </a:lnTo>
                                <a:lnTo>
                                  <a:pt x="661" y="14"/>
                                </a:lnTo>
                                <a:lnTo>
                                  <a:pt x="652" y="8"/>
                                </a:lnTo>
                                <a:lnTo>
                                  <a:pt x="631" y="0"/>
                                </a:lnTo>
                                <a:lnTo>
                                  <a:pt x="608" y="0"/>
                                </a:lnTo>
                                <a:lnTo>
                                  <a:pt x="581" y="5"/>
                                </a:lnTo>
                                <a:lnTo>
                                  <a:pt x="553" y="15"/>
                                </a:lnTo>
                                <a:lnTo>
                                  <a:pt x="523" y="29"/>
                                </a:lnTo>
                                <a:lnTo>
                                  <a:pt x="491" y="47"/>
                                </a:lnTo>
                                <a:lnTo>
                                  <a:pt x="459" y="67"/>
                                </a:lnTo>
                                <a:lnTo>
                                  <a:pt x="427" y="90"/>
                                </a:lnTo>
                                <a:lnTo>
                                  <a:pt x="395" y="114"/>
                                </a:lnTo>
                                <a:lnTo>
                                  <a:pt x="364" y="140"/>
                                </a:lnTo>
                                <a:lnTo>
                                  <a:pt x="334" y="164"/>
                                </a:lnTo>
                                <a:lnTo>
                                  <a:pt x="307" y="189"/>
                                </a:lnTo>
                                <a:lnTo>
                                  <a:pt x="281" y="212"/>
                                </a:lnTo>
                                <a:lnTo>
                                  <a:pt x="258" y="235"/>
                                </a:lnTo>
                                <a:lnTo>
                                  <a:pt x="238" y="253"/>
                                </a:lnTo>
                                <a:lnTo>
                                  <a:pt x="222" y="269"/>
                                </a:lnTo>
                                <a:lnTo>
                                  <a:pt x="190" y="301"/>
                                </a:lnTo>
                                <a:lnTo>
                                  <a:pt x="160" y="333"/>
                                </a:lnTo>
                                <a:lnTo>
                                  <a:pt x="133" y="365"/>
                                </a:lnTo>
                                <a:lnTo>
                                  <a:pt x="108" y="396"/>
                                </a:lnTo>
                                <a:lnTo>
                                  <a:pt x="86" y="427"/>
                                </a:lnTo>
                                <a:lnTo>
                                  <a:pt x="66" y="457"/>
                                </a:lnTo>
                                <a:lnTo>
                                  <a:pt x="48" y="485"/>
                                </a:lnTo>
                                <a:lnTo>
                                  <a:pt x="33" y="513"/>
                                </a:lnTo>
                                <a:lnTo>
                                  <a:pt x="41" y="516"/>
                                </a:lnTo>
                                <a:lnTo>
                                  <a:pt x="48" y="518"/>
                                </a:lnTo>
                                <a:lnTo>
                                  <a:pt x="55" y="521"/>
                                </a:lnTo>
                                <a:lnTo>
                                  <a:pt x="63" y="523"/>
                                </a:lnTo>
                                <a:lnTo>
                                  <a:pt x="76" y="499"/>
                                </a:lnTo>
                                <a:lnTo>
                                  <a:pt x="92" y="473"/>
                                </a:lnTo>
                                <a:lnTo>
                                  <a:pt x="111" y="444"/>
                                </a:lnTo>
                                <a:lnTo>
                                  <a:pt x="133" y="416"/>
                                </a:lnTo>
                                <a:lnTo>
                                  <a:pt x="156" y="386"/>
                                </a:lnTo>
                                <a:lnTo>
                                  <a:pt x="182" y="355"/>
                                </a:lnTo>
                                <a:lnTo>
                                  <a:pt x="211" y="323"/>
                                </a:lnTo>
                                <a:lnTo>
                                  <a:pt x="243" y="290"/>
                                </a:lnTo>
                                <a:lnTo>
                                  <a:pt x="276" y="258"/>
                                </a:lnTo>
                                <a:lnTo>
                                  <a:pt x="309" y="227"/>
                                </a:lnTo>
                                <a:lnTo>
                                  <a:pt x="342" y="198"/>
                                </a:lnTo>
                                <a:lnTo>
                                  <a:pt x="372" y="170"/>
                                </a:lnTo>
                                <a:lnTo>
                                  <a:pt x="403" y="146"/>
                                </a:lnTo>
                                <a:lnTo>
                                  <a:pt x="433" y="124"/>
                                </a:lnTo>
                                <a:lnTo>
                                  <a:pt x="460" y="103"/>
                                </a:lnTo>
                                <a:lnTo>
                                  <a:pt x="487" y="84"/>
                                </a:lnTo>
                                <a:lnTo>
                                  <a:pt x="513" y="69"/>
                                </a:lnTo>
                                <a:lnTo>
                                  <a:pt x="536" y="56"/>
                                </a:lnTo>
                                <a:lnTo>
                                  <a:pt x="559" y="46"/>
                                </a:lnTo>
                                <a:lnTo>
                                  <a:pt x="578" y="37"/>
                                </a:lnTo>
                                <a:lnTo>
                                  <a:pt x="597" y="32"/>
                                </a:lnTo>
                                <a:lnTo>
                                  <a:pt x="613" y="30"/>
                                </a:lnTo>
                                <a:lnTo>
                                  <a:pt x="627" y="31"/>
                                </a:lnTo>
                                <a:lnTo>
                                  <a:pt x="638" y="35"/>
                                </a:lnTo>
                                <a:lnTo>
                                  <a:pt x="640" y="37"/>
                                </a:lnTo>
                                <a:lnTo>
                                  <a:pt x="643" y="40"/>
                                </a:lnTo>
                                <a:lnTo>
                                  <a:pt x="645" y="43"/>
                                </a:lnTo>
                                <a:lnTo>
                                  <a:pt x="648" y="50"/>
                                </a:lnTo>
                                <a:lnTo>
                                  <a:pt x="648" y="63"/>
                                </a:lnTo>
                                <a:lnTo>
                                  <a:pt x="645" y="79"/>
                                </a:lnTo>
                                <a:lnTo>
                                  <a:pt x="639" y="98"/>
                                </a:lnTo>
                                <a:lnTo>
                                  <a:pt x="630" y="119"/>
                                </a:lnTo>
                                <a:lnTo>
                                  <a:pt x="620" y="142"/>
                                </a:lnTo>
                                <a:lnTo>
                                  <a:pt x="607" y="167"/>
                                </a:lnTo>
                                <a:lnTo>
                                  <a:pt x="591" y="193"/>
                                </a:lnTo>
                                <a:lnTo>
                                  <a:pt x="573" y="220"/>
                                </a:lnTo>
                                <a:lnTo>
                                  <a:pt x="554" y="248"/>
                                </a:lnTo>
                                <a:lnTo>
                                  <a:pt x="533" y="277"/>
                                </a:lnTo>
                                <a:lnTo>
                                  <a:pt x="511" y="307"/>
                                </a:lnTo>
                                <a:lnTo>
                                  <a:pt x="486" y="337"/>
                                </a:lnTo>
                                <a:lnTo>
                                  <a:pt x="460" y="368"/>
                                </a:lnTo>
                                <a:lnTo>
                                  <a:pt x="433" y="397"/>
                                </a:lnTo>
                                <a:lnTo>
                                  <a:pt x="404" y="428"/>
                                </a:lnTo>
                                <a:lnTo>
                                  <a:pt x="376" y="458"/>
                                </a:lnTo>
                                <a:lnTo>
                                  <a:pt x="364" y="470"/>
                                </a:lnTo>
                                <a:lnTo>
                                  <a:pt x="349" y="485"/>
                                </a:lnTo>
                                <a:lnTo>
                                  <a:pt x="333" y="501"/>
                                </a:lnTo>
                                <a:lnTo>
                                  <a:pt x="313" y="518"/>
                                </a:lnTo>
                                <a:lnTo>
                                  <a:pt x="293" y="538"/>
                                </a:lnTo>
                                <a:lnTo>
                                  <a:pt x="272" y="557"/>
                                </a:lnTo>
                                <a:lnTo>
                                  <a:pt x="250" y="576"/>
                                </a:lnTo>
                                <a:lnTo>
                                  <a:pt x="227" y="595"/>
                                </a:lnTo>
                                <a:lnTo>
                                  <a:pt x="203" y="613"/>
                                </a:lnTo>
                                <a:lnTo>
                                  <a:pt x="181" y="631"/>
                                </a:lnTo>
                                <a:lnTo>
                                  <a:pt x="159" y="647"/>
                                </a:lnTo>
                                <a:lnTo>
                                  <a:pt x="137" y="660"/>
                                </a:lnTo>
                                <a:lnTo>
                                  <a:pt x="116" y="671"/>
                                </a:lnTo>
                                <a:lnTo>
                                  <a:pt x="97" y="679"/>
                                </a:lnTo>
                                <a:lnTo>
                                  <a:pt x="80" y="684"/>
                                </a:lnTo>
                                <a:lnTo>
                                  <a:pt x="64" y="685"/>
                                </a:lnTo>
                                <a:lnTo>
                                  <a:pt x="57" y="684"/>
                                </a:lnTo>
                                <a:lnTo>
                                  <a:pt x="50" y="681"/>
                                </a:lnTo>
                                <a:lnTo>
                                  <a:pt x="45" y="677"/>
                                </a:lnTo>
                                <a:lnTo>
                                  <a:pt x="41" y="671"/>
                                </a:lnTo>
                                <a:lnTo>
                                  <a:pt x="34" y="660"/>
                                </a:lnTo>
                                <a:lnTo>
                                  <a:pt x="32" y="647"/>
                                </a:lnTo>
                                <a:lnTo>
                                  <a:pt x="31" y="631"/>
                                </a:lnTo>
                                <a:lnTo>
                                  <a:pt x="32" y="613"/>
                                </a:lnTo>
                                <a:lnTo>
                                  <a:pt x="36" y="594"/>
                                </a:lnTo>
                                <a:lnTo>
                                  <a:pt x="42" y="571"/>
                                </a:lnTo>
                                <a:lnTo>
                                  <a:pt x="52" y="548"/>
                                </a:lnTo>
                                <a:lnTo>
                                  <a:pt x="63" y="523"/>
                                </a:lnTo>
                                <a:lnTo>
                                  <a:pt x="55" y="521"/>
                                </a:lnTo>
                                <a:lnTo>
                                  <a:pt x="48" y="518"/>
                                </a:lnTo>
                                <a:lnTo>
                                  <a:pt x="41" y="516"/>
                                </a:lnTo>
                                <a:lnTo>
                                  <a:pt x="33" y="513"/>
                                </a:lnTo>
                                <a:lnTo>
                                  <a:pt x="21" y="540"/>
                                </a:lnTo>
                                <a:lnTo>
                                  <a:pt x="11" y="568"/>
                                </a:lnTo>
                                <a:lnTo>
                                  <a:pt x="5" y="592"/>
                                </a:lnTo>
                                <a:lnTo>
                                  <a:pt x="1" y="616"/>
                                </a:lnTo>
                                <a:lnTo>
                                  <a:pt x="0" y="637"/>
                                </a:lnTo>
                                <a:lnTo>
                                  <a:pt x="2" y="656"/>
                                </a:lnTo>
                                <a:lnTo>
                                  <a:pt x="7" y="674"/>
                                </a:lnTo>
                                <a:lnTo>
                                  <a:pt x="16" y="690"/>
                                </a:lnTo>
                                <a:lnTo>
                                  <a:pt x="21" y="695"/>
                                </a:lnTo>
                                <a:lnTo>
                                  <a:pt x="24" y="700"/>
                                </a:lnTo>
                                <a:lnTo>
                                  <a:pt x="29" y="704"/>
                                </a:lnTo>
                                <a:lnTo>
                                  <a:pt x="36" y="708"/>
                                </a:lnTo>
                                <a:lnTo>
                                  <a:pt x="42" y="711"/>
                                </a:lnTo>
                                <a:lnTo>
                                  <a:pt x="48" y="713"/>
                                </a:lnTo>
                                <a:lnTo>
                                  <a:pt x="54" y="714"/>
                                </a:lnTo>
                                <a:lnTo>
                                  <a:pt x="61" y="716"/>
                                </a:lnTo>
                                <a:lnTo>
                                  <a:pt x="74" y="716"/>
                                </a:lnTo>
                                <a:lnTo>
                                  <a:pt x="87" y="714"/>
                                </a:lnTo>
                                <a:lnTo>
                                  <a:pt x="101" y="711"/>
                                </a:lnTo>
                                <a:lnTo>
                                  <a:pt x="117" y="704"/>
                                </a:lnTo>
                                <a:lnTo>
                                  <a:pt x="133" y="697"/>
                                </a:lnTo>
                                <a:lnTo>
                                  <a:pt x="150" y="687"/>
                                </a:lnTo>
                                <a:lnTo>
                                  <a:pt x="170" y="676"/>
                                </a:lnTo>
                                <a:lnTo>
                                  <a:pt x="190" y="663"/>
                                </a:lnTo>
                                <a:lnTo>
                                  <a:pt x="211" y="647"/>
                                </a:lnTo>
                                <a:lnTo>
                                  <a:pt x="233" y="629"/>
                                </a:lnTo>
                                <a:lnTo>
                                  <a:pt x="256" y="610"/>
                                </a:lnTo>
                                <a:lnTo>
                                  <a:pt x="282" y="587"/>
                                </a:lnTo>
                                <a:lnTo>
                                  <a:pt x="308" y="564"/>
                                </a:lnTo>
                                <a:lnTo>
                                  <a:pt x="337" y="538"/>
                                </a:lnTo>
                                <a:lnTo>
                                  <a:pt x="366" y="510"/>
                                </a:lnTo>
                                <a:lnTo>
                                  <a:pt x="397" y="479"/>
                                </a:lnTo>
                                <a:lnTo>
                                  <a:pt x="424" y="450"/>
                                </a:lnTo>
                                <a:lnTo>
                                  <a:pt x="453" y="422"/>
                                </a:lnTo>
                                <a:lnTo>
                                  <a:pt x="478" y="391"/>
                                </a:lnTo>
                                <a:lnTo>
                                  <a:pt x="506" y="362"/>
                                </a:lnTo>
                                <a:lnTo>
                                  <a:pt x="530" y="331"/>
                                </a:lnTo>
                                <a:lnTo>
                                  <a:pt x="554" y="300"/>
                                </a:lnTo>
                                <a:lnTo>
                                  <a:pt x="576" y="269"/>
                                </a:lnTo>
                                <a:lnTo>
                                  <a:pt x="597" y="238"/>
                                </a:lnTo>
                                <a:lnTo>
                                  <a:pt x="617" y="210"/>
                                </a:lnTo>
                                <a:lnTo>
                                  <a:pt x="633" y="182"/>
                                </a:lnTo>
                                <a:lnTo>
                                  <a:pt x="648" y="154"/>
                                </a:lnTo>
                                <a:lnTo>
                                  <a:pt x="660" y="129"/>
                                </a:lnTo>
                                <a:lnTo>
                                  <a:pt x="668" y="104"/>
                                </a:lnTo>
                                <a:lnTo>
                                  <a:pt x="675" y="83"/>
                                </a:lnTo>
                                <a:lnTo>
                                  <a:pt x="677" y="63"/>
                                </a:lnTo>
                                <a:lnTo>
                                  <a:pt x="677" y="4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9" name=""/>
                          <p:cNvSpPr/>
                          <p:nvPr/>
                        </p:nvSpPr>
                        <p:spPr>
                          <a:xfrm>
                            <a:off x="3328560" y="4683240"/>
                            <a:ext cx="116640" cy="97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26" h="666">
                                <a:moveTo>
                                  <a:pt x="617" y="0"/>
                                </a:moveTo>
                                <a:lnTo>
                                  <a:pt x="591" y="78"/>
                                </a:lnTo>
                                <a:lnTo>
                                  <a:pt x="591" y="79"/>
                                </a:lnTo>
                                <a:lnTo>
                                  <a:pt x="589" y="80"/>
                                </a:lnTo>
                                <a:lnTo>
                                  <a:pt x="587" y="84"/>
                                </a:lnTo>
                                <a:lnTo>
                                  <a:pt x="584" y="90"/>
                                </a:lnTo>
                                <a:lnTo>
                                  <a:pt x="580" y="98"/>
                                </a:lnTo>
                                <a:lnTo>
                                  <a:pt x="573" y="109"/>
                                </a:lnTo>
                                <a:lnTo>
                                  <a:pt x="565" y="121"/>
                                </a:lnTo>
                                <a:lnTo>
                                  <a:pt x="555" y="137"/>
                                </a:lnTo>
                                <a:lnTo>
                                  <a:pt x="541" y="155"/>
                                </a:lnTo>
                                <a:lnTo>
                                  <a:pt x="525" y="178"/>
                                </a:lnTo>
                                <a:lnTo>
                                  <a:pt x="507" y="202"/>
                                </a:lnTo>
                                <a:lnTo>
                                  <a:pt x="485" y="232"/>
                                </a:lnTo>
                                <a:lnTo>
                                  <a:pt x="459" y="265"/>
                                </a:lnTo>
                                <a:lnTo>
                                  <a:pt x="429" y="302"/>
                                </a:lnTo>
                                <a:lnTo>
                                  <a:pt x="396" y="344"/>
                                </a:lnTo>
                                <a:lnTo>
                                  <a:pt x="359" y="390"/>
                                </a:lnTo>
                                <a:lnTo>
                                  <a:pt x="319" y="435"/>
                                </a:lnTo>
                                <a:lnTo>
                                  <a:pt x="282" y="475"/>
                                </a:lnTo>
                                <a:lnTo>
                                  <a:pt x="246" y="509"/>
                                </a:lnTo>
                                <a:lnTo>
                                  <a:pt x="213" y="539"/>
                                </a:lnTo>
                                <a:lnTo>
                                  <a:pt x="181" y="565"/>
                                </a:lnTo>
                                <a:lnTo>
                                  <a:pt x="151" y="586"/>
                                </a:lnTo>
                                <a:lnTo>
                                  <a:pt x="124" y="603"/>
                                </a:lnTo>
                                <a:lnTo>
                                  <a:pt x="100" y="617"/>
                                </a:lnTo>
                                <a:lnTo>
                                  <a:pt x="77" y="628"/>
                                </a:lnTo>
                                <a:lnTo>
                                  <a:pt x="58" y="636"/>
                                </a:lnTo>
                                <a:lnTo>
                                  <a:pt x="40" y="643"/>
                                </a:lnTo>
                                <a:lnTo>
                                  <a:pt x="26" y="646"/>
                                </a:lnTo>
                                <a:lnTo>
                                  <a:pt x="14" y="649"/>
                                </a:lnTo>
                                <a:lnTo>
                                  <a:pt x="6" y="650"/>
                                </a:lnTo>
                                <a:lnTo>
                                  <a:pt x="1" y="651"/>
                                </a:lnTo>
                                <a:lnTo>
                                  <a:pt x="0" y="651"/>
                                </a:lnTo>
                                <a:lnTo>
                                  <a:pt x="2" y="652"/>
                                </a:lnTo>
                                <a:lnTo>
                                  <a:pt x="11" y="654"/>
                                </a:lnTo>
                                <a:lnTo>
                                  <a:pt x="26" y="656"/>
                                </a:lnTo>
                                <a:lnTo>
                                  <a:pt x="43" y="659"/>
                                </a:lnTo>
                                <a:lnTo>
                                  <a:pt x="65" y="661"/>
                                </a:lnTo>
                                <a:lnTo>
                                  <a:pt x="91" y="664"/>
                                </a:lnTo>
                                <a:lnTo>
                                  <a:pt x="121" y="665"/>
                                </a:lnTo>
                                <a:lnTo>
                                  <a:pt x="151" y="666"/>
                                </a:lnTo>
                                <a:lnTo>
                                  <a:pt x="185" y="665"/>
                                </a:lnTo>
                                <a:lnTo>
                                  <a:pt x="219" y="661"/>
                                </a:lnTo>
                                <a:lnTo>
                                  <a:pt x="254" y="656"/>
                                </a:lnTo>
                                <a:lnTo>
                                  <a:pt x="290" y="648"/>
                                </a:lnTo>
                                <a:lnTo>
                                  <a:pt x="325" y="638"/>
                                </a:lnTo>
                                <a:lnTo>
                                  <a:pt x="360" y="623"/>
                                </a:lnTo>
                                <a:lnTo>
                                  <a:pt x="393" y="604"/>
                                </a:lnTo>
                                <a:lnTo>
                                  <a:pt x="424" y="582"/>
                                </a:lnTo>
                                <a:lnTo>
                                  <a:pt x="454" y="558"/>
                                </a:lnTo>
                                <a:lnTo>
                                  <a:pt x="481" y="532"/>
                                </a:lnTo>
                                <a:lnTo>
                                  <a:pt x="506" y="505"/>
                                </a:lnTo>
                                <a:lnTo>
                                  <a:pt x="528" y="477"/>
                                </a:lnTo>
                                <a:lnTo>
                                  <a:pt x="547" y="448"/>
                                </a:lnTo>
                                <a:lnTo>
                                  <a:pt x="566" y="418"/>
                                </a:lnTo>
                                <a:lnTo>
                                  <a:pt x="581" y="386"/>
                                </a:lnTo>
                                <a:lnTo>
                                  <a:pt x="594" y="352"/>
                                </a:lnTo>
                                <a:lnTo>
                                  <a:pt x="605" y="317"/>
                                </a:lnTo>
                                <a:lnTo>
                                  <a:pt x="614" y="279"/>
                                </a:lnTo>
                                <a:lnTo>
                                  <a:pt x="620" y="239"/>
                                </a:lnTo>
                                <a:lnTo>
                                  <a:pt x="624" y="196"/>
                                </a:lnTo>
                                <a:lnTo>
                                  <a:pt x="626" y="152"/>
                                </a:lnTo>
                                <a:lnTo>
                                  <a:pt x="625" y="104"/>
                                </a:lnTo>
                                <a:lnTo>
                                  <a:pt x="621" y="53"/>
                                </a:lnTo>
                                <a:lnTo>
                                  <a:pt x="61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0" name=""/>
                          <p:cNvSpPr/>
                          <p:nvPr/>
                        </p:nvSpPr>
                        <p:spPr>
                          <a:xfrm>
                            <a:off x="3351600" y="4748040"/>
                            <a:ext cx="124920" cy="83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1" h="567">
                                <a:moveTo>
                                  <a:pt x="539" y="226"/>
                                </a:moveTo>
                                <a:lnTo>
                                  <a:pt x="407" y="0"/>
                                </a:lnTo>
                                <a:lnTo>
                                  <a:pt x="400" y="15"/>
                                </a:lnTo>
                                <a:lnTo>
                                  <a:pt x="394" y="25"/>
                                </a:lnTo>
                                <a:lnTo>
                                  <a:pt x="391" y="31"/>
                                </a:lnTo>
                                <a:lnTo>
                                  <a:pt x="390" y="32"/>
                                </a:lnTo>
                                <a:lnTo>
                                  <a:pt x="392" y="37"/>
                                </a:lnTo>
                                <a:lnTo>
                                  <a:pt x="399" y="47"/>
                                </a:lnTo>
                                <a:lnTo>
                                  <a:pt x="407" y="61"/>
                                </a:lnTo>
                                <a:lnTo>
                                  <a:pt x="417" y="78"/>
                                </a:lnTo>
                                <a:lnTo>
                                  <a:pt x="429" y="99"/>
                                </a:lnTo>
                                <a:lnTo>
                                  <a:pt x="443" y="123"/>
                                </a:lnTo>
                                <a:lnTo>
                                  <a:pt x="459" y="149"/>
                                </a:lnTo>
                                <a:lnTo>
                                  <a:pt x="476" y="179"/>
                                </a:lnTo>
                                <a:lnTo>
                                  <a:pt x="494" y="210"/>
                                </a:lnTo>
                                <a:lnTo>
                                  <a:pt x="512" y="242"/>
                                </a:lnTo>
                                <a:lnTo>
                                  <a:pt x="531" y="274"/>
                                </a:lnTo>
                                <a:lnTo>
                                  <a:pt x="550" y="307"/>
                                </a:lnTo>
                                <a:lnTo>
                                  <a:pt x="570" y="340"/>
                                </a:lnTo>
                                <a:lnTo>
                                  <a:pt x="589" y="374"/>
                                </a:lnTo>
                                <a:lnTo>
                                  <a:pt x="607" y="407"/>
                                </a:lnTo>
                                <a:lnTo>
                                  <a:pt x="626" y="438"/>
                                </a:lnTo>
                                <a:lnTo>
                                  <a:pt x="349" y="538"/>
                                </a:lnTo>
                                <a:lnTo>
                                  <a:pt x="40" y="506"/>
                                </a:lnTo>
                                <a:lnTo>
                                  <a:pt x="133" y="199"/>
                                </a:lnTo>
                                <a:lnTo>
                                  <a:pt x="98" y="211"/>
                                </a:lnTo>
                                <a:lnTo>
                                  <a:pt x="0" y="532"/>
                                </a:lnTo>
                                <a:lnTo>
                                  <a:pt x="357" y="567"/>
                                </a:lnTo>
                                <a:lnTo>
                                  <a:pt x="671" y="455"/>
                                </a:lnTo>
                                <a:lnTo>
                                  <a:pt x="665" y="445"/>
                                </a:lnTo>
                                <a:lnTo>
                                  <a:pt x="650" y="419"/>
                                </a:lnTo>
                                <a:lnTo>
                                  <a:pt x="629" y="382"/>
                                </a:lnTo>
                                <a:lnTo>
                                  <a:pt x="606" y="340"/>
                                </a:lnTo>
                                <a:lnTo>
                                  <a:pt x="581" y="299"/>
                                </a:lnTo>
                                <a:lnTo>
                                  <a:pt x="560" y="262"/>
                                </a:lnTo>
                                <a:lnTo>
                                  <a:pt x="545" y="236"/>
                                </a:lnTo>
                                <a:lnTo>
                                  <a:pt x="539" y="22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080" bIns="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1" name=""/>
                          <p:cNvSpPr/>
                          <p:nvPr/>
                        </p:nvSpPr>
                        <p:spPr>
                          <a:xfrm>
                            <a:off x="3287880" y="4650480"/>
                            <a:ext cx="353880" cy="307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00" h="2448">
                                <a:moveTo>
                                  <a:pt x="1891" y="0"/>
                                </a:moveTo>
                                <a:lnTo>
                                  <a:pt x="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9"/>
                                </a:lnTo>
                                <a:lnTo>
                                  <a:pt x="0" y="2439"/>
                                </a:lnTo>
                                <a:lnTo>
                                  <a:pt x="0" y="2448"/>
                                </a:lnTo>
                                <a:lnTo>
                                  <a:pt x="9" y="2448"/>
                                </a:lnTo>
                                <a:lnTo>
                                  <a:pt x="1891" y="2448"/>
                                </a:lnTo>
                                <a:lnTo>
                                  <a:pt x="1900" y="2448"/>
                                </a:lnTo>
                                <a:lnTo>
                                  <a:pt x="1900" y="2439"/>
                                </a:lnTo>
                                <a:lnTo>
                                  <a:pt x="1900" y="106"/>
                                </a:lnTo>
                                <a:lnTo>
                                  <a:pt x="1896" y="106"/>
                                </a:lnTo>
                                <a:lnTo>
                                  <a:pt x="1891" y="107"/>
                                </a:lnTo>
                                <a:lnTo>
                                  <a:pt x="1888" y="107"/>
                                </a:lnTo>
                                <a:lnTo>
                                  <a:pt x="1883" y="109"/>
                                </a:lnTo>
                                <a:lnTo>
                                  <a:pt x="1883" y="2432"/>
                                </a:lnTo>
                                <a:lnTo>
                                  <a:pt x="16" y="2432"/>
                                </a:lnTo>
                                <a:lnTo>
                                  <a:pt x="16" y="17"/>
                                </a:lnTo>
                                <a:lnTo>
                                  <a:pt x="1883" y="17"/>
                                </a:lnTo>
                                <a:lnTo>
                                  <a:pt x="1883" y="109"/>
                                </a:lnTo>
                                <a:lnTo>
                                  <a:pt x="1888" y="107"/>
                                </a:lnTo>
                                <a:lnTo>
                                  <a:pt x="1891" y="107"/>
                                </a:lnTo>
                                <a:lnTo>
                                  <a:pt x="1896" y="106"/>
                                </a:lnTo>
                                <a:lnTo>
                                  <a:pt x="1900" y="106"/>
                                </a:lnTo>
                                <a:lnTo>
                                  <a:pt x="1900" y="9"/>
                                </a:lnTo>
                                <a:lnTo>
                                  <a:pt x="1900" y="0"/>
                                </a:lnTo>
                                <a:lnTo>
                                  <a:pt x="189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dddddd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2" name=""/>
                          <p:cNvSpPr/>
                          <p:nvPr/>
                        </p:nvSpPr>
                        <p:spPr>
                          <a:xfrm>
                            <a:off x="3290400" y="4830120"/>
                            <a:ext cx="206280" cy="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04" h="36">
                                <a:moveTo>
                                  <a:pt x="0" y="36"/>
                                </a:moveTo>
                                <a:lnTo>
                                  <a:pt x="1104" y="17"/>
                                </a:lnTo>
                                <a:lnTo>
                                  <a:pt x="1104" y="0"/>
                                </a:lnTo>
                                <a:lnTo>
                                  <a:pt x="0" y="19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3" name=""/>
                          <p:cNvSpPr/>
                          <p:nvPr/>
                        </p:nvSpPr>
                        <p:spPr>
                          <a:xfrm>
                            <a:off x="3506760" y="4819680"/>
                            <a:ext cx="135720" cy="288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4" name=""/>
                          <p:cNvSpPr/>
                          <p:nvPr/>
                        </p:nvSpPr>
                        <p:spPr>
                          <a:xfrm>
                            <a:off x="3523680" y="4754520"/>
                            <a:ext cx="3600" cy="5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" h="37">
                                <a:moveTo>
                                  <a:pt x="9" y="37"/>
                                </a:moveTo>
                                <a:lnTo>
                                  <a:pt x="12" y="36"/>
                                </a:lnTo>
                                <a:lnTo>
                                  <a:pt x="16" y="31"/>
                                </a:lnTo>
                                <a:lnTo>
                                  <a:pt x="17" y="26"/>
                                </a:lnTo>
                                <a:lnTo>
                                  <a:pt x="18" y="18"/>
                                </a:lnTo>
                                <a:lnTo>
                                  <a:pt x="17" y="11"/>
                                </a:lnTo>
                                <a:lnTo>
                                  <a:pt x="16" y="5"/>
                                </a:lnTo>
                                <a:lnTo>
                                  <a:pt x="12" y="1"/>
                                </a:lnTo>
                                <a:lnTo>
                                  <a:pt x="9" y="0"/>
                                </a:lnTo>
                                <a:lnTo>
                                  <a:pt x="5" y="1"/>
                                </a:lnTo>
                                <a:lnTo>
                                  <a:pt x="2" y="5"/>
                                </a:lnTo>
                                <a:lnTo>
                                  <a:pt x="1" y="11"/>
                                </a:lnTo>
                                <a:lnTo>
                                  <a:pt x="0" y="18"/>
                                </a:lnTo>
                                <a:lnTo>
                                  <a:pt x="1" y="26"/>
                                </a:lnTo>
                                <a:lnTo>
                                  <a:pt x="2" y="31"/>
                                </a:lnTo>
                                <a:lnTo>
                                  <a:pt x="5" y="36"/>
                                </a:lnTo>
                                <a:lnTo>
                                  <a:pt x="9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3c286"/>
                          </a:solidFill>
                          <a:ln w="3240">
                            <a:solidFill>
                              <a:srgbClr val="c3c28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5" name=""/>
                          <p:cNvSpPr/>
                          <p:nvPr/>
                        </p:nvSpPr>
                        <p:spPr>
                          <a:xfrm>
                            <a:off x="3552120" y="4756320"/>
                            <a:ext cx="6120" cy="2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23">
                                <a:moveTo>
                                  <a:pt x="15" y="23"/>
                                </a:moveTo>
                                <a:lnTo>
                                  <a:pt x="20" y="22"/>
                                </a:lnTo>
                                <a:lnTo>
                                  <a:pt x="25" y="20"/>
                                </a:lnTo>
                                <a:lnTo>
                                  <a:pt x="28" y="16"/>
                                </a:lnTo>
                                <a:lnTo>
                                  <a:pt x="30" y="11"/>
                                </a:lnTo>
                                <a:lnTo>
                                  <a:pt x="28" y="6"/>
                                </a:lnTo>
                                <a:lnTo>
                                  <a:pt x="25" y="4"/>
                                </a:lnTo>
                                <a:lnTo>
                                  <a:pt x="20" y="1"/>
                                </a:lnTo>
                                <a:lnTo>
                                  <a:pt x="15" y="0"/>
                                </a:lnTo>
                                <a:lnTo>
                                  <a:pt x="9" y="1"/>
                                </a:lnTo>
                                <a:lnTo>
                                  <a:pt x="4" y="4"/>
                                </a:lnTo>
                                <a:lnTo>
                                  <a:pt x="1" y="6"/>
                                </a:lnTo>
                                <a:lnTo>
                                  <a:pt x="0" y="11"/>
                                </a:lnTo>
                                <a:lnTo>
                                  <a:pt x="1" y="16"/>
                                </a:lnTo>
                                <a:lnTo>
                                  <a:pt x="4" y="20"/>
                                </a:lnTo>
                                <a:lnTo>
                                  <a:pt x="9" y="22"/>
                                </a:lnTo>
                                <a:lnTo>
                                  <a:pt x="15" y="2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3c286"/>
                          </a:solidFill>
                          <a:ln w="3240">
                            <a:solidFill>
                              <a:srgbClr val="c3c28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6" name=""/>
                          <p:cNvSpPr/>
                          <p:nvPr/>
                        </p:nvSpPr>
                        <p:spPr>
                          <a:xfrm>
                            <a:off x="3468600" y="4807440"/>
                            <a:ext cx="167760" cy="13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08" h="1394">
                                <a:moveTo>
                                  <a:pt x="774" y="1244"/>
                                </a:moveTo>
                                <a:lnTo>
                                  <a:pt x="823" y="1266"/>
                                </a:lnTo>
                                <a:lnTo>
                                  <a:pt x="871" y="1286"/>
                                </a:lnTo>
                                <a:lnTo>
                                  <a:pt x="919" y="1304"/>
                                </a:lnTo>
                                <a:lnTo>
                                  <a:pt x="966" y="1320"/>
                                </a:lnTo>
                                <a:lnTo>
                                  <a:pt x="1014" y="1335"/>
                                </a:lnTo>
                                <a:lnTo>
                                  <a:pt x="1061" y="1348"/>
                                </a:lnTo>
                                <a:lnTo>
                                  <a:pt x="1107" y="1360"/>
                                </a:lnTo>
                                <a:lnTo>
                                  <a:pt x="1153" y="1369"/>
                                </a:lnTo>
                                <a:lnTo>
                                  <a:pt x="1197" y="1377"/>
                                </a:lnTo>
                                <a:lnTo>
                                  <a:pt x="1242" y="1384"/>
                                </a:lnTo>
                                <a:lnTo>
                                  <a:pt x="1285" y="1389"/>
                                </a:lnTo>
                                <a:lnTo>
                                  <a:pt x="1328" y="1392"/>
                                </a:lnTo>
                                <a:lnTo>
                                  <a:pt x="1370" y="1393"/>
                                </a:lnTo>
                                <a:lnTo>
                                  <a:pt x="1411" y="1394"/>
                                </a:lnTo>
                                <a:lnTo>
                                  <a:pt x="1450" y="1392"/>
                                </a:lnTo>
                                <a:lnTo>
                                  <a:pt x="1489" y="1389"/>
                                </a:lnTo>
                                <a:lnTo>
                                  <a:pt x="1526" y="1385"/>
                                </a:lnTo>
                                <a:lnTo>
                                  <a:pt x="1562" y="1378"/>
                                </a:lnTo>
                                <a:lnTo>
                                  <a:pt x="1596" y="1370"/>
                                </a:lnTo>
                                <a:lnTo>
                                  <a:pt x="1630" y="1361"/>
                                </a:lnTo>
                                <a:lnTo>
                                  <a:pt x="1661" y="1350"/>
                                </a:lnTo>
                                <a:lnTo>
                                  <a:pt x="1692" y="1338"/>
                                </a:lnTo>
                                <a:lnTo>
                                  <a:pt x="1720" y="1324"/>
                                </a:lnTo>
                                <a:lnTo>
                                  <a:pt x="1747" y="1307"/>
                                </a:lnTo>
                                <a:lnTo>
                                  <a:pt x="1772" y="1290"/>
                                </a:lnTo>
                                <a:lnTo>
                                  <a:pt x="1795" y="1272"/>
                                </a:lnTo>
                                <a:lnTo>
                                  <a:pt x="1816" y="1252"/>
                                </a:lnTo>
                                <a:lnTo>
                                  <a:pt x="1835" y="1230"/>
                                </a:lnTo>
                                <a:lnTo>
                                  <a:pt x="1852" y="1206"/>
                                </a:lnTo>
                                <a:lnTo>
                                  <a:pt x="1867" y="1182"/>
                                </a:lnTo>
                                <a:lnTo>
                                  <a:pt x="1879" y="1155"/>
                                </a:lnTo>
                                <a:lnTo>
                                  <a:pt x="1890" y="1128"/>
                                </a:lnTo>
                                <a:lnTo>
                                  <a:pt x="1898" y="1100"/>
                                </a:lnTo>
                                <a:lnTo>
                                  <a:pt x="1904" y="1069"/>
                                </a:lnTo>
                                <a:lnTo>
                                  <a:pt x="1906" y="1040"/>
                                </a:lnTo>
                                <a:lnTo>
                                  <a:pt x="1908" y="1009"/>
                                </a:lnTo>
                                <a:lnTo>
                                  <a:pt x="1905" y="978"/>
                                </a:lnTo>
                                <a:lnTo>
                                  <a:pt x="1902" y="946"/>
                                </a:lnTo>
                                <a:lnTo>
                                  <a:pt x="1896" y="914"/>
                                </a:lnTo>
                                <a:lnTo>
                                  <a:pt x="1887" y="881"/>
                                </a:lnTo>
                                <a:lnTo>
                                  <a:pt x="1876" y="848"/>
                                </a:lnTo>
                                <a:lnTo>
                                  <a:pt x="1863" y="815"/>
                                </a:lnTo>
                                <a:lnTo>
                                  <a:pt x="1848" y="782"/>
                                </a:lnTo>
                                <a:lnTo>
                                  <a:pt x="1831" y="748"/>
                                </a:lnTo>
                                <a:lnTo>
                                  <a:pt x="1812" y="715"/>
                                </a:lnTo>
                                <a:lnTo>
                                  <a:pt x="1790" y="682"/>
                                </a:lnTo>
                                <a:lnTo>
                                  <a:pt x="1768" y="648"/>
                                </a:lnTo>
                                <a:lnTo>
                                  <a:pt x="1743" y="615"/>
                                </a:lnTo>
                                <a:lnTo>
                                  <a:pt x="1717" y="582"/>
                                </a:lnTo>
                                <a:lnTo>
                                  <a:pt x="1689" y="549"/>
                                </a:lnTo>
                                <a:lnTo>
                                  <a:pt x="1658" y="517"/>
                                </a:lnTo>
                                <a:lnTo>
                                  <a:pt x="1627" y="484"/>
                                </a:lnTo>
                                <a:lnTo>
                                  <a:pt x="1593" y="453"/>
                                </a:lnTo>
                                <a:lnTo>
                                  <a:pt x="1558" y="422"/>
                                </a:lnTo>
                                <a:lnTo>
                                  <a:pt x="1522" y="391"/>
                                </a:lnTo>
                                <a:lnTo>
                                  <a:pt x="1484" y="361"/>
                                </a:lnTo>
                                <a:lnTo>
                                  <a:pt x="1445" y="332"/>
                                </a:lnTo>
                                <a:lnTo>
                                  <a:pt x="1403" y="302"/>
                                </a:lnTo>
                                <a:lnTo>
                                  <a:pt x="1362" y="275"/>
                                </a:lnTo>
                                <a:lnTo>
                                  <a:pt x="1319" y="248"/>
                                </a:lnTo>
                                <a:lnTo>
                                  <a:pt x="1274" y="222"/>
                                </a:lnTo>
                                <a:lnTo>
                                  <a:pt x="1228" y="197"/>
                                </a:lnTo>
                                <a:lnTo>
                                  <a:pt x="1181" y="173"/>
                                </a:lnTo>
                                <a:lnTo>
                                  <a:pt x="1133" y="150"/>
                                </a:lnTo>
                                <a:lnTo>
                                  <a:pt x="1084" y="128"/>
                                </a:lnTo>
                                <a:lnTo>
                                  <a:pt x="1037" y="109"/>
                                </a:lnTo>
                                <a:lnTo>
                                  <a:pt x="989" y="90"/>
                                </a:lnTo>
                                <a:lnTo>
                                  <a:pt x="941" y="74"/>
                                </a:lnTo>
                                <a:lnTo>
                                  <a:pt x="894" y="59"/>
                                </a:lnTo>
                                <a:lnTo>
                                  <a:pt x="847" y="46"/>
                                </a:lnTo>
                                <a:lnTo>
                                  <a:pt x="800" y="35"/>
                                </a:lnTo>
                                <a:lnTo>
                                  <a:pt x="755" y="25"/>
                                </a:lnTo>
                                <a:lnTo>
                                  <a:pt x="710" y="16"/>
                                </a:lnTo>
                                <a:lnTo>
                                  <a:pt x="666" y="10"/>
                                </a:lnTo>
                                <a:lnTo>
                                  <a:pt x="622" y="6"/>
                                </a:lnTo>
                                <a:lnTo>
                                  <a:pt x="579" y="2"/>
                                </a:lnTo>
                                <a:lnTo>
                                  <a:pt x="538" y="0"/>
                                </a:lnTo>
                                <a:lnTo>
                                  <a:pt x="498" y="0"/>
                                </a:lnTo>
                                <a:lnTo>
                                  <a:pt x="458" y="1"/>
                                </a:lnTo>
                                <a:lnTo>
                                  <a:pt x="420" y="4"/>
                                </a:lnTo>
                                <a:lnTo>
                                  <a:pt x="382" y="10"/>
                                </a:lnTo>
                                <a:lnTo>
                                  <a:pt x="346" y="15"/>
                                </a:lnTo>
                                <a:lnTo>
                                  <a:pt x="311" y="24"/>
                                </a:lnTo>
                                <a:lnTo>
                                  <a:pt x="279" y="33"/>
                                </a:lnTo>
                                <a:lnTo>
                                  <a:pt x="246" y="44"/>
                                </a:lnTo>
                                <a:lnTo>
                                  <a:pt x="217" y="57"/>
                                </a:lnTo>
                                <a:lnTo>
                                  <a:pt x="188" y="71"/>
                                </a:lnTo>
                                <a:lnTo>
                                  <a:pt x="162" y="86"/>
                                </a:lnTo>
                                <a:lnTo>
                                  <a:pt x="137" y="103"/>
                                </a:lnTo>
                                <a:lnTo>
                                  <a:pt x="113" y="122"/>
                                </a:lnTo>
                                <a:lnTo>
                                  <a:pt x="92" y="143"/>
                                </a:lnTo>
                                <a:lnTo>
                                  <a:pt x="73" y="164"/>
                                </a:lnTo>
                                <a:lnTo>
                                  <a:pt x="55" y="187"/>
                                </a:lnTo>
                                <a:lnTo>
                                  <a:pt x="40" y="212"/>
                                </a:lnTo>
                                <a:lnTo>
                                  <a:pt x="28" y="238"/>
                                </a:lnTo>
                                <a:lnTo>
                                  <a:pt x="17" y="266"/>
                                </a:lnTo>
                                <a:lnTo>
                                  <a:pt x="10" y="295"/>
                                </a:lnTo>
                                <a:lnTo>
                                  <a:pt x="3" y="324"/>
                                </a:lnTo>
                                <a:lnTo>
                                  <a:pt x="1" y="354"/>
                                </a:lnTo>
                                <a:lnTo>
                                  <a:pt x="0" y="385"/>
                                </a:lnTo>
                                <a:lnTo>
                                  <a:pt x="2" y="417"/>
                                </a:lnTo>
                                <a:lnTo>
                                  <a:pt x="5" y="448"/>
                                </a:lnTo>
                                <a:lnTo>
                                  <a:pt x="12" y="481"/>
                                </a:lnTo>
                                <a:lnTo>
                                  <a:pt x="21" y="513"/>
                                </a:lnTo>
                                <a:lnTo>
                                  <a:pt x="31" y="546"/>
                                </a:lnTo>
                                <a:lnTo>
                                  <a:pt x="44" y="579"/>
                                </a:lnTo>
                                <a:lnTo>
                                  <a:pt x="60" y="612"/>
                                </a:lnTo>
                                <a:lnTo>
                                  <a:pt x="77" y="646"/>
                                </a:lnTo>
                                <a:lnTo>
                                  <a:pt x="95" y="679"/>
                                </a:lnTo>
                                <a:lnTo>
                                  <a:pt x="117" y="712"/>
                                </a:lnTo>
                                <a:lnTo>
                                  <a:pt x="140" y="746"/>
                                </a:lnTo>
                                <a:lnTo>
                                  <a:pt x="165" y="779"/>
                                </a:lnTo>
                                <a:lnTo>
                                  <a:pt x="191" y="813"/>
                                </a:lnTo>
                                <a:lnTo>
                                  <a:pt x="219" y="845"/>
                                </a:lnTo>
                                <a:lnTo>
                                  <a:pt x="249" y="878"/>
                                </a:lnTo>
                                <a:lnTo>
                                  <a:pt x="281" y="910"/>
                                </a:lnTo>
                                <a:lnTo>
                                  <a:pt x="315" y="942"/>
                                </a:lnTo>
                                <a:lnTo>
                                  <a:pt x="349" y="972"/>
                                </a:lnTo>
                                <a:lnTo>
                                  <a:pt x="386" y="1004"/>
                                </a:lnTo>
                                <a:lnTo>
                                  <a:pt x="424" y="1033"/>
                                </a:lnTo>
                                <a:lnTo>
                                  <a:pt x="463" y="1063"/>
                                </a:lnTo>
                                <a:lnTo>
                                  <a:pt x="504" y="1092"/>
                                </a:lnTo>
                                <a:lnTo>
                                  <a:pt x="545" y="1119"/>
                                </a:lnTo>
                                <a:lnTo>
                                  <a:pt x="589" y="1146"/>
                                </a:lnTo>
                                <a:lnTo>
                                  <a:pt x="633" y="1173"/>
                                </a:lnTo>
                                <a:lnTo>
                                  <a:pt x="680" y="1198"/>
                                </a:lnTo>
                                <a:lnTo>
                                  <a:pt x="727" y="1221"/>
                                </a:lnTo>
                                <a:lnTo>
                                  <a:pt x="774" y="124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d1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7" name=""/>
                          <p:cNvSpPr/>
                          <p:nvPr/>
                        </p:nvSpPr>
                        <p:spPr>
                          <a:xfrm>
                            <a:off x="3489120" y="4792680"/>
                            <a:ext cx="110520" cy="82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79" h="1111">
                                <a:moveTo>
                                  <a:pt x="1158" y="6"/>
                                </a:moveTo>
                                <a:lnTo>
                                  <a:pt x="1149" y="3"/>
                                </a:lnTo>
                                <a:lnTo>
                                  <a:pt x="1135" y="1"/>
                                </a:lnTo>
                                <a:lnTo>
                                  <a:pt x="1117" y="0"/>
                                </a:lnTo>
                                <a:lnTo>
                                  <a:pt x="1093" y="1"/>
                                </a:lnTo>
                                <a:lnTo>
                                  <a:pt x="1064" y="2"/>
                                </a:lnTo>
                                <a:lnTo>
                                  <a:pt x="1032" y="5"/>
                                </a:lnTo>
                                <a:lnTo>
                                  <a:pt x="997" y="8"/>
                                </a:lnTo>
                                <a:lnTo>
                                  <a:pt x="956" y="13"/>
                                </a:lnTo>
                                <a:lnTo>
                                  <a:pt x="915" y="18"/>
                                </a:lnTo>
                                <a:lnTo>
                                  <a:pt x="871" y="25"/>
                                </a:lnTo>
                                <a:lnTo>
                                  <a:pt x="824" y="31"/>
                                </a:lnTo>
                                <a:lnTo>
                                  <a:pt x="775" y="39"/>
                                </a:lnTo>
                                <a:lnTo>
                                  <a:pt x="725" y="46"/>
                                </a:lnTo>
                                <a:lnTo>
                                  <a:pt x="676" y="54"/>
                                </a:lnTo>
                                <a:lnTo>
                                  <a:pt x="624" y="63"/>
                                </a:lnTo>
                                <a:lnTo>
                                  <a:pt x="573" y="71"/>
                                </a:lnTo>
                                <a:lnTo>
                                  <a:pt x="522" y="80"/>
                                </a:lnTo>
                                <a:lnTo>
                                  <a:pt x="471" y="89"/>
                                </a:lnTo>
                                <a:lnTo>
                                  <a:pt x="421" y="97"/>
                                </a:lnTo>
                                <a:lnTo>
                                  <a:pt x="372" y="106"/>
                                </a:lnTo>
                                <a:lnTo>
                                  <a:pt x="325" y="115"/>
                                </a:lnTo>
                                <a:lnTo>
                                  <a:pt x="281" y="124"/>
                                </a:lnTo>
                                <a:lnTo>
                                  <a:pt x="239" y="131"/>
                                </a:lnTo>
                                <a:lnTo>
                                  <a:pt x="199" y="139"/>
                                </a:lnTo>
                                <a:lnTo>
                                  <a:pt x="163" y="145"/>
                                </a:lnTo>
                                <a:lnTo>
                                  <a:pt x="130" y="152"/>
                                </a:lnTo>
                                <a:lnTo>
                                  <a:pt x="102" y="157"/>
                                </a:lnTo>
                                <a:lnTo>
                                  <a:pt x="77" y="162"/>
                                </a:lnTo>
                                <a:lnTo>
                                  <a:pt x="57" y="165"/>
                                </a:lnTo>
                                <a:lnTo>
                                  <a:pt x="43" y="168"/>
                                </a:lnTo>
                                <a:lnTo>
                                  <a:pt x="35" y="169"/>
                                </a:lnTo>
                                <a:lnTo>
                                  <a:pt x="31" y="170"/>
                                </a:lnTo>
                                <a:lnTo>
                                  <a:pt x="0" y="252"/>
                                </a:lnTo>
                                <a:lnTo>
                                  <a:pt x="0" y="356"/>
                                </a:lnTo>
                                <a:lnTo>
                                  <a:pt x="75" y="1111"/>
                                </a:lnTo>
                                <a:lnTo>
                                  <a:pt x="113" y="252"/>
                                </a:lnTo>
                                <a:lnTo>
                                  <a:pt x="1087" y="88"/>
                                </a:lnTo>
                                <a:lnTo>
                                  <a:pt x="1130" y="925"/>
                                </a:lnTo>
                                <a:lnTo>
                                  <a:pt x="1133" y="887"/>
                                </a:lnTo>
                                <a:lnTo>
                                  <a:pt x="1143" y="788"/>
                                </a:lnTo>
                                <a:lnTo>
                                  <a:pt x="1155" y="646"/>
                                </a:lnTo>
                                <a:lnTo>
                                  <a:pt x="1167" y="482"/>
                                </a:lnTo>
                                <a:lnTo>
                                  <a:pt x="1176" y="316"/>
                                </a:lnTo>
                                <a:lnTo>
                                  <a:pt x="1179" y="168"/>
                                </a:lnTo>
                                <a:lnTo>
                                  <a:pt x="1174" y="58"/>
                                </a:lnTo>
                                <a:lnTo>
                                  <a:pt x="1158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5280" bIns="35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8" name=""/>
                          <p:cNvSpPr/>
                          <p:nvPr/>
                        </p:nvSpPr>
                        <p:spPr>
                          <a:xfrm>
                            <a:off x="3493800" y="4865760"/>
                            <a:ext cx="102600" cy="22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92" h="306">
                                <a:moveTo>
                                  <a:pt x="1092" y="0"/>
                                </a:moveTo>
                                <a:lnTo>
                                  <a:pt x="1089" y="1"/>
                                </a:lnTo>
                                <a:lnTo>
                                  <a:pt x="1082" y="3"/>
                                </a:lnTo>
                                <a:lnTo>
                                  <a:pt x="1069" y="7"/>
                                </a:lnTo>
                                <a:lnTo>
                                  <a:pt x="1051" y="14"/>
                                </a:lnTo>
                                <a:lnTo>
                                  <a:pt x="1030" y="20"/>
                                </a:lnTo>
                                <a:lnTo>
                                  <a:pt x="1004" y="29"/>
                                </a:lnTo>
                                <a:lnTo>
                                  <a:pt x="974" y="39"/>
                                </a:lnTo>
                                <a:lnTo>
                                  <a:pt x="942" y="50"/>
                                </a:lnTo>
                                <a:lnTo>
                                  <a:pt x="906" y="61"/>
                                </a:lnTo>
                                <a:lnTo>
                                  <a:pt x="868" y="74"/>
                                </a:lnTo>
                                <a:lnTo>
                                  <a:pt x="828" y="87"/>
                                </a:lnTo>
                                <a:lnTo>
                                  <a:pt x="786" y="100"/>
                                </a:lnTo>
                                <a:lnTo>
                                  <a:pt x="741" y="114"/>
                                </a:lnTo>
                                <a:lnTo>
                                  <a:pt x="696" y="129"/>
                                </a:lnTo>
                                <a:lnTo>
                                  <a:pt x="650" y="143"/>
                                </a:lnTo>
                                <a:lnTo>
                                  <a:pt x="602" y="157"/>
                                </a:lnTo>
                                <a:lnTo>
                                  <a:pt x="556" y="173"/>
                                </a:lnTo>
                                <a:lnTo>
                                  <a:pt x="508" y="187"/>
                                </a:lnTo>
                                <a:lnTo>
                                  <a:pt x="461" y="201"/>
                                </a:lnTo>
                                <a:lnTo>
                                  <a:pt x="416" y="215"/>
                                </a:lnTo>
                                <a:lnTo>
                                  <a:pt x="370" y="228"/>
                                </a:lnTo>
                                <a:lnTo>
                                  <a:pt x="327" y="241"/>
                                </a:lnTo>
                                <a:lnTo>
                                  <a:pt x="285" y="253"/>
                                </a:lnTo>
                                <a:lnTo>
                                  <a:pt x="244" y="264"/>
                                </a:lnTo>
                                <a:lnTo>
                                  <a:pt x="208" y="274"/>
                                </a:lnTo>
                                <a:lnTo>
                                  <a:pt x="172" y="282"/>
                                </a:lnTo>
                                <a:lnTo>
                                  <a:pt x="140" y="291"/>
                                </a:lnTo>
                                <a:lnTo>
                                  <a:pt x="112" y="297"/>
                                </a:lnTo>
                                <a:lnTo>
                                  <a:pt x="87" y="302"/>
                                </a:lnTo>
                                <a:lnTo>
                                  <a:pt x="65" y="305"/>
                                </a:lnTo>
                                <a:lnTo>
                                  <a:pt x="49" y="306"/>
                                </a:lnTo>
                                <a:lnTo>
                                  <a:pt x="37" y="306"/>
                                </a:lnTo>
                                <a:lnTo>
                                  <a:pt x="10" y="299"/>
                                </a:lnTo>
                                <a:lnTo>
                                  <a:pt x="0" y="288"/>
                                </a:lnTo>
                                <a:lnTo>
                                  <a:pt x="4" y="274"/>
                                </a:lnTo>
                                <a:lnTo>
                                  <a:pt x="16" y="257"/>
                                </a:lnTo>
                                <a:lnTo>
                                  <a:pt x="33" y="243"/>
                                </a:lnTo>
                                <a:lnTo>
                                  <a:pt x="50" y="230"/>
                                </a:lnTo>
                                <a:lnTo>
                                  <a:pt x="63" y="222"/>
                                </a:lnTo>
                                <a:lnTo>
                                  <a:pt x="69" y="218"/>
                                </a:lnTo>
                                <a:lnTo>
                                  <a:pt x="109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9" name=""/>
                          <p:cNvSpPr/>
                          <p:nvPr/>
                        </p:nvSpPr>
                        <p:spPr>
                          <a:xfrm>
                            <a:off x="3512160" y="4809600"/>
                            <a:ext cx="72000" cy="59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66" h="813">
                                <a:moveTo>
                                  <a:pt x="0" y="126"/>
                                </a:moveTo>
                                <a:lnTo>
                                  <a:pt x="734" y="0"/>
                                </a:lnTo>
                                <a:lnTo>
                                  <a:pt x="766" y="663"/>
                                </a:lnTo>
                                <a:lnTo>
                                  <a:pt x="31" y="813"/>
                                </a:lnTo>
                                <a:lnTo>
                                  <a:pt x="671" y="588"/>
                                </a:lnTo>
                                <a:lnTo>
                                  <a:pt x="671" y="101"/>
                                </a:lnTo>
                                <a:lnTo>
                                  <a:pt x="0" y="12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600" bIns="12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0" name=""/>
                          <p:cNvSpPr/>
                          <p:nvPr/>
                        </p:nvSpPr>
                        <p:spPr>
                          <a:xfrm>
                            <a:off x="3583440" y="4883040"/>
                            <a:ext cx="3600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8" h="185">
                                <a:moveTo>
                                  <a:pt x="378" y="185"/>
                                </a:moveTo>
                                <a:lnTo>
                                  <a:pt x="372" y="182"/>
                                </a:lnTo>
                                <a:lnTo>
                                  <a:pt x="367" y="178"/>
                                </a:lnTo>
                                <a:lnTo>
                                  <a:pt x="362" y="175"/>
                                </a:lnTo>
                                <a:lnTo>
                                  <a:pt x="356" y="172"/>
                                </a:lnTo>
                                <a:lnTo>
                                  <a:pt x="352" y="170"/>
                                </a:lnTo>
                                <a:lnTo>
                                  <a:pt x="346" y="166"/>
                                </a:lnTo>
                                <a:lnTo>
                                  <a:pt x="343" y="163"/>
                                </a:lnTo>
                                <a:lnTo>
                                  <a:pt x="339" y="160"/>
                                </a:lnTo>
                                <a:lnTo>
                                  <a:pt x="327" y="150"/>
                                </a:lnTo>
                                <a:lnTo>
                                  <a:pt x="311" y="138"/>
                                </a:lnTo>
                                <a:lnTo>
                                  <a:pt x="292" y="125"/>
                                </a:lnTo>
                                <a:lnTo>
                                  <a:pt x="272" y="111"/>
                                </a:lnTo>
                                <a:lnTo>
                                  <a:pt x="250" y="96"/>
                                </a:lnTo>
                                <a:lnTo>
                                  <a:pt x="227" y="82"/>
                                </a:lnTo>
                                <a:lnTo>
                                  <a:pt x="202" y="66"/>
                                </a:lnTo>
                                <a:lnTo>
                                  <a:pt x="178" y="52"/>
                                </a:lnTo>
                                <a:lnTo>
                                  <a:pt x="154" y="39"/>
                                </a:lnTo>
                                <a:lnTo>
                                  <a:pt x="132" y="27"/>
                                </a:lnTo>
                                <a:lnTo>
                                  <a:pt x="110" y="17"/>
                                </a:lnTo>
                                <a:lnTo>
                                  <a:pt x="90" y="9"/>
                                </a:lnTo>
                                <a:lnTo>
                                  <a:pt x="73" y="3"/>
                                </a:lnTo>
                                <a:lnTo>
                                  <a:pt x="59" y="0"/>
                                </a:lnTo>
                                <a:lnTo>
                                  <a:pt x="48" y="0"/>
                                </a:lnTo>
                                <a:lnTo>
                                  <a:pt x="42" y="4"/>
                                </a:lnTo>
                                <a:lnTo>
                                  <a:pt x="39" y="7"/>
                                </a:lnTo>
                                <a:lnTo>
                                  <a:pt x="35" y="9"/>
                                </a:lnTo>
                                <a:lnTo>
                                  <a:pt x="30" y="12"/>
                                </a:lnTo>
                                <a:lnTo>
                                  <a:pt x="24" y="15"/>
                                </a:lnTo>
                                <a:lnTo>
                                  <a:pt x="18" y="19"/>
                                </a:lnTo>
                                <a:lnTo>
                                  <a:pt x="11" y="23"/>
                                </a:lnTo>
                                <a:lnTo>
                                  <a:pt x="5" y="26"/>
                                </a:lnTo>
                                <a:lnTo>
                                  <a:pt x="0" y="29"/>
                                </a:lnTo>
                                <a:lnTo>
                                  <a:pt x="11" y="32"/>
                                </a:lnTo>
                                <a:lnTo>
                                  <a:pt x="23" y="34"/>
                                </a:lnTo>
                                <a:lnTo>
                                  <a:pt x="35" y="37"/>
                                </a:lnTo>
                                <a:lnTo>
                                  <a:pt x="48" y="41"/>
                                </a:lnTo>
                                <a:lnTo>
                                  <a:pt x="62" y="47"/>
                                </a:lnTo>
                                <a:lnTo>
                                  <a:pt x="76" y="51"/>
                                </a:lnTo>
                                <a:lnTo>
                                  <a:pt x="90" y="58"/>
                                </a:lnTo>
                                <a:lnTo>
                                  <a:pt x="105" y="63"/>
                                </a:lnTo>
                                <a:lnTo>
                                  <a:pt x="119" y="70"/>
                                </a:lnTo>
                                <a:lnTo>
                                  <a:pt x="133" y="76"/>
                                </a:lnTo>
                                <a:lnTo>
                                  <a:pt x="146" y="83"/>
                                </a:lnTo>
                                <a:lnTo>
                                  <a:pt x="159" y="89"/>
                                </a:lnTo>
                                <a:lnTo>
                                  <a:pt x="171" y="95"/>
                                </a:lnTo>
                                <a:lnTo>
                                  <a:pt x="183" y="101"/>
                                </a:lnTo>
                                <a:lnTo>
                                  <a:pt x="192" y="108"/>
                                </a:lnTo>
                                <a:lnTo>
                                  <a:pt x="201" y="113"/>
                                </a:lnTo>
                                <a:lnTo>
                                  <a:pt x="206" y="116"/>
                                </a:lnTo>
                                <a:lnTo>
                                  <a:pt x="213" y="120"/>
                                </a:lnTo>
                                <a:lnTo>
                                  <a:pt x="222" y="124"/>
                                </a:lnTo>
                                <a:lnTo>
                                  <a:pt x="232" y="129"/>
                                </a:lnTo>
                                <a:lnTo>
                                  <a:pt x="243" y="134"/>
                                </a:lnTo>
                                <a:lnTo>
                                  <a:pt x="256" y="139"/>
                                </a:lnTo>
                                <a:lnTo>
                                  <a:pt x="268" y="145"/>
                                </a:lnTo>
                                <a:lnTo>
                                  <a:pt x="282" y="150"/>
                                </a:lnTo>
                                <a:lnTo>
                                  <a:pt x="295" y="156"/>
                                </a:lnTo>
                                <a:lnTo>
                                  <a:pt x="309" y="161"/>
                                </a:lnTo>
                                <a:lnTo>
                                  <a:pt x="323" y="166"/>
                                </a:lnTo>
                                <a:lnTo>
                                  <a:pt x="336" y="171"/>
                                </a:lnTo>
                                <a:lnTo>
                                  <a:pt x="347" y="175"/>
                                </a:lnTo>
                                <a:lnTo>
                                  <a:pt x="359" y="180"/>
                                </a:lnTo>
                                <a:lnTo>
                                  <a:pt x="369" y="183"/>
                                </a:lnTo>
                                <a:lnTo>
                                  <a:pt x="378" y="18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1" name=""/>
                          <p:cNvSpPr/>
                          <p:nvPr/>
                        </p:nvSpPr>
                        <p:spPr>
                          <a:xfrm>
                            <a:off x="3499200" y="4889520"/>
                            <a:ext cx="76680" cy="50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2" h="678">
                                <a:moveTo>
                                  <a:pt x="71" y="298"/>
                                </a:moveTo>
                                <a:lnTo>
                                  <a:pt x="80" y="286"/>
                                </a:lnTo>
                                <a:lnTo>
                                  <a:pt x="95" y="275"/>
                                </a:lnTo>
                                <a:lnTo>
                                  <a:pt x="116" y="266"/>
                                </a:lnTo>
                                <a:lnTo>
                                  <a:pt x="142" y="257"/>
                                </a:lnTo>
                                <a:lnTo>
                                  <a:pt x="172" y="250"/>
                                </a:lnTo>
                                <a:lnTo>
                                  <a:pt x="206" y="244"/>
                                </a:lnTo>
                                <a:lnTo>
                                  <a:pt x="241" y="238"/>
                                </a:lnTo>
                                <a:lnTo>
                                  <a:pt x="279" y="233"/>
                                </a:lnTo>
                                <a:lnTo>
                                  <a:pt x="318" y="229"/>
                                </a:lnTo>
                                <a:lnTo>
                                  <a:pt x="356" y="224"/>
                                </a:lnTo>
                                <a:lnTo>
                                  <a:pt x="394" y="220"/>
                                </a:lnTo>
                                <a:lnTo>
                                  <a:pt x="431" y="217"/>
                                </a:lnTo>
                                <a:lnTo>
                                  <a:pt x="465" y="212"/>
                                </a:lnTo>
                                <a:lnTo>
                                  <a:pt x="495" y="207"/>
                                </a:lnTo>
                                <a:lnTo>
                                  <a:pt x="521" y="201"/>
                                </a:lnTo>
                                <a:lnTo>
                                  <a:pt x="543" y="196"/>
                                </a:lnTo>
                                <a:lnTo>
                                  <a:pt x="557" y="191"/>
                                </a:lnTo>
                                <a:lnTo>
                                  <a:pt x="572" y="183"/>
                                </a:lnTo>
                                <a:lnTo>
                                  <a:pt x="590" y="174"/>
                                </a:lnTo>
                                <a:lnTo>
                                  <a:pt x="607" y="164"/>
                                </a:lnTo>
                                <a:lnTo>
                                  <a:pt x="624" y="153"/>
                                </a:lnTo>
                                <a:lnTo>
                                  <a:pt x="644" y="141"/>
                                </a:lnTo>
                                <a:lnTo>
                                  <a:pt x="662" y="128"/>
                                </a:lnTo>
                                <a:lnTo>
                                  <a:pt x="682" y="113"/>
                                </a:lnTo>
                                <a:lnTo>
                                  <a:pt x="700" y="99"/>
                                </a:lnTo>
                                <a:lnTo>
                                  <a:pt x="720" y="85"/>
                                </a:lnTo>
                                <a:lnTo>
                                  <a:pt x="738" y="70"/>
                                </a:lnTo>
                                <a:lnTo>
                                  <a:pt x="757" y="56"/>
                                </a:lnTo>
                                <a:lnTo>
                                  <a:pt x="774" y="40"/>
                                </a:lnTo>
                                <a:lnTo>
                                  <a:pt x="791" y="26"/>
                                </a:lnTo>
                                <a:lnTo>
                                  <a:pt x="806" y="13"/>
                                </a:lnTo>
                                <a:lnTo>
                                  <a:pt x="822" y="0"/>
                                </a:lnTo>
                                <a:lnTo>
                                  <a:pt x="804" y="11"/>
                                </a:lnTo>
                                <a:lnTo>
                                  <a:pt x="786" y="23"/>
                                </a:lnTo>
                                <a:lnTo>
                                  <a:pt x="767" y="34"/>
                                </a:lnTo>
                                <a:lnTo>
                                  <a:pt x="748" y="46"/>
                                </a:lnTo>
                                <a:lnTo>
                                  <a:pt x="728" y="57"/>
                                </a:lnTo>
                                <a:lnTo>
                                  <a:pt x="709" y="68"/>
                                </a:lnTo>
                                <a:lnTo>
                                  <a:pt x="689" y="79"/>
                                </a:lnTo>
                                <a:lnTo>
                                  <a:pt x="670" y="88"/>
                                </a:lnTo>
                                <a:lnTo>
                                  <a:pt x="651" y="98"/>
                                </a:lnTo>
                                <a:lnTo>
                                  <a:pt x="632" y="108"/>
                                </a:lnTo>
                                <a:lnTo>
                                  <a:pt x="613" y="116"/>
                                </a:lnTo>
                                <a:lnTo>
                                  <a:pt x="596" y="123"/>
                                </a:lnTo>
                                <a:lnTo>
                                  <a:pt x="579" y="130"/>
                                </a:lnTo>
                                <a:lnTo>
                                  <a:pt x="564" y="135"/>
                                </a:lnTo>
                                <a:lnTo>
                                  <a:pt x="548" y="139"/>
                                </a:lnTo>
                                <a:lnTo>
                                  <a:pt x="534" y="143"/>
                                </a:lnTo>
                                <a:lnTo>
                                  <a:pt x="510" y="146"/>
                                </a:lnTo>
                                <a:lnTo>
                                  <a:pt x="481" y="148"/>
                                </a:lnTo>
                                <a:lnTo>
                                  <a:pt x="446" y="149"/>
                                </a:lnTo>
                                <a:lnTo>
                                  <a:pt x="410" y="149"/>
                                </a:lnTo>
                                <a:lnTo>
                                  <a:pt x="369" y="149"/>
                                </a:lnTo>
                                <a:lnTo>
                                  <a:pt x="327" y="148"/>
                                </a:lnTo>
                                <a:lnTo>
                                  <a:pt x="285" y="148"/>
                                </a:lnTo>
                                <a:lnTo>
                                  <a:pt x="243" y="147"/>
                                </a:lnTo>
                                <a:lnTo>
                                  <a:pt x="200" y="147"/>
                                </a:lnTo>
                                <a:lnTo>
                                  <a:pt x="160" y="148"/>
                                </a:lnTo>
                                <a:lnTo>
                                  <a:pt x="123" y="151"/>
                                </a:lnTo>
                                <a:lnTo>
                                  <a:pt x="89" y="155"/>
                                </a:lnTo>
                                <a:lnTo>
                                  <a:pt x="59" y="160"/>
                                </a:lnTo>
                                <a:lnTo>
                                  <a:pt x="35" y="168"/>
                                </a:lnTo>
                                <a:lnTo>
                                  <a:pt x="17" y="178"/>
                                </a:lnTo>
                                <a:lnTo>
                                  <a:pt x="6" y="189"/>
                                </a:lnTo>
                                <a:lnTo>
                                  <a:pt x="1" y="206"/>
                                </a:lnTo>
                                <a:lnTo>
                                  <a:pt x="0" y="228"/>
                                </a:lnTo>
                                <a:lnTo>
                                  <a:pt x="2" y="254"/>
                                </a:lnTo>
                                <a:lnTo>
                                  <a:pt x="7" y="284"/>
                                </a:lnTo>
                                <a:lnTo>
                                  <a:pt x="15" y="317"/>
                                </a:lnTo>
                                <a:lnTo>
                                  <a:pt x="26" y="353"/>
                                </a:lnTo>
                                <a:lnTo>
                                  <a:pt x="39" y="390"/>
                                </a:lnTo>
                                <a:lnTo>
                                  <a:pt x="53" y="427"/>
                                </a:lnTo>
                                <a:lnTo>
                                  <a:pt x="69" y="465"/>
                                </a:lnTo>
                                <a:lnTo>
                                  <a:pt x="87" y="501"/>
                                </a:lnTo>
                                <a:lnTo>
                                  <a:pt x="106" y="536"/>
                                </a:lnTo>
                                <a:lnTo>
                                  <a:pt x="125" y="568"/>
                                </a:lnTo>
                                <a:lnTo>
                                  <a:pt x="146" y="598"/>
                                </a:lnTo>
                                <a:lnTo>
                                  <a:pt x="167" y="623"/>
                                </a:lnTo>
                                <a:lnTo>
                                  <a:pt x="187" y="644"/>
                                </a:lnTo>
                                <a:lnTo>
                                  <a:pt x="208" y="659"/>
                                </a:lnTo>
                                <a:lnTo>
                                  <a:pt x="213" y="663"/>
                                </a:lnTo>
                                <a:lnTo>
                                  <a:pt x="219" y="665"/>
                                </a:lnTo>
                                <a:lnTo>
                                  <a:pt x="225" y="667"/>
                                </a:lnTo>
                                <a:lnTo>
                                  <a:pt x="232" y="669"/>
                                </a:lnTo>
                                <a:lnTo>
                                  <a:pt x="238" y="671"/>
                                </a:lnTo>
                                <a:lnTo>
                                  <a:pt x="246" y="673"/>
                                </a:lnTo>
                                <a:lnTo>
                                  <a:pt x="253" y="676"/>
                                </a:lnTo>
                                <a:lnTo>
                                  <a:pt x="262" y="678"/>
                                </a:lnTo>
                                <a:lnTo>
                                  <a:pt x="244" y="659"/>
                                </a:lnTo>
                                <a:lnTo>
                                  <a:pt x="224" y="638"/>
                                </a:lnTo>
                                <a:lnTo>
                                  <a:pt x="206" y="614"/>
                                </a:lnTo>
                                <a:lnTo>
                                  <a:pt x="187" y="589"/>
                                </a:lnTo>
                                <a:lnTo>
                                  <a:pt x="170" y="561"/>
                                </a:lnTo>
                                <a:lnTo>
                                  <a:pt x="153" y="534"/>
                                </a:lnTo>
                                <a:lnTo>
                                  <a:pt x="136" y="506"/>
                                </a:lnTo>
                                <a:lnTo>
                                  <a:pt x="121" y="477"/>
                                </a:lnTo>
                                <a:lnTo>
                                  <a:pt x="108" y="448"/>
                                </a:lnTo>
                                <a:lnTo>
                                  <a:pt x="96" y="421"/>
                                </a:lnTo>
                                <a:lnTo>
                                  <a:pt x="86" y="395"/>
                                </a:lnTo>
                                <a:lnTo>
                                  <a:pt x="78" y="371"/>
                                </a:lnTo>
                                <a:lnTo>
                                  <a:pt x="72" y="348"/>
                                </a:lnTo>
                                <a:lnTo>
                                  <a:pt x="69" y="329"/>
                                </a:lnTo>
                                <a:lnTo>
                                  <a:pt x="69" y="311"/>
                                </a:lnTo>
                                <a:lnTo>
                                  <a:pt x="71" y="29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00" bIns="3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2" name=""/>
                          <p:cNvSpPr/>
                          <p:nvPr/>
                        </p:nvSpPr>
                        <p:spPr>
                          <a:xfrm>
                            <a:off x="3569040" y="4899960"/>
                            <a:ext cx="67320" cy="3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5" h="524">
                                <a:moveTo>
                                  <a:pt x="719" y="48"/>
                                </a:moveTo>
                                <a:lnTo>
                                  <a:pt x="713" y="42"/>
                                </a:lnTo>
                                <a:lnTo>
                                  <a:pt x="705" y="35"/>
                                </a:lnTo>
                                <a:lnTo>
                                  <a:pt x="696" y="29"/>
                                </a:lnTo>
                                <a:lnTo>
                                  <a:pt x="688" y="23"/>
                                </a:lnTo>
                                <a:lnTo>
                                  <a:pt x="679" y="17"/>
                                </a:lnTo>
                                <a:lnTo>
                                  <a:pt x="668" y="11"/>
                                </a:lnTo>
                                <a:lnTo>
                                  <a:pt x="658" y="6"/>
                                </a:lnTo>
                                <a:lnTo>
                                  <a:pt x="648" y="0"/>
                                </a:lnTo>
                                <a:lnTo>
                                  <a:pt x="647" y="18"/>
                                </a:lnTo>
                                <a:lnTo>
                                  <a:pt x="638" y="40"/>
                                </a:lnTo>
                                <a:lnTo>
                                  <a:pt x="620" y="66"/>
                                </a:lnTo>
                                <a:lnTo>
                                  <a:pt x="598" y="95"/>
                                </a:lnTo>
                                <a:lnTo>
                                  <a:pt x="570" y="127"/>
                                </a:lnTo>
                                <a:lnTo>
                                  <a:pt x="537" y="160"/>
                                </a:lnTo>
                                <a:lnTo>
                                  <a:pt x="501" y="195"/>
                                </a:lnTo>
                                <a:lnTo>
                                  <a:pt x="463" y="231"/>
                                </a:lnTo>
                                <a:lnTo>
                                  <a:pt x="423" y="267"/>
                                </a:lnTo>
                                <a:lnTo>
                                  <a:pt x="384" y="301"/>
                                </a:lnTo>
                                <a:lnTo>
                                  <a:pt x="346" y="333"/>
                                </a:lnTo>
                                <a:lnTo>
                                  <a:pt x="309" y="364"/>
                                </a:lnTo>
                                <a:lnTo>
                                  <a:pt x="276" y="392"/>
                                </a:lnTo>
                                <a:lnTo>
                                  <a:pt x="246" y="415"/>
                                </a:lnTo>
                                <a:lnTo>
                                  <a:pt x="221" y="434"/>
                                </a:lnTo>
                                <a:lnTo>
                                  <a:pt x="203" y="448"/>
                                </a:lnTo>
                                <a:lnTo>
                                  <a:pt x="196" y="453"/>
                                </a:lnTo>
                                <a:lnTo>
                                  <a:pt x="189" y="457"/>
                                </a:lnTo>
                                <a:lnTo>
                                  <a:pt x="181" y="462"/>
                                </a:lnTo>
                                <a:lnTo>
                                  <a:pt x="172" y="466"/>
                                </a:lnTo>
                                <a:lnTo>
                                  <a:pt x="162" y="470"/>
                                </a:lnTo>
                                <a:lnTo>
                                  <a:pt x="150" y="476"/>
                                </a:lnTo>
                                <a:lnTo>
                                  <a:pt x="138" y="480"/>
                                </a:lnTo>
                                <a:lnTo>
                                  <a:pt x="125" y="484"/>
                                </a:lnTo>
                                <a:lnTo>
                                  <a:pt x="112" y="490"/>
                                </a:lnTo>
                                <a:lnTo>
                                  <a:pt x="98" y="494"/>
                                </a:lnTo>
                                <a:lnTo>
                                  <a:pt x="83" y="500"/>
                                </a:lnTo>
                                <a:lnTo>
                                  <a:pt x="67" y="504"/>
                                </a:lnTo>
                                <a:lnTo>
                                  <a:pt x="51" y="509"/>
                                </a:lnTo>
                                <a:lnTo>
                                  <a:pt x="35" y="514"/>
                                </a:lnTo>
                                <a:lnTo>
                                  <a:pt x="18" y="519"/>
                                </a:lnTo>
                                <a:lnTo>
                                  <a:pt x="0" y="524"/>
                                </a:lnTo>
                                <a:lnTo>
                                  <a:pt x="15" y="521"/>
                                </a:lnTo>
                                <a:lnTo>
                                  <a:pt x="29" y="518"/>
                                </a:lnTo>
                                <a:lnTo>
                                  <a:pt x="45" y="516"/>
                                </a:lnTo>
                                <a:lnTo>
                                  <a:pt x="58" y="513"/>
                                </a:lnTo>
                                <a:lnTo>
                                  <a:pt x="72" y="510"/>
                                </a:lnTo>
                                <a:lnTo>
                                  <a:pt x="85" y="507"/>
                                </a:lnTo>
                                <a:lnTo>
                                  <a:pt x="97" y="505"/>
                                </a:lnTo>
                                <a:lnTo>
                                  <a:pt x="109" y="502"/>
                                </a:lnTo>
                                <a:lnTo>
                                  <a:pt x="119" y="498"/>
                                </a:lnTo>
                                <a:lnTo>
                                  <a:pt x="130" y="496"/>
                                </a:lnTo>
                                <a:lnTo>
                                  <a:pt x="140" y="493"/>
                                </a:lnTo>
                                <a:lnTo>
                                  <a:pt x="150" y="490"/>
                                </a:lnTo>
                                <a:lnTo>
                                  <a:pt x="157" y="487"/>
                                </a:lnTo>
                                <a:lnTo>
                                  <a:pt x="165" y="484"/>
                                </a:lnTo>
                                <a:lnTo>
                                  <a:pt x="173" y="481"/>
                                </a:lnTo>
                                <a:lnTo>
                                  <a:pt x="178" y="478"/>
                                </a:lnTo>
                                <a:lnTo>
                                  <a:pt x="202" y="465"/>
                                </a:lnTo>
                                <a:lnTo>
                                  <a:pt x="233" y="446"/>
                                </a:lnTo>
                                <a:lnTo>
                                  <a:pt x="271" y="423"/>
                                </a:lnTo>
                                <a:lnTo>
                                  <a:pt x="314" y="397"/>
                                </a:lnTo>
                                <a:lnTo>
                                  <a:pt x="361" y="368"/>
                                </a:lnTo>
                                <a:lnTo>
                                  <a:pt x="410" y="336"/>
                                </a:lnTo>
                                <a:lnTo>
                                  <a:pt x="460" y="303"/>
                                </a:lnTo>
                                <a:lnTo>
                                  <a:pt x="510" y="268"/>
                                </a:lnTo>
                                <a:lnTo>
                                  <a:pt x="558" y="234"/>
                                </a:lnTo>
                                <a:lnTo>
                                  <a:pt x="602" y="199"/>
                                </a:lnTo>
                                <a:lnTo>
                                  <a:pt x="642" y="167"/>
                                </a:lnTo>
                                <a:lnTo>
                                  <a:pt x="676" y="136"/>
                                </a:lnTo>
                                <a:lnTo>
                                  <a:pt x="701" y="109"/>
                                </a:lnTo>
                                <a:lnTo>
                                  <a:pt x="718" y="84"/>
                                </a:lnTo>
                                <a:lnTo>
                                  <a:pt x="725" y="63"/>
                                </a:lnTo>
                                <a:lnTo>
                                  <a:pt x="719" y="4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920" bIns="-7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3" name=""/>
                          <p:cNvSpPr/>
                          <p:nvPr/>
                        </p:nvSpPr>
                        <p:spPr>
                          <a:xfrm>
                            <a:off x="3523680" y="4938840"/>
                            <a:ext cx="45000" cy="5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9" h="82">
                                <a:moveTo>
                                  <a:pt x="0" y="16"/>
                                </a:moveTo>
                                <a:lnTo>
                                  <a:pt x="8" y="22"/>
                                </a:lnTo>
                                <a:lnTo>
                                  <a:pt x="17" y="30"/>
                                </a:lnTo>
                                <a:lnTo>
                                  <a:pt x="28" y="39"/>
                                </a:lnTo>
                                <a:lnTo>
                                  <a:pt x="41" y="47"/>
                                </a:lnTo>
                                <a:lnTo>
                                  <a:pt x="53" y="56"/>
                                </a:lnTo>
                                <a:lnTo>
                                  <a:pt x="64" y="64"/>
                                </a:lnTo>
                                <a:lnTo>
                                  <a:pt x="74" y="70"/>
                                </a:lnTo>
                                <a:lnTo>
                                  <a:pt x="80" y="73"/>
                                </a:lnTo>
                                <a:lnTo>
                                  <a:pt x="94" y="78"/>
                                </a:lnTo>
                                <a:lnTo>
                                  <a:pt x="111" y="81"/>
                                </a:lnTo>
                                <a:lnTo>
                                  <a:pt x="129" y="82"/>
                                </a:lnTo>
                                <a:lnTo>
                                  <a:pt x="150" y="81"/>
                                </a:lnTo>
                                <a:lnTo>
                                  <a:pt x="171" y="79"/>
                                </a:lnTo>
                                <a:lnTo>
                                  <a:pt x="195" y="76"/>
                                </a:lnTo>
                                <a:lnTo>
                                  <a:pt x="221" y="71"/>
                                </a:lnTo>
                                <a:lnTo>
                                  <a:pt x="248" y="65"/>
                                </a:lnTo>
                                <a:lnTo>
                                  <a:pt x="277" y="58"/>
                                </a:lnTo>
                                <a:lnTo>
                                  <a:pt x="305" y="51"/>
                                </a:lnTo>
                                <a:lnTo>
                                  <a:pt x="335" y="43"/>
                                </a:lnTo>
                                <a:lnTo>
                                  <a:pt x="366" y="34"/>
                                </a:lnTo>
                                <a:lnTo>
                                  <a:pt x="396" y="26"/>
                                </a:lnTo>
                                <a:lnTo>
                                  <a:pt x="427" y="17"/>
                                </a:lnTo>
                                <a:lnTo>
                                  <a:pt x="458" y="8"/>
                                </a:lnTo>
                                <a:lnTo>
                                  <a:pt x="489" y="0"/>
                                </a:lnTo>
                                <a:lnTo>
                                  <a:pt x="459" y="4"/>
                                </a:lnTo>
                                <a:lnTo>
                                  <a:pt x="427" y="8"/>
                                </a:lnTo>
                                <a:lnTo>
                                  <a:pt x="395" y="13"/>
                                </a:lnTo>
                                <a:lnTo>
                                  <a:pt x="362" y="16"/>
                                </a:lnTo>
                                <a:lnTo>
                                  <a:pt x="329" y="19"/>
                                </a:lnTo>
                                <a:lnTo>
                                  <a:pt x="295" y="21"/>
                                </a:lnTo>
                                <a:lnTo>
                                  <a:pt x="261" y="23"/>
                                </a:lnTo>
                                <a:lnTo>
                                  <a:pt x="228" y="26"/>
                                </a:lnTo>
                                <a:lnTo>
                                  <a:pt x="194" y="27"/>
                                </a:lnTo>
                                <a:lnTo>
                                  <a:pt x="163" y="27"/>
                                </a:lnTo>
                                <a:lnTo>
                                  <a:pt x="131" y="27"/>
                                </a:lnTo>
                                <a:lnTo>
                                  <a:pt x="102" y="26"/>
                                </a:lnTo>
                                <a:lnTo>
                                  <a:pt x="74" y="25"/>
                                </a:lnTo>
                                <a:lnTo>
                                  <a:pt x="47" y="22"/>
                                </a:lnTo>
                                <a:lnTo>
                                  <a:pt x="23" y="19"/>
                                </a:lnTo>
                                <a:lnTo>
                                  <a:pt x="0" y="1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4" name=""/>
                          <p:cNvSpPr/>
                          <p:nvPr/>
                        </p:nvSpPr>
                        <p:spPr>
                          <a:xfrm>
                            <a:off x="3512160" y="4829400"/>
                            <a:ext cx="7560" cy="4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" h="547">
                                <a:moveTo>
                                  <a:pt x="82" y="529"/>
                                </a:moveTo>
                                <a:lnTo>
                                  <a:pt x="0" y="0"/>
                                </a:lnTo>
                                <a:lnTo>
                                  <a:pt x="0" y="547"/>
                                </a:lnTo>
                                <a:lnTo>
                                  <a:pt x="82" y="52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480" bIns="-6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5" name=""/>
                          <p:cNvSpPr/>
                          <p:nvPr/>
                        </p:nvSpPr>
                        <p:spPr>
                          <a:xfrm>
                            <a:off x="3516120" y="4913280"/>
                            <a:ext cx="972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52">
                                <a:moveTo>
                                  <a:pt x="0" y="9"/>
                                </a:moveTo>
                                <a:lnTo>
                                  <a:pt x="19" y="52"/>
                                </a:lnTo>
                                <a:lnTo>
                                  <a:pt x="99" y="36"/>
                                </a:lnTo>
                                <a:lnTo>
                                  <a:pt x="76" y="0"/>
                                </a:lnTo>
                                <a:lnTo>
                                  <a:pt x="0" y="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6" name=""/>
                          <p:cNvSpPr/>
                          <p:nvPr/>
                        </p:nvSpPr>
                        <p:spPr>
                          <a:xfrm>
                            <a:off x="3528360" y="4911480"/>
                            <a:ext cx="900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52">
                                <a:moveTo>
                                  <a:pt x="0" y="9"/>
                                </a:moveTo>
                                <a:lnTo>
                                  <a:pt x="19" y="52"/>
                                </a:lnTo>
                                <a:lnTo>
                                  <a:pt x="99" y="35"/>
                                </a:lnTo>
                                <a:lnTo>
                                  <a:pt x="76" y="0"/>
                                </a:lnTo>
                                <a:lnTo>
                                  <a:pt x="0" y="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7" name=""/>
                          <p:cNvSpPr/>
                          <p:nvPr/>
                        </p:nvSpPr>
                        <p:spPr>
                          <a:xfrm>
                            <a:off x="3539880" y="4909320"/>
                            <a:ext cx="900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53">
                                <a:moveTo>
                                  <a:pt x="0" y="9"/>
                                </a:moveTo>
                                <a:lnTo>
                                  <a:pt x="18" y="53"/>
                                </a:lnTo>
                                <a:lnTo>
                                  <a:pt x="99" y="36"/>
                                </a:lnTo>
                                <a:lnTo>
                                  <a:pt x="75" y="0"/>
                                </a:lnTo>
                                <a:lnTo>
                                  <a:pt x="0" y="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8" name=""/>
                          <p:cNvSpPr/>
                          <p:nvPr/>
                        </p:nvSpPr>
                        <p:spPr>
                          <a:xfrm>
                            <a:off x="3521520" y="4919760"/>
                            <a:ext cx="972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52">
                                <a:moveTo>
                                  <a:pt x="0" y="8"/>
                                </a:moveTo>
                                <a:lnTo>
                                  <a:pt x="19" y="52"/>
                                </a:lnTo>
                                <a:lnTo>
                                  <a:pt x="98" y="35"/>
                                </a:lnTo>
                                <a:lnTo>
                                  <a:pt x="76" y="0"/>
                                </a:lnTo>
                                <a:lnTo>
                                  <a:pt x="0" y="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9" name=""/>
                          <p:cNvSpPr/>
                          <p:nvPr/>
                        </p:nvSpPr>
                        <p:spPr>
                          <a:xfrm>
                            <a:off x="3533760" y="4918320"/>
                            <a:ext cx="82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0" h="52">
                                <a:moveTo>
                                  <a:pt x="0" y="8"/>
                                </a:moveTo>
                                <a:lnTo>
                                  <a:pt x="20" y="52"/>
                                </a:lnTo>
                                <a:lnTo>
                                  <a:pt x="100" y="35"/>
                                </a:lnTo>
                                <a:lnTo>
                                  <a:pt x="76" y="0"/>
                                </a:lnTo>
                                <a:lnTo>
                                  <a:pt x="0" y="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0" name=""/>
                          <p:cNvSpPr/>
                          <p:nvPr/>
                        </p:nvSpPr>
                        <p:spPr>
                          <a:xfrm>
                            <a:off x="3545280" y="4917240"/>
                            <a:ext cx="9000" cy="2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52">
                                <a:moveTo>
                                  <a:pt x="0" y="7"/>
                                </a:moveTo>
                                <a:lnTo>
                                  <a:pt x="19" y="52"/>
                                </a:lnTo>
                                <a:lnTo>
                                  <a:pt x="99" y="34"/>
                                </a:lnTo>
                                <a:lnTo>
                                  <a:pt x="75" y="0"/>
                                </a:lnTo>
                                <a:lnTo>
                                  <a:pt x="0" y="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1" name=""/>
                          <p:cNvSpPr/>
                          <p:nvPr/>
                        </p:nvSpPr>
                        <p:spPr>
                          <a:xfrm>
                            <a:off x="3526920" y="4927320"/>
                            <a:ext cx="9000" cy="2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52">
                                <a:moveTo>
                                  <a:pt x="0" y="8"/>
                                </a:moveTo>
                                <a:lnTo>
                                  <a:pt x="19" y="52"/>
                                </a:lnTo>
                                <a:lnTo>
                                  <a:pt x="99" y="36"/>
                                </a:lnTo>
                                <a:lnTo>
                                  <a:pt x="76" y="0"/>
                                </a:lnTo>
                                <a:lnTo>
                                  <a:pt x="0" y="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2" name=""/>
                          <p:cNvSpPr/>
                          <p:nvPr/>
                        </p:nvSpPr>
                        <p:spPr>
                          <a:xfrm>
                            <a:off x="3539160" y="4925520"/>
                            <a:ext cx="828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0" h="52">
                                <a:moveTo>
                                  <a:pt x="0" y="9"/>
                                </a:moveTo>
                                <a:lnTo>
                                  <a:pt x="20" y="52"/>
                                </a:lnTo>
                                <a:lnTo>
                                  <a:pt x="100" y="35"/>
                                </a:lnTo>
                                <a:lnTo>
                                  <a:pt x="76" y="0"/>
                                </a:lnTo>
                                <a:lnTo>
                                  <a:pt x="0" y="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3" name=""/>
                          <p:cNvSpPr/>
                          <p:nvPr/>
                        </p:nvSpPr>
                        <p:spPr>
                          <a:xfrm>
                            <a:off x="3550320" y="4923360"/>
                            <a:ext cx="900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52">
                                <a:moveTo>
                                  <a:pt x="0" y="9"/>
                                </a:moveTo>
                                <a:lnTo>
                                  <a:pt x="18" y="52"/>
                                </a:lnTo>
                                <a:lnTo>
                                  <a:pt x="98" y="36"/>
                                </a:lnTo>
                                <a:lnTo>
                                  <a:pt x="74" y="0"/>
                                </a:lnTo>
                                <a:lnTo>
                                  <a:pt x="0" y="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>
                            <a:off x="3555360" y="4906800"/>
                            <a:ext cx="9000" cy="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7" h="70">
                                <a:moveTo>
                                  <a:pt x="0" y="36"/>
                                </a:moveTo>
                                <a:lnTo>
                                  <a:pt x="33" y="70"/>
                                </a:lnTo>
                                <a:lnTo>
                                  <a:pt x="97" y="24"/>
                                </a:lnTo>
                                <a:lnTo>
                                  <a:pt x="63" y="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5" name=""/>
                          <p:cNvSpPr/>
                          <p:nvPr/>
                        </p:nvSpPr>
                        <p:spPr>
                          <a:xfrm>
                            <a:off x="3565080" y="4901760"/>
                            <a:ext cx="8280" cy="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72">
                                <a:moveTo>
                                  <a:pt x="0" y="37"/>
                                </a:moveTo>
                                <a:lnTo>
                                  <a:pt x="34" y="72"/>
                                </a:lnTo>
                                <a:lnTo>
                                  <a:pt x="99" y="25"/>
                                </a:lnTo>
                                <a:lnTo>
                                  <a:pt x="64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6" name=""/>
                          <p:cNvSpPr/>
                          <p:nvPr/>
                        </p:nvSpPr>
                        <p:spPr>
                          <a:xfrm>
                            <a:off x="3574440" y="4896360"/>
                            <a:ext cx="10080" cy="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72">
                                <a:moveTo>
                                  <a:pt x="0" y="37"/>
                                </a:moveTo>
                                <a:lnTo>
                                  <a:pt x="33" y="72"/>
                                </a:lnTo>
                                <a:lnTo>
                                  <a:pt x="99" y="24"/>
                                </a:lnTo>
                                <a:lnTo>
                                  <a:pt x="65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7" name=""/>
                          <p:cNvSpPr/>
                          <p:nvPr/>
                        </p:nvSpPr>
                        <p:spPr>
                          <a:xfrm>
                            <a:off x="3585960" y="4890240"/>
                            <a:ext cx="8280" cy="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5" h="76">
                                <a:moveTo>
                                  <a:pt x="0" y="45"/>
                                </a:moveTo>
                                <a:lnTo>
                                  <a:pt x="37" y="76"/>
                                </a:lnTo>
                                <a:lnTo>
                                  <a:pt x="95" y="19"/>
                                </a:lnTo>
                                <a:lnTo>
                                  <a:pt x="58" y="0"/>
                                </a:lnTo>
                                <a:lnTo>
                                  <a:pt x="0" y="4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8" name=""/>
                          <p:cNvSpPr/>
                          <p:nvPr/>
                        </p:nvSpPr>
                        <p:spPr>
                          <a:xfrm>
                            <a:off x="3593520" y="4895280"/>
                            <a:ext cx="8280" cy="5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" h="76">
                                <a:moveTo>
                                  <a:pt x="0" y="46"/>
                                </a:moveTo>
                                <a:lnTo>
                                  <a:pt x="38" y="76"/>
                                </a:lnTo>
                                <a:lnTo>
                                  <a:pt x="96" y="20"/>
                                </a:lnTo>
                                <a:lnTo>
                                  <a:pt x="59" y="0"/>
                                </a:lnTo>
                                <a:lnTo>
                                  <a:pt x="0" y="4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9" name=""/>
                          <p:cNvSpPr/>
                          <p:nvPr/>
                        </p:nvSpPr>
                        <p:spPr>
                          <a:xfrm>
                            <a:off x="3601440" y="4900320"/>
                            <a:ext cx="9000" cy="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" h="76">
                                <a:moveTo>
                                  <a:pt x="0" y="45"/>
                                </a:moveTo>
                                <a:lnTo>
                                  <a:pt x="38" y="76"/>
                                </a:lnTo>
                                <a:lnTo>
                                  <a:pt x="96" y="20"/>
                                </a:lnTo>
                                <a:lnTo>
                                  <a:pt x="59" y="0"/>
                                </a:lnTo>
                                <a:lnTo>
                                  <a:pt x="0" y="4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0" name=""/>
                          <p:cNvSpPr/>
                          <p:nvPr/>
                        </p:nvSpPr>
                        <p:spPr>
                          <a:xfrm>
                            <a:off x="3563640" y="4910760"/>
                            <a:ext cx="8280" cy="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71">
                                <a:moveTo>
                                  <a:pt x="0" y="37"/>
                                </a:moveTo>
                                <a:lnTo>
                                  <a:pt x="34" y="71"/>
                                </a:lnTo>
                                <a:lnTo>
                                  <a:pt x="99" y="25"/>
                                </a:lnTo>
                                <a:lnTo>
                                  <a:pt x="65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1" name=""/>
                          <p:cNvSpPr/>
                          <p:nvPr/>
                        </p:nvSpPr>
                        <p:spPr>
                          <a:xfrm>
                            <a:off x="3571920" y="4906800"/>
                            <a:ext cx="972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72">
                                <a:moveTo>
                                  <a:pt x="0" y="37"/>
                                </a:moveTo>
                                <a:lnTo>
                                  <a:pt x="34" y="72"/>
                                </a:lnTo>
                                <a:lnTo>
                                  <a:pt x="99" y="24"/>
                                </a:lnTo>
                                <a:lnTo>
                                  <a:pt x="64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2" name=""/>
                          <p:cNvSpPr/>
                          <p:nvPr/>
                        </p:nvSpPr>
                        <p:spPr>
                          <a:xfrm>
                            <a:off x="3582720" y="4901040"/>
                            <a:ext cx="9000" cy="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72">
                                <a:moveTo>
                                  <a:pt x="0" y="37"/>
                                </a:moveTo>
                                <a:lnTo>
                                  <a:pt x="34" y="72"/>
                                </a:lnTo>
                                <a:lnTo>
                                  <a:pt x="99" y="25"/>
                                </a:lnTo>
                                <a:lnTo>
                                  <a:pt x="64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3" name=""/>
                          <p:cNvSpPr/>
                          <p:nvPr/>
                        </p:nvSpPr>
                        <p:spPr>
                          <a:xfrm>
                            <a:off x="3570480" y="4916520"/>
                            <a:ext cx="9000" cy="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72">
                                <a:moveTo>
                                  <a:pt x="0" y="37"/>
                                </a:moveTo>
                                <a:lnTo>
                                  <a:pt x="33" y="72"/>
                                </a:lnTo>
                                <a:lnTo>
                                  <a:pt x="98" y="24"/>
                                </a:lnTo>
                                <a:lnTo>
                                  <a:pt x="65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4" name=""/>
                          <p:cNvSpPr/>
                          <p:nvPr/>
                        </p:nvSpPr>
                        <p:spPr>
                          <a:xfrm>
                            <a:off x="3580560" y="4911480"/>
                            <a:ext cx="9000" cy="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71">
                                <a:moveTo>
                                  <a:pt x="0" y="36"/>
                                </a:moveTo>
                                <a:lnTo>
                                  <a:pt x="33" y="71"/>
                                </a:lnTo>
                                <a:lnTo>
                                  <a:pt x="98" y="24"/>
                                </a:lnTo>
                                <a:lnTo>
                                  <a:pt x="64" y="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5" name=""/>
                          <p:cNvSpPr/>
                          <p:nvPr/>
                        </p:nvSpPr>
                        <p:spPr>
                          <a:xfrm>
                            <a:off x="3590640" y="4906800"/>
                            <a:ext cx="900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72">
                                <a:moveTo>
                                  <a:pt x="0" y="37"/>
                                </a:moveTo>
                                <a:lnTo>
                                  <a:pt x="34" y="72"/>
                                </a:lnTo>
                                <a:lnTo>
                                  <a:pt x="99" y="24"/>
                                </a:lnTo>
                                <a:lnTo>
                                  <a:pt x="64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6" name=""/>
                          <p:cNvSpPr/>
                          <p:nvPr/>
                        </p:nvSpPr>
                        <p:spPr>
                          <a:xfrm>
                            <a:off x="3533040" y="4907520"/>
                            <a:ext cx="8208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80" h="411">
                                <a:moveTo>
                                  <a:pt x="0" y="373"/>
                                </a:moveTo>
                                <a:lnTo>
                                  <a:pt x="38" y="411"/>
                                </a:lnTo>
                                <a:lnTo>
                                  <a:pt x="43" y="410"/>
                                </a:lnTo>
                                <a:lnTo>
                                  <a:pt x="57" y="406"/>
                                </a:lnTo>
                                <a:lnTo>
                                  <a:pt x="79" y="402"/>
                                </a:lnTo>
                                <a:lnTo>
                                  <a:pt x="108" y="395"/>
                                </a:lnTo>
                                <a:lnTo>
                                  <a:pt x="143" y="388"/>
                                </a:lnTo>
                                <a:lnTo>
                                  <a:pt x="183" y="379"/>
                                </a:lnTo>
                                <a:lnTo>
                                  <a:pt x="225" y="369"/>
                                </a:lnTo>
                                <a:lnTo>
                                  <a:pt x="270" y="360"/>
                                </a:lnTo>
                                <a:lnTo>
                                  <a:pt x="315" y="348"/>
                                </a:lnTo>
                                <a:lnTo>
                                  <a:pt x="361" y="337"/>
                                </a:lnTo>
                                <a:lnTo>
                                  <a:pt x="404" y="325"/>
                                </a:lnTo>
                                <a:lnTo>
                                  <a:pt x="445" y="313"/>
                                </a:lnTo>
                                <a:lnTo>
                                  <a:pt x="483" y="301"/>
                                </a:lnTo>
                                <a:lnTo>
                                  <a:pt x="515" y="290"/>
                                </a:lnTo>
                                <a:lnTo>
                                  <a:pt x="541" y="279"/>
                                </a:lnTo>
                                <a:lnTo>
                                  <a:pt x="559" y="269"/>
                                </a:lnTo>
                                <a:lnTo>
                                  <a:pt x="576" y="257"/>
                                </a:lnTo>
                                <a:lnTo>
                                  <a:pt x="595" y="243"/>
                                </a:lnTo>
                                <a:lnTo>
                                  <a:pt x="617" y="225"/>
                                </a:lnTo>
                                <a:lnTo>
                                  <a:pt x="642" y="205"/>
                                </a:lnTo>
                                <a:lnTo>
                                  <a:pt x="668" y="183"/>
                                </a:lnTo>
                                <a:lnTo>
                                  <a:pt x="694" y="160"/>
                                </a:lnTo>
                                <a:lnTo>
                                  <a:pt x="721" y="138"/>
                                </a:lnTo>
                                <a:lnTo>
                                  <a:pt x="748" y="115"/>
                                </a:lnTo>
                                <a:lnTo>
                                  <a:pt x="774" y="92"/>
                                </a:lnTo>
                                <a:lnTo>
                                  <a:pt x="799" y="71"/>
                                </a:lnTo>
                                <a:lnTo>
                                  <a:pt x="821" y="52"/>
                                </a:lnTo>
                                <a:lnTo>
                                  <a:pt x="841" y="34"/>
                                </a:lnTo>
                                <a:lnTo>
                                  <a:pt x="858" y="20"/>
                                </a:lnTo>
                                <a:lnTo>
                                  <a:pt x="870" y="9"/>
                                </a:lnTo>
                                <a:lnTo>
                                  <a:pt x="877" y="2"/>
                                </a:lnTo>
                                <a:lnTo>
                                  <a:pt x="880" y="0"/>
                                </a:lnTo>
                                <a:lnTo>
                                  <a:pt x="877" y="2"/>
                                </a:lnTo>
                                <a:lnTo>
                                  <a:pt x="867" y="8"/>
                                </a:lnTo>
                                <a:lnTo>
                                  <a:pt x="852" y="19"/>
                                </a:lnTo>
                                <a:lnTo>
                                  <a:pt x="833" y="33"/>
                                </a:lnTo>
                                <a:lnTo>
                                  <a:pt x="809" y="50"/>
                                </a:lnTo>
                                <a:lnTo>
                                  <a:pt x="783" y="68"/>
                                </a:lnTo>
                                <a:lnTo>
                                  <a:pt x="753" y="88"/>
                                </a:lnTo>
                                <a:lnTo>
                                  <a:pt x="723" y="108"/>
                                </a:lnTo>
                                <a:lnTo>
                                  <a:pt x="692" y="129"/>
                                </a:lnTo>
                                <a:lnTo>
                                  <a:pt x="660" y="150"/>
                                </a:lnTo>
                                <a:lnTo>
                                  <a:pt x="629" y="169"/>
                                </a:lnTo>
                                <a:lnTo>
                                  <a:pt x="599" y="187"/>
                                </a:lnTo>
                                <a:lnTo>
                                  <a:pt x="572" y="203"/>
                                </a:lnTo>
                                <a:lnTo>
                                  <a:pt x="549" y="216"/>
                                </a:lnTo>
                                <a:lnTo>
                                  <a:pt x="529" y="226"/>
                                </a:lnTo>
                                <a:lnTo>
                                  <a:pt x="513" y="231"/>
                                </a:lnTo>
                                <a:lnTo>
                                  <a:pt x="495" y="236"/>
                                </a:lnTo>
                                <a:lnTo>
                                  <a:pt x="470" y="242"/>
                                </a:lnTo>
                                <a:lnTo>
                                  <a:pt x="439" y="251"/>
                                </a:lnTo>
                                <a:lnTo>
                                  <a:pt x="402" y="261"/>
                                </a:lnTo>
                                <a:lnTo>
                                  <a:pt x="362" y="273"/>
                                </a:lnTo>
                                <a:lnTo>
                                  <a:pt x="319" y="284"/>
                                </a:lnTo>
                                <a:lnTo>
                                  <a:pt x="274" y="296"/>
                                </a:lnTo>
                                <a:lnTo>
                                  <a:pt x="230" y="308"/>
                                </a:lnTo>
                                <a:lnTo>
                                  <a:pt x="185" y="321"/>
                                </a:lnTo>
                                <a:lnTo>
                                  <a:pt x="143" y="332"/>
                                </a:lnTo>
                                <a:lnTo>
                                  <a:pt x="104" y="343"/>
                                </a:lnTo>
                                <a:lnTo>
                                  <a:pt x="70" y="353"/>
                                </a:lnTo>
                                <a:lnTo>
                                  <a:pt x="41" y="361"/>
                                </a:lnTo>
                                <a:lnTo>
                                  <a:pt x="19" y="367"/>
                                </a:lnTo>
                                <a:lnTo>
                                  <a:pt x="5" y="371"/>
                                </a:lnTo>
                                <a:lnTo>
                                  <a:pt x="0" y="37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7" name=""/>
                          <p:cNvSpPr/>
                          <p:nvPr/>
                        </p:nvSpPr>
                        <p:spPr>
                          <a:xfrm>
                            <a:off x="3516120" y="4874040"/>
                            <a:ext cx="55080" cy="15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89" h="220">
                                <a:moveTo>
                                  <a:pt x="489" y="0"/>
                                </a:moveTo>
                                <a:lnTo>
                                  <a:pt x="497" y="11"/>
                                </a:lnTo>
                                <a:lnTo>
                                  <a:pt x="501" y="22"/>
                                </a:lnTo>
                                <a:lnTo>
                                  <a:pt x="505" y="33"/>
                                </a:lnTo>
                                <a:lnTo>
                                  <a:pt x="506" y="44"/>
                                </a:lnTo>
                                <a:lnTo>
                                  <a:pt x="503" y="57"/>
                                </a:lnTo>
                                <a:lnTo>
                                  <a:pt x="498" y="70"/>
                                </a:lnTo>
                                <a:lnTo>
                                  <a:pt x="490" y="82"/>
                                </a:lnTo>
                                <a:lnTo>
                                  <a:pt x="480" y="94"/>
                                </a:lnTo>
                                <a:lnTo>
                                  <a:pt x="467" y="105"/>
                                </a:lnTo>
                                <a:lnTo>
                                  <a:pt x="451" y="115"/>
                                </a:lnTo>
                                <a:lnTo>
                                  <a:pt x="434" y="124"/>
                                </a:lnTo>
                                <a:lnTo>
                                  <a:pt x="415" y="133"/>
                                </a:lnTo>
                                <a:lnTo>
                                  <a:pt x="393" y="141"/>
                                </a:lnTo>
                                <a:lnTo>
                                  <a:pt x="369" y="147"/>
                                </a:lnTo>
                                <a:lnTo>
                                  <a:pt x="344" y="153"/>
                                </a:lnTo>
                                <a:lnTo>
                                  <a:pt x="317" y="157"/>
                                </a:lnTo>
                                <a:lnTo>
                                  <a:pt x="289" y="160"/>
                                </a:lnTo>
                                <a:lnTo>
                                  <a:pt x="261" y="163"/>
                                </a:lnTo>
                                <a:lnTo>
                                  <a:pt x="230" y="164"/>
                                </a:lnTo>
                                <a:lnTo>
                                  <a:pt x="199" y="164"/>
                                </a:lnTo>
                                <a:lnTo>
                                  <a:pt x="185" y="163"/>
                                </a:lnTo>
                                <a:lnTo>
                                  <a:pt x="171" y="163"/>
                                </a:lnTo>
                                <a:lnTo>
                                  <a:pt x="156" y="161"/>
                                </a:lnTo>
                                <a:lnTo>
                                  <a:pt x="143" y="159"/>
                                </a:lnTo>
                                <a:lnTo>
                                  <a:pt x="129" y="158"/>
                                </a:lnTo>
                                <a:lnTo>
                                  <a:pt x="116" y="156"/>
                                </a:lnTo>
                                <a:lnTo>
                                  <a:pt x="103" y="154"/>
                                </a:lnTo>
                                <a:lnTo>
                                  <a:pt x="90" y="152"/>
                                </a:lnTo>
                                <a:lnTo>
                                  <a:pt x="78" y="149"/>
                                </a:lnTo>
                                <a:lnTo>
                                  <a:pt x="66" y="146"/>
                                </a:lnTo>
                                <a:lnTo>
                                  <a:pt x="54" y="144"/>
                                </a:lnTo>
                                <a:lnTo>
                                  <a:pt x="43" y="141"/>
                                </a:lnTo>
                                <a:lnTo>
                                  <a:pt x="32" y="136"/>
                                </a:lnTo>
                                <a:lnTo>
                                  <a:pt x="21" y="133"/>
                                </a:lnTo>
                                <a:lnTo>
                                  <a:pt x="10" y="130"/>
                                </a:lnTo>
                                <a:lnTo>
                                  <a:pt x="0" y="126"/>
                                </a:lnTo>
                                <a:lnTo>
                                  <a:pt x="9" y="135"/>
                                </a:lnTo>
                                <a:lnTo>
                                  <a:pt x="19" y="144"/>
                                </a:lnTo>
                                <a:lnTo>
                                  <a:pt x="30" y="153"/>
                                </a:lnTo>
                                <a:lnTo>
                                  <a:pt x="43" y="161"/>
                                </a:lnTo>
                                <a:lnTo>
                                  <a:pt x="57" y="169"/>
                                </a:lnTo>
                                <a:lnTo>
                                  <a:pt x="73" y="177"/>
                                </a:lnTo>
                                <a:lnTo>
                                  <a:pt x="89" y="184"/>
                                </a:lnTo>
                                <a:lnTo>
                                  <a:pt x="108" y="191"/>
                                </a:lnTo>
                                <a:lnTo>
                                  <a:pt x="126" y="196"/>
                                </a:lnTo>
                                <a:lnTo>
                                  <a:pt x="146" y="202"/>
                                </a:lnTo>
                                <a:lnTo>
                                  <a:pt x="167" y="207"/>
                                </a:lnTo>
                                <a:lnTo>
                                  <a:pt x="189" y="210"/>
                                </a:lnTo>
                                <a:lnTo>
                                  <a:pt x="211" y="215"/>
                                </a:lnTo>
                                <a:lnTo>
                                  <a:pt x="234" y="217"/>
                                </a:lnTo>
                                <a:lnTo>
                                  <a:pt x="258" y="219"/>
                                </a:lnTo>
                                <a:lnTo>
                                  <a:pt x="282" y="220"/>
                                </a:lnTo>
                                <a:lnTo>
                                  <a:pt x="314" y="220"/>
                                </a:lnTo>
                                <a:lnTo>
                                  <a:pt x="344" y="219"/>
                                </a:lnTo>
                                <a:lnTo>
                                  <a:pt x="372" y="217"/>
                                </a:lnTo>
                                <a:lnTo>
                                  <a:pt x="400" y="214"/>
                                </a:lnTo>
                                <a:lnTo>
                                  <a:pt x="428" y="209"/>
                                </a:lnTo>
                                <a:lnTo>
                                  <a:pt x="452" y="204"/>
                                </a:lnTo>
                                <a:lnTo>
                                  <a:pt x="476" y="197"/>
                                </a:lnTo>
                                <a:lnTo>
                                  <a:pt x="498" y="190"/>
                                </a:lnTo>
                                <a:lnTo>
                                  <a:pt x="518" y="181"/>
                                </a:lnTo>
                                <a:lnTo>
                                  <a:pt x="535" y="171"/>
                                </a:lnTo>
                                <a:lnTo>
                                  <a:pt x="550" y="161"/>
                                </a:lnTo>
                                <a:lnTo>
                                  <a:pt x="563" y="151"/>
                                </a:lnTo>
                                <a:lnTo>
                                  <a:pt x="574" y="139"/>
                                </a:lnTo>
                                <a:lnTo>
                                  <a:pt x="582" y="127"/>
                                </a:lnTo>
                                <a:lnTo>
                                  <a:pt x="587" y="114"/>
                                </a:lnTo>
                                <a:lnTo>
                                  <a:pt x="589" y="101"/>
                                </a:lnTo>
                                <a:lnTo>
                                  <a:pt x="588" y="86"/>
                                </a:lnTo>
                                <a:lnTo>
                                  <a:pt x="583" y="72"/>
                                </a:lnTo>
                                <a:lnTo>
                                  <a:pt x="574" y="59"/>
                                </a:lnTo>
                                <a:lnTo>
                                  <a:pt x="563" y="46"/>
                                </a:lnTo>
                                <a:lnTo>
                                  <a:pt x="548" y="33"/>
                                </a:lnTo>
                                <a:lnTo>
                                  <a:pt x="532" y="22"/>
                                </a:lnTo>
                                <a:lnTo>
                                  <a:pt x="511" y="10"/>
                                </a:lnTo>
                                <a:lnTo>
                                  <a:pt x="48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8" name=""/>
                          <p:cNvSpPr/>
                          <p:nvPr/>
                        </p:nvSpPr>
                        <p:spPr>
                          <a:xfrm>
                            <a:off x="3480120" y="4807440"/>
                            <a:ext cx="7560" cy="74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6" h="1015">
                                <a:moveTo>
                                  <a:pt x="76" y="1014"/>
                                </a:moveTo>
                                <a:lnTo>
                                  <a:pt x="3" y="0"/>
                                </a:lnTo>
                                <a:lnTo>
                                  <a:pt x="2" y="145"/>
                                </a:lnTo>
                                <a:lnTo>
                                  <a:pt x="0" y="467"/>
                                </a:lnTo>
                                <a:lnTo>
                                  <a:pt x="1" y="799"/>
                                </a:lnTo>
                                <a:lnTo>
                                  <a:pt x="9" y="973"/>
                                </a:lnTo>
                                <a:lnTo>
                                  <a:pt x="16" y="989"/>
                                </a:lnTo>
                                <a:lnTo>
                                  <a:pt x="26" y="1001"/>
                                </a:lnTo>
                                <a:lnTo>
                                  <a:pt x="37" y="1009"/>
                                </a:lnTo>
                                <a:lnTo>
                                  <a:pt x="49" y="1013"/>
                                </a:lnTo>
                                <a:lnTo>
                                  <a:pt x="59" y="1015"/>
                                </a:lnTo>
                                <a:lnTo>
                                  <a:pt x="67" y="1015"/>
                                </a:lnTo>
                                <a:lnTo>
                                  <a:pt x="74" y="1014"/>
                                </a:lnTo>
                                <a:lnTo>
                                  <a:pt x="76" y="101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9" name=""/>
                          <p:cNvSpPr/>
                          <p:nvPr/>
                        </p:nvSpPr>
                        <p:spPr>
                          <a:xfrm>
                            <a:off x="3453120" y="4893120"/>
                            <a:ext cx="64440" cy="4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5" h="556">
                                <a:moveTo>
                                  <a:pt x="377" y="555"/>
                                </a:moveTo>
                                <a:lnTo>
                                  <a:pt x="408" y="556"/>
                                </a:lnTo>
                                <a:lnTo>
                                  <a:pt x="438" y="555"/>
                                </a:lnTo>
                                <a:lnTo>
                                  <a:pt x="467" y="552"/>
                                </a:lnTo>
                                <a:lnTo>
                                  <a:pt x="495" y="548"/>
                                </a:lnTo>
                                <a:lnTo>
                                  <a:pt x="523" y="544"/>
                                </a:lnTo>
                                <a:lnTo>
                                  <a:pt x="548" y="539"/>
                                </a:lnTo>
                                <a:lnTo>
                                  <a:pt x="571" y="532"/>
                                </a:lnTo>
                                <a:lnTo>
                                  <a:pt x="593" y="527"/>
                                </a:lnTo>
                                <a:lnTo>
                                  <a:pt x="614" y="520"/>
                                </a:lnTo>
                                <a:lnTo>
                                  <a:pt x="631" y="514"/>
                                </a:lnTo>
                                <a:lnTo>
                                  <a:pt x="647" y="508"/>
                                </a:lnTo>
                                <a:lnTo>
                                  <a:pt x="660" y="503"/>
                                </a:lnTo>
                                <a:lnTo>
                                  <a:pt x="671" y="498"/>
                                </a:lnTo>
                                <a:lnTo>
                                  <a:pt x="679" y="495"/>
                                </a:lnTo>
                                <a:lnTo>
                                  <a:pt x="683" y="493"/>
                                </a:lnTo>
                                <a:lnTo>
                                  <a:pt x="685" y="492"/>
                                </a:lnTo>
                                <a:lnTo>
                                  <a:pt x="683" y="493"/>
                                </a:lnTo>
                                <a:lnTo>
                                  <a:pt x="677" y="495"/>
                                </a:lnTo>
                                <a:lnTo>
                                  <a:pt x="666" y="498"/>
                                </a:lnTo>
                                <a:lnTo>
                                  <a:pt x="652" y="503"/>
                                </a:lnTo>
                                <a:lnTo>
                                  <a:pt x="635" y="507"/>
                                </a:lnTo>
                                <a:lnTo>
                                  <a:pt x="615" y="513"/>
                                </a:lnTo>
                                <a:lnTo>
                                  <a:pt x="592" y="517"/>
                                </a:lnTo>
                                <a:lnTo>
                                  <a:pt x="566" y="521"/>
                                </a:lnTo>
                                <a:lnTo>
                                  <a:pt x="539" y="526"/>
                                </a:lnTo>
                                <a:lnTo>
                                  <a:pt x="510" y="528"/>
                                </a:lnTo>
                                <a:lnTo>
                                  <a:pt x="479" y="529"/>
                                </a:lnTo>
                                <a:lnTo>
                                  <a:pt x="447" y="529"/>
                                </a:lnTo>
                                <a:lnTo>
                                  <a:pt x="414" y="527"/>
                                </a:lnTo>
                                <a:lnTo>
                                  <a:pt x="381" y="521"/>
                                </a:lnTo>
                                <a:lnTo>
                                  <a:pt x="348" y="514"/>
                                </a:lnTo>
                                <a:lnTo>
                                  <a:pt x="314" y="504"/>
                                </a:lnTo>
                                <a:lnTo>
                                  <a:pt x="287" y="492"/>
                                </a:lnTo>
                                <a:lnTo>
                                  <a:pt x="270" y="481"/>
                                </a:lnTo>
                                <a:lnTo>
                                  <a:pt x="262" y="469"/>
                                </a:lnTo>
                                <a:lnTo>
                                  <a:pt x="262" y="458"/>
                                </a:lnTo>
                                <a:lnTo>
                                  <a:pt x="269" y="446"/>
                                </a:lnTo>
                                <a:lnTo>
                                  <a:pt x="281" y="434"/>
                                </a:lnTo>
                                <a:lnTo>
                                  <a:pt x="298" y="422"/>
                                </a:lnTo>
                                <a:lnTo>
                                  <a:pt x="318" y="410"/>
                                </a:lnTo>
                                <a:lnTo>
                                  <a:pt x="340" y="397"/>
                                </a:lnTo>
                                <a:lnTo>
                                  <a:pt x="363" y="383"/>
                                </a:lnTo>
                                <a:lnTo>
                                  <a:pt x="386" y="369"/>
                                </a:lnTo>
                                <a:lnTo>
                                  <a:pt x="407" y="354"/>
                                </a:lnTo>
                                <a:lnTo>
                                  <a:pt x="425" y="339"/>
                                </a:lnTo>
                                <a:lnTo>
                                  <a:pt x="440" y="321"/>
                                </a:lnTo>
                                <a:lnTo>
                                  <a:pt x="450" y="303"/>
                                </a:lnTo>
                                <a:lnTo>
                                  <a:pt x="453" y="283"/>
                                </a:lnTo>
                                <a:lnTo>
                                  <a:pt x="452" y="265"/>
                                </a:lnTo>
                                <a:lnTo>
                                  <a:pt x="449" y="250"/>
                                </a:lnTo>
                                <a:lnTo>
                                  <a:pt x="443" y="240"/>
                                </a:lnTo>
                                <a:lnTo>
                                  <a:pt x="436" y="231"/>
                                </a:lnTo>
                                <a:lnTo>
                                  <a:pt x="426" y="224"/>
                                </a:lnTo>
                                <a:lnTo>
                                  <a:pt x="414" y="220"/>
                                </a:lnTo>
                                <a:lnTo>
                                  <a:pt x="400" y="217"/>
                                </a:lnTo>
                                <a:lnTo>
                                  <a:pt x="384" y="215"/>
                                </a:lnTo>
                                <a:lnTo>
                                  <a:pt x="364" y="212"/>
                                </a:lnTo>
                                <a:lnTo>
                                  <a:pt x="343" y="211"/>
                                </a:lnTo>
                                <a:lnTo>
                                  <a:pt x="318" y="210"/>
                                </a:lnTo>
                                <a:lnTo>
                                  <a:pt x="292" y="208"/>
                                </a:lnTo>
                                <a:lnTo>
                                  <a:pt x="261" y="204"/>
                                </a:lnTo>
                                <a:lnTo>
                                  <a:pt x="230" y="199"/>
                                </a:lnTo>
                                <a:lnTo>
                                  <a:pt x="195" y="193"/>
                                </a:lnTo>
                                <a:lnTo>
                                  <a:pt x="157" y="183"/>
                                </a:lnTo>
                                <a:lnTo>
                                  <a:pt x="125" y="172"/>
                                </a:lnTo>
                                <a:lnTo>
                                  <a:pt x="104" y="159"/>
                                </a:lnTo>
                                <a:lnTo>
                                  <a:pt x="93" y="145"/>
                                </a:lnTo>
                                <a:lnTo>
                                  <a:pt x="91" y="131"/>
                                </a:lnTo>
                                <a:lnTo>
                                  <a:pt x="97" y="116"/>
                                </a:lnTo>
                                <a:lnTo>
                                  <a:pt x="111" y="100"/>
                                </a:lnTo>
                                <a:lnTo>
                                  <a:pt x="128" y="85"/>
                                </a:lnTo>
                                <a:lnTo>
                                  <a:pt x="148" y="70"/>
                                </a:lnTo>
                                <a:lnTo>
                                  <a:pt x="172" y="57"/>
                                </a:lnTo>
                                <a:lnTo>
                                  <a:pt x="197" y="43"/>
                                </a:lnTo>
                                <a:lnTo>
                                  <a:pt x="222" y="31"/>
                                </a:lnTo>
                                <a:lnTo>
                                  <a:pt x="245" y="21"/>
                                </a:lnTo>
                                <a:lnTo>
                                  <a:pt x="266" y="12"/>
                                </a:lnTo>
                                <a:lnTo>
                                  <a:pt x="282" y="6"/>
                                </a:lnTo>
                                <a:lnTo>
                                  <a:pt x="292" y="1"/>
                                </a:lnTo>
                                <a:lnTo>
                                  <a:pt x="296" y="0"/>
                                </a:lnTo>
                                <a:lnTo>
                                  <a:pt x="295" y="0"/>
                                </a:lnTo>
                                <a:lnTo>
                                  <a:pt x="291" y="1"/>
                                </a:lnTo>
                                <a:lnTo>
                                  <a:pt x="284" y="2"/>
                                </a:lnTo>
                                <a:lnTo>
                                  <a:pt x="275" y="4"/>
                                </a:lnTo>
                                <a:lnTo>
                                  <a:pt x="264" y="6"/>
                                </a:lnTo>
                                <a:lnTo>
                                  <a:pt x="251" y="8"/>
                                </a:lnTo>
                                <a:lnTo>
                                  <a:pt x="237" y="11"/>
                                </a:lnTo>
                                <a:lnTo>
                                  <a:pt x="222" y="14"/>
                                </a:lnTo>
                                <a:lnTo>
                                  <a:pt x="206" y="19"/>
                                </a:lnTo>
                                <a:lnTo>
                                  <a:pt x="189" y="23"/>
                                </a:lnTo>
                                <a:lnTo>
                                  <a:pt x="171" y="29"/>
                                </a:lnTo>
                                <a:lnTo>
                                  <a:pt x="153" y="34"/>
                                </a:lnTo>
                                <a:lnTo>
                                  <a:pt x="135" y="41"/>
                                </a:lnTo>
                                <a:lnTo>
                                  <a:pt x="117" y="47"/>
                                </a:lnTo>
                                <a:lnTo>
                                  <a:pt x="100" y="55"/>
                                </a:lnTo>
                                <a:lnTo>
                                  <a:pt x="82" y="63"/>
                                </a:lnTo>
                                <a:lnTo>
                                  <a:pt x="55" y="79"/>
                                </a:lnTo>
                                <a:lnTo>
                                  <a:pt x="32" y="96"/>
                                </a:lnTo>
                                <a:lnTo>
                                  <a:pt x="15" y="114"/>
                                </a:lnTo>
                                <a:lnTo>
                                  <a:pt x="3" y="133"/>
                                </a:lnTo>
                                <a:lnTo>
                                  <a:pt x="0" y="150"/>
                                </a:lnTo>
                                <a:lnTo>
                                  <a:pt x="5" y="167"/>
                                </a:lnTo>
                                <a:lnTo>
                                  <a:pt x="22" y="181"/>
                                </a:lnTo>
                                <a:lnTo>
                                  <a:pt x="51" y="193"/>
                                </a:lnTo>
                                <a:lnTo>
                                  <a:pt x="89" y="203"/>
                                </a:lnTo>
                                <a:lnTo>
                                  <a:pt x="124" y="209"/>
                                </a:lnTo>
                                <a:lnTo>
                                  <a:pt x="155" y="213"/>
                                </a:lnTo>
                                <a:lnTo>
                                  <a:pt x="185" y="218"/>
                                </a:lnTo>
                                <a:lnTo>
                                  <a:pt x="211" y="220"/>
                                </a:lnTo>
                                <a:lnTo>
                                  <a:pt x="236" y="221"/>
                                </a:lnTo>
                                <a:lnTo>
                                  <a:pt x="258" y="222"/>
                                </a:lnTo>
                                <a:lnTo>
                                  <a:pt x="278" y="224"/>
                                </a:lnTo>
                                <a:lnTo>
                                  <a:pt x="294" y="227"/>
                                </a:lnTo>
                                <a:lnTo>
                                  <a:pt x="308" y="230"/>
                                </a:lnTo>
                                <a:lnTo>
                                  <a:pt x="320" y="234"/>
                                </a:lnTo>
                                <a:lnTo>
                                  <a:pt x="330" y="241"/>
                                </a:lnTo>
                                <a:lnTo>
                                  <a:pt x="337" y="249"/>
                                </a:lnTo>
                                <a:lnTo>
                                  <a:pt x="343" y="260"/>
                                </a:lnTo>
                                <a:lnTo>
                                  <a:pt x="346" y="274"/>
                                </a:lnTo>
                                <a:lnTo>
                                  <a:pt x="347" y="293"/>
                                </a:lnTo>
                                <a:lnTo>
                                  <a:pt x="344" y="312"/>
                                </a:lnTo>
                                <a:lnTo>
                                  <a:pt x="335" y="329"/>
                                </a:lnTo>
                                <a:lnTo>
                                  <a:pt x="321" y="345"/>
                                </a:lnTo>
                                <a:lnTo>
                                  <a:pt x="304" y="359"/>
                                </a:lnTo>
                                <a:lnTo>
                                  <a:pt x="283" y="372"/>
                                </a:lnTo>
                                <a:lnTo>
                                  <a:pt x="261" y="384"/>
                                </a:lnTo>
                                <a:lnTo>
                                  <a:pt x="240" y="396"/>
                                </a:lnTo>
                                <a:lnTo>
                                  <a:pt x="219" y="407"/>
                                </a:lnTo>
                                <a:lnTo>
                                  <a:pt x="199" y="418"/>
                                </a:lnTo>
                                <a:lnTo>
                                  <a:pt x="183" y="429"/>
                                </a:lnTo>
                                <a:lnTo>
                                  <a:pt x="170" y="441"/>
                                </a:lnTo>
                                <a:lnTo>
                                  <a:pt x="164" y="453"/>
                                </a:lnTo>
                                <a:lnTo>
                                  <a:pt x="163" y="466"/>
                                </a:lnTo>
                                <a:lnTo>
                                  <a:pt x="169" y="480"/>
                                </a:lnTo>
                                <a:lnTo>
                                  <a:pt x="184" y="496"/>
                                </a:lnTo>
                                <a:lnTo>
                                  <a:pt x="208" y="514"/>
                                </a:lnTo>
                                <a:lnTo>
                                  <a:pt x="223" y="521"/>
                                </a:lnTo>
                                <a:lnTo>
                                  <a:pt x="243" y="529"/>
                                </a:lnTo>
                                <a:lnTo>
                                  <a:pt x="264" y="535"/>
                                </a:lnTo>
                                <a:lnTo>
                                  <a:pt x="288" y="542"/>
                                </a:lnTo>
                                <a:lnTo>
                                  <a:pt x="313" y="546"/>
                                </a:lnTo>
                                <a:lnTo>
                                  <a:pt x="337" y="551"/>
                                </a:lnTo>
                                <a:lnTo>
                                  <a:pt x="359" y="554"/>
                                </a:lnTo>
                                <a:lnTo>
                                  <a:pt x="377" y="55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760" bIns="-5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0" name=""/>
                          <p:cNvSpPr/>
                          <p:nvPr/>
                        </p:nvSpPr>
                        <p:spPr>
                          <a:xfrm>
                            <a:off x="3486240" y="4789080"/>
                            <a:ext cx="90360" cy="10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74" h="135">
                                <a:moveTo>
                                  <a:pt x="974" y="11"/>
                                </a:moveTo>
                                <a:lnTo>
                                  <a:pt x="0" y="135"/>
                                </a:lnTo>
                                <a:lnTo>
                                  <a:pt x="748" y="0"/>
                                </a:lnTo>
                                <a:lnTo>
                                  <a:pt x="974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1" name=""/>
                        <p:cNvGrpSpPr/>
                        <p:nvPr/>
                      </p:nvGrpSpPr>
                      <p:grpSpPr>
                        <a:xfrm>
                          <a:off x="3319560" y="4846320"/>
                          <a:ext cx="119880" cy="99720"/>
                          <a:chOff x="3319560" y="4846320"/>
                          <a:chExt cx="119880" cy="99720"/>
                        </a:xfrm>
                      </p:grpSpPr>
                      <p:sp>
                        <p:nvSpPr>
                          <p:cNvPr id="712" name=""/>
                          <p:cNvSpPr/>
                          <p:nvPr/>
                        </p:nvSpPr>
                        <p:spPr>
                          <a:xfrm>
                            <a:off x="3321000" y="4847400"/>
                            <a:ext cx="116280" cy="9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111" h="11112">
                                <a:moveTo>
                                  <a:pt x="0" y="5556"/>
                                </a:moveTo>
                                <a:lnTo>
                                  <a:pt x="8" y="5270"/>
                                </a:lnTo>
                                <a:lnTo>
                                  <a:pt x="29" y="4988"/>
                                </a:lnTo>
                                <a:lnTo>
                                  <a:pt x="65" y="4711"/>
                                </a:lnTo>
                                <a:lnTo>
                                  <a:pt x="113" y="4436"/>
                                </a:lnTo>
                                <a:lnTo>
                                  <a:pt x="175" y="4168"/>
                                </a:lnTo>
                                <a:lnTo>
                                  <a:pt x="250" y="3904"/>
                                </a:lnTo>
                                <a:lnTo>
                                  <a:pt x="337" y="3646"/>
                                </a:lnTo>
                                <a:lnTo>
                                  <a:pt x="437" y="3393"/>
                                </a:lnTo>
                                <a:lnTo>
                                  <a:pt x="548" y="3147"/>
                                </a:lnTo>
                                <a:lnTo>
                                  <a:pt x="671" y="2908"/>
                                </a:lnTo>
                                <a:lnTo>
                                  <a:pt x="805" y="2675"/>
                                </a:lnTo>
                                <a:lnTo>
                                  <a:pt x="949" y="2450"/>
                                </a:lnTo>
                                <a:lnTo>
                                  <a:pt x="1104" y="2232"/>
                                </a:lnTo>
                                <a:lnTo>
                                  <a:pt x="1269" y="2022"/>
                                </a:lnTo>
                                <a:lnTo>
                                  <a:pt x="1444" y="1821"/>
                                </a:lnTo>
                                <a:lnTo>
                                  <a:pt x="1627" y="1628"/>
                                </a:lnTo>
                                <a:lnTo>
                                  <a:pt x="1821" y="1444"/>
                                </a:lnTo>
                                <a:lnTo>
                                  <a:pt x="2022" y="1269"/>
                                </a:lnTo>
                                <a:lnTo>
                                  <a:pt x="2232" y="1104"/>
                                </a:lnTo>
                                <a:lnTo>
                                  <a:pt x="2449" y="949"/>
                                </a:lnTo>
                                <a:lnTo>
                                  <a:pt x="2675" y="805"/>
                                </a:lnTo>
                                <a:lnTo>
                                  <a:pt x="2908" y="672"/>
                                </a:lnTo>
                                <a:lnTo>
                                  <a:pt x="3147" y="548"/>
                                </a:lnTo>
                                <a:lnTo>
                                  <a:pt x="3393" y="438"/>
                                </a:lnTo>
                                <a:lnTo>
                                  <a:pt x="3646" y="338"/>
                                </a:lnTo>
                                <a:lnTo>
                                  <a:pt x="3903" y="251"/>
                                </a:lnTo>
                                <a:lnTo>
                                  <a:pt x="4168" y="176"/>
                                </a:lnTo>
                                <a:lnTo>
                                  <a:pt x="4436" y="114"/>
                                </a:lnTo>
                                <a:lnTo>
                                  <a:pt x="4709" y="65"/>
                                </a:lnTo>
                                <a:lnTo>
                                  <a:pt x="4988" y="30"/>
                                </a:lnTo>
                                <a:lnTo>
                                  <a:pt x="5270" y="8"/>
                                </a:lnTo>
                                <a:lnTo>
                                  <a:pt x="5556" y="0"/>
                                </a:lnTo>
                                <a:lnTo>
                                  <a:pt x="5841" y="8"/>
                                </a:lnTo>
                                <a:lnTo>
                                  <a:pt x="6124" y="30"/>
                                </a:lnTo>
                                <a:lnTo>
                                  <a:pt x="6402" y="65"/>
                                </a:lnTo>
                                <a:lnTo>
                                  <a:pt x="6675" y="114"/>
                                </a:lnTo>
                                <a:lnTo>
                                  <a:pt x="6944" y="176"/>
                                </a:lnTo>
                                <a:lnTo>
                                  <a:pt x="7208" y="251"/>
                                </a:lnTo>
                                <a:lnTo>
                                  <a:pt x="7466" y="338"/>
                                </a:lnTo>
                                <a:lnTo>
                                  <a:pt x="7718" y="438"/>
                                </a:lnTo>
                                <a:lnTo>
                                  <a:pt x="7964" y="548"/>
                                </a:lnTo>
                                <a:lnTo>
                                  <a:pt x="8203" y="672"/>
                                </a:lnTo>
                                <a:lnTo>
                                  <a:pt x="8436" y="805"/>
                                </a:lnTo>
                                <a:lnTo>
                                  <a:pt x="8662" y="949"/>
                                </a:lnTo>
                                <a:lnTo>
                                  <a:pt x="8880" y="1104"/>
                                </a:lnTo>
                                <a:lnTo>
                                  <a:pt x="9089" y="1269"/>
                                </a:lnTo>
                                <a:lnTo>
                                  <a:pt x="9291" y="1444"/>
                                </a:lnTo>
                                <a:lnTo>
                                  <a:pt x="9484" y="1628"/>
                                </a:lnTo>
                                <a:lnTo>
                                  <a:pt x="9667" y="1821"/>
                                </a:lnTo>
                                <a:lnTo>
                                  <a:pt x="9843" y="2022"/>
                                </a:lnTo>
                                <a:lnTo>
                                  <a:pt x="10008" y="2232"/>
                                </a:lnTo>
                                <a:lnTo>
                                  <a:pt x="10163" y="2450"/>
                                </a:lnTo>
                                <a:lnTo>
                                  <a:pt x="10306" y="2675"/>
                                </a:lnTo>
                                <a:lnTo>
                                  <a:pt x="10441" y="2908"/>
                                </a:lnTo>
                                <a:lnTo>
                                  <a:pt x="10563" y="3147"/>
                                </a:lnTo>
                                <a:lnTo>
                                  <a:pt x="10675" y="3393"/>
                                </a:lnTo>
                                <a:lnTo>
                                  <a:pt x="10774" y="3646"/>
                                </a:lnTo>
                                <a:lnTo>
                                  <a:pt x="10861" y="3904"/>
                                </a:lnTo>
                                <a:lnTo>
                                  <a:pt x="10936" y="4168"/>
                                </a:lnTo>
                                <a:lnTo>
                                  <a:pt x="10998" y="4436"/>
                                </a:lnTo>
                                <a:lnTo>
                                  <a:pt x="11047" y="4711"/>
                                </a:lnTo>
                                <a:lnTo>
                                  <a:pt x="11082" y="4988"/>
                                </a:lnTo>
                                <a:lnTo>
                                  <a:pt x="11104" y="5270"/>
                                </a:lnTo>
                                <a:lnTo>
                                  <a:pt x="11111" y="5556"/>
                                </a:lnTo>
                                <a:lnTo>
                                  <a:pt x="11104" y="5842"/>
                                </a:lnTo>
                                <a:lnTo>
                                  <a:pt x="11082" y="6124"/>
                                </a:lnTo>
                                <a:lnTo>
                                  <a:pt x="11047" y="6402"/>
                                </a:lnTo>
                                <a:lnTo>
                                  <a:pt x="10998" y="6676"/>
                                </a:lnTo>
                                <a:lnTo>
                                  <a:pt x="10936" y="6944"/>
                                </a:lnTo>
                                <a:lnTo>
                                  <a:pt x="10861" y="7208"/>
                                </a:lnTo>
                                <a:lnTo>
                                  <a:pt x="10774" y="7467"/>
                                </a:lnTo>
                                <a:lnTo>
                                  <a:pt x="10675" y="7719"/>
                                </a:lnTo>
                                <a:lnTo>
                                  <a:pt x="10563" y="7965"/>
                                </a:lnTo>
                                <a:lnTo>
                                  <a:pt x="10441" y="8204"/>
                                </a:lnTo>
                                <a:lnTo>
                                  <a:pt x="10306" y="8437"/>
                                </a:lnTo>
                                <a:lnTo>
                                  <a:pt x="10163" y="8662"/>
                                </a:lnTo>
                                <a:lnTo>
                                  <a:pt x="10008" y="8880"/>
                                </a:lnTo>
                                <a:lnTo>
                                  <a:pt x="9843" y="9090"/>
                                </a:lnTo>
                                <a:lnTo>
                                  <a:pt x="9667" y="9291"/>
                                </a:lnTo>
                                <a:lnTo>
                                  <a:pt x="9484" y="9485"/>
                                </a:lnTo>
                                <a:lnTo>
                                  <a:pt x="9291" y="9668"/>
                                </a:lnTo>
                                <a:lnTo>
                                  <a:pt x="9089" y="9843"/>
                                </a:lnTo>
                                <a:lnTo>
                                  <a:pt x="8880" y="10008"/>
                                </a:lnTo>
                                <a:lnTo>
                                  <a:pt x="8662" y="10163"/>
                                </a:lnTo>
                                <a:lnTo>
                                  <a:pt x="8436" y="10307"/>
                                </a:lnTo>
                                <a:lnTo>
                                  <a:pt x="8203" y="10441"/>
                                </a:lnTo>
                                <a:lnTo>
                                  <a:pt x="7964" y="10564"/>
                                </a:lnTo>
                                <a:lnTo>
                                  <a:pt x="7718" y="10675"/>
                                </a:lnTo>
                                <a:lnTo>
                                  <a:pt x="7466" y="10774"/>
                                </a:lnTo>
                                <a:lnTo>
                                  <a:pt x="7208" y="10862"/>
                                </a:lnTo>
                                <a:lnTo>
                                  <a:pt x="6944" y="10936"/>
                                </a:lnTo>
                                <a:lnTo>
                                  <a:pt x="6675" y="10998"/>
                                </a:lnTo>
                                <a:lnTo>
                                  <a:pt x="6402" y="11048"/>
                                </a:lnTo>
                                <a:lnTo>
                                  <a:pt x="6124" y="11082"/>
                                </a:lnTo>
                                <a:lnTo>
                                  <a:pt x="5841" y="11105"/>
                                </a:lnTo>
                                <a:lnTo>
                                  <a:pt x="5556" y="11112"/>
                                </a:lnTo>
                                <a:lnTo>
                                  <a:pt x="5270" y="11105"/>
                                </a:lnTo>
                                <a:lnTo>
                                  <a:pt x="4988" y="11082"/>
                                </a:lnTo>
                                <a:lnTo>
                                  <a:pt x="4709" y="11048"/>
                                </a:lnTo>
                                <a:lnTo>
                                  <a:pt x="4436" y="10998"/>
                                </a:lnTo>
                                <a:lnTo>
                                  <a:pt x="4168" y="10936"/>
                                </a:lnTo>
                                <a:lnTo>
                                  <a:pt x="3903" y="10862"/>
                                </a:lnTo>
                                <a:lnTo>
                                  <a:pt x="3646" y="10774"/>
                                </a:lnTo>
                                <a:lnTo>
                                  <a:pt x="3393" y="10675"/>
                                </a:lnTo>
                                <a:lnTo>
                                  <a:pt x="3147" y="10564"/>
                                </a:lnTo>
                                <a:lnTo>
                                  <a:pt x="2908" y="10441"/>
                                </a:lnTo>
                                <a:lnTo>
                                  <a:pt x="2675" y="10307"/>
                                </a:lnTo>
                                <a:lnTo>
                                  <a:pt x="2449" y="10163"/>
                                </a:lnTo>
                                <a:lnTo>
                                  <a:pt x="2232" y="10008"/>
                                </a:lnTo>
                                <a:lnTo>
                                  <a:pt x="2022" y="9843"/>
                                </a:lnTo>
                                <a:lnTo>
                                  <a:pt x="1821" y="9668"/>
                                </a:lnTo>
                                <a:lnTo>
                                  <a:pt x="1627" y="9485"/>
                                </a:lnTo>
                                <a:lnTo>
                                  <a:pt x="1444" y="9291"/>
                                </a:lnTo>
                                <a:lnTo>
                                  <a:pt x="1269" y="9090"/>
                                </a:lnTo>
                                <a:lnTo>
                                  <a:pt x="1104" y="8880"/>
                                </a:lnTo>
                                <a:lnTo>
                                  <a:pt x="949" y="8662"/>
                                </a:lnTo>
                                <a:lnTo>
                                  <a:pt x="805" y="8437"/>
                                </a:lnTo>
                                <a:lnTo>
                                  <a:pt x="671" y="8204"/>
                                </a:lnTo>
                                <a:lnTo>
                                  <a:pt x="548" y="7965"/>
                                </a:lnTo>
                                <a:lnTo>
                                  <a:pt x="437" y="7719"/>
                                </a:lnTo>
                                <a:lnTo>
                                  <a:pt x="337" y="7467"/>
                                </a:lnTo>
                                <a:lnTo>
                                  <a:pt x="250" y="7208"/>
                                </a:lnTo>
                                <a:lnTo>
                                  <a:pt x="175" y="6944"/>
                                </a:lnTo>
                                <a:lnTo>
                                  <a:pt x="113" y="6676"/>
                                </a:lnTo>
                                <a:lnTo>
                                  <a:pt x="65" y="6402"/>
                                </a:lnTo>
                                <a:lnTo>
                                  <a:pt x="29" y="6124"/>
                                </a:lnTo>
                                <a:lnTo>
                                  <a:pt x="8" y="5842"/>
                                </a:lnTo>
                                <a:lnTo>
                                  <a:pt x="0" y="55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99999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3" name=""/>
                          <p:cNvSpPr/>
                          <p:nvPr/>
                        </p:nvSpPr>
                        <p:spPr>
                          <a:xfrm>
                            <a:off x="3321720" y="4851720"/>
                            <a:ext cx="49680" cy="76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55" h="8821">
                                <a:moveTo>
                                  <a:pt x="0" y="4842"/>
                                </a:moveTo>
                                <a:lnTo>
                                  <a:pt x="8" y="4579"/>
                                </a:lnTo>
                                <a:lnTo>
                                  <a:pt x="30" y="4320"/>
                                </a:lnTo>
                                <a:lnTo>
                                  <a:pt x="66" y="4069"/>
                                </a:lnTo>
                                <a:lnTo>
                                  <a:pt x="116" y="3824"/>
                                </a:lnTo>
                                <a:lnTo>
                                  <a:pt x="178" y="3586"/>
                                </a:lnTo>
                                <a:lnTo>
                                  <a:pt x="252" y="3356"/>
                                </a:lnTo>
                                <a:lnTo>
                                  <a:pt x="335" y="3132"/>
                                </a:lnTo>
                                <a:lnTo>
                                  <a:pt x="429" y="2914"/>
                                </a:lnTo>
                                <a:lnTo>
                                  <a:pt x="531" y="2704"/>
                                </a:lnTo>
                                <a:lnTo>
                                  <a:pt x="641" y="2502"/>
                                </a:lnTo>
                                <a:lnTo>
                                  <a:pt x="758" y="2306"/>
                                </a:lnTo>
                                <a:lnTo>
                                  <a:pt x="881" y="2117"/>
                                </a:lnTo>
                                <a:lnTo>
                                  <a:pt x="1010" y="1936"/>
                                </a:lnTo>
                                <a:lnTo>
                                  <a:pt x="1143" y="1763"/>
                                </a:lnTo>
                                <a:lnTo>
                                  <a:pt x="1279" y="1597"/>
                                </a:lnTo>
                                <a:lnTo>
                                  <a:pt x="1419" y="1438"/>
                                </a:lnTo>
                                <a:lnTo>
                                  <a:pt x="1561" y="1287"/>
                                </a:lnTo>
                                <a:lnTo>
                                  <a:pt x="1703" y="1144"/>
                                </a:lnTo>
                                <a:lnTo>
                                  <a:pt x="1845" y="1009"/>
                                </a:lnTo>
                                <a:lnTo>
                                  <a:pt x="1987" y="882"/>
                                </a:lnTo>
                                <a:lnTo>
                                  <a:pt x="2127" y="763"/>
                                </a:lnTo>
                                <a:lnTo>
                                  <a:pt x="2265" y="651"/>
                                </a:lnTo>
                                <a:lnTo>
                                  <a:pt x="2399" y="548"/>
                                </a:lnTo>
                                <a:lnTo>
                                  <a:pt x="2529" y="453"/>
                                </a:lnTo>
                                <a:lnTo>
                                  <a:pt x="2653" y="367"/>
                                </a:lnTo>
                                <a:lnTo>
                                  <a:pt x="2773" y="289"/>
                                </a:lnTo>
                                <a:lnTo>
                                  <a:pt x="2885" y="219"/>
                                </a:lnTo>
                                <a:lnTo>
                                  <a:pt x="2990" y="158"/>
                                </a:lnTo>
                                <a:lnTo>
                                  <a:pt x="3086" y="105"/>
                                </a:lnTo>
                                <a:lnTo>
                                  <a:pt x="3173" y="62"/>
                                </a:lnTo>
                                <a:lnTo>
                                  <a:pt x="3249" y="26"/>
                                </a:lnTo>
                                <a:lnTo>
                                  <a:pt x="3315" y="0"/>
                                </a:lnTo>
                                <a:lnTo>
                                  <a:pt x="3454" y="21"/>
                                </a:lnTo>
                                <a:lnTo>
                                  <a:pt x="3594" y="41"/>
                                </a:lnTo>
                                <a:lnTo>
                                  <a:pt x="3733" y="60"/>
                                </a:lnTo>
                                <a:lnTo>
                                  <a:pt x="3870" y="80"/>
                                </a:lnTo>
                                <a:lnTo>
                                  <a:pt x="3938" y="91"/>
                                </a:lnTo>
                                <a:lnTo>
                                  <a:pt x="4006" y="103"/>
                                </a:lnTo>
                                <a:lnTo>
                                  <a:pt x="4074" y="117"/>
                                </a:lnTo>
                                <a:lnTo>
                                  <a:pt x="4142" y="131"/>
                                </a:lnTo>
                                <a:lnTo>
                                  <a:pt x="4210" y="146"/>
                                </a:lnTo>
                                <a:lnTo>
                                  <a:pt x="4276" y="163"/>
                                </a:lnTo>
                                <a:lnTo>
                                  <a:pt x="4343" y="181"/>
                                </a:lnTo>
                                <a:lnTo>
                                  <a:pt x="4409" y="203"/>
                                </a:lnTo>
                                <a:lnTo>
                                  <a:pt x="4441" y="214"/>
                                </a:lnTo>
                                <a:lnTo>
                                  <a:pt x="4472" y="227"/>
                                </a:lnTo>
                                <a:lnTo>
                                  <a:pt x="4499" y="241"/>
                                </a:lnTo>
                                <a:lnTo>
                                  <a:pt x="4525" y="257"/>
                                </a:lnTo>
                                <a:lnTo>
                                  <a:pt x="4550" y="274"/>
                                </a:lnTo>
                                <a:lnTo>
                                  <a:pt x="4572" y="293"/>
                                </a:lnTo>
                                <a:lnTo>
                                  <a:pt x="4593" y="313"/>
                                </a:lnTo>
                                <a:lnTo>
                                  <a:pt x="4613" y="333"/>
                                </a:lnTo>
                                <a:lnTo>
                                  <a:pt x="4630" y="355"/>
                                </a:lnTo>
                                <a:lnTo>
                                  <a:pt x="4646" y="379"/>
                                </a:lnTo>
                                <a:lnTo>
                                  <a:pt x="4660" y="403"/>
                                </a:lnTo>
                                <a:lnTo>
                                  <a:pt x="4674" y="427"/>
                                </a:lnTo>
                                <a:lnTo>
                                  <a:pt x="4685" y="454"/>
                                </a:lnTo>
                                <a:lnTo>
                                  <a:pt x="4697" y="481"/>
                                </a:lnTo>
                                <a:lnTo>
                                  <a:pt x="4706" y="508"/>
                                </a:lnTo>
                                <a:lnTo>
                                  <a:pt x="4715" y="538"/>
                                </a:lnTo>
                                <a:lnTo>
                                  <a:pt x="4722" y="567"/>
                                </a:lnTo>
                                <a:lnTo>
                                  <a:pt x="4729" y="596"/>
                                </a:lnTo>
                                <a:lnTo>
                                  <a:pt x="4734" y="628"/>
                                </a:lnTo>
                                <a:lnTo>
                                  <a:pt x="4739" y="659"/>
                                </a:lnTo>
                                <a:lnTo>
                                  <a:pt x="4743" y="691"/>
                                </a:lnTo>
                                <a:lnTo>
                                  <a:pt x="4746" y="724"/>
                                </a:lnTo>
                                <a:lnTo>
                                  <a:pt x="4748" y="756"/>
                                </a:lnTo>
                                <a:lnTo>
                                  <a:pt x="4751" y="790"/>
                                </a:lnTo>
                                <a:lnTo>
                                  <a:pt x="4753" y="858"/>
                                </a:lnTo>
                                <a:lnTo>
                                  <a:pt x="4755" y="927"/>
                                </a:lnTo>
                                <a:lnTo>
                                  <a:pt x="4755" y="996"/>
                                </a:lnTo>
                                <a:lnTo>
                                  <a:pt x="4755" y="1067"/>
                                </a:lnTo>
                                <a:lnTo>
                                  <a:pt x="4754" y="1103"/>
                                </a:lnTo>
                                <a:lnTo>
                                  <a:pt x="4750" y="1136"/>
                                </a:lnTo>
                                <a:lnTo>
                                  <a:pt x="4743" y="1168"/>
                                </a:lnTo>
                                <a:lnTo>
                                  <a:pt x="4735" y="1197"/>
                                </a:lnTo>
                                <a:lnTo>
                                  <a:pt x="4724" y="1225"/>
                                </a:lnTo>
                                <a:lnTo>
                                  <a:pt x="4712" y="1253"/>
                                </a:lnTo>
                                <a:lnTo>
                                  <a:pt x="4697" y="1278"/>
                                </a:lnTo>
                                <a:lnTo>
                                  <a:pt x="4680" y="1301"/>
                                </a:lnTo>
                                <a:lnTo>
                                  <a:pt x="4662" y="1324"/>
                                </a:lnTo>
                                <a:lnTo>
                                  <a:pt x="4642" y="1347"/>
                                </a:lnTo>
                                <a:lnTo>
                                  <a:pt x="4621" y="1367"/>
                                </a:lnTo>
                                <a:lnTo>
                                  <a:pt x="4598" y="1387"/>
                                </a:lnTo>
                                <a:lnTo>
                                  <a:pt x="4575" y="1407"/>
                                </a:lnTo>
                                <a:lnTo>
                                  <a:pt x="4551" y="1427"/>
                                </a:lnTo>
                                <a:lnTo>
                                  <a:pt x="4525" y="1445"/>
                                </a:lnTo>
                                <a:lnTo>
                                  <a:pt x="4499" y="1463"/>
                                </a:lnTo>
                                <a:lnTo>
                                  <a:pt x="4445" y="1500"/>
                                </a:lnTo>
                                <a:lnTo>
                                  <a:pt x="4391" y="1536"/>
                                </a:lnTo>
                                <a:lnTo>
                                  <a:pt x="4335" y="1574"/>
                                </a:lnTo>
                                <a:lnTo>
                                  <a:pt x="4281" y="1614"/>
                                </a:lnTo>
                                <a:lnTo>
                                  <a:pt x="4254" y="1635"/>
                                </a:lnTo>
                                <a:lnTo>
                                  <a:pt x="4229" y="1658"/>
                                </a:lnTo>
                                <a:lnTo>
                                  <a:pt x="4203" y="1681"/>
                                </a:lnTo>
                                <a:lnTo>
                                  <a:pt x="4179" y="1705"/>
                                </a:lnTo>
                                <a:lnTo>
                                  <a:pt x="4155" y="1730"/>
                                </a:lnTo>
                                <a:lnTo>
                                  <a:pt x="4133" y="1758"/>
                                </a:lnTo>
                                <a:lnTo>
                                  <a:pt x="4112" y="1786"/>
                                </a:lnTo>
                                <a:lnTo>
                                  <a:pt x="4092" y="1817"/>
                                </a:lnTo>
                                <a:lnTo>
                                  <a:pt x="4066" y="1859"/>
                                </a:lnTo>
                                <a:lnTo>
                                  <a:pt x="4041" y="1902"/>
                                </a:lnTo>
                                <a:lnTo>
                                  <a:pt x="4018" y="1944"/>
                                </a:lnTo>
                                <a:lnTo>
                                  <a:pt x="3997" y="1986"/>
                                </a:lnTo>
                                <a:lnTo>
                                  <a:pt x="3978" y="2027"/>
                                </a:lnTo>
                                <a:lnTo>
                                  <a:pt x="3958" y="2069"/>
                                </a:lnTo>
                                <a:lnTo>
                                  <a:pt x="3941" y="2109"/>
                                </a:lnTo>
                                <a:lnTo>
                                  <a:pt x="3926" y="2150"/>
                                </a:lnTo>
                                <a:lnTo>
                                  <a:pt x="3911" y="2190"/>
                                </a:lnTo>
                                <a:lnTo>
                                  <a:pt x="3898" y="2232"/>
                                </a:lnTo>
                                <a:lnTo>
                                  <a:pt x="3886" y="2272"/>
                                </a:lnTo>
                                <a:lnTo>
                                  <a:pt x="3874" y="2313"/>
                                </a:lnTo>
                                <a:lnTo>
                                  <a:pt x="3864" y="2353"/>
                                </a:lnTo>
                                <a:lnTo>
                                  <a:pt x="3855" y="2394"/>
                                </a:lnTo>
                                <a:lnTo>
                                  <a:pt x="3847" y="2434"/>
                                </a:lnTo>
                                <a:lnTo>
                                  <a:pt x="3840" y="2476"/>
                                </a:lnTo>
                                <a:lnTo>
                                  <a:pt x="3834" y="2517"/>
                                </a:lnTo>
                                <a:lnTo>
                                  <a:pt x="3828" y="2559"/>
                                </a:lnTo>
                                <a:lnTo>
                                  <a:pt x="3824" y="2600"/>
                                </a:lnTo>
                                <a:lnTo>
                                  <a:pt x="3820" y="2643"/>
                                </a:lnTo>
                                <a:lnTo>
                                  <a:pt x="3816" y="2685"/>
                                </a:lnTo>
                                <a:lnTo>
                                  <a:pt x="3813" y="2729"/>
                                </a:lnTo>
                                <a:lnTo>
                                  <a:pt x="3811" y="2773"/>
                                </a:lnTo>
                                <a:lnTo>
                                  <a:pt x="3809" y="2817"/>
                                </a:lnTo>
                                <a:lnTo>
                                  <a:pt x="3806" y="2908"/>
                                </a:lnTo>
                                <a:lnTo>
                                  <a:pt x="3805" y="3002"/>
                                </a:lnTo>
                                <a:lnTo>
                                  <a:pt x="3805" y="3099"/>
                                </a:lnTo>
                                <a:lnTo>
                                  <a:pt x="3805" y="3200"/>
                                </a:lnTo>
                                <a:lnTo>
                                  <a:pt x="3803" y="3234"/>
                                </a:lnTo>
                                <a:lnTo>
                                  <a:pt x="3797" y="3264"/>
                                </a:lnTo>
                                <a:lnTo>
                                  <a:pt x="3788" y="3291"/>
                                </a:lnTo>
                                <a:lnTo>
                                  <a:pt x="3777" y="3314"/>
                                </a:lnTo>
                                <a:lnTo>
                                  <a:pt x="3762" y="3334"/>
                                </a:lnTo>
                                <a:lnTo>
                                  <a:pt x="3745" y="3351"/>
                                </a:lnTo>
                                <a:lnTo>
                                  <a:pt x="3725" y="3365"/>
                                </a:lnTo>
                                <a:lnTo>
                                  <a:pt x="3701" y="3376"/>
                                </a:lnTo>
                                <a:lnTo>
                                  <a:pt x="3677" y="3385"/>
                                </a:lnTo>
                                <a:lnTo>
                                  <a:pt x="3650" y="3391"/>
                                </a:lnTo>
                                <a:lnTo>
                                  <a:pt x="3620" y="3396"/>
                                </a:lnTo>
                                <a:lnTo>
                                  <a:pt x="3589" y="3398"/>
                                </a:lnTo>
                                <a:lnTo>
                                  <a:pt x="3557" y="3399"/>
                                </a:lnTo>
                                <a:lnTo>
                                  <a:pt x="3522" y="3399"/>
                                </a:lnTo>
                                <a:lnTo>
                                  <a:pt x="3487" y="3398"/>
                                </a:lnTo>
                                <a:lnTo>
                                  <a:pt x="3449" y="3395"/>
                                </a:lnTo>
                                <a:lnTo>
                                  <a:pt x="3372" y="3388"/>
                                </a:lnTo>
                                <a:lnTo>
                                  <a:pt x="3292" y="3380"/>
                                </a:lnTo>
                                <a:lnTo>
                                  <a:pt x="3252" y="3376"/>
                                </a:lnTo>
                                <a:lnTo>
                                  <a:pt x="3211" y="3373"/>
                                </a:lnTo>
                                <a:lnTo>
                                  <a:pt x="3170" y="3370"/>
                                </a:lnTo>
                                <a:lnTo>
                                  <a:pt x="3129" y="3367"/>
                                </a:lnTo>
                                <a:lnTo>
                                  <a:pt x="3089" y="3366"/>
                                </a:lnTo>
                                <a:lnTo>
                                  <a:pt x="3048" y="3366"/>
                                </a:lnTo>
                                <a:lnTo>
                                  <a:pt x="3009" y="3367"/>
                                </a:lnTo>
                                <a:lnTo>
                                  <a:pt x="2970" y="3370"/>
                                </a:lnTo>
                                <a:lnTo>
                                  <a:pt x="2932" y="3374"/>
                                </a:lnTo>
                                <a:lnTo>
                                  <a:pt x="2894" y="3381"/>
                                </a:lnTo>
                                <a:lnTo>
                                  <a:pt x="2859" y="3390"/>
                                </a:lnTo>
                                <a:lnTo>
                                  <a:pt x="2824" y="3401"/>
                                </a:lnTo>
                                <a:lnTo>
                                  <a:pt x="2794" y="3414"/>
                                </a:lnTo>
                                <a:lnTo>
                                  <a:pt x="2765" y="3428"/>
                                </a:lnTo>
                                <a:lnTo>
                                  <a:pt x="2738" y="3444"/>
                                </a:lnTo>
                                <a:lnTo>
                                  <a:pt x="2714" y="3461"/>
                                </a:lnTo>
                                <a:lnTo>
                                  <a:pt x="2691" y="3478"/>
                                </a:lnTo>
                                <a:lnTo>
                                  <a:pt x="2670" y="3497"/>
                                </a:lnTo>
                                <a:lnTo>
                                  <a:pt x="2650" y="3518"/>
                                </a:lnTo>
                                <a:lnTo>
                                  <a:pt x="2632" y="3539"/>
                                </a:lnTo>
                                <a:lnTo>
                                  <a:pt x="2615" y="3561"/>
                                </a:lnTo>
                                <a:lnTo>
                                  <a:pt x="2600" y="3583"/>
                                </a:lnTo>
                                <a:lnTo>
                                  <a:pt x="2586" y="3608"/>
                                </a:lnTo>
                                <a:lnTo>
                                  <a:pt x="2571" y="3632"/>
                                </a:lnTo>
                                <a:lnTo>
                                  <a:pt x="2559" y="3657"/>
                                </a:lnTo>
                                <a:lnTo>
                                  <a:pt x="2547" y="3684"/>
                                </a:lnTo>
                                <a:lnTo>
                                  <a:pt x="2536" y="3710"/>
                                </a:lnTo>
                                <a:lnTo>
                                  <a:pt x="2525" y="3737"/>
                                </a:lnTo>
                                <a:lnTo>
                                  <a:pt x="2485" y="3851"/>
                                </a:lnTo>
                                <a:lnTo>
                                  <a:pt x="2446" y="3970"/>
                                </a:lnTo>
                                <a:lnTo>
                                  <a:pt x="2435" y="3999"/>
                                </a:lnTo>
                                <a:lnTo>
                                  <a:pt x="2423" y="4030"/>
                                </a:lnTo>
                                <a:lnTo>
                                  <a:pt x="2410" y="4060"/>
                                </a:lnTo>
                                <a:lnTo>
                                  <a:pt x="2397" y="4090"/>
                                </a:lnTo>
                                <a:lnTo>
                                  <a:pt x="2383" y="4120"/>
                                </a:lnTo>
                                <a:lnTo>
                                  <a:pt x="2368" y="4149"/>
                                </a:lnTo>
                                <a:lnTo>
                                  <a:pt x="2352" y="4179"/>
                                </a:lnTo>
                                <a:lnTo>
                                  <a:pt x="2334" y="4208"/>
                                </a:lnTo>
                                <a:lnTo>
                                  <a:pt x="2318" y="4231"/>
                                </a:lnTo>
                                <a:lnTo>
                                  <a:pt x="2301" y="4253"/>
                                </a:lnTo>
                                <a:lnTo>
                                  <a:pt x="2284" y="4271"/>
                                </a:lnTo>
                                <a:lnTo>
                                  <a:pt x="2266" y="4288"/>
                                </a:lnTo>
                                <a:lnTo>
                                  <a:pt x="2246" y="4303"/>
                                </a:lnTo>
                                <a:lnTo>
                                  <a:pt x="2227" y="4316"/>
                                </a:lnTo>
                                <a:lnTo>
                                  <a:pt x="2206" y="4329"/>
                                </a:lnTo>
                                <a:lnTo>
                                  <a:pt x="2186" y="4339"/>
                                </a:lnTo>
                                <a:lnTo>
                                  <a:pt x="2163" y="4348"/>
                                </a:lnTo>
                                <a:lnTo>
                                  <a:pt x="2142" y="4356"/>
                                </a:lnTo>
                                <a:lnTo>
                                  <a:pt x="2119" y="4363"/>
                                </a:lnTo>
                                <a:lnTo>
                                  <a:pt x="2096" y="4369"/>
                                </a:lnTo>
                                <a:lnTo>
                                  <a:pt x="2049" y="4380"/>
                                </a:lnTo>
                                <a:lnTo>
                                  <a:pt x="2001" y="4388"/>
                                </a:lnTo>
                                <a:lnTo>
                                  <a:pt x="1952" y="4396"/>
                                </a:lnTo>
                                <a:lnTo>
                                  <a:pt x="1902" y="4404"/>
                                </a:lnTo>
                                <a:lnTo>
                                  <a:pt x="1878" y="4410"/>
                                </a:lnTo>
                                <a:lnTo>
                                  <a:pt x="1852" y="4415"/>
                                </a:lnTo>
                                <a:lnTo>
                                  <a:pt x="1828" y="4421"/>
                                </a:lnTo>
                                <a:lnTo>
                                  <a:pt x="1804" y="4427"/>
                                </a:lnTo>
                                <a:lnTo>
                                  <a:pt x="1779" y="4435"/>
                                </a:lnTo>
                                <a:lnTo>
                                  <a:pt x="1754" y="4443"/>
                                </a:lnTo>
                                <a:lnTo>
                                  <a:pt x="1730" y="4453"/>
                                </a:lnTo>
                                <a:lnTo>
                                  <a:pt x="1707" y="4464"/>
                                </a:lnTo>
                                <a:lnTo>
                                  <a:pt x="1682" y="4477"/>
                                </a:lnTo>
                                <a:lnTo>
                                  <a:pt x="1659" y="4492"/>
                                </a:lnTo>
                                <a:lnTo>
                                  <a:pt x="1636" y="4508"/>
                                </a:lnTo>
                                <a:lnTo>
                                  <a:pt x="1614" y="4525"/>
                                </a:lnTo>
                                <a:lnTo>
                                  <a:pt x="1590" y="4545"/>
                                </a:lnTo>
                                <a:lnTo>
                                  <a:pt x="1568" y="4565"/>
                                </a:lnTo>
                                <a:lnTo>
                                  <a:pt x="1547" y="4587"/>
                                </a:lnTo>
                                <a:lnTo>
                                  <a:pt x="1525" y="4607"/>
                                </a:lnTo>
                                <a:lnTo>
                                  <a:pt x="1505" y="4627"/>
                                </a:lnTo>
                                <a:lnTo>
                                  <a:pt x="1486" y="4648"/>
                                </a:lnTo>
                                <a:lnTo>
                                  <a:pt x="1467" y="4670"/>
                                </a:lnTo>
                                <a:lnTo>
                                  <a:pt x="1448" y="4690"/>
                                </a:lnTo>
                                <a:lnTo>
                                  <a:pt x="1431" y="4711"/>
                                </a:lnTo>
                                <a:lnTo>
                                  <a:pt x="1415" y="4734"/>
                                </a:lnTo>
                                <a:lnTo>
                                  <a:pt x="1400" y="4755"/>
                                </a:lnTo>
                                <a:lnTo>
                                  <a:pt x="1385" y="4777"/>
                                </a:lnTo>
                                <a:lnTo>
                                  <a:pt x="1371" y="4799"/>
                                </a:lnTo>
                                <a:lnTo>
                                  <a:pt x="1356" y="4822"/>
                                </a:lnTo>
                                <a:lnTo>
                                  <a:pt x="1344" y="4845"/>
                                </a:lnTo>
                                <a:lnTo>
                                  <a:pt x="1332" y="4867"/>
                                </a:lnTo>
                                <a:lnTo>
                                  <a:pt x="1321" y="4891"/>
                                </a:lnTo>
                                <a:lnTo>
                                  <a:pt x="1310" y="4915"/>
                                </a:lnTo>
                                <a:lnTo>
                                  <a:pt x="1301" y="4939"/>
                                </a:lnTo>
                                <a:lnTo>
                                  <a:pt x="1292" y="4963"/>
                                </a:lnTo>
                                <a:lnTo>
                                  <a:pt x="1282" y="4989"/>
                                </a:lnTo>
                                <a:lnTo>
                                  <a:pt x="1275" y="5014"/>
                                </a:lnTo>
                                <a:lnTo>
                                  <a:pt x="1268" y="5040"/>
                                </a:lnTo>
                                <a:lnTo>
                                  <a:pt x="1262" y="5067"/>
                                </a:lnTo>
                                <a:lnTo>
                                  <a:pt x="1257" y="5093"/>
                                </a:lnTo>
                                <a:lnTo>
                                  <a:pt x="1252" y="5120"/>
                                </a:lnTo>
                                <a:lnTo>
                                  <a:pt x="1248" y="5149"/>
                                </a:lnTo>
                                <a:lnTo>
                                  <a:pt x="1245" y="5177"/>
                                </a:lnTo>
                                <a:lnTo>
                                  <a:pt x="1242" y="5205"/>
                                </a:lnTo>
                                <a:lnTo>
                                  <a:pt x="1241" y="5236"/>
                                </a:lnTo>
                                <a:lnTo>
                                  <a:pt x="1240" y="5265"/>
                                </a:lnTo>
                                <a:lnTo>
                                  <a:pt x="1239" y="5296"/>
                                </a:lnTo>
                                <a:lnTo>
                                  <a:pt x="1239" y="5373"/>
                                </a:lnTo>
                                <a:lnTo>
                                  <a:pt x="1239" y="5445"/>
                                </a:lnTo>
                                <a:lnTo>
                                  <a:pt x="1239" y="5512"/>
                                </a:lnTo>
                                <a:lnTo>
                                  <a:pt x="1239" y="5577"/>
                                </a:lnTo>
                                <a:lnTo>
                                  <a:pt x="1239" y="5643"/>
                                </a:lnTo>
                                <a:lnTo>
                                  <a:pt x="1239" y="5710"/>
                                </a:lnTo>
                                <a:lnTo>
                                  <a:pt x="1239" y="5780"/>
                                </a:lnTo>
                                <a:lnTo>
                                  <a:pt x="1239" y="5858"/>
                                </a:lnTo>
                                <a:lnTo>
                                  <a:pt x="1240" y="5886"/>
                                </a:lnTo>
                                <a:lnTo>
                                  <a:pt x="1242" y="5912"/>
                                </a:lnTo>
                                <a:lnTo>
                                  <a:pt x="1245" y="5937"/>
                                </a:lnTo>
                                <a:lnTo>
                                  <a:pt x="1249" y="5963"/>
                                </a:lnTo>
                                <a:lnTo>
                                  <a:pt x="1254" y="5987"/>
                                </a:lnTo>
                                <a:lnTo>
                                  <a:pt x="1260" y="6010"/>
                                </a:lnTo>
                                <a:lnTo>
                                  <a:pt x="1267" y="6034"/>
                                </a:lnTo>
                                <a:lnTo>
                                  <a:pt x="1275" y="6056"/>
                                </a:lnTo>
                                <a:lnTo>
                                  <a:pt x="1283" y="6078"/>
                                </a:lnTo>
                                <a:lnTo>
                                  <a:pt x="1293" y="6100"/>
                                </a:lnTo>
                                <a:lnTo>
                                  <a:pt x="1302" y="6122"/>
                                </a:lnTo>
                                <a:lnTo>
                                  <a:pt x="1312" y="6143"/>
                                </a:lnTo>
                                <a:lnTo>
                                  <a:pt x="1333" y="6184"/>
                                </a:lnTo>
                                <a:lnTo>
                                  <a:pt x="1354" y="6226"/>
                                </a:lnTo>
                                <a:lnTo>
                                  <a:pt x="1376" y="6267"/>
                                </a:lnTo>
                                <a:lnTo>
                                  <a:pt x="1397" y="6309"/>
                                </a:lnTo>
                                <a:lnTo>
                                  <a:pt x="1416" y="6352"/>
                                </a:lnTo>
                                <a:lnTo>
                                  <a:pt x="1433" y="6395"/>
                                </a:lnTo>
                                <a:lnTo>
                                  <a:pt x="1441" y="6418"/>
                                </a:lnTo>
                                <a:lnTo>
                                  <a:pt x="1448" y="6441"/>
                                </a:lnTo>
                                <a:lnTo>
                                  <a:pt x="1455" y="6465"/>
                                </a:lnTo>
                                <a:lnTo>
                                  <a:pt x="1460" y="6489"/>
                                </a:lnTo>
                                <a:lnTo>
                                  <a:pt x="1464" y="6514"/>
                                </a:lnTo>
                                <a:lnTo>
                                  <a:pt x="1467" y="6540"/>
                                </a:lnTo>
                                <a:lnTo>
                                  <a:pt x="1469" y="6566"/>
                                </a:lnTo>
                                <a:lnTo>
                                  <a:pt x="1470" y="6593"/>
                                </a:lnTo>
                                <a:lnTo>
                                  <a:pt x="1470" y="6676"/>
                                </a:lnTo>
                                <a:lnTo>
                                  <a:pt x="1470" y="6750"/>
                                </a:lnTo>
                                <a:lnTo>
                                  <a:pt x="1470" y="6820"/>
                                </a:lnTo>
                                <a:lnTo>
                                  <a:pt x="1470" y="6888"/>
                                </a:lnTo>
                                <a:lnTo>
                                  <a:pt x="1470" y="6957"/>
                                </a:lnTo>
                                <a:lnTo>
                                  <a:pt x="1470" y="7027"/>
                                </a:lnTo>
                                <a:lnTo>
                                  <a:pt x="1470" y="7102"/>
                                </a:lnTo>
                                <a:lnTo>
                                  <a:pt x="1470" y="7184"/>
                                </a:lnTo>
                                <a:lnTo>
                                  <a:pt x="1471" y="7216"/>
                                </a:lnTo>
                                <a:lnTo>
                                  <a:pt x="1472" y="7247"/>
                                </a:lnTo>
                                <a:lnTo>
                                  <a:pt x="1475" y="7277"/>
                                </a:lnTo>
                                <a:lnTo>
                                  <a:pt x="1479" y="7306"/>
                                </a:lnTo>
                                <a:lnTo>
                                  <a:pt x="1484" y="7336"/>
                                </a:lnTo>
                                <a:lnTo>
                                  <a:pt x="1490" y="7363"/>
                                </a:lnTo>
                                <a:lnTo>
                                  <a:pt x="1496" y="7390"/>
                                </a:lnTo>
                                <a:lnTo>
                                  <a:pt x="1503" y="7418"/>
                                </a:lnTo>
                                <a:lnTo>
                                  <a:pt x="1511" y="7444"/>
                                </a:lnTo>
                                <a:lnTo>
                                  <a:pt x="1519" y="7470"/>
                                </a:lnTo>
                                <a:lnTo>
                                  <a:pt x="1528" y="7496"/>
                                </a:lnTo>
                                <a:lnTo>
                                  <a:pt x="1539" y="7521"/>
                                </a:lnTo>
                                <a:lnTo>
                                  <a:pt x="1558" y="7571"/>
                                </a:lnTo>
                                <a:lnTo>
                                  <a:pt x="1578" y="7620"/>
                                </a:lnTo>
                                <a:lnTo>
                                  <a:pt x="1598" y="7670"/>
                                </a:lnTo>
                                <a:lnTo>
                                  <a:pt x="1618" y="7719"/>
                                </a:lnTo>
                                <a:lnTo>
                                  <a:pt x="1636" y="7770"/>
                                </a:lnTo>
                                <a:lnTo>
                                  <a:pt x="1652" y="7823"/>
                                </a:lnTo>
                                <a:lnTo>
                                  <a:pt x="1659" y="7849"/>
                                </a:lnTo>
                                <a:lnTo>
                                  <a:pt x="1666" y="7876"/>
                                </a:lnTo>
                                <a:lnTo>
                                  <a:pt x="1671" y="7905"/>
                                </a:lnTo>
                                <a:lnTo>
                                  <a:pt x="1676" y="7933"/>
                                </a:lnTo>
                                <a:lnTo>
                                  <a:pt x="1680" y="7962"/>
                                </a:lnTo>
                                <a:lnTo>
                                  <a:pt x="1683" y="7993"/>
                                </a:lnTo>
                                <a:lnTo>
                                  <a:pt x="1685" y="8024"/>
                                </a:lnTo>
                                <a:lnTo>
                                  <a:pt x="1685" y="8056"/>
                                </a:lnTo>
                                <a:lnTo>
                                  <a:pt x="1701" y="8069"/>
                                </a:lnTo>
                                <a:lnTo>
                                  <a:pt x="1715" y="8083"/>
                                </a:lnTo>
                                <a:lnTo>
                                  <a:pt x="1729" y="8098"/>
                                </a:lnTo>
                                <a:lnTo>
                                  <a:pt x="1743" y="8114"/>
                                </a:lnTo>
                                <a:lnTo>
                                  <a:pt x="1757" y="8132"/>
                                </a:lnTo>
                                <a:lnTo>
                                  <a:pt x="1770" y="8151"/>
                                </a:lnTo>
                                <a:lnTo>
                                  <a:pt x="1784" y="8170"/>
                                </a:lnTo>
                                <a:lnTo>
                                  <a:pt x="1796" y="8190"/>
                                </a:lnTo>
                                <a:lnTo>
                                  <a:pt x="1807" y="8211"/>
                                </a:lnTo>
                                <a:lnTo>
                                  <a:pt x="1819" y="8234"/>
                                </a:lnTo>
                                <a:lnTo>
                                  <a:pt x="1829" y="8256"/>
                                </a:lnTo>
                                <a:lnTo>
                                  <a:pt x="1839" y="8279"/>
                                </a:lnTo>
                                <a:lnTo>
                                  <a:pt x="1849" y="8303"/>
                                </a:lnTo>
                                <a:lnTo>
                                  <a:pt x="1858" y="8326"/>
                                </a:lnTo>
                                <a:lnTo>
                                  <a:pt x="1866" y="8350"/>
                                </a:lnTo>
                                <a:lnTo>
                                  <a:pt x="1873" y="8374"/>
                                </a:lnTo>
                                <a:lnTo>
                                  <a:pt x="1879" y="8399"/>
                                </a:lnTo>
                                <a:lnTo>
                                  <a:pt x="1885" y="8424"/>
                                </a:lnTo>
                                <a:lnTo>
                                  <a:pt x="1889" y="8448"/>
                                </a:lnTo>
                                <a:lnTo>
                                  <a:pt x="1893" y="8473"/>
                                </a:lnTo>
                                <a:lnTo>
                                  <a:pt x="1895" y="8497"/>
                                </a:lnTo>
                                <a:lnTo>
                                  <a:pt x="1896" y="8521"/>
                                </a:lnTo>
                                <a:lnTo>
                                  <a:pt x="1897" y="8545"/>
                                </a:lnTo>
                                <a:lnTo>
                                  <a:pt x="1896" y="8569"/>
                                </a:lnTo>
                                <a:lnTo>
                                  <a:pt x="1894" y="8591"/>
                                </a:lnTo>
                                <a:lnTo>
                                  <a:pt x="1891" y="8613"/>
                                </a:lnTo>
                                <a:lnTo>
                                  <a:pt x="1887" y="8636"/>
                                </a:lnTo>
                                <a:lnTo>
                                  <a:pt x="1881" y="8657"/>
                                </a:lnTo>
                                <a:lnTo>
                                  <a:pt x="1874" y="8677"/>
                                </a:lnTo>
                                <a:lnTo>
                                  <a:pt x="1866" y="8696"/>
                                </a:lnTo>
                                <a:lnTo>
                                  <a:pt x="1856" y="8716"/>
                                </a:lnTo>
                                <a:lnTo>
                                  <a:pt x="1844" y="8733"/>
                                </a:lnTo>
                                <a:lnTo>
                                  <a:pt x="1817" y="8765"/>
                                </a:lnTo>
                                <a:lnTo>
                                  <a:pt x="1787" y="8791"/>
                                </a:lnTo>
                                <a:lnTo>
                                  <a:pt x="1753" y="8808"/>
                                </a:lnTo>
                                <a:lnTo>
                                  <a:pt x="1717" y="8818"/>
                                </a:lnTo>
                                <a:lnTo>
                                  <a:pt x="1678" y="8821"/>
                                </a:lnTo>
                                <a:lnTo>
                                  <a:pt x="1637" y="8819"/>
                                </a:lnTo>
                                <a:lnTo>
                                  <a:pt x="1594" y="8811"/>
                                </a:lnTo>
                                <a:lnTo>
                                  <a:pt x="1551" y="8798"/>
                                </a:lnTo>
                                <a:lnTo>
                                  <a:pt x="1505" y="8779"/>
                                </a:lnTo>
                                <a:lnTo>
                                  <a:pt x="1459" y="8757"/>
                                </a:lnTo>
                                <a:lnTo>
                                  <a:pt x="1412" y="8731"/>
                                </a:lnTo>
                                <a:lnTo>
                                  <a:pt x="1364" y="8701"/>
                                </a:lnTo>
                                <a:lnTo>
                                  <a:pt x="1317" y="8668"/>
                                </a:lnTo>
                                <a:lnTo>
                                  <a:pt x="1269" y="8632"/>
                                </a:lnTo>
                                <a:lnTo>
                                  <a:pt x="1222" y="8594"/>
                                </a:lnTo>
                                <a:lnTo>
                                  <a:pt x="1175" y="8554"/>
                                </a:lnTo>
                                <a:lnTo>
                                  <a:pt x="1130" y="8512"/>
                                </a:lnTo>
                                <a:lnTo>
                                  <a:pt x="1085" y="8471"/>
                                </a:lnTo>
                                <a:lnTo>
                                  <a:pt x="1042" y="8427"/>
                                </a:lnTo>
                                <a:lnTo>
                                  <a:pt x="1001" y="8385"/>
                                </a:lnTo>
                                <a:lnTo>
                                  <a:pt x="962" y="8342"/>
                                </a:lnTo>
                                <a:lnTo>
                                  <a:pt x="926" y="8300"/>
                                </a:lnTo>
                                <a:lnTo>
                                  <a:pt x="892" y="8259"/>
                                </a:lnTo>
                                <a:lnTo>
                                  <a:pt x="860" y="8220"/>
                                </a:lnTo>
                                <a:lnTo>
                                  <a:pt x="833" y="8182"/>
                                </a:lnTo>
                                <a:lnTo>
                                  <a:pt x="808" y="8148"/>
                                </a:lnTo>
                                <a:lnTo>
                                  <a:pt x="787" y="8115"/>
                                </a:lnTo>
                                <a:lnTo>
                                  <a:pt x="770" y="8086"/>
                                </a:lnTo>
                                <a:lnTo>
                                  <a:pt x="758" y="8062"/>
                                </a:lnTo>
                                <a:lnTo>
                                  <a:pt x="750" y="8040"/>
                                </a:lnTo>
                                <a:lnTo>
                                  <a:pt x="747" y="8024"/>
                                </a:lnTo>
                                <a:lnTo>
                                  <a:pt x="749" y="8013"/>
                                </a:lnTo>
                                <a:lnTo>
                                  <a:pt x="741" y="7996"/>
                                </a:lnTo>
                                <a:lnTo>
                                  <a:pt x="717" y="7946"/>
                                </a:lnTo>
                                <a:lnTo>
                                  <a:pt x="680" y="7865"/>
                                </a:lnTo>
                                <a:lnTo>
                                  <a:pt x="632" y="7755"/>
                                </a:lnTo>
                                <a:lnTo>
                                  <a:pt x="605" y="7690"/>
                                </a:lnTo>
                                <a:lnTo>
                                  <a:pt x="576" y="7618"/>
                                </a:lnTo>
                                <a:lnTo>
                                  <a:pt x="544" y="7540"/>
                                </a:lnTo>
                                <a:lnTo>
                                  <a:pt x="512" y="7455"/>
                                </a:lnTo>
                                <a:lnTo>
                                  <a:pt x="479" y="7365"/>
                                </a:lnTo>
                                <a:lnTo>
                                  <a:pt x="444" y="7270"/>
                                </a:lnTo>
                                <a:lnTo>
                                  <a:pt x="410" y="7169"/>
                                </a:lnTo>
                                <a:lnTo>
                                  <a:pt x="374" y="7062"/>
                                </a:lnTo>
                                <a:lnTo>
                                  <a:pt x="340" y="6951"/>
                                </a:lnTo>
                                <a:lnTo>
                                  <a:pt x="304" y="6834"/>
                                </a:lnTo>
                                <a:lnTo>
                                  <a:pt x="270" y="6714"/>
                                </a:lnTo>
                                <a:lnTo>
                                  <a:pt x="237" y="6589"/>
                                </a:lnTo>
                                <a:lnTo>
                                  <a:pt x="204" y="6460"/>
                                </a:lnTo>
                                <a:lnTo>
                                  <a:pt x="174" y="6327"/>
                                </a:lnTo>
                                <a:lnTo>
                                  <a:pt x="144" y="6192"/>
                                </a:lnTo>
                                <a:lnTo>
                                  <a:pt x="117" y="6052"/>
                                </a:lnTo>
                                <a:lnTo>
                                  <a:pt x="92" y="5909"/>
                                </a:lnTo>
                                <a:lnTo>
                                  <a:pt x="69" y="5763"/>
                                </a:lnTo>
                                <a:lnTo>
                                  <a:pt x="49" y="5615"/>
                                </a:lnTo>
                                <a:lnTo>
                                  <a:pt x="32" y="5465"/>
                                </a:lnTo>
                                <a:lnTo>
                                  <a:pt x="19" y="5312"/>
                                </a:lnTo>
                                <a:lnTo>
                                  <a:pt x="9" y="5157"/>
                                </a:lnTo>
                                <a:lnTo>
                                  <a:pt x="2" y="5001"/>
                                </a:lnTo>
                                <a:lnTo>
                                  <a:pt x="0" y="484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880" bIns="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4" name=""/>
                          <p:cNvSpPr/>
                          <p:nvPr/>
                        </p:nvSpPr>
                        <p:spPr>
                          <a:xfrm>
                            <a:off x="3377520" y="4851000"/>
                            <a:ext cx="57240" cy="89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476" h="10259">
                                <a:moveTo>
                                  <a:pt x="2278" y="0"/>
                                </a:moveTo>
                                <a:lnTo>
                                  <a:pt x="2182" y="48"/>
                                </a:lnTo>
                                <a:lnTo>
                                  <a:pt x="2094" y="95"/>
                                </a:lnTo>
                                <a:lnTo>
                                  <a:pt x="2052" y="117"/>
                                </a:lnTo>
                                <a:lnTo>
                                  <a:pt x="2010" y="138"/>
                                </a:lnTo>
                                <a:lnTo>
                                  <a:pt x="1969" y="159"/>
                                </a:lnTo>
                                <a:lnTo>
                                  <a:pt x="1928" y="178"/>
                                </a:lnTo>
                                <a:lnTo>
                                  <a:pt x="1887" y="195"/>
                                </a:lnTo>
                                <a:lnTo>
                                  <a:pt x="1844" y="211"/>
                                </a:lnTo>
                                <a:lnTo>
                                  <a:pt x="1823" y="218"/>
                                </a:lnTo>
                                <a:lnTo>
                                  <a:pt x="1802" y="226"/>
                                </a:lnTo>
                                <a:lnTo>
                                  <a:pt x="1779" y="232"/>
                                </a:lnTo>
                                <a:lnTo>
                                  <a:pt x="1757" y="237"/>
                                </a:lnTo>
                                <a:lnTo>
                                  <a:pt x="1734" y="242"/>
                                </a:lnTo>
                                <a:lnTo>
                                  <a:pt x="1711" y="247"/>
                                </a:lnTo>
                                <a:lnTo>
                                  <a:pt x="1686" y="250"/>
                                </a:lnTo>
                                <a:lnTo>
                                  <a:pt x="1662" y="253"/>
                                </a:lnTo>
                                <a:lnTo>
                                  <a:pt x="1637" y="256"/>
                                </a:lnTo>
                                <a:lnTo>
                                  <a:pt x="1610" y="258"/>
                                </a:lnTo>
                                <a:lnTo>
                                  <a:pt x="1584" y="259"/>
                                </a:lnTo>
                                <a:lnTo>
                                  <a:pt x="1557" y="259"/>
                                </a:lnTo>
                                <a:lnTo>
                                  <a:pt x="1536" y="258"/>
                                </a:lnTo>
                                <a:lnTo>
                                  <a:pt x="1516" y="255"/>
                                </a:lnTo>
                                <a:lnTo>
                                  <a:pt x="1497" y="251"/>
                                </a:lnTo>
                                <a:lnTo>
                                  <a:pt x="1480" y="246"/>
                                </a:lnTo>
                                <a:lnTo>
                                  <a:pt x="1462" y="239"/>
                                </a:lnTo>
                                <a:lnTo>
                                  <a:pt x="1445" y="232"/>
                                </a:lnTo>
                                <a:lnTo>
                                  <a:pt x="1429" y="224"/>
                                </a:lnTo>
                                <a:lnTo>
                                  <a:pt x="1413" y="215"/>
                                </a:lnTo>
                                <a:lnTo>
                                  <a:pt x="1380" y="200"/>
                                </a:lnTo>
                                <a:lnTo>
                                  <a:pt x="1346" y="186"/>
                                </a:lnTo>
                                <a:lnTo>
                                  <a:pt x="1328" y="181"/>
                                </a:lnTo>
                                <a:lnTo>
                                  <a:pt x="1310" y="176"/>
                                </a:lnTo>
                                <a:lnTo>
                                  <a:pt x="1289" y="174"/>
                                </a:lnTo>
                                <a:lnTo>
                                  <a:pt x="1269" y="173"/>
                                </a:lnTo>
                                <a:lnTo>
                                  <a:pt x="1237" y="173"/>
                                </a:lnTo>
                                <a:lnTo>
                                  <a:pt x="1205" y="175"/>
                                </a:lnTo>
                                <a:lnTo>
                                  <a:pt x="1174" y="179"/>
                                </a:lnTo>
                                <a:lnTo>
                                  <a:pt x="1143" y="184"/>
                                </a:lnTo>
                                <a:lnTo>
                                  <a:pt x="1112" y="190"/>
                                </a:lnTo>
                                <a:lnTo>
                                  <a:pt x="1082" y="197"/>
                                </a:lnTo>
                                <a:lnTo>
                                  <a:pt x="1051" y="205"/>
                                </a:lnTo>
                                <a:lnTo>
                                  <a:pt x="1022" y="215"/>
                                </a:lnTo>
                                <a:lnTo>
                                  <a:pt x="994" y="227"/>
                                </a:lnTo>
                                <a:lnTo>
                                  <a:pt x="965" y="238"/>
                                </a:lnTo>
                                <a:lnTo>
                                  <a:pt x="937" y="252"/>
                                </a:lnTo>
                                <a:lnTo>
                                  <a:pt x="910" y="266"/>
                                </a:lnTo>
                                <a:lnTo>
                                  <a:pt x="884" y="281"/>
                                </a:lnTo>
                                <a:lnTo>
                                  <a:pt x="858" y="297"/>
                                </a:lnTo>
                                <a:lnTo>
                                  <a:pt x="834" y="316"/>
                                </a:lnTo>
                                <a:lnTo>
                                  <a:pt x="810" y="334"/>
                                </a:lnTo>
                                <a:lnTo>
                                  <a:pt x="788" y="353"/>
                                </a:lnTo>
                                <a:lnTo>
                                  <a:pt x="766" y="374"/>
                                </a:lnTo>
                                <a:lnTo>
                                  <a:pt x="746" y="396"/>
                                </a:lnTo>
                                <a:lnTo>
                                  <a:pt x="726" y="418"/>
                                </a:lnTo>
                                <a:lnTo>
                                  <a:pt x="708" y="441"/>
                                </a:lnTo>
                                <a:lnTo>
                                  <a:pt x="691" y="465"/>
                                </a:lnTo>
                                <a:lnTo>
                                  <a:pt x="676" y="491"/>
                                </a:lnTo>
                                <a:lnTo>
                                  <a:pt x="662" y="516"/>
                                </a:lnTo>
                                <a:lnTo>
                                  <a:pt x="649" y="542"/>
                                </a:lnTo>
                                <a:lnTo>
                                  <a:pt x="638" y="570"/>
                                </a:lnTo>
                                <a:lnTo>
                                  <a:pt x="628" y="598"/>
                                </a:lnTo>
                                <a:lnTo>
                                  <a:pt x="620" y="627"/>
                                </a:lnTo>
                                <a:lnTo>
                                  <a:pt x="614" y="657"/>
                                </a:lnTo>
                                <a:lnTo>
                                  <a:pt x="610" y="687"/>
                                </a:lnTo>
                                <a:lnTo>
                                  <a:pt x="607" y="718"/>
                                </a:lnTo>
                                <a:lnTo>
                                  <a:pt x="606" y="749"/>
                                </a:lnTo>
                                <a:lnTo>
                                  <a:pt x="606" y="823"/>
                                </a:lnTo>
                                <a:lnTo>
                                  <a:pt x="607" y="895"/>
                                </a:lnTo>
                                <a:lnTo>
                                  <a:pt x="609" y="966"/>
                                </a:lnTo>
                                <a:lnTo>
                                  <a:pt x="613" y="1035"/>
                                </a:lnTo>
                                <a:lnTo>
                                  <a:pt x="616" y="1068"/>
                                </a:lnTo>
                                <a:lnTo>
                                  <a:pt x="619" y="1101"/>
                                </a:lnTo>
                                <a:lnTo>
                                  <a:pt x="623" y="1135"/>
                                </a:lnTo>
                                <a:lnTo>
                                  <a:pt x="628" y="1167"/>
                                </a:lnTo>
                                <a:lnTo>
                                  <a:pt x="633" y="1200"/>
                                </a:lnTo>
                                <a:lnTo>
                                  <a:pt x="639" y="1231"/>
                                </a:lnTo>
                                <a:lnTo>
                                  <a:pt x="646" y="1261"/>
                                </a:lnTo>
                                <a:lnTo>
                                  <a:pt x="654" y="1292"/>
                                </a:lnTo>
                                <a:lnTo>
                                  <a:pt x="664" y="1322"/>
                                </a:lnTo>
                                <a:lnTo>
                                  <a:pt x="674" y="1351"/>
                                </a:lnTo>
                                <a:lnTo>
                                  <a:pt x="684" y="1381"/>
                                </a:lnTo>
                                <a:lnTo>
                                  <a:pt x="697" y="1409"/>
                                </a:lnTo>
                                <a:lnTo>
                                  <a:pt x="710" y="1436"/>
                                </a:lnTo>
                                <a:lnTo>
                                  <a:pt x="724" y="1464"/>
                                </a:lnTo>
                                <a:lnTo>
                                  <a:pt x="741" y="1490"/>
                                </a:lnTo>
                                <a:lnTo>
                                  <a:pt x="758" y="1516"/>
                                </a:lnTo>
                                <a:lnTo>
                                  <a:pt x="776" y="1542"/>
                                </a:lnTo>
                                <a:lnTo>
                                  <a:pt x="796" y="1566"/>
                                </a:lnTo>
                                <a:lnTo>
                                  <a:pt x="819" y="1590"/>
                                </a:lnTo>
                                <a:lnTo>
                                  <a:pt x="842" y="1614"/>
                                </a:lnTo>
                                <a:lnTo>
                                  <a:pt x="866" y="1636"/>
                                </a:lnTo>
                                <a:lnTo>
                                  <a:pt x="893" y="1658"/>
                                </a:lnTo>
                                <a:lnTo>
                                  <a:pt x="922" y="1679"/>
                                </a:lnTo>
                                <a:lnTo>
                                  <a:pt x="952" y="1700"/>
                                </a:lnTo>
                                <a:lnTo>
                                  <a:pt x="988" y="1722"/>
                                </a:lnTo>
                                <a:lnTo>
                                  <a:pt x="1023" y="1742"/>
                                </a:lnTo>
                                <a:lnTo>
                                  <a:pt x="1058" y="1758"/>
                                </a:lnTo>
                                <a:lnTo>
                                  <a:pt x="1094" y="1774"/>
                                </a:lnTo>
                                <a:lnTo>
                                  <a:pt x="1129" y="1786"/>
                                </a:lnTo>
                                <a:lnTo>
                                  <a:pt x="1165" y="1796"/>
                                </a:lnTo>
                                <a:lnTo>
                                  <a:pt x="1200" y="1804"/>
                                </a:lnTo>
                                <a:lnTo>
                                  <a:pt x="1236" y="1811"/>
                                </a:lnTo>
                                <a:lnTo>
                                  <a:pt x="1271" y="1816"/>
                                </a:lnTo>
                                <a:lnTo>
                                  <a:pt x="1307" y="1820"/>
                                </a:lnTo>
                                <a:lnTo>
                                  <a:pt x="1342" y="1823"/>
                                </a:lnTo>
                                <a:lnTo>
                                  <a:pt x="1377" y="1825"/>
                                </a:lnTo>
                                <a:lnTo>
                                  <a:pt x="1449" y="1826"/>
                                </a:lnTo>
                                <a:lnTo>
                                  <a:pt x="1520" y="1826"/>
                                </a:lnTo>
                                <a:lnTo>
                                  <a:pt x="1591" y="1825"/>
                                </a:lnTo>
                                <a:lnTo>
                                  <a:pt x="1663" y="1826"/>
                                </a:lnTo>
                                <a:lnTo>
                                  <a:pt x="1699" y="1827"/>
                                </a:lnTo>
                                <a:lnTo>
                                  <a:pt x="1735" y="1829"/>
                                </a:lnTo>
                                <a:lnTo>
                                  <a:pt x="1771" y="1832"/>
                                </a:lnTo>
                                <a:lnTo>
                                  <a:pt x="1808" y="1835"/>
                                </a:lnTo>
                                <a:lnTo>
                                  <a:pt x="1844" y="1841"/>
                                </a:lnTo>
                                <a:lnTo>
                                  <a:pt x="1881" y="1849"/>
                                </a:lnTo>
                                <a:lnTo>
                                  <a:pt x="1918" y="1857"/>
                                </a:lnTo>
                                <a:lnTo>
                                  <a:pt x="1955" y="1867"/>
                                </a:lnTo>
                                <a:lnTo>
                                  <a:pt x="1992" y="1879"/>
                                </a:lnTo>
                                <a:lnTo>
                                  <a:pt x="2029" y="1894"/>
                                </a:lnTo>
                                <a:lnTo>
                                  <a:pt x="2067" y="1911"/>
                                </a:lnTo>
                                <a:lnTo>
                                  <a:pt x="2104" y="1931"/>
                                </a:lnTo>
                                <a:lnTo>
                                  <a:pt x="2135" y="1948"/>
                                </a:lnTo>
                                <a:lnTo>
                                  <a:pt x="2163" y="1966"/>
                                </a:lnTo>
                                <a:lnTo>
                                  <a:pt x="2190" y="1985"/>
                                </a:lnTo>
                                <a:lnTo>
                                  <a:pt x="2217" y="2006"/>
                                </a:lnTo>
                                <a:lnTo>
                                  <a:pt x="2241" y="2026"/>
                                </a:lnTo>
                                <a:lnTo>
                                  <a:pt x="2264" y="2047"/>
                                </a:lnTo>
                                <a:lnTo>
                                  <a:pt x="2287" y="2069"/>
                                </a:lnTo>
                                <a:lnTo>
                                  <a:pt x="2307" y="2093"/>
                                </a:lnTo>
                                <a:lnTo>
                                  <a:pt x="2327" y="2117"/>
                                </a:lnTo>
                                <a:lnTo>
                                  <a:pt x="2345" y="2141"/>
                                </a:lnTo>
                                <a:lnTo>
                                  <a:pt x="2362" y="2166"/>
                                </a:lnTo>
                                <a:lnTo>
                                  <a:pt x="2378" y="2192"/>
                                </a:lnTo>
                                <a:lnTo>
                                  <a:pt x="2393" y="2218"/>
                                </a:lnTo>
                                <a:lnTo>
                                  <a:pt x="2406" y="2245"/>
                                </a:lnTo>
                                <a:lnTo>
                                  <a:pt x="2419" y="2274"/>
                                </a:lnTo>
                                <a:lnTo>
                                  <a:pt x="2430" y="2302"/>
                                </a:lnTo>
                                <a:lnTo>
                                  <a:pt x="2442" y="2331"/>
                                </a:lnTo>
                                <a:lnTo>
                                  <a:pt x="2451" y="2360"/>
                                </a:lnTo>
                                <a:lnTo>
                                  <a:pt x="2460" y="2390"/>
                                </a:lnTo>
                                <a:lnTo>
                                  <a:pt x="2468" y="2422"/>
                                </a:lnTo>
                                <a:lnTo>
                                  <a:pt x="2475" y="2452"/>
                                </a:lnTo>
                                <a:lnTo>
                                  <a:pt x="2481" y="2484"/>
                                </a:lnTo>
                                <a:lnTo>
                                  <a:pt x="2487" y="2516"/>
                                </a:lnTo>
                                <a:lnTo>
                                  <a:pt x="2491" y="2549"/>
                                </a:lnTo>
                                <a:lnTo>
                                  <a:pt x="2495" y="2582"/>
                                </a:lnTo>
                                <a:lnTo>
                                  <a:pt x="2499" y="2615"/>
                                </a:lnTo>
                                <a:lnTo>
                                  <a:pt x="2502" y="2649"/>
                                </a:lnTo>
                                <a:lnTo>
                                  <a:pt x="2504" y="2684"/>
                                </a:lnTo>
                                <a:lnTo>
                                  <a:pt x="2507" y="2753"/>
                                </a:lnTo>
                                <a:lnTo>
                                  <a:pt x="2508" y="2824"/>
                                </a:lnTo>
                                <a:lnTo>
                                  <a:pt x="2509" y="2853"/>
                                </a:lnTo>
                                <a:lnTo>
                                  <a:pt x="2513" y="2880"/>
                                </a:lnTo>
                                <a:lnTo>
                                  <a:pt x="2521" y="2907"/>
                                </a:lnTo>
                                <a:lnTo>
                                  <a:pt x="2529" y="2931"/>
                                </a:lnTo>
                                <a:lnTo>
                                  <a:pt x="2540" y="2954"/>
                                </a:lnTo>
                                <a:lnTo>
                                  <a:pt x="2553" y="2975"/>
                                </a:lnTo>
                                <a:lnTo>
                                  <a:pt x="2568" y="2997"/>
                                </a:lnTo>
                                <a:lnTo>
                                  <a:pt x="2584" y="3017"/>
                                </a:lnTo>
                                <a:lnTo>
                                  <a:pt x="2603" y="3036"/>
                                </a:lnTo>
                                <a:lnTo>
                                  <a:pt x="2622" y="3054"/>
                                </a:lnTo>
                                <a:lnTo>
                                  <a:pt x="2642" y="3073"/>
                                </a:lnTo>
                                <a:lnTo>
                                  <a:pt x="2663" y="3090"/>
                                </a:lnTo>
                                <a:lnTo>
                                  <a:pt x="2707" y="3123"/>
                                </a:lnTo>
                                <a:lnTo>
                                  <a:pt x="2753" y="3156"/>
                                </a:lnTo>
                                <a:lnTo>
                                  <a:pt x="2799" y="3188"/>
                                </a:lnTo>
                                <a:lnTo>
                                  <a:pt x="2843" y="3222"/>
                                </a:lnTo>
                                <a:lnTo>
                                  <a:pt x="2864" y="3239"/>
                                </a:lnTo>
                                <a:lnTo>
                                  <a:pt x="2884" y="3257"/>
                                </a:lnTo>
                                <a:lnTo>
                                  <a:pt x="2903" y="3275"/>
                                </a:lnTo>
                                <a:lnTo>
                                  <a:pt x="2921" y="3294"/>
                                </a:lnTo>
                                <a:lnTo>
                                  <a:pt x="2938" y="3315"/>
                                </a:lnTo>
                                <a:lnTo>
                                  <a:pt x="2953" y="3335"/>
                                </a:lnTo>
                                <a:lnTo>
                                  <a:pt x="2966" y="3357"/>
                                </a:lnTo>
                                <a:lnTo>
                                  <a:pt x="2977" y="3380"/>
                                </a:lnTo>
                                <a:lnTo>
                                  <a:pt x="2985" y="3405"/>
                                </a:lnTo>
                                <a:lnTo>
                                  <a:pt x="2992" y="3431"/>
                                </a:lnTo>
                                <a:lnTo>
                                  <a:pt x="2996" y="3458"/>
                                </a:lnTo>
                                <a:lnTo>
                                  <a:pt x="2998" y="3487"/>
                                </a:lnTo>
                                <a:lnTo>
                                  <a:pt x="2995" y="3538"/>
                                </a:lnTo>
                                <a:lnTo>
                                  <a:pt x="2987" y="3585"/>
                                </a:lnTo>
                                <a:lnTo>
                                  <a:pt x="2974" y="3626"/>
                                </a:lnTo>
                                <a:lnTo>
                                  <a:pt x="2956" y="3660"/>
                                </a:lnTo>
                                <a:lnTo>
                                  <a:pt x="2934" y="3691"/>
                                </a:lnTo>
                                <a:lnTo>
                                  <a:pt x="2907" y="3717"/>
                                </a:lnTo>
                                <a:lnTo>
                                  <a:pt x="2876" y="3739"/>
                                </a:lnTo>
                                <a:lnTo>
                                  <a:pt x="2841" y="3757"/>
                                </a:lnTo>
                                <a:lnTo>
                                  <a:pt x="2804" y="3772"/>
                                </a:lnTo>
                                <a:lnTo>
                                  <a:pt x="2763" y="3783"/>
                                </a:lnTo>
                                <a:lnTo>
                                  <a:pt x="2718" y="3793"/>
                                </a:lnTo>
                                <a:lnTo>
                                  <a:pt x="2671" y="3799"/>
                                </a:lnTo>
                                <a:lnTo>
                                  <a:pt x="2622" y="3803"/>
                                </a:lnTo>
                                <a:lnTo>
                                  <a:pt x="2570" y="3805"/>
                                </a:lnTo>
                                <a:lnTo>
                                  <a:pt x="2516" y="3806"/>
                                </a:lnTo>
                                <a:lnTo>
                                  <a:pt x="2461" y="3806"/>
                                </a:lnTo>
                                <a:lnTo>
                                  <a:pt x="2346" y="3804"/>
                                </a:lnTo>
                                <a:lnTo>
                                  <a:pt x="2228" y="3801"/>
                                </a:lnTo>
                                <a:lnTo>
                                  <a:pt x="2168" y="3800"/>
                                </a:lnTo>
                                <a:lnTo>
                                  <a:pt x="2108" y="3800"/>
                                </a:lnTo>
                                <a:lnTo>
                                  <a:pt x="2049" y="3801"/>
                                </a:lnTo>
                                <a:lnTo>
                                  <a:pt x="1989" y="3803"/>
                                </a:lnTo>
                                <a:lnTo>
                                  <a:pt x="1930" y="3808"/>
                                </a:lnTo>
                                <a:lnTo>
                                  <a:pt x="1872" y="3815"/>
                                </a:lnTo>
                                <a:lnTo>
                                  <a:pt x="1815" y="3824"/>
                                </a:lnTo>
                                <a:lnTo>
                                  <a:pt x="1759" y="3836"/>
                                </a:lnTo>
                                <a:lnTo>
                                  <a:pt x="1705" y="3851"/>
                                </a:lnTo>
                                <a:lnTo>
                                  <a:pt x="1654" y="3870"/>
                                </a:lnTo>
                                <a:lnTo>
                                  <a:pt x="1604" y="3893"/>
                                </a:lnTo>
                                <a:lnTo>
                                  <a:pt x="1557" y="3919"/>
                                </a:lnTo>
                                <a:lnTo>
                                  <a:pt x="1535" y="3934"/>
                                </a:lnTo>
                                <a:lnTo>
                                  <a:pt x="1517" y="3950"/>
                                </a:lnTo>
                                <a:lnTo>
                                  <a:pt x="1500" y="3966"/>
                                </a:lnTo>
                                <a:lnTo>
                                  <a:pt x="1485" y="3982"/>
                                </a:lnTo>
                                <a:lnTo>
                                  <a:pt x="1472" y="4000"/>
                                </a:lnTo>
                                <a:lnTo>
                                  <a:pt x="1460" y="4018"/>
                                </a:lnTo>
                                <a:lnTo>
                                  <a:pt x="1451" y="4037"/>
                                </a:lnTo>
                                <a:lnTo>
                                  <a:pt x="1443" y="4056"/>
                                </a:lnTo>
                                <a:lnTo>
                                  <a:pt x="1436" y="4076"/>
                                </a:lnTo>
                                <a:lnTo>
                                  <a:pt x="1431" y="4097"/>
                                </a:lnTo>
                                <a:lnTo>
                                  <a:pt x="1428" y="4118"/>
                                </a:lnTo>
                                <a:lnTo>
                                  <a:pt x="1425" y="4140"/>
                                </a:lnTo>
                                <a:lnTo>
                                  <a:pt x="1424" y="4162"/>
                                </a:lnTo>
                                <a:lnTo>
                                  <a:pt x="1423" y="4184"/>
                                </a:lnTo>
                                <a:lnTo>
                                  <a:pt x="1423" y="4208"/>
                                </a:lnTo>
                                <a:lnTo>
                                  <a:pt x="1425" y="4231"/>
                                </a:lnTo>
                                <a:lnTo>
                                  <a:pt x="1429" y="4279"/>
                                </a:lnTo>
                                <a:lnTo>
                                  <a:pt x="1435" y="4328"/>
                                </a:lnTo>
                                <a:lnTo>
                                  <a:pt x="1442" y="4379"/>
                                </a:lnTo>
                                <a:lnTo>
                                  <a:pt x="1450" y="4430"/>
                                </a:lnTo>
                                <a:lnTo>
                                  <a:pt x="1458" y="4482"/>
                                </a:lnTo>
                                <a:lnTo>
                                  <a:pt x="1464" y="4535"/>
                                </a:lnTo>
                                <a:lnTo>
                                  <a:pt x="1467" y="4561"/>
                                </a:lnTo>
                                <a:lnTo>
                                  <a:pt x="1469" y="4587"/>
                                </a:lnTo>
                                <a:lnTo>
                                  <a:pt x="1470" y="4614"/>
                                </a:lnTo>
                                <a:lnTo>
                                  <a:pt x="1471" y="4640"/>
                                </a:lnTo>
                                <a:lnTo>
                                  <a:pt x="1469" y="4680"/>
                                </a:lnTo>
                                <a:lnTo>
                                  <a:pt x="1464" y="4716"/>
                                </a:lnTo>
                                <a:lnTo>
                                  <a:pt x="1456" y="4750"/>
                                </a:lnTo>
                                <a:lnTo>
                                  <a:pt x="1446" y="4782"/>
                                </a:lnTo>
                                <a:lnTo>
                                  <a:pt x="1433" y="4812"/>
                                </a:lnTo>
                                <a:lnTo>
                                  <a:pt x="1417" y="4839"/>
                                </a:lnTo>
                                <a:lnTo>
                                  <a:pt x="1400" y="4866"/>
                                </a:lnTo>
                                <a:lnTo>
                                  <a:pt x="1379" y="4890"/>
                                </a:lnTo>
                                <a:lnTo>
                                  <a:pt x="1356" y="4912"/>
                                </a:lnTo>
                                <a:lnTo>
                                  <a:pt x="1332" y="4934"/>
                                </a:lnTo>
                                <a:lnTo>
                                  <a:pt x="1306" y="4953"/>
                                </a:lnTo>
                                <a:lnTo>
                                  <a:pt x="1277" y="4971"/>
                                </a:lnTo>
                                <a:lnTo>
                                  <a:pt x="1248" y="4989"/>
                                </a:lnTo>
                                <a:lnTo>
                                  <a:pt x="1216" y="5006"/>
                                </a:lnTo>
                                <a:lnTo>
                                  <a:pt x="1184" y="5021"/>
                                </a:lnTo>
                                <a:lnTo>
                                  <a:pt x="1150" y="5035"/>
                                </a:lnTo>
                                <a:lnTo>
                                  <a:pt x="1115" y="5049"/>
                                </a:lnTo>
                                <a:lnTo>
                                  <a:pt x="1079" y="5063"/>
                                </a:lnTo>
                                <a:lnTo>
                                  <a:pt x="1042" y="5076"/>
                                </a:lnTo>
                                <a:lnTo>
                                  <a:pt x="1005" y="5089"/>
                                </a:lnTo>
                                <a:lnTo>
                                  <a:pt x="928" y="5115"/>
                                </a:lnTo>
                                <a:lnTo>
                                  <a:pt x="850" y="5141"/>
                                </a:lnTo>
                                <a:lnTo>
                                  <a:pt x="811" y="5155"/>
                                </a:lnTo>
                                <a:lnTo>
                                  <a:pt x="772" y="5170"/>
                                </a:lnTo>
                                <a:lnTo>
                                  <a:pt x="733" y="5185"/>
                                </a:lnTo>
                                <a:lnTo>
                                  <a:pt x="695" y="5200"/>
                                </a:lnTo>
                                <a:lnTo>
                                  <a:pt x="658" y="5217"/>
                                </a:lnTo>
                                <a:lnTo>
                                  <a:pt x="620" y="5234"/>
                                </a:lnTo>
                                <a:lnTo>
                                  <a:pt x="584" y="5254"/>
                                </a:lnTo>
                                <a:lnTo>
                                  <a:pt x="548" y="5274"/>
                                </a:lnTo>
                                <a:lnTo>
                                  <a:pt x="509" y="5298"/>
                                </a:lnTo>
                                <a:lnTo>
                                  <a:pt x="471" y="5324"/>
                                </a:lnTo>
                                <a:lnTo>
                                  <a:pt x="435" y="5351"/>
                                </a:lnTo>
                                <a:lnTo>
                                  <a:pt x="400" y="5378"/>
                                </a:lnTo>
                                <a:lnTo>
                                  <a:pt x="368" y="5406"/>
                                </a:lnTo>
                                <a:lnTo>
                                  <a:pt x="338" y="5435"/>
                                </a:lnTo>
                                <a:lnTo>
                                  <a:pt x="308" y="5465"/>
                                </a:lnTo>
                                <a:lnTo>
                                  <a:pt x="280" y="5496"/>
                                </a:lnTo>
                                <a:lnTo>
                                  <a:pt x="255" y="5527"/>
                                </a:lnTo>
                                <a:lnTo>
                                  <a:pt x="229" y="5559"/>
                                </a:lnTo>
                                <a:lnTo>
                                  <a:pt x="207" y="5593"/>
                                </a:lnTo>
                                <a:lnTo>
                                  <a:pt x="185" y="5626"/>
                                </a:lnTo>
                                <a:lnTo>
                                  <a:pt x="164" y="5661"/>
                                </a:lnTo>
                                <a:lnTo>
                                  <a:pt x="146" y="5696"/>
                                </a:lnTo>
                                <a:lnTo>
                                  <a:pt x="128" y="5732"/>
                                </a:lnTo>
                                <a:lnTo>
                                  <a:pt x="113" y="5768"/>
                                </a:lnTo>
                                <a:lnTo>
                                  <a:pt x="98" y="5805"/>
                                </a:lnTo>
                                <a:lnTo>
                                  <a:pt x="83" y="5844"/>
                                </a:lnTo>
                                <a:lnTo>
                                  <a:pt x="71" y="5882"/>
                                </a:lnTo>
                                <a:lnTo>
                                  <a:pt x="60" y="5922"/>
                                </a:lnTo>
                                <a:lnTo>
                                  <a:pt x="50" y="5961"/>
                                </a:lnTo>
                                <a:lnTo>
                                  <a:pt x="41" y="6002"/>
                                </a:lnTo>
                                <a:lnTo>
                                  <a:pt x="33" y="6043"/>
                                </a:lnTo>
                                <a:lnTo>
                                  <a:pt x="26" y="6085"/>
                                </a:lnTo>
                                <a:lnTo>
                                  <a:pt x="20" y="6127"/>
                                </a:lnTo>
                                <a:lnTo>
                                  <a:pt x="15" y="6171"/>
                                </a:lnTo>
                                <a:lnTo>
                                  <a:pt x="10" y="6214"/>
                                </a:lnTo>
                                <a:lnTo>
                                  <a:pt x="6" y="6259"/>
                                </a:lnTo>
                                <a:lnTo>
                                  <a:pt x="3" y="6304"/>
                                </a:lnTo>
                                <a:lnTo>
                                  <a:pt x="2" y="6349"/>
                                </a:lnTo>
                                <a:lnTo>
                                  <a:pt x="1" y="6395"/>
                                </a:lnTo>
                                <a:lnTo>
                                  <a:pt x="0" y="6441"/>
                                </a:lnTo>
                                <a:lnTo>
                                  <a:pt x="1" y="6489"/>
                                </a:lnTo>
                                <a:lnTo>
                                  <a:pt x="3" y="6536"/>
                                </a:lnTo>
                                <a:lnTo>
                                  <a:pt x="6" y="6583"/>
                                </a:lnTo>
                                <a:lnTo>
                                  <a:pt x="12" y="6630"/>
                                </a:lnTo>
                                <a:lnTo>
                                  <a:pt x="18" y="6675"/>
                                </a:lnTo>
                                <a:lnTo>
                                  <a:pt x="25" y="6720"/>
                                </a:lnTo>
                                <a:lnTo>
                                  <a:pt x="34" y="6764"/>
                                </a:lnTo>
                                <a:lnTo>
                                  <a:pt x="44" y="6808"/>
                                </a:lnTo>
                                <a:lnTo>
                                  <a:pt x="56" y="6851"/>
                                </a:lnTo>
                                <a:lnTo>
                                  <a:pt x="69" y="6893"/>
                                </a:lnTo>
                                <a:lnTo>
                                  <a:pt x="83" y="6934"/>
                                </a:lnTo>
                                <a:lnTo>
                                  <a:pt x="100" y="6975"/>
                                </a:lnTo>
                                <a:lnTo>
                                  <a:pt x="117" y="7015"/>
                                </a:lnTo>
                                <a:lnTo>
                                  <a:pt x="135" y="7054"/>
                                </a:lnTo>
                                <a:lnTo>
                                  <a:pt x="155" y="7091"/>
                                </a:lnTo>
                                <a:lnTo>
                                  <a:pt x="178" y="7128"/>
                                </a:lnTo>
                                <a:lnTo>
                                  <a:pt x="200" y="7164"/>
                                </a:lnTo>
                                <a:lnTo>
                                  <a:pt x="224" y="7199"/>
                                </a:lnTo>
                                <a:lnTo>
                                  <a:pt x="251" y="7232"/>
                                </a:lnTo>
                                <a:lnTo>
                                  <a:pt x="278" y="7264"/>
                                </a:lnTo>
                                <a:lnTo>
                                  <a:pt x="306" y="7296"/>
                                </a:lnTo>
                                <a:lnTo>
                                  <a:pt x="337" y="7326"/>
                                </a:lnTo>
                                <a:lnTo>
                                  <a:pt x="369" y="7355"/>
                                </a:lnTo>
                                <a:lnTo>
                                  <a:pt x="401" y="7382"/>
                                </a:lnTo>
                                <a:lnTo>
                                  <a:pt x="437" y="7408"/>
                                </a:lnTo>
                                <a:lnTo>
                                  <a:pt x="472" y="7434"/>
                                </a:lnTo>
                                <a:lnTo>
                                  <a:pt x="511" y="7457"/>
                                </a:lnTo>
                                <a:lnTo>
                                  <a:pt x="549" y="7478"/>
                                </a:lnTo>
                                <a:lnTo>
                                  <a:pt x="590" y="7498"/>
                                </a:lnTo>
                                <a:lnTo>
                                  <a:pt x="632" y="7518"/>
                                </a:lnTo>
                                <a:lnTo>
                                  <a:pt x="676" y="7535"/>
                                </a:lnTo>
                                <a:lnTo>
                                  <a:pt x="721" y="7551"/>
                                </a:lnTo>
                                <a:lnTo>
                                  <a:pt x="758" y="7562"/>
                                </a:lnTo>
                                <a:lnTo>
                                  <a:pt x="793" y="7571"/>
                                </a:lnTo>
                                <a:lnTo>
                                  <a:pt x="829" y="7579"/>
                                </a:lnTo>
                                <a:lnTo>
                                  <a:pt x="864" y="7585"/>
                                </a:lnTo>
                                <a:lnTo>
                                  <a:pt x="900" y="7589"/>
                                </a:lnTo>
                                <a:lnTo>
                                  <a:pt x="934" y="7593"/>
                                </a:lnTo>
                                <a:lnTo>
                                  <a:pt x="968" y="7596"/>
                                </a:lnTo>
                                <a:lnTo>
                                  <a:pt x="1003" y="7597"/>
                                </a:lnTo>
                                <a:lnTo>
                                  <a:pt x="1036" y="7598"/>
                                </a:lnTo>
                                <a:lnTo>
                                  <a:pt x="1071" y="7598"/>
                                </a:lnTo>
                                <a:lnTo>
                                  <a:pt x="1104" y="7597"/>
                                </a:lnTo>
                                <a:lnTo>
                                  <a:pt x="1136" y="7596"/>
                                </a:lnTo>
                                <a:lnTo>
                                  <a:pt x="1202" y="7593"/>
                                </a:lnTo>
                                <a:lnTo>
                                  <a:pt x="1267" y="7591"/>
                                </a:lnTo>
                                <a:lnTo>
                                  <a:pt x="1298" y="7590"/>
                                </a:lnTo>
                                <a:lnTo>
                                  <a:pt x="1331" y="7590"/>
                                </a:lnTo>
                                <a:lnTo>
                                  <a:pt x="1362" y="7590"/>
                                </a:lnTo>
                                <a:lnTo>
                                  <a:pt x="1394" y="7592"/>
                                </a:lnTo>
                                <a:lnTo>
                                  <a:pt x="1425" y="7595"/>
                                </a:lnTo>
                                <a:lnTo>
                                  <a:pt x="1455" y="7598"/>
                                </a:lnTo>
                                <a:lnTo>
                                  <a:pt x="1487" y="7603"/>
                                </a:lnTo>
                                <a:lnTo>
                                  <a:pt x="1517" y="7609"/>
                                </a:lnTo>
                                <a:lnTo>
                                  <a:pt x="1548" y="7616"/>
                                </a:lnTo>
                                <a:lnTo>
                                  <a:pt x="1579" y="7625"/>
                                </a:lnTo>
                                <a:lnTo>
                                  <a:pt x="1608" y="7636"/>
                                </a:lnTo>
                                <a:lnTo>
                                  <a:pt x="1639" y="7649"/>
                                </a:lnTo>
                                <a:lnTo>
                                  <a:pt x="1669" y="7664"/>
                                </a:lnTo>
                                <a:lnTo>
                                  <a:pt x="1699" y="7682"/>
                                </a:lnTo>
                                <a:lnTo>
                                  <a:pt x="1729" y="7701"/>
                                </a:lnTo>
                                <a:lnTo>
                                  <a:pt x="1759" y="7723"/>
                                </a:lnTo>
                                <a:lnTo>
                                  <a:pt x="1790" y="7748"/>
                                </a:lnTo>
                                <a:lnTo>
                                  <a:pt x="1818" y="7775"/>
                                </a:lnTo>
                                <a:lnTo>
                                  <a:pt x="1845" y="7801"/>
                                </a:lnTo>
                                <a:lnTo>
                                  <a:pt x="1871" y="7828"/>
                                </a:lnTo>
                                <a:lnTo>
                                  <a:pt x="1895" y="7856"/>
                                </a:lnTo>
                                <a:lnTo>
                                  <a:pt x="1916" y="7884"/>
                                </a:lnTo>
                                <a:lnTo>
                                  <a:pt x="1936" y="7912"/>
                                </a:lnTo>
                                <a:lnTo>
                                  <a:pt x="1956" y="7942"/>
                                </a:lnTo>
                                <a:lnTo>
                                  <a:pt x="1973" y="7972"/>
                                </a:lnTo>
                                <a:lnTo>
                                  <a:pt x="1989" y="8002"/>
                                </a:lnTo>
                                <a:lnTo>
                                  <a:pt x="2003" y="8033"/>
                                </a:lnTo>
                                <a:lnTo>
                                  <a:pt x="2017" y="8064"/>
                                </a:lnTo>
                                <a:lnTo>
                                  <a:pt x="2028" y="8096"/>
                                </a:lnTo>
                                <a:lnTo>
                                  <a:pt x="2040" y="8128"/>
                                </a:lnTo>
                                <a:lnTo>
                                  <a:pt x="2050" y="8162"/>
                                </a:lnTo>
                                <a:lnTo>
                                  <a:pt x="2059" y="8195"/>
                                </a:lnTo>
                                <a:lnTo>
                                  <a:pt x="2066" y="8228"/>
                                </a:lnTo>
                                <a:lnTo>
                                  <a:pt x="2073" y="8263"/>
                                </a:lnTo>
                                <a:lnTo>
                                  <a:pt x="2079" y="8297"/>
                                </a:lnTo>
                                <a:lnTo>
                                  <a:pt x="2084" y="8333"/>
                                </a:lnTo>
                                <a:lnTo>
                                  <a:pt x="2089" y="8369"/>
                                </a:lnTo>
                                <a:lnTo>
                                  <a:pt x="2092" y="8405"/>
                                </a:lnTo>
                                <a:lnTo>
                                  <a:pt x="2095" y="8441"/>
                                </a:lnTo>
                                <a:lnTo>
                                  <a:pt x="2098" y="8478"/>
                                </a:lnTo>
                                <a:lnTo>
                                  <a:pt x="2101" y="8553"/>
                                </a:lnTo>
                                <a:lnTo>
                                  <a:pt x="2103" y="8631"/>
                                </a:lnTo>
                                <a:lnTo>
                                  <a:pt x="2104" y="8709"/>
                                </a:lnTo>
                                <a:lnTo>
                                  <a:pt x="2104" y="8790"/>
                                </a:lnTo>
                                <a:lnTo>
                                  <a:pt x="2105" y="8811"/>
                                </a:lnTo>
                                <a:lnTo>
                                  <a:pt x="2108" y="8831"/>
                                </a:lnTo>
                                <a:lnTo>
                                  <a:pt x="2112" y="8849"/>
                                </a:lnTo>
                                <a:lnTo>
                                  <a:pt x="2118" y="8867"/>
                                </a:lnTo>
                                <a:lnTo>
                                  <a:pt x="2125" y="8884"/>
                                </a:lnTo>
                                <a:lnTo>
                                  <a:pt x="2132" y="8902"/>
                                </a:lnTo>
                                <a:lnTo>
                                  <a:pt x="2140" y="8918"/>
                                </a:lnTo>
                                <a:lnTo>
                                  <a:pt x="2148" y="8934"/>
                                </a:lnTo>
                                <a:lnTo>
                                  <a:pt x="2156" y="8950"/>
                                </a:lnTo>
                                <a:lnTo>
                                  <a:pt x="2163" y="8966"/>
                                </a:lnTo>
                                <a:lnTo>
                                  <a:pt x="2171" y="8984"/>
                                </a:lnTo>
                                <a:lnTo>
                                  <a:pt x="2177" y="9001"/>
                                </a:lnTo>
                                <a:lnTo>
                                  <a:pt x="2183" y="9019"/>
                                </a:lnTo>
                                <a:lnTo>
                                  <a:pt x="2187" y="9037"/>
                                </a:lnTo>
                                <a:lnTo>
                                  <a:pt x="2190" y="9058"/>
                                </a:lnTo>
                                <a:lnTo>
                                  <a:pt x="2191" y="9078"/>
                                </a:lnTo>
                                <a:lnTo>
                                  <a:pt x="2189" y="9122"/>
                                </a:lnTo>
                                <a:lnTo>
                                  <a:pt x="2185" y="9165"/>
                                </a:lnTo>
                                <a:lnTo>
                                  <a:pt x="2179" y="9205"/>
                                </a:lnTo>
                                <a:lnTo>
                                  <a:pt x="2170" y="9245"/>
                                </a:lnTo>
                                <a:lnTo>
                                  <a:pt x="2160" y="9282"/>
                                </a:lnTo>
                                <a:lnTo>
                                  <a:pt x="2147" y="9319"/>
                                </a:lnTo>
                                <a:lnTo>
                                  <a:pt x="2133" y="9353"/>
                                </a:lnTo>
                                <a:lnTo>
                                  <a:pt x="2117" y="9387"/>
                                </a:lnTo>
                                <a:lnTo>
                                  <a:pt x="2098" y="9420"/>
                                </a:lnTo>
                                <a:lnTo>
                                  <a:pt x="2079" y="9451"/>
                                </a:lnTo>
                                <a:lnTo>
                                  <a:pt x="2059" y="9483"/>
                                </a:lnTo>
                                <a:lnTo>
                                  <a:pt x="2037" y="9513"/>
                                </a:lnTo>
                                <a:lnTo>
                                  <a:pt x="2014" y="9544"/>
                                </a:lnTo>
                                <a:lnTo>
                                  <a:pt x="1991" y="9573"/>
                                </a:lnTo>
                                <a:lnTo>
                                  <a:pt x="1968" y="9602"/>
                                </a:lnTo>
                                <a:lnTo>
                                  <a:pt x="1943" y="9631"/>
                                </a:lnTo>
                                <a:lnTo>
                                  <a:pt x="1894" y="9689"/>
                                </a:lnTo>
                                <a:lnTo>
                                  <a:pt x="1844" y="9748"/>
                                </a:lnTo>
                                <a:lnTo>
                                  <a:pt x="1820" y="9778"/>
                                </a:lnTo>
                                <a:lnTo>
                                  <a:pt x="1797" y="9809"/>
                                </a:lnTo>
                                <a:lnTo>
                                  <a:pt x="1772" y="9840"/>
                                </a:lnTo>
                                <a:lnTo>
                                  <a:pt x="1750" y="9873"/>
                                </a:lnTo>
                                <a:lnTo>
                                  <a:pt x="1729" y="9906"/>
                                </a:lnTo>
                                <a:lnTo>
                                  <a:pt x="1707" y="9939"/>
                                </a:lnTo>
                                <a:lnTo>
                                  <a:pt x="1688" y="9975"/>
                                </a:lnTo>
                                <a:lnTo>
                                  <a:pt x="1670" y="10011"/>
                                </a:lnTo>
                                <a:lnTo>
                                  <a:pt x="1654" y="10050"/>
                                </a:lnTo>
                                <a:lnTo>
                                  <a:pt x="1639" y="10089"/>
                                </a:lnTo>
                                <a:lnTo>
                                  <a:pt x="1625" y="10131"/>
                                </a:lnTo>
                                <a:lnTo>
                                  <a:pt x="1614" y="10173"/>
                                </a:lnTo>
                                <a:lnTo>
                                  <a:pt x="1636" y="10185"/>
                                </a:lnTo>
                                <a:lnTo>
                                  <a:pt x="1656" y="10199"/>
                                </a:lnTo>
                                <a:lnTo>
                                  <a:pt x="1676" y="10213"/>
                                </a:lnTo>
                                <a:lnTo>
                                  <a:pt x="1695" y="10227"/>
                                </a:lnTo>
                                <a:lnTo>
                                  <a:pt x="1705" y="10234"/>
                                </a:lnTo>
                                <a:lnTo>
                                  <a:pt x="1717" y="10240"/>
                                </a:lnTo>
                                <a:lnTo>
                                  <a:pt x="1727" y="10245"/>
                                </a:lnTo>
                                <a:lnTo>
                                  <a:pt x="1738" y="10250"/>
                                </a:lnTo>
                                <a:lnTo>
                                  <a:pt x="1750" y="10254"/>
                                </a:lnTo>
                                <a:lnTo>
                                  <a:pt x="1762" y="10257"/>
                                </a:lnTo>
                                <a:lnTo>
                                  <a:pt x="1774" y="10259"/>
                                </a:lnTo>
                                <a:lnTo>
                                  <a:pt x="1787" y="10259"/>
                                </a:lnTo>
                                <a:lnTo>
                                  <a:pt x="1873" y="10256"/>
                                </a:lnTo>
                                <a:lnTo>
                                  <a:pt x="1953" y="10248"/>
                                </a:lnTo>
                                <a:lnTo>
                                  <a:pt x="2028" y="10234"/>
                                </a:lnTo>
                                <a:lnTo>
                                  <a:pt x="2101" y="10216"/>
                                </a:lnTo>
                                <a:lnTo>
                                  <a:pt x="2170" y="10192"/>
                                </a:lnTo>
                                <a:lnTo>
                                  <a:pt x="2235" y="10163"/>
                                </a:lnTo>
                                <a:lnTo>
                                  <a:pt x="2297" y="10131"/>
                                </a:lnTo>
                                <a:lnTo>
                                  <a:pt x="2355" y="10093"/>
                                </a:lnTo>
                                <a:lnTo>
                                  <a:pt x="2411" y="10052"/>
                                </a:lnTo>
                                <a:lnTo>
                                  <a:pt x="2465" y="10007"/>
                                </a:lnTo>
                                <a:lnTo>
                                  <a:pt x="2516" y="9960"/>
                                </a:lnTo>
                                <a:lnTo>
                                  <a:pt x="2565" y="9908"/>
                                </a:lnTo>
                                <a:lnTo>
                                  <a:pt x="2613" y="9853"/>
                                </a:lnTo>
                                <a:lnTo>
                                  <a:pt x="2658" y="9796"/>
                                </a:lnTo>
                                <a:lnTo>
                                  <a:pt x="2702" y="9736"/>
                                </a:lnTo>
                                <a:lnTo>
                                  <a:pt x="2745" y="9674"/>
                                </a:lnTo>
                                <a:lnTo>
                                  <a:pt x="2787" y="9610"/>
                                </a:lnTo>
                                <a:lnTo>
                                  <a:pt x="2828" y="9545"/>
                                </a:lnTo>
                                <a:lnTo>
                                  <a:pt x="2869" y="9477"/>
                                </a:lnTo>
                                <a:lnTo>
                                  <a:pt x="2909" y="9408"/>
                                </a:lnTo>
                                <a:lnTo>
                                  <a:pt x="2990" y="9266"/>
                                </a:lnTo>
                                <a:lnTo>
                                  <a:pt x="3073" y="9123"/>
                                </a:lnTo>
                                <a:lnTo>
                                  <a:pt x="3116" y="9050"/>
                                </a:lnTo>
                                <a:lnTo>
                                  <a:pt x="3159" y="8979"/>
                                </a:lnTo>
                                <a:lnTo>
                                  <a:pt x="3205" y="8907"/>
                                </a:lnTo>
                                <a:lnTo>
                                  <a:pt x="3252" y="8835"/>
                                </a:lnTo>
                                <a:lnTo>
                                  <a:pt x="3300" y="8765"/>
                                </a:lnTo>
                                <a:lnTo>
                                  <a:pt x="3351" y="8695"/>
                                </a:lnTo>
                                <a:lnTo>
                                  <a:pt x="3403" y="8626"/>
                                </a:lnTo>
                                <a:lnTo>
                                  <a:pt x="3459" y="8559"/>
                                </a:lnTo>
                                <a:lnTo>
                                  <a:pt x="3479" y="8536"/>
                                </a:lnTo>
                                <a:lnTo>
                                  <a:pt x="3501" y="8513"/>
                                </a:lnTo>
                                <a:lnTo>
                                  <a:pt x="3523" y="8493"/>
                                </a:lnTo>
                                <a:lnTo>
                                  <a:pt x="3544" y="8472"/>
                                </a:lnTo>
                                <a:lnTo>
                                  <a:pt x="3567" y="8453"/>
                                </a:lnTo>
                                <a:lnTo>
                                  <a:pt x="3590" y="8434"/>
                                </a:lnTo>
                                <a:lnTo>
                                  <a:pt x="3613" y="8417"/>
                                </a:lnTo>
                                <a:lnTo>
                                  <a:pt x="3636" y="8399"/>
                                </a:lnTo>
                                <a:lnTo>
                                  <a:pt x="3684" y="8368"/>
                                </a:lnTo>
                                <a:lnTo>
                                  <a:pt x="3731" y="8338"/>
                                </a:lnTo>
                                <a:lnTo>
                                  <a:pt x="3779" y="8308"/>
                                </a:lnTo>
                                <a:lnTo>
                                  <a:pt x="3826" y="8278"/>
                                </a:lnTo>
                                <a:lnTo>
                                  <a:pt x="3871" y="8249"/>
                                </a:lnTo>
                                <a:lnTo>
                                  <a:pt x="3916" y="8216"/>
                                </a:lnTo>
                                <a:lnTo>
                                  <a:pt x="3937" y="8200"/>
                                </a:lnTo>
                                <a:lnTo>
                                  <a:pt x="3957" y="8183"/>
                                </a:lnTo>
                                <a:lnTo>
                                  <a:pt x="3978" y="8165"/>
                                </a:lnTo>
                                <a:lnTo>
                                  <a:pt x="3997" y="8146"/>
                                </a:lnTo>
                                <a:lnTo>
                                  <a:pt x="4016" y="8126"/>
                                </a:lnTo>
                                <a:lnTo>
                                  <a:pt x="4034" y="8106"/>
                                </a:lnTo>
                                <a:lnTo>
                                  <a:pt x="4050" y="8084"/>
                                </a:lnTo>
                                <a:lnTo>
                                  <a:pt x="4067" y="8060"/>
                                </a:lnTo>
                                <a:lnTo>
                                  <a:pt x="4083" y="8036"/>
                                </a:lnTo>
                                <a:lnTo>
                                  <a:pt x="4097" y="8011"/>
                                </a:lnTo>
                                <a:lnTo>
                                  <a:pt x="4110" y="7983"/>
                                </a:lnTo>
                                <a:lnTo>
                                  <a:pt x="4122" y="7954"/>
                                </a:lnTo>
                                <a:lnTo>
                                  <a:pt x="4170" y="7835"/>
                                </a:lnTo>
                                <a:lnTo>
                                  <a:pt x="4220" y="7721"/>
                                </a:lnTo>
                                <a:lnTo>
                                  <a:pt x="4270" y="7610"/>
                                </a:lnTo>
                                <a:lnTo>
                                  <a:pt x="4323" y="7501"/>
                                </a:lnTo>
                                <a:lnTo>
                                  <a:pt x="4376" y="7397"/>
                                </a:lnTo>
                                <a:lnTo>
                                  <a:pt x="4431" y="7294"/>
                                </a:lnTo>
                                <a:lnTo>
                                  <a:pt x="4487" y="7194"/>
                                </a:lnTo>
                                <a:lnTo>
                                  <a:pt x="4544" y="7095"/>
                                </a:lnTo>
                                <a:lnTo>
                                  <a:pt x="4769" y="6719"/>
                                </a:lnTo>
                                <a:lnTo>
                                  <a:pt x="4986" y="6353"/>
                                </a:lnTo>
                                <a:lnTo>
                                  <a:pt x="5037" y="6262"/>
                                </a:lnTo>
                                <a:lnTo>
                                  <a:pt x="5086" y="6171"/>
                                </a:lnTo>
                                <a:lnTo>
                                  <a:pt x="5134" y="6078"/>
                                </a:lnTo>
                                <a:lnTo>
                                  <a:pt x="5179" y="5985"/>
                                </a:lnTo>
                                <a:lnTo>
                                  <a:pt x="5222" y="5889"/>
                                </a:lnTo>
                                <a:lnTo>
                                  <a:pt x="5262" y="5793"/>
                                </a:lnTo>
                                <a:lnTo>
                                  <a:pt x="5300" y="5695"/>
                                </a:lnTo>
                                <a:lnTo>
                                  <a:pt x="5334" y="5595"/>
                                </a:lnTo>
                                <a:lnTo>
                                  <a:pt x="5366" y="5492"/>
                                </a:lnTo>
                                <a:lnTo>
                                  <a:pt x="5394" y="5386"/>
                                </a:lnTo>
                                <a:lnTo>
                                  <a:pt x="5418" y="5278"/>
                                </a:lnTo>
                                <a:lnTo>
                                  <a:pt x="5439" y="5167"/>
                                </a:lnTo>
                                <a:lnTo>
                                  <a:pt x="5455" y="5051"/>
                                </a:lnTo>
                                <a:lnTo>
                                  <a:pt x="5467" y="4933"/>
                                </a:lnTo>
                                <a:lnTo>
                                  <a:pt x="5474" y="4810"/>
                                </a:lnTo>
                                <a:lnTo>
                                  <a:pt x="5476" y="4683"/>
                                </a:lnTo>
                                <a:lnTo>
                                  <a:pt x="5476" y="4658"/>
                                </a:lnTo>
                                <a:lnTo>
                                  <a:pt x="5473" y="4634"/>
                                </a:lnTo>
                                <a:lnTo>
                                  <a:pt x="5468" y="4611"/>
                                </a:lnTo>
                                <a:lnTo>
                                  <a:pt x="5462" y="4589"/>
                                </a:lnTo>
                                <a:lnTo>
                                  <a:pt x="5454" y="4568"/>
                                </a:lnTo>
                                <a:lnTo>
                                  <a:pt x="5444" y="4548"/>
                                </a:lnTo>
                                <a:lnTo>
                                  <a:pt x="5432" y="4530"/>
                                </a:lnTo>
                                <a:lnTo>
                                  <a:pt x="5420" y="4511"/>
                                </a:lnTo>
                                <a:lnTo>
                                  <a:pt x="5406" y="4494"/>
                                </a:lnTo>
                                <a:lnTo>
                                  <a:pt x="5391" y="4478"/>
                                </a:lnTo>
                                <a:lnTo>
                                  <a:pt x="5375" y="4463"/>
                                </a:lnTo>
                                <a:lnTo>
                                  <a:pt x="5358" y="4449"/>
                                </a:lnTo>
                                <a:lnTo>
                                  <a:pt x="5338" y="4436"/>
                                </a:lnTo>
                                <a:lnTo>
                                  <a:pt x="5319" y="4423"/>
                                </a:lnTo>
                                <a:lnTo>
                                  <a:pt x="5298" y="4411"/>
                                </a:lnTo>
                                <a:lnTo>
                                  <a:pt x="5277" y="4400"/>
                                </a:lnTo>
                                <a:lnTo>
                                  <a:pt x="5254" y="4390"/>
                                </a:lnTo>
                                <a:lnTo>
                                  <a:pt x="5231" y="4381"/>
                                </a:lnTo>
                                <a:lnTo>
                                  <a:pt x="5208" y="4373"/>
                                </a:lnTo>
                                <a:lnTo>
                                  <a:pt x="5183" y="4365"/>
                                </a:lnTo>
                                <a:lnTo>
                                  <a:pt x="5158" y="4358"/>
                                </a:lnTo>
                                <a:lnTo>
                                  <a:pt x="5133" y="4351"/>
                                </a:lnTo>
                                <a:lnTo>
                                  <a:pt x="5107" y="4345"/>
                                </a:lnTo>
                                <a:lnTo>
                                  <a:pt x="5081" y="4340"/>
                                </a:lnTo>
                                <a:lnTo>
                                  <a:pt x="5055" y="4336"/>
                                </a:lnTo>
                                <a:lnTo>
                                  <a:pt x="5028" y="4332"/>
                                </a:lnTo>
                                <a:lnTo>
                                  <a:pt x="5002" y="4329"/>
                                </a:lnTo>
                                <a:lnTo>
                                  <a:pt x="4976" y="4327"/>
                                </a:lnTo>
                                <a:lnTo>
                                  <a:pt x="4923" y="4324"/>
                                </a:lnTo>
                                <a:lnTo>
                                  <a:pt x="4872" y="4323"/>
                                </a:lnTo>
                                <a:lnTo>
                                  <a:pt x="4838" y="4324"/>
                                </a:lnTo>
                                <a:lnTo>
                                  <a:pt x="4807" y="4326"/>
                                </a:lnTo>
                                <a:lnTo>
                                  <a:pt x="4777" y="4331"/>
                                </a:lnTo>
                                <a:lnTo>
                                  <a:pt x="4748" y="4336"/>
                                </a:lnTo>
                                <a:lnTo>
                                  <a:pt x="4721" y="4342"/>
                                </a:lnTo>
                                <a:lnTo>
                                  <a:pt x="4693" y="4350"/>
                                </a:lnTo>
                                <a:lnTo>
                                  <a:pt x="4667" y="4358"/>
                                </a:lnTo>
                                <a:lnTo>
                                  <a:pt x="4641" y="4366"/>
                                </a:lnTo>
                                <a:lnTo>
                                  <a:pt x="4614" y="4374"/>
                                </a:lnTo>
                                <a:lnTo>
                                  <a:pt x="4588" y="4382"/>
                                </a:lnTo>
                                <a:lnTo>
                                  <a:pt x="4561" y="4389"/>
                                </a:lnTo>
                                <a:lnTo>
                                  <a:pt x="4532" y="4396"/>
                                </a:lnTo>
                                <a:lnTo>
                                  <a:pt x="4504" y="4401"/>
                                </a:lnTo>
                                <a:lnTo>
                                  <a:pt x="4475" y="4405"/>
                                </a:lnTo>
                                <a:lnTo>
                                  <a:pt x="4443" y="4408"/>
                                </a:lnTo>
                                <a:lnTo>
                                  <a:pt x="4410" y="4409"/>
                                </a:lnTo>
                                <a:lnTo>
                                  <a:pt x="4390" y="4408"/>
                                </a:lnTo>
                                <a:lnTo>
                                  <a:pt x="4371" y="4405"/>
                                </a:lnTo>
                                <a:lnTo>
                                  <a:pt x="4354" y="4401"/>
                                </a:lnTo>
                                <a:lnTo>
                                  <a:pt x="4338" y="4395"/>
                                </a:lnTo>
                                <a:lnTo>
                                  <a:pt x="4323" y="4387"/>
                                </a:lnTo>
                                <a:lnTo>
                                  <a:pt x="4310" y="4378"/>
                                </a:lnTo>
                                <a:lnTo>
                                  <a:pt x="4297" y="4367"/>
                                </a:lnTo>
                                <a:lnTo>
                                  <a:pt x="4286" y="4356"/>
                                </a:lnTo>
                                <a:lnTo>
                                  <a:pt x="4276" y="4341"/>
                                </a:lnTo>
                                <a:lnTo>
                                  <a:pt x="4267" y="4327"/>
                                </a:lnTo>
                                <a:lnTo>
                                  <a:pt x="4259" y="4312"/>
                                </a:lnTo>
                                <a:lnTo>
                                  <a:pt x="4252" y="4295"/>
                                </a:lnTo>
                                <a:lnTo>
                                  <a:pt x="4246" y="4278"/>
                                </a:lnTo>
                                <a:lnTo>
                                  <a:pt x="4240" y="4258"/>
                                </a:lnTo>
                                <a:lnTo>
                                  <a:pt x="4235" y="4239"/>
                                </a:lnTo>
                                <a:lnTo>
                                  <a:pt x="4231" y="4219"/>
                                </a:lnTo>
                                <a:lnTo>
                                  <a:pt x="4228" y="4199"/>
                                </a:lnTo>
                                <a:lnTo>
                                  <a:pt x="4225" y="4177"/>
                                </a:lnTo>
                                <a:lnTo>
                                  <a:pt x="4222" y="4155"/>
                                </a:lnTo>
                                <a:lnTo>
                                  <a:pt x="4220" y="4133"/>
                                </a:lnTo>
                                <a:lnTo>
                                  <a:pt x="4216" y="4087"/>
                                </a:lnTo>
                                <a:lnTo>
                                  <a:pt x="4214" y="4042"/>
                                </a:lnTo>
                                <a:lnTo>
                                  <a:pt x="4212" y="3950"/>
                                </a:lnTo>
                                <a:lnTo>
                                  <a:pt x="4208" y="3861"/>
                                </a:lnTo>
                                <a:lnTo>
                                  <a:pt x="4204" y="3818"/>
                                </a:lnTo>
                                <a:lnTo>
                                  <a:pt x="4200" y="3773"/>
                                </a:lnTo>
                                <a:lnTo>
                                  <a:pt x="4195" y="3729"/>
                                </a:lnTo>
                                <a:lnTo>
                                  <a:pt x="4189" y="3684"/>
                                </a:lnTo>
                                <a:lnTo>
                                  <a:pt x="4182" y="3640"/>
                                </a:lnTo>
                                <a:lnTo>
                                  <a:pt x="4174" y="3595"/>
                                </a:lnTo>
                                <a:lnTo>
                                  <a:pt x="4165" y="3551"/>
                                </a:lnTo>
                                <a:lnTo>
                                  <a:pt x="4156" y="3506"/>
                                </a:lnTo>
                                <a:lnTo>
                                  <a:pt x="4145" y="3464"/>
                                </a:lnTo>
                                <a:lnTo>
                                  <a:pt x="4133" y="3420"/>
                                </a:lnTo>
                                <a:lnTo>
                                  <a:pt x="4120" y="3378"/>
                                </a:lnTo>
                                <a:lnTo>
                                  <a:pt x="4106" y="3337"/>
                                </a:lnTo>
                                <a:lnTo>
                                  <a:pt x="4091" y="3296"/>
                                </a:lnTo>
                                <a:lnTo>
                                  <a:pt x="4075" y="3257"/>
                                </a:lnTo>
                                <a:lnTo>
                                  <a:pt x="4058" y="3218"/>
                                </a:lnTo>
                                <a:lnTo>
                                  <a:pt x="4039" y="3182"/>
                                </a:lnTo>
                                <a:lnTo>
                                  <a:pt x="4019" y="3147"/>
                                </a:lnTo>
                                <a:lnTo>
                                  <a:pt x="3998" y="3112"/>
                                </a:lnTo>
                                <a:lnTo>
                                  <a:pt x="3975" y="3080"/>
                                </a:lnTo>
                                <a:lnTo>
                                  <a:pt x="3951" y="3048"/>
                                </a:lnTo>
                                <a:lnTo>
                                  <a:pt x="3926" y="3020"/>
                                </a:lnTo>
                                <a:lnTo>
                                  <a:pt x="3900" y="2993"/>
                                </a:lnTo>
                                <a:lnTo>
                                  <a:pt x="3871" y="2967"/>
                                </a:lnTo>
                                <a:lnTo>
                                  <a:pt x="3842" y="2945"/>
                                </a:lnTo>
                                <a:lnTo>
                                  <a:pt x="3810" y="2924"/>
                                </a:lnTo>
                                <a:lnTo>
                                  <a:pt x="3777" y="2906"/>
                                </a:lnTo>
                                <a:lnTo>
                                  <a:pt x="3743" y="2890"/>
                                </a:lnTo>
                                <a:lnTo>
                                  <a:pt x="3707" y="2877"/>
                                </a:lnTo>
                                <a:lnTo>
                                  <a:pt x="3669" y="2867"/>
                                </a:lnTo>
                                <a:lnTo>
                                  <a:pt x="3629" y="2859"/>
                                </a:lnTo>
                                <a:lnTo>
                                  <a:pt x="3589" y="2855"/>
                                </a:lnTo>
                                <a:lnTo>
                                  <a:pt x="3545" y="2853"/>
                                </a:lnTo>
                                <a:lnTo>
                                  <a:pt x="3566" y="2819"/>
                                </a:lnTo>
                                <a:lnTo>
                                  <a:pt x="3589" y="2786"/>
                                </a:lnTo>
                                <a:lnTo>
                                  <a:pt x="3611" y="2755"/>
                                </a:lnTo>
                                <a:lnTo>
                                  <a:pt x="3633" y="2725"/>
                                </a:lnTo>
                                <a:lnTo>
                                  <a:pt x="3657" y="2697"/>
                                </a:lnTo>
                                <a:lnTo>
                                  <a:pt x="3680" y="2670"/>
                                </a:lnTo>
                                <a:lnTo>
                                  <a:pt x="3704" y="2644"/>
                                </a:lnTo>
                                <a:lnTo>
                                  <a:pt x="3729" y="2620"/>
                                </a:lnTo>
                                <a:lnTo>
                                  <a:pt x="3755" y="2597"/>
                                </a:lnTo>
                                <a:lnTo>
                                  <a:pt x="3780" y="2575"/>
                                </a:lnTo>
                                <a:lnTo>
                                  <a:pt x="3806" y="2553"/>
                                </a:lnTo>
                                <a:lnTo>
                                  <a:pt x="3833" y="2533"/>
                                </a:lnTo>
                                <a:lnTo>
                                  <a:pt x="3860" y="2514"/>
                                </a:lnTo>
                                <a:lnTo>
                                  <a:pt x="3887" y="2496"/>
                                </a:lnTo>
                                <a:lnTo>
                                  <a:pt x="3916" y="2477"/>
                                </a:lnTo>
                                <a:lnTo>
                                  <a:pt x="3944" y="2460"/>
                                </a:lnTo>
                                <a:lnTo>
                                  <a:pt x="3973" y="2444"/>
                                </a:lnTo>
                                <a:lnTo>
                                  <a:pt x="4003" y="2428"/>
                                </a:lnTo>
                                <a:lnTo>
                                  <a:pt x="4033" y="2412"/>
                                </a:lnTo>
                                <a:lnTo>
                                  <a:pt x="4064" y="2396"/>
                                </a:lnTo>
                                <a:lnTo>
                                  <a:pt x="4126" y="2367"/>
                                </a:lnTo>
                                <a:lnTo>
                                  <a:pt x="4191" y="2339"/>
                                </a:lnTo>
                                <a:lnTo>
                                  <a:pt x="4326" y="2281"/>
                                </a:lnTo>
                                <a:lnTo>
                                  <a:pt x="4468" y="2219"/>
                                </a:lnTo>
                                <a:lnTo>
                                  <a:pt x="4929" y="2335"/>
                                </a:lnTo>
                                <a:lnTo>
                                  <a:pt x="4909" y="2293"/>
                                </a:lnTo>
                                <a:lnTo>
                                  <a:pt x="4889" y="2251"/>
                                </a:lnTo>
                                <a:lnTo>
                                  <a:pt x="4866" y="2207"/>
                                </a:lnTo>
                                <a:lnTo>
                                  <a:pt x="4842" y="2163"/>
                                </a:lnTo>
                                <a:lnTo>
                                  <a:pt x="4818" y="2118"/>
                                </a:lnTo>
                                <a:lnTo>
                                  <a:pt x="4792" y="2072"/>
                                </a:lnTo>
                                <a:lnTo>
                                  <a:pt x="4763" y="2025"/>
                                </a:lnTo>
                                <a:lnTo>
                                  <a:pt x="4735" y="1977"/>
                                </a:lnTo>
                                <a:lnTo>
                                  <a:pt x="4704" y="1929"/>
                                </a:lnTo>
                                <a:lnTo>
                                  <a:pt x="4673" y="1880"/>
                                </a:lnTo>
                                <a:lnTo>
                                  <a:pt x="4641" y="1830"/>
                                </a:lnTo>
                                <a:lnTo>
                                  <a:pt x="4607" y="1781"/>
                                </a:lnTo>
                                <a:lnTo>
                                  <a:pt x="4572" y="1730"/>
                                </a:lnTo>
                                <a:lnTo>
                                  <a:pt x="4535" y="1679"/>
                                </a:lnTo>
                                <a:lnTo>
                                  <a:pt x="4498" y="1628"/>
                                </a:lnTo>
                                <a:lnTo>
                                  <a:pt x="4459" y="1577"/>
                                </a:lnTo>
                                <a:lnTo>
                                  <a:pt x="4420" y="1526"/>
                                </a:lnTo>
                                <a:lnTo>
                                  <a:pt x="4379" y="1474"/>
                                </a:lnTo>
                                <a:lnTo>
                                  <a:pt x="4337" y="1422"/>
                                </a:lnTo>
                                <a:lnTo>
                                  <a:pt x="4293" y="1371"/>
                                </a:lnTo>
                                <a:lnTo>
                                  <a:pt x="4249" y="1319"/>
                                </a:lnTo>
                                <a:lnTo>
                                  <a:pt x="4203" y="1268"/>
                                </a:lnTo>
                                <a:lnTo>
                                  <a:pt x="4157" y="1217"/>
                                </a:lnTo>
                                <a:lnTo>
                                  <a:pt x="4109" y="1166"/>
                                </a:lnTo>
                                <a:lnTo>
                                  <a:pt x="4061" y="1116"/>
                                </a:lnTo>
                                <a:lnTo>
                                  <a:pt x="4011" y="1066"/>
                                </a:lnTo>
                                <a:lnTo>
                                  <a:pt x="3959" y="1016"/>
                                </a:lnTo>
                                <a:lnTo>
                                  <a:pt x="3908" y="967"/>
                                </a:lnTo>
                                <a:lnTo>
                                  <a:pt x="3855" y="919"/>
                                </a:lnTo>
                                <a:lnTo>
                                  <a:pt x="3800" y="870"/>
                                </a:lnTo>
                                <a:lnTo>
                                  <a:pt x="3746" y="824"/>
                                </a:lnTo>
                                <a:lnTo>
                                  <a:pt x="3690" y="777"/>
                                </a:lnTo>
                                <a:lnTo>
                                  <a:pt x="3642" y="741"/>
                                </a:lnTo>
                                <a:lnTo>
                                  <a:pt x="3593" y="704"/>
                                </a:lnTo>
                                <a:lnTo>
                                  <a:pt x="3542" y="667"/>
                                </a:lnTo>
                                <a:lnTo>
                                  <a:pt x="3488" y="631"/>
                                </a:lnTo>
                                <a:lnTo>
                                  <a:pt x="3434" y="595"/>
                                </a:lnTo>
                                <a:lnTo>
                                  <a:pt x="3378" y="560"/>
                                </a:lnTo>
                                <a:lnTo>
                                  <a:pt x="3320" y="524"/>
                                </a:lnTo>
                                <a:lnTo>
                                  <a:pt x="3263" y="490"/>
                                </a:lnTo>
                                <a:lnTo>
                                  <a:pt x="3204" y="455"/>
                                </a:lnTo>
                                <a:lnTo>
                                  <a:pt x="3145" y="422"/>
                                </a:lnTo>
                                <a:lnTo>
                                  <a:pt x="3087" y="390"/>
                                </a:lnTo>
                                <a:lnTo>
                                  <a:pt x="3028" y="358"/>
                                </a:lnTo>
                                <a:lnTo>
                                  <a:pt x="2912" y="297"/>
                                </a:lnTo>
                                <a:lnTo>
                                  <a:pt x="2800" y="241"/>
                                </a:lnTo>
                                <a:lnTo>
                                  <a:pt x="2694" y="188"/>
                                </a:lnTo>
                                <a:lnTo>
                                  <a:pt x="2595" y="141"/>
                                </a:lnTo>
                                <a:lnTo>
                                  <a:pt x="2506" y="101"/>
                                </a:lnTo>
                                <a:lnTo>
                                  <a:pt x="2429" y="66"/>
                                </a:lnTo>
                                <a:lnTo>
                                  <a:pt x="2318" y="17"/>
                                </a:lnTo>
                                <a:lnTo>
                                  <a:pt x="227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2840" bIns="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5" name=""/>
                          <p:cNvSpPr/>
                          <p:nvPr/>
                        </p:nvSpPr>
                        <p:spPr>
                          <a:xfrm>
                            <a:off x="3319560" y="4847400"/>
                            <a:ext cx="119160" cy="9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373" h="11112">
                                <a:moveTo>
                                  <a:pt x="7598" y="654"/>
                                </a:moveTo>
                                <a:lnTo>
                                  <a:pt x="7597" y="642"/>
                                </a:lnTo>
                                <a:lnTo>
                                  <a:pt x="7594" y="630"/>
                                </a:lnTo>
                                <a:lnTo>
                                  <a:pt x="7590" y="617"/>
                                </a:lnTo>
                                <a:lnTo>
                                  <a:pt x="7583" y="603"/>
                                </a:lnTo>
                                <a:lnTo>
                                  <a:pt x="7574" y="588"/>
                                </a:lnTo>
                                <a:lnTo>
                                  <a:pt x="7563" y="572"/>
                                </a:lnTo>
                                <a:lnTo>
                                  <a:pt x="7549" y="556"/>
                                </a:lnTo>
                                <a:lnTo>
                                  <a:pt x="7532" y="540"/>
                                </a:lnTo>
                                <a:lnTo>
                                  <a:pt x="7513" y="523"/>
                                </a:lnTo>
                                <a:lnTo>
                                  <a:pt x="7491" y="505"/>
                                </a:lnTo>
                                <a:lnTo>
                                  <a:pt x="7467" y="487"/>
                                </a:lnTo>
                                <a:lnTo>
                                  <a:pt x="7439" y="469"/>
                                </a:lnTo>
                                <a:lnTo>
                                  <a:pt x="7409" y="450"/>
                                </a:lnTo>
                                <a:lnTo>
                                  <a:pt x="7376" y="432"/>
                                </a:lnTo>
                                <a:lnTo>
                                  <a:pt x="7338" y="413"/>
                                </a:lnTo>
                                <a:lnTo>
                                  <a:pt x="7298" y="394"/>
                                </a:lnTo>
                                <a:lnTo>
                                  <a:pt x="7495" y="197"/>
                                </a:lnTo>
                                <a:lnTo>
                                  <a:pt x="7534" y="218"/>
                                </a:lnTo>
                                <a:lnTo>
                                  <a:pt x="7573" y="240"/>
                                </a:lnTo>
                                <a:lnTo>
                                  <a:pt x="7609" y="264"/>
                                </a:lnTo>
                                <a:lnTo>
                                  <a:pt x="7644" y="288"/>
                                </a:lnTo>
                                <a:lnTo>
                                  <a:pt x="7675" y="312"/>
                                </a:lnTo>
                                <a:lnTo>
                                  <a:pt x="7706" y="339"/>
                                </a:lnTo>
                                <a:lnTo>
                                  <a:pt x="7719" y="352"/>
                                </a:lnTo>
                                <a:lnTo>
                                  <a:pt x="7733" y="366"/>
                                </a:lnTo>
                                <a:lnTo>
                                  <a:pt x="7745" y="379"/>
                                </a:lnTo>
                                <a:lnTo>
                                  <a:pt x="7758" y="393"/>
                                </a:lnTo>
                                <a:lnTo>
                                  <a:pt x="7769" y="407"/>
                                </a:lnTo>
                                <a:lnTo>
                                  <a:pt x="7781" y="423"/>
                                </a:lnTo>
                                <a:lnTo>
                                  <a:pt x="7791" y="437"/>
                                </a:lnTo>
                                <a:lnTo>
                                  <a:pt x="7801" y="452"/>
                                </a:lnTo>
                                <a:lnTo>
                                  <a:pt x="7809" y="467"/>
                                </a:lnTo>
                                <a:lnTo>
                                  <a:pt x="7817" y="483"/>
                                </a:lnTo>
                                <a:lnTo>
                                  <a:pt x="7825" y="500"/>
                                </a:lnTo>
                                <a:lnTo>
                                  <a:pt x="7832" y="515"/>
                                </a:lnTo>
                                <a:lnTo>
                                  <a:pt x="7837" y="532"/>
                                </a:lnTo>
                                <a:lnTo>
                                  <a:pt x="7843" y="548"/>
                                </a:lnTo>
                                <a:lnTo>
                                  <a:pt x="7847" y="565"/>
                                </a:lnTo>
                                <a:lnTo>
                                  <a:pt x="7851" y="583"/>
                                </a:lnTo>
                                <a:lnTo>
                                  <a:pt x="7854" y="600"/>
                                </a:lnTo>
                                <a:lnTo>
                                  <a:pt x="7856" y="618"/>
                                </a:lnTo>
                                <a:lnTo>
                                  <a:pt x="7857" y="636"/>
                                </a:lnTo>
                                <a:lnTo>
                                  <a:pt x="7857" y="654"/>
                                </a:lnTo>
                                <a:lnTo>
                                  <a:pt x="7853" y="712"/>
                                </a:lnTo>
                                <a:lnTo>
                                  <a:pt x="7841" y="767"/>
                                </a:lnTo>
                                <a:lnTo>
                                  <a:pt x="7821" y="819"/>
                                </a:lnTo>
                                <a:lnTo>
                                  <a:pt x="7793" y="868"/>
                                </a:lnTo>
                                <a:lnTo>
                                  <a:pt x="7758" y="915"/>
                                </a:lnTo>
                                <a:lnTo>
                                  <a:pt x="7717" y="959"/>
                                </a:lnTo>
                                <a:lnTo>
                                  <a:pt x="7670" y="1001"/>
                                </a:lnTo>
                                <a:lnTo>
                                  <a:pt x="7618" y="1039"/>
                                </a:lnTo>
                                <a:lnTo>
                                  <a:pt x="7560" y="1077"/>
                                </a:lnTo>
                                <a:lnTo>
                                  <a:pt x="7497" y="1111"/>
                                </a:lnTo>
                                <a:lnTo>
                                  <a:pt x="7430" y="1144"/>
                                </a:lnTo>
                                <a:lnTo>
                                  <a:pt x="7359" y="1174"/>
                                </a:lnTo>
                                <a:lnTo>
                                  <a:pt x="7284" y="1202"/>
                                </a:lnTo>
                                <a:lnTo>
                                  <a:pt x="7207" y="1228"/>
                                </a:lnTo>
                                <a:lnTo>
                                  <a:pt x="7128" y="1252"/>
                                </a:lnTo>
                                <a:lnTo>
                                  <a:pt x="7046" y="1274"/>
                                </a:lnTo>
                                <a:lnTo>
                                  <a:pt x="6962" y="1295"/>
                                </a:lnTo>
                                <a:lnTo>
                                  <a:pt x="6878" y="1314"/>
                                </a:lnTo>
                                <a:lnTo>
                                  <a:pt x="6793" y="1331"/>
                                </a:lnTo>
                                <a:lnTo>
                                  <a:pt x="6707" y="1346"/>
                                </a:lnTo>
                                <a:lnTo>
                                  <a:pt x="6622" y="1360"/>
                                </a:lnTo>
                                <a:lnTo>
                                  <a:pt x="6537" y="1373"/>
                                </a:lnTo>
                                <a:lnTo>
                                  <a:pt x="6453" y="1385"/>
                                </a:lnTo>
                                <a:lnTo>
                                  <a:pt x="6370" y="1395"/>
                                </a:lnTo>
                                <a:lnTo>
                                  <a:pt x="6290" y="1403"/>
                                </a:lnTo>
                                <a:lnTo>
                                  <a:pt x="6211" y="1411"/>
                                </a:lnTo>
                                <a:lnTo>
                                  <a:pt x="6136" y="1417"/>
                                </a:lnTo>
                                <a:lnTo>
                                  <a:pt x="6063" y="1422"/>
                                </a:lnTo>
                                <a:lnTo>
                                  <a:pt x="5995" y="1427"/>
                                </a:lnTo>
                                <a:lnTo>
                                  <a:pt x="5931" y="1430"/>
                                </a:lnTo>
                                <a:lnTo>
                                  <a:pt x="5871" y="1433"/>
                                </a:lnTo>
                                <a:lnTo>
                                  <a:pt x="5815" y="1435"/>
                                </a:lnTo>
                                <a:lnTo>
                                  <a:pt x="5815" y="2880"/>
                                </a:lnTo>
                                <a:lnTo>
                                  <a:pt x="6026" y="2877"/>
                                </a:lnTo>
                                <a:lnTo>
                                  <a:pt x="6231" y="2870"/>
                                </a:lnTo>
                                <a:lnTo>
                                  <a:pt x="6434" y="2862"/>
                                </a:lnTo>
                                <a:lnTo>
                                  <a:pt x="6630" y="2850"/>
                                </a:lnTo>
                                <a:lnTo>
                                  <a:pt x="6823" y="2835"/>
                                </a:lnTo>
                                <a:lnTo>
                                  <a:pt x="7010" y="2818"/>
                                </a:lnTo>
                                <a:lnTo>
                                  <a:pt x="7192" y="2800"/>
                                </a:lnTo>
                                <a:lnTo>
                                  <a:pt x="7369" y="2778"/>
                                </a:lnTo>
                                <a:lnTo>
                                  <a:pt x="7541" y="2754"/>
                                </a:lnTo>
                                <a:lnTo>
                                  <a:pt x="7707" y="2729"/>
                                </a:lnTo>
                                <a:lnTo>
                                  <a:pt x="7868" y="2702"/>
                                </a:lnTo>
                                <a:lnTo>
                                  <a:pt x="8023" y="2672"/>
                                </a:lnTo>
                                <a:lnTo>
                                  <a:pt x="8170" y="2642"/>
                                </a:lnTo>
                                <a:lnTo>
                                  <a:pt x="8313" y="2609"/>
                                </a:lnTo>
                                <a:lnTo>
                                  <a:pt x="8449" y="2575"/>
                                </a:lnTo>
                                <a:lnTo>
                                  <a:pt x="8578" y="2539"/>
                                </a:lnTo>
                                <a:lnTo>
                                  <a:pt x="8702" y="2502"/>
                                </a:lnTo>
                                <a:lnTo>
                                  <a:pt x="8817" y="2465"/>
                                </a:lnTo>
                                <a:lnTo>
                                  <a:pt x="8927" y="2425"/>
                                </a:lnTo>
                                <a:lnTo>
                                  <a:pt x="9029" y="2385"/>
                                </a:lnTo>
                                <a:lnTo>
                                  <a:pt x="9124" y="2344"/>
                                </a:lnTo>
                                <a:lnTo>
                                  <a:pt x="9211" y="2303"/>
                                </a:lnTo>
                                <a:lnTo>
                                  <a:pt x="9291" y="2260"/>
                                </a:lnTo>
                                <a:lnTo>
                                  <a:pt x="9363" y="2217"/>
                                </a:lnTo>
                                <a:lnTo>
                                  <a:pt x="9428" y="2174"/>
                                </a:lnTo>
                                <a:lnTo>
                                  <a:pt x="9484" y="2130"/>
                                </a:lnTo>
                                <a:lnTo>
                                  <a:pt x="9531" y="2086"/>
                                </a:lnTo>
                                <a:lnTo>
                                  <a:pt x="9571" y="2042"/>
                                </a:lnTo>
                                <a:lnTo>
                                  <a:pt x="9602" y="1998"/>
                                </a:lnTo>
                                <a:lnTo>
                                  <a:pt x="9624" y="1954"/>
                                </a:lnTo>
                                <a:lnTo>
                                  <a:pt x="9638" y="1910"/>
                                </a:lnTo>
                                <a:lnTo>
                                  <a:pt x="9643" y="1866"/>
                                </a:lnTo>
                                <a:lnTo>
                                  <a:pt x="9902" y="1866"/>
                                </a:lnTo>
                                <a:lnTo>
                                  <a:pt x="9897" y="1938"/>
                                </a:lnTo>
                                <a:lnTo>
                                  <a:pt x="9879" y="2008"/>
                                </a:lnTo>
                                <a:lnTo>
                                  <a:pt x="9852" y="2077"/>
                                </a:lnTo>
                                <a:lnTo>
                                  <a:pt x="9814" y="2143"/>
                                </a:lnTo>
                                <a:lnTo>
                                  <a:pt x="9765" y="2208"/>
                                </a:lnTo>
                                <a:lnTo>
                                  <a:pt x="9707" y="2270"/>
                                </a:lnTo>
                                <a:lnTo>
                                  <a:pt x="9639" y="2331"/>
                                </a:lnTo>
                                <a:lnTo>
                                  <a:pt x="9563" y="2390"/>
                                </a:lnTo>
                                <a:lnTo>
                                  <a:pt x="9476" y="2447"/>
                                </a:lnTo>
                                <a:lnTo>
                                  <a:pt x="9382" y="2501"/>
                                </a:lnTo>
                                <a:lnTo>
                                  <a:pt x="9280" y="2555"/>
                                </a:lnTo>
                                <a:lnTo>
                                  <a:pt x="9170" y="2606"/>
                                </a:lnTo>
                                <a:lnTo>
                                  <a:pt x="9052" y="2654"/>
                                </a:lnTo>
                                <a:lnTo>
                                  <a:pt x="8927" y="2701"/>
                                </a:lnTo>
                                <a:lnTo>
                                  <a:pt x="8795" y="2744"/>
                                </a:lnTo>
                                <a:lnTo>
                                  <a:pt x="8656" y="2787"/>
                                </a:lnTo>
                                <a:lnTo>
                                  <a:pt x="8512" y="2826"/>
                                </a:lnTo>
                                <a:lnTo>
                                  <a:pt x="8361" y="2865"/>
                                </a:lnTo>
                                <a:lnTo>
                                  <a:pt x="8205" y="2900"/>
                                </a:lnTo>
                                <a:lnTo>
                                  <a:pt x="8043" y="2933"/>
                                </a:lnTo>
                                <a:lnTo>
                                  <a:pt x="7877" y="2964"/>
                                </a:lnTo>
                                <a:lnTo>
                                  <a:pt x="7706" y="2992"/>
                                </a:lnTo>
                                <a:lnTo>
                                  <a:pt x="7530" y="3018"/>
                                </a:lnTo>
                                <a:lnTo>
                                  <a:pt x="7351" y="3042"/>
                                </a:lnTo>
                                <a:lnTo>
                                  <a:pt x="7168" y="3063"/>
                                </a:lnTo>
                                <a:lnTo>
                                  <a:pt x="6983" y="3081"/>
                                </a:lnTo>
                                <a:lnTo>
                                  <a:pt x="6793" y="3098"/>
                                </a:lnTo>
                                <a:lnTo>
                                  <a:pt x="6602" y="3111"/>
                                </a:lnTo>
                                <a:lnTo>
                                  <a:pt x="6408" y="3122"/>
                                </a:lnTo>
                                <a:lnTo>
                                  <a:pt x="6212" y="3130"/>
                                </a:lnTo>
                                <a:lnTo>
                                  <a:pt x="6015" y="3136"/>
                                </a:lnTo>
                                <a:lnTo>
                                  <a:pt x="5815" y="3139"/>
                                </a:lnTo>
                                <a:lnTo>
                                  <a:pt x="5815" y="5004"/>
                                </a:lnTo>
                                <a:lnTo>
                                  <a:pt x="6086" y="5001"/>
                                </a:lnTo>
                                <a:lnTo>
                                  <a:pt x="6351" y="4994"/>
                                </a:lnTo>
                                <a:lnTo>
                                  <a:pt x="6610" y="4984"/>
                                </a:lnTo>
                                <a:lnTo>
                                  <a:pt x="6864" y="4971"/>
                                </a:lnTo>
                                <a:lnTo>
                                  <a:pt x="7112" y="4955"/>
                                </a:lnTo>
                                <a:lnTo>
                                  <a:pt x="7354" y="4936"/>
                                </a:lnTo>
                                <a:lnTo>
                                  <a:pt x="7590" y="4914"/>
                                </a:lnTo>
                                <a:lnTo>
                                  <a:pt x="7819" y="4890"/>
                                </a:lnTo>
                                <a:lnTo>
                                  <a:pt x="8042" y="4863"/>
                                </a:lnTo>
                                <a:lnTo>
                                  <a:pt x="8257" y="4834"/>
                                </a:lnTo>
                                <a:lnTo>
                                  <a:pt x="8465" y="4803"/>
                                </a:lnTo>
                                <a:lnTo>
                                  <a:pt x="8666" y="4769"/>
                                </a:lnTo>
                                <a:lnTo>
                                  <a:pt x="8860" y="4734"/>
                                </a:lnTo>
                                <a:lnTo>
                                  <a:pt x="9045" y="4696"/>
                                </a:lnTo>
                                <a:lnTo>
                                  <a:pt x="9222" y="4657"/>
                                </a:lnTo>
                                <a:lnTo>
                                  <a:pt x="9391" y="4615"/>
                                </a:lnTo>
                                <a:lnTo>
                                  <a:pt x="9552" y="4573"/>
                                </a:lnTo>
                                <a:lnTo>
                                  <a:pt x="9704" y="4529"/>
                                </a:lnTo>
                                <a:lnTo>
                                  <a:pt x="9847" y="4484"/>
                                </a:lnTo>
                                <a:lnTo>
                                  <a:pt x="9981" y="4437"/>
                                </a:lnTo>
                                <a:lnTo>
                                  <a:pt x="10104" y="4390"/>
                                </a:lnTo>
                                <a:lnTo>
                                  <a:pt x="10220" y="4341"/>
                                </a:lnTo>
                                <a:lnTo>
                                  <a:pt x="10324" y="4291"/>
                                </a:lnTo>
                                <a:lnTo>
                                  <a:pt x="10419" y="4241"/>
                                </a:lnTo>
                                <a:lnTo>
                                  <a:pt x="10503" y="4190"/>
                                </a:lnTo>
                                <a:lnTo>
                                  <a:pt x="10577" y="4139"/>
                                </a:lnTo>
                                <a:lnTo>
                                  <a:pt x="10640" y="4087"/>
                                </a:lnTo>
                                <a:lnTo>
                                  <a:pt x="10692" y="4035"/>
                                </a:lnTo>
                                <a:lnTo>
                                  <a:pt x="10733" y="3983"/>
                                </a:lnTo>
                                <a:lnTo>
                                  <a:pt x="10762" y="3931"/>
                                </a:lnTo>
                                <a:lnTo>
                                  <a:pt x="10781" y="3879"/>
                                </a:lnTo>
                                <a:lnTo>
                                  <a:pt x="10787" y="3827"/>
                                </a:lnTo>
                                <a:lnTo>
                                  <a:pt x="11046" y="3827"/>
                                </a:lnTo>
                                <a:lnTo>
                                  <a:pt x="11039" y="3908"/>
                                </a:lnTo>
                                <a:lnTo>
                                  <a:pt x="11017" y="3987"/>
                                </a:lnTo>
                                <a:lnTo>
                                  <a:pt x="10982" y="4064"/>
                                </a:lnTo>
                                <a:lnTo>
                                  <a:pt x="10933" y="4139"/>
                                </a:lnTo>
                                <a:lnTo>
                                  <a:pt x="10873" y="4211"/>
                                </a:lnTo>
                                <a:lnTo>
                                  <a:pt x="10799" y="4281"/>
                                </a:lnTo>
                                <a:lnTo>
                                  <a:pt x="10713" y="4350"/>
                                </a:lnTo>
                                <a:lnTo>
                                  <a:pt x="10615" y="4417"/>
                                </a:lnTo>
                                <a:lnTo>
                                  <a:pt x="10506" y="4481"/>
                                </a:lnTo>
                                <a:lnTo>
                                  <a:pt x="10386" y="4542"/>
                                </a:lnTo>
                                <a:lnTo>
                                  <a:pt x="10256" y="4602"/>
                                </a:lnTo>
                                <a:lnTo>
                                  <a:pt x="10115" y="4660"/>
                                </a:lnTo>
                                <a:lnTo>
                                  <a:pt x="9965" y="4715"/>
                                </a:lnTo>
                                <a:lnTo>
                                  <a:pt x="9806" y="4767"/>
                                </a:lnTo>
                                <a:lnTo>
                                  <a:pt x="9637" y="4818"/>
                                </a:lnTo>
                                <a:lnTo>
                                  <a:pt x="9461" y="4865"/>
                                </a:lnTo>
                                <a:lnTo>
                                  <a:pt x="9276" y="4911"/>
                                </a:lnTo>
                                <a:lnTo>
                                  <a:pt x="9084" y="4954"/>
                                </a:lnTo>
                                <a:lnTo>
                                  <a:pt x="8884" y="4994"/>
                                </a:lnTo>
                                <a:lnTo>
                                  <a:pt x="8678" y="5032"/>
                                </a:lnTo>
                                <a:lnTo>
                                  <a:pt x="8465" y="5066"/>
                                </a:lnTo>
                                <a:lnTo>
                                  <a:pt x="8246" y="5098"/>
                                </a:lnTo>
                                <a:lnTo>
                                  <a:pt x="8021" y="5128"/>
                                </a:lnTo>
                                <a:lnTo>
                                  <a:pt x="7792" y="5154"/>
                                </a:lnTo>
                                <a:lnTo>
                                  <a:pt x="7557" y="5178"/>
                                </a:lnTo>
                                <a:lnTo>
                                  <a:pt x="7318" y="5200"/>
                                </a:lnTo>
                                <a:lnTo>
                                  <a:pt x="7076" y="5218"/>
                                </a:lnTo>
                                <a:lnTo>
                                  <a:pt x="6829" y="5233"/>
                                </a:lnTo>
                                <a:lnTo>
                                  <a:pt x="6580" y="5245"/>
                                </a:lnTo>
                                <a:lnTo>
                                  <a:pt x="6327" y="5254"/>
                                </a:lnTo>
                                <a:lnTo>
                                  <a:pt x="6072" y="5260"/>
                                </a:lnTo>
                                <a:lnTo>
                                  <a:pt x="5815" y="5263"/>
                                </a:lnTo>
                                <a:lnTo>
                                  <a:pt x="5815" y="7387"/>
                                </a:lnTo>
                                <a:lnTo>
                                  <a:pt x="6100" y="7382"/>
                                </a:lnTo>
                                <a:lnTo>
                                  <a:pt x="6379" y="7372"/>
                                </a:lnTo>
                                <a:lnTo>
                                  <a:pt x="6654" y="7357"/>
                                </a:lnTo>
                                <a:lnTo>
                                  <a:pt x="6922" y="7338"/>
                                </a:lnTo>
                                <a:lnTo>
                                  <a:pt x="7184" y="7315"/>
                                </a:lnTo>
                                <a:lnTo>
                                  <a:pt x="7440" y="7287"/>
                                </a:lnTo>
                                <a:lnTo>
                                  <a:pt x="7690" y="7255"/>
                                </a:lnTo>
                                <a:lnTo>
                                  <a:pt x="7934" y="7219"/>
                                </a:lnTo>
                                <a:lnTo>
                                  <a:pt x="8170" y="7179"/>
                                </a:lnTo>
                                <a:lnTo>
                                  <a:pt x="8400" y="7136"/>
                                </a:lnTo>
                                <a:lnTo>
                                  <a:pt x="8622" y="7089"/>
                                </a:lnTo>
                                <a:lnTo>
                                  <a:pt x="8837" y="7038"/>
                                </a:lnTo>
                                <a:lnTo>
                                  <a:pt x="9043" y="6985"/>
                                </a:lnTo>
                                <a:lnTo>
                                  <a:pt x="9241" y="6928"/>
                                </a:lnTo>
                                <a:lnTo>
                                  <a:pt x="9431" y="6868"/>
                                </a:lnTo>
                                <a:lnTo>
                                  <a:pt x="9612" y="6805"/>
                                </a:lnTo>
                                <a:lnTo>
                                  <a:pt x="9783" y="6741"/>
                                </a:lnTo>
                                <a:lnTo>
                                  <a:pt x="9946" y="6674"/>
                                </a:lnTo>
                                <a:lnTo>
                                  <a:pt x="10100" y="6604"/>
                                </a:lnTo>
                                <a:lnTo>
                                  <a:pt x="10244" y="6532"/>
                                </a:lnTo>
                                <a:lnTo>
                                  <a:pt x="10378" y="6458"/>
                                </a:lnTo>
                                <a:lnTo>
                                  <a:pt x="10501" y="6382"/>
                                </a:lnTo>
                                <a:lnTo>
                                  <a:pt x="10613" y="6304"/>
                                </a:lnTo>
                                <a:lnTo>
                                  <a:pt x="10716" y="6225"/>
                                </a:lnTo>
                                <a:lnTo>
                                  <a:pt x="10807" y="6145"/>
                                </a:lnTo>
                                <a:lnTo>
                                  <a:pt x="10887" y="6063"/>
                                </a:lnTo>
                                <a:lnTo>
                                  <a:pt x="10955" y="5980"/>
                                </a:lnTo>
                                <a:lnTo>
                                  <a:pt x="11011" y="5897"/>
                                </a:lnTo>
                                <a:lnTo>
                                  <a:pt x="11055" y="5812"/>
                                </a:lnTo>
                                <a:lnTo>
                                  <a:pt x="11087" y="5727"/>
                                </a:lnTo>
                                <a:lnTo>
                                  <a:pt x="11107" y="5642"/>
                                </a:lnTo>
                                <a:lnTo>
                                  <a:pt x="11113" y="5556"/>
                                </a:lnTo>
                                <a:lnTo>
                                  <a:pt x="11373" y="5556"/>
                                </a:lnTo>
                                <a:lnTo>
                                  <a:pt x="11365" y="5669"/>
                                </a:lnTo>
                                <a:lnTo>
                                  <a:pt x="11342" y="5780"/>
                                </a:lnTo>
                                <a:lnTo>
                                  <a:pt x="11306" y="5888"/>
                                </a:lnTo>
                                <a:lnTo>
                                  <a:pt x="11255" y="5994"/>
                                </a:lnTo>
                                <a:lnTo>
                                  <a:pt x="11191" y="6099"/>
                                </a:lnTo>
                                <a:lnTo>
                                  <a:pt x="11113" y="6199"/>
                                </a:lnTo>
                                <a:lnTo>
                                  <a:pt x="11023" y="6297"/>
                                </a:lnTo>
                                <a:lnTo>
                                  <a:pt x="10920" y="6393"/>
                                </a:lnTo>
                                <a:lnTo>
                                  <a:pt x="10806" y="6486"/>
                                </a:lnTo>
                                <a:lnTo>
                                  <a:pt x="10679" y="6576"/>
                                </a:lnTo>
                                <a:lnTo>
                                  <a:pt x="10542" y="6663"/>
                                </a:lnTo>
                                <a:lnTo>
                                  <a:pt x="10394" y="6747"/>
                                </a:lnTo>
                                <a:lnTo>
                                  <a:pt x="10236" y="6827"/>
                                </a:lnTo>
                                <a:lnTo>
                                  <a:pt x="10068" y="6905"/>
                                </a:lnTo>
                                <a:lnTo>
                                  <a:pt x="9890" y="6979"/>
                                </a:lnTo>
                                <a:lnTo>
                                  <a:pt x="9703" y="7048"/>
                                </a:lnTo>
                                <a:lnTo>
                                  <a:pt x="9508" y="7116"/>
                                </a:lnTo>
                                <a:lnTo>
                                  <a:pt x="9303" y="7179"/>
                                </a:lnTo>
                                <a:lnTo>
                                  <a:pt x="9092" y="7239"/>
                                </a:lnTo>
                                <a:lnTo>
                                  <a:pt x="8873" y="7295"/>
                                </a:lnTo>
                                <a:lnTo>
                                  <a:pt x="8647" y="7347"/>
                                </a:lnTo>
                                <a:lnTo>
                                  <a:pt x="8414" y="7396"/>
                                </a:lnTo>
                                <a:lnTo>
                                  <a:pt x="8175" y="7440"/>
                                </a:lnTo>
                                <a:lnTo>
                                  <a:pt x="7931" y="7481"/>
                                </a:lnTo>
                                <a:lnTo>
                                  <a:pt x="7681" y="7516"/>
                                </a:lnTo>
                                <a:lnTo>
                                  <a:pt x="7426" y="7549"/>
                                </a:lnTo>
                                <a:lnTo>
                                  <a:pt x="7167" y="7576"/>
                                </a:lnTo>
                                <a:lnTo>
                                  <a:pt x="6903" y="7599"/>
                                </a:lnTo>
                                <a:lnTo>
                                  <a:pt x="6635" y="7617"/>
                                </a:lnTo>
                                <a:lnTo>
                                  <a:pt x="6365" y="7632"/>
                                </a:lnTo>
                                <a:lnTo>
                                  <a:pt x="6092" y="7642"/>
                                </a:lnTo>
                                <a:lnTo>
                                  <a:pt x="5815" y="7646"/>
                                </a:lnTo>
                                <a:lnTo>
                                  <a:pt x="5815" y="9655"/>
                                </a:lnTo>
                                <a:lnTo>
                                  <a:pt x="6066" y="9651"/>
                                </a:lnTo>
                                <a:lnTo>
                                  <a:pt x="6312" y="9640"/>
                                </a:lnTo>
                                <a:lnTo>
                                  <a:pt x="6553" y="9627"/>
                                </a:lnTo>
                                <a:lnTo>
                                  <a:pt x="6790" y="9609"/>
                                </a:lnTo>
                                <a:lnTo>
                                  <a:pt x="7021" y="9588"/>
                                </a:lnTo>
                                <a:lnTo>
                                  <a:pt x="7247" y="9562"/>
                                </a:lnTo>
                                <a:lnTo>
                                  <a:pt x="7467" y="9533"/>
                                </a:lnTo>
                                <a:lnTo>
                                  <a:pt x="7680" y="9500"/>
                                </a:lnTo>
                                <a:lnTo>
                                  <a:pt x="7888" y="9464"/>
                                </a:lnTo>
                                <a:lnTo>
                                  <a:pt x="8089" y="9425"/>
                                </a:lnTo>
                                <a:lnTo>
                                  <a:pt x="8284" y="9383"/>
                                </a:lnTo>
                                <a:lnTo>
                                  <a:pt x="8471" y="9339"/>
                                </a:lnTo>
                                <a:lnTo>
                                  <a:pt x="8652" y="9291"/>
                                </a:lnTo>
                                <a:lnTo>
                                  <a:pt x="8825" y="9242"/>
                                </a:lnTo>
                                <a:lnTo>
                                  <a:pt x="8991" y="9190"/>
                                </a:lnTo>
                                <a:lnTo>
                                  <a:pt x="9149" y="9136"/>
                                </a:lnTo>
                                <a:lnTo>
                                  <a:pt x="9300" y="9081"/>
                                </a:lnTo>
                                <a:lnTo>
                                  <a:pt x="9443" y="9024"/>
                                </a:lnTo>
                                <a:lnTo>
                                  <a:pt x="9577" y="8965"/>
                                </a:lnTo>
                                <a:lnTo>
                                  <a:pt x="9702" y="8905"/>
                                </a:lnTo>
                                <a:lnTo>
                                  <a:pt x="9819" y="8844"/>
                                </a:lnTo>
                                <a:lnTo>
                                  <a:pt x="9926" y="8782"/>
                                </a:lnTo>
                                <a:lnTo>
                                  <a:pt x="10024" y="8719"/>
                                </a:lnTo>
                                <a:lnTo>
                                  <a:pt x="10113" y="8656"/>
                                </a:lnTo>
                                <a:lnTo>
                                  <a:pt x="10193" y="8592"/>
                                </a:lnTo>
                                <a:lnTo>
                                  <a:pt x="10262" y="8529"/>
                                </a:lnTo>
                                <a:lnTo>
                                  <a:pt x="10322" y="8465"/>
                                </a:lnTo>
                                <a:lnTo>
                                  <a:pt x="10370" y="8401"/>
                                </a:lnTo>
                                <a:lnTo>
                                  <a:pt x="10409" y="8337"/>
                                </a:lnTo>
                                <a:lnTo>
                                  <a:pt x="10437" y="8275"/>
                                </a:lnTo>
                                <a:lnTo>
                                  <a:pt x="10454" y="8213"/>
                                </a:lnTo>
                                <a:lnTo>
                                  <a:pt x="10460" y="8151"/>
                                </a:lnTo>
                                <a:lnTo>
                                  <a:pt x="10719" y="8151"/>
                                </a:lnTo>
                                <a:lnTo>
                                  <a:pt x="10713" y="8240"/>
                                </a:lnTo>
                                <a:lnTo>
                                  <a:pt x="10692" y="8327"/>
                                </a:lnTo>
                                <a:lnTo>
                                  <a:pt x="10660" y="8414"/>
                                </a:lnTo>
                                <a:lnTo>
                                  <a:pt x="10615" y="8499"/>
                                </a:lnTo>
                                <a:lnTo>
                                  <a:pt x="10558" y="8582"/>
                                </a:lnTo>
                                <a:lnTo>
                                  <a:pt x="10489" y="8664"/>
                                </a:lnTo>
                                <a:lnTo>
                                  <a:pt x="10409" y="8745"/>
                                </a:lnTo>
                                <a:lnTo>
                                  <a:pt x="10318" y="8824"/>
                                </a:lnTo>
                                <a:lnTo>
                                  <a:pt x="10216" y="8901"/>
                                </a:lnTo>
                                <a:lnTo>
                                  <a:pt x="10104" y="8976"/>
                                </a:lnTo>
                                <a:lnTo>
                                  <a:pt x="9983" y="9049"/>
                                </a:lnTo>
                                <a:lnTo>
                                  <a:pt x="9852" y="9120"/>
                                </a:lnTo>
                                <a:lnTo>
                                  <a:pt x="9711" y="9189"/>
                                </a:lnTo>
                                <a:lnTo>
                                  <a:pt x="9563" y="9255"/>
                                </a:lnTo>
                                <a:lnTo>
                                  <a:pt x="9406" y="9318"/>
                                </a:lnTo>
                                <a:lnTo>
                                  <a:pt x="9241" y="9379"/>
                                </a:lnTo>
                                <a:lnTo>
                                  <a:pt x="9067" y="9438"/>
                                </a:lnTo>
                                <a:lnTo>
                                  <a:pt x="8887" y="9494"/>
                                </a:lnTo>
                                <a:lnTo>
                                  <a:pt x="8701" y="9546"/>
                                </a:lnTo>
                                <a:lnTo>
                                  <a:pt x="8507" y="9596"/>
                                </a:lnTo>
                                <a:lnTo>
                                  <a:pt x="8308" y="9642"/>
                                </a:lnTo>
                                <a:lnTo>
                                  <a:pt x="8102" y="9686"/>
                                </a:lnTo>
                                <a:lnTo>
                                  <a:pt x="7892" y="9725"/>
                                </a:lnTo>
                                <a:lnTo>
                                  <a:pt x="7676" y="9762"/>
                                </a:lnTo>
                                <a:lnTo>
                                  <a:pt x="7457" y="9794"/>
                                </a:lnTo>
                                <a:lnTo>
                                  <a:pt x="7232" y="9824"/>
                                </a:lnTo>
                                <a:lnTo>
                                  <a:pt x="7003" y="9849"/>
                                </a:lnTo>
                                <a:lnTo>
                                  <a:pt x="6771" y="9870"/>
                                </a:lnTo>
                                <a:lnTo>
                                  <a:pt x="6536" y="9887"/>
                                </a:lnTo>
                                <a:lnTo>
                                  <a:pt x="6298" y="9901"/>
                                </a:lnTo>
                                <a:lnTo>
                                  <a:pt x="6058" y="9910"/>
                                </a:lnTo>
                                <a:lnTo>
                                  <a:pt x="5815" y="9914"/>
                                </a:lnTo>
                                <a:lnTo>
                                  <a:pt x="5815" y="11112"/>
                                </a:lnTo>
                                <a:lnTo>
                                  <a:pt x="5556" y="11112"/>
                                </a:lnTo>
                                <a:lnTo>
                                  <a:pt x="5556" y="9914"/>
                                </a:lnTo>
                                <a:lnTo>
                                  <a:pt x="5314" y="9910"/>
                                </a:lnTo>
                                <a:lnTo>
                                  <a:pt x="5073" y="9901"/>
                                </a:lnTo>
                                <a:lnTo>
                                  <a:pt x="4835" y="9887"/>
                                </a:lnTo>
                                <a:lnTo>
                                  <a:pt x="4600" y="9870"/>
                                </a:lnTo>
                                <a:lnTo>
                                  <a:pt x="4368" y="9849"/>
                                </a:lnTo>
                                <a:lnTo>
                                  <a:pt x="4140" y="9824"/>
                                </a:lnTo>
                                <a:lnTo>
                                  <a:pt x="3916" y="9794"/>
                                </a:lnTo>
                                <a:lnTo>
                                  <a:pt x="3695" y="9762"/>
                                </a:lnTo>
                                <a:lnTo>
                                  <a:pt x="3479" y="9725"/>
                                </a:lnTo>
                                <a:lnTo>
                                  <a:pt x="3269" y="9686"/>
                                </a:lnTo>
                                <a:lnTo>
                                  <a:pt x="3064" y="9642"/>
                                </a:lnTo>
                                <a:lnTo>
                                  <a:pt x="2865" y="9596"/>
                                </a:lnTo>
                                <a:lnTo>
                                  <a:pt x="2671" y="9546"/>
                                </a:lnTo>
                                <a:lnTo>
                                  <a:pt x="2484" y="9494"/>
                                </a:lnTo>
                                <a:lnTo>
                                  <a:pt x="2305" y="9438"/>
                                </a:lnTo>
                                <a:lnTo>
                                  <a:pt x="2132" y="9379"/>
                                </a:lnTo>
                                <a:lnTo>
                                  <a:pt x="1967" y="9318"/>
                                </a:lnTo>
                                <a:lnTo>
                                  <a:pt x="1810" y="9255"/>
                                </a:lnTo>
                                <a:lnTo>
                                  <a:pt x="1661" y="9189"/>
                                </a:lnTo>
                                <a:lnTo>
                                  <a:pt x="1521" y="9120"/>
                                </a:lnTo>
                                <a:lnTo>
                                  <a:pt x="1390" y="9049"/>
                                </a:lnTo>
                                <a:lnTo>
                                  <a:pt x="1268" y="8976"/>
                                </a:lnTo>
                                <a:lnTo>
                                  <a:pt x="1157" y="8901"/>
                                </a:lnTo>
                                <a:lnTo>
                                  <a:pt x="1055" y="8824"/>
                                </a:lnTo>
                                <a:lnTo>
                                  <a:pt x="964" y="8745"/>
                                </a:lnTo>
                                <a:lnTo>
                                  <a:pt x="884" y="8664"/>
                                </a:lnTo>
                                <a:lnTo>
                                  <a:pt x="816" y="8582"/>
                                </a:lnTo>
                                <a:lnTo>
                                  <a:pt x="759" y="8498"/>
                                </a:lnTo>
                                <a:lnTo>
                                  <a:pt x="713" y="8414"/>
                                </a:lnTo>
                                <a:lnTo>
                                  <a:pt x="681" y="8327"/>
                                </a:lnTo>
                                <a:lnTo>
                                  <a:pt x="661" y="8240"/>
                                </a:lnTo>
                                <a:lnTo>
                                  <a:pt x="655" y="8151"/>
                                </a:lnTo>
                                <a:lnTo>
                                  <a:pt x="914" y="8151"/>
                                </a:lnTo>
                                <a:lnTo>
                                  <a:pt x="920" y="8213"/>
                                </a:lnTo>
                                <a:lnTo>
                                  <a:pt x="936" y="8275"/>
                                </a:lnTo>
                                <a:lnTo>
                                  <a:pt x="964" y="8337"/>
                                </a:lnTo>
                                <a:lnTo>
                                  <a:pt x="1003" y="8401"/>
                                </a:lnTo>
                                <a:lnTo>
                                  <a:pt x="1051" y="8465"/>
                                </a:lnTo>
                                <a:lnTo>
                                  <a:pt x="1111" y="8529"/>
                                </a:lnTo>
                                <a:lnTo>
                                  <a:pt x="1180" y="8592"/>
                                </a:lnTo>
                                <a:lnTo>
                                  <a:pt x="1259" y="8656"/>
                                </a:lnTo>
                                <a:lnTo>
                                  <a:pt x="1348" y="8719"/>
                                </a:lnTo>
                                <a:lnTo>
                                  <a:pt x="1446" y="8782"/>
                                </a:lnTo>
                                <a:lnTo>
                                  <a:pt x="1554" y="8844"/>
                                </a:lnTo>
                                <a:lnTo>
                                  <a:pt x="1671" y="8905"/>
                                </a:lnTo>
                                <a:lnTo>
                                  <a:pt x="1796" y="8965"/>
                                </a:lnTo>
                                <a:lnTo>
                                  <a:pt x="1930" y="9024"/>
                                </a:lnTo>
                                <a:lnTo>
                                  <a:pt x="2072" y="9081"/>
                                </a:lnTo>
                                <a:lnTo>
                                  <a:pt x="2223" y="9136"/>
                                </a:lnTo>
                                <a:lnTo>
                                  <a:pt x="2381" y="9190"/>
                                </a:lnTo>
                                <a:lnTo>
                                  <a:pt x="2547" y="9242"/>
                                </a:lnTo>
                                <a:lnTo>
                                  <a:pt x="2720" y="9291"/>
                                </a:lnTo>
                                <a:lnTo>
                                  <a:pt x="2900" y="9339"/>
                                </a:lnTo>
                                <a:lnTo>
                                  <a:pt x="3089" y="9383"/>
                                </a:lnTo>
                                <a:lnTo>
                                  <a:pt x="3283" y="9425"/>
                                </a:lnTo>
                                <a:lnTo>
                                  <a:pt x="3484" y="9464"/>
                                </a:lnTo>
                                <a:lnTo>
                                  <a:pt x="3692" y="9500"/>
                                </a:lnTo>
                                <a:lnTo>
                                  <a:pt x="3906" y="9533"/>
                                </a:lnTo>
                                <a:lnTo>
                                  <a:pt x="4125" y="9562"/>
                                </a:lnTo>
                                <a:lnTo>
                                  <a:pt x="4350" y="9588"/>
                                </a:lnTo>
                                <a:lnTo>
                                  <a:pt x="4581" y="9609"/>
                                </a:lnTo>
                                <a:lnTo>
                                  <a:pt x="4818" y="9627"/>
                                </a:lnTo>
                                <a:lnTo>
                                  <a:pt x="5059" y="9640"/>
                                </a:lnTo>
                                <a:lnTo>
                                  <a:pt x="5305" y="9651"/>
                                </a:lnTo>
                                <a:lnTo>
                                  <a:pt x="5556" y="9655"/>
                                </a:lnTo>
                                <a:lnTo>
                                  <a:pt x="5556" y="7646"/>
                                </a:lnTo>
                                <a:lnTo>
                                  <a:pt x="5280" y="7642"/>
                                </a:lnTo>
                                <a:lnTo>
                                  <a:pt x="5006" y="7632"/>
                                </a:lnTo>
                                <a:lnTo>
                                  <a:pt x="4736" y="7617"/>
                                </a:lnTo>
                                <a:lnTo>
                                  <a:pt x="4469" y="7599"/>
                                </a:lnTo>
                                <a:lnTo>
                                  <a:pt x="4204" y="7576"/>
                                </a:lnTo>
                                <a:lnTo>
                                  <a:pt x="3945" y="7549"/>
                                </a:lnTo>
                                <a:lnTo>
                                  <a:pt x="3690" y="7516"/>
                                </a:lnTo>
                                <a:lnTo>
                                  <a:pt x="3441" y="7481"/>
                                </a:lnTo>
                                <a:lnTo>
                                  <a:pt x="3196" y="7440"/>
                                </a:lnTo>
                                <a:lnTo>
                                  <a:pt x="2957" y="7396"/>
                                </a:lnTo>
                                <a:lnTo>
                                  <a:pt x="2725" y="7347"/>
                                </a:lnTo>
                                <a:lnTo>
                                  <a:pt x="2498" y="7295"/>
                                </a:lnTo>
                                <a:lnTo>
                                  <a:pt x="2280" y="7239"/>
                                </a:lnTo>
                                <a:lnTo>
                                  <a:pt x="2068" y="7179"/>
                                </a:lnTo>
                                <a:lnTo>
                                  <a:pt x="1864" y="7116"/>
                                </a:lnTo>
                                <a:lnTo>
                                  <a:pt x="1669" y="7048"/>
                                </a:lnTo>
                                <a:lnTo>
                                  <a:pt x="1483" y="6979"/>
                                </a:lnTo>
                                <a:lnTo>
                                  <a:pt x="1306" y="6905"/>
                                </a:lnTo>
                                <a:lnTo>
                                  <a:pt x="1136" y="6827"/>
                                </a:lnTo>
                                <a:lnTo>
                                  <a:pt x="979" y="6747"/>
                                </a:lnTo>
                                <a:lnTo>
                                  <a:pt x="831" y="6663"/>
                                </a:lnTo>
                                <a:lnTo>
                                  <a:pt x="694" y="6576"/>
                                </a:lnTo>
                                <a:lnTo>
                                  <a:pt x="567" y="6485"/>
                                </a:lnTo>
                                <a:lnTo>
                                  <a:pt x="453" y="6393"/>
                                </a:lnTo>
                                <a:lnTo>
                                  <a:pt x="350" y="6297"/>
                                </a:lnTo>
                                <a:lnTo>
                                  <a:pt x="260" y="6199"/>
                                </a:lnTo>
                                <a:lnTo>
                                  <a:pt x="183" y="6099"/>
                                </a:lnTo>
                                <a:lnTo>
                                  <a:pt x="118" y="5994"/>
                                </a:lnTo>
                                <a:lnTo>
                                  <a:pt x="67" y="5888"/>
                                </a:lnTo>
                                <a:lnTo>
                                  <a:pt x="31" y="5780"/>
                                </a:lnTo>
                                <a:lnTo>
                                  <a:pt x="9" y="5669"/>
                                </a:lnTo>
                                <a:lnTo>
                                  <a:pt x="0" y="5556"/>
                                </a:lnTo>
                                <a:lnTo>
                                  <a:pt x="261" y="5556"/>
                                </a:lnTo>
                                <a:lnTo>
                                  <a:pt x="267" y="5642"/>
                                </a:lnTo>
                                <a:lnTo>
                                  <a:pt x="286" y="5727"/>
                                </a:lnTo>
                                <a:lnTo>
                                  <a:pt x="318" y="5812"/>
                                </a:lnTo>
                                <a:lnTo>
                                  <a:pt x="362" y="5897"/>
                                </a:lnTo>
                                <a:lnTo>
                                  <a:pt x="419" y="5980"/>
                                </a:lnTo>
                                <a:lnTo>
                                  <a:pt x="486" y="6063"/>
                                </a:lnTo>
                                <a:lnTo>
                                  <a:pt x="566" y="6145"/>
                                </a:lnTo>
                                <a:lnTo>
                                  <a:pt x="658" y="6225"/>
                                </a:lnTo>
                                <a:lnTo>
                                  <a:pt x="760" y="6304"/>
                                </a:lnTo>
                                <a:lnTo>
                                  <a:pt x="872" y="6382"/>
                                </a:lnTo>
                                <a:lnTo>
                                  <a:pt x="996" y="6458"/>
                                </a:lnTo>
                                <a:lnTo>
                                  <a:pt x="1129" y="6532"/>
                                </a:lnTo>
                                <a:lnTo>
                                  <a:pt x="1272" y="6604"/>
                                </a:lnTo>
                                <a:lnTo>
                                  <a:pt x="1426" y="6674"/>
                                </a:lnTo>
                                <a:lnTo>
                                  <a:pt x="1589" y="6741"/>
                                </a:lnTo>
                                <a:lnTo>
                                  <a:pt x="1761" y="6805"/>
                                </a:lnTo>
                                <a:lnTo>
                                  <a:pt x="1941" y="6868"/>
                                </a:lnTo>
                                <a:lnTo>
                                  <a:pt x="2132" y="6928"/>
                                </a:lnTo>
                                <a:lnTo>
                                  <a:pt x="2329" y="6985"/>
                                </a:lnTo>
                                <a:lnTo>
                                  <a:pt x="2536" y="7038"/>
                                </a:lnTo>
                                <a:lnTo>
                                  <a:pt x="2750" y="7089"/>
                                </a:lnTo>
                                <a:lnTo>
                                  <a:pt x="2972" y="7136"/>
                                </a:lnTo>
                                <a:lnTo>
                                  <a:pt x="3201" y="7179"/>
                                </a:lnTo>
                                <a:lnTo>
                                  <a:pt x="3438" y="7219"/>
                                </a:lnTo>
                                <a:lnTo>
                                  <a:pt x="3681" y="7255"/>
                                </a:lnTo>
                                <a:lnTo>
                                  <a:pt x="3931" y="7287"/>
                                </a:lnTo>
                                <a:lnTo>
                                  <a:pt x="4187" y="7315"/>
                                </a:lnTo>
                                <a:lnTo>
                                  <a:pt x="4450" y="7338"/>
                                </a:lnTo>
                                <a:lnTo>
                                  <a:pt x="4719" y="7357"/>
                                </a:lnTo>
                                <a:lnTo>
                                  <a:pt x="4992" y="7372"/>
                                </a:lnTo>
                                <a:lnTo>
                                  <a:pt x="5272" y="7382"/>
                                </a:lnTo>
                                <a:lnTo>
                                  <a:pt x="5556" y="7387"/>
                                </a:lnTo>
                                <a:lnTo>
                                  <a:pt x="5556" y="5263"/>
                                </a:lnTo>
                                <a:lnTo>
                                  <a:pt x="5299" y="5260"/>
                                </a:lnTo>
                                <a:lnTo>
                                  <a:pt x="5045" y="5254"/>
                                </a:lnTo>
                                <a:lnTo>
                                  <a:pt x="4792" y="5245"/>
                                </a:lnTo>
                                <a:lnTo>
                                  <a:pt x="4543" y="5233"/>
                                </a:lnTo>
                                <a:lnTo>
                                  <a:pt x="4297" y="5218"/>
                                </a:lnTo>
                                <a:lnTo>
                                  <a:pt x="4054" y="5200"/>
                                </a:lnTo>
                                <a:lnTo>
                                  <a:pt x="3815" y="5178"/>
                                </a:lnTo>
                                <a:lnTo>
                                  <a:pt x="3580" y="5154"/>
                                </a:lnTo>
                                <a:lnTo>
                                  <a:pt x="3350" y="5128"/>
                                </a:lnTo>
                                <a:lnTo>
                                  <a:pt x="3126" y="5098"/>
                                </a:lnTo>
                                <a:lnTo>
                                  <a:pt x="2907" y="5066"/>
                                </a:lnTo>
                                <a:lnTo>
                                  <a:pt x="2695" y="5032"/>
                                </a:lnTo>
                                <a:lnTo>
                                  <a:pt x="2488" y="4994"/>
                                </a:lnTo>
                                <a:lnTo>
                                  <a:pt x="2289" y="4954"/>
                                </a:lnTo>
                                <a:lnTo>
                                  <a:pt x="2096" y="4911"/>
                                </a:lnTo>
                                <a:lnTo>
                                  <a:pt x="1911" y="4865"/>
                                </a:lnTo>
                                <a:lnTo>
                                  <a:pt x="1735" y="4818"/>
                                </a:lnTo>
                                <a:lnTo>
                                  <a:pt x="1567" y="4767"/>
                                </a:lnTo>
                                <a:lnTo>
                                  <a:pt x="1408" y="4715"/>
                                </a:lnTo>
                                <a:lnTo>
                                  <a:pt x="1257" y="4660"/>
                                </a:lnTo>
                                <a:lnTo>
                                  <a:pt x="1117" y="4602"/>
                                </a:lnTo>
                                <a:lnTo>
                                  <a:pt x="987" y="4542"/>
                                </a:lnTo>
                                <a:lnTo>
                                  <a:pt x="867" y="4481"/>
                                </a:lnTo>
                                <a:lnTo>
                                  <a:pt x="758" y="4417"/>
                                </a:lnTo>
                                <a:lnTo>
                                  <a:pt x="661" y="4350"/>
                                </a:lnTo>
                                <a:lnTo>
                                  <a:pt x="575" y="4281"/>
                                </a:lnTo>
                                <a:lnTo>
                                  <a:pt x="501" y="4211"/>
                                </a:lnTo>
                                <a:lnTo>
                                  <a:pt x="440" y="4139"/>
                                </a:lnTo>
                                <a:lnTo>
                                  <a:pt x="391" y="4064"/>
                                </a:lnTo>
                                <a:lnTo>
                                  <a:pt x="356" y="3987"/>
                                </a:lnTo>
                                <a:lnTo>
                                  <a:pt x="335" y="3908"/>
                                </a:lnTo>
                                <a:lnTo>
                                  <a:pt x="328" y="3827"/>
                                </a:lnTo>
                                <a:lnTo>
                                  <a:pt x="587" y="3827"/>
                                </a:lnTo>
                                <a:lnTo>
                                  <a:pt x="593" y="3879"/>
                                </a:lnTo>
                                <a:lnTo>
                                  <a:pt x="611" y="3931"/>
                                </a:lnTo>
                                <a:lnTo>
                                  <a:pt x="640" y="3983"/>
                                </a:lnTo>
                                <a:lnTo>
                                  <a:pt x="681" y="4035"/>
                                </a:lnTo>
                                <a:lnTo>
                                  <a:pt x="734" y="4087"/>
                                </a:lnTo>
                                <a:lnTo>
                                  <a:pt x="796" y="4139"/>
                                </a:lnTo>
                                <a:lnTo>
                                  <a:pt x="870" y="4190"/>
                                </a:lnTo>
                                <a:lnTo>
                                  <a:pt x="954" y="4241"/>
                                </a:lnTo>
                                <a:lnTo>
                                  <a:pt x="1048" y="4291"/>
                                </a:lnTo>
                                <a:lnTo>
                                  <a:pt x="1154" y="4341"/>
                                </a:lnTo>
                                <a:lnTo>
                                  <a:pt x="1268" y="4390"/>
                                </a:lnTo>
                                <a:lnTo>
                                  <a:pt x="1393" y="4437"/>
                                </a:lnTo>
                                <a:lnTo>
                                  <a:pt x="1526" y="4484"/>
                                </a:lnTo>
                                <a:lnTo>
                                  <a:pt x="1669" y="4529"/>
                                </a:lnTo>
                                <a:lnTo>
                                  <a:pt x="1820" y="4573"/>
                                </a:lnTo>
                                <a:lnTo>
                                  <a:pt x="1981" y="4615"/>
                                </a:lnTo>
                                <a:lnTo>
                                  <a:pt x="2150" y="4657"/>
                                </a:lnTo>
                                <a:lnTo>
                                  <a:pt x="2327" y="4696"/>
                                </a:lnTo>
                                <a:lnTo>
                                  <a:pt x="2512" y="4734"/>
                                </a:lnTo>
                                <a:lnTo>
                                  <a:pt x="2706" y="4769"/>
                                </a:lnTo>
                                <a:lnTo>
                                  <a:pt x="2906" y="4803"/>
                                </a:lnTo>
                                <a:lnTo>
                                  <a:pt x="3115" y="4834"/>
                                </a:lnTo>
                                <a:lnTo>
                                  <a:pt x="3331" y="4863"/>
                                </a:lnTo>
                                <a:lnTo>
                                  <a:pt x="3552" y="4890"/>
                                </a:lnTo>
                                <a:lnTo>
                                  <a:pt x="3782" y="4914"/>
                                </a:lnTo>
                                <a:lnTo>
                                  <a:pt x="4017" y="4936"/>
                                </a:lnTo>
                                <a:lnTo>
                                  <a:pt x="4259" y="4955"/>
                                </a:lnTo>
                                <a:lnTo>
                                  <a:pt x="4507" y="4971"/>
                                </a:lnTo>
                                <a:lnTo>
                                  <a:pt x="4761" y="4984"/>
                                </a:lnTo>
                                <a:lnTo>
                                  <a:pt x="5020" y="4994"/>
                                </a:lnTo>
                                <a:lnTo>
                                  <a:pt x="5286" y="5001"/>
                                </a:lnTo>
                                <a:lnTo>
                                  <a:pt x="5556" y="5004"/>
                                </a:lnTo>
                                <a:lnTo>
                                  <a:pt x="5556" y="3139"/>
                                </a:lnTo>
                                <a:lnTo>
                                  <a:pt x="5358" y="3136"/>
                                </a:lnTo>
                                <a:lnTo>
                                  <a:pt x="5159" y="3130"/>
                                </a:lnTo>
                                <a:lnTo>
                                  <a:pt x="4964" y="3122"/>
                                </a:lnTo>
                                <a:lnTo>
                                  <a:pt x="4770" y="3111"/>
                                </a:lnTo>
                                <a:lnTo>
                                  <a:pt x="4578" y="3098"/>
                                </a:lnTo>
                                <a:lnTo>
                                  <a:pt x="4390" y="3081"/>
                                </a:lnTo>
                                <a:lnTo>
                                  <a:pt x="4203" y="3063"/>
                                </a:lnTo>
                                <a:lnTo>
                                  <a:pt x="4020" y="3042"/>
                                </a:lnTo>
                                <a:lnTo>
                                  <a:pt x="3841" y="3018"/>
                                </a:lnTo>
                                <a:lnTo>
                                  <a:pt x="3666" y="2992"/>
                                </a:lnTo>
                                <a:lnTo>
                                  <a:pt x="3496" y="2964"/>
                                </a:lnTo>
                                <a:lnTo>
                                  <a:pt x="3329" y="2933"/>
                                </a:lnTo>
                                <a:lnTo>
                                  <a:pt x="3168" y="2900"/>
                                </a:lnTo>
                                <a:lnTo>
                                  <a:pt x="3012" y="2865"/>
                                </a:lnTo>
                                <a:lnTo>
                                  <a:pt x="2861" y="2826"/>
                                </a:lnTo>
                                <a:lnTo>
                                  <a:pt x="2716" y="2787"/>
                                </a:lnTo>
                                <a:lnTo>
                                  <a:pt x="2577" y="2744"/>
                                </a:lnTo>
                                <a:lnTo>
                                  <a:pt x="2446" y="2701"/>
                                </a:lnTo>
                                <a:lnTo>
                                  <a:pt x="2320" y="2654"/>
                                </a:lnTo>
                                <a:lnTo>
                                  <a:pt x="2203" y="2606"/>
                                </a:lnTo>
                                <a:lnTo>
                                  <a:pt x="2092" y="2555"/>
                                </a:lnTo>
                                <a:lnTo>
                                  <a:pt x="1990" y="2501"/>
                                </a:lnTo>
                                <a:lnTo>
                                  <a:pt x="1896" y="2447"/>
                                </a:lnTo>
                                <a:lnTo>
                                  <a:pt x="1811" y="2390"/>
                                </a:lnTo>
                                <a:lnTo>
                                  <a:pt x="1734" y="2331"/>
                                </a:lnTo>
                                <a:lnTo>
                                  <a:pt x="1666" y="2270"/>
                                </a:lnTo>
                                <a:lnTo>
                                  <a:pt x="1607" y="2208"/>
                                </a:lnTo>
                                <a:lnTo>
                                  <a:pt x="1560" y="2143"/>
                                </a:lnTo>
                                <a:lnTo>
                                  <a:pt x="1521" y="2077"/>
                                </a:lnTo>
                                <a:lnTo>
                                  <a:pt x="1494" y="2008"/>
                                </a:lnTo>
                                <a:lnTo>
                                  <a:pt x="1477" y="1938"/>
                                </a:lnTo>
                                <a:lnTo>
                                  <a:pt x="1472" y="1866"/>
                                </a:lnTo>
                                <a:lnTo>
                                  <a:pt x="1731" y="1866"/>
                                </a:lnTo>
                                <a:lnTo>
                                  <a:pt x="1735" y="1910"/>
                                </a:lnTo>
                                <a:lnTo>
                                  <a:pt x="1749" y="1954"/>
                                </a:lnTo>
                                <a:lnTo>
                                  <a:pt x="1771" y="1998"/>
                                </a:lnTo>
                                <a:lnTo>
                                  <a:pt x="1802" y="2042"/>
                                </a:lnTo>
                                <a:lnTo>
                                  <a:pt x="1841" y="2086"/>
                                </a:lnTo>
                                <a:lnTo>
                                  <a:pt x="1890" y="2130"/>
                                </a:lnTo>
                                <a:lnTo>
                                  <a:pt x="1945" y="2174"/>
                                </a:lnTo>
                                <a:lnTo>
                                  <a:pt x="2009" y="2217"/>
                                </a:lnTo>
                                <a:lnTo>
                                  <a:pt x="2082" y="2260"/>
                                </a:lnTo>
                                <a:lnTo>
                                  <a:pt x="2161" y="2303"/>
                                </a:lnTo>
                                <a:lnTo>
                                  <a:pt x="2249" y="2344"/>
                                </a:lnTo>
                                <a:lnTo>
                                  <a:pt x="2343" y="2385"/>
                                </a:lnTo>
                                <a:lnTo>
                                  <a:pt x="2446" y="2425"/>
                                </a:lnTo>
                                <a:lnTo>
                                  <a:pt x="2555" y="2465"/>
                                </a:lnTo>
                                <a:lnTo>
                                  <a:pt x="2670" y="2502"/>
                                </a:lnTo>
                                <a:lnTo>
                                  <a:pt x="2794" y="2539"/>
                                </a:lnTo>
                                <a:lnTo>
                                  <a:pt x="2924" y="2575"/>
                                </a:lnTo>
                                <a:lnTo>
                                  <a:pt x="3059" y="2609"/>
                                </a:lnTo>
                                <a:lnTo>
                                  <a:pt x="3201" y="2642"/>
                                </a:lnTo>
                                <a:lnTo>
                                  <a:pt x="3350" y="2672"/>
                                </a:lnTo>
                                <a:lnTo>
                                  <a:pt x="3505" y="2702"/>
                                </a:lnTo>
                                <a:lnTo>
                                  <a:pt x="3665" y="2729"/>
                                </a:lnTo>
                                <a:lnTo>
                                  <a:pt x="3831" y="2754"/>
                                </a:lnTo>
                                <a:lnTo>
                                  <a:pt x="4003" y="2778"/>
                                </a:lnTo>
                                <a:lnTo>
                                  <a:pt x="4179" y="2800"/>
                                </a:lnTo>
                                <a:lnTo>
                                  <a:pt x="4361" y="2818"/>
                                </a:lnTo>
                                <a:lnTo>
                                  <a:pt x="4549" y="2835"/>
                                </a:lnTo>
                                <a:lnTo>
                                  <a:pt x="4741" y="2850"/>
                                </a:lnTo>
                                <a:lnTo>
                                  <a:pt x="4938" y="2862"/>
                                </a:lnTo>
                                <a:lnTo>
                                  <a:pt x="5140" y="2870"/>
                                </a:lnTo>
                                <a:lnTo>
                                  <a:pt x="5345" y="2877"/>
                                </a:lnTo>
                                <a:lnTo>
                                  <a:pt x="5556" y="2880"/>
                                </a:lnTo>
                                <a:lnTo>
                                  <a:pt x="5556" y="1435"/>
                                </a:lnTo>
                                <a:lnTo>
                                  <a:pt x="5501" y="1433"/>
                                </a:lnTo>
                                <a:lnTo>
                                  <a:pt x="5441" y="1430"/>
                                </a:lnTo>
                                <a:lnTo>
                                  <a:pt x="5376" y="1427"/>
                                </a:lnTo>
                                <a:lnTo>
                                  <a:pt x="5308" y="1422"/>
                                </a:lnTo>
                                <a:lnTo>
                                  <a:pt x="5235" y="1417"/>
                                </a:lnTo>
                                <a:lnTo>
                                  <a:pt x="5160" y="1411"/>
                                </a:lnTo>
                                <a:lnTo>
                                  <a:pt x="5081" y="1403"/>
                                </a:lnTo>
                                <a:lnTo>
                                  <a:pt x="5001" y="1395"/>
                                </a:lnTo>
                                <a:lnTo>
                                  <a:pt x="4918" y="1385"/>
                                </a:lnTo>
                                <a:lnTo>
                                  <a:pt x="4834" y="1373"/>
                                </a:lnTo>
                                <a:lnTo>
                                  <a:pt x="4749" y="1360"/>
                                </a:lnTo>
                                <a:lnTo>
                                  <a:pt x="4664" y="1346"/>
                                </a:lnTo>
                                <a:lnTo>
                                  <a:pt x="4578" y="1331"/>
                                </a:lnTo>
                                <a:lnTo>
                                  <a:pt x="4493" y="1314"/>
                                </a:lnTo>
                                <a:lnTo>
                                  <a:pt x="4409" y="1294"/>
                                </a:lnTo>
                                <a:lnTo>
                                  <a:pt x="4325" y="1274"/>
                                </a:lnTo>
                                <a:lnTo>
                                  <a:pt x="4243" y="1252"/>
                                </a:lnTo>
                                <a:lnTo>
                                  <a:pt x="4164" y="1228"/>
                                </a:lnTo>
                                <a:lnTo>
                                  <a:pt x="4087" y="1202"/>
                                </a:lnTo>
                                <a:lnTo>
                                  <a:pt x="4012" y="1174"/>
                                </a:lnTo>
                                <a:lnTo>
                                  <a:pt x="3941" y="1144"/>
                                </a:lnTo>
                                <a:lnTo>
                                  <a:pt x="3874" y="1111"/>
                                </a:lnTo>
                                <a:lnTo>
                                  <a:pt x="3812" y="1077"/>
                                </a:lnTo>
                                <a:lnTo>
                                  <a:pt x="3754" y="1039"/>
                                </a:lnTo>
                                <a:lnTo>
                                  <a:pt x="3701" y="1001"/>
                                </a:lnTo>
                                <a:lnTo>
                                  <a:pt x="3655" y="959"/>
                                </a:lnTo>
                                <a:lnTo>
                                  <a:pt x="3613" y="915"/>
                                </a:lnTo>
                                <a:lnTo>
                                  <a:pt x="3579" y="868"/>
                                </a:lnTo>
                                <a:lnTo>
                                  <a:pt x="3550" y="819"/>
                                </a:lnTo>
                                <a:lnTo>
                                  <a:pt x="3530" y="767"/>
                                </a:lnTo>
                                <a:lnTo>
                                  <a:pt x="3518" y="712"/>
                                </a:lnTo>
                                <a:lnTo>
                                  <a:pt x="3514" y="654"/>
                                </a:lnTo>
                                <a:lnTo>
                                  <a:pt x="3514" y="634"/>
                                </a:lnTo>
                                <a:lnTo>
                                  <a:pt x="3516" y="614"/>
                                </a:lnTo>
                                <a:lnTo>
                                  <a:pt x="3519" y="595"/>
                                </a:lnTo>
                                <a:lnTo>
                                  <a:pt x="3522" y="576"/>
                                </a:lnTo>
                                <a:lnTo>
                                  <a:pt x="3527" y="556"/>
                                </a:lnTo>
                                <a:lnTo>
                                  <a:pt x="3533" y="538"/>
                                </a:lnTo>
                                <a:lnTo>
                                  <a:pt x="3540" y="520"/>
                                </a:lnTo>
                                <a:lnTo>
                                  <a:pt x="3547" y="502"/>
                                </a:lnTo>
                                <a:lnTo>
                                  <a:pt x="3556" y="484"/>
                                </a:lnTo>
                                <a:lnTo>
                                  <a:pt x="3566" y="467"/>
                                </a:lnTo>
                                <a:lnTo>
                                  <a:pt x="3577" y="450"/>
                                </a:lnTo>
                                <a:lnTo>
                                  <a:pt x="3588" y="434"/>
                                </a:lnTo>
                                <a:lnTo>
                                  <a:pt x="3600" y="418"/>
                                </a:lnTo>
                                <a:lnTo>
                                  <a:pt x="3613" y="401"/>
                                </a:lnTo>
                                <a:lnTo>
                                  <a:pt x="3627" y="385"/>
                                </a:lnTo>
                                <a:lnTo>
                                  <a:pt x="3641" y="370"/>
                                </a:lnTo>
                                <a:lnTo>
                                  <a:pt x="3657" y="355"/>
                                </a:lnTo>
                                <a:lnTo>
                                  <a:pt x="3673" y="340"/>
                                </a:lnTo>
                                <a:lnTo>
                                  <a:pt x="3689" y="325"/>
                                </a:lnTo>
                                <a:lnTo>
                                  <a:pt x="3706" y="311"/>
                                </a:lnTo>
                                <a:lnTo>
                                  <a:pt x="3743" y="284"/>
                                </a:lnTo>
                                <a:lnTo>
                                  <a:pt x="3782" y="258"/>
                                </a:lnTo>
                                <a:lnTo>
                                  <a:pt x="3823" y="232"/>
                                </a:lnTo>
                                <a:lnTo>
                                  <a:pt x="3865" y="208"/>
                                </a:lnTo>
                                <a:lnTo>
                                  <a:pt x="3910" y="185"/>
                                </a:lnTo>
                                <a:lnTo>
                                  <a:pt x="3955" y="163"/>
                                </a:lnTo>
                                <a:lnTo>
                                  <a:pt x="4153" y="361"/>
                                </a:lnTo>
                                <a:lnTo>
                                  <a:pt x="4102" y="382"/>
                                </a:lnTo>
                                <a:lnTo>
                                  <a:pt x="4055" y="402"/>
                                </a:lnTo>
                                <a:lnTo>
                                  <a:pt x="4012" y="424"/>
                                </a:lnTo>
                                <a:lnTo>
                                  <a:pt x="3973" y="445"/>
                                </a:lnTo>
                                <a:lnTo>
                                  <a:pt x="3938" y="465"/>
                                </a:lnTo>
                                <a:lnTo>
                                  <a:pt x="3907" y="485"/>
                                </a:lnTo>
                                <a:lnTo>
                                  <a:pt x="3879" y="506"/>
                                </a:lnTo>
                                <a:lnTo>
                                  <a:pt x="3856" y="525"/>
                                </a:lnTo>
                                <a:lnTo>
                                  <a:pt x="3835" y="544"/>
                                </a:lnTo>
                                <a:lnTo>
                                  <a:pt x="3818" y="562"/>
                                </a:lnTo>
                                <a:lnTo>
                                  <a:pt x="3803" y="580"/>
                                </a:lnTo>
                                <a:lnTo>
                                  <a:pt x="3792" y="597"/>
                                </a:lnTo>
                                <a:lnTo>
                                  <a:pt x="3783" y="612"/>
                                </a:lnTo>
                                <a:lnTo>
                                  <a:pt x="3778" y="627"/>
                                </a:lnTo>
                                <a:lnTo>
                                  <a:pt x="3774" y="641"/>
                                </a:lnTo>
                                <a:lnTo>
                                  <a:pt x="3773" y="654"/>
                                </a:lnTo>
                                <a:lnTo>
                                  <a:pt x="3773" y="662"/>
                                </a:lnTo>
                                <a:lnTo>
                                  <a:pt x="3774" y="669"/>
                                </a:lnTo>
                                <a:lnTo>
                                  <a:pt x="3776" y="677"/>
                                </a:lnTo>
                                <a:lnTo>
                                  <a:pt x="3779" y="685"/>
                                </a:lnTo>
                                <a:lnTo>
                                  <a:pt x="3782" y="694"/>
                                </a:lnTo>
                                <a:lnTo>
                                  <a:pt x="3787" y="703"/>
                                </a:lnTo>
                                <a:lnTo>
                                  <a:pt x="3792" y="712"/>
                                </a:lnTo>
                                <a:lnTo>
                                  <a:pt x="3798" y="721"/>
                                </a:lnTo>
                                <a:lnTo>
                                  <a:pt x="3805" y="731"/>
                                </a:lnTo>
                                <a:lnTo>
                                  <a:pt x="3813" y="742"/>
                                </a:lnTo>
                                <a:lnTo>
                                  <a:pt x="3822" y="752"/>
                                </a:lnTo>
                                <a:lnTo>
                                  <a:pt x="3832" y="762"/>
                                </a:lnTo>
                                <a:lnTo>
                                  <a:pt x="3843" y="772"/>
                                </a:lnTo>
                                <a:lnTo>
                                  <a:pt x="3855" y="783"/>
                                </a:lnTo>
                                <a:lnTo>
                                  <a:pt x="3868" y="794"/>
                                </a:lnTo>
                                <a:lnTo>
                                  <a:pt x="3882" y="805"/>
                                </a:lnTo>
                                <a:lnTo>
                                  <a:pt x="3898" y="816"/>
                                </a:lnTo>
                                <a:lnTo>
                                  <a:pt x="3914" y="828"/>
                                </a:lnTo>
                                <a:lnTo>
                                  <a:pt x="3932" y="840"/>
                                </a:lnTo>
                                <a:lnTo>
                                  <a:pt x="3950" y="851"/>
                                </a:lnTo>
                                <a:lnTo>
                                  <a:pt x="3992" y="874"/>
                                </a:lnTo>
                                <a:lnTo>
                                  <a:pt x="4038" y="899"/>
                                </a:lnTo>
                                <a:lnTo>
                                  <a:pt x="4091" y="922"/>
                                </a:lnTo>
                                <a:lnTo>
                                  <a:pt x="4149" y="946"/>
                                </a:lnTo>
                                <a:lnTo>
                                  <a:pt x="4179" y="958"/>
                                </a:lnTo>
                                <a:lnTo>
                                  <a:pt x="4211" y="969"/>
                                </a:lnTo>
                                <a:lnTo>
                                  <a:pt x="4246" y="982"/>
                                </a:lnTo>
                                <a:lnTo>
                                  <a:pt x="4281" y="993"/>
                                </a:lnTo>
                                <a:lnTo>
                                  <a:pt x="4343" y="1012"/>
                                </a:lnTo>
                                <a:lnTo>
                                  <a:pt x="4409" y="1030"/>
                                </a:lnTo>
                                <a:lnTo>
                                  <a:pt x="4477" y="1047"/>
                                </a:lnTo>
                                <a:lnTo>
                                  <a:pt x="4548" y="1065"/>
                                </a:lnTo>
                                <a:lnTo>
                                  <a:pt x="4621" y="1080"/>
                                </a:lnTo>
                                <a:lnTo>
                                  <a:pt x="4695" y="1094"/>
                                </a:lnTo>
                                <a:lnTo>
                                  <a:pt x="4772" y="1108"/>
                                </a:lnTo>
                                <a:lnTo>
                                  <a:pt x="4852" y="1120"/>
                                </a:lnTo>
                                <a:lnTo>
                                  <a:pt x="4934" y="1131"/>
                                </a:lnTo>
                                <a:lnTo>
                                  <a:pt x="5018" y="1142"/>
                                </a:lnTo>
                                <a:lnTo>
                                  <a:pt x="5103" y="1151"/>
                                </a:lnTo>
                                <a:lnTo>
                                  <a:pt x="5191" y="1159"/>
                                </a:lnTo>
                                <a:lnTo>
                                  <a:pt x="5280" y="1165"/>
                                </a:lnTo>
                                <a:lnTo>
                                  <a:pt x="5371" y="1170"/>
                                </a:lnTo>
                                <a:lnTo>
                                  <a:pt x="5463" y="1174"/>
                                </a:lnTo>
                                <a:lnTo>
                                  <a:pt x="5556" y="1177"/>
                                </a:lnTo>
                                <a:lnTo>
                                  <a:pt x="5556" y="0"/>
                                </a:lnTo>
                                <a:lnTo>
                                  <a:pt x="5815" y="0"/>
                                </a:lnTo>
                                <a:lnTo>
                                  <a:pt x="5815" y="1177"/>
                                </a:lnTo>
                                <a:lnTo>
                                  <a:pt x="5908" y="1174"/>
                                </a:lnTo>
                                <a:lnTo>
                                  <a:pt x="6001" y="1170"/>
                                </a:lnTo>
                                <a:lnTo>
                                  <a:pt x="6092" y="1165"/>
                                </a:lnTo>
                                <a:lnTo>
                                  <a:pt x="6181" y="1159"/>
                                </a:lnTo>
                                <a:lnTo>
                                  <a:pt x="6268" y="1151"/>
                                </a:lnTo>
                                <a:lnTo>
                                  <a:pt x="6354" y="1142"/>
                                </a:lnTo>
                                <a:lnTo>
                                  <a:pt x="6437" y="1131"/>
                                </a:lnTo>
                                <a:lnTo>
                                  <a:pt x="6519" y="1120"/>
                                </a:lnTo>
                                <a:lnTo>
                                  <a:pt x="6599" y="1108"/>
                                </a:lnTo>
                                <a:lnTo>
                                  <a:pt x="6676" y="1094"/>
                                </a:lnTo>
                                <a:lnTo>
                                  <a:pt x="6752" y="1080"/>
                                </a:lnTo>
                                <a:lnTo>
                                  <a:pt x="6825" y="1065"/>
                                </a:lnTo>
                                <a:lnTo>
                                  <a:pt x="6895" y="1047"/>
                                </a:lnTo>
                                <a:lnTo>
                                  <a:pt x="6962" y="1030"/>
                                </a:lnTo>
                                <a:lnTo>
                                  <a:pt x="7028" y="1012"/>
                                </a:lnTo>
                                <a:lnTo>
                                  <a:pt x="7090" y="993"/>
                                </a:lnTo>
                                <a:lnTo>
                                  <a:pt x="7160" y="969"/>
                                </a:lnTo>
                                <a:lnTo>
                                  <a:pt x="7224" y="946"/>
                                </a:lnTo>
                                <a:lnTo>
                                  <a:pt x="7280" y="922"/>
                                </a:lnTo>
                                <a:lnTo>
                                  <a:pt x="7333" y="899"/>
                                </a:lnTo>
                                <a:lnTo>
                                  <a:pt x="7380" y="874"/>
                                </a:lnTo>
                                <a:lnTo>
                                  <a:pt x="7421" y="851"/>
                                </a:lnTo>
                                <a:lnTo>
                                  <a:pt x="7458" y="828"/>
                                </a:lnTo>
                                <a:lnTo>
                                  <a:pt x="7489" y="805"/>
                                </a:lnTo>
                                <a:lnTo>
                                  <a:pt x="7503" y="794"/>
                                </a:lnTo>
                                <a:lnTo>
                                  <a:pt x="7516" y="783"/>
                                </a:lnTo>
                                <a:lnTo>
                                  <a:pt x="7528" y="772"/>
                                </a:lnTo>
                                <a:lnTo>
                                  <a:pt x="7540" y="762"/>
                                </a:lnTo>
                                <a:lnTo>
                                  <a:pt x="7550" y="752"/>
                                </a:lnTo>
                                <a:lnTo>
                                  <a:pt x="7559" y="742"/>
                                </a:lnTo>
                                <a:lnTo>
                                  <a:pt x="7566" y="731"/>
                                </a:lnTo>
                                <a:lnTo>
                                  <a:pt x="7573" y="721"/>
                                </a:lnTo>
                                <a:lnTo>
                                  <a:pt x="7579" y="712"/>
                                </a:lnTo>
                                <a:lnTo>
                                  <a:pt x="7584" y="703"/>
                                </a:lnTo>
                                <a:lnTo>
                                  <a:pt x="7589" y="694"/>
                                </a:lnTo>
                                <a:lnTo>
                                  <a:pt x="7592" y="685"/>
                                </a:lnTo>
                                <a:lnTo>
                                  <a:pt x="7595" y="677"/>
                                </a:lnTo>
                                <a:lnTo>
                                  <a:pt x="7597" y="669"/>
                                </a:lnTo>
                                <a:lnTo>
                                  <a:pt x="7598" y="662"/>
                                </a:lnTo>
                                <a:lnTo>
                                  <a:pt x="7598" y="65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6" name=""/>
                          <p:cNvSpPr/>
                          <p:nvPr/>
                        </p:nvSpPr>
                        <p:spPr>
                          <a:xfrm>
                            <a:off x="3345840" y="4846680"/>
                            <a:ext cx="66240" cy="98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05" h="11370">
                                <a:moveTo>
                                  <a:pt x="3154" y="259"/>
                                </a:moveTo>
                                <a:lnTo>
                                  <a:pt x="3010" y="266"/>
                                </a:lnTo>
                                <a:lnTo>
                                  <a:pt x="2867" y="286"/>
                                </a:lnTo>
                                <a:lnTo>
                                  <a:pt x="2726" y="320"/>
                                </a:lnTo>
                                <a:lnTo>
                                  <a:pt x="2588" y="366"/>
                                </a:lnTo>
                                <a:lnTo>
                                  <a:pt x="2450" y="425"/>
                                </a:lnTo>
                                <a:lnTo>
                                  <a:pt x="2315" y="497"/>
                                </a:lnTo>
                                <a:lnTo>
                                  <a:pt x="2183" y="580"/>
                                </a:lnTo>
                                <a:lnTo>
                                  <a:pt x="2052" y="675"/>
                                </a:lnTo>
                                <a:lnTo>
                                  <a:pt x="1925" y="781"/>
                                </a:lnTo>
                                <a:lnTo>
                                  <a:pt x="1800" y="898"/>
                                </a:lnTo>
                                <a:lnTo>
                                  <a:pt x="1679" y="1026"/>
                                </a:lnTo>
                                <a:lnTo>
                                  <a:pt x="1561" y="1165"/>
                                </a:lnTo>
                                <a:lnTo>
                                  <a:pt x="1448" y="1314"/>
                                </a:lnTo>
                                <a:lnTo>
                                  <a:pt x="1337" y="1473"/>
                                </a:lnTo>
                                <a:lnTo>
                                  <a:pt x="1231" y="1641"/>
                                </a:lnTo>
                                <a:lnTo>
                                  <a:pt x="1130" y="1819"/>
                                </a:lnTo>
                                <a:lnTo>
                                  <a:pt x="1031" y="2006"/>
                                </a:lnTo>
                                <a:lnTo>
                                  <a:pt x="939" y="2201"/>
                                </a:lnTo>
                                <a:lnTo>
                                  <a:pt x="851" y="2405"/>
                                </a:lnTo>
                                <a:lnTo>
                                  <a:pt x="769" y="2617"/>
                                </a:lnTo>
                                <a:lnTo>
                                  <a:pt x="691" y="2837"/>
                                </a:lnTo>
                                <a:lnTo>
                                  <a:pt x="620" y="3064"/>
                                </a:lnTo>
                                <a:lnTo>
                                  <a:pt x="555" y="3299"/>
                                </a:lnTo>
                                <a:lnTo>
                                  <a:pt x="495" y="3540"/>
                                </a:lnTo>
                                <a:lnTo>
                                  <a:pt x="441" y="3788"/>
                                </a:lnTo>
                                <a:lnTo>
                                  <a:pt x="394" y="4043"/>
                                </a:lnTo>
                                <a:lnTo>
                                  <a:pt x="353" y="4303"/>
                                </a:lnTo>
                                <a:lnTo>
                                  <a:pt x="320" y="4569"/>
                                </a:lnTo>
                                <a:lnTo>
                                  <a:pt x="293" y="4841"/>
                                </a:lnTo>
                                <a:lnTo>
                                  <a:pt x="274" y="5117"/>
                                </a:lnTo>
                                <a:lnTo>
                                  <a:pt x="263" y="5398"/>
                                </a:lnTo>
                                <a:lnTo>
                                  <a:pt x="259" y="5685"/>
                                </a:lnTo>
                                <a:lnTo>
                                  <a:pt x="263" y="5972"/>
                                </a:lnTo>
                                <a:lnTo>
                                  <a:pt x="274" y="6253"/>
                                </a:lnTo>
                                <a:lnTo>
                                  <a:pt x="293" y="6529"/>
                                </a:lnTo>
                                <a:lnTo>
                                  <a:pt x="320" y="6801"/>
                                </a:lnTo>
                                <a:lnTo>
                                  <a:pt x="353" y="7067"/>
                                </a:lnTo>
                                <a:lnTo>
                                  <a:pt x="394" y="7328"/>
                                </a:lnTo>
                                <a:lnTo>
                                  <a:pt x="441" y="7582"/>
                                </a:lnTo>
                                <a:lnTo>
                                  <a:pt x="495" y="7830"/>
                                </a:lnTo>
                                <a:lnTo>
                                  <a:pt x="554" y="8071"/>
                                </a:lnTo>
                                <a:lnTo>
                                  <a:pt x="619" y="8306"/>
                                </a:lnTo>
                                <a:lnTo>
                                  <a:pt x="691" y="8533"/>
                                </a:lnTo>
                                <a:lnTo>
                                  <a:pt x="768" y="8754"/>
                                </a:lnTo>
                                <a:lnTo>
                                  <a:pt x="851" y="8966"/>
                                </a:lnTo>
                                <a:lnTo>
                                  <a:pt x="938" y="9169"/>
                                </a:lnTo>
                                <a:lnTo>
                                  <a:pt x="1031" y="9364"/>
                                </a:lnTo>
                                <a:lnTo>
                                  <a:pt x="1129" y="9551"/>
                                </a:lnTo>
                                <a:lnTo>
                                  <a:pt x="1230" y="9729"/>
                                </a:lnTo>
                                <a:lnTo>
                                  <a:pt x="1336" y="9897"/>
                                </a:lnTo>
                                <a:lnTo>
                                  <a:pt x="1447" y="10056"/>
                                </a:lnTo>
                                <a:lnTo>
                                  <a:pt x="1560" y="10205"/>
                                </a:lnTo>
                                <a:lnTo>
                                  <a:pt x="1677" y="10344"/>
                                </a:lnTo>
                                <a:lnTo>
                                  <a:pt x="1799" y="10472"/>
                                </a:lnTo>
                                <a:lnTo>
                                  <a:pt x="1923" y="10590"/>
                                </a:lnTo>
                                <a:lnTo>
                                  <a:pt x="2051" y="10696"/>
                                </a:lnTo>
                                <a:lnTo>
                                  <a:pt x="2181" y="10790"/>
                                </a:lnTo>
                                <a:lnTo>
                                  <a:pt x="2313" y="10873"/>
                                </a:lnTo>
                                <a:lnTo>
                                  <a:pt x="2448" y="10945"/>
                                </a:lnTo>
                                <a:lnTo>
                                  <a:pt x="2586" y="11004"/>
                                </a:lnTo>
                                <a:lnTo>
                                  <a:pt x="2724" y="11050"/>
                                </a:lnTo>
                                <a:lnTo>
                                  <a:pt x="2866" y="11084"/>
                                </a:lnTo>
                                <a:lnTo>
                                  <a:pt x="3008" y="11104"/>
                                </a:lnTo>
                                <a:lnTo>
                                  <a:pt x="3152" y="11111"/>
                                </a:lnTo>
                                <a:lnTo>
                                  <a:pt x="3295" y="11104"/>
                                </a:lnTo>
                                <a:lnTo>
                                  <a:pt x="3438" y="11084"/>
                                </a:lnTo>
                                <a:lnTo>
                                  <a:pt x="3579" y="11050"/>
                                </a:lnTo>
                                <a:lnTo>
                                  <a:pt x="3718" y="11004"/>
                                </a:lnTo>
                                <a:lnTo>
                                  <a:pt x="3855" y="10945"/>
                                </a:lnTo>
                                <a:lnTo>
                                  <a:pt x="3990" y="10873"/>
                                </a:lnTo>
                                <a:lnTo>
                                  <a:pt x="4123" y="10790"/>
                                </a:lnTo>
                                <a:lnTo>
                                  <a:pt x="4253" y="10696"/>
                                </a:lnTo>
                                <a:lnTo>
                                  <a:pt x="4380" y="10590"/>
                                </a:lnTo>
                                <a:lnTo>
                                  <a:pt x="4504" y="10472"/>
                                </a:lnTo>
                                <a:lnTo>
                                  <a:pt x="4626" y="10344"/>
                                </a:lnTo>
                                <a:lnTo>
                                  <a:pt x="4743" y="10205"/>
                                </a:lnTo>
                                <a:lnTo>
                                  <a:pt x="4857" y="10056"/>
                                </a:lnTo>
                                <a:lnTo>
                                  <a:pt x="4967" y="9897"/>
                                </a:lnTo>
                                <a:lnTo>
                                  <a:pt x="5073" y="9729"/>
                                </a:lnTo>
                                <a:lnTo>
                                  <a:pt x="5176" y="9551"/>
                                </a:lnTo>
                                <a:lnTo>
                                  <a:pt x="5273" y="9364"/>
                                </a:lnTo>
                                <a:lnTo>
                                  <a:pt x="5365" y="9169"/>
                                </a:lnTo>
                                <a:lnTo>
                                  <a:pt x="5452" y="8966"/>
                                </a:lnTo>
                                <a:lnTo>
                                  <a:pt x="5535" y="8754"/>
                                </a:lnTo>
                                <a:lnTo>
                                  <a:pt x="5612" y="8533"/>
                                </a:lnTo>
                                <a:lnTo>
                                  <a:pt x="5684" y="8306"/>
                                </a:lnTo>
                                <a:lnTo>
                                  <a:pt x="5750" y="8071"/>
                                </a:lnTo>
                                <a:lnTo>
                                  <a:pt x="5809" y="7830"/>
                                </a:lnTo>
                                <a:lnTo>
                                  <a:pt x="5862" y="7582"/>
                                </a:lnTo>
                                <a:lnTo>
                                  <a:pt x="5910" y="7328"/>
                                </a:lnTo>
                                <a:lnTo>
                                  <a:pt x="5950" y="7067"/>
                                </a:lnTo>
                                <a:lnTo>
                                  <a:pt x="5984" y="6801"/>
                                </a:lnTo>
                                <a:lnTo>
                                  <a:pt x="6010" y="6529"/>
                                </a:lnTo>
                                <a:lnTo>
                                  <a:pt x="6029" y="6253"/>
                                </a:lnTo>
                                <a:lnTo>
                                  <a:pt x="6040" y="5972"/>
                                </a:lnTo>
                                <a:lnTo>
                                  <a:pt x="6044" y="5685"/>
                                </a:lnTo>
                                <a:lnTo>
                                  <a:pt x="6040" y="5398"/>
                                </a:lnTo>
                                <a:lnTo>
                                  <a:pt x="6029" y="5117"/>
                                </a:lnTo>
                                <a:lnTo>
                                  <a:pt x="6010" y="4841"/>
                                </a:lnTo>
                                <a:lnTo>
                                  <a:pt x="5984" y="4569"/>
                                </a:lnTo>
                                <a:lnTo>
                                  <a:pt x="5950" y="4303"/>
                                </a:lnTo>
                                <a:lnTo>
                                  <a:pt x="5910" y="4043"/>
                                </a:lnTo>
                                <a:lnTo>
                                  <a:pt x="5862" y="3788"/>
                                </a:lnTo>
                                <a:lnTo>
                                  <a:pt x="5809" y="3540"/>
                                </a:lnTo>
                                <a:lnTo>
                                  <a:pt x="5750" y="3299"/>
                                </a:lnTo>
                                <a:lnTo>
                                  <a:pt x="5684" y="3064"/>
                                </a:lnTo>
                                <a:lnTo>
                                  <a:pt x="5612" y="2837"/>
                                </a:lnTo>
                                <a:lnTo>
                                  <a:pt x="5535" y="2617"/>
                                </a:lnTo>
                                <a:lnTo>
                                  <a:pt x="5452" y="2405"/>
                                </a:lnTo>
                                <a:lnTo>
                                  <a:pt x="5365" y="2201"/>
                                </a:lnTo>
                                <a:lnTo>
                                  <a:pt x="5273" y="2006"/>
                                </a:lnTo>
                                <a:lnTo>
                                  <a:pt x="5176" y="1819"/>
                                </a:lnTo>
                                <a:lnTo>
                                  <a:pt x="5073" y="1641"/>
                                </a:lnTo>
                                <a:lnTo>
                                  <a:pt x="4967" y="1473"/>
                                </a:lnTo>
                                <a:lnTo>
                                  <a:pt x="4857" y="1314"/>
                                </a:lnTo>
                                <a:lnTo>
                                  <a:pt x="4743" y="1165"/>
                                </a:lnTo>
                                <a:lnTo>
                                  <a:pt x="4626" y="1026"/>
                                </a:lnTo>
                                <a:lnTo>
                                  <a:pt x="4504" y="898"/>
                                </a:lnTo>
                                <a:lnTo>
                                  <a:pt x="4380" y="781"/>
                                </a:lnTo>
                                <a:lnTo>
                                  <a:pt x="4253" y="675"/>
                                </a:lnTo>
                                <a:lnTo>
                                  <a:pt x="4123" y="580"/>
                                </a:lnTo>
                                <a:lnTo>
                                  <a:pt x="3990" y="497"/>
                                </a:lnTo>
                                <a:lnTo>
                                  <a:pt x="3855" y="425"/>
                                </a:lnTo>
                                <a:lnTo>
                                  <a:pt x="3718" y="366"/>
                                </a:lnTo>
                                <a:lnTo>
                                  <a:pt x="3579" y="320"/>
                                </a:lnTo>
                                <a:lnTo>
                                  <a:pt x="3438" y="286"/>
                                </a:lnTo>
                                <a:lnTo>
                                  <a:pt x="3295" y="266"/>
                                </a:lnTo>
                                <a:lnTo>
                                  <a:pt x="3152" y="259"/>
                                </a:lnTo>
                                <a:lnTo>
                                  <a:pt x="3154" y="1"/>
                                </a:lnTo>
                                <a:lnTo>
                                  <a:pt x="3322" y="8"/>
                                </a:lnTo>
                                <a:lnTo>
                                  <a:pt x="3486" y="30"/>
                                </a:lnTo>
                                <a:lnTo>
                                  <a:pt x="3648" y="68"/>
                                </a:lnTo>
                                <a:lnTo>
                                  <a:pt x="3807" y="119"/>
                                </a:lnTo>
                                <a:lnTo>
                                  <a:pt x="3962" y="184"/>
                                </a:lnTo>
                                <a:lnTo>
                                  <a:pt x="4114" y="263"/>
                                </a:lnTo>
                                <a:lnTo>
                                  <a:pt x="4261" y="354"/>
                                </a:lnTo>
                                <a:lnTo>
                                  <a:pt x="4406" y="458"/>
                                </a:lnTo>
                                <a:lnTo>
                                  <a:pt x="4546" y="575"/>
                                </a:lnTo>
                                <a:lnTo>
                                  <a:pt x="4683" y="702"/>
                                </a:lnTo>
                                <a:lnTo>
                                  <a:pt x="4814" y="842"/>
                                </a:lnTo>
                                <a:lnTo>
                                  <a:pt x="4942" y="992"/>
                                </a:lnTo>
                                <a:lnTo>
                                  <a:pt x="5065" y="1153"/>
                                </a:lnTo>
                                <a:lnTo>
                                  <a:pt x="5183" y="1324"/>
                                </a:lnTo>
                                <a:lnTo>
                                  <a:pt x="5296" y="1505"/>
                                </a:lnTo>
                                <a:lnTo>
                                  <a:pt x="5404" y="1695"/>
                                </a:lnTo>
                                <a:lnTo>
                                  <a:pt x="5507" y="1894"/>
                                </a:lnTo>
                                <a:lnTo>
                                  <a:pt x="5604" y="2102"/>
                                </a:lnTo>
                                <a:lnTo>
                                  <a:pt x="5696" y="2317"/>
                                </a:lnTo>
                                <a:lnTo>
                                  <a:pt x="5782" y="2541"/>
                                </a:lnTo>
                                <a:lnTo>
                                  <a:pt x="5862" y="2772"/>
                                </a:lnTo>
                                <a:lnTo>
                                  <a:pt x="5936" y="3010"/>
                                </a:lnTo>
                                <a:lnTo>
                                  <a:pt x="6004" y="3255"/>
                                </a:lnTo>
                                <a:lnTo>
                                  <a:pt x="6066" y="3506"/>
                                </a:lnTo>
                                <a:lnTo>
                                  <a:pt x="6120" y="3762"/>
                                </a:lnTo>
                                <a:lnTo>
                                  <a:pt x="6168" y="4023"/>
                                </a:lnTo>
                                <a:lnTo>
                                  <a:pt x="6208" y="4291"/>
                                </a:lnTo>
                                <a:lnTo>
                                  <a:pt x="6243" y="4562"/>
                                </a:lnTo>
                                <a:lnTo>
                                  <a:pt x="6269" y="4838"/>
                                </a:lnTo>
                                <a:lnTo>
                                  <a:pt x="6288" y="5117"/>
                                </a:lnTo>
                                <a:lnTo>
                                  <a:pt x="6301" y="5399"/>
                                </a:lnTo>
                                <a:lnTo>
                                  <a:pt x="6305" y="5685"/>
                                </a:lnTo>
                                <a:lnTo>
                                  <a:pt x="6301" y="5971"/>
                                </a:lnTo>
                                <a:lnTo>
                                  <a:pt x="6288" y="6253"/>
                                </a:lnTo>
                                <a:lnTo>
                                  <a:pt x="6269" y="6532"/>
                                </a:lnTo>
                                <a:lnTo>
                                  <a:pt x="6243" y="6808"/>
                                </a:lnTo>
                                <a:lnTo>
                                  <a:pt x="6208" y="7079"/>
                                </a:lnTo>
                                <a:lnTo>
                                  <a:pt x="6168" y="7347"/>
                                </a:lnTo>
                                <a:lnTo>
                                  <a:pt x="6119" y="7608"/>
                                </a:lnTo>
                                <a:lnTo>
                                  <a:pt x="6065" y="7865"/>
                                </a:lnTo>
                                <a:lnTo>
                                  <a:pt x="6004" y="8115"/>
                                </a:lnTo>
                                <a:lnTo>
                                  <a:pt x="5936" y="8360"/>
                                </a:lnTo>
                                <a:lnTo>
                                  <a:pt x="5861" y="8598"/>
                                </a:lnTo>
                                <a:lnTo>
                                  <a:pt x="5781" y="8829"/>
                                </a:lnTo>
                                <a:lnTo>
                                  <a:pt x="5695" y="9053"/>
                                </a:lnTo>
                                <a:lnTo>
                                  <a:pt x="5603" y="9268"/>
                                </a:lnTo>
                                <a:lnTo>
                                  <a:pt x="5506" y="9476"/>
                                </a:lnTo>
                                <a:lnTo>
                                  <a:pt x="5403" y="9675"/>
                                </a:lnTo>
                                <a:lnTo>
                                  <a:pt x="5295" y="9866"/>
                                </a:lnTo>
                                <a:lnTo>
                                  <a:pt x="5182" y="10046"/>
                                </a:lnTo>
                                <a:lnTo>
                                  <a:pt x="5063" y="10217"/>
                                </a:lnTo>
                                <a:lnTo>
                                  <a:pt x="4941" y="10378"/>
                                </a:lnTo>
                                <a:lnTo>
                                  <a:pt x="4812" y="10529"/>
                                </a:lnTo>
                                <a:lnTo>
                                  <a:pt x="4681" y="10668"/>
                                </a:lnTo>
                                <a:lnTo>
                                  <a:pt x="4544" y="10796"/>
                                </a:lnTo>
                                <a:lnTo>
                                  <a:pt x="4404" y="10913"/>
                                </a:lnTo>
                                <a:lnTo>
                                  <a:pt x="4259" y="11016"/>
                                </a:lnTo>
                                <a:lnTo>
                                  <a:pt x="4112" y="11108"/>
                                </a:lnTo>
                                <a:lnTo>
                                  <a:pt x="3960" y="11186"/>
                                </a:lnTo>
                                <a:lnTo>
                                  <a:pt x="3804" y="11252"/>
                                </a:lnTo>
                                <a:lnTo>
                                  <a:pt x="3646" y="11302"/>
                                </a:lnTo>
                                <a:lnTo>
                                  <a:pt x="3484" y="11340"/>
                                </a:lnTo>
                                <a:lnTo>
                                  <a:pt x="3319" y="11362"/>
                                </a:lnTo>
                                <a:lnTo>
                                  <a:pt x="3152" y="11370"/>
                                </a:lnTo>
                                <a:lnTo>
                                  <a:pt x="2985" y="11362"/>
                                </a:lnTo>
                                <a:lnTo>
                                  <a:pt x="2820" y="11340"/>
                                </a:lnTo>
                                <a:lnTo>
                                  <a:pt x="2658" y="11302"/>
                                </a:lnTo>
                                <a:lnTo>
                                  <a:pt x="2500" y="11252"/>
                                </a:lnTo>
                                <a:lnTo>
                                  <a:pt x="2344" y="11186"/>
                                </a:lnTo>
                                <a:lnTo>
                                  <a:pt x="2192" y="11108"/>
                                </a:lnTo>
                                <a:lnTo>
                                  <a:pt x="2044" y="11016"/>
                                </a:lnTo>
                                <a:lnTo>
                                  <a:pt x="1899" y="10913"/>
                                </a:lnTo>
                                <a:lnTo>
                                  <a:pt x="1759" y="10796"/>
                                </a:lnTo>
                                <a:lnTo>
                                  <a:pt x="1623" y="10668"/>
                                </a:lnTo>
                                <a:lnTo>
                                  <a:pt x="1491" y="10529"/>
                                </a:lnTo>
                                <a:lnTo>
                                  <a:pt x="1364" y="10378"/>
                                </a:lnTo>
                                <a:lnTo>
                                  <a:pt x="1240" y="10217"/>
                                </a:lnTo>
                                <a:lnTo>
                                  <a:pt x="1122" y="10046"/>
                                </a:lnTo>
                                <a:lnTo>
                                  <a:pt x="1008" y="9866"/>
                                </a:lnTo>
                                <a:lnTo>
                                  <a:pt x="901" y="9675"/>
                                </a:lnTo>
                                <a:lnTo>
                                  <a:pt x="798" y="9476"/>
                                </a:lnTo>
                                <a:lnTo>
                                  <a:pt x="700" y="9268"/>
                                </a:lnTo>
                                <a:lnTo>
                                  <a:pt x="608" y="9053"/>
                                </a:lnTo>
                                <a:lnTo>
                                  <a:pt x="522" y="8829"/>
                                </a:lnTo>
                                <a:lnTo>
                                  <a:pt x="442" y="8598"/>
                                </a:lnTo>
                                <a:lnTo>
                                  <a:pt x="368" y="8360"/>
                                </a:lnTo>
                                <a:lnTo>
                                  <a:pt x="300" y="8115"/>
                                </a:lnTo>
                                <a:lnTo>
                                  <a:pt x="239" y="7865"/>
                                </a:lnTo>
                                <a:lnTo>
                                  <a:pt x="184" y="7608"/>
                                </a:lnTo>
                                <a:lnTo>
                                  <a:pt x="135" y="7347"/>
                                </a:lnTo>
                                <a:lnTo>
                                  <a:pt x="95" y="7079"/>
                                </a:lnTo>
                                <a:lnTo>
                                  <a:pt x="60" y="6808"/>
                                </a:lnTo>
                                <a:lnTo>
                                  <a:pt x="34" y="6532"/>
                                </a:lnTo>
                                <a:lnTo>
                                  <a:pt x="15" y="6253"/>
                                </a:lnTo>
                                <a:lnTo>
                                  <a:pt x="3" y="5971"/>
                                </a:lnTo>
                                <a:lnTo>
                                  <a:pt x="0" y="5685"/>
                                </a:lnTo>
                                <a:lnTo>
                                  <a:pt x="3" y="5399"/>
                                </a:lnTo>
                                <a:lnTo>
                                  <a:pt x="15" y="5117"/>
                                </a:lnTo>
                                <a:lnTo>
                                  <a:pt x="34" y="4838"/>
                                </a:lnTo>
                                <a:lnTo>
                                  <a:pt x="60" y="4562"/>
                                </a:lnTo>
                                <a:lnTo>
                                  <a:pt x="95" y="4291"/>
                                </a:lnTo>
                                <a:lnTo>
                                  <a:pt x="135" y="4023"/>
                                </a:lnTo>
                                <a:lnTo>
                                  <a:pt x="184" y="3762"/>
                                </a:lnTo>
                                <a:lnTo>
                                  <a:pt x="239" y="3506"/>
                                </a:lnTo>
                                <a:lnTo>
                                  <a:pt x="300" y="3255"/>
                                </a:lnTo>
                                <a:lnTo>
                                  <a:pt x="368" y="3010"/>
                                </a:lnTo>
                                <a:lnTo>
                                  <a:pt x="442" y="2772"/>
                                </a:lnTo>
                                <a:lnTo>
                                  <a:pt x="522" y="2541"/>
                                </a:lnTo>
                                <a:lnTo>
                                  <a:pt x="608" y="2317"/>
                                </a:lnTo>
                                <a:lnTo>
                                  <a:pt x="700" y="2102"/>
                                </a:lnTo>
                                <a:lnTo>
                                  <a:pt x="798" y="1894"/>
                                </a:lnTo>
                                <a:lnTo>
                                  <a:pt x="901" y="1695"/>
                                </a:lnTo>
                                <a:lnTo>
                                  <a:pt x="1008" y="1504"/>
                                </a:lnTo>
                                <a:lnTo>
                                  <a:pt x="1122" y="1324"/>
                                </a:lnTo>
                                <a:lnTo>
                                  <a:pt x="1240" y="1153"/>
                                </a:lnTo>
                                <a:lnTo>
                                  <a:pt x="1364" y="992"/>
                                </a:lnTo>
                                <a:lnTo>
                                  <a:pt x="1491" y="841"/>
                                </a:lnTo>
                                <a:lnTo>
                                  <a:pt x="1623" y="702"/>
                                </a:lnTo>
                                <a:lnTo>
                                  <a:pt x="1759" y="574"/>
                                </a:lnTo>
                                <a:lnTo>
                                  <a:pt x="1899" y="457"/>
                                </a:lnTo>
                                <a:lnTo>
                                  <a:pt x="2044" y="354"/>
                                </a:lnTo>
                                <a:lnTo>
                                  <a:pt x="2192" y="262"/>
                                </a:lnTo>
                                <a:lnTo>
                                  <a:pt x="2344" y="184"/>
                                </a:lnTo>
                                <a:lnTo>
                                  <a:pt x="2500" y="119"/>
                                </a:lnTo>
                                <a:lnTo>
                                  <a:pt x="2658" y="68"/>
                                </a:lnTo>
                                <a:lnTo>
                                  <a:pt x="2820" y="30"/>
                                </a:lnTo>
                                <a:lnTo>
                                  <a:pt x="2985" y="8"/>
                                </a:lnTo>
                                <a:lnTo>
                                  <a:pt x="3152" y="0"/>
                                </a:lnTo>
                                <a:lnTo>
                                  <a:pt x="3154" y="25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7" name=""/>
                          <p:cNvSpPr/>
                          <p:nvPr/>
                        </p:nvSpPr>
                        <p:spPr>
                          <a:xfrm>
                            <a:off x="3392640" y="4861800"/>
                            <a:ext cx="32040" cy="12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10" h="1457">
                                <a:moveTo>
                                  <a:pt x="40" y="0"/>
                                </a:moveTo>
                                <a:lnTo>
                                  <a:pt x="3110" y="1369"/>
                                </a:lnTo>
                                <a:lnTo>
                                  <a:pt x="3070" y="1457"/>
                                </a:lnTo>
                                <a:lnTo>
                                  <a:pt x="0" y="88"/>
                                </a:lnTo>
                                <a:lnTo>
                                  <a:pt x="4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8" name=""/>
                          <p:cNvSpPr/>
                          <p:nvPr/>
                        </p:nvSpPr>
                        <p:spPr>
                          <a:xfrm>
                            <a:off x="3366000" y="4902120"/>
                            <a:ext cx="32400" cy="36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77" h="4235">
                                <a:moveTo>
                                  <a:pt x="79" y="0"/>
                                </a:moveTo>
                                <a:lnTo>
                                  <a:pt x="3077" y="4178"/>
                                </a:lnTo>
                                <a:lnTo>
                                  <a:pt x="2998" y="4235"/>
                                </a:lnTo>
                                <a:lnTo>
                                  <a:pt x="0" y="55"/>
                                </a:lnTo>
                                <a:lnTo>
                                  <a:pt x="7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9" name=""/>
                          <p:cNvSpPr/>
                          <p:nvPr/>
                        </p:nvSpPr>
                        <p:spPr>
                          <a:xfrm>
                            <a:off x="3398040" y="4914720"/>
                            <a:ext cx="15480" cy="24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78" h="2831">
                                <a:moveTo>
                                  <a:pt x="1478" y="43"/>
                                </a:moveTo>
                                <a:lnTo>
                                  <a:pt x="1463" y="73"/>
                                </a:lnTo>
                                <a:lnTo>
                                  <a:pt x="1421" y="160"/>
                                </a:lnTo>
                                <a:lnTo>
                                  <a:pt x="1355" y="295"/>
                                </a:lnTo>
                                <a:lnTo>
                                  <a:pt x="1270" y="469"/>
                                </a:lnTo>
                                <a:lnTo>
                                  <a:pt x="1167" y="675"/>
                                </a:lnTo>
                                <a:lnTo>
                                  <a:pt x="1054" y="907"/>
                                </a:lnTo>
                                <a:lnTo>
                                  <a:pt x="932" y="1154"/>
                                </a:lnTo>
                                <a:lnTo>
                                  <a:pt x="804" y="1411"/>
                                </a:lnTo>
                                <a:lnTo>
                                  <a:pt x="678" y="1663"/>
                                </a:lnTo>
                                <a:lnTo>
                                  <a:pt x="553" y="1910"/>
                                </a:lnTo>
                                <a:lnTo>
                                  <a:pt x="433" y="2146"/>
                                </a:lnTo>
                                <a:lnTo>
                                  <a:pt x="322" y="2360"/>
                                </a:lnTo>
                                <a:lnTo>
                                  <a:pt x="271" y="2456"/>
                                </a:lnTo>
                                <a:lnTo>
                                  <a:pt x="224" y="2545"/>
                                </a:lnTo>
                                <a:lnTo>
                                  <a:pt x="180" y="2623"/>
                                </a:lnTo>
                                <a:lnTo>
                                  <a:pt x="142" y="2690"/>
                                </a:lnTo>
                                <a:lnTo>
                                  <a:pt x="108" y="2746"/>
                                </a:lnTo>
                                <a:lnTo>
                                  <a:pt x="81" y="2789"/>
                                </a:lnTo>
                                <a:lnTo>
                                  <a:pt x="69" y="2806"/>
                                </a:lnTo>
                                <a:lnTo>
                                  <a:pt x="59" y="2818"/>
                                </a:lnTo>
                                <a:lnTo>
                                  <a:pt x="51" y="2827"/>
                                </a:lnTo>
                                <a:lnTo>
                                  <a:pt x="44" y="2831"/>
                                </a:lnTo>
                                <a:lnTo>
                                  <a:pt x="0" y="2745"/>
                                </a:lnTo>
                                <a:lnTo>
                                  <a:pt x="9" y="2735"/>
                                </a:lnTo>
                                <a:lnTo>
                                  <a:pt x="24" y="2713"/>
                                </a:lnTo>
                                <a:lnTo>
                                  <a:pt x="45" y="2677"/>
                                </a:lnTo>
                                <a:lnTo>
                                  <a:pt x="71" y="2631"/>
                                </a:lnTo>
                                <a:lnTo>
                                  <a:pt x="138" y="2507"/>
                                </a:lnTo>
                                <a:lnTo>
                                  <a:pt x="221" y="2346"/>
                                </a:lnTo>
                                <a:lnTo>
                                  <a:pt x="319" y="2157"/>
                                </a:lnTo>
                                <a:lnTo>
                                  <a:pt x="426" y="1944"/>
                                </a:lnTo>
                                <a:lnTo>
                                  <a:pt x="542" y="1714"/>
                                </a:lnTo>
                                <a:lnTo>
                                  <a:pt x="661" y="1475"/>
                                </a:lnTo>
                                <a:lnTo>
                                  <a:pt x="901" y="994"/>
                                </a:lnTo>
                                <a:lnTo>
                                  <a:pt x="1119" y="553"/>
                                </a:lnTo>
                                <a:lnTo>
                                  <a:pt x="1291" y="205"/>
                                </a:lnTo>
                                <a:lnTo>
                                  <a:pt x="1390" y="0"/>
                                </a:lnTo>
                                <a:lnTo>
                                  <a:pt x="1478" y="4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320" bIns="-22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0" name=""/>
                          <p:cNvSpPr/>
                          <p:nvPr/>
                        </p:nvSpPr>
                        <p:spPr>
                          <a:xfrm>
                            <a:off x="3413160" y="4914720"/>
                            <a:ext cx="5760" cy="5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80" h="695">
                                <a:moveTo>
                                  <a:pt x="76" y="0"/>
                                </a:moveTo>
                                <a:lnTo>
                                  <a:pt x="580" y="634"/>
                                </a:lnTo>
                                <a:lnTo>
                                  <a:pt x="505" y="695"/>
                                </a:lnTo>
                                <a:lnTo>
                                  <a:pt x="0" y="61"/>
                                </a:lnTo>
                                <a:lnTo>
                                  <a:pt x="7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1" name=""/>
                          <p:cNvSpPr/>
                          <p:nvPr/>
                        </p:nvSpPr>
                        <p:spPr>
                          <a:xfrm>
                            <a:off x="3413160" y="4892760"/>
                            <a:ext cx="19440" cy="22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23" h="2538">
                                <a:moveTo>
                                  <a:pt x="0" y="2479"/>
                                </a:moveTo>
                                <a:lnTo>
                                  <a:pt x="1845" y="0"/>
                                </a:lnTo>
                                <a:lnTo>
                                  <a:pt x="1923" y="59"/>
                                </a:lnTo>
                                <a:lnTo>
                                  <a:pt x="78" y="2538"/>
                                </a:lnTo>
                                <a:lnTo>
                                  <a:pt x="0" y="247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2" name=""/>
                          <p:cNvSpPr/>
                          <p:nvPr/>
                        </p:nvSpPr>
                        <p:spPr>
                          <a:xfrm>
                            <a:off x="3343680" y="4887720"/>
                            <a:ext cx="23400" cy="14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2" h="1721">
                                <a:moveTo>
                                  <a:pt x="2234" y="1721"/>
                                </a:moveTo>
                                <a:lnTo>
                                  <a:pt x="0" y="78"/>
                                </a:lnTo>
                                <a:lnTo>
                                  <a:pt x="58" y="0"/>
                                </a:lnTo>
                                <a:lnTo>
                                  <a:pt x="2292" y="1643"/>
                                </a:lnTo>
                                <a:lnTo>
                                  <a:pt x="2234" y="17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040" bIns="-32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3" name=""/>
                          <p:cNvSpPr/>
                          <p:nvPr/>
                        </p:nvSpPr>
                        <p:spPr>
                          <a:xfrm>
                            <a:off x="3338280" y="4902120"/>
                            <a:ext cx="2844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92" h="2734">
                                <a:moveTo>
                                  <a:pt x="0" y="2665"/>
                                </a:moveTo>
                                <a:lnTo>
                                  <a:pt x="2724" y="0"/>
                                </a:lnTo>
                                <a:lnTo>
                                  <a:pt x="2792" y="69"/>
                                </a:lnTo>
                                <a:lnTo>
                                  <a:pt x="68" y="2734"/>
                                </a:lnTo>
                                <a:lnTo>
                                  <a:pt x="0" y="266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4" name=""/>
                          <p:cNvSpPr/>
                          <p:nvPr/>
                        </p:nvSpPr>
                        <p:spPr>
                          <a:xfrm>
                            <a:off x="3337560" y="4888440"/>
                            <a:ext cx="6840" cy="37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86" h="4320">
                                <a:moveTo>
                                  <a:pt x="586" y="11"/>
                                </a:moveTo>
                                <a:lnTo>
                                  <a:pt x="96" y="4320"/>
                                </a:lnTo>
                                <a:lnTo>
                                  <a:pt x="0" y="4309"/>
                                </a:lnTo>
                                <a:lnTo>
                                  <a:pt x="490" y="0"/>
                                </a:lnTo>
                                <a:lnTo>
                                  <a:pt x="586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9360" bIns="-9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5" name=""/>
                          <p:cNvSpPr/>
                          <p:nvPr/>
                        </p:nvSpPr>
                        <p:spPr>
                          <a:xfrm>
                            <a:off x="3342960" y="4858200"/>
                            <a:ext cx="1116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89" h="3457">
                                <a:moveTo>
                                  <a:pt x="0" y="3430"/>
                                </a:moveTo>
                                <a:lnTo>
                                  <a:pt x="994" y="0"/>
                                </a:lnTo>
                                <a:lnTo>
                                  <a:pt x="1089" y="28"/>
                                </a:lnTo>
                                <a:lnTo>
                                  <a:pt x="93" y="3457"/>
                                </a:lnTo>
                                <a:lnTo>
                                  <a:pt x="0" y="343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6" name=""/>
                          <p:cNvSpPr/>
                          <p:nvPr/>
                        </p:nvSpPr>
                        <p:spPr>
                          <a:xfrm>
                            <a:off x="3345840" y="4855680"/>
                            <a:ext cx="8280" cy="2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78" h="323">
                                <a:moveTo>
                                  <a:pt x="28" y="0"/>
                                </a:moveTo>
                                <a:lnTo>
                                  <a:pt x="778" y="231"/>
                                </a:lnTo>
                                <a:lnTo>
                                  <a:pt x="749" y="323"/>
                                </a:lnTo>
                                <a:lnTo>
                                  <a:pt x="0" y="93"/>
                                </a:lnTo>
                                <a:lnTo>
                                  <a:pt x="2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7" name=""/>
                          <p:cNvSpPr/>
                          <p:nvPr/>
                        </p:nvSpPr>
                        <p:spPr>
                          <a:xfrm>
                            <a:off x="3338280" y="4914720"/>
                            <a:ext cx="74520" cy="11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50" h="1348">
                                <a:moveTo>
                                  <a:pt x="7150" y="96"/>
                                </a:moveTo>
                                <a:lnTo>
                                  <a:pt x="17" y="1348"/>
                                </a:lnTo>
                                <a:lnTo>
                                  <a:pt x="0" y="1253"/>
                                </a:lnTo>
                                <a:lnTo>
                                  <a:pt x="7133" y="0"/>
                                </a:lnTo>
                                <a:lnTo>
                                  <a:pt x="7150" y="9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8" name=""/>
                          <p:cNvSpPr/>
                          <p:nvPr/>
                        </p:nvSpPr>
                        <p:spPr>
                          <a:xfrm>
                            <a:off x="3353400" y="4851720"/>
                            <a:ext cx="3600" cy="6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9" h="757">
                                <a:moveTo>
                                  <a:pt x="0" y="721"/>
                                </a:moveTo>
                                <a:lnTo>
                                  <a:pt x="289" y="0"/>
                                </a:lnTo>
                                <a:lnTo>
                                  <a:pt x="379" y="37"/>
                                </a:lnTo>
                                <a:lnTo>
                                  <a:pt x="91" y="757"/>
                                </a:lnTo>
                                <a:lnTo>
                                  <a:pt x="0" y="7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9" name=""/>
                          <p:cNvSpPr/>
                          <p:nvPr/>
                        </p:nvSpPr>
                        <p:spPr>
                          <a:xfrm>
                            <a:off x="3353400" y="4858200"/>
                            <a:ext cx="79200" cy="56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532" h="6543">
                                <a:moveTo>
                                  <a:pt x="4290" y="3440"/>
                                </a:moveTo>
                                <a:lnTo>
                                  <a:pt x="7532" y="3995"/>
                                </a:lnTo>
                                <a:lnTo>
                                  <a:pt x="7515" y="4091"/>
                                </a:lnTo>
                                <a:lnTo>
                                  <a:pt x="4369" y="3553"/>
                                </a:lnTo>
                                <a:lnTo>
                                  <a:pt x="5735" y="4463"/>
                                </a:lnTo>
                                <a:lnTo>
                                  <a:pt x="5682" y="4544"/>
                                </a:lnTo>
                                <a:lnTo>
                                  <a:pt x="4276" y="3608"/>
                                </a:lnTo>
                                <a:lnTo>
                                  <a:pt x="5722" y="6500"/>
                                </a:lnTo>
                                <a:lnTo>
                                  <a:pt x="5636" y="6543"/>
                                </a:lnTo>
                                <a:lnTo>
                                  <a:pt x="4163" y="3598"/>
                                </a:lnTo>
                                <a:lnTo>
                                  <a:pt x="3565" y="5613"/>
                                </a:lnTo>
                                <a:lnTo>
                                  <a:pt x="3472" y="5585"/>
                                </a:lnTo>
                                <a:lnTo>
                                  <a:pt x="4071" y="3569"/>
                                </a:lnTo>
                                <a:lnTo>
                                  <a:pt x="1294" y="5151"/>
                                </a:lnTo>
                                <a:lnTo>
                                  <a:pt x="1246" y="5067"/>
                                </a:lnTo>
                                <a:lnTo>
                                  <a:pt x="4025" y="3483"/>
                                </a:lnTo>
                                <a:lnTo>
                                  <a:pt x="494" y="2518"/>
                                </a:lnTo>
                                <a:lnTo>
                                  <a:pt x="519" y="2425"/>
                                </a:lnTo>
                                <a:lnTo>
                                  <a:pt x="3949" y="3360"/>
                                </a:lnTo>
                                <a:lnTo>
                                  <a:pt x="0" y="74"/>
                                </a:lnTo>
                                <a:lnTo>
                                  <a:pt x="61" y="0"/>
                                </a:lnTo>
                                <a:lnTo>
                                  <a:pt x="4084" y="3347"/>
                                </a:lnTo>
                                <a:lnTo>
                                  <a:pt x="3657" y="534"/>
                                </a:lnTo>
                                <a:lnTo>
                                  <a:pt x="3753" y="519"/>
                                </a:lnTo>
                                <a:lnTo>
                                  <a:pt x="4177" y="3316"/>
                                </a:lnTo>
                                <a:lnTo>
                                  <a:pt x="5650" y="576"/>
                                </a:lnTo>
                                <a:lnTo>
                                  <a:pt x="5736" y="622"/>
                                </a:lnTo>
                                <a:lnTo>
                                  <a:pt x="4278" y="3334"/>
                                </a:lnTo>
                                <a:lnTo>
                                  <a:pt x="6749" y="1854"/>
                                </a:lnTo>
                                <a:lnTo>
                                  <a:pt x="6800" y="1938"/>
                                </a:lnTo>
                                <a:lnTo>
                                  <a:pt x="4290" y="344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9720" bIns="9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0" name=""/>
                          <p:cNvSpPr/>
                          <p:nvPr/>
                        </p:nvSpPr>
                        <p:spPr>
                          <a:xfrm>
                            <a:off x="3390480" y="4874400"/>
                            <a:ext cx="42120" cy="39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40" h="4645">
                                <a:moveTo>
                                  <a:pt x="2261" y="2665"/>
                                </a:moveTo>
                                <a:lnTo>
                                  <a:pt x="2231" y="4645"/>
                                </a:lnTo>
                                <a:lnTo>
                                  <a:pt x="2135" y="4643"/>
                                </a:lnTo>
                                <a:lnTo>
                                  <a:pt x="2163" y="2706"/>
                                </a:lnTo>
                                <a:lnTo>
                                  <a:pt x="43" y="3766"/>
                                </a:lnTo>
                                <a:lnTo>
                                  <a:pt x="0" y="3678"/>
                                </a:lnTo>
                                <a:lnTo>
                                  <a:pt x="2174" y="2592"/>
                                </a:lnTo>
                                <a:lnTo>
                                  <a:pt x="3234" y="0"/>
                                </a:lnTo>
                                <a:lnTo>
                                  <a:pt x="3324" y="38"/>
                                </a:lnTo>
                                <a:lnTo>
                                  <a:pt x="2293" y="2557"/>
                                </a:lnTo>
                                <a:lnTo>
                                  <a:pt x="4015" y="2119"/>
                                </a:lnTo>
                                <a:lnTo>
                                  <a:pt x="4040" y="2213"/>
                                </a:lnTo>
                                <a:lnTo>
                                  <a:pt x="2261" y="266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1" name=""/>
                          <p:cNvSpPr/>
                          <p:nvPr/>
                        </p:nvSpPr>
                        <p:spPr>
                          <a:xfrm>
                            <a:off x="3328560" y="4858200"/>
                            <a:ext cx="64080" cy="48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55" h="5605">
                                <a:moveTo>
                                  <a:pt x="2902" y="2522"/>
                                </a:moveTo>
                                <a:lnTo>
                                  <a:pt x="1487" y="3480"/>
                                </a:lnTo>
                                <a:lnTo>
                                  <a:pt x="1433" y="3399"/>
                                </a:lnTo>
                                <a:lnTo>
                                  <a:pt x="2745" y="2512"/>
                                </a:lnTo>
                                <a:lnTo>
                                  <a:pt x="2477" y="2539"/>
                                </a:lnTo>
                                <a:lnTo>
                                  <a:pt x="1472" y="2638"/>
                                </a:lnTo>
                                <a:lnTo>
                                  <a:pt x="10" y="2782"/>
                                </a:lnTo>
                                <a:lnTo>
                                  <a:pt x="0" y="2685"/>
                                </a:lnTo>
                                <a:lnTo>
                                  <a:pt x="1463" y="2541"/>
                                </a:lnTo>
                                <a:lnTo>
                                  <a:pt x="2468" y="2441"/>
                                </a:lnTo>
                                <a:lnTo>
                                  <a:pt x="2799" y="2409"/>
                                </a:lnTo>
                                <a:lnTo>
                                  <a:pt x="2804" y="2408"/>
                                </a:lnTo>
                                <a:lnTo>
                                  <a:pt x="2810" y="2407"/>
                                </a:lnTo>
                                <a:lnTo>
                                  <a:pt x="2819" y="2406"/>
                                </a:lnTo>
                                <a:lnTo>
                                  <a:pt x="2828" y="2404"/>
                                </a:lnTo>
                                <a:lnTo>
                                  <a:pt x="2838" y="2402"/>
                                </a:lnTo>
                                <a:lnTo>
                                  <a:pt x="2849" y="2400"/>
                                </a:lnTo>
                                <a:lnTo>
                                  <a:pt x="2860" y="2398"/>
                                </a:lnTo>
                                <a:lnTo>
                                  <a:pt x="2871" y="2397"/>
                                </a:lnTo>
                                <a:lnTo>
                                  <a:pt x="2406" y="19"/>
                                </a:lnTo>
                                <a:lnTo>
                                  <a:pt x="2503" y="0"/>
                                </a:lnTo>
                                <a:lnTo>
                                  <a:pt x="2964" y="2367"/>
                                </a:lnTo>
                                <a:lnTo>
                                  <a:pt x="3042" y="2320"/>
                                </a:lnTo>
                                <a:lnTo>
                                  <a:pt x="3405" y="2099"/>
                                </a:lnTo>
                                <a:lnTo>
                                  <a:pt x="4504" y="1431"/>
                                </a:lnTo>
                                <a:lnTo>
                                  <a:pt x="6104" y="458"/>
                                </a:lnTo>
                                <a:lnTo>
                                  <a:pt x="6155" y="541"/>
                                </a:lnTo>
                                <a:lnTo>
                                  <a:pt x="4555" y="1514"/>
                                </a:lnTo>
                                <a:lnTo>
                                  <a:pt x="3455" y="2182"/>
                                </a:lnTo>
                                <a:lnTo>
                                  <a:pt x="3093" y="2403"/>
                                </a:lnTo>
                                <a:lnTo>
                                  <a:pt x="3089" y="2406"/>
                                </a:lnTo>
                                <a:lnTo>
                                  <a:pt x="3083" y="2410"/>
                                </a:lnTo>
                                <a:lnTo>
                                  <a:pt x="3074" y="2417"/>
                                </a:lnTo>
                                <a:lnTo>
                                  <a:pt x="3064" y="2425"/>
                                </a:lnTo>
                                <a:lnTo>
                                  <a:pt x="3052" y="2433"/>
                                </a:lnTo>
                                <a:lnTo>
                                  <a:pt x="3039" y="2442"/>
                                </a:lnTo>
                                <a:lnTo>
                                  <a:pt x="3025" y="2451"/>
                                </a:lnTo>
                                <a:lnTo>
                                  <a:pt x="3012" y="2460"/>
                                </a:lnTo>
                                <a:lnTo>
                                  <a:pt x="5977" y="5539"/>
                                </a:lnTo>
                                <a:lnTo>
                                  <a:pt x="5907" y="5605"/>
                                </a:lnTo>
                                <a:lnTo>
                                  <a:pt x="3031" y="2621"/>
                                </a:lnTo>
                                <a:lnTo>
                                  <a:pt x="3741" y="5069"/>
                                </a:lnTo>
                                <a:lnTo>
                                  <a:pt x="3647" y="5096"/>
                                </a:lnTo>
                                <a:lnTo>
                                  <a:pt x="2902" y="252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60" bIns="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2" name=""/>
                          <p:cNvSpPr/>
                          <p:nvPr/>
                        </p:nvSpPr>
                        <p:spPr>
                          <a:xfrm>
                            <a:off x="3338280" y="4902120"/>
                            <a:ext cx="74520" cy="36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72" h="4237">
                                <a:moveTo>
                                  <a:pt x="7135" y="1505"/>
                                </a:moveTo>
                                <a:lnTo>
                                  <a:pt x="5058" y="619"/>
                                </a:lnTo>
                                <a:lnTo>
                                  <a:pt x="5789" y="4217"/>
                                </a:lnTo>
                                <a:lnTo>
                                  <a:pt x="5694" y="4237"/>
                                </a:lnTo>
                                <a:lnTo>
                                  <a:pt x="4956" y="607"/>
                                </a:lnTo>
                                <a:lnTo>
                                  <a:pt x="40" y="2758"/>
                                </a:lnTo>
                                <a:lnTo>
                                  <a:pt x="0" y="2669"/>
                                </a:lnTo>
                                <a:lnTo>
                                  <a:pt x="4836" y="553"/>
                                </a:lnTo>
                                <a:lnTo>
                                  <a:pt x="2733" y="95"/>
                                </a:lnTo>
                                <a:lnTo>
                                  <a:pt x="2753" y="0"/>
                                </a:lnTo>
                                <a:lnTo>
                                  <a:pt x="5001" y="490"/>
                                </a:lnTo>
                                <a:lnTo>
                                  <a:pt x="4992" y="538"/>
                                </a:lnTo>
                                <a:lnTo>
                                  <a:pt x="5010" y="493"/>
                                </a:lnTo>
                                <a:lnTo>
                                  <a:pt x="7172" y="1416"/>
                                </a:lnTo>
                                <a:lnTo>
                                  <a:pt x="7135" y="150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3" name=""/>
                          <p:cNvSpPr/>
                          <p:nvPr/>
                        </p:nvSpPr>
                        <p:spPr>
                          <a:xfrm>
                            <a:off x="3321720" y="4858200"/>
                            <a:ext cx="32400" cy="50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31" h="5798">
                                <a:moveTo>
                                  <a:pt x="2080" y="3506"/>
                                </a:moveTo>
                                <a:lnTo>
                                  <a:pt x="695" y="2834"/>
                                </a:lnTo>
                                <a:lnTo>
                                  <a:pt x="723" y="5797"/>
                                </a:lnTo>
                                <a:lnTo>
                                  <a:pt x="626" y="5798"/>
                                </a:lnTo>
                                <a:lnTo>
                                  <a:pt x="599" y="2918"/>
                                </a:lnTo>
                                <a:lnTo>
                                  <a:pt x="82" y="3720"/>
                                </a:lnTo>
                                <a:lnTo>
                                  <a:pt x="0" y="3666"/>
                                </a:lnTo>
                                <a:lnTo>
                                  <a:pt x="596" y="2744"/>
                                </a:lnTo>
                                <a:lnTo>
                                  <a:pt x="511" y="1912"/>
                                </a:lnTo>
                                <a:lnTo>
                                  <a:pt x="607" y="1901"/>
                                </a:lnTo>
                                <a:lnTo>
                                  <a:pt x="683" y="2643"/>
                                </a:lnTo>
                                <a:lnTo>
                                  <a:pt x="3060" y="0"/>
                                </a:lnTo>
                                <a:lnTo>
                                  <a:pt x="3131" y="66"/>
                                </a:lnTo>
                                <a:lnTo>
                                  <a:pt x="725" y="2741"/>
                                </a:lnTo>
                                <a:lnTo>
                                  <a:pt x="2122" y="3419"/>
                                </a:lnTo>
                                <a:lnTo>
                                  <a:pt x="2080" y="350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4" name=""/>
                          <p:cNvSpPr/>
                          <p:nvPr/>
                        </p:nvSpPr>
                        <p:spPr>
                          <a:xfrm>
                            <a:off x="3321720" y="4874400"/>
                            <a:ext cx="116280" cy="64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097" h="7462">
                                <a:moveTo>
                                  <a:pt x="10582" y="2093"/>
                                </a:moveTo>
                                <a:lnTo>
                                  <a:pt x="11050" y="1832"/>
                                </a:lnTo>
                                <a:lnTo>
                                  <a:pt x="11097" y="1917"/>
                                </a:lnTo>
                                <a:lnTo>
                                  <a:pt x="10623" y="2181"/>
                                </a:lnTo>
                                <a:lnTo>
                                  <a:pt x="11086" y="2915"/>
                                </a:lnTo>
                                <a:lnTo>
                                  <a:pt x="11004" y="2967"/>
                                </a:lnTo>
                                <a:lnTo>
                                  <a:pt x="10563" y="2267"/>
                                </a:lnTo>
                                <a:lnTo>
                                  <a:pt x="9257" y="5303"/>
                                </a:lnTo>
                                <a:lnTo>
                                  <a:pt x="7315" y="7462"/>
                                </a:lnTo>
                                <a:lnTo>
                                  <a:pt x="1543" y="5936"/>
                                </a:lnTo>
                                <a:lnTo>
                                  <a:pt x="645" y="4044"/>
                                </a:lnTo>
                                <a:lnTo>
                                  <a:pt x="398" y="4688"/>
                                </a:lnTo>
                                <a:lnTo>
                                  <a:pt x="307" y="4653"/>
                                </a:lnTo>
                                <a:lnTo>
                                  <a:pt x="566" y="3980"/>
                                </a:lnTo>
                                <a:lnTo>
                                  <a:pt x="13" y="4055"/>
                                </a:lnTo>
                                <a:lnTo>
                                  <a:pt x="0" y="3959"/>
                                </a:lnTo>
                                <a:lnTo>
                                  <a:pt x="611" y="3876"/>
                                </a:lnTo>
                                <a:lnTo>
                                  <a:pt x="2025" y="1561"/>
                                </a:lnTo>
                                <a:lnTo>
                                  <a:pt x="2108" y="1612"/>
                                </a:lnTo>
                                <a:lnTo>
                                  <a:pt x="739" y="3853"/>
                                </a:lnTo>
                                <a:lnTo>
                                  <a:pt x="4291" y="3180"/>
                                </a:lnTo>
                                <a:lnTo>
                                  <a:pt x="4309" y="3277"/>
                                </a:lnTo>
                                <a:lnTo>
                                  <a:pt x="711" y="3957"/>
                                </a:lnTo>
                                <a:lnTo>
                                  <a:pt x="1611" y="5853"/>
                                </a:lnTo>
                                <a:lnTo>
                                  <a:pt x="7282" y="7354"/>
                                </a:lnTo>
                                <a:lnTo>
                                  <a:pt x="9173" y="5249"/>
                                </a:lnTo>
                                <a:lnTo>
                                  <a:pt x="10503" y="2162"/>
                                </a:lnTo>
                                <a:lnTo>
                                  <a:pt x="9760" y="33"/>
                                </a:lnTo>
                                <a:lnTo>
                                  <a:pt x="9852" y="0"/>
                                </a:lnTo>
                                <a:lnTo>
                                  <a:pt x="10582" y="209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7640" bIns="17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5" name=""/>
                          <p:cNvSpPr/>
                          <p:nvPr/>
                        </p:nvSpPr>
                        <p:spPr>
                          <a:xfrm>
                            <a:off x="3354120" y="4847400"/>
                            <a:ext cx="78120" cy="55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533" h="6332">
                                <a:moveTo>
                                  <a:pt x="7467" y="5280"/>
                                </a:moveTo>
                                <a:lnTo>
                                  <a:pt x="3695" y="1806"/>
                                </a:lnTo>
                                <a:lnTo>
                                  <a:pt x="1288" y="6332"/>
                                </a:lnTo>
                                <a:lnTo>
                                  <a:pt x="1202" y="6287"/>
                                </a:lnTo>
                                <a:lnTo>
                                  <a:pt x="3605" y="1767"/>
                                </a:lnTo>
                                <a:lnTo>
                                  <a:pt x="0" y="1286"/>
                                </a:lnTo>
                                <a:lnTo>
                                  <a:pt x="13" y="1190"/>
                                </a:lnTo>
                                <a:lnTo>
                                  <a:pt x="3573" y="1665"/>
                                </a:lnTo>
                                <a:lnTo>
                                  <a:pt x="2368" y="58"/>
                                </a:lnTo>
                                <a:lnTo>
                                  <a:pt x="2445" y="0"/>
                                </a:lnTo>
                                <a:lnTo>
                                  <a:pt x="3689" y="1659"/>
                                </a:lnTo>
                                <a:lnTo>
                                  <a:pt x="4904" y="681"/>
                                </a:lnTo>
                                <a:lnTo>
                                  <a:pt x="4965" y="756"/>
                                </a:lnTo>
                                <a:lnTo>
                                  <a:pt x="3813" y="1684"/>
                                </a:lnTo>
                                <a:lnTo>
                                  <a:pt x="5646" y="1751"/>
                                </a:lnTo>
                                <a:lnTo>
                                  <a:pt x="5962" y="1310"/>
                                </a:lnTo>
                                <a:lnTo>
                                  <a:pt x="6041" y="1367"/>
                                </a:lnTo>
                                <a:lnTo>
                                  <a:pt x="5749" y="1774"/>
                                </a:lnTo>
                                <a:lnTo>
                                  <a:pt x="6794" y="2099"/>
                                </a:lnTo>
                                <a:lnTo>
                                  <a:pt x="6764" y="2192"/>
                                </a:lnTo>
                                <a:lnTo>
                                  <a:pt x="5813" y="1895"/>
                                </a:lnTo>
                                <a:lnTo>
                                  <a:pt x="6742" y="3011"/>
                                </a:lnTo>
                                <a:lnTo>
                                  <a:pt x="6939" y="2656"/>
                                </a:lnTo>
                                <a:lnTo>
                                  <a:pt x="7024" y="2702"/>
                                </a:lnTo>
                                <a:lnTo>
                                  <a:pt x="6821" y="3069"/>
                                </a:lnTo>
                                <a:lnTo>
                                  <a:pt x="7486" y="3296"/>
                                </a:lnTo>
                                <a:lnTo>
                                  <a:pt x="7455" y="3388"/>
                                </a:lnTo>
                                <a:lnTo>
                                  <a:pt x="6713" y="3128"/>
                                </a:lnTo>
                                <a:lnTo>
                                  <a:pt x="5647" y="1848"/>
                                </a:lnTo>
                                <a:lnTo>
                                  <a:pt x="3811" y="1781"/>
                                </a:lnTo>
                                <a:lnTo>
                                  <a:pt x="7533" y="5208"/>
                                </a:lnTo>
                                <a:lnTo>
                                  <a:pt x="7467" y="528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8280" bIns="8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6" name=""/>
                          <p:cNvSpPr/>
                          <p:nvPr/>
                        </p:nvSpPr>
                        <p:spPr>
                          <a:xfrm>
                            <a:off x="3319560" y="4846320"/>
                            <a:ext cx="119880" cy="99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434" h="11434">
                                <a:moveTo>
                                  <a:pt x="5719" y="323"/>
                                </a:moveTo>
                                <a:lnTo>
                                  <a:pt x="5441" y="331"/>
                                </a:lnTo>
                                <a:lnTo>
                                  <a:pt x="5167" y="352"/>
                                </a:lnTo>
                                <a:lnTo>
                                  <a:pt x="4897" y="386"/>
                                </a:lnTo>
                                <a:lnTo>
                                  <a:pt x="4631" y="433"/>
                                </a:lnTo>
                                <a:lnTo>
                                  <a:pt x="4370" y="494"/>
                                </a:lnTo>
                                <a:lnTo>
                                  <a:pt x="4115" y="566"/>
                                </a:lnTo>
                                <a:lnTo>
                                  <a:pt x="3864" y="650"/>
                                </a:lnTo>
                                <a:lnTo>
                                  <a:pt x="3619" y="748"/>
                                </a:lnTo>
                                <a:lnTo>
                                  <a:pt x="3380" y="855"/>
                                </a:lnTo>
                                <a:lnTo>
                                  <a:pt x="3147" y="974"/>
                                </a:lnTo>
                                <a:lnTo>
                                  <a:pt x="2921" y="1104"/>
                                </a:lnTo>
                                <a:lnTo>
                                  <a:pt x="2702" y="1245"/>
                                </a:lnTo>
                                <a:lnTo>
                                  <a:pt x="2491" y="1395"/>
                                </a:lnTo>
                                <a:lnTo>
                                  <a:pt x="2287" y="1556"/>
                                </a:lnTo>
                                <a:lnTo>
                                  <a:pt x="2091" y="1725"/>
                                </a:lnTo>
                                <a:lnTo>
                                  <a:pt x="1904" y="1903"/>
                                </a:lnTo>
                                <a:lnTo>
                                  <a:pt x="1725" y="2090"/>
                                </a:lnTo>
                                <a:lnTo>
                                  <a:pt x="1555" y="2287"/>
                                </a:lnTo>
                                <a:lnTo>
                                  <a:pt x="1395" y="2490"/>
                                </a:lnTo>
                                <a:lnTo>
                                  <a:pt x="1244" y="2702"/>
                                </a:lnTo>
                                <a:lnTo>
                                  <a:pt x="1105" y="2920"/>
                                </a:lnTo>
                                <a:lnTo>
                                  <a:pt x="974" y="3146"/>
                                </a:lnTo>
                                <a:lnTo>
                                  <a:pt x="856" y="3379"/>
                                </a:lnTo>
                                <a:lnTo>
                                  <a:pt x="747" y="3618"/>
                                </a:lnTo>
                                <a:lnTo>
                                  <a:pt x="651" y="3862"/>
                                </a:lnTo>
                                <a:lnTo>
                                  <a:pt x="566" y="4113"/>
                                </a:lnTo>
                                <a:lnTo>
                                  <a:pt x="493" y="4369"/>
                                </a:lnTo>
                                <a:lnTo>
                                  <a:pt x="432" y="4630"/>
                                </a:lnTo>
                                <a:lnTo>
                                  <a:pt x="386" y="4896"/>
                                </a:lnTo>
                                <a:lnTo>
                                  <a:pt x="351" y="5165"/>
                                </a:lnTo>
                                <a:lnTo>
                                  <a:pt x="330" y="5440"/>
                                </a:lnTo>
                                <a:lnTo>
                                  <a:pt x="323" y="5717"/>
                                </a:lnTo>
                                <a:lnTo>
                                  <a:pt x="330" y="5994"/>
                                </a:lnTo>
                                <a:lnTo>
                                  <a:pt x="351" y="6269"/>
                                </a:lnTo>
                                <a:lnTo>
                                  <a:pt x="385" y="6538"/>
                                </a:lnTo>
                                <a:lnTo>
                                  <a:pt x="432" y="6804"/>
                                </a:lnTo>
                                <a:lnTo>
                                  <a:pt x="493" y="7065"/>
                                </a:lnTo>
                                <a:lnTo>
                                  <a:pt x="566" y="7321"/>
                                </a:lnTo>
                                <a:lnTo>
                                  <a:pt x="650" y="7572"/>
                                </a:lnTo>
                                <a:lnTo>
                                  <a:pt x="747" y="7817"/>
                                </a:lnTo>
                                <a:lnTo>
                                  <a:pt x="855" y="8056"/>
                                </a:lnTo>
                                <a:lnTo>
                                  <a:pt x="974" y="8288"/>
                                </a:lnTo>
                                <a:lnTo>
                                  <a:pt x="1104" y="8514"/>
                                </a:lnTo>
                                <a:lnTo>
                                  <a:pt x="1244" y="8732"/>
                                </a:lnTo>
                                <a:lnTo>
                                  <a:pt x="1394" y="8944"/>
                                </a:lnTo>
                                <a:lnTo>
                                  <a:pt x="1554" y="9148"/>
                                </a:lnTo>
                                <a:lnTo>
                                  <a:pt x="1724" y="9344"/>
                                </a:lnTo>
                                <a:lnTo>
                                  <a:pt x="1903" y="9531"/>
                                </a:lnTo>
                                <a:lnTo>
                                  <a:pt x="2090" y="9709"/>
                                </a:lnTo>
                                <a:lnTo>
                                  <a:pt x="2286" y="9879"/>
                                </a:lnTo>
                                <a:lnTo>
                                  <a:pt x="2490" y="10039"/>
                                </a:lnTo>
                                <a:lnTo>
                                  <a:pt x="2701" y="10189"/>
                                </a:lnTo>
                                <a:lnTo>
                                  <a:pt x="2920" y="10330"/>
                                </a:lnTo>
                                <a:lnTo>
                                  <a:pt x="3146" y="10460"/>
                                </a:lnTo>
                                <a:lnTo>
                                  <a:pt x="3379" y="10579"/>
                                </a:lnTo>
                                <a:lnTo>
                                  <a:pt x="3618" y="10686"/>
                                </a:lnTo>
                                <a:lnTo>
                                  <a:pt x="3862" y="10784"/>
                                </a:lnTo>
                                <a:lnTo>
                                  <a:pt x="4113" y="10869"/>
                                </a:lnTo>
                                <a:lnTo>
                                  <a:pt x="4369" y="10940"/>
                                </a:lnTo>
                                <a:lnTo>
                                  <a:pt x="4629" y="11001"/>
                                </a:lnTo>
                                <a:lnTo>
                                  <a:pt x="4896" y="11049"/>
                                </a:lnTo>
                                <a:lnTo>
                                  <a:pt x="5165" y="11082"/>
                                </a:lnTo>
                                <a:lnTo>
                                  <a:pt x="5439" y="11104"/>
                                </a:lnTo>
                                <a:lnTo>
                                  <a:pt x="5717" y="11111"/>
                                </a:lnTo>
                                <a:lnTo>
                                  <a:pt x="5994" y="11104"/>
                                </a:lnTo>
                                <a:lnTo>
                                  <a:pt x="6268" y="11082"/>
                                </a:lnTo>
                                <a:lnTo>
                                  <a:pt x="6538" y="11049"/>
                                </a:lnTo>
                                <a:lnTo>
                                  <a:pt x="6804" y="11001"/>
                                </a:lnTo>
                                <a:lnTo>
                                  <a:pt x="7064" y="10940"/>
                                </a:lnTo>
                                <a:lnTo>
                                  <a:pt x="7320" y="10869"/>
                                </a:lnTo>
                                <a:lnTo>
                                  <a:pt x="7572" y="10784"/>
                                </a:lnTo>
                                <a:lnTo>
                                  <a:pt x="7817" y="10686"/>
                                </a:lnTo>
                                <a:lnTo>
                                  <a:pt x="8056" y="10579"/>
                                </a:lnTo>
                                <a:lnTo>
                                  <a:pt x="8287" y="10460"/>
                                </a:lnTo>
                                <a:lnTo>
                                  <a:pt x="8513" y="10330"/>
                                </a:lnTo>
                                <a:lnTo>
                                  <a:pt x="8732" y="10189"/>
                                </a:lnTo>
                                <a:lnTo>
                                  <a:pt x="8943" y="10039"/>
                                </a:lnTo>
                                <a:lnTo>
                                  <a:pt x="9148" y="9879"/>
                                </a:lnTo>
                                <a:lnTo>
                                  <a:pt x="9343" y="9709"/>
                                </a:lnTo>
                                <a:lnTo>
                                  <a:pt x="9531" y="9531"/>
                                </a:lnTo>
                                <a:lnTo>
                                  <a:pt x="9709" y="9344"/>
                                </a:lnTo>
                                <a:lnTo>
                                  <a:pt x="9879" y="9148"/>
                                </a:lnTo>
                                <a:lnTo>
                                  <a:pt x="10039" y="8944"/>
                                </a:lnTo>
                                <a:lnTo>
                                  <a:pt x="10189" y="8732"/>
                                </a:lnTo>
                                <a:lnTo>
                                  <a:pt x="10330" y="8514"/>
                                </a:lnTo>
                                <a:lnTo>
                                  <a:pt x="10459" y="8288"/>
                                </a:lnTo>
                                <a:lnTo>
                                  <a:pt x="10579" y="8056"/>
                                </a:lnTo>
                                <a:lnTo>
                                  <a:pt x="10686" y="7817"/>
                                </a:lnTo>
                                <a:lnTo>
                                  <a:pt x="10783" y="7572"/>
                                </a:lnTo>
                                <a:lnTo>
                                  <a:pt x="10868" y="7321"/>
                                </a:lnTo>
                                <a:lnTo>
                                  <a:pt x="10940" y="7065"/>
                                </a:lnTo>
                                <a:lnTo>
                                  <a:pt x="11001" y="6804"/>
                                </a:lnTo>
                                <a:lnTo>
                                  <a:pt x="11048" y="6538"/>
                                </a:lnTo>
                                <a:lnTo>
                                  <a:pt x="11082" y="6269"/>
                                </a:lnTo>
                                <a:lnTo>
                                  <a:pt x="11103" y="5994"/>
                                </a:lnTo>
                                <a:lnTo>
                                  <a:pt x="11110" y="5717"/>
                                </a:lnTo>
                                <a:lnTo>
                                  <a:pt x="11103" y="5440"/>
                                </a:lnTo>
                                <a:lnTo>
                                  <a:pt x="11082" y="5165"/>
                                </a:lnTo>
                                <a:lnTo>
                                  <a:pt x="11048" y="4896"/>
                                </a:lnTo>
                                <a:lnTo>
                                  <a:pt x="11001" y="4630"/>
                                </a:lnTo>
                                <a:lnTo>
                                  <a:pt x="10940" y="4369"/>
                                </a:lnTo>
                                <a:lnTo>
                                  <a:pt x="10868" y="4113"/>
                                </a:lnTo>
                                <a:lnTo>
                                  <a:pt x="10783" y="3862"/>
                                </a:lnTo>
                                <a:lnTo>
                                  <a:pt x="10686" y="3618"/>
                                </a:lnTo>
                                <a:lnTo>
                                  <a:pt x="10579" y="3379"/>
                                </a:lnTo>
                                <a:lnTo>
                                  <a:pt x="10459" y="3146"/>
                                </a:lnTo>
                                <a:lnTo>
                                  <a:pt x="10330" y="2920"/>
                                </a:lnTo>
                                <a:lnTo>
                                  <a:pt x="10189" y="2702"/>
                                </a:lnTo>
                                <a:lnTo>
                                  <a:pt x="10039" y="2490"/>
                                </a:lnTo>
                                <a:lnTo>
                                  <a:pt x="9879" y="2287"/>
                                </a:lnTo>
                                <a:lnTo>
                                  <a:pt x="9709" y="2090"/>
                                </a:lnTo>
                                <a:lnTo>
                                  <a:pt x="9531" y="1903"/>
                                </a:lnTo>
                                <a:lnTo>
                                  <a:pt x="9343" y="1725"/>
                                </a:lnTo>
                                <a:lnTo>
                                  <a:pt x="9148" y="1556"/>
                                </a:lnTo>
                                <a:lnTo>
                                  <a:pt x="8943" y="1395"/>
                                </a:lnTo>
                                <a:lnTo>
                                  <a:pt x="8732" y="1245"/>
                                </a:lnTo>
                                <a:lnTo>
                                  <a:pt x="8513" y="1104"/>
                                </a:lnTo>
                                <a:lnTo>
                                  <a:pt x="8287" y="974"/>
                                </a:lnTo>
                                <a:lnTo>
                                  <a:pt x="8056" y="855"/>
                                </a:lnTo>
                                <a:lnTo>
                                  <a:pt x="7817" y="748"/>
                                </a:lnTo>
                                <a:lnTo>
                                  <a:pt x="7572" y="650"/>
                                </a:lnTo>
                                <a:lnTo>
                                  <a:pt x="7320" y="566"/>
                                </a:lnTo>
                                <a:lnTo>
                                  <a:pt x="7064" y="494"/>
                                </a:lnTo>
                                <a:lnTo>
                                  <a:pt x="6804" y="433"/>
                                </a:lnTo>
                                <a:lnTo>
                                  <a:pt x="6538" y="386"/>
                                </a:lnTo>
                                <a:lnTo>
                                  <a:pt x="6268" y="352"/>
                                </a:lnTo>
                                <a:lnTo>
                                  <a:pt x="5994" y="331"/>
                                </a:lnTo>
                                <a:lnTo>
                                  <a:pt x="5717" y="323"/>
                                </a:lnTo>
                                <a:lnTo>
                                  <a:pt x="5719" y="0"/>
                                </a:lnTo>
                                <a:lnTo>
                                  <a:pt x="6012" y="8"/>
                                </a:lnTo>
                                <a:lnTo>
                                  <a:pt x="6303" y="30"/>
                                </a:lnTo>
                                <a:lnTo>
                                  <a:pt x="6589" y="66"/>
                                </a:lnTo>
                                <a:lnTo>
                                  <a:pt x="6871" y="116"/>
                                </a:lnTo>
                                <a:lnTo>
                                  <a:pt x="7147" y="180"/>
                                </a:lnTo>
                                <a:lnTo>
                                  <a:pt x="7419" y="257"/>
                                </a:lnTo>
                                <a:lnTo>
                                  <a:pt x="7684" y="347"/>
                                </a:lnTo>
                                <a:lnTo>
                                  <a:pt x="7943" y="449"/>
                                </a:lnTo>
                                <a:lnTo>
                                  <a:pt x="8196" y="563"/>
                                </a:lnTo>
                                <a:lnTo>
                                  <a:pt x="8443" y="690"/>
                                </a:lnTo>
                                <a:lnTo>
                                  <a:pt x="8682" y="828"/>
                                </a:lnTo>
                                <a:lnTo>
                                  <a:pt x="8914" y="976"/>
                                </a:lnTo>
                                <a:lnTo>
                                  <a:pt x="9138" y="1135"/>
                                </a:lnTo>
                                <a:lnTo>
                                  <a:pt x="9355" y="1306"/>
                                </a:lnTo>
                                <a:lnTo>
                                  <a:pt x="9562" y="1485"/>
                                </a:lnTo>
                                <a:lnTo>
                                  <a:pt x="9761" y="1674"/>
                                </a:lnTo>
                                <a:lnTo>
                                  <a:pt x="9949" y="1874"/>
                                </a:lnTo>
                                <a:lnTo>
                                  <a:pt x="10129" y="2080"/>
                                </a:lnTo>
                                <a:lnTo>
                                  <a:pt x="10298" y="2297"/>
                                </a:lnTo>
                                <a:lnTo>
                                  <a:pt x="10458" y="2521"/>
                                </a:lnTo>
                                <a:lnTo>
                                  <a:pt x="10606" y="2752"/>
                                </a:lnTo>
                                <a:lnTo>
                                  <a:pt x="10744" y="2992"/>
                                </a:lnTo>
                                <a:lnTo>
                                  <a:pt x="10870" y="3238"/>
                                </a:lnTo>
                                <a:lnTo>
                                  <a:pt x="10985" y="3492"/>
                                </a:lnTo>
                                <a:lnTo>
                                  <a:pt x="11087" y="3752"/>
                                </a:lnTo>
                                <a:lnTo>
                                  <a:pt x="11177" y="4017"/>
                                </a:lnTo>
                                <a:lnTo>
                                  <a:pt x="11254" y="4288"/>
                                </a:lnTo>
                                <a:lnTo>
                                  <a:pt x="11318" y="4565"/>
                                </a:lnTo>
                                <a:lnTo>
                                  <a:pt x="11367" y="4846"/>
                                </a:lnTo>
                                <a:lnTo>
                                  <a:pt x="11404" y="5133"/>
                                </a:lnTo>
                                <a:lnTo>
                                  <a:pt x="11426" y="5422"/>
                                </a:lnTo>
                                <a:lnTo>
                                  <a:pt x="11434" y="5717"/>
                                </a:lnTo>
                                <a:lnTo>
                                  <a:pt x="11426" y="6012"/>
                                </a:lnTo>
                                <a:lnTo>
                                  <a:pt x="11404" y="6301"/>
                                </a:lnTo>
                                <a:lnTo>
                                  <a:pt x="11367" y="6588"/>
                                </a:lnTo>
                                <a:lnTo>
                                  <a:pt x="11318" y="6869"/>
                                </a:lnTo>
                                <a:lnTo>
                                  <a:pt x="11254" y="7146"/>
                                </a:lnTo>
                                <a:lnTo>
                                  <a:pt x="11177" y="7417"/>
                                </a:lnTo>
                                <a:lnTo>
                                  <a:pt x="11087" y="7683"/>
                                </a:lnTo>
                                <a:lnTo>
                                  <a:pt x="10985" y="7942"/>
                                </a:lnTo>
                                <a:lnTo>
                                  <a:pt x="10870" y="8196"/>
                                </a:lnTo>
                                <a:lnTo>
                                  <a:pt x="10744" y="8443"/>
                                </a:lnTo>
                                <a:lnTo>
                                  <a:pt x="10606" y="8682"/>
                                </a:lnTo>
                                <a:lnTo>
                                  <a:pt x="10457" y="8913"/>
                                </a:lnTo>
                                <a:lnTo>
                                  <a:pt x="10298" y="9137"/>
                                </a:lnTo>
                                <a:lnTo>
                                  <a:pt x="10128" y="9354"/>
                                </a:lnTo>
                                <a:lnTo>
                                  <a:pt x="9949" y="9561"/>
                                </a:lnTo>
                                <a:lnTo>
                                  <a:pt x="9760" y="9760"/>
                                </a:lnTo>
                                <a:lnTo>
                                  <a:pt x="9561" y="9949"/>
                                </a:lnTo>
                                <a:lnTo>
                                  <a:pt x="9354" y="10128"/>
                                </a:lnTo>
                                <a:lnTo>
                                  <a:pt x="9137" y="10299"/>
                                </a:lnTo>
                                <a:lnTo>
                                  <a:pt x="8913" y="10458"/>
                                </a:lnTo>
                                <a:lnTo>
                                  <a:pt x="8681" y="10606"/>
                                </a:lnTo>
                                <a:lnTo>
                                  <a:pt x="8441" y="10744"/>
                                </a:lnTo>
                                <a:lnTo>
                                  <a:pt x="8195" y="10871"/>
                                </a:lnTo>
                                <a:lnTo>
                                  <a:pt x="7942" y="10985"/>
                                </a:lnTo>
                                <a:lnTo>
                                  <a:pt x="7682" y="11087"/>
                                </a:lnTo>
                                <a:lnTo>
                                  <a:pt x="7417" y="11177"/>
                                </a:lnTo>
                                <a:lnTo>
                                  <a:pt x="7145" y="11254"/>
                                </a:lnTo>
                                <a:lnTo>
                                  <a:pt x="6869" y="11318"/>
                                </a:lnTo>
                                <a:lnTo>
                                  <a:pt x="6587" y="11368"/>
                                </a:lnTo>
                                <a:lnTo>
                                  <a:pt x="6301" y="11404"/>
                                </a:lnTo>
                                <a:lnTo>
                                  <a:pt x="6011" y="11426"/>
                                </a:lnTo>
                                <a:lnTo>
                                  <a:pt x="5717" y="11434"/>
                                </a:lnTo>
                                <a:lnTo>
                                  <a:pt x="5422" y="11426"/>
                                </a:lnTo>
                                <a:lnTo>
                                  <a:pt x="5132" y="11404"/>
                                </a:lnTo>
                                <a:lnTo>
                                  <a:pt x="4846" y="11368"/>
                                </a:lnTo>
                                <a:lnTo>
                                  <a:pt x="4564" y="11318"/>
                                </a:lnTo>
                                <a:lnTo>
                                  <a:pt x="4288" y="11254"/>
                                </a:lnTo>
                                <a:lnTo>
                                  <a:pt x="4017" y="11177"/>
                                </a:lnTo>
                                <a:lnTo>
                                  <a:pt x="3751" y="11087"/>
                                </a:lnTo>
                                <a:lnTo>
                                  <a:pt x="3491" y="10985"/>
                                </a:lnTo>
                                <a:lnTo>
                                  <a:pt x="3238" y="10871"/>
                                </a:lnTo>
                                <a:lnTo>
                                  <a:pt x="2992" y="10744"/>
                                </a:lnTo>
                                <a:lnTo>
                                  <a:pt x="2752" y="10606"/>
                                </a:lnTo>
                                <a:lnTo>
                                  <a:pt x="2520" y="10458"/>
                                </a:lnTo>
                                <a:lnTo>
                                  <a:pt x="2296" y="10299"/>
                                </a:lnTo>
                                <a:lnTo>
                                  <a:pt x="2080" y="10128"/>
                                </a:lnTo>
                                <a:lnTo>
                                  <a:pt x="1872" y="9949"/>
                                </a:lnTo>
                                <a:lnTo>
                                  <a:pt x="1674" y="9760"/>
                                </a:lnTo>
                                <a:lnTo>
                                  <a:pt x="1484" y="9561"/>
                                </a:lnTo>
                                <a:lnTo>
                                  <a:pt x="1305" y="9354"/>
                                </a:lnTo>
                                <a:lnTo>
                                  <a:pt x="1135" y="9137"/>
                                </a:lnTo>
                                <a:lnTo>
                                  <a:pt x="976" y="8913"/>
                                </a:lnTo>
                                <a:lnTo>
                                  <a:pt x="827" y="8682"/>
                                </a:lnTo>
                                <a:lnTo>
                                  <a:pt x="690" y="8443"/>
                                </a:lnTo>
                                <a:lnTo>
                                  <a:pt x="563" y="8196"/>
                                </a:lnTo>
                                <a:lnTo>
                                  <a:pt x="449" y="7942"/>
                                </a:lnTo>
                                <a:lnTo>
                                  <a:pt x="346" y="7683"/>
                                </a:lnTo>
                                <a:lnTo>
                                  <a:pt x="256" y="7417"/>
                                </a:lnTo>
                                <a:lnTo>
                                  <a:pt x="179" y="7146"/>
                                </a:lnTo>
                                <a:lnTo>
                                  <a:pt x="116" y="6869"/>
                                </a:lnTo>
                                <a:lnTo>
                                  <a:pt x="66" y="6588"/>
                                </a:lnTo>
                                <a:lnTo>
                                  <a:pt x="29" y="6301"/>
                                </a:lnTo>
                                <a:lnTo>
                                  <a:pt x="7" y="6012"/>
                                </a:lnTo>
                                <a:lnTo>
                                  <a:pt x="0" y="5717"/>
                                </a:lnTo>
                                <a:lnTo>
                                  <a:pt x="7" y="5422"/>
                                </a:lnTo>
                                <a:lnTo>
                                  <a:pt x="29" y="5133"/>
                                </a:lnTo>
                                <a:lnTo>
                                  <a:pt x="66" y="4846"/>
                                </a:lnTo>
                                <a:lnTo>
                                  <a:pt x="116" y="4565"/>
                                </a:lnTo>
                                <a:lnTo>
                                  <a:pt x="179" y="4288"/>
                                </a:lnTo>
                                <a:lnTo>
                                  <a:pt x="256" y="4017"/>
                                </a:lnTo>
                                <a:lnTo>
                                  <a:pt x="346" y="3752"/>
                                </a:lnTo>
                                <a:lnTo>
                                  <a:pt x="449" y="3492"/>
                                </a:lnTo>
                                <a:lnTo>
                                  <a:pt x="563" y="3238"/>
                                </a:lnTo>
                                <a:lnTo>
                                  <a:pt x="690" y="2992"/>
                                </a:lnTo>
                                <a:lnTo>
                                  <a:pt x="827" y="2752"/>
                                </a:lnTo>
                                <a:lnTo>
                                  <a:pt x="976" y="2521"/>
                                </a:lnTo>
                                <a:lnTo>
                                  <a:pt x="1135" y="2297"/>
                                </a:lnTo>
                                <a:lnTo>
                                  <a:pt x="1305" y="2080"/>
                                </a:lnTo>
                                <a:lnTo>
                                  <a:pt x="1484" y="1874"/>
                                </a:lnTo>
                                <a:lnTo>
                                  <a:pt x="1674" y="1674"/>
                                </a:lnTo>
                                <a:lnTo>
                                  <a:pt x="1872" y="1485"/>
                                </a:lnTo>
                                <a:lnTo>
                                  <a:pt x="2080" y="1306"/>
                                </a:lnTo>
                                <a:lnTo>
                                  <a:pt x="2296" y="1135"/>
                                </a:lnTo>
                                <a:lnTo>
                                  <a:pt x="2520" y="976"/>
                                </a:lnTo>
                                <a:lnTo>
                                  <a:pt x="2752" y="828"/>
                                </a:lnTo>
                                <a:lnTo>
                                  <a:pt x="2992" y="690"/>
                                </a:lnTo>
                                <a:lnTo>
                                  <a:pt x="3238" y="563"/>
                                </a:lnTo>
                                <a:lnTo>
                                  <a:pt x="3491" y="449"/>
                                </a:lnTo>
                                <a:lnTo>
                                  <a:pt x="3751" y="347"/>
                                </a:lnTo>
                                <a:lnTo>
                                  <a:pt x="4017" y="257"/>
                                </a:lnTo>
                                <a:lnTo>
                                  <a:pt x="4288" y="180"/>
                                </a:lnTo>
                                <a:lnTo>
                                  <a:pt x="4564" y="116"/>
                                </a:lnTo>
                                <a:lnTo>
                                  <a:pt x="4846" y="66"/>
                                </a:lnTo>
                                <a:lnTo>
                                  <a:pt x="5132" y="30"/>
                                </a:lnTo>
                                <a:lnTo>
                                  <a:pt x="5422" y="8"/>
                                </a:lnTo>
                                <a:lnTo>
                                  <a:pt x="5717" y="0"/>
                                </a:lnTo>
                                <a:lnTo>
                                  <a:pt x="5719" y="32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3195720" y="4470840"/>
                        <a:ext cx="536040" cy="27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" rIns="9000" tIns="9000" bIns="9000" anchor="ctr">
                        <a:spAutoFit/>
                      </a:bodyPr>
                      <a:p>
                        <a:pPr algn="ctr">
                          <a:lnSpc>
                            <a:spcPct val="9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ff0000"/>
                            </a:solidFill>
                            <a:latin typeface="Tahoma"/>
                            <a:ea typeface="宋体"/>
                          </a:rPr>
                          <a:t>Internet</a:t>
                        </a:r>
                        <a:r>
                          <a:rPr b="1" lang="en-US" sz="1000" spc="-1" strike="noStrike">
                            <a:solidFill>
                              <a:srgbClr val="ff0000"/>
                            </a:solidFill>
                            <a:latin typeface="Tahoma"/>
                            <a:ea typeface="宋体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ff0000"/>
                            </a:solidFill>
                            <a:latin typeface="Tahoma"/>
                            <a:ea typeface="宋体"/>
                          </a:rPr>
                          <a:t>TV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8" name=""/>
                    <p:cNvGrpSpPr/>
                    <p:nvPr/>
                  </p:nvGrpSpPr>
                  <p:grpSpPr>
                    <a:xfrm>
                      <a:off x="2843280" y="4982040"/>
                      <a:ext cx="693000" cy="398160"/>
                      <a:chOff x="2843280" y="4982040"/>
                      <a:chExt cx="693000" cy="398160"/>
                    </a:xfrm>
                  </p:grpSpPr>
                  <p:sp>
                    <p:nvSpPr>
                      <p:cNvPr id="739" name=""/>
                      <p:cNvSpPr/>
                      <p:nvPr/>
                    </p:nvSpPr>
                    <p:spPr>
                      <a:xfrm>
                        <a:off x="3062160" y="4983480"/>
                        <a:ext cx="464760" cy="3963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b2b2b2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3066480" y="4988160"/>
                        <a:ext cx="456480" cy="392040"/>
                      </a:xfrm>
                      <a:prstGeom prst="rect">
                        <a:avLst/>
                      </a:prstGeom>
                      <a:solidFill>
                        <a:srgbClr val="d1d9f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3077640" y="5249160"/>
                        <a:ext cx="3960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120">
                            <a:moveTo>
                              <a:pt x="0" y="7"/>
                            </a:moveTo>
                            <a:lnTo>
                              <a:pt x="1" y="120"/>
                            </a:lnTo>
                            <a:lnTo>
                              <a:pt x="26" y="114"/>
                            </a:lnTo>
                            <a:lnTo>
                              <a:pt x="62" y="105"/>
                            </a:lnTo>
                            <a:lnTo>
                              <a:pt x="56" y="75"/>
                            </a:lnTo>
                            <a:lnTo>
                              <a:pt x="39" y="7"/>
                            </a:lnTo>
                            <a:lnTo>
                              <a:pt x="33" y="0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2b3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>
                        <a:off x="3077640" y="5249160"/>
                        <a:ext cx="3852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102">
                            <a:moveTo>
                              <a:pt x="0" y="7"/>
                            </a:moveTo>
                            <a:lnTo>
                              <a:pt x="24" y="0"/>
                            </a:lnTo>
                            <a:lnTo>
                              <a:pt x="38" y="0"/>
                            </a:lnTo>
                            <a:lnTo>
                              <a:pt x="60" y="78"/>
                            </a:lnTo>
                            <a:lnTo>
                              <a:pt x="60" y="102"/>
                            </a:lnTo>
                            <a:lnTo>
                              <a:pt x="26" y="21"/>
                            </a:lnTo>
                            <a:lnTo>
                              <a:pt x="26" y="76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ad4ad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3" name=""/>
                      <p:cNvSpPr/>
                      <p:nvPr/>
                    </p:nvSpPr>
                    <p:spPr>
                      <a:xfrm>
                        <a:off x="3171240" y="5279760"/>
                        <a:ext cx="26100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64">
                            <a:moveTo>
                              <a:pt x="0" y="160"/>
                            </a:moveTo>
                            <a:lnTo>
                              <a:pt x="0" y="158"/>
                            </a:lnTo>
                            <a:lnTo>
                              <a:pt x="0" y="157"/>
                            </a:lnTo>
                            <a:lnTo>
                              <a:pt x="0" y="155"/>
                            </a:lnTo>
                            <a:lnTo>
                              <a:pt x="2" y="153"/>
                            </a:lnTo>
                            <a:lnTo>
                              <a:pt x="2" y="149"/>
                            </a:lnTo>
                            <a:lnTo>
                              <a:pt x="4" y="145"/>
                            </a:lnTo>
                            <a:lnTo>
                              <a:pt x="6" y="142"/>
                            </a:lnTo>
                            <a:lnTo>
                              <a:pt x="7" y="140"/>
                            </a:lnTo>
                            <a:lnTo>
                              <a:pt x="8" y="136"/>
                            </a:lnTo>
                            <a:lnTo>
                              <a:pt x="10" y="134"/>
                            </a:lnTo>
                            <a:lnTo>
                              <a:pt x="11" y="132"/>
                            </a:lnTo>
                            <a:lnTo>
                              <a:pt x="12" y="129"/>
                            </a:lnTo>
                            <a:lnTo>
                              <a:pt x="13" y="125"/>
                            </a:lnTo>
                            <a:lnTo>
                              <a:pt x="15" y="123"/>
                            </a:lnTo>
                            <a:lnTo>
                              <a:pt x="16" y="119"/>
                            </a:lnTo>
                            <a:lnTo>
                              <a:pt x="18" y="117"/>
                            </a:lnTo>
                            <a:lnTo>
                              <a:pt x="20" y="112"/>
                            </a:lnTo>
                            <a:lnTo>
                              <a:pt x="22" y="110"/>
                            </a:lnTo>
                            <a:lnTo>
                              <a:pt x="24" y="106"/>
                            </a:lnTo>
                            <a:lnTo>
                              <a:pt x="26" y="102"/>
                            </a:lnTo>
                            <a:lnTo>
                              <a:pt x="29" y="99"/>
                            </a:lnTo>
                            <a:lnTo>
                              <a:pt x="31" y="95"/>
                            </a:lnTo>
                            <a:lnTo>
                              <a:pt x="33" y="91"/>
                            </a:lnTo>
                            <a:lnTo>
                              <a:pt x="36" y="88"/>
                            </a:lnTo>
                            <a:lnTo>
                              <a:pt x="39" y="84"/>
                            </a:lnTo>
                            <a:lnTo>
                              <a:pt x="42" y="80"/>
                            </a:lnTo>
                            <a:lnTo>
                              <a:pt x="45" y="77"/>
                            </a:lnTo>
                            <a:lnTo>
                              <a:pt x="49" y="73"/>
                            </a:lnTo>
                            <a:lnTo>
                              <a:pt x="52" y="68"/>
                            </a:lnTo>
                            <a:lnTo>
                              <a:pt x="56" y="65"/>
                            </a:lnTo>
                            <a:lnTo>
                              <a:pt x="59" y="62"/>
                            </a:lnTo>
                            <a:lnTo>
                              <a:pt x="62" y="57"/>
                            </a:lnTo>
                            <a:lnTo>
                              <a:pt x="66" y="54"/>
                            </a:lnTo>
                            <a:lnTo>
                              <a:pt x="70" y="51"/>
                            </a:lnTo>
                            <a:lnTo>
                              <a:pt x="74" y="47"/>
                            </a:lnTo>
                            <a:lnTo>
                              <a:pt x="78" y="44"/>
                            </a:lnTo>
                            <a:lnTo>
                              <a:pt x="82" y="41"/>
                            </a:lnTo>
                            <a:lnTo>
                              <a:pt x="86" y="38"/>
                            </a:lnTo>
                            <a:lnTo>
                              <a:pt x="92" y="34"/>
                            </a:lnTo>
                            <a:lnTo>
                              <a:pt x="97" y="31"/>
                            </a:lnTo>
                            <a:lnTo>
                              <a:pt x="101" y="29"/>
                            </a:lnTo>
                            <a:lnTo>
                              <a:pt x="107" y="26"/>
                            </a:lnTo>
                            <a:lnTo>
                              <a:pt x="111" y="22"/>
                            </a:lnTo>
                            <a:lnTo>
                              <a:pt x="116" y="20"/>
                            </a:lnTo>
                            <a:lnTo>
                              <a:pt x="122" y="18"/>
                            </a:lnTo>
                            <a:lnTo>
                              <a:pt x="127" y="16"/>
                            </a:lnTo>
                            <a:lnTo>
                              <a:pt x="134" y="12"/>
                            </a:lnTo>
                            <a:lnTo>
                              <a:pt x="140" y="11"/>
                            </a:lnTo>
                            <a:lnTo>
                              <a:pt x="145" y="9"/>
                            </a:lnTo>
                            <a:lnTo>
                              <a:pt x="152" y="7"/>
                            </a:lnTo>
                            <a:lnTo>
                              <a:pt x="158" y="5"/>
                            </a:lnTo>
                            <a:lnTo>
                              <a:pt x="164" y="4"/>
                            </a:lnTo>
                            <a:lnTo>
                              <a:pt x="172" y="2"/>
                            </a:lnTo>
                            <a:lnTo>
                              <a:pt x="179" y="1"/>
                            </a:lnTo>
                            <a:lnTo>
                              <a:pt x="186" y="0"/>
                            </a:lnTo>
                            <a:lnTo>
                              <a:pt x="193" y="0"/>
                            </a:lnTo>
                            <a:lnTo>
                              <a:pt x="200" y="0"/>
                            </a:lnTo>
                            <a:lnTo>
                              <a:pt x="208" y="0"/>
                            </a:lnTo>
                            <a:lnTo>
                              <a:pt x="213" y="0"/>
                            </a:lnTo>
                            <a:lnTo>
                              <a:pt x="218" y="0"/>
                            </a:lnTo>
                            <a:lnTo>
                              <a:pt x="223" y="0"/>
                            </a:lnTo>
                            <a:lnTo>
                              <a:pt x="228" y="1"/>
                            </a:lnTo>
                            <a:lnTo>
                              <a:pt x="233" y="1"/>
                            </a:lnTo>
                            <a:lnTo>
                              <a:pt x="238" y="2"/>
                            </a:lnTo>
                            <a:lnTo>
                              <a:pt x="243" y="4"/>
                            </a:lnTo>
                            <a:lnTo>
                              <a:pt x="247" y="5"/>
                            </a:lnTo>
                            <a:lnTo>
                              <a:pt x="252" y="6"/>
                            </a:lnTo>
                            <a:lnTo>
                              <a:pt x="258" y="7"/>
                            </a:lnTo>
                            <a:lnTo>
                              <a:pt x="262" y="9"/>
                            </a:lnTo>
                            <a:lnTo>
                              <a:pt x="267" y="10"/>
                            </a:lnTo>
                            <a:lnTo>
                              <a:pt x="271" y="11"/>
                            </a:lnTo>
                            <a:lnTo>
                              <a:pt x="275" y="13"/>
                            </a:lnTo>
                            <a:lnTo>
                              <a:pt x="280" y="16"/>
                            </a:lnTo>
                            <a:lnTo>
                              <a:pt x="284" y="18"/>
                            </a:lnTo>
                            <a:lnTo>
                              <a:pt x="288" y="20"/>
                            </a:lnTo>
                            <a:lnTo>
                              <a:pt x="292" y="22"/>
                            </a:lnTo>
                            <a:lnTo>
                              <a:pt x="297" y="24"/>
                            </a:lnTo>
                            <a:lnTo>
                              <a:pt x="301" y="27"/>
                            </a:lnTo>
                            <a:lnTo>
                              <a:pt x="304" y="29"/>
                            </a:lnTo>
                            <a:lnTo>
                              <a:pt x="308" y="32"/>
                            </a:lnTo>
                            <a:lnTo>
                              <a:pt x="312" y="34"/>
                            </a:lnTo>
                            <a:lnTo>
                              <a:pt x="316" y="38"/>
                            </a:lnTo>
                            <a:lnTo>
                              <a:pt x="319" y="40"/>
                            </a:lnTo>
                            <a:lnTo>
                              <a:pt x="323" y="43"/>
                            </a:lnTo>
                            <a:lnTo>
                              <a:pt x="326" y="45"/>
                            </a:lnTo>
                            <a:lnTo>
                              <a:pt x="330" y="49"/>
                            </a:lnTo>
                            <a:lnTo>
                              <a:pt x="333" y="51"/>
                            </a:lnTo>
                            <a:lnTo>
                              <a:pt x="336" y="54"/>
                            </a:lnTo>
                            <a:lnTo>
                              <a:pt x="340" y="57"/>
                            </a:lnTo>
                            <a:lnTo>
                              <a:pt x="344" y="61"/>
                            </a:lnTo>
                            <a:lnTo>
                              <a:pt x="347" y="64"/>
                            </a:lnTo>
                            <a:lnTo>
                              <a:pt x="349" y="66"/>
                            </a:lnTo>
                            <a:lnTo>
                              <a:pt x="352" y="69"/>
                            </a:lnTo>
                            <a:lnTo>
                              <a:pt x="355" y="73"/>
                            </a:lnTo>
                            <a:lnTo>
                              <a:pt x="357" y="76"/>
                            </a:lnTo>
                            <a:lnTo>
                              <a:pt x="360" y="79"/>
                            </a:lnTo>
                            <a:lnTo>
                              <a:pt x="362" y="82"/>
                            </a:lnTo>
                            <a:lnTo>
                              <a:pt x="365" y="86"/>
                            </a:lnTo>
                            <a:lnTo>
                              <a:pt x="367" y="88"/>
                            </a:lnTo>
                            <a:lnTo>
                              <a:pt x="369" y="91"/>
                            </a:lnTo>
                            <a:lnTo>
                              <a:pt x="371" y="95"/>
                            </a:lnTo>
                            <a:lnTo>
                              <a:pt x="374" y="98"/>
                            </a:lnTo>
                            <a:lnTo>
                              <a:pt x="376" y="101"/>
                            </a:lnTo>
                            <a:lnTo>
                              <a:pt x="379" y="104"/>
                            </a:lnTo>
                            <a:lnTo>
                              <a:pt x="381" y="107"/>
                            </a:lnTo>
                            <a:lnTo>
                              <a:pt x="383" y="110"/>
                            </a:lnTo>
                            <a:lnTo>
                              <a:pt x="384" y="113"/>
                            </a:lnTo>
                            <a:lnTo>
                              <a:pt x="386" y="117"/>
                            </a:lnTo>
                            <a:lnTo>
                              <a:pt x="387" y="119"/>
                            </a:lnTo>
                            <a:lnTo>
                              <a:pt x="389" y="122"/>
                            </a:lnTo>
                            <a:lnTo>
                              <a:pt x="390" y="124"/>
                            </a:lnTo>
                            <a:lnTo>
                              <a:pt x="391" y="128"/>
                            </a:lnTo>
                            <a:lnTo>
                              <a:pt x="392" y="130"/>
                            </a:lnTo>
                            <a:lnTo>
                              <a:pt x="394" y="133"/>
                            </a:lnTo>
                            <a:lnTo>
                              <a:pt x="395" y="135"/>
                            </a:lnTo>
                            <a:lnTo>
                              <a:pt x="396" y="138"/>
                            </a:lnTo>
                            <a:lnTo>
                              <a:pt x="396" y="141"/>
                            </a:lnTo>
                            <a:lnTo>
                              <a:pt x="397" y="143"/>
                            </a:lnTo>
                            <a:lnTo>
                              <a:pt x="398" y="147"/>
                            </a:lnTo>
                            <a:lnTo>
                              <a:pt x="399" y="152"/>
                            </a:lnTo>
                            <a:lnTo>
                              <a:pt x="400" y="163"/>
                            </a:lnTo>
                            <a:lnTo>
                              <a:pt x="396" y="161"/>
                            </a:lnTo>
                            <a:lnTo>
                              <a:pt x="393" y="161"/>
                            </a:lnTo>
                            <a:lnTo>
                              <a:pt x="390" y="160"/>
                            </a:lnTo>
                            <a:lnTo>
                              <a:pt x="387" y="158"/>
                            </a:lnTo>
                            <a:lnTo>
                              <a:pt x="384" y="157"/>
                            </a:lnTo>
                            <a:lnTo>
                              <a:pt x="381" y="156"/>
                            </a:lnTo>
                            <a:lnTo>
                              <a:pt x="376" y="156"/>
                            </a:lnTo>
                            <a:lnTo>
                              <a:pt x="373" y="155"/>
                            </a:lnTo>
                            <a:lnTo>
                              <a:pt x="369" y="154"/>
                            </a:lnTo>
                            <a:lnTo>
                              <a:pt x="365" y="153"/>
                            </a:lnTo>
                            <a:lnTo>
                              <a:pt x="362" y="152"/>
                            </a:lnTo>
                            <a:lnTo>
                              <a:pt x="360" y="152"/>
                            </a:lnTo>
                            <a:lnTo>
                              <a:pt x="357" y="151"/>
                            </a:lnTo>
                            <a:lnTo>
                              <a:pt x="355" y="151"/>
                            </a:lnTo>
                            <a:lnTo>
                              <a:pt x="353" y="150"/>
                            </a:lnTo>
                            <a:lnTo>
                              <a:pt x="350" y="150"/>
                            </a:lnTo>
                            <a:lnTo>
                              <a:pt x="348" y="149"/>
                            </a:lnTo>
                            <a:lnTo>
                              <a:pt x="346" y="149"/>
                            </a:lnTo>
                            <a:lnTo>
                              <a:pt x="343" y="147"/>
                            </a:lnTo>
                            <a:lnTo>
                              <a:pt x="341" y="147"/>
                            </a:lnTo>
                            <a:lnTo>
                              <a:pt x="338" y="147"/>
                            </a:lnTo>
                            <a:lnTo>
                              <a:pt x="334" y="146"/>
                            </a:lnTo>
                            <a:lnTo>
                              <a:pt x="332" y="145"/>
                            </a:lnTo>
                            <a:lnTo>
                              <a:pt x="329" y="145"/>
                            </a:lnTo>
                            <a:lnTo>
                              <a:pt x="326" y="145"/>
                            </a:lnTo>
                            <a:lnTo>
                              <a:pt x="324" y="145"/>
                            </a:lnTo>
                            <a:lnTo>
                              <a:pt x="321" y="144"/>
                            </a:lnTo>
                            <a:lnTo>
                              <a:pt x="318" y="143"/>
                            </a:lnTo>
                            <a:lnTo>
                              <a:pt x="316" y="143"/>
                            </a:lnTo>
                            <a:lnTo>
                              <a:pt x="313" y="143"/>
                            </a:lnTo>
                            <a:lnTo>
                              <a:pt x="310" y="143"/>
                            </a:lnTo>
                            <a:lnTo>
                              <a:pt x="308" y="142"/>
                            </a:lnTo>
                            <a:lnTo>
                              <a:pt x="305" y="142"/>
                            </a:lnTo>
                            <a:lnTo>
                              <a:pt x="303" y="142"/>
                            </a:lnTo>
                            <a:lnTo>
                              <a:pt x="300" y="142"/>
                            </a:lnTo>
                            <a:lnTo>
                              <a:pt x="297" y="141"/>
                            </a:lnTo>
                            <a:lnTo>
                              <a:pt x="293" y="141"/>
                            </a:lnTo>
                            <a:lnTo>
                              <a:pt x="291" y="141"/>
                            </a:lnTo>
                            <a:lnTo>
                              <a:pt x="288" y="141"/>
                            </a:lnTo>
                            <a:lnTo>
                              <a:pt x="286" y="141"/>
                            </a:lnTo>
                            <a:lnTo>
                              <a:pt x="283" y="141"/>
                            </a:lnTo>
                            <a:lnTo>
                              <a:pt x="281" y="141"/>
                            </a:lnTo>
                            <a:lnTo>
                              <a:pt x="281" y="141"/>
                            </a:lnTo>
                            <a:lnTo>
                              <a:pt x="281" y="144"/>
                            </a:lnTo>
                            <a:lnTo>
                              <a:pt x="281" y="147"/>
                            </a:lnTo>
                            <a:lnTo>
                              <a:pt x="280" y="151"/>
                            </a:lnTo>
                            <a:lnTo>
                              <a:pt x="278" y="154"/>
                            </a:lnTo>
                            <a:lnTo>
                              <a:pt x="276" y="158"/>
                            </a:lnTo>
                            <a:lnTo>
                              <a:pt x="273" y="160"/>
                            </a:lnTo>
                            <a:lnTo>
                              <a:pt x="270" y="161"/>
                            </a:lnTo>
                            <a:lnTo>
                              <a:pt x="267" y="162"/>
                            </a:lnTo>
                            <a:lnTo>
                              <a:pt x="264" y="163"/>
                            </a:lnTo>
                            <a:lnTo>
                              <a:pt x="260" y="163"/>
                            </a:lnTo>
                            <a:lnTo>
                              <a:pt x="257" y="163"/>
                            </a:lnTo>
                            <a:lnTo>
                              <a:pt x="252" y="163"/>
                            </a:lnTo>
                            <a:lnTo>
                              <a:pt x="249" y="163"/>
                            </a:lnTo>
                            <a:lnTo>
                              <a:pt x="245" y="163"/>
                            </a:lnTo>
                            <a:lnTo>
                              <a:pt x="242" y="163"/>
                            </a:lnTo>
                            <a:lnTo>
                              <a:pt x="239" y="163"/>
                            </a:lnTo>
                            <a:lnTo>
                              <a:pt x="236" y="164"/>
                            </a:lnTo>
                            <a:lnTo>
                              <a:pt x="233" y="163"/>
                            </a:lnTo>
                            <a:lnTo>
                              <a:pt x="230" y="163"/>
                            </a:lnTo>
                            <a:lnTo>
                              <a:pt x="227" y="163"/>
                            </a:lnTo>
                            <a:lnTo>
                              <a:pt x="225" y="163"/>
                            </a:lnTo>
                            <a:lnTo>
                              <a:pt x="222" y="163"/>
                            </a:lnTo>
                            <a:lnTo>
                              <a:pt x="219" y="163"/>
                            </a:lnTo>
                            <a:lnTo>
                              <a:pt x="217" y="163"/>
                            </a:lnTo>
                            <a:lnTo>
                              <a:pt x="215" y="163"/>
                            </a:lnTo>
                            <a:lnTo>
                              <a:pt x="211" y="162"/>
                            </a:lnTo>
                            <a:lnTo>
                              <a:pt x="209" y="162"/>
                            </a:lnTo>
                            <a:lnTo>
                              <a:pt x="206" y="162"/>
                            </a:lnTo>
                            <a:lnTo>
                              <a:pt x="205" y="162"/>
                            </a:lnTo>
                            <a:lnTo>
                              <a:pt x="201" y="161"/>
                            </a:lnTo>
                            <a:lnTo>
                              <a:pt x="198" y="161"/>
                            </a:lnTo>
                            <a:lnTo>
                              <a:pt x="196" y="161"/>
                            </a:lnTo>
                            <a:lnTo>
                              <a:pt x="194" y="160"/>
                            </a:lnTo>
                            <a:lnTo>
                              <a:pt x="193" y="160"/>
                            </a:lnTo>
                            <a:lnTo>
                              <a:pt x="172" y="143"/>
                            </a:lnTo>
                            <a:lnTo>
                              <a:pt x="108" y="158"/>
                            </a:lnTo>
                            <a:lnTo>
                              <a:pt x="68" y="158"/>
                            </a:lnTo>
                            <a:lnTo>
                              <a:pt x="68" y="144"/>
                            </a:lnTo>
                            <a:lnTo>
                              <a:pt x="0" y="160"/>
                            </a:lnTo>
                            <a:lnTo>
                              <a:pt x="0" y="160"/>
                            </a:lnTo>
                            <a:close/>
                          </a:path>
                        </a:pathLst>
                      </a:custGeom>
                      <a:solidFill>
                        <a:srgbClr val="63b86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4" name=""/>
                      <p:cNvSpPr/>
                      <p:nvPr/>
                    </p:nvSpPr>
                    <p:spPr>
                      <a:xfrm>
                        <a:off x="3077640" y="5243040"/>
                        <a:ext cx="43920" cy="7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130">
                            <a:moveTo>
                              <a:pt x="0" y="17"/>
                            </a:move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  <a:lnTo>
                              <a:pt x="2" y="15"/>
                            </a:lnTo>
                            <a:lnTo>
                              <a:pt x="4" y="14"/>
                            </a:lnTo>
                            <a:lnTo>
                              <a:pt x="7" y="13"/>
                            </a:lnTo>
                            <a:lnTo>
                              <a:pt x="10" y="12"/>
                            </a:lnTo>
                            <a:lnTo>
                              <a:pt x="15" y="10"/>
                            </a:lnTo>
                            <a:lnTo>
                              <a:pt x="18" y="9"/>
                            </a:lnTo>
                            <a:lnTo>
                              <a:pt x="21" y="7"/>
                            </a:lnTo>
                            <a:lnTo>
                              <a:pt x="25" y="5"/>
                            </a:lnTo>
                            <a:lnTo>
                              <a:pt x="28" y="4"/>
                            </a:lnTo>
                            <a:lnTo>
                              <a:pt x="32" y="3"/>
                            </a:lnTo>
                            <a:lnTo>
                              <a:pt x="34" y="2"/>
                            </a:lnTo>
                            <a:lnTo>
                              <a:pt x="36" y="1"/>
                            </a:lnTo>
                            <a:lnTo>
                              <a:pt x="37" y="0"/>
                            </a:lnTo>
                            <a:lnTo>
                              <a:pt x="38" y="0"/>
                            </a:lnTo>
                            <a:lnTo>
                              <a:pt x="68" y="99"/>
                            </a:lnTo>
                            <a:lnTo>
                              <a:pt x="63" y="127"/>
                            </a:lnTo>
                            <a:lnTo>
                              <a:pt x="1" y="130"/>
                            </a:lnTo>
                            <a:lnTo>
                              <a:pt x="49" y="101"/>
                            </a:lnTo>
                            <a:lnTo>
                              <a:pt x="49" y="99"/>
                            </a:lnTo>
                            <a:lnTo>
                              <a:pt x="49" y="97"/>
                            </a:lnTo>
                            <a:lnTo>
                              <a:pt x="49" y="94"/>
                            </a:lnTo>
                            <a:lnTo>
                              <a:pt x="49" y="92"/>
                            </a:lnTo>
                            <a:lnTo>
                              <a:pt x="48" y="90"/>
                            </a:lnTo>
                            <a:lnTo>
                              <a:pt x="48" y="87"/>
                            </a:lnTo>
                            <a:lnTo>
                              <a:pt x="48" y="83"/>
                            </a:lnTo>
                            <a:lnTo>
                              <a:pt x="47" y="80"/>
                            </a:lnTo>
                            <a:lnTo>
                              <a:pt x="47" y="77"/>
                            </a:lnTo>
                            <a:lnTo>
                              <a:pt x="47" y="74"/>
                            </a:lnTo>
                            <a:lnTo>
                              <a:pt x="47" y="69"/>
                            </a:lnTo>
                            <a:lnTo>
                              <a:pt x="47" y="66"/>
                            </a:lnTo>
                            <a:lnTo>
                              <a:pt x="46" y="61"/>
                            </a:lnTo>
                            <a:lnTo>
                              <a:pt x="46" y="57"/>
                            </a:lnTo>
                            <a:lnTo>
                              <a:pt x="45" y="53"/>
                            </a:lnTo>
                            <a:lnTo>
                              <a:pt x="45" y="49"/>
                            </a:lnTo>
                            <a:lnTo>
                              <a:pt x="44" y="45"/>
                            </a:lnTo>
                            <a:lnTo>
                              <a:pt x="44" y="42"/>
                            </a:lnTo>
                            <a:lnTo>
                              <a:pt x="43" y="37"/>
                            </a:lnTo>
                            <a:lnTo>
                              <a:pt x="43" y="33"/>
                            </a:lnTo>
                            <a:lnTo>
                              <a:pt x="42" y="30"/>
                            </a:lnTo>
                            <a:lnTo>
                              <a:pt x="41" y="27"/>
                            </a:lnTo>
                            <a:lnTo>
                              <a:pt x="40" y="24"/>
                            </a:lnTo>
                            <a:lnTo>
                              <a:pt x="40" y="21"/>
                            </a:lnTo>
                            <a:lnTo>
                              <a:pt x="39" y="19"/>
                            </a:lnTo>
                            <a:lnTo>
                              <a:pt x="38" y="16"/>
                            </a:lnTo>
                            <a:lnTo>
                              <a:pt x="36" y="13"/>
                            </a:lnTo>
                            <a:lnTo>
                              <a:pt x="35" y="12"/>
                            </a:lnTo>
                            <a:lnTo>
                              <a:pt x="31" y="11"/>
                            </a:lnTo>
                            <a:lnTo>
                              <a:pt x="27" y="11"/>
                            </a:lnTo>
                            <a:lnTo>
                              <a:pt x="24" y="11"/>
                            </a:lnTo>
                            <a:lnTo>
                              <a:pt x="22" y="11"/>
                            </a:lnTo>
                            <a:lnTo>
                              <a:pt x="20" y="12"/>
                            </a:lnTo>
                            <a:lnTo>
                              <a:pt x="18" y="13"/>
                            </a:lnTo>
                            <a:lnTo>
                              <a:pt x="15" y="13"/>
                            </a:lnTo>
                            <a:lnTo>
                              <a:pt x="12" y="13"/>
                            </a:lnTo>
                            <a:lnTo>
                              <a:pt x="10" y="14"/>
                            </a:lnTo>
                            <a:lnTo>
                              <a:pt x="8" y="15"/>
                            </a:lnTo>
                            <a:lnTo>
                              <a:pt x="4" y="15"/>
                            </a:lnTo>
                            <a:lnTo>
                              <a:pt x="0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f2c96b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5" name=""/>
                      <p:cNvSpPr/>
                      <p:nvPr/>
                    </p:nvSpPr>
                    <p:spPr>
                      <a:xfrm>
                        <a:off x="3254040" y="5212440"/>
                        <a:ext cx="12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8">
                            <a:moveTo>
                              <a:pt x="5" y="1"/>
                            </a:moveTo>
                            <a:lnTo>
                              <a:pt x="4" y="1"/>
                            </a:lnTo>
                            <a:lnTo>
                              <a:pt x="4" y="3"/>
                            </a:lnTo>
                            <a:lnTo>
                              <a:pt x="1" y="6"/>
                            </a:lnTo>
                            <a:lnTo>
                              <a:pt x="0" y="10"/>
                            </a:lnTo>
                            <a:lnTo>
                              <a:pt x="0" y="13"/>
                            </a:lnTo>
                            <a:lnTo>
                              <a:pt x="0" y="15"/>
                            </a:lnTo>
                            <a:lnTo>
                              <a:pt x="0" y="17"/>
                            </a:lnTo>
                            <a:lnTo>
                              <a:pt x="2" y="18"/>
                            </a:lnTo>
                            <a:lnTo>
                              <a:pt x="5" y="18"/>
                            </a:lnTo>
                            <a:lnTo>
                              <a:pt x="8" y="17"/>
                            </a:lnTo>
                            <a:lnTo>
                              <a:pt x="11" y="16"/>
                            </a:lnTo>
                            <a:lnTo>
                              <a:pt x="14" y="15"/>
                            </a:lnTo>
                            <a:lnTo>
                              <a:pt x="16" y="14"/>
                            </a:lnTo>
                            <a:lnTo>
                              <a:pt x="18" y="13"/>
                            </a:lnTo>
                            <a:lnTo>
                              <a:pt x="19" y="12"/>
                            </a:lnTo>
                            <a:lnTo>
                              <a:pt x="20" y="12"/>
                            </a:lnTo>
                            <a:lnTo>
                              <a:pt x="21" y="4"/>
                            </a:lnTo>
                            <a:lnTo>
                              <a:pt x="14" y="0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close/>
                          </a:path>
                        </a:pathLst>
                      </a:custGeom>
                      <a:solidFill>
                        <a:srgbClr val="458ab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6" name=""/>
                      <p:cNvSpPr/>
                      <p:nvPr/>
                    </p:nvSpPr>
                    <p:spPr>
                      <a:xfrm>
                        <a:off x="3132720" y="5269320"/>
                        <a:ext cx="2448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23">
                            <a:moveTo>
                              <a:pt x="0" y="10"/>
                            </a:moveTo>
                            <a:lnTo>
                              <a:pt x="6" y="22"/>
                            </a:lnTo>
                            <a:lnTo>
                              <a:pt x="18" y="23"/>
                            </a:lnTo>
                            <a:lnTo>
                              <a:pt x="31" y="18"/>
                            </a:lnTo>
                            <a:lnTo>
                              <a:pt x="36" y="11"/>
                            </a:lnTo>
                            <a:lnTo>
                              <a:pt x="36" y="0"/>
                            </a:lnTo>
                            <a:lnTo>
                              <a:pt x="14" y="0"/>
                            </a:lnTo>
                            <a:lnTo>
                              <a:pt x="0" y="10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edb39e"/>
                      </a:solidFill>
                      <a:ln w="936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7" name=""/>
                      <p:cNvSpPr/>
                      <p:nvPr/>
                    </p:nvSpPr>
                    <p:spPr>
                      <a:xfrm>
                        <a:off x="3201120" y="5202000"/>
                        <a:ext cx="1800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8">
                            <a:moveTo>
                              <a:pt x="0" y="8"/>
                            </a:moveTo>
                            <a:lnTo>
                              <a:pt x="0" y="9"/>
                            </a:lnTo>
                            <a:lnTo>
                              <a:pt x="4" y="13"/>
                            </a:lnTo>
                            <a:lnTo>
                              <a:pt x="5" y="15"/>
                            </a:lnTo>
                            <a:lnTo>
                              <a:pt x="6" y="18"/>
                            </a:lnTo>
                            <a:lnTo>
                              <a:pt x="8" y="20"/>
                            </a:lnTo>
                            <a:lnTo>
                              <a:pt x="10" y="23"/>
                            </a:lnTo>
                            <a:lnTo>
                              <a:pt x="12" y="26"/>
                            </a:lnTo>
                            <a:lnTo>
                              <a:pt x="14" y="29"/>
                            </a:lnTo>
                            <a:lnTo>
                              <a:pt x="16" y="31"/>
                            </a:lnTo>
                            <a:lnTo>
                              <a:pt x="19" y="33"/>
                            </a:lnTo>
                            <a:lnTo>
                              <a:pt x="23" y="37"/>
                            </a:lnTo>
                            <a:lnTo>
                              <a:pt x="26" y="38"/>
                            </a:lnTo>
                            <a:lnTo>
                              <a:pt x="28" y="37"/>
                            </a:lnTo>
                            <a:lnTo>
                              <a:pt x="28" y="33"/>
                            </a:lnTo>
                            <a:lnTo>
                              <a:pt x="28" y="30"/>
                            </a:lnTo>
                            <a:lnTo>
                              <a:pt x="27" y="28"/>
                            </a:lnTo>
                            <a:lnTo>
                              <a:pt x="26" y="25"/>
                            </a:lnTo>
                            <a:lnTo>
                              <a:pt x="25" y="21"/>
                            </a:lnTo>
                            <a:lnTo>
                              <a:pt x="24" y="18"/>
                            </a:lnTo>
                            <a:lnTo>
                              <a:pt x="22" y="14"/>
                            </a:lnTo>
                            <a:lnTo>
                              <a:pt x="21" y="11"/>
                            </a:lnTo>
                            <a:lnTo>
                              <a:pt x="20" y="8"/>
                            </a:lnTo>
                            <a:lnTo>
                              <a:pt x="18" y="6"/>
                            </a:lnTo>
                            <a:lnTo>
                              <a:pt x="17" y="4"/>
                            </a:lnTo>
                            <a:lnTo>
                              <a:pt x="16" y="3"/>
                            </a:lnTo>
                            <a:lnTo>
                              <a:pt x="15" y="2"/>
                            </a:lnTo>
                            <a:lnTo>
                              <a:pt x="12" y="0"/>
                            </a:lnTo>
                            <a:lnTo>
                              <a:pt x="9" y="0"/>
                            </a:lnTo>
                            <a:lnTo>
                              <a:pt x="6" y="0"/>
                            </a:lnTo>
                            <a:lnTo>
                              <a:pt x="5" y="0"/>
                            </a:lnTo>
                            <a:lnTo>
                              <a:pt x="0" y="8"/>
                            </a:lnTo>
                            <a:lnTo>
                              <a:pt x="0" y="8"/>
                            </a:lnTo>
                            <a:close/>
                          </a:path>
                        </a:pathLst>
                      </a:custGeom>
                      <a:solidFill>
                        <a:srgbClr val="4a69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3128760" y="5109480"/>
                        <a:ext cx="91440" cy="9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78">
                            <a:moveTo>
                              <a:pt x="90" y="13"/>
                            </a:moveTo>
                            <a:lnTo>
                              <a:pt x="87" y="13"/>
                            </a:lnTo>
                            <a:lnTo>
                              <a:pt x="85" y="13"/>
                            </a:lnTo>
                            <a:lnTo>
                              <a:pt x="82" y="12"/>
                            </a:lnTo>
                            <a:lnTo>
                              <a:pt x="80" y="12"/>
                            </a:lnTo>
                            <a:lnTo>
                              <a:pt x="77" y="11"/>
                            </a:lnTo>
                            <a:lnTo>
                              <a:pt x="74" y="11"/>
                            </a:lnTo>
                            <a:lnTo>
                              <a:pt x="72" y="11"/>
                            </a:lnTo>
                            <a:lnTo>
                              <a:pt x="69" y="11"/>
                            </a:lnTo>
                            <a:lnTo>
                              <a:pt x="67" y="12"/>
                            </a:lnTo>
                            <a:lnTo>
                              <a:pt x="65" y="14"/>
                            </a:lnTo>
                            <a:lnTo>
                              <a:pt x="64" y="16"/>
                            </a:lnTo>
                            <a:lnTo>
                              <a:pt x="63" y="18"/>
                            </a:lnTo>
                            <a:lnTo>
                              <a:pt x="61" y="20"/>
                            </a:lnTo>
                            <a:lnTo>
                              <a:pt x="59" y="22"/>
                            </a:lnTo>
                            <a:lnTo>
                              <a:pt x="57" y="22"/>
                            </a:lnTo>
                            <a:lnTo>
                              <a:pt x="55" y="22"/>
                            </a:lnTo>
                            <a:lnTo>
                              <a:pt x="51" y="20"/>
                            </a:lnTo>
                            <a:lnTo>
                              <a:pt x="49" y="20"/>
                            </a:lnTo>
                            <a:lnTo>
                              <a:pt x="46" y="20"/>
                            </a:lnTo>
                            <a:lnTo>
                              <a:pt x="44" y="22"/>
                            </a:lnTo>
                            <a:lnTo>
                              <a:pt x="41" y="25"/>
                            </a:lnTo>
                            <a:lnTo>
                              <a:pt x="38" y="29"/>
                            </a:lnTo>
                            <a:lnTo>
                              <a:pt x="35" y="34"/>
                            </a:lnTo>
                            <a:lnTo>
                              <a:pt x="33" y="38"/>
                            </a:lnTo>
                            <a:lnTo>
                              <a:pt x="30" y="41"/>
                            </a:lnTo>
                            <a:lnTo>
                              <a:pt x="25" y="46"/>
                            </a:lnTo>
                            <a:lnTo>
                              <a:pt x="22" y="44"/>
                            </a:lnTo>
                            <a:lnTo>
                              <a:pt x="19" y="44"/>
                            </a:lnTo>
                            <a:lnTo>
                              <a:pt x="16" y="44"/>
                            </a:lnTo>
                            <a:lnTo>
                              <a:pt x="14" y="45"/>
                            </a:lnTo>
                            <a:lnTo>
                              <a:pt x="12" y="46"/>
                            </a:lnTo>
                            <a:lnTo>
                              <a:pt x="10" y="47"/>
                            </a:lnTo>
                            <a:lnTo>
                              <a:pt x="8" y="48"/>
                            </a:lnTo>
                            <a:lnTo>
                              <a:pt x="6" y="50"/>
                            </a:lnTo>
                            <a:lnTo>
                              <a:pt x="5" y="51"/>
                            </a:lnTo>
                            <a:lnTo>
                              <a:pt x="4" y="53"/>
                            </a:lnTo>
                            <a:lnTo>
                              <a:pt x="2" y="57"/>
                            </a:lnTo>
                            <a:lnTo>
                              <a:pt x="2" y="59"/>
                            </a:lnTo>
                            <a:lnTo>
                              <a:pt x="1" y="61"/>
                            </a:lnTo>
                            <a:lnTo>
                              <a:pt x="0" y="64"/>
                            </a:lnTo>
                            <a:lnTo>
                              <a:pt x="0" y="67"/>
                            </a:lnTo>
                            <a:lnTo>
                              <a:pt x="0" y="70"/>
                            </a:lnTo>
                            <a:lnTo>
                              <a:pt x="1" y="71"/>
                            </a:lnTo>
                            <a:lnTo>
                              <a:pt x="3" y="74"/>
                            </a:lnTo>
                            <a:lnTo>
                              <a:pt x="5" y="77"/>
                            </a:lnTo>
                            <a:lnTo>
                              <a:pt x="7" y="78"/>
                            </a:lnTo>
                            <a:lnTo>
                              <a:pt x="8" y="74"/>
                            </a:lnTo>
                            <a:lnTo>
                              <a:pt x="9" y="72"/>
                            </a:lnTo>
                            <a:lnTo>
                              <a:pt x="11" y="68"/>
                            </a:lnTo>
                            <a:lnTo>
                              <a:pt x="13" y="64"/>
                            </a:lnTo>
                            <a:lnTo>
                              <a:pt x="14" y="61"/>
                            </a:lnTo>
                            <a:lnTo>
                              <a:pt x="16" y="58"/>
                            </a:lnTo>
                            <a:lnTo>
                              <a:pt x="18" y="56"/>
                            </a:lnTo>
                            <a:lnTo>
                              <a:pt x="21" y="56"/>
                            </a:lnTo>
                            <a:lnTo>
                              <a:pt x="24" y="56"/>
                            </a:lnTo>
                            <a:lnTo>
                              <a:pt x="28" y="56"/>
                            </a:lnTo>
                            <a:lnTo>
                              <a:pt x="31" y="55"/>
                            </a:lnTo>
                            <a:lnTo>
                              <a:pt x="34" y="55"/>
                            </a:lnTo>
                            <a:lnTo>
                              <a:pt x="35" y="52"/>
                            </a:lnTo>
                            <a:lnTo>
                              <a:pt x="37" y="50"/>
                            </a:lnTo>
                            <a:lnTo>
                              <a:pt x="39" y="47"/>
                            </a:lnTo>
                            <a:lnTo>
                              <a:pt x="40" y="45"/>
                            </a:lnTo>
                            <a:lnTo>
                              <a:pt x="41" y="41"/>
                            </a:lnTo>
                            <a:lnTo>
                              <a:pt x="43" y="39"/>
                            </a:lnTo>
                            <a:lnTo>
                              <a:pt x="44" y="36"/>
                            </a:lnTo>
                            <a:lnTo>
                              <a:pt x="45" y="34"/>
                            </a:lnTo>
                            <a:lnTo>
                              <a:pt x="47" y="31"/>
                            </a:lnTo>
                            <a:lnTo>
                              <a:pt x="49" y="30"/>
                            </a:lnTo>
                            <a:lnTo>
                              <a:pt x="51" y="29"/>
                            </a:lnTo>
                            <a:lnTo>
                              <a:pt x="54" y="29"/>
                            </a:lnTo>
                            <a:lnTo>
                              <a:pt x="57" y="30"/>
                            </a:lnTo>
                            <a:lnTo>
                              <a:pt x="60" y="29"/>
                            </a:lnTo>
                            <a:lnTo>
                              <a:pt x="62" y="28"/>
                            </a:lnTo>
                            <a:lnTo>
                              <a:pt x="65" y="27"/>
                            </a:lnTo>
                            <a:lnTo>
                              <a:pt x="67" y="25"/>
                            </a:lnTo>
                            <a:lnTo>
                              <a:pt x="69" y="23"/>
                            </a:lnTo>
                            <a:lnTo>
                              <a:pt x="73" y="20"/>
                            </a:lnTo>
                            <a:lnTo>
                              <a:pt x="75" y="19"/>
                            </a:lnTo>
                            <a:lnTo>
                              <a:pt x="79" y="19"/>
                            </a:lnTo>
                            <a:lnTo>
                              <a:pt x="84" y="19"/>
                            </a:lnTo>
                            <a:lnTo>
                              <a:pt x="85" y="18"/>
                            </a:lnTo>
                            <a:lnTo>
                              <a:pt x="88" y="18"/>
                            </a:lnTo>
                            <a:lnTo>
                              <a:pt x="90" y="17"/>
                            </a:lnTo>
                            <a:lnTo>
                              <a:pt x="92" y="17"/>
                            </a:lnTo>
                            <a:lnTo>
                              <a:pt x="93" y="22"/>
                            </a:lnTo>
                            <a:lnTo>
                              <a:pt x="94" y="26"/>
                            </a:lnTo>
                            <a:lnTo>
                              <a:pt x="95" y="29"/>
                            </a:lnTo>
                            <a:lnTo>
                              <a:pt x="97" y="33"/>
                            </a:lnTo>
                            <a:lnTo>
                              <a:pt x="108" y="5"/>
                            </a:lnTo>
                            <a:lnTo>
                              <a:pt x="105" y="5"/>
                            </a:lnTo>
                            <a:lnTo>
                              <a:pt x="102" y="4"/>
                            </a:lnTo>
                            <a:lnTo>
                              <a:pt x="99" y="4"/>
                            </a:lnTo>
                            <a:lnTo>
                              <a:pt x="97" y="3"/>
                            </a:lnTo>
                            <a:lnTo>
                              <a:pt x="94" y="2"/>
                            </a:lnTo>
                            <a:lnTo>
                              <a:pt x="92" y="1"/>
                            </a:lnTo>
                            <a:lnTo>
                              <a:pt x="89" y="0"/>
                            </a:lnTo>
                            <a:lnTo>
                              <a:pt x="87" y="0"/>
                            </a:lnTo>
                            <a:lnTo>
                              <a:pt x="87" y="2"/>
                            </a:lnTo>
                            <a:lnTo>
                              <a:pt x="88" y="5"/>
                            </a:lnTo>
                            <a:lnTo>
                              <a:pt x="89" y="10"/>
                            </a:lnTo>
                            <a:lnTo>
                              <a:pt x="90" y="13"/>
                            </a:lnTo>
                            <a:lnTo>
                              <a:pt x="90" y="13"/>
                            </a:lnTo>
                            <a:close/>
                          </a:path>
                        </a:pathLst>
                      </a:custGeom>
                      <a:solidFill>
                        <a:srgbClr val="3be3ad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9" name=""/>
                      <p:cNvSpPr/>
                      <p:nvPr/>
                    </p:nvSpPr>
                    <p:spPr>
                      <a:xfrm>
                        <a:off x="3426120" y="5265720"/>
                        <a:ext cx="4572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59">
                            <a:moveTo>
                              <a:pt x="23" y="0"/>
                            </a:moveTo>
                            <a:lnTo>
                              <a:pt x="5" y="22"/>
                            </a:lnTo>
                            <a:lnTo>
                              <a:pt x="0" y="47"/>
                            </a:lnTo>
                            <a:lnTo>
                              <a:pt x="26" y="53"/>
                            </a:lnTo>
                            <a:lnTo>
                              <a:pt x="46" y="54"/>
                            </a:lnTo>
                            <a:lnTo>
                              <a:pt x="57" y="59"/>
                            </a:lnTo>
                            <a:lnTo>
                              <a:pt x="62" y="47"/>
                            </a:lnTo>
                            <a:lnTo>
                              <a:pt x="72" y="1"/>
                            </a:lnTo>
                            <a:lnTo>
                              <a:pt x="23" y="0"/>
                            </a:lnTo>
                            <a:lnTo>
                              <a:pt x="23" y="0"/>
                            </a:lnTo>
                            <a:close/>
                          </a:path>
                        </a:pathLst>
                      </a:custGeom>
                      <a:solidFill>
                        <a:srgbClr val="edb39e"/>
                      </a:solidFill>
                      <a:ln w="936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0" name=""/>
                      <p:cNvSpPr/>
                      <p:nvPr/>
                    </p:nvSpPr>
                    <p:spPr>
                      <a:xfrm>
                        <a:off x="3186720" y="5254560"/>
                        <a:ext cx="10260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47">
                            <a:moveTo>
                              <a:pt x="1" y="0"/>
                            </a:moveTo>
                            <a:lnTo>
                              <a:pt x="4" y="2"/>
                            </a:lnTo>
                            <a:lnTo>
                              <a:pt x="8" y="6"/>
                            </a:lnTo>
                            <a:lnTo>
                              <a:pt x="11" y="8"/>
                            </a:lnTo>
                            <a:lnTo>
                              <a:pt x="14" y="11"/>
                            </a:lnTo>
                            <a:lnTo>
                              <a:pt x="18" y="12"/>
                            </a:lnTo>
                            <a:lnTo>
                              <a:pt x="22" y="14"/>
                            </a:lnTo>
                            <a:lnTo>
                              <a:pt x="27" y="15"/>
                            </a:lnTo>
                            <a:lnTo>
                              <a:pt x="31" y="18"/>
                            </a:lnTo>
                            <a:lnTo>
                              <a:pt x="34" y="18"/>
                            </a:lnTo>
                            <a:lnTo>
                              <a:pt x="39" y="19"/>
                            </a:lnTo>
                            <a:lnTo>
                              <a:pt x="41" y="19"/>
                            </a:lnTo>
                            <a:lnTo>
                              <a:pt x="43" y="19"/>
                            </a:lnTo>
                            <a:lnTo>
                              <a:pt x="45" y="19"/>
                            </a:lnTo>
                            <a:lnTo>
                              <a:pt x="48" y="19"/>
                            </a:lnTo>
                            <a:lnTo>
                              <a:pt x="50" y="18"/>
                            </a:lnTo>
                            <a:lnTo>
                              <a:pt x="52" y="18"/>
                            </a:lnTo>
                            <a:lnTo>
                              <a:pt x="55" y="17"/>
                            </a:lnTo>
                            <a:lnTo>
                              <a:pt x="57" y="15"/>
                            </a:lnTo>
                            <a:lnTo>
                              <a:pt x="59" y="15"/>
                            </a:lnTo>
                            <a:lnTo>
                              <a:pt x="62" y="14"/>
                            </a:lnTo>
                            <a:lnTo>
                              <a:pt x="66" y="13"/>
                            </a:lnTo>
                            <a:lnTo>
                              <a:pt x="69" y="12"/>
                            </a:lnTo>
                            <a:lnTo>
                              <a:pt x="71" y="11"/>
                            </a:lnTo>
                            <a:lnTo>
                              <a:pt x="74" y="10"/>
                            </a:lnTo>
                            <a:lnTo>
                              <a:pt x="76" y="9"/>
                            </a:lnTo>
                            <a:lnTo>
                              <a:pt x="79" y="9"/>
                            </a:lnTo>
                            <a:lnTo>
                              <a:pt x="81" y="9"/>
                            </a:lnTo>
                            <a:lnTo>
                              <a:pt x="84" y="9"/>
                            </a:lnTo>
                            <a:lnTo>
                              <a:pt x="86" y="10"/>
                            </a:lnTo>
                            <a:lnTo>
                              <a:pt x="88" y="11"/>
                            </a:lnTo>
                            <a:lnTo>
                              <a:pt x="91" y="13"/>
                            </a:lnTo>
                            <a:lnTo>
                              <a:pt x="95" y="17"/>
                            </a:lnTo>
                            <a:lnTo>
                              <a:pt x="96" y="19"/>
                            </a:lnTo>
                            <a:lnTo>
                              <a:pt x="97" y="21"/>
                            </a:lnTo>
                            <a:lnTo>
                              <a:pt x="98" y="24"/>
                            </a:lnTo>
                            <a:lnTo>
                              <a:pt x="100" y="26"/>
                            </a:lnTo>
                            <a:lnTo>
                              <a:pt x="102" y="29"/>
                            </a:lnTo>
                            <a:lnTo>
                              <a:pt x="105" y="30"/>
                            </a:lnTo>
                            <a:lnTo>
                              <a:pt x="108" y="30"/>
                            </a:lnTo>
                            <a:lnTo>
                              <a:pt x="110" y="30"/>
                            </a:lnTo>
                            <a:lnTo>
                              <a:pt x="112" y="28"/>
                            </a:lnTo>
                            <a:lnTo>
                              <a:pt x="114" y="26"/>
                            </a:lnTo>
                            <a:lnTo>
                              <a:pt x="117" y="23"/>
                            </a:lnTo>
                            <a:lnTo>
                              <a:pt x="119" y="21"/>
                            </a:lnTo>
                            <a:lnTo>
                              <a:pt x="121" y="18"/>
                            </a:lnTo>
                            <a:lnTo>
                              <a:pt x="122" y="14"/>
                            </a:lnTo>
                            <a:lnTo>
                              <a:pt x="124" y="12"/>
                            </a:lnTo>
                            <a:lnTo>
                              <a:pt x="127" y="10"/>
                            </a:lnTo>
                            <a:lnTo>
                              <a:pt x="129" y="7"/>
                            </a:lnTo>
                            <a:lnTo>
                              <a:pt x="131" y="7"/>
                            </a:lnTo>
                            <a:lnTo>
                              <a:pt x="134" y="6"/>
                            </a:lnTo>
                            <a:lnTo>
                              <a:pt x="137" y="6"/>
                            </a:lnTo>
                            <a:lnTo>
                              <a:pt x="139" y="6"/>
                            </a:lnTo>
                            <a:lnTo>
                              <a:pt x="142" y="7"/>
                            </a:lnTo>
                            <a:lnTo>
                              <a:pt x="144" y="7"/>
                            </a:lnTo>
                            <a:lnTo>
                              <a:pt x="146" y="9"/>
                            </a:lnTo>
                            <a:lnTo>
                              <a:pt x="149" y="11"/>
                            </a:lnTo>
                            <a:lnTo>
                              <a:pt x="151" y="13"/>
                            </a:lnTo>
                            <a:lnTo>
                              <a:pt x="153" y="17"/>
                            </a:lnTo>
                            <a:lnTo>
                              <a:pt x="155" y="19"/>
                            </a:lnTo>
                            <a:lnTo>
                              <a:pt x="158" y="25"/>
                            </a:lnTo>
                            <a:lnTo>
                              <a:pt x="156" y="23"/>
                            </a:lnTo>
                            <a:lnTo>
                              <a:pt x="154" y="22"/>
                            </a:lnTo>
                            <a:lnTo>
                              <a:pt x="152" y="20"/>
                            </a:lnTo>
                            <a:lnTo>
                              <a:pt x="150" y="19"/>
                            </a:lnTo>
                            <a:lnTo>
                              <a:pt x="146" y="17"/>
                            </a:lnTo>
                            <a:lnTo>
                              <a:pt x="144" y="15"/>
                            </a:lnTo>
                            <a:lnTo>
                              <a:pt x="141" y="14"/>
                            </a:lnTo>
                            <a:lnTo>
                              <a:pt x="138" y="15"/>
                            </a:lnTo>
                            <a:lnTo>
                              <a:pt x="135" y="14"/>
                            </a:lnTo>
                            <a:lnTo>
                              <a:pt x="133" y="15"/>
                            </a:lnTo>
                            <a:lnTo>
                              <a:pt x="130" y="18"/>
                            </a:lnTo>
                            <a:lnTo>
                              <a:pt x="128" y="20"/>
                            </a:lnTo>
                            <a:lnTo>
                              <a:pt x="126" y="22"/>
                            </a:lnTo>
                            <a:lnTo>
                              <a:pt x="124" y="25"/>
                            </a:lnTo>
                            <a:lnTo>
                              <a:pt x="122" y="29"/>
                            </a:lnTo>
                            <a:lnTo>
                              <a:pt x="121" y="33"/>
                            </a:lnTo>
                            <a:lnTo>
                              <a:pt x="119" y="35"/>
                            </a:lnTo>
                            <a:lnTo>
                              <a:pt x="117" y="39"/>
                            </a:lnTo>
                            <a:lnTo>
                              <a:pt x="115" y="42"/>
                            </a:lnTo>
                            <a:lnTo>
                              <a:pt x="114" y="44"/>
                            </a:lnTo>
                            <a:lnTo>
                              <a:pt x="112" y="46"/>
                            </a:lnTo>
                            <a:lnTo>
                              <a:pt x="110" y="47"/>
                            </a:lnTo>
                            <a:lnTo>
                              <a:pt x="107" y="47"/>
                            </a:lnTo>
                            <a:lnTo>
                              <a:pt x="104" y="47"/>
                            </a:lnTo>
                            <a:lnTo>
                              <a:pt x="102" y="47"/>
                            </a:lnTo>
                            <a:lnTo>
                              <a:pt x="100" y="46"/>
                            </a:lnTo>
                            <a:lnTo>
                              <a:pt x="98" y="45"/>
                            </a:lnTo>
                            <a:lnTo>
                              <a:pt x="97" y="44"/>
                            </a:lnTo>
                            <a:lnTo>
                              <a:pt x="95" y="41"/>
                            </a:lnTo>
                            <a:lnTo>
                              <a:pt x="94" y="39"/>
                            </a:lnTo>
                            <a:lnTo>
                              <a:pt x="93" y="36"/>
                            </a:lnTo>
                            <a:lnTo>
                              <a:pt x="92" y="33"/>
                            </a:lnTo>
                            <a:lnTo>
                              <a:pt x="90" y="31"/>
                            </a:lnTo>
                            <a:lnTo>
                              <a:pt x="89" y="28"/>
                            </a:lnTo>
                            <a:lnTo>
                              <a:pt x="88" y="25"/>
                            </a:lnTo>
                            <a:lnTo>
                              <a:pt x="87" y="23"/>
                            </a:lnTo>
                            <a:lnTo>
                              <a:pt x="84" y="21"/>
                            </a:lnTo>
                            <a:lnTo>
                              <a:pt x="80" y="21"/>
                            </a:lnTo>
                            <a:lnTo>
                              <a:pt x="77" y="21"/>
                            </a:lnTo>
                            <a:lnTo>
                              <a:pt x="74" y="22"/>
                            </a:lnTo>
                            <a:lnTo>
                              <a:pt x="71" y="22"/>
                            </a:lnTo>
                            <a:lnTo>
                              <a:pt x="69" y="23"/>
                            </a:lnTo>
                            <a:lnTo>
                              <a:pt x="66" y="23"/>
                            </a:lnTo>
                            <a:lnTo>
                              <a:pt x="63" y="24"/>
                            </a:lnTo>
                            <a:lnTo>
                              <a:pt x="60" y="24"/>
                            </a:lnTo>
                            <a:lnTo>
                              <a:pt x="57" y="25"/>
                            </a:lnTo>
                            <a:lnTo>
                              <a:pt x="55" y="25"/>
                            </a:lnTo>
                            <a:lnTo>
                              <a:pt x="52" y="25"/>
                            </a:lnTo>
                            <a:lnTo>
                              <a:pt x="49" y="26"/>
                            </a:lnTo>
                            <a:lnTo>
                              <a:pt x="47" y="26"/>
                            </a:lnTo>
                            <a:lnTo>
                              <a:pt x="44" y="26"/>
                            </a:lnTo>
                            <a:lnTo>
                              <a:pt x="41" y="26"/>
                            </a:lnTo>
                            <a:lnTo>
                              <a:pt x="39" y="26"/>
                            </a:lnTo>
                            <a:lnTo>
                              <a:pt x="36" y="26"/>
                            </a:lnTo>
                            <a:lnTo>
                              <a:pt x="34" y="26"/>
                            </a:lnTo>
                            <a:lnTo>
                              <a:pt x="31" y="25"/>
                            </a:lnTo>
                            <a:lnTo>
                              <a:pt x="29" y="24"/>
                            </a:lnTo>
                            <a:lnTo>
                              <a:pt x="27" y="24"/>
                            </a:lnTo>
                            <a:lnTo>
                              <a:pt x="24" y="23"/>
                            </a:lnTo>
                            <a:lnTo>
                              <a:pt x="21" y="22"/>
                            </a:lnTo>
                            <a:lnTo>
                              <a:pt x="19" y="20"/>
                            </a:lnTo>
                            <a:lnTo>
                              <a:pt x="17" y="19"/>
                            </a:lnTo>
                            <a:lnTo>
                              <a:pt x="14" y="18"/>
                            </a:lnTo>
                            <a:lnTo>
                              <a:pt x="12" y="15"/>
                            </a:lnTo>
                            <a:lnTo>
                              <a:pt x="10" y="13"/>
                            </a:lnTo>
                            <a:lnTo>
                              <a:pt x="8" y="12"/>
                            </a:lnTo>
                            <a:lnTo>
                              <a:pt x="4" y="9"/>
                            </a:lnTo>
                            <a:lnTo>
                              <a:pt x="1" y="5"/>
                            </a:lnTo>
                            <a:lnTo>
                              <a:pt x="0" y="2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dea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1" name=""/>
                      <p:cNvSpPr/>
                      <p:nvPr/>
                    </p:nvSpPr>
                    <p:spPr>
                      <a:xfrm>
                        <a:off x="3121560" y="5270040"/>
                        <a:ext cx="529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60">
                            <a:moveTo>
                              <a:pt x="0" y="11"/>
                            </a:moveTo>
                            <a:lnTo>
                              <a:pt x="13" y="59"/>
                            </a:lnTo>
                            <a:lnTo>
                              <a:pt x="15" y="60"/>
                            </a:lnTo>
                            <a:lnTo>
                              <a:pt x="52" y="56"/>
                            </a:lnTo>
                            <a:lnTo>
                              <a:pt x="81" y="51"/>
                            </a:lnTo>
                            <a:lnTo>
                              <a:pt x="79" y="40"/>
                            </a:lnTo>
                            <a:lnTo>
                              <a:pt x="56" y="0"/>
                            </a:lnTo>
                            <a:lnTo>
                              <a:pt x="31" y="3"/>
                            </a:lnTo>
                            <a:lnTo>
                              <a:pt x="0" y="11"/>
                            </a:lnTo>
                            <a:lnTo>
                              <a:pt x="0" y="11"/>
                            </a:lnTo>
                            <a:close/>
                          </a:path>
                        </a:pathLst>
                      </a:custGeom>
                      <a:solidFill>
                        <a:srgbClr val="ffc2b3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3418920" y="5271840"/>
                        <a:ext cx="5292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54">
                            <a:moveTo>
                              <a:pt x="26" y="2"/>
                            </a:moveTo>
                            <a:lnTo>
                              <a:pt x="14" y="31"/>
                            </a:lnTo>
                            <a:lnTo>
                              <a:pt x="48" y="36"/>
                            </a:lnTo>
                            <a:lnTo>
                              <a:pt x="68" y="42"/>
                            </a:lnTo>
                            <a:lnTo>
                              <a:pt x="78" y="3"/>
                            </a:lnTo>
                            <a:lnTo>
                              <a:pt x="82" y="0"/>
                            </a:lnTo>
                            <a:lnTo>
                              <a:pt x="73" y="48"/>
                            </a:lnTo>
                            <a:lnTo>
                              <a:pt x="66" y="54"/>
                            </a:lnTo>
                            <a:lnTo>
                              <a:pt x="65" y="54"/>
                            </a:lnTo>
                            <a:lnTo>
                              <a:pt x="62" y="52"/>
                            </a:lnTo>
                            <a:lnTo>
                              <a:pt x="60" y="52"/>
                            </a:lnTo>
                            <a:lnTo>
                              <a:pt x="58" y="52"/>
                            </a:lnTo>
                            <a:lnTo>
                              <a:pt x="55" y="51"/>
                            </a:lnTo>
                            <a:lnTo>
                              <a:pt x="53" y="51"/>
                            </a:lnTo>
                            <a:lnTo>
                              <a:pt x="51" y="51"/>
                            </a:lnTo>
                            <a:lnTo>
                              <a:pt x="48" y="51"/>
                            </a:lnTo>
                            <a:lnTo>
                              <a:pt x="45" y="50"/>
                            </a:lnTo>
                            <a:lnTo>
                              <a:pt x="43" y="50"/>
                            </a:lnTo>
                            <a:lnTo>
                              <a:pt x="41" y="50"/>
                            </a:lnTo>
                            <a:lnTo>
                              <a:pt x="37" y="49"/>
                            </a:lnTo>
                            <a:lnTo>
                              <a:pt x="36" y="49"/>
                            </a:lnTo>
                            <a:lnTo>
                              <a:pt x="34" y="49"/>
                            </a:lnTo>
                            <a:lnTo>
                              <a:pt x="32" y="49"/>
                            </a:lnTo>
                            <a:lnTo>
                              <a:pt x="31" y="49"/>
                            </a:lnTo>
                            <a:lnTo>
                              <a:pt x="28" y="49"/>
                            </a:lnTo>
                            <a:lnTo>
                              <a:pt x="26" y="49"/>
                            </a:lnTo>
                            <a:lnTo>
                              <a:pt x="24" y="48"/>
                            </a:lnTo>
                            <a:lnTo>
                              <a:pt x="22" y="48"/>
                            </a:lnTo>
                            <a:lnTo>
                              <a:pt x="19" y="48"/>
                            </a:lnTo>
                            <a:lnTo>
                              <a:pt x="17" y="48"/>
                            </a:lnTo>
                            <a:lnTo>
                              <a:pt x="15" y="48"/>
                            </a:lnTo>
                            <a:lnTo>
                              <a:pt x="12" y="48"/>
                            </a:lnTo>
                            <a:lnTo>
                              <a:pt x="10" y="48"/>
                            </a:lnTo>
                            <a:lnTo>
                              <a:pt x="9" y="48"/>
                            </a:lnTo>
                            <a:lnTo>
                              <a:pt x="7" y="48"/>
                            </a:lnTo>
                            <a:lnTo>
                              <a:pt x="6" y="48"/>
                            </a:lnTo>
                            <a:lnTo>
                              <a:pt x="0" y="33"/>
                            </a:lnTo>
                            <a:lnTo>
                              <a:pt x="22" y="0"/>
                            </a:lnTo>
                            <a:lnTo>
                              <a:pt x="26" y="2"/>
                            </a:lnTo>
                            <a:lnTo>
                              <a:pt x="26" y="2"/>
                            </a:lnTo>
                            <a:close/>
                          </a:path>
                        </a:pathLst>
                      </a:custGeom>
                      <a:solidFill>
                        <a:srgbClr val="f2a3b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3132720" y="5275440"/>
                        <a:ext cx="223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18">
                            <a:moveTo>
                              <a:pt x="0" y="3"/>
                            </a:moveTo>
                            <a:lnTo>
                              <a:pt x="2" y="16"/>
                            </a:lnTo>
                            <a:lnTo>
                              <a:pt x="14" y="18"/>
                            </a:lnTo>
                            <a:lnTo>
                              <a:pt x="27" y="17"/>
                            </a:lnTo>
                            <a:lnTo>
                              <a:pt x="28" y="16"/>
                            </a:lnTo>
                            <a:lnTo>
                              <a:pt x="30" y="13"/>
                            </a:lnTo>
                            <a:lnTo>
                              <a:pt x="32" y="9"/>
                            </a:lnTo>
                            <a:lnTo>
                              <a:pt x="34" y="6"/>
                            </a:lnTo>
                            <a:lnTo>
                              <a:pt x="34" y="4"/>
                            </a:lnTo>
                            <a:lnTo>
                              <a:pt x="34" y="2"/>
                            </a:lnTo>
                            <a:lnTo>
                              <a:pt x="34" y="0"/>
                            </a:lnTo>
                            <a:lnTo>
                              <a:pt x="34" y="0"/>
                            </a:lnTo>
                            <a:lnTo>
                              <a:pt x="9" y="0"/>
                            </a:lnTo>
                            <a:lnTo>
                              <a:pt x="0" y="3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2c96b"/>
                      </a:solidFill>
                      <a:ln w="936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4" name=""/>
                      <p:cNvSpPr/>
                      <p:nvPr/>
                    </p:nvSpPr>
                    <p:spPr>
                      <a:xfrm>
                        <a:off x="3132720" y="5275440"/>
                        <a:ext cx="3024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23">
                            <a:moveTo>
                              <a:pt x="46" y="3"/>
                            </a:moveTo>
                            <a:lnTo>
                              <a:pt x="45" y="3"/>
                            </a:lnTo>
                            <a:lnTo>
                              <a:pt x="45" y="5"/>
                            </a:lnTo>
                            <a:lnTo>
                              <a:pt x="44" y="7"/>
                            </a:lnTo>
                            <a:lnTo>
                              <a:pt x="43" y="10"/>
                            </a:lnTo>
                            <a:lnTo>
                              <a:pt x="41" y="13"/>
                            </a:lnTo>
                            <a:lnTo>
                              <a:pt x="39" y="15"/>
                            </a:lnTo>
                            <a:lnTo>
                              <a:pt x="37" y="16"/>
                            </a:lnTo>
                            <a:lnTo>
                              <a:pt x="35" y="17"/>
                            </a:lnTo>
                            <a:lnTo>
                              <a:pt x="33" y="18"/>
                            </a:lnTo>
                            <a:lnTo>
                              <a:pt x="31" y="20"/>
                            </a:lnTo>
                            <a:lnTo>
                              <a:pt x="29" y="21"/>
                            </a:lnTo>
                            <a:lnTo>
                              <a:pt x="26" y="21"/>
                            </a:lnTo>
                            <a:lnTo>
                              <a:pt x="24" y="21"/>
                            </a:lnTo>
                            <a:lnTo>
                              <a:pt x="21" y="22"/>
                            </a:lnTo>
                            <a:lnTo>
                              <a:pt x="17" y="22"/>
                            </a:lnTo>
                            <a:lnTo>
                              <a:pt x="14" y="23"/>
                            </a:lnTo>
                            <a:lnTo>
                              <a:pt x="9" y="23"/>
                            </a:lnTo>
                            <a:lnTo>
                              <a:pt x="7" y="23"/>
                            </a:lnTo>
                            <a:lnTo>
                              <a:pt x="5" y="23"/>
                            </a:lnTo>
                            <a:lnTo>
                              <a:pt x="5" y="23"/>
                            </a:lnTo>
                            <a:lnTo>
                              <a:pt x="4" y="21"/>
                            </a:lnTo>
                            <a:lnTo>
                              <a:pt x="3" y="20"/>
                            </a:lnTo>
                            <a:lnTo>
                              <a:pt x="2" y="16"/>
                            </a:lnTo>
                            <a:lnTo>
                              <a:pt x="1" y="14"/>
                            </a:lnTo>
                            <a:lnTo>
                              <a:pt x="0" y="12"/>
                            </a:lnTo>
                            <a:lnTo>
                              <a:pt x="0" y="10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lnTo>
                              <a:pt x="1" y="9"/>
                            </a:lnTo>
                            <a:lnTo>
                              <a:pt x="2" y="11"/>
                            </a:lnTo>
                            <a:lnTo>
                              <a:pt x="5" y="13"/>
                            </a:lnTo>
                            <a:lnTo>
                              <a:pt x="8" y="14"/>
                            </a:lnTo>
                            <a:lnTo>
                              <a:pt x="13" y="15"/>
                            </a:lnTo>
                            <a:lnTo>
                              <a:pt x="16" y="15"/>
                            </a:lnTo>
                            <a:lnTo>
                              <a:pt x="18" y="14"/>
                            </a:lnTo>
                            <a:lnTo>
                              <a:pt x="21" y="13"/>
                            </a:lnTo>
                            <a:lnTo>
                              <a:pt x="24" y="12"/>
                            </a:lnTo>
                            <a:lnTo>
                              <a:pt x="26" y="7"/>
                            </a:lnTo>
                            <a:lnTo>
                              <a:pt x="28" y="4"/>
                            </a:lnTo>
                            <a:lnTo>
                              <a:pt x="29" y="1"/>
                            </a:lnTo>
                            <a:lnTo>
                              <a:pt x="30" y="0"/>
                            </a:lnTo>
                            <a:lnTo>
                              <a:pt x="38" y="1"/>
                            </a:lnTo>
                            <a:lnTo>
                              <a:pt x="46" y="3"/>
                            </a:lnTo>
                            <a:lnTo>
                              <a:pt x="46" y="3"/>
                            </a:lnTo>
                            <a:close/>
                          </a:path>
                        </a:pathLst>
                      </a:custGeom>
                      <a:solidFill>
                        <a:srgbClr val="edb3c4"/>
                      </a:solidFill>
                      <a:ln w="936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3121560" y="5275440"/>
                        <a:ext cx="55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1">
                            <a:moveTo>
                              <a:pt x="53" y="1"/>
                            </a:moveTo>
                            <a:lnTo>
                              <a:pt x="76" y="35"/>
                            </a:lnTo>
                            <a:lnTo>
                              <a:pt x="39" y="46"/>
                            </a:lnTo>
                            <a:lnTo>
                              <a:pt x="17" y="52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0" y="56"/>
                            </a:lnTo>
                            <a:lnTo>
                              <a:pt x="18" y="61"/>
                            </a:lnTo>
                            <a:lnTo>
                              <a:pt x="18" y="61"/>
                            </a:lnTo>
                            <a:lnTo>
                              <a:pt x="21" y="60"/>
                            </a:lnTo>
                            <a:lnTo>
                              <a:pt x="23" y="59"/>
                            </a:lnTo>
                            <a:lnTo>
                              <a:pt x="25" y="59"/>
                            </a:lnTo>
                            <a:lnTo>
                              <a:pt x="29" y="58"/>
                            </a:lnTo>
                            <a:lnTo>
                              <a:pt x="32" y="58"/>
                            </a:lnTo>
                            <a:lnTo>
                              <a:pt x="34" y="57"/>
                            </a:lnTo>
                            <a:lnTo>
                              <a:pt x="37" y="57"/>
                            </a:lnTo>
                            <a:lnTo>
                              <a:pt x="39" y="56"/>
                            </a:lnTo>
                            <a:lnTo>
                              <a:pt x="42" y="55"/>
                            </a:lnTo>
                            <a:lnTo>
                              <a:pt x="44" y="55"/>
                            </a:lnTo>
                            <a:lnTo>
                              <a:pt x="47" y="53"/>
                            </a:lnTo>
                            <a:lnTo>
                              <a:pt x="49" y="53"/>
                            </a:lnTo>
                            <a:lnTo>
                              <a:pt x="51" y="53"/>
                            </a:lnTo>
                            <a:lnTo>
                              <a:pt x="52" y="53"/>
                            </a:lnTo>
                            <a:lnTo>
                              <a:pt x="54" y="52"/>
                            </a:lnTo>
                            <a:lnTo>
                              <a:pt x="57" y="52"/>
                            </a:lnTo>
                            <a:lnTo>
                              <a:pt x="59" y="52"/>
                            </a:lnTo>
                            <a:lnTo>
                              <a:pt x="61" y="52"/>
                            </a:lnTo>
                            <a:lnTo>
                              <a:pt x="64" y="53"/>
                            </a:lnTo>
                            <a:lnTo>
                              <a:pt x="67" y="53"/>
                            </a:lnTo>
                            <a:lnTo>
                              <a:pt x="71" y="53"/>
                            </a:lnTo>
                            <a:lnTo>
                              <a:pt x="73" y="53"/>
                            </a:lnTo>
                            <a:lnTo>
                              <a:pt x="75" y="55"/>
                            </a:lnTo>
                            <a:lnTo>
                              <a:pt x="77" y="55"/>
                            </a:lnTo>
                            <a:lnTo>
                              <a:pt x="79" y="55"/>
                            </a:lnTo>
                            <a:lnTo>
                              <a:pt x="82" y="55"/>
                            </a:lnTo>
                            <a:lnTo>
                              <a:pt x="83" y="56"/>
                            </a:lnTo>
                            <a:lnTo>
                              <a:pt x="86" y="42"/>
                            </a:lnTo>
                            <a:lnTo>
                              <a:pt x="64" y="4"/>
                            </a:lnTo>
                            <a:lnTo>
                              <a:pt x="53" y="1"/>
                            </a:lnTo>
                            <a:lnTo>
                              <a:pt x="53" y="1"/>
                            </a:lnTo>
                            <a:close/>
                          </a:path>
                        </a:pathLst>
                      </a:custGeom>
                      <a:solidFill>
                        <a:srgbClr val="edb3c4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6" name=""/>
                      <p:cNvSpPr/>
                      <p:nvPr/>
                    </p:nvSpPr>
                    <p:spPr>
                      <a:xfrm>
                        <a:off x="3120480" y="5196600"/>
                        <a:ext cx="6120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4">
                            <a:moveTo>
                              <a:pt x="0" y="4"/>
                            </a:moveTo>
                            <a:lnTo>
                              <a:pt x="3" y="3"/>
                            </a:lnTo>
                            <a:lnTo>
                              <a:pt x="8" y="2"/>
                            </a:lnTo>
                            <a:lnTo>
                              <a:pt x="12" y="1"/>
                            </a:lnTo>
                            <a:lnTo>
                              <a:pt x="16" y="1"/>
                            </a:lnTo>
                            <a:lnTo>
                              <a:pt x="20" y="1"/>
                            </a:lnTo>
                            <a:lnTo>
                              <a:pt x="25" y="0"/>
                            </a:lnTo>
                            <a:lnTo>
                              <a:pt x="27" y="0"/>
                            </a:lnTo>
                            <a:lnTo>
                              <a:pt x="29" y="0"/>
                            </a:lnTo>
                            <a:lnTo>
                              <a:pt x="32" y="0"/>
                            </a:lnTo>
                            <a:lnTo>
                              <a:pt x="34" y="0"/>
                            </a:lnTo>
                            <a:lnTo>
                              <a:pt x="38" y="0"/>
                            </a:lnTo>
                            <a:lnTo>
                              <a:pt x="42" y="0"/>
                            </a:lnTo>
                            <a:lnTo>
                              <a:pt x="46" y="0"/>
                            </a:lnTo>
                            <a:lnTo>
                              <a:pt x="50" y="0"/>
                            </a:lnTo>
                            <a:lnTo>
                              <a:pt x="53" y="0"/>
                            </a:lnTo>
                            <a:lnTo>
                              <a:pt x="57" y="1"/>
                            </a:lnTo>
                            <a:lnTo>
                              <a:pt x="60" y="1"/>
                            </a:lnTo>
                            <a:lnTo>
                              <a:pt x="63" y="2"/>
                            </a:lnTo>
                            <a:lnTo>
                              <a:pt x="64" y="3"/>
                            </a:lnTo>
                            <a:lnTo>
                              <a:pt x="66" y="4"/>
                            </a:lnTo>
                            <a:lnTo>
                              <a:pt x="68" y="7"/>
                            </a:lnTo>
                            <a:lnTo>
                              <a:pt x="70" y="8"/>
                            </a:lnTo>
                            <a:lnTo>
                              <a:pt x="74" y="11"/>
                            </a:lnTo>
                            <a:lnTo>
                              <a:pt x="77" y="13"/>
                            </a:lnTo>
                            <a:lnTo>
                              <a:pt x="80" y="16"/>
                            </a:lnTo>
                            <a:lnTo>
                              <a:pt x="83" y="19"/>
                            </a:lnTo>
                            <a:lnTo>
                              <a:pt x="86" y="22"/>
                            </a:lnTo>
                            <a:lnTo>
                              <a:pt x="88" y="25"/>
                            </a:lnTo>
                            <a:lnTo>
                              <a:pt x="91" y="28"/>
                            </a:lnTo>
                            <a:lnTo>
                              <a:pt x="93" y="31"/>
                            </a:lnTo>
                            <a:lnTo>
                              <a:pt x="94" y="34"/>
                            </a:lnTo>
                            <a:lnTo>
                              <a:pt x="95" y="36"/>
                            </a:lnTo>
                            <a:lnTo>
                              <a:pt x="95" y="39"/>
                            </a:lnTo>
                            <a:lnTo>
                              <a:pt x="94" y="41"/>
                            </a:lnTo>
                            <a:lnTo>
                              <a:pt x="92" y="43"/>
                            </a:lnTo>
                            <a:lnTo>
                              <a:pt x="89" y="44"/>
                            </a:lnTo>
                            <a:lnTo>
                              <a:pt x="87" y="45"/>
                            </a:lnTo>
                            <a:lnTo>
                              <a:pt x="84" y="46"/>
                            </a:lnTo>
                            <a:lnTo>
                              <a:pt x="80" y="47"/>
                            </a:lnTo>
                            <a:lnTo>
                              <a:pt x="77" y="48"/>
                            </a:lnTo>
                            <a:lnTo>
                              <a:pt x="73" y="49"/>
                            </a:lnTo>
                            <a:lnTo>
                              <a:pt x="68" y="50"/>
                            </a:lnTo>
                            <a:lnTo>
                              <a:pt x="65" y="50"/>
                            </a:lnTo>
                            <a:lnTo>
                              <a:pt x="61" y="52"/>
                            </a:lnTo>
                            <a:lnTo>
                              <a:pt x="59" y="52"/>
                            </a:lnTo>
                            <a:lnTo>
                              <a:pt x="56" y="53"/>
                            </a:lnTo>
                            <a:lnTo>
                              <a:pt x="54" y="53"/>
                            </a:lnTo>
                            <a:lnTo>
                              <a:pt x="53" y="53"/>
                            </a:lnTo>
                            <a:lnTo>
                              <a:pt x="53" y="54"/>
                            </a:lnTo>
                            <a:lnTo>
                              <a:pt x="26" y="3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2c96b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7" name=""/>
                      <p:cNvSpPr/>
                      <p:nvPr/>
                    </p:nvSpPr>
                    <p:spPr>
                      <a:xfrm>
                        <a:off x="3439440" y="5267520"/>
                        <a:ext cx="2556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22">
                            <a:moveTo>
                              <a:pt x="0" y="10"/>
                            </a:moveTo>
                            <a:lnTo>
                              <a:pt x="12" y="22"/>
                            </a:lnTo>
                            <a:lnTo>
                              <a:pt x="35" y="22"/>
                            </a:lnTo>
                            <a:lnTo>
                              <a:pt x="39" y="7"/>
                            </a:lnTo>
                            <a:lnTo>
                              <a:pt x="1" y="0"/>
                            </a:lnTo>
                            <a:lnTo>
                              <a:pt x="0" y="10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dea6a6"/>
                      </a:solidFill>
                      <a:ln w="936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8" name=""/>
                      <p:cNvSpPr/>
                      <p:nvPr/>
                    </p:nvSpPr>
                    <p:spPr>
                      <a:xfrm>
                        <a:off x="3436200" y="5268600"/>
                        <a:ext cx="2844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2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1" y="5"/>
                            </a:lnTo>
                            <a:lnTo>
                              <a:pt x="1" y="8"/>
                            </a:lnTo>
                            <a:lnTo>
                              <a:pt x="2" y="11"/>
                            </a:lnTo>
                            <a:lnTo>
                              <a:pt x="3" y="15"/>
                            </a:lnTo>
                            <a:lnTo>
                              <a:pt x="5" y="18"/>
                            </a:lnTo>
                            <a:lnTo>
                              <a:pt x="6" y="20"/>
                            </a:lnTo>
                            <a:lnTo>
                              <a:pt x="9" y="20"/>
                            </a:lnTo>
                            <a:lnTo>
                              <a:pt x="14" y="21"/>
                            </a:lnTo>
                            <a:lnTo>
                              <a:pt x="16" y="21"/>
                            </a:lnTo>
                            <a:lnTo>
                              <a:pt x="18" y="21"/>
                            </a:lnTo>
                            <a:lnTo>
                              <a:pt x="21" y="21"/>
                            </a:lnTo>
                            <a:lnTo>
                              <a:pt x="24" y="22"/>
                            </a:lnTo>
                            <a:lnTo>
                              <a:pt x="26" y="21"/>
                            </a:lnTo>
                            <a:lnTo>
                              <a:pt x="29" y="21"/>
                            </a:lnTo>
                            <a:lnTo>
                              <a:pt x="31" y="21"/>
                            </a:lnTo>
                            <a:lnTo>
                              <a:pt x="33" y="21"/>
                            </a:lnTo>
                            <a:lnTo>
                              <a:pt x="36" y="21"/>
                            </a:lnTo>
                            <a:lnTo>
                              <a:pt x="39" y="21"/>
                            </a:lnTo>
                            <a:lnTo>
                              <a:pt x="43" y="7"/>
                            </a:lnTo>
                            <a:lnTo>
                              <a:pt x="42" y="7"/>
                            </a:lnTo>
                            <a:lnTo>
                              <a:pt x="41" y="11"/>
                            </a:lnTo>
                            <a:lnTo>
                              <a:pt x="39" y="14"/>
                            </a:lnTo>
                            <a:lnTo>
                              <a:pt x="37" y="17"/>
                            </a:lnTo>
                            <a:lnTo>
                              <a:pt x="34" y="17"/>
                            </a:lnTo>
                            <a:lnTo>
                              <a:pt x="32" y="17"/>
                            </a:lnTo>
                            <a:lnTo>
                              <a:pt x="29" y="17"/>
                            </a:lnTo>
                            <a:lnTo>
                              <a:pt x="27" y="17"/>
                            </a:lnTo>
                            <a:lnTo>
                              <a:pt x="24" y="17"/>
                            </a:lnTo>
                            <a:lnTo>
                              <a:pt x="22" y="16"/>
                            </a:lnTo>
                            <a:lnTo>
                              <a:pt x="20" y="16"/>
                            </a:lnTo>
                            <a:lnTo>
                              <a:pt x="19" y="15"/>
                            </a:lnTo>
                            <a:lnTo>
                              <a:pt x="16" y="11"/>
                            </a:lnTo>
                            <a:lnTo>
                              <a:pt x="15" y="7"/>
                            </a:lnTo>
                            <a:lnTo>
                              <a:pt x="15" y="4"/>
                            </a:lnTo>
                            <a:lnTo>
                              <a:pt x="15" y="3"/>
                            </a:lnTo>
                            <a:lnTo>
                              <a:pt x="6" y="2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e399a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9" name=""/>
                      <p:cNvSpPr/>
                      <p:nvPr/>
                    </p:nvSpPr>
                    <p:spPr>
                      <a:xfrm>
                        <a:off x="3125520" y="5215320"/>
                        <a:ext cx="56160" cy="6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09">
                            <a:moveTo>
                              <a:pt x="34" y="0"/>
                            </a:moveTo>
                            <a:lnTo>
                              <a:pt x="85" y="2"/>
                            </a:lnTo>
                            <a:lnTo>
                              <a:pt x="85" y="4"/>
                            </a:lnTo>
                            <a:lnTo>
                              <a:pt x="85" y="6"/>
                            </a:lnTo>
                            <a:lnTo>
                              <a:pt x="85" y="10"/>
                            </a:lnTo>
                            <a:lnTo>
                              <a:pt x="85" y="13"/>
                            </a:lnTo>
                            <a:lnTo>
                              <a:pt x="85" y="17"/>
                            </a:lnTo>
                            <a:lnTo>
                              <a:pt x="85" y="20"/>
                            </a:lnTo>
                            <a:lnTo>
                              <a:pt x="86" y="22"/>
                            </a:lnTo>
                            <a:lnTo>
                              <a:pt x="86" y="24"/>
                            </a:lnTo>
                            <a:lnTo>
                              <a:pt x="86" y="27"/>
                            </a:lnTo>
                            <a:lnTo>
                              <a:pt x="86" y="30"/>
                            </a:lnTo>
                            <a:lnTo>
                              <a:pt x="86" y="32"/>
                            </a:lnTo>
                            <a:lnTo>
                              <a:pt x="86" y="34"/>
                            </a:lnTo>
                            <a:lnTo>
                              <a:pt x="86" y="36"/>
                            </a:lnTo>
                            <a:lnTo>
                              <a:pt x="86" y="38"/>
                            </a:lnTo>
                            <a:lnTo>
                              <a:pt x="86" y="42"/>
                            </a:lnTo>
                            <a:lnTo>
                              <a:pt x="86" y="44"/>
                            </a:lnTo>
                            <a:lnTo>
                              <a:pt x="86" y="47"/>
                            </a:lnTo>
                            <a:lnTo>
                              <a:pt x="86" y="52"/>
                            </a:lnTo>
                            <a:lnTo>
                              <a:pt x="86" y="56"/>
                            </a:lnTo>
                            <a:lnTo>
                              <a:pt x="85" y="59"/>
                            </a:lnTo>
                            <a:lnTo>
                              <a:pt x="85" y="62"/>
                            </a:lnTo>
                            <a:lnTo>
                              <a:pt x="84" y="66"/>
                            </a:lnTo>
                            <a:lnTo>
                              <a:pt x="84" y="68"/>
                            </a:lnTo>
                            <a:lnTo>
                              <a:pt x="83" y="71"/>
                            </a:lnTo>
                            <a:lnTo>
                              <a:pt x="83" y="73"/>
                            </a:lnTo>
                            <a:lnTo>
                              <a:pt x="82" y="76"/>
                            </a:lnTo>
                            <a:lnTo>
                              <a:pt x="82" y="79"/>
                            </a:lnTo>
                            <a:lnTo>
                              <a:pt x="82" y="81"/>
                            </a:lnTo>
                            <a:lnTo>
                              <a:pt x="82" y="84"/>
                            </a:lnTo>
                            <a:lnTo>
                              <a:pt x="80" y="88"/>
                            </a:lnTo>
                            <a:lnTo>
                              <a:pt x="80" y="91"/>
                            </a:lnTo>
                            <a:lnTo>
                              <a:pt x="80" y="93"/>
                            </a:lnTo>
                            <a:lnTo>
                              <a:pt x="80" y="94"/>
                            </a:lnTo>
                            <a:lnTo>
                              <a:pt x="79" y="94"/>
                            </a:lnTo>
                            <a:lnTo>
                              <a:pt x="78" y="95"/>
                            </a:lnTo>
                            <a:lnTo>
                              <a:pt x="76" y="97"/>
                            </a:lnTo>
                            <a:lnTo>
                              <a:pt x="73" y="99"/>
                            </a:lnTo>
                            <a:lnTo>
                              <a:pt x="69" y="100"/>
                            </a:lnTo>
                            <a:lnTo>
                              <a:pt x="65" y="102"/>
                            </a:lnTo>
                            <a:lnTo>
                              <a:pt x="63" y="102"/>
                            </a:lnTo>
                            <a:lnTo>
                              <a:pt x="60" y="102"/>
                            </a:lnTo>
                            <a:lnTo>
                              <a:pt x="57" y="103"/>
                            </a:lnTo>
                            <a:lnTo>
                              <a:pt x="55" y="104"/>
                            </a:lnTo>
                            <a:lnTo>
                              <a:pt x="52" y="104"/>
                            </a:lnTo>
                            <a:lnTo>
                              <a:pt x="49" y="104"/>
                            </a:lnTo>
                            <a:lnTo>
                              <a:pt x="45" y="104"/>
                            </a:lnTo>
                            <a:lnTo>
                              <a:pt x="41" y="105"/>
                            </a:lnTo>
                            <a:lnTo>
                              <a:pt x="39" y="105"/>
                            </a:lnTo>
                            <a:lnTo>
                              <a:pt x="36" y="105"/>
                            </a:lnTo>
                            <a:lnTo>
                              <a:pt x="34" y="105"/>
                            </a:lnTo>
                            <a:lnTo>
                              <a:pt x="32" y="106"/>
                            </a:lnTo>
                            <a:lnTo>
                              <a:pt x="30" y="106"/>
                            </a:lnTo>
                            <a:lnTo>
                              <a:pt x="27" y="106"/>
                            </a:lnTo>
                            <a:lnTo>
                              <a:pt x="25" y="106"/>
                            </a:lnTo>
                            <a:lnTo>
                              <a:pt x="23" y="108"/>
                            </a:lnTo>
                            <a:lnTo>
                              <a:pt x="20" y="108"/>
                            </a:lnTo>
                            <a:lnTo>
                              <a:pt x="17" y="108"/>
                            </a:lnTo>
                            <a:lnTo>
                              <a:pt x="15" y="108"/>
                            </a:lnTo>
                            <a:lnTo>
                              <a:pt x="13" y="108"/>
                            </a:lnTo>
                            <a:lnTo>
                              <a:pt x="9" y="109"/>
                            </a:lnTo>
                            <a:lnTo>
                              <a:pt x="6" y="109"/>
                            </a:lnTo>
                            <a:lnTo>
                              <a:pt x="3" y="109"/>
                            </a:lnTo>
                            <a:lnTo>
                              <a:pt x="0" y="109"/>
                            </a:lnTo>
                            <a:lnTo>
                              <a:pt x="1" y="60"/>
                            </a:lnTo>
                            <a:lnTo>
                              <a:pt x="30" y="8"/>
                            </a:lnTo>
                            <a:lnTo>
                              <a:pt x="34" y="0"/>
                            </a:lnTo>
                            <a:lnTo>
                              <a:pt x="34" y="0"/>
                            </a:lnTo>
                            <a:close/>
                          </a:path>
                        </a:pathLst>
                      </a:custGeom>
                      <a:solidFill>
                        <a:srgbClr val="fad4ad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440" bIns="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0" name=""/>
                      <p:cNvSpPr/>
                      <p:nvPr/>
                    </p:nvSpPr>
                    <p:spPr>
                      <a:xfrm>
                        <a:off x="3106080" y="5199480"/>
                        <a:ext cx="4248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39">
                            <a:moveTo>
                              <a:pt x="22" y="0"/>
                            </a:moveTo>
                            <a:lnTo>
                              <a:pt x="23" y="1"/>
                            </a:lnTo>
                            <a:lnTo>
                              <a:pt x="25" y="1"/>
                            </a:lnTo>
                            <a:lnTo>
                              <a:pt x="28" y="3"/>
                            </a:lnTo>
                            <a:lnTo>
                              <a:pt x="31" y="4"/>
                            </a:lnTo>
                            <a:lnTo>
                              <a:pt x="35" y="6"/>
                            </a:lnTo>
                            <a:lnTo>
                              <a:pt x="39" y="7"/>
                            </a:lnTo>
                            <a:lnTo>
                              <a:pt x="43" y="9"/>
                            </a:lnTo>
                            <a:lnTo>
                              <a:pt x="47" y="11"/>
                            </a:lnTo>
                            <a:lnTo>
                              <a:pt x="50" y="13"/>
                            </a:lnTo>
                            <a:lnTo>
                              <a:pt x="55" y="16"/>
                            </a:lnTo>
                            <a:lnTo>
                              <a:pt x="59" y="18"/>
                            </a:lnTo>
                            <a:lnTo>
                              <a:pt x="62" y="21"/>
                            </a:lnTo>
                            <a:lnTo>
                              <a:pt x="64" y="23"/>
                            </a:lnTo>
                            <a:lnTo>
                              <a:pt x="65" y="26"/>
                            </a:lnTo>
                            <a:lnTo>
                              <a:pt x="67" y="29"/>
                            </a:lnTo>
                            <a:lnTo>
                              <a:pt x="66" y="30"/>
                            </a:lnTo>
                            <a:lnTo>
                              <a:pt x="66" y="32"/>
                            </a:lnTo>
                            <a:lnTo>
                              <a:pt x="65" y="34"/>
                            </a:lnTo>
                            <a:lnTo>
                              <a:pt x="65" y="37"/>
                            </a:lnTo>
                            <a:lnTo>
                              <a:pt x="64" y="40"/>
                            </a:lnTo>
                            <a:lnTo>
                              <a:pt x="64" y="43"/>
                            </a:lnTo>
                            <a:lnTo>
                              <a:pt x="62" y="48"/>
                            </a:lnTo>
                            <a:lnTo>
                              <a:pt x="62" y="51"/>
                            </a:lnTo>
                            <a:lnTo>
                              <a:pt x="60" y="55"/>
                            </a:lnTo>
                            <a:lnTo>
                              <a:pt x="59" y="60"/>
                            </a:lnTo>
                            <a:lnTo>
                              <a:pt x="58" y="62"/>
                            </a:lnTo>
                            <a:lnTo>
                              <a:pt x="58" y="64"/>
                            </a:lnTo>
                            <a:lnTo>
                              <a:pt x="57" y="66"/>
                            </a:lnTo>
                            <a:lnTo>
                              <a:pt x="56" y="70"/>
                            </a:lnTo>
                            <a:lnTo>
                              <a:pt x="55" y="74"/>
                            </a:lnTo>
                            <a:lnTo>
                              <a:pt x="52" y="78"/>
                            </a:lnTo>
                            <a:lnTo>
                              <a:pt x="51" y="81"/>
                            </a:lnTo>
                            <a:lnTo>
                              <a:pt x="50" y="83"/>
                            </a:lnTo>
                            <a:lnTo>
                              <a:pt x="50" y="86"/>
                            </a:lnTo>
                            <a:lnTo>
                              <a:pt x="49" y="88"/>
                            </a:lnTo>
                            <a:lnTo>
                              <a:pt x="47" y="93"/>
                            </a:lnTo>
                            <a:lnTo>
                              <a:pt x="46" y="98"/>
                            </a:lnTo>
                            <a:lnTo>
                              <a:pt x="44" y="102"/>
                            </a:lnTo>
                            <a:lnTo>
                              <a:pt x="43" y="107"/>
                            </a:lnTo>
                            <a:lnTo>
                              <a:pt x="41" y="111"/>
                            </a:lnTo>
                            <a:lnTo>
                              <a:pt x="40" y="116"/>
                            </a:lnTo>
                            <a:lnTo>
                              <a:pt x="39" y="119"/>
                            </a:lnTo>
                            <a:lnTo>
                              <a:pt x="38" y="123"/>
                            </a:lnTo>
                            <a:lnTo>
                              <a:pt x="37" y="127"/>
                            </a:lnTo>
                            <a:lnTo>
                              <a:pt x="35" y="129"/>
                            </a:lnTo>
                            <a:lnTo>
                              <a:pt x="34" y="131"/>
                            </a:lnTo>
                            <a:lnTo>
                              <a:pt x="34" y="134"/>
                            </a:lnTo>
                            <a:lnTo>
                              <a:pt x="33" y="138"/>
                            </a:lnTo>
                            <a:lnTo>
                              <a:pt x="33" y="139"/>
                            </a:lnTo>
                            <a:lnTo>
                              <a:pt x="27" y="138"/>
                            </a:lnTo>
                            <a:lnTo>
                              <a:pt x="27" y="137"/>
                            </a:lnTo>
                            <a:lnTo>
                              <a:pt x="26" y="135"/>
                            </a:lnTo>
                            <a:lnTo>
                              <a:pt x="25" y="133"/>
                            </a:lnTo>
                            <a:lnTo>
                              <a:pt x="23" y="131"/>
                            </a:lnTo>
                            <a:lnTo>
                              <a:pt x="21" y="127"/>
                            </a:lnTo>
                            <a:lnTo>
                              <a:pt x="20" y="123"/>
                            </a:lnTo>
                            <a:lnTo>
                              <a:pt x="18" y="119"/>
                            </a:lnTo>
                            <a:lnTo>
                              <a:pt x="16" y="116"/>
                            </a:lnTo>
                            <a:lnTo>
                              <a:pt x="13" y="110"/>
                            </a:lnTo>
                            <a:lnTo>
                              <a:pt x="10" y="106"/>
                            </a:lnTo>
                            <a:lnTo>
                              <a:pt x="8" y="101"/>
                            </a:lnTo>
                            <a:lnTo>
                              <a:pt x="6" y="97"/>
                            </a:lnTo>
                            <a:lnTo>
                              <a:pt x="4" y="94"/>
                            </a:lnTo>
                            <a:lnTo>
                              <a:pt x="3" y="89"/>
                            </a:lnTo>
                            <a:lnTo>
                              <a:pt x="2" y="87"/>
                            </a:lnTo>
                            <a:lnTo>
                              <a:pt x="2" y="85"/>
                            </a:lnTo>
                            <a:lnTo>
                              <a:pt x="0" y="82"/>
                            </a:lnTo>
                            <a:lnTo>
                              <a:pt x="0" y="78"/>
                            </a:lnTo>
                            <a:lnTo>
                              <a:pt x="0" y="75"/>
                            </a:lnTo>
                            <a:lnTo>
                              <a:pt x="0" y="72"/>
                            </a:lnTo>
                            <a:lnTo>
                              <a:pt x="0" y="67"/>
                            </a:lnTo>
                            <a:lnTo>
                              <a:pt x="1" y="63"/>
                            </a:lnTo>
                            <a:lnTo>
                              <a:pt x="1" y="59"/>
                            </a:lnTo>
                            <a:lnTo>
                              <a:pt x="2" y="54"/>
                            </a:lnTo>
                            <a:lnTo>
                              <a:pt x="2" y="50"/>
                            </a:lnTo>
                            <a:lnTo>
                              <a:pt x="3" y="45"/>
                            </a:lnTo>
                            <a:lnTo>
                              <a:pt x="3" y="42"/>
                            </a:lnTo>
                            <a:lnTo>
                              <a:pt x="4" y="40"/>
                            </a:lnTo>
                            <a:lnTo>
                              <a:pt x="4" y="37"/>
                            </a:lnTo>
                            <a:lnTo>
                              <a:pt x="4" y="34"/>
                            </a:lnTo>
                            <a:lnTo>
                              <a:pt x="5" y="33"/>
                            </a:lnTo>
                            <a:lnTo>
                              <a:pt x="5" y="33"/>
                            </a:lnTo>
                            <a:lnTo>
                              <a:pt x="13" y="8"/>
                            </a:lnTo>
                            <a:lnTo>
                              <a:pt x="22" y="0"/>
                            </a:lnTo>
                            <a:lnTo>
                              <a:pt x="22" y="0"/>
                            </a:lnTo>
                            <a:close/>
                          </a:path>
                        </a:pathLst>
                      </a:custGeom>
                      <a:solidFill>
                        <a:srgbClr val="e6b8ff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1" name=""/>
                      <p:cNvSpPr/>
                      <p:nvPr/>
                    </p:nvSpPr>
                    <p:spPr>
                      <a:xfrm>
                        <a:off x="3303000" y="5129280"/>
                        <a:ext cx="4356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48">
                            <a:moveTo>
                              <a:pt x="51" y="1"/>
                            </a:moveTo>
                            <a:lnTo>
                              <a:pt x="54" y="0"/>
                            </a:lnTo>
                            <a:lnTo>
                              <a:pt x="57" y="0"/>
                            </a:lnTo>
                            <a:lnTo>
                              <a:pt x="61" y="1"/>
                            </a:lnTo>
                            <a:lnTo>
                              <a:pt x="63" y="1"/>
                            </a:lnTo>
                            <a:lnTo>
                              <a:pt x="64" y="3"/>
                            </a:lnTo>
                            <a:lnTo>
                              <a:pt x="66" y="5"/>
                            </a:lnTo>
                            <a:lnTo>
                              <a:pt x="63" y="5"/>
                            </a:lnTo>
                            <a:lnTo>
                              <a:pt x="61" y="6"/>
                            </a:lnTo>
                            <a:lnTo>
                              <a:pt x="57" y="6"/>
                            </a:lnTo>
                            <a:lnTo>
                              <a:pt x="55" y="7"/>
                            </a:lnTo>
                            <a:lnTo>
                              <a:pt x="52" y="9"/>
                            </a:lnTo>
                            <a:lnTo>
                              <a:pt x="49" y="12"/>
                            </a:lnTo>
                            <a:lnTo>
                              <a:pt x="48" y="13"/>
                            </a:lnTo>
                            <a:lnTo>
                              <a:pt x="47" y="16"/>
                            </a:lnTo>
                            <a:lnTo>
                              <a:pt x="46" y="18"/>
                            </a:lnTo>
                            <a:lnTo>
                              <a:pt x="45" y="20"/>
                            </a:lnTo>
                            <a:lnTo>
                              <a:pt x="43" y="24"/>
                            </a:lnTo>
                            <a:lnTo>
                              <a:pt x="41" y="25"/>
                            </a:lnTo>
                            <a:lnTo>
                              <a:pt x="38" y="26"/>
                            </a:lnTo>
                            <a:lnTo>
                              <a:pt x="36" y="27"/>
                            </a:lnTo>
                            <a:lnTo>
                              <a:pt x="33" y="27"/>
                            </a:lnTo>
                            <a:lnTo>
                              <a:pt x="31" y="27"/>
                            </a:lnTo>
                            <a:lnTo>
                              <a:pt x="28" y="29"/>
                            </a:lnTo>
                            <a:lnTo>
                              <a:pt x="27" y="31"/>
                            </a:lnTo>
                            <a:lnTo>
                              <a:pt x="24" y="35"/>
                            </a:lnTo>
                            <a:lnTo>
                              <a:pt x="21" y="37"/>
                            </a:lnTo>
                            <a:lnTo>
                              <a:pt x="16" y="37"/>
                            </a:lnTo>
                            <a:lnTo>
                              <a:pt x="13" y="38"/>
                            </a:lnTo>
                            <a:lnTo>
                              <a:pt x="9" y="39"/>
                            </a:lnTo>
                            <a:lnTo>
                              <a:pt x="5" y="40"/>
                            </a:lnTo>
                            <a:lnTo>
                              <a:pt x="4" y="41"/>
                            </a:lnTo>
                            <a:lnTo>
                              <a:pt x="2" y="42"/>
                            </a:lnTo>
                            <a:lnTo>
                              <a:pt x="1" y="45"/>
                            </a:lnTo>
                            <a:lnTo>
                              <a:pt x="0" y="48"/>
                            </a:lnTo>
                            <a:lnTo>
                              <a:pt x="0" y="40"/>
                            </a:lnTo>
                            <a:lnTo>
                              <a:pt x="1" y="36"/>
                            </a:lnTo>
                            <a:lnTo>
                              <a:pt x="2" y="34"/>
                            </a:lnTo>
                            <a:lnTo>
                              <a:pt x="4" y="31"/>
                            </a:lnTo>
                            <a:lnTo>
                              <a:pt x="6" y="31"/>
                            </a:lnTo>
                            <a:lnTo>
                              <a:pt x="9" y="31"/>
                            </a:lnTo>
                            <a:lnTo>
                              <a:pt x="12" y="31"/>
                            </a:lnTo>
                            <a:lnTo>
                              <a:pt x="15" y="31"/>
                            </a:lnTo>
                            <a:lnTo>
                              <a:pt x="20" y="31"/>
                            </a:lnTo>
                            <a:lnTo>
                              <a:pt x="22" y="27"/>
                            </a:lnTo>
                            <a:lnTo>
                              <a:pt x="25" y="24"/>
                            </a:lnTo>
                            <a:lnTo>
                              <a:pt x="27" y="22"/>
                            </a:lnTo>
                            <a:lnTo>
                              <a:pt x="29" y="20"/>
                            </a:lnTo>
                            <a:lnTo>
                              <a:pt x="32" y="19"/>
                            </a:lnTo>
                            <a:lnTo>
                              <a:pt x="35" y="19"/>
                            </a:lnTo>
                            <a:lnTo>
                              <a:pt x="38" y="19"/>
                            </a:lnTo>
                            <a:lnTo>
                              <a:pt x="41" y="19"/>
                            </a:lnTo>
                            <a:lnTo>
                              <a:pt x="42" y="16"/>
                            </a:lnTo>
                            <a:lnTo>
                              <a:pt x="43" y="14"/>
                            </a:lnTo>
                            <a:lnTo>
                              <a:pt x="44" y="11"/>
                            </a:lnTo>
                            <a:lnTo>
                              <a:pt x="45" y="8"/>
                            </a:lnTo>
                            <a:lnTo>
                              <a:pt x="47" y="5"/>
                            </a:lnTo>
                            <a:lnTo>
                              <a:pt x="48" y="4"/>
                            </a:lnTo>
                            <a:lnTo>
                              <a:pt x="49" y="2"/>
                            </a:lnTo>
                            <a:lnTo>
                              <a:pt x="51" y="1"/>
                            </a:lnTo>
                            <a:lnTo>
                              <a:pt x="51" y="1"/>
                            </a:lnTo>
                            <a:close/>
                          </a:path>
                        </a:pathLst>
                      </a:custGeom>
                      <a:solidFill>
                        <a:srgbClr val="debfe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2" name=""/>
                      <p:cNvSpPr/>
                      <p:nvPr/>
                    </p:nvSpPr>
                    <p:spPr>
                      <a:xfrm rot="20093400">
                        <a:off x="3344040" y="5197320"/>
                        <a:ext cx="2628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45">
                            <a:moveTo>
                              <a:pt x="27" y="0"/>
                            </a:moveTo>
                            <a:lnTo>
                              <a:pt x="17" y="45"/>
                            </a:lnTo>
                            <a:lnTo>
                              <a:pt x="0" y="15"/>
                            </a:lnTo>
                            <a:lnTo>
                              <a:pt x="2" y="11"/>
                            </a:lnTo>
                            <a:lnTo>
                              <a:pt x="5" y="10"/>
                            </a:lnTo>
                            <a:lnTo>
                              <a:pt x="9" y="8"/>
                            </a:lnTo>
                            <a:lnTo>
                              <a:pt x="13" y="7"/>
                            </a:lnTo>
                            <a:lnTo>
                              <a:pt x="17" y="5"/>
                            </a:lnTo>
                            <a:lnTo>
                              <a:pt x="22" y="4"/>
                            </a:lnTo>
                            <a:lnTo>
                              <a:pt x="25" y="2"/>
                            </a:lnTo>
                            <a:lnTo>
                              <a:pt x="27" y="0"/>
                            </a:lnTo>
                            <a:lnTo>
                              <a:pt x="27" y="0"/>
                            </a:lnTo>
                            <a:close/>
                          </a:path>
                        </a:pathLst>
                      </a:custGeom>
                      <a:solidFill>
                        <a:srgbClr val="78dbf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3" name=""/>
                      <p:cNvSpPr/>
                      <p:nvPr/>
                    </p:nvSpPr>
                    <p:spPr>
                      <a:xfrm>
                        <a:off x="3358800" y="5212440"/>
                        <a:ext cx="11304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99">
                            <a:moveTo>
                              <a:pt x="6" y="1"/>
                            </a:moveTo>
                            <a:lnTo>
                              <a:pt x="10" y="0"/>
                            </a:lnTo>
                            <a:lnTo>
                              <a:pt x="14" y="0"/>
                            </a:lnTo>
                            <a:lnTo>
                              <a:pt x="16" y="1"/>
                            </a:lnTo>
                            <a:lnTo>
                              <a:pt x="19" y="3"/>
                            </a:lnTo>
                            <a:lnTo>
                              <a:pt x="21" y="5"/>
                            </a:lnTo>
                            <a:lnTo>
                              <a:pt x="23" y="8"/>
                            </a:lnTo>
                            <a:lnTo>
                              <a:pt x="25" y="12"/>
                            </a:lnTo>
                            <a:lnTo>
                              <a:pt x="28" y="16"/>
                            </a:lnTo>
                            <a:lnTo>
                              <a:pt x="32" y="15"/>
                            </a:lnTo>
                            <a:lnTo>
                              <a:pt x="36" y="15"/>
                            </a:lnTo>
                            <a:lnTo>
                              <a:pt x="38" y="15"/>
                            </a:lnTo>
                            <a:lnTo>
                              <a:pt x="41" y="16"/>
                            </a:lnTo>
                            <a:lnTo>
                              <a:pt x="43" y="18"/>
                            </a:lnTo>
                            <a:lnTo>
                              <a:pt x="46" y="20"/>
                            </a:lnTo>
                            <a:lnTo>
                              <a:pt x="49" y="21"/>
                            </a:lnTo>
                            <a:lnTo>
                              <a:pt x="51" y="23"/>
                            </a:lnTo>
                            <a:lnTo>
                              <a:pt x="54" y="24"/>
                            </a:lnTo>
                            <a:lnTo>
                              <a:pt x="56" y="27"/>
                            </a:lnTo>
                            <a:lnTo>
                              <a:pt x="59" y="30"/>
                            </a:lnTo>
                            <a:lnTo>
                              <a:pt x="61" y="32"/>
                            </a:lnTo>
                            <a:lnTo>
                              <a:pt x="63" y="34"/>
                            </a:lnTo>
                            <a:lnTo>
                              <a:pt x="66" y="37"/>
                            </a:lnTo>
                            <a:lnTo>
                              <a:pt x="68" y="41"/>
                            </a:lnTo>
                            <a:lnTo>
                              <a:pt x="70" y="43"/>
                            </a:lnTo>
                            <a:lnTo>
                              <a:pt x="72" y="46"/>
                            </a:lnTo>
                            <a:lnTo>
                              <a:pt x="74" y="50"/>
                            </a:lnTo>
                            <a:lnTo>
                              <a:pt x="76" y="54"/>
                            </a:lnTo>
                            <a:lnTo>
                              <a:pt x="78" y="57"/>
                            </a:lnTo>
                            <a:lnTo>
                              <a:pt x="80" y="60"/>
                            </a:lnTo>
                            <a:lnTo>
                              <a:pt x="82" y="65"/>
                            </a:lnTo>
                            <a:lnTo>
                              <a:pt x="83" y="68"/>
                            </a:lnTo>
                            <a:lnTo>
                              <a:pt x="85" y="72"/>
                            </a:lnTo>
                            <a:lnTo>
                              <a:pt x="86" y="76"/>
                            </a:lnTo>
                            <a:lnTo>
                              <a:pt x="89" y="80"/>
                            </a:lnTo>
                            <a:lnTo>
                              <a:pt x="90" y="85"/>
                            </a:lnTo>
                            <a:lnTo>
                              <a:pt x="91" y="88"/>
                            </a:lnTo>
                            <a:lnTo>
                              <a:pt x="92" y="92"/>
                            </a:lnTo>
                            <a:lnTo>
                              <a:pt x="93" y="96"/>
                            </a:lnTo>
                            <a:lnTo>
                              <a:pt x="91" y="96"/>
                            </a:lnTo>
                            <a:lnTo>
                              <a:pt x="91" y="97"/>
                            </a:lnTo>
                            <a:lnTo>
                              <a:pt x="90" y="98"/>
                            </a:lnTo>
                            <a:lnTo>
                              <a:pt x="89" y="99"/>
                            </a:lnTo>
                            <a:lnTo>
                              <a:pt x="87" y="97"/>
                            </a:lnTo>
                            <a:lnTo>
                              <a:pt x="86" y="94"/>
                            </a:lnTo>
                            <a:lnTo>
                              <a:pt x="85" y="91"/>
                            </a:lnTo>
                            <a:lnTo>
                              <a:pt x="85" y="90"/>
                            </a:lnTo>
                            <a:lnTo>
                              <a:pt x="83" y="87"/>
                            </a:lnTo>
                            <a:lnTo>
                              <a:pt x="83" y="85"/>
                            </a:lnTo>
                            <a:lnTo>
                              <a:pt x="81" y="81"/>
                            </a:lnTo>
                            <a:lnTo>
                              <a:pt x="81" y="79"/>
                            </a:lnTo>
                            <a:lnTo>
                              <a:pt x="79" y="76"/>
                            </a:lnTo>
                            <a:lnTo>
                              <a:pt x="78" y="74"/>
                            </a:lnTo>
                            <a:lnTo>
                              <a:pt x="77" y="70"/>
                            </a:lnTo>
                            <a:lnTo>
                              <a:pt x="75" y="67"/>
                            </a:lnTo>
                            <a:lnTo>
                              <a:pt x="74" y="65"/>
                            </a:lnTo>
                            <a:lnTo>
                              <a:pt x="72" y="61"/>
                            </a:lnTo>
                            <a:lnTo>
                              <a:pt x="71" y="59"/>
                            </a:lnTo>
                            <a:lnTo>
                              <a:pt x="69" y="56"/>
                            </a:lnTo>
                            <a:lnTo>
                              <a:pt x="67" y="54"/>
                            </a:lnTo>
                            <a:lnTo>
                              <a:pt x="65" y="50"/>
                            </a:lnTo>
                            <a:lnTo>
                              <a:pt x="63" y="48"/>
                            </a:lnTo>
                            <a:lnTo>
                              <a:pt x="61" y="45"/>
                            </a:lnTo>
                            <a:lnTo>
                              <a:pt x="59" y="43"/>
                            </a:lnTo>
                            <a:lnTo>
                              <a:pt x="56" y="41"/>
                            </a:lnTo>
                            <a:lnTo>
                              <a:pt x="54" y="38"/>
                            </a:lnTo>
                            <a:lnTo>
                              <a:pt x="52" y="36"/>
                            </a:lnTo>
                            <a:lnTo>
                              <a:pt x="49" y="34"/>
                            </a:lnTo>
                            <a:lnTo>
                              <a:pt x="46" y="32"/>
                            </a:lnTo>
                            <a:lnTo>
                              <a:pt x="43" y="31"/>
                            </a:lnTo>
                            <a:lnTo>
                              <a:pt x="40" y="30"/>
                            </a:lnTo>
                            <a:lnTo>
                              <a:pt x="37" y="27"/>
                            </a:lnTo>
                            <a:lnTo>
                              <a:pt x="34" y="26"/>
                            </a:lnTo>
                            <a:lnTo>
                              <a:pt x="31" y="25"/>
                            </a:lnTo>
                            <a:lnTo>
                              <a:pt x="28" y="25"/>
                            </a:lnTo>
                            <a:lnTo>
                              <a:pt x="24" y="24"/>
                            </a:lnTo>
                            <a:lnTo>
                              <a:pt x="21" y="22"/>
                            </a:lnTo>
                            <a:lnTo>
                              <a:pt x="19" y="19"/>
                            </a:lnTo>
                            <a:lnTo>
                              <a:pt x="16" y="16"/>
                            </a:lnTo>
                            <a:lnTo>
                              <a:pt x="13" y="13"/>
                            </a:lnTo>
                            <a:lnTo>
                              <a:pt x="10" y="12"/>
                            </a:lnTo>
                            <a:lnTo>
                              <a:pt x="8" y="11"/>
                            </a:lnTo>
                            <a:lnTo>
                              <a:pt x="6" y="12"/>
                            </a:lnTo>
                            <a:lnTo>
                              <a:pt x="3" y="12"/>
                            </a:lnTo>
                            <a:lnTo>
                              <a:pt x="1" y="14"/>
                            </a:lnTo>
                            <a:lnTo>
                              <a:pt x="0" y="12"/>
                            </a:lnTo>
                            <a:lnTo>
                              <a:pt x="1" y="10"/>
                            </a:lnTo>
                            <a:lnTo>
                              <a:pt x="1" y="8"/>
                            </a:lnTo>
                            <a:lnTo>
                              <a:pt x="1" y="5"/>
                            </a:lnTo>
                            <a:lnTo>
                              <a:pt x="2" y="4"/>
                            </a:lnTo>
                            <a:lnTo>
                              <a:pt x="3" y="3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close/>
                          </a:path>
                        </a:pathLst>
                      </a:custGeom>
                      <a:solidFill>
                        <a:srgbClr val="78dbf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4" name=""/>
                      <p:cNvSpPr/>
                      <p:nvPr/>
                    </p:nvSpPr>
                    <p:spPr>
                      <a:xfrm>
                        <a:off x="3303000" y="5150520"/>
                        <a:ext cx="13104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66">
                            <a:moveTo>
                              <a:pt x="68" y="1"/>
                            </a:moveTo>
                            <a:lnTo>
                              <a:pt x="70" y="0"/>
                            </a:lnTo>
                            <a:lnTo>
                              <a:pt x="72" y="0"/>
                            </a:lnTo>
                            <a:lnTo>
                              <a:pt x="75" y="1"/>
                            </a:lnTo>
                            <a:lnTo>
                              <a:pt x="77" y="2"/>
                            </a:lnTo>
                            <a:lnTo>
                              <a:pt x="79" y="3"/>
                            </a:lnTo>
                            <a:lnTo>
                              <a:pt x="82" y="4"/>
                            </a:lnTo>
                            <a:lnTo>
                              <a:pt x="83" y="6"/>
                            </a:lnTo>
                            <a:lnTo>
                              <a:pt x="85" y="11"/>
                            </a:lnTo>
                            <a:lnTo>
                              <a:pt x="88" y="11"/>
                            </a:lnTo>
                            <a:lnTo>
                              <a:pt x="91" y="10"/>
                            </a:lnTo>
                            <a:lnTo>
                              <a:pt x="95" y="10"/>
                            </a:lnTo>
                            <a:lnTo>
                              <a:pt x="98" y="10"/>
                            </a:lnTo>
                            <a:lnTo>
                              <a:pt x="101" y="10"/>
                            </a:lnTo>
                            <a:lnTo>
                              <a:pt x="106" y="10"/>
                            </a:lnTo>
                            <a:lnTo>
                              <a:pt x="108" y="10"/>
                            </a:lnTo>
                            <a:lnTo>
                              <a:pt x="112" y="11"/>
                            </a:lnTo>
                            <a:lnTo>
                              <a:pt x="115" y="11"/>
                            </a:lnTo>
                            <a:lnTo>
                              <a:pt x="118" y="11"/>
                            </a:lnTo>
                            <a:lnTo>
                              <a:pt x="121" y="11"/>
                            </a:lnTo>
                            <a:lnTo>
                              <a:pt x="124" y="12"/>
                            </a:lnTo>
                            <a:lnTo>
                              <a:pt x="127" y="13"/>
                            </a:lnTo>
                            <a:lnTo>
                              <a:pt x="130" y="13"/>
                            </a:lnTo>
                            <a:lnTo>
                              <a:pt x="133" y="14"/>
                            </a:lnTo>
                            <a:lnTo>
                              <a:pt x="137" y="15"/>
                            </a:lnTo>
                            <a:lnTo>
                              <a:pt x="140" y="16"/>
                            </a:lnTo>
                            <a:lnTo>
                              <a:pt x="144" y="19"/>
                            </a:lnTo>
                            <a:lnTo>
                              <a:pt x="148" y="20"/>
                            </a:lnTo>
                            <a:lnTo>
                              <a:pt x="151" y="22"/>
                            </a:lnTo>
                            <a:lnTo>
                              <a:pt x="154" y="23"/>
                            </a:lnTo>
                            <a:lnTo>
                              <a:pt x="158" y="25"/>
                            </a:lnTo>
                            <a:lnTo>
                              <a:pt x="162" y="27"/>
                            </a:lnTo>
                            <a:lnTo>
                              <a:pt x="166" y="29"/>
                            </a:lnTo>
                            <a:lnTo>
                              <a:pt x="169" y="32"/>
                            </a:lnTo>
                            <a:lnTo>
                              <a:pt x="173" y="35"/>
                            </a:lnTo>
                            <a:lnTo>
                              <a:pt x="177" y="37"/>
                            </a:lnTo>
                            <a:lnTo>
                              <a:pt x="181" y="42"/>
                            </a:lnTo>
                            <a:lnTo>
                              <a:pt x="183" y="43"/>
                            </a:lnTo>
                            <a:lnTo>
                              <a:pt x="187" y="44"/>
                            </a:lnTo>
                            <a:lnTo>
                              <a:pt x="189" y="46"/>
                            </a:lnTo>
                            <a:lnTo>
                              <a:pt x="191" y="48"/>
                            </a:lnTo>
                            <a:lnTo>
                              <a:pt x="193" y="50"/>
                            </a:lnTo>
                            <a:lnTo>
                              <a:pt x="196" y="53"/>
                            </a:lnTo>
                            <a:lnTo>
                              <a:pt x="198" y="54"/>
                            </a:lnTo>
                            <a:lnTo>
                              <a:pt x="201" y="57"/>
                            </a:lnTo>
                            <a:lnTo>
                              <a:pt x="202" y="58"/>
                            </a:lnTo>
                            <a:lnTo>
                              <a:pt x="203" y="61"/>
                            </a:lnTo>
                            <a:lnTo>
                              <a:pt x="202" y="64"/>
                            </a:lnTo>
                            <a:lnTo>
                              <a:pt x="201" y="66"/>
                            </a:lnTo>
                            <a:lnTo>
                              <a:pt x="198" y="62"/>
                            </a:lnTo>
                            <a:lnTo>
                              <a:pt x="196" y="60"/>
                            </a:lnTo>
                            <a:lnTo>
                              <a:pt x="193" y="58"/>
                            </a:lnTo>
                            <a:lnTo>
                              <a:pt x="191" y="57"/>
                            </a:lnTo>
                            <a:lnTo>
                              <a:pt x="189" y="55"/>
                            </a:lnTo>
                            <a:lnTo>
                              <a:pt x="186" y="53"/>
                            </a:lnTo>
                            <a:lnTo>
                              <a:pt x="183" y="50"/>
                            </a:lnTo>
                            <a:lnTo>
                              <a:pt x="181" y="48"/>
                            </a:lnTo>
                            <a:lnTo>
                              <a:pt x="176" y="45"/>
                            </a:lnTo>
                            <a:lnTo>
                              <a:pt x="172" y="42"/>
                            </a:lnTo>
                            <a:lnTo>
                              <a:pt x="168" y="38"/>
                            </a:lnTo>
                            <a:lnTo>
                              <a:pt x="164" y="36"/>
                            </a:lnTo>
                            <a:lnTo>
                              <a:pt x="161" y="34"/>
                            </a:lnTo>
                            <a:lnTo>
                              <a:pt x="159" y="33"/>
                            </a:lnTo>
                            <a:lnTo>
                              <a:pt x="156" y="32"/>
                            </a:lnTo>
                            <a:lnTo>
                              <a:pt x="154" y="31"/>
                            </a:lnTo>
                            <a:lnTo>
                              <a:pt x="151" y="28"/>
                            </a:lnTo>
                            <a:lnTo>
                              <a:pt x="149" y="27"/>
                            </a:lnTo>
                            <a:lnTo>
                              <a:pt x="146" y="26"/>
                            </a:lnTo>
                            <a:lnTo>
                              <a:pt x="142" y="26"/>
                            </a:lnTo>
                            <a:lnTo>
                              <a:pt x="139" y="24"/>
                            </a:lnTo>
                            <a:lnTo>
                              <a:pt x="135" y="24"/>
                            </a:lnTo>
                            <a:lnTo>
                              <a:pt x="132" y="23"/>
                            </a:lnTo>
                            <a:lnTo>
                              <a:pt x="128" y="22"/>
                            </a:lnTo>
                            <a:lnTo>
                              <a:pt x="124" y="21"/>
                            </a:lnTo>
                            <a:lnTo>
                              <a:pt x="120" y="21"/>
                            </a:lnTo>
                            <a:lnTo>
                              <a:pt x="116" y="20"/>
                            </a:lnTo>
                            <a:lnTo>
                              <a:pt x="112" y="20"/>
                            </a:lnTo>
                            <a:lnTo>
                              <a:pt x="110" y="19"/>
                            </a:lnTo>
                            <a:lnTo>
                              <a:pt x="107" y="19"/>
                            </a:lnTo>
                            <a:lnTo>
                              <a:pt x="105" y="19"/>
                            </a:lnTo>
                            <a:lnTo>
                              <a:pt x="103" y="20"/>
                            </a:lnTo>
                            <a:lnTo>
                              <a:pt x="99" y="20"/>
                            </a:lnTo>
                            <a:lnTo>
                              <a:pt x="97" y="20"/>
                            </a:lnTo>
                            <a:lnTo>
                              <a:pt x="94" y="21"/>
                            </a:lnTo>
                            <a:lnTo>
                              <a:pt x="92" y="22"/>
                            </a:lnTo>
                            <a:lnTo>
                              <a:pt x="89" y="22"/>
                            </a:lnTo>
                            <a:lnTo>
                              <a:pt x="87" y="22"/>
                            </a:lnTo>
                            <a:lnTo>
                              <a:pt x="85" y="21"/>
                            </a:lnTo>
                            <a:lnTo>
                              <a:pt x="83" y="21"/>
                            </a:lnTo>
                            <a:lnTo>
                              <a:pt x="80" y="20"/>
                            </a:lnTo>
                            <a:lnTo>
                              <a:pt x="79" y="19"/>
                            </a:lnTo>
                            <a:lnTo>
                              <a:pt x="77" y="16"/>
                            </a:lnTo>
                            <a:lnTo>
                              <a:pt x="76" y="14"/>
                            </a:lnTo>
                            <a:lnTo>
                              <a:pt x="73" y="13"/>
                            </a:lnTo>
                            <a:lnTo>
                              <a:pt x="71" y="13"/>
                            </a:lnTo>
                            <a:lnTo>
                              <a:pt x="68" y="14"/>
                            </a:lnTo>
                            <a:lnTo>
                              <a:pt x="65" y="15"/>
                            </a:lnTo>
                            <a:lnTo>
                              <a:pt x="63" y="17"/>
                            </a:lnTo>
                            <a:lnTo>
                              <a:pt x="61" y="20"/>
                            </a:lnTo>
                            <a:lnTo>
                              <a:pt x="57" y="22"/>
                            </a:lnTo>
                            <a:lnTo>
                              <a:pt x="55" y="24"/>
                            </a:lnTo>
                            <a:lnTo>
                              <a:pt x="52" y="25"/>
                            </a:lnTo>
                            <a:lnTo>
                              <a:pt x="50" y="26"/>
                            </a:lnTo>
                            <a:lnTo>
                              <a:pt x="48" y="28"/>
                            </a:lnTo>
                            <a:lnTo>
                              <a:pt x="45" y="28"/>
                            </a:lnTo>
                            <a:lnTo>
                              <a:pt x="43" y="28"/>
                            </a:lnTo>
                            <a:lnTo>
                              <a:pt x="40" y="28"/>
                            </a:lnTo>
                            <a:lnTo>
                              <a:pt x="38" y="26"/>
                            </a:lnTo>
                            <a:lnTo>
                              <a:pt x="36" y="24"/>
                            </a:lnTo>
                            <a:lnTo>
                              <a:pt x="34" y="22"/>
                            </a:lnTo>
                            <a:lnTo>
                              <a:pt x="32" y="22"/>
                            </a:lnTo>
                            <a:lnTo>
                              <a:pt x="29" y="21"/>
                            </a:lnTo>
                            <a:lnTo>
                              <a:pt x="27" y="21"/>
                            </a:lnTo>
                            <a:lnTo>
                              <a:pt x="24" y="21"/>
                            </a:lnTo>
                            <a:lnTo>
                              <a:pt x="22" y="20"/>
                            </a:lnTo>
                            <a:lnTo>
                              <a:pt x="20" y="20"/>
                            </a:lnTo>
                            <a:lnTo>
                              <a:pt x="16" y="20"/>
                            </a:lnTo>
                            <a:lnTo>
                              <a:pt x="13" y="20"/>
                            </a:lnTo>
                            <a:lnTo>
                              <a:pt x="11" y="20"/>
                            </a:lnTo>
                            <a:lnTo>
                              <a:pt x="9" y="20"/>
                            </a:lnTo>
                            <a:lnTo>
                              <a:pt x="7" y="20"/>
                            </a:lnTo>
                            <a:lnTo>
                              <a:pt x="3" y="20"/>
                            </a:lnTo>
                            <a:lnTo>
                              <a:pt x="0" y="20"/>
                            </a:lnTo>
                            <a:lnTo>
                              <a:pt x="0" y="19"/>
                            </a:lnTo>
                            <a:lnTo>
                              <a:pt x="0" y="16"/>
                            </a:lnTo>
                            <a:lnTo>
                              <a:pt x="0" y="14"/>
                            </a:lnTo>
                            <a:lnTo>
                              <a:pt x="1" y="13"/>
                            </a:lnTo>
                            <a:lnTo>
                              <a:pt x="4" y="12"/>
                            </a:lnTo>
                            <a:lnTo>
                              <a:pt x="8" y="12"/>
                            </a:lnTo>
                            <a:lnTo>
                              <a:pt x="11" y="11"/>
                            </a:lnTo>
                            <a:lnTo>
                              <a:pt x="16" y="11"/>
                            </a:lnTo>
                            <a:lnTo>
                              <a:pt x="21" y="11"/>
                            </a:lnTo>
                            <a:lnTo>
                              <a:pt x="25" y="10"/>
                            </a:lnTo>
                            <a:lnTo>
                              <a:pt x="28" y="10"/>
                            </a:lnTo>
                            <a:lnTo>
                              <a:pt x="32" y="11"/>
                            </a:lnTo>
                            <a:lnTo>
                              <a:pt x="36" y="11"/>
                            </a:lnTo>
                            <a:lnTo>
                              <a:pt x="39" y="13"/>
                            </a:lnTo>
                            <a:lnTo>
                              <a:pt x="42" y="14"/>
                            </a:lnTo>
                            <a:lnTo>
                              <a:pt x="46" y="15"/>
                            </a:lnTo>
                            <a:lnTo>
                              <a:pt x="49" y="16"/>
                            </a:lnTo>
                            <a:lnTo>
                              <a:pt x="52" y="16"/>
                            </a:lnTo>
                            <a:lnTo>
                              <a:pt x="55" y="14"/>
                            </a:lnTo>
                            <a:lnTo>
                              <a:pt x="58" y="12"/>
                            </a:lnTo>
                            <a:lnTo>
                              <a:pt x="61" y="9"/>
                            </a:lnTo>
                            <a:lnTo>
                              <a:pt x="64" y="6"/>
                            </a:lnTo>
                            <a:lnTo>
                              <a:pt x="66" y="3"/>
                            </a:lnTo>
                            <a:lnTo>
                              <a:pt x="68" y="1"/>
                            </a:lnTo>
                            <a:lnTo>
                              <a:pt x="68" y="1"/>
                            </a:lnTo>
                            <a:close/>
                          </a:path>
                        </a:pathLst>
                      </a:custGeom>
                      <a:solidFill>
                        <a:srgbClr val="cce8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5" name=""/>
                      <p:cNvSpPr/>
                      <p:nvPr/>
                    </p:nvSpPr>
                    <p:spPr>
                      <a:xfrm>
                        <a:off x="3192840" y="5233320"/>
                        <a:ext cx="12240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6" h="36">
                            <a:moveTo>
                              <a:pt x="186" y="0"/>
                            </a:moveTo>
                            <a:lnTo>
                              <a:pt x="186" y="2"/>
                            </a:lnTo>
                            <a:lnTo>
                              <a:pt x="186" y="4"/>
                            </a:lnTo>
                            <a:lnTo>
                              <a:pt x="182" y="5"/>
                            </a:lnTo>
                            <a:lnTo>
                              <a:pt x="178" y="7"/>
                            </a:lnTo>
                            <a:lnTo>
                              <a:pt x="175" y="9"/>
                            </a:lnTo>
                            <a:lnTo>
                              <a:pt x="172" y="11"/>
                            </a:lnTo>
                            <a:lnTo>
                              <a:pt x="169" y="12"/>
                            </a:lnTo>
                            <a:lnTo>
                              <a:pt x="165" y="12"/>
                            </a:lnTo>
                            <a:lnTo>
                              <a:pt x="163" y="12"/>
                            </a:lnTo>
                            <a:lnTo>
                              <a:pt x="161" y="12"/>
                            </a:lnTo>
                            <a:lnTo>
                              <a:pt x="159" y="10"/>
                            </a:lnTo>
                            <a:lnTo>
                              <a:pt x="157" y="9"/>
                            </a:lnTo>
                            <a:lnTo>
                              <a:pt x="153" y="10"/>
                            </a:lnTo>
                            <a:lnTo>
                              <a:pt x="149" y="12"/>
                            </a:lnTo>
                            <a:lnTo>
                              <a:pt x="145" y="14"/>
                            </a:lnTo>
                            <a:lnTo>
                              <a:pt x="143" y="18"/>
                            </a:lnTo>
                            <a:lnTo>
                              <a:pt x="139" y="20"/>
                            </a:lnTo>
                            <a:lnTo>
                              <a:pt x="135" y="22"/>
                            </a:lnTo>
                            <a:lnTo>
                              <a:pt x="131" y="23"/>
                            </a:lnTo>
                            <a:lnTo>
                              <a:pt x="127" y="23"/>
                            </a:lnTo>
                            <a:lnTo>
                              <a:pt x="124" y="21"/>
                            </a:lnTo>
                            <a:lnTo>
                              <a:pt x="122" y="20"/>
                            </a:lnTo>
                            <a:lnTo>
                              <a:pt x="119" y="18"/>
                            </a:lnTo>
                            <a:lnTo>
                              <a:pt x="117" y="16"/>
                            </a:lnTo>
                            <a:lnTo>
                              <a:pt x="114" y="15"/>
                            </a:lnTo>
                            <a:lnTo>
                              <a:pt x="111" y="15"/>
                            </a:lnTo>
                            <a:lnTo>
                              <a:pt x="108" y="16"/>
                            </a:lnTo>
                            <a:lnTo>
                              <a:pt x="107" y="20"/>
                            </a:lnTo>
                            <a:lnTo>
                              <a:pt x="103" y="22"/>
                            </a:lnTo>
                            <a:lnTo>
                              <a:pt x="100" y="24"/>
                            </a:lnTo>
                            <a:lnTo>
                              <a:pt x="97" y="27"/>
                            </a:lnTo>
                            <a:lnTo>
                              <a:pt x="93" y="31"/>
                            </a:lnTo>
                            <a:lnTo>
                              <a:pt x="89" y="33"/>
                            </a:lnTo>
                            <a:lnTo>
                              <a:pt x="86" y="35"/>
                            </a:lnTo>
                            <a:lnTo>
                              <a:pt x="83" y="36"/>
                            </a:lnTo>
                            <a:lnTo>
                              <a:pt x="79" y="36"/>
                            </a:lnTo>
                            <a:lnTo>
                              <a:pt x="76" y="34"/>
                            </a:lnTo>
                            <a:lnTo>
                              <a:pt x="72" y="31"/>
                            </a:lnTo>
                            <a:lnTo>
                              <a:pt x="69" y="27"/>
                            </a:lnTo>
                            <a:lnTo>
                              <a:pt x="67" y="24"/>
                            </a:lnTo>
                            <a:lnTo>
                              <a:pt x="64" y="20"/>
                            </a:lnTo>
                            <a:lnTo>
                              <a:pt x="61" y="18"/>
                            </a:lnTo>
                            <a:lnTo>
                              <a:pt x="58" y="18"/>
                            </a:lnTo>
                            <a:lnTo>
                              <a:pt x="56" y="19"/>
                            </a:lnTo>
                            <a:lnTo>
                              <a:pt x="52" y="20"/>
                            </a:lnTo>
                            <a:lnTo>
                              <a:pt x="50" y="22"/>
                            </a:lnTo>
                            <a:lnTo>
                              <a:pt x="47" y="23"/>
                            </a:lnTo>
                            <a:lnTo>
                              <a:pt x="45" y="25"/>
                            </a:lnTo>
                            <a:lnTo>
                              <a:pt x="43" y="26"/>
                            </a:lnTo>
                            <a:lnTo>
                              <a:pt x="41" y="29"/>
                            </a:lnTo>
                            <a:lnTo>
                              <a:pt x="38" y="30"/>
                            </a:lnTo>
                            <a:lnTo>
                              <a:pt x="36" y="31"/>
                            </a:lnTo>
                            <a:lnTo>
                              <a:pt x="32" y="30"/>
                            </a:lnTo>
                            <a:lnTo>
                              <a:pt x="28" y="29"/>
                            </a:lnTo>
                            <a:lnTo>
                              <a:pt x="23" y="27"/>
                            </a:lnTo>
                            <a:lnTo>
                              <a:pt x="20" y="26"/>
                            </a:lnTo>
                            <a:lnTo>
                              <a:pt x="16" y="26"/>
                            </a:lnTo>
                            <a:lnTo>
                              <a:pt x="11" y="26"/>
                            </a:lnTo>
                            <a:lnTo>
                              <a:pt x="7" y="29"/>
                            </a:lnTo>
                            <a:lnTo>
                              <a:pt x="4" y="31"/>
                            </a:lnTo>
                            <a:lnTo>
                              <a:pt x="2" y="32"/>
                            </a:lnTo>
                            <a:lnTo>
                              <a:pt x="1" y="32"/>
                            </a:lnTo>
                            <a:lnTo>
                              <a:pt x="0" y="29"/>
                            </a:lnTo>
                            <a:lnTo>
                              <a:pt x="0" y="26"/>
                            </a:lnTo>
                            <a:lnTo>
                              <a:pt x="2" y="23"/>
                            </a:lnTo>
                            <a:lnTo>
                              <a:pt x="4" y="21"/>
                            </a:lnTo>
                            <a:lnTo>
                              <a:pt x="6" y="19"/>
                            </a:lnTo>
                            <a:lnTo>
                              <a:pt x="9" y="18"/>
                            </a:lnTo>
                            <a:lnTo>
                              <a:pt x="11" y="15"/>
                            </a:lnTo>
                            <a:lnTo>
                              <a:pt x="15" y="15"/>
                            </a:lnTo>
                            <a:lnTo>
                              <a:pt x="17" y="14"/>
                            </a:lnTo>
                            <a:lnTo>
                              <a:pt x="19" y="14"/>
                            </a:lnTo>
                            <a:lnTo>
                              <a:pt x="22" y="14"/>
                            </a:lnTo>
                            <a:lnTo>
                              <a:pt x="25" y="14"/>
                            </a:lnTo>
                            <a:lnTo>
                              <a:pt x="27" y="14"/>
                            </a:lnTo>
                            <a:lnTo>
                              <a:pt x="29" y="15"/>
                            </a:lnTo>
                            <a:lnTo>
                              <a:pt x="32" y="15"/>
                            </a:lnTo>
                            <a:lnTo>
                              <a:pt x="35" y="15"/>
                            </a:lnTo>
                            <a:lnTo>
                              <a:pt x="37" y="15"/>
                            </a:lnTo>
                            <a:lnTo>
                              <a:pt x="39" y="15"/>
                            </a:lnTo>
                            <a:lnTo>
                              <a:pt x="42" y="14"/>
                            </a:lnTo>
                            <a:lnTo>
                              <a:pt x="44" y="14"/>
                            </a:lnTo>
                            <a:lnTo>
                              <a:pt x="47" y="13"/>
                            </a:lnTo>
                            <a:lnTo>
                              <a:pt x="49" y="12"/>
                            </a:lnTo>
                            <a:lnTo>
                              <a:pt x="51" y="10"/>
                            </a:lnTo>
                            <a:lnTo>
                              <a:pt x="54" y="8"/>
                            </a:lnTo>
                            <a:lnTo>
                              <a:pt x="58" y="5"/>
                            </a:lnTo>
                            <a:lnTo>
                              <a:pt x="61" y="5"/>
                            </a:lnTo>
                            <a:lnTo>
                              <a:pt x="63" y="5"/>
                            </a:lnTo>
                            <a:lnTo>
                              <a:pt x="66" y="7"/>
                            </a:lnTo>
                            <a:lnTo>
                              <a:pt x="67" y="9"/>
                            </a:lnTo>
                            <a:lnTo>
                              <a:pt x="69" y="11"/>
                            </a:lnTo>
                            <a:lnTo>
                              <a:pt x="71" y="13"/>
                            </a:lnTo>
                            <a:lnTo>
                              <a:pt x="73" y="15"/>
                            </a:lnTo>
                            <a:lnTo>
                              <a:pt x="74" y="18"/>
                            </a:lnTo>
                            <a:lnTo>
                              <a:pt x="76" y="20"/>
                            </a:lnTo>
                            <a:lnTo>
                              <a:pt x="77" y="22"/>
                            </a:lnTo>
                            <a:lnTo>
                              <a:pt x="79" y="24"/>
                            </a:lnTo>
                            <a:lnTo>
                              <a:pt x="80" y="25"/>
                            </a:lnTo>
                            <a:lnTo>
                              <a:pt x="82" y="26"/>
                            </a:lnTo>
                            <a:lnTo>
                              <a:pt x="85" y="25"/>
                            </a:lnTo>
                            <a:lnTo>
                              <a:pt x="87" y="25"/>
                            </a:lnTo>
                            <a:lnTo>
                              <a:pt x="91" y="23"/>
                            </a:lnTo>
                            <a:lnTo>
                              <a:pt x="95" y="20"/>
                            </a:lnTo>
                            <a:lnTo>
                              <a:pt x="98" y="18"/>
                            </a:lnTo>
                            <a:lnTo>
                              <a:pt x="100" y="15"/>
                            </a:lnTo>
                            <a:lnTo>
                              <a:pt x="102" y="13"/>
                            </a:lnTo>
                            <a:lnTo>
                              <a:pt x="104" y="11"/>
                            </a:lnTo>
                            <a:lnTo>
                              <a:pt x="107" y="7"/>
                            </a:lnTo>
                            <a:lnTo>
                              <a:pt x="111" y="3"/>
                            </a:lnTo>
                            <a:lnTo>
                              <a:pt x="113" y="2"/>
                            </a:lnTo>
                            <a:lnTo>
                              <a:pt x="115" y="2"/>
                            </a:lnTo>
                            <a:lnTo>
                              <a:pt x="118" y="3"/>
                            </a:lnTo>
                            <a:lnTo>
                              <a:pt x="120" y="5"/>
                            </a:lnTo>
                            <a:lnTo>
                              <a:pt x="123" y="7"/>
                            </a:lnTo>
                            <a:lnTo>
                              <a:pt x="126" y="9"/>
                            </a:lnTo>
                            <a:lnTo>
                              <a:pt x="128" y="9"/>
                            </a:lnTo>
                            <a:lnTo>
                              <a:pt x="131" y="9"/>
                            </a:lnTo>
                            <a:lnTo>
                              <a:pt x="134" y="9"/>
                            </a:lnTo>
                            <a:lnTo>
                              <a:pt x="136" y="8"/>
                            </a:lnTo>
                            <a:lnTo>
                              <a:pt x="140" y="7"/>
                            </a:lnTo>
                            <a:lnTo>
                              <a:pt x="143" y="5"/>
                            </a:lnTo>
                            <a:lnTo>
                              <a:pt x="145" y="4"/>
                            </a:lnTo>
                            <a:lnTo>
                              <a:pt x="147" y="3"/>
                            </a:lnTo>
                            <a:lnTo>
                              <a:pt x="150" y="2"/>
                            </a:lnTo>
                            <a:lnTo>
                              <a:pt x="153" y="2"/>
                            </a:lnTo>
                            <a:lnTo>
                              <a:pt x="155" y="1"/>
                            </a:lnTo>
                            <a:lnTo>
                              <a:pt x="159" y="2"/>
                            </a:lnTo>
                            <a:lnTo>
                              <a:pt x="161" y="3"/>
                            </a:lnTo>
                            <a:lnTo>
                              <a:pt x="165" y="5"/>
                            </a:lnTo>
                            <a:lnTo>
                              <a:pt x="166" y="5"/>
                            </a:lnTo>
                            <a:lnTo>
                              <a:pt x="169" y="5"/>
                            </a:lnTo>
                            <a:lnTo>
                              <a:pt x="172" y="4"/>
                            </a:lnTo>
                            <a:lnTo>
                              <a:pt x="176" y="3"/>
                            </a:lnTo>
                            <a:lnTo>
                              <a:pt x="180" y="2"/>
                            </a:lnTo>
                            <a:lnTo>
                              <a:pt x="183" y="1"/>
                            </a:lnTo>
                            <a:lnTo>
                              <a:pt x="185" y="0"/>
                            </a:lnTo>
                            <a:lnTo>
                              <a:pt x="186" y="0"/>
                            </a:lnTo>
                            <a:lnTo>
                              <a:pt x="186" y="0"/>
                            </a:lnTo>
                            <a:close/>
                          </a:path>
                        </a:pathLst>
                      </a:custGeom>
                      <a:solidFill>
                        <a:srgbClr val="ffe6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3425400" y="5173920"/>
                        <a:ext cx="1404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34">
                            <a:moveTo>
                              <a:pt x="10" y="0"/>
                            </a:moveTo>
                            <a:lnTo>
                              <a:pt x="12" y="4"/>
                            </a:lnTo>
                            <a:lnTo>
                              <a:pt x="14" y="7"/>
                            </a:lnTo>
                            <a:lnTo>
                              <a:pt x="16" y="11"/>
                            </a:lnTo>
                            <a:lnTo>
                              <a:pt x="18" y="16"/>
                            </a:lnTo>
                            <a:lnTo>
                              <a:pt x="19" y="20"/>
                            </a:lnTo>
                            <a:lnTo>
                              <a:pt x="21" y="25"/>
                            </a:lnTo>
                            <a:lnTo>
                              <a:pt x="21" y="27"/>
                            </a:lnTo>
                            <a:lnTo>
                              <a:pt x="21" y="29"/>
                            </a:lnTo>
                            <a:lnTo>
                              <a:pt x="21" y="31"/>
                            </a:lnTo>
                            <a:lnTo>
                              <a:pt x="22" y="34"/>
                            </a:lnTo>
                            <a:lnTo>
                              <a:pt x="0" y="34"/>
                            </a:lnTo>
                            <a:lnTo>
                              <a:pt x="1" y="30"/>
                            </a:lnTo>
                            <a:lnTo>
                              <a:pt x="2" y="26"/>
                            </a:lnTo>
                            <a:lnTo>
                              <a:pt x="3" y="21"/>
                            </a:lnTo>
                            <a:lnTo>
                              <a:pt x="4" y="17"/>
                            </a:lnTo>
                            <a:lnTo>
                              <a:pt x="5" y="12"/>
                            </a:lnTo>
                            <a:lnTo>
                              <a:pt x="6" y="8"/>
                            </a:lnTo>
                            <a:lnTo>
                              <a:pt x="7" y="4"/>
                            </a:lnTo>
                            <a:lnTo>
                              <a:pt x="10" y="0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cce8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3349800" y="5235120"/>
                        <a:ext cx="6192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40">
                            <a:moveTo>
                              <a:pt x="3" y="0"/>
                            </a:moveTo>
                            <a:lnTo>
                              <a:pt x="6" y="0"/>
                            </a:lnTo>
                            <a:lnTo>
                              <a:pt x="9" y="1"/>
                            </a:lnTo>
                            <a:lnTo>
                              <a:pt x="12" y="3"/>
                            </a:lnTo>
                            <a:lnTo>
                              <a:pt x="15" y="6"/>
                            </a:lnTo>
                            <a:lnTo>
                              <a:pt x="18" y="8"/>
                            </a:lnTo>
                            <a:lnTo>
                              <a:pt x="21" y="10"/>
                            </a:lnTo>
                            <a:lnTo>
                              <a:pt x="25" y="10"/>
                            </a:lnTo>
                            <a:lnTo>
                              <a:pt x="28" y="9"/>
                            </a:lnTo>
                            <a:lnTo>
                              <a:pt x="29" y="7"/>
                            </a:lnTo>
                            <a:lnTo>
                              <a:pt x="31" y="5"/>
                            </a:lnTo>
                            <a:lnTo>
                              <a:pt x="33" y="3"/>
                            </a:lnTo>
                            <a:lnTo>
                              <a:pt x="35" y="1"/>
                            </a:lnTo>
                            <a:lnTo>
                              <a:pt x="37" y="0"/>
                            </a:lnTo>
                            <a:lnTo>
                              <a:pt x="40" y="0"/>
                            </a:lnTo>
                            <a:lnTo>
                              <a:pt x="42" y="0"/>
                            </a:lnTo>
                            <a:lnTo>
                              <a:pt x="44" y="1"/>
                            </a:lnTo>
                            <a:lnTo>
                              <a:pt x="46" y="3"/>
                            </a:lnTo>
                            <a:lnTo>
                              <a:pt x="48" y="5"/>
                            </a:lnTo>
                            <a:lnTo>
                              <a:pt x="50" y="8"/>
                            </a:lnTo>
                            <a:lnTo>
                              <a:pt x="53" y="10"/>
                            </a:lnTo>
                            <a:lnTo>
                              <a:pt x="55" y="12"/>
                            </a:lnTo>
                            <a:lnTo>
                              <a:pt x="57" y="15"/>
                            </a:lnTo>
                            <a:lnTo>
                              <a:pt x="59" y="18"/>
                            </a:lnTo>
                            <a:lnTo>
                              <a:pt x="62" y="21"/>
                            </a:lnTo>
                            <a:lnTo>
                              <a:pt x="66" y="23"/>
                            </a:lnTo>
                            <a:lnTo>
                              <a:pt x="68" y="25"/>
                            </a:lnTo>
                            <a:lnTo>
                              <a:pt x="71" y="26"/>
                            </a:lnTo>
                            <a:lnTo>
                              <a:pt x="74" y="27"/>
                            </a:lnTo>
                            <a:lnTo>
                              <a:pt x="76" y="26"/>
                            </a:lnTo>
                            <a:lnTo>
                              <a:pt x="78" y="25"/>
                            </a:lnTo>
                            <a:lnTo>
                              <a:pt x="81" y="22"/>
                            </a:lnTo>
                            <a:lnTo>
                              <a:pt x="83" y="21"/>
                            </a:lnTo>
                            <a:lnTo>
                              <a:pt x="86" y="20"/>
                            </a:lnTo>
                            <a:lnTo>
                              <a:pt x="88" y="21"/>
                            </a:lnTo>
                            <a:lnTo>
                              <a:pt x="90" y="22"/>
                            </a:lnTo>
                            <a:lnTo>
                              <a:pt x="92" y="26"/>
                            </a:lnTo>
                            <a:lnTo>
                              <a:pt x="93" y="28"/>
                            </a:lnTo>
                            <a:lnTo>
                              <a:pt x="94" y="31"/>
                            </a:lnTo>
                            <a:lnTo>
                              <a:pt x="95" y="34"/>
                            </a:lnTo>
                            <a:lnTo>
                              <a:pt x="97" y="38"/>
                            </a:lnTo>
                            <a:lnTo>
                              <a:pt x="96" y="39"/>
                            </a:lnTo>
                            <a:lnTo>
                              <a:pt x="95" y="40"/>
                            </a:lnTo>
                            <a:lnTo>
                              <a:pt x="93" y="39"/>
                            </a:lnTo>
                            <a:lnTo>
                              <a:pt x="92" y="37"/>
                            </a:lnTo>
                            <a:lnTo>
                              <a:pt x="90" y="34"/>
                            </a:lnTo>
                            <a:lnTo>
                              <a:pt x="89" y="32"/>
                            </a:lnTo>
                            <a:lnTo>
                              <a:pt x="85" y="29"/>
                            </a:lnTo>
                            <a:lnTo>
                              <a:pt x="82" y="28"/>
                            </a:lnTo>
                            <a:lnTo>
                              <a:pt x="78" y="30"/>
                            </a:lnTo>
                            <a:lnTo>
                              <a:pt x="76" y="31"/>
                            </a:lnTo>
                            <a:lnTo>
                              <a:pt x="72" y="33"/>
                            </a:lnTo>
                            <a:lnTo>
                              <a:pt x="70" y="33"/>
                            </a:lnTo>
                            <a:lnTo>
                              <a:pt x="66" y="33"/>
                            </a:lnTo>
                            <a:lnTo>
                              <a:pt x="63" y="32"/>
                            </a:lnTo>
                            <a:lnTo>
                              <a:pt x="60" y="31"/>
                            </a:lnTo>
                            <a:lnTo>
                              <a:pt x="58" y="28"/>
                            </a:lnTo>
                            <a:lnTo>
                              <a:pt x="55" y="25"/>
                            </a:lnTo>
                            <a:lnTo>
                              <a:pt x="54" y="22"/>
                            </a:lnTo>
                            <a:lnTo>
                              <a:pt x="53" y="20"/>
                            </a:lnTo>
                            <a:lnTo>
                              <a:pt x="52" y="18"/>
                            </a:lnTo>
                            <a:lnTo>
                              <a:pt x="50" y="16"/>
                            </a:lnTo>
                            <a:lnTo>
                              <a:pt x="49" y="14"/>
                            </a:lnTo>
                            <a:lnTo>
                              <a:pt x="47" y="11"/>
                            </a:lnTo>
                            <a:lnTo>
                              <a:pt x="45" y="10"/>
                            </a:lnTo>
                            <a:lnTo>
                              <a:pt x="42" y="9"/>
                            </a:lnTo>
                            <a:lnTo>
                              <a:pt x="40" y="8"/>
                            </a:lnTo>
                            <a:lnTo>
                              <a:pt x="37" y="9"/>
                            </a:lnTo>
                            <a:lnTo>
                              <a:pt x="34" y="10"/>
                            </a:lnTo>
                            <a:lnTo>
                              <a:pt x="31" y="12"/>
                            </a:lnTo>
                            <a:lnTo>
                              <a:pt x="29" y="16"/>
                            </a:lnTo>
                            <a:lnTo>
                              <a:pt x="26" y="17"/>
                            </a:lnTo>
                            <a:lnTo>
                              <a:pt x="23" y="18"/>
                            </a:lnTo>
                            <a:lnTo>
                              <a:pt x="20" y="17"/>
                            </a:lnTo>
                            <a:lnTo>
                              <a:pt x="18" y="15"/>
                            </a:lnTo>
                            <a:lnTo>
                              <a:pt x="15" y="12"/>
                            </a:lnTo>
                            <a:lnTo>
                              <a:pt x="13" y="11"/>
                            </a:lnTo>
                            <a:lnTo>
                              <a:pt x="10" y="9"/>
                            </a:lnTo>
                            <a:lnTo>
                              <a:pt x="8" y="8"/>
                            </a:lnTo>
                            <a:lnTo>
                              <a:pt x="6" y="8"/>
                            </a:lnTo>
                            <a:lnTo>
                              <a:pt x="4" y="9"/>
                            </a:lnTo>
                            <a:lnTo>
                              <a:pt x="2" y="9"/>
                            </a:lnTo>
                            <a:lnTo>
                              <a:pt x="1" y="9"/>
                            </a:lnTo>
                            <a:lnTo>
                              <a:pt x="0" y="7"/>
                            </a:lnTo>
                            <a:lnTo>
                              <a:pt x="0" y="4"/>
                            </a:lnTo>
                            <a:lnTo>
                              <a:pt x="1" y="1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ede67d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3333600" y="5255280"/>
                        <a:ext cx="81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33">
                            <a:moveTo>
                              <a:pt x="97" y="19"/>
                            </a:moveTo>
                            <a:lnTo>
                              <a:pt x="98" y="17"/>
                            </a:lnTo>
                            <a:lnTo>
                              <a:pt x="101" y="16"/>
                            </a:lnTo>
                            <a:lnTo>
                              <a:pt x="103" y="13"/>
                            </a:lnTo>
                            <a:lnTo>
                              <a:pt x="106" y="13"/>
                            </a:lnTo>
                            <a:lnTo>
                              <a:pt x="108" y="13"/>
                            </a:lnTo>
                            <a:lnTo>
                              <a:pt x="111" y="13"/>
                            </a:lnTo>
                            <a:lnTo>
                              <a:pt x="113" y="15"/>
                            </a:lnTo>
                            <a:lnTo>
                              <a:pt x="115" y="16"/>
                            </a:lnTo>
                            <a:lnTo>
                              <a:pt x="118" y="16"/>
                            </a:lnTo>
                            <a:lnTo>
                              <a:pt x="120" y="13"/>
                            </a:lnTo>
                            <a:lnTo>
                              <a:pt x="125" y="22"/>
                            </a:lnTo>
                            <a:lnTo>
                              <a:pt x="123" y="24"/>
                            </a:lnTo>
                            <a:lnTo>
                              <a:pt x="120" y="24"/>
                            </a:lnTo>
                            <a:lnTo>
                              <a:pt x="116" y="23"/>
                            </a:lnTo>
                            <a:lnTo>
                              <a:pt x="113" y="22"/>
                            </a:lnTo>
                            <a:lnTo>
                              <a:pt x="109" y="21"/>
                            </a:lnTo>
                            <a:lnTo>
                              <a:pt x="105" y="20"/>
                            </a:lnTo>
                            <a:lnTo>
                              <a:pt x="102" y="20"/>
                            </a:lnTo>
                            <a:lnTo>
                              <a:pt x="100" y="22"/>
                            </a:lnTo>
                            <a:lnTo>
                              <a:pt x="97" y="23"/>
                            </a:lnTo>
                            <a:lnTo>
                              <a:pt x="93" y="22"/>
                            </a:lnTo>
                            <a:lnTo>
                              <a:pt x="91" y="19"/>
                            </a:lnTo>
                            <a:lnTo>
                              <a:pt x="87" y="16"/>
                            </a:lnTo>
                            <a:lnTo>
                              <a:pt x="84" y="11"/>
                            </a:lnTo>
                            <a:lnTo>
                              <a:pt x="81" y="9"/>
                            </a:lnTo>
                            <a:lnTo>
                              <a:pt x="78" y="7"/>
                            </a:lnTo>
                            <a:lnTo>
                              <a:pt x="75" y="8"/>
                            </a:lnTo>
                            <a:lnTo>
                              <a:pt x="71" y="9"/>
                            </a:lnTo>
                            <a:lnTo>
                              <a:pt x="68" y="10"/>
                            </a:lnTo>
                            <a:lnTo>
                              <a:pt x="66" y="12"/>
                            </a:lnTo>
                            <a:lnTo>
                              <a:pt x="63" y="16"/>
                            </a:lnTo>
                            <a:lnTo>
                              <a:pt x="60" y="18"/>
                            </a:lnTo>
                            <a:lnTo>
                              <a:pt x="58" y="21"/>
                            </a:lnTo>
                            <a:lnTo>
                              <a:pt x="56" y="23"/>
                            </a:lnTo>
                            <a:lnTo>
                              <a:pt x="53" y="24"/>
                            </a:lnTo>
                            <a:lnTo>
                              <a:pt x="50" y="27"/>
                            </a:lnTo>
                            <a:lnTo>
                              <a:pt x="48" y="28"/>
                            </a:lnTo>
                            <a:lnTo>
                              <a:pt x="44" y="29"/>
                            </a:lnTo>
                            <a:lnTo>
                              <a:pt x="42" y="31"/>
                            </a:lnTo>
                            <a:lnTo>
                              <a:pt x="39" y="31"/>
                            </a:lnTo>
                            <a:lnTo>
                              <a:pt x="37" y="32"/>
                            </a:lnTo>
                            <a:lnTo>
                              <a:pt x="33" y="32"/>
                            </a:lnTo>
                            <a:lnTo>
                              <a:pt x="30" y="33"/>
                            </a:lnTo>
                            <a:lnTo>
                              <a:pt x="27" y="32"/>
                            </a:lnTo>
                            <a:lnTo>
                              <a:pt x="24" y="30"/>
                            </a:lnTo>
                            <a:lnTo>
                              <a:pt x="21" y="27"/>
                            </a:lnTo>
                            <a:lnTo>
                              <a:pt x="18" y="23"/>
                            </a:lnTo>
                            <a:lnTo>
                              <a:pt x="15" y="20"/>
                            </a:lnTo>
                            <a:lnTo>
                              <a:pt x="12" y="18"/>
                            </a:lnTo>
                            <a:lnTo>
                              <a:pt x="10" y="16"/>
                            </a:lnTo>
                            <a:lnTo>
                              <a:pt x="7" y="15"/>
                            </a:lnTo>
                            <a:lnTo>
                              <a:pt x="4" y="15"/>
                            </a:lnTo>
                            <a:lnTo>
                              <a:pt x="3" y="16"/>
                            </a:lnTo>
                            <a:lnTo>
                              <a:pt x="1" y="16"/>
                            </a:lnTo>
                            <a:lnTo>
                              <a:pt x="1" y="16"/>
                            </a:lnTo>
                            <a:lnTo>
                              <a:pt x="0" y="13"/>
                            </a:lnTo>
                            <a:lnTo>
                              <a:pt x="0" y="11"/>
                            </a:lnTo>
                            <a:lnTo>
                              <a:pt x="4" y="9"/>
                            </a:lnTo>
                            <a:lnTo>
                              <a:pt x="9" y="9"/>
                            </a:lnTo>
                            <a:lnTo>
                              <a:pt x="13" y="11"/>
                            </a:lnTo>
                            <a:lnTo>
                              <a:pt x="17" y="16"/>
                            </a:lnTo>
                            <a:lnTo>
                              <a:pt x="20" y="20"/>
                            </a:lnTo>
                            <a:lnTo>
                              <a:pt x="25" y="23"/>
                            </a:lnTo>
                            <a:lnTo>
                              <a:pt x="27" y="24"/>
                            </a:lnTo>
                            <a:lnTo>
                              <a:pt x="29" y="26"/>
                            </a:lnTo>
                            <a:lnTo>
                              <a:pt x="31" y="26"/>
                            </a:lnTo>
                            <a:lnTo>
                              <a:pt x="34" y="26"/>
                            </a:lnTo>
                            <a:lnTo>
                              <a:pt x="36" y="24"/>
                            </a:lnTo>
                            <a:lnTo>
                              <a:pt x="38" y="24"/>
                            </a:lnTo>
                            <a:lnTo>
                              <a:pt x="40" y="23"/>
                            </a:lnTo>
                            <a:lnTo>
                              <a:pt x="43" y="22"/>
                            </a:lnTo>
                            <a:lnTo>
                              <a:pt x="45" y="20"/>
                            </a:lnTo>
                            <a:lnTo>
                              <a:pt x="48" y="19"/>
                            </a:lnTo>
                            <a:lnTo>
                              <a:pt x="50" y="17"/>
                            </a:lnTo>
                            <a:lnTo>
                              <a:pt x="52" y="16"/>
                            </a:lnTo>
                            <a:lnTo>
                              <a:pt x="56" y="11"/>
                            </a:lnTo>
                            <a:lnTo>
                              <a:pt x="61" y="8"/>
                            </a:lnTo>
                            <a:lnTo>
                              <a:pt x="63" y="7"/>
                            </a:lnTo>
                            <a:lnTo>
                              <a:pt x="65" y="5"/>
                            </a:lnTo>
                            <a:lnTo>
                              <a:pt x="68" y="4"/>
                            </a:lnTo>
                            <a:lnTo>
                              <a:pt x="70" y="3"/>
                            </a:lnTo>
                            <a:lnTo>
                              <a:pt x="72" y="0"/>
                            </a:lnTo>
                            <a:lnTo>
                              <a:pt x="74" y="0"/>
                            </a:lnTo>
                            <a:lnTo>
                              <a:pt x="76" y="0"/>
                            </a:lnTo>
                            <a:lnTo>
                              <a:pt x="78" y="1"/>
                            </a:lnTo>
                            <a:lnTo>
                              <a:pt x="82" y="4"/>
                            </a:lnTo>
                            <a:lnTo>
                              <a:pt x="85" y="7"/>
                            </a:lnTo>
                            <a:lnTo>
                              <a:pt x="87" y="10"/>
                            </a:lnTo>
                            <a:lnTo>
                              <a:pt x="91" y="13"/>
                            </a:lnTo>
                            <a:lnTo>
                              <a:pt x="93" y="17"/>
                            </a:lnTo>
                            <a:lnTo>
                              <a:pt x="97" y="19"/>
                            </a:lnTo>
                            <a:lnTo>
                              <a:pt x="97" y="19"/>
                            </a:lnTo>
                            <a:close/>
                          </a:path>
                        </a:pathLst>
                      </a:custGeom>
                      <a:solidFill>
                        <a:srgbClr val="3be3c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3112200" y="5208120"/>
                        <a:ext cx="2808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92">
                            <a:moveTo>
                              <a:pt x="13" y="1"/>
                            </a:moveTo>
                            <a:lnTo>
                              <a:pt x="14" y="0"/>
                            </a:lnTo>
                            <a:lnTo>
                              <a:pt x="17" y="0"/>
                            </a:lnTo>
                            <a:lnTo>
                              <a:pt x="21" y="1"/>
                            </a:lnTo>
                            <a:lnTo>
                              <a:pt x="25" y="3"/>
                            </a:lnTo>
                            <a:lnTo>
                              <a:pt x="29" y="5"/>
                            </a:lnTo>
                            <a:lnTo>
                              <a:pt x="33" y="7"/>
                            </a:lnTo>
                            <a:lnTo>
                              <a:pt x="35" y="10"/>
                            </a:lnTo>
                            <a:lnTo>
                              <a:pt x="37" y="12"/>
                            </a:lnTo>
                            <a:lnTo>
                              <a:pt x="39" y="14"/>
                            </a:lnTo>
                            <a:lnTo>
                              <a:pt x="40" y="16"/>
                            </a:lnTo>
                            <a:lnTo>
                              <a:pt x="42" y="21"/>
                            </a:lnTo>
                            <a:lnTo>
                              <a:pt x="44" y="25"/>
                            </a:lnTo>
                            <a:lnTo>
                              <a:pt x="44" y="27"/>
                            </a:lnTo>
                            <a:lnTo>
                              <a:pt x="44" y="29"/>
                            </a:lnTo>
                            <a:lnTo>
                              <a:pt x="44" y="32"/>
                            </a:lnTo>
                            <a:lnTo>
                              <a:pt x="44" y="35"/>
                            </a:lnTo>
                            <a:lnTo>
                              <a:pt x="44" y="38"/>
                            </a:lnTo>
                            <a:lnTo>
                              <a:pt x="42" y="41"/>
                            </a:lnTo>
                            <a:lnTo>
                              <a:pt x="41" y="45"/>
                            </a:lnTo>
                            <a:lnTo>
                              <a:pt x="40" y="50"/>
                            </a:lnTo>
                            <a:lnTo>
                              <a:pt x="38" y="55"/>
                            </a:lnTo>
                            <a:lnTo>
                              <a:pt x="37" y="59"/>
                            </a:lnTo>
                            <a:lnTo>
                              <a:pt x="36" y="61"/>
                            </a:lnTo>
                            <a:lnTo>
                              <a:pt x="35" y="65"/>
                            </a:lnTo>
                            <a:lnTo>
                              <a:pt x="34" y="67"/>
                            </a:lnTo>
                            <a:lnTo>
                              <a:pt x="34" y="69"/>
                            </a:lnTo>
                            <a:lnTo>
                              <a:pt x="32" y="73"/>
                            </a:lnTo>
                            <a:lnTo>
                              <a:pt x="30" y="78"/>
                            </a:lnTo>
                            <a:lnTo>
                              <a:pt x="29" y="81"/>
                            </a:lnTo>
                            <a:lnTo>
                              <a:pt x="28" y="84"/>
                            </a:lnTo>
                            <a:lnTo>
                              <a:pt x="27" y="88"/>
                            </a:lnTo>
                            <a:lnTo>
                              <a:pt x="26" y="90"/>
                            </a:lnTo>
                            <a:lnTo>
                              <a:pt x="25" y="91"/>
                            </a:lnTo>
                            <a:lnTo>
                              <a:pt x="25" y="92"/>
                            </a:lnTo>
                            <a:lnTo>
                              <a:pt x="15" y="91"/>
                            </a:lnTo>
                            <a:lnTo>
                              <a:pt x="0" y="58"/>
                            </a:lnTo>
                            <a:lnTo>
                              <a:pt x="0" y="58"/>
                            </a:lnTo>
                            <a:lnTo>
                              <a:pt x="0" y="56"/>
                            </a:lnTo>
                            <a:lnTo>
                              <a:pt x="0" y="52"/>
                            </a:lnTo>
                            <a:lnTo>
                              <a:pt x="2" y="49"/>
                            </a:lnTo>
                            <a:lnTo>
                              <a:pt x="2" y="47"/>
                            </a:lnTo>
                            <a:lnTo>
                              <a:pt x="2" y="45"/>
                            </a:lnTo>
                            <a:lnTo>
                              <a:pt x="3" y="43"/>
                            </a:lnTo>
                            <a:lnTo>
                              <a:pt x="3" y="40"/>
                            </a:lnTo>
                            <a:lnTo>
                              <a:pt x="3" y="37"/>
                            </a:lnTo>
                            <a:lnTo>
                              <a:pt x="4" y="35"/>
                            </a:lnTo>
                            <a:lnTo>
                              <a:pt x="4" y="32"/>
                            </a:lnTo>
                            <a:lnTo>
                              <a:pt x="5" y="29"/>
                            </a:lnTo>
                            <a:lnTo>
                              <a:pt x="5" y="27"/>
                            </a:lnTo>
                            <a:lnTo>
                              <a:pt x="6" y="24"/>
                            </a:lnTo>
                            <a:lnTo>
                              <a:pt x="6" y="22"/>
                            </a:lnTo>
                            <a:lnTo>
                              <a:pt x="7" y="18"/>
                            </a:lnTo>
                            <a:lnTo>
                              <a:pt x="7" y="16"/>
                            </a:lnTo>
                            <a:lnTo>
                              <a:pt x="8" y="14"/>
                            </a:lnTo>
                            <a:lnTo>
                              <a:pt x="8" y="12"/>
                            </a:lnTo>
                            <a:lnTo>
                              <a:pt x="9" y="10"/>
                            </a:lnTo>
                            <a:lnTo>
                              <a:pt x="10" y="5"/>
                            </a:lnTo>
                            <a:lnTo>
                              <a:pt x="11" y="3"/>
                            </a:lnTo>
                            <a:lnTo>
                              <a:pt x="11" y="1"/>
                            </a:lnTo>
                            <a:lnTo>
                              <a:pt x="13" y="1"/>
                            </a:lnTo>
                            <a:lnTo>
                              <a:pt x="13" y="1"/>
                            </a:lnTo>
                            <a:close/>
                          </a:path>
                        </a:pathLst>
                      </a:custGeom>
                      <a:solidFill>
                        <a:srgbClr val="9cb8ff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0" name=""/>
                      <p:cNvSpPr/>
                      <p:nvPr/>
                    </p:nvSpPr>
                    <p:spPr>
                      <a:xfrm>
                        <a:off x="3413160" y="5194080"/>
                        <a:ext cx="6300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3">
                            <a:moveTo>
                              <a:pt x="95" y="4"/>
                            </a:moveTo>
                            <a:lnTo>
                              <a:pt x="92" y="2"/>
                            </a:lnTo>
                            <a:lnTo>
                              <a:pt x="89" y="2"/>
                            </a:lnTo>
                            <a:lnTo>
                              <a:pt x="85" y="1"/>
                            </a:lnTo>
                            <a:lnTo>
                              <a:pt x="81" y="1"/>
                            </a:lnTo>
                            <a:lnTo>
                              <a:pt x="77" y="0"/>
                            </a:lnTo>
                            <a:lnTo>
                              <a:pt x="74" y="0"/>
                            </a:lnTo>
                            <a:lnTo>
                              <a:pt x="70" y="0"/>
                            </a:lnTo>
                            <a:lnTo>
                              <a:pt x="67" y="0"/>
                            </a:lnTo>
                            <a:lnTo>
                              <a:pt x="62" y="0"/>
                            </a:lnTo>
                            <a:lnTo>
                              <a:pt x="59" y="0"/>
                            </a:lnTo>
                            <a:lnTo>
                              <a:pt x="54" y="1"/>
                            </a:lnTo>
                            <a:lnTo>
                              <a:pt x="51" y="2"/>
                            </a:lnTo>
                            <a:lnTo>
                              <a:pt x="46" y="2"/>
                            </a:lnTo>
                            <a:lnTo>
                              <a:pt x="42" y="4"/>
                            </a:lnTo>
                            <a:lnTo>
                              <a:pt x="37" y="5"/>
                            </a:lnTo>
                            <a:lnTo>
                              <a:pt x="34" y="7"/>
                            </a:lnTo>
                            <a:lnTo>
                              <a:pt x="33" y="7"/>
                            </a:lnTo>
                            <a:lnTo>
                              <a:pt x="32" y="8"/>
                            </a:lnTo>
                            <a:lnTo>
                              <a:pt x="30" y="9"/>
                            </a:lnTo>
                            <a:lnTo>
                              <a:pt x="28" y="10"/>
                            </a:lnTo>
                            <a:lnTo>
                              <a:pt x="25" y="11"/>
                            </a:lnTo>
                            <a:lnTo>
                              <a:pt x="22" y="15"/>
                            </a:lnTo>
                            <a:lnTo>
                              <a:pt x="19" y="17"/>
                            </a:lnTo>
                            <a:lnTo>
                              <a:pt x="16" y="20"/>
                            </a:lnTo>
                            <a:lnTo>
                              <a:pt x="13" y="22"/>
                            </a:lnTo>
                            <a:lnTo>
                              <a:pt x="10" y="24"/>
                            </a:lnTo>
                            <a:lnTo>
                              <a:pt x="7" y="28"/>
                            </a:lnTo>
                            <a:lnTo>
                              <a:pt x="5" y="31"/>
                            </a:lnTo>
                            <a:lnTo>
                              <a:pt x="1" y="33"/>
                            </a:lnTo>
                            <a:lnTo>
                              <a:pt x="0" y="35"/>
                            </a:lnTo>
                            <a:lnTo>
                              <a:pt x="0" y="38"/>
                            </a:lnTo>
                            <a:lnTo>
                              <a:pt x="0" y="41"/>
                            </a:lnTo>
                            <a:lnTo>
                              <a:pt x="1" y="42"/>
                            </a:lnTo>
                            <a:lnTo>
                              <a:pt x="2" y="44"/>
                            </a:lnTo>
                            <a:lnTo>
                              <a:pt x="5" y="45"/>
                            </a:lnTo>
                            <a:lnTo>
                              <a:pt x="9" y="46"/>
                            </a:lnTo>
                            <a:lnTo>
                              <a:pt x="11" y="47"/>
                            </a:lnTo>
                            <a:lnTo>
                              <a:pt x="15" y="49"/>
                            </a:lnTo>
                            <a:lnTo>
                              <a:pt x="19" y="50"/>
                            </a:lnTo>
                            <a:lnTo>
                              <a:pt x="23" y="51"/>
                            </a:lnTo>
                            <a:lnTo>
                              <a:pt x="26" y="51"/>
                            </a:lnTo>
                            <a:lnTo>
                              <a:pt x="29" y="51"/>
                            </a:lnTo>
                            <a:lnTo>
                              <a:pt x="33" y="52"/>
                            </a:lnTo>
                            <a:lnTo>
                              <a:pt x="36" y="53"/>
                            </a:lnTo>
                            <a:lnTo>
                              <a:pt x="38" y="53"/>
                            </a:lnTo>
                            <a:lnTo>
                              <a:pt x="40" y="53"/>
                            </a:lnTo>
                            <a:lnTo>
                              <a:pt x="41" y="53"/>
                            </a:lnTo>
                            <a:lnTo>
                              <a:pt x="42" y="53"/>
                            </a:lnTo>
                            <a:lnTo>
                              <a:pt x="67" y="35"/>
                            </a:lnTo>
                            <a:lnTo>
                              <a:pt x="95" y="4"/>
                            </a:lnTo>
                            <a:lnTo>
                              <a:pt x="95" y="4"/>
                            </a:lnTo>
                            <a:close/>
                          </a:path>
                        </a:pathLst>
                      </a:custGeom>
                      <a:solidFill>
                        <a:srgbClr val="ffc2b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1" name=""/>
                      <p:cNvSpPr/>
                      <p:nvPr/>
                    </p:nvSpPr>
                    <p:spPr>
                      <a:xfrm>
                        <a:off x="3414960" y="5213520"/>
                        <a:ext cx="5292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103">
                            <a:moveTo>
                              <a:pt x="51" y="0"/>
                            </a:moveTo>
                            <a:lnTo>
                              <a:pt x="50" y="0"/>
                            </a:lnTo>
                            <a:lnTo>
                              <a:pt x="49" y="0"/>
                            </a:lnTo>
                            <a:lnTo>
                              <a:pt x="47" y="0"/>
                            </a:lnTo>
                            <a:lnTo>
                              <a:pt x="43" y="0"/>
                            </a:lnTo>
                            <a:lnTo>
                              <a:pt x="39" y="0"/>
                            </a:lnTo>
                            <a:lnTo>
                              <a:pt x="36" y="0"/>
                            </a:lnTo>
                            <a:lnTo>
                              <a:pt x="32" y="0"/>
                            </a:lnTo>
                            <a:lnTo>
                              <a:pt x="28" y="1"/>
                            </a:lnTo>
                            <a:lnTo>
                              <a:pt x="25" y="1"/>
                            </a:lnTo>
                            <a:lnTo>
                              <a:pt x="24" y="1"/>
                            </a:lnTo>
                            <a:lnTo>
                              <a:pt x="21" y="1"/>
                            </a:lnTo>
                            <a:lnTo>
                              <a:pt x="19" y="1"/>
                            </a:lnTo>
                            <a:lnTo>
                              <a:pt x="15" y="2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4"/>
                            </a:lnTo>
                            <a:lnTo>
                              <a:pt x="2" y="7"/>
                            </a:lnTo>
                            <a:lnTo>
                              <a:pt x="1" y="8"/>
                            </a:lnTo>
                            <a:lnTo>
                              <a:pt x="0" y="10"/>
                            </a:lnTo>
                            <a:lnTo>
                              <a:pt x="0" y="13"/>
                            </a:lnTo>
                            <a:lnTo>
                              <a:pt x="0" y="15"/>
                            </a:lnTo>
                            <a:lnTo>
                              <a:pt x="0" y="19"/>
                            </a:lnTo>
                            <a:lnTo>
                              <a:pt x="0" y="21"/>
                            </a:lnTo>
                            <a:lnTo>
                              <a:pt x="0" y="24"/>
                            </a:lnTo>
                            <a:lnTo>
                              <a:pt x="0" y="26"/>
                            </a:lnTo>
                            <a:lnTo>
                              <a:pt x="0" y="30"/>
                            </a:lnTo>
                            <a:lnTo>
                              <a:pt x="0" y="32"/>
                            </a:lnTo>
                            <a:lnTo>
                              <a:pt x="0" y="35"/>
                            </a:lnTo>
                            <a:lnTo>
                              <a:pt x="0" y="37"/>
                            </a:lnTo>
                            <a:lnTo>
                              <a:pt x="0" y="40"/>
                            </a:lnTo>
                            <a:lnTo>
                              <a:pt x="0" y="43"/>
                            </a:lnTo>
                            <a:lnTo>
                              <a:pt x="1" y="45"/>
                            </a:lnTo>
                            <a:lnTo>
                              <a:pt x="1" y="48"/>
                            </a:lnTo>
                            <a:lnTo>
                              <a:pt x="1" y="51"/>
                            </a:lnTo>
                            <a:lnTo>
                              <a:pt x="1" y="53"/>
                            </a:lnTo>
                            <a:lnTo>
                              <a:pt x="1" y="56"/>
                            </a:lnTo>
                            <a:lnTo>
                              <a:pt x="1" y="58"/>
                            </a:lnTo>
                            <a:lnTo>
                              <a:pt x="2" y="60"/>
                            </a:lnTo>
                            <a:lnTo>
                              <a:pt x="2" y="63"/>
                            </a:lnTo>
                            <a:lnTo>
                              <a:pt x="2" y="66"/>
                            </a:lnTo>
                            <a:lnTo>
                              <a:pt x="3" y="68"/>
                            </a:lnTo>
                            <a:lnTo>
                              <a:pt x="3" y="70"/>
                            </a:lnTo>
                            <a:lnTo>
                              <a:pt x="3" y="72"/>
                            </a:lnTo>
                            <a:lnTo>
                              <a:pt x="5" y="76"/>
                            </a:lnTo>
                            <a:lnTo>
                              <a:pt x="6" y="78"/>
                            </a:lnTo>
                            <a:lnTo>
                              <a:pt x="6" y="81"/>
                            </a:lnTo>
                            <a:lnTo>
                              <a:pt x="7" y="83"/>
                            </a:lnTo>
                            <a:lnTo>
                              <a:pt x="8" y="86"/>
                            </a:lnTo>
                            <a:lnTo>
                              <a:pt x="8" y="88"/>
                            </a:lnTo>
                            <a:lnTo>
                              <a:pt x="9" y="91"/>
                            </a:lnTo>
                            <a:lnTo>
                              <a:pt x="10" y="92"/>
                            </a:lnTo>
                            <a:lnTo>
                              <a:pt x="13" y="96"/>
                            </a:lnTo>
                            <a:lnTo>
                              <a:pt x="15" y="98"/>
                            </a:lnTo>
                            <a:lnTo>
                              <a:pt x="19" y="99"/>
                            </a:lnTo>
                            <a:lnTo>
                              <a:pt x="21" y="100"/>
                            </a:lnTo>
                            <a:lnTo>
                              <a:pt x="23" y="101"/>
                            </a:lnTo>
                            <a:lnTo>
                              <a:pt x="25" y="101"/>
                            </a:lnTo>
                            <a:lnTo>
                              <a:pt x="28" y="102"/>
                            </a:lnTo>
                            <a:lnTo>
                              <a:pt x="30" y="102"/>
                            </a:lnTo>
                            <a:lnTo>
                              <a:pt x="33" y="102"/>
                            </a:lnTo>
                            <a:lnTo>
                              <a:pt x="37" y="102"/>
                            </a:lnTo>
                            <a:lnTo>
                              <a:pt x="41" y="102"/>
                            </a:lnTo>
                            <a:lnTo>
                              <a:pt x="46" y="102"/>
                            </a:lnTo>
                            <a:lnTo>
                              <a:pt x="50" y="102"/>
                            </a:lnTo>
                            <a:lnTo>
                              <a:pt x="53" y="102"/>
                            </a:lnTo>
                            <a:lnTo>
                              <a:pt x="55" y="102"/>
                            </a:lnTo>
                            <a:lnTo>
                              <a:pt x="57" y="102"/>
                            </a:lnTo>
                            <a:lnTo>
                              <a:pt x="60" y="102"/>
                            </a:lnTo>
                            <a:lnTo>
                              <a:pt x="64" y="102"/>
                            </a:lnTo>
                            <a:lnTo>
                              <a:pt x="68" y="102"/>
                            </a:lnTo>
                            <a:lnTo>
                              <a:pt x="71" y="102"/>
                            </a:lnTo>
                            <a:lnTo>
                              <a:pt x="75" y="102"/>
                            </a:lnTo>
                            <a:lnTo>
                              <a:pt x="77" y="102"/>
                            </a:lnTo>
                            <a:lnTo>
                              <a:pt x="80" y="102"/>
                            </a:lnTo>
                            <a:lnTo>
                              <a:pt x="81" y="102"/>
                            </a:lnTo>
                            <a:lnTo>
                              <a:pt x="82" y="103"/>
                            </a:lnTo>
                            <a:lnTo>
                              <a:pt x="81" y="59"/>
                            </a:lnTo>
                            <a:lnTo>
                              <a:pt x="56" y="11"/>
                            </a:lnTo>
                            <a:lnTo>
                              <a:pt x="51" y="0"/>
                            </a:lnTo>
                            <a:lnTo>
                              <a:pt x="51" y="0"/>
                            </a:lnTo>
                            <a:close/>
                          </a:path>
                        </a:pathLst>
                      </a:custGeom>
                      <a:solidFill>
                        <a:srgbClr val="edb8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3447720" y="5195160"/>
                        <a:ext cx="3960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132">
                            <a:moveTo>
                              <a:pt x="45" y="0"/>
                            </a:moveTo>
                            <a:lnTo>
                              <a:pt x="44" y="0"/>
                            </a:lnTo>
                            <a:lnTo>
                              <a:pt x="43" y="0"/>
                            </a:lnTo>
                            <a:lnTo>
                              <a:pt x="40" y="2"/>
                            </a:lnTo>
                            <a:lnTo>
                              <a:pt x="38" y="3"/>
                            </a:lnTo>
                            <a:lnTo>
                              <a:pt x="34" y="5"/>
                            </a:lnTo>
                            <a:lnTo>
                              <a:pt x="30" y="6"/>
                            </a:lnTo>
                            <a:lnTo>
                              <a:pt x="26" y="8"/>
                            </a:lnTo>
                            <a:lnTo>
                              <a:pt x="23" y="10"/>
                            </a:lnTo>
                            <a:lnTo>
                              <a:pt x="18" y="13"/>
                            </a:lnTo>
                            <a:lnTo>
                              <a:pt x="14" y="15"/>
                            </a:lnTo>
                            <a:lnTo>
                              <a:pt x="11" y="17"/>
                            </a:lnTo>
                            <a:lnTo>
                              <a:pt x="8" y="20"/>
                            </a:lnTo>
                            <a:lnTo>
                              <a:pt x="4" y="22"/>
                            </a:lnTo>
                            <a:lnTo>
                              <a:pt x="3" y="25"/>
                            </a:lnTo>
                            <a:lnTo>
                              <a:pt x="0" y="27"/>
                            </a:lnTo>
                            <a:lnTo>
                              <a:pt x="0" y="29"/>
                            </a:lnTo>
                            <a:lnTo>
                              <a:pt x="0" y="31"/>
                            </a:lnTo>
                            <a:lnTo>
                              <a:pt x="0" y="33"/>
                            </a:lnTo>
                            <a:lnTo>
                              <a:pt x="0" y="36"/>
                            </a:lnTo>
                            <a:lnTo>
                              <a:pt x="0" y="38"/>
                            </a:lnTo>
                            <a:lnTo>
                              <a:pt x="0" y="41"/>
                            </a:lnTo>
                            <a:lnTo>
                              <a:pt x="1" y="44"/>
                            </a:lnTo>
                            <a:lnTo>
                              <a:pt x="2" y="49"/>
                            </a:lnTo>
                            <a:lnTo>
                              <a:pt x="3" y="52"/>
                            </a:lnTo>
                            <a:lnTo>
                              <a:pt x="4" y="56"/>
                            </a:lnTo>
                            <a:lnTo>
                              <a:pt x="5" y="60"/>
                            </a:lnTo>
                            <a:lnTo>
                              <a:pt x="7" y="64"/>
                            </a:lnTo>
                            <a:lnTo>
                              <a:pt x="8" y="69"/>
                            </a:lnTo>
                            <a:lnTo>
                              <a:pt x="9" y="73"/>
                            </a:lnTo>
                            <a:lnTo>
                              <a:pt x="11" y="77"/>
                            </a:lnTo>
                            <a:lnTo>
                              <a:pt x="12" y="82"/>
                            </a:lnTo>
                            <a:lnTo>
                              <a:pt x="14" y="87"/>
                            </a:lnTo>
                            <a:lnTo>
                              <a:pt x="15" y="91"/>
                            </a:lnTo>
                            <a:lnTo>
                              <a:pt x="17" y="95"/>
                            </a:lnTo>
                            <a:lnTo>
                              <a:pt x="18" y="99"/>
                            </a:lnTo>
                            <a:lnTo>
                              <a:pt x="20" y="104"/>
                            </a:lnTo>
                            <a:lnTo>
                              <a:pt x="21" y="107"/>
                            </a:lnTo>
                            <a:lnTo>
                              <a:pt x="22" y="111"/>
                            </a:lnTo>
                            <a:lnTo>
                              <a:pt x="24" y="115"/>
                            </a:lnTo>
                            <a:lnTo>
                              <a:pt x="25" y="118"/>
                            </a:lnTo>
                            <a:lnTo>
                              <a:pt x="26" y="120"/>
                            </a:lnTo>
                            <a:lnTo>
                              <a:pt x="27" y="123"/>
                            </a:lnTo>
                            <a:lnTo>
                              <a:pt x="28" y="126"/>
                            </a:lnTo>
                            <a:lnTo>
                              <a:pt x="29" y="128"/>
                            </a:lnTo>
                            <a:lnTo>
                              <a:pt x="30" y="130"/>
                            </a:lnTo>
                            <a:lnTo>
                              <a:pt x="31" y="132"/>
                            </a:lnTo>
                            <a:lnTo>
                              <a:pt x="36" y="130"/>
                            </a:lnTo>
                            <a:lnTo>
                              <a:pt x="36" y="129"/>
                            </a:lnTo>
                            <a:lnTo>
                              <a:pt x="38" y="128"/>
                            </a:lnTo>
                            <a:lnTo>
                              <a:pt x="39" y="126"/>
                            </a:lnTo>
                            <a:lnTo>
                              <a:pt x="40" y="123"/>
                            </a:lnTo>
                            <a:lnTo>
                              <a:pt x="41" y="120"/>
                            </a:lnTo>
                            <a:lnTo>
                              <a:pt x="43" y="117"/>
                            </a:lnTo>
                            <a:lnTo>
                              <a:pt x="44" y="114"/>
                            </a:lnTo>
                            <a:lnTo>
                              <a:pt x="47" y="110"/>
                            </a:lnTo>
                            <a:lnTo>
                              <a:pt x="48" y="106"/>
                            </a:lnTo>
                            <a:lnTo>
                              <a:pt x="50" y="101"/>
                            </a:lnTo>
                            <a:lnTo>
                              <a:pt x="52" y="97"/>
                            </a:lnTo>
                            <a:lnTo>
                              <a:pt x="54" y="95"/>
                            </a:lnTo>
                            <a:lnTo>
                              <a:pt x="56" y="91"/>
                            </a:lnTo>
                            <a:lnTo>
                              <a:pt x="58" y="88"/>
                            </a:lnTo>
                            <a:lnTo>
                              <a:pt x="59" y="86"/>
                            </a:lnTo>
                            <a:lnTo>
                              <a:pt x="61" y="84"/>
                            </a:lnTo>
                            <a:lnTo>
                              <a:pt x="56" y="40"/>
                            </a:lnTo>
                            <a:lnTo>
                              <a:pt x="52" y="7"/>
                            </a:lnTo>
                            <a:lnTo>
                              <a:pt x="45" y="0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fad4ad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3477240" y="5252760"/>
                        <a:ext cx="3636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103">
                            <a:moveTo>
                              <a:pt x="54" y="8"/>
                            </a:moveTo>
                            <a:lnTo>
                              <a:pt x="57" y="103"/>
                            </a:lnTo>
                            <a:lnTo>
                              <a:pt x="32" y="94"/>
                            </a:lnTo>
                            <a:lnTo>
                              <a:pt x="0" y="87"/>
                            </a:lnTo>
                            <a:lnTo>
                              <a:pt x="5" y="60"/>
                            </a:lnTo>
                            <a:lnTo>
                              <a:pt x="20" y="5"/>
                            </a:lnTo>
                            <a:lnTo>
                              <a:pt x="26" y="0"/>
                            </a:lnTo>
                            <a:lnTo>
                              <a:pt x="54" y="8"/>
                            </a:lnTo>
                            <a:lnTo>
                              <a:pt x="54" y="8"/>
                            </a:lnTo>
                            <a:close/>
                          </a:path>
                        </a:pathLst>
                      </a:custGeom>
                      <a:solidFill>
                        <a:srgbClr val="fad4ad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3454920" y="5204520"/>
                        <a:ext cx="2808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90">
                            <a:moveTo>
                              <a:pt x="34" y="0"/>
                            </a:moveTo>
                            <a:lnTo>
                              <a:pt x="32" y="0"/>
                            </a:lnTo>
                            <a:lnTo>
                              <a:pt x="30" y="0"/>
                            </a:lnTo>
                            <a:lnTo>
                              <a:pt x="28" y="0"/>
                            </a:lnTo>
                            <a:lnTo>
                              <a:pt x="25" y="1"/>
                            </a:lnTo>
                            <a:lnTo>
                              <a:pt x="23" y="1"/>
                            </a:lnTo>
                            <a:lnTo>
                              <a:pt x="20" y="3"/>
                            </a:lnTo>
                            <a:lnTo>
                              <a:pt x="17" y="4"/>
                            </a:lnTo>
                            <a:lnTo>
                              <a:pt x="15" y="6"/>
                            </a:lnTo>
                            <a:lnTo>
                              <a:pt x="11" y="9"/>
                            </a:lnTo>
                            <a:lnTo>
                              <a:pt x="9" y="11"/>
                            </a:lnTo>
                            <a:lnTo>
                              <a:pt x="6" y="13"/>
                            </a:lnTo>
                            <a:lnTo>
                              <a:pt x="4" y="17"/>
                            </a:lnTo>
                            <a:lnTo>
                              <a:pt x="2" y="21"/>
                            </a:lnTo>
                            <a:lnTo>
                              <a:pt x="1" y="24"/>
                            </a:lnTo>
                            <a:lnTo>
                              <a:pt x="0" y="28"/>
                            </a:lnTo>
                            <a:lnTo>
                              <a:pt x="0" y="33"/>
                            </a:lnTo>
                            <a:lnTo>
                              <a:pt x="0" y="36"/>
                            </a:lnTo>
                            <a:lnTo>
                              <a:pt x="1" y="39"/>
                            </a:lnTo>
                            <a:lnTo>
                              <a:pt x="2" y="44"/>
                            </a:lnTo>
                            <a:lnTo>
                              <a:pt x="4" y="48"/>
                            </a:lnTo>
                            <a:lnTo>
                              <a:pt x="5" y="53"/>
                            </a:lnTo>
                            <a:lnTo>
                              <a:pt x="7" y="57"/>
                            </a:lnTo>
                            <a:lnTo>
                              <a:pt x="8" y="59"/>
                            </a:lnTo>
                            <a:lnTo>
                              <a:pt x="9" y="61"/>
                            </a:lnTo>
                            <a:lnTo>
                              <a:pt x="10" y="64"/>
                            </a:lnTo>
                            <a:lnTo>
                              <a:pt x="11" y="67"/>
                            </a:lnTo>
                            <a:lnTo>
                              <a:pt x="13" y="71"/>
                            </a:lnTo>
                            <a:lnTo>
                              <a:pt x="14" y="76"/>
                            </a:lnTo>
                            <a:lnTo>
                              <a:pt x="16" y="79"/>
                            </a:lnTo>
                            <a:lnTo>
                              <a:pt x="18" y="83"/>
                            </a:lnTo>
                            <a:lnTo>
                              <a:pt x="19" y="85"/>
                            </a:lnTo>
                            <a:lnTo>
                              <a:pt x="20" y="88"/>
                            </a:lnTo>
                            <a:lnTo>
                              <a:pt x="21" y="89"/>
                            </a:lnTo>
                            <a:lnTo>
                              <a:pt x="21" y="90"/>
                            </a:lnTo>
                            <a:lnTo>
                              <a:pt x="30" y="84"/>
                            </a:lnTo>
                            <a:lnTo>
                              <a:pt x="43" y="59"/>
                            </a:lnTo>
                            <a:lnTo>
                              <a:pt x="42" y="58"/>
                            </a:lnTo>
                            <a:lnTo>
                              <a:pt x="42" y="57"/>
                            </a:lnTo>
                            <a:lnTo>
                              <a:pt x="42" y="54"/>
                            </a:lnTo>
                            <a:lnTo>
                              <a:pt x="42" y="50"/>
                            </a:lnTo>
                            <a:lnTo>
                              <a:pt x="41" y="47"/>
                            </a:lnTo>
                            <a:lnTo>
                              <a:pt x="41" y="45"/>
                            </a:lnTo>
                            <a:lnTo>
                              <a:pt x="40" y="43"/>
                            </a:lnTo>
                            <a:lnTo>
                              <a:pt x="40" y="40"/>
                            </a:lnTo>
                            <a:lnTo>
                              <a:pt x="40" y="38"/>
                            </a:lnTo>
                            <a:lnTo>
                              <a:pt x="40" y="35"/>
                            </a:lnTo>
                            <a:lnTo>
                              <a:pt x="39" y="33"/>
                            </a:lnTo>
                            <a:lnTo>
                              <a:pt x="39" y="31"/>
                            </a:lnTo>
                            <a:lnTo>
                              <a:pt x="38" y="27"/>
                            </a:lnTo>
                            <a:lnTo>
                              <a:pt x="38" y="24"/>
                            </a:lnTo>
                            <a:lnTo>
                              <a:pt x="38" y="22"/>
                            </a:lnTo>
                            <a:lnTo>
                              <a:pt x="38" y="20"/>
                            </a:lnTo>
                            <a:lnTo>
                              <a:pt x="37" y="16"/>
                            </a:lnTo>
                            <a:lnTo>
                              <a:pt x="37" y="14"/>
                            </a:lnTo>
                            <a:lnTo>
                              <a:pt x="36" y="12"/>
                            </a:lnTo>
                            <a:lnTo>
                              <a:pt x="36" y="10"/>
                            </a:lnTo>
                            <a:lnTo>
                              <a:pt x="35" y="5"/>
                            </a:lnTo>
                            <a:lnTo>
                              <a:pt x="35" y="2"/>
                            </a:lnTo>
                            <a:lnTo>
                              <a:pt x="34" y="0"/>
                            </a:lnTo>
                            <a:lnTo>
                              <a:pt x="34" y="0"/>
                            </a:lnTo>
                            <a:lnTo>
                              <a:pt x="34" y="0"/>
                            </a:lnTo>
                            <a:close/>
                          </a:path>
                        </a:pathLst>
                      </a:custGeom>
                      <a:solidFill>
                        <a:srgbClr val="8fcc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5" name=""/>
                      <p:cNvSpPr/>
                      <p:nvPr/>
                    </p:nvSpPr>
                    <p:spPr>
                      <a:xfrm>
                        <a:off x="3368160" y="5104080"/>
                        <a:ext cx="3132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66">
                            <a:moveTo>
                              <a:pt x="18" y="17"/>
                            </a:moveTo>
                            <a:lnTo>
                              <a:pt x="18" y="16"/>
                            </a:lnTo>
                            <a:lnTo>
                              <a:pt x="18" y="15"/>
                            </a:lnTo>
                            <a:lnTo>
                              <a:pt x="18" y="13"/>
                            </a:lnTo>
                            <a:lnTo>
                              <a:pt x="20" y="10"/>
                            </a:lnTo>
                            <a:lnTo>
                              <a:pt x="20" y="7"/>
                            </a:lnTo>
                            <a:lnTo>
                              <a:pt x="21" y="5"/>
                            </a:lnTo>
                            <a:lnTo>
                              <a:pt x="22" y="2"/>
                            </a:lnTo>
                            <a:lnTo>
                              <a:pt x="24" y="1"/>
                            </a:lnTo>
                            <a:lnTo>
                              <a:pt x="26" y="0"/>
                            </a:lnTo>
                            <a:lnTo>
                              <a:pt x="28" y="1"/>
                            </a:lnTo>
                            <a:lnTo>
                              <a:pt x="30" y="3"/>
                            </a:lnTo>
                            <a:lnTo>
                              <a:pt x="31" y="4"/>
                            </a:lnTo>
                            <a:lnTo>
                              <a:pt x="33" y="24"/>
                            </a:lnTo>
                            <a:lnTo>
                              <a:pt x="49" y="36"/>
                            </a:lnTo>
                            <a:lnTo>
                              <a:pt x="44" y="41"/>
                            </a:lnTo>
                            <a:lnTo>
                              <a:pt x="32" y="45"/>
                            </a:lnTo>
                            <a:lnTo>
                              <a:pt x="34" y="64"/>
                            </a:lnTo>
                            <a:lnTo>
                              <a:pt x="30" y="66"/>
                            </a:lnTo>
                            <a:lnTo>
                              <a:pt x="21" y="47"/>
                            </a:lnTo>
                            <a:lnTo>
                              <a:pt x="6" y="56"/>
                            </a:lnTo>
                            <a:lnTo>
                              <a:pt x="2" y="51"/>
                            </a:lnTo>
                            <a:lnTo>
                              <a:pt x="9" y="33"/>
                            </a:lnTo>
                            <a:lnTo>
                              <a:pt x="0" y="15"/>
                            </a:lnTo>
                            <a:lnTo>
                              <a:pt x="2" y="10"/>
                            </a:lnTo>
                            <a:lnTo>
                              <a:pt x="18" y="17"/>
                            </a:lnTo>
                            <a:lnTo>
                              <a:pt x="18" y="17"/>
                            </a:lnTo>
                            <a:close/>
                          </a:path>
                        </a:pathLst>
                      </a:custGeom>
                      <a:solidFill>
                        <a:srgbClr val="ffc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6" name=""/>
                      <p:cNvSpPr/>
                      <p:nvPr/>
                    </p:nvSpPr>
                    <p:spPr>
                      <a:xfrm>
                        <a:off x="3185640" y="5306040"/>
                        <a:ext cx="1548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22">
                            <a:moveTo>
                              <a:pt x="20" y="0"/>
                            </a:moveTo>
                            <a:lnTo>
                              <a:pt x="19" y="0"/>
                            </a:lnTo>
                            <a:lnTo>
                              <a:pt x="17" y="1"/>
                            </a:lnTo>
                            <a:lnTo>
                              <a:pt x="13" y="1"/>
                            </a:lnTo>
                            <a:lnTo>
                              <a:pt x="9" y="4"/>
                            </a:lnTo>
                            <a:lnTo>
                              <a:pt x="5" y="5"/>
                            </a:lnTo>
                            <a:lnTo>
                              <a:pt x="2" y="8"/>
                            </a:lnTo>
                            <a:lnTo>
                              <a:pt x="0" y="10"/>
                            </a:lnTo>
                            <a:lnTo>
                              <a:pt x="0" y="15"/>
                            </a:lnTo>
                            <a:lnTo>
                              <a:pt x="1" y="18"/>
                            </a:lnTo>
                            <a:lnTo>
                              <a:pt x="3" y="20"/>
                            </a:lnTo>
                            <a:lnTo>
                              <a:pt x="6" y="21"/>
                            </a:lnTo>
                            <a:lnTo>
                              <a:pt x="9" y="22"/>
                            </a:lnTo>
                            <a:lnTo>
                              <a:pt x="12" y="22"/>
                            </a:lnTo>
                            <a:lnTo>
                              <a:pt x="15" y="22"/>
                            </a:lnTo>
                            <a:lnTo>
                              <a:pt x="17" y="21"/>
                            </a:lnTo>
                            <a:lnTo>
                              <a:pt x="18" y="20"/>
                            </a:lnTo>
                            <a:lnTo>
                              <a:pt x="19" y="17"/>
                            </a:lnTo>
                            <a:lnTo>
                              <a:pt x="21" y="15"/>
                            </a:lnTo>
                            <a:lnTo>
                              <a:pt x="22" y="11"/>
                            </a:lnTo>
                            <a:lnTo>
                              <a:pt x="23" y="10"/>
                            </a:lnTo>
                            <a:lnTo>
                              <a:pt x="20" y="0"/>
                            </a:lnTo>
                            <a:lnTo>
                              <a:pt x="20" y="0"/>
                            </a:lnTo>
                            <a:close/>
                          </a:path>
                        </a:pathLst>
                      </a:custGeom>
                      <a:solidFill>
                        <a:srgbClr val="0f478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7" name=""/>
                      <p:cNvSpPr/>
                      <p:nvPr/>
                    </p:nvSpPr>
                    <p:spPr>
                      <a:xfrm>
                        <a:off x="3178440" y="5320800"/>
                        <a:ext cx="21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5">
                            <a:moveTo>
                              <a:pt x="26" y="0"/>
                            </a:moveTo>
                            <a:lnTo>
                              <a:pt x="24" y="0"/>
                            </a:lnTo>
                            <a:lnTo>
                              <a:pt x="21" y="0"/>
                            </a:lnTo>
                            <a:lnTo>
                              <a:pt x="18" y="0"/>
                            </a:lnTo>
                            <a:lnTo>
                              <a:pt x="15" y="1"/>
                            </a:lnTo>
                            <a:lnTo>
                              <a:pt x="13" y="2"/>
                            </a:lnTo>
                            <a:lnTo>
                              <a:pt x="10" y="4"/>
                            </a:lnTo>
                            <a:lnTo>
                              <a:pt x="7" y="5"/>
                            </a:lnTo>
                            <a:lnTo>
                              <a:pt x="5" y="6"/>
                            </a:lnTo>
                            <a:lnTo>
                              <a:pt x="3" y="8"/>
                            </a:lnTo>
                            <a:lnTo>
                              <a:pt x="1" y="11"/>
                            </a:lnTo>
                            <a:lnTo>
                              <a:pt x="0" y="13"/>
                            </a:lnTo>
                            <a:lnTo>
                              <a:pt x="0" y="15"/>
                            </a:lnTo>
                            <a:lnTo>
                              <a:pt x="0" y="18"/>
                            </a:lnTo>
                            <a:lnTo>
                              <a:pt x="2" y="22"/>
                            </a:lnTo>
                            <a:lnTo>
                              <a:pt x="4" y="25"/>
                            </a:lnTo>
                            <a:lnTo>
                              <a:pt x="7" y="25"/>
                            </a:lnTo>
                            <a:lnTo>
                              <a:pt x="9" y="25"/>
                            </a:lnTo>
                            <a:lnTo>
                              <a:pt x="12" y="24"/>
                            </a:lnTo>
                            <a:lnTo>
                              <a:pt x="15" y="24"/>
                            </a:lnTo>
                            <a:lnTo>
                              <a:pt x="17" y="23"/>
                            </a:lnTo>
                            <a:lnTo>
                              <a:pt x="20" y="22"/>
                            </a:lnTo>
                            <a:lnTo>
                              <a:pt x="22" y="19"/>
                            </a:lnTo>
                            <a:lnTo>
                              <a:pt x="25" y="18"/>
                            </a:lnTo>
                            <a:lnTo>
                              <a:pt x="27" y="17"/>
                            </a:lnTo>
                            <a:lnTo>
                              <a:pt x="30" y="15"/>
                            </a:lnTo>
                            <a:lnTo>
                              <a:pt x="31" y="15"/>
                            </a:lnTo>
                            <a:lnTo>
                              <a:pt x="32" y="4"/>
                            </a:lnTo>
                            <a:lnTo>
                              <a:pt x="26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87598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8" name=""/>
                      <p:cNvSpPr/>
                      <p:nvPr/>
                    </p:nvSpPr>
                    <p:spPr>
                      <a:xfrm>
                        <a:off x="3378240" y="5275440"/>
                        <a:ext cx="1296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5" y="2"/>
                            </a:moveTo>
                            <a:lnTo>
                              <a:pt x="4" y="3"/>
                            </a:lnTo>
                            <a:lnTo>
                              <a:pt x="2" y="5"/>
                            </a:lnTo>
                            <a:lnTo>
                              <a:pt x="1" y="9"/>
                            </a:lnTo>
                            <a:lnTo>
                              <a:pt x="0" y="14"/>
                            </a:lnTo>
                            <a:lnTo>
                              <a:pt x="1" y="16"/>
                            </a:lnTo>
                            <a:lnTo>
                              <a:pt x="2" y="21"/>
                            </a:lnTo>
                            <a:lnTo>
                              <a:pt x="3" y="23"/>
                            </a:lnTo>
                            <a:lnTo>
                              <a:pt x="3" y="25"/>
                            </a:lnTo>
                            <a:lnTo>
                              <a:pt x="4" y="28"/>
                            </a:lnTo>
                            <a:lnTo>
                              <a:pt x="5" y="32"/>
                            </a:lnTo>
                            <a:lnTo>
                              <a:pt x="6" y="34"/>
                            </a:lnTo>
                            <a:lnTo>
                              <a:pt x="7" y="36"/>
                            </a:lnTo>
                            <a:lnTo>
                              <a:pt x="8" y="38"/>
                            </a:lnTo>
                            <a:lnTo>
                              <a:pt x="9" y="41"/>
                            </a:lnTo>
                            <a:lnTo>
                              <a:pt x="9" y="45"/>
                            </a:lnTo>
                            <a:lnTo>
                              <a:pt x="10" y="46"/>
                            </a:lnTo>
                            <a:lnTo>
                              <a:pt x="11" y="43"/>
                            </a:lnTo>
                            <a:lnTo>
                              <a:pt x="13" y="39"/>
                            </a:lnTo>
                            <a:lnTo>
                              <a:pt x="13" y="36"/>
                            </a:lnTo>
                            <a:lnTo>
                              <a:pt x="15" y="34"/>
                            </a:lnTo>
                            <a:lnTo>
                              <a:pt x="15" y="32"/>
                            </a:lnTo>
                            <a:lnTo>
                              <a:pt x="17" y="29"/>
                            </a:lnTo>
                            <a:lnTo>
                              <a:pt x="17" y="27"/>
                            </a:lnTo>
                            <a:lnTo>
                              <a:pt x="18" y="24"/>
                            </a:lnTo>
                            <a:lnTo>
                              <a:pt x="19" y="22"/>
                            </a:lnTo>
                            <a:lnTo>
                              <a:pt x="19" y="20"/>
                            </a:lnTo>
                            <a:lnTo>
                              <a:pt x="21" y="16"/>
                            </a:lnTo>
                            <a:lnTo>
                              <a:pt x="21" y="14"/>
                            </a:lnTo>
                            <a:lnTo>
                              <a:pt x="21" y="12"/>
                            </a:lnTo>
                            <a:lnTo>
                              <a:pt x="21" y="11"/>
                            </a:lnTo>
                            <a:lnTo>
                              <a:pt x="11" y="0"/>
                            </a:lnTo>
                            <a:lnTo>
                              <a:pt x="5" y="2"/>
                            </a:lnTo>
                            <a:lnTo>
                              <a:pt x="5" y="2"/>
                            </a:lnTo>
                            <a:close/>
                          </a:path>
                        </a:pathLst>
                      </a:custGeom>
                      <a:solidFill>
                        <a:srgbClr val="7829d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>
                        <a:off x="3420000" y="510336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18">
                            <a:moveTo>
                              <a:pt x="14" y="0"/>
                            </a:move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0" y="0"/>
                            </a:lnTo>
                            <a:lnTo>
                              <a:pt x="7" y="1"/>
                            </a:lnTo>
                            <a:lnTo>
                              <a:pt x="4" y="1"/>
                            </a:lnTo>
                            <a:lnTo>
                              <a:pt x="2" y="3"/>
                            </a:lnTo>
                            <a:lnTo>
                              <a:pt x="1" y="5"/>
                            </a:lnTo>
                            <a:lnTo>
                              <a:pt x="0" y="10"/>
                            </a:lnTo>
                            <a:lnTo>
                              <a:pt x="0" y="13"/>
                            </a:lnTo>
                            <a:lnTo>
                              <a:pt x="2" y="16"/>
                            </a:lnTo>
                            <a:lnTo>
                              <a:pt x="3" y="17"/>
                            </a:lnTo>
                            <a:lnTo>
                              <a:pt x="5" y="18"/>
                            </a:lnTo>
                            <a:lnTo>
                              <a:pt x="8" y="18"/>
                            </a:lnTo>
                            <a:lnTo>
                              <a:pt x="10" y="18"/>
                            </a:lnTo>
                            <a:lnTo>
                              <a:pt x="13" y="13"/>
                            </a:lnTo>
                            <a:lnTo>
                              <a:pt x="14" y="0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cf73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0" name=""/>
                      <p:cNvSpPr/>
                      <p:nvPr/>
                    </p:nvSpPr>
                    <p:spPr>
                      <a:xfrm>
                        <a:off x="3213360" y="5035320"/>
                        <a:ext cx="90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23">
                            <a:moveTo>
                              <a:pt x="5" y="0"/>
                            </a:moveTo>
                            <a:lnTo>
                              <a:pt x="5" y="0"/>
                            </a:lnTo>
                            <a:lnTo>
                              <a:pt x="4" y="2"/>
                            </a:lnTo>
                            <a:lnTo>
                              <a:pt x="3" y="4"/>
                            </a:lnTo>
                            <a:lnTo>
                              <a:pt x="2" y="8"/>
                            </a:lnTo>
                            <a:lnTo>
                              <a:pt x="1" y="10"/>
                            </a:lnTo>
                            <a:lnTo>
                              <a:pt x="0" y="14"/>
                            </a:lnTo>
                            <a:lnTo>
                              <a:pt x="0" y="18"/>
                            </a:lnTo>
                            <a:lnTo>
                              <a:pt x="2" y="21"/>
                            </a:lnTo>
                            <a:lnTo>
                              <a:pt x="3" y="22"/>
                            </a:lnTo>
                            <a:lnTo>
                              <a:pt x="6" y="23"/>
                            </a:lnTo>
                            <a:lnTo>
                              <a:pt x="8" y="23"/>
                            </a:lnTo>
                            <a:lnTo>
                              <a:pt x="10" y="23"/>
                            </a:lnTo>
                            <a:lnTo>
                              <a:pt x="13" y="22"/>
                            </a:lnTo>
                            <a:lnTo>
                              <a:pt x="15" y="22"/>
                            </a:lnTo>
                            <a:lnTo>
                              <a:pt x="15" y="4"/>
                            </a:lnTo>
                            <a:lnTo>
                              <a:pt x="5" y="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9e6182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1" name=""/>
                      <p:cNvSpPr/>
                      <p:nvPr/>
                    </p:nvSpPr>
                    <p:spPr>
                      <a:xfrm>
                        <a:off x="3185640" y="5073480"/>
                        <a:ext cx="154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8">
                            <a:moveTo>
                              <a:pt x="0" y="4"/>
                            </a:moveTo>
                            <a:lnTo>
                              <a:pt x="0" y="6"/>
                            </a:lnTo>
                            <a:lnTo>
                              <a:pt x="1" y="7"/>
                            </a:lnTo>
                            <a:lnTo>
                              <a:pt x="2" y="11"/>
                            </a:lnTo>
                            <a:lnTo>
                              <a:pt x="3" y="13"/>
                            </a:lnTo>
                            <a:lnTo>
                              <a:pt x="4" y="15"/>
                            </a:lnTo>
                            <a:lnTo>
                              <a:pt x="6" y="16"/>
                            </a:lnTo>
                            <a:lnTo>
                              <a:pt x="9" y="18"/>
                            </a:lnTo>
                            <a:lnTo>
                              <a:pt x="12" y="18"/>
                            </a:lnTo>
                            <a:lnTo>
                              <a:pt x="14" y="17"/>
                            </a:lnTo>
                            <a:lnTo>
                              <a:pt x="16" y="16"/>
                            </a:lnTo>
                            <a:lnTo>
                              <a:pt x="18" y="15"/>
                            </a:lnTo>
                            <a:lnTo>
                              <a:pt x="21" y="12"/>
                            </a:lnTo>
                            <a:lnTo>
                              <a:pt x="22" y="11"/>
                            </a:lnTo>
                            <a:lnTo>
                              <a:pt x="16" y="0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e87d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2" name=""/>
                      <p:cNvSpPr/>
                      <p:nvPr/>
                    </p:nvSpPr>
                    <p:spPr>
                      <a:xfrm>
                        <a:off x="3284280" y="5165280"/>
                        <a:ext cx="1008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58">
                            <a:moveTo>
                              <a:pt x="13" y="0"/>
                            </a:moveTo>
                            <a:lnTo>
                              <a:pt x="13" y="3"/>
                            </a:lnTo>
                            <a:lnTo>
                              <a:pt x="13" y="6"/>
                            </a:lnTo>
                            <a:lnTo>
                              <a:pt x="13" y="10"/>
                            </a:lnTo>
                            <a:lnTo>
                              <a:pt x="14" y="14"/>
                            </a:lnTo>
                            <a:lnTo>
                              <a:pt x="13" y="17"/>
                            </a:lnTo>
                            <a:lnTo>
                              <a:pt x="13" y="21"/>
                            </a:lnTo>
                            <a:lnTo>
                              <a:pt x="13" y="24"/>
                            </a:lnTo>
                            <a:lnTo>
                              <a:pt x="13" y="28"/>
                            </a:lnTo>
                            <a:lnTo>
                              <a:pt x="13" y="32"/>
                            </a:lnTo>
                            <a:lnTo>
                              <a:pt x="13" y="35"/>
                            </a:lnTo>
                            <a:lnTo>
                              <a:pt x="13" y="38"/>
                            </a:lnTo>
                            <a:lnTo>
                              <a:pt x="13" y="42"/>
                            </a:lnTo>
                            <a:lnTo>
                              <a:pt x="12" y="46"/>
                            </a:lnTo>
                            <a:lnTo>
                              <a:pt x="12" y="49"/>
                            </a:lnTo>
                            <a:lnTo>
                              <a:pt x="12" y="53"/>
                            </a:lnTo>
                            <a:lnTo>
                              <a:pt x="12" y="57"/>
                            </a:lnTo>
                            <a:lnTo>
                              <a:pt x="10" y="57"/>
                            </a:lnTo>
                            <a:lnTo>
                              <a:pt x="7" y="57"/>
                            </a:lnTo>
                            <a:lnTo>
                              <a:pt x="5" y="58"/>
                            </a:lnTo>
                            <a:lnTo>
                              <a:pt x="3" y="58"/>
                            </a:lnTo>
                            <a:lnTo>
                              <a:pt x="2" y="55"/>
                            </a:lnTo>
                            <a:lnTo>
                              <a:pt x="2" y="51"/>
                            </a:lnTo>
                            <a:lnTo>
                              <a:pt x="2" y="48"/>
                            </a:lnTo>
                            <a:lnTo>
                              <a:pt x="2" y="46"/>
                            </a:lnTo>
                            <a:lnTo>
                              <a:pt x="1" y="42"/>
                            </a:lnTo>
                            <a:lnTo>
                              <a:pt x="1" y="39"/>
                            </a:lnTo>
                            <a:lnTo>
                              <a:pt x="0" y="36"/>
                            </a:lnTo>
                            <a:lnTo>
                              <a:pt x="0" y="33"/>
                            </a:lnTo>
                            <a:lnTo>
                              <a:pt x="0" y="30"/>
                            </a:lnTo>
                            <a:lnTo>
                              <a:pt x="0" y="26"/>
                            </a:lnTo>
                            <a:lnTo>
                              <a:pt x="0" y="24"/>
                            </a:lnTo>
                            <a:lnTo>
                              <a:pt x="0" y="21"/>
                            </a:lnTo>
                            <a:lnTo>
                              <a:pt x="0" y="17"/>
                            </a:lnTo>
                            <a:lnTo>
                              <a:pt x="0" y="14"/>
                            </a:lnTo>
                            <a:lnTo>
                              <a:pt x="0" y="11"/>
                            </a:lnTo>
                            <a:lnTo>
                              <a:pt x="1" y="8"/>
                            </a:lnTo>
                            <a:lnTo>
                              <a:pt x="13" y="0"/>
                            </a:lnTo>
                            <a:lnTo>
                              <a:pt x="13" y="0"/>
                            </a:lnTo>
                            <a:close/>
                          </a:path>
                        </a:pathLst>
                      </a:custGeom>
                      <a:solidFill>
                        <a:srgbClr val="dea6ff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3295800" y="5143320"/>
                        <a:ext cx="15120" cy="4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76">
                            <a:moveTo>
                              <a:pt x="20" y="1"/>
                            </a:moveTo>
                            <a:lnTo>
                              <a:pt x="22" y="3"/>
                            </a:lnTo>
                            <a:lnTo>
                              <a:pt x="23" y="7"/>
                            </a:lnTo>
                            <a:lnTo>
                              <a:pt x="23" y="9"/>
                            </a:lnTo>
                            <a:lnTo>
                              <a:pt x="23" y="11"/>
                            </a:lnTo>
                            <a:lnTo>
                              <a:pt x="23" y="14"/>
                            </a:lnTo>
                            <a:lnTo>
                              <a:pt x="23" y="16"/>
                            </a:lnTo>
                            <a:lnTo>
                              <a:pt x="22" y="20"/>
                            </a:lnTo>
                            <a:lnTo>
                              <a:pt x="22" y="23"/>
                            </a:lnTo>
                            <a:lnTo>
                              <a:pt x="22" y="26"/>
                            </a:lnTo>
                            <a:lnTo>
                              <a:pt x="22" y="30"/>
                            </a:lnTo>
                            <a:lnTo>
                              <a:pt x="22" y="34"/>
                            </a:lnTo>
                            <a:lnTo>
                              <a:pt x="22" y="37"/>
                            </a:lnTo>
                            <a:lnTo>
                              <a:pt x="22" y="42"/>
                            </a:lnTo>
                            <a:lnTo>
                              <a:pt x="22" y="45"/>
                            </a:lnTo>
                            <a:lnTo>
                              <a:pt x="21" y="49"/>
                            </a:lnTo>
                            <a:lnTo>
                              <a:pt x="21" y="54"/>
                            </a:lnTo>
                            <a:lnTo>
                              <a:pt x="21" y="57"/>
                            </a:lnTo>
                            <a:lnTo>
                              <a:pt x="22" y="61"/>
                            </a:lnTo>
                            <a:lnTo>
                              <a:pt x="22" y="65"/>
                            </a:lnTo>
                            <a:lnTo>
                              <a:pt x="21" y="68"/>
                            </a:lnTo>
                            <a:lnTo>
                              <a:pt x="20" y="71"/>
                            </a:lnTo>
                            <a:lnTo>
                              <a:pt x="17" y="74"/>
                            </a:lnTo>
                            <a:lnTo>
                              <a:pt x="14" y="74"/>
                            </a:lnTo>
                            <a:lnTo>
                              <a:pt x="12" y="74"/>
                            </a:lnTo>
                            <a:lnTo>
                              <a:pt x="10" y="75"/>
                            </a:lnTo>
                            <a:lnTo>
                              <a:pt x="8" y="76"/>
                            </a:lnTo>
                            <a:lnTo>
                              <a:pt x="5" y="76"/>
                            </a:lnTo>
                            <a:lnTo>
                              <a:pt x="4" y="75"/>
                            </a:lnTo>
                            <a:lnTo>
                              <a:pt x="3" y="72"/>
                            </a:lnTo>
                            <a:lnTo>
                              <a:pt x="3" y="69"/>
                            </a:lnTo>
                            <a:lnTo>
                              <a:pt x="2" y="66"/>
                            </a:lnTo>
                            <a:lnTo>
                              <a:pt x="2" y="63"/>
                            </a:lnTo>
                            <a:lnTo>
                              <a:pt x="1" y="58"/>
                            </a:lnTo>
                            <a:lnTo>
                              <a:pt x="1" y="56"/>
                            </a:lnTo>
                            <a:lnTo>
                              <a:pt x="1" y="52"/>
                            </a:lnTo>
                            <a:lnTo>
                              <a:pt x="0" y="49"/>
                            </a:lnTo>
                            <a:lnTo>
                              <a:pt x="0" y="45"/>
                            </a:lnTo>
                            <a:lnTo>
                              <a:pt x="0" y="43"/>
                            </a:lnTo>
                            <a:lnTo>
                              <a:pt x="0" y="40"/>
                            </a:lnTo>
                            <a:lnTo>
                              <a:pt x="0" y="36"/>
                            </a:lnTo>
                            <a:lnTo>
                              <a:pt x="0" y="32"/>
                            </a:lnTo>
                            <a:lnTo>
                              <a:pt x="0" y="30"/>
                            </a:lnTo>
                            <a:lnTo>
                              <a:pt x="0" y="25"/>
                            </a:lnTo>
                            <a:lnTo>
                              <a:pt x="0" y="23"/>
                            </a:lnTo>
                            <a:lnTo>
                              <a:pt x="0" y="20"/>
                            </a:lnTo>
                            <a:lnTo>
                              <a:pt x="0" y="16"/>
                            </a:lnTo>
                            <a:lnTo>
                              <a:pt x="0" y="12"/>
                            </a:lnTo>
                            <a:lnTo>
                              <a:pt x="3" y="9"/>
                            </a:lnTo>
                            <a:lnTo>
                              <a:pt x="5" y="5"/>
                            </a:lnTo>
                            <a:lnTo>
                              <a:pt x="8" y="4"/>
                            </a:lnTo>
                            <a:lnTo>
                              <a:pt x="11" y="2"/>
                            </a:lnTo>
                            <a:lnTo>
                              <a:pt x="14" y="1"/>
                            </a:lnTo>
                            <a:lnTo>
                              <a:pt x="17" y="0"/>
                            </a:lnTo>
                            <a:lnTo>
                              <a:pt x="20" y="1"/>
                            </a:lnTo>
                            <a:lnTo>
                              <a:pt x="20" y="1"/>
                            </a:lnTo>
                            <a:close/>
                          </a:path>
                        </a:pathLst>
                      </a:custGeom>
                      <a:solidFill>
                        <a:srgbClr val="dea6ff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4" name=""/>
                      <p:cNvSpPr/>
                      <p:nvPr/>
                    </p:nvSpPr>
                    <p:spPr>
                      <a:xfrm>
                        <a:off x="3238560" y="5128560"/>
                        <a:ext cx="22320" cy="2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9">
                            <a:moveTo>
                              <a:pt x="9" y="16"/>
                            </a:moveTo>
                            <a:lnTo>
                              <a:pt x="8" y="14"/>
                            </a:lnTo>
                            <a:lnTo>
                              <a:pt x="7" y="10"/>
                            </a:lnTo>
                            <a:lnTo>
                              <a:pt x="6" y="5"/>
                            </a:lnTo>
                            <a:lnTo>
                              <a:pt x="5" y="3"/>
                            </a:lnTo>
                            <a:lnTo>
                              <a:pt x="6" y="0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lnTo>
                              <a:pt x="10" y="1"/>
                            </a:lnTo>
                            <a:lnTo>
                              <a:pt x="18" y="11"/>
                            </a:lnTo>
                            <a:lnTo>
                              <a:pt x="35" y="5"/>
                            </a:lnTo>
                            <a:lnTo>
                              <a:pt x="33" y="11"/>
                            </a:lnTo>
                            <a:lnTo>
                              <a:pt x="29" y="19"/>
                            </a:lnTo>
                            <a:lnTo>
                              <a:pt x="34" y="30"/>
                            </a:lnTo>
                            <a:lnTo>
                              <a:pt x="33" y="32"/>
                            </a:lnTo>
                            <a:lnTo>
                              <a:pt x="22" y="27"/>
                            </a:lnTo>
                            <a:lnTo>
                              <a:pt x="18" y="39"/>
                            </a:lnTo>
                            <a:lnTo>
                              <a:pt x="14" y="38"/>
                            </a:lnTo>
                            <a:lnTo>
                              <a:pt x="13" y="23"/>
                            </a:lnTo>
                            <a:lnTo>
                              <a:pt x="0" y="20"/>
                            </a:lnTo>
                            <a:lnTo>
                              <a:pt x="0" y="20"/>
                            </a:lnTo>
                            <a:lnTo>
                              <a:pt x="9" y="16"/>
                            </a:lnTo>
                            <a:lnTo>
                              <a:pt x="9" y="16"/>
                            </a:lnTo>
                            <a:close/>
                          </a:path>
                        </a:pathLst>
                      </a:custGeom>
                      <a:solidFill>
                        <a:srgbClr val="308ccf"/>
                      </a:solidFill>
                      <a:ln w="936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5" name=""/>
                      <p:cNvSpPr/>
                      <p:nvPr/>
                    </p:nvSpPr>
                    <p:spPr>
                      <a:xfrm>
                        <a:off x="3475080" y="5250960"/>
                        <a:ext cx="3672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82">
                            <a:moveTo>
                              <a:pt x="56" y="11"/>
                            </a:moveTo>
                            <a:lnTo>
                              <a:pt x="24" y="0"/>
                            </a:lnTo>
                            <a:lnTo>
                              <a:pt x="0" y="63"/>
                            </a:lnTo>
                            <a:lnTo>
                              <a:pt x="0" y="82"/>
                            </a:lnTo>
                            <a:lnTo>
                              <a:pt x="43" y="17"/>
                            </a:lnTo>
                            <a:lnTo>
                              <a:pt x="50" y="74"/>
                            </a:lnTo>
                            <a:lnTo>
                              <a:pt x="56" y="11"/>
                            </a:lnTo>
                            <a:lnTo>
                              <a:pt x="56" y="11"/>
                            </a:lnTo>
                            <a:close/>
                          </a:path>
                        </a:pathLst>
                      </a:custGeom>
                      <a:solidFill>
                        <a:srgbClr val="edb8e0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>
                        <a:off x="3472200" y="5247360"/>
                        <a:ext cx="4140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13">
                            <a:moveTo>
                              <a:pt x="61" y="15"/>
                            </a:moveTo>
                            <a:lnTo>
                              <a:pt x="27" y="0"/>
                            </a:lnTo>
                            <a:lnTo>
                              <a:pt x="0" y="79"/>
                            </a:lnTo>
                            <a:lnTo>
                              <a:pt x="7" y="113"/>
                            </a:lnTo>
                            <a:lnTo>
                              <a:pt x="64" y="111"/>
                            </a:lnTo>
                            <a:lnTo>
                              <a:pt x="15" y="86"/>
                            </a:lnTo>
                            <a:lnTo>
                              <a:pt x="33" y="9"/>
                            </a:lnTo>
                            <a:lnTo>
                              <a:pt x="61" y="19"/>
                            </a:lnTo>
                            <a:lnTo>
                              <a:pt x="61" y="15"/>
                            </a:lnTo>
                            <a:lnTo>
                              <a:pt x="61" y="15"/>
                            </a:lnTo>
                            <a:close/>
                          </a:path>
                        </a:pathLst>
                      </a:custGeom>
                      <a:solidFill>
                        <a:srgbClr val="ffc2b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>
                        <a:off x="3485520" y="5268600"/>
                        <a:ext cx="28080" cy="4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66">
                            <a:moveTo>
                              <a:pt x="24" y="0"/>
                            </a:moveTo>
                            <a:lnTo>
                              <a:pt x="6" y="28"/>
                            </a:lnTo>
                            <a:lnTo>
                              <a:pt x="0" y="44"/>
                            </a:lnTo>
                            <a:lnTo>
                              <a:pt x="45" y="66"/>
                            </a:lnTo>
                            <a:lnTo>
                              <a:pt x="23" y="49"/>
                            </a:lnTo>
                            <a:lnTo>
                              <a:pt x="44" y="56"/>
                            </a:lnTo>
                            <a:lnTo>
                              <a:pt x="18" y="33"/>
                            </a:lnTo>
                            <a:lnTo>
                              <a:pt x="24" y="0"/>
                            </a:lnTo>
                            <a:lnTo>
                              <a:pt x="24" y="0"/>
                            </a:lnTo>
                            <a:close/>
                          </a:path>
                        </a:pathLst>
                      </a:custGeom>
                      <a:solidFill>
                        <a:srgbClr val="f0c259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120" bIns="-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8" name=""/>
                      <p:cNvSpPr/>
                      <p:nvPr/>
                    </p:nvSpPr>
                    <p:spPr>
                      <a:xfrm>
                        <a:off x="3077640" y="5275440"/>
                        <a:ext cx="2952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69">
                            <a:moveTo>
                              <a:pt x="35" y="13"/>
                            </a:moveTo>
                            <a:lnTo>
                              <a:pt x="46" y="43"/>
                            </a:lnTo>
                            <a:lnTo>
                              <a:pt x="1" y="69"/>
                            </a:lnTo>
                            <a:lnTo>
                              <a:pt x="27" y="45"/>
                            </a:lnTo>
                            <a:lnTo>
                              <a:pt x="0" y="51"/>
                            </a:lnTo>
                            <a:lnTo>
                              <a:pt x="31" y="31"/>
                            </a:lnTo>
                            <a:lnTo>
                              <a:pt x="30" y="0"/>
                            </a:lnTo>
                            <a:lnTo>
                              <a:pt x="35" y="13"/>
                            </a:lnTo>
                            <a:lnTo>
                              <a:pt x="35" y="13"/>
                            </a:lnTo>
                            <a:close/>
                          </a:path>
                        </a:pathLst>
                      </a:custGeom>
                      <a:solidFill>
                        <a:srgbClr val="edb38a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>
                        <a:off x="3180240" y="5283000"/>
                        <a:ext cx="94680" cy="72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121">
                            <a:moveTo>
                              <a:pt x="89" y="20"/>
                            </a:moveTo>
                            <a:lnTo>
                              <a:pt x="89" y="20"/>
                            </a:lnTo>
                            <a:lnTo>
                              <a:pt x="91" y="19"/>
                            </a:lnTo>
                            <a:lnTo>
                              <a:pt x="93" y="16"/>
                            </a:lnTo>
                            <a:lnTo>
                              <a:pt x="96" y="15"/>
                            </a:lnTo>
                            <a:lnTo>
                              <a:pt x="99" y="13"/>
                            </a:lnTo>
                            <a:lnTo>
                              <a:pt x="103" y="11"/>
                            </a:lnTo>
                            <a:lnTo>
                              <a:pt x="105" y="10"/>
                            </a:lnTo>
                            <a:lnTo>
                              <a:pt x="107" y="9"/>
                            </a:lnTo>
                            <a:lnTo>
                              <a:pt x="109" y="9"/>
                            </a:lnTo>
                            <a:lnTo>
                              <a:pt x="112" y="8"/>
                            </a:lnTo>
                            <a:lnTo>
                              <a:pt x="114" y="6"/>
                            </a:lnTo>
                            <a:lnTo>
                              <a:pt x="117" y="5"/>
                            </a:lnTo>
                            <a:lnTo>
                              <a:pt x="119" y="4"/>
                            </a:lnTo>
                            <a:lnTo>
                              <a:pt x="122" y="3"/>
                            </a:lnTo>
                            <a:lnTo>
                              <a:pt x="124" y="2"/>
                            </a:lnTo>
                            <a:lnTo>
                              <a:pt x="126" y="2"/>
                            </a:lnTo>
                            <a:lnTo>
                              <a:pt x="128" y="1"/>
                            </a:lnTo>
                            <a:lnTo>
                              <a:pt x="131" y="1"/>
                            </a:lnTo>
                            <a:lnTo>
                              <a:pt x="134" y="0"/>
                            </a:lnTo>
                            <a:lnTo>
                              <a:pt x="138" y="0"/>
                            </a:lnTo>
                            <a:lnTo>
                              <a:pt x="141" y="1"/>
                            </a:lnTo>
                            <a:lnTo>
                              <a:pt x="143" y="3"/>
                            </a:lnTo>
                            <a:lnTo>
                              <a:pt x="144" y="4"/>
                            </a:lnTo>
                            <a:lnTo>
                              <a:pt x="145" y="6"/>
                            </a:lnTo>
                            <a:lnTo>
                              <a:pt x="146" y="10"/>
                            </a:lnTo>
                            <a:lnTo>
                              <a:pt x="146" y="12"/>
                            </a:lnTo>
                            <a:lnTo>
                              <a:pt x="146" y="15"/>
                            </a:lnTo>
                            <a:lnTo>
                              <a:pt x="146" y="17"/>
                            </a:lnTo>
                            <a:lnTo>
                              <a:pt x="145" y="21"/>
                            </a:lnTo>
                            <a:lnTo>
                              <a:pt x="144" y="24"/>
                            </a:lnTo>
                            <a:lnTo>
                              <a:pt x="143" y="26"/>
                            </a:lnTo>
                            <a:lnTo>
                              <a:pt x="142" y="28"/>
                            </a:lnTo>
                            <a:lnTo>
                              <a:pt x="141" y="31"/>
                            </a:lnTo>
                            <a:lnTo>
                              <a:pt x="140" y="34"/>
                            </a:lnTo>
                            <a:lnTo>
                              <a:pt x="137" y="37"/>
                            </a:lnTo>
                            <a:lnTo>
                              <a:pt x="135" y="39"/>
                            </a:lnTo>
                            <a:lnTo>
                              <a:pt x="132" y="39"/>
                            </a:lnTo>
                            <a:lnTo>
                              <a:pt x="130" y="39"/>
                            </a:lnTo>
                            <a:lnTo>
                              <a:pt x="127" y="39"/>
                            </a:lnTo>
                            <a:lnTo>
                              <a:pt x="125" y="39"/>
                            </a:lnTo>
                            <a:lnTo>
                              <a:pt x="122" y="39"/>
                            </a:lnTo>
                            <a:lnTo>
                              <a:pt x="120" y="38"/>
                            </a:lnTo>
                            <a:lnTo>
                              <a:pt x="119" y="38"/>
                            </a:lnTo>
                            <a:lnTo>
                              <a:pt x="117" y="48"/>
                            </a:lnTo>
                            <a:lnTo>
                              <a:pt x="132" y="60"/>
                            </a:lnTo>
                            <a:lnTo>
                              <a:pt x="132" y="61"/>
                            </a:lnTo>
                            <a:lnTo>
                              <a:pt x="134" y="65"/>
                            </a:lnTo>
                            <a:lnTo>
                              <a:pt x="134" y="66"/>
                            </a:lnTo>
                            <a:lnTo>
                              <a:pt x="136" y="68"/>
                            </a:lnTo>
                            <a:lnTo>
                              <a:pt x="136" y="71"/>
                            </a:lnTo>
                            <a:lnTo>
                              <a:pt x="138" y="75"/>
                            </a:lnTo>
                            <a:lnTo>
                              <a:pt x="138" y="77"/>
                            </a:lnTo>
                            <a:lnTo>
                              <a:pt x="139" y="79"/>
                            </a:lnTo>
                            <a:lnTo>
                              <a:pt x="140" y="82"/>
                            </a:lnTo>
                            <a:lnTo>
                              <a:pt x="140" y="86"/>
                            </a:lnTo>
                            <a:lnTo>
                              <a:pt x="140" y="88"/>
                            </a:lnTo>
                            <a:lnTo>
                              <a:pt x="139" y="90"/>
                            </a:lnTo>
                            <a:lnTo>
                              <a:pt x="138" y="92"/>
                            </a:lnTo>
                            <a:lnTo>
                              <a:pt x="137" y="94"/>
                            </a:lnTo>
                            <a:lnTo>
                              <a:pt x="134" y="94"/>
                            </a:lnTo>
                            <a:lnTo>
                              <a:pt x="132" y="97"/>
                            </a:lnTo>
                            <a:lnTo>
                              <a:pt x="130" y="97"/>
                            </a:lnTo>
                            <a:lnTo>
                              <a:pt x="128" y="98"/>
                            </a:lnTo>
                            <a:lnTo>
                              <a:pt x="124" y="98"/>
                            </a:lnTo>
                            <a:lnTo>
                              <a:pt x="120" y="98"/>
                            </a:lnTo>
                            <a:lnTo>
                              <a:pt x="115" y="97"/>
                            </a:lnTo>
                            <a:lnTo>
                              <a:pt x="112" y="97"/>
                            </a:lnTo>
                            <a:lnTo>
                              <a:pt x="110" y="97"/>
                            </a:lnTo>
                            <a:lnTo>
                              <a:pt x="109" y="97"/>
                            </a:lnTo>
                            <a:lnTo>
                              <a:pt x="99" y="97"/>
                            </a:lnTo>
                            <a:lnTo>
                              <a:pt x="97" y="97"/>
                            </a:lnTo>
                            <a:lnTo>
                              <a:pt x="94" y="100"/>
                            </a:lnTo>
                            <a:lnTo>
                              <a:pt x="92" y="101"/>
                            </a:lnTo>
                            <a:lnTo>
                              <a:pt x="89" y="103"/>
                            </a:lnTo>
                            <a:lnTo>
                              <a:pt x="87" y="105"/>
                            </a:lnTo>
                            <a:lnTo>
                              <a:pt x="84" y="109"/>
                            </a:lnTo>
                            <a:lnTo>
                              <a:pt x="81" y="110"/>
                            </a:lnTo>
                            <a:lnTo>
                              <a:pt x="78" y="112"/>
                            </a:lnTo>
                            <a:lnTo>
                              <a:pt x="74" y="114"/>
                            </a:lnTo>
                            <a:lnTo>
                              <a:pt x="71" y="116"/>
                            </a:lnTo>
                            <a:lnTo>
                              <a:pt x="68" y="116"/>
                            </a:lnTo>
                            <a:lnTo>
                              <a:pt x="66" y="118"/>
                            </a:lnTo>
                            <a:lnTo>
                              <a:pt x="63" y="118"/>
                            </a:lnTo>
                            <a:lnTo>
                              <a:pt x="62" y="118"/>
                            </a:lnTo>
                            <a:lnTo>
                              <a:pt x="60" y="116"/>
                            </a:lnTo>
                            <a:lnTo>
                              <a:pt x="59" y="114"/>
                            </a:lnTo>
                            <a:lnTo>
                              <a:pt x="57" y="112"/>
                            </a:lnTo>
                            <a:lnTo>
                              <a:pt x="57" y="110"/>
                            </a:lnTo>
                            <a:lnTo>
                              <a:pt x="57" y="105"/>
                            </a:lnTo>
                            <a:lnTo>
                              <a:pt x="57" y="103"/>
                            </a:lnTo>
                            <a:lnTo>
                              <a:pt x="58" y="99"/>
                            </a:lnTo>
                            <a:lnTo>
                              <a:pt x="59" y="97"/>
                            </a:lnTo>
                            <a:lnTo>
                              <a:pt x="59" y="92"/>
                            </a:lnTo>
                            <a:lnTo>
                              <a:pt x="60" y="89"/>
                            </a:lnTo>
                            <a:lnTo>
                              <a:pt x="61" y="86"/>
                            </a:lnTo>
                            <a:lnTo>
                              <a:pt x="62" y="83"/>
                            </a:lnTo>
                            <a:lnTo>
                              <a:pt x="63" y="79"/>
                            </a:lnTo>
                            <a:lnTo>
                              <a:pt x="64" y="78"/>
                            </a:lnTo>
                            <a:lnTo>
                              <a:pt x="40" y="88"/>
                            </a:lnTo>
                            <a:lnTo>
                              <a:pt x="40" y="88"/>
                            </a:lnTo>
                            <a:lnTo>
                              <a:pt x="40" y="89"/>
                            </a:lnTo>
                            <a:lnTo>
                              <a:pt x="40" y="90"/>
                            </a:lnTo>
                            <a:lnTo>
                              <a:pt x="40" y="93"/>
                            </a:lnTo>
                            <a:lnTo>
                              <a:pt x="40" y="95"/>
                            </a:lnTo>
                            <a:lnTo>
                              <a:pt x="41" y="99"/>
                            </a:lnTo>
                            <a:lnTo>
                              <a:pt x="41" y="101"/>
                            </a:lnTo>
                            <a:lnTo>
                              <a:pt x="43" y="104"/>
                            </a:lnTo>
                            <a:lnTo>
                              <a:pt x="43" y="107"/>
                            </a:lnTo>
                            <a:lnTo>
                              <a:pt x="42" y="111"/>
                            </a:lnTo>
                            <a:lnTo>
                              <a:pt x="40" y="112"/>
                            </a:lnTo>
                            <a:lnTo>
                              <a:pt x="39" y="113"/>
                            </a:lnTo>
                            <a:lnTo>
                              <a:pt x="30" y="113"/>
                            </a:lnTo>
                            <a:lnTo>
                              <a:pt x="21" y="112"/>
                            </a:lnTo>
                            <a:lnTo>
                              <a:pt x="0" y="121"/>
                            </a:lnTo>
                            <a:lnTo>
                              <a:pt x="1" y="120"/>
                            </a:lnTo>
                            <a:lnTo>
                              <a:pt x="2" y="116"/>
                            </a:lnTo>
                            <a:lnTo>
                              <a:pt x="4" y="113"/>
                            </a:lnTo>
                            <a:lnTo>
                              <a:pt x="5" y="111"/>
                            </a:lnTo>
                            <a:lnTo>
                              <a:pt x="7" y="107"/>
                            </a:lnTo>
                            <a:lnTo>
                              <a:pt x="9" y="104"/>
                            </a:lnTo>
                            <a:lnTo>
                              <a:pt x="11" y="100"/>
                            </a:lnTo>
                            <a:lnTo>
                              <a:pt x="14" y="97"/>
                            </a:lnTo>
                            <a:lnTo>
                              <a:pt x="16" y="92"/>
                            </a:lnTo>
                            <a:lnTo>
                              <a:pt x="20" y="88"/>
                            </a:lnTo>
                            <a:lnTo>
                              <a:pt x="21" y="84"/>
                            </a:lnTo>
                            <a:lnTo>
                              <a:pt x="23" y="82"/>
                            </a:lnTo>
                            <a:lnTo>
                              <a:pt x="24" y="79"/>
                            </a:lnTo>
                            <a:lnTo>
                              <a:pt x="26" y="77"/>
                            </a:lnTo>
                            <a:lnTo>
                              <a:pt x="28" y="75"/>
                            </a:lnTo>
                            <a:lnTo>
                              <a:pt x="30" y="72"/>
                            </a:lnTo>
                            <a:lnTo>
                              <a:pt x="31" y="70"/>
                            </a:lnTo>
                            <a:lnTo>
                              <a:pt x="35" y="68"/>
                            </a:lnTo>
                            <a:lnTo>
                              <a:pt x="36" y="65"/>
                            </a:lnTo>
                            <a:lnTo>
                              <a:pt x="38" y="62"/>
                            </a:lnTo>
                            <a:lnTo>
                              <a:pt x="40" y="59"/>
                            </a:lnTo>
                            <a:lnTo>
                              <a:pt x="43" y="57"/>
                            </a:lnTo>
                            <a:lnTo>
                              <a:pt x="45" y="55"/>
                            </a:lnTo>
                            <a:lnTo>
                              <a:pt x="47" y="53"/>
                            </a:lnTo>
                            <a:lnTo>
                              <a:pt x="49" y="50"/>
                            </a:lnTo>
                            <a:lnTo>
                              <a:pt x="51" y="48"/>
                            </a:lnTo>
                            <a:lnTo>
                              <a:pt x="53" y="46"/>
                            </a:lnTo>
                            <a:lnTo>
                              <a:pt x="56" y="44"/>
                            </a:lnTo>
                            <a:lnTo>
                              <a:pt x="58" y="42"/>
                            </a:lnTo>
                            <a:lnTo>
                              <a:pt x="60" y="39"/>
                            </a:lnTo>
                            <a:lnTo>
                              <a:pt x="62" y="38"/>
                            </a:lnTo>
                            <a:lnTo>
                              <a:pt x="65" y="36"/>
                            </a:lnTo>
                            <a:lnTo>
                              <a:pt x="67" y="35"/>
                            </a:lnTo>
                            <a:lnTo>
                              <a:pt x="69" y="33"/>
                            </a:lnTo>
                            <a:lnTo>
                              <a:pt x="73" y="29"/>
                            </a:lnTo>
                            <a:lnTo>
                              <a:pt x="77" y="27"/>
                            </a:lnTo>
                            <a:lnTo>
                              <a:pt x="80" y="24"/>
                            </a:lnTo>
                            <a:lnTo>
                              <a:pt x="84" y="23"/>
                            </a:lnTo>
                            <a:lnTo>
                              <a:pt x="86" y="22"/>
                            </a:lnTo>
                            <a:lnTo>
                              <a:pt x="88" y="21"/>
                            </a:lnTo>
                            <a:lnTo>
                              <a:pt x="88" y="20"/>
                            </a:lnTo>
                            <a:lnTo>
                              <a:pt x="89" y="20"/>
                            </a:lnTo>
                            <a:lnTo>
                              <a:pt x="89" y="20"/>
                            </a:lnTo>
                            <a:close/>
                          </a:path>
                        </a:pathLst>
                      </a:custGeom>
                      <a:solidFill>
                        <a:srgbClr val="dea6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>
                        <a:off x="3236760" y="5344200"/>
                        <a:ext cx="1076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57">
                            <a:moveTo>
                              <a:pt x="0" y="50"/>
                            </a:moveTo>
                            <a:lnTo>
                              <a:pt x="0" y="50"/>
                            </a:lnTo>
                            <a:lnTo>
                              <a:pt x="0" y="48"/>
                            </a:lnTo>
                            <a:lnTo>
                              <a:pt x="0" y="44"/>
                            </a:lnTo>
                            <a:lnTo>
                              <a:pt x="0" y="41"/>
                            </a:lnTo>
                            <a:lnTo>
                              <a:pt x="0" y="36"/>
                            </a:lnTo>
                            <a:lnTo>
                              <a:pt x="1" y="33"/>
                            </a:lnTo>
                            <a:lnTo>
                              <a:pt x="2" y="28"/>
                            </a:lnTo>
                            <a:lnTo>
                              <a:pt x="3" y="26"/>
                            </a:lnTo>
                            <a:lnTo>
                              <a:pt x="4" y="24"/>
                            </a:lnTo>
                            <a:lnTo>
                              <a:pt x="5" y="24"/>
                            </a:lnTo>
                            <a:lnTo>
                              <a:pt x="7" y="25"/>
                            </a:lnTo>
                            <a:lnTo>
                              <a:pt x="8" y="28"/>
                            </a:lnTo>
                            <a:lnTo>
                              <a:pt x="10" y="31"/>
                            </a:lnTo>
                            <a:lnTo>
                              <a:pt x="12" y="33"/>
                            </a:lnTo>
                            <a:lnTo>
                              <a:pt x="13" y="35"/>
                            </a:lnTo>
                            <a:lnTo>
                              <a:pt x="16" y="36"/>
                            </a:lnTo>
                            <a:lnTo>
                              <a:pt x="17" y="35"/>
                            </a:lnTo>
                            <a:lnTo>
                              <a:pt x="20" y="35"/>
                            </a:lnTo>
                            <a:lnTo>
                              <a:pt x="23" y="34"/>
                            </a:lnTo>
                            <a:lnTo>
                              <a:pt x="26" y="34"/>
                            </a:lnTo>
                            <a:lnTo>
                              <a:pt x="28" y="33"/>
                            </a:lnTo>
                            <a:lnTo>
                              <a:pt x="31" y="33"/>
                            </a:lnTo>
                            <a:lnTo>
                              <a:pt x="33" y="32"/>
                            </a:lnTo>
                            <a:lnTo>
                              <a:pt x="34" y="32"/>
                            </a:lnTo>
                            <a:lnTo>
                              <a:pt x="36" y="19"/>
                            </a:lnTo>
                            <a:lnTo>
                              <a:pt x="37" y="17"/>
                            </a:lnTo>
                            <a:lnTo>
                              <a:pt x="39" y="15"/>
                            </a:lnTo>
                            <a:lnTo>
                              <a:pt x="41" y="13"/>
                            </a:lnTo>
                            <a:lnTo>
                              <a:pt x="42" y="12"/>
                            </a:lnTo>
                            <a:lnTo>
                              <a:pt x="45" y="10"/>
                            </a:lnTo>
                            <a:lnTo>
                              <a:pt x="47" y="9"/>
                            </a:lnTo>
                            <a:lnTo>
                              <a:pt x="49" y="6"/>
                            </a:lnTo>
                            <a:lnTo>
                              <a:pt x="52" y="4"/>
                            </a:lnTo>
                            <a:lnTo>
                              <a:pt x="54" y="2"/>
                            </a:lnTo>
                            <a:lnTo>
                              <a:pt x="58" y="1"/>
                            </a:lnTo>
                            <a:lnTo>
                              <a:pt x="61" y="0"/>
                            </a:lnTo>
                            <a:lnTo>
                              <a:pt x="65" y="0"/>
                            </a:lnTo>
                            <a:lnTo>
                              <a:pt x="68" y="0"/>
                            </a:lnTo>
                            <a:lnTo>
                              <a:pt x="73" y="0"/>
                            </a:lnTo>
                            <a:lnTo>
                              <a:pt x="77" y="0"/>
                            </a:lnTo>
                            <a:lnTo>
                              <a:pt x="81" y="1"/>
                            </a:lnTo>
                            <a:lnTo>
                              <a:pt x="84" y="1"/>
                            </a:lnTo>
                            <a:lnTo>
                              <a:pt x="88" y="2"/>
                            </a:lnTo>
                            <a:lnTo>
                              <a:pt x="91" y="3"/>
                            </a:lnTo>
                            <a:lnTo>
                              <a:pt x="95" y="4"/>
                            </a:lnTo>
                            <a:lnTo>
                              <a:pt x="98" y="5"/>
                            </a:lnTo>
                            <a:lnTo>
                              <a:pt x="102" y="6"/>
                            </a:lnTo>
                            <a:lnTo>
                              <a:pt x="104" y="8"/>
                            </a:lnTo>
                            <a:lnTo>
                              <a:pt x="107" y="9"/>
                            </a:lnTo>
                            <a:lnTo>
                              <a:pt x="109" y="9"/>
                            </a:lnTo>
                            <a:lnTo>
                              <a:pt x="112" y="11"/>
                            </a:lnTo>
                            <a:lnTo>
                              <a:pt x="116" y="11"/>
                            </a:lnTo>
                            <a:lnTo>
                              <a:pt x="117" y="12"/>
                            </a:lnTo>
                            <a:lnTo>
                              <a:pt x="116" y="13"/>
                            </a:lnTo>
                            <a:lnTo>
                              <a:pt x="116" y="15"/>
                            </a:lnTo>
                            <a:lnTo>
                              <a:pt x="114" y="19"/>
                            </a:lnTo>
                            <a:lnTo>
                              <a:pt x="112" y="23"/>
                            </a:lnTo>
                            <a:lnTo>
                              <a:pt x="110" y="26"/>
                            </a:lnTo>
                            <a:lnTo>
                              <a:pt x="107" y="31"/>
                            </a:lnTo>
                            <a:lnTo>
                              <a:pt x="105" y="31"/>
                            </a:lnTo>
                            <a:lnTo>
                              <a:pt x="103" y="32"/>
                            </a:lnTo>
                            <a:lnTo>
                              <a:pt x="101" y="33"/>
                            </a:lnTo>
                            <a:lnTo>
                              <a:pt x="99" y="33"/>
                            </a:lnTo>
                            <a:lnTo>
                              <a:pt x="96" y="33"/>
                            </a:lnTo>
                            <a:lnTo>
                              <a:pt x="95" y="33"/>
                            </a:lnTo>
                            <a:lnTo>
                              <a:pt x="94" y="34"/>
                            </a:lnTo>
                            <a:lnTo>
                              <a:pt x="94" y="35"/>
                            </a:lnTo>
                            <a:lnTo>
                              <a:pt x="95" y="39"/>
                            </a:lnTo>
                            <a:lnTo>
                              <a:pt x="98" y="43"/>
                            </a:lnTo>
                            <a:lnTo>
                              <a:pt x="99" y="44"/>
                            </a:lnTo>
                            <a:lnTo>
                              <a:pt x="101" y="44"/>
                            </a:lnTo>
                            <a:lnTo>
                              <a:pt x="103" y="44"/>
                            </a:lnTo>
                            <a:lnTo>
                              <a:pt x="104" y="45"/>
                            </a:lnTo>
                            <a:lnTo>
                              <a:pt x="105" y="45"/>
                            </a:lnTo>
                            <a:lnTo>
                              <a:pt x="107" y="45"/>
                            </a:lnTo>
                            <a:lnTo>
                              <a:pt x="108" y="45"/>
                            </a:lnTo>
                            <a:lnTo>
                              <a:pt x="110" y="45"/>
                            </a:lnTo>
                            <a:lnTo>
                              <a:pt x="114" y="45"/>
                            </a:lnTo>
                            <a:lnTo>
                              <a:pt x="117" y="46"/>
                            </a:lnTo>
                            <a:lnTo>
                              <a:pt x="120" y="45"/>
                            </a:lnTo>
                            <a:lnTo>
                              <a:pt x="123" y="45"/>
                            </a:lnTo>
                            <a:lnTo>
                              <a:pt x="127" y="45"/>
                            </a:lnTo>
                            <a:lnTo>
                              <a:pt x="130" y="44"/>
                            </a:lnTo>
                            <a:lnTo>
                              <a:pt x="133" y="44"/>
                            </a:lnTo>
                            <a:lnTo>
                              <a:pt x="136" y="44"/>
                            </a:lnTo>
                            <a:lnTo>
                              <a:pt x="138" y="43"/>
                            </a:lnTo>
                            <a:lnTo>
                              <a:pt x="139" y="43"/>
                            </a:lnTo>
                            <a:lnTo>
                              <a:pt x="139" y="43"/>
                            </a:lnTo>
                            <a:lnTo>
                              <a:pt x="142" y="43"/>
                            </a:lnTo>
                            <a:lnTo>
                              <a:pt x="144" y="44"/>
                            </a:lnTo>
                            <a:lnTo>
                              <a:pt x="147" y="45"/>
                            </a:lnTo>
                            <a:lnTo>
                              <a:pt x="150" y="46"/>
                            </a:lnTo>
                            <a:lnTo>
                              <a:pt x="153" y="47"/>
                            </a:lnTo>
                            <a:lnTo>
                              <a:pt x="156" y="48"/>
                            </a:lnTo>
                            <a:lnTo>
                              <a:pt x="159" y="50"/>
                            </a:lnTo>
                            <a:lnTo>
                              <a:pt x="166" y="55"/>
                            </a:lnTo>
                            <a:lnTo>
                              <a:pt x="163" y="55"/>
                            </a:lnTo>
                            <a:lnTo>
                              <a:pt x="161" y="55"/>
                            </a:lnTo>
                            <a:lnTo>
                              <a:pt x="158" y="56"/>
                            </a:lnTo>
                            <a:lnTo>
                              <a:pt x="154" y="56"/>
                            </a:lnTo>
                            <a:lnTo>
                              <a:pt x="152" y="56"/>
                            </a:lnTo>
                            <a:lnTo>
                              <a:pt x="149" y="57"/>
                            </a:lnTo>
                            <a:lnTo>
                              <a:pt x="146" y="57"/>
                            </a:lnTo>
                            <a:lnTo>
                              <a:pt x="143" y="57"/>
                            </a:lnTo>
                            <a:lnTo>
                              <a:pt x="140" y="57"/>
                            </a:lnTo>
                            <a:lnTo>
                              <a:pt x="137" y="57"/>
                            </a:lnTo>
                            <a:lnTo>
                              <a:pt x="134" y="57"/>
                            </a:lnTo>
                            <a:lnTo>
                              <a:pt x="132" y="57"/>
                            </a:lnTo>
                            <a:lnTo>
                              <a:pt x="129" y="57"/>
                            </a:lnTo>
                            <a:lnTo>
                              <a:pt x="126" y="57"/>
                            </a:lnTo>
                            <a:lnTo>
                              <a:pt x="123" y="57"/>
                            </a:lnTo>
                            <a:lnTo>
                              <a:pt x="121" y="57"/>
                            </a:lnTo>
                            <a:lnTo>
                              <a:pt x="118" y="56"/>
                            </a:lnTo>
                            <a:lnTo>
                              <a:pt x="115" y="56"/>
                            </a:lnTo>
                            <a:lnTo>
                              <a:pt x="112" y="55"/>
                            </a:lnTo>
                            <a:lnTo>
                              <a:pt x="109" y="55"/>
                            </a:lnTo>
                            <a:lnTo>
                              <a:pt x="105" y="55"/>
                            </a:lnTo>
                            <a:lnTo>
                              <a:pt x="101" y="55"/>
                            </a:lnTo>
                            <a:lnTo>
                              <a:pt x="98" y="54"/>
                            </a:lnTo>
                            <a:lnTo>
                              <a:pt x="96" y="54"/>
                            </a:lnTo>
                            <a:lnTo>
                              <a:pt x="94" y="54"/>
                            </a:lnTo>
                            <a:lnTo>
                              <a:pt x="73" y="35"/>
                            </a:lnTo>
                            <a:lnTo>
                              <a:pt x="9" y="50"/>
                            </a:lnTo>
                            <a:lnTo>
                              <a:pt x="0" y="50"/>
                            </a:lnTo>
                            <a:lnTo>
                              <a:pt x="0" y="50"/>
                            </a:lnTo>
                            <a:close/>
                          </a:path>
                        </a:pathLst>
                      </a:custGeom>
                      <a:solidFill>
                        <a:srgbClr val="edba8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1" name=""/>
                      <p:cNvSpPr/>
                      <p:nvPr/>
                    </p:nvSpPr>
                    <p:spPr>
                      <a:xfrm>
                        <a:off x="3345840" y="5285880"/>
                        <a:ext cx="846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139">
                            <a:moveTo>
                              <a:pt x="42" y="17"/>
                            </a:moveTo>
                            <a:lnTo>
                              <a:pt x="44" y="18"/>
                            </a:lnTo>
                            <a:lnTo>
                              <a:pt x="46" y="19"/>
                            </a:lnTo>
                            <a:lnTo>
                              <a:pt x="49" y="22"/>
                            </a:lnTo>
                            <a:lnTo>
                              <a:pt x="53" y="24"/>
                            </a:lnTo>
                            <a:lnTo>
                              <a:pt x="57" y="28"/>
                            </a:lnTo>
                            <a:lnTo>
                              <a:pt x="59" y="30"/>
                            </a:lnTo>
                            <a:lnTo>
                              <a:pt x="62" y="32"/>
                            </a:lnTo>
                            <a:lnTo>
                              <a:pt x="65" y="34"/>
                            </a:lnTo>
                            <a:lnTo>
                              <a:pt x="67" y="37"/>
                            </a:lnTo>
                            <a:lnTo>
                              <a:pt x="71" y="39"/>
                            </a:lnTo>
                            <a:lnTo>
                              <a:pt x="73" y="41"/>
                            </a:lnTo>
                            <a:lnTo>
                              <a:pt x="76" y="44"/>
                            </a:lnTo>
                            <a:lnTo>
                              <a:pt x="79" y="48"/>
                            </a:lnTo>
                            <a:lnTo>
                              <a:pt x="81" y="50"/>
                            </a:lnTo>
                            <a:lnTo>
                              <a:pt x="84" y="52"/>
                            </a:lnTo>
                            <a:lnTo>
                              <a:pt x="87" y="55"/>
                            </a:lnTo>
                            <a:lnTo>
                              <a:pt x="90" y="59"/>
                            </a:lnTo>
                            <a:lnTo>
                              <a:pt x="92" y="61"/>
                            </a:lnTo>
                            <a:lnTo>
                              <a:pt x="94" y="64"/>
                            </a:lnTo>
                            <a:lnTo>
                              <a:pt x="97" y="67"/>
                            </a:lnTo>
                            <a:lnTo>
                              <a:pt x="99" y="71"/>
                            </a:lnTo>
                            <a:lnTo>
                              <a:pt x="101" y="74"/>
                            </a:lnTo>
                            <a:lnTo>
                              <a:pt x="104" y="77"/>
                            </a:lnTo>
                            <a:lnTo>
                              <a:pt x="106" y="81"/>
                            </a:lnTo>
                            <a:lnTo>
                              <a:pt x="108" y="84"/>
                            </a:lnTo>
                            <a:lnTo>
                              <a:pt x="109" y="87"/>
                            </a:lnTo>
                            <a:lnTo>
                              <a:pt x="112" y="90"/>
                            </a:lnTo>
                            <a:lnTo>
                              <a:pt x="113" y="93"/>
                            </a:lnTo>
                            <a:lnTo>
                              <a:pt x="115" y="96"/>
                            </a:lnTo>
                            <a:lnTo>
                              <a:pt x="116" y="98"/>
                            </a:lnTo>
                            <a:lnTo>
                              <a:pt x="117" y="100"/>
                            </a:lnTo>
                            <a:lnTo>
                              <a:pt x="119" y="104"/>
                            </a:lnTo>
                            <a:lnTo>
                              <a:pt x="120" y="106"/>
                            </a:lnTo>
                            <a:lnTo>
                              <a:pt x="122" y="110"/>
                            </a:lnTo>
                            <a:lnTo>
                              <a:pt x="124" y="113"/>
                            </a:lnTo>
                            <a:lnTo>
                              <a:pt x="125" y="118"/>
                            </a:lnTo>
                            <a:lnTo>
                              <a:pt x="127" y="121"/>
                            </a:lnTo>
                            <a:lnTo>
                              <a:pt x="128" y="123"/>
                            </a:lnTo>
                            <a:lnTo>
                              <a:pt x="129" y="126"/>
                            </a:lnTo>
                            <a:lnTo>
                              <a:pt x="129" y="128"/>
                            </a:lnTo>
                            <a:lnTo>
                              <a:pt x="130" y="129"/>
                            </a:lnTo>
                            <a:lnTo>
                              <a:pt x="131" y="131"/>
                            </a:lnTo>
                            <a:lnTo>
                              <a:pt x="131" y="132"/>
                            </a:lnTo>
                            <a:lnTo>
                              <a:pt x="130" y="131"/>
                            </a:lnTo>
                            <a:lnTo>
                              <a:pt x="129" y="131"/>
                            </a:lnTo>
                            <a:lnTo>
                              <a:pt x="126" y="129"/>
                            </a:lnTo>
                            <a:lnTo>
                              <a:pt x="123" y="126"/>
                            </a:lnTo>
                            <a:lnTo>
                              <a:pt x="120" y="122"/>
                            </a:lnTo>
                            <a:lnTo>
                              <a:pt x="117" y="120"/>
                            </a:lnTo>
                            <a:lnTo>
                              <a:pt x="114" y="119"/>
                            </a:lnTo>
                            <a:lnTo>
                              <a:pt x="110" y="118"/>
                            </a:lnTo>
                            <a:lnTo>
                              <a:pt x="108" y="116"/>
                            </a:lnTo>
                            <a:lnTo>
                              <a:pt x="106" y="116"/>
                            </a:lnTo>
                            <a:lnTo>
                              <a:pt x="103" y="113"/>
                            </a:lnTo>
                            <a:lnTo>
                              <a:pt x="100" y="112"/>
                            </a:lnTo>
                            <a:lnTo>
                              <a:pt x="98" y="111"/>
                            </a:lnTo>
                            <a:lnTo>
                              <a:pt x="96" y="111"/>
                            </a:lnTo>
                            <a:lnTo>
                              <a:pt x="94" y="110"/>
                            </a:lnTo>
                            <a:lnTo>
                              <a:pt x="93" y="110"/>
                            </a:lnTo>
                            <a:lnTo>
                              <a:pt x="89" y="139"/>
                            </a:lnTo>
                            <a:lnTo>
                              <a:pt x="36" y="131"/>
                            </a:lnTo>
                            <a:lnTo>
                              <a:pt x="36" y="128"/>
                            </a:lnTo>
                            <a:lnTo>
                              <a:pt x="37" y="123"/>
                            </a:lnTo>
                            <a:lnTo>
                              <a:pt x="35" y="121"/>
                            </a:lnTo>
                            <a:lnTo>
                              <a:pt x="34" y="119"/>
                            </a:lnTo>
                            <a:lnTo>
                              <a:pt x="32" y="118"/>
                            </a:lnTo>
                            <a:lnTo>
                              <a:pt x="31" y="117"/>
                            </a:lnTo>
                            <a:lnTo>
                              <a:pt x="29" y="116"/>
                            </a:lnTo>
                            <a:lnTo>
                              <a:pt x="26" y="115"/>
                            </a:lnTo>
                            <a:lnTo>
                              <a:pt x="23" y="113"/>
                            </a:lnTo>
                            <a:lnTo>
                              <a:pt x="21" y="112"/>
                            </a:lnTo>
                            <a:lnTo>
                              <a:pt x="19" y="111"/>
                            </a:lnTo>
                            <a:lnTo>
                              <a:pt x="18" y="110"/>
                            </a:lnTo>
                            <a:lnTo>
                              <a:pt x="15" y="108"/>
                            </a:lnTo>
                            <a:lnTo>
                              <a:pt x="13" y="107"/>
                            </a:lnTo>
                            <a:lnTo>
                              <a:pt x="11" y="105"/>
                            </a:lnTo>
                            <a:lnTo>
                              <a:pt x="10" y="104"/>
                            </a:lnTo>
                            <a:lnTo>
                              <a:pt x="2" y="99"/>
                            </a:lnTo>
                            <a:lnTo>
                              <a:pt x="0" y="84"/>
                            </a:lnTo>
                            <a:lnTo>
                              <a:pt x="19" y="74"/>
                            </a:lnTo>
                            <a:lnTo>
                              <a:pt x="19" y="74"/>
                            </a:lnTo>
                            <a:lnTo>
                              <a:pt x="21" y="74"/>
                            </a:lnTo>
                            <a:lnTo>
                              <a:pt x="23" y="73"/>
                            </a:lnTo>
                            <a:lnTo>
                              <a:pt x="24" y="71"/>
                            </a:lnTo>
                            <a:lnTo>
                              <a:pt x="24" y="68"/>
                            </a:lnTo>
                            <a:lnTo>
                              <a:pt x="26" y="67"/>
                            </a:lnTo>
                            <a:lnTo>
                              <a:pt x="29" y="64"/>
                            </a:lnTo>
                            <a:lnTo>
                              <a:pt x="30" y="62"/>
                            </a:lnTo>
                            <a:lnTo>
                              <a:pt x="30" y="59"/>
                            </a:lnTo>
                            <a:lnTo>
                              <a:pt x="30" y="56"/>
                            </a:lnTo>
                            <a:lnTo>
                              <a:pt x="30" y="53"/>
                            </a:lnTo>
                            <a:lnTo>
                              <a:pt x="31" y="51"/>
                            </a:lnTo>
                            <a:lnTo>
                              <a:pt x="30" y="49"/>
                            </a:lnTo>
                            <a:lnTo>
                              <a:pt x="30" y="46"/>
                            </a:lnTo>
                            <a:lnTo>
                              <a:pt x="30" y="45"/>
                            </a:lnTo>
                            <a:lnTo>
                              <a:pt x="29" y="45"/>
                            </a:lnTo>
                            <a:lnTo>
                              <a:pt x="27" y="46"/>
                            </a:lnTo>
                            <a:lnTo>
                              <a:pt x="25" y="46"/>
                            </a:lnTo>
                            <a:lnTo>
                              <a:pt x="23" y="48"/>
                            </a:lnTo>
                            <a:lnTo>
                              <a:pt x="21" y="46"/>
                            </a:lnTo>
                            <a:lnTo>
                              <a:pt x="19" y="45"/>
                            </a:lnTo>
                            <a:lnTo>
                              <a:pt x="18" y="43"/>
                            </a:lnTo>
                            <a:lnTo>
                              <a:pt x="17" y="42"/>
                            </a:lnTo>
                            <a:lnTo>
                              <a:pt x="16" y="39"/>
                            </a:lnTo>
                            <a:lnTo>
                              <a:pt x="16" y="37"/>
                            </a:lnTo>
                            <a:lnTo>
                              <a:pt x="15" y="33"/>
                            </a:lnTo>
                            <a:lnTo>
                              <a:pt x="14" y="30"/>
                            </a:lnTo>
                            <a:lnTo>
                              <a:pt x="13" y="28"/>
                            </a:lnTo>
                            <a:lnTo>
                              <a:pt x="12" y="26"/>
                            </a:lnTo>
                            <a:lnTo>
                              <a:pt x="9" y="21"/>
                            </a:lnTo>
                            <a:lnTo>
                              <a:pt x="7" y="18"/>
                            </a:lnTo>
                            <a:lnTo>
                              <a:pt x="4" y="15"/>
                            </a:lnTo>
                            <a:lnTo>
                              <a:pt x="3" y="14"/>
                            </a:lnTo>
                            <a:lnTo>
                              <a:pt x="1" y="12"/>
                            </a:lnTo>
                            <a:lnTo>
                              <a:pt x="0" y="12"/>
                            </a:lnTo>
                            <a:lnTo>
                              <a:pt x="10" y="0"/>
                            </a:lnTo>
                            <a:lnTo>
                              <a:pt x="42" y="17"/>
                            </a:lnTo>
                            <a:lnTo>
                              <a:pt x="42" y="17"/>
                            </a:lnTo>
                            <a:close/>
                          </a:path>
                        </a:pathLst>
                      </a:custGeom>
                      <a:solidFill>
                        <a:srgbClr val="dea6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3180240" y="5279760"/>
                        <a:ext cx="97920" cy="7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2" h="128">
                            <a:moveTo>
                              <a:pt x="144" y="0"/>
                            </a:moveTo>
                            <a:lnTo>
                              <a:pt x="146" y="0"/>
                            </a:lnTo>
                            <a:lnTo>
                              <a:pt x="148" y="0"/>
                            </a:lnTo>
                            <a:lnTo>
                              <a:pt x="149" y="2"/>
                            </a:lnTo>
                            <a:lnTo>
                              <a:pt x="151" y="3"/>
                            </a:lnTo>
                            <a:lnTo>
                              <a:pt x="152" y="6"/>
                            </a:lnTo>
                            <a:lnTo>
                              <a:pt x="152" y="10"/>
                            </a:lnTo>
                            <a:lnTo>
                              <a:pt x="151" y="11"/>
                            </a:lnTo>
                            <a:lnTo>
                              <a:pt x="151" y="15"/>
                            </a:lnTo>
                            <a:lnTo>
                              <a:pt x="150" y="17"/>
                            </a:lnTo>
                            <a:lnTo>
                              <a:pt x="149" y="19"/>
                            </a:lnTo>
                            <a:lnTo>
                              <a:pt x="148" y="21"/>
                            </a:lnTo>
                            <a:lnTo>
                              <a:pt x="147" y="24"/>
                            </a:lnTo>
                            <a:lnTo>
                              <a:pt x="146" y="26"/>
                            </a:lnTo>
                            <a:lnTo>
                              <a:pt x="145" y="29"/>
                            </a:lnTo>
                            <a:lnTo>
                              <a:pt x="145" y="31"/>
                            </a:lnTo>
                            <a:lnTo>
                              <a:pt x="145" y="33"/>
                            </a:lnTo>
                            <a:lnTo>
                              <a:pt x="145" y="36"/>
                            </a:lnTo>
                            <a:lnTo>
                              <a:pt x="144" y="38"/>
                            </a:lnTo>
                            <a:lnTo>
                              <a:pt x="142" y="41"/>
                            </a:lnTo>
                            <a:lnTo>
                              <a:pt x="140" y="44"/>
                            </a:lnTo>
                            <a:lnTo>
                              <a:pt x="136" y="45"/>
                            </a:lnTo>
                            <a:lnTo>
                              <a:pt x="133" y="48"/>
                            </a:lnTo>
                            <a:lnTo>
                              <a:pt x="129" y="49"/>
                            </a:lnTo>
                            <a:lnTo>
                              <a:pt x="126" y="49"/>
                            </a:lnTo>
                            <a:lnTo>
                              <a:pt x="125" y="51"/>
                            </a:lnTo>
                            <a:lnTo>
                              <a:pt x="123" y="52"/>
                            </a:lnTo>
                            <a:lnTo>
                              <a:pt x="125" y="54"/>
                            </a:lnTo>
                            <a:lnTo>
                              <a:pt x="128" y="56"/>
                            </a:lnTo>
                            <a:lnTo>
                              <a:pt x="130" y="59"/>
                            </a:lnTo>
                            <a:lnTo>
                              <a:pt x="133" y="62"/>
                            </a:lnTo>
                            <a:lnTo>
                              <a:pt x="135" y="64"/>
                            </a:lnTo>
                            <a:lnTo>
                              <a:pt x="137" y="66"/>
                            </a:lnTo>
                            <a:lnTo>
                              <a:pt x="140" y="69"/>
                            </a:lnTo>
                            <a:lnTo>
                              <a:pt x="142" y="71"/>
                            </a:lnTo>
                            <a:lnTo>
                              <a:pt x="143" y="74"/>
                            </a:lnTo>
                            <a:lnTo>
                              <a:pt x="144" y="76"/>
                            </a:lnTo>
                            <a:lnTo>
                              <a:pt x="145" y="80"/>
                            </a:lnTo>
                            <a:lnTo>
                              <a:pt x="145" y="83"/>
                            </a:lnTo>
                            <a:lnTo>
                              <a:pt x="145" y="86"/>
                            </a:lnTo>
                            <a:lnTo>
                              <a:pt x="145" y="89"/>
                            </a:lnTo>
                            <a:lnTo>
                              <a:pt x="144" y="93"/>
                            </a:lnTo>
                            <a:lnTo>
                              <a:pt x="143" y="96"/>
                            </a:lnTo>
                            <a:lnTo>
                              <a:pt x="141" y="98"/>
                            </a:lnTo>
                            <a:lnTo>
                              <a:pt x="140" y="100"/>
                            </a:lnTo>
                            <a:lnTo>
                              <a:pt x="137" y="103"/>
                            </a:lnTo>
                            <a:lnTo>
                              <a:pt x="135" y="105"/>
                            </a:lnTo>
                            <a:lnTo>
                              <a:pt x="133" y="106"/>
                            </a:lnTo>
                            <a:lnTo>
                              <a:pt x="130" y="107"/>
                            </a:lnTo>
                            <a:lnTo>
                              <a:pt x="127" y="107"/>
                            </a:lnTo>
                            <a:lnTo>
                              <a:pt x="124" y="107"/>
                            </a:lnTo>
                            <a:lnTo>
                              <a:pt x="121" y="106"/>
                            </a:lnTo>
                            <a:lnTo>
                              <a:pt x="118" y="106"/>
                            </a:lnTo>
                            <a:lnTo>
                              <a:pt x="113" y="105"/>
                            </a:lnTo>
                            <a:lnTo>
                              <a:pt x="109" y="104"/>
                            </a:lnTo>
                            <a:lnTo>
                              <a:pt x="106" y="104"/>
                            </a:lnTo>
                            <a:lnTo>
                              <a:pt x="103" y="104"/>
                            </a:lnTo>
                            <a:lnTo>
                              <a:pt x="99" y="105"/>
                            </a:lnTo>
                            <a:lnTo>
                              <a:pt x="97" y="107"/>
                            </a:lnTo>
                            <a:lnTo>
                              <a:pt x="93" y="109"/>
                            </a:lnTo>
                            <a:lnTo>
                              <a:pt x="89" y="111"/>
                            </a:lnTo>
                            <a:lnTo>
                              <a:pt x="86" y="115"/>
                            </a:lnTo>
                            <a:lnTo>
                              <a:pt x="83" y="118"/>
                            </a:lnTo>
                            <a:lnTo>
                              <a:pt x="80" y="120"/>
                            </a:lnTo>
                            <a:lnTo>
                              <a:pt x="77" y="123"/>
                            </a:lnTo>
                            <a:lnTo>
                              <a:pt x="72" y="126"/>
                            </a:lnTo>
                            <a:lnTo>
                              <a:pt x="69" y="128"/>
                            </a:lnTo>
                            <a:lnTo>
                              <a:pt x="66" y="128"/>
                            </a:lnTo>
                            <a:lnTo>
                              <a:pt x="64" y="128"/>
                            </a:lnTo>
                            <a:lnTo>
                              <a:pt x="62" y="127"/>
                            </a:lnTo>
                            <a:lnTo>
                              <a:pt x="61" y="126"/>
                            </a:lnTo>
                            <a:lnTo>
                              <a:pt x="58" y="123"/>
                            </a:lnTo>
                            <a:lnTo>
                              <a:pt x="57" y="120"/>
                            </a:lnTo>
                            <a:lnTo>
                              <a:pt x="56" y="117"/>
                            </a:lnTo>
                            <a:lnTo>
                              <a:pt x="56" y="112"/>
                            </a:lnTo>
                            <a:lnTo>
                              <a:pt x="56" y="108"/>
                            </a:lnTo>
                            <a:lnTo>
                              <a:pt x="57" y="105"/>
                            </a:lnTo>
                            <a:lnTo>
                              <a:pt x="56" y="103"/>
                            </a:lnTo>
                            <a:lnTo>
                              <a:pt x="57" y="99"/>
                            </a:lnTo>
                            <a:lnTo>
                              <a:pt x="58" y="97"/>
                            </a:lnTo>
                            <a:lnTo>
                              <a:pt x="60" y="95"/>
                            </a:lnTo>
                            <a:lnTo>
                              <a:pt x="60" y="92"/>
                            </a:lnTo>
                            <a:lnTo>
                              <a:pt x="61" y="88"/>
                            </a:lnTo>
                            <a:lnTo>
                              <a:pt x="61" y="86"/>
                            </a:lnTo>
                            <a:lnTo>
                              <a:pt x="59" y="85"/>
                            </a:lnTo>
                            <a:lnTo>
                              <a:pt x="58" y="88"/>
                            </a:lnTo>
                            <a:lnTo>
                              <a:pt x="56" y="92"/>
                            </a:lnTo>
                            <a:lnTo>
                              <a:pt x="53" y="93"/>
                            </a:lnTo>
                            <a:lnTo>
                              <a:pt x="49" y="94"/>
                            </a:lnTo>
                            <a:lnTo>
                              <a:pt x="46" y="94"/>
                            </a:lnTo>
                            <a:lnTo>
                              <a:pt x="45" y="94"/>
                            </a:lnTo>
                            <a:lnTo>
                              <a:pt x="44" y="97"/>
                            </a:lnTo>
                            <a:lnTo>
                              <a:pt x="44" y="102"/>
                            </a:lnTo>
                            <a:lnTo>
                              <a:pt x="44" y="105"/>
                            </a:lnTo>
                            <a:lnTo>
                              <a:pt x="45" y="109"/>
                            </a:lnTo>
                            <a:lnTo>
                              <a:pt x="45" y="112"/>
                            </a:lnTo>
                            <a:lnTo>
                              <a:pt x="46" y="117"/>
                            </a:lnTo>
                            <a:lnTo>
                              <a:pt x="44" y="121"/>
                            </a:lnTo>
                            <a:lnTo>
                              <a:pt x="43" y="125"/>
                            </a:lnTo>
                            <a:lnTo>
                              <a:pt x="40" y="123"/>
                            </a:lnTo>
                            <a:lnTo>
                              <a:pt x="37" y="122"/>
                            </a:lnTo>
                            <a:lnTo>
                              <a:pt x="33" y="121"/>
                            </a:lnTo>
                            <a:lnTo>
                              <a:pt x="31" y="120"/>
                            </a:lnTo>
                            <a:lnTo>
                              <a:pt x="28" y="119"/>
                            </a:lnTo>
                            <a:lnTo>
                              <a:pt x="26" y="119"/>
                            </a:lnTo>
                            <a:lnTo>
                              <a:pt x="23" y="120"/>
                            </a:lnTo>
                            <a:lnTo>
                              <a:pt x="20" y="121"/>
                            </a:lnTo>
                            <a:lnTo>
                              <a:pt x="18" y="121"/>
                            </a:lnTo>
                            <a:lnTo>
                              <a:pt x="15" y="122"/>
                            </a:lnTo>
                            <a:lnTo>
                              <a:pt x="13" y="123"/>
                            </a:lnTo>
                            <a:lnTo>
                              <a:pt x="11" y="126"/>
                            </a:lnTo>
                            <a:lnTo>
                              <a:pt x="8" y="126"/>
                            </a:lnTo>
                            <a:lnTo>
                              <a:pt x="5" y="128"/>
                            </a:lnTo>
                            <a:lnTo>
                              <a:pt x="3" y="128"/>
                            </a:lnTo>
                            <a:lnTo>
                              <a:pt x="0" y="128"/>
                            </a:lnTo>
                            <a:lnTo>
                              <a:pt x="1" y="126"/>
                            </a:lnTo>
                            <a:lnTo>
                              <a:pt x="1" y="123"/>
                            </a:lnTo>
                            <a:lnTo>
                              <a:pt x="3" y="121"/>
                            </a:lnTo>
                            <a:lnTo>
                              <a:pt x="5" y="121"/>
                            </a:lnTo>
                            <a:lnTo>
                              <a:pt x="7" y="120"/>
                            </a:lnTo>
                            <a:lnTo>
                              <a:pt x="10" y="119"/>
                            </a:lnTo>
                            <a:lnTo>
                              <a:pt x="12" y="118"/>
                            </a:lnTo>
                            <a:lnTo>
                              <a:pt x="15" y="117"/>
                            </a:lnTo>
                            <a:lnTo>
                              <a:pt x="17" y="117"/>
                            </a:lnTo>
                            <a:lnTo>
                              <a:pt x="19" y="117"/>
                            </a:lnTo>
                            <a:lnTo>
                              <a:pt x="21" y="116"/>
                            </a:lnTo>
                            <a:lnTo>
                              <a:pt x="24" y="115"/>
                            </a:lnTo>
                            <a:lnTo>
                              <a:pt x="26" y="115"/>
                            </a:lnTo>
                            <a:lnTo>
                              <a:pt x="29" y="116"/>
                            </a:lnTo>
                            <a:lnTo>
                              <a:pt x="31" y="116"/>
                            </a:lnTo>
                            <a:lnTo>
                              <a:pt x="35" y="116"/>
                            </a:lnTo>
                            <a:lnTo>
                              <a:pt x="37" y="117"/>
                            </a:lnTo>
                            <a:lnTo>
                              <a:pt x="40" y="118"/>
                            </a:lnTo>
                            <a:lnTo>
                              <a:pt x="41" y="114"/>
                            </a:lnTo>
                            <a:lnTo>
                              <a:pt x="41" y="110"/>
                            </a:lnTo>
                            <a:lnTo>
                              <a:pt x="40" y="105"/>
                            </a:lnTo>
                            <a:lnTo>
                              <a:pt x="39" y="102"/>
                            </a:lnTo>
                            <a:lnTo>
                              <a:pt x="38" y="97"/>
                            </a:lnTo>
                            <a:lnTo>
                              <a:pt x="38" y="93"/>
                            </a:lnTo>
                            <a:lnTo>
                              <a:pt x="38" y="92"/>
                            </a:lnTo>
                            <a:lnTo>
                              <a:pt x="40" y="91"/>
                            </a:lnTo>
                            <a:lnTo>
                              <a:pt x="41" y="88"/>
                            </a:lnTo>
                            <a:lnTo>
                              <a:pt x="44" y="88"/>
                            </a:lnTo>
                            <a:lnTo>
                              <a:pt x="46" y="87"/>
                            </a:lnTo>
                            <a:lnTo>
                              <a:pt x="48" y="87"/>
                            </a:lnTo>
                            <a:lnTo>
                              <a:pt x="50" y="86"/>
                            </a:lnTo>
                            <a:lnTo>
                              <a:pt x="52" y="85"/>
                            </a:lnTo>
                            <a:lnTo>
                              <a:pt x="54" y="83"/>
                            </a:lnTo>
                            <a:lnTo>
                              <a:pt x="55" y="81"/>
                            </a:lnTo>
                            <a:lnTo>
                              <a:pt x="56" y="77"/>
                            </a:lnTo>
                            <a:lnTo>
                              <a:pt x="58" y="74"/>
                            </a:lnTo>
                            <a:lnTo>
                              <a:pt x="58" y="74"/>
                            </a:lnTo>
                            <a:lnTo>
                              <a:pt x="60" y="74"/>
                            </a:lnTo>
                            <a:lnTo>
                              <a:pt x="62" y="73"/>
                            </a:lnTo>
                            <a:lnTo>
                              <a:pt x="65" y="73"/>
                            </a:lnTo>
                            <a:lnTo>
                              <a:pt x="68" y="73"/>
                            </a:lnTo>
                            <a:lnTo>
                              <a:pt x="70" y="73"/>
                            </a:lnTo>
                            <a:lnTo>
                              <a:pt x="72" y="73"/>
                            </a:lnTo>
                            <a:lnTo>
                              <a:pt x="74" y="73"/>
                            </a:lnTo>
                            <a:lnTo>
                              <a:pt x="75" y="75"/>
                            </a:lnTo>
                            <a:lnTo>
                              <a:pt x="74" y="80"/>
                            </a:lnTo>
                            <a:lnTo>
                              <a:pt x="74" y="82"/>
                            </a:lnTo>
                            <a:lnTo>
                              <a:pt x="73" y="84"/>
                            </a:lnTo>
                            <a:lnTo>
                              <a:pt x="72" y="87"/>
                            </a:lnTo>
                            <a:lnTo>
                              <a:pt x="71" y="89"/>
                            </a:lnTo>
                            <a:lnTo>
                              <a:pt x="69" y="92"/>
                            </a:lnTo>
                            <a:lnTo>
                              <a:pt x="68" y="95"/>
                            </a:lnTo>
                            <a:lnTo>
                              <a:pt x="66" y="97"/>
                            </a:lnTo>
                            <a:lnTo>
                              <a:pt x="66" y="99"/>
                            </a:lnTo>
                            <a:lnTo>
                              <a:pt x="64" y="104"/>
                            </a:lnTo>
                            <a:lnTo>
                              <a:pt x="65" y="108"/>
                            </a:lnTo>
                            <a:lnTo>
                              <a:pt x="64" y="110"/>
                            </a:lnTo>
                            <a:lnTo>
                              <a:pt x="64" y="115"/>
                            </a:lnTo>
                            <a:lnTo>
                              <a:pt x="64" y="118"/>
                            </a:lnTo>
                            <a:lnTo>
                              <a:pt x="65" y="121"/>
                            </a:lnTo>
                            <a:lnTo>
                              <a:pt x="68" y="120"/>
                            </a:lnTo>
                            <a:lnTo>
                              <a:pt x="71" y="119"/>
                            </a:lnTo>
                            <a:lnTo>
                              <a:pt x="74" y="117"/>
                            </a:lnTo>
                            <a:lnTo>
                              <a:pt x="79" y="114"/>
                            </a:lnTo>
                            <a:lnTo>
                              <a:pt x="81" y="110"/>
                            </a:lnTo>
                            <a:lnTo>
                              <a:pt x="85" y="108"/>
                            </a:lnTo>
                            <a:lnTo>
                              <a:pt x="87" y="106"/>
                            </a:lnTo>
                            <a:lnTo>
                              <a:pt x="91" y="105"/>
                            </a:lnTo>
                            <a:lnTo>
                              <a:pt x="94" y="103"/>
                            </a:lnTo>
                            <a:lnTo>
                              <a:pt x="97" y="100"/>
                            </a:lnTo>
                            <a:lnTo>
                              <a:pt x="101" y="99"/>
                            </a:lnTo>
                            <a:lnTo>
                              <a:pt x="104" y="98"/>
                            </a:lnTo>
                            <a:lnTo>
                              <a:pt x="108" y="97"/>
                            </a:lnTo>
                            <a:lnTo>
                              <a:pt x="112" y="98"/>
                            </a:lnTo>
                            <a:lnTo>
                              <a:pt x="115" y="99"/>
                            </a:lnTo>
                            <a:lnTo>
                              <a:pt x="121" y="102"/>
                            </a:lnTo>
                            <a:lnTo>
                              <a:pt x="125" y="102"/>
                            </a:lnTo>
                            <a:lnTo>
                              <a:pt x="129" y="100"/>
                            </a:lnTo>
                            <a:lnTo>
                              <a:pt x="132" y="98"/>
                            </a:lnTo>
                            <a:lnTo>
                              <a:pt x="135" y="95"/>
                            </a:lnTo>
                            <a:lnTo>
                              <a:pt x="137" y="91"/>
                            </a:lnTo>
                            <a:lnTo>
                              <a:pt x="138" y="86"/>
                            </a:lnTo>
                            <a:lnTo>
                              <a:pt x="138" y="82"/>
                            </a:lnTo>
                            <a:lnTo>
                              <a:pt x="136" y="77"/>
                            </a:lnTo>
                            <a:lnTo>
                              <a:pt x="134" y="74"/>
                            </a:lnTo>
                            <a:lnTo>
                              <a:pt x="132" y="71"/>
                            </a:lnTo>
                            <a:lnTo>
                              <a:pt x="129" y="67"/>
                            </a:lnTo>
                            <a:lnTo>
                              <a:pt x="126" y="64"/>
                            </a:lnTo>
                            <a:lnTo>
                              <a:pt x="122" y="62"/>
                            </a:lnTo>
                            <a:lnTo>
                              <a:pt x="119" y="59"/>
                            </a:lnTo>
                            <a:lnTo>
                              <a:pt x="115" y="56"/>
                            </a:lnTo>
                            <a:lnTo>
                              <a:pt x="113" y="54"/>
                            </a:lnTo>
                            <a:lnTo>
                              <a:pt x="111" y="52"/>
                            </a:lnTo>
                            <a:lnTo>
                              <a:pt x="111" y="49"/>
                            </a:lnTo>
                            <a:lnTo>
                              <a:pt x="111" y="47"/>
                            </a:lnTo>
                            <a:lnTo>
                              <a:pt x="113" y="45"/>
                            </a:lnTo>
                            <a:lnTo>
                              <a:pt x="114" y="44"/>
                            </a:lnTo>
                            <a:lnTo>
                              <a:pt x="115" y="43"/>
                            </a:lnTo>
                            <a:lnTo>
                              <a:pt x="118" y="42"/>
                            </a:lnTo>
                            <a:lnTo>
                              <a:pt x="121" y="41"/>
                            </a:lnTo>
                            <a:lnTo>
                              <a:pt x="123" y="40"/>
                            </a:lnTo>
                            <a:lnTo>
                              <a:pt x="125" y="40"/>
                            </a:lnTo>
                            <a:lnTo>
                              <a:pt x="128" y="39"/>
                            </a:lnTo>
                            <a:lnTo>
                              <a:pt x="130" y="39"/>
                            </a:lnTo>
                            <a:lnTo>
                              <a:pt x="132" y="39"/>
                            </a:lnTo>
                            <a:lnTo>
                              <a:pt x="134" y="39"/>
                            </a:lnTo>
                            <a:lnTo>
                              <a:pt x="136" y="39"/>
                            </a:lnTo>
                            <a:lnTo>
                              <a:pt x="139" y="39"/>
                            </a:lnTo>
                            <a:lnTo>
                              <a:pt x="139" y="34"/>
                            </a:lnTo>
                            <a:lnTo>
                              <a:pt x="139" y="30"/>
                            </a:lnTo>
                            <a:lnTo>
                              <a:pt x="140" y="25"/>
                            </a:lnTo>
                            <a:lnTo>
                              <a:pt x="141" y="20"/>
                            </a:lnTo>
                            <a:lnTo>
                              <a:pt x="140" y="16"/>
                            </a:lnTo>
                            <a:lnTo>
                              <a:pt x="139" y="11"/>
                            </a:lnTo>
                            <a:lnTo>
                              <a:pt x="137" y="10"/>
                            </a:lnTo>
                            <a:lnTo>
                              <a:pt x="136" y="9"/>
                            </a:lnTo>
                            <a:lnTo>
                              <a:pt x="134" y="7"/>
                            </a:lnTo>
                            <a:lnTo>
                              <a:pt x="132" y="7"/>
                            </a:lnTo>
                            <a:lnTo>
                              <a:pt x="133" y="5"/>
                            </a:lnTo>
                            <a:lnTo>
                              <a:pt x="137" y="4"/>
                            </a:lnTo>
                            <a:lnTo>
                              <a:pt x="139" y="3"/>
                            </a:lnTo>
                            <a:lnTo>
                              <a:pt x="142" y="2"/>
                            </a:lnTo>
                            <a:lnTo>
                              <a:pt x="143" y="0"/>
                            </a:lnTo>
                            <a:lnTo>
                              <a:pt x="144" y="0"/>
                            </a:lnTo>
                            <a:lnTo>
                              <a:pt x="144" y="0"/>
                            </a:lnTo>
                            <a:close/>
                          </a:path>
                        </a:pathLst>
                      </a:custGeom>
                      <a:solidFill>
                        <a:srgbClr val="0a91fc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3" name=""/>
                      <p:cNvSpPr/>
                      <p:nvPr/>
                    </p:nvSpPr>
                    <p:spPr>
                      <a:xfrm>
                        <a:off x="3162960" y="5279760"/>
                        <a:ext cx="109080" cy="9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58">
                            <a:moveTo>
                              <a:pt x="163" y="0"/>
                            </a:moveTo>
                            <a:lnTo>
                              <a:pt x="163" y="0"/>
                            </a:lnTo>
                            <a:lnTo>
                              <a:pt x="165" y="3"/>
                            </a:lnTo>
                            <a:lnTo>
                              <a:pt x="165" y="5"/>
                            </a:lnTo>
                            <a:lnTo>
                              <a:pt x="166" y="7"/>
                            </a:lnTo>
                            <a:lnTo>
                              <a:pt x="163" y="8"/>
                            </a:lnTo>
                            <a:lnTo>
                              <a:pt x="159" y="9"/>
                            </a:lnTo>
                            <a:lnTo>
                              <a:pt x="156" y="10"/>
                            </a:lnTo>
                            <a:lnTo>
                              <a:pt x="152" y="11"/>
                            </a:lnTo>
                            <a:lnTo>
                              <a:pt x="148" y="13"/>
                            </a:lnTo>
                            <a:lnTo>
                              <a:pt x="144" y="14"/>
                            </a:lnTo>
                            <a:lnTo>
                              <a:pt x="140" y="15"/>
                            </a:lnTo>
                            <a:lnTo>
                              <a:pt x="136" y="16"/>
                            </a:lnTo>
                            <a:lnTo>
                              <a:pt x="132" y="17"/>
                            </a:lnTo>
                            <a:lnTo>
                              <a:pt x="128" y="18"/>
                            </a:lnTo>
                            <a:lnTo>
                              <a:pt x="125" y="20"/>
                            </a:lnTo>
                            <a:lnTo>
                              <a:pt x="121" y="22"/>
                            </a:lnTo>
                            <a:lnTo>
                              <a:pt x="118" y="24"/>
                            </a:lnTo>
                            <a:lnTo>
                              <a:pt x="114" y="26"/>
                            </a:lnTo>
                            <a:lnTo>
                              <a:pt x="111" y="28"/>
                            </a:lnTo>
                            <a:lnTo>
                              <a:pt x="109" y="31"/>
                            </a:lnTo>
                            <a:lnTo>
                              <a:pt x="105" y="33"/>
                            </a:lnTo>
                            <a:lnTo>
                              <a:pt x="101" y="36"/>
                            </a:lnTo>
                            <a:lnTo>
                              <a:pt x="97" y="39"/>
                            </a:lnTo>
                            <a:lnTo>
                              <a:pt x="94" y="42"/>
                            </a:lnTo>
                            <a:lnTo>
                              <a:pt x="90" y="44"/>
                            </a:lnTo>
                            <a:lnTo>
                              <a:pt x="87" y="47"/>
                            </a:lnTo>
                            <a:lnTo>
                              <a:pt x="84" y="50"/>
                            </a:lnTo>
                            <a:lnTo>
                              <a:pt x="81" y="53"/>
                            </a:lnTo>
                            <a:lnTo>
                              <a:pt x="77" y="56"/>
                            </a:lnTo>
                            <a:lnTo>
                              <a:pt x="74" y="60"/>
                            </a:lnTo>
                            <a:lnTo>
                              <a:pt x="71" y="63"/>
                            </a:lnTo>
                            <a:lnTo>
                              <a:pt x="68" y="66"/>
                            </a:lnTo>
                            <a:lnTo>
                              <a:pt x="65" y="70"/>
                            </a:lnTo>
                            <a:lnTo>
                              <a:pt x="62" y="73"/>
                            </a:lnTo>
                            <a:lnTo>
                              <a:pt x="60" y="77"/>
                            </a:lnTo>
                            <a:lnTo>
                              <a:pt x="56" y="81"/>
                            </a:lnTo>
                            <a:lnTo>
                              <a:pt x="53" y="84"/>
                            </a:lnTo>
                            <a:lnTo>
                              <a:pt x="50" y="88"/>
                            </a:lnTo>
                            <a:lnTo>
                              <a:pt x="48" y="92"/>
                            </a:lnTo>
                            <a:lnTo>
                              <a:pt x="45" y="96"/>
                            </a:lnTo>
                            <a:lnTo>
                              <a:pt x="43" y="99"/>
                            </a:lnTo>
                            <a:lnTo>
                              <a:pt x="40" y="104"/>
                            </a:lnTo>
                            <a:lnTo>
                              <a:pt x="38" y="108"/>
                            </a:lnTo>
                            <a:lnTo>
                              <a:pt x="36" y="111"/>
                            </a:lnTo>
                            <a:lnTo>
                              <a:pt x="33" y="116"/>
                            </a:lnTo>
                            <a:lnTo>
                              <a:pt x="31" y="119"/>
                            </a:lnTo>
                            <a:lnTo>
                              <a:pt x="29" y="123"/>
                            </a:lnTo>
                            <a:lnTo>
                              <a:pt x="28" y="128"/>
                            </a:lnTo>
                            <a:lnTo>
                              <a:pt x="26" y="132"/>
                            </a:lnTo>
                            <a:lnTo>
                              <a:pt x="24" y="137"/>
                            </a:lnTo>
                            <a:lnTo>
                              <a:pt x="23" y="141"/>
                            </a:lnTo>
                            <a:lnTo>
                              <a:pt x="21" y="145"/>
                            </a:lnTo>
                            <a:lnTo>
                              <a:pt x="19" y="148"/>
                            </a:lnTo>
                            <a:lnTo>
                              <a:pt x="18" y="150"/>
                            </a:lnTo>
                            <a:lnTo>
                              <a:pt x="16" y="151"/>
                            </a:lnTo>
                            <a:lnTo>
                              <a:pt x="16" y="152"/>
                            </a:lnTo>
                            <a:lnTo>
                              <a:pt x="14" y="154"/>
                            </a:lnTo>
                            <a:lnTo>
                              <a:pt x="12" y="158"/>
                            </a:lnTo>
                            <a:lnTo>
                              <a:pt x="0" y="158"/>
                            </a:lnTo>
                            <a:lnTo>
                              <a:pt x="1" y="154"/>
                            </a:lnTo>
                            <a:lnTo>
                              <a:pt x="2" y="152"/>
                            </a:lnTo>
                            <a:lnTo>
                              <a:pt x="3" y="149"/>
                            </a:lnTo>
                            <a:lnTo>
                              <a:pt x="4" y="145"/>
                            </a:lnTo>
                            <a:lnTo>
                              <a:pt x="5" y="143"/>
                            </a:lnTo>
                            <a:lnTo>
                              <a:pt x="6" y="140"/>
                            </a:lnTo>
                            <a:lnTo>
                              <a:pt x="8" y="137"/>
                            </a:lnTo>
                            <a:lnTo>
                              <a:pt x="9" y="134"/>
                            </a:lnTo>
                            <a:lnTo>
                              <a:pt x="10" y="131"/>
                            </a:lnTo>
                            <a:lnTo>
                              <a:pt x="12" y="128"/>
                            </a:lnTo>
                            <a:lnTo>
                              <a:pt x="14" y="125"/>
                            </a:lnTo>
                            <a:lnTo>
                              <a:pt x="15" y="122"/>
                            </a:lnTo>
                            <a:lnTo>
                              <a:pt x="16" y="119"/>
                            </a:lnTo>
                            <a:lnTo>
                              <a:pt x="19" y="116"/>
                            </a:lnTo>
                            <a:lnTo>
                              <a:pt x="21" y="114"/>
                            </a:lnTo>
                            <a:lnTo>
                              <a:pt x="23" y="110"/>
                            </a:lnTo>
                            <a:lnTo>
                              <a:pt x="25" y="108"/>
                            </a:lnTo>
                            <a:lnTo>
                              <a:pt x="27" y="105"/>
                            </a:lnTo>
                            <a:lnTo>
                              <a:pt x="28" y="102"/>
                            </a:lnTo>
                            <a:lnTo>
                              <a:pt x="30" y="99"/>
                            </a:lnTo>
                            <a:lnTo>
                              <a:pt x="32" y="96"/>
                            </a:lnTo>
                            <a:lnTo>
                              <a:pt x="34" y="93"/>
                            </a:lnTo>
                            <a:lnTo>
                              <a:pt x="36" y="91"/>
                            </a:lnTo>
                            <a:lnTo>
                              <a:pt x="38" y="88"/>
                            </a:lnTo>
                            <a:lnTo>
                              <a:pt x="40" y="85"/>
                            </a:lnTo>
                            <a:lnTo>
                              <a:pt x="42" y="82"/>
                            </a:lnTo>
                            <a:lnTo>
                              <a:pt x="44" y="80"/>
                            </a:lnTo>
                            <a:lnTo>
                              <a:pt x="47" y="76"/>
                            </a:lnTo>
                            <a:lnTo>
                              <a:pt x="49" y="74"/>
                            </a:lnTo>
                            <a:lnTo>
                              <a:pt x="51" y="71"/>
                            </a:lnTo>
                            <a:lnTo>
                              <a:pt x="53" y="69"/>
                            </a:lnTo>
                            <a:lnTo>
                              <a:pt x="56" y="66"/>
                            </a:lnTo>
                            <a:lnTo>
                              <a:pt x="60" y="62"/>
                            </a:lnTo>
                            <a:lnTo>
                              <a:pt x="64" y="58"/>
                            </a:lnTo>
                            <a:lnTo>
                              <a:pt x="67" y="54"/>
                            </a:lnTo>
                            <a:lnTo>
                              <a:pt x="71" y="51"/>
                            </a:lnTo>
                            <a:lnTo>
                              <a:pt x="75" y="47"/>
                            </a:lnTo>
                            <a:lnTo>
                              <a:pt x="79" y="43"/>
                            </a:lnTo>
                            <a:lnTo>
                              <a:pt x="83" y="40"/>
                            </a:lnTo>
                            <a:lnTo>
                              <a:pt x="87" y="38"/>
                            </a:lnTo>
                            <a:lnTo>
                              <a:pt x="90" y="34"/>
                            </a:lnTo>
                            <a:lnTo>
                              <a:pt x="95" y="31"/>
                            </a:lnTo>
                            <a:lnTo>
                              <a:pt x="98" y="29"/>
                            </a:lnTo>
                            <a:lnTo>
                              <a:pt x="104" y="27"/>
                            </a:lnTo>
                            <a:lnTo>
                              <a:pt x="108" y="24"/>
                            </a:lnTo>
                            <a:lnTo>
                              <a:pt x="112" y="21"/>
                            </a:lnTo>
                            <a:lnTo>
                              <a:pt x="116" y="18"/>
                            </a:lnTo>
                            <a:lnTo>
                              <a:pt x="120" y="16"/>
                            </a:lnTo>
                            <a:lnTo>
                              <a:pt x="123" y="15"/>
                            </a:lnTo>
                            <a:lnTo>
                              <a:pt x="125" y="14"/>
                            </a:lnTo>
                            <a:lnTo>
                              <a:pt x="128" y="13"/>
                            </a:lnTo>
                            <a:lnTo>
                              <a:pt x="131" y="11"/>
                            </a:lnTo>
                            <a:lnTo>
                              <a:pt x="133" y="10"/>
                            </a:lnTo>
                            <a:lnTo>
                              <a:pt x="136" y="9"/>
                            </a:lnTo>
                            <a:lnTo>
                              <a:pt x="138" y="8"/>
                            </a:lnTo>
                            <a:lnTo>
                              <a:pt x="142" y="7"/>
                            </a:lnTo>
                            <a:lnTo>
                              <a:pt x="145" y="6"/>
                            </a:lnTo>
                            <a:lnTo>
                              <a:pt x="147" y="5"/>
                            </a:lnTo>
                            <a:lnTo>
                              <a:pt x="150" y="4"/>
                            </a:lnTo>
                            <a:lnTo>
                              <a:pt x="153" y="3"/>
                            </a:lnTo>
                            <a:lnTo>
                              <a:pt x="155" y="2"/>
                            </a:lnTo>
                            <a:lnTo>
                              <a:pt x="158" y="2"/>
                            </a:lnTo>
                            <a:lnTo>
                              <a:pt x="161" y="0"/>
                            </a:lnTo>
                            <a:lnTo>
                              <a:pt x="163" y="0"/>
                            </a:lnTo>
                            <a:lnTo>
                              <a:pt x="163" y="0"/>
                            </a:lnTo>
                            <a:close/>
                          </a:path>
                        </a:pathLst>
                      </a:custGeom>
                      <a:solidFill>
                        <a:srgbClr val="0a91fc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4" name=""/>
                      <p:cNvSpPr/>
                      <p:nvPr/>
                    </p:nvSpPr>
                    <p:spPr>
                      <a:xfrm>
                        <a:off x="3269160" y="5277240"/>
                        <a:ext cx="16704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7" h="168">
                            <a:moveTo>
                              <a:pt x="33" y="1"/>
                            </a:moveTo>
                            <a:lnTo>
                              <a:pt x="35" y="0"/>
                            </a:lnTo>
                            <a:lnTo>
                              <a:pt x="37" y="0"/>
                            </a:lnTo>
                            <a:lnTo>
                              <a:pt x="39" y="0"/>
                            </a:lnTo>
                            <a:lnTo>
                              <a:pt x="42" y="0"/>
                            </a:lnTo>
                            <a:lnTo>
                              <a:pt x="44" y="0"/>
                            </a:lnTo>
                            <a:lnTo>
                              <a:pt x="46" y="0"/>
                            </a:lnTo>
                            <a:lnTo>
                              <a:pt x="49" y="0"/>
                            </a:lnTo>
                            <a:lnTo>
                              <a:pt x="51" y="0"/>
                            </a:lnTo>
                            <a:lnTo>
                              <a:pt x="53" y="0"/>
                            </a:lnTo>
                            <a:lnTo>
                              <a:pt x="55" y="0"/>
                            </a:lnTo>
                            <a:lnTo>
                              <a:pt x="58" y="0"/>
                            </a:lnTo>
                            <a:lnTo>
                              <a:pt x="60" y="0"/>
                            </a:lnTo>
                            <a:lnTo>
                              <a:pt x="62" y="0"/>
                            </a:lnTo>
                            <a:lnTo>
                              <a:pt x="66" y="1"/>
                            </a:lnTo>
                            <a:lnTo>
                              <a:pt x="68" y="1"/>
                            </a:lnTo>
                            <a:lnTo>
                              <a:pt x="70" y="1"/>
                            </a:lnTo>
                            <a:lnTo>
                              <a:pt x="72" y="1"/>
                            </a:lnTo>
                            <a:lnTo>
                              <a:pt x="74" y="1"/>
                            </a:lnTo>
                            <a:lnTo>
                              <a:pt x="77" y="1"/>
                            </a:lnTo>
                            <a:lnTo>
                              <a:pt x="79" y="1"/>
                            </a:lnTo>
                            <a:lnTo>
                              <a:pt x="81" y="1"/>
                            </a:lnTo>
                            <a:lnTo>
                              <a:pt x="83" y="2"/>
                            </a:lnTo>
                            <a:lnTo>
                              <a:pt x="86" y="2"/>
                            </a:lnTo>
                            <a:lnTo>
                              <a:pt x="88" y="2"/>
                            </a:lnTo>
                            <a:lnTo>
                              <a:pt x="90" y="2"/>
                            </a:lnTo>
                            <a:lnTo>
                              <a:pt x="92" y="3"/>
                            </a:lnTo>
                            <a:lnTo>
                              <a:pt x="94" y="3"/>
                            </a:lnTo>
                            <a:lnTo>
                              <a:pt x="97" y="3"/>
                            </a:lnTo>
                            <a:lnTo>
                              <a:pt x="99" y="3"/>
                            </a:lnTo>
                            <a:lnTo>
                              <a:pt x="101" y="4"/>
                            </a:lnTo>
                            <a:lnTo>
                              <a:pt x="103" y="4"/>
                            </a:lnTo>
                            <a:lnTo>
                              <a:pt x="107" y="5"/>
                            </a:lnTo>
                            <a:lnTo>
                              <a:pt x="111" y="5"/>
                            </a:lnTo>
                            <a:lnTo>
                              <a:pt x="114" y="7"/>
                            </a:lnTo>
                            <a:lnTo>
                              <a:pt x="118" y="8"/>
                            </a:lnTo>
                            <a:lnTo>
                              <a:pt x="123" y="10"/>
                            </a:lnTo>
                            <a:lnTo>
                              <a:pt x="127" y="11"/>
                            </a:lnTo>
                            <a:lnTo>
                              <a:pt x="131" y="12"/>
                            </a:lnTo>
                            <a:lnTo>
                              <a:pt x="135" y="14"/>
                            </a:lnTo>
                            <a:lnTo>
                              <a:pt x="140" y="15"/>
                            </a:lnTo>
                            <a:lnTo>
                              <a:pt x="143" y="16"/>
                            </a:lnTo>
                            <a:lnTo>
                              <a:pt x="149" y="19"/>
                            </a:lnTo>
                            <a:lnTo>
                              <a:pt x="152" y="21"/>
                            </a:lnTo>
                            <a:lnTo>
                              <a:pt x="157" y="23"/>
                            </a:lnTo>
                            <a:lnTo>
                              <a:pt x="160" y="25"/>
                            </a:lnTo>
                            <a:lnTo>
                              <a:pt x="165" y="27"/>
                            </a:lnTo>
                            <a:lnTo>
                              <a:pt x="168" y="30"/>
                            </a:lnTo>
                            <a:lnTo>
                              <a:pt x="173" y="33"/>
                            </a:lnTo>
                            <a:lnTo>
                              <a:pt x="177" y="35"/>
                            </a:lnTo>
                            <a:lnTo>
                              <a:pt x="181" y="38"/>
                            </a:lnTo>
                            <a:lnTo>
                              <a:pt x="184" y="41"/>
                            </a:lnTo>
                            <a:lnTo>
                              <a:pt x="189" y="45"/>
                            </a:lnTo>
                            <a:lnTo>
                              <a:pt x="193" y="47"/>
                            </a:lnTo>
                            <a:lnTo>
                              <a:pt x="196" y="52"/>
                            </a:lnTo>
                            <a:lnTo>
                              <a:pt x="200" y="55"/>
                            </a:lnTo>
                            <a:lnTo>
                              <a:pt x="203" y="59"/>
                            </a:lnTo>
                            <a:lnTo>
                              <a:pt x="206" y="63"/>
                            </a:lnTo>
                            <a:lnTo>
                              <a:pt x="209" y="67"/>
                            </a:lnTo>
                            <a:lnTo>
                              <a:pt x="212" y="70"/>
                            </a:lnTo>
                            <a:lnTo>
                              <a:pt x="215" y="75"/>
                            </a:lnTo>
                            <a:lnTo>
                              <a:pt x="218" y="79"/>
                            </a:lnTo>
                            <a:lnTo>
                              <a:pt x="221" y="83"/>
                            </a:lnTo>
                            <a:lnTo>
                              <a:pt x="223" y="88"/>
                            </a:lnTo>
                            <a:lnTo>
                              <a:pt x="226" y="93"/>
                            </a:lnTo>
                            <a:lnTo>
                              <a:pt x="228" y="97"/>
                            </a:lnTo>
                            <a:lnTo>
                              <a:pt x="231" y="102"/>
                            </a:lnTo>
                            <a:lnTo>
                              <a:pt x="233" y="107"/>
                            </a:lnTo>
                            <a:lnTo>
                              <a:pt x="236" y="111"/>
                            </a:lnTo>
                            <a:lnTo>
                              <a:pt x="238" y="115"/>
                            </a:lnTo>
                            <a:lnTo>
                              <a:pt x="240" y="120"/>
                            </a:lnTo>
                            <a:lnTo>
                              <a:pt x="240" y="122"/>
                            </a:lnTo>
                            <a:lnTo>
                              <a:pt x="242" y="124"/>
                            </a:lnTo>
                            <a:lnTo>
                              <a:pt x="243" y="127"/>
                            </a:lnTo>
                            <a:lnTo>
                              <a:pt x="244" y="130"/>
                            </a:lnTo>
                            <a:lnTo>
                              <a:pt x="245" y="134"/>
                            </a:lnTo>
                            <a:lnTo>
                              <a:pt x="247" y="139"/>
                            </a:lnTo>
                            <a:lnTo>
                              <a:pt x="248" y="142"/>
                            </a:lnTo>
                            <a:lnTo>
                              <a:pt x="249" y="144"/>
                            </a:lnTo>
                            <a:lnTo>
                              <a:pt x="249" y="146"/>
                            </a:lnTo>
                            <a:lnTo>
                              <a:pt x="250" y="148"/>
                            </a:lnTo>
                            <a:lnTo>
                              <a:pt x="252" y="153"/>
                            </a:lnTo>
                            <a:lnTo>
                              <a:pt x="254" y="158"/>
                            </a:lnTo>
                            <a:lnTo>
                              <a:pt x="254" y="160"/>
                            </a:lnTo>
                            <a:lnTo>
                              <a:pt x="255" y="163"/>
                            </a:lnTo>
                            <a:lnTo>
                              <a:pt x="256" y="165"/>
                            </a:lnTo>
                            <a:lnTo>
                              <a:pt x="257" y="168"/>
                            </a:lnTo>
                            <a:lnTo>
                              <a:pt x="243" y="164"/>
                            </a:lnTo>
                            <a:lnTo>
                              <a:pt x="240" y="160"/>
                            </a:lnTo>
                            <a:lnTo>
                              <a:pt x="239" y="157"/>
                            </a:lnTo>
                            <a:lnTo>
                              <a:pt x="237" y="155"/>
                            </a:lnTo>
                            <a:lnTo>
                              <a:pt x="237" y="152"/>
                            </a:lnTo>
                            <a:lnTo>
                              <a:pt x="236" y="149"/>
                            </a:lnTo>
                            <a:lnTo>
                              <a:pt x="235" y="146"/>
                            </a:lnTo>
                            <a:lnTo>
                              <a:pt x="235" y="144"/>
                            </a:lnTo>
                            <a:lnTo>
                              <a:pt x="235" y="142"/>
                            </a:lnTo>
                            <a:lnTo>
                              <a:pt x="235" y="138"/>
                            </a:lnTo>
                            <a:lnTo>
                              <a:pt x="235" y="135"/>
                            </a:lnTo>
                            <a:lnTo>
                              <a:pt x="234" y="133"/>
                            </a:lnTo>
                            <a:lnTo>
                              <a:pt x="234" y="130"/>
                            </a:lnTo>
                            <a:lnTo>
                              <a:pt x="233" y="126"/>
                            </a:lnTo>
                            <a:lnTo>
                              <a:pt x="233" y="124"/>
                            </a:lnTo>
                            <a:lnTo>
                              <a:pt x="231" y="121"/>
                            </a:lnTo>
                            <a:lnTo>
                              <a:pt x="230" y="117"/>
                            </a:lnTo>
                            <a:lnTo>
                              <a:pt x="227" y="114"/>
                            </a:lnTo>
                            <a:lnTo>
                              <a:pt x="226" y="111"/>
                            </a:lnTo>
                            <a:lnTo>
                              <a:pt x="224" y="108"/>
                            </a:lnTo>
                            <a:lnTo>
                              <a:pt x="222" y="104"/>
                            </a:lnTo>
                            <a:lnTo>
                              <a:pt x="220" y="101"/>
                            </a:lnTo>
                            <a:lnTo>
                              <a:pt x="219" y="98"/>
                            </a:lnTo>
                            <a:lnTo>
                              <a:pt x="217" y="94"/>
                            </a:lnTo>
                            <a:lnTo>
                              <a:pt x="216" y="92"/>
                            </a:lnTo>
                            <a:lnTo>
                              <a:pt x="214" y="89"/>
                            </a:lnTo>
                            <a:lnTo>
                              <a:pt x="212" y="87"/>
                            </a:lnTo>
                            <a:lnTo>
                              <a:pt x="210" y="83"/>
                            </a:lnTo>
                            <a:lnTo>
                              <a:pt x="208" y="80"/>
                            </a:lnTo>
                            <a:lnTo>
                              <a:pt x="206" y="78"/>
                            </a:lnTo>
                            <a:lnTo>
                              <a:pt x="204" y="76"/>
                            </a:lnTo>
                            <a:lnTo>
                              <a:pt x="202" y="72"/>
                            </a:lnTo>
                            <a:lnTo>
                              <a:pt x="200" y="70"/>
                            </a:lnTo>
                            <a:lnTo>
                              <a:pt x="197" y="68"/>
                            </a:lnTo>
                            <a:lnTo>
                              <a:pt x="195" y="65"/>
                            </a:lnTo>
                            <a:lnTo>
                              <a:pt x="192" y="63"/>
                            </a:lnTo>
                            <a:lnTo>
                              <a:pt x="190" y="60"/>
                            </a:lnTo>
                            <a:lnTo>
                              <a:pt x="187" y="58"/>
                            </a:lnTo>
                            <a:lnTo>
                              <a:pt x="185" y="56"/>
                            </a:lnTo>
                            <a:lnTo>
                              <a:pt x="182" y="54"/>
                            </a:lnTo>
                            <a:lnTo>
                              <a:pt x="180" y="53"/>
                            </a:lnTo>
                            <a:lnTo>
                              <a:pt x="177" y="50"/>
                            </a:lnTo>
                            <a:lnTo>
                              <a:pt x="175" y="48"/>
                            </a:lnTo>
                            <a:lnTo>
                              <a:pt x="172" y="46"/>
                            </a:lnTo>
                            <a:lnTo>
                              <a:pt x="170" y="45"/>
                            </a:lnTo>
                            <a:lnTo>
                              <a:pt x="167" y="43"/>
                            </a:lnTo>
                            <a:lnTo>
                              <a:pt x="165" y="41"/>
                            </a:lnTo>
                            <a:lnTo>
                              <a:pt x="162" y="39"/>
                            </a:lnTo>
                            <a:lnTo>
                              <a:pt x="160" y="38"/>
                            </a:lnTo>
                            <a:lnTo>
                              <a:pt x="157" y="36"/>
                            </a:lnTo>
                            <a:lnTo>
                              <a:pt x="154" y="34"/>
                            </a:lnTo>
                            <a:lnTo>
                              <a:pt x="151" y="33"/>
                            </a:lnTo>
                            <a:lnTo>
                              <a:pt x="149" y="32"/>
                            </a:lnTo>
                            <a:lnTo>
                              <a:pt x="144" y="30"/>
                            </a:lnTo>
                            <a:lnTo>
                              <a:pt x="142" y="29"/>
                            </a:lnTo>
                            <a:lnTo>
                              <a:pt x="139" y="27"/>
                            </a:lnTo>
                            <a:lnTo>
                              <a:pt x="136" y="26"/>
                            </a:lnTo>
                            <a:lnTo>
                              <a:pt x="133" y="25"/>
                            </a:lnTo>
                            <a:lnTo>
                              <a:pt x="131" y="23"/>
                            </a:lnTo>
                            <a:lnTo>
                              <a:pt x="128" y="22"/>
                            </a:lnTo>
                            <a:lnTo>
                              <a:pt x="125" y="21"/>
                            </a:lnTo>
                            <a:lnTo>
                              <a:pt x="122" y="20"/>
                            </a:lnTo>
                            <a:lnTo>
                              <a:pt x="120" y="19"/>
                            </a:lnTo>
                            <a:lnTo>
                              <a:pt x="117" y="18"/>
                            </a:lnTo>
                            <a:lnTo>
                              <a:pt x="114" y="18"/>
                            </a:lnTo>
                            <a:lnTo>
                              <a:pt x="111" y="16"/>
                            </a:lnTo>
                            <a:lnTo>
                              <a:pt x="108" y="15"/>
                            </a:lnTo>
                            <a:lnTo>
                              <a:pt x="104" y="14"/>
                            </a:lnTo>
                            <a:lnTo>
                              <a:pt x="102" y="14"/>
                            </a:lnTo>
                            <a:lnTo>
                              <a:pt x="98" y="13"/>
                            </a:lnTo>
                            <a:lnTo>
                              <a:pt x="96" y="12"/>
                            </a:lnTo>
                            <a:lnTo>
                              <a:pt x="92" y="12"/>
                            </a:lnTo>
                            <a:lnTo>
                              <a:pt x="90" y="12"/>
                            </a:lnTo>
                            <a:lnTo>
                              <a:pt x="87" y="11"/>
                            </a:lnTo>
                            <a:lnTo>
                              <a:pt x="84" y="10"/>
                            </a:lnTo>
                            <a:lnTo>
                              <a:pt x="81" y="10"/>
                            </a:lnTo>
                            <a:lnTo>
                              <a:pt x="78" y="10"/>
                            </a:lnTo>
                            <a:lnTo>
                              <a:pt x="75" y="10"/>
                            </a:lnTo>
                            <a:lnTo>
                              <a:pt x="73" y="9"/>
                            </a:lnTo>
                            <a:lnTo>
                              <a:pt x="70" y="9"/>
                            </a:lnTo>
                            <a:lnTo>
                              <a:pt x="67" y="9"/>
                            </a:lnTo>
                            <a:lnTo>
                              <a:pt x="62" y="8"/>
                            </a:lnTo>
                            <a:lnTo>
                              <a:pt x="58" y="8"/>
                            </a:lnTo>
                            <a:lnTo>
                              <a:pt x="54" y="8"/>
                            </a:lnTo>
                            <a:lnTo>
                              <a:pt x="50" y="8"/>
                            </a:lnTo>
                            <a:lnTo>
                              <a:pt x="46" y="8"/>
                            </a:lnTo>
                            <a:lnTo>
                              <a:pt x="42" y="8"/>
                            </a:lnTo>
                            <a:lnTo>
                              <a:pt x="38" y="9"/>
                            </a:lnTo>
                            <a:lnTo>
                              <a:pt x="35" y="9"/>
                            </a:lnTo>
                            <a:lnTo>
                              <a:pt x="31" y="9"/>
                            </a:lnTo>
                            <a:lnTo>
                              <a:pt x="27" y="9"/>
                            </a:lnTo>
                            <a:lnTo>
                              <a:pt x="23" y="10"/>
                            </a:lnTo>
                            <a:lnTo>
                              <a:pt x="18" y="10"/>
                            </a:lnTo>
                            <a:lnTo>
                              <a:pt x="14" y="10"/>
                            </a:lnTo>
                            <a:lnTo>
                              <a:pt x="10" y="10"/>
                            </a:lnTo>
                            <a:lnTo>
                              <a:pt x="6" y="10"/>
                            </a:lnTo>
                            <a:lnTo>
                              <a:pt x="3" y="11"/>
                            </a:lnTo>
                            <a:lnTo>
                              <a:pt x="2" y="9"/>
                            </a:lnTo>
                            <a:lnTo>
                              <a:pt x="1" y="8"/>
                            </a:lnTo>
                            <a:lnTo>
                              <a:pt x="0" y="7"/>
                            </a:lnTo>
                            <a:lnTo>
                              <a:pt x="0" y="5"/>
                            </a:lnTo>
                            <a:lnTo>
                              <a:pt x="3" y="3"/>
                            </a:lnTo>
                            <a:lnTo>
                              <a:pt x="8" y="3"/>
                            </a:lnTo>
                            <a:lnTo>
                              <a:pt x="10" y="2"/>
                            </a:lnTo>
                            <a:lnTo>
                              <a:pt x="12" y="2"/>
                            </a:lnTo>
                            <a:lnTo>
                              <a:pt x="14" y="1"/>
                            </a:lnTo>
                            <a:lnTo>
                              <a:pt x="16" y="1"/>
                            </a:lnTo>
                            <a:lnTo>
                              <a:pt x="18" y="1"/>
                            </a:lnTo>
                            <a:lnTo>
                              <a:pt x="20" y="1"/>
                            </a:lnTo>
                            <a:lnTo>
                              <a:pt x="23" y="1"/>
                            </a:lnTo>
                            <a:lnTo>
                              <a:pt x="26" y="1"/>
                            </a:lnTo>
                            <a:lnTo>
                              <a:pt x="29" y="1"/>
                            </a:lnTo>
                            <a:lnTo>
                              <a:pt x="33" y="1"/>
                            </a:lnTo>
                            <a:lnTo>
                              <a:pt x="33" y="1"/>
                            </a:lnTo>
                            <a:close/>
                          </a:path>
                        </a:pathLst>
                      </a:custGeom>
                      <a:solidFill>
                        <a:srgbClr val="0a91fc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5" name=""/>
                      <p:cNvSpPr/>
                      <p:nvPr/>
                    </p:nvSpPr>
                    <p:spPr>
                      <a:xfrm>
                        <a:off x="3233520" y="5342400"/>
                        <a:ext cx="8136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52">
                            <a:moveTo>
                              <a:pt x="75" y="0"/>
                            </a:moveTo>
                            <a:lnTo>
                              <a:pt x="79" y="0"/>
                            </a:lnTo>
                            <a:lnTo>
                              <a:pt x="82" y="0"/>
                            </a:lnTo>
                            <a:lnTo>
                              <a:pt x="85" y="1"/>
                            </a:lnTo>
                            <a:lnTo>
                              <a:pt x="89" y="2"/>
                            </a:lnTo>
                            <a:lnTo>
                              <a:pt x="92" y="3"/>
                            </a:lnTo>
                            <a:lnTo>
                              <a:pt x="96" y="4"/>
                            </a:lnTo>
                            <a:lnTo>
                              <a:pt x="99" y="5"/>
                            </a:lnTo>
                            <a:lnTo>
                              <a:pt x="103" y="6"/>
                            </a:lnTo>
                            <a:lnTo>
                              <a:pt x="104" y="6"/>
                            </a:lnTo>
                            <a:lnTo>
                              <a:pt x="106" y="7"/>
                            </a:lnTo>
                            <a:lnTo>
                              <a:pt x="109" y="7"/>
                            </a:lnTo>
                            <a:lnTo>
                              <a:pt x="111" y="8"/>
                            </a:lnTo>
                            <a:lnTo>
                              <a:pt x="114" y="8"/>
                            </a:lnTo>
                            <a:lnTo>
                              <a:pt x="116" y="8"/>
                            </a:lnTo>
                            <a:lnTo>
                              <a:pt x="119" y="8"/>
                            </a:lnTo>
                            <a:lnTo>
                              <a:pt x="122" y="8"/>
                            </a:lnTo>
                            <a:lnTo>
                              <a:pt x="124" y="10"/>
                            </a:lnTo>
                            <a:lnTo>
                              <a:pt x="125" y="12"/>
                            </a:lnTo>
                            <a:lnTo>
                              <a:pt x="127" y="14"/>
                            </a:lnTo>
                            <a:lnTo>
                              <a:pt x="127" y="17"/>
                            </a:lnTo>
                            <a:lnTo>
                              <a:pt x="127" y="19"/>
                            </a:lnTo>
                            <a:lnTo>
                              <a:pt x="127" y="23"/>
                            </a:lnTo>
                            <a:lnTo>
                              <a:pt x="127" y="25"/>
                            </a:lnTo>
                            <a:lnTo>
                              <a:pt x="126" y="28"/>
                            </a:lnTo>
                            <a:lnTo>
                              <a:pt x="124" y="29"/>
                            </a:lnTo>
                            <a:lnTo>
                              <a:pt x="123" y="30"/>
                            </a:lnTo>
                            <a:lnTo>
                              <a:pt x="120" y="32"/>
                            </a:lnTo>
                            <a:lnTo>
                              <a:pt x="117" y="34"/>
                            </a:lnTo>
                            <a:lnTo>
                              <a:pt x="114" y="35"/>
                            </a:lnTo>
                            <a:lnTo>
                              <a:pt x="112" y="36"/>
                            </a:lnTo>
                            <a:lnTo>
                              <a:pt x="110" y="36"/>
                            </a:lnTo>
                            <a:lnTo>
                              <a:pt x="108" y="37"/>
                            </a:lnTo>
                            <a:lnTo>
                              <a:pt x="106" y="36"/>
                            </a:lnTo>
                            <a:lnTo>
                              <a:pt x="104" y="36"/>
                            </a:lnTo>
                            <a:lnTo>
                              <a:pt x="102" y="37"/>
                            </a:lnTo>
                            <a:lnTo>
                              <a:pt x="101" y="39"/>
                            </a:lnTo>
                            <a:lnTo>
                              <a:pt x="102" y="40"/>
                            </a:lnTo>
                            <a:lnTo>
                              <a:pt x="102" y="43"/>
                            </a:lnTo>
                            <a:lnTo>
                              <a:pt x="103" y="44"/>
                            </a:lnTo>
                            <a:lnTo>
                              <a:pt x="106" y="44"/>
                            </a:lnTo>
                            <a:lnTo>
                              <a:pt x="107" y="44"/>
                            </a:lnTo>
                            <a:lnTo>
                              <a:pt x="110" y="46"/>
                            </a:lnTo>
                            <a:lnTo>
                              <a:pt x="112" y="46"/>
                            </a:lnTo>
                            <a:lnTo>
                              <a:pt x="114" y="47"/>
                            </a:lnTo>
                            <a:lnTo>
                              <a:pt x="111" y="48"/>
                            </a:lnTo>
                            <a:lnTo>
                              <a:pt x="109" y="47"/>
                            </a:lnTo>
                            <a:lnTo>
                              <a:pt x="106" y="47"/>
                            </a:lnTo>
                            <a:lnTo>
                              <a:pt x="103" y="46"/>
                            </a:lnTo>
                            <a:lnTo>
                              <a:pt x="100" y="46"/>
                            </a:lnTo>
                            <a:lnTo>
                              <a:pt x="97" y="46"/>
                            </a:lnTo>
                            <a:lnTo>
                              <a:pt x="95" y="45"/>
                            </a:lnTo>
                            <a:lnTo>
                              <a:pt x="93" y="44"/>
                            </a:lnTo>
                            <a:lnTo>
                              <a:pt x="93" y="41"/>
                            </a:lnTo>
                            <a:lnTo>
                              <a:pt x="92" y="39"/>
                            </a:lnTo>
                            <a:lnTo>
                              <a:pt x="92" y="38"/>
                            </a:lnTo>
                            <a:lnTo>
                              <a:pt x="93" y="36"/>
                            </a:lnTo>
                            <a:lnTo>
                              <a:pt x="96" y="35"/>
                            </a:lnTo>
                            <a:lnTo>
                              <a:pt x="98" y="34"/>
                            </a:lnTo>
                            <a:lnTo>
                              <a:pt x="101" y="33"/>
                            </a:lnTo>
                            <a:lnTo>
                              <a:pt x="103" y="33"/>
                            </a:lnTo>
                            <a:lnTo>
                              <a:pt x="106" y="33"/>
                            </a:lnTo>
                            <a:lnTo>
                              <a:pt x="109" y="34"/>
                            </a:lnTo>
                            <a:lnTo>
                              <a:pt x="113" y="30"/>
                            </a:lnTo>
                            <a:lnTo>
                              <a:pt x="114" y="28"/>
                            </a:lnTo>
                            <a:lnTo>
                              <a:pt x="115" y="26"/>
                            </a:lnTo>
                            <a:lnTo>
                              <a:pt x="116" y="24"/>
                            </a:lnTo>
                            <a:lnTo>
                              <a:pt x="119" y="22"/>
                            </a:lnTo>
                            <a:lnTo>
                              <a:pt x="119" y="19"/>
                            </a:lnTo>
                            <a:lnTo>
                              <a:pt x="119" y="17"/>
                            </a:lnTo>
                            <a:lnTo>
                              <a:pt x="117" y="15"/>
                            </a:lnTo>
                            <a:lnTo>
                              <a:pt x="115" y="15"/>
                            </a:lnTo>
                            <a:lnTo>
                              <a:pt x="111" y="14"/>
                            </a:lnTo>
                            <a:lnTo>
                              <a:pt x="107" y="12"/>
                            </a:lnTo>
                            <a:lnTo>
                              <a:pt x="104" y="10"/>
                            </a:lnTo>
                            <a:lnTo>
                              <a:pt x="100" y="8"/>
                            </a:lnTo>
                            <a:lnTo>
                              <a:pt x="96" y="8"/>
                            </a:lnTo>
                            <a:lnTo>
                              <a:pt x="93" y="8"/>
                            </a:lnTo>
                            <a:lnTo>
                              <a:pt x="90" y="6"/>
                            </a:lnTo>
                            <a:lnTo>
                              <a:pt x="88" y="5"/>
                            </a:lnTo>
                            <a:lnTo>
                              <a:pt x="84" y="4"/>
                            </a:lnTo>
                            <a:lnTo>
                              <a:pt x="82" y="4"/>
                            </a:lnTo>
                            <a:lnTo>
                              <a:pt x="79" y="4"/>
                            </a:lnTo>
                            <a:lnTo>
                              <a:pt x="75" y="4"/>
                            </a:lnTo>
                            <a:lnTo>
                              <a:pt x="72" y="4"/>
                            </a:lnTo>
                            <a:lnTo>
                              <a:pt x="69" y="6"/>
                            </a:lnTo>
                            <a:lnTo>
                              <a:pt x="66" y="6"/>
                            </a:lnTo>
                            <a:lnTo>
                              <a:pt x="63" y="7"/>
                            </a:lnTo>
                            <a:lnTo>
                              <a:pt x="60" y="8"/>
                            </a:lnTo>
                            <a:lnTo>
                              <a:pt x="57" y="11"/>
                            </a:lnTo>
                            <a:lnTo>
                              <a:pt x="55" y="12"/>
                            </a:lnTo>
                            <a:lnTo>
                              <a:pt x="52" y="13"/>
                            </a:lnTo>
                            <a:lnTo>
                              <a:pt x="49" y="15"/>
                            </a:lnTo>
                            <a:lnTo>
                              <a:pt x="47" y="17"/>
                            </a:lnTo>
                            <a:lnTo>
                              <a:pt x="45" y="19"/>
                            </a:lnTo>
                            <a:lnTo>
                              <a:pt x="45" y="23"/>
                            </a:lnTo>
                            <a:lnTo>
                              <a:pt x="45" y="26"/>
                            </a:lnTo>
                            <a:lnTo>
                              <a:pt x="46" y="29"/>
                            </a:lnTo>
                            <a:lnTo>
                              <a:pt x="46" y="33"/>
                            </a:lnTo>
                            <a:lnTo>
                              <a:pt x="46" y="35"/>
                            </a:lnTo>
                            <a:lnTo>
                              <a:pt x="44" y="38"/>
                            </a:lnTo>
                            <a:lnTo>
                              <a:pt x="43" y="40"/>
                            </a:lnTo>
                            <a:lnTo>
                              <a:pt x="40" y="41"/>
                            </a:lnTo>
                            <a:lnTo>
                              <a:pt x="38" y="41"/>
                            </a:lnTo>
                            <a:lnTo>
                              <a:pt x="34" y="41"/>
                            </a:lnTo>
                            <a:lnTo>
                              <a:pt x="31" y="41"/>
                            </a:lnTo>
                            <a:lnTo>
                              <a:pt x="28" y="40"/>
                            </a:lnTo>
                            <a:lnTo>
                              <a:pt x="25" y="40"/>
                            </a:lnTo>
                            <a:lnTo>
                              <a:pt x="22" y="39"/>
                            </a:lnTo>
                            <a:lnTo>
                              <a:pt x="21" y="40"/>
                            </a:lnTo>
                            <a:lnTo>
                              <a:pt x="17" y="39"/>
                            </a:lnTo>
                            <a:lnTo>
                              <a:pt x="15" y="37"/>
                            </a:lnTo>
                            <a:lnTo>
                              <a:pt x="12" y="33"/>
                            </a:lnTo>
                            <a:lnTo>
                              <a:pt x="11" y="30"/>
                            </a:lnTo>
                            <a:lnTo>
                              <a:pt x="10" y="30"/>
                            </a:lnTo>
                            <a:lnTo>
                              <a:pt x="9" y="30"/>
                            </a:lnTo>
                            <a:lnTo>
                              <a:pt x="7" y="32"/>
                            </a:lnTo>
                            <a:lnTo>
                              <a:pt x="7" y="34"/>
                            </a:lnTo>
                            <a:lnTo>
                              <a:pt x="7" y="36"/>
                            </a:lnTo>
                            <a:lnTo>
                              <a:pt x="7" y="39"/>
                            </a:lnTo>
                            <a:lnTo>
                              <a:pt x="7" y="41"/>
                            </a:lnTo>
                            <a:lnTo>
                              <a:pt x="7" y="44"/>
                            </a:lnTo>
                            <a:lnTo>
                              <a:pt x="7" y="47"/>
                            </a:lnTo>
                            <a:lnTo>
                              <a:pt x="7" y="50"/>
                            </a:lnTo>
                            <a:lnTo>
                              <a:pt x="7" y="51"/>
                            </a:lnTo>
                            <a:lnTo>
                              <a:pt x="8" y="52"/>
                            </a:lnTo>
                            <a:lnTo>
                              <a:pt x="1" y="52"/>
                            </a:lnTo>
                            <a:lnTo>
                              <a:pt x="0" y="48"/>
                            </a:lnTo>
                            <a:lnTo>
                              <a:pt x="2" y="44"/>
                            </a:lnTo>
                            <a:lnTo>
                              <a:pt x="3" y="41"/>
                            </a:lnTo>
                            <a:lnTo>
                              <a:pt x="4" y="39"/>
                            </a:lnTo>
                            <a:lnTo>
                              <a:pt x="5" y="36"/>
                            </a:lnTo>
                            <a:lnTo>
                              <a:pt x="5" y="34"/>
                            </a:lnTo>
                            <a:lnTo>
                              <a:pt x="4" y="32"/>
                            </a:lnTo>
                            <a:lnTo>
                              <a:pt x="5" y="28"/>
                            </a:lnTo>
                            <a:lnTo>
                              <a:pt x="6" y="26"/>
                            </a:lnTo>
                            <a:lnTo>
                              <a:pt x="8" y="26"/>
                            </a:lnTo>
                            <a:lnTo>
                              <a:pt x="10" y="25"/>
                            </a:lnTo>
                            <a:lnTo>
                              <a:pt x="12" y="26"/>
                            </a:lnTo>
                            <a:lnTo>
                              <a:pt x="13" y="27"/>
                            </a:lnTo>
                            <a:lnTo>
                              <a:pt x="15" y="30"/>
                            </a:lnTo>
                            <a:lnTo>
                              <a:pt x="16" y="34"/>
                            </a:lnTo>
                            <a:lnTo>
                              <a:pt x="18" y="35"/>
                            </a:lnTo>
                            <a:lnTo>
                              <a:pt x="21" y="36"/>
                            </a:lnTo>
                            <a:lnTo>
                              <a:pt x="23" y="37"/>
                            </a:lnTo>
                            <a:lnTo>
                              <a:pt x="26" y="36"/>
                            </a:lnTo>
                            <a:lnTo>
                              <a:pt x="28" y="35"/>
                            </a:lnTo>
                            <a:lnTo>
                              <a:pt x="31" y="35"/>
                            </a:lnTo>
                            <a:lnTo>
                              <a:pt x="34" y="34"/>
                            </a:lnTo>
                            <a:lnTo>
                              <a:pt x="37" y="32"/>
                            </a:lnTo>
                            <a:lnTo>
                              <a:pt x="39" y="28"/>
                            </a:lnTo>
                            <a:lnTo>
                              <a:pt x="39" y="25"/>
                            </a:lnTo>
                            <a:lnTo>
                              <a:pt x="40" y="22"/>
                            </a:lnTo>
                            <a:lnTo>
                              <a:pt x="41" y="18"/>
                            </a:lnTo>
                            <a:lnTo>
                              <a:pt x="42" y="15"/>
                            </a:lnTo>
                            <a:lnTo>
                              <a:pt x="44" y="13"/>
                            </a:lnTo>
                            <a:lnTo>
                              <a:pt x="47" y="11"/>
                            </a:lnTo>
                            <a:lnTo>
                              <a:pt x="50" y="8"/>
                            </a:lnTo>
                            <a:lnTo>
                              <a:pt x="53" y="6"/>
                            </a:lnTo>
                            <a:lnTo>
                              <a:pt x="55" y="4"/>
                            </a:lnTo>
                            <a:lnTo>
                              <a:pt x="59" y="3"/>
                            </a:lnTo>
                            <a:lnTo>
                              <a:pt x="61" y="2"/>
                            </a:lnTo>
                            <a:lnTo>
                              <a:pt x="64" y="1"/>
                            </a:lnTo>
                            <a:lnTo>
                              <a:pt x="67" y="0"/>
                            </a:lnTo>
                            <a:lnTo>
                              <a:pt x="71" y="0"/>
                            </a:lnTo>
                            <a:lnTo>
                              <a:pt x="73" y="0"/>
                            </a:lnTo>
                            <a:lnTo>
                              <a:pt x="74" y="0"/>
                            </a:lnTo>
                            <a:lnTo>
                              <a:pt x="75" y="0"/>
                            </a:lnTo>
                            <a:lnTo>
                              <a:pt x="75" y="0"/>
                            </a:lnTo>
                            <a:lnTo>
                              <a:pt x="75" y="0"/>
                            </a:lnTo>
                            <a:close/>
                          </a:path>
                        </a:pathLst>
                      </a:custGeom>
                      <a:solidFill>
                        <a:srgbClr val="0a91fc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6" name=""/>
                      <p:cNvSpPr/>
                      <p:nvPr/>
                    </p:nvSpPr>
                    <p:spPr>
                      <a:xfrm>
                        <a:off x="3394440" y="5349600"/>
                        <a:ext cx="3348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33">
                            <a:moveTo>
                              <a:pt x="0" y="29"/>
                            </a:moveTo>
                            <a:lnTo>
                              <a:pt x="2" y="29"/>
                            </a:lnTo>
                            <a:lnTo>
                              <a:pt x="5" y="26"/>
                            </a:lnTo>
                            <a:lnTo>
                              <a:pt x="6" y="24"/>
                            </a:lnTo>
                            <a:lnTo>
                              <a:pt x="6" y="22"/>
                            </a:lnTo>
                            <a:lnTo>
                              <a:pt x="7" y="18"/>
                            </a:lnTo>
                            <a:lnTo>
                              <a:pt x="8" y="16"/>
                            </a:lnTo>
                            <a:lnTo>
                              <a:pt x="9" y="14"/>
                            </a:lnTo>
                            <a:lnTo>
                              <a:pt x="10" y="11"/>
                            </a:lnTo>
                            <a:lnTo>
                              <a:pt x="11" y="7"/>
                            </a:lnTo>
                            <a:lnTo>
                              <a:pt x="12" y="5"/>
                            </a:lnTo>
                            <a:lnTo>
                              <a:pt x="14" y="3"/>
                            </a:lnTo>
                            <a:lnTo>
                              <a:pt x="15" y="2"/>
                            </a:lnTo>
                            <a:lnTo>
                              <a:pt x="17" y="1"/>
                            </a:lnTo>
                            <a:lnTo>
                              <a:pt x="20" y="0"/>
                            </a:lnTo>
                            <a:lnTo>
                              <a:pt x="22" y="1"/>
                            </a:lnTo>
                            <a:lnTo>
                              <a:pt x="25" y="3"/>
                            </a:lnTo>
                            <a:lnTo>
                              <a:pt x="28" y="5"/>
                            </a:lnTo>
                            <a:lnTo>
                              <a:pt x="31" y="7"/>
                            </a:lnTo>
                            <a:lnTo>
                              <a:pt x="34" y="10"/>
                            </a:lnTo>
                            <a:lnTo>
                              <a:pt x="38" y="12"/>
                            </a:lnTo>
                            <a:lnTo>
                              <a:pt x="41" y="14"/>
                            </a:lnTo>
                            <a:lnTo>
                              <a:pt x="44" y="16"/>
                            </a:lnTo>
                            <a:lnTo>
                              <a:pt x="45" y="16"/>
                            </a:lnTo>
                            <a:lnTo>
                              <a:pt x="47" y="17"/>
                            </a:lnTo>
                            <a:lnTo>
                              <a:pt x="49" y="18"/>
                            </a:lnTo>
                            <a:lnTo>
                              <a:pt x="50" y="18"/>
                            </a:lnTo>
                            <a:lnTo>
                              <a:pt x="49" y="21"/>
                            </a:lnTo>
                            <a:lnTo>
                              <a:pt x="49" y="23"/>
                            </a:lnTo>
                            <a:lnTo>
                              <a:pt x="49" y="24"/>
                            </a:lnTo>
                            <a:lnTo>
                              <a:pt x="49" y="26"/>
                            </a:lnTo>
                            <a:lnTo>
                              <a:pt x="45" y="23"/>
                            </a:lnTo>
                            <a:lnTo>
                              <a:pt x="42" y="20"/>
                            </a:lnTo>
                            <a:lnTo>
                              <a:pt x="39" y="17"/>
                            </a:lnTo>
                            <a:lnTo>
                              <a:pt x="34" y="16"/>
                            </a:lnTo>
                            <a:lnTo>
                              <a:pt x="30" y="14"/>
                            </a:lnTo>
                            <a:lnTo>
                              <a:pt x="27" y="14"/>
                            </a:lnTo>
                            <a:lnTo>
                              <a:pt x="24" y="14"/>
                            </a:lnTo>
                            <a:lnTo>
                              <a:pt x="23" y="14"/>
                            </a:lnTo>
                            <a:lnTo>
                              <a:pt x="22" y="17"/>
                            </a:lnTo>
                            <a:lnTo>
                              <a:pt x="22" y="21"/>
                            </a:lnTo>
                            <a:lnTo>
                              <a:pt x="20" y="24"/>
                            </a:lnTo>
                            <a:lnTo>
                              <a:pt x="20" y="27"/>
                            </a:lnTo>
                            <a:lnTo>
                              <a:pt x="18" y="29"/>
                            </a:lnTo>
                            <a:lnTo>
                              <a:pt x="16" y="31"/>
                            </a:lnTo>
                            <a:lnTo>
                              <a:pt x="12" y="32"/>
                            </a:lnTo>
                            <a:lnTo>
                              <a:pt x="9" y="33"/>
                            </a:lnTo>
                            <a:lnTo>
                              <a:pt x="0" y="29"/>
                            </a:lnTo>
                            <a:lnTo>
                              <a:pt x="0" y="29"/>
                            </a:lnTo>
                            <a:close/>
                          </a:path>
                        </a:pathLst>
                      </a:custGeom>
                      <a:solidFill>
                        <a:srgbClr val="0a91fc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3339360" y="5284080"/>
                        <a:ext cx="3240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33">
                            <a:moveTo>
                              <a:pt x="44" y="133"/>
                            </a:moveTo>
                            <a:lnTo>
                              <a:pt x="44" y="129"/>
                            </a:lnTo>
                            <a:lnTo>
                              <a:pt x="44" y="126"/>
                            </a:lnTo>
                            <a:lnTo>
                              <a:pt x="43" y="125"/>
                            </a:lnTo>
                            <a:lnTo>
                              <a:pt x="43" y="124"/>
                            </a:lnTo>
                            <a:lnTo>
                              <a:pt x="42" y="122"/>
                            </a:lnTo>
                            <a:lnTo>
                              <a:pt x="40" y="121"/>
                            </a:lnTo>
                            <a:lnTo>
                              <a:pt x="38" y="120"/>
                            </a:lnTo>
                            <a:lnTo>
                              <a:pt x="33" y="118"/>
                            </a:lnTo>
                            <a:lnTo>
                              <a:pt x="29" y="115"/>
                            </a:lnTo>
                            <a:lnTo>
                              <a:pt x="25" y="113"/>
                            </a:lnTo>
                            <a:lnTo>
                              <a:pt x="23" y="113"/>
                            </a:lnTo>
                            <a:lnTo>
                              <a:pt x="20" y="112"/>
                            </a:lnTo>
                            <a:lnTo>
                              <a:pt x="18" y="112"/>
                            </a:lnTo>
                            <a:lnTo>
                              <a:pt x="16" y="111"/>
                            </a:lnTo>
                            <a:lnTo>
                              <a:pt x="13" y="111"/>
                            </a:lnTo>
                            <a:lnTo>
                              <a:pt x="11" y="110"/>
                            </a:lnTo>
                            <a:lnTo>
                              <a:pt x="9" y="109"/>
                            </a:lnTo>
                            <a:lnTo>
                              <a:pt x="7" y="108"/>
                            </a:lnTo>
                            <a:lnTo>
                              <a:pt x="3" y="104"/>
                            </a:lnTo>
                            <a:lnTo>
                              <a:pt x="1" y="101"/>
                            </a:lnTo>
                            <a:lnTo>
                              <a:pt x="0" y="98"/>
                            </a:lnTo>
                            <a:lnTo>
                              <a:pt x="0" y="95"/>
                            </a:lnTo>
                            <a:lnTo>
                              <a:pt x="0" y="92"/>
                            </a:lnTo>
                            <a:lnTo>
                              <a:pt x="1" y="89"/>
                            </a:lnTo>
                            <a:lnTo>
                              <a:pt x="3" y="85"/>
                            </a:lnTo>
                            <a:lnTo>
                              <a:pt x="7" y="81"/>
                            </a:lnTo>
                            <a:lnTo>
                              <a:pt x="8" y="79"/>
                            </a:lnTo>
                            <a:lnTo>
                              <a:pt x="11" y="78"/>
                            </a:lnTo>
                            <a:lnTo>
                              <a:pt x="13" y="77"/>
                            </a:lnTo>
                            <a:lnTo>
                              <a:pt x="15" y="76"/>
                            </a:lnTo>
                            <a:lnTo>
                              <a:pt x="17" y="75"/>
                            </a:lnTo>
                            <a:lnTo>
                              <a:pt x="19" y="74"/>
                            </a:lnTo>
                            <a:lnTo>
                              <a:pt x="22" y="74"/>
                            </a:lnTo>
                            <a:lnTo>
                              <a:pt x="24" y="74"/>
                            </a:lnTo>
                            <a:lnTo>
                              <a:pt x="26" y="72"/>
                            </a:lnTo>
                            <a:lnTo>
                              <a:pt x="29" y="69"/>
                            </a:lnTo>
                            <a:lnTo>
                              <a:pt x="31" y="68"/>
                            </a:lnTo>
                            <a:lnTo>
                              <a:pt x="33" y="67"/>
                            </a:lnTo>
                            <a:lnTo>
                              <a:pt x="35" y="64"/>
                            </a:lnTo>
                            <a:lnTo>
                              <a:pt x="38" y="62"/>
                            </a:lnTo>
                            <a:lnTo>
                              <a:pt x="38" y="58"/>
                            </a:lnTo>
                            <a:lnTo>
                              <a:pt x="36" y="56"/>
                            </a:lnTo>
                            <a:lnTo>
                              <a:pt x="35" y="53"/>
                            </a:lnTo>
                            <a:lnTo>
                              <a:pt x="35" y="52"/>
                            </a:lnTo>
                            <a:lnTo>
                              <a:pt x="34" y="52"/>
                            </a:lnTo>
                            <a:lnTo>
                              <a:pt x="32" y="52"/>
                            </a:lnTo>
                            <a:lnTo>
                              <a:pt x="30" y="52"/>
                            </a:lnTo>
                            <a:lnTo>
                              <a:pt x="29" y="52"/>
                            </a:lnTo>
                            <a:lnTo>
                              <a:pt x="25" y="48"/>
                            </a:lnTo>
                            <a:lnTo>
                              <a:pt x="23" y="46"/>
                            </a:lnTo>
                            <a:lnTo>
                              <a:pt x="21" y="43"/>
                            </a:lnTo>
                            <a:lnTo>
                              <a:pt x="21" y="40"/>
                            </a:lnTo>
                            <a:lnTo>
                              <a:pt x="19" y="36"/>
                            </a:lnTo>
                            <a:lnTo>
                              <a:pt x="19" y="32"/>
                            </a:lnTo>
                            <a:lnTo>
                              <a:pt x="19" y="29"/>
                            </a:lnTo>
                            <a:lnTo>
                              <a:pt x="18" y="25"/>
                            </a:lnTo>
                            <a:lnTo>
                              <a:pt x="14" y="23"/>
                            </a:lnTo>
                            <a:lnTo>
                              <a:pt x="10" y="20"/>
                            </a:lnTo>
                            <a:lnTo>
                              <a:pt x="7" y="17"/>
                            </a:lnTo>
                            <a:lnTo>
                              <a:pt x="4" y="13"/>
                            </a:lnTo>
                            <a:lnTo>
                              <a:pt x="2" y="9"/>
                            </a:lnTo>
                            <a:lnTo>
                              <a:pt x="1" y="6"/>
                            </a:lnTo>
                            <a:lnTo>
                              <a:pt x="1" y="3"/>
                            </a:lnTo>
                            <a:lnTo>
                              <a:pt x="2" y="2"/>
                            </a:lnTo>
                            <a:lnTo>
                              <a:pt x="3" y="1"/>
                            </a:lnTo>
                            <a:lnTo>
                              <a:pt x="5" y="0"/>
                            </a:lnTo>
                            <a:lnTo>
                              <a:pt x="7" y="0"/>
                            </a:lnTo>
                            <a:lnTo>
                              <a:pt x="11" y="1"/>
                            </a:lnTo>
                            <a:lnTo>
                              <a:pt x="14" y="1"/>
                            </a:lnTo>
                            <a:lnTo>
                              <a:pt x="17" y="1"/>
                            </a:lnTo>
                            <a:lnTo>
                              <a:pt x="19" y="2"/>
                            </a:lnTo>
                            <a:lnTo>
                              <a:pt x="20" y="6"/>
                            </a:lnTo>
                            <a:lnTo>
                              <a:pt x="20" y="7"/>
                            </a:lnTo>
                            <a:lnTo>
                              <a:pt x="19" y="9"/>
                            </a:lnTo>
                            <a:lnTo>
                              <a:pt x="18" y="10"/>
                            </a:lnTo>
                            <a:lnTo>
                              <a:pt x="16" y="10"/>
                            </a:lnTo>
                            <a:lnTo>
                              <a:pt x="14" y="10"/>
                            </a:lnTo>
                            <a:lnTo>
                              <a:pt x="12" y="12"/>
                            </a:lnTo>
                            <a:lnTo>
                              <a:pt x="15" y="14"/>
                            </a:lnTo>
                            <a:lnTo>
                              <a:pt x="18" y="17"/>
                            </a:lnTo>
                            <a:lnTo>
                              <a:pt x="20" y="19"/>
                            </a:lnTo>
                            <a:lnTo>
                              <a:pt x="22" y="22"/>
                            </a:lnTo>
                            <a:lnTo>
                              <a:pt x="23" y="25"/>
                            </a:lnTo>
                            <a:lnTo>
                              <a:pt x="25" y="29"/>
                            </a:lnTo>
                            <a:lnTo>
                              <a:pt x="25" y="32"/>
                            </a:lnTo>
                            <a:lnTo>
                              <a:pt x="25" y="36"/>
                            </a:lnTo>
                            <a:lnTo>
                              <a:pt x="25" y="40"/>
                            </a:lnTo>
                            <a:lnTo>
                              <a:pt x="27" y="42"/>
                            </a:lnTo>
                            <a:lnTo>
                              <a:pt x="29" y="43"/>
                            </a:lnTo>
                            <a:lnTo>
                              <a:pt x="33" y="44"/>
                            </a:lnTo>
                            <a:lnTo>
                              <a:pt x="35" y="45"/>
                            </a:lnTo>
                            <a:lnTo>
                              <a:pt x="38" y="45"/>
                            </a:lnTo>
                            <a:lnTo>
                              <a:pt x="40" y="47"/>
                            </a:lnTo>
                            <a:lnTo>
                              <a:pt x="41" y="52"/>
                            </a:lnTo>
                            <a:lnTo>
                              <a:pt x="41" y="54"/>
                            </a:lnTo>
                            <a:lnTo>
                              <a:pt x="41" y="57"/>
                            </a:lnTo>
                            <a:lnTo>
                              <a:pt x="40" y="59"/>
                            </a:lnTo>
                            <a:lnTo>
                              <a:pt x="40" y="63"/>
                            </a:lnTo>
                            <a:lnTo>
                              <a:pt x="39" y="65"/>
                            </a:lnTo>
                            <a:lnTo>
                              <a:pt x="38" y="67"/>
                            </a:lnTo>
                            <a:lnTo>
                              <a:pt x="36" y="70"/>
                            </a:lnTo>
                            <a:lnTo>
                              <a:pt x="35" y="73"/>
                            </a:lnTo>
                            <a:lnTo>
                              <a:pt x="31" y="77"/>
                            </a:lnTo>
                            <a:lnTo>
                              <a:pt x="28" y="80"/>
                            </a:lnTo>
                            <a:lnTo>
                              <a:pt x="25" y="80"/>
                            </a:lnTo>
                            <a:lnTo>
                              <a:pt x="23" y="83"/>
                            </a:lnTo>
                            <a:lnTo>
                              <a:pt x="21" y="83"/>
                            </a:lnTo>
                            <a:lnTo>
                              <a:pt x="19" y="84"/>
                            </a:lnTo>
                            <a:lnTo>
                              <a:pt x="16" y="84"/>
                            </a:lnTo>
                            <a:lnTo>
                              <a:pt x="14" y="85"/>
                            </a:lnTo>
                            <a:lnTo>
                              <a:pt x="13" y="86"/>
                            </a:lnTo>
                            <a:lnTo>
                              <a:pt x="12" y="88"/>
                            </a:lnTo>
                            <a:lnTo>
                              <a:pt x="11" y="91"/>
                            </a:lnTo>
                            <a:lnTo>
                              <a:pt x="12" y="97"/>
                            </a:lnTo>
                            <a:lnTo>
                              <a:pt x="14" y="100"/>
                            </a:lnTo>
                            <a:lnTo>
                              <a:pt x="17" y="104"/>
                            </a:lnTo>
                            <a:lnTo>
                              <a:pt x="21" y="107"/>
                            </a:lnTo>
                            <a:lnTo>
                              <a:pt x="25" y="107"/>
                            </a:lnTo>
                            <a:lnTo>
                              <a:pt x="27" y="107"/>
                            </a:lnTo>
                            <a:lnTo>
                              <a:pt x="30" y="108"/>
                            </a:lnTo>
                            <a:lnTo>
                              <a:pt x="32" y="108"/>
                            </a:lnTo>
                            <a:lnTo>
                              <a:pt x="35" y="109"/>
                            </a:lnTo>
                            <a:lnTo>
                              <a:pt x="38" y="111"/>
                            </a:lnTo>
                            <a:lnTo>
                              <a:pt x="40" y="112"/>
                            </a:lnTo>
                            <a:lnTo>
                              <a:pt x="42" y="113"/>
                            </a:lnTo>
                            <a:lnTo>
                              <a:pt x="45" y="115"/>
                            </a:lnTo>
                            <a:lnTo>
                              <a:pt x="48" y="119"/>
                            </a:lnTo>
                            <a:lnTo>
                              <a:pt x="50" y="123"/>
                            </a:lnTo>
                            <a:lnTo>
                              <a:pt x="50" y="125"/>
                            </a:lnTo>
                            <a:lnTo>
                              <a:pt x="50" y="128"/>
                            </a:lnTo>
                            <a:lnTo>
                              <a:pt x="50" y="131"/>
                            </a:lnTo>
                            <a:lnTo>
                              <a:pt x="50" y="133"/>
                            </a:lnTo>
                            <a:lnTo>
                              <a:pt x="44" y="133"/>
                            </a:lnTo>
                            <a:lnTo>
                              <a:pt x="44" y="133"/>
                            </a:lnTo>
                            <a:close/>
                          </a:path>
                        </a:pathLst>
                      </a:custGeom>
                      <a:solidFill>
                        <a:srgbClr val="0a91fc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8" name=""/>
                      <p:cNvSpPr/>
                      <p:nvPr/>
                    </p:nvSpPr>
                    <p:spPr>
                      <a:xfrm>
                        <a:off x="3221280" y="5187960"/>
                        <a:ext cx="1800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29">
                            <a:moveTo>
                              <a:pt x="5" y="18"/>
                            </a:moveTo>
                            <a:lnTo>
                              <a:pt x="4" y="17"/>
                            </a:lnTo>
                            <a:lnTo>
                              <a:pt x="1" y="13"/>
                            </a:lnTo>
                            <a:lnTo>
                              <a:pt x="0" y="12"/>
                            </a:lnTo>
                            <a:lnTo>
                              <a:pt x="1" y="12"/>
                            </a:lnTo>
                            <a:lnTo>
                              <a:pt x="9" y="11"/>
                            </a:lnTo>
                            <a:lnTo>
                              <a:pt x="10" y="8"/>
                            </a:lnTo>
                            <a:lnTo>
                              <a:pt x="13" y="5"/>
                            </a:lnTo>
                            <a:lnTo>
                              <a:pt x="15" y="1"/>
                            </a:lnTo>
                            <a:lnTo>
                              <a:pt x="16" y="0"/>
                            </a:lnTo>
                            <a:lnTo>
                              <a:pt x="18" y="2"/>
                            </a:lnTo>
                            <a:lnTo>
                              <a:pt x="19" y="10"/>
                            </a:lnTo>
                            <a:lnTo>
                              <a:pt x="28" y="12"/>
                            </a:lnTo>
                            <a:lnTo>
                              <a:pt x="27" y="15"/>
                            </a:lnTo>
                            <a:lnTo>
                              <a:pt x="20" y="18"/>
                            </a:lnTo>
                            <a:lnTo>
                              <a:pt x="23" y="28"/>
                            </a:lnTo>
                            <a:lnTo>
                              <a:pt x="20" y="29"/>
                            </a:lnTo>
                            <a:lnTo>
                              <a:pt x="13" y="22"/>
                            </a:lnTo>
                            <a:lnTo>
                              <a:pt x="2" y="29"/>
                            </a:lnTo>
                            <a:lnTo>
                              <a:pt x="5" y="18"/>
                            </a:lnTo>
                            <a:lnTo>
                              <a:pt x="5" y="18"/>
                            </a:lnTo>
                            <a:close/>
                          </a:path>
                        </a:pathLst>
                      </a:custGeom>
                      <a:solidFill>
                        <a:srgbClr val="665c8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9" name=""/>
                      <p:cNvSpPr/>
                      <p:nvPr/>
                    </p:nvSpPr>
                    <p:spPr>
                      <a:xfrm>
                        <a:off x="3214080" y="5169600"/>
                        <a:ext cx="172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26">
                            <a:moveTo>
                              <a:pt x="8" y="1"/>
                            </a:moveTo>
                            <a:lnTo>
                              <a:pt x="12" y="0"/>
                            </a:lnTo>
                            <a:lnTo>
                              <a:pt x="15" y="0"/>
                            </a:lnTo>
                            <a:lnTo>
                              <a:pt x="18" y="2"/>
                            </a:lnTo>
                            <a:lnTo>
                              <a:pt x="22" y="5"/>
                            </a:lnTo>
                            <a:lnTo>
                              <a:pt x="25" y="8"/>
                            </a:lnTo>
                            <a:lnTo>
                              <a:pt x="26" y="12"/>
                            </a:lnTo>
                            <a:lnTo>
                              <a:pt x="27" y="15"/>
                            </a:lnTo>
                            <a:lnTo>
                              <a:pt x="28" y="17"/>
                            </a:lnTo>
                            <a:lnTo>
                              <a:pt x="26" y="20"/>
                            </a:lnTo>
                            <a:lnTo>
                              <a:pt x="22" y="24"/>
                            </a:lnTo>
                            <a:lnTo>
                              <a:pt x="18" y="25"/>
                            </a:lnTo>
                            <a:lnTo>
                              <a:pt x="14" y="26"/>
                            </a:lnTo>
                            <a:lnTo>
                              <a:pt x="10" y="25"/>
                            </a:lnTo>
                            <a:lnTo>
                              <a:pt x="6" y="24"/>
                            </a:lnTo>
                            <a:lnTo>
                              <a:pt x="2" y="20"/>
                            </a:lnTo>
                            <a:lnTo>
                              <a:pt x="0" y="18"/>
                            </a:lnTo>
                            <a:lnTo>
                              <a:pt x="0" y="16"/>
                            </a:lnTo>
                            <a:lnTo>
                              <a:pt x="2" y="14"/>
                            </a:lnTo>
                            <a:lnTo>
                              <a:pt x="3" y="10"/>
                            </a:lnTo>
                            <a:lnTo>
                              <a:pt x="4" y="8"/>
                            </a:lnTo>
                            <a:lnTo>
                              <a:pt x="5" y="5"/>
                            </a:lnTo>
                            <a:lnTo>
                              <a:pt x="6" y="3"/>
                            </a:lnTo>
                            <a:lnTo>
                              <a:pt x="7" y="2"/>
                            </a:lnTo>
                            <a:lnTo>
                              <a:pt x="8" y="1"/>
                            </a:lnTo>
                            <a:lnTo>
                              <a:pt x="8" y="1"/>
                            </a:lnTo>
                            <a:close/>
                          </a:path>
                        </a:pathLst>
                      </a:custGeom>
                      <a:solidFill>
                        <a:srgbClr val="24877d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0" name=""/>
                      <p:cNvSpPr/>
                      <p:nvPr/>
                    </p:nvSpPr>
                    <p:spPr>
                      <a:xfrm>
                        <a:off x="3452760" y="5201280"/>
                        <a:ext cx="3024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89">
                            <a:moveTo>
                              <a:pt x="2" y="38"/>
                            </a:moveTo>
                            <a:lnTo>
                              <a:pt x="0" y="27"/>
                            </a:lnTo>
                            <a:lnTo>
                              <a:pt x="3" y="22"/>
                            </a:lnTo>
                            <a:lnTo>
                              <a:pt x="8" y="18"/>
                            </a:lnTo>
                            <a:lnTo>
                              <a:pt x="10" y="16"/>
                            </a:lnTo>
                            <a:lnTo>
                              <a:pt x="12" y="14"/>
                            </a:lnTo>
                            <a:lnTo>
                              <a:pt x="15" y="11"/>
                            </a:lnTo>
                            <a:lnTo>
                              <a:pt x="17" y="10"/>
                            </a:lnTo>
                            <a:lnTo>
                              <a:pt x="19" y="9"/>
                            </a:lnTo>
                            <a:lnTo>
                              <a:pt x="21" y="7"/>
                            </a:lnTo>
                            <a:lnTo>
                              <a:pt x="24" y="6"/>
                            </a:lnTo>
                            <a:lnTo>
                              <a:pt x="26" y="5"/>
                            </a:lnTo>
                            <a:lnTo>
                              <a:pt x="30" y="3"/>
                            </a:lnTo>
                            <a:lnTo>
                              <a:pt x="32" y="2"/>
                            </a:lnTo>
                            <a:lnTo>
                              <a:pt x="34" y="2"/>
                            </a:lnTo>
                            <a:lnTo>
                              <a:pt x="37" y="0"/>
                            </a:lnTo>
                            <a:lnTo>
                              <a:pt x="37" y="2"/>
                            </a:lnTo>
                            <a:lnTo>
                              <a:pt x="38" y="4"/>
                            </a:lnTo>
                            <a:lnTo>
                              <a:pt x="38" y="7"/>
                            </a:lnTo>
                            <a:lnTo>
                              <a:pt x="39" y="10"/>
                            </a:lnTo>
                            <a:lnTo>
                              <a:pt x="40" y="14"/>
                            </a:lnTo>
                            <a:lnTo>
                              <a:pt x="40" y="17"/>
                            </a:lnTo>
                            <a:lnTo>
                              <a:pt x="40" y="18"/>
                            </a:lnTo>
                            <a:lnTo>
                              <a:pt x="40" y="21"/>
                            </a:lnTo>
                            <a:lnTo>
                              <a:pt x="41" y="23"/>
                            </a:lnTo>
                            <a:lnTo>
                              <a:pt x="41" y="26"/>
                            </a:lnTo>
                            <a:lnTo>
                              <a:pt x="42" y="29"/>
                            </a:lnTo>
                            <a:lnTo>
                              <a:pt x="42" y="31"/>
                            </a:lnTo>
                            <a:lnTo>
                              <a:pt x="42" y="33"/>
                            </a:lnTo>
                            <a:lnTo>
                              <a:pt x="42" y="37"/>
                            </a:lnTo>
                            <a:lnTo>
                              <a:pt x="43" y="39"/>
                            </a:lnTo>
                            <a:lnTo>
                              <a:pt x="43" y="42"/>
                            </a:lnTo>
                            <a:lnTo>
                              <a:pt x="44" y="44"/>
                            </a:lnTo>
                            <a:lnTo>
                              <a:pt x="44" y="47"/>
                            </a:lnTo>
                            <a:lnTo>
                              <a:pt x="44" y="49"/>
                            </a:lnTo>
                            <a:lnTo>
                              <a:pt x="44" y="52"/>
                            </a:lnTo>
                            <a:lnTo>
                              <a:pt x="45" y="54"/>
                            </a:lnTo>
                            <a:lnTo>
                              <a:pt x="45" y="59"/>
                            </a:lnTo>
                            <a:lnTo>
                              <a:pt x="46" y="63"/>
                            </a:lnTo>
                            <a:lnTo>
                              <a:pt x="32" y="89"/>
                            </a:lnTo>
                            <a:lnTo>
                              <a:pt x="40" y="62"/>
                            </a:lnTo>
                            <a:lnTo>
                              <a:pt x="40" y="61"/>
                            </a:lnTo>
                            <a:lnTo>
                              <a:pt x="40" y="60"/>
                            </a:lnTo>
                            <a:lnTo>
                              <a:pt x="39" y="58"/>
                            </a:lnTo>
                            <a:lnTo>
                              <a:pt x="39" y="54"/>
                            </a:lnTo>
                            <a:lnTo>
                              <a:pt x="39" y="50"/>
                            </a:lnTo>
                            <a:lnTo>
                              <a:pt x="38" y="45"/>
                            </a:lnTo>
                            <a:lnTo>
                              <a:pt x="38" y="41"/>
                            </a:lnTo>
                            <a:lnTo>
                              <a:pt x="38" y="37"/>
                            </a:lnTo>
                            <a:lnTo>
                              <a:pt x="38" y="33"/>
                            </a:lnTo>
                            <a:lnTo>
                              <a:pt x="37" y="31"/>
                            </a:lnTo>
                            <a:lnTo>
                              <a:pt x="37" y="29"/>
                            </a:lnTo>
                            <a:lnTo>
                              <a:pt x="37" y="27"/>
                            </a:lnTo>
                            <a:lnTo>
                              <a:pt x="36" y="22"/>
                            </a:lnTo>
                            <a:lnTo>
                              <a:pt x="36" y="18"/>
                            </a:lnTo>
                            <a:lnTo>
                              <a:pt x="35" y="15"/>
                            </a:lnTo>
                            <a:lnTo>
                              <a:pt x="34" y="11"/>
                            </a:lnTo>
                            <a:lnTo>
                              <a:pt x="33" y="9"/>
                            </a:lnTo>
                            <a:lnTo>
                              <a:pt x="33" y="9"/>
                            </a:lnTo>
                            <a:lnTo>
                              <a:pt x="30" y="8"/>
                            </a:lnTo>
                            <a:lnTo>
                              <a:pt x="25" y="10"/>
                            </a:lnTo>
                            <a:lnTo>
                              <a:pt x="20" y="14"/>
                            </a:lnTo>
                            <a:lnTo>
                              <a:pt x="16" y="17"/>
                            </a:lnTo>
                            <a:lnTo>
                              <a:pt x="14" y="19"/>
                            </a:lnTo>
                            <a:lnTo>
                              <a:pt x="11" y="21"/>
                            </a:lnTo>
                            <a:lnTo>
                              <a:pt x="9" y="22"/>
                            </a:lnTo>
                            <a:lnTo>
                              <a:pt x="8" y="25"/>
                            </a:lnTo>
                            <a:lnTo>
                              <a:pt x="6" y="27"/>
                            </a:lnTo>
                            <a:lnTo>
                              <a:pt x="5" y="29"/>
                            </a:lnTo>
                            <a:lnTo>
                              <a:pt x="2" y="38"/>
                            </a:lnTo>
                            <a:lnTo>
                              <a:pt x="2" y="38"/>
                            </a:lnTo>
                            <a:close/>
                          </a:path>
                        </a:pathLst>
                      </a:custGeom>
                      <a:solidFill>
                        <a:srgbClr val="edb8e0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1" name=""/>
                      <p:cNvSpPr/>
                      <p:nvPr/>
                    </p:nvSpPr>
                    <p:spPr>
                      <a:xfrm>
                        <a:off x="3109320" y="5206320"/>
                        <a:ext cx="3456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95">
                            <a:moveTo>
                              <a:pt x="48" y="40"/>
                            </a:moveTo>
                            <a:lnTo>
                              <a:pt x="53" y="23"/>
                            </a:lnTo>
                            <a:lnTo>
                              <a:pt x="52" y="21"/>
                            </a:lnTo>
                            <a:lnTo>
                              <a:pt x="50" y="19"/>
                            </a:lnTo>
                            <a:lnTo>
                              <a:pt x="46" y="16"/>
                            </a:lnTo>
                            <a:lnTo>
                              <a:pt x="42" y="14"/>
                            </a:lnTo>
                            <a:lnTo>
                              <a:pt x="39" y="11"/>
                            </a:lnTo>
                            <a:lnTo>
                              <a:pt x="37" y="9"/>
                            </a:lnTo>
                            <a:lnTo>
                              <a:pt x="34" y="7"/>
                            </a:lnTo>
                            <a:lnTo>
                              <a:pt x="32" y="6"/>
                            </a:lnTo>
                            <a:lnTo>
                              <a:pt x="29" y="5"/>
                            </a:lnTo>
                            <a:lnTo>
                              <a:pt x="26" y="3"/>
                            </a:lnTo>
                            <a:lnTo>
                              <a:pt x="23" y="1"/>
                            </a:lnTo>
                            <a:lnTo>
                              <a:pt x="20" y="0"/>
                            </a:lnTo>
                            <a:lnTo>
                              <a:pt x="14" y="3"/>
                            </a:lnTo>
                            <a:lnTo>
                              <a:pt x="13" y="4"/>
                            </a:lnTo>
                            <a:lnTo>
                              <a:pt x="12" y="7"/>
                            </a:lnTo>
                            <a:lnTo>
                              <a:pt x="11" y="9"/>
                            </a:lnTo>
                            <a:lnTo>
                              <a:pt x="11" y="12"/>
                            </a:lnTo>
                            <a:lnTo>
                              <a:pt x="10" y="16"/>
                            </a:lnTo>
                            <a:lnTo>
                              <a:pt x="10" y="19"/>
                            </a:lnTo>
                            <a:lnTo>
                              <a:pt x="9" y="22"/>
                            </a:lnTo>
                            <a:lnTo>
                              <a:pt x="8" y="26"/>
                            </a:lnTo>
                            <a:lnTo>
                              <a:pt x="7" y="29"/>
                            </a:lnTo>
                            <a:lnTo>
                              <a:pt x="7" y="33"/>
                            </a:lnTo>
                            <a:lnTo>
                              <a:pt x="6" y="36"/>
                            </a:lnTo>
                            <a:lnTo>
                              <a:pt x="4" y="39"/>
                            </a:lnTo>
                            <a:lnTo>
                              <a:pt x="4" y="42"/>
                            </a:lnTo>
                            <a:lnTo>
                              <a:pt x="4" y="44"/>
                            </a:lnTo>
                            <a:lnTo>
                              <a:pt x="2" y="48"/>
                            </a:lnTo>
                            <a:lnTo>
                              <a:pt x="2" y="51"/>
                            </a:lnTo>
                            <a:lnTo>
                              <a:pt x="1" y="54"/>
                            </a:lnTo>
                            <a:lnTo>
                              <a:pt x="1" y="58"/>
                            </a:lnTo>
                            <a:lnTo>
                              <a:pt x="0" y="61"/>
                            </a:lnTo>
                            <a:lnTo>
                              <a:pt x="0" y="62"/>
                            </a:lnTo>
                            <a:lnTo>
                              <a:pt x="19" y="95"/>
                            </a:lnTo>
                            <a:lnTo>
                              <a:pt x="8" y="60"/>
                            </a:lnTo>
                            <a:lnTo>
                              <a:pt x="8" y="59"/>
                            </a:lnTo>
                            <a:lnTo>
                              <a:pt x="8" y="58"/>
                            </a:lnTo>
                            <a:lnTo>
                              <a:pt x="9" y="54"/>
                            </a:lnTo>
                            <a:lnTo>
                              <a:pt x="9" y="51"/>
                            </a:lnTo>
                            <a:lnTo>
                              <a:pt x="9" y="48"/>
                            </a:lnTo>
                            <a:lnTo>
                              <a:pt x="10" y="43"/>
                            </a:lnTo>
                            <a:lnTo>
                              <a:pt x="11" y="39"/>
                            </a:lnTo>
                            <a:lnTo>
                              <a:pt x="12" y="34"/>
                            </a:lnTo>
                            <a:lnTo>
                              <a:pt x="13" y="30"/>
                            </a:lnTo>
                            <a:lnTo>
                              <a:pt x="13" y="26"/>
                            </a:lnTo>
                            <a:lnTo>
                              <a:pt x="14" y="21"/>
                            </a:lnTo>
                            <a:lnTo>
                              <a:pt x="15" y="18"/>
                            </a:lnTo>
                            <a:lnTo>
                              <a:pt x="16" y="14"/>
                            </a:lnTo>
                            <a:lnTo>
                              <a:pt x="17" y="11"/>
                            </a:lnTo>
                            <a:lnTo>
                              <a:pt x="17" y="9"/>
                            </a:lnTo>
                            <a:lnTo>
                              <a:pt x="19" y="9"/>
                            </a:lnTo>
                            <a:lnTo>
                              <a:pt x="20" y="9"/>
                            </a:lnTo>
                            <a:lnTo>
                              <a:pt x="22" y="9"/>
                            </a:lnTo>
                            <a:lnTo>
                              <a:pt x="24" y="8"/>
                            </a:lnTo>
                            <a:lnTo>
                              <a:pt x="27" y="9"/>
                            </a:lnTo>
                            <a:lnTo>
                              <a:pt x="29" y="9"/>
                            </a:lnTo>
                            <a:lnTo>
                              <a:pt x="32" y="10"/>
                            </a:lnTo>
                            <a:lnTo>
                              <a:pt x="35" y="11"/>
                            </a:lnTo>
                            <a:lnTo>
                              <a:pt x="39" y="15"/>
                            </a:lnTo>
                            <a:lnTo>
                              <a:pt x="41" y="16"/>
                            </a:lnTo>
                            <a:lnTo>
                              <a:pt x="43" y="18"/>
                            </a:lnTo>
                            <a:lnTo>
                              <a:pt x="44" y="20"/>
                            </a:lnTo>
                            <a:lnTo>
                              <a:pt x="45" y="22"/>
                            </a:lnTo>
                            <a:lnTo>
                              <a:pt x="46" y="25"/>
                            </a:lnTo>
                            <a:lnTo>
                              <a:pt x="48" y="28"/>
                            </a:lnTo>
                            <a:lnTo>
                              <a:pt x="48" y="31"/>
                            </a:lnTo>
                            <a:lnTo>
                              <a:pt x="48" y="34"/>
                            </a:lnTo>
                            <a:lnTo>
                              <a:pt x="48" y="38"/>
                            </a:lnTo>
                            <a:lnTo>
                              <a:pt x="48" y="40"/>
                            </a:lnTo>
                            <a:lnTo>
                              <a:pt x="48" y="40"/>
                            </a:lnTo>
                            <a:close/>
                          </a:path>
                        </a:pathLst>
                      </a:custGeom>
                      <a:solidFill>
                        <a:srgbClr val="f2c96b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02" name=""/>
                      <p:cNvGrpSpPr/>
                      <p:nvPr/>
                    </p:nvGrpSpPr>
                    <p:grpSpPr>
                      <a:xfrm>
                        <a:off x="3207960" y="5099040"/>
                        <a:ext cx="85680" cy="66960"/>
                        <a:chOff x="3207960" y="5099040"/>
                        <a:chExt cx="85680" cy="66960"/>
                      </a:xfrm>
                    </p:grpSpPr>
                    <p:sp>
                      <p:nvSpPr>
                        <p:cNvPr id="803" name=""/>
                        <p:cNvSpPr/>
                        <p:nvPr/>
                      </p:nvSpPr>
                      <p:spPr>
                        <a:xfrm>
                          <a:off x="3232440" y="5101920"/>
                          <a:ext cx="12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" h="31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5" y="2"/>
                              </a:lnTo>
                              <a:lnTo>
                                <a:pt x="9" y="4"/>
                              </a:lnTo>
                              <a:lnTo>
                                <a:pt x="11" y="7"/>
                              </a:lnTo>
                              <a:lnTo>
                                <a:pt x="13" y="9"/>
                              </a:lnTo>
                              <a:lnTo>
                                <a:pt x="16" y="11"/>
                              </a:lnTo>
                              <a:lnTo>
                                <a:pt x="18" y="14"/>
                              </a:lnTo>
                              <a:lnTo>
                                <a:pt x="20" y="18"/>
                              </a:lnTo>
                              <a:lnTo>
                                <a:pt x="2" y="31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600"/>
                        </a:solidFill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4" name=""/>
                        <p:cNvSpPr/>
                        <p:nvPr/>
                      </p:nvSpPr>
                      <p:spPr>
                        <a:xfrm>
                          <a:off x="3251880" y="5140440"/>
                          <a:ext cx="8640" cy="1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23">
                              <a:moveTo>
                                <a:pt x="13" y="0"/>
                              </a:moveTo>
                              <a:lnTo>
                                <a:pt x="14" y="23"/>
                              </a:lnTo>
                              <a:lnTo>
                                <a:pt x="10" y="21"/>
                              </a:lnTo>
                              <a:lnTo>
                                <a:pt x="7" y="19"/>
                              </a:lnTo>
                              <a:lnTo>
                                <a:pt x="3" y="15"/>
                              </a:lnTo>
                              <a:lnTo>
                                <a:pt x="0" y="13"/>
                              </a:lnTo>
                              <a:lnTo>
                                <a:pt x="13" y="0"/>
                              </a:lnTo>
                              <a:lnTo>
                                <a:pt x="1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be3cf"/>
                        </a:solidFill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05" name=""/>
                        <p:cNvGrpSpPr/>
                        <p:nvPr/>
                      </p:nvGrpSpPr>
                      <p:grpSpPr>
                        <a:xfrm>
                          <a:off x="3207960" y="5099400"/>
                          <a:ext cx="85680" cy="66600"/>
                          <a:chOff x="3207960" y="5099400"/>
                          <a:chExt cx="85680" cy="66600"/>
                        </a:xfrm>
                      </p:grpSpPr>
                      <p:sp>
                        <p:nvSpPr>
                          <p:cNvPr id="806" name=""/>
                          <p:cNvSpPr/>
                          <p:nvPr/>
                        </p:nvSpPr>
                        <p:spPr>
                          <a:xfrm>
                            <a:off x="3207960" y="5099400"/>
                            <a:ext cx="83160" cy="66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65" h="407">
                                <a:moveTo>
                                  <a:pt x="0" y="295"/>
                                </a:moveTo>
                                <a:lnTo>
                                  <a:pt x="0" y="294"/>
                                </a:lnTo>
                                <a:lnTo>
                                  <a:pt x="0" y="286"/>
                                </a:lnTo>
                                <a:lnTo>
                                  <a:pt x="1" y="274"/>
                                </a:lnTo>
                                <a:lnTo>
                                  <a:pt x="5" y="263"/>
                                </a:lnTo>
                                <a:lnTo>
                                  <a:pt x="11" y="255"/>
                                </a:lnTo>
                                <a:lnTo>
                                  <a:pt x="17" y="247"/>
                                </a:lnTo>
                                <a:lnTo>
                                  <a:pt x="24" y="242"/>
                                </a:lnTo>
                                <a:lnTo>
                                  <a:pt x="32" y="234"/>
                                </a:lnTo>
                                <a:lnTo>
                                  <a:pt x="44" y="228"/>
                                </a:lnTo>
                                <a:lnTo>
                                  <a:pt x="57" y="223"/>
                                </a:lnTo>
                                <a:lnTo>
                                  <a:pt x="74" y="219"/>
                                </a:lnTo>
                                <a:lnTo>
                                  <a:pt x="92" y="213"/>
                                </a:lnTo>
                                <a:lnTo>
                                  <a:pt x="130" y="207"/>
                                </a:lnTo>
                                <a:lnTo>
                                  <a:pt x="163" y="201"/>
                                </a:lnTo>
                                <a:lnTo>
                                  <a:pt x="191" y="196"/>
                                </a:lnTo>
                                <a:lnTo>
                                  <a:pt x="214" y="192"/>
                                </a:lnTo>
                                <a:lnTo>
                                  <a:pt x="234" y="188"/>
                                </a:lnTo>
                                <a:lnTo>
                                  <a:pt x="245" y="186"/>
                                </a:lnTo>
                                <a:lnTo>
                                  <a:pt x="255" y="184"/>
                                </a:lnTo>
                                <a:lnTo>
                                  <a:pt x="257" y="184"/>
                                </a:lnTo>
                                <a:lnTo>
                                  <a:pt x="257" y="176"/>
                                </a:lnTo>
                                <a:lnTo>
                                  <a:pt x="260" y="157"/>
                                </a:lnTo>
                                <a:lnTo>
                                  <a:pt x="264" y="130"/>
                                </a:lnTo>
                                <a:lnTo>
                                  <a:pt x="272" y="98"/>
                                </a:lnTo>
                                <a:lnTo>
                                  <a:pt x="278" y="82"/>
                                </a:lnTo>
                                <a:lnTo>
                                  <a:pt x="285" y="67"/>
                                </a:lnTo>
                                <a:lnTo>
                                  <a:pt x="293" y="52"/>
                                </a:lnTo>
                                <a:lnTo>
                                  <a:pt x="301" y="40"/>
                                </a:lnTo>
                                <a:lnTo>
                                  <a:pt x="312" y="29"/>
                                </a:lnTo>
                                <a:lnTo>
                                  <a:pt x="324" y="21"/>
                                </a:lnTo>
                                <a:lnTo>
                                  <a:pt x="331" y="19"/>
                                </a:lnTo>
                                <a:lnTo>
                                  <a:pt x="337" y="17"/>
                                </a:lnTo>
                                <a:lnTo>
                                  <a:pt x="345" y="15"/>
                                </a:lnTo>
                                <a:lnTo>
                                  <a:pt x="352" y="15"/>
                                </a:lnTo>
                                <a:lnTo>
                                  <a:pt x="383" y="19"/>
                                </a:lnTo>
                                <a:lnTo>
                                  <a:pt x="410" y="25"/>
                                </a:lnTo>
                                <a:lnTo>
                                  <a:pt x="433" y="33"/>
                                </a:lnTo>
                                <a:lnTo>
                                  <a:pt x="452" y="42"/>
                                </a:lnTo>
                                <a:lnTo>
                                  <a:pt x="466" y="50"/>
                                </a:lnTo>
                                <a:lnTo>
                                  <a:pt x="475" y="58"/>
                                </a:lnTo>
                                <a:lnTo>
                                  <a:pt x="483" y="61"/>
                                </a:lnTo>
                                <a:lnTo>
                                  <a:pt x="485" y="63"/>
                                </a:lnTo>
                                <a:lnTo>
                                  <a:pt x="721" y="0"/>
                                </a:lnTo>
                                <a:lnTo>
                                  <a:pt x="765" y="102"/>
                                </a:lnTo>
                                <a:lnTo>
                                  <a:pt x="527" y="175"/>
                                </a:lnTo>
                                <a:lnTo>
                                  <a:pt x="537" y="176"/>
                                </a:lnTo>
                                <a:lnTo>
                                  <a:pt x="560" y="180"/>
                                </a:lnTo>
                                <a:lnTo>
                                  <a:pt x="592" y="188"/>
                                </a:lnTo>
                                <a:lnTo>
                                  <a:pt x="629" y="198"/>
                                </a:lnTo>
                                <a:lnTo>
                                  <a:pt x="648" y="205"/>
                                </a:lnTo>
                                <a:lnTo>
                                  <a:pt x="665" y="213"/>
                                </a:lnTo>
                                <a:lnTo>
                                  <a:pt x="682" y="223"/>
                                </a:lnTo>
                                <a:lnTo>
                                  <a:pt x="698" y="232"/>
                                </a:lnTo>
                                <a:lnTo>
                                  <a:pt x="709" y="244"/>
                                </a:lnTo>
                                <a:lnTo>
                                  <a:pt x="719" y="257"/>
                                </a:lnTo>
                                <a:lnTo>
                                  <a:pt x="723" y="263"/>
                                </a:lnTo>
                                <a:lnTo>
                                  <a:pt x="725" y="271"/>
                                </a:lnTo>
                                <a:lnTo>
                                  <a:pt x="726" y="278"/>
                                </a:lnTo>
                                <a:lnTo>
                                  <a:pt x="726" y="286"/>
                                </a:lnTo>
                                <a:lnTo>
                                  <a:pt x="725" y="317"/>
                                </a:lnTo>
                                <a:lnTo>
                                  <a:pt x="719" y="343"/>
                                </a:lnTo>
                                <a:lnTo>
                                  <a:pt x="717" y="353"/>
                                </a:lnTo>
                                <a:lnTo>
                                  <a:pt x="713" y="365"/>
                                </a:lnTo>
                                <a:lnTo>
                                  <a:pt x="707" y="374"/>
                                </a:lnTo>
                                <a:lnTo>
                                  <a:pt x="700" y="382"/>
                                </a:lnTo>
                                <a:lnTo>
                                  <a:pt x="692" y="388"/>
                                </a:lnTo>
                                <a:lnTo>
                                  <a:pt x="682" y="393"/>
                                </a:lnTo>
                                <a:lnTo>
                                  <a:pt x="671" y="399"/>
                                </a:lnTo>
                                <a:lnTo>
                                  <a:pt x="657" y="403"/>
                                </a:lnTo>
                                <a:lnTo>
                                  <a:pt x="642" y="405"/>
                                </a:lnTo>
                                <a:lnTo>
                                  <a:pt x="625" y="407"/>
                                </a:lnTo>
                                <a:lnTo>
                                  <a:pt x="604" y="407"/>
                                </a:lnTo>
                                <a:lnTo>
                                  <a:pt x="581" y="407"/>
                                </a:lnTo>
                                <a:lnTo>
                                  <a:pt x="525" y="405"/>
                                </a:lnTo>
                                <a:lnTo>
                                  <a:pt x="458" y="399"/>
                                </a:lnTo>
                                <a:lnTo>
                                  <a:pt x="385" y="395"/>
                                </a:lnTo>
                                <a:lnTo>
                                  <a:pt x="312" y="389"/>
                                </a:lnTo>
                                <a:lnTo>
                                  <a:pt x="243" y="384"/>
                                </a:lnTo>
                                <a:lnTo>
                                  <a:pt x="180" y="380"/>
                                </a:lnTo>
                                <a:lnTo>
                                  <a:pt x="132" y="378"/>
                                </a:lnTo>
                                <a:lnTo>
                                  <a:pt x="101" y="378"/>
                                </a:lnTo>
                                <a:lnTo>
                                  <a:pt x="82" y="378"/>
                                </a:lnTo>
                                <a:lnTo>
                                  <a:pt x="63" y="376"/>
                                </a:lnTo>
                                <a:lnTo>
                                  <a:pt x="46" y="370"/>
                                </a:lnTo>
                                <a:lnTo>
                                  <a:pt x="30" y="361"/>
                                </a:lnTo>
                                <a:lnTo>
                                  <a:pt x="24" y="355"/>
                                </a:lnTo>
                                <a:lnTo>
                                  <a:pt x="19" y="349"/>
                                </a:lnTo>
                                <a:lnTo>
                                  <a:pt x="13" y="342"/>
                                </a:lnTo>
                                <a:lnTo>
                                  <a:pt x="9" y="334"/>
                                </a:lnTo>
                                <a:lnTo>
                                  <a:pt x="5" y="326"/>
                                </a:lnTo>
                                <a:lnTo>
                                  <a:pt x="1" y="317"/>
                                </a:lnTo>
                                <a:lnTo>
                                  <a:pt x="1" y="307"/>
                                </a:lnTo>
                                <a:lnTo>
                                  <a:pt x="0" y="29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eff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9800" bIns="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7" name=""/>
                          <p:cNvSpPr/>
                          <p:nvPr/>
                        </p:nvSpPr>
                        <p:spPr>
                          <a:xfrm>
                            <a:off x="3214080" y="5139360"/>
                            <a:ext cx="11520" cy="15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7" h="96">
                                <a:moveTo>
                                  <a:pt x="63" y="80"/>
                                </a:moveTo>
                                <a:lnTo>
                                  <a:pt x="65" y="80"/>
                                </a:lnTo>
                                <a:lnTo>
                                  <a:pt x="65" y="80"/>
                                </a:lnTo>
                                <a:lnTo>
                                  <a:pt x="75" y="82"/>
                                </a:lnTo>
                                <a:lnTo>
                                  <a:pt x="83" y="80"/>
                                </a:lnTo>
                                <a:lnTo>
                                  <a:pt x="88" y="78"/>
                                </a:lnTo>
                                <a:lnTo>
                                  <a:pt x="94" y="74"/>
                                </a:lnTo>
                                <a:lnTo>
                                  <a:pt x="100" y="69"/>
                                </a:lnTo>
                                <a:lnTo>
                                  <a:pt x="104" y="63"/>
                                </a:lnTo>
                                <a:lnTo>
                                  <a:pt x="106" y="57"/>
                                </a:lnTo>
                                <a:lnTo>
                                  <a:pt x="107" y="51"/>
                                </a:lnTo>
                                <a:lnTo>
                                  <a:pt x="107" y="44"/>
                                </a:lnTo>
                                <a:lnTo>
                                  <a:pt x="106" y="36"/>
                                </a:lnTo>
                                <a:lnTo>
                                  <a:pt x="104" y="30"/>
                                </a:lnTo>
                                <a:lnTo>
                                  <a:pt x="100" y="25"/>
                                </a:lnTo>
                                <a:lnTo>
                                  <a:pt x="96" y="19"/>
                                </a:lnTo>
                                <a:lnTo>
                                  <a:pt x="88" y="17"/>
                                </a:lnTo>
                                <a:lnTo>
                                  <a:pt x="83" y="13"/>
                                </a:lnTo>
                                <a:lnTo>
                                  <a:pt x="73" y="13"/>
                                </a:lnTo>
                                <a:lnTo>
                                  <a:pt x="69" y="7"/>
                                </a:lnTo>
                                <a:lnTo>
                                  <a:pt x="63" y="3"/>
                                </a:lnTo>
                                <a:lnTo>
                                  <a:pt x="60" y="2"/>
                                </a:lnTo>
                                <a:lnTo>
                                  <a:pt x="54" y="0"/>
                                </a:lnTo>
                                <a:lnTo>
                                  <a:pt x="42" y="0"/>
                                </a:lnTo>
                                <a:lnTo>
                                  <a:pt x="33" y="2"/>
                                </a:lnTo>
                                <a:lnTo>
                                  <a:pt x="23" y="7"/>
                                </a:lnTo>
                                <a:lnTo>
                                  <a:pt x="15" y="15"/>
                                </a:lnTo>
                                <a:lnTo>
                                  <a:pt x="13" y="21"/>
                                </a:lnTo>
                                <a:lnTo>
                                  <a:pt x="12" y="25"/>
                                </a:lnTo>
                                <a:lnTo>
                                  <a:pt x="12" y="32"/>
                                </a:lnTo>
                                <a:lnTo>
                                  <a:pt x="12" y="38"/>
                                </a:lnTo>
                                <a:lnTo>
                                  <a:pt x="6" y="44"/>
                                </a:lnTo>
                                <a:lnTo>
                                  <a:pt x="2" y="51"/>
                                </a:lnTo>
                                <a:lnTo>
                                  <a:pt x="0" y="57"/>
                                </a:lnTo>
                                <a:lnTo>
                                  <a:pt x="0" y="63"/>
                                </a:lnTo>
                                <a:lnTo>
                                  <a:pt x="2" y="71"/>
                                </a:lnTo>
                                <a:lnTo>
                                  <a:pt x="4" y="76"/>
                                </a:lnTo>
                                <a:lnTo>
                                  <a:pt x="8" y="82"/>
                                </a:lnTo>
                                <a:lnTo>
                                  <a:pt x="13" y="86"/>
                                </a:lnTo>
                                <a:lnTo>
                                  <a:pt x="17" y="90"/>
                                </a:lnTo>
                                <a:lnTo>
                                  <a:pt x="23" y="94"/>
                                </a:lnTo>
                                <a:lnTo>
                                  <a:pt x="31" y="96"/>
                                </a:lnTo>
                                <a:lnTo>
                                  <a:pt x="37" y="96"/>
                                </a:lnTo>
                                <a:lnTo>
                                  <a:pt x="44" y="94"/>
                                </a:lnTo>
                                <a:lnTo>
                                  <a:pt x="50" y="92"/>
                                </a:lnTo>
                                <a:lnTo>
                                  <a:pt x="56" y="88"/>
                                </a:lnTo>
                                <a:lnTo>
                                  <a:pt x="61" y="80"/>
                                </a:lnTo>
                                <a:lnTo>
                                  <a:pt x="63" y="82"/>
                                </a:lnTo>
                                <a:lnTo>
                                  <a:pt x="63" y="8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e5e5e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320" bIns="-31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8" name=""/>
                          <p:cNvSpPr/>
                          <p:nvPr/>
                        </p:nvSpPr>
                        <p:spPr>
                          <a:xfrm>
                            <a:off x="3231720" y="5137920"/>
                            <a:ext cx="10440" cy="1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" h="113">
                                <a:moveTo>
                                  <a:pt x="63" y="113"/>
                                </a:moveTo>
                                <a:lnTo>
                                  <a:pt x="65" y="113"/>
                                </a:lnTo>
                                <a:lnTo>
                                  <a:pt x="67" y="113"/>
                                </a:lnTo>
                                <a:lnTo>
                                  <a:pt x="69" y="113"/>
                                </a:lnTo>
                                <a:lnTo>
                                  <a:pt x="71" y="113"/>
                                </a:lnTo>
                                <a:lnTo>
                                  <a:pt x="73" y="111"/>
                                </a:lnTo>
                                <a:lnTo>
                                  <a:pt x="75" y="111"/>
                                </a:lnTo>
                                <a:lnTo>
                                  <a:pt x="77" y="111"/>
                                </a:lnTo>
                                <a:lnTo>
                                  <a:pt x="79" y="109"/>
                                </a:lnTo>
                                <a:lnTo>
                                  <a:pt x="79" y="109"/>
                                </a:lnTo>
                                <a:lnTo>
                                  <a:pt x="85" y="106"/>
                                </a:lnTo>
                                <a:lnTo>
                                  <a:pt x="90" y="98"/>
                                </a:lnTo>
                                <a:lnTo>
                                  <a:pt x="94" y="90"/>
                                </a:lnTo>
                                <a:lnTo>
                                  <a:pt x="96" y="82"/>
                                </a:lnTo>
                                <a:lnTo>
                                  <a:pt x="96" y="73"/>
                                </a:lnTo>
                                <a:lnTo>
                                  <a:pt x="94" y="65"/>
                                </a:lnTo>
                                <a:lnTo>
                                  <a:pt x="88" y="58"/>
                                </a:lnTo>
                                <a:lnTo>
                                  <a:pt x="81" y="50"/>
                                </a:lnTo>
                                <a:lnTo>
                                  <a:pt x="81" y="50"/>
                                </a:lnTo>
                                <a:lnTo>
                                  <a:pt x="75" y="40"/>
                                </a:lnTo>
                                <a:lnTo>
                                  <a:pt x="69" y="31"/>
                                </a:lnTo>
                                <a:lnTo>
                                  <a:pt x="62" y="19"/>
                                </a:lnTo>
                                <a:lnTo>
                                  <a:pt x="56" y="10"/>
                                </a:lnTo>
                                <a:lnTo>
                                  <a:pt x="46" y="4"/>
                                </a:lnTo>
                                <a:lnTo>
                                  <a:pt x="37" y="0"/>
                                </a:lnTo>
                                <a:lnTo>
                                  <a:pt x="31" y="0"/>
                                </a:lnTo>
                                <a:lnTo>
                                  <a:pt x="25" y="2"/>
                                </a:lnTo>
                                <a:lnTo>
                                  <a:pt x="19" y="4"/>
                                </a:lnTo>
                                <a:lnTo>
                                  <a:pt x="14" y="10"/>
                                </a:lnTo>
                                <a:lnTo>
                                  <a:pt x="8" y="15"/>
                                </a:lnTo>
                                <a:lnTo>
                                  <a:pt x="2" y="21"/>
                                </a:lnTo>
                                <a:lnTo>
                                  <a:pt x="0" y="27"/>
                                </a:lnTo>
                                <a:lnTo>
                                  <a:pt x="0" y="33"/>
                                </a:lnTo>
                                <a:lnTo>
                                  <a:pt x="2" y="46"/>
                                </a:lnTo>
                                <a:lnTo>
                                  <a:pt x="8" y="59"/>
                                </a:lnTo>
                                <a:lnTo>
                                  <a:pt x="16" y="73"/>
                                </a:lnTo>
                                <a:lnTo>
                                  <a:pt x="25" y="86"/>
                                </a:lnTo>
                                <a:lnTo>
                                  <a:pt x="37" y="98"/>
                                </a:lnTo>
                                <a:lnTo>
                                  <a:pt x="44" y="107"/>
                                </a:lnTo>
                                <a:lnTo>
                                  <a:pt x="44" y="107"/>
                                </a:lnTo>
                                <a:lnTo>
                                  <a:pt x="46" y="109"/>
                                </a:lnTo>
                                <a:lnTo>
                                  <a:pt x="48" y="109"/>
                                </a:lnTo>
                                <a:lnTo>
                                  <a:pt x="50" y="111"/>
                                </a:lnTo>
                                <a:lnTo>
                                  <a:pt x="54" y="111"/>
                                </a:lnTo>
                                <a:lnTo>
                                  <a:pt x="56" y="113"/>
                                </a:lnTo>
                                <a:lnTo>
                                  <a:pt x="58" y="113"/>
                                </a:lnTo>
                                <a:lnTo>
                                  <a:pt x="60" y="113"/>
                                </a:lnTo>
                                <a:lnTo>
                                  <a:pt x="63" y="1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440" bIns="-28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9" name=""/>
                          <p:cNvSpPr/>
                          <p:nvPr/>
                        </p:nvSpPr>
                        <p:spPr>
                          <a:xfrm>
                            <a:off x="3249000" y="5137920"/>
                            <a:ext cx="12240" cy="16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3" h="104">
                                <a:moveTo>
                                  <a:pt x="92" y="0"/>
                                </a:moveTo>
                                <a:lnTo>
                                  <a:pt x="85" y="2"/>
                                </a:lnTo>
                                <a:lnTo>
                                  <a:pt x="77" y="4"/>
                                </a:lnTo>
                                <a:lnTo>
                                  <a:pt x="67" y="6"/>
                                </a:lnTo>
                                <a:lnTo>
                                  <a:pt x="62" y="8"/>
                                </a:lnTo>
                                <a:lnTo>
                                  <a:pt x="54" y="11"/>
                                </a:lnTo>
                                <a:lnTo>
                                  <a:pt x="46" y="13"/>
                                </a:lnTo>
                                <a:lnTo>
                                  <a:pt x="41" y="17"/>
                                </a:lnTo>
                                <a:lnTo>
                                  <a:pt x="35" y="21"/>
                                </a:lnTo>
                                <a:lnTo>
                                  <a:pt x="27" y="23"/>
                                </a:lnTo>
                                <a:lnTo>
                                  <a:pt x="21" y="25"/>
                                </a:lnTo>
                                <a:lnTo>
                                  <a:pt x="18" y="27"/>
                                </a:lnTo>
                                <a:lnTo>
                                  <a:pt x="14" y="31"/>
                                </a:lnTo>
                                <a:lnTo>
                                  <a:pt x="12" y="35"/>
                                </a:lnTo>
                                <a:lnTo>
                                  <a:pt x="10" y="38"/>
                                </a:lnTo>
                                <a:lnTo>
                                  <a:pt x="8" y="42"/>
                                </a:lnTo>
                                <a:lnTo>
                                  <a:pt x="4" y="46"/>
                                </a:lnTo>
                                <a:lnTo>
                                  <a:pt x="4" y="46"/>
                                </a:lnTo>
                                <a:lnTo>
                                  <a:pt x="2" y="58"/>
                                </a:lnTo>
                                <a:lnTo>
                                  <a:pt x="0" y="67"/>
                                </a:lnTo>
                                <a:lnTo>
                                  <a:pt x="0" y="77"/>
                                </a:lnTo>
                                <a:lnTo>
                                  <a:pt x="2" y="86"/>
                                </a:lnTo>
                                <a:lnTo>
                                  <a:pt x="6" y="94"/>
                                </a:lnTo>
                                <a:lnTo>
                                  <a:pt x="14" y="100"/>
                                </a:lnTo>
                                <a:lnTo>
                                  <a:pt x="23" y="104"/>
                                </a:lnTo>
                                <a:lnTo>
                                  <a:pt x="37" y="104"/>
                                </a:lnTo>
                                <a:lnTo>
                                  <a:pt x="37" y="104"/>
                                </a:lnTo>
                                <a:lnTo>
                                  <a:pt x="43" y="102"/>
                                </a:lnTo>
                                <a:lnTo>
                                  <a:pt x="50" y="102"/>
                                </a:lnTo>
                                <a:lnTo>
                                  <a:pt x="56" y="100"/>
                                </a:lnTo>
                                <a:lnTo>
                                  <a:pt x="64" y="100"/>
                                </a:lnTo>
                                <a:lnTo>
                                  <a:pt x="69" y="98"/>
                                </a:lnTo>
                                <a:lnTo>
                                  <a:pt x="77" y="96"/>
                                </a:lnTo>
                                <a:lnTo>
                                  <a:pt x="83" y="94"/>
                                </a:lnTo>
                                <a:lnTo>
                                  <a:pt x="89" y="92"/>
                                </a:lnTo>
                                <a:lnTo>
                                  <a:pt x="96" y="90"/>
                                </a:lnTo>
                                <a:lnTo>
                                  <a:pt x="104" y="84"/>
                                </a:lnTo>
                                <a:lnTo>
                                  <a:pt x="108" y="79"/>
                                </a:lnTo>
                                <a:lnTo>
                                  <a:pt x="112" y="71"/>
                                </a:lnTo>
                                <a:lnTo>
                                  <a:pt x="113" y="63"/>
                                </a:lnTo>
                                <a:lnTo>
                                  <a:pt x="113" y="56"/>
                                </a:lnTo>
                                <a:lnTo>
                                  <a:pt x="113" y="48"/>
                                </a:lnTo>
                                <a:lnTo>
                                  <a:pt x="112" y="40"/>
                                </a:lnTo>
                                <a:lnTo>
                                  <a:pt x="108" y="25"/>
                                </a:lnTo>
                                <a:lnTo>
                                  <a:pt x="102" y="11"/>
                                </a:lnTo>
                                <a:lnTo>
                                  <a:pt x="96" y="4"/>
                                </a:lnTo>
                                <a:lnTo>
                                  <a:pt x="9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0" name=""/>
                          <p:cNvSpPr/>
                          <p:nvPr/>
                        </p:nvSpPr>
                        <p:spPr>
                          <a:xfrm>
                            <a:off x="3269520" y="5137560"/>
                            <a:ext cx="9000" cy="20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5" h="125">
                                <a:moveTo>
                                  <a:pt x="67" y="27"/>
                                </a:moveTo>
                                <a:lnTo>
                                  <a:pt x="58" y="0"/>
                                </a:lnTo>
                                <a:lnTo>
                                  <a:pt x="67" y="27"/>
                                </a:lnTo>
                                <a:close/>
                                <a:moveTo>
                                  <a:pt x="33" y="125"/>
                                </a:moveTo>
                                <a:lnTo>
                                  <a:pt x="41" y="123"/>
                                </a:lnTo>
                                <a:lnTo>
                                  <a:pt x="48" y="121"/>
                                </a:lnTo>
                                <a:lnTo>
                                  <a:pt x="56" y="115"/>
                                </a:lnTo>
                                <a:lnTo>
                                  <a:pt x="62" y="109"/>
                                </a:lnTo>
                                <a:lnTo>
                                  <a:pt x="67" y="102"/>
                                </a:lnTo>
                                <a:lnTo>
                                  <a:pt x="69" y="94"/>
                                </a:lnTo>
                                <a:lnTo>
                                  <a:pt x="71" y="84"/>
                                </a:lnTo>
                                <a:lnTo>
                                  <a:pt x="71" y="77"/>
                                </a:lnTo>
                                <a:lnTo>
                                  <a:pt x="75" y="67"/>
                                </a:lnTo>
                                <a:lnTo>
                                  <a:pt x="79" y="54"/>
                                </a:lnTo>
                                <a:lnTo>
                                  <a:pt x="83" y="42"/>
                                </a:lnTo>
                                <a:lnTo>
                                  <a:pt x="85" y="31"/>
                                </a:lnTo>
                                <a:lnTo>
                                  <a:pt x="85" y="19"/>
                                </a:lnTo>
                                <a:lnTo>
                                  <a:pt x="81" y="10"/>
                                </a:lnTo>
                                <a:lnTo>
                                  <a:pt x="77" y="6"/>
                                </a:lnTo>
                                <a:lnTo>
                                  <a:pt x="71" y="4"/>
                                </a:lnTo>
                                <a:lnTo>
                                  <a:pt x="66" y="0"/>
                                </a:lnTo>
                                <a:lnTo>
                                  <a:pt x="58" y="0"/>
                                </a:lnTo>
                                <a:lnTo>
                                  <a:pt x="48" y="0"/>
                                </a:lnTo>
                                <a:lnTo>
                                  <a:pt x="41" y="2"/>
                                </a:lnTo>
                                <a:lnTo>
                                  <a:pt x="31" y="8"/>
                                </a:lnTo>
                                <a:lnTo>
                                  <a:pt x="25" y="15"/>
                                </a:lnTo>
                                <a:lnTo>
                                  <a:pt x="18" y="25"/>
                                </a:lnTo>
                                <a:lnTo>
                                  <a:pt x="12" y="37"/>
                                </a:lnTo>
                                <a:lnTo>
                                  <a:pt x="8" y="48"/>
                                </a:lnTo>
                                <a:lnTo>
                                  <a:pt x="4" y="60"/>
                                </a:lnTo>
                                <a:lnTo>
                                  <a:pt x="0" y="71"/>
                                </a:lnTo>
                                <a:lnTo>
                                  <a:pt x="0" y="83"/>
                                </a:lnTo>
                                <a:lnTo>
                                  <a:pt x="0" y="94"/>
                                </a:lnTo>
                                <a:lnTo>
                                  <a:pt x="4" y="104"/>
                                </a:lnTo>
                                <a:lnTo>
                                  <a:pt x="8" y="113"/>
                                </a:lnTo>
                                <a:lnTo>
                                  <a:pt x="14" y="119"/>
                                </a:lnTo>
                                <a:lnTo>
                                  <a:pt x="21" y="123"/>
                                </a:lnTo>
                                <a:lnTo>
                                  <a:pt x="33" y="12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07070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1" name=""/>
                          <p:cNvSpPr/>
                          <p:nvPr/>
                        </p:nvSpPr>
                        <p:spPr>
                          <a:xfrm>
                            <a:off x="3259440" y="5104800"/>
                            <a:ext cx="34200" cy="23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5" h="141">
                                <a:moveTo>
                                  <a:pt x="35" y="141"/>
                                </a:moveTo>
                                <a:lnTo>
                                  <a:pt x="37" y="141"/>
                                </a:lnTo>
                                <a:lnTo>
                                  <a:pt x="39" y="141"/>
                                </a:lnTo>
                                <a:lnTo>
                                  <a:pt x="41" y="141"/>
                                </a:lnTo>
                                <a:lnTo>
                                  <a:pt x="41" y="141"/>
                                </a:lnTo>
                                <a:lnTo>
                                  <a:pt x="43" y="141"/>
                                </a:lnTo>
                                <a:lnTo>
                                  <a:pt x="44" y="141"/>
                                </a:lnTo>
                                <a:lnTo>
                                  <a:pt x="44" y="139"/>
                                </a:lnTo>
                                <a:lnTo>
                                  <a:pt x="46" y="139"/>
                                </a:lnTo>
                                <a:lnTo>
                                  <a:pt x="46" y="139"/>
                                </a:lnTo>
                                <a:lnTo>
                                  <a:pt x="77" y="129"/>
                                </a:lnTo>
                                <a:lnTo>
                                  <a:pt x="106" y="118"/>
                                </a:lnTo>
                                <a:lnTo>
                                  <a:pt x="136" y="108"/>
                                </a:lnTo>
                                <a:lnTo>
                                  <a:pt x="165" y="98"/>
                                </a:lnTo>
                                <a:lnTo>
                                  <a:pt x="196" y="91"/>
                                </a:lnTo>
                                <a:lnTo>
                                  <a:pt x="227" y="81"/>
                                </a:lnTo>
                                <a:lnTo>
                                  <a:pt x="257" y="75"/>
                                </a:lnTo>
                                <a:lnTo>
                                  <a:pt x="288" y="68"/>
                                </a:lnTo>
                                <a:lnTo>
                                  <a:pt x="288" y="68"/>
                                </a:lnTo>
                                <a:lnTo>
                                  <a:pt x="296" y="66"/>
                                </a:lnTo>
                                <a:lnTo>
                                  <a:pt x="301" y="62"/>
                                </a:lnTo>
                                <a:lnTo>
                                  <a:pt x="307" y="58"/>
                                </a:lnTo>
                                <a:lnTo>
                                  <a:pt x="311" y="52"/>
                                </a:lnTo>
                                <a:lnTo>
                                  <a:pt x="313" y="47"/>
                                </a:lnTo>
                                <a:lnTo>
                                  <a:pt x="315" y="41"/>
                                </a:lnTo>
                                <a:lnTo>
                                  <a:pt x="315" y="35"/>
                                </a:lnTo>
                                <a:lnTo>
                                  <a:pt x="315" y="27"/>
                                </a:lnTo>
                                <a:lnTo>
                                  <a:pt x="313" y="22"/>
                                </a:lnTo>
                                <a:lnTo>
                                  <a:pt x="311" y="16"/>
                                </a:lnTo>
                                <a:lnTo>
                                  <a:pt x="307" y="12"/>
                                </a:lnTo>
                                <a:lnTo>
                                  <a:pt x="301" y="6"/>
                                </a:lnTo>
                                <a:lnTo>
                                  <a:pt x="296" y="4"/>
                                </a:lnTo>
                                <a:lnTo>
                                  <a:pt x="290" y="0"/>
                                </a:lnTo>
                                <a:lnTo>
                                  <a:pt x="282" y="0"/>
                                </a:lnTo>
                                <a:lnTo>
                                  <a:pt x="275" y="0"/>
                                </a:lnTo>
                                <a:lnTo>
                                  <a:pt x="242" y="8"/>
                                </a:lnTo>
                                <a:lnTo>
                                  <a:pt x="211" y="16"/>
                                </a:lnTo>
                                <a:lnTo>
                                  <a:pt x="179" y="24"/>
                                </a:lnTo>
                                <a:lnTo>
                                  <a:pt x="148" y="33"/>
                                </a:lnTo>
                                <a:lnTo>
                                  <a:pt x="117" y="43"/>
                                </a:lnTo>
                                <a:lnTo>
                                  <a:pt x="87" y="52"/>
                                </a:lnTo>
                                <a:lnTo>
                                  <a:pt x="56" y="64"/>
                                </a:lnTo>
                                <a:lnTo>
                                  <a:pt x="23" y="75"/>
                                </a:lnTo>
                                <a:lnTo>
                                  <a:pt x="23" y="75"/>
                                </a:lnTo>
                                <a:lnTo>
                                  <a:pt x="19" y="77"/>
                                </a:lnTo>
                                <a:lnTo>
                                  <a:pt x="18" y="81"/>
                                </a:lnTo>
                                <a:lnTo>
                                  <a:pt x="12" y="85"/>
                                </a:lnTo>
                                <a:lnTo>
                                  <a:pt x="8" y="91"/>
                                </a:lnTo>
                                <a:lnTo>
                                  <a:pt x="4" y="95"/>
                                </a:lnTo>
                                <a:lnTo>
                                  <a:pt x="2" y="100"/>
                                </a:lnTo>
                                <a:lnTo>
                                  <a:pt x="0" y="108"/>
                                </a:lnTo>
                                <a:lnTo>
                                  <a:pt x="2" y="114"/>
                                </a:lnTo>
                                <a:lnTo>
                                  <a:pt x="4" y="119"/>
                                </a:lnTo>
                                <a:lnTo>
                                  <a:pt x="6" y="125"/>
                                </a:lnTo>
                                <a:lnTo>
                                  <a:pt x="12" y="131"/>
                                </a:lnTo>
                                <a:lnTo>
                                  <a:pt x="16" y="135"/>
                                </a:lnTo>
                                <a:lnTo>
                                  <a:pt x="21" y="139"/>
                                </a:lnTo>
                                <a:lnTo>
                                  <a:pt x="29" y="141"/>
                                </a:lnTo>
                                <a:lnTo>
                                  <a:pt x="35" y="14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0ff30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760" bIns="-23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>
                          <a:off x="3207960" y="5127480"/>
                          <a:ext cx="79560" cy="3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9" h="237">
                              <a:moveTo>
                                <a:pt x="261" y="21"/>
                              </a:moveTo>
                              <a:lnTo>
                                <a:pt x="186" y="30"/>
                              </a:lnTo>
                              <a:lnTo>
                                <a:pt x="105" y="45"/>
                              </a:lnTo>
                              <a:lnTo>
                                <a:pt x="48" y="63"/>
                              </a:lnTo>
                              <a:lnTo>
                                <a:pt x="18" y="81"/>
                              </a:lnTo>
                              <a:lnTo>
                                <a:pt x="0" y="117"/>
                              </a:lnTo>
                              <a:lnTo>
                                <a:pt x="0" y="159"/>
                              </a:lnTo>
                              <a:lnTo>
                                <a:pt x="12" y="183"/>
                              </a:lnTo>
                              <a:lnTo>
                                <a:pt x="30" y="195"/>
                              </a:lnTo>
                              <a:lnTo>
                                <a:pt x="54" y="204"/>
                              </a:lnTo>
                              <a:lnTo>
                                <a:pt x="108" y="213"/>
                              </a:lnTo>
                              <a:lnTo>
                                <a:pt x="177" y="210"/>
                              </a:lnTo>
                              <a:lnTo>
                                <a:pt x="228" y="213"/>
                              </a:lnTo>
                              <a:lnTo>
                                <a:pt x="318" y="219"/>
                              </a:lnTo>
                              <a:lnTo>
                                <a:pt x="372" y="219"/>
                              </a:lnTo>
                              <a:lnTo>
                                <a:pt x="393" y="225"/>
                              </a:lnTo>
                              <a:lnTo>
                                <a:pt x="447" y="228"/>
                              </a:lnTo>
                              <a:lnTo>
                                <a:pt x="474" y="234"/>
                              </a:lnTo>
                              <a:lnTo>
                                <a:pt x="510" y="237"/>
                              </a:lnTo>
                              <a:lnTo>
                                <a:pt x="660" y="234"/>
                              </a:lnTo>
                              <a:lnTo>
                                <a:pt x="690" y="225"/>
                              </a:lnTo>
                              <a:lnTo>
                                <a:pt x="726" y="183"/>
                              </a:lnTo>
                              <a:lnTo>
                                <a:pt x="729" y="150"/>
                              </a:lnTo>
                              <a:lnTo>
                                <a:pt x="726" y="96"/>
                              </a:lnTo>
                              <a:lnTo>
                                <a:pt x="705" y="60"/>
                              </a:lnTo>
                              <a:lnTo>
                                <a:pt x="666" y="45"/>
                              </a:lnTo>
                              <a:lnTo>
                                <a:pt x="615" y="21"/>
                              </a:lnTo>
                              <a:lnTo>
                                <a:pt x="576" y="15"/>
                              </a:lnTo>
                              <a:lnTo>
                                <a:pt x="537" y="0"/>
                              </a:lnTo>
                              <a:lnTo>
                                <a:pt x="261" y="21"/>
                              </a:lnTo>
                              <a:close/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>
                          <a:off x="3214080" y="5139000"/>
                          <a:ext cx="1116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" h="96">
                              <a:moveTo>
                                <a:pt x="7" y="31"/>
                              </a:moveTo>
                              <a:lnTo>
                                <a:pt x="24" y="6"/>
                              </a:lnTo>
                              <a:lnTo>
                                <a:pt x="54" y="0"/>
                              </a:lnTo>
                              <a:lnTo>
                                <a:pt x="87" y="12"/>
                              </a:lnTo>
                              <a:lnTo>
                                <a:pt x="102" y="39"/>
                              </a:lnTo>
                              <a:lnTo>
                                <a:pt x="97" y="63"/>
                              </a:lnTo>
                              <a:cubicBezTo>
                                <a:pt x="93" y="69"/>
                                <a:pt x="83" y="73"/>
                                <a:pt x="79" y="77"/>
                              </a:cubicBezTo>
                              <a:cubicBezTo>
                                <a:pt x="75" y="81"/>
                                <a:pt x="77" y="84"/>
                                <a:pt x="71" y="87"/>
                              </a:cubicBezTo>
                              <a:lnTo>
                                <a:pt x="45" y="96"/>
                              </a:lnTo>
                              <a:lnTo>
                                <a:pt x="9" y="90"/>
                              </a:lnTo>
                              <a:lnTo>
                                <a:pt x="0" y="63"/>
                              </a:lnTo>
                              <a:lnTo>
                                <a:pt x="7" y="31"/>
                              </a:lnTo>
                              <a:close/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29880" bIns="-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>
                          <a:off x="3249360" y="5138280"/>
                          <a:ext cx="11160" cy="1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3" h="103">
                              <a:moveTo>
                                <a:pt x="7" y="38"/>
                              </a:moveTo>
                              <a:lnTo>
                                <a:pt x="24" y="13"/>
                              </a:lnTo>
                              <a:lnTo>
                                <a:pt x="55" y="0"/>
                              </a:lnTo>
                              <a:lnTo>
                                <a:pt x="77" y="2"/>
                              </a:lnTo>
                              <a:lnTo>
                                <a:pt x="95" y="18"/>
                              </a:lnTo>
                              <a:lnTo>
                                <a:pt x="102" y="46"/>
                              </a:lnTo>
                              <a:lnTo>
                                <a:pt x="103" y="70"/>
                              </a:lnTo>
                              <a:cubicBezTo>
                                <a:pt x="99" y="76"/>
                                <a:pt x="96" y="82"/>
                                <a:pt x="91" y="86"/>
                              </a:cubicBezTo>
                              <a:cubicBezTo>
                                <a:pt x="86" y="90"/>
                                <a:pt x="79" y="91"/>
                                <a:pt x="71" y="94"/>
                              </a:cubicBezTo>
                              <a:lnTo>
                                <a:pt x="45" y="103"/>
                              </a:lnTo>
                              <a:lnTo>
                                <a:pt x="9" y="97"/>
                              </a:lnTo>
                              <a:lnTo>
                                <a:pt x="0" y="70"/>
                              </a:lnTo>
                              <a:lnTo>
                                <a:pt x="7" y="38"/>
                              </a:lnTo>
                              <a:close/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>
                          <a:off x="3234960" y="5101200"/>
                          <a:ext cx="2700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4" h="182">
                              <a:moveTo>
                                <a:pt x="0" y="178"/>
                              </a:moveTo>
                              <a:cubicBezTo>
                                <a:pt x="7" y="157"/>
                                <a:pt x="2" y="142"/>
                                <a:pt x="14" y="124"/>
                              </a:cubicBezTo>
                              <a:cubicBezTo>
                                <a:pt x="19" y="117"/>
                                <a:pt x="24" y="100"/>
                                <a:pt x="24" y="100"/>
                              </a:cubicBezTo>
                              <a:cubicBezTo>
                                <a:pt x="26" y="85"/>
                                <a:pt x="38" y="68"/>
                                <a:pt x="46" y="52"/>
                              </a:cubicBezTo>
                              <a:cubicBezTo>
                                <a:pt x="48" y="42"/>
                                <a:pt x="61" y="25"/>
                                <a:pt x="70" y="16"/>
                              </a:cubicBezTo>
                              <a:cubicBezTo>
                                <a:pt x="74" y="5"/>
                                <a:pt x="82" y="2"/>
                                <a:pt x="92" y="0"/>
                              </a:cubicBezTo>
                              <a:cubicBezTo>
                                <a:pt x="129" y="1"/>
                                <a:pt x="138" y="0"/>
                                <a:pt x="166" y="6"/>
                              </a:cubicBezTo>
                              <a:cubicBezTo>
                                <a:pt x="172" y="10"/>
                                <a:pt x="178" y="14"/>
                                <a:pt x="184" y="18"/>
                              </a:cubicBezTo>
                              <a:cubicBezTo>
                                <a:pt x="186" y="19"/>
                                <a:pt x="190" y="22"/>
                                <a:pt x="190" y="22"/>
                              </a:cubicBezTo>
                              <a:cubicBezTo>
                                <a:pt x="195" y="29"/>
                                <a:pt x="198" y="31"/>
                                <a:pt x="206" y="34"/>
                              </a:cubicBezTo>
                              <a:cubicBezTo>
                                <a:pt x="211" y="41"/>
                                <a:pt x="210" y="45"/>
                                <a:pt x="218" y="48"/>
                              </a:cubicBezTo>
                              <a:cubicBezTo>
                                <a:pt x="219" y="50"/>
                                <a:pt x="219" y="52"/>
                                <a:pt x="220" y="54"/>
                              </a:cubicBezTo>
                              <a:cubicBezTo>
                                <a:pt x="222" y="56"/>
                                <a:pt x="225" y="56"/>
                                <a:pt x="226" y="58"/>
                              </a:cubicBezTo>
                              <a:cubicBezTo>
                                <a:pt x="228" y="62"/>
                                <a:pt x="227" y="66"/>
                                <a:pt x="228" y="70"/>
                              </a:cubicBezTo>
                              <a:cubicBezTo>
                                <a:pt x="229" y="72"/>
                                <a:pt x="231" y="74"/>
                                <a:pt x="232" y="76"/>
                              </a:cubicBezTo>
                              <a:cubicBezTo>
                                <a:pt x="235" y="88"/>
                                <a:pt x="238" y="102"/>
                                <a:pt x="242" y="114"/>
                              </a:cubicBezTo>
                              <a:cubicBezTo>
                                <a:pt x="245" y="138"/>
                                <a:pt x="254" y="158"/>
                                <a:pt x="254" y="182"/>
                              </a:cubicBezTo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15480" bIns="-15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>
                          <a:off x="3259440" y="5099040"/>
                          <a:ext cx="3348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8" h="178">
                              <a:moveTo>
                                <a:pt x="0" y="72"/>
                              </a:moveTo>
                              <a:lnTo>
                                <a:pt x="272" y="0"/>
                              </a:lnTo>
                              <a:lnTo>
                                <a:pt x="280" y="16"/>
                              </a:lnTo>
                              <a:lnTo>
                                <a:pt x="292" y="30"/>
                              </a:lnTo>
                              <a:lnTo>
                                <a:pt x="308" y="62"/>
                              </a:lnTo>
                              <a:lnTo>
                                <a:pt x="308" y="90"/>
                              </a:lnTo>
                              <a:lnTo>
                                <a:pt x="292" y="106"/>
                              </a:lnTo>
                              <a:lnTo>
                                <a:pt x="262" y="116"/>
                              </a:lnTo>
                              <a:lnTo>
                                <a:pt x="122" y="160"/>
                              </a:lnTo>
                              <a:lnTo>
                                <a:pt x="68" y="178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17280" bIns="-17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>
                          <a:off x="3231000" y="5139000"/>
                          <a:ext cx="1044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7" h="107">
                              <a:moveTo>
                                <a:pt x="32" y="94"/>
                              </a:moveTo>
                              <a:lnTo>
                                <a:pt x="20" y="76"/>
                              </a:lnTo>
                              <a:lnTo>
                                <a:pt x="0" y="44"/>
                              </a:lnTo>
                              <a:lnTo>
                                <a:pt x="7" y="9"/>
                              </a:lnTo>
                              <a:lnTo>
                                <a:pt x="41" y="0"/>
                              </a:lnTo>
                              <a:lnTo>
                                <a:pt x="68" y="9"/>
                              </a:lnTo>
                              <a:cubicBezTo>
                                <a:pt x="74" y="14"/>
                                <a:pt x="76" y="24"/>
                                <a:pt x="81" y="29"/>
                              </a:cubicBezTo>
                              <a:cubicBezTo>
                                <a:pt x="85" y="35"/>
                                <a:pt x="88" y="32"/>
                                <a:pt x="91" y="40"/>
                              </a:cubicBezTo>
                              <a:lnTo>
                                <a:pt x="97" y="67"/>
                              </a:lnTo>
                              <a:lnTo>
                                <a:pt x="96" y="82"/>
                              </a:lnTo>
                              <a:lnTo>
                                <a:pt x="84" y="103"/>
                              </a:lnTo>
                              <a:lnTo>
                                <a:pt x="68" y="106"/>
                              </a:lnTo>
                              <a:lnTo>
                                <a:pt x="52" y="107"/>
                              </a:lnTo>
                              <a:lnTo>
                                <a:pt x="32" y="94"/>
                              </a:lnTo>
                              <a:close/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27720" bIns="-27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>
                          <a:off x="3269160" y="5138280"/>
                          <a:ext cx="1044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8" h="121">
                              <a:moveTo>
                                <a:pt x="82" y="87"/>
                              </a:moveTo>
                              <a:lnTo>
                                <a:pt x="64" y="107"/>
                              </a:lnTo>
                              <a:lnTo>
                                <a:pt x="42" y="121"/>
                              </a:lnTo>
                              <a:lnTo>
                                <a:pt x="8" y="112"/>
                              </a:lnTo>
                              <a:lnTo>
                                <a:pt x="0" y="70"/>
                              </a:lnTo>
                              <a:lnTo>
                                <a:pt x="8" y="36"/>
                              </a:lnTo>
                              <a:cubicBezTo>
                                <a:pt x="13" y="29"/>
                                <a:pt x="23" y="26"/>
                                <a:pt x="27" y="20"/>
                              </a:cubicBezTo>
                              <a:cubicBezTo>
                                <a:pt x="33" y="15"/>
                                <a:pt x="30" y="11"/>
                                <a:pt x="38" y="7"/>
                              </a:cubicBezTo>
                              <a:lnTo>
                                <a:pt x="63" y="0"/>
                              </a:lnTo>
                              <a:lnTo>
                                <a:pt x="98" y="21"/>
                              </a:lnTo>
                              <a:lnTo>
                                <a:pt x="96" y="65"/>
                              </a:lnTo>
                              <a:lnTo>
                                <a:pt x="82" y="87"/>
                              </a:lnTo>
                              <a:close/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19" name=""/>
                      <p:cNvGrpSpPr/>
                      <p:nvPr/>
                    </p:nvGrpSpPr>
                    <p:grpSpPr>
                      <a:xfrm>
                        <a:off x="3279600" y="5193720"/>
                        <a:ext cx="96840" cy="65880"/>
                        <a:chOff x="3279600" y="5193720"/>
                        <a:chExt cx="96840" cy="65880"/>
                      </a:xfrm>
                    </p:grpSpPr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 rot="21131400">
                          <a:off x="3288600" y="5201280"/>
                          <a:ext cx="504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7" h="291">
                              <a:moveTo>
                                <a:pt x="235" y="99"/>
                              </a:moveTo>
                              <a:lnTo>
                                <a:pt x="39" y="33"/>
                              </a:lnTo>
                              <a:lnTo>
                                <a:pt x="0" y="115"/>
                              </a:lnTo>
                              <a:lnTo>
                                <a:pt x="217" y="195"/>
                              </a:lnTo>
                              <a:lnTo>
                                <a:pt x="201" y="283"/>
                              </a:lnTo>
                              <a:lnTo>
                                <a:pt x="223" y="286"/>
                              </a:lnTo>
                              <a:lnTo>
                                <a:pt x="288" y="291"/>
                              </a:lnTo>
                              <a:lnTo>
                                <a:pt x="348" y="288"/>
                              </a:lnTo>
                              <a:lnTo>
                                <a:pt x="394" y="282"/>
                              </a:lnTo>
                              <a:lnTo>
                                <a:pt x="466" y="264"/>
                              </a:lnTo>
                              <a:lnTo>
                                <a:pt x="520" y="253"/>
                              </a:lnTo>
                              <a:lnTo>
                                <a:pt x="537" y="249"/>
                              </a:lnTo>
                              <a:lnTo>
                                <a:pt x="525" y="204"/>
                              </a:lnTo>
                              <a:lnTo>
                                <a:pt x="507" y="156"/>
                              </a:lnTo>
                              <a:lnTo>
                                <a:pt x="487" y="109"/>
                              </a:lnTo>
                              <a:lnTo>
                                <a:pt x="462" y="58"/>
                              </a:lnTo>
                              <a:lnTo>
                                <a:pt x="435" y="25"/>
                              </a:lnTo>
                              <a:lnTo>
                                <a:pt x="399" y="0"/>
                              </a:lnTo>
                              <a:lnTo>
                                <a:pt x="348" y="0"/>
                              </a:lnTo>
                              <a:lnTo>
                                <a:pt x="313" y="7"/>
                              </a:lnTo>
                              <a:lnTo>
                                <a:pt x="280" y="30"/>
                              </a:lnTo>
                              <a:lnTo>
                                <a:pt x="252" y="60"/>
                              </a:lnTo>
                              <a:lnTo>
                                <a:pt x="238" y="88"/>
                              </a:lnTo>
                              <a:lnTo>
                                <a:pt x="235" y="99"/>
                              </a:lnTo>
                              <a:close/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18720" bIns="-18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21" name=""/>
                        <p:cNvGrpSpPr/>
                        <p:nvPr/>
                      </p:nvGrpSpPr>
                      <p:grpSpPr>
                        <a:xfrm>
                          <a:off x="3279600" y="5193720"/>
                          <a:ext cx="96840" cy="65880"/>
                          <a:chOff x="3279600" y="5193720"/>
                          <a:chExt cx="96840" cy="65880"/>
                        </a:xfrm>
                      </p:grpSpPr>
                      <p:sp>
                        <p:nvSpPr>
                          <p:cNvPr id="822" name=""/>
                          <p:cNvSpPr/>
                          <p:nvPr/>
                        </p:nvSpPr>
                        <p:spPr>
                          <a:xfrm rot="21131400">
                            <a:off x="3282840" y="5199480"/>
                            <a:ext cx="90360" cy="54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3" h="581">
                                <a:moveTo>
                                  <a:pt x="82" y="117"/>
                                </a:moveTo>
                                <a:lnTo>
                                  <a:pt x="123" y="34"/>
                                </a:lnTo>
                                <a:lnTo>
                                  <a:pt x="315" y="101"/>
                                </a:lnTo>
                                <a:lnTo>
                                  <a:pt x="316" y="98"/>
                                </a:lnTo>
                                <a:lnTo>
                                  <a:pt x="320" y="86"/>
                                </a:lnTo>
                                <a:lnTo>
                                  <a:pt x="328" y="71"/>
                                </a:lnTo>
                                <a:lnTo>
                                  <a:pt x="341" y="52"/>
                                </a:lnTo>
                                <a:lnTo>
                                  <a:pt x="349" y="44"/>
                                </a:lnTo>
                                <a:lnTo>
                                  <a:pt x="359" y="34"/>
                                </a:lnTo>
                                <a:lnTo>
                                  <a:pt x="370" y="25"/>
                                </a:lnTo>
                                <a:lnTo>
                                  <a:pt x="384" y="17"/>
                                </a:lnTo>
                                <a:lnTo>
                                  <a:pt x="397" y="11"/>
                                </a:lnTo>
                                <a:lnTo>
                                  <a:pt x="412" y="5"/>
                                </a:lnTo>
                                <a:lnTo>
                                  <a:pt x="432" y="2"/>
                                </a:lnTo>
                                <a:lnTo>
                                  <a:pt x="451" y="0"/>
                                </a:lnTo>
                                <a:lnTo>
                                  <a:pt x="460" y="0"/>
                                </a:lnTo>
                                <a:lnTo>
                                  <a:pt x="472" y="2"/>
                                </a:lnTo>
                                <a:lnTo>
                                  <a:pt x="481" y="5"/>
                                </a:lnTo>
                                <a:lnTo>
                                  <a:pt x="489" y="9"/>
                                </a:lnTo>
                                <a:lnTo>
                                  <a:pt x="499" y="15"/>
                                </a:lnTo>
                                <a:lnTo>
                                  <a:pt x="508" y="21"/>
                                </a:lnTo>
                                <a:lnTo>
                                  <a:pt x="516" y="28"/>
                                </a:lnTo>
                                <a:lnTo>
                                  <a:pt x="524" y="38"/>
                                </a:lnTo>
                                <a:lnTo>
                                  <a:pt x="539" y="57"/>
                                </a:lnTo>
                                <a:lnTo>
                                  <a:pt x="552" y="78"/>
                                </a:lnTo>
                                <a:lnTo>
                                  <a:pt x="564" y="101"/>
                                </a:lnTo>
                                <a:lnTo>
                                  <a:pt x="575" y="126"/>
                                </a:lnTo>
                                <a:lnTo>
                                  <a:pt x="593" y="174"/>
                                </a:lnTo>
                                <a:lnTo>
                                  <a:pt x="606" y="215"/>
                                </a:lnTo>
                                <a:lnTo>
                                  <a:pt x="614" y="245"/>
                                </a:lnTo>
                                <a:lnTo>
                                  <a:pt x="616" y="257"/>
                                </a:lnTo>
                                <a:lnTo>
                                  <a:pt x="631" y="257"/>
                                </a:lnTo>
                                <a:lnTo>
                                  <a:pt x="671" y="257"/>
                                </a:lnTo>
                                <a:lnTo>
                                  <a:pt x="698" y="259"/>
                                </a:lnTo>
                                <a:lnTo>
                                  <a:pt x="729" y="263"/>
                                </a:lnTo>
                                <a:lnTo>
                                  <a:pt x="760" y="266"/>
                                </a:lnTo>
                                <a:lnTo>
                                  <a:pt x="794" y="272"/>
                                </a:lnTo>
                                <a:lnTo>
                                  <a:pt x="827" y="278"/>
                                </a:lnTo>
                                <a:lnTo>
                                  <a:pt x="857" y="288"/>
                                </a:lnTo>
                                <a:lnTo>
                                  <a:pt x="888" y="297"/>
                                </a:lnTo>
                                <a:lnTo>
                                  <a:pt x="913" y="311"/>
                                </a:lnTo>
                                <a:lnTo>
                                  <a:pt x="925" y="318"/>
                                </a:lnTo>
                                <a:lnTo>
                                  <a:pt x="936" y="328"/>
                                </a:lnTo>
                                <a:lnTo>
                                  <a:pt x="944" y="336"/>
                                </a:lnTo>
                                <a:lnTo>
                                  <a:pt x="951" y="345"/>
                                </a:lnTo>
                                <a:lnTo>
                                  <a:pt x="957" y="357"/>
                                </a:lnTo>
                                <a:lnTo>
                                  <a:pt x="961" y="366"/>
                                </a:lnTo>
                                <a:lnTo>
                                  <a:pt x="963" y="380"/>
                                </a:lnTo>
                                <a:lnTo>
                                  <a:pt x="963" y="391"/>
                                </a:lnTo>
                                <a:lnTo>
                                  <a:pt x="961" y="416"/>
                                </a:lnTo>
                                <a:lnTo>
                                  <a:pt x="953" y="437"/>
                                </a:lnTo>
                                <a:lnTo>
                                  <a:pt x="949" y="447"/>
                                </a:lnTo>
                                <a:lnTo>
                                  <a:pt x="944" y="456"/>
                                </a:lnTo>
                                <a:lnTo>
                                  <a:pt x="938" y="464"/>
                                </a:lnTo>
                                <a:lnTo>
                                  <a:pt x="930" y="472"/>
                                </a:lnTo>
                                <a:lnTo>
                                  <a:pt x="915" y="485"/>
                                </a:lnTo>
                                <a:lnTo>
                                  <a:pt x="898" y="497"/>
                                </a:lnTo>
                                <a:lnTo>
                                  <a:pt x="877" y="506"/>
                                </a:lnTo>
                                <a:lnTo>
                                  <a:pt x="852" y="514"/>
                                </a:lnTo>
                                <a:lnTo>
                                  <a:pt x="827" y="522"/>
                                </a:lnTo>
                                <a:lnTo>
                                  <a:pt x="798" y="525"/>
                                </a:lnTo>
                                <a:lnTo>
                                  <a:pt x="767" y="529"/>
                                </a:lnTo>
                                <a:lnTo>
                                  <a:pt x="735" y="533"/>
                                </a:lnTo>
                                <a:lnTo>
                                  <a:pt x="662" y="541"/>
                                </a:lnTo>
                                <a:lnTo>
                                  <a:pt x="581" y="547"/>
                                </a:lnTo>
                                <a:lnTo>
                                  <a:pt x="493" y="556"/>
                                </a:lnTo>
                                <a:lnTo>
                                  <a:pt x="397" y="568"/>
                                </a:lnTo>
                                <a:lnTo>
                                  <a:pt x="349" y="573"/>
                                </a:lnTo>
                                <a:lnTo>
                                  <a:pt x="299" y="577"/>
                                </a:lnTo>
                                <a:lnTo>
                                  <a:pt x="253" y="581"/>
                                </a:lnTo>
                                <a:lnTo>
                                  <a:pt x="207" y="581"/>
                                </a:lnTo>
                                <a:lnTo>
                                  <a:pt x="165" y="579"/>
                                </a:lnTo>
                                <a:lnTo>
                                  <a:pt x="127" y="573"/>
                                </a:lnTo>
                                <a:lnTo>
                                  <a:pt x="107" y="570"/>
                                </a:lnTo>
                                <a:lnTo>
                                  <a:pt x="90" y="564"/>
                                </a:lnTo>
                                <a:lnTo>
                                  <a:pt x="75" y="558"/>
                                </a:lnTo>
                                <a:lnTo>
                                  <a:pt x="59" y="550"/>
                                </a:lnTo>
                                <a:lnTo>
                                  <a:pt x="48" y="543"/>
                                </a:lnTo>
                                <a:lnTo>
                                  <a:pt x="34" y="533"/>
                                </a:lnTo>
                                <a:lnTo>
                                  <a:pt x="25" y="522"/>
                                </a:lnTo>
                                <a:lnTo>
                                  <a:pt x="17" y="510"/>
                                </a:lnTo>
                                <a:lnTo>
                                  <a:pt x="10" y="497"/>
                                </a:lnTo>
                                <a:lnTo>
                                  <a:pt x="6" y="481"/>
                                </a:lnTo>
                                <a:lnTo>
                                  <a:pt x="2" y="464"/>
                                </a:lnTo>
                                <a:lnTo>
                                  <a:pt x="0" y="445"/>
                                </a:lnTo>
                                <a:lnTo>
                                  <a:pt x="2" y="426"/>
                                </a:lnTo>
                                <a:lnTo>
                                  <a:pt x="4" y="408"/>
                                </a:lnTo>
                                <a:lnTo>
                                  <a:pt x="8" y="393"/>
                                </a:lnTo>
                                <a:lnTo>
                                  <a:pt x="13" y="378"/>
                                </a:lnTo>
                                <a:lnTo>
                                  <a:pt x="19" y="364"/>
                                </a:lnTo>
                                <a:lnTo>
                                  <a:pt x="27" y="353"/>
                                </a:lnTo>
                                <a:lnTo>
                                  <a:pt x="34" y="341"/>
                                </a:lnTo>
                                <a:lnTo>
                                  <a:pt x="44" y="332"/>
                                </a:lnTo>
                                <a:lnTo>
                                  <a:pt x="56" y="324"/>
                                </a:lnTo>
                                <a:lnTo>
                                  <a:pt x="65" y="316"/>
                                </a:lnTo>
                                <a:lnTo>
                                  <a:pt x="77" y="309"/>
                                </a:lnTo>
                                <a:lnTo>
                                  <a:pt x="90" y="303"/>
                                </a:lnTo>
                                <a:lnTo>
                                  <a:pt x="115" y="293"/>
                                </a:lnTo>
                                <a:lnTo>
                                  <a:pt x="142" y="288"/>
                                </a:lnTo>
                                <a:lnTo>
                                  <a:pt x="167" y="284"/>
                                </a:lnTo>
                                <a:lnTo>
                                  <a:pt x="192" y="282"/>
                                </a:lnTo>
                                <a:lnTo>
                                  <a:pt x="217" y="280"/>
                                </a:lnTo>
                                <a:lnTo>
                                  <a:pt x="238" y="282"/>
                                </a:lnTo>
                                <a:lnTo>
                                  <a:pt x="269" y="284"/>
                                </a:lnTo>
                                <a:lnTo>
                                  <a:pt x="282" y="286"/>
                                </a:lnTo>
                                <a:lnTo>
                                  <a:pt x="295" y="197"/>
                                </a:lnTo>
                                <a:lnTo>
                                  <a:pt x="82" y="1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29b93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0" bIns="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3" name=""/>
                          <p:cNvSpPr/>
                          <p:nvPr/>
                        </p:nvSpPr>
                        <p:spPr>
                          <a:xfrm rot="21131400">
                            <a:off x="3283920" y="5222880"/>
                            <a:ext cx="90720" cy="3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7" h="325">
                                <a:moveTo>
                                  <a:pt x="280" y="34"/>
                                </a:moveTo>
                                <a:lnTo>
                                  <a:pt x="235" y="30"/>
                                </a:lnTo>
                                <a:lnTo>
                                  <a:pt x="178" y="28"/>
                                </a:lnTo>
                                <a:lnTo>
                                  <a:pt x="126" y="37"/>
                                </a:lnTo>
                                <a:lnTo>
                                  <a:pt x="73" y="52"/>
                                </a:lnTo>
                                <a:lnTo>
                                  <a:pt x="33" y="85"/>
                                </a:lnTo>
                                <a:lnTo>
                                  <a:pt x="10" y="127"/>
                                </a:lnTo>
                                <a:lnTo>
                                  <a:pt x="3" y="159"/>
                                </a:lnTo>
                                <a:lnTo>
                                  <a:pt x="1" y="180"/>
                                </a:lnTo>
                                <a:lnTo>
                                  <a:pt x="0" y="207"/>
                                </a:lnTo>
                                <a:lnTo>
                                  <a:pt x="15" y="247"/>
                                </a:lnTo>
                                <a:lnTo>
                                  <a:pt x="39" y="280"/>
                                </a:lnTo>
                                <a:lnTo>
                                  <a:pt x="75" y="301"/>
                                </a:lnTo>
                                <a:lnTo>
                                  <a:pt x="142" y="321"/>
                                </a:lnTo>
                                <a:lnTo>
                                  <a:pt x="189" y="325"/>
                                </a:lnTo>
                                <a:lnTo>
                                  <a:pt x="240" y="324"/>
                                </a:lnTo>
                                <a:lnTo>
                                  <a:pt x="312" y="322"/>
                                </a:lnTo>
                                <a:lnTo>
                                  <a:pt x="402" y="312"/>
                                </a:lnTo>
                                <a:lnTo>
                                  <a:pt x="472" y="304"/>
                                </a:lnTo>
                                <a:lnTo>
                                  <a:pt x="579" y="294"/>
                                </a:lnTo>
                                <a:lnTo>
                                  <a:pt x="684" y="286"/>
                                </a:lnTo>
                                <a:lnTo>
                                  <a:pt x="763" y="277"/>
                                </a:lnTo>
                                <a:lnTo>
                                  <a:pt x="855" y="264"/>
                                </a:lnTo>
                                <a:lnTo>
                                  <a:pt x="913" y="238"/>
                                </a:lnTo>
                                <a:lnTo>
                                  <a:pt x="937" y="217"/>
                                </a:lnTo>
                                <a:lnTo>
                                  <a:pt x="951" y="198"/>
                                </a:lnTo>
                                <a:lnTo>
                                  <a:pt x="960" y="175"/>
                                </a:lnTo>
                                <a:lnTo>
                                  <a:pt x="967" y="156"/>
                                </a:lnTo>
                                <a:lnTo>
                                  <a:pt x="967" y="133"/>
                                </a:lnTo>
                                <a:lnTo>
                                  <a:pt x="963" y="103"/>
                                </a:lnTo>
                                <a:lnTo>
                                  <a:pt x="946" y="78"/>
                                </a:lnTo>
                                <a:lnTo>
                                  <a:pt x="919" y="55"/>
                                </a:lnTo>
                                <a:lnTo>
                                  <a:pt x="886" y="42"/>
                                </a:lnTo>
                                <a:lnTo>
                                  <a:pt x="859" y="30"/>
                                </a:lnTo>
                                <a:lnTo>
                                  <a:pt x="808" y="18"/>
                                </a:lnTo>
                                <a:lnTo>
                                  <a:pt x="763" y="10"/>
                                </a:lnTo>
                                <a:lnTo>
                                  <a:pt x="720" y="7"/>
                                </a:lnTo>
                                <a:lnTo>
                                  <a:pt x="618" y="0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tIns="-15480" bIns="-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4" name=""/>
                          <p:cNvSpPr/>
                          <p:nvPr/>
                        </p:nvSpPr>
                        <p:spPr>
                          <a:xfrm rot="21131400">
                            <a:off x="3294000" y="5235480"/>
                            <a:ext cx="16920" cy="15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67">
                                <a:moveTo>
                                  <a:pt x="34" y="19"/>
                                </a:moveTo>
                                <a:cubicBezTo>
                                  <a:pt x="28" y="20"/>
                                  <a:pt x="18" y="40"/>
                                  <a:pt x="14" y="47"/>
                                </a:cubicBezTo>
                                <a:cubicBezTo>
                                  <a:pt x="12" y="69"/>
                                  <a:pt x="0" y="98"/>
                                  <a:pt x="19" y="113"/>
                                </a:cubicBezTo>
                                <a:cubicBezTo>
                                  <a:pt x="20" y="124"/>
                                  <a:pt x="26" y="130"/>
                                  <a:pt x="35" y="137"/>
                                </a:cubicBezTo>
                                <a:cubicBezTo>
                                  <a:pt x="40" y="151"/>
                                  <a:pt x="57" y="159"/>
                                  <a:pt x="71" y="161"/>
                                </a:cubicBezTo>
                                <a:cubicBezTo>
                                  <a:pt x="85" y="167"/>
                                  <a:pt x="95" y="164"/>
                                  <a:pt x="112" y="163"/>
                                </a:cubicBezTo>
                                <a:cubicBezTo>
                                  <a:pt x="118" y="161"/>
                                  <a:pt x="122" y="158"/>
                                  <a:pt x="128" y="157"/>
                                </a:cubicBezTo>
                                <a:cubicBezTo>
                                  <a:pt x="136" y="152"/>
                                  <a:pt x="148" y="143"/>
                                  <a:pt x="155" y="136"/>
                                </a:cubicBezTo>
                                <a:cubicBezTo>
                                  <a:pt x="156" y="131"/>
                                  <a:pt x="173" y="103"/>
                                  <a:pt x="178" y="97"/>
                                </a:cubicBezTo>
                                <a:cubicBezTo>
                                  <a:pt x="177" y="84"/>
                                  <a:pt x="183" y="64"/>
                                  <a:pt x="170" y="56"/>
                                </a:cubicBezTo>
                                <a:cubicBezTo>
                                  <a:pt x="166" y="50"/>
                                  <a:pt x="165" y="44"/>
                                  <a:pt x="158" y="43"/>
                                </a:cubicBezTo>
                                <a:cubicBezTo>
                                  <a:pt x="151" y="39"/>
                                  <a:pt x="155" y="36"/>
                                  <a:pt x="146" y="34"/>
                                </a:cubicBezTo>
                                <a:cubicBezTo>
                                  <a:pt x="144" y="25"/>
                                  <a:pt x="134" y="15"/>
                                  <a:pt x="125" y="11"/>
                                </a:cubicBezTo>
                                <a:cubicBezTo>
                                  <a:pt x="117" y="3"/>
                                  <a:pt x="105" y="3"/>
                                  <a:pt x="94" y="1"/>
                                </a:cubicBezTo>
                                <a:cubicBezTo>
                                  <a:pt x="70" y="2"/>
                                  <a:pt x="58" y="0"/>
                                  <a:pt x="38" y="7"/>
                                </a:cubicBezTo>
                                <a:cubicBezTo>
                                  <a:pt x="38" y="9"/>
                                  <a:pt x="30" y="24"/>
                                  <a:pt x="28" y="26"/>
                                </a:cubicBezTo>
                                <a:cubicBezTo>
                                  <a:pt x="23" y="30"/>
                                  <a:pt x="23" y="26"/>
                                  <a:pt x="23" y="29"/>
                                </a:cubicBez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tIns="-30240" bIns="-30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5" name=""/>
                          <p:cNvSpPr/>
                          <p:nvPr/>
                        </p:nvSpPr>
                        <p:spPr>
                          <a:xfrm rot="21131400">
                            <a:off x="3314520" y="5232600"/>
                            <a:ext cx="1296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9" h="152">
                                <a:moveTo>
                                  <a:pt x="14" y="22"/>
                                </a:moveTo>
                                <a:cubicBezTo>
                                  <a:pt x="12" y="30"/>
                                  <a:pt x="11" y="35"/>
                                  <a:pt x="8" y="42"/>
                                </a:cubicBezTo>
                                <a:cubicBezTo>
                                  <a:pt x="0" y="89"/>
                                  <a:pt x="13" y="105"/>
                                  <a:pt x="39" y="139"/>
                                </a:cubicBezTo>
                                <a:cubicBezTo>
                                  <a:pt x="44" y="145"/>
                                  <a:pt x="61" y="148"/>
                                  <a:pt x="68" y="150"/>
                                </a:cubicBezTo>
                                <a:cubicBezTo>
                                  <a:pt x="121" y="147"/>
                                  <a:pt x="96" y="152"/>
                                  <a:pt x="122" y="135"/>
                                </a:cubicBezTo>
                                <a:cubicBezTo>
                                  <a:pt x="123" y="128"/>
                                  <a:pt x="134" y="106"/>
                                  <a:pt x="137" y="99"/>
                                </a:cubicBezTo>
                                <a:cubicBezTo>
                                  <a:pt x="138" y="82"/>
                                  <a:pt x="139" y="82"/>
                                  <a:pt x="134" y="61"/>
                                </a:cubicBezTo>
                                <a:cubicBezTo>
                                  <a:pt x="133" y="57"/>
                                  <a:pt x="129" y="51"/>
                                  <a:pt x="129" y="51"/>
                                </a:cubicBezTo>
                                <a:cubicBezTo>
                                  <a:pt x="127" y="43"/>
                                  <a:pt x="121" y="41"/>
                                  <a:pt x="114" y="37"/>
                                </a:cubicBezTo>
                                <a:cubicBezTo>
                                  <a:pt x="111" y="30"/>
                                  <a:pt x="112" y="25"/>
                                  <a:pt x="105" y="24"/>
                                </a:cubicBezTo>
                                <a:cubicBezTo>
                                  <a:pt x="101" y="19"/>
                                  <a:pt x="86" y="16"/>
                                  <a:pt x="86" y="16"/>
                                </a:cubicBezTo>
                                <a:cubicBezTo>
                                  <a:pt x="75" y="1"/>
                                  <a:pt x="40" y="0"/>
                                  <a:pt x="22" y="1"/>
                                </a:cubicBezTo>
                                <a:cubicBezTo>
                                  <a:pt x="17" y="10"/>
                                  <a:pt x="6" y="28"/>
                                  <a:pt x="6" y="39"/>
                                </a:cubicBez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tIns="-31680" bIns="-31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6" name=""/>
                          <p:cNvSpPr/>
                          <p:nvPr/>
                        </p:nvSpPr>
                        <p:spPr>
                          <a:xfrm rot="21131400">
                            <a:off x="3332880" y="5228640"/>
                            <a:ext cx="936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0" h="153">
                                <a:moveTo>
                                  <a:pt x="17" y="14"/>
                                </a:moveTo>
                                <a:cubicBezTo>
                                  <a:pt x="12" y="19"/>
                                  <a:pt x="15" y="21"/>
                                  <a:pt x="9" y="27"/>
                                </a:cubicBezTo>
                                <a:cubicBezTo>
                                  <a:pt x="8" y="34"/>
                                  <a:pt x="4" y="41"/>
                                  <a:pt x="2" y="48"/>
                                </a:cubicBezTo>
                                <a:cubicBezTo>
                                  <a:pt x="0" y="67"/>
                                  <a:pt x="0" y="85"/>
                                  <a:pt x="4" y="104"/>
                                </a:cubicBezTo>
                                <a:cubicBezTo>
                                  <a:pt x="5" y="121"/>
                                  <a:pt x="11" y="141"/>
                                  <a:pt x="30" y="144"/>
                                </a:cubicBezTo>
                                <a:cubicBezTo>
                                  <a:pt x="37" y="148"/>
                                  <a:pt x="43" y="151"/>
                                  <a:pt x="51" y="153"/>
                                </a:cubicBezTo>
                                <a:cubicBezTo>
                                  <a:pt x="57" y="152"/>
                                  <a:pt x="63" y="153"/>
                                  <a:pt x="69" y="151"/>
                                </a:cubicBezTo>
                                <a:cubicBezTo>
                                  <a:pt x="71" y="150"/>
                                  <a:pt x="76" y="146"/>
                                  <a:pt x="77" y="144"/>
                                </a:cubicBezTo>
                                <a:cubicBezTo>
                                  <a:pt x="79" y="140"/>
                                  <a:pt x="81" y="138"/>
                                  <a:pt x="85" y="137"/>
                                </a:cubicBezTo>
                                <a:cubicBezTo>
                                  <a:pt x="91" y="132"/>
                                  <a:pt x="90" y="127"/>
                                  <a:pt x="95" y="120"/>
                                </a:cubicBezTo>
                                <a:cubicBezTo>
                                  <a:pt x="92" y="84"/>
                                  <a:pt x="100" y="83"/>
                                  <a:pt x="86" y="65"/>
                                </a:cubicBezTo>
                                <a:cubicBezTo>
                                  <a:pt x="85" y="48"/>
                                  <a:pt x="81" y="44"/>
                                  <a:pt x="76" y="30"/>
                                </a:cubicBezTo>
                                <a:cubicBezTo>
                                  <a:pt x="75" y="20"/>
                                  <a:pt x="73" y="15"/>
                                  <a:pt x="66" y="9"/>
                                </a:cubicBezTo>
                                <a:cubicBezTo>
                                  <a:pt x="63" y="4"/>
                                  <a:pt x="61" y="4"/>
                                  <a:pt x="56" y="3"/>
                                </a:cubicBezTo>
                                <a:cubicBezTo>
                                  <a:pt x="51" y="2"/>
                                  <a:pt x="39" y="0"/>
                                  <a:pt x="33" y="1"/>
                                </a:cubicBezTo>
                                <a:cubicBezTo>
                                  <a:pt x="31" y="7"/>
                                  <a:pt x="25" y="2"/>
                                  <a:pt x="22" y="8"/>
                                </a:cubicBezTo>
                                <a:cubicBezTo>
                                  <a:pt x="20" y="11"/>
                                  <a:pt x="16" y="18"/>
                                  <a:pt x="16" y="18"/>
                                </a:cubicBez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tIns="-31680" bIns="-31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7" name=""/>
                          <p:cNvSpPr/>
                          <p:nvPr/>
                        </p:nvSpPr>
                        <p:spPr>
                          <a:xfrm rot="15731400">
                            <a:off x="3345840" y="5225760"/>
                            <a:ext cx="16920" cy="15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67">
                                <a:moveTo>
                                  <a:pt x="34" y="19"/>
                                </a:moveTo>
                                <a:cubicBezTo>
                                  <a:pt x="28" y="20"/>
                                  <a:pt x="18" y="40"/>
                                  <a:pt x="14" y="47"/>
                                </a:cubicBezTo>
                                <a:cubicBezTo>
                                  <a:pt x="12" y="69"/>
                                  <a:pt x="0" y="98"/>
                                  <a:pt x="19" y="113"/>
                                </a:cubicBezTo>
                                <a:cubicBezTo>
                                  <a:pt x="20" y="124"/>
                                  <a:pt x="26" y="130"/>
                                  <a:pt x="35" y="137"/>
                                </a:cubicBezTo>
                                <a:cubicBezTo>
                                  <a:pt x="40" y="151"/>
                                  <a:pt x="57" y="159"/>
                                  <a:pt x="71" y="161"/>
                                </a:cubicBezTo>
                                <a:cubicBezTo>
                                  <a:pt x="85" y="167"/>
                                  <a:pt x="95" y="164"/>
                                  <a:pt x="112" y="163"/>
                                </a:cubicBezTo>
                                <a:cubicBezTo>
                                  <a:pt x="118" y="161"/>
                                  <a:pt x="122" y="158"/>
                                  <a:pt x="128" y="157"/>
                                </a:cubicBezTo>
                                <a:cubicBezTo>
                                  <a:pt x="136" y="152"/>
                                  <a:pt x="148" y="143"/>
                                  <a:pt x="155" y="136"/>
                                </a:cubicBezTo>
                                <a:cubicBezTo>
                                  <a:pt x="156" y="131"/>
                                  <a:pt x="173" y="103"/>
                                  <a:pt x="178" y="97"/>
                                </a:cubicBezTo>
                                <a:cubicBezTo>
                                  <a:pt x="177" y="84"/>
                                  <a:pt x="183" y="64"/>
                                  <a:pt x="170" y="56"/>
                                </a:cubicBezTo>
                                <a:cubicBezTo>
                                  <a:pt x="166" y="50"/>
                                  <a:pt x="165" y="44"/>
                                  <a:pt x="158" y="43"/>
                                </a:cubicBezTo>
                                <a:cubicBezTo>
                                  <a:pt x="151" y="39"/>
                                  <a:pt x="155" y="36"/>
                                  <a:pt x="146" y="34"/>
                                </a:cubicBezTo>
                                <a:cubicBezTo>
                                  <a:pt x="144" y="25"/>
                                  <a:pt x="134" y="15"/>
                                  <a:pt x="125" y="11"/>
                                </a:cubicBezTo>
                                <a:cubicBezTo>
                                  <a:pt x="117" y="3"/>
                                  <a:pt x="105" y="3"/>
                                  <a:pt x="94" y="1"/>
                                </a:cubicBezTo>
                                <a:cubicBezTo>
                                  <a:pt x="70" y="2"/>
                                  <a:pt x="58" y="0"/>
                                  <a:pt x="38" y="7"/>
                                </a:cubicBezTo>
                                <a:cubicBezTo>
                                  <a:pt x="38" y="9"/>
                                  <a:pt x="30" y="24"/>
                                  <a:pt x="28" y="26"/>
                                </a:cubicBezTo>
                                <a:cubicBezTo>
                                  <a:pt x="23" y="30"/>
                                  <a:pt x="23" y="26"/>
                                  <a:pt x="23" y="29"/>
                                </a:cubicBez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tIns="-30240" bIns="-30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2843280" y="4982040"/>
                        <a:ext cx="693000" cy="245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360" rIns="18360" tIns="18360" bIns="18360" anchor="t">
                        <a:spAutoFit/>
                      </a:bodyPr>
                      <a:p>
                        <a:pPr algn="r">
                          <a:lnSpc>
                            <a:spcPct val="76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cc0000"/>
                            </a:solidFill>
                            <a:latin typeface="Tahoma"/>
                            <a:ea typeface="宋体"/>
                          </a:rPr>
                          <a:t>Interactive Gaming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29" name=""/>
                <p:cNvGrpSpPr/>
                <p:nvPr/>
              </p:nvGrpSpPr>
              <p:grpSpPr>
                <a:xfrm>
                  <a:off x="3324240" y="5347800"/>
                  <a:ext cx="932040" cy="560520"/>
                  <a:chOff x="3324240" y="5347800"/>
                  <a:chExt cx="932040" cy="560520"/>
                </a:xfrm>
              </p:grpSpPr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3726720" y="5508360"/>
                    <a:ext cx="529560" cy="399960"/>
                    <a:chOff x="3726720" y="5508360"/>
                    <a:chExt cx="529560" cy="399960"/>
                  </a:xfrm>
                </p:grpSpPr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3795840" y="5508360"/>
                      <a:ext cx="460440" cy="399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b2b2b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3805920" y="5514120"/>
                      <a:ext cx="447480" cy="3920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8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16360" y="5577120"/>
                      <a:ext cx="421920" cy="3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3726720" y="5510880"/>
                      <a:ext cx="511560" cy="261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9000" tIns="9000" bIns="9000" anchor="t">
                      <a:sp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e4a8"/>
                          </a:solidFill>
                          <a:latin typeface="Tahoma"/>
                          <a:ea typeface="宋体"/>
                        </a:rPr>
                        <a:t>Pay Per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3324240" y="5347800"/>
                    <a:ext cx="578880" cy="387720"/>
                    <a:chOff x="3324240" y="5347800"/>
                    <a:chExt cx="578880" cy="387720"/>
                  </a:xfrm>
                </p:grpSpPr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3369960" y="5347800"/>
                      <a:ext cx="468720" cy="387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b2b2b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3380400" y="5352840"/>
                      <a:ext cx="456480" cy="37908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3411720" y="5470920"/>
                      <a:ext cx="30024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90" h="16080">
                          <a:moveTo>
                            <a:pt x="0" y="8040"/>
                          </a:moveTo>
                          <a:lnTo>
                            <a:pt x="10" y="7626"/>
                          </a:lnTo>
                          <a:lnTo>
                            <a:pt x="40" y="7218"/>
                          </a:lnTo>
                          <a:lnTo>
                            <a:pt x="88" y="6816"/>
                          </a:lnTo>
                          <a:lnTo>
                            <a:pt x="156" y="6420"/>
                          </a:lnTo>
                          <a:lnTo>
                            <a:pt x="242" y="6031"/>
                          </a:lnTo>
                          <a:lnTo>
                            <a:pt x="346" y="5649"/>
                          </a:lnTo>
                          <a:lnTo>
                            <a:pt x="466" y="5275"/>
                          </a:lnTo>
                          <a:lnTo>
                            <a:pt x="605" y="4910"/>
                          </a:lnTo>
                          <a:lnTo>
                            <a:pt x="758" y="4555"/>
                          </a:lnTo>
                          <a:lnTo>
                            <a:pt x="929" y="4208"/>
                          </a:lnTo>
                          <a:lnTo>
                            <a:pt x="1113" y="3871"/>
                          </a:lnTo>
                          <a:lnTo>
                            <a:pt x="1314" y="3545"/>
                          </a:lnTo>
                          <a:lnTo>
                            <a:pt x="1529" y="3230"/>
                          </a:lnTo>
                          <a:lnTo>
                            <a:pt x="1757" y="2926"/>
                          </a:lnTo>
                          <a:lnTo>
                            <a:pt x="1999" y="2634"/>
                          </a:lnTo>
                          <a:lnTo>
                            <a:pt x="2254" y="2355"/>
                          </a:lnTo>
                          <a:lnTo>
                            <a:pt x="2521" y="2088"/>
                          </a:lnTo>
                          <a:lnTo>
                            <a:pt x="2801" y="1836"/>
                          </a:lnTo>
                          <a:lnTo>
                            <a:pt x="3090" y="1598"/>
                          </a:lnTo>
                          <a:lnTo>
                            <a:pt x="3392" y="1373"/>
                          </a:lnTo>
                          <a:lnTo>
                            <a:pt x="3704" y="1164"/>
                          </a:lnTo>
                          <a:lnTo>
                            <a:pt x="4027" y="971"/>
                          </a:lnTo>
                          <a:lnTo>
                            <a:pt x="4358" y="793"/>
                          </a:lnTo>
                          <a:lnTo>
                            <a:pt x="4699" y="632"/>
                          </a:lnTo>
                          <a:lnTo>
                            <a:pt x="5049" y="488"/>
                          </a:lnTo>
                          <a:lnTo>
                            <a:pt x="5407" y="362"/>
                          </a:lnTo>
                          <a:lnTo>
                            <a:pt x="5772" y="253"/>
                          </a:lnTo>
                          <a:lnTo>
                            <a:pt x="6144" y="164"/>
                          </a:lnTo>
                          <a:lnTo>
                            <a:pt x="6523" y="92"/>
                          </a:lnTo>
                          <a:lnTo>
                            <a:pt x="6908" y="41"/>
                          </a:lnTo>
                          <a:lnTo>
                            <a:pt x="7299" y="10"/>
                          </a:lnTo>
                          <a:lnTo>
                            <a:pt x="7696" y="0"/>
                          </a:lnTo>
                          <a:lnTo>
                            <a:pt x="8091" y="10"/>
                          </a:lnTo>
                          <a:lnTo>
                            <a:pt x="8482" y="41"/>
                          </a:lnTo>
                          <a:lnTo>
                            <a:pt x="8867" y="92"/>
                          </a:lnTo>
                          <a:lnTo>
                            <a:pt x="9246" y="164"/>
                          </a:lnTo>
                          <a:lnTo>
                            <a:pt x="9618" y="253"/>
                          </a:lnTo>
                          <a:lnTo>
                            <a:pt x="9983" y="362"/>
                          </a:lnTo>
                          <a:lnTo>
                            <a:pt x="10341" y="488"/>
                          </a:lnTo>
                          <a:lnTo>
                            <a:pt x="10691" y="632"/>
                          </a:lnTo>
                          <a:lnTo>
                            <a:pt x="11031" y="793"/>
                          </a:lnTo>
                          <a:lnTo>
                            <a:pt x="11363" y="971"/>
                          </a:lnTo>
                          <a:lnTo>
                            <a:pt x="11685" y="1164"/>
                          </a:lnTo>
                          <a:lnTo>
                            <a:pt x="11998" y="1373"/>
                          </a:lnTo>
                          <a:lnTo>
                            <a:pt x="12299" y="1598"/>
                          </a:lnTo>
                          <a:lnTo>
                            <a:pt x="12589" y="1836"/>
                          </a:lnTo>
                          <a:lnTo>
                            <a:pt x="12869" y="2088"/>
                          </a:lnTo>
                          <a:lnTo>
                            <a:pt x="13136" y="2355"/>
                          </a:lnTo>
                          <a:lnTo>
                            <a:pt x="13391" y="2634"/>
                          </a:lnTo>
                          <a:lnTo>
                            <a:pt x="13633" y="2926"/>
                          </a:lnTo>
                          <a:lnTo>
                            <a:pt x="13861" y="3230"/>
                          </a:lnTo>
                          <a:lnTo>
                            <a:pt x="14076" y="3545"/>
                          </a:lnTo>
                          <a:lnTo>
                            <a:pt x="14276" y="3871"/>
                          </a:lnTo>
                          <a:lnTo>
                            <a:pt x="14461" y="4208"/>
                          </a:lnTo>
                          <a:lnTo>
                            <a:pt x="14631" y="4555"/>
                          </a:lnTo>
                          <a:lnTo>
                            <a:pt x="14785" y="4910"/>
                          </a:lnTo>
                          <a:lnTo>
                            <a:pt x="14923" y="5275"/>
                          </a:lnTo>
                          <a:lnTo>
                            <a:pt x="15044" y="5649"/>
                          </a:lnTo>
                          <a:lnTo>
                            <a:pt x="15147" y="6031"/>
                          </a:lnTo>
                          <a:lnTo>
                            <a:pt x="15234" y="6420"/>
                          </a:lnTo>
                          <a:lnTo>
                            <a:pt x="15301" y="6816"/>
                          </a:lnTo>
                          <a:lnTo>
                            <a:pt x="15350" y="7218"/>
                          </a:lnTo>
                          <a:lnTo>
                            <a:pt x="15380" y="7626"/>
                          </a:lnTo>
                          <a:lnTo>
                            <a:pt x="15390" y="8040"/>
                          </a:lnTo>
                          <a:lnTo>
                            <a:pt x="15380" y="8454"/>
                          </a:lnTo>
                          <a:lnTo>
                            <a:pt x="15350" y="8862"/>
                          </a:lnTo>
                          <a:lnTo>
                            <a:pt x="15301" y="9264"/>
                          </a:lnTo>
                          <a:lnTo>
                            <a:pt x="15234" y="9660"/>
                          </a:lnTo>
                          <a:lnTo>
                            <a:pt x="15147" y="10050"/>
                          </a:lnTo>
                          <a:lnTo>
                            <a:pt x="15044" y="10431"/>
                          </a:lnTo>
                          <a:lnTo>
                            <a:pt x="14923" y="10805"/>
                          </a:lnTo>
                          <a:lnTo>
                            <a:pt x="14785" y="11170"/>
                          </a:lnTo>
                          <a:lnTo>
                            <a:pt x="14631" y="11525"/>
                          </a:lnTo>
                          <a:lnTo>
                            <a:pt x="14461" y="11872"/>
                          </a:lnTo>
                          <a:lnTo>
                            <a:pt x="14276" y="12210"/>
                          </a:lnTo>
                          <a:lnTo>
                            <a:pt x="14076" y="12535"/>
                          </a:lnTo>
                          <a:lnTo>
                            <a:pt x="13861" y="12851"/>
                          </a:lnTo>
                          <a:lnTo>
                            <a:pt x="13633" y="13154"/>
                          </a:lnTo>
                          <a:lnTo>
                            <a:pt x="13391" y="13446"/>
                          </a:lnTo>
                          <a:lnTo>
                            <a:pt x="13136" y="13725"/>
                          </a:lnTo>
                          <a:lnTo>
                            <a:pt x="12869" y="13992"/>
                          </a:lnTo>
                          <a:lnTo>
                            <a:pt x="12589" y="14244"/>
                          </a:lnTo>
                          <a:lnTo>
                            <a:pt x="12299" y="14483"/>
                          </a:lnTo>
                          <a:lnTo>
                            <a:pt x="11998" y="14707"/>
                          </a:lnTo>
                          <a:lnTo>
                            <a:pt x="11685" y="14916"/>
                          </a:lnTo>
                          <a:lnTo>
                            <a:pt x="11363" y="15110"/>
                          </a:lnTo>
                          <a:lnTo>
                            <a:pt x="11031" y="15287"/>
                          </a:lnTo>
                          <a:lnTo>
                            <a:pt x="10691" y="15448"/>
                          </a:lnTo>
                          <a:lnTo>
                            <a:pt x="10341" y="15593"/>
                          </a:lnTo>
                          <a:lnTo>
                            <a:pt x="9983" y="15718"/>
                          </a:lnTo>
                          <a:lnTo>
                            <a:pt x="9618" y="15827"/>
                          </a:lnTo>
                          <a:lnTo>
                            <a:pt x="9246" y="15917"/>
                          </a:lnTo>
                          <a:lnTo>
                            <a:pt x="8867" y="15988"/>
                          </a:lnTo>
                          <a:lnTo>
                            <a:pt x="8482" y="16039"/>
                          </a:lnTo>
                          <a:lnTo>
                            <a:pt x="8091" y="16070"/>
                          </a:lnTo>
                          <a:lnTo>
                            <a:pt x="7696" y="16080"/>
                          </a:lnTo>
                          <a:lnTo>
                            <a:pt x="7299" y="16070"/>
                          </a:lnTo>
                          <a:lnTo>
                            <a:pt x="6908" y="16039"/>
                          </a:lnTo>
                          <a:lnTo>
                            <a:pt x="6523" y="15988"/>
                          </a:lnTo>
                          <a:lnTo>
                            <a:pt x="6144" y="15917"/>
                          </a:lnTo>
                          <a:lnTo>
                            <a:pt x="5772" y="15827"/>
                          </a:lnTo>
                          <a:lnTo>
                            <a:pt x="5407" y="15718"/>
                          </a:lnTo>
                          <a:lnTo>
                            <a:pt x="5049" y="15593"/>
                          </a:lnTo>
                          <a:lnTo>
                            <a:pt x="4699" y="15448"/>
                          </a:lnTo>
                          <a:lnTo>
                            <a:pt x="4358" y="15287"/>
                          </a:lnTo>
                          <a:lnTo>
                            <a:pt x="4027" y="15110"/>
                          </a:lnTo>
                          <a:lnTo>
                            <a:pt x="3704" y="14916"/>
                          </a:lnTo>
                          <a:lnTo>
                            <a:pt x="3392" y="14707"/>
                          </a:lnTo>
                          <a:lnTo>
                            <a:pt x="3090" y="14483"/>
                          </a:lnTo>
                          <a:lnTo>
                            <a:pt x="2801" y="14244"/>
                          </a:lnTo>
                          <a:lnTo>
                            <a:pt x="2521" y="13992"/>
                          </a:lnTo>
                          <a:lnTo>
                            <a:pt x="2254" y="13725"/>
                          </a:lnTo>
                          <a:lnTo>
                            <a:pt x="1999" y="13446"/>
                          </a:lnTo>
                          <a:lnTo>
                            <a:pt x="1757" y="13154"/>
                          </a:lnTo>
                          <a:lnTo>
                            <a:pt x="1529" y="12851"/>
                          </a:lnTo>
                          <a:lnTo>
                            <a:pt x="1314" y="12535"/>
                          </a:lnTo>
                          <a:lnTo>
                            <a:pt x="1113" y="12210"/>
                          </a:lnTo>
                          <a:lnTo>
                            <a:pt x="929" y="11872"/>
                          </a:lnTo>
                          <a:lnTo>
                            <a:pt x="758" y="11525"/>
                          </a:lnTo>
                          <a:lnTo>
                            <a:pt x="605" y="11170"/>
                          </a:lnTo>
                          <a:lnTo>
                            <a:pt x="466" y="10805"/>
                          </a:lnTo>
                          <a:lnTo>
                            <a:pt x="346" y="10431"/>
                          </a:lnTo>
                          <a:lnTo>
                            <a:pt x="242" y="10050"/>
                          </a:lnTo>
                          <a:lnTo>
                            <a:pt x="156" y="9660"/>
                          </a:lnTo>
                          <a:lnTo>
                            <a:pt x="88" y="9264"/>
                          </a:lnTo>
                          <a:lnTo>
                            <a:pt x="40" y="8862"/>
                          </a:lnTo>
                          <a:lnTo>
                            <a:pt x="10" y="8454"/>
                          </a:lnTo>
                          <a:lnTo>
                            <a:pt x="0" y="804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99ff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  <a:ln w="0">
                      <a:noFill/>
                    </a:ln>
                    <a:effectLst>
                      <a:outerShdw dist="28496" dir="1574480" blurRad="0" rotWithShape="0">
                        <a:srgbClr val="00e4a8">
                          <a:alpha val="50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3604320" y="5592240"/>
                      <a:ext cx="914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13" h="181">
                          <a:moveTo>
                            <a:pt x="4556" y="0"/>
                          </a:moveTo>
                          <a:lnTo>
                            <a:pt x="294" y="19"/>
                          </a:lnTo>
                          <a:lnTo>
                            <a:pt x="0" y="181"/>
                          </a:lnTo>
                          <a:lnTo>
                            <a:pt x="4713" y="161"/>
                          </a:lnTo>
                          <a:lnTo>
                            <a:pt x="455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3475800" y="5590440"/>
                      <a:ext cx="28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330">
                          <a:moveTo>
                            <a:pt x="155" y="169"/>
                          </a:moveTo>
                          <a:lnTo>
                            <a:pt x="155" y="148"/>
                          </a:lnTo>
                          <a:lnTo>
                            <a:pt x="156" y="127"/>
                          </a:lnTo>
                          <a:lnTo>
                            <a:pt x="156" y="106"/>
                          </a:lnTo>
                          <a:lnTo>
                            <a:pt x="157" y="85"/>
                          </a:lnTo>
                          <a:lnTo>
                            <a:pt x="158" y="64"/>
                          </a:lnTo>
                          <a:lnTo>
                            <a:pt x="158" y="43"/>
                          </a:lnTo>
                          <a:lnTo>
                            <a:pt x="159" y="22"/>
                          </a:lnTo>
                          <a:lnTo>
                            <a:pt x="160" y="0"/>
                          </a:lnTo>
                          <a:lnTo>
                            <a:pt x="7" y="128"/>
                          </a:lnTo>
                          <a:lnTo>
                            <a:pt x="6" y="153"/>
                          </a:lnTo>
                          <a:lnTo>
                            <a:pt x="5" y="178"/>
                          </a:lnTo>
                          <a:lnTo>
                            <a:pt x="4" y="203"/>
                          </a:lnTo>
                          <a:lnTo>
                            <a:pt x="3" y="229"/>
                          </a:lnTo>
                          <a:lnTo>
                            <a:pt x="2" y="255"/>
                          </a:lnTo>
                          <a:lnTo>
                            <a:pt x="1" y="280"/>
                          </a:lnTo>
                          <a:lnTo>
                            <a:pt x="1" y="305"/>
                          </a:lnTo>
                          <a:lnTo>
                            <a:pt x="0" y="330"/>
                          </a:lnTo>
                          <a:lnTo>
                            <a:pt x="155" y="169"/>
                          </a:lnTo>
                          <a:close/>
                        </a:path>
                      </a:pathLst>
                    </a:custGeom>
                    <a:solidFill>
                      <a:srgbClr val="f5f5f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3475800" y="5587920"/>
                      <a:ext cx="28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97">
                          <a:moveTo>
                            <a:pt x="153" y="169"/>
                          </a:moveTo>
                          <a:lnTo>
                            <a:pt x="155" y="148"/>
                          </a:lnTo>
                          <a:lnTo>
                            <a:pt x="156" y="127"/>
                          </a:lnTo>
                          <a:lnTo>
                            <a:pt x="157" y="106"/>
                          </a:lnTo>
                          <a:lnTo>
                            <a:pt x="159" y="85"/>
                          </a:lnTo>
                          <a:lnTo>
                            <a:pt x="160" y="64"/>
                          </a:lnTo>
                          <a:lnTo>
                            <a:pt x="162" y="43"/>
                          </a:lnTo>
                          <a:lnTo>
                            <a:pt x="163" y="21"/>
                          </a:lnTo>
                          <a:lnTo>
                            <a:pt x="165" y="0"/>
                          </a:lnTo>
                          <a:lnTo>
                            <a:pt x="11" y="98"/>
                          </a:lnTo>
                          <a:lnTo>
                            <a:pt x="9" y="123"/>
                          </a:lnTo>
                          <a:lnTo>
                            <a:pt x="8" y="147"/>
                          </a:lnTo>
                          <a:lnTo>
                            <a:pt x="6" y="172"/>
                          </a:lnTo>
                          <a:lnTo>
                            <a:pt x="5" y="198"/>
                          </a:lnTo>
                          <a:lnTo>
                            <a:pt x="3" y="222"/>
                          </a:lnTo>
                          <a:lnTo>
                            <a:pt x="2" y="247"/>
                          </a:lnTo>
                          <a:lnTo>
                            <a:pt x="1" y="272"/>
                          </a:lnTo>
                          <a:lnTo>
                            <a:pt x="0" y="297"/>
                          </a:lnTo>
                          <a:lnTo>
                            <a:pt x="153" y="169"/>
                          </a:lnTo>
                          <a:close/>
                        </a:path>
                      </a:pathLst>
                    </a:custGeom>
                    <a:solidFill>
                      <a:srgbClr val="f6f6f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3475800" y="5585400"/>
                      <a:ext cx="3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266">
                          <a:moveTo>
                            <a:pt x="154" y="168"/>
                          </a:moveTo>
                          <a:lnTo>
                            <a:pt x="156" y="146"/>
                          </a:lnTo>
                          <a:lnTo>
                            <a:pt x="157" y="125"/>
                          </a:lnTo>
                          <a:lnTo>
                            <a:pt x="159" y="105"/>
                          </a:lnTo>
                          <a:lnTo>
                            <a:pt x="161" y="83"/>
                          </a:lnTo>
                          <a:lnTo>
                            <a:pt x="163" y="63"/>
                          </a:lnTo>
                          <a:lnTo>
                            <a:pt x="165" y="42"/>
                          </a:lnTo>
                          <a:lnTo>
                            <a:pt x="167" y="21"/>
                          </a:lnTo>
                          <a:lnTo>
                            <a:pt x="169" y="0"/>
                          </a:lnTo>
                          <a:lnTo>
                            <a:pt x="17" y="70"/>
                          </a:lnTo>
                          <a:lnTo>
                            <a:pt x="15" y="94"/>
                          </a:lnTo>
                          <a:lnTo>
                            <a:pt x="12" y="118"/>
                          </a:lnTo>
                          <a:lnTo>
                            <a:pt x="10" y="143"/>
                          </a:lnTo>
                          <a:lnTo>
                            <a:pt x="8" y="168"/>
                          </a:lnTo>
                          <a:lnTo>
                            <a:pt x="6" y="193"/>
                          </a:lnTo>
                          <a:lnTo>
                            <a:pt x="4" y="217"/>
                          </a:lnTo>
                          <a:lnTo>
                            <a:pt x="2" y="242"/>
                          </a:lnTo>
                          <a:lnTo>
                            <a:pt x="0" y="266"/>
                          </a:lnTo>
                          <a:lnTo>
                            <a:pt x="154" y="168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3477240" y="558360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240">
                          <a:moveTo>
                            <a:pt x="152" y="170"/>
                          </a:moveTo>
                          <a:lnTo>
                            <a:pt x="154" y="149"/>
                          </a:lnTo>
                          <a:lnTo>
                            <a:pt x="157" y="128"/>
                          </a:lnTo>
                          <a:lnTo>
                            <a:pt x="159" y="106"/>
                          </a:lnTo>
                          <a:lnTo>
                            <a:pt x="162" y="85"/>
                          </a:lnTo>
                          <a:lnTo>
                            <a:pt x="165" y="64"/>
                          </a:lnTo>
                          <a:lnTo>
                            <a:pt x="167" y="42"/>
                          </a:lnTo>
                          <a:lnTo>
                            <a:pt x="170" y="21"/>
                          </a:lnTo>
                          <a:lnTo>
                            <a:pt x="173" y="0"/>
                          </a:lnTo>
                          <a:lnTo>
                            <a:pt x="22" y="46"/>
                          </a:lnTo>
                          <a:lnTo>
                            <a:pt x="19" y="70"/>
                          </a:lnTo>
                          <a:lnTo>
                            <a:pt x="16" y="94"/>
                          </a:lnTo>
                          <a:lnTo>
                            <a:pt x="13" y="118"/>
                          </a:lnTo>
                          <a:lnTo>
                            <a:pt x="10" y="143"/>
                          </a:lnTo>
                          <a:lnTo>
                            <a:pt x="8" y="167"/>
                          </a:lnTo>
                          <a:lnTo>
                            <a:pt x="5" y="191"/>
                          </a:lnTo>
                          <a:lnTo>
                            <a:pt x="2" y="215"/>
                          </a:lnTo>
                          <a:lnTo>
                            <a:pt x="0" y="240"/>
                          </a:lnTo>
                          <a:lnTo>
                            <a:pt x="152" y="170"/>
                          </a:lnTo>
                          <a:close/>
                        </a:path>
                      </a:pathLst>
                    </a:cu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3477240" y="5577480"/>
                      <a:ext cx="3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383">
                          <a:moveTo>
                            <a:pt x="151" y="337"/>
                          </a:moveTo>
                          <a:lnTo>
                            <a:pt x="154" y="316"/>
                          </a:lnTo>
                          <a:lnTo>
                            <a:pt x="157" y="295"/>
                          </a:lnTo>
                          <a:lnTo>
                            <a:pt x="161" y="274"/>
                          </a:lnTo>
                          <a:lnTo>
                            <a:pt x="164" y="252"/>
                          </a:lnTo>
                          <a:lnTo>
                            <a:pt x="167" y="231"/>
                          </a:lnTo>
                          <a:lnTo>
                            <a:pt x="171" y="210"/>
                          </a:lnTo>
                          <a:lnTo>
                            <a:pt x="174" y="189"/>
                          </a:lnTo>
                          <a:lnTo>
                            <a:pt x="178" y="168"/>
                          </a:lnTo>
                          <a:lnTo>
                            <a:pt x="179" y="163"/>
                          </a:lnTo>
                          <a:lnTo>
                            <a:pt x="181" y="150"/>
                          </a:lnTo>
                          <a:lnTo>
                            <a:pt x="185" y="130"/>
                          </a:lnTo>
                          <a:lnTo>
                            <a:pt x="190" y="106"/>
                          </a:lnTo>
                          <a:lnTo>
                            <a:pt x="195" y="79"/>
                          </a:lnTo>
                          <a:lnTo>
                            <a:pt x="200" y="50"/>
                          </a:lnTo>
                          <a:lnTo>
                            <a:pt x="205" y="24"/>
                          </a:lnTo>
                          <a:lnTo>
                            <a:pt x="210" y="0"/>
                          </a:lnTo>
                          <a:lnTo>
                            <a:pt x="62" y="7"/>
                          </a:lnTo>
                          <a:lnTo>
                            <a:pt x="56" y="32"/>
                          </a:lnTo>
                          <a:lnTo>
                            <a:pt x="51" y="62"/>
                          </a:lnTo>
                          <a:lnTo>
                            <a:pt x="45" y="93"/>
                          </a:lnTo>
                          <a:lnTo>
                            <a:pt x="40" y="123"/>
                          </a:lnTo>
                          <a:lnTo>
                            <a:pt x="35" y="151"/>
                          </a:lnTo>
                          <a:lnTo>
                            <a:pt x="31" y="173"/>
                          </a:lnTo>
                          <a:lnTo>
                            <a:pt x="29" y="188"/>
                          </a:lnTo>
                          <a:lnTo>
                            <a:pt x="28" y="193"/>
                          </a:lnTo>
                          <a:lnTo>
                            <a:pt x="24" y="217"/>
                          </a:lnTo>
                          <a:lnTo>
                            <a:pt x="20" y="240"/>
                          </a:lnTo>
                          <a:lnTo>
                            <a:pt x="17" y="265"/>
                          </a:lnTo>
                          <a:lnTo>
                            <a:pt x="13" y="289"/>
                          </a:lnTo>
                          <a:lnTo>
                            <a:pt x="10" y="312"/>
                          </a:lnTo>
                          <a:lnTo>
                            <a:pt x="7" y="336"/>
                          </a:lnTo>
                          <a:lnTo>
                            <a:pt x="3" y="360"/>
                          </a:lnTo>
                          <a:lnTo>
                            <a:pt x="0" y="383"/>
                          </a:lnTo>
                          <a:lnTo>
                            <a:pt x="151" y="337"/>
                          </a:lnTo>
                          <a:close/>
                        </a:path>
                      </a:pathLst>
                    </a:custGeom>
                    <a:solidFill>
                      <a:srgbClr val="f9f9f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3479040" y="557496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85">
                          <a:moveTo>
                            <a:pt x="148" y="178"/>
                          </a:moveTo>
                          <a:lnTo>
                            <a:pt x="152" y="157"/>
                          </a:lnTo>
                          <a:lnTo>
                            <a:pt x="157" y="136"/>
                          </a:lnTo>
                          <a:lnTo>
                            <a:pt x="161" y="116"/>
                          </a:lnTo>
                          <a:lnTo>
                            <a:pt x="166" y="95"/>
                          </a:lnTo>
                          <a:lnTo>
                            <a:pt x="171" y="74"/>
                          </a:lnTo>
                          <a:lnTo>
                            <a:pt x="175" y="53"/>
                          </a:lnTo>
                          <a:lnTo>
                            <a:pt x="180" y="31"/>
                          </a:lnTo>
                          <a:lnTo>
                            <a:pt x="185" y="10"/>
                          </a:lnTo>
                          <a:lnTo>
                            <a:pt x="39" y="0"/>
                          </a:lnTo>
                          <a:lnTo>
                            <a:pt x="34" y="23"/>
                          </a:lnTo>
                          <a:lnTo>
                            <a:pt x="29" y="46"/>
                          </a:lnTo>
                          <a:lnTo>
                            <a:pt x="23" y="69"/>
                          </a:lnTo>
                          <a:lnTo>
                            <a:pt x="18" y="92"/>
                          </a:lnTo>
                          <a:lnTo>
                            <a:pt x="13" y="115"/>
                          </a:lnTo>
                          <a:lnTo>
                            <a:pt x="8" y="138"/>
                          </a:lnTo>
                          <a:lnTo>
                            <a:pt x="4" y="161"/>
                          </a:lnTo>
                          <a:lnTo>
                            <a:pt x="0" y="185"/>
                          </a:lnTo>
                          <a:lnTo>
                            <a:pt x="148" y="178"/>
                          </a:lnTo>
                          <a:close/>
                        </a:path>
                      </a:pathLst>
                    </a:custGeom>
                    <a:solidFill>
                      <a:srgbClr val="fafaf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3479040" y="556956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" h="369">
                          <a:moveTo>
                            <a:pt x="146" y="369"/>
                          </a:moveTo>
                          <a:lnTo>
                            <a:pt x="151" y="349"/>
                          </a:lnTo>
                          <a:lnTo>
                            <a:pt x="156" y="328"/>
                          </a:lnTo>
                          <a:lnTo>
                            <a:pt x="161" y="307"/>
                          </a:lnTo>
                          <a:lnTo>
                            <a:pt x="167" y="286"/>
                          </a:lnTo>
                          <a:lnTo>
                            <a:pt x="172" y="266"/>
                          </a:lnTo>
                          <a:lnTo>
                            <a:pt x="178" y="245"/>
                          </a:lnTo>
                          <a:lnTo>
                            <a:pt x="183" y="224"/>
                          </a:lnTo>
                          <a:lnTo>
                            <a:pt x="189" y="203"/>
                          </a:lnTo>
                          <a:lnTo>
                            <a:pt x="190" y="199"/>
                          </a:lnTo>
                          <a:lnTo>
                            <a:pt x="194" y="184"/>
                          </a:lnTo>
                          <a:lnTo>
                            <a:pt x="199" y="165"/>
                          </a:lnTo>
                          <a:lnTo>
                            <a:pt x="206" y="140"/>
                          </a:lnTo>
                          <a:lnTo>
                            <a:pt x="214" y="113"/>
                          </a:lnTo>
                          <a:lnTo>
                            <a:pt x="222" y="86"/>
                          </a:lnTo>
                          <a:lnTo>
                            <a:pt x="230" y="59"/>
                          </a:lnTo>
                          <a:lnTo>
                            <a:pt x="238" y="36"/>
                          </a:lnTo>
                          <a:lnTo>
                            <a:pt x="94" y="0"/>
                          </a:lnTo>
                          <a:lnTo>
                            <a:pt x="86" y="25"/>
                          </a:lnTo>
                          <a:lnTo>
                            <a:pt x="79" y="53"/>
                          </a:lnTo>
                          <a:lnTo>
                            <a:pt x="70" y="82"/>
                          </a:lnTo>
                          <a:lnTo>
                            <a:pt x="62" y="111"/>
                          </a:lnTo>
                          <a:lnTo>
                            <a:pt x="55" y="137"/>
                          </a:lnTo>
                          <a:lnTo>
                            <a:pt x="49" y="158"/>
                          </a:lnTo>
                          <a:lnTo>
                            <a:pt x="45" y="172"/>
                          </a:lnTo>
                          <a:lnTo>
                            <a:pt x="44" y="178"/>
                          </a:lnTo>
                          <a:lnTo>
                            <a:pt x="38" y="201"/>
                          </a:lnTo>
                          <a:lnTo>
                            <a:pt x="33" y="223"/>
                          </a:lnTo>
                          <a:lnTo>
                            <a:pt x="27" y="246"/>
                          </a:lnTo>
                          <a:lnTo>
                            <a:pt x="22" y="268"/>
                          </a:lnTo>
                          <a:lnTo>
                            <a:pt x="16" y="291"/>
                          </a:lnTo>
                          <a:lnTo>
                            <a:pt x="10" y="314"/>
                          </a:lnTo>
                          <a:lnTo>
                            <a:pt x="5" y="336"/>
                          </a:lnTo>
                          <a:lnTo>
                            <a:pt x="0" y="359"/>
                          </a:lnTo>
                          <a:lnTo>
                            <a:pt x="146" y="369"/>
                          </a:lnTo>
                          <a:close/>
                        </a:path>
                      </a:pathLst>
                    </a:cu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3480840" y="556452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7" h="386">
                          <a:moveTo>
                            <a:pt x="144" y="386"/>
                          </a:moveTo>
                          <a:lnTo>
                            <a:pt x="150" y="366"/>
                          </a:lnTo>
                          <a:lnTo>
                            <a:pt x="156" y="345"/>
                          </a:lnTo>
                          <a:lnTo>
                            <a:pt x="163" y="324"/>
                          </a:lnTo>
                          <a:lnTo>
                            <a:pt x="170" y="303"/>
                          </a:lnTo>
                          <a:lnTo>
                            <a:pt x="176" y="283"/>
                          </a:lnTo>
                          <a:lnTo>
                            <a:pt x="183" y="262"/>
                          </a:lnTo>
                          <a:lnTo>
                            <a:pt x="190" y="242"/>
                          </a:lnTo>
                          <a:lnTo>
                            <a:pt x="197" y="221"/>
                          </a:lnTo>
                          <a:lnTo>
                            <a:pt x="198" y="216"/>
                          </a:lnTo>
                          <a:lnTo>
                            <a:pt x="203" y="203"/>
                          </a:lnTo>
                          <a:lnTo>
                            <a:pt x="210" y="184"/>
                          </a:lnTo>
                          <a:lnTo>
                            <a:pt x="219" y="160"/>
                          </a:lnTo>
                          <a:lnTo>
                            <a:pt x="229" y="132"/>
                          </a:lnTo>
                          <a:lnTo>
                            <a:pt x="239" y="105"/>
                          </a:lnTo>
                          <a:lnTo>
                            <a:pt x="249" y="80"/>
                          </a:lnTo>
                          <a:lnTo>
                            <a:pt x="257" y="57"/>
                          </a:lnTo>
                          <a:lnTo>
                            <a:pt x="116" y="0"/>
                          </a:lnTo>
                          <a:lnTo>
                            <a:pt x="107" y="24"/>
                          </a:lnTo>
                          <a:lnTo>
                            <a:pt x="97" y="51"/>
                          </a:lnTo>
                          <a:lnTo>
                            <a:pt x="87" y="80"/>
                          </a:lnTo>
                          <a:lnTo>
                            <a:pt x="77" y="108"/>
                          </a:lnTo>
                          <a:lnTo>
                            <a:pt x="69" y="133"/>
                          </a:lnTo>
                          <a:lnTo>
                            <a:pt x="61" y="154"/>
                          </a:lnTo>
                          <a:lnTo>
                            <a:pt x="57" y="168"/>
                          </a:lnTo>
                          <a:lnTo>
                            <a:pt x="55" y="173"/>
                          </a:lnTo>
                          <a:lnTo>
                            <a:pt x="48" y="195"/>
                          </a:lnTo>
                          <a:lnTo>
                            <a:pt x="41" y="217"/>
                          </a:lnTo>
                          <a:lnTo>
                            <a:pt x="34" y="239"/>
                          </a:lnTo>
                          <a:lnTo>
                            <a:pt x="27" y="261"/>
                          </a:lnTo>
                          <a:lnTo>
                            <a:pt x="20" y="283"/>
                          </a:lnTo>
                          <a:lnTo>
                            <a:pt x="13" y="305"/>
                          </a:lnTo>
                          <a:lnTo>
                            <a:pt x="6" y="327"/>
                          </a:lnTo>
                          <a:lnTo>
                            <a:pt x="0" y="350"/>
                          </a:lnTo>
                          <a:lnTo>
                            <a:pt x="144" y="386"/>
                          </a:lnTo>
                          <a:close/>
                        </a:path>
                      </a:pathLst>
                    </a:custGeom>
                    <a:solidFill>
                      <a:srgbClr val="fcfcf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3483000" y="5558040"/>
                      <a:ext cx="504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6" h="396">
                          <a:moveTo>
                            <a:pt x="141" y="396"/>
                          </a:moveTo>
                          <a:lnTo>
                            <a:pt x="149" y="375"/>
                          </a:lnTo>
                          <a:lnTo>
                            <a:pt x="157" y="355"/>
                          </a:lnTo>
                          <a:lnTo>
                            <a:pt x="165" y="335"/>
                          </a:lnTo>
                          <a:lnTo>
                            <a:pt x="173" y="314"/>
                          </a:lnTo>
                          <a:lnTo>
                            <a:pt x="180" y="294"/>
                          </a:lnTo>
                          <a:lnTo>
                            <a:pt x="189" y="273"/>
                          </a:lnTo>
                          <a:lnTo>
                            <a:pt x="197" y="253"/>
                          </a:lnTo>
                          <a:lnTo>
                            <a:pt x="205" y="232"/>
                          </a:lnTo>
                          <a:lnTo>
                            <a:pt x="207" y="228"/>
                          </a:lnTo>
                          <a:lnTo>
                            <a:pt x="213" y="215"/>
                          </a:lnTo>
                          <a:lnTo>
                            <a:pt x="221" y="196"/>
                          </a:lnTo>
                          <a:lnTo>
                            <a:pt x="231" y="172"/>
                          </a:lnTo>
                          <a:lnTo>
                            <a:pt x="243" y="146"/>
                          </a:lnTo>
                          <a:lnTo>
                            <a:pt x="255" y="119"/>
                          </a:lnTo>
                          <a:lnTo>
                            <a:pt x="266" y="93"/>
                          </a:lnTo>
                          <a:lnTo>
                            <a:pt x="276" y="70"/>
                          </a:lnTo>
                          <a:lnTo>
                            <a:pt x="140" y="0"/>
                          </a:lnTo>
                          <a:lnTo>
                            <a:pt x="129" y="23"/>
                          </a:lnTo>
                          <a:lnTo>
                            <a:pt x="118" y="50"/>
                          </a:lnTo>
                          <a:lnTo>
                            <a:pt x="106" y="79"/>
                          </a:lnTo>
                          <a:lnTo>
                            <a:pt x="93" y="106"/>
                          </a:lnTo>
                          <a:lnTo>
                            <a:pt x="83" y="130"/>
                          </a:lnTo>
                          <a:lnTo>
                            <a:pt x="74" y="150"/>
                          </a:lnTo>
                          <a:lnTo>
                            <a:pt x="69" y="164"/>
                          </a:lnTo>
                          <a:lnTo>
                            <a:pt x="67" y="169"/>
                          </a:lnTo>
                          <a:lnTo>
                            <a:pt x="58" y="190"/>
                          </a:lnTo>
                          <a:lnTo>
                            <a:pt x="49" y="211"/>
                          </a:lnTo>
                          <a:lnTo>
                            <a:pt x="41" y="232"/>
                          </a:lnTo>
                          <a:lnTo>
                            <a:pt x="33" y="253"/>
                          </a:lnTo>
                          <a:lnTo>
                            <a:pt x="24" y="274"/>
                          </a:lnTo>
                          <a:lnTo>
                            <a:pt x="16" y="297"/>
                          </a:lnTo>
                          <a:lnTo>
                            <a:pt x="8" y="318"/>
                          </a:lnTo>
                          <a:lnTo>
                            <a:pt x="0" y="339"/>
                          </a:lnTo>
                          <a:lnTo>
                            <a:pt x="141" y="396"/>
                          </a:lnTo>
                          <a:close/>
                        </a:path>
                      </a:pathLst>
                    </a:custGeom>
                    <a:solidFill>
                      <a:srgbClr val="fdfd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3486240" y="5551200"/>
                      <a:ext cx="684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1" h="559">
                          <a:moveTo>
                            <a:pt x="136" y="559"/>
                          </a:moveTo>
                          <a:lnTo>
                            <a:pt x="145" y="539"/>
                          </a:lnTo>
                          <a:lnTo>
                            <a:pt x="154" y="519"/>
                          </a:lnTo>
                          <a:lnTo>
                            <a:pt x="163" y="499"/>
                          </a:lnTo>
                          <a:lnTo>
                            <a:pt x="173" y="479"/>
                          </a:lnTo>
                          <a:lnTo>
                            <a:pt x="182" y="459"/>
                          </a:lnTo>
                          <a:lnTo>
                            <a:pt x="192" y="439"/>
                          </a:lnTo>
                          <a:lnTo>
                            <a:pt x="202" y="419"/>
                          </a:lnTo>
                          <a:lnTo>
                            <a:pt x="212" y="399"/>
                          </a:lnTo>
                          <a:lnTo>
                            <a:pt x="214" y="395"/>
                          </a:lnTo>
                          <a:lnTo>
                            <a:pt x="220" y="382"/>
                          </a:lnTo>
                          <a:lnTo>
                            <a:pt x="230" y="362"/>
                          </a:lnTo>
                          <a:lnTo>
                            <a:pt x="242" y="339"/>
                          </a:lnTo>
                          <a:lnTo>
                            <a:pt x="255" y="313"/>
                          </a:lnTo>
                          <a:lnTo>
                            <a:pt x="269" y="287"/>
                          </a:lnTo>
                          <a:lnTo>
                            <a:pt x="282" y="262"/>
                          </a:lnTo>
                          <a:lnTo>
                            <a:pt x="294" y="240"/>
                          </a:lnTo>
                          <a:lnTo>
                            <a:pt x="297" y="236"/>
                          </a:lnTo>
                          <a:lnTo>
                            <a:pt x="304" y="223"/>
                          </a:lnTo>
                          <a:lnTo>
                            <a:pt x="314" y="204"/>
                          </a:lnTo>
                          <a:lnTo>
                            <a:pt x="326" y="181"/>
                          </a:lnTo>
                          <a:lnTo>
                            <a:pt x="340" y="155"/>
                          </a:lnTo>
                          <a:lnTo>
                            <a:pt x="355" y="128"/>
                          </a:lnTo>
                          <a:lnTo>
                            <a:pt x="369" y="104"/>
                          </a:lnTo>
                          <a:lnTo>
                            <a:pt x="381" y="82"/>
                          </a:lnTo>
                          <a:lnTo>
                            <a:pt x="250" y="0"/>
                          </a:lnTo>
                          <a:lnTo>
                            <a:pt x="237" y="22"/>
                          </a:lnTo>
                          <a:lnTo>
                            <a:pt x="223" y="47"/>
                          </a:lnTo>
                          <a:lnTo>
                            <a:pt x="208" y="74"/>
                          </a:lnTo>
                          <a:lnTo>
                            <a:pt x="193" y="99"/>
                          </a:lnTo>
                          <a:lnTo>
                            <a:pt x="180" y="123"/>
                          </a:lnTo>
                          <a:lnTo>
                            <a:pt x="170" y="142"/>
                          </a:lnTo>
                          <a:lnTo>
                            <a:pt x="163" y="155"/>
                          </a:lnTo>
                          <a:lnTo>
                            <a:pt x="160" y="159"/>
                          </a:lnTo>
                          <a:lnTo>
                            <a:pt x="148" y="183"/>
                          </a:lnTo>
                          <a:lnTo>
                            <a:pt x="135" y="209"/>
                          </a:lnTo>
                          <a:lnTo>
                            <a:pt x="122" y="236"/>
                          </a:lnTo>
                          <a:lnTo>
                            <a:pt x="108" y="262"/>
                          </a:lnTo>
                          <a:lnTo>
                            <a:pt x="96" y="286"/>
                          </a:lnTo>
                          <a:lnTo>
                            <a:pt x="87" y="306"/>
                          </a:lnTo>
                          <a:lnTo>
                            <a:pt x="80" y="319"/>
                          </a:lnTo>
                          <a:lnTo>
                            <a:pt x="78" y="324"/>
                          </a:lnTo>
                          <a:lnTo>
                            <a:pt x="67" y="344"/>
                          </a:lnTo>
                          <a:lnTo>
                            <a:pt x="57" y="365"/>
                          </a:lnTo>
                          <a:lnTo>
                            <a:pt x="47" y="386"/>
                          </a:lnTo>
                          <a:lnTo>
                            <a:pt x="38" y="406"/>
                          </a:lnTo>
                          <a:lnTo>
                            <a:pt x="28" y="427"/>
                          </a:lnTo>
                          <a:lnTo>
                            <a:pt x="18" y="448"/>
                          </a:lnTo>
                          <a:lnTo>
                            <a:pt x="9" y="468"/>
                          </a:lnTo>
                          <a:lnTo>
                            <a:pt x="0" y="489"/>
                          </a:lnTo>
                          <a:lnTo>
                            <a:pt x="136" y="559"/>
                          </a:lnTo>
                          <a:close/>
                        </a:path>
                      </a:pathLst>
                    </a:cu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3491280" y="5533920"/>
                      <a:ext cx="183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6" h="1206">
                          <a:moveTo>
                            <a:pt x="131" y="1206"/>
                          </a:moveTo>
                          <a:lnTo>
                            <a:pt x="153" y="1169"/>
                          </a:lnTo>
                          <a:lnTo>
                            <a:pt x="175" y="1131"/>
                          </a:lnTo>
                          <a:lnTo>
                            <a:pt x="197" y="1094"/>
                          </a:lnTo>
                          <a:lnTo>
                            <a:pt x="220" y="1057"/>
                          </a:lnTo>
                          <a:lnTo>
                            <a:pt x="242" y="1020"/>
                          </a:lnTo>
                          <a:lnTo>
                            <a:pt x="266" y="984"/>
                          </a:lnTo>
                          <a:lnTo>
                            <a:pt x="289" y="948"/>
                          </a:lnTo>
                          <a:lnTo>
                            <a:pt x="312" y="912"/>
                          </a:lnTo>
                          <a:lnTo>
                            <a:pt x="318" y="904"/>
                          </a:lnTo>
                          <a:lnTo>
                            <a:pt x="333" y="881"/>
                          </a:lnTo>
                          <a:lnTo>
                            <a:pt x="357" y="847"/>
                          </a:lnTo>
                          <a:lnTo>
                            <a:pt x="386" y="806"/>
                          </a:lnTo>
                          <a:lnTo>
                            <a:pt x="418" y="761"/>
                          </a:lnTo>
                          <a:lnTo>
                            <a:pt x="450" y="715"/>
                          </a:lnTo>
                          <a:lnTo>
                            <a:pt x="482" y="671"/>
                          </a:lnTo>
                          <a:lnTo>
                            <a:pt x="510" y="633"/>
                          </a:lnTo>
                          <a:lnTo>
                            <a:pt x="516" y="626"/>
                          </a:lnTo>
                          <a:lnTo>
                            <a:pt x="532" y="604"/>
                          </a:lnTo>
                          <a:lnTo>
                            <a:pt x="557" y="573"/>
                          </a:lnTo>
                          <a:lnTo>
                            <a:pt x="588" y="534"/>
                          </a:lnTo>
                          <a:lnTo>
                            <a:pt x="622" y="492"/>
                          </a:lnTo>
                          <a:lnTo>
                            <a:pt x="657" y="447"/>
                          </a:lnTo>
                          <a:lnTo>
                            <a:pt x="691" y="406"/>
                          </a:lnTo>
                          <a:lnTo>
                            <a:pt x="722" y="370"/>
                          </a:lnTo>
                          <a:lnTo>
                            <a:pt x="728" y="363"/>
                          </a:lnTo>
                          <a:lnTo>
                            <a:pt x="746" y="343"/>
                          </a:lnTo>
                          <a:lnTo>
                            <a:pt x="772" y="314"/>
                          </a:lnTo>
                          <a:lnTo>
                            <a:pt x="805" y="276"/>
                          </a:lnTo>
                          <a:lnTo>
                            <a:pt x="841" y="237"/>
                          </a:lnTo>
                          <a:lnTo>
                            <a:pt x="879" y="196"/>
                          </a:lnTo>
                          <a:lnTo>
                            <a:pt x="914" y="157"/>
                          </a:lnTo>
                          <a:lnTo>
                            <a:pt x="946" y="124"/>
                          </a:lnTo>
                          <a:lnTo>
                            <a:pt x="857" y="0"/>
                          </a:lnTo>
                          <a:lnTo>
                            <a:pt x="822" y="36"/>
                          </a:lnTo>
                          <a:lnTo>
                            <a:pt x="784" y="76"/>
                          </a:lnTo>
                          <a:lnTo>
                            <a:pt x="744" y="121"/>
                          </a:lnTo>
                          <a:lnTo>
                            <a:pt x="705" y="163"/>
                          </a:lnTo>
                          <a:lnTo>
                            <a:pt x="669" y="201"/>
                          </a:lnTo>
                          <a:lnTo>
                            <a:pt x="640" y="232"/>
                          </a:lnTo>
                          <a:lnTo>
                            <a:pt x="621" y="253"/>
                          </a:lnTo>
                          <a:lnTo>
                            <a:pt x="614" y="261"/>
                          </a:lnTo>
                          <a:lnTo>
                            <a:pt x="582" y="299"/>
                          </a:lnTo>
                          <a:lnTo>
                            <a:pt x="547" y="342"/>
                          </a:lnTo>
                          <a:lnTo>
                            <a:pt x="510" y="387"/>
                          </a:lnTo>
                          <a:lnTo>
                            <a:pt x="474" y="432"/>
                          </a:lnTo>
                          <a:lnTo>
                            <a:pt x="442" y="472"/>
                          </a:lnTo>
                          <a:lnTo>
                            <a:pt x="415" y="506"/>
                          </a:lnTo>
                          <a:lnTo>
                            <a:pt x="398" y="528"/>
                          </a:lnTo>
                          <a:lnTo>
                            <a:pt x="391" y="536"/>
                          </a:lnTo>
                          <a:lnTo>
                            <a:pt x="361" y="575"/>
                          </a:lnTo>
                          <a:lnTo>
                            <a:pt x="329" y="620"/>
                          </a:lnTo>
                          <a:lnTo>
                            <a:pt x="295" y="667"/>
                          </a:lnTo>
                          <a:lnTo>
                            <a:pt x="262" y="715"/>
                          </a:lnTo>
                          <a:lnTo>
                            <a:pt x="232" y="757"/>
                          </a:lnTo>
                          <a:lnTo>
                            <a:pt x="208" y="791"/>
                          </a:lnTo>
                          <a:lnTo>
                            <a:pt x="192" y="814"/>
                          </a:lnTo>
                          <a:lnTo>
                            <a:pt x="186" y="822"/>
                          </a:lnTo>
                          <a:lnTo>
                            <a:pt x="162" y="859"/>
                          </a:lnTo>
                          <a:lnTo>
                            <a:pt x="138" y="897"/>
                          </a:lnTo>
                          <a:lnTo>
                            <a:pt x="114" y="934"/>
                          </a:lnTo>
                          <a:lnTo>
                            <a:pt x="91" y="971"/>
                          </a:lnTo>
                          <a:lnTo>
                            <a:pt x="68" y="1009"/>
                          </a:lnTo>
                          <a:lnTo>
                            <a:pt x="45" y="1046"/>
                          </a:lnTo>
                          <a:lnTo>
                            <a:pt x="22" y="1084"/>
                          </a:lnTo>
                          <a:lnTo>
                            <a:pt x="0" y="1124"/>
                          </a:lnTo>
                          <a:lnTo>
                            <a:pt x="131" y="1206"/>
                          </a:lnTo>
                          <a:close/>
                        </a:path>
                      </a:pathLst>
                    </a:cu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3507480" y="5529600"/>
                      <a:ext cx="612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7" h="373">
                          <a:moveTo>
                            <a:pt x="89" y="373"/>
                          </a:moveTo>
                          <a:lnTo>
                            <a:pt x="118" y="343"/>
                          </a:lnTo>
                          <a:lnTo>
                            <a:pt x="147" y="313"/>
                          </a:lnTo>
                          <a:lnTo>
                            <a:pt x="177" y="284"/>
                          </a:lnTo>
                          <a:lnTo>
                            <a:pt x="207" y="255"/>
                          </a:lnTo>
                          <a:lnTo>
                            <a:pt x="237" y="227"/>
                          </a:lnTo>
                          <a:lnTo>
                            <a:pt x="267" y="198"/>
                          </a:lnTo>
                          <a:lnTo>
                            <a:pt x="297" y="170"/>
                          </a:lnTo>
                          <a:lnTo>
                            <a:pt x="327" y="143"/>
                          </a:lnTo>
                          <a:lnTo>
                            <a:pt x="262" y="0"/>
                          </a:lnTo>
                          <a:lnTo>
                            <a:pt x="229" y="30"/>
                          </a:lnTo>
                          <a:lnTo>
                            <a:pt x="195" y="61"/>
                          </a:lnTo>
                          <a:lnTo>
                            <a:pt x="161" y="91"/>
                          </a:lnTo>
                          <a:lnTo>
                            <a:pt x="128" y="122"/>
                          </a:lnTo>
                          <a:lnTo>
                            <a:pt x="96" y="154"/>
                          </a:lnTo>
                          <a:lnTo>
                            <a:pt x="63" y="186"/>
                          </a:lnTo>
                          <a:lnTo>
                            <a:pt x="31" y="217"/>
                          </a:lnTo>
                          <a:lnTo>
                            <a:pt x="0" y="249"/>
                          </a:lnTo>
                          <a:lnTo>
                            <a:pt x="89" y="373"/>
                          </a:lnTo>
                          <a:close/>
                        </a:path>
                      </a:pathLst>
                    </a:custGeom>
                    <a:solidFill>
                      <a:srgbClr val="fdfd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3512520" y="5526000"/>
                      <a:ext cx="61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381">
                          <a:moveTo>
                            <a:pt x="65" y="381"/>
                          </a:moveTo>
                          <a:lnTo>
                            <a:pt x="96" y="352"/>
                          </a:lnTo>
                          <a:lnTo>
                            <a:pt x="126" y="324"/>
                          </a:lnTo>
                          <a:lnTo>
                            <a:pt x="157" y="297"/>
                          </a:lnTo>
                          <a:lnTo>
                            <a:pt x="188" y="270"/>
                          </a:lnTo>
                          <a:lnTo>
                            <a:pt x="219" y="244"/>
                          </a:lnTo>
                          <a:lnTo>
                            <a:pt x="252" y="217"/>
                          </a:lnTo>
                          <a:lnTo>
                            <a:pt x="283" y="192"/>
                          </a:lnTo>
                          <a:lnTo>
                            <a:pt x="315" y="166"/>
                          </a:lnTo>
                          <a:lnTo>
                            <a:pt x="284" y="0"/>
                          </a:lnTo>
                          <a:lnTo>
                            <a:pt x="247" y="30"/>
                          </a:lnTo>
                          <a:lnTo>
                            <a:pt x="210" y="59"/>
                          </a:lnTo>
                          <a:lnTo>
                            <a:pt x="174" y="88"/>
                          </a:lnTo>
                          <a:lnTo>
                            <a:pt x="139" y="118"/>
                          </a:lnTo>
                          <a:lnTo>
                            <a:pt x="104" y="147"/>
                          </a:lnTo>
                          <a:lnTo>
                            <a:pt x="69" y="178"/>
                          </a:lnTo>
                          <a:lnTo>
                            <a:pt x="35" y="208"/>
                          </a:lnTo>
                          <a:lnTo>
                            <a:pt x="0" y="238"/>
                          </a:lnTo>
                          <a:lnTo>
                            <a:pt x="65" y="381"/>
                          </a:lnTo>
                          <a:close/>
                        </a:path>
                      </a:pathLst>
                    </a:custGeom>
                    <a:solidFill>
                      <a:srgbClr val="fcfcf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3519000" y="552240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391">
                          <a:moveTo>
                            <a:pt x="31" y="391"/>
                          </a:moveTo>
                          <a:lnTo>
                            <a:pt x="47" y="377"/>
                          </a:lnTo>
                          <a:lnTo>
                            <a:pt x="63" y="364"/>
                          </a:lnTo>
                          <a:lnTo>
                            <a:pt x="79" y="351"/>
                          </a:lnTo>
                          <a:lnTo>
                            <a:pt x="95" y="339"/>
                          </a:lnTo>
                          <a:lnTo>
                            <a:pt x="111" y="326"/>
                          </a:lnTo>
                          <a:lnTo>
                            <a:pt x="127" y="314"/>
                          </a:lnTo>
                          <a:lnTo>
                            <a:pt x="143" y="302"/>
                          </a:lnTo>
                          <a:lnTo>
                            <a:pt x="160" y="289"/>
                          </a:lnTo>
                          <a:lnTo>
                            <a:pt x="163" y="286"/>
                          </a:lnTo>
                          <a:lnTo>
                            <a:pt x="174" y="279"/>
                          </a:lnTo>
                          <a:lnTo>
                            <a:pt x="189" y="267"/>
                          </a:lnTo>
                          <a:lnTo>
                            <a:pt x="209" y="253"/>
                          </a:lnTo>
                          <a:lnTo>
                            <a:pt x="230" y="237"/>
                          </a:lnTo>
                          <a:lnTo>
                            <a:pt x="252" y="221"/>
                          </a:lnTo>
                          <a:lnTo>
                            <a:pt x="272" y="206"/>
                          </a:lnTo>
                          <a:lnTo>
                            <a:pt x="292" y="193"/>
                          </a:lnTo>
                          <a:lnTo>
                            <a:pt x="303" y="0"/>
                          </a:lnTo>
                          <a:lnTo>
                            <a:pt x="282" y="15"/>
                          </a:lnTo>
                          <a:lnTo>
                            <a:pt x="256" y="33"/>
                          </a:lnTo>
                          <a:lnTo>
                            <a:pt x="231" y="51"/>
                          </a:lnTo>
                          <a:lnTo>
                            <a:pt x="206" y="69"/>
                          </a:lnTo>
                          <a:lnTo>
                            <a:pt x="184" y="85"/>
                          </a:lnTo>
                          <a:lnTo>
                            <a:pt x="165" y="99"/>
                          </a:lnTo>
                          <a:lnTo>
                            <a:pt x="153" y="108"/>
                          </a:lnTo>
                          <a:lnTo>
                            <a:pt x="149" y="111"/>
                          </a:lnTo>
                          <a:lnTo>
                            <a:pt x="130" y="125"/>
                          </a:lnTo>
                          <a:lnTo>
                            <a:pt x="111" y="139"/>
                          </a:lnTo>
                          <a:lnTo>
                            <a:pt x="92" y="153"/>
                          </a:lnTo>
                          <a:lnTo>
                            <a:pt x="74" y="167"/>
                          </a:lnTo>
                          <a:lnTo>
                            <a:pt x="55" y="182"/>
                          </a:lnTo>
                          <a:lnTo>
                            <a:pt x="36" y="197"/>
                          </a:lnTo>
                          <a:lnTo>
                            <a:pt x="18" y="211"/>
                          </a:lnTo>
                          <a:lnTo>
                            <a:pt x="0" y="225"/>
                          </a:lnTo>
                          <a:lnTo>
                            <a:pt x="31" y="391"/>
                          </a:lnTo>
                          <a:close/>
                        </a:path>
                      </a:pathLst>
                    </a:cu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3524040" y="5518800"/>
                      <a:ext cx="68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" h="410">
                          <a:moveTo>
                            <a:pt x="0" y="410"/>
                          </a:moveTo>
                          <a:lnTo>
                            <a:pt x="17" y="397"/>
                          </a:lnTo>
                          <a:lnTo>
                            <a:pt x="33" y="385"/>
                          </a:lnTo>
                          <a:lnTo>
                            <a:pt x="50" y="374"/>
                          </a:lnTo>
                          <a:lnTo>
                            <a:pt x="66" y="362"/>
                          </a:lnTo>
                          <a:lnTo>
                            <a:pt x="83" y="351"/>
                          </a:lnTo>
                          <a:lnTo>
                            <a:pt x="100" y="339"/>
                          </a:lnTo>
                          <a:lnTo>
                            <a:pt x="116" y="328"/>
                          </a:lnTo>
                          <a:lnTo>
                            <a:pt x="133" y="316"/>
                          </a:lnTo>
                          <a:lnTo>
                            <a:pt x="137" y="314"/>
                          </a:lnTo>
                          <a:lnTo>
                            <a:pt x="148" y="307"/>
                          </a:lnTo>
                          <a:lnTo>
                            <a:pt x="164" y="296"/>
                          </a:lnTo>
                          <a:lnTo>
                            <a:pt x="184" y="283"/>
                          </a:lnTo>
                          <a:lnTo>
                            <a:pt x="206" y="269"/>
                          </a:lnTo>
                          <a:lnTo>
                            <a:pt x="229" y="254"/>
                          </a:lnTo>
                          <a:lnTo>
                            <a:pt x="251" y="240"/>
                          </a:lnTo>
                          <a:lnTo>
                            <a:pt x="270" y="228"/>
                          </a:lnTo>
                          <a:lnTo>
                            <a:pt x="336" y="0"/>
                          </a:lnTo>
                          <a:lnTo>
                            <a:pt x="313" y="16"/>
                          </a:lnTo>
                          <a:lnTo>
                            <a:pt x="286" y="32"/>
                          </a:lnTo>
                          <a:lnTo>
                            <a:pt x="258" y="50"/>
                          </a:lnTo>
                          <a:lnTo>
                            <a:pt x="232" y="67"/>
                          </a:lnTo>
                          <a:lnTo>
                            <a:pt x="208" y="83"/>
                          </a:lnTo>
                          <a:lnTo>
                            <a:pt x="188" y="95"/>
                          </a:lnTo>
                          <a:lnTo>
                            <a:pt x="175" y="104"/>
                          </a:lnTo>
                          <a:lnTo>
                            <a:pt x="170" y="107"/>
                          </a:lnTo>
                          <a:lnTo>
                            <a:pt x="150" y="120"/>
                          </a:lnTo>
                          <a:lnTo>
                            <a:pt x="130" y="134"/>
                          </a:lnTo>
                          <a:lnTo>
                            <a:pt x="110" y="148"/>
                          </a:lnTo>
                          <a:lnTo>
                            <a:pt x="90" y="161"/>
                          </a:lnTo>
                          <a:lnTo>
                            <a:pt x="71" y="175"/>
                          </a:lnTo>
                          <a:lnTo>
                            <a:pt x="51" y="188"/>
                          </a:lnTo>
                          <a:lnTo>
                            <a:pt x="31" y="202"/>
                          </a:lnTo>
                          <a:lnTo>
                            <a:pt x="11" y="217"/>
                          </a:lnTo>
                          <a:lnTo>
                            <a:pt x="0" y="410"/>
                          </a:lnTo>
                          <a:close/>
                        </a:path>
                      </a:pathLst>
                    </a:custGeom>
                    <a:solidFill>
                      <a:srgbClr val="fafaf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3530160" y="5518800"/>
                      <a:ext cx="457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98" h="4011">
                          <a:moveTo>
                            <a:pt x="0" y="228"/>
                          </a:moveTo>
                          <a:lnTo>
                            <a:pt x="2202" y="4011"/>
                          </a:lnTo>
                          <a:lnTo>
                            <a:pt x="2398" y="4005"/>
                          </a:lnTo>
                          <a:lnTo>
                            <a:pt x="66" y="0"/>
                          </a:lnTo>
                          <a:lnTo>
                            <a:pt x="0" y="228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3479040" y="5522400"/>
                      <a:ext cx="9360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70" h="4553">
                          <a:moveTo>
                            <a:pt x="734" y="1907"/>
                          </a:moveTo>
                          <a:lnTo>
                            <a:pt x="778" y="1833"/>
                          </a:lnTo>
                          <a:lnTo>
                            <a:pt x="823" y="1758"/>
                          </a:lnTo>
                          <a:lnTo>
                            <a:pt x="869" y="1685"/>
                          </a:lnTo>
                          <a:lnTo>
                            <a:pt x="916" y="1614"/>
                          </a:lnTo>
                          <a:lnTo>
                            <a:pt x="963" y="1542"/>
                          </a:lnTo>
                          <a:lnTo>
                            <a:pt x="1013" y="1472"/>
                          </a:lnTo>
                          <a:lnTo>
                            <a:pt x="1062" y="1403"/>
                          </a:lnTo>
                          <a:lnTo>
                            <a:pt x="1113" y="1334"/>
                          </a:lnTo>
                          <a:lnTo>
                            <a:pt x="1164" y="1268"/>
                          </a:lnTo>
                          <a:lnTo>
                            <a:pt x="1217" y="1202"/>
                          </a:lnTo>
                          <a:lnTo>
                            <a:pt x="1270" y="1136"/>
                          </a:lnTo>
                          <a:lnTo>
                            <a:pt x="1325" y="1072"/>
                          </a:lnTo>
                          <a:lnTo>
                            <a:pt x="1380" y="1009"/>
                          </a:lnTo>
                          <a:lnTo>
                            <a:pt x="1435" y="946"/>
                          </a:lnTo>
                          <a:lnTo>
                            <a:pt x="1492" y="885"/>
                          </a:lnTo>
                          <a:lnTo>
                            <a:pt x="1549" y="825"/>
                          </a:lnTo>
                          <a:lnTo>
                            <a:pt x="1607" y="765"/>
                          </a:lnTo>
                          <a:lnTo>
                            <a:pt x="1667" y="707"/>
                          </a:lnTo>
                          <a:lnTo>
                            <a:pt x="1727" y="650"/>
                          </a:lnTo>
                          <a:lnTo>
                            <a:pt x="1787" y="594"/>
                          </a:lnTo>
                          <a:lnTo>
                            <a:pt x="1848" y="538"/>
                          </a:lnTo>
                          <a:lnTo>
                            <a:pt x="1910" y="484"/>
                          </a:lnTo>
                          <a:lnTo>
                            <a:pt x="1974" y="432"/>
                          </a:lnTo>
                          <a:lnTo>
                            <a:pt x="2037" y="380"/>
                          </a:lnTo>
                          <a:lnTo>
                            <a:pt x="2101" y="328"/>
                          </a:lnTo>
                          <a:lnTo>
                            <a:pt x="2166" y="278"/>
                          </a:lnTo>
                          <a:lnTo>
                            <a:pt x="2231" y="229"/>
                          </a:lnTo>
                          <a:lnTo>
                            <a:pt x="2298" y="182"/>
                          </a:lnTo>
                          <a:lnTo>
                            <a:pt x="2364" y="134"/>
                          </a:lnTo>
                          <a:lnTo>
                            <a:pt x="2431" y="88"/>
                          </a:lnTo>
                          <a:lnTo>
                            <a:pt x="2499" y="44"/>
                          </a:lnTo>
                          <a:lnTo>
                            <a:pt x="2568" y="0"/>
                          </a:lnTo>
                          <a:lnTo>
                            <a:pt x="4770" y="3783"/>
                          </a:lnTo>
                          <a:lnTo>
                            <a:pt x="4337" y="4534"/>
                          </a:lnTo>
                          <a:lnTo>
                            <a:pt x="0" y="4553"/>
                          </a:lnTo>
                          <a:lnTo>
                            <a:pt x="2" y="4469"/>
                          </a:lnTo>
                          <a:lnTo>
                            <a:pt x="6" y="4384"/>
                          </a:lnTo>
                          <a:lnTo>
                            <a:pt x="10" y="4300"/>
                          </a:lnTo>
                          <a:lnTo>
                            <a:pt x="16" y="4215"/>
                          </a:lnTo>
                          <a:lnTo>
                            <a:pt x="24" y="4130"/>
                          </a:lnTo>
                          <a:lnTo>
                            <a:pt x="32" y="4046"/>
                          </a:lnTo>
                          <a:lnTo>
                            <a:pt x="42" y="3961"/>
                          </a:lnTo>
                          <a:lnTo>
                            <a:pt x="54" y="3877"/>
                          </a:lnTo>
                          <a:lnTo>
                            <a:pt x="66" y="3792"/>
                          </a:lnTo>
                          <a:lnTo>
                            <a:pt x="80" y="3709"/>
                          </a:lnTo>
                          <a:lnTo>
                            <a:pt x="95" y="3625"/>
                          </a:lnTo>
                          <a:lnTo>
                            <a:pt x="112" y="3540"/>
                          </a:lnTo>
                          <a:lnTo>
                            <a:pt x="130" y="3457"/>
                          </a:lnTo>
                          <a:lnTo>
                            <a:pt x="149" y="3372"/>
                          </a:lnTo>
                          <a:lnTo>
                            <a:pt x="170" y="3289"/>
                          </a:lnTo>
                          <a:lnTo>
                            <a:pt x="192" y="3206"/>
                          </a:lnTo>
                          <a:lnTo>
                            <a:pt x="215" y="3122"/>
                          </a:lnTo>
                          <a:lnTo>
                            <a:pt x="240" y="3040"/>
                          </a:lnTo>
                          <a:lnTo>
                            <a:pt x="266" y="2956"/>
                          </a:lnTo>
                          <a:lnTo>
                            <a:pt x="294" y="2874"/>
                          </a:lnTo>
                          <a:lnTo>
                            <a:pt x="324" y="2792"/>
                          </a:lnTo>
                          <a:lnTo>
                            <a:pt x="354" y="2710"/>
                          </a:lnTo>
                          <a:lnTo>
                            <a:pt x="385" y="2628"/>
                          </a:lnTo>
                          <a:lnTo>
                            <a:pt x="419" y="2546"/>
                          </a:lnTo>
                          <a:lnTo>
                            <a:pt x="453" y="2466"/>
                          </a:lnTo>
                          <a:lnTo>
                            <a:pt x="489" y="2384"/>
                          </a:lnTo>
                          <a:lnTo>
                            <a:pt x="526" y="2304"/>
                          </a:lnTo>
                          <a:lnTo>
                            <a:pt x="565" y="2224"/>
                          </a:lnTo>
                          <a:lnTo>
                            <a:pt x="604" y="2144"/>
                          </a:lnTo>
                          <a:lnTo>
                            <a:pt x="647" y="2065"/>
                          </a:lnTo>
                          <a:lnTo>
                            <a:pt x="690" y="1985"/>
                          </a:lnTo>
                          <a:lnTo>
                            <a:pt x="734" y="1907"/>
                          </a:lnTo>
                          <a:close/>
                        </a:path>
                      </a:pathLst>
                    </a:custGeom>
                    <a:solidFill>
                      <a:srgbClr val="cc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3568680" y="5670000"/>
                      <a:ext cx="7200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8" h="790">
                          <a:moveTo>
                            <a:pt x="3525" y="0"/>
                          </a:moveTo>
                          <a:lnTo>
                            <a:pt x="3506" y="10"/>
                          </a:lnTo>
                          <a:lnTo>
                            <a:pt x="3487" y="20"/>
                          </a:lnTo>
                          <a:lnTo>
                            <a:pt x="3468" y="30"/>
                          </a:lnTo>
                          <a:lnTo>
                            <a:pt x="3449" y="40"/>
                          </a:lnTo>
                          <a:lnTo>
                            <a:pt x="3430" y="49"/>
                          </a:lnTo>
                          <a:lnTo>
                            <a:pt x="3410" y="59"/>
                          </a:lnTo>
                          <a:lnTo>
                            <a:pt x="3391" y="69"/>
                          </a:lnTo>
                          <a:lnTo>
                            <a:pt x="3372" y="79"/>
                          </a:lnTo>
                          <a:lnTo>
                            <a:pt x="3353" y="88"/>
                          </a:lnTo>
                          <a:lnTo>
                            <a:pt x="3333" y="98"/>
                          </a:lnTo>
                          <a:lnTo>
                            <a:pt x="3314" y="107"/>
                          </a:lnTo>
                          <a:lnTo>
                            <a:pt x="3295" y="117"/>
                          </a:lnTo>
                          <a:lnTo>
                            <a:pt x="3274" y="126"/>
                          </a:lnTo>
                          <a:lnTo>
                            <a:pt x="3255" y="135"/>
                          </a:lnTo>
                          <a:lnTo>
                            <a:pt x="3236" y="145"/>
                          </a:lnTo>
                          <a:lnTo>
                            <a:pt x="3217" y="154"/>
                          </a:lnTo>
                          <a:lnTo>
                            <a:pt x="3197" y="163"/>
                          </a:lnTo>
                          <a:lnTo>
                            <a:pt x="3177" y="172"/>
                          </a:lnTo>
                          <a:lnTo>
                            <a:pt x="3158" y="181"/>
                          </a:lnTo>
                          <a:lnTo>
                            <a:pt x="3138" y="190"/>
                          </a:lnTo>
                          <a:lnTo>
                            <a:pt x="3119" y="198"/>
                          </a:lnTo>
                          <a:lnTo>
                            <a:pt x="3099" y="207"/>
                          </a:lnTo>
                          <a:lnTo>
                            <a:pt x="3079" y="215"/>
                          </a:lnTo>
                          <a:lnTo>
                            <a:pt x="3059" y="223"/>
                          </a:lnTo>
                          <a:lnTo>
                            <a:pt x="3055" y="225"/>
                          </a:lnTo>
                          <a:lnTo>
                            <a:pt x="3042" y="231"/>
                          </a:lnTo>
                          <a:lnTo>
                            <a:pt x="3023" y="238"/>
                          </a:lnTo>
                          <a:lnTo>
                            <a:pt x="3000" y="248"/>
                          </a:lnTo>
                          <a:lnTo>
                            <a:pt x="2975" y="258"/>
                          </a:lnTo>
                          <a:lnTo>
                            <a:pt x="2948" y="269"/>
                          </a:lnTo>
                          <a:lnTo>
                            <a:pt x="2922" y="279"/>
                          </a:lnTo>
                          <a:lnTo>
                            <a:pt x="2900" y="287"/>
                          </a:lnTo>
                          <a:lnTo>
                            <a:pt x="2896" y="289"/>
                          </a:lnTo>
                          <a:lnTo>
                            <a:pt x="2883" y="294"/>
                          </a:lnTo>
                          <a:lnTo>
                            <a:pt x="2864" y="301"/>
                          </a:lnTo>
                          <a:lnTo>
                            <a:pt x="2840" y="310"/>
                          </a:lnTo>
                          <a:lnTo>
                            <a:pt x="2814" y="320"/>
                          </a:lnTo>
                          <a:lnTo>
                            <a:pt x="2787" y="330"/>
                          </a:lnTo>
                          <a:lnTo>
                            <a:pt x="2762" y="339"/>
                          </a:lnTo>
                          <a:lnTo>
                            <a:pt x="2740" y="348"/>
                          </a:lnTo>
                          <a:lnTo>
                            <a:pt x="2720" y="355"/>
                          </a:lnTo>
                          <a:lnTo>
                            <a:pt x="2699" y="362"/>
                          </a:lnTo>
                          <a:lnTo>
                            <a:pt x="2679" y="369"/>
                          </a:lnTo>
                          <a:lnTo>
                            <a:pt x="2659" y="376"/>
                          </a:lnTo>
                          <a:lnTo>
                            <a:pt x="2638" y="383"/>
                          </a:lnTo>
                          <a:lnTo>
                            <a:pt x="2617" y="389"/>
                          </a:lnTo>
                          <a:lnTo>
                            <a:pt x="2597" y="396"/>
                          </a:lnTo>
                          <a:lnTo>
                            <a:pt x="2576" y="402"/>
                          </a:lnTo>
                          <a:lnTo>
                            <a:pt x="2556" y="409"/>
                          </a:lnTo>
                          <a:lnTo>
                            <a:pt x="2536" y="415"/>
                          </a:lnTo>
                          <a:lnTo>
                            <a:pt x="2515" y="421"/>
                          </a:lnTo>
                          <a:lnTo>
                            <a:pt x="2495" y="427"/>
                          </a:lnTo>
                          <a:lnTo>
                            <a:pt x="2474" y="434"/>
                          </a:lnTo>
                          <a:lnTo>
                            <a:pt x="2454" y="440"/>
                          </a:lnTo>
                          <a:lnTo>
                            <a:pt x="2433" y="446"/>
                          </a:lnTo>
                          <a:lnTo>
                            <a:pt x="2413" y="452"/>
                          </a:lnTo>
                          <a:lnTo>
                            <a:pt x="2392" y="457"/>
                          </a:lnTo>
                          <a:lnTo>
                            <a:pt x="2372" y="463"/>
                          </a:lnTo>
                          <a:lnTo>
                            <a:pt x="2351" y="469"/>
                          </a:lnTo>
                          <a:lnTo>
                            <a:pt x="2330" y="474"/>
                          </a:lnTo>
                          <a:lnTo>
                            <a:pt x="2310" y="480"/>
                          </a:lnTo>
                          <a:lnTo>
                            <a:pt x="2288" y="485"/>
                          </a:lnTo>
                          <a:lnTo>
                            <a:pt x="2267" y="491"/>
                          </a:lnTo>
                          <a:lnTo>
                            <a:pt x="2246" y="496"/>
                          </a:lnTo>
                          <a:lnTo>
                            <a:pt x="2225" y="501"/>
                          </a:lnTo>
                          <a:lnTo>
                            <a:pt x="2205" y="506"/>
                          </a:lnTo>
                          <a:lnTo>
                            <a:pt x="2184" y="511"/>
                          </a:lnTo>
                          <a:lnTo>
                            <a:pt x="2163" y="516"/>
                          </a:lnTo>
                          <a:lnTo>
                            <a:pt x="2143" y="521"/>
                          </a:lnTo>
                          <a:lnTo>
                            <a:pt x="2122" y="525"/>
                          </a:lnTo>
                          <a:lnTo>
                            <a:pt x="2101" y="530"/>
                          </a:lnTo>
                          <a:lnTo>
                            <a:pt x="2080" y="534"/>
                          </a:lnTo>
                          <a:lnTo>
                            <a:pt x="2059" y="539"/>
                          </a:lnTo>
                          <a:lnTo>
                            <a:pt x="2038" y="543"/>
                          </a:lnTo>
                          <a:lnTo>
                            <a:pt x="2017" y="549"/>
                          </a:lnTo>
                          <a:lnTo>
                            <a:pt x="1996" y="553"/>
                          </a:lnTo>
                          <a:lnTo>
                            <a:pt x="1974" y="557"/>
                          </a:lnTo>
                          <a:lnTo>
                            <a:pt x="1953" y="561"/>
                          </a:lnTo>
                          <a:lnTo>
                            <a:pt x="1932" y="565"/>
                          </a:lnTo>
                          <a:lnTo>
                            <a:pt x="1911" y="569"/>
                          </a:lnTo>
                          <a:lnTo>
                            <a:pt x="1890" y="573"/>
                          </a:lnTo>
                          <a:lnTo>
                            <a:pt x="1869" y="577"/>
                          </a:lnTo>
                          <a:lnTo>
                            <a:pt x="1848" y="581"/>
                          </a:lnTo>
                          <a:lnTo>
                            <a:pt x="1827" y="584"/>
                          </a:lnTo>
                          <a:lnTo>
                            <a:pt x="1806" y="588"/>
                          </a:lnTo>
                          <a:lnTo>
                            <a:pt x="1785" y="592"/>
                          </a:lnTo>
                          <a:lnTo>
                            <a:pt x="1764" y="595"/>
                          </a:lnTo>
                          <a:lnTo>
                            <a:pt x="1743" y="598"/>
                          </a:lnTo>
                          <a:lnTo>
                            <a:pt x="1721" y="601"/>
                          </a:lnTo>
                          <a:lnTo>
                            <a:pt x="1700" y="604"/>
                          </a:lnTo>
                          <a:lnTo>
                            <a:pt x="1679" y="607"/>
                          </a:lnTo>
                          <a:lnTo>
                            <a:pt x="1658" y="610"/>
                          </a:lnTo>
                          <a:lnTo>
                            <a:pt x="1636" y="613"/>
                          </a:lnTo>
                          <a:lnTo>
                            <a:pt x="1615" y="616"/>
                          </a:lnTo>
                          <a:lnTo>
                            <a:pt x="1593" y="619"/>
                          </a:lnTo>
                          <a:lnTo>
                            <a:pt x="1572" y="621"/>
                          </a:lnTo>
                          <a:lnTo>
                            <a:pt x="1551" y="624"/>
                          </a:lnTo>
                          <a:lnTo>
                            <a:pt x="1530" y="626"/>
                          </a:lnTo>
                          <a:lnTo>
                            <a:pt x="1508" y="629"/>
                          </a:lnTo>
                          <a:lnTo>
                            <a:pt x="1487" y="631"/>
                          </a:lnTo>
                          <a:lnTo>
                            <a:pt x="1466" y="633"/>
                          </a:lnTo>
                          <a:lnTo>
                            <a:pt x="1444" y="635"/>
                          </a:lnTo>
                          <a:lnTo>
                            <a:pt x="1423" y="637"/>
                          </a:lnTo>
                          <a:lnTo>
                            <a:pt x="1402" y="639"/>
                          </a:lnTo>
                          <a:lnTo>
                            <a:pt x="1380" y="641"/>
                          </a:lnTo>
                          <a:lnTo>
                            <a:pt x="1359" y="643"/>
                          </a:lnTo>
                          <a:lnTo>
                            <a:pt x="1337" y="645"/>
                          </a:lnTo>
                          <a:lnTo>
                            <a:pt x="1315" y="646"/>
                          </a:lnTo>
                          <a:lnTo>
                            <a:pt x="1293" y="648"/>
                          </a:lnTo>
                          <a:lnTo>
                            <a:pt x="1272" y="649"/>
                          </a:lnTo>
                          <a:lnTo>
                            <a:pt x="1251" y="651"/>
                          </a:lnTo>
                          <a:lnTo>
                            <a:pt x="1230" y="652"/>
                          </a:lnTo>
                          <a:lnTo>
                            <a:pt x="1208" y="653"/>
                          </a:lnTo>
                          <a:lnTo>
                            <a:pt x="1187" y="654"/>
                          </a:lnTo>
                          <a:lnTo>
                            <a:pt x="1165" y="655"/>
                          </a:lnTo>
                          <a:lnTo>
                            <a:pt x="1144" y="656"/>
                          </a:lnTo>
                          <a:lnTo>
                            <a:pt x="1122" y="657"/>
                          </a:lnTo>
                          <a:lnTo>
                            <a:pt x="1101" y="658"/>
                          </a:lnTo>
                          <a:lnTo>
                            <a:pt x="1079" y="659"/>
                          </a:lnTo>
                          <a:lnTo>
                            <a:pt x="1058" y="659"/>
                          </a:lnTo>
                          <a:lnTo>
                            <a:pt x="1036" y="660"/>
                          </a:lnTo>
                          <a:lnTo>
                            <a:pt x="1015" y="660"/>
                          </a:lnTo>
                          <a:lnTo>
                            <a:pt x="992" y="661"/>
                          </a:lnTo>
                          <a:lnTo>
                            <a:pt x="971" y="661"/>
                          </a:lnTo>
                          <a:lnTo>
                            <a:pt x="949" y="661"/>
                          </a:lnTo>
                          <a:lnTo>
                            <a:pt x="928" y="661"/>
                          </a:lnTo>
                          <a:lnTo>
                            <a:pt x="906" y="661"/>
                          </a:lnTo>
                          <a:lnTo>
                            <a:pt x="885" y="661"/>
                          </a:lnTo>
                          <a:lnTo>
                            <a:pt x="863" y="661"/>
                          </a:lnTo>
                          <a:lnTo>
                            <a:pt x="842" y="661"/>
                          </a:lnTo>
                          <a:lnTo>
                            <a:pt x="820" y="660"/>
                          </a:lnTo>
                          <a:lnTo>
                            <a:pt x="799" y="660"/>
                          </a:lnTo>
                          <a:lnTo>
                            <a:pt x="777" y="659"/>
                          </a:lnTo>
                          <a:lnTo>
                            <a:pt x="755" y="659"/>
                          </a:lnTo>
                          <a:lnTo>
                            <a:pt x="734" y="658"/>
                          </a:lnTo>
                          <a:lnTo>
                            <a:pt x="713" y="658"/>
                          </a:lnTo>
                          <a:lnTo>
                            <a:pt x="691" y="657"/>
                          </a:lnTo>
                          <a:lnTo>
                            <a:pt x="670" y="656"/>
                          </a:lnTo>
                          <a:lnTo>
                            <a:pt x="647" y="655"/>
                          </a:lnTo>
                          <a:lnTo>
                            <a:pt x="625" y="654"/>
                          </a:lnTo>
                          <a:lnTo>
                            <a:pt x="604" y="652"/>
                          </a:lnTo>
                          <a:lnTo>
                            <a:pt x="582" y="651"/>
                          </a:lnTo>
                          <a:lnTo>
                            <a:pt x="560" y="650"/>
                          </a:lnTo>
                          <a:lnTo>
                            <a:pt x="539" y="648"/>
                          </a:lnTo>
                          <a:lnTo>
                            <a:pt x="517" y="647"/>
                          </a:lnTo>
                          <a:lnTo>
                            <a:pt x="496" y="645"/>
                          </a:lnTo>
                          <a:lnTo>
                            <a:pt x="474" y="644"/>
                          </a:lnTo>
                          <a:lnTo>
                            <a:pt x="453" y="642"/>
                          </a:lnTo>
                          <a:lnTo>
                            <a:pt x="431" y="640"/>
                          </a:lnTo>
                          <a:lnTo>
                            <a:pt x="410" y="638"/>
                          </a:lnTo>
                          <a:lnTo>
                            <a:pt x="388" y="636"/>
                          </a:lnTo>
                          <a:lnTo>
                            <a:pt x="367" y="634"/>
                          </a:lnTo>
                          <a:lnTo>
                            <a:pt x="345" y="632"/>
                          </a:lnTo>
                          <a:lnTo>
                            <a:pt x="322" y="630"/>
                          </a:lnTo>
                          <a:lnTo>
                            <a:pt x="301" y="627"/>
                          </a:lnTo>
                          <a:lnTo>
                            <a:pt x="279" y="625"/>
                          </a:lnTo>
                          <a:lnTo>
                            <a:pt x="258" y="622"/>
                          </a:lnTo>
                          <a:lnTo>
                            <a:pt x="236" y="620"/>
                          </a:lnTo>
                          <a:lnTo>
                            <a:pt x="215" y="617"/>
                          </a:lnTo>
                          <a:lnTo>
                            <a:pt x="193" y="614"/>
                          </a:lnTo>
                          <a:lnTo>
                            <a:pt x="172" y="611"/>
                          </a:lnTo>
                          <a:lnTo>
                            <a:pt x="150" y="608"/>
                          </a:lnTo>
                          <a:lnTo>
                            <a:pt x="129" y="605"/>
                          </a:lnTo>
                          <a:lnTo>
                            <a:pt x="107" y="602"/>
                          </a:lnTo>
                          <a:lnTo>
                            <a:pt x="86" y="598"/>
                          </a:lnTo>
                          <a:lnTo>
                            <a:pt x="64" y="595"/>
                          </a:lnTo>
                          <a:lnTo>
                            <a:pt x="43" y="592"/>
                          </a:lnTo>
                          <a:lnTo>
                            <a:pt x="21" y="588"/>
                          </a:lnTo>
                          <a:lnTo>
                            <a:pt x="0" y="722"/>
                          </a:lnTo>
                          <a:lnTo>
                            <a:pt x="23" y="725"/>
                          </a:lnTo>
                          <a:lnTo>
                            <a:pt x="45" y="729"/>
                          </a:lnTo>
                          <a:lnTo>
                            <a:pt x="68" y="732"/>
                          </a:lnTo>
                          <a:lnTo>
                            <a:pt x="90" y="735"/>
                          </a:lnTo>
                          <a:lnTo>
                            <a:pt x="112" y="738"/>
                          </a:lnTo>
                          <a:lnTo>
                            <a:pt x="135" y="741"/>
                          </a:lnTo>
                          <a:lnTo>
                            <a:pt x="157" y="744"/>
                          </a:lnTo>
                          <a:lnTo>
                            <a:pt x="180" y="748"/>
                          </a:lnTo>
                          <a:lnTo>
                            <a:pt x="202" y="751"/>
                          </a:lnTo>
                          <a:lnTo>
                            <a:pt x="225" y="754"/>
                          </a:lnTo>
                          <a:lnTo>
                            <a:pt x="247" y="756"/>
                          </a:lnTo>
                          <a:lnTo>
                            <a:pt x="270" y="758"/>
                          </a:lnTo>
                          <a:lnTo>
                            <a:pt x="292" y="761"/>
                          </a:lnTo>
                          <a:lnTo>
                            <a:pt x="314" y="763"/>
                          </a:lnTo>
                          <a:lnTo>
                            <a:pt x="337" y="766"/>
                          </a:lnTo>
                          <a:lnTo>
                            <a:pt x="360" y="768"/>
                          </a:lnTo>
                          <a:lnTo>
                            <a:pt x="383" y="770"/>
                          </a:lnTo>
                          <a:lnTo>
                            <a:pt x="406" y="772"/>
                          </a:lnTo>
                          <a:lnTo>
                            <a:pt x="428" y="774"/>
                          </a:lnTo>
                          <a:lnTo>
                            <a:pt x="451" y="775"/>
                          </a:lnTo>
                          <a:lnTo>
                            <a:pt x="473" y="777"/>
                          </a:lnTo>
                          <a:lnTo>
                            <a:pt x="496" y="778"/>
                          </a:lnTo>
                          <a:lnTo>
                            <a:pt x="518" y="780"/>
                          </a:lnTo>
                          <a:lnTo>
                            <a:pt x="541" y="781"/>
                          </a:lnTo>
                          <a:lnTo>
                            <a:pt x="563" y="783"/>
                          </a:lnTo>
                          <a:lnTo>
                            <a:pt x="586" y="784"/>
                          </a:lnTo>
                          <a:lnTo>
                            <a:pt x="608" y="785"/>
                          </a:lnTo>
                          <a:lnTo>
                            <a:pt x="631" y="786"/>
                          </a:lnTo>
                          <a:lnTo>
                            <a:pt x="654" y="787"/>
                          </a:lnTo>
                          <a:lnTo>
                            <a:pt x="677" y="787"/>
                          </a:lnTo>
                          <a:lnTo>
                            <a:pt x="700" y="788"/>
                          </a:lnTo>
                          <a:lnTo>
                            <a:pt x="723" y="788"/>
                          </a:lnTo>
                          <a:lnTo>
                            <a:pt x="745" y="789"/>
                          </a:lnTo>
                          <a:lnTo>
                            <a:pt x="768" y="789"/>
                          </a:lnTo>
                          <a:lnTo>
                            <a:pt x="790" y="790"/>
                          </a:lnTo>
                          <a:lnTo>
                            <a:pt x="813" y="790"/>
                          </a:lnTo>
                          <a:lnTo>
                            <a:pt x="836" y="790"/>
                          </a:lnTo>
                          <a:lnTo>
                            <a:pt x="858" y="790"/>
                          </a:lnTo>
                          <a:lnTo>
                            <a:pt x="881" y="790"/>
                          </a:lnTo>
                          <a:lnTo>
                            <a:pt x="904" y="790"/>
                          </a:lnTo>
                          <a:lnTo>
                            <a:pt x="926" y="790"/>
                          </a:lnTo>
                          <a:lnTo>
                            <a:pt x="949" y="790"/>
                          </a:lnTo>
                          <a:lnTo>
                            <a:pt x="971" y="789"/>
                          </a:lnTo>
                          <a:lnTo>
                            <a:pt x="995" y="789"/>
                          </a:lnTo>
                          <a:lnTo>
                            <a:pt x="1018" y="788"/>
                          </a:lnTo>
                          <a:lnTo>
                            <a:pt x="1040" y="788"/>
                          </a:lnTo>
                          <a:lnTo>
                            <a:pt x="1063" y="787"/>
                          </a:lnTo>
                          <a:lnTo>
                            <a:pt x="1086" y="786"/>
                          </a:lnTo>
                          <a:lnTo>
                            <a:pt x="1108" y="786"/>
                          </a:lnTo>
                          <a:lnTo>
                            <a:pt x="1131" y="785"/>
                          </a:lnTo>
                          <a:lnTo>
                            <a:pt x="1153" y="784"/>
                          </a:lnTo>
                          <a:lnTo>
                            <a:pt x="1176" y="782"/>
                          </a:lnTo>
                          <a:lnTo>
                            <a:pt x="1199" y="781"/>
                          </a:lnTo>
                          <a:lnTo>
                            <a:pt x="1222" y="780"/>
                          </a:lnTo>
                          <a:lnTo>
                            <a:pt x="1244" y="778"/>
                          </a:lnTo>
                          <a:lnTo>
                            <a:pt x="1267" y="777"/>
                          </a:lnTo>
                          <a:lnTo>
                            <a:pt x="1289" y="775"/>
                          </a:lnTo>
                          <a:lnTo>
                            <a:pt x="1312" y="773"/>
                          </a:lnTo>
                          <a:lnTo>
                            <a:pt x="1336" y="771"/>
                          </a:lnTo>
                          <a:lnTo>
                            <a:pt x="1358" y="770"/>
                          </a:lnTo>
                          <a:lnTo>
                            <a:pt x="1381" y="768"/>
                          </a:lnTo>
                          <a:lnTo>
                            <a:pt x="1404" y="766"/>
                          </a:lnTo>
                          <a:lnTo>
                            <a:pt x="1426" y="764"/>
                          </a:lnTo>
                          <a:lnTo>
                            <a:pt x="1449" y="762"/>
                          </a:lnTo>
                          <a:lnTo>
                            <a:pt x="1471" y="759"/>
                          </a:lnTo>
                          <a:lnTo>
                            <a:pt x="1494" y="757"/>
                          </a:lnTo>
                          <a:lnTo>
                            <a:pt x="1517" y="754"/>
                          </a:lnTo>
                          <a:lnTo>
                            <a:pt x="1539" y="752"/>
                          </a:lnTo>
                          <a:lnTo>
                            <a:pt x="1562" y="749"/>
                          </a:lnTo>
                          <a:lnTo>
                            <a:pt x="1585" y="745"/>
                          </a:lnTo>
                          <a:lnTo>
                            <a:pt x="1607" y="742"/>
                          </a:lnTo>
                          <a:lnTo>
                            <a:pt x="1630" y="739"/>
                          </a:lnTo>
                          <a:lnTo>
                            <a:pt x="1653" y="736"/>
                          </a:lnTo>
                          <a:lnTo>
                            <a:pt x="1676" y="733"/>
                          </a:lnTo>
                          <a:lnTo>
                            <a:pt x="1699" y="730"/>
                          </a:lnTo>
                          <a:lnTo>
                            <a:pt x="1721" y="727"/>
                          </a:lnTo>
                          <a:lnTo>
                            <a:pt x="1744" y="723"/>
                          </a:lnTo>
                          <a:lnTo>
                            <a:pt x="1766" y="720"/>
                          </a:lnTo>
                          <a:lnTo>
                            <a:pt x="1789" y="716"/>
                          </a:lnTo>
                          <a:lnTo>
                            <a:pt x="1811" y="712"/>
                          </a:lnTo>
                          <a:lnTo>
                            <a:pt x="1834" y="708"/>
                          </a:lnTo>
                          <a:lnTo>
                            <a:pt x="1856" y="704"/>
                          </a:lnTo>
                          <a:lnTo>
                            <a:pt x="1879" y="701"/>
                          </a:lnTo>
                          <a:lnTo>
                            <a:pt x="1901" y="697"/>
                          </a:lnTo>
                          <a:lnTo>
                            <a:pt x="1924" y="693"/>
                          </a:lnTo>
                          <a:lnTo>
                            <a:pt x="1946" y="688"/>
                          </a:lnTo>
                          <a:lnTo>
                            <a:pt x="1969" y="684"/>
                          </a:lnTo>
                          <a:lnTo>
                            <a:pt x="1992" y="680"/>
                          </a:lnTo>
                          <a:lnTo>
                            <a:pt x="2015" y="675"/>
                          </a:lnTo>
                          <a:lnTo>
                            <a:pt x="2037" y="671"/>
                          </a:lnTo>
                          <a:lnTo>
                            <a:pt x="2060" y="666"/>
                          </a:lnTo>
                          <a:lnTo>
                            <a:pt x="2082" y="661"/>
                          </a:lnTo>
                          <a:lnTo>
                            <a:pt x="2105" y="657"/>
                          </a:lnTo>
                          <a:lnTo>
                            <a:pt x="2127" y="652"/>
                          </a:lnTo>
                          <a:lnTo>
                            <a:pt x="2150" y="647"/>
                          </a:lnTo>
                          <a:lnTo>
                            <a:pt x="2172" y="642"/>
                          </a:lnTo>
                          <a:lnTo>
                            <a:pt x="2195" y="636"/>
                          </a:lnTo>
                          <a:lnTo>
                            <a:pt x="2217" y="631"/>
                          </a:lnTo>
                          <a:lnTo>
                            <a:pt x="2239" y="626"/>
                          </a:lnTo>
                          <a:lnTo>
                            <a:pt x="2262" y="620"/>
                          </a:lnTo>
                          <a:lnTo>
                            <a:pt x="2284" y="615"/>
                          </a:lnTo>
                          <a:lnTo>
                            <a:pt x="2307" y="609"/>
                          </a:lnTo>
                          <a:lnTo>
                            <a:pt x="2330" y="603"/>
                          </a:lnTo>
                          <a:lnTo>
                            <a:pt x="2352" y="597"/>
                          </a:lnTo>
                          <a:lnTo>
                            <a:pt x="2374" y="592"/>
                          </a:lnTo>
                          <a:lnTo>
                            <a:pt x="2396" y="586"/>
                          </a:lnTo>
                          <a:lnTo>
                            <a:pt x="2419" y="580"/>
                          </a:lnTo>
                          <a:lnTo>
                            <a:pt x="2441" y="573"/>
                          </a:lnTo>
                          <a:lnTo>
                            <a:pt x="2463" y="567"/>
                          </a:lnTo>
                          <a:lnTo>
                            <a:pt x="2486" y="561"/>
                          </a:lnTo>
                          <a:lnTo>
                            <a:pt x="2508" y="554"/>
                          </a:lnTo>
                          <a:lnTo>
                            <a:pt x="2530" y="548"/>
                          </a:lnTo>
                          <a:lnTo>
                            <a:pt x="2552" y="540"/>
                          </a:lnTo>
                          <a:lnTo>
                            <a:pt x="2575" y="534"/>
                          </a:lnTo>
                          <a:lnTo>
                            <a:pt x="2597" y="527"/>
                          </a:lnTo>
                          <a:lnTo>
                            <a:pt x="2619" y="520"/>
                          </a:lnTo>
                          <a:lnTo>
                            <a:pt x="2642" y="513"/>
                          </a:lnTo>
                          <a:lnTo>
                            <a:pt x="2664" y="506"/>
                          </a:lnTo>
                          <a:lnTo>
                            <a:pt x="2686" y="499"/>
                          </a:lnTo>
                          <a:lnTo>
                            <a:pt x="2709" y="492"/>
                          </a:lnTo>
                          <a:lnTo>
                            <a:pt x="2731" y="485"/>
                          </a:lnTo>
                          <a:lnTo>
                            <a:pt x="2753" y="477"/>
                          </a:lnTo>
                          <a:lnTo>
                            <a:pt x="2775" y="470"/>
                          </a:lnTo>
                          <a:lnTo>
                            <a:pt x="2797" y="462"/>
                          </a:lnTo>
                          <a:lnTo>
                            <a:pt x="2819" y="455"/>
                          </a:lnTo>
                          <a:lnTo>
                            <a:pt x="2840" y="447"/>
                          </a:lnTo>
                          <a:lnTo>
                            <a:pt x="2862" y="439"/>
                          </a:lnTo>
                          <a:lnTo>
                            <a:pt x="2885" y="431"/>
                          </a:lnTo>
                          <a:lnTo>
                            <a:pt x="2909" y="422"/>
                          </a:lnTo>
                          <a:lnTo>
                            <a:pt x="2936" y="412"/>
                          </a:lnTo>
                          <a:lnTo>
                            <a:pt x="2966" y="401"/>
                          </a:lnTo>
                          <a:lnTo>
                            <a:pt x="2995" y="391"/>
                          </a:lnTo>
                          <a:lnTo>
                            <a:pt x="3020" y="381"/>
                          </a:lnTo>
                          <a:lnTo>
                            <a:pt x="3041" y="373"/>
                          </a:lnTo>
                          <a:lnTo>
                            <a:pt x="3055" y="368"/>
                          </a:lnTo>
                          <a:lnTo>
                            <a:pt x="3060" y="366"/>
                          </a:lnTo>
                          <a:lnTo>
                            <a:pt x="3085" y="356"/>
                          </a:lnTo>
                          <a:lnTo>
                            <a:pt x="3112" y="345"/>
                          </a:lnTo>
                          <a:lnTo>
                            <a:pt x="3141" y="332"/>
                          </a:lnTo>
                          <a:lnTo>
                            <a:pt x="3169" y="320"/>
                          </a:lnTo>
                          <a:lnTo>
                            <a:pt x="3195" y="309"/>
                          </a:lnTo>
                          <a:lnTo>
                            <a:pt x="3215" y="301"/>
                          </a:lnTo>
                          <a:lnTo>
                            <a:pt x="3229" y="295"/>
                          </a:lnTo>
                          <a:lnTo>
                            <a:pt x="3234" y="293"/>
                          </a:lnTo>
                          <a:lnTo>
                            <a:pt x="3256" y="283"/>
                          </a:lnTo>
                          <a:lnTo>
                            <a:pt x="3278" y="274"/>
                          </a:lnTo>
                          <a:lnTo>
                            <a:pt x="3300" y="264"/>
                          </a:lnTo>
                          <a:lnTo>
                            <a:pt x="3322" y="255"/>
                          </a:lnTo>
                          <a:lnTo>
                            <a:pt x="3343" y="245"/>
                          </a:lnTo>
                          <a:lnTo>
                            <a:pt x="3365" y="235"/>
                          </a:lnTo>
                          <a:lnTo>
                            <a:pt x="3386" y="225"/>
                          </a:lnTo>
                          <a:lnTo>
                            <a:pt x="3408" y="215"/>
                          </a:lnTo>
                          <a:lnTo>
                            <a:pt x="3429" y="205"/>
                          </a:lnTo>
                          <a:lnTo>
                            <a:pt x="3451" y="195"/>
                          </a:lnTo>
                          <a:lnTo>
                            <a:pt x="3472" y="185"/>
                          </a:lnTo>
                          <a:lnTo>
                            <a:pt x="3494" y="175"/>
                          </a:lnTo>
                          <a:lnTo>
                            <a:pt x="3515" y="165"/>
                          </a:lnTo>
                          <a:lnTo>
                            <a:pt x="3536" y="154"/>
                          </a:lnTo>
                          <a:lnTo>
                            <a:pt x="3557" y="144"/>
                          </a:lnTo>
                          <a:lnTo>
                            <a:pt x="3579" y="132"/>
                          </a:lnTo>
                          <a:lnTo>
                            <a:pt x="3600" y="121"/>
                          </a:lnTo>
                          <a:lnTo>
                            <a:pt x="3622" y="110"/>
                          </a:lnTo>
                          <a:lnTo>
                            <a:pt x="3643" y="99"/>
                          </a:lnTo>
                          <a:lnTo>
                            <a:pt x="3664" y="88"/>
                          </a:lnTo>
                          <a:lnTo>
                            <a:pt x="3685" y="77"/>
                          </a:lnTo>
                          <a:lnTo>
                            <a:pt x="3706" y="66"/>
                          </a:lnTo>
                          <a:lnTo>
                            <a:pt x="3727" y="55"/>
                          </a:lnTo>
                          <a:lnTo>
                            <a:pt x="3748" y="43"/>
                          </a:lnTo>
                          <a:lnTo>
                            <a:pt x="352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3479040" y="561240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240">
                          <a:moveTo>
                            <a:pt x="189" y="240"/>
                          </a:moveTo>
                          <a:lnTo>
                            <a:pt x="184" y="219"/>
                          </a:lnTo>
                          <a:lnTo>
                            <a:pt x="179" y="198"/>
                          </a:lnTo>
                          <a:lnTo>
                            <a:pt x="174" y="177"/>
                          </a:lnTo>
                          <a:lnTo>
                            <a:pt x="169" y="156"/>
                          </a:lnTo>
                          <a:lnTo>
                            <a:pt x="164" y="136"/>
                          </a:lnTo>
                          <a:lnTo>
                            <a:pt x="159" y="115"/>
                          </a:lnTo>
                          <a:lnTo>
                            <a:pt x="155" y="94"/>
                          </a:lnTo>
                          <a:lnTo>
                            <a:pt x="150" y="73"/>
                          </a:lnTo>
                          <a:lnTo>
                            <a:pt x="0" y="0"/>
                          </a:lnTo>
                          <a:lnTo>
                            <a:pt x="5" y="23"/>
                          </a:lnTo>
                          <a:lnTo>
                            <a:pt x="10" y="46"/>
                          </a:lnTo>
                          <a:lnTo>
                            <a:pt x="16" y="70"/>
                          </a:lnTo>
                          <a:lnTo>
                            <a:pt x="21" y="93"/>
                          </a:lnTo>
                          <a:lnTo>
                            <a:pt x="26" y="115"/>
                          </a:lnTo>
                          <a:lnTo>
                            <a:pt x="31" y="138"/>
                          </a:lnTo>
                          <a:lnTo>
                            <a:pt x="37" y="161"/>
                          </a:lnTo>
                          <a:lnTo>
                            <a:pt x="42" y="183"/>
                          </a:lnTo>
                          <a:lnTo>
                            <a:pt x="189" y="240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3477960" y="5608800"/>
                      <a:ext cx="28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257">
                          <a:moveTo>
                            <a:pt x="185" y="257"/>
                          </a:moveTo>
                          <a:lnTo>
                            <a:pt x="181" y="235"/>
                          </a:lnTo>
                          <a:lnTo>
                            <a:pt x="176" y="214"/>
                          </a:lnTo>
                          <a:lnTo>
                            <a:pt x="172" y="193"/>
                          </a:lnTo>
                          <a:lnTo>
                            <a:pt x="168" y="172"/>
                          </a:lnTo>
                          <a:lnTo>
                            <a:pt x="163" y="151"/>
                          </a:lnTo>
                          <a:lnTo>
                            <a:pt x="159" y="130"/>
                          </a:lnTo>
                          <a:lnTo>
                            <a:pt x="155" y="109"/>
                          </a:lnTo>
                          <a:lnTo>
                            <a:pt x="151" y="87"/>
                          </a:lnTo>
                          <a:lnTo>
                            <a:pt x="0" y="0"/>
                          </a:lnTo>
                          <a:lnTo>
                            <a:pt x="4" y="23"/>
                          </a:lnTo>
                          <a:lnTo>
                            <a:pt x="8" y="47"/>
                          </a:lnTo>
                          <a:lnTo>
                            <a:pt x="13" y="70"/>
                          </a:lnTo>
                          <a:lnTo>
                            <a:pt x="17" y="93"/>
                          </a:lnTo>
                          <a:lnTo>
                            <a:pt x="21" y="116"/>
                          </a:lnTo>
                          <a:lnTo>
                            <a:pt x="26" y="139"/>
                          </a:lnTo>
                          <a:lnTo>
                            <a:pt x="30" y="162"/>
                          </a:lnTo>
                          <a:lnTo>
                            <a:pt x="35" y="184"/>
                          </a:lnTo>
                          <a:lnTo>
                            <a:pt x="185" y="257"/>
                          </a:lnTo>
                          <a:close/>
                        </a:path>
                      </a:pathLst>
                    </a:custGeom>
                    <a:solidFill>
                      <a:srgbClr val="ecec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3477240" y="5606280"/>
                      <a:ext cx="36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72">
                          <a:moveTo>
                            <a:pt x="181" y="272"/>
                          </a:moveTo>
                          <a:lnTo>
                            <a:pt x="177" y="251"/>
                          </a:lnTo>
                          <a:lnTo>
                            <a:pt x="174" y="230"/>
                          </a:lnTo>
                          <a:lnTo>
                            <a:pt x="170" y="209"/>
                          </a:lnTo>
                          <a:lnTo>
                            <a:pt x="166" y="187"/>
                          </a:lnTo>
                          <a:lnTo>
                            <a:pt x="163" y="166"/>
                          </a:lnTo>
                          <a:lnTo>
                            <a:pt x="159" y="145"/>
                          </a:lnTo>
                          <a:lnTo>
                            <a:pt x="156" y="124"/>
                          </a:lnTo>
                          <a:lnTo>
                            <a:pt x="153" y="103"/>
                          </a:lnTo>
                          <a:lnTo>
                            <a:pt x="0" y="0"/>
                          </a:lnTo>
                          <a:lnTo>
                            <a:pt x="4" y="23"/>
                          </a:lnTo>
                          <a:lnTo>
                            <a:pt x="7" y="47"/>
                          </a:lnTo>
                          <a:lnTo>
                            <a:pt x="11" y="70"/>
                          </a:lnTo>
                          <a:lnTo>
                            <a:pt x="14" y="93"/>
                          </a:lnTo>
                          <a:lnTo>
                            <a:pt x="18" y="116"/>
                          </a:lnTo>
                          <a:lnTo>
                            <a:pt x="22" y="139"/>
                          </a:lnTo>
                          <a:lnTo>
                            <a:pt x="26" y="162"/>
                          </a:lnTo>
                          <a:lnTo>
                            <a:pt x="30" y="185"/>
                          </a:lnTo>
                          <a:lnTo>
                            <a:pt x="181" y="272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3477240" y="5603400"/>
                      <a:ext cx="28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291">
                          <a:moveTo>
                            <a:pt x="178" y="291"/>
                          </a:moveTo>
                          <a:lnTo>
                            <a:pt x="175" y="270"/>
                          </a:lnTo>
                          <a:lnTo>
                            <a:pt x="171" y="248"/>
                          </a:lnTo>
                          <a:lnTo>
                            <a:pt x="168" y="227"/>
                          </a:lnTo>
                          <a:lnTo>
                            <a:pt x="165" y="205"/>
                          </a:lnTo>
                          <a:lnTo>
                            <a:pt x="162" y="184"/>
                          </a:lnTo>
                          <a:lnTo>
                            <a:pt x="159" y="163"/>
                          </a:lnTo>
                          <a:lnTo>
                            <a:pt x="157" y="142"/>
                          </a:lnTo>
                          <a:lnTo>
                            <a:pt x="154" y="120"/>
                          </a:lnTo>
                          <a:lnTo>
                            <a:pt x="0" y="0"/>
                          </a:lnTo>
                          <a:lnTo>
                            <a:pt x="3" y="25"/>
                          </a:lnTo>
                          <a:lnTo>
                            <a:pt x="6" y="48"/>
                          </a:lnTo>
                          <a:lnTo>
                            <a:pt x="9" y="71"/>
                          </a:lnTo>
                          <a:lnTo>
                            <a:pt x="12" y="94"/>
                          </a:lnTo>
                          <a:lnTo>
                            <a:pt x="15" y="118"/>
                          </a:lnTo>
                          <a:lnTo>
                            <a:pt x="18" y="141"/>
                          </a:lnTo>
                          <a:lnTo>
                            <a:pt x="22" y="165"/>
                          </a:lnTo>
                          <a:lnTo>
                            <a:pt x="25" y="188"/>
                          </a:lnTo>
                          <a:lnTo>
                            <a:pt x="178" y="291"/>
                          </a:lnTo>
                          <a:close/>
                        </a:path>
                      </a:pathLst>
                    </a:custGeom>
                    <a:solidFill>
                      <a:srgbClr val="eeeee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3475800" y="5600160"/>
                      <a:ext cx="39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309">
                          <a:moveTo>
                            <a:pt x="173" y="309"/>
                          </a:moveTo>
                          <a:lnTo>
                            <a:pt x="171" y="288"/>
                          </a:lnTo>
                          <a:lnTo>
                            <a:pt x="168" y="267"/>
                          </a:lnTo>
                          <a:lnTo>
                            <a:pt x="166" y="245"/>
                          </a:lnTo>
                          <a:lnTo>
                            <a:pt x="164" y="224"/>
                          </a:lnTo>
                          <a:lnTo>
                            <a:pt x="162" y="201"/>
                          </a:lnTo>
                          <a:lnTo>
                            <a:pt x="159" y="180"/>
                          </a:lnTo>
                          <a:lnTo>
                            <a:pt x="157" y="158"/>
                          </a:lnTo>
                          <a:lnTo>
                            <a:pt x="155" y="137"/>
                          </a:lnTo>
                          <a:lnTo>
                            <a:pt x="0" y="0"/>
                          </a:lnTo>
                          <a:lnTo>
                            <a:pt x="2" y="25"/>
                          </a:lnTo>
                          <a:lnTo>
                            <a:pt x="5" y="48"/>
                          </a:lnTo>
                          <a:lnTo>
                            <a:pt x="7" y="72"/>
                          </a:lnTo>
                          <a:lnTo>
                            <a:pt x="9" y="95"/>
                          </a:lnTo>
                          <a:lnTo>
                            <a:pt x="12" y="119"/>
                          </a:lnTo>
                          <a:lnTo>
                            <a:pt x="14" y="142"/>
                          </a:lnTo>
                          <a:lnTo>
                            <a:pt x="17" y="166"/>
                          </a:lnTo>
                          <a:lnTo>
                            <a:pt x="19" y="189"/>
                          </a:lnTo>
                          <a:lnTo>
                            <a:pt x="173" y="309"/>
                          </a:lnTo>
                          <a:close/>
                        </a:path>
                      </a:pathLst>
                    </a:custGeom>
                    <a:solidFill>
                      <a:srgbClr val="f0f0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3475800" y="5597280"/>
                      <a:ext cx="39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327">
                          <a:moveTo>
                            <a:pt x="168" y="327"/>
                          </a:moveTo>
                          <a:lnTo>
                            <a:pt x="166" y="306"/>
                          </a:lnTo>
                          <a:lnTo>
                            <a:pt x="165" y="284"/>
                          </a:lnTo>
                          <a:lnTo>
                            <a:pt x="163" y="263"/>
                          </a:lnTo>
                          <a:lnTo>
                            <a:pt x="161" y="242"/>
                          </a:lnTo>
                          <a:lnTo>
                            <a:pt x="160" y="220"/>
                          </a:lnTo>
                          <a:lnTo>
                            <a:pt x="159" y="199"/>
                          </a:lnTo>
                          <a:lnTo>
                            <a:pt x="157" y="176"/>
                          </a:lnTo>
                          <a:lnTo>
                            <a:pt x="156" y="155"/>
                          </a:lnTo>
                          <a:lnTo>
                            <a:pt x="0" y="0"/>
                          </a:lnTo>
                          <a:lnTo>
                            <a:pt x="1" y="24"/>
                          </a:lnTo>
                          <a:lnTo>
                            <a:pt x="2" y="48"/>
                          </a:lnTo>
                          <a:lnTo>
                            <a:pt x="4" y="72"/>
                          </a:lnTo>
                          <a:lnTo>
                            <a:pt x="6" y="96"/>
                          </a:lnTo>
                          <a:lnTo>
                            <a:pt x="7" y="119"/>
                          </a:lnTo>
                          <a:lnTo>
                            <a:pt x="9" y="143"/>
                          </a:lnTo>
                          <a:lnTo>
                            <a:pt x="11" y="167"/>
                          </a:lnTo>
                          <a:lnTo>
                            <a:pt x="13" y="190"/>
                          </a:lnTo>
                          <a:lnTo>
                            <a:pt x="168" y="327"/>
                          </a:lnTo>
                          <a:close/>
                        </a:path>
                      </a:pathLst>
                    </a:custGeom>
                    <a:solidFill>
                      <a:srgbClr val="f2f2f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3475800" y="5594040"/>
                      <a:ext cx="288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347">
                          <a:moveTo>
                            <a:pt x="164" y="347"/>
                          </a:moveTo>
                          <a:lnTo>
                            <a:pt x="163" y="325"/>
                          </a:lnTo>
                          <a:lnTo>
                            <a:pt x="161" y="304"/>
                          </a:lnTo>
                          <a:lnTo>
                            <a:pt x="160" y="282"/>
                          </a:lnTo>
                          <a:lnTo>
                            <a:pt x="159" y="261"/>
                          </a:lnTo>
                          <a:lnTo>
                            <a:pt x="158" y="239"/>
                          </a:lnTo>
                          <a:lnTo>
                            <a:pt x="158" y="218"/>
                          </a:lnTo>
                          <a:lnTo>
                            <a:pt x="157" y="196"/>
                          </a:lnTo>
                          <a:lnTo>
                            <a:pt x="157" y="173"/>
                          </a:lnTo>
                          <a:lnTo>
                            <a:pt x="0" y="0"/>
                          </a:lnTo>
                          <a:lnTo>
                            <a:pt x="0" y="24"/>
                          </a:lnTo>
                          <a:lnTo>
                            <a:pt x="1" y="48"/>
                          </a:lnTo>
                          <a:lnTo>
                            <a:pt x="2" y="72"/>
                          </a:lnTo>
                          <a:lnTo>
                            <a:pt x="3" y="96"/>
                          </a:lnTo>
                          <a:lnTo>
                            <a:pt x="4" y="120"/>
                          </a:lnTo>
                          <a:lnTo>
                            <a:pt x="5" y="144"/>
                          </a:lnTo>
                          <a:lnTo>
                            <a:pt x="6" y="168"/>
                          </a:lnTo>
                          <a:lnTo>
                            <a:pt x="8" y="192"/>
                          </a:lnTo>
                          <a:lnTo>
                            <a:pt x="164" y="347"/>
                          </a:lnTo>
                          <a:close/>
                        </a:path>
                      </a:pathLst>
                    </a:cu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3595320" y="5608080"/>
                      <a:ext cx="4572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1" h="4057">
                          <a:moveTo>
                            <a:pt x="2" y="345"/>
                          </a:moveTo>
                          <a:lnTo>
                            <a:pt x="2138" y="4014"/>
                          </a:lnTo>
                          <a:lnTo>
                            <a:pt x="2361" y="4057"/>
                          </a:lnTo>
                          <a:lnTo>
                            <a:pt x="0" y="0"/>
                          </a:lnTo>
                          <a:lnTo>
                            <a:pt x="2" y="345"/>
                          </a:lnTo>
                          <a:close/>
                        </a:path>
                      </a:pathLst>
                    </a:custGeom>
                    <a:solidFill>
                      <a:srgbClr val="0f0f0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3479040" y="5596560"/>
                      <a:ext cx="1576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86" h="5369">
                          <a:moveTo>
                            <a:pt x="8086" y="4708"/>
                          </a:moveTo>
                          <a:lnTo>
                            <a:pt x="7933" y="4787"/>
                          </a:lnTo>
                          <a:lnTo>
                            <a:pt x="7778" y="4862"/>
                          </a:lnTo>
                          <a:lnTo>
                            <a:pt x="7621" y="4932"/>
                          </a:lnTo>
                          <a:lnTo>
                            <a:pt x="7461" y="4996"/>
                          </a:lnTo>
                          <a:lnTo>
                            <a:pt x="7301" y="5056"/>
                          </a:lnTo>
                          <a:lnTo>
                            <a:pt x="7137" y="5111"/>
                          </a:lnTo>
                          <a:lnTo>
                            <a:pt x="6974" y="5160"/>
                          </a:lnTo>
                          <a:lnTo>
                            <a:pt x="6807" y="5204"/>
                          </a:lnTo>
                          <a:lnTo>
                            <a:pt x="6641" y="5243"/>
                          </a:lnTo>
                          <a:lnTo>
                            <a:pt x="6472" y="5278"/>
                          </a:lnTo>
                          <a:lnTo>
                            <a:pt x="6303" y="5306"/>
                          </a:lnTo>
                          <a:lnTo>
                            <a:pt x="6133" y="5329"/>
                          </a:lnTo>
                          <a:lnTo>
                            <a:pt x="5962" y="5347"/>
                          </a:lnTo>
                          <a:lnTo>
                            <a:pt x="5790" y="5360"/>
                          </a:lnTo>
                          <a:lnTo>
                            <a:pt x="5619" y="5367"/>
                          </a:lnTo>
                          <a:lnTo>
                            <a:pt x="5446" y="5369"/>
                          </a:lnTo>
                          <a:lnTo>
                            <a:pt x="5273" y="5366"/>
                          </a:lnTo>
                          <a:lnTo>
                            <a:pt x="5100" y="5357"/>
                          </a:lnTo>
                          <a:lnTo>
                            <a:pt x="4928" y="5342"/>
                          </a:lnTo>
                          <a:lnTo>
                            <a:pt x="4754" y="5322"/>
                          </a:lnTo>
                          <a:lnTo>
                            <a:pt x="4582" y="5296"/>
                          </a:lnTo>
                          <a:lnTo>
                            <a:pt x="4410" y="5265"/>
                          </a:lnTo>
                          <a:lnTo>
                            <a:pt x="4237" y="5227"/>
                          </a:lnTo>
                          <a:lnTo>
                            <a:pt x="4067" y="5185"/>
                          </a:lnTo>
                          <a:lnTo>
                            <a:pt x="3896" y="5136"/>
                          </a:lnTo>
                          <a:lnTo>
                            <a:pt x="3727" y="5082"/>
                          </a:lnTo>
                          <a:lnTo>
                            <a:pt x="3559" y="5021"/>
                          </a:lnTo>
                          <a:lnTo>
                            <a:pt x="3392" y="4956"/>
                          </a:lnTo>
                          <a:lnTo>
                            <a:pt x="3226" y="4884"/>
                          </a:lnTo>
                          <a:lnTo>
                            <a:pt x="3062" y="4806"/>
                          </a:lnTo>
                          <a:lnTo>
                            <a:pt x="2899" y="4722"/>
                          </a:lnTo>
                          <a:lnTo>
                            <a:pt x="2738" y="4632"/>
                          </a:lnTo>
                          <a:lnTo>
                            <a:pt x="2579" y="4537"/>
                          </a:lnTo>
                          <a:lnTo>
                            <a:pt x="2425" y="4437"/>
                          </a:lnTo>
                          <a:lnTo>
                            <a:pt x="2275" y="4334"/>
                          </a:lnTo>
                          <a:lnTo>
                            <a:pt x="2130" y="4225"/>
                          </a:lnTo>
                          <a:lnTo>
                            <a:pt x="1990" y="4113"/>
                          </a:lnTo>
                          <a:lnTo>
                            <a:pt x="1853" y="3997"/>
                          </a:lnTo>
                          <a:lnTo>
                            <a:pt x="1722" y="3877"/>
                          </a:lnTo>
                          <a:lnTo>
                            <a:pt x="1594" y="3753"/>
                          </a:lnTo>
                          <a:lnTo>
                            <a:pt x="1471" y="3625"/>
                          </a:lnTo>
                          <a:lnTo>
                            <a:pt x="1354" y="3495"/>
                          </a:lnTo>
                          <a:lnTo>
                            <a:pt x="1240" y="3361"/>
                          </a:lnTo>
                          <a:lnTo>
                            <a:pt x="1131" y="3224"/>
                          </a:lnTo>
                          <a:lnTo>
                            <a:pt x="1028" y="3084"/>
                          </a:lnTo>
                          <a:lnTo>
                            <a:pt x="928" y="2941"/>
                          </a:lnTo>
                          <a:lnTo>
                            <a:pt x="834" y="2794"/>
                          </a:lnTo>
                          <a:lnTo>
                            <a:pt x="745" y="2647"/>
                          </a:lnTo>
                          <a:lnTo>
                            <a:pt x="660" y="2495"/>
                          </a:lnTo>
                          <a:lnTo>
                            <a:pt x="580" y="2342"/>
                          </a:lnTo>
                          <a:lnTo>
                            <a:pt x="505" y="2186"/>
                          </a:lnTo>
                          <a:lnTo>
                            <a:pt x="436" y="2028"/>
                          </a:lnTo>
                          <a:lnTo>
                            <a:pt x="371" y="1869"/>
                          </a:lnTo>
                          <a:lnTo>
                            <a:pt x="311" y="1707"/>
                          </a:lnTo>
                          <a:lnTo>
                            <a:pt x="256" y="1544"/>
                          </a:lnTo>
                          <a:lnTo>
                            <a:pt x="207" y="1379"/>
                          </a:lnTo>
                          <a:lnTo>
                            <a:pt x="162" y="1212"/>
                          </a:lnTo>
                          <a:lnTo>
                            <a:pt x="123" y="1046"/>
                          </a:lnTo>
                          <a:lnTo>
                            <a:pt x="90" y="877"/>
                          </a:lnTo>
                          <a:lnTo>
                            <a:pt x="61" y="707"/>
                          </a:lnTo>
                          <a:lnTo>
                            <a:pt x="38" y="536"/>
                          </a:lnTo>
                          <a:lnTo>
                            <a:pt x="20" y="364"/>
                          </a:lnTo>
                          <a:lnTo>
                            <a:pt x="7" y="191"/>
                          </a:lnTo>
                          <a:lnTo>
                            <a:pt x="0" y="18"/>
                          </a:lnTo>
                          <a:lnTo>
                            <a:pt x="4197" y="0"/>
                          </a:lnTo>
                          <a:lnTo>
                            <a:pt x="4076" y="210"/>
                          </a:lnTo>
                          <a:lnTo>
                            <a:pt x="5838" y="1230"/>
                          </a:lnTo>
                          <a:lnTo>
                            <a:pt x="5950" y="1039"/>
                          </a:lnTo>
                          <a:lnTo>
                            <a:pt x="8086" y="4708"/>
                          </a:lnTo>
                          <a:close/>
                        </a:path>
                      </a:pathLst>
                    </a:custGeom>
                    <a:solidFill>
                      <a:srgbClr val="cc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3639960" y="5594040"/>
                      <a:ext cx="5616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4" h="5004">
                          <a:moveTo>
                            <a:pt x="2730" y="176"/>
                          </a:moveTo>
                          <a:lnTo>
                            <a:pt x="2730" y="197"/>
                          </a:lnTo>
                          <a:lnTo>
                            <a:pt x="2729" y="218"/>
                          </a:lnTo>
                          <a:lnTo>
                            <a:pt x="2729" y="240"/>
                          </a:lnTo>
                          <a:lnTo>
                            <a:pt x="2728" y="261"/>
                          </a:lnTo>
                          <a:lnTo>
                            <a:pt x="2727" y="282"/>
                          </a:lnTo>
                          <a:lnTo>
                            <a:pt x="2727" y="303"/>
                          </a:lnTo>
                          <a:lnTo>
                            <a:pt x="2726" y="324"/>
                          </a:lnTo>
                          <a:lnTo>
                            <a:pt x="2725" y="345"/>
                          </a:lnTo>
                          <a:lnTo>
                            <a:pt x="2724" y="367"/>
                          </a:lnTo>
                          <a:lnTo>
                            <a:pt x="2723" y="388"/>
                          </a:lnTo>
                          <a:lnTo>
                            <a:pt x="2721" y="409"/>
                          </a:lnTo>
                          <a:lnTo>
                            <a:pt x="2720" y="430"/>
                          </a:lnTo>
                          <a:lnTo>
                            <a:pt x="2719" y="452"/>
                          </a:lnTo>
                          <a:lnTo>
                            <a:pt x="2717" y="473"/>
                          </a:lnTo>
                          <a:lnTo>
                            <a:pt x="2716" y="494"/>
                          </a:lnTo>
                          <a:lnTo>
                            <a:pt x="2714" y="515"/>
                          </a:lnTo>
                          <a:lnTo>
                            <a:pt x="2712" y="536"/>
                          </a:lnTo>
                          <a:lnTo>
                            <a:pt x="2711" y="557"/>
                          </a:lnTo>
                          <a:lnTo>
                            <a:pt x="2709" y="579"/>
                          </a:lnTo>
                          <a:lnTo>
                            <a:pt x="2707" y="600"/>
                          </a:lnTo>
                          <a:lnTo>
                            <a:pt x="2705" y="621"/>
                          </a:lnTo>
                          <a:lnTo>
                            <a:pt x="2703" y="643"/>
                          </a:lnTo>
                          <a:lnTo>
                            <a:pt x="2700" y="664"/>
                          </a:lnTo>
                          <a:lnTo>
                            <a:pt x="2698" y="685"/>
                          </a:lnTo>
                          <a:lnTo>
                            <a:pt x="2696" y="706"/>
                          </a:lnTo>
                          <a:lnTo>
                            <a:pt x="2693" y="727"/>
                          </a:lnTo>
                          <a:lnTo>
                            <a:pt x="2691" y="748"/>
                          </a:lnTo>
                          <a:lnTo>
                            <a:pt x="2688" y="769"/>
                          </a:lnTo>
                          <a:lnTo>
                            <a:pt x="2685" y="790"/>
                          </a:lnTo>
                          <a:lnTo>
                            <a:pt x="2683" y="811"/>
                          </a:lnTo>
                          <a:lnTo>
                            <a:pt x="2680" y="832"/>
                          </a:lnTo>
                          <a:lnTo>
                            <a:pt x="2677" y="854"/>
                          </a:lnTo>
                          <a:lnTo>
                            <a:pt x="2674" y="875"/>
                          </a:lnTo>
                          <a:lnTo>
                            <a:pt x="2671" y="896"/>
                          </a:lnTo>
                          <a:lnTo>
                            <a:pt x="2667" y="917"/>
                          </a:lnTo>
                          <a:lnTo>
                            <a:pt x="2664" y="939"/>
                          </a:lnTo>
                          <a:lnTo>
                            <a:pt x="2661" y="960"/>
                          </a:lnTo>
                          <a:lnTo>
                            <a:pt x="2657" y="981"/>
                          </a:lnTo>
                          <a:lnTo>
                            <a:pt x="2654" y="1002"/>
                          </a:lnTo>
                          <a:lnTo>
                            <a:pt x="2650" y="1023"/>
                          </a:lnTo>
                          <a:lnTo>
                            <a:pt x="2647" y="1045"/>
                          </a:lnTo>
                          <a:lnTo>
                            <a:pt x="2643" y="1066"/>
                          </a:lnTo>
                          <a:lnTo>
                            <a:pt x="2639" y="1087"/>
                          </a:lnTo>
                          <a:lnTo>
                            <a:pt x="2636" y="1108"/>
                          </a:lnTo>
                          <a:lnTo>
                            <a:pt x="2632" y="1129"/>
                          </a:lnTo>
                          <a:lnTo>
                            <a:pt x="2628" y="1150"/>
                          </a:lnTo>
                          <a:lnTo>
                            <a:pt x="2623" y="1171"/>
                          </a:lnTo>
                          <a:lnTo>
                            <a:pt x="2619" y="1192"/>
                          </a:lnTo>
                          <a:lnTo>
                            <a:pt x="2614" y="1215"/>
                          </a:lnTo>
                          <a:lnTo>
                            <a:pt x="2608" y="1242"/>
                          </a:lnTo>
                          <a:lnTo>
                            <a:pt x="2602" y="1270"/>
                          </a:lnTo>
                          <a:lnTo>
                            <a:pt x="2596" y="1297"/>
                          </a:lnTo>
                          <a:lnTo>
                            <a:pt x="2591" y="1322"/>
                          </a:lnTo>
                          <a:lnTo>
                            <a:pt x="2586" y="1341"/>
                          </a:lnTo>
                          <a:lnTo>
                            <a:pt x="2583" y="1355"/>
                          </a:lnTo>
                          <a:lnTo>
                            <a:pt x="2582" y="1359"/>
                          </a:lnTo>
                          <a:lnTo>
                            <a:pt x="2577" y="1380"/>
                          </a:lnTo>
                          <a:lnTo>
                            <a:pt x="2572" y="1401"/>
                          </a:lnTo>
                          <a:lnTo>
                            <a:pt x="2565" y="1422"/>
                          </a:lnTo>
                          <a:lnTo>
                            <a:pt x="2560" y="1444"/>
                          </a:lnTo>
                          <a:lnTo>
                            <a:pt x="2555" y="1465"/>
                          </a:lnTo>
                          <a:lnTo>
                            <a:pt x="2549" y="1486"/>
                          </a:lnTo>
                          <a:lnTo>
                            <a:pt x="2544" y="1507"/>
                          </a:lnTo>
                          <a:lnTo>
                            <a:pt x="2538" y="1527"/>
                          </a:lnTo>
                          <a:lnTo>
                            <a:pt x="2533" y="1548"/>
                          </a:lnTo>
                          <a:lnTo>
                            <a:pt x="2527" y="1569"/>
                          </a:lnTo>
                          <a:lnTo>
                            <a:pt x="2521" y="1590"/>
                          </a:lnTo>
                          <a:lnTo>
                            <a:pt x="2515" y="1610"/>
                          </a:lnTo>
                          <a:lnTo>
                            <a:pt x="2508" y="1631"/>
                          </a:lnTo>
                          <a:lnTo>
                            <a:pt x="2502" y="1653"/>
                          </a:lnTo>
                          <a:lnTo>
                            <a:pt x="2496" y="1674"/>
                          </a:lnTo>
                          <a:lnTo>
                            <a:pt x="2490" y="1694"/>
                          </a:lnTo>
                          <a:lnTo>
                            <a:pt x="2483" y="1715"/>
                          </a:lnTo>
                          <a:lnTo>
                            <a:pt x="2477" y="1736"/>
                          </a:lnTo>
                          <a:lnTo>
                            <a:pt x="2470" y="1756"/>
                          </a:lnTo>
                          <a:lnTo>
                            <a:pt x="2464" y="1777"/>
                          </a:lnTo>
                          <a:lnTo>
                            <a:pt x="2457" y="1798"/>
                          </a:lnTo>
                          <a:lnTo>
                            <a:pt x="2450" y="1818"/>
                          </a:lnTo>
                          <a:lnTo>
                            <a:pt x="2443" y="1839"/>
                          </a:lnTo>
                          <a:lnTo>
                            <a:pt x="2436" y="1860"/>
                          </a:lnTo>
                          <a:lnTo>
                            <a:pt x="2429" y="1881"/>
                          </a:lnTo>
                          <a:lnTo>
                            <a:pt x="2422" y="1901"/>
                          </a:lnTo>
                          <a:lnTo>
                            <a:pt x="2415" y="1922"/>
                          </a:lnTo>
                          <a:lnTo>
                            <a:pt x="2407" y="1942"/>
                          </a:lnTo>
                          <a:lnTo>
                            <a:pt x="2399" y="1963"/>
                          </a:lnTo>
                          <a:lnTo>
                            <a:pt x="2392" y="1983"/>
                          </a:lnTo>
                          <a:lnTo>
                            <a:pt x="2384" y="2003"/>
                          </a:lnTo>
                          <a:lnTo>
                            <a:pt x="2377" y="2024"/>
                          </a:lnTo>
                          <a:lnTo>
                            <a:pt x="2368" y="2048"/>
                          </a:lnTo>
                          <a:lnTo>
                            <a:pt x="2358" y="2073"/>
                          </a:lnTo>
                          <a:lnTo>
                            <a:pt x="2347" y="2101"/>
                          </a:lnTo>
                          <a:lnTo>
                            <a:pt x="2337" y="2127"/>
                          </a:lnTo>
                          <a:lnTo>
                            <a:pt x="2327" y="2151"/>
                          </a:lnTo>
                          <a:lnTo>
                            <a:pt x="2319" y="2170"/>
                          </a:lnTo>
                          <a:lnTo>
                            <a:pt x="2314" y="2183"/>
                          </a:lnTo>
                          <a:lnTo>
                            <a:pt x="2312" y="2188"/>
                          </a:lnTo>
                          <a:lnTo>
                            <a:pt x="2304" y="2208"/>
                          </a:lnTo>
                          <a:lnTo>
                            <a:pt x="2295" y="2229"/>
                          </a:lnTo>
                          <a:lnTo>
                            <a:pt x="2286" y="2250"/>
                          </a:lnTo>
                          <a:lnTo>
                            <a:pt x="2278" y="2270"/>
                          </a:lnTo>
                          <a:lnTo>
                            <a:pt x="2269" y="2290"/>
                          </a:lnTo>
                          <a:lnTo>
                            <a:pt x="2260" y="2311"/>
                          </a:lnTo>
                          <a:lnTo>
                            <a:pt x="2251" y="2331"/>
                          </a:lnTo>
                          <a:lnTo>
                            <a:pt x="2242" y="2351"/>
                          </a:lnTo>
                          <a:lnTo>
                            <a:pt x="2231" y="2371"/>
                          </a:lnTo>
                          <a:lnTo>
                            <a:pt x="2222" y="2391"/>
                          </a:lnTo>
                          <a:lnTo>
                            <a:pt x="2213" y="2411"/>
                          </a:lnTo>
                          <a:lnTo>
                            <a:pt x="2203" y="2431"/>
                          </a:lnTo>
                          <a:lnTo>
                            <a:pt x="2194" y="2452"/>
                          </a:lnTo>
                          <a:lnTo>
                            <a:pt x="2184" y="2472"/>
                          </a:lnTo>
                          <a:lnTo>
                            <a:pt x="2174" y="2492"/>
                          </a:lnTo>
                          <a:lnTo>
                            <a:pt x="2165" y="2512"/>
                          </a:lnTo>
                          <a:lnTo>
                            <a:pt x="2155" y="2532"/>
                          </a:lnTo>
                          <a:lnTo>
                            <a:pt x="2145" y="2552"/>
                          </a:lnTo>
                          <a:lnTo>
                            <a:pt x="2135" y="2572"/>
                          </a:lnTo>
                          <a:lnTo>
                            <a:pt x="2125" y="2591"/>
                          </a:lnTo>
                          <a:lnTo>
                            <a:pt x="2114" y="2611"/>
                          </a:lnTo>
                          <a:lnTo>
                            <a:pt x="2104" y="2631"/>
                          </a:lnTo>
                          <a:lnTo>
                            <a:pt x="2093" y="2652"/>
                          </a:lnTo>
                          <a:lnTo>
                            <a:pt x="2083" y="2671"/>
                          </a:lnTo>
                          <a:lnTo>
                            <a:pt x="2072" y="2691"/>
                          </a:lnTo>
                          <a:lnTo>
                            <a:pt x="2062" y="2711"/>
                          </a:lnTo>
                          <a:lnTo>
                            <a:pt x="2051" y="2731"/>
                          </a:lnTo>
                          <a:lnTo>
                            <a:pt x="2040" y="2750"/>
                          </a:lnTo>
                          <a:lnTo>
                            <a:pt x="2029" y="2770"/>
                          </a:lnTo>
                          <a:lnTo>
                            <a:pt x="2018" y="2790"/>
                          </a:lnTo>
                          <a:lnTo>
                            <a:pt x="2007" y="2809"/>
                          </a:lnTo>
                          <a:lnTo>
                            <a:pt x="1996" y="2828"/>
                          </a:lnTo>
                          <a:lnTo>
                            <a:pt x="1984" y="2849"/>
                          </a:lnTo>
                          <a:lnTo>
                            <a:pt x="1973" y="2869"/>
                          </a:lnTo>
                          <a:lnTo>
                            <a:pt x="1961" y="2888"/>
                          </a:lnTo>
                          <a:lnTo>
                            <a:pt x="1950" y="2907"/>
                          </a:lnTo>
                          <a:lnTo>
                            <a:pt x="1938" y="2927"/>
                          </a:lnTo>
                          <a:lnTo>
                            <a:pt x="1927" y="2946"/>
                          </a:lnTo>
                          <a:lnTo>
                            <a:pt x="1915" y="2965"/>
                          </a:lnTo>
                          <a:lnTo>
                            <a:pt x="1903" y="2984"/>
                          </a:lnTo>
                          <a:lnTo>
                            <a:pt x="1891" y="3003"/>
                          </a:lnTo>
                          <a:lnTo>
                            <a:pt x="1879" y="3022"/>
                          </a:lnTo>
                          <a:lnTo>
                            <a:pt x="1867" y="3041"/>
                          </a:lnTo>
                          <a:lnTo>
                            <a:pt x="1855" y="3061"/>
                          </a:lnTo>
                          <a:lnTo>
                            <a:pt x="1842" y="3080"/>
                          </a:lnTo>
                          <a:lnTo>
                            <a:pt x="1830" y="3098"/>
                          </a:lnTo>
                          <a:lnTo>
                            <a:pt x="1818" y="3117"/>
                          </a:lnTo>
                          <a:lnTo>
                            <a:pt x="1806" y="3136"/>
                          </a:lnTo>
                          <a:lnTo>
                            <a:pt x="1793" y="3154"/>
                          </a:lnTo>
                          <a:lnTo>
                            <a:pt x="1781" y="3172"/>
                          </a:lnTo>
                          <a:lnTo>
                            <a:pt x="1768" y="3191"/>
                          </a:lnTo>
                          <a:lnTo>
                            <a:pt x="1756" y="3209"/>
                          </a:lnTo>
                          <a:lnTo>
                            <a:pt x="1743" y="3227"/>
                          </a:lnTo>
                          <a:lnTo>
                            <a:pt x="1730" y="3245"/>
                          </a:lnTo>
                          <a:lnTo>
                            <a:pt x="1718" y="3264"/>
                          </a:lnTo>
                          <a:lnTo>
                            <a:pt x="1705" y="3282"/>
                          </a:lnTo>
                          <a:lnTo>
                            <a:pt x="1692" y="3300"/>
                          </a:lnTo>
                          <a:lnTo>
                            <a:pt x="1679" y="3318"/>
                          </a:lnTo>
                          <a:lnTo>
                            <a:pt x="1666" y="3336"/>
                          </a:lnTo>
                          <a:lnTo>
                            <a:pt x="1653" y="3354"/>
                          </a:lnTo>
                          <a:lnTo>
                            <a:pt x="1639" y="3372"/>
                          </a:lnTo>
                          <a:lnTo>
                            <a:pt x="1626" y="3389"/>
                          </a:lnTo>
                          <a:lnTo>
                            <a:pt x="1613" y="3407"/>
                          </a:lnTo>
                          <a:lnTo>
                            <a:pt x="1600" y="3424"/>
                          </a:lnTo>
                          <a:lnTo>
                            <a:pt x="1572" y="3460"/>
                          </a:lnTo>
                          <a:lnTo>
                            <a:pt x="1545" y="3495"/>
                          </a:lnTo>
                          <a:lnTo>
                            <a:pt x="1517" y="3529"/>
                          </a:lnTo>
                          <a:lnTo>
                            <a:pt x="1490" y="3563"/>
                          </a:lnTo>
                          <a:lnTo>
                            <a:pt x="1462" y="3597"/>
                          </a:lnTo>
                          <a:lnTo>
                            <a:pt x="1434" y="3631"/>
                          </a:lnTo>
                          <a:lnTo>
                            <a:pt x="1405" y="3665"/>
                          </a:lnTo>
                          <a:lnTo>
                            <a:pt x="1377" y="3698"/>
                          </a:lnTo>
                          <a:lnTo>
                            <a:pt x="1348" y="3730"/>
                          </a:lnTo>
                          <a:lnTo>
                            <a:pt x="1319" y="3763"/>
                          </a:lnTo>
                          <a:lnTo>
                            <a:pt x="1290" y="3795"/>
                          </a:lnTo>
                          <a:lnTo>
                            <a:pt x="1261" y="3826"/>
                          </a:lnTo>
                          <a:lnTo>
                            <a:pt x="1230" y="3859"/>
                          </a:lnTo>
                          <a:lnTo>
                            <a:pt x="1200" y="3891"/>
                          </a:lnTo>
                          <a:lnTo>
                            <a:pt x="1170" y="3922"/>
                          </a:lnTo>
                          <a:lnTo>
                            <a:pt x="1140" y="3953"/>
                          </a:lnTo>
                          <a:lnTo>
                            <a:pt x="1106" y="3986"/>
                          </a:lnTo>
                          <a:lnTo>
                            <a:pt x="1067" y="4024"/>
                          </a:lnTo>
                          <a:lnTo>
                            <a:pt x="1025" y="4064"/>
                          </a:lnTo>
                          <a:lnTo>
                            <a:pt x="985" y="4102"/>
                          </a:lnTo>
                          <a:lnTo>
                            <a:pt x="948" y="4137"/>
                          </a:lnTo>
                          <a:lnTo>
                            <a:pt x="917" y="4164"/>
                          </a:lnTo>
                          <a:lnTo>
                            <a:pt x="897" y="4183"/>
                          </a:lnTo>
                          <a:lnTo>
                            <a:pt x="890" y="4190"/>
                          </a:lnTo>
                          <a:lnTo>
                            <a:pt x="857" y="4218"/>
                          </a:lnTo>
                          <a:lnTo>
                            <a:pt x="825" y="4246"/>
                          </a:lnTo>
                          <a:lnTo>
                            <a:pt x="793" y="4275"/>
                          </a:lnTo>
                          <a:lnTo>
                            <a:pt x="760" y="4302"/>
                          </a:lnTo>
                          <a:lnTo>
                            <a:pt x="727" y="4329"/>
                          </a:lnTo>
                          <a:lnTo>
                            <a:pt x="694" y="4356"/>
                          </a:lnTo>
                          <a:lnTo>
                            <a:pt x="661" y="4383"/>
                          </a:lnTo>
                          <a:lnTo>
                            <a:pt x="628" y="4409"/>
                          </a:lnTo>
                          <a:lnTo>
                            <a:pt x="611" y="4422"/>
                          </a:lnTo>
                          <a:lnTo>
                            <a:pt x="593" y="4435"/>
                          </a:lnTo>
                          <a:lnTo>
                            <a:pt x="576" y="4448"/>
                          </a:lnTo>
                          <a:lnTo>
                            <a:pt x="559" y="4462"/>
                          </a:lnTo>
                          <a:lnTo>
                            <a:pt x="542" y="4475"/>
                          </a:lnTo>
                          <a:lnTo>
                            <a:pt x="525" y="4488"/>
                          </a:lnTo>
                          <a:lnTo>
                            <a:pt x="508" y="4501"/>
                          </a:lnTo>
                          <a:lnTo>
                            <a:pt x="491" y="4513"/>
                          </a:lnTo>
                          <a:lnTo>
                            <a:pt x="474" y="4525"/>
                          </a:lnTo>
                          <a:lnTo>
                            <a:pt x="457" y="4538"/>
                          </a:lnTo>
                          <a:lnTo>
                            <a:pt x="439" y="4550"/>
                          </a:lnTo>
                          <a:lnTo>
                            <a:pt x="422" y="4562"/>
                          </a:lnTo>
                          <a:lnTo>
                            <a:pt x="405" y="4575"/>
                          </a:lnTo>
                          <a:lnTo>
                            <a:pt x="387" y="4587"/>
                          </a:lnTo>
                          <a:lnTo>
                            <a:pt x="370" y="4599"/>
                          </a:lnTo>
                          <a:lnTo>
                            <a:pt x="352" y="4611"/>
                          </a:lnTo>
                          <a:lnTo>
                            <a:pt x="335" y="4623"/>
                          </a:lnTo>
                          <a:lnTo>
                            <a:pt x="318" y="4635"/>
                          </a:lnTo>
                          <a:lnTo>
                            <a:pt x="300" y="4646"/>
                          </a:lnTo>
                          <a:lnTo>
                            <a:pt x="282" y="4659"/>
                          </a:lnTo>
                          <a:lnTo>
                            <a:pt x="264" y="4671"/>
                          </a:lnTo>
                          <a:lnTo>
                            <a:pt x="246" y="4682"/>
                          </a:lnTo>
                          <a:lnTo>
                            <a:pt x="228" y="4694"/>
                          </a:lnTo>
                          <a:lnTo>
                            <a:pt x="210" y="4705"/>
                          </a:lnTo>
                          <a:lnTo>
                            <a:pt x="192" y="4717"/>
                          </a:lnTo>
                          <a:lnTo>
                            <a:pt x="175" y="4728"/>
                          </a:lnTo>
                          <a:lnTo>
                            <a:pt x="157" y="4739"/>
                          </a:lnTo>
                          <a:lnTo>
                            <a:pt x="139" y="4750"/>
                          </a:lnTo>
                          <a:lnTo>
                            <a:pt x="121" y="4762"/>
                          </a:lnTo>
                          <a:lnTo>
                            <a:pt x="103" y="4773"/>
                          </a:lnTo>
                          <a:lnTo>
                            <a:pt x="85" y="4784"/>
                          </a:lnTo>
                          <a:lnTo>
                            <a:pt x="67" y="4795"/>
                          </a:lnTo>
                          <a:lnTo>
                            <a:pt x="0" y="5004"/>
                          </a:lnTo>
                          <a:lnTo>
                            <a:pt x="22" y="4991"/>
                          </a:lnTo>
                          <a:lnTo>
                            <a:pt x="44" y="4978"/>
                          </a:lnTo>
                          <a:lnTo>
                            <a:pt x="65" y="4965"/>
                          </a:lnTo>
                          <a:lnTo>
                            <a:pt x="87" y="4952"/>
                          </a:lnTo>
                          <a:lnTo>
                            <a:pt x="108" y="4939"/>
                          </a:lnTo>
                          <a:lnTo>
                            <a:pt x="129" y="4925"/>
                          </a:lnTo>
                          <a:lnTo>
                            <a:pt x="151" y="4912"/>
                          </a:lnTo>
                          <a:lnTo>
                            <a:pt x="172" y="4899"/>
                          </a:lnTo>
                          <a:lnTo>
                            <a:pt x="193" y="4885"/>
                          </a:lnTo>
                          <a:lnTo>
                            <a:pt x="214" y="4871"/>
                          </a:lnTo>
                          <a:lnTo>
                            <a:pt x="235" y="4858"/>
                          </a:lnTo>
                          <a:lnTo>
                            <a:pt x="256" y="4843"/>
                          </a:lnTo>
                          <a:lnTo>
                            <a:pt x="277" y="4829"/>
                          </a:lnTo>
                          <a:lnTo>
                            <a:pt x="298" y="4816"/>
                          </a:lnTo>
                          <a:lnTo>
                            <a:pt x="319" y="4802"/>
                          </a:lnTo>
                          <a:lnTo>
                            <a:pt x="339" y="4788"/>
                          </a:lnTo>
                          <a:lnTo>
                            <a:pt x="360" y="4775"/>
                          </a:lnTo>
                          <a:lnTo>
                            <a:pt x="380" y="4761"/>
                          </a:lnTo>
                          <a:lnTo>
                            <a:pt x="400" y="4746"/>
                          </a:lnTo>
                          <a:lnTo>
                            <a:pt x="420" y="4732"/>
                          </a:lnTo>
                          <a:lnTo>
                            <a:pt x="441" y="4718"/>
                          </a:lnTo>
                          <a:lnTo>
                            <a:pt x="461" y="4704"/>
                          </a:lnTo>
                          <a:lnTo>
                            <a:pt x="481" y="4690"/>
                          </a:lnTo>
                          <a:lnTo>
                            <a:pt x="501" y="4676"/>
                          </a:lnTo>
                          <a:lnTo>
                            <a:pt x="520" y="4661"/>
                          </a:lnTo>
                          <a:lnTo>
                            <a:pt x="540" y="4646"/>
                          </a:lnTo>
                          <a:lnTo>
                            <a:pt x="559" y="4632"/>
                          </a:lnTo>
                          <a:lnTo>
                            <a:pt x="579" y="4617"/>
                          </a:lnTo>
                          <a:lnTo>
                            <a:pt x="598" y="4603"/>
                          </a:lnTo>
                          <a:lnTo>
                            <a:pt x="619" y="4589"/>
                          </a:lnTo>
                          <a:lnTo>
                            <a:pt x="638" y="4574"/>
                          </a:lnTo>
                          <a:lnTo>
                            <a:pt x="657" y="4559"/>
                          </a:lnTo>
                          <a:lnTo>
                            <a:pt x="695" y="4530"/>
                          </a:lnTo>
                          <a:lnTo>
                            <a:pt x="733" y="4500"/>
                          </a:lnTo>
                          <a:lnTo>
                            <a:pt x="770" y="4471"/>
                          </a:lnTo>
                          <a:lnTo>
                            <a:pt x="807" y="4440"/>
                          </a:lnTo>
                          <a:lnTo>
                            <a:pt x="844" y="4410"/>
                          </a:lnTo>
                          <a:lnTo>
                            <a:pt x="881" y="4379"/>
                          </a:lnTo>
                          <a:lnTo>
                            <a:pt x="917" y="4349"/>
                          </a:lnTo>
                          <a:lnTo>
                            <a:pt x="954" y="4318"/>
                          </a:lnTo>
                          <a:lnTo>
                            <a:pt x="962" y="4310"/>
                          </a:lnTo>
                          <a:lnTo>
                            <a:pt x="984" y="4290"/>
                          </a:lnTo>
                          <a:lnTo>
                            <a:pt x="1017" y="4260"/>
                          </a:lnTo>
                          <a:lnTo>
                            <a:pt x="1058" y="4223"/>
                          </a:lnTo>
                          <a:lnTo>
                            <a:pt x="1103" y="4182"/>
                          </a:lnTo>
                          <a:lnTo>
                            <a:pt x="1148" y="4139"/>
                          </a:lnTo>
                          <a:lnTo>
                            <a:pt x="1191" y="4099"/>
                          </a:lnTo>
                          <a:lnTo>
                            <a:pt x="1229" y="4063"/>
                          </a:lnTo>
                          <a:lnTo>
                            <a:pt x="1262" y="4029"/>
                          </a:lnTo>
                          <a:lnTo>
                            <a:pt x="1295" y="3996"/>
                          </a:lnTo>
                          <a:lnTo>
                            <a:pt x="1327" y="3963"/>
                          </a:lnTo>
                          <a:lnTo>
                            <a:pt x="1359" y="3930"/>
                          </a:lnTo>
                          <a:lnTo>
                            <a:pt x="1390" y="3896"/>
                          </a:lnTo>
                          <a:lnTo>
                            <a:pt x="1422" y="3862"/>
                          </a:lnTo>
                          <a:lnTo>
                            <a:pt x="1453" y="3827"/>
                          </a:lnTo>
                          <a:lnTo>
                            <a:pt x="1484" y="3793"/>
                          </a:lnTo>
                          <a:lnTo>
                            <a:pt x="1514" y="3759"/>
                          </a:lnTo>
                          <a:lnTo>
                            <a:pt x="1544" y="3724"/>
                          </a:lnTo>
                          <a:lnTo>
                            <a:pt x="1573" y="3689"/>
                          </a:lnTo>
                          <a:lnTo>
                            <a:pt x="1604" y="3654"/>
                          </a:lnTo>
                          <a:lnTo>
                            <a:pt x="1633" y="3617"/>
                          </a:lnTo>
                          <a:lnTo>
                            <a:pt x="1661" y="3582"/>
                          </a:lnTo>
                          <a:lnTo>
                            <a:pt x="1690" y="3546"/>
                          </a:lnTo>
                          <a:lnTo>
                            <a:pt x="1718" y="3510"/>
                          </a:lnTo>
                          <a:lnTo>
                            <a:pt x="1732" y="3492"/>
                          </a:lnTo>
                          <a:lnTo>
                            <a:pt x="1746" y="3474"/>
                          </a:lnTo>
                          <a:lnTo>
                            <a:pt x="1759" y="3455"/>
                          </a:lnTo>
                          <a:lnTo>
                            <a:pt x="1773" y="3436"/>
                          </a:lnTo>
                          <a:lnTo>
                            <a:pt x="1787" y="3418"/>
                          </a:lnTo>
                          <a:lnTo>
                            <a:pt x="1800" y="3399"/>
                          </a:lnTo>
                          <a:lnTo>
                            <a:pt x="1814" y="3381"/>
                          </a:lnTo>
                          <a:lnTo>
                            <a:pt x="1827" y="3362"/>
                          </a:lnTo>
                          <a:lnTo>
                            <a:pt x="1840" y="3344"/>
                          </a:lnTo>
                          <a:lnTo>
                            <a:pt x="1854" y="3325"/>
                          </a:lnTo>
                          <a:lnTo>
                            <a:pt x="1867" y="3306"/>
                          </a:lnTo>
                          <a:lnTo>
                            <a:pt x="1880" y="3287"/>
                          </a:lnTo>
                          <a:lnTo>
                            <a:pt x="1893" y="3269"/>
                          </a:lnTo>
                          <a:lnTo>
                            <a:pt x="1906" y="3250"/>
                          </a:lnTo>
                          <a:lnTo>
                            <a:pt x="1920" y="3230"/>
                          </a:lnTo>
                          <a:lnTo>
                            <a:pt x="1933" y="3211"/>
                          </a:lnTo>
                          <a:lnTo>
                            <a:pt x="1945" y="3192"/>
                          </a:lnTo>
                          <a:lnTo>
                            <a:pt x="1958" y="3173"/>
                          </a:lnTo>
                          <a:lnTo>
                            <a:pt x="1970" y="3154"/>
                          </a:lnTo>
                          <a:lnTo>
                            <a:pt x="1983" y="3135"/>
                          </a:lnTo>
                          <a:lnTo>
                            <a:pt x="1995" y="3115"/>
                          </a:lnTo>
                          <a:lnTo>
                            <a:pt x="2008" y="3096"/>
                          </a:lnTo>
                          <a:lnTo>
                            <a:pt x="2020" y="3076"/>
                          </a:lnTo>
                          <a:lnTo>
                            <a:pt x="2032" y="3057"/>
                          </a:lnTo>
                          <a:lnTo>
                            <a:pt x="2044" y="3036"/>
                          </a:lnTo>
                          <a:lnTo>
                            <a:pt x="2056" y="3017"/>
                          </a:lnTo>
                          <a:lnTo>
                            <a:pt x="2068" y="2997"/>
                          </a:lnTo>
                          <a:lnTo>
                            <a:pt x="2080" y="2978"/>
                          </a:lnTo>
                          <a:lnTo>
                            <a:pt x="2092" y="2958"/>
                          </a:lnTo>
                          <a:lnTo>
                            <a:pt x="2103" y="2938"/>
                          </a:lnTo>
                          <a:lnTo>
                            <a:pt x="2115" y="2919"/>
                          </a:lnTo>
                          <a:lnTo>
                            <a:pt x="2126" y="2899"/>
                          </a:lnTo>
                          <a:lnTo>
                            <a:pt x="2138" y="2879"/>
                          </a:lnTo>
                          <a:lnTo>
                            <a:pt x="2149" y="2859"/>
                          </a:lnTo>
                          <a:lnTo>
                            <a:pt x="2160" y="2837"/>
                          </a:lnTo>
                          <a:lnTo>
                            <a:pt x="2172" y="2817"/>
                          </a:lnTo>
                          <a:lnTo>
                            <a:pt x="2183" y="2797"/>
                          </a:lnTo>
                          <a:lnTo>
                            <a:pt x="2194" y="2777"/>
                          </a:lnTo>
                          <a:lnTo>
                            <a:pt x="2205" y="2757"/>
                          </a:lnTo>
                          <a:lnTo>
                            <a:pt x="2216" y="2737"/>
                          </a:lnTo>
                          <a:lnTo>
                            <a:pt x="2227" y="2717"/>
                          </a:lnTo>
                          <a:lnTo>
                            <a:pt x="2237" y="2696"/>
                          </a:lnTo>
                          <a:lnTo>
                            <a:pt x="2249" y="2676"/>
                          </a:lnTo>
                          <a:lnTo>
                            <a:pt x="2259" y="2656"/>
                          </a:lnTo>
                          <a:lnTo>
                            <a:pt x="2270" y="2634"/>
                          </a:lnTo>
                          <a:lnTo>
                            <a:pt x="2280" y="2614"/>
                          </a:lnTo>
                          <a:lnTo>
                            <a:pt x="2290" y="2593"/>
                          </a:lnTo>
                          <a:lnTo>
                            <a:pt x="2300" y="2573"/>
                          </a:lnTo>
                          <a:lnTo>
                            <a:pt x="2310" y="2552"/>
                          </a:lnTo>
                          <a:lnTo>
                            <a:pt x="2320" y="2531"/>
                          </a:lnTo>
                          <a:lnTo>
                            <a:pt x="2330" y="2511"/>
                          </a:lnTo>
                          <a:lnTo>
                            <a:pt x="2340" y="2490"/>
                          </a:lnTo>
                          <a:lnTo>
                            <a:pt x="2349" y="2470"/>
                          </a:lnTo>
                          <a:lnTo>
                            <a:pt x="2359" y="2449"/>
                          </a:lnTo>
                          <a:lnTo>
                            <a:pt x="2369" y="2427"/>
                          </a:lnTo>
                          <a:lnTo>
                            <a:pt x="2379" y="2406"/>
                          </a:lnTo>
                          <a:lnTo>
                            <a:pt x="2388" y="2386"/>
                          </a:lnTo>
                          <a:lnTo>
                            <a:pt x="2397" y="2365"/>
                          </a:lnTo>
                          <a:lnTo>
                            <a:pt x="2406" y="2344"/>
                          </a:lnTo>
                          <a:lnTo>
                            <a:pt x="2415" y="2323"/>
                          </a:lnTo>
                          <a:lnTo>
                            <a:pt x="2424" y="2302"/>
                          </a:lnTo>
                          <a:lnTo>
                            <a:pt x="2433" y="2281"/>
                          </a:lnTo>
                          <a:lnTo>
                            <a:pt x="2442" y="2260"/>
                          </a:lnTo>
                          <a:lnTo>
                            <a:pt x="2450" y="2238"/>
                          </a:lnTo>
                          <a:lnTo>
                            <a:pt x="2452" y="2233"/>
                          </a:lnTo>
                          <a:lnTo>
                            <a:pt x="2458" y="2219"/>
                          </a:lnTo>
                          <a:lnTo>
                            <a:pt x="2466" y="2199"/>
                          </a:lnTo>
                          <a:lnTo>
                            <a:pt x="2476" y="2174"/>
                          </a:lnTo>
                          <a:lnTo>
                            <a:pt x="2486" y="2147"/>
                          </a:lnTo>
                          <a:lnTo>
                            <a:pt x="2498" y="2118"/>
                          </a:lnTo>
                          <a:lnTo>
                            <a:pt x="2508" y="2091"/>
                          </a:lnTo>
                          <a:lnTo>
                            <a:pt x="2517" y="2067"/>
                          </a:lnTo>
                          <a:lnTo>
                            <a:pt x="2525" y="2046"/>
                          </a:lnTo>
                          <a:lnTo>
                            <a:pt x="2533" y="2024"/>
                          </a:lnTo>
                          <a:lnTo>
                            <a:pt x="2540" y="2002"/>
                          </a:lnTo>
                          <a:lnTo>
                            <a:pt x="2548" y="1981"/>
                          </a:lnTo>
                          <a:lnTo>
                            <a:pt x="2556" y="1959"/>
                          </a:lnTo>
                          <a:lnTo>
                            <a:pt x="2563" y="1937"/>
                          </a:lnTo>
                          <a:lnTo>
                            <a:pt x="2571" y="1916"/>
                          </a:lnTo>
                          <a:lnTo>
                            <a:pt x="2578" y="1894"/>
                          </a:lnTo>
                          <a:lnTo>
                            <a:pt x="2586" y="1872"/>
                          </a:lnTo>
                          <a:lnTo>
                            <a:pt x="2593" y="1850"/>
                          </a:lnTo>
                          <a:lnTo>
                            <a:pt x="2600" y="1827"/>
                          </a:lnTo>
                          <a:lnTo>
                            <a:pt x="2607" y="1805"/>
                          </a:lnTo>
                          <a:lnTo>
                            <a:pt x="2614" y="1783"/>
                          </a:lnTo>
                          <a:lnTo>
                            <a:pt x="2621" y="1761"/>
                          </a:lnTo>
                          <a:lnTo>
                            <a:pt x="2627" y="1740"/>
                          </a:lnTo>
                          <a:lnTo>
                            <a:pt x="2634" y="1717"/>
                          </a:lnTo>
                          <a:lnTo>
                            <a:pt x="2641" y="1695"/>
                          </a:lnTo>
                          <a:lnTo>
                            <a:pt x="2647" y="1673"/>
                          </a:lnTo>
                          <a:lnTo>
                            <a:pt x="2653" y="1651"/>
                          </a:lnTo>
                          <a:lnTo>
                            <a:pt x="2659" y="1628"/>
                          </a:lnTo>
                          <a:lnTo>
                            <a:pt x="2666" y="1606"/>
                          </a:lnTo>
                          <a:lnTo>
                            <a:pt x="2672" y="1583"/>
                          </a:lnTo>
                          <a:lnTo>
                            <a:pt x="2678" y="1561"/>
                          </a:lnTo>
                          <a:lnTo>
                            <a:pt x="2684" y="1538"/>
                          </a:lnTo>
                          <a:lnTo>
                            <a:pt x="2689" y="1516"/>
                          </a:lnTo>
                          <a:lnTo>
                            <a:pt x="2695" y="1493"/>
                          </a:lnTo>
                          <a:lnTo>
                            <a:pt x="2701" y="1471"/>
                          </a:lnTo>
                          <a:lnTo>
                            <a:pt x="2706" y="1448"/>
                          </a:lnTo>
                          <a:lnTo>
                            <a:pt x="2712" y="1425"/>
                          </a:lnTo>
                          <a:lnTo>
                            <a:pt x="2717" y="1402"/>
                          </a:lnTo>
                          <a:lnTo>
                            <a:pt x="2723" y="1380"/>
                          </a:lnTo>
                          <a:lnTo>
                            <a:pt x="2728" y="1357"/>
                          </a:lnTo>
                          <a:lnTo>
                            <a:pt x="2729" y="1351"/>
                          </a:lnTo>
                          <a:lnTo>
                            <a:pt x="2733" y="1337"/>
                          </a:lnTo>
                          <a:lnTo>
                            <a:pt x="2737" y="1315"/>
                          </a:lnTo>
                          <a:lnTo>
                            <a:pt x="2743" y="1288"/>
                          </a:lnTo>
                          <a:lnTo>
                            <a:pt x="2749" y="1258"/>
                          </a:lnTo>
                          <a:lnTo>
                            <a:pt x="2756" y="1227"/>
                          </a:lnTo>
                          <a:lnTo>
                            <a:pt x="2761" y="1198"/>
                          </a:lnTo>
                          <a:lnTo>
                            <a:pt x="2767" y="1172"/>
                          </a:lnTo>
                          <a:lnTo>
                            <a:pt x="2771" y="1149"/>
                          </a:lnTo>
                          <a:lnTo>
                            <a:pt x="2775" y="1126"/>
                          </a:lnTo>
                          <a:lnTo>
                            <a:pt x="2780" y="1102"/>
                          </a:lnTo>
                          <a:lnTo>
                            <a:pt x="2784" y="1079"/>
                          </a:lnTo>
                          <a:lnTo>
                            <a:pt x="2788" y="1056"/>
                          </a:lnTo>
                          <a:lnTo>
                            <a:pt x="2792" y="1031"/>
                          </a:lnTo>
                          <a:lnTo>
                            <a:pt x="2796" y="1008"/>
                          </a:lnTo>
                          <a:lnTo>
                            <a:pt x="2799" y="985"/>
                          </a:lnTo>
                          <a:lnTo>
                            <a:pt x="2803" y="961"/>
                          </a:lnTo>
                          <a:lnTo>
                            <a:pt x="2807" y="937"/>
                          </a:lnTo>
                          <a:lnTo>
                            <a:pt x="2811" y="914"/>
                          </a:lnTo>
                          <a:lnTo>
                            <a:pt x="2814" y="890"/>
                          </a:lnTo>
                          <a:lnTo>
                            <a:pt x="2818" y="866"/>
                          </a:lnTo>
                          <a:lnTo>
                            <a:pt x="2821" y="843"/>
                          </a:lnTo>
                          <a:lnTo>
                            <a:pt x="2824" y="818"/>
                          </a:lnTo>
                          <a:lnTo>
                            <a:pt x="2828" y="794"/>
                          </a:lnTo>
                          <a:lnTo>
                            <a:pt x="2831" y="770"/>
                          </a:lnTo>
                          <a:lnTo>
                            <a:pt x="2834" y="746"/>
                          </a:lnTo>
                          <a:lnTo>
                            <a:pt x="2836" y="722"/>
                          </a:lnTo>
                          <a:lnTo>
                            <a:pt x="2839" y="698"/>
                          </a:lnTo>
                          <a:lnTo>
                            <a:pt x="2842" y="674"/>
                          </a:lnTo>
                          <a:lnTo>
                            <a:pt x="2845" y="650"/>
                          </a:lnTo>
                          <a:lnTo>
                            <a:pt x="2847" y="624"/>
                          </a:lnTo>
                          <a:lnTo>
                            <a:pt x="2850" y="600"/>
                          </a:lnTo>
                          <a:lnTo>
                            <a:pt x="2852" y="576"/>
                          </a:lnTo>
                          <a:lnTo>
                            <a:pt x="2854" y="552"/>
                          </a:lnTo>
                          <a:lnTo>
                            <a:pt x="2856" y="527"/>
                          </a:lnTo>
                          <a:lnTo>
                            <a:pt x="2859" y="503"/>
                          </a:lnTo>
                          <a:lnTo>
                            <a:pt x="2860" y="478"/>
                          </a:lnTo>
                          <a:lnTo>
                            <a:pt x="2862" y="454"/>
                          </a:lnTo>
                          <a:lnTo>
                            <a:pt x="2864" y="428"/>
                          </a:lnTo>
                          <a:lnTo>
                            <a:pt x="2866" y="403"/>
                          </a:lnTo>
                          <a:lnTo>
                            <a:pt x="2868" y="378"/>
                          </a:lnTo>
                          <a:lnTo>
                            <a:pt x="2870" y="354"/>
                          </a:lnTo>
                          <a:lnTo>
                            <a:pt x="2871" y="329"/>
                          </a:lnTo>
                          <a:lnTo>
                            <a:pt x="2873" y="304"/>
                          </a:lnTo>
                          <a:lnTo>
                            <a:pt x="2874" y="279"/>
                          </a:lnTo>
                          <a:lnTo>
                            <a:pt x="2875" y="254"/>
                          </a:lnTo>
                          <a:lnTo>
                            <a:pt x="2876" y="228"/>
                          </a:lnTo>
                          <a:lnTo>
                            <a:pt x="2878" y="203"/>
                          </a:lnTo>
                          <a:lnTo>
                            <a:pt x="2878" y="178"/>
                          </a:lnTo>
                          <a:lnTo>
                            <a:pt x="2879" y="153"/>
                          </a:lnTo>
                          <a:lnTo>
                            <a:pt x="2880" y="128"/>
                          </a:lnTo>
                          <a:lnTo>
                            <a:pt x="2881" y="103"/>
                          </a:lnTo>
                          <a:lnTo>
                            <a:pt x="2882" y="77"/>
                          </a:lnTo>
                          <a:lnTo>
                            <a:pt x="2883" y="52"/>
                          </a:lnTo>
                          <a:lnTo>
                            <a:pt x="2883" y="25"/>
                          </a:lnTo>
                          <a:lnTo>
                            <a:pt x="2884" y="0"/>
                          </a:lnTo>
                          <a:lnTo>
                            <a:pt x="2730" y="1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3594240" y="5608800"/>
                      <a:ext cx="4680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0" h="4009">
                          <a:moveTo>
                            <a:pt x="2400" y="3800"/>
                          </a:moveTo>
                          <a:lnTo>
                            <a:pt x="194" y="9"/>
                          </a:lnTo>
                          <a:lnTo>
                            <a:pt x="0" y="0"/>
                          </a:lnTo>
                          <a:lnTo>
                            <a:pt x="2333" y="4009"/>
                          </a:lnTo>
                          <a:lnTo>
                            <a:pt x="2400" y="380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3605400" y="5594040"/>
                      <a:ext cx="9072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57" h="195">
                          <a:moveTo>
                            <a:pt x="100" y="195"/>
                          </a:moveTo>
                          <a:lnTo>
                            <a:pt x="4503" y="176"/>
                          </a:lnTo>
                          <a:lnTo>
                            <a:pt x="4657" y="0"/>
                          </a:lnTo>
                          <a:lnTo>
                            <a:pt x="0" y="21"/>
                          </a:lnTo>
                          <a:lnTo>
                            <a:pt x="100" y="195"/>
                          </a:lnTo>
                          <a:close/>
                        </a:path>
                      </a:pathLst>
                    </a:custGeom>
                    <a:solidFill>
                      <a:srgbClr val="e9e9e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3598560" y="5596560"/>
                      <a:ext cx="9468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9" h="4619">
                          <a:moveTo>
                            <a:pt x="4869" y="0"/>
                          </a:moveTo>
                          <a:lnTo>
                            <a:pt x="4867" y="85"/>
                          </a:lnTo>
                          <a:lnTo>
                            <a:pt x="4864" y="169"/>
                          </a:lnTo>
                          <a:lnTo>
                            <a:pt x="4859" y="254"/>
                          </a:lnTo>
                          <a:lnTo>
                            <a:pt x="4853" y="339"/>
                          </a:lnTo>
                          <a:lnTo>
                            <a:pt x="4846" y="424"/>
                          </a:lnTo>
                          <a:lnTo>
                            <a:pt x="4837" y="509"/>
                          </a:lnTo>
                          <a:lnTo>
                            <a:pt x="4828" y="593"/>
                          </a:lnTo>
                          <a:lnTo>
                            <a:pt x="4816" y="678"/>
                          </a:lnTo>
                          <a:lnTo>
                            <a:pt x="4804" y="762"/>
                          </a:lnTo>
                          <a:lnTo>
                            <a:pt x="4790" y="847"/>
                          </a:lnTo>
                          <a:lnTo>
                            <a:pt x="4774" y="932"/>
                          </a:lnTo>
                          <a:lnTo>
                            <a:pt x="4758" y="1015"/>
                          </a:lnTo>
                          <a:lnTo>
                            <a:pt x="4740" y="1100"/>
                          </a:lnTo>
                          <a:lnTo>
                            <a:pt x="4721" y="1184"/>
                          </a:lnTo>
                          <a:lnTo>
                            <a:pt x="4699" y="1268"/>
                          </a:lnTo>
                          <a:lnTo>
                            <a:pt x="4677" y="1351"/>
                          </a:lnTo>
                          <a:lnTo>
                            <a:pt x="4654" y="1434"/>
                          </a:lnTo>
                          <a:lnTo>
                            <a:pt x="4629" y="1518"/>
                          </a:lnTo>
                          <a:lnTo>
                            <a:pt x="4603" y="1601"/>
                          </a:lnTo>
                          <a:lnTo>
                            <a:pt x="4575" y="1684"/>
                          </a:lnTo>
                          <a:lnTo>
                            <a:pt x="4546" y="1766"/>
                          </a:lnTo>
                          <a:lnTo>
                            <a:pt x="4516" y="1848"/>
                          </a:lnTo>
                          <a:lnTo>
                            <a:pt x="4484" y="1931"/>
                          </a:lnTo>
                          <a:lnTo>
                            <a:pt x="4451" y="2012"/>
                          </a:lnTo>
                          <a:lnTo>
                            <a:pt x="4417" y="2094"/>
                          </a:lnTo>
                          <a:lnTo>
                            <a:pt x="4381" y="2174"/>
                          </a:lnTo>
                          <a:lnTo>
                            <a:pt x="4342" y="2255"/>
                          </a:lnTo>
                          <a:lnTo>
                            <a:pt x="4304" y="2336"/>
                          </a:lnTo>
                          <a:lnTo>
                            <a:pt x="4264" y="2415"/>
                          </a:lnTo>
                          <a:lnTo>
                            <a:pt x="4222" y="2495"/>
                          </a:lnTo>
                          <a:lnTo>
                            <a:pt x="4179" y="2574"/>
                          </a:lnTo>
                          <a:lnTo>
                            <a:pt x="4135" y="2652"/>
                          </a:lnTo>
                          <a:lnTo>
                            <a:pt x="4089" y="2731"/>
                          </a:lnTo>
                          <a:lnTo>
                            <a:pt x="4041" y="2808"/>
                          </a:lnTo>
                          <a:lnTo>
                            <a:pt x="3993" y="2885"/>
                          </a:lnTo>
                          <a:lnTo>
                            <a:pt x="3945" y="2959"/>
                          </a:lnTo>
                          <a:lnTo>
                            <a:pt x="3894" y="3033"/>
                          </a:lnTo>
                          <a:lnTo>
                            <a:pt x="3844" y="3107"/>
                          </a:lnTo>
                          <a:lnTo>
                            <a:pt x="3792" y="3178"/>
                          </a:lnTo>
                          <a:lnTo>
                            <a:pt x="3739" y="3248"/>
                          </a:lnTo>
                          <a:lnTo>
                            <a:pt x="3684" y="3319"/>
                          </a:lnTo>
                          <a:lnTo>
                            <a:pt x="3629" y="3387"/>
                          </a:lnTo>
                          <a:lnTo>
                            <a:pt x="3573" y="3454"/>
                          </a:lnTo>
                          <a:lnTo>
                            <a:pt x="3516" y="3522"/>
                          </a:lnTo>
                          <a:lnTo>
                            <a:pt x="3459" y="3587"/>
                          </a:lnTo>
                          <a:lnTo>
                            <a:pt x="3400" y="3651"/>
                          </a:lnTo>
                          <a:lnTo>
                            <a:pt x="3340" y="3715"/>
                          </a:lnTo>
                          <a:lnTo>
                            <a:pt x="3279" y="3776"/>
                          </a:lnTo>
                          <a:lnTo>
                            <a:pt x="3218" y="3837"/>
                          </a:lnTo>
                          <a:lnTo>
                            <a:pt x="3156" y="3898"/>
                          </a:lnTo>
                          <a:lnTo>
                            <a:pt x="3093" y="3956"/>
                          </a:lnTo>
                          <a:lnTo>
                            <a:pt x="3029" y="4014"/>
                          </a:lnTo>
                          <a:lnTo>
                            <a:pt x="2965" y="4070"/>
                          </a:lnTo>
                          <a:lnTo>
                            <a:pt x="2899" y="4126"/>
                          </a:lnTo>
                          <a:lnTo>
                            <a:pt x="2833" y="4180"/>
                          </a:lnTo>
                          <a:lnTo>
                            <a:pt x="2767" y="4233"/>
                          </a:lnTo>
                          <a:lnTo>
                            <a:pt x="2698" y="4286"/>
                          </a:lnTo>
                          <a:lnTo>
                            <a:pt x="2630" y="4337"/>
                          </a:lnTo>
                          <a:lnTo>
                            <a:pt x="2561" y="4387"/>
                          </a:lnTo>
                          <a:lnTo>
                            <a:pt x="2492" y="4435"/>
                          </a:lnTo>
                          <a:lnTo>
                            <a:pt x="2422" y="4484"/>
                          </a:lnTo>
                          <a:lnTo>
                            <a:pt x="2350" y="4530"/>
                          </a:lnTo>
                          <a:lnTo>
                            <a:pt x="2278" y="4575"/>
                          </a:lnTo>
                          <a:lnTo>
                            <a:pt x="2206" y="4619"/>
                          </a:lnTo>
                          <a:lnTo>
                            <a:pt x="0" y="828"/>
                          </a:lnTo>
                          <a:lnTo>
                            <a:pt x="466" y="19"/>
                          </a:lnTo>
                          <a:lnTo>
                            <a:pt x="4869" y="0"/>
                          </a:lnTo>
                          <a:close/>
                        </a:path>
                      </a:pathLst>
                    </a:custGeom>
                    <a:solidFill>
                      <a:srgbClr val="cc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3693240" y="5590440"/>
                      <a:ext cx="28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333">
                          <a:moveTo>
                            <a:pt x="7" y="172"/>
                          </a:moveTo>
                          <a:lnTo>
                            <a:pt x="7" y="151"/>
                          </a:lnTo>
                          <a:lnTo>
                            <a:pt x="6" y="129"/>
                          </a:lnTo>
                          <a:lnTo>
                            <a:pt x="5" y="108"/>
                          </a:lnTo>
                          <a:lnTo>
                            <a:pt x="4" y="86"/>
                          </a:lnTo>
                          <a:lnTo>
                            <a:pt x="3" y="64"/>
                          </a:lnTo>
                          <a:lnTo>
                            <a:pt x="2" y="42"/>
                          </a:lnTo>
                          <a:lnTo>
                            <a:pt x="1" y="21"/>
                          </a:lnTo>
                          <a:lnTo>
                            <a:pt x="0" y="0"/>
                          </a:lnTo>
                          <a:lnTo>
                            <a:pt x="155" y="141"/>
                          </a:lnTo>
                          <a:lnTo>
                            <a:pt x="156" y="165"/>
                          </a:lnTo>
                          <a:lnTo>
                            <a:pt x="157" y="188"/>
                          </a:lnTo>
                          <a:lnTo>
                            <a:pt x="159" y="212"/>
                          </a:lnTo>
                          <a:lnTo>
                            <a:pt x="160" y="236"/>
                          </a:lnTo>
                          <a:lnTo>
                            <a:pt x="161" y="260"/>
                          </a:lnTo>
                          <a:lnTo>
                            <a:pt x="162" y="285"/>
                          </a:lnTo>
                          <a:lnTo>
                            <a:pt x="163" y="309"/>
                          </a:lnTo>
                          <a:lnTo>
                            <a:pt x="164" y="333"/>
                          </a:lnTo>
                          <a:lnTo>
                            <a:pt x="7" y="17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3692160" y="5587200"/>
                      <a:ext cx="39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314">
                          <a:moveTo>
                            <a:pt x="13" y="173"/>
                          </a:moveTo>
                          <a:lnTo>
                            <a:pt x="12" y="151"/>
                          </a:lnTo>
                          <a:lnTo>
                            <a:pt x="10" y="130"/>
                          </a:lnTo>
                          <a:lnTo>
                            <a:pt x="9" y="108"/>
                          </a:lnTo>
                          <a:lnTo>
                            <a:pt x="7" y="87"/>
                          </a:lnTo>
                          <a:lnTo>
                            <a:pt x="6" y="65"/>
                          </a:lnTo>
                          <a:lnTo>
                            <a:pt x="4" y="44"/>
                          </a:lnTo>
                          <a:lnTo>
                            <a:pt x="2" y="22"/>
                          </a:lnTo>
                          <a:lnTo>
                            <a:pt x="0" y="0"/>
                          </a:lnTo>
                          <a:lnTo>
                            <a:pt x="154" y="124"/>
                          </a:lnTo>
                          <a:lnTo>
                            <a:pt x="156" y="147"/>
                          </a:lnTo>
                          <a:lnTo>
                            <a:pt x="158" y="171"/>
                          </a:lnTo>
                          <a:lnTo>
                            <a:pt x="160" y="194"/>
                          </a:lnTo>
                          <a:lnTo>
                            <a:pt x="162" y="218"/>
                          </a:lnTo>
                          <a:lnTo>
                            <a:pt x="163" y="243"/>
                          </a:lnTo>
                          <a:lnTo>
                            <a:pt x="165" y="267"/>
                          </a:lnTo>
                          <a:lnTo>
                            <a:pt x="166" y="290"/>
                          </a:lnTo>
                          <a:lnTo>
                            <a:pt x="168" y="314"/>
                          </a:lnTo>
                          <a:lnTo>
                            <a:pt x="13" y="1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>
                      <a:off x="3692160" y="5584320"/>
                      <a:ext cx="39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" h="295">
                          <a:moveTo>
                            <a:pt x="18" y="171"/>
                          </a:moveTo>
                          <a:lnTo>
                            <a:pt x="16" y="150"/>
                          </a:lnTo>
                          <a:lnTo>
                            <a:pt x="14" y="129"/>
                          </a:lnTo>
                          <a:lnTo>
                            <a:pt x="12" y="107"/>
                          </a:lnTo>
                          <a:lnTo>
                            <a:pt x="9" y="86"/>
                          </a:lnTo>
                          <a:lnTo>
                            <a:pt x="7" y="65"/>
                          </a:lnTo>
                          <a:lnTo>
                            <a:pt x="5" y="43"/>
                          </a:lnTo>
                          <a:lnTo>
                            <a:pt x="2" y="22"/>
                          </a:lnTo>
                          <a:lnTo>
                            <a:pt x="0" y="0"/>
                          </a:lnTo>
                          <a:lnTo>
                            <a:pt x="153" y="106"/>
                          </a:lnTo>
                          <a:lnTo>
                            <a:pt x="156" y="129"/>
                          </a:lnTo>
                          <a:lnTo>
                            <a:pt x="158" y="152"/>
                          </a:lnTo>
                          <a:lnTo>
                            <a:pt x="161" y="176"/>
                          </a:lnTo>
                          <a:lnTo>
                            <a:pt x="164" y="199"/>
                          </a:lnTo>
                          <a:lnTo>
                            <a:pt x="166" y="224"/>
                          </a:lnTo>
                          <a:lnTo>
                            <a:pt x="168" y="248"/>
                          </a:lnTo>
                          <a:lnTo>
                            <a:pt x="170" y="271"/>
                          </a:lnTo>
                          <a:lnTo>
                            <a:pt x="172" y="295"/>
                          </a:lnTo>
                          <a:lnTo>
                            <a:pt x="18" y="17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3692160" y="558252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7" h="276">
                          <a:moveTo>
                            <a:pt x="24" y="170"/>
                          </a:moveTo>
                          <a:lnTo>
                            <a:pt x="21" y="149"/>
                          </a:lnTo>
                          <a:lnTo>
                            <a:pt x="19" y="127"/>
                          </a:lnTo>
                          <a:lnTo>
                            <a:pt x="16" y="106"/>
                          </a:lnTo>
                          <a:lnTo>
                            <a:pt x="13" y="85"/>
                          </a:lnTo>
                          <a:lnTo>
                            <a:pt x="10" y="64"/>
                          </a:lnTo>
                          <a:lnTo>
                            <a:pt x="7" y="43"/>
                          </a:lnTo>
                          <a:lnTo>
                            <a:pt x="3" y="21"/>
                          </a:lnTo>
                          <a:lnTo>
                            <a:pt x="0" y="0"/>
                          </a:lnTo>
                          <a:lnTo>
                            <a:pt x="153" y="88"/>
                          </a:lnTo>
                          <a:lnTo>
                            <a:pt x="156" y="112"/>
                          </a:lnTo>
                          <a:lnTo>
                            <a:pt x="159" y="135"/>
                          </a:lnTo>
                          <a:lnTo>
                            <a:pt x="162" y="158"/>
                          </a:lnTo>
                          <a:lnTo>
                            <a:pt x="166" y="182"/>
                          </a:lnTo>
                          <a:lnTo>
                            <a:pt x="168" y="206"/>
                          </a:lnTo>
                          <a:lnTo>
                            <a:pt x="171" y="229"/>
                          </a:lnTo>
                          <a:lnTo>
                            <a:pt x="174" y="252"/>
                          </a:lnTo>
                          <a:lnTo>
                            <a:pt x="177" y="276"/>
                          </a:lnTo>
                          <a:lnTo>
                            <a:pt x="24" y="17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3691080" y="5579280"/>
                      <a:ext cx="36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57">
                          <a:moveTo>
                            <a:pt x="28" y="169"/>
                          </a:moveTo>
                          <a:lnTo>
                            <a:pt x="25" y="148"/>
                          </a:lnTo>
                          <a:lnTo>
                            <a:pt x="21" y="126"/>
                          </a:lnTo>
                          <a:lnTo>
                            <a:pt x="18" y="105"/>
                          </a:lnTo>
                          <a:lnTo>
                            <a:pt x="15" y="84"/>
                          </a:lnTo>
                          <a:lnTo>
                            <a:pt x="11" y="63"/>
                          </a:lnTo>
                          <a:lnTo>
                            <a:pt x="7" y="42"/>
                          </a:lnTo>
                          <a:lnTo>
                            <a:pt x="4" y="21"/>
                          </a:lnTo>
                          <a:lnTo>
                            <a:pt x="0" y="0"/>
                          </a:lnTo>
                          <a:lnTo>
                            <a:pt x="151" y="72"/>
                          </a:lnTo>
                          <a:lnTo>
                            <a:pt x="155" y="95"/>
                          </a:lnTo>
                          <a:lnTo>
                            <a:pt x="158" y="118"/>
                          </a:lnTo>
                          <a:lnTo>
                            <a:pt x="162" y="141"/>
                          </a:lnTo>
                          <a:lnTo>
                            <a:pt x="166" y="165"/>
                          </a:lnTo>
                          <a:lnTo>
                            <a:pt x="170" y="188"/>
                          </a:lnTo>
                          <a:lnTo>
                            <a:pt x="174" y="211"/>
                          </a:lnTo>
                          <a:lnTo>
                            <a:pt x="177" y="234"/>
                          </a:lnTo>
                          <a:lnTo>
                            <a:pt x="181" y="257"/>
                          </a:lnTo>
                          <a:lnTo>
                            <a:pt x="28" y="16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3691080" y="557676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241">
                          <a:moveTo>
                            <a:pt x="35" y="169"/>
                          </a:moveTo>
                          <a:lnTo>
                            <a:pt x="31" y="148"/>
                          </a:lnTo>
                          <a:lnTo>
                            <a:pt x="27" y="126"/>
                          </a:lnTo>
                          <a:lnTo>
                            <a:pt x="22" y="104"/>
                          </a:lnTo>
                          <a:lnTo>
                            <a:pt x="18" y="83"/>
                          </a:lnTo>
                          <a:lnTo>
                            <a:pt x="14" y="62"/>
                          </a:lnTo>
                          <a:lnTo>
                            <a:pt x="9" y="41"/>
                          </a:lnTo>
                          <a:lnTo>
                            <a:pt x="5" y="21"/>
                          </a:lnTo>
                          <a:lnTo>
                            <a:pt x="0" y="0"/>
                          </a:lnTo>
                          <a:lnTo>
                            <a:pt x="150" y="57"/>
                          </a:lnTo>
                          <a:lnTo>
                            <a:pt x="155" y="80"/>
                          </a:lnTo>
                          <a:lnTo>
                            <a:pt x="159" y="102"/>
                          </a:lnTo>
                          <a:lnTo>
                            <a:pt x="164" y="126"/>
                          </a:lnTo>
                          <a:lnTo>
                            <a:pt x="168" y="149"/>
                          </a:lnTo>
                          <a:lnTo>
                            <a:pt x="173" y="172"/>
                          </a:lnTo>
                          <a:lnTo>
                            <a:pt x="177" y="195"/>
                          </a:lnTo>
                          <a:lnTo>
                            <a:pt x="181" y="218"/>
                          </a:lnTo>
                          <a:lnTo>
                            <a:pt x="186" y="241"/>
                          </a:lnTo>
                          <a:lnTo>
                            <a:pt x="35" y="16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3690000" y="557388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225">
                          <a:moveTo>
                            <a:pt x="40" y="168"/>
                          </a:moveTo>
                          <a:lnTo>
                            <a:pt x="36" y="147"/>
                          </a:lnTo>
                          <a:lnTo>
                            <a:pt x="31" y="126"/>
                          </a:lnTo>
                          <a:lnTo>
                            <a:pt x="26" y="105"/>
                          </a:lnTo>
                          <a:lnTo>
                            <a:pt x="22" y="84"/>
                          </a:lnTo>
                          <a:lnTo>
                            <a:pt x="17" y="62"/>
                          </a:lnTo>
                          <a:lnTo>
                            <a:pt x="12" y="42"/>
                          </a:lnTo>
                          <a:lnTo>
                            <a:pt x="6" y="21"/>
                          </a:lnTo>
                          <a:lnTo>
                            <a:pt x="0" y="0"/>
                          </a:lnTo>
                          <a:lnTo>
                            <a:pt x="149" y="43"/>
                          </a:lnTo>
                          <a:lnTo>
                            <a:pt x="155" y="65"/>
                          </a:lnTo>
                          <a:lnTo>
                            <a:pt x="160" y="89"/>
                          </a:lnTo>
                          <a:lnTo>
                            <a:pt x="165" y="112"/>
                          </a:lnTo>
                          <a:lnTo>
                            <a:pt x="170" y="134"/>
                          </a:lnTo>
                          <a:lnTo>
                            <a:pt x="175" y="157"/>
                          </a:lnTo>
                          <a:lnTo>
                            <a:pt x="180" y="180"/>
                          </a:lnTo>
                          <a:lnTo>
                            <a:pt x="185" y="202"/>
                          </a:lnTo>
                          <a:lnTo>
                            <a:pt x="190" y="225"/>
                          </a:lnTo>
                          <a:lnTo>
                            <a:pt x="40" y="16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3688920" y="557136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3" h="209">
                          <a:moveTo>
                            <a:pt x="44" y="166"/>
                          </a:moveTo>
                          <a:lnTo>
                            <a:pt x="39" y="146"/>
                          </a:lnTo>
                          <a:lnTo>
                            <a:pt x="34" y="125"/>
                          </a:lnTo>
                          <a:lnTo>
                            <a:pt x="28" y="104"/>
                          </a:lnTo>
                          <a:lnTo>
                            <a:pt x="23" y="84"/>
                          </a:lnTo>
                          <a:lnTo>
                            <a:pt x="17" y="63"/>
                          </a:lnTo>
                          <a:lnTo>
                            <a:pt x="12" y="41"/>
                          </a:lnTo>
                          <a:lnTo>
                            <a:pt x="6" y="21"/>
                          </a:lnTo>
                          <a:lnTo>
                            <a:pt x="0" y="0"/>
                          </a:lnTo>
                          <a:lnTo>
                            <a:pt x="147" y="28"/>
                          </a:lnTo>
                          <a:lnTo>
                            <a:pt x="153" y="52"/>
                          </a:lnTo>
                          <a:lnTo>
                            <a:pt x="159" y="74"/>
                          </a:lnTo>
                          <a:lnTo>
                            <a:pt x="165" y="96"/>
                          </a:lnTo>
                          <a:lnTo>
                            <a:pt x="171" y="119"/>
                          </a:lnTo>
                          <a:lnTo>
                            <a:pt x="176" y="141"/>
                          </a:lnTo>
                          <a:lnTo>
                            <a:pt x="182" y="164"/>
                          </a:lnTo>
                          <a:lnTo>
                            <a:pt x="188" y="186"/>
                          </a:lnTo>
                          <a:lnTo>
                            <a:pt x="193" y="209"/>
                          </a:lnTo>
                          <a:lnTo>
                            <a:pt x="44" y="16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3688200" y="556956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193">
                          <a:moveTo>
                            <a:pt x="49" y="165"/>
                          </a:moveTo>
                          <a:lnTo>
                            <a:pt x="43" y="144"/>
                          </a:lnTo>
                          <a:lnTo>
                            <a:pt x="37" y="124"/>
                          </a:lnTo>
                          <a:lnTo>
                            <a:pt x="31" y="103"/>
                          </a:lnTo>
                          <a:lnTo>
                            <a:pt x="25" y="83"/>
                          </a:lnTo>
                          <a:lnTo>
                            <a:pt x="19" y="62"/>
                          </a:lnTo>
                          <a:lnTo>
                            <a:pt x="13" y="42"/>
                          </a:lnTo>
                          <a:lnTo>
                            <a:pt x="6" y="21"/>
                          </a:lnTo>
                          <a:lnTo>
                            <a:pt x="0" y="0"/>
                          </a:lnTo>
                          <a:lnTo>
                            <a:pt x="145" y="17"/>
                          </a:lnTo>
                          <a:lnTo>
                            <a:pt x="151" y="39"/>
                          </a:lnTo>
                          <a:lnTo>
                            <a:pt x="158" y="61"/>
                          </a:lnTo>
                          <a:lnTo>
                            <a:pt x="164" y="83"/>
                          </a:lnTo>
                          <a:lnTo>
                            <a:pt x="171" y="105"/>
                          </a:lnTo>
                          <a:lnTo>
                            <a:pt x="177" y="127"/>
                          </a:lnTo>
                          <a:lnTo>
                            <a:pt x="183" y="149"/>
                          </a:lnTo>
                          <a:lnTo>
                            <a:pt x="190" y="171"/>
                          </a:lnTo>
                          <a:lnTo>
                            <a:pt x="196" y="193"/>
                          </a:lnTo>
                          <a:lnTo>
                            <a:pt x="49" y="16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3687120" y="556596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179">
                          <a:moveTo>
                            <a:pt x="55" y="162"/>
                          </a:moveTo>
                          <a:lnTo>
                            <a:pt x="48" y="142"/>
                          </a:lnTo>
                          <a:lnTo>
                            <a:pt x="42" y="121"/>
                          </a:lnTo>
                          <a:lnTo>
                            <a:pt x="35" y="101"/>
                          </a:lnTo>
                          <a:lnTo>
                            <a:pt x="28" y="81"/>
                          </a:lnTo>
                          <a:lnTo>
                            <a:pt x="21" y="61"/>
                          </a:lnTo>
                          <a:lnTo>
                            <a:pt x="14" y="40"/>
                          </a:lnTo>
                          <a:lnTo>
                            <a:pt x="7" y="20"/>
                          </a:lnTo>
                          <a:lnTo>
                            <a:pt x="0" y="0"/>
                          </a:lnTo>
                          <a:lnTo>
                            <a:pt x="142" y="3"/>
                          </a:lnTo>
                          <a:lnTo>
                            <a:pt x="149" y="25"/>
                          </a:lnTo>
                          <a:lnTo>
                            <a:pt x="157" y="46"/>
                          </a:lnTo>
                          <a:lnTo>
                            <a:pt x="164" y="68"/>
                          </a:lnTo>
                          <a:lnTo>
                            <a:pt x="172" y="90"/>
                          </a:lnTo>
                          <a:lnTo>
                            <a:pt x="179" y="112"/>
                          </a:lnTo>
                          <a:lnTo>
                            <a:pt x="186" y="134"/>
                          </a:lnTo>
                          <a:lnTo>
                            <a:pt x="193" y="156"/>
                          </a:lnTo>
                          <a:lnTo>
                            <a:pt x="200" y="179"/>
                          </a:lnTo>
                          <a:lnTo>
                            <a:pt x="55" y="16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3686040" y="5564520"/>
                      <a:ext cx="36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173">
                          <a:moveTo>
                            <a:pt x="60" y="170"/>
                          </a:moveTo>
                          <a:lnTo>
                            <a:pt x="53" y="150"/>
                          </a:lnTo>
                          <a:lnTo>
                            <a:pt x="46" y="129"/>
                          </a:lnTo>
                          <a:lnTo>
                            <a:pt x="38" y="109"/>
                          </a:lnTo>
                          <a:lnTo>
                            <a:pt x="31" y="89"/>
                          </a:lnTo>
                          <a:lnTo>
                            <a:pt x="23" y="69"/>
                          </a:lnTo>
                          <a:lnTo>
                            <a:pt x="16" y="49"/>
                          </a:lnTo>
                          <a:lnTo>
                            <a:pt x="8" y="29"/>
                          </a:lnTo>
                          <a:lnTo>
                            <a:pt x="0" y="9"/>
                          </a:lnTo>
                          <a:lnTo>
                            <a:pt x="140" y="0"/>
                          </a:lnTo>
                          <a:lnTo>
                            <a:pt x="148" y="21"/>
                          </a:lnTo>
                          <a:lnTo>
                            <a:pt x="156" y="43"/>
                          </a:lnTo>
                          <a:lnTo>
                            <a:pt x="164" y="64"/>
                          </a:lnTo>
                          <a:lnTo>
                            <a:pt x="172" y="86"/>
                          </a:lnTo>
                          <a:lnTo>
                            <a:pt x="179" y="107"/>
                          </a:lnTo>
                          <a:lnTo>
                            <a:pt x="187" y="129"/>
                          </a:lnTo>
                          <a:lnTo>
                            <a:pt x="194" y="151"/>
                          </a:lnTo>
                          <a:lnTo>
                            <a:pt x="202" y="173"/>
                          </a:lnTo>
                          <a:lnTo>
                            <a:pt x="60" y="17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3684960" y="5561640"/>
                      <a:ext cx="288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4" h="180">
                          <a:moveTo>
                            <a:pt x="64" y="180"/>
                          </a:moveTo>
                          <a:lnTo>
                            <a:pt x="57" y="160"/>
                          </a:lnTo>
                          <a:lnTo>
                            <a:pt x="49" y="140"/>
                          </a:lnTo>
                          <a:lnTo>
                            <a:pt x="41" y="120"/>
                          </a:lnTo>
                          <a:lnTo>
                            <a:pt x="33" y="99"/>
                          </a:lnTo>
                          <a:lnTo>
                            <a:pt x="24" y="79"/>
                          </a:lnTo>
                          <a:lnTo>
                            <a:pt x="16" y="59"/>
                          </a:lnTo>
                          <a:lnTo>
                            <a:pt x="8" y="39"/>
                          </a:lnTo>
                          <a:lnTo>
                            <a:pt x="0" y="20"/>
                          </a:lnTo>
                          <a:lnTo>
                            <a:pt x="137" y="0"/>
                          </a:lnTo>
                          <a:lnTo>
                            <a:pt x="146" y="21"/>
                          </a:lnTo>
                          <a:lnTo>
                            <a:pt x="154" y="42"/>
                          </a:lnTo>
                          <a:lnTo>
                            <a:pt x="163" y="64"/>
                          </a:lnTo>
                          <a:lnTo>
                            <a:pt x="171" y="85"/>
                          </a:lnTo>
                          <a:lnTo>
                            <a:pt x="179" y="106"/>
                          </a:lnTo>
                          <a:lnTo>
                            <a:pt x="188" y="128"/>
                          </a:lnTo>
                          <a:lnTo>
                            <a:pt x="196" y="150"/>
                          </a:lnTo>
                          <a:lnTo>
                            <a:pt x="204" y="171"/>
                          </a:lnTo>
                          <a:lnTo>
                            <a:pt x="64" y="1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3683160" y="555804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89">
                          <a:moveTo>
                            <a:pt x="71" y="189"/>
                          </a:moveTo>
                          <a:lnTo>
                            <a:pt x="62" y="169"/>
                          </a:lnTo>
                          <a:lnTo>
                            <a:pt x="54" y="149"/>
                          </a:lnTo>
                          <a:lnTo>
                            <a:pt x="45" y="130"/>
                          </a:lnTo>
                          <a:lnTo>
                            <a:pt x="37" y="110"/>
                          </a:lnTo>
                          <a:lnTo>
                            <a:pt x="28" y="91"/>
                          </a:lnTo>
                          <a:lnTo>
                            <a:pt x="18" y="70"/>
                          </a:lnTo>
                          <a:lnTo>
                            <a:pt x="9" y="50"/>
                          </a:lnTo>
                          <a:lnTo>
                            <a:pt x="0" y="31"/>
                          </a:lnTo>
                          <a:lnTo>
                            <a:pt x="135" y="0"/>
                          </a:lnTo>
                          <a:lnTo>
                            <a:pt x="145" y="21"/>
                          </a:lnTo>
                          <a:lnTo>
                            <a:pt x="154" y="42"/>
                          </a:lnTo>
                          <a:lnTo>
                            <a:pt x="163" y="63"/>
                          </a:lnTo>
                          <a:lnTo>
                            <a:pt x="172" y="85"/>
                          </a:lnTo>
                          <a:lnTo>
                            <a:pt x="181" y="106"/>
                          </a:lnTo>
                          <a:lnTo>
                            <a:pt x="191" y="127"/>
                          </a:lnTo>
                          <a:lnTo>
                            <a:pt x="199" y="148"/>
                          </a:lnTo>
                          <a:lnTo>
                            <a:pt x="208" y="169"/>
                          </a:lnTo>
                          <a:lnTo>
                            <a:pt x="71" y="18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3681720" y="55562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9" h="196">
                          <a:moveTo>
                            <a:pt x="74" y="196"/>
                          </a:moveTo>
                          <a:lnTo>
                            <a:pt x="65" y="176"/>
                          </a:lnTo>
                          <a:lnTo>
                            <a:pt x="56" y="157"/>
                          </a:lnTo>
                          <a:lnTo>
                            <a:pt x="47" y="138"/>
                          </a:lnTo>
                          <a:lnTo>
                            <a:pt x="38" y="118"/>
                          </a:lnTo>
                          <a:lnTo>
                            <a:pt x="28" y="99"/>
                          </a:lnTo>
                          <a:lnTo>
                            <a:pt x="19" y="80"/>
                          </a:lnTo>
                          <a:lnTo>
                            <a:pt x="9" y="61"/>
                          </a:lnTo>
                          <a:lnTo>
                            <a:pt x="0" y="40"/>
                          </a:lnTo>
                          <a:lnTo>
                            <a:pt x="133" y="0"/>
                          </a:lnTo>
                          <a:lnTo>
                            <a:pt x="143" y="21"/>
                          </a:lnTo>
                          <a:lnTo>
                            <a:pt x="152" y="41"/>
                          </a:lnTo>
                          <a:lnTo>
                            <a:pt x="162" y="63"/>
                          </a:lnTo>
                          <a:lnTo>
                            <a:pt x="172" y="83"/>
                          </a:lnTo>
                          <a:lnTo>
                            <a:pt x="181" y="104"/>
                          </a:lnTo>
                          <a:lnTo>
                            <a:pt x="191" y="124"/>
                          </a:lnTo>
                          <a:lnTo>
                            <a:pt x="200" y="145"/>
                          </a:lnTo>
                          <a:lnTo>
                            <a:pt x="209" y="165"/>
                          </a:lnTo>
                          <a:lnTo>
                            <a:pt x="74" y="19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3679920" y="555300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203">
                          <a:moveTo>
                            <a:pt x="80" y="203"/>
                          </a:moveTo>
                          <a:lnTo>
                            <a:pt x="70" y="184"/>
                          </a:lnTo>
                          <a:lnTo>
                            <a:pt x="60" y="165"/>
                          </a:lnTo>
                          <a:lnTo>
                            <a:pt x="50" y="146"/>
                          </a:lnTo>
                          <a:lnTo>
                            <a:pt x="41" y="127"/>
                          </a:lnTo>
                          <a:lnTo>
                            <a:pt x="31" y="108"/>
                          </a:lnTo>
                          <a:lnTo>
                            <a:pt x="20" y="89"/>
                          </a:lnTo>
                          <a:lnTo>
                            <a:pt x="10" y="70"/>
                          </a:lnTo>
                          <a:lnTo>
                            <a:pt x="0" y="51"/>
                          </a:lnTo>
                          <a:lnTo>
                            <a:pt x="130" y="0"/>
                          </a:lnTo>
                          <a:lnTo>
                            <a:pt x="140" y="21"/>
                          </a:lnTo>
                          <a:lnTo>
                            <a:pt x="151" y="41"/>
                          </a:lnTo>
                          <a:lnTo>
                            <a:pt x="161" y="62"/>
                          </a:lnTo>
                          <a:lnTo>
                            <a:pt x="172" y="82"/>
                          </a:lnTo>
                          <a:lnTo>
                            <a:pt x="183" y="102"/>
                          </a:lnTo>
                          <a:lnTo>
                            <a:pt x="193" y="122"/>
                          </a:lnTo>
                          <a:lnTo>
                            <a:pt x="203" y="143"/>
                          </a:lnTo>
                          <a:lnTo>
                            <a:pt x="213" y="163"/>
                          </a:lnTo>
                          <a:lnTo>
                            <a:pt x="80" y="20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3678840" y="555120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210">
                          <a:moveTo>
                            <a:pt x="84" y="210"/>
                          </a:moveTo>
                          <a:lnTo>
                            <a:pt x="74" y="191"/>
                          </a:lnTo>
                          <a:lnTo>
                            <a:pt x="63" y="173"/>
                          </a:lnTo>
                          <a:lnTo>
                            <a:pt x="53" y="153"/>
                          </a:lnTo>
                          <a:lnTo>
                            <a:pt x="42" y="134"/>
                          </a:lnTo>
                          <a:lnTo>
                            <a:pt x="32" y="115"/>
                          </a:lnTo>
                          <a:lnTo>
                            <a:pt x="21" y="96"/>
                          </a:lnTo>
                          <a:lnTo>
                            <a:pt x="11" y="77"/>
                          </a:lnTo>
                          <a:lnTo>
                            <a:pt x="0" y="58"/>
                          </a:lnTo>
                          <a:lnTo>
                            <a:pt x="127" y="0"/>
                          </a:lnTo>
                          <a:lnTo>
                            <a:pt x="138" y="20"/>
                          </a:lnTo>
                          <a:lnTo>
                            <a:pt x="148" y="39"/>
                          </a:lnTo>
                          <a:lnTo>
                            <a:pt x="159" y="59"/>
                          </a:lnTo>
                          <a:lnTo>
                            <a:pt x="170" y="79"/>
                          </a:lnTo>
                          <a:lnTo>
                            <a:pt x="181" y="99"/>
                          </a:lnTo>
                          <a:lnTo>
                            <a:pt x="192" y="119"/>
                          </a:lnTo>
                          <a:lnTo>
                            <a:pt x="203" y="139"/>
                          </a:lnTo>
                          <a:lnTo>
                            <a:pt x="214" y="159"/>
                          </a:lnTo>
                          <a:lnTo>
                            <a:pt x="84" y="2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3676680" y="554868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14">
                          <a:moveTo>
                            <a:pt x="91" y="214"/>
                          </a:moveTo>
                          <a:lnTo>
                            <a:pt x="80" y="196"/>
                          </a:lnTo>
                          <a:lnTo>
                            <a:pt x="69" y="178"/>
                          </a:lnTo>
                          <a:lnTo>
                            <a:pt x="58" y="159"/>
                          </a:lnTo>
                          <a:lnTo>
                            <a:pt x="47" y="141"/>
                          </a:lnTo>
                          <a:lnTo>
                            <a:pt x="35" y="122"/>
                          </a:lnTo>
                          <a:lnTo>
                            <a:pt x="24" y="103"/>
                          </a:lnTo>
                          <a:lnTo>
                            <a:pt x="12" y="85"/>
                          </a:lnTo>
                          <a:lnTo>
                            <a:pt x="0" y="66"/>
                          </a:lnTo>
                          <a:lnTo>
                            <a:pt x="125" y="0"/>
                          </a:lnTo>
                          <a:lnTo>
                            <a:pt x="137" y="19"/>
                          </a:lnTo>
                          <a:lnTo>
                            <a:pt x="149" y="38"/>
                          </a:lnTo>
                          <a:lnTo>
                            <a:pt x="161" y="58"/>
                          </a:lnTo>
                          <a:lnTo>
                            <a:pt x="172" y="77"/>
                          </a:lnTo>
                          <a:lnTo>
                            <a:pt x="183" y="96"/>
                          </a:lnTo>
                          <a:lnTo>
                            <a:pt x="195" y="116"/>
                          </a:lnTo>
                          <a:lnTo>
                            <a:pt x="206" y="136"/>
                          </a:lnTo>
                          <a:lnTo>
                            <a:pt x="218" y="156"/>
                          </a:lnTo>
                          <a:lnTo>
                            <a:pt x="91" y="2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3674880" y="554580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0">
                          <a:moveTo>
                            <a:pt x="93" y="220"/>
                          </a:moveTo>
                          <a:lnTo>
                            <a:pt x="82" y="202"/>
                          </a:lnTo>
                          <a:lnTo>
                            <a:pt x="70" y="184"/>
                          </a:lnTo>
                          <a:lnTo>
                            <a:pt x="59" y="166"/>
                          </a:lnTo>
                          <a:lnTo>
                            <a:pt x="47" y="147"/>
                          </a:lnTo>
                          <a:lnTo>
                            <a:pt x="35" y="130"/>
                          </a:lnTo>
                          <a:lnTo>
                            <a:pt x="24" y="111"/>
                          </a:lnTo>
                          <a:lnTo>
                            <a:pt x="12" y="94"/>
                          </a:lnTo>
                          <a:lnTo>
                            <a:pt x="0" y="75"/>
                          </a:lnTo>
                          <a:lnTo>
                            <a:pt x="122" y="0"/>
                          </a:lnTo>
                          <a:lnTo>
                            <a:pt x="134" y="19"/>
                          </a:lnTo>
                          <a:lnTo>
                            <a:pt x="146" y="38"/>
                          </a:lnTo>
                          <a:lnTo>
                            <a:pt x="158" y="57"/>
                          </a:lnTo>
                          <a:lnTo>
                            <a:pt x="171" y="77"/>
                          </a:lnTo>
                          <a:lnTo>
                            <a:pt x="183" y="96"/>
                          </a:lnTo>
                          <a:lnTo>
                            <a:pt x="195" y="115"/>
                          </a:lnTo>
                          <a:lnTo>
                            <a:pt x="206" y="134"/>
                          </a:lnTo>
                          <a:lnTo>
                            <a:pt x="218" y="154"/>
                          </a:lnTo>
                          <a:lnTo>
                            <a:pt x="93" y="2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3672720" y="554400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226">
                          <a:moveTo>
                            <a:pt x="100" y="226"/>
                          </a:moveTo>
                          <a:lnTo>
                            <a:pt x="87" y="208"/>
                          </a:lnTo>
                          <a:lnTo>
                            <a:pt x="75" y="190"/>
                          </a:lnTo>
                          <a:lnTo>
                            <a:pt x="63" y="172"/>
                          </a:lnTo>
                          <a:lnTo>
                            <a:pt x="50" y="154"/>
                          </a:lnTo>
                          <a:lnTo>
                            <a:pt x="38" y="136"/>
                          </a:lnTo>
                          <a:lnTo>
                            <a:pt x="26" y="119"/>
                          </a:lnTo>
                          <a:lnTo>
                            <a:pt x="13" y="101"/>
                          </a:lnTo>
                          <a:lnTo>
                            <a:pt x="0" y="83"/>
                          </a:lnTo>
                          <a:lnTo>
                            <a:pt x="118" y="0"/>
                          </a:lnTo>
                          <a:lnTo>
                            <a:pt x="131" y="19"/>
                          </a:lnTo>
                          <a:lnTo>
                            <a:pt x="144" y="38"/>
                          </a:lnTo>
                          <a:lnTo>
                            <a:pt x="157" y="57"/>
                          </a:lnTo>
                          <a:lnTo>
                            <a:pt x="170" y="76"/>
                          </a:lnTo>
                          <a:lnTo>
                            <a:pt x="182" y="94"/>
                          </a:lnTo>
                          <a:lnTo>
                            <a:pt x="195" y="113"/>
                          </a:lnTo>
                          <a:lnTo>
                            <a:pt x="208" y="132"/>
                          </a:lnTo>
                          <a:lnTo>
                            <a:pt x="222" y="151"/>
                          </a:lnTo>
                          <a:lnTo>
                            <a:pt x="100" y="2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3670920" y="554148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1" h="230">
                          <a:moveTo>
                            <a:pt x="103" y="230"/>
                          </a:moveTo>
                          <a:lnTo>
                            <a:pt x="91" y="213"/>
                          </a:lnTo>
                          <a:lnTo>
                            <a:pt x="78" y="195"/>
                          </a:lnTo>
                          <a:lnTo>
                            <a:pt x="65" y="178"/>
                          </a:lnTo>
                          <a:lnTo>
                            <a:pt x="52" y="159"/>
                          </a:lnTo>
                          <a:lnTo>
                            <a:pt x="39" y="142"/>
                          </a:lnTo>
                          <a:lnTo>
                            <a:pt x="26" y="125"/>
                          </a:lnTo>
                          <a:lnTo>
                            <a:pt x="13" y="108"/>
                          </a:lnTo>
                          <a:lnTo>
                            <a:pt x="0" y="90"/>
                          </a:lnTo>
                          <a:lnTo>
                            <a:pt x="115" y="0"/>
                          </a:lnTo>
                          <a:lnTo>
                            <a:pt x="128" y="19"/>
                          </a:lnTo>
                          <a:lnTo>
                            <a:pt x="142" y="37"/>
                          </a:lnTo>
                          <a:lnTo>
                            <a:pt x="155" y="55"/>
                          </a:lnTo>
                          <a:lnTo>
                            <a:pt x="169" y="74"/>
                          </a:lnTo>
                          <a:lnTo>
                            <a:pt x="182" y="92"/>
                          </a:lnTo>
                          <a:lnTo>
                            <a:pt x="195" y="110"/>
                          </a:lnTo>
                          <a:lnTo>
                            <a:pt x="208" y="129"/>
                          </a:lnTo>
                          <a:lnTo>
                            <a:pt x="221" y="147"/>
                          </a:lnTo>
                          <a:lnTo>
                            <a:pt x="103" y="2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3666600" y="5537160"/>
                      <a:ext cx="57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7" h="373">
                          <a:moveTo>
                            <a:pt x="222" y="373"/>
                          </a:moveTo>
                          <a:lnTo>
                            <a:pt x="195" y="339"/>
                          </a:lnTo>
                          <a:lnTo>
                            <a:pt x="168" y="304"/>
                          </a:lnTo>
                          <a:lnTo>
                            <a:pt x="140" y="270"/>
                          </a:lnTo>
                          <a:lnTo>
                            <a:pt x="113" y="236"/>
                          </a:lnTo>
                          <a:lnTo>
                            <a:pt x="85" y="202"/>
                          </a:lnTo>
                          <a:lnTo>
                            <a:pt x="57" y="169"/>
                          </a:lnTo>
                          <a:lnTo>
                            <a:pt x="28" y="135"/>
                          </a:lnTo>
                          <a:lnTo>
                            <a:pt x="0" y="102"/>
                          </a:lnTo>
                          <a:lnTo>
                            <a:pt x="109" y="0"/>
                          </a:lnTo>
                          <a:lnTo>
                            <a:pt x="138" y="35"/>
                          </a:lnTo>
                          <a:lnTo>
                            <a:pt x="167" y="70"/>
                          </a:lnTo>
                          <a:lnTo>
                            <a:pt x="196" y="105"/>
                          </a:lnTo>
                          <a:lnTo>
                            <a:pt x="226" y="140"/>
                          </a:lnTo>
                          <a:lnTo>
                            <a:pt x="254" y="176"/>
                          </a:lnTo>
                          <a:lnTo>
                            <a:pt x="282" y="211"/>
                          </a:lnTo>
                          <a:lnTo>
                            <a:pt x="310" y="247"/>
                          </a:lnTo>
                          <a:lnTo>
                            <a:pt x="337" y="283"/>
                          </a:lnTo>
                          <a:lnTo>
                            <a:pt x="222" y="373"/>
                          </a:lnTo>
                          <a:close/>
                        </a:path>
                      </a:pathLst>
                    </a:custGeom>
                    <a:solidFill>
                      <a:srgbClr val="13131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3662280" y="5532840"/>
                      <a:ext cx="61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369">
                          <a:moveTo>
                            <a:pt x="241" y="369"/>
                          </a:moveTo>
                          <a:lnTo>
                            <a:pt x="212" y="337"/>
                          </a:lnTo>
                          <a:lnTo>
                            <a:pt x="183" y="303"/>
                          </a:lnTo>
                          <a:lnTo>
                            <a:pt x="153" y="271"/>
                          </a:lnTo>
                          <a:lnTo>
                            <a:pt x="122" y="239"/>
                          </a:lnTo>
                          <a:lnTo>
                            <a:pt x="92" y="207"/>
                          </a:lnTo>
                          <a:lnTo>
                            <a:pt x="62" y="175"/>
                          </a:lnTo>
                          <a:lnTo>
                            <a:pt x="31" y="144"/>
                          </a:lnTo>
                          <a:lnTo>
                            <a:pt x="0" y="112"/>
                          </a:lnTo>
                          <a:lnTo>
                            <a:pt x="102" y="0"/>
                          </a:lnTo>
                          <a:lnTo>
                            <a:pt x="135" y="32"/>
                          </a:lnTo>
                          <a:lnTo>
                            <a:pt x="166" y="65"/>
                          </a:lnTo>
                          <a:lnTo>
                            <a:pt x="198" y="98"/>
                          </a:lnTo>
                          <a:lnTo>
                            <a:pt x="229" y="132"/>
                          </a:lnTo>
                          <a:lnTo>
                            <a:pt x="259" y="165"/>
                          </a:lnTo>
                          <a:lnTo>
                            <a:pt x="290" y="199"/>
                          </a:lnTo>
                          <a:lnTo>
                            <a:pt x="320" y="233"/>
                          </a:lnTo>
                          <a:lnTo>
                            <a:pt x="350" y="267"/>
                          </a:lnTo>
                          <a:lnTo>
                            <a:pt x="241" y="369"/>
                          </a:lnTo>
                          <a:close/>
                        </a:path>
                      </a:pathLst>
                    </a:custGeom>
                    <a:solidFill>
                      <a:srgbClr val="37373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3656520" y="5529600"/>
                      <a:ext cx="68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0" h="364">
                          <a:moveTo>
                            <a:pt x="258" y="364"/>
                          </a:moveTo>
                          <a:lnTo>
                            <a:pt x="227" y="333"/>
                          </a:lnTo>
                          <a:lnTo>
                            <a:pt x="195" y="302"/>
                          </a:lnTo>
                          <a:lnTo>
                            <a:pt x="164" y="271"/>
                          </a:lnTo>
                          <a:lnTo>
                            <a:pt x="132" y="241"/>
                          </a:lnTo>
                          <a:lnTo>
                            <a:pt x="99" y="210"/>
                          </a:lnTo>
                          <a:lnTo>
                            <a:pt x="67" y="180"/>
                          </a:lnTo>
                          <a:lnTo>
                            <a:pt x="33" y="150"/>
                          </a:lnTo>
                          <a:lnTo>
                            <a:pt x="0" y="120"/>
                          </a:lnTo>
                          <a:lnTo>
                            <a:pt x="96" y="0"/>
                          </a:lnTo>
                          <a:lnTo>
                            <a:pt x="130" y="30"/>
                          </a:lnTo>
                          <a:lnTo>
                            <a:pt x="163" y="61"/>
                          </a:lnTo>
                          <a:lnTo>
                            <a:pt x="197" y="92"/>
                          </a:lnTo>
                          <a:lnTo>
                            <a:pt x="230" y="123"/>
                          </a:lnTo>
                          <a:lnTo>
                            <a:pt x="263" y="154"/>
                          </a:lnTo>
                          <a:lnTo>
                            <a:pt x="296" y="187"/>
                          </a:lnTo>
                          <a:lnTo>
                            <a:pt x="328" y="219"/>
                          </a:lnTo>
                          <a:lnTo>
                            <a:pt x="360" y="252"/>
                          </a:lnTo>
                          <a:lnTo>
                            <a:pt x="258" y="364"/>
                          </a:lnTo>
                          <a:close/>
                        </a:path>
                      </a:pathLst>
                    </a:custGeom>
                    <a:solidFill>
                      <a:srgbClr val="5858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3651480" y="5524920"/>
                      <a:ext cx="79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3" h="357">
                          <a:moveTo>
                            <a:pt x="277" y="357"/>
                          </a:moveTo>
                          <a:lnTo>
                            <a:pt x="243" y="328"/>
                          </a:lnTo>
                          <a:lnTo>
                            <a:pt x="209" y="299"/>
                          </a:lnTo>
                          <a:lnTo>
                            <a:pt x="175" y="270"/>
                          </a:lnTo>
                          <a:lnTo>
                            <a:pt x="140" y="242"/>
                          </a:lnTo>
                          <a:lnTo>
                            <a:pt x="106" y="213"/>
                          </a:lnTo>
                          <a:lnTo>
                            <a:pt x="71" y="184"/>
                          </a:lnTo>
                          <a:lnTo>
                            <a:pt x="36" y="157"/>
                          </a:lnTo>
                          <a:lnTo>
                            <a:pt x="0" y="129"/>
                          </a:lnTo>
                          <a:lnTo>
                            <a:pt x="89" y="0"/>
                          </a:lnTo>
                          <a:lnTo>
                            <a:pt x="125" y="30"/>
                          </a:lnTo>
                          <a:lnTo>
                            <a:pt x="161" y="58"/>
                          </a:lnTo>
                          <a:lnTo>
                            <a:pt x="197" y="87"/>
                          </a:lnTo>
                          <a:lnTo>
                            <a:pt x="232" y="116"/>
                          </a:lnTo>
                          <a:lnTo>
                            <a:pt x="267" y="146"/>
                          </a:lnTo>
                          <a:lnTo>
                            <a:pt x="302" y="176"/>
                          </a:lnTo>
                          <a:lnTo>
                            <a:pt x="338" y="207"/>
                          </a:lnTo>
                          <a:lnTo>
                            <a:pt x="373" y="237"/>
                          </a:lnTo>
                          <a:lnTo>
                            <a:pt x="277" y="357"/>
                          </a:lnTo>
                          <a:close/>
                        </a:path>
                      </a:pathLst>
                    </a:custGeom>
                    <a:solidFill>
                      <a:srgbClr val="7b7b7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3648240" y="5523480"/>
                      <a:ext cx="5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40">
                          <a:moveTo>
                            <a:pt x="145" y="240"/>
                          </a:moveTo>
                          <a:lnTo>
                            <a:pt x="126" y="227"/>
                          </a:lnTo>
                          <a:lnTo>
                            <a:pt x="109" y="213"/>
                          </a:lnTo>
                          <a:lnTo>
                            <a:pt x="90" y="199"/>
                          </a:lnTo>
                          <a:lnTo>
                            <a:pt x="73" y="186"/>
                          </a:lnTo>
                          <a:lnTo>
                            <a:pt x="54" y="172"/>
                          </a:lnTo>
                          <a:lnTo>
                            <a:pt x="36" y="159"/>
                          </a:lnTo>
                          <a:lnTo>
                            <a:pt x="18" y="146"/>
                          </a:lnTo>
                          <a:lnTo>
                            <a:pt x="0" y="133"/>
                          </a:lnTo>
                          <a:lnTo>
                            <a:pt x="85" y="0"/>
                          </a:lnTo>
                          <a:lnTo>
                            <a:pt x="104" y="14"/>
                          </a:lnTo>
                          <a:lnTo>
                            <a:pt x="122" y="28"/>
                          </a:lnTo>
                          <a:lnTo>
                            <a:pt x="141" y="42"/>
                          </a:lnTo>
                          <a:lnTo>
                            <a:pt x="160" y="56"/>
                          </a:lnTo>
                          <a:lnTo>
                            <a:pt x="179" y="70"/>
                          </a:lnTo>
                          <a:lnTo>
                            <a:pt x="197" y="83"/>
                          </a:lnTo>
                          <a:lnTo>
                            <a:pt x="216" y="97"/>
                          </a:lnTo>
                          <a:lnTo>
                            <a:pt x="234" y="111"/>
                          </a:lnTo>
                          <a:lnTo>
                            <a:pt x="145" y="240"/>
                          </a:lnTo>
                          <a:close/>
                        </a:path>
                      </a:pathLst>
                    </a:custGeom>
                    <a:solidFill>
                      <a:srgbClr val="95959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3645000" y="552240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39">
                          <a:moveTo>
                            <a:pt x="149" y="239"/>
                          </a:moveTo>
                          <a:lnTo>
                            <a:pt x="130" y="225"/>
                          </a:lnTo>
                          <a:lnTo>
                            <a:pt x="112" y="211"/>
                          </a:lnTo>
                          <a:lnTo>
                            <a:pt x="93" y="198"/>
                          </a:lnTo>
                          <a:lnTo>
                            <a:pt x="75" y="185"/>
                          </a:lnTo>
                          <a:lnTo>
                            <a:pt x="56" y="172"/>
                          </a:lnTo>
                          <a:lnTo>
                            <a:pt x="37" y="159"/>
                          </a:lnTo>
                          <a:lnTo>
                            <a:pt x="19" y="147"/>
                          </a:lnTo>
                          <a:lnTo>
                            <a:pt x="0" y="134"/>
                          </a:lnTo>
                          <a:lnTo>
                            <a:pt x="81" y="0"/>
                          </a:lnTo>
                          <a:lnTo>
                            <a:pt x="101" y="13"/>
                          </a:lnTo>
                          <a:lnTo>
                            <a:pt x="120" y="27"/>
                          </a:lnTo>
                          <a:lnTo>
                            <a:pt x="139" y="40"/>
                          </a:lnTo>
                          <a:lnTo>
                            <a:pt x="158" y="53"/>
                          </a:lnTo>
                          <a:lnTo>
                            <a:pt x="177" y="67"/>
                          </a:lnTo>
                          <a:lnTo>
                            <a:pt x="196" y="80"/>
                          </a:lnTo>
                          <a:lnTo>
                            <a:pt x="215" y="93"/>
                          </a:lnTo>
                          <a:lnTo>
                            <a:pt x="234" y="106"/>
                          </a:lnTo>
                          <a:lnTo>
                            <a:pt x="149" y="239"/>
                          </a:lnTo>
                          <a:close/>
                        </a:path>
                      </a:pathLst>
                    </a:custGeom>
                    <a:solidFill>
                      <a:srgbClr val="a3a3a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3643200" y="552060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236">
                          <a:moveTo>
                            <a:pt x="155" y="236"/>
                          </a:moveTo>
                          <a:lnTo>
                            <a:pt x="136" y="223"/>
                          </a:lnTo>
                          <a:lnTo>
                            <a:pt x="116" y="211"/>
                          </a:lnTo>
                          <a:lnTo>
                            <a:pt x="96" y="198"/>
                          </a:lnTo>
                          <a:lnTo>
                            <a:pt x="77" y="186"/>
                          </a:lnTo>
                          <a:lnTo>
                            <a:pt x="58" y="174"/>
                          </a:lnTo>
                          <a:lnTo>
                            <a:pt x="39" y="161"/>
                          </a:lnTo>
                          <a:lnTo>
                            <a:pt x="19" y="149"/>
                          </a:lnTo>
                          <a:lnTo>
                            <a:pt x="0" y="137"/>
                          </a:lnTo>
                          <a:lnTo>
                            <a:pt x="79" y="0"/>
                          </a:lnTo>
                          <a:lnTo>
                            <a:pt x="99" y="13"/>
                          </a:lnTo>
                          <a:lnTo>
                            <a:pt x="118" y="25"/>
                          </a:lnTo>
                          <a:lnTo>
                            <a:pt x="139" y="38"/>
                          </a:lnTo>
                          <a:lnTo>
                            <a:pt x="159" y="51"/>
                          </a:lnTo>
                          <a:lnTo>
                            <a:pt x="178" y="63"/>
                          </a:lnTo>
                          <a:lnTo>
                            <a:pt x="198" y="76"/>
                          </a:lnTo>
                          <a:lnTo>
                            <a:pt x="217" y="89"/>
                          </a:lnTo>
                          <a:lnTo>
                            <a:pt x="236" y="102"/>
                          </a:lnTo>
                          <a:lnTo>
                            <a:pt x="155" y="236"/>
                          </a:lnTo>
                          <a:close/>
                        </a:path>
                      </a:pathLst>
                    </a:custGeom>
                    <a:solidFill>
                      <a:srgbClr val="b7b7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3639960" y="551880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7" h="234">
                          <a:moveTo>
                            <a:pt x="158" y="234"/>
                          </a:moveTo>
                          <a:lnTo>
                            <a:pt x="138" y="222"/>
                          </a:lnTo>
                          <a:lnTo>
                            <a:pt x="119" y="209"/>
                          </a:lnTo>
                          <a:lnTo>
                            <a:pt x="99" y="197"/>
                          </a:lnTo>
                          <a:lnTo>
                            <a:pt x="79" y="185"/>
                          </a:lnTo>
                          <a:lnTo>
                            <a:pt x="60" y="174"/>
                          </a:lnTo>
                          <a:lnTo>
                            <a:pt x="40" y="162"/>
                          </a:lnTo>
                          <a:lnTo>
                            <a:pt x="20" y="150"/>
                          </a:lnTo>
                          <a:lnTo>
                            <a:pt x="0" y="138"/>
                          </a:lnTo>
                          <a:lnTo>
                            <a:pt x="76" y="0"/>
                          </a:lnTo>
                          <a:lnTo>
                            <a:pt x="96" y="12"/>
                          </a:lnTo>
                          <a:lnTo>
                            <a:pt x="117" y="24"/>
                          </a:lnTo>
                          <a:lnTo>
                            <a:pt x="137" y="36"/>
                          </a:lnTo>
                          <a:lnTo>
                            <a:pt x="157" y="49"/>
                          </a:lnTo>
                          <a:lnTo>
                            <a:pt x="177" y="61"/>
                          </a:lnTo>
                          <a:lnTo>
                            <a:pt x="197" y="73"/>
                          </a:lnTo>
                          <a:lnTo>
                            <a:pt x="217" y="85"/>
                          </a:lnTo>
                          <a:lnTo>
                            <a:pt x="237" y="97"/>
                          </a:lnTo>
                          <a:lnTo>
                            <a:pt x="158" y="234"/>
                          </a:lnTo>
                          <a:close/>
                        </a:path>
                      </a:pathLst>
                    </a:custGeom>
                    <a:solidFill>
                      <a:srgbClr val="c5c5c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3636000" y="5517360"/>
                      <a:ext cx="5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231">
                          <a:moveTo>
                            <a:pt x="164" y="231"/>
                          </a:moveTo>
                          <a:lnTo>
                            <a:pt x="144" y="220"/>
                          </a:lnTo>
                          <a:lnTo>
                            <a:pt x="123" y="208"/>
                          </a:lnTo>
                          <a:lnTo>
                            <a:pt x="102" y="197"/>
                          </a:lnTo>
                          <a:lnTo>
                            <a:pt x="82" y="185"/>
                          </a:lnTo>
                          <a:lnTo>
                            <a:pt x="61" y="174"/>
                          </a:lnTo>
                          <a:lnTo>
                            <a:pt x="41" y="163"/>
                          </a:lnTo>
                          <a:lnTo>
                            <a:pt x="20" y="152"/>
                          </a:lnTo>
                          <a:lnTo>
                            <a:pt x="0" y="141"/>
                          </a:lnTo>
                          <a:lnTo>
                            <a:pt x="72" y="0"/>
                          </a:lnTo>
                          <a:lnTo>
                            <a:pt x="93" y="11"/>
                          </a:lnTo>
                          <a:lnTo>
                            <a:pt x="114" y="22"/>
                          </a:lnTo>
                          <a:lnTo>
                            <a:pt x="136" y="34"/>
                          </a:lnTo>
                          <a:lnTo>
                            <a:pt x="157" y="46"/>
                          </a:lnTo>
                          <a:lnTo>
                            <a:pt x="177" y="57"/>
                          </a:lnTo>
                          <a:lnTo>
                            <a:pt x="198" y="69"/>
                          </a:lnTo>
                          <a:lnTo>
                            <a:pt x="219" y="81"/>
                          </a:lnTo>
                          <a:lnTo>
                            <a:pt x="240" y="93"/>
                          </a:lnTo>
                          <a:lnTo>
                            <a:pt x="164" y="231"/>
                          </a:lnTo>
                          <a:close/>
                        </a:path>
                      </a:pathLst>
                    </a:custGeom>
                    <a:solidFill>
                      <a:srgbClr val="cdcdc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3632760" y="551628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" h="228">
                          <a:moveTo>
                            <a:pt x="166" y="228"/>
                          </a:moveTo>
                          <a:lnTo>
                            <a:pt x="145" y="217"/>
                          </a:lnTo>
                          <a:lnTo>
                            <a:pt x="124" y="206"/>
                          </a:lnTo>
                          <a:lnTo>
                            <a:pt x="104" y="194"/>
                          </a:lnTo>
                          <a:lnTo>
                            <a:pt x="83" y="184"/>
                          </a:lnTo>
                          <a:lnTo>
                            <a:pt x="62" y="173"/>
                          </a:lnTo>
                          <a:lnTo>
                            <a:pt x="41" y="162"/>
                          </a:lnTo>
                          <a:lnTo>
                            <a:pt x="21" y="152"/>
                          </a:lnTo>
                          <a:lnTo>
                            <a:pt x="0" y="142"/>
                          </a:lnTo>
                          <a:lnTo>
                            <a:pt x="68" y="0"/>
                          </a:lnTo>
                          <a:lnTo>
                            <a:pt x="89" y="11"/>
                          </a:lnTo>
                          <a:lnTo>
                            <a:pt x="111" y="21"/>
                          </a:lnTo>
                          <a:lnTo>
                            <a:pt x="132" y="32"/>
                          </a:lnTo>
                          <a:lnTo>
                            <a:pt x="153" y="43"/>
                          </a:lnTo>
                          <a:lnTo>
                            <a:pt x="174" y="54"/>
                          </a:lnTo>
                          <a:lnTo>
                            <a:pt x="195" y="65"/>
                          </a:lnTo>
                          <a:lnTo>
                            <a:pt x="216" y="76"/>
                          </a:lnTo>
                          <a:lnTo>
                            <a:pt x="238" y="87"/>
                          </a:lnTo>
                          <a:lnTo>
                            <a:pt x="166" y="228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>
                      <a:off x="3629880" y="551556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7" h="223">
                          <a:moveTo>
                            <a:pt x="169" y="223"/>
                          </a:moveTo>
                          <a:lnTo>
                            <a:pt x="148" y="213"/>
                          </a:lnTo>
                          <a:lnTo>
                            <a:pt x="126" y="203"/>
                          </a:lnTo>
                          <a:lnTo>
                            <a:pt x="105" y="193"/>
                          </a:lnTo>
                          <a:lnTo>
                            <a:pt x="84" y="183"/>
                          </a:lnTo>
                          <a:lnTo>
                            <a:pt x="63" y="173"/>
                          </a:lnTo>
                          <a:lnTo>
                            <a:pt x="42" y="163"/>
                          </a:lnTo>
                          <a:lnTo>
                            <a:pt x="21" y="154"/>
                          </a:lnTo>
                          <a:lnTo>
                            <a:pt x="0" y="144"/>
                          </a:lnTo>
                          <a:lnTo>
                            <a:pt x="65" y="0"/>
                          </a:lnTo>
                          <a:lnTo>
                            <a:pt x="86" y="9"/>
                          </a:lnTo>
                          <a:lnTo>
                            <a:pt x="108" y="19"/>
                          </a:lnTo>
                          <a:lnTo>
                            <a:pt x="130" y="29"/>
                          </a:lnTo>
                          <a:lnTo>
                            <a:pt x="152" y="39"/>
                          </a:lnTo>
                          <a:lnTo>
                            <a:pt x="173" y="50"/>
                          </a:lnTo>
                          <a:lnTo>
                            <a:pt x="194" y="60"/>
                          </a:lnTo>
                          <a:lnTo>
                            <a:pt x="216" y="70"/>
                          </a:lnTo>
                          <a:lnTo>
                            <a:pt x="237" y="81"/>
                          </a:lnTo>
                          <a:lnTo>
                            <a:pt x="169" y="223"/>
                          </a:lnTo>
                          <a:close/>
                        </a:path>
                      </a:pathLst>
                    </a:custGeom>
                    <a:solidFill>
                      <a:srgbClr val="d0d0d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>
                      <a:off x="3627000" y="551376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18">
                          <a:moveTo>
                            <a:pt x="169" y="218"/>
                          </a:moveTo>
                          <a:lnTo>
                            <a:pt x="148" y="209"/>
                          </a:lnTo>
                          <a:lnTo>
                            <a:pt x="127" y="200"/>
                          </a:lnTo>
                          <a:lnTo>
                            <a:pt x="106" y="190"/>
                          </a:lnTo>
                          <a:lnTo>
                            <a:pt x="85" y="181"/>
                          </a:lnTo>
                          <a:lnTo>
                            <a:pt x="64" y="172"/>
                          </a:lnTo>
                          <a:lnTo>
                            <a:pt x="43" y="163"/>
                          </a:lnTo>
                          <a:lnTo>
                            <a:pt x="22" y="154"/>
                          </a:lnTo>
                          <a:lnTo>
                            <a:pt x="0" y="145"/>
                          </a:lnTo>
                          <a:lnTo>
                            <a:pt x="61" y="0"/>
                          </a:lnTo>
                          <a:lnTo>
                            <a:pt x="82" y="9"/>
                          </a:lnTo>
                          <a:lnTo>
                            <a:pt x="104" y="18"/>
                          </a:lnTo>
                          <a:lnTo>
                            <a:pt x="126" y="27"/>
                          </a:lnTo>
                          <a:lnTo>
                            <a:pt x="147" y="37"/>
                          </a:lnTo>
                          <a:lnTo>
                            <a:pt x="169" y="46"/>
                          </a:lnTo>
                          <a:lnTo>
                            <a:pt x="191" y="55"/>
                          </a:lnTo>
                          <a:lnTo>
                            <a:pt x="212" y="65"/>
                          </a:lnTo>
                          <a:lnTo>
                            <a:pt x="234" y="74"/>
                          </a:lnTo>
                          <a:lnTo>
                            <a:pt x="169" y="218"/>
                          </a:lnTo>
                          <a:close/>
                        </a:path>
                      </a:pathLst>
                    </a:custGeom>
                    <a:solidFill>
                      <a:srgbClr val="d2d2d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3623760" y="551268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213">
                          <a:moveTo>
                            <a:pt x="170" y="213"/>
                          </a:moveTo>
                          <a:lnTo>
                            <a:pt x="149" y="204"/>
                          </a:lnTo>
                          <a:lnTo>
                            <a:pt x="127" y="196"/>
                          </a:lnTo>
                          <a:lnTo>
                            <a:pt x="106" y="187"/>
                          </a:lnTo>
                          <a:lnTo>
                            <a:pt x="85" y="179"/>
                          </a:lnTo>
                          <a:lnTo>
                            <a:pt x="64" y="171"/>
                          </a:lnTo>
                          <a:lnTo>
                            <a:pt x="42" y="162"/>
                          </a:lnTo>
                          <a:lnTo>
                            <a:pt x="21" y="154"/>
                          </a:lnTo>
                          <a:lnTo>
                            <a:pt x="0" y="146"/>
                          </a:lnTo>
                          <a:lnTo>
                            <a:pt x="55" y="0"/>
                          </a:lnTo>
                          <a:lnTo>
                            <a:pt x="77" y="8"/>
                          </a:lnTo>
                          <a:lnTo>
                            <a:pt x="99" y="16"/>
                          </a:lnTo>
                          <a:lnTo>
                            <a:pt x="120" y="25"/>
                          </a:lnTo>
                          <a:lnTo>
                            <a:pt x="143" y="34"/>
                          </a:lnTo>
                          <a:lnTo>
                            <a:pt x="165" y="42"/>
                          </a:lnTo>
                          <a:lnTo>
                            <a:pt x="187" y="51"/>
                          </a:lnTo>
                          <a:lnTo>
                            <a:pt x="209" y="59"/>
                          </a:lnTo>
                          <a:lnTo>
                            <a:pt x="231" y="68"/>
                          </a:lnTo>
                          <a:lnTo>
                            <a:pt x="170" y="213"/>
                          </a:lnTo>
                          <a:close/>
                        </a:path>
                      </a:pathLst>
                    </a:custGeom>
                    <a:solidFill>
                      <a:srgbClr val="d3d3d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3619800" y="551196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208">
                          <a:moveTo>
                            <a:pt x="171" y="208"/>
                          </a:moveTo>
                          <a:lnTo>
                            <a:pt x="150" y="200"/>
                          </a:lnTo>
                          <a:lnTo>
                            <a:pt x="128" y="193"/>
                          </a:lnTo>
                          <a:lnTo>
                            <a:pt x="107" y="185"/>
                          </a:lnTo>
                          <a:lnTo>
                            <a:pt x="85" y="177"/>
                          </a:lnTo>
                          <a:lnTo>
                            <a:pt x="64" y="170"/>
                          </a:lnTo>
                          <a:lnTo>
                            <a:pt x="42" y="163"/>
                          </a:lnTo>
                          <a:lnTo>
                            <a:pt x="21" y="155"/>
                          </a:lnTo>
                          <a:lnTo>
                            <a:pt x="0" y="148"/>
                          </a:lnTo>
                          <a:lnTo>
                            <a:pt x="49" y="0"/>
                          </a:lnTo>
                          <a:lnTo>
                            <a:pt x="71" y="8"/>
                          </a:lnTo>
                          <a:lnTo>
                            <a:pt x="93" y="15"/>
                          </a:lnTo>
                          <a:lnTo>
                            <a:pt x="116" y="23"/>
                          </a:lnTo>
                          <a:lnTo>
                            <a:pt x="138" y="30"/>
                          </a:lnTo>
                          <a:lnTo>
                            <a:pt x="160" y="38"/>
                          </a:lnTo>
                          <a:lnTo>
                            <a:pt x="182" y="46"/>
                          </a:lnTo>
                          <a:lnTo>
                            <a:pt x="204" y="54"/>
                          </a:lnTo>
                          <a:lnTo>
                            <a:pt x="226" y="62"/>
                          </a:lnTo>
                          <a:lnTo>
                            <a:pt x="171" y="208"/>
                          </a:lnTo>
                          <a:close/>
                        </a:path>
                      </a:pathLst>
                    </a:custGeom>
                    <a:solidFill>
                      <a:srgbClr val="d5d5d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3616560" y="551088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3" h="203">
                          <a:moveTo>
                            <a:pt x="174" y="203"/>
                          </a:moveTo>
                          <a:lnTo>
                            <a:pt x="151" y="196"/>
                          </a:lnTo>
                          <a:lnTo>
                            <a:pt x="129" y="189"/>
                          </a:lnTo>
                          <a:lnTo>
                            <a:pt x="108" y="182"/>
                          </a:lnTo>
                          <a:lnTo>
                            <a:pt x="86" y="175"/>
                          </a:lnTo>
                          <a:lnTo>
                            <a:pt x="64" y="168"/>
                          </a:lnTo>
                          <a:lnTo>
                            <a:pt x="43" y="162"/>
                          </a:lnTo>
                          <a:lnTo>
                            <a:pt x="21" y="155"/>
                          </a:lnTo>
                          <a:lnTo>
                            <a:pt x="0" y="149"/>
                          </a:lnTo>
                          <a:lnTo>
                            <a:pt x="45" y="0"/>
                          </a:lnTo>
                          <a:lnTo>
                            <a:pt x="67" y="7"/>
                          </a:lnTo>
                          <a:lnTo>
                            <a:pt x="89" y="13"/>
                          </a:lnTo>
                          <a:lnTo>
                            <a:pt x="112" y="20"/>
                          </a:lnTo>
                          <a:lnTo>
                            <a:pt x="134" y="27"/>
                          </a:lnTo>
                          <a:lnTo>
                            <a:pt x="156" y="34"/>
                          </a:lnTo>
                          <a:lnTo>
                            <a:pt x="179" y="41"/>
                          </a:lnTo>
                          <a:lnTo>
                            <a:pt x="201" y="48"/>
                          </a:lnTo>
                          <a:lnTo>
                            <a:pt x="223" y="55"/>
                          </a:lnTo>
                          <a:lnTo>
                            <a:pt x="174" y="203"/>
                          </a:lnTo>
                          <a:close/>
                        </a:path>
                      </a:pathLst>
                    </a:custGeom>
                    <a:solidFill>
                      <a:srgbClr val="d7d7d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3613680" y="551016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197">
                          <a:moveTo>
                            <a:pt x="175" y="197"/>
                          </a:moveTo>
                          <a:lnTo>
                            <a:pt x="153" y="190"/>
                          </a:lnTo>
                          <a:lnTo>
                            <a:pt x="132" y="184"/>
                          </a:lnTo>
                          <a:lnTo>
                            <a:pt x="110" y="177"/>
                          </a:lnTo>
                          <a:lnTo>
                            <a:pt x="88" y="171"/>
                          </a:lnTo>
                          <a:lnTo>
                            <a:pt x="67" y="165"/>
                          </a:lnTo>
                          <a:lnTo>
                            <a:pt x="45" y="159"/>
                          </a:lnTo>
                          <a:lnTo>
                            <a:pt x="23" y="153"/>
                          </a:lnTo>
                          <a:lnTo>
                            <a:pt x="0" y="147"/>
                          </a:lnTo>
                          <a:lnTo>
                            <a:pt x="41" y="0"/>
                          </a:lnTo>
                          <a:lnTo>
                            <a:pt x="63" y="5"/>
                          </a:lnTo>
                          <a:lnTo>
                            <a:pt x="86" y="11"/>
                          </a:lnTo>
                          <a:lnTo>
                            <a:pt x="108" y="17"/>
                          </a:lnTo>
                          <a:lnTo>
                            <a:pt x="130" y="23"/>
                          </a:lnTo>
                          <a:lnTo>
                            <a:pt x="153" y="29"/>
                          </a:lnTo>
                          <a:lnTo>
                            <a:pt x="175" y="35"/>
                          </a:lnTo>
                          <a:lnTo>
                            <a:pt x="198" y="42"/>
                          </a:lnTo>
                          <a:lnTo>
                            <a:pt x="220" y="48"/>
                          </a:lnTo>
                          <a:lnTo>
                            <a:pt x="175" y="197"/>
                          </a:lnTo>
                          <a:close/>
                        </a:path>
                      </a:pathLst>
                    </a:custGeom>
                    <a:solidFill>
                      <a:srgbClr val="d8d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3609360" y="55094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191">
                          <a:moveTo>
                            <a:pt x="173" y="191"/>
                          </a:moveTo>
                          <a:lnTo>
                            <a:pt x="152" y="185"/>
                          </a:lnTo>
                          <a:lnTo>
                            <a:pt x="130" y="180"/>
                          </a:lnTo>
                          <a:lnTo>
                            <a:pt x="108" y="174"/>
                          </a:lnTo>
                          <a:lnTo>
                            <a:pt x="87" y="169"/>
                          </a:lnTo>
                          <a:lnTo>
                            <a:pt x="65" y="164"/>
                          </a:lnTo>
                          <a:lnTo>
                            <a:pt x="43" y="159"/>
                          </a:lnTo>
                          <a:lnTo>
                            <a:pt x="21" y="154"/>
                          </a:lnTo>
                          <a:lnTo>
                            <a:pt x="0" y="149"/>
                          </a:lnTo>
                          <a:lnTo>
                            <a:pt x="32" y="0"/>
                          </a:lnTo>
                          <a:lnTo>
                            <a:pt x="55" y="5"/>
                          </a:lnTo>
                          <a:lnTo>
                            <a:pt x="78" y="10"/>
                          </a:lnTo>
                          <a:lnTo>
                            <a:pt x="100" y="15"/>
                          </a:lnTo>
                          <a:lnTo>
                            <a:pt x="123" y="20"/>
                          </a:lnTo>
                          <a:lnTo>
                            <a:pt x="145" y="25"/>
                          </a:lnTo>
                          <a:lnTo>
                            <a:pt x="168" y="32"/>
                          </a:lnTo>
                          <a:lnTo>
                            <a:pt x="191" y="38"/>
                          </a:lnTo>
                          <a:lnTo>
                            <a:pt x="214" y="44"/>
                          </a:lnTo>
                          <a:lnTo>
                            <a:pt x="173" y="191"/>
                          </a:lnTo>
                          <a:close/>
                        </a:path>
                      </a:pathLst>
                    </a:custGeom>
                    <a:solidFill>
                      <a:srgbClr val="dadad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3606480" y="550944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86">
                          <a:moveTo>
                            <a:pt x="176" y="186"/>
                          </a:moveTo>
                          <a:lnTo>
                            <a:pt x="154" y="181"/>
                          </a:lnTo>
                          <a:lnTo>
                            <a:pt x="132" y="176"/>
                          </a:lnTo>
                          <a:lnTo>
                            <a:pt x="110" y="172"/>
                          </a:lnTo>
                          <a:lnTo>
                            <a:pt x="88" y="167"/>
                          </a:lnTo>
                          <a:lnTo>
                            <a:pt x="66" y="162"/>
                          </a:lnTo>
                          <a:lnTo>
                            <a:pt x="45" y="158"/>
                          </a:lnTo>
                          <a:lnTo>
                            <a:pt x="22" y="153"/>
                          </a:lnTo>
                          <a:lnTo>
                            <a:pt x="0" y="149"/>
                          </a:lnTo>
                          <a:lnTo>
                            <a:pt x="26" y="0"/>
                          </a:lnTo>
                          <a:lnTo>
                            <a:pt x="50" y="4"/>
                          </a:lnTo>
                          <a:lnTo>
                            <a:pt x="73" y="8"/>
                          </a:lnTo>
                          <a:lnTo>
                            <a:pt x="95" y="13"/>
                          </a:lnTo>
                          <a:lnTo>
                            <a:pt x="118" y="18"/>
                          </a:lnTo>
                          <a:lnTo>
                            <a:pt x="140" y="22"/>
                          </a:lnTo>
                          <a:lnTo>
                            <a:pt x="163" y="27"/>
                          </a:lnTo>
                          <a:lnTo>
                            <a:pt x="186" y="32"/>
                          </a:lnTo>
                          <a:lnTo>
                            <a:pt x="208" y="37"/>
                          </a:lnTo>
                          <a:lnTo>
                            <a:pt x="176" y="186"/>
                          </a:lnTo>
                          <a:close/>
                        </a:path>
                      </a:pathLst>
                    </a:cu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3602520" y="550836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180">
                          <a:moveTo>
                            <a:pt x="175" y="180"/>
                          </a:moveTo>
                          <a:lnTo>
                            <a:pt x="153" y="176"/>
                          </a:lnTo>
                          <a:lnTo>
                            <a:pt x="131" y="172"/>
                          </a:lnTo>
                          <a:lnTo>
                            <a:pt x="109" y="168"/>
                          </a:lnTo>
                          <a:lnTo>
                            <a:pt x="88" y="164"/>
                          </a:lnTo>
                          <a:lnTo>
                            <a:pt x="66" y="160"/>
                          </a:lnTo>
                          <a:lnTo>
                            <a:pt x="44" y="157"/>
                          </a:lnTo>
                          <a:lnTo>
                            <a:pt x="22" y="153"/>
                          </a:lnTo>
                          <a:lnTo>
                            <a:pt x="0" y="150"/>
                          </a:lnTo>
                          <a:lnTo>
                            <a:pt x="19" y="0"/>
                          </a:lnTo>
                          <a:lnTo>
                            <a:pt x="42" y="4"/>
                          </a:lnTo>
                          <a:lnTo>
                            <a:pt x="65" y="7"/>
                          </a:lnTo>
                          <a:lnTo>
                            <a:pt x="88" y="11"/>
                          </a:lnTo>
                          <a:lnTo>
                            <a:pt x="111" y="15"/>
                          </a:lnTo>
                          <a:lnTo>
                            <a:pt x="133" y="19"/>
                          </a:lnTo>
                          <a:lnTo>
                            <a:pt x="156" y="23"/>
                          </a:lnTo>
                          <a:lnTo>
                            <a:pt x="179" y="27"/>
                          </a:lnTo>
                          <a:lnTo>
                            <a:pt x="201" y="31"/>
                          </a:lnTo>
                          <a:lnTo>
                            <a:pt x="175" y="180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3599280" y="550836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174">
                          <a:moveTo>
                            <a:pt x="177" y="174"/>
                          </a:moveTo>
                          <a:lnTo>
                            <a:pt x="155" y="170"/>
                          </a:lnTo>
                          <a:lnTo>
                            <a:pt x="133" y="167"/>
                          </a:lnTo>
                          <a:lnTo>
                            <a:pt x="111" y="163"/>
                          </a:lnTo>
                          <a:lnTo>
                            <a:pt x="89" y="160"/>
                          </a:lnTo>
                          <a:lnTo>
                            <a:pt x="67" y="157"/>
                          </a:lnTo>
                          <a:lnTo>
                            <a:pt x="44" y="154"/>
                          </a:lnTo>
                          <a:lnTo>
                            <a:pt x="22" y="152"/>
                          </a:lnTo>
                          <a:lnTo>
                            <a:pt x="0" y="149"/>
                          </a:lnTo>
                          <a:lnTo>
                            <a:pt x="13" y="0"/>
                          </a:lnTo>
                          <a:lnTo>
                            <a:pt x="35" y="3"/>
                          </a:lnTo>
                          <a:lnTo>
                            <a:pt x="59" y="6"/>
                          </a:lnTo>
                          <a:lnTo>
                            <a:pt x="82" y="9"/>
                          </a:lnTo>
                          <a:lnTo>
                            <a:pt x="105" y="12"/>
                          </a:lnTo>
                          <a:lnTo>
                            <a:pt x="128" y="15"/>
                          </a:lnTo>
                          <a:lnTo>
                            <a:pt x="151" y="18"/>
                          </a:lnTo>
                          <a:lnTo>
                            <a:pt x="174" y="21"/>
                          </a:lnTo>
                          <a:lnTo>
                            <a:pt x="196" y="24"/>
                          </a:lnTo>
                          <a:lnTo>
                            <a:pt x="177" y="174"/>
                          </a:lnTo>
                          <a:close/>
                        </a:path>
                      </a:pathLst>
                    </a:custGeom>
                    <a:solidFill>
                      <a:srgbClr val="deded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3596400" y="550764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167">
                          <a:moveTo>
                            <a:pt x="176" y="167"/>
                          </a:moveTo>
                          <a:lnTo>
                            <a:pt x="154" y="164"/>
                          </a:lnTo>
                          <a:lnTo>
                            <a:pt x="132" y="162"/>
                          </a:lnTo>
                          <a:lnTo>
                            <a:pt x="110" y="159"/>
                          </a:lnTo>
                          <a:lnTo>
                            <a:pt x="88" y="156"/>
                          </a:lnTo>
                          <a:lnTo>
                            <a:pt x="66" y="154"/>
                          </a:lnTo>
                          <a:lnTo>
                            <a:pt x="44" y="152"/>
                          </a:lnTo>
                          <a:lnTo>
                            <a:pt x="22" y="149"/>
                          </a:lnTo>
                          <a:lnTo>
                            <a:pt x="0" y="147"/>
                          </a:lnTo>
                          <a:lnTo>
                            <a:pt x="6" y="0"/>
                          </a:lnTo>
                          <a:lnTo>
                            <a:pt x="29" y="2"/>
                          </a:lnTo>
                          <a:lnTo>
                            <a:pt x="52" y="4"/>
                          </a:lnTo>
                          <a:lnTo>
                            <a:pt x="74" y="6"/>
                          </a:lnTo>
                          <a:lnTo>
                            <a:pt x="97" y="9"/>
                          </a:lnTo>
                          <a:lnTo>
                            <a:pt x="120" y="11"/>
                          </a:lnTo>
                          <a:lnTo>
                            <a:pt x="143" y="13"/>
                          </a:lnTo>
                          <a:lnTo>
                            <a:pt x="166" y="16"/>
                          </a:lnTo>
                          <a:lnTo>
                            <a:pt x="189" y="18"/>
                          </a:lnTo>
                          <a:lnTo>
                            <a:pt x="176" y="167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3592080" y="55076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60">
                          <a:moveTo>
                            <a:pt x="179" y="160"/>
                          </a:moveTo>
                          <a:lnTo>
                            <a:pt x="157" y="158"/>
                          </a:lnTo>
                          <a:lnTo>
                            <a:pt x="135" y="156"/>
                          </a:lnTo>
                          <a:lnTo>
                            <a:pt x="113" y="155"/>
                          </a:lnTo>
                          <a:lnTo>
                            <a:pt x="91" y="153"/>
                          </a:lnTo>
                          <a:lnTo>
                            <a:pt x="68" y="151"/>
                          </a:lnTo>
                          <a:lnTo>
                            <a:pt x="46" y="150"/>
                          </a:lnTo>
                          <a:lnTo>
                            <a:pt x="25" y="147"/>
                          </a:lnTo>
                          <a:lnTo>
                            <a:pt x="3" y="146"/>
                          </a:lnTo>
                          <a:lnTo>
                            <a:pt x="0" y="0"/>
                          </a:lnTo>
                          <a:lnTo>
                            <a:pt x="23" y="2"/>
                          </a:lnTo>
                          <a:lnTo>
                            <a:pt x="46" y="3"/>
                          </a:lnTo>
                          <a:lnTo>
                            <a:pt x="69" y="5"/>
                          </a:lnTo>
                          <a:lnTo>
                            <a:pt x="93" y="6"/>
                          </a:lnTo>
                          <a:lnTo>
                            <a:pt x="116" y="8"/>
                          </a:lnTo>
                          <a:lnTo>
                            <a:pt x="139" y="9"/>
                          </a:lnTo>
                          <a:lnTo>
                            <a:pt x="162" y="11"/>
                          </a:lnTo>
                          <a:lnTo>
                            <a:pt x="185" y="13"/>
                          </a:lnTo>
                          <a:lnTo>
                            <a:pt x="179" y="160"/>
                          </a:lnTo>
                          <a:close/>
                        </a:path>
                      </a:pathLst>
                    </a:custGeom>
                    <a:solidFill>
                      <a:srgbClr val="e1e1e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3589200" y="550764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8" h="151">
                          <a:moveTo>
                            <a:pt x="188" y="151"/>
                          </a:moveTo>
                          <a:lnTo>
                            <a:pt x="165" y="150"/>
                          </a:lnTo>
                          <a:lnTo>
                            <a:pt x="144" y="149"/>
                          </a:lnTo>
                          <a:lnTo>
                            <a:pt x="122" y="148"/>
                          </a:lnTo>
                          <a:lnTo>
                            <a:pt x="100" y="147"/>
                          </a:lnTo>
                          <a:lnTo>
                            <a:pt x="78" y="146"/>
                          </a:lnTo>
                          <a:lnTo>
                            <a:pt x="56" y="145"/>
                          </a:lnTo>
                          <a:lnTo>
                            <a:pt x="34" y="145"/>
                          </a:lnTo>
                          <a:lnTo>
                            <a:pt x="12" y="144"/>
                          </a:lnTo>
                          <a:lnTo>
                            <a:pt x="0" y="0"/>
                          </a:lnTo>
                          <a:lnTo>
                            <a:pt x="23" y="1"/>
                          </a:lnTo>
                          <a:lnTo>
                            <a:pt x="47" y="1"/>
                          </a:lnTo>
                          <a:lnTo>
                            <a:pt x="70" y="2"/>
                          </a:lnTo>
                          <a:lnTo>
                            <a:pt x="93" y="2"/>
                          </a:lnTo>
                          <a:lnTo>
                            <a:pt x="116" y="3"/>
                          </a:lnTo>
                          <a:lnTo>
                            <a:pt x="139" y="4"/>
                          </a:lnTo>
                          <a:lnTo>
                            <a:pt x="162" y="5"/>
                          </a:lnTo>
                          <a:lnTo>
                            <a:pt x="185" y="5"/>
                          </a:lnTo>
                          <a:lnTo>
                            <a:pt x="188" y="151"/>
                          </a:lnTo>
                          <a:close/>
                        </a:path>
                      </a:pathLst>
                    </a:custGeom>
                    <a:solidFill>
                      <a:srgbClr val="e3e3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3584880" y="5507640"/>
                      <a:ext cx="396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145">
                          <a:moveTo>
                            <a:pt x="196" y="145"/>
                          </a:moveTo>
                          <a:lnTo>
                            <a:pt x="174" y="144"/>
                          </a:lnTo>
                          <a:lnTo>
                            <a:pt x="152" y="144"/>
                          </a:lnTo>
                          <a:lnTo>
                            <a:pt x="130" y="143"/>
                          </a:lnTo>
                          <a:lnTo>
                            <a:pt x="107" y="143"/>
                          </a:lnTo>
                          <a:lnTo>
                            <a:pt x="85" y="143"/>
                          </a:lnTo>
                          <a:lnTo>
                            <a:pt x="63" y="143"/>
                          </a:lnTo>
                          <a:lnTo>
                            <a:pt x="41" y="143"/>
                          </a:lnTo>
                          <a:lnTo>
                            <a:pt x="19" y="143"/>
                          </a:lnTo>
                          <a:lnTo>
                            <a:pt x="0" y="1"/>
                          </a:lnTo>
                          <a:lnTo>
                            <a:pt x="23" y="1"/>
                          </a:lnTo>
                          <a:lnTo>
                            <a:pt x="45" y="0"/>
                          </a:lnTo>
                          <a:lnTo>
                            <a:pt x="68" y="0"/>
                          </a:lnTo>
                          <a:lnTo>
                            <a:pt x="91" y="0"/>
                          </a:lnTo>
                          <a:lnTo>
                            <a:pt x="114" y="0"/>
                          </a:lnTo>
                          <a:lnTo>
                            <a:pt x="138" y="0"/>
                          </a:lnTo>
                          <a:lnTo>
                            <a:pt x="161" y="1"/>
                          </a:lnTo>
                          <a:lnTo>
                            <a:pt x="184" y="1"/>
                          </a:lnTo>
                          <a:lnTo>
                            <a:pt x="196" y="145"/>
                          </a:lnTo>
                          <a:close/>
                        </a:path>
                      </a:pathLst>
                    </a:cu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3582000" y="5507640"/>
                      <a:ext cx="396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4" h="146">
                          <a:moveTo>
                            <a:pt x="204" y="142"/>
                          </a:moveTo>
                          <a:lnTo>
                            <a:pt x="182" y="142"/>
                          </a:lnTo>
                          <a:lnTo>
                            <a:pt x="160" y="142"/>
                          </a:lnTo>
                          <a:lnTo>
                            <a:pt x="138" y="143"/>
                          </a:lnTo>
                          <a:lnTo>
                            <a:pt x="116" y="143"/>
                          </a:lnTo>
                          <a:lnTo>
                            <a:pt x="94" y="144"/>
                          </a:lnTo>
                          <a:lnTo>
                            <a:pt x="72" y="144"/>
                          </a:lnTo>
                          <a:lnTo>
                            <a:pt x="50" y="145"/>
                          </a:lnTo>
                          <a:lnTo>
                            <a:pt x="28" y="146"/>
                          </a:lnTo>
                          <a:lnTo>
                            <a:pt x="0" y="5"/>
                          </a:lnTo>
                          <a:lnTo>
                            <a:pt x="23" y="5"/>
                          </a:lnTo>
                          <a:lnTo>
                            <a:pt x="46" y="4"/>
                          </a:lnTo>
                          <a:lnTo>
                            <a:pt x="69" y="3"/>
                          </a:lnTo>
                          <a:lnTo>
                            <a:pt x="92" y="2"/>
                          </a:lnTo>
                          <a:lnTo>
                            <a:pt x="115" y="2"/>
                          </a:lnTo>
                          <a:lnTo>
                            <a:pt x="138" y="1"/>
                          </a:lnTo>
                          <a:lnTo>
                            <a:pt x="161" y="1"/>
                          </a:lnTo>
                          <a:lnTo>
                            <a:pt x="185" y="0"/>
                          </a:lnTo>
                          <a:lnTo>
                            <a:pt x="204" y="142"/>
                          </a:lnTo>
                          <a:close/>
                        </a:path>
                      </a:pathLst>
                    </a:cu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3577680" y="55076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151">
                          <a:moveTo>
                            <a:pt x="214" y="141"/>
                          </a:moveTo>
                          <a:lnTo>
                            <a:pt x="192" y="141"/>
                          </a:lnTo>
                          <a:lnTo>
                            <a:pt x="170" y="142"/>
                          </a:lnTo>
                          <a:lnTo>
                            <a:pt x="148" y="143"/>
                          </a:lnTo>
                          <a:lnTo>
                            <a:pt x="126" y="145"/>
                          </a:lnTo>
                          <a:lnTo>
                            <a:pt x="104" y="146"/>
                          </a:lnTo>
                          <a:lnTo>
                            <a:pt x="82" y="147"/>
                          </a:lnTo>
                          <a:lnTo>
                            <a:pt x="60" y="150"/>
                          </a:lnTo>
                          <a:lnTo>
                            <a:pt x="39" y="151"/>
                          </a:lnTo>
                          <a:lnTo>
                            <a:pt x="0" y="13"/>
                          </a:lnTo>
                          <a:lnTo>
                            <a:pt x="23" y="11"/>
                          </a:lnTo>
                          <a:lnTo>
                            <a:pt x="46" y="9"/>
                          </a:lnTo>
                          <a:lnTo>
                            <a:pt x="69" y="8"/>
                          </a:lnTo>
                          <a:lnTo>
                            <a:pt x="93" y="6"/>
                          </a:lnTo>
                          <a:lnTo>
                            <a:pt x="116" y="5"/>
                          </a:lnTo>
                          <a:lnTo>
                            <a:pt x="139" y="3"/>
                          </a:lnTo>
                          <a:lnTo>
                            <a:pt x="162" y="2"/>
                          </a:lnTo>
                          <a:lnTo>
                            <a:pt x="186" y="0"/>
                          </a:lnTo>
                          <a:lnTo>
                            <a:pt x="214" y="141"/>
                          </a:lnTo>
                          <a:close/>
                        </a:path>
                      </a:pathLst>
                    </a:custGeom>
                    <a:solidFill>
                      <a:srgbClr val="e7e7e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3574800" y="55076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153">
                          <a:moveTo>
                            <a:pt x="224" y="138"/>
                          </a:moveTo>
                          <a:lnTo>
                            <a:pt x="202" y="140"/>
                          </a:lnTo>
                          <a:lnTo>
                            <a:pt x="180" y="141"/>
                          </a:lnTo>
                          <a:lnTo>
                            <a:pt x="158" y="143"/>
                          </a:lnTo>
                          <a:lnTo>
                            <a:pt x="136" y="145"/>
                          </a:lnTo>
                          <a:lnTo>
                            <a:pt x="115" y="147"/>
                          </a:lnTo>
                          <a:lnTo>
                            <a:pt x="93" y="149"/>
                          </a:lnTo>
                          <a:lnTo>
                            <a:pt x="71" y="151"/>
                          </a:lnTo>
                          <a:lnTo>
                            <a:pt x="50" y="153"/>
                          </a:lnTo>
                          <a:lnTo>
                            <a:pt x="0" y="18"/>
                          </a:lnTo>
                          <a:lnTo>
                            <a:pt x="24" y="15"/>
                          </a:lnTo>
                          <a:lnTo>
                            <a:pt x="47" y="12"/>
                          </a:lnTo>
                          <a:lnTo>
                            <a:pt x="70" y="10"/>
                          </a:lnTo>
                          <a:lnTo>
                            <a:pt x="93" y="8"/>
                          </a:lnTo>
                          <a:lnTo>
                            <a:pt x="116" y="6"/>
                          </a:lnTo>
                          <a:lnTo>
                            <a:pt x="139" y="4"/>
                          </a:lnTo>
                          <a:lnTo>
                            <a:pt x="162" y="2"/>
                          </a:lnTo>
                          <a:lnTo>
                            <a:pt x="185" y="0"/>
                          </a:lnTo>
                          <a:lnTo>
                            <a:pt x="224" y="138"/>
                          </a:lnTo>
                          <a:close/>
                        </a:path>
                      </a:pathLst>
                    </a:custGeom>
                    <a:solidFill>
                      <a:srgbClr val="e8e8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3570840" y="5508360"/>
                      <a:ext cx="396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155">
                          <a:moveTo>
                            <a:pt x="234" y="135"/>
                          </a:moveTo>
                          <a:lnTo>
                            <a:pt x="212" y="137"/>
                          </a:lnTo>
                          <a:lnTo>
                            <a:pt x="189" y="139"/>
                          </a:lnTo>
                          <a:lnTo>
                            <a:pt x="167" y="142"/>
                          </a:lnTo>
                          <a:lnTo>
                            <a:pt x="145" y="145"/>
                          </a:lnTo>
                          <a:lnTo>
                            <a:pt x="123" y="147"/>
                          </a:lnTo>
                          <a:lnTo>
                            <a:pt x="102" y="150"/>
                          </a:lnTo>
                          <a:lnTo>
                            <a:pt x="80" y="152"/>
                          </a:lnTo>
                          <a:lnTo>
                            <a:pt x="59" y="155"/>
                          </a:lnTo>
                          <a:lnTo>
                            <a:pt x="0" y="23"/>
                          </a:lnTo>
                          <a:lnTo>
                            <a:pt x="23" y="20"/>
                          </a:lnTo>
                          <a:lnTo>
                            <a:pt x="46" y="17"/>
                          </a:lnTo>
                          <a:lnTo>
                            <a:pt x="69" y="14"/>
                          </a:lnTo>
                          <a:lnTo>
                            <a:pt x="92" y="11"/>
                          </a:lnTo>
                          <a:lnTo>
                            <a:pt x="115" y="8"/>
                          </a:lnTo>
                          <a:lnTo>
                            <a:pt x="138" y="5"/>
                          </a:lnTo>
                          <a:lnTo>
                            <a:pt x="161" y="2"/>
                          </a:lnTo>
                          <a:lnTo>
                            <a:pt x="184" y="0"/>
                          </a:lnTo>
                          <a:lnTo>
                            <a:pt x="234" y="135"/>
                          </a:lnTo>
                          <a:close/>
                        </a:path>
                      </a:pathLst>
                    </a:custGeom>
                    <a:solidFill>
                      <a:srgbClr val="e9e9e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3566880" y="550836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4" h="159">
                          <a:moveTo>
                            <a:pt x="244" y="132"/>
                          </a:moveTo>
                          <a:lnTo>
                            <a:pt x="222" y="135"/>
                          </a:lnTo>
                          <a:lnTo>
                            <a:pt x="200" y="138"/>
                          </a:lnTo>
                          <a:lnTo>
                            <a:pt x="179" y="141"/>
                          </a:lnTo>
                          <a:lnTo>
                            <a:pt x="157" y="145"/>
                          </a:lnTo>
                          <a:lnTo>
                            <a:pt x="136" y="148"/>
                          </a:lnTo>
                          <a:lnTo>
                            <a:pt x="114" y="151"/>
                          </a:lnTo>
                          <a:lnTo>
                            <a:pt x="93" y="155"/>
                          </a:lnTo>
                          <a:lnTo>
                            <a:pt x="71" y="159"/>
                          </a:lnTo>
                          <a:lnTo>
                            <a:pt x="0" y="30"/>
                          </a:lnTo>
                          <a:lnTo>
                            <a:pt x="23" y="26"/>
                          </a:lnTo>
                          <a:lnTo>
                            <a:pt x="46" y="22"/>
                          </a:lnTo>
                          <a:lnTo>
                            <a:pt x="70" y="18"/>
                          </a:lnTo>
                          <a:lnTo>
                            <a:pt x="93" y="15"/>
                          </a:lnTo>
                          <a:lnTo>
                            <a:pt x="116" y="11"/>
                          </a:lnTo>
                          <a:lnTo>
                            <a:pt x="139" y="7"/>
                          </a:lnTo>
                          <a:lnTo>
                            <a:pt x="162" y="4"/>
                          </a:lnTo>
                          <a:lnTo>
                            <a:pt x="185" y="0"/>
                          </a:lnTo>
                          <a:lnTo>
                            <a:pt x="244" y="132"/>
                          </a:lnTo>
                          <a:close/>
                        </a:path>
                      </a:pathLst>
                    </a:custGeom>
                    <a:solidFill>
                      <a:srgbClr val="ebebe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3563640" y="5509440"/>
                      <a:ext cx="5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160">
                          <a:moveTo>
                            <a:pt x="254" y="129"/>
                          </a:moveTo>
                          <a:lnTo>
                            <a:pt x="232" y="132"/>
                          </a:lnTo>
                          <a:lnTo>
                            <a:pt x="210" y="136"/>
                          </a:lnTo>
                          <a:lnTo>
                            <a:pt x="189" y="139"/>
                          </a:lnTo>
                          <a:lnTo>
                            <a:pt x="167" y="143"/>
                          </a:lnTo>
                          <a:lnTo>
                            <a:pt x="146" y="147"/>
                          </a:lnTo>
                          <a:lnTo>
                            <a:pt x="124" y="151"/>
                          </a:lnTo>
                          <a:lnTo>
                            <a:pt x="103" y="155"/>
                          </a:lnTo>
                          <a:lnTo>
                            <a:pt x="81" y="160"/>
                          </a:lnTo>
                          <a:lnTo>
                            <a:pt x="0" y="35"/>
                          </a:lnTo>
                          <a:lnTo>
                            <a:pt x="23" y="31"/>
                          </a:lnTo>
                          <a:lnTo>
                            <a:pt x="46" y="26"/>
                          </a:lnTo>
                          <a:lnTo>
                            <a:pt x="69" y="22"/>
                          </a:lnTo>
                          <a:lnTo>
                            <a:pt x="92" y="17"/>
                          </a:lnTo>
                          <a:lnTo>
                            <a:pt x="115" y="13"/>
                          </a:lnTo>
                          <a:lnTo>
                            <a:pt x="138" y="8"/>
                          </a:lnTo>
                          <a:lnTo>
                            <a:pt x="161" y="4"/>
                          </a:lnTo>
                          <a:lnTo>
                            <a:pt x="183" y="0"/>
                          </a:lnTo>
                          <a:lnTo>
                            <a:pt x="254" y="129"/>
                          </a:lnTo>
                          <a:close/>
                        </a:path>
                      </a:pathLst>
                    </a:custGeom>
                    <a:solidFill>
                      <a:srgbClr val="ecec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3559680" y="5509440"/>
                      <a:ext cx="57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3" h="162">
                          <a:moveTo>
                            <a:pt x="263" y="125"/>
                          </a:moveTo>
                          <a:lnTo>
                            <a:pt x="242" y="129"/>
                          </a:lnTo>
                          <a:lnTo>
                            <a:pt x="221" y="134"/>
                          </a:lnTo>
                          <a:lnTo>
                            <a:pt x="199" y="138"/>
                          </a:lnTo>
                          <a:lnTo>
                            <a:pt x="178" y="143"/>
                          </a:lnTo>
                          <a:lnTo>
                            <a:pt x="157" y="148"/>
                          </a:lnTo>
                          <a:lnTo>
                            <a:pt x="135" y="152"/>
                          </a:lnTo>
                          <a:lnTo>
                            <a:pt x="114" y="157"/>
                          </a:lnTo>
                          <a:lnTo>
                            <a:pt x="92" y="162"/>
                          </a:lnTo>
                          <a:lnTo>
                            <a:pt x="0" y="43"/>
                          </a:lnTo>
                          <a:lnTo>
                            <a:pt x="22" y="38"/>
                          </a:lnTo>
                          <a:lnTo>
                            <a:pt x="45" y="32"/>
                          </a:lnTo>
                          <a:lnTo>
                            <a:pt x="68" y="26"/>
                          </a:lnTo>
                          <a:lnTo>
                            <a:pt x="90" y="21"/>
                          </a:lnTo>
                          <a:lnTo>
                            <a:pt x="114" y="15"/>
                          </a:lnTo>
                          <a:lnTo>
                            <a:pt x="137" y="10"/>
                          </a:lnTo>
                          <a:lnTo>
                            <a:pt x="160" y="5"/>
                          </a:lnTo>
                          <a:lnTo>
                            <a:pt x="182" y="0"/>
                          </a:lnTo>
                          <a:lnTo>
                            <a:pt x="263" y="125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3556440" y="551016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" h="161">
                          <a:moveTo>
                            <a:pt x="274" y="119"/>
                          </a:moveTo>
                          <a:lnTo>
                            <a:pt x="253" y="124"/>
                          </a:lnTo>
                          <a:lnTo>
                            <a:pt x="231" y="129"/>
                          </a:lnTo>
                          <a:lnTo>
                            <a:pt x="210" y="134"/>
                          </a:lnTo>
                          <a:lnTo>
                            <a:pt x="189" y="139"/>
                          </a:lnTo>
                          <a:lnTo>
                            <a:pt x="168" y="144"/>
                          </a:lnTo>
                          <a:lnTo>
                            <a:pt x="147" y="150"/>
                          </a:lnTo>
                          <a:lnTo>
                            <a:pt x="125" y="155"/>
                          </a:lnTo>
                          <a:lnTo>
                            <a:pt x="104" y="161"/>
                          </a:lnTo>
                          <a:lnTo>
                            <a:pt x="0" y="47"/>
                          </a:lnTo>
                          <a:lnTo>
                            <a:pt x="22" y="41"/>
                          </a:lnTo>
                          <a:lnTo>
                            <a:pt x="45" y="35"/>
                          </a:lnTo>
                          <a:lnTo>
                            <a:pt x="68" y="29"/>
                          </a:lnTo>
                          <a:lnTo>
                            <a:pt x="91" y="23"/>
                          </a:lnTo>
                          <a:lnTo>
                            <a:pt x="113" y="17"/>
                          </a:lnTo>
                          <a:lnTo>
                            <a:pt x="136" y="11"/>
                          </a:lnTo>
                          <a:lnTo>
                            <a:pt x="159" y="6"/>
                          </a:lnTo>
                          <a:lnTo>
                            <a:pt x="182" y="0"/>
                          </a:lnTo>
                          <a:lnTo>
                            <a:pt x="274" y="119"/>
                          </a:lnTo>
                          <a:close/>
                        </a:path>
                      </a:pathLst>
                    </a:custGeom>
                    <a:solidFill>
                      <a:srgbClr val="eeeee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3553200" y="551088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63">
                          <a:moveTo>
                            <a:pt x="286" y="114"/>
                          </a:moveTo>
                          <a:lnTo>
                            <a:pt x="265" y="119"/>
                          </a:lnTo>
                          <a:lnTo>
                            <a:pt x="244" y="125"/>
                          </a:lnTo>
                          <a:lnTo>
                            <a:pt x="223" y="131"/>
                          </a:lnTo>
                          <a:lnTo>
                            <a:pt x="202" y="137"/>
                          </a:lnTo>
                          <a:lnTo>
                            <a:pt x="181" y="144"/>
                          </a:lnTo>
                          <a:lnTo>
                            <a:pt x="160" y="150"/>
                          </a:lnTo>
                          <a:lnTo>
                            <a:pt x="140" y="156"/>
                          </a:lnTo>
                          <a:lnTo>
                            <a:pt x="118" y="163"/>
                          </a:lnTo>
                          <a:lnTo>
                            <a:pt x="0" y="53"/>
                          </a:lnTo>
                          <a:lnTo>
                            <a:pt x="23" y="46"/>
                          </a:lnTo>
                          <a:lnTo>
                            <a:pt x="46" y="40"/>
                          </a:lnTo>
                          <a:lnTo>
                            <a:pt x="68" y="33"/>
                          </a:lnTo>
                          <a:lnTo>
                            <a:pt x="90" y="26"/>
                          </a:lnTo>
                          <a:lnTo>
                            <a:pt x="113" y="20"/>
                          </a:lnTo>
                          <a:lnTo>
                            <a:pt x="135" y="13"/>
                          </a:lnTo>
                          <a:lnTo>
                            <a:pt x="159" y="7"/>
                          </a:lnTo>
                          <a:lnTo>
                            <a:pt x="182" y="0"/>
                          </a:lnTo>
                          <a:lnTo>
                            <a:pt x="286" y="114"/>
                          </a:lnTo>
                          <a:close/>
                        </a:path>
                      </a:pathLst>
                    </a:custGeom>
                    <a:solidFill>
                      <a:srgbClr val="f0f0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3549600" y="5511960"/>
                      <a:ext cx="57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62">
                          <a:moveTo>
                            <a:pt x="297" y="110"/>
                          </a:moveTo>
                          <a:lnTo>
                            <a:pt x="276" y="116"/>
                          </a:lnTo>
                          <a:lnTo>
                            <a:pt x="255" y="122"/>
                          </a:lnTo>
                          <a:lnTo>
                            <a:pt x="234" y="129"/>
                          </a:lnTo>
                          <a:lnTo>
                            <a:pt x="214" y="135"/>
                          </a:lnTo>
                          <a:lnTo>
                            <a:pt x="193" y="142"/>
                          </a:lnTo>
                          <a:lnTo>
                            <a:pt x="172" y="148"/>
                          </a:lnTo>
                          <a:lnTo>
                            <a:pt x="151" y="155"/>
                          </a:lnTo>
                          <a:lnTo>
                            <a:pt x="131" y="162"/>
                          </a:lnTo>
                          <a:lnTo>
                            <a:pt x="0" y="59"/>
                          </a:lnTo>
                          <a:lnTo>
                            <a:pt x="22" y="51"/>
                          </a:lnTo>
                          <a:lnTo>
                            <a:pt x="45" y="44"/>
                          </a:lnTo>
                          <a:lnTo>
                            <a:pt x="67" y="36"/>
                          </a:lnTo>
                          <a:lnTo>
                            <a:pt x="89" y="29"/>
                          </a:lnTo>
                          <a:lnTo>
                            <a:pt x="112" y="22"/>
                          </a:lnTo>
                          <a:lnTo>
                            <a:pt x="134" y="15"/>
                          </a:lnTo>
                          <a:lnTo>
                            <a:pt x="157" y="7"/>
                          </a:lnTo>
                          <a:lnTo>
                            <a:pt x="179" y="0"/>
                          </a:lnTo>
                          <a:lnTo>
                            <a:pt x="297" y="110"/>
                          </a:lnTo>
                          <a:close/>
                        </a:path>
                      </a:pathLst>
                    </a:custGeom>
                    <a:solidFill>
                      <a:srgbClr val="f1f1f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3546360" y="551196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0" h="162">
                          <a:moveTo>
                            <a:pt x="310" y="103"/>
                          </a:moveTo>
                          <a:lnTo>
                            <a:pt x="289" y="110"/>
                          </a:lnTo>
                          <a:lnTo>
                            <a:pt x="268" y="117"/>
                          </a:lnTo>
                          <a:lnTo>
                            <a:pt x="248" y="125"/>
                          </a:lnTo>
                          <a:lnTo>
                            <a:pt x="227" y="132"/>
                          </a:lnTo>
                          <a:lnTo>
                            <a:pt x="207" y="139"/>
                          </a:lnTo>
                          <a:lnTo>
                            <a:pt x="186" y="147"/>
                          </a:lnTo>
                          <a:lnTo>
                            <a:pt x="165" y="154"/>
                          </a:lnTo>
                          <a:lnTo>
                            <a:pt x="144" y="162"/>
                          </a:lnTo>
                          <a:lnTo>
                            <a:pt x="0" y="66"/>
                          </a:lnTo>
                          <a:lnTo>
                            <a:pt x="22" y="58"/>
                          </a:lnTo>
                          <a:lnTo>
                            <a:pt x="44" y="49"/>
                          </a:lnTo>
                          <a:lnTo>
                            <a:pt x="66" y="41"/>
                          </a:lnTo>
                          <a:lnTo>
                            <a:pt x="88" y="33"/>
                          </a:lnTo>
                          <a:lnTo>
                            <a:pt x="110" y="24"/>
                          </a:lnTo>
                          <a:lnTo>
                            <a:pt x="133" y="16"/>
                          </a:lnTo>
                          <a:lnTo>
                            <a:pt x="155" y="8"/>
                          </a:lnTo>
                          <a:lnTo>
                            <a:pt x="179" y="0"/>
                          </a:lnTo>
                          <a:lnTo>
                            <a:pt x="310" y="103"/>
                          </a:lnTo>
                          <a:close/>
                        </a:path>
                      </a:pathLst>
                    </a:custGeom>
                    <a:solidFill>
                      <a:srgbClr val="f2f2f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3542400" y="5513760"/>
                      <a:ext cx="68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3" h="159">
                          <a:moveTo>
                            <a:pt x="323" y="96"/>
                          </a:moveTo>
                          <a:lnTo>
                            <a:pt x="303" y="103"/>
                          </a:lnTo>
                          <a:lnTo>
                            <a:pt x="282" y="111"/>
                          </a:lnTo>
                          <a:lnTo>
                            <a:pt x="262" y="119"/>
                          </a:lnTo>
                          <a:lnTo>
                            <a:pt x="241" y="127"/>
                          </a:lnTo>
                          <a:lnTo>
                            <a:pt x="221" y="135"/>
                          </a:lnTo>
                          <a:lnTo>
                            <a:pt x="201" y="143"/>
                          </a:lnTo>
                          <a:lnTo>
                            <a:pt x="180" y="151"/>
                          </a:lnTo>
                          <a:lnTo>
                            <a:pt x="160" y="159"/>
                          </a:lnTo>
                          <a:lnTo>
                            <a:pt x="0" y="70"/>
                          </a:lnTo>
                          <a:lnTo>
                            <a:pt x="23" y="61"/>
                          </a:lnTo>
                          <a:lnTo>
                            <a:pt x="46" y="52"/>
                          </a:lnTo>
                          <a:lnTo>
                            <a:pt x="68" y="43"/>
                          </a:lnTo>
                          <a:lnTo>
                            <a:pt x="90" y="34"/>
                          </a:lnTo>
                          <a:lnTo>
                            <a:pt x="112" y="25"/>
                          </a:lnTo>
                          <a:lnTo>
                            <a:pt x="134" y="17"/>
                          </a:lnTo>
                          <a:lnTo>
                            <a:pt x="156" y="8"/>
                          </a:lnTo>
                          <a:lnTo>
                            <a:pt x="179" y="0"/>
                          </a:lnTo>
                          <a:lnTo>
                            <a:pt x="323" y="96"/>
                          </a:lnTo>
                          <a:close/>
                        </a:path>
                      </a:pathLst>
                    </a:cu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3539160" y="5514480"/>
                      <a:ext cx="57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5" h="159">
                          <a:moveTo>
                            <a:pt x="335" y="89"/>
                          </a:moveTo>
                          <a:lnTo>
                            <a:pt x="315" y="98"/>
                          </a:lnTo>
                          <a:lnTo>
                            <a:pt x="295" y="106"/>
                          </a:lnTo>
                          <a:lnTo>
                            <a:pt x="275" y="115"/>
                          </a:lnTo>
                          <a:lnTo>
                            <a:pt x="255" y="124"/>
                          </a:lnTo>
                          <a:lnTo>
                            <a:pt x="235" y="132"/>
                          </a:lnTo>
                          <a:lnTo>
                            <a:pt x="214" y="141"/>
                          </a:lnTo>
                          <a:lnTo>
                            <a:pt x="193" y="150"/>
                          </a:lnTo>
                          <a:lnTo>
                            <a:pt x="173" y="159"/>
                          </a:lnTo>
                          <a:lnTo>
                            <a:pt x="0" y="76"/>
                          </a:lnTo>
                          <a:lnTo>
                            <a:pt x="22" y="67"/>
                          </a:lnTo>
                          <a:lnTo>
                            <a:pt x="44" y="57"/>
                          </a:lnTo>
                          <a:lnTo>
                            <a:pt x="65" y="47"/>
                          </a:lnTo>
                          <a:lnTo>
                            <a:pt x="87" y="38"/>
                          </a:lnTo>
                          <a:lnTo>
                            <a:pt x="109" y="28"/>
                          </a:lnTo>
                          <a:lnTo>
                            <a:pt x="131" y="19"/>
                          </a:lnTo>
                          <a:lnTo>
                            <a:pt x="153" y="9"/>
                          </a:lnTo>
                          <a:lnTo>
                            <a:pt x="175" y="0"/>
                          </a:lnTo>
                          <a:lnTo>
                            <a:pt x="335" y="89"/>
                          </a:lnTo>
                          <a:close/>
                        </a:path>
                      </a:pathLst>
                    </a:custGeom>
                    <a:solidFill>
                      <a:srgbClr val="f5f5f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3535200" y="5516280"/>
                      <a:ext cx="68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8" h="156">
                          <a:moveTo>
                            <a:pt x="348" y="83"/>
                          </a:moveTo>
                          <a:lnTo>
                            <a:pt x="328" y="92"/>
                          </a:lnTo>
                          <a:lnTo>
                            <a:pt x="309" y="101"/>
                          </a:lnTo>
                          <a:lnTo>
                            <a:pt x="289" y="110"/>
                          </a:lnTo>
                          <a:lnTo>
                            <a:pt x="269" y="119"/>
                          </a:lnTo>
                          <a:lnTo>
                            <a:pt x="249" y="128"/>
                          </a:lnTo>
                          <a:lnTo>
                            <a:pt x="230" y="137"/>
                          </a:lnTo>
                          <a:lnTo>
                            <a:pt x="210" y="147"/>
                          </a:lnTo>
                          <a:lnTo>
                            <a:pt x="190" y="156"/>
                          </a:lnTo>
                          <a:lnTo>
                            <a:pt x="0" y="83"/>
                          </a:lnTo>
                          <a:lnTo>
                            <a:pt x="22" y="73"/>
                          </a:lnTo>
                          <a:lnTo>
                            <a:pt x="45" y="62"/>
                          </a:lnTo>
                          <a:lnTo>
                            <a:pt x="66" y="52"/>
                          </a:lnTo>
                          <a:lnTo>
                            <a:pt x="88" y="42"/>
                          </a:lnTo>
                          <a:lnTo>
                            <a:pt x="110" y="32"/>
                          </a:lnTo>
                          <a:lnTo>
                            <a:pt x="131" y="21"/>
                          </a:lnTo>
                          <a:lnTo>
                            <a:pt x="153" y="10"/>
                          </a:lnTo>
                          <a:lnTo>
                            <a:pt x="175" y="0"/>
                          </a:lnTo>
                          <a:lnTo>
                            <a:pt x="348" y="83"/>
                          </a:lnTo>
                          <a:close/>
                        </a:path>
                      </a:pathLst>
                    </a:custGeom>
                    <a:solidFill>
                      <a:srgbClr val="f6f6f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3531960" y="5517360"/>
                      <a:ext cx="68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153">
                          <a:moveTo>
                            <a:pt x="362" y="73"/>
                          </a:moveTo>
                          <a:lnTo>
                            <a:pt x="342" y="83"/>
                          </a:lnTo>
                          <a:lnTo>
                            <a:pt x="323" y="92"/>
                          </a:lnTo>
                          <a:lnTo>
                            <a:pt x="303" y="102"/>
                          </a:lnTo>
                          <a:lnTo>
                            <a:pt x="283" y="112"/>
                          </a:lnTo>
                          <a:lnTo>
                            <a:pt x="264" y="122"/>
                          </a:lnTo>
                          <a:lnTo>
                            <a:pt x="244" y="132"/>
                          </a:lnTo>
                          <a:lnTo>
                            <a:pt x="225" y="143"/>
                          </a:lnTo>
                          <a:lnTo>
                            <a:pt x="204" y="153"/>
                          </a:lnTo>
                          <a:lnTo>
                            <a:pt x="0" y="88"/>
                          </a:lnTo>
                          <a:lnTo>
                            <a:pt x="21" y="77"/>
                          </a:lnTo>
                          <a:lnTo>
                            <a:pt x="43" y="65"/>
                          </a:lnTo>
                          <a:lnTo>
                            <a:pt x="64" y="54"/>
                          </a:lnTo>
                          <a:lnTo>
                            <a:pt x="86" y="43"/>
                          </a:lnTo>
                          <a:lnTo>
                            <a:pt x="107" y="32"/>
                          </a:lnTo>
                          <a:lnTo>
                            <a:pt x="129" y="21"/>
                          </a:lnTo>
                          <a:lnTo>
                            <a:pt x="151" y="11"/>
                          </a:lnTo>
                          <a:lnTo>
                            <a:pt x="172" y="0"/>
                          </a:lnTo>
                          <a:lnTo>
                            <a:pt x="362" y="73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3529080" y="5518080"/>
                      <a:ext cx="68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5" h="149">
                          <a:moveTo>
                            <a:pt x="375" y="65"/>
                          </a:moveTo>
                          <a:lnTo>
                            <a:pt x="356" y="76"/>
                          </a:lnTo>
                          <a:lnTo>
                            <a:pt x="337" y="86"/>
                          </a:lnTo>
                          <a:lnTo>
                            <a:pt x="317" y="96"/>
                          </a:lnTo>
                          <a:lnTo>
                            <a:pt x="298" y="107"/>
                          </a:lnTo>
                          <a:lnTo>
                            <a:pt x="279" y="117"/>
                          </a:lnTo>
                          <a:lnTo>
                            <a:pt x="260" y="128"/>
                          </a:lnTo>
                          <a:lnTo>
                            <a:pt x="241" y="138"/>
                          </a:lnTo>
                          <a:lnTo>
                            <a:pt x="222" y="149"/>
                          </a:lnTo>
                          <a:lnTo>
                            <a:pt x="0" y="94"/>
                          </a:lnTo>
                          <a:lnTo>
                            <a:pt x="21" y="82"/>
                          </a:lnTo>
                          <a:lnTo>
                            <a:pt x="42" y="70"/>
                          </a:lnTo>
                          <a:lnTo>
                            <a:pt x="64" y="58"/>
                          </a:lnTo>
                          <a:lnTo>
                            <a:pt x="85" y="46"/>
                          </a:lnTo>
                          <a:lnTo>
                            <a:pt x="107" y="34"/>
                          </a:lnTo>
                          <a:lnTo>
                            <a:pt x="128" y="23"/>
                          </a:lnTo>
                          <a:lnTo>
                            <a:pt x="149" y="11"/>
                          </a:lnTo>
                          <a:lnTo>
                            <a:pt x="171" y="0"/>
                          </a:lnTo>
                          <a:lnTo>
                            <a:pt x="375" y="65"/>
                          </a:lnTo>
                          <a:close/>
                        </a:path>
                      </a:pathLst>
                    </a:cu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3529080" y="5519880"/>
                      <a:ext cx="4572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59" h="4051">
                          <a:moveTo>
                            <a:pt x="2356" y="3721"/>
                          </a:moveTo>
                          <a:lnTo>
                            <a:pt x="222" y="55"/>
                          </a:lnTo>
                          <a:lnTo>
                            <a:pt x="0" y="0"/>
                          </a:lnTo>
                          <a:lnTo>
                            <a:pt x="2359" y="4051"/>
                          </a:lnTo>
                          <a:lnTo>
                            <a:pt x="2356" y="3721"/>
                          </a:lnTo>
                          <a:close/>
                        </a:path>
                      </a:pathLst>
                    </a:custGeom>
                    <a:solidFill>
                      <a:srgbClr val="e2e2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3533040" y="5509440"/>
                      <a:ext cx="1598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83" h="5362">
                          <a:moveTo>
                            <a:pt x="0" y="716"/>
                          </a:moveTo>
                          <a:lnTo>
                            <a:pt x="154" y="632"/>
                          </a:lnTo>
                          <a:lnTo>
                            <a:pt x="311" y="552"/>
                          </a:lnTo>
                          <a:lnTo>
                            <a:pt x="469" y="479"/>
                          </a:lnTo>
                          <a:lnTo>
                            <a:pt x="631" y="409"/>
                          </a:lnTo>
                          <a:lnTo>
                            <a:pt x="794" y="346"/>
                          </a:lnTo>
                          <a:lnTo>
                            <a:pt x="959" y="287"/>
                          </a:lnTo>
                          <a:lnTo>
                            <a:pt x="1126" y="235"/>
                          </a:lnTo>
                          <a:lnTo>
                            <a:pt x="1294" y="186"/>
                          </a:lnTo>
                          <a:lnTo>
                            <a:pt x="1464" y="144"/>
                          </a:lnTo>
                          <a:lnTo>
                            <a:pt x="1635" y="107"/>
                          </a:lnTo>
                          <a:lnTo>
                            <a:pt x="1808" y="76"/>
                          </a:lnTo>
                          <a:lnTo>
                            <a:pt x="1980" y="50"/>
                          </a:lnTo>
                          <a:lnTo>
                            <a:pt x="2155" y="29"/>
                          </a:lnTo>
                          <a:lnTo>
                            <a:pt x="2329" y="14"/>
                          </a:lnTo>
                          <a:lnTo>
                            <a:pt x="2505" y="4"/>
                          </a:lnTo>
                          <a:lnTo>
                            <a:pt x="2681" y="0"/>
                          </a:lnTo>
                          <a:lnTo>
                            <a:pt x="2857" y="2"/>
                          </a:lnTo>
                          <a:lnTo>
                            <a:pt x="3033" y="9"/>
                          </a:lnTo>
                          <a:lnTo>
                            <a:pt x="3210" y="24"/>
                          </a:lnTo>
                          <a:lnTo>
                            <a:pt x="3386" y="43"/>
                          </a:lnTo>
                          <a:lnTo>
                            <a:pt x="3562" y="68"/>
                          </a:lnTo>
                          <a:lnTo>
                            <a:pt x="3738" y="98"/>
                          </a:lnTo>
                          <a:lnTo>
                            <a:pt x="3913" y="135"/>
                          </a:lnTo>
                          <a:lnTo>
                            <a:pt x="4087" y="177"/>
                          </a:lnTo>
                          <a:lnTo>
                            <a:pt x="4262" y="226"/>
                          </a:lnTo>
                          <a:lnTo>
                            <a:pt x="4435" y="281"/>
                          </a:lnTo>
                          <a:lnTo>
                            <a:pt x="4606" y="341"/>
                          </a:lnTo>
                          <a:lnTo>
                            <a:pt x="4777" y="408"/>
                          </a:lnTo>
                          <a:lnTo>
                            <a:pt x="4946" y="481"/>
                          </a:lnTo>
                          <a:lnTo>
                            <a:pt x="5114" y="560"/>
                          </a:lnTo>
                          <a:lnTo>
                            <a:pt x="5280" y="645"/>
                          </a:lnTo>
                          <a:lnTo>
                            <a:pt x="5445" y="736"/>
                          </a:lnTo>
                          <a:lnTo>
                            <a:pt x="5603" y="832"/>
                          </a:lnTo>
                          <a:lnTo>
                            <a:pt x="5757" y="931"/>
                          </a:lnTo>
                          <a:lnTo>
                            <a:pt x="5906" y="1036"/>
                          </a:lnTo>
                          <a:lnTo>
                            <a:pt x="6051" y="1143"/>
                          </a:lnTo>
                          <a:lnTo>
                            <a:pt x="6192" y="1256"/>
                          </a:lnTo>
                          <a:lnTo>
                            <a:pt x="6328" y="1371"/>
                          </a:lnTo>
                          <a:lnTo>
                            <a:pt x="6460" y="1492"/>
                          </a:lnTo>
                          <a:lnTo>
                            <a:pt x="6587" y="1614"/>
                          </a:lnTo>
                          <a:lnTo>
                            <a:pt x="6709" y="1742"/>
                          </a:lnTo>
                          <a:lnTo>
                            <a:pt x="6828" y="1873"/>
                          </a:lnTo>
                          <a:lnTo>
                            <a:pt x="6941" y="2006"/>
                          </a:lnTo>
                          <a:lnTo>
                            <a:pt x="7050" y="2143"/>
                          </a:lnTo>
                          <a:lnTo>
                            <a:pt x="7154" y="2284"/>
                          </a:lnTo>
                          <a:lnTo>
                            <a:pt x="7252" y="2427"/>
                          </a:lnTo>
                          <a:lnTo>
                            <a:pt x="7346" y="2572"/>
                          </a:lnTo>
                          <a:lnTo>
                            <a:pt x="7437" y="2720"/>
                          </a:lnTo>
                          <a:lnTo>
                            <a:pt x="7521" y="2871"/>
                          </a:lnTo>
                          <a:lnTo>
                            <a:pt x="7600" y="3023"/>
                          </a:lnTo>
                          <a:lnTo>
                            <a:pt x="7675" y="3179"/>
                          </a:lnTo>
                          <a:lnTo>
                            <a:pt x="7746" y="3337"/>
                          </a:lnTo>
                          <a:lnTo>
                            <a:pt x="7810" y="3496"/>
                          </a:lnTo>
                          <a:lnTo>
                            <a:pt x="7870" y="3658"/>
                          </a:lnTo>
                          <a:lnTo>
                            <a:pt x="7924" y="3820"/>
                          </a:lnTo>
                          <a:lnTo>
                            <a:pt x="7974" y="3985"/>
                          </a:lnTo>
                          <a:lnTo>
                            <a:pt x="8018" y="4151"/>
                          </a:lnTo>
                          <a:lnTo>
                            <a:pt x="8058" y="4318"/>
                          </a:lnTo>
                          <a:lnTo>
                            <a:pt x="8092" y="4487"/>
                          </a:lnTo>
                          <a:lnTo>
                            <a:pt x="8121" y="4657"/>
                          </a:lnTo>
                          <a:lnTo>
                            <a:pt x="8145" y="4827"/>
                          </a:lnTo>
                          <a:lnTo>
                            <a:pt x="8163" y="4998"/>
                          </a:lnTo>
                          <a:lnTo>
                            <a:pt x="8176" y="5170"/>
                          </a:lnTo>
                          <a:lnTo>
                            <a:pt x="8183" y="5343"/>
                          </a:lnTo>
                          <a:lnTo>
                            <a:pt x="3921" y="5362"/>
                          </a:lnTo>
                          <a:lnTo>
                            <a:pt x="4085" y="5077"/>
                          </a:lnTo>
                          <a:lnTo>
                            <a:pt x="2322" y="4057"/>
                          </a:lnTo>
                          <a:lnTo>
                            <a:pt x="2134" y="4382"/>
                          </a:lnTo>
                          <a:lnTo>
                            <a:pt x="0" y="716"/>
                          </a:lnTo>
                          <a:close/>
                        </a:path>
                      </a:pathLst>
                    </a:custGeom>
                    <a:solidFill>
                      <a:srgbClr val="cc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3586320" y="556452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155">
                          <a:moveTo>
                            <a:pt x="1" y="145"/>
                          </a:moveTo>
                          <a:lnTo>
                            <a:pt x="24" y="145"/>
                          </a:lnTo>
                          <a:lnTo>
                            <a:pt x="47" y="146"/>
                          </a:lnTo>
                          <a:lnTo>
                            <a:pt x="70" y="146"/>
                          </a:lnTo>
                          <a:lnTo>
                            <a:pt x="94" y="147"/>
                          </a:lnTo>
                          <a:lnTo>
                            <a:pt x="116" y="149"/>
                          </a:lnTo>
                          <a:lnTo>
                            <a:pt x="139" y="151"/>
                          </a:lnTo>
                          <a:lnTo>
                            <a:pt x="162" y="152"/>
                          </a:lnTo>
                          <a:lnTo>
                            <a:pt x="184" y="155"/>
                          </a:lnTo>
                          <a:lnTo>
                            <a:pt x="197" y="11"/>
                          </a:lnTo>
                          <a:lnTo>
                            <a:pt x="172" y="8"/>
                          </a:lnTo>
                          <a:lnTo>
                            <a:pt x="148" y="6"/>
                          </a:lnTo>
                          <a:lnTo>
                            <a:pt x="124" y="4"/>
                          </a:lnTo>
                          <a:lnTo>
                            <a:pt x="99" y="3"/>
                          </a:lnTo>
                          <a:lnTo>
                            <a:pt x="74" y="2"/>
                          </a:lnTo>
                          <a:lnTo>
                            <a:pt x="49" y="1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  <a:lnTo>
                            <a:pt x="1" y="145"/>
                          </a:lnTo>
                          <a:close/>
                        </a:path>
                      </a:pathLst>
                    </a:custGeom>
                    <a:solidFill>
                      <a:srgbClr val="e1e1e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3590280" y="556452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170">
                          <a:moveTo>
                            <a:pt x="0" y="144"/>
                          </a:moveTo>
                          <a:lnTo>
                            <a:pt x="23" y="146"/>
                          </a:lnTo>
                          <a:lnTo>
                            <a:pt x="45" y="149"/>
                          </a:lnTo>
                          <a:lnTo>
                            <a:pt x="68" y="152"/>
                          </a:lnTo>
                          <a:lnTo>
                            <a:pt x="90" y="155"/>
                          </a:lnTo>
                          <a:lnTo>
                            <a:pt x="112" y="158"/>
                          </a:lnTo>
                          <a:lnTo>
                            <a:pt x="135" y="162"/>
                          </a:lnTo>
                          <a:lnTo>
                            <a:pt x="157" y="166"/>
                          </a:lnTo>
                          <a:lnTo>
                            <a:pt x="179" y="170"/>
                          </a:lnTo>
                          <a:lnTo>
                            <a:pt x="205" y="30"/>
                          </a:lnTo>
                          <a:lnTo>
                            <a:pt x="181" y="25"/>
                          </a:lnTo>
                          <a:lnTo>
                            <a:pt x="157" y="21"/>
                          </a:lnTo>
                          <a:lnTo>
                            <a:pt x="133" y="16"/>
                          </a:lnTo>
                          <a:lnTo>
                            <a:pt x="109" y="12"/>
                          </a:lnTo>
                          <a:lnTo>
                            <a:pt x="85" y="9"/>
                          </a:lnTo>
                          <a:lnTo>
                            <a:pt x="61" y="5"/>
                          </a:lnTo>
                          <a:lnTo>
                            <a:pt x="37" y="2"/>
                          </a:lnTo>
                          <a:lnTo>
                            <a:pt x="13" y="0"/>
                          </a:lnTo>
                          <a:lnTo>
                            <a:pt x="0" y="144"/>
                          </a:lnTo>
                          <a:close/>
                        </a:path>
                      </a:pathLst>
                    </a:custGeom>
                    <a:solidFill>
                      <a:srgbClr val="dcdc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3593160" y="55652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" h="185">
                          <a:moveTo>
                            <a:pt x="0" y="140"/>
                          </a:moveTo>
                          <a:lnTo>
                            <a:pt x="22" y="145"/>
                          </a:lnTo>
                          <a:lnTo>
                            <a:pt x="44" y="150"/>
                          </a:lnTo>
                          <a:lnTo>
                            <a:pt x="66" y="155"/>
                          </a:lnTo>
                          <a:lnTo>
                            <a:pt x="87" y="160"/>
                          </a:lnTo>
                          <a:lnTo>
                            <a:pt x="109" y="166"/>
                          </a:lnTo>
                          <a:lnTo>
                            <a:pt x="130" y="172"/>
                          </a:lnTo>
                          <a:lnTo>
                            <a:pt x="151" y="178"/>
                          </a:lnTo>
                          <a:lnTo>
                            <a:pt x="172" y="185"/>
                          </a:lnTo>
                          <a:lnTo>
                            <a:pt x="211" y="49"/>
                          </a:lnTo>
                          <a:lnTo>
                            <a:pt x="188" y="42"/>
                          </a:lnTo>
                          <a:lnTo>
                            <a:pt x="165" y="35"/>
                          </a:lnTo>
                          <a:lnTo>
                            <a:pt x="142" y="28"/>
                          </a:lnTo>
                          <a:lnTo>
                            <a:pt x="119" y="22"/>
                          </a:lnTo>
                          <a:lnTo>
                            <a:pt x="96" y="16"/>
                          </a:lnTo>
                          <a:lnTo>
                            <a:pt x="73" y="10"/>
                          </a:lnTo>
                          <a:lnTo>
                            <a:pt x="50" y="5"/>
                          </a:lnTo>
                          <a:lnTo>
                            <a:pt x="26" y="0"/>
                          </a:lnTo>
                          <a:lnTo>
                            <a:pt x="0" y="140"/>
                          </a:lnTo>
                          <a:close/>
                        </a:path>
                      </a:pathLst>
                    </a:custGeom>
                    <a:solidFill>
                      <a:srgbClr val="d6d6d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3596400" y="556596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96">
                          <a:moveTo>
                            <a:pt x="0" y="136"/>
                          </a:moveTo>
                          <a:lnTo>
                            <a:pt x="21" y="142"/>
                          </a:lnTo>
                          <a:lnTo>
                            <a:pt x="42" y="149"/>
                          </a:lnTo>
                          <a:lnTo>
                            <a:pt x="63" y="157"/>
                          </a:lnTo>
                          <a:lnTo>
                            <a:pt x="84" y="164"/>
                          </a:lnTo>
                          <a:lnTo>
                            <a:pt x="104" y="172"/>
                          </a:lnTo>
                          <a:lnTo>
                            <a:pt x="125" y="179"/>
                          </a:lnTo>
                          <a:lnTo>
                            <a:pt x="145" y="188"/>
                          </a:lnTo>
                          <a:lnTo>
                            <a:pt x="165" y="196"/>
                          </a:lnTo>
                          <a:lnTo>
                            <a:pt x="219" y="68"/>
                          </a:lnTo>
                          <a:lnTo>
                            <a:pt x="196" y="59"/>
                          </a:lnTo>
                          <a:lnTo>
                            <a:pt x="174" y="50"/>
                          </a:lnTo>
                          <a:lnTo>
                            <a:pt x="152" y="41"/>
                          </a:lnTo>
                          <a:lnTo>
                            <a:pt x="130" y="32"/>
                          </a:lnTo>
                          <a:lnTo>
                            <a:pt x="107" y="24"/>
                          </a:lnTo>
                          <a:lnTo>
                            <a:pt x="85" y="15"/>
                          </a:lnTo>
                          <a:lnTo>
                            <a:pt x="62" y="7"/>
                          </a:lnTo>
                          <a:lnTo>
                            <a:pt x="39" y="0"/>
                          </a:lnTo>
                          <a:lnTo>
                            <a:pt x="0" y="136"/>
                          </a:lnTo>
                          <a:close/>
                        </a:path>
                      </a:pathLst>
                    </a:custGeom>
                    <a:solidFill>
                      <a:srgbClr val="d1d1d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3600360" y="556704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204">
                          <a:moveTo>
                            <a:pt x="0" y="128"/>
                          </a:moveTo>
                          <a:lnTo>
                            <a:pt x="20" y="137"/>
                          </a:lnTo>
                          <a:lnTo>
                            <a:pt x="41" y="146"/>
                          </a:lnTo>
                          <a:lnTo>
                            <a:pt x="61" y="156"/>
                          </a:lnTo>
                          <a:lnTo>
                            <a:pt x="80" y="165"/>
                          </a:lnTo>
                          <a:lnTo>
                            <a:pt x="100" y="175"/>
                          </a:lnTo>
                          <a:lnTo>
                            <a:pt x="119" y="184"/>
                          </a:lnTo>
                          <a:lnTo>
                            <a:pt x="138" y="194"/>
                          </a:lnTo>
                          <a:lnTo>
                            <a:pt x="157" y="204"/>
                          </a:lnTo>
                          <a:lnTo>
                            <a:pt x="224" y="84"/>
                          </a:lnTo>
                          <a:lnTo>
                            <a:pt x="203" y="72"/>
                          </a:lnTo>
                          <a:lnTo>
                            <a:pt x="182" y="61"/>
                          </a:lnTo>
                          <a:lnTo>
                            <a:pt x="161" y="51"/>
                          </a:lnTo>
                          <a:lnTo>
                            <a:pt x="140" y="40"/>
                          </a:lnTo>
                          <a:lnTo>
                            <a:pt x="119" y="30"/>
                          </a:lnTo>
                          <a:lnTo>
                            <a:pt x="97" y="20"/>
                          </a:lnTo>
                          <a:lnTo>
                            <a:pt x="75" y="10"/>
                          </a:lnTo>
                          <a:lnTo>
                            <a:pt x="54" y="0"/>
                          </a:lnTo>
                          <a:lnTo>
                            <a:pt x="0" y="128"/>
                          </a:lnTo>
                          <a:close/>
                        </a:path>
                      </a:pathLst>
                    </a:custGeom>
                    <a:solidFill>
                      <a:srgbClr val="c9c9c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3602520" y="556884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210">
                          <a:moveTo>
                            <a:pt x="0" y="120"/>
                          </a:moveTo>
                          <a:lnTo>
                            <a:pt x="19" y="131"/>
                          </a:lnTo>
                          <a:lnTo>
                            <a:pt x="38" y="142"/>
                          </a:lnTo>
                          <a:lnTo>
                            <a:pt x="57" y="153"/>
                          </a:lnTo>
                          <a:lnTo>
                            <a:pt x="76" y="164"/>
                          </a:lnTo>
                          <a:lnTo>
                            <a:pt x="94" y="175"/>
                          </a:lnTo>
                          <a:lnTo>
                            <a:pt x="112" y="187"/>
                          </a:lnTo>
                          <a:lnTo>
                            <a:pt x="131" y="198"/>
                          </a:lnTo>
                          <a:lnTo>
                            <a:pt x="149" y="210"/>
                          </a:lnTo>
                          <a:lnTo>
                            <a:pt x="230" y="100"/>
                          </a:lnTo>
                          <a:lnTo>
                            <a:pt x="210" y="87"/>
                          </a:lnTo>
                          <a:lnTo>
                            <a:pt x="189" y="74"/>
                          </a:lnTo>
                          <a:lnTo>
                            <a:pt x="169" y="60"/>
                          </a:lnTo>
                          <a:lnTo>
                            <a:pt x="149" y="47"/>
                          </a:lnTo>
                          <a:lnTo>
                            <a:pt x="129" y="35"/>
                          </a:lnTo>
                          <a:lnTo>
                            <a:pt x="108" y="23"/>
                          </a:lnTo>
                          <a:lnTo>
                            <a:pt x="88" y="11"/>
                          </a:lnTo>
                          <a:lnTo>
                            <a:pt x="67" y="0"/>
                          </a:lnTo>
                          <a:lnTo>
                            <a:pt x="0" y="120"/>
                          </a:lnTo>
                          <a:close/>
                        </a:path>
                      </a:pathLst>
                    </a:custGeom>
                    <a:solidFill>
                      <a:srgbClr val="98989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3605400" y="556956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214">
                          <a:moveTo>
                            <a:pt x="0" y="110"/>
                          </a:moveTo>
                          <a:lnTo>
                            <a:pt x="17" y="122"/>
                          </a:lnTo>
                          <a:lnTo>
                            <a:pt x="35" y="135"/>
                          </a:lnTo>
                          <a:lnTo>
                            <a:pt x="53" y="147"/>
                          </a:lnTo>
                          <a:lnTo>
                            <a:pt x="71" y="160"/>
                          </a:lnTo>
                          <a:lnTo>
                            <a:pt x="88" y="174"/>
                          </a:lnTo>
                          <a:lnTo>
                            <a:pt x="105" y="187"/>
                          </a:lnTo>
                          <a:lnTo>
                            <a:pt x="122" y="201"/>
                          </a:lnTo>
                          <a:lnTo>
                            <a:pt x="138" y="214"/>
                          </a:lnTo>
                          <a:lnTo>
                            <a:pt x="231" y="114"/>
                          </a:lnTo>
                          <a:lnTo>
                            <a:pt x="213" y="99"/>
                          </a:lnTo>
                          <a:lnTo>
                            <a:pt x="194" y="84"/>
                          </a:lnTo>
                          <a:lnTo>
                            <a:pt x="176" y="70"/>
                          </a:lnTo>
                          <a:lnTo>
                            <a:pt x="157" y="55"/>
                          </a:lnTo>
                          <a:lnTo>
                            <a:pt x="138" y="41"/>
                          </a:lnTo>
                          <a:lnTo>
                            <a:pt x="119" y="27"/>
                          </a:lnTo>
                          <a:lnTo>
                            <a:pt x="100" y="13"/>
                          </a:lnTo>
                          <a:lnTo>
                            <a:pt x="81" y="0"/>
                          </a:lnTo>
                          <a:lnTo>
                            <a:pt x="0" y="110"/>
                          </a:lnTo>
                          <a:close/>
                        </a:path>
                      </a:pathLst>
                    </a:custGeom>
                    <a:solidFill>
                      <a:srgbClr val="68686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3608640" y="557136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216">
                          <a:moveTo>
                            <a:pt x="0" y="100"/>
                          </a:moveTo>
                          <a:lnTo>
                            <a:pt x="17" y="114"/>
                          </a:lnTo>
                          <a:lnTo>
                            <a:pt x="33" y="128"/>
                          </a:lnTo>
                          <a:lnTo>
                            <a:pt x="49" y="143"/>
                          </a:lnTo>
                          <a:lnTo>
                            <a:pt x="65" y="157"/>
                          </a:lnTo>
                          <a:lnTo>
                            <a:pt x="81" y="172"/>
                          </a:lnTo>
                          <a:lnTo>
                            <a:pt x="97" y="186"/>
                          </a:lnTo>
                          <a:lnTo>
                            <a:pt x="112" y="201"/>
                          </a:lnTo>
                          <a:lnTo>
                            <a:pt x="128" y="216"/>
                          </a:lnTo>
                          <a:lnTo>
                            <a:pt x="233" y="128"/>
                          </a:lnTo>
                          <a:lnTo>
                            <a:pt x="216" y="112"/>
                          </a:lnTo>
                          <a:lnTo>
                            <a:pt x="199" y="95"/>
                          </a:lnTo>
                          <a:lnTo>
                            <a:pt x="182" y="79"/>
                          </a:lnTo>
                          <a:lnTo>
                            <a:pt x="165" y="63"/>
                          </a:lnTo>
                          <a:lnTo>
                            <a:pt x="147" y="46"/>
                          </a:lnTo>
                          <a:lnTo>
                            <a:pt x="129" y="31"/>
                          </a:lnTo>
                          <a:lnTo>
                            <a:pt x="111" y="15"/>
                          </a:lnTo>
                          <a:lnTo>
                            <a:pt x="93" y="0"/>
                          </a:lnTo>
                          <a:lnTo>
                            <a:pt x="0" y="100"/>
                          </a:lnTo>
                          <a:close/>
                        </a:path>
                      </a:pathLst>
                    </a:custGeom>
                    <a:solidFill>
                      <a:srgbClr val="39393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3611520" y="557316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16">
                          <a:moveTo>
                            <a:pt x="0" y="88"/>
                          </a:moveTo>
                          <a:lnTo>
                            <a:pt x="15" y="103"/>
                          </a:lnTo>
                          <a:lnTo>
                            <a:pt x="30" y="119"/>
                          </a:lnTo>
                          <a:lnTo>
                            <a:pt x="45" y="135"/>
                          </a:lnTo>
                          <a:lnTo>
                            <a:pt x="59" y="151"/>
                          </a:lnTo>
                          <a:lnTo>
                            <a:pt x="74" y="167"/>
                          </a:lnTo>
                          <a:lnTo>
                            <a:pt x="88" y="183"/>
                          </a:lnTo>
                          <a:lnTo>
                            <a:pt x="102" y="200"/>
                          </a:lnTo>
                          <a:lnTo>
                            <a:pt x="115" y="216"/>
                          </a:lnTo>
                          <a:lnTo>
                            <a:pt x="234" y="141"/>
                          </a:lnTo>
                          <a:lnTo>
                            <a:pt x="218" y="122"/>
                          </a:lnTo>
                          <a:lnTo>
                            <a:pt x="203" y="104"/>
                          </a:lnTo>
                          <a:lnTo>
                            <a:pt x="187" y="86"/>
                          </a:lnTo>
                          <a:lnTo>
                            <a:pt x="171" y="68"/>
                          </a:lnTo>
                          <a:lnTo>
                            <a:pt x="155" y="51"/>
                          </a:lnTo>
                          <a:lnTo>
                            <a:pt x="139" y="34"/>
                          </a:lnTo>
                          <a:lnTo>
                            <a:pt x="122" y="17"/>
                          </a:lnTo>
                          <a:lnTo>
                            <a:pt x="105" y="0"/>
                          </a:lnTo>
                          <a:lnTo>
                            <a:pt x="0" y="88"/>
                          </a:lnTo>
                          <a:close/>
                        </a:path>
                      </a:pathLst>
                    </a:custGeom>
                    <a:solidFill>
                      <a:srgbClr val="10101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3613680" y="557568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2" h="215">
                          <a:moveTo>
                            <a:pt x="0" y="75"/>
                          </a:moveTo>
                          <a:lnTo>
                            <a:pt x="15" y="92"/>
                          </a:lnTo>
                          <a:lnTo>
                            <a:pt x="28" y="109"/>
                          </a:lnTo>
                          <a:lnTo>
                            <a:pt x="41" y="126"/>
                          </a:lnTo>
                          <a:lnTo>
                            <a:pt x="54" y="143"/>
                          </a:lnTo>
                          <a:lnTo>
                            <a:pt x="67" y="161"/>
                          </a:lnTo>
                          <a:lnTo>
                            <a:pt x="80" y="178"/>
                          </a:lnTo>
                          <a:lnTo>
                            <a:pt x="92" y="197"/>
                          </a:lnTo>
                          <a:lnTo>
                            <a:pt x="104" y="215"/>
                          </a:lnTo>
                          <a:lnTo>
                            <a:pt x="232" y="151"/>
                          </a:lnTo>
                          <a:lnTo>
                            <a:pt x="219" y="131"/>
                          </a:lnTo>
                          <a:lnTo>
                            <a:pt x="205" y="112"/>
                          </a:lnTo>
                          <a:lnTo>
                            <a:pt x="191" y="93"/>
                          </a:lnTo>
                          <a:lnTo>
                            <a:pt x="177" y="74"/>
                          </a:lnTo>
                          <a:lnTo>
                            <a:pt x="163" y="55"/>
                          </a:lnTo>
                          <a:lnTo>
                            <a:pt x="148" y="37"/>
                          </a:lnTo>
                          <a:lnTo>
                            <a:pt x="133" y="18"/>
                          </a:lnTo>
                          <a:lnTo>
                            <a:pt x="119" y="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3615480" y="557820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9" h="211">
                          <a:moveTo>
                            <a:pt x="0" y="64"/>
                          </a:moveTo>
                          <a:lnTo>
                            <a:pt x="12" y="82"/>
                          </a:lnTo>
                          <a:lnTo>
                            <a:pt x="24" y="100"/>
                          </a:lnTo>
                          <a:lnTo>
                            <a:pt x="36" y="118"/>
                          </a:lnTo>
                          <a:lnTo>
                            <a:pt x="48" y="136"/>
                          </a:lnTo>
                          <a:lnTo>
                            <a:pt x="59" y="155"/>
                          </a:lnTo>
                          <a:lnTo>
                            <a:pt x="70" y="173"/>
                          </a:lnTo>
                          <a:lnTo>
                            <a:pt x="80" y="192"/>
                          </a:lnTo>
                          <a:lnTo>
                            <a:pt x="91" y="211"/>
                          </a:lnTo>
                          <a:lnTo>
                            <a:pt x="229" y="162"/>
                          </a:lnTo>
                          <a:lnTo>
                            <a:pt x="216" y="141"/>
                          </a:lnTo>
                          <a:lnTo>
                            <a:pt x="204" y="121"/>
                          </a:lnTo>
                          <a:lnTo>
                            <a:pt x="192" y="100"/>
                          </a:lnTo>
                          <a:lnTo>
                            <a:pt x="179" y="80"/>
                          </a:lnTo>
                          <a:lnTo>
                            <a:pt x="167" y="60"/>
                          </a:lnTo>
                          <a:lnTo>
                            <a:pt x="154" y="40"/>
                          </a:lnTo>
                          <a:lnTo>
                            <a:pt x="141" y="19"/>
                          </a:lnTo>
                          <a:lnTo>
                            <a:pt x="128" y="0"/>
                          </a:lnTo>
                          <a:lnTo>
                            <a:pt x="0" y="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3616560" y="558000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1" h="207">
                          <a:moveTo>
                            <a:pt x="0" y="49"/>
                          </a:moveTo>
                          <a:lnTo>
                            <a:pt x="10" y="68"/>
                          </a:lnTo>
                          <a:lnTo>
                            <a:pt x="20" y="88"/>
                          </a:lnTo>
                          <a:lnTo>
                            <a:pt x="30" y="108"/>
                          </a:lnTo>
                          <a:lnTo>
                            <a:pt x="39" y="127"/>
                          </a:lnTo>
                          <a:lnTo>
                            <a:pt x="48" y="147"/>
                          </a:lnTo>
                          <a:lnTo>
                            <a:pt x="58" y="167"/>
                          </a:lnTo>
                          <a:lnTo>
                            <a:pt x="66" y="187"/>
                          </a:lnTo>
                          <a:lnTo>
                            <a:pt x="75" y="207"/>
                          </a:lnTo>
                          <a:lnTo>
                            <a:pt x="221" y="172"/>
                          </a:lnTo>
                          <a:lnTo>
                            <a:pt x="211" y="150"/>
                          </a:lnTo>
                          <a:lnTo>
                            <a:pt x="202" y="128"/>
                          </a:lnTo>
                          <a:lnTo>
                            <a:pt x="191" y="107"/>
                          </a:lnTo>
                          <a:lnTo>
                            <a:pt x="181" y="85"/>
                          </a:lnTo>
                          <a:lnTo>
                            <a:pt x="171" y="63"/>
                          </a:lnTo>
                          <a:lnTo>
                            <a:pt x="160" y="42"/>
                          </a:lnTo>
                          <a:lnTo>
                            <a:pt x="149" y="21"/>
                          </a:lnTo>
                          <a:lnTo>
                            <a:pt x="138" y="0"/>
                          </a:lnTo>
                          <a:lnTo>
                            <a:pt x="0" y="4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3618720" y="558360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200">
                          <a:moveTo>
                            <a:pt x="0" y="35"/>
                          </a:moveTo>
                          <a:lnTo>
                            <a:pt x="8" y="55"/>
                          </a:lnTo>
                          <a:lnTo>
                            <a:pt x="17" y="75"/>
                          </a:lnTo>
                          <a:lnTo>
                            <a:pt x="24" y="96"/>
                          </a:lnTo>
                          <a:lnTo>
                            <a:pt x="32" y="117"/>
                          </a:lnTo>
                          <a:lnTo>
                            <a:pt x="40" y="138"/>
                          </a:lnTo>
                          <a:lnTo>
                            <a:pt x="47" y="159"/>
                          </a:lnTo>
                          <a:lnTo>
                            <a:pt x="54" y="180"/>
                          </a:lnTo>
                          <a:lnTo>
                            <a:pt x="62" y="200"/>
                          </a:lnTo>
                          <a:lnTo>
                            <a:pt x="213" y="179"/>
                          </a:lnTo>
                          <a:lnTo>
                            <a:pt x="206" y="156"/>
                          </a:lnTo>
                          <a:lnTo>
                            <a:pt x="198" y="134"/>
                          </a:lnTo>
                          <a:lnTo>
                            <a:pt x="190" y="111"/>
                          </a:lnTo>
                          <a:lnTo>
                            <a:pt x="182" y="88"/>
                          </a:lnTo>
                          <a:lnTo>
                            <a:pt x="173" y="65"/>
                          </a:lnTo>
                          <a:lnTo>
                            <a:pt x="165" y="43"/>
                          </a:lnTo>
                          <a:lnTo>
                            <a:pt x="155" y="21"/>
                          </a:lnTo>
                          <a:lnTo>
                            <a:pt x="146" y="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3619800" y="558612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195">
                          <a:moveTo>
                            <a:pt x="0" y="21"/>
                          </a:moveTo>
                          <a:lnTo>
                            <a:pt x="6" y="43"/>
                          </a:lnTo>
                          <a:lnTo>
                            <a:pt x="12" y="64"/>
                          </a:lnTo>
                          <a:lnTo>
                            <a:pt x="18" y="86"/>
                          </a:lnTo>
                          <a:lnTo>
                            <a:pt x="23" y="107"/>
                          </a:lnTo>
                          <a:lnTo>
                            <a:pt x="29" y="129"/>
                          </a:lnTo>
                          <a:lnTo>
                            <a:pt x="34" y="151"/>
                          </a:lnTo>
                          <a:lnTo>
                            <a:pt x="39" y="173"/>
                          </a:lnTo>
                          <a:lnTo>
                            <a:pt x="43" y="195"/>
                          </a:lnTo>
                          <a:lnTo>
                            <a:pt x="200" y="186"/>
                          </a:lnTo>
                          <a:lnTo>
                            <a:pt x="195" y="163"/>
                          </a:lnTo>
                          <a:lnTo>
                            <a:pt x="190" y="139"/>
                          </a:lnTo>
                          <a:lnTo>
                            <a:pt x="184" y="115"/>
                          </a:lnTo>
                          <a:lnTo>
                            <a:pt x="178" y="92"/>
                          </a:lnTo>
                          <a:lnTo>
                            <a:pt x="172" y="69"/>
                          </a:lnTo>
                          <a:lnTo>
                            <a:pt x="165" y="46"/>
                          </a:lnTo>
                          <a:lnTo>
                            <a:pt x="159" y="23"/>
                          </a:lnTo>
                          <a:lnTo>
                            <a:pt x="151" y="0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3620880" y="558864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192">
                          <a:moveTo>
                            <a:pt x="0" y="9"/>
                          </a:moveTo>
                          <a:lnTo>
                            <a:pt x="5" y="31"/>
                          </a:lnTo>
                          <a:lnTo>
                            <a:pt x="9" y="53"/>
                          </a:lnTo>
                          <a:lnTo>
                            <a:pt x="13" y="75"/>
                          </a:lnTo>
                          <a:lnTo>
                            <a:pt x="16" y="97"/>
                          </a:lnTo>
                          <a:lnTo>
                            <a:pt x="19" y="119"/>
                          </a:lnTo>
                          <a:lnTo>
                            <a:pt x="22" y="141"/>
                          </a:lnTo>
                          <a:lnTo>
                            <a:pt x="25" y="165"/>
                          </a:lnTo>
                          <a:lnTo>
                            <a:pt x="28" y="187"/>
                          </a:lnTo>
                          <a:lnTo>
                            <a:pt x="187" y="192"/>
                          </a:lnTo>
                          <a:lnTo>
                            <a:pt x="185" y="168"/>
                          </a:lnTo>
                          <a:lnTo>
                            <a:pt x="182" y="144"/>
                          </a:lnTo>
                          <a:lnTo>
                            <a:pt x="179" y="119"/>
                          </a:lnTo>
                          <a:lnTo>
                            <a:pt x="175" y="95"/>
                          </a:lnTo>
                          <a:lnTo>
                            <a:pt x="171" y="71"/>
                          </a:lnTo>
                          <a:lnTo>
                            <a:pt x="167" y="47"/>
                          </a:lnTo>
                          <a:lnTo>
                            <a:pt x="162" y="23"/>
                          </a:lnTo>
                          <a:lnTo>
                            <a:pt x="157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3620880" y="559152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203">
                          <a:moveTo>
                            <a:pt x="0" y="0"/>
                          </a:moveTo>
                          <a:lnTo>
                            <a:pt x="2" y="23"/>
                          </a:lnTo>
                          <a:lnTo>
                            <a:pt x="4" y="46"/>
                          </a:lnTo>
                          <a:lnTo>
                            <a:pt x="5" y="68"/>
                          </a:lnTo>
                          <a:lnTo>
                            <a:pt x="6" y="91"/>
                          </a:lnTo>
                          <a:lnTo>
                            <a:pt x="7" y="114"/>
                          </a:lnTo>
                          <a:lnTo>
                            <a:pt x="8" y="137"/>
                          </a:lnTo>
                          <a:lnTo>
                            <a:pt x="8" y="162"/>
                          </a:lnTo>
                          <a:lnTo>
                            <a:pt x="9" y="185"/>
                          </a:lnTo>
                          <a:lnTo>
                            <a:pt x="170" y="203"/>
                          </a:lnTo>
                          <a:lnTo>
                            <a:pt x="170" y="178"/>
                          </a:lnTo>
                          <a:lnTo>
                            <a:pt x="169" y="152"/>
                          </a:lnTo>
                          <a:lnTo>
                            <a:pt x="168" y="127"/>
                          </a:lnTo>
                          <a:lnTo>
                            <a:pt x="167" y="103"/>
                          </a:lnTo>
                          <a:lnTo>
                            <a:pt x="166" y="78"/>
                          </a:lnTo>
                          <a:lnTo>
                            <a:pt x="164" y="54"/>
                          </a:lnTo>
                          <a:lnTo>
                            <a:pt x="162" y="30"/>
                          </a:lnTo>
                          <a:lnTo>
                            <a:pt x="159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3582000" y="556452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55">
                          <a:moveTo>
                            <a:pt x="198" y="145"/>
                          </a:moveTo>
                          <a:lnTo>
                            <a:pt x="174" y="145"/>
                          </a:lnTo>
                          <a:lnTo>
                            <a:pt x="151" y="146"/>
                          </a:lnTo>
                          <a:lnTo>
                            <a:pt x="128" y="146"/>
                          </a:lnTo>
                          <a:lnTo>
                            <a:pt x="105" y="147"/>
                          </a:lnTo>
                          <a:lnTo>
                            <a:pt x="82" y="149"/>
                          </a:lnTo>
                          <a:lnTo>
                            <a:pt x="59" y="151"/>
                          </a:lnTo>
                          <a:lnTo>
                            <a:pt x="36" y="152"/>
                          </a:lnTo>
                          <a:lnTo>
                            <a:pt x="14" y="155"/>
                          </a:lnTo>
                          <a:lnTo>
                            <a:pt x="0" y="11"/>
                          </a:lnTo>
                          <a:lnTo>
                            <a:pt x="25" y="8"/>
                          </a:lnTo>
                          <a:lnTo>
                            <a:pt x="49" y="6"/>
                          </a:lnTo>
                          <a:lnTo>
                            <a:pt x="74" y="4"/>
                          </a:lnTo>
                          <a:lnTo>
                            <a:pt x="98" y="3"/>
                          </a:lnTo>
                          <a:lnTo>
                            <a:pt x="123" y="2"/>
                          </a:lnTo>
                          <a:lnTo>
                            <a:pt x="147" y="1"/>
                          </a:lnTo>
                          <a:lnTo>
                            <a:pt x="172" y="0"/>
                          </a:lnTo>
                          <a:lnTo>
                            <a:pt x="197" y="0"/>
                          </a:lnTo>
                          <a:lnTo>
                            <a:pt x="198" y="145"/>
                          </a:lnTo>
                          <a:close/>
                        </a:path>
                      </a:pathLst>
                    </a:cu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3579120" y="5564520"/>
                      <a:ext cx="288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170">
                          <a:moveTo>
                            <a:pt x="205" y="144"/>
                          </a:moveTo>
                          <a:lnTo>
                            <a:pt x="182" y="146"/>
                          </a:lnTo>
                          <a:lnTo>
                            <a:pt x="160" y="149"/>
                          </a:lnTo>
                          <a:lnTo>
                            <a:pt x="136" y="152"/>
                          </a:lnTo>
                          <a:lnTo>
                            <a:pt x="114" y="155"/>
                          </a:lnTo>
                          <a:lnTo>
                            <a:pt x="92" y="158"/>
                          </a:lnTo>
                          <a:lnTo>
                            <a:pt x="70" y="162"/>
                          </a:lnTo>
                          <a:lnTo>
                            <a:pt x="48" y="166"/>
                          </a:lnTo>
                          <a:lnTo>
                            <a:pt x="26" y="170"/>
                          </a:lnTo>
                          <a:lnTo>
                            <a:pt x="0" y="30"/>
                          </a:lnTo>
                          <a:lnTo>
                            <a:pt x="23" y="25"/>
                          </a:lnTo>
                          <a:lnTo>
                            <a:pt x="47" y="21"/>
                          </a:lnTo>
                          <a:lnTo>
                            <a:pt x="71" y="16"/>
                          </a:lnTo>
                          <a:lnTo>
                            <a:pt x="95" y="12"/>
                          </a:lnTo>
                          <a:lnTo>
                            <a:pt x="119" y="9"/>
                          </a:lnTo>
                          <a:lnTo>
                            <a:pt x="144" y="5"/>
                          </a:lnTo>
                          <a:lnTo>
                            <a:pt x="168" y="2"/>
                          </a:lnTo>
                          <a:lnTo>
                            <a:pt x="191" y="0"/>
                          </a:lnTo>
                          <a:lnTo>
                            <a:pt x="205" y="144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3574800" y="55652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2" h="185">
                          <a:moveTo>
                            <a:pt x="212" y="140"/>
                          </a:moveTo>
                          <a:lnTo>
                            <a:pt x="190" y="145"/>
                          </a:lnTo>
                          <a:lnTo>
                            <a:pt x="168" y="150"/>
                          </a:lnTo>
                          <a:lnTo>
                            <a:pt x="147" y="155"/>
                          </a:lnTo>
                          <a:lnTo>
                            <a:pt x="125" y="160"/>
                          </a:lnTo>
                          <a:lnTo>
                            <a:pt x="104" y="166"/>
                          </a:lnTo>
                          <a:lnTo>
                            <a:pt x="82" y="172"/>
                          </a:lnTo>
                          <a:lnTo>
                            <a:pt x="61" y="178"/>
                          </a:lnTo>
                          <a:lnTo>
                            <a:pt x="40" y="185"/>
                          </a:lnTo>
                          <a:lnTo>
                            <a:pt x="0" y="49"/>
                          </a:lnTo>
                          <a:lnTo>
                            <a:pt x="23" y="42"/>
                          </a:lnTo>
                          <a:lnTo>
                            <a:pt x="46" y="35"/>
                          </a:lnTo>
                          <a:lnTo>
                            <a:pt x="69" y="28"/>
                          </a:lnTo>
                          <a:lnTo>
                            <a:pt x="92" y="22"/>
                          </a:lnTo>
                          <a:lnTo>
                            <a:pt x="115" y="16"/>
                          </a:lnTo>
                          <a:lnTo>
                            <a:pt x="139" y="10"/>
                          </a:lnTo>
                          <a:lnTo>
                            <a:pt x="162" y="5"/>
                          </a:lnTo>
                          <a:lnTo>
                            <a:pt x="186" y="0"/>
                          </a:lnTo>
                          <a:lnTo>
                            <a:pt x="212" y="140"/>
                          </a:lnTo>
                          <a:close/>
                        </a:path>
                      </a:pathLst>
                    </a:custGeom>
                    <a:solidFill>
                      <a:srgbClr val="eeeee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3570840" y="556596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96">
                          <a:moveTo>
                            <a:pt x="219" y="136"/>
                          </a:moveTo>
                          <a:lnTo>
                            <a:pt x="198" y="142"/>
                          </a:lnTo>
                          <a:lnTo>
                            <a:pt x="177" y="149"/>
                          </a:lnTo>
                          <a:lnTo>
                            <a:pt x="156" y="157"/>
                          </a:lnTo>
                          <a:lnTo>
                            <a:pt x="135" y="164"/>
                          </a:lnTo>
                          <a:lnTo>
                            <a:pt x="114" y="172"/>
                          </a:lnTo>
                          <a:lnTo>
                            <a:pt x="94" y="179"/>
                          </a:lnTo>
                          <a:lnTo>
                            <a:pt x="74" y="188"/>
                          </a:lnTo>
                          <a:lnTo>
                            <a:pt x="54" y="196"/>
                          </a:lnTo>
                          <a:lnTo>
                            <a:pt x="0" y="68"/>
                          </a:lnTo>
                          <a:lnTo>
                            <a:pt x="22" y="59"/>
                          </a:lnTo>
                          <a:lnTo>
                            <a:pt x="44" y="50"/>
                          </a:lnTo>
                          <a:lnTo>
                            <a:pt x="66" y="41"/>
                          </a:lnTo>
                          <a:lnTo>
                            <a:pt x="88" y="32"/>
                          </a:lnTo>
                          <a:lnTo>
                            <a:pt x="111" y="24"/>
                          </a:lnTo>
                          <a:lnTo>
                            <a:pt x="133" y="15"/>
                          </a:lnTo>
                          <a:lnTo>
                            <a:pt x="155" y="7"/>
                          </a:lnTo>
                          <a:lnTo>
                            <a:pt x="179" y="0"/>
                          </a:lnTo>
                          <a:lnTo>
                            <a:pt x="219" y="136"/>
                          </a:lnTo>
                          <a:close/>
                        </a:path>
                      </a:pathLst>
                    </a:custGeom>
                    <a:solidFill>
                      <a:srgbClr val="f1f1f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3568680" y="556704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204">
                          <a:moveTo>
                            <a:pt x="226" y="128"/>
                          </a:moveTo>
                          <a:lnTo>
                            <a:pt x="206" y="137"/>
                          </a:lnTo>
                          <a:lnTo>
                            <a:pt x="186" y="146"/>
                          </a:lnTo>
                          <a:lnTo>
                            <a:pt x="166" y="156"/>
                          </a:lnTo>
                          <a:lnTo>
                            <a:pt x="146" y="165"/>
                          </a:lnTo>
                          <a:lnTo>
                            <a:pt x="126" y="175"/>
                          </a:lnTo>
                          <a:lnTo>
                            <a:pt x="107" y="184"/>
                          </a:lnTo>
                          <a:lnTo>
                            <a:pt x="88" y="194"/>
                          </a:lnTo>
                          <a:lnTo>
                            <a:pt x="69" y="204"/>
                          </a:lnTo>
                          <a:lnTo>
                            <a:pt x="0" y="84"/>
                          </a:lnTo>
                          <a:lnTo>
                            <a:pt x="22" y="72"/>
                          </a:lnTo>
                          <a:lnTo>
                            <a:pt x="43" y="61"/>
                          </a:lnTo>
                          <a:lnTo>
                            <a:pt x="65" y="51"/>
                          </a:lnTo>
                          <a:lnTo>
                            <a:pt x="86" y="40"/>
                          </a:lnTo>
                          <a:lnTo>
                            <a:pt x="107" y="30"/>
                          </a:lnTo>
                          <a:lnTo>
                            <a:pt x="129" y="20"/>
                          </a:lnTo>
                          <a:lnTo>
                            <a:pt x="150" y="10"/>
                          </a:lnTo>
                          <a:lnTo>
                            <a:pt x="172" y="0"/>
                          </a:lnTo>
                          <a:lnTo>
                            <a:pt x="226" y="128"/>
                          </a:lnTo>
                          <a:close/>
                        </a:path>
                      </a:pathLst>
                    </a:custGeom>
                    <a:solidFill>
                      <a:srgbClr val="f4f4f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3564720" y="556884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9" h="210">
                          <a:moveTo>
                            <a:pt x="229" y="120"/>
                          </a:moveTo>
                          <a:lnTo>
                            <a:pt x="210" y="131"/>
                          </a:lnTo>
                          <a:lnTo>
                            <a:pt x="191" y="142"/>
                          </a:lnTo>
                          <a:lnTo>
                            <a:pt x="171" y="153"/>
                          </a:lnTo>
                          <a:lnTo>
                            <a:pt x="153" y="164"/>
                          </a:lnTo>
                          <a:lnTo>
                            <a:pt x="134" y="175"/>
                          </a:lnTo>
                          <a:lnTo>
                            <a:pt x="116" y="187"/>
                          </a:lnTo>
                          <a:lnTo>
                            <a:pt x="98" y="198"/>
                          </a:lnTo>
                          <a:lnTo>
                            <a:pt x="80" y="210"/>
                          </a:lnTo>
                          <a:lnTo>
                            <a:pt x="0" y="100"/>
                          </a:lnTo>
                          <a:lnTo>
                            <a:pt x="19" y="87"/>
                          </a:lnTo>
                          <a:lnTo>
                            <a:pt x="39" y="74"/>
                          </a:lnTo>
                          <a:lnTo>
                            <a:pt x="58" y="60"/>
                          </a:lnTo>
                          <a:lnTo>
                            <a:pt x="79" y="47"/>
                          </a:lnTo>
                          <a:lnTo>
                            <a:pt x="99" y="35"/>
                          </a:lnTo>
                          <a:lnTo>
                            <a:pt x="119" y="23"/>
                          </a:lnTo>
                          <a:lnTo>
                            <a:pt x="140" y="11"/>
                          </a:lnTo>
                          <a:lnTo>
                            <a:pt x="160" y="0"/>
                          </a:lnTo>
                          <a:lnTo>
                            <a:pt x="229" y="120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3561840" y="556956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2" h="214">
                          <a:moveTo>
                            <a:pt x="232" y="110"/>
                          </a:moveTo>
                          <a:lnTo>
                            <a:pt x="214" y="122"/>
                          </a:lnTo>
                          <a:lnTo>
                            <a:pt x="197" y="135"/>
                          </a:lnTo>
                          <a:lnTo>
                            <a:pt x="179" y="147"/>
                          </a:lnTo>
                          <a:lnTo>
                            <a:pt x="162" y="160"/>
                          </a:lnTo>
                          <a:lnTo>
                            <a:pt x="145" y="174"/>
                          </a:lnTo>
                          <a:lnTo>
                            <a:pt x="128" y="187"/>
                          </a:lnTo>
                          <a:lnTo>
                            <a:pt x="111" y="201"/>
                          </a:lnTo>
                          <a:lnTo>
                            <a:pt x="94" y="214"/>
                          </a:lnTo>
                          <a:lnTo>
                            <a:pt x="0" y="114"/>
                          </a:lnTo>
                          <a:lnTo>
                            <a:pt x="19" y="99"/>
                          </a:lnTo>
                          <a:lnTo>
                            <a:pt x="37" y="84"/>
                          </a:lnTo>
                          <a:lnTo>
                            <a:pt x="56" y="70"/>
                          </a:lnTo>
                          <a:lnTo>
                            <a:pt x="75" y="55"/>
                          </a:lnTo>
                          <a:lnTo>
                            <a:pt x="93" y="41"/>
                          </a:lnTo>
                          <a:lnTo>
                            <a:pt x="113" y="27"/>
                          </a:lnTo>
                          <a:lnTo>
                            <a:pt x="132" y="13"/>
                          </a:lnTo>
                          <a:lnTo>
                            <a:pt x="152" y="0"/>
                          </a:lnTo>
                          <a:lnTo>
                            <a:pt x="232" y="110"/>
                          </a:lnTo>
                          <a:close/>
                        </a:path>
                      </a:pathLst>
                    </a:custGeom>
                    <a:solidFill>
                      <a:srgbClr val="f9f9f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3559680" y="557136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16">
                          <a:moveTo>
                            <a:pt x="234" y="100"/>
                          </a:moveTo>
                          <a:lnTo>
                            <a:pt x="217" y="114"/>
                          </a:lnTo>
                          <a:lnTo>
                            <a:pt x="201" y="128"/>
                          </a:lnTo>
                          <a:lnTo>
                            <a:pt x="185" y="143"/>
                          </a:lnTo>
                          <a:lnTo>
                            <a:pt x="169" y="157"/>
                          </a:lnTo>
                          <a:lnTo>
                            <a:pt x="153" y="172"/>
                          </a:lnTo>
                          <a:lnTo>
                            <a:pt x="137" y="186"/>
                          </a:lnTo>
                          <a:lnTo>
                            <a:pt x="121" y="201"/>
                          </a:lnTo>
                          <a:lnTo>
                            <a:pt x="106" y="216"/>
                          </a:lnTo>
                          <a:lnTo>
                            <a:pt x="0" y="128"/>
                          </a:lnTo>
                          <a:lnTo>
                            <a:pt x="16" y="112"/>
                          </a:lnTo>
                          <a:lnTo>
                            <a:pt x="33" y="95"/>
                          </a:lnTo>
                          <a:lnTo>
                            <a:pt x="50" y="79"/>
                          </a:lnTo>
                          <a:lnTo>
                            <a:pt x="68" y="63"/>
                          </a:lnTo>
                          <a:lnTo>
                            <a:pt x="86" y="46"/>
                          </a:lnTo>
                          <a:lnTo>
                            <a:pt x="103" y="31"/>
                          </a:lnTo>
                          <a:lnTo>
                            <a:pt x="121" y="15"/>
                          </a:lnTo>
                          <a:lnTo>
                            <a:pt x="140" y="0"/>
                          </a:lnTo>
                          <a:lnTo>
                            <a:pt x="234" y="100"/>
                          </a:lnTo>
                          <a:close/>
                        </a:path>
                      </a:pathLst>
                    </a:cu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3556440" y="557316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216">
                          <a:moveTo>
                            <a:pt x="233" y="88"/>
                          </a:moveTo>
                          <a:lnTo>
                            <a:pt x="218" y="103"/>
                          </a:lnTo>
                          <a:lnTo>
                            <a:pt x="203" y="119"/>
                          </a:lnTo>
                          <a:lnTo>
                            <a:pt x="188" y="135"/>
                          </a:lnTo>
                          <a:lnTo>
                            <a:pt x="174" y="151"/>
                          </a:lnTo>
                          <a:lnTo>
                            <a:pt x="159" y="167"/>
                          </a:lnTo>
                          <a:lnTo>
                            <a:pt x="145" y="183"/>
                          </a:lnTo>
                          <a:lnTo>
                            <a:pt x="131" y="200"/>
                          </a:lnTo>
                          <a:lnTo>
                            <a:pt x="117" y="216"/>
                          </a:lnTo>
                          <a:lnTo>
                            <a:pt x="0" y="141"/>
                          </a:lnTo>
                          <a:lnTo>
                            <a:pt x="15" y="122"/>
                          </a:lnTo>
                          <a:lnTo>
                            <a:pt x="30" y="104"/>
                          </a:lnTo>
                          <a:lnTo>
                            <a:pt x="46" y="86"/>
                          </a:lnTo>
                          <a:lnTo>
                            <a:pt x="61" y="68"/>
                          </a:lnTo>
                          <a:lnTo>
                            <a:pt x="77" y="51"/>
                          </a:lnTo>
                          <a:lnTo>
                            <a:pt x="94" y="34"/>
                          </a:lnTo>
                          <a:lnTo>
                            <a:pt x="110" y="17"/>
                          </a:lnTo>
                          <a:lnTo>
                            <a:pt x="127" y="0"/>
                          </a:lnTo>
                          <a:lnTo>
                            <a:pt x="233" y="88"/>
                          </a:lnTo>
                          <a:close/>
                        </a:path>
                      </a:pathLst>
                    </a:custGeom>
                    <a:solidFill>
                      <a:srgbClr val="fcfcf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>
                      <a:off x="3554640" y="557568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2" h="215">
                          <a:moveTo>
                            <a:pt x="232" y="75"/>
                          </a:moveTo>
                          <a:lnTo>
                            <a:pt x="218" y="92"/>
                          </a:lnTo>
                          <a:lnTo>
                            <a:pt x="205" y="109"/>
                          </a:lnTo>
                          <a:lnTo>
                            <a:pt x="192" y="126"/>
                          </a:lnTo>
                          <a:lnTo>
                            <a:pt x="179" y="143"/>
                          </a:lnTo>
                          <a:lnTo>
                            <a:pt x="166" y="161"/>
                          </a:lnTo>
                          <a:lnTo>
                            <a:pt x="153" y="178"/>
                          </a:lnTo>
                          <a:lnTo>
                            <a:pt x="141" y="197"/>
                          </a:lnTo>
                          <a:lnTo>
                            <a:pt x="129" y="215"/>
                          </a:lnTo>
                          <a:lnTo>
                            <a:pt x="0" y="151"/>
                          </a:lnTo>
                          <a:lnTo>
                            <a:pt x="13" y="131"/>
                          </a:lnTo>
                          <a:lnTo>
                            <a:pt x="27" y="112"/>
                          </a:lnTo>
                          <a:lnTo>
                            <a:pt x="41" y="93"/>
                          </a:lnTo>
                          <a:lnTo>
                            <a:pt x="55" y="74"/>
                          </a:lnTo>
                          <a:lnTo>
                            <a:pt x="70" y="55"/>
                          </a:lnTo>
                          <a:lnTo>
                            <a:pt x="85" y="37"/>
                          </a:lnTo>
                          <a:lnTo>
                            <a:pt x="99" y="18"/>
                          </a:lnTo>
                          <a:lnTo>
                            <a:pt x="115" y="0"/>
                          </a:lnTo>
                          <a:lnTo>
                            <a:pt x="232" y="75"/>
                          </a:lnTo>
                          <a:close/>
                        </a:path>
                      </a:pathLst>
                    </a:cu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3550320" y="5578200"/>
                      <a:ext cx="68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3" h="369">
                          <a:moveTo>
                            <a:pt x="313" y="64"/>
                          </a:moveTo>
                          <a:lnTo>
                            <a:pt x="301" y="82"/>
                          </a:lnTo>
                          <a:lnTo>
                            <a:pt x="289" y="100"/>
                          </a:lnTo>
                          <a:lnTo>
                            <a:pt x="278" y="118"/>
                          </a:lnTo>
                          <a:lnTo>
                            <a:pt x="266" y="136"/>
                          </a:lnTo>
                          <a:lnTo>
                            <a:pt x="255" y="155"/>
                          </a:lnTo>
                          <a:lnTo>
                            <a:pt x="243" y="173"/>
                          </a:lnTo>
                          <a:lnTo>
                            <a:pt x="233" y="192"/>
                          </a:lnTo>
                          <a:lnTo>
                            <a:pt x="222" y="211"/>
                          </a:lnTo>
                          <a:lnTo>
                            <a:pt x="220" y="216"/>
                          </a:lnTo>
                          <a:lnTo>
                            <a:pt x="214" y="228"/>
                          </a:lnTo>
                          <a:lnTo>
                            <a:pt x="204" y="248"/>
                          </a:lnTo>
                          <a:lnTo>
                            <a:pt x="193" y="270"/>
                          </a:lnTo>
                          <a:lnTo>
                            <a:pt x="180" y="296"/>
                          </a:lnTo>
                          <a:lnTo>
                            <a:pt x="168" y="322"/>
                          </a:lnTo>
                          <a:lnTo>
                            <a:pt x="156" y="347"/>
                          </a:lnTo>
                          <a:lnTo>
                            <a:pt x="147" y="369"/>
                          </a:lnTo>
                          <a:lnTo>
                            <a:pt x="0" y="334"/>
                          </a:lnTo>
                          <a:lnTo>
                            <a:pt x="11" y="310"/>
                          </a:lnTo>
                          <a:lnTo>
                            <a:pt x="24" y="282"/>
                          </a:lnTo>
                          <a:lnTo>
                            <a:pt x="38" y="254"/>
                          </a:lnTo>
                          <a:lnTo>
                            <a:pt x="52" y="226"/>
                          </a:lnTo>
                          <a:lnTo>
                            <a:pt x="65" y="201"/>
                          </a:lnTo>
                          <a:lnTo>
                            <a:pt x="75" y="181"/>
                          </a:lnTo>
                          <a:lnTo>
                            <a:pt x="82" y="167"/>
                          </a:lnTo>
                          <a:lnTo>
                            <a:pt x="85" y="162"/>
                          </a:lnTo>
                          <a:lnTo>
                            <a:pt x="96" y="141"/>
                          </a:lnTo>
                          <a:lnTo>
                            <a:pt x="108" y="121"/>
                          </a:lnTo>
                          <a:lnTo>
                            <a:pt x="120" y="100"/>
                          </a:lnTo>
                          <a:lnTo>
                            <a:pt x="132" y="80"/>
                          </a:lnTo>
                          <a:lnTo>
                            <a:pt x="144" y="60"/>
                          </a:lnTo>
                          <a:lnTo>
                            <a:pt x="157" y="40"/>
                          </a:lnTo>
                          <a:lnTo>
                            <a:pt x="170" y="19"/>
                          </a:lnTo>
                          <a:lnTo>
                            <a:pt x="184" y="0"/>
                          </a:lnTo>
                          <a:lnTo>
                            <a:pt x="313" y="64"/>
                          </a:lnTo>
                          <a:close/>
                        </a:path>
                      </a:pathLst>
                    </a:cu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3549600" y="558360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200">
                          <a:moveTo>
                            <a:pt x="213" y="35"/>
                          </a:moveTo>
                          <a:lnTo>
                            <a:pt x="204" y="55"/>
                          </a:lnTo>
                          <a:lnTo>
                            <a:pt x="196" y="75"/>
                          </a:lnTo>
                          <a:lnTo>
                            <a:pt x="188" y="96"/>
                          </a:lnTo>
                          <a:lnTo>
                            <a:pt x="181" y="117"/>
                          </a:lnTo>
                          <a:lnTo>
                            <a:pt x="173" y="138"/>
                          </a:lnTo>
                          <a:lnTo>
                            <a:pt x="166" y="159"/>
                          </a:lnTo>
                          <a:lnTo>
                            <a:pt x="159" y="180"/>
                          </a:lnTo>
                          <a:lnTo>
                            <a:pt x="152" y="200"/>
                          </a:lnTo>
                          <a:lnTo>
                            <a:pt x="0" y="179"/>
                          </a:lnTo>
                          <a:lnTo>
                            <a:pt x="7" y="156"/>
                          </a:lnTo>
                          <a:lnTo>
                            <a:pt x="15" y="134"/>
                          </a:lnTo>
                          <a:lnTo>
                            <a:pt x="23" y="111"/>
                          </a:lnTo>
                          <a:lnTo>
                            <a:pt x="31" y="88"/>
                          </a:lnTo>
                          <a:lnTo>
                            <a:pt x="39" y="65"/>
                          </a:lnTo>
                          <a:lnTo>
                            <a:pt x="48" y="43"/>
                          </a:lnTo>
                          <a:lnTo>
                            <a:pt x="57" y="21"/>
                          </a:lnTo>
                          <a:lnTo>
                            <a:pt x="66" y="0"/>
                          </a:lnTo>
                          <a:lnTo>
                            <a:pt x="213" y="35"/>
                          </a:lnTo>
                          <a:close/>
                        </a:path>
                      </a:pathLst>
                    </a:custGeom>
                    <a:solidFill>
                      <a:srgbClr val="fdfd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3620880" y="559476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215">
                          <a:moveTo>
                            <a:pt x="9" y="0"/>
                          </a:moveTo>
                          <a:lnTo>
                            <a:pt x="8" y="23"/>
                          </a:lnTo>
                          <a:lnTo>
                            <a:pt x="8" y="46"/>
                          </a:lnTo>
                          <a:lnTo>
                            <a:pt x="7" y="69"/>
                          </a:lnTo>
                          <a:lnTo>
                            <a:pt x="6" y="92"/>
                          </a:lnTo>
                          <a:lnTo>
                            <a:pt x="5" y="115"/>
                          </a:lnTo>
                          <a:lnTo>
                            <a:pt x="4" y="137"/>
                          </a:lnTo>
                          <a:lnTo>
                            <a:pt x="2" y="160"/>
                          </a:lnTo>
                          <a:lnTo>
                            <a:pt x="0" y="184"/>
                          </a:lnTo>
                          <a:lnTo>
                            <a:pt x="159" y="215"/>
                          </a:lnTo>
                          <a:lnTo>
                            <a:pt x="162" y="190"/>
                          </a:lnTo>
                          <a:lnTo>
                            <a:pt x="164" y="165"/>
                          </a:lnTo>
                          <a:lnTo>
                            <a:pt x="166" y="140"/>
                          </a:lnTo>
                          <a:lnTo>
                            <a:pt x="167" y="116"/>
                          </a:lnTo>
                          <a:lnTo>
                            <a:pt x="168" y="91"/>
                          </a:lnTo>
                          <a:lnTo>
                            <a:pt x="169" y="67"/>
                          </a:lnTo>
                          <a:lnTo>
                            <a:pt x="170" y="42"/>
                          </a:lnTo>
                          <a:lnTo>
                            <a:pt x="170" y="18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3620880" y="559728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222">
                          <a:moveTo>
                            <a:pt x="28" y="0"/>
                          </a:moveTo>
                          <a:lnTo>
                            <a:pt x="25" y="22"/>
                          </a:lnTo>
                          <a:lnTo>
                            <a:pt x="22" y="45"/>
                          </a:lnTo>
                          <a:lnTo>
                            <a:pt x="19" y="67"/>
                          </a:lnTo>
                          <a:lnTo>
                            <a:pt x="16" y="89"/>
                          </a:lnTo>
                          <a:lnTo>
                            <a:pt x="13" y="112"/>
                          </a:lnTo>
                          <a:lnTo>
                            <a:pt x="9" y="134"/>
                          </a:lnTo>
                          <a:lnTo>
                            <a:pt x="5" y="156"/>
                          </a:lnTo>
                          <a:lnTo>
                            <a:pt x="0" y="178"/>
                          </a:lnTo>
                          <a:lnTo>
                            <a:pt x="157" y="222"/>
                          </a:lnTo>
                          <a:lnTo>
                            <a:pt x="162" y="199"/>
                          </a:lnTo>
                          <a:lnTo>
                            <a:pt x="167" y="174"/>
                          </a:lnTo>
                          <a:lnTo>
                            <a:pt x="171" y="150"/>
                          </a:lnTo>
                          <a:lnTo>
                            <a:pt x="175" y="126"/>
                          </a:lnTo>
                          <a:lnTo>
                            <a:pt x="179" y="102"/>
                          </a:lnTo>
                          <a:lnTo>
                            <a:pt x="182" y="79"/>
                          </a:lnTo>
                          <a:lnTo>
                            <a:pt x="185" y="55"/>
                          </a:lnTo>
                          <a:lnTo>
                            <a:pt x="187" y="31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3619800" y="560016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231">
                          <a:moveTo>
                            <a:pt x="43" y="0"/>
                          </a:moveTo>
                          <a:lnTo>
                            <a:pt x="39" y="23"/>
                          </a:lnTo>
                          <a:lnTo>
                            <a:pt x="34" y="45"/>
                          </a:lnTo>
                          <a:lnTo>
                            <a:pt x="29" y="66"/>
                          </a:lnTo>
                          <a:lnTo>
                            <a:pt x="23" y="88"/>
                          </a:lnTo>
                          <a:lnTo>
                            <a:pt x="18" y="109"/>
                          </a:lnTo>
                          <a:lnTo>
                            <a:pt x="12" y="130"/>
                          </a:lnTo>
                          <a:lnTo>
                            <a:pt x="6" y="151"/>
                          </a:lnTo>
                          <a:lnTo>
                            <a:pt x="0" y="172"/>
                          </a:lnTo>
                          <a:lnTo>
                            <a:pt x="151" y="231"/>
                          </a:lnTo>
                          <a:lnTo>
                            <a:pt x="159" y="207"/>
                          </a:lnTo>
                          <a:lnTo>
                            <a:pt x="165" y="184"/>
                          </a:lnTo>
                          <a:lnTo>
                            <a:pt x="172" y="161"/>
                          </a:lnTo>
                          <a:lnTo>
                            <a:pt x="178" y="138"/>
                          </a:lnTo>
                          <a:lnTo>
                            <a:pt x="184" y="115"/>
                          </a:lnTo>
                          <a:lnTo>
                            <a:pt x="190" y="91"/>
                          </a:lnTo>
                          <a:lnTo>
                            <a:pt x="195" y="68"/>
                          </a:lnTo>
                          <a:lnTo>
                            <a:pt x="200" y="44"/>
                          </a:lnTo>
                          <a:lnTo>
                            <a:pt x="4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3618720" y="560268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237">
                          <a:moveTo>
                            <a:pt x="62" y="0"/>
                          </a:moveTo>
                          <a:lnTo>
                            <a:pt x="54" y="22"/>
                          </a:lnTo>
                          <a:lnTo>
                            <a:pt x="47" y="44"/>
                          </a:lnTo>
                          <a:lnTo>
                            <a:pt x="40" y="65"/>
                          </a:lnTo>
                          <a:lnTo>
                            <a:pt x="32" y="85"/>
                          </a:lnTo>
                          <a:lnTo>
                            <a:pt x="24" y="106"/>
                          </a:lnTo>
                          <a:lnTo>
                            <a:pt x="17" y="126"/>
                          </a:lnTo>
                          <a:lnTo>
                            <a:pt x="8" y="146"/>
                          </a:lnTo>
                          <a:lnTo>
                            <a:pt x="0" y="166"/>
                          </a:lnTo>
                          <a:lnTo>
                            <a:pt x="146" y="237"/>
                          </a:lnTo>
                          <a:lnTo>
                            <a:pt x="155" y="215"/>
                          </a:lnTo>
                          <a:lnTo>
                            <a:pt x="165" y="193"/>
                          </a:lnTo>
                          <a:lnTo>
                            <a:pt x="173" y="171"/>
                          </a:lnTo>
                          <a:lnTo>
                            <a:pt x="182" y="149"/>
                          </a:lnTo>
                          <a:lnTo>
                            <a:pt x="190" y="127"/>
                          </a:lnTo>
                          <a:lnTo>
                            <a:pt x="198" y="104"/>
                          </a:lnTo>
                          <a:lnTo>
                            <a:pt x="206" y="82"/>
                          </a:lnTo>
                          <a:lnTo>
                            <a:pt x="213" y="59"/>
                          </a:lnTo>
                          <a:lnTo>
                            <a:pt x="6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3616560" y="560520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1" h="243">
                          <a:moveTo>
                            <a:pt x="75" y="0"/>
                          </a:moveTo>
                          <a:lnTo>
                            <a:pt x="66" y="20"/>
                          </a:lnTo>
                          <a:lnTo>
                            <a:pt x="58" y="40"/>
                          </a:lnTo>
                          <a:lnTo>
                            <a:pt x="48" y="60"/>
                          </a:lnTo>
                          <a:lnTo>
                            <a:pt x="39" y="81"/>
                          </a:lnTo>
                          <a:lnTo>
                            <a:pt x="30" y="100"/>
                          </a:lnTo>
                          <a:lnTo>
                            <a:pt x="20" y="120"/>
                          </a:lnTo>
                          <a:lnTo>
                            <a:pt x="10" y="139"/>
                          </a:lnTo>
                          <a:lnTo>
                            <a:pt x="0" y="159"/>
                          </a:lnTo>
                          <a:lnTo>
                            <a:pt x="138" y="243"/>
                          </a:lnTo>
                          <a:lnTo>
                            <a:pt x="149" y="222"/>
                          </a:lnTo>
                          <a:lnTo>
                            <a:pt x="160" y="201"/>
                          </a:lnTo>
                          <a:lnTo>
                            <a:pt x="171" y="180"/>
                          </a:lnTo>
                          <a:lnTo>
                            <a:pt x="181" y="158"/>
                          </a:lnTo>
                          <a:lnTo>
                            <a:pt x="191" y="137"/>
                          </a:lnTo>
                          <a:lnTo>
                            <a:pt x="202" y="116"/>
                          </a:lnTo>
                          <a:lnTo>
                            <a:pt x="211" y="94"/>
                          </a:lnTo>
                          <a:lnTo>
                            <a:pt x="221" y="71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3615480" y="560808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9" h="245">
                          <a:moveTo>
                            <a:pt x="91" y="0"/>
                          </a:moveTo>
                          <a:lnTo>
                            <a:pt x="80" y="18"/>
                          </a:lnTo>
                          <a:lnTo>
                            <a:pt x="70" y="37"/>
                          </a:lnTo>
                          <a:lnTo>
                            <a:pt x="59" y="56"/>
                          </a:lnTo>
                          <a:lnTo>
                            <a:pt x="48" y="74"/>
                          </a:lnTo>
                          <a:lnTo>
                            <a:pt x="36" y="93"/>
                          </a:lnTo>
                          <a:lnTo>
                            <a:pt x="24" y="111"/>
                          </a:lnTo>
                          <a:lnTo>
                            <a:pt x="12" y="130"/>
                          </a:lnTo>
                          <a:lnTo>
                            <a:pt x="0" y="148"/>
                          </a:lnTo>
                          <a:lnTo>
                            <a:pt x="128" y="245"/>
                          </a:lnTo>
                          <a:lnTo>
                            <a:pt x="141" y="226"/>
                          </a:lnTo>
                          <a:lnTo>
                            <a:pt x="154" y="206"/>
                          </a:lnTo>
                          <a:lnTo>
                            <a:pt x="167" y="187"/>
                          </a:lnTo>
                          <a:lnTo>
                            <a:pt x="179" y="167"/>
                          </a:lnTo>
                          <a:lnTo>
                            <a:pt x="192" y="146"/>
                          </a:lnTo>
                          <a:lnTo>
                            <a:pt x="204" y="126"/>
                          </a:lnTo>
                          <a:lnTo>
                            <a:pt x="216" y="105"/>
                          </a:lnTo>
                          <a:lnTo>
                            <a:pt x="229" y="84"/>
                          </a:lnTo>
                          <a:lnTo>
                            <a:pt x="9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3613680" y="561060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2" h="249">
                          <a:moveTo>
                            <a:pt x="104" y="0"/>
                          </a:moveTo>
                          <a:lnTo>
                            <a:pt x="92" y="18"/>
                          </a:lnTo>
                          <a:lnTo>
                            <a:pt x="80" y="35"/>
                          </a:lnTo>
                          <a:lnTo>
                            <a:pt x="67" y="53"/>
                          </a:lnTo>
                          <a:lnTo>
                            <a:pt x="54" y="70"/>
                          </a:lnTo>
                          <a:lnTo>
                            <a:pt x="41" y="88"/>
                          </a:lnTo>
                          <a:lnTo>
                            <a:pt x="28" y="105"/>
                          </a:lnTo>
                          <a:lnTo>
                            <a:pt x="15" y="122"/>
                          </a:lnTo>
                          <a:lnTo>
                            <a:pt x="0" y="138"/>
                          </a:lnTo>
                          <a:lnTo>
                            <a:pt x="119" y="249"/>
                          </a:lnTo>
                          <a:lnTo>
                            <a:pt x="133" y="231"/>
                          </a:lnTo>
                          <a:lnTo>
                            <a:pt x="148" y="213"/>
                          </a:lnTo>
                          <a:lnTo>
                            <a:pt x="163" y="194"/>
                          </a:lnTo>
                          <a:lnTo>
                            <a:pt x="177" y="176"/>
                          </a:lnTo>
                          <a:lnTo>
                            <a:pt x="191" y="156"/>
                          </a:lnTo>
                          <a:lnTo>
                            <a:pt x="205" y="136"/>
                          </a:lnTo>
                          <a:lnTo>
                            <a:pt x="219" y="117"/>
                          </a:lnTo>
                          <a:lnTo>
                            <a:pt x="232" y="97"/>
                          </a:lnTo>
                          <a:lnTo>
                            <a:pt x="10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3611520" y="561240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53">
                          <a:moveTo>
                            <a:pt x="115" y="0"/>
                          </a:moveTo>
                          <a:lnTo>
                            <a:pt x="102" y="17"/>
                          </a:lnTo>
                          <a:lnTo>
                            <a:pt x="88" y="34"/>
                          </a:lnTo>
                          <a:lnTo>
                            <a:pt x="74" y="50"/>
                          </a:lnTo>
                          <a:lnTo>
                            <a:pt x="59" y="66"/>
                          </a:lnTo>
                          <a:lnTo>
                            <a:pt x="45" y="82"/>
                          </a:lnTo>
                          <a:lnTo>
                            <a:pt x="30" y="97"/>
                          </a:lnTo>
                          <a:lnTo>
                            <a:pt x="15" y="113"/>
                          </a:lnTo>
                          <a:lnTo>
                            <a:pt x="0" y="128"/>
                          </a:lnTo>
                          <a:lnTo>
                            <a:pt x="105" y="253"/>
                          </a:lnTo>
                          <a:lnTo>
                            <a:pt x="122" y="236"/>
                          </a:lnTo>
                          <a:lnTo>
                            <a:pt x="139" y="218"/>
                          </a:lnTo>
                          <a:lnTo>
                            <a:pt x="155" y="201"/>
                          </a:lnTo>
                          <a:lnTo>
                            <a:pt x="171" y="183"/>
                          </a:lnTo>
                          <a:lnTo>
                            <a:pt x="187" y="166"/>
                          </a:lnTo>
                          <a:lnTo>
                            <a:pt x="203" y="148"/>
                          </a:lnTo>
                          <a:lnTo>
                            <a:pt x="218" y="130"/>
                          </a:lnTo>
                          <a:lnTo>
                            <a:pt x="234" y="111"/>
                          </a:lnTo>
                          <a:lnTo>
                            <a:pt x="1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3608640" y="5614200"/>
                      <a:ext cx="36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252">
                          <a:moveTo>
                            <a:pt x="128" y="0"/>
                          </a:moveTo>
                          <a:lnTo>
                            <a:pt x="112" y="15"/>
                          </a:lnTo>
                          <a:lnTo>
                            <a:pt x="97" y="30"/>
                          </a:lnTo>
                          <a:lnTo>
                            <a:pt x="81" y="45"/>
                          </a:lnTo>
                          <a:lnTo>
                            <a:pt x="65" y="60"/>
                          </a:lnTo>
                          <a:lnTo>
                            <a:pt x="49" y="74"/>
                          </a:lnTo>
                          <a:lnTo>
                            <a:pt x="33" y="88"/>
                          </a:lnTo>
                          <a:lnTo>
                            <a:pt x="17" y="102"/>
                          </a:lnTo>
                          <a:lnTo>
                            <a:pt x="0" y="117"/>
                          </a:lnTo>
                          <a:lnTo>
                            <a:pt x="93" y="252"/>
                          </a:lnTo>
                          <a:lnTo>
                            <a:pt x="111" y="236"/>
                          </a:lnTo>
                          <a:lnTo>
                            <a:pt x="129" y="221"/>
                          </a:lnTo>
                          <a:lnTo>
                            <a:pt x="147" y="206"/>
                          </a:lnTo>
                          <a:lnTo>
                            <a:pt x="165" y="190"/>
                          </a:lnTo>
                          <a:lnTo>
                            <a:pt x="182" y="174"/>
                          </a:lnTo>
                          <a:lnTo>
                            <a:pt x="199" y="158"/>
                          </a:lnTo>
                          <a:lnTo>
                            <a:pt x="216" y="141"/>
                          </a:lnTo>
                          <a:lnTo>
                            <a:pt x="233" y="125"/>
                          </a:lnTo>
                          <a:lnTo>
                            <a:pt x="12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3605400" y="5616000"/>
                      <a:ext cx="5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249">
                          <a:moveTo>
                            <a:pt x="138" y="0"/>
                          </a:moveTo>
                          <a:lnTo>
                            <a:pt x="122" y="13"/>
                          </a:lnTo>
                          <a:lnTo>
                            <a:pt x="105" y="27"/>
                          </a:lnTo>
                          <a:lnTo>
                            <a:pt x="88" y="40"/>
                          </a:lnTo>
                          <a:lnTo>
                            <a:pt x="71" y="53"/>
                          </a:lnTo>
                          <a:lnTo>
                            <a:pt x="53" y="66"/>
                          </a:lnTo>
                          <a:lnTo>
                            <a:pt x="35" y="79"/>
                          </a:lnTo>
                          <a:lnTo>
                            <a:pt x="17" y="91"/>
                          </a:lnTo>
                          <a:lnTo>
                            <a:pt x="0" y="103"/>
                          </a:lnTo>
                          <a:lnTo>
                            <a:pt x="81" y="249"/>
                          </a:lnTo>
                          <a:lnTo>
                            <a:pt x="100" y="236"/>
                          </a:lnTo>
                          <a:lnTo>
                            <a:pt x="119" y="222"/>
                          </a:lnTo>
                          <a:lnTo>
                            <a:pt x="138" y="208"/>
                          </a:lnTo>
                          <a:lnTo>
                            <a:pt x="157" y="194"/>
                          </a:lnTo>
                          <a:lnTo>
                            <a:pt x="176" y="179"/>
                          </a:lnTo>
                          <a:lnTo>
                            <a:pt x="194" y="165"/>
                          </a:lnTo>
                          <a:lnTo>
                            <a:pt x="213" y="150"/>
                          </a:lnTo>
                          <a:lnTo>
                            <a:pt x="231" y="135"/>
                          </a:lnTo>
                          <a:lnTo>
                            <a:pt x="13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3602520" y="5617800"/>
                      <a:ext cx="5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246">
                          <a:moveTo>
                            <a:pt x="149" y="0"/>
                          </a:moveTo>
                          <a:lnTo>
                            <a:pt x="131" y="12"/>
                          </a:lnTo>
                          <a:lnTo>
                            <a:pt x="112" y="24"/>
                          </a:lnTo>
                          <a:lnTo>
                            <a:pt x="94" y="36"/>
                          </a:lnTo>
                          <a:lnTo>
                            <a:pt x="76" y="47"/>
                          </a:lnTo>
                          <a:lnTo>
                            <a:pt x="57" y="58"/>
                          </a:lnTo>
                          <a:lnTo>
                            <a:pt x="38" y="69"/>
                          </a:lnTo>
                          <a:lnTo>
                            <a:pt x="19" y="80"/>
                          </a:lnTo>
                          <a:lnTo>
                            <a:pt x="0" y="91"/>
                          </a:lnTo>
                          <a:lnTo>
                            <a:pt x="67" y="246"/>
                          </a:lnTo>
                          <a:lnTo>
                            <a:pt x="87" y="234"/>
                          </a:lnTo>
                          <a:lnTo>
                            <a:pt x="108" y="222"/>
                          </a:lnTo>
                          <a:lnTo>
                            <a:pt x="128" y="211"/>
                          </a:lnTo>
                          <a:lnTo>
                            <a:pt x="149" y="198"/>
                          </a:lnTo>
                          <a:lnTo>
                            <a:pt x="169" y="186"/>
                          </a:lnTo>
                          <a:lnTo>
                            <a:pt x="189" y="173"/>
                          </a:lnTo>
                          <a:lnTo>
                            <a:pt x="210" y="160"/>
                          </a:lnTo>
                          <a:lnTo>
                            <a:pt x="230" y="146"/>
                          </a:lnTo>
                          <a:lnTo>
                            <a:pt x="14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3600360" y="561924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240">
                          <a:moveTo>
                            <a:pt x="157" y="0"/>
                          </a:moveTo>
                          <a:lnTo>
                            <a:pt x="138" y="10"/>
                          </a:lnTo>
                          <a:lnTo>
                            <a:pt x="119" y="20"/>
                          </a:lnTo>
                          <a:lnTo>
                            <a:pt x="100" y="30"/>
                          </a:lnTo>
                          <a:lnTo>
                            <a:pt x="80" y="40"/>
                          </a:lnTo>
                          <a:lnTo>
                            <a:pt x="61" y="49"/>
                          </a:lnTo>
                          <a:lnTo>
                            <a:pt x="41" y="58"/>
                          </a:lnTo>
                          <a:lnTo>
                            <a:pt x="20" y="67"/>
                          </a:lnTo>
                          <a:lnTo>
                            <a:pt x="0" y="76"/>
                          </a:lnTo>
                          <a:lnTo>
                            <a:pt x="54" y="240"/>
                          </a:lnTo>
                          <a:lnTo>
                            <a:pt x="75" y="230"/>
                          </a:lnTo>
                          <a:lnTo>
                            <a:pt x="97" y="220"/>
                          </a:lnTo>
                          <a:lnTo>
                            <a:pt x="119" y="210"/>
                          </a:lnTo>
                          <a:lnTo>
                            <a:pt x="140" y="200"/>
                          </a:lnTo>
                          <a:lnTo>
                            <a:pt x="161" y="188"/>
                          </a:lnTo>
                          <a:lnTo>
                            <a:pt x="182" y="177"/>
                          </a:lnTo>
                          <a:lnTo>
                            <a:pt x="203" y="166"/>
                          </a:lnTo>
                          <a:lnTo>
                            <a:pt x="224" y="155"/>
                          </a:lnTo>
                          <a:lnTo>
                            <a:pt x="15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3596400" y="5620320"/>
                      <a:ext cx="5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230">
                          <a:moveTo>
                            <a:pt x="165" y="0"/>
                          </a:moveTo>
                          <a:lnTo>
                            <a:pt x="145" y="8"/>
                          </a:lnTo>
                          <a:lnTo>
                            <a:pt x="125" y="16"/>
                          </a:lnTo>
                          <a:lnTo>
                            <a:pt x="104" y="24"/>
                          </a:lnTo>
                          <a:lnTo>
                            <a:pt x="84" y="31"/>
                          </a:lnTo>
                          <a:lnTo>
                            <a:pt x="63" y="39"/>
                          </a:lnTo>
                          <a:lnTo>
                            <a:pt x="42" y="46"/>
                          </a:lnTo>
                          <a:lnTo>
                            <a:pt x="21" y="53"/>
                          </a:lnTo>
                          <a:lnTo>
                            <a:pt x="0" y="60"/>
                          </a:lnTo>
                          <a:lnTo>
                            <a:pt x="39" y="230"/>
                          </a:lnTo>
                          <a:lnTo>
                            <a:pt x="62" y="223"/>
                          </a:lnTo>
                          <a:lnTo>
                            <a:pt x="85" y="215"/>
                          </a:lnTo>
                          <a:lnTo>
                            <a:pt x="107" y="207"/>
                          </a:lnTo>
                          <a:lnTo>
                            <a:pt x="130" y="199"/>
                          </a:lnTo>
                          <a:lnTo>
                            <a:pt x="152" y="191"/>
                          </a:lnTo>
                          <a:lnTo>
                            <a:pt x="174" y="182"/>
                          </a:lnTo>
                          <a:lnTo>
                            <a:pt x="196" y="173"/>
                          </a:lnTo>
                          <a:lnTo>
                            <a:pt x="219" y="164"/>
                          </a:lnTo>
                          <a:lnTo>
                            <a:pt x="16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>
                      <a:off x="3593160" y="562104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" h="219">
                          <a:moveTo>
                            <a:pt x="172" y="0"/>
                          </a:moveTo>
                          <a:lnTo>
                            <a:pt x="151" y="6"/>
                          </a:lnTo>
                          <a:lnTo>
                            <a:pt x="130" y="12"/>
                          </a:lnTo>
                          <a:lnTo>
                            <a:pt x="109" y="18"/>
                          </a:lnTo>
                          <a:lnTo>
                            <a:pt x="87" y="24"/>
                          </a:lnTo>
                          <a:lnTo>
                            <a:pt x="66" y="29"/>
                          </a:lnTo>
                          <a:lnTo>
                            <a:pt x="44" y="34"/>
                          </a:lnTo>
                          <a:lnTo>
                            <a:pt x="22" y="39"/>
                          </a:lnTo>
                          <a:lnTo>
                            <a:pt x="0" y="43"/>
                          </a:lnTo>
                          <a:lnTo>
                            <a:pt x="26" y="219"/>
                          </a:lnTo>
                          <a:lnTo>
                            <a:pt x="50" y="214"/>
                          </a:lnTo>
                          <a:lnTo>
                            <a:pt x="73" y="209"/>
                          </a:lnTo>
                          <a:lnTo>
                            <a:pt x="96" y="203"/>
                          </a:lnTo>
                          <a:lnTo>
                            <a:pt x="119" y="197"/>
                          </a:lnTo>
                          <a:lnTo>
                            <a:pt x="142" y="191"/>
                          </a:lnTo>
                          <a:lnTo>
                            <a:pt x="165" y="185"/>
                          </a:lnTo>
                          <a:lnTo>
                            <a:pt x="188" y="178"/>
                          </a:lnTo>
                          <a:lnTo>
                            <a:pt x="211" y="170"/>
                          </a:lnTo>
                          <a:lnTo>
                            <a:pt x="17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3590280" y="562212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207">
                          <a:moveTo>
                            <a:pt x="179" y="0"/>
                          </a:moveTo>
                          <a:lnTo>
                            <a:pt x="157" y="5"/>
                          </a:lnTo>
                          <a:lnTo>
                            <a:pt x="135" y="9"/>
                          </a:lnTo>
                          <a:lnTo>
                            <a:pt x="112" y="13"/>
                          </a:lnTo>
                          <a:lnTo>
                            <a:pt x="90" y="17"/>
                          </a:lnTo>
                          <a:lnTo>
                            <a:pt x="68" y="21"/>
                          </a:lnTo>
                          <a:lnTo>
                            <a:pt x="45" y="24"/>
                          </a:lnTo>
                          <a:lnTo>
                            <a:pt x="23" y="27"/>
                          </a:lnTo>
                          <a:lnTo>
                            <a:pt x="0" y="29"/>
                          </a:lnTo>
                          <a:lnTo>
                            <a:pt x="13" y="207"/>
                          </a:lnTo>
                          <a:lnTo>
                            <a:pt x="37" y="205"/>
                          </a:lnTo>
                          <a:lnTo>
                            <a:pt x="61" y="201"/>
                          </a:lnTo>
                          <a:lnTo>
                            <a:pt x="85" y="198"/>
                          </a:lnTo>
                          <a:lnTo>
                            <a:pt x="109" y="194"/>
                          </a:lnTo>
                          <a:lnTo>
                            <a:pt x="133" y="190"/>
                          </a:lnTo>
                          <a:lnTo>
                            <a:pt x="157" y="186"/>
                          </a:lnTo>
                          <a:lnTo>
                            <a:pt x="181" y="181"/>
                          </a:lnTo>
                          <a:lnTo>
                            <a:pt x="205" y="176"/>
                          </a:lnTo>
                          <a:lnTo>
                            <a:pt x="17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3586320" y="562212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188">
                          <a:moveTo>
                            <a:pt x="184" y="0"/>
                          </a:moveTo>
                          <a:lnTo>
                            <a:pt x="162" y="2"/>
                          </a:lnTo>
                          <a:lnTo>
                            <a:pt x="139" y="4"/>
                          </a:lnTo>
                          <a:lnTo>
                            <a:pt x="116" y="6"/>
                          </a:lnTo>
                          <a:lnTo>
                            <a:pt x="94" y="7"/>
                          </a:lnTo>
                          <a:lnTo>
                            <a:pt x="70" y="8"/>
                          </a:lnTo>
                          <a:lnTo>
                            <a:pt x="47" y="8"/>
                          </a:lnTo>
                          <a:lnTo>
                            <a:pt x="24" y="9"/>
                          </a:lnTo>
                          <a:lnTo>
                            <a:pt x="1" y="9"/>
                          </a:lnTo>
                          <a:lnTo>
                            <a:pt x="0" y="188"/>
                          </a:lnTo>
                          <a:lnTo>
                            <a:pt x="24" y="188"/>
                          </a:lnTo>
                          <a:lnTo>
                            <a:pt x="49" y="187"/>
                          </a:lnTo>
                          <a:lnTo>
                            <a:pt x="74" y="187"/>
                          </a:lnTo>
                          <a:lnTo>
                            <a:pt x="99" y="186"/>
                          </a:lnTo>
                          <a:lnTo>
                            <a:pt x="124" y="184"/>
                          </a:lnTo>
                          <a:lnTo>
                            <a:pt x="148" y="183"/>
                          </a:lnTo>
                          <a:lnTo>
                            <a:pt x="172" y="181"/>
                          </a:lnTo>
                          <a:lnTo>
                            <a:pt x="197" y="178"/>
                          </a:lnTo>
                          <a:lnTo>
                            <a:pt x="18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3551400" y="5565960"/>
                      <a:ext cx="7020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96" h="3603">
                          <a:moveTo>
                            <a:pt x="1798" y="0"/>
                          </a:moveTo>
                          <a:lnTo>
                            <a:pt x="1705" y="2"/>
                          </a:lnTo>
                          <a:lnTo>
                            <a:pt x="1614" y="9"/>
                          </a:lnTo>
                          <a:lnTo>
                            <a:pt x="1523" y="21"/>
                          </a:lnTo>
                          <a:lnTo>
                            <a:pt x="1435" y="36"/>
                          </a:lnTo>
                          <a:lnTo>
                            <a:pt x="1348" y="56"/>
                          </a:lnTo>
                          <a:lnTo>
                            <a:pt x="1263" y="81"/>
                          </a:lnTo>
                          <a:lnTo>
                            <a:pt x="1179" y="109"/>
                          </a:lnTo>
                          <a:lnTo>
                            <a:pt x="1097" y="141"/>
                          </a:lnTo>
                          <a:lnTo>
                            <a:pt x="1018" y="178"/>
                          </a:lnTo>
                          <a:lnTo>
                            <a:pt x="941" y="217"/>
                          </a:lnTo>
                          <a:lnTo>
                            <a:pt x="865" y="261"/>
                          </a:lnTo>
                          <a:lnTo>
                            <a:pt x="792" y="307"/>
                          </a:lnTo>
                          <a:lnTo>
                            <a:pt x="722" y="357"/>
                          </a:lnTo>
                          <a:lnTo>
                            <a:pt x="654" y="411"/>
                          </a:lnTo>
                          <a:lnTo>
                            <a:pt x="589" y="468"/>
                          </a:lnTo>
                          <a:lnTo>
                            <a:pt x="526" y="527"/>
                          </a:lnTo>
                          <a:lnTo>
                            <a:pt x="466" y="590"/>
                          </a:lnTo>
                          <a:lnTo>
                            <a:pt x="410" y="655"/>
                          </a:lnTo>
                          <a:lnTo>
                            <a:pt x="357" y="723"/>
                          </a:lnTo>
                          <a:lnTo>
                            <a:pt x="307" y="794"/>
                          </a:lnTo>
                          <a:lnTo>
                            <a:pt x="260" y="867"/>
                          </a:lnTo>
                          <a:lnTo>
                            <a:pt x="216" y="942"/>
                          </a:lnTo>
                          <a:lnTo>
                            <a:pt x="176" y="1021"/>
                          </a:lnTo>
                          <a:lnTo>
                            <a:pt x="140" y="1100"/>
                          </a:lnTo>
                          <a:lnTo>
                            <a:pt x="108" y="1182"/>
                          </a:lnTo>
                          <a:lnTo>
                            <a:pt x="80" y="1266"/>
                          </a:lnTo>
                          <a:lnTo>
                            <a:pt x="56" y="1351"/>
                          </a:lnTo>
                          <a:lnTo>
                            <a:pt x="36" y="1438"/>
                          </a:lnTo>
                          <a:lnTo>
                            <a:pt x="20" y="1527"/>
                          </a:lnTo>
                          <a:lnTo>
                            <a:pt x="9" y="1618"/>
                          </a:lnTo>
                          <a:lnTo>
                            <a:pt x="2" y="1709"/>
                          </a:lnTo>
                          <a:lnTo>
                            <a:pt x="0" y="1802"/>
                          </a:lnTo>
                          <a:lnTo>
                            <a:pt x="2" y="1894"/>
                          </a:lnTo>
                          <a:lnTo>
                            <a:pt x="9" y="1986"/>
                          </a:lnTo>
                          <a:lnTo>
                            <a:pt x="20" y="2076"/>
                          </a:lnTo>
                          <a:lnTo>
                            <a:pt x="36" y="2164"/>
                          </a:lnTo>
                          <a:lnTo>
                            <a:pt x="56" y="2252"/>
                          </a:lnTo>
                          <a:lnTo>
                            <a:pt x="80" y="2337"/>
                          </a:lnTo>
                          <a:lnTo>
                            <a:pt x="108" y="2421"/>
                          </a:lnTo>
                          <a:lnTo>
                            <a:pt x="140" y="2502"/>
                          </a:lnTo>
                          <a:lnTo>
                            <a:pt x="176" y="2583"/>
                          </a:lnTo>
                          <a:lnTo>
                            <a:pt x="216" y="2660"/>
                          </a:lnTo>
                          <a:lnTo>
                            <a:pt x="260" y="2735"/>
                          </a:lnTo>
                          <a:lnTo>
                            <a:pt x="307" y="2809"/>
                          </a:lnTo>
                          <a:lnTo>
                            <a:pt x="357" y="2879"/>
                          </a:lnTo>
                          <a:lnTo>
                            <a:pt x="410" y="2947"/>
                          </a:lnTo>
                          <a:lnTo>
                            <a:pt x="466" y="3013"/>
                          </a:lnTo>
                          <a:lnTo>
                            <a:pt x="526" y="3075"/>
                          </a:lnTo>
                          <a:lnTo>
                            <a:pt x="589" y="3134"/>
                          </a:lnTo>
                          <a:lnTo>
                            <a:pt x="654" y="3192"/>
                          </a:lnTo>
                          <a:lnTo>
                            <a:pt x="722" y="3245"/>
                          </a:lnTo>
                          <a:lnTo>
                            <a:pt x="792" y="3295"/>
                          </a:lnTo>
                          <a:lnTo>
                            <a:pt x="865" y="3342"/>
                          </a:lnTo>
                          <a:lnTo>
                            <a:pt x="941" y="3386"/>
                          </a:lnTo>
                          <a:lnTo>
                            <a:pt x="1018" y="3425"/>
                          </a:lnTo>
                          <a:lnTo>
                            <a:pt x="1097" y="3461"/>
                          </a:lnTo>
                          <a:lnTo>
                            <a:pt x="1179" y="3493"/>
                          </a:lnTo>
                          <a:lnTo>
                            <a:pt x="1263" y="3521"/>
                          </a:lnTo>
                          <a:lnTo>
                            <a:pt x="1348" y="3546"/>
                          </a:lnTo>
                          <a:lnTo>
                            <a:pt x="1435" y="3565"/>
                          </a:lnTo>
                          <a:lnTo>
                            <a:pt x="1523" y="3581"/>
                          </a:lnTo>
                          <a:lnTo>
                            <a:pt x="1614" y="3594"/>
                          </a:lnTo>
                          <a:lnTo>
                            <a:pt x="1705" y="3601"/>
                          </a:lnTo>
                          <a:lnTo>
                            <a:pt x="1798" y="3603"/>
                          </a:lnTo>
                          <a:lnTo>
                            <a:pt x="1891" y="3601"/>
                          </a:lnTo>
                          <a:lnTo>
                            <a:pt x="1982" y="3594"/>
                          </a:lnTo>
                          <a:lnTo>
                            <a:pt x="2071" y="3581"/>
                          </a:lnTo>
                          <a:lnTo>
                            <a:pt x="2160" y="3565"/>
                          </a:lnTo>
                          <a:lnTo>
                            <a:pt x="2247" y="3546"/>
                          </a:lnTo>
                          <a:lnTo>
                            <a:pt x="2332" y="3521"/>
                          </a:lnTo>
                          <a:lnTo>
                            <a:pt x="2416" y="3493"/>
                          </a:lnTo>
                          <a:lnTo>
                            <a:pt x="2497" y="3461"/>
                          </a:lnTo>
                          <a:lnTo>
                            <a:pt x="2577" y="3425"/>
                          </a:lnTo>
                          <a:lnTo>
                            <a:pt x="2655" y="3386"/>
                          </a:lnTo>
                          <a:lnTo>
                            <a:pt x="2730" y="3342"/>
                          </a:lnTo>
                          <a:lnTo>
                            <a:pt x="2802" y="3295"/>
                          </a:lnTo>
                          <a:lnTo>
                            <a:pt x="2874" y="3245"/>
                          </a:lnTo>
                          <a:lnTo>
                            <a:pt x="2941" y="3192"/>
                          </a:lnTo>
                          <a:lnTo>
                            <a:pt x="3006" y="3134"/>
                          </a:lnTo>
                          <a:lnTo>
                            <a:pt x="3069" y="3075"/>
                          </a:lnTo>
                          <a:lnTo>
                            <a:pt x="3128" y="3013"/>
                          </a:lnTo>
                          <a:lnTo>
                            <a:pt x="3184" y="2947"/>
                          </a:lnTo>
                          <a:lnTo>
                            <a:pt x="3238" y="2879"/>
                          </a:lnTo>
                          <a:lnTo>
                            <a:pt x="3288" y="2809"/>
                          </a:lnTo>
                          <a:lnTo>
                            <a:pt x="3335" y="2735"/>
                          </a:lnTo>
                          <a:lnTo>
                            <a:pt x="3378" y="2660"/>
                          </a:lnTo>
                          <a:lnTo>
                            <a:pt x="3418" y="2583"/>
                          </a:lnTo>
                          <a:lnTo>
                            <a:pt x="3454" y="2502"/>
                          </a:lnTo>
                          <a:lnTo>
                            <a:pt x="3486" y="2421"/>
                          </a:lnTo>
                          <a:lnTo>
                            <a:pt x="3515" y="2337"/>
                          </a:lnTo>
                          <a:lnTo>
                            <a:pt x="3539" y="2252"/>
                          </a:lnTo>
                          <a:lnTo>
                            <a:pt x="3559" y="2164"/>
                          </a:lnTo>
                          <a:lnTo>
                            <a:pt x="3575" y="2076"/>
                          </a:lnTo>
                          <a:lnTo>
                            <a:pt x="3586" y="1986"/>
                          </a:lnTo>
                          <a:lnTo>
                            <a:pt x="3593" y="1894"/>
                          </a:lnTo>
                          <a:lnTo>
                            <a:pt x="3596" y="1802"/>
                          </a:lnTo>
                          <a:lnTo>
                            <a:pt x="3593" y="1709"/>
                          </a:lnTo>
                          <a:lnTo>
                            <a:pt x="3586" y="1618"/>
                          </a:lnTo>
                          <a:lnTo>
                            <a:pt x="3575" y="1527"/>
                          </a:lnTo>
                          <a:lnTo>
                            <a:pt x="3559" y="1438"/>
                          </a:lnTo>
                          <a:lnTo>
                            <a:pt x="3539" y="1351"/>
                          </a:lnTo>
                          <a:lnTo>
                            <a:pt x="3515" y="1266"/>
                          </a:lnTo>
                          <a:lnTo>
                            <a:pt x="3486" y="1182"/>
                          </a:lnTo>
                          <a:lnTo>
                            <a:pt x="3454" y="1100"/>
                          </a:lnTo>
                          <a:lnTo>
                            <a:pt x="3418" y="1021"/>
                          </a:lnTo>
                          <a:lnTo>
                            <a:pt x="3378" y="942"/>
                          </a:lnTo>
                          <a:lnTo>
                            <a:pt x="3335" y="867"/>
                          </a:lnTo>
                          <a:lnTo>
                            <a:pt x="3288" y="794"/>
                          </a:lnTo>
                          <a:lnTo>
                            <a:pt x="3238" y="723"/>
                          </a:lnTo>
                          <a:lnTo>
                            <a:pt x="3184" y="655"/>
                          </a:lnTo>
                          <a:lnTo>
                            <a:pt x="3128" y="590"/>
                          </a:lnTo>
                          <a:lnTo>
                            <a:pt x="3069" y="527"/>
                          </a:lnTo>
                          <a:lnTo>
                            <a:pt x="3006" y="468"/>
                          </a:lnTo>
                          <a:lnTo>
                            <a:pt x="2941" y="411"/>
                          </a:lnTo>
                          <a:lnTo>
                            <a:pt x="2874" y="357"/>
                          </a:lnTo>
                          <a:lnTo>
                            <a:pt x="2802" y="307"/>
                          </a:lnTo>
                          <a:lnTo>
                            <a:pt x="2730" y="261"/>
                          </a:lnTo>
                          <a:lnTo>
                            <a:pt x="2655" y="217"/>
                          </a:lnTo>
                          <a:lnTo>
                            <a:pt x="2577" y="178"/>
                          </a:lnTo>
                          <a:lnTo>
                            <a:pt x="2497" y="141"/>
                          </a:lnTo>
                          <a:lnTo>
                            <a:pt x="2416" y="109"/>
                          </a:lnTo>
                          <a:lnTo>
                            <a:pt x="2332" y="81"/>
                          </a:lnTo>
                          <a:lnTo>
                            <a:pt x="2247" y="56"/>
                          </a:lnTo>
                          <a:lnTo>
                            <a:pt x="2160" y="36"/>
                          </a:lnTo>
                          <a:lnTo>
                            <a:pt x="2071" y="21"/>
                          </a:lnTo>
                          <a:lnTo>
                            <a:pt x="1982" y="9"/>
                          </a:lnTo>
                          <a:lnTo>
                            <a:pt x="1891" y="2"/>
                          </a:lnTo>
                          <a:lnTo>
                            <a:pt x="1798" y="0"/>
                          </a:lnTo>
                          <a:close/>
                        </a:path>
                      </a:pathLst>
                    </a:custGeom>
                    <a:solidFill>
                      <a:srgbClr val="cc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3477240" y="563076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134">
                          <a:moveTo>
                            <a:pt x="241" y="134"/>
                          </a:moveTo>
                          <a:lnTo>
                            <a:pt x="0" y="134"/>
                          </a:lnTo>
                          <a:lnTo>
                            <a:pt x="127" y="0"/>
                          </a:lnTo>
                          <a:lnTo>
                            <a:pt x="241" y="134"/>
                          </a:lnTo>
                          <a:close/>
                        </a:path>
                      </a:pathLst>
                    </a:cu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3531960" y="563076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134">
                          <a:moveTo>
                            <a:pt x="240" y="134"/>
                          </a:moveTo>
                          <a:lnTo>
                            <a:pt x="0" y="134"/>
                          </a:lnTo>
                          <a:lnTo>
                            <a:pt x="117" y="0"/>
                          </a:lnTo>
                          <a:lnTo>
                            <a:pt x="240" y="134"/>
                          </a:lnTo>
                          <a:close/>
                        </a:path>
                      </a:pathLst>
                    </a:cu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3587040" y="560448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3" h="373">
                          <a:moveTo>
                            <a:pt x="106" y="373"/>
                          </a:moveTo>
                          <a:lnTo>
                            <a:pt x="105" y="355"/>
                          </a:lnTo>
                          <a:lnTo>
                            <a:pt x="104" y="337"/>
                          </a:lnTo>
                          <a:lnTo>
                            <a:pt x="101" y="318"/>
                          </a:lnTo>
                          <a:lnTo>
                            <a:pt x="98" y="300"/>
                          </a:lnTo>
                          <a:lnTo>
                            <a:pt x="94" y="283"/>
                          </a:lnTo>
                          <a:lnTo>
                            <a:pt x="89" y="266"/>
                          </a:lnTo>
                          <a:lnTo>
                            <a:pt x="84" y="249"/>
                          </a:lnTo>
                          <a:lnTo>
                            <a:pt x="78" y="233"/>
                          </a:lnTo>
                          <a:lnTo>
                            <a:pt x="70" y="217"/>
                          </a:lnTo>
                          <a:lnTo>
                            <a:pt x="63" y="202"/>
                          </a:lnTo>
                          <a:lnTo>
                            <a:pt x="54" y="187"/>
                          </a:lnTo>
                          <a:lnTo>
                            <a:pt x="44" y="172"/>
                          </a:lnTo>
                          <a:lnTo>
                            <a:pt x="34" y="158"/>
                          </a:lnTo>
                          <a:lnTo>
                            <a:pt x="23" y="145"/>
                          </a:lnTo>
                          <a:lnTo>
                            <a:pt x="12" y="132"/>
                          </a:lnTo>
                          <a:lnTo>
                            <a:pt x="0" y="118"/>
                          </a:lnTo>
                          <a:lnTo>
                            <a:pt x="101" y="0"/>
                          </a:lnTo>
                          <a:lnTo>
                            <a:pt x="119" y="19"/>
                          </a:lnTo>
                          <a:lnTo>
                            <a:pt x="136" y="38"/>
                          </a:lnTo>
                          <a:lnTo>
                            <a:pt x="152" y="58"/>
                          </a:lnTo>
                          <a:lnTo>
                            <a:pt x="167" y="79"/>
                          </a:lnTo>
                          <a:lnTo>
                            <a:pt x="182" y="100"/>
                          </a:lnTo>
                          <a:lnTo>
                            <a:pt x="195" y="123"/>
                          </a:lnTo>
                          <a:lnTo>
                            <a:pt x="207" y="146"/>
                          </a:lnTo>
                          <a:lnTo>
                            <a:pt x="218" y="169"/>
                          </a:lnTo>
                          <a:lnTo>
                            <a:pt x="228" y="192"/>
                          </a:lnTo>
                          <a:lnTo>
                            <a:pt x="237" y="216"/>
                          </a:lnTo>
                          <a:lnTo>
                            <a:pt x="245" y="240"/>
                          </a:lnTo>
                          <a:lnTo>
                            <a:pt x="251" y="264"/>
                          </a:lnTo>
                          <a:lnTo>
                            <a:pt x="256" y="289"/>
                          </a:lnTo>
                          <a:lnTo>
                            <a:pt x="260" y="313"/>
                          </a:lnTo>
                          <a:lnTo>
                            <a:pt x="262" y="339"/>
                          </a:lnTo>
                          <a:lnTo>
                            <a:pt x="263" y="364"/>
                          </a:lnTo>
                          <a:lnTo>
                            <a:pt x="106" y="3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3582000" y="5601960"/>
                      <a:ext cx="68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81">
                          <a:moveTo>
                            <a:pt x="262" y="281"/>
                          </a:moveTo>
                          <a:lnTo>
                            <a:pt x="250" y="269"/>
                          </a:lnTo>
                          <a:lnTo>
                            <a:pt x="237" y="258"/>
                          </a:lnTo>
                          <a:lnTo>
                            <a:pt x="223" y="247"/>
                          </a:lnTo>
                          <a:lnTo>
                            <a:pt x="209" y="237"/>
                          </a:lnTo>
                          <a:lnTo>
                            <a:pt x="194" y="228"/>
                          </a:lnTo>
                          <a:lnTo>
                            <a:pt x="179" y="219"/>
                          </a:lnTo>
                          <a:lnTo>
                            <a:pt x="164" y="211"/>
                          </a:lnTo>
                          <a:lnTo>
                            <a:pt x="148" y="204"/>
                          </a:lnTo>
                          <a:lnTo>
                            <a:pt x="132" y="198"/>
                          </a:lnTo>
                          <a:lnTo>
                            <a:pt x="115" y="192"/>
                          </a:lnTo>
                          <a:lnTo>
                            <a:pt x="98" y="187"/>
                          </a:lnTo>
                          <a:lnTo>
                            <a:pt x="81" y="183"/>
                          </a:lnTo>
                          <a:lnTo>
                            <a:pt x="63" y="180"/>
                          </a:lnTo>
                          <a:lnTo>
                            <a:pt x="45" y="178"/>
                          </a:lnTo>
                          <a:lnTo>
                            <a:pt x="27" y="176"/>
                          </a:lnTo>
                          <a:lnTo>
                            <a:pt x="9" y="176"/>
                          </a:lnTo>
                          <a:lnTo>
                            <a:pt x="0" y="0"/>
                          </a:lnTo>
                          <a:lnTo>
                            <a:pt x="25" y="1"/>
                          </a:lnTo>
                          <a:lnTo>
                            <a:pt x="50" y="3"/>
                          </a:lnTo>
                          <a:lnTo>
                            <a:pt x="74" y="7"/>
                          </a:lnTo>
                          <a:lnTo>
                            <a:pt x="99" y="12"/>
                          </a:lnTo>
                          <a:lnTo>
                            <a:pt x="123" y="18"/>
                          </a:lnTo>
                          <a:lnTo>
                            <a:pt x="147" y="26"/>
                          </a:lnTo>
                          <a:lnTo>
                            <a:pt x="171" y="34"/>
                          </a:lnTo>
                          <a:lnTo>
                            <a:pt x="194" y="44"/>
                          </a:lnTo>
                          <a:lnTo>
                            <a:pt x="217" y="56"/>
                          </a:lnTo>
                          <a:lnTo>
                            <a:pt x="239" y="68"/>
                          </a:lnTo>
                          <a:lnTo>
                            <a:pt x="261" y="81"/>
                          </a:lnTo>
                          <a:lnTo>
                            <a:pt x="283" y="96"/>
                          </a:lnTo>
                          <a:lnTo>
                            <a:pt x="303" y="112"/>
                          </a:lnTo>
                          <a:lnTo>
                            <a:pt x="325" y="128"/>
                          </a:lnTo>
                          <a:lnTo>
                            <a:pt x="344" y="145"/>
                          </a:lnTo>
                          <a:lnTo>
                            <a:pt x="363" y="163"/>
                          </a:lnTo>
                          <a:lnTo>
                            <a:pt x="262" y="281"/>
                          </a:lnTo>
                          <a:close/>
                        </a:path>
                      </a:pathLst>
                    </a:custGeom>
                    <a:solidFill>
                      <a:srgbClr val="d4d4d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3477960" y="5587920"/>
                      <a:ext cx="288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1445">
                          <a:moveTo>
                            <a:pt x="162" y="6"/>
                          </a:moveTo>
                          <a:lnTo>
                            <a:pt x="162" y="1445"/>
                          </a:lnTo>
                          <a:lnTo>
                            <a:pt x="0" y="1436"/>
                          </a:lnTo>
                          <a:lnTo>
                            <a:pt x="0" y="0"/>
                          </a:lnTo>
                          <a:lnTo>
                            <a:pt x="162" y="6"/>
                          </a:lnTo>
                          <a:close/>
                        </a:path>
                      </a:pathLst>
                    </a:custGeom>
                    <a:solidFill>
                      <a:srgbClr val="f6f6f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3477960" y="5582520"/>
                      <a:ext cx="50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6" h="370">
                          <a:moveTo>
                            <a:pt x="162" y="370"/>
                          </a:moveTo>
                          <a:lnTo>
                            <a:pt x="162" y="350"/>
                          </a:lnTo>
                          <a:lnTo>
                            <a:pt x="164" y="332"/>
                          </a:lnTo>
                          <a:lnTo>
                            <a:pt x="166" y="314"/>
                          </a:lnTo>
                          <a:lnTo>
                            <a:pt x="169" y="296"/>
                          </a:lnTo>
                          <a:lnTo>
                            <a:pt x="173" y="279"/>
                          </a:lnTo>
                          <a:lnTo>
                            <a:pt x="178" y="262"/>
                          </a:lnTo>
                          <a:lnTo>
                            <a:pt x="183" y="245"/>
                          </a:lnTo>
                          <a:lnTo>
                            <a:pt x="190" y="229"/>
                          </a:lnTo>
                          <a:lnTo>
                            <a:pt x="197" y="213"/>
                          </a:lnTo>
                          <a:lnTo>
                            <a:pt x="205" y="198"/>
                          </a:lnTo>
                          <a:lnTo>
                            <a:pt x="213" y="183"/>
                          </a:lnTo>
                          <a:lnTo>
                            <a:pt x="223" y="169"/>
                          </a:lnTo>
                          <a:lnTo>
                            <a:pt x="232" y="155"/>
                          </a:lnTo>
                          <a:lnTo>
                            <a:pt x="243" y="140"/>
                          </a:lnTo>
                          <a:lnTo>
                            <a:pt x="254" y="127"/>
                          </a:lnTo>
                          <a:lnTo>
                            <a:pt x="266" y="114"/>
                          </a:lnTo>
                          <a:lnTo>
                            <a:pt x="163" y="0"/>
                          </a:lnTo>
                          <a:lnTo>
                            <a:pt x="145" y="19"/>
                          </a:lnTo>
                          <a:lnTo>
                            <a:pt x="128" y="38"/>
                          </a:lnTo>
                          <a:lnTo>
                            <a:pt x="112" y="58"/>
                          </a:lnTo>
                          <a:lnTo>
                            <a:pt x="96" y="79"/>
                          </a:lnTo>
                          <a:lnTo>
                            <a:pt x="82" y="100"/>
                          </a:lnTo>
                          <a:lnTo>
                            <a:pt x="69" y="122"/>
                          </a:lnTo>
                          <a:lnTo>
                            <a:pt x="56" y="145"/>
                          </a:lnTo>
                          <a:lnTo>
                            <a:pt x="45" y="169"/>
                          </a:lnTo>
                          <a:lnTo>
                            <a:pt x="34" y="192"/>
                          </a:lnTo>
                          <a:lnTo>
                            <a:pt x="25" y="216"/>
                          </a:lnTo>
                          <a:lnTo>
                            <a:pt x="18" y="240"/>
                          </a:lnTo>
                          <a:lnTo>
                            <a:pt x="11" y="264"/>
                          </a:lnTo>
                          <a:lnTo>
                            <a:pt x="6" y="289"/>
                          </a:lnTo>
                          <a:lnTo>
                            <a:pt x="3" y="313"/>
                          </a:lnTo>
                          <a:lnTo>
                            <a:pt x="0" y="338"/>
                          </a:lnTo>
                          <a:lnTo>
                            <a:pt x="0" y="364"/>
                          </a:lnTo>
                          <a:lnTo>
                            <a:pt x="162" y="370"/>
                          </a:lnTo>
                          <a:close/>
                        </a:path>
                      </a:pathLst>
                    </a:custGeom>
                    <a:solidFill>
                      <a:srgbClr val="fdfd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3558600" y="5582520"/>
                      <a:ext cx="57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6" h="370">
                          <a:moveTo>
                            <a:pt x="104" y="370"/>
                          </a:moveTo>
                          <a:lnTo>
                            <a:pt x="103" y="350"/>
                          </a:lnTo>
                          <a:lnTo>
                            <a:pt x="102" y="332"/>
                          </a:lnTo>
                          <a:lnTo>
                            <a:pt x="100" y="314"/>
                          </a:lnTo>
                          <a:lnTo>
                            <a:pt x="97" y="296"/>
                          </a:lnTo>
                          <a:lnTo>
                            <a:pt x="93" y="279"/>
                          </a:lnTo>
                          <a:lnTo>
                            <a:pt x="88" y="262"/>
                          </a:lnTo>
                          <a:lnTo>
                            <a:pt x="82" y="245"/>
                          </a:lnTo>
                          <a:lnTo>
                            <a:pt x="76" y="229"/>
                          </a:lnTo>
                          <a:lnTo>
                            <a:pt x="69" y="213"/>
                          </a:lnTo>
                          <a:lnTo>
                            <a:pt x="61" y="198"/>
                          </a:lnTo>
                          <a:lnTo>
                            <a:pt x="52" y="183"/>
                          </a:lnTo>
                          <a:lnTo>
                            <a:pt x="43" y="169"/>
                          </a:lnTo>
                          <a:lnTo>
                            <a:pt x="33" y="155"/>
                          </a:lnTo>
                          <a:lnTo>
                            <a:pt x="23" y="140"/>
                          </a:lnTo>
                          <a:lnTo>
                            <a:pt x="11" y="127"/>
                          </a:lnTo>
                          <a:lnTo>
                            <a:pt x="0" y="114"/>
                          </a:lnTo>
                          <a:lnTo>
                            <a:pt x="103" y="0"/>
                          </a:lnTo>
                          <a:lnTo>
                            <a:pt x="121" y="19"/>
                          </a:lnTo>
                          <a:lnTo>
                            <a:pt x="138" y="38"/>
                          </a:lnTo>
                          <a:lnTo>
                            <a:pt x="154" y="58"/>
                          </a:lnTo>
                          <a:lnTo>
                            <a:pt x="170" y="79"/>
                          </a:lnTo>
                          <a:lnTo>
                            <a:pt x="185" y="100"/>
                          </a:lnTo>
                          <a:lnTo>
                            <a:pt x="198" y="122"/>
                          </a:lnTo>
                          <a:lnTo>
                            <a:pt x="211" y="145"/>
                          </a:lnTo>
                          <a:lnTo>
                            <a:pt x="222" y="169"/>
                          </a:lnTo>
                          <a:lnTo>
                            <a:pt x="232" y="192"/>
                          </a:lnTo>
                          <a:lnTo>
                            <a:pt x="241" y="216"/>
                          </a:lnTo>
                          <a:lnTo>
                            <a:pt x="248" y="240"/>
                          </a:lnTo>
                          <a:lnTo>
                            <a:pt x="255" y="264"/>
                          </a:lnTo>
                          <a:lnTo>
                            <a:pt x="259" y="289"/>
                          </a:lnTo>
                          <a:lnTo>
                            <a:pt x="263" y="313"/>
                          </a:lnTo>
                          <a:lnTo>
                            <a:pt x="265" y="338"/>
                          </a:lnTo>
                          <a:lnTo>
                            <a:pt x="266" y="364"/>
                          </a:lnTo>
                          <a:lnTo>
                            <a:pt x="104" y="37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3497400" y="5580000"/>
                      <a:ext cx="68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8" h="277">
                          <a:moveTo>
                            <a:pt x="254" y="277"/>
                          </a:moveTo>
                          <a:lnTo>
                            <a:pt x="242" y="266"/>
                          </a:lnTo>
                          <a:lnTo>
                            <a:pt x="229" y="254"/>
                          </a:lnTo>
                          <a:lnTo>
                            <a:pt x="215" y="244"/>
                          </a:lnTo>
                          <a:lnTo>
                            <a:pt x="201" y="234"/>
                          </a:lnTo>
                          <a:lnTo>
                            <a:pt x="187" y="224"/>
                          </a:lnTo>
                          <a:lnTo>
                            <a:pt x="172" y="216"/>
                          </a:lnTo>
                          <a:lnTo>
                            <a:pt x="157" y="208"/>
                          </a:lnTo>
                          <a:lnTo>
                            <a:pt x="141" y="201"/>
                          </a:lnTo>
                          <a:lnTo>
                            <a:pt x="125" y="194"/>
                          </a:lnTo>
                          <a:lnTo>
                            <a:pt x="108" y="188"/>
                          </a:lnTo>
                          <a:lnTo>
                            <a:pt x="91" y="184"/>
                          </a:lnTo>
                          <a:lnTo>
                            <a:pt x="74" y="180"/>
                          </a:lnTo>
                          <a:lnTo>
                            <a:pt x="56" y="176"/>
                          </a:lnTo>
                          <a:lnTo>
                            <a:pt x="38" y="174"/>
                          </a:lnTo>
                          <a:lnTo>
                            <a:pt x="19" y="173"/>
                          </a:lnTo>
                          <a:lnTo>
                            <a:pt x="0" y="172"/>
                          </a:lnTo>
                          <a:lnTo>
                            <a:pt x="4" y="0"/>
                          </a:lnTo>
                          <a:lnTo>
                            <a:pt x="30" y="1"/>
                          </a:lnTo>
                          <a:lnTo>
                            <a:pt x="55" y="3"/>
                          </a:lnTo>
                          <a:lnTo>
                            <a:pt x="79" y="7"/>
                          </a:lnTo>
                          <a:lnTo>
                            <a:pt x="104" y="12"/>
                          </a:lnTo>
                          <a:lnTo>
                            <a:pt x="128" y="18"/>
                          </a:lnTo>
                          <a:lnTo>
                            <a:pt x="152" y="26"/>
                          </a:lnTo>
                          <a:lnTo>
                            <a:pt x="176" y="35"/>
                          </a:lnTo>
                          <a:lnTo>
                            <a:pt x="199" y="45"/>
                          </a:lnTo>
                          <a:lnTo>
                            <a:pt x="222" y="56"/>
                          </a:lnTo>
                          <a:lnTo>
                            <a:pt x="244" y="68"/>
                          </a:lnTo>
                          <a:lnTo>
                            <a:pt x="266" y="82"/>
                          </a:lnTo>
                          <a:lnTo>
                            <a:pt x="288" y="96"/>
                          </a:lnTo>
                          <a:lnTo>
                            <a:pt x="308" y="111"/>
                          </a:lnTo>
                          <a:lnTo>
                            <a:pt x="329" y="128"/>
                          </a:lnTo>
                          <a:lnTo>
                            <a:pt x="348" y="145"/>
                          </a:lnTo>
                          <a:lnTo>
                            <a:pt x="368" y="163"/>
                          </a:lnTo>
                          <a:lnTo>
                            <a:pt x="254" y="277"/>
                          </a:lnTo>
                          <a:close/>
                        </a:path>
                      </a:pathLst>
                    </a:custGeom>
                    <a:solidFill>
                      <a:srgbClr val="d5d5d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3525840" y="5580000"/>
                      <a:ext cx="61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7">
                          <a:moveTo>
                            <a:pt x="255" y="277"/>
                          </a:moveTo>
                          <a:lnTo>
                            <a:pt x="243" y="266"/>
                          </a:lnTo>
                          <a:lnTo>
                            <a:pt x="230" y="254"/>
                          </a:lnTo>
                          <a:lnTo>
                            <a:pt x="215" y="244"/>
                          </a:lnTo>
                          <a:lnTo>
                            <a:pt x="201" y="234"/>
                          </a:lnTo>
                          <a:lnTo>
                            <a:pt x="186" y="224"/>
                          </a:lnTo>
                          <a:lnTo>
                            <a:pt x="172" y="216"/>
                          </a:lnTo>
                          <a:lnTo>
                            <a:pt x="156" y="208"/>
                          </a:lnTo>
                          <a:lnTo>
                            <a:pt x="140" y="201"/>
                          </a:lnTo>
                          <a:lnTo>
                            <a:pt x="124" y="194"/>
                          </a:lnTo>
                          <a:lnTo>
                            <a:pt x="107" y="188"/>
                          </a:lnTo>
                          <a:lnTo>
                            <a:pt x="90" y="184"/>
                          </a:lnTo>
                          <a:lnTo>
                            <a:pt x="73" y="180"/>
                          </a:lnTo>
                          <a:lnTo>
                            <a:pt x="56" y="176"/>
                          </a:lnTo>
                          <a:lnTo>
                            <a:pt x="38" y="174"/>
                          </a:lnTo>
                          <a:lnTo>
                            <a:pt x="19" y="173"/>
                          </a:lnTo>
                          <a:lnTo>
                            <a:pt x="1" y="172"/>
                          </a:lnTo>
                          <a:lnTo>
                            <a:pt x="0" y="0"/>
                          </a:lnTo>
                          <a:lnTo>
                            <a:pt x="25" y="1"/>
                          </a:lnTo>
                          <a:lnTo>
                            <a:pt x="50" y="3"/>
                          </a:lnTo>
                          <a:lnTo>
                            <a:pt x="75" y="7"/>
                          </a:lnTo>
                          <a:lnTo>
                            <a:pt x="99" y="12"/>
                          </a:lnTo>
                          <a:lnTo>
                            <a:pt x="123" y="18"/>
                          </a:lnTo>
                          <a:lnTo>
                            <a:pt x="147" y="26"/>
                          </a:lnTo>
                          <a:lnTo>
                            <a:pt x="171" y="35"/>
                          </a:lnTo>
                          <a:lnTo>
                            <a:pt x="195" y="45"/>
                          </a:lnTo>
                          <a:lnTo>
                            <a:pt x="217" y="56"/>
                          </a:lnTo>
                          <a:lnTo>
                            <a:pt x="241" y="68"/>
                          </a:lnTo>
                          <a:lnTo>
                            <a:pt x="263" y="82"/>
                          </a:lnTo>
                          <a:lnTo>
                            <a:pt x="284" y="96"/>
                          </a:lnTo>
                          <a:lnTo>
                            <a:pt x="305" y="111"/>
                          </a:lnTo>
                          <a:lnTo>
                            <a:pt x="325" y="128"/>
                          </a:lnTo>
                          <a:lnTo>
                            <a:pt x="344" y="145"/>
                          </a:lnTo>
                          <a:lnTo>
                            <a:pt x="363" y="163"/>
                          </a:lnTo>
                          <a:lnTo>
                            <a:pt x="255" y="277"/>
                          </a:lnTo>
                          <a:close/>
                        </a:path>
                      </a:pathLst>
                    </a:custGeom>
                    <a:solidFill>
                      <a:srgbClr val="d4d4d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87" name=""/>
                    <p:cNvGrpSpPr/>
                    <p:nvPr/>
                  </p:nvGrpSpPr>
                  <p:grpSpPr>
                    <a:xfrm>
                      <a:off x="3726720" y="5486400"/>
                      <a:ext cx="78120" cy="75240"/>
                      <a:chOff x="3726720" y="5486400"/>
                      <a:chExt cx="78120" cy="75240"/>
                    </a:xfrm>
                  </p:grpSpPr>
                  <p:sp>
                    <p:nvSpPr>
                      <p:cNvPr id="988" name=""/>
                      <p:cNvSpPr/>
                      <p:nvPr/>
                    </p:nvSpPr>
                    <p:spPr>
                      <a:xfrm>
                        <a:off x="3726720" y="5490000"/>
                        <a:ext cx="77040" cy="6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8" h="640">
                            <a:moveTo>
                              <a:pt x="586" y="258"/>
                            </a:moveTo>
                            <a:lnTo>
                              <a:pt x="587" y="254"/>
                            </a:lnTo>
                            <a:lnTo>
                              <a:pt x="588" y="243"/>
                            </a:lnTo>
                            <a:lnTo>
                              <a:pt x="588" y="226"/>
                            </a:lnTo>
                            <a:lnTo>
                              <a:pt x="584" y="204"/>
                            </a:lnTo>
                            <a:lnTo>
                              <a:pt x="576" y="180"/>
                            </a:lnTo>
                            <a:lnTo>
                              <a:pt x="560" y="154"/>
                            </a:lnTo>
                            <a:lnTo>
                              <a:pt x="534" y="130"/>
                            </a:lnTo>
                            <a:lnTo>
                              <a:pt x="496" y="106"/>
                            </a:lnTo>
                            <a:lnTo>
                              <a:pt x="493" y="105"/>
                            </a:lnTo>
                            <a:lnTo>
                              <a:pt x="483" y="99"/>
                            </a:lnTo>
                            <a:lnTo>
                              <a:pt x="468" y="90"/>
                            </a:lnTo>
                            <a:lnTo>
                              <a:pt x="452" y="79"/>
                            </a:lnTo>
                            <a:lnTo>
                              <a:pt x="435" y="63"/>
                            </a:lnTo>
                            <a:lnTo>
                              <a:pt x="419" y="45"/>
                            </a:lnTo>
                            <a:lnTo>
                              <a:pt x="406" y="23"/>
                            </a:lnTo>
                            <a:lnTo>
                              <a:pt x="399" y="0"/>
                            </a:lnTo>
                            <a:lnTo>
                              <a:pt x="393" y="11"/>
                            </a:lnTo>
                            <a:lnTo>
                              <a:pt x="379" y="42"/>
                            </a:lnTo>
                            <a:lnTo>
                              <a:pt x="358" y="90"/>
                            </a:lnTo>
                            <a:lnTo>
                              <a:pt x="333" y="156"/>
                            </a:lnTo>
                            <a:lnTo>
                              <a:pt x="310" y="233"/>
                            </a:lnTo>
                            <a:lnTo>
                              <a:pt x="289" y="321"/>
                            </a:lnTo>
                            <a:lnTo>
                              <a:pt x="274" y="419"/>
                            </a:lnTo>
                            <a:lnTo>
                              <a:pt x="268" y="523"/>
                            </a:lnTo>
                            <a:lnTo>
                              <a:pt x="265" y="522"/>
                            </a:lnTo>
                            <a:lnTo>
                              <a:pt x="256" y="518"/>
                            </a:lnTo>
                            <a:lnTo>
                              <a:pt x="245" y="512"/>
                            </a:lnTo>
                            <a:lnTo>
                              <a:pt x="229" y="505"/>
                            </a:lnTo>
                            <a:lnTo>
                              <a:pt x="211" y="498"/>
                            </a:lnTo>
                            <a:lnTo>
                              <a:pt x="190" y="492"/>
                            </a:lnTo>
                            <a:lnTo>
                              <a:pt x="166" y="486"/>
                            </a:lnTo>
                            <a:lnTo>
                              <a:pt x="143" y="482"/>
                            </a:lnTo>
                            <a:lnTo>
                              <a:pt x="119" y="481"/>
                            </a:lnTo>
                            <a:lnTo>
                              <a:pt x="96" y="482"/>
                            </a:lnTo>
                            <a:lnTo>
                              <a:pt x="73" y="486"/>
                            </a:lnTo>
                            <a:lnTo>
                              <a:pt x="52" y="496"/>
                            </a:lnTo>
                            <a:lnTo>
                              <a:pt x="34" y="509"/>
                            </a:lnTo>
                            <a:lnTo>
                              <a:pt x="19" y="529"/>
                            </a:lnTo>
                            <a:lnTo>
                              <a:pt x="8" y="555"/>
                            </a:lnTo>
                            <a:lnTo>
                              <a:pt x="0" y="587"/>
                            </a:lnTo>
                            <a:lnTo>
                              <a:pt x="2" y="588"/>
                            </a:lnTo>
                            <a:lnTo>
                              <a:pt x="6" y="592"/>
                            </a:lnTo>
                            <a:lnTo>
                              <a:pt x="15" y="598"/>
                            </a:lnTo>
                            <a:lnTo>
                              <a:pt x="25" y="606"/>
                            </a:lnTo>
                            <a:lnTo>
                              <a:pt x="39" y="613"/>
                            </a:lnTo>
                            <a:lnTo>
                              <a:pt x="54" y="620"/>
                            </a:lnTo>
                            <a:lnTo>
                              <a:pt x="71" y="628"/>
                            </a:lnTo>
                            <a:lnTo>
                              <a:pt x="91" y="634"/>
                            </a:lnTo>
                            <a:lnTo>
                              <a:pt x="112" y="638"/>
                            </a:lnTo>
                            <a:lnTo>
                              <a:pt x="135" y="640"/>
                            </a:lnTo>
                            <a:lnTo>
                              <a:pt x="159" y="639"/>
                            </a:lnTo>
                            <a:lnTo>
                              <a:pt x="183" y="634"/>
                            </a:lnTo>
                            <a:lnTo>
                              <a:pt x="209" y="625"/>
                            </a:lnTo>
                            <a:lnTo>
                              <a:pt x="235" y="613"/>
                            </a:lnTo>
                            <a:lnTo>
                              <a:pt x="263" y="595"/>
                            </a:lnTo>
                            <a:lnTo>
                              <a:pt x="290" y="570"/>
                            </a:lnTo>
                            <a:lnTo>
                              <a:pt x="291" y="555"/>
                            </a:lnTo>
                            <a:lnTo>
                              <a:pt x="296" y="517"/>
                            </a:lnTo>
                            <a:lnTo>
                              <a:pt x="303" y="462"/>
                            </a:lnTo>
                            <a:lnTo>
                              <a:pt x="313" y="398"/>
                            </a:lnTo>
                            <a:lnTo>
                              <a:pt x="324" y="334"/>
                            </a:lnTo>
                            <a:lnTo>
                              <a:pt x="337" y="274"/>
                            </a:lnTo>
                            <a:lnTo>
                              <a:pt x="350" y="228"/>
                            </a:lnTo>
                            <a:lnTo>
                              <a:pt x="364" y="204"/>
                            </a:lnTo>
                            <a:lnTo>
                              <a:pt x="369" y="204"/>
                            </a:lnTo>
                            <a:lnTo>
                              <a:pt x="384" y="206"/>
                            </a:lnTo>
                            <a:lnTo>
                              <a:pt x="405" y="211"/>
                            </a:lnTo>
                            <a:lnTo>
                              <a:pt x="432" y="221"/>
                            </a:lnTo>
                            <a:lnTo>
                              <a:pt x="462" y="236"/>
                            </a:lnTo>
                            <a:lnTo>
                              <a:pt x="493" y="257"/>
                            </a:lnTo>
                            <a:lnTo>
                              <a:pt x="522" y="287"/>
                            </a:lnTo>
                            <a:lnTo>
                              <a:pt x="548" y="325"/>
                            </a:lnTo>
                            <a:lnTo>
                              <a:pt x="550" y="322"/>
                            </a:lnTo>
                            <a:lnTo>
                              <a:pt x="551" y="315"/>
                            </a:lnTo>
                            <a:lnTo>
                              <a:pt x="552" y="303"/>
                            </a:lnTo>
                            <a:lnTo>
                              <a:pt x="551" y="287"/>
                            </a:lnTo>
                            <a:lnTo>
                              <a:pt x="546" y="268"/>
                            </a:lnTo>
                            <a:lnTo>
                              <a:pt x="534" y="247"/>
                            </a:lnTo>
                            <a:lnTo>
                              <a:pt x="514" y="224"/>
                            </a:lnTo>
                            <a:lnTo>
                              <a:pt x="485" y="199"/>
                            </a:lnTo>
                            <a:lnTo>
                              <a:pt x="482" y="196"/>
                            </a:lnTo>
                            <a:lnTo>
                              <a:pt x="473" y="191"/>
                            </a:lnTo>
                            <a:lnTo>
                              <a:pt x="461" y="183"/>
                            </a:lnTo>
                            <a:lnTo>
                              <a:pt x="447" y="173"/>
                            </a:lnTo>
                            <a:lnTo>
                              <a:pt x="432" y="162"/>
                            </a:lnTo>
                            <a:lnTo>
                              <a:pt x="419" y="152"/>
                            </a:lnTo>
                            <a:lnTo>
                              <a:pt x="410" y="142"/>
                            </a:lnTo>
                            <a:lnTo>
                              <a:pt x="405" y="134"/>
                            </a:lnTo>
                            <a:lnTo>
                              <a:pt x="405" y="132"/>
                            </a:lnTo>
                            <a:lnTo>
                              <a:pt x="407" y="126"/>
                            </a:lnTo>
                            <a:lnTo>
                              <a:pt x="410" y="117"/>
                            </a:lnTo>
                            <a:lnTo>
                              <a:pt x="416" y="106"/>
                            </a:lnTo>
                            <a:lnTo>
                              <a:pt x="416" y="106"/>
                            </a:lnTo>
                            <a:lnTo>
                              <a:pt x="419" y="109"/>
                            </a:lnTo>
                            <a:lnTo>
                              <a:pt x="422" y="111"/>
                            </a:lnTo>
                            <a:lnTo>
                              <a:pt x="428" y="116"/>
                            </a:lnTo>
                            <a:lnTo>
                              <a:pt x="440" y="121"/>
                            </a:lnTo>
                            <a:lnTo>
                              <a:pt x="453" y="128"/>
                            </a:lnTo>
                            <a:lnTo>
                              <a:pt x="472" y="137"/>
                            </a:lnTo>
                            <a:lnTo>
                              <a:pt x="496" y="148"/>
                            </a:lnTo>
                            <a:lnTo>
                              <a:pt x="499" y="149"/>
                            </a:lnTo>
                            <a:lnTo>
                              <a:pt x="508" y="153"/>
                            </a:lnTo>
                            <a:lnTo>
                              <a:pt x="519" y="159"/>
                            </a:lnTo>
                            <a:lnTo>
                              <a:pt x="532" y="170"/>
                            </a:lnTo>
                            <a:lnTo>
                              <a:pt x="547" y="185"/>
                            </a:lnTo>
                            <a:lnTo>
                              <a:pt x="562" y="204"/>
                            </a:lnTo>
                            <a:lnTo>
                              <a:pt x="576" y="228"/>
                            </a:lnTo>
                            <a:lnTo>
                              <a:pt x="586" y="258"/>
                            </a:lnTo>
                            <a:close/>
                          </a:path>
                        </a:pathLst>
                      </a:custGeom>
                      <a:solidFill>
                        <a:srgbClr val="b575f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520" bIns="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9" name=""/>
                      <p:cNvSpPr/>
                      <p:nvPr/>
                    </p:nvSpPr>
                    <p:spPr>
                      <a:xfrm>
                        <a:off x="3727080" y="5486400"/>
                        <a:ext cx="7776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6" h="715">
                            <a:moveTo>
                              <a:pt x="577" y="326"/>
                            </a:moveTo>
                            <a:lnTo>
                              <a:pt x="577" y="322"/>
                            </a:lnTo>
                            <a:lnTo>
                              <a:pt x="583" y="310"/>
                            </a:lnTo>
                            <a:lnTo>
                              <a:pt x="591" y="290"/>
                            </a:lnTo>
                            <a:lnTo>
                              <a:pt x="596" y="264"/>
                            </a:lnTo>
                            <a:lnTo>
                              <a:pt x="596" y="234"/>
                            </a:lnTo>
                            <a:lnTo>
                              <a:pt x="588" y="203"/>
                            </a:lnTo>
                            <a:lnTo>
                              <a:pt x="564" y="172"/>
                            </a:lnTo>
                            <a:lnTo>
                              <a:pt x="523" y="143"/>
                            </a:lnTo>
                            <a:lnTo>
                              <a:pt x="518" y="140"/>
                            </a:lnTo>
                            <a:lnTo>
                              <a:pt x="507" y="133"/>
                            </a:lnTo>
                            <a:lnTo>
                              <a:pt x="492" y="123"/>
                            </a:lnTo>
                            <a:lnTo>
                              <a:pt x="475" y="108"/>
                            </a:lnTo>
                            <a:lnTo>
                              <a:pt x="457" y="89"/>
                            </a:lnTo>
                            <a:lnTo>
                              <a:pt x="442" y="68"/>
                            </a:lnTo>
                            <a:lnTo>
                              <a:pt x="429" y="44"/>
                            </a:lnTo>
                            <a:lnTo>
                              <a:pt x="423" y="16"/>
                            </a:lnTo>
                            <a:lnTo>
                              <a:pt x="423" y="14"/>
                            </a:lnTo>
                            <a:lnTo>
                              <a:pt x="421" y="9"/>
                            </a:lnTo>
                            <a:lnTo>
                              <a:pt x="417" y="4"/>
                            </a:lnTo>
                            <a:lnTo>
                              <a:pt x="412" y="0"/>
                            </a:lnTo>
                            <a:lnTo>
                              <a:pt x="406" y="0"/>
                            </a:lnTo>
                            <a:lnTo>
                              <a:pt x="400" y="3"/>
                            </a:lnTo>
                            <a:lnTo>
                              <a:pt x="393" y="11"/>
                            </a:lnTo>
                            <a:lnTo>
                              <a:pt x="387" y="26"/>
                            </a:lnTo>
                            <a:lnTo>
                              <a:pt x="384" y="41"/>
                            </a:lnTo>
                            <a:lnTo>
                              <a:pt x="370" y="84"/>
                            </a:lnTo>
                            <a:lnTo>
                              <a:pt x="349" y="150"/>
                            </a:lnTo>
                            <a:lnTo>
                              <a:pt x="327" y="230"/>
                            </a:lnTo>
                            <a:lnTo>
                              <a:pt x="303" y="318"/>
                            </a:lnTo>
                            <a:lnTo>
                              <a:pt x="283" y="407"/>
                            </a:lnTo>
                            <a:lnTo>
                              <a:pt x="269" y="491"/>
                            </a:lnTo>
                            <a:lnTo>
                              <a:pt x="264" y="562"/>
                            </a:lnTo>
                            <a:lnTo>
                              <a:pt x="261" y="561"/>
                            </a:lnTo>
                            <a:lnTo>
                              <a:pt x="254" y="558"/>
                            </a:lnTo>
                            <a:lnTo>
                              <a:pt x="241" y="554"/>
                            </a:lnTo>
                            <a:lnTo>
                              <a:pt x="226" y="549"/>
                            </a:lnTo>
                            <a:lnTo>
                              <a:pt x="208" y="544"/>
                            </a:lnTo>
                            <a:lnTo>
                              <a:pt x="187" y="541"/>
                            </a:lnTo>
                            <a:lnTo>
                              <a:pt x="165" y="536"/>
                            </a:lnTo>
                            <a:lnTo>
                              <a:pt x="142" y="533"/>
                            </a:lnTo>
                            <a:lnTo>
                              <a:pt x="119" y="533"/>
                            </a:lnTo>
                            <a:lnTo>
                              <a:pt x="95" y="535"/>
                            </a:lnTo>
                            <a:lnTo>
                              <a:pt x="73" y="538"/>
                            </a:lnTo>
                            <a:lnTo>
                              <a:pt x="53" y="547"/>
                            </a:lnTo>
                            <a:lnTo>
                              <a:pt x="35" y="558"/>
                            </a:lnTo>
                            <a:lnTo>
                              <a:pt x="19" y="574"/>
                            </a:lnTo>
                            <a:lnTo>
                              <a:pt x="7" y="595"/>
                            </a:lnTo>
                            <a:lnTo>
                              <a:pt x="0" y="622"/>
                            </a:lnTo>
                            <a:lnTo>
                              <a:pt x="0" y="629"/>
                            </a:lnTo>
                            <a:lnTo>
                              <a:pt x="2" y="641"/>
                            </a:lnTo>
                            <a:lnTo>
                              <a:pt x="9" y="657"/>
                            </a:lnTo>
                            <a:lnTo>
                              <a:pt x="20" y="674"/>
                            </a:lnTo>
                            <a:lnTo>
                              <a:pt x="37" y="690"/>
                            </a:lnTo>
                            <a:lnTo>
                              <a:pt x="62" y="705"/>
                            </a:lnTo>
                            <a:lnTo>
                              <a:pt x="97" y="714"/>
                            </a:lnTo>
                            <a:lnTo>
                              <a:pt x="142" y="715"/>
                            </a:lnTo>
                            <a:lnTo>
                              <a:pt x="147" y="715"/>
                            </a:lnTo>
                            <a:lnTo>
                              <a:pt x="162" y="714"/>
                            </a:lnTo>
                            <a:lnTo>
                              <a:pt x="184" y="710"/>
                            </a:lnTo>
                            <a:lnTo>
                              <a:pt x="210" y="702"/>
                            </a:lnTo>
                            <a:lnTo>
                              <a:pt x="239" y="687"/>
                            </a:lnTo>
                            <a:lnTo>
                              <a:pt x="265" y="664"/>
                            </a:lnTo>
                            <a:lnTo>
                              <a:pt x="288" y="632"/>
                            </a:lnTo>
                            <a:lnTo>
                              <a:pt x="306" y="588"/>
                            </a:lnTo>
                            <a:lnTo>
                              <a:pt x="308" y="574"/>
                            </a:lnTo>
                            <a:lnTo>
                              <a:pt x="313" y="540"/>
                            </a:lnTo>
                            <a:lnTo>
                              <a:pt x="322" y="490"/>
                            </a:lnTo>
                            <a:lnTo>
                              <a:pt x="332" y="434"/>
                            </a:lnTo>
                            <a:lnTo>
                              <a:pt x="343" y="376"/>
                            </a:lnTo>
                            <a:lnTo>
                              <a:pt x="353" y="326"/>
                            </a:lnTo>
                            <a:lnTo>
                              <a:pt x="361" y="287"/>
                            </a:lnTo>
                            <a:lnTo>
                              <a:pt x="368" y="270"/>
                            </a:lnTo>
                            <a:lnTo>
                              <a:pt x="369" y="269"/>
                            </a:lnTo>
                            <a:lnTo>
                              <a:pt x="375" y="269"/>
                            </a:lnTo>
                            <a:lnTo>
                              <a:pt x="384" y="269"/>
                            </a:lnTo>
                            <a:lnTo>
                              <a:pt x="396" y="270"/>
                            </a:lnTo>
                            <a:lnTo>
                              <a:pt x="412" y="272"/>
                            </a:lnTo>
                            <a:lnTo>
                              <a:pt x="429" y="279"/>
                            </a:lnTo>
                            <a:lnTo>
                              <a:pt x="448" y="288"/>
                            </a:lnTo>
                            <a:lnTo>
                              <a:pt x="469" y="301"/>
                            </a:lnTo>
                            <a:lnTo>
                              <a:pt x="478" y="306"/>
                            </a:lnTo>
                            <a:lnTo>
                              <a:pt x="490" y="316"/>
                            </a:lnTo>
                            <a:lnTo>
                              <a:pt x="504" y="328"/>
                            </a:lnTo>
                            <a:lnTo>
                              <a:pt x="516" y="345"/>
                            </a:lnTo>
                            <a:lnTo>
                              <a:pt x="527" y="365"/>
                            </a:lnTo>
                            <a:lnTo>
                              <a:pt x="533" y="387"/>
                            </a:lnTo>
                            <a:lnTo>
                              <a:pt x="535" y="413"/>
                            </a:lnTo>
                            <a:lnTo>
                              <a:pt x="526" y="441"/>
                            </a:lnTo>
                            <a:lnTo>
                              <a:pt x="530" y="434"/>
                            </a:lnTo>
                            <a:lnTo>
                              <a:pt x="538" y="420"/>
                            </a:lnTo>
                            <a:lnTo>
                              <a:pt x="546" y="397"/>
                            </a:lnTo>
                            <a:lnTo>
                              <a:pt x="551" y="370"/>
                            </a:lnTo>
                            <a:lnTo>
                              <a:pt x="547" y="337"/>
                            </a:lnTo>
                            <a:lnTo>
                              <a:pt x="532" y="302"/>
                            </a:lnTo>
                            <a:lnTo>
                              <a:pt x="501" y="264"/>
                            </a:lnTo>
                            <a:lnTo>
                              <a:pt x="450" y="225"/>
                            </a:lnTo>
                            <a:lnTo>
                              <a:pt x="448" y="224"/>
                            </a:lnTo>
                            <a:lnTo>
                              <a:pt x="442" y="220"/>
                            </a:lnTo>
                            <a:lnTo>
                              <a:pt x="433" y="216"/>
                            </a:lnTo>
                            <a:lnTo>
                              <a:pt x="423" y="208"/>
                            </a:lnTo>
                            <a:lnTo>
                              <a:pt x="413" y="201"/>
                            </a:lnTo>
                            <a:lnTo>
                              <a:pt x="405" y="192"/>
                            </a:lnTo>
                            <a:lnTo>
                              <a:pt x="397" y="182"/>
                            </a:lnTo>
                            <a:lnTo>
                              <a:pt x="393" y="172"/>
                            </a:lnTo>
                            <a:lnTo>
                              <a:pt x="395" y="166"/>
                            </a:lnTo>
                            <a:lnTo>
                              <a:pt x="397" y="149"/>
                            </a:lnTo>
                            <a:lnTo>
                              <a:pt x="401" y="130"/>
                            </a:lnTo>
                            <a:lnTo>
                              <a:pt x="405" y="120"/>
                            </a:lnTo>
                            <a:lnTo>
                              <a:pt x="403" y="122"/>
                            </a:lnTo>
                            <a:lnTo>
                              <a:pt x="405" y="123"/>
                            </a:lnTo>
                            <a:lnTo>
                              <a:pt x="407" y="128"/>
                            </a:lnTo>
                            <a:lnTo>
                              <a:pt x="415" y="133"/>
                            </a:lnTo>
                            <a:lnTo>
                              <a:pt x="426" y="141"/>
                            </a:lnTo>
                            <a:lnTo>
                              <a:pt x="443" y="151"/>
                            </a:lnTo>
                            <a:lnTo>
                              <a:pt x="466" y="165"/>
                            </a:lnTo>
                            <a:lnTo>
                              <a:pt x="499" y="180"/>
                            </a:lnTo>
                            <a:lnTo>
                              <a:pt x="502" y="181"/>
                            </a:lnTo>
                            <a:lnTo>
                              <a:pt x="511" y="186"/>
                            </a:lnTo>
                            <a:lnTo>
                              <a:pt x="525" y="196"/>
                            </a:lnTo>
                            <a:lnTo>
                              <a:pt x="539" y="211"/>
                            </a:lnTo>
                            <a:lnTo>
                              <a:pt x="554" y="230"/>
                            </a:lnTo>
                            <a:lnTo>
                              <a:pt x="568" y="256"/>
                            </a:lnTo>
                            <a:lnTo>
                              <a:pt x="575" y="288"/>
                            </a:lnTo>
                            <a:lnTo>
                              <a:pt x="577" y="326"/>
                            </a:lnTo>
                            <a:lnTo>
                              <a:pt x="577" y="322"/>
                            </a:lnTo>
                            <a:lnTo>
                              <a:pt x="579" y="312"/>
                            </a:lnTo>
                            <a:lnTo>
                              <a:pt x="583" y="295"/>
                            </a:lnTo>
                            <a:lnTo>
                              <a:pt x="584" y="274"/>
                            </a:lnTo>
                            <a:lnTo>
                              <a:pt x="580" y="249"/>
                            </a:lnTo>
                            <a:lnTo>
                              <a:pt x="568" y="222"/>
                            </a:lnTo>
                            <a:lnTo>
                              <a:pt x="544" y="193"/>
                            </a:lnTo>
                            <a:lnTo>
                              <a:pt x="507" y="166"/>
                            </a:lnTo>
                            <a:lnTo>
                              <a:pt x="504" y="164"/>
                            </a:lnTo>
                            <a:lnTo>
                              <a:pt x="491" y="159"/>
                            </a:lnTo>
                            <a:lnTo>
                              <a:pt x="475" y="150"/>
                            </a:lnTo>
                            <a:lnTo>
                              <a:pt x="457" y="140"/>
                            </a:lnTo>
                            <a:lnTo>
                              <a:pt x="438" y="128"/>
                            </a:lnTo>
                            <a:lnTo>
                              <a:pt x="422" y="115"/>
                            </a:lnTo>
                            <a:lnTo>
                              <a:pt x="410" y="101"/>
                            </a:lnTo>
                            <a:lnTo>
                              <a:pt x="405" y="87"/>
                            </a:lnTo>
                            <a:lnTo>
                              <a:pt x="398" y="99"/>
                            </a:lnTo>
                            <a:lnTo>
                              <a:pt x="389" y="123"/>
                            </a:lnTo>
                            <a:lnTo>
                              <a:pt x="380" y="157"/>
                            </a:lnTo>
                            <a:lnTo>
                              <a:pt x="379" y="202"/>
                            </a:lnTo>
                            <a:lnTo>
                              <a:pt x="385" y="207"/>
                            </a:lnTo>
                            <a:lnTo>
                              <a:pt x="402" y="217"/>
                            </a:lnTo>
                            <a:lnTo>
                              <a:pt x="427" y="230"/>
                            </a:lnTo>
                            <a:lnTo>
                              <a:pt x="455" y="248"/>
                            </a:lnTo>
                            <a:lnTo>
                              <a:pt x="484" y="269"/>
                            </a:lnTo>
                            <a:lnTo>
                              <a:pt x="510" y="293"/>
                            </a:lnTo>
                            <a:lnTo>
                              <a:pt x="527" y="319"/>
                            </a:lnTo>
                            <a:lnTo>
                              <a:pt x="533" y="347"/>
                            </a:lnTo>
                            <a:lnTo>
                              <a:pt x="532" y="343"/>
                            </a:lnTo>
                            <a:lnTo>
                              <a:pt x="525" y="333"/>
                            </a:lnTo>
                            <a:lnTo>
                              <a:pt x="514" y="318"/>
                            </a:lnTo>
                            <a:lnTo>
                              <a:pt x="495" y="301"/>
                            </a:lnTo>
                            <a:lnTo>
                              <a:pt x="471" y="284"/>
                            </a:lnTo>
                            <a:lnTo>
                              <a:pt x="442" y="267"/>
                            </a:lnTo>
                            <a:lnTo>
                              <a:pt x="405" y="256"/>
                            </a:lnTo>
                            <a:lnTo>
                              <a:pt x="361" y="253"/>
                            </a:lnTo>
                            <a:lnTo>
                              <a:pt x="360" y="258"/>
                            </a:lnTo>
                            <a:lnTo>
                              <a:pt x="355" y="274"/>
                            </a:lnTo>
                            <a:lnTo>
                              <a:pt x="346" y="301"/>
                            </a:lnTo>
                            <a:lnTo>
                              <a:pt x="337" y="339"/>
                            </a:lnTo>
                            <a:lnTo>
                              <a:pt x="324" y="389"/>
                            </a:lnTo>
                            <a:lnTo>
                              <a:pt x="313" y="446"/>
                            </a:lnTo>
                            <a:lnTo>
                              <a:pt x="303" y="512"/>
                            </a:lnTo>
                            <a:lnTo>
                              <a:pt x="296" y="587"/>
                            </a:lnTo>
                            <a:lnTo>
                              <a:pt x="292" y="587"/>
                            </a:lnTo>
                            <a:lnTo>
                              <a:pt x="292" y="589"/>
                            </a:lnTo>
                            <a:lnTo>
                              <a:pt x="292" y="591"/>
                            </a:lnTo>
                            <a:lnTo>
                              <a:pt x="290" y="591"/>
                            </a:lnTo>
                            <a:lnTo>
                              <a:pt x="290" y="595"/>
                            </a:lnTo>
                            <a:lnTo>
                              <a:pt x="286" y="606"/>
                            </a:lnTo>
                            <a:lnTo>
                              <a:pt x="276" y="622"/>
                            </a:lnTo>
                            <a:lnTo>
                              <a:pt x="260" y="642"/>
                            </a:lnTo>
                            <a:lnTo>
                              <a:pt x="239" y="661"/>
                            </a:lnTo>
                            <a:lnTo>
                              <a:pt x="210" y="677"/>
                            </a:lnTo>
                            <a:lnTo>
                              <a:pt x="176" y="688"/>
                            </a:lnTo>
                            <a:lnTo>
                              <a:pt x="135" y="690"/>
                            </a:lnTo>
                            <a:lnTo>
                              <a:pt x="132" y="690"/>
                            </a:lnTo>
                            <a:lnTo>
                              <a:pt x="121" y="689"/>
                            </a:lnTo>
                            <a:lnTo>
                              <a:pt x="105" y="687"/>
                            </a:lnTo>
                            <a:lnTo>
                              <a:pt x="85" y="682"/>
                            </a:lnTo>
                            <a:lnTo>
                              <a:pt x="66" y="674"/>
                            </a:lnTo>
                            <a:lnTo>
                              <a:pt x="48" y="663"/>
                            </a:lnTo>
                            <a:lnTo>
                              <a:pt x="36" y="648"/>
                            </a:lnTo>
                            <a:lnTo>
                              <a:pt x="31" y="630"/>
                            </a:lnTo>
                            <a:lnTo>
                              <a:pt x="31" y="626"/>
                            </a:lnTo>
                            <a:lnTo>
                              <a:pt x="33" y="617"/>
                            </a:lnTo>
                            <a:lnTo>
                              <a:pt x="38" y="605"/>
                            </a:lnTo>
                            <a:lnTo>
                              <a:pt x="47" y="591"/>
                            </a:lnTo>
                            <a:lnTo>
                              <a:pt x="59" y="578"/>
                            </a:lnTo>
                            <a:lnTo>
                              <a:pt x="77" y="565"/>
                            </a:lnTo>
                            <a:lnTo>
                              <a:pt x="100" y="557"/>
                            </a:lnTo>
                            <a:lnTo>
                              <a:pt x="130" y="554"/>
                            </a:lnTo>
                            <a:lnTo>
                              <a:pt x="132" y="556"/>
                            </a:lnTo>
                            <a:lnTo>
                              <a:pt x="141" y="557"/>
                            </a:lnTo>
                            <a:lnTo>
                              <a:pt x="155" y="557"/>
                            </a:lnTo>
                            <a:lnTo>
                              <a:pt x="172" y="558"/>
                            </a:lnTo>
                            <a:lnTo>
                              <a:pt x="194" y="561"/>
                            </a:lnTo>
                            <a:lnTo>
                              <a:pt x="217" y="567"/>
                            </a:lnTo>
                            <a:lnTo>
                              <a:pt x="241" y="575"/>
                            </a:lnTo>
                            <a:lnTo>
                              <a:pt x="266" y="588"/>
                            </a:lnTo>
                            <a:lnTo>
                              <a:pt x="270" y="568"/>
                            </a:lnTo>
                            <a:lnTo>
                              <a:pt x="280" y="514"/>
                            </a:lnTo>
                            <a:lnTo>
                              <a:pt x="295" y="437"/>
                            </a:lnTo>
                            <a:lnTo>
                              <a:pt x="314" y="345"/>
                            </a:lnTo>
                            <a:lnTo>
                              <a:pt x="335" y="249"/>
                            </a:lnTo>
                            <a:lnTo>
                              <a:pt x="359" y="159"/>
                            </a:lnTo>
                            <a:lnTo>
                              <a:pt x="380" y="83"/>
                            </a:lnTo>
                            <a:lnTo>
                              <a:pt x="400" y="34"/>
                            </a:lnTo>
                            <a:lnTo>
                              <a:pt x="400" y="35"/>
                            </a:lnTo>
                            <a:lnTo>
                              <a:pt x="402" y="40"/>
                            </a:lnTo>
                            <a:lnTo>
                              <a:pt x="406" y="51"/>
                            </a:lnTo>
                            <a:lnTo>
                              <a:pt x="413" y="66"/>
                            </a:lnTo>
                            <a:lnTo>
                              <a:pt x="427" y="84"/>
                            </a:lnTo>
                            <a:lnTo>
                              <a:pt x="447" y="104"/>
                            </a:lnTo>
                            <a:lnTo>
                              <a:pt x="474" y="126"/>
                            </a:lnTo>
                            <a:lnTo>
                              <a:pt x="511" y="150"/>
                            </a:lnTo>
                            <a:lnTo>
                              <a:pt x="514" y="152"/>
                            </a:lnTo>
                            <a:lnTo>
                              <a:pt x="523" y="160"/>
                            </a:lnTo>
                            <a:lnTo>
                              <a:pt x="539" y="172"/>
                            </a:lnTo>
                            <a:lnTo>
                              <a:pt x="556" y="190"/>
                            </a:lnTo>
                            <a:lnTo>
                              <a:pt x="572" y="213"/>
                            </a:lnTo>
                            <a:lnTo>
                              <a:pt x="582" y="243"/>
                            </a:lnTo>
                            <a:lnTo>
                              <a:pt x="585" y="280"/>
                            </a:lnTo>
                            <a:lnTo>
                              <a:pt x="577" y="3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0" name=""/>
                      <p:cNvSpPr/>
                      <p:nvPr/>
                    </p:nvSpPr>
                    <p:spPr>
                      <a:xfrm>
                        <a:off x="3734280" y="5545800"/>
                        <a:ext cx="219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89">
                            <a:moveTo>
                              <a:pt x="83" y="89"/>
                            </a:moveTo>
                            <a:lnTo>
                              <a:pt x="100" y="89"/>
                            </a:lnTo>
                            <a:lnTo>
                              <a:pt x="118" y="88"/>
                            </a:lnTo>
                            <a:lnTo>
                              <a:pt x="133" y="84"/>
                            </a:lnTo>
                            <a:lnTo>
                              <a:pt x="145" y="81"/>
                            </a:lnTo>
                            <a:lnTo>
                              <a:pt x="156" y="74"/>
                            </a:lnTo>
                            <a:lnTo>
                              <a:pt x="165" y="67"/>
                            </a:lnTo>
                            <a:lnTo>
                              <a:pt x="170" y="58"/>
                            </a:lnTo>
                            <a:lnTo>
                              <a:pt x="172" y="50"/>
                            </a:lnTo>
                            <a:lnTo>
                              <a:pt x="171" y="41"/>
                            </a:lnTo>
                            <a:lnTo>
                              <a:pt x="166" y="32"/>
                            </a:lnTo>
                            <a:lnTo>
                              <a:pt x="159" y="24"/>
                            </a:lnTo>
                            <a:lnTo>
                              <a:pt x="149" y="16"/>
                            </a:lnTo>
                            <a:lnTo>
                              <a:pt x="136" y="10"/>
                            </a:lnTo>
                            <a:lnTo>
                              <a:pt x="123" y="5"/>
                            </a:lnTo>
                            <a:lnTo>
                              <a:pt x="107" y="1"/>
                            </a:lnTo>
                            <a:lnTo>
                              <a:pt x="89" y="0"/>
                            </a:lnTo>
                            <a:lnTo>
                              <a:pt x="72" y="0"/>
                            </a:lnTo>
                            <a:lnTo>
                              <a:pt x="55" y="1"/>
                            </a:lnTo>
                            <a:lnTo>
                              <a:pt x="40" y="5"/>
                            </a:lnTo>
                            <a:lnTo>
                              <a:pt x="27" y="9"/>
                            </a:lnTo>
                            <a:lnTo>
                              <a:pt x="16" y="15"/>
                            </a:lnTo>
                            <a:lnTo>
                              <a:pt x="8" y="22"/>
                            </a:lnTo>
                            <a:lnTo>
                              <a:pt x="3" y="31"/>
                            </a:lnTo>
                            <a:lnTo>
                              <a:pt x="0" y="40"/>
                            </a:lnTo>
                            <a:lnTo>
                              <a:pt x="1" y="48"/>
                            </a:lnTo>
                            <a:lnTo>
                              <a:pt x="6" y="57"/>
                            </a:lnTo>
                            <a:lnTo>
                              <a:pt x="14" y="66"/>
                            </a:lnTo>
                            <a:lnTo>
                              <a:pt x="24" y="73"/>
                            </a:lnTo>
                            <a:lnTo>
                              <a:pt x="36" y="79"/>
                            </a:lnTo>
                            <a:lnTo>
                              <a:pt x="50" y="84"/>
                            </a:lnTo>
                            <a:lnTo>
                              <a:pt x="66" y="88"/>
                            </a:lnTo>
                            <a:lnTo>
                              <a:pt x="83" y="89"/>
                            </a:lnTo>
                            <a:close/>
                          </a:path>
                        </a:pathLst>
                      </a:custGeom>
                      <a:solidFill>
                        <a:srgbClr val="b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1" name=""/>
                      <p:cNvSpPr/>
                      <p:nvPr/>
                    </p:nvSpPr>
                    <p:spPr>
                      <a:xfrm>
                        <a:off x="3735000" y="5546520"/>
                        <a:ext cx="201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4" h="80">
                            <a:moveTo>
                              <a:pt x="75" y="80"/>
                            </a:moveTo>
                            <a:lnTo>
                              <a:pt x="90" y="80"/>
                            </a:lnTo>
                            <a:lnTo>
                              <a:pt x="104" y="79"/>
                            </a:lnTo>
                            <a:lnTo>
                              <a:pt x="118" y="76"/>
                            </a:lnTo>
                            <a:lnTo>
                              <a:pt x="129" y="73"/>
                            </a:lnTo>
                            <a:lnTo>
                              <a:pt x="139" y="68"/>
                            </a:lnTo>
                            <a:lnTo>
                              <a:pt x="146" y="60"/>
                            </a:lnTo>
                            <a:lnTo>
                              <a:pt x="151" y="53"/>
                            </a:lnTo>
                            <a:lnTo>
                              <a:pt x="154" y="45"/>
                            </a:lnTo>
                            <a:lnTo>
                              <a:pt x="153" y="37"/>
                            </a:lnTo>
                            <a:lnTo>
                              <a:pt x="149" y="29"/>
                            </a:lnTo>
                            <a:lnTo>
                              <a:pt x="141" y="22"/>
                            </a:lnTo>
                            <a:lnTo>
                              <a:pt x="133" y="16"/>
                            </a:lnTo>
                            <a:lnTo>
                              <a:pt x="122" y="10"/>
                            </a:lnTo>
                            <a:lnTo>
                              <a:pt x="109" y="6"/>
                            </a:lnTo>
                            <a:lnTo>
                              <a:pt x="94" y="2"/>
                            </a:lnTo>
                            <a:lnTo>
                              <a:pt x="80" y="0"/>
                            </a:lnTo>
                            <a:lnTo>
                              <a:pt x="65" y="0"/>
                            </a:lnTo>
                            <a:lnTo>
                              <a:pt x="50" y="1"/>
                            </a:lnTo>
                            <a:lnTo>
                              <a:pt x="36" y="5"/>
                            </a:lnTo>
                            <a:lnTo>
                              <a:pt x="25" y="8"/>
                            </a:lnTo>
                            <a:lnTo>
                              <a:pt x="15" y="13"/>
                            </a:lnTo>
                            <a:lnTo>
                              <a:pt x="8" y="21"/>
                            </a:lnTo>
                            <a:lnTo>
                              <a:pt x="3" y="28"/>
                            </a:lnTo>
                            <a:lnTo>
                              <a:pt x="0" y="36"/>
                            </a:lnTo>
                            <a:lnTo>
                              <a:pt x="2" y="44"/>
                            </a:lnTo>
                            <a:lnTo>
                              <a:pt x="5" y="52"/>
                            </a:lnTo>
                            <a:lnTo>
                              <a:pt x="12" y="59"/>
                            </a:lnTo>
                            <a:lnTo>
                              <a:pt x="20" y="65"/>
                            </a:lnTo>
                            <a:lnTo>
                              <a:pt x="31" y="70"/>
                            </a:lnTo>
                            <a:lnTo>
                              <a:pt x="45" y="75"/>
                            </a:lnTo>
                            <a:lnTo>
                              <a:pt x="59" y="79"/>
                            </a:lnTo>
                            <a:lnTo>
                              <a:pt x="75" y="80"/>
                            </a:lnTo>
                            <a:close/>
                          </a:path>
                        </a:pathLst>
                      </a:custGeom>
                      <a:solidFill>
                        <a:srgbClr val="c48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2" name=""/>
                      <p:cNvSpPr/>
                      <p:nvPr/>
                    </p:nvSpPr>
                    <p:spPr>
                      <a:xfrm>
                        <a:off x="3735720" y="5546880"/>
                        <a:ext cx="1764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71">
                            <a:moveTo>
                              <a:pt x="66" y="71"/>
                            </a:moveTo>
                            <a:lnTo>
                              <a:pt x="80" y="71"/>
                            </a:lnTo>
                            <a:lnTo>
                              <a:pt x="92" y="71"/>
                            </a:lnTo>
                            <a:lnTo>
                              <a:pt x="104" y="68"/>
                            </a:lnTo>
                            <a:lnTo>
                              <a:pt x="114" y="65"/>
                            </a:lnTo>
                            <a:lnTo>
                              <a:pt x="123" y="60"/>
                            </a:lnTo>
                            <a:lnTo>
                              <a:pt x="130" y="55"/>
                            </a:lnTo>
                            <a:lnTo>
                              <a:pt x="134" y="49"/>
                            </a:lnTo>
                            <a:lnTo>
                              <a:pt x="136" y="41"/>
                            </a:lnTo>
                            <a:lnTo>
                              <a:pt x="135" y="34"/>
                            </a:lnTo>
                            <a:lnTo>
                              <a:pt x="133" y="28"/>
                            </a:lnTo>
                            <a:lnTo>
                              <a:pt x="127" y="21"/>
                            </a:lnTo>
                            <a:lnTo>
                              <a:pt x="119" y="15"/>
                            </a:lnTo>
                            <a:lnTo>
                              <a:pt x="109" y="10"/>
                            </a:lnTo>
                            <a:lnTo>
                              <a:pt x="98" y="5"/>
                            </a:lnTo>
                            <a:lnTo>
                              <a:pt x="85" y="3"/>
                            </a:lnTo>
                            <a:lnTo>
                              <a:pt x="71" y="0"/>
                            </a:lnTo>
                            <a:lnTo>
                              <a:pt x="57" y="0"/>
                            </a:lnTo>
                            <a:lnTo>
                              <a:pt x="45" y="2"/>
                            </a:lnTo>
                            <a:lnTo>
                              <a:pt x="33" y="4"/>
                            </a:lnTo>
                            <a:lnTo>
                              <a:pt x="23" y="8"/>
                            </a:lnTo>
                            <a:lnTo>
                              <a:pt x="14" y="13"/>
                            </a:lnTo>
                            <a:lnTo>
                              <a:pt x="8" y="18"/>
                            </a:lnTo>
                            <a:lnTo>
                              <a:pt x="3" y="24"/>
                            </a:lnTo>
                            <a:lnTo>
                              <a:pt x="0" y="31"/>
                            </a:lnTo>
                            <a:lnTo>
                              <a:pt x="2" y="39"/>
                            </a:lnTo>
                            <a:lnTo>
                              <a:pt x="5" y="45"/>
                            </a:lnTo>
                            <a:lnTo>
                              <a:pt x="10" y="51"/>
                            </a:lnTo>
                            <a:lnTo>
                              <a:pt x="19" y="57"/>
                            </a:lnTo>
                            <a:lnTo>
                              <a:pt x="29" y="62"/>
                            </a:lnTo>
                            <a:lnTo>
                              <a:pt x="40" y="66"/>
                            </a:lnTo>
                            <a:lnTo>
                              <a:pt x="52" y="70"/>
                            </a:lnTo>
                            <a:lnTo>
                              <a:pt x="66" y="71"/>
                            </a:lnTo>
                            <a:close/>
                          </a:path>
                        </a:pathLst>
                      </a:custGeom>
                      <a:solidFill>
                        <a:srgbClr val="c993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3" name=""/>
                      <p:cNvSpPr/>
                      <p:nvPr/>
                    </p:nvSpPr>
                    <p:spPr>
                      <a:xfrm>
                        <a:off x="3736440" y="5546880"/>
                        <a:ext cx="1548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" h="62">
                            <a:moveTo>
                              <a:pt x="55" y="62"/>
                            </a:moveTo>
                            <a:lnTo>
                              <a:pt x="68" y="62"/>
                            </a:lnTo>
                            <a:lnTo>
                              <a:pt x="79" y="62"/>
                            </a:lnTo>
                            <a:lnTo>
                              <a:pt x="89" y="59"/>
                            </a:lnTo>
                            <a:lnTo>
                              <a:pt x="97" y="56"/>
                            </a:lnTo>
                            <a:lnTo>
                              <a:pt x="105" y="52"/>
                            </a:lnTo>
                            <a:lnTo>
                              <a:pt x="111" y="47"/>
                            </a:lnTo>
                            <a:lnTo>
                              <a:pt x="115" y="42"/>
                            </a:lnTo>
                            <a:lnTo>
                              <a:pt x="117" y="36"/>
                            </a:lnTo>
                            <a:lnTo>
                              <a:pt x="116" y="30"/>
                            </a:lnTo>
                            <a:lnTo>
                              <a:pt x="113" y="24"/>
                            </a:lnTo>
                            <a:lnTo>
                              <a:pt x="108" y="19"/>
                            </a:lnTo>
                            <a:lnTo>
                              <a:pt x="102" y="14"/>
                            </a:lnTo>
                            <a:lnTo>
                              <a:pt x="94" y="9"/>
                            </a:lnTo>
                            <a:lnTo>
                              <a:pt x="84" y="5"/>
                            </a:lnTo>
                            <a:lnTo>
                              <a:pt x="73" y="3"/>
                            </a:lnTo>
                            <a:lnTo>
                              <a:pt x="61" y="0"/>
                            </a:lnTo>
                            <a:lnTo>
                              <a:pt x="49" y="0"/>
                            </a:lnTo>
                            <a:lnTo>
                              <a:pt x="38" y="0"/>
                            </a:lnTo>
                            <a:lnTo>
                              <a:pt x="28" y="3"/>
                            </a:lnTo>
                            <a:lnTo>
                              <a:pt x="19" y="5"/>
                            </a:lnTo>
                            <a:lnTo>
                              <a:pt x="11" y="9"/>
                            </a:lnTo>
                            <a:lnTo>
                              <a:pt x="6" y="14"/>
                            </a:lnTo>
                            <a:lnTo>
                              <a:pt x="1" y="19"/>
                            </a:lnTo>
                            <a:lnTo>
                              <a:pt x="0" y="25"/>
                            </a:lnTo>
                            <a:lnTo>
                              <a:pt x="1" y="31"/>
                            </a:lnTo>
                            <a:lnTo>
                              <a:pt x="3" y="37"/>
                            </a:lnTo>
                            <a:lnTo>
                              <a:pt x="8" y="43"/>
                            </a:lnTo>
                            <a:lnTo>
                              <a:pt x="14" y="48"/>
                            </a:lnTo>
                            <a:lnTo>
                              <a:pt x="23" y="53"/>
                            </a:lnTo>
                            <a:lnTo>
                              <a:pt x="33" y="57"/>
                            </a:lnTo>
                            <a:lnTo>
                              <a:pt x="44" y="59"/>
                            </a:lnTo>
                            <a:lnTo>
                              <a:pt x="55" y="62"/>
                            </a:lnTo>
                            <a:close/>
                          </a:path>
                        </a:pathLst>
                      </a:custGeom>
                      <a:solidFill>
                        <a:srgbClr val="ce9e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4" name=""/>
                      <p:cNvSpPr/>
                      <p:nvPr/>
                    </p:nvSpPr>
                    <p:spPr>
                      <a:xfrm>
                        <a:off x="3737520" y="5547600"/>
                        <a:ext cx="122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52">
                            <a:moveTo>
                              <a:pt x="46" y="52"/>
                            </a:moveTo>
                            <a:lnTo>
                              <a:pt x="55" y="52"/>
                            </a:lnTo>
                            <a:lnTo>
                              <a:pt x="65" y="52"/>
                            </a:lnTo>
                            <a:lnTo>
                              <a:pt x="74" y="51"/>
                            </a:lnTo>
                            <a:lnTo>
                              <a:pt x="81" y="48"/>
                            </a:lnTo>
                            <a:lnTo>
                              <a:pt x="88" y="44"/>
                            </a:lnTo>
                            <a:lnTo>
                              <a:pt x="94" y="41"/>
                            </a:lnTo>
                            <a:lnTo>
                              <a:pt x="96" y="37"/>
                            </a:lnTo>
                            <a:lnTo>
                              <a:pt x="99" y="32"/>
                            </a:lnTo>
                            <a:lnTo>
                              <a:pt x="99" y="27"/>
                            </a:lnTo>
                            <a:lnTo>
                              <a:pt x="96" y="21"/>
                            </a:lnTo>
                            <a:lnTo>
                              <a:pt x="91" y="16"/>
                            </a:lnTo>
                            <a:lnTo>
                              <a:pt x="86" y="12"/>
                            </a:lnTo>
                            <a:lnTo>
                              <a:pt x="79" y="7"/>
                            </a:lnTo>
                            <a:lnTo>
                              <a:pt x="70" y="5"/>
                            </a:lnTo>
                            <a:lnTo>
                              <a:pt x="62" y="1"/>
                            </a:lnTo>
                            <a:lnTo>
                              <a:pt x="52" y="0"/>
                            </a:lnTo>
                            <a:lnTo>
                              <a:pt x="42" y="0"/>
                            </a:lnTo>
                            <a:lnTo>
                              <a:pt x="32" y="0"/>
                            </a:lnTo>
                            <a:lnTo>
                              <a:pt x="23" y="1"/>
                            </a:lnTo>
                            <a:lnTo>
                              <a:pt x="16" y="4"/>
                            </a:lnTo>
                            <a:lnTo>
                              <a:pt x="10" y="7"/>
                            </a:lnTo>
                            <a:lnTo>
                              <a:pt x="5" y="11"/>
                            </a:lnTo>
                            <a:lnTo>
                              <a:pt x="1" y="15"/>
                            </a:lnTo>
                            <a:lnTo>
                              <a:pt x="0" y="20"/>
                            </a:lnTo>
                            <a:lnTo>
                              <a:pt x="0" y="25"/>
                            </a:lnTo>
                            <a:lnTo>
                              <a:pt x="2" y="31"/>
                            </a:lnTo>
                            <a:lnTo>
                              <a:pt x="6" y="36"/>
                            </a:lnTo>
                            <a:lnTo>
                              <a:pt x="12" y="39"/>
                            </a:lnTo>
                            <a:lnTo>
                              <a:pt x="18" y="44"/>
                            </a:lnTo>
                            <a:lnTo>
                              <a:pt x="27" y="47"/>
                            </a:lnTo>
                            <a:lnTo>
                              <a:pt x="36" y="51"/>
                            </a:lnTo>
                            <a:lnTo>
                              <a:pt x="46" y="52"/>
                            </a:lnTo>
                            <a:close/>
                          </a:path>
                        </a:pathLst>
                      </a:custGeom>
                      <a:solidFill>
                        <a:srgbClr val="d3aa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5" name=""/>
                      <p:cNvSpPr/>
                      <p:nvPr/>
                    </p:nvSpPr>
                    <p:spPr>
                      <a:xfrm>
                        <a:off x="3738240" y="5547960"/>
                        <a:ext cx="104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4">
                            <a:moveTo>
                              <a:pt x="37" y="44"/>
                            </a:moveTo>
                            <a:lnTo>
                              <a:pt x="44" y="44"/>
                            </a:lnTo>
                            <a:lnTo>
                              <a:pt x="52" y="44"/>
                            </a:lnTo>
                            <a:lnTo>
                              <a:pt x="59" y="42"/>
                            </a:lnTo>
                            <a:lnTo>
                              <a:pt x="66" y="41"/>
                            </a:lnTo>
                            <a:lnTo>
                              <a:pt x="70" y="39"/>
                            </a:lnTo>
                            <a:lnTo>
                              <a:pt x="75" y="36"/>
                            </a:lnTo>
                            <a:lnTo>
                              <a:pt x="78" y="32"/>
                            </a:lnTo>
                            <a:lnTo>
                              <a:pt x="79" y="29"/>
                            </a:lnTo>
                            <a:lnTo>
                              <a:pt x="79" y="24"/>
                            </a:lnTo>
                            <a:lnTo>
                              <a:pt x="78" y="20"/>
                            </a:lnTo>
                            <a:lnTo>
                              <a:pt x="74" y="15"/>
                            </a:lnTo>
                            <a:lnTo>
                              <a:pt x="70" y="11"/>
                            </a:lnTo>
                            <a:lnTo>
                              <a:pt x="64" y="9"/>
                            </a:lnTo>
                            <a:lnTo>
                              <a:pt x="58" y="5"/>
                            </a:lnTo>
                            <a:lnTo>
                              <a:pt x="51" y="3"/>
                            </a:lnTo>
                            <a:lnTo>
                              <a:pt x="43" y="2"/>
                            </a:lnTo>
                            <a:lnTo>
                              <a:pt x="35" y="0"/>
                            </a:lnTo>
                            <a:lnTo>
                              <a:pt x="27" y="0"/>
                            </a:lnTo>
                            <a:lnTo>
                              <a:pt x="20" y="2"/>
                            </a:lnTo>
                            <a:lnTo>
                              <a:pt x="14" y="3"/>
                            </a:lnTo>
                            <a:lnTo>
                              <a:pt x="9" y="5"/>
                            </a:lnTo>
                            <a:lnTo>
                              <a:pt x="4" y="9"/>
                            </a:lnTo>
                            <a:lnTo>
                              <a:pt x="1" y="13"/>
                            </a:lnTo>
                            <a:lnTo>
                              <a:pt x="0" y="16"/>
                            </a:lnTo>
                            <a:lnTo>
                              <a:pt x="0" y="20"/>
                            </a:lnTo>
                            <a:lnTo>
                              <a:pt x="1" y="25"/>
                            </a:lnTo>
                            <a:lnTo>
                              <a:pt x="5" y="29"/>
                            </a:lnTo>
                            <a:lnTo>
                              <a:pt x="10" y="32"/>
                            </a:lnTo>
                            <a:lnTo>
                              <a:pt x="15" y="36"/>
                            </a:lnTo>
                            <a:lnTo>
                              <a:pt x="21" y="40"/>
                            </a:lnTo>
                            <a:lnTo>
                              <a:pt x="28" y="42"/>
                            </a:lnTo>
                            <a:lnTo>
                              <a:pt x="37" y="44"/>
                            </a:lnTo>
                            <a:close/>
                          </a:path>
                        </a:pathLst>
                      </a:custGeom>
                      <a:solidFill>
                        <a:srgbClr val="d8b5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" name=""/>
                      <p:cNvSpPr/>
                      <p:nvPr/>
                    </p:nvSpPr>
                    <p:spPr>
                      <a:xfrm>
                        <a:off x="3738960" y="5547960"/>
                        <a:ext cx="756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35">
                            <a:moveTo>
                              <a:pt x="28" y="33"/>
                            </a:moveTo>
                            <a:lnTo>
                              <a:pt x="41" y="35"/>
                            </a:lnTo>
                            <a:lnTo>
                              <a:pt x="51" y="33"/>
                            </a:lnTo>
                            <a:lnTo>
                              <a:pt x="58" y="30"/>
                            </a:lnTo>
                            <a:lnTo>
                              <a:pt x="62" y="23"/>
                            </a:lnTo>
                            <a:lnTo>
                              <a:pt x="61" y="17"/>
                            </a:lnTo>
                            <a:lnTo>
                              <a:pt x="56" y="10"/>
                            </a:lnTo>
                            <a:lnTo>
                              <a:pt x="47" y="5"/>
                            </a:lnTo>
                            <a:lnTo>
                              <a:pt x="35" y="1"/>
                            </a:lnTo>
                            <a:lnTo>
                              <a:pt x="22" y="0"/>
                            </a:lnTo>
                            <a:lnTo>
                              <a:pt x="12" y="1"/>
                            </a:lnTo>
                            <a:lnTo>
                              <a:pt x="4" y="5"/>
                            </a:lnTo>
                            <a:lnTo>
                              <a:pt x="0" y="11"/>
                            </a:lnTo>
                            <a:lnTo>
                              <a:pt x="1" y="17"/>
                            </a:lnTo>
                            <a:lnTo>
                              <a:pt x="7" y="23"/>
                            </a:lnTo>
                            <a:lnTo>
                              <a:pt x="16" y="30"/>
                            </a:lnTo>
                            <a:lnTo>
                              <a:pt x="28" y="33"/>
                            </a:lnTo>
                            <a:close/>
                          </a:path>
                        </a:pathLst>
                      </a:custGeom>
                      <a:solidFill>
                        <a:srgbClr val="ddb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97" name=""/>
                    <p:cNvGrpSpPr/>
                    <p:nvPr/>
                  </p:nvGrpSpPr>
                  <p:grpSpPr>
                    <a:xfrm>
                      <a:off x="3559680" y="5484960"/>
                      <a:ext cx="64080" cy="58320"/>
                      <a:chOff x="3559680" y="5484960"/>
                      <a:chExt cx="64080" cy="58320"/>
                    </a:xfrm>
                  </p:grpSpPr>
                  <p:sp>
                    <p:nvSpPr>
                      <p:cNvPr id="998" name=""/>
                      <p:cNvSpPr/>
                      <p:nvPr/>
                    </p:nvSpPr>
                    <p:spPr>
                      <a:xfrm>
                        <a:off x="3559680" y="5487840"/>
                        <a:ext cx="626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0" h="494">
                            <a:moveTo>
                              <a:pt x="486" y="277"/>
                            </a:moveTo>
                            <a:lnTo>
                              <a:pt x="487" y="281"/>
                            </a:lnTo>
                            <a:lnTo>
                              <a:pt x="488" y="289"/>
                            </a:lnTo>
                            <a:lnTo>
                              <a:pt x="490" y="303"/>
                            </a:lnTo>
                            <a:lnTo>
                              <a:pt x="488" y="320"/>
                            </a:lnTo>
                            <a:lnTo>
                              <a:pt x="483" y="340"/>
                            </a:lnTo>
                            <a:lnTo>
                              <a:pt x="472" y="361"/>
                            </a:lnTo>
                            <a:lnTo>
                              <a:pt x="452" y="383"/>
                            </a:lnTo>
                            <a:lnTo>
                              <a:pt x="425" y="404"/>
                            </a:lnTo>
                            <a:lnTo>
                              <a:pt x="423" y="405"/>
                            </a:lnTo>
                            <a:lnTo>
                              <a:pt x="415" y="410"/>
                            </a:lnTo>
                            <a:lnTo>
                              <a:pt x="404" y="418"/>
                            </a:lnTo>
                            <a:lnTo>
                              <a:pt x="392" y="429"/>
                            </a:lnTo>
                            <a:lnTo>
                              <a:pt x="378" y="441"/>
                            </a:lnTo>
                            <a:lnTo>
                              <a:pt x="367" y="457"/>
                            </a:lnTo>
                            <a:lnTo>
                              <a:pt x="358" y="475"/>
                            </a:lnTo>
                            <a:lnTo>
                              <a:pt x="353" y="494"/>
                            </a:lnTo>
                            <a:lnTo>
                              <a:pt x="348" y="486"/>
                            </a:lnTo>
                            <a:lnTo>
                              <a:pt x="335" y="462"/>
                            </a:lnTo>
                            <a:lnTo>
                              <a:pt x="315" y="425"/>
                            </a:lnTo>
                            <a:lnTo>
                              <a:pt x="293" y="375"/>
                            </a:lnTo>
                            <a:lnTo>
                              <a:pt x="268" y="314"/>
                            </a:lnTo>
                            <a:lnTo>
                              <a:pt x="247" y="245"/>
                            </a:lnTo>
                            <a:lnTo>
                              <a:pt x="228" y="168"/>
                            </a:lnTo>
                            <a:lnTo>
                              <a:pt x="217" y="85"/>
                            </a:lnTo>
                            <a:lnTo>
                              <a:pt x="215" y="86"/>
                            </a:lnTo>
                            <a:lnTo>
                              <a:pt x="209" y="90"/>
                            </a:lnTo>
                            <a:lnTo>
                              <a:pt x="200" y="95"/>
                            </a:lnTo>
                            <a:lnTo>
                              <a:pt x="188" y="101"/>
                            </a:lnTo>
                            <a:lnTo>
                              <a:pt x="173" y="107"/>
                            </a:lnTo>
                            <a:lnTo>
                              <a:pt x="157" y="115"/>
                            </a:lnTo>
                            <a:lnTo>
                              <a:pt x="138" y="121"/>
                            </a:lnTo>
                            <a:lnTo>
                              <a:pt x="120" y="125"/>
                            </a:lnTo>
                            <a:lnTo>
                              <a:pt x="101" y="128"/>
                            </a:lnTo>
                            <a:lnTo>
                              <a:pt x="82" y="128"/>
                            </a:lnTo>
                            <a:lnTo>
                              <a:pt x="64" y="126"/>
                            </a:lnTo>
                            <a:lnTo>
                              <a:pt x="47" y="121"/>
                            </a:lnTo>
                            <a:lnTo>
                              <a:pt x="32" y="111"/>
                            </a:lnTo>
                            <a:lnTo>
                              <a:pt x="18" y="96"/>
                            </a:lnTo>
                            <a:lnTo>
                              <a:pt x="7" y="77"/>
                            </a:lnTo>
                            <a:lnTo>
                              <a:pt x="0" y="51"/>
                            </a:lnTo>
                            <a:lnTo>
                              <a:pt x="1" y="49"/>
                            </a:lnTo>
                            <a:lnTo>
                              <a:pt x="5" y="46"/>
                            </a:lnTo>
                            <a:lnTo>
                              <a:pt x="11" y="41"/>
                            </a:lnTo>
                            <a:lnTo>
                              <a:pt x="18" y="34"/>
                            </a:lnTo>
                            <a:lnTo>
                              <a:pt x="28" y="28"/>
                            </a:lnTo>
                            <a:lnTo>
                              <a:pt x="40" y="21"/>
                            </a:lnTo>
                            <a:lnTo>
                              <a:pt x="54" y="13"/>
                            </a:lnTo>
                            <a:lnTo>
                              <a:pt x="70" y="7"/>
                            </a:lnTo>
                            <a:lnTo>
                              <a:pt x="86" y="4"/>
                            </a:lnTo>
                            <a:lnTo>
                              <a:pt x="105" y="0"/>
                            </a:lnTo>
                            <a:lnTo>
                              <a:pt x="123" y="0"/>
                            </a:lnTo>
                            <a:lnTo>
                              <a:pt x="143" y="1"/>
                            </a:lnTo>
                            <a:lnTo>
                              <a:pt x="165" y="7"/>
                            </a:lnTo>
                            <a:lnTo>
                              <a:pt x="186" y="16"/>
                            </a:lnTo>
                            <a:lnTo>
                              <a:pt x="209" y="30"/>
                            </a:lnTo>
                            <a:lnTo>
                              <a:pt x="232" y="47"/>
                            </a:lnTo>
                            <a:lnTo>
                              <a:pt x="235" y="58"/>
                            </a:lnTo>
                            <a:lnTo>
                              <a:pt x="241" y="89"/>
                            </a:lnTo>
                            <a:lnTo>
                              <a:pt x="249" y="132"/>
                            </a:lnTo>
                            <a:lnTo>
                              <a:pt x="262" y="182"/>
                            </a:lnTo>
                            <a:lnTo>
                              <a:pt x="274" y="234"/>
                            </a:lnTo>
                            <a:lnTo>
                              <a:pt x="288" y="279"/>
                            </a:lnTo>
                            <a:lnTo>
                              <a:pt x="301" y="315"/>
                            </a:lnTo>
                            <a:lnTo>
                              <a:pt x="314" y="334"/>
                            </a:lnTo>
                            <a:lnTo>
                              <a:pt x="318" y="332"/>
                            </a:lnTo>
                            <a:lnTo>
                              <a:pt x="330" y="330"/>
                            </a:lnTo>
                            <a:lnTo>
                              <a:pt x="346" y="325"/>
                            </a:lnTo>
                            <a:lnTo>
                              <a:pt x="367" y="316"/>
                            </a:lnTo>
                            <a:lnTo>
                              <a:pt x="389" y="303"/>
                            </a:lnTo>
                            <a:lnTo>
                              <a:pt x="413" y="283"/>
                            </a:lnTo>
                            <a:lnTo>
                              <a:pt x="435" y="258"/>
                            </a:lnTo>
                            <a:lnTo>
                              <a:pt x="454" y="226"/>
                            </a:lnTo>
                            <a:lnTo>
                              <a:pt x="455" y="229"/>
                            </a:lnTo>
                            <a:lnTo>
                              <a:pt x="456" y="235"/>
                            </a:lnTo>
                            <a:lnTo>
                              <a:pt x="457" y="243"/>
                            </a:lnTo>
                            <a:lnTo>
                              <a:pt x="457" y="256"/>
                            </a:lnTo>
                            <a:lnTo>
                              <a:pt x="454" y="272"/>
                            </a:lnTo>
                            <a:lnTo>
                              <a:pt x="446" y="289"/>
                            </a:lnTo>
                            <a:lnTo>
                              <a:pt x="433" y="310"/>
                            </a:lnTo>
                            <a:lnTo>
                              <a:pt x="412" y="331"/>
                            </a:lnTo>
                            <a:lnTo>
                              <a:pt x="409" y="332"/>
                            </a:lnTo>
                            <a:lnTo>
                              <a:pt x="402" y="337"/>
                            </a:lnTo>
                            <a:lnTo>
                              <a:pt x="393" y="345"/>
                            </a:lnTo>
                            <a:lnTo>
                              <a:pt x="382" y="354"/>
                            </a:lnTo>
                            <a:lnTo>
                              <a:pt x="371" y="363"/>
                            </a:lnTo>
                            <a:lnTo>
                              <a:pt x="361" y="372"/>
                            </a:lnTo>
                            <a:lnTo>
                              <a:pt x="353" y="381"/>
                            </a:lnTo>
                            <a:lnTo>
                              <a:pt x="351" y="387"/>
                            </a:lnTo>
                            <a:lnTo>
                              <a:pt x="351" y="389"/>
                            </a:lnTo>
                            <a:lnTo>
                              <a:pt x="352" y="394"/>
                            </a:lnTo>
                            <a:lnTo>
                              <a:pt x="356" y="401"/>
                            </a:lnTo>
                            <a:lnTo>
                              <a:pt x="361" y="409"/>
                            </a:lnTo>
                            <a:lnTo>
                              <a:pt x="361" y="409"/>
                            </a:lnTo>
                            <a:lnTo>
                              <a:pt x="362" y="407"/>
                            </a:lnTo>
                            <a:lnTo>
                              <a:pt x="366" y="404"/>
                            </a:lnTo>
                            <a:lnTo>
                              <a:pt x="371" y="401"/>
                            </a:lnTo>
                            <a:lnTo>
                              <a:pt x="378" y="396"/>
                            </a:lnTo>
                            <a:lnTo>
                              <a:pt x="389" y="389"/>
                            </a:lnTo>
                            <a:lnTo>
                              <a:pt x="404" y="381"/>
                            </a:lnTo>
                            <a:lnTo>
                              <a:pt x="423" y="371"/>
                            </a:lnTo>
                            <a:lnTo>
                              <a:pt x="425" y="370"/>
                            </a:lnTo>
                            <a:lnTo>
                              <a:pt x="431" y="366"/>
                            </a:lnTo>
                            <a:lnTo>
                              <a:pt x="440" y="360"/>
                            </a:lnTo>
                            <a:lnTo>
                              <a:pt x="450" y="351"/>
                            </a:lnTo>
                            <a:lnTo>
                              <a:pt x="461" y="339"/>
                            </a:lnTo>
                            <a:lnTo>
                              <a:pt x="471" y="321"/>
                            </a:lnTo>
                            <a:lnTo>
                              <a:pt x="480" y="302"/>
                            </a:lnTo>
                            <a:lnTo>
                              <a:pt x="486" y="277"/>
                            </a:lnTo>
                            <a:close/>
                          </a:path>
                        </a:pathLst>
                      </a:custGeom>
                      <a:solidFill>
                        <a:srgbClr val="f2d84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9" name=""/>
                      <p:cNvSpPr/>
                      <p:nvPr/>
                    </p:nvSpPr>
                    <p:spPr>
                      <a:xfrm>
                        <a:off x="3559680" y="5484960"/>
                        <a:ext cx="64080" cy="5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0" h="553">
                            <a:moveTo>
                              <a:pt x="478" y="285"/>
                            </a:moveTo>
                            <a:lnTo>
                              <a:pt x="479" y="287"/>
                            </a:lnTo>
                            <a:lnTo>
                              <a:pt x="484" y="297"/>
                            </a:lnTo>
                            <a:lnTo>
                              <a:pt x="491" y="313"/>
                            </a:lnTo>
                            <a:lnTo>
                              <a:pt x="498" y="333"/>
                            </a:lnTo>
                            <a:lnTo>
                              <a:pt x="500" y="356"/>
                            </a:lnTo>
                            <a:lnTo>
                              <a:pt x="494" y="382"/>
                            </a:lnTo>
                            <a:lnTo>
                              <a:pt x="478" y="408"/>
                            </a:lnTo>
                            <a:lnTo>
                              <a:pt x="447" y="434"/>
                            </a:lnTo>
                            <a:lnTo>
                              <a:pt x="443" y="437"/>
                            </a:lnTo>
                            <a:lnTo>
                              <a:pt x="435" y="443"/>
                            </a:lnTo>
                            <a:lnTo>
                              <a:pt x="423" y="453"/>
                            </a:lnTo>
                            <a:lnTo>
                              <a:pt x="411" y="465"/>
                            </a:lnTo>
                            <a:lnTo>
                              <a:pt x="397" y="481"/>
                            </a:lnTo>
                            <a:lnTo>
                              <a:pt x="386" y="499"/>
                            </a:lnTo>
                            <a:lnTo>
                              <a:pt x="379" y="518"/>
                            </a:lnTo>
                            <a:lnTo>
                              <a:pt x="375" y="541"/>
                            </a:lnTo>
                            <a:lnTo>
                              <a:pt x="374" y="547"/>
                            </a:lnTo>
                            <a:lnTo>
                              <a:pt x="368" y="553"/>
                            </a:lnTo>
                            <a:lnTo>
                              <a:pt x="357" y="553"/>
                            </a:lnTo>
                            <a:lnTo>
                              <a:pt x="345" y="534"/>
                            </a:lnTo>
                            <a:lnTo>
                              <a:pt x="342" y="523"/>
                            </a:lnTo>
                            <a:lnTo>
                              <a:pt x="328" y="489"/>
                            </a:lnTo>
                            <a:lnTo>
                              <a:pt x="308" y="439"/>
                            </a:lnTo>
                            <a:lnTo>
                              <a:pt x="285" y="376"/>
                            </a:lnTo>
                            <a:lnTo>
                              <a:pt x="261" y="308"/>
                            </a:lnTo>
                            <a:lnTo>
                              <a:pt x="239" y="238"/>
                            </a:lnTo>
                            <a:lnTo>
                              <a:pt x="223" y="172"/>
                            </a:lnTo>
                            <a:lnTo>
                              <a:pt x="214" y="115"/>
                            </a:lnTo>
                            <a:lnTo>
                              <a:pt x="212" y="115"/>
                            </a:lnTo>
                            <a:lnTo>
                              <a:pt x="207" y="118"/>
                            </a:lnTo>
                            <a:lnTo>
                              <a:pt x="197" y="123"/>
                            </a:lnTo>
                            <a:lnTo>
                              <a:pt x="186" y="126"/>
                            </a:lnTo>
                            <a:lnTo>
                              <a:pt x="171" y="131"/>
                            </a:lnTo>
                            <a:lnTo>
                              <a:pt x="155" y="137"/>
                            </a:lnTo>
                            <a:lnTo>
                              <a:pt x="138" y="141"/>
                            </a:lnTo>
                            <a:lnTo>
                              <a:pt x="119" y="145"/>
                            </a:lnTo>
                            <a:lnTo>
                              <a:pt x="100" y="147"/>
                            </a:lnTo>
                            <a:lnTo>
                              <a:pt x="82" y="147"/>
                            </a:lnTo>
                            <a:lnTo>
                              <a:pt x="65" y="145"/>
                            </a:lnTo>
                            <a:lnTo>
                              <a:pt x="47" y="140"/>
                            </a:lnTo>
                            <a:lnTo>
                              <a:pt x="32" y="132"/>
                            </a:lnTo>
                            <a:lnTo>
                              <a:pt x="19" y="120"/>
                            </a:lnTo>
                            <a:lnTo>
                              <a:pt x="8" y="104"/>
                            </a:lnTo>
                            <a:lnTo>
                              <a:pt x="0" y="83"/>
                            </a:lnTo>
                            <a:lnTo>
                              <a:pt x="0" y="78"/>
                            </a:lnTo>
                            <a:lnTo>
                              <a:pt x="2" y="68"/>
                            </a:lnTo>
                            <a:lnTo>
                              <a:pt x="5" y="55"/>
                            </a:lnTo>
                            <a:lnTo>
                              <a:pt x="13" y="40"/>
                            </a:lnTo>
                            <a:lnTo>
                              <a:pt x="26" y="26"/>
                            </a:lnTo>
                            <a:lnTo>
                              <a:pt x="45" y="14"/>
                            </a:lnTo>
                            <a:lnTo>
                              <a:pt x="72" y="4"/>
                            </a:lnTo>
                            <a:lnTo>
                              <a:pt x="108" y="0"/>
                            </a:lnTo>
                            <a:lnTo>
                              <a:pt x="112" y="0"/>
                            </a:lnTo>
                            <a:lnTo>
                              <a:pt x="124" y="0"/>
                            </a:lnTo>
                            <a:lnTo>
                              <a:pt x="141" y="3"/>
                            </a:lnTo>
                            <a:lnTo>
                              <a:pt x="164" y="6"/>
                            </a:lnTo>
                            <a:lnTo>
                              <a:pt x="187" y="16"/>
                            </a:lnTo>
                            <a:lnTo>
                              <a:pt x="209" y="32"/>
                            </a:lnTo>
                            <a:lnTo>
                              <a:pt x="230" y="57"/>
                            </a:lnTo>
                            <a:lnTo>
                              <a:pt x="246" y="92"/>
                            </a:lnTo>
                            <a:lnTo>
                              <a:pt x="249" y="103"/>
                            </a:lnTo>
                            <a:lnTo>
                              <a:pt x="255" y="130"/>
                            </a:lnTo>
                            <a:lnTo>
                              <a:pt x="265" y="168"/>
                            </a:lnTo>
                            <a:lnTo>
                              <a:pt x="277" y="213"/>
                            </a:lnTo>
                            <a:lnTo>
                              <a:pt x="289" y="259"/>
                            </a:lnTo>
                            <a:lnTo>
                              <a:pt x="300" y="298"/>
                            </a:lnTo>
                            <a:lnTo>
                              <a:pt x="308" y="328"/>
                            </a:lnTo>
                            <a:lnTo>
                              <a:pt x="315" y="343"/>
                            </a:lnTo>
                            <a:lnTo>
                              <a:pt x="316" y="343"/>
                            </a:lnTo>
                            <a:lnTo>
                              <a:pt x="321" y="343"/>
                            </a:lnTo>
                            <a:lnTo>
                              <a:pt x="328" y="343"/>
                            </a:lnTo>
                            <a:lnTo>
                              <a:pt x="338" y="340"/>
                            </a:lnTo>
                            <a:lnTo>
                              <a:pt x="350" y="337"/>
                            </a:lnTo>
                            <a:lnTo>
                              <a:pt x="364" y="330"/>
                            </a:lnTo>
                            <a:lnTo>
                              <a:pt x="378" y="322"/>
                            </a:lnTo>
                            <a:lnTo>
                              <a:pt x="394" y="311"/>
                            </a:lnTo>
                            <a:lnTo>
                              <a:pt x="400" y="306"/>
                            </a:lnTo>
                            <a:lnTo>
                              <a:pt x="410" y="298"/>
                            </a:lnTo>
                            <a:lnTo>
                              <a:pt x="420" y="287"/>
                            </a:lnTo>
                            <a:lnTo>
                              <a:pt x="430" y="272"/>
                            </a:lnTo>
                            <a:lnTo>
                              <a:pt x="437" y="256"/>
                            </a:lnTo>
                            <a:lnTo>
                              <a:pt x="441" y="238"/>
                            </a:lnTo>
                            <a:lnTo>
                              <a:pt x="440" y="218"/>
                            </a:lnTo>
                            <a:lnTo>
                              <a:pt x="431" y="196"/>
                            </a:lnTo>
                            <a:lnTo>
                              <a:pt x="435" y="200"/>
                            </a:lnTo>
                            <a:lnTo>
                              <a:pt x="442" y="213"/>
                            </a:lnTo>
                            <a:lnTo>
                              <a:pt x="449" y="229"/>
                            </a:lnTo>
                            <a:lnTo>
                              <a:pt x="454" y="251"/>
                            </a:lnTo>
                            <a:lnTo>
                              <a:pt x="453" y="277"/>
                            </a:lnTo>
                            <a:lnTo>
                              <a:pt x="443" y="307"/>
                            </a:lnTo>
                            <a:lnTo>
                              <a:pt x="421" y="339"/>
                            </a:lnTo>
                            <a:lnTo>
                              <a:pt x="384" y="372"/>
                            </a:lnTo>
                            <a:lnTo>
                              <a:pt x="381" y="374"/>
                            </a:lnTo>
                            <a:lnTo>
                              <a:pt x="376" y="377"/>
                            </a:lnTo>
                            <a:lnTo>
                              <a:pt x="370" y="381"/>
                            </a:lnTo>
                            <a:lnTo>
                              <a:pt x="363" y="387"/>
                            </a:lnTo>
                            <a:lnTo>
                              <a:pt x="355" y="395"/>
                            </a:lnTo>
                            <a:lnTo>
                              <a:pt x="349" y="402"/>
                            </a:lnTo>
                            <a:lnTo>
                              <a:pt x="344" y="409"/>
                            </a:lnTo>
                            <a:lnTo>
                              <a:pt x="342" y="418"/>
                            </a:lnTo>
                            <a:lnTo>
                              <a:pt x="343" y="423"/>
                            </a:lnTo>
                            <a:lnTo>
                              <a:pt x="345" y="437"/>
                            </a:lnTo>
                            <a:lnTo>
                              <a:pt x="349" y="452"/>
                            </a:lnTo>
                            <a:lnTo>
                              <a:pt x="353" y="459"/>
                            </a:lnTo>
                            <a:lnTo>
                              <a:pt x="353" y="459"/>
                            </a:lnTo>
                            <a:lnTo>
                              <a:pt x="353" y="456"/>
                            </a:lnTo>
                            <a:lnTo>
                              <a:pt x="355" y="453"/>
                            </a:lnTo>
                            <a:lnTo>
                              <a:pt x="360" y="448"/>
                            </a:lnTo>
                            <a:lnTo>
                              <a:pt x="369" y="442"/>
                            </a:lnTo>
                            <a:lnTo>
                              <a:pt x="381" y="432"/>
                            </a:lnTo>
                            <a:lnTo>
                              <a:pt x="400" y="421"/>
                            </a:lnTo>
                            <a:lnTo>
                              <a:pt x="425" y="406"/>
                            </a:lnTo>
                            <a:lnTo>
                              <a:pt x="427" y="405"/>
                            </a:lnTo>
                            <a:lnTo>
                              <a:pt x="435" y="400"/>
                            </a:lnTo>
                            <a:lnTo>
                              <a:pt x="444" y="391"/>
                            </a:lnTo>
                            <a:lnTo>
                              <a:pt x="456" y="379"/>
                            </a:lnTo>
                            <a:lnTo>
                              <a:pt x="467" y="361"/>
                            </a:lnTo>
                            <a:lnTo>
                              <a:pt x="475" y="340"/>
                            </a:lnTo>
                            <a:lnTo>
                              <a:pt x="479" y="314"/>
                            </a:lnTo>
                            <a:lnTo>
                              <a:pt x="478" y="285"/>
                            </a:lnTo>
                            <a:lnTo>
                              <a:pt x="478" y="287"/>
                            </a:lnTo>
                            <a:lnTo>
                              <a:pt x="482" y="296"/>
                            </a:lnTo>
                            <a:lnTo>
                              <a:pt x="485" y="308"/>
                            </a:lnTo>
                            <a:lnTo>
                              <a:pt x="488" y="325"/>
                            </a:lnTo>
                            <a:lnTo>
                              <a:pt x="485" y="345"/>
                            </a:lnTo>
                            <a:lnTo>
                              <a:pt x="478" y="367"/>
                            </a:lnTo>
                            <a:lnTo>
                              <a:pt x="461" y="391"/>
                            </a:lnTo>
                            <a:lnTo>
                              <a:pt x="433" y="416"/>
                            </a:lnTo>
                            <a:lnTo>
                              <a:pt x="430" y="418"/>
                            </a:lnTo>
                            <a:lnTo>
                              <a:pt x="421" y="423"/>
                            </a:lnTo>
                            <a:lnTo>
                              <a:pt x="409" y="431"/>
                            </a:lnTo>
                            <a:lnTo>
                              <a:pt x="395" y="440"/>
                            </a:lnTo>
                            <a:lnTo>
                              <a:pt x="380" y="452"/>
                            </a:lnTo>
                            <a:lnTo>
                              <a:pt x="368" y="463"/>
                            </a:lnTo>
                            <a:lnTo>
                              <a:pt x="359" y="475"/>
                            </a:lnTo>
                            <a:lnTo>
                              <a:pt x="357" y="486"/>
                            </a:lnTo>
                            <a:lnTo>
                              <a:pt x="350" y="476"/>
                            </a:lnTo>
                            <a:lnTo>
                              <a:pt x="341" y="458"/>
                            </a:lnTo>
                            <a:lnTo>
                              <a:pt x="332" y="431"/>
                            </a:lnTo>
                            <a:lnTo>
                              <a:pt x="328" y="396"/>
                            </a:lnTo>
                            <a:lnTo>
                              <a:pt x="333" y="391"/>
                            </a:lnTo>
                            <a:lnTo>
                              <a:pt x="345" y="382"/>
                            </a:lnTo>
                            <a:lnTo>
                              <a:pt x="365" y="370"/>
                            </a:lnTo>
                            <a:lnTo>
                              <a:pt x="386" y="354"/>
                            </a:lnTo>
                            <a:lnTo>
                              <a:pt x="409" y="335"/>
                            </a:lnTo>
                            <a:lnTo>
                              <a:pt x="426" y="314"/>
                            </a:lnTo>
                            <a:lnTo>
                              <a:pt x="438" y="292"/>
                            </a:lnTo>
                            <a:lnTo>
                              <a:pt x="442" y="270"/>
                            </a:lnTo>
                            <a:lnTo>
                              <a:pt x="441" y="272"/>
                            </a:lnTo>
                            <a:lnTo>
                              <a:pt x="437" y="282"/>
                            </a:lnTo>
                            <a:lnTo>
                              <a:pt x="428" y="294"/>
                            </a:lnTo>
                            <a:lnTo>
                              <a:pt x="415" y="309"/>
                            </a:lnTo>
                            <a:lnTo>
                              <a:pt x="397" y="325"/>
                            </a:lnTo>
                            <a:lnTo>
                              <a:pt x="374" y="339"/>
                            </a:lnTo>
                            <a:lnTo>
                              <a:pt x="345" y="350"/>
                            </a:lnTo>
                            <a:lnTo>
                              <a:pt x="311" y="356"/>
                            </a:lnTo>
                            <a:lnTo>
                              <a:pt x="310" y="353"/>
                            </a:lnTo>
                            <a:lnTo>
                              <a:pt x="305" y="340"/>
                            </a:lnTo>
                            <a:lnTo>
                              <a:pt x="296" y="318"/>
                            </a:lnTo>
                            <a:lnTo>
                              <a:pt x="286" y="288"/>
                            </a:lnTo>
                            <a:lnTo>
                              <a:pt x="274" y="250"/>
                            </a:lnTo>
                            <a:lnTo>
                              <a:pt x="261" y="205"/>
                            </a:lnTo>
                            <a:lnTo>
                              <a:pt x="249" y="152"/>
                            </a:lnTo>
                            <a:lnTo>
                              <a:pt x="238" y="94"/>
                            </a:lnTo>
                            <a:lnTo>
                              <a:pt x="235" y="94"/>
                            </a:lnTo>
                            <a:lnTo>
                              <a:pt x="234" y="92"/>
                            </a:lnTo>
                            <a:lnTo>
                              <a:pt x="234" y="90"/>
                            </a:lnTo>
                            <a:lnTo>
                              <a:pt x="233" y="90"/>
                            </a:lnTo>
                            <a:lnTo>
                              <a:pt x="233" y="88"/>
                            </a:lnTo>
                            <a:lnTo>
                              <a:pt x="229" y="79"/>
                            </a:lnTo>
                            <a:lnTo>
                              <a:pt x="221" y="66"/>
                            </a:lnTo>
                            <a:lnTo>
                              <a:pt x="207" y="52"/>
                            </a:lnTo>
                            <a:lnTo>
                              <a:pt x="188" y="37"/>
                            </a:lnTo>
                            <a:lnTo>
                              <a:pt x="165" y="26"/>
                            </a:lnTo>
                            <a:lnTo>
                              <a:pt x="136" y="20"/>
                            </a:lnTo>
                            <a:lnTo>
                              <a:pt x="103" y="21"/>
                            </a:lnTo>
                            <a:lnTo>
                              <a:pt x="102" y="21"/>
                            </a:lnTo>
                            <a:lnTo>
                              <a:pt x="93" y="22"/>
                            </a:lnTo>
                            <a:lnTo>
                              <a:pt x="81" y="26"/>
                            </a:lnTo>
                            <a:lnTo>
                              <a:pt x="66" y="31"/>
                            </a:lnTo>
                            <a:lnTo>
                              <a:pt x="50" y="37"/>
                            </a:lnTo>
                            <a:lnTo>
                              <a:pt x="36" y="47"/>
                            </a:lnTo>
                            <a:lnTo>
                              <a:pt x="27" y="60"/>
                            </a:lnTo>
                            <a:lnTo>
                              <a:pt x="24" y="74"/>
                            </a:lnTo>
                            <a:lnTo>
                              <a:pt x="25" y="78"/>
                            </a:lnTo>
                            <a:lnTo>
                              <a:pt x="27" y="85"/>
                            </a:lnTo>
                            <a:lnTo>
                              <a:pt x="31" y="94"/>
                            </a:lnTo>
                            <a:lnTo>
                              <a:pt x="40" y="105"/>
                            </a:lnTo>
                            <a:lnTo>
                              <a:pt x="50" y="115"/>
                            </a:lnTo>
                            <a:lnTo>
                              <a:pt x="65" y="124"/>
                            </a:lnTo>
                            <a:lnTo>
                              <a:pt x="84" y="130"/>
                            </a:lnTo>
                            <a:lnTo>
                              <a:pt x="108" y="130"/>
                            </a:lnTo>
                            <a:lnTo>
                              <a:pt x="109" y="129"/>
                            </a:lnTo>
                            <a:lnTo>
                              <a:pt x="117" y="128"/>
                            </a:lnTo>
                            <a:lnTo>
                              <a:pt x="126" y="126"/>
                            </a:lnTo>
                            <a:lnTo>
                              <a:pt x="141" y="124"/>
                            </a:lnTo>
                            <a:lnTo>
                              <a:pt x="159" y="120"/>
                            </a:lnTo>
                            <a:lnTo>
                              <a:pt x="177" y="115"/>
                            </a:lnTo>
                            <a:lnTo>
                              <a:pt x="196" y="107"/>
                            </a:lnTo>
                            <a:lnTo>
                              <a:pt x="216" y="94"/>
                            </a:lnTo>
                            <a:lnTo>
                              <a:pt x="219" y="110"/>
                            </a:lnTo>
                            <a:lnTo>
                              <a:pt x="230" y="152"/>
                            </a:lnTo>
                            <a:lnTo>
                              <a:pt x="246" y="214"/>
                            </a:lnTo>
                            <a:lnTo>
                              <a:pt x="268" y="286"/>
                            </a:lnTo>
                            <a:lnTo>
                              <a:pt x="291" y="361"/>
                            </a:lnTo>
                            <a:lnTo>
                              <a:pt x="315" y="432"/>
                            </a:lnTo>
                            <a:lnTo>
                              <a:pt x="337" y="490"/>
                            </a:lnTo>
                            <a:lnTo>
                              <a:pt x="355" y="528"/>
                            </a:lnTo>
                            <a:lnTo>
                              <a:pt x="355" y="528"/>
                            </a:lnTo>
                            <a:lnTo>
                              <a:pt x="357" y="523"/>
                            </a:lnTo>
                            <a:lnTo>
                              <a:pt x="359" y="513"/>
                            </a:lnTo>
                            <a:lnTo>
                              <a:pt x="364" y="501"/>
                            </a:lnTo>
                            <a:lnTo>
                              <a:pt x="374" y="486"/>
                            </a:lnTo>
                            <a:lnTo>
                              <a:pt x="388" y="469"/>
                            </a:lnTo>
                            <a:lnTo>
                              <a:pt x="409" y="450"/>
                            </a:lnTo>
                            <a:lnTo>
                              <a:pt x="437" y="429"/>
                            </a:lnTo>
                            <a:lnTo>
                              <a:pt x="438" y="427"/>
                            </a:lnTo>
                            <a:lnTo>
                              <a:pt x="447" y="421"/>
                            </a:lnTo>
                            <a:lnTo>
                              <a:pt x="458" y="409"/>
                            </a:lnTo>
                            <a:lnTo>
                              <a:pt x="470" y="395"/>
                            </a:lnTo>
                            <a:lnTo>
                              <a:pt x="480" y="375"/>
                            </a:lnTo>
                            <a:lnTo>
                              <a:pt x="488" y="350"/>
                            </a:lnTo>
                            <a:lnTo>
                              <a:pt x="488" y="320"/>
                            </a:lnTo>
                            <a:lnTo>
                              <a:pt x="478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0" name=""/>
                      <p:cNvSpPr/>
                      <p:nvPr/>
                    </p:nvSpPr>
                    <p:spPr>
                      <a:xfrm>
                        <a:off x="3565440" y="5489640"/>
                        <a:ext cx="172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74">
                            <a:moveTo>
                              <a:pt x="63" y="1"/>
                            </a:moveTo>
                            <a:lnTo>
                              <a:pt x="76" y="0"/>
                            </a:lnTo>
                            <a:lnTo>
                              <a:pt x="90" y="0"/>
                            </a:lnTo>
                            <a:lnTo>
                              <a:pt x="102" y="2"/>
                            </a:lnTo>
                            <a:lnTo>
                              <a:pt x="112" y="5"/>
                            </a:lnTo>
                            <a:lnTo>
                              <a:pt x="122" y="8"/>
                            </a:lnTo>
                            <a:lnTo>
                              <a:pt x="128" y="13"/>
                            </a:lnTo>
                            <a:lnTo>
                              <a:pt x="133" y="19"/>
                            </a:lnTo>
                            <a:lnTo>
                              <a:pt x="136" y="27"/>
                            </a:lnTo>
                            <a:lnTo>
                              <a:pt x="136" y="34"/>
                            </a:lnTo>
                            <a:lnTo>
                              <a:pt x="133" y="42"/>
                            </a:lnTo>
                            <a:lnTo>
                              <a:pt x="127" y="49"/>
                            </a:lnTo>
                            <a:lnTo>
                              <a:pt x="120" y="55"/>
                            </a:lnTo>
                            <a:lnTo>
                              <a:pt x="111" y="62"/>
                            </a:lnTo>
                            <a:lnTo>
                              <a:pt x="99" y="66"/>
                            </a:lnTo>
                            <a:lnTo>
                              <a:pt x="86" y="70"/>
                            </a:lnTo>
                            <a:lnTo>
                              <a:pt x="73" y="73"/>
                            </a:lnTo>
                            <a:lnTo>
                              <a:pt x="59" y="74"/>
                            </a:lnTo>
                            <a:lnTo>
                              <a:pt x="45" y="73"/>
                            </a:lnTo>
                            <a:lnTo>
                              <a:pt x="34" y="71"/>
                            </a:lnTo>
                            <a:lnTo>
                              <a:pt x="23" y="68"/>
                            </a:lnTo>
                            <a:lnTo>
                              <a:pt x="14" y="64"/>
                            </a:lnTo>
                            <a:lnTo>
                              <a:pt x="7" y="59"/>
                            </a:lnTo>
                            <a:lnTo>
                              <a:pt x="2" y="53"/>
                            </a:lnTo>
                            <a:lnTo>
                              <a:pt x="0" y="45"/>
                            </a:lnTo>
                            <a:lnTo>
                              <a:pt x="0" y="38"/>
                            </a:lnTo>
                            <a:lnTo>
                              <a:pt x="3" y="32"/>
                            </a:lnTo>
                            <a:lnTo>
                              <a:pt x="8" y="24"/>
                            </a:lnTo>
                            <a:lnTo>
                              <a:pt x="17" y="18"/>
                            </a:lnTo>
                            <a:lnTo>
                              <a:pt x="26" y="12"/>
                            </a:lnTo>
                            <a:lnTo>
                              <a:pt x="37" y="7"/>
                            </a:lnTo>
                            <a:lnTo>
                              <a:pt x="49" y="3"/>
                            </a:lnTo>
                            <a:lnTo>
                              <a:pt x="63" y="1"/>
                            </a:lnTo>
                            <a:close/>
                          </a:path>
                        </a:pathLst>
                      </a:custGeom>
                      <a:solidFill>
                        <a:srgbClr val="f4e54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1" name=""/>
                      <p:cNvSpPr/>
                      <p:nvPr/>
                    </p:nvSpPr>
                    <p:spPr>
                      <a:xfrm>
                        <a:off x="3565800" y="5490000"/>
                        <a:ext cx="1512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1" h="66">
                            <a:moveTo>
                              <a:pt x="55" y="1"/>
                            </a:moveTo>
                            <a:lnTo>
                              <a:pt x="68" y="0"/>
                            </a:lnTo>
                            <a:lnTo>
                              <a:pt x="80" y="0"/>
                            </a:lnTo>
                            <a:lnTo>
                              <a:pt x="91" y="1"/>
                            </a:lnTo>
                            <a:lnTo>
                              <a:pt x="100" y="3"/>
                            </a:lnTo>
                            <a:lnTo>
                              <a:pt x="108" y="7"/>
                            </a:lnTo>
                            <a:lnTo>
                              <a:pt x="115" y="12"/>
                            </a:lnTo>
                            <a:lnTo>
                              <a:pt x="118" y="18"/>
                            </a:lnTo>
                            <a:lnTo>
                              <a:pt x="121" y="24"/>
                            </a:lnTo>
                            <a:lnTo>
                              <a:pt x="121" y="31"/>
                            </a:lnTo>
                            <a:lnTo>
                              <a:pt x="118" y="37"/>
                            </a:lnTo>
                            <a:lnTo>
                              <a:pt x="113" y="44"/>
                            </a:lnTo>
                            <a:lnTo>
                              <a:pt x="106" y="49"/>
                            </a:lnTo>
                            <a:lnTo>
                              <a:pt x="99" y="54"/>
                            </a:lnTo>
                            <a:lnTo>
                              <a:pt x="89" y="59"/>
                            </a:lnTo>
                            <a:lnTo>
                              <a:pt x="77" y="63"/>
                            </a:lnTo>
                            <a:lnTo>
                              <a:pt x="65" y="65"/>
                            </a:lnTo>
                            <a:lnTo>
                              <a:pt x="53" y="66"/>
                            </a:lnTo>
                            <a:lnTo>
                              <a:pt x="42" y="66"/>
                            </a:lnTo>
                            <a:lnTo>
                              <a:pt x="30" y="64"/>
                            </a:lnTo>
                            <a:lnTo>
                              <a:pt x="21" y="61"/>
                            </a:lnTo>
                            <a:lnTo>
                              <a:pt x="13" y="58"/>
                            </a:lnTo>
                            <a:lnTo>
                              <a:pt x="6" y="53"/>
                            </a:lnTo>
                            <a:lnTo>
                              <a:pt x="2" y="48"/>
                            </a:lnTo>
                            <a:lnTo>
                              <a:pt x="0" y="42"/>
                            </a:lnTo>
                            <a:lnTo>
                              <a:pt x="0" y="35"/>
                            </a:lnTo>
                            <a:lnTo>
                              <a:pt x="2" y="28"/>
                            </a:lnTo>
                            <a:lnTo>
                              <a:pt x="7" y="22"/>
                            </a:lnTo>
                            <a:lnTo>
                              <a:pt x="14" y="17"/>
                            </a:lnTo>
                            <a:lnTo>
                              <a:pt x="22" y="12"/>
                            </a:lnTo>
                            <a:lnTo>
                              <a:pt x="32" y="7"/>
                            </a:lnTo>
                            <a:lnTo>
                              <a:pt x="43" y="3"/>
                            </a:lnTo>
                            <a:lnTo>
                              <a:pt x="55" y="1"/>
                            </a:lnTo>
                            <a:close/>
                          </a:path>
                        </a:pathLst>
                      </a:custGeom>
                      <a:solidFill>
                        <a:srgbClr val="fcef6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2" name=""/>
                      <p:cNvSpPr/>
                      <p:nvPr/>
                    </p:nvSpPr>
                    <p:spPr>
                      <a:xfrm>
                        <a:off x="3566520" y="5490360"/>
                        <a:ext cx="13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58">
                            <a:moveTo>
                              <a:pt x="49" y="1"/>
                            </a:moveTo>
                            <a:lnTo>
                              <a:pt x="60" y="0"/>
                            </a:lnTo>
                            <a:lnTo>
                              <a:pt x="70" y="0"/>
                            </a:lnTo>
                            <a:lnTo>
                              <a:pt x="80" y="1"/>
                            </a:lnTo>
                            <a:lnTo>
                              <a:pt x="88" y="3"/>
                            </a:lnTo>
                            <a:lnTo>
                              <a:pt x="96" y="6"/>
                            </a:lnTo>
                            <a:lnTo>
                              <a:pt x="101" y="9"/>
                            </a:lnTo>
                            <a:lnTo>
                              <a:pt x="104" y="14"/>
                            </a:lnTo>
                            <a:lnTo>
                              <a:pt x="107" y="21"/>
                            </a:lnTo>
                            <a:lnTo>
                              <a:pt x="107" y="27"/>
                            </a:lnTo>
                            <a:lnTo>
                              <a:pt x="104" y="32"/>
                            </a:lnTo>
                            <a:lnTo>
                              <a:pt x="101" y="38"/>
                            </a:lnTo>
                            <a:lnTo>
                              <a:pt x="95" y="43"/>
                            </a:lnTo>
                            <a:lnTo>
                              <a:pt x="87" y="48"/>
                            </a:lnTo>
                            <a:lnTo>
                              <a:pt x="80" y="52"/>
                            </a:lnTo>
                            <a:lnTo>
                              <a:pt x="70" y="54"/>
                            </a:lnTo>
                            <a:lnTo>
                              <a:pt x="59" y="56"/>
                            </a:lnTo>
                            <a:lnTo>
                              <a:pt x="47" y="58"/>
                            </a:lnTo>
                            <a:lnTo>
                              <a:pt x="38" y="58"/>
                            </a:lnTo>
                            <a:lnTo>
                              <a:pt x="28" y="56"/>
                            </a:lnTo>
                            <a:lnTo>
                              <a:pt x="19" y="54"/>
                            </a:lnTo>
                            <a:lnTo>
                              <a:pt x="12" y="52"/>
                            </a:lnTo>
                            <a:lnTo>
                              <a:pt x="7" y="48"/>
                            </a:lnTo>
                            <a:lnTo>
                              <a:pt x="3" y="43"/>
                            </a:lnTo>
                            <a:lnTo>
                              <a:pt x="0" y="38"/>
                            </a:lnTo>
                            <a:lnTo>
                              <a:pt x="0" y="32"/>
                            </a:lnTo>
                            <a:lnTo>
                              <a:pt x="3" y="26"/>
                            </a:lnTo>
                            <a:lnTo>
                              <a:pt x="7" y="21"/>
                            </a:lnTo>
                            <a:lnTo>
                              <a:pt x="13" y="16"/>
                            </a:lnTo>
                            <a:lnTo>
                              <a:pt x="20" y="11"/>
                            </a:lnTo>
                            <a:lnTo>
                              <a:pt x="29" y="7"/>
                            </a:lnTo>
                            <a:lnTo>
                              <a:pt x="38" y="3"/>
                            </a:lnTo>
                            <a:lnTo>
                              <a:pt x="49" y="1"/>
                            </a:lnTo>
                            <a:close/>
                          </a:path>
                        </a:pathLst>
                      </a:custGeom>
                      <a:solidFill>
                        <a:srgbClr val="fcf2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3" name=""/>
                      <p:cNvSpPr/>
                      <p:nvPr/>
                    </p:nvSpPr>
                    <p:spPr>
                      <a:xfrm>
                        <a:off x="3567240" y="5491080"/>
                        <a:ext cx="1116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50">
                            <a:moveTo>
                              <a:pt x="43" y="1"/>
                            </a:moveTo>
                            <a:lnTo>
                              <a:pt x="52" y="0"/>
                            </a:lnTo>
                            <a:lnTo>
                              <a:pt x="61" y="0"/>
                            </a:lnTo>
                            <a:lnTo>
                              <a:pt x="69" y="1"/>
                            </a:lnTo>
                            <a:lnTo>
                              <a:pt x="77" y="3"/>
                            </a:lnTo>
                            <a:lnTo>
                              <a:pt x="83" y="6"/>
                            </a:lnTo>
                            <a:lnTo>
                              <a:pt x="88" y="8"/>
                            </a:lnTo>
                            <a:lnTo>
                              <a:pt x="92" y="12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1" y="27"/>
                            </a:lnTo>
                            <a:lnTo>
                              <a:pt x="88" y="32"/>
                            </a:lnTo>
                            <a:lnTo>
                              <a:pt x="83" y="37"/>
                            </a:lnTo>
                            <a:lnTo>
                              <a:pt x="77" y="40"/>
                            </a:lnTo>
                            <a:lnTo>
                              <a:pt x="68" y="44"/>
                            </a:lnTo>
                            <a:lnTo>
                              <a:pt x="61" y="47"/>
                            </a:lnTo>
                            <a:lnTo>
                              <a:pt x="51" y="49"/>
                            </a:lnTo>
                            <a:lnTo>
                              <a:pt x="42" y="50"/>
                            </a:lnTo>
                            <a:lnTo>
                              <a:pt x="32" y="50"/>
                            </a:lnTo>
                            <a:lnTo>
                              <a:pt x="25" y="50"/>
                            </a:lnTo>
                            <a:lnTo>
                              <a:pt x="18" y="48"/>
                            </a:lnTo>
                            <a:lnTo>
                              <a:pt x="11" y="45"/>
                            </a:lnTo>
                            <a:lnTo>
                              <a:pt x="5" y="42"/>
                            </a:lnTo>
                            <a:lnTo>
                              <a:pt x="3" y="38"/>
                            </a:lnTo>
                            <a:lnTo>
                              <a:pt x="0" y="33"/>
                            </a:lnTo>
                            <a:lnTo>
                              <a:pt x="0" y="28"/>
                            </a:lnTo>
                            <a:lnTo>
                              <a:pt x="3" y="23"/>
                            </a:lnTo>
                            <a:lnTo>
                              <a:pt x="6" y="18"/>
                            </a:lnTo>
                            <a:lnTo>
                              <a:pt x="11" y="13"/>
                            </a:lnTo>
                            <a:lnTo>
                              <a:pt x="18" y="9"/>
                            </a:lnTo>
                            <a:lnTo>
                              <a:pt x="26" y="6"/>
                            </a:lnTo>
                            <a:lnTo>
                              <a:pt x="34" y="3"/>
                            </a:lnTo>
                            <a:lnTo>
                              <a:pt x="43" y="1"/>
                            </a:lnTo>
                            <a:close/>
                          </a:path>
                        </a:pathLst>
                      </a:custGeom>
                      <a:solidFill>
                        <a:srgbClr val="fff79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4" name=""/>
                      <p:cNvSpPr/>
                      <p:nvPr/>
                    </p:nvSpPr>
                    <p:spPr>
                      <a:xfrm>
                        <a:off x="3567960" y="5491440"/>
                        <a:ext cx="93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44">
                            <a:moveTo>
                              <a:pt x="36" y="2"/>
                            </a:moveTo>
                            <a:lnTo>
                              <a:pt x="43" y="0"/>
                            </a:lnTo>
                            <a:lnTo>
                              <a:pt x="51" y="0"/>
                            </a:lnTo>
                            <a:lnTo>
                              <a:pt x="58" y="2"/>
                            </a:lnTo>
                            <a:lnTo>
                              <a:pt x="64" y="3"/>
                            </a:lnTo>
                            <a:lnTo>
                              <a:pt x="69" y="5"/>
                            </a:lnTo>
                            <a:lnTo>
                              <a:pt x="74" y="8"/>
                            </a:lnTo>
                            <a:lnTo>
                              <a:pt x="77" y="12"/>
                            </a:lnTo>
                            <a:lnTo>
                              <a:pt x="78" y="15"/>
                            </a:lnTo>
                            <a:lnTo>
                              <a:pt x="78" y="19"/>
                            </a:lnTo>
                            <a:lnTo>
                              <a:pt x="77" y="24"/>
                            </a:lnTo>
                            <a:lnTo>
                              <a:pt x="74" y="28"/>
                            </a:lnTo>
                            <a:lnTo>
                              <a:pt x="69" y="31"/>
                            </a:lnTo>
                            <a:lnTo>
                              <a:pt x="64" y="35"/>
                            </a:lnTo>
                            <a:lnTo>
                              <a:pt x="58" y="39"/>
                            </a:lnTo>
                            <a:lnTo>
                              <a:pt x="51" y="41"/>
                            </a:lnTo>
                            <a:lnTo>
                              <a:pt x="43" y="43"/>
                            </a:lnTo>
                            <a:lnTo>
                              <a:pt x="36" y="44"/>
                            </a:lnTo>
                            <a:lnTo>
                              <a:pt x="29" y="44"/>
                            </a:lnTo>
                            <a:lnTo>
                              <a:pt x="21" y="44"/>
                            </a:lnTo>
                            <a:lnTo>
                              <a:pt x="15" y="43"/>
                            </a:lnTo>
                            <a:lnTo>
                              <a:pt x="9" y="40"/>
                            </a:lnTo>
                            <a:lnTo>
                              <a:pt x="5" y="38"/>
                            </a:lnTo>
                            <a:lnTo>
                              <a:pt x="1" y="34"/>
                            </a:lnTo>
                            <a:lnTo>
                              <a:pt x="0" y="30"/>
                            </a:lnTo>
                            <a:lnTo>
                              <a:pt x="0" y="26"/>
                            </a:lnTo>
                            <a:lnTo>
                              <a:pt x="3" y="21"/>
                            </a:lnTo>
                            <a:lnTo>
                              <a:pt x="5" y="18"/>
                            </a:lnTo>
                            <a:lnTo>
                              <a:pt x="9" y="14"/>
                            </a:lnTo>
                            <a:lnTo>
                              <a:pt x="15" y="10"/>
                            </a:lnTo>
                            <a:lnTo>
                              <a:pt x="21" y="7"/>
                            </a:lnTo>
                            <a:lnTo>
                              <a:pt x="29" y="4"/>
                            </a:lnTo>
                            <a:lnTo>
                              <a:pt x="36" y="2"/>
                            </a:lnTo>
                            <a:close/>
                          </a:path>
                        </a:pathLst>
                      </a:custGeom>
                      <a:solidFill>
                        <a:srgbClr val="fff9ad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5" name=""/>
                      <p:cNvSpPr/>
                      <p:nvPr/>
                    </p:nvSpPr>
                    <p:spPr>
                      <a:xfrm>
                        <a:off x="3568680" y="549216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36">
                            <a:moveTo>
                              <a:pt x="29" y="2"/>
                            </a:moveTo>
                            <a:lnTo>
                              <a:pt x="41" y="0"/>
                            </a:lnTo>
                            <a:lnTo>
                              <a:pt x="52" y="2"/>
                            </a:lnTo>
                            <a:lnTo>
                              <a:pt x="59" y="5"/>
                            </a:lnTo>
                            <a:lnTo>
                              <a:pt x="63" y="12"/>
                            </a:lnTo>
                            <a:lnTo>
                              <a:pt x="62" y="18"/>
                            </a:lnTo>
                            <a:lnTo>
                              <a:pt x="57" y="25"/>
                            </a:lnTo>
                            <a:lnTo>
                              <a:pt x="48" y="31"/>
                            </a:lnTo>
                            <a:lnTo>
                              <a:pt x="36" y="35"/>
                            </a:lnTo>
                            <a:lnTo>
                              <a:pt x="24" y="36"/>
                            </a:lnTo>
                            <a:lnTo>
                              <a:pt x="12" y="35"/>
                            </a:lnTo>
                            <a:lnTo>
                              <a:pt x="4" y="31"/>
                            </a:lnTo>
                            <a:lnTo>
                              <a:pt x="0" y="26"/>
                            </a:lnTo>
                            <a:lnTo>
                              <a:pt x="1" y="19"/>
                            </a:lnTo>
                            <a:lnTo>
                              <a:pt x="8" y="12"/>
                            </a:lnTo>
                            <a:lnTo>
                              <a:pt x="16" y="7"/>
                            </a:lnTo>
                            <a:lnTo>
                              <a:pt x="29" y="2"/>
                            </a:lnTo>
                            <a:close/>
                          </a:path>
                        </a:pathLst>
                      </a:custGeom>
                      <a:solidFill>
                        <a:srgbClr val="fffcc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6" name=""/>
                      <p:cNvSpPr/>
                      <p:nvPr/>
                    </p:nvSpPr>
                    <p:spPr>
                      <a:xfrm>
                        <a:off x="3569040" y="5492520"/>
                        <a:ext cx="576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29">
                            <a:moveTo>
                              <a:pt x="21" y="2"/>
                            </a:moveTo>
                            <a:lnTo>
                              <a:pt x="31" y="0"/>
                            </a:lnTo>
                            <a:lnTo>
                              <a:pt x="40" y="0"/>
                            </a:lnTo>
                            <a:lnTo>
                              <a:pt x="46" y="4"/>
                            </a:lnTo>
                            <a:lnTo>
                              <a:pt x="48" y="8"/>
                            </a:lnTo>
                            <a:lnTo>
                              <a:pt x="48" y="14"/>
                            </a:lnTo>
                            <a:lnTo>
                              <a:pt x="45" y="19"/>
                            </a:lnTo>
                            <a:lnTo>
                              <a:pt x="37" y="24"/>
                            </a:lnTo>
                            <a:lnTo>
                              <a:pt x="28" y="28"/>
                            </a:lnTo>
                            <a:lnTo>
                              <a:pt x="19" y="29"/>
                            </a:lnTo>
                            <a:lnTo>
                              <a:pt x="10" y="29"/>
                            </a:lnTo>
                            <a:lnTo>
                              <a:pt x="4" y="26"/>
                            </a:lnTo>
                            <a:lnTo>
                              <a:pt x="0" y="21"/>
                            </a:lnTo>
                            <a:lnTo>
                              <a:pt x="1" y="15"/>
                            </a:lnTo>
                            <a:lnTo>
                              <a:pt x="5" y="10"/>
                            </a:lnTo>
                            <a:lnTo>
                              <a:pt x="12" y="5"/>
                            </a:lnTo>
                            <a:lnTo>
                              <a:pt x="21" y="2"/>
                            </a:lnTo>
                            <a:close/>
                          </a:path>
                        </a:pathLst>
                      </a:custGeom>
                      <a:solidFill>
                        <a:srgbClr val="ffffd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07" name=""/>
                    <p:cNvGrpSpPr/>
                    <p:nvPr/>
                  </p:nvGrpSpPr>
                  <p:grpSpPr>
                    <a:xfrm>
                      <a:off x="3588120" y="5538240"/>
                      <a:ext cx="101880" cy="128880"/>
                      <a:chOff x="3588120" y="5538240"/>
                      <a:chExt cx="101880" cy="128880"/>
                    </a:xfrm>
                  </p:grpSpPr>
                  <p:sp>
                    <p:nvSpPr>
                      <p:cNvPr id="1008" name=""/>
                      <p:cNvSpPr/>
                      <p:nvPr/>
                    </p:nvSpPr>
                    <p:spPr>
                      <a:xfrm>
                        <a:off x="3592440" y="5538240"/>
                        <a:ext cx="97560" cy="12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4" h="1217">
                            <a:moveTo>
                              <a:pt x="744" y="0"/>
                            </a:moveTo>
                            <a:lnTo>
                              <a:pt x="738" y="3"/>
                            </a:lnTo>
                            <a:lnTo>
                              <a:pt x="720" y="8"/>
                            </a:lnTo>
                            <a:lnTo>
                              <a:pt x="693" y="18"/>
                            </a:lnTo>
                            <a:lnTo>
                              <a:pt x="658" y="29"/>
                            </a:lnTo>
                            <a:lnTo>
                              <a:pt x="616" y="42"/>
                            </a:lnTo>
                            <a:lnTo>
                              <a:pt x="568" y="59"/>
                            </a:lnTo>
                            <a:lnTo>
                              <a:pt x="517" y="76"/>
                            </a:lnTo>
                            <a:lnTo>
                              <a:pt x="463" y="93"/>
                            </a:lnTo>
                            <a:lnTo>
                              <a:pt x="408" y="110"/>
                            </a:lnTo>
                            <a:lnTo>
                              <a:pt x="354" y="128"/>
                            </a:lnTo>
                            <a:lnTo>
                              <a:pt x="302" y="144"/>
                            </a:lnTo>
                            <a:lnTo>
                              <a:pt x="253" y="159"/>
                            </a:lnTo>
                            <a:lnTo>
                              <a:pt x="209" y="172"/>
                            </a:lnTo>
                            <a:lnTo>
                              <a:pt x="172" y="182"/>
                            </a:lnTo>
                            <a:lnTo>
                              <a:pt x="142" y="191"/>
                            </a:lnTo>
                            <a:lnTo>
                              <a:pt x="121" y="195"/>
                            </a:lnTo>
                            <a:lnTo>
                              <a:pt x="121" y="202"/>
                            </a:lnTo>
                            <a:lnTo>
                              <a:pt x="121" y="225"/>
                            </a:lnTo>
                            <a:lnTo>
                              <a:pt x="124" y="271"/>
                            </a:lnTo>
                            <a:lnTo>
                              <a:pt x="131" y="343"/>
                            </a:lnTo>
                            <a:lnTo>
                              <a:pt x="144" y="448"/>
                            </a:lnTo>
                            <a:lnTo>
                              <a:pt x="165" y="588"/>
                            </a:lnTo>
                            <a:lnTo>
                              <a:pt x="193" y="770"/>
                            </a:lnTo>
                            <a:lnTo>
                              <a:pt x="234" y="997"/>
                            </a:lnTo>
                            <a:lnTo>
                              <a:pt x="232" y="996"/>
                            </a:lnTo>
                            <a:lnTo>
                              <a:pt x="225" y="995"/>
                            </a:lnTo>
                            <a:lnTo>
                              <a:pt x="215" y="992"/>
                            </a:lnTo>
                            <a:lnTo>
                              <a:pt x="203" y="990"/>
                            </a:lnTo>
                            <a:lnTo>
                              <a:pt x="187" y="987"/>
                            </a:lnTo>
                            <a:lnTo>
                              <a:pt x="170" y="986"/>
                            </a:lnTo>
                            <a:lnTo>
                              <a:pt x="151" y="986"/>
                            </a:lnTo>
                            <a:lnTo>
                              <a:pt x="131" y="987"/>
                            </a:lnTo>
                            <a:lnTo>
                              <a:pt x="111" y="990"/>
                            </a:lnTo>
                            <a:lnTo>
                              <a:pt x="90" y="996"/>
                            </a:lnTo>
                            <a:lnTo>
                              <a:pt x="72" y="1005"/>
                            </a:lnTo>
                            <a:lnTo>
                              <a:pt x="53" y="1017"/>
                            </a:lnTo>
                            <a:lnTo>
                              <a:pt x="36" y="1032"/>
                            </a:lnTo>
                            <a:lnTo>
                              <a:pt x="21" y="1053"/>
                            </a:lnTo>
                            <a:lnTo>
                              <a:pt x="9" y="1078"/>
                            </a:lnTo>
                            <a:lnTo>
                              <a:pt x="0" y="1107"/>
                            </a:lnTo>
                            <a:lnTo>
                              <a:pt x="1" y="1112"/>
                            </a:lnTo>
                            <a:lnTo>
                              <a:pt x="6" y="1126"/>
                            </a:lnTo>
                            <a:lnTo>
                              <a:pt x="15" y="1143"/>
                            </a:lnTo>
                            <a:lnTo>
                              <a:pt x="31" y="1163"/>
                            </a:lnTo>
                            <a:lnTo>
                              <a:pt x="53" y="1180"/>
                            </a:lnTo>
                            <a:lnTo>
                              <a:pt x="84" y="1191"/>
                            </a:lnTo>
                            <a:lnTo>
                              <a:pt x="125" y="1194"/>
                            </a:lnTo>
                            <a:lnTo>
                              <a:pt x="177" y="1184"/>
                            </a:lnTo>
                            <a:lnTo>
                              <a:pt x="181" y="1181"/>
                            </a:lnTo>
                            <a:lnTo>
                              <a:pt x="193" y="1175"/>
                            </a:lnTo>
                            <a:lnTo>
                              <a:pt x="209" y="1165"/>
                            </a:lnTo>
                            <a:lnTo>
                              <a:pt x="230" y="1152"/>
                            </a:lnTo>
                            <a:lnTo>
                              <a:pt x="253" y="1136"/>
                            </a:lnTo>
                            <a:lnTo>
                              <a:pt x="274" y="1117"/>
                            </a:lnTo>
                            <a:lnTo>
                              <a:pt x="293" y="1097"/>
                            </a:lnTo>
                            <a:lnTo>
                              <a:pt x="308" y="1075"/>
                            </a:lnTo>
                            <a:lnTo>
                              <a:pt x="302" y="1056"/>
                            </a:lnTo>
                            <a:lnTo>
                              <a:pt x="288" y="1006"/>
                            </a:lnTo>
                            <a:lnTo>
                              <a:pt x="269" y="930"/>
                            </a:lnTo>
                            <a:lnTo>
                              <a:pt x="246" y="835"/>
                            </a:lnTo>
                            <a:lnTo>
                              <a:pt x="225" y="729"/>
                            </a:lnTo>
                            <a:lnTo>
                              <a:pt x="208" y="617"/>
                            </a:lnTo>
                            <a:lnTo>
                              <a:pt x="201" y="506"/>
                            </a:lnTo>
                            <a:lnTo>
                              <a:pt x="203" y="404"/>
                            </a:lnTo>
                            <a:lnTo>
                              <a:pt x="208" y="402"/>
                            </a:lnTo>
                            <a:lnTo>
                              <a:pt x="220" y="397"/>
                            </a:lnTo>
                            <a:lnTo>
                              <a:pt x="241" y="390"/>
                            </a:lnTo>
                            <a:lnTo>
                              <a:pt x="267" y="381"/>
                            </a:lnTo>
                            <a:lnTo>
                              <a:pt x="300" y="371"/>
                            </a:lnTo>
                            <a:lnTo>
                              <a:pt x="334" y="359"/>
                            </a:lnTo>
                            <a:lnTo>
                              <a:pt x="373" y="347"/>
                            </a:lnTo>
                            <a:lnTo>
                              <a:pt x="413" y="334"/>
                            </a:lnTo>
                            <a:lnTo>
                              <a:pt x="453" y="323"/>
                            </a:lnTo>
                            <a:lnTo>
                              <a:pt x="493" y="312"/>
                            </a:lnTo>
                            <a:lnTo>
                              <a:pt x="531" y="301"/>
                            </a:lnTo>
                            <a:lnTo>
                              <a:pt x="566" y="293"/>
                            </a:lnTo>
                            <a:lnTo>
                              <a:pt x="597" y="286"/>
                            </a:lnTo>
                            <a:lnTo>
                              <a:pt x="622" y="282"/>
                            </a:lnTo>
                            <a:lnTo>
                              <a:pt x="641" y="282"/>
                            </a:lnTo>
                            <a:lnTo>
                              <a:pt x="653" y="285"/>
                            </a:lnTo>
                            <a:lnTo>
                              <a:pt x="652" y="389"/>
                            </a:lnTo>
                            <a:lnTo>
                              <a:pt x="646" y="622"/>
                            </a:lnTo>
                            <a:lnTo>
                              <a:pt x="636" y="869"/>
                            </a:lnTo>
                            <a:lnTo>
                              <a:pt x="619" y="1012"/>
                            </a:lnTo>
                            <a:lnTo>
                              <a:pt x="616" y="1012"/>
                            </a:lnTo>
                            <a:lnTo>
                              <a:pt x="609" y="1011"/>
                            </a:lnTo>
                            <a:lnTo>
                              <a:pt x="598" y="1009"/>
                            </a:lnTo>
                            <a:lnTo>
                              <a:pt x="584" y="1008"/>
                            </a:lnTo>
                            <a:lnTo>
                              <a:pt x="567" y="1008"/>
                            </a:lnTo>
                            <a:lnTo>
                              <a:pt x="548" y="1008"/>
                            </a:lnTo>
                            <a:lnTo>
                              <a:pt x="527" y="1008"/>
                            </a:lnTo>
                            <a:lnTo>
                              <a:pt x="506" y="1011"/>
                            </a:lnTo>
                            <a:lnTo>
                              <a:pt x="485" y="1014"/>
                            </a:lnTo>
                            <a:lnTo>
                              <a:pt x="464" y="1021"/>
                            </a:lnTo>
                            <a:lnTo>
                              <a:pt x="446" y="1028"/>
                            </a:lnTo>
                            <a:lnTo>
                              <a:pt x="428" y="1038"/>
                            </a:lnTo>
                            <a:lnTo>
                              <a:pt x="412" y="1050"/>
                            </a:lnTo>
                            <a:lnTo>
                              <a:pt x="401" y="1066"/>
                            </a:lnTo>
                            <a:lnTo>
                              <a:pt x="392" y="1086"/>
                            </a:lnTo>
                            <a:lnTo>
                              <a:pt x="389" y="1108"/>
                            </a:lnTo>
                            <a:lnTo>
                              <a:pt x="389" y="1113"/>
                            </a:lnTo>
                            <a:lnTo>
                              <a:pt x="390" y="1127"/>
                            </a:lnTo>
                            <a:lnTo>
                              <a:pt x="394" y="1147"/>
                            </a:lnTo>
                            <a:lnTo>
                              <a:pt x="403" y="1168"/>
                            </a:lnTo>
                            <a:lnTo>
                              <a:pt x="420" y="1189"/>
                            </a:lnTo>
                            <a:lnTo>
                              <a:pt x="444" y="1206"/>
                            </a:lnTo>
                            <a:lnTo>
                              <a:pt x="479" y="1217"/>
                            </a:lnTo>
                            <a:lnTo>
                              <a:pt x="527" y="1217"/>
                            </a:lnTo>
                            <a:lnTo>
                              <a:pt x="531" y="1216"/>
                            </a:lnTo>
                            <a:lnTo>
                              <a:pt x="542" y="1214"/>
                            </a:lnTo>
                            <a:lnTo>
                              <a:pt x="558" y="1209"/>
                            </a:lnTo>
                            <a:lnTo>
                              <a:pt x="579" y="1199"/>
                            </a:lnTo>
                            <a:lnTo>
                              <a:pt x="603" y="1185"/>
                            </a:lnTo>
                            <a:lnTo>
                              <a:pt x="629" y="1165"/>
                            </a:lnTo>
                            <a:lnTo>
                              <a:pt x="656" y="1139"/>
                            </a:lnTo>
                            <a:lnTo>
                              <a:pt x="682" y="1106"/>
                            </a:lnTo>
                            <a:lnTo>
                              <a:pt x="684" y="1058"/>
                            </a:lnTo>
                            <a:lnTo>
                              <a:pt x="692" y="930"/>
                            </a:lnTo>
                            <a:lnTo>
                              <a:pt x="703" y="751"/>
                            </a:lnTo>
                            <a:lnTo>
                              <a:pt x="715" y="547"/>
                            </a:lnTo>
                            <a:lnTo>
                              <a:pt x="726" y="343"/>
                            </a:lnTo>
                            <a:lnTo>
                              <a:pt x="736" y="166"/>
                            </a:lnTo>
                            <a:lnTo>
                              <a:pt x="743" y="42"/>
                            </a:lnTo>
                            <a:lnTo>
                              <a:pt x="744" y="0"/>
                            </a:lnTo>
                            <a:close/>
                          </a:path>
                        </a:pathLst>
                      </a:custGeom>
                      <a:solidFill>
                        <a:srgbClr val="f4935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9" name=""/>
                      <p:cNvSpPr/>
                      <p:nvPr/>
                    </p:nvSpPr>
                    <p:spPr>
                      <a:xfrm>
                        <a:off x="3588120" y="5539680"/>
                        <a:ext cx="100800" cy="12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2" h="1213">
                            <a:moveTo>
                              <a:pt x="772" y="17"/>
                            </a:moveTo>
                            <a:lnTo>
                              <a:pt x="771" y="60"/>
                            </a:lnTo>
                            <a:lnTo>
                              <a:pt x="765" y="181"/>
                            </a:lnTo>
                            <a:lnTo>
                              <a:pt x="754" y="355"/>
                            </a:lnTo>
                            <a:lnTo>
                              <a:pt x="742" y="554"/>
                            </a:lnTo>
                            <a:lnTo>
                              <a:pt x="729" y="753"/>
                            </a:lnTo>
                            <a:lnTo>
                              <a:pt x="718" y="927"/>
                            </a:lnTo>
                            <a:lnTo>
                              <a:pt x="709" y="1051"/>
                            </a:lnTo>
                            <a:lnTo>
                              <a:pt x="704" y="1099"/>
                            </a:lnTo>
                            <a:lnTo>
                              <a:pt x="666" y="1139"/>
                            </a:lnTo>
                            <a:lnTo>
                              <a:pt x="631" y="1168"/>
                            </a:lnTo>
                            <a:lnTo>
                              <a:pt x="598" y="1191"/>
                            </a:lnTo>
                            <a:lnTo>
                              <a:pt x="568" y="1204"/>
                            </a:lnTo>
                            <a:lnTo>
                              <a:pt x="539" y="1212"/>
                            </a:lnTo>
                            <a:lnTo>
                              <a:pt x="513" y="1213"/>
                            </a:lnTo>
                            <a:lnTo>
                              <a:pt x="490" y="1209"/>
                            </a:lnTo>
                            <a:lnTo>
                              <a:pt x="470" y="1202"/>
                            </a:lnTo>
                            <a:lnTo>
                              <a:pt x="452" y="1192"/>
                            </a:lnTo>
                            <a:lnTo>
                              <a:pt x="434" y="1179"/>
                            </a:lnTo>
                            <a:lnTo>
                              <a:pt x="421" y="1167"/>
                            </a:lnTo>
                            <a:lnTo>
                              <a:pt x="410" y="1155"/>
                            </a:lnTo>
                            <a:lnTo>
                              <a:pt x="401" y="1142"/>
                            </a:lnTo>
                            <a:lnTo>
                              <a:pt x="393" y="1134"/>
                            </a:lnTo>
                            <a:lnTo>
                              <a:pt x="390" y="1126"/>
                            </a:lnTo>
                            <a:lnTo>
                              <a:pt x="387" y="1124"/>
                            </a:lnTo>
                            <a:lnTo>
                              <a:pt x="377" y="1089"/>
                            </a:lnTo>
                            <a:lnTo>
                              <a:pt x="375" y="1060"/>
                            </a:lnTo>
                            <a:lnTo>
                              <a:pt x="381" y="1034"/>
                            </a:lnTo>
                            <a:lnTo>
                              <a:pt x="393" y="1013"/>
                            </a:lnTo>
                            <a:lnTo>
                              <a:pt x="411" y="995"/>
                            </a:lnTo>
                            <a:lnTo>
                              <a:pt x="433" y="982"/>
                            </a:lnTo>
                            <a:lnTo>
                              <a:pt x="458" y="970"/>
                            </a:lnTo>
                            <a:lnTo>
                              <a:pt x="484" y="963"/>
                            </a:lnTo>
                            <a:lnTo>
                              <a:pt x="511" y="957"/>
                            </a:lnTo>
                            <a:lnTo>
                              <a:pt x="538" y="954"/>
                            </a:lnTo>
                            <a:lnTo>
                              <a:pt x="564" y="953"/>
                            </a:lnTo>
                            <a:lnTo>
                              <a:pt x="588" y="953"/>
                            </a:lnTo>
                            <a:lnTo>
                              <a:pt x="608" y="954"/>
                            </a:lnTo>
                            <a:lnTo>
                              <a:pt x="622" y="957"/>
                            </a:lnTo>
                            <a:lnTo>
                              <a:pt x="631" y="959"/>
                            </a:lnTo>
                            <a:lnTo>
                              <a:pt x="634" y="962"/>
                            </a:lnTo>
                            <a:lnTo>
                              <a:pt x="640" y="900"/>
                            </a:lnTo>
                            <a:lnTo>
                              <a:pt x="646" y="811"/>
                            </a:lnTo>
                            <a:lnTo>
                              <a:pt x="653" y="703"/>
                            </a:lnTo>
                            <a:lnTo>
                              <a:pt x="661" y="590"/>
                            </a:lnTo>
                            <a:lnTo>
                              <a:pt x="667" y="481"/>
                            </a:lnTo>
                            <a:lnTo>
                              <a:pt x="671" y="389"/>
                            </a:lnTo>
                            <a:lnTo>
                              <a:pt x="672" y="325"/>
                            </a:lnTo>
                            <a:lnTo>
                              <a:pt x="671" y="300"/>
                            </a:lnTo>
                            <a:lnTo>
                              <a:pt x="653" y="301"/>
                            </a:lnTo>
                            <a:lnTo>
                              <a:pt x="631" y="305"/>
                            </a:lnTo>
                            <a:lnTo>
                              <a:pt x="604" y="310"/>
                            </a:lnTo>
                            <a:lnTo>
                              <a:pt x="574" y="319"/>
                            </a:lnTo>
                            <a:lnTo>
                              <a:pt x="543" y="327"/>
                            </a:lnTo>
                            <a:lnTo>
                              <a:pt x="510" y="339"/>
                            </a:lnTo>
                            <a:lnTo>
                              <a:pt x="475" y="350"/>
                            </a:lnTo>
                            <a:lnTo>
                              <a:pt x="442" y="361"/>
                            </a:lnTo>
                            <a:lnTo>
                              <a:pt x="408" y="373"/>
                            </a:lnTo>
                            <a:lnTo>
                              <a:pt x="376" y="384"/>
                            </a:lnTo>
                            <a:lnTo>
                              <a:pt x="348" y="394"/>
                            </a:lnTo>
                            <a:lnTo>
                              <a:pt x="322" y="404"/>
                            </a:lnTo>
                            <a:lnTo>
                              <a:pt x="299" y="412"/>
                            </a:lnTo>
                            <a:lnTo>
                              <a:pt x="283" y="418"/>
                            </a:lnTo>
                            <a:lnTo>
                              <a:pt x="272" y="421"/>
                            </a:lnTo>
                            <a:lnTo>
                              <a:pt x="267" y="421"/>
                            </a:lnTo>
                            <a:lnTo>
                              <a:pt x="269" y="468"/>
                            </a:lnTo>
                            <a:lnTo>
                              <a:pt x="276" y="551"/>
                            </a:lnTo>
                            <a:lnTo>
                              <a:pt x="286" y="656"/>
                            </a:lnTo>
                            <a:lnTo>
                              <a:pt x="298" y="771"/>
                            </a:lnTo>
                            <a:lnTo>
                              <a:pt x="311" y="883"/>
                            </a:lnTo>
                            <a:lnTo>
                              <a:pt x="323" y="978"/>
                            </a:lnTo>
                            <a:lnTo>
                              <a:pt x="330" y="1042"/>
                            </a:lnTo>
                            <a:lnTo>
                              <a:pt x="334" y="1063"/>
                            </a:lnTo>
                            <a:lnTo>
                              <a:pt x="296" y="1103"/>
                            </a:lnTo>
                            <a:lnTo>
                              <a:pt x="261" y="1134"/>
                            </a:lnTo>
                            <a:lnTo>
                              <a:pt x="228" y="1156"/>
                            </a:lnTo>
                            <a:lnTo>
                              <a:pt x="197" y="1172"/>
                            </a:lnTo>
                            <a:lnTo>
                              <a:pt x="168" y="1181"/>
                            </a:lnTo>
                            <a:lnTo>
                              <a:pt x="142" y="1184"/>
                            </a:lnTo>
                            <a:lnTo>
                              <a:pt x="120" y="1183"/>
                            </a:lnTo>
                            <a:lnTo>
                              <a:pt x="99" y="1179"/>
                            </a:lnTo>
                            <a:lnTo>
                              <a:pt x="80" y="1172"/>
                            </a:lnTo>
                            <a:lnTo>
                              <a:pt x="64" y="1162"/>
                            </a:lnTo>
                            <a:lnTo>
                              <a:pt x="49" y="1151"/>
                            </a:lnTo>
                            <a:lnTo>
                              <a:pt x="38" y="1141"/>
                            </a:lnTo>
                            <a:lnTo>
                              <a:pt x="30" y="1131"/>
                            </a:lnTo>
                            <a:lnTo>
                              <a:pt x="22" y="1123"/>
                            </a:lnTo>
                            <a:lnTo>
                              <a:pt x="19" y="1116"/>
                            </a:lnTo>
                            <a:lnTo>
                              <a:pt x="16" y="1114"/>
                            </a:lnTo>
                            <a:lnTo>
                              <a:pt x="4" y="1079"/>
                            </a:lnTo>
                            <a:lnTo>
                              <a:pt x="0" y="1050"/>
                            </a:lnTo>
                            <a:lnTo>
                              <a:pt x="4" y="1024"/>
                            </a:lnTo>
                            <a:lnTo>
                              <a:pt x="12" y="1001"/>
                            </a:lnTo>
                            <a:lnTo>
                              <a:pt x="27" y="983"/>
                            </a:lnTo>
                            <a:lnTo>
                              <a:pt x="47" y="968"/>
                            </a:lnTo>
                            <a:lnTo>
                              <a:pt x="69" y="956"/>
                            </a:lnTo>
                            <a:lnTo>
                              <a:pt x="93" y="947"/>
                            </a:lnTo>
                            <a:lnTo>
                              <a:pt x="119" y="940"/>
                            </a:lnTo>
                            <a:lnTo>
                              <a:pt x="144" y="935"/>
                            </a:lnTo>
                            <a:lnTo>
                              <a:pt x="168" y="932"/>
                            </a:lnTo>
                            <a:lnTo>
                              <a:pt x="191" y="930"/>
                            </a:lnTo>
                            <a:lnTo>
                              <a:pt x="210" y="930"/>
                            </a:lnTo>
                            <a:lnTo>
                              <a:pt x="226" y="931"/>
                            </a:lnTo>
                            <a:lnTo>
                              <a:pt x="236" y="932"/>
                            </a:lnTo>
                            <a:lnTo>
                              <a:pt x="241" y="933"/>
                            </a:lnTo>
                            <a:lnTo>
                              <a:pt x="220" y="843"/>
                            </a:lnTo>
                            <a:lnTo>
                              <a:pt x="202" y="733"/>
                            </a:lnTo>
                            <a:lnTo>
                              <a:pt x="184" y="612"/>
                            </a:lnTo>
                            <a:lnTo>
                              <a:pt x="170" y="491"/>
                            </a:lnTo>
                            <a:lnTo>
                              <a:pt x="156" y="378"/>
                            </a:lnTo>
                            <a:lnTo>
                              <a:pt x="146" y="287"/>
                            </a:lnTo>
                            <a:lnTo>
                              <a:pt x="139" y="224"/>
                            </a:lnTo>
                            <a:lnTo>
                              <a:pt x="135" y="199"/>
                            </a:lnTo>
                            <a:lnTo>
                              <a:pt x="142" y="199"/>
                            </a:lnTo>
                            <a:lnTo>
                              <a:pt x="163" y="194"/>
                            </a:lnTo>
                            <a:lnTo>
                              <a:pt x="194" y="185"/>
                            </a:lnTo>
                            <a:lnTo>
                              <a:pt x="235" y="174"/>
                            </a:lnTo>
                            <a:lnTo>
                              <a:pt x="283" y="159"/>
                            </a:lnTo>
                            <a:lnTo>
                              <a:pt x="337" y="143"/>
                            </a:lnTo>
                            <a:lnTo>
                              <a:pt x="393" y="125"/>
                            </a:lnTo>
                            <a:lnTo>
                              <a:pt x="453" y="106"/>
                            </a:lnTo>
                            <a:lnTo>
                              <a:pt x="512" y="88"/>
                            </a:lnTo>
                            <a:lnTo>
                              <a:pt x="569" y="69"/>
                            </a:lnTo>
                            <a:lnTo>
                              <a:pt x="622" y="52"/>
                            </a:lnTo>
                            <a:lnTo>
                              <a:pt x="671" y="36"/>
                            </a:lnTo>
                            <a:lnTo>
                              <a:pt x="710" y="22"/>
                            </a:lnTo>
                            <a:lnTo>
                              <a:pt x="742" y="11"/>
                            </a:lnTo>
                            <a:lnTo>
                              <a:pt x="762" y="3"/>
                            </a:lnTo>
                            <a:lnTo>
                              <a:pt x="770" y="0"/>
                            </a:lnTo>
                            <a:lnTo>
                              <a:pt x="768" y="2"/>
                            </a:lnTo>
                            <a:lnTo>
                              <a:pt x="770" y="7"/>
                            </a:lnTo>
                            <a:lnTo>
                              <a:pt x="771" y="12"/>
                            </a:lnTo>
                            <a:lnTo>
                              <a:pt x="772" y="17"/>
                            </a:lnTo>
                            <a:lnTo>
                              <a:pt x="760" y="22"/>
                            </a:lnTo>
                            <a:lnTo>
                              <a:pt x="737" y="31"/>
                            </a:lnTo>
                            <a:lnTo>
                              <a:pt x="704" y="43"/>
                            </a:lnTo>
                            <a:lnTo>
                              <a:pt x="664" y="58"/>
                            </a:lnTo>
                            <a:lnTo>
                              <a:pt x="617" y="75"/>
                            </a:lnTo>
                            <a:lnTo>
                              <a:pt x="567" y="94"/>
                            </a:lnTo>
                            <a:lnTo>
                              <a:pt x="512" y="112"/>
                            </a:lnTo>
                            <a:lnTo>
                              <a:pt x="458" y="131"/>
                            </a:lnTo>
                            <a:lnTo>
                              <a:pt x="403" y="151"/>
                            </a:lnTo>
                            <a:lnTo>
                              <a:pt x="350" y="168"/>
                            </a:lnTo>
                            <a:lnTo>
                              <a:pt x="302" y="184"/>
                            </a:lnTo>
                            <a:lnTo>
                              <a:pt x="259" y="199"/>
                            </a:lnTo>
                            <a:lnTo>
                              <a:pt x="221" y="210"/>
                            </a:lnTo>
                            <a:lnTo>
                              <a:pt x="193" y="217"/>
                            </a:lnTo>
                            <a:lnTo>
                              <a:pt x="176" y="221"/>
                            </a:lnTo>
                            <a:lnTo>
                              <a:pt x="170" y="220"/>
                            </a:lnTo>
                            <a:lnTo>
                              <a:pt x="170" y="268"/>
                            </a:lnTo>
                            <a:lnTo>
                              <a:pt x="178" y="361"/>
                            </a:lnTo>
                            <a:lnTo>
                              <a:pt x="194" y="482"/>
                            </a:lnTo>
                            <a:lnTo>
                              <a:pt x="212" y="617"/>
                            </a:lnTo>
                            <a:lnTo>
                              <a:pt x="230" y="747"/>
                            </a:lnTo>
                            <a:lnTo>
                              <a:pt x="246" y="858"/>
                            </a:lnTo>
                            <a:lnTo>
                              <a:pt x="257" y="933"/>
                            </a:lnTo>
                            <a:lnTo>
                              <a:pt x="260" y="957"/>
                            </a:lnTo>
                            <a:lnTo>
                              <a:pt x="210" y="954"/>
                            </a:lnTo>
                            <a:lnTo>
                              <a:pt x="168" y="957"/>
                            </a:lnTo>
                            <a:lnTo>
                              <a:pt x="132" y="962"/>
                            </a:lnTo>
                            <a:lnTo>
                              <a:pt x="104" y="970"/>
                            </a:lnTo>
                            <a:lnTo>
                              <a:pt x="82" y="982"/>
                            </a:lnTo>
                            <a:lnTo>
                              <a:pt x="64" y="995"/>
                            </a:lnTo>
                            <a:lnTo>
                              <a:pt x="52" y="1009"/>
                            </a:lnTo>
                            <a:lnTo>
                              <a:pt x="43" y="1024"/>
                            </a:lnTo>
                            <a:lnTo>
                              <a:pt x="38" y="1040"/>
                            </a:lnTo>
                            <a:lnTo>
                              <a:pt x="36" y="1055"/>
                            </a:lnTo>
                            <a:lnTo>
                              <a:pt x="35" y="1068"/>
                            </a:lnTo>
                            <a:lnTo>
                              <a:pt x="36" y="1081"/>
                            </a:lnTo>
                            <a:lnTo>
                              <a:pt x="37" y="1090"/>
                            </a:lnTo>
                            <a:lnTo>
                              <a:pt x="38" y="1098"/>
                            </a:lnTo>
                            <a:lnTo>
                              <a:pt x="40" y="1103"/>
                            </a:lnTo>
                            <a:lnTo>
                              <a:pt x="40" y="1103"/>
                            </a:lnTo>
                            <a:lnTo>
                              <a:pt x="54" y="1124"/>
                            </a:lnTo>
                            <a:lnTo>
                              <a:pt x="73" y="1139"/>
                            </a:lnTo>
                            <a:lnTo>
                              <a:pt x="93" y="1147"/>
                            </a:lnTo>
                            <a:lnTo>
                              <a:pt x="114" y="1151"/>
                            </a:lnTo>
                            <a:lnTo>
                              <a:pt x="136" y="1151"/>
                            </a:lnTo>
                            <a:lnTo>
                              <a:pt x="160" y="1147"/>
                            </a:lnTo>
                            <a:lnTo>
                              <a:pt x="182" y="1141"/>
                            </a:lnTo>
                            <a:lnTo>
                              <a:pt x="205" y="1131"/>
                            </a:lnTo>
                            <a:lnTo>
                              <a:pt x="226" y="1121"/>
                            </a:lnTo>
                            <a:lnTo>
                              <a:pt x="247" y="1109"/>
                            </a:lnTo>
                            <a:lnTo>
                              <a:pt x="265" y="1098"/>
                            </a:lnTo>
                            <a:lnTo>
                              <a:pt x="281" y="1085"/>
                            </a:lnTo>
                            <a:lnTo>
                              <a:pt x="294" y="1076"/>
                            </a:lnTo>
                            <a:lnTo>
                              <a:pt x="304" y="1067"/>
                            </a:lnTo>
                            <a:lnTo>
                              <a:pt x="311" y="1061"/>
                            </a:lnTo>
                            <a:lnTo>
                              <a:pt x="312" y="1058"/>
                            </a:lnTo>
                            <a:lnTo>
                              <a:pt x="302" y="1015"/>
                            </a:lnTo>
                            <a:lnTo>
                              <a:pt x="290" y="933"/>
                            </a:lnTo>
                            <a:lnTo>
                              <a:pt x="277" y="827"/>
                            </a:lnTo>
                            <a:lnTo>
                              <a:pt x="265" y="710"/>
                            </a:lnTo>
                            <a:lnTo>
                              <a:pt x="255" y="596"/>
                            </a:lnTo>
                            <a:lnTo>
                              <a:pt x="247" y="496"/>
                            </a:lnTo>
                            <a:lnTo>
                              <a:pt x="244" y="425"/>
                            </a:lnTo>
                            <a:lnTo>
                              <a:pt x="244" y="395"/>
                            </a:lnTo>
                            <a:lnTo>
                              <a:pt x="260" y="389"/>
                            </a:lnTo>
                            <a:lnTo>
                              <a:pt x="282" y="381"/>
                            </a:lnTo>
                            <a:lnTo>
                              <a:pt x="311" y="372"/>
                            </a:lnTo>
                            <a:lnTo>
                              <a:pt x="343" y="362"/>
                            </a:lnTo>
                            <a:lnTo>
                              <a:pt x="377" y="351"/>
                            </a:lnTo>
                            <a:lnTo>
                              <a:pt x="416" y="340"/>
                            </a:lnTo>
                            <a:lnTo>
                              <a:pt x="454" y="329"/>
                            </a:lnTo>
                            <a:lnTo>
                              <a:pt x="494" y="318"/>
                            </a:lnTo>
                            <a:lnTo>
                              <a:pt x="531" y="306"/>
                            </a:lnTo>
                            <a:lnTo>
                              <a:pt x="568" y="295"/>
                            </a:lnTo>
                            <a:lnTo>
                              <a:pt x="601" y="285"/>
                            </a:lnTo>
                            <a:lnTo>
                              <a:pt x="632" y="277"/>
                            </a:lnTo>
                            <a:lnTo>
                              <a:pt x="657" y="269"/>
                            </a:lnTo>
                            <a:lnTo>
                              <a:pt x="677" y="262"/>
                            </a:lnTo>
                            <a:lnTo>
                              <a:pt x="689" y="257"/>
                            </a:lnTo>
                            <a:lnTo>
                              <a:pt x="694" y="254"/>
                            </a:lnTo>
                            <a:lnTo>
                              <a:pt x="692" y="290"/>
                            </a:lnTo>
                            <a:lnTo>
                              <a:pt x="687" y="376"/>
                            </a:lnTo>
                            <a:lnTo>
                              <a:pt x="682" y="493"/>
                            </a:lnTo>
                            <a:lnTo>
                              <a:pt x="674" y="627"/>
                            </a:lnTo>
                            <a:lnTo>
                              <a:pt x="667" y="759"/>
                            </a:lnTo>
                            <a:lnTo>
                              <a:pt x="661" y="874"/>
                            </a:lnTo>
                            <a:lnTo>
                              <a:pt x="653" y="954"/>
                            </a:lnTo>
                            <a:lnTo>
                              <a:pt x="648" y="984"/>
                            </a:lnTo>
                            <a:lnTo>
                              <a:pt x="600" y="979"/>
                            </a:lnTo>
                            <a:lnTo>
                              <a:pt x="558" y="979"/>
                            </a:lnTo>
                            <a:lnTo>
                              <a:pt x="523" y="983"/>
                            </a:lnTo>
                            <a:lnTo>
                              <a:pt x="494" y="990"/>
                            </a:lnTo>
                            <a:lnTo>
                              <a:pt x="470" y="999"/>
                            </a:lnTo>
                            <a:lnTo>
                              <a:pt x="452" y="1011"/>
                            </a:lnTo>
                            <a:lnTo>
                              <a:pt x="437" y="1024"/>
                            </a:lnTo>
                            <a:lnTo>
                              <a:pt x="427" y="1037"/>
                            </a:lnTo>
                            <a:lnTo>
                              <a:pt x="419" y="1052"/>
                            </a:lnTo>
                            <a:lnTo>
                              <a:pt x="415" y="1066"/>
                            </a:lnTo>
                            <a:lnTo>
                              <a:pt x="412" y="1079"/>
                            </a:lnTo>
                            <a:lnTo>
                              <a:pt x="412" y="1092"/>
                            </a:lnTo>
                            <a:lnTo>
                              <a:pt x="412" y="1102"/>
                            </a:lnTo>
                            <a:lnTo>
                              <a:pt x="413" y="1109"/>
                            </a:lnTo>
                            <a:lnTo>
                              <a:pt x="415" y="1114"/>
                            </a:lnTo>
                            <a:lnTo>
                              <a:pt x="416" y="1115"/>
                            </a:lnTo>
                            <a:lnTo>
                              <a:pt x="434" y="1144"/>
                            </a:lnTo>
                            <a:lnTo>
                              <a:pt x="454" y="1163"/>
                            </a:lnTo>
                            <a:lnTo>
                              <a:pt x="476" y="1176"/>
                            </a:lnTo>
                            <a:lnTo>
                              <a:pt x="499" y="1182"/>
                            </a:lnTo>
                            <a:lnTo>
                              <a:pt x="521" y="1182"/>
                            </a:lnTo>
                            <a:lnTo>
                              <a:pt x="544" y="1178"/>
                            </a:lnTo>
                            <a:lnTo>
                              <a:pt x="567" y="1170"/>
                            </a:lnTo>
                            <a:lnTo>
                              <a:pt x="589" y="1160"/>
                            </a:lnTo>
                            <a:lnTo>
                              <a:pt x="610" y="1146"/>
                            </a:lnTo>
                            <a:lnTo>
                              <a:pt x="630" y="1132"/>
                            </a:lnTo>
                            <a:lnTo>
                              <a:pt x="647" y="1118"/>
                            </a:lnTo>
                            <a:lnTo>
                              <a:pt x="662" y="1104"/>
                            </a:lnTo>
                            <a:lnTo>
                              <a:pt x="674" y="1092"/>
                            </a:lnTo>
                            <a:lnTo>
                              <a:pt x="684" y="1081"/>
                            </a:lnTo>
                            <a:lnTo>
                              <a:pt x="690" y="1074"/>
                            </a:lnTo>
                            <a:lnTo>
                              <a:pt x="693" y="1071"/>
                            </a:lnTo>
                            <a:lnTo>
                              <a:pt x="692" y="1009"/>
                            </a:lnTo>
                            <a:lnTo>
                              <a:pt x="697" y="881"/>
                            </a:lnTo>
                            <a:lnTo>
                              <a:pt x="705" y="712"/>
                            </a:lnTo>
                            <a:lnTo>
                              <a:pt x="718" y="523"/>
                            </a:lnTo>
                            <a:lnTo>
                              <a:pt x="730" y="336"/>
                            </a:lnTo>
                            <a:lnTo>
                              <a:pt x="741" y="177"/>
                            </a:lnTo>
                            <a:lnTo>
                              <a:pt x="750" y="65"/>
                            </a:lnTo>
                            <a:lnTo>
                              <a:pt x="752" y="26"/>
                            </a:lnTo>
                            <a:lnTo>
                              <a:pt x="772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0" name=""/>
                      <p:cNvSpPr/>
                      <p:nvPr/>
                    </p:nvSpPr>
                    <p:spPr>
                      <a:xfrm>
                        <a:off x="3596400" y="5643360"/>
                        <a:ext cx="241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" h="120">
                            <a:moveTo>
                              <a:pt x="110" y="108"/>
                            </a:moveTo>
                            <a:lnTo>
                              <a:pt x="128" y="100"/>
                            </a:lnTo>
                            <a:lnTo>
                              <a:pt x="144" y="91"/>
                            </a:lnTo>
                            <a:lnTo>
                              <a:pt x="157" y="80"/>
                            </a:lnTo>
                            <a:lnTo>
                              <a:pt x="169" y="69"/>
                            </a:lnTo>
                            <a:lnTo>
                              <a:pt x="176" y="56"/>
                            </a:lnTo>
                            <a:lnTo>
                              <a:pt x="182" y="45"/>
                            </a:lnTo>
                            <a:lnTo>
                              <a:pt x="183" y="34"/>
                            </a:lnTo>
                            <a:lnTo>
                              <a:pt x="181" y="23"/>
                            </a:lnTo>
                            <a:lnTo>
                              <a:pt x="175" y="14"/>
                            </a:lnTo>
                            <a:lnTo>
                              <a:pt x="166" y="7"/>
                            </a:lnTo>
                            <a:lnTo>
                              <a:pt x="155" y="2"/>
                            </a:lnTo>
                            <a:lnTo>
                              <a:pt x="141" y="0"/>
                            </a:lnTo>
                            <a:lnTo>
                              <a:pt x="125" y="0"/>
                            </a:lnTo>
                            <a:lnTo>
                              <a:pt x="108" y="1"/>
                            </a:lnTo>
                            <a:lnTo>
                              <a:pt x="91" y="4"/>
                            </a:lnTo>
                            <a:lnTo>
                              <a:pt x="72" y="11"/>
                            </a:lnTo>
                            <a:lnTo>
                              <a:pt x="55" y="19"/>
                            </a:lnTo>
                            <a:lnTo>
                              <a:pt x="39" y="28"/>
                            </a:lnTo>
                            <a:lnTo>
                              <a:pt x="25" y="39"/>
                            </a:lnTo>
                            <a:lnTo>
                              <a:pt x="15" y="50"/>
                            </a:lnTo>
                            <a:lnTo>
                              <a:pt x="6" y="61"/>
                            </a:lnTo>
                            <a:lnTo>
                              <a:pt x="2" y="73"/>
                            </a:lnTo>
                            <a:lnTo>
                              <a:pt x="0" y="84"/>
                            </a:lnTo>
                            <a:lnTo>
                              <a:pt x="3" y="95"/>
                            </a:lnTo>
                            <a:lnTo>
                              <a:pt x="8" y="103"/>
                            </a:lnTo>
                            <a:lnTo>
                              <a:pt x="16" y="111"/>
                            </a:lnTo>
                            <a:lnTo>
                              <a:pt x="29" y="116"/>
                            </a:lnTo>
                            <a:lnTo>
                              <a:pt x="42" y="120"/>
                            </a:lnTo>
                            <a:lnTo>
                              <a:pt x="57" y="120"/>
                            </a:lnTo>
                            <a:lnTo>
                              <a:pt x="75" y="118"/>
                            </a:lnTo>
                            <a:lnTo>
                              <a:pt x="92" y="115"/>
                            </a:lnTo>
                            <a:lnTo>
                              <a:pt x="110" y="108"/>
                            </a:lnTo>
                            <a:close/>
                          </a:path>
                        </a:pathLst>
                      </a:custGeom>
                      <a:solidFill>
                        <a:srgbClr val="ff9e5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1" name=""/>
                      <p:cNvSpPr/>
                      <p:nvPr/>
                    </p:nvSpPr>
                    <p:spPr>
                      <a:xfrm>
                        <a:off x="3597120" y="5644080"/>
                        <a:ext cx="21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107">
                            <a:moveTo>
                              <a:pt x="99" y="97"/>
                            </a:moveTo>
                            <a:lnTo>
                              <a:pt x="114" y="90"/>
                            </a:lnTo>
                            <a:lnTo>
                              <a:pt x="129" y="81"/>
                            </a:lnTo>
                            <a:lnTo>
                              <a:pt x="140" y="72"/>
                            </a:lnTo>
                            <a:lnTo>
                              <a:pt x="150" y="62"/>
                            </a:lnTo>
                            <a:lnTo>
                              <a:pt x="156" y="52"/>
                            </a:lnTo>
                            <a:lnTo>
                              <a:pt x="161" y="41"/>
                            </a:lnTo>
                            <a:lnTo>
                              <a:pt x="162" y="31"/>
                            </a:lnTo>
                            <a:lnTo>
                              <a:pt x="161" y="23"/>
                            </a:lnTo>
                            <a:lnTo>
                              <a:pt x="156" y="14"/>
                            </a:lnTo>
                            <a:lnTo>
                              <a:pt x="147" y="8"/>
                            </a:lnTo>
                            <a:lnTo>
                              <a:pt x="138" y="3"/>
                            </a:lnTo>
                            <a:lnTo>
                              <a:pt x="125" y="0"/>
                            </a:lnTo>
                            <a:lnTo>
                              <a:pt x="112" y="0"/>
                            </a:lnTo>
                            <a:lnTo>
                              <a:pt x="97" y="2"/>
                            </a:lnTo>
                            <a:lnTo>
                              <a:pt x="81" y="5"/>
                            </a:lnTo>
                            <a:lnTo>
                              <a:pt x="65" y="10"/>
                            </a:lnTo>
                            <a:lnTo>
                              <a:pt x="48" y="18"/>
                            </a:lnTo>
                            <a:lnTo>
                              <a:pt x="35" y="26"/>
                            </a:lnTo>
                            <a:lnTo>
                              <a:pt x="24" y="36"/>
                            </a:lnTo>
                            <a:lnTo>
                              <a:pt x="14" y="46"/>
                            </a:lnTo>
                            <a:lnTo>
                              <a:pt x="6" y="56"/>
                            </a:lnTo>
                            <a:lnTo>
                              <a:pt x="3" y="67"/>
                            </a:lnTo>
                            <a:lnTo>
                              <a:pt x="0" y="77"/>
                            </a:lnTo>
                            <a:lnTo>
                              <a:pt x="3" y="86"/>
                            </a:lnTo>
                            <a:lnTo>
                              <a:pt x="8" y="93"/>
                            </a:lnTo>
                            <a:lnTo>
                              <a:pt x="16" y="99"/>
                            </a:lnTo>
                            <a:lnTo>
                              <a:pt x="26" y="104"/>
                            </a:lnTo>
                            <a:lnTo>
                              <a:pt x="39" y="107"/>
                            </a:lnTo>
                            <a:lnTo>
                              <a:pt x="52" y="107"/>
                            </a:lnTo>
                            <a:lnTo>
                              <a:pt x="67" y="106"/>
                            </a:lnTo>
                            <a:lnTo>
                              <a:pt x="83" y="102"/>
                            </a:lnTo>
                            <a:lnTo>
                              <a:pt x="99" y="97"/>
                            </a:lnTo>
                            <a:close/>
                          </a:path>
                        </a:pathLst>
                      </a:custGeom>
                      <a:solidFill>
                        <a:srgbClr val="ffa56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2" name=""/>
                      <p:cNvSpPr/>
                      <p:nvPr/>
                    </p:nvSpPr>
                    <p:spPr>
                      <a:xfrm>
                        <a:off x="3598200" y="5644440"/>
                        <a:ext cx="183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92">
                            <a:moveTo>
                              <a:pt x="86" y="84"/>
                            </a:moveTo>
                            <a:lnTo>
                              <a:pt x="99" y="78"/>
                            </a:lnTo>
                            <a:lnTo>
                              <a:pt x="112" y="70"/>
                            </a:lnTo>
                            <a:lnTo>
                              <a:pt x="122" y="62"/>
                            </a:lnTo>
                            <a:lnTo>
                              <a:pt x="130" y="53"/>
                            </a:lnTo>
                            <a:lnTo>
                              <a:pt x="137" y="44"/>
                            </a:lnTo>
                            <a:lnTo>
                              <a:pt x="140" y="36"/>
                            </a:lnTo>
                            <a:lnTo>
                              <a:pt x="140" y="27"/>
                            </a:lnTo>
                            <a:lnTo>
                              <a:pt x="139" y="18"/>
                            </a:lnTo>
                            <a:lnTo>
                              <a:pt x="135" y="11"/>
                            </a:lnTo>
                            <a:lnTo>
                              <a:pt x="128" y="6"/>
                            </a:lnTo>
                            <a:lnTo>
                              <a:pt x="119" y="2"/>
                            </a:lnTo>
                            <a:lnTo>
                              <a:pt x="109" y="0"/>
                            </a:lnTo>
                            <a:lnTo>
                              <a:pt x="97" y="0"/>
                            </a:lnTo>
                            <a:lnTo>
                              <a:pt x="83" y="1"/>
                            </a:lnTo>
                            <a:lnTo>
                              <a:pt x="70" y="3"/>
                            </a:lnTo>
                            <a:lnTo>
                              <a:pt x="56" y="8"/>
                            </a:lnTo>
                            <a:lnTo>
                              <a:pt x="42" y="15"/>
                            </a:lnTo>
                            <a:lnTo>
                              <a:pt x="30" y="22"/>
                            </a:lnTo>
                            <a:lnTo>
                              <a:pt x="20" y="31"/>
                            </a:lnTo>
                            <a:lnTo>
                              <a:pt x="12" y="39"/>
                            </a:lnTo>
                            <a:lnTo>
                              <a:pt x="5" y="48"/>
                            </a:lnTo>
                            <a:lnTo>
                              <a:pt x="2" y="57"/>
                            </a:lnTo>
                            <a:lnTo>
                              <a:pt x="0" y="65"/>
                            </a:lnTo>
                            <a:lnTo>
                              <a:pt x="2" y="74"/>
                            </a:lnTo>
                            <a:lnTo>
                              <a:pt x="7" y="80"/>
                            </a:lnTo>
                            <a:lnTo>
                              <a:pt x="13" y="86"/>
                            </a:lnTo>
                            <a:lnTo>
                              <a:pt x="21" y="90"/>
                            </a:lnTo>
                            <a:lnTo>
                              <a:pt x="33" y="91"/>
                            </a:lnTo>
                            <a:lnTo>
                              <a:pt x="45" y="92"/>
                            </a:lnTo>
                            <a:lnTo>
                              <a:pt x="57" y="91"/>
                            </a:lnTo>
                            <a:lnTo>
                              <a:pt x="71" y="89"/>
                            </a:lnTo>
                            <a:lnTo>
                              <a:pt x="86" y="84"/>
                            </a:lnTo>
                            <a:close/>
                          </a:path>
                        </a:pathLst>
                      </a:custGeom>
                      <a:solidFill>
                        <a:srgbClr val="ffaf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3" name=""/>
                      <p:cNvSpPr/>
                      <p:nvPr/>
                    </p:nvSpPr>
                    <p:spPr>
                      <a:xfrm>
                        <a:off x="3598920" y="5645160"/>
                        <a:ext cx="1548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" h="79">
                            <a:moveTo>
                              <a:pt x="71" y="71"/>
                            </a:moveTo>
                            <a:lnTo>
                              <a:pt x="83" y="66"/>
                            </a:lnTo>
                            <a:lnTo>
                              <a:pt x="94" y="60"/>
                            </a:lnTo>
                            <a:lnTo>
                              <a:pt x="102" y="53"/>
                            </a:lnTo>
                            <a:lnTo>
                              <a:pt x="110" y="45"/>
                            </a:lnTo>
                            <a:lnTo>
                              <a:pt x="115" y="38"/>
                            </a:lnTo>
                            <a:lnTo>
                              <a:pt x="117" y="31"/>
                            </a:lnTo>
                            <a:lnTo>
                              <a:pt x="118" y="23"/>
                            </a:lnTo>
                            <a:lnTo>
                              <a:pt x="117" y="16"/>
                            </a:lnTo>
                            <a:lnTo>
                              <a:pt x="113" y="10"/>
                            </a:lnTo>
                            <a:lnTo>
                              <a:pt x="108" y="6"/>
                            </a:lnTo>
                            <a:lnTo>
                              <a:pt x="101" y="2"/>
                            </a:lnTo>
                            <a:lnTo>
                              <a:pt x="91" y="0"/>
                            </a:lnTo>
                            <a:lnTo>
                              <a:pt x="81" y="0"/>
                            </a:lnTo>
                            <a:lnTo>
                              <a:pt x="70" y="1"/>
                            </a:lnTo>
                            <a:lnTo>
                              <a:pt x="59" y="3"/>
                            </a:lnTo>
                            <a:lnTo>
                              <a:pt x="47" y="7"/>
                            </a:lnTo>
                            <a:lnTo>
                              <a:pt x="34" y="13"/>
                            </a:lnTo>
                            <a:lnTo>
                              <a:pt x="24" y="19"/>
                            </a:lnTo>
                            <a:lnTo>
                              <a:pt x="16" y="26"/>
                            </a:lnTo>
                            <a:lnTo>
                              <a:pt x="8" y="33"/>
                            </a:lnTo>
                            <a:lnTo>
                              <a:pt x="3" y="42"/>
                            </a:lnTo>
                            <a:lnTo>
                              <a:pt x="0" y="49"/>
                            </a:lnTo>
                            <a:lnTo>
                              <a:pt x="0" y="55"/>
                            </a:lnTo>
                            <a:lnTo>
                              <a:pt x="1" y="63"/>
                            </a:lnTo>
                            <a:lnTo>
                              <a:pt x="5" y="69"/>
                            </a:lnTo>
                            <a:lnTo>
                              <a:pt x="10" y="74"/>
                            </a:lnTo>
                            <a:lnTo>
                              <a:pt x="17" y="76"/>
                            </a:lnTo>
                            <a:lnTo>
                              <a:pt x="27" y="79"/>
                            </a:lnTo>
                            <a:lnTo>
                              <a:pt x="37" y="79"/>
                            </a:lnTo>
                            <a:lnTo>
                              <a:pt x="48" y="79"/>
                            </a:lnTo>
                            <a:lnTo>
                              <a:pt x="59" y="75"/>
                            </a:lnTo>
                            <a:lnTo>
                              <a:pt x="71" y="71"/>
                            </a:lnTo>
                            <a:close/>
                          </a:path>
                        </a:pathLst>
                      </a:custGeom>
                      <a:solidFill>
                        <a:srgbClr val="ffb78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4" name=""/>
                      <p:cNvSpPr/>
                      <p:nvPr/>
                    </p:nvSpPr>
                    <p:spPr>
                      <a:xfrm>
                        <a:off x="3599640" y="5645520"/>
                        <a:ext cx="1296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65">
                            <a:moveTo>
                              <a:pt x="59" y="59"/>
                            </a:moveTo>
                            <a:lnTo>
                              <a:pt x="69" y="54"/>
                            </a:lnTo>
                            <a:lnTo>
                              <a:pt x="78" y="49"/>
                            </a:lnTo>
                            <a:lnTo>
                              <a:pt x="85" y="43"/>
                            </a:lnTo>
                            <a:lnTo>
                              <a:pt x="91" y="37"/>
                            </a:lnTo>
                            <a:lnTo>
                              <a:pt x="95" y="31"/>
                            </a:lnTo>
                            <a:lnTo>
                              <a:pt x="97" y="25"/>
                            </a:lnTo>
                            <a:lnTo>
                              <a:pt x="99" y="18"/>
                            </a:lnTo>
                            <a:lnTo>
                              <a:pt x="97" y="13"/>
                            </a:lnTo>
                            <a:lnTo>
                              <a:pt x="94" y="8"/>
                            </a:lnTo>
                            <a:lnTo>
                              <a:pt x="89" y="5"/>
                            </a:lnTo>
                            <a:lnTo>
                              <a:pt x="82" y="1"/>
                            </a:lnTo>
                            <a:lnTo>
                              <a:pt x="75" y="0"/>
                            </a:lnTo>
                            <a:lnTo>
                              <a:pt x="68" y="0"/>
                            </a:lnTo>
                            <a:lnTo>
                              <a:pt x="58" y="0"/>
                            </a:lnTo>
                            <a:lnTo>
                              <a:pt x="48" y="2"/>
                            </a:lnTo>
                            <a:lnTo>
                              <a:pt x="38" y="6"/>
                            </a:lnTo>
                            <a:lnTo>
                              <a:pt x="28" y="11"/>
                            </a:lnTo>
                            <a:lnTo>
                              <a:pt x="21" y="16"/>
                            </a:lnTo>
                            <a:lnTo>
                              <a:pt x="13" y="21"/>
                            </a:lnTo>
                            <a:lnTo>
                              <a:pt x="7" y="27"/>
                            </a:lnTo>
                            <a:lnTo>
                              <a:pt x="3" y="33"/>
                            </a:lnTo>
                            <a:lnTo>
                              <a:pt x="1" y="39"/>
                            </a:lnTo>
                            <a:lnTo>
                              <a:pt x="0" y="46"/>
                            </a:lnTo>
                            <a:lnTo>
                              <a:pt x="1" y="52"/>
                            </a:lnTo>
                            <a:lnTo>
                              <a:pt x="5" y="57"/>
                            </a:lnTo>
                            <a:lnTo>
                              <a:pt x="9" y="60"/>
                            </a:lnTo>
                            <a:lnTo>
                              <a:pt x="16" y="63"/>
                            </a:lnTo>
                            <a:lnTo>
                              <a:pt x="23" y="64"/>
                            </a:lnTo>
                            <a:lnTo>
                              <a:pt x="30" y="65"/>
                            </a:lnTo>
                            <a:lnTo>
                              <a:pt x="40" y="64"/>
                            </a:lnTo>
                            <a:lnTo>
                              <a:pt x="49" y="63"/>
                            </a:lnTo>
                            <a:lnTo>
                              <a:pt x="59" y="59"/>
                            </a:lnTo>
                            <a:close/>
                          </a:path>
                        </a:pathLst>
                      </a:custGeom>
                      <a:solidFill>
                        <a:srgbClr val="ffc1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5" name=""/>
                      <p:cNvSpPr/>
                      <p:nvPr/>
                    </p:nvSpPr>
                    <p:spPr>
                      <a:xfrm>
                        <a:off x="3600360" y="5646240"/>
                        <a:ext cx="97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51">
                            <a:moveTo>
                              <a:pt x="47" y="46"/>
                            </a:moveTo>
                            <a:lnTo>
                              <a:pt x="60" y="38"/>
                            </a:lnTo>
                            <a:lnTo>
                              <a:pt x="72" y="28"/>
                            </a:lnTo>
                            <a:lnTo>
                              <a:pt x="76" y="19"/>
                            </a:lnTo>
                            <a:lnTo>
                              <a:pt x="76" y="10"/>
                            </a:lnTo>
                            <a:lnTo>
                              <a:pt x="74" y="6"/>
                            </a:lnTo>
                            <a:lnTo>
                              <a:pt x="70" y="4"/>
                            </a:lnTo>
                            <a:lnTo>
                              <a:pt x="65" y="1"/>
                            </a:lnTo>
                            <a:lnTo>
                              <a:pt x="59" y="0"/>
                            </a:lnTo>
                            <a:lnTo>
                              <a:pt x="52" y="0"/>
                            </a:lnTo>
                            <a:lnTo>
                              <a:pt x="46" y="0"/>
                            </a:lnTo>
                            <a:lnTo>
                              <a:pt x="37" y="1"/>
                            </a:lnTo>
                            <a:lnTo>
                              <a:pt x="29" y="4"/>
                            </a:lnTo>
                            <a:lnTo>
                              <a:pt x="16" y="11"/>
                            </a:lnTo>
                            <a:lnTo>
                              <a:pt x="5" y="21"/>
                            </a:lnTo>
                            <a:lnTo>
                              <a:pt x="0" y="31"/>
                            </a:lnTo>
                            <a:lnTo>
                              <a:pt x="0" y="41"/>
                            </a:lnTo>
                            <a:lnTo>
                              <a:pt x="2" y="45"/>
                            </a:lnTo>
                            <a:lnTo>
                              <a:pt x="6" y="47"/>
                            </a:lnTo>
                            <a:lnTo>
                              <a:pt x="11" y="49"/>
                            </a:lnTo>
                            <a:lnTo>
                              <a:pt x="17" y="51"/>
                            </a:lnTo>
                            <a:lnTo>
                              <a:pt x="24" y="51"/>
                            </a:lnTo>
                            <a:lnTo>
                              <a:pt x="31" y="51"/>
                            </a:lnTo>
                            <a:lnTo>
                              <a:pt x="39" y="48"/>
                            </a:lnTo>
                            <a:lnTo>
                              <a:pt x="47" y="46"/>
                            </a:lnTo>
                            <a:close/>
                          </a:path>
                        </a:pathLst>
                      </a:custGeom>
                      <a:solidFill>
                        <a:srgbClr val="ffc9a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" name=""/>
                      <p:cNvSpPr/>
                      <p:nvPr/>
                    </p:nvSpPr>
                    <p:spPr>
                      <a:xfrm>
                        <a:off x="3601080" y="5646600"/>
                        <a:ext cx="756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33" y="35"/>
                            </a:moveTo>
                            <a:lnTo>
                              <a:pt x="43" y="28"/>
                            </a:lnTo>
                            <a:lnTo>
                              <a:pt x="51" y="22"/>
                            </a:lnTo>
                            <a:lnTo>
                              <a:pt x="56" y="15"/>
                            </a:lnTo>
                            <a:lnTo>
                              <a:pt x="56" y="7"/>
                            </a:lnTo>
                            <a:lnTo>
                              <a:pt x="51" y="2"/>
                            </a:lnTo>
                            <a:lnTo>
                              <a:pt x="43" y="0"/>
                            </a:lnTo>
                            <a:lnTo>
                              <a:pt x="32" y="0"/>
                            </a:lnTo>
                            <a:lnTo>
                              <a:pt x="21" y="4"/>
                            </a:lnTo>
                            <a:lnTo>
                              <a:pt x="11" y="9"/>
                            </a:lnTo>
                            <a:lnTo>
                              <a:pt x="4" y="16"/>
                            </a:lnTo>
                            <a:lnTo>
                              <a:pt x="0" y="22"/>
                            </a:lnTo>
                            <a:lnTo>
                              <a:pt x="0" y="30"/>
                            </a:lnTo>
                            <a:lnTo>
                              <a:pt x="4" y="35"/>
                            </a:lnTo>
                            <a:lnTo>
                              <a:pt x="12" y="37"/>
                            </a:lnTo>
                            <a:lnTo>
                              <a:pt x="22" y="37"/>
                            </a:lnTo>
                            <a:lnTo>
                              <a:pt x="33" y="35"/>
                            </a:lnTo>
                            <a:close/>
                          </a:path>
                        </a:pathLst>
                      </a:custGeom>
                      <a:solidFill>
                        <a:srgbClr val="ffd1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7" name=""/>
                      <p:cNvSpPr/>
                      <p:nvPr/>
                    </p:nvSpPr>
                    <p:spPr>
                      <a:xfrm>
                        <a:off x="3646080" y="5646240"/>
                        <a:ext cx="241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" h="120">
                            <a:moveTo>
                              <a:pt x="111" y="109"/>
                            </a:moveTo>
                            <a:lnTo>
                              <a:pt x="129" y="100"/>
                            </a:lnTo>
                            <a:lnTo>
                              <a:pt x="145" y="92"/>
                            </a:lnTo>
                            <a:lnTo>
                              <a:pt x="158" y="81"/>
                            </a:lnTo>
                            <a:lnTo>
                              <a:pt x="168" y="70"/>
                            </a:lnTo>
                            <a:lnTo>
                              <a:pt x="177" y="58"/>
                            </a:lnTo>
                            <a:lnTo>
                              <a:pt x="182" y="46"/>
                            </a:lnTo>
                            <a:lnTo>
                              <a:pt x="183" y="35"/>
                            </a:lnTo>
                            <a:lnTo>
                              <a:pt x="181" y="25"/>
                            </a:lnTo>
                            <a:lnTo>
                              <a:pt x="176" y="16"/>
                            </a:lnTo>
                            <a:lnTo>
                              <a:pt x="167" y="9"/>
                            </a:lnTo>
                            <a:lnTo>
                              <a:pt x="155" y="4"/>
                            </a:lnTo>
                            <a:lnTo>
                              <a:pt x="141" y="0"/>
                            </a:lnTo>
                            <a:lnTo>
                              <a:pt x="125" y="0"/>
                            </a:lnTo>
                            <a:lnTo>
                              <a:pt x="109" y="2"/>
                            </a:lnTo>
                            <a:lnTo>
                              <a:pt x="90" y="5"/>
                            </a:lnTo>
                            <a:lnTo>
                              <a:pt x="72" y="11"/>
                            </a:lnTo>
                            <a:lnTo>
                              <a:pt x="54" y="20"/>
                            </a:lnTo>
                            <a:lnTo>
                              <a:pt x="40" y="29"/>
                            </a:lnTo>
                            <a:lnTo>
                              <a:pt x="26" y="40"/>
                            </a:lnTo>
                            <a:lnTo>
                              <a:pt x="15" y="51"/>
                            </a:lnTo>
                            <a:lnTo>
                              <a:pt x="6" y="62"/>
                            </a:lnTo>
                            <a:lnTo>
                              <a:pt x="1" y="74"/>
                            </a:lnTo>
                            <a:lnTo>
                              <a:pt x="0" y="86"/>
                            </a:lnTo>
                            <a:lnTo>
                              <a:pt x="2" y="96"/>
                            </a:lnTo>
                            <a:lnTo>
                              <a:pt x="9" y="104"/>
                            </a:lnTo>
                            <a:lnTo>
                              <a:pt x="17" y="112"/>
                            </a:lnTo>
                            <a:lnTo>
                              <a:pt x="28" y="117"/>
                            </a:lnTo>
                            <a:lnTo>
                              <a:pt x="42" y="120"/>
                            </a:lnTo>
                            <a:lnTo>
                              <a:pt x="58" y="120"/>
                            </a:lnTo>
                            <a:lnTo>
                              <a:pt x="75" y="119"/>
                            </a:lnTo>
                            <a:lnTo>
                              <a:pt x="93" y="115"/>
                            </a:lnTo>
                            <a:lnTo>
                              <a:pt x="111" y="109"/>
                            </a:lnTo>
                            <a:close/>
                          </a:path>
                        </a:pathLst>
                      </a:custGeom>
                      <a:solidFill>
                        <a:srgbClr val="ff9e5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8" name=""/>
                      <p:cNvSpPr/>
                      <p:nvPr/>
                    </p:nvSpPr>
                    <p:spPr>
                      <a:xfrm>
                        <a:off x="3646800" y="5646600"/>
                        <a:ext cx="21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107">
                            <a:moveTo>
                              <a:pt x="98" y="97"/>
                            </a:moveTo>
                            <a:lnTo>
                              <a:pt x="114" y="89"/>
                            </a:lnTo>
                            <a:lnTo>
                              <a:pt x="128" y="81"/>
                            </a:lnTo>
                            <a:lnTo>
                              <a:pt x="140" y="72"/>
                            </a:lnTo>
                            <a:lnTo>
                              <a:pt x="150" y="62"/>
                            </a:lnTo>
                            <a:lnTo>
                              <a:pt x="156" y="52"/>
                            </a:lnTo>
                            <a:lnTo>
                              <a:pt x="161" y="41"/>
                            </a:lnTo>
                            <a:lnTo>
                              <a:pt x="162" y="31"/>
                            </a:lnTo>
                            <a:lnTo>
                              <a:pt x="160" y="22"/>
                            </a:lnTo>
                            <a:lnTo>
                              <a:pt x="155" y="15"/>
                            </a:lnTo>
                            <a:lnTo>
                              <a:pt x="147" y="8"/>
                            </a:lnTo>
                            <a:lnTo>
                              <a:pt x="136" y="4"/>
                            </a:lnTo>
                            <a:lnTo>
                              <a:pt x="125" y="1"/>
                            </a:lnTo>
                            <a:lnTo>
                              <a:pt x="110" y="0"/>
                            </a:lnTo>
                            <a:lnTo>
                              <a:pt x="95" y="1"/>
                            </a:lnTo>
                            <a:lnTo>
                              <a:pt x="79" y="5"/>
                            </a:lnTo>
                            <a:lnTo>
                              <a:pt x="63" y="11"/>
                            </a:lnTo>
                            <a:lnTo>
                              <a:pt x="48" y="19"/>
                            </a:lnTo>
                            <a:lnTo>
                              <a:pt x="34" y="27"/>
                            </a:lnTo>
                            <a:lnTo>
                              <a:pt x="22" y="36"/>
                            </a:lnTo>
                            <a:lnTo>
                              <a:pt x="12" y="46"/>
                            </a:lnTo>
                            <a:lnTo>
                              <a:pt x="6" y="56"/>
                            </a:lnTo>
                            <a:lnTo>
                              <a:pt x="1" y="67"/>
                            </a:lnTo>
                            <a:lnTo>
                              <a:pt x="0" y="77"/>
                            </a:lnTo>
                            <a:lnTo>
                              <a:pt x="1" y="86"/>
                            </a:lnTo>
                            <a:lnTo>
                              <a:pt x="6" y="93"/>
                            </a:lnTo>
                            <a:lnTo>
                              <a:pt x="15" y="99"/>
                            </a:lnTo>
                            <a:lnTo>
                              <a:pt x="25" y="104"/>
                            </a:lnTo>
                            <a:lnTo>
                              <a:pt x="37" y="107"/>
                            </a:lnTo>
                            <a:lnTo>
                              <a:pt x="51" y="107"/>
                            </a:lnTo>
                            <a:lnTo>
                              <a:pt x="66" y="105"/>
                            </a:lnTo>
                            <a:lnTo>
                              <a:pt x="82" y="102"/>
                            </a:lnTo>
                            <a:lnTo>
                              <a:pt x="98" y="97"/>
                            </a:lnTo>
                            <a:close/>
                          </a:path>
                        </a:pathLst>
                      </a:custGeom>
                      <a:solidFill>
                        <a:srgbClr val="ffa56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9" name=""/>
                      <p:cNvSpPr/>
                      <p:nvPr/>
                    </p:nvSpPr>
                    <p:spPr>
                      <a:xfrm>
                        <a:off x="3648240" y="5647320"/>
                        <a:ext cx="183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93">
                            <a:moveTo>
                              <a:pt x="84" y="85"/>
                            </a:moveTo>
                            <a:lnTo>
                              <a:pt x="98" y="78"/>
                            </a:lnTo>
                            <a:lnTo>
                              <a:pt x="110" y="71"/>
                            </a:lnTo>
                            <a:lnTo>
                              <a:pt x="120" y="62"/>
                            </a:lnTo>
                            <a:lnTo>
                              <a:pt x="129" y="54"/>
                            </a:lnTo>
                            <a:lnTo>
                              <a:pt x="135" y="45"/>
                            </a:lnTo>
                            <a:lnTo>
                              <a:pt x="139" y="36"/>
                            </a:lnTo>
                            <a:lnTo>
                              <a:pt x="140" y="28"/>
                            </a:lnTo>
                            <a:lnTo>
                              <a:pt x="139" y="19"/>
                            </a:lnTo>
                            <a:lnTo>
                              <a:pt x="134" y="12"/>
                            </a:lnTo>
                            <a:lnTo>
                              <a:pt x="128" y="7"/>
                            </a:lnTo>
                            <a:lnTo>
                              <a:pt x="119" y="3"/>
                            </a:lnTo>
                            <a:lnTo>
                              <a:pt x="108" y="0"/>
                            </a:lnTo>
                            <a:lnTo>
                              <a:pt x="96" y="0"/>
                            </a:lnTo>
                            <a:lnTo>
                              <a:pt x="83" y="2"/>
                            </a:lnTo>
                            <a:lnTo>
                              <a:pt x="70" y="4"/>
                            </a:lnTo>
                            <a:lnTo>
                              <a:pt x="55" y="9"/>
                            </a:lnTo>
                            <a:lnTo>
                              <a:pt x="41" y="15"/>
                            </a:lnTo>
                            <a:lnTo>
                              <a:pt x="29" y="23"/>
                            </a:lnTo>
                            <a:lnTo>
                              <a:pt x="19" y="31"/>
                            </a:lnTo>
                            <a:lnTo>
                              <a:pt x="10" y="40"/>
                            </a:lnTo>
                            <a:lnTo>
                              <a:pt x="4" y="49"/>
                            </a:lnTo>
                            <a:lnTo>
                              <a:pt x="0" y="57"/>
                            </a:lnTo>
                            <a:lnTo>
                              <a:pt x="0" y="66"/>
                            </a:lnTo>
                            <a:lnTo>
                              <a:pt x="2" y="75"/>
                            </a:lnTo>
                            <a:lnTo>
                              <a:pt x="5" y="81"/>
                            </a:lnTo>
                            <a:lnTo>
                              <a:pt x="13" y="87"/>
                            </a:lnTo>
                            <a:lnTo>
                              <a:pt x="21" y="91"/>
                            </a:lnTo>
                            <a:lnTo>
                              <a:pt x="32" y="92"/>
                            </a:lnTo>
                            <a:lnTo>
                              <a:pt x="44" y="93"/>
                            </a:lnTo>
                            <a:lnTo>
                              <a:pt x="57" y="92"/>
                            </a:lnTo>
                            <a:lnTo>
                              <a:pt x="71" y="89"/>
                            </a:lnTo>
                            <a:lnTo>
                              <a:pt x="84" y="85"/>
                            </a:lnTo>
                            <a:close/>
                          </a:path>
                        </a:pathLst>
                      </a:custGeom>
                      <a:solidFill>
                        <a:srgbClr val="ffaf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0" name=""/>
                      <p:cNvSpPr/>
                      <p:nvPr/>
                    </p:nvSpPr>
                    <p:spPr>
                      <a:xfrm>
                        <a:off x="3648960" y="5647680"/>
                        <a:ext cx="1548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" h="81">
                            <a:moveTo>
                              <a:pt x="73" y="72"/>
                            </a:moveTo>
                            <a:lnTo>
                              <a:pt x="84" y="67"/>
                            </a:lnTo>
                            <a:lnTo>
                              <a:pt x="94" y="61"/>
                            </a:lnTo>
                            <a:lnTo>
                              <a:pt x="103" y="54"/>
                            </a:lnTo>
                            <a:lnTo>
                              <a:pt x="110" y="46"/>
                            </a:lnTo>
                            <a:lnTo>
                              <a:pt x="115" y="39"/>
                            </a:lnTo>
                            <a:lnTo>
                              <a:pt x="119" y="31"/>
                            </a:lnTo>
                            <a:lnTo>
                              <a:pt x="120" y="24"/>
                            </a:lnTo>
                            <a:lnTo>
                              <a:pt x="119" y="16"/>
                            </a:lnTo>
                            <a:lnTo>
                              <a:pt x="115" y="10"/>
                            </a:lnTo>
                            <a:lnTo>
                              <a:pt x="109" y="7"/>
                            </a:lnTo>
                            <a:lnTo>
                              <a:pt x="102" y="3"/>
                            </a:lnTo>
                            <a:lnTo>
                              <a:pt x="93" y="2"/>
                            </a:lnTo>
                            <a:lnTo>
                              <a:pt x="82" y="0"/>
                            </a:lnTo>
                            <a:lnTo>
                              <a:pt x="71" y="2"/>
                            </a:lnTo>
                            <a:lnTo>
                              <a:pt x="60" y="5"/>
                            </a:lnTo>
                            <a:lnTo>
                              <a:pt x="47" y="9"/>
                            </a:lnTo>
                            <a:lnTo>
                              <a:pt x="36" y="14"/>
                            </a:lnTo>
                            <a:lnTo>
                              <a:pt x="25" y="20"/>
                            </a:lnTo>
                            <a:lnTo>
                              <a:pt x="16" y="28"/>
                            </a:lnTo>
                            <a:lnTo>
                              <a:pt x="10" y="34"/>
                            </a:lnTo>
                            <a:lnTo>
                              <a:pt x="4" y="42"/>
                            </a:lnTo>
                            <a:lnTo>
                              <a:pt x="1" y="50"/>
                            </a:lnTo>
                            <a:lnTo>
                              <a:pt x="0" y="56"/>
                            </a:lnTo>
                            <a:lnTo>
                              <a:pt x="1" y="63"/>
                            </a:lnTo>
                            <a:lnTo>
                              <a:pt x="5" y="70"/>
                            </a:lnTo>
                            <a:lnTo>
                              <a:pt x="11" y="75"/>
                            </a:lnTo>
                            <a:lnTo>
                              <a:pt x="19" y="78"/>
                            </a:lnTo>
                            <a:lnTo>
                              <a:pt x="29" y="80"/>
                            </a:lnTo>
                            <a:lnTo>
                              <a:pt x="39" y="81"/>
                            </a:lnTo>
                            <a:lnTo>
                              <a:pt x="50" y="80"/>
                            </a:lnTo>
                            <a:lnTo>
                              <a:pt x="61" y="76"/>
                            </a:lnTo>
                            <a:lnTo>
                              <a:pt x="73" y="72"/>
                            </a:lnTo>
                            <a:close/>
                          </a:path>
                        </a:pathLst>
                      </a:custGeom>
                      <a:solidFill>
                        <a:srgbClr val="ffb78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1" name=""/>
                      <p:cNvSpPr/>
                      <p:nvPr/>
                    </p:nvSpPr>
                    <p:spPr>
                      <a:xfrm>
                        <a:off x="3649320" y="5648400"/>
                        <a:ext cx="1296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65">
                            <a:moveTo>
                              <a:pt x="61" y="59"/>
                            </a:moveTo>
                            <a:lnTo>
                              <a:pt x="71" y="54"/>
                            </a:lnTo>
                            <a:lnTo>
                              <a:pt x="79" y="49"/>
                            </a:lnTo>
                            <a:lnTo>
                              <a:pt x="87" y="44"/>
                            </a:lnTo>
                            <a:lnTo>
                              <a:pt x="92" y="38"/>
                            </a:lnTo>
                            <a:lnTo>
                              <a:pt x="97" y="32"/>
                            </a:lnTo>
                            <a:lnTo>
                              <a:pt x="99" y="26"/>
                            </a:lnTo>
                            <a:lnTo>
                              <a:pt x="100" y="19"/>
                            </a:lnTo>
                            <a:lnTo>
                              <a:pt x="99" y="13"/>
                            </a:lnTo>
                            <a:lnTo>
                              <a:pt x="95" y="8"/>
                            </a:lnTo>
                            <a:lnTo>
                              <a:pt x="91" y="4"/>
                            </a:lnTo>
                            <a:lnTo>
                              <a:pt x="84" y="1"/>
                            </a:lnTo>
                            <a:lnTo>
                              <a:pt x="77" y="0"/>
                            </a:lnTo>
                            <a:lnTo>
                              <a:pt x="69" y="0"/>
                            </a:lnTo>
                            <a:lnTo>
                              <a:pt x="60" y="0"/>
                            </a:lnTo>
                            <a:lnTo>
                              <a:pt x="50" y="2"/>
                            </a:lnTo>
                            <a:lnTo>
                              <a:pt x="40" y="6"/>
                            </a:lnTo>
                            <a:lnTo>
                              <a:pt x="30" y="11"/>
                            </a:lnTo>
                            <a:lnTo>
                              <a:pt x="21" y="16"/>
                            </a:lnTo>
                            <a:lnTo>
                              <a:pt x="14" y="21"/>
                            </a:lnTo>
                            <a:lnTo>
                              <a:pt x="9" y="27"/>
                            </a:lnTo>
                            <a:lnTo>
                              <a:pt x="4" y="33"/>
                            </a:lnTo>
                            <a:lnTo>
                              <a:pt x="1" y="39"/>
                            </a:lnTo>
                            <a:lnTo>
                              <a:pt x="0" y="45"/>
                            </a:lnTo>
                            <a:lnTo>
                              <a:pt x="1" y="51"/>
                            </a:lnTo>
                            <a:lnTo>
                              <a:pt x="5" y="56"/>
                            </a:lnTo>
                            <a:lnTo>
                              <a:pt x="10" y="60"/>
                            </a:lnTo>
                            <a:lnTo>
                              <a:pt x="16" y="63"/>
                            </a:lnTo>
                            <a:lnTo>
                              <a:pt x="24" y="64"/>
                            </a:lnTo>
                            <a:lnTo>
                              <a:pt x="31" y="65"/>
                            </a:lnTo>
                            <a:lnTo>
                              <a:pt x="41" y="64"/>
                            </a:lnTo>
                            <a:lnTo>
                              <a:pt x="51" y="63"/>
                            </a:lnTo>
                            <a:lnTo>
                              <a:pt x="61" y="59"/>
                            </a:lnTo>
                            <a:close/>
                          </a:path>
                        </a:pathLst>
                      </a:custGeom>
                      <a:solidFill>
                        <a:srgbClr val="ffc1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2" name=""/>
                      <p:cNvSpPr/>
                      <p:nvPr/>
                    </p:nvSpPr>
                    <p:spPr>
                      <a:xfrm>
                        <a:off x="3650040" y="5648760"/>
                        <a:ext cx="972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50">
                            <a:moveTo>
                              <a:pt x="45" y="45"/>
                            </a:moveTo>
                            <a:lnTo>
                              <a:pt x="59" y="38"/>
                            </a:lnTo>
                            <a:lnTo>
                              <a:pt x="70" y="28"/>
                            </a:lnTo>
                            <a:lnTo>
                              <a:pt x="75" y="18"/>
                            </a:lnTo>
                            <a:lnTo>
                              <a:pt x="75" y="10"/>
                            </a:lnTo>
                            <a:lnTo>
                              <a:pt x="73" y="6"/>
                            </a:lnTo>
                            <a:lnTo>
                              <a:pt x="69" y="3"/>
                            </a:lnTo>
                            <a:lnTo>
                              <a:pt x="64" y="1"/>
                            </a:lnTo>
                            <a:lnTo>
                              <a:pt x="59" y="0"/>
                            </a:lnTo>
                            <a:lnTo>
                              <a:pt x="52" y="0"/>
                            </a:lnTo>
                            <a:lnTo>
                              <a:pt x="45" y="0"/>
                            </a:lnTo>
                            <a:lnTo>
                              <a:pt x="37" y="2"/>
                            </a:lnTo>
                            <a:lnTo>
                              <a:pt x="29" y="5"/>
                            </a:lnTo>
                            <a:lnTo>
                              <a:pt x="16" y="12"/>
                            </a:lnTo>
                            <a:lnTo>
                              <a:pt x="5" y="21"/>
                            </a:lnTo>
                            <a:lnTo>
                              <a:pt x="0" y="31"/>
                            </a:lnTo>
                            <a:lnTo>
                              <a:pt x="0" y="41"/>
                            </a:lnTo>
                            <a:lnTo>
                              <a:pt x="2" y="44"/>
                            </a:lnTo>
                            <a:lnTo>
                              <a:pt x="6" y="47"/>
                            </a:lnTo>
                            <a:lnTo>
                              <a:pt x="11" y="49"/>
                            </a:lnTo>
                            <a:lnTo>
                              <a:pt x="16" y="50"/>
                            </a:lnTo>
                            <a:lnTo>
                              <a:pt x="23" y="50"/>
                            </a:lnTo>
                            <a:lnTo>
                              <a:pt x="29" y="50"/>
                            </a:lnTo>
                            <a:lnTo>
                              <a:pt x="38" y="48"/>
                            </a:lnTo>
                            <a:lnTo>
                              <a:pt x="45" y="45"/>
                            </a:lnTo>
                            <a:close/>
                          </a:path>
                        </a:pathLst>
                      </a:custGeom>
                      <a:solidFill>
                        <a:srgbClr val="ffc9a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3650760" y="5649480"/>
                        <a:ext cx="68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37">
                            <a:moveTo>
                              <a:pt x="33" y="34"/>
                            </a:moveTo>
                            <a:lnTo>
                              <a:pt x="44" y="28"/>
                            </a:lnTo>
                            <a:lnTo>
                              <a:pt x="52" y="22"/>
                            </a:lnTo>
                            <a:lnTo>
                              <a:pt x="55" y="15"/>
                            </a:lnTo>
                            <a:lnTo>
                              <a:pt x="55" y="7"/>
                            </a:lnTo>
                            <a:lnTo>
                              <a:pt x="50" y="2"/>
                            </a:lnTo>
                            <a:lnTo>
                              <a:pt x="43" y="0"/>
                            </a:lnTo>
                            <a:lnTo>
                              <a:pt x="33" y="1"/>
                            </a:lnTo>
                            <a:lnTo>
                              <a:pt x="22" y="3"/>
                            </a:lnTo>
                            <a:lnTo>
                              <a:pt x="11" y="10"/>
                            </a:lnTo>
                            <a:lnTo>
                              <a:pt x="3" y="16"/>
                            </a:lnTo>
                            <a:lnTo>
                              <a:pt x="0" y="23"/>
                            </a:lnTo>
                            <a:lnTo>
                              <a:pt x="0" y="29"/>
                            </a:lnTo>
                            <a:lnTo>
                              <a:pt x="5" y="34"/>
                            </a:lnTo>
                            <a:lnTo>
                              <a:pt x="12" y="37"/>
                            </a:lnTo>
                            <a:lnTo>
                              <a:pt x="22" y="37"/>
                            </a:lnTo>
                            <a:lnTo>
                              <a:pt x="33" y="34"/>
                            </a:lnTo>
                            <a:close/>
                          </a:path>
                        </a:pathLst>
                      </a:custGeom>
                      <a:solidFill>
                        <a:srgbClr val="ffd1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3616920" y="5546520"/>
                        <a:ext cx="655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9" h="174">
                            <a:moveTo>
                              <a:pt x="0" y="174"/>
                            </a:moveTo>
                            <a:lnTo>
                              <a:pt x="4" y="173"/>
                            </a:lnTo>
                            <a:lnTo>
                              <a:pt x="16" y="169"/>
                            </a:lnTo>
                            <a:lnTo>
                              <a:pt x="36" y="163"/>
                            </a:lnTo>
                            <a:lnTo>
                              <a:pt x="61" y="156"/>
                            </a:lnTo>
                            <a:lnTo>
                              <a:pt x="92" y="146"/>
                            </a:lnTo>
                            <a:lnTo>
                              <a:pt x="126" y="135"/>
                            </a:lnTo>
                            <a:lnTo>
                              <a:pt x="165" y="122"/>
                            </a:lnTo>
                            <a:lnTo>
                              <a:pt x="205" y="109"/>
                            </a:lnTo>
                            <a:lnTo>
                              <a:pt x="246" y="95"/>
                            </a:lnTo>
                            <a:lnTo>
                              <a:pt x="288" y="80"/>
                            </a:lnTo>
                            <a:lnTo>
                              <a:pt x="330" y="67"/>
                            </a:lnTo>
                            <a:lnTo>
                              <a:pt x="371" y="52"/>
                            </a:lnTo>
                            <a:lnTo>
                              <a:pt x="408" y="37"/>
                            </a:lnTo>
                            <a:lnTo>
                              <a:pt x="443" y="25"/>
                            </a:lnTo>
                            <a:lnTo>
                              <a:pt x="474" y="11"/>
                            </a:lnTo>
                            <a:lnTo>
                              <a:pt x="499" y="0"/>
                            </a:lnTo>
                            <a:lnTo>
                              <a:pt x="495" y="72"/>
                            </a:lnTo>
                            <a:lnTo>
                              <a:pt x="485" y="33"/>
                            </a:lnTo>
                            <a:lnTo>
                              <a:pt x="484" y="35"/>
                            </a:lnTo>
                            <a:lnTo>
                              <a:pt x="478" y="36"/>
                            </a:lnTo>
                            <a:lnTo>
                              <a:pt x="469" y="40"/>
                            </a:lnTo>
                            <a:lnTo>
                              <a:pt x="457" y="45"/>
                            </a:lnTo>
                            <a:lnTo>
                              <a:pt x="439" y="51"/>
                            </a:lnTo>
                            <a:lnTo>
                              <a:pt x="419" y="57"/>
                            </a:lnTo>
                            <a:lnTo>
                              <a:pt x="395" y="66"/>
                            </a:lnTo>
                            <a:lnTo>
                              <a:pt x="367" y="74"/>
                            </a:lnTo>
                            <a:lnTo>
                              <a:pt x="335" y="84"/>
                            </a:lnTo>
                            <a:lnTo>
                              <a:pt x="299" y="95"/>
                            </a:lnTo>
                            <a:lnTo>
                              <a:pt x="260" y="106"/>
                            </a:lnTo>
                            <a:lnTo>
                              <a:pt x="216" y="119"/>
                            </a:lnTo>
                            <a:lnTo>
                              <a:pt x="168" y="132"/>
                            </a:lnTo>
                            <a:lnTo>
                              <a:pt x="116" y="146"/>
                            </a:lnTo>
                            <a:lnTo>
                              <a:pt x="61" y="160"/>
                            </a:lnTo>
                            <a:lnTo>
                              <a:pt x="0" y="174"/>
                            </a:lnTo>
                            <a:close/>
                          </a:path>
                        </a:pathLst>
                      </a:custGeom>
                      <a:solidFill>
                        <a:srgbClr val="ffb78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3324240" y="5355720"/>
                      <a:ext cx="578880" cy="342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9000" tIns="9000" bIns="9000" anchor="t">
                      <a:sp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e4a8"/>
                          </a:solidFill>
                          <a:latin typeface="Tahoma"/>
                          <a:ea typeface="宋体"/>
                        </a:rPr>
                        <a:t>Music </a:t>
                      </a:r>
                      <a:r>
                        <a:rPr b="1" lang="en-US" sz="900" spc="-1" strike="noStrike">
                          <a:solidFill>
                            <a:srgbClr val="00e4a8"/>
                          </a:solidFill>
                          <a:latin typeface="Tahoma"/>
                          <a:ea typeface="宋体"/>
                        </a:rPr>
                        <a:t>Distrib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26" name=""/>
                    <p:cNvGrpSpPr/>
                    <p:nvPr/>
                  </p:nvGrpSpPr>
                  <p:grpSpPr>
                    <a:xfrm>
                      <a:off x="3383280" y="5526720"/>
                      <a:ext cx="203760" cy="182160"/>
                      <a:chOff x="3383280" y="5526720"/>
                      <a:chExt cx="203760" cy="182160"/>
                    </a:xfrm>
                  </p:grpSpPr>
                  <p:grpSp>
                    <p:nvGrpSpPr>
                      <p:cNvPr id="1027" name=""/>
                      <p:cNvGrpSpPr/>
                      <p:nvPr/>
                    </p:nvGrpSpPr>
                    <p:grpSpPr>
                      <a:xfrm>
                        <a:off x="3425760" y="5603400"/>
                        <a:ext cx="64080" cy="105480"/>
                        <a:chOff x="3425760" y="5603400"/>
                        <a:chExt cx="64080" cy="105480"/>
                      </a:xfrm>
                    </p:grpSpPr>
                    <p:sp>
                      <p:nvSpPr>
                        <p:cNvPr id="1028" name=""/>
                        <p:cNvSpPr/>
                        <p:nvPr/>
                      </p:nvSpPr>
                      <p:spPr>
                        <a:xfrm>
                          <a:off x="3428640" y="5608440"/>
                          <a:ext cx="54720" cy="9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7" h="788">
                              <a:moveTo>
                                <a:pt x="353" y="62"/>
                              </a:moveTo>
                              <a:lnTo>
                                <a:pt x="352" y="61"/>
                              </a:lnTo>
                              <a:lnTo>
                                <a:pt x="351" y="58"/>
                              </a:lnTo>
                              <a:lnTo>
                                <a:pt x="347" y="54"/>
                              </a:lnTo>
                              <a:lnTo>
                                <a:pt x="342" y="48"/>
                              </a:lnTo>
                              <a:lnTo>
                                <a:pt x="336" y="42"/>
                              </a:lnTo>
                              <a:lnTo>
                                <a:pt x="329" y="34"/>
                              </a:lnTo>
                              <a:lnTo>
                                <a:pt x="320" y="27"/>
                              </a:lnTo>
                              <a:lnTo>
                                <a:pt x="310" y="20"/>
                              </a:lnTo>
                              <a:lnTo>
                                <a:pt x="297" y="13"/>
                              </a:lnTo>
                              <a:lnTo>
                                <a:pt x="283" y="8"/>
                              </a:lnTo>
                              <a:lnTo>
                                <a:pt x="267" y="3"/>
                              </a:lnTo>
                              <a:lnTo>
                                <a:pt x="250" y="1"/>
                              </a:lnTo>
                              <a:lnTo>
                                <a:pt x="231" y="0"/>
                              </a:lnTo>
                              <a:lnTo>
                                <a:pt x="209" y="1"/>
                              </a:lnTo>
                              <a:lnTo>
                                <a:pt x="185" y="4"/>
                              </a:lnTo>
                              <a:lnTo>
                                <a:pt x="160" y="11"/>
                              </a:lnTo>
                              <a:lnTo>
                                <a:pt x="156" y="13"/>
                              </a:lnTo>
                              <a:lnTo>
                                <a:pt x="144" y="17"/>
                              </a:lnTo>
                              <a:lnTo>
                                <a:pt x="126" y="22"/>
                              </a:lnTo>
                              <a:lnTo>
                                <a:pt x="104" y="25"/>
                              </a:lnTo>
                              <a:lnTo>
                                <a:pt x="78" y="27"/>
                              </a:lnTo>
                              <a:lnTo>
                                <a:pt x="51" y="25"/>
                              </a:lnTo>
                              <a:lnTo>
                                <a:pt x="25" y="18"/>
                              </a:lnTo>
                              <a:lnTo>
                                <a:pt x="0" y="4"/>
                              </a:lnTo>
                              <a:lnTo>
                                <a:pt x="1" y="7"/>
                              </a:lnTo>
                              <a:lnTo>
                                <a:pt x="4" y="18"/>
                              </a:lnTo>
                              <a:lnTo>
                                <a:pt x="9" y="32"/>
                              </a:lnTo>
                              <a:lnTo>
                                <a:pt x="17" y="53"/>
                              </a:lnTo>
                              <a:lnTo>
                                <a:pt x="27" y="79"/>
                              </a:lnTo>
                              <a:lnTo>
                                <a:pt x="38" y="109"/>
                              </a:lnTo>
                              <a:lnTo>
                                <a:pt x="54" y="143"/>
                              </a:lnTo>
                              <a:lnTo>
                                <a:pt x="71" y="179"/>
                              </a:lnTo>
                              <a:lnTo>
                                <a:pt x="90" y="219"/>
                              </a:lnTo>
                              <a:lnTo>
                                <a:pt x="113" y="261"/>
                              </a:lnTo>
                              <a:lnTo>
                                <a:pt x="138" y="303"/>
                              </a:lnTo>
                              <a:lnTo>
                                <a:pt x="166" y="348"/>
                              </a:lnTo>
                              <a:lnTo>
                                <a:pt x="198" y="393"/>
                              </a:lnTo>
                              <a:lnTo>
                                <a:pt x="231" y="438"/>
                              </a:lnTo>
                              <a:lnTo>
                                <a:pt x="268" y="482"/>
                              </a:lnTo>
                              <a:lnTo>
                                <a:pt x="308" y="525"/>
                              </a:lnTo>
                              <a:lnTo>
                                <a:pt x="305" y="526"/>
                              </a:lnTo>
                              <a:lnTo>
                                <a:pt x="295" y="530"/>
                              </a:lnTo>
                              <a:lnTo>
                                <a:pt x="282" y="535"/>
                              </a:lnTo>
                              <a:lnTo>
                                <a:pt x="264" y="542"/>
                              </a:lnTo>
                              <a:lnTo>
                                <a:pt x="243" y="551"/>
                              </a:lnTo>
                              <a:lnTo>
                                <a:pt x="222" y="563"/>
                              </a:lnTo>
                              <a:lnTo>
                                <a:pt x="200" y="577"/>
                              </a:lnTo>
                              <a:lnTo>
                                <a:pt x="178" y="591"/>
                              </a:lnTo>
                              <a:lnTo>
                                <a:pt x="157" y="609"/>
                              </a:lnTo>
                              <a:lnTo>
                                <a:pt x="139" y="629"/>
                              </a:lnTo>
                              <a:lnTo>
                                <a:pt x="126" y="651"/>
                              </a:lnTo>
                              <a:lnTo>
                                <a:pt x="116" y="673"/>
                              </a:lnTo>
                              <a:lnTo>
                                <a:pt x="112" y="700"/>
                              </a:lnTo>
                              <a:lnTo>
                                <a:pt x="116" y="727"/>
                              </a:lnTo>
                              <a:lnTo>
                                <a:pt x="127" y="757"/>
                              </a:lnTo>
                              <a:lnTo>
                                <a:pt x="148" y="788"/>
                              </a:lnTo>
                              <a:lnTo>
                                <a:pt x="150" y="788"/>
                              </a:lnTo>
                              <a:lnTo>
                                <a:pt x="157" y="787"/>
                              </a:lnTo>
                              <a:lnTo>
                                <a:pt x="167" y="786"/>
                              </a:lnTo>
                              <a:lnTo>
                                <a:pt x="182" y="783"/>
                              </a:lnTo>
                              <a:lnTo>
                                <a:pt x="198" y="779"/>
                              </a:lnTo>
                              <a:lnTo>
                                <a:pt x="216" y="773"/>
                              </a:lnTo>
                              <a:lnTo>
                                <a:pt x="236" y="764"/>
                              </a:lnTo>
                              <a:lnTo>
                                <a:pt x="256" y="754"/>
                              </a:lnTo>
                              <a:lnTo>
                                <a:pt x="277" y="740"/>
                              </a:lnTo>
                              <a:lnTo>
                                <a:pt x="295" y="724"/>
                              </a:lnTo>
                              <a:lnTo>
                                <a:pt x="314" y="704"/>
                              </a:lnTo>
                              <a:lnTo>
                                <a:pt x="331" y="681"/>
                              </a:lnTo>
                              <a:lnTo>
                                <a:pt x="344" y="653"/>
                              </a:lnTo>
                              <a:lnTo>
                                <a:pt x="355" y="621"/>
                              </a:lnTo>
                              <a:lnTo>
                                <a:pt x="361" y="585"/>
                              </a:lnTo>
                              <a:lnTo>
                                <a:pt x="363" y="544"/>
                              </a:lnTo>
                              <a:lnTo>
                                <a:pt x="360" y="541"/>
                              </a:lnTo>
                              <a:lnTo>
                                <a:pt x="353" y="532"/>
                              </a:lnTo>
                              <a:lnTo>
                                <a:pt x="341" y="516"/>
                              </a:lnTo>
                              <a:lnTo>
                                <a:pt x="327" y="497"/>
                              </a:lnTo>
                              <a:lnTo>
                                <a:pt x="309" y="473"/>
                              </a:lnTo>
                              <a:lnTo>
                                <a:pt x="289" y="447"/>
                              </a:lnTo>
                              <a:lnTo>
                                <a:pt x="268" y="419"/>
                              </a:lnTo>
                              <a:lnTo>
                                <a:pt x="248" y="389"/>
                              </a:lnTo>
                              <a:lnTo>
                                <a:pt x="226" y="359"/>
                              </a:lnTo>
                              <a:lnTo>
                                <a:pt x="205" y="328"/>
                              </a:lnTo>
                              <a:lnTo>
                                <a:pt x="185" y="299"/>
                              </a:lnTo>
                              <a:lnTo>
                                <a:pt x="168" y="271"/>
                              </a:lnTo>
                              <a:lnTo>
                                <a:pt x="154" y="246"/>
                              </a:lnTo>
                              <a:lnTo>
                                <a:pt x="142" y="225"/>
                              </a:lnTo>
                              <a:lnTo>
                                <a:pt x="136" y="207"/>
                              </a:lnTo>
                              <a:lnTo>
                                <a:pt x="134" y="195"/>
                              </a:lnTo>
                              <a:lnTo>
                                <a:pt x="135" y="194"/>
                              </a:lnTo>
                              <a:lnTo>
                                <a:pt x="138" y="191"/>
                              </a:lnTo>
                              <a:lnTo>
                                <a:pt x="145" y="187"/>
                              </a:lnTo>
                              <a:lnTo>
                                <a:pt x="152" y="181"/>
                              </a:lnTo>
                              <a:lnTo>
                                <a:pt x="161" y="175"/>
                              </a:lnTo>
                              <a:lnTo>
                                <a:pt x="173" y="169"/>
                              </a:lnTo>
                              <a:lnTo>
                                <a:pt x="186" y="162"/>
                              </a:lnTo>
                              <a:lnTo>
                                <a:pt x="202" y="154"/>
                              </a:lnTo>
                              <a:lnTo>
                                <a:pt x="218" y="148"/>
                              </a:lnTo>
                              <a:lnTo>
                                <a:pt x="237" y="143"/>
                              </a:lnTo>
                              <a:lnTo>
                                <a:pt x="257" y="139"/>
                              </a:lnTo>
                              <a:lnTo>
                                <a:pt x="278" y="135"/>
                              </a:lnTo>
                              <a:lnTo>
                                <a:pt x="301" y="134"/>
                              </a:lnTo>
                              <a:lnTo>
                                <a:pt x="325" y="135"/>
                              </a:lnTo>
                              <a:lnTo>
                                <a:pt x="351" y="139"/>
                              </a:lnTo>
                              <a:lnTo>
                                <a:pt x="377" y="145"/>
                              </a:lnTo>
                              <a:lnTo>
                                <a:pt x="375" y="142"/>
                              </a:lnTo>
                              <a:lnTo>
                                <a:pt x="370" y="134"/>
                              </a:lnTo>
                              <a:lnTo>
                                <a:pt x="362" y="124"/>
                              </a:lnTo>
                              <a:lnTo>
                                <a:pt x="348" y="112"/>
                              </a:lnTo>
                              <a:lnTo>
                                <a:pt x="329" y="102"/>
                              </a:lnTo>
                              <a:lnTo>
                                <a:pt x="303" y="94"/>
                              </a:lnTo>
                              <a:lnTo>
                                <a:pt x="268" y="91"/>
                              </a:lnTo>
                              <a:lnTo>
                                <a:pt x="226" y="94"/>
                              </a:lnTo>
                              <a:lnTo>
                                <a:pt x="222" y="95"/>
                              </a:lnTo>
                              <a:lnTo>
                                <a:pt x="210" y="97"/>
                              </a:lnTo>
                              <a:lnTo>
                                <a:pt x="193" y="100"/>
                              </a:lnTo>
                              <a:lnTo>
                                <a:pt x="175" y="104"/>
                              </a:lnTo>
                              <a:lnTo>
                                <a:pt x="155" y="107"/>
                              </a:lnTo>
                              <a:lnTo>
                                <a:pt x="136" y="109"/>
                              </a:lnTo>
                              <a:lnTo>
                                <a:pt x="121" y="109"/>
                              </a:lnTo>
                              <a:lnTo>
                                <a:pt x="111" y="107"/>
                              </a:lnTo>
                              <a:lnTo>
                                <a:pt x="110" y="105"/>
                              </a:lnTo>
                              <a:lnTo>
                                <a:pt x="106" y="99"/>
                              </a:lnTo>
                              <a:lnTo>
                                <a:pt x="102" y="89"/>
                              </a:lnTo>
                              <a:lnTo>
                                <a:pt x="98" y="75"/>
                              </a:lnTo>
                              <a:lnTo>
                                <a:pt x="99" y="75"/>
                              </a:lnTo>
                              <a:lnTo>
                                <a:pt x="101" y="75"/>
                              </a:lnTo>
                              <a:lnTo>
                                <a:pt x="107" y="74"/>
                              </a:lnTo>
                              <a:lnTo>
                                <a:pt x="115" y="72"/>
                              </a:lnTo>
                              <a:lnTo>
                                <a:pt x="128" y="69"/>
                              </a:lnTo>
                              <a:lnTo>
                                <a:pt x="145" y="63"/>
                              </a:lnTo>
                              <a:lnTo>
                                <a:pt x="166" y="55"/>
                              </a:lnTo>
                              <a:lnTo>
                                <a:pt x="194" y="45"/>
                              </a:lnTo>
                              <a:lnTo>
                                <a:pt x="198" y="44"/>
                              </a:lnTo>
                              <a:lnTo>
                                <a:pt x="207" y="41"/>
                              </a:lnTo>
                              <a:lnTo>
                                <a:pt x="222" y="36"/>
                              </a:lnTo>
                              <a:lnTo>
                                <a:pt x="241" y="34"/>
                              </a:lnTo>
                              <a:lnTo>
                                <a:pt x="264" y="34"/>
                              </a:lnTo>
                              <a:lnTo>
                                <a:pt x="291" y="37"/>
                              </a:lnTo>
                              <a:lnTo>
                                <a:pt x="320" y="47"/>
                              </a:lnTo>
                              <a:lnTo>
                                <a:pt x="353" y="6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ef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9" name=""/>
                        <p:cNvSpPr/>
                        <p:nvPr/>
                      </p:nvSpPr>
                      <p:spPr>
                        <a:xfrm>
                          <a:off x="3425760" y="5603400"/>
                          <a:ext cx="64080" cy="10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5" h="850">
                              <a:moveTo>
                                <a:pt x="394" y="130"/>
                              </a:moveTo>
                              <a:lnTo>
                                <a:pt x="393" y="131"/>
                              </a:lnTo>
                              <a:lnTo>
                                <a:pt x="392" y="127"/>
                              </a:lnTo>
                              <a:lnTo>
                                <a:pt x="390" y="121"/>
                              </a:lnTo>
                              <a:lnTo>
                                <a:pt x="387" y="112"/>
                              </a:lnTo>
                              <a:lnTo>
                                <a:pt x="383" y="101"/>
                              </a:lnTo>
                              <a:lnTo>
                                <a:pt x="378" y="90"/>
                              </a:lnTo>
                              <a:lnTo>
                                <a:pt x="370" y="77"/>
                              </a:lnTo>
                              <a:lnTo>
                                <a:pt x="362" y="65"/>
                              </a:lnTo>
                              <a:lnTo>
                                <a:pt x="351" y="52"/>
                              </a:lnTo>
                              <a:lnTo>
                                <a:pt x="338" y="41"/>
                              </a:lnTo>
                              <a:lnTo>
                                <a:pt x="324" y="31"/>
                              </a:lnTo>
                              <a:lnTo>
                                <a:pt x="306" y="24"/>
                              </a:lnTo>
                              <a:lnTo>
                                <a:pt x="285" y="19"/>
                              </a:lnTo>
                              <a:lnTo>
                                <a:pt x="262" y="18"/>
                              </a:lnTo>
                              <a:lnTo>
                                <a:pt x="236" y="20"/>
                              </a:lnTo>
                              <a:lnTo>
                                <a:pt x="207" y="27"/>
                              </a:lnTo>
                              <a:lnTo>
                                <a:pt x="205" y="27"/>
                              </a:lnTo>
                              <a:lnTo>
                                <a:pt x="201" y="28"/>
                              </a:lnTo>
                              <a:lnTo>
                                <a:pt x="196" y="30"/>
                              </a:lnTo>
                              <a:lnTo>
                                <a:pt x="187" y="31"/>
                              </a:lnTo>
                              <a:lnTo>
                                <a:pt x="178" y="34"/>
                              </a:lnTo>
                              <a:lnTo>
                                <a:pt x="166" y="35"/>
                              </a:lnTo>
                              <a:lnTo>
                                <a:pt x="155" y="36"/>
                              </a:lnTo>
                              <a:lnTo>
                                <a:pt x="142" y="37"/>
                              </a:lnTo>
                              <a:lnTo>
                                <a:pt x="128" y="37"/>
                              </a:lnTo>
                              <a:lnTo>
                                <a:pt x="113" y="36"/>
                              </a:lnTo>
                              <a:lnTo>
                                <a:pt x="99" y="35"/>
                              </a:lnTo>
                              <a:lnTo>
                                <a:pt x="84" y="31"/>
                              </a:lnTo>
                              <a:lnTo>
                                <a:pt x="70" y="27"/>
                              </a:lnTo>
                              <a:lnTo>
                                <a:pt x="56" y="21"/>
                              </a:lnTo>
                              <a:lnTo>
                                <a:pt x="43" y="14"/>
                              </a:lnTo>
                              <a:lnTo>
                                <a:pt x="30" y="4"/>
                              </a:lnTo>
                              <a:lnTo>
                                <a:pt x="28" y="2"/>
                              </a:lnTo>
                              <a:lnTo>
                                <a:pt x="23" y="0"/>
                              </a:lnTo>
                              <a:lnTo>
                                <a:pt x="16" y="0"/>
                              </a:lnTo>
                              <a:lnTo>
                                <a:pt x="8" y="1"/>
                              </a:lnTo>
                              <a:lnTo>
                                <a:pt x="3" y="5"/>
                              </a:lnTo>
                              <a:lnTo>
                                <a:pt x="0" y="13"/>
                              </a:lnTo>
                              <a:lnTo>
                                <a:pt x="1" y="24"/>
                              </a:lnTo>
                              <a:lnTo>
                                <a:pt x="8" y="41"/>
                              </a:lnTo>
                              <a:lnTo>
                                <a:pt x="10" y="44"/>
                              </a:lnTo>
                              <a:lnTo>
                                <a:pt x="17" y="57"/>
                              </a:lnTo>
                              <a:lnTo>
                                <a:pt x="27" y="76"/>
                              </a:lnTo>
                              <a:lnTo>
                                <a:pt x="41" y="102"/>
                              </a:lnTo>
                              <a:lnTo>
                                <a:pt x="57" y="134"/>
                              </a:lnTo>
                              <a:lnTo>
                                <a:pt x="76" y="170"/>
                              </a:lnTo>
                              <a:lnTo>
                                <a:pt x="97" y="210"/>
                              </a:lnTo>
                              <a:lnTo>
                                <a:pt x="121" y="252"/>
                              </a:lnTo>
                              <a:lnTo>
                                <a:pt x="146" y="296"/>
                              </a:lnTo>
                              <a:lnTo>
                                <a:pt x="172" y="340"/>
                              </a:lnTo>
                              <a:lnTo>
                                <a:pt x="199" y="385"/>
                              </a:lnTo>
                              <a:lnTo>
                                <a:pt x="226" y="428"/>
                              </a:lnTo>
                              <a:lnTo>
                                <a:pt x="253" y="468"/>
                              </a:lnTo>
                              <a:lnTo>
                                <a:pt x="280" y="506"/>
                              </a:lnTo>
                              <a:lnTo>
                                <a:pt x="307" y="538"/>
                              </a:lnTo>
                              <a:lnTo>
                                <a:pt x="332" y="566"/>
                              </a:lnTo>
                              <a:lnTo>
                                <a:pt x="330" y="569"/>
                              </a:lnTo>
                              <a:lnTo>
                                <a:pt x="321" y="572"/>
                              </a:lnTo>
                              <a:lnTo>
                                <a:pt x="309" y="578"/>
                              </a:lnTo>
                              <a:lnTo>
                                <a:pt x="293" y="586"/>
                              </a:lnTo>
                              <a:lnTo>
                                <a:pt x="275" y="597"/>
                              </a:lnTo>
                              <a:lnTo>
                                <a:pt x="255" y="609"/>
                              </a:lnTo>
                              <a:lnTo>
                                <a:pt x="234" y="624"/>
                              </a:lnTo>
                              <a:lnTo>
                                <a:pt x="213" y="639"/>
                              </a:lnTo>
                              <a:lnTo>
                                <a:pt x="195" y="658"/>
                              </a:lnTo>
                              <a:lnTo>
                                <a:pt x="177" y="677"/>
                              </a:lnTo>
                              <a:lnTo>
                                <a:pt x="163" y="698"/>
                              </a:lnTo>
                              <a:lnTo>
                                <a:pt x="153" y="721"/>
                              </a:lnTo>
                              <a:lnTo>
                                <a:pt x="148" y="745"/>
                              </a:lnTo>
                              <a:lnTo>
                                <a:pt x="149" y="770"/>
                              </a:lnTo>
                              <a:lnTo>
                                <a:pt x="156" y="796"/>
                              </a:lnTo>
                              <a:lnTo>
                                <a:pt x="172" y="823"/>
                              </a:lnTo>
                              <a:lnTo>
                                <a:pt x="174" y="825"/>
                              </a:lnTo>
                              <a:lnTo>
                                <a:pt x="177" y="828"/>
                              </a:lnTo>
                              <a:lnTo>
                                <a:pt x="182" y="832"/>
                              </a:lnTo>
                              <a:lnTo>
                                <a:pt x="188" y="836"/>
                              </a:lnTo>
                              <a:lnTo>
                                <a:pt x="196" y="841"/>
                              </a:lnTo>
                              <a:lnTo>
                                <a:pt x="205" y="844"/>
                              </a:lnTo>
                              <a:lnTo>
                                <a:pt x="215" y="847"/>
                              </a:lnTo>
                              <a:lnTo>
                                <a:pt x="228" y="849"/>
                              </a:lnTo>
                              <a:lnTo>
                                <a:pt x="240" y="850"/>
                              </a:lnTo>
                              <a:lnTo>
                                <a:pt x="255" y="849"/>
                              </a:lnTo>
                              <a:lnTo>
                                <a:pt x="269" y="846"/>
                              </a:lnTo>
                              <a:lnTo>
                                <a:pt x="285" y="840"/>
                              </a:lnTo>
                              <a:lnTo>
                                <a:pt x="303" y="831"/>
                              </a:lnTo>
                              <a:lnTo>
                                <a:pt x="319" y="820"/>
                              </a:lnTo>
                              <a:lnTo>
                                <a:pt x="338" y="804"/>
                              </a:lnTo>
                              <a:lnTo>
                                <a:pt x="357" y="785"/>
                              </a:lnTo>
                              <a:lnTo>
                                <a:pt x="361" y="780"/>
                              </a:lnTo>
                              <a:lnTo>
                                <a:pt x="371" y="768"/>
                              </a:lnTo>
                              <a:lnTo>
                                <a:pt x="386" y="747"/>
                              </a:lnTo>
                              <a:lnTo>
                                <a:pt x="401" y="720"/>
                              </a:lnTo>
                              <a:lnTo>
                                <a:pt x="411" y="686"/>
                              </a:lnTo>
                              <a:lnTo>
                                <a:pt x="415" y="647"/>
                              </a:lnTo>
                              <a:lnTo>
                                <a:pt x="408" y="603"/>
                              </a:lnTo>
                              <a:lnTo>
                                <a:pt x="387" y="554"/>
                              </a:lnTo>
                              <a:lnTo>
                                <a:pt x="385" y="551"/>
                              </a:lnTo>
                              <a:lnTo>
                                <a:pt x="378" y="541"/>
                              </a:lnTo>
                              <a:lnTo>
                                <a:pt x="367" y="528"/>
                              </a:lnTo>
                              <a:lnTo>
                                <a:pt x="355" y="509"/>
                              </a:lnTo>
                              <a:lnTo>
                                <a:pt x="339" y="488"/>
                              </a:lnTo>
                              <a:lnTo>
                                <a:pt x="323" y="463"/>
                              </a:lnTo>
                              <a:lnTo>
                                <a:pt x="305" y="437"/>
                              </a:lnTo>
                              <a:lnTo>
                                <a:pt x="286" y="410"/>
                              </a:lnTo>
                              <a:lnTo>
                                <a:pt x="266" y="383"/>
                              </a:lnTo>
                              <a:lnTo>
                                <a:pt x="249" y="357"/>
                              </a:lnTo>
                              <a:lnTo>
                                <a:pt x="232" y="331"/>
                              </a:lnTo>
                              <a:lnTo>
                                <a:pt x="216" y="308"/>
                              </a:lnTo>
                              <a:lnTo>
                                <a:pt x="204" y="287"/>
                              </a:lnTo>
                              <a:lnTo>
                                <a:pt x="194" y="270"/>
                              </a:lnTo>
                              <a:lnTo>
                                <a:pt x="186" y="259"/>
                              </a:lnTo>
                              <a:lnTo>
                                <a:pt x="184" y="252"/>
                              </a:lnTo>
                              <a:lnTo>
                                <a:pt x="185" y="249"/>
                              </a:lnTo>
                              <a:lnTo>
                                <a:pt x="188" y="244"/>
                              </a:lnTo>
                              <a:lnTo>
                                <a:pt x="197" y="237"/>
                              </a:lnTo>
                              <a:lnTo>
                                <a:pt x="208" y="228"/>
                              </a:lnTo>
                              <a:lnTo>
                                <a:pt x="223" y="219"/>
                              </a:lnTo>
                              <a:lnTo>
                                <a:pt x="241" y="210"/>
                              </a:lnTo>
                              <a:lnTo>
                                <a:pt x="264" y="201"/>
                              </a:lnTo>
                              <a:lnTo>
                                <a:pt x="290" y="195"/>
                              </a:lnTo>
                              <a:lnTo>
                                <a:pt x="301" y="193"/>
                              </a:lnTo>
                              <a:lnTo>
                                <a:pt x="318" y="191"/>
                              </a:lnTo>
                              <a:lnTo>
                                <a:pt x="339" y="191"/>
                              </a:lnTo>
                              <a:lnTo>
                                <a:pt x="363" y="193"/>
                              </a:lnTo>
                              <a:lnTo>
                                <a:pt x="387" y="200"/>
                              </a:lnTo>
                              <a:lnTo>
                                <a:pt x="410" y="213"/>
                              </a:lnTo>
                              <a:lnTo>
                                <a:pt x="430" y="234"/>
                              </a:lnTo>
                              <a:lnTo>
                                <a:pt x="445" y="262"/>
                              </a:lnTo>
                              <a:lnTo>
                                <a:pt x="444" y="259"/>
                              </a:lnTo>
                              <a:lnTo>
                                <a:pt x="443" y="254"/>
                              </a:lnTo>
                              <a:lnTo>
                                <a:pt x="441" y="245"/>
                              </a:lnTo>
                              <a:lnTo>
                                <a:pt x="437" y="236"/>
                              </a:lnTo>
                              <a:lnTo>
                                <a:pt x="433" y="223"/>
                              </a:lnTo>
                              <a:lnTo>
                                <a:pt x="427" y="212"/>
                              </a:lnTo>
                              <a:lnTo>
                                <a:pt x="418" y="198"/>
                              </a:lnTo>
                              <a:lnTo>
                                <a:pt x="409" y="186"/>
                              </a:lnTo>
                              <a:lnTo>
                                <a:pt x="395" y="173"/>
                              </a:lnTo>
                              <a:lnTo>
                                <a:pt x="381" y="163"/>
                              </a:lnTo>
                              <a:lnTo>
                                <a:pt x="362" y="153"/>
                              </a:lnTo>
                              <a:lnTo>
                                <a:pt x="340" y="146"/>
                              </a:lnTo>
                              <a:lnTo>
                                <a:pt x="315" y="141"/>
                              </a:lnTo>
                              <a:lnTo>
                                <a:pt x="286" y="140"/>
                              </a:lnTo>
                              <a:lnTo>
                                <a:pt x="253" y="143"/>
                              </a:lnTo>
                              <a:lnTo>
                                <a:pt x="215" y="149"/>
                              </a:lnTo>
                              <a:lnTo>
                                <a:pt x="211" y="150"/>
                              </a:lnTo>
                              <a:lnTo>
                                <a:pt x="204" y="152"/>
                              </a:lnTo>
                              <a:lnTo>
                                <a:pt x="194" y="156"/>
                              </a:lnTo>
                              <a:lnTo>
                                <a:pt x="180" y="158"/>
                              </a:lnTo>
                              <a:lnTo>
                                <a:pt x="166" y="160"/>
                              </a:lnTo>
                              <a:lnTo>
                                <a:pt x="153" y="160"/>
                              </a:lnTo>
                              <a:lnTo>
                                <a:pt x="140" y="158"/>
                              </a:lnTo>
                              <a:lnTo>
                                <a:pt x="129" y="153"/>
                              </a:lnTo>
                              <a:lnTo>
                                <a:pt x="128" y="152"/>
                              </a:lnTo>
                              <a:lnTo>
                                <a:pt x="125" y="147"/>
                              </a:lnTo>
                              <a:lnTo>
                                <a:pt x="120" y="140"/>
                              </a:lnTo>
                              <a:lnTo>
                                <a:pt x="113" y="132"/>
                              </a:lnTo>
                              <a:lnTo>
                                <a:pt x="107" y="122"/>
                              </a:lnTo>
                              <a:lnTo>
                                <a:pt x="101" y="114"/>
                              </a:lnTo>
                              <a:lnTo>
                                <a:pt x="97" y="107"/>
                              </a:lnTo>
                              <a:lnTo>
                                <a:pt x="96" y="102"/>
                              </a:lnTo>
                              <a:lnTo>
                                <a:pt x="96" y="103"/>
                              </a:lnTo>
                              <a:lnTo>
                                <a:pt x="99" y="106"/>
                              </a:lnTo>
                              <a:lnTo>
                                <a:pt x="104" y="106"/>
                              </a:lnTo>
                              <a:lnTo>
                                <a:pt x="114" y="106"/>
                              </a:lnTo>
                              <a:lnTo>
                                <a:pt x="129" y="103"/>
                              </a:lnTo>
                              <a:lnTo>
                                <a:pt x="151" y="98"/>
                              </a:lnTo>
                              <a:lnTo>
                                <a:pt x="179" y="89"/>
                              </a:lnTo>
                              <a:lnTo>
                                <a:pt x="216" y="75"/>
                              </a:lnTo>
                              <a:lnTo>
                                <a:pt x="217" y="74"/>
                              </a:lnTo>
                              <a:lnTo>
                                <a:pt x="221" y="73"/>
                              </a:lnTo>
                              <a:lnTo>
                                <a:pt x="226" y="72"/>
                              </a:lnTo>
                              <a:lnTo>
                                <a:pt x="232" y="70"/>
                              </a:lnTo>
                              <a:lnTo>
                                <a:pt x="240" y="69"/>
                              </a:lnTo>
                              <a:lnTo>
                                <a:pt x="251" y="68"/>
                              </a:lnTo>
                              <a:lnTo>
                                <a:pt x="262" y="67"/>
                              </a:lnTo>
                              <a:lnTo>
                                <a:pt x="275" y="68"/>
                              </a:lnTo>
                              <a:lnTo>
                                <a:pt x="288" y="69"/>
                              </a:lnTo>
                              <a:lnTo>
                                <a:pt x="303" y="72"/>
                              </a:lnTo>
                              <a:lnTo>
                                <a:pt x="317" y="76"/>
                              </a:lnTo>
                              <a:lnTo>
                                <a:pt x="333" y="83"/>
                              </a:lnTo>
                              <a:lnTo>
                                <a:pt x="349" y="90"/>
                              </a:lnTo>
                              <a:lnTo>
                                <a:pt x="364" y="100"/>
                              </a:lnTo>
                              <a:lnTo>
                                <a:pt x="380" y="114"/>
                              </a:lnTo>
                              <a:lnTo>
                                <a:pt x="394" y="130"/>
                              </a:lnTo>
                              <a:lnTo>
                                <a:pt x="393" y="130"/>
                              </a:lnTo>
                              <a:lnTo>
                                <a:pt x="391" y="127"/>
                              </a:lnTo>
                              <a:lnTo>
                                <a:pt x="389" y="123"/>
                              </a:lnTo>
                              <a:lnTo>
                                <a:pt x="386" y="117"/>
                              </a:lnTo>
                              <a:lnTo>
                                <a:pt x="381" y="110"/>
                              </a:lnTo>
                              <a:lnTo>
                                <a:pt x="376" y="101"/>
                              </a:lnTo>
                              <a:lnTo>
                                <a:pt x="368" y="92"/>
                              </a:lnTo>
                              <a:lnTo>
                                <a:pt x="360" y="83"/>
                              </a:lnTo>
                              <a:lnTo>
                                <a:pt x="350" y="74"/>
                              </a:lnTo>
                              <a:lnTo>
                                <a:pt x="337" y="67"/>
                              </a:lnTo>
                              <a:lnTo>
                                <a:pt x="323" y="60"/>
                              </a:lnTo>
                              <a:lnTo>
                                <a:pt x="306" y="54"/>
                              </a:lnTo>
                              <a:lnTo>
                                <a:pt x="286" y="51"/>
                              </a:lnTo>
                              <a:lnTo>
                                <a:pt x="265" y="51"/>
                              </a:lnTo>
                              <a:lnTo>
                                <a:pt x="240" y="53"/>
                              </a:lnTo>
                              <a:lnTo>
                                <a:pt x="213" y="59"/>
                              </a:lnTo>
                              <a:lnTo>
                                <a:pt x="208" y="60"/>
                              </a:lnTo>
                              <a:lnTo>
                                <a:pt x="195" y="64"/>
                              </a:lnTo>
                              <a:lnTo>
                                <a:pt x="176" y="70"/>
                              </a:lnTo>
                              <a:lnTo>
                                <a:pt x="153" y="76"/>
                              </a:lnTo>
                              <a:lnTo>
                                <a:pt x="129" y="82"/>
                              </a:lnTo>
                              <a:lnTo>
                                <a:pt x="105" y="85"/>
                              </a:lnTo>
                              <a:lnTo>
                                <a:pt x="85" y="83"/>
                              </a:lnTo>
                              <a:lnTo>
                                <a:pt x="70" y="75"/>
                              </a:lnTo>
                              <a:lnTo>
                                <a:pt x="72" y="81"/>
                              </a:lnTo>
                              <a:lnTo>
                                <a:pt x="75" y="90"/>
                              </a:lnTo>
                              <a:lnTo>
                                <a:pt x="80" y="102"/>
                              </a:lnTo>
                              <a:lnTo>
                                <a:pt x="86" y="117"/>
                              </a:lnTo>
                              <a:lnTo>
                                <a:pt x="96" y="134"/>
                              </a:lnTo>
                              <a:lnTo>
                                <a:pt x="107" y="151"/>
                              </a:lnTo>
                              <a:lnTo>
                                <a:pt x="122" y="170"/>
                              </a:lnTo>
                              <a:lnTo>
                                <a:pt x="140" y="188"/>
                              </a:lnTo>
                              <a:lnTo>
                                <a:pt x="143" y="188"/>
                              </a:lnTo>
                              <a:lnTo>
                                <a:pt x="149" y="187"/>
                              </a:lnTo>
                              <a:lnTo>
                                <a:pt x="158" y="185"/>
                              </a:lnTo>
                              <a:lnTo>
                                <a:pt x="171" y="182"/>
                              </a:lnTo>
                              <a:lnTo>
                                <a:pt x="185" y="177"/>
                              </a:lnTo>
                              <a:lnTo>
                                <a:pt x="201" y="173"/>
                              </a:lnTo>
                              <a:lnTo>
                                <a:pt x="220" y="168"/>
                              </a:lnTo>
                              <a:lnTo>
                                <a:pt x="238" y="164"/>
                              </a:lnTo>
                              <a:lnTo>
                                <a:pt x="258" y="161"/>
                              </a:lnTo>
                              <a:lnTo>
                                <a:pt x="278" y="159"/>
                              </a:lnTo>
                              <a:lnTo>
                                <a:pt x="297" y="158"/>
                              </a:lnTo>
                              <a:lnTo>
                                <a:pt x="316" y="158"/>
                              </a:lnTo>
                              <a:lnTo>
                                <a:pt x="334" y="160"/>
                              </a:lnTo>
                              <a:lnTo>
                                <a:pt x="351" y="165"/>
                              </a:lnTo>
                              <a:lnTo>
                                <a:pt x="365" y="171"/>
                              </a:lnTo>
                              <a:lnTo>
                                <a:pt x="378" y="182"/>
                              </a:lnTo>
                              <a:lnTo>
                                <a:pt x="377" y="182"/>
                              </a:lnTo>
                              <a:lnTo>
                                <a:pt x="373" y="181"/>
                              </a:lnTo>
                              <a:lnTo>
                                <a:pt x="368" y="179"/>
                              </a:lnTo>
                              <a:lnTo>
                                <a:pt x="360" y="177"/>
                              </a:lnTo>
                              <a:lnTo>
                                <a:pt x="350" y="176"/>
                              </a:lnTo>
                              <a:lnTo>
                                <a:pt x="338" y="175"/>
                              </a:lnTo>
                              <a:lnTo>
                                <a:pt x="325" y="174"/>
                              </a:lnTo>
                              <a:lnTo>
                                <a:pt x="310" y="175"/>
                              </a:lnTo>
                              <a:lnTo>
                                <a:pt x="294" y="177"/>
                              </a:lnTo>
                              <a:lnTo>
                                <a:pt x="278" y="181"/>
                              </a:lnTo>
                              <a:lnTo>
                                <a:pt x="260" y="185"/>
                              </a:lnTo>
                              <a:lnTo>
                                <a:pt x="241" y="192"/>
                              </a:lnTo>
                              <a:lnTo>
                                <a:pt x="223" y="200"/>
                              </a:lnTo>
                              <a:lnTo>
                                <a:pt x="204" y="212"/>
                              </a:lnTo>
                              <a:lnTo>
                                <a:pt x="185" y="226"/>
                              </a:lnTo>
                              <a:lnTo>
                                <a:pt x="166" y="243"/>
                              </a:lnTo>
                              <a:lnTo>
                                <a:pt x="166" y="243"/>
                              </a:lnTo>
                              <a:lnTo>
                                <a:pt x="169" y="247"/>
                              </a:lnTo>
                              <a:lnTo>
                                <a:pt x="173" y="255"/>
                              </a:lnTo>
                              <a:lnTo>
                                <a:pt x="178" y="264"/>
                              </a:lnTo>
                              <a:lnTo>
                                <a:pt x="184" y="278"/>
                              </a:lnTo>
                              <a:lnTo>
                                <a:pt x="192" y="293"/>
                              </a:lnTo>
                              <a:lnTo>
                                <a:pt x="203" y="311"/>
                              </a:lnTo>
                              <a:lnTo>
                                <a:pt x="215" y="332"/>
                              </a:lnTo>
                              <a:lnTo>
                                <a:pt x="229" y="355"/>
                              </a:lnTo>
                              <a:lnTo>
                                <a:pt x="244" y="379"/>
                              </a:lnTo>
                              <a:lnTo>
                                <a:pt x="261" y="406"/>
                              </a:lnTo>
                              <a:lnTo>
                                <a:pt x="281" y="434"/>
                              </a:lnTo>
                              <a:lnTo>
                                <a:pt x="302" y="463"/>
                              </a:lnTo>
                              <a:lnTo>
                                <a:pt x="325" y="494"/>
                              </a:lnTo>
                              <a:lnTo>
                                <a:pt x="350" y="527"/>
                              </a:lnTo>
                              <a:lnTo>
                                <a:pt x="377" y="560"/>
                              </a:lnTo>
                              <a:lnTo>
                                <a:pt x="375" y="563"/>
                              </a:lnTo>
                              <a:lnTo>
                                <a:pt x="376" y="565"/>
                              </a:lnTo>
                              <a:lnTo>
                                <a:pt x="378" y="567"/>
                              </a:lnTo>
                              <a:lnTo>
                                <a:pt x="377" y="570"/>
                              </a:lnTo>
                              <a:lnTo>
                                <a:pt x="380" y="572"/>
                              </a:lnTo>
                              <a:lnTo>
                                <a:pt x="385" y="584"/>
                              </a:lnTo>
                              <a:lnTo>
                                <a:pt x="390" y="605"/>
                              </a:lnTo>
                              <a:lnTo>
                                <a:pt x="393" y="633"/>
                              </a:lnTo>
                              <a:lnTo>
                                <a:pt x="390" y="665"/>
                              </a:lnTo>
                              <a:lnTo>
                                <a:pt x="381" y="700"/>
                              </a:lnTo>
                              <a:lnTo>
                                <a:pt x="362" y="736"/>
                              </a:lnTo>
                              <a:lnTo>
                                <a:pt x="331" y="771"/>
                              </a:lnTo>
                              <a:lnTo>
                                <a:pt x="329" y="773"/>
                              </a:lnTo>
                              <a:lnTo>
                                <a:pt x="319" y="780"/>
                              </a:lnTo>
                              <a:lnTo>
                                <a:pt x="305" y="791"/>
                              </a:lnTo>
                              <a:lnTo>
                                <a:pt x="286" y="802"/>
                              </a:lnTo>
                              <a:lnTo>
                                <a:pt x="264" y="812"/>
                              </a:lnTo>
                              <a:lnTo>
                                <a:pt x="241" y="818"/>
                              </a:lnTo>
                              <a:lnTo>
                                <a:pt x="221" y="816"/>
                              </a:lnTo>
                              <a:lnTo>
                                <a:pt x="201" y="805"/>
                              </a:lnTo>
                              <a:lnTo>
                                <a:pt x="198" y="802"/>
                              </a:lnTo>
                              <a:lnTo>
                                <a:pt x="192" y="793"/>
                              </a:lnTo>
                              <a:lnTo>
                                <a:pt x="187" y="779"/>
                              </a:lnTo>
                              <a:lnTo>
                                <a:pt x="183" y="761"/>
                              </a:lnTo>
                              <a:lnTo>
                                <a:pt x="182" y="741"/>
                              </a:lnTo>
                              <a:lnTo>
                                <a:pt x="187" y="717"/>
                              </a:lnTo>
                              <a:lnTo>
                                <a:pt x="199" y="692"/>
                              </a:lnTo>
                              <a:lnTo>
                                <a:pt x="221" y="665"/>
                              </a:lnTo>
                              <a:lnTo>
                                <a:pt x="224" y="665"/>
                              </a:lnTo>
                              <a:lnTo>
                                <a:pt x="230" y="659"/>
                              </a:lnTo>
                              <a:lnTo>
                                <a:pt x="241" y="649"/>
                              </a:lnTo>
                              <a:lnTo>
                                <a:pt x="257" y="636"/>
                              </a:lnTo>
                              <a:lnTo>
                                <a:pt x="277" y="622"/>
                              </a:lnTo>
                              <a:lnTo>
                                <a:pt x="300" y="607"/>
                              </a:lnTo>
                              <a:lnTo>
                                <a:pt x="326" y="595"/>
                              </a:lnTo>
                              <a:lnTo>
                                <a:pt x="356" y="585"/>
                              </a:lnTo>
                              <a:lnTo>
                                <a:pt x="352" y="580"/>
                              </a:lnTo>
                              <a:lnTo>
                                <a:pt x="342" y="566"/>
                              </a:lnTo>
                              <a:lnTo>
                                <a:pt x="328" y="545"/>
                              </a:lnTo>
                              <a:lnTo>
                                <a:pt x="308" y="515"/>
                              </a:lnTo>
                              <a:lnTo>
                                <a:pt x="285" y="481"/>
                              </a:lnTo>
                              <a:lnTo>
                                <a:pt x="259" y="441"/>
                              </a:lnTo>
                              <a:lnTo>
                                <a:pt x="231" y="399"/>
                              </a:lnTo>
                              <a:lnTo>
                                <a:pt x="202" y="354"/>
                              </a:lnTo>
                              <a:lnTo>
                                <a:pt x="173" y="307"/>
                              </a:lnTo>
                              <a:lnTo>
                                <a:pt x="144" y="260"/>
                              </a:lnTo>
                              <a:lnTo>
                                <a:pt x="116" y="214"/>
                              </a:lnTo>
                              <a:lnTo>
                                <a:pt x="90" y="170"/>
                              </a:lnTo>
                              <a:lnTo>
                                <a:pt x="68" y="130"/>
                              </a:lnTo>
                              <a:lnTo>
                                <a:pt x="48" y="93"/>
                              </a:lnTo>
                              <a:lnTo>
                                <a:pt x="34" y="62"/>
                              </a:lnTo>
                              <a:lnTo>
                                <a:pt x="25" y="38"/>
                              </a:lnTo>
                              <a:lnTo>
                                <a:pt x="25" y="37"/>
                              </a:lnTo>
                              <a:lnTo>
                                <a:pt x="26" y="38"/>
                              </a:lnTo>
                              <a:lnTo>
                                <a:pt x="28" y="39"/>
                              </a:lnTo>
                              <a:lnTo>
                                <a:pt x="31" y="41"/>
                              </a:lnTo>
                              <a:lnTo>
                                <a:pt x="36" y="44"/>
                              </a:lnTo>
                              <a:lnTo>
                                <a:pt x="44" y="47"/>
                              </a:lnTo>
                              <a:lnTo>
                                <a:pt x="51" y="49"/>
                              </a:lnTo>
                              <a:lnTo>
                                <a:pt x="61" y="52"/>
                              </a:lnTo>
                              <a:lnTo>
                                <a:pt x="73" y="54"/>
                              </a:lnTo>
                              <a:lnTo>
                                <a:pt x="85" y="57"/>
                              </a:lnTo>
                              <a:lnTo>
                                <a:pt x="100" y="58"/>
                              </a:lnTo>
                              <a:lnTo>
                                <a:pt x="117" y="58"/>
                              </a:lnTo>
                              <a:lnTo>
                                <a:pt x="135" y="55"/>
                              </a:lnTo>
                              <a:lnTo>
                                <a:pt x="156" y="52"/>
                              </a:lnTo>
                              <a:lnTo>
                                <a:pt x="179" y="48"/>
                              </a:lnTo>
                              <a:lnTo>
                                <a:pt x="204" y="42"/>
                              </a:lnTo>
                              <a:lnTo>
                                <a:pt x="205" y="43"/>
                              </a:lnTo>
                              <a:lnTo>
                                <a:pt x="208" y="42"/>
                              </a:lnTo>
                              <a:lnTo>
                                <a:pt x="213" y="41"/>
                              </a:lnTo>
                              <a:lnTo>
                                <a:pt x="222" y="40"/>
                              </a:lnTo>
                              <a:lnTo>
                                <a:pt x="232" y="38"/>
                              </a:lnTo>
                              <a:lnTo>
                                <a:pt x="243" y="37"/>
                              </a:lnTo>
                              <a:lnTo>
                                <a:pt x="256" y="37"/>
                              </a:lnTo>
                              <a:lnTo>
                                <a:pt x="271" y="37"/>
                              </a:lnTo>
                              <a:lnTo>
                                <a:pt x="285" y="40"/>
                              </a:lnTo>
                              <a:lnTo>
                                <a:pt x="301" y="44"/>
                              </a:lnTo>
                              <a:lnTo>
                                <a:pt x="317" y="50"/>
                              </a:lnTo>
                              <a:lnTo>
                                <a:pt x="333" y="60"/>
                              </a:lnTo>
                              <a:lnTo>
                                <a:pt x="350" y="71"/>
                              </a:lnTo>
                              <a:lnTo>
                                <a:pt x="365" y="87"/>
                              </a:lnTo>
                              <a:lnTo>
                                <a:pt x="380" y="107"/>
                              </a:lnTo>
                              <a:lnTo>
                                <a:pt x="394" y="1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0" name=""/>
                        <p:cNvSpPr/>
                        <p:nvPr/>
                      </p:nvSpPr>
                      <p:spPr>
                        <a:xfrm>
                          <a:off x="3454200" y="5681880"/>
                          <a:ext cx="23040" cy="18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0" h="149">
                              <a:moveTo>
                                <a:pt x="113" y="112"/>
                              </a:moveTo>
                              <a:lnTo>
                                <a:pt x="126" y="98"/>
                              </a:lnTo>
                              <a:lnTo>
                                <a:pt x="138" y="84"/>
                              </a:lnTo>
                              <a:lnTo>
                                <a:pt x="147" y="70"/>
                              </a:lnTo>
                              <a:lnTo>
                                <a:pt x="155" y="55"/>
                              </a:lnTo>
                              <a:lnTo>
                                <a:pt x="158" y="43"/>
                              </a:lnTo>
                              <a:lnTo>
                                <a:pt x="160" y="30"/>
                              </a:lnTo>
                              <a:lnTo>
                                <a:pt x="158" y="20"/>
                              </a:lnTo>
                              <a:lnTo>
                                <a:pt x="152" y="11"/>
                              </a:lnTo>
                              <a:lnTo>
                                <a:pt x="144" y="4"/>
                              </a:lnTo>
                              <a:lnTo>
                                <a:pt x="134" y="0"/>
                              </a:lnTo>
                              <a:lnTo>
                                <a:pt x="121" y="0"/>
                              </a:lnTo>
                              <a:lnTo>
                                <a:pt x="108" y="2"/>
                              </a:lnTo>
                              <a:lnTo>
                                <a:pt x="92" y="7"/>
                              </a:lnTo>
                              <a:lnTo>
                                <a:pt x="77" y="15"/>
                              </a:lnTo>
                              <a:lnTo>
                                <a:pt x="62" y="24"/>
                              </a:lnTo>
                              <a:lnTo>
                                <a:pt x="46" y="37"/>
                              </a:lnTo>
                              <a:lnTo>
                                <a:pt x="32" y="50"/>
                              </a:lnTo>
                              <a:lnTo>
                                <a:pt x="20" y="65"/>
                              </a:lnTo>
                              <a:lnTo>
                                <a:pt x="11" y="78"/>
                              </a:lnTo>
                              <a:lnTo>
                                <a:pt x="5" y="93"/>
                              </a:lnTo>
                              <a:lnTo>
                                <a:pt x="1" y="106"/>
                              </a:lnTo>
                              <a:lnTo>
                                <a:pt x="0" y="119"/>
                              </a:lnTo>
                              <a:lnTo>
                                <a:pt x="2" y="129"/>
                              </a:lnTo>
                              <a:lnTo>
                                <a:pt x="7" y="139"/>
                              </a:lnTo>
                              <a:lnTo>
                                <a:pt x="15" y="145"/>
                              </a:lnTo>
                              <a:lnTo>
                                <a:pt x="26" y="148"/>
                              </a:lnTo>
                              <a:lnTo>
                                <a:pt x="38" y="149"/>
                              </a:lnTo>
                              <a:lnTo>
                                <a:pt x="52" y="146"/>
                              </a:lnTo>
                              <a:lnTo>
                                <a:pt x="66" y="141"/>
                              </a:lnTo>
                              <a:lnTo>
                                <a:pt x="82" y="134"/>
                              </a:lnTo>
                              <a:lnTo>
                                <a:pt x="97" y="124"/>
                              </a:lnTo>
                              <a:lnTo>
                                <a:pt x="113" y="1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dff4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440" bIns="-28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1" name=""/>
                        <p:cNvSpPr/>
                        <p:nvPr/>
                      </p:nvSpPr>
                      <p:spPr>
                        <a:xfrm>
                          <a:off x="3454200" y="5683680"/>
                          <a:ext cx="2016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0" h="129">
                              <a:moveTo>
                                <a:pt x="99" y="98"/>
                              </a:moveTo>
                              <a:lnTo>
                                <a:pt x="111" y="86"/>
                              </a:lnTo>
                              <a:lnTo>
                                <a:pt x="121" y="74"/>
                              </a:lnTo>
                              <a:lnTo>
                                <a:pt x="130" y="61"/>
                              </a:lnTo>
                              <a:lnTo>
                                <a:pt x="135" y="49"/>
                              </a:lnTo>
                              <a:lnTo>
                                <a:pt x="139" y="37"/>
                              </a:lnTo>
                              <a:lnTo>
                                <a:pt x="140" y="27"/>
                              </a:lnTo>
                              <a:lnTo>
                                <a:pt x="138" y="17"/>
                              </a:lnTo>
                              <a:lnTo>
                                <a:pt x="134" y="9"/>
                              </a:lnTo>
                              <a:lnTo>
                                <a:pt x="127" y="4"/>
                              </a:lnTo>
                              <a:lnTo>
                                <a:pt x="118" y="1"/>
                              </a:lnTo>
                              <a:lnTo>
                                <a:pt x="107" y="0"/>
                              </a:lnTo>
                              <a:lnTo>
                                <a:pt x="95" y="2"/>
                              </a:lnTo>
                              <a:lnTo>
                                <a:pt x="82" y="6"/>
                              </a:lnTo>
                              <a:lnTo>
                                <a:pt x="68" y="12"/>
                              </a:lnTo>
                              <a:lnTo>
                                <a:pt x="55" y="20"/>
                              </a:lnTo>
                              <a:lnTo>
                                <a:pt x="41" y="31"/>
                              </a:lnTo>
                              <a:lnTo>
                                <a:pt x="29" y="42"/>
                              </a:lnTo>
                              <a:lnTo>
                                <a:pt x="18" y="55"/>
                              </a:lnTo>
                              <a:lnTo>
                                <a:pt x="10" y="67"/>
                              </a:lnTo>
                              <a:lnTo>
                                <a:pt x="5" y="80"/>
                              </a:lnTo>
                              <a:lnTo>
                                <a:pt x="1" y="91"/>
                              </a:lnTo>
                              <a:lnTo>
                                <a:pt x="0" y="102"/>
                              </a:lnTo>
                              <a:lnTo>
                                <a:pt x="2" y="111"/>
                              </a:lnTo>
                              <a:lnTo>
                                <a:pt x="6" y="119"/>
                              </a:lnTo>
                              <a:lnTo>
                                <a:pt x="13" y="125"/>
                              </a:lnTo>
                              <a:lnTo>
                                <a:pt x="22" y="128"/>
                              </a:lnTo>
                              <a:lnTo>
                                <a:pt x="33" y="129"/>
                              </a:lnTo>
                              <a:lnTo>
                                <a:pt x="44" y="127"/>
                              </a:lnTo>
                              <a:lnTo>
                                <a:pt x="58" y="123"/>
                              </a:lnTo>
                              <a:lnTo>
                                <a:pt x="72" y="116"/>
                              </a:lnTo>
                              <a:lnTo>
                                <a:pt x="85" y="108"/>
                              </a:lnTo>
                              <a:lnTo>
                                <a:pt x="99" y="9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2ff5e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2" name=""/>
                        <p:cNvSpPr/>
                        <p:nvPr/>
                      </p:nvSpPr>
                      <p:spPr>
                        <a:xfrm>
                          <a:off x="3455280" y="5684400"/>
                          <a:ext cx="1728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1" h="110">
                              <a:moveTo>
                                <a:pt x="85" y="85"/>
                              </a:moveTo>
                              <a:lnTo>
                                <a:pt x="96" y="74"/>
                              </a:lnTo>
                              <a:lnTo>
                                <a:pt x="105" y="64"/>
                              </a:lnTo>
                              <a:lnTo>
                                <a:pt x="111" y="53"/>
                              </a:lnTo>
                              <a:lnTo>
                                <a:pt x="116" y="43"/>
                              </a:lnTo>
                              <a:lnTo>
                                <a:pt x="120" y="33"/>
                              </a:lnTo>
                              <a:lnTo>
                                <a:pt x="121" y="24"/>
                              </a:lnTo>
                              <a:lnTo>
                                <a:pt x="120" y="16"/>
                              </a:lnTo>
                              <a:lnTo>
                                <a:pt x="116" y="8"/>
                              </a:lnTo>
                              <a:lnTo>
                                <a:pt x="110" y="3"/>
                              </a:lnTo>
                              <a:lnTo>
                                <a:pt x="103" y="1"/>
                              </a:lnTo>
                              <a:lnTo>
                                <a:pt x="94" y="0"/>
                              </a:lnTo>
                              <a:lnTo>
                                <a:pt x="83" y="2"/>
                              </a:lnTo>
                              <a:lnTo>
                                <a:pt x="72" y="5"/>
                              </a:lnTo>
                              <a:lnTo>
                                <a:pt x="60" y="10"/>
                              </a:lnTo>
                              <a:lnTo>
                                <a:pt x="48" y="18"/>
                              </a:lnTo>
                              <a:lnTo>
                                <a:pt x="36" y="26"/>
                              </a:lnTo>
                              <a:lnTo>
                                <a:pt x="26" y="37"/>
                              </a:lnTo>
                              <a:lnTo>
                                <a:pt x="17" y="47"/>
                              </a:lnTo>
                              <a:lnTo>
                                <a:pt x="9" y="57"/>
                              </a:lnTo>
                              <a:lnTo>
                                <a:pt x="4" y="68"/>
                              </a:lnTo>
                              <a:lnTo>
                                <a:pt x="1" y="77"/>
                              </a:lnTo>
                              <a:lnTo>
                                <a:pt x="0" y="87"/>
                              </a:lnTo>
                              <a:lnTo>
                                <a:pt x="1" y="95"/>
                              </a:lnTo>
                              <a:lnTo>
                                <a:pt x="5" y="101"/>
                              </a:lnTo>
                              <a:lnTo>
                                <a:pt x="11" y="106"/>
                              </a:lnTo>
                              <a:lnTo>
                                <a:pt x="19" y="110"/>
                              </a:lnTo>
                              <a:lnTo>
                                <a:pt x="28" y="110"/>
                              </a:lnTo>
                              <a:lnTo>
                                <a:pt x="38" y="108"/>
                              </a:lnTo>
                              <a:lnTo>
                                <a:pt x="50" y="105"/>
                              </a:lnTo>
                              <a:lnTo>
                                <a:pt x="61" y="100"/>
                              </a:lnTo>
                              <a:lnTo>
                                <a:pt x="74" y="93"/>
                              </a:lnTo>
                              <a:lnTo>
                                <a:pt x="85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aff7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3" name=""/>
                        <p:cNvSpPr/>
                        <p:nvPr/>
                      </p:nvSpPr>
                      <p:spPr>
                        <a:xfrm>
                          <a:off x="3456360" y="5686200"/>
                          <a:ext cx="1404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" h="88">
                              <a:moveTo>
                                <a:pt x="71" y="68"/>
                              </a:moveTo>
                              <a:lnTo>
                                <a:pt x="80" y="60"/>
                              </a:lnTo>
                              <a:lnTo>
                                <a:pt x="88" y="52"/>
                              </a:lnTo>
                              <a:lnTo>
                                <a:pt x="94" y="43"/>
                              </a:lnTo>
                              <a:lnTo>
                                <a:pt x="98" y="35"/>
                              </a:lnTo>
                              <a:lnTo>
                                <a:pt x="101" y="27"/>
                              </a:lnTo>
                              <a:lnTo>
                                <a:pt x="102" y="19"/>
                              </a:lnTo>
                              <a:lnTo>
                                <a:pt x="101" y="12"/>
                              </a:lnTo>
                              <a:lnTo>
                                <a:pt x="98" y="7"/>
                              </a:lnTo>
                              <a:lnTo>
                                <a:pt x="93" y="3"/>
                              </a:lnTo>
                              <a:lnTo>
                                <a:pt x="87" y="1"/>
                              </a:lnTo>
                              <a:lnTo>
                                <a:pt x="79" y="0"/>
                              </a:lnTo>
                              <a:lnTo>
                                <a:pt x="71" y="1"/>
                              </a:lnTo>
                              <a:lnTo>
                                <a:pt x="62" y="3"/>
                              </a:lnTo>
                              <a:lnTo>
                                <a:pt x="51" y="7"/>
                              </a:lnTo>
                              <a:lnTo>
                                <a:pt x="42" y="12"/>
                              </a:lnTo>
                              <a:lnTo>
                                <a:pt x="31" y="19"/>
                              </a:lnTo>
                              <a:lnTo>
                                <a:pt x="23" y="28"/>
                              </a:lnTo>
                              <a:lnTo>
                                <a:pt x="15" y="36"/>
                              </a:lnTo>
                              <a:lnTo>
                                <a:pt x="10" y="44"/>
                              </a:lnTo>
                              <a:lnTo>
                                <a:pt x="4" y="54"/>
                              </a:lnTo>
                              <a:lnTo>
                                <a:pt x="2" y="62"/>
                              </a:lnTo>
                              <a:lnTo>
                                <a:pt x="0" y="69"/>
                              </a:lnTo>
                              <a:lnTo>
                                <a:pt x="1" y="77"/>
                              </a:lnTo>
                              <a:lnTo>
                                <a:pt x="4" y="82"/>
                              </a:lnTo>
                              <a:lnTo>
                                <a:pt x="10" y="86"/>
                              </a:lnTo>
                              <a:lnTo>
                                <a:pt x="16" y="88"/>
                              </a:lnTo>
                              <a:lnTo>
                                <a:pt x="23" y="88"/>
                              </a:lnTo>
                              <a:lnTo>
                                <a:pt x="32" y="87"/>
                              </a:lnTo>
                              <a:lnTo>
                                <a:pt x="42" y="85"/>
                              </a:lnTo>
                              <a:lnTo>
                                <a:pt x="51" y="81"/>
                              </a:lnTo>
                              <a:lnTo>
                                <a:pt x="62" y="76"/>
                              </a:lnTo>
                              <a:lnTo>
                                <a:pt x="71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6ff8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>
                          <a:off x="3457080" y="5688000"/>
                          <a:ext cx="1116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2" h="70">
                              <a:moveTo>
                                <a:pt x="56" y="55"/>
                              </a:moveTo>
                              <a:lnTo>
                                <a:pt x="63" y="49"/>
                              </a:lnTo>
                              <a:lnTo>
                                <a:pt x="69" y="43"/>
                              </a:lnTo>
                              <a:lnTo>
                                <a:pt x="74" y="35"/>
                              </a:lnTo>
                              <a:lnTo>
                                <a:pt x="78" y="29"/>
                              </a:lnTo>
                              <a:lnTo>
                                <a:pt x="81" y="23"/>
                              </a:lnTo>
                              <a:lnTo>
                                <a:pt x="82" y="17"/>
                              </a:lnTo>
                              <a:lnTo>
                                <a:pt x="82" y="11"/>
                              </a:lnTo>
                              <a:lnTo>
                                <a:pt x="79" y="6"/>
                              </a:lnTo>
                              <a:lnTo>
                                <a:pt x="75" y="3"/>
                              </a:lnTo>
                              <a:lnTo>
                                <a:pt x="70" y="1"/>
                              </a:lnTo>
                              <a:lnTo>
                                <a:pt x="65" y="0"/>
                              </a:lnTo>
                              <a:lnTo>
                                <a:pt x="58" y="1"/>
                              </a:lnTo>
                              <a:lnTo>
                                <a:pt x="50" y="2"/>
                              </a:lnTo>
                              <a:lnTo>
                                <a:pt x="42" y="5"/>
                              </a:lnTo>
                              <a:lnTo>
                                <a:pt x="35" y="10"/>
                              </a:lnTo>
                              <a:lnTo>
                                <a:pt x="26" y="16"/>
                              </a:lnTo>
                              <a:lnTo>
                                <a:pt x="19" y="22"/>
                              </a:lnTo>
                              <a:lnTo>
                                <a:pt x="13" y="28"/>
                              </a:lnTo>
                              <a:lnTo>
                                <a:pt x="8" y="34"/>
                              </a:lnTo>
                              <a:lnTo>
                                <a:pt x="5" y="41"/>
                              </a:lnTo>
                              <a:lnTo>
                                <a:pt x="1" y="48"/>
                              </a:lnTo>
                              <a:lnTo>
                                <a:pt x="0" y="53"/>
                              </a:lnTo>
                              <a:lnTo>
                                <a:pt x="1" y="58"/>
                              </a:lnTo>
                              <a:lnTo>
                                <a:pt x="4" y="64"/>
                              </a:lnTo>
                              <a:lnTo>
                                <a:pt x="7" y="67"/>
                              </a:lnTo>
                              <a:lnTo>
                                <a:pt x="12" y="69"/>
                              </a:lnTo>
                              <a:lnTo>
                                <a:pt x="18" y="70"/>
                              </a:lnTo>
                              <a:lnTo>
                                <a:pt x="24" y="69"/>
                              </a:lnTo>
                              <a:lnTo>
                                <a:pt x="32" y="68"/>
                              </a:lnTo>
                              <a:lnTo>
                                <a:pt x="40" y="65"/>
                              </a:lnTo>
                              <a:lnTo>
                                <a:pt x="47" y="61"/>
                              </a:lnTo>
                              <a:lnTo>
                                <a:pt x="56" y="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1ffa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5" name=""/>
                        <p:cNvSpPr/>
                        <p:nvPr/>
                      </p:nvSpPr>
                      <p:spPr>
                        <a:xfrm>
                          <a:off x="3458520" y="5689800"/>
                          <a:ext cx="792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49">
                              <a:moveTo>
                                <a:pt x="41" y="39"/>
                              </a:moveTo>
                              <a:lnTo>
                                <a:pt x="52" y="31"/>
                              </a:lnTo>
                              <a:lnTo>
                                <a:pt x="59" y="21"/>
                              </a:lnTo>
                              <a:lnTo>
                                <a:pt x="61" y="12"/>
                              </a:lnTo>
                              <a:lnTo>
                                <a:pt x="60" y="5"/>
                              </a:lnTo>
                              <a:lnTo>
                                <a:pt x="58" y="2"/>
                              </a:lnTo>
                              <a:lnTo>
                                <a:pt x="54" y="1"/>
                              </a:lnTo>
                              <a:lnTo>
                                <a:pt x="50" y="0"/>
                              </a:lnTo>
                              <a:lnTo>
                                <a:pt x="44" y="0"/>
                              </a:lnTo>
                              <a:lnTo>
                                <a:pt x="39" y="1"/>
                              </a:lnTo>
                              <a:lnTo>
                                <a:pt x="33" y="3"/>
                              </a:lnTo>
                              <a:lnTo>
                                <a:pt x="27" y="5"/>
                              </a:lnTo>
                              <a:lnTo>
                                <a:pt x="20" y="9"/>
                              </a:lnTo>
                              <a:lnTo>
                                <a:pt x="10" y="17"/>
                              </a:lnTo>
                              <a:lnTo>
                                <a:pt x="3" y="27"/>
                              </a:lnTo>
                              <a:lnTo>
                                <a:pt x="0" y="36"/>
                              </a:lnTo>
                              <a:lnTo>
                                <a:pt x="2" y="43"/>
                              </a:lnTo>
                              <a:lnTo>
                                <a:pt x="4" y="46"/>
                              </a:lnTo>
                              <a:lnTo>
                                <a:pt x="8" y="48"/>
                              </a:lnTo>
                              <a:lnTo>
                                <a:pt x="12" y="49"/>
                              </a:lnTo>
                              <a:lnTo>
                                <a:pt x="17" y="49"/>
                              </a:lnTo>
                              <a:lnTo>
                                <a:pt x="22" y="48"/>
                              </a:lnTo>
                              <a:lnTo>
                                <a:pt x="29" y="45"/>
                              </a:lnTo>
                              <a:lnTo>
                                <a:pt x="35" y="43"/>
                              </a:lnTo>
                              <a:lnTo>
                                <a:pt x="41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df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36" name=""/>
                      <p:cNvGrpSpPr/>
                      <p:nvPr/>
                    </p:nvGrpSpPr>
                    <p:grpSpPr>
                      <a:xfrm>
                        <a:off x="3490200" y="5526720"/>
                        <a:ext cx="96840" cy="85680"/>
                        <a:chOff x="3490200" y="5526720"/>
                        <a:chExt cx="96840" cy="85680"/>
                      </a:xfrm>
                    </p:grpSpPr>
                    <p:sp>
                      <p:nvSpPr>
                        <p:cNvPr id="1037" name=""/>
                        <p:cNvSpPr/>
                        <p:nvPr/>
                      </p:nvSpPr>
                      <p:spPr>
                        <a:xfrm>
                          <a:off x="3493080" y="5526720"/>
                          <a:ext cx="93960" cy="8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6" h="689">
                              <a:moveTo>
                                <a:pt x="646" y="0"/>
                              </a:moveTo>
                              <a:lnTo>
                                <a:pt x="642" y="0"/>
                              </a:lnTo>
                              <a:lnTo>
                                <a:pt x="632" y="2"/>
                              </a:lnTo>
                              <a:lnTo>
                                <a:pt x="614" y="4"/>
                              </a:lnTo>
                              <a:lnTo>
                                <a:pt x="591" y="6"/>
                              </a:lnTo>
                              <a:lnTo>
                                <a:pt x="564" y="8"/>
                              </a:lnTo>
                              <a:lnTo>
                                <a:pt x="533" y="11"/>
                              </a:lnTo>
                              <a:lnTo>
                                <a:pt x="500" y="13"/>
                              </a:lnTo>
                              <a:lnTo>
                                <a:pt x="465" y="16"/>
                              </a:lnTo>
                              <a:lnTo>
                                <a:pt x="430" y="19"/>
                              </a:lnTo>
                              <a:lnTo>
                                <a:pt x="395" y="21"/>
                              </a:lnTo>
                              <a:lnTo>
                                <a:pt x="361" y="23"/>
                              </a:lnTo>
                              <a:lnTo>
                                <a:pt x="329" y="26"/>
                              </a:lnTo>
                              <a:lnTo>
                                <a:pt x="301" y="27"/>
                              </a:lnTo>
                              <a:lnTo>
                                <a:pt x="277" y="28"/>
                              </a:lnTo>
                              <a:lnTo>
                                <a:pt x="257" y="29"/>
                              </a:lnTo>
                              <a:lnTo>
                                <a:pt x="244" y="28"/>
                              </a:lnTo>
                              <a:lnTo>
                                <a:pt x="243" y="32"/>
                              </a:lnTo>
                              <a:lnTo>
                                <a:pt x="239" y="46"/>
                              </a:lnTo>
                              <a:lnTo>
                                <a:pt x="233" y="77"/>
                              </a:lnTo>
                              <a:lnTo>
                                <a:pt x="226" y="124"/>
                              </a:lnTo>
                              <a:lnTo>
                                <a:pt x="218" y="192"/>
                              </a:lnTo>
                              <a:lnTo>
                                <a:pt x="209" y="286"/>
                              </a:lnTo>
                              <a:lnTo>
                                <a:pt x="198" y="409"/>
                              </a:lnTo>
                              <a:lnTo>
                                <a:pt x="188" y="565"/>
                              </a:lnTo>
                              <a:lnTo>
                                <a:pt x="186" y="564"/>
                              </a:lnTo>
                              <a:lnTo>
                                <a:pt x="181" y="563"/>
                              </a:lnTo>
                              <a:lnTo>
                                <a:pt x="173" y="559"/>
                              </a:lnTo>
                              <a:lnTo>
                                <a:pt x="164" y="556"/>
                              </a:lnTo>
                              <a:lnTo>
                                <a:pt x="152" y="553"/>
                              </a:lnTo>
                              <a:lnTo>
                                <a:pt x="139" y="550"/>
                              </a:lnTo>
                              <a:lnTo>
                                <a:pt x="123" y="548"/>
                              </a:lnTo>
                              <a:lnTo>
                                <a:pt x="109" y="546"/>
                              </a:lnTo>
                              <a:lnTo>
                                <a:pt x="92" y="546"/>
                              </a:lnTo>
                              <a:lnTo>
                                <a:pt x="76" y="547"/>
                              </a:lnTo>
                              <a:lnTo>
                                <a:pt x="61" y="550"/>
                              </a:lnTo>
                              <a:lnTo>
                                <a:pt x="45" y="556"/>
                              </a:lnTo>
                              <a:lnTo>
                                <a:pt x="32" y="565"/>
                              </a:lnTo>
                              <a:lnTo>
                                <a:pt x="19" y="576"/>
                              </a:lnTo>
                              <a:lnTo>
                                <a:pt x="9" y="591"/>
                              </a:lnTo>
                              <a:lnTo>
                                <a:pt x="0" y="609"/>
                              </a:lnTo>
                              <a:lnTo>
                                <a:pt x="0" y="613"/>
                              </a:lnTo>
                              <a:lnTo>
                                <a:pt x="2" y="623"/>
                              </a:lnTo>
                              <a:lnTo>
                                <a:pt x="5" y="636"/>
                              </a:lnTo>
                              <a:lnTo>
                                <a:pt x="11" y="651"/>
                              </a:lnTo>
                              <a:lnTo>
                                <a:pt x="23" y="666"/>
                              </a:lnTo>
                              <a:lnTo>
                                <a:pt x="41" y="678"/>
                              </a:lnTo>
                              <a:lnTo>
                                <a:pt x="67" y="687"/>
                              </a:lnTo>
                              <a:lnTo>
                                <a:pt x="102" y="689"/>
                              </a:lnTo>
                              <a:lnTo>
                                <a:pt x="107" y="688"/>
                              </a:lnTo>
                              <a:lnTo>
                                <a:pt x="117" y="685"/>
                              </a:lnTo>
                              <a:lnTo>
                                <a:pt x="133" y="680"/>
                              </a:lnTo>
                              <a:lnTo>
                                <a:pt x="151" y="674"/>
                              </a:lnTo>
                              <a:lnTo>
                                <a:pt x="171" y="667"/>
                              </a:lnTo>
                              <a:lnTo>
                                <a:pt x="191" y="657"/>
                              </a:lnTo>
                              <a:lnTo>
                                <a:pt x="209" y="646"/>
                              </a:lnTo>
                              <a:lnTo>
                                <a:pt x="223" y="634"/>
                              </a:lnTo>
                              <a:lnTo>
                                <a:pt x="222" y="622"/>
                              </a:lnTo>
                              <a:lnTo>
                                <a:pt x="221" y="586"/>
                              </a:lnTo>
                              <a:lnTo>
                                <a:pt x="220" y="533"/>
                              </a:lnTo>
                              <a:lnTo>
                                <a:pt x="221" y="468"/>
                              </a:lnTo>
                              <a:lnTo>
                                <a:pt x="224" y="395"/>
                              </a:lnTo>
                              <a:lnTo>
                                <a:pt x="231" y="320"/>
                              </a:lnTo>
                              <a:lnTo>
                                <a:pt x="244" y="246"/>
                              </a:lnTo>
                              <a:lnTo>
                                <a:pt x="263" y="179"/>
                              </a:lnTo>
                              <a:lnTo>
                                <a:pt x="265" y="179"/>
                              </a:lnTo>
                              <a:lnTo>
                                <a:pt x="272" y="178"/>
                              </a:lnTo>
                              <a:lnTo>
                                <a:pt x="283" y="177"/>
                              </a:lnTo>
                              <a:lnTo>
                                <a:pt x="298" y="175"/>
                              </a:lnTo>
                              <a:lnTo>
                                <a:pt x="315" y="174"/>
                              </a:lnTo>
                              <a:lnTo>
                                <a:pt x="334" y="171"/>
                              </a:lnTo>
                              <a:lnTo>
                                <a:pt x="356" y="169"/>
                              </a:lnTo>
                              <a:lnTo>
                                <a:pt x="378" y="168"/>
                              </a:lnTo>
                              <a:lnTo>
                                <a:pt x="402" y="166"/>
                              </a:lnTo>
                              <a:lnTo>
                                <a:pt x="425" y="165"/>
                              </a:lnTo>
                              <a:lnTo>
                                <a:pt x="447" y="164"/>
                              </a:lnTo>
                              <a:lnTo>
                                <a:pt x="469" y="164"/>
                              </a:lnTo>
                              <a:lnTo>
                                <a:pt x="488" y="164"/>
                              </a:lnTo>
                              <a:lnTo>
                                <a:pt x="505" y="164"/>
                              </a:lnTo>
                              <a:lnTo>
                                <a:pt x="519" y="166"/>
                              </a:lnTo>
                              <a:lnTo>
                                <a:pt x="531" y="168"/>
                              </a:lnTo>
                              <a:lnTo>
                                <a:pt x="536" y="161"/>
                              </a:lnTo>
                              <a:lnTo>
                                <a:pt x="549" y="143"/>
                              </a:lnTo>
                              <a:lnTo>
                                <a:pt x="566" y="117"/>
                              </a:lnTo>
                              <a:lnTo>
                                <a:pt x="587" y="88"/>
                              </a:lnTo>
                              <a:lnTo>
                                <a:pt x="608" y="58"/>
                              </a:lnTo>
                              <a:lnTo>
                                <a:pt x="627" y="31"/>
                              </a:lnTo>
                              <a:lnTo>
                                <a:pt x="640" y="11"/>
                              </a:lnTo>
                              <a:lnTo>
                                <a:pt x="64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9e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8" name=""/>
                        <p:cNvSpPr/>
                        <p:nvPr/>
                      </p:nvSpPr>
                      <p:spPr>
                        <a:xfrm>
                          <a:off x="3490200" y="5527440"/>
                          <a:ext cx="96840" cy="84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5" h="683">
                              <a:moveTo>
                                <a:pt x="542" y="183"/>
                              </a:moveTo>
                              <a:lnTo>
                                <a:pt x="530" y="181"/>
                              </a:lnTo>
                              <a:lnTo>
                                <a:pt x="517" y="179"/>
                              </a:lnTo>
                              <a:lnTo>
                                <a:pt x="500" y="179"/>
                              </a:lnTo>
                              <a:lnTo>
                                <a:pt x="482" y="179"/>
                              </a:lnTo>
                              <a:lnTo>
                                <a:pt x="463" y="180"/>
                              </a:lnTo>
                              <a:lnTo>
                                <a:pt x="442" y="182"/>
                              </a:lnTo>
                              <a:lnTo>
                                <a:pt x="421" y="184"/>
                              </a:lnTo>
                              <a:lnTo>
                                <a:pt x="400" y="186"/>
                              </a:lnTo>
                              <a:lnTo>
                                <a:pt x="379" y="189"/>
                              </a:lnTo>
                              <a:lnTo>
                                <a:pt x="361" y="192"/>
                              </a:lnTo>
                              <a:lnTo>
                                <a:pt x="343" y="194"/>
                              </a:lnTo>
                              <a:lnTo>
                                <a:pt x="327" y="196"/>
                              </a:lnTo>
                              <a:lnTo>
                                <a:pt x="314" y="198"/>
                              </a:lnTo>
                              <a:lnTo>
                                <a:pt x="303" y="199"/>
                              </a:lnTo>
                              <a:lnTo>
                                <a:pt x="297" y="199"/>
                              </a:lnTo>
                              <a:lnTo>
                                <a:pt x="294" y="199"/>
                              </a:lnTo>
                              <a:lnTo>
                                <a:pt x="287" y="230"/>
                              </a:lnTo>
                              <a:lnTo>
                                <a:pt x="278" y="284"/>
                              </a:lnTo>
                              <a:lnTo>
                                <a:pt x="268" y="355"/>
                              </a:lnTo>
                              <a:lnTo>
                                <a:pt x="258" y="433"/>
                              </a:lnTo>
                              <a:lnTo>
                                <a:pt x="247" y="508"/>
                              </a:lnTo>
                              <a:lnTo>
                                <a:pt x="239" y="571"/>
                              </a:lnTo>
                              <a:lnTo>
                                <a:pt x="234" y="614"/>
                              </a:lnTo>
                              <a:lnTo>
                                <a:pt x="233" y="629"/>
                              </a:lnTo>
                              <a:lnTo>
                                <a:pt x="198" y="649"/>
                              </a:lnTo>
                              <a:lnTo>
                                <a:pt x="167" y="665"/>
                              </a:lnTo>
                              <a:lnTo>
                                <a:pt x="140" y="674"/>
                              </a:lnTo>
                              <a:lnTo>
                                <a:pt x="116" y="681"/>
                              </a:lnTo>
                              <a:lnTo>
                                <a:pt x="94" y="683"/>
                              </a:lnTo>
                              <a:lnTo>
                                <a:pt x="76" y="681"/>
                              </a:lnTo>
                              <a:lnTo>
                                <a:pt x="60" y="677"/>
                              </a:lnTo>
                              <a:lnTo>
                                <a:pt x="47" y="670"/>
                              </a:lnTo>
                              <a:lnTo>
                                <a:pt x="35" y="663"/>
                              </a:lnTo>
                              <a:lnTo>
                                <a:pt x="26" y="655"/>
                              </a:lnTo>
                              <a:lnTo>
                                <a:pt x="18" y="645"/>
                              </a:lnTo>
                              <a:lnTo>
                                <a:pt x="12" y="636"/>
                              </a:lnTo>
                              <a:lnTo>
                                <a:pt x="8" y="629"/>
                              </a:lnTo>
                              <a:lnTo>
                                <a:pt x="5" y="621"/>
                              </a:lnTo>
                              <a:lnTo>
                                <a:pt x="3" y="617"/>
                              </a:lnTo>
                              <a:lnTo>
                                <a:pt x="2" y="615"/>
                              </a:lnTo>
                              <a:lnTo>
                                <a:pt x="0" y="590"/>
                              </a:lnTo>
                              <a:lnTo>
                                <a:pt x="2" y="570"/>
                              </a:lnTo>
                              <a:lnTo>
                                <a:pt x="9" y="553"/>
                              </a:lnTo>
                              <a:lnTo>
                                <a:pt x="21" y="540"/>
                              </a:lnTo>
                              <a:lnTo>
                                <a:pt x="34" y="531"/>
                              </a:lnTo>
                              <a:lnTo>
                                <a:pt x="50" y="523"/>
                              </a:lnTo>
                              <a:lnTo>
                                <a:pt x="67" y="518"/>
                              </a:lnTo>
                              <a:lnTo>
                                <a:pt x="87" y="516"/>
                              </a:lnTo>
                              <a:lnTo>
                                <a:pt x="106" y="515"/>
                              </a:lnTo>
                              <a:lnTo>
                                <a:pt x="125" y="516"/>
                              </a:lnTo>
                              <a:lnTo>
                                <a:pt x="143" y="517"/>
                              </a:lnTo>
                              <a:lnTo>
                                <a:pt x="159" y="520"/>
                              </a:lnTo>
                              <a:lnTo>
                                <a:pt x="173" y="522"/>
                              </a:lnTo>
                              <a:lnTo>
                                <a:pt x="184" y="525"/>
                              </a:lnTo>
                              <a:lnTo>
                                <a:pt x="191" y="527"/>
                              </a:lnTo>
                              <a:lnTo>
                                <a:pt x="194" y="529"/>
                              </a:lnTo>
                              <a:lnTo>
                                <a:pt x="195" y="467"/>
                              </a:lnTo>
                              <a:lnTo>
                                <a:pt x="200" y="392"/>
                              </a:lnTo>
                              <a:lnTo>
                                <a:pt x="209" y="309"/>
                              </a:lnTo>
                              <a:lnTo>
                                <a:pt x="218" y="228"/>
                              </a:lnTo>
                              <a:lnTo>
                                <a:pt x="228" y="152"/>
                              </a:lnTo>
                              <a:lnTo>
                                <a:pt x="236" y="91"/>
                              </a:lnTo>
                              <a:lnTo>
                                <a:pt x="242" y="48"/>
                              </a:lnTo>
                              <a:lnTo>
                                <a:pt x="243" y="31"/>
                              </a:lnTo>
                              <a:lnTo>
                                <a:pt x="247" y="32"/>
                              </a:lnTo>
                              <a:lnTo>
                                <a:pt x="261" y="32"/>
                              </a:lnTo>
                              <a:lnTo>
                                <a:pt x="281" y="32"/>
                              </a:lnTo>
                              <a:lnTo>
                                <a:pt x="308" y="30"/>
                              </a:lnTo>
                              <a:lnTo>
                                <a:pt x="339" y="29"/>
                              </a:lnTo>
                              <a:lnTo>
                                <a:pt x="373" y="26"/>
                              </a:lnTo>
                              <a:lnTo>
                                <a:pt x="411" y="24"/>
                              </a:lnTo>
                              <a:lnTo>
                                <a:pt x="449" y="21"/>
                              </a:lnTo>
                              <a:lnTo>
                                <a:pt x="488" y="18"/>
                              </a:lnTo>
                              <a:lnTo>
                                <a:pt x="525" y="14"/>
                              </a:lnTo>
                              <a:lnTo>
                                <a:pt x="559" y="11"/>
                              </a:lnTo>
                              <a:lnTo>
                                <a:pt x="590" y="8"/>
                              </a:lnTo>
                              <a:lnTo>
                                <a:pt x="618" y="6"/>
                              </a:lnTo>
                              <a:lnTo>
                                <a:pt x="637" y="4"/>
                              </a:lnTo>
                              <a:lnTo>
                                <a:pt x="651" y="2"/>
                              </a:lnTo>
                              <a:lnTo>
                                <a:pt x="656" y="1"/>
                              </a:lnTo>
                              <a:lnTo>
                                <a:pt x="654" y="3"/>
                              </a:lnTo>
                              <a:lnTo>
                                <a:pt x="653" y="7"/>
                              </a:lnTo>
                              <a:lnTo>
                                <a:pt x="652" y="12"/>
                              </a:lnTo>
                              <a:lnTo>
                                <a:pt x="651" y="18"/>
                              </a:lnTo>
                              <a:lnTo>
                                <a:pt x="642" y="19"/>
                              </a:lnTo>
                              <a:lnTo>
                                <a:pt x="627" y="21"/>
                              </a:lnTo>
                              <a:lnTo>
                                <a:pt x="606" y="23"/>
                              </a:lnTo>
                              <a:lnTo>
                                <a:pt x="579" y="26"/>
                              </a:lnTo>
                              <a:lnTo>
                                <a:pt x="549" y="29"/>
                              </a:lnTo>
                              <a:lnTo>
                                <a:pt x="517" y="33"/>
                              </a:lnTo>
                              <a:lnTo>
                                <a:pt x="481" y="36"/>
                              </a:lnTo>
                              <a:lnTo>
                                <a:pt x="446" y="39"/>
                              </a:lnTo>
                              <a:lnTo>
                                <a:pt x="411" y="44"/>
                              </a:lnTo>
                              <a:lnTo>
                                <a:pt x="377" y="47"/>
                              </a:lnTo>
                              <a:lnTo>
                                <a:pt x="345" y="49"/>
                              </a:lnTo>
                              <a:lnTo>
                                <a:pt x="318" y="51"/>
                              </a:lnTo>
                              <a:lnTo>
                                <a:pt x="294" y="52"/>
                              </a:lnTo>
                              <a:lnTo>
                                <a:pt x="276" y="52"/>
                              </a:lnTo>
                              <a:lnTo>
                                <a:pt x="265" y="52"/>
                              </a:lnTo>
                              <a:lnTo>
                                <a:pt x="262" y="50"/>
                              </a:lnTo>
                              <a:lnTo>
                                <a:pt x="255" y="82"/>
                              </a:lnTo>
                              <a:lnTo>
                                <a:pt x="245" y="144"/>
                              </a:lnTo>
                              <a:lnTo>
                                <a:pt x="236" y="226"/>
                              </a:lnTo>
                              <a:lnTo>
                                <a:pt x="226" y="317"/>
                              </a:lnTo>
                              <a:lnTo>
                                <a:pt x="217" y="405"/>
                              </a:lnTo>
                              <a:lnTo>
                                <a:pt x="210" y="480"/>
                              </a:lnTo>
                              <a:lnTo>
                                <a:pt x="205" y="533"/>
                              </a:lnTo>
                              <a:lnTo>
                                <a:pt x="203" y="548"/>
                              </a:lnTo>
                              <a:lnTo>
                                <a:pt x="167" y="539"/>
                              </a:lnTo>
                              <a:lnTo>
                                <a:pt x="136" y="533"/>
                              </a:lnTo>
                              <a:lnTo>
                                <a:pt x="110" y="531"/>
                              </a:lnTo>
                              <a:lnTo>
                                <a:pt x="88" y="533"/>
                              </a:lnTo>
                              <a:lnTo>
                                <a:pt x="70" y="536"/>
                              </a:lnTo>
                              <a:lnTo>
                                <a:pt x="56" y="542"/>
                              </a:lnTo>
                              <a:lnTo>
                                <a:pt x="44" y="549"/>
                              </a:lnTo>
                              <a:lnTo>
                                <a:pt x="35" y="559"/>
                              </a:lnTo>
                              <a:lnTo>
                                <a:pt x="29" y="568"/>
                              </a:lnTo>
                              <a:lnTo>
                                <a:pt x="24" y="577"/>
                              </a:lnTo>
                              <a:lnTo>
                                <a:pt x="22" y="587"/>
                              </a:lnTo>
                              <a:lnTo>
                                <a:pt x="19" y="595"/>
                              </a:lnTo>
                              <a:lnTo>
                                <a:pt x="18" y="602"/>
                              </a:lnTo>
                              <a:lnTo>
                                <a:pt x="18" y="609"/>
                              </a:lnTo>
                              <a:lnTo>
                                <a:pt x="18" y="612"/>
                              </a:lnTo>
                              <a:lnTo>
                                <a:pt x="18" y="612"/>
                              </a:lnTo>
                              <a:lnTo>
                                <a:pt x="25" y="628"/>
                              </a:lnTo>
                              <a:lnTo>
                                <a:pt x="35" y="640"/>
                              </a:lnTo>
                              <a:lnTo>
                                <a:pt x="48" y="648"/>
                              </a:lnTo>
                              <a:lnTo>
                                <a:pt x="61" y="655"/>
                              </a:lnTo>
                              <a:lnTo>
                                <a:pt x="78" y="658"/>
                              </a:lnTo>
                              <a:lnTo>
                                <a:pt x="94" y="659"/>
                              </a:lnTo>
                              <a:lnTo>
                                <a:pt x="112" y="658"/>
                              </a:lnTo>
                              <a:lnTo>
                                <a:pt x="130" y="655"/>
                              </a:lnTo>
                              <a:lnTo>
                                <a:pt x="147" y="650"/>
                              </a:lnTo>
                              <a:lnTo>
                                <a:pt x="164" y="646"/>
                              </a:lnTo>
                              <a:lnTo>
                                <a:pt x="180" y="641"/>
                              </a:lnTo>
                              <a:lnTo>
                                <a:pt x="193" y="636"/>
                              </a:lnTo>
                              <a:lnTo>
                                <a:pt x="205" y="631"/>
                              </a:lnTo>
                              <a:lnTo>
                                <a:pt x="213" y="626"/>
                              </a:lnTo>
                              <a:lnTo>
                                <a:pt x="218" y="624"/>
                              </a:lnTo>
                              <a:lnTo>
                                <a:pt x="220" y="622"/>
                              </a:lnTo>
                              <a:lnTo>
                                <a:pt x="220" y="592"/>
                              </a:lnTo>
                              <a:lnTo>
                                <a:pt x="225" y="537"/>
                              </a:lnTo>
                              <a:lnTo>
                                <a:pt x="235" y="466"/>
                              </a:lnTo>
                              <a:lnTo>
                                <a:pt x="245" y="387"/>
                              </a:lnTo>
                              <a:lnTo>
                                <a:pt x="258" y="311"/>
                              </a:lnTo>
                              <a:lnTo>
                                <a:pt x="269" y="244"/>
                              </a:lnTo>
                              <a:lnTo>
                                <a:pt x="277" y="197"/>
                              </a:lnTo>
                              <a:lnTo>
                                <a:pt x="283" y="178"/>
                              </a:lnTo>
                              <a:lnTo>
                                <a:pt x="294" y="176"/>
                              </a:lnTo>
                              <a:lnTo>
                                <a:pt x="309" y="175"/>
                              </a:lnTo>
                              <a:lnTo>
                                <a:pt x="326" y="173"/>
                              </a:lnTo>
                              <a:lnTo>
                                <a:pt x="347" y="172"/>
                              </a:lnTo>
                              <a:lnTo>
                                <a:pt x="369" y="171"/>
                              </a:lnTo>
                              <a:lnTo>
                                <a:pt x="393" y="169"/>
                              </a:lnTo>
                              <a:lnTo>
                                <a:pt x="417" y="168"/>
                              </a:lnTo>
                              <a:lnTo>
                                <a:pt x="441" y="167"/>
                              </a:lnTo>
                              <a:lnTo>
                                <a:pt x="465" y="166"/>
                              </a:lnTo>
                              <a:lnTo>
                                <a:pt x="486" y="163"/>
                              </a:lnTo>
                              <a:lnTo>
                                <a:pt x="507" y="162"/>
                              </a:lnTo>
                              <a:lnTo>
                                <a:pt x="526" y="161"/>
                              </a:lnTo>
                              <a:lnTo>
                                <a:pt x="542" y="160"/>
                              </a:lnTo>
                              <a:lnTo>
                                <a:pt x="554" y="159"/>
                              </a:lnTo>
                              <a:lnTo>
                                <a:pt x="562" y="157"/>
                              </a:lnTo>
                              <a:lnTo>
                                <a:pt x="566" y="156"/>
                              </a:lnTo>
                              <a:lnTo>
                                <a:pt x="569" y="151"/>
                              </a:lnTo>
                              <a:lnTo>
                                <a:pt x="579" y="135"/>
                              </a:lnTo>
                              <a:lnTo>
                                <a:pt x="593" y="113"/>
                              </a:lnTo>
                              <a:lnTo>
                                <a:pt x="608" y="87"/>
                              </a:lnTo>
                              <a:lnTo>
                                <a:pt x="624" y="60"/>
                              </a:lnTo>
                              <a:lnTo>
                                <a:pt x="638" y="35"/>
                              </a:lnTo>
                              <a:lnTo>
                                <a:pt x="650" y="14"/>
                              </a:lnTo>
                              <a:lnTo>
                                <a:pt x="656" y="1"/>
                              </a:lnTo>
                              <a:lnTo>
                                <a:pt x="665" y="0"/>
                              </a:lnTo>
                              <a:lnTo>
                                <a:pt x="661" y="8"/>
                              </a:lnTo>
                              <a:lnTo>
                                <a:pt x="652" y="30"/>
                              </a:lnTo>
                              <a:lnTo>
                                <a:pt x="637" y="61"/>
                              </a:lnTo>
                              <a:lnTo>
                                <a:pt x="619" y="97"/>
                              </a:lnTo>
                              <a:lnTo>
                                <a:pt x="599" y="131"/>
                              </a:lnTo>
                              <a:lnTo>
                                <a:pt x="578" y="160"/>
                              </a:lnTo>
                              <a:lnTo>
                                <a:pt x="558" y="179"/>
                              </a:lnTo>
                              <a:lnTo>
                                <a:pt x="542" y="18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160" bIns="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>
                          <a:off x="3495960" y="5596560"/>
                          <a:ext cx="18360" cy="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8" h="72">
                              <a:moveTo>
                                <a:pt x="69" y="71"/>
                              </a:moveTo>
                              <a:lnTo>
                                <a:pt x="82" y="68"/>
                              </a:lnTo>
                              <a:lnTo>
                                <a:pt x="94" y="64"/>
                              </a:lnTo>
                              <a:lnTo>
                                <a:pt x="104" y="60"/>
                              </a:lnTo>
                              <a:lnTo>
                                <a:pt x="113" y="55"/>
                              </a:lnTo>
                              <a:lnTo>
                                <a:pt x="120" y="49"/>
                              </a:lnTo>
                              <a:lnTo>
                                <a:pt x="125" y="41"/>
                              </a:lnTo>
                              <a:lnTo>
                                <a:pt x="128" y="34"/>
                              </a:lnTo>
                              <a:lnTo>
                                <a:pt x="128" y="27"/>
                              </a:lnTo>
                              <a:lnTo>
                                <a:pt x="126" y="20"/>
                              </a:lnTo>
                              <a:lnTo>
                                <a:pt x="121" y="14"/>
                              </a:lnTo>
                              <a:lnTo>
                                <a:pt x="115" y="9"/>
                              </a:lnTo>
                              <a:lnTo>
                                <a:pt x="106" y="5"/>
                              </a:lnTo>
                              <a:lnTo>
                                <a:pt x="96" y="2"/>
                              </a:lnTo>
                              <a:lnTo>
                                <a:pt x="85" y="0"/>
                              </a:lnTo>
                              <a:lnTo>
                                <a:pt x="72" y="0"/>
                              </a:lnTo>
                              <a:lnTo>
                                <a:pt x="60" y="1"/>
                              </a:lnTo>
                              <a:lnTo>
                                <a:pt x="47" y="4"/>
                              </a:lnTo>
                              <a:lnTo>
                                <a:pt x="35" y="7"/>
                              </a:lnTo>
                              <a:lnTo>
                                <a:pt x="24" y="12"/>
                              </a:lnTo>
                              <a:lnTo>
                                <a:pt x="16" y="17"/>
                              </a:lnTo>
                              <a:lnTo>
                                <a:pt x="9" y="24"/>
                              </a:lnTo>
                              <a:lnTo>
                                <a:pt x="3" y="31"/>
                              </a:lnTo>
                              <a:lnTo>
                                <a:pt x="0" y="37"/>
                              </a:lnTo>
                              <a:lnTo>
                                <a:pt x="0" y="44"/>
                              </a:lnTo>
                              <a:lnTo>
                                <a:pt x="2" y="52"/>
                              </a:lnTo>
                              <a:lnTo>
                                <a:pt x="7" y="58"/>
                              </a:lnTo>
                              <a:lnTo>
                                <a:pt x="14" y="63"/>
                              </a:lnTo>
                              <a:lnTo>
                                <a:pt x="22" y="66"/>
                              </a:lnTo>
                              <a:lnTo>
                                <a:pt x="33" y="70"/>
                              </a:lnTo>
                              <a:lnTo>
                                <a:pt x="44" y="72"/>
                              </a:lnTo>
                              <a:lnTo>
                                <a:pt x="55" y="72"/>
                              </a:lnTo>
                              <a:lnTo>
                                <a:pt x="69" y="7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fa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0" name=""/>
                        <p:cNvSpPr/>
                        <p:nvPr/>
                      </p:nvSpPr>
                      <p:spPr>
                        <a:xfrm>
                          <a:off x="3497040" y="5597640"/>
                          <a:ext cx="162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64">
                              <a:moveTo>
                                <a:pt x="60" y="63"/>
                              </a:moveTo>
                              <a:lnTo>
                                <a:pt x="71" y="61"/>
                              </a:lnTo>
                              <a:lnTo>
                                <a:pt x="82" y="58"/>
                              </a:lnTo>
                              <a:lnTo>
                                <a:pt x="91" y="54"/>
                              </a:lnTo>
                              <a:lnTo>
                                <a:pt x="99" y="49"/>
                              </a:lnTo>
                              <a:lnTo>
                                <a:pt x="106" y="44"/>
                              </a:lnTo>
                              <a:lnTo>
                                <a:pt x="110" y="37"/>
                              </a:lnTo>
                              <a:lnTo>
                                <a:pt x="113" y="31"/>
                              </a:lnTo>
                              <a:lnTo>
                                <a:pt x="113" y="25"/>
                              </a:lnTo>
                              <a:lnTo>
                                <a:pt x="111" y="18"/>
                              </a:lnTo>
                              <a:lnTo>
                                <a:pt x="107" y="13"/>
                              </a:lnTo>
                              <a:lnTo>
                                <a:pt x="100" y="8"/>
                              </a:lnTo>
                              <a:lnTo>
                                <a:pt x="93" y="5"/>
                              </a:lnTo>
                              <a:lnTo>
                                <a:pt x="84" y="2"/>
                              </a:lnTo>
                              <a:lnTo>
                                <a:pt x="74" y="1"/>
                              </a:lnTo>
                              <a:lnTo>
                                <a:pt x="63" y="0"/>
                              </a:lnTo>
                              <a:lnTo>
                                <a:pt x="52" y="1"/>
                              </a:lnTo>
                              <a:lnTo>
                                <a:pt x="40" y="3"/>
                              </a:lnTo>
                              <a:lnTo>
                                <a:pt x="30" y="7"/>
                              </a:lnTo>
                              <a:lnTo>
                                <a:pt x="20" y="11"/>
                              </a:lnTo>
                              <a:lnTo>
                                <a:pt x="13" y="15"/>
                              </a:lnTo>
                              <a:lnTo>
                                <a:pt x="7" y="22"/>
                              </a:lnTo>
                              <a:lnTo>
                                <a:pt x="3" y="28"/>
                              </a:lnTo>
                              <a:lnTo>
                                <a:pt x="0" y="34"/>
                              </a:lnTo>
                              <a:lnTo>
                                <a:pt x="0" y="40"/>
                              </a:lnTo>
                              <a:lnTo>
                                <a:pt x="2" y="47"/>
                              </a:lnTo>
                              <a:lnTo>
                                <a:pt x="6" y="52"/>
                              </a:lnTo>
                              <a:lnTo>
                                <a:pt x="11" y="56"/>
                              </a:lnTo>
                              <a:lnTo>
                                <a:pt x="19" y="59"/>
                              </a:lnTo>
                              <a:lnTo>
                                <a:pt x="28" y="62"/>
                              </a:lnTo>
                              <a:lnTo>
                                <a:pt x="38" y="63"/>
                              </a:lnTo>
                              <a:lnTo>
                                <a:pt x="48" y="64"/>
                              </a:lnTo>
                              <a:lnTo>
                                <a:pt x="60" y="6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b7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>
                          <a:off x="3497040" y="5597640"/>
                          <a:ext cx="1404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" h="56">
                              <a:moveTo>
                                <a:pt x="53" y="55"/>
                              </a:moveTo>
                              <a:lnTo>
                                <a:pt x="62" y="53"/>
                              </a:lnTo>
                              <a:lnTo>
                                <a:pt x="71" y="50"/>
                              </a:lnTo>
                              <a:lnTo>
                                <a:pt x="80" y="46"/>
                              </a:lnTo>
                              <a:lnTo>
                                <a:pt x="87" y="42"/>
                              </a:lnTo>
                              <a:lnTo>
                                <a:pt x="92" y="37"/>
                              </a:lnTo>
                              <a:lnTo>
                                <a:pt x="96" y="31"/>
                              </a:lnTo>
                              <a:lnTo>
                                <a:pt x="99" y="26"/>
                              </a:lnTo>
                              <a:lnTo>
                                <a:pt x="99" y="21"/>
                              </a:lnTo>
                              <a:lnTo>
                                <a:pt x="96" y="15"/>
                              </a:lnTo>
                              <a:lnTo>
                                <a:pt x="93" y="11"/>
                              </a:lnTo>
                              <a:lnTo>
                                <a:pt x="88" y="7"/>
                              </a:lnTo>
                              <a:lnTo>
                                <a:pt x="82" y="4"/>
                              </a:lnTo>
                              <a:lnTo>
                                <a:pt x="74" y="2"/>
                              </a:lnTo>
                              <a:lnTo>
                                <a:pt x="65" y="0"/>
                              </a:lnTo>
                              <a:lnTo>
                                <a:pt x="56" y="0"/>
                              </a:lnTo>
                              <a:lnTo>
                                <a:pt x="45" y="1"/>
                              </a:lnTo>
                              <a:lnTo>
                                <a:pt x="36" y="3"/>
                              </a:lnTo>
                              <a:lnTo>
                                <a:pt x="27" y="5"/>
                              </a:lnTo>
                              <a:lnTo>
                                <a:pt x="18" y="9"/>
                              </a:lnTo>
                              <a:lnTo>
                                <a:pt x="12" y="13"/>
                              </a:lnTo>
                              <a:lnTo>
                                <a:pt x="6" y="19"/>
                              </a:lnTo>
                              <a:lnTo>
                                <a:pt x="2" y="24"/>
                              </a:lnTo>
                              <a:lnTo>
                                <a:pt x="0" y="29"/>
                              </a:lnTo>
                              <a:lnTo>
                                <a:pt x="0" y="34"/>
                              </a:lnTo>
                              <a:lnTo>
                                <a:pt x="2" y="39"/>
                              </a:lnTo>
                              <a:lnTo>
                                <a:pt x="5" y="45"/>
                              </a:lnTo>
                              <a:lnTo>
                                <a:pt x="10" y="49"/>
                              </a:lnTo>
                              <a:lnTo>
                                <a:pt x="17" y="52"/>
                              </a:lnTo>
                              <a:lnTo>
                                <a:pt x="25" y="54"/>
                              </a:lnTo>
                              <a:lnTo>
                                <a:pt x="33" y="55"/>
                              </a:lnTo>
                              <a:lnTo>
                                <a:pt x="42" y="56"/>
                              </a:lnTo>
                              <a:lnTo>
                                <a:pt x="53" y="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b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>
                          <a:off x="3498120" y="5597640"/>
                          <a:ext cx="122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4" h="48">
                              <a:moveTo>
                                <a:pt x="46" y="47"/>
                              </a:moveTo>
                              <a:lnTo>
                                <a:pt x="54" y="45"/>
                              </a:lnTo>
                              <a:lnTo>
                                <a:pt x="61" y="43"/>
                              </a:lnTo>
                              <a:lnTo>
                                <a:pt x="69" y="40"/>
                              </a:lnTo>
                              <a:lnTo>
                                <a:pt x="75" y="36"/>
                              </a:lnTo>
                              <a:lnTo>
                                <a:pt x="79" y="32"/>
                              </a:lnTo>
                              <a:lnTo>
                                <a:pt x="82" y="27"/>
                              </a:lnTo>
                              <a:lnTo>
                                <a:pt x="84" y="23"/>
                              </a:lnTo>
                              <a:lnTo>
                                <a:pt x="84" y="18"/>
                              </a:lnTo>
                              <a:lnTo>
                                <a:pt x="82" y="13"/>
                              </a:lnTo>
                              <a:lnTo>
                                <a:pt x="80" y="9"/>
                              </a:lnTo>
                              <a:lnTo>
                                <a:pt x="75" y="6"/>
                              </a:lnTo>
                              <a:lnTo>
                                <a:pt x="70" y="3"/>
                              </a:lnTo>
                              <a:lnTo>
                                <a:pt x="63" y="2"/>
                              </a:lnTo>
                              <a:lnTo>
                                <a:pt x="56" y="1"/>
                              </a:lnTo>
                              <a:lnTo>
                                <a:pt x="48" y="0"/>
                              </a:lnTo>
                              <a:lnTo>
                                <a:pt x="39" y="1"/>
                              </a:lnTo>
                              <a:lnTo>
                                <a:pt x="31" y="3"/>
                              </a:lnTo>
                              <a:lnTo>
                                <a:pt x="23" y="5"/>
                              </a:lnTo>
                              <a:lnTo>
                                <a:pt x="15" y="8"/>
                              </a:lnTo>
                              <a:lnTo>
                                <a:pt x="10" y="12"/>
                              </a:lnTo>
                              <a:lnTo>
                                <a:pt x="5" y="17"/>
                              </a:lnTo>
                              <a:lnTo>
                                <a:pt x="2" y="21"/>
                              </a:lnTo>
                              <a:lnTo>
                                <a:pt x="0" y="25"/>
                              </a:lnTo>
                              <a:lnTo>
                                <a:pt x="0" y="30"/>
                              </a:lnTo>
                              <a:lnTo>
                                <a:pt x="2" y="34"/>
                              </a:lnTo>
                              <a:lnTo>
                                <a:pt x="4" y="39"/>
                              </a:lnTo>
                              <a:lnTo>
                                <a:pt x="9" y="42"/>
                              </a:lnTo>
                              <a:lnTo>
                                <a:pt x="14" y="45"/>
                              </a:lnTo>
                              <a:lnTo>
                                <a:pt x="21" y="46"/>
                              </a:lnTo>
                              <a:lnTo>
                                <a:pt x="29" y="47"/>
                              </a:lnTo>
                              <a:lnTo>
                                <a:pt x="37" y="48"/>
                              </a:lnTo>
                              <a:lnTo>
                                <a:pt x="46" y="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7c6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3" name=""/>
                        <p:cNvSpPr/>
                        <p:nvPr/>
                      </p:nvSpPr>
                      <p:spPr>
                        <a:xfrm>
                          <a:off x="3498120" y="5598360"/>
                          <a:ext cx="10080" cy="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39">
                              <a:moveTo>
                                <a:pt x="37" y="39"/>
                              </a:moveTo>
                              <a:lnTo>
                                <a:pt x="45" y="38"/>
                              </a:lnTo>
                              <a:lnTo>
                                <a:pt x="51" y="36"/>
                              </a:lnTo>
                              <a:lnTo>
                                <a:pt x="56" y="32"/>
                              </a:lnTo>
                              <a:lnTo>
                                <a:pt x="61" y="29"/>
                              </a:lnTo>
                              <a:lnTo>
                                <a:pt x="66" y="26"/>
                              </a:lnTo>
                              <a:lnTo>
                                <a:pt x="68" y="22"/>
                              </a:lnTo>
                              <a:lnTo>
                                <a:pt x="70" y="19"/>
                              </a:lnTo>
                              <a:lnTo>
                                <a:pt x="70" y="15"/>
                              </a:lnTo>
                              <a:lnTo>
                                <a:pt x="69" y="10"/>
                              </a:lnTo>
                              <a:lnTo>
                                <a:pt x="67" y="7"/>
                              </a:lnTo>
                              <a:lnTo>
                                <a:pt x="62" y="5"/>
                              </a:lnTo>
                              <a:lnTo>
                                <a:pt x="58" y="2"/>
                              </a:lnTo>
                              <a:lnTo>
                                <a:pt x="52" y="1"/>
                              </a:lnTo>
                              <a:lnTo>
                                <a:pt x="47" y="0"/>
                              </a:lnTo>
                              <a:lnTo>
                                <a:pt x="40" y="0"/>
                              </a:lnTo>
                              <a:lnTo>
                                <a:pt x="32" y="0"/>
                              </a:lnTo>
                              <a:lnTo>
                                <a:pt x="25" y="1"/>
                              </a:lnTo>
                              <a:lnTo>
                                <a:pt x="19" y="3"/>
                              </a:lnTo>
                              <a:lnTo>
                                <a:pt x="14" y="6"/>
                              </a:lnTo>
                              <a:lnTo>
                                <a:pt x="8" y="9"/>
                              </a:lnTo>
                              <a:lnTo>
                                <a:pt x="5" y="13"/>
                              </a:lnTo>
                              <a:lnTo>
                                <a:pt x="2" y="17"/>
                              </a:lnTo>
                              <a:lnTo>
                                <a:pt x="0" y="20"/>
                              </a:lnTo>
                              <a:lnTo>
                                <a:pt x="0" y="24"/>
                              </a:lnTo>
                              <a:lnTo>
                                <a:pt x="1" y="28"/>
                              </a:lnTo>
                              <a:lnTo>
                                <a:pt x="4" y="31"/>
                              </a:lnTo>
                              <a:lnTo>
                                <a:pt x="8" y="33"/>
                              </a:lnTo>
                              <a:lnTo>
                                <a:pt x="12" y="36"/>
                              </a:lnTo>
                              <a:lnTo>
                                <a:pt x="18" y="38"/>
                              </a:lnTo>
                              <a:lnTo>
                                <a:pt x="24" y="39"/>
                              </a:lnTo>
                              <a:lnTo>
                                <a:pt x="30" y="39"/>
                              </a:lnTo>
                              <a:lnTo>
                                <a:pt x="37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e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480" bIns="-42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>
                          <a:off x="3499200" y="5598360"/>
                          <a:ext cx="7920" cy="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29">
                              <a:moveTo>
                                <a:pt x="29" y="29"/>
                              </a:moveTo>
                              <a:lnTo>
                                <a:pt x="40" y="26"/>
                              </a:lnTo>
                              <a:lnTo>
                                <a:pt x="48" y="22"/>
                              </a:lnTo>
                              <a:lnTo>
                                <a:pt x="53" y="17"/>
                              </a:lnTo>
                              <a:lnTo>
                                <a:pt x="54" y="11"/>
                              </a:lnTo>
                              <a:lnTo>
                                <a:pt x="51" y="5"/>
                              </a:lnTo>
                              <a:lnTo>
                                <a:pt x="45" y="1"/>
                              </a:lnTo>
                              <a:lnTo>
                                <a:pt x="36" y="0"/>
                              </a:lnTo>
                              <a:lnTo>
                                <a:pt x="25" y="0"/>
                              </a:lnTo>
                              <a:lnTo>
                                <a:pt x="15" y="3"/>
                              </a:lnTo>
                              <a:lnTo>
                                <a:pt x="6" y="7"/>
                              </a:lnTo>
                              <a:lnTo>
                                <a:pt x="1" y="13"/>
                              </a:lnTo>
                              <a:lnTo>
                                <a:pt x="0" y="19"/>
                              </a:lnTo>
                              <a:lnTo>
                                <a:pt x="3" y="24"/>
                              </a:lnTo>
                              <a:lnTo>
                                <a:pt x="10" y="28"/>
                              </a:lnTo>
                              <a:lnTo>
                                <a:pt x="18" y="29"/>
                              </a:lnTo>
                              <a:lnTo>
                                <a:pt x="29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dd6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5" name=""/>
                        <p:cNvSpPr/>
                        <p:nvPr/>
                      </p:nvSpPr>
                      <p:spPr>
                        <a:xfrm>
                          <a:off x="3500280" y="5599440"/>
                          <a:ext cx="5040" cy="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22">
                              <a:moveTo>
                                <a:pt x="21" y="22"/>
                              </a:moveTo>
                              <a:lnTo>
                                <a:pt x="29" y="20"/>
                              </a:lnTo>
                              <a:lnTo>
                                <a:pt x="36" y="17"/>
                              </a:lnTo>
                              <a:lnTo>
                                <a:pt x="39" y="13"/>
                              </a:lnTo>
                              <a:lnTo>
                                <a:pt x="40" y="9"/>
                              </a:lnTo>
                              <a:lnTo>
                                <a:pt x="38" y="4"/>
                              </a:lnTo>
                              <a:lnTo>
                                <a:pt x="33" y="1"/>
                              </a:lnTo>
                              <a:lnTo>
                                <a:pt x="26" y="0"/>
                              </a:lnTo>
                              <a:lnTo>
                                <a:pt x="19" y="0"/>
                              </a:lnTo>
                              <a:lnTo>
                                <a:pt x="11" y="2"/>
                              </a:lnTo>
                              <a:lnTo>
                                <a:pt x="6" y="5"/>
                              </a:lnTo>
                              <a:lnTo>
                                <a:pt x="1" y="10"/>
                              </a:lnTo>
                              <a:lnTo>
                                <a:pt x="0" y="14"/>
                              </a:lnTo>
                              <a:lnTo>
                                <a:pt x="2" y="18"/>
                              </a:lnTo>
                              <a:lnTo>
                                <a:pt x="8" y="21"/>
                              </a:lnTo>
                              <a:lnTo>
                                <a:pt x="14" y="22"/>
                              </a:lnTo>
                              <a:lnTo>
                                <a:pt x="21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dd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6" name=""/>
                        <p:cNvSpPr/>
                        <p:nvPr/>
                      </p:nvSpPr>
                      <p:spPr>
                        <a:xfrm>
                          <a:off x="3537000" y="5531760"/>
                          <a:ext cx="4176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3" h="44">
                              <a:moveTo>
                                <a:pt x="0" y="29"/>
                              </a:moveTo>
                              <a:lnTo>
                                <a:pt x="2" y="29"/>
                              </a:lnTo>
                              <a:lnTo>
                                <a:pt x="9" y="29"/>
                              </a:lnTo>
                              <a:lnTo>
                                <a:pt x="19" y="28"/>
                              </a:lnTo>
                              <a:lnTo>
                                <a:pt x="33" y="27"/>
                              </a:lnTo>
                              <a:lnTo>
                                <a:pt x="48" y="26"/>
                              </a:lnTo>
                              <a:lnTo>
                                <a:pt x="67" y="25"/>
                              </a:lnTo>
                              <a:lnTo>
                                <a:pt x="87" y="23"/>
                              </a:lnTo>
                              <a:lnTo>
                                <a:pt x="108" y="22"/>
                              </a:lnTo>
                              <a:lnTo>
                                <a:pt x="131" y="20"/>
                              </a:lnTo>
                              <a:lnTo>
                                <a:pt x="155" y="18"/>
                              </a:lnTo>
                              <a:lnTo>
                                <a:pt x="178" y="15"/>
                              </a:lnTo>
                              <a:lnTo>
                                <a:pt x="202" y="13"/>
                              </a:lnTo>
                              <a:lnTo>
                                <a:pt x="224" y="10"/>
                              </a:lnTo>
                              <a:lnTo>
                                <a:pt x="246" y="7"/>
                              </a:lnTo>
                              <a:lnTo>
                                <a:pt x="266" y="3"/>
                              </a:lnTo>
                              <a:lnTo>
                                <a:pt x="283" y="0"/>
                              </a:lnTo>
                              <a:lnTo>
                                <a:pt x="257" y="44"/>
                              </a:lnTo>
                              <a:lnTo>
                                <a:pt x="262" y="18"/>
                              </a:lnTo>
                              <a:lnTo>
                                <a:pt x="261" y="18"/>
                              </a:lnTo>
                              <a:lnTo>
                                <a:pt x="260" y="18"/>
                              </a:lnTo>
                              <a:lnTo>
                                <a:pt x="257" y="19"/>
                              </a:lnTo>
                              <a:lnTo>
                                <a:pt x="252" y="19"/>
                              </a:lnTo>
                              <a:lnTo>
                                <a:pt x="245" y="20"/>
                              </a:lnTo>
                              <a:lnTo>
                                <a:pt x="236" y="21"/>
                              </a:lnTo>
                              <a:lnTo>
                                <a:pt x="226" y="22"/>
                              </a:lnTo>
                              <a:lnTo>
                                <a:pt x="212" y="22"/>
                              </a:lnTo>
                              <a:lnTo>
                                <a:pt x="197" y="23"/>
                              </a:lnTo>
                              <a:lnTo>
                                <a:pt x="178" y="24"/>
                              </a:lnTo>
                              <a:lnTo>
                                <a:pt x="157" y="25"/>
                              </a:lnTo>
                              <a:lnTo>
                                <a:pt x="132" y="26"/>
                              </a:lnTo>
                              <a:lnTo>
                                <a:pt x="104" y="27"/>
                              </a:lnTo>
                              <a:lnTo>
                                <a:pt x="74" y="28"/>
                              </a:lnTo>
                              <a:lnTo>
                                <a:pt x="39" y="28"/>
                              </a:lnTo>
                              <a:lnTo>
                                <a:pt x="0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9c6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47" name=""/>
                      <p:cNvGrpSpPr/>
                      <p:nvPr/>
                    </p:nvGrpSpPr>
                    <p:grpSpPr>
                      <a:xfrm>
                        <a:off x="3383280" y="5544720"/>
                        <a:ext cx="99720" cy="41760"/>
                        <a:chOff x="3383280" y="5544720"/>
                        <a:chExt cx="99720" cy="41760"/>
                      </a:xfrm>
                    </p:grpSpPr>
                    <p:sp>
                      <p:nvSpPr>
                        <p:cNvPr id="1048" name=""/>
                        <p:cNvSpPr/>
                        <p:nvPr/>
                      </p:nvSpPr>
                      <p:spPr>
                        <a:xfrm>
                          <a:off x="3384000" y="5545440"/>
                          <a:ext cx="98640" cy="40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80" h="332">
                              <a:moveTo>
                                <a:pt x="680" y="185"/>
                              </a:moveTo>
                              <a:lnTo>
                                <a:pt x="678" y="183"/>
                              </a:lnTo>
                              <a:lnTo>
                                <a:pt x="671" y="179"/>
                              </a:lnTo>
                              <a:lnTo>
                                <a:pt x="660" y="170"/>
                              </a:lnTo>
                              <a:lnTo>
                                <a:pt x="647" y="160"/>
                              </a:lnTo>
                              <a:lnTo>
                                <a:pt x="630" y="148"/>
                              </a:lnTo>
                              <a:lnTo>
                                <a:pt x="611" y="135"/>
                              </a:lnTo>
                              <a:lnTo>
                                <a:pt x="592" y="119"/>
                              </a:lnTo>
                              <a:lnTo>
                                <a:pt x="571" y="103"/>
                              </a:lnTo>
                              <a:lnTo>
                                <a:pt x="549" y="88"/>
                              </a:lnTo>
                              <a:lnTo>
                                <a:pt x="528" y="72"/>
                              </a:lnTo>
                              <a:lnTo>
                                <a:pt x="508" y="57"/>
                              </a:lnTo>
                              <a:lnTo>
                                <a:pt x="489" y="42"/>
                              </a:lnTo>
                              <a:lnTo>
                                <a:pt x="472" y="28"/>
                              </a:lnTo>
                              <a:lnTo>
                                <a:pt x="458" y="17"/>
                              </a:lnTo>
                              <a:lnTo>
                                <a:pt x="447" y="8"/>
                              </a:lnTo>
                              <a:lnTo>
                                <a:pt x="440" y="0"/>
                              </a:lnTo>
                              <a:lnTo>
                                <a:pt x="439" y="0"/>
                              </a:lnTo>
                              <a:lnTo>
                                <a:pt x="437" y="2"/>
                              </a:lnTo>
                              <a:lnTo>
                                <a:pt x="434" y="4"/>
                              </a:lnTo>
                              <a:lnTo>
                                <a:pt x="427" y="9"/>
                              </a:lnTo>
                              <a:lnTo>
                                <a:pt x="420" y="15"/>
                              </a:lnTo>
                              <a:lnTo>
                                <a:pt x="410" y="23"/>
                              </a:lnTo>
                              <a:lnTo>
                                <a:pt x="397" y="33"/>
                              </a:lnTo>
                              <a:lnTo>
                                <a:pt x="383" y="46"/>
                              </a:lnTo>
                              <a:lnTo>
                                <a:pt x="365" y="62"/>
                              </a:lnTo>
                              <a:lnTo>
                                <a:pt x="343" y="81"/>
                              </a:lnTo>
                              <a:lnTo>
                                <a:pt x="319" y="103"/>
                              </a:lnTo>
                              <a:lnTo>
                                <a:pt x="291" y="130"/>
                              </a:lnTo>
                              <a:lnTo>
                                <a:pt x="260" y="159"/>
                              </a:lnTo>
                              <a:lnTo>
                                <a:pt x="224" y="193"/>
                              </a:lnTo>
                              <a:lnTo>
                                <a:pt x="186" y="232"/>
                              </a:lnTo>
                              <a:lnTo>
                                <a:pt x="142" y="276"/>
                              </a:lnTo>
                              <a:lnTo>
                                <a:pt x="140" y="271"/>
                              </a:lnTo>
                              <a:lnTo>
                                <a:pt x="133" y="259"/>
                              </a:lnTo>
                              <a:lnTo>
                                <a:pt x="121" y="243"/>
                              </a:lnTo>
                              <a:lnTo>
                                <a:pt x="107" y="225"/>
                              </a:lnTo>
                              <a:lnTo>
                                <a:pt x="88" y="211"/>
                              </a:lnTo>
                              <a:lnTo>
                                <a:pt x="66" y="200"/>
                              </a:lnTo>
                              <a:lnTo>
                                <a:pt x="41" y="198"/>
                              </a:lnTo>
                              <a:lnTo>
                                <a:pt x="14" y="208"/>
                              </a:lnTo>
                              <a:lnTo>
                                <a:pt x="12" y="210"/>
                              </a:lnTo>
                              <a:lnTo>
                                <a:pt x="8" y="215"/>
                              </a:lnTo>
                              <a:lnTo>
                                <a:pt x="4" y="224"/>
                              </a:lnTo>
                              <a:lnTo>
                                <a:pt x="0" y="237"/>
                              </a:lnTo>
                              <a:lnTo>
                                <a:pt x="0" y="251"/>
                              </a:lnTo>
                              <a:lnTo>
                                <a:pt x="4" y="267"/>
                              </a:lnTo>
                              <a:lnTo>
                                <a:pt x="14" y="285"/>
                              </a:lnTo>
                              <a:lnTo>
                                <a:pt x="34" y="304"/>
                              </a:lnTo>
                              <a:lnTo>
                                <a:pt x="37" y="305"/>
                              </a:lnTo>
                              <a:lnTo>
                                <a:pt x="43" y="309"/>
                              </a:lnTo>
                              <a:lnTo>
                                <a:pt x="55" y="313"/>
                              </a:lnTo>
                              <a:lnTo>
                                <a:pt x="68" y="319"/>
                              </a:lnTo>
                              <a:lnTo>
                                <a:pt x="83" y="325"/>
                              </a:lnTo>
                              <a:lnTo>
                                <a:pt x="99" y="329"/>
                              </a:lnTo>
                              <a:lnTo>
                                <a:pt x="114" y="332"/>
                              </a:lnTo>
                              <a:lnTo>
                                <a:pt x="128" y="332"/>
                              </a:lnTo>
                              <a:lnTo>
                                <a:pt x="129" y="330"/>
                              </a:lnTo>
                              <a:lnTo>
                                <a:pt x="134" y="325"/>
                              </a:lnTo>
                              <a:lnTo>
                                <a:pt x="141" y="315"/>
                              </a:lnTo>
                              <a:lnTo>
                                <a:pt x="151" y="304"/>
                              </a:lnTo>
                              <a:lnTo>
                                <a:pt x="162" y="290"/>
                              </a:lnTo>
                              <a:lnTo>
                                <a:pt x="177" y="273"/>
                              </a:lnTo>
                              <a:lnTo>
                                <a:pt x="192" y="256"/>
                              </a:lnTo>
                              <a:lnTo>
                                <a:pt x="209" y="237"/>
                              </a:lnTo>
                              <a:lnTo>
                                <a:pt x="228" y="218"/>
                              </a:lnTo>
                              <a:lnTo>
                                <a:pt x="247" y="198"/>
                              </a:lnTo>
                              <a:lnTo>
                                <a:pt x="268" y="179"/>
                              </a:lnTo>
                              <a:lnTo>
                                <a:pt x="289" y="159"/>
                              </a:lnTo>
                              <a:lnTo>
                                <a:pt x="311" y="141"/>
                              </a:lnTo>
                              <a:lnTo>
                                <a:pt x="333" y="123"/>
                              </a:lnTo>
                              <a:lnTo>
                                <a:pt x="354" y="109"/>
                              </a:lnTo>
                              <a:lnTo>
                                <a:pt x="376" y="95"/>
                              </a:lnTo>
                              <a:lnTo>
                                <a:pt x="383" y="99"/>
                              </a:lnTo>
                              <a:lnTo>
                                <a:pt x="398" y="111"/>
                              </a:lnTo>
                              <a:lnTo>
                                <a:pt x="420" y="126"/>
                              </a:lnTo>
                              <a:lnTo>
                                <a:pt x="447" y="146"/>
                              </a:lnTo>
                              <a:lnTo>
                                <a:pt x="474" y="168"/>
                              </a:lnTo>
                              <a:lnTo>
                                <a:pt x="500" y="189"/>
                              </a:lnTo>
                              <a:lnTo>
                                <a:pt x="520" y="208"/>
                              </a:lnTo>
                              <a:lnTo>
                                <a:pt x="532" y="222"/>
                              </a:lnTo>
                              <a:lnTo>
                                <a:pt x="539" y="221"/>
                              </a:lnTo>
                              <a:lnTo>
                                <a:pt x="554" y="217"/>
                              </a:lnTo>
                              <a:lnTo>
                                <a:pt x="577" y="211"/>
                              </a:lnTo>
                              <a:lnTo>
                                <a:pt x="603" y="205"/>
                              </a:lnTo>
                              <a:lnTo>
                                <a:pt x="630" y="198"/>
                              </a:lnTo>
                              <a:lnTo>
                                <a:pt x="654" y="192"/>
                              </a:lnTo>
                              <a:lnTo>
                                <a:pt x="672" y="187"/>
                              </a:lnTo>
                              <a:lnTo>
                                <a:pt x="680" y="1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4444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120" bIns="-6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9" name=""/>
                        <p:cNvSpPr/>
                        <p:nvPr/>
                      </p:nvSpPr>
                      <p:spPr>
                        <a:xfrm>
                          <a:off x="3383280" y="5544720"/>
                          <a:ext cx="99720" cy="4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86" h="332">
                              <a:moveTo>
                                <a:pt x="526" y="234"/>
                              </a:moveTo>
                              <a:lnTo>
                                <a:pt x="513" y="219"/>
                              </a:lnTo>
                              <a:lnTo>
                                <a:pt x="493" y="201"/>
                              </a:lnTo>
                              <a:lnTo>
                                <a:pt x="470" y="184"/>
                              </a:lnTo>
                              <a:lnTo>
                                <a:pt x="444" y="165"/>
                              </a:lnTo>
                              <a:lnTo>
                                <a:pt x="419" y="148"/>
                              </a:lnTo>
                              <a:lnTo>
                                <a:pt x="398" y="135"/>
                              </a:lnTo>
                              <a:lnTo>
                                <a:pt x="383" y="124"/>
                              </a:lnTo>
                              <a:lnTo>
                                <a:pt x="378" y="120"/>
                              </a:lnTo>
                              <a:lnTo>
                                <a:pt x="371" y="125"/>
                              </a:lnTo>
                              <a:lnTo>
                                <a:pt x="359" y="134"/>
                              </a:lnTo>
                              <a:lnTo>
                                <a:pt x="344" y="146"/>
                              </a:lnTo>
                              <a:lnTo>
                                <a:pt x="326" y="161"/>
                              </a:lnTo>
                              <a:lnTo>
                                <a:pt x="307" y="177"/>
                              </a:lnTo>
                              <a:lnTo>
                                <a:pt x="285" y="195"/>
                              </a:lnTo>
                              <a:lnTo>
                                <a:pt x="264" y="214"/>
                              </a:lnTo>
                              <a:lnTo>
                                <a:pt x="242" y="234"/>
                              </a:lnTo>
                              <a:lnTo>
                                <a:pt x="220" y="252"/>
                              </a:lnTo>
                              <a:lnTo>
                                <a:pt x="199" y="270"/>
                              </a:lnTo>
                              <a:lnTo>
                                <a:pt x="180" y="287"/>
                              </a:lnTo>
                              <a:lnTo>
                                <a:pt x="164" y="303"/>
                              </a:lnTo>
                              <a:lnTo>
                                <a:pt x="150" y="315"/>
                              </a:lnTo>
                              <a:lnTo>
                                <a:pt x="140" y="324"/>
                              </a:lnTo>
                              <a:lnTo>
                                <a:pt x="134" y="330"/>
                              </a:lnTo>
                              <a:lnTo>
                                <a:pt x="132" y="332"/>
                              </a:lnTo>
                              <a:lnTo>
                                <a:pt x="101" y="327"/>
                              </a:lnTo>
                              <a:lnTo>
                                <a:pt x="76" y="320"/>
                              </a:lnTo>
                              <a:lnTo>
                                <a:pt x="57" y="312"/>
                              </a:lnTo>
                              <a:lnTo>
                                <a:pt x="40" y="304"/>
                              </a:lnTo>
                              <a:lnTo>
                                <a:pt x="26" y="294"/>
                              </a:lnTo>
                              <a:lnTo>
                                <a:pt x="17" y="284"/>
                              </a:lnTo>
                              <a:lnTo>
                                <a:pt x="10" y="273"/>
                              </a:lnTo>
                              <a:lnTo>
                                <a:pt x="5" y="263"/>
                              </a:lnTo>
                              <a:lnTo>
                                <a:pt x="3" y="254"/>
                              </a:lnTo>
                              <a:lnTo>
                                <a:pt x="0" y="243"/>
                              </a:lnTo>
                              <a:lnTo>
                                <a:pt x="2" y="235"/>
                              </a:lnTo>
                              <a:lnTo>
                                <a:pt x="3" y="226"/>
                              </a:lnTo>
                              <a:lnTo>
                                <a:pt x="4" y="219"/>
                              </a:lnTo>
                              <a:lnTo>
                                <a:pt x="5" y="214"/>
                              </a:lnTo>
                              <a:lnTo>
                                <a:pt x="7" y="211"/>
                              </a:lnTo>
                              <a:lnTo>
                                <a:pt x="7" y="209"/>
                              </a:lnTo>
                              <a:lnTo>
                                <a:pt x="30" y="184"/>
                              </a:lnTo>
                              <a:lnTo>
                                <a:pt x="55" y="176"/>
                              </a:lnTo>
                              <a:lnTo>
                                <a:pt x="80" y="182"/>
                              </a:lnTo>
                              <a:lnTo>
                                <a:pt x="104" y="195"/>
                              </a:lnTo>
                              <a:lnTo>
                                <a:pt x="126" y="215"/>
                              </a:lnTo>
                              <a:lnTo>
                                <a:pt x="144" y="234"/>
                              </a:lnTo>
                              <a:lnTo>
                                <a:pt x="155" y="249"/>
                              </a:lnTo>
                              <a:lnTo>
                                <a:pt x="159" y="257"/>
                              </a:lnTo>
                              <a:lnTo>
                                <a:pt x="173" y="240"/>
                              </a:lnTo>
                              <a:lnTo>
                                <a:pt x="190" y="222"/>
                              </a:lnTo>
                              <a:lnTo>
                                <a:pt x="208" y="202"/>
                              </a:lnTo>
                              <a:lnTo>
                                <a:pt x="230" y="182"/>
                              </a:lnTo>
                              <a:lnTo>
                                <a:pt x="252" y="161"/>
                              </a:lnTo>
                              <a:lnTo>
                                <a:pt x="275" y="140"/>
                              </a:lnTo>
                              <a:lnTo>
                                <a:pt x="298" y="119"/>
                              </a:lnTo>
                              <a:lnTo>
                                <a:pt x="321" y="98"/>
                              </a:lnTo>
                              <a:lnTo>
                                <a:pt x="343" y="78"/>
                              </a:lnTo>
                              <a:lnTo>
                                <a:pt x="363" y="61"/>
                              </a:lnTo>
                              <a:lnTo>
                                <a:pt x="382" y="44"/>
                              </a:lnTo>
                              <a:lnTo>
                                <a:pt x="399" y="29"/>
                              </a:lnTo>
                              <a:lnTo>
                                <a:pt x="412" y="18"/>
                              </a:lnTo>
                              <a:lnTo>
                                <a:pt x="423" y="8"/>
                              </a:lnTo>
                              <a:lnTo>
                                <a:pt x="430" y="2"/>
                              </a:lnTo>
                              <a:lnTo>
                                <a:pt x="432" y="0"/>
                              </a:lnTo>
                              <a:lnTo>
                                <a:pt x="434" y="3"/>
                              </a:lnTo>
                              <a:lnTo>
                                <a:pt x="441" y="10"/>
                              </a:lnTo>
                              <a:lnTo>
                                <a:pt x="453" y="19"/>
                              </a:lnTo>
                              <a:lnTo>
                                <a:pt x="469" y="31"/>
                              </a:lnTo>
                              <a:lnTo>
                                <a:pt x="487" y="46"/>
                              </a:lnTo>
                              <a:lnTo>
                                <a:pt x="508" y="62"/>
                              </a:lnTo>
                              <a:lnTo>
                                <a:pt x="530" y="78"/>
                              </a:lnTo>
                              <a:lnTo>
                                <a:pt x="553" y="96"/>
                              </a:lnTo>
                              <a:lnTo>
                                <a:pt x="577" y="113"/>
                              </a:lnTo>
                              <a:lnTo>
                                <a:pt x="599" y="130"/>
                              </a:lnTo>
                              <a:lnTo>
                                <a:pt x="620" y="146"/>
                              </a:lnTo>
                              <a:lnTo>
                                <a:pt x="639" y="160"/>
                              </a:lnTo>
                              <a:lnTo>
                                <a:pt x="656" y="171"/>
                              </a:lnTo>
                              <a:lnTo>
                                <a:pt x="668" y="181"/>
                              </a:lnTo>
                              <a:lnTo>
                                <a:pt x="677" y="186"/>
                              </a:lnTo>
                              <a:lnTo>
                                <a:pt x="680" y="188"/>
                              </a:lnTo>
                              <a:lnTo>
                                <a:pt x="678" y="189"/>
                              </a:lnTo>
                              <a:lnTo>
                                <a:pt x="675" y="190"/>
                              </a:lnTo>
                              <a:lnTo>
                                <a:pt x="672" y="192"/>
                              </a:lnTo>
                              <a:lnTo>
                                <a:pt x="668" y="194"/>
                              </a:lnTo>
                              <a:lnTo>
                                <a:pt x="663" y="191"/>
                              </a:lnTo>
                              <a:lnTo>
                                <a:pt x="654" y="185"/>
                              </a:lnTo>
                              <a:lnTo>
                                <a:pt x="640" y="175"/>
                              </a:lnTo>
                              <a:lnTo>
                                <a:pt x="623" y="164"/>
                              </a:lnTo>
                              <a:lnTo>
                                <a:pt x="605" y="151"/>
                              </a:lnTo>
                              <a:lnTo>
                                <a:pt x="585" y="137"/>
                              </a:lnTo>
                              <a:lnTo>
                                <a:pt x="563" y="121"/>
                              </a:lnTo>
                              <a:lnTo>
                                <a:pt x="542" y="105"/>
                              </a:lnTo>
                              <a:lnTo>
                                <a:pt x="521" y="90"/>
                              </a:lnTo>
                              <a:lnTo>
                                <a:pt x="500" y="75"/>
                              </a:lnTo>
                              <a:lnTo>
                                <a:pt x="481" y="61"/>
                              </a:lnTo>
                              <a:lnTo>
                                <a:pt x="464" y="48"/>
                              </a:lnTo>
                              <a:lnTo>
                                <a:pt x="451" y="38"/>
                              </a:lnTo>
                              <a:lnTo>
                                <a:pt x="440" y="28"/>
                              </a:lnTo>
                              <a:lnTo>
                                <a:pt x="435" y="23"/>
                              </a:lnTo>
                              <a:lnTo>
                                <a:pt x="434" y="20"/>
                              </a:lnTo>
                              <a:lnTo>
                                <a:pt x="427" y="24"/>
                              </a:lnTo>
                              <a:lnTo>
                                <a:pt x="414" y="35"/>
                              </a:lnTo>
                              <a:lnTo>
                                <a:pt x="398" y="48"/>
                              </a:lnTo>
                              <a:lnTo>
                                <a:pt x="378" y="65"/>
                              </a:lnTo>
                              <a:lnTo>
                                <a:pt x="356" y="85"/>
                              </a:lnTo>
                              <a:lnTo>
                                <a:pt x="332" y="106"/>
                              </a:lnTo>
                              <a:lnTo>
                                <a:pt x="307" y="129"/>
                              </a:lnTo>
                              <a:lnTo>
                                <a:pt x="281" y="152"/>
                              </a:lnTo>
                              <a:lnTo>
                                <a:pt x="256" y="176"/>
                              </a:lnTo>
                              <a:lnTo>
                                <a:pt x="232" y="198"/>
                              </a:lnTo>
                              <a:lnTo>
                                <a:pt x="211" y="219"/>
                              </a:lnTo>
                              <a:lnTo>
                                <a:pt x="191" y="237"/>
                              </a:lnTo>
                              <a:lnTo>
                                <a:pt x="175" y="252"/>
                              </a:lnTo>
                              <a:lnTo>
                                <a:pt x="163" y="263"/>
                              </a:lnTo>
                              <a:lnTo>
                                <a:pt x="156" y="270"/>
                              </a:lnTo>
                              <a:lnTo>
                                <a:pt x="154" y="271"/>
                              </a:lnTo>
                              <a:lnTo>
                                <a:pt x="124" y="230"/>
                              </a:lnTo>
                              <a:lnTo>
                                <a:pt x="97" y="206"/>
                              </a:lnTo>
                              <a:lnTo>
                                <a:pt x="73" y="195"/>
                              </a:lnTo>
                              <a:lnTo>
                                <a:pt x="54" y="194"/>
                              </a:lnTo>
                              <a:lnTo>
                                <a:pt x="38" y="199"/>
                              </a:lnTo>
                              <a:lnTo>
                                <a:pt x="26" y="208"/>
                              </a:lnTo>
                              <a:lnTo>
                                <a:pt x="20" y="214"/>
                              </a:lnTo>
                              <a:lnTo>
                                <a:pt x="18" y="216"/>
                              </a:lnTo>
                              <a:lnTo>
                                <a:pt x="14" y="240"/>
                              </a:lnTo>
                              <a:lnTo>
                                <a:pt x="21" y="262"/>
                              </a:lnTo>
                              <a:lnTo>
                                <a:pt x="38" y="280"/>
                              </a:lnTo>
                              <a:lnTo>
                                <a:pt x="60" y="295"/>
                              </a:lnTo>
                              <a:lnTo>
                                <a:pt x="84" y="308"/>
                              </a:lnTo>
                              <a:lnTo>
                                <a:pt x="104" y="316"/>
                              </a:lnTo>
                              <a:lnTo>
                                <a:pt x="121" y="321"/>
                              </a:lnTo>
                              <a:lnTo>
                                <a:pt x="127" y="322"/>
                              </a:lnTo>
                              <a:lnTo>
                                <a:pt x="133" y="315"/>
                              </a:lnTo>
                              <a:lnTo>
                                <a:pt x="142" y="306"/>
                              </a:lnTo>
                              <a:lnTo>
                                <a:pt x="155" y="292"/>
                              </a:lnTo>
                              <a:lnTo>
                                <a:pt x="172" y="276"/>
                              </a:lnTo>
                              <a:lnTo>
                                <a:pt x="192" y="260"/>
                              </a:lnTo>
                              <a:lnTo>
                                <a:pt x="213" y="241"/>
                              </a:lnTo>
                              <a:lnTo>
                                <a:pt x="236" y="221"/>
                              </a:lnTo>
                              <a:lnTo>
                                <a:pt x="258" y="202"/>
                              </a:lnTo>
                              <a:lnTo>
                                <a:pt x="280" y="183"/>
                              </a:lnTo>
                              <a:lnTo>
                                <a:pt x="303" y="165"/>
                              </a:lnTo>
                              <a:lnTo>
                                <a:pt x="323" y="147"/>
                              </a:lnTo>
                              <a:lnTo>
                                <a:pt x="342" y="133"/>
                              </a:lnTo>
                              <a:lnTo>
                                <a:pt x="357" y="120"/>
                              </a:lnTo>
                              <a:lnTo>
                                <a:pt x="370" y="111"/>
                              </a:lnTo>
                              <a:lnTo>
                                <a:pt x="378" y="104"/>
                              </a:lnTo>
                              <a:lnTo>
                                <a:pt x="382" y="102"/>
                              </a:lnTo>
                              <a:lnTo>
                                <a:pt x="389" y="106"/>
                              </a:lnTo>
                              <a:lnTo>
                                <a:pt x="399" y="114"/>
                              </a:lnTo>
                              <a:lnTo>
                                <a:pt x="409" y="121"/>
                              </a:lnTo>
                              <a:lnTo>
                                <a:pt x="422" y="130"/>
                              </a:lnTo>
                              <a:lnTo>
                                <a:pt x="434" y="141"/>
                              </a:lnTo>
                              <a:lnTo>
                                <a:pt x="449" y="151"/>
                              </a:lnTo>
                              <a:lnTo>
                                <a:pt x="462" y="163"/>
                              </a:lnTo>
                              <a:lnTo>
                                <a:pt x="477" y="174"/>
                              </a:lnTo>
                              <a:lnTo>
                                <a:pt x="490" y="186"/>
                              </a:lnTo>
                              <a:lnTo>
                                <a:pt x="504" y="196"/>
                              </a:lnTo>
                              <a:lnTo>
                                <a:pt x="516" y="206"/>
                              </a:lnTo>
                              <a:lnTo>
                                <a:pt x="527" y="214"/>
                              </a:lnTo>
                              <a:lnTo>
                                <a:pt x="536" y="221"/>
                              </a:lnTo>
                              <a:lnTo>
                                <a:pt x="544" y="226"/>
                              </a:lnTo>
                              <a:lnTo>
                                <a:pt x="550" y="230"/>
                              </a:lnTo>
                              <a:lnTo>
                                <a:pt x="552" y="231"/>
                              </a:lnTo>
                              <a:lnTo>
                                <a:pt x="557" y="230"/>
                              </a:lnTo>
                              <a:lnTo>
                                <a:pt x="569" y="225"/>
                              </a:lnTo>
                              <a:lnTo>
                                <a:pt x="588" y="219"/>
                              </a:lnTo>
                              <a:lnTo>
                                <a:pt x="610" y="213"/>
                              </a:lnTo>
                              <a:lnTo>
                                <a:pt x="632" y="206"/>
                              </a:lnTo>
                              <a:lnTo>
                                <a:pt x="653" y="198"/>
                              </a:lnTo>
                              <a:lnTo>
                                <a:pt x="669" y="192"/>
                              </a:lnTo>
                              <a:lnTo>
                                <a:pt x="680" y="188"/>
                              </a:lnTo>
                              <a:lnTo>
                                <a:pt x="686" y="191"/>
                              </a:lnTo>
                              <a:lnTo>
                                <a:pt x="680" y="194"/>
                              </a:lnTo>
                              <a:lnTo>
                                <a:pt x="663" y="201"/>
                              </a:lnTo>
                              <a:lnTo>
                                <a:pt x="639" y="212"/>
                              </a:lnTo>
                              <a:lnTo>
                                <a:pt x="612" y="223"/>
                              </a:lnTo>
                              <a:lnTo>
                                <a:pt x="583" y="233"/>
                              </a:lnTo>
                              <a:lnTo>
                                <a:pt x="557" y="239"/>
                              </a:lnTo>
                              <a:lnTo>
                                <a:pt x="537" y="240"/>
                              </a:lnTo>
                              <a:lnTo>
                                <a:pt x="526" y="2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0" name=""/>
                        <p:cNvSpPr/>
                        <p:nvPr/>
                      </p:nvSpPr>
                      <p:spPr>
                        <a:xfrm>
                          <a:off x="3387240" y="5571720"/>
                          <a:ext cx="1296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0">
                              <a:moveTo>
                                <a:pt x="28" y="57"/>
                              </a:moveTo>
                              <a:lnTo>
                                <a:pt x="36" y="63"/>
                              </a:lnTo>
                              <a:lnTo>
                                <a:pt x="44" y="66"/>
                              </a:lnTo>
                              <a:lnTo>
                                <a:pt x="53" y="69"/>
                              </a:lnTo>
                              <a:lnTo>
                                <a:pt x="61" y="70"/>
                              </a:lnTo>
                              <a:lnTo>
                                <a:pt x="68" y="70"/>
                              </a:lnTo>
                              <a:lnTo>
                                <a:pt x="74" y="68"/>
                              </a:lnTo>
                              <a:lnTo>
                                <a:pt x="79" y="66"/>
                              </a:lnTo>
                              <a:lnTo>
                                <a:pt x="83" y="61"/>
                              </a:lnTo>
                              <a:lnTo>
                                <a:pt x="85" y="56"/>
                              </a:lnTo>
                              <a:lnTo>
                                <a:pt x="86" y="51"/>
                              </a:lnTo>
                              <a:lnTo>
                                <a:pt x="84" y="45"/>
                              </a:lnTo>
                              <a:lnTo>
                                <a:pt x="82" y="37"/>
                              </a:lnTo>
                              <a:lnTo>
                                <a:pt x="78" y="31"/>
                              </a:lnTo>
                              <a:lnTo>
                                <a:pt x="72" y="25"/>
                              </a:lnTo>
                              <a:lnTo>
                                <a:pt x="65" y="19"/>
                              </a:lnTo>
                              <a:lnTo>
                                <a:pt x="57" y="12"/>
                              </a:lnTo>
                              <a:lnTo>
                                <a:pt x="49" y="7"/>
                              </a:lnTo>
                              <a:lnTo>
                                <a:pt x="40" y="4"/>
                              </a:lnTo>
                              <a:lnTo>
                                <a:pt x="32" y="1"/>
                              </a:lnTo>
                              <a:lnTo>
                                <a:pt x="25" y="0"/>
                              </a:lnTo>
                              <a:lnTo>
                                <a:pt x="17" y="0"/>
                              </a:lnTo>
                              <a:lnTo>
                                <a:pt x="11" y="2"/>
                              </a:lnTo>
                              <a:lnTo>
                                <a:pt x="6" y="4"/>
                              </a:lnTo>
                              <a:lnTo>
                                <a:pt x="2" y="8"/>
                              </a:lnTo>
                              <a:lnTo>
                                <a:pt x="0" y="13"/>
                              </a:lnTo>
                              <a:lnTo>
                                <a:pt x="0" y="19"/>
                              </a:lnTo>
                              <a:lnTo>
                                <a:pt x="1" y="25"/>
                              </a:lnTo>
                              <a:lnTo>
                                <a:pt x="4" y="32"/>
                              </a:lnTo>
                              <a:lnTo>
                                <a:pt x="8" y="39"/>
                              </a:lnTo>
                              <a:lnTo>
                                <a:pt x="13" y="45"/>
                              </a:lnTo>
                              <a:lnTo>
                                <a:pt x="21" y="51"/>
                              </a:lnTo>
                              <a:lnTo>
                                <a:pt x="28" y="5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444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1" name=""/>
                        <p:cNvSpPr/>
                        <p:nvPr/>
                      </p:nvSpPr>
                      <p:spPr>
                        <a:xfrm>
                          <a:off x="3388320" y="5571720"/>
                          <a:ext cx="1116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" h="61">
                              <a:moveTo>
                                <a:pt x="25" y="50"/>
                              </a:moveTo>
                              <a:lnTo>
                                <a:pt x="32" y="54"/>
                              </a:lnTo>
                              <a:lnTo>
                                <a:pt x="39" y="57"/>
                              </a:lnTo>
                              <a:lnTo>
                                <a:pt x="47" y="59"/>
                              </a:lnTo>
                              <a:lnTo>
                                <a:pt x="54" y="61"/>
                              </a:lnTo>
                              <a:lnTo>
                                <a:pt x="60" y="61"/>
                              </a:lnTo>
                              <a:lnTo>
                                <a:pt x="65" y="59"/>
                              </a:lnTo>
                              <a:lnTo>
                                <a:pt x="71" y="57"/>
                              </a:lnTo>
                              <a:lnTo>
                                <a:pt x="74" y="54"/>
                              </a:lnTo>
                              <a:lnTo>
                                <a:pt x="76" y="45"/>
                              </a:lnTo>
                              <a:lnTo>
                                <a:pt x="73" y="33"/>
                              </a:lnTo>
                              <a:lnTo>
                                <a:pt x="63" y="21"/>
                              </a:lnTo>
                              <a:lnTo>
                                <a:pt x="51" y="10"/>
                              </a:lnTo>
                              <a:lnTo>
                                <a:pt x="44" y="6"/>
                              </a:lnTo>
                              <a:lnTo>
                                <a:pt x="36" y="3"/>
                              </a:lnTo>
                              <a:lnTo>
                                <a:pt x="29" y="1"/>
                              </a:lnTo>
                              <a:lnTo>
                                <a:pt x="22" y="0"/>
                              </a:lnTo>
                              <a:lnTo>
                                <a:pt x="16" y="0"/>
                              </a:lnTo>
                              <a:lnTo>
                                <a:pt x="10" y="1"/>
                              </a:lnTo>
                              <a:lnTo>
                                <a:pt x="5" y="3"/>
                              </a:lnTo>
                              <a:lnTo>
                                <a:pt x="2" y="6"/>
                              </a:lnTo>
                              <a:lnTo>
                                <a:pt x="0" y="16"/>
                              </a:lnTo>
                              <a:lnTo>
                                <a:pt x="3" y="27"/>
                              </a:lnTo>
                              <a:lnTo>
                                <a:pt x="12" y="39"/>
                              </a:lnTo>
                              <a:lnTo>
                                <a:pt x="25" y="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15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2" name=""/>
                        <p:cNvSpPr/>
                        <p:nvPr/>
                      </p:nvSpPr>
                      <p:spPr>
                        <a:xfrm>
                          <a:off x="3388320" y="5571720"/>
                          <a:ext cx="1008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" h="54">
                              <a:moveTo>
                                <a:pt x="23" y="44"/>
                              </a:moveTo>
                              <a:lnTo>
                                <a:pt x="29" y="48"/>
                              </a:lnTo>
                              <a:lnTo>
                                <a:pt x="35" y="51"/>
                              </a:lnTo>
                              <a:lnTo>
                                <a:pt x="42" y="52"/>
                              </a:lnTo>
                              <a:lnTo>
                                <a:pt x="48" y="53"/>
                              </a:lnTo>
                              <a:lnTo>
                                <a:pt x="53" y="54"/>
                              </a:lnTo>
                              <a:lnTo>
                                <a:pt x="58" y="53"/>
                              </a:lnTo>
                              <a:lnTo>
                                <a:pt x="62" y="51"/>
                              </a:lnTo>
                              <a:lnTo>
                                <a:pt x="65" y="48"/>
                              </a:lnTo>
                              <a:lnTo>
                                <a:pt x="67" y="40"/>
                              </a:lnTo>
                              <a:lnTo>
                                <a:pt x="63" y="29"/>
                              </a:lnTo>
                              <a:lnTo>
                                <a:pt x="56" y="19"/>
                              </a:lnTo>
                              <a:lnTo>
                                <a:pt x="45" y="9"/>
                              </a:lnTo>
                              <a:lnTo>
                                <a:pt x="39" y="6"/>
                              </a:lnTo>
                              <a:lnTo>
                                <a:pt x="32" y="3"/>
                              </a:lnTo>
                              <a:lnTo>
                                <a:pt x="26" y="1"/>
                              </a:lnTo>
                              <a:lnTo>
                                <a:pt x="20" y="0"/>
                              </a:lnTo>
                              <a:lnTo>
                                <a:pt x="14" y="0"/>
                              </a:lnTo>
                              <a:lnTo>
                                <a:pt x="9" y="1"/>
                              </a:lnTo>
                              <a:lnTo>
                                <a:pt x="5" y="3"/>
                              </a:lnTo>
                              <a:lnTo>
                                <a:pt x="2" y="6"/>
                              </a:lnTo>
                              <a:lnTo>
                                <a:pt x="0" y="15"/>
                              </a:lnTo>
                              <a:lnTo>
                                <a:pt x="3" y="24"/>
                              </a:lnTo>
                              <a:lnTo>
                                <a:pt x="11" y="34"/>
                              </a:lnTo>
                              <a:lnTo>
                                <a:pt x="23" y="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06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3" name=""/>
                        <p:cNvSpPr/>
                        <p:nvPr/>
                      </p:nvSpPr>
                      <p:spPr>
                        <a:xfrm>
                          <a:off x="3389400" y="5572440"/>
                          <a:ext cx="792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" h="45">
                              <a:moveTo>
                                <a:pt x="19" y="38"/>
                              </a:moveTo>
                              <a:lnTo>
                                <a:pt x="25" y="41"/>
                              </a:lnTo>
                              <a:lnTo>
                                <a:pt x="30" y="43"/>
                              </a:lnTo>
                              <a:lnTo>
                                <a:pt x="36" y="45"/>
                              </a:lnTo>
                              <a:lnTo>
                                <a:pt x="41" y="45"/>
                              </a:lnTo>
                              <a:lnTo>
                                <a:pt x="46" y="45"/>
                              </a:lnTo>
                              <a:lnTo>
                                <a:pt x="50" y="44"/>
                              </a:lnTo>
                              <a:lnTo>
                                <a:pt x="53" y="43"/>
                              </a:lnTo>
                              <a:lnTo>
                                <a:pt x="55" y="40"/>
                              </a:lnTo>
                              <a:lnTo>
                                <a:pt x="57" y="34"/>
                              </a:lnTo>
                              <a:lnTo>
                                <a:pt x="54" y="25"/>
                              </a:lnTo>
                              <a:lnTo>
                                <a:pt x="48" y="16"/>
                              </a:lnTo>
                              <a:lnTo>
                                <a:pt x="39" y="8"/>
                              </a:lnTo>
                              <a:lnTo>
                                <a:pt x="33" y="5"/>
                              </a:lnTo>
                              <a:lnTo>
                                <a:pt x="27" y="2"/>
                              </a:lnTo>
                              <a:lnTo>
                                <a:pt x="22" y="1"/>
                              </a:lnTo>
                              <a:lnTo>
                                <a:pt x="17" y="0"/>
                              </a:lnTo>
                              <a:lnTo>
                                <a:pt x="13" y="0"/>
                              </a:lnTo>
                              <a:lnTo>
                                <a:pt x="9" y="1"/>
                              </a:lnTo>
                              <a:lnTo>
                                <a:pt x="4" y="2"/>
                              </a:lnTo>
                              <a:lnTo>
                                <a:pt x="2" y="5"/>
                              </a:lnTo>
                              <a:lnTo>
                                <a:pt x="0" y="12"/>
                              </a:lnTo>
                              <a:lnTo>
                                <a:pt x="3" y="20"/>
                              </a:lnTo>
                              <a:lnTo>
                                <a:pt x="10" y="29"/>
                              </a:lnTo>
                              <a:lnTo>
                                <a:pt x="19" y="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d7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4" name=""/>
                        <p:cNvSpPr/>
                        <p:nvPr/>
                      </p:nvSpPr>
                      <p:spPr>
                        <a:xfrm>
                          <a:off x="3390120" y="5572440"/>
                          <a:ext cx="5760" cy="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38">
                              <a:moveTo>
                                <a:pt x="16" y="31"/>
                              </a:moveTo>
                              <a:lnTo>
                                <a:pt x="25" y="36"/>
                              </a:lnTo>
                              <a:lnTo>
                                <a:pt x="35" y="38"/>
                              </a:lnTo>
                              <a:lnTo>
                                <a:pt x="41" y="38"/>
                              </a:lnTo>
                              <a:lnTo>
                                <a:pt x="46" y="34"/>
                              </a:lnTo>
                              <a:lnTo>
                                <a:pt x="47" y="28"/>
                              </a:lnTo>
                              <a:lnTo>
                                <a:pt x="45" y="21"/>
                              </a:lnTo>
                              <a:lnTo>
                                <a:pt x="40" y="14"/>
                              </a:lnTo>
                              <a:lnTo>
                                <a:pt x="32" y="7"/>
                              </a:lnTo>
                              <a:lnTo>
                                <a:pt x="23" y="2"/>
                              </a:lnTo>
                              <a:lnTo>
                                <a:pt x="14" y="0"/>
                              </a:lnTo>
                              <a:lnTo>
                                <a:pt x="8" y="1"/>
                              </a:lnTo>
                              <a:lnTo>
                                <a:pt x="2" y="4"/>
                              </a:lnTo>
                              <a:lnTo>
                                <a:pt x="0" y="11"/>
                              </a:lnTo>
                              <a:lnTo>
                                <a:pt x="3" y="18"/>
                              </a:lnTo>
                              <a:lnTo>
                                <a:pt x="9" y="25"/>
                              </a:lnTo>
                              <a:lnTo>
                                <a:pt x="16" y="3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a8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480" bIns="-42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5" name=""/>
                        <p:cNvSpPr/>
                        <p:nvPr/>
                      </p:nvSpPr>
                      <p:spPr>
                        <a:xfrm>
                          <a:off x="3390120" y="5572440"/>
                          <a:ext cx="5760" cy="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9">
                              <a:moveTo>
                                <a:pt x="12" y="24"/>
                              </a:moveTo>
                              <a:lnTo>
                                <a:pt x="19" y="28"/>
                              </a:lnTo>
                              <a:lnTo>
                                <a:pt x="26" y="29"/>
                              </a:lnTo>
                              <a:lnTo>
                                <a:pt x="32" y="29"/>
                              </a:lnTo>
                              <a:lnTo>
                                <a:pt x="36" y="26"/>
                              </a:lnTo>
                              <a:lnTo>
                                <a:pt x="37" y="22"/>
                              </a:lnTo>
                              <a:lnTo>
                                <a:pt x="35" y="16"/>
                              </a:lnTo>
                              <a:lnTo>
                                <a:pt x="31" y="11"/>
                              </a:lnTo>
                              <a:lnTo>
                                <a:pt x="24" y="5"/>
                              </a:lnTo>
                              <a:lnTo>
                                <a:pt x="17" y="1"/>
                              </a:lnTo>
                              <a:lnTo>
                                <a:pt x="11" y="0"/>
                              </a:lnTo>
                              <a:lnTo>
                                <a:pt x="5" y="0"/>
                              </a:lnTo>
                              <a:lnTo>
                                <a:pt x="1" y="3"/>
                              </a:lnTo>
                              <a:lnTo>
                                <a:pt x="0" y="8"/>
                              </a:lnTo>
                              <a:lnTo>
                                <a:pt x="2" y="14"/>
                              </a:lnTo>
                              <a:lnTo>
                                <a:pt x="6" y="19"/>
                              </a:lnTo>
                              <a:lnTo>
                                <a:pt x="12" y="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991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>
                          <a:off x="3391200" y="5572440"/>
                          <a:ext cx="3960" cy="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2">
                              <a:moveTo>
                                <a:pt x="9" y="18"/>
                              </a:moveTo>
                              <a:lnTo>
                                <a:pt x="14" y="21"/>
                              </a:lnTo>
                              <a:lnTo>
                                <a:pt x="19" y="22"/>
                              </a:lnTo>
                              <a:lnTo>
                                <a:pt x="24" y="22"/>
                              </a:lnTo>
                              <a:lnTo>
                                <a:pt x="26" y="20"/>
                              </a:lnTo>
                              <a:lnTo>
                                <a:pt x="27" y="17"/>
                              </a:lnTo>
                              <a:lnTo>
                                <a:pt x="26" y="12"/>
                              </a:lnTo>
                              <a:lnTo>
                                <a:pt x="23" y="8"/>
                              </a:lnTo>
                              <a:lnTo>
                                <a:pt x="17" y="4"/>
                              </a:lnTo>
                              <a:lnTo>
                                <a:pt x="12" y="2"/>
                              </a:lnTo>
                              <a:lnTo>
                                <a:pt x="8" y="0"/>
                              </a:lnTo>
                              <a:lnTo>
                                <a:pt x="4" y="1"/>
                              </a:lnTo>
                              <a:lnTo>
                                <a:pt x="1" y="3"/>
                              </a:lnTo>
                              <a:lnTo>
                                <a:pt x="0" y="7"/>
                              </a:lnTo>
                              <a:lnTo>
                                <a:pt x="1" y="11"/>
                              </a:lnTo>
                              <a:lnTo>
                                <a:pt x="4" y="15"/>
                              </a:lnTo>
                              <a:lnTo>
                                <a:pt x="9" y="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69e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>
                          <a:off x="3450240" y="5552280"/>
                          <a:ext cx="24480" cy="1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4" h="135">
                              <a:moveTo>
                                <a:pt x="0" y="0"/>
                              </a:moveTo>
                              <a:lnTo>
                                <a:pt x="1" y="1"/>
                              </a:lnTo>
                              <a:lnTo>
                                <a:pt x="5" y="4"/>
                              </a:lnTo>
                              <a:lnTo>
                                <a:pt x="12" y="8"/>
                              </a:lnTo>
                              <a:lnTo>
                                <a:pt x="19" y="14"/>
                              </a:lnTo>
                              <a:lnTo>
                                <a:pt x="28" y="22"/>
                              </a:lnTo>
                              <a:lnTo>
                                <a:pt x="40" y="30"/>
                              </a:lnTo>
                              <a:lnTo>
                                <a:pt x="52" y="39"/>
                              </a:lnTo>
                              <a:lnTo>
                                <a:pt x="65" y="49"/>
                              </a:lnTo>
                              <a:lnTo>
                                <a:pt x="78" y="59"/>
                              </a:lnTo>
                              <a:lnTo>
                                <a:pt x="93" y="69"/>
                              </a:lnTo>
                              <a:lnTo>
                                <a:pt x="107" y="80"/>
                              </a:lnTo>
                              <a:lnTo>
                                <a:pt x="122" y="90"/>
                              </a:lnTo>
                              <a:lnTo>
                                <a:pt x="135" y="100"/>
                              </a:lnTo>
                              <a:lnTo>
                                <a:pt x="149" y="109"/>
                              </a:lnTo>
                              <a:lnTo>
                                <a:pt x="163" y="116"/>
                              </a:lnTo>
                              <a:lnTo>
                                <a:pt x="174" y="124"/>
                              </a:lnTo>
                              <a:lnTo>
                                <a:pt x="138" y="135"/>
                              </a:lnTo>
                              <a:lnTo>
                                <a:pt x="153" y="124"/>
                              </a:lnTo>
                              <a:lnTo>
                                <a:pt x="152" y="123"/>
                              </a:lnTo>
                              <a:lnTo>
                                <a:pt x="147" y="120"/>
                              </a:lnTo>
                              <a:lnTo>
                                <a:pt x="138" y="112"/>
                              </a:lnTo>
                              <a:lnTo>
                                <a:pt x="123" y="101"/>
                              </a:lnTo>
                              <a:lnTo>
                                <a:pt x="102" y="85"/>
                              </a:lnTo>
                              <a:lnTo>
                                <a:pt x="76" y="63"/>
                              </a:lnTo>
                              <a:lnTo>
                                <a:pt x="42" y="3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58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058" name=""/>
              <p:cNvGrpSpPr/>
              <p:nvPr/>
            </p:nvGrpSpPr>
            <p:grpSpPr>
              <a:xfrm>
                <a:off x="5914440" y="3429000"/>
                <a:ext cx="1347120" cy="2742840"/>
                <a:chOff x="5914440" y="3429000"/>
                <a:chExt cx="1347120" cy="274284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6323760" y="4840200"/>
                  <a:ext cx="868320" cy="446760"/>
                  <a:chOff x="6323760" y="4840200"/>
                  <a:chExt cx="868320" cy="44676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 flipH="1" flipV="1">
                    <a:off x="6323760" y="4840200"/>
                    <a:ext cx="550440" cy="204120"/>
                  </a:xfrm>
                  <a:prstGeom prst="line">
                    <a:avLst/>
                  </a:prstGeom>
                  <a:ln w="19080">
                    <a:solidFill>
                      <a:srgbClr val="9933ff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73400" y="4955040"/>
                    <a:ext cx="418680" cy="331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6301800" y="4463280"/>
                  <a:ext cx="959760" cy="477360"/>
                  <a:chOff x="6301800" y="4463280"/>
                  <a:chExt cx="959760" cy="47736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 flipH="1">
                    <a:off x="6301800" y="4692240"/>
                    <a:ext cx="552240" cy="5040"/>
                  </a:xfrm>
                  <a:prstGeom prst="line">
                    <a:avLst/>
                  </a:prstGeom>
                  <a:ln w="19080">
                    <a:solidFill>
                      <a:srgbClr val="0000cc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4" name=""/>
                  <p:cNvGrpSpPr/>
                  <p:nvPr/>
                </p:nvGrpSpPr>
                <p:grpSpPr>
                  <a:xfrm>
                    <a:off x="6821640" y="4463280"/>
                    <a:ext cx="439920" cy="477360"/>
                    <a:chOff x="6821640" y="4463280"/>
                    <a:chExt cx="439920" cy="477360"/>
                  </a:xfrm>
                </p:grpSpPr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7152840" y="4892760"/>
                      <a:ext cx="417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87">
                          <a:moveTo>
                            <a:pt x="83" y="11"/>
                          </a:moveTo>
                          <a:lnTo>
                            <a:pt x="81" y="10"/>
                          </a:lnTo>
                          <a:lnTo>
                            <a:pt x="77" y="9"/>
                          </a:lnTo>
                          <a:lnTo>
                            <a:pt x="70" y="7"/>
                          </a:lnTo>
                          <a:lnTo>
                            <a:pt x="62" y="4"/>
                          </a:lnTo>
                          <a:lnTo>
                            <a:pt x="54" y="2"/>
                          </a:lnTo>
                          <a:lnTo>
                            <a:pt x="45" y="0"/>
                          </a:lnTo>
                          <a:lnTo>
                            <a:pt x="36" y="0"/>
                          </a:lnTo>
                          <a:lnTo>
                            <a:pt x="29" y="0"/>
                          </a:lnTo>
                          <a:lnTo>
                            <a:pt x="19" y="4"/>
                          </a:lnTo>
                          <a:lnTo>
                            <a:pt x="10" y="14"/>
                          </a:lnTo>
                          <a:lnTo>
                            <a:pt x="5" y="28"/>
                          </a:lnTo>
                          <a:lnTo>
                            <a:pt x="0" y="42"/>
                          </a:lnTo>
                          <a:lnTo>
                            <a:pt x="0" y="58"/>
                          </a:lnTo>
                          <a:lnTo>
                            <a:pt x="3" y="71"/>
                          </a:lnTo>
                          <a:lnTo>
                            <a:pt x="10" y="81"/>
                          </a:lnTo>
                          <a:lnTo>
                            <a:pt x="21" y="87"/>
                          </a:lnTo>
                          <a:lnTo>
                            <a:pt x="35" y="86"/>
                          </a:lnTo>
                          <a:lnTo>
                            <a:pt x="47" y="78"/>
                          </a:lnTo>
                          <a:lnTo>
                            <a:pt x="57" y="67"/>
                          </a:lnTo>
                          <a:lnTo>
                            <a:pt x="66" y="52"/>
                          </a:lnTo>
                          <a:lnTo>
                            <a:pt x="74" y="37"/>
                          </a:lnTo>
                          <a:lnTo>
                            <a:pt x="78" y="24"/>
                          </a:lnTo>
                          <a:lnTo>
                            <a:pt x="81" y="14"/>
                          </a:lnTo>
                          <a:lnTo>
                            <a:pt x="83" y="11"/>
                          </a:lnTo>
                          <a:close/>
                        </a:path>
                      </a:pathLst>
                    </a:custGeom>
                    <a:solidFill>
                      <a:srgbClr val="bfd8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6823440" y="4778640"/>
                      <a:ext cx="1742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94">
                          <a:moveTo>
                            <a:pt x="343" y="143"/>
                          </a:moveTo>
                          <a:lnTo>
                            <a:pt x="341" y="142"/>
                          </a:lnTo>
                          <a:lnTo>
                            <a:pt x="335" y="137"/>
                          </a:lnTo>
                          <a:lnTo>
                            <a:pt x="327" y="131"/>
                          </a:lnTo>
                          <a:lnTo>
                            <a:pt x="314" y="123"/>
                          </a:lnTo>
                          <a:lnTo>
                            <a:pt x="301" y="114"/>
                          </a:lnTo>
                          <a:lnTo>
                            <a:pt x="284" y="103"/>
                          </a:lnTo>
                          <a:lnTo>
                            <a:pt x="268" y="90"/>
                          </a:lnTo>
                          <a:lnTo>
                            <a:pt x="249" y="78"/>
                          </a:lnTo>
                          <a:lnTo>
                            <a:pt x="230" y="66"/>
                          </a:lnTo>
                          <a:lnTo>
                            <a:pt x="211" y="54"/>
                          </a:lnTo>
                          <a:lnTo>
                            <a:pt x="193" y="42"/>
                          </a:lnTo>
                          <a:lnTo>
                            <a:pt x="175" y="31"/>
                          </a:lnTo>
                          <a:lnTo>
                            <a:pt x="160" y="21"/>
                          </a:lnTo>
                          <a:lnTo>
                            <a:pt x="145" y="14"/>
                          </a:lnTo>
                          <a:lnTo>
                            <a:pt x="134" y="8"/>
                          </a:lnTo>
                          <a:lnTo>
                            <a:pt x="125" y="4"/>
                          </a:lnTo>
                          <a:lnTo>
                            <a:pt x="111" y="0"/>
                          </a:lnTo>
                          <a:lnTo>
                            <a:pt x="97" y="0"/>
                          </a:lnTo>
                          <a:lnTo>
                            <a:pt x="85" y="4"/>
                          </a:lnTo>
                          <a:lnTo>
                            <a:pt x="74" y="9"/>
                          </a:lnTo>
                          <a:lnTo>
                            <a:pt x="64" y="18"/>
                          </a:lnTo>
                          <a:lnTo>
                            <a:pt x="55" y="28"/>
                          </a:lnTo>
                          <a:lnTo>
                            <a:pt x="46" y="40"/>
                          </a:lnTo>
                          <a:lnTo>
                            <a:pt x="39" y="54"/>
                          </a:lnTo>
                          <a:lnTo>
                            <a:pt x="34" y="64"/>
                          </a:lnTo>
                          <a:lnTo>
                            <a:pt x="28" y="74"/>
                          </a:lnTo>
                          <a:lnTo>
                            <a:pt x="23" y="85"/>
                          </a:lnTo>
                          <a:lnTo>
                            <a:pt x="17" y="96"/>
                          </a:lnTo>
                          <a:lnTo>
                            <a:pt x="11" y="108"/>
                          </a:lnTo>
                          <a:lnTo>
                            <a:pt x="7" y="119"/>
                          </a:lnTo>
                          <a:lnTo>
                            <a:pt x="4" y="131"/>
                          </a:lnTo>
                          <a:lnTo>
                            <a:pt x="1" y="143"/>
                          </a:lnTo>
                          <a:lnTo>
                            <a:pt x="0" y="145"/>
                          </a:lnTo>
                          <a:lnTo>
                            <a:pt x="0" y="147"/>
                          </a:lnTo>
                          <a:lnTo>
                            <a:pt x="0" y="148"/>
                          </a:lnTo>
                          <a:lnTo>
                            <a:pt x="0" y="150"/>
                          </a:lnTo>
                          <a:lnTo>
                            <a:pt x="1" y="159"/>
                          </a:lnTo>
                          <a:lnTo>
                            <a:pt x="5" y="168"/>
                          </a:lnTo>
                          <a:lnTo>
                            <a:pt x="9" y="176"/>
                          </a:lnTo>
                          <a:lnTo>
                            <a:pt x="16" y="184"/>
                          </a:lnTo>
                          <a:lnTo>
                            <a:pt x="26" y="189"/>
                          </a:lnTo>
                          <a:lnTo>
                            <a:pt x="40" y="193"/>
                          </a:lnTo>
                          <a:lnTo>
                            <a:pt x="60" y="194"/>
                          </a:lnTo>
                          <a:lnTo>
                            <a:pt x="83" y="194"/>
                          </a:lnTo>
                          <a:lnTo>
                            <a:pt x="108" y="190"/>
                          </a:lnTo>
                          <a:lnTo>
                            <a:pt x="136" y="187"/>
                          </a:lnTo>
                          <a:lnTo>
                            <a:pt x="165" y="183"/>
                          </a:lnTo>
                          <a:lnTo>
                            <a:pt x="194" y="177"/>
                          </a:lnTo>
                          <a:lnTo>
                            <a:pt x="222" y="172"/>
                          </a:lnTo>
                          <a:lnTo>
                            <a:pt x="250" y="166"/>
                          </a:lnTo>
                          <a:lnTo>
                            <a:pt x="275" y="159"/>
                          </a:lnTo>
                          <a:lnTo>
                            <a:pt x="298" y="155"/>
                          </a:lnTo>
                          <a:lnTo>
                            <a:pt x="317" y="149"/>
                          </a:lnTo>
                          <a:lnTo>
                            <a:pt x="331" y="146"/>
                          </a:lnTo>
                          <a:lnTo>
                            <a:pt x="340" y="144"/>
                          </a:lnTo>
                          <a:lnTo>
                            <a:pt x="343" y="143"/>
                          </a:lnTo>
                          <a:close/>
                        </a:path>
                      </a:pathLst>
                    </a:custGeom>
                    <a:solidFill>
                      <a:srgbClr val="bfd8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6868440" y="4512960"/>
                      <a:ext cx="255600" cy="32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1" h="742">
                          <a:moveTo>
                            <a:pt x="433" y="742"/>
                          </a:moveTo>
                          <a:lnTo>
                            <a:pt x="430" y="739"/>
                          </a:lnTo>
                          <a:lnTo>
                            <a:pt x="420" y="733"/>
                          </a:lnTo>
                          <a:lnTo>
                            <a:pt x="404" y="722"/>
                          </a:lnTo>
                          <a:lnTo>
                            <a:pt x="383" y="708"/>
                          </a:lnTo>
                          <a:lnTo>
                            <a:pt x="360" y="692"/>
                          </a:lnTo>
                          <a:lnTo>
                            <a:pt x="332" y="673"/>
                          </a:lnTo>
                          <a:lnTo>
                            <a:pt x="303" y="651"/>
                          </a:lnTo>
                          <a:lnTo>
                            <a:pt x="272" y="630"/>
                          </a:lnTo>
                          <a:lnTo>
                            <a:pt x="241" y="609"/>
                          </a:lnTo>
                          <a:lnTo>
                            <a:pt x="210" y="588"/>
                          </a:lnTo>
                          <a:lnTo>
                            <a:pt x="182" y="567"/>
                          </a:lnTo>
                          <a:lnTo>
                            <a:pt x="155" y="548"/>
                          </a:lnTo>
                          <a:lnTo>
                            <a:pt x="131" y="530"/>
                          </a:lnTo>
                          <a:lnTo>
                            <a:pt x="111" y="516"/>
                          </a:lnTo>
                          <a:lnTo>
                            <a:pt x="97" y="503"/>
                          </a:lnTo>
                          <a:lnTo>
                            <a:pt x="88" y="496"/>
                          </a:lnTo>
                          <a:lnTo>
                            <a:pt x="78" y="486"/>
                          </a:lnTo>
                          <a:lnTo>
                            <a:pt x="65" y="473"/>
                          </a:lnTo>
                          <a:lnTo>
                            <a:pt x="50" y="459"/>
                          </a:lnTo>
                          <a:lnTo>
                            <a:pt x="36" y="444"/>
                          </a:lnTo>
                          <a:lnTo>
                            <a:pt x="22" y="428"/>
                          </a:lnTo>
                          <a:lnTo>
                            <a:pt x="11" y="411"/>
                          </a:lnTo>
                          <a:lnTo>
                            <a:pt x="3" y="393"/>
                          </a:lnTo>
                          <a:lnTo>
                            <a:pt x="0" y="377"/>
                          </a:lnTo>
                          <a:lnTo>
                            <a:pt x="1" y="365"/>
                          </a:lnTo>
                          <a:lnTo>
                            <a:pt x="4" y="355"/>
                          </a:lnTo>
                          <a:lnTo>
                            <a:pt x="11" y="345"/>
                          </a:lnTo>
                          <a:lnTo>
                            <a:pt x="20" y="335"/>
                          </a:lnTo>
                          <a:lnTo>
                            <a:pt x="43" y="318"/>
                          </a:lnTo>
                          <a:lnTo>
                            <a:pt x="64" y="303"/>
                          </a:lnTo>
                          <a:lnTo>
                            <a:pt x="82" y="292"/>
                          </a:lnTo>
                          <a:lnTo>
                            <a:pt x="99" y="283"/>
                          </a:lnTo>
                          <a:lnTo>
                            <a:pt x="112" y="276"/>
                          </a:lnTo>
                          <a:lnTo>
                            <a:pt x="124" y="271"/>
                          </a:lnTo>
                          <a:lnTo>
                            <a:pt x="131" y="269"/>
                          </a:lnTo>
                          <a:lnTo>
                            <a:pt x="136" y="266"/>
                          </a:lnTo>
                          <a:lnTo>
                            <a:pt x="140" y="256"/>
                          </a:lnTo>
                          <a:lnTo>
                            <a:pt x="148" y="233"/>
                          </a:lnTo>
                          <a:lnTo>
                            <a:pt x="159" y="200"/>
                          </a:lnTo>
                          <a:lnTo>
                            <a:pt x="172" y="160"/>
                          </a:lnTo>
                          <a:lnTo>
                            <a:pt x="184" y="118"/>
                          </a:lnTo>
                          <a:lnTo>
                            <a:pt x="196" y="79"/>
                          </a:lnTo>
                          <a:lnTo>
                            <a:pt x="206" y="46"/>
                          </a:lnTo>
                          <a:lnTo>
                            <a:pt x="213" y="24"/>
                          </a:lnTo>
                          <a:lnTo>
                            <a:pt x="219" y="10"/>
                          </a:lnTo>
                          <a:lnTo>
                            <a:pt x="229" y="4"/>
                          </a:lnTo>
                          <a:lnTo>
                            <a:pt x="241" y="0"/>
                          </a:lnTo>
                          <a:lnTo>
                            <a:pt x="252" y="0"/>
                          </a:lnTo>
                          <a:lnTo>
                            <a:pt x="263" y="3"/>
                          </a:lnTo>
                          <a:lnTo>
                            <a:pt x="272" y="6"/>
                          </a:lnTo>
                          <a:lnTo>
                            <a:pt x="278" y="8"/>
                          </a:lnTo>
                          <a:lnTo>
                            <a:pt x="281" y="9"/>
                          </a:lnTo>
                          <a:lnTo>
                            <a:pt x="278" y="24"/>
                          </a:lnTo>
                          <a:lnTo>
                            <a:pt x="273" y="57"/>
                          </a:lnTo>
                          <a:lnTo>
                            <a:pt x="267" y="95"/>
                          </a:lnTo>
                          <a:lnTo>
                            <a:pt x="263" y="123"/>
                          </a:lnTo>
                          <a:lnTo>
                            <a:pt x="258" y="154"/>
                          </a:lnTo>
                          <a:lnTo>
                            <a:pt x="256" y="174"/>
                          </a:lnTo>
                          <a:lnTo>
                            <a:pt x="257" y="184"/>
                          </a:lnTo>
                          <a:lnTo>
                            <a:pt x="261" y="186"/>
                          </a:lnTo>
                          <a:lnTo>
                            <a:pt x="267" y="183"/>
                          </a:lnTo>
                          <a:lnTo>
                            <a:pt x="277" y="174"/>
                          </a:lnTo>
                          <a:lnTo>
                            <a:pt x="291" y="163"/>
                          </a:lnTo>
                          <a:lnTo>
                            <a:pt x="308" y="151"/>
                          </a:lnTo>
                          <a:lnTo>
                            <a:pt x="317" y="146"/>
                          </a:lnTo>
                          <a:lnTo>
                            <a:pt x="327" y="143"/>
                          </a:lnTo>
                          <a:lnTo>
                            <a:pt x="340" y="141"/>
                          </a:lnTo>
                          <a:lnTo>
                            <a:pt x="352" y="140"/>
                          </a:lnTo>
                          <a:lnTo>
                            <a:pt x="366" y="140"/>
                          </a:lnTo>
                          <a:lnTo>
                            <a:pt x="380" y="141"/>
                          </a:lnTo>
                          <a:lnTo>
                            <a:pt x="394" y="143"/>
                          </a:lnTo>
                          <a:lnTo>
                            <a:pt x="410" y="146"/>
                          </a:lnTo>
                          <a:lnTo>
                            <a:pt x="423" y="151"/>
                          </a:lnTo>
                          <a:lnTo>
                            <a:pt x="438" y="156"/>
                          </a:lnTo>
                          <a:lnTo>
                            <a:pt x="451" y="163"/>
                          </a:lnTo>
                          <a:lnTo>
                            <a:pt x="463" y="171"/>
                          </a:lnTo>
                          <a:lnTo>
                            <a:pt x="473" y="180"/>
                          </a:lnTo>
                          <a:lnTo>
                            <a:pt x="483" y="190"/>
                          </a:lnTo>
                          <a:lnTo>
                            <a:pt x="491" y="200"/>
                          </a:lnTo>
                          <a:lnTo>
                            <a:pt x="497" y="211"/>
                          </a:lnTo>
                          <a:lnTo>
                            <a:pt x="501" y="252"/>
                          </a:lnTo>
                          <a:lnTo>
                            <a:pt x="497" y="321"/>
                          </a:lnTo>
                          <a:lnTo>
                            <a:pt x="487" y="407"/>
                          </a:lnTo>
                          <a:lnTo>
                            <a:pt x="473" y="500"/>
                          </a:lnTo>
                          <a:lnTo>
                            <a:pt x="460" y="590"/>
                          </a:lnTo>
                          <a:lnTo>
                            <a:pt x="447" y="667"/>
                          </a:lnTo>
                          <a:lnTo>
                            <a:pt x="436" y="722"/>
                          </a:lnTo>
                          <a:lnTo>
                            <a:pt x="433" y="742"/>
                          </a:lnTo>
                          <a:close/>
                        </a:path>
                      </a:pathLst>
                    </a:custGeom>
                    <a:solidFill>
                      <a:srgbClr val="bfd8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6821640" y="4675320"/>
                      <a:ext cx="76320" cy="12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287">
                          <a:moveTo>
                            <a:pt x="101" y="276"/>
                          </a:moveTo>
                          <a:lnTo>
                            <a:pt x="92" y="271"/>
                          </a:lnTo>
                          <a:lnTo>
                            <a:pt x="84" y="264"/>
                          </a:lnTo>
                          <a:lnTo>
                            <a:pt x="76" y="256"/>
                          </a:lnTo>
                          <a:lnTo>
                            <a:pt x="69" y="248"/>
                          </a:lnTo>
                          <a:lnTo>
                            <a:pt x="62" y="240"/>
                          </a:lnTo>
                          <a:lnTo>
                            <a:pt x="56" y="231"/>
                          </a:lnTo>
                          <a:lnTo>
                            <a:pt x="50" y="222"/>
                          </a:lnTo>
                          <a:lnTo>
                            <a:pt x="43" y="212"/>
                          </a:lnTo>
                          <a:lnTo>
                            <a:pt x="32" y="193"/>
                          </a:lnTo>
                          <a:lnTo>
                            <a:pt x="24" y="173"/>
                          </a:lnTo>
                          <a:lnTo>
                            <a:pt x="18" y="153"/>
                          </a:lnTo>
                          <a:lnTo>
                            <a:pt x="14" y="132"/>
                          </a:lnTo>
                          <a:lnTo>
                            <a:pt x="13" y="105"/>
                          </a:lnTo>
                          <a:lnTo>
                            <a:pt x="14" y="79"/>
                          </a:lnTo>
                          <a:lnTo>
                            <a:pt x="22" y="55"/>
                          </a:lnTo>
                          <a:lnTo>
                            <a:pt x="38" y="34"/>
                          </a:lnTo>
                          <a:lnTo>
                            <a:pt x="49" y="25"/>
                          </a:lnTo>
                          <a:lnTo>
                            <a:pt x="61" y="19"/>
                          </a:lnTo>
                          <a:lnTo>
                            <a:pt x="75" y="15"/>
                          </a:lnTo>
                          <a:lnTo>
                            <a:pt x="88" y="12"/>
                          </a:lnTo>
                          <a:lnTo>
                            <a:pt x="101" y="11"/>
                          </a:lnTo>
                          <a:lnTo>
                            <a:pt x="115" y="11"/>
                          </a:lnTo>
                          <a:lnTo>
                            <a:pt x="129" y="11"/>
                          </a:lnTo>
                          <a:lnTo>
                            <a:pt x="143" y="12"/>
                          </a:lnTo>
                          <a:lnTo>
                            <a:pt x="145" y="12"/>
                          </a:lnTo>
                          <a:lnTo>
                            <a:pt x="147" y="11"/>
                          </a:lnTo>
                          <a:lnTo>
                            <a:pt x="148" y="9"/>
                          </a:lnTo>
                          <a:lnTo>
                            <a:pt x="149" y="7"/>
                          </a:lnTo>
                          <a:lnTo>
                            <a:pt x="149" y="5"/>
                          </a:lnTo>
                          <a:lnTo>
                            <a:pt x="148" y="4"/>
                          </a:lnTo>
                          <a:lnTo>
                            <a:pt x="146" y="1"/>
                          </a:lnTo>
                          <a:lnTo>
                            <a:pt x="144" y="1"/>
                          </a:lnTo>
                          <a:lnTo>
                            <a:pt x="131" y="0"/>
                          </a:lnTo>
                          <a:lnTo>
                            <a:pt x="118" y="0"/>
                          </a:lnTo>
                          <a:lnTo>
                            <a:pt x="106" y="0"/>
                          </a:lnTo>
                          <a:lnTo>
                            <a:pt x="92" y="0"/>
                          </a:lnTo>
                          <a:lnTo>
                            <a:pt x="80" y="2"/>
                          </a:lnTo>
                          <a:lnTo>
                            <a:pt x="68" y="5"/>
                          </a:lnTo>
                          <a:lnTo>
                            <a:pt x="56" y="9"/>
                          </a:lnTo>
                          <a:lnTo>
                            <a:pt x="43" y="15"/>
                          </a:lnTo>
                          <a:lnTo>
                            <a:pt x="35" y="21"/>
                          </a:lnTo>
                          <a:lnTo>
                            <a:pt x="26" y="29"/>
                          </a:lnTo>
                          <a:lnTo>
                            <a:pt x="19" y="37"/>
                          </a:lnTo>
                          <a:lnTo>
                            <a:pt x="13" y="46"/>
                          </a:lnTo>
                          <a:lnTo>
                            <a:pt x="9" y="56"/>
                          </a:lnTo>
                          <a:lnTo>
                            <a:pt x="4" y="67"/>
                          </a:lnTo>
                          <a:lnTo>
                            <a:pt x="2" y="77"/>
                          </a:lnTo>
                          <a:lnTo>
                            <a:pt x="1" y="88"/>
                          </a:lnTo>
                          <a:lnTo>
                            <a:pt x="0" y="93"/>
                          </a:lnTo>
                          <a:lnTo>
                            <a:pt x="0" y="97"/>
                          </a:lnTo>
                          <a:lnTo>
                            <a:pt x="0" y="102"/>
                          </a:lnTo>
                          <a:lnTo>
                            <a:pt x="0" y="106"/>
                          </a:lnTo>
                          <a:lnTo>
                            <a:pt x="2" y="133"/>
                          </a:lnTo>
                          <a:lnTo>
                            <a:pt x="8" y="158"/>
                          </a:lnTo>
                          <a:lnTo>
                            <a:pt x="16" y="183"/>
                          </a:lnTo>
                          <a:lnTo>
                            <a:pt x="27" y="207"/>
                          </a:lnTo>
                          <a:lnTo>
                            <a:pt x="40" y="229"/>
                          </a:lnTo>
                          <a:lnTo>
                            <a:pt x="56" y="251"/>
                          </a:lnTo>
                          <a:lnTo>
                            <a:pt x="75" y="270"/>
                          </a:lnTo>
                          <a:lnTo>
                            <a:pt x="95" y="286"/>
                          </a:lnTo>
                          <a:lnTo>
                            <a:pt x="97" y="287"/>
                          </a:lnTo>
                          <a:lnTo>
                            <a:pt x="99" y="287"/>
                          </a:lnTo>
                          <a:lnTo>
                            <a:pt x="100" y="286"/>
                          </a:lnTo>
                          <a:lnTo>
                            <a:pt x="102" y="285"/>
                          </a:lnTo>
                          <a:lnTo>
                            <a:pt x="104" y="283"/>
                          </a:lnTo>
                          <a:lnTo>
                            <a:pt x="104" y="281"/>
                          </a:lnTo>
                          <a:lnTo>
                            <a:pt x="104" y="278"/>
                          </a:lnTo>
                          <a:lnTo>
                            <a:pt x="101" y="276"/>
                          </a:lnTo>
                          <a:lnTo>
                            <a:pt x="101" y="2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7037640" y="4828320"/>
                      <a:ext cx="17100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" h="176">
                          <a:moveTo>
                            <a:pt x="3" y="143"/>
                          </a:moveTo>
                          <a:lnTo>
                            <a:pt x="19" y="150"/>
                          </a:lnTo>
                          <a:lnTo>
                            <a:pt x="35" y="157"/>
                          </a:lnTo>
                          <a:lnTo>
                            <a:pt x="50" y="161"/>
                          </a:lnTo>
                          <a:lnTo>
                            <a:pt x="67" y="166"/>
                          </a:lnTo>
                          <a:lnTo>
                            <a:pt x="84" y="168"/>
                          </a:lnTo>
                          <a:lnTo>
                            <a:pt x="99" y="168"/>
                          </a:lnTo>
                          <a:lnTo>
                            <a:pt x="116" y="167"/>
                          </a:lnTo>
                          <a:lnTo>
                            <a:pt x="133" y="162"/>
                          </a:lnTo>
                          <a:lnTo>
                            <a:pt x="141" y="158"/>
                          </a:lnTo>
                          <a:lnTo>
                            <a:pt x="149" y="151"/>
                          </a:lnTo>
                          <a:lnTo>
                            <a:pt x="155" y="142"/>
                          </a:lnTo>
                          <a:lnTo>
                            <a:pt x="158" y="132"/>
                          </a:lnTo>
                          <a:lnTo>
                            <a:pt x="156" y="109"/>
                          </a:lnTo>
                          <a:lnTo>
                            <a:pt x="148" y="86"/>
                          </a:lnTo>
                          <a:lnTo>
                            <a:pt x="138" y="63"/>
                          </a:lnTo>
                          <a:lnTo>
                            <a:pt x="131" y="40"/>
                          </a:lnTo>
                          <a:lnTo>
                            <a:pt x="131" y="34"/>
                          </a:lnTo>
                          <a:lnTo>
                            <a:pt x="134" y="29"/>
                          </a:lnTo>
                          <a:lnTo>
                            <a:pt x="137" y="23"/>
                          </a:lnTo>
                          <a:lnTo>
                            <a:pt x="143" y="20"/>
                          </a:lnTo>
                          <a:lnTo>
                            <a:pt x="159" y="14"/>
                          </a:lnTo>
                          <a:lnTo>
                            <a:pt x="177" y="10"/>
                          </a:lnTo>
                          <a:lnTo>
                            <a:pt x="194" y="9"/>
                          </a:lnTo>
                          <a:lnTo>
                            <a:pt x="212" y="9"/>
                          </a:lnTo>
                          <a:lnTo>
                            <a:pt x="228" y="12"/>
                          </a:lnTo>
                          <a:lnTo>
                            <a:pt x="246" y="18"/>
                          </a:lnTo>
                          <a:lnTo>
                            <a:pt x="264" y="26"/>
                          </a:lnTo>
                          <a:lnTo>
                            <a:pt x="283" y="36"/>
                          </a:lnTo>
                          <a:lnTo>
                            <a:pt x="292" y="41"/>
                          </a:lnTo>
                          <a:lnTo>
                            <a:pt x="300" y="47"/>
                          </a:lnTo>
                          <a:lnTo>
                            <a:pt x="306" y="53"/>
                          </a:lnTo>
                          <a:lnTo>
                            <a:pt x="312" y="60"/>
                          </a:lnTo>
                          <a:lnTo>
                            <a:pt x="317" y="68"/>
                          </a:lnTo>
                          <a:lnTo>
                            <a:pt x="321" y="77"/>
                          </a:lnTo>
                          <a:lnTo>
                            <a:pt x="324" y="87"/>
                          </a:lnTo>
                          <a:lnTo>
                            <a:pt x="325" y="97"/>
                          </a:lnTo>
                          <a:lnTo>
                            <a:pt x="324" y="116"/>
                          </a:lnTo>
                          <a:lnTo>
                            <a:pt x="319" y="135"/>
                          </a:lnTo>
                          <a:lnTo>
                            <a:pt x="309" y="151"/>
                          </a:lnTo>
                          <a:lnTo>
                            <a:pt x="296" y="166"/>
                          </a:lnTo>
                          <a:lnTo>
                            <a:pt x="295" y="168"/>
                          </a:lnTo>
                          <a:lnTo>
                            <a:pt x="295" y="170"/>
                          </a:lnTo>
                          <a:lnTo>
                            <a:pt x="295" y="172"/>
                          </a:lnTo>
                          <a:lnTo>
                            <a:pt x="296" y="175"/>
                          </a:lnTo>
                          <a:lnTo>
                            <a:pt x="298" y="176"/>
                          </a:lnTo>
                          <a:lnTo>
                            <a:pt x="301" y="176"/>
                          </a:lnTo>
                          <a:lnTo>
                            <a:pt x="303" y="176"/>
                          </a:lnTo>
                          <a:lnTo>
                            <a:pt x="305" y="175"/>
                          </a:lnTo>
                          <a:lnTo>
                            <a:pt x="319" y="159"/>
                          </a:lnTo>
                          <a:lnTo>
                            <a:pt x="329" y="141"/>
                          </a:lnTo>
                          <a:lnTo>
                            <a:pt x="334" y="122"/>
                          </a:lnTo>
                          <a:lnTo>
                            <a:pt x="336" y="102"/>
                          </a:lnTo>
                          <a:lnTo>
                            <a:pt x="336" y="100"/>
                          </a:lnTo>
                          <a:lnTo>
                            <a:pt x="336" y="98"/>
                          </a:lnTo>
                          <a:lnTo>
                            <a:pt x="336" y="97"/>
                          </a:lnTo>
                          <a:lnTo>
                            <a:pt x="336" y="95"/>
                          </a:lnTo>
                          <a:lnTo>
                            <a:pt x="334" y="83"/>
                          </a:lnTo>
                          <a:lnTo>
                            <a:pt x="331" y="72"/>
                          </a:lnTo>
                          <a:lnTo>
                            <a:pt x="326" y="63"/>
                          </a:lnTo>
                          <a:lnTo>
                            <a:pt x="320" y="53"/>
                          </a:lnTo>
                          <a:lnTo>
                            <a:pt x="313" y="46"/>
                          </a:lnTo>
                          <a:lnTo>
                            <a:pt x="304" y="38"/>
                          </a:lnTo>
                          <a:lnTo>
                            <a:pt x="295" y="31"/>
                          </a:lnTo>
                          <a:lnTo>
                            <a:pt x="286" y="26"/>
                          </a:lnTo>
                          <a:lnTo>
                            <a:pt x="277" y="20"/>
                          </a:lnTo>
                          <a:lnTo>
                            <a:pt x="268" y="15"/>
                          </a:lnTo>
                          <a:lnTo>
                            <a:pt x="258" y="12"/>
                          </a:lnTo>
                          <a:lnTo>
                            <a:pt x="249" y="8"/>
                          </a:lnTo>
                          <a:lnTo>
                            <a:pt x="241" y="5"/>
                          </a:lnTo>
                          <a:lnTo>
                            <a:pt x="231" y="3"/>
                          </a:lnTo>
                          <a:lnTo>
                            <a:pt x="221" y="1"/>
                          </a:lnTo>
                          <a:lnTo>
                            <a:pt x="211" y="0"/>
                          </a:lnTo>
                          <a:lnTo>
                            <a:pt x="199" y="0"/>
                          </a:lnTo>
                          <a:lnTo>
                            <a:pt x="187" y="0"/>
                          </a:lnTo>
                          <a:lnTo>
                            <a:pt x="174" y="1"/>
                          </a:lnTo>
                          <a:lnTo>
                            <a:pt x="160" y="3"/>
                          </a:lnTo>
                          <a:lnTo>
                            <a:pt x="148" y="5"/>
                          </a:lnTo>
                          <a:lnTo>
                            <a:pt x="136" y="10"/>
                          </a:lnTo>
                          <a:lnTo>
                            <a:pt x="127" y="15"/>
                          </a:lnTo>
                          <a:lnTo>
                            <a:pt x="121" y="23"/>
                          </a:lnTo>
                          <a:lnTo>
                            <a:pt x="119" y="37"/>
                          </a:lnTo>
                          <a:lnTo>
                            <a:pt x="121" y="50"/>
                          </a:lnTo>
                          <a:lnTo>
                            <a:pt x="125" y="63"/>
                          </a:lnTo>
                          <a:lnTo>
                            <a:pt x="130" y="76"/>
                          </a:lnTo>
                          <a:lnTo>
                            <a:pt x="136" y="89"/>
                          </a:lnTo>
                          <a:lnTo>
                            <a:pt x="141" y="101"/>
                          </a:lnTo>
                          <a:lnTo>
                            <a:pt x="146" y="115"/>
                          </a:lnTo>
                          <a:lnTo>
                            <a:pt x="147" y="128"/>
                          </a:lnTo>
                          <a:lnTo>
                            <a:pt x="146" y="135"/>
                          </a:lnTo>
                          <a:lnTo>
                            <a:pt x="143" y="141"/>
                          </a:lnTo>
                          <a:lnTo>
                            <a:pt x="138" y="147"/>
                          </a:lnTo>
                          <a:lnTo>
                            <a:pt x="130" y="150"/>
                          </a:lnTo>
                          <a:lnTo>
                            <a:pt x="115" y="155"/>
                          </a:lnTo>
                          <a:lnTo>
                            <a:pt x="99" y="156"/>
                          </a:lnTo>
                          <a:lnTo>
                            <a:pt x="84" y="156"/>
                          </a:lnTo>
                          <a:lnTo>
                            <a:pt x="68" y="153"/>
                          </a:lnTo>
                          <a:lnTo>
                            <a:pt x="52" y="150"/>
                          </a:lnTo>
                          <a:lnTo>
                            <a:pt x="38" y="145"/>
                          </a:lnTo>
                          <a:lnTo>
                            <a:pt x="23" y="139"/>
                          </a:lnTo>
                          <a:lnTo>
                            <a:pt x="9" y="132"/>
                          </a:lnTo>
                          <a:lnTo>
                            <a:pt x="7" y="132"/>
                          </a:lnTo>
                          <a:lnTo>
                            <a:pt x="5" y="132"/>
                          </a:lnTo>
                          <a:lnTo>
                            <a:pt x="2" y="133"/>
                          </a:lnTo>
                          <a:lnTo>
                            <a:pt x="1" y="136"/>
                          </a:lnTo>
                          <a:lnTo>
                            <a:pt x="0" y="138"/>
                          </a:lnTo>
                          <a:lnTo>
                            <a:pt x="0" y="140"/>
                          </a:lnTo>
                          <a:lnTo>
                            <a:pt x="1" y="142"/>
                          </a:lnTo>
                          <a:lnTo>
                            <a:pt x="3" y="143"/>
                          </a:lnTo>
                          <a:lnTo>
                            <a:pt x="3" y="1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6877440" y="4574160"/>
                      <a:ext cx="3841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5" h="607">
                          <a:moveTo>
                            <a:pt x="429" y="0"/>
                          </a:moveTo>
                          <a:lnTo>
                            <a:pt x="0" y="197"/>
                          </a:lnTo>
                          <a:lnTo>
                            <a:pt x="28" y="299"/>
                          </a:lnTo>
                          <a:lnTo>
                            <a:pt x="352" y="607"/>
                          </a:lnTo>
                          <a:lnTo>
                            <a:pt x="719" y="349"/>
                          </a:lnTo>
                          <a:lnTo>
                            <a:pt x="755" y="240"/>
                          </a:lnTo>
                          <a:lnTo>
                            <a:pt x="42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7066080" y="4615920"/>
                      <a:ext cx="144720" cy="11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273">
                          <a:moveTo>
                            <a:pt x="284" y="104"/>
                          </a:moveTo>
                          <a:lnTo>
                            <a:pt x="142" y="0"/>
                          </a:lnTo>
                          <a:lnTo>
                            <a:pt x="0" y="191"/>
                          </a:lnTo>
                          <a:lnTo>
                            <a:pt x="49" y="273"/>
                          </a:lnTo>
                          <a:lnTo>
                            <a:pt x="123" y="261"/>
                          </a:lnTo>
                          <a:lnTo>
                            <a:pt x="284" y="104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7018200" y="4660560"/>
                      <a:ext cx="2239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9" h="279">
                          <a:moveTo>
                            <a:pt x="378" y="0"/>
                          </a:moveTo>
                          <a:lnTo>
                            <a:pt x="217" y="157"/>
                          </a:lnTo>
                          <a:lnTo>
                            <a:pt x="143" y="169"/>
                          </a:lnTo>
                          <a:lnTo>
                            <a:pt x="151" y="182"/>
                          </a:lnTo>
                          <a:lnTo>
                            <a:pt x="121" y="203"/>
                          </a:lnTo>
                          <a:lnTo>
                            <a:pt x="0" y="213"/>
                          </a:lnTo>
                          <a:lnTo>
                            <a:pt x="81" y="279"/>
                          </a:lnTo>
                          <a:lnTo>
                            <a:pt x="439" y="44"/>
                          </a:lnTo>
                          <a:lnTo>
                            <a:pt x="3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6988680" y="4698720"/>
                      <a:ext cx="1058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126">
                          <a:moveTo>
                            <a:pt x="210" y="95"/>
                          </a:moveTo>
                          <a:lnTo>
                            <a:pt x="153" y="0"/>
                          </a:lnTo>
                          <a:lnTo>
                            <a:pt x="102" y="88"/>
                          </a:lnTo>
                          <a:lnTo>
                            <a:pt x="0" y="73"/>
                          </a:lnTo>
                          <a:lnTo>
                            <a:pt x="59" y="126"/>
                          </a:lnTo>
                          <a:lnTo>
                            <a:pt x="180" y="116"/>
                          </a:lnTo>
                          <a:lnTo>
                            <a:pt x="210" y="95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6900840" y="4600080"/>
                      <a:ext cx="20988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314">
                          <a:moveTo>
                            <a:pt x="413" y="69"/>
                          </a:moveTo>
                          <a:lnTo>
                            <a:pt x="309" y="0"/>
                          </a:lnTo>
                          <a:lnTo>
                            <a:pt x="0" y="147"/>
                          </a:lnTo>
                          <a:lnTo>
                            <a:pt x="171" y="299"/>
                          </a:lnTo>
                          <a:lnTo>
                            <a:pt x="273" y="314"/>
                          </a:lnTo>
                          <a:lnTo>
                            <a:pt x="413" y="69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6967080" y="4657680"/>
                      <a:ext cx="1231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4" h="192">
                          <a:moveTo>
                            <a:pt x="22" y="0"/>
                          </a:moveTo>
                          <a:lnTo>
                            <a:pt x="20" y="3"/>
                          </a:lnTo>
                          <a:lnTo>
                            <a:pt x="13" y="11"/>
                          </a:lnTo>
                          <a:lnTo>
                            <a:pt x="7" y="24"/>
                          </a:lnTo>
                          <a:lnTo>
                            <a:pt x="1" y="40"/>
                          </a:lnTo>
                          <a:lnTo>
                            <a:pt x="0" y="61"/>
                          </a:lnTo>
                          <a:lnTo>
                            <a:pt x="7" y="86"/>
                          </a:lnTo>
                          <a:lnTo>
                            <a:pt x="23" y="113"/>
                          </a:lnTo>
                          <a:lnTo>
                            <a:pt x="52" y="143"/>
                          </a:lnTo>
                          <a:lnTo>
                            <a:pt x="79" y="162"/>
                          </a:lnTo>
                          <a:lnTo>
                            <a:pt x="106" y="175"/>
                          </a:lnTo>
                          <a:lnTo>
                            <a:pt x="133" y="184"/>
                          </a:lnTo>
                          <a:lnTo>
                            <a:pt x="156" y="189"/>
                          </a:lnTo>
                          <a:lnTo>
                            <a:pt x="177" y="192"/>
                          </a:lnTo>
                          <a:lnTo>
                            <a:pt x="194" y="192"/>
                          </a:lnTo>
                          <a:lnTo>
                            <a:pt x="205" y="191"/>
                          </a:lnTo>
                          <a:lnTo>
                            <a:pt x="208" y="191"/>
                          </a:lnTo>
                          <a:lnTo>
                            <a:pt x="244" y="167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6975360" y="4669200"/>
                      <a:ext cx="9756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41">
                          <a:moveTo>
                            <a:pt x="10" y="0"/>
                          </a:moveTo>
                          <a:lnTo>
                            <a:pt x="0" y="28"/>
                          </a:lnTo>
                          <a:lnTo>
                            <a:pt x="0" y="29"/>
                          </a:lnTo>
                          <a:lnTo>
                            <a:pt x="2" y="33"/>
                          </a:lnTo>
                          <a:lnTo>
                            <a:pt x="4" y="39"/>
                          </a:lnTo>
                          <a:lnTo>
                            <a:pt x="9" y="47"/>
                          </a:lnTo>
                          <a:lnTo>
                            <a:pt x="13" y="56"/>
                          </a:lnTo>
                          <a:lnTo>
                            <a:pt x="20" y="66"/>
                          </a:lnTo>
                          <a:lnTo>
                            <a:pt x="28" y="77"/>
                          </a:lnTo>
                          <a:lnTo>
                            <a:pt x="38" y="88"/>
                          </a:lnTo>
                          <a:lnTo>
                            <a:pt x="49" y="98"/>
                          </a:lnTo>
                          <a:lnTo>
                            <a:pt x="61" y="109"/>
                          </a:lnTo>
                          <a:lnTo>
                            <a:pt x="76" y="118"/>
                          </a:lnTo>
                          <a:lnTo>
                            <a:pt x="92" y="127"/>
                          </a:lnTo>
                          <a:lnTo>
                            <a:pt x="111" y="133"/>
                          </a:lnTo>
                          <a:lnTo>
                            <a:pt x="131" y="139"/>
                          </a:lnTo>
                          <a:lnTo>
                            <a:pt x="155" y="141"/>
                          </a:lnTo>
                          <a:lnTo>
                            <a:pt x="179" y="141"/>
                          </a:lnTo>
                          <a:lnTo>
                            <a:pt x="190" y="131"/>
                          </a:lnTo>
                          <a:lnTo>
                            <a:pt x="187" y="131"/>
                          </a:lnTo>
                          <a:lnTo>
                            <a:pt x="176" y="131"/>
                          </a:lnTo>
                          <a:lnTo>
                            <a:pt x="160" y="129"/>
                          </a:lnTo>
                          <a:lnTo>
                            <a:pt x="141" y="126"/>
                          </a:lnTo>
                          <a:lnTo>
                            <a:pt x="119" y="120"/>
                          </a:lnTo>
                          <a:lnTo>
                            <a:pt x="97" y="110"/>
                          </a:lnTo>
                          <a:lnTo>
                            <a:pt x="73" y="97"/>
                          </a:lnTo>
                          <a:lnTo>
                            <a:pt x="52" y="78"/>
                          </a:lnTo>
                          <a:lnTo>
                            <a:pt x="39" y="62"/>
                          </a:lnTo>
                          <a:lnTo>
                            <a:pt x="28" y="47"/>
                          </a:lnTo>
                          <a:lnTo>
                            <a:pt x="21" y="33"/>
                          </a:lnTo>
                          <a:lnTo>
                            <a:pt x="15" y="22"/>
                          </a:lnTo>
                          <a:lnTo>
                            <a:pt x="12" y="13"/>
                          </a:lnTo>
                          <a:lnTo>
                            <a:pt x="11" y="5"/>
                          </a:lnTo>
                          <a:lnTo>
                            <a:pt x="10" y="1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6082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6989400" y="4670280"/>
                      <a:ext cx="7524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114">
                          <a:moveTo>
                            <a:pt x="28" y="0"/>
                          </a:moveTo>
                          <a:lnTo>
                            <a:pt x="0" y="2"/>
                          </a:lnTo>
                          <a:lnTo>
                            <a:pt x="1" y="7"/>
                          </a:lnTo>
                          <a:lnTo>
                            <a:pt x="5" y="18"/>
                          </a:lnTo>
                          <a:lnTo>
                            <a:pt x="14" y="33"/>
                          </a:lnTo>
                          <a:lnTo>
                            <a:pt x="28" y="51"/>
                          </a:lnTo>
                          <a:lnTo>
                            <a:pt x="46" y="71"/>
                          </a:lnTo>
                          <a:lnTo>
                            <a:pt x="72" y="89"/>
                          </a:lnTo>
                          <a:lnTo>
                            <a:pt x="105" y="104"/>
                          </a:lnTo>
                          <a:lnTo>
                            <a:pt x="147" y="114"/>
                          </a:lnTo>
                          <a:lnTo>
                            <a:pt x="142" y="113"/>
                          </a:lnTo>
                          <a:lnTo>
                            <a:pt x="130" y="107"/>
                          </a:lnTo>
                          <a:lnTo>
                            <a:pt x="113" y="98"/>
                          </a:lnTo>
                          <a:lnTo>
                            <a:pt x="92" y="87"/>
                          </a:lnTo>
                          <a:lnTo>
                            <a:pt x="72" y="70"/>
                          </a:lnTo>
                          <a:lnTo>
                            <a:pt x="52" y="51"/>
                          </a:lnTo>
                          <a:lnTo>
                            <a:pt x="36" y="28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6953760" y="4463280"/>
                      <a:ext cx="296280" cy="28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2" h="648">
                          <a:moveTo>
                            <a:pt x="106" y="19"/>
                          </a:moveTo>
                          <a:lnTo>
                            <a:pt x="178" y="0"/>
                          </a:lnTo>
                          <a:lnTo>
                            <a:pt x="582" y="293"/>
                          </a:lnTo>
                          <a:lnTo>
                            <a:pt x="339" y="620"/>
                          </a:lnTo>
                          <a:lnTo>
                            <a:pt x="281" y="648"/>
                          </a:lnTo>
                          <a:lnTo>
                            <a:pt x="0" y="412"/>
                          </a:lnTo>
                          <a:lnTo>
                            <a:pt x="106" y="1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6975360" y="4489920"/>
                      <a:ext cx="77400" cy="20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460">
                          <a:moveTo>
                            <a:pt x="152" y="460"/>
                          </a:moveTo>
                          <a:lnTo>
                            <a:pt x="98" y="0"/>
                          </a:lnTo>
                          <a:lnTo>
                            <a:pt x="0" y="334"/>
                          </a:lnTo>
                          <a:lnTo>
                            <a:pt x="152" y="460"/>
                          </a:lnTo>
                          <a:close/>
                        </a:path>
                      </a:pathLst>
                    </a:custGeom>
                    <a:solidFill>
                      <a:srgbClr val="baccf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7025400" y="4487400"/>
                      <a:ext cx="174960" cy="23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544">
                          <a:moveTo>
                            <a:pt x="148" y="544"/>
                          </a:moveTo>
                          <a:lnTo>
                            <a:pt x="344" y="255"/>
                          </a:lnTo>
                          <a:lnTo>
                            <a:pt x="2" y="0"/>
                          </a:lnTo>
                          <a:lnTo>
                            <a:pt x="0" y="6"/>
                          </a:lnTo>
                          <a:lnTo>
                            <a:pt x="54" y="466"/>
                          </a:lnTo>
                          <a:lnTo>
                            <a:pt x="148" y="54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7032600" y="4476240"/>
                      <a:ext cx="7308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89">
                          <a:moveTo>
                            <a:pt x="25" y="0"/>
                          </a:moveTo>
                          <a:lnTo>
                            <a:pt x="0" y="7"/>
                          </a:lnTo>
                          <a:lnTo>
                            <a:pt x="58" y="49"/>
                          </a:lnTo>
                          <a:lnTo>
                            <a:pt x="146" y="89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7061040" y="4497840"/>
                      <a:ext cx="17028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4" h="218">
                          <a:moveTo>
                            <a:pt x="334" y="218"/>
                          </a:moveTo>
                          <a:lnTo>
                            <a:pt x="88" y="40"/>
                          </a:lnTo>
                          <a:lnTo>
                            <a:pt x="0" y="0"/>
                          </a:lnTo>
                          <a:lnTo>
                            <a:pt x="292" y="218"/>
                          </a:lnTo>
                          <a:lnTo>
                            <a:pt x="334" y="218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7112880" y="4603680"/>
                      <a:ext cx="113040" cy="12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3" h="289">
                          <a:moveTo>
                            <a:pt x="223" y="0"/>
                          </a:moveTo>
                          <a:lnTo>
                            <a:pt x="20" y="282"/>
                          </a:lnTo>
                          <a:lnTo>
                            <a:pt x="0" y="289"/>
                          </a:lnTo>
                          <a:lnTo>
                            <a:pt x="191" y="2"/>
                          </a:lnTo>
                          <a:lnTo>
                            <a:pt x="223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7003800" y="4624560"/>
                      <a:ext cx="439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104">
                          <a:moveTo>
                            <a:pt x="0" y="35"/>
                          </a:moveTo>
                          <a:lnTo>
                            <a:pt x="85" y="104"/>
                          </a:lnTo>
                          <a:lnTo>
                            <a:pt x="74" y="0"/>
                          </a:lnTo>
                          <a:lnTo>
                            <a:pt x="64" y="3"/>
                          </a:lnTo>
                          <a:lnTo>
                            <a:pt x="55" y="6"/>
                          </a:lnTo>
                          <a:lnTo>
                            <a:pt x="45" y="10"/>
                          </a:lnTo>
                          <a:lnTo>
                            <a:pt x="36" y="14"/>
                          </a:lnTo>
                          <a:lnTo>
                            <a:pt x="26" y="19"/>
                          </a:lnTo>
                          <a:lnTo>
                            <a:pt x="17" y="24"/>
                          </a:lnTo>
                          <a:lnTo>
                            <a:pt x="8" y="3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003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7082640" y="4619520"/>
                      <a:ext cx="730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192">
                          <a:moveTo>
                            <a:pt x="0" y="172"/>
                          </a:moveTo>
                          <a:lnTo>
                            <a:pt x="25" y="192"/>
                          </a:lnTo>
                          <a:lnTo>
                            <a:pt x="145" y="17"/>
                          </a:lnTo>
                          <a:lnTo>
                            <a:pt x="136" y="15"/>
                          </a:lnTo>
                          <a:lnTo>
                            <a:pt x="126" y="13"/>
                          </a:lnTo>
                          <a:lnTo>
                            <a:pt x="116" y="9"/>
                          </a:lnTo>
                          <a:lnTo>
                            <a:pt x="105" y="7"/>
                          </a:lnTo>
                          <a:lnTo>
                            <a:pt x="95" y="5"/>
                          </a:lnTo>
                          <a:lnTo>
                            <a:pt x="84" y="4"/>
                          </a:lnTo>
                          <a:lnTo>
                            <a:pt x="71" y="1"/>
                          </a:lnTo>
                          <a:lnTo>
                            <a:pt x="60" y="0"/>
                          </a:lnTo>
                          <a:lnTo>
                            <a:pt x="0" y="172"/>
                          </a:lnTo>
                          <a:close/>
                        </a:path>
                      </a:pathLst>
                    </a:custGeom>
                    <a:solidFill>
                      <a:srgbClr val="003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7042680" y="4618800"/>
                      <a:ext cx="702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74">
                          <a:moveTo>
                            <a:pt x="0" y="15"/>
                          </a:moveTo>
                          <a:lnTo>
                            <a:pt x="11" y="119"/>
                          </a:lnTo>
                          <a:lnTo>
                            <a:pt x="78" y="174"/>
                          </a:lnTo>
                          <a:lnTo>
                            <a:pt x="138" y="2"/>
                          </a:lnTo>
                          <a:lnTo>
                            <a:pt x="121" y="1"/>
                          </a:lnTo>
                          <a:lnTo>
                            <a:pt x="105" y="0"/>
                          </a:lnTo>
                          <a:lnTo>
                            <a:pt x="88" y="0"/>
                          </a:lnTo>
                          <a:lnTo>
                            <a:pt x="70" y="1"/>
                          </a:lnTo>
                          <a:lnTo>
                            <a:pt x="52" y="3"/>
                          </a:lnTo>
                          <a:lnTo>
                            <a:pt x="36" y="6"/>
                          </a:lnTo>
                          <a:lnTo>
                            <a:pt x="18" y="1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6082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7030440" y="4518000"/>
                      <a:ext cx="94680" cy="7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76">
                          <a:moveTo>
                            <a:pt x="186" y="128"/>
                          </a:moveTo>
                          <a:lnTo>
                            <a:pt x="9" y="0"/>
                          </a:lnTo>
                          <a:lnTo>
                            <a:pt x="0" y="29"/>
                          </a:lnTo>
                          <a:lnTo>
                            <a:pt x="15" y="176"/>
                          </a:lnTo>
                          <a:lnTo>
                            <a:pt x="33" y="167"/>
                          </a:lnTo>
                          <a:lnTo>
                            <a:pt x="52" y="158"/>
                          </a:lnTo>
                          <a:lnTo>
                            <a:pt x="71" y="150"/>
                          </a:lnTo>
                          <a:lnTo>
                            <a:pt x="92" y="142"/>
                          </a:lnTo>
                          <a:lnTo>
                            <a:pt x="114" y="137"/>
                          </a:lnTo>
                          <a:lnTo>
                            <a:pt x="137" y="132"/>
                          </a:lnTo>
                          <a:lnTo>
                            <a:pt x="161" y="129"/>
                          </a:lnTo>
                          <a:lnTo>
                            <a:pt x="186" y="128"/>
                          </a:lnTo>
                          <a:close/>
                        </a:path>
                      </a:pathLst>
                    </a:custGeom>
                    <a:solidFill>
                      <a:srgbClr val="4972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6998760" y="4531320"/>
                      <a:ext cx="396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203">
                          <a:moveTo>
                            <a:pt x="62" y="0"/>
                          </a:moveTo>
                          <a:lnTo>
                            <a:pt x="0" y="203"/>
                          </a:lnTo>
                          <a:lnTo>
                            <a:pt x="7" y="197"/>
                          </a:lnTo>
                          <a:lnTo>
                            <a:pt x="15" y="190"/>
                          </a:lnTo>
                          <a:lnTo>
                            <a:pt x="24" y="183"/>
                          </a:lnTo>
                          <a:lnTo>
                            <a:pt x="34" y="176"/>
                          </a:lnTo>
                          <a:lnTo>
                            <a:pt x="44" y="169"/>
                          </a:lnTo>
                          <a:lnTo>
                            <a:pt x="54" y="161"/>
                          </a:lnTo>
                          <a:lnTo>
                            <a:pt x="65" y="153"/>
                          </a:lnTo>
                          <a:lnTo>
                            <a:pt x="77" y="147"/>
                          </a:lnTo>
                          <a:lnTo>
                            <a:pt x="62" y="0"/>
                          </a:lnTo>
                          <a:close/>
                        </a:path>
                      </a:pathLst>
                    </a:custGeom>
                    <a:solidFill>
                      <a:srgbClr val="003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7038720" y="4574160"/>
                      <a:ext cx="9144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6">
                          <a:moveTo>
                            <a:pt x="8" y="116"/>
                          </a:moveTo>
                          <a:lnTo>
                            <a:pt x="26" y="111"/>
                          </a:lnTo>
                          <a:lnTo>
                            <a:pt x="44" y="107"/>
                          </a:lnTo>
                          <a:lnTo>
                            <a:pt x="60" y="104"/>
                          </a:lnTo>
                          <a:lnTo>
                            <a:pt x="78" y="102"/>
                          </a:lnTo>
                          <a:lnTo>
                            <a:pt x="96" y="101"/>
                          </a:lnTo>
                          <a:lnTo>
                            <a:pt x="113" y="101"/>
                          </a:lnTo>
                          <a:lnTo>
                            <a:pt x="129" y="102"/>
                          </a:lnTo>
                          <a:lnTo>
                            <a:pt x="146" y="103"/>
                          </a:lnTo>
                          <a:lnTo>
                            <a:pt x="181" y="8"/>
                          </a:lnTo>
                          <a:lnTo>
                            <a:pt x="171" y="0"/>
                          </a:lnTo>
                          <a:lnTo>
                            <a:pt x="146" y="1"/>
                          </a:lnTo>
                          <a:lnTo>
                            <a:pt x="122" y="4"/>
                          </a:lnTo>
                          <a:lnTo>
                            <a:pt x="99" y="9"/>
                          </a:lnTo>
                          <a:lnTo>
                            <a:pt x="77" y="14"/>
                          </a:lnTo>
                          <a:lnTo>
                            <a:pt x="56" y="22"/>
                          </a:lnTo>
                          <a:lnTo>
                            <a:pt x="37" y="30"/>
                          </a:lnTo>
                          <a:lnTo>
                            <a:pt x="18" y="39"/>
                          </a:lnTo>
                          <a:lnTo>
                            <a:pt x="0" y="48"/>
                          </a:lnTo>
                          <a:lnTo>
                            <a:pt x="8" y="116"/>
                          </a:lnTo>
                          <a:close/>
                        </a:path>
                      </a:pathLst>
                    </a:custGeom>
                    <a:solidFill>
                      <a:srgbClr val="59bc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7112880" y="4577400"/>
                      <a:ext cx="5976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112">
                          <a:moveTo>
                            <a:pt x="35" y="0"/>
                          </a:moveTo>
                          <a:lnTo>
                            <a:pt x="0" y="95"/>
                          </a:lnTo>
                          <a:lnTo>
                            <a:pt x="11" y="96"/>
                          </a:lnTo>
                          <a:lnTo>
                            <a:pt x="24" y="99"/>
                          </a:lnTo>
                          <a:lnTo>
                            <a:pt x="35" y="100"/>
                          </a:lnTo>
                          <a:lnTo>
                            <a:pt x="45" y="102"/>
                          </a:lnTo>
                          <a:lnTo>
                            <a:pt x="56" y="104"/>
                          </a:lnTo>
                          <a:lnTo>
                            <a:pt x="66" y="108"/>
                          </a:lnTo>
                          <a:lnTo>
                            <a:pt x="76" y="110"/>
                          </a:lnTo>
                          <a:lnTo>
                            <a:pt x="85" y="112"/>
                          </a:lnTo>
                          <a:lnTo>
                            <a:pt x="119" y="61"/>
                          </a:lnTo>
                          <a:lnTo>
                            <a:pt x="35" y="0"/>
                          </a:lnTo>
                          <a:close/>
                        </a:path>
                      </a:pathLst>
                    </a:custGeom>
                    <a:solidFill>
                      <a:srgbClr val="0099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6994800" y="4595040"/>
                      <a:ext cx="4752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03">
                          <a:moveTo>
                            <a:pt x="85" y="0"/>
                          </a:moveTo>
                          <a:lnTo>
                            <a:pt x="73" y="6"/>
                          </a:lnTo>
                          <a:lnTo>
                            <a:pt x="62" y="14"/>
                          </a:lnTo>
                          <a:lnTo>
                            <a:pt x="52" y="22"/>
                          </a:lnTo>
                          <a:lnTo>
                            <a:pt x="42" y="29"/>
                          </a:lnTo>
                          <a:lnTo>
                            <a:pt x="32" y="36"/>
                          </a:lnTo>
                          <a:lnTo>
                            <a:pt x="23" y="43"/>
                          </a:lnTo>
                          <a:lnTo>
                            <a:pt x="15" y="50"/>
                          </a:lnTo>
                          <a:lnTo>
                            <a:pt x="8" y="56"/>
                          </a:lnTo>
                          <a:lnTo>
                            <a:pt x="0" y="88"/>
                          </a:lnTo>
                          <a:lnTo>
                            <a:pt x="19" y="103"/>
                          </a:lnTo>
                          <a:lnTo>
                            <a:pt x="27" y="98"/>
                          </a:lnTo>
                          <a:lnTo>
                            <a:pt x="36" y="92"/>
                          </a:lnTo>
                          <a:lnTo>
                            <a:pt x="45" y="87"/>
                          </a:lnTo>
                          <a:lnTo>
                            <a:pt x="55" y="82"/>
                          </a:lnTo>
                          <a:lnTo>
                            <a:pt x="64" y="78"/>
                          </a:lnTo>
                          <a:lnTo>
                            <a:pt x="74" y="74"/>
                          </a:lnTo>
                          <a:lnTo>
                            <a:pt x="83" y="71"/>
                          </a:lnTo>
                          <a:lnTo>
                            <a:pt x="93" y="68"/>
                          </a:lnTo>
                          <a:lnTo>
                            <a:pt x="85" y="0"/>
                          </a:lnTo>
                          <a:close/>
                        </a:path>
                      </a:pathLst>
                    </a:custGeom>
                    <a:solidFill>
                      <a:srgbClr val="0099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7063920" y="4691880"/>
                      <a:ext cx="179280" cy="12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1" h="289">
                          <a:moveTo>
                            <a:pt x="0" y="239"/>
                          </a:moveTo>
                          <a:lnTo>
                            <a:pt x="351" y="0"/>
                          </a:lnTo>
                          <a:lnTo>
                            <a:pt x="331" y="60"/>
                          </a:lnTo>
                          <a:lnTo>
                            <a:pt x="0" y="289"/>
                          </a:lnTo>
                          <a:lnTo>
                            <a:pt x="0" y="239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6977520" y="4736520"/>
                      <a:ext cx="3132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12">
                          <a:moveTo>
                            <a:pt x="62" y="57"/>
                          </a:moveTo>
                          <a:lnTo>
                            <a:pt x="0" y="0"/>
                          </a:lnTo>
                          <a:lnTo>
                            <a:pt x="3" y="55"/>
                          </a:lnTo>
                          <a:lnTo>
                            <a:pt x="64" y="112"/>
                          </a:lnTo>
                          <a:lnTo>
                            <a:pt x="62" y="57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6896880" y="4675320"/>
                      <a:ext cx="81360" cy="8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96">
                          <a:moveTo>
                            <a:pt x="0" y="0"/>
                          </a:moveTo>
                          <a:lnTo>
                            <a:pt x="12" y="58"/>
                          </a:lnTo>
                          <a:lnTo>
                            <a:pt x="160" y="196"/>
                          </a:lnTo>
                          <a:lnTo>
                            <a:pt x="157" y="14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7008840" y="4761720"/>
                      <a:ext cx="4464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137">
                          <a:moveTo>
                            <a:pt x="89" y="137"/>
                          </a:moveTo>
                          <a:lnTo>
                            <a:pt x="87" y="79"/>
                          </a:lnTo>
                          <a:lnTo>
                            <a:pt x="0" y="0"/>
                          </a:lnTo>
                          <a:lnTo>
                            <a:pt x="2" y="55"/>
                          </a:lnTo>
                          <a:lnTo>
                            <a:pt x="89" y="13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6998760" y="4762800"/>
                      <a:ext cx="417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86">
                          <a:moveTo>
                            <a:pt x="3" y="0"/>
                          </a:moveTo>
                          <a:lnTo>
                            <a:pt x="84" y="73"/>
                          </a:lnTo>
                          <a:lnTo>
                            <a:pt x="82" y="86"/>
                          </a:lnTo>
                          <a:lnTo>
                            <a:pt x="0" y="13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6827400" y="4790520"/>
                      <a:ext cx="2433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9" h="344">
                          <a:moveTo>
                            <a:pt x="88" y="0"/>
                          </a:moveTo>
                          <a:lnTo>
                            <a:pt x="96" y="1"/>
                          </a:lnTo>
                          <a:lnTo>
                            <a:pt x="110" y="6"/>
                          </a:lnTo>
                          <a:lnTo>
                            <a:pt x="130" y="13"/>
                          </a:lnTo>
                          <a:lnTo>
                            <a:pt x="156" y="25"/>
                          </a:lnTo>
                          <a:lnTo>
                            <a:pt x="186" y="37"/>
                          </a:lnTo>
                          <a:lnTo>
                            <a:pt x="218" y="51"/>
                          </a:lnTo>
                          <a:lnTo>
                            <a:pt x="254" y="67"/>
                          </a:lnTo>
                          <a:lnTo>
                            <a:pt x="289" y="82"/>
                          </a:lnTo>
                          <a:lnTo>
                            <a:pt x="324" y="99"/>
                          </a:lnTo>
                          <a:lnTo>
                            <a:pt x="359" y="116"/>
                          </a:lnTo>
                          <a:lnTo>
                            <a:pt x="390" y="131"/>
                          </a:lnTo>
                          <a:lnTo>
                            <a:pt x="419" y="146"/>
                          </a:lnTo>
                          <a:lnTo>
                            <a:pt x="443" y="159"/>
                          </a:lnTo>
                          <a:lnTo>
                            <a:pt x="461" y="170"/>
                          </a:lnTo>
                          <a:lnTo>
                            <a:pt x="474" y="179"/>
                          </a:lnTo>
                          <a:lnTo>
                            <a:pt x="479" y="185"/>
                          </a:lnTo>
                          <a:lnTo>
                            <a:pt x="477" y="198"/>
                          </a:lnTo>
                          <a:lnTo>
                            <a:pt x="470" y="218"/>
                          </a:lnTo>
                          <a:lnTo>
                            <a:pt x="459" y="244"/>
                          </a:lnTo>
                          <a:lnTo>
                            <a:pt x="444" y="271"/>
                          </a:lnTo>
                          <a:lnTo>
                            <a:pt x="429" y="297"/>
                          </a:lnTo>
                          <a:lnTo>
                            <a:pt x="414" y="321"/>
                          </a:lnTo>
                          <a:lnTo>
                            <a:pt x="401" y="337"/>
                          </a:lnTo>
                          <a:lnTo>
                            <a:pt x="391" y="344"/>
                          </a:lnTo>
                          <a:lnTo>
                            <a:pt x="389" y="344"/>
                          </a:lnTo>
                          <a:lnTo>
                            <a:pt x="385" y="344"/>
                          </a:lnTo>
                          <a:lnTo>
                            <a:pt x="383" y="344"/>
                          </a:lnTo>
                          <a:lnTo>
                            <a:pt x="380" y="344"/>
                          </a:lnTo>
                          <a:lnTo>
                            <a:pt x="379" y="344"/>
                          </a:lnTo>
                          <a:lnTo>
                            <a:pt x="378" y="344"/>
                          </a:lnTo>
                          <a:lnTo>
                            <a:pt x="376" y="344"/>
                          </a:lnTo>
                          <a:lnTo>
                            <a:pt x="375" y="344"/>
                          </a:lnTo>
                          <a:lnTo>
                            <a:pt x="356" y="342"/>
                          </a:lnTo>
                          <a:lnTo>
                            <a:pt x="334" y="336"/>
                          </a:lnTo>
                          <a:lnTo>
                            <a:pt x="309" y="327"/>
                          </a:lnTo>
                          <a:lnTo>
                            <a:pt x="280" y="317"/>
                          </a:lnTo>
                          <a:lnTo>
                            <a:pt x="250" y="305"/>
                          </a:lnTo>
                          <a:lnTo>
                            <a:pt x="218" y="292"/>
                          </a:lnTo>
                          <a:lnTo>
                            <a:pt x="187" y="277"/>
                          </a:lnTo>
                          <a:lnTo>
                            <a:pt x="156" y="262"/>
                          </a:lnTo>
                          <a:lnTo>
                            <a:pt x="126" y="246"/>
                          </a:lnTo>
                          <a:lnTo>
                            <a:pt x="97" y="229"/>
                          </a:lnTo>
                          <a:lnTo>
                            <a:pt x="71" y="214"/>
                          </a:lnTo>
                          <a:lnTo>
                            <a:pt x="48" y="199"/>
                          </a:lnTo>
                          <a:lnTo>
                            <a:pt x="28" y="186"/>
                          </a:lnTo>
                          <a:lnTo>
                            <a:pt x="13" y="174"/>
                          </a:lnTo>
                          <a:lnTo>
                            <a:pt x="3" y="163"/>
                          </a:lnTo>
                          <a:lnTo>
                            <a:pt x="0" y="155"/>
                          </a:lnTo>
                          <a:lnTo>
                            <a:pt x="2" y="144"/>
                          </a:lnTo>
                          <a:lnTo>
                            <a:pt x="10" y="124"/>
                          </a:lnTo>
                          <a:lnTo>
                            <a:pt x="22" y="99"/>
                          </a:lnTo>
                          <a:lnTo>
                            <a:pt x="36" y="72"/>
                          </a:lnTo>
                          <a:lnTo>
                            <a:pt x="51" y="46"/>
                          </a:lnTo>
                          <a:lnTo>
                            <a:pt x="66" y="23"/>
                          </a:lnTo>
                          <a:lnTo>
                            <a:pt x="79" y="7"/>
                          </a:lnTo>
                          <a:lnTo>
                            <a:pt x="8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6839640" y="4845600"/>
                      <a:ext cx="1936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9" h="190">
                          <a:moveTo>
                            <a:pt x="0" y="18"/>
                          </a:moveTo>
                          <a:lnTo>
                            <a:pt x="353" y="190"/>
                          </a:lnTo>
                          <a:lnTo>
                            <a:pt x="379" y="142"/>
                          </a:lnTo>
                          <a:lnTo>
                            <a:pt x="11" y="0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6854040" y="4800960"/>
                      <a:ext cx="20160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" h="191">
                          <a:moveTo>
                            <a:pt x="396" y="164"/>
                          </a:moveTo>
                          <a:lnTo>
                            <a:pt x="45" y="0"/>
                          </a:lnTo>
                          <a:lnTo>
                            <a:pt x="0" y="73"/>
                          </a:lnTo>
                          <a:lnTo>
                            <a:pt x="381" y="191"/>
                          </a:lnTo>
                          <a:lnTo>
                            <a:pt x="396" y="16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6846120" y="4833360"/>
                      <a:ext cx="20268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8" h="171">
                          <a:moveTo>
                            <a:pt x="17" y="0"/>
                          </a:moveTo>
                          <a:lnTo>
                            <a:pt x="0" y="29"/>
                          </a:lnTo>
                          <a:lnTo>
                            <a:pt x="368" y="171"/>
                          </a:lnTo>
                          <a:lnTo>
                            <a:pt x="398" y="118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7160040" y="4897080"/>
                      <a:ext cx="4464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97">
                          <a:moveTo>
                            <a:pt x="24" y="1"/>
                          </a:moveTo>
                          <a:lnTo>
                            <a:pt x="26" y="1"/>
                          </a:lnTo>
                          <a:lnTo>
                            <a:pt x="33" y="0"/>
                          </a:lnTo>
                          <a:lnTo>
                            <a:pt x="42" y="0"/>
                          </a:lnTo>
                          <a:lnTo>
                            <a:pt x="52" y="1"/>
                          </a:lnTo>
                          <a:lnTo>
                            <a:pt x="63" y="4"/>
                          </a:lnTo>
                          <a:lnTo>
                            <a:pt x="73" y="10"/>
                          </a:lnTo>
                          <a:lnTo>
                            <a:pt x="82" y="19"/>
                          </a:lnTo>
                          <a:lnTo>
                            <a:pt x="88" y="31"/>
                          </a:lnTo>
                          <a:lnTo>
                            <a:pt x="89" y="32"/>
                          </a:lnTo>
                          <a:lnTo>
                            <a:pt x="89" y="34"/>
                          </a:lnTo>
                          <a:lnTo>
                            <a:pt x="89" y="36"/>
                          </a:lnTo>
                          <a:lnTo>
                            <a:pt x="89" y="38"/>
                          </a:lnTo>
                          <a:lnTo>
                            <a:pt x="86" y="46"/>
                          </a:lnTo>
                          <a:lnTo>
                            <a:pt x="83" y="56"/>
                          </a:lnTo>
                          <a:lnTo>
                            <a:pt x="78" y="66"/>
                          </a:lnTo>
                          <a:lnTo>
                            <a:pt x="72" y="75"/>
                          </a:lnTo>
                          <a:lnTo>
                            <a:pt x="63" y="83"/>
                          </a:lnTo>
                          <a:lnTo>
                            <a:pt x="54" y="90"/>
                          </a:lnTo>
                          <a:lnTo>
                            <a:pt x="44" y="95"/>
                          </a:lnTo>
                          <a:lnTo>
                            <a:pt x="34" y="97"/>
                          </a:lnTo>
                          <a:lnTo>
                            <a:pt x="31" y="97"/>
                          </a:lnTo>
                          <a:lnTo>
                            <a:pt x="26" y="96"/>
                          </a:lnTo>
                          <a:lnTo>
                            <a:pt x="23" y="95"/>
                          </a:lnTo>
                          <a:lnTo>
                            <a:pt x="19" y="93"/>
                          </a:lnTo>
                          <a:lnTo>
                            <a:pt x="6" y="83"/>
                          </a:lnTo>
                          <a:lnTo>
                            <a:pt x="1" y="71"/>
                          </a:lnTo>
                          <a:lnTo>
                            <a:pt x="0" y="58"/>
                          </a:lnTo>
                          <a:lnTo>
                            <a:pt x="3" y="43"/>
                          </a:lnTo>
                          <a:lnTo>
                            <a:pt x="8" y="29"/>
                          </a:lnTo>
                          <a:lnTo>
                            <a:pt x="14" y="17"/>
                          </a:lnTo>
                          <a:lnTo>
                            <a:pt x="21" y="7"/>
                          </a:lnTo>
                          <a:lnTo>
                            <a:pt x="24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6867360" y="4821480"/>
                      <a:ext cx="16524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163">
                          <a:moveTo>
                            <a:pt x="324" y="149"/>
                          </a:moveTo>
                          <a:lnTo>
                            <a:pt x="314" y="163"/>
                          </a:lnTo>
                          <a:lnTo>
                            <a:pt x="0" y="12"/>
                          </a:lnTo>
                          <a:lnTo>
                            <a:pt x="7" y="0"/>
                          </a:lnTo>
                          <a:lnTo>
                            <a:pt x="324" y="149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6858360" y="4835160"/>
                      <a:ext cx="16488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163">
                          <a:moveTo>
                            <a:pt x="324" y="150"/>
                          </a:moveTo>
                          <a:lnTo>
                            <a:pt x="314" y="163"/>
                          </a:lnTo>
                          <a:lnTo>
                            <a:pt x="0" y="13"/>
                          </a:lnTo>
                          <a:lnTo>
                            <a:pt x="7" y="0"/>
                          </a:lnTo>
                          <a:lnTo>
                            <a:pt x="324" y="15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6885720" y="4863960"/>
                      <a:ext cx="759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80">
                          <a:moveTo>
                            <a:pt x="5" y="0"/>
                          </a:moveTo>
                          <a:lnTo>
                            <a:pt x="0" y="12"/>
                          </a:lnTo>
                          <a:lnTo>
                            <a:pt x="140" y="80"/>
                          </a:lnTo>
                          <a:lnTo>
                            <a:pt x="148" y="67"/>
                          </a:lnTo>
                          <a:lnTo>
                            <a:pt x="5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6969240" y="4898160"/>
                      <a:ext cx="457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51">
                          <a:moveTo>
                            <a:pt x="91" y="38"/>
                          </a:moveTo>
                          <a:lnTo>
                            <a:pt x="11" y="0"/>
                          </a:lnTo>
                          <a:lnTo>
                            <a:pt x="0" y="13"/>
                          </a:lnTo>
                          <a:lnTo>
                            <a:pt x="81" y="51"/>
                          </a:lnTo>
                          <a:lnTo>
                            <a:pt x="91" y="38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6849720" y="4849200"/>
                      <a:ext cx="2844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35">
                          <a:moveTo>
                            <a:pt x="6" y="0"/>
                          </a:moveTo>
                          <a:lnTo>
                            <a:pt x="0" y="12"/>
                          </a:lnTo>
                          <a:lnTo>
                            <a:pt x="49" y="35"/>
                          </a:lnTo>
                          <a:lnTo>
                            <a:pt x="55" y="23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>
                      <a:off x="6875640" y="4807080"/>
                      <a:ext cx="1404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6" y="0"/>
                          </a:moveTo>
                          <a:lnTo>
                            <a:pt x="0" y="12"/>
                          </a:lnTo>
                          <a:lnTo>
                            <a:pt x="21" y="22"/>
                          </a:lnTo>
                          <a:lnTo>
                            <a:pt x="28" y="11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6899760" y="4817880"/>
                      <a:ext cx="13968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139">
                          <a:moveTo>
                            <a:pt x="275" y="126"/>
                          </a:moveTo>
                          <a:lnTo>
                            <a:pt x="6" y="0"/>
                          </a:lnTo>
                          <a:lnTo>
                            <a:pt x="0" y="13"/>
                          </a:lnTo>
                          <a:lnTo>
                            <a:pt x="266" y="139"/>
                          </a:lnTo>
                          <a:lnTo>
                            <a:pt x="275" y="126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7188480" y="4906080"/>
                      <a:ext cx="684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8">
                          <a:moveTo>
                            <a:pt x="16" y="18"/>
                          </a:moveTo>
                          <a:lnTo>
                            <a:pt x="15" y="12"/>
                          </a:lnTo>
                          <a:lnTo>
                            <a:pt x="13" y="7"/>
                          </a:lnTo>
                          <a:lnTo>
                            <a:pt x="10" y="3"/>
                          </a:lnTo>
                          <a:lnTo>
                            <a:pt x="7" y="0"/>
                          </a:lnTo>
                          <a:lnTo>
                            <a:pt x="0" y="19"/>
                          </a:lnTo>
                          <a:lnTo>
                            <a:pt x="13" y="28"/>
                          </a:lnTo>
                          <a:lnTo>
                            <a:pt x="14" y="24"/>
                          </a:lnTo>
                          <a:lnTo>
                            <a:pt x="15" y="21"/>
                          </a:lnTo>
                          <a:lnTo>
                            <a:pt x="16" y="19"/>
                          </a:lnTo>
                          <a:lnTo>
                            <a:pt x="16" y="1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>
                      <a:off x="7174080" y="4904280"/>
                      <a:ext cx="1224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0">
                          <a:moveTo>
                            <a:pt x="25" y="0"/>
                          </a:moveTo>
                          <a:lnTo>
                            <a:pt x="18" y="0"/>
                          </a:lnTo>
                          <a:lnTo>
                            <a:pt x="13" y="1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4"/>
                          </a:lnTo>
                          <a:lnTo>
                            <a:pt x="4" y="7"/>
                          </a:lnTo>
                          <a:lnTo>
                            <a:pt x="3" y="11"/>
                          </a:lnTo>
                          <a:lnTo>
                            <a:pt x="0" y="13"/>
                          </a:lnTo>
                          <a:lnTo>
                            <a:pt x="18" y="20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>
                      <a:off x="7167960" y="4904280"/>
                      <a:ext cx="252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6">
                          <a:moveTo>
                            <a:pt x="51" y="31"/>
                          </a:moveTo>
                          <a:lnTo>
                            <a:pt x="40" y="23"/>
                          </a:lnTo>
                          <a:lnTo>
                            <a:pt x="47" y="4"/>
                          </a:lnTo>
                          <a:lnTo>
                            <a:pt x="45" y="3"/>
                          </a:lnTo>
                          <a:lnTo>
                            <a:pt x="42" y="2"/>
                          </a:lnTo>
                          <a:lnTo>
                            <a:pt x="39" y="1"/>
                          </a:lnTo>
                          <a:lnTo>
                            <a:pt x="37" y="0"/>
                          </a:lnTo>
                          <a:lnTo>
                            <a:pt x="30" y="20"/>
                          </a:lnTo>
                          <a:lnTo>
                            <a:pt x="12" y="13"/>
                          </a:lnTo>
                          <a:lnTo>
                            <a:pt x="7" y="24"/>
                          </a:lnTo>
                          <a:lnTo>
                            <a:pt x="2" y="34"/>
                          </a:lnTo>
                          <a:lnTo>
                            <a:pt x="0" y="43"/>
                          </a:lnTo>
                          <a:lnTo>
                            <a:pt x="0" y="51"/>
                          </a:lnTo>
                          <a:lnTo>
                            <a:pt x="10" y="55"/>
                          </a:lnTo>
                          <a:lnTo>
                            <a:pt x="20" y="56"/>
                          </a:lnTo>
                          <a:lnTo>
                            <a:pt x="28" y="55"/>
                          </a:lnTo>
                          <a:lnTo>
                            <a:pt x="35" y="51"/>
                          </a:lnTo>
                          <a:lnTo>
                            <a:pt x="41" y="46"/>
                          </a:lnTo>
                          <a:lnTo>
                            <a:pt x="46" y="41"/>
                          </a:lnTo>
                          <a:lnTo>
                            <a:pt x="49" y="35"/>
                          </a:lnTo>
                          <a:lnTo>
                            <a:pt x="51" y="31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7167960" y="4918320"/>
                      <a:ext cx="2628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35">
                          <a:moveTo>
                            <a:pt x="11" y="34"/>
                          </a:moveTo>
                          <a:lnTo>
                            <a:pt x="17" y="35"/>
                          </a:lnTo>
                          <a:lnTo>
                            <a:pt x="24" y="34"/>
                          </a:lnTo>
                          <a:lnTo>
                            <a:pt x="29" y="32"/>
                          </a:lnTo>
                          <a:lnTo>
                            <a:pt x="36" y="26"/>
                          </a:lnTo>
                          <a:lnTo>
                            <a:pt x="40" y="21"/>
                          </a:lnTo>
                          <a:lnTo>
                            <a:pt x="46" y="14"/>
                          </a:lnTo>
                          <a:lnTo>
                            <a:pt x="49" y="7"/>
                          </a:lnTo>
                          <a:lnTo>
                            <a:pt x="53" y="1"/>
                          </a:lnTo>
                          <a:lnTo>
                            <a:pt x="51" y="0"/>
                          </a:lnTo>
                          <a:lnTo>
                            <a:pt x="49" y="4"/>
                          </a:lnTo>
                          <a:lnTo>
                            <a:pt x="46" y="10"/>
                          </a:lnTo>
                          <a:lnTo>
                            <a:pt x="41" y="15"/>
                          </a:lnTo>
                          <a:lnTo>
                            <a:pt x="35" y="20"/>
                          </a:lnTo>
                          <a:lnTo>
                            <a:pt x="28" y="24"/>
                          </a:lnTo>
                          <a:lnTo>
                            <a:pt x="20" y="25"/>
                          </a:lnTo>
                          <a:lnTo>
                            <a:pt x="10" y="24"/>
                          </a:lnTo>
                          <a:lnTo>
                            <a:pt x="0" y="20"/>
                          </a:lnTo>
                          <a:lnTo>
                            <a:pt x="1" y="24"/>
                          </a:lnTo>
                          <a:lnTo>
                            <a:pt x="4" y="28"/>
                          </a:lnTo>
                          <a:lnTo>
                            <a:pt x="7" y="31"/>
                          </a:lnTo>
                          <a:lnTo>
                            <a:pt x="11" y="34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6855120" y="4869360"/>
                      <a:ext cx="14472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139">
                          <a:moveTo>
                            <a:pt x="0" y="0"/>
                          </a:moveTo>
                          <a:lnTo>
                            <a:pt x="284" y="139"/>
                          </a:lnTo>
                          <a:lnTo>
                            <a:pt x="281" y="139"/>
                          </a:lnTo>
                          <a:lnTo>
                            <a:pt x="276" y="137"/>
                          </a:lnTo>
                          <a:lnTo>
                            <a:pt x="268" y="135"/>
                          </a:lnTo>
                          <a:lnTo>
                            <a:pt x="256" y="130"/>
                          </a:lnTo>
                          <a:lnTo>
                            <a:pt x="241" y="126"/>
                          </a:lnTo>
                          <a:lnTo>
                            <a:pt x="225" y="120"/>
                          </a:lnTo>
                          <a:lnTo>
                            <a:pt x="207" y="114"/>
                          </a:lnTo>
                          <a:lnTo>
                            <a:pt x="186" y="105"/>
                          </a:lnTo>
                          <a:lnTo>
                            <a:pt x="165" y="96"/>
                          </a:lnTo>
                          <a:lnTo>
                            <a:pt x="141" y="86"/>
                          </a:lnTo>
                          <a:lnTo>
                            <a:pt x="118" y="75"/>
                          </a:lnTo>
                          <a:lnTo>
                            <a:pt x="94" y="61"/>
                          </a:lnTo>
                          <a:lnTo>
                            <a:pt x="70" y="48"/>
                          </a:lnTo>
                          <a:lnTo>
                            <a:pt x="45" y="34"/>
                          </a:lnTo>
                          <a:lnTo>
                            <a:pt x="2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14" name=""/>
                <p:cNvGrpSpPr/>
                <p:nvPr/>
              </p:nvGrpSpPr>
              <p:grpSpPr>
                <a:xfrm>
                  <a:off x="6141960" y="5079240"/>
                  <a:ext cx="768960" cy="630360"/>
                  <a:chOff x="6141960" y="5079240"/>
                  <a:chExt cx="768960" cy="630360"/>
                </a:xfrm>
              </p:grpSpPr>
              <p:grpSp>
                <p:nvGrpSpPr>
                  <p:cNvPr id="1115" name=""/>
                  <p:cNvGrpSpPr/>
                  <p:nvPr/>
                </p:nvGrpSpPr>
                <p:grpSpPr>
                  <a:xfrm>
                    <a:off x="6471000" y="5231880"/>
                    <a:ext cx="439920" cy="477720"/>
                    <a:chOff x="6471000" y="5231880"/>
                    <a:chExt cx="439920" cy="477720"/>
                  </a:xfrm>
                </p:grpSpPr>
                <p:sp>
                  <p:nvSpPr>
                    <p:cNvPr id="1116" name=""/>
                    <p:cNvSpPr/>
                    <p:nvPr/>
                  </p:nvSpPr>
                  <p:spPr>
                    <a:xfrm>
                      <a:off x="6802200" y="5661720"/>
                      <a:ext cx="417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87">
                          <a:moveTo>
                            <a:pt x="83" y="11"/>
                          </a:moveTo>
                          <a:lnTo>
                            <a:pt x="81" y="10"/>
                          </a:lnTo>
                          <a:lnTo>
                            <a:pt x="77" y="9"/>
                          </a:lnTo>
                          <a:lnTo>
                            <a:pt x="70" y="7"/>
                          </a:lnTo>
                          <a:lnTo>
                            <a:pt x="62" y="4"/>
                          </a:lnTo>
                          <a:lnTo>
                            <a:pt x="54" y="2"/>
                          </a:lnTo>
                          <a:lnTo>
                            <a:pt x="45" y="0"/>
                          </a:lnTo>
                          <a:lnTo>
                            <a:pt x="36" y="0"/>
                          </a:lnTo>
                          <a:lnTo>
                            <a:pt x="29" y="0"/>
                          </a:lnTo>
                          <a:lnTo>
                            <a:pt x="19" y="4"/>
                          </a:lnTo>
                          <a:lnTo>
                            <a:pt x="10" y="14"/>
                          </a:lnTo>
                          <a:lnTo>
                            <a:pt x="5" y="28"/>
                          </a:lnTo>
                          <a:lnTo>
                            <a:pt x="0" y="42"/>
                          </a:lnTo>
                          <a:lnTo>
                            <a:pt x="0" y="58"/>
                          </a:lnTo>
                          <a:lnTo>
                            <a:pt x="3" y="71"/>
                          </a:lnTo>
                          <a:lnTo>
                            <a:pt x="10" y="81"/>
                          </a:lnTo>
                          <a:lnTo>
                            <a:pt x="21" y="87"/>
                          </a:lnTo>
                          <a:lnTo>
                            <a:pt x="35" y="86"/>
                          </a:lnTo>
                          <a:lnTo>
                            <a:pt x="47" y="78"/>
                          </a:lnTo>
                          <a:lnTo>
                            <a:pt x="57" y="67"/>
                          </a:lnTo>
                          <a:lnTo>
                            <a:pt x="66" y="52"/>
                          </a:lnTo>
                          <a:lnTo>
                            <a:pt x="74" y="37"/>
                          </a:lnTo>
                          <a:lnTo>
                            <a:pt x="78" y="24"/>
                          </a:lnTo>
                          <a:lnTo>
                            <a:pt x="81" y="14"/>
                          </a:lnTo>
                          <a:lnTo>
                            <a:pt x="83" y="11"/>
                          </a:lnTo>
                          <a:close/>
                        </a:path>
                      </a:pathLst>
                    </a:custGeom>
                    <a:solidFill>
                      <a:srgbClr val="bfd8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>
                      <a:off x="6472800" y="5547240"/>
                      <a:ext cx="17424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94">
                          <a:moveTo>
                            <a:pt x="343" y="143"/>
                          </a:moveTo>
                          <a:lnTo>
                            <a:pt x="341" y="142"/>
                          </a:lnTo>
                          <a:lnTo>
                            <a:pt x="335" y="137"/>
                          </a:lnTo>
                          <a:lnTo>
                            <a:pt x="327" y="131"/>
                          </a:lnTo>
                          <a:lnTo>
                            <a:pt x="314" y="123"/>
                          </a:lnTo>
                          <a:lnTo>
                            <a:pt x="301" y="114"/>
                          </a:lnTo>
                          <a:lnTo>
                            <a:pt x="284" y="103"/>
                          </a:lnTo>
                          <a:lnTo>
                            <a:pt x="268" y="90"/>
                          </a:lnTo>
                          <a:lnTo>
                            <a:pt x="249" y="78"/>
                          </a:lnTo>
                          <a:lnTo>
                            <a:pt x="230" y="66"/>
                          </a:lnTo>
                          <a:lnTo>
                            <a:pt x="211" y="54"/>
                          </a:lnTo>
                          <a:lnTo>
                            <a:pt x="193" y="42"/>
                          </a:lnTo>
                          <a:lnTo>
                            <a:pt x="175" y="31"/>
                          </a:lnTo>
                          <a:lnTo>
                            <a:pt x="160" y="21"/>
                          </a:lnTo>
                          <a:lnTo>
                            <a:pt x="145" y="14"/>
                          </a:lnTo>
                          <a:lnTo>
                            <a:pt x="134" y="8"/>
                          </a:lnTo>
                          <a:lnTo>
                            <a:pt x="125" y="4"/>
                          </a:lnTo>
                          <a:lnTo>
                            <a:pt x="111" y="0"/>
                          </a:lnTo>
                          <a:lnTo>
                            <a:pt x="97" y="0"/>
                          </a:lnTo>
                          <a:lnTo>
                            <a:pt x="85" y="4"/>
                          </a:lnTo>
                          <a:lnTo>
                            <a:pt x="74" y="9"/>
                          </a:lnTo>
                          <a:lnTo>
                            <a:pt x="64" y="18"/>
                          </a:lnTo>
                          <a:lnTo>
                            <a:pt x="55" y="28"/>
                          </a:lnTo>
                          <a:lnTo>
                            <a:pt x="46" y="40"/>
                          </a:lnTo>
                          <a:lnTo>
                            <a:pt x="39" y="54"/>
                          </a:lnTo>
                          <a:lnTo>
                            <a:pt x="34" y="64"/>
                          </a:lnTo>
                          <a:lnTo>
                            <a:pt x="28" y="74"/>
                          </a:lnTo>
                          <a:lnTo>
                            <a:pt x="23" y="85"/>
                          </a:lnTo>
                          <a:lnTo>
                            <a:pt x="17" y="96"/>
                          </a:lnTo>
                          <a:lnTo>
                            <a:pt x="11" y="108"/>
                          </a:lnTo>
                          <a:lnTo>
                            <a:pt x="7" y="119"/>
                          </a:lnTo>
                          <a:lnTo>
                            <a:pt x="4" y="131"/>
                          </a:lnTo>
                          <a:lnTo>
                            <a:pt x="1" y="143"/>
                          </a:lnTo>
                          <a:lnTo>
                            <a:pt x="0" y="145"/>
                          </a:lnTo>
                          <a:lnTo>
                            <a:pt x="0" y="147"/>
                          </a:lnTo>
                          <a:lnTo>
                            <a:pt x="0" y="148"/>
                          </a:lnTo>
                          <a:lnTo>
                            <a:pt x="0" y="150"/>
                          </a:lnTo>
                          <a:lnTo>
                            <a:pt x="1" y="159"/>
                          </a:lnTo>
                          <a:lnTo>
                            <a:pt x="5" y="168"/>
                          </a:lnTo>
                          <a:lnTo>
                            <a:pt x="9" y="176"/>
                          </a:lnTo>
                          <a:lnTo>
                            <a:pt x="16" y="184"/>
                          </a:lnTo>
                          <a:lnTo>
                            <a:pt x="26" y="189"/>
                          </a:lnTo>
                          <a:lnTo>
                            <a:pt x="40" y="193"/>
                          </a:lnTo>
                          <a:lnTo>
                            <a:pt x="60" y="194"/>
                          </a:lnTo>
                          <a:lnTo>
                            <a:pt x="83" y="194"/>
                          </a:lnTo>
                          <a:lnTo>
                            <a:pt x="108" y="190"/>
                          </a:lnTo>
                          <a:lnTo>
                            <a:pt x="136" y="187"/>
                          </a:lnTo>
                          <a:lnTo>
                            <a:pt x="165" y="183"/>
                          </a:lnTo>
                          <a:lnTo>
                            <a:pt x="194" y="177"/>
                          </a:lnTo>
                          <a:lnTo>
                            <a:pt x="222" y="172"/>
                          </a:lnTo>
                          <a:lnTo>
                            <a:pt x="250" y="166"/>
                          </a:lnTo>
                          <a:lnTo>
                            <a:pt x="275" y="159"/>
                          </a:lnTo>
                          <a:lnTo>
                            <a:pt x="298" y="155"/>
                          </a:lnTo>
                          <a:lnTo>
                            <a:pt x="317" y="149"/>
                          </a:lnTo>
                          <a:lnTo>
                            <a:pt x="331" y="146"/>
                          </a:lnTo>
                          <a:lnTo>
                            <a:pt x="340" y="144"/>
                          </a:lnTo>
                          <a:lnTo>
                            <a:pt x="343" y="143"/>
                          </a:lnTo>
                          <a:close/>
                        </a:path>
                      </a:pathLst>
                    </a:custGeom>
                    <a:solidFill>
                      <a:srgbClr val="bfd8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>
                      <a:off x="6517800" y="5276160"/>
                      <a:ext cx="255600" cy="32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1" h="742">
                          <a:moveTo>
                            <a:pt x="433" y="742"/>
                          </a:moveTo>
                          <a:lnTo>
                            <a:pt x="430" y="739"/>
                          </a:lnTo>
                          <a:lnTo>
                            <a:pt x="420" y="733"/>
                          </a:lnTo>
                          <a:lnTo>
                            <a:pt x="404" y="722"/>
                          </a:lnTo>
                          <a:lnTo>
                            <a:pt x="383" y="708"/>
                          </a:lnTo>
                          <a:lnTo>
                            <a:pt x="360" y="692"/>
                          </a:lnTo>
                          <a:lnTo>
                            <a:pt x="332" y="673"/>
                          </a:lnTo>
                          <a:lnTo>
                            <a:pt x="303" y="651"/>
                          </a:lnTo>
                          <a:lnTo>
                            <a:pt x="272" y="630"/>
                          </a:lnTo>
                          <a:lnTo>
                            <a:pt x="241" y="609"/>
                          </a:lnTo>
                          <a:lnTo>
                            <a:pt x="210" y="588"/>
                          </a:lnTo>
                          <a:lnTo>
                            <a:pt x="182" y="567"/>
                          </a:lnTo>
                          <a:lnTo>
                            <a:pt x="155" y="548"/>
                          </a:lnTo>
                          <a:lnTo>
                            <a:pt x="131" y="530"/>
                          </a:lnTo>
                          <a:lnTo>
                            <a:pt x="111" y="516"/>
                          </a:lnTo>
                          <a:lnTo>
                            <a:pt x="97" y="503"/>
                          </a:lnTo>
                          <a:lnTo>
                            <a:pt x="88" y="496"/>
                          </a:lnTo>
                          <a:lnTo>
                            <a:pt x="78" y="486"/>
                          </a:lnTo>
                          <a:lnTo>
                            <a:pt x="65" y="473"/>
                          </a:lnTo>
                          <a:lnTo>
                            <a:pt x="50" y="459"/>
                          </a:lnTo>
                          <a:lnTo>
                            <a:pt x="36" y="444"/>
                          </a:lnTo>
                          <a:lnTo>
                            <a:pt x="22" y="428"/>
                          </a:lnTo>
                          <a:lnTo>
                            <a:pt x="11" y="411"/>
                          </a:lnTo>
                          <a:lnTo>
                            <a:pt x="3" y="393"/>
                          </a:lnTo>
                          <a:lnTo>
                            <a:pt x="0" y="377"/>
                          </a:lnTo>
                          <a:lnTo>
                            <a:pt x="1" y="365"/>
                          </a:lnTo>
                          <a:lnTo>
                            <a:pt x="4" y="355"/>
                          </a:lnTo>
                          <a:lnTo>
                            <a:pt x="11" y="345"/>
                          </a:lnTo>
                          <a:lnTo>
                            <a:pt x="20" y="335"/>
                          </a:lnTo>
                          <a:lnTo>
                            <a:pt x="43" y="318"/>
                          </a:lnTo>
                          <a:lnTo>
                            <a:pt x="64" y="303"/>
                          </a:lnTo>
                          <a:lnTo>
                            <a:pt x="82" y="292"/>
                          </a:lnTo>
                          <a:lnTo>
                            <a:pt x="99" y="283"/>
                          </a:lnTo>
                          <a:lnTo>
                            <a:pt x="112" y="276"/>
                          </a:lnTo>
                          <a:lnTo>
                            <a:pt x="124" y="271"/>
                          </a:lnTo>
                          <a:lnTo>
                            <a:pt x="131" y="269"/>
                          </a:lnTo>
                          <a:lnTo>
                            <a:pt x="136" y="266"/>
                          </a:lnTo>
                          <a:lnTo>
                            <a:pt x="140" y="256"/>
                          </a:lnTo>
                          <a:lnTo>
                            <a:pt x="148" y="233"/>
                          </a:lnTo>
                          <a:lnTo>
                            <a:pt x="159" y="200"/>
                          </a:lnTo>
                          <a:lnTo>
                            <a:pt x="172" y="160"/>
                          </a:lnTo>
                          <a:lnTo>
                            <a:pt x="184" y="118"/>
                          </a:lnTo>
                          <a:lnTo>
                            <a:pt x="196" y="79"/>
                          </a:lnTo>
                          <a:lnTo>
                            <a:pt x="206" y="46"/>
                          </a:lnTo>
                          <a:lnTo>
                            <a:pt x="213" y="24"/>
                          </a:lnTo>
                          <a:lnTo>
                            <a:pt x="219" y="10"/>
                          </a:lnTo>
                          <a:lnTo>
                            <a:pt x="229" y="4"/>
                          </a:lnTo>
                          <a:lnTo>
                            <a:pt x="241" y="0"/>
                          </a:lnTo>
                          <a:lnTo>
                            <a:pt x="252" y="0"/>
                          </a:lnTo>
                          <a:lnTo>
                            <a:pt x="263" y="3"/>
                          </a:lnTo>
                          <a:lnTo>
                            <a:pt x="272" y="6"/>
                          </a:lnTo>
                          <a:lnTo>
                            <a:pt x="278" y="8"/>
                          </a:lnTo>
                          <a:lnTo>
                            <a:pt x="281" y="9"/>
                          </a:lnTo>
                          <a:lnTo>
                            <a:pt x="278" y="24"/>
                          </a:lnTo>
                          <a:lnTo>
                            <a:pt x="273" y="57"/>
                          </a:lnTo>
                          <a:lnTo>
                            <a:pt x="267" y="95"/>
                          </a:lnTo>
                          <a:lnTo>
                            <a:pt x="263" y="123"/>
                          </a:lnTo>
                          <a:lnTo>
                            <a:pt x="258" y="154"/>
                          </a:lnTo>
                          <a:lnTo>
                            <a:pt x="256" y="174"/>
                          </a:lnTo>
                          <a:lnTo>
                            <a:pt x="257" y="184"/>
                          </a:lnTo>
                          <a:lnTo>
                            <a:pt x="261" y="186"/>
                          </a:lnTo>
                          <a:lnTo>
                            <a:pt x="267" y="183"/>
                          </a:lnTo>
                          <a:lnTo>
                            <a:pt x="277" y="174"/>
                          </a:lnTo>
                          <a:lnTo>
                            <a:pt x="291" y="163"/>
                          </a:lnTo>
                          <a:lnTo>
                            <a:pt x="308" y="151"/>
                          </a:lnTo>
                          <a:lnTo>
                            <a:pt x="317" y="146"/>
                          </a:lnTo>
                          <a:lnTo>
                            <a:pt x="327" y="143"/>
                          </a:lnTo>
                          <a:lnTo>
                            <a:pt x="340" y="141"/>
                          </a:lnTo>
                          <a:lnTo>
                            <a:pt x="352" y="140"/>
                          </a:lnTo>
                          <a:lnTo>
                            <a:pt x="366" y="140"/>
                          </a:lnTo>
                          <a:lnTo>
                            <a:pt x="380" y="141"/>
                          </a:lnTo>
                          <a:lnTo>
                            <a:pt x="394" y="143"/>
                          </a:lnTo>
                          <a:lnTo>
                            <a:pt x="410" y="146"/>
                          </a:lnTo>
                          <a:lnTo>
                            <a:pt x="423" y="151"/>
                          </a:lnTo>
                          <a:lnTo>
                            <a:pt x="438" y="156"/>
                          </a:lnTo>
                          <a:lnTo>
                            <a:pt x="451" y="163"/>
                          </a:lnTo>
                          <a:lnTo>
                            <a:pt x="463" y="171"/>
                          </a:lnTo>
                          <a:lnTo>
                            <a:pt x="473" y="180"/>
                          </a:lnTo>
                          <a:lnTo>
                            <a:pt x="483" y="190"/>
                          </a:lnTo>
                          <a:lnTo>
                            <a:pt x="491" y="200"/>
                          </a:lnTo>
                          <a:lnTo>
                            <a:pt x="497" y="211"/>
                          </a:lnTo>
                          <a:lnTo>
                            <a:pt x="501" y="252"/>
                          </a:lnTo>
                          <a:lnTo>
                            <a:pt x="497" y="321"/>
                          </a:lnTo>
                          <a:lnTo>
                            <a:pt x="487" y="407"/>
                          </a:lnTo>
                          <a:lnTo>
                            <a:pt x="473" y="500"/>
                          </a:lnTo>
                          <a:lnTo>
                            <a:pt x="460" y="590"/>
                          </a:lnTo>
                          <a:lnTo>
                            <a:pt x="447" y="667"/>
                          </a:lnTo>
                          <a:lnTo>
                            <a:pt x="436" y="722"/>
                          </a:lnTo>
                          <a:lnTo>
                            <a:pt x="433" y="742"/>
                          </a:lnTo>
                          <a:close/>
                        </a:path>
                      </a:pathLst>
                    </a:custGeom>
                    <a:solidFill>
                      <a:srgbClr val="bfd8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>
                      <a:off x="6471000" y="5443920"/>
                      <a:ext cx="76320" cy="12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287">
                          <a:moveTo>
                            <a:pt x="101" y="276"/>
                          </a:moveTo>
                          <a:lnTo>
                            <a:pt x="92" y="271"/>
                          </a:lnTo>
                          <a:lnTo>
                            <a:pt x="84" y="264"/>
                          </a:lnTo>
                          <a:lnTo>
                            <a:pt x="76" y="256"/>
                          </a:lnTo>
                          <a:lnTo>
                            <a:pt x="69" y="248"/>
                          </a:lnTo>
                          <a:lnTo>
                            <a:pt x="62" y="240"/>
                          </a:lnTo>
                          <a:lnTo>
                            <a:pt x="56" y="231"/>
                          </a:lnTo>
                          <a:lnTo>
                            <a:pt x="50" y="222"/>
                          </a:lnTo>
                          <a:lnTo>
                            <a:pt x="43" y="212"/>
                          </a:lnTo>
                          <a:lnTo>
                            <a:pt x="32" y="193"/>
                          </a:lnTo>
                          <a:lnTo>
                            <a:pt x="24" y="173"/>
                          </a:lnTo>
                          <a:lnTo>
                            <a:pt x="18" y="153"/>
                          </a:lnTo>
                          <a:lnTo>
                            <a:pt x="14" y="132"/>
                          </a:lnTo>
                          <a:lnTo>
                            <a:pt x="13" y="105"/>
                          </a:lnTo>
                          <a:lnTo>
                            <a:pt x="14" y="79"/>
                          </a:lnTo>
                          <a:lnTo>
                            <a:pt x="22" y="55"/>
                          </a:lnTo>
                          <a:lnTo>
                            <a:pt x="38" y="34"/>
                          </a:lnTo>
                          <a:lnTo>
                            <a:pt x="49" y="25"/>
                          </a:lnTo>
                          <a:lnTo>
                            <a:pt x="61" y="19"/>
                          </a:lnTo>
                          <a:lnTo>
                            <a:pt x="75" y="15"/>
                          </a:lnTo>
                          <a:lnTo>
                            <a:pt x="88" y="12"/>
                          </a:lnTo>
                          <a:lnTo>
                            <a:pt x="101" y="11"/>
                          </a:lnTo>
                          <a:lnTo>
                            <a:pt x="115" y="11"/>
                          </a:lnTo>
                          <a:lnTo>
                            <a:pt x="129" y="11"/>
                          </a:lnTo>
                          <a:lnTo>
                            <a:pt x="143" y="12"/>
                          </a:lnTo>
                          <a:lnTo>
                            <a:pt x="145" y="12"/>
                          </a:lnTo>
                          <a:lnTo>
                            <a:pt x="147" y="11"/>
                          </a:lnTo>
                          <a:lnTo>
                            <a:pt x="148" y="9"/>
                          </a:lnTo>
                          <a:lnTo>
                            <a:pt x="149" y="7"/>
                          </a:lnTo>
                          <a:lnTo>
                            <a:pt x="149" y="5"/>
                          </a:lnTo>
                          <a:lnTo>
                            <a:pt x="148" y="4"/>
                          </a:lnTo>
                          <a:lnTo>
                            <a:pt x="146" y="1"/>
                          </a:lnTo>
                          <a:lnTo>
                            <a:pt x="144" y="1"/>
                          </a:lnTo>
                          <a:lnTo>
                            <a:pt x="131" y="0"/>
                          </a:lnTo>
                          <a:lnTo>
                            <a:pt x="118" y="0"/>
                          </a:lnTo>
                          <a:lnTo>
                            <a:pt x="106" y="0"/>
                          </a:lnTo>
                          <a:lnTo>
                            <a:pt x="92" y="0"/>
                          </a:lnTo>
                          <a:lnTo>
                            <a:pt x="80" y="2"/>
                          </a:lnTo>
                          <a:lnTo>
                            <a:pt x="68" y="5"/>
                          </a:lnTo>
                          <a:lnTo>
                            <a:pt x="56" y="9"/>
                          </a:lnTo>
                          <a:lnTo>
                            <a:pt x="43" y="15"/>
                          </a:lnTo>
                          <a:lnTo>
                            <a:pt x="35" y="21"/>
                          </a:lnTo>
                          <a:lnTo>
                            <a:pt x="26" y="29"/>
                          </a:lnTo>
                          <a:lnTo>
                            <a:pt x="19" y="37"/>
                          </a:lnTo>
                          <a:lnTo>
                            <a:pt x="13" y="46"/>
                          </a:lnTo>
                          <a:lnTo>
                            <a:pt x="9" y="56"/>
                          </a:lnTo>
                          <a:lnTo>
                            <a:pt x="4" y="67"/>
                          </a:lnTo>
                          <a:lnTo>
                            <a:pt x="2" y="77"/>
                          </a:lnTo>
                          <a:lnTo>
                            <a:pt x="1" y="88"/>
                          </a:lnTo>
                          <a:lnTo>
                            <a:pt x="0" y="93"/>
                          </a:lnTo>
                          <a:lnTo>
                            <a:pt x="0" y="97"/>
                          </a:lnTo>
                          <a:lnTo>
                            <a:pt x="0" y="102"/>
                          </a:lnTo>
                          <a:lnTo>
                            <a:pt x="0" y="106"/>
                          </a:lnTo>
                          <a:lnTo>
                            <a:pt x="2" y="133"/>
                          </a:lnTo>
                          <a:lnTo>
                            <a:pt x="8" y="158"/>
                          </a:lnTo>
                          <a:lnTo>
                            <a:pt x="16" y="183"/>
                          </a:lnTo>
                          <a:lnTo>
                            <a:pt x="27" y="207"/>
                          </a:lnTo>
                          <a:lnTo>
                            <a:pt x="40" y="229"/>
                          </a:lnTo>
                          <a:lnTo>
                            <a:pt x="56" y="251"/>
                          </a:lnTo>
                          <a:lnTo>
                            <a:pt x="75" y="270"/>
                          </a:lnTo>
                          <a:lnTo>
                            <a:pt x="95" y="286"/>
                          </a:lnTo>
                          <a:lnTo>
                            <a:pt x="97" y="287"/>
                          </a:lnTo>
                          <a:lnTo>
                            <a:pt x="99" y="287"/>
                          </a:lnTo>
                          <a:lnTo>
                            <a:pt x="100" y="286"/>
                          </a:lnTo>
                          <a:lnTo>
                            <a:pt x="102" y="285"/>
                          </a:lnTo>
                          <a:lnTo>
                            <a:pt x="104" y="283"/>
                          </a:lnTo>
                          <a:lnTo>
                            <a:pt x="104" y="281"/>
                          </a:lnTo>
                          <a:lnTo>
                            <a:pt x="104" y="278"/>
                          </a:lnTo>
                          <a:lnTo>
                            <a:pt x="101" y="276"/>
                          </a:lnTo>
                          <a:lnTo>
                            <a:pt x="101" y="2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6687000" y="5596920"/>
                      <a:ext cx="17100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" h="176">
                          <a:moveTo>
                            <a:pt x="3" y="143"/>
                          </a:moveTo>
                          <a:lnTo>
                            <a:pt x="19" y="150"/>
                          </a:lnTo>
                          <a:lnTo>
                            <a:pt x="35" y="157"/>
                          </a:lnTo>
                          <a:lnTo>
                            <a:pt x="50" y="161"/>
                          </a:lnTo>
                          <a:lnTo>
                            <a:pt x="67" y="166"/>
                          </a:lnTo>
                          <a:lnTo>
                            <a:pt x="84" y="168"/>
                          </a:lnTo>
                          <a:lnTo>
                            <a:pt x="99" y="168"/>
                          </a:lnTo>
                          <a:lnTo>
                            <a:pt x="116" y="167"/>
                          </a:lnTo>
                          <a:lnTo>
                            <a:pt x="133" y="162"/>
                          </a:lnTo>
                          <a:lnTo>
                            <a:pt x="141" y="158"/>
                          </a:lnTo>
                          <a:lnTo>
                            <a:pt x="149" y="151"/>
                          </a:lnTo>
                          <a:lnTo>
                            <a:pt x="155" y="142"/>
                          </a:lnTo>
                          <a:lnTo>
                            <a:pt x="158" y="132"/>
                          </a:lnTo>
                          <a:lnTo>
                            <a:pt x="156" y="109"/>
                          </a:lnTo>
                          <a:lnTo>
                            <a:pt x="148" y="86"/>
                          </a:lnTo>
                          <a:lnTo>
                            <a:pt x="138" y="63"/>
                          </a:lnTo>
                          <a:lnTo>
                            <a:pt x="131" y="40"/>
                          </a:lnTo>
                          <a:lnTo>
                            <a:pt x="131" y="34"/>
                          </a:lnTo>
                          <a:lnTo>
                            <a:pt x="134" y="29"/>
                          </a:lnTo>
                          <a:lnTo>
                            <a:pt x="137" y="23"/>
                          </a:lnTo>
                          <a:lnTo>
                            <a:pt x="143" y="20"/>
                          </a:lnTo>
                          <a:lnTo>
                            <a:pt x="159" y="14"/>
                          </a:lnTo>
                          <a:lnTo>
                            <a:pt x="177" y="10"/>
                          </a:lnTo>
                          <a:lnTo>
                            <a:pt x="194" y="9"/>
                          </a:lnTo>
                          <a:lnTo>
                            <a:pt x="212" y="9"/>
                          </a:lnTo>
                          <a:lnTo>
                            <a:pt x="228" y="12"/>
                          </a:lnTo>
                          <a:lnTo>
                            <a:pt x="246" y="18"/>
                          </a:lnTo>
                          <a:lnTo>
                            <a:pt x="264" y="26"/>
                          </a:lnTo>
                          <a:lnTo>
                            <a:pt x="283" y="36"/>
                          </a:lnTo>
                          <a:lnTo>
                            <a:pt x="292" y="41"/>
                          </a:lnTo>
                          <a:lnTo>
                            <a:pt x="300" y="47"/>
                          </a:lnTo>
                          <a:lnTo>
                            <a:pt x="306" y="53"/>
                          </a:lnTo>
                          <a:lnTo>
                            <a:pt x="312" y="60"/>
                          </a:lnTo>
                          <a:lnTo>
                            <a:pt x="317" y="68"/>
                          </a:lnTo>
                          <a:lnTo>
                            <a:pt x="321" y="77"/>
                          </a:lnTo>
                          <a:lnTo>
                            <a:pt x="324" y="87"/>
                          </a:lnTo>
                          <a:lnTo>
                            <a:pt x="325" y="97"/>
                          </a:lnTo>
                          <a:lnTo>
                            <a:pt x="324" y="116"/>
                          </a:lnTo>
                          <a:lnTo>
                            <a:pt x="319" y="135"/>
                          </a:lnTo>
                          <a:lnTo>
                            <a:pt x="309" y="151"/>
                          </a:lnTo>
                          <a:lnTo>
                            <a:pt x="296" y="166"/>
                          </a:lnTo>
                          <a:lnTo>
                            <a:pt x="295" y="168"/>
                          </a:lnTo>
                          <a:lnTo>
                            <a:pt x="295" y="170"/>
                          </a:lnTo>
                          <a:lnTo>
                            <a:pt x="295" y="172"/>
                          </a:lnTo>
                          <a:lnTo>
                            <a:pt x="296" y="175"/>
                          </a:lnTo>
                          <a:lnTo>
                            <a:pt x="298" y="176"/>
                          </a:lnTo>
                          <a:lnTo>
                            <a:pt x="301" y="176"/>
                          </a:lnTo>
                          <a:lnTo>
                            <a:pt x="303" y="176"/>
                          </a:lnTo>
                          <a:lnTo>
                            <a:pt x="305" y="175"/>
                          </a:lnTo>
                          <a:lnTo>
                            <a:pt x="319" y="159"/>
                          </a:lnTo>
                          <a:lnTo>
                            <a:pt x="329" y="141"/>
                          </a:lnTo>
                          <a:lnTo>
                            <a:pt x="334" y="122"/>
                          </a:lnTo>
                          <a:lnTo>
                            <a:pt x="336" y="102"/>
                          </a:lnTo>
                          <a:lnTo>
                            <a:pt x="336" y="100"/>
                          </a:lnTo>
                          <a:lnTo>
                            <a:pt x="336" y="98"/>
                          </a:lnTo>
                          <a:lnTo>
                            <a:pt x="336" y="97"/>
                          </a:lnTo>
                          <a:lnTo>
                            <a:pt x="336" y="95"/>
                          </a:lnTo>
                          <a:lnTo>
                            <a:pt x="334" y="83"/>
                          </a:lnTo>
                          <a:lnTo>
                            <a:pt x="331" y="72"/>
                          </a:lnTo>
                          <a:lnTo>
                            <a:pt x="326" y="63"/>
                          </a:lnTo>
                          <a:lnTo>
                            <a:pt x="320" y="53"/>
                          </a:lnTo>
                          <a:lnTo>
                            <a:pt x="313" y="46"/>
                          </a:lnTo>
                          <a:lnTo>
                            <a:pt x="304" y="38"/>
                          </a:lnTo>
                          <a:lnTo>
                            <a:pt x="295" y="31"/>
                          </a:lnTo>
                          <a:lnTo>
                            <a:pt x="286" y="26"/>
                          </a:lnTo>
                          <a:lnTo>
                            <a:pt x="277" y="20"/>
                          </a:lnTo>
                          <a:lnTo>
                            <a:pt x="268" y="15"/>
                          </a:lnTo>
                          <a:lnTo>
                            <a:pt x="258" y="12"/>
                          </a:lnTo>
                          <a:lnTo>
                            <a:pt x="249" y="8"/>
                          </a:lnTo>
                          <a:lnTo>
                            <a:pt x="241" y="5"/>
                          </a:lnTo>
                          <a:lnTo>
                            <a:pt x="231" y="3"/>
                          </a:lnTo>
                          <a:lnTo>
                            <a:pt x="221" y="1"/>
                          </a:lnTo>
                          <a:lnTo>
                            <a:pt x="211" y="0"/>
                          </a:lnTo>
                          <a:lnTo>
                            <a:pt x="199" y="0"/>
                          </a:lnTo>
                          <a:lnTo>
                            <a:pt x="187" y="0"/>
                          </a:lnTo>
                          <a:lnTo>
                            <a:pt x="174" y="1"/>
                          </a:lnTo>
                          <a:lnTo>
                            <a:pt x="160" y="3"/>
                          </a:lnTo>
                          <a:lnTo>
                            <a:pt x="148" y="5"/>
                          </a:lnTo>
                          <a:lnTo>
                            <a:pt x="136" y="10"/>
                          </a:lnTo>
                          <a:lnTo>
                            <a:pt x="127" y="15"/>
                          </a:lnTo>
                          <a:lnTo>
                            <a:pt x="121" y="23"/>
                          </a:lnTo>
                          <a:lnTo>
                            <a:pt x="119" y="37"/>
                          </a:lnTo>
                          <a:lnTo>
                            <a:pt x="121" y="50"/>
                          </a:lnTo>
                          <a:lnTo>
                            <a:pt x="125" y="63"/>
                          </a:lnTo>
                          <a:lnTo>
                            <a:pt x="130" y="76"/>
                          </a:lnTo>
                          <a:lnTo>
                            <a:pt x="136" y="89"/>
                          </a:lnTo>
                          <a:lnTo>
                            <a:pt x="141" y="101"/>
                          </a:lnTo>
                          <a:lnTo>
                            <a:pt x="146" y="115"/>
                          </a:lnTo>
                          <a:lnTo>
                            <a:pt x="147" y="128"/>
                          </a:lnTo>
                          <a:lnTo>
                            <a:pt x="146" y="135"/>
                          </a:lnTo>
                          <a:lnTo>
                            <a:pt x="143" y="141"/>
                          </a:lnTo>
                          <a:lnTo>
                            <a:pt x="138" y="147"/>
                          </a:lnTo>
                          <a:lnTo>
                            <a:pt x="130" y="150"/>
                          </a:lnTo>
                          <a:lnTo>
                            <a:pt x="115" y="155"/>
                          </a:lnTo>
                          <a:lnTo>
                            <a:pt x="99" y="156"/>
                          </a:lnTo>
                          <a:lnTo>
                            <a:pt x="84" y="156"/>
                          </a:lnTo>
                          <a:lnTo>
                            <a:pt x="68" y="153"/>
                          </a:lnTo>
                          <a:lnTo>
                            <a:pt x="52" y="150"/>
                          </a:lnTo>
                          <a:lnTo>
                            <a:pt x="38" y="145"/>
                          </a:lnTo>
                          <a:lnTo>
                            <a:pt x="23" y="139"/>
                          </a:lnTo>
                          <a:lnTo>
                            <a:pt x="9" y="132"/>
                          </a:lnTo>
                          <a:lnTo>
                            <a:pt x="7" y="132"/>
                          </a:lnTo>
                          <a:lnTo>
                            <a:pt x="5" y="132"/>
                          </a:lnTo>
                          <a:lnTo>
                            <a:pt x="2" y="133"/>
                          </a:lnTo>
                          <a:lnTo>
                            <a:pt x="1" y="136"/>
                          </a:lnTo>
                          <a:lnTo>
                            <a:pt x="0" y="138"/>
                          </a:lnTo>
                          <a:lnTo>
                            <a:pt x="0" y="140"/>
                          </a:lnTo>
                          <a:lnTo>
                            <a:pt x="1" y="142"/>
                          </a:lnTo>
                          <a:lnTo>
                            <a:pt x="3" y="143"/>
                          </a:lnTo>
                          <a:lnTo>
                            <a:pt x="3" y="1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6526800" y="5342760"/>
                      <a:ext cx="3841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5" h="607">
                          <a:moveTo>
                            <a:pt x="429" y="0"/>
                          </a:moveTo>
                          <a:lnTo>
                            <a:pt x="0" y="197"/>
                          </a:lnTo>
                          <a:lnTo>
                            <a:pt x="28" y="299"/>
                          </a:lnTo>
                          <a:lnTo>
                            <a:pt x="352" y="607"/>
                          </a:lnTo>
                          <a:lnTo>
                            <a:pt x="719" y="349"/>
                          </a:lnTo>
                          <a:lnTo>
                            <a:pt x="755" y="240"/>
                          </a:lnTo>
                          <a:lnTo>
                            <a:pt x="42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6715440" y="5384520"/>
                      <a:ext cx="144720" cy="11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273">
                          <a:moveTo>
                            <a:pt x="284" y="104"/>
                          </a:moveTo>
                          <a:lnTo>
                            <a:pt x="142" y="0"/>
                          </a:lnTo>
                          <a:lnTo>
                            <a:pt x="0" y="191"/>
                          </a:lnTo>
                          <a:lnTo>
                            <a:pt x="49" y="273"/>
                          </a:lnTo>
                          <a:lnTo>
                            <a:pt x="123" y="261"/>
                          </a:lnTo>
                          <a:lnTo>
                            <a:pt x="284" y="104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6667560" y="5429160"/>
                      <a:ext cx="223920" cy="12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9" h="279">
                          <a:moveTo>
                            <a:pt x="378" y="0"/>
                          </a:moveTo>
                          <a:lnTo>
                            <a:pt x="217" y="157"/>
                          </a:lnTo>
                          <a:lnTo>
                            <a:pt x="143" y="169"/>
                          </a:lnTo>
                          <a:lnTo>
                            <a:pt x="151" y="182"/>
                          </a:lnTo>
                          <a:lnTo>
                            <a:pt x="121" y="203"/>
                          </a:lnTo>
                          <a:lnTo>
                            <a:pt x="0" y="213"/>
                          </a:lnTo>
                          <a:lnTo>
                            <a:pt x="81" y="279"/>
                          </a:lnTo>
                          <a:lnTo>
                            <a:pt x="439" y="44"/>
                          </a:lnTo>
                          <a:lnTo>
                            <a:pt x="3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>
                      <a:off x="6638040" y="5467680"/>
                      <a:ext cx="1058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126">
                          <a:moveTo>
                            <a:pt x="210" y="95"/>
                          </a:moveTo>
                          <a:lnTo>
                            <a:pt x="153" y="0"/>
                          </a:lnTo>
                          <a:lnTo>
                            <a:pt x="102" y="88"/>
                          </a:lnTo>
                          <a:lnTo>
                            <a:pt x="0" y="73"/>
                          </a:lnTo>
                          <a:lnTo>
                            <a:pt x="59" y="126"/>
                          </a:lnTo>
                          <a:lnTo>
                            <a:pt x="180" y="116"/>
                          </a:lnTo>
                          <a:lnTo>
                            <a:pt x="210" y="95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5" name=""/>
                    <p:cNvSpPr/>
                    <p:nvPr/>
                  </p:nvSpPr>
                  <p:spPr>
                    <a:xfrm>
                      <a:off x="6550200" y="5369040"/>
                      <a:ext cx="20988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314">
                          <a:moveTo>
                            <a:pt x="413" y="69"/>
                          </a:moveTo>
                          <a:lnTo>
                            <a:pt x="309" y="0"/>
                          </a:lnTo>
                          <a:lnTo>
                            <a:pt x="0" y="147"/>
                          </a:lnTo>
                          <a:lnTo>
                            <a:pt x="171" y="299"/>
                          </a:lnTo>
                          <a:lnTo>
                            <a:pt x="273" y="314"/>
                          </a:lnTo>
                          <a:lnTo>
                            <a:pt x="413" y="69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>
                      <a:off x="6616800" y="5426640"/>
                      <a:ext cx="1231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4" h="192">
                          <a:moveTo>
                            <a:pt x="22" y="0"/>
                          </a:moveTo>
                          <a:lnTo>
                            <a:pt x="20" y="3"/>
                          </a:lnTo>
                          <a:lnTo>
                            <a:pt x="13" y="11"/>
                          </a:lnTo>
                          <a:lnTo>
                            <a:pt x="7" y="24"/>
                          </a:lnTo>
                          <a:lnTo>
                            <a:pt x="1" y="40"/>
                          </a:lnTo>
                          <a:lnTo>
                            <a:pt x="0" y="61"/>
                          </a:lnTo>
                          <a:lnTo>
                            <a:pt x="7" y="86"/>
                          </a:lnTo>
                          <a:lnTo>
                            <a:pt x="23" y="113"/>
                          </a:lnTo>
                          <a:lnTo>
                            <a:pt x="52" y="143"/>
                          </a:lnTo>
                          <a:lnTo>
                            <a:pt x="79" y="162"/>
                          </a:lnTo>
                          <a:lnTo>
                            <a:pt x="106" y="175"/>
                          </a:lnTo>
                          <a:lnTo>
                            <a:pt x="133" y="184"/>
                          </a:lnTo>
                          <a:lnTo>
                            <a:pt x="156" y="189"/>
                          </a:lnTo>
                          <a:lnTo>
                            <a:pt x="177" y="192"/>
                          </a:lnTo>
                          <a:lnTo>
                            <a:pt x="194" y="192"/>
                          </a:lnTo>
                          <a:lnTo>
                            <a:pt x="205" y="191"/>
                          </a:lnTo>
                          <a:lnTo>
                            <a:pt x="208" y="191"/>
                          </a:lnTo>
                          <a:lnTo>
                            <a:pt x="244" y="167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6624720" y="5437800"/>
                      <a:ext cx="9756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41">
                          <a:moveTo>
                            <a:pt x="10" y="0"/>
                          </a:moveTo>
                          <a:lnTo>
                            <a:pt x="0" y="28"/>
                          </a:lnTo>
                          <a:lnTo>
                            <a:pt x="0" y="29"/>
                          </a:lnTo>
                          <a:lnTo>
                            <a:pt x="2" y="33"/>
                          </a:lnTo>
                          <a:lnTo>
                            <a:pt x="4" y="39"/>
                          </a:lnTo>
                          <a:lnTo>
                            <a:pt x="9" y="47"/>
                          </a:lnTo>
                          <a:lnTo>
                            <a:pt x="13" y="56"/>
                          </a:lnTo>
                          <a:lnTo>
                            <a:pt x="20" y="66"/>
                          </a:lnTo>
                          <a:lnTo>
                            <a:pt x="28" y="77"/>
                          </a:lnTo>
                          <a:lnTo>
                            <a:pt x="38" y="88"/>
                          </a:lnTo>
                          <a:lnTo>
                            <a:pt x="49" y="98"/>
                          </a:lnTo>
                          <a:lnTo>
                            <a:pt x="61" y="109"/>
                          </a:lnTo>
                          <a:lnTo>
                            <a:pt x="76" y="118"/>
                          </a:lnTo>
                          <a:lnTo>
                            <a:pt x="92" y="127"/>
                          </a:lnTo>
                          <a:lnTo>
                            <a:pt x="111" y="133"/>
                          </a:lnTo>
                          <a:lnTo>
                            <a:pt x="131" y="139"/>
                          </a:lnTo>
                          <a:lnTo>
                            <a:pt x="155" y="141"/>
                          </a:lnTo>
                          <a:lnTo>
                            <a:pt x="179" y="141"/>
                          </a:lnTo>
                          <a:lnTo>
                            <a:pt x="190" y="131"/>
                          </a:lnTo>
                          <a:lnTo>
                            <a:pt x="187" y="131"/>
                          </a:lnTo>
                          <a:lnTo>
                            <a:pt x="176" y="131"/>
                          </a:lnTo>
                          <a:lnTo>
                            <a:pt x="160" y="129"/>
                          </a:lnTo>
                          <a:lnTo>
                            <a:pt x="141" y="126"/>
                          </a:lnTo>
                          <a:lnTo>
                            <a:pt x="119" y="120"/>
                          </a:lnTo>
                          <a:lnTo>
                            <a:pt x="97" y="110"/>
                          </a:lnTo>
                          <a:lnTo>
                            <a:pt x="73" y="97"/>
                          </a:lnTo>
                          <a:lnTo>
                            <a:pt x="52" y="78"/>
                          </a:lnTo>
                          <a:lnTo>
                            <a:pt x="39" y="62"/>
                          </a:lnTo>
                          <a:lnTo>
                            <a:pt x="28" y="47"/>
                          </a:lnTo>
                          <a:lnTo>
                            <a:pt x="21" y="33"/>
                          </a:lnTo>
                          <a:lnTo>
                            <a:pt x="15" y="22"/>
                          </a:lnTo>
                          <a:lnTo>
                            <a:pt x="12" y="13"/>
                          </a:lnTo>
                          <a:lnTo>
                            <a:pt x="11" y="5"/>
                          </a:lnTo>
                          <a:lnTo>
                            <a:pt x="10" y="1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6082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6639120" y="5438880"/>
                      <a:ext cx="7524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114">
                          <a:moveTo>
                            <a:pt x="28" y="0"/>
                          </a:moveTo>
                          <a:lnTo>
                            <a:pt x="0" y="2"/>
                          </a:lnTo>
                          <a:lnTo>
                            <a:pt x="1" y="7"/>
                          </a:lnTo>
                          <a:lnTo>
                            <a:pt x="5" y="18"/>
                          </a:lnTo>
                          <a:lnTo>
                            <a:pt x="14" y="33"/>
                          </a:lnTo>
                          <a:lnTo>
                            <a:pt x="28" y="51"/>
                          </a:lnTo>
                          <a:lnTo>
                            <a:pt x="46" y="71"/>
                          </a:lnTo>
                          <a:lnTo>
                            <a:pt x="72" y="89"/>
                          </a:lnTo>
                          <a:lnTo>
                            <a:pt x="105" y="104"/>
                          </a:lnTo>
                          <a:lnTo>
                            <a:pt x="147" y="114"/>
                          </a:lnTo>
                          <a:lnTo>
                            <a:pt x="142" y="113"/>
                          </a:lnTo>
                          <a:lnTo>
                            <a:pt x="130" y="107"/>
                          </a:lnTo>
                          <a:lnTo>
                            <a:pt x="113" y="98"/>
                          </a:lnTo>
                          <a:lnTo>
                            <a:pt x="92" y="87"/>
                          </a:lnTo>
                          <a:lnTo>
                            <a:pt x="72" y="70"/>
                          </a:lnTo>
                          <a:lnTo>
                            <a:pt x="52" y="51"/>
                          </a:lnTo>
                          <a:lnTo>
                            <a:pt x="36" y="28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>
                      <a:off x="6603120" y="5231880"/>
                      <a:ext cx="296280" cy="28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2" h="648">
                          <a:moveTo>
                            <a:pt x="106" y="19"/>
                          </a:moveTo>
                          <a:lnTo>
                            <a:pt x="178" y="0"/>
                          </a:lnTo>
                          <a:lnTo>
                            <a:pt x="582" y="293"/>
                          </a:lnTo>
                          <a:lnTo>
                            <a:pt x="339" y="620"/>
                          </a:lnTo>
                          <a:lnTo>
                            <a:pt x="281" y="648"/>
                          </a:lnTo>
                          <a:lnTo>
                            <a:pt x="0" y="412"/>
                          </a:lnTo>
                          <a:lnTo>
                            <a:pt x="106" y="1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>
                      <a:off x="6624720" y="5258880"/>
                      <a:ext cx="77400" cy="20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460">
                          <a:moveTo>
                            <a:pt x="152" y="460"/>
                          </a:moveTo>
                          <a:lnTo>
                            <a:pt x="98" y="0"/>
                          </a:lnTo>
                          <a:lnTo>
                            <a:pt x="0" y="334"/>
                          </a:lnTo>
                          <a:lnTo>
                            <a:pt x="152" y="460"/>
                          </a:lnTo>
                          <a:close/>
                        </a:path>
                      </a:pathLst>
                    </a:custGeom>
                    <a:solidFill>
                      <a:srgbClr val="baccf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6674760" y="5256360"/>
                      <a:ext cx="174960" cy="23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544">
                          <a:moveTo>
                            <a:pt x="148" y="544"/>
                          </a:moveTo>
                          <a:lnTo>
                            <a:pt x="344" y="255"/>
                          </a:lnTo>
                          <a:lnTo>
                            <a:pt x="2" y="0"/>
                          </a:lnTo>
                          <a:lnTo>
                            <a:pt x="0" y="6"/>
                          </a:lnTo>
                          <a:lnTo>
                            <a:pt x="54" y="466"/>
                          </a:lnTo>
                          <a:lnTo>
                            <a:pt x="148" y="54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6681960" y="5244840"/>
                      <a:ext cx="7308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89">
                          <a:moveTo>
                            <a:pt x="25" y="0"/>
                          </a:moveTo>
                          <a:lnTo>
                            <a:pt x="0" y="7"/>
                          </a:lnTo>
                          <a:lnTo>
                            <a:pt x="58" y="49"/>
                          </a:lnTo>
                          <a:lnTo>
                            <a:pt x="146" y="89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6710400" y="5266800"/>
                      <a:ext cx="17028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4" h="218">
                          <a:moveTo>
                            <a:pt x="334" y="218"/>
                          </a:moveTo>
                          <a:lnTo>
                            <a:pt x="88" y="40"/>
                          </a:lnTo>
                          <a:lnTo>
                            <a:pt x="0" y="0"/>
                          </a:lnTo>
                          <a:lnTo>
                            <a:pt x="292" y="218"/>
                          </a:lnTo>
                          <a:lnTo>
                            <a:pt x="334" y="218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6762240" y="5372280"/>
                      <a:ext cx="113040" cy="12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3" h="289">
                          <a:moveTo>
                            <a:pt x="223" y="0"/>
                          </a:moveTo>
                          <a:lnTo>
                            <a:pt x="20" y="282"/>
                          </a:lnTo>
                          <a:lnTo>
                            <a:pt x="0" y="289"/>
                          </a:lnTo>
                          <a:lnTo>
                            <a:pt x="191" y="2"/>
                          </a:lnTo>
                          <a:lnTo>
                            <a:pt x="223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6653160" y="5393520"/>
                      <a:ext cx="439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104">
                          <a:moveTo>
                            <a:pt x="0" y="35"/>
                          </a:moveTo>
                          <a:lnTo>
                            <a:pt x="85" y="104"/>
                          </a:lnTo>
                          <a:lnTo>
                            <a:pt x="74" y="0"/>
                          </a:lnTo>
                          <a:lnTo>
                            <a:pt x="64" y="3"/>
                          </a:lnTo>
                          <a:lnTo>
                            <a:pt x="55" y="6"/>
                          </a:lnTo>
                          <a:lnTo>
                            <a:pt x="45" y="10"/>
                          </a:lnTo>
                          <a:lnTo>
                            <a:pt x="36" y="14"/>
                          </a:lnTo>
                          <a:lnTo>
                            <a:pt x="26" y="19"/>
                          </a:lnTo>
                          <a:lnTo>
                            <a:pt x="17" y="24"/>
                          </a:lnTo>
                          <a:lnTo>
                            <a:pt x="8" y="3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003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6732000" y="5388120"/>
                      <a:ext cx="730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192">
                          <a:moveTo>
                            <a:pt x="0" y="172"/>
                          </a:moveTo>
                          <a:lnTo>
                            <a:pt x="25" y="192"/>
                          </a:lnTo>
                          <a:lnTo>
                            <a:pt x="145" y="17"/>
                          </a:lnTo>
                          <a:lnTo>
                            <a:pt x="136" y="15"/>
                          </a:lnTo>
                          <a:lnTo>
                            <a:pt x="126" y="13"/>
                          </a:lnTo>
                          <a:lnTo>
                            <a:pt x="116" y="9"/>
                          </a:lnTo>
                          <a:lnTo>
                            <a:pt x="105" y="7"/>
                          </a:lnTo>
                          <a:lnTo>
                            <a:pt x="95" y="5"/>
                          </a:lnTo>
                          <a:lnTo>
                            <a:pt x="84" y="4"/>
                          </a:lnTo>
                          <a:lnTo>
                            <a:pt x="71" y="1"/>
                          </a:lnTo>
                          <a:lnTo>
                            <a:pt x="60" y="0"/>
                          </a:lnTo>
                          <a:lnTo>
                            <a:pt x="0" y="172"/>
                          </a:lnTo>
                          <a:close/>
                        </a:path>
                      </a:pathLst>
                    </a:custGeom>
                    <a:solidFill>
                      <a:srgbClr val="003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6692040" y="5387400"/>
                      <a:ext cx="702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74">
                          <a:moveTo>
                            <a:pt x="0" y="15"/>
                          </a:moveTo>
                          <a:lnTo>
                            <a:pt x="11" y="119"/>
                          </a:lnTo>
                          <a:lnTo>
                            <a:pt x="78" y="174"/>
                          </a:lnTo>
                          <a:lnTo>
                            <a:pt x="138" y="2"/>
                          </a:lnTo>
                          <a:lnTo>
                            <a:pt x="121" y="1"/>
                          </a:lnTo>
                          <a:lnTo>
                            <a:pt x="105" y="0"/>
                          </a:lnTo>
                          <a:lnTo>
                            <a:pt x="88" y="0"/>
                          </a:lnTo>
                          <a:lnTo>
                            <a:pt x="70" y="1"/>
                          </a:lnTo>
                          <a:lnTo>
                            <a:pt x="52" y="3"/>
                          </a:lnTo>
                          <a:lnTo>
                            <a:pt x="36" y="6"/>
                          </a:lnTo>
                          <a:lnTo>
                            <a:pt x="18" y="1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6082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6679800" y="5286600"/>
                      <a:ext cx="9468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76">
                          <a:moveTo>
                            <a:pt x="186" y="128"/>
                          </a:moveTo>
                          <a:lnTo>
                            <a:pt x="9" y="0"/>
                          </a:lnTo>
                          <a:lnTo>
                            <a:pt x="0" y="29"/>
                          </a:lnTo>
                          <a:lnTo>
                            <a:pt x="15" y="176"/>
                          </a:lnTo>
                          <a:lnTo>
                            <a:pt x="33" y="167"/>
                          </a:lnTo>
                          <a:lnTo>
                            <a:pt x="52" y="158"/>
                          </a:lnTo>
                          <a:lnTo>
                            <a:pt x="71" y="150"/>
                          </a:lnTo>
                          <a:lnTo>
                            <a:pt x="92" y="142"/>
                          </a:lnTo>
                          <a:lnTo>
                            <a:pt x="114" y="137"/>
                          </a:lnTo>
                          <a:lnTo>
                            <a:pt x="137" y="132"/>
                          </a:lnTo>
                          <a:lnTo>
                            <a:pt x="161" y="129"/>
                          </a:lnTo>
                          <a:lnTo>
                            <a:pt x="186" y="128"/>
                          </a:lnTo>
                          <a:close/>
                        </a:path>
                      </a:pathLst>
                    </a:custGeom>
                    <a:solidFill>
                      <a:srgbClr val="4972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6648120" y="5299920"/>
                      <a:ext cx="396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203">
                          <a:moveTo>
                            <a:pt x="62" y="0"/>
                          </a:moveTo>
                          <a:lnTo>
                            <a:pt x="0" y="203"/>
                          </a:lnTo>
                          <a:lnTo>
                            <a:pt x="7" y="197"/>
                          </a:lnTo>
                          <a:lnTo>
                            <a:pt x="15" y="190"/>
                          </a:lnTo>
                          <a:lnTo>
                            <a:pt x="24" y="183"/>
                          </a:lnTo>
                          <a:lnTo>
                            <a:pt x="34" y="176"/>
                          </a:lnTo>
                          <a:lnTo>
                            <a:pt x="44" y="169"/>
                          </a:lnTo>
                          <a:lnTo>
                            <a:pt x="54" y="161"/>
                          </a:lnTo>
                          <a:lnTo>
                            <a:pt x="65" y="153"/>
                          </a:lnTo>
                          <a:lnTo>
                            <a:pt x="77" y="147"/>
                          </a:lnTo>
                          <a:lnTo>
                            <a:pt x="62" y="0"/>
                          </a:lnTo>
                          <a:close/>
                        </a:path>
                      </a:pathLst>
                    </a:custGeom>
                    <a:solidFill>
                      <a:srgbClr val="003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>
                      <a:off x="6688080" y="5342760"/>
                      <a:ext cx="9144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6">
                          <a:moveTo>
                            <a:pt x="8" y="116"/>
                          </a:moveTo>
                          <a:lnTo>
                            <a:pt x="26" y="111"/>
                          </a:lnTo>
                          <a:lnTo>
                            <a:pt x="44" y="107"/>
                          </a:lnTo>
                          <a:lnTo>
                            <a:pt x="60" y="104"/>
                          </a:lnTo>
                          <a:lnTo>
                            <a:pt x="78" y="102"/>
                          </a:lnTo>
                          <a:lnTo>
                            <a:pt x="96" y="101"/>
                          </a:lnTo>
                          <a:lnTo>
                            <a:pt x="113" y="101"/>
                          </a:lnTo>
                          <a:lnTo>
                            <a:pt x="129" y="102"/>
                          </a:lnTo>
                          <a:lnTo>
                            <a:pt x="146" y="103"/>
                          </a:lnTo>
                          <a:lnTo>
                            <a:pt x="181" y="8"/>
                          </a:lnTo>
                          <a:lnTo>
                            <a:pt x="171" y="0"/>
                          </a:lnTo>
                          <a:lnTo>
                            <a:pt x="146" y="1"/>
                          </a:lnTo>
                          <a:lnTo>
                            <a:pt x="122" y="4"/>
                          </a:lnTo>
                          <a:lnTo>
                            <a:pt x="99" y="9"/>
                          </a:lnTo>
                          <a:lnTo>
                            <a:pt x="77" y="14"/>
                          </a:lnTo>
                          <a:lnTo>
                            <a:pt x="56" y="22"/>
                          </a:lnTo>
                          <a:lnTo>
                            <a:pt x="37" y="30"/>
                          </a:lnTo>
                          <a:lnTo>
                            <a:pt x="18" y="39"/>
                          </a:lnTo>
                          <a:lnTo>
                            <a:pt x="0" y="48"/>
                          </a:lnTo>
                          <a:lnTo>
                            <a:pt x="8" y="116"/>
                          </a:lnTo>
                          <a:close/>
                        </a:path>
                      </a:pathLst>
                    </a:custGeom>
                    <a:solidFill>
                      <a:srgbClr val="59bc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>
                      <a:off x="6762240" y="5346360"/>
                      <a:ext cx="5976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112">
                          <a:moveTo>
                            <a:pt x="35" y="0"/>
                          </a:moveTo>
                          <a:lnTo>
                            <a:pt x="0" y="95"/>
                          </a:lnTo>
                          <a:lnTo>
                            <a:pt x="11" y="96"/>
                          </a:lnTo>
                          <a:lnTo>
                            <a:pt x="24" y="99"/>
                          </a:lnTo>
                          <a:lnTo>
                            <a:pt x="35" y="100"/>
                          </a:lnTo>
                          <a:lnTo>
                            <a:pt x="45" y="102"/>
                          </a:lnTo>
                          <a:lnTo>
                            <a:pt x="56" y="104"/>
                          </a:lnTo>
                          <a:lnTo>
                            <a:pt x="66" y="108"/>
                          </a:lnTo>
                          <a:lnTo>
                            <a:pt x="76" y="110"/>
                          </a:lnTo>
                          <a:lnTo>
                            <a:pt x="85" y="112"/>
                          </a:lnTo>
                          <a:lnTo>
                            <a:pt x="119" y="61"/>
                          </a:lnTo>
                          <a:lnTo>
                            <a:pt x="35" y="0"/>
                          </a:lnTo>
                          <a:close/>
                        </a:path>
                      </a:pathLst>
                    </a:custGeom>
                    <a:solidFill>
                      <a:srgbClr val="0099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2" name=""/>
                    <p:cNvSpPr/>
                    <p:nvPr/>
                  </p:nvSpPr>
                  <p:spPr>
                    <a:xfrm>
                      <a:off x="6644160" y="5363640"/>
                      <a:ext cx="4752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03">
                          <a:moveTo>
                            <a:pt x="85" y="0"/>
                          </a:moveTo>
                          <a:lnTo>
                            <a:pt x="73" y="6"/>
                          </a:lnTo>
                          <a:lnTo>
                            <a:pt x="62" y="14"/>
                          </a:lnTo>
                          <a:lnTo>
                            <a:pt x="52" y="22"/>
                          </a:lnTo>
                          <a:lnTo>
                            <a:pt x="42" y="29"/>
                          </a:lnTo>
                          <a:lnTo>
                            <a:pt x="32" y="36"/>
                          </a:lnTo>
                          <a:lnTo>
                            <a:pt x="23" y="43"/>
                          </a:lnTo>
                          <a:lnTo>
                            <a:pt x="15" y="50"/>
                          </a:lnTo>
                          <a:lnTo>
                            <a:pt x="8" y="56"/>
                          </a:lnTo>
                          <a:lnTo>
                            <a:pt x="0" y="88"/>
                          </a:lnTo>
                          <a:lnTo>
                            <a:pt x="19" y="103"/>
                          </a:lnTo>
                          <a:lnTo>
                            <a:pt x="27" y="98"/>
                          </a:lnTo>
                          <a:lnTo>
                            <a:pt x="36" y="92"/>
                          </a:lnTo>
                          <a:lnTo>
                            <a:pt x="45" y="87"/>
                          </a:lnTo>
                          <a:lnTo>
                            <a:pt x="55" y="82"/>
                          </a:lnTo>
                          <a:lnTo>
                            <a:pt x="64" y="78"/>
                          </a:lnTo>
                          <a:lnTo>
                            <a:pt x="74" y="74"/>
                          </a:lnTo>
                          <a:lnTo>
                            <a:pt x="83" y="71"/>
                          </a:lnTo>
                          <a:lnTo>
                            <a:pt x="93" y="68"/>
                          </a:lnTo>
                          <a:lnTo>
                            <a:pt x="85" y="0"/>
                          </a:lnTo>
                          <a:close/>
                        </a:path>
                      </a:pathLst>
                    </a:custGeom>
                    <a:solidFill>
                      <a:srgbClr val="0099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>
                      <a:off x="6713280" y="5460840"/>
                      <a:ext cx="179280" cy="12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1" h="289">
                          <a:moveTo>
                            <a:pt x="0" y="239"/>
                          </a:moveTo>
                          <a:lnTo>
                            <a:pt x="351" y="0"/>
                          </a:lnTo>
                          <a:lnTo>
                            <a:pt x="331" y="60"/>
                          </a:lnTo>
                          <a:lnTo>
                            <a:pt x="0" y="289"/>
                          </a:lnTo>
                          <a:lnTo>
                            <a:pt x="0" y="239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>
                      <a:off x="6626880" y="5505480"/>
                      <a:ext cx="3132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12">
                          <a:moveTo>
                            <a:pt x="62" y="57"/>
                          </a:moveTo>
                          <a:lnTo>
                            <a:pt x="0" y="0"/>
                          </a:lnTo>
                          <a:lnTo>
                            <a:pt x="3" y="55"/>
                          </a:lnTo>
                          <a:lnTo>
                            <a:pt x="64" y="112"/>
                          </a:lnTo>
                          <a:lnTo>
                            <a:pt x="62" y="57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5" name=""/>
                    <p:cNvSpPr/>
                    <p:nvPr/>
                  </p:nvSpPr>
                  <p:spPr>
                    <a:xfrm>
                      <a:off x="6546240" y="5443920"/>
                      <a:ext cx="81360" cy="8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96">
                          <a:moveTo>
                            <a:pt x="0" y="0"/>
                          </a:moveTo>
                          <a:lnTo>
                            <a:pt x="12" y="58"/>
                          </a:lnTo>
                          <a:lnTo>
                            <a:pt x="160" y="196"/>
                          </a:lnTo>
                          <a:lnTo>
                            <a:pt x="157" y="14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6658200" y="5530320"/>
                      <a:ext cx="4464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137">
                          <a:moveTo>
                            <a:pt x="89" y="137"/>
                          </a:moveTo>
                          <a:lnTo>
                            <a:pt x="87" y="79"/>
                          </a:lnTo>
                          <a:lnTo>
                            <a:pt x="0" y="0"/>
                          </a:lnTo>
                          <a:lnTo>
                            <a:pt x="2" y="55"/>
                          </a:lnTo>
                          <a:lnTo>
                            <a:pt x="89" y="13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6648120" y="5531400"/>
                      <a:ext cx="417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86">
                          <a:moveTo>
                            <a:pt x="3" y="0"/>
                          </a:moveTo>
                          <a:lnTo>
                            <a:pt x="84" y="73"/>
                          </a:lnTo>
                          <a:lnTo>
                            <a:pt x="82" y="86"/>
                          </a:lnTo>
                          <a:lnTo>
                            <a:pt x="0" y="13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6476760" y="5559480"/>
                      <a:ext cx="2433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9" h="344">
                          <a:moveTo>
                            <a:pt x="88" y="0"/>
                          </a:moveTo>
                          <a:lnTo>
                            <a:pt x="96" y="1"/>
                          </a:lnTo>
                          <a:lnTo>
                            <a:pt x="110" y="6"/>
                          </a:lnTo>
                          <a:lnTo>
                            <a:pt x="130" y="13"/>
                          </a:lnTo>
                          <a:lnTo>
                            <a:pt x="156" y="25"/>
                          </a:lnTo>
                          <a:lnTo>
                            <a:pt x="186" y="37"/>
                          </a:lnTo>
                          <a:lnTo>
                            <a:pt x="218" y="51"/>
                          </a:lnTo>
                          <a:lnTo>
                            <a:pt x="254" y="67"/>
                          </a:lnTo>
                          <a:lnTo>
                            <a:pt x="289" y="82"/>
                          </a:lnTo>
                          <a:lnTo>
                            <a:pt x="324" y="99"/>
                          </a:lnTo>
                          <a:lnTo>
                            <a:pt x="359" y="116"/>
                          </a:lnTo>
                          <a:lnTo>
                            <a:pt x="390" y="131"/>
                          </a:lnTo>
                          <a:lnTo>
                            <a:pt x="419" y="146"/>
                          </a:lnTo>
                          <a:lnTo>
                            <a:pt x="443" y="159"/>
                          </a:lnTo>
                          <a:lnTo>
                            <a:pt x="461" y="170"/>
                          </a:lnTo>
                          <a:lnTo>
                            <a:pt x="474" y="179"/>
                          </a:lnTo>
                          <a:lnTo>
                            <a:pt x="479" y="185"/>
                          </a:lnTo>
                          <a:lnTo>
                            <a:pt x="477" y="198"/>
                          </a:lnTo>
                          <a:lnTo>
                            <a:pt x="470" y="218"/>
                          </a:lnTo>
                          <a:lnTo>
                            <a:pt x="459" y="244"/>
                          </a:lnTo>
                          <a:lnTo>
                            <a:pt x="444" y="271"/>
                          </a:lnTo>
                          <a:lnTo>
                            <a:pt x="429" y="297"/>
                          </a:lnTo>
                          <a:lnTo>
                            <a:pt x="414" y="321"/>
                          </a:lnTo>
                          <a:lnTo>
                            <a:pt x="401" y="337"/>
                          </a:lnTo>
                          <a:lnTo>
                            <a:pt x="391" y="344"/>
                          </a:lnTo>
                          <a:lnTo>
                            <a:pt x="389" y="344"/>
                          </a:lnTo>
                          <a:lnTo>
                            <a:pt x="385" y="344"/>
                          </a:lnTo>
                          <a:lnTo>
                            <a:pt x="383" y="344"/>
                          </a:lnTo>
                          <a:lnTo>
                            <a:pt x="380" y="344"/>
                          </a:lnTo>
                          <a:lnTo>
                            <a:pt x="379" y="344"/>
                          </a:lnTo>
                          <a:lnTo>
                            <a:pt x="378" y="344"/>
                          </a:lnTo>
                          <a:lnTo>
                            <a:pt x="376" y="344"/>
                          </a:lnTo>
                          <a:lnTo>
                            <a:pt x="375" y="344"/>
                          </a:lnTo>
                          <a:lnTo>
                            <a:pt x="356" y="342"/>
                          </a:lnTo>
                          <a:lnTo>
                            <a:pt x="334" y="336"/>
                          </a:lnTo>
                          <a:lnTo>
                            <a:pt x="309" y="327"/>
                          </a:lnTo>
                          <a:lnTo>
                            <a:pt x="280" y="317"/>
                          </a:lnTo>
                          <a:lnTo>
                            <a:pt x="250" y="305"/>
                          </a:lnTo>
                          <a:lnTo>
                            <a:pt x="218" y="292"/>
                          </a:lnTo>
                          <a:lnTo>
                            <a:pt x="187" y="277"/>
                          </a:lnTo>
                          <a:lnTo>
                            <a:pt x="156" y="262"/>
                          </a:lnTo>
                          <a:lnTo>
                            <a:pt x="126" y="246"/>
                          </a:lnTo>
                          <a:lnTo>
                            <a:pt x="97" y="229"/>
                          </a:lnTo>
                          <a:lnTo>
                            <a:pt x="71" y="214"/>
                          </a:lnTo>
                          <a:lnTo>
                            <a:pt x="48" y="199"/>
                          </a:lnTo>
                          <a:lnTo>
                            <a:pt x="28" y="186"/>
                          </a:lnTo>
                          <a:lnTo>
                            <a:pt x="13" y="174"/>
                          </a:lnTo>
                          <a:lnTo>
                            <a:pt x="3" y="163"/>
                          </a:lnTo>
                          <a:lnTo>
                            <a:pt x="0" y="155"/>
                          </a:lnTo>
                          <a:lnTo>
                            <a:pt x="2" y="144"/>
                          </a:lnTo>
                          <a:lnTo>
                            <a:pt x="10" y="124"/>
                          </a:lnTo>
                          <a:lnTo>
                            <a:pt x="22" y="99"/>
                          </a:lnTo>
                          <a:lnTo>
                            <a:pt x="36" y="72"/>
                          </a:lnTo>
                          <a:lnTo>
                            <a:pt x="51" y="46"/>
                          </a:lnTo>
                          <a:lnTo>
                            <a:pt x="66" y="23"/>
                          </a:lnTo>
                          <a:lnTo>
                            <a:pt x="79" y="7"/>
                          </a:lnTo>
                          <a:lnTo>
                            <a:pt x="8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6489000" y="5614560"/>
                      <a:ext cx="1936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9" h="190">
                          <a:moveTo>
                            <a:pt x="0" y="18"/>
                          </a:moveTo>
                          <a:lnTo>
                            <a:pt x="353" y="190"/>
                          </a:lnTo>
                          <a:lnTo>
                            <a:pt x="379" y="142"/>
                          </a:lnTo>
                          <a:lnTo>
                            <a:pt x="11" y="0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6503400" y="5569920"/>
                      <a:ext cx="20160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" h="191">
                          <a:moveTo>
                            <a:pt x="396" y="164"/>
                          </a:moveTo>
                          <a:lnTo>
                            <a:pt x="45" y="0"/>
                          </a:lnTo>
                          <a:lnTo>
                            <a:pt x="0" y="73"/>
                          </a:lnTo>
                          <a:lnTo>
                            <a:pt x="381" y="191"/>
                          </a:lnTo>
                          <a:lnTo>
                            <a:pt x="396" y="16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6495480" y="5602320"/>
                      <a:ext cx="20268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8" h="171">
                          <a:moveTo>
                            <a:pt x="17" y="0"/>
                          </a:moveTo>
                          <a:lnTo>
                            <a:pt x="0" y="29"/>
                          </a:lnTo>
                          <a:lnTo>
                            <a:pt x="368" y="171"/>
                          </a:lnTo>
                          <a:lnTo>
                            <a:pt x="398" y="118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6809400" y="5666040"/>
                      <a:ext cx="4464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97">
                          <a:moveTo>
                            <a:pt x="24" y="1"/>
                          </a:moveTo>
                          <a:lnTo>
                            <a:pt x="26" y="1"/>
                          </a:lnTo>
                          <a:lnTo>
                            <a:pt x="33" y="0"/>
                          </a:lnTo>
                          <a:lnTo>
                            <a:pt x="42" y="0"/>
                          </a:lnTo>
                          <a:lnTo>
                            <a:pt x="52" y="1"/>
                          </a:lnTo>
                          <a:lnTo>
                            <a:pt x="63" y="4"/>
                          </a:lnTo>
                          <a:lnTo>
                            <a:pt x="73" y="10"/>
                          </a:lnTo>
                          <a:lnTo>
                            <a:pt x="82" y="19"/>
                          </a:lnTo>
                          <a:lnTo>
                            <a:pt x="88" y="31"/>
                          </a:lnTo>
                          <a:lnTo>
                            <a:pt x="89" y="32"/>
                          </a:lnTo>
                          <a:lnTo>
                            <a:pt x="89" y="34"/>
                          </a:lnTo>
                          <a:lnTo>
                            <a:pt x="89" y="36"/>
                          </a:lnTo>
                          <a:lnTo>
                            <a:pt x="89" y="38"/>
                          </a:lnTo>
                          <a:lnTo>
                            <a:pt x="86" y="46"/>
                          </a:lnTo>
                          <a:lnTo>
                            <a:pt x="83" y="56"/>
                          </a:lnTo>
                          <a:lnTo>
                            <a:pt x="78" y="66"/>
                          </a:lnTo>
                          <a:lnTo>
                            <a:pt x="72" y="75"/>
                          </a:lnTo>
                          <a:lnTo>
                            <a:pt x="63" y="83"/>
                          </a:lnTo>
                          <a:lnTo>
                            <a:pt x="54" y="90"/>
                          </a:lnTo>
                          <a:lnTo>
                            <a:pt x="44" y="95"/>
                          </a:lnTo>
                          <a:lnTo>
                            <a:pt x="34" y="97"/>
                          </a:lnTo>
                          <a:lnTo>
                            <a:pt x="31" y="97"/>
                          </a:lnTo>
                          <a:lnTo>
                            <a:pt x="26" y="96"/>
                          </a:lnTo>
                          <a:lnTo>
                            <a:pt x="23" y="95"/>
                          </a:lnTo>
                          <a:lnTo>
                            <a:pt x="19" y="93"/>
                          </a:lnTo>
                          <a:lnTo>
                            <a:pt x="6" y="83"/>
                          </a:lnTo>
                          <a:lnTo>
                            <a:pt x="1" y="71"/>
                          </a:lnTo>
                          <a:lnTo>
                            <a:pt x="0" y="58"/>
                          </a:lnTo>
                          <a:lnTo>
                            <a:pt x="3" y="43"/>
                          </a:lnTo>
                          <a:lnTo>
                            <a:pt x="8" y="29"/>
                          </a:lnTo>
                          <a:lnTo>
                            <a:pt x="14" y="17"/>
                          </a:lnTo>
                          <a:lnTo>
                            <a:pt x="21" y="7"/>
                          </a:lnTo>
                          <a:lnTo>
                            <a:pt x="24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6516720" y="5590080"/>
                      <a:ext cx="16524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163">
                          <a:moveTo>
                            <a:pt x="324" y="149"/>
                          </a:moveTo>
                          <a:lnTo>
                            <a:pt x="314" y="163"/>
                          </a:lnTo>
                          <a:lnTo>
                            <a:pt x="0" y="12"/>
                          </a:lnTo>
                          <a:lnTo>
                            <a:pt x="7" y="0"/>
                          </a:lnTo>
                          <a:lnTo>
                            <a:pt x="324" y="149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6507720" y="5604120"/>
                      <a:ext cx="16488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163">
                          <a:moveTo>
                            <a:pt x="324" y="150"/>
                          </a:moveTo>
                          <a:lnTo>
                            <a:pt x="314" y="163"/>
                          </a:lnTo>
                          <a:lnTo>
                            <a:pt x="0" y="13"/>
                          </a:lnTo>
                          <a:lnTo>
                            <a:pt x="7" y="0"/>
                          </a:lnTo>
                          <a:lnTo>
                            <a:pt x="324" y="15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6535080" y="5632560"/>
                      <a:ext cx="7596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80">
                          <a:moveTo>
                            <a:pt x="5" y="0"/>
                          </a:moveTo>
                          <a:lnTo>
                            <a:pt x="0" y="12"/>
                          </a:lnTo>
                          <a:lnTo>
                            <a:pt x="140" y="80"/>
                          </a:lnTo>
                          <a:lnTo>
                            <a:pt x="148" y="67"/>
                          </a:lnTo>
                          <a:lnTo>
                            <a:pt x="5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6618600" y="5666760"/>
                      <a:ext cx="4572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51">
                          <a:moveTo>
                            <a:pt x="91" y="38"/>
                          </a:moveTo>
                          <a:lnTo>
                            <a:pt x="11" y="0"/>
                          </a:lnTo>
                          <a:lnTo>
                            <a:pt x="0" y="13"/>
                          </a:lnTo>
                          <a:lnTo>
                            <a:pt x="81" y="51"/>
                          </a:lnTo>
                          <a:lnTo>
                            <a:pt x="91" y="38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6499080" y="5617800"/>
                      <a:ext cx="2844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35">
                          <a:moveTo>
                            <a:pt x="6" y="0"/>
                          </a:moveTo>
                          <a:lnTo>
                            <a:pt x="0" y="12"/>
                          </a:lnTo>
                          <a:lnTo>
                            <a:pt x="49" y="35"/>
                          </a:lnTo>
                          <a:lnTo>
                            <a:pt x="55" y="23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6525000" y="5576040"/>
                      <a:ext cx="1404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6" y="0"/>
                          </a:moveTo>
                          <a:lnTo>
                            <a:pt x="0" y="12"/>
                          </a:lnTo>
                          <a:lnTo>
                            <a:pt x="21" y="22"/>
                          </a:lnTo>
                          <a:lnTo>
                            <a:pt x="28" y="11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6549120" y="5586480"/>
                      <a:ext cx="13968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139">
                          <a:moveTo>
                            <a:pt x="275" y="126"/>
                          </a:moveTo>
                          <a:lnTo>
                            <a:pt x="6" y="0"/>
                          </a:lnTo>
                          <a:lnTo>
                            <a:pt x="0" y="13"/>
                          </a:lnTo>
                          <a:lnTo>
                            <a:pt x="266" y="139"/>
                          </a:lnTo>
                          <a:lnTo>
                            <a:pt x="275" y="126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>
                      <a:off x="6837840" y="5674680"/>
                      <a:ext cx="684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8">
                          <a:moveTo>
                            <a:pt x="16" y="18"/>
                          </a:moveTo>
                          <a:lnTo>
                            <a:pt x="15" y="12"/>
                          </a:lnTo>
                          <a:lnTo>
                            <a:pt x="13" y="7"/>
                          </a:lnTo>
                          <a:lnTo>
                            <a:pt x="10" y="3"/>
                          </a:lnTo>
                          <a:lnTo>
                            <a:pt x="7" y="0"/>
                          </a:lnTo>
                          <a:lnTo>
                            <a:pt x="0" y="19"/>
                          </a:lnTo>
                          <a:lnTo>
                            <a:pt x="13" y="28"/>
                          </a:lnTo>
                          <a:lnTo>
                            <a:pt x="14" y="24"/>
                          </a:lnTo>
                          <a:lnTo>
                            <a:pt x="15" y="21"/>
                          </a:lnTo>
                          <a:lnTo>
                            <a:pt x="16" y="19"/>
                          </a:lnTo>
                          <a:lnTo>
                            <a:pt x="16" y="1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6823440" y="5672880"/>
                      <a:ext cx="1224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0">
                          <a:moveTo>
                            <a:pt x="25" y="0"/>
                          </a:moveTo>
                          <a:lnTo>
                            <a:pt x="18" y="0"/>
                          </a:lnTo>
                          <a:lnTo>
                            <a:pt x="13" y="1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4"/>
                          </a:lnTo>
                          <a:lnTo>
                            <a:pt x="4" y="7"/>
                          </a:lnTo>
                          <a:lnTo>
                            <a:pt x="3" y="11"/>
                          </a:lnTo>
                          <a:lnTo>
                            <a:pt x="0" y="13"/>
                          </a:lnTo>
                          <a:lnTo>
                            <a:pt x="18" y="20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6817320" y="5672880"/>
                      <a:ext cx="252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6">
                          <a:moveTo>
                            <a:pt x="51" y="31"/>
                          </a:moveTo>
                          <a:lnTo>
                            <a:pt x="40" y="23"/>
                          </a:lnTo>
                          <a:lnTo>
                            <a:pt x="47" y="4"/>
                          </a:lnTo>
                          <a:lnTo>
                            <a:pt x="45" y="3"/>
                          </a:lnTo>
                          <a:lnTo>
                            <a:pt x="42" y="2"/>
                          </a:lnTo>
                          <a:lnTo>
                            <a:pt x="39" y="1"/>
                          </a:lnTo>
                          <a:lnTo>
                            <a:pt x="37" y="0"/>
                          </a:lnTo>
                          <a:lnTo>
                            <a:pt x="30" y="20"/>
                          </a:lnTo>
                          <a:lnTo>
                            <a:pt x="12" y="13"/>
                          </a:lnTo>
                          <a:lnTo>
                            <a:pt x="7" y="24"/>
                          </a:lnTo>
                          <a:lnTo>
                            <a:pt x="2" y="34"/>
                          </a:lnTo>
                          <a:lnTo>
                            <a:pt x="0" y="43"/>
                          </a:lnTo>
                          <a:lnTo>
                            <a:pt x="0" y="51"/>
                          </a:lnTo>
                          <a:lnTo>
                            <a:pt x="10" y="55"/>
                          </a:lnTo>
                          <a:lnTo>
                            <a:pt x="20" y="56"/>
                          </a:lnTo>
                          <a:lnTo>
                            <a:pt x="28" y="55"/>
                          </a:lnTo>
                          <a:lnTo>
                            <a:pt x="35" y="51"/>
                          </a:lnTo>
                          <a:lnTo>
                            <a:pt x="41" y="46"/>
                          </a:lnTo>
                          <a:lnTo>
                            <a:pt x="46" y="41"/>
                          </a:lnTo>
                          <a:lnTo>
                            <a:pt x="49" y="35"/>
                          </a:lnTo>
                          <a:lnTo>
                            <a:pt x="51" y="31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6817320" y="5686920"/>
                      <a:ext cx="2628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35">
                          <a:moveTo>
                            <a:pt x="11" y="34"/>
                          </a:moveTo>
                          <a:lnTo>
                            <a:pt x="17" y="35"/>
                          </a:lnTo>
                          <a:lnTo>
                            <a:pt x="24" y="34"/>
                          </a:lnTo>
                          <a:lnTo>
                            <a:pt x="29" y="32"/>
                          </a:lnTo>
                          <a:lnTo>
                            <a:pt x="36" y="26"/>
                          </a:lnTo>
                          <a:lnTo>
                            <a:pt x="40" y="21"/>
                          </a:lnTo>
                          <a:lnTo>
                            <a:pt x="46" y="14"/>
                          </a:lnTo>
                          <a:lnTo>
                            <a:pt x="49" y="7"/>
                          </a:lnTo>
                          <a:lnTo>
                            <a:pt x="53" y="1"/>
                          </a:lnTo>
                          <a:lnTo>
                            <a:pt x="51" y="0"/>
                          </a:lnTo>
                          <a:lnTo>
                            <a:pt x="49" y="4"/>
                          </a:lnTo>
                          <a:lnTo>
                            <a:pt x="46" y="10"/>
                          </a:lnTo>
                          <a:lnTo>
                            <a:pt x="41" y="15"/>
                          </a:lnTo>
                          <a:lnTo>
                            <a:pt x="35" y="20"/>
                          </a:lnTo>
                          <a:lnTo>
                            <a:pt x="28" y="24"/>
                          </a:lnTo>
                          <a:lnTo>
                            <a:pt x="20" y="25"/>
                          </a:lnTo>
                          <a:lnTo>
                            <a:pt x="10" y="24"/>
                          </a:lnTo>
                          <a:lnTo>
                            <a:pt x="0" y="20"/>
                          </a:lnTo>
                          <a:lnTo>
                            <a:pt x="1" y="24"/>
                          </a:lnTo>
                          <a:lnTo>
                            <a:pt x="4" y="28"/>
                          </a:lnTo>
                          <a:lnTo>
                            <a:pt x="7" y="31"/>
                          </a:lnTo>
                          <a:lnTo>
                            <a:pt x="11" y="34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>
                      <a:off x="6504480" y="5637960"/>
                      <a:ext cx="14472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139">
                          <a:moveTo>
                            <a:pt x="0" y="0"/>
                          </a:moveTo>
                          <a:lnTo>
                            <a:pt x="284" y="139"/>
                          </a:lnTo>
                          <a:lnTo>
                            <a:pt x="281" y="139"/>
                          </a:lnTo>
                          <a:lnTo>
                            <a:pt x="276" y="137"/>
                          </a:lnTo>
                          <a:lnTo>
                            <a:pt x="268" y="135"/>
                          </a:lnTo>
                          <a:lnTo>
                            <a:pt x="256" y="130"/>
                          </a:lnTo>
                          <a:lnTo>
                            <a:pt x="241" y="126"/>
                          </a:lnTo>
                          <a:lnTo>
                            <a:pt x="225" y="120"/>
                          </a:lnTo>
                          <a:lnTo>
                            <a:pt x="207" y="114"/>
                          </a:lnTo>
                          <a:lnTo>
                            <a:pt x="186" y="105"/>
                          </a:lnTo>
                          <a:lnTo>
                            <a:pt x="165" y="96"/>
                          </a:lnTo>
                          <a:lnTo>
                            <a:pt x="141" y="86"/>
                          </a:lnTo>
                          <a:lnTo>
                            <a:pt x="118" y="75"/>
                          </a:lnTo>
                          <a:lnTo>
                            <a:pt x="94" y="61"/>
                          </a:lnTo>
                          <a:lnTo>
                            <a:pt x="70" y="48"/>
                          </a:lnTo>
                          <a:lnTo>
                            <a:pt x="45" y="34"/>
                          </a:lnTo>
                          <a:lnTo>
                            <a:pt x="2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6141960" y="5079240"/>
                    <a:ext cx="550080" cy="329400"/>
                    <a:chOff x="6141960" y="5079240"/>
                    <a:chExt cx="550080" cy="32940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 flipV="1">
                      <a:off x="6141960" y="5204520"/>
                      <a:ext cx="550080" cy="204120"/>
                    </a:xfrm>
                    <a:prstGeom prst="line">
                      <a:avLst/>
                    </a:prstGeom>
                    <a:ln w="19080">
                      <a:solidFill>
                        <a:srgbClr val="00e4a8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 flipV="1">
                      <a:off x="6318720" y="5079240"/>
                      <a:ext cx="45720" cy="214560"/>
                    </a:xfrm>
                    <a:prstGeom prst="line">
                      <a:avLst/>
                    </a:prstGeom>
                    <a:ln w="19080">
                      <a:solidFill>
                        <a:srgbClr val="00e4a8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 flipH="1" flipV="1">
                      <a:off x="6187320" y="5083920"/>
                      <a:ext cx="171000" cy="199080"/>
                    </a:xfrm>
                    <a:prstGeom prst="line">
                      <a:avLst/>
                    </a:prstGeom>
                    <a:ln w="19080">
                      <a:solidFill>
                        <a:srgbClr val="00e4a8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 flipH="1">
                      <a:off x="6211800" y="5283360"/>
                      <a:ext cx="149400" cy="15840"/>
                    </a:xfrm>
                    <a:prstGeom prst="line">
                      <a:avLst/>
                    </a:prstGeom>
                    <a:ln w="19080">
                      <a:solidFill>
                        <a:srgbClr val="00e4a8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6086520" y="5307120"/>
                  <a:ext cx="997200" cy="864720"/>
                  <a:chOff x="6086520" y="5307120"/>
                  <a:chExt cx="997200" cy="86472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6534360" y="5743800"/>
                    <a:ext cx="549360" cy="428040"/>
                    <a:chOff x="6534360" y="5743800"/>
                    <a:chExt cx="549360" cy="42804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6554520" y="5754960"/>
                      <a:ext cx="51984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0" h="477">
                          <a:moveTo>
                            <a:pt x="0" y="15"/>
                          </a:moveTo>
                          <a:lnTo>
                            <a:pt x="45" y="0"/>
                          </a:lnTo>
                          <a:lnTo>
                            <a:pt x="360" y="24"/>
                          </a:lnTo>
                          <a:lnTo>
                            <a:pt x="372" y="288"/>
                          </a:lnTo>
                          <a:lnTo>
                            <a:pt x="426" y="162"/>
                          </a:lnTo>
                          <a:lnTo>
                            <a:pt x="510" y="201"/>
                          </a:lnTo>
                          <a:lnTo>
                            <a:pt x="432" y="468"/>
                          </a:lnTo>
                          <a:lnTo>
                            <a:pt x="327" y="432"/>
                          </a:lnTo>
                          <a:lnTo>
                            <a:pt x="45" y="477"/>
                          </a:lnTo>
                          <a:lnTo>
                            <a:pt x="0" y="438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b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6576120" y="5770440"/>
                      <a:ext cx="3330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7" h="417">
                          <a:moveTo>
                            <a:pt x="0" y="84"/>
                          </a:moveTo>
                          <a:lnTo>
                            <a:pt x="324" y="0"/>
                          </a:lnTo>
                          <a:lnTo>
                            <a:pt x="327" y="387"/>
                          </a:lnTo>
                          <a:lnTo>
                            <a:pt x="0" y="417"/>
                          </a:lnTo>
                          <a:lnTo>
                            <a:pt x="0" y="84"/>
                          </a:lnTo>
                          <a:close/>
                        </a:path>
                      </a:pathLst>
                    </a:custGeom>
                    <a:solidFill>
                      <a:srgbClr val="b7d1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>
                      <a:off x="6545520" y="5757480"/>
                      <a:ext cx="351360" cy="38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444">
                          <a:moveTo>
                            <a:pt x="0" y="9"/>
                          </a:moveTo>
                          <a:lnTo>
                            <a:pt x="33" y="0"/>
                          </a:lnTo>
                          <a:lnTo>
                            <a:pt x="345" y="9"/>
                          </a:lnTo>
                          <a:lnTo>
                            <a:pt x="273" y="423"/>
                          </a:lnTo>
                          <a:lnTo>
                            <a:pt x="45" y="444"/>
                          </a:lnTo>
                          <a:lnTo>
                            <a:pt x="6" y="417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d6e2c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>
                      <a:off x="6534360" y="5743800"/>
                      <a:ext cx="38520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3" h="1904">
                          <a:moveTo>
                            <a:pt x="0" y="67"/>
                          </a:moveTo>
                          <a:lnTo>
                            <a:pt x="196" y="0"/>
                          </a:lnTo>
                          <a:lnTo>
                            <a:pt x="1424" y="108"/>
                          </a:lnTo>
                          <a:lnTo>
                            <a:pt x="197" y="54"/>
                          </a:lnTo>
                          <a:lnTo>
                            <a:pt x="63" y="87"/>
                          </a:lnTo>
                          <a:lnTo>
                            <a:pt x="68" y="1745"/>
                          </a:lnTo>
                          <a:lnTo>
                            <a:pt x="186" y="1832"/>
                          </a:lnTo>
                          <a:lnTo>
                            <a:pt x="1444" y="1647"/>
                          </a:lnTo>
                          <a:lnTo>
                            <a:pt x="1443" y="191"/>
                          </a:lnTo>
                          <a:lnTo>
                            <a:pt x="1513" y="1682"/>
                          </a:lnTo>
                          <a:lnTo>
                            <a:pt x="181" y="1904"/>
                          </a:lnTo>
                          <a:lnTo>
                            <a:pt x="22" y="1756"/>
                          </a:lnTo>
                          <a:lnTo>
                            <a:pt x="0" y="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6576120" y="5750640"/>
                      <a:ext cx="9000" cy="39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813">
                          <a:moveTo>
                            <a:pt x="0" y="11"/>
                          </a:moveTo>
                          <a:lnTo>
                            <a:pt x="15" y="1813"/>
                          </a:lnTo>
                          <a:lnTo>
                            <a:pt x="35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6603480" y="5769000"/>
                      <a:ext cx="282240" cy="22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9" h="1018">
                          <a:moveTo>
                            <a:pt x="0" y="0"/>
                          </a:moveTo>
                          <a:lnTo>
                            <a:pt x="1102" y="53"/>
                          </a:lnTo>
                          <a:lnTo>
                            <a:pt x="1109" y="945"/>
                          </a:lnTo>
                          <a:lnTo>
                            <a:pt x="0" y="10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2632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>
                      <a:off x="6601320" y="5993640"/>
                      <a:ext cx="30348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9" h="104">
                          <a:moveTo>
                            <a:pt x="1189" y="0"/>
                          </a:moveTo>
                          <a:lnTo>
                            <a:pt x="0" y="104"/>
                          </a:lnTo>
                          <a:lnTo>
                            <a:pt x="1189" y="33"/>
                          </a:lnTo>
                          <a:lnTo>
                            <a:pt x="118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>
                      <a:off x="6600600" y="6080040"/>
                      <a:ext cx="3045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3" h="191">
                          <a:moveTo>
                            <a:pt x="1193" y="0"/>
                          </a:moveTo>
                          <a:lnTo>
                            <a:pt x="0" y="191"/>
                          </a:lnTo>
                          <a:lnTo>
                            <a:pt x="1190" y="39"/>
                          </a:lnTo>
                          <a:lnTo>
                            <a:pt x="119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6602760" y="6000480"/>
                      <a:ext cx="29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7">
                          <a:moveTo>
                            <a:pt x="0" y="0"/>
                          </a:moveTo>
                          <a:lnTo>
                            <a:pt x="0" y="27"/>
                          </a:lnTo>
                          <a:lnTo>
                            <a:pt x="115" y="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6866640" y="5981400"/>
                      <a:ext cx="792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3">
                          <a:moveTo>
                            <a:pt x="17" y="33"/>
                          </a:moveTo>
                          <a:lnTo>
                            <a:pt x="24" y="32"/>
                          </a:lnTo>
                          <a:lnTo>
                            <a:pt x="28" y="29"/>
                          </a:lnTo>
                          <a:lnTo>
                            <a:pt x="32" y="23"/>
                          </a:lnTo>
                          <a:lnTo>
                            <a:pt x="33" y="17"/>
                          </a:lnTo>
                          <a:lnTo>
                            <a:pt x="32" y="10"/>
                          </a:lnTo>
                          <a:lnTo>
                            <a:pt x="28" y="5"/>
                          </a:lnTo>
                          <a:lnTo>
                            <a:pt x="24" y="2"/>
                          </a:lnTo>
                          <a:lnTo>
                            <a:pt x="17" y="0"/>
                          </a:lnTo>
                          <a:lnTo>
                            <a:pt x="10" y="2"/>
                          </a:lnTo>
                          <a:lnTo>
                            <a:pt x="5" y="5"/>
                          </a:lnTo>
                          <a:lnTo>
                            <a:pt x="1" y="10"/>
                          </a:lnTo>
                          <a:lnTo>
                            <a:pt x="0" y="17"/>
                          </a:lnTo>
                          <a:lnTo>
                            <a:pt x="1" y="23"/>
                          </a:lnTo>
                          <a:lnTo>
                            <a:pt x="5" y="29"/>
                          </a:lnTo>
                          <a:lnTo>
                            <a:pt x="10" y="32"/>
                          </a:lnTo>
                          <a:lnTo>
                            <a:pt x="1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6851520" y="5982480"/>
                      <a:ext cx="900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3">
                          <a:moveTo>
                            <a:pt x="17" y="33"/>
                          </a:moveTo>
                          <a:lnTo>
                            <a:pt x="24" y="32"/>
                          </a:lnTo>
                          <a:lnTo>
                            <a:pt x="29" y="28"/>
                          </a:lnTo>
                          <a:lnTo>
                            <a:pt x="32" y="23"/>
                          </a:lnTo>
                          <a:lnTo>
                            <a:pt x="33" y="16"/>
                          </a:lnTo>
                          <a:lnTo>
                            <a:pt x="32" y="9"/>
                          </a:lnTo>
                          <a:lnTo>
                            <a:pt x="29" y="5"/>
                          </a:lnTo>
                          <a:lnTo>
                            <a:pt x="24" y="1"/>
                          </a:lnTo>
                          <a:lnTo>
                            <a:pt x="17" y="0"/>
                          </a:lnTo>
                          <a:lnTo>
                            <a:pt x="10" y="1"/>
                          </a:lnTo>
                          <a:lnTo>
                            <a:pt x="5" y="5"/>
                          </a:lnTo>
                          <a:lnTo>
                            <a:pt x="1" y="9"/>
                          </a:lnTo>
                          <a:lnTo>
                            <a:pt x="0" y="16"/>
                          </a:lnTo>
                          <a:lnTo>
                            <a:pt x="1" y="23"/>
                          </a:lnTo>
                          <a:lnTo>
                            <a:pt x="5" y="28"/>
                          </a:lnTo>
                          <a:lnTo>
                            <a:pt x="10" y="32"/>
                          </a:lnTo>
                          <a:lnTo>
                            <a:pt x="1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>
                      <a:off x="6881760" y="5980680"/>
                      <a:ext cx="792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2">
                          <a:moveTo>
                            <a:pt x="15" y="32"/>
                          </a:moveTo>
                          <a:lnTo>
                            <a:pt x="22" y="30"/>
                          </a:lnTo>
                          <a:lnTo>
                            <a:pt x="27" y="27"/>
                          </a:lnTo>
                          <a:lnTo>
                            <a:pt x="30" y="22"/>
                          </a:lnTo>
                          <a:lnTo>
                            <a:pt x="31" y="15"/>
                          </a:lnTo>
                          <a:lnTo>
                            <a:pt x="30" y="9"/>
                          </a:lnTo>
                          <a:lnTo>
                            <a:pt x="27" y="5"/>
                          </a:lnTo>
                          <a:lnTo>
                            <a:pt x="22" y="1"/>
                          </a:lnTo>
                          <a:lnTo>
                            <a:pt x="15" y="0"/>
                          </a:lnTo>
                          <a:lnTo>
                            <a:pt x="9" y="1"/>
                          </a:lnTo>
                          <a:lnTo>
                            <a:pt x="4" y="5"/>
                          </a:lnTo>
                          <a:lnTo>
                            <a:pt x="1" y="9"/>
                          </a:lnTo>
                          <a:lnTo>
                            <a:pt x="0" y="15"/>
                          </a:lnTo>
                          <a:lnTo>
                            <a:pt x="1" y="22"/>
                          </a:lnTo>
                          <a:lnTo>
                            <a:pt x="4" y="27"/>
                          </a:lnTo>
                          <a:lnTo>
                            <a:pt x="9" y="30"/>
                          </a:lnTo>
                          <a:lnTo>
                            <a:pt x="15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>
                      <a:off x="6757560" y="6005880"/>
                      <a:ext cx="7920" cy="10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473">
                          <a:moveTo>
                            <a:pt x="0" y="4"/>
                          </a:moveTo>
                          <a:lnTo>
                            <a:pt x="14" y="473"/>
                          </a:lnTo>
                          <a:lnTo>
                            <a:pt x="30" y="0"/>
                          </a:lnTo>
                          <a:lnTo>
                            <a:pt x="0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>
                      <a:off x="6847200" y="5887080"/>
                      <a:ext cx="2199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6" h="1181">
                          <a:moveTo>
                            <a:pt x="489" y="0"/>
                          </a:moveTo>
                          <a:lnTo>
                            <a:pt x="866" y="143"/>
                          </a:lnTo>
                          <a:lnTo>
                            <a:pt x="563" y="1181"/>
                          </a:lnTo>
                          <a:lnTo>
                            <a:pt x="0" y="1025"/>
                          </a:lnTo>
                          <a:lnTo>
                            <a:pt x="489" y="0"/>
                          </a:lnTo>
                          <a:close/>
                        </a:path>
                      </a:pathLst>
                    </a:custGeom>
                    <a:solidFill>
                      <a:srgbClr val="7a9b5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>
                      <a:off x="6883920" y="5898240"/>
                      <a:ext cx="169200" cy="22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7" h="1052">
                          <a:moveTo>
                            <a:pt x="339" y="0"/>
                          </a:moveTo>
                          <a:lnTo>
                            <a:pt x="0" y="946"/>
                          </a:lnTo>
                          <a:lnTo>
                            <a:pt x="341" y="1052"/>
                          </a:lnTo>
                          <a:lnTo>
                            <a:pt x="667" y="111"/>
                          </a:lnTo>
                          <a:lnTo>
                            <a:pt x="3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7" name=""/>
                    <p:cNvSpPr/>
                    <p:nvPr/>
                  </p:nvSpPr>
                  <p:spPr>
                    <a:xfrm>
                      <a:off x="6894000" y="5906880"/>
                      <a:ext cx="148680" cy="21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7" h="974">
                          <a:moveTo>
                            <a:pt x="281" y="974"/>
                          </a:moveTo>
                          <a:lnTo>
                            <a:pt x="0" y="887"/>
                          </a:lnTo>
                          <a:lnTo>
                            <a:pt x="318" y="0"/>
                          </a:lnTo>
                          <a:lnTo>
                            <a:pt x="587" y="90"/>
                          </a:lnTo>
                          <a:lnTo>
                            <a:pt x="281" y="974"/>
                          </a:lnTo>
                          <a:close/>
                        </a:path>
                      </a:pathLst>
                    </a:custGeom>
                    <a:solidFill>
                      <a:srgbClr val="7a9b5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>
                      <a:off x="7006320" y="5922000"/>
                      <a:ext cx="2124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86">
                          <a:moveTo>
                            <a:pt x="43" y="86"/>
                          </a:moveTo>
                          <a:lnTo>
                            <a:pt x="51" y="85"/>
                          </a:lnTo>
                          <a:lnTo>
                            <a:pt x="59" y="82"/>
                          </a:lnTo>
                          <a:lnTo>
                            <a:pt x="67" y="79"/>
                          </a:lnTo>
                          <a:lnTo>
                            <a:pt x="74" y="73"/>
                          </a:lnTo>
                          <a:lnTo>
                            <a:pt x="80" y="67"/>
                          </a:lnTo>
                          <a:lnTo>
                            <a:pt x="83" y="60"/>
                          </a:lnTo>
                          <a:lnTo>
                            <a:pt x="85" y="52"/>
                          </a:lnTo>
                          <a:lnTo>
                            <a:pt x="87" y="44"/>
                          </a:lnTo>
                          <a:lnTo>
                            <a:pt x="85" y="35"/>
                          </a:lnTo>
                          <a:lnTo>
                            <a:pt x="83" y="27"/>
                          </a:lnTo>
                          <a:lnTo>
                            <a:pt x="80" y="20"/>
                          </a:lnTo>
                          <a:lnTo>
                            <a:pt x="74" y="13"/>
                          </a:lnTo>
                          <a:lnTo>
                            <a:pt x="67" y="7"/>
                          </a:lnTo>
                          <a:lnTo>
                            <a:pt x="59" y="3"/>
                          </a:lnTo>
                          <a:lnTo>
                            <a:pt x="51" y="1"/>
                          </a:lnTo>
                          <a:lnTo>
                            <a:pt x="43" y="0"/>
                          </a:lnTo>
                          <a:lnTo>
                            <a:pt x="35" y="1"/>
                          </a:lnTo>
                          <a:lnTo>
                            <a:pt x="26" y="3"/>
                          </a:lnTo>
                          <a:lnTo>
                            <a:pt x="19" y="7"/>
                          </a:lnTo>
                          <a:lnTo>
                            <a:pt x="13" y="13"/>
                          </a:lnTo>
                          <a:lnTo>
                            <a:pt x="8" y="20"/>
                          </a:lnTo>
                          <a:lnTo>
                            <a:pt x="4" y="27"/>
                          </a:lnTo>
                          <a:lnTo>
                            <a:pt x="2" y="35"/>
                          </a:lnTo>
                          <a:lnTo>
                            <a:pt x="0" y="44"/>
                          </a:lnTo>
                          <a:lnTo>
                            <a:pt x="2" y="52"/>
                          </a:lnTo>
                          <a:lnTo>
                            <a:pt x="4" y="60"/>
                          </a:lnTo>
                          <a:lnTo>
                            <a:pt x="8" y="67"/>
                          </a:lnTo>
                          <a:lnTo>
                            <a:pt x="13" y="73"/>
                          </a:lnTo>
                          <a:lnTo>
                            <a:pt x="19" y="79"/>
                          </a:lnTo>
                          <a:lnTo>
                            <a:pt x="26" y="82"/>
                          </a:lnTo>
                          <a:lnTo>
                            <a:pt x="35" y="85"/>
                          </a:lnTo>
                          <a:lnTo>
                            <a:pt x="43" y="86"/>
                          </a:lnTo>
                          <a:close/>
                        </a:path>
                      </a:pathLst>
                    </a:custGeom>
                    <a:solidFill>
                      <a:srgbClr val="d6e2c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6936840" y="606420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4" y="12"/>
                          </a:moveTo>
                          <a:lnTo>
                            <a:pt x="37" y="13"/>
                          </a:lnTo>
                          <a:lnTo>
                            <a:pt x="39" y="14"/>
                          </a:lnTo>
                          <a:lnTo>
                            <a:pt x="41" y="15"/>
                          </a:lnTo>
                          <a:lnTo>
                            <a:pt x="44" y="17"/>
                          </a:lnTo>
                          <a:lnTo>
                            <a:pt x="41" y="12"/>
                          </a:lnTo>
                          <a:lnTo>
                            <a:pt x="38" y="8"/>
                          </a:lnTo>
                          <a:lnTo>
                            <a:pt x="33" y="5"/>
                          </a:lnTo>
                          <a:lnTo>
                            <a:pt x="27" y="1"/>
                          </a:lnTo>
                          <a:lnTo>
                            <a:pt x="18" y="0"/>
                          </a:lnTo>
                          <a:lnTo>
                            <a:pt x="11" y="1"/>
                          </a:lnTo>
                          <a:lnTo>
                            <a:pt x="4" y="5"/>
                          </a:lnTo>
                          <a:lnTo>
                            <a:pt x="0" y="10"/>
                          </a:lnTo>
                          <a:lnTo>
                            <a:pt x="0" y="14"/>
                          </a:lnTo>
                          <a:lnTo>
                            <a:pt x="1" y="18"/>
                          </a:lnTo>
                          <a:lnTo>
                            <a:pt x="5" y="22"/>
                          </a:lnTo>
                          <a:lnTo>
                            <a:pt x="8" y="26"/>
                          </a:lnTo>
                          <a:lnTo>
                            <a:pt x="8" y="24"/>
                          </a:lnTo>
                          <a:lnTo>
                            <a:pt x="8" y="22"/>
                          </a:lnTo>
                          <a:lnTo>
                            <a:pt x="8" y="20"/>
                          </a:lnTo>
                          <a:lnTo>
                            <a:pt x="8" y="19"/>
                          </a:lnTo>
                          <a:lnTo>
                            <a:pt x="12" y="14"/>
                          </a:lnTo>
                          <a:lnTo>
                            <a:pt x="18" y="11"/>
                          </a:lnTo>
                          <a:lnTo>
                            <a:pt x="26" y="10"/>
                          </a:lnTo>
                          <a:lnTo>
                            <a:pt x="34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6921720" y="605916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6" y="10"/>
                          </a:moveTo>
                          <a:lnTo>
                            <a:pt x="38" y="11"/>
                          </a:lnTo>
                          <a:lnTo>
                            <a:pt x="40" y="13"/>
                          </a:lnTo>
                          <a:lnTo>
                            <a:pt x="41" y="14"/>
                          </a:lnTo>
                          <a:lnTo>
                            <a:pt x="44" y="15"/>
                          </a:lnTo>
                          <a:lnTo>
                            <a:pt x="41" y="10"/>
                          </a:lnTo>
                          <a:lnTo>
                            <a:pt x="38" y="7"/>
                          </a:lnTo>
                          <a:lnTo>
                            <a:pt x="33" y="3"/>
                          </a:lnTo>
                          <a:lnTo>
                            <a:pt x="27" y="1"/>
                          </a:lnTo>
                          <a:lnTo>
                            <a:pt x="19" y="0"/>
                          </a:lnTo>
                          <a:lnTo>
                            <a:pt x="11" y="0"/>
                          </a:lnTo>
                          <a:lnTo>
                            <a:pt x="5" y="3"/>
                          </a:lnTo>
                          <a:lnTo>
                            <a:pt x="1" y="8"/>
                          </a:lnTo>
                          <a:lnTo>
                            <a:pt x="0" y="13"/>
                          </a:lnTo>
                          <a:lnTo>
                            <a:pt x="3" y="17"/>
                          </a:lnTo>
                          <a:lnTo>
                            <a:pt x="5" y="22"/>
                          </a:lnTo>
                          <a:lnTo>
                            <a:pt x="10" y="26"/>
                          </a:lnTo>
                          <a:lnTo>
                            <a:pt x="8" y="23"/>
                          </a:lnTo>
                          <a:lnTo>
                            <a:pt x="8" y="22"/>
                          </a:lnTo>
                          <a:lnTo>
                            <a:pt x="8" y="20"/>
                          </a:lnTo>
                          <a:lnTo>
                            <a:pt x="8" y="17"/>
                          </a:lnTo>
                          <a:lnTo>
                            <a:pt x="12" y="13"/>
                          </a:lnTo>
                          <a:lnTo>
                            <a:pt x="18" y="10"/>
                          </a:lnTo>
                          <a:lnTo>
                            <a:pt x="26" y="9"/>
                          </a:lnTo>
                          <a:lnTo>
                            <a:pt x="36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6951960" y="606888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5" y="11"/>
                          </a:moveTo>
                          <a:lnTo>
                            <a:pt x="37" y="12"/>
                          </a:lnTo>
                          <a:lnTo>
                            <a:pt x="39" y="13"/>
                          </a:lnTo>
                          <a:lnTo>
                            <a:pt x="42" y="14"/>
                          </a:lnTo>
                          <a:lnTo>
                            <a:pt x="44" y="16"/>
                          </a:lnTo>
                          <a:lnTo>
                            <a:pt x="42" y="11"/>
                          </a:lnTo>
                          <a:lnTo>
                            <a:pt x="38" y="7"/>
                          </a:lnTo>
                          <a:lnTo>
                            <a:pt x="34" y="4"/>
                          </a:lnTo>
                          <a:lnTo>
                            <a:pt x="28" y="1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4" y="4"/>
                          </a:lnTo>
                          <a:lnTo>
                            <a:pt x="0" y="9"/>
                          </a:lnTo>
                          <a:lnTo>
                            <a:pt x="0" y="13"/>
                          </a:lnTo>
                          <a:lnTo>
                            <a:pt x="2" y="18"/>
                          </a:lnTo>
                          <a:lnTo>
                            <a:pt x="5" y="23"/>
                          </a:lnTo>
                          <a:lnTo>
                            <a:pt x="9" y="26"/>
                          </a:lnTo>
                          <a:lnTo>
                            <a:pt x="8" y="24"/>
                          </a:lnTo>
                          <a:lnTo>
                            <a:pt x="8" y="22"/>
                          </a:lnTo>
                          <a:lnTo>
                            <a:pt x="8" y="20"/>
                          </a:lnTo>
                          <a:lnTo>
                            <a:pt x="9" y="18"/>
                          </a:lnTo>
                          <a:lnTo>
                            <a:pt x="12" y="13"/>
                          </a:lnTo>
                          <a:lnTo>
                            <a:pt x="18" y="10"/>
                          </a:lnTo>
                          <a:lnTo>
                            <a:pt x="26" y="10"/>
                          </a:lnTo>
                          <a:lnTo>
                            <a:pt x="35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6931800" y="607572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6" y="12"/>
                          </a:moveTo>
                          <a:lnTo>
                            <a:pt x="38" y="13"/>
                          </a:lnTo>
                          <a:lnTo>
                            <a:pt x="40" y="14"/>
                          </a:lnTo>
                          <a:lnTo>
                            <a:pt x="42" y="15"/>
                          </a:lnTo>
                          <a:lnTo>
                            <a:pt x="44" y="16"/>
                          </a:lnTo>
                          <a:lnTo>
                            <a:pt x="42" y="12"/>
                          </a:lnTo>
                          <a:lnTo>
                            <a:pt x="38" y="8"/>
                          </a:lnTo>
                          <a:lnTo>
                            <a:pt x="33" y="5"/>
                          </a:lnTo>
                          <a:lnTo>
                            <a:pt x="27" y="1"/>
                          </a:lnTo>
                          <a:lnTo>
                            <a:pt x="19" y="0"/>
                          </a:lnTo>
                          <a:lnTo>
                            <a:pt x="11" y="1"/>
                          </a:lnTo>
                          <a:lnTo>
                            <a:pt x="5" y="5"/>
                          </a:lnTo>
                          <a:lnTo>
                            <a:pt x="1" y="9"/>
                          </a:lnTo>
                          <a:lnTo>
                            <a:pt x="0" y="14"/>
                          </a:lnTo>
                          <a:lnTo>
                            <a:pt x="3" y="18"/>
                          </a:lnTo>
                          <a:lnTo>
                            <a:pt x="5" y="22"/>
                          </a:lnTo>
                          <a:lnTo>
                            <a:pt x="10" y="26"/>
                          </a:lnTo>
                          <a:lnTo>
                            <a:pt x="9" y="24"/>
                          </a:lnTo>
                          <a:lnTo>
                            <a:pt x="9" y="22"/>
                          </a:lnTo>
                          <a:lnTo>
                            <a:pt x="9" y="20"/>
                          </a:lnTo>
                          <a:lnTo>
                            <a:pt x="9" y="19"/>
                          </a:lnTo>
                          <a:lnTo>
                            <a:pt x="12" y="14"/>
                          </a:lnTo>
                          <a:lnTo>
                            <a:pt x="19" y="11"/>
                          </a:lnTo>
                          <a:lnTo>
                            <a:pt x="27" y="9"/>
                          </a:lnTo>
                          <a:lnTo>
                            <a:pt x="36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>
                      <a:off x="6917400" y="607068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5" y="10"/>
                          </a:moveTo>
                          <a:lnTo>
                            <a:pt x="37" y="11"/>
                          </a:lnTo>
                          <a:lnTo>
                            <a:pt x="39" y="13"/>
                          </a:lnTo>
                          <a:lnTo>
                            <a:pt x="42" y="14"/>
                          </a:lnTo>
                          <a:lnTo>
                            <a:pt x="44" y="15"/>
                          </a:lnTo>
                          <a:lnTo>
                            <a:pt x="42" y="10"/>
                          </a:lnTo>
                          <a:lnTo>
                            <a:pt x="38" y="7"/>
                          </a:lnTo>
                          <a:lnTo>
                            <a:pt x="32" y="3"/>
                          </a:lnTo>
                          <a:lnTo>
                            <a:pt x="26" y="1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4" y="3"/>
                          </a:lnTo>
                          <a:lnTo>
                            <a:pt x="0" y="8"/>
                          </a:lnTo>
                          <a:lnTo>
                            <a:pt x="0" y="13"/>
                          </a:lnTo>
                          <a:lnTo>
                            <a:pt x="2" y="17"/>
                          </a:lnTo>
                          <a:lnTo>
                            <a:pt x="5" y="22"/>
                          </a:lnTo>
                          <a:lnTo>
                            <a:pt x="9" y="26"/>
                          </a:lnTo>
                          <a:lnTo>
                            <a:pt x="8" y="23"/>
                          </a:lnTo>
                          <a:lnTo>
                            <a:pt x="8" y="22"/>
                          </a:lnTo>
                          <a:lnTo>
                            <a:pt x="8" y="20"/>
                          </a:lnTo>
                          <a:lnTo>
                            <a:pt x="9" y="17"/>
                          </a:lnTo>
                          <a:lnTo>
                            <a:pt x="12" y="13"/>
                          </a:lnTo>
                          <a:lnTo>
                            <a:pt x="18" y="10"/>
                          </a:lnTo>
                          <a:lnTo>
                            <a:pt x="26" y="9"/>
                          </a:lnTo>
                          <a:lnTo>
                            <a:pt x="35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6946920" y="608004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6">
                          <a:moveTo>
                            <a:pt x="35" y="11"/>
                          </a:moveTo>
                          <a:lnTo>
                            <a:pt x="37" y="12"/>
                          </a:lnTo>
                          <a:lnTo>
                            <a:pt x="40" y="13"/>
                          </a:lnTo>
                          <a:lnTo>
                            <a:pt x="41" y="14"/>
                          </a:lnTo>
                          <a:lnTo>
                            <a:pt x="43" y="16"/>
                          </a:lnTo>
                          <a:lnTo>
                            <a:pt x="41" y="11"/>
                          </a:lnTo>
                          <a:lnTo>
                            <a:pt x="37" y="7"/>
                          </a:lnTo>
                          <a:lnTo>
                            <a:pt x="33" y="4"/>
                          </a:lnTo>
                          <a:lnTo>
                            <a:pt x="27" y="1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4" y="4"/>
                          </a:lnTo>
                          <a:lnTo>
                            <a:pt x="1" y="8"/>
                          </a:lnTo>
                          <a:lnTo>
                            <a:pt x="0" y="13"/>
                          </a:lnTo>
                          <a:lnTo>
                            <a:pt x="2" y="18"/>
                          </a:lnTo>
                          <a:lnTo>
                            <a:pt x="4" y="23"/>
                          </a:lnTo>
                          <a:lnTo>
                            <a:pt x="9" y="26"/>
                          </a:lnTo>
                          <a:lnTo>
                            <a:pt x="8" y="24"/>
                          </a:lnTo>
                          <a:lnTo>
                            <a:pt x="8" y="21"/>
                          </a:lnTo>
                          <a:lnTo>
                            <a:pt x="8" y="20"/>
                          </a:lnTo>
                          <a:lnTo>
                            <a:pt x="8" y="18"/>
                          </a:lnTo>
                          <a:lnTo>
                            <a:pt x="11" y="13"/>
                          </a:lnTo>
                          <a:lnTo>
                            <a:pt x="17" y="10"/>
                          </a:lnTo>
                          <a:lnTo>
                            <a:pt x="26" y="10"/>
                          </a:lnTo>
                          <a:lnTo>
                            <a:pt x="35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6941160" y="605484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7">
                          <a:moveTo>
                            <a:pt x="34" y="12"/>
                          </a:moveTo>
                          <a:lnTo>
                            <a:pt x="36" y="13"/>
                          </a:lnTo>
                          <a:lnTo>
                            <a:pt x="39" y="14"/>
                          </a:lnTo>
                          <a:lnTo>
                            <a:pt x="41" y="16"/>
                          </a:lnTo>
                          <a:lnTo>
                            <a:pt x="43" y="17"/>
                          </a:lnTo>
                          <a:lnTo>
                            <a:pt x="41" y="12"/>
                          </a:lnTo>
                          <a:lnTo>
                            <a:pt x="38" y="9"/>
                          </a:lnTo>
                          <a:lnTo>
                            <a:pt x="33" y="5"/>
                          </a:lnTo>
                          <a:lnTo>
                            <a:pt x="27" y="3"/>
                          </a:lnTo>
                          <a:lnTo>
                            <a:pt x="19" y="0"/>
                          </a:lnTo>
                          <a:lnTo>
                            <a:pt x="10" y="1"/>
                          </a:lnTo>
                          <a:lnTo>
                            <a:pt x="3" y="5"/>
                          </a:lnTo>
                          <a:lnTo>
                            <a:pt x="0" y="10"/>
                          </a:lnTo>
                          <a:lnTo>
                            <a:pt x="0" y="14"/>
                          </a:lnTo>
                          <a:lnTo>
                            <a:pt x="1" y="18"/>
                          </a:lnTo>
                          <a:lnTo>
                            <a:pt x="5" y="23"/>
                          </a:lnTo>
                          <a:lnTo>
                            <a:pt x="8" y="27"/>
                          </a:lnTo>
                          <a:lnTo>
                            <a:pt x="8" y="25"/>
                          </a:lnTo>
                          <a:lnTo>
                            <a:pt x="8" y="23"/>
                          </a:lnTo>
                          <a:lnTo>
                            <a:pt x="8" y="21"/>
                          </a:lnTo>
                          <a:lnTo>
                            <a:pt x="8" y="19"/>
                          </a:lnTo>
                          <a:lnTo>
                            <a:pt x="12" y="14"/>
                          </a:lnTo>
                          <a:lnTo>
                            <a:pt x="18" y="11"/>
                          </a:lnTo>
                          <a:lnTo>
                            <a:pt x="26" y="10"/>
                          </a:lnTo>
                          <a:lnTo>
                            <a:pt x="34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6" name=""/>
                    <p:cNvSpPr/>
                    <p:nvPr/>
                  </p:nvSpPr>
                  <p:spPr>
                    <a:xfrm>
                      <a:off x="6925680" y="604944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5" y="10"/>
                          </a:moveTo>
                          <a:lnTo>
                            <a:pt x="38" y="12"/>
                          </a:lnTo>
                          <a:lnTo>
                            <a:pt x="40" y="13"/>
                          </a:lnTo>
                          <a:lnTo>
                            <a:pt x="41" y="14"/>
                          </a:lnTo>
                          <a:lnTo>
                            <a:pt x="44" y="15"/>
                          </a:lnTo>
                          <a:lnTo>
                            <a:pt x="41" y="10"/>
                          </a:lnTo>
                          <a:lnTo>
                            <a:pt x="38" y="7"/>
                          </a:lnTo>
                          <a:lnTo>
                            <a:pt x="33" y="3"/>
                          </a:lnTo>
                          <a:lnTo>
                            <a:pt x="27" y="1"/>
                          </a:lnTo>
                          <a:lnTo>
                            <a:pt x="19" y="0"/>
                          </a:lnTo>
                          <a:lnTo>
                            <a:pt x="10" y="1"/>
                          </a:lnTo>
                          <a:lnTo>
                            <a:pt x="5" y="3"/>
                          </a:lnTo>
                          <a:lnTo>
                            <a:pt x="1" y="8"/>
                          </a:lnTo>
                          <a:lnTo>
                            <a:pt x="0" y="13"/>
                          </a:lnTo>
                          <a:lnTo>
                            <a:pt x="2" y="18"/>
                          </a:lnTo>
                          <a:lnTo>
                            <a:pt x="5" y="22"/>
                          </a:lnTo>
                          <a:lnTo>
                            <a:pt x="9" y="26"/>
                          </a:lnTo>
                          <a:lnTo>
                            <a:pt x="8" y="23"/>
                          </a:lnTo>
                          <a:lnTo>
                            <a:pt x="8" y="22"/>
                          </a:lnTo>
                          <a:lnTo>
                            <a:pt x="8" y="20"/>
                          </a:lnTo>
                          <a:lnTo>
                            <a:pt x="8" y="19"/>
                          </a:lnTo>
                          <a:lnTo>
                            <a:pt x="12" y="14"/>
                          </a:lnTo>
                          <a:lnTo>
                            <a:pt x="18" y="10"/>
                          </a:lnTo>
                          <a:lnTo>
                            <a:pt x="26" y="9"/>
                          </a:lnTo>
                          <a:lnTo>
                            <a:pt x="35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>
                      <a:off x="6957360" y="6059160"/>
                      <a:ext cx="1008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4" y="11"/>
                          </a:moveTo>
                          <a:lnTo>
                            <a:pt x="37" y="12"/>
                          </a:lnTo>
                          <a:lnTo>
                            <a:pt x="39" y="13"/>
                          </a:lnTo>
                          <a:lnTo>
                            <a:pt x="41" y="15"/>
                          </a:lnTo>
                          <a:lnTo>
                            <a:pt x="44" y="16"/>
                          </a:lnTo>
                          <a:lnTo>
                            <a:pt x="41" y="11"/>
                          </a:lnTo>
                          <a:lnTo>
                            <a:pt x="38" y="8"/>
                          </a:lnTo>
                          <a:lnTo>
                            <a:pt x="33" y="4"/>
                          </a:lnTo>
                          <a:lnTo>
                            <a:pt x="27" y="2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4" y="4"/>
                          </a:lnTo>
                          <a:lnTo>
                            <a:pt x="0" y="9"/>
                          </a:lnTo>
                          <a:lnTo>
                            <a:pt x="0" y="13"/>
                          </a:lnTo>
                          <a:lnTo>
                            <a:pt x="1" y="18"/>
                          </a:lnTo>
                          <a:lnTo>
                            <a:pt x="5" y="23"/>
                          </a:lnTo>
                          <a:lnTo>
                            <a:pt x="8" y="26"/>
                          </a:lnTo>
                          <a:lnTo>
                            <a:pt x="7" y="24"/>
                          </a:lnTo>
                          <a:lnTo>
                            <a:pt x="7" y="23"/>
                          </a:lnTo>
                          <a:lnTo>
                            <a:pt x="7" y="21"/>
                          </a:lnTo>
                          <a:lnTo>
                            <a:pt x="8" y="18"/>
                          </a:lnTo>
                          <a:lnTo>
                            <a:pt x="12" y="13"/>
                          </a:lnTo>
                          <a:lnTo>
                            <a:pt x="18" y="11"/>
                          </a:lnTo>
                          <a:lnTo>
                            <a:pt x="26" y="10"/>
                          </a:lnTo>
                          <a:lnTo>
                            <a:pt x="34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>
                      <a:off x="6945120" y="604260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6">
                          <a:moveTo>
                            <a:pt x="35" y="11"/>
                          </a:moveTo>
                          <a:lnTo>
                            <a:pt x="37" y="12"/>
                          </a:lnTo>
                          <a:lnTo>
                            <a:pt x="39" y="13"/>
                          </a:lnTo>
                          <a:lnTo>
                            <a:pt x="40" y="14"/>
                          </a:lnTo>
                          <a:lnTo>
                            <a:pt x="43" y="15"/>
                          </a:lnTo>
                          <a:lnTo>
                            <a:pt x="40" y="11"/>
                          </a:lnTo>
                          <a:lnTo>
                            <a:pt x="37" y="7"/>
                          </a:lnTo>
                          <a:lnTo>
                            <a:pt x="32" y="4"/>
                          </a:lnTo>
                          <a:lnTo>
                            <a:pt x="26" y="1"/>
                          </a:lnTo>
                          <a:lnTo>
                            <a:pt x="18" y="0"/>
                          </a:lnTo>
                          <a:lnTo>
                            <a:pt x="10" y="1"/>
                          </a:lnTo>
                          <a:lnTo>
                            <a:pt x="4" y="5"/>
                          </a:lnTo>
                          <a:lnTo>
                            <a:pt x="0" y="9"/>
                          </a:lnTo>
                          <a:lnTo>
                            <a:pt x="0" y="13"/>
                          </a:lnTo>
                          <a:lnTo>
                            <a:pt x="2" y="18"/>
                          </a:lnTo>
                          <a:lnTo>
                            <a:pt x="5" y="22"/>
                          </a:lnTo>
                          <a:lnTo>
                            <a:pt x="9" y="26"/>
                          </a:lnTo>
                          <a:lnTo>
                            <a:pt x="7" y="24"/>
                          </a:lnTo>
                          <a:lnTo>
                            <a:pt x="7" y="22"/>
                          </a:lnTo>
                          <a:lnTo>
                            <a:pt x="7" y="20"/>
                          </a:lnTo>
                          <a:lnTo>
                            <a:pt x="9" y="19"/>
                          </a:lnTo>
                          <a:lnTo>
                            <a:pt x="12" y="14"/>
                          </a:lnTo>
                          <a:lnTo>
                            <a:pt x="18" y="11"/>
                          </a:lnTo>
                          <a:lnTo>
                            <a:pt x="26" y="9"/>
                          </a:lnTo>
                          <a:lnTo>
                            <a:pt x="35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>
                      <a:off x="6930720" y="603720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8">
                          <a:moveTo>
                            <a:pt x="35" y="12"/>
                          </a:moveTo>
                          <a:lnTo>
                            <a:pt x="37" y="13"/>
                          </a:lnTo>
                          <a:lnTo>
                            <a:pt x="39" y="15"/>
                          </a:lnTo>
                          <a:lnTo>
                            <a:pt x="42" y="16"/>
                          </a:lnTo>
                          <a:lnTo>
                            <a:pt x="44" y="17"/>
                          </a:lnTo>
                          <a:lnTo>
                            <a:pt x="42" y="12"/>
                          </a:lnTo>
                          <a:lnTo>
                            <a:pt x="38" y="9"/>
                          </a:lnTo>
                          <a:lnTo>
                            <a:pt x="33" y="5"/>
                          </a:lnTo>
                          <a:lnTo>
                            <a:pt x="28" y="3"/>
                          </a:lnTo>
                          <a:lnTo>
                            <a:pt x="18" y="0"/>
                          </a:lnTo>
                          <a:lnTo>
                            <a:pt x="10" y="2"/>
                          </a:lnTo>
                          <a:lnTo>
                            <a:pt x="4" y="5"/>
                          </a:lnTo>
                          <a:lnTo>
                            <a:pt x="0" y="10"/>
                          </a:lnTo>
                          <a:lnTo>
                            <a:pt x="0" y="15"/>
                          </a:lnTo>
                          <a:lnTo>
                            <a:pt x="2" y="19"/>
                          </a:lnTo>
                          <a:lnTo>
                            <a:pt x="5" y="24"/>
                          </a:lnTo>
                          <a:lnTo>
                            <a:pt x="9" y="28"/>
                          </a:lnTo>
                          <a:lnTo>
                            <a:pt x="7" y="25"/>
                          </a:lnTo>
                          <a:lnTo>
                            <a:pt x="7" y="23"/>
                          </a:lnTo>
                          <a:lnTo>
                            <a:pt x="7" y="22"/>
                          </a:lnTo>
                          <a:lnTo>
                            <a:pt x="9" y="19"/>
                          </a:lnTo>
                          <a:lnTo>
                            <a:pt x="12" y="15"/>
                          </a:lnTo>
                          <a:lnTo>
                            <a:pt x="18" y="11"/>
                          </a:lnTo>
                          <a:lnTo>
                            <a:pt x="26" y="11"/>
                          </a:lnTo>
                          <a:lnTo>
                            <a:pt x="35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>
                      <a:off x="6960240" y="60469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7">
                          <a:moveTo>
                            <a:pt x="35" y="12"/>
                          </a:moveTo>
                          <a:lnTo>
                            <a:pt x="37" y="13"/>
                          </a:lnTo>
                          <a:lnTo>
                            <a:pt x="40" y="14"/>
                          </a:lnTo>
                          <a:lnTo>
                            <a:pt x="41" y="15"/>
                          </a:lnTo>
                          <a:lnTo>
                            <a:pt x="43" y="17"/>
                          </a:lnTo>
                          <a:lnTo>
                            <a:pt x="41" y="12"/>
                          </a:lnTo>
                          <a:lnTo>
                            <a:pt x="37" y="8"/>
                          </a:lnTo>
                          <a:lnTo>
                            <a:pt x="33" y="5"/>
                          </a:lnTo>
                          <a:lnTo>
                            <a:pt x="27" y="2"/>
                          </a:lnTo>
                          <a:lnTo>
                            <a:pt x="18" y="0"/>
                          </a:lnTo>
                          <a:lnTo>
                            <a:pt x="10" y="1"/>
                          </a:lnTo>
                          <a:lnTo>
                            <a:pt x="4" y="5"/>
                          </a:lnTo>
                          <a:lnTo>
                            <a:pt x="1" y="9"/>
                          </a:lnTo>
                          <a:lnTo>
                            <a:pt x="0" y="14"/>
                          </a:lnTo>
                          <a:lnTo>
                            <a:pt x="2" y="19"/>
                          </a:lnTo>
                          <a:lnTo>
                            <a:pt x="4" y="24"/>
                          </a:lnTo>
                          <a:lnTo>
                            <a:pt x="9" y="27"/>
                          </a:lnTo>
                          <a:lnTo>
                            <a:pt x="8" y="25"/>
                          </a:lnTo>
                          <a:lnTo>
                            <a:pt x="8" y="22"/>
                          </a:lnTo>
                          <a:lnTo>
                            <a:pt x="8" y="21"/>
                          </a:lnTo>
                          <a:lnTo>
                            <a:pt x="8" y="19"/>
                          </a:lnTo>
                          <a:lnTo>
                            <a:pt x="11" y="14"/>
                          </a:lnTo>
                          <a:lnTo>
                            <a:pt x="18" y="11"/>
                          </a:lnTo>
                          <a:lnTo>
                            <a:pt x="27" y="9"/>
                          </a:lnTo>
                          <a:lnTo>
                            <a:pt x="35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>
                      <a:off x="6949080" y="603144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6">
                          <a:moveTo>
                            <a:pt x="9" y="26"/>
                          </a:moveTo>
                          <a:lnTo>
                            <a:pt x="8" y="23"/>
                          </a:lnTo>
                          <a:lnTo>
                            <a:pt x="8" y="21"/>
                          </a:lnTo>
                          <a:lnTo>
                            <a:pt x="8" y="20"/>
                          </a:lnTo>
                          <a:lnTo>
                            <a:pt x="8" y="17"/>
                          </a:lnTo>
                          <a:lnTo>
                            <a:pt x="11" y="13"/>
                          </a:lnTo>
                          <a:lnTo>
                            <a:pt x="17" y="9"/>
                          </a:lnTo>
                          <a:lnTo>
                            <a:pt x="26" y="9"/>
                          </a:lnTo>
                          <a:lnTo>
                            <a:pt x="34" y="10"/>
                          </a:lnTo>
                          <a:lnTo>
                            <a:pt x="36" y="12"/>
                          </a:lnTo>
                          <a:lnTo>
                            <a:pt x="39" y="13"/>
                          </a:lnTo>
                          <a:lnTo>
                            <a:pt x="41" y="14"/>
                          </a:lnTo>
                          <a:lnTo>
                            <a:pt x="43" y="15"/>
                          </a:lnTo>
                          <a:lnTo>
                            <a:pt x="41" y="10"/>
                          </a:lnTo>
                          <a:lnTo>
                            <a:pt x="37" y="7"/>
                          </a:lnTo>
                          <a:lnTo>
                            <a:pt x="33" y="3"/>
                          </a:lnTo>
                          <a:lnTo>
                            <a:pt x="27" y="1"/>
                          </a:lnTo>
                          <a:lnTo>
                            <a:pt x="19" y="0"/>
                          </a:lnTo>
                          <a:lnTo>
                            <a:pt x="10" y="0"/>
                          </a:lnTo>
                          <a:lnTo>
                            <a:pt x="4" y="3"/>
                          </a:lnTo>
                          <a:lnTo>
                            <a:pt x="1" y="8"/>
                          </a:lnTo>
                          <a:lnTo>
                            <a:pt x="0" y="13"/>
                          </a:lnTo>
                          <a:lnTo>
                            <a:pt x="2" y="17"/>
                          </a:lnTo>
                          <a:lnTo>
                            <a:pt x="4" y="22"/>
                          </a:lnTo>
                          <a:lnTo>
                            <a:pt x="9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>
                      <a:off x="6933960" y="602604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7">
                          <a:moveTo>
                            <a:pt x="9" y="27"/>
                          </a:moveTo>
                          <a:lnTo>
                            <a:pt x="8" y="25"/>
                          </a:lnTo>
                          <a:lnTo>
                            <a:pt x="8" y="23"/>
                          </a:lnTo>
                          <a:lnTo>
                            <a:pt x="8" y="21"/>
                          </a:lnTo>
                          <a:lnTo>
                            <a:pt x="9" y="19"/>
                          </a:lnTo>
                          <a:lnTo>
                            <a:pt x="13" y="14"/>
                          </a:lnTo>
                          <a:lnTo>
                            <a:pt x="19" y="11"/>
                          </a:lnTo>
                          <a:lnTo>
                            <a:pt x="27" y="10"/>
                          </a:lnTo>
                          <a:lnTo>
                            <a:pt x="35" y="12"/>
                          </a:lnTo>
                          <a:lnTo>
                            <a:pt x="37" y="13"/>
                          </a:lnTo>
                          <a:lnTo>
                            <a:pt x="40" y="14"/>
                          </a:lnTo>
                          <a:lnTo>
                            <a:pt x="41" y="16"/>
                          </a:lnTo>
                          <a:lnTo>
                            <a:pt x="43" y="17"/>
                          </a:lnTo>
                          <a:lnTo>
                            <a:pt x="41" y="12"/>
                          </a:lnTo>
                          <a:lnTo>
                            <a:pt x="37" y="8"/>
                          </a:lnTo>
                          <a:lnTo>
                            <a:pt x="33" y="5"/>
                          </a:lnTo>
                          <a:lnTo>
                            <a:pt x="27" y="3"/>
                          </a:lnTo>
                          <a:lnTo>
                            <a:pt x="19" y="0"/>
                          </a:lnTo>
                          <a:lnTo>
                            <a:pt x="10" y="1"/>
                          </a:lnTo>
                          <a:lnTo>
                            <a:pt x="4" y="5"/>
                          </a:lnTo>
                          <a:lnTo>
                            <a:pt x="1" y="10"/>
                          </a:lnTo>
                          <a:lnTo>
                            <a:pt x="0" y="14"/>
                          </a:lnTo>
                          <a:lnTo>
                            <a:pt x="2" y="18"/>
                          </a:lnTo>
                          <a:lnTo>
                            <a:pt x="4" y="23"/>
                          </a:lnTo>
                          <a:lnTo>
                            <a:pt x="9" y="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6965280" y="6035760"/>
                      <a:ext cx="100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9" y="26"/>
                          </a:moveTo>
                          <a:lnTo>
                            <a:pt x="8" y="23"/>
                          </a:lnTo>
                          <a:lnTo>
                            <a:pt x="8" y="22"/>
                          </a:lnTo>
                          <a:lnTo>
                            <a:pt x="8" y="20"/>
                          </a:lnTo>
                          <a:lnTo>
                            <a:pt x="8" y="19"/>
                          </a:lnTo>
                          <a:lnTo>
                            <a:pt x="12" y="14"/>
                          </a:lnTo>
                          <a:lnTo>
                            <a:pt x="18" y="10"/>
                          </a:lnTo>
                          <a:lnTo>
                            <a:pt x="26" y="9"/>
                          </a:lnTo>
                          <a:lnTo>
                            <a:pt x="34" y="12"/>
                          </a:lnTo>
                          <a:lnTo>
                            <a:pt x="37" y="13"/>
                          </a:lnTo>
                          <a:lnTo>
                            <a:pt x="39" y="14"/>
                          </a:lnTo>
                          <a:lnTo>
                            <a:pt x="41" y="15"/>
                          </a:lnTo>
                          <a:lnTo>
                            <a:pt x="44" y="16"/>
                          </a:lnTo>
                          <a:lnTo>
                            <a:pt x="41" y="12"/>
                          </a:lnTo>
                          <a:lnTo>
                            <a:pt x="38" y="8"/>
                          </a:lnTo>
                          <a:lnTo>
                            <a:pt x="33" y="5"/>
                          </a:lnTo>
                          <a:lnTo>
                            <a:pt x="27" y="2"/>
                          </a:lnTo>
                          <a:lnTo>
                            <a:pt x="19" y="0"/>
                          </a:lnTo>
                          <a:lnTo>
                            <a:pt x="11" y="1"/>
                          </a:lnTo>
                          <a:lnTo>
                            <a:pt x="5" y="5"/>
                          </a:lnTo>
                          <a:lnTo>
                            <a:pt x="1" y="9"/>
                          </a:lnTo>
                          <a:lnTo>
                            <a:pt x="0" y="14"/>
                          </a:lnTo>
                          <a:lnTo>
                            <a:pt x="2" y="17"/>
                          </a:lnTo>
                          <a:lnTo>
                            <a:pt x="5" y="22"/>
                          </a:lnTo>
                          <a:lnTo>
                            <a:pt x="9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7014240" y="5928120"/>
                      <a:ext cx="68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7">
                          <a:moveTo>
                            <a:pt x="16" y="0"/>
                          </a:moveTo>
                          <a:lnTo>
                            <a:pt x="13" y="0"/>
                          </a:lnTo>
                          <a:lnTo>
                            <a:pt x="11" y="0"/>
                          </a:lnTo>
                          <a:lnTo>
                            <a:pt x="10" y="1"/>
                          </a:lnTo>
                          <a:lnTo>
                            <a:pt x="7" y="3"/>
                          </a:lnTo>
                          <a:lnTo>
                            <a:pt x="9" y="1"/>
                          </a:lnTo>
                          <a:lnTo>
                            <a:pt x="10" y="1"/>
                          </a:lnTo>
                          <a:lnTo>
                            <a:pt x="11" y="1"/>
                          </a:lnTo>
                          <a:lnTo>
                            <a:pt x="12" y="1"/>
                          </a:lnTo>
                          <a:lnTo>
                            <a:pt x="16" y="3"/>
                          </a:lnTo>
                          <a:lnTo>
                            <a:pt x="18" y="5"/>
                          </a:lnTo>
                          <a:lnTo>
                            <a:pt x="19" y="7"/>
                          </a:lnTo>
                          <a:lnTo>
                            <a:pt x="20" y="12"/>
                          </a:lnTo>
                          <a:lnTo>
                            <a:pt x="19" y="16"/>
                          </a:lnTo>
                          <a:lnTo>
                            <a:pt x="17" y="18"/>
                          </a:lnTo>
                          <a:lnTo>
                            <a:pt x="14" y="20"/>
                          </a:lnTo>
                          <a:lnTo>
                            <a:pt x="10" y="20"/>
                          </a:lnTo>
                          <a:lnTo>
                            <a:pt x="6" y="19"/>
                          </a:lnTo>
                          <a:lnTo>
                            <a:pt x="4" y="17"/>
                          </a:lnTo>
                          <a:lnTo>
                            <a:pt x="1" y="14"/>
                          </a:lnTo>
                          <a:lnTo>
                            <a:pt x="1" y="10"/>
                          </a:lnTo>
                          <a:lnTo>
                            <a:pt x="1" y="11"/>
                          </a:lnTo>
                          <a:lnTo>
                            <a:pt x="1" y="11"/>
                          </a:lnTo>
                          <a:lnTo>
                            <a:pt x="1" y="12"/>
                          </a:lnTo>
                          <a:lnTo>
                            <a:pt x="0" y="12"/>
                          </a:lnTo>
                          <a:lnTo>
                            <a:pt x="1" y="18"/>
                          </a:lnTo>
                          <a:lnTo>
                            <a:pt x="4" y="23"/>
                          </a:lnTo>
                          <a:lnTo>
                            <a:pt x="7" y="26"/>
                          </a:lnTo>
                          <a:lnTo>
                            <a:pt x="13" y="27"/>
                          </a:lnTo>
                          <a:lnTo>
                            <a:pt x="18" y="27"/>
                          </a:lnTo>
                          <a:lnTo>
                            <a:pt x="23" y="25"/>
                          </a:lnTo>
                          <a:lnTo>
                            <a:pt x="26" y="20"/>
                          </a:lnTo>
                          <a:lnTo>
                            <a:pt x="29" y="16"/>
                          </a:lnTo>
                          <a:lnTo>
                            <a:pt x="27" y="10"/>
                          </a:lnTo>
                          <a:lnTo>
                            <a:pt x="25" y="5"/>
                          </a:lnTo>
                          <a:lnTo>
                            <a:pt x="22" y="1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>
                      <a:off x="6976800" y="5974200"/>
                      <a:ext cx="108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4">
                          <a:moveTo>
                            <a:pt x="31" y="14"/>
                          </a:moveTo>
                          <a:lnTo>
                            <a:pt x="35" y="17"/>
                          </a:lnTo>
                          <a:lnTo>
                            <a:pt x="39" y="18"/>
                          </a:lnTo>
                          <a:lnTo>
                            <a:pt x="41" y="20"/>
                          </a:lnTo>
                          <a:lnTo>
                            <a:pt x="44" y="24"/>
                          </a:lnTo>
                          <a:lnTo>
                            <a:pt x="44" y="18"/>
                          </a:lnTo>
                          <a:lnTo>
                            <a:pt x="41" y="11"/>
                          </a:lnTo>
                          <a:lnTo>
                            <a:pt x="35" y="6"/>
                          </a:lnTo>
                          <a:lnTo>
                            <a:pt x="27" y="2"/>
                          </a:lnTo>
                          <a:lnTo>
                            <a:pt x="19" y="0"/>
                          </a:lnTo>
                          <a:lnTo>
                            <a:pt x="10" y="1"/>
                          </a:lnTo>
                          <a:lnTo>
                            <a:pt x="3" y="5"/>
                          </a:lnTo>
                          <a:lnTo>
                            <a:pt x="0" y="10"/>
                          </a:lnTo>
                          <a:lnTo>
                            <a:pt x="0" y="13"/>
                          </a:lnTo>
                          <a:lnTo>
                            <a:pt x="0" y="17"/>
                          </a:lnTo>
                          <a:lnTo>
                            <a:pt x="1" y="20"/>
                          </a:lnTo>
                          <a:lnTo>
                            <a:pt x="3" y="23"/>
                          </a:lnTo>
                          <a:lnTo>
                            <a:pt x="3" y="23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7" y="17"/>
                          </a:lnTo>
                          <a:lnTo>
                            <a:pt x="14" y="13"/>
                          </a:lnTo>
                          <a:lnTo>
                            <a:pt x="21" y="12"/>
                          </a:lnTo>
                          <a:lnTo>
                            <a:pt x="31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6968520" y="599544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1">
                          <a:moveTo>
                            <a:pt x="30" y="12"/>
                          </a:moveTo>
                          <a:lnTo>
                            <a:pt x="35" y="14"/>
                          </a:lnTo>
                          <a:lnTo>
                            <a:pt x="38" y="17"/>
                          </a:lnTo>
                          <a:lnTo>
                            <a:pt x="42" y="19"/>
                          </a:lnTo>
                          <a:lnTo>
                            <a:pt x="44" y="21"/>
                          </a:lnTo>
                          <a:lnTo>
                            <a:pt x="44" y="16"/>
                          </a:lnTo>
                          <a:lnTo>
                            <a:pt x="40" y="10"/>
                          </a:lnTo>
                          <a:lnTo>
                            <a:pt x="35" y="5"/>
                          </a:lnTo>
                          <a:lnTo>
                            <a:pt x="27" y="1"/>
                          </a:lnTo>
                          <a:lnTo>
                            <a:pt x="18" y="0"/>
                          </a:lnTo>
                          <a:lnTo>
                            <a:pt x="10" y="1"/>
                          </a:lnTo>
                          <a:lnTo>
                            <a:pt x="4" y="4"/>
                          </a:lnTo>
                          <a:lnTo>
                            <a:pt x="0" y="8"/>
                          </a:lnTo>
                          <a:lnTo>
                            <a:pt x="0" y="11"/>
                          </a:lnTo>
                          <a:lnTo>
                            <a:pt x="0" y="14"/>
                          </a:lnTo>
                          <a:lnTo>
                            <a:pt x="2" y="18"/>
                          </a:lnTo>
                          <a:lnTo>
                            <a:pt x="4" y="20"/>
                          </a:lnTo>
                          <a:lnTo>
                            <a:pt x="4" y="20"/>
                          </a:lnTo>
                          <a:lnTo>
                            <a:pt x="4" y="20"/>
                          </a:lnTo>
                          <a:lnTo>
                            <a:pt x="4" y="20"/>
                          </a:lnTo>
                          <a:lnTo>
                            <a:pt x="4" y="20"/>
                          </a:lnTo>
                          <a:lnTo>
                            <a:pt x="7" y="16"/>
                          </a:lnTo>
                          <a:lnTo>
                            <a:pt x="13" y="12"/>
                          </a:lnTo>
                          <a:lnTo>
                            <a:pt x="22" y="11"/>
                          </a:lnTo>
                          <a:lnTo>
                            <a:pt x="30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6957360" y="596628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29" y="14"/>
                          </a:moveTo>
                          <a:lnTo>
                            <a:pt x="34" y="15"/>
                          </a:lnTo>
                          <a:lnTo>
                            <a:pt x="37" y="17"/>
                          </a:lnTo>
                          <a:lnTo>
                            <a:pt x="41" y="20"/>
                          </a:lnTo>
                          <a:lnTo>
                            <a:pt x="43" y="22"/>
                          </a:lnTo>
                          <a:lnTo>
                            <a:pt x="42" y="16"/>
                          </a:lnTo>
                          <a:lnTo>
                            <a:pt x="40" y="10"/>
                          </a:lnTo>
                          <a:lnTo>
                            <a:pt x="34" y="6"/>
                          </a:lnTo>
                          <a:lnTo>
                            <a:pt x="25" y="2"/>
                          </a:lnTo>
                          <a:lnTo>
                            <a:pt x="17" y="0"/>
                          </a:lnTo>
                          <a:lnTo>
                            <a:pt x="9" y="1"/>
                          </a:lnTo>
                          <a:lnTo>
                            <a:pt x="3" y="4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5"/>
                          </a:lnTo>
                          <a:lnTo>
                            <a:pt x="1" y="19"/>
                          </a:lnTo>
                          <a:lnTo>
                            <a:pt x="2" y="22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7" y="16"/>
                          </a:lnTo>
                          <a:lnTo>
                            <a:pt x="13" y="13"/>
                          </a:lnTo>
                          <a:lnTo>
                            <a:pt x="21" y="12"/>
                          </a:lnTo>
                          <a:lnTo>
                            <a:pt x="29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6995880" y="597708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3">
                          <a:moveTo>
                            <a:pt x="29" y="13"/>
                          </a:moveTo>
                          <a:lnTo>
                            <a:pt x="34" y="16"/>
                          </a:lnTo>
                          <a:lnTo>
                            <a:pt x="37" y="18"/>
                          </a:lnTo>
                          <a:lnTo>
                            <a:pt x="41" y="21"/>
                          </a:lnTo>
                          <a:lnTo>
                            <a:pt x="43" y="23"/>
                          </a:lnTo>
                          <a:lnTo>
                            <a:pt x="42" y="17"/>
                          </a:lnTo>
                          <a:lnTo>
                            <a:pt x="40" y="11"/>
                          </a:lnTo>
                          <a:lnTo>
                            <a:pt x="34" y="6"/>
                          </a:lnTo>
                          <a:lnTo>
                            <a:pt x="26" y="2"/>
                          </a:lnTo>
                          <a:lnTo>
                            <a:pt x="17" y="0"/>
                          </a:lnTo>
                          <a:lnTo>
                            <a:pt x="9" y="2"/>
                          </a:lnTo>
                          <a:lnTo>
                            <a:pt x="3" y="5"/>
                          </a:lnTo>
                          <a:lnTo>
                            <a:pt x="0" y="10"/>
                          </a:lnTo>
                          <a:lnTo>
                            <a:pt x="0" y="12"/>
                          </a:lnTo>
                          <a:lnTo>
                            <a:pt x="0" y="16"/>
                          </a:lnTo>
                          <a:lnTo>
                            <a:pt x="1" y="19"/>
                          </a:lnTo>
                          <a:lnTo>
                            <a:pt x="3" y="23"/>
                          </a:lnTo>
                          <a:lnTo>
                            <a:pt x="3" y="22"/>
                          </a:lnTo>
                          <a:lnTo>
                            <a:pt x="3" y="22"/>
                          </a:lnTo>
                          <a:lnTo>
                            <a:pt x="3" y="22"/>
                          </a:lnTo>
                          <a:lnTo>
                            <a:pt x="3" y="22"/>
                          </a:lnTo>
                          <a:lnTo>
                            <a:pt x="7" y="17"/>
                          </a:lnTo>
                          <a:lnTo>
                            <a:pt x="13" y="13"/>
                          </a:lnTo>
                          <a:lnTo>
                            <a:pt x="21" y="12"/>
                          </a:lnTo>
                          <a:lnTo>
                            <a:pt x="29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7005240" y="595584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2">
                          <a:moveTo>
                            <a:pt x="31" y="13"/>
                          </a:moveTo>
                          <a:lnTo>
                            <a:pt x="35" y="15"/>
                          </a:lnTo>
                          <a:lnTo>
                            <a:pt x="39" y="16"/>
                          </a:lnTo>
                          <a:lnTo>
                            <a:pt x="43" y="19"/>
                          </a:lnTo>
                          <a:lnTo>
                            <a:pt x="45" y="22"/>
                          </a:lnTo>
                          <a:lnTo>
                            <a:pt x="44" y="16"/>
                          </a:lnTo>
                          <a:lnTo>
                            <a:pt x="41" y="9"/>
                          </a:lnTo>
                          <a:lnTo>
                            <a:pt x="35" y="5"/>
                          </a:lnTo>
                          <a:lnTo>
                            <a:pt x="27" y="1"/>
                          </a:lnTo>
                          <a:lnTo>
                            <a:pt x="19" y="0"/>
                          </a:lnTo>
                          <a:lnTo>
                            <a:pt x="11" y="0"/>
                          </a:lnTo>
                          <a:lnTo>
                            <a:pt x="5" y="3"/>
                          </a:lnTo>
                          <a:lnTo>
                            <a:pt x="1" y="8"/>
                          </a:lnTo>
                          <a:lnTo>
                            <a:pt x="0" y="12"/>
                          </a:lnTo>
                          <a:lnTo>
                            <a:pt x="1" y="15"/>
                          </a:lnTo>
                          <a:lnTo>
                            <a:pt x="2" y="19"/>
                          </a:lnTo>
                          <a:lnTo>
                            <a:pt x="4" y="21"/>
                          </a:lnTo>
                          <a:lnTo>
                            <a:pt x="4" y="21"/>
                          </a:lnTo>
                          <a:lnTo>
                            <a:pt x="4" y="20"/>
                          </a:lnTo>
                          <a:lnTo>
                            <a:pt x="4" y="20"/>
                          </a:lnTo>
                          <a:lnTo>
                            <a:pt x="4" y="20"/>
                          </a:lnTo>
                          <a:lnTo>
                            <a:pt x="7" y="15"/>
                          </a:lnTo>
                          <a:lnTo>
                            <a:pt x="14" y="12"/>
                          </a:lnTo>
                          <a:lnTo>
                            <a:pt x="23" y="12"/>
                          </a:lnTo>
                          <a:lnTo>
                            <a:pt x="31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>
                      <a:off x="6965280" y="594396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3">
                          <a:moveTo>
                            <a:pt x="3" y="22"/>
                          </a:moveTo>
                          <a:lnTo>
                            <a:pt x="3" y="22"/>
                          </a:lnTo>
                          <a:lnTo>
                            <a:pt x="3" y="20"/>
                          </a:lnTo>
                          <a:lnTo>
                            <a:pt x="3" y="20"/>
                          </a:lnTo>
                          <a:lnTo>
                            <a:pt x="3" y="20"/>
                          </a:lnTo>
                          <a:lnTo>
                            <a:pt x="7" y="16"/>
                          </a:lnTo>
                          <a:lnTo>
                            <a:pt x="14" y="12"/>
                          </a:lnTo>
                          <a:lnTo>
                            <a:pt x="22" y="12"/>
                          </a:lnTo>
                          <a:lnTo>
                            <a:pt x="30" y="13"/>
                          </a:lnTo>
                          <a:lnTo>
                            <a:pt x="35" y="16"/>
                          </a:lnTo>
                          <a:lnTo>
                            <a:pt x="38" y="17"/>
                          </a:lnTo>
                          <a:lnTo>
                            <a:pt x="41" y="19"/>
                          </a:lnTo>
                          <a:lnTo>
                            <a:pt x="43" y="23"/>
                          </a:lnTo>
                          <a:lnTo>
                            <a:pt x="43" y="17"/>
                          </a:lnTo>
                          <a:lnTo>
                            <a:pt x="41" y="10"/>
                          </a:lnTo>
                          <a:lnTo>
                            <a:pt x="35" y="5"/>
                          </a:lnTo>
                          <a:lnTo>
                            <a:pt x="27" y="1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3" y="4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6"/>
                          </a:lnTo>
                          <a:lnTo>
                            <a:pt x="1" y="19"/>
                          </a:lnTo>
                          <a:lnTo>
                            <a:pt x="3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6967440" y="595404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3">
                          <a:moveTo>
                            <a:pt x="27" y="3"/>
                          </a:moveTo>
                          <a:lnTo>
                            <a:pt x="19" y="0"/>
                          </a:lnTo>
                          <a:lnTo>
                            <a:pt x="11" y="1"/>
                          </a:lnTo>
                          <a:lnTo>
                            <a:pt x="5" y="5"/>
                          </a:lnTo>
                          <a:lnTo>
                            <a:pt x="1" y="10"/>
                          </a:lnTo>
                          <a:lnTo>
                            <a:pt x="0" y="12"/>
                          </a:lnTo>
                          <a:lnTo>
                            <a:pt x="1" y="16"/>
                          </a:lnTo>
                          <a:lnTo>
                            <a:pt x="3" y="19"/>
                          </a:lnTo>
                          <a:lnTo>
                            <a:pt x="4" y="23"/>
                          </a:lnTo>
                          <a:lnTo>
                            <a:pt x="4" y="22"/>
                          </a:lnTo>
                          <a:lnTo>
                            <a:pt x="4" y="22"/>
                          </a:lnTo>
                          <a:lnTo>
                            <a:pt x="4" y="22"/>
                          </a:lnTo>
                          <a:lnTo>
                            <a:pt x="5" y="22"/>
                          </a:lnTo>
                          <a:lnTo>
                            <a:pt x="9" y="17"/>
                          </a:lnTo>
                          <a:lnTo>
                            <a:pt x="14" y="13"/>
                          </a:lnTo>
                          <a:lnTo>
                            <a:pt x="23" y="12"/>
                          </a:lnTo>
                          <a:lnTo>
                            <a:pt x="31" y="14"/>
                          </a:lnTo>
                          <a:lnTo>
                            <a:pt x="36" y="16"/>
                          </a:lnTo>
                          <a:lnTo>
                            <a:pt x="39" y="18"/>
                          </a:lnTo>
                          <a:lnTo>
                            <a:pt x="43" y="20"/>
                          </a:lnTo>
                          <a:lnTo>
                            <a:pt x="45" y="23"/>
                          </a:lnTo>
                          <a:lnTo>
                            <a:pt x="44" y="17"/>
                          </a:lnTo>
                          <a:lnTo>
                            <a:pt x="42" y="11"/>
                          </a:lnTo>
                          <a:lnTo>
                            <a:pt x="36" y="6"/>
                          </a:lnTo>
                          <a:lnTo>
                            <a:pt x="27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6995880" y="596304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2">
                          <a:moveTo>
                            <a:pt x="3" y="21"/>
                          </a:moveTo>
                          <a:lnTo>
                            <a:pt x="3" y="21"/>
                          </a:lnTo>
                          <a:lnTo>
                            <a:pt x="3" y="20"/>
                          </a:lnTo>
                          <a:lnTo>
                            <a:pt x="3" y="20"/>
                          </a:lnTo>
                          <a:lnTo>
                            <a:pt x="3" y="20"/>
                          </a:lnTo>
                          <a:lnTo>
                            <a:pt x="7" y="15"/>
                          </a:lnTo>
                          <a:lnTo>
                            <a:pt x="14" y="11"/>
                          </a:lnTo>
                          <a:lnTo>
                            <a:pt x="21" y="11"/>
                          </a:lnTo>
                          <a:lnTo>
                            <a:pt x="31" y="13"/>
                          </a:lnTo>
                          <a:lnTo>
                            <a:pt x="35" y="15"/>
                          </a:lnTo>
                          <a:lnTo>
                            <a:pt x="39" y="16"/>
                          </a:lnTo>
                          <a:lnTo>
                            <a:pt x="41" y="18"/>
                          </a:lnTo>
                          <a:lnTo>
                            <a:pt x="44" y="22"/>
                          </a:lnTo>
                          <a:lnTo>
                            <a:pt x="44" y="16"/>
                          </a:lnTo>
                          <a:lnTo>
                            <a:pt x="41" y="9"/>
                          </a:lnTo>
                          <a:lnTo>
                            <a:pt x="35" y="4"/>
                          </a:lnTo>
                          <a:lnTo>
                            <a:pt x="27" y="1"/>
                          </a:lnTo>
                          <a:lnTo>
                            <a:pt x="19" y="0"/>
                          </a:lnTo>
                          <a:lnTo>
                            <a:pt x="11" y="0"/>
                          </a:lnTo>
                          <a:lnTo>
                            <a:pt x="3" y="3"/>
                          </a:lnTo>
                          <a:lnTo>
                            <a:pt x="0" y="8"/>
                          </a:lnTo>
                          <a:lnTo>
                            <a:pt x="0" y="11"/>
                          </a:lnTo>
                          <a:lnTo>
                            <a:pt x="0" y="15"/>
                          </a:lnTo>
                          <a:lnTo>
                            <a:pt x="1" y="18"/>
                          </a:lnTo>
                          <a:lnTo>
                            <a:pt x="3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6979680" y="596556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2" y="22"/>
                          </a:moveTo>
                          <a:lnTo>
                            <a:pt x="3" y="22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7" y="17"/>
                          </a:lnTo>
                          <a:lnTo>
                            <a:pt x="13" y="13"/>
                          </a:lnTo>
                          <a:lnTo>
                            <a:pt x="21" y="12"/>
                          </a:lnTo>
                          <a:lnTo>
                            <a:pt x="29" y="14"/>
                          </a:lnTo>
                          <a:lnTo>
                            <a:pt x="34" y="15"/>
                          </a:lnTo>
                          <a:lnTo>
                            <a:pt x="38" y="18"/>
                          </a:lnTo>
                          <a:lnTo>
                            <a:pt x="41" y="20"/>
                          </a:lnTo>
                          <a:lnTo>
                            <a:pt x="43" y="22"/>
                          </a:lnTo>
                          <a:lnTo>
                            <a:pt x="42" y="17"/>
                          </a:lnTo>
                          <a:lnTo>
                            <a:pt x="40" y="11"/>
                          </a:lnTo>
                          <a:lnTo>
                            <a:pt x="34" y="6"/>
                          </a:lnTo>
                          <a:lnTo>
                            <a:pt x="26" y="2"/>
                          </a:lnTo>
                          <a:lnTo>
                            <a:pt x="18" y="0"/>
                          </a:lnTo>
                          <a:lnTo>
                            <a:pt x="9" y="1"/>
                          </a:lnTo>
                          <a:lnTo>
                            <a:pt x="3" y="5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5"/>
                          </a:lnTo>
                          <a:lnTo>
                            <a:pt x="1" y="19"/>
                          </a:lnTo>
                          <a:lnTo>
                            <a:pt x="2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6965280" y="5983200"/>
                      <a:ext cx="2448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39">
                          <a:moveTo>
                            <a:pt x="57" y="18"/>
                          </a:moveTo>
                          <a:lnTo>
                            <a:pt x="63" y="20"/>
                          </a:lnTo>
                          <a:lnTo>
                            <a:pt x="70" y="23"/>
                          </a:lnTo>
                          <a:lnTo>
                            <a:pt x="75" y="25"/>
                          </a:lnTo>
                          <a:lnTo>
                            <a:pt x="81" y="28"/>
                          </a:lnTo>
                          <a:lnTo>
                            <a:pt x="85" y="30"/>
                          </a:lnTo>
                          <a:lnTo>
                            <a:pt x="89" y="33"/>
                          </a:lnTo>
                          <a:lnTo>
                            <a:pt x="92" y="36"/>
                          </a:lnTo>
                          <a:lnTo>
                            <a:pt x="95" y="39"/>
                          </a:lnTo>
                          <a:lnTo>
                            <a:pt x="95" y="39"/>
                          </a:lnTo>
                          <a:lnTo>
                            <a:pt x="96" y="38"/>
                          </a:lnTo>
                          <a:lnTo>
                            <a:pt x="96" y="38"/>
                          </a:lnTo>
                          <a:lnTo>
                            <a:pt x="96" y="38"/>
                          </a:lnTo>
                          <a:lnTo>
                            <a:pt x="96" y="35"/>
                          </a:lnTo>
                          <a:lnTo>
                            <a:pt x="94" y="30"/>
                          </a:lnTo>
                          <a:lnTo>
                            <a:pt x="90" y="26"/>
                          </a:lnTo>
                          <a:lnTo>
                            <a:pt x="85" y="22"/>
                          </a:lnTo>
                          <a:lnTo>
                            <a:pt x="79" y="17"/>
                          </a:lnTo>
                          <a:lnTo>
                            <a:pt x="71" y="13"/>
                          </a:lnTo>
                          <a:lnTo>
                            <a:pt x="63" y="10"/>
                          </a:lnTo>
                          <a:lnTo>
                            <a:pt x="53" y="6"/>
                          </a:lnTo>
                          <a:lnTo>
                            <a:pt x="44" y="4"/>
                          </a:lnTo>
                          <a:lnTo>
                            <a:pt x="35" y="2"/>
                          </a:lnTo>
                          <a:lnTo>
                            <a:pt x="26" y="0"/>
                          </a:lnTo>
                          <a:lnTo>
                            <a:pt x="18" y="0"/>
                          </a:lnTo>
                          <a:lnTo>
                            <a:pt x="12" y="2"/>
                          </a:lnTo>
                          <a:lnTo>
                            <a:pt x="6" y="4"/>
                          </a:lnTo>
                          <a:lnTo>
                            <a:pt x="3" y="6"/>
                          </a:lnTo>
                          <a:lnTo>
                            <a:pt x="0" y="10"/>
                          </a:lnTo>
                          <a:lnTo>
                            <a:pt x="0" y="12"/>
                          </a:lnTo>
                          <a:lnTo>
                            <a:pt x="2" y="15"/>
                          </a:lnTo>
                          <a:lnTo>
                            <a:pt x="3" y="18"/>
                          </a:lnTo>
                          <a:lnTo>
                            <a:pt x="5" y="20"/>
                          </a:lnTo>
                          <a:lnTo>
                            <a:pt x="7" y="17"/>
                          </a:lnTo>
                          <a:lnTo>
                            <a:pt x="11" y="15"/>
                          </a:lnTo>
                          <a:lnTo>
                            <a:pt x="16" y="13"/>
                          </a:lnTo>
                          <a:lnTo>
                            <a:pt x="23" y="12"/>
                          </a:lnTo>
                          <a:lnTo>
                            <a:pt x="30" y="12"/>
                          </a:lnTo>
                          <a:lnTo>
                            <a:pt x="38" y="13"/>
                          </a:lnTo>
                          <a:lnTo>
                            <a:pt x="48" y="16"/>
                          </a:lnTo>
                          <a:lnTo>
                            <a:pt x="57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>
                      <a:off x="6902280" y="5928840"/>
                      <a:ext cx="13356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2" h="833">
                          <a:moveTo>
                            <a:pt x="522" y="0"/>
                          </a:moveTo>
                          <a:lnTo>
                            <a:pt x="238" y="833"/>
                          </a:lnTo>
                          <a:lnTo>
                            <a:pt x="0" y="767"/>
                          </a:lnTo>
                          <a:lnTo>
                            <a:pt x="228" y="802"/>
                          </a:lnTo>
                          <a:lnTo>
                            <a:pt x="52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6" name=""/>
                    <p:cNvSpPr/>
                    <p:nvPr/>
                  </p:nvSpPr>
                  <p:spPr>
                    <a:xfrm>
                      <a:off x="6618960" y="5780160"/>
                      <a:ext cx="236160" cy="19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7" h="898">
                          <a:moveTo>
                            <a:pt x="0" y="0"/>
                          </a:moveTo>
                          <a:lnTo>
                            <a:pt x="21" y="898"/>
                          </a:lnTo>
                          <a:lnTo>
                            <a:pt x="37" y="38"/>
                          </a:lnTo>
                          <a:lnTo>
                            <a:pt x="927" y="4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>
                      <a:off x="7043040" y="5857920"/>
                      <a:ext cx="406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156">
                          <a:moveTo>
                            <a:pt x="0" y="156"/>
                          </a:moveTo>
                          <a:lnTo>
                            <a:pt x="158" y="30"/>
                          </a:lnTo>
                          <a:lnTo>
                            <a:pt x="131" y="0"/>
                          </a:lnTo>
                          <a:lnTo>
                            <a:pt x="0" y="15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7024320" y="5828400"/>
                      <a:ext cx="1512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61">
                          <a:moveTo>
                            <a:pt x="0" y="261"/>
                          </a:moveTo>
                          <a:lnTo>
                            <a:pt x="63" y="15"/>
                          </a:lnTo>
                          <a:lnTo>
                            <a:pt x="11" y="0"/>
                          </a:lnTo>
                          <a:lnTo>
                            <a:pt x="0" y="26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>
                      <a:off x="6976800" y="5840640"/>
                      <a:ext cx="1512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176">
                          <a:moveTo>
                            <a:pt x="60" y="176"/>
                          </a:moveTo>
                          <a:lnTo>
                            <a:pt x="0" y="11"/>
                          </a:lnTo>
                          <a:lnTo>
                            <a:pt x="34" y="0"/>
                          </a:lnTo>
                          <a:lnTo>
                            <a:pt x="60" y="1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20" name=""/>
                  <p:cNvSpPr/>
                  <p:nvPr/>
                </p:nvSpPr>
                <p:spPr>
                  <a:xfrm flipH="1" flipV="1">
                    <a:off x="6086520" y="5307120"/>
                    <a:ext cx="408600" cy="496080"/>
                  </a:xfrm>
                  <a:prstGeom prst="line">
                    <a:avLst/>
                  </a:prstGeom>
                  <a:ln w="57240">
                    <a:solidFill>
                      <a:srgbClr val="ffcf01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1" name=""/>
                <p:cNvGrpSpPr/>
                <p:nvPr/>
              </p:nvGrpSpPr>
              <p:grpSpPr>
                <a:xfrm>
                  <a:off x="6179040" y="3923280"/>
                  <a:ext cx="972720" cy="363240"/>
                  <a:chOff x="6179040" y="3923280"/>
                  <a:chExt cx="972720" cy="363240"/>
                </a:xfrm>
              </p:grpSpPr>
              <p:grpSp>
                <p:nvGrpSpPr>
                  <p:cNvPr id="1222" name=""/>
                  <p:cNvGrpSpPr/>
                  <p:nvPr/>
                </p:nvGrpSpPr>
                <p:grpSpPr>
                  <a:xfrm>
                    <a:off x="6846120" y="3923280"/>
                    <a:ext cx="305640" cy="292320"/>
                    <a:chOff x="6846120" y="3923280"/>
                    <a:chExt cx="305640" cy="292320"/>
                  </a:xfrm>
                </p:grpSpPr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6870600" y="3943440"/>
                      <a:ext cx="281160" cy="27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6" h="312">
                          <a:moveTo>
                            <a:pt x="84" y="0"/>
                          </a:moveTo>
                          <a:lnTo>
                            <a:pt x="0" y="249"/>
                          </a:lnTo>
                          <a:lnTo>
                            <a:pt x="3" y="288"/>
                          </a:lnTo>
                          <a:lnTo>
                            <a:pt x="156" y="312"/>
                          </a:lnTo>
                          <a:lnTo>
                            <a:pt x="177" y="312"/>
                          </a:lnTo>
                          <a:lnTo>
                            <a:pt x="204" y="303"/>
                          </a:lnTo>
                          <a:lnTo>
                            <a:pt x="213" y="285"/>
                          </a:lnTo>
                          <a:lnTo>
                            <a:pt x="216" y="267"/>
                          </a:lnTo>
                          <a:lnTo>
                            <a:pt x="237" y="201"/>
                          </a:lnTo>
                          <a:lnTo>
                            <a:pt x="276" y="33"/>
                          </a:lnTo>
                          <a:lnTo>
                            <a:pt x="270" y="15"/>
                          </a:lnTo>
                          <a:lnTo>
                            <a:pt x="231" y="6"/>
                          </a:lnTo>
                          <a:lnTo>
                            <a:pt x="84" y="0"/>
                          </a:lnTo>
                          <a:close/>
                        </a:path>
                      </a:pathLst>
                    </a:cu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b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24" name=""/>
                    <p:cNvGrpSpPr/>
                    <p:nvPr/>
                  </p:nvGrpSpPr>
                  <p:grpSpPr>
                    <a:xfrm>
                      <a:off x="6846120" y="3923280"/>
                      <a:ext cx="294840" cy="277200"/>
                      <a:chOff x="6846120" y="3923280"/>
                      <a:chExt cx="294840" cy="277200"/>
                    </a:xfrm>
                  </p:grpSpPr>
                  <p:sp>
                    <p:nvSpPr>
                      <p:cNvPr id="1225" name=""/>
                      <p:cNvSpPr/>
                      <p:nvPr/>
                    </p:nvSpPr>
                    <p:spPr>
                      <a:xfrm>
                        <a:off x="6852600" y="3926160"/>
                        <a:ext cx="28476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6" h="1534">
                            <a:moveTo>
                              <a:pt x="370" y="85"/>
                            </a:moveTo>
                            <a:lnTo>
                              <a:pt x="48" y="1105"/>
                            </a:lnTo>
                            <a:lnTo>
                              <a:pt x="45" y="1113"/>
                            </a:lnTo>
                            <a:lnTo>
                              <a:pt x="36" y="1137"/>
                            </a:lnTo>
                            <a:lnTo>
                              <a:pt x="25" y="1172"/>
                            </a:lnTo>
                            <a:lnTo>
                              <a:pt x="14" y="1213"/>
                            </a:lnTo>
                            <a:lnTo>
                              <a:pt x="5" y="1257"/>
                            </a:lnTo>
                            <a:lnTo>
                              <a:pt x="0" y="1298"/>
                            </a:lnTo>
                            <a:lnTo>
                              <a:pt x="1" y="1335"/>
                            </a:lnTo>
                            <a:lnTo>
                              <a:pt x="12" y="1361"/>
                            </a:lnTo>
                            <a:lnTo>
                              <a:pt x="22" y="1370"/>
                            </a:lnTo>
                            <a:lnTo>
                              <a:pt x="37" y="1380"/>
                            </a:lnTo>
                            <a:lnTo>
                              <a:pt x="56" y="1389"/>
                            </a:lnTo>
                            <a:lnTo>
                              <a:pt x="76" y="1398"/>
                            </a:lnTo>
                            <a:lnTo>
                              <a:pt x="100" y="1406"/>
                            </a:lnTo>
                            <a:lnTo>
                              <a:pt x="125" y="1414"/>
                            </a:lnTo>
                            <a:lnTo>
                              <a:pt x="152" y="1420"/>
                            </a:lnTo>
                            <a:lnTo>
                              <a:pt x="179" y="1428"/>
                            </a:lnTo>
                            <a:lnTo>
                              <a:pt x="206" y="1433"/>
                            </a:lnTo>
                            <a:lnTo>
                              <a:pt x="232" y="1440"/>
                            </a:lnTo>
                            <a:lnTo>
                              <a:pt x="257" y="1444"/>
                            </a:lnTo>
                            <a:lnTo>
                              <a:pt x="280" y="1450"/>
                            </a:lnTo>
                            <a:lnTo>
                              <a:pt x="300" y="1454"/>
                            </a:lnTo>
                            <a:lnTo>
                              <a:pt x="318" y="1457"/>
                            </a:lnTo>
                            <a:lnTo>
                              <a:pt x="332" y="1461"/>
                            </a:lnTo>
                            <a:lnTo>
                              <a:pt x="341" y="1463"/>
                            </a:lnTo>
                            <a:lnTo>
                              <a:pt x="353" y="1466"/>
                            </a:lnTo>
                            <a:lnTo>
                              <a:pt x="373" y="1469"/>
                            </a:lnTo>
                            <a:lnTo>
                              <a:pt x="401" y="1474"/>
                            </a:lnTo>
                            <a:lnTo>
                              <a:pt x="436" y="1479"/>
                            </a:lnTo>
                            <a:lnTo>
                              <a:pt x="475" y="1484"/>
                            </a:lnTo>
                            <a:lnTo>
                              <a:pt x="518" y="1491"/>
                            </a:lnTo>
                            <a:lnTo>
                              <a:pt x="564" y="1496"/>
                            </a:lnTo>
                            <a:lnTo>
                              <a:pt x="610" y="1503"/>
                            </a:lnTo>
                            <a:lnTo>
                              <a:pt x="656" y="1509"/>
                            </a:lnTo>
                            <a:lnTo>
                              <a:pt x="700" y="1515"/>
                            </a:lnTo>
                            <a:lnTo>
                              <a:pt x="742" y="1520"/>
                            </a:lnTo>
                            <a:lnTo>
                              <a:pt x="778" y="1525"/>
                            </a:lnTo>
                            <a:lnTo>
                              <a:pt x="809" y="1529"/>
                            </a:lnTo>
                            <a:lnTo>
                              <a:pt x="833" y="1532"/>
                            </a:lnTo>
                            <a:lnTo>
                              <a:pt x="848" y="1533"/>
                            </a:lnTo>
                            <a:lnTo>
                              <a:pt x="853" y="1534"/>
                            </a:lnTo>
                            <a:lnTo>
                              <a:pt x="855" y="1534"/>
                            </a:lnTo>
                            <a:lnTo>
                              <a:pt x="862" y="1532"/>
                            </a:lnTo>
                            <a:lnTo>
                              <a:pt x="873" y="1528"/>
                            </a:lnTo>
                            <a:lnTo>
                              <a:pt x="885" y="1521"/>
                            </a:lnTo>
                            <a:lnTo>
                              <a:pt x="900" y="1510"/>
                            </a:lnTo>
                            <a:lnTo>
                              <a:pt x="916" y="1494"/>
                            </a:lnTo>
                            <a:lnTo>
                              <a:pt x="932" y="1474"/>
                            </a:lnTo>
                            <a:lnTo>
                              <a:pt x="948" y="1445"/>
                            </a:lnTo>
                            <a:lnTo>
                              <a:pt x="959" y="1417"/>
                            </a:lnTo>
                            <a:lnTo>
                              <a:pt x="976" y="1367"/>
                            </a:lnTo>
                            <a:lnTo>
                              <a:pt x="996" y="1297"/>
                            </a:lnTo>
                            <a:lnTo>
                              <a:pt x="1021" y="1212"/>
                            </a:lnTo>
                            <a:lnTo>
                              <a:pt x="1049" y="1113"/>
                            </a:lnTo>
                            <a:lnTo>
                              <a:pt x="1080" y="1007"/>
                            </a:lnTo>
                            <a:lnTo>
                              <a:pt x="1111" y="894"/>
                            </a:lnTo>
                            <a:lnTo>
                              <a:pt x="1142" y="779"/>
                            </a:lnTo>
                            <a:lnTo>
                              <a:pt x="1173" y="664"/>
                            </a:lnTo>
                            <a:lnTo>
                              <a:pt x="1203" y="555"/>
                            </a:lnTo>
                            <a:lnTo>
                              <a:pt x="1230" y="453"/>
                            </a:lnTo>
                            <a:lnTo>
                              <a:pt x="1255" y="362"/>
                            </a:lnTo>
                            <a:lnTo>
                              <a:pt x="1276" y="285"/>
                            </a:lnTo>
                            <a:lnTo>
                              <a:pt x="1291" y="226"/>
                            </a:lnTo>
                            <a:lnTo>
                              <a:pt x="1302" y="188"/>
                            </a:lnTo>
                            <a:lnTo>
                              <a:pt x="1305" y="175"/>
                            </a:lnTo>
                            <a:lnTo>
                              <a:pt x="1305" y="172"/>
                            </a:lnTo>
                            <a:lnTo>
                              <a:pt x="1306" y="164"/>
                            </a:lnTo>
                            <a:lnTo>
                              <a:pt x="1306" y="152"/>
                            </a:lnTo>
                            <a:lnTo>
                              <a:pt x="1306" y="138"/>
                            </a:lnTo>
                            <a:lnTo>
                              <a:pt x="1303" y="122"/>
                            </a:lnTo>
                            <a:lnTo>
                              <a:pt x="1297" y="107"/>
                            </a:lnTo>
                            <a:lnTo>
                              <a:pt x="1289" y="91"/>
                            </a:lnTo>
                            <a:lnTo>
                              <a:pt x="1276" y="79"/>
                            </a:lnTo>
                            <a:lnTo>
                              <a:pt x="1267" y="74"/>
                            </a:lnTo>
                            <a:lnTo>
                              <a:pt x="1258" y="70"/>
                            </a:lnTo>
                            <a:lnTo>
                              <a:pt x="1250" y="65"/>
                            </a:lnTo>
                            <a:lnTo>
                              <a:pt x="1240" y="62"/>
                            </a:lnTo>
                            <a:lnTo>
                              <a:pt x="1230" y="59"/>
                            </a:lnTo>
                            <a:lnTo>
                              <a:pt x="1219" y="56"/>
                            </a:lnTo>
                            <a:lnTo>
                              <a:pt x="1209" y="52"/>
                            </a:lnTo>
                            <a:lnTo>
                              <a:pt x="1197" y="50"/>
                            </a:lnTo>
                            <a:lnTo>
                              <a:pt x="1185" y="48"/>
                            </a:lnTo>
                            <a:lnTo>
                              <a:pt x="1172" y="46"/>
                            </a:lnTo>
                            <a:lnTo>
                              <a:pt x="1160" y="44"/>
                            </a:lnTo>
                            <a:lnTo>
                              <a:pt x="1147" y="43"/>
                            </a:lnTo>
                            <a:lnTo>
                              <a:pt x="1133" y="41"/>
                            </a:lnTo>
                            <a:lnTo>
                              <a:pt x="1119" y="39"/>
                            </a:lnTo>
                            <a:lnTo>
                              <a:pt x="1105" y="38"/>
                            </a:lnTo>
                            <a:lnTo>
                              <a:pt x="1090" y="37"/>
                            </a:lnTo>
                            <a:lnTo>
                              <a:pt x="1071" y="36"/>
                            </a:lnTo>
                            <a:lnTo>
                              <a:pt x="1043" y="34"/>
                            </a:lnTo>
                            <a:lnTo>
                              <a:pt x="1007" y="32"/>
                            </a:lnTo>
                            <a:lnTo>
                              <a:pt x="966" y="30"/>
                            </a:lnTo>
                            <a:lnTo>
                              <a:pt x="919" y="26"/>
                            </a:lnTo>
                            <a:lnTo>
                              <a:pt x="870" y="23"/>
                            </a:lnTo>
                            <a:lnTo>
                              <a:pt x="818" y="21"/>
                            </a:lnTo>
                            <a:lnTo>
                              <a:pt x="766" y="18"/>
                            </a:lnTo>
                            <a:lnTo>
                              <a:pt x="716" y="14"/>
                            </a:lnTo>
                            <a:lnTo>
                              <a:pt x="667" y="11"/>
                            </a:lnTo>
                            <a:lnTo>
                              <a:pt x="622" y="9"/>
                            </a:lnTo>
                            <a:lnTo>
                              <a:pt x="582" y="6"/>
                            </a:lnTo>
                            <a:lnTo>
                              <a:pt x="549" y="5"/>
                            </a:lnTo>
                            <a:lnTo>
                              <a:pt x="523" y="2"/>
                            </a:lnTo>
                            <a:lnTo>
                              <a:pt x="506" y="1"/>
                            </a:lnTo>
                            <a:lnTo>
                              <a:pt x="501" y="1"/>
                            </a:lnTo>
                            <a:lnTo>
                              <a:pt x="497" y="0"/>
                            </a:lnTo>
                            <a:lnTo>
                              <a:pt x="486" y="0"/>
                            </a:lnTo>
                            <a:lnTo>
                              <a:pt x="468" y="1"/>
                            </a:lnTo>
                            <a:lnTo>
                              <a:pt x="449" y="6"/>
                            </a:lnTo>
                            <a:lnTo>
                              <a:pt x="427" y="14"/>
                            </a:lnTo>
                            <a:lnTo>
                              <a:pt x="406" y="30"/>
                            </a:lnTo>
                            <a:lnTo>
                              <a:pt x="386" y="52"/>
                            </a:lnTo>
                            <a:lnTo>
                              <a:pt x="370" y="8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" name=""/>
                      <p:cNvSpPr/>
                      <p:nvPr/>
                    </p:nvSpPr>
                    <p:spPr>
                      <a:xfrm>
                        <a:off x="6899400" y="3951720"/>
                        <a:ext cx="19188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2" h="994">
                            <a:moveTo>
                              <a:pt x="259" y="0"/>
                            </a:moveTo>
                            <a:lnTo>
                              <a:pt x="0" y="898"/>
                            </a:lnTo>
                            <a:lnTo>
                              <a:pt x="606" y="994"/>
                            </a:lnTo>
                            <a:lnTo>
                              <a:pt x="882" y="56"/>
                            </a:lnTo>
                            <a:lnTo>
                              <a:pt x="259" y="0"/>
                            </a:lnTo>
                            <a:close/>
                          </a:path>
                        </a:pathLst>
                      </a:custGeom>
                      <a:solidFill>
                        <a:srgbClr val="77c95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" name=""/>
                      <p:cNvSpPr/>
                      <p:nvPr/>
                    </p:nvSpPr>
                    <p:spPr>
                      <a:xfrm>
                        <a:off x="6850080" y="3929400"/>
                        <a:ext cx="84600" cy="24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0" h="1382">
                            <a:moveTo>
                              <a:pt x="390" y="1"/>
                            </a:moveTo>
                            <a:lnTo>
                              <a:pt x="374" y="44"/>
                            </a:lnTo>
                            <a:lnTo>
                              <a:pt x="359" y="87"/>
                            </a:lnTo>
                            <a:lnTo>
                              <a:pt x="344" y="130"/>
                            </a:lnTo>
                            <a:lnTo>
                              <a:pt x="330" y="174"/>
                            </a:lnTo>
                            <a:lnTo>
                              <a:pt x="316" y="217"/>
                            </a:lnTo>
                            <a:lnTo>
                              <a:pt x="301" y="260"/>
                            </a:lnTo>
                            <a:lnTo>
                              <a:pt x="287" y="304"/>
                            </a:lnTo>
                            <a:lnTo>
                              <a:pt x="273" y="347"/>
                            </a:lnTo>
                            <a:lnTo>
                              <a:pt x="260" y="391"/>
                            </a:lnTo>
                            <a:lnTo>
                              <a:pt x="245" y="434"/>
                            </a:lnTo>
                            <a:lnTo>
                              <a:pt x="231" y="477"/>
                            </a:lnTo>
                            <a:lnTo>
                              <a:pt x="217" y="521"/>
                            </a:lnTo>
                            <a:lnTo>
                              <a:pt x="203" y="565"/>
                            </a:lnTo>
                            <a:lnTo>
                              <a:pt x="190" y="609"/>
                            </a:lnTo>
                            <a:lnTo>
                              <a:pt x="176" y="652"/>
                            </a:lnTo>
                            <a:lnTo>
                              <a:pt x="162" y="695"/>
                            </a:lnTo>
                            <a:lnTo>
                              <a:pt x="152" y="727"/>
                            </a:lnTo>
                            <a:lnTo>
                              <a:pt x="143" y="757"/>
                            </a:lnTo>
                            <a:lnTo>
                              <a:pt x="133" y="789"/>
                            </a:lnTo>
                            <a:lnTo>
                              <a:pt x="123" y="820"/>
                            </a:lnTo>
                            <a:lnTo>
                              <a:pt x="113" y="852"/>
                            </a:lnTo>
                            <a:lnTo>
                              <a:pt x="104" y="882"/>
                            </a:lnTo>
                            <a:lnTo>
                              <a:pt x="93" y="913"/>
                            </a:lnTo>
                            <a:lnTo>
                              <a:pt x="82" y="944"/>
                            </a:lnTo>
                            <a:lnTo>
                              <a:pt x="73" y="970"/>
                            </a:lnTo>
                            <a:lnTo>
                              <a:pt x="65" y="996"/>
                            </a:lnTo>
                            <a:lnTo>
                              <a:pt x="56" y="1022"/>
                            </a:lnTo>
                            <a:lnTo>
                              <a:pt x="47" y="1048"/>
                            </a:lnTo>
                            <a:lnTo>
                              <a:pt x="40" y="1074"/>
                            </a:lnTo>
                            <a:lnTo>
                              <a:pt x="32" y="1100"/>
                            </a:lnTo>
                            <a:lnTo>
                              <a:pt x="24" y="1126"/>
                            </a:lnTo>
                            <a:lnTo>
                              <a:pt x="18" y="1153"/>
                            </a:lnTo>
                            <a:lnTo>
                              <a:pt x="7" y="1207"/>
                            </a:lnTo>
                            <a:lnTo>
                              <a:pt x="0" y="1265"/>
                            </a:lnTo>
                            <a:lnTo>
                              <a:pt x="1" y="1321"/>
                            </a:lnTo>
                            <a:lnTo>
                              <a:pt x="10" y="1377"/>
                            </a:lnTo>
                            <a:lnTo>
                              <a:pt x="16" y="1382"/>
                            </a:lnTo>
                            <a:lnTo>
                              <a:pt x="22" y="1378"/>
                            </a:lnTo>
                            <a:lnTo>
                              <a:pt x="28" y="1371"/>
                            </a:lnTo>
                            <a:lnTo>
                              <a:pt x="30" y="1364"/>
                            </a:lnTo>
                            <a:lnTo>
                              <a:pt x="34" y="1307"/>
                            </a:lnTo>
                            <a:lnTo>
                              <a:pt x="41" y="1252"/>
                            </a:lnTo>
                            <a:lnTo>
                              <a:pt x="50" y="1198"/>
                            </a:lnTo>
                            <a:lnTo>
                              <a:pt x="62" y="1145"/>
                            </a:lnTo>
                            <a:lnTo>
                              <a:pt x="75" y="1091"/>
                            </a:lnTo>
                            <a:lnTo>
                              <a:pt x="91" y="1038"/>
                            </a:lnTo>
                            <a:lnTo>
                              <a:pt x="108" y="985"/>
                            </a:lnTo>
                            <a:lnTo>
                              <a:pt x="125" y="932"/>
                            </a:lnTo>
                            <a:lnTo>
                              <a:pt x="135" y="902"/>
                            </a:lnTo>
                            <a:lnTo>
                              <a:pt x="145" y="871"/>
                            </a:lnTo>
                            <a:lnTo>
                              <a:pt x="154" y="841"/>
                            </a:lnTo>
                            <a:lnTo>
                              <a:pt x="163" y="810"/>
                            </a:lnTo>
                            <a:lnTo>
                              <a:pt x="172" y="780"/>
                            </a:lnTo>
                            <a:lnTo>
                              <a:pt x="180" y="750"/>
                            </a:lnTo>
                            <a:lnTo>
                              <a:pt x="189" y="719"/>
                            </a:lnTo>
                            <a:lnTo>
                              <a:pt x="198" y="689"/>
                            </a:lnTo>
                            <a:lnTo>
                              <a:pt x="210" y="645"/>
                            </a:lnTo>
                            <a:lnTo>
                              <a:pt x="221" y="603"/>
                            </a:lnTo>
                            <a:lnTo>
                              <a:pt x="232" y="560"/>
                            </a:lnTo>
                            <a:lnTo>
                              <a:pt x="243" y="516"/>
                            </a:lnTo>
                            <a:lnTo>
                              <a:pt x="254" y="473"/>
                            </a:lnTo>
                            <a:lnTo>
                              <a:pt x="266" y="430"/>
                            </a:lnTo>
                            <a:lnTo>
                              <a:pt x="277" y="386"/>
                            </a:lnTo>
                            <a:lnTo>
                              <a:pt x="289" y="343"/>
                            </a:lnTo>
                            <a:lnTo>
                              <a:pt x="300" y="300"/>
                            </a:lnTo>
                            <a:lnTo>
                              <a:pt x="312" y="257"/>
                            </a:lnTo>
                            <a:lnTo>
                              <a:pt x="323" y="214"/>
                            </a:lnTo>
                            <a:lnTo>
                              <a:pt x="337" y="171"/>
                            </a:lnTo>
                            <a:lnTo>
                              <a:pt x="350" y="128"/>
                            </a:lnTo>
                            <a:lnTo>
                              <a:pt x="363" y="86"/>
                            </a:lnTo>
                            <a:lnTo>
                              <a:pt x="376" y="43"/>
                            </a:lnTo>
                            <a:lnTo>
                              <a:pt x="390" y="1"/>
                            </a:lnTo>
                            <a:lnTo>
                              <a:pt x="390" y="0"/>
                            </a:lnTo>
                            <a:lnTo>
                              <a:pt x="390" y="0"/>
                            </a:lnTo>
                            <a:lnTo>
                              <a:pt x="390" y="0"/>
                            </a:lnTo>
                            <a:lnTo>
                              <a:pt x="390" y="1"/>
                            </a:lnTo>
                            <a:lnTo>
                              <a:pt x="39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8" name=""/>
                      <p:cNvSpPr/>
                      <p:nvPr/>
                    </p:nvSpPr>
                    <p:spPr>
                      <a:xfrm>
                        <a:off x="6931080" y="3923280"/>
                        <a:ext cx="19332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4" h="66">
                            <a:moveTo>
                              <a:pt x="0" y="60"/>
                            </a:moveTo>
                            <a:lnTo>
                              <a:pt x="11" y="43"/>
                            </a:lnTo>
                            <a:lnTo>
                              <a:pt x="23" y="32"/>
                            </a:lnTo>
                            <a:lnTo>
                              <a:pt x="37" y="24"/>
                            </a:lnTo>
                            <a:lnTo>
                              <a:pt x="51" y="20"/>
                            </a:lnTo>
                            <a:lnTo>
                              <a:pt x="66" y="17"/>
                            </a:lnTo>
                            <a:lnTo>
                              <a:pt x="83" y="19"/>
                            </a:lnTo>
                            <a:lnTo>
                              <a:pt x="99" y="20"/>
                            </a:lnTo>
                            <a:lnTo>
                              <a:pt x="115" y="21"/>
                            </a:lnTo>
                            <a:lnTo>
                              <a:pt x="125" y="22"/>
                            </a:lnTo>
                            <a:lnTo>
                              <a:pt x="143" y="23"/>
                            </a:lnTo>
                            <a:lnTo>
                              <a:pt x="170" y="25"/>
                            </a:lnTo>
                            <a:lnTo>
                              <a:pt x="205" y="27"/>
                            </a:lnTo>
                            <a:lnTo>
                              <a:pt x="244" y="30"/>
                            </a:lnTo>
                            <a:lnTo>
                              <a:pt x="288" y="34"/>
                            </a:lnTo>
                            <a:lnTo>
                              <a:pt x="336" y="37"/>
                            </a:lnTo>
                            <a:lnTo>
                              <a:pt x="386" y="40"/>
                            </a:lnTo>
                            <a:lnTo>
                              <a:pt x="436" y="43"/>
                            </a:lnTo>
                            <a:lnTo>
                              <a:pt x="486" y="47"/>
                            </a:lnTo>
                            <a:lnTo>
                              <a:pt x="533" y="50"/>
                            </a:lnTo>
                            <a:lnTo>
                              <a:pt x="579" y="53"/>
                            </a:lnTo>
                            <a:lnTo>
                              <a:pt x="619" y="55"/>
                            </a:lnTo>
                            <a:lnTo>
                              <a:pt x="655" y="58"/>
                            </a:lnTo>
                            <a:lnTo>
                              <a:pt x="684" y="60"/>
                            </a:lnTo>
                            <a:lnTo>
                              <a:pt x="705" y="61"/>
                            </a:lnTo>
                            <a:lnTo>
                              <a:pt x="715" y="62"/>
                            </a:lnTo>
                            <a:lnTo>
                              <a:pt x="726" y="62"/>
                            </a:lnTo>
                            <a:lnTo>
                              <a:pt x="737" y="63"/>
                            </a:lnTo>
                            <a:lnTo>
                              <a:pt x="748" y="63"/>
                            </a:lnTo>
                            <a:lnTo>
                              <a:pt x="759" y="64"/>
                            </a:lnTo>
                            <a:lnTo>
                              <a:pt x="770" y="64"/>
                            </a:lnTo>
                            <a:lnTo>
                              <a:pt x="780" y="65"/>
                            </a:lnTo>
                            <a:lnTo>
                              <a:pt x="791" y="65"/>
                            </a:lnTo>
                            <a:lnTo>
                              <a:pt x="802" y="65"/>
                            </a:lnTo>
                            <a:lnTo>
                              <a:pt x="813" y="66"/>
                            </a:lnTo>
                            <a:lnTo>
                              <a:pt x="824" y="66"/>
                            </a:lnTo>
                            <a:lnTo>
                              <a:pt x="835" y="66"/>
                            </a:lnTo>
                            <a:lnTo>
                              <a:pt x="845" y="65"/>
                            </a:lnTo>
                            <a:lnTo>
                              <a:pt x="856" y="65"/>
                            </a:lnTo>
                            <a:lnTo>
                              <a:pt x="867" y="65"/>
                            </a:lnTo>
                            <a:lnTo>
                              <a:pt x="878" y="64"/>
                            </a:lnTo>
                            <a:lnTo>
                              <a:pt x="881" y="63"/>
                            </a:lnTo>
                            <a:lnTo>
                              <a:pt x="883" y="60"/>
                            </a:lnTo>
                            <a:lnTo>
                              <a:pt x="884" y="58"/>
                            </a:lnTo>
                            <a:lnTo>
                              <a:pt x="882" y="56"/>
                            </a:lnTo>
                            <a:lnTo>
                              <a:pt x="852" y="53"/>
                            </a:lnTo>
                            <a:lnTo>
                              <a:pt x="822" y="51"/>
                            </a:lnTo>
                            <a:lnTo>
                              <a:pt x="791" y="48"/>
                            </a:lnTo>
                            <a:lnTo>
                              <a:pt x="761" y="46"/>
                            </a:lnTo>
                            <a:lnTo>
                              <a:pt x="731" y="43"/>
                            </a:lnTo>
                            <a:lnTo>
                              <a:pt x="700" y="40"/>
                            </a:lnTo>
                            <a:lnTo>
                              <a:pt x="670" y="38"/>
                            </a:lnTo>
                            <a:lnTo>
                              <a:pt x="640" y="36"/>
                            </a:lnTo>
                            <a:lnTo>
                              <a:pt x="609" y="34"/>
                            </a:lnTo>
                            <a:lnTo>
                              <a:pt x="579" y="32"/>
                            </a:lnTo>
                            <a:lnTo>
                              <a:pt x="549" y="28"/>
                            </a:lnTo>
                            <a:lnTo>
                              <a:pt x="518" y="26"/>
                            </a:lnTo>
                            <a:lnTo>
                              <a:pt x="488" y="24"/>
                            </a:lnTo>
                            <a:lnTo>
                              <a:pt x="458" y="22"/>
                            </a:lnTo>
                            <a:lnTo>
                              <a:pt x="427" y="20"/>
                            </a:lnTo>
                            <a:lnTo>
                              <a:pt x="397" y="17"/>
                            </a:lnTo>
                            <a:lnTo>
                              <a:pt x="382" y="16"/>
                            </a:lnTo>
                            <a:lnTo>
                              <a:pt x="367" y="15"/>
                            </a:lnTo>
                            <a:lnTo>
                              <a:pt x="351" y="14"/>
                            </a:lnTo>
                            <a:lnTo>
                              <a:pt x="337" y="13"/>
                            </a:lnTo>
                            <a:lnTo>
                              <a:pt x="322" y="11"/>
                            </a:lnTo>
                            <a:lnTo>
                              <a:pt x="307" y="10"/>
                            </a:lnTo>
                            <a:lnTo>
                              <a:pt x="292" y="9"/>
                            </a:lnTo>
                            <a:lnTo>
                              <a:pt x="278" y="8"/>
                            </a:lnTo>
                            <a:lnTo>
                              <a:pt x="262" y="7"/>
                            </a:lnTo>
                            <a:lnTo>
                              <a:pt x="247" y="6"/>
                            </a:lnTo>
                            <a:lnTo>
                              <a:pt x="232" y="6"/>
                            </a:lnTo>
                            <a:lnTo>
                              <a:pt x="218" y="4"/>
                            </a:lnTo>
                            <a:lnTo>
                              <a:pt x="203" y="3"/>
                            </a:lnTo>
                            <a:lnTo>
                              <a:pt x="188" y="2"/>
                            </a:lnTo>
                            <a:lnTo>
                              <a:pt x="174" y="2"/>
                            </a:lnTo>
                            <a:lnTo>
                              <a:pt x="158" y="1"/>
                            </a:lnTo>
                            <a:lnTo>
                              <a:pt x="151" y="1"/>
                            </a:lnTo>
                            <a:lnTo>
                              <a:pt x="142" y="0"/>
                            </a:lnTo>
                            <a:lnTo>
                              <a:pt x="135" y="0"/>
                            </a:lnTo>
                            <a:lnTo>
                              <a:pt x="127" y="0"/>
                            </a:lnTo>
                            <a:lnTo>
                              <a:pt x="118" y="0"/>
                            </a:lnTo>
                            <a:lnTo>
                              <a:pt x="111" y="0"/>
                            </a:lnTo>
                            <a:lnTo>
                              <a:pt x="102" y="1"/>
                            </a:lnTo>
                            <a:lnTo>
                              <a:pt x="95" y="1"/>
                            </a:lnTo>
                            <a:lnTo>
                              <a:pt x="76" y="2"/>
                            </a:lnTo>
                            <a:lnTo>
                              <a:pt x="60" y="4"/>
                            </a:lnTo>
                            <a:lnTo>
                              <a:pt x="47" y="7"/>
                            </a:lnTo>
                            <a:lnTo>
                              <a:pt x="35" y="12"/>
                            </a:lnTo>
                            <a:lnTo>
                              <a:pt x="24" y="19"/>
                            </a:lnTo>
                            <a:lnTo>
                              <a:pt x="15" y="29"/>
                            </a:lnTo>
                            <a:lnTo>
                              <a:pt x="7" y="42"/>
                            </a:lnTo>
                            <a:lnTo>
                              <a:pt x="0" y="60"/>
                            </a:lnTo>
                            <a:lnTo>
                              <a:pt x="0" y="60"/>
                            </a:lnTo>
                            <a:lnTo>
                              <a:pt x="0" y="60"/>
                            </a:lnTo>
                            <a:lnTo>
                              <a:pt x="0" y="60"/>
                            </a:lnTo>
                            <a:lnTo>
                              <a:pt x="0" y="60"/>
                            </a:lnTo>
                            <a:lnTo>
                              <a:pt x="0" y="6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9" name=""/>
                      <p:cNvSpPr/>
                      <p:nvPr/>
                    </p:nvSpPr>
                    <p:spPr>
                      <a:xfrm>
                        <a:off x="7045920" y="3946320"/>
                        <a:ext cx="9504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9" h="1434">
                            <a:moveTo>
                              <a:pt x="388" y="196"/>
                            </a:moveTo>
                            <a:lnTo>
                              <a:pt x="375" y="246"/>
                            </a:lnTo>
                            <a:lnTo>
                              <a:pt x="361" y="294"/>
                            </a:lnTo>
                            <a:lnTo>
                              <a:pt x="347" y="344"/>
                            </a:lnTo>
                            <a:lnTo>
                              <a:pt x="333" y="394"/>
                            </a:lnTo>
                            <a:lnTo>
                              <a:pt x="319" y="444"/>
                            </a:lnTo>
                            <a:lnTo>
                              <a:pt x="304" y="493"/>
                            </a:lnTo>
                            <a:lnTo>
                              <a:pt x="290" y="543"/>
                            </a:lnTo>
                            <a:lnTo>
                              <a:pt x="276" y="593"/>
                            </a:lnTo>
                            <a:lnTo>
                              <a:pt x="256" y="668"/>
                            </a:lnTo>
                            <a:lnTo>
                              <a:pt x="235" y="741"/>
                            </a:lnTo>
                            <a:lnTo>
                              <a:pt x="215" y="816"/>
                            </a:lnTo>
                            <a:lnTo>
                              <a:pt x="195" y="891"/>
                            </a:lnTo>
                            <a:lnTo>
                              <a:pt x="176" y="965"/>
                            </a:lnTo>
                            <a:lnTo>
                              <a:pt x="156" y="1040"/>
                            </a:lnTo>
                            <a:lnTo>
                              <a:pt x="138" y="1115"/>
                            </a:lnTo>
                            <a:lnTo>
                              <a:pt x="119" y="1189"/>
                            </a:lnTo>
                            <a:lnTo>
                              <a:pt x="110" y="1221"/>
                            </a:lnTo>
                            <a:lnTo>
                              <a:pt x="102" y="1251"/>
                            </a:lnTo>
                            <a:lnTo>
                              <a:pt x="90" y="1283"/>
                            </a:lnTo>
                            <a:lnTo>
                              <a:pt x="78" y="1312"/>
                            </a:lnTo>
                            <a:lnTo>
                              <a:pt x="63" y="1341"/>
                            </a:lnTo>
                            <a:lnTo>
                              <a:pt x="45" y="1368"/>
                            </a:lnTo>
                            <a:lnTo>
                              <a:pt x="26" y="1395"/>
                            </a:lnTo>
                            <a:lnTo>
                              <a:pt x="4" y="1417"/>
                            </a:lnTo>
                            <a:lnTo>
                              <a:pt x="1" y="1423"/>
                            </a:lnTo>
                            <a:lnTo>
                              <a:pt x="0" y="1429"/>
                            </a:lnTo>
                            <a:lnTo>
                              <a:pt x="2" y="1434"/>
                            </a:lnTo>
                            <a:lnTo>
                              <a:pt x="9" y="1432"/>
                            </a:lnTo>
                            <a:lnTo>
                              <a:pt x="47" y="1403"/>
                            </a:lnTo>
                            <a:lnTo>
                              <a:pt x="77" y="1370"/>
                            </a:lnTo>
                            <a:lnTo>
                              <a:pt x="103" y="1331"/>
                            </a:lnTo>
                            <a:lnTo>
                              <a:pt x="123" y="1289"/>
                            </a:lnTo>
                            <a:lnTo>
                              <a:pt x="140" y="1246"/>
                            </a:lnTo>
                            <a:lnTo>
                              <a:pt x="154" y="1200"/>
                            </a:lnTo>
                            <a:lnTo>
                              <a:pt x="166" y="1155"/>
                            </a:lnTo>
                            <a:lnTo>
                              <a:pt x="177" y="1110"/>
                            </a:lnTo>
                            <a:lnTo>
                              <a:pt x="185" y="1077"/>
                            </a:lnTo>
                            <a:lnTo>
                              <a:pt x="193" y="1044"/>
                            </a:lnTo>
                            <a:lnTo>
                              <a:pt x="202" y="1010"/>
                            </a:lnTo>
                            <a:lnTo>
                              <a:pt x="210" y="977"/>
                            </a:lnTo>
                            <a:lnTo>
                              <a:pt x="218" y="944"/>
                            </a:lnTo>
                            <a:lnTo>
                              <a:pt x="226" y="911"/>
                            </a:lnTo>
                            <a:lnTo>
                              <a:pt x="234" y="878"/>
                            </a:lnTo>
                            <a:lnTo>
                              <a:pt x="243" y="844"/>
                            </a:lnTo>
                            <a:lnTo>
                              <a:pt x="254" y="797"/>
                            </a:lnTo>
                            <a:lnTo>
                              <a:pt x="265" y="749"/>
                            </a:lnTo>
                            <a:lnTo>
                              <a:pt x="276" y="701"/>
                            </a:lnTo>
                            <a:lnTo>
                              <a:pt x="288" y="654"/>
                            </a:lnTo>
                            <a:lnTo>
                              <a:pt x="299" y="606"/>
                            </a:lnTo>
                            <a:lnTo>
                              <a:pt x="310" y="558"/>
                            </a:lnTo>
                            <a:lnTo>
                              <a:pt x="322" y="510"/>
                            </a:lnTo>
                            <a:lnTo>
                              <a:pt x="333" y="463"/>
                            </a:lnTo>
                            <a:lnTo>
                              <a:pt x="343" y="415"/>
                            </a:lnTo>
                            <a:lnTo>
                              <a:pt x="354" y="367"/>
                            </a:lnTo>
                            <a:lnTo>
                              <a:pt x="366" y="319"/>
                            </a:lnTo>
                            <a:lnTo>
                              <a:pt x="377" y="272"/>
                            </a:lnTo>
                            <a:lnTo>
                              <a:pt x="388" y="224"/>
                            </a:lnTo>
                            <a:lnTo>
                              <a:pt x="399" y="176"/>
                            </a:lnTo>
                            <a:lnTo>
                              <a:pt x="411" y="128"/>
                            </a:lnTo>
                            <a:lnTo>
                              <a:pt x="421" y="81"/>
                            </a:lnTo>
                            <a:lnTo>
                              <a:pt x="427" y="57"/>
                            </a:lnTo>
                            <a:lnTo>
                              <a:pt x="432" y="31"/>
                            </a:lnTo>
                            <a:lnTo>
                              <a:pt x="437" y="9"/>
                            </a:lnTo>
                            <a:lnTo>
                              <a:pt x="439" y="0"/>
                            </a:lnTo>
                            <a:lnTo>
                              <a:pt x="437" y="7"/>
                            </a:lnTo>
                            <a:lnTo>
                              <a:pt x="432" y="24"/>
                            </a:lnTo>
                            <a:lnTo>
                              <a:pt x="426" y="50"/>
                            </a:lnTo>
                            <a:lnTo>
                              <a:pt x="418" y="81"/>
                            </a:lnTo>
                            <a:lnTo>
                              <a:pt x="410" y="113"/>
                            </a:lnTo>
                            <a:lnTo>
                              <a:pt x="401" y="146"/>
                            </a:lnTo>
                            <a:lnTo>
                              <a:pt x="393" y="174"/>
                            </a:lnTo>
                            <a:lnTo>
                              <a:pt x="388" y="19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" name=""/>
                      <p:cNvSpPr/>
                      <p:nvPr/>
                    </p:nvSpPr>
                    <p:spPr>
                      <a:xfrm>
                        <a:off x="7044480" y="3932640"/>
                        <a:ext cx="7812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8" h="1352">
                            <a:moveTo>
                              <a:pt x="217" y="513"/>
                            </a:moveTo>
                            <a:lnTo>
                              <a:pt x="206" y="556"/>
                            </a:lnTo>
                            <a:lnTo>
                              <a:pt x="196" y="598"/>
                            </a:lnTo>
                            <a:lnTo>
                              <a:pt x="185" y="640"/>
                            </a:lnTo>
                            <a:lnTo>
                              <a:pt x="174" y="683"/>
                            </a:lnTo>
                            <a:lnTo>
                              <a:pt x="163" y="725"/>
                            </a:lnTo>
                            <a:lnTo>
                              <a:pt x="152" y="767"/>
                            </a:lnTo>
                            <a:lnTo>
                              <a:pt x="141" y="810"/>
                            </a:lnTo>
                            <a:lnTo>
                              <a:pt x="130" y="852"/>
                            </a:lnTo>
                            <a:lnTo>
                              <a:pt x="113" y="914"/>
                            </a:lnTo>
                            <a:lnTo>
                              <a:pt x="96" y="976"/>
                            </a:lnTo>
                            <a:lnTo>
                              <a:pt x="78" y="1037"/>
                            </a:lnTo>
                            <a:lnTo>
                              <a:pt x="61" y="1098"/>
                            </a:lnTo>
                            <a:lnTo>
                              <a:pt x="45" y="1161"/>
                            </a:lnTo>
                            <a:lnTo>
                              <a:pt x="29" y="1223"/>
                            </a:lnTo>
                            <a:lnTo>
                              <a:pt x="13" y="1286"/>
                            </a:lnTo>
                            <a:lnTo>
                              <a:pt x="0" y="1349"/>
                            </a:lnTo>
                            <a:lnTo>
                              <a:pt x="0" y="1352"/>
                            </a:lnTo>
                            <a:lnTo>
                              <a:pt x="3" y="1352"/>
                            </a:lnTo>
                            <a:lnTo>
                              <a:pt x="6" y="1350"/>
                            </a:lnTo>
                            <a:lnTo>
                              <a:pt x="7" y="1348"/>
                            </a:lnTo>
                            <a:lnTo>
                              <a:pt x="23" y="1287"/>
                            </a:lnTo>
                            <a:lnTo>
                              <a:pt x="41" y="1227"/>
                            </a:lnTo>
                            <a:lnTo>
                              <a:pt x="57" y="1167"/>
                            </a:lnTo>
                            <a:lnTo>
                              <a:pt x="74" y="1106"/>
                            </a:lnTo>
                            <a:lnTo>
                              <a:pt x="90" y="1046"/>
                            </a:lnTo>
                            <a:lnTo>
                              <a:pt x="108" y="985"/>
                            </a:lnTo>
                            <a:lnTo>
                              <a:pt x="123" y="926"/>
                            </a:lnTo>
                            <a:lnTo>
                              <a:pt x="139" y="865"/>
                            </a:lnTo>
                            <a:lnTo>
                              <a:pt x="150" y="823"/>
                            </a:lnTo>
                            <a:lnTo>
                              <a:pt x="161" y="779"/>
                            </a:lnTo>
                            <a:lnTo>
                              <a:pt x="171" y="737"/>
                            </a:lnTo>
                            <a:lnTo>
                              <a:pt x="180" y="694"/>
                            </a:lnTo>
                            <a:lnTo>
                              <a:pt x="191" y="650"/>
                            </a:lnTo>
                            <a:lnTo>
                              <a:pt x="201" y="608"/>
                            </a:lnTo>
                            <a:lnTo>
                              <a:pt x="211" y="564"/>
                            </a:lnTo>
                            <a:lnTo>
                              <a:pt x="222" y="522"/>
                            </a:lnTo>
                            <a:lnTo>
                              <a:pt x="240" y="449"/>
                            </a:lnTo>
                            <a:lnTo>
                              <a:pt x="262" y="367"/>
                            </a:lnTo>
                            <a:lnTo>
                              <a:pt x="283" y="280"/>
                            </a:lnTo>
                            <a:lnTo>
                              <a:pt x="306" y="196"/>
                            </a:lnTo>
                            <a:lnTo>
                              <a:pt x="327" y="120"/>
                            </a:lnTo>
                            <a:lnTo>
                              <a:pt x="343" y="58"/>
                            </a:lnTo>
                            <a:lnTo>
                              <a:pt x="354" y="16"/>
                            </a:lnTo>
                            <a:lnTo>
                              <a:pt x="358" y="0"/>
                            </a:lnTo>
                            <a:lnTo>
                              <a:pt x="354" y="16"/>
                            </a:lnTo>
                            <a:lnTo>
                              <a:pt x="343" y="57"/>
                            </a:lnTo>
                            <a:lnTo>
                              <a:pt x="326" y="117"/>
                            </a:lnTo>
                            <a:lnTo>
                              <a:pt x="305" y="192"/>
                            </a:lnTo>
                            <a:lnTo>
                              <a:pt x="282" y="276"/>
                            </a:lnTo>
                            <a:lnTo>
                              <a:pt x="258" y="361"/>
                            </a:lnTo>
                            <a:lnTo>
                              <a:pt x="237" y="442"/>
                            </a:lnTo>
                            <a:lnTo>
                              <a:pt x="217" y="5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1" name=""/>
                      <p:cNvSpPr/>
                      <p:nvPr/>
                    </p:nvSpPr>
                    <p:spPr>
                      <a:xfrm>
                        <a:off x="7040520" y="4173120"/>
                        <a:ext cx="504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127">
                            <a:moveTo>
                              <a:pt x="3" y="74"/>
                            </a:moveTo>
                            <a:lnTo>
                              <a:pt x="0" y="88"/>
                            </a:lnTo>
                            <a:lnTo>
                              <a:pt x="0" y="102"/>
                            </a:lnTo>
                            <a:lnTo>
                              <a:pt x="4" y="115"/>
                            </a:lnTo>
                            <a:lnTo>
                              <a:pt x="12" y="127"/>
                            </a:lnTo>
                            <a:lnTo>
                              <a:pt x="13" y="127"/>
                            </a:lnTo>
                            <a:lnTo>
                              <a:pt x="14" y="126"/>
                            </a:lnTo>
                            <a:lnTo>
                              <a:pt x="15" y="123"/>
                            </a:lnTo>
                            <a:lnTo>
                              <a:pt x="15" y="121"/>
                            </a:lnTo>
                            <a:lnTo>
                              <a:pt x="8" y="108"/>
                            </a:lnTo>
                            <a:lnTo>
                              <a:pt x="5" y="95"/>
                            </a:lnTo>
                            <a:lnTo>
                              <a:pt x="5" y="82"/>
                            </a:lnTo>
                            <a:lnTo>
                              <a:pt x="7" y="67"/>
                            </a:lnTo>
                            <a:lnTo>
                              <a:pt x="13" y="46"/>
                            </a:lnTo>
                            <a:lnTo>
                              <a:pt x="18" y="25"/>
                            </a:lnTo>
                            <a:lnTo>
                              <a:pt x="23" y="7"/>
                            </a:lnTo>
                            <a:lnTo>
                              <a:pt x="25" y="0"/>
                            </a:lnTo>
                            <a:lnTo>
                              <a:pt x="23" y="7"/>
                            </a:lnTo>
                            <a:lnTo>
                              <a:pt x="16" y="27"/>
                            </a:lnTo>
                            <a:lnTo>
                              <a:pt x="10" y="51"/>
                            </a:lnTo>
                            <a:lnTo>
                              <a:pt x="3" y="7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2" name=""/>
                      <p:cNvSpPr/>
                      <p:nvPr/>
                    </p:nvSpPr>
                    <p:spPr>
                      <a:xfrm>
                        <a:off x="6846120" y="4167720"/>
                        <a:ext cx="203400" cy="3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6" h="184">
                            <a:moveTo>
                              <a:pt x="0" y="1"/>
                            </a:moveTo>
                            <a:lnTo>
                              <a:pt x="28" y="10"/>
                            </a:lnTo>
                            <a:lnTo>
                              <a:pt x="55" y="20"/>
                            </a:lnTo>
                            <a:lnTo>
                              <a:pt x="83" y="30"/>
                            </a:lnTo>
                            <a:lnTo>
                              <a:pt x="112" y="39"/>
                            </a:lnTo>
                            <a:lnTo>
                              <a:pt x="140" y="47"/>
                            </a:lnTo>
                            <a:lnTo>
                              <a:pt x="168" y="55"/>
                            </a:lnTo>
                            <a:lnTo>
                              <a:pt x="196" y="62"/>
                            </a:lnTo>
                            <a:lnTo>
                              <a:pt x="224" y="69"/>
                            </a:lnTo>
                            <a:lnTo>
                              <a:pt x="254" y="76"/>
                            </a:lnTo>
                            <a:lnTo>
                              <a:pt x="282" y="82"/>
                            </a:lnTo>
                            <a:lnTo>
                              <a:pt x="311" y="87"/>
                            </a:lnTo>
                            <a:lnTo>
                              <a:pt x="339" y="94"/>
                            </a:lnTo>
                            <a:lnTo>
                              <a:pt x="368" y="99"/>
                            </a:lnTo>
                            <a:lnTo>
                              <a:pt x="397" y="105"/>
                            </a:lnTo>
                            <a:lnTo>
                              <a:pt x="426" y="109"/>
                            </a:lnTo>
                            <a:lnTo>
                              <a:pt x="455" y="115"/>
                            </a:lnTo>
                            <a:lnTo>
                              <a:pt x="470" y="117"/>
                            </a:lnTo>
                            <a:lnTo>
                              <a:pt x="485" y="120"/>
                            </a:lnTo>
                            <a:lnTo>
                              <a:pt x="502" y="123"/>
                            </a:lnTo>
                            <a:lnTo>
                              <a:pt x="517" y="125"/>
                            </a:lnTo>
                            <a:lnTo>
                              <a:pt x="532" y="129"/>
                            </a:lnTo>
                            <a:lnTo>
                              <a:pt x="547" y="132"/>
                            </a:lnTo>
                            <a:lnTo>
                              <a:pt x="562" y="134"/>
                            </a:lnTo>
                            <a:lnTo>
                              <a:pt x="579" y="137"/>
                            </a:lnTo>
                            <a:lnTo>
                              <a:pt x="594" y="141"/>
                            </a:lnTo>
                            <a:lnTo>
                              <a:pt x="609" y="143"/>
                            </a:lnTo>
                            <a:lnTo>
                              <a:pt x="624" y="146"/>
                            </a:lnTo>
                            <a:lnTo>
                              <a:pt x="639" y="148"/>
                            </a:lnTo>
                            <a:lnTo>
                              <a:pt x="654" y="151"/>
                            </a:lnTo>
                            <a:lnTo>
                              <a:pt x="671" y="154"/>
                            </a:lnTo>
                            <a:lnTo>
                              <a:pt x="686" y="157"/>
                            </a:lnTo>
                            <a:lnTo>
                              <a:pt x="701" y="159"/>
                            </a:lnTo>
                            <a:lnTo>
                              <a:pt x="715" y="161"/>
                            </a:lnTo>
                            <a:lnTo>
                              <a:pt x="728" y="163"/>
                            </a:lnTo>
                            <a:lnTo>
                              <a:pt x="742" y="167"/>
                            </a:lnTo>
                            <a:lnTo>
                              <a:pt x="756" y="169"/>
                            </a:lnTo>
                            <a:lnTo>
                              <a:pt x="770" y="172"/>
                            </a:lnTo>
                            <a:lnTo>
                              <a:pt x="786" y="174"/>
                            </a:lnTo>
                            <a:lnTo>
                              <a:pt x="800" y="176"/>
                            </a:lnTo>
                            <a:lnTo>
                              <a:pt x="814" y="179"/>
                            </a:lnTo>
                            <a:lnTo>
                              <a:pt x="828" y="181"/>
                            </a:lnTo>
                            <a:lnTo>
                              <a:pt x="842" y="183"/>
                            </a:lnTo>
                            <a:lnTo>
                              <a:pt x="857" y="184"/>
                            </a:lnTo>
                            <a:lnTo>
                              <a:pt x="871" y="184"/>
                            </a:lnTo>
                            <a:lnTo>
                              <a:pt x="885" y="184"/>
                            </a:lnTo>
                            <a:lnTo>
                              <a:pt x="899" y="184"/>
                            </a:lnTo>
                            <a:lnTo>
                              <a:pt x="912" y="182"/>
                            </a:lnTo>
                            <a:lnTo>
                              <a:pt x="926" y="180"/>
                            </a:lnTo>
                            <a:lnTo>
                              <a:pt x="932" y="176"/>
                            </a:lnTo>
                            <a:lnTo>
                              <a:pt x="935" y="170"/>
                            </a:lnTo>
                            <a:lnTo>
                              <a:pt x="936" y="162"/>
                            </a:lnTo>
                            <a:lnTo>
                              <a:pt x="933" y="158"/>
                            </a:lnTo>
                            <a:lnTo>
                              <a:pt x="920" y="155"/>
                            </a:lnTo>
                            <a:lnTo>
                              <a:pt x="908" y="153"/>
                            </a:lnTo>
                            <a:lnTo>
                              <a:pt x="895" y="150"/>
                            </a:lnTo>
                            <a:lnTo>
                              <a:pt x="882" y="147"/>
                            </a:lnTo>
                            <a:lnTo>
                              <a:pt x="869" y="145"/>
                            </a:lnTo>
                            <a:lnTo>
                              <a:pt x="856" y="144"/>
                            </a:lnTo>
                            <a:lnTo>
                              <a:pt x="843" y="142"/>
                            </a:lnTo>
                            <a:lnTo>
                              <a:pt x="830" y="140"/>
                            </a:lnTo>
                            <a:lnTo>
                              <a:pt x="817" y="138"/>
                            </a:lnTo>
                            <a:lnTo>
                              <a:pt x="804" y="136"/>
                            </a:lnTo>
                            <a:lnTo>
                              <a:pt x="791" y="135"/>
                            </a:lnTo>
                            <a:lnTo>
                              <a:pt x="778" y="134"/>
                            </a:lnTo>
                            <a:lnTo>
                              <a:pt x="765" y="132"/>
                            </a:lnTo>
                            <a:lnTo>
                              <a:pt x="752" y="131"/>
                            </a:lnTo>
                            <a:lnTo>
                              <a:pt x="739" y="129"/>
                            </a:lnTo>
                            <a:lnTo>
                              <a:pt x="726" y="128"/>
                            </a:lnTo>
                            <a:lnTo>
                              <a:pt x="712" y="125"/>
                            </a:lnTo>
                            <a:lnTo>
                              <a:pt x="697" y="124"/>
                            </a:lnTo>
                            <a:lnTo>
                              <a:pt x="683" y="122"/>
                            </a:lnTo>
                            <a:lnTo>
                              <a:pt x="667" y="120"/>
                            </a:lnTo>
                            <a:lnTo>
                              <a:pt x="653" y="118"/>
                            </a:lnTo>
                            <a:lnTo>
                              <a:pt x="638" y="116"/>
                            </a:lnTo>
                            <a:lnTo>
                              <a:pt x="624" y="113"/>
                            </a:lnTo>
                            <a:lnTo>
                              <a:pt x="609" y="111"/>
                            </a:lnTo>
                            <a:lnTo>
                              <a:pt x="595" y="109"/>
                            </a:lnTo>
                            <a:lnTo>
                              <a:pt x="580" y="107"/>
                            </a:lnTo>
                            <a:lnTo>
                              <a:pt x="566" y="105"/>
                            </a:lnTo>
                            <a:lnTo>
                              <a:pt x="550" y="103"/>
                            </a:lnTo>
                            <a:lnTo>
                              <a:pt x="536" y="100"/>
                            </a:lnTo>
                            <a:lnTo>
                              <a:pt x="522" y="98"/>
                            </a:lnTo>
                            <a:lnTo>
                              <a:pt x="507" y="96"/>
                            </a:lnTo>
                            <a:lnTo>
                              <a:pt x="493" y="94"/>
                            </a:lnTo>
                            <a:lnTo>
                              <a:pt x="462" y="90"/>
                            </a:lnTo>
                            <a:lnTo>
                              <a:pt x="430" y="85"/>
                            </a:lnTo>
                            <a:lnTo>
                              <a:pt x="400" y="81"/>
                            </a:lnTo>
                            <a:lnTo>
                              <a:pt x="368" y="77"/>
                            </a:lnTo>
                            <a:lnTo>
                              <a:pt x="337" y="72"/>
                            </a:lnTo>
                            <a:lnTo>
                              <a:pt x="307" y="67"/>
                            </a:lnTo>
                            <a:lnTo>
                              <a:pt x="275" y="62"/>
                            </a:lnTo>
                            <a:lnTo>
                              <a:pt x="245" y="57"/>
                            </a:lnTo>
                            <a:lnTo>
                              <a:pt x="213" y="52"/>
                            </a:lnTo>
                            <a:lnTo>
                              <a:pt x="183" y="45"/>
                            </a:lnTo>
                            <a:lnTo>
                              <a:pt x="153" y="40"/>
                            </a:lnTo>
                            <a:lnTo>
                              <a:pt x="122" y="32"/>
                            </a:lnTo>
                            <a:lnTo>
                              <a:pt x="92" y="26"/>
                            </a:lnTo>
                            <a:lnTo>
                              <a:pt x="62" y="17"/>
                            </a:lnTo>
                            <a:lnTo>
                              <a:pt x="31" y="8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3" name=""/>
                      <p:cNvSpPr/>
                      <p:nvPr/>
                    </p:nvSpPr>
                    <p:spPr>
                      <a:xfrm>
                        <a:off x="6949440" y="3948480"/>
                        <a:ext cx="1447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7" h="71">
                            <a:moveTo>
                              <a:pt x="0" y="0"/>
                            </a:moveTo>
                            <a:lnTo>
                              <a:pt x="21" y="3"/>
                            </a:lnTo>
                            <a:lnTo>
                              <a:pt x="42" y="6"/>
                            </a:lnTo>
                            <a:lnTo>
                              <a:pt x="61" y="8"/>
                            </a:lnTo>
                            <a:lnTo>
                              <a:pt x="82" y="10"/>
                            </a:lnTo>
                            <a:lnTo>
                              <a:pt x="102" y="13"/>
                            </a:lnTo>
                            <a:lnTo>
                              <a:pt x="123" y="16"/>
                            </a:lnTo>
                            <a:lnTo>
                              <a:pt x="143" y="18"/>
                            </a:lnTo>
                            <a:lnTo>
                              <a:pt x="164" y="20"/>
                            </a:lnTo>
                            <a:lnTo>
                              <a:pt x="184" y="23"/>
                            </a:lnTo>
                            <a:lnTo>
                              <a:pt x="204" y="25"/>
                            </a:lnTo>
                            <a:lnTo>
                              <a:pt x="225" y="27"/>
                            </a:lnTo>
                            <a:lnTo>
                              <a:pt x="245" y="31"/>
                            </a:lnTo>
                            <a:lnTo>
                              <a:pt x="266" y="33"/>
                            </a:lnTo>
                            <a:lnTo>
                              <a:pt x="285" y="35"/>
                            </a:lnTo>
                            <a:lnTo>
                              <a:pt x="306" y="38"/>
                            </a:lnTo>
                            <a:lnTo>
                              <a:pt x="327" y="41"/>
                            </a:lnTo>
                            <a:lnTo>
                              <a:pt x="340" y="42"/>
                            </a:lnTo>
                            <a:lnTo>
                              <a:pt x="353" y="44"/>
                            </a:lnTo>
                            <a:lnTo>
                              <a:pt x="366" y="45"/>
                            </a:lnTo>
                            <a:lnTo>
                              <a:pt x="380" y="47"/>
                            </a:lnTo>
                            <a:lnTo>
                              <a:pt x="393" y="48"/>
                            </a:lnTo>
                            <a:lnTo>
                              <a:pt x="406" y="49"/>
                            </a:lnTo>
                            <a:lnTo>
                              <a:pt x="419" y="51"/>
                            </a:lnTo>
                            <a:lnTo>
                              <a:pt x="432" y="52"/>
                            </a:lnTo>
                            <a:lnTo>
                              <a:pt x="445" y="54"/>
                            </a:lnTo>
                            <a:lnTo>
                              <a:pt x="458" y="55"/>
                            </a:lnTo>
                            <a:lnTo>
                              <a:pt x="471" y="57"/>
                            </a:lnTo>
                            <a:lnTo>
                              <a:pt x="484" y="58"/>
                            </a:lnTo>
                            <a:lnTo>
                              <a:pt x="498" y="59"/>
                            </a:lnTo>
                            <a:lnTo>
                              <a:pt x="511" y="60"/>
                            </a:lnTo>
                            <a:lnTo>
                              <a:pt x="524" y="62"/>
                            </a:lnTo>
                            <a:lnTo>
                              <a:pt x="537" y="63"/>
                            </a:lnTo>
                            <a:lnTo>
                              <a:pt x="551" y="65"/>
                            </a:lnTo>
                            <a:lnTo>
                              <a:pt x="565" y="67"/>
                            </a:lnTo>
                            <a:lnTo>
                              <a:pt x="580" y="69"/>
                            </a:lnTo>
                            <a:lnTo>
                              <a:pt x="594" y="70"/>
                            </a:lnTo>
                            <a:lnTo>
                              <a:pt x="609" y="71"/>
                            </a:lnTo>
                            <a:lnTo>
                              <a:pt x="624" y="71"/>
                            </a:lnTo>
                            <a:lnTo>
                              <a:pt x="639" y="71"/>
                            </a:lnTo>
                            <a:lnTo>
                              <a:pt x="654" y="70"/>
                            </a:lnTo>
                            <a:lnTo>
                              <a:pt x="658" y="68"/>
                            </a:lnTo>
                            <a:lnTo>
                              <a:pt x="664" y="64"/>
                            </a:lnTo>
                            <a:lnTo>
                              <a:pt x="667" y="59"/>
                            </a:lnTo>
                            <a:lnTo>
                              <a:pt x="665" y="56"/>
                            </a:lnTo>
                            <a:lnTo>
                              <a:pt x="653" y="51"/>
                            </a:lnTo>
                            <a:lnTo>
                              <a:pt x="641" y="48"/>
                            </a:lnTo>
                            <a:lnTo>
                              <a:pt x="629" y="46"/>
                            </a:lnTo>
                            <a:lnTo>
                              <a:pt x="617" y="44"/>
                            </a:lnTo>
                            <a:lnTo>
                              <a:pt x="605" y="43"/>
                            </a:lnTo>
                            <a:lnTo>
                              <a:pt x="592" y="42"/>
                            </a:lnTo>
                            <a:lnTo>
                              <a:pt x="580" y="41"/>
                            </a:lnTo>
                            <a:lnTo>
                              <a:pt x="568" y="39"/>
                            </a:lnTo>
                            <a:lnTo>
                              <a:pt x="555" y="38"/>
                            </a:lnTo>
                            <a:lnTo>
                              <a:pt x="542" y="37"/>
                            </a:lnTo>
                            <a:lnTo>
                              <a:pt x="528" y="36"/>
                            </a:lnTo>
                            <a:lnTo>
                              <a:pt x="515" y="35"/>
                            </a:lnTo>
                            <a:lnTo>
                              <a:pt x="502" y="34"/>
                            </a:lnTo>
                            <a:lnTo>
                              <a:pt x="489" y="33"/>
                            </a:lnTo>
                            <a:lnTo>
                              <a:pt x="475" y="32"/>
                            </a:lnTo>
                            <a:lnTo>
                              <a:pt x="462" y="31"/>
                            </a:lnTo>
                            <a:lnTo>
                              <a:pt x="449" y="30"/>
                            </a:lnTo>
                            <a:lnTo>
                              <a:pt x="435" y="29"/>
                            </a:lnTo>
                            <a:lnTo>
                              <a:pt x="422" y="29"/>
                            </a:lnTo>
                            <a:lnTo>
                              <a:pt x="409" y="27"/>
                            </a:lnTo>
                            <a:lnTo>
                              <a:pt x="396" y="26"/>
                            </a:lnTo>
                            <a:lnTo>
                              <a:pt x="382" y="25"/>
                            </a:lnTo>
                            <a:lnTo>
                              <a:pt x="369" y="25"/>
                            </a:lnTo>
                            <a:lnTo>
                              <a:pt x="356" y="24"/>
                            </a:lnTo>
                            <a:lnTo>
                              <a:pt x="334" y="23"/>
                            </a:lnTo>
                            <a:lnTo>
                              <a:pt x="311" y="21"/>
                            </a:lnTo>
                            <a:lnTo>
                              <a:pt x="290" y="20"/>
                            </a:lnTo>
                            <a:lnTo>
                              <a:pt x="267" y="19"/>
                            </a:lnTo>
                            <a:lnTo>
                              <a:pt x="245" y="18"/>
                            </a:lnTo>
                            <a:lnTo>
                              <a:pt x="223" y="17"/>
                            </a:lnTo>
                            <a:lnTo>
                              <a:pt x="201" y="14"/>
                            </a:lnTo>
                            <a:lnTo>
                              <a:pt x="178" y="13"/>
                            </a:lnTo>
                            <a:lnTo>
                              <a:pt x="155" y="12"/>
                            </a:lnTo>
                            <a:lnTo>
                              <a:pt x="134" y="11"/>
                            </a:lnTo>
                            <a:lnTo>
                              <a:pt x="111" y="9"/>
                            </a:lnTo>
                            <a:lnTo>
                              <a:pt x="89" y="8"/>
                            </a:lnTo>
                            <a:lnTo>
                              <a:pt x="67" y="6"/>
                            </a:lnTo>
                            <a:lnTo>
                              <a:pt x="45" y="5"/>
                            </a:lnTo>
                            <a:lnTo>
                              <a:pt x="22" y="3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4" name=""/>
                      <p:cNvSpPr/>
                      <p:nvPr/>
                    </p:nvSpPr>
                    <p:spPr>
                      <a:xfrm>
                        <a:off x="7027560" y="3955680"/>
                        <a:ext cx="61560" cy="17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3" h="975">
                            <a:moveTo>
                              <a:pt x="282" y="2"/>
                            </a:moveTo>
                            <a:lnTo>
                              <a:pt x="263" y="60"/>
                            </a:lnTo>
                            <a:lnTo>
                              <a:pt x="244" y="118"/>
                            </a:lnTo>
                            <a:lnTo>
                              <a:pt x="226" y="176"/>
                            </a:lnTo>
                            <a:lnTo>
                              <a:pt x="208" y="235"/>
                            </a:lnTo>
                            <a:lnTo>
                              <a:pt x="192" y="294"/>
                            </a:lnTo>
                            <a:lnTo>
                              <a:pt x="175" y="353"/>
                            </a:lnTo>
                            <a:lnTo>
                              <a:pt x="159" y="412"/>
                            </a:lnTo>
                            <a:lnTo>
                              <a:pt x="141" y="471"/>
                            </a:lnTo>
                            <a:lnTo>
                              <a:pt x="133" y="503"/>
                            </a:lnTo>
                            <a:lnTo>
                              <a:pt x="123" y="534"/>
                            </a:lnTo>
                            <a:lnTo>
                              <a:pt x="113" y="566"/>
                            </a:lnTo>
                            <a:lnTo>
                              <a:pt x="103" y="597"/>
                            </a:lnTo>
                            <a:lnTo>
                              <a:pt x="94" y="629"/>
                            </a:lnTo>
                            <a:lnTo>
                              <a:pt x="84" y="660"/>
                            </a:lnTo>
                            <a:lnTo>
                              <a:pt x="74" y="691"/>
                            </a:lnTo>
                            <a:lnTo>
                              <a:pt x="65" y="723"/>
                            </a:lnTo>
                            <a:lnTo>
                              <a:pt x="56" y="753"/>
                            </a:lnTo>
                            <a:lnTo>
                              <a:pt x="46" y="784"/>
                            </a:lnTo>
                            <a:lnTo>
                              <a:pt x="36" y="815"/>
                            </a:lnTo>
                            <a:lnTo>
                              <a:pt x="26" y="846"/>
                            </a:lnTo>
                            <a:lnTo>
                              <a:pt x="18" y="877"/>
                            </a:lnTo>
                            <a:lnTo>
                              <a:pt x="10" y="908"/>
                            </a:lnTo>
                            <a:lnTo>
                              <a:pt x="5" y="939"/>
                            </a:lnTo>
                            <a:lnTo>
                              <a:pt x="0" y="970"/>
                            </a:lnTo>
                            <a:lnTo>
                              <a:pt x="2" y="975"/>
                            </a:lnTo>
                            <a:lnTo>
                              <a:pt x="6" y="975"/>
                            </a:lnTo>
                            <a:lnTo>
                              <a:pt x="11" y="972"/>
                            </a:lnTo>
                            <a:lnTo>
                              <a:pt x="15" y="969"/>
                            </a:lnTo>
                            <a:lnTo>
                              <a:pt x="21" y="958"/>
                            </a:lnTo>
                            <a:lnTo>
                              <a:pt x="28" y="948"/>
                            </a:lnTo>
                            <a:lnTo>
                              <a:pt x="32" y="937"/>
                            </a:lnTo>
                            <a:lnTo>
                              <a:pt x="36" y="926"/>
                            </a:lnTo>
                            <a:lnTo>
                              <a:pt x="41" y="915"/>
                            </a:lnTo>
                            <a:lnTo>
                              <a:pt x="44" y="903"/>
                            </a:lnTo>
                            <a:lnTo>
                              <a:pt x="46" y="891"/>
                            </a:lnTo>
                            <a:lnTo>
                              <a:pt x="49" y="879"/>
                            </a:lnTo>
                            <a:lnTo>
                              <a:pt x="54" y="863"/>
                            </a:lnTo>
                            <a:lnTo>
                              <a:pt x="58" y="848"/>
                            </a:lnTo>
                            <a:lnTo>
                              <a:pt x="62" y="831"/>
                            </a:lnTo>
                            <a:lnTo>
                              <a:pt x="67" y="816"/>
                            </a:lnTo>
                            <a:lnTo>
                              <a:pt x="71" y="801"/>
                            </a:lnTo>
                            <a:lnTo>
                              <a:pt x="75" y="785"/>
                            </a:lnTo>
                            <a:lnTo>
                              <a:pt x="80" y="770"/>
                            </a:lnTo>
                            <a:lnTo>
                              <a:pt x="84" y="753"/>
                            </a:lnTo>
                            <a:lnTo>
                              <a:pt x="93" y="724"/>
                            </a:lnTo>
                            <a:lnTo>
                              <a:pt x="100" y="694"/>
                            </a:lnTo>
                            <a:lnTo>
                              <a:pt x="109" y="664"/>
                            </a:lnTo>
                            <a:lnTo>
                              <a:pt x="116" y="634"/>
                            </a:lnTo>
                            <a:lnTo>
                              <a:pt x="125" y="605"/>
                            </a:lnTo>
                            <a:lnTo>
                              <a:pt x="133" y="575"/>
                            </a:lnTo>
                            <a:lnTo>
                              <a:pt x="140" y="545"/>
                            </a:lnTo>
                            <a:lnTo>
                              <a:pt x="148" y="516"/>
                            </a:lnTo>
                            <a:lnTo>
                              <a:pt x="164" y="451"/>
                            </a:lnTo>
                            <a:lnTo>
                              <a:pt x="179" y="386"/>
                            </a:lnTo>
                            <a:lnTo>
                              <a:pt x="195" y="322"/>
                            </a:lnTo>
                            <a:lnTo>
                              <a:pt x="211" y="256"/>
                            </a:lnTo>
                            <a:lnTo>
                              <a:pt x="228" y="192"/>
                            </a:lnTo>
                            <a:lnTo>
                              <a:pt x="245" y="128"/>
                            </a:lnTo>
                            <a:lnTo>
                              <a:pt x="264" y="64"/>
                            </a:lnTo>
                            <a:lnTo>
                              <a:pt x="283" y="0"/>
                            </a:lnTo>
                            <a:lnTo>
                              <a:pt x="283" y="0"/>
                            </a:lnTo>
                            <a:lnTo>
                              <a:pt x="283" y="0"/>
                            </a:lnTo>
                            <a:lnTo>
                              <a:pt x="282" y="0"/>
                            </a:lnTo>
                            <a:lnTo>
                              <a:pt x="282" y="2"/>
                            </a:lnTo>
                            <a:lnTo>
                              <a:pt x="282" y="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5" name=""/>
                      <p:cNvSpPr/>
                      <p:nvPr/>
                    </p:nvSpPr>
                    <p:spPr>
                      <a:xfrm>
                        <a:off x="6892920" y="3944160"/>
                        <a:ext cx="61200" cy="16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0" h="946">
                            <a:moveTo>
                              <a:pt x="280" y="0"/>
                            </a:moveTo>
                            <a:lnTo>
                              <a:pt x="272" y="20"/>
                            </a:lnTo>
                            <a:lnTo>
                              <a:pt x="265" y="40"/>
                            </a:lnTo>
                            <a:lnTo>
                              <a:pt x="257" y="60"/>
                            </a:lnTo>
                            <a:lnTo>
                              <a:pt x="251" y="82"/>
                            </a:lnTo>
                            <a:lnTo>
                              <a:pt x="244" y="103"/>
                            </a:lnTo>
                            <a:lnTo>
                              <a:pt x="239" y="123"/>
                            </a:lnTo>
                            <a:lnTo>
                              <a:pt x="233" y="144"/>
                            </a:lnTo>
                            <a:lnTo>
                              <a:pt x="226" y="164"/>
                            </a:lnTo>
                            <a:lnTo>
                              <a:pt x="214" y="204"/>
                            </a:lnTo>
                            <a:lnTo>
                              <a:pt x="202" y="243"/>
                            </a:lnTo>
                            <a:lnTo>
                              <a:pt x="189" y="282"/>
                            </a:lnTo>
                            <a:lnTo>
                              <a:pt x="177" y="321"/>
                            </a:lnTo>
                            <a:lnTo>
                              <a:pt x="165" y="360"/>
                            </a:lnTo>
                            <a:lnTo>
                              <a:pt x="153" y="399"/>
                            </a:lnTo>
                            <a:lnTo>
                              <a:pt x="140" y="438"/>
                            </a:lnTo>
                            <a:lnTo>
                              <a:pt x="128" y="477"/>
                            </a:lnTo>
                            <a:lnTo>
                              <a:pt x="110" y="534"/>
                            </a:lnTo>
                            <a:lnTo>
                              <a:pt x="92" y="592"/>
                            </a:lnTo>
                            <a:lnTo>
                              <a:pt x="73" y="649"/>
                            </a:lnTo>
                            <a:lnTo>
                              <a:pt x="56" y="708"/>
                            </a:lnTo>
                            <a:lnTo>
                              <a:pt x="39" y="766"/>
                            </a:lnTo>
                            <a:lnTo>
                              <a:pt x="23" y="824"/>
                            </a:lnTo>
                            <a:lnTo>
                              <a:pt x="10" y="883"/>
                            </a:lnTo>
                            <a:lnTo>
                              <a:pt x="0" y="942"/>
                            </a:lnTo>
                            <a:lnTo>
                              <a:pt x="1" y="946"/>
                            </a:lnTo>
                            <a:lnTo>
                              <a:pt x="4" y="945"/>
                            </a:lnTo>
                            <a:lnTo>
                              <a:pt x="7" y="941"/>
                            </a:lnTo>
                            <a:lnTo>
                              <a:pt x="9" y="937"/>
                            </a:lnTo>
                            <a:lnTo>
                              <a:pt x="13" y="925"/>
                            </a:lnTo>
                            <a:lnTo>
                              <a:pt x="17" y="912"/>
                            </a:lnTo>
                            <a:lnTo>
                              <a:pt x="22" y="899"/>
                            </a:lnTo>
                            <a:lnTo>
                              <a:pt x="27" y="887"/>
                            </a:lnTo>
                            <a:lnTo>
                              <a:pt x="34" y="861"/>
                            </a:lnTo>
                            <a:lnTo>
                              <a:pt x="42" y="835"/>
                            </a:lnTo>
                            <a:lnTo>
                              <a:pt x="49" y="809"/>
                            </a:lnTo>
                            <a:lnTo>
                              <a:pt x="57" y="783"/>
                            </a:lnTo>
                            <a:lnTo>
                              <a:pt x="68" y="745"/>
                            </a:lnTo>
                            <a:lnTo>
                              <a:pt x="78" y="708"/>
                            </a:lnTo>
                            <a:lnTo>
                              <a:pt x="88" y="670"/>
                            </a:lnTo>
                            <a:lnTo>
                              <a:pt x="98" y="633"/>
                            </a:lnTo>
                            <a:lnTo>
                              <a:pt x="109" y="595"/>
                            </a:lnTo>
                            <a:lnTo>
                              <a:pt x="119" y="558"/>
                            </a:lnTo>
                            <a:lnTo>
                              <a:pt x="130" y="520"/>
                            </a:lnTo>
                            <a:lnTo>
                              <a:pt x="139" y="483"/>
                            </a:lnTo>
                            <a:lnTo>
                              <a:pt x="149" y="445"/>
                            </a:lnTo>
                            <a:lnTo>
                              <a:pt x="160" y="409"/>
                            </a:lnTo>
                            <a:lnTo>
                              <a:pt x="171" y="371"/>
                            </a:lnTo>
                            <a:lnTo>
                              <a:pt x="182" y="334"/>
                            </a:lnTo>
                            <a:lnTo>
                              <a:pt x="192" y="298"/>
                            </a:lnTo>
                            <a:lnTo>
                              <a:pt x="203" y="260"/>
                            </a:lnTo>
                            <a:lnTo>
                              <a:pt x="215" y="223"/>
                            </a:lnTo>
                            <a:lnTo>
                              <a:pt x="226" y="185"/>
                            </a:lnTo>
                            <a:lnTo>
                              <a:pt x="233" y="162"/>
                            </a:lnTo>
                            <a:lnTo>
                              <a:pt x="240" y="138"/>
                            </a:lnTo>
                            <a:lnTo>
                              <a:pt x="247" y="115"/>
                            </a:lnTo>
                            <a:lnTo>
                              <a:pt x="254" y="91"/>
                            </a:lnTo>
                            <a:lnTo>
                              <a:pt x="262" y="66"/>
                            </a:lnTo>
                            <a:lnTo>
                              <a:pt x="268" y="43"/>
                            </a:lnTo>
                            <a:lnTo>
                              <a:pt x="275" y="20"/>
                            </a:lnTo>
                            <a:lnTo>
                              <a:pt x="280" y="0"/>
                            </a:lnTo>
                            <a:lnTo>
                              <a:pt x="280" y="0"/>
                            </a:lnTo>
                            <a:lnTo>
                              <a:pt x="280" y="0"/>
                            </a:lnTo>
                            <a:lnTo>
                              <a:pt x="280" y="0"/>
                            </a:lnTo>
                            <a:lnTo>
                              <a:pt x="280" y="0"/>
                            </a:lnTo>
                            <a:lnTo>
                              <a:pt x="28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6" name=""/>
                      <p:cNvSpPr/>
                      <p:nvPr/>
                    </p:nvSpPr>
                    <p:spPr>
                      <a:xfrm>
                        <a:off x="6894360" y="4110480"/>
                        <a:ext cx="14076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2" h="118">
                            <a:moveTo>
                              <a:pt x="0" y="1"/>
                            </a:moveTo>
                            <a:lnTo>
                              <a:pt x="21" y="4"/>
                            </a:lnTo>
                            <a:lnTo>
                              <a:pt x="40" y="9"/>
                            </a:lnTo>
                            <a:lnTo>
                              <a:pt x="61" y="12"/>
                            </a:lnTo>
                            <a:lnTo>
                              <a:pt x="81" y="16"/>
                            </a:lnTo>
                            <a:lnTo>
                              <a:pt x="102" y="20"/>
                            </a:lnTo>
                            <a:lnTo>
                              <a:pt x="121" y="24"/>
                            </a:lnTo>
                            <a:lnTo>
                              <a:pt x="142" y="28"/>
                            </a:lnTo>
                            <a:lnTo>
                              <a:pt x="163" y="33"/>
                            </a:lnTo>
                            <a:lnTo>
                              <a:pt x="183" y="37"/>
                            </a:lnTo>
                            <a:lnTo>
                              <a:pt x="203" y="41"/>
                            </a:lnTo>
                            <a:lnTo>
                              <a:pt x="223" y="46"/>
                            </a:lnTo>
                            <a:lnTo>
                              <a:pt x="244" y="50"/>
                            </a:lnTo>
                            <a:lnTo>
                              <a:pt x="263" y="53"/>
                            </a:lnTo>
                            <a:lnTo>
                              <a:pt x="284" y="58"/>
                            </a:lnTo>
                            <a:lnTo>
                              <a:pt x="303" y="62"/>
                            </a:lnTo>
                            <a:lnTo>
                              <a:pt x="324" y="66"/>
                            </a:lnTo>
                            <a:lnTo>
                              <a:pt x="345" y="71"/>
                            </a:lnTo>
                            <a:lnTo>
                              <a:pt x="365" y="75"/>
                            </a:lnTo>
                            <a:lnTo>
                              <a:pt x="385" y="79"/>
                            </a:lnTo>
                            <a:lnTo>
                              <a:pt x="405" y="84"/>
                            </a:lnTo>
                            <a:lnTo>
                              <a:pt x="426" y="88"/>
                            </a:lnTo>
                            <a:lnTo>
                              <a:pt x="446" y="91"/>
                            </a:lnTo>
                            <a:lnTo>
                              <a:pt x="466" y="96"/>
                            </a:lnTo>
                            <a:lnTo>
                              <a:pt x="486" y="100"/>
                            </a:lnTo>
                            <a:lnTo>
                              <a:pt x="505" y="103"/>
                            </a:lnTo>
                            <a:lnTo>
                              <a:pt x="523" y="108"/>
                            </a:lnTo>
                            <a:lnTo>
                              <a:pt x="543" y="112"/>
                            </a:lnTo>
                            <a:lnTo>
                              <a:pt x="562" y="115"/>
                            </a:lnTo>
                            <a:lnTo>
                              <a:pt x="582" y="117"/>
                            </a:lnTo>
                            <a:lnTo>
                              <a:pt x="601" y="118"/>
                            </a:lnTo>
                            <a:lnTo>
                              <a:pt x="620" y="117"/>
                            </a:lnTo>
                            <a:lnTo>
                              <a:pt x="638" y="114"/>
                            </a:lnTo>
                            <a:lnTo>
                              <a:pt x="645" y="110"/>
                            </a:lnTo>
                            <a:lnTo>
                              <a:pt x="650" y="102"/>
                            </a:lnTo>
                            <a:lnTo>
                              <a:pt x="652" y="94"/>
                            </a:lnTo>
                            <a:lnTo>
                              <a:pt x="648" y="88"/>
                            </a:lnTo>
                            <a:lnTo>
                              <a:pt x="632" y="80"/>
                            </a:lnTo>
                            <a:lnTo>
                              <a:pt x="613" y="75"/>
                            </a:lnTo>
                            <a:lnTo>
                              <a:pt x="595" y="72"/>
                            </a:lnTo>
                            <a:lnTo>
                              <a:pt x="575" y="70"/>
                            </a:lnTo>
                            <a:lnTo>
                              <a:pt x="555" y="68"/>
                            </a:lnTo>
                            <a:lnTo>
                              <a:pt x="535" y="67"/>
                            </a:lnTo>
                            <a:lnTo>
                              <a:pt x="516" y="66"/>
                            </a:lnTo>
                            <a:lnTo>
                              <a:pt x="498" y="65"/>
                            </a:lnTo>
                            <a:lnTo>
                              <a:pt x="478" y="63"/>
                            </a:lnTo>
                            <a:lnTo>
                              <a:pt x="457" y="61"/>
                            </a:lnTo>
                            <a:lnTo>
                              <a:pt x="436" y="59"/>
                            </a:lnTo>
                            <a:lnTo>
                              <a:pt x="415" y="55"/>
                            </a:lnTo>
                            <a:lnTo>
                              <a:pt x="394" y="53"/>
                            </a:lnTo>
                            <a:lnTo>
                              <a:pt x="373" y="51"/>
                            </a:lnTo>
                            <a:lnTo>
                              <a:pt x="352" y="49"/>
                            </a:lnTo>
                            <a:lnTo>
                              <a:pt x="332" y="47"/>
                            </a:lnTo>
                            <a:lnTo>
                              <a:pt x="311" y="45"/>
                            </a:lnTo>
                            <a:lnTo>
                              <a:pt x="290" y="41"/>
                            </a:lnTo>
                            <a:lnTo>
                              <a:pt x="270" y="38"/>
                            </a:lnTo>
                            <a:lnTo>
                              <a:pt x="249" y="36"/>
                            </a:lnTo>
                            <a:lnTo>
                              <a:pt x="228" y="33"/>
                            </a:lnTo>
                            <a:lnTo>
                              <a:pt x="207" y="30"/>
                            </a:lnTo>
                            <a:lnTo>
                              <a:pt x="186" y="27"/>
                            </a:lnTo>
                            <a:lnTo>
                              <a:pt x="166" y="24"/>
                            </a:lnTo>
                            <a:lnTo>
                              <a:pt x="145" y="22"/>
                            </a:lnTo>
                            <a:lnTo>
                              <a:pt x="125" y="19"/>
                            </a:lnTo>
                            <a:lnTo>
                              <a:pt x="104" y="15"/>
                            </a:lnTo>
                            <a:lnTo>
                              <a:pt x="83" y="12"/>
                            </a:lnTo>
                            <a:lnTo>
                              <a:pt x="62" y="9"/>
                            </a:lnTo>
                            <a:lnTo>
                              <a:pt x="41" y="7"/>
                            </a:lnTo>
                            <a:lnTo>
                              <a:pt x="21" y="3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7" name=""/>
                      <p:cNvSpPr/>
                      <p:nvPr/>
                    </p:nvSpPr>
                    <p:spPr>
                      <a:xfrm>
                        <a:off x="6954480" y="3962160"/>
                        <a:ext cx="507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9" h="52">
                            <a:moveTo>
                              <a:pt x="0" y="6"/>
                            </a:moveTo>
                            <a:lnTo>
                              <a:pt x="14" y="9"/>
                            </a:lnTo>
                            <a:lnTo>
                              <a:pt x="27" y="12"/>
                            </a:lnTo>
                            <a:lnTo>
                              <a:pt x="41" y="16"/>
                            </a:lnTo>
                            <a:lnTo>
                              <a:pt x="55" y="20"/>
                            </a:lnTo>
                            <a:lnTo>
                              <a:pt x="70" y="24"/>
                            </a:lnTo>
                            <a:lnTo>
                              <a:pt x="83" y="27"/>
                            </a:lnTo>
                            <a:lnTo>
                              <a:pt x="97" y="32"/>
                            </a:lnTo>
                            <a:lnTo>
                              <a:pt x="110" y="35"/>
                            </a:lnTo>
                            <a:lnTo>
                              <a:pt x="124" y="38"/>
                            </a:lnTo>
                            <a:lnTo>
                              <a:pt x="138" y="42"/>
                            </a:lnTo>
                            <a:lnTo>
                              <a:pt x="152" y="46"/>
                            </a:lnTo>
                            <a:lnTo>
                              <a:pt x="166" y="49"/>
                            </a:lnTo>
                            <a:lnTo>
                              <a:pt x="180" y="51"/>
                            </a:lnTo>
                            <a:lnTo>
                              <a:pt x="194" y="52"/>
                            </a:lnTo>
                            <a:lnTo>
                              <a:pt x="209" y="52"/>
                            </a:lnTo>
                            <a:lnTo>
                              <a:pt x="223" y="50"/>
                            </a:lnTo>
                            <a:lnTo>
                              <a:pt x="229" y="48"/>
                            </a:lnTo>
                            <a:lnTo>
                              <a:pt x="234" y="44"/>
                            </a:lnTo>
                            <a:lnTo>
                              <a:pt x="239" y="37"/>
                            </a:lnTo>
                            <a:lnTo>
                              <a:pt x="238" y="31"/>
                            </a:lnTo>
                            <a:lnTo>
                              <a:pt x="229" y="22"/>
                            </a:lnTo>
                            <a:lnTo>
                              <a:pt x="218" y="15"/>
                            </a:lnTo>
                            <a:lnTo>
                              <a:pt x="204" y="11"/>
                            </a:lnTo>
                            <a:lnTo>
                              <a:pt x="189" y="8"/>
                            </a:lnTo>
                            <a:lnTo>
                              <a:pt x="174" y="7"/>
                            </a:lnTo>
                            <a:lnTo>
                              <a:pt x="157" y="6"/>
                            </a:lnTo>
                            <a:lnTo>
                              <a:pt x="143" y="6"/>
                            </a:lnTo>
                            <a:lnTo>
                              <a:pt x="131" y="4"/>
                            </a:lnTo>
                            <a:lnTo>
                              <a:pt x="115" y="2"/>
                            </a:lnTo>
                            <a:lnTo>
                              <a:pt x="99" y="1"/>
                            </a:lnTo>
                            <a:lnTo>
                              <a:pt x="83" y="0"/>
                            </a:lnTo>
                            <a:lnTo>
                              <a:pt x="66" y="0"/>
                            </a:lnTo>
                            <a:lnTo>
                              <a:pt x="49" y="1"/>
                            </a:lnTo>
                            <a:lnTo>
                              <a:pt x="33" y="2"/>
                            </a:lnTo>
                            <a:lnTo>
                              <a:pt x="16" y="3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8" name=""/>
                      <p:cNvSpPr/>
                      <p:nvPr/>
                    </p:nvSpPr>
                    <p:spPr>
                      <a:xfrm>
                        <a:off x="7029000" y="3963240"/>
                        <a:ext cx="46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25" y="0"/>
                            </a:moveTo>
                            <a:lnTo>
                              <a:pt x="18" y="13"/>
                            </a:lnTo>
                            <a:lnTo>
                              <a:pt x="13" y="27"/>
                            </a:lnTo>
                            <a:lnTo>
                              <a:pt x="7" y="42"/>
                            </a:lnTo>
                            <a:lnTo>
                              <a:pt x="0" y="55"/>
                            </a:lnTo>
                            <a:lnTo>
                              <a:pt x="0" y="57"/>
                            </a:lnTo>
                            <a:lnTo>
                              <a:pt x="0" y="59"/>
                            </a:lnTo>
                            <a:lnTo>
                              <a:pt x="1" y="60"/>
                            </a:lnTo>
                            <a:lnTo>
                              <a:pt x="3" y="60"/>
                            </a:lnTo>
                            <a:lnTo>
                              <a:pt x="13" y="47"/>
                            </a:lnTo>
                            <a:lnTo>
                              <a:pt x="18" y="31"/>
                            </a:lnTo>
                            <a:lnTo>
                              <a:pt x="22" y="16"/>
                            </a:lnTo>
                            <a:lnTo>
                              <a:pt x="25" y="0"/>
                            </a:lnTo>
                            <a:lnTo>
                              <a:pt x="25" y="0"/>
                            </a:lnTo>
                            <a:lnTo>
                              <a:pt x="25" y="0"/>
                            </a:lnTo>
                            <a:lnTo>
                              <a:pt x="25" y="0"/>
                            </a:lnTo>
                            <a:lnTo>
                              <a:pt x="25" y="0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9" name=""/>
                      <p:cNvSpPr/>
                      <p:nvPr/>
                    </p:nvSpPr>
                    <p:spPr>
                      <a:xfrm>
                        <a:off x="6955920" y="3972960"/>
                        <a:ext cx="11592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1" h="81">
                            <a:moveTo>
                              <a:pt x="0" y="1"/>
                            </a:moveTo>
                            <a:lnTo>
                              <a:pt x="15" y="4"/>
                            </a:lnTo>
                            <a:lnTo>
                              <a:pt x="30" y="9"/>
                            </a:lnTo>
                            <a:lnTo>
                              <a:pt x="46" y="12"/>
                            </a:lnTo>
                            <a:lnTo>
                              <a:pt x="61" y="15"/>
                            </a:lnTo>
                            <a:lnTo>
                              <a:pt x="76" y="18"/>
                            </a:lnTo>
                            <a:lnTo>
                              <a:pt x="91" y="22"/>
                            </a:lnTo>
                            <a:lnTo>
                              <a:pt x="106" y="24"/>
                            </a:lnTo>
                            <a:lnTo>
                              <a:pt x="122" y="27"/>
                            </a:lnTo>
                            <a:lnTo>
                              <a:pt x="138" y="29"/>
                            </a:lnTo>
                            <a:lnTo>
                              <a:pt x="153" y="31"/>
                            </a:lnTo>
                            <a:lnTo>
                              <a:pt x="169" y="34"/>
                            </a:lnTo>
                            <a:lnTo>
                              <a:pt x="184" y="36"/>
                            </a:lnTo>
                            <a:lnTo>
                              <a:pt x="199" y="38"/>
                            </a:lnTo>
                            <a:lnTo>
                              <a:pt x="216" y="40"/>
                            </a:lnTo>
                            <a:lnTo>
                              <a:pt x="231" y="41"/>
                            </a:lnTo>
                            <a:lnTo>
                              <a:pt x="246" y="43"/>
                            </a:lnTo>
                            <a:lnTo>
                              <a:pt x="263" y="45"/>
                            </a:lnTo>
                            <a:lnTo>
                              <a:pt x="282" y="48"/>
                            </a:lnTo>
                            <a:lnTo>
                              <a:pt x="299" y="50"/>
                            </a:lnTo>
                            <a:lnTo>
                              <a:pt x="316" y="52"/>
                            </a:lnTo>
                            <a:lnTo>
                              <a:pt x="334" y="54"/>
                            </a:lnTo>
                            <a:lnTo>
                              <a:pt x="352" y="56"/>
                            </a:lnTo>
                            <a:lnTo>
                              <a:pt x="370" y="60"/>
                            </a:lnTo>
                            <a:lnTo>
                              <a:pt x="387" y="62"/>
                            </a:lnTo>
                            <a:lnTo>
                              <a:pt x="404" y="64"/>
                            </a:lnTo>
                            <a:lnTo>
                              <a:pt x="422" y="66"/>
                            </a:lnTo>
                            <a:lnTo>
                              <a:pt x="439" y="69"/>
                            </a:lnTo>
                            <a:lnTo>
                              <a:pt x="456" y="72"/>
                            </a:lnTo>
                            <a:lnTo>
                              <a:pt x="475" y="74"/>
                            </a:lnTo>
                            <a:lnTo>
                              <a:pt x="492" y="76"/>
                            </a:lnTo>
                            <a:lnTo>
                              <a:pt x="509" y="79"/>
                            </a:lnTo>
                            <a:lnTo>
                              <a:pt x="527" y="81"/>
                            </a:lnTo>
                            <a:lnTo>
                              <a:pt x="529" y="81"/>
                            </a:lnTo>
                            <a:lnTo>
                              <a:pt x="530" y="80"/>
                            </a:lnTo>
                            <a:lnTo>
                              <a:pt x="531" y="78"/>
                            </a:lnTo>
                            <a:lnTo>
                              <a:pt x="530" y="77"/>
                            </a:lnTo>
                            <a:lnTo>
                              <a:pt x="497" y="69"/>
                            </a:lnTo>
                            <a:lnTo>
                              <a:pt x="464" y="63"/>
                            </a:lnTo>
                            <a:lnTo>
                              <a:pt x="431" y="57"/>
                            </a:lnTo>
                            <a:lnTo>
                              <a:pt x="398" y="52"/>
                            </a:lnTo>
                            <a:lnTo>
                              <a:pt x="365" y="48"/>
                            </a:lnTo>
                            <a:lnTo>
                              <a:pt x="332" y="43"/>
                            </a:lnTo>
                            <a:lnTo>
                              <a:pt x="298" y="39"/>
                            </a:lnTo>
                            <a:lnTo>
                              <a:pt x="266" y="35"/>
                            </a:lnTo>
                            <a:lnTo>
                              <a:pt x="232" y="31"/>
                            </a:lnTo>
                            <a:lnTo>
                              <a:pt x="198" y="27"/>
                            </a:lnTo>
                            <a:lnTo>
                              <a:pt x="165" y="23"/>
                            </a:lnTo>
                            <a:lnTo>
                              <a:pt x="132" y="19"/>
                            </a:lnTo>
                            <a:lnTo>
                              <a:pt x="99" y="15"/>
                            </a:lnTo>
                            <a:lnTo>
                              <a:pt x="66" y="11"/>
                            </a:lnTo>
                            <a:lnTo>
                              <a:pt x="33" y="5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0" name=""/>
                      <p:cNvSpPr/>
                      <p:nvPr/>
                    </p:nvSpPr>
                    <p:spPr>
                      <a:xfrm>
                        <a:off x="6974280" y="3987720"/>
                        <a:ext cx="831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3" h="49">
                            <a:moveTo>
                              <a:pt x="383" y="47"/>
                            </a:moveTo>
                            <a:lnTo>
                              <a:pt x="359" y="44"/>
                            </a:lnTo>
                            <a:lnTo>
                              <a:pt x="337" y="40"/>
                            </a:lnTo>
                            <a:lnTo>
                              <a:pt x="313" y="37"/>
                            </a:lnTo>
                            <a:lnTo>
                              <a:pt x="289" y="33"/>
                            </a:lnTo>
                            <a:lnTo>
                              <a:pt x="266" y="30"/>
                            </a:lnTo>
                            <a:lnTo>
                              <a:pt x="242" y="28"/>
                            </a:lnTo>
                            <a:lnTo>
                              <a:pt x="218" y="25"/>
                            </a:lnTo>
                            <a:lnTo>
                              <a:pt x="195" y="21"/>
                            </a:lnTo>
                            <a:lnTo>
                              <a:pt x="172" y="18"/>
                            </a:lnTo>
                            <a:lnTo>
                              <a:pt x="148" y="16"/>
                            </a:lnTo>
                            <a:lnTo>
                              <a:pt x="124" y="13"/>
                            </a:lnTo>
                            <a:lnTo>
                              <a:pt x="100" y="11"/>
                            </a:lnTo>
                            <a:lnTo>
                              <a:pt x="76" y="7"/>
                            </a:lnTo>
                            <a:lnTo>
                              <a:pt x="54" y="5"/>
                            </a:lnTo>
                            <a:lnTo>
                              <a:pt x="30" y="2"/>
                            </a:lnTo>
                            <a:lnTo>
                              <a:pt x="6" y="0"/>
                            </a:lnTo>
                            <a:lnTo>
                              <a:pt x="3" y="1"/>
                            </a:lnTo>
                            <a:lnTo>
                              <a:pt x="1" y="4"/>
                            </a:lnTo>
                            <a:lnTo>
                              <a:pt x="0" y="7"/>
                            </a:lnTo>
                            <a:lnTo>
                              <a:pt x="1" y="9"/>
                            </a:lnTo>
                            <a:lnTo>
                              <a:pt x="10" y="13"/>
                            </a:lnTo>
                            <a:lnTo>
                              <a:pt x="19" y="16"/>
                            </a:lnTo>
                            <a:lnTo>
                              <a:pt x="29" y="17"/>
                            </a:lnTo>
                            <a:lnTo>
                              <a:pt x="39" y="18"/>
                            </a:lnTo>
                            <a:lnTo>
                              <a:pt x="48" y="19"/>
                            </a:lnTo>
                            <a:lnTo>
                              <a:pt x="58" y="19"/>
                            </a:lnTo>
                            <a:lnTo>
                              <a:pt x="68" y="20"/>
                            </a:lnTo>
                            <a:lnTo>
                              <a:pt x="78" y="21"/>
                            </a:lnTo>
                            <a:lnTo>
                              <a:pt x="91" y="22"/>
                            </a:lnTo>
                            <a:lnTo>
                              <a:pt x="104" y="24"/>
                            </a:lnTo>
                            <a:lnTo>
                              <a:pt x="117" y="25"/>
                            </a:lnTo>
                            <a:lnTo>
                              <a:pt x="130" y="26"/>
                            </a:lnTo>
                            <a:lnTo>
                              <a:pt x="142" y="27"/>
                            </a:lnTo>
                            <a:lnTo>
                              <a:pt x="155" y="27"/>
                            </a:lnTo>
                            <a:lnTo>
                              <a:pt x="168" y="28"/>
                            </a:lnTo>
                            <a:lnTo>
                              <a:pt x="181" y="29"/>
                            </a:lnTo>
                            <a:lnTo>
                              <a:pt x="194" y="30"/>
                            </a:lnTo>
                            <a:lnTo>
                              <a:pt x="205" y="31"/>
                            </a:lnTo>
                            <a:lnTo>
                              <a:pt x="218" y="32"/>
                            </a:lnTo>
                            <a:lnTo>
                              <a:pt x="231" y="33"/>
                            </a:lnTo>
                            <a:lnTo>
                              <a:pt x="243" y="34"/>
                            </a:lnTo>
                            <a:lnTo>
                              <a:pt x="255" y="35"/>
                            </a:lnTo>
                            <a:lnTo>
                              <a:pt x="268" y="38"/>
                            </a:lnTo>
                            <a:lnTo>
                              <a:pt x="280" y="39"/>
                            </a:lnTo>
                            <a:lnTo>
                              <a:pt x="293" y="40"/>
                            </a:lnTo>
                            <a:lnTo>
                              <a:pt x="305" y="42"/>
                            </a:lnTo>
                            <a:lnTo>
                              <a:pt x="318" y="43"/>
                            </a:lnTo>
                            <a:lnTo>
                              <a:pt x="331" y="44"/>
                            </a:lnTo>
                            <a:lnTo>
                              <a:pt x="344" y="45"/>
                            </a:lnTo>
                            <a:lnTo>
                              <a:pt x="357" y="46"/>
                            </a:lnTo>
                            <a:lnTo>
                              <a:pt x="370" y="47"/>
                            </a:lnTo>
                            <a:lnTo>
                              <a:pt x="383" y="49"/>
                            </a:lnTo>
                            <a:lnTo>
                              <a:pt x="383" y="49"/>
                            </a:lnTo>
                            <a:lnTo>
                              <a:pt x="383" y="47"/>
                            </a:lnTo>
                            <a:lnTo>
                              <a:pt x="383" y="47"/>
                            </a:lnTo>
                            <a:lnTo>
                              <a:pt x="383" y="47"/>
                            </a:lnTo>
                            <a:lnTo>
                              <a:pt x="383" y="4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1" name=""/>
                      <p:cNvSpPr/>
                      <p:nvPr/>
                    </p:nvSpPr>
                    <p:spPr>
                      <a:xfrm>
                        <a:off x="6951960" y="3984480"/>
                        <a:ext cx="154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9">
                            <a:moveTo>
                              <a:pt x="0" y="5"/>
                            </a:moveTo>
                            <a:lnTo>
                              <a:pt x="7" y="7"/>
                            </a:lnTo>
                            <a:lnTo>
                              <a:pt x="15" y="10"/>
                            </a:lnTo>
                            <a:lnTo>
                              <a:pt x="22" y="12"/>
                            </a:lnTo>
                            <a:lnTo>
                              <a:pt x="30" y="16"/>
                            </a:lnTo>
                            <a:lnTo>
                              <a:pt x="38" y="18"/>
                            </a:lnTo>
                            <a:lnTo>
                              <a:pt x="45" y="19"/>
                            </a:lnTo>
                            <a:lnTo>
                              <a:pt x="53" y="19"/>
                            </a:lnTo>
                            <a:lnTo>
                              <a:pt x="60" y="18"/>
                            </a:lnTo>
                            <a:lnTo>
                              <a:pt x="64" y="16"/>
                            </a:lnTo>
                            <a:lnTo>
                              <a:pt x="67" y="10"/>
                            </a:lnTo>
                            <a:lnTo>
                              <a:pt x="67" y="6"/>
                            </a:lnTo>
                            <a:lnTo>
                              <a:pt x="65" y="4"/>
                            </a:lnTo>
                            <a:lnTo>
                              <a:pt x="57" y="1"/>
                            </a:lnTo>
                            <a:lnTo>
                              <a:pt x="48" y="0"/>
                            </a:lnTo>
                            <a:lnTo>
                              <a:pt x="41" y="0"/>
                            </a:lnTo>
                            <a:lnTo>
                              <a:pt x="33" y="0"/>
                            </a:lnTo>
                            <a:lnTo>
                              <a:pt x="25" y="1"/>
                            </a:lnTo>
                            <a:lnTo>
                              <a:pt x="17" y="1"/>
                            </a:lnTo>
                            <a:lnTo>
                              <a:pt x="8" y="4"/>
                            </a:lnTo>
                            <a:lnTo>
                              <a:pt x="1" y="5"/>
                            </a:lnTo>
                            <a:lnTo>
                              <a:pt x="1" y="5"/>
                            </a:lnTo>
                            <a:lnTo>
                              <a:pt x="1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2" name=""/>
                      <p:cNvSpPr/>
                      <p:nvPr/>
                    </p:nvSpPr>
                    <p:spPr>
                      <a:xfrm>
                        <a:off x="6969960" y="4002480"/>
                        <a:ext cx="835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4" h="48">
                            <a:moveTo>
                              <a:pt x="384" y="48"/>
                            </a:moveTo>
                            <a:lnTo>
                              <a:pt x="361" y="45"/>
                            </a:lnTo>
                            <a:lnTo>
                              <a:pt x="337" y="40"/>
                            </a:lnTo>
                            <a:lnTo>
                              <a:pt x="314" y="37"/>
                            </a:lnTo>
                            <a:lnTo>
                              <a:pt x="290" y="34"/>
                            </a:lnTo>
                            <a:lnTo>
                              <a:pt x="266" y="31"/>
                            </a:lnTo>
                            <a:lnTo>
                              <a:pt x="243" y="27"/>
                            </a:lnTo>
                            <a:lnTo>
                              <a:pt x="219" y="24"/>
                            </a:lnTo>
                            <a:lnTo>
                              <a:pt x="196" y="22"/>
                            </a:lnTo>
                            <a:lnTo>
                              <a:pt x="172" y="19"/>
                            </a:lnTo>
                            <a:lnTo>
                              <a:pt x="148" y="17"/>
                            </a:lnTo>
                            <a:lnTo>
                              <a:pt x="124" y="13"/>
                            </a:lnTo>
                            <a:lnTo>
                              <a:pt x="101" y="11"/>
                            </a:lnTo>
                            <a:lnTo>
                              <a:pt x="77" y="8"/>
                            </a:lnTo>
                            <a:lnTo>
                              <a:pt x="54" y="6"/>
                            </a:lnTo>
                            <a:lnTo>
                              <a:pt x="30" y="2"/>
                            </a:lnTo>
                            <a:lnTo>
                              <a:pt x="6" y="0"/>
                            </a:lnTo>
                            <a:lnTo>
                              <a:pt x="3" y="1"/>
                            </a:lnTo>
                            <a:lnTo>
                              <a:pt x="1" y="5"/>
                            </a:lnTo>
                            <a:lnTo>
                              <a:pt x="0" y="8"/>
                            </a:lnTo>
                            <a:lnTo>
                              <a:pt x="2" y="10"/>
                            </a:lnTo>
                            <a:lnTo>
                              <a:pt x="11" y="13"/>
                            </a:lnTo>
                            <a:lnTo>
                              <a:pt x="20" y="15"/>
                            </a:lnTo>
                            <a:lnTo>
                              <a:pt x="29" y="18"/>
                            </a:lnTo>
                            <a:lnTo>
                              <a:pt x="39" y="19"/>
                            </a:lnTo>
                            <a:lnTo>
                              <a:pt x="49" y="19"/>
                            </a:lnTo>
                            <a:lnTo>
                              <a:pt x="58" y="20"/>
                            </a:lnTo>
                            <a:lnTo>
                              <a:pt x="68" y="20"/>
                            </a:lnTo>
                            <a:lnTo>
                              <a:pt x="78" y="21"/>
                            </a:lnTo>
                            <a:lnTo>
                              <a:pt x="91" y="22"/>
                            </a:lnTo>
                            <a:lnTo>
                              <a:pt x="104" y="23"/>
                            </a:lnTo>
                            <a:lnTo>
                              <a:pt x="117" y="24"/>
                            </a:lnTo>
                            <a:lnTo>
                              <a:pt x="130" y="25"/>
                            </a:lnTo>
                            <a:lnTo>
                              <a:pt x="143" y="26"/>
                            </a:lnTo>
                            <a:lnTo>
                              <a:pt x="156" y="27"/>
                            </a:lnTo>
                            <a:lnTo>
                              <a:pt x="168" y="29"/>
                            </a:lnTo>
                            <a:lnTo>
                              <a:pt x="181" y="30"/>
                            </a:lnTo>
                            <a:lnTo>
                              <a:pt x="194" y="31"/>
                            </a:lnTo>
                            <a:lnTo>
                              <a:pt x="206" y="32"/>
                            </a:lnTo>
                            <a:lnTo>
                              <a:pt x="219" y="33"/>
                            </a:lnTo>
                            <a:lnTo>
                              <a:pt x="232" y="34"/>
                            </a:lnTo>
                            <a:lnTo>
                              <a:pt x="244" y="35"/>
                            </a:lnTo>
                            <a:lnTo>
                              <a:pt x="257" y="37"/>
                            </a:lnTo>
                            <a:lnTo>
                              <a:pt x="269" y="38"/>
                            </a:lnTo>
                            <a:lnTo>
                              <a:pt x="282" y="39"/>
                            </a:lnTo>
                            <a:lnTo>
                              <a:pt x="293" y="42"/>
                            </a:lnTo>
                            <a:lnTo>
                              <a:pt x="306" y="43"/>
                            </a:lnTo>
                            <a:lnTo>
                              <a:pt x="319" y="44"/>
                            </a:lnTo>
                            <a:lnTo>
                              <a:pt x="331" y="45"/>
                            </a:lnTo>
                            <a:lnTo>
                              <a:pt x="344" y="46"/>
                            </a:lnTo>
                            <a:lnTo>
                              <a:pt x="357" y="47"/>
                            </a:lnTo>
                            <a:lnTo>
                              <a:pt x="370" y="48"/>
                            </a:lnTo>
                            <a:lnTo>
                              <a:pt x="383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3" name=""/>
                      <p:cNvSpPr/>
                      <p:nvPr/>
                    </p:nvSpPr>
                    <p:spPr>
                      <a:xfrm>
                        <a:off x="6947640" y="3999240"/>
                        <a:ext cx="1440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8">
                            <a:moveTo>
                              <a:pt x="0" y="4"/>
                            </a:moveTo>
                            <a:lnTo>
                              <a:pt x="8" y="6"/>
                            </a:lnTo>
                            <a:lnTo>
                              <a:pt x="15" y="10"/>
                            </a:lnTo>
                            <a:lnTo>
                              <a:pt x="22" y="12"/>
                            </a:lnTo>
                            <a:lnTo>
                              <a:pt x="29" y="15"/>
                            </a:lnTo>
                            <a:lnTo>
                              <a:pt x="37" y="17"/>
                            </a:lnTo>
                            <a:lnTo>
                              <a:pt x="44" y="18"/>
                            </a:lnTo>
                            <a:lnTo>
                              <a:pt x="52" y="18"/>
                            </a:lnTo>
                            <a:lnTo>
                              <a:pt x="60" y="17"/>
                            </a:lnTo>
                            <a:lnTo>
                              <a:pt x="63" y="15"/>
                            </a:lnTo>
                            <a:lnTo>
                              <a:pt x="66" y="10"/>
                            </a:lnTo>
                            <a:lnTo>
                              <a:pt x="67" y="5"/>
                            </a:lnTo>
                            <a:lnTo>
                              <a:pt x="65" y="3"/>
                            </a:lnTo>
                            <a:lnTo>
                              <a:pt x="56" y="1"/>
                            </a:lnTo>
                            <a:lnTo>
                              <a:pt x="49" y="0"/>
                            </a:lnTo>
                            <a:lnTo>
                              <a:pt x="40" y="0"/>
                            </a:lnTo>
                            <a:lnTo>
                              <a:pt x="33" y="0"/>
                            </a:lnTo>
                            <a:lnTo>
                              <a:pt x="24" y="0"/>
                            </a:lnTo>
                            <a:lnTo>
                              <a:pt x="16" y="1"/>
                            </a:lnTo>
                            <a:lnTo>
                              <a:pt x="8" y="2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4" name=""/>
                      <p:cNvSpPr/>
                      <p:nvPr/>
                    </p:nvSpPr>
                    <p:spPr>
                      <a:xfrm>
                        <a:off x="6964920" y="4017240"/>
                        <a:ext cx="831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4" h="48">
                            <a:moveTo>
                              <a:pt x="384" y="48"/>
                            </a:moveTo>
                            <a:lnTo>
                              <a:pt x="360" y="44"/>
                            </a:lnTo>
                            <a:lnTo>
                              <a:pt x="337" y="40"/>
                            </a:lnTo>
                            <a:lnTo>
                              <a:pt x="313" y="37"/>
                            </a:lnTo>
                            <a:lnTo>
                              <a:pt x="289" y="34"/>
                            </a:lnTo>
                            <a:lnTo>
                              <a:pt x="266" y="30"/>
                            </a:lnTo>
                            <a:lnTo>
                              <a:pt x="243" y="27"/>
                            </a:lnTo>
                            <a:lnTo>
                              <a:pt x="219" y="24"/>
                            </a:lnTo>
                            <a:lnTo>
                              <a:pt x="195" y="21"/>
                            </a:lnTo>
                            <a:lnTo>
                              <a:pt x="171" y="18"/>
                            </a:lnTo>
                            <a:lnTo>
                              <a:pt x="147" y="15"/>
                            </a:lnTo>
                            <a:lnTo>
                              <a:pt x="124" y="13"/>
                            </a:lnTo>
                            <a:lnTo>
                              <a:pt x="100" y="10"/>
                            </a:lnTo>
                            <a:lnTo>
                              <a:pt x="76" y="8"/>
                            </a:lnTo>
                            <a:lnTo>
                              <a:pt x="53" y="5"/>
                            </a:lnTo>
                            <a:lnTo>
                              <a:pt x="29" y="2"/>
                            </a:lnTo>
                            <a:lnTo>
                              <a:pt x="6" y="0"/>
                            </a:lnTo>
                            <a:lnTo>
                              <a:pt x="3" y="1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9"/>
                            </a:lnTo>
                            <a:lnTo>
                              <a:pt x="11" y="12"/>
                            </a:lnTo>
                            <a:lnTo>
                              <a:pt x="20" y="15"/>
                            </a:lnTo>
                            <a:lnTo>
                              <a:pt x="29" y="16"/>
                            </a:lnTo>
                            <a:lnTo>
                              <a:pt x="39" y="17"/>
                            </a:lnTo>
                            <a:lnTo>
                              <a:pt x="48" y="18"/>
                            </a:lnTo>
                            <a:lnTo>
                              <a:pt x="58" y="19"/>
                            </a:lnTo>
                            <a:lnTo>
                              <a:pt x="67" y="19"/>
                            </a:lnTo>
                            <a:lnTo>
                              <a:pt x="77" y="21"/>
                            </a:lnTo>
                            <a:lnTo>
                              <a:pt x="90" y="22"/>
                            </a:lnTo>
                            <a:lnTo>
                              <a:pt x="103" y="23"/>
                            </a:lnTo>
                            <a:lnTo>
                              <a:pt x="116" y="24"/>
                            </a:lnTo>
                            <a:lnTo>
                              <a:pt x="129" y="25"/>
                            </a:lnTo>
                            <a:lnTo>
                              <a:pt x="142" y="26"/>
                            </a:lnTo>
                            <a:lnTo>
                              <a:pt x="155" y="27"/>
                            </a:lnTo>
                            <a:lnTo>
                              <a:pt x="168" y="28"/>
                            </a:lnTo>
                            <a:lnTo>
                              <a:pt x="181" y="29"/>
                            </a:lnTo>
                            <a:lnTo>
                              <a:pt x="194" y="30"/>
                            </a:lnTo>
                            <a:lnTo>
                              <a:pt x="206" y="31"/>
                            </a:lnTo>
                            <a:lnTo>
                              <a:pt x="219" y="32"/>
                            </a:lnTo>
                            <a:lnTo>
                              <a:pt x="231" y="34"/>
                            </a:lnTo>
                            <a:lnTo>
                              <a:pt x="244" y="36"/>
                            </a:lnTo>
                            <a:lnTo>
                              <a:pt x="256" y="37"/>
                            </a:lnTo>
                            <a:lnTo>
                              <a:pt x="269" y="38"/>
                            </a:lnTo>
                            <a:lnTo>
                              <a:pt x="281" y="40"/>
                            </a:lnTo>
                            <a:lnTo>
                              <a:pt x="294" y="41"/>
                            </a:lnTo>
                            <a:lnTo>
                              <a:pt x="307" y="42"/>
                            </a:lnTo>
                            <a:lnTo>
                              <a:pt x="319" y="43"/>
                            </a:lnTo>
                            <a:lnTo>
                              <a:pt x="332" y="44"/>
                            </a:lnTo>
                            <a:lnTo>
                              <a:pt x="345" y="45"/>
                            </a:lnTo>
                            <a:lnTo>
                              <a:pt x="358" y="47"/>
                            </a:lnTo>
                            <a:lnTo>
                              <a:pt x="371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5" name=""/>
                      <p:cNvSpPr/>
                      <p:nvPr/>
                    </p:nvSpPr>
                    <p:spPr>
                      <a:xfrm>
                        <a:off x="6942960" y="401436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20">
                            <a:moveTo>
                              <a:pt x="0" y="6"/>
                            </a:moveTo>
                            <a:lnTo>
                              <a:pt x="8" y="8"/>
                            </a:lnTo>
                            <a:lnTo>
                              <a:pt x="15" y="10"/>
                            </a:lnTo>
                            <a:lnTo>
                              <a:pt x="22" y="14"/>
                            </a:lnTo>
                            <a:lnTo>
                              <a:pt x="30" y="17"/>
                            </a:lnTo>
                            <a:lnTo>
                              <a:pt x="37" y="19"/>
                            </a:lnTo>
                            <a:lnTo>
                              <a:pt x="45" y="20"/>
                            </a:lnTo>
                            <a:lnTo>
                              <a:pt x="52" y="20"/>
                            </a:lnTo>
                            <a:lnTo>
                              <a:pt x="60" y="19"/>
                            </a:lnTo>
                            <a:lnTo>
                              <a:pt x="63" y="17"/>
                            </a:lnTo>
                            <a:lnTo>
                              <a:pt x="66" y="11"/>
                            </a:lnTo>
                            <a:lnTo>
                              <a:pt x="67" y="7"/>
                            </a:lnTo>
                            <a:lnTo>
                              <a:pt x="65" y="4"/>
                            </a:lnTo>
                            <a:lnTo>
                              <a:pt x="58" y="3"/>
                            </a:lnTo>
                            <a:lnTo>
                              <a:pt x="49" y="2"/>
                            </a:lnTo>
                            <a:lnTo>
                              <a:pt x="41" y="2"/>
                            </a:lnTo>
                            <a:lnTo>
                              <a:pt x="33" y="0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9" y="4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6" name=""/>
                      <p:cNvSpPr/>
                      <p:nvPr/>
                    </p:nvSpPr>
                    <p:spPr>
                      <a:xfrm>
                        <a:off x="6959520" y="4032360"/>
                        <a:ext cx="831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4" h="47">
                            <a:moveTo>
                              <a:pt x="384" y="46"/>
                            </a:moveTo>
                            <a:lnTo>
                              <a:pt x="360" y="43"/>
                            </a:lnTo>
                            <a:lnTo>
                              <a:pt x="337" y="39"/>
                            </a:lnTo>
                            <a:lnTo>
                              <a:pt x="314" y="35"/>
                            </a:lnTo>
                            <a:lnTo>
                              <a:pt x="290" y="32"/>
                            </a:lnTo>
                            <a:lnTo>
                              <a:pt x="266" y="29"/>
                            </a:lnTo>
                            <a:lnTo>
                              <a:pt x="243" y="27"/>
                            </a:lnTo>
                            <a:lnTo>
                              <a:pt x="219" y="23"/>
                            </a:lnTo>
                            <a:lnTo>
                              <a:pt x="195" y="20"/>
                            </a:lnTo>
                            <a:lnTo>
                              <a:pt x="172" y="18"/>
                            </a:lnTo>
                            <a:lnTo>
                              <a:pt x="148" y="15"/>
                            </a:lnTo>
                            <a:lnTo>
                              <a:pt x="124" y="13"/>
                            </a:lnTo>
                            <a:lnTo>
                              <a:pt x="100" y="9"/>
                            </a:lnTo>
                            <a:lnTo>
                              <a:pt x="76" y="7"/>
                            </a:lnTo>
                            <a:lnTo>
                              <a:pt x="53" y="5"/>
                            </a:lnTo>
                            <a:lnTo>
                              <a:pt x="30" y="2"/>
                            </a:lnTo>
                            <a:lnTo>
                              <a:pt x="6" y="0"/>
                            </a:lnTo>
                            <a:lnTo>
                              <a:pt x="4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11" y="11"/>
                            </a:lnTo>
                            <a:lnTo>
                              <a:pt x="20" y="15"/>
                            </a:lnTo>
                            <a:lnTo>
                              <a:pt x="30" y="16"/>
                            </a:lnTo>
                            <a:lnTo>
                              <a:pt x="39" y="17"/>
                            </a:lnTo>
                            <a:lnTo>
                              <a:pt x="49" y="18"/>
                            </a:lnTo>
                            <a:lnTo>
                              <a:pt x="59" y="19"/>
                            </a:lnTo>
                            <a:lnTo>
                              <a:pt x="69" y="19"/>
                            </a:lnTo>
                            <a:lnTo>
                              <a:pt x="78" y="20"/>
                            </a:lnTo>
                            <a:lnTo>
                              <a:pt x="91" y="21"/>
                            </a:lnTo>
                            <a:lnTo>
                              <a:pt x="103" y="22"/>
                            </a:lnTo>
                            <a:lnTo>
                              <a:pt x="116" y="23"/>
                            </a:lnTo>
                            <a:lnTo>
                              <a:pt x="129" y="25"/>
                            </a:lnTo>
                            <a:lnTo>
                              <a:pt x="142" y="26"/>
                            </a:lnTo>
                            <a:lnTo>
                              <a:pt x="155" y="26"/>
                            </a:lnTo>
                            <a:lnTo>
                              <a:pt x="168" y="27"/>
                            </a:lnTo>
                            <a:lnTo>
                              <a:pt x="181" y="28"/>
                            </a:lnTo>
                            <a:lnTo>
                              <a:pt x="194" y="29"/>
                            </a:lnTo>
                            <a:lnTo>
                              <a:pt x="206" y="30"/>
                            </a:lnTo>
                            <a:lnTo>
                              <a:pt x="219" y="30"/>
                            </a:lnTo>
                            <a:lnTo>
                              <a:pt x="232" y="31"/>
                            </a:lnTo>
                            <a:lnTo>
                              <a:pt x="244" y="32"/>
                            </a:lnTo>
                            <a:lnTo>
                              <a:pt x="257" y="33"/>
                            </a:lnTo>
                            <a:lnTo>
                              <a:pt x="270" y="34"/>
                            </a:lnTo>
                            <a:lnTo>
                              <a:pt x="283" y="35"/>
                            </a:lnTo>
                            <a:lnTo>
                              <a:pt x="295" y="38"/>
                            </a:lnTo>
                            <a:lnTo>
                              <a:pt x="308" y="39"/>
                            </a:lnTo>
                            <a:lnTo>
                              <a:pt x="321" y="40"/>
                            </a:lnTo>
                            <a:lnTo>
                              <a:pt x="333" y="41"/>
                            </a:lnTo>
                            <a:lnTo>
                              <a:pt x="346" y="43"/>
                            </a:lnTo>
                            <a:lnTo>
                              <a:pt x="359" y="44"/>
                            </a:lnTo>
                            <a:lnTo>
                              <a:pt x="371" y="46"/>
                            </a:lnTo>
                            <a:lnTo>
                              <a:pt x="384" y="47"/>
                            </a:lnTo>
                            <a:lnTo>
                              <a:pt x="384" y="47"/>
                            </a:lnTo>
                            <a:lnTo>
                              <a:pt x="384" y="46"/>
                            </a:lnTo>
                            <a:lnTo>
                              <a:pt x="384" y="46"/>
                            </a:lnTo>
                            <a:lnTo>
                              <a:pt x="384" y="46"/>
                            </a:lnTo>
                            <a:lnTo>
                              <a:pt x="384" y="4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7" name=""/>
                      <p:cNvSpPr/>
                      <p:nvPr/>
                    </p:nvSpPr>
                    <p:spPr>
                      <a:xfrm>
                        <a:off x="6937560" y="4029120"/>
                        <a:ext cx="1440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9">
                            <a:moveTo>
                              <a:pt x="0" y="6"/>
                            </a:moveTo>
                            <a:lnTo>
                              <a:pt x="7" y="8"/>
                            </a:lnTo>
                            <a:lnTo>
                              <a:pt x="15" y="10"/>
                            </a:lnTo>
                            <a:lnTo>
                              <a:pt x="22" y="13"/>
                            </a:lnTo>
                            <a:lnTo>
                              <a:pt x="30" y="15"/>
                            </a:lnTo>
                            <a:lnTo>
                              <a:pt x="37" y="17"/>
                            </a:lnTo>
                            <a:lnTo>
                              <a:pt x="45" y="19"/>
                            </a:lnTo>
                            <a:lnTo>
                              <a:pt x="53" y="19"/>
                            </a:lnTo>
                            <a:lnTo>
                              <a:pt x="60" y="17"/>
                            </a:lnTo>
                            <a:lnTo>
                              <a:pt x="63" y="15"/>
                            </a:lnTo>
                            <a:lnTo>
                              <a:pt x="67" y="11"/>
                            </a:lnTo>
                            <a:lnTo>
                              <a:pt x="67" y="7"/>
                            </a:lnTo>
                            <a:lnTo>
                              <a:pt x="65" y="3"/>
                            </a:lnTo>
                            <a:lnTo>
                              <a:pt x="57" y="2"/>
                            </a:lnTo>
                            <a:lnTo>
                              <a:pt x="48" y="1"/>
                            </a:lnTo>
                            <a:lnTo>
                              <a:pt x="41" y="1"/>
                            </a:lnTo>
                            <a:lnTo>
                              <a:pt x="32" y="0"/>
                            </a:lnTo>
                            <a:lnTo>
                              <a:pt x="24" y="1"/>
                            </a:lnTo>
                            <a:lnTo>
                              <a:pt x="16" y="2"/>
                            </a:lnTo>
                            <a:lnTo>
                              <a:pt x="8" y="3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8" name=""/>
                      <p:cNvSpPr/>
                      <p:nvPr/>
                    </p:nvSpPr>
                    <p:spPr>
                      <a:xfrm>
                        <a:off x="6954480" y="4048200"/>
                        <a:ext cx="8352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3" h="48">
                            <a:moveTo>
                              <a:pt x="383" y="47"/>
                            </a:moveTo>
                            <a:lnTo>
                              <a:pt x="359" y="44"/>
                            </a:lnTo>
                            <a:lnTo>
                              <a:pt x="337" y="39"/>
                            </a:lnTo>
                            <a:lnTo>
                              <a:pt x="313" y="36"/>
                            </a:lnTo>
                            <a:lnTo>
                              <a:pt x="289" y="33"/>
                            </a:lnTo>
                            <a:lnTo>
                              <a:pt x="266" y="29"/>
                            </a:lnTo>
                            <a:lnTo>
                              <a:pt x="242" y="27"/>
                            </a:lnTo>
                            <a:lnTo>
                              <a:pt x="219" y="24"/>
                            </a:lnTo>
                            <a:lnTo>
                              <a:pt x="195" y="21"/>
                            </a:lnTo>
                            <a:lnTo>
                              <a:pt x="172" y="19"/>
                            </a:lnTo>
                            <a:lnTo>
                              <a:pt x="148" y="15"/>
                            </a:lnTo>
                            <a:lnTo>
                              <a:pt x="124" y="13"/>
                            </a:lnTo>
                            <a:lnTo>
                              <a:pt x="100" y="10"/>
                            </a:lnTo>
                            <a:lnTo>
                              <a:pt x="77" y="8"/>
                            </a:lnTo>
                            <a:lnTo>
                              <a:pt x="54" y="6"/>
                            </a:lnTo>
                            <a:lnTo>
                              <a:pt x="30" y="2"/>
                            </a:lnTo>
                            <a:lnTo>
                              <a:pt x="6" y="0"/>
                            </a:lnTo>
                            <a:lnTo>
                              <a:pt x="3" y="1"/>
                            </a:lnTo>
                            <a:lnTo>
                              <a:pt x="1" y="3"/>
                            </a:lnTo>
                            <a:lnTo>
                              <a:pt x="0" y="7"/>
                            </a:lnTo>
                            <a:lnTo>
                              <a:pt x="1" y="9"/>
                            </a:lnTo>
                            <a:lnTo>
                              <a:pt x="10" y="12"/>
                            </a:lnTo>
                            <a:lnTo>
                              <a:pt x="19" y="15"/>
                            </a:lnTo>
                            <a:lnTo>
                              <a:pt x="29" y="16"/>
                            </a:lnTo>
                            <a:lnTo>
                              <a:pt x="39" y="18"/>
                            </a:lnTo>
                            <a:lnTo>
                              <a:pt x="48" y="19"/>
                            </a:lnTo>
                            <a:lnTo>
                              <a:pt x="58" y="19"/>
                            </a:lnTo>
                            <a:lnTo>
                              <a:pt x="68" y="20"/>
                            </a:lnTo>
                            <a:lnTo>
                              <a:pt x="78" y="21"/>
                            </a:lnTo>
                            <a:lnTo>
                              <a:pt x="91" y="22"/>
                            </a:lnTo>
                            <a:lnTo>
                              <a:pt x="104" y="23"/>
                            </a:lnTo>
                            <a:lnTo>
                              <a:pt x="117" y="24"/>
                            </a:lnTo>
                            <a:lnTo>
                              <a:pt x="130" y="25"/>
                            </a:lnTo>
                            <a:lnTo>
                              <a:pt x="142" y="26"/>
                            </a:lnTo>
                            <a:lnTo>
                              <a:pt x="155" y="26"/>
                            </a:lnTo>
                            <a:lnTo>
                              <a:pt x="168" y="27"/>
                            </a:lnTo>
                            <a:lnTo>
                              <a:pt x="181" y="28"/>
                            </a:lnTo>
                            <a:lnTo>
                              <a:pt x="194" y="29"/>
                            </a:lnTo>
                            <a:lnTo>
                              <a:pt x="207" y="31"/>
                            </a:lnTo>
                            <a:lnTo>
                              <a:pt x="219" y="31"/>
                            </a:lnTo>
                            <a:lnTo>
                              <a:pt x="232" y="32"/>
                            </a:lnTo>
                            <a:lnTo>
                              <a:pt x="245" y="33"/>
                            </a:lnTo>
                            <a:lnTo>
                              <a:pt x="258" y="34"/>
                            </a:lnTo>
                            <a:lnTo>
                              <a:pt x="269" y="35"/>
                            </a:lnTo>
                            <a:lnTo>
                              <a:pt x="282" y="36"/>
                            </a:lnTo>
                            <a:lnTo>
                              <a:pt x="295" y="38"/>
                            </a:lnTo>
                            <a:lnTo>
                              <a:pt x="307" y="39"/>
                            </a:lnTo>
                            <a:lnTo>
                              <a:pt x="320" y="40"/>
                            </a:lnTo>
                            <a:lnTo>
                              <a:pt x="332" y="41"/>
                            </a:lnTo>
                            <a:lnTo>
                              <a:pt x="345" y="44"/>
                            </a:lnTo>
                            <a:lnTo>
                              <a:pt x="358" y="45"/>
                            </a:lnTo>
                            <a:lnTo>
                              <a:pt x="370" y="47"/>
                            </a:lnTo>
                            <a:lnTo>
                              <a:pt x="383" y="48"/>
                            </a:lnTo>
                            <a:lnTo>
                              <a:pt x="383" y="48"/>
                            </a:lnTo>
                            <a:lnTo>
                              <a:pt x="383" y="47"/>
                            </a:lnTo>
                            <a:lnTo>
                              <a:pt x="383" y="47"/>
                            </a:lnTo>
                            <a:lnTo>
                              <a:pt x="383" y="47"/>
                            </a:lnTo>
                            <a:lnTo>
                              <a:pt x="383" y="4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" name=""/>
                      <p:cNvSpPr/>
                      <p:nvPr/>
                    </p:nvSpPr>
                    <p:spPr>
                      <a:xfrm>
                        <a:off x="6933600" y="40438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18">
                            <a:moveTo>
                              <a:pt x="0" y="5"/>
                            </a:moveTo>
                            <a:lnTo>
                              <a:pt x="7" y="7"/>
                            </a:lnTo>
                            <a:lnTo>
                              <a:pt x="15" y="9"/>
                            </a:lnTo>
                            <a:lnTo>
                              <a:pt x="22" y="13"/>
                            </a:lnTo>
                            <a:lnTo>
                              <a:pt x="29" y="15"/>
                            </a:lnTo>
                            <a:lnTo>
                              <a:pt x="37" y="17"/>
                            </a:lnTo>
                            <a:lnTo>
                              <a:pt x="44" y="18"/>
                            </a:lnTo>
                            <a:lnTo>
                              <a:pt x="52" y="18"/>
                            </a:lnTo>
                            <a:lnTo>
                              <a:pt x="59" y="17"/>
                            </a:lnTo>
                            <a:lnTo>
                              <a:pt x="63" y="15"/>
                            </a:lnTo>
                            <a:lnTo>
                              <a:pt x="66" y="9"/>
                            </a:lnTo>
                            <a:lnTo>
                              <a:pt x="66" y="5"/>
                            </a:lnTo>
                            <a:lnTo>
                              <a:pt x="64" y="3"/>
                            </a:lnTo>
                            <a:lnTo>
                              <a:pt x="56" y="1"/>
                            </a:lnTo>
                            <a:lnTo>
                              <a:pt x="48" y="0"/>
                            </a:lnTo>
                            <a:lnTo>
                              <a:pt x="40" y="0"/>
                            </a:lnTo>
                            <a:lnTo>
                              <a:pt x="32" y="0"/>
                            </a:lnTo>
                            <a:lnTo>
                              <a:pt x="24" y="1"/>
                            </a:lnTo>
                            <a:lnTo>
                              <a:pt x="16" y="1"/>
                            </a:lnTo>
                            <a:lnTo>
                              <a:pt x="7" y="3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0" name=""/>
                      <p:cNvSpPr/>
                      <p:nvPr/>
                    </p:nvSpPr>
                    <p:spPr>
                      <a:xfrm>
                        <a:off x="6950520" y="4061880"/>
                        <a:ext cx="831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5" h="49">
                            <a:moveTo>
                              <a:pt x="385" y="47"/>
                            </a:moveTo>
                            <a:lnTo>
                              <a:pt x="361" y="44"/>
                            </a:lnTo>
                            <a:lnTo>
                              <a:pt x="337" y="40"/>
                            </a:lnTo>
                            <a:lnTo>
                              <a:pt x="314" y="37"/>
                            </a:lnTo>
                            <a:lnTo>
                              <a:pt x="290" y="33"/>
                            </a:lnTo>
                            <a:lnTo>
                              <a:pt x="266" y="30"/>
                            </a:lnTo>
                            <a:lnTo>
                              <a:pt x="243" y="28"/>
                            </a:lnTo>
                            <a:lnTo>
                              <a:pt x="219" y="25"/>
                            </a:lnTo>
                            <a:lnTo>
                              <a:pt x="196" y="21"/>
                            </a:lnTo>
                            <a:lnTo>
                              <a:pt x="172" y="18"/>
                            </a:lnTo>
                            <a:lnTo>
                              <a:pt x="148" y="16"/>
                            </a:lnTo>
                            <a:lnTo>
                              <a:pt x="124" y="13"/>
                            </a:lnTo>
                            <a:lnTo>
                              <a:pt x="101" y="11"/>
                            </a:lnTo>
                            <a:lnTo>
                              <a:pt x="77" y="7"/>
                            </a:lnTo>
                            <a:lnTo>
                              <a:pt x="54" y="5"/>
                            </a:lnTo>
                            <a:lnTo>
                              <a:pt x="30" y="2"/>
                            </a:lnTo>
                            <a:lnTo>
                              <a:pt x="6" y="0"/>
                            </a:lnTo>
                            <a:lnTo>
                              <a:pt x="3" y="1"/>
                            </a:lnTo>
                            <a:lnTo>
                              <a:pt x="1" y="4"/>
                            </a:lnTo>
                            <a:lnTo>
                              <a:pt x="0" y="7"/>
                            </a:lnTo>
                            <a:lnTo>
                              <a:pt x="2" y="9"/>
                            </a:lnTo>
                            <a:lnTo>
                              <a:pt x="11" y="13"/>
                            </a:lnTo>
                            <a:lnTo>
                              <a:pt x="20" y="16"/>
                            </a:lnTo>
                            <a:lnTo>
                              <a:pt x="29" y="17"/>
                            </a:lnTo>
                            <a:lnTo>
                              <a:pt x="39" y="18"/>
                            </a:lnTo>
                            <a:lnTo>
                              <a:pt x="49" y="19"/>
                            </a:lnTo>
                            <a:lnTo>
                              <a:pt x="58" y="19"/>
                            </a:lnTo>
                            <a:lnTo>
                              <a:pt x="68" y="20"/>
                            </a:lnTo>
                            <a:lnTo>
                              <a:pt x="78" y="21"/>
                            </a:lnTo>
                            <a:lnTo>
                              <a:pt x="91" y="22"/>
                            </a:lnTo>
                            <a:lnTo>
                              <a:pt x="104" y="24"/>
                            </a:lnTo>
                            <a:lnTo>
                              <a:pt x="117" y="25"/>
                            </a:lnTo>
                            <a:lnTo>
                              <a:pt x="130" y="26"/>
                            </a:lnTo>
                            <a:lnTo>
                              <a:pt x="143" y="27"/>
                            </a:lnTo>
                            <a:lnTo>
                              <a:pt x="156" y="27"/>
                            </a:lnTo>
                            <a:lnTo>
                              <a:pt x="169" y="28"/>
                            </a:lnTo>
                            <a:lnTo>
                              <a:pt x="182" y="29"/>
                            </a:lnTo>
                            <a:lnTo>
                              <a:pt x="195" y="30"/>
                            </a:lnTo>
                            <a:lnTo>
                              <a:pt x="207" y="31"/>
                            </a:lnTo>
                            <a:lnTo>
                              <a:pt x="220" y="31"/>
                            </a:lnTo>
                            <a:lnTo>
                              <a:pt x="233" y="32"/>
                            </a:lnTo>
                            <a:lnTo>
                              <a:pt x="245" y="33"/>
                            </a:lnTo>
                            <a:lnTo>
                              <a:pt x="258" y="34"/>
                            </a:lnTo>
                            <a:lnTo>
                              <a:pt x="270" y="36"/>
                            </a:lnTo>
                            <a:lnTo>
                              <a:pt x="283" y="37"/>
                            </a:lnTo>
                            <a:lnTo>
                              <a:pt x="296" y="39"/>
                            </a:lnTo>
                            <a:lnTo>
                              <a:pt x="308" y="40"/>
                            </a:lnTo>
                            <a:lnTo>
                              <a:pt x="321" y="41"/>
                            </a:lnTo>
                            <a:lnTo>
                              <a:pt x="334" y="42"/>
                            </a:lnTo>
                            <a:lnTo>
                              <a:pt x="346" y="44"/>
                            </a:lnTo>
                            <a:lnTo>
                              <a:pt x="359" y="45"/>
                            </a:lnTo>
                            <a:lnTo>
                              <a:pt x="370" y="47"/>
                            </a:lnTo>
                            <a:lnTo>
                              <a:pt x="383" y="49"/>
                            </a:lnTo>
                            <a:lnTo>
                              <a:pt x="385" y="49"/>
                            </a:lnTo>
                            <a:lnTo>
                              <a:pt x="385" y="47"/>
                            </a:lnTo>
                            <a:lnTo>
                              <a:pt x="385" y="47"/>
                            </a:lnTo>
                            <a:lnTo>
                              <a:pt x="385" y="47"/>
                            </a:lnTo>
                            <a:lnTo>
                              <a:pt x="385" y="4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1" name=""/>
                      <p:cNvSpPr/>
                      <p:nvPr/>
                    </p:nvSpPr>
                    <p:spPr>
                      <a:xfrm>
                        <a:off x="6928200" y="4059720"/>
                        <a:ext cx="1440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9">
                            <a:moveTo>
                              <a:pt x="0" y="5"/>
                            </a:moveTo>
                            <a:lnTo>
                              <a:pt x="8" y="7"/>
                            </a:lnTo>
                            <a:lnTo>
                              <a:pt x="15" y="10"/>
                            </a:lnTo>
                            <a:lnTo>
                              <a:pt x="22" y="12"/>
                            </a:lnTo>
                            <a:lnTo>
                              <a:pt x="29" y="16"/>
                            </a:lnTo>
                            <a:lnTo>
                              <a:pt x="37" y="18"/>
                            </a:lnTo>
                            <a:lnTo>
                              <a:pt x="45" y="19"/>
                            </a:lnTo>
                            <a:lnTo>
                              <a:pt x="52" y="19"/>
                            </a:lnTo>
                            <a:lnTo>
                              <a:pt x="60" y="18"/>
                            </a:lnTo>
                            <a:lnTo>
                              <a:pt x="63" y="16"/>
                            </a:lnTo>
                            <a:lnTo>
                              <a:pt x="66" y="10"/>
                            </a:lnTo>
                            <a:lnTo>
                              <a:pt x="67" y="6"/>
                            </a:lnTo>
                            <a:lnTo>
                              <a:pt x="65" y="4"/>
                            </a:lnTo>
                            <a:lnTo>
                              <a:pt x="56" y="1"/>
                            </a:lnTo>
                            <a:lnTo>
                              <a:pt x="49" y="0"/>
                            </a:lnTo>
                            <a:lnTo>
                              <a:pt x="40" y="0"/>
                            </a:lnTo>
                            <a:lnTo>
                              <a:pt x="33" y="0"/>
                            </a:lnTo>
                            <a:lnTo>
                              <a:pt x="24" y="1"/>
                            </a:lnTo>
                            <a:lnTo>
                              <a:pt x="16" y="1"/>
                            </a:lnTo>
                            <a:lnTo>
                              <a:pt x="8" y="4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" name=""/>
                      <p:cNvSpPr/>
                      <p:nvPr/>
                    </p:nvSpPr>
                    <p:spPr>
                      <a:xfrm>
                        <a:off x="6916680" y="4071600"/>
                        <a:ext cx="1512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73">
                            <a:moveTo>
                              <a:pt x="4" y="1"/>
                            </a:moveTo>
                            <a:lnTo>
                              <a:pt x="12" y="3"/>
                            </a:lnTo>
                            <a:lnTo>
                              <a:pt x="19" y="6"/>
                            </a:lnTo>
                            <a:lnTo>
                              <a:pt x="27" y="12"/>
                            </a:lnTo>
                            <a:lnTo>
                              <a:pt x="33" y="17"/>
                            </a:lnTo>
                            <a:lnTo>
                              <a:pt x="38" y="23"/>
                            </a:lnTo>
                            <a:lnTo>
                              <a:pt x="40" y="27"/>
                            </a:lnTo>
                            <a:lnTo>
                              <a:pt x="38" y="30"/>
                            </a:lnTo>
                            <a:lnTo>
                              <a:pt x="31" y="31"/>
                            </a:lnTo>
                            <a:lnTo>
                              <a:pt x="25" y="31"/>
                            </a:lnTo>
                            <a:lnTo>
                              <a:pt x="19" y="32"/>
                            </a:lnTo>
                            <a:lnTo>
                              <a:pt x="14" y="35"/>
                            </a:lnTo>
                            <a:lnTo>
                              <a:pt x="8" y="38"/>
                            </a:lnTo>
                            <a:lnTo>
                              <a:pt x="5" y="42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1" y="60"/>
                            </a:lnTo>
                            <a:lnTo>
                              <a:pt x="4" y="65"/>
                            </a:lnTo>
                            <a:lnTo>
                              <a:pt x="7" y="68"/>
                            </a:lnTo>
                            <a:lnTo>
                              <a:pt x="13" y="70"/>
                            </a:lnTo>
                            <a:lnTo>
                              <a:pt x="17" y="73"/>
                            </a:lnTo>
                            <a:lnTo>
                              <a:pt x="23" y="73"/>
                            </a:lnTo>
                            <a:lnTo>
                              <a:pt x="29" y="73"/>
                            </a:lnTo>
                            <a:lnTo>
                              <a:pt x="35" y="72"/>
                            </a:lnTo>
                            <a:lnTo>
                              <a:pt x="40" y="70"/>
                            </a:lnTo>
                            <a:lnTo>
                              <a:pt x="46" y="68"/>
                            </a:lnTo>
                            <a:lnTo>
                              <a:pt x="52" y="65"/>
                            </a:lnTo>
                            <a:lnTo>
                              <a:pt x="57" y="61"/>
                            </a:lnTo>
                            <a:lnTo>
                              <a:pt x="63" y="56"/>
                            </a:lnTo>
                            <a:lnTo>
                              <a:pt x="66" y="51"/>
                            </a:lnTo>
                            <a:lnTo>
                              <a:pt x="69" y="46"/>
                            </a:lnTo>
                            <a:lnTo>
                              <a:pt x="71" y="39"/>
                            </a:lnTo>
                            <a:lnTo>
                              <a:pt x="72" y="32"/>
                            </a:lnTo>
                            <a:lnTo>
                              <a:pt x="70" y="24"/>
                            </a:lnTo>
                            <a:lnTo>
                              <a:pt x="63" y="17"/>
                            </a:lnTo>
                            <a:lnTo>
                              <a:pt x="53" y="12"/>
                            </a:lnTo>
                            <a:lnTo>
                              <a:pt x="44" y="9"/>
                            </a:lnTo>
                            <a:lnTo>
                              <a:pt x="40" y="8"/>
                            </a:lnTo>
                            <a:lnTo>
                              <a:pt x="35" y="5"/>
                            </a:lnTo>
                            <a:lnTo>
                              <a:pt x="30" y="4"/>
                            </a:lnTo>
                            <a:lnTo>
                              <a:pt x="25" y="2"/>
                            </a:lnTo>
                            <a:lnTo>
                              <a:pt x="20" y="1"/>
                            </a:lnTo>
                            <a:lnTo>
                              <a:pt x="15" y="1"/>
                            </a:lnTo>
                            <a:lnTo>
                              <a:pt x="10" y="0"/>
                            </a:ln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" name=""/>
                      <p:cNvSpPr/>
                      <p:nvPr/>
                    </p:nvSpPr>
                    <p:spPr>
                      <a:xfrm>
                        <a:off x="7018560" y="4080960"/>
                        <a:ext cx="165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81">
                            <a:moveTo>
                              <a:pt x="23" y="0"/>
                            </a:moveTo>
                            <a:lnTo>
                              <a:pt x="30" y="4"/>
                            </a:lnTo>
                            <a:lnTo>
                              <a:pt x="38" y="9"/>
                            </a:lnTo>
                            <a:lnTo>
                              <a:pt x="45" y="15"/>
                            </a:lnTo>
                            <a:lnTo>
                              <a:pt x="51" y="22"/>
                            </a:lnTo>
                            <a:lnTo>
                              <a:pt x="55" y="29"/>
                            </a:lnTo>
                            <a:lnTo>
                              <a:pt x="58" y="38"/>
                            </a:lnTo>
                            <a:lnTo>
                              <a:pt x="56" y="46"/>
                            </a:lnTo>
                            <a:lnTo>
                              <a:pt x="52" y="54"/>
                            </a:lnTo>
                            <a:lnTo>
                              <a:pt x="43" y="59"/>
                            </a:lnTo>
                            <a:lnTo>
                              <a:pt x="36" y="54"/>
                            </a:lnTo>
                            <a:lnTo>
                              <a:pt x="29" y="48"/>
                            </a:lnTo>
                            <a:lnTo>
                              <a:pt x="27" y="44"/>
                            </a:lnTo>
                            <a:lnTo>
                              <a:pt x="27" y="42"/>
                            </a:lnTo>
                            <a:lnTo>
                              <a:pt x="25" y="40"/>
                            </a:lnTo>
                            <a:lnTo>
                              <a:pt x="24" y="38"/>
                            </a:lnTo>
                            <a:lnTo>
                              <a:pt x="22" y="37"/>
                            </a:lnTo>
                            <a:lnTo>
                              <a:pt x="10" y="40"/>
                            </a:lnTo>
                            <a:lnTo>
                              <a:pt x="2" y="49"/>
                            </a:lnTo>
                            <a:lnTo>
                              <a:pt x="0" y="60"/>
                            </a:lnTo>
                            <a:lnTo>
                              <a:pt x="4" y="70"/>
                            </a:lnTo>
                            <a:lnTo>
                              <a:pt x="9" y="75"/>
                            </a:lnTo>
                            <a:lnTo>
                              <a:pt x="15" y="78"/>
                            </a:lnTo>
                            <a:lnTo>
                              <a:pt x="22" y="80"/>
                            </a:lnTo>
                            <a:lnTo>
                              <a:pt x="28" y="81"/>
                            </a:lnTo>
                            <a:lnTo>
                              <a:pt x="35" y="81"/>
                            </a:lnTo>
                            <a:lnTo>
                              <a:pt x="42" y="80"/>
                            </a:lnTo>
                            <a:lnTo>
                              <a:pt x="49" y="78"/>
                            </a:lnTo>
                            <a:lnTo>
                              <a:pt x="54" y="76"/>
                            </a:lnTo>
                            <a:lnTo>
                              <a:pt x="66" y="67"/>
                            </a:lnTo>
                            <a:lnTo>
                              <a:pt x="75" y="55"/>
                            </a:lnTo>
                            <a:lnTo>
                              <a:pt x="78" y="41"/>
                            </a:lnTo>
                            <a:lnTo>
                              <a:pt x="75" y="26"/>
                            </a:lnTo>
                            <a:lnTo>
                              <a:pt x="71" y="21"/>
                            </a:lnTo>
                            <a:lnTo>
                              <a:pt x="66" y="15"/>
                            </a:lnTo>
                            <a:lnTo>
                              <a:pt x="60" y="11"/>
                            </a:lnTo>
                            <a:lnTo>
                              <a:pt x="53" y="8"/>
                            </a:lnTo>
                            <a:lnTo>
                              <a:pt x="46" y="5"/>
                            </a:lnTo>
                            <a:lnTo>
                              <a:pt x="38" y="2"/>
                            </a:lnTo>
                            <a:lnTo>
                              <a:pt x="30" y="1"/>
                            </a:lnTo>
                            <a:lnTo>
                              <a:pt x="24" y="0"/>
                            </a:lnTo>
                            <a:lnTo>
                              <a:pt x="23" y="0"/>
                            </a:lnTo>
                            <a:lnTo>
                              <a:pt x="23" y="0"/>
                            </a:lnTo>
                            <a:lnTo>
                              <a:pt x="23" y="0"/>
                            </a:lnTo>
                            <a:lnTo>
                              <a:pt x="23" y="0"/>
                            </a:lnTo>
                            <a:lnTo>
                              <a:pt x="23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4" name=""/>
                      <p:cNvSpPr/>
                      <p:nvPr/>
                    </p:nvSpPr>
                    <p:spPr>
                      <a:xfrm>
                        <a:off x="6927120" y="4071600"/>
                        <a:ext cx="140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212">
                            <a:moveTo>
                              <a:pt x="66" y="0"/>
                            </a:moveTo>
                            <a:lnTo>
                              <a:pt x="63" y="14"/>
                            </a:lnTo>
                            <a:lnTo>
                              <a:pt x="58" y="28"/>
                            </a:lnTo>
                            <a:lnTo>
                              <a:pt x="53" y="41"/>
                            </a:lnTo>
                            <a:lnTo>
                              <a:pt x="49" y="54"/>
                            </a:lnTo>
                            <a:lnTo>
                              <a:pt x="43" y="67"/>
                            </a:lnTo>
                            <a:lnTo>
                              <a:pt x="38" y="80"/>
                            </a:lnTo>
                            <a:lnTo>
                              <a:pt x="32" y="93"/>
                            </a:lnTo>
                            <a:lnTo>
                              <a:pt x="27" y="106"/>
                            </a:lnTo>
                            <a:lnTo>
                              <a:pt x="18" y="131"/>
                            </a:lnTo>
                            <a:lnTo>
                              <a:pt x="11" y="157"/>
                            </a:lnTo>
                            <a:lnTo>
                              <a:pt x="5" y="183"/>
                            </a:lnTo>
                            <a:lnTo>
                              <a:pt x="0" y="209"/>
                            </a:lnTo>
                            <a:lnTo>
                              <a:pt x="1" y="212"/>
                            </a:lnTo>
                            <a:lnTo>
                              <a:pt x="3" y="212"/>
                            </a:lnTo>
                            <a:lnTo>
                              <a:pt x="5" y="210"/>
                            </a:lnTo>
                            <a:lnTo>
                              <a:pt x="7" y="208"/>
                            </a:lnTo>
                            <a:lnTo>
                              <a:pt x="17" y="187"/>
                            </a:lnTo>
                            <a:lnTo>
                              <a:pt x="23" y="164"/>
                            </a:lnTo>
                            <a:lnTo>
                              <a:pt x="27" y="141"/>
                            </a:lnTo>
                            <a:lnTo>
                              <a:pt x="31" y="117"/>
                            </a:lnTo>
                            <a:lnTo>
                              <a:pt x="34" y="102"/>
                            </a:lnTo>
                            <a:lnTo>
                              <a:pt x="39" y="88"/>
                            </a:lnTo>
                            <a:lnTo>
                              <a:pt x="43" y="74"/>
                            </a:lnTo>
                            <a:lnTo>
                              <a:pt x="49" y="59"/>
                            </a:lnTo>
                            <a:lnTo>
                              <a:pt x="54" y="44"/>
                            </a:lnTo>
                            <a:lnTo>
                              <a:pt x="58" y="30"/>
                            </a:lnTo>
                            <a:lnTo>
                              <a:pt x="63" y="15"/>
                            </a:lnTo>
                            <a:lnTo>
                              <a:pt x="66" y="0"/>
                            </a:lnTo>
                            <a:lnTo>
                              <a:pt x="66" y="0"/>
                            </a:lnTo>
                            <a:lnTo>
                              <a:pt x="66" y="0"/>
                            </a:lnTo>
                            <a:lnTo>
                              <a:pt x="66" y="0"/>
                            </a:lnTo>
                            <a:lnTo>
                              <a:pt x="66" y="0"/>
                            </a:lnTo>
                            <a:lnTo>
                              <a:pt x="6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5" name=""/>
                      <p:cNvSpPr/>
                      <p:nvPr/>
                    </p:nvSpPr>
                    <p:spPr>
                      <a:xfrm>
                        <a:off x="6998760" y="4079880"/>
                        <a:ext cx="1692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201">
                            <a:moveTo>
                              <a:pt x="78" y="0"/>
                            </a:moveTo>
                            <a:lnTo>
                              <a:pt x="66" y="23"/>
                            </a:lnTo>
                            <a:lnTo>
                              <a:pt x="56" y="47"/>
                            </a:lnTo>
                            <a:lnTo>
                              <a:pt x="45" y="72"/>
                            </a:lnTo>
                            <a:lnTo>
                              <a:pt x="34" y="97"/>
                            </a:lnTo>
                            <a:lnTo>
                              <a:pt x="24" y="122"/>
                            </a:lnTo>
                            <a:lnTo>
                              <a:pt x="15" y="147"/>
                            </a:lnTo>
                            <a:lnTo>
                              <a:pt x="7" y="172"/>
                            </a:lnTo>
                            <a:lnTo>
                              <a:pt x="0" y="198"/>
                            </a:lnTo>
                            <a:lnTo>
                              <a:pt x="0" y="201"/>
                            </a:lnTo>
                            <a:lnTo>
                              <a:pt x="3" y="201"/>
                            </a:lnTo>
                            <a:lnTo>
                              <a:pt x="8" y="199"/>
                            </a:lnTo>
                            <a:lnTo>
                              <a:pt x="10" y="196"/>
                            </a:lnTo>
                            <a:lnTo>
                              <a:pt x="20" y="172"/>
                            </a:lnTo>
                            <a:lnTo>
                              <a:pt x="28" y="147"/>
                            </a:lnTo>
                            <a:lnTo>
                              <a:pt x="37" y="122"/>
                            </a:lnTo>
                            <a:lnTo>
                              <a:pt x="45" y="97"/>
                            </a:lnTo>
                            <a:lnTo>
                              <a:pt x="52" y="73"/>
                            </a:lnTo>
                            <a:lnTo>
                              <a:pt x="61" y="48"/>
                            </a:lnTo>
                            <a:lnTo>
                              <a:pt x="70" y="23"/>
                            </a:lnTo>
                            <a:lnTo>
                              <a:pt x="79" y="0"/>
                            </a:lnTo>
                            <a:lnTo>
                              <a:pt x="79" y="0"/>
                            </a:lnTo>
                            <a:lnTo>
                              <a:pt x="79" y="0"/>
                            </a:lnTo>
                            <a:lnTo>
                              <a:pt x="78" y="0"/>
                            </a:lnTo>
                            <a:lnTo>
                              <a:pt x="78" y="0"/>
                            </a:lnTo>
                            <a:lnTo>
                              <a:pt x="78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6" name=""/>
                      <p:cNvSpPr/>
                      <p:nvPr/>
                    </p:nvSpPr>
                    <p:spPr>
                      <a:xfrm>
                        <a:off x="6934680" y="4074480"/>
                        <a:ext cx="874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7" h="61">
                            <a:moveTo>
                              <a:pt x="0" y="0"/>
                            </a:moveTo>
                            <a:lnTo>
                              <a:pt x="12" y="1"/>
                            </a:lnTo>
                            <a:lnTo>
                              <a:pt x="23" y="2"/>
                            </a:lnTo>
                            <a:lnTo>
                              <a:pt x="35" y="4"/>
                            </a:lnTo>
                            <a:lnTo>
                              <a:pt x="46" y="6"/>
                            </a:lnTo>
                            <a:lnTo>
                              <a:pt x="58" y="8"/>
                            </a:lnTo>
                            <a:lnTo>
                              <a:pt x="70" y="9"/>
                            </a:lnTo>
                            <a:lnTo>
                              <a:pt x="82" y="11"/>
                            </a:lnTo>
                            <a:lnTo>
                              <a:pt x="92" y="14"/>
                            </a:lnTo>
                            <a:lnTo>
                              <a:pt x="104" y="17"/>
                            </a:lnTo>
                            <a:lnTo>
                              <a:pt x="116" y="19"/>
                            </a:lnTo>
                            <a:lnTo>
                              <a:pt x="127" y="22"/>
                            </a:lnTo>
                            <a:lnTo>
                              <a:pt x="139" y="24"/>
                            </a:lnTo>
                            <a:lnTo>
                              <a:pt x="151" y="27"/>
                            </a:lnTo>
                            <a:lnTo>
                              <a:pt x="162" y="30"/>
                            </a:lnTo>
                            <a:lnTo>
                              <a:pt x="174" y="33"/>
                            </a:lnTo>
                            <a:lnTo>
                              <a:pt x="184" y="35"/>
                            </a:lnTo>
                            <a:lnTo>
                              <a:pt x="196" y="38"/>
                            </a:lnTo>
                            <a:lnTo>
                              <a:pt x="209" y="40"/>
                            </a:lnTo>
                            <a:lnTo>
                              <a:pt x="221" y="44"/>
                            </a:lnTo>
                            <a:lnTo>
                              <a:pt x="234" y="47"/>
                            </a:lnTo>
                            <a:lnTo>
                              <a:pt x="247" y="49"/>
                            </a:lnTo>
                            <a:lnTo>
                              <a:pt x="260" y="52"/>
                            </a:lnTo>
                            <a:lnTo>
                              <a:pt x="273" y="55"/>
                            </a:lnTo>
                            <a:lnTo>
                              <a:pt x="287" y="57"/>
                            </a:lnTo>
                            <a:lnTo>
                              <a:pt x="300" y="59"/>
                            </a:lnTo>
                            <a:lnTo>
                              <a:pt x="313" y="60"/>
                            </a:lnTo>
                            <a:lnTo>
                              <a:pt x="326" y="61"/>
                            </a:lnTo>
                            <a:lnTo>
                              <a:pt x="339" y="61"/>
                            </a:lnTo>
                            <a:lnTo>
                              <a:pt x="352" y="61"/>
                            </a:lnTo>
                            <a:lnTo>
                              <a:pt x="365" y="60"/>
                            </a:lnTo>
                            <a:lnTo>
                              <a:pt x="378" y="58"/>
                            </a:lnTo>
                            <a:lnTo>
                              <a:pt x="390" y="56"/>
                            </a:lnTo>
                            <a:lnTo>
                              <a:pt x="396" y="52"/>
                            </a:lnTo>
                            <a:lnTo>
                              <a:pt x="403" y="47"/>
                            </a:lnTo>
                            <a:lnTo>
                              <a:pt x="407" y="40"/>
                            </a:lnTo>
                            <a:lnTo>
                              <a:pt x="402" y="35"/>
                            </a:lnTo>
                            <a:lnTo>
                              <a:pt x="390" y="32"/>
                            </a:lnTo>
                            <a:lnTo>
                              <a:pt x="380" y="30"/>
                            </a:lnTo>
                            <a:lnTo>
                              <a:pt x="368" y="29"/>
                            </a:lnTo>
                            <a:lnTo>
                              <a:pt x="356" y="27"/>
                            </a:lnTo>
                            <a:lnTo>
                              <a:pt x="344" y="26"/>
                            </a:lnTo>
                            <a:lnTo>
                              <a:pt x="332" y="26"/>
                            </a:lnTo>
                            <a:lnTo>
                              <a:pt x="320" y="26"/>
                            </a:lnTo>
                            <a:lnTo>
                              <a:pt x="308" y="25"/>
                            </a:lnTo>
                            <a:lnTo>
                              <a:pt x="294" y="24"/>
                            </a:lnTo>
                            <a:lnTo>
                              <a:pt x="280" y="23"/>
                            </a:lnTo>
                            <a:lnTo>
                              <a:pt x="266" y="22"/>
                            </a:lnTo>
                            <a:lnTo>
                              <a:pt x="252" y="21"/>
                            </a:lnTo>
                            <a:lnTo>
                              <a:pt x="238" y="20"/>
                            </a:lnTo>
                            <a:lnTo>
                              <a:pt x="223" y="18"/>
                            </a:lnTo>
                            <a:lnTo>
                              <a:pt x="209" y="17"/>
                            </a:lnTo>
                            <a:lnTo>
                              <a:pt x="195" y="15"/>
                            </a:lnTo>
                            <a:lnTo>
                              <a:pt x="183" y="14"/>
                            </a:lnTo>
                            <a:lnTo>
                              <a:pt x="171" y="13"/>
                            </a:lnTo>
                            <a:lnTo>
                              <a:pt x="158" y="12"/>
                            </a:lnTo>
                            <a:lnTo>
                              <a:pt x="147" y="11"/>
                            </a:lnTo>
                            <a:lnTo>
                              <a:pt x="135" y="10"/>
                            </a:lnTo>
                            <a:lnTo>
                              <a:pt x="123" y="9"/>
                            </a:lnTo>
                            <a:lnTo>
                              <a:pt x="110" y="8"/>
                            </a:lnTo>
                            <a:lnTo>
                              <a:pt x="98" y="6"/>
                            </a:lnTo>
                            <a:lnTo>
                              <a:pt x="86" y="5"/>
                            </a:lnTo>
                            <a:lnTo>
                              <a:pt x="74" y="5"/>
                            </a:lnTo>
                            <a:lnTo>
                              <a:pt x="61" y="4"/>
                            </a:lnTo>
                            <a:lnTo>
                              <a:pt x="49" y="2"/>
                            </a:lnTo>
                            <a:lnTo>
                              <a:pt x="37" y="1"/>
                            </a:lnTo>
                            <a:lnTo>
                              <a:pt x="25" y="1"/>
                            </a:lnTo>
                            <a:lnTo>
                              <a:pt x="12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7" name=""/>
                      <p:cNvSpPr/>
                      <p:nvPr/>
                    </p:nvSpPr>
                    <p:spPr>
                      <a:xfrm>
                        <a:off x="6931080" y="4110480"/>
                        <a:ext cx="7020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4" h="38">
                            <a:moveTo>
                              <a:pt x="0" y="1"/>
                            </a:moveTo>
                            <a:lnTo>
                              <a:pt x="9" y="2"/>
                            </a:lnTo>
                            <a:lnTo>
                              <a:pt x="16" y="3"/>
                            </a:lnTo>
                            <a:lnTo>
                              <a:pt x="25" y="4"/>
                            </a:lnTo>
                            <a:lnTo>
                              <a:pt x="32" y="6"/>
                            </a:lnTo>
                            <a:lnTo>
                              <a:pt x="41" y="8"/>
                            </a:lnTo>
                            <a:lnTo>
                              <a:pt x="49" y="9"/>
                            </a:lnTo>
                            <a:lnTo>
                              <a:pt x="57" y="11"/>
                            </a:lnTo>
                            <a:lnTo>
                              <a:pt x="65" y="12"/>
                            </a:lnTo>
                            <a:lnTo>
                              <a:pt x="76" y="13"/>
                            </a:lnTo>
                            <a:lnTo>
                              <a:pt x="87" y="15"/>
                            </a:lnTo>
                            <a:lnTo>
                              <a:pt x="97" y="16"/>
                            </a:lnTo>
                            <a:lnTo>
                              <a:pt x="108" y="17"/>
                            </a:lnTo>
                            <a:lnTo>
                              <a:pt x="118" y="19"/>
                            </a:lnTo>
                            <a:lnTo>
                              <a:pt x="129" y="20"/>
                            </a:lnTo>
                            <a:lnTo>
                              <a:pt x="140" y="22"/>
                            </a:lnTo>
                            <a:lnTo>
                              <a:pt x="151" y="23"/>
                            </a:lnTo>
                            <a:lnTo>
                              <a:pt x="171" y="26"/>
                            </a:lnTo>
                            <a:lnTo>
                              <a:pt x="193" y="27"/>
                            </a:lnTo>
                            <a:lnTo>
                              <a:pt x="213" y="29"/>
                            </a:lnTo>
                            <a:lnTo>
                              <a:pt x="235" y="30"/>
                            </a:lnTo>
                            <a:lnTo>
                              <a:pt x="257" y="32"/>
                            </a:lnTo>
                            <a:lnTo>
                              <a:pt x="277" y="33"/>
                            </a:lnTo>
                            <a:lnTo>
                              <a:pt x="299" y="35"/>
                            </a:lnTo>
                            <a:lnTo>
                              <a:pt x="320" y="38"/>
                            </a:lnTo>
                            <a:lnTo>
                              <a:pt x="322" y="37"/>
                            </a:lnTo>
                            <a:lnTo>
                              <a:pt x="323" y="35"/>
                            </a:lnTo>
                            <a:lnTo>
                              <a:pt x="324" y="33"/>
                            </a:lnTo>
                            <a:lnTo>
                              <a:pt x="323" y="30"/>
                            </a:lnTo>
                            <a:lnTo>
                              <a:pt x="313" y="28"/>
                            </a:lnTo>
                            <a:lnTo>
                              <a:pt x="303" y="26"/>
                            </a:lnTo>
                            <a:lnTo>
                              <a:pt x="295" y="25"/>
                            </a:lnTo>
                            <a:lnTo>
                              <a:pt x="285" y="24"/>
                            </a:lnTo>
                            <a:lnTo>
                              <a:pt x="275" y="24"/>
                            </a:lnTo>
                            <a:lnTo>
                              <a:pt x="266" y="23"/>
                            </a:lnTo>
                            <a:lnTo>
                              <a:pt x="257" y="22"/>
                            </a:lnTo>
                            <a:lnTo>
                              <a:pt x="247" y="21"/>
                            </a:lnTo>
                            <a:lnTo>
                              <a:pt x="237" y="20"/>
                            </a:lnTo>
                            <a:lnTo>
                              <a:pt x="227" y="19"/>
                            </a:lnTo>
                            <a:lnTo>
                              <a:pt x="218" y="17"/>
                            </a:lnTo>
                            <a:lnTo>
                              <a:pt x="207" y="16"/>
                            </a:lnTo>
                            <a:lnTo>
                              <a:pt x="197" y="15"/>
                            </a:lnTo>
                            <a:lnTo>
                              <a:pt x="186" y="14"/>
                            </a:lnTo>
                            <a:lnTo>
                              <a:pt x="177" y="13"/>
                            </a:lnTo>
                            <a:lnTo>
                              <a:pt x="166" y="13"/>
                            </a:lnTo>
                            <a:lnTo>
                              <a:pt x="145" y="12"/>
                            </a:lnTo>
                            <a:lnTo>
                              <a:pt x="125" y="10"/>
                            </a:lnTo>
                            <a:lnTo>
                              <a:pt x="104" y="8"/>
                            </a:lnTo>
                            <a:lnTo>
                              <a:pt x="83" y="4"/>
                            </a:lnTo>
                            <a:lnTo>
                              <a:pt x="63" y="3"/>
                            </a:lnTo>
                            <a:lnTo>
                              <a:pt x="41" y="1"/>
                            </a:lnTo>
                            <a:lnTo>
                              <a:pt x="2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8" name=""/>
                      <p:cNvSpPr/>
                      <p:nvPr/>
                    </p:nvSpPr>
                    <p:spPr>
                      <a:xfrm>
                        <a:off x="6949440" y="3951720"/>
                        <a:ext cx="1317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2" h="65">
                            <a:moveTo>
                              <a:pt x="602" y="65"/>
                            </a:moveTo>
                            <a:lnTo>
                              <a:pt x="584" y="62"/>
                            </a:lnTo>
                            <a:lnTo>
                              <a:pt x="566" y="60"/>
                            </a:lnTo>
                            <a:lnTo>
                              <a:pt x="548" y="57"/>
                            </a:lnTo>
                            <a:lnTo>
                              <a:pt x="531" y="55"/>
                            </a:lnTo>
                            <a:lnTo>
                              <a:pt x="512" y="54"/>
                            </a:lnTo>
                            <a:lnTo>
                              <a:pt x="494" y="53"/>
                            </a:lnTo>
                            <a:lnTo>
                              <a:pt x="475" y="51"/>
                            </a:lnTo>
                            <a:lnTo>
                              <a:pt x="457" y="50"/>
                            </a:lnTo>
                            <a:lnTo>
                              <a:pt x="439" y="49"/>
                            </a:lnTo>
                            <a:lnTo>
                              <a:pt x="420" y="48"/>
                            </a:lnTo>
                            <a:lnTo>
                              <a:pt x="403" y="47"/>
                            </a:lnTo>
                            <a:lnTo>
                              <a:pt x="384" y="45"/>
                            </a:lnTo>
                            <a:lnTo>
                              <a:pt x="366" y="44"/>
                            </a:lnTo>
                            <a:lnTo>
                              <a:pt x="348" y="43"/>
                            </a:lnTo>
                            <a:lnTo>
                              <a:pt x="329" y="42"/>
                            </a:lnTo>
                            <a:lnTo>
                              <a:pt x="311" y="40"/>
                            </a:lnTo>
                            <a:lnTo>
                              <a:pt x="291" y="38"/>
                            </a:lnTo>
                            <a:lnTo>
                              <a:pt x="272" y="36"/>
                            </a:lnTo>
                            <a:lnTo>
                              <a:pt x="253" y="34"/>
                            </a:lnTo>
                            <a:lnTo>
                              <a:pt x="234" y="31"/>
                            </a:lnTo>
                            <a:lnTo>
                              <a:pt x="214" y="29"/>
                            </a:lnTo>
                            <a:lnTo>
                              <a:pt x="195" y="26"/>
                            </a:lnTo>
                            <a:lnTo>
                              <a:pt x="175" y="24"/>
                            </a:lnTo>
                            <a:lnTo>
                              <a:pt x="157" y="22"/>
                            </a:lnTo>
                            <a:lnTo>
                              <a:pt x="137" y="18"/>
                            </a:lnTo>
                            <a:lnTo>
                              <a:pt x="118" y="16"/>
                            </a:lnTo>
                            <a:lnTo>
                              <a:pt x="98" y="13"/>
                            </a:lnTo>
                            <a:lnTo>
                              <a:pt x="80" y="11"/>
                            </a:lnTo>
                            <a:lnTo>
                              <a:pt x="60" y="7"/>
                            </a:lnTo>
                            <a:lnTo>
                              <a:pt x="41" y="5"/>
                            </a:lnTo>
                            <a:lnTo>
                              <a:pt x="22" y="2"/>
                            </a:lnTo>
                            <a:lnTo>
                              <a:pt x="3" y="0"/>
                            </a:lnTo>
                            <a:lnTo>
                              <a:pt x="2" y="1"/>
                            </a:lnTo>
                            <a:lnTo>
                              <a:pt x="1" y="3"/>
                            </a:lnTo>
                            <a:lnTo>
                              <a:pt x="0" y="5"/>
                            </a:lnTo>
                            <a:lnTo>
                              <a:pt x="1" y="6"/>
                            </a:lnTo>
                            <a:lnTo>
                              <a:pt x="19" y="11"/>
                            </a:lnTo>
                            <a:lnTo>
                              <a:pt x="37" y="14"/>
                            </a:lnTo>
                            <a:lnTo>
                              <a:pt x="55" y="16"/>
                            </a:lnTo>
                            <a:lnTo>
                              <a:pt x="73" y="18"/>
                            </a:lnTo>
                            <a:lnTo>
                              <a:pt x="91" y="21"/>
                            </a:lnTo>
                            <a:lnTo>
                              <a:pt x="109" y="22"/>
                            </a:lnTo>
                            <a:lnTo>
                              <a:pt x="128" y="24"/>
                            </a:lnTo>
                            <a:lnTo>
                              <a:pt x="146" y="26"/>
                            </a:lnTo>
                            <a:lnTo>
                              <a:pt x="162" y="28"/>
                            </a:lnTo>
                            <a:lnTo>
                              <a:pt x="180" y="31"/>
                            </a:lnTo>
                            <a:lnTo>
                              <a:pt x="196" y="34"/>
                            </a:lnTo>
                            <a:lnTo>
                              <a:pt x="213" y="37"/>
                            </a:lnTo>
                            <a:lnTo>
                              <a:pt x="229" y="39"/>
                            </a:lnTo>
                            <a:lnTo>
                              <a:pt x="246" y="41"/>
                            </a:lnTo>
                            <a:lnTo>
                              <a:pt x="263" y="43"/>
                            </a:lnTo>
                            <a:lnTo>
                              <a:pt x="279" y="45"/>
                            </a:lnTo>
                            <a:lnTo>
                              <a:pt x="300" y="48"/>
                            </a:lnTo>
                            <a:lnTo>
                              <a:pt x="319" y="49"/>
                            </a:lnTo>
                            <a:lnTo>
                              <a:pt x="340" y="51"/>
                            </a:lnTo>
                            <a:lnTo>
                              <a:pt x="359" y="52"/>
                            </a:lnTo>
                            <a:lnTo>
                              <a:pt x="380" y="54"/>
                            </a:lnTo>
                            <a:lnTo>
                              <a:pt x="400" y="55"/>
                            </a:lnTo>
                            <a:lnTo>
                              <a:pt x="420" y="56"/>
                            </a:lnTo>
                            <a:lnTo>
                              <a:pt x="441" y="57"/>
                            </a:lnTo>
                            <a:lnTo>
                              <a:pt x="460" y="58"/>
                            </a:lnTo>
                            <a:lnTo>
                              <a:pt x="481" y="60"/>
                            </a:lnTo>
                            <a:lnTo>
                              <a:pt x="501" y="61"/>
                            </a:lnTo>
                            <a:lnTo>
                              <a:pt x="521" y="62"/>
                            </a:lnTo>
                            <a:lnTo>
                              <a:pt x="541" y="63"/>
                            </a:lnTo>
                            <a:lnTo>
                              <a:pt x="562" y="63"/>
                            </a:lnTo>
                            <a:lnTo>
                              <a:pt x="582" y="64"/>
                            </a:lnTo>
                            <a:lnTo>
                              <a:pt x="602" y="65"/>
                            </a:lnTo>
                            <a:lnTo>
                              <a:pt x="602" y="65"/>
                            </a:lnTo>
                            <a:lnTo>
                              <a:pt x="602" y="65"/>
                            </a:lnTo>
                            <a:lnTo>
                              <a:pt x="602" y="65"/>
                            </a:lnTo>
                            <a:lnTo>
                              <a:pt x="602" y="65"/>
                            </a:lnTo>
                            <a:lnTo>
                              <a:pt x="602" y="6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9" name=""/>
                      <p:cNvSpPr/>
                      <p:nvPr/>
                    </p:nvSpPr>
                    <p:spPr>
                      <a:xfrm>
                        <a:off x="7081200" y="3937680"/>
                        <a:ext cx="16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54">
                            <a:moveTo>
                              <a:pt x="19" y="0"/>
                            </a:moveTo>
                            <a:lnTo>
                              <a:pt x="13" y="6"/>
                            </a:lnTo>
                            <a:lnTo>
                              <a:pt x="9" y="13"/>
                            </a:lnTo>
                            <a:lnTo>
                              <a:pt x="4" y="19"/>
                            </a:lnTo>
                            <a:lnTo>
                              <a:pt x="1" y="27"/>
                            </a:lnTo>
                            <a:lnTo>
                              <a:pt x="0" y="32"/>
                            </a:lnTo>
                            <a:lnTo>
                              <a:pt x="0" y="38"/>
                            </a:lnTo>
                            <a:lnTo>
                              <a:pt x="2" y="41"/>
                            </a:lnTo>
                            <a:lnTo>
                              <a:pt x="7" y="45"/>
                            </a:lnTo>
                            <a:lnTo>
                              <a:pt x="13" y="49"/>
                            </a:lnTo>
                            <a:lnTo>
                              <a:pt x="21" y="53"/>
                            </a:lnTo>
                            <a:lnTo>
                              <a:pt x="29" y="54"/>
                            </a:lnTo>
                            <a:lnTo>
                              <a:pt x="39" y="54"/>
                            </a:lnTo>
                            <a:lnTo>
                              <a:pt x="48" y="53"/>
                            </a:lnTo>
                            <a:lnTo>
                              <a:pt x="56" y="52"/>
                            </a:lnTo>
                            <a:lnTo>
                              <a:pt x="65" y="49"/>
                            </a:lnTo>
                            <a:lnTo>
                              <a:pt x="74" y="48"/>
                            </a:lnTo>
                            <a:lnTo>
                              <a:pt x="76" y="47"/>
                            </a:lnTo>
                            <a:lnTo>
                              <a:pt x="77" y="44"/>
                            </a:lnTo>
                            <a:lnTo>
                              <a:pt x="78" y="42"/>
                            </a:lnTo>
                            <a:lnTo>
                              <a:pt x="77" y="41"/>
                            </a:lnTo>
                            <a:lnTo>
                              <a:pt x="71" y="40"/>
                            </a:lnTo>
                            <a:lnTo>
                              <a:pt x="65" y="40"/>
                            </a:lnTo>
                            <a:lnTo>
                              <a:pt x="59" y="40"/>
                            </a:lnTo>
                            <a:lnTo>
                              <a:pt x="53" y="41"/>
                            </a:lnTo>
                            <a:lnTo>
                              <a:pt x="47" y="41"/>
                            </a:lnTo>
                            <a:lnTo>
                              <a:pt x="40" y="42"/>
                            </a:lnTo>
                            <a:lnTo>
                              <a:pt x="35" y="42"/>
                            </a:lnTo>
                            <a:lnTo>
                              <a:pt x="28" y="42"/>
                            </a:lnTo>
                            <a:lnTo>
                              <a:pt x="22" y="42"/>
                            </a:lnTo>
                            <a:lnTo>
                              <a:pt x="14" y="40"/>
                            </a:lnTo>
                            <a:lnTo>
                              <a:pt x="7" y="36"/>
                            </a:lnTo>
                            <a:lnTo>
                              <a:pt x="4" y="31"/>
                            </a:lnTo>
                            <a:lnTo>
                              <a:pt x="6" y="23"/>
                            </a:lnTo>
                            <a:lnTo>
                              <a:pt x="9" y="15"/>
                            </a:lnTo>
                            <a:lnTo>
                              <a:pt x="13" y="6"/>
                            </a:lnTo>
                            <a:lnTo>
                              <a:pt x="19" y="0"/>
                            </a:lnTo>
                            <a:lnTo>
                              <a:pt x="19" y="0"/>
                            </a:lnTo>
                            <a:lnTo>
                              <a:pt x="19" y="0"/>
                            </a:lnTo>
                            <a:lnTo>
                              <a:pt x="19" y="0"/>
                            </a:lnTo>
                            <a:lnTo>
                              <a:pt x="19" y="0"/>
                            </a:lnTo>
                            <a:lnTo>
                              <a:pt x="1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0" name=""/>
                      <p:cNvSpPr/>
                      <p:nvPr/>
                    </p:nvSpPr>
                    <p:spPr>
                      <a:xfrm>
                        <a:off x="6889320" y="4135320"/>
                        <a:ext cx="183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" h="103">
                            <a:moveTo>
                              <a:pt x="15" y="1"/>
                            </a:moveTo>
                            <a:lnTo>
                              <a:pt x="25" y="3"/>
                            </a:lnTo>
                            <a:lnTo>
                              <a:pt x="34" y="7"/>
                            </a:lnTo>
                            <a:lnTo>
                              <a:pt x="41" y="12"/>
                            </a:lnTo>
                            <a:lnTo>
                              <a:pt x="49" y="18"/>
                            </a:lnTo>
                            <a:lnTo>
                              <a:pt x="53" y="26"/>
                            </a:lnTo>
                            <a:lnTo>
                              <a:pt x="57" y="35"/>
                            </a:lnTo>
                            <a:lnTo>
                              <a:pt x="57" y="45"/>
                            </a:lnTo>
                            <a:lnTo>
                              <a:pt x="53" y="55"/>
                            </a:lnTo>
                            <a:lnTo>
                              <a:pt x="50" y="61"/>
                            </a:lnTo>
                            <a:lnTo>
                              <a:pt x="46" y="65"/>
                            </a:lnTo>
                            <a:lnTo>
                              <a:pt x="40" y="69"/>
                            </a:lnTo>
                            <a:lnTo>
                              <a:pt x="35" y="72"/>
                            </a:lnTo>
                            <a:lnTo>
                              <a:pt x="29" y="74"/>
                            </a:lnTo>
                            <a:lnTo>
                              <a:pt x="23" y="75"/>
                            </a:lnTo>
                            <a:lnTo>
                              <a:pt x="16" y="75"/>
                            </a:lnTo>
                            <a:lnTo>
                              <a:pt x="10" y="74"/>
                            </a:lnTo>
                            <a:lnTo>
                              <a:pt x="7" y="74"/>
                            </a:lnTo>
                            <a:lnTo>
                              <a:pt x="2" y="77"/>
                            </a:lnTo>
                            <a:lnTo>
                              <a:pt x="0" y="80"/>
                            </a:lnTo>
                            <a:lnTo>
                              <a:pt x="0" y="84"/>
                            </a:lnTo>
                            <a:lnTo>
                              <a:pt x="9" y="96"/>
                            </a:lnTo>
                            <a:lnTo>
                              <a:pt x="19" y="101"/>
                            </a:lnTo>
                            <a:lnTo>
                              <a:pt x="31" y="103"/>
                            </a:lnTo>
                            <a:lnTo>
                              <a:pt x="42" y="100"/>
                            </a:lnTo>
                            <a:lnTo>
                              <a:pt x="54" y="94"/>
                            </a:lnTo>
                            <a:lnTo>
                              <a:pt x="65" y="87"/>
                            </a:lnTo>
                            <a:lnTo>
                              <a:pt x="74" y="76"/>
                            </a:lnTo>
                            <a:lnTo>
                              <a:pt x="80" y="65"/>
                            </a:lnTo>
                            <a:lnTo>
                              <a:pt x="84" y="51"/>
                            </a:lnTo>
                            <a:lnTo>
                              <a:pt x="81" y="39"/>
                            </a:lnTo>
                            <a:lnTo>
                              <a:pt x="75" y="28"/>
                            </a:lnTo>
                            <a:lnTo>
                              <a:pt x="65" y="18"/>
                            </a:lnTo>
                            <a:lnTo>
                              <a:pt x="53" y="11"/>
                            </a:lnTo>
                            <a:lnTo>
                              <a:pt x="41" y="4"/>
                            </a:lnTo>
                            <a:lnTo>
                              <a:pt x="27" y="1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1"/>
                            </a:lnTo>
                            <a:lnTo>
                              <a:pt x="15" y="1"/>
                            </a:lnTo>
                            <a:lnTo>
                              <a:pt x="15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1" name=""/>
                      <p:cNvSpPr/>
                      <p:nvPr/>
                    </p:nvSpPr>
                    <p:spPr>
                      <a:xfrm>
                        <a:off x="6883920" y="413316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100">
                            <a:moveTo>
                              <a:pt x="12" y="100"/>
                            </a:moveTo>
                            <a:lnTo>
                              <a:pt x="9" y="91"/>
                            </a:lnTo>
                            <a:lnTo>
                              <a:pt x="7" y="84"/>
                            </a:lnTo>
                            <a:lnTo>
                              <a:pt x="5" y="75"/>
                            </a:lnTo>
                            <a:lnTo>
                              <a:pt x="3" y="66"/>
                            </a:lnTo>
                            <a:lnTo>
                              <a:pt x="3" y="57"/>
                            </a:lnTo>
                            <a:lnTo>
                              <a:pt x="6" y="47"/>
                            </a:lnTo>
                            <a:lnTo>
                              <a:pt x="9" y="38"/>
                            </a:lnTo>
                            <a:lnTo>
                              <a:pt x="13" y="29"/>
                            </a:lnTo>
                            <a:lnTo>
                              <a:pt x="21" y="19"/>
                            </a:lnTo>
                            <a:lnTo>
                              <a:pt x="31" y="12"/>
                            </a:lnTo>
                            <a:lnTo>
                              <a:pt x="42" y="9"/>
                            </a:lnTo>
                            <a:lnTo>
                              <a:pt x="54" y="9"/>
                            </a:lnTo>
                            <a:lnTo>
                              <a:pt x="65" y="12"/>
                            </a:lnTo>
                            <a:lnTo>
                              <a:pt x="77" y="17"/>
                            </a:lnTo>
                            <a:lnTo>
                              <a:pt x="87" y="24"/>
                            </a:lnTo>
                            <a:lnTo>
                              <a:pt x="97" y="32"/>
                            </a:lnTo>
                            <a:lnTo>
                              <a:pt x="99" y="32"/>
                            </a:lnTo>
                            <a:lnTo>
                              <a:pt x="101" y="32"/>
                            </a:lnTo>
                            <a:lnTo>
                              <a:pt x="102" y="29"/>
                            </a:lnTo>
                            <a:lnTo>
                              <a:pt x="102" y="28"/>
                            </a:lnTo>
                            <a:lnTo>
                              <a:pt x="95" y="19"/>
                            </a:lnTo>
                            <a:lnTo>
                              <a:pt x="85" y="11"/>
                            </a:lnTo>
                            <a:lnTo>
                              <a:pt x="74" y="6"/>
                            </a:lnTo>
                            <a:lnTo>
                              <a:pt x="63" y="1"/>
                            </a:lnTo>
                            <a:lnTo>
                              <a:pt x="52" y="0"/>
                            </a:lnTo>
                            <a:lnTo>
                              <a:pt x="41" y="2"/>
                            </a:lnTo>
                            <a:lnTo>
                              <a:pt x="30" y="7"/>
                            </a:lnTo>
                            <a:lnTo>
                              <a:pt x="20" y="14"/>
                            </a:lnTo>
                            <a:lnTo>
                              <a:pt x="13" y="22"/>
                            </a:lnTo>
                            <a:lnTo>
                              <a:pt x="9" y="29"/>
                            </a:lnTo>
                            <a:lnTo>
                              <a:pt x="6" y="38"/>
                            </a:lnTo>
                            <a:lnTo>
                              <a:pt x="3" y="47"/>
                            </a:lnTo>
                            <a:lnTo>
                              <a:pt x="0" y="61"/>
                            </a:lnTo>
                            <a:lnTo>
                              <a:pt x="3" y="74"/>
                            </a:lnTo>
                            <a:lnTo>
                              <a:pt x="7" y="87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2" y="100"/>
                            </a:lnTo>
                            <a:lnTo>
                              <a:pt x="12" y="100"/>
                            </a:lnTo>
                            <a:lnTo>
                              <a:pt x="12" y="100"/>
                            </a:lnTo>
                            <a:lnTo>
                              <a:pt x="12" y="10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2" name=""/>
                      <p:cNvSpPr/>
                      <p:nvPr/>
                    </p:nvSpPr>
                    <p:spPr>
                      <a:xfrm>
                        <a:off x="6916680" y="4140360"/>
                        <a:ext cx="1800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" h="103">
                            <a:moveTo>
                              <a:pt x="15" y="1"/>
                            </a:moveTo>
                            <a:lnTo>
                              <a:pt x="25" y="4"/>
                            </a:lnTo>
                            <a:lnTo>
                              <a:pt x="34" y="7"/>
                            </a:lnTo>
                            <a:lnTo>
                              <a:pt x="42" y="12"/>
                            </a:lnTo>
                            <a:lnTo>
                              <a:pt x="49" y="19"/>
                            </a:lnTo>
                            <a:lnTo>
                              <a:pt x="54" y="26"/>
                            </a:lnTo>
                            <a:lnTo>
                              <a:pt x="57" y="35"/>
                            </a:lnTo>
                            <a:lnTo>
                              <a:pt x="57" y="45"/>
                            </a:lnTo>
                            <a:lnTo>
                              <a:pt x="53" y="55"/>
                            </a:lnTo>
                            <a:lnTo>
                              <a:pt x="50" y="60"/>
                            </a:lnTo>
                            <a:lnTo>
                              <a:pt x="46" y="65"/>
                            </a:lnTo>
                            <a:lnTo>
                              <a:pt x="40" y="70"/>
                            </a:lnTo>
                            <a:lnTo>
                              <a:pt x="35" y="72"/>
                            </a:lnTo>
                            <a:lnTo>
                              <a:pt x="29" y="74"/>
                            </a:lnTo>
                            <a:lnTo>
                              <a:pt x="23" y="75"/>
                            </a:lnTo>
                            <a:lnTo>
                              <a:pt x="16" y="75"/>
                            </a:lnTo>
                            <a:lnTo>
                              <a:pt x="10" y="74"/>
                            </a:lnTo>
                            <a:lnTo>
                              <a:pt x="7" y="74"/>
                            </a:lnTo>
                            <a:lnTo>
                              <a:pt x="3" y="77"/>
                            </a:lnTo>
                            <a:lnTo>
                              <a:pt x="0" y="81"/>
                            </a:lnTo>
                            <a:lnTo>
                              <a:pt x="0" y="84"/>
                            </a:lnTo>
                            <a:lnTo>
                              <a:pt x="9" y="96"/>
                            </a:lnTo>
                            <a:lnTo>
                              <a:pt x="20" y="101"/>
                            </a:lnTo>
                            <a:lnTo>
                              <a:pt x="31" y="103"/>
                            </a:lnTo>
                            <a:lnTo>
                              <a:pt x="44" y="100"/>
                            </a:lnTo>
                            <a:lnTo>
                              <a:pt x="54" y="95"/>
                            </a:lnTo>
                            <a:lnTo>
                              <a:pt x="65" y="87"/>
                            </a:lnTo>
                            <a:lnTo>
                              <a:pt x="74" y="76"/>
                            </a:lnTo>
                            <a:lnTo>
                              <a:pt x="80" y="65"/>
                            </a:lnTo>
                            <a:lnTo>
                              <a:pt x="84" y="51"/>
                            </a:lnTo>
                            <a:lnTo>
                              <a:pt x="81" y="39"/>
                            </a:lnTo>
                            <a:lnTo>
                              <a:pt x="76" y="28"/>
                            </a:lnTo>
                            <a:lnTo>
                              <a:pt x="66" y="19"/>
                            </a:lnTo>
                            <a:lnTo>
                              <a:pt x="54" y="11"/>
                            </a:lnTo>
                            <a:lnTo>
                              <a:pt x="41" y="5"/>
                            </a:lnTo>
                            <a:lnTo>
                              <a:pt x="28" y="1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1"/>
                            </a:lnTo>
                            <a:lnTo>
                              <a:pt x="15" y="1"/>
                            </a:lnTo>
                            <a:lnTo>
                              <a:pt x="15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3" name=""/>
                      <p:cNvSpPr/>
                      <p:nvPr/>
                    </p:nvSpPr>
                    <p:spPr>
                      <a:xfrm>
                        <a:off x="6912720" y="413820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00">
                            <a:moveTo>
                              <a:pt x="11" y="100"/>
                            </a:moveTo>
                            <a:lnTo>
                              <a:pt x="9" y="91"/>
                            </a:lnTo>
                            <a:lnTo>
                              <a:pt x="6" y="84"/>
                            </a:lnTo>
                            <a:lnTo>
                              <a:pt x="4" y="75"/>
                            </a:lnTo>
                            <a:lnTo>
                              <a:pt x="3" y="67"/>
                            </a:lnTo>
                            <a:lnTo>
                              <a:pt x="3" y="57"/>
                            </a:lnTo>
                            <a:lnTo>
                              <a:pt x="5" y="47"/>
                            </a:lnTo>
                            <a:lnTo>
                              <a:pt x="9" y="38"/>
                            </a:lnTo>
                            <a:lnTo>
                              <a:pt x="13" y="30"/>
                            </a:lnTo>
                            <a:lnTo>
                              <a:pt x="21" y="19"/>
                            </a:lnTo>
                            <a:lnTo>
                              <a:pt x="31" y="12"/>
                            </a:lnTo>
                            <a:lnTo>
                              <a:pt x="42" y="9"/>
                            </a:lnTo>
                            <a:lnTo>
                              <a:pt x="54" y="9"/>
                            </a:lnTo>
                            <a:lnTo>
                              <a:pt x="64" y="12"/>
                            </a:lnTo>
                            <a:lnTo>
                              <a:pt x="76" y="18"/>
                            </a:lnTo>
                            <a:lnTo>
                              <a:pt x="87" y="24"/>
                            </a:lnTo>
                            <a:lnTo>
                              <a:pt x="96" y="32"/>
                            </a:lnTo>
                            <a:lnTo>
                              <a:pt x="98" y="32"/>
                            </a:lnTo>
                            <a:lnTo>
                              <a:pt x="100" y="32"/>
                            </a:lnTo>
                            <a:lnTo>
                              <a:pt x="101" y="30"/>
                            </a:lnTo>
                            <a:lnTo>
                              <a:pt x="101" y="29"/>
                            </a:lnTo>
                            <a:lnTo>
                              <a:pt x="94" y="19"/>
                            </a:lnTo>
                            <a:lnTo>
                              <a:pt x="84" y="11"/>
                            </a:lnTo>
                            <a:lnTo>
                              <a:pt x="74" y="6"/>
                            </a:lnTo>
                            <a:lnTo>
                              <a:pt x="63" y="1"/>
                            </a:lnTo>
                            <a:lnTo>
                              <a:pt x="53" y="0"/>
                            </a:lnTo>
                            <a:lnTo>
                              <a:pt x="41" y="2"/>
                            </a:lnTo>
                            <a:lnTo>
                              <a:pt x="30" y="7"/>
                            </a:lnTo>
                            <a:lnTo>
                              <a:pt x="19" y="14"/>
                            </a:lnTo>
                            <a:lnTo>
                              <a:pt x="12" y="21"/>
                            </a:lnTo>
                            <a:lnTo>
                              <a:pt x="8" y="29"/>
                            </a:lnTo>
                            <a:lnTo>
                              <a:pt x="5" y="37"/>
                            </a:lnTo>
                            <a:lnTo>
                              <a:pt x="2" y="47"/>
                            </a:lnTo>
                            <a:lnTo>
                              <a:pt x="0" y="61"/>
                            </a:lnTo>
                            <a:lnTo>
                              <a:pt x="2" y="74"/>
                            </a:lnTo>
                            <a:lnTo>
                              <a:pt x="6" y="87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4" name=""/>
                      <p:cNvSpPr/>
                      <p:nvPr/>
                    </p:nvSpPr>
                    <p:spPr>
                      <a:xfrm>
                        <a:off x="6976440" y="4149000"/>
                        <a:ext cx="183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" h="103">
                            <a:moveTo>
                              <a:pt x="14" y="1"/>
                            </a:moveTo>
                            <a:lnTo>
                              <a:pt x="24" y="3"/>
                            </a:lnTo>
                            <a:lnTo>
                              <a:pt x="33" y="7"/>
                            </a:lnTo>
                            <a:lnTo>
                              <a:pt x="41" y="12"/>
                            </a:lnTo>
                            <a:lnTo>
                              <a:pt x="48" y="18"/>
                            </a:lnTo>
                            <a:lnTo>
                              <a:pt x="53" y="26"/>
                            </a:lnTo>
                            <a:lnTo>
                              <a:pt x="55" y="35"/>
                            </a:lnTo>
                            <a:lnTo>
                              <a:pt x="55" y="44"/>
                            </a:lnTo>
                            <a:lnTo>
                              <a:pt x="52" y="55"/>
                            </a:lnTo>
                            <a:lnTo>
                              <a:pt x="49" y="61"/>
                            </a:lnTo>
                            <a:lnTo>
                              <a:pt x="45" y="65"/>
                            </a:lnTo>
                            <a:lnTo>
                              <a:pt x="40" y="69"/>
                            </a:lnTo>
                            <a:lnTo>
                              <a:pt x="35" y="72"/>
                            </a:lnTo>
                            <a:lnTo>
                              <a:pt x="29" y="74"/>
                            </a:lnTo>
                            <a:lnTo>
                              <a:pt x="23" y="75"/>
                            </a:lnTo>
                            <a:lnTo>
                              <a:pt x="16" y="75"/>
                            </a:lnTo>
                            <a:lnTo>
                              <a:pt x="10" y="74"/>
                            </a:lnTo>
                            <a:lnTo>
                              <a:pt x="7" y="74"/>
                            </a:lnTo>
                            <a:lnTo>
                              <a:pt x="2" y="77"/>
                            </a:lnTo>
                            <a:lnTo>
                              <a:pt x="0" y="80"/>
                            </a:lnTo>
                            <a:lnTo>
                              <a:pt x="0" y="84"/>
                            </a:lnTo>
                            <a:lnTo>
                              <a:pt x="9" y="95"/>
                            </a:lnTo>
                            <a:lnTo>
                              <a:pt x="19" y="101"/>
                            </a:lnTo>
                            <a:lnTo>
                              <a:pt x="31" y="103"/>
                            </a:lnTo>
                            <a:lnTo>
                              <a:pt x="42" y="100"/>
                            </a:lnTo>
                            <a:lnTo>
                              <a:pt x="54" y="94"/>
                            </a:lnTo>
                            <a:lnTo>
                              <a:pt x="65" y="87"/>
                            </a:lnTo>
                            <a:lnTo>
                              <a:pt x="74" y="76"/>
                            </a:lnTo>
                            <a:lnTo>
                              <a:pt x="80" y="65"/>
                            </a:lnTo>
                            <a:lnTo>
                              <a:pt x="84" y="51"/>
                            </a:lnTo>
                            <a:lnTo>
                              <a:pt x="81" y="39"/>
                            </a:lnTo>
                            <a:lnTo>
                              <a:pt x="75" y="28"/>
                            </a:lnTo>
                            <a:lnTo>
                              <a:pt x="65" y="18"/>
                            </a:lnTo>
                            <a:lnTo>
                              <a:pt x="53" y="11"/>
                            </a:lnTo>
                            <a:lnTo>
                              <a:pt x="41" y="4"/>
                            </a:lnTo>
                            <a:lnTo>
                              <a:pt x="27" y="1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4" y="1"/>
                            </a:lnTo>
                            <a:lnTo>
                              <a:pt x="14" y="1"/>
                            </a:lnTo>
                            <a:lnTo>
                              <a:pt x="14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" name=""/>
                      <p:cNvSpPr/>
                      <p:nvPr/>
                    </p:nvSpPr>
                    <p:spPr>
                      <a:xfrm>
                        <a:off x="6971400" y="414684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00">
                            <a:moveTo>
                              <a:pt x="12" y="100"/>
                            </a:moveTo>
                            <a:lnTo>
                              <a:pt x="9" y="91"/>
                            </a:lnTo>
                            <a:lnTo>
                              <a:pt x="7" y="84"/>
                            </a:lnTo>
                            <a:lnTo>
                              <a:pt x="5" y="75"/>
                            </a:lnTo>
                            <a:lnTo>
                              <a:pt x="3" y="66"/>
                            </a:lnTo>
                            <a:lnTo>
                              <a:pt x="3" y="56"/>
                            </a:lnTo>
                            <a:lnTo>
                              <a:pt x="6" y="47"/>
                            </a:lnTo>
                            <a:lnTo>
                              <a:pt x="9" y="38"/>
                            </a:lnTo>
                            <a:lnTo>
                              <a:pt x="13" y="29"/>
                            </a:lnTo>
                            <a:lnTo>
                              <a:pt x="21" y="19"/>
                            </a:lnTo>
                            <a:lnTo>
                              <a:pt x="31" y="12"/>
                            </a:lnTo>
                            <a:lnTo>
                              <a:pt x="42" y="9"/>
                            </a:lnTo>
                            <a:lnTo>
                              <a:pt x="54" y="9"/>
                            </a:lnTo>
                            <a:lnTo>
                              <a:pt x="65" y="12"/>
                            </a:lnTo>
                            <a:lnTo>
                              <a:pt x="77" y="17"/>
                            </a:lnTo>
                            <a:lnTo>
                              <a:pt x="87" y="24"/>
                            </a:lnTo>
                            <a:lnTo>
                              <a:pt x="97" y="32"/>
                            </a:lnTo>
                            <a:lnTo>
                              <a:pt x="98" y="33"/>
                            </a:lnTo>
                            <a:lnTo>
                              <a:pt x="100" y="32"/>
                            </a:lnTo>
                            <a:lnTo>
                              <a:pt x="101" y="30"/>
                            </a:lnTo>
                            <a:lnTo>
                              <a:pt x="101" y="28"/>
                            </a:lnTo>
                            <a:lnTo>
                              <a:pt x="94" y="19"/>
                            </a:lnTo>
                            <a:lnTo>
                              <a:pt x="84" y="11"/>
                            </a:lnTo>
                            <a:lnTo>
                              <a:pt x="74" y="5"/>
                            </a:lnTo>
                            <a:lnTo>
                              <a:pt x="63" y="1"/>
                            </a:lnTo>
                            <a:lnTo>
                              <a:pt x="52" y="0"/>
                            </a:lnTo>
                            <a:lnTo>
                              <a:pt x="41" y="2"/>
                            </a:lnTo>
                            <a:lnTo>
                              <a:pt x="30" y="7"/>
                            </a:lnTo>
                            <a:lnTo>
                              <a:pt x="20" y="14"/>
                            </a:lnTo>
                            <a:lnTo>
                              <a:pt x="13" y="22"/>
                            </a:lnTo>
                            <a:lnTo>
                              <a:pt x="9" y="29"/>
                            </a:lnTo>
                            <a:lnTo>
                              <a:pt x="6" y="38"/>
                            </a:lnTo>
                            <a:lnTo>
                              <a:pt x="3" y="47"/>
                            </a:lnTo>
                            <a:lnTo>
                              <a:pt x="0" y="61"/>
                            </a:lnTo>
                            <a:lnTo>
                              <a:pt x="3" y="74"/>
                            </a:lnTo>
                            <a:lnTo>
                              <a:pt x="7" y="87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2" y="100"/>
                            </a:lnTo>
                            <a:lnTo>
                              <a:pt x="12" y="100"/>
                            </a:lnTo>
                            <a:lnTo>
                              <a:pt x="12" y="100"/>
                            </a:lnTo>
                            <a:lnTo>
                              <a:pt x="12" y="10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" name=""/>
                      <p:cNvSpPr/>
                      <p:nvPr/>
                    </p:nvSpPr>
                    <p:spPr>
                      <a:xfrm>
                        <a:off x="7004160" y="4151880"/>
                        <a:ext cx="183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" h="102">
                            <a:moveTo>
                              <a:pt x="15" y="0"/>
                            </a:moveTo>
                            <a:lnTo>
                              <a:pt x="25" y="3"/>
                            </a:lnTo>
                            <a:lnTo>
                              <a:pt x="34" y="6"/>
                            </a:lnTo>
                            <a:lnTo>
                              <a:pt x="41" y="11"/>
                            </a:lnTo>
                            <a:lnTo>
                              <a:pt x="49" y="18"/>
                            </a:lnTo>
                            <a:lnTo>
                              <a:pt x="53" y="26"/>
                            </a:lnTo>
                            <a:lnTo>
                              <a:pt x="57" y="35"/>
                            </a:lnTo>
                            <a:lnTo>
                              <a:pt x="57" y="45"/>
                            </a:lnTo>
                            <a:lnTo>
                              <a:pt x="53" y="55"/>
                            </a:lnTo>
                            <a:lnTo>
                              <a:pt x="50" y="60"/>
                            </a:lnTo>
                            <a:lnTo>
                              <a:pt x="46" y="65"/>
                            </a:lnTo>
                            <a:lnTo>
                              <a:pt x="40" y="69"/>
                            </a:lnTo>
                            <a:lnTo>
                              <a:pt x="35" y="72"/>
                            </a:lnTo>
                            <a:lnTo>
                              <a:pt x="29" y="73"/>
                            </a:lnTo>
                            <a:lnTo>
                              <a:pt x="23" y="74"/>
                            </a:lnTo>
                            <a:lnTo>
                              <a:pt x="16" y="74"/>
                            </a:lnTo>
                            <a:lnTo>
                              <a:pt x="10" y="73"/>
                            </a:lnTo>
                            <a:lnTo>
                              <a:pt x="7" y="73"/>
                            </a:lnTo>
                            <a:lnTo>
                              <a:pt x="3" y="76"/>
                            </a:lnTo>
                            <a:lnTo>
                              <a:pt x="0" y="80"/>
                            </a:lnTo>
                            <a:lnTo>
                              <a:pt x="0" y="83"/>
                            </a:lnTo>
                            <a:lnTo>
                              <a:pt x="9" y="95"/>
                            </a:lnTo>
                            <a:lnTo>
                              <a:pt x="19" y="100"/>
                            </a:lnTo>
                            <a:lnTo>
                              <a:pt x="31" y="102"/>
                            </a:lnTo>
                            <a:lnTo>
                              <a:pt x="42" y="100"/>
                            </a:lnTo>
                            <a:lnTo>
                              <a:pt x="54" y="95"/>
                            </a:lnTo>
                            <a:lnTo>
                              <a:pt x="65" y="86"/>
                            </a:lnTo>
                            <a:lnTo>
                              <a:pt x="74" y="76"/>
                            </a:lnTo>
                            <a:lnTo>
                              <a:pt x="80" y="65"/>
                            </a:lnTo>
                            <a:lnTo>
                              <a:pt x="84" y="51"/>
                            </a:lnTo>
                            <a:lnTo>
                              <a:pt x="81" y="38"/>
                            </a:lnTo>
                            <a:lnTo>
                              <a:pt x="75" y="27"/>
                            </a:lnTo>
                            <a:lnTo>
                              <a:pt x="66" y="18"/>
                            </a:lnTo>
                            <a:lnTo>
                              <a:pt x="54" y="10"/>
                            </a:lnTo>
                            <a:lnTo>
                              <a:pt x="41" y="5"/>
                            </a:lnTo>
                            <a:lnTo>
                              <a:pt x="28" y="1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7" name=""/>
                      <p:cNvSpPr/>
                      <p:nvPr/>
                    </p:nvSpPr>
                    <p:spPr>
                      <a:xfrm>
                        <a:off x="7000200" y="414972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00">
                            <a:moveTo>
                              <a:pt x="11" y="100"/>
                            </a:moveTo>
                            <a:lnTo>
                              <a:pt x="9" y="92"/>
                            </a:lnTo>
                            <a:lnTo>
                              <a:pt x="6" y="83"/>
                            </a:lnTo>
                            <a:lnTo>
                              <a:pt x="4" y="75"/>
                            </a:lnTo>
                            <a:lnTo>
                              <a:pt x="3" y="67"/>
                            </a:lnTo>
                            <a:lnTo>
                              <a:pt x="3" y="57"/>
                            </a:lnTo>
                            <a:lnTo>
                              <a:pt x="5" y="47"/>
                            </a:lnTo>
                            <a:lnTo>
                              <a:pt x="9" y="38"/>
                            </a:lnTo>
                            <a:lnTo>
                              <a:pt x="14" y="30"/>
                            </a:lnTo>
                            <a:lnTo>
                              <a:pt x="21" y="19"/>
                            </a:lnTo>
                            <a:lnTo>
                              <a:pt x="31" y="11"/>
                            </a:lnTo>
                            <a:lnTo>
                              <a:pt x="42" y="8"/>
                            </a:lnTo>
                            <a:lnTo>
                              <a:pt x="53" y="9"/>
                            </a:lnTo>
                            <a:lnTo>
                              <a:pt x="64" y="12"/>
                            </a:lnTo>
                            <a:lnTo>
                              <a:pt x="76" y="17"/>
                            </a:lnTo>
                            <a:lnTo>
                              <a:pt x="86" y="24"/>
                            </a:lnTo>
                            <a:lnTo>
                              <a:pt x="96" y="32"/>
                            </a:lnTo>
                            <a:lnTo>
                              <a:pt x="98" y="32"/>
                            </a:lnTo>
                            <a:lnTo>
                              <a:pt x="100" y="31"/>
                            </a:lnTo>
                            <a:lnTo>
                              <a:pt x="101" y="30"/>
                            </a:lnTo>
                            <a:lnTo>
                              <a:pt x="101" y="29"/>
                            </a:lnTo>
                            <a:lnTo>
                              <a:pt x="94" y="19"/>
                            </a:lnTo>
                            <a:lnTo>
                              <a:pt x="84" y="11"/>
                            </a:lnTo>
                            <a:lnTo>
                              <a:pt x="73" y="6"/>
                            </a:lnTo>
                            <a:lnTo>
                              <a:pt x="62" y="2"/>
                            </a:lnTo>
                            <a:lnTo>
                              <a:pt x="51" y="0"/>
                            </a:lnTo>
                            <a:lnTo>
                              <a:pt x="40" y="2"/>
                            </a:lnTo>
                            <a:lnTo>
                              <a:pt x="29" y="6"/>
                            </a:lnTo>
                            <a:lnTo>
                              <a:pt x="19" y="13"/>
                            </a:lnTo>
                            <a:lnTo>
                              <a:pt x="12" y="21"/>
                            </a:lnTo>
                            <a:lnTo>
                              <a:pt x="8" y="29"/>
                            </a:lnTo>
                            <a:lnTo>
                              <a:pt x="5" y="37"/>
                            </a:lnTo>
                            <a:lnTo>
                              <a:pt x="2" y="47"/>
                            </a:lnTo>
                            <a:lnTo>
                              <a:pt x="0" y="61"/>
                            </a:lnTo>
                            <a:lnTo>
                              <a:pt x="2" y="74"/>
                            </a:lnTo>
                            <a:lnTo>
                              <a:pt x="6" y="87"/>
                            </a:lnTo>
                            <a:lnTo>
                              <a:pt x="10" y="100"/>
                            </a:lnTo>
                            <a:lnTo>
                              <a:pt x="10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8" name=""/>
                      <p:cNvSpPr/>
                      <p:nvPr/>
                    </p:nvSpPr>
                    <p:spPr>
                      <a:xfrm>
                        <a:off x="6851160" y="4120200"/>
                        <a:ext cx="2196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95">
                            <a:moveTo>
                              <a:pt x="0" y="1"/>
                            </a:moveTo>
                            <a:lnTo>
                              <a:pt x="14" y="3"/>
                            </a:lnTo>
                            <a:lnTo>
                              <a:pt x="30" y="8"/>
                            </a:lnTo>
                            <a:lnTo>
                              <a:pt x="47" y="13"/>
                            </a:lnTo>
                            <a:lnTo>
                              <a:pt x="63" y="22"/>
                            </a:lnTo>
                            <a:lnTo>
                              <a:pt x="76" y="32"/>
                            </a:lnTo>
                            <a:lnTo>
                              <a:pt x="84" y="45"/>
                            </a:lnTo>
                            <a:lnTo>
                              <a:pt x="88" y="59"/>
                            </a:lnTo>
                            <a:lnTo>
                              <a:pt x="83" y="75"/>
                            </a:lnTo>
                            <a:lnTo>
                              <a:pt x="77" y="89"/>
                            </a:lnTo>
                            <a:lnTo>
                              <a:pt x="70" y="103"/>
                            </a:lnTo>
                            <a:lnTo>
                              <a:pt x="64" y="118"/>
                            </a:lnTo>
                            <a:lnTo>
                              <a:pt x="59" y="135"/>
                            </a:lnTo>
                            <a:lnTo>
                              <a:pt x="57" y="150"/>
                            </a:lnTo>
                            <a:lnTo>
                              <a:pt x="58" y="165"/>
                            </a:lnTo>
                            <a:lnTo>
                              <a:pt x="63" y="180"/>
                            </a:lnTo>
                            <a:lnTo>
                              <a:pt x="72" y="193"/>
                            </a:lnTo>
                            <a:lnTo>
                              <a:pt x="78" y="195"/>
                            </a:lnTo>
                            <a:lnTo>
                              <a:pt x="82" y="192"/>
                            </a:lnTo>
                            <a:lnTo>
                              <a:pt x="85" y="186"/>
                            </a:lnTo>
                            <a:lnTo>
                              <a:pt x="86" y="180"/>
                            </a:lnTo>
                            <a:lnTo>
                              <a:pt x="85" y="156"/>
                            </a:lnTo>
                            <a:lnTo>
                              <a:pt x="86" y="134"/>
                            </a:lnTo>
                            <a:lnTo>
                              <a:pt x="91" y="111"/>
                            </a:lnTo>
                            <a:lnTo>
                              <a:pt x="97" y="89"/>
                            </a:lnTo>
                            <a:lnTo>
                              <a:pt x="102" y="77"/>
                            </a:lnTo>
                            <a:lnTo>
                              <a:pt x="104" y="62"/>
                            </a:lnTo>
                            <a:lnTo>
                              <a:pt x="104" y="48"/>
                            </a:lnTo>
                            <a:lnTo>
                              <a:pt x="99" y="36"/>
                            </a:lnTo>
                            <a:lnTo>
                              <a:pt x="91" y="26"/>
                            </a:lnTo>
                            <a:lnTo>
                              <a:pt x="80" y="17"/>
                            </a:lnTo>
                            <a:lnTo>
                              <a:pt x="68" y="11"/>
                            </a:lnTo>
                            <a:lnTo>
                              <a:pt x="55" y="7"/>
                            </a:lnTo>
                            <a:lnTo>
                              <a:pt x="41" y="3"/>
                            </a:lnTo>
                            <a:lnTo>
                              <a:pt x="27" y="1"/>
                            </a:lnTo>
                            <a:lnTo>
                              <a:pt x="13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9" name=""/>
                      <p:cNvSpPr/>
                      <p:nvPr/>
                    </p:nvSpPr>
                    <p:spPr>
                      <a:xfrm>
                        <a:off x="6847560" y="4147920"/>
                        <a:ext cx="2052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44">
                            <a:moveTo>
                              <a:pt x="0" y="1"/>
                            </a:moveTo>
                            <a:lnTo>
                              <a:pt x="6" y="12"/>
                            </a:lnTo>
                            <a:lnTo>
                              <a:pt x="12" y="21"/>
                            </a:lnTo>
                            <a:lnTo>
                              <a:pt x="20" y="29"/>
                            </a:lnTo>
                            <a:lnTo>
                              <a:pt x="31" y="35"/>
                            </a:lnTo>
                            <a:lnTo>
                              <a:pt x="36" y="37"/>
                            </a:lnTo>
                            <a:lnTo>
                              <a:pt x="43" y="39"/>
                            </a:lnTo>
                            <a:lnTo>
                              <a:pt x="49" y="42"/>
                            </a:lnTo>
                            <a:lnTo>
                              <a:pt x="56" y="43"/>
                            </a:lnTo>
                            <a:lnTo>
                              <a:pt x="62" y="44"/>
                            </a:lnTo>
                            <a:lnTo>
                              <a:pt x="70" y="44"/>
                            </a:lnTo>
                            <a:lnTo>
                              <a:pt x="75" y="43"/>
                            </a:lnTo>
                            <a:lnTo>
                              <a:pt x="82" y="40"/>
                            </a:lnTo>
                            <a:lnTo>
                              <a:pt x="87" y="36"/>
                            </a:lnTo>
                            <a:lnTo>
                              <a:pt x="93" y="31"/>
                            </a:lnTo>
                            <a:lnTo>
                              <a:pt x="96" y="24"/>
                            </a:lnTo>
                            <a:lnTo>
                              <a:pt x="93" y="18"/>
                            </a:lnTo>
                            <a:lnTo>
                              <a:pt x="87" y="16"/>
                            </a:lnTo>
                            <a:lnTo>
                              <a:pt x="83" y="14"/>
                            </a:lnTo>
                            <a:lnTo>
                              <a:pt x="76" y="14"/>
                            </a:lnTo>
                            <a:lnTo>
                              <a:pt x="71" y="14"/>
                            </a:lnTo>
                            <a:lnTo>
                              <a:pt x="65" y="16"/>
                            </a:lnTo>
                            <a:lnTo>
                              <a:pt x="60" y="17"/>
                            </a:lnTo>
                            <a:lnTo>
                              <a:pt x="55" y="17"/>
                            </a:lnTo>
                            <a:lnTo>
                              <a:pt x="49" y="18"/>
                            </a:lnTo>
                            <a:lnTo>
                              <a:pt x="43" y="18"/>
                            </a:lnTo>
                            <a:lnTo>
                              <a:pt x="36" y="17"/>
                            </a:lnTo>
                            <a:lnTo>
                              <a:pt x="30" y="16"/>
                            </a:lnTo>
                            <a:lnTo>
                              <a:pt x="23" y="13"/>
                            </a:lnTo>
                            <a:lnTo>
                              <a:pt x="18" y="11"/>
                            </a:lnTo>
                            <a:lnTo>
                              <a:pt x="12" y="9"/>
                            </a:lnTo>
                            <a:lnTo>
                              <a:pt x="7" y="5"/>
                            </a:ln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0" name=""/>
                      <p:cNvSpPr/>
                      <p:nvPr/>
                    </p:nvSpPr>
                    <p:spPr>
                      <a:xfrm>
                        <a:off x="7121520" y="3947400"/>
                        <a:ext cx="6480" cy="46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260">
                            <a:moveTo>
                              <a:pt x="12" y="130"/>
                            </a:moveTo>
                            <a:lnTo>
                              <a:pt x="18" y="162"/>
                            </a:lnTo>
                            <a:lnTo>
                              <a:pt x="24" y="195"/>
                            </a:lnTo>
                            <a:lnTo>
                              <a:pt x="29" y="228"/>
                            </a:lnTo>
                            <a:lnTo>
                              <a:pt x="28" y="259"/>
                            </a:lnTo>
                            <a:lnTo>
                              <a:pt x="28" y="260"/>
                            </a:lnTo>
                            <a:lnTo>
                              <a:pt x="29" y="260"/>
                            </a:lnTo>
                            <a:lnTo>
                              <a:pt x="30" y="259"/>
                            </a:lnTo>
                            <a:lnTo>
                              <a:pt x="31" y="258"/>
                            </a:lnTo>
                            <a:lnTo>
                              <a:pt x="33" y="230"/>
                            </a:lnTo>
                            <a:lnTo>
                              <a:pt x="30" y="201"/>
                            </a:lnTo>
                            <a:lnTo>
                              <a:pt x="23" y="171"/>
                            </a:lnTo>
                            <a:lnTo>
                              <a:pt x="18" y="143"/>
                            </a:lnTo>
                            <a:lnTo>
                              <a:pt x="12" y="101"/>
                            </a:lnTo>
                            <a:lnTo>
                              <a:pt x="7" y="53"/>
                            </a:lnTo>
                            <a:lnTo>
                              <a:pt x="3" y="15"/>
                            </a:lnTo>
                            <a:lnTo>
                              <a:pt x="0" y="0"/>
                            </a:lnTo>
                            <a:lnTo>
                              <a:pt x="2" y="14"/>
                            </a:lnTo>
                            <a:lnTo>
                              <a:pt x="5" y="49"/>
                            </a:lnTo>
                            <a:lnTo>
                              <a:pt x="8" y="91"/>
                            </a:lnTo>
                            <a:lnTo>
                              <a:pt x="12" y="13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" name=""/>
                      <p:cNvSpPr/>
                      <p:nvPr/>
                    </p:nvSpPr>
                    <p:spPr>
                      <a:xfrm>
                        <a:off x="7117920" y="3967560"/>
                        <a:ext cx="7560" cy="3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70">
                            <a:moveTo>
                              <a:pt x="32" y="169"/>
                            </a:moveTo>
                            <a:lnTo>
                              <a:pt x="33" y="170"/>
                            </a:lnTo>
                            <a:lnTo>
                              <a:pt x="34" y="170"/>
                            </a:lnTo>
                            <a:lnTo>
                              <a:pt x="36" y="169"/>
                            </a:lnTo>
                            <a:lnTo>
                              <a:pt x="36" y="168"/>
                            </a:lnTo>
                            <a:lnTo>
                              <a:pt x="32" y="144"/>
                            </a:lnTo>
                            <a:lnTo>
                              <a:pt x="26" y="118"/>
                            </a:lnTo>
                            <a:lnTo>
                              <a:pt x="20" y="90"/>
                            </a:lnTo>
                            <a:lnTo>
                              <a:pt x="14" y="63"/>
                            </a:lnTo>
                            <a:lnTo>
                              <a:pt x="9" y="38"/>
                            </a:lnTo>
                            <a:lnTo>
                              <a:pt x="5" y="18"/>
                            </a:lnTo>
                            <a:lnTo>
                              <a:pt x="1" y="5"/>
                            </a:lnTo>
                            <a:lnTo>
                              <a:pt x="0" y="0"/>
                            </a:lnTo>
                            <a:lnTo>
                              <a:pt x="3" y="18"/>
                            </a:lnTo>
                            <a:lnTo>
                              <a:pt x="11" y="63"/>
                            </a:lnTo>
                            <a:lnTo>
                              <a:pt x="21" y="119"/>
                            </a:lnTo>
                            <a:lnTo>
                              <a:pt x="32" y="16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200" bIns="-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2" name=""/>
                      <p:cNvSpPr/>
                      <p:nvPr/>
                    </p:nvSpPr>
                    <p:spPr>
                      <a:xfrm>
                        <a:off x="6904800" y="4060800"/>
                        <a:ext cx="1368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8" h="88">
                            <a:moveTo>
                              <a:pt x="156" y="28"/>
                            </a:moveTo>
                            <a:lnTo>
                              <a:pt x="176" y="32"/>
                            </a:lnTo>
                            <a:lnTo>
                              <a:pt x="198" y="35"/>
                            </a:lnTo>
                            <a:lnTo>
                              <a:pt x="219" y="38"/>
                            </a:lnTo>
                            <a:lnTo>
                              <a:pt x="239" y="41"/>
                            </a:lnTo>
                            <a:lnTo>
                              <a:pt x="261" y="45"/>
                            </a:lnTo>
                            <a:lnTo>
                              <a:pt x="282" y="48"/>
                            </a:lnTo>
                            <a:lnTo>
                              <a:pt x="302" y="52"/>
                            </a:lnTo>
                            <a:lnTo>
                              <a:pt x="323" y="55"/>
                            </a:lnTo>
                            <a:lnTo>
                              <a:pt x="342" y="59"/>
                            </a:lnTo>
                            <a:lnTo>
                              <a:pt x="362" y="62"/>
                            </a:lnTo>
                            <a:lnTo>
                              <a:pt x="382" y="64"/>
                            </a:lnTo>
                            <a:lnTo>
                              <a:pt x="402" y="66"/>
                            </a:lnTo>
                            <a:lnTo>
                              <a:pt x="422" y="68"/>
                            </a:lnTo>
                            <a:lnTo>
                              <a:pt x="442" y="71"/>
                            </a:lnTo>
                            <a:lnTo>
                              <a:pt x="463" y="74"/>
                            </a:lnTo>
                            <a:lnTo>
                              <a:pt x="482" y="77"/>
                            </a:lnTo>
                            <a:lnTo>
                              <a:pt x="499" y="79"/>
                            </a:lnTo>
                            <a:lnTo>
                              <a:pt x="517" y="83"/>
                            </a:lnTo>
                            <a:lnTo>
                              <a:pt x="534" y="85"/>
                            </a:lnTo>
                            <a:lnTo>
                              <a:pt x="552" y="86"/>
                            </a:lnTo>
                            <a:lnTo>
                              <a:pt x="570" y="87"/>
                            </a:lnTo>
                            <a:lnTo>
                              <a:pt x="587" y="88"/>
                            </a:lnTo>
                            <a:lnTo>
                              <a:pt x="606" y="88"/>
                            </a:lnTo>
                            <a:lnTo>
                              <a:pt x="623" y="88"/>
                            </a:lnTo>
                            <a:lnTo>
                              <a:pt x="625" y="87"/>
                            </a:lnTo>
                            <a:lnTo>
                              <a:pt x="628" y="85"/>
                            </a:lnTo>
                            <a:lnTo>
                              <a:pt x="628" y="83"/>
                            </a:lnTo>
                            <a:lnTo>
                              <a:pt x="626" y="81"/>
                            </a:lnTo>
                            <a:lnTo>
                              <a:pt x="607" y="80"/>
                            </a:lnTo>
                            <a:lnTo>
                              <a:pt x="588" y="78"/>
                            </a:lnTo>
                            <a:lnTo>
                              <a:pt x="570" y="76"/>
                            </a:lnTo>
                            <a:lnTo>
                              <a:pt x="550" y="74"/>
                            </a:lnTo>
                            <a:lnTo>
                              <a:pt x="532" y="72"/>
                            </a:lnTo>
                            <a:lnTo>
                              <a:pt x="513" y="68"/>
                            </a:lnTo>
                            <a:lnTo>
                              <a:pt x="495" y="65"/>
                            </a:lnTo>
                            <a:lnTo>
                              <a:pt x="477" y="62"/>
                            </a:lnTo>
                            <a:lnTo>
                              <a:pt x="456" y="59"/>
                            </a:lnTo>
                            <a:lnTo>
                              <a:pt x="436" y="57"/>
                            </a:lnTo>
                            <a:lnTo>
                              <a:pt x="416" y="54"/>
                            </a:lnTo>
                            <a:lnTo>
                              <a:pt x="395" y="53"/>
                            </a:lnTo>
                            <a:lnTo>
                              <a:pt x="375" y="51"/>
                            </a:lnTo>
                            <a:lnTo>
                              <a:pt x="355" y="49"/>
                            </a:lnTo>
                            <a:lnTo>
                              <a:pt x="335" y="47"/>
                            </a:lnTo>
                            <a:lnTo>
                              <a:pt x="314" y="45"/>
                            </a:lnTo>
                            <a:lnTo>
                              <a:pt x="293" y="41"/>
                            </a:lnTo>
                            <a:lnTo>
                              <a:pt x="272" y="38"/>
                            </a:lnTo>
                            <a:lnTo>
                              <a:pt x="251" y="35"/>
                            </a:lnTo>
                            <a:lnTo>
                              <a:pt x="231" y="32"/>
                            </a:lnTo>
                            <a:lnTo>
                              <a:pt x="209" y="29"/>
                            </a:lnTo>
                            <a:lnTo>
                              <a:pt x="188" y="26"/>
                            </a:lnTo>
                            <a:lnTo>
                              <a:pt x="167" y="24"/>
                            </a:lnTo>
                            <a:lnTo>
                              <a:pt x="146" y="22"/>
                            </a:lnTo>
                            <a:lnTo>
                              <a:pt x="126" y="20"/>
                            </a:lnTo>
                            <a:lnTo>
                              <a:pt x="103" y="16"/>
                            </a:lnTo>
                            <a:lnTo>
                              <a:pt x="78" y="13"/>
                            </a:lnTo>
                            <a:lnTo>
                              <a:pt x="54" y="9"/>
                            </a:lnTo>
                            <a:lnTo>
                              <a:pt x="33" y="6"/>
                            </a:lnTo>
                            <a:lnTo>
                              <a:pt x="16" y="3"/>
                            </a:lnTo>
                            <a:lnTo>
                              <a:pt x="4" y="1"/>
                            </a:lnTo>
                            <a:lnTo>
                              <a:pt x="0" y="0"/>
                            </a:lnTo>
                            <a:lnTo>
                              <a:pt x="4" y="1"/>
                            </a:lnTo>
                            <a:lnTo>
                              <a:pt x="17" y="3"/>
                            </a:lnTo>
                            <a:lnTo>
                              <a:pt x="36" y="8"/>
                            </a:lnTo>
                            <a:lnTo>
                              <a:pt x="58" y="12"/>
                            </a:lnTo>
                            <a:lnTo>
                              <a:pt x="83" y="16"/>
                            </a:lnTo>
                            <a:lnTo>
                              <a:pt x="109" y="21"/>
                            </a:lnTo>
                            <a:lnTo>
                              <a:pt x="134" y="25"/>
                            </a:lnTo>
                            <a:lnTo>
                              <a:pt x="156" y="2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3" name=""/>
                      <p:cNvSpPr/>
                      <p:nvPr/>
                    </p:nvSpPr>
                    <p:spPr>
                      <a:xfrm>
                        <a:off x="6949440" y="4133880"/>
                        <a:ext cx="183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12">
                            <a:moveTo>
                              <a:pt x="0" y="16"/>
                            </a:moveTo>
                            <a:lnTo>
                              <a:pt x="10" y="10"/>
                            </a:lnTo>
                            <a:lnTo>
                              <a:pt x="21" y="7"/>
                            </a:lnTo>
                            <a:lnTo>
                              <a:pt x="32" y="7"/>
                            </a:lnTo>
                            <a:lnTo>
                              <a:pt x="42" y="10"/>
                            </a:lnTo>
                            <a:lnTo>
                              <a:pt x="50" y="14"/>
                            </a:lnTo>
                            <a:lnTo>
                              <a:pt x="58" y="21"/>
                            </a:lnTo>
                            <a:lnTo>
                              <a:pt x="63" y="29"/>
                            </a:lnTo>
                            <a:lnTo>
                              <a:pt x="65" y="38"/>
                            </a:lnTo>
                            <a:lnTo>
                              <a:pt x="64" y="51"/>
                            </a:lnTo>
                            <a:lnTo>
                              <a:pt x="59" y="61"/>
                            </a:lnTo>
                            <a:lnTo>
                              <a:pt x="50" y="70"/>
                            </a:lnTo>
                            <a:lnTo>
                              <a:pt x="39" y="76"/>
                            </a:lnTo>
                            <a:lnTo>
                              <a:pt x="32" y="82"/>
                            </a:lnTo>
                            <a:lnTo>
                              <a:pt x="24" y="90"/>
                            </a:lnTo>
                            <a:lnTo>
                              <a:pt x="19" y="99"/>
                            </a:lnTo>
                            <a:lnTo>
                              <a:pt x="20" y="109"/>
                            </a:lnTo>
                            <a:lnTo>
                              <a:pt x="21" y="111"/>
                            </a:lnTo>
                            <a:lnTo>
                              <a:pt x="23" y="111"/>
                            </a:lnTo>
                            <a:lnTo>
                              <a:pt x="25" y="112"/>
                            </a:lnTo>
                            <a:lnTo>
                              <a:pt x="28" y="111"/>
                            </a:lnTo>
                            <a:lnTo>
                              <a:pt x="41" y="107"/>
                            </a:lnTo>
                            <a:lnTo>
                              <a:pt x="55" y="98"/>
                            </a:lnTo>
                            <a:lnTo>
                              <a:pt x="67" y="87"/>
                            </a:lnTo>
                            <a:lnTo>
                              <a:pt x="77" y="74"/>
                            </a:lnTo>
                            <a:lnTo>
                              <a:pt x="84" y="60"/>
                            </a:lnTo>
                            <a:lnTo>
                              <a:pt x="86" y="46"/>
                            </a:lnTo>
                            <a:lnTo>
                              <a:pt x="84" y="32"/>
                            </a:lnTo>
                            <a:lnTo>
                              <a:pt x="74" y="19"/>
                            </a:lnTo>
                            <a:lnTo>
                              <a:pt x="67" y="12"/>
                            </a:lnTo>
                            <a:lnTo>
                              <a:pt x="57" y="8"/>
                            </a:lnTo>
                            <a:lnTo>
                              <a:pt x="46" y="3"/>
                            </a:lnTo>
                            <a:lnTo>
                              <a:pt x="35" y="0"/>
                            </a:lnTo>
                            <a:lnTo>
                              <a:pt x="24" y="0"/>
                            </a:lnTo>
                            <a:lnTo>
                              <a:pt x="15" y="2"/>
                            </a:lnTo>
                            <a:lnTo>
                              <a:pt x="6" y="8"/>
                            </a:lnTo>
                            <a:lnTo>
                              <a:pt x="0" y="16"/>
                            </a:lnTo>
                            <a:lnTo>
                              <a:pt x="0" y="18"/>
                            </a:lnTo>
                            <a:lnTo>
                              <a:pt x="0" y="18"/>
                            </a:lnTo>
                            <a:lnTo>
                              <a:pt x="0" y="18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4" name=""/>
                      <p:cNvSpPr/>
                      <p:nvPr/>
                    </p:nvSpPr>
                    <p:spPr>
                      <a:xfrm>
                        <a:off x="6937560" y="4153320"/>
                        <a:ext cx="208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31">
                            <a:moveTo>
                              <a:pt x="78" y="1"/>
                            </a:moveTo>
                            <a:lnTo>
                              <a:pt x="73" y="14"/>
                            </a:lnTo>
                            <a:lnTo>
                              <a:pt x="75" y="27"/>
                            </a:lnTo>
                            <a:lnTo>
                              <a:pt x="80" y="41"/>
                            </a:lnTo>
                            <a:lnTo>
                              <a:pt x="84" y="55"/>
                            </a:lnTo>
                            <a:lnTo>
                              <a:pt x="85" y="66"/>
                            </a:lnTo>
                            <a:lnTo>
                              <a:pt x="83" y="75"/>
                            </a:lnTo>
                            <a:lnTo>
                              <a:pt x="79" y="82"/>
                            </a:lnTo>
                            <a:lnTo>
                              <a:pt x="75" y="88"/>
                            </a:lnTo>
                            <a:lnTo>
                              <a:pt x="68" y="92"/>
                            </a:lnTo>
                            <a:lnTo>
                              <a:pt x="62" y="95"/>
                            </a:lnTo>
                            <a:lnTo>
                              <a:pt x="54" y="98"/>
                            </a:lnTo>
                            <a:lnTo>
                              <a:pt x="46" y="101"/>
                            </a:lnTo>
                            <a:lnTo>
                              <a:pt x="40" y="102"/>
                            </a:lnTo>
                            <a:lnTo>
                              <a:pt x="35" y="102"/>
                            </a:lnTo>
                            <a:lnTo>
                              <a:pt x="31" y="100"/>
                            </a:lnTo>
                            <a:lnTo>
                              <a:pt x="25" y="96"/>
                            </a:lnTo>
                            <a:lnTo>
                              <a:pt x="21" y="93"/>
                            </a:lnTo>
                            <a:lnTo>
                              <a:pt x="16" y="90"/>
                            </a:lnTo>
                            <a:lnTo>
                              <a:pt x="12" y="87"/>
                            </a:lnTo>
                            <a:lnTo>
                              <a:pt x="9" y="83"/>
                            </a:lnTo>
                            <a:lnTo>
                              <a:pt x="6" y="83"/>
                            </a:lnTo>
                            <a:lnTo>
                              <a:pt x="2" y="87"/>
                            </a:lnTo>
                            <a:lnTo>
                              <a:pt x="0" y="92"/>
                            </a:lnTo>
                            <a:lnTo>
                              <a:pt x="0" y="95"/>
                            </a:lnTo>
                            <a:lnTo>
                              <a:pt x="3" y="106"/>
                            </a:lnTo>
                            <a:lnTo>
                              <a:pt x="9" y="118"/>
                            </a:lnTo>
                            <a:lnTo>
                              <a:pt x="16" y="127"/>
                            </a:lnTo>
                            <a:lnTo>
                              <a:pt x="27" y="131"/>
                            </a:lnTo>
                            <a:lnTo>
                              <a:pt x="34" y="131"/>
                            </a:lnTo>
                            <a:lnTo>
                              <a:pt x="39" y="130"/>
                            </a:lnTo>
                            <a:lnTo>
                              <a:pt x="46" y="129"/>
                            </a:lnTo>
                            <a:lnTo>
                              <a:pt x="53" y="128"/>
                            </a:lnTo>
                            <a:lnTo>
                              <a:pt x="59" y="125"/>
                            </a:lnTo>
                            <a:lnTo>
                              <a:pt x="65" y="123"/>
                            </a:lnTo>
                            <a:lnTo>
                              <a:pt x="71" y="119"/>
                            </a:lnTo>
                            <a:lnTo>
                              <a:pt x="75" y="115"/>
                            </a:lnTo>
                            <a:lnTo>
                              <a:pt x="84" y="105"/>
                            </a:lnTo>
                            <a:lnTo>
                              <a:pt x="90" y="94"/>
                            </a:lnTo>
                            <a:lnTo>
                              <a:pt x="94" y="82"/>
                            </a:lnTo>
                            <a:lnTo>
                              <a:pt x="97" y="70"/>
                            </a:lnTo>
                            <a:lnTo>
                              <a:pt x="97" y="63"/>
                            </a:lnTo>
                            <a:lnTo>
                              <a:pt x="96" y="56"/>
                            </a:lnTo>
                            <a:lnTo>
                              <a:pt x="93" y="50"/>
                            </a:lnTo>
                            <a:lnTo>
                              <a:pt x="91" y="42"/>
                            </a:lnTo>
                            <a:lnTo>
                              <a:pt x="86" y="32"/>
                            </a:lnTo>
                            <a:lnTo>
                              <a:pt x="80" y="22"/>
                            </a:lnTo>
                            <a:lnTo>
                              <a:pt x="76" y="11"/>
                            </a:lnTo>
                            <a:lnTo>
                              <a:pt x="78" y="1"/>
                            </a:lnTo>
                            <a:lnTo>
                              <a:pt x="78" y="0"/>
                            </a:lnTo>
                            <a:lnTo>
                              <a:pt x="78" y="0"/>
                            </a:lnTo>
                            <a:lnTo>
                              <a:pt x="78" y="0"/>
                            </a:lnTo>
                            <a:lnTo>
                              <a:pt x="78" y="1"/>
                            </a:lnTo>
                            <a:lnTo>
                              <a:pt x="78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5" name=""/>
                      <p:cNvSpPr/>
                      <p:nvPr/>
                    </p:nvSpPr>
                    <p:spPr>
                      <a:xfrm>
                        <a:off x="6944040" y="4137120"/>
                        <a:ext cx="648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78">
                            <a:moveTo>
                              <a:pt x="16" y="0"/>
                            </a:moveTo>
                            <a:lnTo>
                              <a:pt x="7" y="7"/>
                            </a:lnTo>
                            <a:lnTo>
                              <a:pt x="2" y="17"/>
                            </a:lnTo>
                            <a:lnTo>
                              <a:pt x="0" y="28"/>
                            </a:lnTo>
                            <a:lnTo>
                              <a:pt x="0" y="40"/>
                            </a:lnTo>
                            <a:lnTo>
                              <a:pt x="3" y="52"/>
                            </a:lnTo>
                            <a:lnTo>
                              <a:pt x="7" y="63"/>
                            </a:lnTo>
                            <a:lnTo>
                              <a:pt x="15" y="71"/>
                            </a:lnTo>
                            <a:lnTo>
                              <a:pt x="25" y="78"/>
                            </a:lnTo>
                            <a:lnTo>
                              <a:pt x="26" y="78"/>
                            </a:lnTo>
                            <a:lnTo>
                              <a:pt x="27" y="77"/>
                            </a:lnTo>
                            <a:lnTo>
                              <a:pt x="27" y="75"/>
                            </a:lnTo>
                            <a:lnTo>
                              <a:pt x="27" y="74"/>
                            </a:lnTo>
                            <a:lnTo>
                              <a:pt x="19" y="67"/>
                            </a:lnTo>
                            <a:lnTo>
                              <a:pt x="13" y="58"/>
                            </a:lnTo>
                            <a:lnTo>
                              <a:pt x="7" y="49"/>
                            </a:lnTo>
                            <a:lnTo>
                              <a:pt x="4" y="39"/>
                            </a:lnTo>
                            <a:lnTo>
                              <a:pt x="3" y="28"/>
                            </a:lnTo>
                            <a:lnTo>
                              <a:pt x="5" y="18"/>
                            </a:lnTo>
                            <a:lnTo>
                              <a:pt x="11" y="9"/>
                            </a:lnTo>
                            <a:lnTo>
                              <a:pt x="18" y="2"/>
                            </a:lnTo>
                            <a:lnTo>
                              <a:pt x="18" y="2"/>
                            </a:lnTo>
                            <a:lnTo>
                              <a:pt x="17" y="1"/>
                            </a:lnTo>
                            <a:lnTo>
                              <a:pt x="16" y="0"/>
                            </a:lnTo>
                            <a:lnTo>
                              <a:pt x="1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6" name=""/>
                      <p:cNvSpPr/>
                      <p:nvPr/>
                    </p:nvSpPr>
                    <p:spPr>
                      <a:xfrm>
                        <a:off x="6947640" y="4136040"/>
                        <a:ext cx="154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57">
                            <a:moveTo>
                              <a:pt x="0" y="36"/>
                            </a:moveTo>
                            <a:lnTo>
                              <a:pt x="2" y="44"/>
                            </a:lnTo>
                            <a:lnTo>
                              <a:pt x="7" y="49"/>
                            </a:lnTo>
                            <a:lnTo>
                              <a:pt x="11" y="54"/>
                            </a:lnTo>
                            <a:lnTo>
                              <a:pt x="16" y="56"/>
                            </a:lnTo>
                            <a:lnTo>
                              <a:pt x="23" y="57"/>
                            </a:lnTo>
                            <a:lnTo>
                              <a:pt x="29" y="57"/>
                            </a:lnTo>
                            <a:lnTo>
                              <a:pt x="36" y="56"/>
                            </a:lnTo>
                            <a:lnTo>
                              <a:pt x="43" y="52"/>
                            </a:lnTo>
                            <a:lnTo>
                              <a:pt x="55" y="44"/>
                            </a:lnTo>
                            <a:lnTo>
                              <a:pt x="64" y="31"/>
                            </a:lnTo>
                            <a:lnTo>
                              <a:pt x="70" y="17"/>
                            </a:lnTo>
                            <a:lnTo>
                              <a:pt x="75" y="1"/>
                            </a:lnTo>
                            <a:lnTo>
                              <a:pt x="75" y="0"/>
                            </a:lnTo>
                            <a:lnTo>
                              <a:pt x="74" y="0"/>
                            </a:lnTo>
                            <a:lnTo>
                              <a:pt x="72" y="1"/>
                            </a:lnTo>
                            <a:lnTo>
                              <a:pt x="72" y="3"/>
                            </a:lnTo>
                            <a:lnTo>
                              <a:pt x="67" y="16"/>
                            </a:lnTo>
                            <a:lnTo>
                              <a:pt x="62" y="29"/>
                            </a:lnTo>
                            <a:lnTo>
                              <a:pt x="54" y="39"/>
                            </a:lnTo>
                            <a:lnTo>
                              <a:pt x="43" y="49"/>
                            </a:lnTo>
                            <a:lnTo>
                              <a:pt x="37" y="52"/>
                            </a:lnTo>
                            <a:lnTo>
                              <a:pt x="30" y="55"/>
                            </a:lnTo>
                            <a:lnTo>
                              <a:pt x="24" y="55"/>
                            </a:lnTo>
                            <a:lnTo>
                              <a:pt x="17" y="54"/>
                            </a:lnTo>
                            <a:lnTo>
                              <a:pt x="12" y="51"/>
                            </a:lnTo>
                            <a:lnTo>
                              <a:pt x="8" y="47"/>
                            </a:lnTo>
                            <a:lnTo>
                              <a:pt x="3" y="42"/>
                            </a:lnTo>
                            <a:lnTo>
                              <a:pt x="0" y="35"/>
                            </a:lnTo>
                            <a:lnTo>
                              <a:pt x="0" y="35"/>
                            </a:lnTo>
                            <a:lnTo>
                              <a:pt x="0" y="35"/>
                            </a:lnTo>
                            <a:lnTo>
                              <a:pt x="0" y="36"/>
                            </a:lnTo>
                            <a:lnTo>
                              <a:pt x="0" y="36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7" name=""/>
                      <p:cNvSpPr/>
                      <p:nvPr/>
                    </p:nvSpPr>
                    <p:spPr>
                      <a:xfrm>
                        <a:off x="6936120" y="4157280"/>
                        <a:ext cx="1152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95">
                            <a:moveTo>
                              <a:pt x="55" y="0"/>
                            </a:moveTo>
                            <a:lnTo>
                              <a:pt x="47" y="1"/>
                            </a:lnTo>
                            <a:lnTo>
                              <a:pt x="39" y="3"/>
                            </a:lnTo>
                            <a:lnTo>
                              <a:pt x="31" y="7"/>
                            </a:lnTo>
                            <a:lnTo>
                              <a:pt x="25" y="12"/>
                            </a:lnTo>
                            <a:lnTo>
                              <a:pt x="17" y="18"/>
                            </a:lnTo>
                            <a:lnTo>
                              <a:pt x="12" y="25"/>
                            </a:lnTo>
                            <a:lnTo>
                              <a:pt x="6" y="31"/>
                            </a:lnTo>
                            <a:lnTo>
                              <a:pt x="3" y="39"/>
                            </a:lnTo>
                            <a:lnTo>
                              <a:pt x="1" y="49"/>
                            </a:lnTo>
                            <a:lnTo>
                              <a:pt x="0" y="57"/>
                            </a:lnTo>
                            <a:lnTo>
                              <a:pt x="1" y="65"/>
                            </a:lnTo>
                            <a:lnTo>
                              <a:pt x="4" y="72"/>
                            </a:lnTo>
                            <a:lnTo>
                              <a:pt x="8" y="79"/>
                            </a:lnTo>
                            <a:lnTo>
                              <a:pt x="15" y="85"/>
                            </a:lnTo>
                            <a:lnTo>
                              <a:pt x="21" y="91"/>
                            </a:lnTo>
                            <a:lnTo>
                              <a:pt x="30" y="95"/>
                            </a:lnTo>
                            <a:lnTo>
                              <a:pt x="32" y="95"/>
                            </a:lnTo>
                            <a:lnTo>
                              <a:pt x="36" y="92"/>
                            </a:lnTo>
                            <a:lnTo>
                              <a:pt x="37" y="89"/>
                            </a:lnTo>
                            <a:lnTo>
                              <a:pt x="36" y="85"/>
                            </a:lnTo>
                            <a:lnTo>
                              <a:pt x="29" y="78"/>
                            </a:lnTo>
                            <a:lnTo>
                              <a:pt x="24" y="71"/>
                            </a:lnTo>
                            <a:lnTo>
                              <a:pt x="18" y="63"/>
                            </a:lnTo>
                            <a:lnTo>
                              <a:pt x="14" y="54"/>
                            </a:lnTo>
                            <a:lnTo>
                              <a:pt x="13" y="45"/>
                            </a:lnTo>
                            <a:lnTo>
                              <a:pt x="14" y="36"/>
                            </a:lnTo>
                            <a:lnTo>
                              <a:pt x="17" y="28"/>
                            </a:lnTo>
                            <a:lnTo>
                              <a:pt x="24" y="19"/>
                            </a:lnTo>
                            <a:lnTo>
                              <a:pt x="30" y="13"/>
                            </a:lnTo>
                            <a:lnTo>
                              <a:pt x="39" y="7"/>
                            </a:lnTo>
                            <a:lnTo>
                              <a:pt x="46" y="3"/>
                            </a:lnTo>
                            <a:lnTo>
                              <a:pt x="55" y="1"/>
                            </a:lnTo>
                            <a:lnTo>
                              <a:pt x="55" y="1"/>
                            </a:lnTo>
                            <a:lnTo>
                              <a:pt x="55" y="0"/>
                            </a:lnTo>
                            <a:lnTo>
                              <a:pt x="55" y="0"/>
                            </a:lnTo>
                            <a:lnTo>
                              <a:pt x="55" y="0"/>
                            </a:lnTo>
                            <a:lnTo>
                              <a:pt x="5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8" name=""/>
                      <p:cNvSpPr/>
                      <p:nvPr/>
                    </p:nvSpPr>
                    <p:spPr>
                      <a:xfrm>
                        <a:off x="7121520" y="3934800"/>
                        <a:ext cx="1944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106">
                            <a:moveTo>
                              <a:pt x="0" y="1"/>
                            </a:moveTo>
                            <a:lnTo>
                              <a:pt x="7" y="6"/>
                            </a:lnTo>
                            <a:lnTo>
                              <a:pt x="13" y="11"/>
                            </a:lnTo>
                            <a:lnTo>
                              <a:pt x="20" y="16"/>
                            </a:lnTo>
                            <a:lnTo>
                              <a:pt x="25" y="22"/>
                            </a:lnTo>
                            <a:lnTo>
                              <a:pt x="32" y="28"/>
                            </a:lnTo>
                            <a:lnTo>
                              <a:pt x="37" y="34"/>
                            </a:lnTo>
                            <a:lnTo>
                              <a:pt x="42" y="40"/>
                            </a:lnTo>
                            <a:lnTo>
                              <a:pt x="47" y="47"/>
                            </a:lnTo>
                            <a:lnTo>
                              <a:pt x="56" y="61"/>
                            </a:lnTo>
                            <a:lnTo>
                              <a:pt x="62" y="75"/>
                            </a:lnTo>
                            <a:lnTo>
                              <a:pt x="69" y="90"/>
                            </a:lnTo>
                            <a:lnTo>
                              <a:pt x="77" y="103"/>
                            </a:lnTo>
                            <a:lnTo>
                              <a:pt x="83" y="106"/>
                            </a:lnTo>
                            <a:lnTo>
                              <a:pt x="87" y="103"/>
                            </a:lnTo>
                            <a:lnTo>
                              <a:pt x="91" y="98"/>
                            </a:lnTo>
                            <a:lnTo>
                              <a:pt x="94" y="93"/>
                            </a:lnTo>
                            <a:lnTo>
                              <a:pt x="94" y="77"/>
                            </a:lnTo>
                            <a:lnTo>
                              <a:pt x="87" y="62"/>
                            </a:lnTo>
                            <a:lnTo>
                              <a:pt x="77" y="47"/>
                            </a:lnTo>
                            <a:lnTo>
                              <a:pt x="63" y="35"/>
                            </a:lnTo>
                            <a:lnTo>
                              <a:pt x="48" y="23"/>
                            </a:lnTo>
                            <a:lnTo>
                              <a:pt x="32" y="14"/>
                            </a:lnTo>
                            <a:lnTo>
                              <a:pt x="16" y="6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" name=""/>
                      <p:cNvSpPr/>
                      <p:nvPr/>
                    </p:nvSpPr>
                    <p:spPr>
                      <a:xfrm>
                        <a:off x="6855120" y="4165560"/>
                        <a:ext cx="17496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4" h="137">
                            <a:moveTo>
                              <a:pt x="0" y="0"/>
                            </a:moveTo>
                            <a:lnTo>
                              <a:pt x="12" y="1"/>
                            </a:lnTo>
                            <a:lnTo>
                              <a:pt x="24" y="2"/>
                            </a:lnTo>
                            <a:lnTo>
                              <a:pt x="36" y="4"/>
                            </a:lnTo>
                            <a:lnTo>
                              <a:pt x="47" y="6"/>
                            </a:lnTo>
                            <a:lnTo>
                              <a:pt x="59" y="8"/>
                            </a:lnTo>
                            <a:lnTo>
                              <a:pt x="71" y="12"/>
                            </a:lnTo>
                            <a:lnTo>
                              <a:pt x="83" y="15"/>
                            </a:lnTo>
                            <a:lnTo>
                              <a:pt x="95" y="18"/>
                            </a:lnTo>
                            <a:lnTo>
                              <a:pt x="106" y="22"/>
                            </a:lnTo>
                            <a:lnTo>
                              <a:pt x="117" y="26"/>
                            </a:lnTo>
                            <a:lnTo>
                              <a:pt x="129" y="29"/>
                            </a:lnTo>
                            <a:lnTo>
                              <a:pt x="141" y="33"/>
                            </a:lnTo>
                            <a:lnTo>
                              <a:pt x="152" y="37"/>
                            </a:lnTo>
                            <a:lnTo>
                              <a:pt x="164" y="40"/>
                            </a:lnTo>
                            <a:lnTo>
                              <a:pt x="175" y="43"/>
                            </a:lnTo>
                            <a:lnTo>
                              <a:pt x="187" y="46"/>
                            </a:lnTo>
                            <a:lnTo>
                              <a:pt x="199" y="50"/>
                            </a:lnTo>
                            <a:lnTo>
                              <a:pt x="212" y="52"/>
                            </a:lnTo>
                            <a:lnTo>
                              <a:pt x="223" y="55"/>
                            </a:lnTo>
                            <a:lnTo>
                              <a:pt x="236" y="58"/>
                            </a:lnTo>
                            <a:lnTo>
                              <a:pt x="248" y="62"/>
                            </a:lnTo>
                            <a:lnTo>
                              <a:pt x="261" y="64"/>
                            </a:lnTo>
                            <a:lnTo>
                              <a:pt x="273" y="67"/>
                            </a:lnTo>
                            <a:lnTo>
                              <a:pt x="286" y="69"/>
                            </a:lnTo>
                            <a:lnTo>
                              <a:pt x="298" y="72"/>
                            </a:lnTo>
                            <a:lnTo>
                              <a:pt x="311" y="75"/>
                            </a:lnTo>
                            <a:lnTo>
                              <a:pt x="324" y="78"/>
                            </a:lnTo>
                            <a:lnTo>
                              <a:pt x="336" y="80"/>
                            </a:lnTo>
                            <a:lnTo>
                              <a:pt x="349" y="82"/>
                            </a:lnTo>
                            <a:lnTo>
                              <a:pt x="362" y="83"/>
                            </a:lnTo>
                            <a:lnTo>
                              <a:pt x="374" y="85"/>
                            </a:lnTo>
                            <a:lnTo>
                              <a:pt x="387" y="87"/>
                            </a:lnTo>
                            <a:lnTo>
                              <a:pt x="400" y="88"/>
                            </a:lnTo>
                            <a:lnTo>
                              <a:pt x="413" y="90"/>
                            </a:lnTo>
                            <a:lnTo>
                              <a:pt x="427" y="91"/>
                            </a:lnTo>
                            <a:lnTo>
                              <a:pt x="440" y="92"/>
                            </a:lnTo>
                            <a:lnTo>
                              <a:pt x="453" y="93"/>
                            </a:lnTo>
                            <a:lnTo>
                              <a:pt x="466" y="94"/>
                            </a:lnTo>
                            <a:lnTo>
                              <a:pt x="479" y="95"/>
                            </a:lnTo>
                            <a:lnTo>
                              <a:pt x="493" y="96"/>
                            </a:lnTo>
                            <a:lnTo>
                              <a:pt x="506" y="97"/>
                            </a:lnTo>
                            <a:lnTo>
                              <a:pt x="519" y="98"/>
                            </a:lnTo>
                            <a:lnTo>
                              <a:pt x="532" y="101"/>
                            </a:lnTo>
                            <a:lnTo>
                              <a:pt x="545" y="102"/>
                            </a:lnTo>
                            <a:lnTo>
                              <a:pt x="558" y="103"/>
                            </a:lnTo>
                            <a:lnTo>
                              <a:pt x="572" y="105"/>
                            </a:lnTo>
                            <a:lnTo>
                              <a:pt x="585" y="106"/>
                            </a:lnTo>
                            <a:lnTo>
                              <a:pt x="598" y="108"/>
                            </a:lnTo>
                            <a:lnTo>
                              <a:pt x="611" y="110"/>
                            </a:lnTo>
                            <a:lnTo>
                              <a:pt x="623" y="111"/>
                            </a:lnTo>
                            <a:lnTo>
                              <a:pt x="636" y="114"/>
                            </a:lnTo>
                            <a:lnTo>
                              <a:pt x="649" y="116"/>
                            </a:lnTo>
                            <a:lnTo>
                              <a:pt x="661" y="118"/>
                            </a:lnTo>
                            <a:lnTo>
                              <a:pt x="674" y="120"/>
                            </a:lnTo>
                            <a:lnTo>
                              <a:pt x="686" y="121"/>
                            </a:lnTo>
                            <a:lnTo>
                              <a:pt x="699" y="123"/>
                            </a:lnTo>
                            <a:lnTo>
                              <a:pt x="712" y="126"/>
                            </a:lnTo>
                            <a:lnTo>
                              <a:pt x="724" y="128"/>
                            </a:lnTo>
                            <a:lnTo>
                              <a:pt x="737" y="129"/>
                            </a:lnTo>
                            <a:lnTo>
                              <a:pt x="750" y="131"/>
                            </a:lnTo>
                            <a:lnTo>
                              <a:pt x="762" y="133"/>
                            </a:lnTo>
                            <a:lnTo>
                              <a:pt x="775" y="134"/>
                            </a:lnTo>
                            <a:lnTo>
                              <a:pt x="787" y="136"/>
                            </a:lnTo>
                            <a:lnTo>
                              <a:pt x="800" y="137"/>
                            </a:lnTo>
                            <a:lnTo>
                              <a:pt x="802" y="136"/>
                            </a:lnTo>
                            <a:lnTo>
                              <a:pt x="803" y="135"/>
                            </a:lnTo>
                            <a:lnTo>
                              <a:pt x="804" y="133"/>
                            </a:lnTo>
                            <a:lnTo>
                              <a:pt x="803" y="132"/>
                            </a:lnTo>
                            <a:lnTo>
                              <a:pt x="778" y="128"/>
                            </a:lnTo>
                            <a:lnTo>
                              <a:pt x="753" y="123"/>
                            </a:lnTo>
                            <a:lnTo>
                              <a:pt x="728" y="119"/>
                            </a:lnTo>
                            <a:lnTo>
                              <a:pt x="704" y="116"/>
                            </a:lnTo>
                            <a:lnTo>
                              <a:pt x="679" y="111"/>
                            </a:lnTo>
                            <a:lnTo>
                              <a:pt x="654" y="108"/>
                            </a:lnTo>
                            <a:lnTo>
                              <a:pt x="629" y="105"/>
                            </a:lnTo>
                            <a:lnTo>
                              <a:pt x="604" y="103"/>
                            </a:lnTo>
                            <a:lnTo>
                              <a:pt x="579" y="100"/>
                            </a:lnTo>
                            <a:lnTo>
                              <a:pt x="554" y="97"/>
                            </a:lnTo>
                            <a:lnTo>
                              <a:pt x="530" y="94"/>
                            </a:lnTo>
                            <a:lnTo>
                              <a:pt x="505" y="92"/>
                            </a:lnTo>
                            <a:lnTo>
                              <a:pt x="479" y="90"/>
                            </a:lnTo>
                            <a:lnTo>
                              <a:pt x="454" y="88"/>
                            </a:lnTo>
                            <a:lnTo>
                              <a:pt x="429" y="85"/>
                            </a:lnTo>
                            <a:lnTo>
                              <a:pt x="404" y="83"/>
                            </a:lnTo>
                            <a:lnTo>
                              <a:pt x="390" y="82"/>
                            </a:lnTo>
                            <a:lnTo>
                              <a:pt x="375" y="80"/>
                            </a:lnTo>
                            <a:lnTo>
                              <a:pt x="361" y="78"/>
                            </a:lnTo>
                            <a:lnTo>
                              <a:pt x="346" y="76"/>
                            </a:lnTo>
                            <a:lnTo>
                              <a:pt x="332" y="73"/>
                            </a:lnTo>
                            <a:lnTo>
                              <a:pt x="318" y="71"/>
                            </a:lnTo>
                            <a:lnTo>
                              <a:pt x="303" y="68"/>
                            </a:lnTo>
                            <a:lnTo>
                              <a:pt x="288" y="65"/>
                            </a:lnTo>
                            <a:lnTo>
                              <a:pt x="273" y="63"/>
                            </a:lnTo>
                            <a:lnTo>
                              <a:pt x="259" y="59"/>
                            </a:lnTo>
                            <a:lnTo>
                              <a:pt x="244" y="56"/>
                            </a:lnTo>
                            <a:lnTo>
                              <a:pt x="230" y="53"/>
                            </a:lnTo>
                            <a:lnTo>
                              <a:pt x="216" y="50"/>
                            </a:lnTo>
                            <a:lnTo>
                              <a:pt x="201" y="46"/>
                            </a:lnTo>
                            <a:lnTo>
                              <a:pt x="187" y="43"/>
                            </a:lnTo>
                            <a:lnTo>
                              <a:pt x="173" y="40"/>
                            </a:lnTo>
                            <a:lnTo>
                              <a:pt x="151" y="34"/>
                            </a:lnTo>
                            <a:lnTo>
                              <a:pt x="130" y="28"/>
                            </a:lnTo>
                            <a:lnTo>
                              <a:pt x="109" y="22"/>
                            </a:lnTo>
                            <a:lnTo>
                              <a:pt x="87" y="16"/>
                            </a:lnTo>
                            <a:lnTo>
                              <a:pt x="65" y="9"/>
                            </a:lnTo>
                            <a:lnTo>
                              <a:pt x="44" y="5"/>
                            </a:lnTo>
                            <a:lnTo>
                              <a:pt x="22" y="2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0" name=""/>
                      <p:cNvSpPr/>
                      <p:nvPr/>
                    </p:nvSpPr>
                    <p:spPr>
                      <a:xfrm>
                        <a:off x="6892920" y="4112640"/>
                        <a:ext cx="885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73">
                            <a:moveTo>
                              <a:pt x="18" y="5"/>
                            </a:moveTo>
                            <a:lnTo>
                              <a:pt x="14" y="3"/>
                            </a:lnTo>
                            <a:lnTo>
                              <a:pt x="6" y="0"/>
                            </a:lnTo>
                            <a:lnTo>
                              <a:pt x="0" y="0"/>
                            </a:lnTo>
                            <a:lnTo>
                              <a:pt x="1" y="7"/>
                            </a:lnTo>
                            <a:lnTo>
                              <a:pt x="7" y="11"/>
                            </a:lnTo>
                            <a:lnTo>
                              <a:pt x="22" y="15"/>
                            </a:lnTo>
                            <a:lnTo>
                              <a:pt x="42" y="20"/>
                            </a:lnTo>
                            <a:lnTo>
                              <a:pt x="68" y="26"/>
                            </a:lnTo>
                            <a:lnTo>
                              <a:pt x="98" y="30"/>
                            </a:lnTo>
                            <a:lnTo>
                              <a:pt x="133" y="36"/>
                            </a:lnTo>
                            <a:lnTo>
                              <a:pt x="169" y="41"/>
                            </a:lnTo>
                            <a:lnTo>
                              <a:pt x="206" y="47"/>
                            </a:lnTo>
                            <a:lnTo>
                              <a:pt x="244" y="52"/>
                            </a:lnTo>
                            <a:lnTo>
                              <a:pt x="279" y="56"/>
                            </a:lnTo>
                            <a:lnTo>
                              <a:pt x="313" y="62"/>
                            </a:lnTo>
                            <a:lnTo>
                              <a:pt x="342" y="65"/>
                            </a:lnTo>
                            <a:lnTo>
                              <a:pt x="367" y="68"/>
                            </a:lnTo>
                            <a:lnTo>
                              <a:pt x="387" y="70"/>
                            </a:lnTo>
                            <a:lnTo>
                              <a:pt x="400" y="73"/>
                            </a:lnTo>
                            <a:lnTo>
                              <a:pt x="404" y="73"/>
                            </a:lnTo>
                            <a:lnTo>
                              <a:pt x="18" y="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6179040" y="4020480"/>
                    <a:ext cx="632880" cy="266040"/>
                    <a:chOff x="6179040" y="4020480"/>
                    <a:chExt cx="632880" cy="26604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 flipH="1" flipV="1">
                      <a:off x="6418080" y="4159800"/>
                      <a:ext cx="92880" cy="8640"/>
                    </a:xfrm>
                    <a:prstGeom prst="line">
                      <a:avLst/>
                    </a:prstGeom>
                    <a:ln cap="rnd" w="12600">
                      <a:solidFill>
                        <a:srgbClr val="0066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 flipH="1">
                      <a:off x="6421680" y="4020480"/>
                      <a:ext cx="390240" cy="141840"/>
                    </a:xfrm>
                    <a:prstGeom prst="line">
                      <a:avLst/>
                    </a:prstGeom>
                    <a:ln cap="rnd" w="12600">
                      <a:solidFill>
                        <a:srgbClr val="0066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4" name=""/>
                    <p:cNvSpPr/>
                    <p:nvPr/>
                  </p:nvSpPr>
                  <p:spPr>
                    <a:xfrm flipH="1">
                      <a:off x="6179040" y="4166280"/>
                      <a:ext cx="331560" cy="120240"/>
                    </a:xfrm>
                    <a:prstGeom prst="line">
                      <a:avLst/>
                    </a:prstGeom>
                    <a:ln cap="rnd" w="12600">
                      <a:solidFill>
                        <a:srgbClr val="0066ff"/>
                      </a:solidFill>
                      <a:custDash>
                        <a:ds d="100000" sp="1000"/>
                      </a:custDash>
                      <a:miter/>
                      <a:tailEnd len="med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85" name=""/>
                <p:cNvGrpSpPr/>
                <p:nvPr/>
              </p:nvGrpSpPr>
              <p:grpSpPr>
                <a:xfrm>
                  <a:off x="5914440" y="3429000"/>
                  <a:ext cx="981360" cy="843840"/>
                  <a:chOff x="5914440" y="3429000"/>
                  <a:chExt cx="981360" cy="843840"/>
                </a:xfrm>
              </p:grpSpPr>
              <p:grpSp>
                <p:nvGrpSpPr>
                  <p:cNvPr id="1286" name=""/>
                  <p:cNvGrpSpPr/>
                  <p:nvPr/>
                </p:nvGrpSpPr>
                <p:grpSpPr>
                  <a:xfrm>
                    <a:off x="5914440" y="3855240"/>
                    <a:ext cx="722880" cy="417600"/>
                    <a:chOff x="5914440" y="3855240"/>
                    <a:chExt cx="722880" cy="417600"/>
                  </a:xfrm>
                </p:grpSpPr>
                <p:sp>
                  <p:nvSpPr>
                    <p:cNvPr id="1287" name=""/>
                    <p:cNvSpPr/>
                    <p:nvPr/>
                  </p:nvSpPr>
                  <p:spPr>
                    <a:xfrm flipH="1">
                      <a:off x="5914440" y="4061520"/>
                      <a:ext cx="459000" cy="211320"/>
                    </a:xfrm>
                    <a:prstGeom prst="line">
                      <a:avLst/>
                    </a:prstGeom>
                    <a:ln cap="rnd" w="12600">
                      <a:solidFill>
                        <a:srgbClr val="669900"/>
                      </a:solidFill>
                      <a:custDash>
                        <a:ds d="100000" sp="1000"/>
                      </a:custDash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 flipH="1">
                      <a:off x="6178320" y="3855240"/>
                      <a:ext cx="459000" cy="215280"/>
                    </a:xfrm>
                    <a:prstGeom prst="line">
                      <a:avLst/>
                    </a:prstGeom>
                    <a:ln cap="rnd" w="12600">
                      <a:solidFill>
                        <a:srgbClr val="6699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flipH="1">
                      <a:off x="6169680" y="4061520"/>
                      <a:ext cx="199080" cy="12240"/>
                    </a:xfrm>
                    <a:prstGeom prst="line">
                      <a:avLst/>
                    </a:prstGeom>
                    <a:ln cap="rnd" w="12600">
                      <a:solidFill>
                        <a:srgbClr val="6699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0" name=""/>
                  <p:cNvGrpSpPr/>
                  <p:nvPr/>
                </p:nvGrpSpPr>
                <p:grpSpPr>
                  <a:xfrm>
                    <a:off x="6547680" y="3429000"/>
                    <a:ext cx="348120" cy="566640"/>
                    <a:chOff x="6547680" y="3429000"/>
                    <a:chExt cx="348120" cy="566640"/>
                  </a:xfrm>
                </p:grpSpPr>
                <p:sp>
                  <p:nvSpPr>
                    <p:cNvPr id="1291" name=""/>
                    <p:cNvSpPr/>
                    <p:nvPr/>
                  </p:nvSpPr>
                  <p:spPr>
                    <a:xfrm>
                      <a:off x="6550560" y="3570480"/>
                      <a:ext cx="282240" cy="29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8" h="1362">
                          <a:moveTo>
                            <a:pt x="5" y="289"/>
                          </a:moveTo>
                          <a:lnTo>
                            <a:pt x="582" y="0"/>
                          </a:lnTo>
                          <a:lnTo>
                            <a:pt x="630" y="63"/>
                          </a:lnTo>
                          <a:lnTo>
                            <a:pt x="633" y="67"/>
                          </a:lnTo>
                          <a:lnTo>
                            <a:pt x="638" y="76"/>
                          </a:lnTo>
                          <a:lnTo>
                            <a:pt x="647" y="92"/>
                          </a:lnTo>
                          <a:lnTo>
                            <a:pt x="660" y="113"/>
                          </a:lnTo>
                          <a:lnTo>
                            <a:pt x="675" y="139"/>
                          </a:lnTo>
                          <a:lnTo>
                            <a:pt x="692" y="168"/>
                          </a:lnTo>
                          <a:lnTo>
                            <a:pt x="711" y="200"/>
                          </a:lnTo>
                          <a:lnTo>
                            <a:pt x="731" y="234"/>
                          </a:lnTo>
                          <a:lnTo>
                            <a:pt x="752" y="271"/>
                          </a:lnTo>
                          <a:lnTo>
                            <a:pt x="773" y="309"/>
                          </a:lnTo>
                          <a:lnTo>
                            <a:pt x="794" y="345"/>
                          </a:lnTo>
                          <a:lnTo>
                            <a:pt x="815" y="383"/>
                          </a:lnTo>
                          <a:lnTo>
                            <a:pt x="836" y="420"/>
                          </a:lnTo>
                          <a:lnTo>
                            <a:pt x="854" y="455"/>
                          </a:lnTo>
                          <a:lnTo>
                            <a:pt x="871" y="487"/>
                          </a:lnTo>
                          <a:lnTo>
                            <a:pt x="885" y="517"/>
                          </a:lnTo>
                          <a:lnTo>
                            <a:pt x="912" y="569"/>
                          </a:lnTo>
                          <a:lnTo>
                            <a:pt x="935" y="619"/>
                          </a:lnTo>
                          <a:lnTo>
                            <a:pt x="959" y="667"/>
                          </a:lnTo>
                          <a:lnTo>
                            <a:pt x="980" y="714"/>
                          </a:lnTo>
                          <a:lnTo>
                            <a:pt x="999" y="759"/>
                          </a:lnTo>
                          <a:lnTo>
                            <a:pt x="1018" y="799"/>
                          </a:lnTo>
                          <a:lnTo>
                            <a:pt x="1035" y="838"/>
                          </a:lnTo>
                          <a:lnTo>
                            <a:pt x="1050" y="874"/>
                          </a:lnTo>
                          <a:lnTo>
                            <a:pt x="1063" y="906"/>
                          </a:lnTo>
                          <a:lnTo>
                            <a:pt x="1075" y="935"/>
                          </a:lnTo>
                          <a:lnTo>
                            <a:pt x="1084" y="960"/>
                          </a:lnTo>
                          <a:lnTo>
                            <a:pt x="1093" y="981"/>
                          </a:lnTo>
                          <a:lnTo>
                            <a:pt x="1100" y="998"/>
                          </a:lnTo>
                          <a:lnTo>
                            <a:pt x="1104" y="1009"/>
                          </a:lnTo>
                          <a:lnTo>
                            <a:pt x="1106" y="1017"/>
                          </a:lnTo>
                          <a:lnTo>
                            <a:pt x="1108" y="1020"/>
                          </a:lnTo>
                          <a:lnTo>
                            <a:pt x="545" y="1362"/>
                          </a:lnTo>
                          <a:lnTo>
                            <a:pt x="390" y="1152"/>
                          </a:lnTo>
                          <a:lnTo>
                            <a:pt x="388" y="1151"/>
                          </a:lnTo>
                          <a:lnTo>
                            <a:pt x="384" y="1147"/>
                          </a:lnTo>
                          <a:lnTo>
                            <a:pt x="377" y="1136"/>
                          </a:lnTo>
                          <a:lnTo>
                            <a:pt x="362" y="1115"/>
                          </a:lnTo>
                          <a:lnTo>
                            <a:pt x="341" y="1083"/>
                          </a:lnTo>
                          <a:lnTo>
                            <a:pt x="311" y="1032"/>
                          </a:lnTo>
                          <a:lnTo>
                            <a:pt x="272" y="962"/>
                          </a:lnTo>
                          <a:lnTo>
                            <a:pt x="221" y="871"/>
                          </a:lnTo>
                          <a:lnTo>
                            <a:pt x="194" y="819"/>
                          </a:lnTo>
                          <a:lnTo>
                            <a:pt x="167" y="769"/>
                          </a:lnTo>
                          <a:lnTo>
                            <a:pt x="144" y="719"/>
                          </a:lnTo>
                          <a:lnTo>
                            <a:pt x="123" y="672"/>
                          </a:lnTo>
                          <a:lnTo>
                            <a:pt x="102" y="628"/>
                          </a:lnTo>
                          <a:lnTo>
                            <a:pt x="85" y="586"/>
                          </a:lnTo>
                          <a:lnTo>
                            <a:pt x="68" y="547"/>
                          </a:lnTo>
                          <a:lnTo>
                            <a:pt x="54" y="510"/>
                          </a:lnTo>
                          <a:lnTo>
                            <a:pt x="40" y="476"/>
                          </a:lnTo>
                          <a:lnTo>
                            <a:pt x="30" y="447"/>
                          </a:lnTo>
                          <a:lnTo>
                            <a:pt x="21" y="421"/>
                          </a:lnTo>
                          <a:lnTo>
                            <a:pt x="13" y="399"/>
                          </a:lnTo>
                          <a:lnTo>
                            <a:pt x="8" y="382"/>
                          </a:lnTo>
                          <a:lnTo>
                            <a:pt x="4" y="369"/>
                          </a:lnTo>
                          <a:lnTo>
                            <a:pt x="1" y="361"/>
                          </a:lnTo>
                          <a:lnTo>
                            <a:pt x="0" y="358"/>
                          </a:lnTo>
                          <a:lnTo>
                            <a:pt x="5" y="289"/>
                          </a:lnTo>
                          <a:close/>
                        </a:path>
                      </a:pathLst>
                    </a:custGeom>
                    <a:solidFill>
                      <a:srgbClr val="afafa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2" name=""/>
                    <p:cNvSpPr/>
                    <p:nvPr/>
                  </p:nvSpPr>
                  <p:spPr>
                    <a:xfrm>
                      <a:off x="6658560" y="3571200"/>
                      <a:ext cx="172800" cy="2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2" h="1111">
                          <a:moveTo>
                            <a:pt x="465" y="511"/>
                          </a:moveTo>
                          <a:lnTo>
                            <a:pt x="449" y="482"/>
                          </a:lnTo>
                          <a:lnTo>
                            <a:pt x="432" y="449"/>
                          </a:lnTo>
                          <a:lnTo>
                            <a:pt x="412" y="414"/>
                          </a:lnTo>
                          <a:lnTo>
                            <a:pt x="393" y="379"/>
                          </a:lnTo>
                          <a:lnTo>
                            <a:pt x="371" y="341"/>
                          </a:lnTo>
                          <a:lnTo>
                            <a:pt x="348" y="303"/>
                          </a:lnTo>
                          <a:lnTo>
                            <a:pt x="327" y="266"/>
                          </a:lnTo>
                          <a:lnTo>
                            <a:pt x="305" y="231"/>
                          </a:lnTo>
                          <a:lnTo>
                            <a:pt x="284" y="196"/>
                          </a:lnTo>
                          <a:lnTo>
                            <a:pt x="266" y="164"/>
                          </a:lnTo>
                          <a:lnTo>
                            <a:pt x="248" y="135"/>
                          </a:lnTo>
                          <a:lnTo>
                            <a:pt x="232" y="111"/>
                          </a:lnTo>
                          <a:lnTo>
                            <a:pt x="220" y="90"/>
                          </a:lnTo>
                          <a:lnTo>
                            <a:pt x="210" y="74"/>
                          </a:lnTo>
                          <a:lnTo>
                            <a:pt x="204" y="65"/>
                          </a:lnTo>
                          <a:lnTo>
                            <a:pt x="202" y="61"/>
                          </a:lnTo>
                          <a:lnTo>
                            <a:pt x="150" y="0"/>
                          </a:lnTo>
                          <a:lnTo>
                            <a:pt x="0" y="73"/>
                          </a:lnTo>
                          <a:lnTo>
                            <a:pt x="21" y="102"/>
                          </a:lnTo>
                          <a:lnTo>
                            <a:pt x="44" y="130"/>
                          </a:lnTo>
                          <a:lnTo>
                            <a:pt x="64" y="160"/>
                          </a:lnTo>
                          <a:lnTo>
                            <a:pt x="85" y="192"/>
                          </a:lnTo>
                          <a:lnTo>
                            <a:pt x="106" y="223"/>
                          </a:lnTo>
                          <a:lnTo>
                            <a:pt x="129" y="256"/>
                          </a:lnTo>
                          <a:lnTo>
                            <a:pt x="150" y="290"/>
                          </a:lnTo>
                          <a:lnTo>
                            <a:pt x="170" y="324"/>
                          </a:lnTo>
                          <a:lnTo>
                            <a:pt x="191" y="359"/>
                          </a:lnTo>
                          <a:lnTo>
                            <a:pt x="211" y="394"/>
                          </a:lnTo>
                          <a:lnTo>
                            <a:pt x="232" y="431"/>
                          </a:lnTo>
                          <a:lnTo>
                            <a:pt x="252" y="468"/>
                          </a:lnTo>
                          <a:lnTo>
                            <a:pt x="272" y="505"/>
                          </a:lnTo>
                          <a:lnTo>
                            <a:pt x="292" y="545"/>
                          </a:lnTo>
                          <a:lnTo>
                            <a:pt x="310" y="584"/>
                          </a:lnTo>
                          <a:lnTo>
                            <a:pt x="330" y="623"/>
                          </a:lnTo>
                          <a:lnTo>
                            <a:pt x="360" y="687"/>
                          </a:lnTo>
                          <a:lnTo>
                            <a:pt x="388" y="750"/>
                          </a:lnTo>
                          <a:lnTo>
                            <a:pt x="414" y="813"/>
                          </a:lnTo>
                          <a:lnTo>
                            <a:pt x="437" y="874"/>
                          </a:lnTo>
                          <a:lnTo>
                            <a:pt x="460" y="934"/>
                          </a:lnTo>
                          <a:lnTo>
                            <a:pt x="480" y="994"/>
                          </a:lnTo>
                          <a:lnTo>
                            <a:pt x="500" y="1053"/>
                          </a:lnTo>
                          <a:lnTo>
                            <a:pt x="517" y="1111"/>
                          </a:lnTo>
                          <a:lnTo>
                            <a:pt x="682" y="1015"/>
                          </a:lnTo>
                          <a:lnTo>
                            <a:pt x="681" y="1013"/>
                          </a:lnTo>
                          <a:lnTo>
                            <a:pt x="678" y="1005"/>
                          </a:lnTo>
                          <a:lnTo>
                            <a:pt x="674" y="993"/>
                          </a:lnTo>
                          <a:lnTo>
                            <a:pt x="667" y="976"/>
                          </a:lnTo>
                          <a:lnTo>
                            <a:pt x="660" y="955"/>
                          </a:lnTo>
                          <a:lnTo>
                            <a:pt x="650" y="929"/>
                          </a:lnTo>
                          <a:lnTo>
                            <a:pt x="640" y="900"/>
                          </a:lnTo>
                          <a:lnTo>
                            <a:pt x="627" y="868"/>
                          </a:lnTo>
                          <a:lnTo>
                            <a:pt x="613" y="832"/>
                          </a:lnTo>
                          <a:lnTo>
                            <a:pt x="596" y="793"/>
                          </a:lnTo>
                          <a:lnTo>
                            <a:pt x="579" y="751"/>
                          </a:lnTo>
                          <a:lnTo>
                            <a:pt x="559" y="708"/>
                          </a:lnTo>
                          <a:lnTo>
                            <a:pt x="538" y="661"/>
                          </a:lnTo>
                          <a:lnTo>
                            <a:pt x="514" y="613"/>
                          </a:lnTo>
                          <a:lnTo>
                            <a:pt x="491" y="563"/>
                          </a:lnTo>
                          <a:lnTo>
                            <a:pt x="465" y="511"/>
                          </a:lnTo>
                          <a:close/>
                        </a:path>
                      </a:pathLst>
                    </a:custGeom>
                    <a:solidFill>
                      <a:srgbClr val="d8d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3" name=""/>
                    <p:cNvSpPr/>
                    <p:nvPr/>
                  </p:nvSpPr>
                  <p:spPr>
                    <a:xfrm>
                      <a:off x="6549480" y="3627360"/>
                      <a:ext cx="148680" cy="24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3" h="1103">
                          <a:moveTo>
                            <a:pt x="65" y="0"/>
                          </a:moveTo>
                          <a:lnTo>
                            <a:pt x="4" y="30"/>
                          </a:lnTo>
                          <a:lnTo>
                            <a:pt x="0" y="99"/>
                          </a:lnTo>
                          <a:lnTo>
                            <a:pt x="1" y="102"/>
                          </a:lnTo>
                          <a:lnTo>
                            <a:pt x="4" y="110"/>
                          </a:lnTo>
                          <a:lnTo>
                            <a:pt x="8" y="123"/>
                          </a:lnTo>
                          <a:lnTo>
                            <a:pt x="13" y="140"/>
                          </a:lnTo>
                          <a:lnTo>
                            <a:pt x="21" y="162"/>
                          </a:lnTo>
                          <a:lnTo>
                            <a:pt x="30" y="188"/>
                          </a:lnTo>
                          <a:lnTo>
                            <a:pt x="40" y="217"/>
                          </a:lnTo>
                          <a:lnTo>
                            <a:pt x="53" y="251"/>
                          </a:lnTo>
                          <a:lnTo>
                            <a:pt x="68" y="287"/>
                          </a:lnTo>
                          <a:lnTo>
                            <a:pt x="85" y="327"/>
                          </a:lnTo>
                          <a:lnTo>
                            <a:pt x="102" y="368"/>
                          </a:lnTo>
                          <a:lnTo>
                            <a:pt x="123" y="413"/>
                          </a:lnTo>
                          <a:lnTo>
                            <a:pt x="144" y="460"/>
                          </a:lnTo>
                          <a:lnTo>
                            <a:pt x="167" y="510"/>
                          </a:lnTo>
                          <a:lnTo>
                            <a:pt x="193" y="559"/>
                          </a:lnTo>
                          <a:lnTo>
                            <a:pt x="221" y="612"/>
                          </a:lnTo>
                          <a:lnTo>
                            <a:pt x="272" y="703"/>
                          </a:lnTo>
                          <a:lnTo>
                            <a:pt x="311" y="772"/>
                          </a:lnTo>
                          <a:lnTo>
                            <a:pt x="340" y="823"/>
                          </a:lnTo>
                          <a:lnTo>
                            <a:pt x="362" y="856"/>
                          </a:lnTo>
                          <a:lnTo>
                            <a:pt x="375" y="877"/>
                          </a:lnTo>
                          <a:lnTo>
                            <a:pt x="383" y="887"/>
                          </a:lnTo>
                          <a:lnTo>
                            <a:pt x="387" y="891"/>
                          </a:lnTo>
                          <a:lnTo>
                            <a:pt x="388" y="893"/>
                          </a:lnTo>
                          <a:lnTo>
                            <a:pt x="544" y="1103"/>
                          </a:lnTo>
                          <a:lnTo>
                            <a:pt x="583" y="1080"/>
                          </a:lnTo>
                          <a:lnTo>
                            <a:pt x="566" y="1051"/>
                          </a:lnTo>
                          <a:lnTo>
                            <a:pt x="549" y="1022"/>
                          </a:lnTo>
                          <a:lnTo>
                            <a:pt x="532" y="992"/>
                          </a:lnTo>
                          <a:lnTo>
                            <a:pt x="515" y="961"/>
                          </a:lnTo>
                          <a:lnTo>
                            <a:pt x="497" y="929"/>
                          </a:lnTo>
                          <a:lnTo>
                            <a:pt x="480" y="897"/>
                          </a:lnTo>
                          <a:lnTo>
                            <a:pt x="461" y="863"/>
                          </a:lnTo>
                          <a:lnTo>
                            <a:pt x="443" y="829"/>
                          </a:lnTo>
                          <a:lnTo>
                            <a:pt x="425" y="795"/>
                          </a:lnTo>
                          <a:lnTo>
                            <a:pt x="406" y="759"/>
                          </a:lnTo>
                          <a:lnTo>
                            <a:pt x="388" y="723"/>
                          </a:lnTo>
                          <a:lnTo>
                            <a:pt x="370" y="686"/>
                          </a:lnTo>
                          <a:lnTo>
                            <a:pt x="352" y="649"/>
                          </a:lnTo>
                          <a:lnTo>
                            <a:pt x="332" y="612"/>
                          </a:lnTo>
                          <a:lnTo>
                            <a:pt x="314" y="574"/>
                          </a:lnTo>
                          <a:lnTo>
                            <a:pt x="295" y="534"/>
                          </a:lnTo>
                          <a:lnTo>
                            <a:pt x="278" y="498"/>
                          </a:lnTo>
                          <a:lnTo>
                            <a:pt x="261" y="463"/>
                          </a:lnTo>
                          <a:lnTo>
                            <a:pt x="244" y="426"/>
                          </a:lnTo>
                          <a:lnTo>
                            <a:pt x="229" y="391"/>
                          </a:lnTo>
                          <a:lnTo>
                            <a:pt x="213" y="355"/>
                          </a:lnTo>
                          <a:lnTo>
                            <a:pt x="197" y="321"/>
                          </a:lnTo>
                          <a:lnTo>
                            <a:pt x="182" y="287"/>
                          </a:lnTo>
                          <a:lnTo>
                            <a:pt x="167" y="253"/>
                          </a:lnTo>
                          <a:lnTo>
                            <a:pt x="153" y="219"/>
                          </a:lnTo>
                          <a:lnTo>
                            <a:pt x="140" y="187"/>
                          </a:lnTo>
                          <a:lnTo>
                            <a:pt x="125" y="154"/>
                          </a:lnTo>
                          <a:lnTo>
                            <a:pt x="113" y="123"/>
                          </a:lnTo>
                          <a:lnTo>
                            <a:pt x="100" y="91"/>
                          </a:lnTo>
                          <a:lnTo>
                            <a:pt x="89" y="60"/>
                          </a:lnTo>
                          <a:lnTo>
                            <a:pt x="77" y="30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4" name=""/>
                    <p:cNvSpPr/>
                    <p:nvPr/>
                  </p:nvSpPr>
                  <p:spPr>
                    <a:xfrm>
                      <a:off x="6697440" y="3836160"/>
                      <a:ext cx="197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720">
                          <a:moveTo>
                            <a:pt x="280" y="720"/>
                          </a:moveTo>
                          <a:lnTo>
                            <a:pt x="731" y="490"/>
                          </a:lnTo>
                          <a:lnTo>
                            <a:pt x="777" y="431"/>
                          </a:lnTo>
                          <a:lnTo>
                            <a:pt x="568" y="0"/>
                          </a:lnTo>
                          <a:lnTo>
                            <a:pt x="488" y="8"/>
                          </a:lnTo>
                          <a:lnTo>
                            <a:pt x="3" y="253"/>
                          </a:lnTo>
                          <a:lnTo>
                            <a:pt x="0" y="287"/>
                          </a:lnTo>
                          <a:lnTo>
                            <a:pt x="195" y="696"/>
                          </a:lnTo>
                          <a:lnTo>
                            <a:pt x="280" y="720"/>
                          </a:lnTo>
                          <a:close/>
                        </a:path>
                      </a:pathLst>
                    </a:custGeom>
                    <a:solidFill>
                      <a:srgbClr val="afafa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6816600" y="3834360"/>
                      <a:ext cx="79200" cy="11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3" h="514">
                          <a:moveTo>
                            <a:pt x="313" y="437"/>
                          </a:moveTo>
                          <a:lnTo>
                            <a:pt x="105" y="4"/>
                          </a:lnTo>
                          <a:lnTo>
                            <a:pt x="49" y="0"/>
                          </a:lnTo>
                          <a:lnTo>
                            <a:pt x="0" y="26"/>
                          </a:lnTo>
                          <a:lnTo>
                            <a:pt x="15" y="54"/>
                          </a:lnTo>
                          <a:lnTo>
                            <a:pt x="30" y="83"/>
                          </a:lnTo>
                          <a:lnTo>
                            <a:pt x="46" y="113"/>
                          </a:lnTo>
                          <a:lnTo>
                            <a:pt x="62" y="145"/>
                          </a:lnTo>
                          <a:lnTo>
                            <a:pt x="79" y="178"/>
                          </a:lnTo>
                          <a:lnTo>
                            <a:pt x="96" y="212"/>
                          </a:lnTo>
                          <a:lnTo>
                            <a:pt x="113" y="247"/>
                          </a:lnTo>
                          <a:lnTo>
                            <a:pt x="130" y="284"/>
                          </a:lnTo>
                          <a:lnTo>
                            <a:pt x="144" y="315"/>
                          </a:lnTo>
                          <a:lnTo>
                            <a:pt x="159" y="345"/>
                          </a:lnTo>
                          <a:lnTo>
                            <a:pt x="173" y="375"/>
                          </a:lnTo>
                          <a:lnTo>
                            <a:pt x="186" y="404"/>
                          </a:lnTo>
                          <a:lnTo>
                            <a:pt x="199" y="433"/>
                          </a:lnTo>
                          <a:lnTo>
                            <a:pt x="212" y="462"/>
                          </a:lnTo>
                          <a:lnTo>
                            <a:pt x="224" y="488"/>
                          </a:lnTo>
                          <a:lnTo>
                            <a:pt x="235" y="514"/>
                          </a:lnTo>
                          <a:lnTo>
                            <a:pt x="289" y="485"/>
                          </a:lnTo>
                          <a:lnTo>
                            <a:pt x="313" y="437"/>
                          </a:lnTo>
                          <a:close/>
                        </a:path>
                      </a:pathLst>
                    </a:custGeom>
                    <a:solidFill>
                      <a:srgbClr val="d8d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6696360" y="3885120"/>
                      <a:ext cx="74160" cy="10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" h="498">
                          <a:moveTo>
                            <a:pt x="64" y="0"/>
                          </a:moveTo>
                          <a:lnTo>
                            <a:pt x="2" y="32"/>
                          </a:lnTo>
                          <a:lnTo>
                            <a:pt x="0" y="66"/>
                          </a:lnTo>
                          <a:lnTo>
                            <a:pt x="194" y="475"/>
                          </a:lnTo>
                          <a:lnTo>
                            <a:pt x="279" y="498"/>
                          </a:lnTo>
                          <a:lnTo>
                            <a:pt x="293" y="490"/>
                          </a:lnTo>
                          <a:lnTo>
                            <a:pt x="281" y="467"/>
                          </a:lnTo>
                          <a:lnTo>
                            <a:pt x="268" y="442"/>
                          </a:lnTo>
                          <a:lnTo>
                            <a:pt x="256" y="416"/>
                          </a:lnTo>
                          <a:lnTo>
                            <a:pt x="243" y="390"/>
                          </a:lnTo>
                          <a:lnTo>
                            <a:pt x="230" y="364"/>
                          </a:lnTo>
                          <a:lnTo>
                            <a:pt x="217" y="336"/>
                          </a:lnTo>
                          <a:lnTo>
                            <a:pt x="204" y="309"/>
                          </a:lnTo>
                          <a:lnTo>
                            <a:pt x="190" y="281"/>
                          </a:lnTo>
                          <a:lnTo>
                            <a:pt x="172" y="243"/>
                          </a:lnTo>
                          <a:lnTo>
                            <a:pt x="155" y="205"/>
                          </a:lnTo>
                          <a:lnTo>
                            <a:pt x="138" y="169"/>
                          </a:lnTo>
                          <a:lnTo>
                            <a:pt x="122" y="134"/>
                          </a:lnTo>
                          <a:lnTo>
                            <a:pt x="107" y="98"/>
                          </a:lnTo>
                          <a:lnTo>
                            <a:pt x="91" y="64"/>
                          </a:lnTo>
                          <a:lnTo>
                            <a:pt x="77" y="32"/>
                          </a:lnTo>
                          <a:lnTo>
                            <a:pt x="6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6557760" y="3669120"/>
                      <a:ext cx="27720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930">
                          <a:moveTo>
                            <a:pt x="526" y="864"/>
                          </a:moveTo>
                          <a:lnTo>
                            <a:pt x="486" y="811"/>
                          </a:lnTo>
                          <a:lnTo>
                            <a:pt x="448" y="759"/>
                          </a:lnTo>
                          <a:lnTo>
                            <a:pt x="410" y="707"/>
                          </a:lnTo>
                          <a:lnTo>
                            <a:pt x="374" y="655"/>
                          </a:lnTo>
                          <a:lnTo>
                            <a:pt x="338" y="602"/>
                          </a:lnTo>
                          <a:lnTo>
                            <a:pt x="303" y="550"/>
                          </a:lnTo>
                          <a:lnTo>
                            <a:pt x="269" y="498"/>
                          </a:lnTo>
                          <a:lnTo>
                            <a:pt x="235" y="444"/>
                          </a:lnTo>
                          <a:lnTo>
                            <a:pt x="202" y="390"/>
                          </a:lnTo>
                          <a:lnTo>
                            <a:pt x="171" y="337"/>
                          </a:lnTo>
                          <a:lnTo>
                            <a:pt x="140" y="282"/>
                          </a:lnTo>
                          <a:lnTo>
                            <a:pt x="110" y="227"/>
                          </a:lnTo>
                          <a:lnTo>
                            <a:pt x="81" y="171"/>
                          </a:lnTo>
                          <a:lnTo>
                            <a:pt x="53" y="115"/>
                          </a:lnTo>
                          <a:lnTo>
                            <a:pt x="26" y="57"/>
                          </a:lnTo>
                          <a:lnTo>
                            <a:pt x="0" y="0"/>
                          </a:lnTo>
                          <a:lnTo>
                            <a:pt x="21" y="60"/>
                          </a:lnTo>
                          <a:lnTo>
                            <a:pt x="43" y="119"/>
                          </a:lnTo>
                          <a:lnTo>
                            <a:pt x="65" y="177"/>
                          </a:lnTo>
                          <a:lnTo>
                            <a:pt x="89" y="235"/>
                          </a:lnTo>
                          <a:lnTo>
                            <a:pt x="113" y="292"/>
                          </a:lnTo>
                          <a:lnTo>
                            <a:pt x="138" y="349"/>
                          </a:lnTo>
                          <a:lnTo>
                            <a:pt x="165" y="405"/>
                          </a:lnTo>
                          <a:lnTo>
                            <a:pt x="192" y="460"/>
                          </a:lnTo>
                          <a:lnTo>
                            <a:pt x="221" y="515"/>
                          </a:lnTo>
                          <a:lnTo>
                            <a:pt x="251" y="570"/>
                          </a:lnTo>
                          <a:lnTo>
                            <a:pt x="281" y="623"/>
                          </a:lnTo>
                          <a:lnTo>
                            <a:pt x="312" y="677"/>
                          </a:lnTo>
                          <a:lnTo>
                            <a:pt x="345" y="730"/>
                          </a:lnTo>
                          <a:lnTo>
                            <a:pt x="379" y="784"/>
                          </a:lnTo>
                          <a:lnTo>
                            <a:pt x="413" y="838"/>
                          </a:lnTo>
                          <a:lnTo>
                            <a:pt x="450" y="890"/>
                          </a:lnTo>
                          <a:lnTo>
                            <a:pt x="459" y="902"/>
                          </a:lnTo>
                          <a:lnTo>
                            <a:pt x="471" y="912"/>
                          </a:lnTo>
                          <a:lnTo>
                            <a:pt x="482" y="920"/>
                          </a:lnTo>
                          <a:lnTo>
                            <a:pt x="495" y="925"/>
                          </a:lnTo>
                          <a:lnTo>
                            <a:pt x="509" y="929"/>
                          </a:lnTo>
                          <a:lnTo>
                            <a:pt x="520" y="930"/>
                          </a:lnTo>
                          <a:lnTo>
                            <a:pt x="533" y="929"/>
                          </a:lnTo>
                          <a:lnTo>
                            <a:pt x="545" y="925"/>
                          </a:lnTo>
                          <a:lnTo>
                            <a:pt x="578" y="909"/>
                          </a:lnTo>
                          <a:lnTo>
                            <a:pt x="609" y="895"/>
                          </a:lnTo>
                          <a:lnTo>
                            <a:pt x="642" y="879"/>
                          </a:lnTo>
                          <a:lnTo>
                            <a:pt x="673" y="865"/>
                          </a:lnTo>
                          <a:lnTo>
                            <a:pt x="705" y="849"/>
                          </a:lnTo>
                          <a:lnTo>
                            <a:pt x="736" y="835"/>
                          </a:lnTo>
                          <a:lnTo>
                            <a:pt x="767" y="819"/>
                          </a:lnTo>
                          <a:lnTo>
                            <a:pt x="799" y="805"/>
                          </a:lnTo>
                          <a:lnTo>
                            <a:pt x="830" y="789"/>
                          </a:lnTo>
                          <a:lnTo>
                            <a:pt x="862" y="775"/>
                          </a:lnTo>
                          <a:lnTo>
                            <a:pt x="894" y="759"/>
                          </a:lnTo>
                          <a:lnTo>
                            <a:pt x="926" y="745"/>
                          </a:lnTo>
                          <a:lnTo>
                            <a:pt x="957" y="729"/>
                          </a:lnTo>
                          <a:lnTo>
                            <a:pt x="989" y="713"/>
                          </a:lnTo>
                          <a:lnTo>
                            <a:pt x="1021" y="699"/>
                          </a:lnTo>
                          <a:lnTo>
                            <a:pt x="1053" y="683"/>
                          </a:lnTo>
                          <a:lnTo>
                            <a:pt x="1063" y="677"/>
                          </a:lnTo>
                          <a:lnTo>
                            <a:pt x="1072" y="668"/>
                          </a:lnTo>
                          <a:lnTo>
                            <a:pt x="1079" y="657"/>
                          </a:lnTo>
                          <a:lnTo>
                            <a:pt x="1084" y="645"/>
                          </a:lnTo>
                          <a:lnTo>
                            <a:pt x="1087" y="632"/>
                          </a:lnTo>
                          <a:lnTo>
                            <a:pt x="1088" y="618"/>
                          </a:lnTo>
                          <a:lnTo>
                            <a:pt x="1087" y="604"/>
                          </a:lnTo>
                          <a:lnTo>
                            <a:pt x="1083" y="588"/>
                          </a:lnTo>
                          <a:lnTo>
                            <a:pt x="1077" y="572"/>
                          </a:lnTo>
                          <a:lnTo>
                            <a:pt x="1075" y="560"/>
                          </a:lnTo>
                          <a:lnTo>
                            <a:pt x="1072" y="549"/>
                          </a:lnTo>
                          <a:lnTo>
                            <a:pt x="1067" y="533"/>
                          </a:lnTo>
                          <a:lnTo>
                            <a:pt x="1032" y="555"/>
                          </a:lnTo>
                          <a:lnTo>
                            <a:pt x="998" y="577"/>
                          </a:lnTo>
                          <a:lnTo>
                            <a:pt x="962" y="598"/>
                          </a:lnTo>
                          <a:lnTo>
                            <a:pt x="928" y="619"/>
                          </a:lnTo>
                          <a:lnTo>
                            <a:pt x="894" y="640"/>
                          </a:lnTo>
                          <a:lnTo>
                            <a:pt x="859" y="660"/>
                          </a:lnTo>
                          <a:lnTo>
                            <a:pt x="826" y="679"/>
                          </a:lnTo>
                          <a:lnTo>
                            <a:pt x="792" y="700"/>
                          </a:lnTo>
                          <a:lnTo>
                            <a:pt x="758" y="720"/>
                          </a:lnTo>
                          <a:lnTo>
                            <a:pt x="724" y="740"/>
                          </a:lnTo>
                          <a:lnTo>
                            <a:pt x="692" y="759"/>
                          </a:lnTo>
                          <a:lnTo>
                            <a:pt x="658" y="780"/>
                          </a:lnTo>
                          <a:lnTo>
                            <a:pt x="625" y="800"/>
                          </a:lnTo>
                          <a:lnTo>
                            <a:pt x="591" y="821"/>
                          </a:lnTo>
                          <a:lnTo>
                            <a:pt x="558" y="843"/>
                          </a:lnTo>
                          <a:lnTo>
                            <a:pt x="526" y="8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8" name=""/>
                    <p:cNvSpPr/>
                    <p:nvPr/>
                  </p:nvSpPr>
                  <p:spPr>
                    <a:xfrm>
                      <a:off x="6714720" y="3828240"/>
                      <a:ext cx="9684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1" h="209">
                          <a:moveTo>
                            <a:pt x="16" y="158"/>
                          </a:moveTo>
                          <a:lnTo>
                            <a:pt x="8" y="164"/>
                          </a:lnTo>
                          <a:lnTo>
                            <a:pt x="1" y="174"/>
                          </a:lnTo>
                          <a:lnTo>
                            <a:pt x="0" y="183"/>
                          </a:lnTo>
                          <a:lnTo>
                            <a:pt x="3" y="193"/>
                          </a:lnTo>
                          <a:lnTo>
                            <a:pt x="3" y="193"/>
                          </a:lnTo>
                          <a:lnTo>
                            <a:pt x="9" y="202"/>
                          </a:lnTo>
                          <a:lnTo>
                            <a:pt x="18" y="208"/>
                          </a:lnTo>
                          <a:lnTo>
                            <a:pt x="29" y="209"/>
                          </a:lnTo>
                          <a:lnTo>
                            <a:pt x="39" y="206"/>
                          </a:lnTo>
                          <a:lnTo>
                            <a:pt x="364" y="52"/>
                          </a:lnTo>
                          <a:lnTo>
                            <a:pt x="373" y="44"/>
                          </a:lnTo>
                          <a:lnTo>
                            <a:pt x="379" y="35"/>
                          </a:lnTo>
                          <a:lnTo>
                            <a:pt x="381" y="26"/>
                          </a:lnTo>
                          <a:lnTo>
                            <a:pt x="378" y="15"/>
                          </a:lnTo>
                          <a:lnTo>
                            <a:pt x="378" y="15"/>
                          </a:lnTo>
                          <a:lnTo>
                            <a:pt x="372" y="6"/>
                          </a:lnTo>
                          <a:lnTo>
                            <a:pt x="362" y="1"/>
                          </a:lnTo>
                          <a:lnTo>
                            <a:pt x="352" y="0"/>
                          </a:lnTo>
                          <a:lnTo>
                            <a:pt x="342" y="2"/>
                          </a:lnTo>
                          <a:lnTo>
                            <a:pt x="16" y="15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6761520" y="3898080"/>
                      <a:ext cx="2736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203">
                          <a:moveTo>
                            <a:pt x="104" y="202"/>
                          </a:moveTo>
                          <a:lnTo>
                            <a:pt x="109" y="198"/>
                          </a:lnTo>
                          <a:lnTo>
                            <a:pt x="111" y="193"/>
                          </a:lnTo>
                          <a:lnTo>
                            <a:pt x="111" y="187"/>
                          </a:lnTo>
                          <a:lnTo>
                            <a:pt x="110" y="181"/>
                          </a:lnTo>
                          <a:lnTo>
                            <a:pt x="29" y="10"/>
                          </a:lnTo>
                          <a:lnTo>
                            <a:pt x="25" y="4"/>
                          </a:lnTo>
                          <a:lnTo>
                            <a:pt x="20" y="2"/>
                          </a:lnTo>
                          <a:lnTo>
                            <a:pt x="15" y="0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4" y="6"/>
                          </a:lnTo>
                          <a:lnTo>
                            <a:pt x="2" y="11"/>
                          </a:lnTo>
                          <a:lnTo>
                            <a:pt x="0" y="17"/>
                          </a:lnTo>
                          <a:lnTo>
                            <a:pt x="2" y="24"/>
                          </a:lnTo>
                          <a:lnTo>
                            <a:pt x="81" y="194"/>
                          </a:lnTo>
                          <a:lnTo>
                            <a:pt x="85" y="199"/>
                          </a:lnTo>
                          <a:lnTo>
                            <a:pt x="91" y="203"/>
                          </a:lnTo>
                          <a:lnTo>
                            <a:pt x="97" y="203"/>
                          </a:lnTo>
                          <a:lnTo>
                            <a:pt x="104" y="202"/>
                          </a:lnTo>
                          <a:lnTo>
                            <a:pt x="104" y="2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6779880" y="3890520"/>
                      <a:ext cx="2844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204">
                          <a:moveTo>
                            <a:pt x="105" y="203"/>
                          </a:moveTo>
                          <a:lnTo>
                            <a:pt x="110" y="199"/>
                          </a:lnTo>
                          <a:lnTo>
                            <a:pt x="113" y="194"/>
                          </a:lnTo>
                          <a:lnTo>
                            <a:pt x="113" y="187"/>
                          </a:lnTo>
                          <a:lnTo>
                            <a:pt x="111" y="180"/>
                          </a:lnTo>
                          <a:lnTo>
                            <a:pt x="30" y="9"/>
                          </a:lnTo>
                          <a:lnTo>
                            <a:pt x="26" y="4"/>
                          </a:lnTo>
                          <a:lnTo>
                            <a:pt x="21" y="1"/>
                          </a:lnTo>
                          <a:lnTo>
                            <a:pt x="16" y="0"/>
                          </a:lnTo>
                          <a:lnTo>
                            <a:pt x="9" y="1"/>
                          </a:lnTo>
                          <a:lnTo>
                            <a:pt x="9" y="1"/>
                          </a:lnTo>
                          <a:lnTo>
                            <a:pt x="4" y="5"/>
                          </a:lnTo>
                          <a:lnTo>
                            <a:pt x="2" y="11"/>
                          </a:lnTo>
                          <a:lnTo>
                            <a:pt x="0" y="17"/>
                          </a:lnTo>
                          <a:lnTo>
                            <a:pt x="2" y="24"/>
                          </a:lnTo>
                          <a:lnTo>
                            <a:pt x="83" y="195"/>
                          </a:lnTo>
                          <a:lnTo>
                            <a:pt x="87" y="200"/>
                          </a:lnTo>
                          <a:lnTo>
                            <a:pt x="92" y="203"/>
                          </a:lnTo>
                          <a:lnTo>
                            <a:pt x="98" y="204"/>
                          </a:lnTo>
                          <a:lnTo>
                            <a:pt x="105" y="203"/>
                          </a:lnTo>
                          <a:lnTo>
                            <a:pt x="105" y="20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>
                      <a:off x="6798240" y="3882600"/>
                      <a:ext cx="2808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204">
                          <a:moveTo>
                            <a:pt x="105" y="202"/>
                          </a:moveTo>
                          <a:lnTo>
                            <a:pt x="110" y="199"/>
                          </a:lnTo>
                          <a:lnTo>
                            <a:pt x="113" y="193"/>
                          </a:lnTo>
                          <a:lnTo>
                            <a:pt x="113" y="187"/>
                          </a:lnTo>
                          <a:lnTo>
                            <a:pt x="112" y="180"/>
                          </a:lnTo>
                          <a:lnTo>
                            <a:pt x="31" y="10"/>
                          </a:lnTo>
                          <a:lnTo>
                            <a:pt x="27" y="5"/>
                          </a:lnTo>
                          <a:lnTo>
                            <a:pt x="21" y="1"/>
                          </a:lnTo>
                          <a:lnTo>
                            <a:pt x="16" y="0"/>
                          </a:lnTo>
                          <a:lnTo>
                            <a:pt x="10" y="1"/>
                          </a:lnTo>
                          <a:lnTo>
                            <a:pt x="10" y="1"/>
                          </a:lnTo>
                          <a:lnTo>
                            <a:pt x="4" y="5"/>
                          </a:lnTo>
                          <a:lnTo>
                            <a:pt x="0" y="10"/>
                          </a:lnTo>
                          <a:lnTo>
                            <a:pt x="0" y="17"/>
                          </a:lnTo>
                          <a:lnTo>
                            <a:pt x="2" y="23"/>
                          </a:lnTo>
                          <a:lnTo>
                            <a:pt x="83" y="195"/>
                          </a:lnTo>
                          <a:lnTo>
                            <a:pt x="87" y="200"/>
                          </a:lnTo>
                          <a:lnTo>
                            <a:pt x="92" y="202"/>
                          </a:lnTo>
                          <a:lnTo>
                            <a:pt x="99" y="204"/>
                          </a:lnTo>
                          <a:lnTo>
                            <a:pt x="105" y="202"/>
                          </a:lnTo>
                          <a:lnTo>
                            <a:pt x="105" y="2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6730920" y="3853800"/>
                      <a:ext cx="151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64">
                          <a:moveTo>
                            <a:pt x="58" y="46"/>
                          </a:moveTo>
                          <a:lnTo>
                            <a:pt x="36" y="0"/>
                          </a:lnTo>
                          <a:lnTo>
                            <a:pt x="0" y="18"/>
                          </a:lnTo>
                          <a:lnTo>
                            <a:pt x="22" y="64"/>
                          </a:lnTo>
                          <a:lnTo>
                            <a:pt x="5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6780960" y="3833640"/>
                      <a:ext cx="151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63">
                          <a:moveTo>
                            <a:pt x="59" y="46"/>
                          </a:moveTo>
                          <a:lnTo>
                            <a:pt x="36" y="0"/>
                          </a:lnTo>
                          <a:lnTo>
                            <a:pt x="0" y="17"/>
                          </a:lnTo>
                          <a:lnTo>
                            <a:pt x="22" y="63"/>
                          </a:lnTo>
                          <a:lnTo>
                            <a:pt x="59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>
                      <a:off x="6615720" y="3713760"/>
                      <a:ext cx="27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75">
                          <a:moveTo>
                            <a:pt x="94" y="42"/>
                          </a:moveTo>
                          <a:lnTo>
                            <a:pt x="100" y="37"/>
                          </a:lnTo>
                          <a:lnTo>
                            <a:pt x="106" y="29"/>
                          </a:lnTo>
                          <a:lnTo>
                            <a:pt x="107" y="21"/>
                          </a:lnTo>
                          <a:lnTo>
                            <a:pt x="104" y="13"/>
                          </a:lnTo>
                          <a:lnTo>
                            <a:pt x="104" y="13"/>
                          </a:lnTo>
                          <a:lnTo>
                            <a:pt x="99" y="7"/>
                          </a:lnTo>
                          <a:lnTo>
                            <a:pt x="92" y="1"/>
                          </a:lnTo>
                          <a:lnTo>
                            <a:pt x="83" y="0"/>
                          </a:lnTo>
                          <a:lnTo>
                            <a:pt x="75" y="3"/>
                          </a:lnTo>
                          <a:lnTo>
                            <a:pt x="11" y="33"/>
                          </a:lnTo>
                          <a:lnTo>
                            <a:pt x="5" y="38"/>
                          </a:lnTo>
                          <a:lnTo>
                            <a:pt x="1" y="45"/>
                          </a:lnTo>
                          <a:lnTo>
                            <a:pt x="0" y="54"/>
                          </a:lnTo>
                          <a:lnTo>
                            <a:pt x="2" y="62"/>
                          </a:lnTo>
                          <a:lnTo>
                            <a:pt x="2" y="62"/>
                          </a:lnTo>
                          <a:lnTo>
                            <a:pt x="6" y="69"/>
                          </a:lnTo>
                          <a:lnTo>
                            <a:pt x="14" y="73"/>
                          </a:lnTo>
                          <a:lnTo>
                            <a:pt x="22" y="75"/>
                          </a:lnTo>
                          <a:lnTo>
                            <a:pt x="31" y="72"/>
                          </a:lnTo>
                          <a:lnTo>
                            <a:pt x="94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5" name=""/>
                    <p:cNvSpPr/>
                    <p:nvPr/>
                  </p:nvSpPr>
                  <p:spPr>
                    <a:xfrm>
                      <a:off x="6649560" y="3699720"/>
                      <a:ext cx="2736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75">
                          <a:moveTo>
                            <a:pt x="96" y="42"/>
                          </a:moveTo>
                          <a:lnTo>
                            <a:pt x="102" y="37"/>
                          </a:lnTo>
                          <a:lnTo>
                            <a:pt x="108" y="29"/>
                          </a:lnTo>
                          <a:lnTo>
                            <a:pt x="109" y="21"/>
                          </a:lnTo>
                          <a:lnTo>
                            <a:pt x="106" y="13"/>
                          </a:lnTo>
                          <a:lnTo>
                            <a:pt x="106" y="13"/>
                          </a:lnTo>
                          <a:lnTo>
                            <a:pt x="101" y="7"/>
                          </a:lnTo>
                          <a:lnTo>
                            <a:pt x="95" y="2"/>
                          </a:lnTo>
                          <a:lnTo>
                            <a:pt x="85" y="0"/>
                          </a:lnTo>
                          <a:lnTo>
                            <a:pt x="78" y="3"/>
                          </a:lnTo>
                          <a:lnTo>
                            <a:pt x="13" y="33"/>
                          </a:lnTo>
                          <a:lnTo>
                            <a:pt x="7" y="38"/>
                          </a:lnTo>
                          <a:lnTo>
                            <a:pt x="3" y="45"/>
                          </a:lnTo>
                          <a:lnTo>
                            <a:pt x="0" y="54"/>
                          </a:lnTo>
                          <a:lnTo>
                            <a:pt x="3" y="62"/>
                          </a:lnTo>
                          <a:lnTo>
                            <a:pt x="3" y="62"/>
                          </a:lnTo>
                          <a:lnTo>
                            <a:pt x="8" y="70"/>
                          </a:lnTo>
                          <a:lnTo>
                            <a:pt x="16" y="74"/>
                          </a:lnTo>
                          <a:lnTo>
                            <a:pt x="24" y="75"/>
                          </a:lnTo>
                          <a:lnTo>
                            <a:pt x="33" y="72"/>
                          </a:lnTo>
                          <a:lnTo>
                            <a:pt x="96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6" name=""/>
                    <p:cNvSpPr/>
                    <p:nvPr/>
                  </p:nvSpPr>
                  <p:spPr>
                    <a:xfrm>
                      <a:off x="6683040" y="3686760"/>
                      <a:ext cx="2736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74">
                          <a:moveTo>
                            <a:pt x="96" y="42"/>
                          </a:moveTo>
                          <a:lnTo>
                            <a:pt x="103" y="36"/>
                          </a:lnTo>
                          <a:lnTo>
                            <a:pt x="108" y="28"/>
                          </a:lnTo>
                          <a:lnTo>
                            <a:pt x="109" y="21"/>
                          </a:lnTo>
                          <a:lnTo>
                            <a:pt x="106" y="13"/>
                          </a:lnTo>
                          <a:lnTo>
                            <a:pt x="106" y="13"/>
                          </a:lnTo>
                          <a:lnTo>
                            <a:pt x="101" y="6"/>
                          </a:lnTo>
                          <a:lnTo>
                            <a:pt x="93" y="1"/>
                          </a:lnTo>
                          <a:lnTo>
                            <a:pt x="86" y="0"/>
                          </a:lnTo>
                          <a:lnTo>
                            <a:pt x="76" y="2"/>
                          </a:lnTo>
                          <a:lnTo>
                            <a:pt x="14" y="32"/>
                          </a:lnTo>
                          <a:lnTo>
                            <a:pt x="7" y="38"/>
                          </a:lnTo>
                          <a:lnTo>
                            <a:pt x="3" y="44"/>
                          </a:lnTo>
                          <a:lnTo>
                            <a:pt x="0" y="53"/>
                          </a:lnTo>
                          <a:lnTo>
                            <a:pt x="3" y="61"/>
                          </a:lnTo>
                          <a:lnTo>
                            <a:pt x="3" y="61"/>
                          </a:lnTo>
                          <a:lnTo>
                            <a:pt x="8" y="69"/>
                          </a:lnTo>
                          <a:lnTo>
                            <a:pt x="16" y="73"/>
                          </a:lnTo>
                          <a:lnTo>
                            <a:pt x="24" y="74"/>
                          </a:lnTo>
                          <a:lnTo>
                            <a:pt x="33" y="72"/>
                          </a:lnTo>
                          <a:lnTo>
                            <a:pt x="96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7" name=""/>
                    <p:cNvSpPr/>
                    <p:nvPr/>
                  </p:nvSpPr>
                  <p:spPr>
                    <a:xfrm>
                      <a:off x="6716880" y="3672720"/>
                      <a:ext cx="2736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74">
                          <a:moveTo>
                            <a:pt x="95" y="42"/>
                          </a:moveTo>
                          <a:lnTo>
                            <a:pt x="102" y="38"/>
                          </a:lnTo>
                          <a:lnTo>
                            <a:pt x="106" y="30"/>
                          </a:lnTo>
                          <a:lnTo>
                            <a:pt x="107" y="22"/>
                          </a:lnTo>
                          <a:lnTo>
                            <a:pt x="106" y="13"/>
                          </a:lnTo>
                          <a:lnTo>
                            <a:pt x="106" y="13"/>
                          </a:lnTo>
                          <a:lnTo>
                            <a:pt x="100" y="6"/>
                          </a:lnTo>
                          <a:lnTo>
                            <a:pt x="92" y="1"/>
                          </a:lnTo>
                          <a:lnTo>
                            <a:pt x="85" y="0"/>
                          </a:lnTo>
                          <a:lnTo>
                            <a:pt x="75" y="3"/>
                          </a:lnTo>
                          <a:lnTo>
                            <a:pt x="13" y="33"/>
                          </a:lnTo>
                          <a:lnTo>
                            <a:pt x="6" y="38"/>
                          </a:lnTo>
                          <a:lnTo>
                            <a:pt x="2" y="44"/>
                          </a:lnTo>
                          <a:lnTo>
                            <a:pt x="0" y="54"/>
                          </a:lnTo>
                          <a:lnTo>
                            <a:pt x="2" y="61"/>
                          </a:lnTo>
                          <a:lnTo>
                            <a:pt x="2" y="61"/>
                          </a:lnTo>
                          <a:lnTo>
                            <a:pt x="7" y="69"/>
                          </a:lnTo>
                          <a:lnTo>
                            <a:pt x="15" y="73"/>
                          </a:lnTo>
                          <a:lnTo>
                            <a:pt x="23" y="74"/>
                          </a:lnTo>
                          <a:lnTo>
                            <a:pt x="31" y="72"/>
                          </a:lnTo>
                          <a:lnTo>
                            <a:pt x="95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" name=""/>
                    <p:cNvSpPr/>
                    <p:nvPr/>
                  </p:nvSpPr>
                  <p:spPr>
                    <a:xfrm>
                      <a:off x="6638040" y="371808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20">
                          <a:moveTo>
                            <a:pt x="125" y="81"/>
                          </a:moveTo>
                          <a:lnTo>
                            <a:pt x="129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3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3" y="0"/>
                          </a:lnTo>
                          <a:lnTo>
                            <a:pt x="88" y="1"/>
                          </a:lnTo>
                          <a:lnTo>
                            <a:pt x="8" y="39"/>
                          </a:lnTo>
                          <a:lnTo>
                            <a:pt x="4" y="42"/>
                          </a:lnTo>
                          <a:lnTo>
                            <a:pt x="1" y="46"/>
                          </a:lnTo>
                          <a:lnTo>
                            <a:pt x="0" y="51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40" y="120"/>
                          </a:lnTo>
                          <a:lnTo>
                            <a:pt x="46" y="119"/>
                          </a:lnTo>
                          <a:lnTo>
                            <a:pt x="125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9" name=""/>
                    <p:cNvSpPr/>
                    <p:nvPr/>
                  </p:nvSpPr>
                  <p:spPr>
                    <a:xfrm>
                      <a:off x="6672960" y="3704400"/>
                      <a:ext cx="33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9">
                          <a:moveTo>
                            <a:pt x="124" y="80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3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2" y="0"/>
                          </a:lnTo>
                          <a:lnTo>
                            <a:pt x="88" y="1"/>
                          </a:lnTo>
                          <a:lnTo>
                            <a:pt x="6" y="39"/>
                          </a:lnTo>
                          <a:lnTo>
                            <a:pt x="3" y="42"/>
                          </a:lnTo>
                          <a:lnTo>
                            <a:pt x="1" y="46"/>
                          </a:lnTo>
                          <a:lnTo>
                            <a:pt x="0" y="49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41" y="119"/>
                          </a:lnTo>
                          <a:lnTo>
                            <a:pt x="44" y="117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0" name=""/>
                    <p:cNvSpPr/>
                    <p:nvPr/>
                  </p:nvSpPr>
                  <p:spPr>
                    <a:xfrm>
                      <a:off x="6707520" y="368928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21">
                          <a:moveTo>
                            <a:pt x="124" y="81"/>
                          </a:moveTo>
                          <a:lnTo>
                            <a:pt x="128" y="79"/>
                          </a:lnTo>
                          <a:lnTo>
                            <a:pt x="131" y="75"/>
                          </a:lnTo>
                          <a:lnTo>
                            <a:pt x="131" y="70"/>
                          </a:lnTo>
                          <a:lnTo>
                            <a:pt x="129" y="66"/>
                          </a:lnTo>
                          <a:lnTo>
                            <a:pt x="103" y="8"/>
                          </a:lnTo>
                          <a:lnTo>
                            <a:pt x="99" y="4"/>
                          </a:lnTo>
                          <a:lnTo>
                            <a:pt x="95" y="2"/>
                          </a:lnTo>
                          <a:lnTo>
                            <a:pt x="92" y="0"/>
                          </a:lnTo>
                          <a:lnTo>
                            <a:pt x="86" y="2"/>
                          </a:lnTo>
                          <a:lnTo>
                            <a:pt x="7" y="41"/>
                          </a:lnTo>
                          <a:lnTo>
                            <a:pt x="3" y="44"/>
                          </a:lnTo>
                          <a:lnTo>
                            <a:pt x="1" y="47"/>
                          </a:lnTo>
                          <a:lnTo>
                            <a:pt x="0" y="51"/>
                          </a:lnTo>
                          <a:lnTo>
                            <a:pt x="1" y="57"/>
                          </a:lnTo>
                          <a:lnTo>
                            <a:pt x="29" y="114"/>
                          </a:lnTo>
                          <a:lnTo>
                            <a:pt x="31" y="118"/>
                          </a:lnTo>
                          <a:lnTo>
                            <a:pt x="35" y="119"/>
                          </a:lnTo>
                          <a:lnTo>
                            <a:pt x="39" y="121"/>
                          </a:lnTo>
                          <a:lnTo>
                            <a:pt x="44" y="119"/>
                          </a:lnTo>
                          <a:lnTo>
                            <a:pt x="124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1" name=""/>
                    <p:cNvSpPr/>
                    <p:nvPr/>
                  </p:nvSpPr>
                  <p:spPr>
                    <a:xfrm>
                      <a:off x="6651360" y="374184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20">
                          <a:moveTo>
                            <a:pt x="126" y="81"/>
                          </a:moveTo>
                          <a:lnTo>
                            <a:pt x="130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4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2" y="0"/>
                          </a:lnTo>
                          <a:lnTo>
                            <a:pt x="88" y="1"/>
                          </a:lnTo>
                          <a:lnTo>
                            <a:pt x="8" y="39"/>
                          </a:lnTo>
                          <a:lnTo>
                            <a:pt x="4" y="41"/>
                          </a:lnTo>
                          <a:lnTo>
                            <a:pt x="2" y="45"/>
                          </a:lnTo>
                          <a:lnTo>
                            <a:pt x="0" y="51"/>
                          </a:lnTo>
                          <a:lnTo>
                            <a:pt x="2" y="55"/>
                          </a:lnTo>
                          <a:lnTo>
                            <a:pt x="29" y="112"/>
                          </a:lnTo>
                          <a:lnTo>
                            <a:pt x="32" y="116"/>
                          </a:lnTo>
                          <a:lnTo>
                            <a:pt x="36" y="119"/>
                          </a:lnTo>
                          <a:lnTo>
                            <a:pt x="41" y="120"/>
                          </a:lnTo>
                          <a:lnTo>
                            <a:pt x="45" y="119"/>
                          </a:lnTo>
                          <a:lnTo>
                            <a:pt x="126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2" name=""/>
                    <p:cNvSpPr/>
                    <p:nvPr/>
                  </p:nvSpPr>
                  <p:spPr>
                    <a:xfrm>
                      <a:off x="6686280" y="372780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9">
                          <a:moveTo>
                            <a:pt x="125" y="79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4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2" y="0"/>
                          </a:lnTo>
                          <a:lnTo>
                            <a:pt x="88" y="1"/>
                          </a:lnTo>
                          <a:lnTo>
                            <a:pt x="7" y="39"/>
                          </a:lnTo>
                          <a:lnTo>
                            <a:pt x="3" y="41"/>
                          </a:lnTo>
                          <a:lnTo>
                            <a:pt x="2" y="45"/>
                          </a:lnTo>
                          <a:lnTo>
                            <a:pt x="0" y="49"/>
                          </a:lnTo>
                          <a:lnTo>
                            <a:pt x="2" y="54"/>
                          </a:lnTo>
                          <a:lnTo>
                            <a:pt x="29" y="112"/>
                          </a:lnTo>
                          <a:lnTo>
                            <a:pt x="32" y="116"/>
                          </a:lnTo>
                          <a:lnTo>
                            <a:pt x="36" y="119"/>
                          </a:lnTo>
                          <a:lnTo>
                            <a:pt x="41" y="119"/>
                          </a:lnTo>
                          <a:lnTo>
                            <a:pt x="45" y="117"/>
                          </a:lnTo>
                          <a:lnTo>
                            <a:pt x="125" y="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3" name=""/>
                    <p:cNvSpPr/>
                    <p:nvPr/>
                  </p:nvSpPr>
                  <p:spPr>
                    <a:xfrm>
                      <a:off x="6720840" y="371376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20">
                          <a:moveTo>
                            <a:pt x="125" y="81"/>
                          </a:moveTo>
                          <a:lnTo>
                            <a:pt x="128" y="79"/>
                          </a:lnTo>
                          <a:lnTo>
                            <a:pt x="131" y="75"/>
                          </a:lnTo>
                          <a:lnTo>
                            <a:pt x="131" y="70"/>
                          </a:lnTo>
                          <a:lnTo>
                            <a:pt x="130" y="66"/>
                          </a:lnTo>
                          <a:lnTo>
                            <a:pt x="102" y="8"/>
                          </a:lnTo>
                          <a:lnTo>
                            <a:pt x="100" y="4"/>
                          </a:lnTo>
                          <a:lnTo>
                            <a:pt x="96" y="2"/>
                          </a:lnTo>
                          <a:lnTo>
                            <a:pt x="92" y="0"/>
                          </a:lnTo>
                          <a:lnTo>
                            <a:pt x="87" y="2"/>
                          </a:lnTo>
                          <a:lnTo>
                            <a:pt x="7" y="41"/>
                          </a:lnTo>
                          <a:lnTo>
                            <a:pt x="3" y="43"/>
                          </a:lnTo>
                          <a:lnTo>
                            <a:pt x="0" y="47"/>
                          </a:lnTo>
                          <a:lnTo>
                            <a:pt x="0" y="51"/>
                          </a:lnTo>
                          <a:lnTo>
                            <a:pt x="2" y="56"/>
                          </a:lnTo>
                          <a:lnTo>
                            <a:pt x="29" y="114"/>
                          </a:lnTo>
                          <a:lnTo>
                            <a:pt x="32" y="118"/>
                          </a:lnTo>
                          <a:lnTo>
                            <a:pt x="36" y="119"/>
                          </a:lnTo>
                          <a:lnTo>
                            <a:pt x="40" y="120"/>
                          </a:lnTo>
                          <a:lnTo>
                            <a:pt x="45" y="119"/>
                          </a:lnTo>
                          <a:lnTo>
                            <a:pt x="125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4" name=""/>
                    <p:cNvSpPr/>
                    <p:nvPr/>
                  </p:nvSpPr>
                  <p:spPr>
                    <a:xfrm>
                      <a:off x="6664680" y="3766320"/>
                      <a:ext cx="33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9">
                          <a:moveTo>
                            <a:pt x="125" y="79"/>
                          </a:moveTo>
                          <a:lnTo>
                            <a:pt x="129" y="76"/>
                          </a:lnTo>
                          <a:lnTo>
                            <a:pt x="130" y="72"/>
                          </a:lnTo>
                          <a:lnTo>
                            <a:pt x="132" y="68"/>
                          </a:lnTo>
                          <a:lnTo>
                            <a:pt x="130" y="63"/>
                          </a:lnTo>
                          <a:lnTo>
                            <a:pt x="103" y="7"/>
                          </a:lnTo>
                          <a:lnTo>
                            <a:pt x="100" y="3"/>
                          </a:lnTo>
                          <a:lnTo>
                            <a:pt x="96" y="2"/>
                          </a:lnTo>
                          <a:lnTo>
                            <a:pt x="91" y="0"/>
                          </a:lnTo>
                          <a:lnTo>
                            <a:pt x="87" y="2"/>
                          </a:lnTo>
                          <a:lnTo>
                            <a:pt x="7" y="38"/>
                          </a:lnTo>
                          <a:lnTo>
                            <a:pt x="3" y="41"/>
                          </a:lnTo>
                          <a:lnTo>
                            <a:pt x="1" y="45"/>
                          </a:lnTo>
                          <a:lnTo>
                            <a:pt x="0" y="50"/>
                          </a:lnTo>
                          <a:lnTo>
                            <a:pt x="1" y="54"/>
                          </a:lnTo>
                          <a:lnTo>
                            <a:pt x="28" y="112"/>
                          </a:lnTo>
                          <a:lnTo>
                            <a:pt x="31" y="115"/>
                          </a:lnTo>
                          <a:lnTo>
                            <a:pt x="35" y="118"/>
                          </a:lnTo>
                          <a:lnTo>
                            <a:pt x="40" y="119"/>
                          </a:lnTo>
                          <a:lnTo>
                            <a:pt x="44" y="118"/>
                          </a:lnTo>
                          <a:lnTo>
                            <a:pt x="125" y="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6699240" y="3752280"/>
                      <a:ext cx="334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8">
                          <a:moveTo>
                            <a:pt x="124" y="80"/>
                          </a:moveTo>
                          <a:lnTo>
                            <a:pt x="128" y="78"/>
                          </a:lnTo>
                          <a:lnTo>
                            <a:pt x="130" y="74"/>
                          </a:lnTo>
                          <a:lnTo>
                            <a:pt x="132" y="70"/>
                          </a:lnTo>
                          <a:lnTo>
                            <a:pt x="130" y="64"/>
                          </a:lnTo>
                          <a:lnTo>
                            <a:pt x="103" y="7"/>
                          </a:lnTo>
                          <a:lnTo>
                            <a:pt x="100" y="3"/>
                          </a:lnTo>
                          <a:lnTo>
                            <a:pt x="96" y="0"/>
                          </a:lnTo>
                          <a:lnTo>
                            <a:pt x="91" y="0"/>
                          </a:lnTo>
                          <a:lnTo>
                            <a:pt x="86" y="2"/>
                          </a:lnTo>
                          <a:lnTo>
                            <a:pt x="6" y="40"/>
                          </a:lnTo>
                          <a:lnTo>
                            <a:pt x="2" y="42"/>
                          </a:lnTo>
                          <a:lnTo>
                            <a:pt x="1" y="46"/>
                          </a:lnTo>
                          <a:lnTo>
                            <a:pt x="0" y="50"/>
                          </a:lnTo>
                          <a:lnTo>
                            <a:pt x="1" y="55"/>
                          </a:lnTo>
                          <a:lnTo>
                            <a:pt x="28" y="112"/>
                          </a:lnTo>
                          <a:lnTo>
                            <a:pt x="31" y="115"/>
                          </a:lnTo>
                          <a:lnTo>
                            <a:pt x="35" y="118"/>
                          </a:lnTo>
                          <a:lnTo>
                            <a:pt x="39" y="118"/>
                          </a:lnTo>
                          <a:lnTo>
                            <a:pt x="44" y="117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6734160" y="373752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20">
                          <a:moveTo>
                            <a:pt x="123" y="81"/>
                          </a:moveTo>
                          <a:lnTo>
                            <a:pt x="127" y="78"/>
                          </a:lnTo>
                          <a:lnTo>
                            <a:pt x="129" y="75"/>
                          </a:lnTo>
                          <a:lnTo>
                            <a:pt x="129" y="69"/>
                          </a:lnTo>
                          <a:lnTo>
                            <a:pt x="128" y="65"/>
                          </a:lnTo>
                          <a:lnTo>
                            <a:pt x="102" y="8"/>
                          </a:lnTo>
                          <a:lnTo>
                            <a:pt x="99" y="4"/>
                          </a:lnTo>
                          <a:lnTo>
                            <a:pt x="95" y="1"/>
                          </a:lnTo>
                          <a:lnTo>
                            <a:pt x="91" y="0"/>
                          </a:lnTo>
                          <a:lnTo>
                            <a:pt x="86" y="1"/>
                          </a:lnTo>
                          <a:lnTo>
                            <a:pt x="6" y="41"/>
                          </a:lnTo>
                          <a:lnTo>
                            <a:pt x="2" y="43"/>
                          </a:lnTo>
                          <a:lnTo>
                            <a:pt x="0" y="47"/>
                          </a:lnTo>
                          <a:lnTo>
                            <a:pt x="0" y="51"/>
                          </a:lnTo>
                          <a:lnTo>
                            <a:pt x="1" y="56"/>
                          </a:lnTo>
                          <a:lnTo>
                            <a:pt x="28" y="114"/>
                          </a:lnTo>
                          <a:lnTo>
                            <a:pt x="31" y="118"/>
                          </a:lnTo>
                          <a:lnTo>
                            <a:pt x="35" y="119"/>
                          </a:lnTo>
                          <a:lnTo>
                            <a:pt x="39" y="120"/>
                          </a:lnTo>
                          <a:lnTo>
                            <a:pt x="44" y="119"/>
                          </a:lnTo>
                          <a:lnTo>
                            <a:pt x="123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>
                      <a:off x="6678000" y="378972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20">
                          <a:moveTo>
                            <a:pt x="124" y="80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3" y="6"/>
                          </a:lnTo>
                          <a:lnTo>
                            <a:pt x="101" y="3"/>
                          </a:lnTo>
                          <a:lnTo>
                            <a:pt x="97" y="1"/>
                          </a:lnTo>
                          <a:lnTo>
                            <a:pt x="91" y="0"/>
                          </a:lnTo>
                          <a:lnTo>
                            <a:pt x="88" y="1"/>
                          </a:lnTo>
                          <a:lnTo>
                            <a:pt x="8" y="39"/>
                          </a:lnTo>
                          <a:lnTo>
                            <a:pt x="4" y="42"/>
                          </a:lnTo>
                          <a:lnTo>
                            <a:pt x="1" y="46"/>
                          </a:lnTo>
                          <a:lnTo>
                            <a:pt x="0" y="51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40" y="120"/>
                          </a:lnTo>
                          <a:lnTo>
                            <a:pt x="44" y="119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8" name=""/>
                    <p:cNvSpPr/>
                    <p:nvPr/>
                  </p:nvSpPr>
                  <p:spPr>
                    <a:xfrm>
                      <a:off x="6712560" y="3775680"/>
                      <a:ext cx="334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19">
                          <a:moveTo>
                            <a:pt x="124" y="80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1" y="69"/>
                          </a:lnTo>
                          <a:lnTo>
                            <a:pt x="129" y="64"/>
                          </a:lnTo>
                          <a:lnTo>
                            <a:pt x="103" y="6"/>
                          </a:lnTo>
                          <a:lnTo>
                            <a:pt x="99" y="3"/>
                          </a:lnTo>
                          <a:lnTo>
                            <a:pt x="95" y="0"/>
                          </a:lnTo>
                          <a:lnTo>
                            <a:pt x="91" y="0"/>
                          </a:lnTo>
                          <a:lnTo>
                            <a:pt x="86" y="1"/>
                          </a:lnTo>
                          <a:lnTo>
                            <a:pt x="6" y="39"/>
                          </a:lnTo>
                          <a:lnTo>
                            <a:pt x="3" y="42"/>
                          </a:lnTo>
                          <a:lnTo>
                            <a:pt x="1" y="46"/>
                          </a:lnTo>
                          <a:lnTo>
                            <a:pt x="0" y="50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39" y="119"/>
                          </a:lnTo>
                          <a:lnTo>
                            <a:pt x="44" y="118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9" name=""/>
                    <p:cNvSpPr/>
                    <p:nvPr/>
                  </p:nvSpPr>
                  <p:spPr>
                    <a:xfrm>
                      <a:off x="6747120" y="3762000"/>
                      <a:ext cx="33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19">
                          <a:moveTo>
                            <a:pt x="123" y="80"/>
                          </a:moveTo>
                          <a:lnTo>
                            <a:pt x="127" y="77"/>
                          </a:lnTo>
                          <a:lnTo>
                            <a:pt x="128" y="73"/>
                          </a:lnTo>
                          <a:lnTo>
                            <a:pt x="129" y="68"/>
                          </a:lnTo>
                          <a:lnTo>
                            <a:pt x="128" y="64"/>
                          </a:lnTo>
                          <a:lnTo>
                            <a:pt x="101" y="8"/>
                          </a:lnTo>
                          <a:lnTo>
                            <a:pt x="98" y="4"/>
                          </a:lnTo>
                          <a:lnTo>
                            <a:pt x="94" y="1"/>
                          </a:lnTo>
                          <a:lnTo>
                            <a:pt x="90" y="0"/>
                          </a:lnTo>
                          <a:lnTo>
                            <a:pt x="85" y="1"/>
                          </a:lnTo>
                          <a:lnTo>
                            <a:pt x="6" y="40"/>
                          </a:lnTo>
                          <a:lnTo>
                            <a:pt x="3" y="43"/>
                          </a:lnTo>
                          <a:lnTo>
                            <a:pt x="0" y="46"/>
                          </a:lnTo>
                          <a:lnTo>
                            <a:pt x="0" y="50"/>
                          </a:lnTo>
                          <a:lnTo>
                            <a:pt x="1" y="55"/>
                          </a:lnTo>
                          <a:lnTo>
                            <a:pt x="27" y="112"/>
                          </a:lnTo>
                          <a:lnTo>
                            <a:pt x="31" y="116"/>
                          </a:lnTo>
                          <a:lnTo>
                            <a:pt x="35" y="117"/>
                          </a:lnTo>
                          <a:lnTo>
                            <a:pt x="39" y="119"/>
                          </a:lnTo>
                          <a:lnTo>
                            <a:pt x="44" y="117"/>
                          </a:lnTo>
                          <a:lnTo>
                            <a:pt x="123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>
                      <a:off x="6564960" y="3592440"/>
                      <a:ext cx="173160" cy="12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146">
                          <a:moveTo>
                            <a:pt x="168" y="78"/>
                          </a:moveTo>
                          <a:lnTo>
                            <a:pt x="168" y="76"/>
                          </a:lnTo>
                          <a:lnTo>
                            <a:pt x="168" y="76"/>
                          </a:lnTo>
                          <a:lnTo>
                            <a:pt x="168" y="70"/>
                          </a:lnTo>
                          <a:lnTo>
                            <a:pt x="170" y="72"/>
                          </a:lnTo>
                          <a:lnTo>
                            <a:pt x="136" y="4"/>
                          </a:lnTo>
                          <a:lnTo>
                            <a:pt x="134" y="6"/>
                          </a:lnTo>
                          <a:lnTo>
                            <a:pt x="134" y="10"/>
                          </a:lnTo>
                          <a:lnTo>
                            <a:pt x="136" y="10"/>
                          </a:lnTo>
                          <a:lnTo>
                            <a:pt x="134" y="0"/>
                          </a:lnTo>
                          <a:lnTo>
                            <a:pt x="8" y="70"/>
                          </a:lnTo>
                          <a:lnTo>
                            <a:pt x="8" y="74"/>
                          </a:lnTo>
                          <a:lnTo>
                            <a:pt x="10" y="74"/>
                          </a:lnTo>
                          <a:lnTo>
                            <a:pt x="4" y="72"/>
                          </a:lnTo>
                          <a:lnTo>
                            <a:pt x="0" y="74"/>
                          </a:lnTo>
                          <a:lnTo>
                            <a:pt x="34" y="138"/>
                          </a:lnTo>
                          <a:lnTo>
                            <a:pt x="34" y="138"/>
                          </a:lnTo>
                          <a:lnTo>
                            <a:pt x="36" y="138"/>
                          </a:lnTo>
                          <a:lnTo>
                            <a:pt x="38" y="136"/>
                          </a:lnTo>
                          <a:lnTo>
                            <a:pt x="34" y="146"/>
                          </a:lnTo>
                          <a:lnTo>
                            <a:pt x="168" y="7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1" name=""/>
                    <p:cNvSpPr/>
                    <p:nvPr/>
                  </p:nvSpPr>
                  <p:spPr>
                    <a:xfrm>
                      <a:off x="6547680" y="3429000"/>
                      <a:ext cx="27180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8" h="1528">
                          <a:moveTo>
                            <a:pt x="650" y="676"/>
                          </a:moveTo>
                          <a:lnTo>
                            <a:pt x="641" y="664"/>
                          </a:lnTo>
                          <a:lnTo>
                            <a:pt x="630" y="654"/>
                          </a:lnTo>
                          <a:lnTo>
                            <a:pt x="619" y="645"/>
                          </a:lnTo>
                          <a:lnTo>
                            <a:pt x="607" y="639"/>
                          </a:lnTo>
                          <a:lnTo>
                            <a:pt x="594" y="636"/>
                          </a:lnTo>
                          <a:lnTo>
                            <a:pt x="581" y="634"/>
                          </a:lnTo>
                          <a:lnTo>
                            <a:pt x="569" y="636"/>
                          </a:lnTo>
                          <a:lnTo>
                            <a:pt x="557" y="639"/>
                          </a:lnTo>
                          <a:lnTo>
                            <a:pt x="552" y="642"/>
                          </a:lnTo>
                          <a:lnTo>
                            <a:pt x="545" y="645"/>
                          </a:lnTo>
                          <a:lnTo>
                            <a:pt x="540" y="647"/>
                          </a:lnTo>
                          <a:lnTo>
                            <a:pt x="534" y="650"/>
                          </a:lnTo>
                          <a:lnTo>
                            <a:pt x="534" y="650"/>
                          </a:lnTo>
                          <a:lnTo>
                            <a:pt x="534" y="649"/>
                          </a:lnTo>
                          <a:lnTo>
                            <a:pt x="532" y="649"/>
                          </a:lnTo>
                          <a:lnTo>
                            <a:pt x="532" y="647"/>
                          </a:lnTo>
                          <a:lnTo>
                            <a:pt x="527" y="641"/>
                          </a:lnTo>
                          <a:lnTo>
                            <a:pt x="522" y="634"/>
                          </a:lnTo>
                          <a:lnTo>
                            <a:pt x="515" y="630"/>
                          </a:lnTo>
                          <a:lnTo>
                            <a:pt x="509" y="626"/>
                          </a:lnTo>
                          <a:lnTo>
                            <a:pt x="502" y="624"/>
                          </a:lnTo>
                          <a:lnTo>
                            <a:pt x="494" y="624"/>
                          </a:lnTo>
                          <a:lnTo>
                            <a:pt x="488" y="624"/>
                          </a:lnTo>
                          <a:lnTo>
                            <a:pt x="481" y="626"/>
                          </a:lnTo>
                          <a:lnTo>
                            <a:pt x="472" y="632"/>
                          </a:lnTo>
                          <a:lnTo>
                            <a:pt x="463" y="636"/>
                          </a:lnTo>
                          <a:lnTo>
                            <a:pt x="452" y="639"/>
                          </a:lnTo>
                          <a:lnTo>
                            <a:pt x="443" y="645"/>
                          </a:lnTo>
                          <a:lnTo>
                            <a:pt x="170" y="68"/>
                          </a:lnTo>
                          <a:lnTo>
                            <a:pt x="178" y="58"/>
                          </a:lnTo>
                          <a:lnTo>
                            <a:pt x="182" y="47"/>
                          </a:lnTo>
                          <a:lnTo>
                            <a:pt x="183" y="34"/>
                          </a:lnTo>
                          <a:lnTo>
                            <a:pt x="179" y="22"/>
                          </a:lnTo>
                          <a:lnTo>
                            <a:pt x="175" y="16"/>
                          </a:lnTo>
                          <a:lnTo>
                            <a:pt x="170" y="9"/>
                          </a:lnTo>
                          <a:lnTo>
                            <a:pt x="165" y="5"/>
                          </a:lnTo>
                          <a:lnTo>
                            <a:pt x="158" y="3"/>
                          </a:lnTo>
                          <a:lnTo>
                            <a:pt x="150" y="0"/>
                          </a:lnTo>
                          <a:lnTo>
                            <a:pt x="142" y="0"/>
                          </a:lnTo>
                          <a:lnTo>
                            <a:pt x="136" y="2"/>
                          </a:lnTo>
                          <a:lnTo>
                            <a:pt x="128" y="4"/>
                          </a:lnTo>
                          <a:lnTo>
                            <a:pt x="116" y="13"/>
                          </a:lnTo>
                          <a:lnTo>
                            <a:pt x="108" y="25"/>
                          </a:lnTo>
                          <a:lnTo>
                            <a:pt x="106" y="41"/>
                          </a:lnTo>
                          <a:lnTo>
                            <a:pt x="110" y="55"/>
                          </a:lnTo>
                          <a:lnTo>
                            <a:pt x="114" y="60"/>
                          </a:lnTo>
                          <a:lnTo>
                            <a:pt x="118" y="66"/>
                          </a:lnTo>
                          <a:lnTo>
                            <a:pt x="121" y="70"/>
                          </a:lnTo>
                          <a:lnTo>
                            <a:pt x="127" y="72"/>
                          </a:lnTo>
                          <a:lnTo>
                            <a:pt x="133" y="75"/>
                          </a:lnTo>
                          <a:lnTo>
                            <a:pt x="138" y="76"/>
                          </a:lnTo>
                          <a:lnTo>
                            <a:pt x="145" y="76"/>
                          </a:lnTo>
                          <a:lnTo>
                            <a:pt x="152" y="76"/>
                          </a:lnTo>
                          <a:lnTo>
                            <a:pt x="425" y="653"/>
                          </a:lnTo>
                          <a:lnTo>
                            <a:pt x="420" y="655"/>
                          </a:lnTo>
                          <a:lnTo>
                            <a:pt x="414" y="658"/>
                          </a:lnTo>
                          <a:lnTo>
                            <a:pt x="409" y="660"/>
                          </a:lnTo>
                          <a:lnTo>
                            <a:pt x="405" y="662"/>
                          </a:lnTo>
                          <a:lnTo>
                            <a:pt x="400" y="664"/>
                          </a:lnTo>
                          <a:lnTo>
                            <a:pt x="395" y="667"/>
                          </a:lnTo>
                          <a:lnTo>
                            <a:pt x="390" y="670"/>
                          </a:lnTo>
                          <a:lnTo>
                            <a:pt x="384" y="672"/>
                          </a:lnTo>
                          <a:lnTo>
                            <a:pt x="374" y="681"/>
                          </a:lnTo>
                          <a:lnTo>
                            <a:pt x="369" y="693"/>
                          </a:lnTo>
                          <a:lnTo>
                            <a:pt x="369" y="707"/>
                          </a:lnTo>
                          <a:lnTo>
                            <a:pt x="373" y="723"/>
                          </a:lnTo>
                          <a:lnTo>
                            <a:pt x="374" y="724"/>
                          </a:lnTo>
                          <a:lnTo>
                            <a:pt x="374" y="724"/>
                          </a:lnTo>
                          <a:lnTo>
                            <a:pt x="374" y="724"/>
                          </a:lnTo>
                          <a:lnTo>
                            <a:pt x="375" y="726"/>
                          </a:lnTo>
                          <a:lnTo>
                            <a:pt x="354" y="736"/>
                          </a:lnTo>
                          <a:lnTo>
                            <a:pt x="333" y="745"/>
                          </a:lnTo>
                          <a:lnTo>
                            <a:pt x="311" y="756"/>
                          </a:lnTo>
                          <a:lnTo>
                            <a:pt x="290" y="766"/>
                          </a:lnTo>
                          <a:lnTo>
                            <a:pt x="269" y="775"/>
                          </a:lnTo>
                          <a:lnTo>
                            <a:pt x="248" y="786"/>
                          </a:lnTo>
                          <a:lnTo>
                            <a:pt x="227" y="795"/>
                          </a:lnTo>
                          <a:lnTo>
                            <a:pt x="207" y="805"/>
                          </a:lnTo>
                          <a:lnTo>
                            <a:pt x="186" y="816"/>
                          </a:lnTo>
                          <a:lnTo>
                            <a:pt x="165" y="825"/>
                          </a:lnTo>
                          <a:lnTo>
                            <a:pt x="144" y="836"/>
                          </a:lnTo>
                          <a:lnTo>
                            <a:pt x="123" y="846"/>
                          </a:lnTo>
                          <a:lnTo>
                            <a:pt x="102" y="856"/>
                          </a:lnTo>
                          <a:lnTo>
                            <a:pt x="80" y="866"/>
                          </a:lnTo>
                          <a:lnTo>
                            <a:pt x="59" y="876"/>
                          </a:lnTo>
                          <a:lnTo>
                            <a:pt x="38" y="887"/>
                          </a:lnTo>
                          <a:lnTo>
                            <a:pt x="27" y="893"/>
                          </a:lnTo>
                          <a:lnTo>
                            <a:pt x="18" y="902"/>
                          </a:lnTo>
                          <a:lnTo>
                            <a:pt x="10" y="913"/>
                          </a:lnTo>
                          <a:lnTo>
                            <a:pt x="5" y="924"/>
                          </a:lnTo>
                          <a:lnTo>
                            <a:pt x="1" y="939"/>
                          </a:lnTo>
                          <a:lnTo>
                            <a:pt x="0" y="953"/>
                          </a:lnTo>
                          <a:lnTo>
                            <a:pt x="1" y="968"/>
                          </a:lnTo>
                          <a:lnTo>
                            <a:pt x="4" y="983"/>
                          </a:lnTo>
                          <a:lnTo>
                            <a:pt x="6" y="994"/>
                          </a:lnTo>
                          <a:lnTo>
                            <a:pt x="10" y="1004"/>
                          </a:lnTo>
                          <a:lnTo>
                            <a:pt x="14" y="1016"/>
                          </a:lnTo>
                          <a:lnTo>
                            <a:pt x="17" y="1026"/>
                          </a:lnTo>
                          <a:lnTo>
                            <a:pt x="55" y="1004"/>
                          </a:lnTo>
                          <a:lnTo>
                            <a:pt x="91" y="981"/>
                          </a:lnTo>
                          <a:lnTo>
                            <a:pt x="128" y="958"/>
                          </a:lnTo>
                          <a:lnTo>
                            <a:pt x="163" y="936"/>
                          </a:lnTo>
                          <a:lnTo>
                            <a:pt x="200" y="915"/>
                          </a:lnTo>
                          <a:lnTo>
                            <a:pt x="235" y="893"/>
                          </a:lnTo>
                          <a:lnTo>
                            <a:pt x="271" y="871"/>
                          </a:lnTo>
                          <a:lnTo>
                            <a:pt x="306" y="850"/>
                          </a:lnTo>
                          <a:lnTo>
                            <a:pt x="341" y="828"/>
                          </a:lnTo>
                          <a:lnTo>
                            <a:pt x="377" y="807"/>
                          </a:lnTo>
                          <a:lnTo>
                            <a:pt x="412" y="785"/>
                          </a:lnTo>
                          <a:lnTo>
                            <a:pt x="446" y="764"/>
                          </a:lnTo>
                          <a:lnTo>
                            <a:pt x="481" y="741"/>
                          </a:lnTo>
                          <a:lnTo>
                            <a:pt x="517" y="721"/>
                          </a:lnTo>
                          <a:lnTo>
                            <a:pt x="551" y="698"/>
                          </a:lnTo>
                          <a:lnTo>
                            <a:pt x="586" y="677"/>
                          </a:lnTo>
                          <a:lnTo>
                            <a:pt x="621" y="730"/>
                          </a:lnTo>
                          <a:lnTo>
                            <a:pt x="655" y="781"/>
                          </a:lnTo>
                          <a:lnTo>
                            <a:pt x="688" y="833"/>
                          </a:lnTo>
                          <a:lnTo>
                            <a:pt x="722" y="884"/>
                          </a:lnTo>
                          <a:lnTo>
                            <a:pt x="753" y="936"/>
                          </a:lnTo>
                          <a:lnTo>
                            <a:pt x="785" y="988"/>
                          </a:lnTo>
                          <a:lnTo>
                            <a:pt x="816" y="1041"/>
                          </a:lnTo>
                          <a:lnTo>
                            <a:pt x="847" y="1093"/>
                          </a:lnTo>
                          <a:lnTo>
                            <a:pt x="876" y="1145"/>
                          </a:lnTo>
                          <a:lnTo>
                            <a:pt x="906" y="1199"/>
                          </a:lnTo>
                          <a:lnTo>
                            <a:pt x="935" y="1253"/>
                          </a:lnTo>
                          <a:lnTo>
                            <a:pt x="963" y="1306"/>
                          </a:lnTo>
                          <a:lnTo>
                            <a:pt x="990" y="1361"/>
                          </a:lnTo>
                          <a:lnTo>
                            <a:pt x="1016" y="1416"/>
                          </a:lnTo>
                          <a:lnTo>
                            <a:pt x="1042" y="1472"/>
                          </a:lnTo>
                          <a:lnTo>
                            <a:pt x="1068" y="1528"/>
                          </a:lnTo>
                          <a:lnTo>
                            <a:pt x="1048" y="1472"/>
                          </a:lnTo>
                          <a:lnTo>
                            <a:pt x="1025" y="1416"/>
                          </a:lnTo>
                          <a:lnTo>
                            <a:pt x="1003" y="1361"/>
                          </a:lnTo>
                          <a:lnTo>
                            <a:pt x="980" y="1306"/>
                          </a:lnTo>
                          <a:lnTo>
                            <a:pt x="956" y="1253"/>
                          </a:lnTo>
                          <a:lnTo>
                            <a:pt x="931" y="1199"/>
                          </a:lnTo>
                          <a:lnTo>
                            <a:pt x="906" y="1145"/>
                          </a:lnTo>
                          <a:lnTo>
                            <a:pt x="881" y="1092"/>
                          </a:lnTo>
                          <a:lnTo>
                            <a:pt x="855" y="1039"/>
                          </a:lnTo>
                          <a:lnTo>
                            <a:pt x="828" y="987"/>
                          </a:lnTo>
                          <a:lnTo>
                            <a:pt x="800" y="935"/>
                          </a:lnTo>
                          <a:lnTo>
                            <a:pt x="772" y="883"/>
                          </a:lnTo>
                          <a:lnTo>
                            <a:pt x="743" y="830"/>
                          </a:lnTo>
                          <a:lnTo>
                            <a:pt x="713" y="779"/>
                          </a:lnTo>
                          <a:lnTo>
                            <a:pt x="681" y="727"/>
                          </a:lnTo>
                          <a:lnTo>
                            <a:pt x="650" y="6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2" name=""/>
                    <p:cNvSpPr/>
                    <p:nvPr/>
                  </p:nvSpPr>
                  <p:spPr>
                    <a:xfrm>
                      <a:off x="6695280" y="3830040"/>
                      <a:ext cx="18648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2" h="340">
                          <a:moveTo>
                            <a:pt x="732" y="340"/>
                          </a:moveTo>
                          <a:lnTo>
                            <a:pt x="592" y="46"/>
                          </a:lnTo>
                          <a:lnTo>
                            <a:pt x="584" y="33"/>
                          </a:lnTo>
                          <a:lnTo>
                            <a:pt x="575" y="22"/>
                          </a:lnTo>
                          <a:lnTo>
                            <a:pt x="565" y="13"/>
                          </a:lnTo>
                          <a:lnTo>
                            <a:pt x="554" y="7"/>
                          </a:lnTo>
                          <a:lnTo>
                            <a:pt x="542" y="3"/>
                          </a:lnTo>
                          <a:lnTo>
                            <a:pt x="531" y="0"/>
                          </a:lnTo>
                          <a:lnTo>
                            <a:pt x="519" y="2"/>
                          </a:lnTo>
                          <a:lnTo>
                            <a:pt x="507" y="6"/>
                          </a:lnTo>
                          <a:lnTo>
                            <a:pt x="28" y="233"/>
                          </a:lnTo>
                          <a:lnTo>
                            <a:pt x="11" y="247"/>
                          </a:lnTo>
                          <a:lnTo>
                            <a:pt x="1" y="268"/>
                          </a:lnTo>
                          <a:lnTo>
                            <a:pt x="0" y="294"/>
                          </a:lnTo>
                          <a:lnTo>
                            <a:pt x="6" y="321"/>
                          </a:lnTo>
                          <a:lnTo>
                            <a:pt x="527" y="29"/>
                          </a:lnTo>
                          <a:lnTo>
                            <a:pt x="732" y="3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3" name=""/>
                    <p:cNvSpPr/>
                    <p:nvPr/>
                  </p:nvSpPr>
                  <p:spPr>
                    <a:xfrm>
                      <a:off x="6711480" y="3927960"/>
                      <a:ext cx="5472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309">
                          <a:moveTo>
                            <a:pt x="126" y="263"/>
                          </a:moveTo>
                          <a:lnTo>
                            <a:pt x="133" y="276"/>
                          </a:lnTo>
                          <a:lnTo>
                            <a:pt x="143" y="287"/>
                          </a:lnTo>
                          <a:lnTo>
                            <a:pt x="153" y="296"/>
                          </a:lnTo>
                          <a:lnTo>
                            <a:pt x="163" y="302"/>
                          </a:lnTo>
                          <a:lnTo>
                            <a:pt x="175" y="308"/>
                          </a:lnTo>
                          <a:lnTo>
                            <a:pt x="187" y="309"/>
                          </a:lnTo>
                          <a:lnTo>
                            <a:pt x="199" y="309"/>
                          </a:lnTo>
                          <a:lnTo>
                            <a:pt x="209" y="305"/>
                          </a:lnTo>
                          <a:lnTo>
                            <a:pt x="213" y="302"/>
                          </a:lnTo>
                          <a:lnTo>
                            <a:pt x="0" y="0"/>
                          </a:lnTo>
                          <a:lnTo>
                            <a:pt x="126" y="2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4" name=""/>
                    <p:cNvSpPr/>
                    <p:nvPr/>
                  </p:nvSpPr>
                  <p:spPr>
                    <a:xfrm>
                      <a:off x="6801480" y="3930480"/>
                      <a:ext cx="9360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9" h="223">
                          <a:moveTo>
                            <a:pt x="0" y="223"/>
                          </a:moveTo>
                          <a:lnTo>
                            <a:pt x="340" y="61"/>
                          </a:lnTo>
                          <a:lnTo>
                            <a:pt x="353" y="51"/>
                          </a:lnTo>
                          <a:lnTo>
                            <a:pt x="364" y="36"/>
                          </a:lnTo>
                          <a:lnTo>
                            <a:pt x="369" y="19"/>
                          </a:lnTo>
                          <a:lnTo>
                            <a:pt x="369" y="0"/>
                          </a:lnTo>
                          <a:lnTo>
                            <a:pt x="0" y="2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5" name=""/>
                    <p:cNvSpPr/>
                    <p:nvPr/>
                  </p:nvSpPr>
                  <p:spPr>
                    <a:xfrm>
                      <a:off x="6766560" y="3979440"/>
                      <a:ext cx="345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76">
                          <a:moveTo>
                            <a:pt x="9" y="76"/>
                          </a:moveTo>
                          <a:lnTo>
                            <a:pt x="136" y="0"/>
                          </a:lnTo>
                          <a:lnTo>
                            <a:pt x="0" y="64"/>
                          </a:lnTo>
                          <a:lnTo>
                            <a:pt x="9" y="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6" name=""/>
                    <p:cNvSpPr/>
                    <p:nvPr/>
                  </p:nvSpPr>
                  <p:spPr>
                    <a:xfrm>
                      <a:off x="6739200" y="3601080"/>
                      <a:ext cx="2736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91">
                          <a:moveTo>
                            <a:pt x="93" y="73"/>
                          </a:moveTo>
                          <a:lnTo>
                            <a:pt x="84" y="56"/>
                          </a:lnTo>
                          <a:lnTo>
                            <a:pt x="73" y="40"/>
                          </a:lnTo>
                          <a:lnTo>
                            <a:pt x="62" y="27"/>
                          </a:lnTo>
                          <a:lnTo>
                            <a:pt x="50" y="17"/>
                          </a:lnTo>
                          <a:lnTo>
                            <a:pt x="38" y="8"/>
                          </a:lnTo>
                          <a:lnTo>
                            <a:pt x="25" y="2"/>
                          </a:lnTo>
                          <a:lnTo>
                            <a:pt x="12" y="0"/>
                          </a:lnTo>
                          <a:lnTo>
                            <a:pt x="0" y="1"/>
                          </a:lnTo>
                          <a:lnTo>
                            <a:pt x="90" y="191"/>
                          </a:lnTo>
                          <a:lnTo>
                            <a:pt x="104" y="171"/>
                          </a:lnTo>
                          <a:lnTo>
                            <a:pt x="109" y="142"/>
                          </a:lnTo>
                          <a:lnTo>
                            <a:pt x="105" y="110"/>
                          </a:lnTo>
                          <a:lnTo>
                            <a:pt x="93" y="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7" name=""/>
                    <p:cNvSpPr/>
                    <p:nvPr/>
                  </p:nvSpPr>
                  <p:spPr>
                    <a:xfrm>
                      <a:off x="6729120" y="3874680"/>
                      <a:ext cx="5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9">
                          <a:moveTo>
                            <a:pt x="0" y="9"/>
                          </a:moveTo>
                          <a:lnTo>
                            <a:pt x="6" y="7"/>
                          </a:lnTo>
                          <a:lnTo>
                            <a:pt x="11" y="4"/>
                          </a:lnTo>
                          <a:lnTo>
                            <a:pt x="15" y="3"/>
                          </a:lnTo>
                          <a:lnTo>
                            <a:pt x="20" y="0"/>
                          </a:lnTo>
                          <a:lnTo>
                            <a:pt x="0" y="9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8" name=""/>
                    <p:cNvSpPr/>
                    <p:nvPr/>
                  </p:nvSpPr>
                  <p:spPr>
                    <a:xfrm>
                      <a:off x="6728040" y="3623760"/>
                      <a:ext cx="2736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91">
                          <a:moveTo>
                            <a:pt x="95" y="73"/>
                          </a:moveTo>
                          <a:lnTo>
                            <a:pt x="85" y="56"/>
                          </a:lnTo>
                          <a:lnTo>
                            <a:pt x="75" y="41"/>
                          </a:lnTo>
                          <a:lnTo>
                            <a:pt x="63" y="28"/>
                          </a:lnTo>
                          <a:lnTo>
                            <a:pt x="50" y="17"/>
                          </a:lnTo>
                          <a:lnTo>
                            <a:pt x="38" y="8"/>
                          </a:lnTo>
                          <a:lnTo>
                            <a:pt x="25" y="3"/>
                          </a:lnTo>
                          <a:lnTo>
                            <a:pt x="12" y="0"/>
                          </a:lnTo>
                          <a:lnTo>
                            <a:pt x="0" y="1"/>
                          </a:lnTo>
                          <a:lnTo>
                            <a:pt x="91" y="191"/>
                          </a:lnTo>
                          <a:lnTo>
                            <a:pt x="104" y="171"/>
                          </a:lnTo>
                          <a:lnTo>
                            <a:pt x="110" y="143"/>
                          </a:lnTo>
                          <a:lnTo>
                            <a:pt x="106" y="109"/>
                          </a:lnTo>
                          <a:lnTo>
                            <a:pt x="95" y="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29" name=""/>
                <p:cNvGrpSpPr/>
                <p:nvPr/>
              </p:nvGrpSpPr>
              <p:grpSpPr>
                <a:xfrm>
                  <a:off x="6232320" y="4032000"/>
                  <a:ext cx="758160" cy="658080"/>
                  <a:chOff x="6232320" y="4032000"/>
                  <a:chExt cx="758160" cy="658080"/>
                </a:xfrm>
              </p:grpSpPr>
              <p:grpSp>
                <p:nvGrpSpPr>
                  <p:cNvPr id="1330" name=""/>
                  <p:cNvGrpSpPr/>
                  <p:nvPr/>
                </p:nvGrpSpPr>
                <p:grpSpPr>
                  <a:xfrm>
                    <a:off x="6232320" y="4328640"/>
                    <a:ext cx="414360" cy="189000"/>
                    <a:chOff x="6232320" y="4328640"/>
                    <a:chExt cx="414360" cy="189000"/>
                  </a:xfrm>
                </p:grpSpPr>
                <p:sp>
                  <p:nvSpPr>
                    <p:cNvPr id="1331" name=""/>
                    <p:cNvSpPr/>
                    <p:nvPr/>
                  </p:nvSpPr>
                  <p:spPr>
                    <a:xfrm flipH="1">
                      <a:off x="6232320" y="4369320"/>
                      <a:ext cx="253800" cy="148320"/>
                    </a:xfrm>
                    <a:prstGeom prst="line">
                      <a:avLst/>
                    </a:prstGeom>
                    <a:ln cap="rnd" w="12600">
                      <a:solidFill>
                        <a:srgbClr val="ff6600"/>
                      </a:solidFill>
                      <a:custDash>
                        <a:ds d="100000" sp="1000"/>
                      </a:custDash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2" name=""/>
                    <p:cNvSpPr/>
                    <p:nvPr/>
                  </p:nvSpPr>
                  <p:spPr>
                    <a:xfrm flipH="1">
                      <a:off x="6460200" y="4328640"/>
                      <a:ext cx="186480" cy="107280"/>
                    </a:xfrm>
                    <a:prstGeom prst="line">
                      <a:avLst/>
                    </a:prstGeom>
                    <a:ln cap="rnd" w="12600">
                      <a:solidFill>
                        <a:srgbClr val="ff66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 flipH="1">
                      <a:off x="6455880" y="4367880"/>
                      <a:ext cx="30240" cy="70560"/>
                    </a:xfrm>
                    <a:prstGeom prst="line">
                      <a:avLst/>
                    </a:prstGeom>
                    <a:ln cap="rnd" w="12600">
                      <a:solidFill>
                        <a:srgbClr val="ff66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34" name=""/>
                  <p:cNvGrpSpPr/>
                  <p:nvPr/>
                </p:nvGrpSpPr>
                <p:grpSpPr>
                  <a:xfrm>
                    <a:off x="6505920" y="4032000"/>
                    <a:ext cx="484560" cy="658080"/>
                    <a:chOff x="6505920" y="4032000"/>
                    <a:chExt cx="484560" cy="658080"/>
                  </a:xfrm>
                </p:grpSpPr>
                <p:sp>
                  <p:nvSpPr>
                    <p:cNvPr id="1335" name=""/>
                    <p:cNvSpPr/>
                    <p:nvPr/>
                  </p:nvSpPr>
                  <p:spPr>
                    <a:xfrm rot="2301600">
                      <a:off x="6568560" y="4200120"/>
                      <a:ext cx="282240" cy="29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8" h="1362">
                          <a:moveTo>
                            <a:pt x="5" y="289"/>
                          </a:moveTo>
                          <a:lnTo>
                            <a:pt x="582" y="0"/>
                          </a:lnTo>
                          <a:lnTo>
                            <a:pt x="630" y="63"/>
                          </a:lnTo>
                          <a:lnTo>
                            <a:pt x="633" y="67"/>
                          </a:lnTo>
                          <a:lnTo>
                            <a:pt x="638" y="76"/>
                          </a:lnTo>
                          <a:lnTo>
                            <a:pt x="647" y="92"/>
                          </a:lnTo>
                          <a:lnTo>
                            <a:pt x="660" y="113"/>
                          </a:lnTo>
                          <a:lnTo>
                            <a:pt x="675" y="139"/>
                          </a:lnTo>
                          <a:lnTo>
                            <a:pt x="692" y="168"/>
                          </a:lnTo>
                          <a:lnTo>
                            <a:pt x="711" y="200"/>
                          </a:lnTo>
                          <a:lnTo>
                            <a:pt x="731" y="234"/>
                          </a:lnTo>
                          <a:lnTo>
                            <a:pt x="752" y="271"/>
                          </a:lnTo>
                          <a:lnTo>
                            <a:pt x="773" y="309"/>
                          </a:lnTo>
                          <a:lnTo>
                            <a:pt x="794" y="345"/>
                          </a:lnTo>
                          <a:lnTo>
                            <a:pt x="815" y="383"/>
                          </a:lnTo>
                          <a:lnTo>
                            <a:pt x="836" y="420"/>
                          </a:lnTo>
                          <a:lnTo>
                            <a:pt x="854" y="455"/>
                          </a:lnTo>
                          <a:lnTo>
                            <a:pt x="871" y="487"/>
                          </a:lnTo>
                          <a:lnTo>
                            <a:pt x="885" y="517"/>
                          </a:lnTo>
                          <a:lnTo>
                            <a:pt x="912" y="569"/>
                          </a:lnTo>
                          <a:lnTo>
                            <a:pt x="935" y="619"/>
                          </a:lnTo>
                          <a:lnTo>
                            <a:pt x="959" y="667"/>
                          </a:lnTo>
                          <a:lnTo>
                            <a:pt x="980" y="714"/>
                          </a:lnTo>
                          <a:lnTo>
                            <a:pt x="999" y="759"/>
                          </a:lnTo>
                          <a:lnTo>
                            <a:pt x="1018" y="799"/>
                          </a:lnTo>
                          <a:lnTo>
                            <a:pt x="1035" y="838"/>
                          </a:lnTo>
                          <a:lnTo>
                            <a:pt x="1050" y="874"/>
                          </a:lnTo>
                          <a:lnTo>
                            <a:pt x="1063" y="906"/>
                          </a:lnTo>
                          <a:lnTo>
                            <a:pt x="1075" y="935"/>
                          </a:lnTo>
                          <a:lnTo>
                            <a:pt x="1084" y="960"/>
                          </a:lnTo>
                          <a:lnTo>
                            <a:pt x="1093" y="981"/>
                          </a:lnTo>
                          <a:lnTo>
                            <a:pt x="1100" y="998"/>
                          </a:lnTo>
                          <a:lnTo>
                            <a:pt x="1104" y="1009"/>
                          </a:lnTo>
                          <a:lnTo>
                            <a:pt x="1106" y="1017"/>
                          </a:lnTo>
                          <a:lnTo>
                            <a:pt x="1108" y="1020"/>
                          </a:lnTo>
                          <a:lnTo>
                            <a:pt x="545" y="1362"/>
                          </a:lnTo>
                          <a:lnTo>
                            <a:pt x="390" y="1152"/>
                          </a:lnTo>
                          <a:lnTo>
                            <a:pt x="388" y="1151"/>
                          </a:lnTo>
                          <a:lnTo>
                            <a:pt x="384" y="1147"/>
                          </a:lnTo>
                          <a:lnTo>
                            <a:pt x="377" y="1136"/>
                          </a:lnTo>
                          <a:lnTo>
                            <a:pt x="362" y="1115"/>
                          </a:lnTo>
                          <a:lnTo>
                            <a:pt x="341" y="1083"/>
                          </a:lnTo>
                          <a:lnTo>
                            <a:pt x="311" y="1032"/>
                          </a:lnTo>
                          <a:lnTo>
                            <a:pt x="272" y="962"/>
                          </a:lnTo>
                          <a:lnTo>
                            <a:pt x="221" y="871"/>
                          </a:lnTo>
                          <a:lnTo>
                            <a:pt x="194" y="819"/>
                          </a:lnTo>
                          <a:lnTo>
                            <a:pt x="167" y="769"/>
                          </a:lnTo>
                          <a:lnTo>
                            <a:pt x="144" y="719"/>
                          </a:lnTo>
                          <a:lnTo>
                            <a:pt x="123" y="672"/>
                          </a:lnTo>
                          <a:lnTo>
                            <a:pt x="102" y="628"/>
                          </a:lnTo>
                          <a:lnTo>
                            <a:pt x="85" y="586"/>
                          </a:lnTo>
                          <a:lnTo>
                            <a:pt x="68" y="547"/>
                          </a:lnTo>
                          <a:lnTo>
                            <a:pt x="54" y="510"/>
                          </a:lnTo>
                          <a:lnTo>
                            <a:pt x="40" y="476"/>
                          </a:lnTo>
                          <a:lnTo>
                            <a:pt x="30" y="447"/>
                          </a:lnTo>
                          <a:lnTo>
                            <a:pt x="21" y="421"/>
                          </a:lnTo>
                          <a:lnTo>
                            <a:pt x="13" y="399"/>
                          </a:lnTo>
                          <a:lnTo>
                            <a:pt x="8" y="382"/>
                          </a:lnTo>
                          <a:lnTo>
                            <a:pt x="4" y="369"/>
                          </a:lnTo>
                          <a:lnTo>
                            <a:pt x="1" y="361"/>
                          </a:lnTo>
                          <a:lnTo>
                            <a:pt x="0" y="358"/>
                          </a:lnTo>
                          <a:lnTo>
                            <a:pt x="5" y="289"/>
                          </a:lnTo>
                          <a:close/>
                        </a:path>
                      </a:pathLst>
                    </a:custGeom>
                    <a:solidFill>
                      <a:srgbClr val="afafa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6" name=""/>
                    <p:cNvSpPr/>
                    <p:nvPr/>
                  </p:nvSpPr>
                  <p:spPr>
                    <a:xfrm rot="2301600">
                      <a:off x="6681960" y="4239360"/>
                      <a:ext cx="172800" cy="2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2" h="1111">
                          <a:moveTo>
                            <a:pt x="465" y="511"/>
                          </a:moveTo>
                          <a:lnTo>
                            <a:pt x="449" y="482"/>
                          </a:lnTo>
                          <a:lnTo>
                            <a:pt x="432" y="449"/>
                          </a:lnTo>
                          <a:lnTo>
                            <a:pt x="412" y="414"/>
                          </a:lnTo>
                          <a:lnTo>
                            <a:pt x="393" y="379"/>
                          </a:lnTo>
                          <a:lnTo>
                            <a:pt x="371" y="341"/>
                          </a:lnTo>
                          <a:lnTo>
                            <a:pt x="348" y="303"/>
                          </a:lnTo>
                          <a:lnTo>
                            <a:pt x="327" y="266"/>
                          </a:lnTo>
                          <a:lnTo>
                            <a:pt x="305" y="231"/>
                          </a:lnTo>
                          <a:lnTo>
                            <a:pt x="284" y="196"/>
                          </a:lnTo>
                          <a:lnTo>
                            <a:pt x="266" y="164"/>
                          </a:lnTo>
                          <a:lnTo>
                            <a:pt x="248" y="135"/>
                          </a:lnTo>
                          <a:lnTo>
                            <a:pt x="232" y="111"/>
                          </a:lnTo>
                          <a:lnTo>
                            <a:pt x="220" y="90"/>
                          </a:lnTo>
                          <a:lnTo>
                            <a:pt x="210" y="74"/>
                          </a:lnTo>
                          <a:lnTo>
                            <a:pt x="204" y="65"/>
                          </a:lnTo>
                          <a:lnTo>
                            <a:pt x="202" y="61"/>
                          </a:lnTo>
                          <a:lnTo>
                            <a:pt x="150" y="0"/>
                          </a:lnTo>
                          <a:lnTo>
                            <a:pt x="0" y="73"/>
                          </a:lnTo>
                          <a:lnTo>
                            <a:pt x="21" y="102"/>
                          </a:lnTo>
                          <a:lnTo>
                            <a:pt x="44" y="130"/>
                          </a:lnTo>
                          <a:lnTo>
                            <a:pt x="64" y="160"/>
                          </a:lnTo>
                          <a:lnTo>
                            <a:pt x="85" y="192"/>
                          </a:lnTo>
                          <a:lnTo>
                            <a:pt x="106" y="223"/>
                          </a:lnTo>
                          <a:lnTo>
                            <a:pt x="129" y="256"/>
                          </a:lnTo>
                          <a:lnTo>
                            <a:pt x="150" y="290"/>
                          </a:lnTo>
                          <a:lnTo>
                            <a:pt x="170" y="324"/>
                          </a:lnTo>
                          <a:lnTo>
                            <a:pt x="191" y="359"/>
                          </a:lnTo>
                          <a:lnTo>
                            <a:pt x="211" y="394"/>
                          </a:lnTo>
                          <a:lnTo>
                            <a:pt x="232" y="431"/>
                          </a:lnTo>
                          <a:lnTo>
                            <a:pt x="252" y="468"/>
                          </a:lnTo>
                          <a:lnTo>
                            <a:pt x="272" y="505"/>
                          </a:lnTo>
                          <a:lnTo>
                            <a:pt x="292" y="545"/>
                          </a:lnTo>
                          <a:lnTo>
                            <a:pt x="310" y="584"/>
                          </a:lnTo>
                          <a:lnTo>
                            <a:pt x="330" y="623"/>
                          </a:lnTo>
                          <a:lnTo>
                            <a:pt x="360" y="687"/>
                          </a:lnTo>
                          <a:lnTo>
                            <a:pt x="388" y="750"/>
                          </a:lnTo>
                          <a:lnTo>
                            <a:pt x="414" y="813"/>
                          </a:lnTo>
                          <a:lnTo>
                            <a:pt x="437" y="874"/>
                          </a:lnTo>
                          <a:lnTo>
                            <a:pt x="460" y="934"/>
                          </a:lnTo>
                          <a:lnTo>
                            <a:pt x="480" y="994"/>
                          </a:lnTo>
                          <a:lnTo>
                            <a:pt x="500" y="1053"/>
                          </a:lnTo>
                          <a:lnTo>
                            <a:pt x="517" y="1111"/>
                          </a:lnTo>
                          <a:lnTo>
                            <a:pt x="682" y="1015"/>
                          </a:lnTo>
                          <a:lnTo>
                            <a:pt x="681" y="1013"/>
                          </a:lnTo>
                          <a:lnTo>
                            <a:pt x="678" y="1005"/>
                          </a:lnTo>
                          <a:lnTo>
                            <a:pt x="674" y="993"/>
                          </a:lnTo>
                          <a:lnTo>
                            <a:pt x="667" y="976"/>
                          </a:lnTo>
                          <a:lnTo>
                            <a:pt x="660" y="955"/>
                          </a:lnTo>
                          <a:lnTo>
                            <a:pt x="650" y="929"/>
                          </a:lnTo>
                          <a:lnTo>
                            <a:pt x="640" y="900"/>
                          </a:lnTo>
                          <a:lnTo>
                            <a:pt x="627" y="868"/>
                          </a:lnTo>
                          <a:lnTo>
                            <a:pt x="613" y="832"/>
                          </a:lnTo>
                          <a:lnTo>
                            <a:pt x="596" y="793"/>
                          </a:lnTo>
                          <a:lnTo>
                            <a:pt x="579" y="751"/>
                          </a:lnTo>
                          <a:lnTo>
                            <a:pt x="559" y="708"/>
                          </a:lnTo>
                          <a:lnTo>
                            <a:pt x="538" y="661"/>
                          </a:lnTo>
                          <a:lnTo>
                            <a:pt x="514" y="613"/>
                          </a:lnTo>
                          <a:lnTo>
                            <a:pt x="491" y="563"/>
                          </a:lnTo>
                          <a:lnTo>
                            <a:pt x="465" y="511"/>
                          </a:lnTo>
                          <a:close/>
                        </a:path>
                      </a:pathLst>
                    </a:custGeom>
                    <a:solidFill>
                      <a:srgbClr val="d8d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7" name=""/>
                    <p:cNvSpPr/>
                    <p:nvPr/>
                  </p:nvSpPr>
                  <p:spPr>
                    <a:xfrm rot="2301600">
                      <a:off x="6564600" y="4208400"/>
                      <a:ext cx="148680" cy="24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3" h="1103">
                          <a:moveTo>
                            <a:pt x="65" y="0"/>
                          </a:moveTo>
                          <a:lnTo>
                            <a:pt x="4" y="30"/>
                          </a:lnTo>
                          <a:lnTo>
                            <a:pt x="0" y="99"/>
                          </a:lnTo>
                          <a:lnTo>
                            <a:pt x="1" y="102"/>
                          </a:lnTo>
                          <a:lnTo>
                            <a:pt x="4" y="110"/>
                          </a:lnTo>
                          <a:lnTo>
                            <a:pt x="8" y="123"/>
                          </a:lnTo>
                          <a:lnTo>
                            <a:pt x="13" y="140"/>
                          </a:lnTo>
                          <a:lnTo>
                            <a:pt x="21" y="162"/>
                          </a:lnTo>
                          <a:lnTo>
                            <a:pt x="30" y="188"/>
                          </a:lnTo>
                          <a:lnTo>
                            <a:pt x="40" y="217"/>
                          </a:lnTo>
                          <a:lnTo>
                            <a:pt x="53" y="251"/>
                          </a:lnTo>
                          <a:lnTo>
                            <a:pt x="68" y="287"/>
                          </a:lnTo>
                          <a:lnTo>
                            <a:pt x="85" y="327"/>
                          </a:lnTo>
                          <a:lnTo>
                            <a:pt x="102" y="368"/>
                          </a:lnTo>
                          <a:lnTo>
                            <a:pt x="123" y="413"/>
                          </a:lnTo>
                          <a:lnTo>
                            <a:pt x="144" y="460"/>
                          </a:lnTo>
                          <a:lnTo>
                            <a:pt x="167" y="510"/>
                          </a:lnTo>
                          <a:lnTo>
                            <a:pt x="193" y="559"/>
                          </a:lnTo>
                          <a:lnTo>
                            <a:pt x="221" y="612"/>
                          </a:lnTo>
                          <a:lnTo>
                            <a:pt x="272" y="703"/>
                          </a:lnTo>
                          <a:lnTo>
                            <a:pt x="311" y="772"/>
                          </a:lnTo>
                          <a:lnTo>
                            <a:pt x="340" y="823"/>
                          </a:lnTo>
                          <a:lnTo>
                            <a:pt x="362" y="856"/>
                          </a:lnTo>
                          <a:lnTo>
                            <a:pt x="375" y="877"/>
                          </a:lnTo>
                          <a:lnTo>
                            <a:pt x="383" y="887"/>
                          </a:lnTo>
                          <a:lnTo>
                            <a:pt x="387" y="891"/>
                          </a:lnTo>
                          <a:lnTo>
                            <a:pt x="388" y="893"/>
                          </a:lnTo>
                          <a:lnTo>
                            <a:pt x="544" y="1103"/>
                          </a:lnTo>
                          <a:lnTo>
                            <a:pt x="583" y="1080"/>
                          </a:lnTo>
                          <a:lnTo>
                            <a:pt x="566" y="1051"/>
                          </a:lnTo>
                          <a:lnTo>
                            <a:pt x="549" y="1022"/>
                          </a:lnTo>
                          <a:lnTo>
                            <a:pt x="532" y="992"/>
                          </a:lnTo>
                          <a:lnTo>
                            <a:pt x="515" y="961"/>
                          </a:lnTo>
                          <a:lnTo>
                            <a:pt x="497" y="929"/>
                          </a:lnTo>
                          <a:lnTo>
                            <a:pt x="480" y="897"/>
                          </a:lnTo>
                          <a:lnTo>
                            <a:pt x="461" y="863"/>
                          </a:lnTo>
                          <a:lnTo>
                            <a:pt x="443" y="829"/>
                          </a:lnTo>
                          <a:lnTo>
                            <a:pt x="425" y="795"/>
                          </a:lnTo>
                          <a:lnTo>
                            <a:pt x="406" y="759"/>
                          </a:lnTo>
                          <a:lnTo>
                            <a:pt x="388" y="723"/>
                          </a:lnTo>
                          <a:lnTo>
                            <a:pt x="370" y="686"/>
                          </a:lnTo>
                          <a:lnTo>
                            <a:pt x="352" y="649"/>
                          </a:lnTo>
                          <a:lnTo>
                            <a:pt x="332" y="612"/>
                          </a:lnTo>
                          <a:lnTo>
                            <a:pt x="314" y="574"/>
                          </a:lnTo>
                          <a:lnTo>
                            <a:pt x="295" y="534"/>
                          </a:lnTo>
                          <a:lnTo>
                            <a:pt x="278" y="498"/>
                          </a:lnTo>
                          <a:lnTo>
                            <a:pt x="261" y="463"/>
                          </a:lnTo>
                          <a:lnTo>
                            <a:pt x="244" y="426"/>
                          </a:lnTo>
                          <a:lnTo>
                            <a:pt x="229" y="391"/>
                          </a:lnTo>
                          <a:lnTo>
                            <a:pt x="213" y="355"/>
                          </a:lnTo>
                          <a:lnTo>
                            <a:pt x="197" y="321"/>
                          </a:lnTo>
                          <a:lnTo>
                            <a:pt x="182" y="287"/>
                          </a:lnTo>
                          <a:lnTo>
                            <a:pt x="167" y="253"/>
                          </a:lnTo>
                          <a:lnTo>
                            <a:pt x="153" y="219"/>
                          </a:lnTo>
                          <a:lnTo>
                            <a:pt x="140" y="187"/>
                          </a:lnTo>
                          <a:lnTo>
                            <a:pt x="125" y="154"/>
                          </a:lnTo>
                          <a:lnTo>
                            <a:pt x="113" y="123"/>
                          </a:lnTo>
                          <a:lnTo>
                            <a:pt x="100" y="91"/>
                          </a:lnTo>
                          <a:lnTo>
                            <a:pt x="89" y="60"/>
                          </a:lnTo>
                          <a:lnTo>
                            <a:pt x="77" y="30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8" name=""/>
                    <p:cNvSpPr/>
                    <p:nvPr/>
                  </p:nvSpPr>
                  <p:spPr>
                    <a:xfrm rot="2301600">
                      <a:off x="6571800" y="4488480"/>
                      <a:ext cx="197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720">
                          <a:moveTo>
                            <a:pt x="280" y="720"/>
                          </a:moveTo>
                          <a:lnTo>
                            <a:pt x="731" y="490"/>
                          </a:lnTo>
                          <a:lnTo>
                            <a:pt x="777" y="431"/>
                          </a:lnTo>
                          <a:lnTo>
                            <a:pt x="568" y="0"/>
                          </a:lnTo>
                          <a:lnTo>
                            <a:pt x="488" y="8"/>
                          </a:lnTo>
                          <a:lnTo>
                            <a:pt x="3" y="253"/>
                          </a:lnTo>
                          <a:lnTo>
                            <a:pt x="0" y="287"/>
                          </a:lnTo>
                          <a:lnTo>
                            <a:pt x="195" y="696"/>
                          </a:lnTo>
                          <a:lnTo>
                            <a:pt x="280" y="720"/>
                          </a:lnTo>
                          <a:close/>
                        </a:path>
                      </a:pathLst>
                    </a:custGeom>
                    <a:solidFill>
                      <a:srgbClr val="afafa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9" name=""/>
                    <p:cNvSpPr/>
                    <p:nvPr/>
                  </p:nvSpPr>
                  <p:spPr>
                    <a:xfrm rot="2301600">
                      <a:off x="6693480" y="4528800"/>
                      <a:ext cx="79200" cy="11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3" h="514">
                          <a:moveTo>
                            <a:pt x="313" y="437"/>
                          </a:moveTo>
                          <a:lnTo>
                            <a:pt x="105" y="4"/>
                          </a:lnTo>
                          <a:lnTo>
                            <a:pt x="49" y="0"/>
                          </a:lnTo>
                          <a:lnTo>
                            <a:pt x="0" y="26"/>
                          </a:lnTo>
                          <a:lnTo>
                            <a:pt x="15" y="54"/>
                          </a:lnTo>
                          <a:lnTo>
                            <a:pt x="30" y="83"/>
                          </a:lnTo>
                          <a:lnTo>
                            <a:pt x="46" y="113"/>
                          </a:lnTo>
                          <a:lnTo>
                            <a:pt x="62" y="145"/>
                          </a:lnTo>
                          <a:lnTo>
                            <a:pt x="79" y="178"/>
                          </a:lnTo>
                          <a:lnTo>
                            <a:pt x="96" y="212"/>
                          </a:lnTo>
                          <a:lnTo>
                            <a:pt x="113" y="247"/>
                          </a:lnTo>
                          <a:lnTo>
                            <a:pt x="130" y="284"/>
                          </a:lnTo>
                          <a:lnTo>
                            <a:pt x="144" y="315"/>
                          </a:lnTo>
                          <a:lnTo>
                            <a:pt x="159" y="345"/>
                          </a:lnTo>
                          <a:lnTo>
                            <a:pt x="173" y="375"/>
                          </a:lnTo>
                          <a:lnTo>
                            <a:pt x="186" y="404"/>
                          </a:lnTo>
                          <a:lnTo>
                            <a:pt x="199" y="433"/>
                          </a:lnTo>
                          <a:lnTo>
                            <a:pt x="212" y="462"/>
                          </a:lnTo>
                          <a:lnTo>
                            <a:pt x="224" y="488"/>
                          </a:lnTo>
                          <a:lnTo>
                            <a:pt x="235" y="514"/>
                          </a:lnTo>
                          <a:lnTo>
                            <a:pt x="289" y="485"/>
                          </a:lnTo>
                          <a:lnTo>
                            <a:pt x="313" y="437"/>
                          </a:lnTo>
                          <a:close/>
                        </a:path>
                      </a:pathLst>
                    </a:custGeom>
                    <a:solidFill>
                      <a:srgbClr val="d8d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0" name=""/>
                    <p:cNvSpPr/>
                    <p:nvPr/>
                  </p:nvSpPr>
                  <p:spPr>
                    <a:xfrm rot="2301600">
                      <a:off x="6568920" y="4492800"/>
                      <a:ext cx="74160" cy="10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" h="498">
                          <a:moveTo>
                            <a:pt x="64" y="0"/>
                          </a:moveTo>
                          <a:lnTo>
                            <a:pt x="2" y="32"/>
                          </a:lnTo>
                          <a:lnTo>
                            <a:pt x="0" y="66"/>
                          </a:lnTo>
                          <a:lnTo>
                            <a:pt x="194" y="475"/>
                          </a:lnTo>
                          <a:lnTo>
                            <a:pt x="279" y="498"/>
                          </a:lnTo>
                          <a:lnTo>
                            <a:pt x="293" y="490"/>
                          </a:lnTo>
                          <a:lnTo>
                            <a:pt x="281" y="467"/>
                          </a:lnTo>
                          <a:lnTo>
                            <a:pt x="268" y="442"/>
                          </a:lnTo>
                          <a:lnTo>
                            <a:pt x="256" y="416"/>
                          </a:lnTo>
                          <a:lnTo>
                            <a:pt x="243" y="390"/>
                          </a:lnTo>
                          <a:lnTo>
                            <a:pt x="230" y="364"/>
                          </a:lnTo>
                          <a:lnTo>
                            <a:pt x="217" y="336"/>
                          </a:lnTo>
                          <a:lnTo>
                            <a:pt x="204" y="309"/>
                          </a:lnTo>
                          <a:lnTo>
                            <a:pt x="190" y="281"/>
                          </a:lnTo>
                          <a:lnTo>
                            <a:pt x="172" y="243"/>
                          </a:lnTo>
                          <a:lnTo>
                            <a:pt x="155" y="205"/>
                          </a:lnTo>
                          <a:lnTo>
                            <a:pt x="138" y="169"/>
                          </a:lnTo>
                          <a:lnTo>
                            <a:pt x="122" y="134"/>
                          </a:lnTo>
                          <a:lnTo>
                            <a:pt x="107" y="98"/>
                          </a:lnTo>
                          <a:lnTo>
                            <a:pt x="91" y="64"/>
                          </a:lnTo>
                          <a:lnTo>
                            <a:pt x="77" y="32"/>
                          </a:lnTo>
                          <a:lnTo>
                            <a:pt x="6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1" name=""/>
                    <p:cNvSpPr/>
                    <p:nvPr/>
                  </p:nvSpPr>
                  <p:spPr>
                    <a:xfrm rot="2301600">
                      <a:off x="6543000" y="4290120"/>
                      <a:ext cx="27720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930">
                          <a:moveTo>
                            <a:pt x="526" y="864"/>
                          </a:moveTo>
                          <a:lnTo>
                            <a:pt x="486" y="811"/>
                          </a:lnTo>
                          <a:lnTo>
                            <a:pt x="448" y="759"/>
                          </a:lnTo>
                          <a:lnTo>
                            <a:pt x="410" y="707"/>
                          </a:lnTo>
                          <a:lnTo>
                            <a:pt x="374" y="655"/>
                          </a:lnTo>
                          <a:lnTo>
                            <a:pt x="338" y="602"/>
                          </a:lnTo>
                          <a:lnTo>
                            <a:pt x="303" y="550"/>
                          </a:lnTo>
                          <a:lnTo>
                            <a:pt x="269" y="498"/>
                          </a:lnTo>
                          <a:lnTo>
                            <a:pt x="235" y="444"/>
                          </a:lnTo>
                          <a:lnTo>
                            <a:pt x="202" y="390"/>
                          </a:lnTo>
                          <a:lnTo>
                            <a:pt x="171" y="337"/>
                          </a:lnTo>
                          <a:lnTo>
                            <a:pt x="140" y="282"/>
                          </a:lnTo>
                          <a:lnTo>
                            <a:pt x="110" y="227"/>
                          </a:lnTo>
                          <a:lnTo>
                            <a:pt x="81" y="171"/>
                          </a:lnTo>
                          <a:lnTo>
                            <a:pt x="53" y="115"/>
                          </a:lnTo>
                          <a:lnTo>
                            <a:pt x="26" y="57"/>
                          </a:lnTo>
                          <a:lnTo>
                            <a:pt x="0" y="0"/>
                          </a:lnTo>
                          <a:lnTo>
                            <a:pt x="21" y="60"/>
                          </a:lnTo>
                          <a:lnTo>
                            <a:pt x="43" y="119"/>
                          </a:lnTo>
                          <a:lnTo>
                            <a:pt x="65" y="177"/>
                          </a:lnTo>
                          <a:lnTo>
                            <a:pt x="89" y="235"/>
                          </a:lnTo>
                          <a:lnTo>
                            <a:pt x="113" y="292"/>
                          </a:lnTo>
                          <a:lnTo>
                            <a:pt x="138" y="349"/>
                          </a:lnTo>
                          <a:lnTo>
                            <a:pt x="165" y="405"/>
                          </a:lnTo>
                          <a:lnTo>
                            <a:pt x="192" y="460"/>
                          </a:lnTo>
                          <a:lnTo>
                            <a:pt x="221" y="515"/>
                          </a:lnTo>
                          <a:lnTo>
                            <a:pt x="251" y="570"/>
                          </a:lnTo>
                          <a:lnTo>
                            <a:pt x="281" y="623"/>
                          </a:lnTo>
                          <a:lnTo>
                            <a:pt x="312" y="677"/>
                          </a:lnTo>
                          <a:lnTo>
                            <a:pt x="345" y="730"/>
                          </a:lnTo>
                          <a:lnTo>
                            <a:pt x="379" y="784"/>
                          </a:lnTo>
                          <a:lnTo>
                            <a:pt x="413" y="838"/>
                          </a:lnTo>
                          <a:lnTo>
                            <a:pt x="450" y="890"/>
                          </a:lnTo>
                          <a:lnTo>
                            <a:pt x="459" y="902"/>
                          </a:lnTo>
                          <a:lnTo>
                            <a:pt x="471" y="912"/>
                          </a:lnTo>
                          <a:lnTo>
                            <a:pt x="482" y="920"/>
                          </a:lnTo>
                          <a:lnTo>
                            <a:pt x="495" y="925"/>
                          </a:lnTo>
                          <a:lnTo>
                            <a:pt x="509" y="929"/>
                          </a:lnTo>
                          <a:lnTo>
                            <a:pt x="520" y="930"/>
                          </a:lnTo>
                          <a:lnTo>
                            <a:pt x="533" y="929"/>
                          </a:lnTo>
                          <a:lnTo>
                            <a:pt x="545" y="925"/>
                          </a:lnTo>
                          <a:lnTo>
                            <a:pt x="578" y="909"/>
                          </a:lnTo>
                          <a:lnTo>
                            <a:pt x="609" y="895"/>
                          </a:lnTo>
                          <a:lnTo>
                            <a:pt x="642" y="879"/>
                          </a:lnTo>
                          <a:lnTo>
                            <a:pt x="673" y="865"/>
                          </a:lnTo>
                          <a:lnTo>
                            <a:pt x="705" y="849"/>
                          </a:lnTo>
                          <a:lnTo>
                            <a:pt x="736" y="835"/>
                          </a:lnTo>
                          <a:lnTo>
                            <a:pt x="767" y="819"/>
                          </a:lnTo>
                          <a:lnTo>
                            <a:pt x="799" y="805"/>
                          </a:lnTo>
                          <a:lnTo>
                            <a:pt x="830" y="789"/>
                          </a:lnTo>
                          <a:lnTo>
                            <a:pt x="862" y="775"/>
                          </a:lnTo>
                          <a:lnTo>
                            <a:pt x="894" y="759"/>
                          </a:lnTo>
                          <a:lnTo>
                            <a:pt x="926" y="745"/>
                          </a:lnTo>
                          <a:lnTo>
                            <a:pt x="957" y="729"/>
                          </a:lnTo>
                          <a:lnTo>
                            <a:pt x="989" y="713"/>
                          </a:lnTo>
                          <a:lnTo>
                            <a:pt x="1021" y="699"/>
                          </a:lnTo>
                          <a:lnTo>
                            <a:pt x="1053" y="683"/>
                          </a:lnTo>
                          <a:lnTo>
                            <a:pt x="1063" y="677"/>
                          </a:lnTo>
                          <a:lnTo>
                            <a:pt x="1072" y="668"/>
                          </a:lnTo>
                          <a:lnTo>
                            <a:pt x="1079" y="657"/>
                          </a:lnTo>
                          <a:lnTo>
                            <a:pt x="1084" y="645"/>
                          </a:lnTo>
                          <a:lnTo>
                            <a:pt x="1087" y="632"/>
                          </a:lnTo>
                          <a:lnTo>
                            <a:pt x="1088" y="618"/>
                          </a:lnTo>
                          <a:lnTo>
                            <a:pt x="1087" y="604"/>
                          </a:lnTo>
                          <a:lnTo>
                            <a:pt x="1083" y="588"/>
                          </a:lnTo>
                          <a:lnTo>
                            <a:pt x="1077" y="572"/>
                          </a:lnTo>
                          <a:lnTo>
                            <a:pt x="1075" y="560"/>
                          </a:lnTo>
                          <a:lnTo>
                            <a:pt x="1072" y="549"/>
                          </a:lnTo>
                          <a:lnTo>
                            <a:pt x="1067" y="533"/>
                          </a:lnTo>
                          <a:lnTo>
                            <a:pt x="1032" y="555"/>
                          </a:lnTo>
                          <a:lnTo>
                            <a:pt x="998" y="577"/>
                          </a:lnTo>
                          <a:lnTo>
                            <a:pt x="962" y="598"/>
                          </a:lnTo>
                          <a:lnTo>
                            <a:pt x="928" y="619"/>
                          </a:lnTo>
                          <a:lnTo>
                            <a:pt x="894" y="640"/>
                          </a:lnTo>
                          <a:lnTo>
                            <a:pt x="859" y="660"/>
                          </a:lnTo>
                          <a:lnTo>
                            <a:pt x="826" y="679"/>
                          </a:lnTo>
                          <a:lnTo>
                            <a:pt x="792" y="700"/>
                          </a:lnTo>
                          <a:lnTo>
                            <a:pt x="758" y="720"/>
                          </a:lnTo>
                          <a:lnTo>
                            <a:pt x="724" y="740"/>
                          </a:lnTo>
                          <a:lnTo>
                            <a:pt x="692" y="759"/>
                          </a:lnTo>
                          <a:lnTo>
                            <a:pt x="658" y="780"/>
                          </a:lnTo>
                          <a:lnTo>
                            <a:pt x="625" y="800"/>
                          </a:lnTo>
                          <a:lnTo>
                            <a:pt x="591" y="821"/>
                          </a:lnTo>
                          <a:lnTo>
                            <a:pt x="558" y="843"/>
                          </a:lnTo>
                          <a:lnTo>
                            <a:pt x="526" y="8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 rot="2301600">
                      <a:off x="6635520" y="4473360"/>
                      <a:ext cx="9684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1" h="209">
                          <a:moveTo>
                            <a:pt x="16" y="158"/>
                          </a:moveTo>
                          <a:lnTo>
                            <a:pt x="8" y="164"/>
                          </a:lnTo>
                          <a:lnTo>
                            <a:pt x="1" y="174"/>
                          </a:lnTo>
                          <a:lnTo>
                            <a:pt x="0" y="183"/>
                          </a:lnTo>
                          <a:lnTo>
                            <a:pt x="3" y="193"/>
                          </a:lnTo>
                          <a:lnTo>
                            <a:pt x="3" y="193"/>
                          </a:lnTo>
                          <a:lnTo>
                            <a:pt x="9" y="202"/>
                          </a:lnTo>
                          <a:lnTo>
                            <a:pt x="18" y="208"/>
                          </a:lnTo>
                          <a:lnTo>
                            <a:pt x="29" y="209"/>
                          </a:lnTo>
                          <a:lnTo>
                            <a:pt x="39" y="206"/>
                          </a:lnTo>
                          <a:lnTo>
                            <a:pt x="364" y="52"/>
                          </a:lnTo>
                          <a:lnTo>
                            <a:pt x="373" y="44"/>
                          </a:lnTo>
                          <a:lnTo>
                            <a:pt x="379" y="35"/>
                          </a:lnTo>
                          <a:lnTo>
                            <a:pt x="381" y="26"/>
                          </a:lnTo>
                          <a:lnTo>
                            <a:pt x="378" y="15"/>
                          </a:lnTo>
                          <a:lnTo>
                            <a:pt x="378" y="15"/>
                          </a:lnTo>
                          <a:lnTo>
                            <a:pt x="372" y="6"/>
                          </a:lnTo>
                          <a:lnTo>
                            <a:pt x="362" y="1"/>
                          </a:lnTo>
                          <a:lnTo>
                            <a:pt x="352" y="0"/>
                          </a:lnTo>
                          <a:lnTo>
                            <a:pt x="342" y="2"/>
                          </a:lnTo>
                          <a:lnTo>
                            <a:pt x="16" y="15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3" name=""/>
                    <p:cNvSpPr/>
                    <p:nvPr/>
                  </p:nvSpPr>
                  <p:spPr>
                    <a:xfrm rot="2301600">
                      <a:off x="6637320" y="4536000"/>
                      <a:ext cx="2736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203">
                          <a:moveTo>
                            <a:pt x="104" y="202"/>
                          </a:moveTo>
                          <a:lnTo>
                            <a:pt x="109" y="198"/>
                          </a:lnTo>
                          <a:lnTo>
                            <a:pt x="111" y="193"/>
                          </a:lnTo>
                          <a:lnTo>
                            <a:pt x="111" y="187"/>
                          </a:lnTo>
                          <a:lnTo>
                            <a:pt x="110" y="181"/>
                          </a:lnTo>
                          <a:lnTo>
                            <a:pt x="29" y="10"/>
                          </a:lnTo>
                          <a:lnTo>
                            <a:pt x="25" y="4"/>
                          </a:lnTo>
                          <a:lnTo>
                            <a:pt x="20" y="2"/>
                          </a:lnTo>
                          <a:lnTo>
                            <a:pt x="15" y="0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4" y="6"/>
                          </a:lnTo>
                          <a:lnTo>
                            <a:pt x="2" y="11"/>
                          </a:lnTo>
                          <a:lnTo>
                            <a:pt x="0" y="17"/>
                          </a:lnTo>
                          <a:lnTo>
                            <a:pt x="2" y="24"/>
                          </a:lnTo>
                          <a:lnTo>
                            <a:pt x="81" y="194"/>
                          </a:lnTo>
                          <a:lnTo>
                            <a:pt x="85" y="199"/>
                          </a:lnTo>
                          <a:lnTo>
                            <a:pt x="91" y="203"/>
                          </a:lnTo>
                          <a:lnTo>
                            <a:pt x="97" y="203"/>
                          </a:lnTo>
                          <a:lnTo>
                            <a:pt x="104" y="202"/>
                          </a:lnTo>
                          <a:lnTo>
                            <a:pt x="104" y="2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 rot="2301600">
                      <a:off x="6656040" y="4541760"/>
                      <a:ext cx="2844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204">
                          <a:moveTo>
                            <a:pt x="105" y="203"/>
                          </a:moveTo>
                          <a:lnTo>
                            <a:pt x="110" y="199"/>
                          </a:lnTo>
                          <a:lnTo>
                            <a:pt x="113" y="194"/>
                          </a:lnTo>
                          <a:lnTo>
                            <a:pt x="113" y="187"/>
                          </a:lnTo>
                          <a:lnTo>
                            <a:pt x="111" y="180"/>
                          </a:lnTo>
                          <a:lnTo>
                            <a:pt x="30" y="9"/>
                          </a:lnTo>
                          <a:lnTo>
                            <a:pt x="26" y="4"/>
                          </a:lnTo>
                          <a:lnTo>
                            <a:pt x="21" y="1"/>
                          </a:lnTo>
                          <a:lnTo>
                            <a:pt x="16" y="0"/>
                          </a:lnTo>
                          <a:lnTo>
                            <a:pt x="9" y="1"/>
                          </a:lnTo>
                          <a:lnTo>
                            <a:pt x="9" y="1"/>
                          </a:lnTo>
                          <a:lnTo>
                            <a:pt x="4" y="5"/>
                          </a:lnTo>
                          <a:lnTo>
                            <a:pt x="2" y="11"/>
                          </a:lnTo>
                          <a:lnTo>
                            <a:pt x="0" y="17"/>
                          </a:lnTo>
                          <a:lnTo>
                            <a:pt x="2" y="24"/>
                          </a:lnTo>
                          <a:lnTo>
                            <a:pt x="83" y="195"/>
                          </a:lnTo>
                          <a:lnTo>
                            <a:pt x="87" y="200"/>
                          </a:lnTo>
                          <a:lnTo>
                            <a:pt x="92" y="203"/>
                          </a:lnTo>
                          <a:lnTo>
                            <a:pt x="98" y="204"/>
                          </a:lnTo>
                          <a:lnTo>
                            <a:pt x="105" y="203"/>
                          </a:lnTo>
                          <a:lnTo>
                            <a:pt x="105" y="20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 rot="2301600">
                      <a:off x="6675480" y="4546440"/>
                      <a:ext cx="2808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204">
                          <a:moveTo>
                            <a:pt x="105" y="202"/>
                          </a:moveTo>
                          <a:lnTo>
                            <a:pt x="110" y="199"/>
                          </a:lnTo>
                          <a:lnTo>
                            <a:pt x="113" y="193"/>
                          </a:lnTo>
                          <a:lnTo>
                            <a:pt x="113" y="187"/>
                          </a:lnTo>
                          <a:lnTo>
                            <a:pt x="112" y="180"/>
                          </a:lnTo>
                          <a:lnTo>
                            <a:pt x="31" y="10"/>
                          </a:lnTo>
                          <a:lnTo>
                            <a:pt x="27" y="5"/>
                          </a:lnTo>
                          <a:lnTo>
                            <a:pt x="21" y="1"/>
                          </a:lnTo>
                          <a:lnTo>
                            <a:pt x="16" y="0"/>
                          </a:lnTo>
                          <a:lnTo>
                            <a:pt x="10" y="1"/>
                          </a:lnTo>
                          <a:lnTo>
                            <a:pt x="10" y="1"/>
                          </a:lnTo>
                          <a:lnTo>
                            <a:pt x="4" y="5"/>
                          </a:lnTo>
                          <a:lnTo>
                            <a:pt x="0" y="10"/>
                          </a:lnTo>
                          <a:lnTo>
                            <a:pt x="0" y="17"/>
                          </a:lnTo>
                          <a:lnTo>
                            <a:pt x="2" y="23"/>
                          </a:lnTo>
                          <a:lnTo>
                            <a:pt x="83" y="195"/>
                          </a:lnTo>
                          <a:lnTo>
                            <a:pt x="87" y="200"/>
                          </a:lnTo>
                          <a:lnTo>
                            <a:pt x="92" y="202"/>
                          </a:lnTo>
                          <a:lnTo>
                            <a:pt x="99" y="204"/>
                          </a:lnTo>
                          <a:lnTo>
                            <a:pt x="105" y="202"/>
                          </a:lnTo>
                          <a:lnTo>
                            <a:pt x="105" y="2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6" name=""/>
                    <p:cNvSpPr/>
                    <p:nvPr/>
                  </p:nvSpPr>
                  <p:spPr>
                    <a:xfrm rot="2301600">
                      <a:off x="6651360" y="4481640"/>
                      <a:ext cx="151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64">
                          <a:moveTo>
                            <a:pt x="58" y="46"/>
                          </a:moveTo>
                          <a:lnTo>
                            <a:pt x="36" y="0"/>
                          </a:lnTo>
                          <a:lnTo>
                            <a:pt x="0" y="18"/>
                          </a:lnTo>
                          <a:lnTo>
                            <a:pt x="22" y="64"/>
                          </a:lnTo>
                          <a:lnTo>
                            <a:pt x="5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7" name=""/>
                    <p:cNvSpPr/>
                    <p:nvPr/>
                  </p:nvSpPr>
                  <p:spPr>
                    <a:xfrm rot="2301600">
                      <a:off x="6702840" y="4496760"/>
                      <a:ext cx="151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63">
                          <a:moveTo>
                            <a:pt x="59" y="46"/>
                          </a:moveTo>
                          <a:lnTo>
                            <a:pt x="36" y="0"/>
                          </a:lnTo>
                          <a:lnTo>
                            <a:pt x="0" y="17"/>
                          </a:lnTo>
                          <a:lnTo>
                            <a:pt x="22" y="63"/>
                          </a:lnTo>
                          <a:lnTo>
                            <a:pt x="59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 rot="2301600">
                      <a:off x="6645600" y="4303800"/>
                      <a:ext cx="27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75">
                          <a:moveTo>
                            <a:pt x="94" y="42"/>
                          </a:moveTo>
                          <a:lnTo>
                            <a:pt x="100" y="37"/>
                          </a:lnTo>
                          <a:lnTo>
                            <a:pt x="106" y="29"/>
                          </a:lnTo>
                          <a:lnTo>
                            <a:pt x="107" y="21"/>
                          </a:lnTo>
                          <a:lnTo>
                            <a:pt x="104" y="13"/>
                          </a:lnTo>
                          <a:lnTo>
                            <a:pt x="104" y="13"/>
                          </a:lnTo>
                          <a:lnTo>
                            <a:pt x="99" y="7"/>
                          </a:lnTo>
                          <a:lnTo>
                            <a:pt x="92" y="1"/>
                          </a:lnTo>
                          <a:lnTo>
                            <a:pt x="83" y="0"/>
                          </a:lnTo>
                          <a:lnTo>
                            <a:pt x="75" y="3"/>
                          </a:lnTo>
                          <a:lnTo>
                            <a:pt x="11" y="33"/>
                          </a:lnTo>
                          <a:lnTo>
                            <a:pt x="5" y="38"/>
                          </a:lnTo>
                          <a:lnTo>
                            <a:pt x="1" y="45"/>
                          </a:lnTo>
                          <a:lnTo>
                            <a:pt x="0" y="54"/>
                          </a:lnTo>
                          <a:lnTo>
                            <a:pt x="2" y="62"/>
                          </a:lnTo>
                          <a:lnTo>
                            <a:pt x="2" y="62"/>
                          </a:lnTo>
                          <a:lnTo>
                            <a:pt x="6" y="69"/>
                          </a:lnTo>
                          <a:lnTo>
                            <a:pt x="14" y="73"/>
                          </a:lnTo>
                          <a:lnTo>
                            <a:pt x="22" y="75"/>
                          </a:lnTo>
                          <a:lnTo>
                            <a:pt x="31" y="72"/>
                          </a:lnTo>
                          <a:lnTo>
                            <a:pt x="94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 rot="2301600">
                      <a:off x="6680880" y="4313880"/>
                      <a:ext cx="2736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75">
                          <a:moveTo>
                            <a:pt x="96" y="42"/>
                          </a:moveTo>
                          <a:lnTo>
                            <a:pt x="102" y="37"/>
                          </a:lnTo>
                          <a:lnTo>
                            <a:pt x="108" y="29"/>
                          </a:lnTo>
                          <a:lnTo>
                            <a:pt x="109" y="21"/>
                          </a:lnTo>
                          <a:lnTo>
                            <a:pt x="106" y="13"/>
                          </a:lnTo>
                          <a:lnTo>
                            <a:pt x="106" y="13"/>
                          </a:lnTo>
                          <a:lnTo>
                            <a:pt x="101" y="7"/>
                          </a:lnTo>
                          <a:lnTo>
                            <a:pt x="95" y="2"/>
                          </a:lnTo>
                          <a:lnTo>
                            <a:pt x="85" y="0"/>
                          </a:lnTo>
                          <a:lnTo>
                            <a:pt x="78" y="3"/>
                          </a:lnTo>
                          <a:lnTo>
                            <a:pt x="13" y="33"/>
                          </a:lnTo>
                          <a:lnTo>
                            <a:pt x="7" y="38"/>
                          </a:lnTo>
                          <a:lnTo>
                            <a:pt x="3" y="45"/>
                          </a:lnTo>
                          <a:lnTo>
                            <a:pt x="0" y="54"/>
                          </a:lnTo>
                          <a:lnTo>
                            <a:pt x="3" y="62"/>
                          </a:lnTo>
                          <a:lnTo>
                            <a:pt x="3" y="62"/>
                          </a:lnTo>
                          <a:lnTo>
                            <a:pt x="8" y="70"/>
                          </a:lnTo>
                          <a:lnTo>
                            <a:pt x="16" y="74"/>
                          </a:lnTo>
                          <a:lnTo>
                            <a:pt x="24" y="75"/>
                          </a:lnTo>
                          <a:lnTo>
                            <a:pt x="33" y="72"/>
                          </a:lnTo>
                          <a:lnTo>
                            <a:pt x="96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 rot="2301600">
                      <a:off x="6715440" y="4324320"/>
                      <a:ext cx="2736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74">
                          <a:moveTo>
                            <a:pt x="96" y="42"/>
                          </a:moveTo>
                          <a:lnTo>
                            <a:pt x="103" y="36"/>
                          </a:lnTo>
                          <a:lnTo>
                            <a:pt x="108" y="28"/>
                          </a:lnTo>
                          <a:lnTo>
                            <a:pt x="109" y="21"/>
                          </a:lnTo>
                          <a:lnTo>
                            <a:pt x="106" y="13"/>
                          </a:lnTo>
                          <a:lnTo>
                            <a:pt x="106" y="13"/>
                          </a:lnTo>
                          <a:lnTo>
                            <a:pt x="101" y="6"/>
                          </a:lnTo>
                          <a:lnTo>
                            <a:pt x="93" y="1"/>
                          </a:lnTo>
                          <a:lnTo>
                            <a:pt x="86" y="0"/>
                          </a:lnTo>
                          <a:lnTo>
                            <a:pt x="76" y="2"/>
                          </a:lnTo>
                          <a:lnTo>
                            <a:pt x="14" y="32"/>
                          </a:lnTo>
                          <a:lnTo>
                            <a:pt x="7" y="38"/>
                          </a:lnTo>
                          <a:lnTo>
                            <a:pt x="3" y="44"/>
                          </a:lnTo>
                          <a:lnTo>
                            <a:pt x="0" y="53"/>
                          </a:lnTo>
                          <a:lnTo>
                            <a:pt x="3" y="61"/>
                          </a:lnTo>
                          <a:lnTo>
                            <a:pt x="3" y="61"/>
                          </a:lnTo>
                          <a:lnTo>
                            <a:pt x="8" y="69"/>
                          </a:lnTo>
                          <a:lnTo>
                            <a:pt x="16" y="73"/>
                          </a:lnTo>
                          <a:lnTo>
                            <a:pt x="24" y="74"/>
                          </a:lnTo>
                          <a:lnTo>
                            <a:pt x="33" y="72"/>
                          </a:lnTo>
                          <a:lnTo>
                            <a:pt x="96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 rot="2301600">
                      <a:off x="6750360" y="4334400"/>
                      <a:ext cx="2736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74">
                          <a:moveTo>
                            <a:pt x="95" y="42"/>
                          </a:moveTo>
                          <a:lnTo>
                            <a:pt x="102" y="38"/>
                          </a:lnTo>
                          <a:lnTo>
                            <a:pt x="106" y="30"/>
                          </a:lnTo>
                          <a:lnTo>
                            <a:pt x="107" y="22"/>
                          </a:lnTo>
                          <a:lnTo>
                            <a:pt x="106" y="13"/>
                          </a:lnTo>
                          <a:lnTo>
                            <a:pt x="106" y="13"/>
                          </a:lnTo>
                          <a:lnTo>
                            <a:pt x="100" y="6"/>
                          </a:lnTo>
                          <a:lnTo>
                            <a:pt x="92" y="1"/>
                          </a:lnTo>
                          <a:lnTo>
                            <a:pt x="85" y="0"/>
                          </a:lnTo>
                          <a:lnTo>
                            <a:pt x="75" y="3"/>
                          </a:lnTo>
                          <a:lnTo>
                            <a:pt x="13" y="33"/>
                          </a:lnTo>
                          <a:lnTo>
                            <a:pt x="6" y="38"/>
                          </a:lnTo>
                          <a:lnTo>
                            <a:pt x="2" y="44"/>
                          </a:lnTo>
                          <a:lnTo>
                            <a:pt x="0" y="54"/>
                          </a:lnTo>
                          <a:lnTo>
                            <a:pt x="2" y="61"/>
                          </a:lnTo>
                          <a:lnTo>
                            <a:pt x="2" y="61"/>
                          </a:lnTo>
                          <a:lnTo>
                            <a:pt x="7" y="69"/>
                          </a:lnTo>
                          <a:lnTo>
                            <a:pt x="15" y="73"/>
                          </a:lnTo>
                          <a:lnTo>
                            <a:pt x="23" y="74"/>
                          </a:lnTo>
                          <a:lnTo>
                            <a:pt x="31" y="72"/>
                          </a:lnTo>
                          <a:lnTo>
                            <a:pt x="95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 rot="2301600">
                      <a:off x="6656760" y="432216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20">
                          <a:moveTo>
                            <a:pt x="125" y="81"/>
                          </a:moveTo>
                          <a:lnTo>
                            <a:pt x="129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3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3" y="0"/>
                          </a:lnTo>
                          <a:lnTo>
                            <a:pt x="88" y="1"/>
                          </a:lnTo>
                          <a:lnTo>
                            <a:pt x="8" y="39"/>
                          </a:lnTo>
                          <a:lnTo>
                            <a:pt x="4" y="42"/>
                          </a:lnTo>
                          <a:lnTo>
                            <a:pt x="1" y="46"/>
                          </a:lnTo>
                          <a:lnTo>
                            <a:pt x="0" y="51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40" y="120"/>
                          </a:lnTo>
                          <a:lnTo>
                            <a:pt x="46" y="119"/>
                          </a:lnTo>
                          <a:lnTo>
                            <a:pt x="125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 rot="2301600">
                      <a:off x="6693120" y="4332960"/>
                      <a:ext cx="33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9">
                          <a:moveTo>
                            <a:pt x="124" y="80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3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2" y="0"/>
                          </a:lnTo>
                          <a:lnTo>
                            <a:pt x="88" y="1"/>
                          </a:lnTo>
                          <a:lnTo>
                            <a:pt x="6" y="39"/>
                          </a:lnTo>
                          <a:lnTo>
                            <a:pt x="3" y="42"/>
                          </a:lnTo>
                          <a:lnTo>
                            <a:pt x="1" y="46"/>
                          </a:lnTo>
                          <a:lnTo>
                            <a:pt x="0" y="49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41" y="119"/>
                          </a:lnTo>
                          <a:lnTo>
                            <a:pt x="44" y="117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rot="2301600">
                      <a:off x="6729120" y="434268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21">
                          <a:moveTo>
                            <a:pt x="124" y="81"/>
                          </a:moveTo>
                          <a:lnTo>
                            <a:pt x="128" y="79"/>
                          </a:lnTo>
                          <a:lnTo>
                            <a:pt x="131" y="75"/>
                          </a:lnTo>
                          <a:lnTo>
                            <a:pt x="131" y="70"/>
                          </a:lnTo>
                          <a:lnTo>
                            <a:pt x="129" y="66"/>
                          </a:lnTo>
                          <a:lnTo>
                            <a:pt x="103" y="8"/>
                          </a:lnTo>
                          <a:lnTo>
                            <a:pt x="99" y="4"/>
                          </a:lnTo>
                          <a:lnTo>
                            <a:pt x="95" y="2"/>
                          </a:lnTo>
                          <a:lnTo>
                            <a:pt x="92" y="0"/>
                          </a:lnTo>
                          <a:lnTo>
                            <a:pt x="86" y="2"/>
                          </a:lnTo>
                          <a:lnTo>
                            <a:pt x="7" y="41"/>
                          </a:lnTo>
                          <a:lnTo>
                            <a:pt x="3" y="44"/>
                          </a:lnTo>
                          <a:lnTo>
                            <a:pt x="1" y="47"/>
                          </a:lnTo>
                          <a:lnTo>
                            <a:pt x="0" y="51"/>
                          </a:lnTo>
                          <a:lnTo>
                            <a:pt x="1" y="57"/>
                          </a:lnTo>
                          <a:lnTo>
                            <a:pt x="29" y="114"/>
                          </a:lnTo>
                          <a:lnTo>
                            <a:pt x="31" y="118"/>
                          </a:lnTo>
                          <a:lnTo>
                            <a:pt x="35" y="119"/>
                          </a:lnTo>
                          <a:lnTo>
                            <a:pt x="39" y="121"/>
                          </a:lnTo>
                          <a:lnTo>
                            <a:pt x="44" y="119"/>
                          </a:lnTo>
                          <a:lnTo>
                            <a:pt x="124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 rot="2301600">
                      <a:off x="6652440" y="434916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20">
                          <a:moveTo>
                            <a:pt x="126" y="81"/>
                          </a:moveTo>
                          <a:lnTo>
                            <a:pt x="130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4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2" y="0"/>
                          </a:lnTo>
                          <a:lnTo>
                            <a:pt x="88" y="1"/>
                          </a:lnTo>
                          <a:lnTo>
                            <a:pt x="8" y="39"/>
                          </a:lnTo>
                          <a:lnTo>
                            <a:pt x="4" y="41"/>
                          </a:lnTo>
                          <a:lnTo>
                            <a:pt x="2" y="45"/>
                          </a:lnTo>
                          <a:lnTo>
                            <a:pt x="0" y="51"/>
                          </a:lnTo>
                          <a:lnTo>
                            <a:pt x="2" y="55"/>
                          </a:lnTo>
                          <a:lnTo>
                            <a:pt x="29" y="112"/>
                          </a:lnTo>
                          <a:lnTo>
                            <a:pt x="32" y="116"/>
                          </a:lnTo>
                          <a:lnTo>
                            <a:pt x="36" y="119"/>
                          </a:lnTo>
                          <a:lnTo>
                            <a:pt x="41" y="120"/>
                          </a:lnTo>
                          <a:lnTo>
                            <a:pt x="45" y="119"/>
                          </a:lnTo>
                          <a:lnTo>
                            <a:pt x="126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 rot="2301600">
                      <a:off x="6688800" y="435960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9">
                          <a:moveTo>
                            <a:pt x="125" y="79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4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2" y="0"/>
                          </a:lnTo>
                          <a:lnTo>
                            <a:pt x="88" y="1"/>
                          </a:lnTo>
                          <a:lnTo>
                            <a:pt x="7" y="39"/>
                          </a:lnTo>
                          <a:lnTo>
                            <a:pt x="3" y="41"/>
                          </a:lnTo>
                          <a:lnTo>
                            <a:pt x="2" y="45"/>
                          </a:lnTo>
                          <a:lnTo>
                            <a:pt x="0" y="49"/>
                          </a:lnTo>
                          <a:lnTo>
                            <a:pt x="2" y="54"/>
                          </a:lnTo>
                          <a:lnTo>
                            <a:pt x="29" y="112"/>
                          </a:lnTo>
                          <a:lnTo>
                            <a:pt x="32" y="116"/>
                          </a:lnTo>
                          <a:lnTo>
                            <a:pt x="36" y="119"/>
                          </a:lnTo>
                          <a:lnTo>
                            <a:pt x="41" y="119"/>
                          </a:lnTo>
                          <a:lnTo>
                            <a:pt x="45" y="117"/>
                          </a:lnTo>
                          <a:lnTo>
                            <a:pt x="125" y="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 rot="2301600">
                      <a:off x="6724440" y="437004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20">
                          <a:moveTo>
                            <a:pt x="125" y="81"/>
                          </a:moveTo>
                          <a:lnTo>
                            <a:pt x="128" y="79"/>
                          </a:lnTo>
                          <a:lnTo>
                            <a:pt x="131" y="75"/>
                          </a:lnTo>
                          <a:lnTo>
                            <a:pt x="131" y="70"/>
                          </a:lnTo>
                          <a:lnTo>
                            <a:pt x="130" y="66"/>
                          </a:lnTo>
                          <a:lnTo>
                            <a:pt x="102" y="8"/>
                          </a:lnTo>
                          <a:lnTo>
                            <a:pt x="100" y="4"/>
                          </a:lnTo>
                          <a:lnTo>
                            <a:pt x="96" y="2"/>
                          </a:lnTo>
                          <a:lnTo>
                            <a:pt x="92" y="0"/>
                          </a:lnTo>
                          <a:lnTo>
                            <a:pt x="87" y="2"/>
                          </a:lnTo>
                          <a:lnTo>
                            <a:pt x="7" y="41"/>
                          </a:lnTo>
                          <a:lnTo>
                            <a:pt x="3" y="43"/>
                          </a:lnTo>
                          <a:lnTo>
                            <a:pt x="0" y="47"/>
                          </a:lnTo>
                          <a:lnTo>
                            <a:pt x="0" y="51"/>
                          </a:lnTo>
                          <a:lnTo>
                            <a:pt x="2" y="56"/>
                          </a:lnTo>
                          <a:lnTo>
                            <a:pt x="29" y="114"/>
                          </a:lnTo>
                          <a:lnTo>
                            <a:pt x="32" y="118"/>
                          </a:lnTo>
                          <a:lnTo>
                            <a:pt x="36" y="119"/>
                          </a:lnTo>
                          <a:lnTo>
                            <a:pt x="40" y="120"/>
                          </a:lnTo>
                          <a:lnTo>
                            <a:pt x="45" y="119"/>
                          </a:lnTo>
                          <a:lnTo>
                            <a:pt x="125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 rot="2301600">
                      <a:off x="6648120" y="4376520"/>
                      <a:ext cx="33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9">
                          <a:moveTo>
                            <a:pt x="125" y="79"/>
                          </a:moveTo>
                          <a:lnTo>
                            <a:pt x="129" y="76"/>
                          </a:lnTo>
                          <a:lnTo>
                            <a:pt x="130" y="72"/>
                          </a:lnTo>
                          <a:lnTo>
                            <a:pt x="132" y="68"/>
                          </a:lnTo>
                          <a:lnTo>
                            <a:pt x="130" y="63"/>
                          </a:lnTo>
                          <a:lnTo>
                            <a:pt x="103" y="7"/>
                          </a:lnTo>
                          <a:lnTo>
                            <a:pt x="100" y="3"/>
                          </a:lnTo>
                          <a:lnTo>
                            <a:pt x="96" y="2"/>
                          </a:lnTo>
                          <a:lnTo>
                            <a:pt x="91" y="0"/>
                          </a:lnTo>
                          <a:lnTo>
                            <a:pt x="87" y="2"/>
                          </a:lnTo>
                          <a:lnTo>
                            <a:pt x="7" y="38"/>
                          </a:lnTo>
                          <a:lnTo>
                            <a:pt x="3" y="41"/>
                          </a:lnTo>
                          <a:lnTo>
                            <a:pt x="1" y="45"/>
                          </a:lnTo>
                          <a:lnTo>
                            <a:pt x="0" y="50"/>
                          </a:lnTo>
                          <a:lnTo>
                            <a:pt x="1" y="54"/>
                          </a:lnTo>
                          <a:lnTo>
                            <a:pt x="28" y="112"/>
                          </a:lnTo>
                          <a:lnTo>
                            <a:pt x="31" y="115"/>
                          </a:lnTo>
                          <a:lnTo>
                            <a:pt x="35" y="118"/>
                          </a:lnTo>
                          <a:lnTo>
                            <a:pt x="40" y="119"/>
                          </a:lnTo>
                          <a:lnTo>
                            <a:pt x="44" y="118"/>
                          </a:lnTo>
                          <a:lnTo>
                            <a:pt x="125" y="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9" name=""/>
                    <p:cNvSpPr/>
                    <p:nvPr/>
                  </p:nvSpPr>
                  <p:spPr>
                    <a:xfrm rot="2301600">
                      <a:off x="6684120" y="4386960"/>
                      <a:ext cx="334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8">
                          <a:moveTo>
                            <a:pt x="124" y="80"/>
                          </a:moveTo>
                          <a:lnTo>
                            <a:pt x="128" y="78"/>
                          </a:lnTo>
                          <a:lnTo>
                            <a:pt x="130" y="74"/>
                          </a:lnTo>
                          <a:lnTo>
                            <a:pt x="132" y="70"/>
                          </a:lnTo>
                          <a:lnTo>
                            <a:pt x="130" y="64"/>
                          </a:lnTo>
                          <a:lnTo>
                            <a:pt x="103" y="7"/>
                          </a:lnTo>
                          <a:lnTo>
                            <a:pt x="100" y="3"/>
                          </a:lnTo>
                          <a:lnTo>
                            <a:pt x="96" y="0"/>
                          </a:lnTo>
                          <a:lnTo>
                            <a:pt x="91" y="0"/>
                          </a:lnTo>
                          <a:lnTo>
                            <a:pt x="86" y="2"/>
                          </a:lnTo>
                          <a:lnTo>
                            <a:pt x="6" y="40"/>
                          </a:lnTo>
                          <a:lnTo>
                            <a:pt x="2" y="42"/>
                          </a:lnTo>
                          <a:lnTo>
                            <a:pt x="1" y="46"/>
                          </a:lnTo>
                          <a:lnTo>
                            <a:pt x="0" y="50"/>
                          </a:lnTo>
                          <a:lnTo>
                            <a:pt x="1" y="55"/>
                          </a:lnTo>
                          <a:lnTo>
                            <a:pt x="28" y="112"/>
                          </a:lnTo>
                          <a:lnTo>
                            <a:pt x="31" y="115"/>
                          </a:lnTo>
                          <a:lnTo>
                            <a:pt x="35" y="118"/>
                          </a:lnTo>
                          <a:lnTo>
                            <a:pt x="39" y="118"/>
                          </a:lnTo>
                          <a:lnTo>
                            <a:pt x="44" y="117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 rot="2301600">
                      <a:off x="6720120" y="439704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20">
                          <a:moveTo>
                            <a:pt x="123" y="81"/>
                          </a:moveTo>
                          <a:lnTo>
                            <a:pt x="127" y="78"/>
                          </a:lnTo>
                          <a:lnTo>
                            <a:pt x="129" y="75"/>
                          </a:lnTo>
                          <a:lnTo>
                            <a:pt x="129" y="69"/>
                          </a:lnTo>
                          <a:lnTo>
                            <a:pt x="128" y="65"/>
                          </a:lnTo>
                          <a:lnTo>
                            <a:pt x="102" y="8"/>
                          </a:lnTo>
                          <a:lnTo>
                            <a:pt x="99" y="4"/>
                          </a:lnTo>
                          <a:lnTo>
                            <a:pt x="95" y="1"/>
                          </a:lnTo>
                          <a:lnTo>
                            <a:pt x="91" y="0"/>
                          </a:lnTo>
                          <a:lnTo>
                            <a:pt x="86" y="1"/>
                          </a:lnTo>
                          <a:lnTo>
                            <a:pt x="6" y="41"/>
                          </a:lnTo>
                          <a:lnTo>
                            <a:pt x="2" y="43"/>
                          </a:lnTo>
                          <a:lnTo>
                            <a:pt x="0" y="47"/>
                          </a:lnTo>
                          <a:lnTo>
                            <a:pt x="0" y="51"/>
                          </a:lnTo>
                          <a:lnTo>
                            <a:pt x="1" y="56"/>
                          </a:lnTo>
                          <a:lnTo>
                            <a:pt x="28" y="114"/>
                          </a:lnTo>
                          <a:lnTo>
                            <a:pt x="31" y="118"/>
                          </a:lnTo>
                          <a:lnTo>
                            <a:pt x="35" y="119"/>
                          </a:lnTo>
                          <a:lnTo>
                            <a:pt x="39" y="120"/>
                          </a:lnTo>
                          <a:lnTo>
                            <a:pt x="44" y="119"/>
                          </a:lnTo>
                          <a:lnTo>
                            <a:pt x="123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 rot="2301600">
                      <a:off x="6643800" y="440316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20">
                          <a:moveTo>
                            <a:pt x="124" y="80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3" y="6"/>
                          </a:lnTo>
                          <a:lnTo>
                            <a:pt x="101" y="3"/>
                          </a:lnTo>
                          <a:lnTo>
                            <a:pt x="97" y="1"/>
                          </a:lnTo>
                          <a:lnTo>
                            <a:pt x="91" y="0"/>
                          </a:lnTo>
                          <a:lnTo>
                            <a:pt x="88" y="1"/>
                          </a:lnTo>
                          <a:lnTo>
                            <a:pt x="8" y="39"/>
                          </a:lnTo>
                          <a:lnTo>
                            <a:pt x="4" y="42"/>
                          </a:lnTo>
                          <a:lnTo>
                            <a:pt x="1" y="46"/>
                          </a:lnTo>
                          <a:lnTo>
                            <a:pt x="0" y="51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40" y="120"/>
                          </a:lnTo>
                          <a:lnTo>
                            <a:pt x="44" y="119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2" name=""/>
                    <p:cNvSpPr/>
                    <p:nvPr/>
                  </p:nvSpPr>
                  <p:spPr>
                    <a:xfrm rot="2301600">
                      <a:off x="6679800" y="4413600"/>
                      <a:ext cx="334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19">
                          <a:moveTo>
                            <a:pt x="124" y="80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1" y="69"/>
                          </a:lnTo>
                          <a:lnTo>
                            <a:pt x="129" y="64"/>
                          </a:lnTo>
                          <a:lnTo>
                            <a:pt x="103" y="6"/>
                          </a:lnTo>
                          <a:lnTo>
                            <a:pt x="99" y="3"/>
                          </a:lnTo>
                          <a:lnTo>
                            <a:pt x="95" y="0"/>
                          </a:lnTo>
                          <a:lnTo>
                            <a:pt x="91" y="0"/>
                          </a:lnTo>
                          <a:lnTo>
                            <a:pt x="86" y="1"/>
                          </a:lnTo>
                          <a:lnTo>
                            <a:pt x="6" y="39"/>
                          </a:lnTo>
                          <a:lnTo>
                            <a:pt x="3" y="42"/>
                          </a:lnTo>
                          <a:lnTo>
                            <a:pt x="1" y="46"/>
                          </a:lnTo>
                          <a:lnTo>
                            <a:pt x="0" y="50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39" y="119"/>
                          </a:lnTo>
                          <a:lnTo>
                            <a:pt x="44" y="118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 rot="2301600">
                      <a:off x="6715440" y="4424400"/>
                      <a:ext cx="33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19">
                          <a:moveTo>
                            <a:pt x="123" y="80"/>
                          </a:moveTo>
                          <a:lnTo>
                            <a:pt x="127" y="77"/>
                          </a:lnTo>
                          <a:lnTo>
                            <a:pt x="128" y="73"/>
                          </a:lnTo>
                          <a:lnTo>
                            <a:pt x="129" y="68"/>
                          </a:lnTo>
                          <a:lnTo>
                            <a:pt x="128" y="64"/>
                          </a:lnTo>
                          <a:lnTo>
                            <a:pt x="101" y="8"/>
                          </a:lnTo>
                          <a:lnTo>
                            <a:pt x="98" y="4"/>
                          </a:lnTo>
                          <a:lnTo>
                            <a:pt x="94" y="1"/>
                          </a:lnTo>
                          <a:lnTo>
                            <a:pt x="90" y="0"/>
                          </a:lnTo>
                          <a:lnTo>
                            <a:pt x="85" y="1"/>
                          </a:lnTo>
                          <a:lnTo>
                            <a:pt x="6" y="40"/>
                          </a:lnTo>
                          <a:lnTo>
                            <a:pt x="3" y="43"/>
                          </a:lnTo>
                          <a:lnTo>
                            <a:pt x="0" y="46"/>
                          </a:lnTo>
                          <a:lnTo>
                            <a:pt x="0" y="50"/>
                          </a:lnTo>
                          <a:lnTo>
                            <a:pt x="1" y="55"/>
                          </a:lnTo>
                          <a:lnTo>
                            <a:pt x="27" y="112"/>
                          </a:lnTo>
                          <a:lnTo>
                            <a:pt x="31" y="116"/>
                          </a:lnTo>
                          <a:lnTo>
                            <a:pt x="35" y="117"/>
                          </a:lnTo>
                          <a:lnTo>
                            <a:pt x="39" y="119"/>
                          </a:lnTo>
                          <a:lnTo>
                            <a:pt x="44" y="117"/>
                          </a:lnTo>
                          <a:lnTo>
                            <a:pt x="123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4" name=""/>
                    <p:cNvSpPr/>
                    <p:nvPr/>
                  </p:nvSpPr>
                  <p:spPr>
                    <a:xfrm rot="2301600">
                      <a:off x="6631200" y="4210560"/>
                      <a:ext cx="173160" cy="12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146">
                          <a:moveTo>
                            <a:pt x="168" y="78"/>
                          </a:moveTo>
                          <a:lnTo>
                            <a:pt x="168" y="76"/>
                          </a:lnTo>
                          <a:lnTo>
                            <a:pt x="168" y="76"/>
                          </a:lnTo>
                          <a:lnTo>
                            <a:pt x="168" y="70"/>
                          </a:lnTo>
                          <a:lnTo>
                            <a:pt x="170" y="72"/>
                          </a:lnTo>
                          <a:lnTo>
                            <a:pt x="136" y="4"/>
                          </a:lnTo>
                          <a:lnTo>
                            <a:pt x="134" y="6"/>
                          </a:lnTo>
                          <a:lnTo>
                            <a:pt x="134" y="10"/>
                          </a:lnTo>
                          <a:lnTo>
                            <a:pt x="136" y="10"/>
                          </a:lnTo>
                          <a:lnTo>
                            <a:pt x="134" y="0"/>
                          </a:lnTo>
                          <a:lnTo>
                            <a:pt x="8" y="70"/>
                          </a:lnTo>
                          <a:lnTo>
                            <a:pt x="8" y="74"/>
                          </a:lnTo>
                          <a:lnTo>
                            <a:pt x="10" y="74"/>
                          </a:lnTo>
                          <a:lnTo>
                            <a:pt x="4" y="72"/>
                          </a:lnTo>
                          <a:lnTo>
                            <a:pt x="0" y="74"/>
                          </a:lnTo>
                          <a:lnTo>
                            <a:pt x="34" y="138"/>
                          </a:lnTo>
                          <a:lnTo>
                            <a:pt x="34" y="138"/>
                          </a:lnTo>
                          <a:lnTo>
                            <a:pt x="36" y="138"/>
                          </a:lnTo>
                          <a:lnTo>
                            <a:pt x="38" y="136"/>
                          </a:lnTo>
                          <a:lnTo>
                            <a:pt x="34" y="146"/>
                          </a:lnTo>
                          <a:lnTo>
                            <a:pt x="168" y="7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5" name=""/>
                    <p:cNvSpPr/>
                    <p:nvPr/>
                  </p:nvSpPr>
                  <p:spPr>
                    <a:xfrm rot="2301600">
                      <a:off x="6644160" y="4080240"/>
                      <a:ext cx="27180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8" h="1528">
                          <a:moveTo>
                            <a:pt x="650" y="676"/>
                          </a:moveTo>
                          <a:lnTo>
                            <a:pt x="641" y="664"/>
                          </a:lnTo>
                          <a:lnTo>
                            <a:pt x="630" y="654"/>
                          </a:lnTo>
                          <a:lnTo>
                            <a:pt x="619" y="645"/>
                          </a:lnTo>
                          <a:lnTo>
                            <a:pt x="607" y="639"/>
                          </a:lnTo>
                          <a:lnTo>
                            <a:pt x="594" y="636"/>
                          </a:lnTo>
                          <a:lnTo>
                            <a:pt x="581" y="634"/>
                          </a:lnTo>
                          <a:lnTo>
                            <a:pt x="569" y="636"/>
                          </a:lnTo>
                          <a:lnTo>
                            <a:pt x="557" y="639"/>
                          </a:lnTo>
                          <a:lnTo>
                            <a:pt x="552" y="642"/>
                          </a:lnTo>
                          <a:lnTo>
                            <a:pt x="545" y="645"/>
                          </a:lnTo>
                          <a:lnTo>
                            <a:pt x="540" y="647"/>
                          </a:lnTo>
                          <a:lnTo>
                            <a:pt x="534" y="650"/>
                          </a:lnTo>
                          <a:lnTo>
                            <a:pt x="534" y="650"/>
                          </a:lnTo>
                          <a:lnTo>
                            <a:pt x="534" y="649"/>
                          </a:lnTo>
                          <a:lnTo>
                            <a:pt x="532" y="649"/>
                          </a:lnTo>
                          <a:lnTo>
                            <a:pt x="532" y="647"/>
                          </a:lnTo>
                          <a:lnTo>
                            <a:pt x="527" y="641"/>
                          </a:lnTo>
                          <a:lnTo>
                            <a:pt x="522" y="634"/>
                          </a:lnTo>
                          <a:lnTo>
                            <a:pt x="515" y="630"/>
                          </a:lnTo>
                          <a:lnTo>
                            <a:pt x="509" y="626"/>
                          </a:lnTo>
                          <a:lnTo>
                            <a:pt x="502" y="624"/>
                          </a:lnTo>
                          <a:lnTo>
                            <a:pt x="494" y="624"/>
                          </a:lnTo>
                          <a:lnTo>
                            <a:pt x="488" y="624"/>
                          </a:lnTo>
                          <a:lnTo>
                            <a:pt x="481" y="626"/>
                          </a:lnTo>
                          <a:lnTo>
                            <a:pt x="472" y="632"/>
                          </a:lnTo>
                          <a:lnTo>
                            <a:pt x="463" y="636"/>
                          </a:lnTo>
                          <a:lnTo>
                            <a:pt x="452" y="639"/>
                          </a:lnTo>
                          <a:lnTo>
                            <a:pt x="443" y="645"/>
                          </a:lnTo>
                          <a:lnTo>
                            <a:pt x="170" y="68"/>
                          </a:lnTo>
                          <a:lnTo>
                            <a:pt x="178" y="58"/>
                          </a:lnTo>
                          <a:lnTo>
                            <a:pt x="182" y="47"/>
                          </a:lnTo>
                          <a:lnTo>
                            <a:pt x="183" y="34"/>
                          </a:lnTo>
                          <a:lnTo>
                            <a:pt x="179" y="22"/>
                          </a:lnTo>
                          <a:lnTo>
                            <a:pt x="175" y="16"/>
                          </a:lnTo>
                          <a:lnTo>
                            <a:pt x="170" y="9"/>
                          </a:lnTo>
                          <a:lnTo>
                            <a:pt x="165" y="5"/>
                          </a:lnTo>
                          <a:lnTo>
                            <a:pt x="158" y="3"/>
                          </a:lnTo>
                          <a:lnTo>
                            <a:pt x="150" y="0"/>
                          </a:lnTo>
                          <a:lnTo>
                            <a:pt x="142" y="0"/>
                          </a:lnTo>
                          <a:lnTo>
                            <a:pt x="136" y="2"/>
                          </a:lnTo>
                          <a:lnTo>
                            <a:pt x="128" y="4"/>
                          </a:lnTo>
                          <a:lnTo>
                            <a:pt x="116" y="13"/>
                          </a:lnTo>
                          <a:lnTo>
                            <a:pt x="108" y="25"/>
                          </a:lnTo>
                          <a:lnTo>
                            <a:pt x="106" y="41"/>
                          </a:lnTo>
                          <a:lnTo>
                            <a:pt x="110" y="55"/>
                          </a:lnTo>
                          <a:lnTo>
                            <a:pt x="114" y="60"/>
                          </a:lnTo>
                          <a:lnTo>
                            <a:pt x="118" y="66"/>
                          </a:lnTo>
                          <a:lnTo>
                            <a:pt x="121" y="70"/>
                          </a:lnTo>
                          <a:lnTo>
                            <a:pt x="127" y="72"/>
                          </a:lnTo>
                          <a:lnTo>
                            <a:pt x="133" y="75"/>
                          </a:lnTo>
                          <a:lnTo>
                            <a:pt x="138" y="76"/>
                          </a:lnTo>
                          <a:lnTo>
                            <a:pt x="145" y="76"/>
                          </a:lnTo>
                          <a:lnTo>
                            <a:pt x="152" y="76"/>
                          </a:lnTo>
                          <a:lnTo>
                            <a:pt x="425" y="653"/>
                          </a:lnTo>
                          <a:lnTo>
                            <a:pt x="420" y="655"/>
                          </a:lnTo>
                          <a:lnTo>
                            <a:pt x="414" y="658"/>
                          </a:lnTo>
                          <a:lnTo>
                            <a:pt x="409" y="660"/>
                          </a:lnTo>
                          <a:lnTo>
                            <a:pt x="405" y="662"/>
                          </a:lnTo>
                          <a:lnTo>
                            <a:pt x="400" y="664"/>
                          </a:lnTo>
                          <a:lnTo>
                            <a:pt x="395" y="667"/>
                          </a:lnTo>
                          <a:lnTo>
                            <a:pt x="390" y="670"/>
                          </a:lnTo>
                          <a:lnTo>
                            <a:pt x="384" y="672"/>
                          </a:lnTo>
                          <a:lnTo>
                            <a:pt x="374" y="681"/>
                          </a:lnTo>
                          <a:lnTo>
                            <a:pt x="369" y="693"/>
                          </a:lnTo>
                          <a:lnTo>
                            <a:pt x="369" y="707"/>
                          </a:lnTo>
                          <a:lnTo>
                            <a:pt x="373" y="723"/>
                          </a:lnTo>
                          <a:lnTo>
                            <a:pt x="374" y="724"/>
                          </a:lnTo>
                          <a:lnTo>
                            <a:pt x="374" y="724"/>
                          </a:lnTo>
                          <a:lnTo>
                            <a:pt x="374" y="724"/>
                          </a:lnTo>
                          <a:lnTo>
                            <a:pt x="375" y="726"/>
                          </a:lnTo>
                          <a:lnTo>
                            <a:pt x="354" y="736"/>
                          </a:lnTo>
                          <a:lnTo>
                            <a:pt x="333" y="745"/>
                          </a:lnTo>
                          <a:lnTo>
                            <a:pt x="311" y="756"/>
                          </a:lnTo>
                          <a:lnTo>
                            <a:pt x="290" y="766"/>
                          </a:lnTo>
                          <a:lnTo>
                            <a:pt x="269" y="775"/>
                          </a:lnTo>
                          <a:lnTo>
                            <a:pt x="248" y="786"/>
                          </a:lnTo>
                          <a:lnTo>
                            <a:pt x="227" y="795"/>
                          </a:lnTo>
                          <a:lnTo>
                            <a:pt x="207" y="805"/>
                          </a:lnTo>
                          <a:lnTo>
                            <a:pt x="186" y="816"/>
                          </a:lnTo>
                          <a:lnTo>
                            <a:pt x="165" y="825"/>
                          </a:lnTo>
                          <a:lnTo>
                            <a:pt x="144" y="836"/>
                          </a:lnTo>
                          <a:lnTo>
                            <a:pt x="123" y="846"/>
                          </a:lnTo>
                          <a:lnTo>
                            <a:pt x="102" y="856"/>
                          </a:lnTo>
                          <a:lnTo>
                            <a:pt x="80" y="866"/>
                          </a:lnTo>
                          <a:lnTo>
                            <a:pt x="59" y="876"/>
                          </a:lnTo>
                          <a:lnTo>
                            <a:pt x="38" y="887"/>
                          </a:lnTo>
                          <a:lnTo>
                            <a:pt x="27" y="893"/>
                          </a:lnTo>
                          <a:lnTo>
                            <a:pt x="18" y="902"/>
                          </a:lnTo>
                          <a:lnTo>
                            <a:pt x="10" y="913"/>
                          </a:lnTo>
                          <a:lnTo>
                            <a:pt x="5" y="924"/>
                          </a:lnTo>
                          <a:lnTo>
                            <a:pt x="1" y="939"/>
                          </a:lnTo>
                          <a:lnTo>
                            <a:pt x="0" y="953"/>
                          </a:lnTo>
                          <a:lnTo>
                            <a:pt x="1" y="968"/>
                          </a:lnTo>
                          <a:lnTo>
                            <a:pt x="4" y="983"/>
                          </a:lnTo>
                          <a:lnTo>
                            <a:pt x="6" y="994"/>
                          </a:lnTo>
                          <a:lnTo>
                            <a:pt x="10" y="1004"/>
                          </a:lnTo>
                          <a:lnTo>
                            <a:pt x="14" y="1016"/>
                          </a:lnTo>
                          <a:lnTo>
                            <a:pt x="17" y="1026"/>
                          </a:lnTo>
                          <a:lnTo>
                            <a:pt x="55" y="1004"/>
                          </a:lnTo>
                          <a:lnTo>
                            <a:pt x="91" y="981"/>
                          </a:lnTo>
                          <a:lnTo>
                            <a:pt x="128" y="958"/>
                          </a:lnTo>
                          <a:lnTo>
                            <a:pt x="163" y="936"/>
                          </a:lnTo>
                          <a:lnTo>
                            <a:pt x="200" y="915"/>
                          </a:lnTo>
                          <a:lnTo>
                            <a:pt x="235" y="893"/>
                          </a:lnTo>
                          <a:lnTo>
                            <a:pt x="271" y="871"/>
                          </a:lnTo>
                          <a:lnTo>
                            <a:pt x="306" y="850"/>
                          </a:lnTo>
                          <a:lnTo>
                            <a:pt x="341" y="828"/>
                          </a:lnTo>
                          <a:lnTo>
                            <a:pt x="377" y="807"/>
                          </a:lnTo>
                          <a:lnTo>
                            <a:pt x="412" y="785"/>
                          </a:lnTo>
                          <a:lnTo>
                            <a:pt x="446" y="764"/>
                          </a:lnTo>
                          <a:lnTo>
                            <a:pt x="481" y="741"/>
                          </a:lnTo>
                          <a:lnTo>
                            <a:pt x="517" y="721"/>
                          </a:lnTo>
                          <a:lnTo>
                            <a:pt x="551" y="698"/>
                          </a:lnTo>
                          <a:lnTo>
                            <a:pt x="586" y="677"/>
                          </a:lnTo>
                          <a:lnTo>
                            <a:pt x="621" y="730"/>
                          </a:lnTo>
                          <a:lnTo>
                            <a:pt x="655" y="781"/>
                          </a:lnTo>
                          <a:lnTo>
                            <a:pt x="688" y="833"/>
                          </a:lnTo>
                          <a:lnTo>
                            <a:pt x="722" y="884"/>
                          </a:lnTo>
                          <a:lnTo>
                            <a:pt x="753" y="936"/>
                          </a:lnTo>
                          <a:lnTo>
                            <a:pt x="785" y="988"/>
                          </a:lnTo>
                          <a:lnTo>
                            <a:pt x="816" y="1041"/>
                          </a:lnTo>
                          <a:lnTo>
                            <a:pt x="847" y="1093"/>
                          </a:lnTo>
                          <a:lnTo>
                            <a:pt x="876" y="1145"/>
                          </a:lnTo>
                          <a:lnTo>
                            <a:pt x="906" y="1199"/>
                          </a:lnTo>
                          <a:lnTo>
                            <a:pt x="935" y="1253"/>
                          </a:lnTo>
                          <a:lnTo>
                            <a:pt x="963" y="1306"/>
                          </a:lnTo>
                          <a:lnTo>
                            <a:pt x="990" y="1361"/>
                          </a:lnTo>
                          <a:lnTo>
                            <a:pt x="1016" y="1416"/>
                          </a:lnTo>
                          <a:lnTo>
                            <a:pt x="1042" y="1472"/>
                          </a:lnTo>
                          <a:lnTo>
                            <a:pt x="1068" y="1528"/>
                          </a:lnTo>
                          <a:lnTo>
                            <a:pt x="1048" y="1472"/>
                          </a:lnTo>
                          <a:lnTo>
                            <a:pt x="1025" y="1416"/>
                          </a:lnTo>
                          <a:lnTo>
                            <a:pt x="1003" y="1361"/>
                          </a:lnTo>
                          <a:lnTo>
                            <a:pt x="980" y="1306"/>
                          </a:lnTo>
                          <a:lnTo>
                            <a:pt x="956" y="1253"/>
                          </a:lnTo>
                          <a:lnTo>
                            <a:pt x="931" y="1199"/>
                          </a:lnTo>
                          <a:lnTo>
                            <a:pt x="906" y="1145"/>
                          </a:lnTo>
                          <a:lnTo>
                            <a:pt x="881" y="1092"/>
                          </a:lnTo>
                          <a:lnTo>
                            <a:pt x="855" y="1039"/>
                          </a:lnTo>
                          <a:lnTo>
                            <a:pt x="828" y="987"/>
                          </a:lnTo>
                          <a:lnTo>
                            <a:pt x="800" y="935"/>
                          </a:lnTo>
                          <a:lnTo>
                            <a:pt x="772" y="883"/>
                          </a:lnTo>
                          <a:lnTo>
                            <a:pt x="743" y="830"/>
                          </a:lnTo>
                          <a:lnTo>
                            <a:pt x="713" y="779"/>
                          </a:lnTo>
                          <a:lnTo>
                            <a:pt x="681" y="727"/>
                          </a:lnTo>
                          <a:lnTo>
                            <a:pt x="650" y="6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 rot="2301600">
                      <a:off x="6600960" y="4487400"/>
                      <a:ext cx="18648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2" h="340">
                          <a:moveTo>
                            <a:pt x="732" y="340"/>
                          </a:moveTo>
                          <a:lnTo>
                            <a:pt x="592" y="46"/>
                          </a:lnTo>
                          <a:lnTo>
                            <a:pt x="584" y="33"/>
                          </a:lnTo>
                          <a:lnTo>
                            <a:pt x="575" y="22"/>
                          </a:lnTo>
                          <a:lnTo>
                            <a:pt x="565" y="13"/>
                          </a:lnTo>
                          <a:lnTo>
                            <a:pt x="554" y="7"/>
                          </a:lnTo>
                          <a:lnTo>
                            <a:pt x="542" y="3"/>
                          </a:lnTo>
                          <a:lnTo>
                            <a:pt x="531" y="0"/>
                          </a:lnTo>
                          <a:lnTo>
                            <a:pt x="519" y="2"/>
                          </a:lnTo>
                          <a:lnTo>
                            <a:pt x="507" y="6"/>
                          </a:lnTo>
                          <a:lnTo>
                            <a:pt x="28" y="233"/>
                          </a:lnTo>
                          <a:lnTo>
                            <a:pt x="11" y="247"/>
                          </a:lnTo>
                          <a:lnTo>
                            <a:pt x="1" y="268"/>
                          </a:lnTo>
                          <a:lnTo>
                            <a:pt x="0" y="294"/>
                          </a:lnTo>
                          <a:lnTo>
                            <a:pt x="6" y="321"/>
                          </a:lnTo>
                          <a:lnTo>
                            <a:pt x="527" y="29"/>
                          </a:lnTo>
                          <a:lnTo>
                            <a:pt x="732" y="3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7" name=""/>
                    <p:cNvSpPr/>
                    <p:nvPr/>
                  </p:nvSpPr>
                  <p:spPr>
                    <a:xfrm rot="2301600">
                      <a:off x="6569280" y="4534200"/>
                      <a:ext cx="5472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309">
                          <a:moveTo>
                            <a:pt x="126" y="263"/>
                          </a:moveTo>
                          <a:lnTo>
                            <a:pt x="133" y="276"/>
                          </a:lnTo>
                          <a:lnTo>
                            <a:pt x="143" y="287"/>
                          </a:lnTo>
                          <a:lnTo>
                            <a:pt x="153" y="296"/>
                          </a:lnTo>
                          <a:lnTo>
                            <a:pt x="163" y="302"/>
                          </a:lnTo>
                          <a:lnTo>
                            <a:pt x="175" y="308"/>
                          </a:lnTo>
                          <a:lnTo>
                            <a:pt x="187" y="309"/>
                          </a:lnTo>
                          <a:lnTo>
                            <a:pt x="199" y="309"/>
                          </a:lnTo>
                          <a:lnTo>
                            <a:pt x="209" y="305"/>
                          </a:lnTo>
                          <a:lnTo>
                            <a:pt x="213" y="302"/>
                          </a:lnTo>
                          <a:lnTo>
                            <a:pt x="0" y="0"/>
                          </a:lnTo>
                          <a:lnTo>
                            <a:pt x="126" y="2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8" name=""/>
                    <p:cNvSpPr/>
                    <p:nvPr/>
                  </p:nvSpPr>
                  <p:spPr>
                    <a:xfrm rot="2301600">
                      <a:off x="6639840" y="4606200"/>
                      <a:ext cx="9360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9" h="223">
                          <a:moveTo>
                            <a:pt x="0" y="223"/>
                          </a:moveTo>
                          <a:lnTo>
                            <a:pt x="340" y="61"/>
                          </a:lnTo>
                          <a:lnTo>
                            <a:pt x="353" y="51"/>
                          </a:lnTo>
                          <a:lnTo>
                            <a:pt x="364" y="36"/>
                          </a:lnTo>
                          <a:lnTo>
                            <a:pt x="369" y="19"/>
                          </a:lnTo>
                          <a:lnTo>
                            <a:pt x="369" y="0"/>
                          </a:lnTo>
                          <a:lnTo>
                            <a:pt x="0" y="2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9" name=""/>
                    <p:cNvSpPr/>
                    <p:nvPr/>
                  </p:nvSpPr>
                  <p:spPr>
                    <a:xfrm rot="2301600">
                      <a:off x="6598440" y="4608000"/>
                      <a:ext cx="345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76">
                          <a:moveTo>
                            <a:pt x="9" y="76"/>
                          </a:moveTo>
                          <a:lnTo>
                            <a:pt x="136" y="0"/>
                          </a:lnTo>
                          <a:lnTo>
                            <a:pt x="0" y="64"/>
                          </a:lnTo>
                          <a:lnTo>
                            <a:pt x="9" y="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0" name=""/>
                    <p:cNvSpPr/>
                    <p:nvPr/>
                  </p:nvSpPr>
                  <p:spPr>
                    <a:xfrm rot="2301600">
                      <a:off x="6804720" y="4289400"/>
                      <a:ext cx="2736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91">
                          <a:moveTo>
                            <a:pt x="93" y="73"/>
                          </a:moveTo>
                          <a:lnTo>
                            <a:pt x="84" y="56"/>
                          </a:lnTo>
                          <a:lnTo>
                            <a:pt x="73" y="40"/>
                          </a:lnTo>
                          <a:lnTo>
                            <a:pt x="62" y="27"/>
                          </a:lnTo>
                          <a:lnTo>
                            <a:pt x="50" y="17"/>
                          </a:lnTo>
                          <a:lnTo>
                            <a:pt x="38" y="8"/>
                          </a:lnTo>
                          <a:lnTo>
                            <a:pt x="25" y="2"/>
                          </a:lnTo>
                          <a:lnTo>
                            <a:pt x="12" y="0"/>
                          </a:lnTo>
                          <a:lnTo>
                            <a:pt x="0" y="1"/>
                          </a:lnTo>
                          <a:lnTo>
                            <a:pt x="90" y="191"/>
                          </a:lnTo>
                          <a:lnTo>
                            <a:pt x="104" y="171"/>
                          </a:lnTo>
                          <a:lnTo>
                            <a:pt x="109" y="142"/>
                          </a:lnTo>
                          <a:lnTo>
                            <a:pt x="105" y="110"/>
                          </a:lnTo>
                          <a:lnTo>
                            <a:pt x="93" y="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1" name=""/>
                    <p:cNvSpPr/>
                    <p:nvPr/>
                  </p:nvSpPr>
                  <p:spPr>
                    <a:xfrm rot="2301600">
                      <a:off x="6642000" y="4494960"/>
                      <a:ext cx="5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9">
                          <a:moveTo>
                            <a:pt x="0" y="9"/>
                          </a:moveTo>
                          <a:lnTo>
                            <a:pt x="6" y="7"/>
                          </a:lnTo>
                          <a:lnTo>
                            <a:pt x="11" y="4"/>
                          </a:lnTo>
                          <a:lnTo>
                            <a:pt x="15" y="3"/>
                          </a:lnTo>
                          <a:lnTo>
                            <a:pt x="20" y="0"/>
                          </a:lnTo>
                          <a:lnTo>
                            <a:pt x="0" y="9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2" name=""/>
                    <p:cNvSpPr/>
                    <p:nvPr/>
                  </p:nvSpPr>
                  <p:spPr>
                    <a:xfrm rot="2301600">
                      <a:off x="6782040" y="4300560"/>
                      <a:ext cx="2736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91">
                          <a:moveTo>
                            <a:pt x="95" y="73"/>
                          </a:moveTo>
                          <a:lnTo>
                            <a:pt x="85" y="56"/>
                          </a:lnTo>
                          <a:lnTo>
                            <a:pt x="75" y="41"/>
                          </a:lnTo>
                          <a:lnTo>
                            <a:pt x="63" y="28"/>
                          </a:lnTo>
                          <a:lnTo>
                            <a:pt x="50" y="17"/>
                          </a:lnTo>
                          <a:lnTo>
                            <a:pt x="38" y="8"/>
                          </a:lnTo>
                          <a:lnTo>
                            <a:pt x="25" y="3"/>
                          </a:lnTo>
                          <a:lnTo>
                            <a:pt x="12" y="0"/>
                          </a:lnTo>
                          <a:lnTo>
                            <a:pt x="0" y="1"/>
                          </a:lnTo>
                          <a:lnTo>
                            <a:pt x="91" y="191"/>
                          </a:lnTo>
                          <a:lnTo>
                            <a:pt x="104" y="171"/>
                          </a:lnTo>
                          <a:lnTo>
                            <a:pt x="110" y="143"/>
                          </a:lnTo>
                          <a:lnTo>
                            <a:pt x="106" y="109"/>
                          </a:lnTo>
                          <a:lnTo>
                            <a:pt x="95" y="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373" name=""/>
            <p:cNvGrpSpPr/>
            <p:nvPr/>
          </p:nvGrpSpPr>
          <p:grpSpPr>
            <a:xfrm>
              <a:off x="4201920" y="3801960"/>
              <a:ext cx="2013840" cy="1917360"/>
              <a:chOff x="4201920" y="3801960"/>
              <a:chExt cx="2013840" cy="1917360"/>
            </a:xfrm>
          </p:grpSpPr>
          <p:grpSp>
            <p:nvGrpSpPr>
              <p:cNvPr id="1374" name=""/>
              <p:cNvGrpSpPr/>
              <p:nvPr/>
            </p:nvGrpSpPr>
            <p:grpSpPr>
              <a:xfrm>
                <a:off x="4201920" y="3802680"/>
                <a:ext cx="986400" cy="1854360"/>
                <a:chOff x="4201920" y="3802680"/>
                <a:chExt cx="986400" cy="185436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4587120" y="5441400"/>
                  <a:ext cx="6012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orag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7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715640" y="4348440"/>
                  <a:ext cx="188280" cy="166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702320" y="5019120"/>
                  <a:ext cx="221040" cy="22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201920" y="4851720"/>
                  <a:ext cx="199440" cy="187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80200" y="4286520"/>
                  <a:ext cx="264960" cy="325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42400" y="4808880"/>
                  <a:ext cx="23544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59280" y="5196960"/>
                  <a:ext cx="199800" cy="245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82" name=""/>
                <p:cNvGrpSpPr/>
                <p:nvPr/>
              </p:nvGrpSpPr>
              <p:grpSpPr>
                <a:xfrm>
                  <a:off x="4544280" y="5059440"/>
                  <a:ext cx="250560" cy="345960"/>
                  <a:chOff x="4544280" y="5059440"/>
                  <a:chExt cx="250560" cy="345960"/>
                </a:xfrm>
              </p:grpSpPr>
              <p:pic>
                <p:nvPicPr>
                  <p:cNvPr id="13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44280" y="5059440"/>
                    <a:ext cx="19692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84" name=""/>
                  <p:cNvSpPr/>
                  <p:nvPr/>
                </p:nvSpPr>
                <p:spPr>
                  <a:xfrm>
                    <a:off x="4566600" y="5112720"/>
                    <a:ext cx="22824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$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5" name=""/>
                <p:cNvSpPr/>
                <p:nvPr/>
              </p:nvSpPr>
              <p:spPr>
                <a:xfrm>
                  <a:off x="4406760" y="3802680"/>
                  <a:ext cx="60732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nt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6" name=""/>
                <p:cNvGrpSpPr/>
                <p:nvPr/>
              </p:nvGrpSpPr>
              <p:grpSpPr>
                <a:xfrm>
                  <a:off x="4474080" y="4453200"/>
                  <a:ext cx="243000" cy="330120"/>
                  <a:chOff x="4474080" y="4453200"/>
                  <a:chExt cx="243000" cy="330120"/>
                </a:xfrm>
              </p:grpSpPr>
              <p:pic>
                <p:nvPicPr>
                  <p:cNvPr id="13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74080" y="4453200"/>
                    <a:ext cx="190440" cy="2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88" name=""/>
                  <p:cNvSpPr/>
                  <p:nvPr/>
                </p:nvSpPr>
                <p:spPr>
                  <a:xfrm>
                    <a:off x="4495320" y="4490640"/>
                    <a:ext cx="22176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9" name=""/>
                <p:cNvGrpSpPr/>
                <p:nvPr/>
              </p:nvGrpSpPr>
              <p:grpSpPr>
                <a:xfrm>
                  <a:off x="4365000" y="4584240"/>
                  <a:ext cx="249120" cy="343440"/>
                  <a:chOff x="4365000" y="4584240"/>
                  <a:chExt cx="249120" cy="343440"/>
                </a:xfrm>
              </p:grpSpPr>
              <p:pic>
                <p:nvPicPr>
                  <p:cNvPr id="13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5000" y="4584240"/>
                    <a:ext cx="196920" cy="2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91" name=""/>
                  <p:cNvSpPr/>
                  <p:nvPr/>
                </p:nvSpPr>
                <p:spPr>
                  <a:xfrm>
                    <a:off x="4383360" y="4635000"/>
                    <a:ext cx="23076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$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2" name=""/>
                <p:cNvGrpSpPr/>
                <p:nvPr/>
              </p:nvGrpSpPr>
              <p:grpSpPr>
                <a:xfrm>
                  <a:off x="4327200" y="4998600"/>
                  <a:ext cx="267840" cy="340560"/>
                  <a:chOff x="4327200" y="4998600"/>
                  <a:chExt cx="267840" cy="340560"/>
                </a:xfrm>
              </p:grpSpPr>
              <p:pic>
                <p:nvPicPr>
                  <p:cNvPr id="139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27200" y="4998600"/>
                    <a:ext cx="209520" cy="24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94" name=""/>
                  <p:cNvSpPr/>
                  <p:nvPr/>
                </p:nvSpPr>
                <p:spPr>
                  <a:xfrm>
                    <a:off x="4353120" y="5046480"/>
                    <a:ext cx="24192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5" name=""/>
              <p:cNvGrpSpPr/>
              <p:nvPr/>
            </p:nvGrpSpPr>
            <p:grpSpPr>
              <a:xfrm>
                <a:off x="5106240" y="3801960"/>
                <a:ext cx="1109520" cy="1917360"/>
                <a:chOff x="5106240" y="3801960"/>
                <a:chExt cx="1109520" cy="1917360"/>
              </a:xfrm>
            </p:grpSpPr>
            <p:grpSp>
              <p:nvGrpSpPr>
                <p:cNvPr id="1396" name=""/>
                <p:cNvGrpSpPr/>
                <p:nvPr/>
              </p:nvGrpSpPr>
              <p:grpSpPr>
                <a:xfrm>
                  <a:off x="5852160" y="4292640"/>
                  <a:ext cx="264240" cy="358920"/>
                  <a:chOff x="5852160" y="4292640"/>
                  <a:chExt cx="264240" cy="358920"/>
                </a:xfrm>
              </p:grpSpPr>
              <p:pic>
                <p:nvPicPr>
                  <p:cNvPr id="13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52160" y="4292640"/>
                    <a:ext cx="20952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98" name=""/>
                  <p:cNvSpPr/>
                  <p:nvPr/>
                </p:nvSpPr>
                <p:spPr>
                  <a:xfrm>
                    <a:off x="5868720" y="4358880"/>
                    <a:ext cx="24768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39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57600" y="4341600"/>
                  <a:ext cx="197280" cy="19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636160" y="4277160"/>
                  <a:ext cx="23292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01" name=""/>
                <p:cNvGrpSpPr/>
                <p:nvPr/>
              </p:nvGrpSpPr>
              <p:grpSpPr>
                <a:xfrm>
                  <a:off x="5656320" y="4509360"/>
                  <a:ext cx="245160" cy="331200"/>
                  <a:chOff x="5656320" y="4509360"/>
                  <a:chExt cx="245160" cy="331200"/>
                </a:xfrm>
              </p:grpSpPr>
              <p:pic>
                <p:nvPicPr>
                  <p:cNvPr id="140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56320" y="4509360"/>
                    <a:ext cx="190440" cy="2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3" name=""/>
                  <p:cNvSpPr/>
                  <p:nvPr/>
                </p:nvSpPr>
                <p:spPr>
                  <a:xfrm>
                    <a:off x="5679720" y="4547880"/>
                    <a:ext cx="22176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4" name=""/>
                <p:cNvSpPr/>
                <p:nvPr/>
              </p:nvSpPr>
              <p:spPr>
                <a:xfrm>
                  <a:off x="5106240" y="3801960"/>
                  <a:ext cx="81432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esenta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287680" y="5412240"/>
                  <a:ext cx="843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pplication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4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009120" y="4844880"/>
                  <a:ext cx="190440" cy="234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07" name=""/>
                <p:cNvGrpSpPr/>
                <p:nvPr/>
              </p:nvGrpSpPr>
              <p:grpSpPr>
                <a:xfrm>
                  <a:off x="5969520" y="4542840"/>
                  <a:ext cx="246240" cy="336600"/>
                  <a:chOff x="5969520" y="4542840"/>
                  <a:chExt cx="246240" cy="336600"/>
                </a:xfrm>
              </p:grpSpPr>
              <p:pic>
                <p:nvPicPr>
                  <p:cNvPr id="140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969520" y="4542840"/>
                    <a:ext cx="197640" cy="2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9" name=""/>
                  <p:cNvSpPr/>
                  <p:nvPr/>
                </p:nvSpPr>
                <p:spPr>
                  <a:xfrm>
                    <a:off x="5987880" y="4586760"/>
                    <a:ext cx="22788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$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0" name=""/>
                <p:cNvGrpSpPr/>
                <p:nvPr/>
              </p:nvGrpSpPr>
              <p:grpSpPr>
                <a:xfrm>
                  <a:off x="5812560" y="4692960"/>
                  <a:ext cx="244440" cy="343440"/>
                  <a:chOff x="5812560" y="4692960"/>
                  <a:chExt cx="244440" cy="343440"/>
                </a:xfrm>
              </p:grpSpPr>
              <p:pic>
                <p:nvPicPr>
                  <p:cNvPr id="141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12560" y="4692960"/>
                    <a:ext cx="198000" cy="2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2" name=""/>
                  <p:cNvSpPr/>
                  <p:nvPr/>
                </p:nvSpPr>
                <p:spPr>
                  <a:xfrm>
                    <a:off x="5831280" y="4743720"/>
                    <a:ext cx="22572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$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3" name=""/>
                <p:cNvGrpSpPr/>
                <p:nvPr/>
              </p:nvGrpSpPr>
              <p:grpSpPr>
                <a:xfrm>
                  <a:off x="5800320" y="4937760"/>
                  <a:ext cx="244800" cy="342360"/>
                  <a:chOff x="5800320" y="4937760"/>
                  <a:chExt cx="244800" cy="342360"/>
                </a:xfrm>
              </p:grpSpPr>
              <p:pic>
                <p:nvPicPr>
                  <p:cNvPr id="141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800320" y="4937760"/>
                    <a:ext cx="19764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5" name=""/>
                  <p:cNvSpPr/>
                  <p:nvPr/>
                </p:nvSpPr>
                <p:spPr>
                  <a:xfrm>
                    <a:off x="5817600" y="4987440"/>
                    <a:ext cx="22752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$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41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650200" y="5138640"/>
                  <a:ext cx="249840" cy="2016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17" name=""/>
                <p:cNvGrpSpPr/>
                <p:nvPr/>
              </p:nvGrpSpPr>
              <p:grpSpPr>
                <a:xfrm>
                  <a:off x="5550480" y="5278320"/>
                  <a:ext cx="240840" cy="329040"/>
                  <a:chOff x="5550480" y="5278320"/>
                  <a:chExt cx="240840" cy="329040"/>
                </a:xfrm>
              </p:grpSpPr>
              <p:pic>
                <p:nvPicPr>
                  <p:cNvPr id="141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550480" y="5278320"/>
                    <a:ext cx="190440" cy="2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9" name=""/>
                  <p:cNvSpPr/>
                  <p:nvPr/>
                </p:nvSpPr>
                <p:spPr>
                  <a:xfrm>
                    <a:off x="5568480" y="5314680"/>
                    <a:ext cx="22284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体系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分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元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2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分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计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事例分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层次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虚拟通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1712880" cy="16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设计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416320" y="1981080"/>
            <a:ext cx="4311360" cy="3733560"/>
            <a:chOff x="2416320" y="1981080"/>
            <a:chExt cx="4311360" cy="3733560"/>
          </a:xfrm>
        </p:grpSpPr>
        <p:sp>
          <p:nvSpPr>
            <p:cNvPr id="1428" name="_s299014"/>
            <p:cNvSpPr/>
            <p:nvPr/>
          </p:nvSpPr>
          <p:spPr>
            <a:xfrm flipV="1">
              <a:off x="4140360" y="1981080"/>
              <a:ext cx="863280" cy="74592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480 h 745920"/>
                <a:gd name="textAreaBottom" fmla="*/ 47844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e4a8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1</a:t>
              </a:r>
              <a:r>
                <a:rPr b="1" lang="zh-CN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_s299015"/>
            <p:cNvSpPr/>
            <p:nvPr/>
          </p:nvSpPr>
          <p:spPr>
            <a:xfrm flipV="1">
              <a:off x="3710160" y="272628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2</a:t>
              </a:r>
              <a:r>
                <a:rPr b="1" lang="zh-CN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_s299016"/>
            <p:cNvSpPr/>
            <p:nvPr/>
          </p:nvSpPr>
          <p:spPr>
            <a:xfrm flipV="1">
              <a:off x="3278160" y="3474000"/>
              <a:ext cx="2587680" cy="74628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600 h 746280"/>
                <a:gd name="textAreaBottom" fmla="*/ 61668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e4a8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3</a:t>
              </a:r>
              <a:r>
                <a:rPr b="1" lang="zh-CN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_s299018"/>
            <p:cNvSpPr/>
            <p:nvPr/>
          </p:nvSpPr>
          <p:spPr>
            <a:xfrm flipV="1">
              <a:off x="2847960" y="422028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e4a8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4</a:t>
              </a:r>
              <a:r>
                <a:rPr b="1" lang="zh-CN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_s299019"/>
            <p:cNvSpPr/>
            <p:nvPr/>
          </p:nvSpPr>
          <p:spPr>
            <a:xfrm flipV="1">
              <a:off x="2416320" y="4968720"/>
              <a:ext cx="4311360" cy="74592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5920"/>
                <a:gd name="textAreaBottom" fmla="*/ 64404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00e4a8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………</a:t>
              </a:r>
              <a:r>
                <a:rPr b="1" lang="en-US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.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事例分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政通信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6" name=""/>
          <p:cNvGraphicFramePr/>
          <p:nvPr/>
        </p:nvGraphicFramePr>
        <p:xfrm>
          <a:off x="1332000" y="2421000"/>
          <a:ext cx="604836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21000"/>
                    <a:ext cx="604836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层次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层次与事例的对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功能划分层次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下层的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同计算机同层的对等进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209700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层网络虚拟通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4" name=""/>
          <p:cNvGraphicFramePr/>
          <p:nvPr/>
        </p:nvGraphicFramePr>
        <p:xfrm>
          <a:off x="826920" y="1557360"/>
          <a:ext cx="7417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417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类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的表现形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与实体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n t i t 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向连接服务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-oriented servic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连接服务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less servic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元素（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 r i m i t i v e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49" name=""/>
          <p:cNvGraphicFramePr/>
          <p:nvPr/>
        </p:nvGraphicFramePr>
        <p:xfrm>
          <a:off x="826920" y="1989000"/>
          <a:ext cx="6481800" cy="2943360"/>
        </p:xfrm>
        <a:graphic>
          <a:graphicData uri="http://schemas.openxmlformats.org/drawingml/2006/table">
            <a:tbl>
              <a:tblPr/>
              <a:tblGrid>
                <a:gridCol w="2808360"/>
                <a:gridCol w="36734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请求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quest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户实体要求服务做某项工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示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ndication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户实体被告知谋事件发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响应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spons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户实体表示对某事件的响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确认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onfirm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户实体收到关于它的请求的答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面向连接的服务元素示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51" name=""/>
          <p:cNvGraphicFramePr/>
          <p:nvPr/>
        </p:nvGraphicFramePr>
        <p:xfrm>
          <a:off x="1476360" y="1523880"/>
          <a:ext cx="5904000" cy="4648320"/>
        </p:xfrm>
        <a:graphic>
          <a:graphicData uri="http://schemas.openxmlformats.org/drawingml/2006/table">
            <a:tbl>
              <a:tblPr/>
              <a:tblGrid>
                <a:gridCol w="2557440"/>
                <a:gridCol w="334656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服务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描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请求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服务用户请求建立一个连接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指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服务提供者向被呼叫方示意有人请求建立连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响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呼叫方用来表示接受建立连接的请求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确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服务提供者通知呼叫方建立连接的请求已被接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绍计算机网络的成长过程、发展趋势及其所起到的重要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通讯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通讯协议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的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面向连接的服务元素示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53" name=""/>
          <p:cNvGraphicFramePr/>
          <p:nvPr/>
        </p:nvGraphicFramePr>
        <p:xfrm>
          <a:off x="1476360" y="1523880"/>
          <a:ext cx="5904000" cy="4648320"/>
        </p:xfrm>
        <a:graphic>
          <a:graphicData uri="http://schemas.openxmlformats.org/drawingml/2006/table">
            <a:tbl>
              <a:tblPr/>
              <a:tblGrid>
                <a:gridCol w="2516040"/>
                <a:gridCol w="338796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服务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描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请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请求服务提供者把数据传至对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指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示数据的到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断连请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请求释放连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断连指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将释放连接请求通知对等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面向连接的服务元素对应实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电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6" name=""/>
          <p:cNvGraphicFramePr/>
          <p:nvPr/>
        </p:nvGraphicFramePr>
        <p:xfrm>
          <a:off x="2700360" y="1628640"/>
          <a:ext cx="4680000" cy="4648320"/>
        </p:xfrm>
        <a:graphic>
          <a:graphicData uri="http://schemas.openxmlformats.org/drawingml/2006/table">
            <a:tbl>
              <a:tblPr/>
              <a:tblGrid>
                <a:gridCol w="1871640"/>
                <a:gridCol w="280836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服务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打电话步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请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拨姑姑家的电话号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指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姑姑家的电话铃响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响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姑姑拿起电话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确认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你听到拨号音停止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面向连接的服务元素对应实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58" name=""/>
          <p:cNvGraphicFramePr/>
          <p:nvPr/>
        </p:nvGraphicFramePr>
        <p:xfrm>
          <a:off x="2700360" y="1628640"/>
          <a:ext cx="4680000" cy="4648320"/>
        </p:xfrm>
        <a:graphic>
          <a:graphicData uri="http://schemas.openxmlformats.org/drawingml/2006/table">
            <a:tbl>
              <a:tblPr/>
              <a:tblGrid>
                <a:gridCol w="1871640"/>
                <a:gridCol w="280836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服务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打电话步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请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你邀请她来喝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指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她听到了你的邀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请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她说她很高兴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指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你听到她接受邀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9" name=""/>
          <p:cNvSpPr/>
          <p:nvPr/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打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面向连接的服务元素对应实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电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2771640" y="1628640"/>
          <a:ext cx="4627800" cy="2652840"/>
        </p:xfrm>
        <a:graphic>
          <a:graphicData uri="http://schemas.openxmlformats.org/drawingml/2006/table">
            <a:tbl>
              <a:tblPr/>
              <a:tblGrid>
                <a:gridCol w="2016360"/>
                <a:gridCol w="26114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服务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打电话步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断连请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你挂断电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断连指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她听到了，也挂断电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模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I(Open System Internetwork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开放的通信系统互联参考模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一个定义得非常好的协议规范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七层框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5522760" y="2960640"/>
            <a:ext cx="186876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04000" cy="516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物理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69" name=""/>
          <p:cNvGraphicFramePr/>
          <p:nvPr/>
        </p:nvGraphicFramePr>
        <p:xfrm>
          <a:off x="1619280" y="1197000"/>
          <a:ext cx="6648480" cy="528300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链路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1619280" y="1197000"/>
          <a:ext cx="6648480" cy="528300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链路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帧、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址访问媒介、错误检测与修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/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D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73" name=""/>
          <p:cNvGraphicFramePr/>
          <p:nvPr/>
        </p:nvGraphicFramePr>
        <p:xfrm>
          <a:off x="1619280" y="1197000"/>
          <a:ext cx="6648480" cy="528300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供逻辑地址、选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链路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帧、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址访问媒介、错误检测与修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/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D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传输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75" name=""/>
          <p:cNvGraphicFramePr/>
          <p:nvPr/>
        </p:nvGraphicFramePr>
        <p:xfrm>
          <a:off x="1619280" y="1197000"/>
          <a:ext cx="6648480" cy="526428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传输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靠与不可靠的传输、传输前的错误检测、流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C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供逻辑地址、选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链路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帧、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址访问媒介、错误检测与修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/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D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重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模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模型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模型的比较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会话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77" name=""/>
          <p:cNvGraphicFramePr/>
          <p:nvPr/>
        </p:nvGraphicFramePr>
        <p:xfrm>
          <a:off x="1619280" y="1197000"/>
          <a:ext cx="6648480" cy="526428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会话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应用会话的管理、同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操作系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读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传输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靠与不可靠的传输、传输前的错误检测、流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C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供逻辑地址、选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链路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帧、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址访问媒介、错误检测与修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/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D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表示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79" name=""/>
          <p:cNvGraphicFramePr/>
          <p:nvPr/>
        </p:nvGraphicFramePr>
        <p:xfrm>
          <a:off x="1619280" y="1197000"/>
          <a:ext cx="6648480" cy="528012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示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的表现形式、特定功能的实现如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加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SCII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BC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会话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应用会话的管理、同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操作系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读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传输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靠与不可靠的传输、传输前的错误检测、流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C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供逻辑地址、选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链路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帧、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址访问媒介、错误检测与修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/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D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81" name=""/>
          <p:cNvGraphicFramePr/>
          <p:nvPr/>
        </p:nvGraphicFramePr>
        <p:xfrm>
          <a:off x="1619280" y="1197000"/>
          <a:ext cx="6648480" cy="528012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户接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T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el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示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的表现形式、特定功能的实现如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加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SCII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BC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会话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应用会话的管理、同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操作系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读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传输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靠与不可靠的传输、传输前的错误检测、流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C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供逻辑地址、选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链路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帧、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址访问媒介、错误检测与修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/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D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CP/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参考模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2411280" y="2060640"/>
          <a:ext cx="2881440" cy="3744720"/>
        </p:xfrm>
        <a:graphic>
          <a:graphicData uri="http://schemas.openxmlformats.org/drawingml/2006/table">
            <a:tbl>
              <a:tblPr/>
              <a:tblGrid>
                <a:gridCol w="2881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应用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传输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互联网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网络接口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84" name=""/>
          <p:cNvSpPr/>
          <p:nvPr/>
        </p:nvSpPr>
        <p:spPr>
          <a:xfrm>
            <a:off x="2340000" y="119700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CP/IP 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层模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接口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涉及分组与网络接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1763640" y="3500280"/>
            <a:ext cx="4130640" cy="1544400"/>
            <a:chOff x="1763640" y="3500280"/>
            <a:chExt cx="4130640" cy="1544400"/>
          </a:xfrm>
        </p:grpSpPr>
        <p:sp>
          <p:nvSpPr>
            <p:cNvPr id="1488" name=""/>
            <p:cNvSpPr/>
            <p:nvPr/>
          </p:nvSpPr>
          <p:spPr>
            <a:xfrm>
              <a:off x="1763640" y="3500280"/>
              <a:ext cx="4130640" cy="1544400"/>
            </a:xfrm>
            <a:prstGeom prst="rect">
              <a:avLst/>
            </a:prstGeom>
            <a:solidFill>
              <a:srgbClr val="b7e0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140000" y="3506400"/>
              <a:ext cx="2880" cy="153036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920680" y="3516120"/>
              <a:ext cx="0" cy="151272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573440" y="4093920"/>
              <a:ext cx="1142640" cy="117360"/>
            </a:xfrm>
            <a:custGeom>
              <a:avLst/>
              <a:gdLst/>
              <a:ahLst/>
              <a:rect l="l" t="t" r="r" b="b"/>
              <a:pathLst>
                <a:path w="2390" h="87">
                  <a:moveTo>
                    <a:pt x="0" y="0"/>
                  </a:moveTo>
                  <a:lnTo>
                    <a:pt x="1146" y="0"/>
                  </a:lnTo>
                  <a:lnTo>
                    <a:pt x="917" y="86"/>
                  </a:lnTo>
                  <a:lnTo>
                    <a:pt x="2389" y="86"/>
                  </a:lnTo>
                </a:path>
              </a:pathLst>
            </a:custGeom>
            <a:noFill/>
            <a:ln cap="rnd" w="38160">
              <a:solidFill>
                <a:srgbClr val="ffcf01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2398320" y="3955680"/>
              <a:ext cx="10206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3" name=""/>
            <p:cNvSpPr/>
            <p:nvPr/>
          </p:nvSpPr>
          <p:spPr>
            <a:xfrm>
              <a:off x="4586040" y="4347720"/>
              <a:ext cx="1142640" cy="117720"/>
            </a:xfrm>
            <a:custGeom>
              <a:avLst/>
              <a:gdLst/>
              <a:ahLst/>
              <a:rect l="l" t="t" r="r" b="b"/>
              <a:pathLst>
                <a:path w="2390" h="87">
                  <a:moveTo>
                    <a:pt x="0" y="0"/>
                  </a:moveTo>
                  <a:lnTo>
                    <a:pt x="1146" y="0"/>
                  </a:lnTo>
                  <a:lnTo>
                    <a:pt x="917" y="86"/>
                  </a:lnTo>
                  <a:lnTo>
                    <a:pt x="2389" y="86"/>
                  </a:lnTo>
                </a:path>
              </a:pathLst>
            </a:custGeom>
            <a:noFill/>
            <a:ln w="38160">
              <a:solidFill>
                <a:srgbClr val="ffcf01"/>
              </a:solidFill>
              <a:prstDash val="dash"/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4" name="" descr=""/>
            <p:cNvPicPr/>
            <p:nvPr/>
          </p:nvPicPr>
          <p:blipFill>
            <a:blip r:embed="rId2"/>
            <a:stretch/>
          </p:blipFill>
          <p:spPr>
            <a:xfrm>
              <a:off x="3681000" y="3955680"/>
              <a:ext cx="102060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互联网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上层发送请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输入数据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报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0" y="5302080"/>
            <a:ext cx="165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1258920" y="3284640"/>
            <a:ext cx="5036760" cy="2447640"/>
            <a:chOff x="1258920" y="3284640"/>
            <a:chExt cx="5036760" cy="2447640"/>
          </a:xfrm>
        </p:grpSpPr>
        <p:graphicFrame>
          <p:nvGraphicFramePr>
            <p:cNvPr id="1499" name=""/>
            <p:cNvGraphicFramePr/>
            <p:nvPr/>
          </p:nvGraphicFramePr>
          <p:xfrm>
            <a:off x="3077280" y="4068000"/>
            <a:ext cx="151992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7280" y="4068000"/>
                      <a:ext cx="151992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1" name=""/>
            <p:cNvGraphicFramePr/>
            <p:nvPr/>
          </p:nvGraphicFramePr>
          <p:xfrm>
            <a:off x="4942440" y="4653360"/>
            <a:ext cx="1353240" cy="107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42440" y="4653360"/>
                      <a:ext cx="1353240" cy="107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3" name=""/>
            <p:cNvGraphicFramePr/>
            <p:nvPr/>
          </p:nvGraphicFramePr>
          <p:xfrm>
            <a:off x="1476360" y="4560840"/>
            <a:ext cx="1054440" cy="114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76360" y="4560840"/>
                      <a:ext cx="1054440" cy="114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5" name=""/>
            <p:cNvSpPr/>
            <p:nvPr/>
          </p:nvSpPr>
          <p:spPr>
            <a:xfrm>
              <a:off x="5174640" y="3717720"/>
              <a:ext cx="16560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92560" y="3997080"/>
              <a:ext cx="165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258920" y="4524480"/>
              <a:ext cx="1652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727880" y="4524480"/>
              <a:ext cx="1648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09" name=""/>
            <p:cNvGraphicFramePr/>
            <p:nvPr/>
          </p:nvGraphicFramePr>
          <p:xfrm>
            <a:off x="1394280" y="3288600"/>
            <a:ext cx="1533600" cy="622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94280" y="3288600"/>
                      <a:ext cx="15336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1" name=""/>
            <p:cNvGraphicFramePr/>
            <p:nvPr/>
          </p:nvGraphicFramePr>
          <p:xfrm>
            <a:off x="5644080" y="3973680"/>
            <a:ext cx="324360" cy="287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44080" y="3973680"/>
                      <a:ext cx="324360" cy="2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3" name=""/>
            <p:cNvGraphicFramePr/>
            <p:nvPr/>
          </p:nvGraphicFramePr>
          <p:xfrm>
            <a:off x="4888080" y="3973680"/>
            <a:ext cx="765720" cy="47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1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88080" y="3973680"/>
                      <a:ext cx="76572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5" name=""/>
            <p:cNvGraphicFramePr/>
            <p:nvPr/>
          </p:nvGraphicFramePr>
          <p:xfrm>
            <a:off x="5070960" y="3288600"/>
            <a:ext cx="399600" cy="388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1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70960" y="3288600"/>
                      <a:ext cx="399600" cy="3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17" name="" descr=""/>
            <p:cNvPicPr/>
            <p:nvPr/>
          </p:nvPicPr>
          <p:blipFill>
            <a:blip r:embed="rId15"/>
            <a:stretch/>
          </p:blipFill>
          <p:spPr>
            <a:xfrm>
              <a:off x="5677560" y="3284640"/>
              <a:ext cx="553680" cy="39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5486760" y="3708360"/>
              <a:ext cx="164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4249800" y="4894920"/>
              <a:ext cx="76752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2595240" y="3864240"/>
              <a:ext cx="628200" cy="4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408200" y="4182840"/>
              <a:ext cx="41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2421360" y="4836240"/>
              <a:ext cx="789480" cy="7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传输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1763640" y="2708280"/>
            <a:ext cx="4186440" cy="3029040"/>
            <a:chOff x="1763640" y="2708280"/>
            <a:chExt cx="4186440" cy="3029040"/>
          </a:xfrm>
        </p:grpSpPr>
        <p:sp>
          <p:nvSpPr>
            <p:cNvPr id="1526" name=""/>
            <p:cNvSpPr/>
            <p:nvPr/>
          </p:nvSpPr>
          <p:spPr>
            <a:xfrm>
              <a:off x="1763640" y="2708280"/>
              <a:ext cx="4186440" cy="30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763640" y="4222800"/>
              <a:ext cx="4186440" cy="1514520"/>
            </a:xfrm>
            <a:prstGeom prst="rect">
              <a:avLst/>
            </a:prstGeom>
            <a:solidFill>
              <a:srgbClr val="45f3b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763640" y="2708280"/>
              <a:ext cx="4186440" cy="1514520"/>
            </a:xfrm>
            <a:prstGeom prst="rect">
              <a:avLst/>
            </a:prstGeom>
            <a:solidFill>
              <a:srgbClr val="ffe9a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70120" y="3314880"/>
              <a:ext cx="20574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 algn="ctr"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41640" y="3300480"/>
              <a:ext cx="19717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 algn="ctr"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627360" y="4786560"/>
              <a:ext cx="5288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 algn="ctr"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827520" y="2721240"/>
              <a:ext cx="0" cy="15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635360" y="4005360"/>
              <a:ext cx="414360" cy="41436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577960" y="4005360"/>
              <a:ext cx="414360" cy="41436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理高层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表达、编码和对话控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" descr=""/>
          <p:cNvPicPr/>
          <p:nvPr/>
        </p:nvPicPr>
        <p:blipFill>
          <a:blip r:embed="rId1"/>
          <a:stretch/>
        </p:blipFill>
        <p:spPr>
          <a:xfrm>
            <a:off x="4427640" y="3357720"/>
            <a:ext cx="1871640" cy="23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CP/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型与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型的对应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547640" y="1557360"/>
            <a:ext cx="18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OSI 7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层模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1595520" y="2236680"/>
            <a:ext cx="1797120" cy="3713040"/>
            <a:chOff x="1595520" y="2236680"/>
            <a:chExt cx="1797120" cy="3713040"/>
          </a:xfrm>
        </p:grpSpPr>
        <p:sp>
          <p:nvSpPr>
            <p:cNvPr id="1541" name=""/>
            <p:cNvSpPr/>
            <p:nvPr/>
          </p:nvSpPr>
          <p:spPr>
            <a:xfrm>
              <a:off x="1595520" y="5515200"/>
              <a:ext cx="1797120" cy="4345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675"/>
                </a:gs>
              </a:gsLst>
              <a:lin ang="5400000"/>
            </a:gradFill>
            <a:ln cap="sq"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物理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95520" y="4967280"/>
              <a:ext cx="1797120" cy="43668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175e17"/>
                </a:gs>
              </a:gsLst>
              <a:lin ang="5400000"/>
            </a:gradFill>
            <a:ln cap="sq"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数据链路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95520" y="4421520"/>
              <a:ext cx="1797120" cy="4348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cap="sq"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网络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595520" y="3874320"/>
              <a:ext cx="1797120" cy="436680"/>
            </a:xfrm>
            <a:prstGeom prst="rect">
              <a:avLst/>
            </a:prstGeom>
            <a:gradFill rotWithShape="0">
              <a:gsLst>
                <a:gs pos="0">
                  <a:srgbClr val="00e4a8"/>
                </a:gs>
                <a:gs pos="100000">
                  <a:srgbClr val="00694d"/>
                </a:gs>
              </a:gsLst>
              <a:lin ang="5400000"/>
            </a:gradFill>
            <a:ln cap="sq"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传输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595520" y="3330000"/>
              <a:ext cx="1797120" cy="434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会话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95520" y="2782440"/>
              <a:ext cx="1797120" cy="436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cap="sq"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表示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595520" y="2236680"/>
              <a:ext cx="1797120" cy="43488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5400000"/>
            </a:gradFill>
            <a:ln cap="sq"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应用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48" name=""/>
          <p:cNvGraphicFramePr/>
          <p:nvPr/>
        </p:nvGraphicFramePr>
        <p:xfrm>
          <a:off x="5076720" y="2205000"/>
          <a:ext cx="1440000" cy="36115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应用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传输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互联网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网络接口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49" name=""/>
          <p:cNvSpPr/>
          <p:nvPr/>
        </p:nvSpPr>
        <p:spPr>
          <a:xfrm>
            <a:off x="4716360" y="1557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CP/IP 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层模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492360" y="2492280"/>
            <a:ext cx="1511280" cy="865440"/>
          </a:xfrm>
          <a:prstGeom prst="leftRightArrow">
            <a:avLst>
              <a:gd name="adj1" fmla="val 50000"/>
              <a:gd name="adj2" fmla="val 347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92360" y="3933720"/>
            <a:ext cx="1511280" cy="287280"/>
          </a:xfrm>
          <a:prstGeom prst="leftRightArrow">
            <a:avLst>
              <a:gd name="adj1" fmla="val 50000"/>
              <a:gd name="adj2" fmla="val 10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492360" y="4508640"/>
            <a:ext cx="1511280" cy="288720"/>
          </a:xfrm>
          <a:prstGeom prst="leftRightArrow">
            <a:avLst>
              <a:gd name="adj1" fmla="val 50000"/>
              <a:gd name="adj2" fmla="val 104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492360" y="5157720"/>
            <a:ext cx="1511280" cy="503280"/>
          </a:xfrm>
          <a:prstGeom prst="leftRightArrow">
            <a:avLst>
              <a:gd name="adj1" fmla="val 50000"/>
              <a:gd name="adj2" fmla="val 597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042920" y="2421000"/>
            <a:ext cx="6050160" cy="122400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116000" y="3860640"/>
            <a:ext cx="5904000" cy="505080"/>
          </a:xfrm>
          <a:prstGeom prst="bracePair">
            <a:avLst>
              <a:gd name="adj" fmla="val 8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116000" y="4437000"/>
            <a:ext cx="5904000" cy="432000"/>
          </a:xfrm>
          <a:prstGeom prst="bracePair">
            <a:avLst>
              <a:gd name="adj" fmla="val 8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116000" y="5013360"/>
            <a:ext cx="5977080" cy="79200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CP/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型与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型的比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同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应用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传输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网络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层向上层提供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服务、协议、接口的概念区分清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服务、协议、接口的概念区分模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与模型出现次序不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层次数量不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计算机是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世纪人类最伟大的发明之一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关键技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息获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网络的贡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高社会生产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一种全社会的、经济的、快速的存取信息手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计算机网络的发展历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七层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计算机通信的整个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区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产生和发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代计算机网络的诞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产生第一台数字计算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收发器终端的产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代初，由多重线路控制器参与组成的网络，被称为第一代计算机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00000" y="3860640"/>
            <a:ext cx="6237360" cy="1911240"/>
            <a:chOff x="900000" y="3860640"/>
            <a:chExt cx="6237360" cy="1911240"/>
          </a:xfrm>
        </p:grpSpPr>
        <p:sp>
          <p:nvSpPr>
            <p:cNvPr id="99" name=""/>
            <p:cNvSpPr/>
            <p:nvPr/>
          </p:nvSpPr>
          <p:spPr>
            <a:xfrm flipH="1">
              <a:off x="2195280" y="4508640"/>
              <a:ext cx="863640" cy="50472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08360" y="4365720"/>
              <a:ext cx="1584360" cy="142920"/>
            </a:xfrm>
            <a:custGeom>
              <a:avLst/>
              <a:gdLst/>
              <a:ahLst/>
              <a:rect l="l" t="t" r="r" b="b"/>
              <a:pathLst>
                <a:path w="666" h="84">
                  <a:moveTo>
                    <a:pt x="0" y="0"/>
                  </a:moveTo>
                  <a:lnTo>
                    <a:pt x="330" y="0"/>
                  </a:lnTo>
                  <a:lnTo>
                    <a:pt x="258" y="84"/>
                  </a:lnTo>
                  <a:lnTo>
                    <a:pt x="666" y="84"/>
                  </a:lnTo>
                </a:path>
              </a:pathLst>
            </a:custGeom>
            <a:noFill/>
            <a:ln cap="rnd" w="38160">
              <a:solidFill>
                <a:srgbClr val="ffcf01"/>
              </a:solidFill>
              <a:round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292720" y="4365720"/>
              <a:ext cx="636120" cy="225000"/>
              <a:chOff x="5292720" y="4365720"/>
              <a:chExt cx="636120" cy="225000"/>
            </a:xfrm>
          </p:grpSpPr>
          <p:sp>
            <p:nvSpPr>
              <p:cNvPr id="102" name=""/>
              <p:cNvSpPr/>
              <p:nvPr/>
            </p:nvSpPr>
            <p:spPr>
              <a:xfrm>
                <a:off x="5311080" y="4456800"/>
                <a:ext cx="421920" cy="133920"/>
              </a:xfrm>
              <a:custGeom>
                <a:avLst/>
                <a:gdLst/>
                <a:ahLst/>
                <a:rect l="l" t="t" r="r" b="b"/>
                <a:pathLst>
                  <a:path w="295" h="94">
                    <a:moveTo>
                      <a:pt x="0" y="0"/>
                    </a:moveTo>
                    <a:lnTo>
                      <a:pt x="294" y="0"/>
                    </a:lnTo>
                    <a:lnTo>
                      <a:pt x="294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11080" y="4374000"/>
                <a:ext cx="617760" cy="92520"/>
              </a:xfrm>
              <a:custGeom>
                <a:avLst/>
                <a:gdLst/>
                <a:ahLst/>
                <a:rect l="l" t="t" r="r" b="b"/>
                <a:pathLst>
                  <a:path w="432" h="65">
                    <a:moveTo>
                      <a:pt x="0" y="64"/>
                    </a:moveTo>
                    <a:lnTo>
                      <a:pt x="148" y="0"/>
                    </a:lnTo>
                    <a:lnTo>
                      <a:pt x="431" y="0"/>
                    </a:lnTo>
                    <a:lnTo>
                      <a:pt x="289" y="64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20040" y="4365720"/>
                <a:ext cx="207360" cy="222480"/>
              </a:xfrm>
              <a:custGeom>
                <a:avLst/>
                <a:gdLst/>
                <a:ahLst/>
                <a:rect l="l" t="t" r="r" b="b"/>
                <a:pathLst>
                  <a:path w="145" h="156">
                    <a:moveTo>
                      <a:pt x="0" y="62"/>
                    </a:moveTo>
                    <a:lnTo>
                      <a:pt x="0" y="155"/>
                    </a:lnTo>
                    <a:lnTo>
                      <a:pt x="144" y="93"/>
                    </a:lnTo>
                    <a:lnTo>
                      <a:pt x="144" y="0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299560" y="4453920"/>
                <a:ext cx="423360" cy="133920"/>
              </a:xfrm>
              <a:custGeom>
                <a:avLst/>
                <a:gdLst/>
                <a:ahLst/>
                <a:rect l="l" t="t" r="r" b="b"/>
                <a:pathLst>
                  <a:path w="296" h="94">
                    <a:moveTo>
                      <a:pt x="0" y="0"/>
                    </a:moveTo>
                    <a:lnTo>
                      <a:pt x="295" y="0"/>
                    </a:lnTo>
                    <a:lnTo>
                      <a:pt x="295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39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92720" y="4374000"/>
                <a:ext cx="630720" cy="91080"/>
              </a:xfrm>
              <a:custGeom>
                <a:avLst/>
                <a:gdLst/>
                <a:ahLst/>
                <a:rect l="l" t="t" r="r" b="b"/>
                <a:pathLst>
                  <a:path w="441" h="64">
                    <a:moveTo>
                      <a:pt x="0" y="63"/>
                    </a:moveTo>
                    <a:lnTo>
                      <a:pt x="151" y="0"/>
                    </a:lnTo>
                    <a:lnTo>
                      <a:pt x="440" y="0"/>
                    </a:lnTo>
                    <a:lnTo>
                      <a:pt x="295" y="63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adaa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14640" y="4368600"/>
                <a:ext cx="207000" cy="213480"/>
              </a:xfrm>
              <a:custGeom>
                <a:avLst/>
                <a:gdLst/>
                <a:ahLst/>
                <a:rect l="l" t="t" r="r" b="b"/>
                <a:pathLst>
                  <a:path w="145" h="150">
                    <a:moveTo>
                      <a:pt x="0" y="62"/>
                    </a:moveTo>
                    <a:lnTo>
                      <a:pt x="0" y="149"/>
                    </a:lnTo>
                    <a:lnTo>
                      <a:pt x="144" y="86"/>
                    </a:lnTo>
                    <a:lnTo>
                      <a:pt x="144" y="0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7f7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31240" y="4502160"/>
                <a:ext cx="4248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408280" y="4502160"/>
                <a:ext cx="4248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482800" y="4502160"/>
                <a:ext cx="4284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58400" y="4502160"/>
                <a:ext cx="5436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45880" y="4502160"/>
                <a:ext cx="4140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>
              <a:off x="5940360" y="4437000"/>
              <a:ext cx="287280" cy="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6227640" y="3860640"/>
              <a:ext cx="836640" cy="758520"/>
              <a:chOff x="6227640" y="3860640"/>
              <a:chExt cx="836640" cy="7585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6261120" y="4334760"/>
                <a:ext cx="766800" cy="241200"/>
                <a:chOff x="6261120" y="4334760"/>
                <a:chExt cx="766800" cy="241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261120" y="4334760"/>
                  <a:ext cx="766800" cy="24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688080" y="4375800"/>
                  <a:ext cx="264240" cy="110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227640" y="4466880"/>
                <a:ext cx="836640" cy="152280"/>
                <a:chOff x="6227640" y="4466880"/>
                <a:chExt cx="836640" cy="152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227640" y="4466880"/>
                  <a:ext cx="836640" cy="152280"/>
                </a:xfrm>
                <a:custGeom>
                  <a:avLst/>
                  <a:gdLst/>
                  <a:ahLst/>
                  <a:rect l="l" t="t" r="r" b="b"/>
                  <a:pathLst>
                    <a:path w="1246" h="289">
                      <a:moveTo>
                        <a:pt x="156" y="0"/>
                      </a:moveTo>
                      <a:lnTo>
                        <a:pt x="1096" y="0"/>
                      </a:lnTo>
                      <a:lnTo>
                        <a:pt x="1245" y="261"/>
                      </a:lnTo>
                      <a:lnTo>
                        <a:pt x="1246" y="273"/>
                      </a:lnTo>
                      <a:lnTo>
                        <a:pt x="1242" y="284"/>
                      </a:lnTo>
                      <a:lnTo>
                        <a:pt x="1232" y="289"/>
                      </a:lnTo>
                      <a:lnTo>
                        <a:pt x="17" y="289"/>
                      </a:lnTo>
                      <a:lnTo>
                        <a:pt x="7" y="282"/>
                      </a:lnTo>
                      <a:lnTo>
                        <a:pt x="0" y="270"/>
                      </a:lnTo>
                      <a:lnTo>
                        <a:pt x="3" y="255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273000" y="4498560"/>
                  <a:ext cx="557280" cy="97200"/>
                </a:xfrm>
                <a:custGeom>
                  <a:avLst/>
                  <a:gdLst/>
                  <a:ahLst/>
                  <a:rect l="l" t="t" r="r" b="b"/>
                  <a:pathLst>
                    <a:path w="830" h="184">
                      <a:moveTo>
                        <a:pt x="112" y="0"/>
                      </a:moveTo>
                      <a:lnTo>
                        <a:pt x="790" y="0"/>
                      </a:lnTo>
                      <a:lnTo>
                        <a:pt x="830" y="184"/>
                      </a:lnTo>
                      <a:lnTo>
                        <a:pt x="0" y="184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846840" y="4498560"/>
                  <a:ext cx="169200" cy="97200"/>
                </a:xfrm>
                <a:custGeom>
                  <a:avLst/>
                  <a:gdLst/>
                  <a:ahLst/>
                  <a:rect l="l" t="t" r="r" b="b"/>
                  <a:pathLst>
                    <a:path w="252" h="184">
                      <a:moveTo>
                        <a:pt x="0" y="0"/>
                      </a:moveTo>
                      <a:lnTo>
                        <a:pt x="148" y="0"/>
                      </a:lnTo>
                      <a:lnTo>
                        <a:pt x="252" y="184"/>
                      </a:lnTo>
                      <a:lnTo>
                        <a:pt x="46" y="1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368400" y="3860640"/>
                <a:ext cx="555840" cy="467640"/>
                <a:chOff x="6368400" y="3860640"/>
                <a:chExt cx="555840" cy="4676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368400" y="3860640"/>
                  <a:ext cx="555840" cy="467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4400" y="3898440"/>
                  <a:ext cx="483120" cy="396720"/>
                </a:xfrm>
                <a:prstGeom prst="rect">
                  <a:avLst/>
                </a:prstGeom>
                <a:solidFill>
                  <a:srgbClr val="114ff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819480" y="3898440"/>
                  <a:ext cx="66960" cy="396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835680" y="3919680"/>
                  <a:ext cx="31680" cy="26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837840" y="4091040"/>
                  <a:ext cx="24120" cy="2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837840" y="4163040"/>
                  <a:ext cx="24120" cy="2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837840" y="4231800"/>
                  <a:ext cx="24120" cy="2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 flipH="1" flipV="1">
              <a:off x="2195280" y="5084280"/>
              <a:ext cx="936360" cy="57636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132000" y="5518080"/>
              <a:ext cx="636480" cy="225000"/>
              <a:chOff x="3132000" y="5518080"/>
              <a:chExt cx="636480" cy="225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150360" y="5609160"/>
                <a:ext cx="422280" cy="133920"/>
              </a:xfrm>
              <a:custGeom>
                <a:avLst/>
                <a:gdLst/>
                <a:ahLst/>
                <a:rect l="l" t="t" r="r" b="b"/>
                <a:pathLst>
                  <a:path w="295" h="94">
                    <a:moveTo>
                      <a:pt x="0" y="0"/>
                    </a:moveTo>
                    <a:lnTo>
                      <a:pt x="294" y="0"/>
                    </a:lnTo>
                    <a:lnTo>
                      <a:pt x="294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50360" y="5526360"/>
                <a:ext cx="618120" cy="92520"/>
              </a:xfrm>
              <a:custGeom>
                <a:avLst/>
                <a:gdLst/>
                <a:ahLst/>
                <a:rect l="l" t="t" r="r" b="b"/>
                <a:pathLst>
                  <a:path w="432" h="65">
                    <a:moveTo>
                      <a:pt x="0" y="64"/>
                    </a:moveTo>
                    <a:lnTo>
                      <a:pt x="148" y="0"/>
                    </a:lnTo>
                    <a:lnTo>
                      <a:pt x="431" y="0"/>
                    </a:lnTo>
                    <a:lnTo>
                      <a:pt x="289" y="64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59680" y="5518080"/>
                <a:ext cx="207720" cy="222480"/>
              </a:xfrm>
              <a:custGeom>
                <a:avLst/>
                <a:gdLst/>
                <a:ahLst/>
                <a:rect l="l" t="t" r="r" b="b"/>
                <a:pathLst>
                  <a:path w="145" h="156">
                    <a:moveTo>
                      <a:pt x="0" y="62"/>
                    </a:moveTo>
                    <a:lnTo>
                      <a:pt x="0" y="155"/>
                    </a:lnTo>
                    <a:lnTo>
                      <a:pt x="144" y="93"/>
                    </a:lnTo>
                    <a:lnTo>
                      <a:pt x="144" y="0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38840" y="5606280"/>
                <a:ext cx="423360" cy="133920"/>
              </a:xfrm>
              <a:custGeom>
                <a:avLst/>
                <a:gdLst/>
                <a:ahLst/>
                <a:rect l="l" t="t" r="r" b="b"/>
                <a:pathLst>
                  <a:path w="296" h="94">
                    <a:moveTo>
                      <a:pt x="0" y="0"/>
                    </a:moveTo>
                    <a:lnTo>
                      <a:pt x="295" y="0"/>
                    </a:lnTo>
                    <a:lnTo>
                      <a:pt x="295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39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32000" y="5526360"/>
                <a:ext cx="631080" cy="91080"/>
              </a:xfrm>
              <a:custGeom>
                <a:avLst/>
                <a:gdLst/>
                <a:ahLst/>
                <a:rect l="l" t="t" r="r" b="b"/>
                <a:pathLst>
                  <a:path w="441" h="64">
                    <a:moveTo>
                      <a:pt x="0" y="63"/>
                    </a:moveTo>
                    <a:lnTo>
                      <a:pt x="151" y="0"/>
                    </a:lnTo>
                    <a:lnTo>
                      <a:pt x="440" y="0"/>
                    </a:lnTo>
                    <a:lnTo>
                      <a:pt x="295" y="63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adaa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554280" y="5520960"/>
                <a:ext cx="207360" cy="213480"/>
              </a:xfrm>
              <a:custGeom>
                <a:avLst/>
                <a:gdLst/>
                <a:ahLst/>
                <a:rect l="l" t="t" r="r" b="b"/>
                <a:pathLst>
                  <a:path w="145" h="150">
                    <a:moveTo>
                      <a:pt x="0" y="62"/>
                    </a:moveTo>
                    <a:lnTo>
                      <a:pt x="0" y="149"/>
                    </a:lnTo>
                    <a:lnTo>
                      <a:pt x="144" y="86"/>
                    </a:lnTo>
                    <a:lnTo>
                      <a:pt x="144" y="0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7f7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70520" y="5654520"/>
                <a:ext cx="4284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47560" y="5654520"/>
                <a:ext cx="4284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22080" y="5654520"/>
                <a:ext cx="4284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98040" y="5654520"/>
                <a:ext cx="5436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85160" y="5654520"/>
                <a:ext cx="4140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781440" y="5518080"/>
              <a:ext cx="1584360" cy="142920"/>
            </a:xfrm>
            <a:custGeom>
              <a:avLst/>
              <a:gdLst/>
              <a:ahLst/>
              <a:rect l="l" t="t" r="r" b="b"/>
              <a:pathLst>
                <a:path w="666" h="84">
                  <a:moveTo>
                    <a:pt x="0" y="0"/>
                  </a:moveTo>
                  <a:lnTo>
                    <a:pt x="330" y="0"/>
                  </a:lnTo>
                  <a:lnTo>
                    <a:pt x="258" y="84"/>
                  </a:lnTo>
                  <a:lnTo>
                    <a:pt x="666" y="84"/>
                  </a:lnTo>
                </a:path>
              </a:pathLst>
            </a:custGeom>
            <a:noFill/>
            <a:ln cap="rnd" w="38160">
              <a:solidFill>
                <a:srgbClr val="ffcf01"/>
              </a:solidFill>
              <a:round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365800" y="5518080"/>
              <a:ext cx="636120" cy="225000"/>
              <a:chOff x="5365800" y="5518080"/>
              <a:chExt cx="636120" cy="225000"/>
            </a:xfrm>
          </p:grpSpPr>
          <p:sp>
            <p:nvSpPr>
              <p:cNvPr id="145" name=""/>
              <p:cNvSpPr/>
              <p:nvPr/>
            </p:nvSpPr>
            <p:spPr>
              <a:xfrm>
                <a:off x="5384160" y="5609160"/>
                <a:ext cx="421920" cy="133920"/>
              </a:xfrm>
              <a:custGeom>
                <a:avLst/>
                <a:gdLst/>
                <a:ahLst/>
                <a:rect l="l" t="t" r="r" b="b"/>
                <a:pathLst>
                  <a:path w="295" h="94">
                    <a:moveTo>
                      <a:pt x="0" y="0"/>
                    </a:moveTo>
                    <a:lnTo>
                      <a:pt x="294" y="0"/>
                    </a:lnTo>
                    <a:lnTo>
                      <a:pt x="294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84160" y="5526360"/>
                <a:ext cx="617760" cy="92520"/>
              </a:xfrm>
              <a:custGeom>
                <a:avLst/>
                <a:gdLst/>
                <a:ahLst/>
                <a:rect l="l" t="t" r="r" b="b"/>
                <a:pathLst>
                  <a:path w="432" h="65">
                    <a:moveTo>
                      <a:pt x="0" y="64"/>
                    </a:moveTo>
                    <a:lnTo>
                      <a:pt x="148" y="0"/>
                    </a:lnTo>
                    <a:lnTo>
                      <a:pt x="431" y="0"/>
                    </a:lnTo>
                    <a:lnTo>
                      <a:pt x="289" y="64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3120" y="5518080"/>
                <a:ext cx="207360" cy="222480"/>
              </a:xfrm>
              <a:custGeom>
                <a:avLst/>
                <a:gdLst/>
                <a:ahLst/>
                <a:rect l="l" t="t" r="r" b="b"/>
                <a:pathLst>
                  <a:path w="145" h="156">
                    <a:moveTo>
                      <a:pt x="0" y="62"/>
                    </a:moveTo>
                    <a:lnTo>
                      <a:pt x="0" y="155"/>
                    </a:lnTo>
                    <a:lnTo>
                      <a:pt x="144" y="93"/>
                    </a:lnTo>
                    <a:lnTo>
                      <a:pt x="144" y="0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72640" y="5606280"/>
                <a:ext cx="423360" cy="133920"/>
              </a:xfrm>
              <a:custGeom>
                <a:avLst/>
                <a:gdLst/>
                <a:ahLst/>
                <a:rect l="l" t="t" r="r" b="b"/>
                <a:pathLst>
                  <a:path w="296" h="94">
                    <a:moveTo>
                      <a:pt x="0" y="0"/>
                    </a:moveTo>
                    <a:lnTo>
                      <a:pt x="295" y="0"/>
                    </a:lnTo>
                    <a:lnTo>
                      <a:pt x="295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39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365800" y="5526360"/>
                <a:ext cx="630720" cy="91080"/>
              </a:xfrm>
              <a:custGeom>
                <a:avLst/>
                <a:gdLst/>
                <a:ahLst/>
                <a:rect l="l" t="t" r="r" b="b"/>
                <a:pathLst>
                  <a:path w="441" h="64">
                    <a:moveTo>
                      <a:pt x="0" y="63"/>
                    </a:moveTo>
                    <a:lnTo>
                      <a:pt x="151" y="0"/>
                    </a:lnTo>
                    <a:lnTo>
                      <a:pt x="440" y="0"/>
                    </a:lnTo>
                    <a:lnTo>
                      <a:pt x="295" y="63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adaa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87720" y="5520960"/>
                <a:ext cx="207000" cy="213480"/>
              </a:xfrm>
              <a:custGeom>
                <a:avLst/>
                <a:gdLst/>
                <a:ahLst/>
                <a:rect l="l" t="t" r="r" b="b"/>
                <a:pathLst>
                  <a:path w="145" h="150">
                    <a:moveTo>
                      <a:pt x="0" y="62"/>
                    </a:moveTo>
                    <a:lnTo>
                      <a:pt x="0" y="149"/>
                    </a:lnTo>
                    <a:lnTo>
                      <a:pt x="144" y="86"/>
                    </a:lnTo>
                    <a:lnTo>
                      <a:pt x="144" y="0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7f7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04320" y="5654520"/>
                <a:ext cx="4248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81360" y="5654520"/>
                <a:ext cx="4248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55880" y="5654520"/>
                <a:ext cx="4284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31480" y="5654520"/>
                <a:ext cx="5436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18960" y="5654520"/>
                <a:ext cx="4140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flipH="1">
              <a:off x="6013440" y="5589720"/>
              <a:ext cx="287280" cy="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300720" y="5013360"/>
              <a:ext cx="836640" cy="758520"/>
              <a:chOff x="6300720" y="5013360"/>
              <a:chExt cx="836640" cy="7585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334200" y="5487480"/>
                <a:ext cx="766800" cy="241200"/>
                <a:chOff x="6334200" y="5487480"/>
                <a:chExt cx="766800" cy="2412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334200" y="5487480"/>
                  <a:ext cx="766800" cy="24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761160" y="5528520"/>
                  <a:ext cx="264240" cy="110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300720" y="5619600"/>
                <a:ext cx="836640" cy="152280"/>
                <a:chOff x="6300720" y="5619600"/>
                <a:chExt cx="836640" cy="152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300720" y="5619600"/>
                  <a:ext cx="836640" cy="152280"/>
                </a:xfrm>
                <a:custGeom>
                  <a:avLst/>
                  <a:gdLst/>
                  <a:ahLst/>
                  <a:rect l="l" t="t" r="r" b="b"/>
                  <a:pathLst>
                    <a:path w="1246" h="289">
                      <a:moveTo>
                        <a:pt x="156" y="0"/>
                      </a:moveTo>
                      <a:lnTo>
                        <a:pt x="1096" y="0"/>
                      </a:lnTo>
                      <a:lnTo>
                        <a:pt x="1245" y="261"/>
                      </a:lnTo>
                      <a:lnTo>
                        <a:pt x="1246" y="273"/>
                      </a:lnTo>
                      <a:lnTo>
                        <a:pt x="1242" y="284"/>
                      </a:lnTo>
                      <a:lnTo>
                        <a:pt x="1232" y="289"/>
                      </a:lnTo>
                      <a:lnTo>
                        <a:pt x="17" y="289"/>
                      </a:lnTo>
                      <a:lnTo>
                        <a:pt x="7" y="282"/>
                      </a:lnTo>
                      <a:lnTo>
                        <a:pt x="0" y="270"/>
                      </a:lnTo>
                      <a:lnTo>
                        <a:pt x="3" y="255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346080" y="5651280"/>
                  <a:ext cx="557280" cy="97200"/>
                </a:xfrm>
                <a:custGeom>
                  <a:avLst/>
                  <a:gdLst/>
                  <a:ahLst/>
                  <a:rect l="l" t="t" r="r" b="b"/>
                  <a:pathLst>
                    <a:path w="830" h="184">
                      <a:moveTo>
                        <a:pt x="112" y="0"/>
                      </a:moveTo>
                      <a:lnTo>
                        <a:pt x="790" y="0"/>
                      </a:lnTo>
                      <a:lnTo>
                        <a:pt x="830" y="184"/>
                      </a:lnTo>
                      <a:lnTo>
                        <a:pt x="0" y="184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19920" y="5651280"/>
                  <a:ext cx="169200" cy="97200"/>
                </a:xfrm>
                <a:custGeom>
                  <a:avLst/>
                  <a:gdLst/>
                  <a:ahLst/>
                  <a:rect l="l" t="t" r="r" b="b"/>
                  <a:pathLst>
                    <a:path w="252" h="184">
                      <a:moveTo>
                        <a:pt x="0" y="0"/>
                      </a:moveTo>
                      <a:lnTo>
                        <a:pt x="148" y="0"/>
                      </a:lnTo>
                      <a:lnTo>
                        <a:pt x="252" y="184"/>
                      </a:lnTo>
                      <a:lnTo>
                        <a:pt x="46" y="1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441480" y="5013360"/>
                <a:ext cx="555840" cy="467640"/>
                <a:chOff x="6441480" y="5013360"/>
                <a:chExt cx="555840" cy="46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41480" y="5013360"/>
                  <a:ext cx="555840" cy="467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477480" y="5051160"/>
                  <a:ext cx="483120" cy="396720"/>
                </a:xfrm>
                <a:prstGeom prst="rect">
                  <a:avLst/>
                </a:prstGeom>
                <a:solidFill>
                  <a:srgbClr val="114ff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892560" y="5051160"/>
                  <a:ext cx="66960" cy="396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908760" y="5072400"/>
                  <a:ext cx="31680" cy="26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10920" y="5243760"/>
                  <a:ext cx="24120" cy="2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910920" y="5315760"/>
                  <a:ext cx="24120" cy="2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910920" y="5384520"/>
                  <a:ext cx="24120" cy="2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900000" y="4437000"/>
              <a:ext cx="1368000" cy="1075680"/>
              <a:chOff x="900000" y="4437000"/>
              <a:chExt cx="1368000" cy="1075680"/>
            </a:xfrm>
          </p:grpSpPr>
          <p:sp>
            <p:nvSpPr>
              <p:cNvPr id="174" name=""/>
              <p:cNvSpPr/>
              <p:nvPr/>
            </p:nvSpPr>
            <p:spPr>
              <a:xfrm>
                <a:off x="1644480" y="5123160"/>
                <a:ext cx="271440" cy="156240"/>
              </a:xfrm>
              <a:custGeom>
                <a:avLst/>
                <a:gdLst/>
                <a:ahLst/>
                <a:rect l="l" t="t" r="r" b="b"/>
                <a:pathLst>
                  <a:path w="342" h="208">
                    <a:moveTo>
                      <a:pt x="0" y="21"/>
                    </a:moveTo>
                    <a:lnTo>
                      <a:pt x="127" y="0"/>
                    </a:lnTo>
                    <a:lnTo>
                      <a:pt x="156" y="7"/>
                    </a:lnTo>
                    <a:lnTo>
                      <a:pt x="178" y="26"/>
                    </a:lnTo>
                    <a:lnTo>
                      <a:pt x="208" y="128"/>
                    </a:lnTo>
                    <a:lnTo>
                      <a:pt x="227" y="167"/>
                    </a:lnTo>
                    <a:lnTo>
                      <a:pt x="244" y="187"/>
                    </a:lnTo>
                    <a:lnTo>
                      <a:pt x="262" y="196"/>
                    </a:lnTo>
                    <a:lnTo>
                      <a:pt x="288" y="203"/>
                    </a:lnTo>
                    <a:lnTo>
                      <a:pt x="342" y="20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900000" y="4771800"/>
                <a:ext cx="987480" cy="740880"/>
                <a:chOff x="900000" y="4771800"/>
                <a:chExt cx="987480" cy="74088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900000" y="5298480"/>
                  <a:ext cx="987480" cy="214200"/>
                  <a:chOff x="900000" y="5298480"/>
                  <a:chExt cx="987480" cy="21420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900000" y="5298480"/>
                    <a:ext cx="98748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6" h="289">
                        <a:moveTo>
                          <a:pt x="154" y="0"/>
                        </a:moveTo>
                        <a:lnTo>
                          <a:pt x="1096" y="0"/>
                        </a:lnTo>
                        <a:lnTo>
                          <a:pt x="1244" y="262"/>
                        </a:lnTo>
                        <a:lnTo>
                          <a:pt x="1246" y="275"/>
                        </a:lnTo>
                        <a:lnTo>
                          <a:pt x="1240" y="285"/>
                        </a:lnTo>
                        <a:lnTo>
                          <a:pt x="1231" y="289"/>
                        </a:lnTo>
                        <a:lnTo>
                          <a:pt x="18" y="289"/>
                        </a:lnTo>
                        <a:lnTo>
                          <a:pt x="6" y="283"/>
                        </a:lnTo>
                        <a:lnTo>
                          <a:pt x="0" y="271"/>
                        </a:lnTo>
                        <a:lnTo>
                          <a:pt x="3" y="257"/>
                        </a:lnTo>
                        <a:lnTo>
                          <a:pt x="15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954000" y="5344560"/>
                    <a:ext cx="6570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828" h="186">
                        <a:moveTo>
                          <a:pt x="112" y="0"/>
                        </a:moveTo>
                        <a:lnTo>
                          <a:pt x="790" y="0"/>
                        </a:lnTo>
                        <a:lnTo>
                          <a:pt x="828" y="186"/>
                        </a:lnTo>
                        <a:lnTo>
                          <a:pt x="0" y="186"/>
                        </a:lnTo>
                        <a:lnTo>
                          <a:pt x="1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631880" y="5344560"/>
                    <a:ext cx="199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186">
                        <a:moveTo>
                          <a:pt x="0" y="0"/>
                        </a:moveTo>
                        <a:lnTo>
                          <a:pt x="149" y="0"/>
                        </a:lnTo>
                        <a:lnTo>
                          <a:pt x="251" y="186"/>
                        </a:lnTo>
                        <a:lnTo>
                          <a:pt x="47" y="18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1125360" y="4771800"/>
                  <a:ext cx="536760" cy="51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199880" y="4843080"/>
                  <a:ext cx="387360" cy="358560"/>
                </a:xfrm>
                <a:prstGeom prst="rect">
                  <a:avLst/>
                </a:prstGeom>
                <a:solidFill>
                  <a:srgbClr val="114ff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539720" y="5232960"/>
                  <a:ext cx="49320" cy="31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897200" y="4437000"/>
                <a:ext cx="370800" cy="1028160"/>
                <a:chOff x="1897200" y="4437000"/>
                <a:chExt cx="370800" cy="1028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897200" y="4437000"/>
                  <a:ext cx="370800" cy="1028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994040" y="4527720"/>
                  <a:ext cx="222120" cy="294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211840" y="4817880"/>
                  <a:ext cx="10440" cy="644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017800" y="4608000"/>
                  <a:ext cx="64440" cy="135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041560" y="4529160"/>
                  <a:ext cx="16920" cy="292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171160" y="4584240"/>
                  <a:ext cx="4032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171160" y="4700520"/>
                  <a:ext cx="3852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2987640" y="4292640"/>
              <a:ext cx="1080720" cy="309960"/>
              <a:chOff x="2987640" y="4292640"/>
              <a:chExt cx="1080720" cy="30996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60360" y="4292640"/>
                <a:ext cx="91296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2987640" y="4304160"/>
                <a:ext cx="108072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040" bIns="500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SU/CS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932360" y="4292640"/>
              <a:ext cx="1077480" cy="310680"/>
              <a:chOff x="4932360" y="4292640"/>
              <a:chExt cx="1077480" cy="310680"/>
            </a:xfrm>
          </p:grpSpPr>
          <p:pic>
            <p:nvPicPr>
              <p:cNvPr id="1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5080" y="4292640"/>
                <a:ext cx="91008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932360" y="4304880"/>
                <a:ext cx="1077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040" bIns="500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SU/CS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076720" y="5445000"/>
              <a:ext cx="1077480" cy="310680"/>
              <a:chOff x="5076720" y="5445000"/>
              <a:chExt cx="1077480" cy="310680"/>
            </a:xfrm>
          </p:grpSpPr>
          <p:pic>
            <p:nvPicPr>
              <p:cNvPr id="1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49440" y="5445000"/>
                <a:ext cx="91008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076720" y="5457240"/>
                <a:ext cx="1077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040" bIns="500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SU/CS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059280" y="5445000"/>
              <a:ext cx="1077480" cy="310680"/>
              <a:chOff x="3059280" y="5445000"/>
              <a:chExt cx="1077480" cy="310680"/>
            </a:xfrm>
          </p:grpSpPr>
          <p:pic>
            <p:nvPicPr>
              <p:cNvPr id="2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32000" y="5445000"/>
                <a:ext cx="91008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3059280" y="5457240"/>
                <a:ext cx="1077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040" bIns="500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SU/CS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产生和发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代计算机网络的诞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a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出存储转发概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出分组概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P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计算机分组交换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PANE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投入运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1695240" cy="181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产生和发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考模型的提出，标志着计算机网络进入到第三个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95920" y="5821200"/>
            <a:ext cx="1684440" cy="3621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cap="sq"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物理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2492280"/>
            <a:ext cx="17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OSI 7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层模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95920" y="5367240"/>
            <a:ext cx="1684440" cy="36216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lin ang="5400000"/>
          </a:gradFill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数据链路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95920" y="4913280"/>
            <a:ext cx="1684440" cy="3621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络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95920" y="4459320"/>
            <a:ext cx="1684440" cy="3618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00694d"/>
              </a:gs>
            </a:gsLst>
            <a:lin ang="5400000"/>
          </a:gradFill>
          <a:ln cap="sq"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传输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95920" y="4006800"/>
            <a:ext cx="1684440" cy="362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话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95920" y="3552840"/>
            <a:ext cx="1684440" cy="36180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cap="sq"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表示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5920" y="3098880"/>
            <a:ext cx="1684440" cy="3618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cap="sq"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应用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3213000"/>
            <a:ext cx="3311640" cy="144720"/>
          </a:xfrm>
          <a:prstGeom prst="leftArrow">
            <a:avLst>
              <a:gd name="adj1" fmla="val 50000"/>
              <a:gd name="adj2" fmla="val 5720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3284640"/>
            <a:ext cx="3888000" cy="73080"/>
          </a:xfrm>
          <a:prstGeom prst="leftArrow">
            <a:avLst>
              <a:gd name="adj1" fmla="val 50000"/>
              <a:gd name="adj2" fmla="val 1330049"/>
            </a:avLst>
          </a:prstGeom>
          <a:solidFill>
            <a:srgbClr val="761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3716280"/>
            <a:ext cx="3888000" cy="73080"/>
          </a:xfrm>
          <a:prstGeom prst="leftArrow">
            <a:avLst>
              <a:gd name="adj1" fmla="val 50000"/>
              <a:gd name="adj2" fmla="val 1330049"/>
            </a:avLst>
          </a:prstGeom>
          <a:solidFill>
            <a:srgbClr val="ad2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63640" y="4149720"/>
            <a:ext cx="3888000" cy="73080"/>
          </a:xfrm>
          <a:prstGeom prst="leftArrow">
            <a:avLst>
              <a:gd name="adj1" fmla="val 50000"/>
              <a:gd name="adj2" fmla="val 133004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40000" y="4581360"/>
            <a:ext cx="3311640" cy="144720"/>
          </a:xfrm>
          <a:prstGeom prst="leftArrow">
            <a:avLst>
              <a:gd name="adj1" fmla="val 50000"/>
              <a:gd name="adj2" fmla="val 5720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4653000"/>
            <a:ext cx="3888000" cy="73080"/>
          </a:xfrm>
          <a:prstGeom prst="leftArrow">
            <a:avLst>
              <a:gd name="adj1" fmla="val 50000"/>
              <a:gd name="adj2" fmla="val 1330049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5084640"/>
            <a:ext cx="3888000" cy="73080"/>
          </a:xfrm>
          <a:prstGeom prst="leftArrow">
            <a:avLst>
              <a:gd name="adj1" fmla="val 50000"/>
              <a:gd name="adj2" fmla="val 1330049"/>
            </a:avLst>
          </a:prstGeom>
          <a:solidFill>
            <a:srgbClr val="1106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3640" y="5518080"/>
            <a:ext cx="3888000" cy="73080"/>
          </a:xfrm>
          <a:prstGeom prst="leftArrow">
            <a:avLst>
              <a:gd name="adj1" fmla="val 50000"/>
              <a:gd name="adj2" fmla="val 1330049"/>
            </a:avLst>
          </a:prstGeom>
          <a:solidFill>
            <a:srgbClr val="0cd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63640" y="5950080"/>
            <a:ext cx="3888000" cy="72720"/>
          </a:xfrm>
          <a:prstGeom prst="leftArrow">
            <a:avLst>
              <a:gd name="adj1" fmla="val 50000"/>
              <a:gd name="adj2" fmla="val 1336634"/>
            </a:avLst>
          </a:prstGeom>
          <a:solidFill>
            <a:srgbClr val="3e3e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573264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29920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d81b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03280" y="486756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06a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3280" y="443556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400392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03280" y="349884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25bf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03280" y="299592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614d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体系的演变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95280" y="1916280"/>
          <a:ext cx="8137440" cy="3528720"/>
        </p:xfrm>
        <a:graphic>
          <a:graphicData uri="http://schemas.openxmlformats.org/drawingml/2006/table">
            <a:tbl>
              <a:tblPr/>
              <a:tblGrid>
                <a:gridCol w="1160640"/>
                <a:gridCol w="1163520"/>
                <a:gridCol w="1165320"/>
                <a:gridCol w="1158840"/>
                <a:gridCol w="1164960"/>
                <a:gridCol w="1163880"/>
                <a:gridCol w="116028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概念萌芽阶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出分组交换概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稳步发展与应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OSI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参考模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系结构成熟发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nternnet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广泛应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出新的体系结构、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CP/I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摸索时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-9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功能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通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340000" y="1916280"/>
            <a:ext cx="4897080" cy="3744720"/>
            <a:chOff x="2340000" y="1916280"/>
            <a:chExt cx="4897080" cy="3744720"/>
          </a:xfrm>
        </p:grpSpPr>
        <p:sp>
          <p:nvSpPr>
            <p:cNvPr id="237" name=""/>
            <p:cNvSpPr/>
            <p:nvPr/>
          </p:nvSpPr>
          <p:spPr>
            <a:xfrm>
              <a:off x="5707800" y="2118240"/>
              <a:ext cx="0" cy="36648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90520" y="2987640"/>
              <a:ext cx="0" cy="36684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156720" y="5100840"/>
              <a:ext cx="859320" cy="1008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6897960" y="4876560"/>
              <a:ext cx="339120" cy="2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6726960" y="4979520"/>
              <a:ext cx="337680" cy="25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 flipV="1">
              <a:off x="5153400" y="3629520"/>
              <a:ext cx="16920" cy="68472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5538240" y="1916280"/>
              <a:ext cx="46332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518440" y="4483800"/>
              <a:ext cx="119520" cy="628920"/>
            </a:xfrm>
            <a:custGeom>
              <a:avLst/>
              <a:gdLst/>
              <a:ahLst/>
              <a:rect l="l" t="t" r="r" b="b"/>
              <a:pathLst>
                <a:path w="120" h="640">
                  <a:moveTo>
                    <a:pt x="120" y="0"/>
                  </a:moveTo>
                  <a:lnTo>
                    <a:pt x="120" y="354"/>
                  </a:lnTo>
                  <a:lnTo>
                    <a:pt x="2" y="216"/>
                  </a:lnTo>
                  <a:lnTo>
                    <a:pt x="0" y="630"/>
                  </a:lnTo>
                  <a:lnTo>
                    <a:pt x="19" y="640"/>
                  </a:lnTo>
                </a:path>
              </a:pathLst>
            </a:custGeom>
            <a:noFill/>
            <a:ln w="38160">
              <a:solidFill>
                <a:srgbClr val="ffcf01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75880" y="4902840"/>
              <a:ext cx="1141560" cy="7207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b3b9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5716440" y="4985640"/>
              <a:ext cx="531360" cy="4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5"/>
            <a:stretch/>
          </p:blipFill>
          <p:spPr>
            <a:xfrm>
              <a:off x="5490000" y="5216040"/>
              <a:ext cx="543960" cy="2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5797800" y="5296680"/>
              <a:ext cx="465840" cy="23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flipH="1">
              <a:off x="4781880" y="4558320"/>
              <a:ext cx="119880" cy="628920"/>
            </a:xfrm>
            <a:custGeom>
              <a:avLst/>
              <a:gdLst/>
              <a:ahLst/>
              <a:rect l="l" t="t" r="r" b="b"/>
              <a:pathLst>
                <a:path w="120" h="640">
                  <a:moveTo>
                    <a:pt x="120" y="0"/>
                  </a:moveTo>
                  <a:lnTo>
                    <a:pt x="120" y="354"/>
                  </a:lnTo>
                  <a:lnTo>
                    <a:pt x="2" y="216"/>
                  </a:lnTo>
                  <a:lnTo>
                    <a:pt x="0" y="630"/>
                  </a:lnTo>
                  <a:lnTo>
                    <a:pt x="19" y="640"/>
                  </a:lnTo>
                </a:path>
              </a:pathLst>
            </a:custGeom>
            <a:noFill/>
            <a:ln w="38160">
              <a:solidFill>
                <a:srgbClr val="ffcf01"/>
              </a:solidFill>
              <a:prstDash val="dash"/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16800">
              <a:off x="3798000" y="4981680"/>
              <a:ext cx="104040" cy="723960"/>
            </a:xfrm>
            <a:custGeom>
              <a:avLst/>
              <a:gdLst/>
              <a:ahLst/>
              <a:rect l="l" t="t" r="r" b="b"/>
              <a:pathLst>
                <a:path w="120" h="640">
                  <a:moveTo>
                    <a:pt x="120" y="0"/>
                  </a:moveTo>
                  <a:lnTo>
                    <a:pt x="120" y="354"/>
                  </a:lnTo>
                  <a:lnTo>
                    <a:pt x="2" y="216"/>
                  </a:lnTo>
                  <a:lnTo>
                    <a:pt x="0" y="630"/>
                  </a:lnTo>
                  <a:lnTo>
                    <a:pt x="19" y="640"/>
                  </a:lnTo>
                </a:path>
              </a:pathLst>
            </a:custGeom>
            <a:noFill/>
            <a:ln w="38160">
              <a:solidFill>
                <a:srgbClr val="ffcf01"/>
              </a:solidFill>
              <a:prstDash val="dash"/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40000" y="4970880"/>
              <a:ext cx="1189800" cy="6901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b3b9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3026880" y="5153040"/>
              <a:ext cx="465840" cy="2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tretch/>
          </p:blipFill>
          <p:spPr>
            <a:xfrm>
              <a:off x="4051440" y="4983120"/>
              <a:ext cx="1175760" cy="500400"/>
            </a:xfrm>
            <a:prstGeom prst="rect">
              <a:avLst/>
            </a:prstGeom>
            <a:ln w="0">
              <a:noFill/>
            </a:ln>
            <a:effectLst>
              <a:outerShdw dist="40186" dir="4303641" blurRad="0" rotWithShape="0">
                <a:srgbClr val="1c1c1c"/>
              </a:outerShdw>
            </a:effectLst>
          </p:spPr>
        </p:pic>
        <p:pic>
          <p:nvPicPr>
            <p:cNvPr id="254" name="" descr=""/>
            <p:cNvPicPr/>
            <p:nvPr/>
          </p:nvPicPr>
          <p:blipFill>
            <a:blip r:embed="rId9"/>
            <a:stretch/>
          </p:blipFill>
          <p:spPr>
            <a:xfrm>
              <a:off x="4634640" y="4033080"/>
              <a:ext cx="125388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tretch/>
          </p:blipFill>
          <p:spPr>
            <a:xfrm>
              <a:off x="2421000" y="5170320"/>
              <a:ext cx="692640" cy="30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714560" y="3285000"/>
              <a:ext cx="863640" cy="401040"/>
            </a:xfrm>
            <a:custGeom>
              <a:avLst/>
              <a:gdLst/>
              <a:ahLst/>
              <a:rect l="l" t="t" r="r" b="b"/>
              <a:pathLst>
                <a:path w="618" h="492">
                  <a:moveTo>
                    <a:pt x="618" y="0"/>
                  </a:moveTo>
                  <a:lnTo>
                    <a:pt x="0" y="6"/>
                  </a:lnTo>
                  <a:lnTo>
                    <a:pt x="0" y="492"/>
                  </a:lnTo>
                  <a:lnTo>
                    <a:pt x="294" y="492"/>
                  </a:lnTo>
                </a:path>
              </a:pathLst>
            </a:custGeom>
            <a:noFill/>
            <a:ln w="38160">
              <a:solidFill>
                <a:srgbClr val="ffcf01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46640" y="2459880"/>
              <a:ext cx="1265400" cy="1397160"/>
            </a:xfrm>
            <a:custGeom>
              <a:avLst/>
              <a:gdLst/>
              <a:ahLst/>
              <a:rect l="l" t="t" r="r" b="b"/>
              <a:pathLst>
                <a:path w="888" h="990">
                  <a:moveTo>
                    <a:pt x="888" y="0"/>
                  </a:moveTo>
                  <a:lnTo>
                    <a:pt x="0" y="0"/>
                  </a:lnTo>
                  <a:lnTo>
                    <a:pt x="0" y="990"/>
                  </a:lnTo>
                  <a:lnTo>
                    <a:pt x="600" y="990"/>
                  </a:lnTo>
                </a:path>
              </a:pathLst>
            </a:custGeom>
            <a:noFill/>
            <a:ln w="38160">
              <a:solidFill>
                <a:srgbClr val="ffcf01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11"/>
            <a:stretch/>
          </p:blipFill>
          <p:spPr>
            <a:xfrm>
              <a:off x="4763160" y="3588480"/>
              <a:ext cx="91476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2"/>
            <a:stretch/>
          </p:blipFill>
          <p:spPr>
            <a:xfrm>
              <a:off x="5504040" y="2748600"/>
              <a:ext cx="46296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3"/>
            <a:stretch/>
          </p:blipFill>
          <p:spPr>
            <a:xfrm>
              <a:off x="5272920" y="3224160"/>
              <a:ext cx="69840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4"/>
            <a:stretch/>
          </p:blipFill>
          <p:spPr>
            <a:xfrm>
              <a:off x="5341680" y="2381760"/>
              <a:ext cx="698400" cy="26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wei.gao</cp:lastModifiedBy>
  <dcterms:modified xsi:type="dcterms:W3CDTF">2004-04-21T07:27:59Z</dcterms:modified>
  <cp:revision>57</cp:revision>
  <dc:subject/>
  <dc:title>Understanding Basic HTML</dc:title>
</cp:coreProperties>
</file>