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5.wmf" ContentType="image/x-wmf"/>
  <Override PartName="/ppt/media/image24.jpeg" ContentType="image/jpeg"/>
  <Override PartName="/ppt/media/image22.png" ContentType="image/png"/>
  <Override PartName="/ppt/media/image11.gif" ContentType="image/gif"/>
  <Override PartName="/ppt/media/image34.wmf" ContentType="image/x-wmf"/>
  <Override PartName="/ppt/media/image9.wmf" ContentType="image/x-wmf"/>
  <Override PartName="/ppt/media/image27.png" ContentType="image/png"/>
  <Override PartName="/ppt/media/image12.wmf" ContentType="image/x-wmf"/>
  <Override PartName="/ppt/media/image7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4.jpeg" ContentType="image/jpeg"/>
  <Override PartName="/ppt/media/image8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15.wmf" ContentType="image/x-wmf"/>
  <Override PartName="/ppt/media/image31.png" ContentType="image/png"/>
  <Override PartName="/ppt/media/image5.jpeg" ContentType="image/jpeg"/>
  <Override PartName="/ppt/media/image16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10.wmf" ContentType="image/x-wmf"/>
  <Override PartName="/ppt/media/image14.gif" ContentType="image/gif"/>
  <Override PartName="/ppt/media/image17.png" ContentType="image/png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51E4-6806-48CE-BC60-D8EC3FE9171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D1E4-AABF-48FC-87FB-A37E808945A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计算机网络的物理层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五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网络的吞吐量和带宽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吞吐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带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带宽与频率的关系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908000" y="3357720"/>
          <a:ext cx="4400640" cy="17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357720"/>
                    <a:ext cx="440064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成本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成本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新的基础结构相对于复用已有基础结构的成本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维护和支持成本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低传输速率而影响生产效率所付出的代价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换过时介质的成本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435640" y="3141720"/>
            <a:ext cx="156528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尺寸和可扩展性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段的最大节点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大段长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大网络长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56000" y="2565360"/>
            <a:ext cx="2952720" cy="288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连接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器是连接电线缆与网络设备的硬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种网络介质都对应一种特定类型的连接器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1668600" cy="27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抗噪性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磁干扰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射频干扰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限制噪声对网络干扰的措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92720" y="2276640"/>
            <a:ext cx="1776240" cy="30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电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轴电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双绞线电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布线设计和管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电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同轴电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979640" y="2421000"/>
            <a:ext cx="4247640" cy="3239640"/>
            <a:chOff x="1979640" y="2421000"/>
            <a:chExt cx="4247640" cy="323964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1979640" y="2421000"/>
              <a:ext cx="2953800" cy="323964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sp>
          <p:nvSpPr>
            <p:cNvPr id="144" name=""/>
            <p:cNvSpPr/>
            <p:nvPr/>
          </p:nvSpPr>
          <p:spPr>
            <a:xfrm flipV="1">
              <a:off x="4627440" y="2739960"/>
              <a:ext cx="752760" cy="8640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80560" y="265356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ordiaUPC"/>
                  <a:ea typeface="宋体"/>
                </a:rPr>
                <a:t>铜芯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5200" y="3432960"/>
              <a:ext cx="94104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91920" y="3346200"/>
              <a:ext cx="103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ordiaUPC"/>
                  <a:ea typeface="宋体"/>
                </a:rPr>
                <a:t>绝缘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9000" y="3952440"/>
              <a:ext cx="1222560" cy="17280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98480" y="4731840"/>
              <a:ext cx="1693440" cy="2595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91920" y="3865680"/>
              <a:ext cx="103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ordiaUPC"/>
                  <a:ea typeface="宋体"/>
                </a:rPr>
                <a:t>外导体屏蔽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91920" y="4991400"/>
              <a:ext cx="103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ordiaUPC"/>
                  <a:ea typeface="宋体"/>
                </a:rPr>
                <a:t>保护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同轴电缆的类型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4360" y="1341360"/>
          <a:ext cx="6983280" cy="4297320"/>
        </p:xfrm>
        <a:graphic>
          <a:graphicData uri="http://schemas.openxmlformats.org/drawingml/2006/table">
            <a:tbl>
              <a:tblPr/>
              <a:tblGrid>
                <a:gridCol w="1223640"/>
                <a:gridCol w="1151280"/>
                <a:gridCol w="1152360"/>
                <a:gridCol w="34560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规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06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类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06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阻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06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描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06a0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RG-58/U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Thinwir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5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欧姆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固体实心铜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RG-58 A/U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Thinwir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5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欧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绞合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RG-58 C/U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Thinwir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5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欧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G-58 A/U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的军用版本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RG-59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V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7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欧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宽带电缆，用于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V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电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RG-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Thinwir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5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欧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固体实心线，直径大约为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英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RG-1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Thinwir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5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欧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标准实心线，直径大约为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英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RG-6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Baseban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9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欧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用于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RCnet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和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BM327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终端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hicknet(10Base5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26920" y="1197000"/>
            <a:ext cx="6480000" cy="4261320"/>
            <a:chOff x="826920" y="1197000"/>
            <a:chExt cx="6480000" cy="4261320"/>
          </a:xfrm>
        </p:grpSpPr>
        <p:sp>
          <p:nvSpPr>
            <p:cNvPr id="156" name=""/>
            <p:cNvSpPr/>
            <p:nvPr/>
          </p:nvSpPr>
          <p:spPr>
            <a:xfrm>
              <a:off x="5784480" y="1197000"/>
              <a:ext cx="1522440" cy="1271160"/>
            </a:xfrm>
            <a:custGeom>
              <a:avLst/>
              <a:gdLst>
                <a:gd name="textAreaLeft" fmla="*/ 56160 w 1522440"/>
                <a:gd name="textAreaRight" fmla="*/ 1466280 w 1522440"/>
                <a:gd name="textAreaTop" fmla="*/ 46800 h 1271160"/>
                <a:gd name="textAreaBottom" fmla="*/ 1015200 h 12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3771000" y="4051800"/>
              <a:ext cx="2520" cy="258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148480" y="3760920"/>
              <a:ext cx="2520" cy="393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903960" y="3705120"/>
              <a:ext cx="3385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2720" y="3621960"/>
              <a:ext cx="18936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17720" y="3623040"/>
              <a:ext cx="189360" cy="15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79320" y="3635640"/>
              <a:ext cx="92160" cy="11772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6920" y="3638520"/>
              <a:ext cx="92520" cy="11736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57600" y="3611160"/>
              <a:ext cx="189360" cy="15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71920" y="3081240"/>
              <a:ext cx="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07720" y="3008880"/>
              <a:ext cx="1129680" cy="45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最大段长度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00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每段最多站点数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1974960" y="4052160"/>
              <a:ext cx="360720" cy="397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8" name=""/>
            <p:cNvSpPr/>
            <p:nvPr/>
          </p:nvSpPr>
          <p:spPr>
            <a:xfrm flipH="1" flipV="1">
              <a:off x="2906280" y="3728520"/>
              <a:ext cx="3600" cy="36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2746440" y="4062960"/>
              <a:ext cx="360720" cy="396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70" name=""/>
            <p:cNvSpPr/>
            <p:nvPr/>
          </p:nvSpPr>
          <p:spPr>
            <a:xfrm>
              <a:off x="1171080" y="4623120"/>
              <a:ext cx="258228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两站点间最小距离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.5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3761280" y="3753000"/>
              <a:ext cx="2160" cy="258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3560400" y="3924000"/>
              <a:ext cx="502920" cy="143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73" name=""/>
            <p:cNvSpPr/>
            <p:nvPr/>
          </p:nvSpPr>
          <p:spPr>
            <a:xfrm flipH="1">
              <a:off x="3454920" y="4308840"/>
              <a:ext cx="1833480" cy="10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79920" y="4262040"/>
              <a:ext cx="18936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17840" y="4253040"/>
              <a:ext cx="92160" cy="11772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34040" y="4245480"/>
              <a:ext cx="92160" cy="11772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85920" y="4249800"/>
              <a:ext cx="189360" cy="15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31680" y="52556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45200" y="52556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32280" y="445536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94760" y="44672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48480" y="4571640"/>
              <a:ext cx="74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71920" y="3226320"/>
              <a:ext cx="77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447720" y="32263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71920" y="3443760"/>
              <a:ext cx="77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251360" y="3784680"/>
              <a:ext cx="2160" cy="393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55240" y="3646080"/>
              <a:ext cx="18936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4"/>
            <a:stretch/>
          </p:blipFill>
          <p:spPr>
            <a:xfrm>
              <a:off x="1077840" y="4076280"/>
              <a:ext cx="360360" cy="397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9" name=""/>
            <p:cNvSpPr/>
            <p:nvPr/>
          </p:nvSpPr>
          <p:spPr>
            <a:xfrm flipH="1" flipV="1">
              <a:off x="4977000" y="4325400"/>
              <a:ext cx="3600" cy="301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5"/>
            <a:stretch/>
          </p:blipFill>
          <p:spPr>
            <a:xfrm>
              <a:off x="4819680" y="4606200"/>
              <a:ext cx="360360" cy="397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1" name=""/>
            <p:cNvSpPr/>
            <p:nvPr/>
          </p:nvSpPr>
          <p:spPr>
            <a:xfrm>
              <a:off x="931680" y="5328000"/>
              <a:ext cx="107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987000" y="5328000"/>
              <a:ext cx="12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14080" y="1476360"/>
              <a:ext cx="1231920" cy="493560"/>
            </a:xfrm>
            <a:prstGeom prst="rect">
              <a:avLst/>
            </a:prstGeom>
            <a:gradFill rotWithShape="0">
              <a:gsLst>
                <a:gs pos="0">
                  <a:srgbClr val="b1b100"/>
                </a:gs>
                <a:gs pos="5000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1200" y="1287720"/>
              <a:ext cx="883800" cy="1461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21640" y="1665000"/>
              <a:ext cx="1220400" cy="12060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00000">
              <a:off x="6417360" y="1862280"/>
              <a:ext cx="262800" cy="9108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43480" y="1867320"/>
              <a:ext cx="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75280" y="1861200"/>
              <a:ext cx="0" cy="16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1200" y="1995840"/>
              <a:ext cx="883800" cy="1461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3720" y="1465560"/>
              <a:ext cx="0" cy="472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83640" y="1488240"/>
              <a:ext cx="0" cy="472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46640" y="3153600"/>
              <a:ext cx="0" cy="43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514760" y="2572200"/>
              <a:ext cx="44388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粗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9240" y="2633040"/>
              <a:ext cx="1641240" cy="197280"/>
            </a:xfrm>
            <a:prstGeom prst="rect">
              <a:avLst/>
            </a:prstGeom>
            <a:gradFill rotWithShape="0">
              <a:gsLst>
                <a:gs pos="0">
                  <a:srgbClr val="b1b100"/>
                </a:gs>
                <a:gs pos="5000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86040" y="2557440"/>
              <a:ext cx="817200" cy="3715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801760" y="2945160"/>
              <a:ext cx="162000" cy="239760"/>
              <a:chOff x="5801760" y="2945160"/>
              <a:chExt cx="162000" cy="239760"/>
            </a:xfrm>
          </p:grpSpPr>
          <p:sp>
            <p:nvSpPr>
              <p:cNvPr id="207" name=""/>
              <p:cNvSpPr/>
              <p:nvPr/>
            </p:nvSpPr>
            <p:spPr>
              <a:xfrm>
                <a:off x="5814000" y="2963160"/>
                <a:ext cx="134640" cy="173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01760" y="2945160"/>
                <a:ext cx="158400" cy="604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05360" y="3126240"/>
                <a:ext cx="158400" cy="586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573160" y="3209400"/>
              <a:ext cx="677520" cy="41832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855400" y="3627000"/>
              <a:ext cx="779040" cy="511920"/>
              <a:chOff x="5855400" y="3627000"/>
              <a:chExt cx="779040" cy="511920"/>
            </a:xfrm>
          </p:grpSpPr>
          <p:sp>
            <p:nvSpPr>
              <p:cNvPr id="212" name=""/>
              <p:cNvSpPr/>
              <p:nvPr/>
            </p:nvSpPr>
            <p:spPr>
              <a:xfrm>
                <a:off x="5891760" y="3627000"/>
                <a:ext cx="74268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55400" y="3876480"/>
                <a:ext cx="743040" cy="26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4" y="0"/>
                    </a:moveTo>
                    <a:arcTo wR="10800" hR="10800" stAng="-5411536" swAng="54115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4" y="0"/>
                    </a:moveTo>
                    <a:arcTo wR="10800" hR="10800" stAng="-5411536" swAng="5411536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flipH="1" flipV="1" rot="10800000">
              <a:off x="5769360" y="3643200"/>
              <a:ext cx="265680" cy="106920"/>
            </a:xfrm>
            <a:custGeom>
              <a:avLst/>
              <a:gdLst>
                <a:gd name="textAreaLeft" fmla="*/ 58320 w 265680"/>
                <a:gd name="textAreaRight" fmla="*/ 207360 w 265680"/>
                <a:gd name="textAreaTop" fmla="*/ 23400 h 106920"/>
                <a:gd name="textAreaBottom" fmla="*/ 83520 h 1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395760" y="4141440"/>
              <a:ext cx="411480" cy="743760"/>
              <a:chOff x="6395760" y="4141440"/>
              <a:chExt cx="411480" cy="743760"/>
            </a:xfrm>
          </p:grpSpPr>
          <p:sp>
            <p:nvSpPr>
              <p:cNvPr id="216" name=""/>
              <p:cNvSpPr/>
              <p:nvPr/>
            </p:nvSpPr>
            <p:spPr>
              <a:xfrm>
                <a:off x="6734880" y="4325400"/>
                <a:ext cx="50040" cy="389160"/>
              </a:xfrm>
              <a:custGeom>
                <a:avLst/>
                <a:gdLst/>
                <a:ahLst/>
                <a:rect l="l" t="t" r="r" b="b"/>
                <a:pathLst>
                  <a:path w="40" h="258">
                    <a:moveTo>
                      <a:pt x="0" y="257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39" y="257"/>
                    </a:lnTo>
                    <a:lnTo>
                      <a:pt x="0" y="257"/>
                    </a:lnTo>
                  </a:path>
                </a:pathLst>
              </a:custGeom>
              <a:solidFill>
                <a:srgbClr val="ffcc33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6741360" y="4358520"/>
                <a:ext cx="34920" cy="340920"/>
                <a:chOff x="6741360" y="4358520"/>
                <a:chExt cx="34920" cy="3409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741360" y="469944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741360" y="467676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741360" y="465408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741360" y="462996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741360" y="460728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741360" y="458460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741360" y="456372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741360" y="454068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741360" y="451836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1360" y="449424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741360" y="446976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741360" y="444888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41360" y="442620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41360" y="440352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741360" y="437940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741360" y="435852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6395760" y="4218120"/>
                <a:ext cx="341640" cy="667080"/>
              </a:xfrm>
              <a:prstGeom prst="rect">
                <a:avLst/>
              </a:prstGeom>
              <a:solidFill>
                <a:srgbClr val="add6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99080" y="4171320"/>
                <a:ext cx="125640" cy="27000"/>
              </a:xfrm>
              <a:prstGeom prst="rect">
                <a:avLst/>
              </a:prstGeom>
              <a:solidFill>
                <a:srgbClr val="322d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06920" y="4160880"/>
                <a:ext cx="400320" cy="45000"/>
              </a:xfrm>
              <a:custGeom>
                <a:avLst/>
                <a:gdLst/>
                <a:ahLst/>
                <a:rect l="l" t="t" r="r" b="b"/>
                <a:pathLst>
                  <a:path w="321" h="30">
                    <a:moveTo>
                      <a:pt x="0" y="0"/>
                    </a:moveTo>
                    <a:lnTo>
                      <a:pt x="0" y="29"/>
                    </a:lnTo>
                    <a:lnTo>
                      <a:pt x="320" y="29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6675120" y="4141440"/>
                <a:ext cx="43560" cy="55080"/>
                <a:chOff x="6675120" y="4141440"/>
                <a:chExt cx="43560" cy="550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6684840" y="4141440"/>
                  <a:ext cx="29880" cy="40320"/>
                </a:xfrm>
                <a:custGeom>
                  <a:avLst/>
                  <a:gdLst/>
                  <a:ahLst/>
                  <a:rect l="l" t="t" r="r" b="b"/>
                  <a:pathLst>
                    <a:path w="24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" y="0"/>
                      </a:lnTo>
                      <a:lnTo>
                        <a:pt x="23" y="26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e9e7d1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675120" y="4168080"/>
                  <a:ext cx="43560" cy="28440"/>
                </a:xfrm>
                <a:custGeom>
                  <a:avLst/>
                  <a:gdLst/>
                  <a:ahLst/>
                  <a:rect l="l" t="t" r="r" b="b"/>
                  <a:pathLst>
                    <a:path w="35" h="19">
                      <a:moveTo>
                        <a:pt x="0" y="18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4" y="18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52493e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494040" y="4584960"/>
                <a:ext cx="103320" cy="111240"/>
                <a:chOff x="6494040" y="4584960"/>
                <a:chExt cx="103320" cy="1112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501600" y="4584960"/>
                  <a:ext cx="95760" cy="108360"/>
                </a:xfrm>
                <a:custGeom>
                  <a:avLst/>
                  <a:gdLst/>
                  <a:ahLst/>
                  <a:rect l="l" t="t" r="r" b="b"/>
                  <a:pathLst>
                    <a:path w="77" h="72">
                      <a:moveTo>
                        <a:pt x="0" y="71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71"/>
                      </a:lnTo>
                      <a:lnTo>
                        <a:pt x="0" y="71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494040" y="4589280"/>
                  <a:ext cx="96840" cy="106920"/>
                </a:xfrm>
                <a:custGeom>
                  <a:avLst/>
                  <a:gdLst/>
                  <a:ahLst/>
                  <a:rect l="l" t="t" r="r" b="b"/>
                  <a:pathLst>
                    <a:path w="78" h="71">
                      <a:moveTo>
                        <a:pt x="0" y="70"/>
                      </a:moveTo>
                      <a:lnTo>
                        <a:pt x="0" y="0"/>
                      </a:lnTo>
                      <a:lnTo>
                        <a:pt x="77" y="0"/>
                      </a:lnTo>
                      <a:lnTo>
                        <a:pt x="77" y="70"/>
                      </a:lnTo>
                      <a:lnTo>
                        <a:pt x="0" y="70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590520" y="4390200"/>
                <a:ext cx="133200" cy="140040"/>
                <a:chOff x="6590520" y="4390200"/>
                <a:chExt cx="133200" cy="1400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595200" y="4390200"/>
                  <a:ext cx="128520" cy="135360"/>
                </a:xfrm>
                <a:custGeom>
                  <a:avLst/>
                  <a:gdLst/>
                  <a:ahLst/>
                  <a:rect l="l" t="t" r="r" b="b"/>
                  <a:pathLst>
                    <a:path w="103" h="90">
                      <a:moveTo>
                        <a:pt x="0" y="89"/>
                      </a:moveTo>
                      <a:lnTo>
                        <a:pt x="0" y="0"/>
                      </a:lnTo>
                      <a:lnTo>
                        <a:pt x="102" y="0"/>
                      </a:lnTo>
                      <a:lnTo>
                        <a:pt x="102" y="89"/>
                      </a:lnTo>
                      <a:lnTo>
                        <a:pt x="0" y="89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590520" y="4394880"/>
                  <a:ext cx="129600" cy="135360"/>
                </a:xfrm>
                <a:custGeom>
                  <a:avLst/>
                  <a:gdLst/>
                  <a:ahLst/>
                  <a:rect l="l" t="t" r="r" b="b"/>
                  <a:pathLst>
                    <a:path w="104" h="90">
                      <a:moveTo>
                        <a:pt x="0" y="89"/>
                      </a:moveTo>
                      <a:lnTo>
                        <a:pt x="0" y="0"/>
                      </a:lnTo>
                      <a:lnTo>
                        <a:pt x="103" y="0"/>
                      </a:lnTo>
                      <a:lnTo>
                        <a:pt x="103" y="89"/>
                      </a:lnTo>
                      <a:lnTo>
                        <a:pt x="0" y="89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494040" y="4835520"/>
                <a:ext cx="159480" cy="34200"/>
                <a:chOff x="6494040" y="4835520"/>
                <a:chExt cx="159480" cy="34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01600" y="4835520"/>
                  <a:ext cx="151920" cy="29520"/>
                </a:xfrm>
                <a:custGeom>
                  <a:avLst/>
                  <a:gdLst/>
                  <a:ahLst/>
                  <a:rect l="l" t="t" r="r" b="b"/>
                  <a:pathLst>
                    <a:path w="122" h="20">
                      <a:moveTo>
                        <a:pt x="0" y="19"/>
                      </a:moveTo>
                      <a:lnTo>
                        <a:pt x="0" y="0"/>
                      </a:lnTo>
                      <a:lnTo>
                        <a:pt x="121" y="0"/>
                      </a:lnTo>
                      <a:lnTo>
                        <a:pt x="121" y="19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494040" y="4838400"/>
                  <a:ext cx="153360" cy="31320"/>
                </a:xfrm>
                <a:custGeom>
                  <a:avLst/>
                  <a:gdLst/>
                  <a:ahLst/>
                  <a:rect l="l" t="t" r="r" b="b"/>
                  <a:pathLst>
                    <a:path w="123" h="21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122" y="2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6666480" y="4802400"/>
                <a:ext cx="38160" cy="50760"/>
                <a:chOff x="6666480" y="4802400"/>
                <a:chExt cx="38160" cy="507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6672600" y="4802400"/>
                  <a:ext cx="32040" cy="46440"/>
                </a:xfrm>
                <a:custGeom>
                  <a:avLst/>
                  <a:gdLst/>
                  <a:ahLst/>
                  <a:rect l="l" t="t" r="r" b="b"/>
                  <a:pathLst>
                    <a:path w="26" h="31">
                      <a:moveTo>
                        <a:pt x="0" y="30"/>
                      </a:move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30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666480" y="4806720"/>
                  <a:ext cx="33120" cy="46440"/>
                </a:xfrm>
                <a:custGeom>
                  <a:avLst/>
                  <a:gdLst/>
                  <a:ahLst/>
                  <a:rect l="l" t="t" r="r" b="b"/>
                  <a:pathLst>
                    <a:path w="27" h="31">
                      <a:moveTo>
                        <a:pt x="0" y="30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26" y="30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497640" y="4726800"/>
                <a:ext cx="71280" cy="35640"/>
                <a:chOff x="6497640" y="4726800"/>
                <a:chExt cx="71280" cy="35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02680" y="4726800"/>
                  <a:ext cx="66240" cy="32760"/>
                </a:xfrm>
                <a:custGeom>
                  <a:avLst/>
                  <a:gdLst/>
                  <a:ahLst/>
                  <a:rect l="l" t="t" r="r" b="b"/>
                  <a:pathLst>
                    <a:path w="53" h="22">
                      <a:moveTo>
                        <a:pt x="0" y="21"/>
                      </a:moveTo>
                      <a:lnTo>
                        <a:pt x="0" y="0"/>
                      </a:lnTo>
                      <a:lnTo>
                        <a:pt x="52" y="0"/>
                      </a:lnTo>
                      <a:lnTo>
                        <a:pt x="52" y="21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497640" y="4731120"/>
                  <a:ext cx="66240" cy="31320"/>
                </a:xfrm>
                <a:custGeom>
                  <a:avLst/>
                  <a:gdLst/>
                  <a:ahLst/>
                  <a:rect l="l" t="t" r="r" b="b"/>
                  <a:pathLst>
                    <a:path w="53" h="21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52" y="0"/>
                      </a:lnTo>
                      <a:lnTo>
                        <a:pt x="52" y="2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6567840" y="4723920"/>
                <a:ext cx="69840" cy="37080"/>
                <a:chOff x="6567840" y="4723920"/>
                <a:chExt cx="69840" cy="370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572880" y="4723920"/>
                  <a:ext cx="64800" cy="31320"/>
                </a:xfrm>
                <a:custGeom>
                  <a:avLst/>
                  <a:gdLst/>
                  <a:ahLst/>
                  <a:rect l="l" t="t" r="r" b="b"/>
                  <a:pathLst>
                    <a:path w="52" h="21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51" y="0"/>
                      </a:lnTo>
                      <a:lnTo>
                        <a:pt x="51" y="2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567840" y="4728240"/>
                  <a:ext cx="67320" cy="3276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21"/>
                      </a:moveTo>
                      <a:lnTo>
                        <a:pt x="0" y="0"/>
                      </a:lnTo>
                      <a:lnTo>
                        <a:pt x="53" y="0"/>
                      </a:lnTo>
                      <a:lnTo>
                        <a:pt x="53" y="21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6494040" y="4544280"/>
                <a:ext cx="58320" cy="28080"/>
                <a:chOff x="6494040" y="4544280"/>
                <a:chExt cx="58320" cy="280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500160" y="4544280"/>
                  <a:ext cx="52200" cy="25200"/>
                </a:xfrm>
                <a:custGeom>
                  <a:avLst/>
                  <a:gdLst/>
                  <a:ahLst/>
                  <a:rect l="l" t="t" r="r" b="b"/>
                  <a:pathLst>
                    <a:path w="42" h="17"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1" y="16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494040" y="4547160"/>
                  <a:ext cx="54720" cy="25200"/>
                </a:xfrm>
                <a:custGeom>
                  <a:avLst/>
                  <a:gdLst/>
                  <a:ahLst/>
                  <a:rect l="l" t="t" r="r" b="b"/>
                  <a:pathLst>
                    <a:path w="44" h="17"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43" y="0"/>
                      </a:lnTo>
                      <a:lnTo>
                        <a:pt x="43" y="16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494040" y="4788720"/>
                <a:ext cx="159480" cy="35280"/>
                <a:chOff x="6494040" y="4788720"/>
                <a:chExt cx="159480" cy="352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501600" y="4788720"/>
                  <a:ext cx="151920" cy="32760"/>
                </a:xfrm>
                <a:custGeom>
                  <a:avLst/>
                  <a:gdLst/>
                  <a:ahLst/>
                  <a:rect l="l" t="t" r="r" b="b"/>
                  <a:pathLst>
                    <a:path w="122" h="22">
                      <a:moveTo>
                        <a:pt x="0" y="21"/>
                      </a:moveTo>
                      <a:lnTo>
                        <a:pt x="0" y="0"/>
                      </a:lnTo>
                      <a:lnTo>
                        <a:pt x="121" y="0"/>
                      </a:lnTo>
                      <a:lnTo>
                        <a:pt x="121" y="21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494040" y="4793040"/>
                  <a:ext cx="153360" cy="30960"/>
                </a:xfrm>
                <a:custGeom>
                  <a:avLst/>
                  <a:gdLst/>
                  <a:ahLst/>
                  <a:rect l="l" t="t" r="r" b="b"/>
                  <a:pathLst>
                    <a:path w="123" h="21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122" y="2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429240" y="4653000"/>
                <a:ext cx="40680" cy="37080"/>
                <a:chOff x="6429240" y="4653000"/>
                <a:chExt cx="40680" cy="370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436440" y="4653000"/>
                  <a:ext cx="3348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26" y="22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429240" y="4655880"/>
                  <a:ext cx="37080" cy="3420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9" y="0"/>
                      </a:lnTo>
                      <a:lnTo>
                        <a:pt x="29" y="22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463080" y="4325400"/>
                <a:ext cx="39600" cy="44640"/>
                <a:chOff x="6463080" y="4325400"/>
                <a:chExt cx="39600" cy="446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468120" y="4325400"/>
                  <a:ext cx="34560" cy="37440"/>
                </a:xfrm>
                <a:custGeom>
                  <a:avLst/>
                  <a:gdLst/>
                  <a:ahLst/>
                  <a:rect l="l" t="t" r="r" b="b"/>
                  <a:pathLst>
                    <a:path w="28" h="25">
                      <a:moveTo>
                        <a:pt x="0" y="24"/>
                      </a:moveTo>
                      <a:lnTo>
                        <a:pt x="0" y="0"/>
                      </a:lnTo>
                      <a:lnTo>
                        <a:pt x="27" y="0"/>
                      </a:lnTo>
                      <a:lnTo>
                        <a:pt x="27" y="24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463080" y="4329720"/>
                  <a:ext cx="33480" cy="4032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26" y="26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570360" y="4236480"/>
                <a:ext cx="30600" cy="59760"/>
                <a:chOff x="6570360" y="4236480"/>
                <a:chExt cx="30600" cy="597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576480" y="4236480"/>
                  <a:ext cx="24480" cy="53640"/>
                </a:xfrm>
                <a:custGeom>
                  <a:avLst/>
                  <a:gdLst/>
                  <a:ahLst/>
                  <a:rect l="l" t="t" r="r" b="b"/>
                  <a:pathLst>
                    <a:path w="20" h="36">
                      <a:moveTo>
                        <a:pt x="0" y="35"/>
                      </a:move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19" y="3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570360" y="4240800"/>
                  <a:ext cx="25920" cy="55440"/>
                </a:xfrm>
                <a:custGeom>
                  <a:avLst/>
                  <a:gdLst/>
                  <a:ahLst/>
                  <a:rect l="l" t="t" r="r" b="b"/>
                  <a:pathLst>
                    <a:path w="21" h="37">
                      <a:moveTo>
                        <a:pt x="0" y="36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20" y="3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616440" y="4236480"/>
                <a:ext cx="30960" cy="59760"/>
                <a:chOff x="6616440" y="4236480"/>
                <a:chExt cx="30960" cy="597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622560" y="4236480"/>
                  <a:ext cx="24840" cy="53640"/>
                </a:xfrm>
                <a:custGeom>
                  <a:avLst/>
                  <a:gdLst/>
                  <a:ahLst/>
                  <a:rect l="l" t="t" r="r" b="b"/>
                  <a:pathLst>
                    <a:path w="20" h="36">
                      <a:moveTo>
                        <a:pt x="0" y="35"/>
                      </a:move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19" y="3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616440" y="4240800"/>
                  <a:ext cx="24840" cy="55440"/>
                </a:xfrm>
                <a:custGeom>
                  <a:avLst/>
                  <a:gdLst/>
                  <a:ahLst/>
                  <a:rect l="l" t="t" r="r" b="b"/>
                  <a:pathLst>
                    <a:path w="20" h="37">
                      <a:moveTo>
                        <a:pt x="0" y="36"/>
                      </a:move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19" y="3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6" name=""/>
            <p:cNvSpPr/>
            <p:nvPr/>
          </p:nvSpPr>
          <p:spPr>
            <a:xfrm flipV="1">
              <a:off x="6477120" y="4008600"/>
              <a:ext cx="213120" cy="96480"/>
            </a:xfrm>
            <a:custGeom>
              <a:avLst/>
              <a:gdLst>
                <a:gd name="textAreaLeft" fmla="*/ 46800 w 213120"/>
                <a:gd name="textAreaRight" fmla="*/ 166320 w 213120"/>
                <a:gd name="textAreaTop" fmla="*/ 21240 h 96480"/>
                <a:gd name="textAreaBottom" fmla="*/ 75240 h 9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243120" y="2283840"/>
              <a:ext cx="100944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ampire t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104520" y="2871360"/>
              <a:ext cx="71820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NC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端子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894560" y="3226320"/>
              <a:ext cx="76608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收发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312600" y="3588480"/>
              <a:ext cx="71208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UI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电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911560" y="4385880"/>
              <a:ext cx="44712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07840" y="3443760"/>
              <a:ext cx="77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83920" y="5183280"/>
              <a:ext cx="125892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网络最大跨度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.5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公里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hinnet(10Base2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28600" y="1197000"/>
            <a:ext cx="7079760" cy="4319640"/>
            <a:chOff x="228600" y="1197000"/>
            <a:chExt cx="7079760" cy="4319640"/>
          </a:xfrm>
        </p:grpSpPr>
        <p:sp>
          <p:nvSpPr>
            <p:cNvPr id="286" name=""/>
            <p:cNvSpPr/>
            <p:nvPr/>
          </p:nvSpPr>
          <p:spPr>
            <a:xfrm>
              <a:off x="4397040" y="1197000"/>
              <a:ext cx="2911320" cy="2519640"/>
            </a:xfrm>
            <a:prstGeom prst="wedgeEllipseCallout">
              <a:avLst>
                <a:gd name="adj1" fmla="val -21305"/>
                <a:gd name="adj2" fmla="val 70435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22200" y="1504440"/>
              <a:ext cx="36792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细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29440" y="2315520"/>
              <a:ext cx="79452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NC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接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39400" y="2768040"/>
              <a:ext cx="44712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4911120" y="1754280"/>
              <a:ext cx="17100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6062400" y="2210760"/>
              <a:ext cx="45072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091560" y="2924280"/>
              <a:ext cx="41184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95120" y="1975680"/>
              <a:ext cx="2217960" cy="124920"/>
            </a:xfrm>
            <a:prstGeom prst="rect">
              <a:avLst/>
            </a:prstGeom>
            <a:gradFill rotWithShape="0">
              <a:gsLst>
                <a:gs pos="0">
                  <a:srgbClr val="131313"/>
                </a:gs>
                <a:gs pos="50000">
                  <a:srgbClr val="1c1c1c"/>
                </a:gs>
                <a:gs pos="100000">
                  <a:srgbClr val="13131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5274000" y="2318040"/>
              <a:ext cx="761760" cy="1041840"/>
              <a:chOff x="5274000" y="2318040"/>
              <a:chExt cx="761760" cy="1041840"/>
            </a:xfrm>
          </p:grpSpPr>
          <p:sp>
            <p:nvSpPr>
              <p:cNvPr id="295" name=""/>
              <p:cNvSpPr/>
              <p:nvPr/>
            </p:nvSpPr>
            <p:spPr>
              <a:xfrm>
                <a:off x="5315040" y="2577240"/>
                <a:ext cx="93240" cy="542160"/>
              </a:xfrm>
              <a:custGeom>
                <a:avLst/>
                <a:gdLst/>
                <a:ahLst/>
                <a:rect l="l" t="t" r="r" b="b"/>
                <a:pathLst>
                  <a:path w="48" h="347">
                    <a:moveTo>
                      <a:pt x="47" y="346"/>
                    </a:moveTo>
                    <a:lnTo>
                      <a:pt x="47" y="0"/>
                    </a:lnTo>
                    <a:lnTo>
                      <a:pt x="0" y="0"/>
                    </a:lnTo>
                    <a:lnTo>
                      <a:pt x="0" y="346"/>
                    </a:lnTo>
                    <a:lnTo>
                      <a:pt x="47" y="346"/>
                    </a:lnTo>
                  </a:path>
                </a:pathLst>
              </a:custGeom>
              <a:solidFill>
                <a:srgbClr val="ffcc33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5328360" y="2622600"/>
                <a:ext cx="65880" cy="476280"/>
                <a:chOff x="5328360" y="2622600"/>
                <a:chExt cx="65880" cy="476280"/>
              </a:xfrm>
            </p:grpSpPr>
            <p:sp>
              <p:nvSpPr>
                <p:cNvPr id="297" name=""/>
                <p:cNvSpPr/>
                <p:nvPr/>
              </p:nvSpPr>
              <p:spPr>
                <a:xfrm flipH="1">
                  <a:off x="5328360" y="309888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>
                  <a:off x="5328360" y="306576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>
                  <a:off x="5328360" y="303444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5328360" y="300168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>
                  <a:off x="5328360" y="297036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>
                  <a:off x="5328360" y="293940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>
                  <a:off x="5328360" y="290808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>
                  <a:off x="5328360" y="287676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5328360" y="284544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5328360" y="281304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>
                  <a:off x="5328360" y="277848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>
                  <a:off x="5328360" y="274896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5328360" y="271764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>
                  <a:off x="5328360" y="268632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>
                  <a:off x="5328360" y="265176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5328360" y="262260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5400720" y="2424240"/>
                <a:ext cx="635040" cy="935640"/>
              </a:xfrm>
              <a:prstGeom prst="rect">
                <a:avLst/>
              </a:prstGeom>
              <a:solidFill>
                <a:srgbClr val="add6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74000" y="2345760"/>
                <a:ext cx="742320" cy="62640"/>
              </a:xfrm>
              <a:custGeom>
                <a:avLst/>
                <a:gdLst/>
                <a:ahLst/>
                <a:rect l="l" t="t" r="r" b="b"/>
                <a:pathLst>
                  <a:path w="381" h="40">
                    <a:moveTo>
                      <a:pt x="380" y="0"/>
                    </a:moveTo>
                    <a:lnTo>
                      <a:pt x="380" y="39"/>
                    </a:lnTo>
                    <a:lnTo>
                      <a:pt x="0" y="39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5792400" y="2318040"/>
                <a:ext cx="81360" cy="75960"/>
                <a:chOff x="5792400" y="2318040"/>
                <a:chExt cx="81360" cy="759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800320" y="2318040"/>
                  <a:ext cx="54000" cy="56160"/>
                </a:xfrm>
                <a:custGeom>
                  <a:avLst/>
                  <a:gdLst/>
                  <a:ahLst/>
                  <a:rect l="l" t="t" r="r" b="b"/>
                  <a:pathLst>
                    <a:path w="28" h="36">
                      <a:moveTo>
                        <a:pt x="27" y="35"/>
                      </a:moveTo>
                      <a:lnTo>
                        <a:pt x="27" y="0"/>
                      </a:lnTo>
                      <a:lnTo>
                        <a:pt x="0" y="0"/>
                      </a:lnTo>
                      <a:lnTo>
                        <a:pt x="0" y="35"/>
                      </a:lnTo>
                      <a:lnTo>
                        <a:pt x="27" y="35"/>
                      </a:lnTo>
                    </a:path>
                  </a:pathLst>
                </a:custGeom>
                <a:solidFill>
                  <a:srgbClr val="e9e7d1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792400" y="2355480"/>
                  <a:ext cx="81360" cy="38520"/>
                </a:xfrm>
                <a:custGeom>
                  <a:avLst/>
                  <a:gdLst/>
                  <a:ahLst/>
                  <a:rect l="l" t="t" r="r" b="b"/>
                  <a:pathLst>
                    <a:path w="42" h="25">
                      <a:moveTo>
                        <a:pt x="41" y="24"/>
                      </a:move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41" y="24"/>
                      </a:lnTo>
                    </a:path>
                  </a:pathLst>
                </a:custGeom>
                <a:solidFill>
                  <a:srgbClr val="52493e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662080" y="2939760"/>
                <a:ext cx="190080" cy="154080"/>
                <a:chOff x="5662080" y="2939760"/>
                <a:chExt cx="190080" cy="1540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5662080" y="2939760"/>
                  <a:ext cx="178560" cy="149760"/>
                </a:xfrm>
                <a:custGeom>
                  <a:avLst/>
                  <a:gdLst/>
                  <a:ahLst/>
                  <a:rect l="l" t="t" r="r" b="b"/>
                  <a:pathLst>
                    <a:path w="92" h="96">
                      <a:moveTo>
                        <a:pt x="91" y="95"/>
                      </a:moveTo>
                      <a:lnTo>
                        <a:pt x="91" y="0"/>
                      </a:lnTo>
                      <a:lnTo>
                        <a:pt x="0" y="0"/>
                      </a:lnTo>
                      <a:lnTo>
                        <a:pt x="0" y="95"/>
                      </a:lnTo>
                      <a:lnTo>
                        <a:pt x="91" y="95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673240" y="2945520"/>
                  <a:ext cx="178920" cy="148320"/>
                </a:xfrm>
                <a:custGeom>
                  <a:avLst/>
                  <a:gdLst/>
                  <a:ahLst/>
                  <a:rect l="l" t="t" r="r" b="b"/>
                  <a:pathLst>
                    <a:path w="92" h="95">
                      <a:moveTo>
                        <a:pt x="91" y="94"/>
                      </a:moveTo>
                      <a:lnTo>
                        <a:pt x="91" y="0"/>
                      </a:lnTo>
                      <a:lnTo>
                        <a:pt x="0" y="0"/>
                      </a:lnTo>
                      <a:lnTo>
                        <a:pt x="0" y="94"/>
                      </a:lnTo>
                      <a:lnTo>
                        <a:pt x="91" y="94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5428080" y="2666160"/>
                <a:ext cx="246600" cy="196560"/>
                <a:chOff x="5428080" y="2666160"/>
                <a:chExt cx="246600" cy="1965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5428080" y="2666160"/>
                  <a:ext cx="236880" cy="190440"/>
                </a:xfrm>
                <a:custGeom>
                  <a:avLst/>
                  <a:gdLst/>
                  <a:ahLst/>
                  <a:rect l="l" t="t" r="r" b="b"/>
                  <a:pathLst>
                    <a:path w="122" h="122">
                      <a:moveTo>
                        <a:pt x="121" y="121"/>
                      </a:moveTo>
                      <a:lnTo>
                        <a:pt x="121" y="0"/>
                      </a:lnTo>
                      <a:lnTo>
                        <a:pt x="0" y="0"/>
                      </a:lnTo>
                      <a:lnTo>
                        <a:pt x="0" y="121"/>
                      </a:lnTo>
                      <a:lnTo>
                        <a:pt x="121" y="121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435280" y="2672280"/>
                  <a:ext cx="239400" cy="190440"/>
                </a:xfrm>
                <a:custGeom>
                  <a:avLst/>
                  <a:gdLst/>
                  <a:ahLst/>
                  <a:rect l="l" t="t" r="r" b="b"/>
                  <a:pathLst>
                    <a:path w="123" h="122">
                      <a:moveTo>
                        <a:pt x="122" y="121"/>
                      </a:moveTo>
                      <a:lnTo>
                        <a:pt x="122" y="0"/>
                      </a:lnTo>
                      <a:lnTo>
                        <a:pt x="0" y="0"/>
                      </a:lnTo>
                      <a:lnTo>
                        <a:pt x="0" y="121"/>
                      </a:lnTo>
                      <a:lnTo>
                        <a:pt x="122" y="121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558400" y="3288240"/>
                <a:ext cx="293400" cy="47880"/>
                <a:chOff x="5558400" y="3288240"/>
                <a:chExt cx="293400" cy="478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558400" y="3288240"/>
                  <a:ext cx="281880" cy="41760"/>
                </a:xfrm>
                <a:custGeom>
                  <a:avLst/>
                  <a:gdLst/>
                  <a:ahLst/>
                  <a:rect l="l" t="t" r="r" b="b"/>
                  <a:pathLst>
                    <a:path w="145" h="27">
                      <a:moveTo>
                        <a:pt x="144" y="26"/>
                      </a:moveTo>
                      <a:lnTo>
                        <a:pt x="14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144" y="26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569560" y="3292560"/>
                  <a:ext cx="282240" cy="43560"/>
                </a:xfrm>
                <a:custGeom>
                  <a:avLst/>
                  <a:gdLst/>
                  <a:ahLst/>
                  <a:rect l="l" t="t" r="r" b="b"/>
                  <a:pathLst>
                    <a:path w="145" h="28">
                      <a:moveTo>
                        <a:pt x="144" y="27"/>
                      </a:moveTo>
                      <a:lnTo>
                        <a:pt x="144" y="0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144" y="27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463000" y="3242880"/>
                <a:ext cx="71280" cy="69840"/>
                <a:chOff x="5463000" y="3242880"/>
                <a:chExt cx="71280" cy="698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463000" y="3242880"/>
                  <a:ext cx="60120" cy="63720"/>
                </a:xfrm>
                <a:custGeom>
                  <a:avLst/>
                  <a:gdLst/>
                  <a:ahLst/>
                  <a:rect l="l" t="t" r="r" b="b"/>
                  <a:pathLst>
                    <a:path w="31" h="41">
                      <a:moveTo>
                        <a:pt x="30" y="40"/>
                      </a:move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0" y="40"/>
                      </a:lnTo>
                      <a:lnTo>
                        <a:pt x="30" y="4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472360" y="3247560"/>
                  <a:ext cx="61920" cy="65160"/>
                </a:xfrm>
                <a:custGeom>
                  <a:avLst/>
                  <a:gdLst/>
                  <a:ahLst/>
                  <a:rect l="l" t="t" r="r" b="b"/>
                  <a:pathLst>
                    <a:path w="32" h="42">
                      <a:moveTo>
                        <a:pt x="31" y="41"/>
                      </a:moveTo>
                      <a:lnTo>
                        <a:pt x="31" y="0"/>
                      </a:lnTo>
                      <a:lnTo>
                        <a:pt x="0" y="0"/>
                      </a:lnTo>
                      <a:lnTo>
                        <a:pt x="0" y="41"/>
                      </a:lnTo>
                      <a:lnTo>
                        <a:pt x="31" y="41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16440" y="3136320"/>
                <a:ext cx="130320" cy="49680"/>
                <a:chOff x="5716440" y="3136320"/>
                <a:chExt cx="130320" cy="496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16440" y="3136320"/>
                  <a:ext cx="120600" cy="45000"/>
                </a:xfrm>
                <a:custGeom>
                  <a:avLst/>
                  <a:gdLst/>
                  <a:ahLst/>
                  <a:rect l="l" t="t" r="r" b="b"/>
                  <a:pathLst>
                    <a:path w="62" h="29">
                      <a:moveTo>
                        <a:pt x="61" y="28"/>
                      </a:move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61" y="28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24360" y="3142440"/>
                  <a:ext cx="122400" cy="435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27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62" y="27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585760" y="3132000"/>
                <a:ext cx="129600" cy="52560"/>
                <a:chOff x="5585760" y="3132000"/>
                <a:chExt cx="129600" cy="525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585760" y="3132000"/>
                  <a:ext cx="120240" cy="43560"/>
                </a:xfrm>
                <a:custGeom>
                  <a:avLst/>
                  <a:gdLst/>
                  <a:ahLst/>
                  <a:rect l="l" t="t" r="r" b="b"/>
                  <a:pathLst>
                    <a:path w="62" h="28">
                      <a:moveTo>
                        <a:pt x="61" y="27"/>
                      </a:move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61" y="27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592960" y="3139560"/>
                  <a:ext cx="122400" cy="4500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28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62" y="28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5743800" y="2882160"/>
                <a:ext cx="108360" cy="37080"/>
                <a:chOff x="5743800" y="2882160"/>
                <a:chExt cx="108360" cy="370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743800" y="2882160"/>
                  <a:ext cx="96840" cy="34200"/>
                </a:xfrm>
                <a:custGeom>
                  <a:avLst/>
                  <a:gdLst/>
                  <a:ahLst/>
                  <a:rect l="l" t="t" r="r" b="b"/>
                  <a:pathLst>
                    <a:path w="50" h="22">
                      <a:moveTo>
                        <a:pt x="49" y="21"/>
                      </a:moveTo>
                      <a:lnTo>
                        <a:pt x="49" y="0"/>
                      </a:lnTo>
                      <a:lnTo>
                        <a:pt x="0" y="0"/>
                      </a:lnTo>
                      <a:lnTo>
                        <a:pt x="0" y="21"/>
                      </a:lnTo>
                      <a:lnTo>
                        <a:pt x="49" y="21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753160" y="2886480"/>
                  <a:ext cx="99000" cy="32760"/>
                </a:xfrm>
                <a:custGeom>
                  <a:avLst/>
                  <a:gdLst/>
                  <a:ahLst/>
                  <a:rect l="l" t="t" r="r" b="b"/>
                  <a:pathLst>
                    <a:path w="51" h="21">
                      <a:moveTo>
                        <a:pt x="50" y="20"/>
                      </a:moveTo>
                      <a:lnTo>
                        <a:pt x="50" y="0"/>
                      </a:lnTo>
                      <a:lnTo>
                        <a:pt x="0" y="0"/>
                      </a:lnTo>
                      <a:lnTo>
                        <a:pt x="0" y="20"/>
                      </a:lnTo>
                      <a:lnTo>
                        <a:pt x="50" y="20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558400" y="3224160"/>
                <a:ext cx="293400" cy="47880"/>
                <a:chOff x="5558400" y="3224160"/>
                <a:chExt cx="293400" cy="478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558400" y="3224160"/>
                  <a:ext cx="281880" cy="45000"/>
                </a:xfrm>
                <a:custGeom>
                  <a:avLst/>
                  <a:gdLst/>
                  <a:ahLst/>
                  <a:rect l="l" t="t" r="r" b="b"/>
                  <a:pathLst>
                    <a:path w="145" h="29">
                      <a:moveTo>
                        <a:pt x="144" y="28"/>
                      </a:moveTo>
                      <a:lnTo>
                        <a:pt x="144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144" y="28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569560" y="3228840"/>
                  <a:ext cx="282240" cy="43200"/>
                </a:xfrm>
                <a:custGeom>
                  <a:avLst/>
                  <a:gdLst/>
                  <a:ahLst/>
                  <a:rect l="l" t="t" r="r" b="b"/>
                  <a:pathLst>
                    <a:path w="145" h="28">
                      <a:moveTo>
                        <a:pt x="144" y="27"/>
                      </a:moveTo>
                      <a:lnTo>
                        <a:pt x="144" y="0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144" y="27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897520" y="3033360"/>
                <a:ext cx="75600" cy="51120"/>
                <a:chOff x="5897520" y="3033360"/>
                <a:chExt cx="75600" cy="51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5897520" y="3033360"/>
                  <a:ext cx="61920" cy="48240"/>
                </a:xfrm>
                <a:custGeom>
                  <a:avLst/>
                  <a:gdLst/>
                  <a:ahLst/>
                  <a:rect l="l" t="t" r="r" b="b"/>
                  <a:pathLst>
                    <a:path w="32" h="31">
                      <a:moveTo>
                        <a:pt x="31" y="30"/>
                      </a:moveTo>
                      <a:lnTo>
                        <a:pt x="31" y="0"/>
                      </a:lnTo>
                      <a:lnTo>
                        <a:pt x="0" y="0"/>
                      </a:lnTo>
                      <a:lnTo>
                        <a:pt x="0" y="30"/>
                      </a:lnTo>
                      <a:lnTo>
                        <a:pt x="31" y="3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905440" y="3038040"/>
                  <a:ext cx="67680" cy="46440"/>
                </a:xfrm>
                <a:custGeom>
                  <a:avLst/>
                  <a:gdLst/>
                  <a:ahLst/>
                  <a:rect l="l" t="t" r="r" b="b"/>
                  <a:pathLst>
                    <a:path w="35" h="30">
                      <a:moveTo>
                        <a:pt x="34" y="29"/>
                      </a:moveTo>
                      <a:lnTo>
                        <a:pt x="34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34" y="29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837400" y="2575440"/>
                <a:ext cx="73080" cy="62280"/>
                <a:chOff x="5837400" y="2575440"/>
                <a:chExt cx="73080" cy="622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837400" y="2575440"/>
                  <a:ext cx="65520" cy="52920"/>
                </a:xfrm>
                <a:custGeom>
                  <a:avLst/>
                  <a:gdLst/>
                  <a:ahLst/>
                  <a:rect l="l" t="t" r="r" b="b"/>
                  <a:pathLst>
                    <a:path w="34" h="34">
                      <a:moveTo>
                        <a:pt x="33" y="33"/>
                      </a:moveTo>
                      <a:lnTo>
                        <a:pt x="33" y="0"/>
                      </a:lnTo>
                      <a:lnTo>
                        <a:pt x="0" y="0"/>
                      </a:lnTo>
                      <a:lnTo>
                        <a:pt x="0" y="33"/>
                      </a:lnTo>
                      <a:lnTo>
                        <a:pt x="33" y="33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848560" y="2583000"/>
                  <a:ext cx="61920" cy="54720"/>
                </a:xfrm>
                <a:custGeom>
                  <a:avLst/>
                  <a:gdLst/>
                  <a:ahLst/>
                  <a:rect l="l" t="t" r="r" b="b"/>
                  <a:pathLst>
                    <a:path w="32" h="35">
                      <a:moveTo>
                        <a:pt x="31" y="34"/>
                      </a:moveTo>
                      <a:lnTo>
                        <a:pt x="31" y="0"/>
                      </a:lnTo>
                      <a:lnTo>
                        <a:pt x="0" y="0"/>
                      </a:lnTo>
                      <a:lnTo>
                        <a:pt x="0" y="34"/>
                      </a:lnTo>
                      <a:lnTo>
                        <a:pt x="31" y="34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655600" y="2452320"/>
                <a:ext cx="55800" cy="82440"/>
                <a:chOff x="5655600" y="2452320"/>
                <a:chExt cx="55800" cy="824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655600" y="245232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3" h="48">
                      <a:moveTo>
                        <a:pt x="22" y="47"/>
                      </a:move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47"/>
                      </a:lnTo>
                      <a:lnTo>
                        <a:pt x="22" y="47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664960" y="2458440"/>
                  <a:ext cx="46440" cy="76320"/>
                </a:xfrm>
                <a:custGeom>
                  <a:avLst/>
                  <a:gdLst/>
                  <a:ahLst/>
                  <a:rect l="l" t="t" r="r" b="b"/>
                  <a:pathLst>
                    <a:path w="24" h="49">
                      <a:moveTo>
                        <a:pt x="23" y="48"/>
                      </a:move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48"/>
                      </a:lnTo>
                      <a:lnTo>
                        <a:pt x="23" y="48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5569920" y="2452320"/>
                <a:ext cx="56160" cy="82440"/>
                <a:chOff x="5569920" y="2452320"/>
                <a:chExt cx="56160" cy="824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5569920" y="245232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3" h="48">
                      <a:moveTo>
                        <a:pt x="22" y="47"/>
                      </a:move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47"/>
                      </a:lnTo>
                      <a:lnTo>
                        <a:pt x="22" y="47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581800" y="245844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3" h="49">
                      <a:moveTo>
                        <a:pt x="22" y="48"/>
                      </a:move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48"/>
                      </a:lnTo>
                      <a:lnTo>
                        <a:pt x="22" y="48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5601960" y="1941840"/>
              <a:ext cx="402840" cy="337680"/>
              <a:chOff x="5601960" y="1941840"/>
              <a:chExt cx="402840" cy="33768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5731920" y="2081880"/>
                <a:ext cx="168480" cy="197640"/>
                <a:chOff x="5731920" y="2081880"/>
                <a:chExt cx="168480" cy="1976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747040" y="2097360"/>
                  <a:ext cx="141480" cy="14148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735160" y="2081880"/>
                  <a:ext cx="165240" cy="4788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731920" y="2232720"/>
                  <a:ext cx="165240" cy="4680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5601960" y="1941840"/>
                <a:ext cx="402840" cy="197640"/>
                <a:chOff x="5601960" y="1941840"/>
                <a:chExt cx="402840" cy="1976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5681520" y="1958760"/>
                  <a:ext cx="294840" cy="16524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898600" y="1944720"/>
                  <a:ext cx="106200" cy="19476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601960" y="1941840"/>
                  <a:ext cx="102600" cy="1933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3" name=""/>
            <p:cNvSpPr/>
            <p:nvPr/>
          </p:nvSpPr>
          <p:spPr>
            <a:xfrm flipH="1">
              <a:off x="661320" y="4053240"/>
              <a:ext cx="3739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89120" y="3995640"/>
              <a:ext cx="101880" cy="9720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5640" y="3998160"/>
              <a:ext cx="101880" cy="9720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5320" y="3536640"/>
              <a:ext cx="0" cy="41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3280" y="3536640"/>
              <a:ext cx="0" cy="41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44360" y="3476880"/>
              <a:ext cx="1157040" cy="45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每段最大长度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85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每段最多站点数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8600" y="4736880"/>
              <a:ext cx="261504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两站点间最短距离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.5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529440" y="4444200"/>
              <a:ext cx="222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35880" y="4389120"/>
              <a:ext cx="101880" cy="9720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06400" y="4393080"/>
              <a:ext cx="101880" cy="9720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00120" y="4377960"/>
              <a:ext cx="209160" cy="12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5320" y="5314320"/>
              <a:ext cx="0" cy="20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86640" y="527688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25280" y="4582800"/>
              <a:ext cx="0" cy="1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14920" y="4585320"/>
              <a:ext cx="0" cy="1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22400" y="4676760"/>
              <a:ext cx="99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5320" y="3656880"/>
              <a:ext cx="9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602880" y="3656880"/>
              <a:ext cx="86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5320" y="3836880"/>
              <a:ext cx="9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3669120" y="3836880"/>
              <a:ext cx="79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89320" y="5232960"/>
              <a:ext cx="127296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网络最大跨度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25 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5213520" y="4436640"/>
              <a:ext cx="0" cy="239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1"/>
            <a:stretch/>
          </p:blipFill>
          <p:spPr>
            <a:xfrm>
              <a:off x="5016240" y="4690440"/>
              <a:ext cx="398160" cy="32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86" name=""/>
            <p:cNvSpPr/>
            <p:nvPr/>
          </p:nvSpPr>
          <p:spPr>
            <a:xfrm>
              <a:off x="625320" y="5396760"/>
              <a:ext cx="13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4132080" y="5396760"/>
              <a:ext cx="165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55080" y="4010760"/>
              <a:ext cx="191520" cy="1260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0"/>
                  </a:moveTo>
                  <a:lnTo>
                    <a:pt x="138" y="0"/>
                  </a:lnTo>
                  <a:lnTo>
                    <a:pt x="138" y="62"/>
                  </a:lnTo>
                  <a:lnTo>
                    <a:pt x="97" y="63"/>
                  </a:lnTo>
                  <a:lnTo>
                    <a:pt x="97" y="99"/>
                  </a:lnTo>
                  <a:lnTo>
                    <a:pt x="40" y="100"/>
                  </a:lnTo>
                  <a:lnTo>
                    <a:pt x="40" y="65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872280" y="4133160"/>
              <a:ext cx="398520" cy="32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90" name=""/>
            <p:cNvSpPr/>
            <p:nvPr/>
          </p:nvSpPr>
          <p:spPr>
            <a:xfrm>
              <a:off x="1929600" y="4012920"/>
              <a:ext cx="191520" cy="12636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0"/>
                  </a:moveTo>
                  <a:lnTo>
                    <a:pt x="138" y="0"/>
                  </a:lnTo>
                  <a:lnTo>
                    <a:pt x="138" y="62"/>
                  </a:lnTo>
                  <a:lnTo>
                    <a:pt x="97" y="63"/>
                  </a:lnTo>
                  <a:lnTo>
                    <a:pt x="97" y="99"/>
                  </a:lnTo>
                  <a:lnTo>
                    <a:pt x="40" y="100"/>
                  </a:lnTo>
                  <a:lnTo>
                    <a:pt x="40" y="65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1846800" y="4135680"/>
              <a:ext cx="398160" cy="32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92" name=""/>
            <p:cNvSpPr/>
            <p:nvPr/>
          </p:nvSpPr>
          <p:spPr>
            <a:xfrm>
              <a:off x="2770560" y="4011840"/>
              <a:ext cx="191160" cy="1260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0"/>
                  </a:moveTo>
                  <a:lnTo>
                    <a:pt x="138" y="0"/>
                  </a:lnTo>
                  <a:lnTo>
                    <a:pt x="138" y="62"/>
                  </a:lnTo>
                  <a:lnTo>
                    <a:pt x="97" y="63"/>
                  </a:lnTo>
                  <a:lnTo>
                    <a:pt x="97" y="99"/>
                  </a:lnTo>
                  <a:lnTo>
                    <a:pt x="40" y="100"/>
                  </a:lnTo>
                  <a:lnTo>
                    <a:pt x="40" y="65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3" name="" descr=""/>
            <p:cNvPicPr/>
            <p:nvPr/>
          </p:nvPicPr>
          <p:blipFill>
            <a:blip r:embed="rId4"/>
            <a:stretch/>
          </p:blipFill>
          <p:spPr>
            <a:xfrm>
              <a:off x="2687760" y="4134240"/>
              <a:ext cx="398160" cy="32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94" name=""/>
            <p:cNvSpPr/>
            <p:nvPr/>
          </p:nvSpPr>
          <p:spPr>
            <a:xfrm>
              <a:off x="3775320" y="4023000"/>
              <a:ext cx="191520" cy="1260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0"/>
                  </a:moveTo>
                  <a:lnTo>
                    <a:pt x="138" y="0"/>
                  </a:lnTo>
                  <a:lnTo>
                    <a:pt x="138" y="62"/>
                  </a:lnTo>
                  <a:lnTo>
                    <a:pt x="97" y="63"/>
                  </a:lnTo>
                  <a:lnTo>
                    <a:pt x="97" y="99"/>
                  </a:lnTo>
                  <a:lnTo>
                    <a:pt x="40" y="100"/>
                  </a:lnTo>
                  <a:lnTo>
                    <a:pt x="40" y="65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08440" y="4313160"/>
              <a:ext cx="191520" cy="20376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100"/>
                  </a:moveTo>
                  <a:lnTo>
                    <a:pt x="138" y="100"/>
                  </a:lnTo>
                  <a:lnTo>
                    <a:pt x="138" y="38"/>
                  </a:lnTo>
                  <a:lnTo>
                    <a:pt x="97" y="37"/>
                  </a:lnTo>
                  <a:lnTo>
                    <a:pt x="97" y="1"/>
                  </a:lnTo>
                  <a:lnTo>
                    <a:pt x="40" y="0"/>
                  </a:lnTo>
                  <a:lnTo>
                    <a:pt x="40" y="35"/>
                  </a:lnTo>
                  <a:lnTo>
                    <a:pt x="0" y="37"/>
                  </a:lnTo>
                  <a:lnTo>
                    <a:pt x="0" y="10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5"/>
            <a:stretch/>
          </p:blipFill>
          <p:spPr>
            <a:xfrm>
              <a:off x="3555000" y="4161600"/>
              <a:ext cx="812880" cy="17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97" name=""/>
            <p:cNvSpPr/>
            <p:nvPr/>
          </p:nvSpPr>
          <p:spPr>
            <a:xfrm>
              <a:off x="4838400" y="4256640"/>
              <a:ext cx="661680" cy="53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56920" y="4916880"/>
              <a:ext cx="92232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网络最多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个段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5654520" y="4556520"/>
              <a:ext cx="529200" cy="35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介绍计算机网络的成长过程、发展趋势及其所起到的重要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介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通讯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讲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通讯协议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的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双绞线电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屏蔽双绞线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屏蔽双绞线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2808360" cy="27352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572000" y="3933720"/>
            <a:ext cx="2808360" cy="29242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非屏蔽双绞线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吞吐量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本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尺寸和可扩展性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噪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708360" y="1268280"/>
            <a:ext cx="3619440" cy="241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光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模、多模的比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光缆的特性总结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吞吐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成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尺寸和可扩展性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连接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抗噪性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780000" y="2133720"/>
            <a:ext cx="4649760" cy="1257840"/>
            <a:chOff x="3780000" y="2133720"/>
            <a:chExt cx="4649760" cy="1257840"/>
          </a:xfrm>
        </p:grpSpPr>
        <p:sp>
          <p:nvSpPr>
            <p:cNvPr id="410" name=""/>
            <p:cNvSpPr/>
            <p:nvPr/>
          </p:nvSpPr>
          <p:spPr>
            <a:xfrm>
              <a:off x="4944960" y="2276280"/>
              <a:ext cx="2324160" cy="571320"/>
            </a:xfrm>
            <a:custGeom>
              <a:avLst/>
              <a:gdLst/>
              <a:ahLst/>
              <a:rect l="l" t="t" r="r" b="b"/>
              <a:pathLst>
                <a:path w="1464" h="360">
                  <a:moveTo>
                    <a:pt x="0" y="359"/>
                  </a:moveTo>
                  <a:lnTo>
                    <a:pt x="1463" y="359"/>
                  </a:lnTo>
                  <a:lnTo>
                    <a:pt x="1463" y="0"/>
                  </a:lnTo>
                  <a:lnTo>
                    <a:pt x="0" y="0"/>
                  </a:lnTo>
                  <a:lnTo>
                    <a:pt x="0" y="359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b4b4b"/>
                </a:gs>
                <a:gs pos="100000">
                  <a:srgbClr val="000000"/>
                </a:gs>
              </a:gsLst>
              <a:lin ang="54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49840" y="2466720"/>
              <a:ext cx="196920" cy="19188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0" y="120"/>
                  </a:moveTo>
                  <a:lnTo>
                    <a:pt x="123" y="120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120"/>
                  </a:lnTo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ff0000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67680" y="2466720"/>
              <a:ext cx="191880" cy="19188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0" y="120"/>
                  </a:moveTo>
                  <a:lnTo>
                    <a:pt x="120" y="120"/>
                  </a:lnTo>
                  <a:lnTo>
                    <a:pt x="120" y="0"/>
                  </a:lnTo>
                  <a:lnTo>
                    <a:pt x="0" y="0"/>
                  </a:lnTo>
                  <a:lnTo>
                    <a:pt x="0" y="120"/>
                  </a:lnTo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ff0000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4960" y="2419200"/>
              <a:ext cx="2324160" cy="284040"/>
            </a:xfrm>
            <a:custGeom>
              <a:avLst/>
              <a:gdLst/>
              <a:ahLst/>
              <a:rect l="l" t="t" r="r" b="b"/>
              <a:pathLst>
                <a:path w="1464" h="179">
                  <a:moveTo>
                    <a:pt x="0" y="178"/>
                  </a:moveTo>
                  <a:lnTo>
                    <a:pt x="1463" y="178"/>
                  </a:lnTo>
                  <a:lnTo>
                    <a:pt x="1463" y="0"/>
                  </a:lnTo>
                  <a:lnTo>
                    <a:pt x="0" y="0"/>
                  </a:lnTo>
                  <a:lnTo>
                    <a:pt x="0" y="17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80000" y="2466720"/>
              <a:ext cx="582480" cy="380880"/>
            </a:xfrm>
            <a:custGeom>
              <a:avLst/>
              <a:gdLst/>
              <a:ahLst/>
              <a:rect l="l" t="t" r="r" b="b"/>
              <a:pathLst>
                <a:path w="367" h="240">
                  <a:moveTo>
                    <a:pt x="0" y="239"/>
                  </a:moveTo>
                  <a:lnTo>
                    <a:pt x="122" y="239"/>
                  </a:lnTo>
                  <a:lnTo>
                    <a:pt x="122" y="0"/>
                  </a:lnTo>
                  <a:lnTo>
                    <a:pt x="244" y="0"/>
                  </a:lnTo>
                  <a:lnTo>
                    <a:pt x="244" y="239"/>
                  </a:lnTo>
                  <a:lnTo>
                    <a:pt x="366" y="239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655040" y="2560680"/>
              <a:ext cx="774720" cy="291600"/>
            </a:xfrm>
            <a:custGeom>
              <a:avLst/>
              <a:gdLst/>
              <a:ahLst/>
              <a:rect l="l" t="t" r="r" b="b"/>
              <a:pathLst>
                <a:path w="488" h="184">
                  <a:moveTo>
                    <a:pt x="0" y="183"/>
                  </a:moveTo>
                  <a:lnTo>
                    <a:pt x="60" y="180"/>
                  </a:lnTo>
                  <a:lnTo>
                    <a:pt x="79" y="177"/>
                  </a:lnTo>
                  <a:lnTo>
                    <a:pt x="99" y="171"/>
                  </a:lnTo>
                  <a:lnTo>
                    <a:pt x="116" y="160"/>
                  </a:lnTo>
                  <a:lnTo>
                    <a:pt x="132" y="147"/>
                  </a:lnTo>
                  <a:lnTo>
                    <a:pt x="144" y="129"/>
                  </a:lnTo>
                  <a:lnTo>
                    <a:pt x="155" y="111"/>
                  </a:lnTo>
                  <a:lnTo>
                    <a:pt x="162" y="89"/>
                  </a:lnTo>
                  <a:lnTo>
                    <a:pt x="164" y="68"/>
                  </a:lnTo>
                  <a:lnTo>
                    <a:pt x="171" y="48"/>
                  </a:lnTo>
                  <a:lnTo>
                    <a:pt x="182" y="29"/>
                  </a:lnTo>
                  <a:lnTo>
                    <a:pt x="197" y="15"/>
                  </a:lnTo>
                  <a:lnTo>
                    <a:pt x="214" y="5"/>
                  </a:lnTo>
                  <a:lnTo>
                    <a:pt x="232" y="0"/>
                  </a:lnTo>
                  <a:lnTo>
                    <a:pt x="253" y="0"/>
                  </a:lnTo>
                  <a:lnTo>
                    <a:pt x="271" y="5"/>
                  </a:lnTo>
                  <a:lnTo>
                    <a:pt x="289" y="15"/>
                  </a:lnTo>
                  <a:lnTo>
                    <a:pt x="304" y="29"/>
                  </a:lnTo>
                  <a:lnTo>
                    <a:pt x="315" y="48"/>
                  </a:lnTo>
                  <a:lnTo>
                    <a:pt x="321" y="68"/>
                  </a:lnTo>
                  <a:lnTo>
                    <a:pt x="325" y="89"/>
                  </a:lnTo>
                  <a:lnTo>
                    <a:pt x="332" y="111"/>
                  </a:lnTo>
                  <a:lnTo>
                    <a:pt x="341" y="129"/>
                  </a:lnTo>
                  <a:lnTo>
                    <a:pt x="354" y="147"/>
                  </a:lnTo>
                  <a:lnTo>
                    <a:pt x="369" y="160"/>
                  </a:lnTo>
                  <a:lnTo>
                    <a:pt x="387" y="171"/>
                  </a:lnTo>
                  <a:lnTo>
                    <a:pt x="405" y="177"/>
                  </a:lnTo>
                  <a:lnTo>
                    <a:pt x="426" y="180"/>
                  </a:lnTo>
                  <a:lnTo>
                    <a:pt x="487" y="180"/>
                  </a:lnTo>
                </a:path>
              </a:pathLst>
            </a:custGeom>
            <a:noFill/>
            <a:ln cap="rnd" w="255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4944960" y="2560680"/>
              <a:ext cx="2322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44960" y="2419200"/>
              <a:ext cx="1163880" cy="284040"/>
            </a:xfrm>
            <a:custGeom>
              <a:avLst/>
              <a:gdLst/>
              <a:ahLst/>
              <a:rect l="l" t="t" r="r" b="b"/>
              <a:pathLst>
                <a:path w="733" h="179">
                  <a:moveTo>
                    <a:pt x="732" y="89"/>
                  </a:moveTo>
                  <a:lnTo>
                    <a:pt x="365" y="178"/>
                  </a:lnTo>
                  <a:lnTo>
                    <a:pt x="0" y="89"/>
                  </a:lnTo>
                  <a:lnTo>
                    <a:pt x="365" y="0"/>
                  </a:lnTo>
                  <a:lnTo>
                    <a:pt x="732" y="89"/>
                  </a:lnTo>
                </a:path>
              </a:pathLst>
            </a:custGeom>
            <a:noFill/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07040" y="2419200"/>
              <a:ext cx="1162080" cy="284040"/>
            </a:xfrm>
            <a:custGeom>
              <a:avLst/>
              <a:gdLst/>
              <a:ahLst/>
              <a:rect l="l" t="t" r="r" b="b"/>
              <a:pathLst>
                <a:path w="732" h="179">
                  <a:moveTo>
                    <a:pt x="0" y="89"/>
                  </a:moveTo>
                  <a:lnTo>
                    <a:pt x="365" y="0"/>
                  </a:lnTo>
                  <a:lnTo>
                    <a:pt x="731" y="89"/>
                  </a:lnTo>
                  <a:lnTo>
                    <a:pt x="365" y="178"/>
                  </a:lnTo>
                  <a:lnTo>
                    <a:pt x="0" y="89"/>
                  </a:lnTo>
                </a:path>
              </a:pathLst>
            </a:custGeom>
            <a:noFill/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44960" y="2560680"/>
              <a:ext cx="289080" cy="2851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81760" y="2133720"/>
              <a:ext cx="176040" cy="855360"/>
            </a:xfrm>
            <a:custGeom>
              <a:avLst/>
              <a:gdLst/>
              <a:ahLst/>
              <a:rect l="l" t="t" r="r" b="b"/>
              <a:pathLst>
                <a:path w="111" h="539">
                  <a:moveTo>
                    <a:pt x="54" y="538"/>
                  </a:moveTo>
                  <a:lnTo>
                    <a:pt x="99" y="538"/>
                  </a:lnTo>
                  <a:lnTo>
                    <a:pt x="78" y="518"/>
                  </a:lnTo>
                  <a:lnTo>
                    <a:pt x="62" y="493"/>
                  </a:lnTo>
                  <a:lnTo>
                    <a:pt x="51" y="468"/>
                  </a:lnTo>
                  <a:lnTo>
                    <a:pt x="42" y="442"/>
                  </a:lnTo>
                  <a:lnTo>
                    <a:pt x="38" y="414"/>
                  </a:lnTo>
                  <a:lnTo>
                    <a:pt x="40" y="386"/>
                  </a:lnTo>
                  <a:lnTo>
                    <a:pt x="44" y="358"/>
                  </a:lnTo>
                  <a:lnTo>
                    <a:pt x="53" y="331"/>
                  </a:lnTo>
                  <a:lnTo>
                    <a:pt x="67" y="306"/>
                  </a:lnTo>
                  <a:lnTo>
                    <a:pt x="83" y="284"/>
                  </a:lnTo>
                  <a:lnTo>
                    <a:pt x="96" y="244"/>
                  </a:lnTo>
                  <a:lnTo>
                    <a:pt x="105" y="204"/>
                  </a:lnTo>
                  <a:lnTo>
                    <a:pt x="110" y="163"/>
                  </a:lnTo>
                  <a:lnTo>
                    <a:pt x="110" y="120"/>
                  </a:lnTo>
                  <a:lnTo>
                    <a:pt x="105" y="79"/>
                  </a:lnTo>
                  <a:lnTo>
                    <a:pt x="96" y="39"/>
                  </a:lnTo>
                  <a:lnTo>
                    <a:pt x="83" y="0"/>
                  </a:lnTo>
                  <a:lnTo>
                    <a:pt x="40" y="0"/>
                  </a:lnTo>
                  <a:lnTo>
                    <a:pt x="56" y="30"/>
                  </a:lnTo>
                  <a:lnTo>
                    <a:pt x="69" y="64"/>
                  </a:lnTo>
                  <a:lnTo>
                    <a:pt x="77" y="99"/>
                  </a:lnTo>
                  <a:lnTo>
                    <a:pt x="78" y="133"/>
                  </a:lnTo>
                  <a:lnTo>
                    <a:pt x="77" y="170"/>
                  </a:lnTo>
                  <a:lnTo>
                    <a:pt x="69" y="204"/>
                  </a:lnTo>
                  <a:lnTo>
                    <a:pt x="56" y="237"/>
                  </a:lnTo>
                  <a:lnTo>
                    <a:pt x="40" y="269"/>
                  </a:lnTo>
                  <a:lnTo>
                    <a:pt x="22" y="296"/>
                  </a:lnTo>
                  <a:lnTo>
                    <a:pt x="10" y="326"/>
                  </a:lnTo>
                  <a:lnTo>
                    <a:pt x="4" y="358"/>
                  </a:lnTo>
                  <a:lnTo>
                    <a:pt x="0" y="390"/>
                  </a:lnTo>
                  <a:lnTo>
                    <a:pt x="2" y="422"/>
                  </a:lnTo>
                  <a:lnTo>
                    <a:pt x="9" y="454"/>
                  </a:lnTo>
                  <a:lnTo>
                    <a:pt x="20" y="484"/>
                  </a:lnTo>
                  <a:lnTo>
                    <a:pt x="34" y="512"/>
                  </a:lnTo>
                  <a:lnTo>
                    <a:pt x="54" y="538"/>
                  </a:lnTo>
                </a:path>
              </a:pathLst>
            </a:cu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944600" y="2276280"/>
              <a:ext cx="289080" cy="2840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03880" y="2536920"/>
              <a:ext cx="50760" cy="48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30"/>
                  </a:moveTo>
                  <a:lnTo>
                    <a:pt x="31" y="15"/>
                  </a:lnTo>
                  <a:lnTo>
                    <a:pt x="0" y="0"/>
                  </a:lnTo>
                  <a:lnTo>
                    <a:pt x="5" y="10"/>
                  </a:lnTo>
                  <a:lnTo>
                    <a:pt x="5" y="21"/>
                  </a:lnTo>
                  <a:lnTo>
                    <a:pt x="0" y="3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27760" y="2536920"/>
              <a:ext cx="50760" cy="48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30"/>
                  </a:moveTo>
                  <a:lnTo>
                    <a:pt x="31" y="15"/>
                  </a:lnTo>
                  <a:lnTo>
                    <a:pt x="0" y="0"/>
                  </a:lnTo>
                  <a:lnTo>
                    <a:pt x="4" y="10"/>
                  </a:lnTo>
                  <a:lnTo>
                    <a:pt x="4" y="21"/>
                  </a:lnTo>
                  <a:lnTo>
                    <a:pt x="0" y="3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35760" y="2492280"/>
              <a:ext cx="52200" cy="45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6" y="28"/>
                  </a:moveTo>
                  <a:lnTo>
                    <a:pt x="32" y="6"/>
                  </a:lnTo>
                  <a:lnTo>
                    <a:pt x="0" y="0"/>
                  </a:lnTo>
                  <a:lnTo>
                    <a:pt x="6" y="7"/>
                  </a:lnTo>
                  <a:lnTo>
                    <a:pt x="9" y="18"/>
                  </a:lnTo>
                  <a:lnTo>
                    <a:pt x="6" y="28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89600" y="246672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0" y="32"/>
                  </a:moveTo>
                  <a:lnTo>
                    <a:pt x="31" y="0"/>
                  </a:lnTo>
                  <a:lnTo>
                    <a:pt x="0" y="10"/>
                  </a:lnTo>
                  <a:lnTo>
                    <a:pt x="8" y="14"/>
                  </a:lnTo>
                  <a:lnTo>
                    <a:pt x="16" y="21"/>
                  </a:lnTo>
                  <a:lnTo>
                    <a:pt x="20" y="32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35760" y="2322360"/>
              <a:ext cx="52200" cy="50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1" y="31"/>
                  </a:moveTo>
                  <a:lnTo>
                    <a:pt x="32" y="0"/>
                  </a:lnTo>
                  <a:lnTo>
                    <a:pt x="0" y="10"/>
                  </a:lnTo>
                  <a:lnTo>
                    <a:pt x="9" y="14"/>
                  </a:lnTo>
                  <a:lnTo>
                    <a:pt x="18" y="20"/>
                  </a:lnTo>
                  <a:lnTo>
                    <a:pt x="21" y="31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89600" y="260496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0" y="0"/>
                  </a:moveTo>
                  <a:lnTo>
                    <a:pt x="31" y="33"/>
                  </a:lnTo>
                  <a:lnTo>
                    <a:pt x="0" y="21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20" y="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35760" y="2751120"/>
              <a:ext cx="52200" cy="51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1" y="0"/>
                  </a:moveTo>
                  <a:lnTo>
                    <a:pt x="32" y="32"/>
                  </a:lnTo>
                  <a:lnTo>
                    <a:pt x="0" y="21"/>
                  </a:lnTo>
                  <a:lnTo>
                    <a:pt x="9" y="17"/>
                  </a:lnTo>
                  <a:lnTo>
                    <a:pt x="18" y="9"/>
                  </a:lnTo>
                  <a:lnTo>
                    <a:pt x="21" y="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35760" y="2585880"/>
              <a:ext cx="5220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6" y="0"/>
                  </a:moveTo>
                  <a:lnTo>
                    <a:pt x="32" y="22"/>
                  </a:lnTo>
                  <a:lnTo>
                    <a:pt x="0" y="29"/>
                  </a:lnTo>
                  <a:lnTo>
                    <a:pt x="6" y="20"/>
                  </a:lnTo>
                  <a:lnTo>
                    <a:pt x="9" y="11"/>
                  </a:lnTo>
                  <a:lnTo>
                    <a:pt x="6" y="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86640" y="2466720"/>
              <a:ext cx="55440" cy="45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8" y="0"/>
                  </a:moveTo>
                  <a:lnTo>
                    <a:pt x="34" y="21"/>
                  </a:lnTo>
                  <a:lnTo>
                    <a:pt x="0" y="28"/>
                  </a:lnTo>
                  <a:lnTo>
                    <a:pt x="6" y="19"/>
                  </a:lnTo>
                  <a:lnTo>
                    <a:pt x="10" y="9"/>
                  </a:lnTo>
                  <a:lnTo>
                    <a:pt x="8" y="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86640" y="2609640"/>
              <a:ext cx="55440" cy="489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8" y="30"/>
                  </a:moveTo>
                  <a:lnTo>
                    <a:pt x="34" y="6"/>
                  </a:lnTo>
                  <a:lnTo>
                    <a:pt x="0" y="0"/>
                  </a:lnTo>
                  <a:lnTo>
                    <a:pt x="6" y="8"/>
                  </a:lnTo>
                  <a:lnTo>
                    <a:pt x="10" y="18"/>
                  </a:lnTo>
                  <a:lnTo>
                    <a:pt x="8" y="3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69040" y="2489040"/>
              <a:ext cx="54000" cy="4896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7" y="30"/>
                  </a:moveTo>
                  <a:lnTo>
                    <a:pt x="33" y="6"/>
                  </a:lnTo>
                  <a:lnTo>
                    <a:pt x="0" y="0"/>
                  </a:lnTo>
                  <a:lnTo>
                    <a:pt x="6" y="8"/>
                  </a:lnTo>
                  <a:lnTo>
                    <a:pt x="9" y="18"/>
                  </a:lnTo>
                  <a:lnTo>
                    <a:pt x="7" y="3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269040" y="2584440"/>
              <a:ext cx="54000" cy="4896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7" y="0"/>
                  </a:moveTo>
                  <a:lnTo>
                    <a:pt x="33" y="23"/>
                  </a:lnTo>
                  <a:lnTo>
                    <a:pt x="0" y="30"/>
                  </a:lnTo>
                  <a:lnTo>
                    <a:pt x="6" y="21"/>
                  </a:lnTo>
                  <a:lnTo>
                    <a:pt x="9" y="11"/>
                  </a:lnTo>
                  <a:lnTo>
                    <a:pt x="7" y="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975360" y="246672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6" y="0"/>
                  </a:moveTo>
                  <a:lnTo>
                    <a:pt x="33" y="21"/>
                  </a:lnTo>
                  <a:lnTo>
                    <a:pt x="0" y="28"/>
                  </a:lnTo>
                  <a:lnTo>
                    <a:pt x="6" y="19"/>
                  </a:lnTo>
                  <a:lnTo>
                    <a:pt x="9" y="9"/>
                  </a:lnTo>
                  <a:lnTo>
                    <a:pt x="6" y="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75360" y="2609640"/>
              <a:ext cx="54000" cy="4896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6" y="30"/>
                  </a:moveTo>
                  <a:lnTo>
                    <a:pt x="33" y="6"/>
                  </a:lnTo>
                  <a:lnTo>
                    <a:pt x="0" y="0"/>
                  </a:lnTo>
                  <a:lnTo>
                    <a:pt x="6" y="8"/>
                  </a:lnTo>
                  <a:lnTo>
                    <a:pt x="9" y="18"/>
                  </a:lnTo>
                  <a:lnTo>
                    <a:pt x="6" y="3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76640" y="2994120"/>
              <a:ext cx="1830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多模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MF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708360" y="3860640"/>
            <a:ext cx="4672080" cy="1262880"/>
            <a:chOff x="3708360" y="3860640"/>
            <a:chExt cx="4672080" cy="1262880"/>
          </a:xfrm>
        </p:grpSpPr>
        <p:sp>
          <p:nvSpPr>
            <p:cNvPr id="438" name=""/>
            <p:cNvSpPr/>
            <p:nvPr/>
          </p:nvSpPr>
          <p:spPr>
            <a:xfrm>
              <a:off x="4791240" y="3998880"/>
              <a:ext cx="2446200" cy="560520"/>
            </a:xfrm>
            <a:custGeom>
              <a:avLst/>
              <a:gdLst/>
              <a:ahLst/>
              <a:rect l="l" t="t" r="r" b="b"/>
              <a:pathLst>
                <a:path w="1541" h="353">
                  <a:moveTo>
                    <a:pt x="0" y="352"/>
                  </a:moveTo>
                  <a:lnTo>
                    <a:pt x="1540" y="352"/>
                  </a:lnTo>
                  <a:lnTo>
                    <a:pt x="1540" y="0"/>
                  </a:lnTo>
                  <a:lnTo>
                    <a:pt x="0" y="0"/>
                  </a:lnTo>
                  <a:lnTo>
                    <a:pt x="0" y="352"/>
                  </a:lnTo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8484c1"/>
                </a:gs>
                <a:gs pos="100000">
                  <a:srgbClr val="333399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91240" y="4236840"/>
              <a:ext cx="2446200" cy="82800"/>
            </a:xfrm>
            <a:custGeom>
              <a:avLst/>
              <a:gdLst/>
              <a:ahLst/>
              <a:rect l="l" t="t" r="r" b="b"/>
              <a:pathLst>
                <a:path w="1541" h="52">
                  <a:moveTo>
                    <a:pt x="0" y="51"/>
                  </a:moveTo>
                  <a:lnTo>
                    <a:pt x="1540" y="51"/>
                  </a:lnTo>
                  <a:lnTo>
                    <a:pt x="1540" y="0"/>
                  </a:lnTo>
                  <a:lnTo>
                    <a:pt x="0" y="0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7840" y="4186080"/>
              <a:ext cx="204840" cy="187560"/>
            </a:xfrm>
            <a:custGeom>
              <a:avLst/>
              <a:gdLst/>
              <a:ahLst/>
              <a:rect l="l" t="t" r="r" b="b"/>
              <a:pathLst>
                <a:path w="129" h="118">
                  <a:moveTo>
                    <a:pt x="0" y="117"/>
                  </a:moveTo>
                  <a:lnTo>
                    <a:pt x="128" y="117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0" y="117"/>
                  </a:lnTo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ffccff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236000" y="4186080"/>
              <a:ext cx="204840" cy="187560"/>
            </a:xfrm>
            <a:custGeom>
              <a:avLst/>
              <a:gdLst/>
              <a:ahLst/>
              <a:rect l="l" t="t" r="r" b="b"/>
              <a:pathLst>
                <a:path w="129" h="118">
                  <a:moveTo>
                    <a:pt x="0" y="117"/>
                  </a:moveTo>
                  <a:lnTo>
                    <a:pt x="128" y="117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0" y="117"/>
                  </a:lnTo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ffccff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08360" y="4095720"/>
              <a:ext cx="611280" cy="401760"/>
            </a:xfrm>
            <a:custGeom>
              <a:avLst/>
              <a:gdLst/>
              <a:ahLst/>
              <a:rect l="l" t="t" r="r" b="b"/>
              <a:pathLst>
                <a:path w="385" h="253">
                  <a:moveTo>
                    <a:pt x="0" y="252"/>
                  </a:moveTo>
                  <a:lnTo>
                    <a:pt x="128" y="252"/>
                  </a:lnTo>
                  <a:lnTo>
                    <a:pt x="128" y="0"/>
                  </a:lnTo>
                  <a:lnTo>
                    <a:pt x="256" y="0"/>
                  </a:lnTo>
                  <a:lnTo>
                    <a:pt x="256" y="252"/>
                  </a:lnTo>
                  <a:lnTo>
                    <a:pt x="384" y="252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39280" y="4203720"/>
              <a:ext cx="641160" cy="355680"/>
            </a:xfrm>
            <a:custGeom>
              <a:avLst/>
              <a:gdLst/>
              <a:ahLst/>
              <a:rect l="l" t="t" r="r" b="b"/>
              <a:pathLst>
                <a:path w="404" h="224">
                  <a:moveTo>
                    <a:pt x="0" y="223"/>
                  </a:moveTo>
                  <a:lnTo>
                    <a:pt x="50" y="220"/>
                  </a:lnTo>
                  <a:lnTo>
                    <a:pt x="68" y="217"/>
                  </a:lnTo>
                  <a:lnTo>
                    <a:pt x="85" y="207"/>
                  </a:lnTo>
                  <a:lnTo>
                    <a:pt x="101" y="195"/>
                  </a:lnTo>
                  <a:lnTo>
                    <a:pt x="116" y="178"/>
                  </a:lnTo>
                  <a:lnTo>
                    <a:pt x="128" y="155"/>
                  </a:lnTo>
                  <a:lnTo>
                    <a:pt x="138" y="133"/>
                  </a:lnTo>
                  <a:lnTo>
                    <a:pt x="145" y="106"/>
                  </a:lnTo>
                  <a:lnTo>
                    <a:pt x="151" y="79"/>
                  </a:lnTo>
                  <a:lnTo>
                    <a:pt x="152" y="57"/>
                  </a:lnTo>
                  <a:lnTo>
                    <a:pt x="158" y="39"/>
                  </a:lnTo>
                  <a:lnTo>
                    <a:pt x="165" y="22"/>
                  </a:lnTo>
                  <a:lnTo>
                    <a:pt x="176" y="9"/>
                  </a:lnTo>
                  <a:lnTo>
                    <a:pt x="187" y="1"/>
                  </a:lnTo>
                  <a:lnTo>
                    <a:pt x="201" y="0"/>
                  </a:lnTo>
                  <a:lnTo>
                    <a:pt x="215" y="1"/>
                  </a:lnTo>
                  <a:lnTo>
                    <a:pt x="226" y="9"/>
                  </a:lnTo>
                  <a:lnTo>
                    <a:pt x="237" y="22"/>
                  </a:lnTo>
                  <a:lnTo>
                    <a:pt x="244" y="39"/>
                  </a:lnTo>
                  <a:lnTo>
                    <a:pt x="249" y="57"/>
                  </a:lnTo>
                  <a:lnTo>
                    <a:pt x="252" y="79"/>
                  </a:lnTo>
                  <a:lnTo>
                    <a:pt x="257" y="110"/>
                  </a:lnTo>
                  <a:lnTo>
                    <a:pt x="267" y="139"/>
                  </a:lnTo>
                  <a:lnTo>
                    <a:pt x="279" y="165"/>
                  </a:lnTo>
                  <a:lnTo>
                    <a:pt x="295" y="187"/>
                  </a:lnTo>
                  <a:lnTo>
                    <a:pt x="312" y="202"/>
                  </a:lnTo>
                  <a:lnTo>
                    <a:pt x="331" y="215"/>
                  </a:lnTo>
                  <a:lnTo>
                    <a:pt x="352" y="220"/>
                  </a:lnTo>
                  <a:lnTo>
                    <a:pt x="403" y="220"/>
                  </a:lnTo>
                </a:path>
              </a:pathLst>
            </a:custGeom>
            <a:noFill/>
            <a:ln cap="rnd" w="25560">
              <a:solidFill>
                <a:srgbClr val="ff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24720" y="42559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30"/>
                  </a:moveTo>
                  <a:lnTo>
                    <a:pt x="31" y="14"/>
                  </a:lnTo>
                  <a:lnTo>
                    <a:pt x="0" y="0"/>
                  </a:lnTo>
                  <a:lnTo>
                    <a:pt x="6" y="7"/>
                  </a:lnTo>
                  <a:lnTo>
                    <a:pt x="7" y="14"/>
                  </a:lnTo>
                  <a:lnTo>
                    <a:pt x="6" y="23"/>
                  </a:lnTo>
                  <a:lnTo>
                    <a:pt x="0" y="30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83320" y="4278240"/>
              <a:ext cx="24447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64280" y="4255920"/>
              <a:ext cx="54000" cy="4932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0" y="30"/>
                  </a:moveTo>
                  <a:lnTo>
                    <a:pt x="33" y="14"/>
                  </a:lnTo>
                  <a:lnTo>
                    <a:pt x="0" y="0"/>
                  </a:lnTo>
                  <a:lnTo>
                    <a:pt x="6" y="7"/>
                  </a:lnTo>
                  <a:lnTo>
                    <a:pt x="9" y="14"/>
                  </a:lnTo>
                  <a:lnTo>
                    <a:pt x="6" y="23"/>
                  </a:lnTo>
                  <a:lnTo>
                    <a:pt x="0" y="30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21280" y="3860640"/>
              <a:ext cx="185760" cy="839880"/>
            </a:xfrm>
            <a:custGeom>
              <a:avLst/>
              <a:gdLst/>
              <a:ahLst/>
              <a:rect l="l" t="t" r="r" b="b"/>
              <a:pathLst>
                <a:path w="117" h="529">
                  <a:moveTo>
                    <a:pt x="57" y="528"/>
                  </a:moveTo>
                  <a:lnTo>
                    <a:pt x="104" y="528"/>
                  </a:lnTo>
                  <a:lnTo>
                    <a:pt x="82" y="507"/>
                  </a:lnTo>
                  <a:lnTo>
                    <a:pt x="65" y="485"/>
                  </a:lnTo>
                  <a:lnTo>
                    <a:pt x="52" y="460"/>
                  </a:lnTo>
                  <a:lnTo>
                    <a:pt x="44" y="434"/>
                  </a:lnTo>
                  <a:lnTo>
                    <a:pt x="39" y="407"/>
                  </a:lnTo>
                  <a:lnTo>
                    <a:pt x="41" y="378"/>
                  </a:lnTo>
                  <a:lnTo>
                    <a:pt x="47" y="351"/>
                  </a:lnTo>
                  <a:lnTo>
                    <a:pt x="55" y="325"/>
                  </a:lnTo>
                  <a:lnTo>
                    <a:pt x="69" y="301"/>
                  </a:lnTo>
                  <a:lnTo>
                    <a:pt x="88" y="279"/>
                  </a:lnTo>
                  <a:lnTo>
                    <a:pt x="102" y="240"/>
                  </a:lnTo>
                  <a:lnTo>
                    <a:pt x="111" y="199"/>
                  </a:lnTo>
                  <a:lnTo>
                    <a:pt x="116" y="159"/>
                  </a:lnTo>
                  <a:lnTo>
                    <a:pt x="116" y="119"/>
                  </a:lnTo>
                  <a:lnTo>
                    <a:pt x="111" y="78"/>
                  </a:lnTo>
                  <a:lnTo>
                    <a:pt x="102" y="38"/>
                  </a:lnTo>
                  <a:lnTo>
                    <a:pt x="88" y="0"/>
                  </a:lnTo>
                  <a:lnTo>
                    <a:pt x="41" y="0"/>
                  </a:lnTo>
                  <a:lnTo>
                    <a:pt x="59" y="30"/>
                  </a:lnTo>
                  <a:lnTo>
                    <a:pt x="72" y="63"/>
                  </a:lnTo>
                  <a:lnTo>
                    <a:pt x="81" y="96"/>
                  </a:lnTo>
                  <a:lnTo>
                    <a:pt x="84" y="132"/>
                  </a:lnTo>
                  <a:lnTo>
                    <a:pt x="81" y="167"/>
                  </a:lnTo>
                  <a:lnTo>
                    <a:pt x="72" y="201"/>
                  </a:lnTo>
                  <a:lnTo>
                    <a:pt x="59" y="233"/>
                  </a:lnTo>
                  <a:lnTo>
                    <a:pt x="41" y="263"/>
                  </a:lnTo>
                  <a:lnTo>
                    <a:pt x="24" y="291"/>
                  </a:lnTo>
                  <a:lnTo>
                    <a:pt x="11" y="321"/>
                  </a:lnTo>
                  <a:lnTo>
                    <a:pt x="2" y="351"/>
                  </a:lnTo>
                  <a:lnTo>
                    <a:pt x="0" y="382"/>
                  </a:lnTo>
                  <a:lnTo>
                    <a:pt x="1" y="415"/>
                  </a:lnTo>
                  <a:lnTo>
                    <a:pt x="8" y="445"/>
                  </a:lnTo>
                  <a:lnTo>
                    <a:pt x="20" y="475"/>
                  </a:lnTo>
                  <a:lnTo>
                    <a:pt x="35" y="502"/>
                  </a:lnTo>
                  <a:lnTo>
                    <a:pt x="57" y="528"/>
                  </a:lnTo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12960" y="4726080"/>
              <a:ext cx="1222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模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MF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布线设计和管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构化布线标准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层次设计 的六个子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入口设备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干电缆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设备间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电信机柜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水平电缆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工作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5148360" y="1197000"/>
            <a:ext cx="1770120" cy="173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电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拙劣的电缆安装技术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题的出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遵循安装指南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些布线提示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780000" y="2349360"/>
            <a:ext cx="3619440" cy="24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选择正确的传输介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区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拐角和狭窄空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距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性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既存体系结构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展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5219640" y="1052640"/>
            <a:ext cx="2144880" cy="217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接口卡类型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接口卡必须与它的总线相匹配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工业标准结构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S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扩展的工业标准结构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I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外围部件互连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1760400" cy="12571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4788000" y="4365720"/>
            <a:ext cx="2492280" cy="1199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3276720" y="4581360"/>
            <a:ext cx="9810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接口卡类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MCI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可以用来连接网络接口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口型网络接口卡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4427640" y="3860640"/>
            <a:ext cx="2690640" cy="22482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2594160" cy="173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接口卡类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印机网络接口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用于以太网的各种网络接口卡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用于令牌环网的各种网络接口卡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5003640" y="2205000"/>
            <a:ext cx="2314800" cy="14842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5003640" y="3789360"/>
            <a:ext cx="2295720" cy="29336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5003640" y="1197000"/>
            <a:ext cx="3619800" cy="96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选择正确的网络接口卡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虑因素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介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器类型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输速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模型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微因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影响网络运行速度的因素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物理层的概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布线系统的相关知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电缆的相关技术及规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物理层相关产品，如网卡、集线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各生产厂家产品状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接口卡的特征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755640" y="1393920"/>
          <a:ext cx="7201080" cy="3979440"/>
        </p:xfrm>
        <a:graphic>
          <a:graphicData uri="http://schemas.openxmlformats.org/drawingml/2006/table">
            <a:tbl>
              <a:tblPr/>
              <a:tblGrid>
                <a:gridCol w="2060640"/>
                <a:gridCol w="3411360"/>
                <a:gridCol w="172908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网络接口卡的特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功能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好处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动选择速度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使网络接口卡自动检测并适应网络的运行速率和模式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全速或半速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以帮助配置系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网络接口卡上带有一片或多片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CPU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一些需要利用计算机的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CPU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才能进行的数据处理可以由板卡自己完成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高网络的运行质量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直接访问存储器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DMA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使板卡可以直接与计算机的内存进行数据传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高网络的运行质量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诊断用的发光二极管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网络接口卡上的灯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指示数据传输的堵塞状态和连接状态，有时指示数据传输速度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以帮助排除问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中继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继器属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S 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模型中的物理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输入端口和一个输出端口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适用于总线拓扑结构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本较低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大传输距离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1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集线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端口的中继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集线器的各个部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行链接端口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管理控制台端口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干网端口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用发光二极管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信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冲突检测用发光二极管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源 和风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选用适当的集线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虑因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本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规模和增长率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性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管理的便利性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靠性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字传输具有明显优于模拟传输的优越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网络的吞吐量、成本、尺寸和扩展性、连接器、抗噪性决定物理层的介质特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介绍几种网络使用的电缆，双绞线电缆成为当今主流的局域网布线用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布线设计和管理的介绍，我们系统地掌握了布线系统的层次设计思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在理论上了解了该如何进行线缆的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学会了从哪些方面可以帮助我们有效地选择正确的传输介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对网络接口卡的介绍我们掌握了网卡的种类、总线的区别、应用范围的确定，并能够正确地选择网络接口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工作在物理层的网络传输设备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继器、集线器有了足够的了结，并可以正确地选择传输设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并配置网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集线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制作网络线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小的局域网络的连接工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拓扑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042920" y="1341360"/>
          <a:ext cx="5905440" cy="41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341360"/>
                    <a:ext cx="5905440" cy="41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顺利安装网络接口卡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确配置网络接口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查看网络接口卡硬件属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确制作网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顺利完成集线器的安装并成功连接网络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重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理层的数据通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J4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线缆的制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布线设计与管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卡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与调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物理层的数据发送的方式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6240" y="1523520"/>
            <a:ext cx="448776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拟方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字方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80000" y="1700280"/>
            <a:ext cx="331308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模拟方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5880" y="1523520"/>
            <a:ext cx="35514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压产生连续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铁罐通讯的实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76360" y="2637000"/>
          <a:ext cx="5048280" cy="32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637000"/>
                    <a:ext cx="5048280" cy="32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字方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脉冲值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精确电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4360" y="2637000"/>
          <a:ext cx="655308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37000"/>
                    <a:ext cx="655308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模拟传输的缺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噪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静电干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衰减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继放大在模拟与数字传输之间的比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859280" y="3789360"/>
          <a:ext cx="381636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789360"/>
                    <a:ext cx="381636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3789360"/>
          <a:ext cx="4392360" cy="20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789360"/>
                    <a:ext cx="43923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物理层的介质特性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网络的吞吐量和带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本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尺寸和可扩展性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噪性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3280" y="3068640"/>
            <a:ext cx="2521080" cy="148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wei.gao</cp:lastModifiedBy>
  <dcterms:modified xsi:type="dcterms:W3CDTF">2004-04-21T07:28:16Z</dcterms:modified>
  <cp:revision>69</cp:revision>
  <dc:subject/>
  <dc:title>Understanding Basic HTML</dc:title>
</cp:coreProperties>
</file>