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57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53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11.wmf" ContentType="image/x-wmf"/>
  <Override PartName="/ppt/media/image50.png" ContentType="image/png"/>
  <Override PartName="/ppt/media/image29.jpeg" ContentType="image/jpeg"/>
  <Override PartName="/ppt/media/image10.jpeg" ContentType="image/jpeg"/>
  <Override PartName="/ppt/media/image41.png" ContentType="image/png"/>
  <Override PartName="/ppt/media/image45.png" ContentType="image/png"/>
  <Override PartName="/ppt/media/image33.jpeg" ContentType="image/jpeg"/>
  <Override PartName="/ppt/media/image46.png" ContentType="image/png"/>
  <Override PartName="/ppt/media/image48.png" ContentType="image/png"/>
  <Override PartName="/ppt/media/image37.jpeg" ContentType="image/jpeg"/>
  <Override PartName="/ppt/media/image12.jpeg" ContentType="image/jpeg"/>
  <Override PartName="/ppt/media/image13.png" ContentType="image/png"/>
  <Override PartName="/ppt/media/image49.png" ContentType="image/png"/>
  <Override PartName="/ppt/media/image51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0.wmf" ContentType="image/x-wmf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44.png" ContentType="image/png"/>
  <Override PartName="/ppt/media/image56.png" ContentType="image/png"/>
  <Override PartName="/ppt/media/image36.jpeg" ContentType="image/jpeg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3.png" ContentType="image/png"/>
  <Override PartName="/ppt/media/image26.png" ContentType="image/png"/>
  <Override PartName="/ppt/media/image7.jpeg" ContentType="image/jpeg"/>
  <Override PartName="/ppt/media/image3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58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DD80-3DD0-44E8-BE1B-B770D9C56684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Slide nu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9912-B26C-4F8F-8B28-99161F32697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Slide nu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image" Target="../media/image37.jpeg"/><Relationship Id="rId1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wmf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9718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宋体"/>
              </a:rPr>
              <a:t>以太网交换机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七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交换机的交换体系结构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共享内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403280" y="2139840"/>
            <a:ext cx="5761080" cy="424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交换机的交换体系结构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共享总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6551640" cy="30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交换机的交换体系结构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交叉点阵列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交换矩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5905440" cy="403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isco Catalyst 2950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产品介绍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7008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alyst 2950-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交换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----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/1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端口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042920" y="2428920"/>
            <a:ext cx="6193080" cy="303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isco Catalyst 2950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产品介绍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08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alyst 2950-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交换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----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/1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端口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6480360" cy="318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isco Catalyst 2950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产品介绍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7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alyst 2950T-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交换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----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/1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端口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条固定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BASE-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行链路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042920" y="2581200"/>
            <a:ext cx="6121440" cy="283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isco Catalyst 2950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产品介绍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0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alyst 2950-4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交换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----4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/1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端口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58920" y="2637000"/>
            <a:ext cx="6121440" cy="30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isco Catalyst 2950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产品介绍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供出色的网络可用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交换机的安全功能加强网络安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68360" y="2491920"/>
            <a:ext cx="6857640" cy="3311640"/>
            <a:chOff x="468360" y="2491920"/>
            <a:chExt cx="6857640" cy="331164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1841760" y="3089520"/>
              <a:ext cx="4139280" cy="220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2"/>
            <a:stretch/>
          </p:blipFill>
          <p:spPr>
            <a:xfrm flipH="1" rot="10800000">
              <a:off x="1961280" y="5359680"/>
              <a:ext cx="157608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3"/>
            <a:stretch/>
          </p:blipFill>
          <p:spPr>
            <a:xfrm flipH="1" rot="10800000">
              <a:off x="3513960" y="2491920"/>
              <a:ext cx="1082520" cy="3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4"/>
            <a:stretch/>
          </p:blipFill>
          <p:spPr>
            <a:xfrm flipH="1" rot="10800000">
              <a:off x="1364040" y="2611440"/>
              <a:ext cx="1439280" cy="4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5"/>
            <a:stretch/>
          </p:blipFill>
          <p:spPr>
            <a:xfrm>
              <a:off x="5902920" y="3388320"/>
              <a:ext cx="13932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6"/>
            <a:stretch/>
          </p:blipFill>
          <p:spPr>
            <a:xfrm>
              <a:off x="528120" y="4702680"/>
              <a:ext cx="1379520" cy="45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7"/>
            <a:stretch/>
          </p:blipFill>
          <p:spPr>
            <a:xfrm>
              <a:off x="3812760" y="5419440"/>
              <a:ext cx="1505160" cy="3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8"/>
            <a:stretch/>
          </p:blipFill>
          <p:spPr>
            <a:xfrm>
              <a:off x="5604480" y="5180400"/>
              <a:ext cx="1199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9"/>
            <a:stretch/>
          </p:blipFill>
          <p:spPr>
            <a:xfrm>
              <a:off x="5126400" y="2671200"/>
              <a:ext cx="13932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0"/>
            <a:stretch/>
          </p:blipFill>
          <p:spPr>
            <a:xfrm>
              <a:off x="6090840" y="4344120"/>
              <a:ext cx="123516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11"/>
            <a:stretch/>
          </p:blipFill>
          <p:spPr>
            <a:xfrm>
              <a:off x="468360" y="3686760"/>
              <a:ext cx="142308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isco Catalyst 2950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产品介绍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交换机的第二层服务质量功能进行网络控制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络可用性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11280" y="2924280"/>
            <a:ext cx="8089560" cy="2852280"/>
            <a:chOff x="611280" y="2924280"/>
            <a:chExt cx="8089560" cy="2852280"/>
          </a:xfrm>
        </p:grpSpPr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611280" y="2958840"/>
              <a:ext cx="2451600" cy="281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2"/>
            <a:stretch/>
          </p:blipFill>
          <p:spPr>
            <a:xfrm>
              <a:off x="1602000" y="2924280"/>
              <a:ext cx="7098840" cy="24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交换机的访问方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4826160" cy="161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以太网发展过程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几种主要的以太网标准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以太网帧结构及命名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以太网的连接及传输技术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以太网的全双工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以太网的流控概念及自动配置机制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交换机的启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7129440" cy="46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交换机的启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11280" y="1077840"/>
            <a:ext cx="7135560" cy="46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32000" y="62028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enable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命令进入特权执行模式</a:t>
            </a:r>
            <a:br>
              <a:rPr sz="3200"/>
            </a:b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conf t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命令进入配置模式 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0800" y="1278000"/>
            <a:ext cx="7207200" cy="474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交换机命名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71895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配置密码保护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69040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设置管理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地址 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718992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缺省网关及域名服务器地址的设置 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718992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版本信息的查看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264360" cy="53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配置清单的查看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408720" cy="470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出厂默认的恢复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se startup-config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132000" y="3357720"/>
            <a:ext cx="609840" cy="380880"/>
          </a:xfrm>
          <a:prstGeom prst="rightArrow">
            <a:avLst>
              <a:gd name="adj1" fmla="val 50000"/>
              <a:gd name="adj2" fmla="val 40028"/>
            </a:avLst>
          </a:prstGeom>
          <a:solidFill>
            <a:srgbClr val="ff0000"/>
          </a:solidFill>
          <a:ln w="284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3357720"/>
            <a:ext cx="2808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rase startup-conf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08360" y="3357720"/>
            <a:ext cx="11527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fi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32360" y="33577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0000"/>
          </a:solidFill>
          <a:ln w="284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51640" y="3357720"/>
            <a:ext cx="936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lo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以太网交换机技术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具体型号的交换机特性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sco Catalyst 29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交换机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交换机的基本操作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会交换机的基本维护方法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配置端口描述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6049800" cy="22921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332000" y="3429000"/>
            <a:ext cx="6048360" cy="24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端口双工模式的配置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391520" cy="242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MAC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地址表超时时间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391520" cy="361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查看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MAC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地址表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62940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使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D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协议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7093080" cy="2457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042920" y="3573360"/>
            <a:ext cx="7058160" cy="244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密码恢复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8360" y="1700280"/>
            <a:ext cx="647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关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258920" y="1413000"/>
            <a:ext cx="2736720" cy="668160"/>
            <a:chOff x="1258920" y="1413000"/>
            <a:chExt cx="2736720" cy="668160"/>
          </a:xfrm>
        </p:grpSpPr>
        <p:sp>
          <p:nvSpPr>
            <p:cNvPr id="250" name=""/>
            <p:cNvSpPr/>
            <p:nvPr/>
          </p:nvSpPr>
          <p:spPr>
            <a:xfrm>
              <a:off x="1258920" y="1700280"/>
              <a:ext cx="609480" cy="380880"/>
            </a:xfrm>
            <a:prstGeom prst="rightArrow">
              <a:avLst>
                <a:gd name="adj1" fmla="val 50000"/>
                <a:gd name="adj2" fmla="val 40005"/>
              </a:avLst>
            </a:prstGeom>
            <a:solidFill>
              <a:srgbClr val="ff0000"/>
            </a:solidFill>
            <a:ln w="284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79640" y="1413000"/>
              <a:ext cx="201600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按住交换机“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E”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，同时开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140360" y="1557360"/>
            <a:ext cx="2374920" cy="613080"/>
            <a:chOff x="4140360" y="1557360"/>
            <a:chExt cx="2374920" cy="613080"/>
          </a:xfrm>
        </p:grpSpPr>
        <p:sp>
          <p:nvSpPr>
            <p:cNvPr id="253" name=""/>
            <p:cNvSpPr/>
            <p:nvPr/>
          </p:nvSpPr>
          <p:spPr>
            <a:xfrm>
              <a:off x="4140360" y="1700280"/>
              <a:ext cx="609480" cy="380880"/>
            </a:xfrm>
            <a:prstGeom prst="rightArrow">
              <a:avLst>
                <a:gd name="adj1" fmla="val 50000"/>
                <a:gd name="adj2" fmla="val 40005"/>
              </a:avLst>
            </a:prstGeom>
            <a:solidFill>
              <a:srgbClr val="ff0000"/>
            </a:solidFill>
            <a:ln w="284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03640" y="1557360"/>
              <a:ext cx="151164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松开“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E”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键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427640" y="2276640"/>
            <a:ext cx="2917440" cy="761760"/>
            <a:chOff x="4427640" y="2276640"/>
            <a:chExt cx="2917440" cy="761760"/>
          </a:xfrm>
        </p:grpSpPr>
        <p:sp>
          <p:nvSpPr>
            <p:cNvPr id="256" name=""/>
            <p:cNvSpPr/>
            <p:nvPr/>
          </p:nvSpPr>
          <p:spPr>
            <a:xfrm rot="10800000">
              <a:off x="6659280" y="2276640"/>
              <a:ext cx="685800" cy="76176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885" stAng="10800000" swAng="5400000"/>
                  <a:lnTo>
                    <a:pt x="14850" y="4275"/>
                  </a:lnTo>
                  <a:lnTo>
                    <a:pt x="14850" y="0"/>
                  </a:lnTo>
                  <a:lnTo>
                    <a:pt x="21600" y="6079"/>
                  </a:lnTo>
                  <a:lnTo>
                    <a:pt x="14850" y="12158"/>
                  </a:lnTo>
                  <a:lnTo>
                    <a:pt x="14850" y="7883"/>
                  </a:lnTo>
                  <a:lnTo>
                    <a:pt x="12427" y="7883"/>
                  </a:lnTo>
                  <a:arcTo wR="8819" hR="4277" stAng="16200000" swAng="-5400000"/>
                  <a:lnTo>
                    <a:pt x="3608" y="216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27640" y="2636280"/>
              <a:ext cx="21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执行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flash_init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命令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68360" y="2491920"/>
            <a:ext cx="3920760" cy="642600"/>
            <a:chOff x="468360" y="2491920"/>
            <a:chExt cx="3920760" cy="642600"/>
          </a:xfrm>
        </p:grpSpPr>
        <p:sp>
          <p:nvSpPr>
            <p:cNvPr id="259" name=""/>
            <p:cNvSpPr/>
            <p:nvPr/>
          </p:nvSpPr>
          <p:spPr>
            <a:xfrm rot="10800000">
              <a:off x="3779640" y="2637000"/>
              <a:ext cx="609480" cy="380880"/>
            </a:xfrm>
            <a:prstGeom prst="rightArrow">
              <a:avLst>
                <a:gd name="adj1" fmla="val 50000"/>
                <a:gd name="adj2" fmla="val 40005"/>
              </a:avLst>
            </a:prstGeom>
            <a:solidFill>
              <a:srgbClr val="ff0000"/>
            </a:solidFill>
            <a:ln w="284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8360" y="2491920"/>
              <a:ext cx="316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把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flash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里的 “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nfig.text”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文件改名为“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nfig.old”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文件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394560" y="3357720"/>
            <a:ext cx="2593080" cy="857880"/>
            <a:chOff x="394560" y="3357720"/>
            <a:chExt cx="2593080" cy="857880"/>
          </a:xfrm>
        </p:grpSpPr>
        <p:sp>
          <p:nvSpPr>
            <p:cNvPr id="262" name=""/>
            <p:cNvSpPr/>
            <p:nvPr/>
          </p:nvSpPr>
          <p:spPr>
            <a:xfrm flipH="1" rot="10800000">
              <a:off x="394200" y="3357720"/>
              <a:ext cx="754200" cy="761760"/>
            </a:xfrm>
            <a:custGeom>
              <a:avLst/>
              <a:gdLst>
                <a:gd name="textAreaLeft" fmla="*/ -360 w 754200"/>
                <a:gd name="textAreaRight" fmla="*/ 754200 w 7542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885" stAng="10800000" swAng="5400000"/>
                  <a:lnTo>
                    <a:pt x="14850" y="4275"/>
                  </a:lnTo>
                  <a:lnTo>
                    <a:pt x="14850" y="0"/>
                  </a:lnTo>
                  <a:lnTo>
                    <a:pt x="21600" y="6079"/>
                  </a:lnTo>
                  <a:lnTo>
                    <a:pt x="14850" y="12158"/>
                  </a:lnTo>
                  <a:lnTo>
                    <a:pt x="14850" y="7883"/>
                  </a:lnTo>
                  <a:lnTo>
                    <a:pt x="12427" y="7883"/>
                  </a:lnTo>
                  <a:arcTo wR="8819" hR="4277" stAng="16200000" swAng="-5400000"/>
                  <a:lnTo>
                    <a:pt x="3608" y="216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58920" y="3573000"/>
              <a:ext cx="172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执行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t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命令启动交换机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3203640" y="3573000"/>
            <a:ext cx="3814560" cy="642600"/>
            <a:chOff x="3203640" y="3573000"/>
            <a:chExt cx="3814560" cy="642600"/>
          </a:xfrm>
        </p:grpSpPr>
        <p:sp>
          <p:nvSpPr>
            <p:cNvPr id="265" name=""/>
            <p:cNvSpPr/>
            <p:nvPr/>
          </p:nvSpPr>
          <p:spPr>
            <a:xfrm>
              <a:off x="3203640" y="3716280"/>
              <a:ext cx="609480" cy="380880"/>
            </a:xfrm>
            <a:prstGeom prst="rightArrow">
              <a:avLst>
                <a:gd name="adj1" fmla="val 50000"/>
                <a:gd name="adj2" fmla="val 40005"/>
              </a:avLst>
            </a:prstGeom>
            <a:solidFill>
              <a:srgbClr val="ff0000"/>
            </a:solidFill>
            <a:ln w="284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51280" y="3573000"/>
              <a:ext cx="316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把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flash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里的 “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nfig.old”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文件改回为 “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nfig.text”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文件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851280" y="4365720"/>
            <a:ext cx="3493800" cy="857880"/>
            <a:chOff x="3851280" y="4365720"/>
            <a:chExt cx="3493800" cy="857880"/>
          </a:xfrm>
        </p:grpSpPr>
        <p:sp>
          <p:nvSpPr>
            <p:cNvPr id="268" name=""/>
            <p:cNvSpPr/>
            <p:nvPr/>
          </p:nvSpPr>
          <p:spPr>
            <a:xfrm>
              <a:off x="3851280" y="4581000"/>
              <a:ext cx="28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把“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nfig.text”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考入系统的“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unning-config”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6659280" y="4365720"/>
              <a:ext cx="685800" cy="76176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885" stAng="10800000" swAng="5400000"/>
                  <a:lnTo>
                    <a:pt x="14850" y="4275"/>
                  </a:lnTo>
                  <a:lnTo>
                    <a:pt x="14850" y="0"/>
                  </a:lnTo>
                  <a:lnTo>
                    <a:pt x="21600" y="6079"/>
                  </a:lnTo>
                  <a:lnTo>
                    <a:pt x="14850" y="12158"/>
                  </a:lnTo>
                  <a:lnTo>
                    <a:pt x="14850" y="7883"/>
                  </a:lnTo>
                  <a:lnTo>
                    <a:pt x="12427" y="7883"/>
                  </a:lnTo>
                  <a:arcTo wR="8819" hR="4277" stAng="16200000" swAng="-5400000"/>
                  <a:lnTo>
                    <a:pt x="3608" y="216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39640" y="4652280"/>
            <a:ext cx="3057120" cy="642600"/>
            <a:chOff x="539640" y="4652280"/>
            <a:chExt cx="3057120" cy="642600"/>
          </a:xfrm>
        </p:grpSpPr>
        <p:sp>
          <p:nvSpPr>
            <p:cNvPr id="271" name=""/>
            <p:cNvSpPr/>
            <p:nvPr/>
          </p:nvSpPr>
          <p:spPr>
            <a:xfrm rot="10800000">
              <a:off x="2987280" y="4723920"/>
              <a:ext cx="609480" cy="381240"/>
            </a:xfrm>
            <a:prstGeom prst="rightArrow">
              <a:avLst>
                <a:gd name="adj1" fmla="val 50000"/>
                <a:gd name="adj2" fmla="val 39967"/>
              </a:avLst>
            </a:prstGeom>
            <a:solidFill>
              <a:srgbClr val="ff0000"/>
            </a:solidFill>
            <a:ln w="284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9640" y="465228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加入配置模式重新设置密码并存盘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了以太网交换机的内部交换技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了具体型号的交换机特性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sco Catalyst 29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会了对交换机的基本配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会了对交换机的基本维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195640" y="1268280"/>
          <a:ext cx="4084560" cy="53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268280"/>
                    <a:ext cx="408456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效的访问控制交换机设备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简单配置交换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查看交换机的各种参数及状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会察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协议状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进行交换机密码的恢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重点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交换机的基本操作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交换机的基本维护方法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交换机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-LAN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主要组成部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547640" y="1628640"/>
            <a:ext cx="5562360" cy="3276720"/>
            <a:chOff x="1547640" y="1628640"/>
            <a:chExt cx="5562360" cy="327672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1903680" y="1628640"/>
              <a:ext cx="4499280" cy="3276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" name=""/>
            <p:cNvGrpSpPr/>
            <p:nvPr/>
          </p:nvGrpSpPr>
          <p:grpSpPr>
            <a:xfrm>
              <a:off x="1547640" y="3258000"/>
              <a:ext cx="1618560" cy="1058040"/>
              <a:chOff x="1547640" y="3258000"/>
              <a:chExt cx="1618560" cy="1058040"/>
            </a:xfrm>
          </p:grpSpPr>
          <p:pic>
            <p:nvPicPr>
              <p:cNvPr id="10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47640" y="3258000"/>
                <a:ext cx="1618560" cy="105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790280" y="3363840"/>
                <a:ext cx="939600" cy="84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" name=""/>
            <p:cNvGrpSpPr/>
            <p:nvPr/>
          </p:nvGrpSpPr>
          <p:grpSpPr>
            <a:xfrm>
              <a:off x="5793840" y="1669320"/>
              <a:ext cx="1267920" cy="810000"/>
              <a:chOff x="5793840" y="1669320"/>
              <a:chExt cx="1267920" cy="81000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5956560" y="1857960"/>
                <a:ext cx="662040" cy="486000"/>
                <a:chOff x="5956560" y="1857960"/>
                <a:chExt cx="662040" cy="486000"/>
              </a:xfrm>
            </p:grpSpPr>
            <p:pic>
              <p:nvPicPr>
                <p:cNvPr id="10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956560" y="1857960"/>
                  <a:ext cx="662040" cy="48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454800" y="2084040"/>
                  <a:ext cx="127800" cy="90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6" name=""/>
              <p:cNvSpPr/>
              <p:nvPr/>
            </p:nvSpPr>
            <p:spPr>
              <a:xfrm>
                <a:off x="5793840" y="1669320"/>
                <a:ext cx="1267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918040" y="2319840"/>
                <a:ext cx="259920" cy="159480"/>
              </a:xfrm>
              <a:prstGeom prst="line">
                <a:avLst/>
              </a:prstGeom>
              <a:ln w="1908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5839560" y="2521080"/>
              <a:ext cx="1270440" cy="843480"/>
              <a:chOff x="5839560" y="2521080"/>
              <a:chExt cx="1270440" cy="843480"/>
            </a:xfrm>
          </p:grpSpPr>
          <p:pic>
            <p:nvPicPr>
              <p:cNvPr id="10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324840" y="2521080"/>
                <a:ext cx="702000" cy="57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5839560" y="3060360"/>
                <a:ext cx="1270440" cy="30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963400" y="2608200"/>
                <a:ext cx="309240" cy="110880"/>
              </a:xfrm>
              <a:prstGeom prst="line">
                <a:avLst/>
              </a:prstGeom>
              <a:ln w="1908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 flipH="1" flipV="1" rot="6932400">
              <a:off x="3598560" y="2473560"/>
              <a:ext cx="1066320" cy="1078920"/>
            </a:xfrm>
            <a:custGeom>
              <a:avLst/>
              <a:gdLst/>
              <a:ahLst/>
              <a:rect l="l" t="t" r="r" b="b"/>
              <a:pathLst>
                <a:path w="747" h="269">
                  <a:moveTo>
                    <a:pt x="0" y="0"/>
                  </a:moveTo>
                  <a:lnTo>
                    <a:pt x="120" y="0"/>
                  </a:lnTo>
                  <a:lnTo>
                    <a:pt x="100" y="28"/>
                  </a:lnTo>
                  <a:lnTo>
                    <a:pt x="120" y="56"/>
                  </a:lnTo>
                  <a:lnTo>
                    <a:pt x="140" y="76"/>
                  </a:lnTo>
                  <a:lnTo>
                    <a:pt x="152" y="88"/>
                  </a:lnTo>
                  <a:lnTo>
                    <a:pt x="170" y="99"/>
                  </a:lnTo>
                  <a:lnTo>
                    <a:pt x="196" y="112"/>
                  </a:lnTo>
                  <a:lnTo>
                    <a:pt x="224" y="126"/>
                  </a:lnTo>
                  <a:lnTo>
                    <a:pt x="253" y="138"/>
                  </a:lnTo>
                  <a:lnTo>
                    <a:pt x="281" y="148"/>
                  </a:lnTo>
                  <a:lnTo>
                    <a:pt x="311" y="159"/>
                  </a:lnTo>
                  <a:lnTo>
                    <a:pt x="338" y="168"/>
                  </a:lnTo>
                  <a:lnTo>
                    <a:pt x="367" y="177"/>
                  </a:lnTo>
                  <a:lnTo>
                    <a:pt x="389" y="184"/>
                  </a:lnTo>
                  <a:lnTo>
                    <a:pt x="413" y="192"/>
                  </a:lnTo>
                  <a:lnTo>
                    <a:pt x="445" y="201"/>
                  </a:lnTo>
                  <a:lnTo>
                    <a:pt x="478" y="210"/>
                  </a:lnTo>
                  <a:lnTo>
                    <a:pt x="502" y="217"/>
                  </a:lnTo>
                  <a:lnTo>
                    <a:pt x="528" y="223"/>
                  </a:lnTo>
                  <a:lnTo>
                    <a:pt x="556" y="231"/>
                  </a:lnTo>
                  <a:lnTo>
                    <a:pt x="585" y="240"/>
                  </a:lnTo>
                  <a:lnTo>
                    <a:pt x="619" y="246"/>
                  </a:lnTo>
                  <a:lnTo>
                    <a:pt x="645" y="254"/>
                  </a:lnTo>
                  <a:lnTo>
                    <a:pt x="675" y="259"/>
                  </a:lnTo>
                  <a:lnTo>
                    <a:pt x="700" y="261"/>
                  </a:lnTo>
                  <a:lnTo>
                    <a:pt x="721" y="265"/>
                  </a:lnTo>
                  <a:lnTo>
                    <a:pt x="747" y="265"/>
                  </a:lnTo>
                  <a:lnTo>
                    <a:pt x="727" y="267"/>
                  </a:lnTo>
                  <a:lnTo>
                    <a:pt x="704" y="269"/>
                  </a:lnTo>
                  <a:lnTo>
                    <a:pt x="677" y="269"/>
                  </a:lnTo>
                  <a:lnTo>
                    <a:pt x="648" y="267"/>
                  </a:lnTo>
                  <a:lnTo>
                    <a:pt x="616" y="265"/>
                  </a:lnTo>
                  <a:lnTo>
                    <a:pt x="583" y="265"/>
                  </a:lnTo>
                  <a:lnTo>
                    <a:pt x="553" y="263"/>
                  </a:lnTo>
                  <a:lnTo>
                    <a:pt x="524" y="261"/>
                  </a:lnTo>
                  <a:lnTo>
                    <a:pt x="493" y="259"/>
                  </a:lnTo>
                  <a:lnTo>
                    <a:pt x="464" y="256"/>
                  </a:lnTo>
                  <a:lnTo>
                    <a:pt x="436" y="253"/>
                  </a:lnTo>
                  <a:lnTo>
                    <a:pt x="404" y="250"/>
                  </a:lnTo>
                  <a:lnTo>
                    <a:pt x="374" y="246"/>
                  </a:lnTo>
                  <a:lnTo>
                    <a:pt x="344" y="242"/>
                  </a:lnTo>
                  <a:lnTo>
                    <a:pt x="314" y="237"/>
                  </a:lnTo>
                  <a:lnTo>
                    <a:pt x="284" y="231"/>
                  </a:lnTo>
                  <a:lnTo>
                    <a:pt x="259" y="225"/>
                  </a:lnTo>
                  <a:lnTo>
                    <a:pt x="232" y="220"/>
                  </a:lnTo>
                  <a:lnTo>
                    <a:pt x="206" y="212"/>
                  </a:lnTo>
                  <a:lnTo>
                    <a:pt x="179" y="205"/>
                  </a:lnTo>
                  <a:lnTo>
                    <a:pt x="152" y="195"/>
                  </a:lnTo>
                  <a:lnTo>
                    <a:pt x="126" y="182"/>
                  </a:lnTo>
                  <a:lnTo>
                    <a:pt x="103" y="166"/>
                  </a:lnTo>
                  <a:lnTo>
                    <a:pt x="85" y="154"/>
                  </a:lnTo>
                  <a:lnTo>
                    <a:pt x="67" y="136"/>
                  </a:lnTo>
                  <a:lnTo>
                    <a:pt x="52" y="120"/>
                  </a:lnTo>
                  <a:lnTo>
                    <a:pt x="32" y="100"/>
                  </a:lnTo>
                  <a:lnTo>
                    <a:pt x="4" y="1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7"/>
            <a:stretch/>
          </p:blipFill>
          <p:spPr>
            <a:xfrm>
              <a:off x="1562040" y="2280600"/>
              <a:ext cx="9054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8"/>
            <a:stretch/>
          </p:blipFill>
          <p:spPr>
            <a:xfrm>
              <a:off x="2358000" y="2231280"/>
              <a:ext cx="1013760" cy="81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局域网交换机协议流程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9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68360" y="907920"/>
          <a:ext cx="4524480" cy="589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907920"/>
                    <a:ext cx="4524480" cy="58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交换机内部交换方式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288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存储转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0800000">
            <a:off x="3563640" y="2637000"/>
            <a:ext cx="685800" cy="761760"/>
          </a:xfrm>
          <a:custGeom>
            <a:avLst/>
            <a:gdLst>
              <a:gd name="textAreaLeft" fmla="*/ 0 w 685800"/>
              <a:gd name="textAreaRight" fmla="*/ 686160 w 6858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4850" y="4275"/>
                </a:lnTo>
                <a:lnTo>
                  <a:pt x="14850" y="0"/>
                </a:lnTo>
                <a:lnTo>
                  <a:pt x="21600" y="6079"/>
                </a:lnTo>
                <a:lnTo>
                  <a:pt x="14850" y="12158"/>
                </a:lnTo>
                <a:lnTo>
                  <a:pt x="14850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3672000" y="4686840"/>
            <a:ext cx="687600" cy="762120"/>
          </a:xfrm>
          <a:custGeom>
            <a:avLst/>
            <a:gdLst>
              <a:gd name="textAreaLeft" fmla="*/ 0 w 687600"/>
              <a:gd name="textAreaRight" fmla="*/ 687600 w 6876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4850" y="4275"/>
                </a:lnTo>
                <a:lnTo>
                  <a:pt x="14850" y="0"/>
                </a:lnTo>
                <a:lnTo>
                  <a:pt x="21600" y="6079"/>
                </a:lnTo>
                <a:lnTo>
                  <a:pt x="14850" y="12158"/>
                </a:lnTo>
                <a:lnTo>
                  <a:pt x="14850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576520" y="1916280"/>
            <a:ext cx="4227480" cy="4419360"/>
            <a:chOff x="2576520" y="1916280"/>
            <a:chExt cx="4227480" cy="441936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4716360" y="2421000"/>
              <a:ext cx="181080" cy="316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4067280" y="1916280"/>
              <a:ext cx="144144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379760" y="3571920"/>
              <a:ext cx="797040" cy="85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76520" y="3495600"/>
              <a:ext cx="4227480" cy="1013040"/>
            </a:xfrm>
            <a:prstGeom prst="rect">
              <a:avLst/>
            </a:prstGeom>
            <a:gradFill rotWithShape="0">
              <a:gsLst>
                <a:gs pos="0">
                  <a:srgbClr val="214386"/>
                </a:gs>
                <a:gs pos="50000">
                  <a:srgbClr val="3366cc"/>
                </a:gs>
                <a:gs pos="100000">
                  <a:srgbClr val="214386"/>
                </a:gs>
              </a:gsLst>
              <a:lin ang="135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2871720" y="3817800"/>
              <a:ext cx="1554120" cy="45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4"/>
            <a:stretch/>
          </p:blipFill>
          <p:spPr>
            <a:xfrm>
              <a:off x="2673360" y="3632040"/>
              <a:ext cx="8920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2861280" y="3986280"/>
              <a:ext cx="439920" cy="28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  <a:ea typeface="宋体"/>
                </a:rPr>
                <a:t>缓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 Narrow"/>
                  <a:ea typeface="宋体"/>
                </a:rPr>
                <a:t>存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30240" y="3871800"/>
              <a:ext cx="53136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交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换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5"/>
            <a:stretch/>
          </p:blipFill>
          <p:spPr>
            <a:xfrm>
              <a:off x="4211640" y="3357720"/>
              <a:ext cx="1270080" cy="12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6"/>
            <a:stretch/>
          </p:blipFill>
          <p:spPr>
            <a:xfrm>
              <a:off x="4067280" y="5373720"/>
              <a:ext cx="136188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480560" y="2133360"/>
              <a:ext cx="43992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 Narrow"/>
                  <a:ea typeface="宋体"/>
                </a:rPr>
                <a:t>发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80560" y="5660640"/>
              <a:ext cx="43992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 Narrow"/>
                  <a:ea typeface="宋体"/>
                </a:rPr>
                <a:t>接</a:t>
              </a:r>
              <a:r>
                <a:rPr b="1" lang="zh-CN" sz="1800" spc="-1" strike="noStrike">
                  <a:solidFill>
                    <a:srgbClr val="1c1c1c"/>
                  </a:solidFill>
                  <a:latin typeface="Arial Narrow"/>
                  <a:ea typeface="宋体"/>
                </a:rPr>
                <a:t>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51640" y="3789000"/>
              <a:ext cx="79200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CS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校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交换机内部交换方式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快速转发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067280" y="1916280"/>
            <a:ext cx="1441440" cy="4419360"/>
            <a:chOff x="4067280" y="1916280"/>
            <a:chExt cx="1441440" cy="441936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4716360" y="2421000"/>
              <a:ext cx="181080" cy="316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4067280" y="1916280"/>
              <a:ext cx="144144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4379760" y="3571920"/>
              <a:ext cx="797040" cy="85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30240" y="3871800"/>
              <a:ext cx="53136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交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换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3"/>
            <a:stretch/>
          </p:blipFill>
          <p:spPr>
            <a:xfrm>
              <a:off x="4211640" y="3357720"/>
              <a:ext cx="1270080" cy="12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4"/>
            <a:stretch/>
          </p:blipFill>
          <p:spPr>
            <a:xfrm>
              <a:off x="4067280" y="5373720"/>
              <a:ext cx="136188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480560" y="2133360"/>
              <a:ext cx="43992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 Narrow"/>
                  <a:ea typeface="宋体"/>
                </a:rPr>
                <a:t>发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80560" y="5660640"/>
              <a:ext cx="43992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 Narrow"/>
                  <a:ea typeface="宋体"/>
                </a:rPr>
                <a:t>接</a:t>
              </a:r>
              <a:r>
                <a:rPr b="1" lang="zh-CN" sz="1800" spc="-1" strike="noStrike">
                  <a:solidFill>
                    <a:srgbClr val="1c1c1c"/>
                  </a:solidFill>
                  <a:latin typeface="Arial Narrow"/>
                  <a:ea typeface="宋体"/>
                </a:rPr>
                <a:t>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882880" y="3068640"/>
            <a:ext cx="1062000" cy="2089080"/>
            <a:chOff x="2882880" y="3068640"/>
            <a:chExt cx="1062000" cy="2089080"/>
          </a:xfrm>
        </p:grpSpPr>
        <p:sp>
          <p:nvSpPr>
            <p:cNvPr id="150" name=""/>
            <p:cNvSpPr/>
            <p:nvPr/>
          </p:nvSpPr>
          <p:spPr>
            <a:xfrm rot="5400000">
              <a:off x="2817720" y="4030560"/>
              <a:ext cx="2089080" cy="164880"/>
            </a:xfrm>
            <a:prstGeom prst="rightArrow">
              <a:avLst>
                <a:gd name="adj1" fmla="val 50000"/>
                <a:gd name="adj2" fmla="val 316758"/>
              </a:avLst>
            </a:prstGeom>
            <a:solidFill>
              <a:srgbClr val="ff0000"/>
            </a:solidFill>
            <a:ln w="284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82880" y="3789000"/>
              <a:ext cx="71424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c1c1c"/>
                  </a:solidFill>
                  <a:latin typeface="Arial Narrow"/>
                  <a:ea typeface="宋体"/>
                </a:rPr>
                <a:t>直接发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交换机内部交换方式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段过滤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gment Fre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843280" y="2133720"/>
            <a:ext cx="2520720" cy="4419360"/>
            <a:chOff x="2843280" y="2133720"/>
            <a:chExt cx="2520720" cy="4419360"/>
          </a:xfrm>
        </p:grpSpPr>
        <p:sp>
          <p:nvSpPr>
            <p:cNvPr id="155" name=""/>
            <p:cNvSpPr/>
            <p:nvPr/>
          </p:nvSpPr>
          <p:spPr>
            <a:xfrm>
              <a:off x="2843280" y="3645000"/>
              <a:ext cx="2520720" cy="1038240"/>
            </a:xfrm>
            <a:prstGeom prst="rect">
              <a:avLst/>
            </a:prstGeom>
            <a:gradFill rotWithShape="0">
              <a:gsLst>
                <a:gs pos="0">
                  <a:srgbClr val="214386"/>
                </a:gs>
                <a:gs pos="50000">
                  <a:srgbClr val="3366cc"/>
                </a:gs>
                <a:gs pos="100000">
                  <a:srgbClr val="214386"/>
                </a:gs>
              </a:gsLst>
              <a:lin ang="135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4429080" y="2638440"/>
              <a:ext cx="181080" cy="316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3780000" y="2133720"/>
              <a:ext cx="144144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4092480" y="3789360"/>
              <a:ext cx="797040" cy="85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42960" y="4089240"/>
              <a:ext cx="53136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交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换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>
              <a:off x="3924360" y="3575160"/>
              <a:ext cx="1270080" cy="12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3780000" y="5591160"/>
              <a:ext cx="136188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4193280" y="2350800"/>
              <a:ext cx="43992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 Narrow"/>
                  <a:ea typeface="宋体"/>
                </a:rPr>
                <a:t>发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93280" y="5878080"/>
              <a:ext cx="43992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 Narrow"/>
                  <a:ea typeface="宋体"/>
                </a:rPr>
                <a:t>接</a:t>
              </a:r>
              <a:r>
                <a:rPr b="1" lang="zh-CN" sz="1800" spc="-1" strike="noStrike">
                  <a:solidFill>
                    <a:srgbClr val="1c1c1c"/>
                  </a:solidFill>
                  <a:latin typeface="Arial Narrow"/>
                  <a:ea typeface="宋体"/>
                </a:rPr>
                <a:t>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59280" y="4033440"/>
              <a:ext cx="7920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冲突检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423080" y="3141720"/>
            <a:ext cx="1153440" cy="2233080"/>
            <a:chOff x="1423080" y="3141720"/>
            <a:chExt cx="1153440" cy="2233080"/>
          </a:xfrm>
        </p:grpSpPr>
        <p:sp>
          <p:nvSpPr>
            <p:cNvPr id="166" name=""/>
            <p:cNvSpPr/>
            <p:nvPr/>
          </p:nvSpPr>
          <p:spPr>
            <a:xfrm rot="5400000">
              <a:off x="1377360" y="4175640"/>
              <a:ext cx="2233080" cy="164880"/>
            </a:xfrm>
            <a:prstGeom prst="rightArrow">
              <a:avLst>
                <a:gd name="adj1" fmla="val 50000"/>
                <a:gd name="adj2" fmla="val 338592"/>
              </a:avLst>
            </a:prstGeom>
            <a:solidFill>
              <a:srgbClr val="ff0000"/>
            </a:solidFill>
            <a:ln w="284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3080" y="3812400"/>
              <a:ext cx="89388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c1c1c"/>
                  </a:solidFill>
                  <a:latin typeface="Arial Narrow"/>
                  <a:ea typeface="宋体"/>
                </a:rPr>
                <a:t>收到</a:t>
              </a:r>
              <a:r>
                <a:rPr b="1" lang="en-US" sz="1800" spc="-1" strike="noStrike">
                  <a:solidFill>
                    <a:srgbClr val="1c1c1c"/>
                  </a:solidFill>
                  <a:latin typeface="Arial Narrow"/>
                  <a:ea typeface="宋体"/>
                </a:rPr>
                <a:t>64</a:t>
              </a:r>
              <a:r>
                <a:rPr b="1" lang="zh-CN" sz="1800" spc="-1" strike="noStrike">
                  <a:solidFill>
                    <a:srgbClr val="1c1c1c"/>
                  </a:solidFill>
                  <a:latin typeface="Arial Narrow"/>
                  <a:ea typeface="宋体"/>
                </a:rPr>
                <a:t>字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c1c1c"/>
                  </a:solidFill>
                  <a:latin typeface="Arial Narrow"/>
                  <a:ea typeface="宋体"/>
                </a:rPr>
                <a:t>节后</a:t>
              </a:r>
              <a:r>
                <a:rPr b="1" lang="en-US" sz="1800" spc="-1" strike="noStrike">
                  <a:solidFill>
                    <a:srgbClr val="1c1c1c"/>
                  </a:solidFill>
                  <a:latin typeface="Arial Narrow"/>
                  <a:ea typeface="宋体"/>
                </a:rPr>
                <a:t>发</a:t>
              </a:r>
              <a:r>
                <a:rPr b="1" lang="zh-CN" sz="1800" spc="-1" strike="noStrike">
                  <a:solidFill>
                    <a:srgbClr val="1c1c1c"/>
                  </a:solidFill>
                  <a:latin typeface="Arial Narrow"/>
                  <a:ea typeface="宋体"/>
                </a:rPr>
                <a:t>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1:58:20Z</dcterms:created>
  <dc:creator>wei.gao</dc:creator>
  <dc:description/>
  <dc:language>en-US</dc:language>
  <cp:lastModifiedBy>yanzhou.tian</cp:lastModifiedBy>
  <dcterms:modified xsi:type="dcterms:W3CDTF">2004-03-05T08:47:15Z</dcterms:modified>
  <cp:revision>85</cp:revision>
  <dc:subject/>
  <dc:title>Understanding Basic HTML</dc:title>
</cp:coreProperties>
</file>