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8.wmf" ContentType="image/x-wmf"/>
  <Override PartName="/ppt/media/image5.jpeg" ContentType="image/jpeg"/>
  <Override PartName="/ppt/media/image20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12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27.png" ContentType="image/png"/>
  <Override PartName="/ppt/media/image30.wmf" ContentType="image/x-wmf"/>
  <Override PartName="/ppt/media/image14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EA84-1692-4834-8ED6-2FFF7699F960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A17-B584-44BC-813A-1E5A53AA255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230D-9A12-49DB-B5A3-25EC232DB81C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389E-39E8-41F0-A8AE-19AE88983974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7557-A1AB-4C57-8E38-7DF983C4615B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C9F7-6A3E-48E9-900F-1D1DA08AE5D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0CA6-AF58-49A3-A3BA-BDF2C60FDEF1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73B9-4AE0-4E27-90FC-7002A90342AC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73A-155F-4615-BA6E-A982D3427F86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D2A4-7E9B-4895-A1D0-73EDD2C163A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807E-9F02-4EFD-B52C-5AC9D6E2E2F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8CD7-6FEB-4DB9-A7E9-DF53B46E5AE1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5127-DD54-4B42-AA3E-6D454A878AF2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0DE-E137-478A-AD04-664222665FA1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531360" y="4589640"/>
            <a:ext cx="57927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538200" y="20484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218-7F55-4E89-99AF-CA27E0E2F748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01600" y="299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23D0-9D6E-48D2-8941-9B2F41EB70F1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01600" y="299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68656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Courier New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399E-39C8-4E57-B265-140F48C3DA72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03400" y="3016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523800" y="4052880"/>
            <a:ext cx="58356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2AE4-C4F1-4F74-85D5-ED026FC4AC0D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03400" y="3016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523800" y="4052880"/>
            <a:ext cx="58356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lid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5211-5B45-4A85-8151-BE6109B1316D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089000" y="30636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C39-936A-4003-8851-A27C3B459BAD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089000" y="30636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F9A4-7F07-45B1-8738-05F01D53AB0D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241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E8E7-D21E-41CB-B206-9EBF9D9797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7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69A1-74AA-47BF-AE6B-DFACF19D8EE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0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0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计算机网络层协议与设备应用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八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06280" y="1268280"/>
            <a:ext cx="8686800" cy="4924440"/>
            <a:chOff x="206280" y="1268280"/>
            <a:chExt cx="8686800" cy="4924440"/>
          </a:xfrm>
        </p:grpSpPr>
        <p:sp>
          <p:nvSpPr>
            <p:cNvPr id="450" name=""/>
            <p:cNvSpPr/>
            <p:nvPr/>
          </p:nvSpPr>
          <p:spPr>
            <a:xfrm>
              <a:off x="211140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8080" y="1878120"/>
              <a:ext cx="1598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A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20600" y="144144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580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NN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1960" y="164952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848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4060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58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3076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35400" y="126828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0692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1192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34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884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3800" y="218916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-126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85840" y="253512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6280" y="3144960"/>
              <a:ext cx="1598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B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19160" y="270828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24000" y="291636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N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052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704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3916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440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2896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3396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548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1048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8200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86640" y="253512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2360" y="345600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28-19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621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6280" y="4392720"/>
              <a:ext cx="1598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C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19160" y="395604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24000" y="416412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0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052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7704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3916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03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0528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1028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8180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86440" y="3706920"/>
              <a:ext cx="3146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1692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629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92360" y="470376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92-22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80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120" y="5611680"/>
              <a:ext cx="1598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D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35000" y="5175360"/>
              <a:ext cx="812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39840" y="5383080"/>
              <a:ext cx="171468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10MM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636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288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5500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162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211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261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9764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02280" y="492588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169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788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08200" y="5923080"/>
              <a:ext cx="812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224-239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网掩码的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12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3962520"/>
              <a:ext cx="594360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4120" y="4633920"/>
              <a:ext cx="1676160" cy="65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3200" y="4633920"/>
              <a:ext cx="1676160" cy="65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3200" y="4038480"/>
              <a:ext cx="228600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192.168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29200" y="4038480"/>
              <a:ext cx="228600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84880" y="4087800"/>
              <a:ext cx="1552320" cy="587520"/>
            </a:xfrm>
            <a:prstGeom prst="rect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 Narrow"/>
                  <a:ea typeface="宋体"/>
                </a:rPr>
                <a:t>2.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10080" y="2709720"/>
              <a:ext cx="1476360" cy="1295640"/>
            </a:xfrm>
            <a:custGeom>
              <a:avLst/>
              <a:gdLst/>
              <a:ahLst/>
              <a:rect l="l" t="t" r="r" b="b"/>
              <a:pathLst>
                <a:path w="930" h="816">
                  <a:moveTo>
                    <a:pt x="345" y="7"/>
                  </a:moveTo>
                  <a:lnTo>
                    <a:pt x="0" y="816"/>
                  </a:lnTo>
                  <a:lnTo>
                    <a:pt x="930" y="816"/>
                  </a:lnTo>
                  <a:lnTo>
                    <a:pt x="584" y="0"/>
                  </a:lnTo>
                  <a:lnTo>
                    <a:pt x="345" y="7"/>
                  </a:lnTo>
                  <a:close/>
                </a:path>
              </a:pathLst>
            </a:custGeom>
            <a:gradFill rotWithShape="0">
              <a:gsLst>
                <a:gs pos="0">
                  <a:srgbClr val="f7fcfb"/>
                </a:gs>
                <a:gs pos="100000">
                  <a:srgbClr val="c2f0eb"/>
                </a:gs>
              </a:gsLst>
              <a:lin ang="5400000"/>
            </a:gradFill>
            <a:ln w="9360">
              <a:solidFill>
                <a:srgbClr val="a4ea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5159520" y="3817800"/>
              <a:ext cx="20383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1523880" y="2057400"/>
              <a:ext cx="594360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86280" y="2778120"/>
              <a:ext cx="1476360" cy="1284120"/>
            </a:xfrm>
            <a:custGeom>
              <a:avLst/>
              <a:gdLst/>
              <a:ahLst/>
              <a:rect l="l" t="t" r="r" b="b"/>
              <a:pathLst>
                <a:path w="930" h="809">
                  <a:moveTo>
                    <a:pt x="345" y="0"/>
                  </a:moveTo>
                  <a:lnTo>
                    <a:pt x="0" y="809"/>
                  </a:lnTo>
                  <a:lnTo>
                    <a:pt x="930" y="809"/>
                  </a:lnTo>
                  <a:lnTo>
                    <a:pt x="586" y="0"/>
                  </a:lnTo>
                  <a:lnTo>
                    <a:pt x="345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4fa"/>
                </a:gs>
                <a:gs pos="100000">
                  <a:srgbClr val="ff57bb"/>
                </a:gs>
              </a:gsLst>
              <a:lin ang="5400000"/>
            </a:gradFill>
            <a:ln w="936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2133720"/>
              <a:ext cx="228600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255.25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9200" y="2133720"/>
              <a:ext cx="228600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0.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76560" y="4087800"/>
              <a:ext cx="1552680" cy="590400"/>
            </a:xfrm>
            <a:prstGeom prst="rect">
              <a:avLst/>
            </a:prstGeom>
            <a:solidFill>
              <a:srgbClr val="ffc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b02c84"/>
                  </a:solidFill>
                  <a:latin typeface="Arial Narrow"/>
                  <a:ea typeface="宋体"/>
                </a:rPr>
                <a:t>192.168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2813040" y="3817800"/>
              <a:ext cx="2038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"/>
          <p:cNvGrpSpPr/>
          <p:nvPr/>
        </p:nvGrpSpPr>
        <p:grpSpPr>
          <a:xfrm>
            <a:off x="14400" y="6615000"/>
            <a:ext cx="609480" cy="228600"/>
            <a:chOff x="14400" y="6615000"/>
            <a:chExt cx="609480" cy="228600"/>
          </a:xfrm>
        </p:grpSpPr>
        <p:grpSp>
          <p:nvGrpSpPr>
            <p:cNvPr id="528" name=""/>
            <p:cNvGrpSpPr/>
            <p:nvPr/>
          </p:nvGrpSpPr>
          <p:grpSpPr>
            <a:xfrm>
              <a:off x="14400" y="6615000"/>
              <a:ext cx="286560" cy="228600"/>
              <a:chOff x="14400" y="6615000"/>
              <a:chExt cx="286560" cy="228600"/>
            </a:xfrm>
          </p:grpSpPr>
          <p:sp>
            <p:nvSpPr>
              <p:cNvPr id="529" name=""/>
              <p:cNvSpPr/>
              <p:nvPr/>
            </p:nvSpPr>
            <p:spPr>
              <a:xfrm>
                <a:off x="14400" y="6615000"/>
                <a:ext cx="28656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04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080" y="6671880"/>
                <a:ext cx="134640" cy="5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29" y="19664"/>
                    </a:moveTo>
                    <a:arcTo wR="10800" hR="10800" stAng="7490636" swAng="8823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29" y="19664"/>
                    </a:moveTo>
                    <a:arcTo wR="10800" hR="10800" stAng="7490636" swAng="8823993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6040" y="6703200"/>
                <a:ext cx="135360" cy="5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1421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142173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36960" y="6615000"/>
              <a:ext cx="286920" cy="228600"/>
              <a:chOff x="336960" y="6615000"/>
              <a:chExt cx="286920" cy="228600"/>
            </a:xfrm>
          </p:grpSpPr>
          <p:sp>
            <p:nvSpPr>
              <p:cNvPr id="534" name=""/>
              <p:cNvSpPr/>
              <p:nvPr/>
            </p:nvSpPr>
            <p:spPr>
              <a:xfrm>
                <a:off x="336960" y="6615000"/>
                <a:ext cx="2869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296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8960" y="6703200"/>
                <a:ext cx="134640" cy="5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49" y="19878"/>
                    </a:moveTo>
                    <a:arcTo wR="10800" hR="10800" stAng="7368319" swAng="8946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49" y="19878"/>
                    </a:moveTo>
                    <a:arcTo wR="10800" hR="10800" stAng="7368319" swAng="8946310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8960" y="6703200"/>
                <a:ext cx="135000" cy="5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513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513965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35080" y="6667560"/>
              <a:ext cx="166320" cy="134280"/>
            </a:xfrm>
            <a:prstGeom prst="rightArrow">
              <a:avLst>
                <a:gd name="adj1" fmla="val 54546"/>
                <a:gd name="adj2" fmla="val 9174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40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42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50.100.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52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54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100.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64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66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10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255.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10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3876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 flipV="1">
            <a:off x="189540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548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838680" y="425592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79600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767640" y="425592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54944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57796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352116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5492880" y="368460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6435720" y="368460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8640" y="5943240"/>
            <a:ext cx="822672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6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86280" y="4713120"/>
            <a:ext cx="1528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未划分子网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5320" y="3362400"/>
            <a:ext cx="1528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6680" y="388620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52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55.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44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55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52760" y="4641840"/>
            <a:ext cx="54147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7238880" cy="43876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8640" y="6019560"/>
            <a:ext cx="822672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6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划分子网后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886040" y="455616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728800" y="4570200"/>
            <a:ext cx="0" cy="3711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57520" y="45414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186600" y="45702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7015320" y="4555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15040" y="4555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786120" y="254160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743360" y="2526840"/>
            <a:ext cx="0" cy="871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715000" y="2512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00480" y="2927520"/>
            <a:ext cx="27432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59120" y="4997520"/>
            <a:ext cx="1069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6400" y="4997520"/>
            <a:ext cx="1070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02120" y="2954160"/>
            <a:ext cx="1041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59240" y="3716280"/>
            <a:ext cx="10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3570120"/>
            <a:ext cx="173160" cy="137340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768"/>
                </a:moveTo>
                <a:lnTo>
                  <a:pt x="0" y="336"/>
                </a:lnTo>
                <a:lnTo>
                  <a:pt x="96" y="432"/>
                </a:lnTo>
                <a:lnTo>
                  <a:pt x="96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300560" y="3271680"/>
            <a:ext cx="928800" cy="5400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497400" y="205596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40240" y="20559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5383080" y="20559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04036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7"/>
          <a:stretch/>
        </p:blipFill>
        <p:spPr>
          <a:xfrm>
            <a:off x="589752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8"/>
          <a:stretch/>
        </p:blipFill>
        <p:spPr>
          <a:xfrm>
            <a:off x="675468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9"/>
          <a:stretch/>
        </p:blipFill>
        <p:spPr>
          <a:xfrm>
            <a:off x="161136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0"/>
          <a:stretch/>
        </p:blipFill>
        <p:spPr>
          <a:xfrm>
            <a:off x="246852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1"/>
          <a:stretch/>
        </p:blipFill>
        <p:spPr>
          <a:xfrm>
            <a:off x="3325680" y="411336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600200" y="4970520"/>
            <a:ext cx="5715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2"/>
          <a:stretch/>
        </p:blipFill>
        <p:spPr>
          <a:xfrm>
            <a:off x="4043520" y="4643280"/>
            <a:ext cx="92844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330280" y="1530360"/>
            <a:ext cx="4500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218592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Host Addr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2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218592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 Mask: 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8640" y="5141880"/>
            <a:ext cx="8226720" cy="141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 Address = 172.16.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 Addresses = 172.16.2.1–172.16.2.25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Address = 172.16.2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ht bits of subnet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2133720"/>
            <a:ext cx="0" cy="243828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2286000"/>
            <a:ext cx="144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34160" y="2286000"/>
            <a:ext cx="128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24640" y="2286000"/>
            <a:ext cx="957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28800" y="3757680"/>
            <a:ext cx="5786640" cy="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14560" y="4343400"/>
            <a:ext cx="70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43480" y="4343400"/>
            <a:ext cx="70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29280" y="4343400"/>
            <a:ext cx="442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4343400"/>
            <a:ext cx="657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4440" y="2943360"/>
            <a:ext cx="2043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2.12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4360" y="3386160"/>
            <a:ext cx="2143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5.255.255.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9080" y="2943360"/>
            <a:ext cx="1257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43040" y="3371760"/>
            <a:ext cx="140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57400" y="38718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0028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5764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29200" y="2943360"/>
            <a:ext cx="1314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43240" y="3371760"/>
            <a:ext cx="130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00880" y="2943360"/>
            <a:ext cx="1299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spcBef>
                <a:spcPts val="134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1492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00880" y="3371760"/>
            <a:ext cx="1299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29440" y="2943360"/>
            <a:ext cx="1743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111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101000" y="3371760"/>
            <a:ext cx="1700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9440" y="3871800"/>
            <a:ext cx="1771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62720" y="2133720"/>
            <a:ext cx="0" cy="23619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0280" y="2133720"/>
            <a:ext cx="0" cy="23619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43200" y="2743200"/>
            <a:ext cx="5786280" cy="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43000" y="4338720"/>
            <a:ext cx="1400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7880" y="2209680"/>
            <a:ext cx="1443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变长子网掩码及子网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16080" y="1349280"/>
            <a:ext cx="7399080" cy="44848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flipV="1">
            <a:off x="1450800" y="431784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93920" y="433224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122640" y="430344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751360" y="43322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580080" y="4317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879800" y="4317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351240" y="230328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308480" y="2288880"/>
            <a:ext cx="0" cy="871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280120" y="2274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65600" y="2689200"/>
            <a:ext cx="27432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67240" y="2716200"/>
            <a:ext cx="1041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24360" y="3478320"/>
            <a:ext cx="10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37120" y="3332160"/>
            <a:ext cx="172800" cy="137304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768"/>
                </a:moveTo>
                <a:lnTo>
                  <a:pt x="0" y="336"/>
                </a:lnTo>
                <a:lnTo>
                  <a:pt x="96" y="432"/>
                </a:lnTo>
                <a:lnTo>
                  <a:pt x="96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062160" y="18176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005360" y="18176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4948200" y="18176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605480" y="38750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546264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631980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8"/>
          <a:stretch/>
        </p:blipFill>
        <p:spPr>
          <a:xfrm>
            <a:off x="1176480" y="38750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9"/>
          <a:stretch/>
        </p:blipFill>
        <p:spPr>
          <a:xfrm>
            <a:off x="203364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0"/>
          <a:stretch/>
        </p:blipFill>
        <p:spPr>
          <a:xfrm>
            <a:off x="2890800" y="387504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724040" y="2946240"/>
            <a:ext cx="1071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08120" y="3160800"/>
            <a:ext cx="1373400" cy="172800"/>
          </a:xfrm>
          <a:custGeom>
            <a:avLst/>
            <a:gdLst/>
            <a:ahLst/>
            <a:rect l="l" t="t" r="r" b="b"/>
            <a:pathLst>
              <a:path w="769" h="97">
                <a:moveTo>
                  <a:pt x="0" y="0"/>
                </a:moveTo>
                <a:lnTo>
                  <a:pt x="432" y="0"/>
                </a:lnTo>
                <a:lnTo>
                  <a:pt x="336" y="96"/>
                </a:lnTo>
                <a:lnTo>
                  <a:pt x="768" y="96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94080" y="267192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79560" y="475776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08480" y="475776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51000" y="4732200"/>
            <a:ext cx="5715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1"/>
          <a:stretch/>
        </p:blipFill>
        <p:spPr>
          <a:xfrm>
            <a:off x="3608280" y="4405320"/>
            <a:ext cx="928800" cy="5396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12"/>
          <a:stretch/>
        </p:blipFill>
        <p:spPr>
          <a:xfrm>
            <a:off x="3865680" y="3033720"/>
            <a:ext cx="928440" cy="5396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5253120" y="2463840"/>
            <a:ext cx="1272960" cy="838080"/>
          </a:xfrm>
          <a:custGeom>
            <a:avLst/>
            <a:gdLst/>
            <a:ahLst/>
            <a:rect l="l" t="t" r="r" b="b"/>
            <a:pathLst>
              <a:path w="802" h="528">
                <a:moveTo>
                  <a:pt x="802" y="0"/>
                </a:moveTo>
                <a:lnTo>
                  <a:pt x="802" y="528"/>
                </a:lnTo>
                <a:lnTo>
                  <a:pt x="0" y="5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58080" y="1197000"/>
            <a:ext cx="2043000" cy="12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 sub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 hosts per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ass C add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网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79640" y="5948280"/>
            <a:ext cx="4608360" cy="720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应该用什么的子网掩码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11280" y="4797000"/>
            <a:ext cx="451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解析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22040" y="155736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检查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rot="5400000">
            <a:off x="1306800" y="2840760"/>
            <a:ext cx="2797200" cy="131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636280" y="1737720"/>
            <a:ext cx="1269720" cy="128520"/>
          </a:xfrm>
          <a:custGeom>
            <a:avLst/>
            <a:gdLst>
              <a:gd name="textAreaLeft" fmla="*/ -360 w 1269720"/>
              <a:gd name="textAreaRight" fmla="*/ 1269720 w 1269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636280" y="3814200"/>
            <a:ext cx="1269720" cy="128520"/>
          </a:xfrm>
          <a:custGeom>
            <a:avLst/>
            <a:gdLst>
              <a:gd name="textAreaLeft" fmla="*/ -360 w 1269720"/>
              <a:gd name="textAreaRight" fmla="*/ 1269720 w 1269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446120" y="2724840"/>
            <a:ext cx="1271520" cy="127080"/>
          </a:xfrm>
          <a:custGeom>
            <a:avLst/>
            <a:gdLst>
              <a:gd name="textAreaLeft" fmla="*/ 0 w 1271520"/>
              <a:gd name="textAreaRight" fmla="*/ 1271520 w 1271520"/>
              <a:gd name="textAreaTop" fmla="*/ -360 h 127080"/>
              <a:gd name="textAreaBottom" fmla="*/ 127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584520" y="1278000"/>
            <a:ext cx="1069560" cy="1164960"/>
            <a:chOff x="3584520" y="1278000"/>
            <a:chExt cx="1069560" cy="116496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3584520" y="1278000"/>
              <a:ext cx="1069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835440" y="149184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584520" y="3270240"/>
            <a:ext cx="1069560" cy="1164960"/>
            <a:chOff x="3584520" y="3270240"/>
            <a:chExt cx="1069560" cy="1164960"/>
          </a:xfrm>
        </p:grpSpPr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3584520" y="3270240"/>
              <a:ext cx="1069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835440" y="350820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39640" y="2235240"/>
            <a:ext cx="1069560" cy="1166400"/>
            <a:chOff x="539640" y="2235240"/>
            <a:chExt cx="1069560" cy="1166400"/>
          </a:xfrm>
        </p:grpSpPr>
        <p:pic>
          <p:nvPicPr>
            <p:cNvPr id="707" name="" descr=""/>
            <p:cNvPicPr/>
            <p:nvPr/>
          </p:nvPicPr>
          <p:blipFill>
            <a:blip r:embed="rId3"/>
            <a:stretch/>
          </p:blipFill>
          <p:spPr>
            <a:xfrm>
              <a:off x="539640" y="2235240"/>
              <a:ext cx="1069560" cy="11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28720" y="247212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828720" y="1584360"/>
            <a:ext cx="928440" cy="613800"/>
            <a:chOff x="828720" y="1584360"/>
            <a:chExt cx="928440" cy="613800"/>
          </a:xfrm>
        </p:grpSpPr>
        <p:sp>
          <p:nvSpPr>
            <p:cNvPr id="710" name=""/>
            <p:cNvSpPr/>
            <p:nvPr/>
          </p:nvSpPr>
          <p:spPr>
            <a:xfrm>
              <a:off x="828720" y="1584360"/>
              <a:ext cx="928440" cy="61380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80200" y="1650600"/>
              <a:ext cx="682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874960" y="1558800"/>
            <a:ext cx="622440" cy="2022480"/>
          </a:xfrm>
          <a:custGeom>
            <a:avLst/>
            <a:gdLst/>
            <a:ahLst/>
            <a:rect l="l" t="t" r="r" b="b"/>
            <a:pathLst>
              <a:path w="672" h="1152">
                <a:moveTo>
                  <a:pt x="672" y="1152"/>
                </a:move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</a:path>
            </a:pathLst>
          </a:custGeom>
          <a:noFill/>
          <a:ln w="57240">
            <a:solidFill>
              <a:srgbClr val="d6009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706400" y="2336760"/>
            <a:ext cx="116856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06400" y="3036960"/>
            <a:ext cx="1791000" cy="108900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1104" y="624"/>
                </a:moveTo>
                <a:lnTo>
                  <a:pt x="480" y="624"/>
                </a:lnTo>
                <a:lnTo>
                  <a:pt x="480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28640" y="3348000"/>
            <a:ext cx="1868760" cy="108900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0"/>
                </a:moveTo>
                <a:lnTo>
                  <a:pt x="336" y="0"/>
                </a:lnTo>
                <a:lnTo>
                  <a:pt x="336" y="672"/>
                </a:lnTo>
                <a:lnTo>
                  <a:pt x="1056" y="672"/>
                </a:lnTo>
              </a:path>
            </a:pathLst>
          </a:custGeom>
          <a:noFill/>
          <a:ln w="5724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73120" y="218124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2960" y="1528920"/>
            <a:ext cx="31104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41520" y="397044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36680" y="3192480"/>
            <a:ext cx="31284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6480" y="187020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513240" y="2666880"/>
            <a:ext cx="928080" cy="614160"/>
            <a:chOff x="3513240" y="2666880"/>
            <a:chExt cx="928080" cy="614160"/>
          </a:xfrm>
        </p:grpSpPr>
        <p:sp>
          <p:nvSpPr>
            <p:cNvPr id="722" name=""/>
            <p:cNvSpPr/>
            <p:nvPr/>
          </p:nvSpPr>
          <p:spPr>
            <a:xfrm>
              <a:off x="3513240" y="2666880"/>
              <a:ext cx="928080" cy="61416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64720" y="2733120"/>
              <a:ext cx="682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 flipV="1">
            <a:off x="2876400" y="1431720"/>
            <a:ext cx="5040" cy="289440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06600" y="271152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27080" y="1989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请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19960" y="242100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③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添加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条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2040" y="285264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④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回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13480" y="32846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⑤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添加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条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68840" y="371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⑥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36600" y="1614600"/>
            <a:ext cx="1654200" cy="1662120"/>
          </a:xfrm>
          <a:prstGeom prst="cloudCallout">
            <a:avLst>
              <a:gd name="adj1" fmla="val 59787"/>
              <a:gd name="adj2" fmla="val 4369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60280" y="1781640"/>
            <a:ext cx="1857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 anchorCtr="1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need the Ethernet address of 176.16.3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57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58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32640" y="3105000"/>
            <a:ext cx="374400" cy="1887840"/>
          </a:xfrm>
          <a:custGeom>
            <a:avLst/>
            <a:gdLst/>
            <a:ahLst/>
            <a:rect l="l" t="t" r="r" b="b"/>
            <a:pathLst>
              <a:path w="289" h="1057">
                <a:moveTo>
                  <a:pt x="287" y="0"/>
                </a:moveTo>
                <a:lnTo>
                  <a:pt x="288" y="1056"/>
                </a:lnTo>
                <a:lnTo>
                  <a:pt x="216" y="1056"/>
                </a:lnTo>
                <a:lnTo>
                  <a:pt x="144" y="1056"/>
                </a:lnTo>
                <a:lnTo>
                  <a:pt x="0" y="1056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03480" y="4662360"/>
            <a:ext cx="2729160" cy="5716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76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77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配置和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192040" y="5362560"/>
            <a:ext cx="49705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p I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Eth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Local AR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87640" y="5667480"/>
            <a:ext cx="1371600" cy="0"/>
          </a:xfrm>
          <a:prstGeom prst="line">
            <a:avLst/>
          </a:prstGeom>
          <a:ln w="255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32640" y="3105000"/>
            <a:ext cx="374400" cy="1887840"/>
          </a:xfrm>
          <a:custGeom>
            <a:avLst/>
            <a:gdLst/>
            <a:ahLst/>
            <a:rect l="l" t="t" r="r" b="b"/>
            <a:pathLst>
              <a:path w="289" h="1057">
                <a:moveTo>
                  <a:pt x="287" y="0"/>
                </a:moveTo>
                <a:lnTo>
                  <a:pt x="288" y="1056"/>
                </a:lnTo>
                <a:lnTo>
                  <a:pt x="216" y="1056"/>
                </a:lnTo>
                <a:lnTo>
                  <a:pt x="144" y="1056"/>
                </a:lnTo>
                <a:lnTo>
                  <a:pt x="0" y="1056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003480" y="4662360"/>
            <a:ext cx="2729160" cy="5716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98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4771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4771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67320" y="3452760"/>
            <a:ext cx="800280" cy="1090800"/>
          </a:xfrm>
          <a:custGeom>
            <a:avLst/>
            <a:gdLst/>
            <a:ahLst/>
            <a:rect l="l" t="t" r="r" b="b"/>
            <a:pathLst>
              <a:path w="504" h="687">
                <a:moveTo>
                  <a:pt x="0" y="687"/>
                </a:moveTo>
                <a:lnTo>
                  <a:pt x="504" y="687"/>
                </a:lnTo>
                <a:lnTo>
                  <a:pt x="502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11880" y="1684440"/>
            <a:ext cx="1779840" cy="2025720"/>
          </a:xfrm>
          <a:prstGeom prst="cloudCallout">
            <a:avLst>
              <a:gd name="adj1" fmla="val -73370"/>
              <a:gd name="adj2" fmla="val 289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78640" y="1905120"/>
            <a:ext cx="1474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40080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77040" y="3452760"/>
            <a:ext cx="790560" cy="1119240"/>
          </a:xfrm>
          <a:custGeom>
            <a:avLst/>
            <a:gdLst/>
            <a:ahLst/>
            <a:rect l="l" t="t" r="r" b="b"/>
            <a:pathLst>
              <a:path w="498" h="705">
                <a:moveTo>
                  <a:pt x="0" y="705"/>
                </a:moveTo>
                <a:lnTo>
                  <a:pt x="498" y="699"/>
                </a:lnTo>
                <a:lnTo>
                  <a:pt x="496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00560" y="3305160"/>
            <a:ext cx="1409760" cy="1862280"/>
          </a:xfrm>
          <a:custGeom>
            <a:avLst/>
            <a:gdLst/>
            <a:ahLst/>
            <a:rect l="l" t="t" r="r" b="b"/>
            <a:pathLst>
              <a:path w="888" h="1173">
                <a:moveTo>
                  <a:pt x="888" y="0"/>
                </a:moveTo>
                <a:lnTo>
                  <a:pt x="888" y="1164"/>
                </a:lnTo>
                <a:lnTo>
                  <a:pt x="0" y="1173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4838760"/>
            <a:ext cx="2457360" cy="57132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211880" y="1684440"/>
            <a:ext cx="1779840" cy="2025720"/>
          </a:xfrm>
          <a:prstGeom prst="cloudCallout">
            <a:avLst>
              <a:gd name="adj1" fmla="val -72569"/>
              <a:gd name="adj2" fmla="val 289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478640" y="1905120"/>
            <a:ext cx="1474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477040" y="3452760"/>
            <a:ext cx="790560" cy="1119240"/>
          </a:xfrm>
          <a:custGeom>
            <a:avLst/>
            <a:gdLst/>
            <a:ahLst/>
            <a:rect l="l" t="t" r="r" b="b"/>
            <a:pathLst>
              <a:path w="498" h="705">
                <a:moveTo>
                  <a:pt x="0" y="705"/>
                </a:moveTo>
                <a:lnTo>
                  <a:pt x="498" y="699"/>
                </a:lnTo>
                <a:lnTo>
                  <a:pt x="496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24600" y="3305160"/>
            <a:ext cx="1485720" cy="1862280"/>
          </a:xfrm>
          <a:custGeom>
            <a:avLst/>
            <a:gdLst/>
            <a:ahLst/>
            <a:rect l="l" t="t" r="r" b="b"/>
            <a:pathLst>
              <a:path w="888" h="1173">
                <a:moveTo>
                  <a:pt x="888" y="0"/>
                </a:moveTo>
                <a:lnTo>
                  <a:pt x="888" y="1164"/>
                </a:lnTo>
                <a:lnTo>
                  <a:pt x="0" y="1173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0080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120" y="5400720"/>
            <a:ext cx="7543800" cy="1457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p Ethernet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5867280"/>
            <a:ext cx="762120" cy="0"/>
          </a:xfrm>
          <a:prstGeom prst="line">
            <a:avLst/>
          </a:prstGeom>
          <a:ln w="255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289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57440" y="3710160"/>
            <a:ext cx="5256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57560" y="3195720"/>
            <a:ext cx="42840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666880" y="4838760"/>
            <a:ext cx="2457720" cy="57132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601992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66688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95720"/>
            <a:ext cx="68760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192564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632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2281320"/>
            <a:ext cx="121752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35920" y="1684440"/>
            <a:ext cx="1779480" cy="2025720"/>
          </a:xfrm>
          <a:prstGeom prst="cloudCallout">
            <a:avLst>
              <a:gd name="adj1" fmla="val -74708"/>
              <a:gd name="adj2" fmla="val 283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402680" y="1905120"/>
            <a:ext cx="1474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M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息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报传送，被用来发送错误和控制信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了很多信息类型，例如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的地不可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超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请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应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请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应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M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应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00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台计算机上向远程主机发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时，可能收到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建立成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主机不可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求时间超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未知主机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819760" y="3363840"/>
            <a:ext cx="685800" cy="933480"/>
          </a:xfrm>
          <a:prstGeom prst="downArrow">
            <a:avLst>
              <a:gd name="adj1" fmla="val 50000"/>
              <a:gd name="adj2" fmla="val 46531"/>
            </a:avLst>
          </a:prstGeom>
          <a:gradFill rotWithShape="0">
            <a:gsLst>
              <a:gs pos="0">
                <a:srgbClr val="054d64"/>
              </a:gs>
              <a:gs pos="100000">
                <a:srgbClr val="0ba8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3680" y="4335480"/>
            <a:ext cx="2006280" cy="14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78320" y="42822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56280" y="457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835600" y="4577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336360" y="4577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632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9632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9632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91400" y="4892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891400" y="513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91400" y="538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1536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61536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1536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43040" y="3363840"/>
            <a:ext cx="685800" cy="933480"/>
          </a:xfrm>
          <a:prstGeom prst="downArrow">
            <a:avLst>
              <a:gd name="adj1" fmla="val 50000"/>
              <a:gd name="adj2" fmla="val 46531"/>
            </a:avLst>
          </a:prstGeom>
          <a:gradFill rotWithShape="0">
            <a:gsLst>
              <a:gs pos="0">
                <a:srgbClr val="054d64"/>
              </a:gs>
              <a:gs pos="100000">
                <a:srgbClr val="0ba8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09760" y="3002040"/>
            <a:ext cx="743040" cy="164880"/>
          </a:xfrm>
          <a:custGeom>
            <a:avLst/>
            <a:gdLst/>
            <a:ahLst/>
            <a:rect l="l" t="t" r="r" b="b"/>
            <a:pathLst>
              <a:path w="468" h="104">
                <a:moveTo>
                  <a:pt x="0" y="104"/>
                </a:moveTo>
                <a:lnTo>
                  <a:pt x="328" y="104"/>
                </a:lnTo>
                <a:lnTo>
                  <a:pt x="168" y="0"/>
                </a:lnTo>
                <a:lnTo>
                  <a:pt x="468" y="2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104800" y="3002040"/>
            <a:ext cx="742680" cy="164880"/>
          </a:xfrm>
          <a:custGeom>
            <a:avLst/>
            <a:gdLst/>
            <a:ahLst/>
            <a:rect l="l" t="t" r="r" b="b"/>
            <a:pathLst>
              <a:path w="468" h="104">
                <a:moveTo>
                  <a:pt x="0" y="104"/>
                </a:moveTo>
                <a:lnTo>
                  <a:pt x="328" y="104"/>
                </a:lnTo>
                <a:lnTo>
                  <a:pt x="168" y="0"/>
                </a:lnTo>
                <a:lnTo>
                  <a:pt x="468" y="2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78640" y="314496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28800" y="314496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238880" y="261144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38880" y="374508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55600" y="261144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55600" y="374508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762120" y="2135160"/>
            <a:ext cx="761760" cy="6890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762120" y="3278160"/>
            <a:ext cx="761760" cy="6890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7543800" y="2135160"/>
            <a:ext cx="762120" cy="6890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4"/>
          <a:stretch/>
        </p:blipFill>
        <p:spPr>
          <a:xfrm>
            <a:off x="7543800" y="3278160"/>
            <a:ext cx="762120" cy="68904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5"/>
          <a:stretch/>
        </p:blipFill>
        <p:spPr>
          <a:xfrm>
            <a:off x="3797280" y="2687760"/>
            <a:ext cx="1447920" cy="876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1c1c1c"/>
            </a:outerShdw>
          </a:effectLst>
        </p:spPr>
      </p:pic>
      <p:pic>
        <p:nvPicPr>
          <p:cNvPr id="895" name="" descr=""/>
          <p:cNvPicPr/>
          <p:nvPr/>
        </p:nvPicPr>
        <p:blipFill>
          <a:blip r:embed="rId6"/>
          <a:stretch/>
        </p:blipFill>
        <p:spPr>
          <a:xfrm>
            <a:off x="2446200" y="291636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7"/>
          <a:stretch/>
        </p:blipFill>
        <p:spPr>
          <a:xfrm>
            <a:off x="5715000" y="291636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828800" y="2077920"/>
            <a:ext cx="0" cy="22100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2077920"/>
            <a:ext cx="0" cy="22100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73560" y="175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93000" y="175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32200" y="2824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1280" y="3129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61360" y="2824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29440" y="3187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0360" y="269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581880" y="3206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43600" y="269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62680" y="3129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670880" y="1834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70880" y="2977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98560" y="1834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98560" y="2977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33560" y="4351320"/>
            <a:ext cx="2057400" cy="13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44880" y="42919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30320" y="457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28720" y="4577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96080" y="4577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43280" y="49068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1948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9592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9592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09592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62560" y="4892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662560" y="513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62560" y="538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42468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468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468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40040" y="462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3960" y="4897440"/>
            <a:ext cx="2038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143680" y="4614840"/>
            <a:ext cx="2006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7796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744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8172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42160" y="2486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out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26520" y="2492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ou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从主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1.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4.2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数据传送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76240" y="1125000"/>
            <a:ext cx="73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发传给缺省网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接收到数据后，查看数据包的目的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查找路由表是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段的路由条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路由表中找到相应路由条目，并把数据包转到接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转发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接收到数据后，查看数据包的目的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查找路由表看是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段的路由条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路由表中找到相应路由条目，并把数据包转到接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出发直接到达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6696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：跨越从源主机到目标主机的一个互联网络来转发数据包的过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：是专门设计用于路由的设备，不能运行应用程序。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路由器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系列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表：在路由器中维护的路由条目，路由器根据路由表做路径选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发现：路由器学习路由条目的过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选择：路由器根据路由表选择到达目标网络的最佳路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维护：路由器根据拓朴结构的变化对路由条目进行重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网络层的各个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网的划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/RAR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概念，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和默认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路由是由管理员手工配置的，是单向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09720" y="5016600"/>
            <a:ext cx="7118280" cy="538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480" rIns="69480" tIns="98640" bIns="9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A(config)#ip route 192.168.1.0 255.255.255.0 192.16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00000" y="2338560"/>
            <a:ext cx="7659720" cy="2552400"/>
            <a:chOff x="900000" y="2338560"/>
            <a:chExt cx="7659720" cy="2552400"/>
          </a:xfrm>
        </p:grpSpPr>
        <p:sp>
          <p:nvSpPr>
            <p:cNvPr id="945" name=""/>
            <p:cNvSpPr/>
            <p:nvPr/>
          </p:nvSpPr>
          <p:spPr>
            <a:xfrm>
              <a:off x="5688000" y="2338560"/>
              <a:ext cx="2871720" cy="2430360"/>
            </a:xfrm>
            <a:prstGeom prst="ellipse">
              <a:avLst/>
            </a:prstGeom>
            <a:solidFill>
              <a:srgbClr val="cad2d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82920" y="2849400"/>
              <a:ext cx="20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84320" y="2736720"/>
              <a:ext cx="2574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98280" bIns="9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072040" y="3743280"/>
              <a:ext cx="28440" cy="42840"/>
            </a:xfrm>
            <a:prstGeom prst="rect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-55440" bIns="-55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1"/>
            <a:stretch/>
          </p:blipFill>
          <p:spPr>
            <a:xfrm>
              <a:off x="900000" y="3041640"/>
              <a:ext cx="2286000" cy="1300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50" name=""/>
            <p:cNvSpPr/>
            <p:nvPr/>
          </p:nvSpPr>
          <p:spPr>
            <a:xfrm>
              <a:off x="4530960" y="390060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51240" y="3355920"/>
              <a:ext cx="2934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09080" y="302436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54160" y="376092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46840" y="389736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48200" y="35553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1303200" y="2916360"/>
              <a:ext cx="8431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718320" y="3170160"/>
              <a:ext cx="509400" cy="111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35600" y="4057560"/>
              <a:ext cx="525600" cy="180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31080" y="3755880"/>
              <a:ext cx="684000" cy="324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0" name="" descr=""/>
            <p:cNvPicPr/>
            <p:nvPr/>
          </p:nvPicPr>
          <p:blipFill>
            <a:blip r:embed="rId3"/>
            <a:stretch/>
          </p:blipFill>
          <p:spPr>
            <a:xfrm>
              <a:off x="6988320" y="3780000"/>
              <a:ext cx="7426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4"/>
            <a:stretch/>
          </p:blipFill>
          <p:spPr>
            <a:xfrm>
              <a:off x="6997680" y="2760840"/>
              <a:ext cx="743040" cy="7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6721560" y="3029040"/>
              <a:ext cx="1440" cy="12189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3094200" y="3629160"/>
              <a:ext cx="2442600" cy="158400"/>
              <a:chOff x="3094200" y="3629160"/>
              <a:chExt cx="2442600" cy="158400"/>
            </a:xfrm>
          </p:grpSpPr>
          <p:sp>
            <p:nvSpPr>
              <p:cNvPr id="964" name=""/>
              <p:cNvSpPr/>
              <p:nvPr/>
            </p:nvSpPr>
            <p:spPr>
              <a:xfrm>
                <a:off x="3094200" y="3636000"/>
                <a:ext cx="1571040" cy="28440"/>
              </a:xfrm>
              <a:prstGeom prst="rect">
                <a:avLst/>
              </a:prstGeom>
              <a:solidFill>
                <a:srgbClr val="ffcf01"/>
              </a:solidFill>
              <a:ln w="12600">
                <a:solidFill>
                  <a:srgbClr val="ffcf01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08120" y="3750480"/>
                <a:ext cx="1228680" cy="28080"/>
              </a:xfrm>
              <a:prstGeom prst="rect">
                <a:avLst/>
              </a:prstGeom>
              <a:solidFill>
                <a:srgbClr val="ffcf01"/>
              </a:solidFill>
              <a:ln w="12600">
                <a:solidFill>
                  <a:srgbClr val="ffcf01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01280" y="3629160"/>
                <a:ext cx="401400" cy="158400"/>
              </a:xfrm>
              <a:custGeom>
                <a:avLst/>
                <a:gdLst/>
                <a:ahLst/>
                <a:rect l="l" t="t" r="r" b="b"/>
                <a:pathLst>
                  <a:path w="225" h="89">
                    <a:moveTo>
                      <a:pt x="0" y="64"/>
                    </a:moveTo>
                    <a:lnTo>
                      <a:pt x="8" y="88"/>
                    </a:lnTo>
                    <a:lnTo>
                      <a:pt x="224" y="24"/>
                    </a:lnTo>
                    <a:lnTo>
                      <a:pt x="216" y="0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ffcf01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67" name="" descr=""/>
            <p:cNvPicPr/>
            <p:nvPr/>
          </p:nvPicPr>
          <p:blipFill>
            <a:blip r:embed="rId5"/>
            <a:stretch/>
          </p:blipFill>
          <p:spPr>
            <a:xfrm>
              <a:off x="2486160" y="3479760"/>
              <a:ext cx="799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6"/>
            <a:stretch/>
          </p:blipFill>
          <p:spPr>
            <a:xfrm>
              <a:off x="5300640" y="3479760"/>
              <a:ext cx="8002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2822040" y="375444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0" name="" descr=""/>
            <p:cNvPicPr/>
            <p:nvPr/>
          </p:nvPicPr>
          <p:blipFill>
            <a:blip r:embed="rId7"/>
            <a:stretch/>
          </p:blipFill>
          <p:spPr>
            <a:xfrm>
              <a:off x="932040" y="3979800"/>
              <a:ext cx="84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5630400" y="375912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63880" y="395460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98280" bIns="9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默认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路由器在路由表中找不到目标网络的路由条目时，路由器把请求转发到默认路由接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03560" y="3975120"/>
            <a:ext cx="2448000" cy="162000"/>
          </a:xfrm>
          <a:custGeom>
            <a:avLst/>
            <a:gdLst/>
            <a:ahLst/>
            <a:rect l="l" t="t" r="r" b="b"/>
            <a:pathLst>
              <a:path w="1542" h="102">
                <a:moveTo>
                  <a:pt x="0" y="0"/>
                </a:moveTo>
                <a:lnTo>
                  <a:pt x="894" y="6"/>
                </a:lnTo>
                <a:lnTo>
                  <a:pt x="696" y="102"/>
                </a:lnTo>
                <a:lnTo>
                  <a:pt x="1542" y="96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732640" y="2930400"/>
            <a:ext cx="2871720" cy="2430720"/>
          </a:xfrm>
          <a:prstGeom prst="ellipse">
            <a:avLst/>
          </a:prstGeom>
          <a:solidFill>
            <a:srgbClr val="cad2d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33640" y="2676600"/>
            <a:ext cx="1969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ub Network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末节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00560" y="4910040"/>
            <a:ext cx="20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03280" y="5504040"/>
            <a:ext cx="5905440" cy="537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5595840"/>
            <a:ext cx="7199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B(config)#ip route 0.0.0.0 0.0.0.0 192.168.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17720" y="5722920"/>
            <a:ext cx="257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820000" y="5786280"/>
            <a:ext cx="0" cy="10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28960" y="3092400"/>
            <a:ext cx="257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944640" y="3397320"/>
            <a:ext cx="2286000" cy="129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85" name=""/>
          <p:cNvSpPr/>
          <p:nvPr/>
        </p:nvSpPr>
        <p:spPr>
          <a:xfrm>
            <a:off x="4575600" y="425592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2.168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95520" y="3711600"/>
            <a:ext cx="293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80360" y="337968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698800" y="411624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91120" y="425304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2.168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92840" y="3911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1347840" y="3271680"/>
            <a:ext cx="842760" cy="48924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6762600" y="3525840"/>
            <a:ext cx="49068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80240" y="4413240"/>
            <a:ext cx="52560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75360" y="4130640"/>
            <a:ext cx="684360" cy="3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3"/>
          <a:stretch/>
        </p:blipFill>
        <p:spPr>
          <a:xfrm>
            <a:off x="7032600" y="4135320"/>
            <a:ext cx="743040" cy="739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4"/>
          <a:stretch/>
        </p:blipFill>
        <p:spPr>
          <a:xfrm>
            <a:off x="7042320" y="3116160"/>
            <a:ext cx="742680" cy="7398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6765840" y="3384720"/>
            <a:ext cx="1800" cy="12189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2530440" y="3835440"/>
            <a:ext cx="800280" cy="46188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6"/>
          <a:stretch/>
        </p:blipFill>
        <p:spPr>
          <a:xfrm>
            <a:off x="5345280" y="3835440"/>
            <a:ext cx="799920" cy="46188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2815920" y="408456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7"/>
          <a:stretch/>
        </p:blipFill>
        <p:spPr>
          <a:xfrm>
            <a:off x="976320" y="4335480"/>
            <a:ext cx="843120" cy="4888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5648040" y="409716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运行路由协议，使路由器可以自动根据网络拓朴结构的变化调整路由条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之间利用路由协议进行路由交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管理员手工维护，减轻了管理员的工作负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广域网上使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和交换对比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75880" y="119700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工作在网络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是路由器根据自己的路由表进行的，其间经过了路由选择和路由转发的过程，从路由器的一个接口“路由”到的另外一个接口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工作在数据链路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是交换机根据自己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表在交换机的不同端口之间进行的，从交换机的一个端口“交换”到另外一个端口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硬件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841640" cy="48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启动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65360" y="1800360"/>
            <a:ext cx="2186280" cy="3857400"/>
          </a:xfrm>
          <a:prstGeom prst="rect">
            <a:avLst/>
          </a:prstGeom>
          <a:solidFill>
            <a:srgbClr val="2a6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00400" y="1428840"/>
            <a:ext cx="9144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893880" y="1743120"/>
            <a:ext cx="6857640" cy="442440"/>
            <a:chOff x="893880" y="1743120"/>
            <a:chExt cx="6857640" cy="442440"/>
          </a:xfrm>
        </p:grpSpPr>
        <p:sp>
          <p:nvSpPr>
            <p:cNvPr id="1013" name=""/>
            <p:cNvSpPr/>
            <p:nvPr/>
          </p:nvSpPr>
          <p:spPr>
            <a:xfrm>
              <a:off x="893880" y="1800000"/>
              <a:ext cx="1414080" cy="385560"/>
            </a:xfrm>
            <a:prstGeom prst="roundRect">
              <a:avLst>
                <a:gd name="adj" fmla="val 24130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65360" y="1800000"/>
              <a:ext cx="2185560" cy="385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29680" y="1828800"/>
              <a:ext cx="145728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tst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920" y="1743120"/>
              <a:ext cx="20286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装载引导代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893880" y="2185920"/>
            <a:ext cx="7286040" cy="1800000"/>
            <a:chOff x="893880" y="2185920"/>
            <a:chExt cx="7286040" cy="1800000"/>
          </a:xfrm>
        </p:grpSpPr>
        <p:sp>
          <p:nvSpPr>
            <p:cNvPr id="1018" name=""/>
            <p:cNvSpPr/>
            <p:nvPr/>
          </p:nvSpPr>
          <p:spPr>
            <a:xfrm>
              <a:off x="1279080" y="282852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FT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93880" y="2314080"/>
              <a:ext cx="141408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36480" y="334296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65360" y="2185920"/>
              <a:ext cx="2185560" cy="180000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50920" y="2621160"/>
              <a:ext cx="1414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p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07960" y="2442960"/>
              <a:ext cx="11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693880" y="2957400"/>
              <a:ext cx="77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50920" y="3471840"/>
              <a:ext cx="51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22560" y="2185920"/>
              <a:ext cx="2457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现和装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OS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软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93880" y="3986280"/>
            <a:ext cx="7371720" cy="1671120"/>
            <a:chOff x="893880" y="3986280"/>
            <a:chExt cx="7371720" cy="1671120"/>
          </a:xfrm>
        </p:grpSpPr>
        <p:sp>
          <p:nvSpPr>
            <p:cNvPr id="1028" name=""/>
            <p:cNvSpPr/>
            <p:nvPr/>
          </p:nvSpPr>
          <p:spPr>
            <a:xfrm>
              <a:off x="1536480" y="514332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Cons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9080" y="462888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FT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93880" y="4114440"/>
              <a:ext cx="141408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NV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465360" y="3986280"/>
              <a:ext cx="2185560" cy="1671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79560" y="4593240"/>
              <a:ext cx="175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07960" y="4243320"/>
              <a:ext cx="11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93880" y="4757760"/>
              <a:ext cx="77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50920" y="5271840"/>
              <a:ext cx="51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22920" y="4057560"/>
              <a:ext cx="2542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现和应用配置文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或进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tup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模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1019160" y="5949720"/>
            <a:ext cx="7873920" cy="6778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480" bIns="51480" anchor="t">
            <a:normAutofit/>
          </a:bodyPr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没有配置文件与有配置文件的路由器启动对比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75240" y="1484280"/>
            <a:ext cx="18144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4154400" y="1052640"/>
            <a:ext cx="1675080" cy="792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422280" y="1916280"/>
            <a:ext cx="7156440" cy="2009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8360" y="1989000"/>
            <a:ext cx="6910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stem Configuration Dialog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ontinue with configuration dialog? [yes/no]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t any point you may enter a question mark '?' for help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e ctrl-c to abort configuration dialog at any promp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efault settings are in square brackets '[ 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169360" y="3789360"/>
            <a:ext cx="1754280" cy="689040"/>
          </a:xfrm>
          <a:custGeom>
            <a:avLst/>
            <a:gdLst/>
            <a:ahLst/>
            <a:rect l="l" t="t" r="r" b="b"/>
            <a:pathLst>
              <a:path w="1353" h="193">
                <a:moveTo>
                  <a:pt x="1352" y="192"/>
                </a:moveTo>
                <a:lnTo>
                  <a:pt x="0" y="0"/>
                </a:lnTo>
                <a:lnTo>
                  <a:pt x="1352" y="128"/>
                </a:lnTo>
                <a:lnTo>
                  <a:pt x="1352" y="192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8360" y="4149720"/>
            <a:ext cx="170028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u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99160" y="3819600"/>
            <a:ext cx="3924000" cy="19238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89520" y="3900600"/>
            <a:ext cx="39384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Router con0 is now avail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Press RETURN to get start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6056280" y="5229360"/>
            <a:ext cx="2187360" cy="633240"/>
            <a:chOff x="6056280" y="5229360"/>
            <a:chExt cx="2187360" cy="633240"/>
          </a:xfrm>
        </p:grpSpPr>
        <p:sp>
          <p:nvSpPr>
            <p:cNvPr id="1047" name=""/>
            <p:cNvSpPr/>
            <p:nvPr/>
          </p:nvSpPr>
          <p:spPr>
            <a:xfrm>
              <a:off x="6056280" y="5229360"/>
              <a:ext cx="1360440" cy="490320"/>
            </a:xfrm>
            <a:custGeom>
              <a:avLst/>
              <a:gdLst/>
              <a:ahLst/>
              <a:rect l="l" t="t" r="r" b="b"/>
              <a:pathLst>
                <a:path w="1353" h="193">
                  <a:moveTo>
                    <a:pt x="1352" y="192"/>
                  </a:moveTo>
                  <a:lnTo>
                    <a:pt x="0" y="0"/>
                  </a:lnTo>
                  <a:lnTo>
                    <a:pt x="1352" y="128"/>
                  </a:lnTo>
                  <a:lnTo>
                    <a:pt x="1352" y="192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26040" y="5229360"/>
              <a:ext cx="131760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户模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5052960" y="5076720"/>
            <a:ext cx="3130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Rou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启动时在控制台上的输出内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6888240" y="1117440"/>
            <a:ext cx="1382760" cy="13748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7246800" y="1519200"/>
            <a:ext cx="115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控制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012680" y="1852560"/>
            <a:ext cx="7156440" cy="40226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211760" y="1995840"/>
            <a:ext cx="64749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#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宋体"/>
              </a:rPr>
              <a:t>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--- System Configuration Dialog 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ntinue with configuration dialog? [yes/no]: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t any point you may enter a question mark '?' for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se ctrl-c to abort configuration dialog at any prom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settings are in square brackets '[]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asic management setup configures only enough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or management of the system, extended setup will ask 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o configure each interface on th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ould you like to enter basic management setup? [yes/no]: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tup: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初始配置对话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配置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395280" y="1511280"/>
            <a:ext cx="74898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534960" y="1197000"/>
            <a:ext cx="7180200" cy="462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3760" rIns="2376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10080" y="2671920"/>
            <a:ext cx="3786120" cy="16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宋体"/>
              </a:rPr>
              <a:t>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宋体"/>
              </a:rPr>
              <a:t>使用技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35760" y="12398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99960" y="1239840"/>
            <a:ext cx="578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011320" y="1239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39000" y="1501920"/>
            <a:ext cx="18583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Translating "CLOK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560" y="1738440"/>
            <a:ext cx="6613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Unknown command or computer name, or unable to find comput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30360" y="2001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0360" y="42386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0360" y="4971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60" y="223668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9600" y="2236680"/>
            <a:ext cx="4867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90720" y="22366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7560" y="2500200"/>
            <a:ext cx="14011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ear  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0360" y="273852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5760" y="29750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00320" y="2975040"/>
            <a:ext cx="6696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120760" y="29750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0080" y="323676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30360" y="3471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5760" y="373680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00680" y="3736800"/>
            <a:ext cx="8524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2600" y="3975120"/>
            <a:ext cx="2864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t     Set the time and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35760" y="447516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1400" y="4475160"/>
            <a:ext cx="10353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0080" y="471492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88960" y="43815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60" y="521352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04640" y="5213520"/>
            <a:ext cx="19497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Ctrl-P&gt;clock se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0800" y="5472000"/>
            <a:ext cx="23155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hh:mm:ss  Current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88960" y="5070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770280" y="2449440"/>
            <a:ext cx="4257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符号翻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回上一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427120" y="1606680"/>
            <a:ext cx="1371600" cy="133344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252960" y="4006080"/>
            <a:ext cx="545760" cy="135900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716120" y="2355840"/>
            <a:ext cx="2082600" cy="10540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2109960" y="3498120"/>
            <a:ext cx="1688760" cy="3682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层的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了基于某个协议的逻辑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数据通过网络的最佳路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不同的媒介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482760" y="1654200"/>
            <a:ext cx="6005520" cy="433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宋体"/>
              </a:rPr>
              <a:t>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宋体"/>
              </a:rPr>
              <a:t>使用技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23800" y="1654200"/>
            <a:ext cx="110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 cl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23080" y="1905120"/>
            <a:ext cx="144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Translating "CLOK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4800" y="2130480"/>
            <a:ext cx="501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Unknown command or computer name, or unable to find computer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9120" y="23828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9120" y="45194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9120" y="52214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24520" y="260676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3800" y="2859120"/>
            <a:ext cx="110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clear  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9120" y="308628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24520" y="33116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22360" y="3562200"/>
            <a:ext cx="165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9120" y="378792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24520" y="404028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20920" y="4267080"/>
            <a:ext cx="220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set     Set the time and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24520" y="474516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2360" y="4975200"/>
            <a:ext cx="165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9520" y="46562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4520" y="545148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2440" y="5699160"/>
            <a:ext cx="22240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hh:mm:ss  Curren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9520" y="53150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68400" y="2131920"/>
            <a:ext cx="5183280" cy="41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80520" y="213660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50480" y="2136600"/>
            <a:ext cx="18583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11804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84840" y="236520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70080" y="26128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280520" y="284328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51200" y="2843280"/>
            <a:ext cx="2041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262400" y="28432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87360" y="3090960"/>
            <a:ext cx="2864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1-31&gt;       Day of the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383000" y="3090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86640" y="3319560"/>
            <a:ext cx="26812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ONTH     Month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62320" y="33195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70080" y="35463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80520" y="37958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51920" y="3795840"/>
            <a:ext cx="23155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92520" y="3795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87720" y="4025880"/>
            <a:ext cx="30470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^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06920" y="40258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1320" y="4276800"/>
            <a:ext cx="40528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valid input detected at the '^' m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70080" y="45021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280520" y="475452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53720" y="4754520"/>
            <a:ext cx="27727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284840" y="497988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70080" y="52052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80520" y="545796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54440" y="5457960"/>
            <a:ext cx="29556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Augu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84480" y="5683320"/>
            <a:ext cx="2041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1993-2035&gt;    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94480" y="2782800"/>
            <a:ext cx="2816280" cy="20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2772720"/>
            <a:ext cx="2592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73680" y="4317840"/>
            <a:ext cx="877680" cy="12700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62520" y="2984400"/>
            <a:ext cx="18032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80040" y="3860640"/>
            <a:ext cx="14857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6000" y="3572640"/>
            <a:ext cx="2592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法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4360" y="4149000"/>
            <a:ext cx="259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900000" y="1197000"/>
            <a:ext cx="36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用户模式进入特权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09720" y="1547640"/>
            <a:ext cx="3884400" cy="5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&gt;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927000" y="2347920"/>
            <a:ext cx="4005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特权模式进入全局配置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36720" y="2698920"/>
            <a:ext cx="395136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config  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(config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27000" y="3498840"/>
            <a:ext cx="4005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路由器配置主机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36720" y="3849840"/>
            <a:ext cx="424008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(config)#hostname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4651200"/>
            <a:ext cx="439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入路由器的以太口配置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09720" y="5002200"/>
            <a:ext cx="517500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900000" y="119700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n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900000" y="1547640"/>
            <a:ext cx="648036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rcher(config)#banner motd $This is Apte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mpany’s Router! Please don’t chang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nfiguration without permission!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27000" y="2852640"/>
            <a:ext cx="3861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接口的描述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6720" y="3274920"/>
            <a:ext cx="644364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description This is a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port used to connecting the company’s intranet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密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927000" y="1197000"/>
            <a:ext cx="4508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900000" y="1557360"/>
            <a:ext cx="4824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password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900000" y="270828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特权模式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07920" y="3716280"/>
            <a:ext cx="4888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安全的加密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07920" y="4078440"/>
            <a:ext cx="495936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enable secret 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00000" y="3068640"/>
            <a:ext cx="49672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enable password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907920" y="4651200"/>
            <a:ext cx="5032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所有密码进行加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07920" y="5013360"/>
            <a:ext cx="568008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service password-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路由器的控制台会话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27000" y="16286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会话时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00000" y="1989000"/>
            <a:ext cx="482436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exec-timeout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27000" y="299556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输出日志同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00000" y="335592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logging 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串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27000" y="119700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入路由器的串口配置模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00000" y="155736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7000" y="234936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查看路由器串口的物理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900000" y="2709720"/>
            <a:ext cx="6408720" cy="9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#show controllers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HD unit 0,idb=0x122c04,driver structure at 0x1270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uffer size 1524 HD unit 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.35 D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o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98640" y="371628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置串口的时钟频率（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C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端口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00000" y="407664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clock rate 6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98640" y="4869000"/>
            <a:ext cx="30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置串口的带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00000" y="522936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bandwidth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串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900000" y="1268280"/>
            <a:ext cx="489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启用路由器的串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00000" y="1630440"/>
            <a:ext cx="64087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no 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K-3-UPDOWN:  Interface Seria0/0, 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EPROTO-5-UPDOWN:  Line Protocol on Interface Serial0/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900000" y="3430440"/>
            <a:ext cx="496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禁用路由器的串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00000" y="3790800"/>
            <a:ext cx="6408720" cy="17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K-3-UPDOWN:  Interface Seria0/0, changed stat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dministratively dow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EPROTO-5-UPDOWN:  Line Protocol on Interface Serial0/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串口状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042920" y="1917720"/>
            <a:ext cx="6408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show 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900000" y="3357720"/>
            <a:ext cx="7488360" cy="20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可操作状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连接问题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接口问题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down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禁用状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administratively down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接口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927000" y="16286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以太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00000" y="1989000"/>
            <a:ext cx="684072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ip address 192.168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927000" y="2997360"/>
            <a:ext cx="302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串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900000" y="3357720"/>
            <a:ext cx="6840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ip address 192.168.2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ow version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50920" y="1125360"/>
            <a:ext cx="856116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34800" y="1197000"/>
            <a:ext cx="85107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isco Internetwork Operating System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OS (tm) 2600 Software (C2600-JS-L), Version 12.0(3), RELEASE SOFTWARE (f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pyright (c) 1986-1999 by cisco System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mpiled Mon 08-Feb-99 18:18 by phangu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mage text-base: 0x03050C84, data-base: 0x000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M: System Bootstrap, Version 11.0(10c),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BOOTFLASH: 3000 Bootstrap Software (IGS-BOOT-R), Version 11.0(10c), RELEASE SOFTWARE(f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g_ro_a uptime is 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ystem restarted by re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ystem image file is "flash:c2600-js-l_120-3.bi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(output omit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nfiguration register is 0x210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76280" y="5762520"/>
            <a:ext cx="4306680" cy="352440"/>
          </a:xfrm>
          <a:custGeom>
            <a:avLst/>
            <a:gdLst/>
            <a:ahLst/>
            <a:rect l="l" t="t" r="r" b="b"/>
            <a:pathLst>
              <a:path w="2713" h="222">
                <a:moveTo>
                  <a:pt x="0" y="0"/>
                </a:moveTo>
                <a:lnTo>
                  <a:pt x="343" y="222"/>
                </a:lnTo>
                <a:lnTo>
                  <a:pt x="2712" y="216"/>
                </a:lnTo>
                <a:lnTo>
                  <a:pt x="2713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4105440"/>
            <a:ext cx="3838680" cy="618840"/>
          </a:xfrm>
          <a:custGeom>
            <a:avLst/>
            <a:gdLst/>
            <a:ahLst/>
            <a:rect l="l" t="t" r="r" b="b"/>
            <a:pathLst>
              <a:path w="2418" h="390">
                <a:moveTo>
                  <a:pt x="0" y="90"/>
                </a:moveTo>
                <a:lnTo>
                  <a:pt x="1164" y="390"/>
                </a:lnTo>
                <a:lnTo>
                  <a:pt x="2418" y="390"/>
                </a:lnTo>
                <a:lnTo>
                  <a:pt x="2418" y="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3430440"/>
            <a:ext cx="3424320" cy="533520"/>
          </a:xfrm>
          <a:custGeom>
            <a:avLst/>
            <a:gdLst/>
            <a:ahLst/>
            <a:rect l="l" t="t" r="r" b="b"/>
            <a:pathLst>
              <a:path w="2157" h="336">
                <a:moveTo>
                  <a:pt x="0" y="0"/>
                </a:moveTo>
                <a:lnTo>
                  <a:pt x="936" y="336"/>
                </a:lnTo>
                <a:lnTo>
                  <a:pt x="2157" y="329"/>
                </a:lnTo>
                <a:lnTo>
                  <a:pt x="2157" y="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7560" y="2847960"/>
            <a:ext cx="1855800" cy="260280"/>
          </a:xfrm>
          <a:custGeom>
            <a:avLst/>
            <a:gdLst/>
            <a:ahLst/>
            <a:rect l="l" t="t" r="r" b="b"/>
            <a:pathLst>
              <a:path w="1169" h="164">
                <a:moveTo>
                  <a:pt x="0" y="20"/>
                </a:moveTo>
                <a:lnTo>
                  <a:pt x="108" y="164"/>
                </a:lnTo>
                <a:lnTo>
                  <a:pt x="1169" y="162"/>
                </a:lnTo>
                <a:lnTo>
                  <a:pt x="1169" y="0"/>
                </a:lnTo>
                <a:lnTo>
                  <a:pt x="0" y="2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9640" y="5000760"/>
            <a:ext cx="3971880" cy="447480"/>
          </a:xfrm>
          <a:custGeom>
            <a:avLst/>
            <a:gdLst/>
            <a:ahLst/>
            <a:rect l="l" t="t" r="r" b="b"/>
            <a:pathLst>
              <a:path w="2502" h="282">
                <a:moveTo>
                  <a:pt x="0" y="12"/>
                </a:moveTo>
                <a:lnTo>
                  <a:pt x="1290" y="282"/>
                </a:lnTo>
                <a:lnTo>
                  <a:pt x="2502" y="276"/>
                </a:lnTo>
                <a:lnTo>
                  <a:pt x="2502" y="0"/>
                </a:lnTo>
                <a:lnTo>
                  <a:pt x="0" y="12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120"/>
            <a:ext cx="9144000" cy="8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5320" y="2759040"/>
            <a:ext cx="1570320" cy="625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06840" y="2889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5320" y="4537080"/>
            <a:ext cx="1570320" cy="9684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7600" y="48182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05320" y="5769000"/>
            <a:ext cx="1570320" cy="6825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76680" y="5913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5320" y="3597120"/>
            <a:ext cx="1570320" cy="644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9640" y="37368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0920" y="340992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498760"/>
            <a:ext cx="1901880" cy="35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82800" y="249516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15880" y="3103560"/>
            <a:ext cx="3332160" cy="3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2520" y="309384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13000" y="309384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30970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8680" y="3925800"/>
            <a:ext cx="3799080" cy="31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040" y="391752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6120" y="39175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9400" y="3929040"/>
            <a:ext cx="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4716360"/>
            <a:ext cx="399924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4560" y="46861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4520" y="4686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9400" y="4724280"/>
            <a:ext cx="0" cy="2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35000" y="6102360"/>
            <a:ext cx="37371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0560" y="612756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442120"/>
            <a:ext cx="4327560" cy="30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8560" y="54226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6120" y="54226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9400" y="54608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91000" y="2038320"/>
            <a:ext cx="43812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76520" y="1616040"/>
            <a:ext cx="73188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80120" y="1673280"/>
            <a:ext cx="1569960" cy="33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73640" y="2041560"/>
            <a:ext cx="157320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5440" y="2049480"/>
            <a:ext cx="14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77680" y="1665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0120" y="2416320"/>
            <a:ext cx="1569960" cy="320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40760" y="2398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12120" y="2736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13200" y="374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12120" y="6008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3760" y="4865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10320" y="222012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33920" y="5436720"/>
            <a:ext cx="754200" cy="337320"/>
            <a:chOff x="4633920" y="5436720"/>
            <a:chExt cx="754200" cy="337320"/>
          </a:xfrm>
        </p:grpSpPr>
        <p:sp>
          <p:nvSpPr>
            <p:cNvPr id="152" name=""/>
            <p:cNvSpPr/>
            <p:nvPr/>
          </p:nvSpPr>
          <p:spPr>
            <a:xfrm>
              <a:off x="4788000" y="5447520"/>
              <a:ext cx="434880" cy="299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33920" y="543672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33920" y="4701960"/>
            <a:ext cx="754200" cy="337320"/>
            <a:chOff x="4633920" y="4701960"/>
            <a:chExt cx="754200" cy="337320"/>
          </a:xfrm>
        </p:grpSpPr>
        <p:sp>
          <p:nvSpPr>
            <p:cNvPr id="155" name=""/>
            <p:cNvSpPr/>
            <p:nvPr/>
          </p:nvSpPr>
          <p:spPr>
            <a:xfrm>
              <a:off x="4788000" y="4718880"/>
              <a:ext cx="434880" cy="28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3920" y="470196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830920" y="418464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30920" y="5440320"/>
            <a:ext cx="438120" cy="31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0840" y="2757600"/>
            <a:ext cx="533520" cy="641160"/>
          </a:xfrm>
          <a:custGeom>
            <a:avLst/>
            <a:gdLst>
              <a:gd name="textAreaLeft" fmla="*/ 0 w 533520"/>
              <a:gd name="textAreaRight" fmla="*/ 533880 w 53352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97600" y="5767560"/>
            <a:ext cx="533520" cy="706320"/>
          </a:xfrm>
          <a:custGeom>
            <a:avLst/>
            <a:gdLst>
              <a:gd name="textAreaLeft" fmla="*/ 0 w 533520"/>
              <a:gd name="textAreaRight" fmla="*/ 533880 w 53352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1480" y="3591000"/>
            <a:ext cx="533160" cy="666720"/>
          </a:xfrm>
          <a:custGeom>
            <a:avLst/>
            <a:gdLst>
              <a:gd name="textAreaLeft" fmla="*/ 0 w 533160"/>
              <a:gd name="textAreaRight" fmla="*/ 533520 w 5331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88240" y="4530600"/>
            <a:ext cx="533160" cy="993960"/>
          </a:xfrm>
          <a:custGeom>
            <a:avLst/>
            <a:gdLst>
              <a:gd name="textAreaLeft" fmla="*/ 0 w 533160"/>
              <a:gd name="textAreaRight" fmla="*/ 533520 w 5331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封装数据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show running-config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#show running-conf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50920" y="1341360"/>
            <a:ext cx="712944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running-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uilding configu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urrent configuration:493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Last configuration change at 17:37:14 UTC Sat 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Version 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debu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lo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 service password-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show startup-config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935000" y="56624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删除路由器的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08000" y="6022800"/>
            <a:ext cx="5256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erase startup-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0920" y="1341360"/>
            <a:ext cx="712944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startup-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433 out of 2968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version 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debu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lo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 service password-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emory-size iomem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p subnet-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层的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及子网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路由和默认路由的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硬件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路由器的基本操作，能够根据指定的要求配置路由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和默认路由，并对其进行检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B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：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1447920" y="1670040"/>
            <a:ext cx="5788080" cy="37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实验拓朴结构图连接各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对路由器的各项配置，熟悉各命令的使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B2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：静态路由和默认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332000" y="1484280"/>
            <a:ext cx="4824360" cy="4362480"/>
            <a:chOff x="1332000" y="1484280"/>
            <a:chExt cx="4824360" cy="4362480"/>
          </a:xfrm>
        </p:grpSpPr>
        <p:grpSp>
          <p:nvGrpSpPr>
            <p:cNvPr id="1227" name=""/>
            <p:cNvGrpSpPr/>
            <p:nvPr/>
          </p:nvGrpSpPr>
          <p:grpSpPr>
            <a:xfrm>
              <a:off x="1332000" y="1484280"/>
              <a:ext cx="1511280" cy="4362480"/>
              <a:chOff x="1332000" y="1484280"/>
              <a:chExt cx="1511280" cy="4362480"/>
            </a:xfrm>
          </p:grpSpPr>
          <p:graphicFrame>
            <p:nvGraphicFramePr>
              <p:cNvPr id="1228" name=""/>
              <p:cNvGraphicFramePr/>
              <p:nvPr/>
            </p:nvGraphicFramePr>
            <p:xfrm>
              <a:off x="1403280" y="1484280"/>
              <a:ext cx="1440000" cy="833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03280" y="1484280"/>
                        <a:ext cx="1440000" cy="83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0" name=""/>
              <p:cNvGraphicFramePr/>
              <p:nvPr/>
            </p:nvGraphicFramePr>
            <p:xfrm>
              <a:off x="1332000" y="3357720"/>
              <a:ext cx="1439640" cy="639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32000" y="3357720"/>
                        <a:ext cx="143964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2" name=""/>
              <p:cNvGraphicFramePr/>
              <p:nvPr/>
            </p:nvGraphicFramePr>
            <p:xfrm>
              <a:off x="1476360" y="4869000"/>
              <a:ext cx="1081080" cy="977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76360" y="4869000"/>
                        <a:ext cx="1081080" cy="97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4" name=""/>
              <p:cNvSpPr/>
              <p:nvPr/>
            </p:nvSpPr>
            <p:spPr>
              <a:xfrm>
                <a:off x="2050920" y="2276640"/>
                <a:ext cx="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79640" y="4005360"/>
                <a:ext cx="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645080" y="1484280"/>
              <a:ext cx="1511280" cy="4362480"/>
              <a:chOff x="4645080" y="1484280"/>
              <a:chExt cx="1511280" cy="4362480"/>
            </a:xfrm>
          </p:grpSpPr>
          <p:graphicFrame>
            <p:nvGraphicFramePr>
              <p:cNvPr id="1237" name=""/>
              <p:cNvGraphicFramePr/>
              <p:nvPr/>
            </p:nvGraphicFramePr>
            <p:xfrm>
              <a:off x="4716360" y="1484280"/>
              <a:ext cx="1440000" cy="833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16360" y="1484280"/>
                        <a:ext cx="1440000" cy="83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9" name=""/>
              <p:cNvGraphicFramePr/>
              <p:nvPr/>
            </p:nvGraphicFramePr>
            <p:xfrm>
              <a:off x="4645080" y="3357720"/>
              <a:ext cx="1439640" cy="639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4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5080" y="3357720"/>
                        <a:ext cx="143964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1" name=""/>
              <p:cNvGraphicFramePr/>
              <p:nvPr/>
            </p:nvGraphicFramePr>
            <p:xfrm>
              <a:off x="4789440" y="4869000"/>
              <a:ext cx="1081080" cy="977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4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789440" y="4869000"/>
                        <a:ext cx="1081080" cy="97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3" name=""/>
              <p:cNvSpPr/>
              <p:nvPr/>
            </p:nvSpPr>
            <p:spPr>
              <a:xfrm>
                <a:off x="5364000" y="2276640"/>
                <a:ext cx="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92720" y="4005360"/>
                <a:ext cx="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2843280" y="191628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6" name=""/>
          <p:cNvGraphicFramePr/>
          <p:nvPr/>
        </p:nvGraphicFramePr>
        <p:xfrm>
          <a:off x="1403280" y="1484280"/>
          <a:ext cx="1440000" cy="83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484280"/>
                    <a:ext cx="1440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"/>
          <p:cNvGraphicFramePr/>
          <p:nvPr/>
        </p:nvGraphicFramePr>
        <p:xfrm>
          <a:off x="1332000" y="3357720"/>
          <a:ext cx="1439640" cy="63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0" y="3357720"/>
                    <a:ext cx="1439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"/>
          <p:cNvGraphicFramePr/>
          <p:nvPr/>
        </p:nvGraphicFramePr>
        <p:xfrm>
          <a:off x="1476360" y="4869000"/>
          <a:ext cx="1081080" cy="97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6360" y="4869000"/>
                    <a:ext cx="1081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205092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79640" y="4005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92360" y="5948280"/>
            <a:ext cx="2087640" cy="865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io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192.168.1.10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ateway:192.168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92720" y="5950080"/>
            <a:ext cx="208764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io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192.168.3.10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ateway:192.168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8360" y="1270080"/>
            <a:ext cx="936720" cy="358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u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156360" y="1268280"/>
            <a:ext cx="93672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ut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79280" y="2565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0/0:192.168.1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56000" y="1125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0/0:192.168.2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22920" y="263844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0/0:192.168.3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16360" y="2349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0/0:192.168.2.2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187280" y="2276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771280" y="148428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851280" y="1915920"/>
            <a:ext cx="86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5363640" y="2276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实验拓朴结构图连接各设备，并配置相关参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，最终可以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通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默认路由，最终可以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通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ip rou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看路由条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0440" y="2082960"/>
            <a:ext cx="1569960" cy="339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5800" y="2585880"/>
            <a:ext cx="1930320" cy="33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57148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1650960"/>
            <a:ext cx="731880" cy="571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35520" y="5373720"/>
            <a:ext cx="3979800" cy="29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5339880"/>
            <a:ext cx="40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dr + IP + TCP 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433600">
            <a:off x="3070080" y="5651640"/>
            <a:ext cx="173700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433600">
            <a:off x="3253320" y="565704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4681440"/>
            <a:ext cx="3048120" cy="29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53080" y="4650840"/>
            <a:ext cx="30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+ TCP 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08400" y="4648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309400">
            <a:off x="2763720" y="4946760"/>
            <a:ext cx="195120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0309400">
            <a:off x="3086640" y="49575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4008600"/>
            <a:ext cx="2387520" cy="33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8040" y="4005000"/>
            <a:ext cx="30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309400">
            <a:off x="2572920" y="4236840"/>
            <a:ext cx="173664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309400">
            <a:off x="2891160" y="42332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800" y="3303720"/>
            <a:ext cx="1930320" cy="32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08320" y="328572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309400">
            <a:off x="2420640" y="3588840"/>
            <a:ext cx="173664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0309400">
            <a:off x="2633760" y="3600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970520" y="2248920"/>
            <a:ext cx="438120" cy="28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7640" y="6180120"/>
            <a:ext cx="3148200" cy="32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62360" y="618444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70520" y="57513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70520" y="502920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70520" y="36957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70520" y="29829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70520" y="436248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0440" y="2787480"/>
            <a:ext cx="1569960" cy="625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7160" y="2917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0440" y="4565520"/>
            <a:ext cx="1569960" cy="9684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920" y="4846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0440" y="5797440"/>
            <a:ext cx="1569960" cy="6825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7000" y="5942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0440" y="3654360"/>
            <a:ext cx="1569960" cy="644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60" y="3765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11240" y="345204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0440" y="1720800"/>
            <a:ext cx="1569960" cy="33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0440" y="2444760"/>
            <a:ext cx="1569960" cy="32076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039680" y="435708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011240" y="5582520"/>
            <a:ext cx="438120" cy="31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2640" y="2077920"/>
            <a:ext cx="14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240" y="1712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8320" y="24271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解封装数据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头的格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05120"/>
            <a:ext cx="8072280" cy="4572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46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514600"/>
            <a:ext cx="8071920" cy="3048120"/>
            <a:chOff x="228600" y="2514600"/>
            <a:chExt cx="8071920" cy="3048120"/>
          </a:xfrm>
        </p:grpSpPr>
        <p:sp>
          <p:nvSpPr>
            <p:cNvPr id="215" name=""/>
            <p:cNvSpPr/>
            <p:nvPr/>
          </p:nvSpPr>
          <p:spPr>
            <a:xfrm>
              <a:off x="228600" y="251460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600" y="312408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" y="373392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600" y="434340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" y="495288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56272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06720" y="190332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ers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6520" y="44949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tination IP Address (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7720" y="510480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s (0 or 32 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01280" y="58665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(varies 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82120" y="1905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523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5800" y="1461240"/>
            <a:ext cx="67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9136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684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7260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00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7000" y="19033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a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ngth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71400" y="190440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ority  &amp; Ty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Service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89840" y="205668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tal Length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16600" y="26661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entification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02080" y="2482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lag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2080" y="26661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gment offset (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5640" y="3260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me to live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5520" y="327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tocol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0800" y="3276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hecksum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81960" y="388548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rce IP Address (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10480" y="3238560"/>
            <a:ext cx="16524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35440" y="320004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作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8640" y="1133640"/>
            <a:ext cx="8210520" cy="4944600"/>
            <a:chOff x="458640" y="1133640"/>
            <a:chExt cx="8210520" cy="4944600"/>
          </a:xfrm>
        </p:grpSpPr>
        <p:sp>
          <p:nvSpPr>
            <p:cNvPr id="250" name=""/>
            <p:cNvSpPr/>
            <p:nvPr/>
          </p:nvSpPr>
          <p:spPr>
            <a:xfrm>
              <a:off x="3297240" y="3541680"/>
              <a:ext cx="2592360" cy="1522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132000" y="4122360"/>
              <a:ext cx="1219320" cy="136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71" y="0"/>
                  </a:lnTo>
                  <a:lnTo>
                    <a:pt x="21600" y="10800"/>
                  </a:lnTo>
                  <a:lnTo>
                    <a:pt x="1977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 rot="5400000">
              <a:off x="4840920" y="302328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816440" y="1209600"/>
              <a:ext cx="1252440" cy="1380960"/>
              <a:chOff x="4816440" y="1209600"/>
              <a:chExt cx="1252440" cy="13809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816440" y="1936440"/>
                <a:ext cx="1211040" cy="654120"/>
                <a:chOff x="4816440" y="1936440"/>
                <a:chExt cx="1211040" cy="6541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608440" y="21063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16440" y="19364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16440" y="21430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230440" y="23014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36920" y="23824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30440" y="23000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57440" y="23446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64080" y="24685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33760" y="23605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836960" y="21906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836960" y="22255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36960" y="22618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36960" y="22968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33680" y="23954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935240" y="1209600"/>
                <a:ext cx="1133640" cy="1066680"/>
                <a:chOff x="4935240" y="1209600"/>
                <a:chExt cx="1133640" cy="106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020920" y="19033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032080" y="19112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44840" y="19922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001840" y="19983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73560" y="12096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32280" y="13921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35240" y="12189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35240" y="12999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97160" y="13791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038560" y="14284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90760" y="14810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3063960" y="4697280"/>
              <a:ext cx="1252440" cy="1380960"/>
              <a:chOff x="3063960" y="4697280"/>
              <a:chExt cx="1252440" cy="13809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063960" y="5424120"/>
                <a:ext cx="1211040" cy="654120"/>
                <a:chOff x="3063960" y="5424120"/>
                <a:chExt cx="1211040" cy="654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55960" y="559404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63960" y="542412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63960" y="563076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77960" y="578916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84440" y="587016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77960" y="578772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04960" y="583236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11600" y="595620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81280" y="584820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84480" y="567828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084480" y="57132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084480" y="574956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84480" y="578448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81200" y="588312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182760" y="4697280"/>
                <a:ext cx="1133640" cy="1066680"/>
                <a:chOff x="3182760" y="4697280"/>
                <a:chExt cx="1133640" cy="1066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268440" y="539100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79600" y="539892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492360" y="547992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249360" y="548604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421080" y="469728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979800" y="487980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82760" y="470664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82760" y="478764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244680" y="486684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286080" y="491616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38280" y="496872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rot="16200000">
              <a:off x="685800" y="4190760"/>
              <a:ext cx="1066680" cy="152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33520" y="4697280"/>
              <a:ext cx="1252440" cy="1380960"/>
              <a:chOff x="533520" y="4697280"/>
              <a:chExt cx="1252440" cy="13809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33520" y="5424120"/>
                <a:ext cx="1211040" cy="654120"/>
                <a:chOff x="533520" y="5424120"/>
                <a:chExt cx="1211040" cy="654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325520" y="559404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33520" y="542412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520" y="563076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947520" y="578916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54000" y="587016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947520" y="578772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74520" y="583236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81160" y="595620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50840" y="584820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4040" y="567828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4040" y="57132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54040" y="574956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4040" y="578448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950760" y="588312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" y="4697280"/>
                <a:ext cx="1133640" cy="1066680"/>
                <a:chOff x="652320" y="4697280"/>
                <a:chExt cx="1133640" cy="1066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38000" y="539100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9160" y="539892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61920" y="547992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8920" y="548604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90640" y="469728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49360" y="487980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2320" y="470664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52320" y="478764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14240" y="486684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5640" y="491616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07840" y="496872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 flipV="1" rot="5400000">
              <a:off x="7263360" y="287100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238880" y="1133640"/>
              <a:ext cx="1252440" cy="1380960"/>
              <a:chOff x="7238880" y="1133640"/>
              <a:chExt cx="1252440" cy="13809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7238880" y="1860480"/>
                <a:ext cx="1211040" cy="654120"/>
                <a:chOff x="7238880" y="1860480"/>
                <a:chExt cx="1211040" cy="654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030880" y="203040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38880" y="186048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38880" y="206712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652880" y="222552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59360" y="230652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652880" y="222408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679880" y="226872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886520" y="239256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56200" y="228456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259400" y="211464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259400" y="214956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59400" y="218592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59400" y="222084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656120" y="231948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357680" y="1133640"/>
                <a:ext cx="1133640" cy="1066680"/>
                <a:chOff x="7357680" y="1133640"/>
                <a:chExt cx="1133640" cy="1066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443360" y="182736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54520" y="183528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667280" y="191628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24280" y="192240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96000" y="113364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154720" y="131616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357680" y="114300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57680" y="122400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19600" y="130320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61000" y="135252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513200" y="140508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458640" y="3311640"/>
              <a:ext cx="148284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86680" y="3311640"/>
              <a:ext cx="148248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480000">
              <a:off x="1775880" y="350172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1480000">
              <a:off x="5781240" y="350172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218600" y="510552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733200" y="510552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1523880"/>
              <a:ext cx="1447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72200" y="152388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68560" y="3311640"/>
              <a:ext cx="148284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843480" y="1979640"/>
              <a:ext cx="3412080" cy="838080"/>
              <a:chOff x="843480" y="1979640"/>
              <a:chExt cx="3412080" cy="838080"/>
            </a:xfrm>
          </p:grpSpPr>
          <p:sp>
            <p:nvSpPr>
              <p:cNvPr id="377" name=""/>
              <p:cNvSpPr/>
              <p:nvPr/>
            </p:nvSpPr>
            <p:spPr>
              <a:xfrm>
                <a:off x="850680" y="1979640"/>
                <a:ext cx="340488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47600" y="2139840"/>
                <a:ext cx="2206080" cy="51768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92.168.1.1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3480" y="2046960"/>
                <a:ext cx="1015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5483160" y="5178600"/>
              <a:ext cx="1355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Hos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3160" y="4275000"/>
              <a:ext cx="13557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etwork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91160" y="4967280"/>
              <a:ext cx="488880" cy="530280"/>
            </a:xfrm>
            <a:custGeom>
              <a:avLst/>
              <a:gdLst>
                <a:gd name="textAreaLeft" fmla="*/ 71640 w 488880"/>
                <a:gd name="textAreaRight" fmla="*/ 417240 w 488880"/>
                <a:gd name="textAreaTop" fmla="*/ 71640 h 530280"/>
                <a:gd name="textAreaBottom" fmla="*/ 458640 h 530280"/>
              </a:gdLst>
              <a:ahLst/>
              <a:rect l="textAreaLeft" t="textAreaTop" r="textAreaRight" b="textAreaBottom"/>
              <a:pathLst>
                <a:path w="21600" h="23428">
                  <a:moveTo>
                    <a:pt x="10800" y="0"/>
                  </a:moveTo>
                  <a:arcTo wR="10800" hR="10800" stAng="16200000" swAng="-5400000"/>
                  <a:lnTo>
                    <a:pt x="0" y="12628"/>
                  </a:lnTo>
                  <a:arcTo wR="10800" hR="10800" stAng="10800000" swAng="-5400000"/>
                  <a:lnTo>
                    <a:pt x="10800" y="2342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5152680" y="5256000"/>
              <a:ext cx="356400" cy="12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836960" y="3803400"/>
              <a:ext cx="663840" cy="63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15778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分十进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2568600"/>
            <a:ext cx="407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大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e4a8"/>
                </a:solidFill>
                <a:latin typeface="Arial"/>
                <a:ea typeface="宋体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6352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进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4702320"/>
            <a:ext cx="407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十进制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7920" y="54640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进制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234936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30520" y="2465280"/>
            <a:ext cx="1761840" cy="603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1560" y="2467080"/>
            <a:ext cx="175860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40160" y="2467080"/>
            <a:ext cx="175896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14256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1197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04160" y="2465280"/>
            <a:ext cx="175896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1655640"/>
            <a:ext cx="7010640" cy="684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2680" y="2313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11480" y="2340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1640" y="2340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7640" y="1805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ec"/>
                </a:solidFill>
                <a:latin typeface="Arial"/>
                <a:ea typeface="宋体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9280" y="1805400"/>
            <a:ext cx="8575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ec"/>
                </a:solidFill>
                <a:latin typeface="Arial"/>
                <a:ea typeface="宋体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7149240" y="398016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52480" y="3483000"/>
            <a:ext cx="6973560" cy="609120"/>
            <a:chOff x="1752480" y="3483000"/>
            <a:chExt cx="6973560" cy="609120"/>
          </a:xfrm>
        </p:grpSpPr>
        <p:sp>
          <p:nvSpPr>
            <p:cNvPr id="407" name=""/>
            <p:cNvSpPr/>
            <p:nvPr/>
          </p:nvSpPr>
          <p:spPr>
            <a:xfrm>
              <a:off x="1752480" y="3483720"/>
              <a:ext cx="1762200" cy="6040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81560" y="348372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39440" y="348372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67080" y="348300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57320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568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5448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0732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703520" y="5464080"/>
            <a:ext cx="6973560" cy="609480"/>
            <a:chOff x="1703520" y="5464080"/>
            <a:chExt cx="6973560" cy="609480"/>
          </a:xfrm>
        </p:grpSpPr>
        <p:sp>
          <p:nvSpPr>
            <p:cNvPr id="416" name=""/>
            <p:cNvSpPr/>
            <p:nvPr/>
          </p:nvSpPr>
          <p:spPr>
            <a:xfrm>
              <a:off x="1703520" y="5464800"/>
              <a:ext cx="1762200" cy="604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32600" y="54648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90480" y="54648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18120" y="546408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27672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0001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3e3ee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0111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0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712880" y="4778280"/>
            <a:ext cx="6973560" cy="609480"/>
            <a:chOff x="1712880" y="4778280"/>
            <a:chExt cx="6973560" cy="609480"/>
          </a:xfrm>
        </p:grpSpPr>
        <p:sp>
          <p:nvSpPr>
            <p:cNvPr id="424" name=""/>
            <p:cNvSpPr/>
            <p:nvPr/>
          </p:nvSpPr>
          <p:spPr>
            <a:xfrm>
              <a:off x="1712880" y="4779000"/>
              <a:ext cx="1762200" cy="604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960" y="47790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9840" y="47790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27480" y="477828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07972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3e3ee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8448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6272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99080" y="48546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48546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4312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48440" y="3102120"/>
            <a:ext cx="314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0564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7716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7252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396760" y="400248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3567960" y="402948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815120" y="4029480"/>
            <a:ext cx="484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19880" y="1195920"/>
            <a:ext cx="1061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2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88200" y="4653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24560" y="234936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530064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shanhgt</dc:creator>
  <dc:description/>
  <dc:language>en-US</dc:language>
  <cp:lastModifiedBy>wei.gao</cp:lastModifiedBy>
  <dcterms:modified xsi:type="dcterms:W3CDTF">2004-04-21T07:26:29Z</dcterms:modified>
  <cp:revision>267</cp:revision>
  <dc:subject/>
  <dc:title>计算机网络层协议与设备应用</dc:title>
</cp:coreProperties>
</file>