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742113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B75E7-2D7F-4BDE-8D28-3EE9A78651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2781360"/>
            <a:ext cx="8229600" cy="14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61040"/>
            <a:ext cx="8229600" cy="14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DE7FF-C7A0-4A63-BFD5-B23278CBA8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781360"/>
            <a:ext cx="4015800" cy="14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2781360"/>
            <a:ext cx="4015800" cy="14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61040"/>
            <a:ext cx="4015800" cy="14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61040"/>
            <a:ext cx="4015800" cy="14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2C9F3-0C9F-43A1-A81A-7A1901F9DB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2781360"/>
            <a:ext cx="2649600" cy="14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2781360"/>
            <a:ext cx="2649600" cy="14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2781360"/>
            <a:ext cx="2649600" cy="14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61040"/>
            <a:ext cx="2649600" cy="14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61040"/>
            <a:ext cx="2649600" cy="14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61040"/>
            <a:ext cx="2649600" cy="14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5E139-5845-44EB-99A4-E777337C0ED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2781360"/>
            <a:ext cx="8229600" cy="30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A3B56-5B4A-4D4D-99CB-7E41BD6F377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781360"/>
            <a:ext cx="822960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86972-F4AB-4E85-9DD8-D4D4AC6CBC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2781360"/>
            <a:ext cx="401580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2781360"/>
            <a:ext cx="401580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76C02-0BC2-4A10-96D6-623C192D82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74252-EA2A-4297-BEF6-822D5A4E24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1341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DF0DC-C93B-4452-BCAF-98FE01512B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2781360"/>
            <a:ext cx="4015800" cy="14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2781360"/>
            <a:ext cx="401580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61040"/>
            <a:ext cx="4015800" cy="14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CE9B0-41B1-4A61-A2D2-B4163D03D2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2781360"/>
            <a:ext cx="401580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2781360"/>
            <a:ext cx="4015800" cy="14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61040"/>
            <a:ext cx="4015800" cy="14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A42AB-30AE-41F7-A9A0-A7904FA9C5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781360"/>
            <a:ext cx="4015800" cy="14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781360"/>
            <a:ext cx="4015800" cy="14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61040"/>
            <a:ext cx="8229600" cy="14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1ACBB-2936-48BC-AD66-CB46D75979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781360"/>
            <a:ext cx="822960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05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22960" indent="-164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152000" indent="-164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81040" indent="-164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81040" indent="-164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81040" indent="-164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468000" y="6165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129AA-3A7F-44F2-A020-90609C2C05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>
            <a:lum bright="36000"/>
          </a:blip>
          <a:stretch/>
        </p:blipFill>
        <p:spPr>
          <a:xfrm>
            <a:off x="0" y="0"/>
            <a:ext cx="3492360" cy="129240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>
            <a:lum bright="6000"/>
          </a:blip>
          <a:stretch/>
        </p:blipFill>
        <p:spPr>
          <a:xfrm>
            <a:off x="6588000" y="5353200"/>
            <a:ext cx="2556000" cy="1504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1563120"/>
            <a:ext cx="6934320" cy="29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74"/>
              </a:spcBef>
              <a:spcAft>
                <a:spcPts val="7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时间管理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74"/>
              </a:spcBef>
              <a:spcAft>
                <a:spcPts val="7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Time Managemen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2003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年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月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266720" y="228240"/>
            <a:ext cx="3962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工作清单分析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066680" y="2133720"/>
            <a:ext cx="70106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分析你在一个工作日内都做了那些工作事项并填入下表，连续记录四周后汇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说明：累计超过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分钟的工作填入“工作事项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1120" y="380520"/>
            <a:ext cx="441936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工作重要性分析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752120"/>
            <a:ext cx="8534160" cy="35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分析一段时间内各工作事项的重要程度并填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说明：“重要性”的标准如下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非常重要  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A —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绝对重要（其他事情都可以不做也要做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重要 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B —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需要做（你不做就要出问题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不太重要  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C —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应该做（可做可不做但做比不做好一点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不重要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D —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可不做（做也不见得好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267080" y="456840"/>
            <a:ext cx="419112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工作紧急性分析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分析一段时间内各工作事项的紧急程度并填入下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说明：“紧急性”的标准如下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非常紧急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A —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现在就做（马上放下其他事情开始做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紧急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B —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短时间内需要做（一般为当天要做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不太紧急 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C —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可放一放再做（可纳入计划中去安排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不紧急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D —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什么时候干都行（无需计划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14440" y="533160"/>
            <a:ext cx="426708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工作效益性分析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这里的效益指投入单位的人力资源（时间、精力、努力）而产出的成果。分析一段时间内各工作事项的效益并填入下表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说明：“工作效益” 可以从以下三个的指标衡量：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A —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目标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职务贡献度：某事项对实现工作目标或履行岗位职责的贡献大小，贡献越大，效益越高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B —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必要性：某事项由你来做的必要程度（可否由其他同事或下属完成），必要性越强，效益越高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C —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所需人力资源（时间、精力、努力），显然，所需资源越少，效益越高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95320" y="456840"/>
            <a:ext cx="4038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自我分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774"/>
              </a:spcBef>
              <a:spcAft>
                <a:spcPts val="7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尽可能全面地列出你具有代表性的一周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一个月的所有工作事项，并按照上面介绍的方法进行分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第三章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时间管理的原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781360"/>
            <a:ext cx="822960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lnSpc>
                <a:spcPct val="100000"/>
              </a:lnSpc>
              <a:spcBef>
                <a:spcPts val="774"/>
              </a:spcBef>
              <a:spcAft>
                <a:spcPts val="7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——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制订计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——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排序分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——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80/2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原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——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符合生理周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——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养成习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733920" y="609120"/>
            <a:ext cx="5029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原则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：制订计划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2285640"/>
            <a:ext cx="82296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lnSpc>
                <a:spcPct val="100000"/>
              </a:lnSpc>
              <a:spcBef>
                <a:spcPts val="774"/>
              </a:spcBef>
              <a:spcAft>
                <a:spcPts val="774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计划：为完成一定的目标而事前对措施和步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774"/>
              </a:spcBef>
              <a:spcAft>
                <a:spcPts val="774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作出的部署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774"/>
              </a:spcBef>
              <a:spcAft>
                <a:spcPts val="774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计划的作用：事先计划是时间管理的根本途径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774"/>
              </a:spcBef>
              <a:spcAft>
                <a:spcPts val="774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要想控制时间，必须首先制订计划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580920" y="228240"/>
            <a:ext cx="4800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计划的前提是确立目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240" y="2209680"/>
            <a:ext cx="6629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哈佛大学有一个非常著名的关于目标对人生影响的跟踪调查。对象是一群智力、学历、环境等条件都差不多的年轻人，调查结果如下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276720" y="1143000"/>
            <a:ext cx="5790960" cy="541008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715000" y="1143000"/>
            <a:ext cx="1066680" cy="914400"/>
          </a:xfrm>
          <a:prstGeom prst="triangle">
            <a:avLst>
              <a:gd name="adj" fmla="val 44389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3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5105520" y="2056680"/>
            <a:ext cx="2209680" cy="1066680"/>
          </a:xfrm>
          <a:custGeom>
            <a:avLst/>
            <a:gdLst>
              <a:gd name="textAreaLeft" fmla="*/ 508680 w 2209680"/>
              <a:gd name="textAreaRight" fmla="*/ 1701000 w 2209680"/>
              <a:gd name="textAreaTop" fmla="*/ 245520 h 1066680"/>
              <a:gd name="textAreaBottom" fmla="*/ 8211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5799" y="21600"/>
                </a:lnTo>
                <a:lnTo>
                  <a:pt x="5801" y="216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10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3809880" y="3047400"/>
            <a:ext cx="4800600" cy="2514600"/>
          </a:xfrm>
          <a:custGeom>
            <a:avLst/>
            <a:gdLst>
              <a:gd name="textAreaLeft" fmla="*/ 1126800 w 4800600"/>
              <a:gd name="textAreaRight" fmla="*/ 3673800 w 4800600"/>
              <a:gd name="textAreaTop" fmla="*/ 590400 h 2514600"/>
              <a:gd name="textAreaBottom" fmla="*/ 1924200 h 251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5622" y="21600"/>
                </a:lnTo>
                <a:lnTo>
                  <a:pt x="5978" y="216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60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276720" y="5561640"/>
            <a:ext cx="5867280" cy="990360"/>
          </a:xfrm>
          <a:custGeom>
            <a:avLst/>
            <a:gdLst>
              <a:gd name="textAreaLeft" fmla="*/ 783720 w 5867280"/>
              <a:gd name="textAreaRight" fmla="*/ 5083560 w 5867280"/>
              <a:gd name="textAreaTop" fmla="*/ 132120 h 990360"/>
              <a:gd name="textAreaBottom" fmla="*/ 85824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555" y="21600"/>
                </a:lnTo>
                <a:lnTo>
                  <a:pt x="2045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27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276720" y="1066680"/>
            <a:ext cx="5867280" cy="5486400"/>
          </a:xfrm>
          <a:prstGeom prst="triangle">
            <a:avLst>
              <a:gd name="adj" fmla="val 50000"/>
            </a:avLst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57200" y="129528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有清晰且长期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 的目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57200" y="228600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有清晰但短期 的目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143000" y="396252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有较模糊目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7920" y="579132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无目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7924680" y="838080"/>
            <a:ext cx="304920" cy="990720"/>
          </a:xfrm>
          <a:prstGeom prst="triangle">
            <a:avLst>
              <a:gd name="adj" fmla="val 44273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3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772400" y="1828080"/>
            <a:ext cx="609480" cy="1143000"/>
          </a:xfrm>
          <a:custGeom>
            <a:avLst/>
            <a:gdLst>
              <a:gd name="textAreaLeft" fmla="*/ 140040 w 609480"/>
              <a:gd name="textAreaRight" fmla="*/ 469440 w 609480"/>
              <a:gd name="textAreaTop" fmla="*/ 263160 h 1143000"/>
              <a:gd name="textAreaBottom" fmla="*/ 87984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5799" y="21600"/>
                </a:lnTo>
                <a:lnTo>
                  <a:pt x="5801" y="216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ff66"/>
                </a:solidFill>
                <a:latin typeface="Tahoma"/>
              </a:rPr>
              <a:t>10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7467480" y="2971080"/>
            <a:ext cx="1219320" cy="2514600"/>
          </a:xfrm>
          <a:custGeom>
            <a:avLst/>
            <a:gdLst>
              <a:gd name="textAreaLeft" fmla="*/ 264240 w 1219320"/>
              <a:gd name="textAreaRight" fmla="*/ 955080 w 1219320"/>
              <a:gd name="textAreaTop" fmla="*/ 545040 h 2514600"/>
              <a:gd name="textAreaBottom" fmla="*/ 1969560 h 251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321" y="21600"/>
                </a:lnTo>
                <a:lnTo>
                  <a:pt x="5279" y="216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60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7315200" y="5485680"/>
            <a:ext cx="1523880" cy="1066680"/>
          </a:xfrm>
          <a:custGeom>
            <a:avLst/>
            <a:gdLst>
              <a:gd name="textAreaLeft" fmla="*/ 167400 w 1523880"/>
              <a:gd name="textAreaRight" fmla="*/ 1356480 w 1523880"/>
              <a:gd name="textAreaTop" fmla="*/ 117000 h 1066680"/>
              <a:gd name="textAreaBottom" fmla="*/ 94968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476" y="21600"/>
                </a:lnTo>
                <a:lnTo>
                  <a:pt x="1124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27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315200" y="609480"/>
            <a:ext cx="1523880" cy="5943600"/>
          </a:xfrm>
          <a:prstGeom prst="triangle">
            <a:avLst>
              <a:gd name="adj" fmla="val 48231"/>
            </a:avLst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029200" y="3733920"/>
            <a:ext cx="458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85400" y="2209680"/>
            <a:ext cx="7290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ahoma"/>
              </a:rPr>
              <a:t>二十五年后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43000" y="762120"/>
            <a:ext cx="6400800" cy="3682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年来几乎都不曾更改过自己的人生目标。他们都朝着同一个方向不懈地努力，现在，他们几乎都成了社会备界的顶尖成功人士，他们中不乏白手创业者、行业领袖、社会精英</a:t>
            </a: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143000" y="1905120"/>
            <a:ext cx="6324480" cy="36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ff66"/>
                </a:solidFill>
                <a:latin typeface="Times New Roman"/>
              </a:rPr>
              <a:t>大都生活在社会的中上层。他们的共同特点是，那些短期目标不断被达成，生活状态稳步上升，成为各行各业的不可或缺的专业人士。如医生、律师、工程师、高级主管等等</a:t>
            </a:r>
            <a:r>
              <a:rPr b="1" lang="zh-CN" sz="1800" spc="-1" strike="noStrike">
                <a:solidFill>
                  <a:srgbClr val="99ff66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143000" y="3657600"/>
            <a:ext cx="6172200" cy="368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几乎都生活在社会的中下层面，他们能安稳地生活与工作，但都没有什么特别的成绩</a:t>
            </a: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143000" y="5486400"/>
            <a:ext cx="5867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几乎都生活在社会的最底层，他们的生活都过得很不如意，常常失业。靠社会救济，并且常常都在抱怨他人，抱怨社会，抱怨世界</a:t>
            </a: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85840" y="380520"/>
            <a:ext cx="472428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引子：你了解时间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2587320"/>
            <a:ext cx="7696440" cy="23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 algn="just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一项调查表明：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工作繁忙的人同其配偶或其他“主要共同生活者”有意义的交流时间平均每天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&lt;2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分钟；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人们一般平均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分钟受一次干扰，每小时约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7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，每次大约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分钟，每天大约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；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一天自学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，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至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年后成为专家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276720" y="457200"/>
            <a:ext cx="5486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制订计划的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SMART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原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74"/>
              </a:spcBef>
              <a:spcAft>
                <a:spcPts val="7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S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明确的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(Specific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M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可衡量的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(Measurable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可达成又具挑战性的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chievable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R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相适的或称合理的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Relevance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T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时间性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Timeliness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7720" y="1676520"/>
            <a:ext cx="75438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我的目标是想在一年内赚 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100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万！请问我应该如何计划我的目标呢？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个符合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SMART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原则的计划是目标能否实现的度量仪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计划的形成：采用树杈法（鱼骨法）将目标分解成任务形成计划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2280" y="243792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lnSpc>
                <a:spcPct val="70000"/>
              </a:lnSpc>
              <a:spcBef>
                <a:spcPts val="774"/>
              </a:spcBef>
              <a:spcAft>
                <a:spcPts val="774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写下一个大目标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0000"/>
              </a:lnSpc>
              <a:spcBef>
                <a:spcPts val="774"/>
              </a:spcBef>
              <a:spcAft>
                <a:spcPts val="774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写出实现该目标所有的必要条件及充分条件，作为小目标，即第一层树杈 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0000"/>
              </a:lnSpc>
              <a:spcBef>
                <a:spcPts val="774"/>
              </a:spcBef>
              <a:spcAft>
                <a:spcPts val="774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写出实现每个小目标所需的必要条件及充分条件，变成第二层树杈 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0000"/>
              </a:lnSpc>
              <a:spcBef>
                <a:spcPts val="774"/>
              </a:spcBef>
              <a:spcAft>
                <a:spcPts val="774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如此类推，直到画出所有的树叶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即时目标为止，才算完成该目标多杈树的分解 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0000"/>
              </a:lnSpc>
              <a:spcBef>
                <a:spcPts val="774"/>
              </a:spcBef>
              <a:spcAft>
                <a:spcPts val="774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检查多杈树分解是否充分、即反之从叶子到树枝再到树干，不断检查如果小目标均达成，大目标是否一定会达成，如是则表示分解已完成；如不是则表明所列的条件还不够充分，继续补充被忽略的树枝 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1752480"/>
            <a:ext cx="1371600" cy="4724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目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寻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如意配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09680" y="5486400"/>
            <a:ext cx="1371600" cy="7621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相遇条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057400" y="3505320"/>
            <a:ext cx="1371600" cy="7617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你的条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981080" y="1371600"/>
            <a:ext cx="1371600" cy="7621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对象条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638680" y="990720"/>
            <a:ext cx="1219320" cy="3045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能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562720" y="609480"/>
            <a:ext cx="1218960" cy="3049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品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562720" y="152280"/>
            <a:ext cx="1218960" cy="381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生理条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543800" y="990720"/>
            <a:ext cx="990720" cy="3045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工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267080" y="4191120"/>
            <a:ext cx="2971800" cy="3808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他可能期望你达到的条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238880" y="5410080"/>
            <a:ext cx="1524240" cy="381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如何吸引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238880" y="4952880"/>
            <a:ext cx="1447920" cy="381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如何找到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238880" y="5867280"/>
            <a:ext cx="1600200" cy="381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如何创造缘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620120" y="1752480"/>
            <a:ext cx="914400" cy="3049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收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620120" y="1371600"/>
            <a:ext cx="914400" cy="3049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未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6324480"/>
            <a:ext cx="2209680" cy="381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感情长期维系条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9880" y="609480"/>
            <a:ext cx="1219320" cy="5335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个人条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962520" y="2438280"/>
            <a:ext cx="1218960" cy="5335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个人观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1828800"/>
            <a:ext cx="1218960" cy="5335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家庭条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267080" y="3352680"/>
            <a:ext cx="2971800" cy="3049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基本条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267080" y="3733920"/>
            <a:ext cx="2971800" cy="3808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应自我塑造的条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343400" y="4952880"/>
            <a:ext cx="2057400" cy="381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他会在哪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5867280"/>
            <a:ext cx="2209680" cy="381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如何处理竞争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343400" y="5410080"/>
            <a:ext cx="2209680" cy="381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如何接触到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886200" y="1219320"/>
            <a:ext cx="1219320" cy="5331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事业条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3886200"/>
            <a:ext cx="68580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1523880" y="1752120"/>
            <a:ext cx="45720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352680" y="91440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1752480"/>
            <a:ext cx="53352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3352680" y="152352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1752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5105520" y="45720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5105520" y="761760"/>
            <a:ext cx="4572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838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181480" y="152388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7162920" y="114300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162920" y="1523880"/>
            <a:ext cx="3808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429000" y="3886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429000" y="3505320"/>
            <a:ext cx="8380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429000" y="388620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3581280" y="51811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3581280" y="563832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5867280"/>
            <a:ext cx="6858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581280" y="58672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553080" y="56386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629400" y="518148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553080" y="563868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257800" y="2133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5257800" y="182844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257800" y="213372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181480" y="2743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181480" y="243792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181480" y="274320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781680" y="3049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6781680" y="-36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781680" y="30492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858000" y="7621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6858000" y="45684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858000" y="76212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934320" y="11430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6934320" y="837720"/>
            <a:ext cx="3045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934320" y="1143000"/>
            <a:ext cx="30456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534520" y="19051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8534520" y="1599840"/>
            <a:ext cx="3045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534520" y="1905120"/>
            <a:ext cx="30456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534520" y="11430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8534520" y="837720"/>
            <a:ext cx="3045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534520" y="1143000"/>
            <a:ext cx="30456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534520" y="15238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8534520" y="1219320"/>
            <a:ext cx="30456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534520" y="1523880"/>
            <a:ext cx="30456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315200" y="34290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7315200" y="312372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15200" y="342900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315200" y="3962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7315200" y="365724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315200" y="396252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238880" y="4343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7238880" y="403812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238880" y="434340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83908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8839080" y="480024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839080" y="510552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839080" y="5562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8839080" y="525744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839080" y="556272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839080" y="60199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8839080" y="571464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839080" y="601992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629400" y="64771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6629400" y="617184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629400" y="647712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049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04920" y="40384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4419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04920" y="48006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04920" y="51814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4419720" y="394920"/>
            <a:ext cx="350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位人事主管的周工作计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609480" y="1371600"/>
          <a:ext cx="7315200" cy="4952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371600"/>
                    <a:ext cx="73152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200400" y="30456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原则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：排序分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2781360"/>
            <a:ext cx="822960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即排出顺序、分配时间资源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3657600" y="228600"/>
            <a:ext cx="4724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时间管理矩阵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990720" y="2362320"/>
            <a:ext cx="7238880" cy="3886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990720" y="4267080"/>
            <a:ext cx="7238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236232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-193680" y="2286000"/>
            <a:ext cx="1033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Times New Roman"/>
              </a:rPr>
              <a:t>   </a:t>
            </a:r>
            <a:r>
              <a:rPr b="0" lang="zh-CN" sz="2800" spc="-1" strike="noStrike">
                <a:solidFill>
                  <a:srgbClr val="333399"/>
                </a:solidFill>
                <a:latin typeface="Times New Roman"/>
              </a:rPr>
              <a:t>重要              不重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19320" y="1828800"/>
            <a:ext cx="693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333399"/>
                </a:solidFill>
                <a:latin typeface="Times New Roman"/>
              </a:rPr>
              <a:t>紧急                                  不紧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066680" y="2514600"/>
            <a:ext cx="3581640" cy="15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危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急迫的问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限期的任务，会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筹备事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00600" y="2590920"/>
            <a:ext cx="3581280" cy="15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准备及预防工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计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关系的建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培训，授权，创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143000" y="4495680"/>
            <a:ext cx="3657600" cy="15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干扰，一些电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一些会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一些紧急事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符合别人期望的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800600" y="4495680"/>
            <a:ext cx="3505320" cy="15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细琐的工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浪费时间的闲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无关紧要的信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无关紧要的私人电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533520" y="1295280"/>
            <a:ext cx="7848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错误倾向：偏重第一类事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09480" y="190512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09480" y="5181480"/>
            <a:ext cx="5105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715000" y="190512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715000" y="327672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09480" y="1828800"/>
            <a:ext cx="5105520" cy="33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结果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压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筋疲力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危机处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忙于收拾残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926320" y="2057400"/>
            <a:ext cx="42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869440" y="342900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70040" y="5257800"/>
            <a:ext cx="52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685800" y="12952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错误倾向：偏重第三类事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33520" y="685800"/>
            <a:ext cx="7848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09480" y="190512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2514600"/>
            <a:ext cx="777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858000" y="190512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905120"/>
            <a:ext cx="5105520" cy="38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结果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轻重不分，未有效完成本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缺乏自制力，怪罪他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面临危机压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失去目标与计划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069320" y="1981080"/>
            <a:ext cx="42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012440" y="281952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70040" y="2590920"/>
            <a:ext cx="52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733920" y="380880"/>
            <a:ext cx="487656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第二象限工作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合理的按照紧急和重要两个纬度划分自己的工作事项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将大部分时间和精力放在第二象限的工作上，主要根据第二象限的工作制订计划，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80%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的时间资源放在第二象限，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0%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放在其他象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71240" y="1752120"/>
            <a:ext cx="6553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第一章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时间和时间管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781360"/>
            <a:ext cx="822960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——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时间的概念和特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   ——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时间管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114440" y="304560"/>
            <a:ext cx="410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原则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80/2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原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80/20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原则（也叫帕雷托原则）：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80%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的工作价值来自于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20%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的工作事项，而剩下的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20%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的价值来自于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80%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的工作事项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886200" y="304560"/>
            <a:ext cx="478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80/2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原则的启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52280" y="1905120"/>
            <a:ext cx="822960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lnSpc>
                <a:spcPct val="100000"/>
              </a:lnSpc>
              <a:spcBef>
                <a:spcPts val="774"/>
              </a:spcBef>
              <a:spcAft>
                <a:spcPts val="774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启示：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20%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的工作事项创造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80%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的工作价值；抓住工作的关键，集中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80%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的主要精力做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20%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的主要工作，可以保证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80%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的工作结果；改进这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20%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的工作处理方法，可以获得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80%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的新效果。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74"/>
              </a:spcBef>
              <a:spcAft>
                <a:spcPts val="774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误区：面面俱到——都想做好；完全主义——都想做完；平均分配时间和精力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7760" y="304560"/>
            <a:ext cx="518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原则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：符合生理周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294920" y="2133360"/>
            <a:ext cx="66294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了解你的“兴奋”和“低潮”时间段并以此为依据制定你每天的工作计划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请做以下测试，了解自己的生活节奏，以便有效的工作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657240" y="456840"/>
            <a:ext cx="52578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原则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：养成习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35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74"/>
              </a:spcBef>
              <a:spcAft>
                <a:spcPts val="7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送给参训者三句话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74"/>
              </a:spcBef>
              <a:spcAft>
                <a:spcPts val="774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好习惯是在有意识的控制中形成的，坏习惯是在无意识的放任中形成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74"/>
              </a:spcBef>
              <a:spcAft>
                <a:spcPts val="774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我们先要塑造自己良好的习惯，然后好习惯会塑造我们自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74"/>
              </a:spcBef>
              <a:spcAft>
                <a:spcPts val="774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形成好习惯的过程同时也是克服坏习惯的过程，形成过程中会比较困难，但好习惯一旦养成也会具有自然的惯性，保持起来相对比较容易；坚持下去，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天可基本形成习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733560" y="228240"/>
            <a:ext cx="4724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时间是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37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时间是过去、现在、未来组成的一连串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事件。         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－《韦氏字典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6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时间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金钱，时间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生命的价值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时间的特征：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－公平性：时间对每个人都同样公平，每人 每天都是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小时，每小时都是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60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分，每分都是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60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秒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－单程性：时间一去不返，人生是一次单程旅行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228240" y="2057400"/>
            <a:ext cx="76201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 algn="just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？既然时间是公平的，那么为什么有人在有限的时间里既取得了学业的成就、事业的成功，又没耽误享受亲情和友情，还能使自己的生活丰富多彩，秘密何在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38480" y="456840"/>
            <a:ext cx="4572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何谓时间管理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514240"/>
            <a:ext cx="8229600" cy="32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秘密在于是否掌握时间管理－其本质是主动有效地控制时间，而非被动的受制于时间。时间管理实际包含三个层次的问题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意愿和决心：由人生观价值观等决定，由个人自行解决；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原则和方法：本培训要解决的核心问题，将围绕此展开；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形成行为习惯：关键是观念和毅力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第二章  时间那去了？－对时间的分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2781360"/>
            <a:ext cx="838188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请你分析：软件开发部项目经理王鹏的一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请问：王鹏的时间管理是否存在问题，如有，应如何改进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9520" y="456840"/>
            <a:ext cx="509436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自我测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781360"/>
            <a:ext cx="822960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你能支配自己的时间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19720" y="228240"/>
            <a:ext cx="379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时间分析方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工作清单分析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工作重要性分析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工作紧急性分析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工作效益性分析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8T10:46:53Z</dcterms:created>
  <dc:creator>linhai.yue</dc:creator>
  <dc:description/>
  <dc:language>en-US</dc:language>
  <cp:lastModifiedBy>a</cp:lastModifiedBy>
  <dcterms:modified xsi:type="dcterms:W3CDTF">2003-05-27T14:55:14Z</dcterms:modified>
  <cp:revision>29</cp:revision>
  <dc:subject/>
  <dc:title> </dc:title>
</cp:coreProperties>
</file>