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907588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704880" y="740880"/>
            <a:ext cx="5340240" cy="369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709560" y="741240"/>
            <a:ext cx="5338800" cy="36975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39800" y="75420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90280" y="4694400"/>
            <a:ext cx="496548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果我们结合一个企业运作的各个方面、各个环节来看，比如产、供、销的环节中，沟通是无所不在的，甚至我们可以说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739800" y="75420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0280" y="4694400"/>
            <a:ext cx="496548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要以为上级知道一切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驴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—  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0164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4676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榜样的力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神经语言程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游戏——九连环——找寻规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九点、十六点连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国学生因为传错了指令而获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为是作业而解出了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转身指—你可以超越你的目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亨利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福特：“如果你认为自己行，或者不行，你总是对的。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你出门进行推销之前，你实际上已决定了交易的结果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故事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钟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英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比尔克林顿模仿肯尼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512-4FC2-4E3E-B914-6584A4CE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426420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F2D-5C5D-4D62-80C5-2020F0CE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2B5-A1D1-4CC3-A091-4C04BD8C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64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28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64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28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A5F-4FAC-449C-A916-B8DEB9E7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FA4-33D1-4F69-B55B-4B76AFD7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666-9273-4461-9309-9A1C7B22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A63-F67B-44F5-88CA-A25F1216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012-5F3E-45D2-B916-B4F41F20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7646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EF4-1A34-4FD6-AE1C-04177535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ADF-A247-432F-801A-278A327B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2D7-FECA-4479-AD71-71610578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134-483F-4ED2-80F3-7C7AB4D2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1890-201B-436A-BC83-A8FB491325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137360" y="5353200"/>
            <a:ext cx="2768760" cy="1504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0"/>
            <a:ext cx="3782880" cy="12924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04040"/>
            <a:ext cx="975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72520" y="16765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有效沟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60840" y="361944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68520" y="1371600"/>
            <a:ext cx="77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的层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8440" y="3427560"/>
            <a:ext cx="1073160" cy="99036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2440" y="3427560"/>
            <a:ext cx="1073160" cy="99036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30960" y="3427560"/>
            <a:ext cx="2063880" cy="99036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36960" y="3427560"/>
            <a:ext cx="1073160" cy="99036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11480" y="3427560"/>
            <a:ext cx="1073160" cy="99036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05480" y="3427560"/>
            <a:ext cx="1073160" cy="99036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3680" y="35798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际沟通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3579840"/>
            <a:ext cx="8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团体沟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02200" y="36846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众沟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10120" y="36561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沟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53160" y="365616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众沟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08760" y="365616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跨文化沟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9051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要素、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42960" y="5715000"/>
            <a:ext cx="5531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体验：所有女性，交谊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2960" y="4800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的要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主体、信息、渠道，客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00600" y="609480"/>
            <a:ext cx="4146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4892e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专业沟通技巧步骤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1520" y="2451240"/>
            <a:ext cx="734184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前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认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阐述观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移情说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异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达成共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同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10200" y="2286000"/>
            <a:ext cx="48704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说在第四步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137360" y="5353200"/>
            <a:ext cx="2768760" cy="1504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37828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19360" y="3805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反 省 自 己 是 否 做 过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别人讲话时，你在想自己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听边与自己的不同观点对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打断别人的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演讲者结束他的演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忽略过程只要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仅听自己想听或愿听的东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力不集中，易被其它东西干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29318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18880" y="1676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积极的倾听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386400" y="1371600"/>
            <a:ext cx="2727360" cy="2459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55600" y="2590920"/>
            <a:ext cx="751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站在对方的立场，仔细地倾听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要能确认自己所理解的是否就是对方所讲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要能表现诚恳，专注的态度听对方的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5600" y="304560"/>
            <a:ext cx="80028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积 极 聆 听 的 技 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89200" y="2421000"/>
            <a:ext cx="363204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听回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复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归纳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达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419112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74600" y="1295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如何训练倾听的技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86400" y="1371600"/>
            <a:ext cx="2727360" cy="2459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8560" y="2243160"/>
            <a:ext cx="71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培养积极的倾听技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让沟通对方把话说完，并记下重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秉持客观、开阔的胸怀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对沟通对方所说的话，不要表现防卫的态度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掌握沟通对方真正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311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沟通之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62071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沟通时候怎样利用沟通之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96080" y="23018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16000" y="230184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人   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97440" y="23018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98800" y="2301840"/>
            <a:ext cx="189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96080" y="32162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盲目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321624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97440" y="32162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放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96080" y="41306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未知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16000" y="413064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7440" y="41306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隐藏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410080" y="609480"/>
            <a:ext cx="4146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68520" y="5562720"/>
            <a:ext cx="371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根舌头，一对耳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304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38400" y="2286000"/>
            <a:ext cx="5283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得智慧的第一步；有智慧的人都是先听再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学研究表明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的耳朵在出生前就发挥功用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533520"/>
            <a:ext cx="51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的重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00600" y="609480"/>
            <a:ext cx="4146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127400" y="3276720"/>
            <a:ext cx="4292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同的场景需要不同的听法几个聆听的原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20840" y="3276720"/>
            <a:ext cx="1816200" cy="685800"/>
          </a:xfrm>
          <a:custGeom>
            <a:avLst/>
            <a:gdLst>
              <a:gd name="textAreaLeft" fmla="*/ 0 w 1816200"/>
              <a:gd name="textAreaRight" fmla="*/ 1816560 w 1816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335268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的技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38400" y="1752480"/>
            <a:ext cx="1815840" cy="685800"/>
          </a:xfrm>
          <a:custGeom>
            <a:avLst/>
            <a:gdLst>
              <a:gd name="textAreaLeft" fmla="*/ 0 w 1815840"/>
              <a:gd name="textAreaRight" fmla="*/ 1816200 w 18158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20840" y="1905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移情换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3360" y="1822320"/>
            <a:ext cx="4292280" cy="53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动的听，能听懂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27400" y="5019840"/>
            <a:ext cx="4292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不同的回应方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20840" y="4952880"/>
            <a:ext cx="2146320" cy="68580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5029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适当回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52240" y="533520"/>
            <a:ext cx="21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03280" y="1944720"/>
            <a:ext cx="3714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站在别人的立场去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解信息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解对方的感情成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解隐含成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13480" y="2081160"/>
            <a:ext cx="37148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层和深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１。表层的移情换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２。深层的移换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105520"/>
            <a:ext cx="643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：我用了整整１周时间来帮助这个客户，但客户的销量还是不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8200" y="533520"/>
            <a:ext cx="43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     移情换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0720" y="1752480"/>
            <a:ext cx="50353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去除干扰讯息接收的障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极倾听：找到有意义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方，得到益处，提高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深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反复思考听到的讯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勇于发问，检查理解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增强记忆：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笔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08840" y="1523880"/>
            <a:ext cx="3549600" cy="37339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73720" y="1600200"/>
            <a:ext cx="363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需要不断的训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知注意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知理解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知记忆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知辨析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知灵敏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8223480" y="2528280"/>
            <a:ext cx="1465920" cy="1649160"/>
            <a:chOff x="8223480" y="2528280"/>
            <a:chExt cx="1465920" cy="1649160"/>
          </a:xfrm>
        </p:grpSpPr>
        <p:grpSp>
          <p:nvGrpSpPr>
            <p:cNvPr id="193" name=""/>
            <p:cNvGrpSpPr/>
            <p:nvPr/>
          </p:nvGrpSpPr>
          <p:grpSpPr>
            <a:xfrm>
              <a:off x="8223480" y="2528280"/>
              <a:ext cx="1465920" cy="1649160"/>
              <a:chOff x="8223480" y="2528280"/>
              <a:chExt cx="1465920" cy="1649160"/>
            </a:xfrm>
          </p:grpSpPr>
          <p:sp>
            <p:nvSpPr>
              <p:cNvPr id="194" name=""/>
              <p:cNvSpPr/>
              <p:nvPr/>
            </p:nvSpPr>
            <p:spPr>
              <a:xfrm rot="1158000">
                <a:off x="8420040" y="2666520"/>
                <a:ext cx="1071720" cy="1370520"/>
              </a:xfrm>
              <a:custGeom>
                <a:avLst/>
                <a:gdLst/>
                <a:ahLst/>
                <a:rect l="l" t="t" r="r" b="b"/>
                <a:pathLst>
                  <a:path w="1653" h="2177">
                    <a:moveTo>
                      <a:pt x="1638" y="1742"/>
                    </a:moveTo>
                    <a:lnTo>
                      <a:pt x="1591" y="1655"/>
                    </a:lnTo>
                    <a:lnTo>
                      <a:pt x="1538" y="1576"/>
                    </a:lnTo>
                    <a:lnTo>
                      <a:pt x="1478" y="1502"/>
                    </a:lnTo>
                    <a:lnTo>
                      <a:pt x="1430" y="1387"/>
                    </a:lnTo>
                    <a:lnTo>
                      <a:pt x="1403" y="1233"/>
                    </a:lnTo>
                    <a:lnTo>
                      <a:pt x="1383" y="1084"/>
                    </a:lnTo>
                    <a:lnTo>
                      <a:pt x="1363" y="929"/>
                    </a:lnTo>
                    <a:lnTo>
                      <a:pt x="1349" y="755"/>
                    </a:lnTo>
                    <a:lnTo>
                      <a:pt x="1363" y="620"/>
                    </a:lnTo>
                    <a:lnTo>
                      <a:pt x="1343" y="474"/>
                    </a:lnTo>
                    <a:lnTo>
                      <a:pt x="1316" y="345"/>
                    </a:lnTo>
                    <a:lnTo>
                      <a:pt x="1283" y="231"/>
                    </a:lnTo>
                    <a:lnTo>
                      <a:pt x="1249" y="151"/>
                    </a:lnTo>
                    <a:lnTo>
                      <a:pt x="1175" y="128"/>
                    </a:lnTo>
                    <a:lnTo>
                      <a:pt x="1121" y="105"/>
                    </a:lnTo>
                    <a:lnTo>
                      <a:pt x="1067" y="67"/>
                    </a:lnTo>
                    <a:lnTo>
                      <a:pt x="1004" y="40"/>
                    </a:lnTo>
                    <a:lnTo>
                      <a:pt x="926" y="20"/>
                    </a:lnTo>
                    <a:lnTo>
                      <a:pt x="826" y="7"/>
                    </a:lnTo>
                    <a:lnTo>
                      <a:pt x="728" y="0"/>
                    </a:lnTo>
                    <a:lnTo>
                      <a:pt x="630" y="7"/>
                    </a:lnTo>
                    <a:lnTo>
                      <a:pt x="534" y="24"/>
                    </a:lnTo>
                    <a:lnTo>
                      <a:pt x="443" y="51"/>
                    </a:lnTo>
                    <a:lnTo>
                      <a:pt x="369" y="88"/>
                    </a:lnTo>
                    <a:lnTo>
                      <a:pt x="290" y="142"/>
                    </a:lnTo>
                    <a:lnTo>
                      <a:pt x="215" y="208"/>
                    </a:lnTo>
                    <a:lnTo>
                      <a:pt x="161" y="276"/>
                    </a:lnTo>
                    <a:lnTo>
                      <a:pt x="108" y="363"/>
                    </a:lnTo>
                    <a:lnTo>
                      <a:pt x="71" y="438"/>
                    </a:lnTo>
                    <a:lnTo>
                      <a:pt x="44" y="502"/>
                    </a:lnTo>
                    <a:lnTo>
                      <a:pt x="21" y="577"/>
                    </a:lnTo>
                    <a:lnTo>
                      <a:pt x="4" y="645"/>
                    </a:lnTo>
                    <a:lnTo>
                      <a:pt x="0" y="715"/>
                    </a:lnTo>
                    <a:lnTo>
                      <a:pt x="14" y="833"/>
                    </a:lnTo>
                    <a:lnTo>
                      <a:pt x="38" y="937"/>
                    </a:lnTo>
                    <a:lnTo>
                      <a:pt x="48" y="1035"/>
                    </a:lnTo>
                    <a:lnTo>
                      <a:pt x="65" y="1091"/>
                    </a:lnTo>
                    <a:lnTo>
                      <a:pt x="98" y="1138"/>
                    </a:lnTo>
                    <a:lnTo>
                      <a:pt x="141" y="1192"/>
                    </a:lnTo>
                    <a:lnTo>
                      <a:pt x="178" y="1250"/>
                    </a:lnTo>
                    <a:lnTo>
                      <a:pt x="219" y="1299"/>
                    </a:lnTo>
                    <a:lnTo>
                      <a:pt x="269" y="1360"/>
                    </a:lnTo>
                    <a:lnTo>
                      <a:pt x="333" y="1451"/>
                    </a:lnTo>
                    <a:lnTo>
                      <a:pt x="396" y="1533"/>
                    </a:lnTo>
                    <a:lnTo>
                      <a:pt x="456" y="1607"/>
                    </a:lnTo>
                    <a:lnTo>
                      <a:pt x="500" y="1658"/>
                    </a:lnTo>
                    <a:lnTo>
                      <a:pt x="540" y="1721"/>
                    </a:lnTo>
                    <a:lnTo>
                      <a:pt x="575" y="1774"/>
                    </a:lnTo>
                    <a:lnTo>
                      <a:pt x="594" y="1812"/>
                    </a:lnTo>
                    <a:lnTo>
                      <a:pt x="624" y="1842"/>
                    </a:lnTo>
                    <a:lnTo>
                      <a:pt x="661" y="1868"/>
                    </a:lnTo>
                    <a:lnTo>
                      <a:pt x="715" y="1887"/>
                    </a:lnTo>
                    <a:lnTo>
                      <a:pt x="786" y="1911"/>
                    </a:lnTo>
                    <a:lnTo>
                      <a:pt x="849" y="1938"/>
                    </a:lnTo>
                    <a:lnTo>
                      <a:pt x="906" y="1972"/>
                    </a:lnTo>
                    <a:lnTo>
                      <a:pt x="967" y="2018"/>
                    </a:lnTo>
                    <a:lnTo>
                      <a:pt x="1038" y="2075"/>
                    </a:lnTo>
                    <a:lnTo>
                      <a:pt x="1091" y="2116"/>
                    </a:lnTo>
                    <a:lnTo>
                      <a:pt x="1141" y="2146"/>
                    </a:lnTo>
                    <a:lnTo>
                      <a:pt x="1182" y="2166"/>
                    </a:lnTo>
                    <a:lnTo>
                      <a:pt x="1232" y="2177"/>
                    </a:lnTo>
                    <a:lnTo>
                      <a:pt x="1285" y="2173"/>
                    </a:lnTo>
                    <a:lnTo>
                      <a:pt x="1321" y="2160"/>
                    </a:lnTo>
                    <a:lnTo>
                      <a:pt x="1362" y="2133"/>
                    </a:lnTo>
                    <a:lnTo>
                      <a:pt x="1392" y="2106"/>
                    </a:lnTo>
                    <a:lnTo>
                      <a:pt x="1436" y="2055"/>
                    </a:lnTo>
                    <a:lnTo>
                      <a:pt x="1483" y="1985"/>
                    </a:lnTo>
                    <a:lnTo>
                      <a:pt x="1524" y="1928"/>
                    </a:lnTo>
                    <a:lnTo>
                      <a:pt x="1566" y="1877"/>
                    </a:lnTo>
                    <a:lnTo>
                      <a:pt x="1592" y="1858"/>
                    </a:lnTo>
                    <a:lnTo>
                      <a:pt x="1618" y="1845"/>
                    </a:lnTo>
                    <a:lnTo>
                      <a:pt x="1653" y="1836"/>
                    </a:lnTo>
                    <a:lnTo>
                      <a:pt x="1638" y="1742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158000">
                <a:off x="8419680" y="2666880"/>
                <a:ext cx="1073160" cy="1371600"/>
              </a:xfrm>
              <a:custGeom>
                <a:avLst/>
                <a:gdLst/>
                <a:ahLst/>
                <a:rect l="l" t="t" r="r" b="b"/>
                <a:pathLst>
                  <a:path w="1655" h="2179">
                    <a:moveTo>
                      <a:pt x="1250" y="148"/>
                    </a:moveTo>
                    <a:lnTo>
                      <a:pt x="1176" y="128"/>
                    </a:lnTo>
                    <a:lnTo>
                      <a:pt x="1122" y="105"/>
                    </a:lnTo>
                    <a:lnTo>
                      <a:pt x="1068" y="67"/>
                    </a:lnTo>
                    <a:lnTo>
                      <a:pt x="1005" y="40"/>
                    </a:lnTo>
                    <a:lnTo>
                      <a:pt x="927" y="20"/>
                    </a:lnTo>
                    <a:lnTo>
                      <a:pt x="827" y="7"/>
                    </a:lnTo>
                    <a:lnTo>
                      <a:pt x="729" y="0"/>
                    </a:lnTo>
                    <a:lnTo>
                      <a:pt x="632" y="7"/>
                    </a:lnTo>
                    <a:lnTo>
                      <a:pt x="535" y="24"/>
                    </a:lnTo>
                    <a:lnTo>
                      <a:pt x="444" y="51"/>
                    </a:lnTo>
                    <a:lnTo>
                      <a:pt x="369" y="88"/>
                    </a:lnTo>
                    <a:lnTo>
                      <a:pt x="290" y="142"/>
                    </a:lnTo>
                    <a:lnTo>
                      <a:pt x="215" y="208"/>
                    </a:lnTo>
                    <a:lnTo>
                      <a:pt x="161" y="276"/>
                    </a:lnTo>
                    <a:lnTo>
                      <a:pt x="108" y="363"/>
                    </a:lnTo>
                    <a:lnTo>
                      <a:pt x="71" y="438"/>
                    </a:lnTo>
                    <a:lnTo>
                      <a:pt x="44" y="502"/>
                    </a:lnTo>
                    <a:lnTo>
                      <a:pt x="21" y="578"/>
                    </a:lnTo>
                    <a:lnTo>
                      <a:pt x="4" y="646"/>
                    </a:lnTo>
                    <a:lnTo>
                      <a:pt x="0" y="717"/>
                    </a:lnTo>
                    <a:lnTo>
                      <a:pt x="14" y="835"/>
                    </a:lnTo>
                    <a:lnTo>
                      <a:pt x="38" y="938"/>
                    </a:lnTo>
                    <a:lnTo>
                      <a:pt x="48" y="1036"/>
                    </a:lnTo>
                    <a:lnTo>
                      <a:pt x="65" y="1092"/>
                    </a:lnTo>
                    <a:lnTo>
                      <a:pt x="98" y="1139"/>
                    </a:lnTo>
                    <a:lnTo>
                      <a:pt x="141" y="1193"/>
                    </a:lnTo>
                    <a:lnTo>
                      <a:pt x="178" y="1251"/>
                    </a:lnTo>
                    <a:lnTo>
                      <a:pt x="219" y="1300"/>
                    </a:lnTo>
                    <a:lnTo>
                      <a:pt x="269" y="1361"/>
                    </a:lnTo>
                    <a:lnTo>
                      <a:pt x="333" y="1452"/>
                    </a:lnTo>
                    <a:lnTo>
                      <a:pt x="396" y="1534"/>
                    </a:lnTo>
                    <a:lnTo>
                      <a:pt x="457" y="1608"/>
                    </a:lnTo>
                    <a:lnTo>
                      <a:pt x="501" y="1660"/>
                    </a:lnTo>
                    <a:lnTo>
                      <a:pt x="542" y="1723"/>
                    </a:lnTo>
                    <a:lnTo>
                      <a:pt x="576" y="1776"/>
                    </a:lnTo>
                    <a:lnTo>
                      <a:pt x="596" y="1814"/>
                    </a:lnTo>
                    <a:lnTo>
                      <a:pt x="625" y="1845"/>
                    </a:lnTo>
                    <a:lnTo>
                      <a:pt x="662" y="1871"/>
                    </a:lnTo>
                    <a:lnTo>
                      <a:pt x="716" y="1890"/>
                    </a:lnTo>
                    <a:lnTo>
                      <a:pt x="787" y="1913"/>
                    </a:lnTo>
                    <a:lnTo>
                      <a:pt x="850" y="1940"/>
                    </a:lnTo>
                    <a:lnTo>
                      <a:pt x="907" y="1974"/>
                    </a:lnTo>
                    <a:lnTo>
                      <a:pt x="968" y="2020"/>
                    </a:lnTo>
                    <a:lnTo>
                      <a:pt x="1039" y="2078"/>
                    </a:lnTo>
                    <a:lnTo>
                      <a:pt x="1092" y="2118"/>
                    </a:lnTo>
                    <a:lnTo>
                      <a:pt x="1142" y="2148"/>
                    </a:lnTo>
                    <a:lnTo>
                      <a:pt x="1183" y="2169"/>
                    </a:lnTo>
                    <a:lnTo>
                      <a:pt x="1233" y="2179"/>
                    </a:lnTo>
                    <a:lnTo>
                      <a:pt x="1287" y="2175"/>
                    </a:lnTo>
                    <a:lnTo>
                      <a:pt x="1323" y="2162"/>
                    </a:lnTo>
                    <a:lnTo>
                      <a:pt x="1364" y="2135"/>
                    </a:lnTo>
                    <a:lnTo>
                      <a:pt x="1394" y="2108"/>
                    </a:lnTo>
                    <a:lnTo>
                      <a:pt x="1438" y="2057"/>
                    </a:lnTo>
                    <a:lnTo>
                      <a:pt x="1485" y="1988"/>
                    </a:lnTo>
                    <a:lnTo>
                      <a:pt x="1526" y="1930"/>
                    </a:lnTo>
                    <a:lnTo>
                      <a:pt x="1569" y="1880"/>
                    </a:lnTo>
                    <a:lnTo>
                      <a:pt x="1595" y="1860"/>
                    </a:lnTo>
                    <a:lnTo>
                      <a:pt x="1620" y="1847"/>
                    </a:lnTo>
                    <a:lnTo>
                      <a:pt x="1655" y="183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8510760" y="2876040"/>
              <a:ext cx="741600" cy="859680"/>
              <a:chOff x="8510760" y="2876040"/>
              <a:chExt cx="741600" cy="859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8511120" y="2877120"/>
                <a:ext cx="739800" cy="854280"/>
                <a:chOff x="8511120" y="2877120"/>
                <a:chExt cx="739800" cy="854280"/>
              </a:xfrm>
            </p:grpSpPr>
            <p:sp>
              <p:nvSpPr>
                <p:cNvPr id="198" name=""/>
                <p:cNvSpPr/>
                <p:nvPr/>
              </p:nvSpPr>
              <p:spPr>
                <a:xfrm rot="21579600">
                  <a:off x="8785800" y="2877840"/>
                  <a:ext cx="289800" cy="186840"/>
                </a:xfrm>
                <a:custGeom>
                  <a:avLst/>
                  <a:gdLst/>
                  <a:ahLst/>
                  <a:rect l="l" t="t" r="r" b="b"/>
                  <a:pathLst>
                    <a:path w="447" h="297">
                      <a:moveTo>
                        <a:pt x="414" y="297"/>
                      </a:moveTo>
                      <a:lnTo>
                        <a:pt x="397" y="240"/>
                      </a:lnTo>
                      <a:lnTo>
                        <a:pt x="377" y="204"/>
                      </a:lnTo>
                      <a:lnTo>
                        <a:pt x="353" y="177"/>
                      </a:lnTo>
                      <a:lnTo>
                        <a:pt x="314" y="160"/>
                      </a:lnTo>
                      <a:lnTo>
                        <a:pt x="256" y="153"/>
                      </a:lnTo>
                      <a:lnTo>
                        <a:pt x="197" y="147"/>
                      </a:lnTo>
                      <a:lnTo>
                        <a:pt x="103" y="130"/>
                      </a:lnTo>
                      <a:lnTo>
                        <a:pt x="49" y="116"/>
                      </a:lnTo>
                      <a:lnTo>
                        <a:pt x="0" y="100"/>
                      </a:lnTo>
                      <a:lnTo>
                        <a:pt x="90" y="77"/>
                      </a:lnTo>
                      <a:lnTo>
                        <a:pt x="153" y="54"/>
                      </a:lnTo>
                      <a:lnTo>
                        <a:pt x="230" y="17"/>
                      </a:lnTo>
                      <a:lnTo>
                        <a:pt x="297" y="0"/>
                      </a:lnTo>
                      <a:lnTo>
                        <a:pt x="380" y="14"/>
                      </a:lnTo>
                      <a:lnTo>
                        <a:pt x="420" y="37"/>
                      </a:lnTo>
                      <a:lnTo>
                        <a:pt x="441" y="71"/>
                      </a:lnTo>
                      <a:lnTo>
                        <a:pt x="447" y="121"/>
                      </a:lnTo>
                      <a:lnTo>
                        <a:pt x="434" y="181"/>
                      </a:lnTo>
                      <a:lnTo>
                        <a:pt x="424" y="241"/>
                      </a:lnTo>
                      <a:lnTo>
                        <a:pt x="414" y="297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1579600">
                  <a:off x="8512200" y="2958120"/>
                  <a:ext cx="220320" cy="407160"/>
                </a:xfrm>
                <a:custGeom>
                  <a:avLst/>
                  <a:gdLst/>
                  <a:ahLst/>
                  <a:rect l="l" t="t" r="r" b="b"/>
                  <a:pathLst>
                    <a:path w="340" h="647">
                      <a:moveTo>
                        <a:pt x="47" y="647"/>
                      </a:moveTo>
                      <a:lnTo>
                        <a:pt x="23" y="561"/>
                      </a:lnTo>
                      <a:lnTo>
                        <a:pt x="6" y="495"/>
                      </a:lnTo>
                      <a:lnTo>
                        <a:pt x="0" y="408"/>
                      </a:lnTo>
                      <a:lnTo>
                        <a:pt x="3" y="335"/>
                      </a:lnTo>
                      <a:lnTo>
                        <a:pt x="13" y="251"/>
                      </a:lnTo>
                      <a:lnTo>
                        <a:pt x="30" y="190"/>
                      </a:lnTo>
                      <a:lnTo>
                        <a:pt x="50" y="142"/>
                      </a:lnTo>
                      <a:lnTo>
                        <a:pt x="93" y="91"/>
                      </a:lnTo>
                      <a:lnTo>
                        <a:pt x="144" y="54"/>
                      </a:lnTo>
                      <a:lnTo>
                        <a:pt x="200" y="27"/>
                      </a:lnTo>
                      <a:lnTo>
                        <a:pt x="273" y="10"/>
                      </a:lnTo>
                      <a:lnTo>
                        <a:pt x="340" y="0"/>
                      </a:lnTo>
                      <a:lnTo>
                        <a:pt x="286" y="24"/>
                      </a:lnTo>
                      <a:lnTo>
                        <a:pt x="247" y="47"/>
                      </a:lnTo>
                      <a:lnTo>
                        <a:pt x="220" y="68"/>
                      </a:lnTo>
                      <a:lnTo>
                        <a:pt x="187" y="98"/>
                      </a:lnTo>
                      <a:lnTo>
                        <a:pt x="164" y="125"/>
                      </a:lnTo>
                      <a:lnTo>
                        <a:pt x="140" y="162"/>
                      </a:lnTo>
                      <a:lnTo>
                        <a:pt x="113" y="207"/>
                      </a:lnTo>
                      <a:lnTo>
                        <a:pt x="90" y="254"/>
                      </a:lnTo>
                      <a:lnTo>
                        <a:pt x="70" y="308"/>
                      </a:lnTo>
                      <a:lnTo>
                        <a:pt x="57" y="359"/>
                      </a:lnTo>
                      <a:lnTo>
                        <a:pt x="43" y="430"/>
                      </a:lnTo>
                      <a:lnTo>
                        <a:pt x="37" y="496"/>
                      </a:lnTo>
                      <a:lnTo>
                        <a:pt x="47" y="644"/>
                      </a:lnTo>
                      <a:lnTo>
                        <a:pt x="47" y="647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1579600">
                  <a:off x="9082440" y="3273480"/>
                  <a:ext cx="166680" cy="457200"/>
                </a:xfrm>
                <a:custGeom>
                  <a:avLst/>
                  <a:gdLst/>
                  <a:ahLst/>
                  <a:rect l="l" t="t" r="r" b="b"/>
                  <a:pathLst>
                    <a:path w="257" h="726">
                      <a:moveTo>
                        <a:pt x="206" y="3"/>
                      </a:moveTo>
                      <a:lnTo>
                        <a:pt x="230" y="40"/>
                      </a:lnTo>
                      <a:lnTo>
                        <a:pt x="240" y="86"/>
                      </a:lnTo>
                      <a:lnTo>
                        <a:pt x="233" y="140"/>
                      </a:lnTo>
                      <a:lnTo>
                        <a:pt x="216" y="196"/>
                      </a:lnTo>
                      <a:lnTo>
                        <a:pt x="190" y="237"/>
                      </a:lnTo>
                      <a:lnTo>
                        <a:pt x="143" y="277"/>
                      </a:lnTo>
                      <a:lnTo>
                        <a:pt x="109" y="320"/>
                      </a:lnTo>
                      <a:lnTo>
                        <a:pt x="96" y="360"/>
                      </a:lnTo>
                      <a:lnTo>
                        <a:pt x="106" y="411"/>
                      </a:lnTo>
                      <a:lnTo>
                        <a:pt x="133" y="444"/>
                      </a:lnTo>
                      <a:lnTo>
                        <a:pt x="173" y="471"/>
                      </a:lnTo>
                      <a:lnTo>
                        <a:pt x="216" y="508"/>
                      </a:lnTo>
                      <a:lnTo>
                        <a:pt x="243" y="550"/>
                      </a:lnTo>
                      <a:lnTo>
                        <a:pt x="257" y="612"/>
                      </a:lnTo>
                      <a:lnTo>
                        <a:pt x="243" y="666"/>
                      </a:lnTo>
                      <a:lnTo>
                        <a:pt x="223" y="702"/>
                      </a:lnTo>
                      <a:lnTo>
                        <a:pt x="180" y="722"/>
                      </a:lnTo>
                      <a:lnTo>
                        <a:pt x="129" y="726"/>
                      </a:lnTo>
                      <a:lnTo>
                        <a:pt x="86" y="712"/>
                      </a:lnTo>
                      <a:lnTo>
                        <a:pt x="36" y="682"/>
                      </a:lnTo>
                      <a:lnTo>
                        <a:pt x="0" y="655"/>
                      </a:lnTo>
                      <a:lnTo>
                        <a:pt x="26" y="654"/>
                      </a:lnTo>
                      <a:lnTo>
                        <a:pt x="52" y="652"/>
                      </a:lnTo>
                      <a:lnTo>
                        <a:pt x="83" y="647"/>
                      </a:lnTo>
                      <a:lnTo>
                        <a:pt x="107" y="637"/>
                      </a:lnTo>
                      <a:lnTo>
                        <a:pt x="127" y="620"/>
                      </a:lnTo>
                      <a:lnTo>
                        <a:pt x="144" y="600"/>
                      </a:lnTo>
                      <a:lnTo>
                        <a:pt x="154" y="574"/>
                      </a:lnTo>
                      <a:lnTo>
                        <a:pt x="158" y="546"/>
                      </a:lnTo>
                      <a:lnTo>
                        <a:pt x="154" y="517"/>
                      </a:lnTo>
                      <a:lnTo>
                        <a:pt x="149" y="493"/>
                      </a:lnTo>
                      <a:lnTo>
                        <a:pt x="142" y="476"/>
                      </a:lnTo>
                      <a:lnTo>
                        <a:pt x="127" y="463"/>
                      </a:lnTo>
                      <a:lnTo>
                        <a:pt x="107" y="447"/>
                      </a:lnTo>
                      <a:lnTo>
                        <a:pt x="77" y="422"/>
                      </a:lnTo>
                      <a:lnTo>
                        <a:pt x="61" y="403"/>
                      </a:lnTo>
                      <a:lnTo>
                        <a:pt x="45" y="381"/>
                      </a:lnTo>
                      <a:lnTo>
                        <a:pt x="37" y="352"/>
                      </a:lnTo>
                      <a:lnTo>
                        <a:pt x="35" y="322"/>
                      </a:lnTo>
                      <a:lnTo>
                        <a:pt x="35" y="289"/>
                      </a:lnTo>
                      <a:lnTo>
                        <a:pt x="38" y="261"/>
                      </a:lnTo>
                      <a:lnTo>
                        <a:pt x="51" y="239"/>
                      </a:lnTo>
                      <a:lnTo>
                        <a:pt x="66" y="215"/>
                      </a:lnTo>
                      <a:lnTo>
                        <a:pt x="84" y="195"/>
                      </a:lnTo>
                      <a:lnTo>
                        <a:pt x="108" y="181"/>
                      </a:lnTo>
                      <a:lnTo>
                        <a:pt x="144" y="171"/>
                      </a:lnTo>
                      <a:lnTo>
                        <a:pt x="169" y="161"/>
                      </a:lnTo>
                      <a:lnTo>
                        <a:pt x="192" y="144"/>
                      </a:lnTo>
                      <a:lnTo>
                        <a:pt x="208" y="117"/>
                      </a:lnTo>
                      <a:lnTo>
                        <a:pt x="214" y="91"/>
                      </a:lnTo>
                      <a:lnTo>
                        <a:pt x="217" y="57"/>
                      </a:lnTo>
                      <a:lnTo>
                        <a:pt x="206" y="0"/>
                      </a:lnTo>
                      <a:lnTo>
                        <a:pt x="206" y="3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21579600">
                  <a:off x="8841240" y="3123720"/>
                  <a:ext cx="196920" cy="222840"/>
                </a:xfrm>
                <a:custGeom>
                  <a:avLst/>
                  <a:gdLst/>
                  <a:ahLst/>
                  <a:rect l="l" t="t" r="r" b="b"/>
                  <a:pathLst>
                    <a:path w="304" h="354">
                      <a:moveTo>
                        <a:pt x="303" y="1"/>
                      </a:moveTo>
                      <a:lnTo>
                        <a:pt x="279" y="58"/>
                      </a:lnTo>
                      <a:lnTo>
                        <a:pt x="262" y="91"/>
                      </a:lnTo>
                      <a:lnTo>
                        <a:pt x="243" y="130"/>
                      </a:lnTo>
                      <a:lnTo>
                        <a:pt x="226" y="171"/>
                      </a:lnTo>
                      <a:lnTo>
                        <a:pt x="210" y="204"/>
                      </a:lnTo>
                      <a:lnTo>
                        <a:pt x="192" y="236"/>
                      </a:lnTo>
                      <a:lnTo>
                        <a:pt x="170" y="265"/>
                      </a:lnTo>
                      <a:lnTo>
                        <a:pt x="150" y="293"/>
                      </a:lnTo>
                      <a:lnTo>
                        <a:pt x="136" y="321"/>
                      </a:lnTo>
                      <a:lnTo>
                        <a:pt x="124" y="354"/>
                      </a:lnTo>
                      <a:lnTo>
                        <a:pt x="114" y="328"/>
                      </a:lnTo>
                      <a:lnTo>
                        <a:pt x="103" y="308"/>
                      </a:lnTo>
                      <a:lnTo>
                        <a:pt x="90" y="282"/>
                      </a:lnTo>
                      <a:lnTo>
                        <a:pt x="76" y="263"/>
                      </a:lnTo>
                      <a:lnTo>
                        <a:pt x="61" y="241"/>
                      </a:lnTo>
                      <a:lnTo>
                        <a:pt x="43" y="226"/>
                      </a:lnTo>
                      <a:lnTo>
                        <a:pt x="26" y="214"/>
                      </a:lnTo>
                      <a:lnTo>
                        <a:pt x="0" y="208"/>
                      </a:lnTo>
                      <a:lnTo>
                        <a:pt x="40" y="187"/>
                      </a:lnTo>
                      <a:lnTo>
                        <a:pt x="110" y="157"/>
                      </a:lnTo>
                      <a:lnTo>
                        <a:pt x="170" y="123"/>
                      </a:lnTo>
                      <a:lnTo>
                        <a:pt x="229" y="84"/>
                      </a:lnTo>
                      <a:lnTo>
                        <a:pt x="273" y="44"/>
                      </a:lnTo>
                      <a:lnTo>
                        <a:pt x="304" y="0"/>
                      </a:lnTo>
                      <a:lnTo>
                        <a:pt x="303" y="1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 rot="21579600">
                <a:off x="8513280" y="2877840"/>
                <a:ext cx="736560" cy="855360"/>
              </a:xfrm>
              <a:custGeom>
                <a:avLst/>
                <a:gdLst/>
                <a:ahLst/>
                <a:rect l="l" t="t" r="r" b="b"/>
                <a:pathLst>
                  <a:path w="1136" h="1359">
                    <a:moveTo>
                      <a:pt x="672" y="781"/>
                    </a:moveTo>
                    <a:lnTo>
                      <a:pt x="715" y="727"/>
                    </a:lnTo>
                    <a:lnTo>
                      <a:pt x="766" y="680"/>
                    </a:lnTo>
                    <a:lnTo>
                      <a:pt x="816" y="644"/>
                    </a:lnTo>
                    <a:lnTo>
                      <a:pt x="867" y="610"/>
                    </a:lnTo>
                    <a:lnTo>
                      <a:pt x="907" y="590"/>
                    </a:lnTo>
                    <a:lnTo>
                      <a:pt x="942" y="580"/>
                    </a:lnTo>
                    <a:lnTo>
                      <a:pt x="981" y="573"/>
                    </a:lnTo>
                    <a:lnTo>
                      <a:pt x="1024" y="583"/>
                    </a:lnTo>
                    <a:lnTo>
                      <a:pt x="1055" y="600"/>
                    </a:lnTo>
                    <a:lnTo>
                      <a:pt x="1085" y="634"/>
                    </a:lnTo>
                    <a:lnTo>
                      <a:pt x="1109" y="671"/>
                    </a:lnTo>
                    <a:lnTo>
                      <a:pt x="1119" y="717"/>
                    </a:lnTo>
                    <a:lnTo>
                      <a:pt x="1112" y="771"/>
                    </a:lnTo>
                    <a:lnTo>
                      <a:pt x="1095" y="828"/>
                    </a:lnTo>
                    <a:lnTo>
                      <a:pt x="1068" y="869"/>
                    </a:lnTo>
                    <a:lnTo>
                      <a:pt x="1021" y="909"/>
                    </a:lnTo>
                    <a:lnTo>
                      <a:pt x="987" y="952"/>
                    </a:lnTo>
                    <a:lnTo>
                      <a:pt x="974" y="992"/>
                    </a:lnTo>
                    <a:lnTo>
                      <a:pt x="984" y="1043"/>
                    </a:lnTo>
                    <a:lnTo>
                      <a:pt x="1011" y="1076"/>
                    </a:lnTo>
                    <a:lnTo>
                      <a:pt x="1051" y="1103"/>
                    </a:lnTo>
                    <a:lnTo>
                      <a:pt x="1095" y="1140"/>
                    </a:lnTo>
                    <a:lnTo>
                      <a:pt x="1122" y="1184"/>
                    </a:lnTo>
                    <a:lnTo>
                      <a:pt x="1136" y="1245"/>
                    </a:lnTo>
                    <a:lnTo>
                      <a:pt x="1122" y="1299"/>
                    </a:lnTo>
                    <a:lnTo>
                      <a:pt x="1102" y="1335"/>
                    </a:lnTo>
                    <a:lnTo>
                      <a:pt x="1058" y="1356"/>
                    </a:lnTo>
                    <a:lnTo>
                      <a:pt x="1008" y="1359"/>
                    </a:lnTo>
                    <a:lnTo>
                      <a:pt x="964" y="1346"/>
                    </a:lnTo>
                    <a:lnTo>
                      <a:pt x="913" y="1315"/>
                    </a:lnTo>
                    <a:lnTo>
                      <a:pt x="877" y="1288"/>
                    </a:lnTo>
                    <a:lnTo>
                      <a:pt x="834" y="1247"/>
                    </a:lnTo>
                    <a:lnTo>
                      <a:pt x="793" y="1211"/>
                    </a:lnTo>
                    <a:lnTo>
                      <a:pt x="750" y="1185"/>
                    </a:lnTo>
                    <a:lnTo>
                      <a:pt x="699" y="1169"/>
                    </a:lnTo>
                    <a:lnTo>
                      <a:pt x="645" y="1157"/>
                    </a:lnTo>
                    <a:lnTo>
                      <a:pt x="592" y="1147"/>
                    </a:lnTo>
                    <a:lnTo>
                      <a:pt x="541" y="1136"/>
                    </a:lnTo>
                    <a:lnTo>
                      <a:pt x="498" y="1123"/>
                    </a:lnTo>
                    <a:lnTo>
                      <a:pt x="456" y="1096"/>
                    </a:lnTo>
                    <a:lnTo>
                      <a:pt x="420" y="1055"/>
                    </a:lnTo>
                    <a:lnTo>
                      <a:pt x="393" y="1013"/>
                    </a:lnTo>
                    <a:lnTo>
                      <a:pt x="376" y="963"/>
                    </a:lnTo>
                    <a:lnTo>
                      <a:pt x="363" y="888"/>
                    </a:lnTo>
                    <a:lnTo>
                      <a:pt x="366" y="814"/>
                    </a:lnTo>
                    <a:lnTo>
                      <a:pt x="380" y="749"/>
                    </a:lnTo>
                    <a:lnTo>
                      <a:pt x="403" y="697"/>
                    </a:lnTo>
                    <a:lnTo>
                      <a:pt x="432" y="661"/>
                    </a:lnTo>
                    <a:lnTo>
                      <a:pt x="455" y="635"/>
                    </a:lnTo>
                    <a:lnTo>
                      <a:pt x="487" y="609"/>
                    </a:lnTo>
                    <a:lnTo>
                      <a:pt x="547" y="580"/>
                    </a:lnTo>
                    <a:lnTo>
                      <a:pt x="618" y="549"/>
                    </a:lnTo>
                    <a:lnTo>
                      <a:pt x="678" y="515"/>
                    </a:lnTo>
                    <a:lnTo>
                      <a:pt x="739" y="475"/>
                    </a:lnTo>
                    <a:lnTo>
                      <a:pt x="783" y="435"/>
                    </a:lnTo>
                    <a:lnTo>
                      <a:pt x="806" y="401"/>
                    </a:lnTo>
                    <a:lnTo>
                      <a:pt x="815" y="378"/>
                    </a:lnTo>
                    <a:lnTo>
                      <a:pt x="819" y="358"/>
                    </a:lnTo>
                    <a:lnTo>
                      <a:pt x="820" y="323"/>
                    </a:lnTo>
                    <a:lnTo>
                      <a:pt x="802" y="372"/>
                    </a:lnTo>
                    <a:lnTo>
                      <a:pt x="781" y="399"/>
                    </a:lnTo>
                    <a:lnTo>
                      <a:pt x="752" y="422"/>
                    </a:lnTo>
                    <a:lnTo>
                      <a:pt x="721" y="439"/>
                    </a:lnTo>
                    <a:lnTo>
                      <a:pt x="681" y="451"/>
                    </a:lnTo>
                    <a:lnTo>
                      <a:pt x="632" y="458"/>
                    </a:lnTo>
                    <a:lnTo>
                      <a:pt x="585" y="453"/>
                    </a:lnTo>
                    <a:lnTo>
                      <a:pt x="534" y="448"/>
                    </a:lnTo>
                    <a:lnTo>
                      <a:pt x="486" y="449"/>
                    </a:lnTo>
                    <a:lnTo>
                      <a:pt x="438" y="455"/>
                    </a:lnTo>
                    <a:lnTo>
                      <a:pt x="392" y="465"/>
                    </a:lnTo>
                    <a:lnTo>
                      <a:pt x="336" y="485"/>
                    </a:lnTo>
                    <a:lnTo>
                      <a:pt x="285" y="510"/>
                    </a:lnTo>
                    <a:lnTo>
                      <a:pt x="244" y="537"/>
                    </a:lnTo>
                    <a:lnTo>
                      <a:pt x="208" y="573"/>
                    </a:lnTo>
                    <a:lnTo>
                      <a:pt x="177" y="617"/>
                    </a:lnTo>
                    <a:lnTo>
                      <a:pt x="160" y="658"/>
                    </a:lnTo>
                    <a:lnTo>
                      <a:pt x="154" y="700"/>
                    </a:lnTo>
                    <a:lnTo>
                      <a:pt x="162" y="774"/>
                    </a:lnTo>
                    <a:lnTo>
                      <a:pt x="182" y="855"/>
                    </a:lnTo>
                    <a:lnTo>
                      <a:pt x="203" y="913"/>
                    </a:lnTo>
                    <a:lnTo>
                      <a:pt x="229" y="962"/>
                    </a:lnTo>
                    <a:lnTo>
                      <a:pt x="267" y="1017"/>
                    </a:lnTo>
                    <a:lnTo>
                      <a:pt x="303" y="1057"/>
                    </a:lnTo>
                    <a:lnTo>
                      <a:pt x="346" y="1096"/>
                    </a:lnTo>
                    <a:lnTo>
                      <a:pt x="401" y="1141"/>
                    </a:lnTo>
                    <a:lnTo>
                      <a:pt x="468" y="1181"/>
                    </a:lnTo>
                    <a:lnTo>
                      <a:pt x="534" y="1207"/>
                    </a:lnTo>
                    <a:lnTo>
                      <a:pt x="598" y="1225"/>
                    </a:lnTo>
                    <a:lnTo>
                      <a:pt x="645" y="1234"/>
                    </a:lnTo>
                    <a:lnTo>
                      <a:pt x="685" y="1244"/>
                    </a:lnTo>
                    <a:lnTo>
                      <a:pt x="705" y="1260"/>
                    </a:lnTo>
                    <a:lnTo>
                      <a:pt x="712" y="1280"/>
                    </a:lnTo>
                    <a:lnTo>
                      <a:pt x="706" y="1301"/>
                    </a:lnTo>
                    <a:lnTo>
                      <a:pt x="689" y="1312"/>
                    </a:lnTo>
                    <a:lnTo>
                      <a:pt x="667" y="1315"/>
                    </a:lnTo>
                    <a:lnTo>
                      <a:pt x="625" y="1311"/>
                    </a:lnTo>
                    <a:lnTo>
                      <a:pt x="568" y="1295"/>
                    </a:lnTo>
                    <a:lnTo>
                      <a:pt x="510" y="1275"/>
                    </a:lnTo>
                    <a:lnTo>
                      <a:pt x="447" y="1244"/>
                    </a:lnTo>
                    <a:lnTo>
                      <a:pt x="400" y="1214"/>
                    </a:lnTo>
                    <a:lnTo>
                      <a:pt x="355" y="1177"/>
                    </a:lnTo>
                    <a:lnTo>
                      <a:pt x="318" y="1134"/>
                    </a:lnTo>
                    <a:lnTo>
                      <a:pt x="276" y="1082"/>
                    </a:lnTo>
                    <a:lnTo>
                      <a:pt x="231" y="1033"/>
                    </a:lnTo>
                    <a:lnTo>
                      <a:pt x="185" y="979"/>
                    </a:lnTo>
                    <a:lnTo>
                      <a:pt x="139" y="923"/>
                    </a:lnTo>
                    <a:lnTo>
                      <a:pt x="102" y="875"/>
                    </a:lnTo>
                    <a:lnTo>
                      <a:pt x="72" y="828"/>
                    </a:lnTo>
                    <a:lnTo>
                      <a:pt x="48" y="774"/>
                    </a:lnTo>
                    <a:lnTo>
                      <a:pt x="23" y="689"/>
                    </a:lnTo>
                    <a:lnTo>
                      <a:pt x="6" y="622"/>
                    </a:lnTo>
                    <a:lnTo>
                      <a:pt x="0" y="535"/>
                    </a:lnTo>
                    <a:lnTo>
                      <a:pt x="3" y="462"/>
                    </a:lnTo>
                    <a:lnTo>
                      <a:pt x="13" y="377"/>
                    </a:lnTo>
                    <a:lnTo>
                      <a:pt x="30" y="316"/>
                    </a:lnTo>
                    <a:lnTo>
                      <a:pt x="50" y="267"/>
                    </a:lnTo>
                    <a:lnTo>
                      <a:pt x="94" y="216"/>
                    </a:lnTo>
                    <a:lnTo>
                      <a:pt x="145" y="179"/>
                    </a:lnTo>
                    <a:lnTo>
                      <a:pt x="201" y="152"/>
                    </a:lnTo>
                    <a:lnTo>
                      <a:pt x="275" y="135"/>
                    </a:lnTo>
                    <a:lnTo>
                      <a:pt x="343" y="125"/>
                    </a:lnTo>
                    <a:lnTo>
                      <a:pt x="424" y="102"/>
                    </a:lnTo>
                    <a:lnTo>
                      <a:pt x="514" y="78"/>
                    </a:lnTo>
                    <a:lnTo>
                      <a:pt x="578" y="54"/>
                    </a:lnTo>
                    <a:lnTo>
                      <a:pt x="655" y="17"/>
                    </a:lnTo>
                    <a:lnTo>
                      <a:pt x="722" y="0"/>
                    </a:lnTo>
                    <a:lnTo>
                      <a:pt x="806" y="14"/>
                    </a:lnTo>
                    <a:lnTo>
                      <a:pt x="847" y="37"/>
                    </a:lnTo>
                    <a:lnTo>
                      <a:pt x="867" y="71"/>
                    </a:lnTo>
                    <a:lnTo>
                      <a:pt x="874" y="122"/>
                    </a:lnTo>
                    <a:lnTo>
                      <a:pt x="860" y="183"/>
                    </a:lnTo>
                    <a:lnTo>
                      <a:pt x="850" y="243"/>
                    </a:lnTo>
                    <a:lnTo>
                      <a:pt x="840" y="297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5284080" y="380880"/>
            <a:ext cx="28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的技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32040" y="1905120"/>
            <a:ext cx="5696280" cy="24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：促进对方表达意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询问：以探索的方式获得更多的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应：告诉对方你在听，同时确定对方完全了解你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述：用于讨论结束的时候，确定没有误解对方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52440" y="1752480"/>
            <a:ext cx="1719360" cy="60984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86080" y="17524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2666880"/>
            <a:ext cx="1733400" cy="60984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20840" y="3657600"/>
            <a:ext cx="1568520" cy="60948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38400" y="4572000"/>
            <a:ext cx="1733400" cy="60948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86080" y="26668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询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6080" y="365760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86080" y="464832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457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不同的回应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7152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bbe0e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内容：沟通前清晰、富有逻辑的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bbe0e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分利用非语言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bbe0e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调查分析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交谈中获取信息中，视觉占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5%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声音占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%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语言占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%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对方开口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3280" y="4211640"/>
            <a:ext cx="19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04880" y="533520"/>
            <a:ext cx="21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486040" y="533160"/>
            <a:ext cx="346068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话的原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1160" y="1676520"/>
            <a:ext cx="81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孔子名言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事不说，遂事不谏，既往不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好事情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播新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坏事情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先设定底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敏感事情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制造气氛，引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避免正面冲突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见人，见鬼，不人不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5257800"/>
            <a:ext cx="5531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实与推理，讲事实还是推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15267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声音的表现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38360" y="2438280"/>
            <a:ext cx="6438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词汇是很小的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语调、音量、语速、重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8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听者注重的是表现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03240" y="4495680"/>
            <a:ext cx="5613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 请 你 的 女 朋 友 吃 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  请  你  吃  饭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5880" y="533160"/>
            <a:ext cx="284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的技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55600" y="1599840"/>
            <a:ext cx="3268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放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封闭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63880" y="3581280"/>
            <a:ext cx="5744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黑板上写一个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黑板后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家来回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过问题找出答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264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留心捕捉脸部表情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洞察眼睛的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肢体动作可以增添色彩与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距离代表亲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暗示地位的非语言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85760" y="380880"/>
            <a:ext cx="21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消极的身体语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56768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离你           快速点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捂着鼻子        有限的目光接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天               捂嘴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握紧拳头        急促呼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体后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lobe_key" descr=""/>
          <p:cNvPicPr/>
          <p:nvPr/>
        </p:nvPicPr>
        <p:blipFill>
          <a:blip r:embed="rId1"/>
          <a:stretch/>
        </p:blipFill>
        <p:spPr>
          <a:xfrm>
            <a:off x="247680" y="990720"/>
            <a:ext cx="4457520" cy="3062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47320" y="762120"/>
            <a:ext cx="1643760" cy="825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销售就是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5120" y="1981080"/>
            <a:ext cx="2131560" cy="825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决问题就是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26480" y="3352680"/>
            <a:ext cx="1643760" cy="825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服务就是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01000" y="4724280"/>
            <a:ext cx="1643760" cy="825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管理就是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05520" y="83772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积极的身体语言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3276720"/>
            <a:ext cx="64342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的点头    身体朝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面向你      理解的附和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体放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352680" y="837720"/>
            <a:ext cx="608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沟通中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种致命过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360" y="2895480"/>
            <a:ext cx="8386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傲慢无理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评价，安慰，扮演为专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讽刺或者挖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号施令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命令，挑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避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棱两可，保留信息，转移注意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2880" y="685440"/>
            <a:ext cx="407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想的沟通境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2514600"/>
            <a:ext cx="60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不批评，不责备，不抱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引发别人的渴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保持愉快的心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倾听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让别人觉得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主动用爱心关怀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真诚赞美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说别人感兴趣的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724280" y="609480"/>
            <a:ext cx="4146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76560" y="685440"/>
            <a:ext cx="43671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际风格沟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17720" y="2514600"/>
            <a:ext cx="11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支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532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和蔼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77640" y="47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表现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39000" y="2590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分析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08600" y="1600200"/>
            <a:ext cx="7715160" cy="4834080"/>
            <a:chOff x="1308600" y="1600200"/>
            <a:chExt cx="7715160" cy="4834080"/>
          </a:xfrm>
        </p:grpSpPr>
        <p:sp>
          <p:nvSpPr>
            <p:cNvPr id="244" name=""/>
            <p:cNvSpPr/>
            <p:nvPr/>
          </p:nvSpPr>
          <p:spPr>
            <a:xfrm>
              <a:off x="2317320" y="4122720"/>
              <a:ext cx="565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33520" y="2176560"/>
              <a:ext cx="0" cy="37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58840" y="1600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内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08600" y="3834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55240" y="3834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主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5040" y="58528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外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1752480"/>
            <a:ext cx="40384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42900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严肃认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条不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计划有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乎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实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寡言的缄默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3276720"/>
            <a:ext cx="4648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部表情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确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细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调单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挂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38098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6248520" y="304920"/>
            <a:ext cx="3124080" cy="1752480"/>
            <a:chOff x="6248520" y="304920"/>
            <a:chExt cx="3124080" cy="1752480"/>
          </a:xfrm>
        </p:grpSpPr>
        <p:sp>
          <p:nvSpPr>
            <p:cNvPr id="255" name=""/>
            <p:cNvSpPr/>
            <p:nvPr/>
          </p:nvSpPr>
          <p:spPr>
            <a:xfrm>
              <a:off x="6248520" y="304920"/>
              <a:ext cx="3124080" cy="1752480"/>
            </a:xfrm>
            <a:custGeom>
              <a:avLst/>
              <a:gdLst>
                <a:gd name="textAreaLeft" fmla="*/ 713160 w 3124080"/>
                <a:gd name="textAreaRight" fmla="*/ 2410920 w 3124080"/>
                <a:gd name="textAreaTop" fmla="*/ 399960 h 1752480"/>
                <a:gd name="textAreaBottom" fmla="*/ 13525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40040" y="8056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c708e"/>
                  </a:solidFill>
                  <a:latin typeface="Times New Roman"/>
                </a:rPr>
                <a:t>分析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200400" y="914400"/>
            <a:ext cx="40449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3352680"/>
            <a:ext cx="6080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果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独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审慎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作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目光接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目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话快且有说服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日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523880"/>
            <a:ext cx="3124080" cy="144792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7140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支配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981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19320" y="1219320"/>
            <a:ext cx="59641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14600" y="2286000"/>
            <a:ext cx="381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友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赞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耐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轻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4480" y="1600200"/>
            <a:ext cx="4265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面部表情和蔼可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频繁的目光接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话慢条斯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声音轻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抑扬顿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鼓励性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办公室里有家人照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373040" y="4648320"/>
            <a:ext cx="2436840" cy="1981080"/>
          </a:xfrm>
          <a:prstGeom prst="irregularSeal2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和 蔼  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71600" y="1219320"/>
            <a:ext cx="37972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2057400"/>
            <a:ext cx="31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率友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热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令人信服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幽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群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泼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快速的动作和手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动活泼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抑扬顿挫的语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说服力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陈列有说服力的物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316640" y="533520"/>
            <a:ext cx="1903680" cy="2361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971800" y="4952880"/>
            <a:ext cx="4724280" cy="1447920"/>
          </a:xfrm>
          <a:prstGeom prst="irregularSeal2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表 达 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105520" y="609480"/>
            <a:ext cx="4146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0880" y="1600200"/>
            <a:ext cx="7677360" cy="4495320"/>
            <a:chOff x="380880" y="1600200"/>
            <a:chExt cx="7677360" cy="4495320"/>
          </a:xfrm>
        </p:grpSpPr>
        <p:sp>
          <p:nvSpPr>
            <p:cNvPr id="58" name=""/>
            <p:cNvSpPr/>
            <p:nvPr/>
          </p:nvSpPr>
          <p:spPr>
            <a:xfrm>
              <a:off x="380880" y="1905120"/>
              <a:ext cx="5365800" cy="39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829120" y="4267080"/>
              <a:ext cx="1687320" cy="1828440"/>
              <a:chOff x="5829120" y="4267080"/>
              <a:chExt cx="1687320" cy="1828440"/>
            </a:xfrm>
          </p:grpSpPr>
          <p:sp>
            <p:nvSpPr>
              <p:cNvPr id="60" name=""/>
              <p:cNvSpPr/>
              <p:nvPr/>
            </p:nvSpPr>
            <p:spPr>
              <a:xfrm>
                <a:off x="6713280" y="4338720"/>
                <a:ext cx="530640" cy="466560"/>
              </a:xfrm>
              <a:custGeom>
                <a:avLst/>
                <a:gdLst/>
                <a:ahLst/>
                <a:rect l="l" t="t" r="r" b="b"/>
                <a:pathLst>
                  <a:path w="399" h="482">
                    <a:moveTo>
                      <a:pt x="27" y="231"/>
                    </a:moveTo>
                    <a:lnTo>
                      <a:pt x="57" y="162"/>
                    </a:lnTo>
                    <a:lnTo>
                      <a:pt x="120" y="90"/>
                    </a:lnTo>
                    <a:lnTo>
                      <a:pt x="183" y="45"/>
                    </a:lnTo>
                    <a:lnTo>
                      <a:pt x="252" y="9"/>
                    </a:lnTo>
                    <a:lnTo>
                      <a:pt x="318" y="0"/>
                    </a:lnTo>
                    <a:lnTo>
                      <a:pt x="363" y="15"/>
                    </a:lnTo>
                    <a:lnTo>
                      <a:pt x="390" y="51"/>
                    </a:lnTo>
                    <a:lnTo>
                      <a:pt x="399" y="96"/>
                    </a:lnTo>
                    <a:lnTo>
                      <a:pt x="390" y="153"/>
                    </a:lnTo>
                    <a:lnTo>
                      <a:pt x="369" y="216"/>
                    </a:lnTo>
                    <a:lnTo>
                      <a:pt x="318" y="276"/>
                    </a:lnTo>
                    <a:lnTo>
                      <a:pt x="261" y="342"/>
                    </a:lnTo>
                    <a:lnTo>
                      <a:pt x="297" y="459"/>
                    </a:lnTo>
                    <a:lnTo>
                      <a:pt x="288" y="482"/>
                    </a:lnTo>
                    <a:lnTo>
                      <a:pt x="270" y="477"/>
                    </a:lnTo>
                    <a:lnTo>
                      <a:pt x="225" y="384"/>
                    </a:lnTo>
                    <a:lnTo>
                      <a:pt x="162" y="423"/>
                    </a:lnTo>
                    <a:lnTo>
                      <a:pt x="84" y="438"/>
                    </a:lnTo>
                    <a:lnTo>
                      <a:pt x="36" y="432"/>
                    </a:lnTo>
                    <a:lnTo>
                      <a:pt x="3" y="396"/>
                    </a:lnTo>
                    <a:lnTo>
                      <a:pt x="0" y="339"/>
                    </a:lnTo>
                    <a:lnTo>
                      <a:pt x="0" y="288"/>
                    </a:lnTo>
                    <a:lnTo>
                      <a:pt x="27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62200" y="4267080"/>
                <a:ext cx="595800" cy="523080"/>
              </a:xfrm>
              <a:custGeom>
                <a:avLst/>
                <a:gdLst/>
                <a:ahLst/>
                <a:rect l="l" t="t" r="r" b="b"/>
                <a:pathLst>
                  <a:path w="448" h="540">
                    <a:moveTo>
                      <a:pt x="185" y="388"/>
                    </a:moveTo>
                    <a:lnTo>
                      <a:pt x="203" y="406"/>
                    </a:lnTo>
                    <a:lnTo>
                      <a:pt x="215" y="439"/>
                    </a:lnTo>
                    <a:lnTo>
                      <a:pt x="221" y="505"/>
                    </a:lnTo>
                    <a:lnTo>
                      <a:pt x="179" y="540"/>
                    </a:lnTo>
                    <a:lnTo>
                      <a:pt x="122" y="511"/>
                    </a:lnTo>
                    <a:lnTo>
                      <a:pt x="99" y="421"/>
                    </a:lnTo>
                    <a:lnTo>
                      <a:pt x="42" y="278"/>
                    </a:lnTo>
                    <a:lnTo>
                      <a:pt x="15" y="153"/>
                    </a:lnTo>
                    <a:lnTo>
                      <a:pt x="0" y="36"/>
                    </a:lnTo>
                    <a:lnTo>
                      <a:pt x="15" y="0"/>
                    </a:lnTo>
                    <a:lnTo>
                      <a:pt x="36" y="0"/>
                    </a:lnTo>
                    <a:lnTo>
                      <a:pt x="140" y="30"/>
                    </a:lnTo>
                    <a:lnTo>
                      <a:pt x="275" y="81"/>
                    </a:lnTo>
                    <a:lnTo>
                      <a:pt x="311" y="84"/>
                    </a:lnTo>
                    <a:lnTo>
                      <a:pt x="340" y="75"/>
                    </a:lnTo>
                    <a:lnTo>
                      <a:pt x="364" y="117"/>
                    </a:lnTo>
                    <a:lnTo>
                      <a:pt x="448" y="179"/>
                    </a:lnTo>
                    <a:lnTo>
                      <a:pt x="448" y="197"/>
                    </a:lnTo>
                    <a:lnTo>
                      <a:pt x="430" y="206"/>
                    </a:lnTo>
                    <a:lnTo>
                      <a:pt x="367" y="153"/>
                    </a:lnTo>
                    <a:lnTo>
                      <a:pt x="346" y="171"/>
                    </a:lnTo>
                    <a:lnTo>
                      <a:pt x="269" y="191"/>
                    </a:lnTo>
                    <a:lnTo>
                      <a:pt x="224" y="171"/>
                    </a:lnTo>
                    <a:lnTo>
                      <a:pt x="230" y="129"/>
                    </a:lnTo>
                    <a:lnTo>
                      <a:pt x="188" y="99"/>
                    </a:lnTo>
                    <a:lnTo>
                      <a:pt x="113" y="72"/>
                    </a:lnTo>
                    <a:lnTo>
                      <a:pt x="60" y="57"/>
                    </a:lnTo>
                    <a:lnTo>
                      <a:pt x="60" y="99"/>
                    </a:lnTo>
                    <a:lnTo>
                      <a:pt x="72" y="191"/>
                    </a:lnTo>
                    <a:lnTo>
                      <a:pt x="96" y="260"/>
                    </a:lnTo>
                    <a:lnTo>
                      <a:pt x="131" y="335"/>
                    </a:lnTo>
                    <a:lnTo>
                      <a:pt x="185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682680" y="4605120"/>
                <a:ext cx="833760" cy="442800"/>
              </a:xfrm>
              <a:custGeom>
                <a:avLst/>
                <a:gdLst/>
                <a:ahLst/>
                <a:rect l="l" t="t" r="r" b="b"/>
                <a:pathLst>
                  <a:path w="627" h="457">
                    <a:moveTo>
                      <a:pt x="95" y="276"/>
                    </a:moveTo>
                    <a:lnTo>
                      <a:pt x="53" y="243"/>
                    </a:lnTo>
                    <a:lnTo>
                      <a:pt x="14" y="243"/>
                    </a:lnTo>
                    <a:lnTo>
                      <a:pt x="0" y="279"/>
                    </a:lnTo>
                    <a:lnTo>
                      <a:pt x="14" y="348"/>
                    </a:lnTo>
                    <a:lnTo>
                      <a:pt x="104" y="402"/>
                    </a:lnTo>
                    <a:lnTo>
                      <a:pt x="268" y="450"/>
                    </a:lnTo>
                    <a:lnTo>
                      <a:pt x="301" y="457"/>
                    </a:lnTo>
                    <a:lnTo>
                      <a:pt x="337" y="457"/>
                    </a:lnTo>
                    <a:lnTo>
                      <a:pt x="403" y="457"/>
                    </a:lnTo>
                    <a:lnTo>
                      <a:pt x="519" y="420"/>
                    </a:lnTo>
                    <a:lnTo>
                      <a:pt x="624" y="387"/>
                    </a:lnTo>
                    <a:lnTo>
                      <a:pt x="627" y="366"/>
                    </a:lnTo>
                    <a:lnTo>
                      <a:pt x="573" y="243"/>
                    </a:lnTo>
                    <a:lnTo>
                      <a:pt x="510" y="150"/>
                    </a:lnTo>
                    <a:lnTo>
                      <a:pt x="474" y="105"/>
                    </a:lnTo>
                    <a:lnTo>
                      <a:pt x="474" y="72"/>
                    </a:lnTo>
                    <a:lnTo>
                      <a:pt x="420" y="72"/>
                    </a:lnTo>
                    <a:lnTo>
                      <a:pt x="340" y="0"/>
                    </a:lnTo>
                    <a:lnTo>
                      <a:pt x="319" y="0"/>
                    </a:lnTo>
                    <a:lnTo>
                      <a:pt x="319" y="24"/>
                    </a:lnTo>
                    <a:lnTo>
                      <a:pt x="394" y="78"/>
                    </a:lnTo>
                    <a:lnTo>
                      <a:pt x="394" y="108"/>
                    </a:lnTo>
                    <a:lnTo>
                      <a:pt x="412" y="186"/>
                    </a:lnTo>
                    <a:lnTo>
                      <a:pt x="447" y="195"/>
                    </a:lnTo>
                    <a:lnTo>
                      <a:pt x="483" y="198"/>
                    </a:lnTo>
                    <a:lnTo>
                      <a:pt x="525" y="249"/>
                    </a:lnTo>
                    <a:lnTo>
                      <a:pt x="552" y="339"/>
                    </a:lnTo>
                    <a:lnTo>
                      <a:pt x="534" y="369"/>
                    </a:lnTo>
                    <a:lnTo>
                      <a:pt x="453" y="393"/>
                    </a:lnTo>
                    <a:lnTo>
                      <a:pt x="376" y="396"/>
                    </a:lnTo>
                    <a:lnTo>
                      <a:pt x="313" y="396"/>
                    </a:lnTo>
                    <a:lnTo>
                      <a:pt x="232" y="375"/>
                    </a:lnTo>
                    <a:lnTo>
                      <a:pt x="158" y="333"/>
                    </a:lnTo>
                    <a:lnTo>
                      <a:pt x="9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040" y="4707720"/>
                <a:ext cx="658080" cy="713880"/>
              </a:xfrm>
              <a:custGeom>
                <a:avLst/>
                <a:gdLst/>
                <a:ahLst/>
                <a:rect l="l" t="t" r="r" b="b"/>
                <a:pathLst>
                  <a:path w="495" h="737">
                    <a:moveTo>
                      <a:pt x="135" y="47"/>
                    </a:moveTo>
                    <a:lnTo>
                      <a:pt x="201" y="17"/>
                    </a:lnTo>
                    <a:lnTo>
                      <a:pt x="279" y="2"/>
                    </a:lnTo>
                    <a:lnTo>
                      <a:pt x="372" y="0"/>
                    </a:lnTo>
                    <a:lnTo>
                      <a:pt x="426" y="11"/>
                    </a:lnTo>
                    <a:lnTo>
                      <a:pt x="486" y="47"/>
                    </a:lnTo>
                    <a:lnTo>
                      <a:pt x="495" y="83"/>
                    </a:lnTo>
                    <a:lnTo>
                      <a:pt x="489" y="128"/>
                    </a:lnTo>
                    <a:lnTo>
                      <a:pt x="462" y="170"/>
                    </a:lnTo>
                    <a:lnTo>
                      <a:pt x="432" y="191"/>
                    </a:lnTo>
                    <a:lnTo>
                      <a:pt x="381" y="215"/>
                    </a:lnTo>
                    <a:lnTo>
                      <a:pt x="333" y="251"/>
                    </a:lnTo>
                    <a:lnTo>
                      <a:pt x="309" y="290"/>
                    </a:lnTo>
                    <a:lnTo>
                      <a:pt x="297" y="362"/>
                    </a:lnTo>
                    <a:lnTo>
                      <a:pt x="315" y="416"/>
                    </a:lnTo>
                    <a:lnTo>
                      <a:pt x="351" y="470"/>
                    </a:lnTo>
                    <a:lnTo>
                      <a:pt x="378" y="548"/>
                    </a:lnTo>
                    <a:lnTo>
                      <a:pt x="381" y="638"/>
                    </a:lnTo>
                    <a:lnTo>
                      <a:pt x="363" y="692"/>
                    </a:lnTo>
                    <a:lnTo>
                      <a:pt x="318" y="728"/>
                    </a:lnTo>
                    <a:lnTo>
                      <a:pt x="264" y="737"/>
                    </a:lnTo>
                    <a:lnTo>
                      <a:pt x="183" y="713"/>
                    </a:lnTo>
                    <a:lnTo>
                      <a:pt x="111" y="659"/>
                    </a:lnTo>
                    <a:lnTo>
                      <a:pt x="63" y="593"/>
                    </a:lnTo>
                    <a:lnTo>
                      <a:pt x="18" y="488"/>
                    </a:lnTo>
                    <a:lnTo>
                      <a:pt x="0" y="359"/>
                    </a:lnTo>
                    <a:lnTo>
                      <a:pt x="12" y="245"/>
                    </a:lnTo>
                    <a:lnTo>
                      <a:pt x="45" y="146"/>
                    </a:lnTo>
                    <a:lnTo>
                      <a:pt x="90" y="89"/>
                    </a:lnTo>
                    <a:lnTo>
                      <a:pt x="13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29120" y="5276160"/>
                <a:ext cx="731160" cy="819360"/>
              </a:xfrm>
              <a:custGeom>
                <a:avLst/>
                <a:gdLst/>
                <a:ahLst/>
                <a:rect l="l" t="t" r="r" b="b"/>
                <a:pathLst>
                  <a:path w="550" h="846">
                    <a:moveTo>
                      <a:pt x="480" y="183"/>
                    </a:moveTo>
                    <a:lnTo>
                      <a:pt x="423" y="111"/>
                    </a:lnTo>
                    <a:lnTo>
                      <a:pt x="345" y="9"/>
                    </a:lnTo>
                    <a:lnTo>
                      <a:pt x="282" y="0"/>
                    </a:lnTo>
                    <a:lnTo>
                      <a:pt x="237" y="9"/>
                    </a:lnTo>
                    <a:lnTo>
                      <a:pt x="225" y="54"/>
                    </a:lnTo>
                    <a:lnTo>
                      <a:pt x="255" y="120"/>
                    </a:lnTo>
                    <a:lnTo>
                      <a:pt x="351" y="201"/>
                    </a:lnTo>
                    <a:lnTo>
                      <a:pt x="435" y="281"/>
                    </a:lnTo>
                    <a:lnTo>
                      <a:pt x="471" y="323"/>
                    </a:lnTo>
                    <a:lnTo>
                      <a:pt x="471" y="344"/>
                    </a:lnTo>
                    <a:lnTo>
                      <a:pt x="444" y="395"/>
                    </a:lnTo>
                    <a:lnTo>
                      <a:pt x="381" y="452"/>
                    </a:lnTo>
                    <a:lnTo>
                      <a:pt x="300" y="488"/>
                    </a:lnTo>
                    <a:lnTo>
                      <a:pt x="210" y="506"/>
                    </a:lnTo>
                    <a:lnTo>
                      <a:pt x="126" y="521"/>
                    </a:lnTo>
                    <a:lnTo>
                      <a:pt x="75" y="530"/>
                    </a:lnTo>
                    <a:lnTo>
                      <a:pt x="27" y="524"/>
                    </a:lnTo>
                    <a:lnTo>
                      <a:pt x="0" y="542"/>
                    </a:lnTo>
                    <a:lnTo>
                      <a:pt x="0" y="577"/>
                    </a:lnTo>
                    <a:lnTo>
                      <a:pt x="18" y="592"/>
                    </a:lnTo>
                    <a:lnTo>
                      <a:pt x="126" y="628"/>
                    </a:lnTo>
                    <a:lnTo>
                      <a:pt x="216" y="682"/>
                    </a:lnTo>
                    <a:lnTo>
                      <a:pt x="291" y="766"/>
                    </a:lnTo>
                    <a:lnTo>
                      <a:pt x="315" y="811"/>
                    </a:lnTo>
                    <a:lnTo>
                      <a:pt x="324" y="844"/>
                    </a:lnTo>
                    <a:lnTo>
                      <a:pt x="360" y="846"/>
                    </a:lnTo>
                    <a:lnTo>
                      <a:pt x="417" y="829"/>
                    </a:lnTo>
                    <a:lnTo>
                      <a:pt x="414" y="784"/>
                    </a:lnTo>
                    <a:lnTo>
                      <a:pt x="354" y="718"/>
                    </a:lnTo>
                    <a:lnTo>
                      <a:pt x="279" y="658"/>
                    </a:lnTo>
                    <a:lnTo>
                      <a:pt x="216" y="622"/>
                    </a:lnTo>
                    <a:lnTo>
                      <a:pt x="147" y="595"/>
                    </a:lnTo>
                    <a:lnTo>
                      <a:pt x="99" y="577"/>
                    </a:lnTo>
                    <a:lnTo>
                      <a:pt x="102" y="568"/>
                    </a:lnTo>
                    <a:lnTo>
                      <a:pt x="201" y="557"/>
                    </a:lnTo>
                    <a:lnTo>
                      <a:pt x="300" y="539"/>
                    </a:lnTo>
                    <a:lnTo>
                      <a:pt x="390" y="512"/>
                    </a:lnTo>
                    <a:lnTo>
                      <a:pt x="444" y="488"/>
                    </a:lnTo>
                    <a:lnTo>
                      <a:pt x="504" y="431"/>
                    </a:lnTo>
                    <a:lnTo>
                      <a:pt x="534" y="368"/>
                    </a:lnTo>
                    <a:lnTo>
                      <a:pt x="550" y="308"/>
                    </a:lnTo>
                    <a:lnTo>
                      <a:pt x="540" y="261"/>
                    </a:lnTo>
                    <a:lnTo>
                      <a:pt x="507" y="225"/>
                    </a:lnTo>
                    <a:lnTo>
                      <a:pt x="48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437880" y="5213520"/>
                <a:ext cx="611640" cy="862920"/>
              </a:xfrm>
              <a:custGeom>
                <a:avLst/>
                <a:gdLst/>
                <a:ahLst/>
                <a:rect l="l" t="t" r="r" b="b"/>
                <a:pathLst>
                  <a:path w="460" h="891">
                    <a:moveTo>
                      <a:pt x="57" y="0"/>
                    </a:moveTo>
                    <a:lnTo>
                      <a:pt x="3" y="2"/>
                    </a:lnTo>
                    <a:lnTo>
                      <a:pt x="0" y="44"/>
                    </a:lnTo>
                    <a:lnTo>
                      <a:pt x="18" y="89"/>
                    </a:lnTo>
                    <a:lnTo>
                      <a:pt x="63" y="143"/>
                    </a:lnTo>
                    <a:lnTo>
                      <a:pt x="108" y="200"/>
                    </a:lnTo>
                    <a:lnTo>
                      <a:pt x="155" y="325"/>
                    </a:lnTo>
                    <a:lnTo>
                      <a:pt x="170" y="412"/>
                    </a:lnTo>
                    <a:lnTo>
                      <a:pt x="164" y="493"/>
                    </a:lnTo>
                    <a:lnTo>
                      <a:pt x="137" y="600"/>
                    </a:lnTo>
                    <a:lnTo>
                      <a:pt x="108" y="693"/>
                    </a:lnTo>
                    <a:lnTo>
                      <a:pt x="81" y="789"/>
                    </a:lnTo>
                    <a:lnTo>
                      <a:pt x="63" y="834"/>
                    </a:lnTo>
                    <a:lnTo>
                      <a:pt x="54" y="879"/>
                    </a:lnTo>
                    <a:lnTo>
                      <a:pt x="75" y="891"/>
                    </a:lnTo>
                    <a:lnTo>
                      <a:pt x="128" y="873"/>
                    </a:lnTo>
                    <a:lnTo>
                      <a:pt x="227" y="855"/>
                    </a:lnTo>
                    <a:lnTo>
                      <a:pt x="317" y="864"/>
                    </a:lnTo>
                    <a:lnTo>
                      <a:pt x="406" y="891"/>
                    </a:lnTo>
                    <a:lnTo>
                      <a:pt x="424" y="888"/>
                    </a:lnTo>
                    <a:lnTo>
                      <a:pt x="460" y="834"/>
                    </a:lnTo>
                    <a:lnTo>
                      <a:pt x="460" y="810"/>
                    </a:lnTo>
                    <a:lnTo>
                      <a:pt x="385" y="798"/>
                    </a:lnTo>
                    <a:lnTo>
                      <a:pt x="290" y="798"/>
                    </a:lnTo>
                    <a:lnTo>
                      <a:pt x="200" y="816"/>
                    </a:lnTo>
                    <a:lnTo>
                      <a:pt x="116" y="843"/>
                    </a:lnTo>
                    <a:lnTo>
                      <a:pt x="108" y="828"/>
                    </a:lnTo>
                    <a:lnTo>
                      <a:pt x="125" y="789"/>
                    </a:lnTo>
                    <a:lnTo>
                      <a:pt x="173" y="675"/>
                    </a:lnTo>
                    <a:lnTo>
                      <a:pt x="206" y="559"/>
                    </a:lnTo>
                    <a:lnTo>
                      <a:pt x="224" y="457"/>
                    </a:lnTo>
                    <a:lnTo>
                      <a:pt x="224" y="403"/>
                    </a:lnTo>
                    <a:lnTo>
                      <a:pt x="215" y="322"/>
                    </a:lnTo>
                    <a:lnTo>
                      <a:pt x="191" y="245"/>
                    </a:lnTo>
                    <a:lnTo>
                      <a:pt x="170" y="191"/>
                    </a:lnTo>
                    <a:lnTo>
                      <a:pt x="137" y="119"/>
                    </a:lnTo>
                    <a:lnTo>
                      <a:pt x="102" y="3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911920" y="1600200"/>
              <a:ext cx="2146320" cy="2209320"/>
              <a:chOff x="5911920" y="1600200"/>
              <a:chExt cx="2146320" cy="2209320"/>
            </a:xfrm>
          </p:grpSpPr>
          <p:sp>
            <p:nvSpPr>
              <p:cNvPr id="67" name=""/>
              <p:cNvSpPr/>
              <p:nvPr/>
            </p:nvSpPr>
            <p:spPr>
              <a:xfrm>
                <a:off x="6499080" y="2350440"/>
                <a:ext cx="932760" cy="821160"/>
              </a:xfrm>
              <a:custGeom>
                <a:avLst/>
                <a:gdLst/>
                <a:ahLst/>
                <a:rect l="l" t="t" r="r" b="b"/>
                <a:pathLst>
                  <a:path w="888" h="766">
                    <a:moveTo>
                      <a:pt x="483" y="39"/>
                    </a:moveTo>
                    <a:lnTo>
                      <a:pt x="465" y="66"/>
                    </a:lnTo>
                    <a:lnTo>
                      <a:pt x="414" y="54"/>
                    </a:lnTo>
                    <a:lnTo>
                      <a:pt x="384" y="30"/>
                    </a:lnTo>
                    <a:lnTo>
                      <a:pt x="351" y="21"/>
                    </a:lnTo>
                    <a:lnTo>
                      <a:pt x="294" y="30"/>
                    </a:lnTo>
                    <a:lnTo>
                      <a:pt x="231" y="63"/>
                    </a:lnTo>
                    <a:lnTo>
                      <a:pt x="189" y="102"/>
                    </a:lnTo>
                    <a:lnTo>
                      <a:pt x="171" y="147"/>
                    </a:lnTo>
                    <a:lnTo>
                      <a:pt x="162" y="197"/>
                    </a:lnTo>
                    <a:lnTo>
                      <a:pt x="186" y="260"/>
                    </a:lnTo>
                    <a:lnTo>
                      <a:pt x="225" y="287"/>
                    </a:lnTo>
                    <a:lnTo>
                      <a:pt x="222" y="299"/>
                    </a:lnTo>
                    <a:lnTo>
                      <a:pt x="162" y="305"/>
                    </a:lnTo>
                    <a:lnTo>
                      <a:pt x="99" y="332"/>
                    </a:lnTo>
                    <a:lnTo>
                      <a:pt x="63" y="380"/>
                    </a:lnTo>
                    <a:lnTo>
                      <a:pt x="36" y="440"/>
                    </a:lnTo>
                    <a:lnTo>
                      <a:pt x="36" y="488"/>
                    </a:lnTo>
                    <a:lnTo>
                      <a:pt x="54" y="515"/>
                    </a:lnTo>
                    <a:lnTo>
                      <a:pt x="87" y="521"/>
                    </a:lnTo>
                    <a:lnTo>
                      <a:pt x="141" y="506"/>
                    </a:lnTo>
                    <a:lnTo>
                      <a:pt x="159" y="494"/>
                    </a:lnTo>
                    <a:lnTo>
                      <a:pt x="144" y="512"/>
                    </a:lnTo>
                    <a:lnTo>
                      <a:pt x="123" y="569"/>
                    </a:lnTo>
                    <a:lnTo>
                      <a:pt x="123" y="595"/>
                    </a:lnTo>
                    <a:lnTo>
                      <a:pt x="150" y="622"/>
                    </a:lnTo>
                    <a:lnTo>
                      <a:pt x="195" y="622"/>
                    </a:lnTo>
                    <a:lnTo>
                      <a:pt x="195" y="649"/>
                    </a:lnTo>
                    <a:lnTo>
                      <a:pt x="207" y="700"/>
                    </a:lnTo>
                    <a:lnTo>
                      <a:pt x="243" y="721"/>
                    </a:lnTo>
                    <a:lnTo>
                      <a:pt x="306" y="736"/>
                    </a:lnTo>
                    <a:lnTo>
                      <a:pt x="360" y="736"/>
                    </a:lnTo>
                    <a:lnTo>
                      <a:pt x="414" y="703"/>
                    </a:lnTo>
                    <a:lnTo>
                      <a:pt x="438" y="667"/>
                    </a:lnTo>
                    <a:lnTo>
                      <a:pt x="450" y="622"/>
                    </a:lnTo>
                    <a:lnTo>
                      <a:pt x="450" y="577"/>
                    </a:lnTo>
                    <a:lnTo>
                      <a:pt x="447" y="533"/>
                    </a:lnTo>
                    <a:lnTo>
                      <a:pt x="414" y="497"/>
                    </a:lnTo>
                    <a:lnTo>
                      <a:pt x="393" y="449"/>
                    </a:lnTo>
                    <a:lnTo>
                      <a:pt x="402" y="440"/>
                    </a:lnTo>
                    <a:lnTo>
                      <a:pt x="438" y="461"/>
                    </a:lnTo>
                    <a:lnTo>
                      <a:pt x="465" y="479"/>
                    </a:lnTo>
                    <a:lnTo>
                      <a:pt x="510" y="488"/>
                    </a:lnTo>
                    <a:lnTo>
                      <a:pt x="549" y="488"/>
                    </a:lnTo>
                    <a:lnTo>
                      <a:pt x="585" y="461"/>
                    </a:lnTo>
                    <a:lnTo>
                      <a:pt x="594" y="407"/>
                    </a:lnTo>
                    <a:lnTo>
                      <a:pt x="582" y="371"/>
                    </a:lnTo>
                    <a:lnTo>
                      <a:pt x="546" y="335"/>
                    </a:lnTo>
                    <a:lnTo>
                      <a:pt x="504" y="290"/>
                    </a:lnTo>
                    <a:lnTo>
                      <a:pt x="447" y="254"/>
                    </a:lnTo>
                    <a:lnTo>
                      <a:pt x="405" y="242"/>
                    </a:lnTo>
                    <a:lnTo>
                      <a:pt x="378" y="236"/>
                    </a:lnTo>
                    <a:lnTo>
                      <a:pt x="402" y="218"/>
                    </a:lnTo>
                    <a:lnTo>
                      <a:pt x="519" y="191"/>
                    </a:lnTo>
                    <a:lnTo>
                      <a:pt x="594" y="162"/>
                    </a:lnTo>
                    <a:lnTo>
                      <a:pt x="693" y="111"/>
                    </a:lnTo>
                    <a:lnTo>
                      <a:pt x="744" y="84"/>
                    </a:lnTo>
                    <a:lnTo>
                      <a:pt x="747" y="108"/>
                    </a:lnTo>
                    <a:lnTo>
                      <a:pt x="639" y="156"/>
                    </a:lnTo>
                    <a:lnTo>
                      <a:pt x="573" y="191"/>
                    </a:lnTo>
                    <a:lnTo>
                      <a:pt x="501" y="236"/>
                    </a:lnTo>
                    <a:lnTo>
                      <a:pt x="519" y="263"/>
                    </a:lnTo>
                    <a:lnTo>
                      <a:pt x="657" y="341"/>
                    </a:lnTo>
                    <a:lnTo>
                      <a:pt x="783" y="404"/>
                    </a:lnTo>
                    <a:lnTo>
                      <a:pt x="888" y="440"/>
                    </a:lnTo>
                    <a:lnTo>
                      <a:pt x="879" y="449"/>
                    </a:lnTo>
                    <a:lnTo>
                      <a:pt x="717" y="395"/>
                    </a:lnTo>
                    <a:lnTo>
                      <a:pt x="612" y="359"/>
                    </a:lnTo>
                    <a:lnTo>
                      <a:pt x="603" y="371"/>
                    </a:lnTo>
                    <a:lnTo>
                      <a:pt x="621" y="413"/>
                    </a:lnTo>
                    <a:lnTo>
                      <a:pt x="621" y="461"/>
                    </a:lnTo>
                    <a:lnTo>
                      <a:pt x="600" y="512"/>
                    </a:lnTo>
                    <a:lnTo>
                      <a:pt x="549" y="524"/>
                    </a:lnTo>
                    <a:lnTo>
                      <a:pt x="492" y="524"/>
                    </a:lnTo>
                    <a:lnTo>
                      <a:pt x="477" y="524"/>
                    </a:lnTo>
                    <a:lnTo>
                      <a:pt x="495" y="583"/>
                    </a:lnTo>
                    <a:lnTo>
                      <a:pt x="483" y="640"/>
                    </a:lnTo>
                    <a:lnTo>
                      <a:pt x="456" y="709"/>
                    </a:lnTo>
                    <a:lnTo>
                      <a:pt x="402" y="757"/>
                    </a:lnTo>
                    <a:lnTo>
                      <a:pt x="339" y="766"/>
                    </a:lnTo>
                    <a:lnTo>
                      <a:pt x="249" y="763"/>
                    </a:lnTo>
                    <a:lnTo>
                      <a:pt x="207" y="739"/>
                    </a:lnTo>
                    <a:lnTo>
                      <a:pt x="180" y="709"/>
                    </a:lnTo>
                    <a:lnTo>
                      <a:pt x="171" y="664"/>
                    </a:lnTo>
                    <a:lnTo>
                      <a:pt x="171" y="649"/>
                    </a:lnTo>
                    <a:lnTo>
                      <a:pt x="117" y="649"/>
                    </a:lnTo>
                    <a:lnTo>
                      <a:pt x="99" y="622"/>
                    </a:lnTo>
                    <a:lnTo>
                      <a:pt x="99" y="595"/>
                    </a:lnTo>
                    <a:lnTo>
                      <a:pt x="99" y="566"/>
                    </a:lnTo>
                    <a:lnTo>
                      <a:pt x="108" y="539"/>
                    </a:lnTo>
                    <a:lnTo>
                      <a:pt x="69" y="542"/>
                    </a:lnTo>
                    <a:lnTo>
                      <a:pt x="18" y="524"/>
                    </a:lnTo>
                    <a:lnTo>
                      <a:pt x="6" y="485"/>
                    </a:lnTo>
                    <a:lnTo>
                      <a:pt x="0" y="431"/>
                    </a:lnTo>
                    <a:lnTo>
                      <a:pt x="18" y="380"/>
                    </a:lnTo>
                    <a:lnTo>
                      <a:pt x="54" y="335"/>
                    </a:lnTo>
                    <a:lnTo>
                      <a:pt x="90" y="308"/>
                    </a:lnTo>
                    <a:lnTo>
                      <a:pt x="132" y="281"/>
                    </a:lnTo>
                    <a:lnTo>
                      <a:pt x="168" y="281"/>
                    </a:lnTo>
                    <a:lnTo>
                      <a:pt x="144" y="233"/>
                    </a:lnTo>
                    <a:lnTo>
                      <a:pt x="141" y="197"/>
                    </a:lnTo>
                    <a:lnTo>
                      <a:pt x="144" y="162"/>
                    </a:lnTo>
                    <a:lnTo>
                      <a:pt x="162" y="108"/>
                    </a:lnTo>
                    <a:lnTo>
                      <a:pt x="189" y="57"/>
                    </a:lnTo>
                    <a:lnTo>
                      <a:pt x="234" y="30"/>
                    </a:lnTo>
                    <a:lnTo>
                      <a:pt x="306" y="0"/>
                    </a:lnTo>
                    <a:lnTo>
                      <a:pt x="387" y="3"/>
                    </a:lnTo>
                    <a:lnTo>
                      <a:pt x="447" y="9"/>
                    </a:lnTo>
                    <a:lnTo>
                      <a:pt x="474" y="21"/>
                    </a:lnTo>
                    <a:lnTo>
                      <a:pt x="48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69080" y="2652840"/>
                <a:ext cx="108360" cy="106920"/>
              </a:xfrm>
              <a:custGeom>
                <a:avLst/>
                <a:gdLst/>
                <a:ahLst/>
                <a:rect l="l" t="t" r="r" b="b"/>
                <a:pathLst>
                  <a:path w="103" h="100">
                    <a:moveTo>
                      <a:pt x="3" y="36"/>
                    </a:moveTo>
                    <a:lnTo>
                      <a:pt x="36" y="63"/>
                    </a:lnTo>
                    <a:lnTo>
                      <a:pt x="45" y="90"/>
                    </a:lnTo>
                    <a:lnTo>
                      <a:pt x="66" y="100"/>
                    </a:lnTo>
                    <a:lnTo>
                      <a:pt x="72" y="72"/>
                    </a:lnTo>
                    <a:lnTo>
                      <a:pt x="103" y="54"/>
                    </a:lnTo>
                    <a:lnTo>
                      <a:pt x="72" y="33"/>
                    </a:lnTo>
                    <a:lnTo>
                      <a:pt x="75" y="0"/>
                    </a:lnTo>
                    <a:lnTo>
                      <a:pt x="45" y="9"/>
                    </a:lnTo>
                    <a:lnTo>
                      <a:pt x="0" y="15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79040" y="2130840"/>
                <a:ext cx="662760" cy="1062360"/>
              </a:xfrm>
              <a:custGeom>
                <a:avLst/>
                <a:gdLst/>
                <a:ahLst/>
                <a:rect l="l" t="t" r="r" b="b"/>
                <a:pathLst>
                  <a:path w="631" h="991">
                    <a:moveTo>
                      <a:pt x="217" y="57"/>
                    </a:moveTo>
                    <a:lnTo>
                      <a:pt x="172" y="36"/>
                    </a:lnTo>
                    <a:lnTo>
                      <a:pt x="67" y="18"/>
                    </a:lnTo>
                    <a:lnTo>
                      <a:pt x="31" y="39"/>
                    </a:lnTo>
                    <a:lnTo>
                      <a:pt x="0" y="66"/>
                    </a:lnTo>
                    <a:lnTo>
                      <a:pt x="0" y="99"/>
                    </a:lnTo>
                    <a:lnTo>
                      <a:pt x="28" y="108"/>
                    </a:lnTo>
                    <a:lnTo>
                      <a:pt x="64" y="81"/>
                    </a:lnTo>
                    <a:lnTo>
                      <a:pt x="100" y="54"/>
                    </a:lnTo>
                    <a:lnTo>
                      <a:pt x="136" y="54"/>
                    </a:lnTo>
                    <a:lnTo>
                      <a:pt x="172" y="72"/>
                    </a:lnTo>
                    <a:lnTo>
                      <a:pt x="202" y="99"/>
                    </a:lnTo>
                    <a:lnTo>
                      <a:pt x="202" y="111"/>
                    </a:lnTo>
                    <a:lnTo>
                      <a:pt x="148" y="183"/>
                    </a:lnTo>
                    <a:lnTo>
                      <a:pt x="139" y="228"/>
                    </a:lnTo>
                    <a:lnTo>
                      <a:pt x="157" y="246"/>
                    </a:lnTo>
                    <a:lnTo>
                      <a:pt x="190" y="225"/>
                    </a:lnTo>
                    <a:lnTo>
                      <a:pt x="211" y="180"/>
                    </a:lnTo>
                    <a:lnTo>
                      <a:pt x="229" y="162"/>
                    </a:lnTo>
                    <a:lnTo>
                      <a:pt x="256" y="183"/>
                    </a:lnTo>
                    <a:lnTo>
                      <a:pt x="280" y="192"/>
                    </a:lnTo>
                    <a:lnTo>
                      <a:pt x="343" y="198"/>
                    </a:lnTo>
                    <a:lnTo>
                      <a:pt x="406" y="219"/>
                    </a:lnTo>
                    <a:lnTo>
                      <a:pt x="442" y="251"/>
                    </a:lnTo>
                    <a:lnTo>
                      <a:pt x="463" y="281"/>
                    </a:lnTo>
                    <a:lnTo>
                      <a:pt x="472" y="317"/>
                    </a:lnTo>
                    <a:lnTo>
                      <a:pt x="469" y="350"/>
                    </a:lnTo>
                    <a:lnTo>
                      <a:pt x="463" y="377"/>
                    </a:lnTo>
                    <a:lnTo>
                      <a:pt x="442" y="389"/>
                    </a:lnTo>
                    <a:lnTo>
                      <a:pt x="391" y="398"/>
                    </a:lnTo>
                    <a:lnTo>
                      <a:pt x="334" y="413"/>
                    </a:lnTo>
                    <a:lnTo>
                      <a:pt x="334" y="425"/>
                    </a:lnTo>
                    <a:lnTo>
                      <a:pt x="409" y="425"/>
                    </a:lnTo>
                    <a:lnTo>
                      <a:pt x="496" y="440"/>
                    </a:lnTo>
                    <a:lnTo>
                      <a:pt x="553" y="476"/>
                    </a:lnTo>
                    <a:lnTo>
                      <a:pt x="586" y="524"/>
                    </a:lnTo>
                    <a:lnTo>
                      <a:pt x="598" y="620"/>
                    </a:lnTo>
                    <a:lnTo>
                      <a:pt x="586" y="701"/>
                    </a:lnTo>
                    <a:lnTo>
                      <a:pt x="562" y="728"/>
                    </a:lnTo>
                    <a:lnTo>
                      <a:pt x="535" y="748"/>
                    </a:lnTo>
                    <a:lnTo>
                      <a:pt x="517" y="763"/>
                    </a:lnTo>
                    <a:lnTo>
                      <a:pt x="562" y="775"/>
                    </a:lnTo>
                    <a:lnTo>
                      <a:pt x="595" y="808"/>
                    </a:lnTo>
                    <a:lnTo>
                      <a:pt x="604" y="856"/>
                    </a:lnTo>
                    <a:lnTo>
                      <a:pt x="589" y="916"/>
                    </a:lnTo>
                    <a:lnTo>
                      <a:pt x="559" y="943"/>
                    </a:lnTo>
                    <a:lnTo>
                      <a:pt x="508" y="970"/>
                    </a:lnTo>
                    <a:lnTo>
                      <a:pt x="436" y="970"/>
                    </a:lnTo>
                    <a:lnTo>
                      <a:pt x="361" y="946"/>
                    </a:lnTo>
                    <a:lnTo>
                      <a:pt x="310" y="907"/>
                    </a:lnTo>
                    <a:lnTo>
                      <a:pt x="271" y="880"/>
                    </a:lnTo>
                    <a:lnTo>
                      <a:pt x="253" y="928"/>
                    </a:lnTo>
                    <a:lnTo>
                      <a:pt x="274" y="961"/>
                    </a:lnTo>
                    <a:lnTo>
                      <a:pt x="406" y="988"/>
                    </a:lnTo>
                    <a:lnTo>
                      <a:pt x="505" y="991"/>
                    </a:lnTo>
                    <a:lnTo>
                      <a:pt x="577" y="964"/>
                    </a:lnTo>
                    <a:lnTo>
                      <a:pt x="613" y="925"/>
                    </a:lnTo>
                    <a:lnTo>
                      <a:pt x="631" y="874"/>
                    </a:lnTo>
                    <a:lnTo>
                      <a:pt x="625" y="811"/>
                    </a:lnTo>
                    <a:lnTo>
                      <a:pt x="613" y="766"/>
                    </a:lnTo>
                    <a:lnTo>
                      <a:pt x="595" y="748"/>
                    </a:lnTo>
                    <a:lnTo>
                      <a:pt x="607" y="710"/>
                    </a:lnTo>
                    <a:lnTo>
                      <a:pt x="622" y="638"/>
                    </a:lnTo>
                    <a:lnTo>
                      <a:pt x="616" y="533"/>
                    </a:lnTo>
                    <a:lnTo>
                      <a:pt x="589" y="476"/>
                    </a:lnTo>
                    <a:lnTo>
                      <a:pt x="544" y="425"/>
                    </a:lnTo>
                    <a:lnTo>
                      <a:pt x="496" y="389"/>
                    </a:lnTo>
                    <a:lnTo>
                      <a:pt x="508" y="332"/>
                    </a:lnTo>
                    <a:lnTo>
                      <a:pt x="487" y="246"/>
                    </a:lnTo>
                    <a:lnTo>
                      <a:pt x="433" y="201"/>
                    </a:lnTo>
                    <a:lnTo>
                      <a:pt x="379" y="183"/>
                    </a:lnTo>
                    <a:lnTo>
                      <a:pt x="319" y="162"/>
                    </a:lnTo>
                    <a:lnTo>
                      <a:pt x="280" y="153"/>
                    </a:lnTo>
                    <a:lnTo>
                      <a:pt x="256" y="126"/>
                    </a:lnTo>
                    <a:lnTo>
                      <a:pt x="256" y="108"/>
                    </a:lnTo>
                    <a:lnTo>
                      <a:pt x="307" y="0"/>
                    </a:lnTo>
                    <a:lnTo>
                      <a:pt x="229" y="75"/>
                    </a:lnTo>
                    <a:lnTo>
                      <a:pt x="217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86360" y="2258280"/>
                <a:ext cx="178560" cy="110160"/>
              </a:xfrm>
              <a:custGeom>
                <a:avLst/>
                <a:gdLst/>
                <a:ahLst/>
                <a:rect l="l" t="t" r="r" b="b"/>
                <a:pathLst>
                  <a:path w="170" h="103">
                    <a:moveTo>
                      <a:pt x="18" y="88"/>
                    </a:moveTo>
                    <a:lnTo>
                      <a:pt x="147" y="0"/>
                    </a:lnTo>
                    <a:lnTo>
                      <a:pt x="170" y="9"/>
                    </a:lnTo>
                    <a:lnTo>
                      <a:pt x="165" y="32"/>
                    </a:lnTo>
                    <a:lnTo>
                      <a:pt x="0" y="103"/>
                    </a:lnTo>
                    <a:lnTo>
                      <a:pt x="18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64880" y="3486960"/>
                <a:ext cx="172080" cy="292680"/>
              </a:xfrm>
              <a:custGeom>
                <a:avLst/>
                <a:gdLst/>
                <a:ahLst/>
                <a:rect l="l" t="t" r="r" b="b"/>
                <a:pathLst>
                  <a:path w="164" h="273">
                    <a:moveTo>
                      <a:pt x="164" y="273"/>
                    </a:moveTo>
                    <a:lnTo>
                      <a:pt x="102" y="99"/>
                    </a:lnTo>
                    <a:lnTo>
                      <a:pt x="36" y="0"/>
                    </a:lnTo>
                    <a:lnTo>
                      <a:pt x="9" y="0"/>
                    </a:lnTo>
                    <a:lnTo>
                      <a:pt x="0" y="27"/>
                    </a:lnTo>
                    <a:lnTo>
                      <a:pt x="54" y="90"/>
                    </a:lnTo>
                    <a:lnTo>
                      <a:pt x="108" y="174"/>
                    </a:lnTo>
                    <a:lnTo>
                      <a:pt x="164" y="2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84600" y="3023640"/>
                <a:ext cx="932760" cy="785880"/>
              </a:xfrm>
              <a:custGeom>
                <a:avLst/>
                <a:gdLst/>
                <a:ahLst/>
                <a:rect l="l" t="t" r="r" b="b"/>
                <a:pathLst>
                  <a:path w="888" h="733">
                    <a:moveTo>
                      <a:pt x="808" y="0"/>
                    </a:moveTo>
                    <a:lnTo>
                      <a:pt x="862" y="102"/>
                    </a:lnTo>
                    <a:lnTo>
                      <a:pt x="874" y="171"/>
                    </a:lnTo>
                    <a:lnTo>
                      <a:pt x="888" y="246"/>
                    </a:lnTo>
                    <a:lnTo>
                      <a:pt x="874" y="318"/>
                    </a:lnTo>
                    <a:lnTo>
                      <a:pt x="835" y="345"/>
                    </a:lnTo>
                    <a:lnTo>
                      <a:pt x="784" y="354"/>
                    </a:lnTo>
                    <a:lnTo>
                      <a:pt x="730" y="342"/>
                    </a:lnTo>
                    <a:lnTo>
                      <a:pt x="754" y="408"/>
                    </a:lnTo>
                    <a:lnTo>
                      <a:pt x="757" y="522"/>
                    </a:lnTo>
                    <a:lnTo>
                      <a:pt x="745" y="597"/>
                    </a:lnTo>
                    <a:lnTo>
                      <a:pt x="703" y="651"/>
                    </a:lnTo>
                    <a:lnTo>
                      <a:pt x="658" y="684"/>
                    </a:lnTo>
                    <a:lnTo>
                      <a:pt x="613" y="714"/>
                    </a:lnTo>
                    <a:lnTo>
                      <a:pt x="548" y="729"/>
                    </a:lnTo>
                    <a:lnTo>
                      <a:pt x="434" y="733"/>
                    </a:lnTo>
                    <a:lnTo>
                      <a:pt x="344" y="733"/>
                    </a:lnTo>
                    <a:lnTo>
                      <a:pt x="255" y="714"/>
                    </a:lnTo>
                    <a:lnTo>
                      <a:pt x="183" y="660"/>
                    </a:lnTo>
                    <a:lnTo>
                      <a:pt x="153" y="603"/>
                    </a:lnTo>
                    <a:lnTo>
                      <a:pt x="138" y="534"/>
                    </a:lnTo>
                    <a:lnTo>
                      <a:pt x="84" y="507"/>
                    </a:lnTo>
                    <a:lnTo>
                      <a:pt x="30" y="459"/>
                    </a:lnTo>
                    <a:lnTo>
                      <a:pt x="12" y="408"/>
                    </a:lnTo>
                    <a:lnTo>
                      <a:pt x="0" y="345"/>
                    </a:lnTo>
                    <a:lnTo>
                      <a:pt x="0" y="273"/>
                    </a:lnTo>
                    <a:lnTo>
                      <a:pt x="27" y="189"/>
                    </a:lnTo>
                    <a:lnTo>
                      <a:pt x="72" y="189"/>
                    </a:lnTo>
                    <a:lnTo>
                      <a:pt x="81" y="216"/>
                    </a:lnTo>
                    <a:lnTo>
                      <a:pt x="63" y="246"/>
                    </a:lnTo>
                    <a:lnTo>
                      <a:pt x="39" y="282"/>
                    </a:lnTo>
                    <a:lnTo>
                      <a:pt x="30" y="363"/>
                    </a:lnTo>
                    <a:lnTo>
                      <a:pt x="39" y="414"/>
                    </a:lnTo>
                    <a:lnTo>
                      <a:pt x="81" y="459"/>
                    </a:lnTo>
                    <a:lnTo>
                      <a:pt x="126" y="459"/>
                    </a:lnTo>
                    <a:lnTo>
                      <a:pt x="180" y="441"/>
                    </a:lnTo>
                    <a:lnTo>
                      <a:pt x="252" y="396"/>
                    </a:lnTo>
                    <a:lnTo>
                      <a:pt x="243" y="432"/>
                    </a:lnTo>
                    <a:lnTo>
                      <a:pt x="165" y="486"/>
                    </a:lnTo>
                    <a:lnTo>
                      <a:pt x="156" y="525"/>
                    </a:lnTo>
                    <a:lnTo>
                      <a:pt x="174" y="567"/>
                    </a:lnTo>
                    <a:lnTo>
                      <a:pt x="192" y="615"/>
                    </a:lnTo>
                    <a:lnTo>
                      <a:pt x="237" y="669"/>
                    </a:lnTo>
                    <a:lnTo>
                      <a:pt x="308" y="693"/>
                    </a:lnTo>
                    <a:lnTo>
                      <a:pt x="353" y="675"/>
                    </a:lnTo>
                    <a:lnTo>
                      <a:pt x="368" y="639"/>
                    </a:lnTo>
                    <a:lnTo>
                      <a:pt x="386" y="639"/>
                    </a:lnTo>
                    <a:lnTo>
                      <a:pt x="404" y="696"/>
                    </a:lnTo>
                    <a:lnTo>
                      <a:pt x="449" y="711"/>
                    </a:lnTo>
                    <a:lnTo>
                      <a:pt x="506" y="711"/>
                    </a:lnTo>
                    <a:lnTo>
                      <a:pt x="569" y="696"/>
                    </a:lnTo>
                    <a:lnTo>
                      <a:pt x="622" y="666"/>
                    </a:lnTo>
                    <a:lnTo>
                      <a:pt x="685" y="630"/>
                    </a:lnTo>
                    <a:lnTo>
                      <a:pt x="712" y="588"/>
                    </a:lnTo>
                    <a:lnTo>
                      <a:pt x="721" y="540"/>
                    </a:lnTo>
                    <a:lnTo>
                      <a:pt x="721" y="480"/>
                    </a:lnTo>
                    <a:lnTo>
                      <a:pt x="718" y="414"/>
                    </a:lnTo>
                    <a:lnTo>
                      <a:pt x="709" y="363"/>
                    </a:lnTo>
                    <a:lnTo>
                      <a:pt x="691" y="324"/>
                    </a:lnTo>
                    <a:lnTo>
                      <a:pt x="667" y="264"/>
                    </a:lnTo>
                    <a:lnTo>
                      <a:pt x="682" y="252"/>
                    </a:lnTo>
                    <a:lnTo>
                      <a:pt x="745" y="306"/>
                    </a:lnTo>
                    <a:lnTo>
                      <a:pt x="775" y="318"/>
                    </a:lnTo>
                    <a:lnTo>
                      <a:pt x="811" y="318"/>
                    </a:lnTo>
                    <a:lnTo>
                      <a:pt x="838" y="300"/>
                    </a:lnTo>
                    <a:lnTo>
                      <a:pt x="862" y="264"/>
                    </a:lnTo>
                    <a:lnTo>
                      <a:pt x="856" y="210"/>
                    </a:lnTo>
                    <a:lnTo>
                      <a:pt x="847" y="156"/>
                    </a:lnTo>
                    <a:lnTo>
                      <a:pt x="820" y="90"/>
                    </a:lnTo>
                    <a:lnTo>
                      <a:pt x="799" y="30"/>
                    </a:lnTo>
                    <a:lnTo>
                      <a:pt x="790" y="0"/>
                    </a:lnTo>
                    <a:lnTo>
                      <a:pt x="8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895080" y="1600200"/>
                <a:ext cx="168840" cy="368640"/>
              </a:xfrm>
              <a:custGeom>
                <a:avLst/>
                <a:gdLst/>
                <a:ahLst/>
                <a:rect l="l" t="t" r="r" b="b"/>
                <a:pathLst>
                  <a:path w="161" h="344">
                    <a:moveTo>
                      <a:pt x="6" y="297"/>
                    </a:moveTo>
                    <a:lnTo>
                      <a:pt x="55" y="156"/>
                    </a:lnTo>
                    <a:lnTo>
                      <a:pt x="109" y="54"/>
                    </a:lnTo>
                    <a:lnTo>
                      <a:pt x="161" y="0"/>
                    </a:lnTo>
                    <a:lnTo>
                      <a:pt x="128" y="75"/>
                    </a:lnTo>
                    <a:lnTo>
                      <a:pt x="82" y="189"/>
                    </a:lnTo>
                    <a:lnTo>
                      <a:pt x="55" y="288"/>
                    </a:lnTo>
                    <a:lnTo>
                      <a:pt x="33" y="336"/>
                    </a:lnTo>
                    <a:lnTo>
                      <a:pt x="6" y="344"/>
                    </a:lnTo>
                    <a:lnTo>
                      <a:pt x="0" y="315"/>
                    </a:lnTo>
                    <a:lnTo>
                      <a:pt x="6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891120" y="2081520"/>
                <a:ext cx="77400" cy="55440"/>
              </a:xfrm>
              <a:custGeom>
                <a:avLst/>
                <a:gdLst/>
                <a:ahLst/>
                <a:rect l="l" t="t" r="r" b="b"/>
                <a:pathLst>
                  <a:path w="74" h="52">
                    <a:moveTo>
                      <a:pt x="74" y="20"/>
                    </a:moveTo>
                    <a:lnTo>
                      <a:pt x="49" y="0"/>
                    </a:lnTo>
                    <a:lnTo>
                      <a:pt x="9" y="0"/>
                    </a:lnTo>
                    <a:lnTo>
                      <a:pt x="0" y="26"/>
                    </a:lnTo>
                    <a:lnTo>
                      <a:pt x="19" y="52"/>
                    </a:lnTo>
                    <a:lnTo>
                      <a:pt x="56" y="52"/>
                    </a:lnTo>
                    <a:lnTo>
                      <a:pt x="7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438320" y="1695600"/>
                <a:ext cx="79560" cy="57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973280" y="1870200"/>
                <a:ext cx="84960" cy="68760"/>
              </a:xfrm>
              <a:custGeom>
                <a:avLst/>
                <a:gdLst/>
                <a:ahLst/>
                <a:rect l="l" t="t" r="r" b="b"/>
                <a:pathLst>
                  <a:path w="81" h="64">
                    <a:moveTo>
                      <a:pt x="51" y="9"/>
                    </a:moveTo>
                    <a:lnTo>
                      <a:pt x="27" y="0"/>
                    </a:lnTo>
                    <a:lnTo>
                      <a:pt x="15" y="3"/>
                    </a:lnTo>
                    <a:lnTo>
                      <a:pt x="0" y="39"/>
                    </a:lnTo>
                    <a:lnTo>
                      <a:pt x="27" y="64"/>
                    </a:lnTo>
                    <a:lnTo>
                      <a:pt x="81" y="36"/>
                    </a:lnTo>
                    <a:lnTo>
                      <a:pt x="72" y="18"/>
                    </a:lnTo>
                    <a:lnTo>
                      <a:pt x="5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27880" y="2054520"/>
                <a:ext cx="54720" cy="5544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17" y="7"/>
                    </a:lnTo>
                    <a:lnTo>
                      <a:pt x="0" y="5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911920" y="1951920"/>
                <a:ext cx="689040" cy="1135080"/>
              </a:xfrm>
              <a:custGeom>
                <a:avLst/>
                <a:gdLst/>
                <a:ahLst/>
                <a:rect l="l" t="t" r="r" b="b"/>
                <a:pathLst>
                  <a:path w="656" h="1059">
                    <a:moveTo>
                      <a:pt x="105" y="924"/>
                    </a:moveTo>
                    <a:lnTo>
                      <a:pt x="126" y="969"/>
                    </a:lnTo>
                    <a:lnTo>
                      <a:pt x="195" y="1050"/>
                    </a:lnTo>
                    <a:lnTo>
                      <a:pt x="234" y="1059"/>
                    </a:lnTo>
                    <a:lnTo>
                      <a:pt x="276" y="1059"/>
                    </a:lnTo>
                    <a:lnTo>
                      <a:pt x="297" y="1032"/>
                    </a:lnTo>
                    <a:lnTo>
                      <a:pt x="282" y="1008"/>
                    </a:lnTo>
                    <a:lnTo>
                      <a:pt x="237" y="1005"/>
                    </a:lnTo>
                    <a:lnTo>
                      <a:pt x="192" y="1002"/>
                    </a:lnTo>
                    <a:lnTo>
                      <a:pt x="165" y="978"/>
                    </a:lnTo>
                    <a:lnTo>
                      <a:pt x="150" y="942"/>
                    </a:lnTo>
                    <a:lnTo>
                      <a:pt x="144" y="900"/>
                    </a:lnTo>
                    <a:lnTo>
                      <a:pt x="153" y="891"/>
                    </a:lnTo>
                    <a:lnTo>
                      <a:pt x="240" y="873"/>
                    </a:lnTo>
                    <a:lnTo>
                      <a:pt x="276" y="846"/>
                    </a:lnTo>
                    <a:lnTo>
                      <a:pt x="276" y="819"/>
                    </a:lnTo>
                    <a:lnTo>
                      <a:pt x="237" y="813"/>
                    </a:lnTo>
                    <a:lnTo>
                      <a:pt x="192" y="834"/>
                    </a:lnTo>
                    <a:lnTo>
                      <a:pt x="165" y="837"/>
                    </a:lnTo>
                    <a:lnTo>
                      <a:pt x="159" y="801"/>
                    </a:lnTo>
                    <a:lnTo>
                      <a:pt x="147" y="780"/>
                    </a:lnTo>
                    <a:lnTo>
                      <a:pt x="105" y="735"/>
                    </a:lnTo>
                    <a:lnTo>
                      <a:pt x="69" y="678"/>
                    </a:lnTo>
                    <a:lnTo>
                      <a:pt x="66" y="627"/>
                    </a:lnTo>
                    <a:lnTo>
                      <a:pt x="69" y="591"/>
                    </a:lnTo>
                    <a:lnTo>
                      <a:pt x="84" y="558"/>
                    </a:lnTo>
                    <a:lnTo>
                      <a:pt x="108" y="537"/>
                    </a:lnTo>
                    <a:lnTo>
                      <a:pt x="132" y="519"/>
                    </a:lnTo>
                    <a:lnTo>
                      <a:pt x="156" y="525"/>
                    </a:lnTo>
                    <a:lnTo>
                      <a:pt x="198" y="552"/>
                    </a:lnTo>
                    <a:lnTo>
                      <a:pt x="252" y="576"/>
                    </a:lnTo>
                    <a:lnTo>
                      <a:pt x="261" y="567"/>
                    </a:lnTo>
                    <a:lnTo>
                      <a:pt x="204" y="519"/>
                    </a:lnTo>
                    <a:lnTo>
                      <a:pt x="147" y="450"/>
                    </a:lnTo>
                    <a:lnTo>
                      <a:pt x="129" y="384"/>
                    </a:lnTo>
                    <a:lnTo>
                      <a:pt x="135" y="327"/>
                    </a:lnTo>
                    <a:lnTo>
                      <a:pt x="189" y="246"/>
                    </a:lnTo>
                    <a:lnTo>
                      <a:pt x="252" y="195"/>
                    </a:lnTo>
                    <a:lnTo>
                      <a:pt x="288" y="189"/>
                    </a:lnTo>
                    <a:lnTo>
                      <a:pt x="321" y="192"/>
                    </a:lnTo>
                    <a:lnTo>
                      <a:pt x="345" y="192"/>
                    </a:lnTo>
                    <a:lnTo>
                      <a:pt x="318" y="153"/>
                    </a:lnTo>
                    <a:lnTo>
                      <a:pt x="315" y="108"/>
                    </a:lnTo>
                    <a:lnTo>
                      <a:pt x="339" y="63"/>
                    </a:lnTo>
                    <a:lnTo>
                      <a:pt x="390" y="30"/>
                    </a:lnTo>
                    <a:lnTo>
                      <a:pt x="432" y="27"/>
                    </a:lnTo>
                    <a:lnTo>
                      <a:pt x="486" y="42"/>
                    </a:lnTo>
                    <a:lnTo>
                      <a:pt x="540" y="90"/>
                    </a:lnTo>
                    <a:lnTo>
                      <a:pt x="582" y="156"/>
                    </a:lnTo>
                    <a:lnTo>
                      <a:pt x="594" y="219"/>
                    </a:lnTo>
                    <a:lnTo>
                      <a:pt x="606" y="264"/>
                    </a:lnTo>
                    <a:lnTo>
                      <a:pt x="651" y="240"/>
                    </a:lnTo>
                    <a:lnTo>
                      <a:pt x="656" y="201"/>
                    </a:lnTo>
                    <a:lnTo>
                      <a:pt x="576" y="96"/>
                    </a:lnTo>
                    <a:lnTo>
                      <a:pt x="504" y="27"/>
                    </a:lnTo>
                    <a:lnTo>
                      <a:pt x="432" y="0"/>
                    </a:lnTo>
                    <a:lnTo>
                      <a:pt x="378" y="6"/>
                    </a:lnTo>
                    <a:lnTo>
                      <a:pt x="330" y="33"/>
                    </a:lnTo>
                    <a:lnTo>
                      <a:pt x="294" y="84"/>
                    </a:lnTo>
                    <a:lnTo>
                      <a:pt x="273" y="126"/>
                    </a:lnTo>
                    <a:lnTo>
                      <a:pt x="276" y="153"/>
                    </a:lnTo>
                    <a:lnTo>
                      <a:pt x="240" y="174"/>
                    </a:lnTo>
                    <a:lnTo>
                      <a:pt x="183" y="219"/>
                    </a:lnTo>
                    <a:lnTo>
                      <a:pt x="117" y="300"/>
                    </a:lnTo>
                    <a:lnTo>
                      <a:pt x="102" y="363"/>
                    </a:lnTo>
                    <a:lnTo>
                      <a:pt x="102" y="429"/>
                    </a:lnTo>
                    <a:lnTo>
                      <a:pt x="114" y="489"/>
                    </a:lnTo>
                    <a:lnTo>
                      <a:pt x="69" y="525"/>
                    </a:lnTo>
                    <a:lnTo>
                      <a:pt x="27" y="603"/>
                    </a:lnTo>
                    <a:lnTo>
                      <a:pt x="39" y="672"/>
                    </a:lnTo>
                    <a:lnTo>
                      <a:pt x="66" y="720"/>
                    </a:lnTo>
                    <a:lnTo>
                      <a:pt x="99" y="777"/>
                    </a:lnTo>
                    <a:lnTo>
                      <a:pt x="123" y="810"/>
                    </a:lnTo>
                    <a:lnTo>
                      <a:pt x="123" y="846"/>
                    </a:lnTo>
                    <a:lnTo>
                      <a:pt x="111" y="858"/>
                    </a:lnTo>
                    <a:lnTo>
                      <a:pt x="0" y="906"/>
                    </a:lnTo>
                    <a:lnTo>
                      <a:pt x="108" y="900"/>
                    </a:lnTo>
                    <a:lnTo>
                      <a:pt x="105" y="9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58240" y="2391480"/>
                <a:ext cx="304560" cy="203400"/>
              </a:xfrm>
              <a:custGeom>
                <a:avLst/>
                <a:gdLst/>
                <a:ahLst/>
                <a:rect l="l" t="t" r="r" b="b"/>
                <a:pathLst>
                  <a:path w="290" h="190">
                    <a:moveTo>
                      <a:pt x="284" y="190"/>
                    </a:moveTo>
                    <a:lnTo>
                      <a:pt x="290" y="165"/>
                    </a:lnTo>
                    <a:lnTo>
                      <a:pt x="272" y="138"/>
                    </a:lnTo>
                    <a:lnTo>
                      <a:pt x="145" y="54"/>
                    </a:lnTo>
                    <a:lnTo>
                      <a:pt x="0" y="0"/>
                    </a:lnTo>
                    <a:lnTo>
                      <a:pt x="109" y="72"/>
                    </a:lnTo>
                    <a:lnTo>
                      <a:pt x="199" y="129"/>
                    </a:lnTo>
                    <a:lnTo>
                      <a:pt x="254" y="183"/>
                    </a:lnTo>
                    <a:lnTo>
                      <a:pt x="284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628560" y="2057400"/>
              <a:ext cx="4788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管理人员每天都将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70%-80%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的时间花费到“听、说、读、写”的沟通上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   “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人 生的 幸 福 就 是 人 情 的 幸 福 ， 人 生 的 幸 福 就 是 人 缘 的 幸 福 ，人 生 的 成 功就 是 人 际 沟 通 的 成 功 。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1066680"/>
            <a:ext cx="510516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下级与上级的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651040"/>
            <a:ext cx="875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极的态度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489480"/>
            <a:ext cx="57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格认真的工作作风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251240"/>
            <a:ext cx="890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动沟通，不要以为上级知道一切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5013360"/>
            <a:ext cx="657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放的思维和团队精神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5851440"/>
            <a:ext cx="831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从行政级别制度、尊重上级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6200" y="1143000"/>
            <a:ext cx="526428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下级同上级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3733920"/>
            <a:ext cx="520056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受任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取指导和改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出意见和汇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48320" y="609480"/>
            <a:ext cx="495288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接受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07920" y="1447920"/>
            <a:ext cx="84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确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73160" y="2133720"/>
            <a:ext cx="774540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急程度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执行方案或如何执行方案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的资源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目所涉及的执行者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合作执行者的角色和责任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能出现的困难、问题及解决方案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0" y="380880"/>
            <a:ext cx="495288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接受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4720" y="1546200"/>
            <a:ext cx="85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232000"/>
            <a:ext cx="866772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大致理解任务内容、目标及执行安排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提出对于上级的希望和需求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无法接受，及时与上级沟通并讲明原因或提出力所能及的建议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接受，提出工作计划并就细节再次确认能否完成任务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再次明确计划、时间、资源、核查点、预期结果、可能的困难及对策等关键问题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上级的支持表示感谢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952880" y="457200"/>
            <a:ext cx="403884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接受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280" y="2133720"/>
            <a:ext cx="8172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跟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3048120"/>
            <a:ext cx="86677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实际需要或事先约定的核查点同上级保持沟通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出现意外或问题，立即同上级沟通，共同寻找解决方案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接近尾声要加强同上级的沟通，此时最容易出现问题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334120" y="685800"/>
            <a:ext cx="384804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昆仑粗隶书"/>
                <a:ea typeface="昆仑粗隶书"/>
              </a:rPr>
              <a:t>接受任务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152280" y="2117880"/>
            <a:ext cx="866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不明确工作，就草率接受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152280" y="3489480"/>
            <a:ext cx="866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量同上级在具体细节，如时间、紧迫程度、预期结果等方面讨论并达成一致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152280" y="4632480"/>
            <a:ext cx="8667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勉强接受难以承诺的任务或责任，如果一定要执行，则要明确你可获得哪些有效资源的支持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152280" y="2651040"/>
            <a:ext cx="924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受重要任务时要查看自己的时间与状态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791320" y="533520"/>
            <a:ext cx="339084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接受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73160" y="1905120"/>
            <a:ext cx="784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目进展中，如果确实需要拖延，则要尽早安排第二时间，并主动通知上级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73160" y="3505320"/>
            <a:ext cx="784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出现你无法解决的问题，务必要寻求上级支援，切不可因为怕被责备而隐瞒问题，否则后果将不仅仅是责备，而是责任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191120" y="762120"/>
            <a:ext cx="527688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听取指导和改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5480" y="1523880"/>
            <a:ext cx="850284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取上级提出存在的问题，如实谈出你的看法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意上级对于所谈事情的关注程度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上级制订改进方案和计划，并确定改进的衡量指标和期限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你对于改进的信心和你对于改进将尽全力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552920" y="838080"/>
            <a:ext cx="53532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听取指导和改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362320"/>
            <a:ext cx="850248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进与核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认整改计划与目标，并提出所需支持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要立即采取改进行动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问题再次出现时，要立即沟通，并再次探讨解决方案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必要、及时的核查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续表示你对于改进的决心和信心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495680" y="609480"/>
            <a:ext cx="503568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提出意见和汇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003400"/>
            <a:ext cx="85024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通知并提供必要的信息，使上级留出时间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出意见同时提交书面文件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仅提出问题，更要关注问题的解决方案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断提供必要的信息，以帮助上级整理思路和做出决策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取上级反馈意见，必要时予以解释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上级确认核查的时间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上级的关注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pchalbt" descr=""/>
          <p:cNvPicPr/>
          <p:nvPr/>
        </p:nvPicPr>
        <p:blipFill>
          <a:blip r:embed="rId1"/>
          <a:stretch/>
        </p:blipFill>
        <p:spPr>
          <a:xfrm>
            <a:off x="-412920" y="4267080"/>
            <a:ext cx="3714840" cy="2154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28800" y="916920"/>
            <a:ext cx="7016760" cy="2399040"/>
          </a:xfrm>
          <a:prstGeom prst="cloudCallout">
            <a:avLst>
              <a:gd name="adj1" fmla="val -43509"/>
              <a:gd name="adj2" fmla="val 91662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141422"/>
                </a:solidFill>
                <a:latin typeface="楷体_GB2312"/>
                <a:ea typeface="楷体_GB2312"/>
              </a:rPr>
              <a:t>哇，沟通那么有用，我要成为沟通高手！我该怎么做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191120" y="685800"/>
            <a:ext cx="533376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提出意见和汇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2133720"/>
            <a:ext cx="850248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住枝节问题不放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于关注个人利益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容易使上级怀疑你的动机而降低接受度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切希望得到承诺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出对于公司未来前途的消极态度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352680" y="2590920"/>
            <a:ext cx="3581640" cy="70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跨部门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181480" y="838080"/>
            <a:ext cx="3581640" cy="70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跨部门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057400"/>
            <a:ext cx="762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区分是沟通问题还是管理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问题表面看是部门间不能良好沟通，实际是公司内部管理中存在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内没有明确界定的部门职责及权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门间职责不清或职责有交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跨部门职能的工作没有有效的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181480" y="838080"/>
            <a:ext cx="3581640" cy="70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跨部门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2133720"/>
            <a:ext cx="7619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是管理中存在问题则注意以下几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梳理公司各部门职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明确界定各部门职责及权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门职责不能出现交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门间信息传递流程是否合理，责任认真划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流程再造，优化企业内部的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181480" y="838080"/>
            <a:ext cx="3581640" cy="70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跨部门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2057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决跨部门沟通—组织可采用的办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2762280"/>
            <a:ext cx="5867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培训提高部门间人员的沟通技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门间人员轮岗轮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倡导沟通文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倡导团队及大局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时调整组织机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会议的方式解决跨部门沟通的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181480" y="838080"/>
            <a:ext cx="3581640" cy="70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跨部门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2057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决跨部门沟通—个人可采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2743200"/>
            <a:ext cx="3657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位思考的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高自身的沟通技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沟通中聆听更重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会尊重与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己知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733920" y="27432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与客户的沟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248520" y="762120"/>
            <a:ext cx="3200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一印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81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永远没有第二次机会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3200400"/>
            <a:ext cx="3581280" cy="2209680"/>
          </a:xfrm>
          <a:prstGeom prst="irregularSeal2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七秒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7432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89000" y="1599840"/>
            <a:ext cx="602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ff"/>
                </a:solidFill>
                <a:latin typeface="Arial"/>
              </a:rPr>
              <a:t>会见客户的商务礼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55680" y="2812680"/>
            <a:ext cx="358488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相互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互换名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握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出行、乘坐交通工具的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38960" y="2971800"/>
            <a:ext cx="2724120" cy="1828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理运用肢体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对方展现你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职业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00600" y="837720"/>
            <a:ext cx="32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介绍的礼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介绍位卑者给位尊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晚辈给长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己公司的同事给别家公司的同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司同事给客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官方人士给官方人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国同事给外国同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0600" y="2133720"/>
            <a:ext cx="71542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隶书"/>
              </a:rPr>
              <a:t>行动摘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改进单向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951600" y="2438280"/>
            <a:ext cx="23925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985680" y="2943360"/>
            <a:ext cx="75693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功从沟通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che2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152880" y="289548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在变化中寻找快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找到你的新奶酪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创艺繁隶书"/>
              </a:rPr>
              <a:t>行动带来快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86080" y="2133720"/>
            <a:ext cx="5135400" cy="2469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ahoma"/>
                <a:ea typeface="幼圆"/>
              </a:rPr>
              <a:t>你要求，你得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ahoma"/>
                <a:ea typeface="幼圆"/>
              </a:rPr>
              <a:t>你寻找，你发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ahoma"/>
                <a:ea typeface="幼圆"/>
              </a:rPr>
              <a:t>你敲门，门为你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ahoma"/>
                <a:ea typeface="幼圆"/>
              </a:rPr>
              <a:t>——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  <a:ea typeface="幼圆"/>
              </a:rPr>
              <a:t>马太福音七章七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026040" y="2438280"/>
            <a:ext cx="2779560" cy="2413080"/>
            <a:chOff x="6026040" y="2438280"/>
            <a:chExt cx="2779560" cy="2413080"/>
          </a:xfrm>
        </p:grpSpPr>
        <p:sp>
          <p:nvSpPr>
            <p:cNvPr id="334" name=""/>
            <p:cNvSpPr/>
            <p:nvPr/>
          </p:nvSpPr>
          <p:spPr>
            <a:xfrm>
              <a:off x="6643440" y="2614680"/>
              <a:ext cx="1191960" cy="1271520"/>
            </a:xfrm>
            <a:custGeom>
              <a:avLst/>
              <a:gdLst/>
              <a:ahLst/>
              <a:rect l="l" t="t" r="r" b="b"/>
              <a:pathLst>
                <a:path w="6930" h="8014">
                  <a:moveTo>
                    <a:pt x="5576" y="5182"/>
                  </a:moveTo>
                  <a:lnTo>
                    <a:pt x="5582" y="5184"/>
                  </a:lnTo>
                  <a:lnTo>
                    <a:pt x="5588" y="5187"/>
                  </a:lnTo>
                  <a:lnTo>
                    <a:pt x="5595" y="5192"/>
                  </a:lnTo>
                  <a:lnTo>
                    <a:pt x="5602" y="5200"/>
                  </a:lnTo>
                  <a:lnTo>
                    <a:pt x="5617" y="5217"/>
                  </a:lnTo>
                  <a:lnTo>
                    <a:pt x="5633" y="5237"/>
                  </a:lnTo>
                  <a:lnTo>
                    <a:pt x="5649" y="5256"/>
                  </a:lnTo>
                  <a:lnTo>
                    <a:pt x="5665" y="5275"/>
                  </a:lnTo>
                  <a:lnTo>
                    <a:pt x="5672" y="5281"/>
                  </a:lnTo>
                  <a:lnTo>
                    <a:pt x="5679" y="5286"/>
                  </a:lnTo>
                  <a:lnTo>
                    <a:pt x="5686" y="5291"/>
                  </a:lnTo>
                  <a:lnTo>
                    <a:pt x="5691" y="5292"/>
                  </a:lnTo>
                  <a:lnTo>
                    <a:pt x="5721" y="5305"/>
                  </a:lnTo>
                  <a:lnTo>
                    <a:pt x="5752" y="5315"/>
                  </a:lnTo>
                  <a:lnTo>
                    <a:pt x="5782" y="5324"/>
                  </a:lnTo>
                  <a:lnTo>
                    <a:pt x="5812" y="5330"/>
                  </a:lnTo>
                  <a:lnTo>
                    <a:pt x="5842" y="5334"/>
                  </a:lnTo>
                  <a:lnTo>
                    <a:pt x="5873" y="5336"/>
                  </a:lnTo>
                  <a:lnTo>
                    <a:pt x="5902" y="5335"/>
                  </a:lnTo>
                  <a:lnTo>
                    <a:pt x="5932" y="5332"/>
                  </a:lnTo>
                  <a:lnTo>
                    <a:pt x="5961" y="5327"/>
                  </a:lnTo>
                  <a:lnTo>
                    <a:pt x="5990" y="5320"/>
                  </a:lnTo>
                  <a:lnTo>
                    <a:pt x="6019" y="5311"/>
                  </a:lnTo>
                  <a:lnTo>
                    <a:pt x="6047" y="5300"/>
                  </a:lnTo>
                  <a:lnTo>
                    <a:pt x="6074" y="5288"/>
                  </a:lnTo>
                  <a:lnTo>
                    <a:pt x="6101" y="5274"/>
                  </a:lnTo>
                  <a:lnTo>
                    <a:pt x="6126" y="5258"/>
                  </a:lnTo>
                  <a:lnTo>
                    <a:pt x="6152" y="5239"/>
                  </a:lnTo>
                  <a:lnTo>
                    <a:pt x="6177" y="5220"/>
                  </a:lnTo>
                  <a:lnTo>
                    <a:pt x="6200" y="5200"/>
                  </a:lnTo>
                  <a:lnTo>
                    <a:pt x="6223" y="5177"/>
                  </a:lnTo>
                  <a:lnTo>
                    <a:pt x="6244" y="5152"/>
                  </a:lnTo>
                  <a:lnTo>
                    <a:pt x="6265" y="5128"/>
                  </a:lnTo>
                  <a:lnTo>
                    <a:pt x="6284" y="5101"/>
                  </a:lnTo>
                  <a:lnTo>
                    <a:pt x="6302" y="5073"/>
                  </a:lnTo>
                  <a:lnTo>
                    <a:pt x="6320" y="5044"/>
                  </a:lnTo>
                  <a:lnTo>
                    <a:pt x="6336" y="5013"/>
                  </a:lnTo>
                  <a:lnTo>
                    <a:pt x="6350" y="4982"/>
                  </a:lnTo>
                  <a:lnTo>
                    <a:pt x="6364" y="4950"/>
                  </a:lnTo>
                  <a:lnTo>
                    <a:pt x="6374" y="4915"/>
                  </a:lnTo>
                  <a:lnTo>
                    <a:pt x="6385" y="4881"/>
                  </a:lnTo>
                  <a:lnTo>
                    <a:pt x="6394" y="4846"/>
                  </a:lnTo>
                  <a:lnTo>
                    <a:pt x="6400" y="4810"/>
                  </a:lnTo>
                  <a:lnTo>
                    <a:pt x="6405" y="4773"/>
                  </a:lnTo>
                  <a:lnTo>
                    <a:pt x="6430" y="4745"/>
                  </a:lnTo>
                  <a:lnTo>
                    <a:pt x="6455" y="4715"/>
                  </a:lnTo>
                  <a:lnTo>
                    <a:pt x="6478" y="4683"/>
                  </a:lnTo>
                  <a:lnTo>
                    <a:pt x="6502" y="4649"/>
                  </a:lnTo>
                  <a:lnTo>
                    <a:pt x="6524" y="4615"/>
                  </a:lnTo>
                  <a:lnTo>
                    <a:pt x="6547" y="4579"/>
                  </a:lnTo>
                  <a:lnTo>
                    <a:pt x="6568" y="4541"/>
                  </a:lnTo>
                  <a:lnTo>
                    <a:pt x="6590" y="4503"/>
                  </a:lnTo>
                  <a:lnTo>
                    <a:pt x="6611" y="4463"/>
                  </a:lnTo>
                  <a:lnTo>
                    <a:pt x="6632" y="4421"/>
                  </a:lnTo>
                  <a:lnTo>
                    <a:pt x="6652" y="4378"/>
                  </a:lnTo>
                  <a:lnTo>
                    <a:pt x="6671" y="4335"/>
                  </a:lnTo>
                  <a:lnTo>
                    <a:pt x="6690" y="4290"/>
                  </a:lnTo>
                  <a:lnTo>
                    <a:pt x="6708" y="4244"/>
                  </a:lnTo>
                  <a:lnTo>
                    <a:pt x="6726" y="4198"/>
                  </a:lnTo>
                  <a:lnTo>
                    <a:pt x="6743" y="4151"/>
                  </a:lnTo>
                  <a:lnTo>
                    <a:pt x="6759" y="4103"/>
                  </a:lnTo>
                  <a:lnTo>
                    <a:pt x="6775" y="4053"/>
                  </a:lnTo>
                  <a:lnTo>
                    <a:pt x="6791" y="4003"/>
                  </a:lnTo>
                  <a:lnTo>
                    <a:pt x="6805" y="3952"/>
                  </a:lnTo>
                  <a:lnTo>
                    <a:pt x="6819" y="3902"/>
                  </a:lnTo>
                  <a:lnTo>
                    <a:pt x="6833" y="3849"/>
                  </a:lnTo>
                  <a:lnTo>
                    <a:pt x="6846" y="3798"/>
                  </a:lnTo>
                  <a:lnTo>
                    <a:pt x="6858" y="3745"/>
                  </a:lnTo>
                  <a:lnTo>
                    <a:pt x="6870" y="3693"/>
                  </a:lnTo>
                  <a:lnTo>
                    <a:pt x="6880" y="3639"/>
                  </a:lnTo>
                  <a:lnTo>
                    <a:pt x="6890" y="3586"/>
                  </a:lnTo>
                  <a:lnTo>
                    <a:pt x="6900" y="3532"/>
                  </a:lnTo>
                  <a:lnTo>
                    <a:pt x="6908" y="3478"/>
                  </a:lnTo>
                  <a:lnTo>
                    <a:pt x="6916" y="3424"/>
                  </a:lnTo>
                  <a:lnTo>
                    <a:pt x="6923" y="3370"/>
                  </a:lnTo>
                  <a:lnTo>
                    <a:pt x="6930" y="3315"/>
                  </a:lnTo>
                  <a:lnTo>
                    <a:pt x="6904" y="3336"/>
                  </a:lnTo>
                  <a:lnTo>
                    <a:pt x="6879" y="3355"/>
                  </a:lnTo>
                  <a:lnTo>
                    <a:pt x="6853" y="3373"/>
                  </a:lnTo>
                  <a:lnTo>
                    <a:pt x="6827" y="3392"/>
                  </a:lnTo>
                  <a:lnTo>
                    <a:pt x="6800" y="3409"/>
                  </a:lnTo>
                  <a:lnTo>
                    <a:pt x="6772" y="3425"/>
                  </a:lnTo>
                  <a:lnTo>
                    <a:pt x="6744" y="3441"/>
                  </a:lnTo>
                  <a:lnTo>
                    <a:pt x="6716" y="3456"/>
                  </a:lnTo>
                  <a:lnTo>
                    <a:pt x="6661" y="3485"/>
                  </a:lnTo>
                  <a:lnTo>
                    <a:pt x="6603" y="3513"/>
                  </a:lnTo>
                  <a:lnTo>
                    <a:pt x="6544" y="3538"/>
                  </a:lnTo>
                  <a:lnTo>
                    <a:pt x="6485" y="3564"/>
                  </a:lnTo>
                  <a:lnTo>
                    <a:pt x="6366" y="3615"/>
                  </a:lnTo>
                  <a:lnTo>
                    <a:pt x="6246" y="3665"/>
                  </a:lnTo>
                  <a:lnTo>
                    <a:pt x="6187" y="3692"/>
                  </a:lnTo>
                  <a:lnTo>
                    <a:pt x="6129" y="3720"/>
                  </a:lnTo>
                  <a:lnTo>
                    <a:pt x="6100" y="3735"/>
                  </a:lnTo>
                  <a:lnTo>
                    <a:pt x="6071" y="3750"/>
                  </a:lnTo>
                  <a:lnTo>
                    <a:pt x="6042" y="3766"/>
                  </a:lnTo>
                  <a:lnTo>
                    <a:pt x="6014" y="3783"/>
                  </a:lnTo>
                  <a:lnTo>
                    <a:pt x="6014" y="3815"/>
                  </a:lnTo>
                  <a:lnTo>
                    <a:pt x="6013" y="3848"/>
                  </a:lnTo>
                  <a:lnTo>
                    <a:pt x="6011" y="3879"/>
                  </a:lnTo>
                  <a:lnTo>
                    <a:pt x="6009" y="3911"/>
                  </a:lnTo>
                  <a:lnTo>
                    <a:pt x="6005" y="3941"/>
                  </a:lnTo>
                  <a:lnTo>
                    <a:pt x="6001" y="3971"/>
                  </a:lnTo>
                  <a:lnTo>
                    <a:pt x="5997" y="3999"/>
                  </a:lnTo>
                  <a:lnTo>
                    <a:pt x="5990" y="4025"/>
                  </a:lnTo>
                  <a:lnTo>
                    <a:pt x="5984" y="4052"/>
                  </a:lnTo>
                  <a:lnTo>
                    <a:pt x="5977" y="4077"/>
                  </a:lnTo>
                  <a:lnTo>
                    <a:pt x="5969" y="4100"/>
                  </a:lnTo>
                  <a:lnTo>
                    <a:pt x="5960" y="4123"/>
                  </a:lnTo>
                  <a:lnTo>
                    <a:pt x="5951" y="4144"/>
                  </a:lnTo>
                  <a:lnTo>
                    <a:pt x="5940" y="4164"/>
                  </a:lnTo>
                  <a:lnTo>
                    <a:pt x="5928" y="4183"/>
                  </a:lnTo>
                  <a:lnTo>
                    <a:pt x="5916" y="4199"/>
                  </a:lnTo>
                  <a:lnTo>
                    <a:pt x="5902" y="4215"/>
                  </a:lnTo>
                  <a:lnTo>
                    <a:pt x="5888" y="4228"/>
                  </a:lnTo>
                  <a:lnTo>
                    <a:pt x="5872" y="4240"/>
                  </a:lnTo>
                  <a:lnTo>
                    <a:pt x="5856" y="4251"/>
                  </a:lnTo>
                  <a:lnTo>
                    <a:pt x="5839" y="4259"/>
                  </a:lnTo>
                  <a:lnTo>
                    <a:pt x="5821" y="4266"/>
                  </a:lnTo>
                  <a:lnTo>
                    <a:pt x="5800" y="4270"/>
                  </a:lnTo>
                  <a:lnTo>
                    <a:pt x="5780" y="4272"/>
                  </a:lnTo>
                  <a:lnTo>
                    <a:pt x="5759" y="4273"/>
                  </a:lnTo>
                  <a:lnTo>
                    <a:pt x="5736" y="4272"/>
                  </a:lnTo>
                  <a:lnTo>
                    <a:pt x="5713" y="4268"/>
                  </a:lnTo>
                  <a:lnTo>
                    <a:pt x="5688" y="4261"/>
                  </a:lnTo>
                  <a:lnTo>
                    <a:pt x="5661" y="4254"/>
                  </a:lnTo>
                  <a:lnTo>
                    <a:pt x="5634" y="4243"/>
                  </a:lnTo>
                  <a:lnTo>
                    <a:pt x="5605" y="4230"/>
                  </a:lnTo>
                  <a:lnTo>
                    <a:pt x="5576" y="4214"/>
                  </a:lnTo>
                  <a:lnTo>
                    <a:pt x="5576" y="2705"/>
                  </a:lnTo>
                  <a:lnTo>
                    <a:pt x="5566" y="2692"/>
                  </a:lnTo>
                  <a:lnTo>
                    <a:pt x="5556" y="2678"/>
                  </a:lnTo>
                  <a:lnTo>
                    <a:pt x="5547" y="2664"/>
                  </a:lnTo>
                  <a:lnTo>
                    <a:pt x="5539" y="2649"/>
                  </a:lnTo>
                  <a:lnTo>
                    <a:pt x="5531" y="2636"/>
                  </a:lnTo>
                  <a:lnTo>
                    <a:pt x="5525" y="2620"/>
                  </a:lnTo>
                  <a:lnTo>
                    <a:pt x="5518" y="2607"/>
                  </a:lnTo>
                  <a:lnTo>
                    <a:pt x="5513" y="2592"/>
                  </a:lnTo>
                  <a:lnTo>
                    <a:pt x="5504" y="2562"/>
                  </a:lnTo>
                  <a:lnTo>
                    <a:pt x="5497" y="2530"/>
                  </a:lnTo>
                  <a:lnTo>
                    <a:pt x="5491" y="2499"/>
                  </a:lnTo>
                  <a:lnTo>
                    <a:pt x="5486" y="2468"/>
                  </a:lnTo>
                  <a:lnTo>
                    <a:pt x="5480" y="2404"/>
                  </a:lnTo>
                  <a:lnTo>
                    <a:pt x="5474" y="2337"/>
                  </a:lnTo>
                  <a:lnTo>
                    <a:pt x="5472" y="2304"/>
                  </a:lnTo>
                  <a:lnTo>
                    <a:pt x="5469" y="2271"/>
                  </a:lnTo>
                  <a:lnTo>
                    <a:pt x="5466" y="2238"/>
                  </a:lnTo>
                  <a:lnTo>
                    <a:pt x="5460" y="2204"/>
                  </a:lnTo>
                  <a:lnTo>
                    <a:pt x="5450" y="2154"/>
                  </a:lnTo>
                  <a:lnTo>
                    <a:pt x="5440" y="2103"/>
                  </a:lnTo>
                  <a:lnTo>
                    <a:pt x="5430" y="2051"/>
                  </a:lnTo>
                  <a:lnTo>
                    <a:pt x="5422" y="1998"/>
                  </a:lnTo>
                  <a:lnTo>
                    <a:pt x="5405" y="1893"/>
                  </a:lnTo>
                  <a:lnTo>
                    <a:pt x="5388" y="1787"/>
                  </a:lnTo>
                  <a:lnTo>
                    <a:pt x="5370" y="1680"/>
                  </a:lnTo>
                  <a:lnTo>
                    <a:pt x="5351" y="1575"/>
                  </a:lnTo>
                  <a:lnTo>
                    <a:pt x="5340" y="1521"/>
                  </a:lnTo>
                  <a:lnTo>
                    <a:pt x="5329" y="1470"/>
                  </a:lnTo>
                  <a:lnTo>
                    <a:pt x="5316" y="1417"/>
                  </a:lnTo>
                  <a:lnTo>
                    <a:pt x="5302" y="1366"/>
                  </a:lnTo>
                  <a:lnTo>
                    <a:pt x="5286" y="1315"/>
                  </a:lnTo>
                  <a:lnTo>
                    <a:pt x="5270" y="1266"/>
                  </a:lnTo>
                  <a:lnTo>
                    <a:pt x="5250" y="1217"/>
                  </a:lnTo>
                  <a:lnTo>
                    <a:pt x="5230" y="1168"/>
                  </a:lnTo>
                  <a:lnTo>
                    <a:pt x="5208" y="1120"/>
                  </a:lnTo>
                  <a:lnTo>
                    <a:pt x="5184" y="1074"/>
                  </a:lnTo>
                  <a:lnTo>
                    <a:pt x="5157" y="1029"/>
                  </a:lnTo>
                  <a:lnTo>
                    <a:pt x="5128" y="985"/>
                  </a:lnTo>
                  <a:lnTo>
                    <a:pt x="5096" y="942"/>
                  </a:lnTo>
                  <a:lnTo>
                    <a:pt x="5062" y="900"/>
                  </a:lnTo>
                  <a:lnTo>
                    <a:pt x="5025" y="860"/>
                  </a:lnTo>
                  <a:lnTo>
                    <a:pt x="4985" y="821"/>
                  </a:lnTo>
                  <a:lnTo>
                    <a:pt x="4941" y="785"/>
                  </a:lnTo>
                  <a:lnTo>
                    <a:pt x="4895" y="749"/>
                  </a:lnTo>
                  <a:lnTo>
                    <a:pt x="4846" y="716"/>
                  </a:lnTo>
                  <a:lnTo>
                    <a:pt x="4792" y="684"/>
                  </a:lnTo>
                  <a:lnTo>
                    <a:pt x="4691" y="630"/>
                  </a:lnTo>
                  <a:lnTo>
                    <a:pt x="4587" y="575"/>
                  </a:lnTo>
                  <a:lnTo>
                    <a:pt x="4481" y="522"/>
                  </a:lnTo>
                  <a:lnTo>
                    <a:pt x="4372" y="468"/>
                  </a:lnTo>
                  <a:lnTo>
                    <a:pt x="4317" y="441"/>
                  </a:lnTo>
                  <a:lnTo>
                    <a:pt x="4261" y="416"/>
                  </a:lnTo>
                  <a:lnTo>
                    <a:pt x="4205" y="391"/>
                  </a:lnTo>
                  <a:lnTo>
                    <a:pt x="4148" y="366"/>
                  </a:lnTo>
                  <a:lnTo>
                    <a:pt x="4090" y="343"/>
                  </a:lnTo>
                  <a:lnTo>
                    <a:pt x="4032" y="320"/>
                  </a:lnTo>
                  <a:lnTo>
                    <a:pt x="3974" y="299"/>
                  </a:lnTo>
                  <a:lnTo>
                    <a:pt x="3915" y="277"/>
                  </a:lnTo>
                  <a:lnTo>
                    <a:pt x="3856" y="258"/>
                  </a:lnTo>
                  <a:lnTo>
                    <a:pt x="3796" y="241"/>
                  </a:lnTo>
                  <a:lnTo>
                    <a:pt x="3736" y="224"/>
                  </a:lnTo>
                  <a:lnTo>
                    <a:pt x="3676" y="209"/>
                  </a:lnTo>
                  <a:lnTo>
                    <a:pt x="3616" y="195"/>
                  </a:lnTo>
                  <a:lnTo>
                    <a:pt x="3555" y="183"/>
                  </a:lnTo>
                  <a:lnTo>
                    <a:pt x="3494" y="173"/>
                  </a:lnTo>
                  <a:lnTo>
                    <a:pt x="3432" y="166"/>
                  </a:lnTo>
                  <a:lnTo>
                    <a:pt x="3371" y="159"/>
                  </a:lnTo>
                  <a:lnTo>
                    <a:pt x="3309" y="156"/>
                  </a:lnTo>
                  <a:lnTo>
                    <a:pt x="3248" y="154"/>
                  </a:lnTo>
                  <a:lnTo>
                    <a:pt x="3186" y="155"/>
                  </a:lnTo>
                  <a:lnTo>
                    <a:pt x="3123" y="158"/>
                  </a:lnTo>
                  <a:lnTo>
                    <a:pt x="3062" y="164"/>
                  </a:lnTo>
                  <a:lnTo>
                    <a:pt x="3000" y="172"/>
                  </a:lnTo>
                  <a:lnTo>
                    <a:pt x="2938" y="183"/>
                  </a:lnTo>
                  <a:lnTo>
                    <a:pt x="2895" y="194"/>
                  </a:lnTo>
                  <a:lnTo>
                    <a:pt x="2855" y="209"/>
                  </a:lnTo>
                  <a:lnTo>
                    <a:pt x="2819" y="228"/>
                  </a:lnTo>
                  <a:lnTo>
                    <a:pt x="2786" y="249"/>
                  </a:lnTo>
                  <a:lnTo>
                    <a:pt x="2756" y="274"/>
                  </a:lnTo>
                  <a:lnTo>
                    <a:pt x="2728" y="303"/>
                  </a:lnTo>
                  <a:lnTo>
                    <a:pt x="2702" y="334"/>
                  </a:lnTo>
                  <a:lnTo>
                    <a:pt x="2679" y="367"/>
                  </a:lnTo>
                  <a:lnTo>
                    <a:pt x="2660" y="403"/>
                  </a:lnTo>
                  <a:lnTo>
                    <a:pt x="2642" y="441"/>
                  </a:lnTo>
                  <a:lnTo>
                    <a:pt x="2627" y="481"/>
                  </a:lnTo>
                  <a:lnTo>
                    <a:pt x="2614" y="524"/>
                  </a:lnTo>
                  <a:lnTo>
                    <a:pt x="2603" y="567"/>
                  </a:lnTo>
                  <a:lnTo>
                    <a:pt x="2595" y="612"/>
                  </a:lnTo>
                  <a:lnTo>
                    <a:pt x="2587" y="658"/>
                  </a:lnTo>
                  <a:lnTo>
                    <a:pt x="2582" y="705"/>
                  </a:lnTo>
                  <a:lnTo>
                    <a:pt x="2579" y="752"/>
                  </a:lnTo>
                  <a:lnTo>
                    <a:pt x="2577" y="801"/>
                  </a:lnTo>
                  <a:lnTo>
                    <a:pt x="2577" y="849"/>
                  </a:lnTo>
                  <a:lnTo>
                    <a:pt x="2578" y="898"/>
                  </a:lnTo>
                  <a:lnTo>
                    <a:pt x="2580" y="946"/>
                  </a:lnTo>
                  <a:lnTo>
                    <a:pt x="2584" y="996"/>
                  </a:lnTo>
                  <a:lnTo>
                    <a:pt x="2588" y="1043"/>
                  </a:lnTo>
                  <a:lnTo>
                    <a:pt x="2595" y="1090"/>
                  </a:lnTo>
                  <a:lnTo>
                    <a:pt x="2601" y="1137"/>
                  </a:lnTo>
                  <a:lnTo>
                    <a:pt x="2609" y="1182"/>
                  </a:lnTo>
                  <a:lnTo>
                    <a:pt x="2617" y="1226"/>
                  </a:lnTo>
                  <a:lnTo>
                    <a:pt x="2626" y="1269"/>
                  </a:lnTo>
                  <a:lnTo>
                    <a:pt x="2636" y="1310"/>
                  </a:lnTo>
                  <a:lnTo>
                    <a:pt x="2646" y="1350"/>
                  </a:lnTo>
                  <a:lnTo>
                    <a:pt x="2656" y="1386"/>
                  </a:lnTo>
                  <a:lnTo>
                    <a:pt x="2667" y="1422"/>
                  </a:lnTo>
                  <a:lnTo>
                    <a:pt x="2691" y="1489"/>
                  </a:lnTo>
                  <a:lnTo>
                    <a:pt x="2718" y="1558"/>
                  </a:lnTo>
                  <a:lnTo>
                    <a:pt x="2747" y="1629"/>
                  </a:lnTo>
                  <a:lnTo>
                    <a:pt x="2777" y="1700"/>
                  </a:lnTo>
                  <a:lnTo>
                    <a:pt x="2807" y="1774"/>
                  </a:lnTo>
                  <a:lnTo>
                    <a:pt x="2836" y="1848"/>
                  </a:lnTo>
                  <a:lnTo>
                    <a:pt x="2850" y="1886"/>
                  </a:lnTo>
                  <a:lnTo>
                    <a:pt x="2864" y="1924"/>
                  </a:lnTo>
                  <a:lnTo>
                    <a:pt x="2877" y="1962"/>
                  </a:lnTo>
                  <a:lnTo>
                    <a:pt x="2890" y="2001"/>
                  </a:lnTo>
                  <a:lnTo>
                    <a:pt x="2901" y="2039"/>
                  </a:lnTo>
                  <a:lnTo>
                    <a:pt x="2912" y="2078"/>
                  </a:lnTo>
                  <a:lnTo>
                    <a:pt x="2922" y="2116"/>
                  </a:lnTo>
                  <a:lnTo>
                    <a:pt x="2930" y="2156"/>
                  </a:lnTo>
                  <a:lnTo>
                    <a:pt x="2938" y="2196"/>
                  </a:lnTo>
                  <a:lnTo>
                    <a:pt x="2943" y="2235"/>
                  </a:lnTo>
                  <a:lnTo>
                    <a:pt x="2949" y="2275"/>
                  </a:lnTo>
                  <a:lnTo>
                    <a:pt x="2951" y="2315"/>
                  </a:lnTo>
                  <a:lnTo>
                    <a:pt x="2953" y="2355"/>
                  </a:lnTo>
                  <a:lnTo>
                    <a:pt x="2953" y="2394"/>
                  </a:lnTo>
                  <a:lnTo>
                    <a:pt x="2951" y="2435"/>
                  </a:lnTo>
                  <a:lnTo>
                    <a:pt x="2947" y="2475"/>
                  </a:lnTo>
                  <a:lnTo>
                    <a:pt x="2940" y="2515"/>
                  </a:lnTo>
                  <a:lnTo>
                    <a:pt x="2933" y="2555"/>
                  </a:lnTo>
                  <a:lnTo>
                    <a:pt x="2922" y="2596"/>
                  </a:lnTo>
                  <a:lnTo>
                    <a:pt x="2909" y="2637"/>
                  </a:lnTo>
                  <a:lnTo>
                    <a:pt x="2903" y="2656"/>
                  </a:lnTo>
                  <a:lnTo>
                    <a:pt x="2895" y="2676"/>
                  </a:lnTo>
                  <a:lnTo>
                    <a:pt x="2886" y="2697"/>
                  </a:lnTo>
                  <a:lnTo>
                    <a:pt x="2877" y="2717"/>
                  </a:lnTo>
                  <a:lnTo>
                    <a:pt x="2866" y="2737"/>
                  </a:lnTo>
                  <a:lnTo>
                    <a:pt x="2854" y="2758"/>
                  </a:lnTo>
                  <a:lnTo>
                    <a:pt x="2841" y="2777"/>
                  </a:lnTo>
                  <a:lnTo>
                    <a:pt x="2827" y="2797"/>
                  </a:lnTo>
                  <a:lnTo>
                    <a:pt x="2812" y="2818"/>
                  </a:lnTo>
                  <a:lnTo>
                    <a:pt x="2797" y="2837"/>
                  </a:lnTo>
                  <a:lnTo>
                    <a:pt x="2781" y="2856"/>
                  </a:lnTo>
                  <a:lnTo>
                    <a:pt x="2765" y="2876"/>
                  </a:lnTo>
                  <a:lnTo>
                    <a:pt x="2730" y="2914"/>
                  </a:lnTo>
                  <a:lnTo>
                    <a:pt x="2693" y="2950"/>
                  </a:lnTo>
                  <a:lnTo>
                    <a:pt x="2656" y="2985"/>
                  </a:lnTo>
                  <a:lnTo>
                    <a:pt x="2618" y="3018"/>
                  </a:lnTo>
                  <a:lnTo>
                    <a:pt x="2581" y="3048"/>
                  </a:lnTo>
                  <a:lnTo>
                    <a:pt x="2543" y="3077"/>
                  </a:lnTo>
                  <a:lnTo>
                    <a:pt x="2508" y="3103"/>
                  </a:lnTo>
                  <a:lnTo>
                    <a:pt x="2474" y="3126"/>
                  </a:lnTo>
                  <a:lnTo>
                    <a:pt x="2442" y="3145"/>
                  </a:lnTo>
                  <a:lnTo>
                    <a:pt x="2413" y="3160"/>
                  </a:lnTo>
                  <a:lnTo>
                    <a:pt x="2367" y="3181"/>
                  </a:lnTo>
                  <a:lnTo>
                    <a:pt x="2317" y="3201"/>
                  </a:lnTo>
                  <a:lnTo>
                    <a:pt x="2264" y="3221"/>
                  </a:lnTo>
                  <a:lnTo>
                    <a:pt x="2209" y="3239"/>
                  </a:lnTo>
                  <a:lnTo>
                    <a:pt x="2152" y="3256"/>
                  </a:lnTo>
                  <a:lnTo>
                    <a:pt x="2095" y="3273"/>
                  </a:lnTo>
                  <a:lnTo>
                    <a:pt x="2037" y="3286"/>
                  </a:lnTo>
                  <a:lnTo>
                    <a:pt x="1979" y="3298"/>
                  </a:lnTo>
                  <a:lnTo>
                    <a:pt x="1951" y="3304"/>
                  </a:lnTo>
                  <a:lnTo>
                    <a:pt x="1923" y="3308"/>
                  </a:lnTo>
                  <a:lnTo>
                    <a:pt x="1895" y="3312"/>
                  </a:lnTo>
                  <a:lnTo>
                    <a:pt x="1869" y="3315"/>
                  </a:lnTo>
                  <a:lnTo>
                    <a:pt x="1842" y="3318"/>
                  </a:lnTo>
                  <a:lnTo>
                    <a:pt x="1816" y="3319"/>
                  </a:lnTo>
                  <a:lnTo>
                    <a:pt x="1791" y="3320"/>
                  </a:lnTo>
                  <a:lnTo>
                    <a:pt x="1768" y="3320"/>
                  </a:lnTo>
                  <a:lnTo>
                    <a:pt x="1745" y="3318"/>
                  </a:lnTo>
                  <a:lnTo>
                    <a:pt x="1723" y="3316"/>
                  </a:lnTo>
                  <a:lnTo>
                    <a:pt x="1702" y="3313"/>
                  </a:lnTo>
                  <a:lnTo>
                    <a:pt x="1683" y="3309"/>
                  </a:lnTo>
                  <a:lnTo>
                    <a:pt x="1665" y="3304"/>
                  </a:lnTo>
                  <a:lnTo>
                    <a:pt x="1648" y="3297"/>
                  </a:lnTo>
                  <a:lnTo>
                    <a:pt x="1633" y="3290"/>
                  </a:lnTo>
                  <a:lnTo>
                    <a:pt x="1619" y="3281"/>
                  </a:lnTo>
                  <a:lnTo>
                    <a:pt x="1658" y="3278"/>
                  </a:lnTo>
                  <a:lnTo>
                    <a:pt x="1700" y="3274"/>
                  </a:lnTo>
                  <a:lnTo>
                    <a:pt x="1741" y="3267"/>
                  </a:lnTo>
                  <a:lnTo>
                    <a:pt x="1783" y="3261"/>
                  </a:lnTo>
                  <a:lnTo>
                    <a:pt x="1825" y="3254"/>
                  </a:lnTo>
                  <a:lnTo>
                    <a:pt x="1865" y="3246"/>
                  </a:lnTo>
                  <a:lnTo>
                    <a:pt x="1907" y="3237"/>
                  </a:lnTo>
                  <a:lnTo>
                    <a:pt x="1948" y="3229"/>
                  </a:lnTo>
                  <a:lnTo>
                    <a:pt x="1988" y="3218"/>
                  </a:lnTo>
                  <a:lnTo>
                    <a:pt x="2026" y="3207"/>
                  </a:lnTo>
                  <a:lnTo>
                    <a:pt x="2064" y="3196"/>
                  </a:lnTo>
                  <a:lnTo>
                    <a:pt x="2100" y="3185"/>
                  </a:lnTo>
                  <a:lnTo>
                    <a:pt x="2136" y="3172"/>
                  </a:lnTo>
                  <a:lnTo>
                    <a:pt x="2169" y="3159"/>
                  </a:lnTo>
                  <a:lnTo>
                    <a:pt x="2200" y="3146"/>
                  </a:lnTo>
                  <a:lnTo>
                    <a:pt x="2229" y="3132"/>
                  </a:lnTo>
                  <a:lnTo>
                    <a:pt x="2270" y="3112"/>
                  </a:lnTo>
                  <a:lnTo>
                    <a:pt x="2309" y="3090"/>
                  </a:lnTo>
                  <a:lnTo>
                    <a:pt x="2348" y="3069"/>
                  </a:lnTo>
                  <a:lnTo>
                    <a:pt x="2386" y="3046"/>
                  </a:lnTo>
                  <a:lnTo>
                    <a:pt x="2422" y="3024"/>
                  </a:lnTo>
                  <a:lnTo>
                    <a:pt x="2457" y="3000"/>
                  </a:lnTo>
                  <a:lnTo>
                    <a:pt x="2492" y="2975"/>
                  </a:lnTo>
                  <a:lnTo>
                    <a:pt x="2525" y="2950"/>
                  </a:lnTo>
                  <a:lnTo>
                    <a:pt x="2556" y="2923"/>
                  </a:lnTo>
                  <a:lnTo>
                    <a:pt x="2586" y="2896"/>
                  </a:lnTo>
                  <a:lnTo>
                    <a:pt x="2614" y="2867"/>
                  </a:lnTo>
                  <a:lnTo>
                    <a:pt x="2641" y="2838"/>
                  </a:lnTo>
                  <a:lnTo>
                    <a:pt x="2666" y="2807"/>
                  </a:lnTo>
                  <a:lnTo>
                    <a:pt x="2689" y="2776"/>
                  </a:lnTo>
                  <a:lnTo>
                    <a:pt x="2711" y="2743"/>
                  </a:lnTo>
                  <a:lnTo>
                    <a:pt x="2730" y="2708"/>
                  </a:lnTo>
                  <a:lnTo>
                    <a:pt x="2747" y="2673"/>
                  </a:lnTo>
                  <a:lnTo>
                    <a:pt x="2762" y="2636"/>
                  </a:lnTo>
                  <a:lnTo>
                    <a:pt x="2776" y="2598"/>
                  </a:lnTo>
                  <a:lnTo>
                    <a:pt x="2787" y="2558"/>
                  </a:lnTo>
                  <a:lnTo>
                    <a:pt x="2796" y="2518"/>
                  </a:lnTo>
                  <a:lnTo>
                    <a:pt x="2803" y="2475"/>
                  </a:lnTo>
                  <a:lnTo>
                    <a:pt x="2807" y="2431"/>
                  </a:lnTo>
                  <a:lnTo>
                    <a:pt x="2808" y="2385"/>
                  </a:lnTo>
                  <a:lnTo>
                    <a:pt x="2807" y="2337"/>
                  </a:lnTo>
                  <a:lnTo>
                    <a:pt x="2804" y="2288"/>
                  </a:lnTo>
                  <a:lnTo>
                    <a:pt x="2797" y="2238"/>
                  </a:lnTo>
                  <a:lnTo>
                    <a:pt x="2789" y="2185"/>
                  </a:lnTo>
                  <a:lnTo>
                    <a:pt x="2777" y="2131"/>
                  </a:lnTo>
                  <a:lnTo>
                    <a:pt x="2763" y="2075"/>
                  </a:lnTo>
                  <a:lnTo>
                    <a:pt x="2745" y="2017"/>
                  </a:lnTo>
                  <a:lnTo>
                    <a:pt x="2725" y="1957"/>
                  </a:lnTo>
                  <a:lnTo>
                    <a:pt x="2716" y="1933"/>
                  </a:lnTo>
                  <a:lnTo>
                    <a:pt x="2706" y="1909"/>
                  </a:lnTo>
                  <a:lnTo>
                    <a:pt x="2694" y="1886"/>
                  </a:lnTo>
                  <a:lnTo>
                    <a:pt x="2683" y="1862"/>
                  </a:lnTo>
                  <a:lnTo>
                    <a:pt x="2670" y="1838"/>
                  </a:lnTo>
                  <a:lnTo>
                    <a:pt x="2656" y="1814"/>
                  </a:lnTo>
                  <a:lnTo>
                    <a:pt x="2642" y="1789"/>
                  </a:lnTo>
                  <a:lnTo>
                    <a:pt x="2627" y="1765"/>
                  </a:lnTo>
                  <a:lnTo>
                    <a:pt x="2595" y="1714"/>
                  </a:lnTo>
                  <a:lnTo>
                    <a:pt x="2560" y="1665"/>
                  </a:lnTo>
                  <a:lnTo>
                    <a:pt x="2525" y="1615"/>
                  </a:lnTo>
                  <a:lnTo>
                    <a:pt x="2490" y="1563"/>
                  </a:lnTo>
                  <a:lnTo>
                    <a:pt x="2454" y="1513"/>
                  </a:lnTo>
                  <a:lnTo>
                    <a:pt x="2420" y="1462"/>
                  </a:lnTo>
                  <a:lnTo>
                    <a:pt x="2387" y="1411"/>
                  </a:lnTo>
                  <a:lnTo>
                    <a:pt x="2356" y="1360"/>
                  </a:lnTo>
                  <a:lnTo>
                    <a:pt x="2341" y="1336"/>
                  </a:lnTo>
                  <a:lnTo>
                    <a:pt x="2327" y="1310"/>
                  </a:lnTo>
                  <a:lnTo>
                    <a:pt x="2314" y="1285"/>
                  </a:lnTo>
                  <a:lnTo>
                    <a:pt x="2302" y="1261"/>
                  </a:lnTo>
                  <a:lnTo>
                    <a:pt x="2290" y="1235"/>
                  </a:lnTo>
                  <a:lnTo>
                    <a:pt x="2281" y="1210"/>
                  </a:lnTo>
                  <a:lnTo>
                    <a:pt x="2272" y="1187"/>
                  </a:lnTo>
                  <a:lnTo>
                    <a:pt x="2263" y="1162"/>
                  </a:lnTo>
                  <a:lnTo>
                    <a:pt x="2249" y="1108"/>
                  </a:lnTo>
                  <a:lnTo>
                    <a:pt x="2235" y="1056"/>
                  </a:lnTo>
                  <a:lnTo>
                    <a:pt x="2224" y="1003"/>
                  </a:lnTo>
                  <a:lnTo>
                    <a:pt x="2214" y="953"/>
                  </a:lnTo>
                  <a:lnTo>
                    <a:pt x="2205" y="904"/>
                  </a:lnTo>
                  <a:lnTo>
                    <a:pt x="2199" y="854"/>
                  </a:lnTo>
                  <a:lnTo>
                    <a:pt x="2193" y="806"/>
                  </a:lnTo>
                  <a:lnTo>
                    <a:pt x="2189" y="760"/>
                  </a:lnTo>
                  <a:lnTo>
                    <a:pt x="2186" y="714"/>
                  </a:lnTo>
                  <a:lnTo>
                    <a:pt x="2184" y="670"/>
                  </a:lnTo>
                  <a:lnTo>
                    <a:pt x="2184" y="626"/>
                  </a:lnTo>
                  <a:lnTo>
                    <a:pt x="2185" y="584"/>
                  </a:lnTo>
                  <a:lnTo>
                    <a:pt x="2187" y="543"/>
                  </a:lnTo>
                  <a:lnTo>
                    <a:pt x="2190" y="504"/>
                  </a:lnTo>
                  <a:lnTo>
                    <a:pt x="2195" y="465"/>
                  </a:lnTo>
                  <a:lnTo>
                    <a:pt x="2200" y="427"/>
                  </a:lnTo>
                  <a:lnTo>
                    <a:pt x="2207" y="392"/>
                  </a:lnTo>
                  <a:lnTo>
                    <a:pt x="2214" y="358"/>
                  </a:lnTo>
                  <a:lnTo>
                    <a:pt x="2223" y="324"/>
                  </a:lnTo>
                  <a:lnTo>
                    <a:pt x="2232" y="293"/>
                  </a:lnTo>
                  <a:lnTo>
                    <a:pt x="2242" y="263"/>
                  </a:lnTo>
                  <a:lnTo>
                    <a:pt x="2253" y="234"/>
                  </a:lnTo>
                  <a:lnTo>
                    <a:pt x="2264" y="208"/>
                  </a:lnTo>
                  <a:lnTo>
                    <a:pt x="2276" y="182"/>
                  </a:lnTo>
                  <a:lnTo>
                    <a:pt x="2290" y="158"/>
                  </a:lnTo>
                  <a:lnTo>
                    <a:pt x="2303" y="136"/>
                  </a:lnTo>
                  <a:lnTo>
                    <a:pt x="2318" y="115"/>
                  </a:lnTo>
                  <a:lnTo>
                    <a:pt x="2332" y="96"/>
                  </a:lnTo>
                  <a:lnTo>
                    <a:pt x="2348" y="79"/>
                  </a:lnTo>
                  <a:lnTo>
                    <a:pt x="2363" y="64"/>
                  </a:lnTo>
                  <a:lnTo>
                    <a:pt x="2379" y="50"/>
                  </a:lnTo>
                  <a:lnTo>
                    <a:pt x="2396" y="39"/>
                  </a:lnTo>
                  <a:lnTo>
                    <a:pt x="2375" y="27"/>
                  </a:lnTo>
                  <a:lnTo>
                    <a:pt x="2353" y="19"/>
                  </a:lnTo>
                  <a:lnTo>
                    <a:pt x="2331" y="11"/>
                  </a:lnTo>
                  <a:lnTo>
                    <a:pt x="2308" y="6"/>
                  </a:lnTo>
                  <a:lnTo>
                    <a:pt x="2285" y="3"/>
                  </a:lnTo>
                  <a:lnTo>
                    <a:pt x="2260" y="1"/>
                  </a:lnTo>
                  <a:lnTo>
                    <a:pt x="2235" y="0"/>
                  </a:lnTo>
                  <a:lnTo>
                    <a:pt x="2210" y="0"/>
                  </a:lnTo>
                  <a:lnTo>
                    <a:pt x="2184" y="2"/>
                  </a:lnTo>
                  <a:lnTo>
                    <a:pt x="2157" y="5"/>
                  </a:lnTo>
                  <a:lnTo>
                    <a:pt x="2130" y="9"/>
                  </a:lnTo>
                  <a:lnTo>
                    <a:pt x="2104" y="15"/>
                  </a:lnTo>
                  <a:lnTo>
                    <a:pt x="2077" y="20"/>
                  </a:lnTo>
                  <a:lnTo>
                    <a:pt x="2049" y="27"/>
                  </a:lnTo>
                  <a:lnTo>
                    <a:pt x="2021" y="35"/>
                  </a:lnTo>
                  <a:lnTo>
                    <a:pt x="1993" y="43"/>
                  </a:lnTo>
                  <a:lnTo>
                    <a:pt x="1936" y="62"/>
                  </a:lnTo>
                  <a:lnTo>
                    <a:pt x="1880" y="81"/>
                  </a:lnTo>
                  <a:lnTo>
                    <a:pt x="1824" y="102"/>
                  </a:lnTo>
                  <a:lnTo>
                    <a:pt x="1768" y="123"/>
                  </a:lnTo>
                  <a:lnTo>
                    <a:pt x="1712" y="143"/>
                  </a:lnTo>
                  <a:lnTo>
                    <a:pt x="1658" y="163"/>
                  </a:lnTo>
                  <a:lnTo>
                    <a:pt x="1606" y="180"/>
                  </a:lnTo>
                  <a:lnTo>
                    <a:pt x="1555" y="195"/>
                  </a:lnTo>
                  <a:lnTo>
                    <a:pt x="1515" y="201"/>
                  </a:lnTo>
                  <a:lnTo>
                    <a:pt x="1470" y="211"/>
                  </a:lnTo>
                  <a:lnTo>
                    <a:pt x="1424" y="222"/>
                  </a:lnTo>
                  <a:lnTo>
                    <a:pt x="1373" y="234"/>
                  </a:lnTo>
                  <a:lnTo>
                    <a:pt x="1323" y="248"/>
                  </a:lnTo>
                  <a:lnTo>
                    <a:pt x="1270" y="264"/>
                  </a:lnTo>
                  <a:lnTo>
                    <a:pt x="1218" y="283"/>
                  </a:lnTo>
                  <a:lnTo>
                    <a:pt x="1166" y="302"/>
                  </a:lnTo>
                  <a:lnTo>
                    <a:pt x="1114" y="322"/>
                  </a:lnTo>
                  <a:lnTo>
                    <a:pt x="1063" y="345"/>
                  </a:lnTo>
                  <a:lnTo>
                    <a:pt x="1040" y="358"/>
                  </a:lnTo>
                  <a:lnTo>
                    <a:pt x="1015" y="370"/>
                  </a:lnTo>
                  <a:lnTo>
                    <a:pt x="992" y="382"/>
                  </a:lnTo>
                  <a:lnTo>
                    <a:pt x="970" y="396"/>
                  </a:lnTo>
                  <a:lnTo>
                    <a:pt x="947" y="409"/>
                  </a:lnTo>
                  <a:lnTo>
                    <a:pt x="927" y="424"/>
                  </a:lnTo>
                  <a:lnTo>
                    <a:pt x="907" y="438"/>
                  </a:lnTo>
                  <a:lnTo>
                    <a:pt x="888" y="453"/>
                  </a:lnTo>
                  <a:lnTo>
                    <a:pt x="870" y="468"/>
                  </a:lnTo>
                  <a:lnTo>
                    <a:pt x="853" y="484"/>
                  </a:lnTo>
                  <a:lnTo>
                    <a:pt x="838" y="500"/>
                  </a:lnTo>
                  <a:lnTo>
                    <a:pt x="824" y="516"/>
                  </a:lnTo>
                  <a:lnTo>
                    <a:pt x="832" y="524"/>
                  </a:lnTo>
                  <a:lnTo>
                    <a:pt x="844" y="535"/>
                  </a:lnTo>
                  <a:lnTo>
                    <a:pt x="862" y="546"/>
                  </a:lnTo>
                  <a:lnTo>
                    <a:pt x="882" y="559"/>
                  </a:lnTo>
                  <a:lnTo>
                    <a:pt x="931" y="589"/>
                  </a:lnTo>
                  <a:lnTo>
                    <a:pt x="986" y="624"/>
                  </a:lnTo>
                  <a:lnTo>
                    <a:pt x="1041" y="658"/>
                  </a:lnTo>
                  <a:lnTo>
                    <a:pt x="1090" y="691"/>
                  </a:lnTo>
                  <a:lnTo>
                    <a:pt x="1111" y="707"/>
                  </a:lnTo>
                  <a:lnTo>
                    <a:pt x="1130" y="722"/>
                  </a:lnTo>
                  <a:lnTo>
                    <a:pt x="1136" y="729"/>
                  </a:lnTo>
                  <a:lnTo>
                    <a:pt x="1143" y="735"/>
                  </a:lnTo>
                  <a:lnTo>
                    <a:pt x="1148" y="742"/>
                  </a:lnTo>
                  <a:lnTo>
                    <a:pt x="1152" y="747"/>
                  </a:lnTo>
                  <a:lnTo>
                    <a:pt x="1243" y="831"/>
                  </a:lnTo>
                  <a:lnTo>
                    <a:pt x="1316" y="897"/>
                  </a:lnTo>
                  <a:lnTo>
                    <a:pt x="1347" y="927"/>
                  </a:lnTo>
                  <a:lnTo>
                    <a:pt x="1376" y="954"/>
                  </a:lnTo>
                  <a:lnTo>
                    <a:pt x="1403" y="981"/>
                  </a:lnTo>
                  <a:lnTo>
                    <a:pt x="1429" y="1007"/>
                  </a:lnTo>
                  <a:lnTo>
                    <a:pt x="1453" y="1033"/>
                  </a:lnTo>
                  <a:lnTo>
                    <a:pt x="1477" y="1061"/>
                  </a:lnTo>
                  <a:lnTo>
                    <a:pt x="1502" y="1090"/>
                  </a:lnTo>
                  <a:lnTo>
                    <a:pt x="1528" y="1122"/>
                  </a:lnTo>
                  <a:lnTo>
                    <a:pt x="1584" y="1196"/>
                  </a:lnTo>
                  <a:lnTo>
                    <a:pt x="1653" y="1289"/>
                  </a:lnTo>
                  <a:lnTo>
                    <a:pt x="1664" y="1305"/>
                  </a:lnTo>
                  <a:lnTo>
                    <a:pt x="1673" y="1324"/>
                  </a:lnTo>
                  <a:lnTo>
                    <a:pt x="1683" y="1348"/>
                  </a:lnTo>
                  <a:lnTo>
                    <a:pt x="1693" y="1374"/>
                  </a:lnTo>
                  <a:lnTo>
                    <a:pt x="1701" y="1403"/>
                  </a:lnTo>
                  <a:lnTo>
                    <a:pt x="1709" y="1435"/>
                  </a:lnTo>
                  <a:lnTo>
                    <a:pt x="1717" y="1470"/>
                  </a:lnTo>
                  <a:lnTo>
                    <a:pt x="1724" y="1507"/>
                  </a:lnTo>
                  <a:lnTo>
                    <a:pt x="1730" y="1546"/>
                  </a:lnTo>
                  <a:lnTo>
                    <a:pt x="1736" y="1586"/>
                  </a:lnTo>
                  <a:lnTo>
                    <a:pt x="1740" y="1627"/>
                  </a:lnTo>
                  <a:lnTo>
                    <a:pt x="1743" y="1670"/>
                  </a:lnTo>
                  <a:lnTo>
                    <a:pt x="1745" y="1714"/>
                  </a:lnTo>
                  <a:lnTo>
                    <a:pt x="1746" y="1758"/>
                  </a:lnTo>
                  <a:lnTo>
                    <a:pt x="1746" y="1803"/>
                  </a:lnTo>
                  <a:lnTo>
                    <a:pt x="1744" y="1848"/>
                  </a:lnTo>
                  <a:lnTo>
                    <a:pt x="1741" y="1892"/>
                  </a:lnTo>
                  <a:lnTo>
                    <a:pt x="1737" y="1936"/>
                  </a:lnTo>
                  <a:lnTo>
                    <a:pt x="1731" y="1980"/>
                  </a:lnTo>
                  <a:lnTo>
                    <a:pt x="1723" y="2022"/>
                  </a:lnTo>
                  <a:lnTo>
                    <a:pt x="1713" y="2064"/>
                  </a:lnTo>
                  <a:lnTo>
                    <a:pt x="1702" y="2104"/>
                  </a:lnTo>
                  <a:lnTo>
                    <a:pt x="1688" y="2141"/>
                  </a:lnTo>
                  <a:lnTo>
                    <a:pt x="1673" y="2178"/>
                  </a:lnTo>
                  <a:lnTo>
                    <a:pt x="1656" y="2211"/>
                  </a:lnTo>
                  <a:lnTo>
                    <a:pt x="1636" y="2242"/>
                  </a:lnTo>
                  <a:lnTo>
                    <a:pt x="1614" y="2270"/>
                  </a:lnTo>
                  <a:lnTo>
                    <a:pt x="1591" y="2296"/>
                  </a:lnTo>
                  <a:lnTo>
                    <a:pt x="1564" y="2317"/>
                  </a:lnTo>
                  <a:lnTo>
                    <a:pt x="1535" y="2335"/>
                  </a:lnTo>
                  <a:lnTo>
                    <a:pt x="1503" y="2349"/>
                  </a:lnTo>
                  <a:lnTo>
                    <a:pt x="1469" y="2360"/>
                  </a:lnTo>
                  <a:lnTo>
                    <a:pt x="1503" y="2268"/>
                  </a:lnTo>
                  <a:lnTo>
                    <a:pt x="1530" y="2178"/>
                  </a:lnTo>
                  <a:lnTo>
                    <a:pt x="1550" y="2089"/>
                  </a:lnTo>
                  <a:lnTo>
                    <a:pt x="1564" y="2003"/>
                  </a:lnTo>
                  <a:lnTo>
                    <a:pt x="1572" y="1919"/>
                  </a:lnTo>
                  <a:lnTo>
                    <a:pt x="1574" y="1838"/>
                  </a:lnTo>
                  <a:lnTo>
                    <a:pt x="1571" y="1758"/>
                  </a:lnTo>
                  <a:lnTo>
                    <a:pt x="1561" y="1681"/>
                  </a:lnTo>
                  <a:lnTo>
                    <a:pt x="1547" y="1606"/>
                  </a:lnTo>
                  <a:lnTo>
                    <a:pt x="1529" y="1534"/>
                  </a:lnTo>
                  <a:lnTo>
                    <a:pt x="1505" y="1463"/>
                  </a:lnTo>
                  <a:lnTo>
                    <a:pt x="1478" y="1396"/>
                  </a:lnTo>
                  <a:lnTo>
                    <a:pt x="1447" y="1331"/>
                  </a:lnTo>
                  <a:lnTo>
                    <a:pt x="1413" y="1269"/>
                  </a:lnTo>
                  <a:lnTo>
                    <a:pt x="1375" y="1209"/>
                  </a:lnTo>
                  <a:lnTo>
                    <a:pt x="1335" y="1151"/>
                  </a:lnTo>
                  <a:lnTo>
                    <a:pt x="1291" y="1098"/>
                  </a:lnTo>
                  <a:lnTo>
                    <a:pt x="1246" y="1045"/>
                  </a:lnTo>
                  <a:lnTo>
                    <a:pt x="1197" y="996"/>
                  </a:lnTo>
                  <a:lnTo>
                    <a:pt x="1148" y="950"/>
                  </a:lnTo>
                  <a:lnTo>
                    <a:pt x="1098" y="907"/>
                  </a:lnTo>
                  <a:lnTo>
                    <a:pt x="1046" y="866"/>
                  </a:lnTo>
                  <a:lnTo>
                    <a:pt x="994" y="828"/>
                  </a:lnTo>
                  <a:lnTo>
                    <a:pt x="940" y="793"/>
                  </a:lnTo>
                  <a:lnTo>
                    <a:pt x="886" y="762"/>
                  </a:lnTo>
                  <a:lnTo>
                    <a:pt x="833" y="733"/>
                  </a:lnTo>
                  <a:lnTo>
                    <a:pt x="780" y="707"/>
                  </a:lnTo>
                  <a:lnTo>
                    <a:pt x="728" y="685"/>
                  </a:lnTo>
                  <a:lnTo>
                    <a:pt x="676" y="665"/>
                  </a:lnTo>
                  <a:lnTo>
                    <a:pt x="626" y="649"/>
                  </a:lnTo>
                  <a:lnTo>
                    <a:pt x="576" y="635"/>
                  </a:lnTo>
                  <a:lnTo>
                    <a:pt x="530" y="626"/>
                  </a:lnTo>
                  <a:lnTo>
                    <a:pt x="510" y="638"/>
                  </a:lnTo>
                  <a:lnTo>
                    <a:pt x="492" y="649"/>
                  </a:lnTo>
                  <a:lnTo>
                    <a:pt x="474" y="661"/>
                  </a:lnTo>
                  <a:lnTo>
                    <a:pt x="458" y="673"/>
                  </a:lnTo>
                  <a:lnTo>
                    <a:pt x="444" y="685"/>
                  </a:lnTo>
                  <a:lnTo>
                    <a:pt x="432" y="697"/>
                  </a:lnTo>
                  <a:lnTo>
                    <a:pt x="420" y="708"/>
                  </a:lnTo>
                  <a:lnTo>
                    <a:pt x="409" y="720"/>
                  </a:lnTo>
                  <a:lnTo>
                    <a:pt x="391" y="743"/>
                  </a:lnTo>
                  <a:lnTo>
                    <a:pt x="375" y="766"/>
                  </a:lnTo>
                  <a:lnTo>
                    <a:pt x="360" y="789"/>
                  </a:lnTo>
                  <a:lnTo>
                    <a:pt x="347" y="811"/>
                  </a:lnTo>
                  <a:lnTo>
                    <a:pt x="334" y="834"/>
                  </a:lnTo>
                  <a:lnTo>
                    <a:pt x="320" y="855"/>
                  </a:lnTo>
                  <a:lnTo>
                    <a:pt x="305" y="878"/>
                  </a:lnTo>
                  <a:lnTo>
                    <a:pt x="287" y="899"/>
                  </a:lnTo>
                  <a:lnTo>
                    <a:pt x="277" y="910"/>
                  </a:lnTo>
                  <a:lnTo>
                    <a:pt x="265" y="921"/>
                  </a:lnTo>
                  <a:lnTo>
                    <a:pt x="253" y="931"/>
                  </a:lnTo>
                  <a:lnTo>
                    <a:pt x="240" y="942"/>
                  </a:lnTo>
                  <a:lnTo>
                    <a:pt x="226" y="952"/>
                  </a:lnTo>
                  <a:lnTo>
                    <a:pt x="210" y="963"/>
                  </a:lnTo>
                  <a:lnTo>
                    <a:pt x="192" y="973"/>
                  </a:lnTo>
                  <a:lnTo>
                    <a:pt x="173" y="983"/>
                  </a:lnTo>
                  <a:lnTo>
                    <a:pt x="196" y="996"/>
                  </a:lnTo>
                  <a:lnTo>
                    <a:pt x="218" y="1009"/>
                  </a:lnTo>
                  <a:lnTo>
                    <a:pt x="242" y="1019"/>
                  </a:lnTo>
                  <a:lnTo>
                    <a:pt x="265" y="1029"/>
                  </a:lnTo>
                  <a:lnTo>
                    <a:pt x="290" y="1038"/>
                  </a:lnTo>
                  <a:lnTo>
                    <a:pt x="315" y="1046"/>
                  </a:lnTo>
                  <a:lnTo>
                    <a:pt x="339" y="1053"/>
                  </a:lnTo>
                  <a:lnTo>
                    <a:pt x="365" y="1059"/>
                  </a:lnTo>
                  <a:lnTo>
                    <a:pt x="391" y="1064"/>
                  </a:lnTo>
                  <a:lnTo>
                    <a:pt x="418" y="1068"/>
                  </a:lnTo>
                  <a:lnTo>
                    <a:pt x="443" y="1071"/>
                  </a:lnTo>
                  <a:lnTo>
                    <a:pt x="470" y="1074"/>
                  </a:lnTo>
                  <a:lnTo>
                    <a:pt x="497" y="1075"/>
                  </a:lnTo>
                  <a:lnTo>
                    <a:pt x="525" y="1075"/>
                  </a:lnTo>
                  <a:lnTo>
                    <a:pt x="552" y="1075"/>
                  </a:lnTo>
                  <a:lnTo>
                    <a:pt x="580" y="1074"/>
                  </a:lnTo>
                  <a:lnTo>
                    <a:pt x="607" y="1072"/>
                  </a:lnTo>
                  <a:lnTo>
                    <a:pt x="635" y="1069"/>
                  </a:lnTo>
                  <a:lnTo>
                    <a:pt x="663" y="1065"/>
                  </a:lnTo>
                  <a:lnTo>
                    <a:pt x="691" y="1061"/>
                  </a:lnTo>
                  <a:lnTo>
                    <a:pt x="719" y="1056"/>
                  </a:lnTo>
                  <a:lnTo>
                    <a:pt x="748" y="1049"/>
                  </a:lnTo>
                  <a:lnTo>
                    <a:pt x="776" y="1043"/>
                  </a:lnTo>
                  <a:lnTo>
                    <a:pt x="804" y="1035"/>
                  </a:lnTo>
                  <a:lnTo>
                    <a:pt x="832" y="1027"/>
                  </a:lnTo>
                  <a:lnTo>
                    <a:pt x="859" y="1017"/>
                  </a:lnTo>
                  <a:lnTo>
                    <a:pt x="887" y="1008"/>
                  </a:lnTo>
                  <a:lnTo>
                    <a:pt x="915" y="998"/>
                  </a:lnTo>
                  <a:lnTo>
                    <a:pt x="943" y="986"/>
                  </a:lnTo>
                  <a:lnTo>
                    <a:pt x="971" y="974"/>
                  </a:lnTo>
                  <a:lnTo>
                    <a:pt x="998" y="961"/>
                  </a:lnTo>
                  <a:lnTo>
                    <a:pt x="1026" y="949"/>
                  </a:lnTo>
                  <a:lnTo>
                    <a:pt x="1000" y="979"/>
                  </a:lnTo>
                  <a:lnTo>
                    <a:pt x="973" y="1005"/>
                  </a:lnTo>
                  <a:lnTo>
                    <a:pt x="945" y="1031"/>
                  </a:lnTo>
                  <a:lnTo>
                    <a:pt x="916" y="1056"/>
                  </a:lnTo>
                  <a:lnTo>
                    <a:pt x="885" y="1078"/>
                  </a:lnTo>
                  <a:lnTo>
                    <a:pt x="853" y="1099"/>
                  </a:lnTo>
                  <a:lnTo>
                    <a:pt x="820" y="1118"/>
                  </a:lnTo>
                  <a:lnTo>
                    <a:pt x="787" y="1135"/>
                  </a:lnTo>
                  <a:lnTo>
                    <a:pt x="752" y="1151"/>
                  </a:lnTo>
                  <a:lnTo>
                    <a:pt x="717" y="1165"/>
                  </a:lnTo>
                  <a:lnTo>
                    <a:pt x="681" y="1178"/>
                  </a:lnTo>
                  <a:lnTo>
                    <a:pt x="645" y="1190"/>
                  </a:lnTo>
                  <a:lnTo>
                    <a:pt x="608" y="1200"/>
                  </a:lnTo>
                  <a:lnTo>
                    <a:pt x="571" y="1208"/>
                  </a:lnTo>
                  <a:lnTo>
                    <a:pt x="534" y="1215"/>
                  </a:lnTo>
                  <a:lnTo>
                    <a:pt x="498" y="1220"/>
                  </a:lnTo>
                  <a:lnTo>
                    <a:pt x="460" y="1224"/>
                  </a:lnTo>
                  <a:lnTo>
                    <a:pt x="424" y="1226"/>
                  </a:lnTo>
                  <a:lnTo>
                    <a:pt x="388" y="1229"/>
                  </a:lnTo>
                  <a:lnTo>
                    <a:pt x="352" y="1229"/>
                  </a:lnTo>
                  <a:lnTo>
                    <a:pt x="317" y="1226"/>
                  </a:lnTo>
                  <a:lnTo>
                    <a:pt x="282" y="1224"/>
                  </a:lnTo>
                  <a:lnTo>
                    <a:pt x="249" y="1220"/>
                  </a:lnTo>
                  <a:lnTo>
                    <a:pt x="216" y="1216"/>
                  </a:lnTo>
                  <a:lnTo>
                    <a:pt x="184" y="1209"/>
                  </a:lnTo>
                  <a:lnTo>
                    <a:pt x="154" y="1202"/>
                  </a:lnTo>
                  <a:lnTo>
                    <a:pt x="124" y="1193"/>
                  </a:lnTo>
                  <a:lnTo>
                    <a:pt x="96" y="1183"/>
                  </a:lnTo>
                  <a:lnTo>
                    <a:pt x="70" y="1172"/>
                  </a:lnTo>
                  <a:lnTo>
                    <a:pt x="44" y="1160"/>
                  </a:lnTo>
                  <a:lnTo>
                    <a:pt x="22" y="1147"/>
                  </a:lnTo>
                  <a:lnTo>
                    <a:pt x="0" y="1133"/>
                  </a:lnTo>
                  <a:lnTo>
                    <a:pt x="0" y="4468"/>
                  </a:lnTo>
                  <a:lnTo>
                    <a:pt x="49" y="4500"/>
                  </a:lnTo>
                  <a:lnTo>
                    <a:pt x="96" y="4534"/>
                  </a:lnTo>
                  <a:lnTo>
                    <a:pt x="140" y="4569"/>
                  </a:lnTo>
                  <a:lnTo>
                    <a:pt x="183" y="4607"/>
                  </a:lnTo>
                  <a:lnTo>
                    <a:pt x="225" y="4645"/>
                  </a:lnTo>
                  <a:lnTo>
                    <a:pt x="264" y="4685"/>
                  </a:lnTo>
                  <a:lnTo>
                    <a:pt x="302" y="4727"/>
                  </a:lnTo>
                  <a:lnTo>
                    <a:pt x="338" y="4770"/>
                  </a:lnTo>
                  <a:lnTo>
                    <a:pt x="373" y="4814"/>
                  </a:lnTo>
                  <a:lnTo>
                    <a:pt x="407" y="4859"/>
                  </a:lnTo>
                  <a:lnTo>
                    <a:pt x="438" y="4906"/>
                  </a:lnTo>
                  <a:lnTo>
                    <a:pt x="469" y="4953"/>
                  </a:lnTo>
                  <a:lnTo>
                    <a:pt x="499" y="5001"/>
                  </a:lnTo>
                  <a:lnTo>
                    <a:pt x="527" y="5052"/>
                  </a:lnTo>
                  <a:lnTo>
                    <a:pt x="554" y="5102"/>
                  </a:lnTo>
                  <a:lnTo>
                    <a:pt x="581" y="5154"/>
                  </a:lnTo>
                  <a:lnTo>
                    <a:pt x="605" y="5205"/>
                  </a:lnTo>
                  <a:lnTo>
                    <a:pt x="630" y="5259"/>
                  </a:lnTo>
                  <a:lnTo>
                    <a:pt x="654" y="5312"/>
                  </a:lnTo>
                  <a:lnTo>
                    <a:pt x="676" y="5367"/>
                  </a:lnTo>
                  <a:lnTo>
                    <a:pt x="697" y="5422"/>
                  </a:lnTo>
                  <a:lnTo>
                    <a:pt x="719" y="5476"/>
                  </a:lnTo>
                  <a:lnTo>
                    <a:pt x="739" y="5532"/>
                  </a:lnTo>
                  <a:lnTo>
                    <a:pt x="760" y="5589"/>
                  </a:lnTo>
                  <a:lnTo>
                    <a:pt x="798" y="5703"/>
                  </a:lnTo>
                  <a:lnTo>
                    <a:pt x="837" y="5816"/>
                  </a:lnTo>
                  <a:lnTo>
                    <a:pt x="873" y="5931"/>
                  </a:lnTo>
                  <a:lnTo>
                    <a:pt x="910" y="6046"/>
                  </a:lnTo>
                  <a:lnTo>
                    <a:pt x="938" y="6134"/>
                  </a:lnTo>
                  <a:lnTo>
                    <a:pt x="963" y="6224"/>
                  </a:lnTo>
                  <a:lnTo>
                    <a:pt x="987" y="6315"/>
                  </a:lnTo>
                  <a:lnTo>
                    <a:pt x="1011" y="6408"/>
                  </a:lnTo>
                  <a:lnTo>
                    <a:pt x="1032" y="6503"/>
                  </a:lnTo>
                  <a:lnTo>
                    <a:pt x="1054" y="6598"/>
                  </a:lnTo>
                  <a:lnTo>
                    <a:pt x="1074" y="6695"/>
                  </a:lnTo>
                  <a:lnTo>
                    <a:pt x="1094" y="6791"/>
                  </a:lnTo>
                  <a:lnTo>
                    <a:pt x="1134" y="6985"/>
                  </a:lnTo>
                  <a:lnTo>
                    <a:pt x="1174" y="7177"/>
                  </a:lnTo>
                  <a:lnTo>
                    <a:pt x="1195" y="7273"/>
                  </a:lnTo>
                  <a:lnTo>
                    <a:pt x="1217" y="7366"/>
                  </a:lnTo>
                  <a:lnTo>
                    <a:pt x="1238" y="7459"/>
                  </a:lnTo>
                  <a:lnTo>
                    <a:pt x="1262" y="7549"/>
                  </a:lnTo>
                  <a:lnTo>
                    <a:pt x="1270" y="7578"/>
                  </a:lnTo>
                  <a:lnTo>
                    <a:pt x="1280" y="7605"/>
                  </a:lnTo>
                  <a:lnTo>
                    <a:pt x="1291" y="7632"/>
                  </a:lnTo>
                  <a:lnTo>
                    <a:pt x="1303" y="7658"/>
                  </a:lnTo>
                  <a:lnTo>
                    <a:pt x="1316" y="7682"/>
                  </a:lnTo>
                  <a:lnTo>
                    <a:pt x="1331" y="7706"/>
                  </a:lnTo>
                  <a:lnTo>
                    <a:pt x="1347" y="7728"/>
                  </a:lnTo>
                  <a:lnTo>
                    <a:pt x="1365" y="7750"/>
                  </a:lnTo>
                  <a:lnTo>
                    <a:pt x="1383" y="7771"/>
                  </a:lnTo>
                  <a:lnTo>
                    <a:pt x="1402" y="7791"/>
                  </a:lnTo>
                  <a:lnTo>
                    <a:pt x="1423" y="7809"/>
                  </a:lnTo>
                  <a:lnTo>
                    <a:pt x="1445" y="7827"/>
                  </a:lnTo>
                  <a:lnTo>
                    <a:pt x="1468" y="7844"/>
                  </a:lnTo>
                  <a:lnTo>
                    <a:pt x="1492" y="7860"/>
                  </a:lnTo>
                  <a:lnTo>
                    <a:pt x="1518" y="7875"/>
                  </a:lnTo>
                  <a:lnTo>
                    <a:pt x="1545" y="7890"/>
                  </a:lnTo>
                  <a:lnTo>
                    <a:pt x="1573" y="7903"/>
                  </a:lnTo>
                  <a:lnTo>
                    <a:pt x="1602" y="7916"/>
                  </a:lnTo>
                  <a:lnTo>
                    <a:pt x="1633" y="7928"/>
                  </a:lnTo>
                  <a:lnTo>
                    <a:pt x="1664" y="7939"/>
                  </a:lnTo>
                  <a:lnTo>
                    <a:pt x="1697" y="7949"/>
                  </a:lnTo>
                  <a:lnTo>
                    <a:pt x="1731" y="7958"/>
                  </a:lnTo>
                  <a:lnTo>
                    <a:pt x="1767" y="7966"/>
                  </a:lnTo>
                  <a:lnTo>
                    <a:pt x="1803" y="7975"/>
                  </a:lnTo>
                  <a:lnTo>
                    <a:pt x="1842" y="7981"/>
                  </a:lnTo>
                  <a:lnTo>
                    <a:pt x="1880" y="7988"/>
                  </a:lnTo>
                  <a:lnTo>
                    <a:pt x="1921" y="7993"/>
                  </a:lnTo>
                  <a:lnTo>
                    <a:pt x="1963" y="7998"/>
                  </a:lnTo>
                  <a:lnTo>
                    <a:pt x="2006" y="8002"/>
                  </a:lnTo>
                  <a:lnTo>
                    <a:pt x="2050" y="8005"/>
                  </a:lnTo>
                  <a:lnTo>
                    <a:pt x="2096" y="8008"/>
                  </a:lnTo>
                  <a:lnTo>
                    <a:pt x="2143" y="8010"/>
                  </a:lnTo>
                  <a:lnTo>
                    <a:pt x="2222" y="8013"/>
                  </a:lnTo>
                  <a:lnTo>
                    <a:pt x="2297" y="8014"/>
                  </a:lnTo>
                  <a:lnTo>
                    <a:pt x="2370" y="8014"/>
                  </a:lnTo>
                  <a:lnTo>
                    <a:pt x="2439" y="8011"/>
                  </a:lnTo>
                  <a:lnTo>
                    <a:pt x="2506" y="8008"/>
                  </a:lnTo>
                  <a:lnTo>
                    <a:pt x="2570" y="8003"/>
                  </a:lnTo>
                  <a:lnTo>
                    <a:pt x="2633" y="7996"/>
                  </a:lnTo>
                  <a:lnTo>
                    <a:pt x="2693" y="7988"/>
                  </a:lnTo>
                  <a:lnTo>
                    <a:pt x="2752" y="7978"/>
                  </a:lnTo>
                  <a:lnTo>
                    <a:pt x="2810" y="7966"/>
                  </a:lnTo>
                  <a:lnTo>
                    <a:pt x="2867" y="7954"/>
                  </a:lnTo>
                  <a:lnTo>
                    <a:pt x="2923" y="7939"/>
                  </a:lnTo>
                  <a:lnTo>
                    <a:pt x="2978" y="7921"/>
                  </a:lnTo>
                  <a:lnTo>
                    <a:pt x="3032" y="7902"/>
                  </a:lnTo>
                  <a:lnTo>
                    <a:pt x="3087" y="7882"/>
                  </a:lnTo>
                  <a:lnTo>
                    <a:pt x="3142" y="7859"/>
                  </a:lnTo>
                  <a:lnTo>
                    <a:pt x="3196" y="7836"/>
                  </a:lnTo>
                  <a:lnTo>
                    <a:pt x="3252" y="7809"/>
                  </a:lnTo>
                  <a:lnTo>
                    <a:pt x="3308" y="7781"/>
                  </a:lnTo>
                  <a:lnTo>
                    <a:pt x="3366" y="7751"/>
                  </a:lnTo>
                  <a:lnTo>
                    <a:pt x="3424" y="7719"/>
                  </a:lnTo>
                  <a:lnTo>
                    <a:pt x="3484" y="7684"/>
                  </a:lnTo>
                  <a:lnTo>
                    <a:pt x="3546" y="7648"/>
                  </a:lnTo>
                  <a:lnTo>
                    <a:pt x="3609" y="7609"/>
                  </a:lnTo>
                  <a:lnTo>
                    <a:pt x="3744" y="7526"/>
                  </a:lnTo>
                  <a:lnTo>
                    <a:pt x="3890" y="7433"/>
                  </a:lnTo>
                  <a:lnTo>
                    <a:pt x="4049" y="7332"/>
                  </a:lnTo>
                  <a:lnTo>
                    <a:pt x="4223" y="7221"/>
                  </a:lnTo>
                  <a:lnTo>
                    <a:pt x="4238" y="7210"/>
                  </a:lnTo>
                  <a:lnTo>
                    <a:pt x="4254" y="7200"/>
                  </a:lnTo>
                  <a:lnTo>
                    <a:pt x="4270" y="7187"/>
                  </a:lnTo>
                  <a:lnTo>
                    <a:pt x="4286" y="7174"/>
                  </a:lnTo>
                  <a:lnTo>
                    <a:pt x="4318" y="7146"/>
                  </a:lnTo>
                  <a:lnTo>
                    <a:pt x="4350" y="7114"/>
                  </a:lnTo>
                  <a:lnTo>
                    <a:pt x="4384" y="7081"/>
                  </a:lnTo>
                  <a:lnTo>
                    <a:pt x="4416" y="7045"/>
                  </a:lnTo>
                  <a:lnTo>
                    <a:pt x="4449" y="7010"/>
                  </a:lnTo>
                  <a:lnTo>
                    <a:pt x="4483" y="6972"/>
                  </a:lnTo>
                  <a:lnTo>
                    <a:pt x="4517" y="6936"/>
                  </a:lnTo>
                  <a:lnTo>
                    <a:pt x="4550" y="6899"/>
                  </a:lnTo>
                  <a:lnTo>
                    <a:pt x="4584" y="6864"/>
                  </a:lnTo>
                  <a:lnTo>
                    <a:pt x="4617" y="6830"/>
                  </a:lnTo>
                  <a:lnTo>
                    <a:pt x="4652" y="6798"/>
                  </a:lnTo>
                  <a:lnTo>
                    <a:pt x="4685" y="6769"/>
                  </a:lnTo>
                  <a:lnTo>
                    <a:pt x="4702" y="6755"/>
                  </a:lnTo>
                  <a:lnTo>
                    <a:pt x="4718" y="6743"/>
                  </a:lnTo>
                  <a:lnTo>
                    <a:pt x="4735" y="6731"/>
                  </a:lnTo>
                  <a:lnTo>
                    <a:pt x="4753" y="6720"/>
                  </a:lnTo>
                  <a:lnTo>
                    <a:pt x="4772" y="6710"/>
                  </a:lnTo>
                  <a:lnTo>
                    <a:pt x="4791" y="6699"/>
                  </a:lnTo>
                  <a:lnTo>
                    <a:pt x="4812" y="6686"/>
                  </a:lnTo>
                  <a:lnTo>
                    <a:pt x="4831" y="6673"/>
                  </a:lnTo>
                  <a:lnTo>
                    <a:pt x="4850" y="6659"/>
                  </a:lnTo>
                  <a:lnTo>
                    <a:pt x="4871" y="6644"/>
                  </a:lnTo>
                  <a:lnTo>
                    <a:pt x="4890" y="6629"/>
                  </a:lnTo>
                  <a:lnTo>
                    <a:pt x="4910" y="6612"/>
                  </a:lnTo>
                  <a:lnTo>
                    <a:pt x="4930" y="6596"/>
                  </a:lnTo>
                  <a:lnTo>
                    <a:pt x="4949" y="6578"/>
                  </a:lnTo>
                  <a:lnTo>
                    <a:pt x="4968" y="6559"/>
                  </a:lnTo>
                  <a:lnTo>
                    <a:pt x="4986" y="6541"/>
                  </a:lnTo>
                  <a:lnTo>
                    <a:pt x="5006" y="6522"/>
                  </a:lnTo>
                  <a:lnTo>
                    <a:pt x="5024" y="6502"/>
                  </a:lnTo>
                  <a:lnTo>
                    <a:pt x="5041" y="6482"/>
                  </a:lnTo>
                  <a:lnTo>
                    <a:pt x="5059" y="6462"/>
                  </a:lnTo>
                  <a:lnTo>
                    <a:pt x="5077" y="6440"/>
                  </a:lnTo>
                  <a:lnTo>
                    <a:pt x="5093" y="6420"/>
                  </a:lnTo>
                  <a:lnTo>
                    <a:pt x="5109" y="6399"/>
                  </a:lnTo>
                  <a:lnTo>
                    <a:pt x="5124" y="6377"/>
                  </a:lnTo>
                  <a:lnTo>
                    <a:pt x="5139" y="6355"/>
                  </a:lnTo>
                  <a:lnTo>
                    <a:pt x="5154" y="6333"/>
                  </a:lnTo>
                  <a:lnTo>
                    <a:pt x="5167" y="6312"/>
                  </a:lnTo>
                  <a:lnTo>
                    <a:pt x="5179" y="6290"/>
                  </a:lnTo>
                  <a:lnTo>
                    <a:pt x="5192" y="6268"/>
                  </a:lnTo>
                  <a:lnTo>
                    <a:pt x="5203" y="6246"/>
                  </a:lnTo>
                  <a:lnTo>
                    <a:pt x="5214" y="6225"/>
                  </a:lnTo>
                  <a:lnTo>
                    <a:pt x="5223" y="6203"/>
                  </a:lnTo>
                  <a:lnTo>
                    <a:pt x="5233" y="6182"/>
                  </a:lnTo>
                  <a:lnTo>
                    <a:pt x="5241" y="6162"/>
                  </a:lnTo>
                  <a:lnTo>
                    <a:pt x="5247" y="6141"/>
                  </a:lnTo>
                  <a:lnTo>
                    <a:pt x="5253" y="6121"/>
                  </a:lnTo>
                  <a:lnTo>
                    <a:pt x="5271" y="6073"/>
                  </a:lnTo>
                  <a:lnTo>
                    <a:pt x="5288" y="6024"/>
                  </a:lnTo>
                  <a:lnTo>
                    <a:pt x="5307" y="5975"/>
                  </a:lnTo>
                  <a:lnTo>
                    <a:pt x="5326" y="5925"/>
                  </a:lnTo>
                  <a:lnTo>
                    <a:pt x="5366" y="5823"/>
                  </a:lnTo>
                  <a:lnTo>
                    <a:pt x="5404" y="5719"/>
                  </a:lnTo>
                  <a:lnTo>
                    <a:pt x="5422" y="5666"/>
                  </a:lnTo>
                  <a:lnTo>
                    <a:pt x="5438" y="5614"/>
                  </a:lnTo>
                  <a:lnTo>
                    <a:pt x="5452" y="5560"/>
                  </a:lnTo>
                  <a:lnTo>
                    <a:pt x="5465" y="5507"/>
                  </a:lnTo>
                  <a:lnTo>
                    <a:pt x="5470" y="5481"/>
                  </a:lnTo>
                  <a:lnTo>
                    <a:pt x="5475" y="5454"/>
                  </a:lnTo>
                  <a:lnTo>
                    <a:pt x="5480" y="5426"/>
                  </a:lnTo>
                  <a:lnTo>
                    <a:pt x="5483" y="5399"/>
                  </a:lnTo>
                  <a:lnTo>
                    <a:pt x="5486" y="5372"/>
                  </a:lnTo>
                  <a:lnTo>
                    <a:pt x="5488" y="5345"/>
                  </a:lnTo>
                  <a:lnTo>
                    <a:pt x="5489" y="5319"/>
                  </a:lnTo>
                  <a:lnTo>
                    <a:pt x="5489" y="5292"/>
                  </a:lnTo>
                  <a:lnTo>
                    <a:pt x="5576" y="5182"/>
                  </a:lnTo>
                  <a:close/>
                </a:path>
              </a:pathLst>
            </a:custGeom>
            <a:solidFill>
              <a:srgbClr val="ffb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43440" y="2614680"/>
              <a:ext cx="1191960" cy="1271520"/>
            </a:xfrm>
            <a:custGeom>
              <a:avLst/>
              <a:gdLst/>
              <a:ahLst/>
              <a:rect l="l" t="t" r="r" b="b"/>
              <a:pathLst>
                <a:path w="6930" h="8014">
                  <a:moveTo>
                    <a:pt x="5576" y="5182"/>
                  </a:moveTo>
                  <a:lnTo>
                    <a:pt x="5582" y="5184"/>
                  </a:lnTo>
                  <a:lnTo>
                    <a:pt x="5588" y="5187"/>
                  </a:lnTo>
                  <a:lnTo>
                    <a:pt x="5595" y="5192"/>
                  </a:lnTo>
                  <a:lnTo>
                    <a:pt x="5602" y="5200"/>
                  </a:lnTo>
                  <a:lnTo>
                    <a:pt x="5617" y="5217"/>
                  </a:lnTo>
                  <a:lnTo>
                    <a:pt x="5633" y="5237"/>
                  </a:lnTo>
                  <a:lnTo>
                    <a:pt x="5649" y="5256"/>
                  </a:lnTo>
                  <a:lnTo>
                    <a:pt x="5665" y="5275"/>
                  </a:lnTo>
                  <a:lnTo>
                    <a:pt x="5672" y="5281"/>
                  </a:lnTo>
                  <a:lnTo>
                    <a:pt x="5679" y="5286"/>
                  </a:lnTo>
                  <a:lnTo>
                    <a:pt x="5686" y="5291"/>
                  </a:lnTo>
                  <a:lnTo>
                    <a:pt x="5691" y="5292"/>
                  </a:lnTo>
                  <a:lnTo>
                    <a:pt x="5721" y="5305"/>
                  </a:lnTo>
                  <a:lnTo>
                    <a:pt x="5752" y="5315"/>
                  </a:lnTo>
                  <a:lnTo>
                    <a:pt x="5782" y="5324"/>
                  </a:lnTo>
                  <a:lnTo>
                    <a:pt x="5812" y="5330"/>
                  </a:lnTo>
                  <a:lnTo>
                    <a:pt x="5842" y="5334"/>
                  </a:lnTo>
                  <a:lnTo>
                    <a:pt x="5873" y="5336"/>
                  </a:lnTo>
                  <a:lnTo>
                    <a:pt x="5902" y="5335"/>
                  </a:lnTo>
                  <a:lnTo>
                    <a:pt x="5932" y="5332"/>
                  </a:lnTo>
                  <a:lnTo>
                    <a:pt x="5961" y="5327"/>
                  </a:lnTo>
                  <a:lnTo>
                    <a:pt x="5990" y="5320"/>
                  </a:lnTo>
                  <a:lnTo>
                    <a:pt x="6019" y="5311"/>
                  </a:lnTo>
                  <a:lnTo>
                    <a:pt x="6047" y="5300"/>
                  </a:lnTo>
                  <a:lnTo>
                    <a:pt x="6074" y="5288"/>
                  </a:lnTo>
                  <a:lnTo>
                    <a:pt x="6101" y="5274"/>
                  </a:lnTo>
                  <a:lnTo>
                    <a:pt x="6126" y="5258"/>
                  </a:lnTo>
                  <a:lnTo>
                    <a:pt x="6152" y="5239"/>
                  </a:lnTo>
                  <a:lnTo>
                    <a:pt x="6177" y="5220"/>
                  </a:lnTo>
                  <a:lnTo>
                    <a:pt x="6200" y="5200"/>
                  </a:lnTo>
                  <a:lnTo>
                    <a:pt x="6223" y="5177"/>
                  </a:lnTo>
                  <a:lnTo>
                    <a:pt x="6244" y="5152"/>
                  </a:lnTo>
                  <a:lnTo>
                    <a:pt x="6265" y="5128"/>
                  </a:lnTo>
                  <a:lnTo>
                    <a:pt x="6284" y="5101"/>
                  </a:lnTo>
                  <a:lnTo>
                    <a:pt x="6302" y="5073"/>
                  </a:lnTo>
                  <a:lnTo>
                    <a:pt x="6320" y="5044"/>
                  </a:lnTo>
                  <a:lnTo>
                    <a:pt x="6336" y="5013"/>
                  </a:lnTo>
                  <a:lnTo>
                    <a:pt x="6350" y="4982"/>
                  </a:lnTo>
                  <a:lnTo>
                    <a:pt x="6364" y="4950"/>
                  </a:lnTo>
                  <a:lnTo>
                    <a:pt x="6374" y="4915"/>
                  </a:lnTo>
                  <a:lnTo>
                    <a:pt x="6385" y="4881"/>
                  </a:lnTo>
                  <a:lnTo>
                    <a:pt x="6394" y="4846"/>
                  </a:lnTo>
                  <a:lnTo>
                    <a:pt x="6400" y="4810"/>
                  </a:lnTo>
                  <a:lnTo>
                    <a:pt x="6405" y="4773"/>
                  </a:lnTo>
                  <a:lnTo>
                    <a:pt x="6430" y="4745"/>
                  </a:lnTo>
                  <a:lnTo>
                    <a:pt x="6455" y="4715"/>
                  </a:lnTo>
                  <a:lnTo>
                    <a:pt x="6478" y="4683"/>
                  </a:lnTo>
                  <a:lnTo>
                    <a:pt x="6502" y="4649"/>
                  </a:lnTo>
                  <a:lnTo>
                    <a:pt x="6524" y="4615"/>
                  </a:lnTo>
                  <a:lnTo>
                    <a:pt x="6547" y="4579"/>
                  </a:lnTo>
                  <a:lnTo>
                    <a:pt x="6568" y="4541"/>
                  </a:lnTo>
                  <a:lnTo>
                    <a:pt x="6590" y="4503"/>
                  </a:lnTo>
                  <a:lnTo>
                    <a:pt x="6611" y="4463"/>
                  </a:lnTo>
                  <a:lnTo>
                    <a:pt x="6632" y="4421"/>
                  </a:lnTo>
                  <a:lnTo>
                    <a:pt x="6652" y="4378"/>
                  </a:lnTo>
                  <a:lnTo>
                    <a:pt x="6671" y="4335"/>
                  </a:lnTo>
                  <a:lnTo>
                    <a:pt x="6690" y="4290"/>
                  </a:lnTo>
                  <a:lnTo>
                    <a:pt x="6708" y="4244"/>
                  </a:lnTo>
                  <a:lnTo>
                    <a:pt x="6726" y="4198"/>
                  </a:lnTo>
                  <a:lnTo>
                    <a:pt x="6743" y="4151"/>
                  </a:lnTo>
                  <a:lnTo>
                    <a:pt x="6759" y="4103"/>
                  </a:lnTo>
                  <a:lnTo>
                    <a:pt x="6775" y="4053"/>
                  </a:lnTo>
                  <a:lnTo>
                    <a:pt x="6791" y="4003"/>
                  </a:lnTo>
                  <a:lnTo>
                    <a:pt x="6805" y="3952"/>
                  </a:lnTo>
                  <a:lnTo>
                    <a:pt x="6819" y="3902"/>
                  </a:lnTo>
                  <a:lnTo>
                    <a:pt x="6833" y="3849"/>
                  </a:lnTo>
                  <a:lnTo>
                    <a:pt x="6846" y="3798"/>
                  </a:lnTo>
                  <a:lnTo>
                    <a:pt x="6858" y="3745"/>
                  </a:lnTo>
                  <a:lnTo>
                    <a:pt x="6870" y="3693"/>
                  </a:lnTo>
                  <a:lnTo>
                    <a:pt x="6880" y="3639"/>
                  </a:lnTo>
                  <a:lnTo>
                    <a:pt x="6890" y="3586"/>
                  </a:lnTo>
                  <a:lnTo>
                    <a:pt x="6900" y="3532"/>
                  </a:lnTo>
                  <a:lnTo>
                    <a:pt x="6908" y="3478"/>
                  </a:lnTo>
                  <a:lnTo>
                    <a:pt x="6916" y="3424"/>
                  </a:lnTo>
                  <a:lnTo>
                    <a:pt x="6923" y="3370"/>
                  </a:lnTo>
                  <a:lnTo>
                    <a:pt x="6930" y="3315"/>
                  </a:lnTo>
                  <a:lnTo>
                    <a:pt x="6904" y="3336"/>
                  </a:lnTo>
                  <a:lnTo>
                    <a:pt x="6879" y="3355"/>
                  </a:lnTo>
                  <a:lnTo>
                    <a:pt x="6853" y="3373"/>
                  </a:lnTo>
                  <a:lnTo>
                    <a:pt x="6827" y="3392"/>
                  </a:lnTo>
                  <a:lnTo>
                    <a:pt x="6800" y="3409"/>
                  </a:lnTo>
                  <a:lnTo>
                    <a:pt x="6772" y="3425"/>
                  </a:lnTo>
                  <a:lnTo>
                    <a:pt x="6744" y="3441"/>
                  </a:lnTo>
                  <a:lnTo>
                    <a:pt x="6716" y="3456"/>
                  </a:lnTo>
                  <a:lnTo>
                    <a:pt x="6661" y="3485"/>
                  </a:lnTo>
                  <a:lnTo>
                    <a:pt x="6603" y="3513"/>
                  </a:lnTo>
                  <a:lnTo>
                    <a:pt x="6544" y="3538"/>
                  </a:lnTo>
                  <a:lnTo>
                    <a:pt x="6485" y="3564"/>
                  </a:lnTo>
                  <a:lnTo>
                    <a:pt x="6366" y="3615"/>
                  </a:lnTo>
                  <a:lnTo>
                    <a:pt x="6246" y="3665"/>
                  </a:lnTo>
                  <a:lnTo>
                    <a:pt x="6187" y="3692"/>
                  </a:lnTo>
                  <a:lnTo>
                    <a:pt x="6129" y="3720"/>
                  </a:lnTo>
                  <a:lnTo>
                    <a:pt x="6100" y="3735"/>
                  </a:lnTo>
                  <a:lnTo>
                    <a:pt x="6071" y="3750"/>
                  </a:lnTo>
                  <a:lnTo>
                    <a:pt x="6042" y="3766"/>
                  </a:lnTo>
                  <a:lnTo>
                    <a:pt x="6014" y="3783"/>
                  </a:lnTo>
                  <a:lnTo>
                    <a:pt x="6014" y="3815"/>
                  </a:lnTo>
                  <a:lnTo>
                    <a:pt x="6013" y="3848"/>
                  </a:lnTo>
                  <a:lnTo>
                    <a:pt x="6011" y="3879"/>
                  </a:lnTo>
                  <a:lnTo>
                    <a:pt x="6009" y="3911"/>
                  </a:lnTo>
                  <a:lnTo>
                    <a:pt x="6005" y="3941"/>
                  </a:lnTo>
                  <a:lnTo>
                    <a:pt x="6001" y="3971"/>
                  </a:lnTo>
                  <a:lnTo>
                    <a:pt x="5997" y="3999"/>
                  </a:lnTo>
                  <a:lnTo>
                    <a:pt x="5990" y="4025"/>
                  </a:lnTo>
                  <a:lnTo>
                    <a:pt x="5984" y="4052"/>
                  </a:lnTo>
                  <a:lnTo>
                    <a:pt x="5977" y="4077"/>
                  </a:lnTo>
                  <a:lnTo>
                    <a:pt x="5969" y="4100"/>
                  </a:lnTo>
                  <a:lnTo>
                    <a:pt x="5960" y="4123"/>
                  </a:lnTo>
                  <a:lnTo>
                    <a:pt x="5951" y="4144"/>
                  </a:lnTo>
                  <a:lnTo>
                    <a:pt x="5940" y="4164"/>
                  </a:lnTo>
                  <a:lnTo>
                    <a:pt x="5928" y="4183"/>
                  </a:lnTo>
                  <a:lnTo>
                    <a:pt x="5916" y="4199"/>
                  </a:lnTo>
                  <a:lnTo>
                    <a:pt x="5902" y="4215"/>
                  </a:lnTo>
                  <a:lnTo>
                    <a:pt x="5888" y="4228"/>
                  </a:lnTo>
                  <a:lnTo>
                    <a:pt x="5872" y="4240"/>
                  </a:lnTo>
                  <a:lnTo>
                    <a:pt x="5856" y="4251"/>
                  </a:lnTo>
                  <a:lnTo>
                    <a:pt x="5839" y="4259"/>
                  </a:lnTo>
                  <a:lnTo>
                    <a:pt x="5821" y="4266"/>
                  </a:lnTo>
                  <a:lnTo>
                    <a:pt x="5800" y="4270"/>
                  </a:lnTo>
                  <a:lnTo>
                    <a:pt x="5780" y="4272"/>
                  </a:lnTo>
                  <a:lnTo>
                    <a:pt x="5759" y="4273"/>
                  </a:lnTo>
                  <a:lnTo>
                    <a:pt x="5736" y="4272"/>
                  </a:lnTo>
                  <a:lnTo>
                    <a:pt x="5713" y="4268"/>
                  </a:lnTo>
                  <a:lnTo>
                    <a:pt x="5688" y="4261"/>
                  </a:lnTo>
                  <a:lnTo>
                    <a:pt x="5661" y="4254"/>
                  </a:lnTo>
                  <a:lnTo>
                    <a:pt x="5634" y="4243"/>
                  </a:lnTo>
                  <a:lnTo>
                    <a:pt x="5605" y="4230"/>
                  </a:lnTo>
                  <a:lnTo>
                    <a:pt x="5576" y="4214"/>
                  </a:lnTo>
                  <a:lnTo>
                    <a:pt x="5576" y="2705"/>
                  </a:lnTo>
                  <a:lnTo>
                    <a:pt x="5566" y="2692"/>
                  </a:lnTo>
                  <a:lnTo>
                    <a:pt x="5556" y="2678"/>
                  </a:lnTo>
                  <a:lnTo>
                    <a:pt x="5547" y="2664"/>
                  </a:lnTo>
                  <a:lnTo>
                    <a:pt x="5539" y="2649"/>
                  </a:lnTo>
                  <a:lnTo>
                    <a:pt x="5531" y="2636"/>
                  </a:lnTo>
                  <a:lnTo>
                    <a:pt x="5525" y="2620"/>
                  </a:lnTo>
                  <a:lnTo>
                    <a:pt x="5518" y="2607"/>
                  </a:lnTo>
                  <a:lnTo>
                    <a:pt x="5513" y="2592"/>
                  </a:lnTo>
                  <a:lnTo>
                    <a:pt x="5504" y="2562"/>
                  </a:lnTo>
                  <a:lnTo>
                    <a:pt x="5497" y="2530"/>
                  </a:lnTo>
                  <a:lnTo>
                    <a:pt x="5491" y="2499"/>
                  </a:lnTo>
                  <a:lnTo>
                    <a:pt x="5486" y="2468"/>
                  </a:lnTo>
                  <a:lnTo>
                    <a:pt x="5480" y="2404"/>
                  </a:lnTo>
                  <a:lnTo>
                    <a:pt x="5474" y="2337"/>
                  </a:lnTo>
                  <a:lnTo>
                    <a:pt x="5472" y="2304"/>
                  </a:lnTo>
                  <a:lnTo>
                    <a:pt x="5469" y="2271"/>
                  </a:lnTo>
                  <a:lnTo>
                    <a:pt x="5466" y="2238"/>
                  </a:lnTo>
                  <a:lnTo>
                    <a:pt x="5460" y="2204"/>
                  </a:lnTo>
                  <a:lnTo>
                    <a:pt x="5450" y="2154"/>
                  </a:lnTo>
                  <a:lnTo>
                    <a:pt x="5440" y="2103"/>
                  </a:lnTo>
                  <a:lnTo>
                    <a:pt x="5430" y="2051"/>
                  </a:lnTo>
                  <a:lnTo>
                    <a:pt x="5422" y="1998"/>
                  </a:lnTo>
                  <a:lnTo>
                    <a:pt x="5405" y="1893"/>
                  </a:lnTo>
                  <a:lnTo>
                    <a:pt x="5388" y="1787"/>
                  </a:lnTo>
                  <a:lnTo>
                    <a:pt x="5370" y="1680"/>
                  </a:lnTo>
                  <a:lnTo>
                    <a:pt x="5351" y="1575"/>
                  </a:lnTo>
                  <a:lnTo>
                    <a:pt x="5340" y="1521"/>
                  </a:lnTo>
                  <a:lnTo>
                    <a:pt x="5329" y="1470"/>
                  </a:lnTo>
                  <a:lnTo>
                    <a:pt x="5316" y="1417"/>
                  </a:lnTo>
                  <a:lnTo>
                    <a:pt x="5302" y="1366"/>
                  </a:lnTo>
                  <a:lnTo>
                    <a:pt x="5286" y="1315"/>
                  </a:lnTo>
                  <a:lnTo>
                    <a:pt x="5270" y="1266"/>
                  </a:lnTo>
                  <a:lnTo>
                    <a:pt x="5250" y="1217"/>
                  </a:lnTo>
                  <a:lnTo>
                    <a:pt x="5230" y="1168"/>
                  </a:lnTo>
                  <a:lnTo>
                    <a:pt x="5208" y="1120"/>
                  </a:lnTo>
                  <a:lnTo>
                    <a:pt x="5184" y="1074"/>
                  </a:lnTo>
                  <a:lnTo>
                    <a:pt x="5157" y="1029"/>
                  </a:lnTo>
                  <a:lnTo>
                    <a:pt x="5128" y="985"/>
                  </a:lnTo>
                  <a:lnTo>
                    <a:pt x="5096" y="942"/>
                  </a:lnTo>
                  <a:lnTo>
                    <a:pt x="5062" y="900"/>
                  </a:lnTo>
                  <a:lnTo>
                    <a:pt x="5025" y="860"/>
                  </a:lnTo>
                  <a:lnTo>
                    <a:pt x="4985" y="821"/>
                  </a:lnTo>
                  <a:lnTo>
                    <a:pt x="4941" y="785"/>
                  </a:lnTo>
                  <a:lnTo>
                    <a:pt x="4895" y="749"/>
                  </a:lnTo>
                  <a:lnTo>
                    <a:pt x="4846" y="716"/>
                  </a:lnTo>
                  <a:lnTo>
                    <a:pt x="4792" y="684"/>
                  </a:lnTo>
                  <a:lnTo>
                    <a:pt x="4691" y="630"/>
                  </a:lnTo>
                  <a:lnTo>
                    <a:pt x="4587" y="575"/>
                  </a:lnTo>
                  <a:lnTo>
                    <a:pt x="4481" y="522"/>
                  </a:lnTo>
                  <a:lnTo>
                    <a:pt x="4372" y="468"/>
                  </a:lnTo>
                  <a:lnTo>
                    <a:pt x="4317" y="441"/>
                  </a:lnTo>
                  <a:lnTo>
                    <a:pt x="4261" y="416"/>
                  </a:lnTo>
                  <a:lnTo>
                    <a:pt x="4205" y="391"/>
                  </a:lnTo>
                  <a:lnTo>
                    <a:pt x="4148" y="366"/>
                  </a:lnTo>
                  <a:lnTo>
                    <a:pt x="4090" y="343"/>
                  </a:lnTo>
                  <a:lnTo>
                    <a:pt x="4032" y="320"/>
                  </a:lnTo>
                  <a:lnTo>
                    <a:pt x="3974" y="299"/>
                  </a:lnTo>
                  <a:lnTo>
                    <a:pt x="3915" y="277"/>
                  </a:lnTo>
                  <a:lnTo>
                    <a:pt x="3856" y="258"/>
                  </a:lnTo>
                  <a:lnTo>
                    <a:pt x="3796" y="241"/>
                  </a:lnTo>
                  <a:lnTo>
                    <a:pt x="3736" y="224"/>
                  </a:lnTo>
                  <a:lnTo>
                    <a:pt x="3676" y="209"/>
                  </a:lnTo>
                  <a:lnTo>
                    <a:pt x="3616" y="195"/>
                  </a:lnTo>
                  <a:lnTo>
                    <a:pt x="3555" y="183"/>
                  </a:lnTo>
                  <a:lnTo>
                    <a:pt x="3494" y="173"/>
                  </a:lnTo>
                  <a:lnTo>
                    <a:pt x="3432" y="166"/>
                  </a:lnTo>
                  <a:lnTo>
                    <a:pt x="3371" y="159"/>
                  </a:lnTo>
                  <a:lnTo>
                    <a:pt x="3309" y="156"/>
                  </a:lnTo>
                  <a:lnTo>
                    <a:pt x="3248" y="154"/>
                  </a:lnTo>
                  <a:lnTo>
                    <a:pt x="3186" y="155"/>
                  </a:lnTo>
                  <a:lnTo>
                    <a:pt x="3123" y="158"/>
                  </a:lnTo>
                  <a:lnTo>
                    <a:pt x="3062" y="164"/>
                  </a:lnTo>
                  <a:lnTo>
                    <a:pt x="3000" y="172"/>
                  </a:lnTo>
                  <a:lnTo>
                    <a:pt x="2938" y="183"/>
                  </a:lnTo>
                  <a:lnTo>
                    <a:pt x="2895" y="194"/>
                  </a:lnTo>
                  <a:lnTo>
                    <a:pt x="2855" y="209"/>
                  </a:lnTo>
                  <a:lnTo>
                    <a:pt x="2819" y="228"/>
                  </a:lnTo>
                  <a:lnTo>
                    <a:pt x="2786" y="249"/>
                  </a:lnTo>
                  <a:lnTo>
                    <a:pt x="2756" y="274"/>
                  </a:lnTo>
                  <a:lnTo>
                    <a:pt x="2728" y="303"/>
                  </a:lnTo>
                  <a:lnTo>
                    <a:pt x="2702" y="334"/>
                  </a:lnTo>
                  <a:lnTo>
                    <a:pt x="2679" y="367"/>
                  </a:lnTo>
                  <a:lnTo>
                    <a:pt x="2660" y="403"/>
                  </a:lnTo>
                  <a:lnTo>
                    <a:pt x="2642" y="441"/>
                  </a:lnTo>
                  <a:lnTo>
                    <a:pt x="2627" y="481"/>
                  </a:lnTo>
                  <a:lnTo>
                    <a:pt x="2614" y="524"/>
                  </a:lnTo>
                  <a:lnTo>
                    <a:pt x="2603" y="567"/>
                  </a:lnTo>
                  <a:lnTo>
                    <a:pt x="2595" y="612"/>
                  </a:lnTo>
                  <a:lnTo>
                    <a:pt x="2587" y="658"/>
                  </a:lnTo>
                  <a:lnTo>
                    <a:pt x="2582" y="705"/>
                  </a:lnTo>
                  <a:lnTo>
                    <a:pt x="2579" y="752"/>
                  </a:lnTo>
                  <a:lnTo>
                    <a:pt x="2577" y="801"/>
                  </a:lnTo>
                  <a:lnTo>
                    <a:pt x="2577" y="849"/>
                  </a:lnTo>
                  <a:lnTo>
                    <a:pt x="2578" y="898"/>
                  </a:lnTo>
                  <a:lnTo>
                    <a:pt x="2580" y="946"/>
                  </a:lnTo>
                  <a:lnTo>
                    <a:pt x="2584" y="996"/>
                  </a:lnTo>
                  <a:lnTo>
                    <a:pt x="2588" y="1043"/>
                  </a:lnTo>
                  <a:lnTo>
                    <a:pt x="2595" y="1090"/>
                  </a:lnTo>
                  <a:lnTo>
                    <a:pt x="2601" y="1137"/>
                  </a:lnTo>
                  <a:lnTo>
                    <a:pt x="2609" y="1182"/>
                  </a:lnTo>
                  <a:lnTo>
                    <a:pt x="2617" y="1226"/>
                  </a:lnTo>
                  <a:lnTo>
                    <a:pt x="2626" y="1269"/>
                  </a:lnTo>
                  <a:lnTo>
                    <a:pt x="2636" y="1310"/>
                  </a:lnTo>
                  <a:lnTo>
                    <a:pt x="2646" y="1350"/>
                  </a:lnTo>
                  <a:lnTo>
                    <a:pt x="2656" y="1386"/>
                  </a:lnTo>
                  <a:lnTo>
                    <a:pt x="2667" y="1422"/>
                  </a:lnTo>
                  <a:lnTo>
                    <a:pt x="2691" y="1489"/>
                  </a:lnTo>
                  <a:lnTo>
                    <a:pt x="2718" y="1558"/>
                  </a:lnTo>
                  <a:lnTo>
                    <a:pt x="2747" y="1629"/>
                  </a:lnTo>
                  <a:lnTo>
                    <a:pt x="2777" y="1700"/>
                  </a:lnTo>
                  <a:lnTo>
                    <a:pt x="2807" y="1774"/>
                  </a:lnTo>
                  <a:lnTo>
                    <a:pt x="2836" y="1848"/>
                  </a:lnTo>
                  <a:lnTo>
                    <a:pt x="2850" y="1886"/>
                  </a:lnTo>
                  <a:lnTo>
                    <a:pt x="2864" y="1924"/>
                  </a:lnTo>
                  <a:lnTo>
                    <a:pt x="2877" y="1962"/>
                  </a:lnTo>
                  <a:lnTo>
                    <a:pt x="2890" y="2001"/>
                  </a:lnTo>
                  <a:lnTo>
                    <a:pt x="2901" y="2039"/>
                  </a:lnTo>
                  <a:lnTo>
                    <a:pt x="2912" y="2078"/>
                  </a:lnTo>
                  <a:lnTo>
                    <a:pt x="2922" y="2116"/>
                  </a:lnTo>
                  <a:lnTo>
                    <a:pt x="2930" y="2156"/>
                  </a:lnTo>
                  <a:lnTo>
                    <a:pt x="2938" y="2196"/>
                  </a:lnTo>
                  <a:lnTo>
                    <a:pt x="2943" y="2235"/>
                  </a:lnTo>
                  <a:lnTo>
                    <a:pt x="2949" y="2275"/>
                  </a:lnTo>
                  <a:lnTo>
                    <a:pt x="2951" y="2315"/>
                  </a:lnTo>
                  <a:lnTo>
                    <a:pt x="2953" y="2355"/>
                  </a:lnTo>
                  <a:lnTo>
                    <a:pt x="2953" y="2394"/>
                  </a:lnTo>
                  <a:lnTo>
                    <a:pt x="2951" y="2435"/>
                  </a:lnTo>
                  <a:lnTo>
                    <a:pt x="2947" y="2475"/>
                  </a:lnTo>
                  <a:lnTo>
                    <a:pt x="2940" y="2515"/>
                  </a:lnTo>
                  <a:lnTo>
                    <a:pt x="2933" y="2555"/>
                  </a:lnTo>
                  <a:lnTo>
                    <a:pt x="2922" y="2596"/>
                  </a:lnTo>
                  <a:lnTo>
                    <a:pt x="2909" y="2637"/>
                  </a:lnTo>
                  <a:lnTo>
                    <a:pt x="2903" y="2656"/>
                  </a:lnTo>
                  <a:lnTo>
                    <a:pt x="2895" y="2676"/>
                  </a:lnTo>
                  <a:lnTo>
                    <a:pt x="2886" y="2697"/>
                  </a:lnTo>
                  <a:lnTo>
                    <a:pt x="2877" y="2717"/>
                  </a:lnTo>
                  <a:lnTo>
                    <a:pt x="2866" y="2737"/>
                  </a:lnTo>
                  <a:lnTo>
                    <a:pt x="2854" y="2758"/>
                  </a:lnTo>
                  <a:lnTo>
                    <a:pt x="2841" y="2777"/>
                  </a:lnTo>
                  <a:lnTo>
                    <a:pt x="2827" y="2797"/>
                  </a:lnTo>
                  <a:lnTo>
                    <a:pt x="2812" y="2818"/>
                  </a:lnTo>
                  <a:lnTo>
                    <a:pt x="2797" y="2837"/>
                  </a:lnTo>
                  <a:lnTo>
                    <a:pt x="2781" y="2856"/>
                  </a:lnTo>
                  <a:lnTo>
                    <a:pt x="2765" y="2876"/>
                  </a:lnTo>
                  <a:lnTo>
                    <a:pt x="2730" y="2914"/>
                  </a:lnTo>
                  <a:lnTo>
                    <a:pt x="2693" y="2950"/>
                  </a:lnTo>
                  <a:lnTo>
                    <a:pt x="2656" y="2985"/>
                  </a:lnTo>
                  <a:lnTo>
                    <a:pt x="2618" y="3018"/>
                  </a:lnTo>
                  <a:lnTo>
                    <a:pt x="2581" y="3048"/>
                  </a:lnTo>
                  <a:lnTo>
                    <a:pt x="2543" y="3077"/>
                  </a:lnTo>
                  <a:lnTo>
                    <a:pt x="2508" y="3103"/>
                  </a:lnTo>
                  <a:lnTo>
                    <a:pt x="2474" y="3126"/>
                  </a:lnTo>
                  <a:lnTo>
                    <a:pt x="2442" y="3145"/>
                  </a:lnTo>
                  <a:lnTo>
                    <a:pt x="2413" y="3160"/>
                  </a:lnTo>
                  <a:lnTo>
                    <a:pt x="2367" y="3181"/>
                  </a:lnTo>
                  <a:lnTo>
                    <a:pt x="2317" y="3201"/>
                  </a:lnTo>
                  <a:lnTo>
                    <a:pt x="2264" y="3221"/>
                  </a:lnTo>
                  <a:lnTo>
                    <a:pt x="2209" y="3239"/>
                  </a:lnTo>
                  <a:lnTo>
                    <a:pt x="2152" y="3256"/>
                  </a:lnTo>
                  <a:lnTo>
                    <a:pt x="2095" y="3273"/>
                  </a:lnTo>
                  <a:lnTo>
                    <a:pt x="2037" y="3286"/>
                  </a:lnTo>
                  <a:lnTo>
                    <a:pt x="1979" y="3298"/>
                  </a:lnTo>
                  <a:lnTo>
                    <a:pt x="1951" y="3304"/>
                  </a:lnTo>
                  <a:lnTo>
                    <a:pt x="1923" y="3308"/>
                  </a:lnTo>
                  <a:lnTo>
                    <a:pt x="1895" y="3312"/>
                  </a:lnTo>
                  <a:lnTo>
                    <a:pt x="1869" y="3315"/>
                  </a:lnTo>
                  <a:lnTo>
                    <a:pt x="1842" y="3318"/>
                  </a:lnTo>
                  <a:lnTo>
                    <a:pt x="1816" y="3319"/>
                  </a:lnTo>
                  <a:lnTo>
                    <a:pt x="1791" y="3320"/>
                  </a:lnTo>
                  <a:lnTo>
                    <a:pt x="1768" y="3320"/>
                  </a:lnTo>
                  <a:lnTo>
                    <a:pt x="1745" y="3318"/>
                  </a:lnTo>
                  <a:lnTo>
                    <a:pt x="1723" y="3316"/>
                  </a:lnTo>
                  <a:lnTo>
                    <a:pt x="1702" y="3313"/>
                  </a:lnTo>
                  <a:lnTo>
                    <a:pt x="1683" y="3309"/>
                  </a:lnTo>
                  <a:lnTo>
                    <a:pt x="1665" y="3304"/>
                  </a:lnTo>
                  <a:lnTo>
                    <a:pt x="1648" y="3297"/>
                  </a:lnTo>
                  <a:lnTo>
                    <a:pt x="1633" y="3290"/>
                  </a:lnTo>
                  <a:lnTo>
                    <a:pt x="1619" y="3281"/>
                  </a:lnTo>
                  <a:lnTo>
                    <a:pt x="1658" y="3278"/>
                  </a:lnTo>
                  <a:lnTo>
                    <a:pt x="1700" y="3274"/>
                  </a:lnTo>
                  <a:lnTo>
                    <a:pt x="1741" y="3267"/>
                  </a:lnTo>
                  <a:lnTo>
                    <a:pt x="1783" y="3261"/>
                  </a:lnTo>
                  <a:lnTo>
                    <a:pt x="1825" y="3254"/>
                  </a:lnTo>
                  <a:lnTo>
                    <a:pt x="1865" y="3246"/>
                  </a:lnTo>
                  <a:lnTo>
                    <a:pt x="1907" y="3237"/>
                  </a:lnTo>
                  <a:lnTo>
                    <a:pt x="1948" y="3229"/>
                  </a:lnTo>
                  <a:lnTo>
                    <a:pt x="1988" y="3218"/>
                  </a:lnTo>
                  <a:lnTo>
                    <a:pt x="2026" y="3207"/>
                  </a:lnTo>
                  <a:lnTo>
                    <a:pt x="2064" y="3196"/>
                  </a:lnTo>
                  <a:lnTo>
                    <a:pt x="2100" y="3185"/>
                  </a:lnTo>
                  <a:lnTo>
                    <a:pt x="2136" y="3172"/>
                  </a:lnTo>
                  <a:lnTo>
                    <a:pt x="2169" y="3159"/>
                  </a:lnTo>
                  <a:lnTo>
                    <a:pt x="2200" y="3146"/>
                  </a:lnTo>
                  <a:lnTo>
                    <a:pt x="2229" y="3132"/>
                  </a:lnTo>
                  <a:lnTo>
                    <a:pt x="2270" y="3112"/>
                  </a:lnTo>
                  <a:lnTo>
                    <a:pt x="2309" y="3090"/>
                  </a:lnTo>
                  <a:lnTo>
                    <a:pt x="2348" y="3069"/>
                  </a:lnTo>
                  <a:lnTo>
                    <a:pt x="2386" y="3046"/>
                  </a:lnTo>
                  <a:lnTo>
                    <a:pt x="2422" y="3024"/>
                  </a:lnTo>
                  <a:lnTo>
                    <a:pt x="2457" y="3000"/>
                  </a:lnTo>
                  <a:lnTo>
                    <a:pt x="2492" y="2975"/>
                  </a:lnTo>
                  <a:lnTo>
                    <a:pt x="2525" y="2950"/>
                  </a:lnTo>
                  <a:lnTo>
                    <a:pt x="2556" y="2923"/>
                  </a:lnTo>
                  <a:lnTo>
                    <a:pt x="2586" y="2896"/>
                  </a:lnTo>
                  <a:lnTo>
                    <a:pt x="2614" y="2867"/>
                  </a:lnTo>
                  <a:lnTo>
                    <a:pt x="2641" y="2838"/>
                  </a:lnTo>
                  <a:lnTo>
                    <a:pt x="2666" y="2807"/>
                  </a:lnTo>
                  <a:lnTo>
                    <a:pt x="2689" y="2776"/>
                  </a:lnTo>
                  <a:lnTo>
                    <a:pt x="2711" y="2743"/>
                  </a:lnTo>
                  <a:lnTo>
                    <a:pt x="2730" y="2708"/>
                  </a:lnTo>
                  <a:lnTo>
                    <a:pt x="2747" y="2673"/>
                  </a:lnTo>
                  <a:lnTo>
                    <a:pt x="2762" y="2636"/>
                  </a:lnTo>
                  <a:lnTo>
                    <a:pt x="2776" y="2598"/>
                  </a:lnTo>
                  <a:lnTo>
                    <a:pt x="2787" y="2558"/>
                  </a:lnTo>
                  <a:lnTo>
                    <a:pt x="2796" y="2518"/>
                  </a:lnTo>
                  <a:lnTo>
                    <a:pt x="2803" y="2475"/>
                  </a:lnTo>
                  <a:lnTo>
                    <a:pt x="2807" y="2431"/>
                  </a:lnTo>
                  <a:lnTo>
                    <a:pt x="2808" y="2385"/>
                  </a:lnTo>
                  <a:lnTo>
                    <a:pt x="2807" y="2337"/>
                  </a:lnTo>
                  <a:lnTo>
                    <a:pt x="2804" y="2288"/>
                  </a:lnTo>
                  <a:lnTo>
                    <a:pt x="2797" y="2238"/>
                  </a:lnTo>
                  <a:lnTo>
                    <a:pt x="2789" y="2185"/>
                  </a:lnTo>
                  <a:lnTo>
                    <a:pt x="2777" y="2131"/>
                  </a:lnTo>
                  <a:lnTo>
                    <a:pt x="2763" y="2075"/>
                  </a:lnTo>
                  <a:lnTo>
                    <a:pt x="2745" y="2017"/>
                  </a:lnTo>
                  <a:lnTo>
                    <a:pt x="2725" y="1957"/>
                  </a:lnTo>
                  <a:lnTo>
                    <a:pt x="2716" y="1933"/>
                  </a:lnTo>
                  <a:lnTo>
                    <a:pt x="2706" y="1909"/>
                  </a:lnTo>
                  <a:lnTo>
                    <a:pt x="2694" y="1886"/>
                  </a:lnTo>
                  <a:lnTo>
                    <a:pt x="2683" y="1862"/>
                  </a:lnTo>
                  <a:lnTo>
                    <a:pt x="2670" y="1838"/>
                  </a:lnTo>
                  <a:lnTo>
                    <a:pt x="2656" y="1814"/>
                  </a:lnTo>
                  <a:lnTo>
                    <a:pt x="2642" y="1789"/>
                  </a:lnTo>
                  <a:lnTo>
                    <a:pt x="2627" y="1765"/>
                  </a:lnTo>
                  <a:lnTo>
                    <a:pt x="2595" y="1714"/>
                  </a:lnTo>
                  <a:lnTo>
                    <a:pt x="2560" y="1665"/>
                  </a:lnTo>
                  <a:lnTo>
                    <a:pt x="2525" y="1615"/>
                  </a:lnTo>
                  <a:lnTo>
                    <a:pt x="2490" y="1563"/>
                  </a:lnTo>
                  <a:lnTo>
                    <a:pt x="2454" y="1513"/>
                  </a:lnTo>
                  <a:lnTo>
                    <a:pt x="2420" y="1462"/>
                  </a:lnTo>
                  <a:lnTo>
                    <a:pt x="2387" y="1411"/>
                  </a:lnTo>
                  <a:lnTo>
                    <a:pt x="2356" y="1360"/>
                  </a:lnTo>
                  <a:lnTo>
                    <a:pt x="2341" y="1336"/>
                  </a:lnTo>
                  <a:lnTo>
                    <a:pt x="2327" y="1310"/>
                  </a:lnTo>
                  <a:lnTo>
                    <a:pt x="2314" y="1285"/>
                  </a:lnTo>
                  <a:lnTo>
                    <a:pt x="2302" y="1261"/>
                  </a:lnTo>
                  <a:lnTo>
                    <a:pt x="2290" y="1235"/>
                  </a:lnTo>
                  <a:lnTo>
                    <a:pt x="2281" y="1210"/>
                  </a:lnTo>
                  <a:lnTo>
                    <a:pt x="2272" y="1187"/>
                  </a:lnTo>
                  <a:lnTo>
                    <a:pt x="2263" y="1162"/>
                  </a:lnTo>
                  <a:lnTo>
                    <a:pt x="2249" y="1108"/>
                  </a:lnTo>
                  <a:lnTo>
                    <a:pt x="2235" y="1056"/>
                  </a:lnTo>
                  <a:lnTo>
                    <a:pt x="2224" y="1003"/>
                  </a:lnTo>
                  <a:lnTo>
                    <a:pt x="2214" y="953"/>
                  </a:lnTo>
                  <a:lnTo>
                    <a:pt x="2205" y="904"/>
                  </a:lnTo>
                  <a:lnTo>
                    <a:pt x="2199" y="854"/>
                  </a:lnTo>
                  <a:lnTo>
                    <a:pt x="2193" y="806"/>
                  </a:lnTo>
                  <a:lnTo>
                    <a:pt x="2189" y="760"/>
                  </a:lnTo>
                  <a:lnTo>
                    <a:pt x="2186" y="714"/>
                  </a:lnTo>
                  <a:lnTo>
                    <a:pt x="2184" y="670"/>
                  </a:lnTo>
                  <a:lnTo>
                    <a:pt x="2184" y="626"/>
                  </a:lnTo>
                  <a:lnTo>
                    <a:pt x="2185" y="584"/>
                  </a:lnTo>
                  <a:lnTo>
                    <a:pt x="2187" y="543"/>
                  </a:lnTo>
                  <a:lnTo>
                    <a:pt x="2190" y="504"/>
                  </a:lnTo>
                  <a:lnTo>
                    <a:pt x="2195" y="465"/>
                  </a:lnTo>
                  <a:lnTo>
                    <a:pt x="2200" y="427"/>
                  </a:lnTo>
                  <a:lnTo>
                    <a:pt x="2207" y="392"/>
                  </a:lnTo>
                  <a:lnTo>
                    <a:pt x="2214" y="358"/>
                  </a:lnTo>
                  <a:lnTo>
                    <a:pt x="2223" y="324"/>
                  </a:lnTo>
                  <a:lnTo>
                    <a:pt x="2232" y="293"/>
                  </a:lnTo>
                  <a:lnTo>
                    <a:pt x="2242" y="263"/>
                  </a:lnTo>
                  <a:lnTo>
                    <a:pt x="2253" y="234"/>
                  </a:lnTo>
                  <a:lnTo>
                    <a:pt x="2264" y="208"/>
                  </a:lnTo>
                  <a:lnTo>
                    <a:pt x="2276" y="182"/>
                  </a:lnTo>
                  <a:lnTo>
                    <a:pt x="2290" y="158"/>
                  </a:lnTo>
                  <a:lnTo>
                    <a:pt x="2303" y="136"/>
                  </a:lnTo>
                  <a:lnTo>
                    <a:pt x="2318" y="115"/>
                  </a:lnTo>
                  <a:lnTo>
                    <a:pt x="2332" y="96"/>
                  </a:lnTo>
                  <a:lnTo>
                    <a:pt x="2348" y="79"/>
                  </a:lnTo>
                  <a:lnTo>
                    <a:pt x="2363" y="64"/>
                  </a:lnTo>
                  <a:lnTo>
                    <a:pt x="2379" y="50"/>
                  </a:lnTo>
                  <a:lnTo>
                    <a:pt x="2396" y="39"/>
                  </a:lnTo>
                  <a:lnTo>
                    <a:pt x="2375" y="27"/>
                  </a:lnTo>
                  <a:lnTo>
                    <a:pt x="2353" y="19"/>
                  </a:lnTo>
                  <a:lnTo>
                    <a:pt x="2331" y="11"/>
                  </a:lnTo>
                  <a:lnTo>
                    <a:pt x="2308" y="6"/>
                  </a:lnTo>
                  <a:lnTo>
                    <a:pt x="2285" y="3"/>
                  </a:lnTo>
                  <a:lnTo>
                    <a:pt x="2260" y="1"/>
                  </a:lnTo>
                  <a:lnTo>
                    <a:pt x="2235" y="0"/>
                  </a:lnTo>
                  <a:lnTo>
                    <a:pt x="2210" y="0"/>
                  </a:lnTo>
                  <a:lnTo>
                    <a:pt x="2184" y="2"/>
                  </a:lnTo>
                  <a:lnTo>
                    <a:pt x="2157" y="5"/>
                  </a:lnTo>
                  <a:lnTo>
                    <a:pt x="2130" y="9"/>
                  </a:lnTo>
                  <a:lnTo>
                    <a:pt x="2104" y="15"/>
                  </a:lnTo>
                  <a:lnTo>
                    <a:pt x="2077" y="20"/>
                  </a:lnTo>
                  <a:lnTo>
                    <a:pt x="2049" y="27"/>
                  </a:lnTo>
                  <a:lnTo>
                    <a:pt x="2021" y="35"/>
                  </a:lnTo>
                  <a:lnTo>
                    <a:pt x="1993" y="43"/>
                  </a:lnTo>
                  <a:lnTo>
                    <a:pt x="1936" y="62"/>
                  </a:lnTo>
                  <a:lnTo>
                    <a:pt x="1880" y="81"/>
                  </a:lnTo>
                  <a:lnTo>
                    <a:pt x="1824" y="102"/>
                  </a:lnTo>
                  <a:lnTo>
                    <a:pt x="1768" y="123"/>
                  </a:lnTo>
                  <a:lnTo>
                    <a:pt x="1712" y="143"/>
                  </a:lnTo>
                  <a:lnTo>
                    <a:pt x="1658" y="163"/>
                  </a:lnTo>
                  <a:lnTo>
                    <a:pt x="1606" y="180"/>
                  </a:lnTo>
                  <a:lnTo>
                    <a:pt x="1555" y="195"/>
                  </a:lnTo>
                  <a:lnTo>
                    <a:pt x="1515" y="201"/>
                  </a:lnTo>
                  <a:lnTo>
                    <a:pt x="1470" y="211"/>
                  </a:lnTo>
                  <a:lnTo>
                    <a:pt x="1424" y="222"/>
                  </a:lnTo>
                  <a:lnTo>
                    <a:pt x="1373" y="234"/>
                  </a:lnTo>
                  <a:lnTo>
                    <a:pt x="1323" y="248"/>
                  </a:lnTo>
                  <a:lnTo>
                    <a:pt x="1270" y="264"/>
                  </a:lnTo>
                  <a:lnTo>
                    <a:pt x="1218" y="283"/>
                  </a:lnTo>
                  <a:lnTo>
                    <a:pt x="1166" y="302"/>
                  </a:lnTo>
                  <a:lnTo>
                    <a:pt x="1114" y="322"/>
                  </a:lnTo>
                  <a:lnTo>
                    <a:pt x="1063" y="345"/>
                  </a:lnTo>
                  <a:lnTo>
                    <a:pt x="1040" y="358"/>
                  </a:lnTo>
                  <a:lnTo>
                    <a:pt x="1015" y="370"/>
                  </a:lnTo>
                  <a:lnTo>
                    <a:pt x="992" y="382"/>
                  </a:lnTo>
                  <a:lnTo>
                    <a:pt x="970" y="396"/>
                  </a:lnTo>
                  <a:lnTo>
                    <a:pt x="947" y="409"/>
                  </a:lnTo>
                  <a:lnTo>
                    <a:pt x="927" y="424"/>
                  </a:lnTo>
                  <a:lnTo>
                    <a:pt x="907" y="438"/>
                  </a:lnTo>
                  <a:lnTo>
                    <a:pt x="888" y="453"/>
                  </a:lnTo>
                  <a:lnTo>
                    <a:pt x="870" y="468"/>
                  </a:lnTo>
                  <a:lnTo>
                    <a:pt x="853" y="484"/>
                  </a:lnTo>
                  <a:lnTo>
                    <a:pt x="838" y="500"/>
                  </a:lnTo>
                  <a:lnTo>
                    <a:pt x="824" y="516"/>
                  </a:lnTo>
                  <a:lnTo>
                    <a:pt x="832" y="524"/>
                  </a:lnTo>
                  <a:lnTo>
                    <a:pt x="844" y="535"/>
                  </a:lnTo>
                  <a:lnTo>
                    <a:pt x="862" y="546"/>
                  </a:lnTo>
                  <a:lnTo>
                    <a:pt x="882" y="559"/>
                  </a:lnTo>
                  <a:lnTo>
                    <a:pt x="931" y="589"/>
                  </a:lnTo>
                  <a:lnTo>
                    <a:pt x="986" y="624"/>
                  </a:lnTo>
                  <a:lnTo>
                    <a:pt x="1041" y="658"/>
                  </a:lnTo>
                  <a:lnTo>
                    <a:pt x="1090" y="691"/>
                  </a:lnTo>
                  <a:lnTo>
                    <a:pt x="1111" y="707"/>
                  </a:lnTo>
                  <a:lnTo>
                    <a:pt x="1130" y="722"/>
                  </a:lnTo>
                  <a:lnTo>
                    <a:pt x="1136" y="729"/>
                  </a:lnTo>
                  <a:lnTo>
                    <a:pt x="1143" y="735"/>
                  </a:lnTo>
                  <a:lnTo>
                    <a:pt x="1148" y="742"/>
                  </a:lnTo>
                  <a:lnTo>
                    <a:pt x="1152" y="747"/>
                  </a:lnTo>
                  <a:lnTo>
                    <a:pt x="1243" y="831"/>
                  </a:lnTo>
                  <a:lnTo>
                    <a:pt x="1316" y="897"/>
                  </a:lnTo>
                  <a:lnTo>
                    <a:pt x="1347" y="927"/>
                  </a:lnTo>
                  <a:lnTo>
                    <a:pt x="1376" y="954"/>
                  </a:lnTo>
                  <a:lnTo>
                    <a:pt x="1403" y="981"/>
                  </a:lnTo>
                  <a:lnTo>
                    <a:pt x="1429" y="1007"/>
                  </a:lnTo>
                  <a:lnTo>
                    <a:pt x="1453" y="1033"/>
                  </a:lnTo>
                  <a:lnTo>
                    <a:pt x="1477" y="1061"/>
                  </a:lnTo>
                  <a:lnTo>
                    <a:pt x="1502" y="1090"/>
                  </a:lnTo>
                  <a:lnTo>
                    <a:pt x="1528" y="1122"/>
                  </a:lnTo>
                  <a:lnTo>
                    <a:pt x="1584" y="1196"/>
                  </a:lnTo>
                  <a:lnTo>
                    <a:pt x="1653" y="1289"/>
                  </a:lnTo>
                  <a:lnTo>
                    <a:pt x="1664" y="1305"/>
                  </a:lnTo>
                  <a:lnTo>
                    <a:pt x="1673" y="1324"/>
                  </a:lnTo>
                  <a:lnTo>
                    <a:pt x="1683" y="1348"/>
                  </a:lnTo>
                  <a:lnTo>
                    <a:pt x="1693" y="1374"/>
                  </a:lnTo>
                  <a:lnTo>
                    <a:pt x="1701" y="1403"/>
                  </a:lnTo>
                  <a:lnTo>
                    <a:pt x="1709" y="1435"/>
                  </a:lnTo>
                  <a:lnTo>
                    <a:pt x="1717" y="1470"/>
                  </a:lnTo>
                  <a:lnTo>
                    <a:pt x="1724" y="1507"/>
                  </a:lnTo>
                  <a:lnTo>
                    <a:pt x="1730" y="1546"/>
                  </a:lnTo>
                  <a:lnTo>
                    <a:pt x="1736" y="1586"/>
                  </a:lnTo>
                  <a:lnTo>
                    <a:pt x="1740" y="1627"/>
                  </a:lnTo>
                  <a:lnTo>
                    <a:pt x="1743" y="1670"/>
                  </a:lnTo>
                  <a:lnTo>
                    <a:pt x="1745" y="1714"/>
                  </a:lnTo>
                  <a:lnTo>
                    <a:pt x="1746" y="1758"/>
                  </a:lnTo>
                  <a:lnTo>
                    <a:pt x="1746" y="1803"/>
                  </a:lnTo>
                  <a:lnTo>
                    <a:pt x="1744" y="1848"/>
                  </a:lnTo>
                  <a:lnTo>
                    <a:pt x="1741" y="1892"/>
                  </a:lnTo>
                  <a:lnTo>
                    <a:pt x="1737" y="1936"/>
                  </a:lnTo>
                  <a:lnTo>
                    <a:pt x="1731" y="1980"/>
                  </a:lnTo>
                  <a:lnTo>
                    <a:pt x="1723" y="2022"/>
                  </a:lnTo>
                  <a:lnTo>
                    <a:pt x="1713" y="2064"/>
                  </a:lnTo>
                  <a:lnTo>
                    <a:pt x="1702" y="2104"/>
                  </a:lnTo>
                  <a:lnTo>
                    <a:pt x="1688" y="2141"/>
                  </a:lnTo>
                  <a:lnTo>
                    <a:pt x="1673" y="2178"/>
                  </a:lnTo>
                  <a:lnTo>
                    <a:pt x="1656" y="2211"/>
                  </a:lnTo>
                  <a:lnTo>
                    <a:pt x="1636" y="2242"/>
                  </a:lnTo>
                  <a:lnTo>
                    <a:pt x="1614" y="2270"/>
                  </a:lnTo>
                  <a:lnTo>
                    <a:pt x="1591" y="2296"/>
                  </a:lnTo>
                  <a:lnTo>
                    <a:pt x="1564" y="2317"/>
                  </a:lnTo>
                  <a:lnTo>
                    <a:pt x="1535" y="2335"/>
                  </a:lnTo>
                  <a:lnTo>
                    <a:pt x="1503" y="2349"/>
                  </a:lnTo>
                  <a:lnTo>
                    <a:pt x="1469" y="2360"/>
                  </a:lnTo>
                  <a:lnTo>
                    <a:pt x="1503" y="2268"/>
                  </a:lnTo>
                  <a:lnTo>
                    <a:pt x="1530" y="2178"/>
                  </a:lnTo>
                  <a:lnTo>
                    <a:pt x="1550" y="2089"/>
                  </a:lnTo>
                  <a:lnTo>
                    <a:pt x="1564" y="2003"/>
                  </a:lnTo>
                  <a:lnTo>
                    <a:pt x="1572" y="1919"/>
                  </a:lnTo>
                  <a:lnTo>
                    <a:pt x="1574" y="1838"/>
                  </a:lnTo>
                  <a:lnTo>
                    <a:pt x="1571" y="1758"/>
                  </a:lnTo>
                  <a:lnTo>
                    <a:pt x="1561" y="1681"/>
                  </a:lnTo>
                  <a:lnTo>
                    <a:pt x="1547" y="1606"/>
                  </a:lnTo>
                  <a:lnTo>
                    <a:pt x="1529" y="1534"/>
                  </a:lnTo>
                  <a:lnTo>
                    <a:pt x="1505" y="1463"/>
                  </a:lnTo>
                  <a:lnTo>
                    <a:pt x="1478" y="1396"/>
                  </a:lnTo>
                  <a:lnTo>
                    <a:pt x="1447" y="1331"/>
                  </a:lnTo>
                  <a:lnTo>
                    <a:pt x="1413" y="1269"/>
                  </a:lnTo>
                  <a:lnTo>
                    <a:pt x="1375" y="1209"/>
                  </a:lnTo>
                  <a:lnTo>
                    <a:pt x="1335" y="1151"/>
                  </a:lnTo>
                  <a:lnTo>
                    <a:pt x="1291" y="1098"/>
                  </a:lnTo>
                  <a:lnTo>
                    <a:pt x="1246" y="1045"/>
                  </a:lnTo>
                  <a:lnTo>
                    <a:pt x="1197" y="996"/>
                  </a:lnTo>
                  <a:lnTo>
                    <a:pt x="1148" y="950"/>
                  </a:lnTo>
                  <a:lnTo>
                    <a:pt x="1098" y="907"/>
                  </a:lnTo>
                  <a:lnTo>
                    <a:pt x="1046" y="866"/>
                  </a:lnTo>
                  <a:lnTo>
                    <a:pt x="994" y="828"/>
                  </a:lnTo>
                  <a:lnTo>
                    <a:pt x="940" y="793"/>
                  </a:lnTo>
                  <a:lnTo>
                    <a:pt x="886" y="762"/>
                  </a:lnTo>
                  <a:lnTo>
                    <a:pt x="833" y="733"/>
                  </a:lnTo>
                  <a:lnTo>
                    <a:pt x="780" y="707"/>
                  </a:lnTo>
                  <a:lnTo>
                    <a:pt x="728" y="685"/>
                  </a:lnTo>
                  <a:lnTo>
                    <a:pt x="676" y="665"/>
                  </a:lnTo>
                  <a:lnTo>
                    <a:pt x="626" y="649"/>
                  </a:lnTo>
                  <a:lnTo>
                    <a:pt x="576" y="635"/>
                  </a:lnTo>
                  <a:lnTo>
                    <a:pt x="530" y="626"/>
                  </a:lnTo>
                  <a:lnTo>
                    <a:pt x="510" y="638"/>
                  </a:lnTo>
                  <a:lnTo>
                    <a:pt x="492" y="649"/>
                  </a:lnTo>
                  <a:lnTo>
                    <a:pt x="474" y="661"/>
                  </a:lnTo>
                  <a:lnTo>
                    <a:pt x="458" y="673"/>
                  </a:lnTo>
                  <a:lnTo>
                    <a:pt x="444" y="685"/>
                  </a:lnTo>
                  <a:lnTo>
                    <a:pt x="432" y="697"/>
                  </a:lnTo>
                  <a:lnTo>
                    <a:pt x="420" y="708"/>
                  </a:lnTo>
                  <a:lnTo>
                    <a:pt x="409" y="720"/>
                  </a:lnTo>
                  <a:lnTo>
                    <a:pt x="391" y="743"/>
                  </a:lnTo>
                  <a:lnTo>
                    <a:pt x="375" y="766"/>
                  </a:lnTo>
                  <a:lnTo>
                    <a:pt x="360" y="789"/>
                  </a:lnTo>
                  <a:lnTo>
                    <a:pt x="347" y="811"/>
                  </a:lnTo>
                  <a:lnTo>
                    <a:pt x="334" y="834"/>
                  </a:lnTo>
                  <a:lnTo>
                    <a:pt x="320" y="855"/>
                  </a:lnTo>
                  <a:lnTo>
                    <a:pt x="305" y="878"/>
                  </a:lnTo>
                  <a:lnTo>
                    <a:pt x="287" y="899"/>
                  </a:lnTo>
                  <a:lnTo>
                    <a:pt x="277" y="910"/>
                  </a:lnTo>
                  <a:lnTo>
                    <a:pt x="265" y="921"/>
                  </a:lnTo>
                  <a:lnTo>
                    <a:pt x="253" y="931"/>
                  </a:lnTo>
                  <a:lnTo>
                    <a:pt x="240" y="942"/>
                  </a:lnTo>
                  <a:lnTo>
                    <a:pt x="226" y="952"/>
                  </a:lnTo>
                  <a:lnTo>
                    <a:pt x="210" y="963"/>
                  </a:lnTo>
                  <a:lnTo>
                    <a:pt x="192" y="973"/>
                  </a:lnTo>
                  <a:lnTo>
                    <a:pt x="173" y="983"/>
                  </a:lnTo>
                  <a:lnTo>
                    <a:pt x="196" y="996"/>
                  </a:lnTo>
                  <a:lnTo>
                    <a:pt x="218" y="1009"/>
                  </a:lnTo>
                  <a:lnTo>
                    <a:pt x="242" y="1019"/>
                  </a:lnTo>
                  <a:lnTo>
                    <a:pt x="265" y="1029"/>
                  </a:lnTo>
                  <a:lnTo>
                    <a:pt x="290" y="1038"/>
                  </a:lnTo>
                  <a:lnTo>
                    <a:pt x="315" y="1046"/>
                  </a:lnTo>
                  <a:lnTo>
                    <a:pt x="339" y="1053"/>
                  </a:lnTo>
                  <a:lnTo>
                    <a:pt x="365" y="1059"/>
                  </a:lnTo>
                  <a:lnTo>
                    <a:pt x="391" y="1064"/>
                  </a:lnTo>
                  <a:lnTo>
                    <a:pt x="418" y="1068"/>
                  </a:lnTo>
                  <a:lnTo>
                    <a:pt x="443" y="1071"/>
                  </a:lnTo>
                  <a:lnTo>
                    <a:pt x="470" y="1074"/>
                  </a:lnTo>
                  <a:lnTo>
                    <a:pt x="497" y="1075"/>
                  </a:lnTo>
                  <a:lnTo>
                    <a:pt x="525" y="1075"/>
                  </a:lnTo>
                  <a:lnTo>
                    <a:pt x="552" y="1075"/>
                  </a:lnTo>
                  <a:lnTo>
                    <a:pt x="580" y="1074"/>
                  </a:lnTo>
                  <a:lnTo>
                    <a:pt x="607" y="1072"/>
                  </a:lnTo>
                  <a:lnTo>
                    <a:pt x="635" y="1069"/>
                  </a:lnTo>
                  <a:lnTo>
                    <a:pt x="663" y="1065"/>
                  </a:lnTo>
                  <a:lnTo>
                    <a:pt x="691" y="1061"/>
                  </a:lnTo>
                  <a:lnTo>
                    <a:pt x="719" y="1056"/>
                  </a:lnTo>
                  <a:lnTo>
                    <a:pt x="748" y="1049"/>
                  </a:lnTo>
                  <a:lnTo>
                    <a:pt x="776" y="1043"/>
                  </a:lnTo>
                  <a:lnTo>
                    <a:pt x="804" y="1035"/>
                  </a:lnTo>
                  <a:lnTo>
                    <a:pt x="832" y="1027"/>
                  </a:lnTo>
                  <a:lnTo>
                    <a:pt x="859" y="1017"/>
                  </a:lnTo>
                  <a:lnTo>
                    <a:pt x="887" y="1008"/>
                  </a:lnTo>
                  <a:lnTo>
                    <a:pt x="915" y="998"/>
                  </a:lnTo>
                  <a:lnTo>
                    <a:pt x="943" y="986"/>
                  </a:lnTo>
                  <a:lnTo>
                    <a:pt x="971" y="974"/>
                  </a:lnTo>
                  <a:lnTo>
                    <a:pt x="998" y="961"/>
                  </a:lnTo>
                  <a:lnTo>
                    <a:pt x="1026" y="949"/>
                  </a:lnTo>
                  <a:lnTo>
                    <a:pt x="1000" y="979"/>
                  </a:lnTo>
                  <a:lnTo>
                    <a:pt x="973" y="1005"/>
                  </a:lnTo>
                  <a:lnTo>
                    <a:pt x="945" y="1031"/>
                  </a:lnTo>
                  <a:lnTo>
                    <a:pt x="916" y="1056"/>
                  </a:lnTo>
                  <a:lnTo>
                    <a:pt x="885" y="1078"/>
                  </a:lnTo>
                  <a:lnTo>
                    <a:pt x="853" y="1099"/>
                  </a:lnTo>
                  <a:lnTo>
                    <a:pt x="820" y="1118"/>
                  </a:lnTo>
                  <a:lnTo>
                    <a:pt x="787" y="1135"/>
                  </a:lnTo>
                  <a:lnTo>
                    <a:pt x="752" y="1151"/>
                  </a:lnTo>
                  <a:lnTo>
                    <a:pt x="717" y="1165"/>
                  </a:lnTo>
                  <a:lnTo>
                    <a:pt x="681" y="1178"/>
                  </a:lnTo>
                  <a:lnTo>
                    <a:pt x="645" y="1190"/>
                  </a:lnTo>
                  <a:lnTo>
                    <a:pt x="608" y="1200"/>
                  </a:lnTo>
                  <a:lnTo>
                    <a:pt x="571" y="1208"/>
                  </a:lnTo>
                  <a:lnTo>
                    <a:pt x="534" y="1215"/>
                  </a:lnTo>
                  <a:lnTo>
                    <a:pt x="498" y="1220"/>
                  </a:lnTo>
                  <a:lnTo>
                    <a:pt x="460" y="1224"/>
                  </a:lnTo>
                  <a:lnTo>
                    <a:pt x="424" y="1226"/>
                  </a:lnTo>
                  <a:lnTo>
                    <a:pt x="388" y="1229"/>
                  </a:lnTo>
                  <a:lnTo>
                    <a:pt x="352" y="1229"/>
                  </a:lnTo>
                  <a:lnTo>
                    <a:pt x="317" y="1226"/>
                  </a:lnTo>
                  <a:lnTo>
                    <a:pt x="282" y="1224"/>
                  </a:lnTo>
                  <a:lnTo>
                    <a:pt x="249" y="1220"/>
                  </a:lnTo>
                  <a:lnTo>
                    <a:pt x="216" y="1216"/>
                  </a:lnTo>
                  <a:lnTo>
                    <a:pt x="184" y="1209"/>
                  </a:lnTo>
                  <a:lnTo>
                    <a:pt x="154" y="1202"/>
                  </a:lnTo>
                  <a:lnTo>
                    <a:pt x="124" y="1193"/>
                  </a:lnTo>
                  <a:lnTo>
                    <a:pt x="96" y="1183"/>
                  </a:lnTo>
                  <a:lnTo>
                    <a:pt x="70" y="1172"/>
                  </a:lnTo>
                  <a:lnTo>
                    <a:pt x="44" y="1160"/>
                  </a:lnTo>
                  <a:lnTo>
                    <a:pt x="22" y="1147"/>
                  </a:lnTo>
                  <a:lnTo>
                    <a:pt x="0" y="1133"/>
                  </a:lnTo>
                  <a:lnTo>
                    <a:pt x="0" y="4468"/>
                  </a:lnTo>
                  <a:lnTo>
                    <a:pt x="49" y="4500"/>
                  </a:lnTo>
                  <a:lnTo>
                    <a:pt x="96" y="4534"/>
                  </a:lnTo>
                  <a:lnTo>
                    <a:pt x="140" y="4569"/>
                  </a:lnTo>
                  <a:lnTo>
                    <a:pt x="183" y="4607"/>
                  </a:lnTo>
                  <a:lnTo>
                    <a:pt x="225" y="4645"/>
                  </a:lnTo>
                  <a:lnTo>
                    <a:pt x="264" y="4685"/>
                  </a:lnTo>
                  <a:lnTo>
                    <a:pt x="302" y="4727"/>
                  </a:lnTo>
                  <a:lnTo>
                    <a:pt x="338" y="4770"/>
                  </a:lnTo>
                  <a:lnTo>
                    <a:pt x="373" y="4814"/>
                  </a:lnTo>
                  <a:lnTo>
                    <a:pt x="407" y="4859"/>
                  </a:lnTo>
                  <a:lnTo>
                    <a:pt x="438" y="4906"/>
                  </a:lnTo>
                  <a:lnTo>
                    <a:pt x="469" y="4953"/>
                  </a:lnTo>
                  <a:lnTo>
                    <a:pt x="499" y="5001"/>
                  </a:lnTo>
                  <a:lnTo>
                    <a:pt x="527" y="5052"/>
                  </a:lnTo>
                  <a:lnTo>
                    <a:pt x="554" y="5102"/>
                  </a:lnTo>
                  <a:lnTo>
                    <a:pt x="581" y="5154"/>
                  </a:lnTo>
                  <a:lnTo>
                    <a:pt x="605" y="5205"/>
                  </a:lnTo>
                  <a:lnTo>
                    <a:pt x="630" y="5259"/>
                  </a:lnTo>
                  <a:lnTo>
                    <a:pt x="654" y="5312"/>
                  </a:lnTo>
                  <a:lnTo>
                    <a:pt x="676" y="5367"/>
                  </a:lnTo>
                  <a:lnTo>
                    <a:pt x="697" y="5422"/>
                  </a:lnTo>
                  <a:lnTo>
                    <a:pt x="719" y="5476"/>
                  </a:lnTo>
                  <a:lnTo>
                    <a:pt x="739" y="5532"/>
                  </a:lnTo>
                  <a:lnTo>
                    <a:pt x="760" y="5589"/>
                  </a:lnTo>
                  <a:lnTo>
                    <a:pt x="798" y="5703"/>
                  </a:lnTo>
                  <a:lnTo>
                    <a:pt x="837" y="5816"/>
                  </a:lnTo>
                  <a:lnTo>
                    <a:pt x="873" y="5931"/>
                  </a:lnTo>
                  <a:lnTo>
                    <a:pt x="910" y="6046"/>
                  </a:lnTo>
                  <a:lnTo>
                    <a:pt x="938" y="6134"/>
                  </a:lnTo>
                  <a:lnTo>
                    <a:pt x="963" y="6224"/>
                  </a:lnTo>
                  <a:lnTo>
                    <a:pt x="987" y="6315"/>
                  </a:lnTo>
                  <a:lnTo>
                    <a:pt x="1011" y="6408"/>
                  </a:lnTo>
                  <a:lnTo>
                    <a:pt x="1032" y="6503"/>
                  </a:lnTo>
                  <a:lnTo>
                    <a:pt x="1054" y="6598"/>
                  </a:lnTo>
                  <a:lnTo>
                    <a:pt x="1074" y="6695"/>
                  </a:lnTo>
                  <a:lnTo>
                    <a:pt x="1094" y="6791"/>
                  </a:lnTo>
                  <a:lnTo>
                    <a:pt x="1134" y="6985"/>
                  </a:lnTo>
                  <a:lnTo>
                    <a:pt x="1174" y="7177"/>
                  </a:lnTo>
                  <a:lnTo>
                    <a:pt x="1195" y="7273"/>
                  </a:lnTo>
                  <a:lnTo>
                    <a:pt x="1217" y="7366"/>
                  </a:lnTo>
                  <a:lnTo>
                    <a:pt x="1238" y="7459"/>
                  </a:lnTo>
                  <a:lnTo>
                    <a:pt x="1262" y="7549"/>
                  </a:lnTo>
                  <a:lnTo>
                    <a:pt x="1270" y="7578"/>
                  </a:lnTo>
                  <a:lnTo>
                    <a:pt x="1280" y="7605"/>
                  </a:lnTo>
                  <a:lnTo>
                    <a:pt x="1291" y="7632"/>
                  </a:lnTo>
                  <a:lnTo>
                    <a:pt x="1303" y="7658"/>
                  </a:lnTo>
                  <a:lnTo>
                    <a:pt x="1316" y="7682"/>
                  </a:lnTo>
                  <a:lnTo>
                    <a:pt x="1331" y="7706"/>
                  </a:lnTo>
                  <a:lnTo>
                    <a:pt x="1347" y="7728"/>
                  </a:lnTo>
                  <a:lnTo>
                    <a:pt x="1365" y="7750"/>
                  </a:lnTo>
                  <a:lnTo>
                    <a:pt x="1383" y="7771"/>
                  </a:lnTo>
                  <a:lnTo>
                    <a:pt x="1402" y="7791"/>
                  </a:lnTo>
                  <a:lnTo>
                    <a:pt x="1423" y="7809"/>
                  </a:lnTo>
                  <a:lnTo>
                    <a:pt x="1445" y="7827"/>
                  </a:lnTo>
                  <a:lnTo>
                    <a:pt x="1468" y="7844"/>
                  </a:lnTo>
                  <a:lnTo>
                    <a:pt x="1492" y="7860"/>
                  </a:lnTo>
                  <a:lnTo>
                    <a:pt x="1518" y="7875"/>
                  </a:lnTo>
                  <a:lnTo>
                    <a:pt x="1545" y="7890"/>
                  </a:lnTo>
                  <a:lnTo>
                    <a:pt x="1573" y="7903"/>
                  </a:lnTo>
                  <a:lnTo>
                    <a:pt x="1602" y="7916"/>
                  </a:lnTo>
                  <a:lnTo>
                    <a:pt x="1633" y="7928"/>
                  </a:lnTo>
                  <a:lnTo>
                    <a:pt x="1664" y="7939"/>
                  </a:lnTo>
                  <a:lnTo>
                    <a:pt x="1697" y="7949"/>
                  </a:lnTo>
                  <a:lnTo>
                    <a:pt x="1731" y="7958"/>
                  </a:lnTo>
                  <a:lnTo>
                    <a:pt x="1767" y="7966"/>
                  </a:lnTo>
                  <a:lnTo>
                    <a:pt x="1803" y="7975"/>
                  </a:lnTo>
                  <a:lnTo>
                    <a:pt x="1842" y="7981"/>
                  </a:lnTo>
                  <a:lnTo>
                    <a:pt x="1880" y="7988"/>
                  </a:lnTo>
                  <a:lnTo>
                    <a:pt x="1921" y="7993"/>
                  </a:lnTo>
                  <a:lnTo>
                    <a:pt x="1963" y="7998"/>
                  </a:lnTo>
                  <a:lnTo>
                    <a:pt x="2006" y="8002"/>
                  </a:lnTo>
                  <a:lnTo>
                    <a:pt x="2050" y="8005"/>
                  </a:lnTo>
                  <a:lnTo>
                    <a:pt x="2096" y="8008"/>
                  </a:lnTo>
                  <a:lnTo>
                    <a:pt x="2143" y="8010"/>
                  </a:lnTo>
                  <a:lnTo>
                    <a:pt x="2222" y="8013"/>
                  </a:lnTo>
                  <a:lnTo>
                    <a:pt x="2297" y="8014"/>
                  </a:lnTo>
                  <a:lnTo>
                    <a:pt x="2370" y="8014"/>
                  </a:lnTo>
                  <a:lnTo>
                    <a:pt x="2439" y="8011"/>
                  </a:lnTo>
                  <a:lnTo>
                    <a:pt x="2506" y="8008"/>
                  </a:lnTo>
                  <a:lnTo>
                    <a:pt x="2570" y="8003"/>
                  </a:lnTo>
                  <a:lnTo>
                    <a:pt x="2633" y="7996"/>
                  </a:lnTo>
                  <a:lnTo>
                    <a:pt x="2693" y="7988"/>
                  </a:lnTo>
                  <a:lnTo>
                    <a:pt x="2752" y="7978"/>
                  </a:lnTo>
                  <a:lnTo>
                    <a:pt x="2810" y="7966"/>
                  </a:lnTo>
                  <a:lnTo>
                    <a:pt x="2867" y="7954"/>
                  </a:lnTo>
                  <a:lnTo>
                    <a:pt x="2923" y="7939"/>
                  </a:lnTo>
                  <a:lnTo>
                    <a:pt x="2978" y="7921"/>
                  </a:lnTo>
                  <a:lnTo>
                    <a:pt x="3032" y="7902"/>
                  </a:lnTo>
                  <a:lnTo>
                    <a:pt x="3087" y="7882"/>
                  </a:lnTo>
                  <a:lnTo>
                    <a:pt x="3142" y="7859"/>
                  </a:lnTo>
                  <a:lnTo>
                    <a:pt x="3196" y="7836"/>
                  </a:lnTo>
                  <a:lnTo>
                    <a:pt x="3252" y="7809"/>
                  </a:lnTo>
                  <a:lnTo>
                    <a:pt x="3308" y="7781"/>
                  </a:lnTo>
                  <a:lnTo>
                    <a:pt x="3366" y="7751"/>
                  </a:lnTo>
                  <a:lnTo>
                    <a:pt x="3424" y="7719"/>
                  </a:lnTo>
                  <a:lnTo>
                    <a:pt x="3484" y="7684"/>
                  </a:lnTo>
                  <a:lnTo>
                    <a:pt x="3546" y="7648"/>
                  </a:lnTo>
                  <a:lnTo>
                    <a:pt x="3609" y="7609"/>
                  </a:lnTo>
                  <a:lnTo>
                    <a:pt x="3744" y="7526"/>
                  </a:lnTo>
                  <a:lnTo>
                    <a:pt x="3890" y="7433"/>
                  </a:lnTo>
                  <a:lnTo>
                    <a:pt x="4049" y="7332"/>
                  </a:lnTo>
                  <a:lnTo>
                    <a:pt x="4223" y="7221"/>
                  </a:lnTo>
                  <a:lnTo>
                    <a:pt x="4238" y="7210"/>
                  </a:lnTo>
                  <a:lnTo>
                    <a:pt x="4254" y="7200"/>
                  </a:lnTo>
                  <a:lnTo>
                    <a:pt x="4270" y="7187"/>
                  </a:lnTo>
                  <a:lnTo>
                    <a:pt x="4286" y="7174"/>
                  </a:lnTo>
                  <a:lnTo>
                    <a:pt x="4318" y="7146"/>
                  </a:lnTo>
                  <a:lnTo>
                    <a:pt x="4350" y="7114"/>
                  </a:lnTo>
                  <a:lnTo>
                    <a:pt x="4384" y="7081"/>
                  </a:lnTo>
                  <a:lnTo>
                    <a:pt x="4416" y="7045"/>
                  </a:lnTo>
                  <a:lnTo>
                    <a:pt x="4449" y="7010"/>
                  </a:lnTo>
                  <a:lnTo>
                    <a:pt x="4483" y="6972"/>
                  </a:lnTo>
                  <a:lnTo>
                    <a:pt x="4517" y="6936"/>
                  </a:lnTo>
                  <a:lnTo>
                    <a:pt x="4550" y="6899"/>
                  </a:lnTo>
                  <a:lnTo>
                    <a:pt x="4584" y="6864"/>
                  </a:lnTo>
                  <a:lnTo>
                    <a:pt x="4617" y="6830"/>
                  </a:lnTo>
                  <a:lnTo>
                    <a:pt x="4652" y="6798"/>
                  </a:lnTo>
                  <a:lnTo>
                    <a:pt x="4685" y="6769"/>
                  </a:lnTo>
                  <a:lnTo>
                    <a:pt x="4702" y="6755"/>
                  </a:lnTo>
                  <a:lnTo>
                    <a:pt x="4718" y="6743"/>
                  </a:lnTo>
                  <a:lnTo>
                    <a:pt x="4735" y="6731"/>
                  </a:lnTo>
                  <a:lnTo>
                    <a:pt x="4753" y="6720"/>
                  </a:lnTo>
                  <a:lnTo>
                    <a:pt x="4772" y="6710"/>
                  </a:lnTo>
                  <a:lnTo>
                    <a:pt x="4791" y="6699"/>
                  </a:lnTo>
                  <a:lnTo>
                    <a:pt x="4812" y="6686"/>
                  </a:lnTo>
                  <a:lnTo>
                    <a:pt x="4831" y="6673"/>
                  </a:lnTo>
                  <a:lnTo>
                    <a:pt x="4850" y="6659"/>
                  </a:lnTo>
                  <a:lnTo>
                    <a:pt x="4871" y="6644"/>
                  </a:lnTo>
                  <a:lnTo>
                    <a:pt x="4890" y="6629"/>
                  </a:lnTo>
                  <a:lnTo>
                    <a:pt x="4910" y="6612"/>
                  </a:lnTo>
                  <a:lnTo>
                    <a:pt x="4930" y="6596"/>
                  </a:lnTo>
                  <a:lnTo>
                    <a:pt x="4949" y="6578"/>
                  </a:lnTo>
                  <a:lnTo>
                    <a:pt x="4968" y="6559"/>
                  </a:lnTo>
                  <a:lnTo>
                    <a:pt x="4986" y="6541"/>
                  </a:lnTo>
                  <a:lnTo>
                    <a:pt x="5006" y="6522"/>
                  </a:lnTo>
                  <a:lnTo>
                    <a:pt x="5024" y="6502"/>
                  </a:lnTo>
                  <a:lnTo>
                    <a:pt x="5041" y="6482"/>
                  </a:lnTo>
                  <a:lnTo>
                    <a:pt x="5059" y="6462"/>
                  </a:lnTo>
                  <a:lnTo>
                    <a:pt x="5077" y="6440"/>
                  </a:lnTo>
                  <a:lnTo>
                    <a:pt x="5093" y="6420"/>
                  </a:lnTo>
                  <a:lnTo>
                    <a:pt x="5109" y="6399"/>
                  </a:lnTo>
                  <a:lnTo>
                    <a:pt x="5124" y="6377"/>
                  </a:lnTo>
                  <a:lnTo>
                    <a:pt x="5139" y="6355"/>
                  </a:lnTo>
                  <a:lnTo>
                    <a:pt x="5154" y="6333"/>
                  </a:lnTo>
                  <a:lnTo>
                    <a:pt x="5167" y="6312"/>
                  </a:lnTo>
                  <a:lnTo>
                    <a:pt x="5179" y="6290"/>
                  </a:lnTo>
                  <a:lnTo>
                    <a:pt x="5192" y="6268"/>
                  </a:lnTo>
                  <a:lnTo>
                    <a:pt x="5203" y="6246"/>
                  </a:lnTo>
                  <a:lnTo>
                    <a:pt x="5214" y="6225"/>
                  </a:lnTo>
                  <a:lnTo>
                    <a:pt x="5223" y="6203"/>
                  </a:lnTo>
                  <a:lnTo>
                    <a:pt x="5233" y="6182"/>
                  </a:lnTo>
                  <a:lnTo>
                    <a:pt x="5241" y="6162"/>
                  </a:lnTo>
                  <a:lnTo>
                    <a:pt x="5247" y="6141"/>
                  </a:lnTo>
                  <a:lnTo>
                    <a:pt x="5253" y="6121"/>
                  </a:lnTo>
                  <a:lnTo>
                    <a:pt x="5271" y="6073"/>
                  </a:lnTo>
                  <a:lnTo>
                    <a:pt x="5288" y="6024"/>
                  </a:lnTo>
                  <a:lnTo>
                    <a:pt x="5307" y="5975"/>
                  </a:lnTo>
                  <a:lnTo>
                    <a:pt x="5326" y="5925"/>
                  </a:lnTo>
                  <a:lnTo>
                    <a:pt x="5366" y="5823"/>
                  </a:lnTo>
                  <a:lnTo>
                    <a:pt x="5404" y="5719"/>
                  </a:lnTo>
                  <a:lnTo>
                    <a:pt x="5422" y="5666"/>
                  </a:lnTo>
                  <a:lnTo>
                    <a:pt x="5438" y="5614"/>
                  </a:lnTo>
                  <a:lnTo>
                    <a:pt x="5452" y="5560"/>
                  </a:lnTo>
                  <a:lnTo>
                    <a:pt x="5465" y="5507"/>
                  </a:lnTo>
                  <a:lnTo>
                    <a:pt x="5470" y="5481"/>
                  </a:lnTo>
                  <a:lnTo>
                    <a:pt x="5475" y="5454"/>
                  </a:lnTo>
                  <a:lnTo>
                    <a:pt x="5480" y="5426"/>
                  </a:lnTo>
                  <a:lnTo>
                    <a:pt x="5483" y="5399"/>
                  </a:lnTo>
                  <a:lnTo>
                    <a:pt x="5486" y="5372"/>
                  </a:lnTo>
                  <a:lnTo>
                    <a:pt x="5488" y="5345"/>
                  </a:lnTo>
                  <a:lnTo>
                    <a:pt x="5489" y="5319"/>
                  </a:lnTo>
                  <a:lnTo>
                    <a:pt x="5489" y="5292"/>
                  </a:lnTo>
                  <a:lnTo>
                    <a:pt x="5576" y="51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6040" y="3789360"/>
              <a:ext cx="2779560" cy="1062000"/>
            </a:xfrm>
            <a:custGeom>
              <a:avLst/>
              <a:gdLst/>
              <a:ahLst/>
              <a:rect l="l" t="t" r="r" b="b"/>
              <a:pathLst>
                <a:path w="16154" h="6688">
                  <a:moveTo>
                    <a:pt x="0" y="6688"/>
                  </a:moveTo>
                  <a:lnTo>
                    <a:pt x="41" y="6676"/>
                  </a:lnTo>
                  <a:lnTo>
                    <a:pt x="82" y="6663"/>
                  </a:lnTo>
                  <a:lnTo>
                    <a:pt x="124" y="6649"/>
                  </a:lnTo>
                  <a:lnTo>
                    <a:pt x="167" y="6632"/>
                  </a:lnTo>
                  <a:lnTo>
                    <a:pt x="210" y="6615"/>
                  </a:lnTo>
                  <a:lnTo>
                    <a:pt x="254" y="6595"/>
                  </a:lnTo>
                  <a:lnTo>
                    <a:pt x="297" y="6575"/>
                  </a:lnTo>
                  <a:lnTo>
                    <a:pt x="341" y="6554"/>
                  </a:lnTo>
                  <a:lnTo>
                    <a:pt x="385" y="6530"/>
                  </a:lnTo>
                  <a:lnTo>
                    <a:pt x="429" y="6506"/>
                  </a:lnTo>
                  <a:lnTo>
                    <a:pt x="474" y="6482"/>
                  </a:lnTo>
                  <a:lnTo>
                    <a:pt x="518" y="6456"/>
                  </a:lnTo>
                  <a:lnTo>
                    <a:pt x="607" y="6403"/>
                  </a:lnTo>
                  <a:lnTo>
                    <a:pt x="695" y="6349"/>
                  </a:lnTo>
                  <a:lnTo>
                    <a:pt x="870" y="6235"/>
                  </a:lnTo>
                  <a:lnTo>
                    <a:pt x="1038" y="6123"/>
                  </a:lnTo>
                  <a:lnTo>
                    <a:pt x="1119" y="6069"/>
                  </a:lnTo>
                  <a:lnTo>
                    <a:pt x="1198" y="6018"/>
                  </a:lnTo>
                  <a:lnTo>
                    <a:pt x="1274" y="5970"/>
                  </a:lnTo>
                  <a:lnTo>
                    <a:pt x="1347" y="5927"/>
                  </a:lnTo>
                  <a:lnTo>
                    <a:pt x="1389" y="5908"/>
                  </a:lnTo>
                  <a:lnTo>
                    <a:pt x="1432" y="5889"/>
                  </a:lnTo>
                  <a:lnTo>
                    <a:pt x="1474" y="5871"/>
                  </a:lnTo>
                  <a:lnTo>
                    <a:pt x="1517" y="5853"/>
                  </a:lnTo>
                  <a:lnTo>
                    <a:pt x="1560" y="5837"/>
                  </a:lnTo>
                  <a:lnTo>
                    <a:pt x="1604" y="5820"/>
                  </a:lnTo>
                  <a:lnTo>
                    <a:pt x="1649" y="5805"/>
                  </a:lnTo>
                  <a:lnTo>
                    <a:pt x="1693" y="5790"/>
                  </a:lnTo>
                  <a:lnTo>
                    <a:pt x="1783" y="5761"/>
                  </a:lnTo>
                  <a:lnTo>
                    <a:pt x="1873" y="5733"/>
                  </a:lnTo>
                  <a:lnTo>
                    <a:pt x="1964" y="5705"/>
                  </a:lnTo>
                  <a:lnTo>
                    <a:pt x="2055" y="5679"/>
                  </a:lnTo>
                  <a:lnTo>
                    <a:pt x="2146" y="5652"/>
                  </a:lnTo>
                  <a:lnTo>
                    <a:pt x="2237" y="5625"/>
                  </a:lnTo>
                  <a:lnTo>
                    <a:pt x="2326" y="5596"/>
                  </a:lnTo>
                  <a:lnTo>
                    <a:pt x="2416" y="5567"/>
                  </a:lnTo>
                  <a:lnTo>
                    <a:pt x="2460" y="5551"/>
                  </a:lnTo>
                  <a:lnTo>
                    <a:pt x="2504" y="5535"/>
                  </a:lnTo>
                  <a:lnTo>
                    <a:pt x="2547" y="5519"/>
                  </a:lnTo>
                  <a:lnTo>
                    <a:pt x="2590" y="5502"/>
                  </a:lnTo>
                  <a:lnTo>
                    <a:pt x="2633" y="5484"/>
                  </a:lnTo>
                  <a:lnTo>
                    <a:pt x="2676" y="5465"/>
                  </a:lnTo>
                  <a:lnTo>
                    <a:pt x="2718" y="5446"/>
                  </a:lnTo>
                  <a:lnTo>
                    <a:pt x="2758" y="5427"/>
                  </a:lnTo>
                  <a:lnTo>
                    <a:pt x="2819" y="5393"/>
                  </a:lnTo>
                  <a:lnTo>
                    <a:pt x="2882" y="5362"/>
                  </a:lnTo>
                  <a:lnTo>
                    <a:pt x="2945" y="5332"/>
                  </a:lnTo>
                  <a:lnTo>
                    <a:pt x="3009" y="5303"/>
                  </a:lnTo>
                  <a:lnTo>
                    <a:pt x="3075" y="5275"/>
                  </a:lnTo>
                  <a:lnTo>
                    <a:pt x="3141" y="5250"/>
                  </a:lnTo>
                  <a:lnTo>
                    <a:pt x="3208" y="5224"/>
                  </a:lnTo>
                  <a:lnTo>
                    <a:pt x="3276" y="5200"/>
                  </a:lnTo>
                  <a:lnTo>
                    <a:pt x="3344" y="5177"/>
                  </a:lnTo>
                  <a:lnTo>
                    <a:pt x="3414" y="5154"/>
                  </a:lnTo>
                  <a:lnTo>
                    <a:pt x="3483" y="5133"/>
                  </a:lnTo>
                  <a:lnTo>
                    <a:pt x="3553" y="5112"/>
                  </a:lnTo>
                  <a:lnTo>
                    <a:pt x="3624" y="5092"/>
                  </a:lnTo>
                  <a:lnTo>
                    <a:pt x="3695" y="5073"/>
                  </a:lnTo>
                  <a:lnTo>
                    <a:pt x="3766" y="5054"/>
                  </a:lnTo>
                  <a:lnTo>
                    <a:pt x="3838" y="5036"/>
                  </a:lnTo>
                  <a:lnTo>
                    <a:pt x="3982" y="5002"/>
                  </a:lnTo>
                  <a:lnTo>
                    <a:pt x="4126" y="4970"/>
                  </a:lnTo>
                  <a:lnTo>
                    <a:pt x="4269" y="4938"/>
                  </a:lnTo>
                  <a:lnTo>
                    <a:pt x="4412" y="4906"/>
                  </a:lnTo>
                  <a:lnTo>
                    <a:pt x="4554" y="4876"/>
                  </a:lnTo>
                  <a:lnTo>
                    <a:pt x="4693" y="4845"/>
                  </a:lnTo>
                  <a:lnTo>
                    <a:pt x="4830" y="4814"/>
                  </a:lnTo>
                  <a:lnTo>
                    <a:pt x="4964" y="4781"/>
                  </a:lnTo>
                  <a:lnTo>
                    <a:pt x="5008" y="4775"/>
                  </a:lnTo>
                  <a:lnTo>
                    <a:pt x="5061" y="4770"/>
                  </a:lnTo>
                  <a:lnTo>
                    <a:pt x="5121" y="4767"/>
                  </a:lnTo>
                  <a:lnTo>
                    <a:pt x="5186" y="4765"/>
                  </a:lnTo>
                  <a:lnTo>
                    <a:pt x="5222" y="4765"/>
                  </a:lnTo>
                  <a:lnTo>
                    <a:pt x="5257" y="4765"/>
                  </a:lnTo>
                  <a:lnTo>
                    <a:pt x="5294" y="4766"/>
                  </a:lnTo>
                  <a:lnTo>
                    <a:pt x="5330" y="4768"/>
                  </a:lnTo>
                  <a:lnTo>
                    <a:pt x="5368" y="4770"/>
                  </a:lnTo>
                  <a:lnTo>
                    <a:pt x="5405" y="4773"/>
                  </a:lnTo>
                  <a:lnTo>
                    <a:pt x="5443" y="4777"/>
                  </a:lnTo>
                  <a:lnTo>
                    <a:pt x="5479" y="4782"/>
                  </a:lnTo>
                  <a:lnTo>
                    <a:pt x="5517" y="4787"/>
                  </a:lnTo>
                  <a:lnTo>
                    <a:pt x="5553" y="4794"/>
                  </a:lnTo>
                  <a:lnTo>
                    <a:pt x="5589" y="4800"/>
                  </a:lnTo>
                  <a:lnTo>
                    <a:pt x="5623" y="4809"/>
                  </a:lnTo>
                  <a:lnTo>
                    <a:pt x="5657" y="4817"/>
                  </a:lnTo>
                  <a:lnTo>
                    <a:pt x="5689" y="4828"/>
                  </a:lnTo>
                  <a:lnTo>
                    <a:pt x="5721" y="4839"/>
                  </a:lnTo>
                  <a:lnTo>
                    <a:pt x="5749" y="4852"/>
                  </a:lnTo>
                  <a:lnTo>
                    <a:pt x="5777" y="4865"/>
                  </a:lnTo>
                  <a:lnTo>
                    <a:pt x="5803" y="4880"/>
                  </a:lnTo>
                  <a:lnTo>
                    <a:pt x="5826" y="4896"/>
                  </a:lnTo>
                  <a:lnTo>
                    <a:pt x="5847" y="4913"/>
                  </a:lnTo>
                  <a:lnTo>
                    <a:pt x="5865" y="4931"/>
                  </a:lnTo>
                  <a:lnTo>
                    <a:pt x="5881" y="4950"/>
                  </a:lnTo>
                  <a:lnTo>
                    <a:pt x="5894" y="4972"/>
                  </a:lnTo>
                  <a:lnTo>
                    <a:pt x="5904" y="4994"/>
                  </a:lnTo>
                  <a:lnTo>
                    <a:pt x="5925" y="5055"/>
                  </a:lnTo>
                  <a:lnTo>
                    <a:pt x="5946" y="5119"/>
                  </a:lnTo>
                  <a:lnTo>
                    <a:pt x="5966" y="5182"/>
                  </a:lnTo>
                  <a:lnTo>
                    <a:pt x="5984" y="5247"/>
                  </a:lnTo>
                  <a:lnTo>
                    <a:pt x="6020" y="5380"/>
                  </a:lnTo>
                  <a:lnTo>
                    <a:pt x="6053" y="5516"/>
                  </a:lnTo>
                  <a:lnTo>
                    <a:pt x="6086" y="5650"/>
                  </a:lnTo>
                  <a:lnTo>
                    <a:pt x="6119" y="5783"/>
                  </a:lnTo>
                  <a:lnTo>
                    <a:pt x="6138" y="5848"/>
                  </a:lnTo>
                  <a:lnTo>
                    <a:pt x="6157" y="5912"/>
                  </a:lnTo>
                  <a:lnTo>
                    <a:pt x="6176" y="5976"/>
                  </a:lnTo>
                  <a:lnTo>
                    <a:pt x="6198" y="6037"/>
                  </a:lnTo>
                  <a:lnTo>
                    <a:pt x="6208" y="6072"/>
                  </a:lnTo>
                  <a:lnTo>
                    <a:pt x="6218" y="6110"/>
                  </a:lnTo>
                  <a:lnTo>
                    <a:pt x="6227" y="6150"/>
                  </a:lnTo>
                  <a:lnTo>
                    <a:pt x="6235" y="6192"/>
                  </a:lnTo>
                  <a:lnTo>
                    <a:pt x="6248" y="6281"/>
                  </a:lnTo>
                  <a:lnTo>
                    <a:pt x="6260" y="6372"/>
                  </a:lnTo>
                  <a:lnTo>
                    <a:pt x="6272" y="6462"/>
                  </a:lnTo>
                  <a:lnTo>
                    <a:pt x="6284" y="6547"/>
                  </a:lnTo>
                  <a:lnTo>
                    <a:pt x="6291" y="6587"/>
                  </a:lnTo>
                  <a:lnTo>
                    <a:pt x="6300" y="6623"/>
                  </a:lnTo>
                  <a:lnTo>
                    <a:pt x="6304" y="6642"/>
                  </a:lnTo>
                  <a:lnTo>
                    <a:pt x="6308" y="6658"/>
                  </a:lnTo>
                  <a:lnTo>
                    <a:pt x="6314" y="6673"/>
                  </a:lnTo>
                  <a:lnTo>
                    <a:pt x="6318" y="6688"/>
                  </a:lnTo>
                  <a:lnTo>
                    <a:pt x="0" y="6688"/>
                  </a:lnTo>
                  <a:close/>
                  <a:moveTo>
                    <a:pt x="9106" y="0"/>
                  </a:moveTo>
                  <a:lnTo>
                    <a:pt x="9052" y="30"/>
                  </a:lnTo>
                  <a:lnTo>
                    <a:pt x="8998" y="61"/>
                  </a:lnTo>
                  <a:lnTo>
                    <a:pt x="8943" y="93"/>
                  </a:lnTo>
                  <a:lnTo>
                    <a:pt x="8891" y="127"/>
                  </a:lnTo>
                  <a:lnTo>
                    <a:pt x="8838" y="159"/>
                  </a:lnTo>
                  <a:lnTo>
                    <a:pt x="8787" y="191"/>
                  </a:lnTo>
                  <a:lnTo>
                    <a:pt x="8739" y="221"/>
                  </a:lnTo>
                  <a:lnTo>
                    <a:pt x="8691" y="248"/>
                  </a:lnTo>
                  <a:lnTo>
                    <a:pt x="8604" y="300"/>
                  </a:lnTo>
                  <a:lnTo>
                    <a:pt x="8515" y="360"/>
                  </a:lnTo>
                  <a:lnTo>
                    <a:pt x="8424" y="429"/>
                  </a:lnTo>
                  <a:lnTo>
                    <a:pt x="8332" y="505"/>
                  </a:lnTo>
                  <a:lnTo>
                    <a:pt x="8238" y="589"/>
                  </a:lnTo>
                  <a:lnTo>
                    <a:pt x="8141" y="679"/>
                  </a:lnTo>
                  <a:lnTo>
                    <a:pt x="8045" y="775"/>
                  </a:lnTo>
                  <a:lnTo>
                    <a:pt x="7947" y="877"/>
                  </a:lnTo>
                  <a:lnTo>
                    <a:pt x="7848" y="985"/>
                  </a:lnTo>
                  <a:lnTo>
                    <a:pt x="7749" y="1097"/>
                  </a:lnTo>
                  <a:lnTo>
                    <a:pt x="7650" y="1214"/>
                  </a:lnTo>
                  <a:lnTo>
                    <a:pt x="7550" y="1335"/>
                  </a:lnTo>
                  <a:lnTo>
                    <a:pt x="7450" y="1461"/>
                  </a:lnTo>
                  <a:lnTo>
                    <a:pt x="7351" y="1588"/>
                  </a:lnTo>
                  <a:lnTo>
                    <a:pt x="7251" y="1719"/>
                  </a:lnTo>
                  <a:lnTo>
                    <a:pt x="7153" y="1851"/>
                  </a:lnTo>
                  <a:lnTo>
                    <a:pt x="7055" y="1986"/>
                  </a:lnTo>
                  <a:lnTo>
                    <a:pt x="6958" y="2122"/>
                  </a:lnTo>
                  <a:lnTo>
                    <a:pt x="6863" y="2259"/>
                  </a:lnTo>
                  <a:lnTo>
                    <a:pt x="6768" y="2396"/>
                  </a:lnTo>
                  <a:lnTo>
                    <a:pt x="6676" y="2533"/>
                  </a:lnTo>
                  <a:lnTo>
                    <a:pt x="6585" y="2670"/>
                  </a:lnTo>
                  <a:lnTo>
                    <a:pt x="6496" y="2807"/>
                  </a:lnTo>
                  <a:lnTo>
                    <a:pt x="6410" y="2942"/>
                  </a:lnTo>
                  <a:lnTo>
                    <a:pt x="6325" y="3074"/>
                  </a:lnTo>
                  <a:lnTo>
                    <a:pt x="6244" y="3204"/>
                  </a:lnTo>
                  <a:lnTo>
                    <a:pt x="6165" y="3333"/>
                  </a:lnTo>
                  <a:lnTo>
                    <a:pt x="6088" y="3458"/>
                  </a:lnTo>
                  <a:lnTo>
                    <a:pt x="6015" y="3579"/>
                  </a:lnTo>
                  <a:lnTo>
                    <a:pt x="5946" y="3697"/>
                  </a:lnTo>
                  <a:lnTo>
                    <a:pt x="5879" y="3809"/>
                  </a:lnTo>
                  <a:lnTo>
                    <a:pt x="5817" y="3917"/>
                  </a:lnTo>
                  <a:lnTo>
                    <a:pt x="5829" y="3981"/>
                  </a:lnTo>
                  <a:lnTo>
                    <a:pt x="5840" y="4043"/>
                  </a:lnTo>
                  <a:lnTo>
                    <a:pt x="5851" y="4104"/>
                  </a:lnTo>
                  <a:lnTo>
                    <a:pt x="5862" y="4165"/>
                  </a:lnTo>
                  <a:lnTo>
                    <a:pt x="5866" y="4196"/>
                  </a:lnTo>
                  <a:lnTo>
                    <a:pt x="5871" y="4227"/>
                  </a:lnTo>
                  <a:lnTo>
                    <a:pt x="5874" y="4258"/>
                  </a:lnTo>
                  <a:lnTo>
                    <a:pt x="5877" y="4289"/>
                  </a:lnTo>
                  <a:lnTo>
                    <a:pt x="5879" y="4321"/>
                  </a:lnTo>
                  <a:lnTo>
                    <a:pt x="5880" y="4352"/>
                  </a:lnTo>
                  <a:lnTo>
                    <a:pt x="5881" y="4385"/>
                  </a:lnTo>
                  <a:lnTo>
                    <a:pt x="5880" y="4418"/>
                  </a:lnTo>
                  <a:lnTo>
                    <a:pt x="5812" y="4591"/>
                  </a:lnTo>
                  <a:lnTo>
                    <a:pt x="5858" y="4896"/>
                  </a:lnTo>
                  <a:lnTo>
                    <a:pt x="5869" y="4905"/>
                  </a:lnTo>
                  <a:lnTo>
                    <a:pt x="5879" y="4918"/>
                  </a:lnTo>
                  <a:lnTo>
                    <a:pt x="5889" y="4933"/>
                  </a:lnTo>
                  <a:lnTo>
                    <a:pt x="5900" y="4951"/>
                  </a:lnTo>
                  <a:lnTo>
                    <a:pt x="5909" y="4971"/>
                  </a:lnTo>
                  <a:lnTo>
                    <a:pt x="5920" y="4993"/>
                  </a:lnTo>
                  <a:lnTo>
                    <a:pt x="5930" y="5018"/>
                  </a:lnTo>
                  <a:lnTo>
                    <a:pt x="5939" y="5044"/>
                  </a:lnTo>
                  <a:lnTo>
                    <a:pt x="5959" y="5102"/>
                  </a:lnTo>
                  <a:lnTo>
                    <a:pt x="5978" y="5166"/>
                  </a:lnTo>
                  <a:lnTo>
                    <a:pt x="5996" y="5235"/>
                  </a:lnTo>
                  <a:lnTo>
                    <a:pt x="6014" y="5306"/>
                  </a:lnTo>
                  <a:lnTo>
                    <a:pt x="6051" y="5457"/>
                  </a:lnTo>
                  <a:lnTo>
                    <a:pt x="6087" y="5606"/>
                  </a:lnTo>
                  <a:lnTo>
                    <a:pt x="6106" y="5677"/>
                  </a:lnTo>
                  <a:lnTo>
                    <a:pt x="6125" y="5745"/>
                  </a:lnTo>
                  <a:lnTo>
                    <a:pt x="6134" y="5777"/>
                  </a:lnTo>
                  <a:lnTo>
                    <a:pt x="6143" y="5807"/>
                  </a:lnTo>
                  <a:lnTo>
                    <a:pt x="6153" y="5836"/>
                  </a:lnTo>
                  <a:lnTo>
                    <a:pt x="6162" y="5864"/>
                  </a:lnTo>
                  <a:lnTo>
                    <a:pt x="6174" y="5896"/>
                  </a:lnTo>
                  <a:lnTo>
                    <a:pt x="6185" y="5927"/>
                  </a:lnTo>
                  <a:lnTo>
                    <a:pt x="6195" y="5957"/>
                  </a:lnTo>
                  <a:lnTo>
                    <a:pt x="6203" y="5986"/>
                  </a:lnTo>
                  <a:lnTo>
                    <a:pt x="6218" y="6043"/>
                  </a:lnTo>
                  <a:lnTo>
                    <a:pt x="6231" y="6098"/>
                  </a:lnTo>
                  <a:lnTo>
                    <a:pt x="6242" y="6150"/>
                  </a:lnTo>
                  <a:lnTo>
                    <a:pt x="6250" y="6201"/>
                  </a:lnTo>
                  <a:lnTo>
                    <a:pt x="6257" y="6249"/>
                  </a:lnTo>
                  <a:lnTo>
                    <a:pt x="6263" y="6297"/>
                  </a:lnTo>
                  <a:lnTo>
                    <a:pt x="6274" y="6392"/>
                  </a:lnTo>
                  <a:lnTo>
                    <a:pt x="6285" y="6486"/>
                  </a:lnTo>
                  <a:lnTo>
                    <a:pt x="6292" y="6534"/>
                  </a:lnTo>
                  <a:lnTo>
                    <a:pt x="6301" y="6584"/>
                  </a:lnTo>
                  <a:lnTo>
                    <a:pt x="6311" y="6634"/>
                  </a:lnTo>
                  <a:lnTo>
                    <a:pt x="6324" y="6688"/>
                  </a:lnTo>
                  <a:lnTo>
                    <a:pt x="6923" y="6688"/>
                  </a:lnTo>
                  <a:lnTo>
                    <a:pt x="6935" y="6657"/>
                  </a:lnTo>
                  <a:lnTo>
                    <a:pt x="6946" y="6624"/>
                  </a:lnTo>
                  <a:lnTo>
                    <a:pt x="6960" y="6593"/>
                  </a:lnTo>
                  <a:lnTo>
                    <a:pt x="6974" y="6562"/>
                  </a:lnTo>
                  <a:lnTo>
                    <a:pt x="6989" y="6530"/>
                  </a:lnTo>
                  <a:lnTo>
                    <a:pt x="7004" y="6499"/>
                  </a:lnTo>
                  <a:lnTo>
                    <a:pt x="7020" y="6468"/>
                  </a:lnTo>
                  <a:lnTo>
                    <a:pt x="7038" y="6436"/>
                  </a:lnTo>
                  <a:lnTo>
                    <a:pt x="7073" y="6373"/>
                  </a:lnTo>
                  <a:lnTo>
                    <a:pt x="7109" y="6310"/>
                  </a:lnTo>
                  <a:lnTo>
                    <a:pt x="7147" y="6248"/>
                  </a:lnTo>
                  <a:lnTo>
                    <a:pt x="7186" y="6185"/>
                  </a:lnTo>
                  <a:lnTo>
                    <a:pt x="7223" y="6123"/>
                  </a:lnTo>
                  <a:lnTo>
                    <a:pt x="7262" y="6060"/>
                  </a:lnTo>
                  <a:lnTo>
                    <a:pt x="7298" y="5998"/>
                  </a:lnTo>
                  <a:lnTo>
                    <a:pt x="7334" y="5936"/>
                  </a:lnTo>
                  <a:lnTo>
                    <a:pt x="7350" y="5905"/>
                  </a:lnTo>
                  <a:lnTo>
                    <a:pt x="7366" y="5874"/>
                  </a:lnTo>
                  <a:lnTo>
                    <a:pt x="7382" y="5844"/>
                  </a:lnTo>
                  <a:lnTo>
                    <a:pt x="7397" y="5813"/>
                  </a:lnTo>
                  <a:lnTo>
                    <a:pt x="7411" y="5783"/>
                  </a:lnTo>
                  <a:lnTo>
                    <a:pt x="7424" y="5751"/>
                  </a:lnTo>
                  <a:lnTo>
                    <a:pt x="7437" y="5721"/>
                  </a:lnTo>
                  <a:lnTo>
                    <a:pt x="7447" y="5691"/>
                  </a:lnTo>
                  <a:lnTo>
                    <a:pt x="7459" y="5653"/>
                  </a:lnTo>
                  <a:lnTo>
                    <a:pt x="7471" y="5617"/>
                  </a:lnTo>
                  <a:lnTo>
                    <a:pt x="7485" y="5583"/>
                  </a:lnTo>
                  <a:lnTo>
                    <a:pt x="7499" y="5551"/>
                  </a:lnTo>
                  <a:lnTo>
                    <a:pt x="7514" y="5520"/>
                  </a:lnTo>
                  <a:lnTo>
                    <a:pt x="7529" y="5491"/>
                  </a:lnTo>
                  <a:lnTo>
                    <a:pt x="7545" y="5463"/>
                  </a:lnTo>
                  <a:lnTo>
                    <a:pt x="7562" y="5436"/>
                  </a:lnTo>
                  <a:lnTo>
                    <a:pt x="7579" y="5410"/>
                  </a:lnTo>
                  <a:lnTo>
                    <a:pt x="7596" y="5386"/>
                  </a:lnTo>
                  <a:lnTo>
                    <a:pt x="7613" y="5361"/>
                  </a:lnTo>
                  <a:lnTo>
                    <a:pt x="7632" y="5338"/>
                  </a:lnTo>
                  <a:lnTo>
                    <a:pt x="7668" y="5292"/>
                  </a:lnTo>
                  <a:lnTo>
                    <a:pt x="7705" y="5249"/>
                  </a:lnTo>
                  <a:lnTo>
                    <a:pt x="7740" y="5205"/>
                  </a:lnTo>
                  <a:lnTo>
                    <a:pt x="7774" y="5160"/>
                  </a:lnTo>
                  <a:lnTo>
                    <a:pt x="7790" y="5136"/>
                  </a:lnTo>
                  <a:lnTo>
                    <a:pt x="7805" y="5112"/>
                  </a:lnTo>
                  <a:lnTo>
                    <a:pt x="7822" y="5088"/>
                  </a:lnTo>
                  <a:lnTo>
                    <a:pt x="7835" y="5062"/>
                  </a:lnTo>
                  <a:lnTo>
                    <a:pt x="7848" y="5035"/>
                  </a:lnTo>
                  <a:lnTo>
                    <a:pt x="7861" y="5007"/>
                  </a:lnTo>
                  <a:lnTo>
                    <a:pt x="7873" y="4978"/>
                  </a:lnTo>
                  <a:lnTo>
                    <a:pt x="7884" y="4948"/>
                  </a:lnTo>
                  <a:lnTo>
                    <a:pt x="7893" y="4916"/>
                  </a:lnTo>
                  <a:lnTo>
                    <a:pt x="7902" y="4883"/>
                  </a:lnTo>
                  <a:lnTo>
                    <a:pt x="7908" y="4847"/>
                  </a:lnTo>
                  <a:lnTo>
                    <a:pt x="7914" y="4810"/>
                  </a:lnTo>
                  <a:lnTo>
                    <a:pt x="7903" y="4802"/>
                  </a:lnTo>
                  <a:lnTo>
                    <a:pt x="7891" y="4797"/>
                  </a:lnTo>
                  <a:lnTo>
                    <a:pt x="7877" y="4792"/>
                  </a:lnTo>
                  <a:lnTo>
                    <a:pt x="7863" y="4787"/>
                  </a:lnTo>
                  <a:lnTo>
                    <a:pt x="7846" y="4784"/>
                  </a:lnTo>
                  <a:lnTo>
                    <a:pt x="7829" y="4782"/>
                  </a:lnTo>
                  <a:lnTo>
                    <a:pt x="7811" y="4780"/>
                  </a:lnTo>
                  <a:lnTo>
                    <a:pt x="7790" y="4780"/>
                  </a:lnTo>
                  <a:lnTo>
                    <a:pt x="7770" y="4780"/>
                  </a:lnTo>
                  <a:lnTo>
                    <a:pt x="7749" y="4780"/>
                  </a:lnTo>
                  <a:lnTo>
                    <a:pt x="7726" y="4782"/>
                  </a:lnTo>
                  <a:lnTo>
                    <a:pt x="7702" y="4784"/>
                  </a:lnTo>
                  <a:lnTo>
                    <a:pt x="7653" y="4791"/>
                  </a:lnTo>
                  <a:lnTo>
                    <a:pt x="7602" y="4800"/>
                  </a:lnTo>
                  <a:lnTo>
                    <a:pt x="7549" y="4811"/>
                  </a:lnTo>
                  <a:lnTo>
                    <a:pt x="7495" y="4825"/>
                  </a:lnTo>
                  <a:lnTo>
                    <a:pt x="7441" y="4840"/>
                  </a:lnTo>
                  <a:lnTo>
                    <a:pt x="7386" y="4857"/>
                  </a:lnTo>
                  <a:lnTo>
                    <a:pt x="7332" y="4875"/>
                  </a:lnTo>
                  <a:lnTo>
                    <a:pt x="7281" y="4895"/>
                  </a:lnTo>
                  <a:lnTo>
                    <a:pt x="7231" y="4915"/>
                  </a:lnTo>
                  <a:lnTo>
                    <a:pt x="7182" y="4936"/>
                  </a:lnTo>
                  <a:lnTo>
                    <a:pt x="7128" y="4959"/>
                  </a:lnTo>
                  <a:lnTo>
                    <a:pt x="7074" y="4980"/>
                  </a:lnTo>
                  <a:lnTo>
                    <a:pt x="7020" y="5000"/>
                  </a:lnTo>
                  <a:lnTo>
                    <a:pt x="6968" y="5018"/>
                  </a:lnTo>
                  <a:lnTo>
                    <a:pt x="6915" y="5034"/>
                  </a:lnTo>
                  <a:lnTo>
                    <a:pt x="6864" y="5049"/>
                  </a:lnTo>
                  <a:lnTo>
                    <a:pt x="6813" y="5062"/>
                  </a:lnTo>
                  <a:lnTo>
                    <a:pt x="6763" y="5075"/>
                  </a:lnTo>
                  <a:lnTo>
                    <a:pt x="6714" y="5086"/>
                  </a:lnTo>
                  <a:lnTo>
                    <a:pt x="6665" y="5094"/>
                  </a:lnTo>
                  <a:lnTo>
                    <a:pt x="6618" y="5103"/>
                  </a:lnTo>
                  <a:lnTo>
                    <a:pt x="6572" y="5109"/>
                  </a:lnTo>
                  <a:lnTo>
                    <a:pt x="6528" y="5116"/>
                  </a:lnTo>
                  <a:lnTo>
                    <a:pt x="6484" y="5121"/>
                  </a:lnTo>
                  <a:lnTo>
                    <a:pt x="6442" y="5124"/>
                  </a:lnTo>
                  <a:lnTo>
                    <a:pt x="6402" y="5127"/>
                  </a:lnTo>
                  <a:lnTo>
                    <a:pt x="6362" y="5129"/>
                  </a:lnTo>
                  <a:lnTo>
                    <a:pt x="6324" y="5131"/>
                  </a:lnTo>
                  <a:lnTo>
                    <a:pt x="6288" y="5132"/>
                  </a:lnTo>
                  <a:lnTo>
                    <a:pt x="6254" y="5132"/>
                  </a:lnTo>
                  <a:lnTo>
                    <a:pt x="6220" y="5131"/>
                  </a:lnTo>
                  <a:lnTo>
                    <a:pt x="6189" y="5129"/>
                  </a:lnTo>
                  <a:lnTo>
                    <a:pt x="6160" y="5127"/>
                  </a:lnTo>
                  <a:lnTo>
                    <a:pt x="6133" y="5125"/>
                  </a:lnTo>
                  <a:lnTo>
                    <a:pt x="6109" y="5123"/>
                  </a:lnTo>
                  <a:lnTo>
                    <a:pt x="6085" y="5120"/>
                  </a:lnTo>
                  <a:lnTo>
                    <a:pt x="6065" y="5117"/>
                  </a:lnTo>
                  <a:lnTo>
                    <a:pt x="6047" y="5112"/>
                  </a:lnTo>
                  <a:lnTo>
                    <a:pt x="6029" y="5109"/>
                  </a:lnTo>
                  <a:lnTo>
                    <a:pt x="6017" y="5106"/>
                  </a:lnTo>
                  <a:lnTo>
                    <a:pt x="6005" y="5102"/>
                  </a:lnTo>
                  <a:lnTo>
                    <a:pt x="5996" y="5097"/>
                  </a:lnTo>
                  <a:lnTo>
                    <a:pt x="6076" y="5097"/>
                  </a:lnTo>
                  <a:lnTo>
                    <a:pt x="6155" y="5095"/>
                  </a:lnTo>
                  <a:lnTo>
                    <a:pt x="6234" y="5093"/>
                  </a:lnTo>
                  <a:lnTo>
                    <a:pt x="6313" y="5088"/>
                  </a:lnTo>
                  <a:lnTo>
                    <a:pt x="6391" y="5082"/>
                  </a:lnTo>
                  <a:lnTo>
                    <a:pt x="6469" y="5075"/>
                  </a:lnTo>
                  <a:lnTo>
                    <a:pt x="6545" y="5065"/>
                  </a:lnTo>
                  <a:lnTo>
                    <a:pt x="6622" y="5053"/>
                  </a:lnTo>
                  <a:lnTo>
                    <a:pt x="6698" y="5040"/>
                  </a:lnTo>
                  <a:lnTo>
                    <a:pt x="6772" y="5024"/>
                  </a:lnTo>
                  <a:lnTo>
                    <a:pt x="6846" y="5007"/>
                  </a:lnTo>
                  <a:lnTo>
                    <a:pt x="6917" y="4987"/>
                  </a:lnTo>
                  <a:lnTo>
                    <a:pt x="6988" y="4964"/>
                  </a:lnTo>
                  <a:lnTo>
                    <a:pt x="7059" y="4939"/>
                  </a:lnTo>
                  <a:lnTo>
                    <a:pt x="7128" y="4910"/>
                  </a:lnTo>
                  <a:lnTo>
                    <a:pt x="7194" y="4879"/>
                  </a:lnTo>
                  <a:lnTo>
                    <a:pt x="7261" y="4844"/>
                  </a:lnTo>
                  <a:lnTo>
                    <a:pt x="7325" y="4808"/>
                  </a:lnTo>
                  <a:lnTo>
                    <a:pt x="7387" y="4767"/>
                  </a:lnTo>
                  <a:lnTo>
                    <a:pt x="7448" y="4723"/>
                  </a:lnTo>
                  <a:lnTo>
                    <a:pt x="7507" y="4675"/>
                  </a:lnTo>
                  <a:lnTo>
                    <a:pt x="7565" y="4623"/>
                  </a:lnTo>
                  <a:lnTo>
                    <a:pt x="7620" y="4569"/>
                  </a:lnTo>
                  <a:lnTo>
                    <a:pt x="7674" y="4510"/>
                  </a:lnTo>
                  <a:lnTo>
                    <a:pt x="7725" y="4446"/>
                  </a:lnTo>
                  <a:lnTo>
                    <a:pt x="7773" y="4380"/>
                  </a:lnTo>
                  <a:lnTo>
                    <a:pt x="7820" y="4308"/>
                  </a:lnTo>
                  <a:lnTo>
                    <a:pt x="7864" y="4232"/>
                  </a:lnTo>
                  <a:lnTo>
                    <a:pt x="7907" y="4153"/>
                  </a:lnTo>
                  <a:lnTo>
                    <a:pt x="7946" y="4067"/>
                  </a:lnTo>
                  <a:lnTo>
                    <a:pt x="7983" y="3978"/>
                  </a:lnTo>
                  <a:lnTo>
                    <a:pt x="8018" y="3882"/>
                  </a:lnTo>
                  <a:lnTo>
                    <a:pt x="8024" y="3868"/>
                  </a:lnTo>
                  <a:lnTo>
                    <a:pt x="8031" y="3853"/>
                  </a:lnTo>
                  <a:lnTo>
                    <a:pt x="8039" y="3837"/>
                  </a:lnTo>
                  <a:lnTo>
                    <a:pt x="8049" y="3821"/>
                  </a:lnTo>
                  <a:lnTo>
                    <a:pt x="8070" y="3788"/>
                  </a:lnTo>
                  <a:lnTo>
                    <a:pt x="8093" y="3754"/>
                  </a:lnTo>
                  <a:lnTo>
                    <a:pt x="8115" y="3720"/>
                  </a:lnTo>
                  <a:lnTo>
                    <a:pt x="8136" y="3687"/>
                  </a:lnTo>
                  <a:lnTo>
                    <a:pt x="8145" y="3672"/>
                  </a:lnTo>
                  <a:lnTo>
                    <a:pt x="8154" y="3657"/>
                  </a:lnTo>
                  <a:lnTo>
                    <a:pt x="8162" y="3642"/>
                  </a:lnTo>
                  <a:lnTo>
                    <a:pt x="8168" y="3629"/>
                  </a:lnTo>
                  <a:lnTo>
                    <a:pt x="8173" y="3612"/>
                  </a:lnTo>
                  <a:lnTo>
                    <a:pt x="8181" y="3595"/>
                  </a:lnTo>
                  <a:lnTo>
                    <a:pt x="8188" y="3577"/>
                  </a:lnTo>
                  <a:lnTo>
                    <a:pt x="8198" y="3559"/>
                  </a:lnTo>
                  <a:lnTo>
                    <a:pt x="8208" y="3540"/>
                  </a:lnTo>
                  <a:lnTo>
                    <a:pt x="8219" y="3522"/>
                  </a:lnTo>
                  <a:lnTo>
                    <a:pt x="8231" y="3503"/>
                  </a:lnTo>
                  <a:lnTo>
                    <a:pt x="8243" y="3484"/>
                  </a:lnTo>
                  <a:lnTo>
                    <a:pt x="8270" y="3446"/>
                  </a:lnTo>
                  <a:lnTo>
                    <a:pt x="8300" y="3406"/>
                  </a:lnTo>
                  <a:lnTo>
                    <a:pt x="8330" y="3368"/>
                  </a:lnTo>
                  <a:lnTo>
                    <a:pt x="8361" y="3328"/>
                  </a:lnTo>
                  <a:lnTo>
                    <a:pt x="8424" y="3252"/>
                  </a:lnTo>
                  <a:lnTo>
                    <a:pt x="8484" y="3179"/>
                  </a:lnTo>
                  <a:lnTo>
                    <a:pt x="8511" y="3144"/>
                  </a:lnTo>
                  <a:lnTo>
                    <a:pt x="8537" y="3112"/>
                  </a:lnTo>
                  <a:lnTo>
                    <a:pt x="8558" y="3081"/>
                  </a:lnTo>
                  <a:lnTo>
                    <a:pt x="8577" y="3053"/>
                  </a:lnTo>
                  <a:lnTo>
                    <a:pt x="8594" y="3025"/>
                  </a:lnTo>
                  <a:lnTo>
                    <a:pt x="8612" y="2998"/>
                  </a:lnTo>
                  <a:lnTo>
                    <a:pt x="8631" y="2970"/>
                  </a:lnTo>
                  <a:lnTo>
                    <a:pt x="8652" y="2941"/>
                  </a:lnTo>
                  <a:lnTo>
                    <a:pt x="8696" y="2883"/>
                  </a:lnTo>
                  <a:lnTo>
                    <a:pt x="8743" y="2823"/>
                  </a:lnTo>
                  <a:lnTo>
                    <a:pt x="8792" y="2763"/>
                  </a:lnTo>
                  <a:lnTo>
                    <a:pt x="8844" y="2703"/>
                  </a:lnTo>
                  <a:lnTo>
                    <a:pt x="8897" y="2643"/>
                  </a:lnTo>
                  <a:lnTo>
                    <a:pt x="8952" y="2583"/>
                  </a:lnTo>
                  <a:lnTo>
                    <a:pt x="9007" y="2526"/>
                  </a:lnTo>
                  <a:lnTo>
                    <a:pt x="9061" y="2469"/>
                  </a:lnTo>
                  <a:lnTo>
                    <a:pt x="9116" y="2415"/>
                  </a:lnTo>
                  <a:lnTo>
                    <a:pt x="9170" y="2364"/>
                  </a:lnTo>
                  <a:lnTo>
                    <a:pt x="9222" y="2315"/>
                  </a:lnTo>
                  <a:lnTo>
                    <a:pt x="9273" y="2272"/>
                  </a:lnTo>
                  <a:lnTo>
                    <a:pt x="9321" y="2231"/>
                  </a:lnTo>
                  <a:lnTo>
                    <a:pt x="9366" y="2195"/>
                  </a:lnTo>
                  <a:lnTo>
                    <a:pt x="9377" y="2187"/>
                  </a:lnTo>
                  <a:lnTo>
                    <a:pt x="9390" y="2178"/>
                  </a:lnTo>
                  <a:lnTo>
                    <a:pt x="9401" y="2167"/>
                  </a:lnTo>
                  <a:lnTo>
                    <a:pt x="9414" y="2155"/>
                  </a:lnTo>
                  <a:lnTo>
                    <a:pt x="9441" y="2128"/>
                  </a:lnTo>
                  <a:lnTo>
                    <a:pt x="9470" y="2096"/>
                  </a:lnTo>
                  <a:lnTo>
                    <a:pt x="9529" y="2025"/>
                  </a:lnTo>
                  <a:lnTo>
                    <a:pt x="9589" y="1951"/>
                  </a:lnTo>
                  <a:lnTo>
                    <a:pt x="9620" y="1914"/>
                  </a:lnTo>
                  <a:lnTo>
                    <a:pt x="9650" y="1880"/>
                  </a:lnTo>
                  <a:lnTo>
                    <a:pt x="9679" y="1848"/>
                  </a:lnTo>
                  <a:lnTo>
                    <a:pt x="9708" y="1820"/>
                  </a:lnTo>
                  <a:lnTo>
                    <a:pt x="9722" y="1807"/>
                  </a:lnTo>
                  <a:lnTo>
                    <a:pt x="9736" y="1796"/>
                  </a:lnTo>
                  <a:lnTo>
                    <a:pt x="9749" y="1787"/>
                  </a:lnTo>
                  <a:lnTo>
                    <a:pt x="9762" y="1778"/>
                  </a:lnTo>
                  <a:lnTo>
                    <a:pt x="9775" y="1772"/>
                  </a:lnTo>
                  <a:lnTo>
                    <a:pt x="9786" y="1767"/>
                  </a:lnTo>
                  <a:lnTo>
                    <a:pt x="9798" y="1764"/>
                  </a:lnTo>
                  <a:lnTo>
                    <a:pt x="9809" y="1763"/>
                  </a:lnTo>
                  <a:lnTo>
                    <a:pt x="9823" y="1740"/>
                  </a:lnTo>
                  <a:lnTo>
                    <a:pt x="9839" y="1716"/>
                  </a:lnTo>
                  <a:lnTo>
                    <a:pt x="9855" y="1692"/>
                  </a:lnTo>
                  <a:lnTo>
                    <a:pt x="9872" y="1670"/>
                  </a:lnTo>
                  <a:lnTo>
                    <a:pt x="9890" y="1647"/>
                  </a:lnTo>
                  <a:lnTo>
                    <a:pt x="9910" y="1625"/>
                  </a:lnTo>
                  <a:lnTo>
                    <a:pt x="9930" y="1602"/>
                  </a:lnTo>
                  <a:lnTo>
                    <a:pt x="9950" y="1580"/>
                  </a:lnTo>
                  <a:lnTo>
                    <a:pt x="9994" y="1536"/>
                  </a:lnTo>
                  <a:lnTo>
                    <a:pt x="10041" y="1493"/>
                  </a:lnTo>
                  <a:lnTo>
                    <a:pt x="10087" y="1450"/>
                  </a:lnTo>
                  <a:lnTo>
                    <a:pt x="10135" y="1407"/>
                  </a:lnTo>
                  <a:lnTo>
                    <a:pt x="10231" y="1323"/>
                  </a:lnTo>
                  <a:lnTo>
                    <a:pt x="10325" y="1241"/>
                  </a:lnTo>
                  <a:lnTo>
                    <a:pt x="10369" y="1200"/>
                  </a:lnTo>
                  <a:lnTo>
                    <a:pt x="10411" y="1159"/>
                  </a:lnTo>
                  <a:lnTo>
                    <a:pt x="10430" y="1139"/>
                  </a:lnTo>
                  <a:lnTo>
                    <a:pt x="10448" y="1119"/>
                  </a:lnTo>
                  <a:lnTo>
                    <a:pt x="10466" y="1098"/>
                  </a:lnTo>
                  <a:lnTo>
                    <a:pt x="10483" y="1078"/>
                  </a:lnTo>
                  <a:lnTo>
                    <a:pt x="10463" y="1054"/>
                  </a:lnTo>
                  <a:lnTo>
                    <a:pt x="10443" y="1031"/>
                  </a:lnTo>
                  <a:lnTo>
                    <a:pt x="10420" y="1007"/>
                  </a:lnTo>
                  <a:lnTo>
                    <a:pt x="10398" y="984"/>
                  </a:lnTo>
                  <a:lnTo>
                    <a:pt x="10350" y="935"/>
                  </a:lnTo>
                  <a:lnTo>
                    <a:pt x="10300" y="887"/>
                  </a:lnTo>
                  <a:lnTo>
                    <a:pt x="10246" y="839"/>
                  </a:lnTo>
                  <a:lnTo>
                    <a:pt x="10193" y="792"/>
                  </a:lnTo>
                  <a:lnTo>
                    <a:pt x="10136" y="744"/>
                  </a:lnTo>
                  <a:lnTo>
                    <a:pt x="10079" y="699"/>
                  </a:lnTo>
                  <a:lnTo>
                    <a:pt x="10021" y="654"/>
                  </a:lnTo>
                  <a:lnTo>
                    <a:pt x="9963" y="611"/>
                  </a:lnTo>
                  <a:lnTo>
                    <a:pt x="9905" y="570"/>
                  </a:lnTo>
                  <a:lnTo>
                    <a:pt x="9849" y="530"/>
                  </a:lnTo>
                  <a:lnTo>
                    <a:pt x="9793" y="493"/>
                  </a:lnTo>
                  <a:lnTo>
                    <a:pt x="9738" y="458"/>
                  </a:lnTo>
                  <a:lnTo>
                    <a:pt x="9687" y="427"/>
                  </a:lnTo>
                  <a:lnTo>
                    <a:pt x="9636" y="398"/>
                  </a:lnTo>
                  <a:lnTo>
                    <a:pt x="9619" y="390"/>
                  </a:lnTo>
                  <a:lnTo>
                    <a:pt x="9603" y="381"/>
                  </a:lnTo>
                  <a:lnTo>
                    <a:pt x="9586" y="371"/>
                  </a:lnTo>
                  <a:lnTo>
                    <a:pt x="9570" y="359"/>
                  </a:lnTo>
                  <a:lnTo>
                    <a:pt x="9553" y="347"/>
                  </a:lnTo>
                  <a:lnTo>
                    <a:pt x="9535" y="334"/>
                  </a:lnTo>
                  <a:lnTo>
                    <a:pt x="9519" y="320"/>
                  </a:lnTo>
                  <a:lnTo>
                    <a:pt x="9502" y="305"/>
                  </a:lnTo>
                  <a:lnTo>
                    <a:pt x="9469" y="273"/>
                  </a:lnTo>
                  <a:lnTo>
                    <a:pt x="9436" y="239"/>
                  </a:lnTo>
                  <a:lnTo>
                    <a:pt x="9402" y="205"/>
                  </a:lnTo>
                  <a:lnTo>
                    <a:pt x="9369" y="171"/>
                  </a:lnTo>
                  <a:lnTo>
                    <a:pt x="9336" y="138"/>
                  </a:lnTo>
                  <a:lnTo>
                    <a:pt x="9303" y="106"/>
                  </a:lnTo>
                  <a:lnTo>
                    <a:pt x="9287" y="91"/>
                  </a:lnTo>
                  <a:lnTo>
                    <a:pt x="9269" y="77"/>
                  </a:lnTo>
                  <a:lnTo>
                    <a:pt x="9253" y="64"/>
                  </a:lnTo>
                  <a:lnTo>
                    <a:pt x="9237" y="52"/>
                  </a:lnTo>
                  <a:lnTo>
                    <a:pt x="9220" y="41"/>
                  </a:lnTo>
                  <a:lnTo>
                    <a:pt x="9204" y="31"/>
                  </a:lnTo>
                  <a:lnTo>
                    <a:pt x="9188" y="22"/>
                  </a:lnTo>
                  <a:lnTo>
                    <a:pt x="9172" y="14"/>
                  </a:lnTo>
                  <a:lnTo>
                    <a:pt x="9155" y="9"/>
                  </a:lnTo>
                  <a:lnTo>
                    <a:pt x="9139" y="4"/>
                  </a:lnTo>
                  <a:lnTo>
                    <a:pt x="9122" y="1"/>
                  </a:lnTo>
                  <a:lnTo>
                    <a:pt x="9106" y="0"/>
                  </a:lnTo>
                  <a:close/>
                  <a:moveTo>
                    <a:pt x="10483" y="1078"/>
                  </a:moveTo>
                  <a:lnTo>
                    <a:pt x="10510" y="1078"/>
                  </a:lnTo>
                  <a:lnTo>
                    <a:pt x="10538" y="1079"/>
                  </a:lnTo>
                  <a:lnTo>
                    <a:pt x="10565" y="1080"/>
                  </a:lnTo>
                  <a:lnTo>
                    <a:pt x="10592" y="1082"/>
                  </a:lnTo>
                  <a:lnTo>
                    <a:pt x="10645" y="1089"/>
                  </a:lnTo>
                  <a:lnTo>
                    <a:pt x="10698" y="1096"/>
                  </a:lnTo>
                  <a:lnTo>
                    <a:pt x="10751" y="1106"/>
                  </a:lnTo>
                  <a:lnTo>
                    <a:pt x="10803" y="1117"/>
                  </a:lnTo>
                  <a:lnTo>
                    <a:pt x="10855" y="1128"/>
                  </a:lnTo>
                  <a:lnTo>
                    <a:pt x="10906" y="1141"/>
                  </a:lnTo>
                  <a:lnTo>
                    <a:pt x="11007" y="1171"/>
                  </a:lnTo>
                  <a:lnTo>
                    <a:pt x="11108" y="1201"/>
                  </a:lnTo>
                  <a:lnTo>
                    <a:pt x="11207" y="1232"/>
                  </a:lnTo>
                  <a:lnTo>
                    <a:pt x="11307" y="1262"/>
                  </a:lnTo>
                  <a:lnTo>
                    <a:pt x="11351" y="1271"/>
                  </a:lnTo>
                  <a:lnTo>
                    <a:pt x="11396" y="1280"/>
                  </a:lnTo>
                  <a:lnTo>
                    <a:pt x="11442" y="1286"/>
                  </a:lnTo>
                  <a:lnTo>
                    <a:pt x="11488" y="1291"/>
                  </a:lnTo>
                  <a:lnTo>
                    <a:pt x="11536" y="1297"/>
                  </a:lnTo>
                  <a:lnTo>
                    <a:pt x="11583" y="1300"/>
                  </a:lnTo>
                  <a:lnTo>
                    <a:pt x="11631" y="1302"/>
                  </a:lnTo>
                  <a:lnTo>
                    <a:pt x="11679" y="1303"/>
                  </a:lnTo>
                  <a:lnTo>
                    <a:pt x="11728" y="1304"/>
                  </a:lnTo>
                  <a:lnTo>
                    <a:pt x="11776" y="1304"/>
                  </a:lnTo>
                  <a:lnTo>
                    <a:pt x="11825" y="1304"/>
                  </a:lnTo>
                  <a:lnTo>
                    <a:pt x="11875" y="1303"/>
                  </a:lnTo>
                  <a:lnTo>
                    <a:pt x="11973" y="1300"/>
                  </a:lnTo>
                  <a:lnTo>
                    <a:pt x="12073" y="1297"/>
                  </a:lnTo>
                  <a:lnTo>
                    <a:pt x="12173" y="1292"/>
                  </a:lnTo>
                  <a:lnTo>
                    <a:pt x="12271" y="1290"/>
                  </a:lnTo>
                  <a:lnTo>
                    <a:pt x="12321" y="1289"/>
                  </a:lnTo>
                  <a:lnTo>
                    <a:pt x="12370" y="1288"/>
                  </a:lnTo>
                  <a:lnTo>
                    <a:pt x="12418" y="1289"/>
                  </a:lnTo>
                  <a:lnTo>
                    <a:pt x="12467" y="1289"/>
                  </a:lnTo>
                  <a:lnTo>
                    <a:pt x="12515" y="1291"/>
                  </a:lnTo>
                  <a:lnTo>
                    <a:pt x="12563" y="1293"/>
                  </a:lnTo>
                  <a:lnTo>
                    <a:pt x="12610" y="1297"/>
                  </a:lnTo>
                  <a:lnTo>
                    <a:pt x="12657" y="1301"/>
                  </a:lnTo>
                  <a:lnTo>
                    <a:pt x="12704" y="1306"/>
                  </a:lnTo>
                  <a:lnTo>
                    <a:pt x="12750" y="1314"/>
                  </a:lnTo>
                  <a:lnTo>
                    <a:pt x="12795" y="1321"/>
                  </a:lnTo>
                  <a:lnTo>
                    <a:pt x="12839" y="1331"/>
                  </a:lnTo>
                  <a:lnTo>
                    <a:pt x="12907" y="1351"/>
                  </a:lnTo>
                  <a:lnTo>
                    <a:pt x="12976" y="1370"/>
                  </a:lnTo>
                  <a:lnTo>
                    <a:pt x="13045" y="1388"/>
                  </a:lnTo>
                  <a:lnTo>
                    <a:pt x="13113" y="1405"/>
                  </a:lnTo>
                  <a:lnTo>
                    <a:pt x="13251" y="1438"/>
                  </a:lnTo>
                  <a:lnTo>
                    <a:pt x="13388" y="1468"/>
                  </a:lnTo>
                  <a:lnTo>
                    <a:pt x="13661" y="1526"/>
                  </a:lnTo>
                  <a:lnTo>
                    <a:pt x="13932" y="1584"/>
                  </a:lnTo>
                  <a:lnTo>
                    <a:pt x="13999" y="1600"/>
                  </a:lnTo>
                  <a:lnTo>
                    <a:pt x="14067" y="1615"/>
                  </a:lnTo>
                  <a:lnTo>
                    <a:pt x="14133" y="1632"/>
                  </a:lnTo>
                  <a:lnTo>
                    <a:pt x="14201" y="1650"/>
                  </a:lnTo>
                  <a:lnTo>
                    <a:pt x="14267" y="1667"/>
                  </a:lnTo>
                  <a:lnTo>
                    <a:pt x="14334" y="1686"/>
                  </a:lnTo>
                  <a:lnTo>
                    <a:pt x="14399" y="1705"/>
                  </a:lnTo>
                  <a:lnTo>
                    <a:pt x="14466" y="1727"/>
                  </a:lnTo>
                  <a:lnTo>
                    <a:pt x="14531" y="1748"/>
                  </a:lnTo>
                  <a:lnTo>
                    <a:pt x="14597" y="1772"/>
                  </a:lnTo>
                  <a:lnTo>
                    <a:pt x="14662" y="1795"/>
                  </a:lnTo>
                  <a:lnTo>
                    <a:pt x="14726" y="1822"/>
                  </a:lnTo>
                  <a:lnTo>
                    <a:pt x="14791" y="1849"/>
                  </a:lnTo>
                  <a:lnTo>
                    <a:pt x="14855" y="1878"/>
                  </a:lnTo>
                  <a:lnTo>
                    <a:pt x="14918" y="1909"/>
                  </a:lnTo>
                  <a:lnTo>
                    <a:pt x="14982" y="1941"/>
                  </a:lnTo>
                  <a:lnTo>
                    <a:pt x="15021" y="1963"/>
                  </a:lnTo>
                  <a:lnTo>
                    <a:pt x="15060" y="1986"/>
                  </a:lnTo>
                  <a:lnTo>
                    <a:pt x="15100" y="2013"/>
                  </a:lnTo>
                  <a:lnTo>
                    <a:pt x="15139" y="2041"/>
                  </a:lnTo>
                  <a:lnTo>
                    <a:pt x="15179" y="2071"/>
                  </a:lnTo>
                  <a:lnTo>
                    <a:pt x="15219" y="2103"/>
                  </a:lnTo>
                  <a:lnTo>
                    <a:pt x="15258" y="2137"/>
                  </a:lnTo>
                  <a:lnTo>
                    <a:pt x="15297" y="2174"/>
                  </a:lnTo>
                  <a:lnTo>
                    <a:pt x="15337" y="2211"/>
                  </a:lnTo>
                  <a:lnTo>
                    <a:pt x="15375" y="2250"/>
                  </a:lnTo>
                  <a:lnTo>
                    <a:pt x="15414" y="2291"/>
                  </a:lnTo>
                  <a:lnTo>
                    <a:pt x="15452" y="2333"/>
                  </a:lnTo>
                  <a:lnTo>
                    <a:pt x="15490" y="2377"/>
                  </a:lnTo>
                  <a:lnTo>
                    <a:pt x="15527" y="2421"/>
                  </a:lnTo>
                  <a:lnTo>
                    <a:pt x="15564" y="2466"/>
                  </a:lnTo>
                  <a:lnTo>
                    <a:pt x="15600" y="2512"/>
                  </a:lnTo>
                  <a:lnTo>
                    <a:pt x="15636" y="2559"/>
                  </a:lnTo>
                  <a:lnTo>
                    <a:pt x="15670" y="2606"/>
                  </a:lnTo>
                  <a:lnTo>
                    <a:pt x="15704" y="2654"/>
                  </a:lnTo>
                  <a:lnTo>
                    <a:pt x="15738" y="2703"/>
                  </a:lnTo>
                  <a:lnTo>
                    <a:pt x="15770" y="2751"/>
                  </a:lnTo>
                  <a:lnTo>
                    <a:pt x="15800" y="2799"/>
                  </a:lnTo>
                  <a:lnTo>
                    <a:pt x="15830" y="2848"/>
                  </a:lnTo>
                  <a:lnTo>
                    <a:pt x="15859" y="2898"/>
                  </a:lnTo>
                  <a:lnTo>
                    <a:pt x="15887" y="2946"/>
                  </a:lnTo>
                  <a:lnTo>
                    <a:pt x="15914" y="2994"/>
                  </a:lnTo>
                  <a:lnTo>
                    <a:pt x="15938" y="3043"/>
                  </a:lnTo>
                  <a:lnTo>
                    <a:pt x="15962" y="3090"/>
                  </a:lnTo>
                  <a:lnTo>
                    <a:pt x="15984" y="3137"/>
                  </a:lnTo>
                  <a:lnTo>
                    <a:pt x="16005" y="3183"/>
                  </a:lnTo>
                  <a:lnTo>
                    <a:pt x="16024" y="3228"/>
                  </a:lnTo>
                  <a:lnTo>
                    <a:pt x="16042" y="3272"/>
                  </a:lnTo>
                  <a:lnTo>
                    <a:pt x="16063" y="3336"/>
                  </a:lnTo>
                  <a:lnTo>
                    <a:pt x="16081" y="3404"/>
                  </a:lnTo>
                  <a:lnTo>
                    <a:pt x="16098" y="3473"/>
                  </a:lnTo>
                  <a:lnTo>
                    <a:pt x="16112" y="3543"/>
                  </a:lnTo>
                  <a:lnTo>
                    <a:pt x="16124" y="3616"/>
                  </a:lnTo>
                  <a:lnTo>
                    <a:pt x="16133" y="3690"/>
                  </a:lnTo>
                  <a:lnTo>
                    <a:pt x="16141" y="3766"/>
                  </a:lnTo>
                  <a:lnTo>
                    <a:pt x="16147" y="3843"/>
                  </a:lnTo>
                  <a:lnTo>
                    <a:pt x="16152" y="3921"/>
                  </a:lnTo>
                  <a:lnTo>
                    <a:pt x="16154" y="3999"/>
                  </a:lnTo>
                  <a:lnTo>
                    <a:pt x="16154" y="4079"/>
                  </a:lnTo>
                  <a:lnTo>
                    <a:pt x="16153" y="4159"/>
                  </a:lnTo>
                  <a:lnTo>
                    <a:pt x="16151" y="4239"/>
                  </a:lnTo>
                  <a:lnTo>
                    <a:pt x="16146" y="4320"/>
                  </a:lnTo>
                  <a:lnTo>
                    <a:pt x="16140" y="4400"/>
                  </a:lnTo>
                  <a:lnTo>
                    <a:pt x="16133" y="4482"/>
                  </a:lnTo>
                  <a:lnTo>
                    <a:pt x="16125" y="4562"/>
                  </a:lnTo>
                  <a:lnTo>
                    <a:pt x="16115" y="4643"/>
                  </a:lnTo>
                  <a:lnTo>
                    <a:pt x="16104" y="4722"/>
                  </a:lnTo>
                  <a:lnTo>
                    <a:pt x="16093" y="4801"/>
                  </a:lnTo>
                  <a:lnTo>
                    <a:pt x="16080" y="4880"/>
                  </a:lnTo>
                  <a:lnTo>
                    <a:pt x="16066" y="4957"/>
                  </a:lnTo>
                  <a:lnTo>
                    <a:pt x="16052" y="5033"/>
                  </a:lnTo>
                  <a:lnTo>
                    <a:pt x="16036" y="5107"/>
                  </a:lnTo>
                  <a:lnTo>
                    <a:pt x="16020" y="5181"/>
                  </a:lnTo>
                  <a:lnTo>
                    <a:pt x="16003" y="5253"/>
                  </a:lnTo>
                  <a:lnTo>
                    <a:pt x="15985" y="5323"/>
                  </a:lnTo>
                  <a:lnTo>
                    <a:pt x="15967" y="5390"/>
                  </a:lnTo>
                  <a:lnTo>
                    <a:pt x="15949" y="5455"/>
                  </a:lnTo>
                  <a:lnTo>
                    <a:pt x="15931" y="5520"/>
                  </a:lnTo>
                  <a:lnTo>
                    <a:pt x="15911" y="5581"/>
                  </a:lnTo>
                  <a:lnTo>
                    <a:pt x="15892" y="5639"/>
                  </a:lnTo>
                  <a:lnTo>
                    <a:pt x="15880" y="5673"/>
                  </a:lnTo>
                  <a:lnTo>
                    <a:pt x="15865" y="5708"/>
                  </a:lnTo>
                  <a:lnTo>
                    <a:pt x="15849" y="5743"/>
                  </a:lnTo>
                  <a:lnTo>
                    <a:pt x="15831" y="5779"/>
                  </a:lnTo>
                  <a:lnTo>
                    <a:pt x="15790" y="5853"/>
                  </a:lnTo>
                  <a:lnTo>
                    <a:pt x="15747" y="5927"/>
                  </a:lnTo>
                  <a:lnTo>
                    <a:pt x="15703" y="6001"/>
                  </a:lnTo>
                  <a:lnTo>
                    <a:pt x="15663" y="6075"/>
                  </a:lnTo>
                  <a:lnTo>
                    <a:pt x="15644" y="6111"/>
                  </a:lnTo>
                  <a:lnTo>
                    <a:pt x="15627" y="6146"/>
                  </a:lnTo>
                  <a:lnTo>
                    <a:pt x="15611" y="6182"/>
                  </a:lnTo>
                  <a:lnTo>
                    <a:pt x="15598" y="6215"/>
                  </a:lnTo>
                  <a:lnTo>
                    <a:pt x="15540" y="6290"/>
                  </a:lnTo>
                  <a:lnTo>
                    <a:pt x="15541" y="6324"/>
                  </a:lnTo>
                  <a:lnTo>
                    <a:pt x="15545" y="6370"/>
                  </a:lnTo>
                  <a:lnTo>
                    <a:pt x="15548" y="6426"/>
                  </a:lnTo>
                  <a:lnTo>
                    <a:pt x="15552" y="6486"/>
                  </a:lnTo>
                  <a:lnTo>
                    <a:pt x="15556" y="6547"/>
                  </a:lnTo>
                  <a:lnTo>
                    <a:pt x="15560" y="6603"/>
                  </a:lnTo>
                  <a:lnTo>
                    <a:pt x="15563" y="6651"/>
                  </a:lnTo>
                  <a:lnTo>
                    <a:pt x="15564" y="6688"/>
                  </a:lnTo>
                  <a:lnTo>
                    <a:pt x="6946" y="6688"/>
                  </a:lnTo>
                  <a:lnTo>
                    <a:pt x="6981" y="6619"/>
                  </a:lnTo>
                  <a:lnTo>
                    <a:pt x="7017" y="6550"/>
                  </a:lnTo>
                  <a:lnTo>
                    <a:pt x="7056" y="6481"/>
                  </a:lnTo>
                  <a:lnTo>
                    <a:pt x="7095" y="6410"/>
                  </a:lnTo>
                  <a:lnTo>
                    <a:pt x="7177" y="6268"/>
                  </a:lnTo>
                  <a:lnTo>
                    <a:pt x="7258" y="6127"/>
                  </a:lnTo>
                  <a:lnTo>
                    <a:pt x="7298" y="6056"/>
                  </a:lnTo>
                  <a:lnTo>
                    <a:pt x="7337" y="5985"/>
                  </a:lnTo>
                  <a:lnTo>
                    <a:pt x="7373" y="5914"/>
                  </a:lnTo>
                  <a:lnTo>
                    <a:pt x="7409" y="5845"/>
                  </a:lnTo>
                  <a:lnTo>
                    <a:pt x="7426" y="5809"/>
                  </a:lnTo>
                  <a:lnTo>
                    <a:pt x="7442" y="5775"/>
                  </a:lnTo>
                  <a:lnTo>
                    <a:pt x="7457" y="5740"/>
                  </a:lnTo>
                  <a:lnTo>
                    <a:pt x="7472" y="5705"/>
                  </a:lnTo>
                  <a:lnTo>
                    <a:pt x="7486" y="5671"/>
                  </a:lnTo>
                  <a:lnTo>
                    <a:pt x="7499" y="5638"/>
                  </a:lnTo>
                  <a:lnTo>
                    <a:pt x="7511" y="5603"/>
                  </a:lnTo>
                  <a:lnTo>
                    <a:pt x="7522" y="5570"/>
                  </a:lnTo>
                  <a:lnTo>
                    <a:pt x="7532" y="5547"/>
                  </a:lnTo>
                  <a:lnTo>
                    <a:pt x="7543" y="5523"/>
                  </a:lnTo>
                  <a:lnTo>
                    <a:pt x="7553" y="5499"/>
                  </a:lnTo>
                  <a:lnTo>
                    <a:pt x="7566" y="5476"/>
                  </a:lnTo>
                  <a:lnTo>
                    <a:pt x="7580" y="5453"/>
                  </a:lnTo>
                  <a:lnTo>
                    <a:pt x="7595" y="5430"/>
                  </a:lnTo>
                  <a:lnTo>
                    <a:pt x="7610" y="5407"/>
                  </a:lnTo>
                  <a:lnTo>
                    <a:pt x="7626" y="5384"/>
                  </a:lnTo>
                  <a:lnTo>
                    <a:pt x="7696" y="5292"/>
                  </a:lnTo>
                  <a:lnTo>
                    <a:pt x="7767" y="5200"/>
                  </a:lnTo>
                  <a:lnTo>
                    <a:pt x="7801" y="5153"/>
                  </a:lnTo>
                  <a:lnTo>
                    <a:pt x="7834" y="5106"/>
                  </a:lnTo>
                  <a:lnTo>
                    <a:pt x="7849" y="5082"/>
                  </a:lnTo>
                  <a:lnTo>
                    <a:pt x="7863" y="5059"/>
                  </a:lnTo>
                  <a:lnTo>
                    <a:pt x="7877" y="5034"/>
                  </a:lnTo>
                  <a:lnTo>
                    <a:pt x="7890" y="5009"/>
                  </a:lnTo>
                  <a:lnTo>
                    <a:pt x="7902" y="4985"/>
                  </a:lnTo>
                  <a:lnTo>
                    <a:pt x="7912" y="4960"/>
                  </a:lnTo>
                  <a:lnTo>
                    <a:pt x="7921" y="4934"/>
                  </a:lnTo>
                  <a:lnTo>
                    <a:pt x="7929" y="4910"/>
                  </a:lnTo>
                  <a:lnTo>
                    <a:pt x="7934" y="4884"/>
                  </a:lnTo>
                  <a:lnTo>
                    <a:pt x="7940" y="4857"/>
                  </a:lnTo>
                  <a:lnTo>
                    <a:pt x="7942" y="4831"/>
                  </a:lnTo>
                  <a:lnTo>
                    <a:pt x="7943" y="4805"/>
                  </a:lnTo>
                  <a:lnTo>
                    <a:pt x="7923" y="4795"/>
                  </a:lnTo>
                  <a:lnTo>
                    <a:pt x="7905" y="4786"/>
                  </a:lnTo>
                  <a:lnTo>
                    <a:pt x="7886" y="4780"/>
                  </a:lnTo>
                  <a:lnTo>
                    <a:pt x="7867" y="4773"/>
                  </a:lnTo>
                  <a:lnTo>
                    <a:pt x="7848" y="4769"/>
                  </a:lnTo>
                  <a:lnTo>
                    <a:pt x="7829" y="4766"/>
                  </a:lnTo>
                  <a:lnTo>
                    <a:pt x="7810" y="4764"/>
                  </a:lnTo>
                  <a:lnTo>
                    <a:pt x="7790" y="4763"/>
                  </a:lnTo>
                  <a:lnTo>
                    <a:pt x="7771" y="4762"/>
                  </a:lnTo>
                  <a:lnTo>
                    <a:pt x="7752" y="4763"/>
                  </a:lnTo>
                  <a:lnTo>
                    <a:pt x="7733" y="4764"/>
                  </a:lnTo>
                  <a:lnTo>
                    <a:pt x="7714" y="4765"/>
                  </a:lnTo>
                  <a:lnTo>
                    <a:pt x="7676" y="4770"/>
                  </a:lnTo>
                  <a:lnTo>
                    <a:pt x="7637" y="4778"/>
                  </a:lnTo>
                  <a:lnTo>
                    <a:pt x="7560" y="4795"/>
                  </a:lnTo>
                  <a:lnTo>
                    <a:pt x="7482" y="4813"/>
                  </a:lnTo>
                  <a:lnTo>
                    <a:pt x="7443" y="4821"/>
                  </a:lnTo>
                  <a:lnTo>
                    <a:pt x="7404" y="4827"/>
                  </a:lnTo>
                  <a:lnTo>
                    <a:pt x="7385" y="4829"/>
                  </a:lnTo>
                  <a:lnTo>
                    <a:pt x="7366" y="4831"/>
                  </a:lnTo>
                  <a:lnTo>
                    <a:pt x="7345" y="4832"/>
                  </a:lnTo>
                  <a:lnTo>
                    <a:pt x="7326" y="4832"/>
                  </a:lnTo>
                  <a:lnTo>
                    <a:pt x="7380" y="4793"/>
                  </a:lnTo>
                  <a:lnTo>
                    <a:pt x="7430" y="4752"/>
                  </a:lnTo>
                  <a:lnTo>
                    <a:pt x="7477" y="4712"/>
                  </a:lnTo>
                  <a:lnTo>
                    <a:pt x="7522" y="4674"/>
                  </a:lnTo>
                  <a:lnTo>
                    <a:pt x="7565" y="4634"/>
                  </a:lnTo>
                  <a:lnTo>
                    <a:pt x="7605" y="4594"/>
                  </a:lnTo>
                  <a:lnTo>
                    <a:pt x="7643" y="4556"/>
                  </a:lnTo>
                  <a:lnTo>
                    <a:pt x="7680" y="4517"/>
                  </a:lnTo>
                  <a:lnTo>
                    <a:pt x="7713" y="4477"/>
                  </a:lnTo>
                  <a:lnTo>
                    <a:pt x="7745" y="4439"/>
                  </a:lnTo>
                  <a:lnTo>
                    <a:pt x="7776" y="4400"/>
                  </a:lnTo>
                  <a:lnTo>
                    <a:pt x="7805" y="4362"/>
                  </a:lnTo>
                  <a:lnTo>
                    <a:pt x="7833" y="4323"/>
                  </a:lnTo>
                  <a:lnTo>
                    <a:pt x="7860" y="4283"/>
                  </a:lnTo>
                  <a:lnTo>
                    <a:pt x="7885" y="4245"/>
                  </a:lnTo>
                  <a:lnTo>
                    <a:pt x="7908" y="4205"/>
                  </a:lnTo>
                  <a:lnTo>
                    <a:pt x="7932" y="4165"/>
                  </a:lnTo>
                  <a:lnTo>
                    <a:pt x="7955" y="4126"/>
                  </a:lnTo>
                  <a:lnTo>
                    <a:pt x="7976" y="4086"/>
                  </a:lnTo>
                  <a:lnTo>
                    <a:pt x="7997" y="4045"/>
                  </a:lnTo>
                  <a:lnTo>
                    <a:pt x="8038" y="3964"/>
                  </a:lnTo>
                  <a:lnTo>
                    <a:pt x="8079" y="3880"/>
                  </a:lnTo>
                  <a:lnTo>
                    <a:pt x="8120" y="3795"/>
                  </a:lnTo>
                  <a:lnTo>
                    <a:pt x="8162" y="3707"/>
                  </a:lnTo>
                  <a:lnTo>
                    <a:pt x="8207" y="3618"/>
                  </a:lnTo>
                  <a:lnTo>
                    <a:pt x="8254" y="3525"/>
                  </a:lnTo>
                  <a:lnTo>
                    <a:pt x="8283" y="3474"/>
                  </a:lnTo>
                  <a:lnTo>
                    <a:pt x="8317" y="3418"/>
                  </a:lnTo>
                  <a:lnTo>
                    <a:pt x="8355" y="3358"/>
                  </a:lnTo>
                  <a:lnTo>
                    <a:pt x="8397" y="3296"/>
                  </a:lnTo>
                  <a:lnTo>
                    <a:pt x="8443" y="3231"/>
                  </a:lnTo>
                  <a:lnTo>
                    <a:pt x="8490" y="3166"/>
                  </a:lnTo>
                  <a:lnTo>
                    <a:pt x="8539" y="3099"/>
                  </a:lnTo>
                  <a:lnTo>
                    <a:pt x="8588" y="3035"/>
                  </a:lnTo>
                  <a:lnTo>
                    <a:pt x="8639" y="2972"/>
                  </a:lnTo>
                  <a:lnTo>
                    <a:pt x="8688" y="2912"/>
                  </a:lnTo>
                  <a:lnTo>
                    <a:pt x="8735" y="2856"/>
                  </a:lnTo>
                  <a:lnTo>
                    <a:pt x="8781" y="2803"/>
                  </a:lnTo>
                  <a:lnTo>
                    <a:pt x="8824" y="2757"/>
                  </a:lnTo>
                  <a:lnTo>
                    <a:pt x="8863" y="2718"/>
                  </a:lnTo>
                  <a:lnTo>
                    <a:pt x="8881" y="2700"/>
                  </a:lnTo>
                  <a:lnTo>
                    <a:pt x="8898" y="2685"/>
                  </a:lnTo>
                  <a:lnTo>
                    <a:pt x="8913" y="2673"/>
                  </a:lnTo>
                  <a:lnTo>
                    <a:pt x="8927" y="2662"/>
                  </a:lnTo>
                  <a:lnTo>
                    <a:pt x="8955" y="2637"/>
                  </a:lnTo>
                  <a:lnTo>
                    <a:pt x="8982" y="2613"/>
                  </a:lnTo>
                  <a:lnTo>
                    <a:pt x="9009" y="2586"/>
                  </a:lnTo>
                  <a:lnTo>
                    <a:pt x="9036" y="2559"/>
                  </a:lnTo>
                  <a:lnTo>
                    <a:pt x="9088" y="2503"/>
                  </a:lnTo>
                  <a:lnTo>
                    <a:pt x="9140" y="2446"/>
                  </a:lnTo>
                  <a:lnTo>
                    <a:pt x="9240" y="2327"/>
                  </a:lnTo>
                  <a:lnTo>
                    <a:pt x="9340" y="2208"/>
                  </a:lnTo>
                  <a:lnTo>
                    <a:pt x="9390" y="2149"/>
                  </a:lnTo>
                  <a:lnTo>
                    <a:pt x="9439" y="2093"/>
                  </a:lnTo>
                  <a:lnTo>
                    <a:pt x="9465" y="2067"/>
                  </a:lnTo>
                  <a:lnTo>
                    <a:pt x="9489" y="2040"/>
                  </a:lnTo>
                  <a:lnTo>
                    <a:pt x="9515" y="2014"/>
                  </a:lnTo>
                  <a:lnTo>
                    <a:pt x="9540" y="1989"/>
                  </a:lnTo>
                  <a:lnTo>
                    <a:pt x="9565" y="1966"/>
                  </a:lnTo>
                  <a:lnTo>
                    <a:pt x="9591" y="1942"/>
                  </a:lnTo>
                  <a:lnTo>
                    <a:pt x="9618" y="1921"/>
                  </a:lnTo>
                  <a:lnTo>
                    <a:pt x="9644" y="1900"/>
                  </a:lnTo>
                  <a:lnTo>
                    <a:pt x="9671" y="1881"/>
                  </a:lnTo>
                  <a:lnTo>
                    <a:pt x="9697" y="1863"/>
                  </a:lnTo>
                  <a:lnTo>
                    <a:pt x="9724" y="1847"/>
                  </a:lnTo>
                  <a:lnTo>
                    <a:pt x="9752" y="1832"/>
                  </a:lnTo>
                  <a:lnTo>
                    <a:pt x="9768" y="1821"/>
                  </a:lnTo>
                  <a:lnTo>
                    <a:pt x="9785" y="1808"/>
                  </a:lnTo>
                  <a:lnTo>
                    <a:pt x="9802" y="1792"/>
                  </a:lnTo>
                  <a:lnTo>
                    <a:pt x="9820" y="1775"/>
                  </a:lnTo>
                  <a:lnTo>
                    <a:pt x="9838" y="1757"/>
                  </a:lnTo>
                  <a:lnTo>
                    <a:pt x="9855" y="1735"/>
                  </a:lnTo>
                  <a:lnTo>
                    <a:pt x="9873" y="1714"/>
                  </a:lnTo>
                  <a:lnTo>
                    <a:pt x="9891" y="1690"/>
                  </a:lnTo>
                  <a:lnTo>
                    <a:pt x="9967" y="1588"/>
                  </a:lnTo>
                  <a:lnTo>
                    <a:pt x="10043" y="1479"/>
                  </a:lnTo>
                  <a:lnTo>
                    <a:pt x="10082" y="1426"/>
                  </a:lnTo>
                  <a:lnTo>
                    <a:pt x="10123" y="1376"/>
                  </a:lnTo>
                  <a:lnTo>
                    <a:pt x="10142" y="1351"/>
                  </a:lnTo>
                  <a:lnTo>
                    <a:pt x="10163" y="1329"/>
                  </a:lnTo>
                  <a:lnTo>
                    <a:pt x="10183" y="1307"/>
                  </a:lnTo>
                  <a:lnTo>
                    <a:pt x="10205" y="1288"/>
                  </a:lnTo>
                  <a:lnTo>
                    <a:pt x="10225" y="1270"/>
                  </a:lnTo>
                  <a:lnTo>
                    <a:pt x="10245" y="1254"/>
                  </a:lnTo>
                  <a:lnTo>
                    <a:pt x="10267" y="1239"/>
                  </a:lnTo>
                  <a:lnTo>
                    <a:pt x="10288" y="1227"/>
                  </a:lnTo>
                  <a:lnTo>
                    <a:pt x="10310" y="1217"/>
                  </a:lnTo>
                  <a:lnTo>
                    <a:pt x="10330" y="1210"/>
                  </a:lnTo>
                  <a:lnTo>
                    <a:pt x="10352" y="1206"/>
                  </a:lnTo>
                  <a:lnTo>
                    <a:pt x="10374" y="1204"/>
                  </a:lnTo>
                  <a:lnTo>
                    <a:pt x="10384" y="1192"/>
                  </a:lnTo>
                  <a:lnTo>
                    <a:pt x="10397" y="1178"/>
                  </a:lnTo>
                  <a:lnTo>
                    <a:pt x="10411" y="1160"/>
                  </a:lnTo>
                  <a:lnTo>
                    <a:pt x="10427" y="1143"/>
                  </a:lnTo>
                  <a:lnTo>
                    <a:pt x="10442" y="1125"/>
                  </a:lnTo>
                  <a:lnTo>
                    <a:pt x="10457" y="1108"/>
                  </a:lnTo>
                  <a:lnTo>
                    <a:pt x="10471" y="1092"/>
                  </a:lnTo>
                  <a:lnTo>
                    <a:pt x="10483" y="10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26040" y="4545000"/>
              <a:ext cx="1087200" cy="306360"/>
            </a:xfrm>
            <a:custGeom>
              <a:avLst/>
              <a:gdLst/>
              <a:ahLst/>
              <a:rect l="l" t="t" r="r" b="b"/>
              <a:pathLst>
                <a:path w="6318" h="1923">
                  <a:moveTo>
                    <a:pt x="0" y="1923"/>
                  </a:moveTo>
                  <a:lnTo>
                    <a:pt x="41" y="1911"/>
                  </a:lnTo>
                  <a:lnTo>
                    <a:pt x="82" y="1898"/>
                  </a:lnTo>
                  <a:lnTo>
                    <a:pt x="124" y="1884"/>
                  </a:lnTo>
                  <a:lnTo>
                    <a:pt x="167" y="1867"/>
                  </a:lnTo>
                  <a:lnTo>
                    <a:pt x="210" y="1850"/>
                  </a:lnTo>
                  <a:lnTo>
                    <a:pt x="254" y="1830"/>
                  </a:lnTo>
                  <a:lnTo>
                    <a:pt x="297" y="1810"/>
                  </a:lnTo>
                  <a:lnTo>
                    <a:pt x="341" y="1789"/>
                  </a:lnTo>
                  <a:lnTo>
                    <a:pt x="385" y="1765"/>
                  </a:lnTo>
                  <a:lnTo>
                    <a:pt x="429" y="1741"/>
                  </a:lnTo>
                  <a:lnTo>
                    <a:pt x="474" y="1717"/>
                  </a:lnTo>
                  <a:lnTo>
                    <a:pt x="518" y="1691"/>
                  </a:lnTo>
                  <a:lnTo>
                    <a:pt x="607" y="1638"/>
                  </a:lnTo>
                  <a:lnTo>
                    <a:pt x="695" y="1584"/>
                  </a:lnTo>
                  <a:lnTo>
                    <a:pt x="870" y="1470"/>
                  </a:lnTo>
                  <a:lnTo>
                    <a:pt x="1038" y="1358"/>
                  </a:lnTo>
                  <a:lnTo>
                    <a:pt x="1119" y="1304"/>
                  </a:lnTo>
                  <a:lnTo>
                    <a:pt x="1198" y="1253"/>
                  </a:lnTo>
                  <a:lnTo>
                    <a:pt x="1274" y="1205"/>
                  </a:lnTo>
                  <a:lnTo>
                    <a:pt x="1347" y="1162"/>
                  </a:lnTo>
                  <a:lnTo>
                    <a:pt x="1389" y="1143"/>
                  </a:lnTo>
                  <a:lnTo>
                    <a:pt x="1432" y="1124"/>
                  </a:lnTo>
                  <a:lnTo>
                    <a:pt x="1474" y="1106"/>
                  </a:lnTo>
                  <a:lnTo>
                    <a:pt x="1517" y="1088"/>
                  </a:lnTo>
                  <a:lnTo>
                    <a:pt x="1560" y="1072"/>
                  </a:lnTo>
                  <a:lnTo>
                    <a:pt x="1604" y="1055"/>
                  </a:lnTo>
                  <a:lnTo>
                    <a:pt x="1649" y="1040"/>
                  </a:lnTo>
                  <a:lnTo>
                    <a:pt x="1693" y="1025"/>
                  </a:lnTo>
                  <a:lnTo>
                    <a:pt x="1783" y="996"/>
                  </a:lnTo>
                  <a:lnTo>
                    <a:pt x="1873" y="968"/>
                  </a:lnTo>
                  <a:lnTo>
                    <a:pt x="1964" y="940"/>
                  </a:lnTo>
                  <a:lnTo>
                    <a:pt x="2055" y="914"/>
                  </a:lnTo>
                  <a:lnTo>
                    <a:pt x="2146" y="887"/>
                  </a:lnTo>
                  <a:lnTo>
                    <a:pt x="2237" y="860"/>
                  </a:lnTo>
                  <a:lnTo>
                    <a:pt x="2326" y="831"/>
                  </a:lnTo>
                  <a:lnTo>
                    <a:pt x="2416" y="802"/>
                  </a:lnTo>
                  <a:lnTo>
                    <a:pt x="2460" y="786"/>
                  </a:lnTo>
                  <a:lnTo>
                    <a:pt x="2504" y="770"/>
                  </a:lnTo>
                  <a:lnTo>
                    <a:pt x="2547" y="754"/>
                  </a:lnTo>
                  <a:lnTo>
                    <a:pt x="2590" y="737"/>
                  </a:lnTo>
                  <a:lnTo>
                    <a:pt x="2633" y="719"/>
                  </a:lnTo>
                  <a:lnTo>
                    <a:pt x="2676" y="700"/>
                  </a:lnTo>
                  <a:lnTo>
                    <a:pt x="2718" y="681"/>
                  </a:lnTo>
                  <a:lnTo>
                    <a:pt x="2758" y="662"/>
                  </a:lnTo>
                  <a:lnTo>
                    <a:pt x="2819" y="628"/>
                  </a:lnTo>
                  <a:lnTo>
                    <a:pt x="2882" y="597"/>
                  </a:lnTo>
                  <a:lnTo>
                    <a:pt x="2945" y="567"/>
                  </a:lnTo>
                  <a:lnTo>
                    <a:pt x="3009" y="538"/>
                  </a:lnTo>
                  <a:lnTo>
                    <a:pt x="3075" y="510"/>
                  </a:lnTo>
                  <a:lnTo>
                    <a:pt x="3141" y="485"/>
                  </a:lnTo>
                  <a:lnTo>
                    <a:pt x="3208" y="459"/>
                  </a:lnTo>
                  <a:lnTo>
                    <a:pt x="3276" y="435"/>
                  </a:lnTo>
                  <a:lnTo>
                    <a:pt x="3344" y="412"/>
                  </a:lnTo>
                  <a:lnTo>
                    <a:pt x="3414" y="389"/>
                  </a:lnTo>
                  <a:lnTo>
                    <a:pt x="3483" y="368"/>
                  </a:lnTo>
                  <a:lnTo>
                    <a:pt x="3553" y="347"/>
                  </a:lnTo>
                  <a:lnTo>
                    <a:pt x="3624" y="327"/>
                  </a:lnTo>
                  <a:lnTo>
                    <a:pt x="3695" y="308"/>
                  </a:lnTo>
                  <a:lnTo>
                    <a:pt x="3766" y="289"/>
                  </a:lnTo>
                  <a:lnTo>
                    <a:pt x="3838" y="271"/>
                  </a:lnTo>
                  <a:lnTo>
                    <a:pt x="3982" y="237"/>
                  </a:lnTo>
                  <a:lnTo>
                    <a:pt x="4126" y="205"/>
                  </a:lnTo>
                  <a:lnTo>
                    <a:pt x="4269" y="173"/>
                  </a:lnTo>
                  <a:lnTo>
                    <a:pt x="4412" y="141"/>
                  </a:lnTo>
                  <a:lnTo>
                    <a:pt x="4554" y="111"/>
                  </a:lnTo>
                  <a:lnTo>
                    <a:pt x="4693" y="80"/>
                  </a:lnTo>
                  <a:lnTo>
                    <a:pt x="4830" y="49"/>
                  </a:lnTo>
                  <a:lnTo>
                    <a:pt x="4964" y="16"/>
                  </a:lnTo>
                  <a:lnTo>
                    <a:pt x="5008" y="10"/>
                  </a:lnTo>
                  <a:lnTo>
                    <a:pt x="5061" y="5"/>
                  </a:lnTo>
                  <a:lnTo>
                    <a:pt x="5121" y="2"/>
                  </a:lnTo>
                  <a:lnTo>
                    <a:pt x="5186" y="0"/>
                  </a:lnTo>
                  <a:lnTo>
                    <a:pt x="5222" y="0"/>
                  </a:lnTo>
                  <a:lnTo>
                    <a:pt x="5257" y="0"/>
                  </a:lnTo>
                  <a:lnTo>
                    <a:pt x="5294" y="1"/>
                  </a:lnTo>
                  <a:lnTo>
                    <a:pt x="5330" y="3"/>
                  </a:lnTo>
                  <a:lnTo>
                    <a:pt x="5368" y="5"/>
                  </a:lnTo>
                  <a:lnTo>
                    <a:pt x="5405" y="8"/>
                  </a:lnTo>
                  <a:lnTo>
                    <a:pt x="5443" y="12"/>
                  </a:lnTo>
                  <a:lnTo>
                    <a:pt x="5479" y="17"/>
                  </a:lnTo>
                  <a:lnTo>
                    <a:pt x="5517" y="22"/>
                  </a:lnTo>
                  <a:lnTo>
                    <a:pt x="5553" y="29"/>
                  </a:lnTo>
                  <a:lnTo>
                    <a:pt x="5589" y="35"/>
                  </a:lnTo>
                  <a:lnTo>
                    <a:pt x="5623" y="44"/>
                  </a:lnTo>
                  <a:lnTo>
                    <a:pt x="5657" y="52"/>
                  </a:lnTo>
                  <a:lnTo>
                    <a:pt x="5689" y="63"/>
                  </a:lnTo>
                  <a:lnTo>
                    <a:pt x="5721" y="74"/>
                  </a:lnTo>
                  <a:lnTo>
                    <a:pt x="5749" y="87"/>
                  </a:lnTo>
                  <a:lnTo>
                    <a:pt x="5777" y="100"/>
                  </a:lnTo>
                  <a:lnTo>
                    <a:pt x="5803" y="115"/>
                  </a:lnTo>
                  <a:lnTo>
                    <a:pt x="5826" y="131"/>
                  </a:lnTo>
                  <a:lnTo>
                    <a:pt x="5847" y="148"/>
                  </a:lnTo>
                  <a:lnTo>
                    <a:pt x="5865" y="166"/>
                  </a:lnTo>
                  <a:lnTo>
                    <a:pt x="5881" y="185"/>
                  </a:lnTo>
                  <a:lnTo>
                    <a:pt x="5894" y="207"/>
                  </a:lnTo>
                  <a:lnTo>
                    <a:pt x="5904" y="229"/>
                  </a:lnTo>
                  <a:lnTo>
                    <a:pt x="5925" y="290"/>
                  </a:lnTo>
                  <a:lnTo>
                    <a:pt x="5946" y="354"/>
                  </a:lnTo>
                  <a:lnTo>
                    <a:pt x="5966" y="417"/>
                  </a:lnTo>
                  <a:lnTo>
                    <a:pt x="5984" y="482"/>
                  </a:lnTo>
                  <a:lnTo>
                    <a:pt x="6020" y="615"/>
                  </a:lnTo>
                  <a:lnTo>
                    <a:pt x="6053" y="751"/>
                  </a:lnTo>
                  <a:lnTo>
                    <a:pt x="6086" y="885"/>
                  </a:lnTo>
                  <a:lnTo>
                    <a:pt x="6119" y="1018"/>
                  </a:lnTo>
                  <a:lnTo>
                    <a:pt x="6138" y="1083"/>
                  </a:lnTo>
                  <a:lnTo>
                    <a:pt x="6157" y="1147"/>
                  </a:lnTo>
                  <a:lnTo>
                    <a:pt x="6176" y="1211"/>
                  </a:lnTo>
                  <a:lnTo>
                    <a:pt x="6198" y="1272"/>
                  </a:lnTo>
                  <a:lnTo>
                    <a:pt x="6208" y="1307"/>
                  </a:lnTo>
                  <a:lnTo>
                    <a:pt x="6218" y="1345"/>
                  </a:lnTo>
                  <a:lnTo>
                    <a:pt x="6227" y="1385"/>
                  </a:lnTo>
                  <a:lnTo>
                    <a:pt x="6235" y="1427"/>
                  </a:lnTo>
                  <a:lnTo>
                    <a:pt x="6248" y="1516"/>
                  </a:lnTo>
                  <a:lnTo>
                    <a:pt x="6260" y="1607"/>
                  </a:lnTo>
                  <a:lnTo>
                    <a:pt x="6272" y="1697"/>
                  </a:lnTo>
                  <a:lnTo>
                    <a:pt x="6284" y="1782"/>
                  </a:lnTo>
                  <a:lnTo>
                    <a:pt x="6291" y="1822"/>
                  </a:lnTo>
                  <a:lnTo>
                    <a:pt x="6300" y="1858"/>
                  </a:lnTo>
                  <a:lnTo>
                    <a:pt x="6304" y="1877"/>
                  </a:lnTo>
                  <a:lnTo>
                    <a:pt x="6308" y="1893"/>
                  </a:lnTo>
                  <a:lnTo>
                    <a:pt x="6314" y="1908"/>
                  </a:lnTo>
                  <a:lnTo>
                    <a:pt x="6318" y="1923"/>
                  </a:lnTo>
                  <a:lnTo>
                    <a:pt x="0" y="19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25400" y="3789360"/>
              <a:ext cx="804960" cy="1062000"/>
            </a:xfrm>
            <a:custGeom>
              <a:avLst/>
              <a:gdLst/>
              <a:ahLst/>
              <a:rect l="l" t="t" r="r" b="b"/>
              <a:pathLst>
                <a:path w="4671" h="6688">
                  <a:moveTo>
                    <a:pt x="3294" y="0"/>
                  </a:moveTo>
                  <a:lnTo>
                    <a:pt x="3240" y="30"/>
                  </a:lnTo>
                  <a:lnTo>
                    <a:pt x="3186" y="61"/>
                  </a:lnTo>
                  <a:lnTo>
                    <a:pt x="3131" y="93"/>
                  </a:lnTo>
                  <a:lnTo>
                    <a:pt x="3079" y="127"/>
                  </a:lnTo>
                  <a:lnTo>
                    <a:pt x="3026" y="159"/>
                  </a:lnTo>
                  <a:lnTo>
                    <a:pt x="2975" y="191"/>
                  </a:lnTo>
                  <a:lnTo>
                    <a:pt x="2927" y="221"/>
                  </a:lnTo>
                  <a:lnTo>
                    <a:pt x="2879" y="248"/>
                  </a:lnTo>
                  <a:lnTo>
                    <a:pt x="2792" y="300"/>
                  </a:lnTo>
                  <a:lnTo>
                    <a:pt x="2703" y="360"/>
                  </a:lnTo>
                  <a:lnTo>
                    <a:pt x="2612" y="429"/>
                  </a:lnTo>
                  <a:lnTo>
                    <a:pt x="2520" y="505"/>
                  </a:lnTo>
                  <a:lnTo>
                    <a:pt x="2426" y="589"/>
                  </a:lnTo>
                  <a:lnTo>
                    <a:pt x="2329" y="679"/>
                  </a:lnTo>
                  <a:lnTo>
                    <a:pt x="2233" y="775"/>
                  </a:lnTo>
                  <a:lnTo>
                    <a:pt x="2135" y="877"/>
                  </a:lnTo>
                  <a:lnTo>
                    <a:pt x="2036" y="985"/>
                  </a:lnTo>
                  <a:lnTo>
                    <a:pt x="1937" y="1097"/>
                  </a:lnTo>
                  <a:lnTo>
                    <a:pt x="1838" y="1214"/>
                  </a:lnTo>
                  <a:lnTo>
                    <a:pt x="1738" y="1335"/>
                  </a:lnTo>
                  <a:lnTo>
                    <a:pt x="1638" y="1461"/>
                  </a:lnTo>
                  <a:lnTo>
                    <a:pt x="1539" y="1588"/>
                  </a:lnTo>
                  <a:lnTo>
                    <a:pt x="1439" y="1719"/>
                  </a:lnTo>
                  <a:lnTo>
                    <a:pt x="1341" y="1851"/>
                  </a:lnTo>
                  <a:lnTo>
                    <a:pt x="1243" y="1986"/>
                  </a:lnTo>
                  <a:lnTo>
                    <a:pt x="1146" y="2122"/>
                  </a:lnTo>
                  <a:lnTo>
                    <a:pt x="1051" y="2259"/>
                  </a:lnTo>
                  <a:lnTo>
                    <a:pt x="956" y="2396"/>
                  </a:lnTo>
                  <a:lnTo>
                    <a:pt x="864" y="2533"/>
                  </a:lnTo>
                  <a:lnTo>
                    <a:pt x="773" y="2670"/>
                  </a:lnTo>
                  <a:lnTo>
                    <a:pt x="684" y="2807"/>
                  </a:lnTo>
                  <a:lnTo>
                    <a:pt x="598" y="2942"/>
                  </a:lnTo>
                  <a:lnTo>
                    <a:pt x="513" y="3074"/>
                  </a:lnTo>
                  <a:lnTo>
                    <a:pt x="432" y="3204"/>
                  </a:lnTo>
                  <a:lnTo>
                    <a:pt x="353" y="3333"/>
                  </a:lnTo>
                  <a:lnTo>
                    <a:pt x="276" y="3458"/>
                  </a:lnTo>
                  <a:lnTo>
                    <a:pt x="203" y="3579"/>
                  </a:lnTo>
                  <a:lnTo>
                    <a:pt x="134" y="3697"/>
                  </a:lnTo>
                  <a:lnTo>
                    <a:pt x="67" y="3809"/>
                  </a:lnTo>
                  <a:lnTo>
                    <a:pt x="5" y="3917"/>
                  </a:lnTo>
                  <a:lnTo>
                    <a:pt x="17" y="3981"/>
                  </a:lnTo>
                  <a:lnTo>
                    <a:pt x="28" y="4043"/>
                  </a:lnTo>
                  <a:lnTo>
                    <a:pt x="39" y="4104"/>
                  </a:lnTo>
                  <a:lnTo>
                    <a:pt x="50" y="4165"/>
                  </a:lnTo>
                  <a:lnTo>
                    <a:pt x="54" y="4196"/>
                  </a:lnTo>
                  <a:lnTo>
                    <a:pt x="59" y="4227"/>
                  </a:lnTo>
                  <a:lnTo>
                    <a:pt x="62" y="4258"/>
                  </a:lnTo>
                  <a:lnTo>
                    <a:pt x="65" y="4289"/>
                  </a:lnTo>
                  <a:lnTo>
                    <a:pt x="67" y="4321"/>
                  </a:lnTo>
                  <a:lnTo>
                    <a:pt x="68" y="4352"/>
                  </a:lnTo>
                  <a:lnTo>
                    <a:pt x="69" y="4385"/>
                  </a:lnTo>
                  <a:lnTo>
                    <a:pt x="68" y="4418"/>
                  </a:lnTo>
                  <a:lnTo>
                    <a:pt x="0" y="4591"/>
                  </a:lnTo>
                  <a:lnTo>
                    <a:pt x="46" y="4896"/>
                  </a:lnTo>
                  <a:lnTo>
                    <a:pt x="57" y="4905"/>
                  </a:lnTo>
                  <a:lnTo>
                    <a:pt x="67" y="4918"/>
                  </a:lnTo>
                  <a:lnTo>
                    <a:pt x="77" y="4933"/>
                  </a:lnTo>
                  <a:lnTo>
                    <a:pt x="88" y="4951"/>
                  </a:lnTo>
                  <a:lnTo>
                    <a:pt x="97" y="4971"/>
                  </a:lnTo>
                  <a:lnTo>
                    <a:pt x="108" y="4993"/>
                  </a:lnTo>
                  <a:lnTo>
                    <a:pt x="118" y="5018"/>
                  </a:lnTo>
                  <a:lnTo>
                    <a:pt x="127" y="5044"/>
                  </a:lnTo>
                  <a:lnTo>
                    <a:pt x="147" y="5102"/>
                  </a:lnTo>
                  <a:lnTo>
                    <a:pt x="166" y="5166"/>
                  </a:lnTo>
                  <a:lnTo>
                    <a:pt x="184" y="5235"/>
                  </a:lnTo>
                  <a:lnTo>
                    <a:pt x="202" y="5306"/>
                  </a:lnTo>
                  <a:lnTo>
                    <a:pt x="239" y="5457"/>
                  </a:lnTo>
                  <a:lnTo>
                    <a:pt x="275" y="5606"/>
                  </a:lnTo>
                  <a:lnTo>
                    <a:pt x="294" y="5677"/>
                  </a:lnTo>
                  <a:lnTo>
                    <a:pt x="313" y="5745"/>
                  </a:lnTo>
                  <a:lnTo>
                    <a:pt x="322" y="5777"/>
                  </a:lnTo>
                  <a:lnTo>
                    <a:pt x="331" y="5807"/>
                  </a:lnTo>
                  <a:lnTo>
                    <a:pt x="341" y="5836"/>
                  </a:lnTo>
                  <a:lnTo>
                    <a:pt x="350" y="5864"/>
                  </a:lnTo>
                  <a:lnTo>
                    <a:pt x="362" y="5896"/>
                  </a:lnTo>
                  <a:lnTo>
                    <a:pt x="373" y="5927"/>
                  </a:lnTo>
                  <a:lnTo>
                    <a:pt x="383" y="5957"/>
                  </a:lnTo>
                  <a:lnTo>
                    <a:pt x="391" y="5986"/>
                  </a:lnTo>
                  <a:lnTo>
                    <a:pt x="406" y="6043"/>
                  </a:lnTo>
                  <a:lnTo>
                    <a:pt x="419" y="6098"/>
                  </a:lnTo>
                  <a:lnTo>
                    <a:pt x="430" y="6150"/>
                  </a:lnTo>
                  <a:lnTo>
                    <a:pt x="438" y="6201"/>
                  </a:lnTo>
                  <a:lnTo>
                    <a:pt x="445" y="6249"/>
                  </a:lnTo>
                  <a:lnTo>
                    <a:pt x="451" y="6297"/>
                  </a:lnTo>
                  <a:lnTo>
                    <a:pt x="462" y="6392"/>
                  </a:lnTo>
                  <a:lnTo>
                    <a:pt x="473" y="6486"/>
                  </a:lnTo>
                  <a:lnTo>
                    <a:pt x="480" y="6534"/>
                  </a:lnTo>
                  <a:lnTo>
                    <a:pt x="489" y="6584"/>
                  </a:lnTo>
                  <a:lnTo>
                    <a:pt x="499" y="6634"/>
                  </a:lnTo>
                  <a:lnTo>
                    <a:pt x="512" y="6688"/>
                  </a:lnTo>
                  <a:lnTo>
                    <a:pt x="1111" y="6688"/>
                  </a:lnTo>
                  <a:lnTo>
                    <a:pt x="1123" y="6657"/>
                  </a:lnTo>
                  <a:lnTo>
                    <a:pt x="1134" y="6624"/>
                  </a:lnTo>
                  <a:lnTo>
                    <a:pt x="1148" y="6593"/>
                  </a:lnTo>
                  <a:lnTo>
                    <a:pt x="1162" y="6562"/>
                  </a:lnTo>
                  <a:lnTo>
                    <a:pt x="1177" y="6530"/>
                  </a:lnTo>
                  <a:lnTo>
                    <a:pt x="1192" y="6499"/>
                  </a:lnTo>
                  <a:lnTo>
                    <a:pt x="1208" y="6468"/>
                  </a:lnTo>
                  <a:lnTo>
                    <a:pt x="1226" y="6436"/>
                  </a:lnTo>
                  <a:lnTo>
                    <a:pt x="1261" y="6373"/>
                  </a:lnTo>
                  <a:lnTo>
                    <a:pt x="1297" y="6310"/>
                  </a:lnTo>
                  <a:lnTo>
                    <a:pt x="1335" y="6248"/>
                  </a:lnTo>
                  <a:lnTo>
                    <a:pt x="1374" y="6185"/>
                  </a:lnTo>
                  <a:lnTo>
                    <a:pt x="1411" y="6123"/>
                  </a:lnTo>
                  <a:lnTo>
                    <a:pt x="1450" y="6060"/>
                  </a:lnTo>
                  <a:lnTo>
                    <a:pt x="1486" y="5998"/>
                  </a:lnTo>
                  <a:lnTo>
                    <a:pt x="1522" y="5936"/>
                  </a:lnTo>
                  <a:lnTo>
                    <a:pt x="1538" y="5905"/>
                  </a:lnTo>
                  <a:lnTo>
                    <a:pt x="1554" y="5874"/>
                  </a:lnTo>
                  <a:lnTo>
                    <a:pt x="1570" y="5844"/>
                  </a:lnTo>
                  <a:lnTo>
                    <a:pt x="1585" y="5813"/>
                  </a:lnTo>
                  <a:lnTo>
                    <a:pt x="1599" y="5783"/>
                  </a:lnTo>
                  <a:lnTo>
                    <a:pt x="1612" y="5751"/>
                  </a:lnTo>
                  <a:lnTo>
                    <a:pt x="1625" y="5721"/>
                  </a:lnTo>
                  <a:lnTo>
                    <a:pt x="1635" y="5691"/>
                  </a:lnTo>
                  <a:lnTo>
                    <a:pt x="1647" y="5653"/>
                  </a:lnTo>
                  <a:lnTo>
                    <a:pt x="1659" y="5617"/>
                  </a:lnTo>
                  <a:lnTo>
                    <a:pt x="1673" y="5583"/>
                  </a:lnTo>
                  <a:lnTo>
                    <a:pt x="1687" y="5551"/>
                  </a:lnTo>
                  <a:lnTo>
                    <a:pt x="1702" y="5520"/>
                  </a:lnTo>
                  <a:lnTo>
                    <a:pt x="1717" y="5491"/>
                  </a:lnTo>
                  <a:lnTo>
                    <a:pt x="1733" y="5463"/>
                  </a:lnTo>
                  <a:lnTo>
                    <a:pt x="1750" y="5436"/>
                  </a:lnTo>
                  <a:lnTo>
                    <a:pt x="1767" y="5410"/>
                  </a:lnTo>
                  <a:lnTo>
                    <a:pt x="1784" y="5386"/>
                  </a:lnTo>
                  <a:lnTo>
                    <a:pt x="1801" y="5361"/>
                  </a:lnTo>
                  <a:lnTo>
                    <a:pt x="1820" y="5338"/>
                  </a:lnTo>
                  <a:lnTo>
                    <a:pt x="1856" y="5292"/>
                  </a:lnTo>
                  <a:lnTo>
                    <a:pt x="1893" y="5249"/>
                  </a:lnTo>
                  <a:lnTo>
                    <a:pt x="1928" y="5205"/>
                  </a:lnTo>
                  <a:lnTo>
                    <a:pt x="1962" y="5160"/>
                  </a:lnTo>
                  <a:lnTo>
                    <a:pt x="1978" y="5136"/>
                  </a:lnTo>
                  <a:lnTo>
                    <a:pt x="1993" y="5112"/>
                  </a:lnTo>
                  <a:lnTo>
                    <a:pt x="2010" y="5088"/>
                  </a:lnTo>
                  <a:lnTo>
                    <a:pt x="2023" y="5062"/>
                  </a:lnTo>
                  <a:lnTo>
                    <a:pt x="2036" y="5035"/>
                  </a:lnTo>
                  <a:lnTo>
                    <a:pt x="2049" y="5007"/>
                  </a:lnTo>
                  <a:lnTo>
                    <a:pt x="2061" y="4978"/>
                  </a:lnTo>
                  <a:lnTo>
                    <a:pt x="2072" y="4948"/>
                  </a:lnTo>
                  <a:lnTo>
                    <a:pt x="2081" y="4916"/>
                  </a:lnTo>
                  <a:lnTo>
                    <a:pt x="2090" y="4883"/>
                  </a:lnTo>
                  <a:lnTo>
                    <a:pt x="2096" y="4847"/>
                  </a:lnTo>
                  <a:lnTo>
                    <a:pt x="2102" y="4810"/>
                  </a:lnTo>
                  <a:lnTo>
                    <a:pt x="2091" y="4802"/>
                  </a:lnTo>
                  <a:lnTo>
                    <a:pt x="2079" y="4797"/>
                  </a:lnTo>
                  <a:lnTo>
                    <a:pt x="2065" y="4792"/>
                  </a:lnTo>
                  <a:lnTo>
                    <a:pt x="2051" y="4787"/>
                  </a:lnTo>
                  <a:lnTo>
                    <a:pt x="2034" y="4784"/>
                  </a:lnTo>
                  <a:lnTo>
                    <a:pt x="2017" y="4782"/>
                  </a:lnTo>
                  <a:lnTo>
                    <a:pt x="1999" y="4780"/>
                  </a:lnTo>
                  <a:lnTo>
                    <a:pt x="1978" y="4780"/>
                  </a:lnTo>
                  <a:lnTo>
                    <a:pt x="1958" y="4780"/>
                  </a:lnTo>
                  <a:lnTo>
                    <a:pt x="1937" y="4780"/>
                  </a:lnTo>
                  <a:lnTo>
                    <a:pt x="1914" y="4782"/>
                  </a:lnTo>
                  <a:lnTo>
                    <a:pt x="1890" y="4784"/>
                  </a:lnTo>
                  <a:lnTo>
                    <a:pt x="1841" y="4791"/>
                  </a:lnTo>
                  <a:lnTo>
                    <a:pt x="1790" y="4800"/>
                  </a:lnTo>
                  <a:lnTo>
                    <a:pt x="1737" y="4811"/>
                  </a:lnTo>
                  <a:lnTo>
                    <a:pt x="1683" y="4825"/>
                  </a:lnTo>
                  <a:lnTo>
                    <a:pt x="1629" y="4840"/>
                  </a:lnTo>
                  <a:lnTo>
                    <a:pt x="1574" y="4857"/>
                  </a:lnTo>
                  <a:lnTo>
                    <a:pt x="1520" y="4875"/>
                  </a:lnTo>
                  <a:lnTo>
                    <a:pt x="1469" y="4895"/>
                  </a:lnTo>
                  <a:lnTo>
                    <a:pt x="1419" y="4915"/>
                  </a:lnTo>
                  <a:lnTo>
                    <a:pt x="1370" y="4936"/>
                  </a:lnTo>
                  <a:lnTo>
                    <a:pt x="1316" y="4959"/>
                  </a:lnTo>
                  <a:lnTo>
                    <a:pt x="1262" y="4980"/>
                  </a:lnTo>
                  <a:lnTo>
                    <a:pt x="1208" y="5000"/>
                  </a:lnTo>
                  <a:lnTo>
                    <a:pt x="1156" y="5018"/>
                  </a:lnTo>
                  <a:lnTo>
                    <a:pt x="1103" y="5034"/>
                  </a:lnTo>
                  <a:lnTo>
                    <a:pt x="1052" y="5049"/>
                  </a:lnTo>
                  <a:lnTo>
                    <a:pt x="1001" y="5062"/>
                  </a:lnTo>
                  <a:lnTo>
                    <a:pt x="951" y="5075"/>
                  </a:lnTo>
                  <a:lnTo>
                    <a:pt x="902" y="5086"/>
                  </a:lnTo>
                  <a:lnTo>
                    <a:pt x="853" y="5094"/>
                  </a:lnTo>
                  <a:lnTo>
                    <a:pt x="806" y="5103"/>
                  </a:lnTo>
                  <a:lnTo>
                    <a:pt x="760" y="5109"/>
                  </a:lnTo>
                  <a:lnTo>
                    <a:pt x="716" y="5116"/>
                  </a:lnTo>
                  <a:lnTo>
                    <a:pt x="672" y="5121"/>
                  </a:lnTo>
                  <a:lnTo>
                    <a:pt x="630" y="5124"/>
                  </a:lnTo>
                  <a:lnTo>
                    <a:pt x="590" y="5127"/>
                  </a:lnTo>
                  <a:lnTo>
                    <a:pt x="550" y="5129"/>
                  </a:lnTo>
                  <a:lnTo>
                    <a:pt x="512" y="5131"/>
                  </a:lnTo>
                  <a:lnTo>
                    <a:pt x="476" y="5132"/>
                  </a:lnTo>
                  <a:lnTo>
                    <a:pt x="442" y="5132"/>
                  </a:lnTo>
                  <a:lnTo>
                    <a:pt x="408" y="5131"/>
                  </a:lnTo>
                  <a:lnTo>
                    <a:pt x="377" y="5129"/>
                  </a:lnTo>
                  <a:lnTo>
                    <a:pt x="348" y="5127"/>
                  </a:lnTo>
                  <a:lnTo>
                    <a:pt x="321" y="5125"/>
                  </a:lnTo>
                  <a:lnTo>
                    <a:pt x="297" y="5123"/>
                  </a:lnTo>
                  <a:lnTo>
                    <a:pt x="273" y="5120"/>
                  </a:lnTo>
                  <a:lnTo>
                    <a:pt x="253" y="5117"/>
                  </a:lnTo>
                  <a:lnTo>
                    <a:pt x="235" y="5112"/>
                  </a:lnTo>
                  <a:lnTo>
                    <a:pt x="217" y="5109"/>
                  </a:lnTo>
                  <a:lnTo>
                    <a:pt x="205" y="5106"/>
                  </a:lnTo>
                  <a:lnTo>
                    <a:pt x="193" y="5102"/>
                  </a:lnTo>
                  <a:lnTo>
                    <a:pt x="184" y="5097"/>
                  </a:lnTo>
                  <a:lnTo>
                    <a:pt x="264" y="5097"/>
                  </a:lnTo>
                  <a:lnTo>
                    <a:pt x="343" y="5095"/>
                  </a:lnTo>
                  <a:lnTo>
                    <a:pt x="422" y="5093"/>
                  </a:lnTo>
                  <a:lnTo>
                    <a:pt x="501" y="5088"/>
                  </a:lnTo>
                  <a:lnTo>
                    <a:pt x="579" y="5082"/>
                  </a:lnTo>
                  <a:lnTo>
                    <a:pt x="657" y="5075"/>
                  </a:lnTo>
                  <a:lnTo>
                    <a:pt x="733" y="5065"/>
                  </a:lnTo>
                  <a:lnTo>
                    <a:pt x="810" y="5053"/>
                  </a:lnTo>
                  <a:lnTo>
                    <a:pt x="886" y="5040"/>
                  </a:lnTo>
                  <a:lnTo>
                    <a:pt x="960" y="5024"/>
                  </a:lnTo>
                  <a:lnTo>
                    <a:pt x="1034" y="5007"/>
                  </a:lnTo>
                  <a:lnTo>
                    <a:pt x="1105" y="4987"/>
                  </a:lnTo>
                  <a:lnTo>
                    <a:pt x="1176" y="4964"/>
                  </a:lnTo>
                  <a:lnTo>
                    <a:pt x="1247" y="4939"/>
                  </a:lnTo>
                  <a:lnTo>
                    <a:pt x="1316" y="4910"/>
                  </a:lnTo>
                  <a:lnTo>
                    <a:pt x="1382" y="4879"/>
                  </a:lnTo>
                  <a:lnTo>
                    <a:pt x="1449" y="4844"/>
                  </a:lnTo>
                  <a:lnTo>
                    <a:pt x="1513" y="4808"/>
                  </a:lnTo>
                  <a:lnTo>
                    <a:pt x="1575" y="4767"/>
                  </a:lnTo>
                  <a:lnTo>
                    <a:pt x="1636" y="4723"/>
                  </a:lnTo>
                  <a:lnTo>
                    <a:pt x="1695" y="4675"/>
                  </a:lnTo>
                  <a:lnTo>
                    <a:pt x="1753" y="4623"/>
                  </a:lnTo>
                  <a:lnTo>
                    <a:pt x="1808" y="4569"/>
                  </a:lnTo>
                  <a:lnTo>
                    <a:pt x="1862" y="4510"/>
                  </a:lnTo>
                  <a:lnTo>
                    <a:pt x="1913" y="4446"/>
                  </a:lnTo>
                  <a:lnTo>
                    <a:pt x="1961" y="4380"/>
                  </a:lnTo>
                  <a:lnTo>
                    <a:pt x="2008" y="4308"/>
                  </a:lnTo>
                  <a:lnTo>
                    <a:pt x="2052" y="4232"/>
                  </a:lnTo>
                  <a:lnTo>
                    <a:pt x="2095" y="4153"/>
                  </a:lnTo>
                  <a:lnTo>
                    <a:pt x="2134" y="4067"/>
                  </a:lnTo>
                  <a:lnTo>
                    <a:pt x="2171" y="3978"/>
                  </a:lnTo>
                  <a:lnTo>
                    <a:pt x="2206" y="3882"/>
                  </a:lnTo>
                  <a:lnTo>
                    <a:pt x="2212" y="3868"/>
                  </a:lnTo>
                  <a:lnTo>
                    <a:pt x="2219" y="3853"/>
                  </a:lnTo>
                  <a:lnTo>
                    <a:pt x="2227" y="3837"/>
                  </a:lnTo>
                  <a:lnTo>
                    <a:pt x="2237" y="3821"/>
                  </a:lnTo>
                  <a:lnTo>
                    <a:pt x="2258" y="3788"/>
                  </a:lnTo>
                  <a:lnTo>
                    <a:pt x="2281" y="3754"/>
                  </a:lnTo>
                  <a:lnTo>
                    <a:pt x="2303" y="3720"/>
                  </a:lnTo>
                  <a:lnTo>
                    <a:pt x="2324" y="3687"/>
                  </a:lnTo>
                  <a:lnTo>
                    <a:pt x="2333" y="3672"/>
                  </a:lnTo>
                  <a:lnTo>
                    <a:pt x="2342" y="3657"/>
                  </a:lnTo>
                  <a:lnTo>
                    <a:pt x="2350" y="3642"/>
                  </a:lnTo>
                  <a:lnTo>
                    <a:pt x="2356" y="3629"/>
                  </a:lnTo>
                  <a:lnTo>
                    <a:pt x="2361" y="3612"/>
                  </a:lnTo>
                  <a:lnTo>
                    <a:pt x="2369" y="3595"/>
                  </a:lnTo>
                  <a:lnTo>
                    <a:pt x="2376" y="3577"/>
                  </a:lnTo>
                  <a:lnTo>
                    <a:pt x="2386" y="3559"/>
                  </a:lnTo>
                  <a:lnTo>
                    <a:pt x="2396" y="3540"/>
                  </a:lnTo>
                  <a:lnTo>
                    <a:pt x="2407" y="3522"/>
                  </a:lnTo>
                  <a:lnTo>
                    <a:pt x="2419" y="3503"/>
                  </a:lnTo>
                  <a:lnTo>
                    <a:pt x="2431" y="3484"/>
                  </a:lnTo>
                  <a:lnTo>
                    <a:pt x="2458" y="3446"/>
                  </a:lnTo>
                  <a:lnTo>
                    <a:pt x="2488" y="3406"/>
                  </a:lnTo>
                  <a:lnTo>
                    <a:pt x="2518" y="3368"/>
                  </a:lnTo>
                  <a:lnTo>
                    <a:pt x="2549" y="3328"/>
                  </a:lnTo>
                  <a:lnTo>
                    <a:pt x="2612" y="3252"/>
                  </a:lnTo>
                  <a:lnTo>
                    <a:pt x="2672" y="3179"/>
                  </a:lnTo>
                  <a:lnTo>
                    <a:pt x="2699" y="3144"/>
                  </a:lnTo>
                  <a:lnTo>
                    <a:pt x="2725" y="3112"/>
                  </a:lnTo>
                  <a:lnTo>
                    <a:pt x="2746" y="3081"/>
                  </a:lnTo>
                  <a:lnTo>
                    <a:pt x="2765" y="3053"/>
                  </a:lnTo>
                  <a:lnTo>
                    <a:pt x="2782" y="3025"/>
                  </a:lnTo>
                  <a:lnTo>
                    <a:pt x="2800" y="2998"/>
                  </a:lnTo>
                  <a:lnTo>
                    <a:pt x="2819" y="2970"/>
                  </a:lnTo>
                  <a:lnTo>
                    <a:pt x="2840" y="2941"/>
                  </a:lnTo>
                  <a:lnTo>
                    <a:pt x="2884" y="2883"/>
                  </a:lnTo>
                  <a:lnTo>
                    <a:pt x="2931" y="2823"/>
                  </a:lnTo>
                  <a:lnTo>
                    <a:pt x="2980" y="2763"/>
                  </a:lnTo>
                  <a:lnTo>
                    <a:pt x="3032" y="2703"/>
                  </a:lnTo>
                  <a:lnTo>
                    <a:pt x="3085" y="2643"/>
                  </a:lnTo>
                  <a:lnTo>
                    <a:pt x="3140" y="2583"/>
                  </a:lnTo>
                  <a:lnTo>
                    <a:pt x="3195" y="2526"/>
                  </a:lnTo>
                  <a:lnTo>
                    <a:pt x="3249" y="2469"/>
                  </a:lnTo>
                  <a:lnTo>
                    <a:pt x="3304" y="2415"/>
                  </a:lnTo>
                  <a:lnTo>
                    <a:pt x="3358" y="2364"/>
                  </a:lnTo>
                  <a:lnTo>
                    <a:pt x="3410" y="2315"/>
                  </a:lnTo>
                  <a:lnTo>
                    <a:pt x="3461" y="2272"/>
                  </a:lnTo>
                  <a:lnTo>
                    <a:pt x="3509" y="2231"/>
                  </a:lnTo>
                  <a:lnTo>
                    <a:pt x="3554" y="2195"/>
                  </a:lnTo>
                  <a:lnTo>
                    <a:pt x="3565" y="2187"/>
                  </a:lnTo>
                  <a:lnTo>
                    <a:pt x="3578" y="2178"/>
                  </a:lnTo>
                  <a:lnTo>
                    <a:pt x="3589" y="2167"/>
                  </a:lnTo>
                  <a:lnTo>
                    <a:pt x="3602" y="2155"/>
                  </a:lnTo>
                  <a:lnTo>
                    <a:pt x="3629" y="2128"/>
                  </a:lnTo>
                  <a:lnTo>
                    <a:pt x="3658" y="2096"/>
                  </a:lnTo>
                  <a:lnTo>
                    <a:pt x="3717" y="2025"/>
                  </a:lnTo>
                  <a:lnTo>
                    <a:pt x="3777" y="1951"/>
                  </a:lnTo>
                  <a:lnTo>
                    <a:pt x="3808" y="1914"/>
                  </a:lnTo>
                  <a:lnTo>
                    <a:pt x="3838" y="1880"/>
                  </a:lnTo>
                  <a:lnTo>
                    <a:pt x="3867" y="1848"/>
                  </a:lnTo>
                  <a:lnTo>
                    <a:pt x="3896" y="1820"/>
                  </a:lnTo>
                  <a:lnTo>
                    <a:pt x="3910" y="1807"/>
                  </a:lnTo>
                  <a:lnTo>
                    <a:pt x="3924" y="1796"/>
                  </a:lnTo>
                  <a:lnTo>
                    <a:pt x="3937" y="1787"/>
                  </a:lnTo>
                  <a:lnTo>
                    <a:pt x="3950" y="1778"/>
                  </a:lnTo>
                  <a:lnTo>
                    <a:pt x="3963" y="1772"/>
                  </a:lnTo>
                  <a:lnTo>
                    <a:pt x="3974" y="1767"/>
                  </a:lnTo>
                  <a:lnTo>
                    <a:pt x="3986" y="1764"/>
                  </a:lnTo>
                  <a:lnTo>
                    <a:pt x="3997" y="1763"/>
                  </a:lnTo>
                  <a:lnTo>
                    <a:pt x="4011" y="1740"/>
                  </a:lnTo>
                  <a:lnTo>
                    <a:pt x="4027" y="1716"/>
                  </a:lnTo>
                  <a:lnTo>
                    <a:pt x="4043" y="1692"/>
                  </a:lnTo>
                  <a:lnTo>
                    <a:pt x="4060" y="1670"/>
                  </a:lnTo>
                  <a:lnTo>
                    <a:pt x="4078" y="1647"/>
                  </a:lnTo>
                  <a:lnTo>
                    <a:pt x="4098" y="1625"/>
                  </a:lnTo>
                  <a:lnTo>
                    <a:pt x="4118" y="1602"/>
                  </a:lnTo>
                  <a:lnTo>
                    <a:pt x="4138" y="1580"/>
                  </a:lnTo>
                  <a:lnTo>
                    <a:pt x="4182" y="1536"/>
                  </a:lnTo>
                  <a:lnTo>
                    <a:pt x="4229" y="1493"/>
                  </a:lnTo>
                  <a:lnTo>
                    <a:pt x="4275" y="1450"/>
                  </a:lnTo>
                  <a:lnTo>
                    <a:pt x="4323" y="1407"/>
                  </a:lnTo>
                  <a:lnTo>
                    <a:pt x="4419" y="1323"/>
                  </a:lnTo>
                  <a:lnTo>
                    <a:pt x="4513" y="1241"/>
                  </a:lnTo>
                  <a:lnTo>
                    <a:pt x="4557" y="1200"/>
                  </a:lnTo>
                  <a:lnTo>
                    <a:pt x="4599" y="1159"/>
                  </a:lnTo>
                  <a:lnTo>
                    <a:pt x="4618" y="1139"/>
                  </a:lnTo>
                  <a:lnTo>
                    <a:pt x="4636" y="1119"/>
                  </a:lnTo>
                  <a:lnTo>
                    <a:pt x="4654" y="1098"/>
                  </a:lnTo>
                  <a:lnTo>
                    <a:pt x="4671" y="1078"/>
                  </a:lnTo>
                  <a:lnTo>
                    <a:pt x="4651" y="1054"/>
                  </a:lnTo>
                  <a:lnTo>
                    <a:pt x="4631" y="1031"/>
                  </a:lnTo>
                  <a:lnTo>
                    <a:pt x="4608" y="1007"/>
                  </a:lnTo>
                  <a:lnTo>
                    <a:pt x="4586" y="984"/>
                  </a:lnTo>
                  <a:lnTo>
                    <a:pt x="4538" y="935"/>
                  </a:lnTo>
                  <a:lnTo>
                    <a:pt x="4488" y="887"/>
                  </a:lnTo>
                  <a:lnTo>
                    <a:pt x="4434" y="839"/>
                  </a:lnTo>
                  <a:lnTo>
                    <a:pt x="4381" y="792"/>
                  </a:lnTo>
                  <a:lnTo>
                    <a:pt x="4324" y="744"/>
                  </a:lnTo>
                  <a:lnTo>
                    <a:pt x="4267" y="699"/>
                  </a:lnTo>
                  <a:lnTo>
                    <a:pt x="4209" y="654"/>
                  </a:lnTo>
                  <a:lnTo>
                    <a:pt x="4151" y="611"/>
                  </a:lnTo>
                  <a:lnTo>
                    <a:pt x="4093" y="570"/>
                  </a:lnTo>
                  <a:lnTo>
                    <a:pt x="4037" y="530"/>
                  </a:lnTo>
                  <a:lnTo>
                    <a:pt x="3981" y="493"/>
                  </a:lnTo>
                  <a:lnTo>
                    <a:pt x="3926" y="458"/>
                  </a:lnTo>
                  <a:lnTo>
                    <a:pt x="3875" y="427"/>
                  </a:lnTo>
                  <a:lnTo>
                    <a:pt x="3824" y="398"/>
                  </a:lnTo>
                  <a:lnTo>
                    <a:pt x="3807" y="390"/>
                  </a:lnTo>
                  <a:lnTo>
                    <a:pt x="3791" y="381"/>
                  </a:lnTo>
                  <a:lnTo>
                    <a:pt x="3774" y="371"/>
                  </a:lnTo>
                  <a:lnTo>
                    <a:pt x="3758" y="359"/>
                  </a:lnTo>
                  <a:lnTo>
                    <a:pt x="3741" y="347"/>
                  </a:lnTo>
                  <a:lnTo>
                    <a:pt x="3723" y="334"/>
                  </a:lnTo>
                  <a:lnTo>
                    <a:pt x="3707" y="320"/>
                  </a:lnTo>
                  <a:lnTo>
                    <a:pt x="3690" y="305"/>
                  </a:lnTo>
                  <a:lnTo>
                    <a:pt x="3657" y="273"/>
                  </a:lnTo>
                  <a:lnTo>
                    <a:pt x="3624" y="239"/>
                  </a:lnTo>
                  <a:lnTo>
                    <a:pt x="3590" y="205"/>
                  </a:lnTo>
                  <a:lnTo>
                    <a:pt x="3557" y="171"/>
                  </a:lnTo>
                  <a:lnTo>
                    <a:pt x="3524" y="138"/>
                  </a:lnTo>
                  <a:lnTo>
                    <a:pt x="3491" y="106"/>
                  </a:lnTo>
                  <a:lnTo>
                    <a:pt x="3475" y="91"/>
                  </a:lnTo>
                  <a:lnTo>
                    <a:pt x="3457" y="77"/>
                  </a:lnTo>
                  <a:lnTo>
                    <a:pt x="3441" y="64"/>
                  </a:lnTo>
                  <a:lnTo>
                    <a:pt x="3425" y="52"/>
                  </a:lnTo>
                  <a:lnTo>
                    <a:pt x="3408" y="41"/>
                  </a:lnTo>
                  <a:lnTo>
                    <a:pt x="3392" y="31"/>
                  </a:lnTo>
                  <a:lnTo>
                    <a:pt x="3376" y="22"/>
                  </a:lnTo>
                  <a:lnTo>
                    <a:pt x="3360" y="14"/>
                  </a:lnTo>
                  <a:lnTo>
                    <a:pt x="3343" y="9"/>
                  </a:lnTo>
                  <a:lnTo>
                    <a:pt x="3327" y="4"/>
                  </a:lnTo>
                  <a:lnTo>
                    <a:pt x="3310" y="1"/>
                  </a:lnTo>
                  <a:lnTo>
                    <a:pt x="32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21600" y="3960720"/>
              <a:ext cx="1584000" cy="890640"/>
            </a:xfrm>
            <a:custGeom>
              <a:avLst/>
              <a:gdLst/>
              <a:ahLst/>
              <a:rect l="l" t="t" r="r" b="b"/>
              <a:pathLst>
                <a:path w="9208" h="5610">
                  <a:moveTo>
                    <a:pt x="3537" y="0"/>
                  </a:moveTo>
                  <a:lnTo>
                    <a:pt x="3564" y="0"/>
                  </a:lnTo>
                  <a:lnTo>
                    <a:pt x="3592" y="1"/>
                  </a:lnTo>
                  <a:lnTo>
                    <a:pt x="3619" y="2"/>
                  </a:lnTo>
                  <a:lnTo>
                    <a:pt x="3646" y="4"/>
                  </a:lnTo>
                  <a:lnTo>
                    <a:pt x="3699" y="11"/>
                  </a:lnTo>
                  <a:lnTo>
                    <a:pt x="3752" y="18"/>
                  </a:lnTo>
                  <a:lnTo>
                    <a:pt x="3805" y="28"/>
                  </a:lnTo>
                  <a:lnTo>
                    <a:pt x="3857" y="39"/>
                  </a:lnTo>
                  <a:lnTo>
                    <a:pt x="3909" y="50"/>
                  </a:lnTo>
                  <a:lnTo>
                    <a:pt x="3960" y="63"/>
                  </a:lnTo>
                  <a:lnTo>
                    <a:pt x="4061" y="93"/>
                  </a:lnTo>
                  <a:lnTo>
                    <a:pt x="4162" y="123"/>
                  </a:lnTo>
                  <a:lnTo>
                    <a:pt x="4261" y="154"/>
                  </a:lnTo>
                  <a:lnTo>
                    <a:pt x="4361" y="184"/>
                  </a:lnTo>
                  <a:lnTo>
                    <a:pt x="4405" y="193"/>
                  </a:lnTo>
                  <a:lnTo>
                    <a:pt x="4450" y="202"/>
                  </a:lnTo>
                  <a:lnTo>
                    <a:pt x="4496" y="208"/>
                  </a:lnTo>
                  <a:lnTo>
                    <a:pt x="4542" y="213"/>
                  </a:lnTo>
                  <a:lnTo>
                    <a:pt x="4590" y="219"/>
                  </a:lnTo>
                  <a:lnTo>
                    <a:pt x="4637" y="222"/>
                  </a:lnTo>
                  <a:lnTo>
                    <a:pt x="4685" y="224"/>
                  </a:lnTo>
                  <a:lnTo>
                    <a:pt x="4733" y="225"/>
                  </a:lnTo>
                  <a:lnTo>
                    <a:pt x="4782" y="226"/>
                  </a:lnTo>
                  <a:lnTo>
                    <a:pt x="4830" y="226"/>
                  </a:lnTo>
                  <a:lnTo>
                    <a:pt x="4879" y="226"/>
                  </a:lnTo>
                  <a:lnTo>
                    <a:pt x="4929" y="225"/>
                  </a:lnTo>
                  <a:lnTo>
                    <a:pt x="5027" y="222"/>
                  </a:lnTo>
                  <a:lnTo>
                    <a:pt x="5127" y="219"/>
                  </a:lnTo>
                  <a:lnTo>
                    <a:pt x="5227" y="214"/>
                  </a:lnTo>
                  <a:lnTo>
                    <a:pt x="5325" y="212"/>
                  </a:lnTo>
                  <a:lnTo>
                    <a:pt x="5375" y="211"/>
                  </a:lnTo>
                  <a:lnTo>
                    <a:pt x="5424" y="210"/>
                  </a:lnTo>
                  <a:lnTo>
                    <a:pt x="5472" y="211"/>
                  </a:lnTo>
                  <a:lnTo>
                    <a:pt x="5521" y="211"/>
                  </a:lnTo>
                  <a:lnTo>
                    <a:pt x="5569" y="213"/>
                  </a:lnTo>
                  <a:lnTo>
                    <a:pt x="5617" y="215"/>
                  </a:lnTo>
                  <a:lnTo>
                    <a:pt x="5664" y="219"/>
                  </a:lnTo>
                  <a:lnTo>
                    <a:pt x="5711" y="223"/>
                  </a:lnTo>
                  <a:lnTo>
                    <a:pt x="5758" y="228"/>
                  </a:lnTo>
                  <a:lnTo>
                    <a:pt x="5804" y="236"/>
                  </a:lnTo>
                  <a:lnTo>
                    <a:pt x="5849" y="243"/>
                  </a:lnTo>
                  <a:lnTo>
                    <a:pt x="5893" y="253"/>
                  </a:lnTo>
                  <a:lnTo>
                    <a:pt x="5961" y="273"/>
                  </a:lnTo>
                  <a:lnTo>
                    <a:pt x="6030" y="292"/>
                  </a:lnTo>
                  <a:lnTo>
                    <a:pt x="6099" y="310"/>
                  </a:lnTo>
                  <a:lnTo>
                    <a:pt x="6167" y="327"/>
                  </a:lnTo>
                  <a:lnTo>
                    <a:pt x="6305" y="360"/>
                  </a:lnTo>
                  <a:lnTo>
                    <a:pt x="6442" y="390"/>
                  </a:lnTo>
                  <a:lnTo>
                    <a:pt x="6715" y="448"/>
                  </a:lnTo>
                  <a:lnTo>
                    <a:pt x="6986" y="506"/>
                  </a:lnTo>
                  <a:lnTo>
                    <a:pt x="7053" y="522"/>
                  </a:lnTo>
                  <a:lnTo>
                    <a:pt x="7121" y="537"/>
                  </a:lnTo>
                  <a:lnTo>
                    <a:pt x="7187" y="554"/>
                  </a:lnTo>
                  <a:lnTo>
                    <a:pt x="7255" y="572"/>
                  </a:lnTo>
                  <a:lnTo>
                    <a:pt x="7321" y="589"/>
                  </a:lnTo>
                  <a:lnTo>
                    <a:pt x="7388" y="608"/>
                  </a:lnTo>
                  <a:lnTo>
                    <a:pt x="7453" y="627"/>
                  </a:lnTo>
                  <a:lnTo>
                    <a:pt x="7520" y="649"/>
                  </a:lnTo>
                  <a:lnTo>
                    <a:pt x="7585" y="670"/>
                  </a:lnTo>
                  <a:lnTo>
                    <a:pt x="7651" y="694"/>
                  </a:lnTo>
                  <a:lnTo>
                    <a:pt x="7716" y="717"/>
                  </a:lnTo>
                  <a:lnTo>
                    <a:pt x="7780" y="744"/>
                  </a:lnTo>
                  <a:lnTo>
                    <a:pt x="7845" y="771"/>
                  </a:lnTo>
                  <a:lnTo>
                    <a:pt x="7909" y="800"/>
                  </a:lnTo>
                  <a:lnTo>
                    <a:pt x="7972" y="831"/>
                  </a:lnTo>
                  <a:lnTo>
                    <a:pt x="8036" y="863"/>
                  </a:lnTo>
                  <a:lnTo>
                    <a:pt x="8075" y="885"/>
                  </a:lnTo>
                  <a:lnTo>
                    <a:pt x="8114" y="908"/>
                  </a:lnTo>
                  <a:lnTo>
                    <a:pt x="8154" y="935"/>
                  </a:lnTo>
                  <a:lnTo>
                    <a:pt x="8193" y="963"/>
                  </a:lnTo>
                  <a:lnTo>
                    <a:pt x="8233" y="993"/>
                  </a:lnTo>
                  <a:lnTo>
                    <a:pt x="8273" y="1025"/>
                  </a:lnTo>
                  <a:lnTo>
                    <a:pt x="8312" y="1059"/>
                  </a:lnTo>
                  <a:lnTo>
                    <a:pt x="8351" y="1096"/>
                  </a:lnTo>
                  <a:lnTo>
                    <a:pt x="8391" y="1133"/>
                  </a:lnTo>
                  <a:lnTo>
                    <a:pt x="8429" y="1172"/>
                  </a:lnTo>
                  <a:lnTo>
                    <a:pt x="8468" y="1213"/>
                  </a:lnTo>
                  <a:lnTo>
                    <a:pt x="8506" y="1255"/>
                  </a:lnTo>
                  <a:lnTo>
                    <a:pt x="8544" y="1299"/>
                  </a:lnTo>
                  <a:lnTo>
                    <a:pt x="8581" y="1343"/>
                  </a:lnTo>
                  <a:lnTo>
                    <a:pt x="8618" y="1388"/>
                  </a:lnTo>
                  <a:lnTo>
                    <a:pt x="8654" y="1434"/>
                  </a:lnTo>
                  <a:lnTo>
                    <a:pt x="8690" y="1481"/>
                  </a:lnTo>
                  <a:lnTo>
                    <a:pt x="8724" y="1528"/>
                  </a:lnTo>
                  <a:lnTo>
                    <a:pt x="8758" y="1576"/>
                  </a:lnTo>
                  <a:lnTo>
                    <a:pt x="8792" y="1625"/>
                  </a:lnTo>
                  <a:lnTo>
                    <a:pt x="8824" y="1673"/>
                  </a:lnTo>
                  <a:lnTo>
                    <a:pt x="8854" y="1721"/>
                  </a:lnTo>
                  <a:lnTo>
                    <a:pt x="8884" y="1770"/>
                  </a:lnTo>
                  <a:lnTo>
                    <a:pt x="8913" y="1820"/>
                  </a:lnTo>
                  <a:lnTo>
                    <a:pt x="8941" y="1868"/>
                  </a:lnTo>
                  <a:lnTo>
                    <a:pt x="8968" y="1916"/>
                  </a:lnTo>
                  <a:lnTo>
                    <a:pt x="8992" y="1965"/>
                  </a:lnTo>
                  <a:lnTo>
                    <a:pt x="9016" y="2012"/>
                  </a:lnTo>
                  <a:lnTo>
                    <a:pt x="9038" y="2059"/>
                  </a:lnTo>
                  <a:lnTo>
                    <a:pt x="9059" y="2105"/>
                  </a:lnTo>
                  <a:lnTo>
                    <a:pt x="9078" y="2150"/>
                  </a:lnTo>
                  <a:lnTo>
                    <a:pt x="9096" y="2194"/>
                  </a:lnTo>
                  <a:lnTo>
                    <a:pt x="9117" y="2258"/>
                  </a:lnTo>
                  <a:lnTo>
                    <a:pt x="9135" y="2326"/>
                  </a:lnTo>
                  <a:lnTo>
                    <a:pt x="9152" y="2395"/>
                  </a:lnTo>
                  <a:lnTo>
                    <a:pt x="9166" y="2465"/>
                  </a:lnTo>
                  <a:lnTo>
                    <a:pt x="9178" y="2538"/>
                  </a:lnTo>
                  <a:lnTo>
                    <a:pt x="9187" y="2612"/>
                  </a:lnTo>
                  <a:lnTo>
                    <a:pt x="9195" y="2688"/>
                  </a:lnTo>
                  <a:lnTo>
                    <a:pt x="9201" y="2765"/>
                  </a:lnTo>
                  <a:lnTo>
                    <a:pt x="9206" y="2843"/>
                  </a:lnTo>
                  <a:lnTo>
                    <a:pt x="9208" y="2921"/>
                  </a:lnTo>
                  <a:lnTo>
                    <a:pt x="9208" y="3001"/>
                  </a:lnTo>
                  <a:lnTo>
                    <a:pt x="9207" y="3081"/>
                  </a:lnTo>
                  <a:lnTo>
                    <a:pt x="9205" y="3161"/>
                  </a:lnTo>
                  <a:lnTo>
                    <a:pt x="9200" y="3242"/>
                  </a:lnTo>
                  <a:lnTo>
                    <a:pt x="9194" y="3322"/>
                  </a:lnTo>
                  <a:lnTo>
                    <a:pt x="9187" y="3404"/>
                  </a:lnTo>
                  <a:lnTo>
                    <a:pt x="9179" y="3484"/>
                  </a:lnTo>
                  <a:lnTo>
                    <a:pt x="9169" y="3565"/>
                  </a:lnTo>
                  <a:lnTo>
                    <a:pt x="9158" y="3644"/>
                  </a:lnTo>
                  <a:lnTo>
                    <a:pt x="9147" y="3723"/>
                  </a:lnTo>
                  <a:lnTo>
                    <a:pt x="9134" y="3802"/>
                  </a:lnTo>
                  <a:lnTo>
                    <a:pt x="9120" y="3879"/>
                  </a:lnTo>
                  <a:lnTo>
                    <a:pt x="9106" y="3955"/>
                  </a:lnTo>
                  <a:lnTo>
                    <a:pt x="9090" y="4029"/>
                  </a:lnTo>
                  <a:lnTo>
                    <a:pt x="9074" y="4103"/>
                  </a:lnTo>
                  <a:lnTo>
                    <a:pt x="9057" y="4175"/>
                  </a:lnTo>
                  <a:lnTo>
                    <a:pt x="9039" y="4245"/>
                  </a:lnTo>
                  <a:lnTo>
                    <a:pt x="9021" y="4312"/>
                  </a:lnTo>
                  <a:lnTo>
                    <a:pt x="9003" y="4377"/>
                  </a:lnTo>
                  <a:lnTo>
                    <a:pt x="8985" y="4442"/>
                  </a:lnTo>
                  <a:lnTo>
                    <a:pt x="8965" y="4503"/>
                  </a:lnTo>
                  <a:lnTo>
                    <a:pt x="8946" y="4561"/>
                  </a:lnTo>
                  <a:lnTo>
                    <a:pt x="8934" y="4595"/>
                  </a:lnTo>
                  <a:lnTo>
                    <a:pt x="8919" y="4630"/>
                  </a:lnTo>
                  <a:lnTo>
                    <a:pt x="8903" y="4665"/>
                  </a:lnTo>
                  <a:lnTo>
                    <a:pt x="8885" y="4701"/>
                  </a:lnTo>
                  <a:lnTo>
                    <a:pt x="8844" y="4775"/>
                  </a:lnTo>
                  <a:lnTo>
                    <a:pt x="8801" y="4849"/>
                  </a:lnTo>
                  <a:lnTo>
                    <a:pt x="8757" y="4923"/>
                  </a:lnTo>
                  <a:lnTo>
                    <a:pt x="8717" y="4997"/>
                  </a:lnTo>
                  <a:lnTo>
                    <a:pt x="8698" y="5033"/>
                  </a:lnTo>
                  <a:lnTo>
                    <a:pt x="8681" y="5068"/>
                  </a:lnTo>
                  <a:lnTo>
                    <a:pt x="8665" y="5104"/>
                  </a:lnTo>
                  <a:lnTo>
                    <a:pt x="8652" y="5137"/>
                  </a:lnTo>
                  <a:lnTo>
                    <a:pt x="8594" y="5212"/>
                  </a:lnTo>
                  <a:lnTo>
                    <a:pt x="8595" y="5246"/>
                  </a:lnTo>
                  <a:lnTo>
                    <a:pt x="8599" y="5292"/>
                  </a:lnTo>
                  <a:lnTo>
                    <a:pt x="8602" y="5348"/>
                  </a:lnTo>
                  <a:lnTo>
                    <a:pt x="8606" y="5408"/>
                  </a:lnTo>
                  <a:lnTo>
                    <a:pt x="8610" y="5469"/>
                  </a:lnTo>
                  <a:lnTo>
                    <a:pt x="8614" y="5525"/>
                  </a:lnTo>
                  <a:lnTo>
                    <a:pt x="8617" y="5573"/>
                  </a:lnTo>
                  <a:lnTo>
                    <a:pt x="8618" y="5610"/>
                  </a:lnTo>
                  <a:lnTo>
                    <a:pt x="0" y="5610"/>
                  </a:lnTo>
                  <a:lnTo>
                    <a:pt x="35" y="5541"/>
                  </a:lnTo>
                  <a:lnTo>
                    <a:pt x="71" y="5472"/>
                  </a:lnTo>
                  <a:lnTo>
                    <a:pt x="110" y="5403"/>
                  </a:lnTo>
                  <a:lnTo>
                    <a:pt x="149" y="5332"/>
                  </a:lnTo>
                  <a:lnTo>
                    <a:pt x="231" y="5190"/>
                  </a:lnTo>
                  <a:lnTo>
                    <a:pt x="312" y="5049"/>
                  </a:lnTo>
                  <a:lnTo>
                    <a:pt x="352" y="4978"/>
                  </a:lnTo>
                  <a:lnTo>
                    <a:pt x="391" y="4907"/>
                  </a:lnTo>
                  <a:lnTo>
                    <a:pt x="427" y="4836"/>
                  </a:lnTo>
                  <a:lnTo>
                    <a:pt x="463" y="4767"/>
                  </a:lnTo>
                  <a:lnTo>
                    <a:pt x="480" y="4731"/>
                  </a:lnTo>
                  <a:lnTo>
                    <a:pt x="496" y="4697"/>
                  </a:lnTo>
                  <a:lnTo>
                    <a:pt x="511" y="4662"/>
                  </a:lnTo>
                  <a:lnTo>
                    <a:pt x="526" y="4627"/>
                  </a:lnTo>
                  <a:lnTo>
                    <a:pt x="540" y="4593"/>
                  </a:lnTo>
                  <a:lnTo>
                    <a:pt x="553" y="4560"/>
                  </a:lnTo>
                  <a:lnTo>
                    <a:pt x="565" y="4525"/>
                  </a:lnTo>
                  <a:lnTo>
                    <a:pt x="576" y="4492"/>
                  </a:lnTo>
                  <a:lnTo>
                    <a:pt x="586" y="4469"/>
                  </a:lnTo>
                  <a:lnTo>
                    <a:pt x="597" y="4445"/>
                  </a:lnTo>
                  <a:lnTo>
                    <a:pt x="607" y="4421"/>
                  </a:lnTo>
                  <a:lnTo>
                    <a:pt x="620" y="4398"/>
                  </a:lnTo>
                  <a:lnTo>
                    <a:pt x="634" y="4375"/>
                  </a:lnTo>
                  <a:lnTo>
                    <a:pt x="649" y="4352"/>
                  </a:lnTo>
                  <a:lnTo>
                    <a:pt x="664" y="4329"/>
                  </a:lnTo>
                  <a:lnTo>
                    <a:pt x="680" y="4306"/>
                  </a:lnTo>
                  <a:lnTo>
                    <a:pt x="750" y="4214"/>
                  </a:lnTo>
                  <a:lnTo>
                    <a:pt x="821" y="4122"/>
                  </a:lnTo>
                  <a:lnTo>
                    <a:pt x="855" y="4075"/>
                  </a:lnTo>
                  <a:lnTo>
                    <a:pt x="888" y="4028"/>
                  </a:lnTo>
                  <a:lnTo>
                    <a:pt x="903" y="4004"/>
                  </a:lnTo>
                  <a:lnTo>
                    <a:pt x="917" y="3981"/>
                  </a:lnTo>
                  <a:lnTo>
                    <a:pt x="931" y="3956"/>
                  </a:lnTo>
                  <a:lnTo>
                    <a:pt x="944" y="3931"/>
                  </a:lnTo>
                  <a:lnTo>
                    <a:pt x="956" y="3907"/>
                  </a:lnTo>
                  <a:lnTo>
                    <a:pt x="966" y="3882"/>
                  </a:lnTo>
                  <a:lnTo>
                    <a:pt x="975" y="3856"/>
                  </a:lnTo>
                  <a:lnTo>
                    <a:pt x="983" y="3832"/>
                  </a:lnTo>
                  <a:lnTo>
                    <a:pt x="988" y="3806"/>
                  </a:lnTo>
                  <a:lnTo>
                    <a:pt x="994" y="3779"/>
                  </a:lnTo>
                  <a:lnTo>
                    <a:pt x="996" y="3753"/>
                  </a:lnTo>
                  <a:lnTo>
                    <a:pt x="997" y="3727"/>
                  </a:lnTo>
                  <a:lnTo>
                    <a:pt x="977" y="3717"/>
                  </a:lnTo>
                  <a:lnTo>
                    <a:pt x="959" y="3708"/>
                  </a:lnTo>
                  <a:lnTo>
                    <a:pt x="940" y="3702"/>
                  </a:lnTo>
                  <a:lnTo>
                    <a:pt x="921" y="3695"/>
                  </a:lnTo>
                  <a:lnTo>
                    <a:pt x="902" y="3691"/>
                  </a:lnTo>
                  <a:lnTo>
                    <a:pt x="883" y="3688"/>
                  </a:lnTo>
                  <a:lnTo>
                    <a:pt x="864" y="3686"/>
                  </a:lnTo>
                  <a:lnTo>
                    <a:pt x="844" y="3685"/>
                  </a:lnTo>
                  <a:lnTo>
                    <a:pt x="825" y="3684"/>
                  </a:lnTo>
                  <a:lnTo>
                    <a:pt x="806" y="3685"/>
                  </a:lnTo>
                  <a:lnTo>
                    <a:pt x="787" y="3686"/>
                  </a:lnTo>
                  <a:lnTo>
                    <a:pt x="768" y="3687"/>
                  </a:lnTo>
                  <a:lnTo>
                    <a:pt x="730" y="3692"/>
                  </a:lnTo>
                  <a:lnTo>
                    <a:pt x="691" y="3700"/>
                  </a:lnTo>
                  <a:lnTo>
                    <a:pt x="614" y="3717"/>
                  </a:lnTo>
                  <a:lnTo>
                    <a:pt x="536" y="3735"/>
                  </a:lnTo>
                  <a:lnTo>
                    <a:pt x="497" y="3743"/>
                  </a:lnTo>
                  <a:lnTo>
                    <a:pt x="458" y="3749"/>
                  </a:lnTo>
                  <a:lnTo>
                    <a:pt x="439" y="3751"/>
                  </a:lnTo>
                  <a:lnTo>
                    <a:pt x="420" y="3753"/>
                  </a:lnTo>
                  <a:lnTo>
                    <a:pt x="399" y="3754"/>
                  </a:lnTo>
                  <a:lnTo>
                    <a:pt x="380" y="3754"/>
                  </a:lnTo>
                  <a:lnTo>
                    <a:pt x="434" y="3715"/>
                  </a:lnTo>
                  <a:lnTo>
                    <a:pt x="484" y="3674"/>
                  </a:lnTo>
                  <a:lnTo>
                    <a:pt x="531" y="3634"/>
                  </a:lnTo>
                  <a:lnTo>
                    <a:pt x="576" y="3596"/>
                  </a:lnTo>
                  <a:lnTo>
                    <a:pt x="619" y="3556"/>
                  </a:lnTo>
                  <a:lnTo>
                    <a:pt x="659" y="3516"/>
                  </a:lnTo>
                  <a:lnTo>
                    <a:pt x="697" y="3478"/>
                  </a:lnTo>
                  <a:lnTo>
                    <a:pt x="734" y="3439"/>
                  </a:lnTo>
                  <a:lnTo>
                    <a:pt x="767" y="3399"/>
                  </a:lnTo>
                  <a:lnTo>
                    <a:pt x="799" y="3361"/>
                  </a:lnTo>
                  <a:lnTo>
                    <a:pt x="830" y="3322"/>
                  </a:lnTo>
                  <a:lnTo>
                    <a:pt x="859" y="3284"/>
                  </a:lnTo>
                  <a:lnTo>
                    <a:pt x="887" y="3245"/>
                  </a:lnTo>
                  <a:lnTo>
                    <a:pt x="914" y="3205"/>
                  </a:lnTo>
                  <a:lnTo>
                    <a:pt x="939" y="3167"/>
                  </a:lnTo>
                  <a:lnTo>
                    <a:pt x="962" y="3127"/>
                  </a:lnTo>
                  <a:lnTo>
                    <a:pt x="986" y="3087"/>
                  </a:lnTo>
                  <a:lnTo>
                    <a:pt x="1009" y="3048"/>
                  </a:lnTo>
                  <a:lnTo>
                    <a:pt x="1030" y="3008"/>
                  </a:lnTo>
                  <a:lnTo>
                    <a:pt x="1051" y="2967"/>
                  </a:lnTo>
                  <a:lnTo>
                    <a:pt x="1092" y="2886"/>
                  </a:lnTo>
                  <a:lnTo>
                    <a:pt x="1133" y="2802"/>
                  </a:lnTo>
                  <a:lnTo>
                    <a:pt x="1174" y="2717"/>
                  </a:lnTo>
                  <a:lnTo>
                    <a:pt x="1216" y="2629"/>
                  </a:lnTo>
                  <a:lnTo>
                    <a:pt x="1261" y="2540"/>
                  </a:lnTo>
                  <a:lnTo>
                    <a:pt x="1308" y="2447"/>
                  </a:lnTo>
                  <a:lnTo>
                    <a:pt x="1337" y="2396"/>
                  </a:lnTo>
                  <a:lnTo>
                    <a:pt x="1371" y="2340"/>
                  </a:lnTo>
                  <a:lnTo>
                    <a:pt x="1409" y="2280"/>
                  </a:lnTo>
                  <a:lnTo>
                    <a:pt x="1451" y="2218"/>
                  </a:lnTo>
                  <a:lnTo>
                    <a:pt x="1497" y="2153"/>
                  </a:lnTo>
                  <a:lnTo>
                    <a:pt x="1544" y="2088"/>
                  </a:lnTo>
                  <a:lnTo>
                    <a:pt x="1593" y="2021"/>
                  </a:lnTo>
                  <a:lnTo>
                    <a:pt x="1642" y="1957"/>
                  </a:lnTo>
                  <a:lnTo>
                    <a:pt x="1693" y="1894"/>
                  </a:lnTo>
                  <a:lnTo>
                    <a:pt x="1742" y="1834"/>
                  </a:lnTo>
                  <a:lnTo>
                    <a:pt x="1789" y="1778"/>
                  </a:lnTo>
                  <a:lnTo>
                    <a:pt x="1835" y="1725"/>
                  </a:lnTo>
                  <a:lnTo>
                    <a:pt x="1878" y="1679"/>
                  </a:lnTo>
                  <a:lnTo>
                    <a:pt x="1917" y="1640"/>
                  </a:lnTo>
                  <a:lnTo>
                    <a:pt x="1935" y="1622"/>
                  </a:lnTo>
                  <a:lnTo>
                    <a:pt x="1952" y="1607"/>
                  </a:lnTo>
                  <a:lnTo>
                    <a:pt x="1967" y="1595"/>
                  </a:lnTo>
                  <a:lnTo>
                    <a:pt x="1981" y="1584"/>
                  </a:lnTo>
                  <a:lnTo>
                    <a:pt x="2009" y="1559"/>
                  </a:lnTo>
                  <a:lnTo>
                    <a:pt x="2036" y="1535"/>
                  </a:lnTo>
                  <a:lnTo>
                    <a:pt x="2063" y="1508"/>
                  </a:lnTo>
                  <a:lnTo>
                    <a:pt x="2090" y="1481"/>
                  </a:lnTo>
                  <a:lnTo>
                    <a:pt x="2142" y="1425"/>
                  </a:lnTo>
                  <a:lnTo>
                    <a:pt x="2194" y="1368"/>
                  </a:lnTo>
                  <a:lnTo>
                    <a:pt x="2294" y="1249"/>
                  </a:lnTo>
                  <a:lnTo>
                    <a:pt x="2394" y="1130"/>
                  </a:lnTo>
                  <a:lnTo>
                    <a:pt x="2444" y="1071"/>
                  </a:lnTo>
                  <a:lnTo>
                    <a:pt x="2493" y="1015"/>
                  </a:lnTo>
                  <a:lnTo>
                    <a:pt x="2519" y="989"/>
                  </a:lnTo>
                  <a:lnTo>
                    <a:pt x="2543" y="962"/>
                  </a:lnTo>
                  <a:lnTo>
                    <a:pt x="2569" y="936"/>
                  </a:lnTo>
                  <a:lnTo>
                    <a:pt x="2594" y="911"/>
                  </a:lnTo>
                  <a:lnTo>
                    <a:pt x="2619" y="888"/>
                  </a:lnTo>
                  <a:lnTo>
                    <a:pt x="2645" y="864"/>
                  </a:lnTo>
                  <a:lnTo>
                    <a:pt x="2672" y="843"/>
                  </a:lnTo>
                  <a:lnTo>
                    <a:pt x="2698" y="822"/>
                  </a:lnTo>
                  <a:lnTo>
                    <a:pt x="2725" y="803"/>
                  </a:lnTo>
                  <a:lnTo>
                    <a:pt x="2751" y="785"/>
                  </a:lnTo>
                  <a:lnTo>
                    <a:pt x="2778" y="769"/>
                  </a:lnTo>
                  <a:lnTo>
                    <a:pt x="2806" y="754"/>
                  </a:lnTo>
                  <a:lnTo>
                    <a:pt x="2822" y="743"/>
                  </a:lnTo>
                  <a:lnTo>
                    <a:pt x="2839" y="730"/>
                  </a:lnTo>
                  <a:lnTo>
                    <a:pt x="2856" y="714"/>
                  </a:lnTo>
                  <a:lnTo>
                    <a:pt x="2874" y="697"/>
                  </a:lnTo>
                  <a:lnTo>
                    <a:pt x="2892" y="679"/>
                  </a:lnTo>
                  <a:lnTo>
                    <a:pt x="2909" y="657"/>
                  </a:lnTo>
                  <a:lnTo>
                    <a:pt x="2927" y="636"/>
                  </a:lnTo>
                  <a:lnTo>
                    <a:pt x="2945" y="612"/>
                  </a:lnTo>
                  <a:lnTo>
                    <a:pt x="3021" y="510"/>
                  </a:lnTo>
                  <a:lnTo>
                    <a:pt x="3097" y="401"/>
                  </a:lnTo>
                  <a:lnTo>
                    <a:pt x="3136" y="348"/>
                  </a:lnTo>
                  <a:lnTo>
                    <a:pt x="3177" y="298"/>
                  </a:lnTo>
                  <a:lnTo>
                    <a:pt x="3196" y="273"/>
                  </a:lnTo>
                  <a:lnTo>
                    <a:pt x="3217" y="251"/>
                  </a:lnTo>
                  <a:lnTo>
                    <a:pt x="3237" y="229"/>
                  </a:lnTo>
                  <a:lnTo>
                    <a:pt x="3259" y="210"/>
                  </a:lnTo>
                  <a:lnTo>
                    <a:pt x="3279" y="192"/>
                  </a:lnTo>
                  <a:lnTo>
                    <a:pt x="3299" y="176"/>
                  </a:lnTo>
                  <a:lnTo>
                    <a:pt x="3321" y="161"/>
                  </a:lnTo>
                  <a:lnTo>
                    <a:pt x="3342" y="149"/>
                  </a:lnTo>
                  <a:lnTo>
                    <a:pt x="3364" y="139"/>
                  </a:lnTo>
                  <a:lnTo>
                    <a:pt x="3384" y="132"/>
                  </a:lnTo>
                  <a:lnTo>
                    <a:pt x="3406" y="128"/>
                  </a:lnTo>
                  <a:lnTo>
                    <a:pt x="3428" y="126"/>
                  </a:lnTo>
                  <a:lnTo>
                    <a:pt x="3438" y="114"/>
                  </a:lnTo>
                  <a:lnTo>
                    <a:pt x="3451" y="100"/>
                  </a:lnTo>
                  <a:lnTo>
                    <a:pt x="3465" y="82"/>
                  </a:lnTo>
                  <a:lnTo>
                    <a:pt x="3481" y="65"/>
                  </a:lnTo>
                  <a:lnTo>
                    <a:pt x="3496" y="47"/>
                  </a:lnTo>
                  <a:lnTo>
                    <a:pt x="3511" y="30"/>
                  </a:lnTo>
                  <a:lnTo>
                    <a:pt x="3525" y="14"/>
                  </a:lnTo>
                  <a:lnTo>
                    <a:pt x="353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15040" y="3789360"/>
              <a:ext cx="1659600" cy="1062000"/>
            </a:xfrm>
            <a:custGeom>
              <a:avLst/>
              <a:gdLst/>
              <a:ahLst/>
              <a:rect l="l" t="t" r="r" b="b"/>
              <a:pathLst>
                <a:path w="9649" h="6688">
                  <a:moveTo>
                    <a:pt x="1625" y="4798"/>
                  </a:moveTo>
                  <a:lnTo>
                    <a:pt x="1626" y="4818"/>
                  </a:lnTo>
                  <a:lnTo>
                    <a:pt x="1627" y="4839"/>
                  </a:lnTo>
                  <a:lnTo>
                    <a:pt x="1627" y="4858"/>
                  </a:lnTo>
                  <a:lnTo>
                    <a:pt x="1626" y="4877"/>
                  </a:lnTo>
                  <a:lnTo>
                    <a:pt x="1622" y="4918"/>
                  </a:lnTo>
                  <a:lnTo>
                    <a:pt x="1617" y="4960"/>
                  </a:lnTo>
                  <a:lnTo>
                    <a:pt x="1612" y="5005"/>
                  </a:lnTo>
                  <a:lnTo>
                    <a:pt x="1606" y="5054"/>
                  </a:lnTo>
                  <a:lnTo>
                    <a:pt x="1604" y="5081"/>
                  </a:lnTo>
                  <a:lnTo>
                    <a:pt x="1603" y="5110"/>
                  </a:lnTo>
                  <a:lnTo>
                    <a:pt x="1602" y="5140"/>
                  </a:lnTo>
                  <a:lnTo>
                    <a:pt x="1601" y="5172"/>
                  </a:lnTo>
                  <a:lnTo>
                    <a:pt x="1626" y="5200"/>
                  </a:lnTo>
                  <a:lnTo>
                    <a:pt x="1652" y="5232"/>
                  </a:lnTo>
                  <a:lnTo>
                    <a:pt x="1666" y="5250"/>
                  </a:lnTo>
                  <a:lnTo>
                    <a:pt x="1681" y="5267"/>
                  </a:lnTo>
                  <a:lnTo>
                    <a:pt x="1695" y="5286"/>
                  </a:lnTo>
                  <a:lnTo>
                    <a:pt x="1709" y="5305"/>
                  </a:lnTo>
                  <a:lnTo>
                    <a:pt x="1722" y="5327"/>
                  </a:lnTo>
                  <a:lnTo>
                    <a:pt x="1735" y="5348"/>
                  </a:lnTo>
                  <a:lnTo>
                    <a:pt x="1746" y="5371"/>
                  </a:lnTo>
                  <a:lnTo>
                    <a:pt x="1755" y="5393"/>
                  </a:lnTo>
                  <a:lnTo>
                    <a:pt x="1763" y="5418"/>
                  </a:lnTo>
                  <a:lnTo>
                    <a:pt x="1769" y="5443"/>
                  </a:lnTo>
                  <a:lnTo>
                    <a:pt x="1771" y="5455"/>
                  </a:lnTo>
                  <a:lnTo>
                    <a:pt x="1773" y="5468"/>
                  </a:lnTo>
                  <a:lnTo>
                    <a:pt x="1774" y="5482"/>
                  </a:lnTo>
                  <a:lnTo>
                    <a:pt x="1774" y="5495"/>
                  </a:lnTo>
                  <a:lnTo>
                    <a:pt x="1741" y="5536"/>
                  </a:lnTo>
                  <a:lnTo>
                    <a:pt x="1711" y="5576"/>
                  </a:lnTo>
                  <a:lnTo>
                    <a:pt x="1682" y="5615"/>
                  </a:lnTo>
                  <a:lnTo>
                    <a:pt x="1655" y="5654"/>
                  </a:lnTo>
                  <a:lnTo>
                    <a:pt x="1602" y="5731"/>
                  </a:lnTo>
                  <a:lnTo>
                    <a:pt x="1554" y="5805"/>
                  </a:lnTo>
                  <a:lnTo>
                    <a:pt x="1509" y="5878"/>
                  </a:lnTo>
                  <a:lnTo>
                    <a:pt x="1464" y="5948"/>
                  </a:lnTo>
                  <a:lnTo>
                    <a:pt x="1421" y="6015"/>
                  </a:lnTo>
                  <a:lnTo>
                    <a:pt x="1376" y="6080"/>
                  </a:lnTo>
                  <a:lnTo>
                    <a:pt x="1353" y="6111"/>
                  </a:lnTo>
                  <a:lnTo>
                    <a:pt x="1330" y="6142"/>
                  </a:lnTo>
                  <a:lnTo>
                    <a:pt x="1306" y="6171"/>
                  </a:lnTo>
                  <a:lnTo>
                    <a:pt x="1281" y="6200"/>
                  </a:lnTo>
                  <a:lnTo>
                    <a:pt x="1256" y="6228"/>
                  </a:lnTo>
                  <a:lnTo>
                    <a:pt x="1228" y="6256"/>
                  </a:lnTo>
                  <a:lnTo>
                    <a:pt x="1200" y="6281"/>
                  </a:lnTo>
                  <a:lnTo>
                    <a:pt x="1171" y="6307"/>
                  </a:lnTo>
                  <a:lnTo>
                    <a:pt x="1140" y="6332"/>
                  </a:lnTo>
                  <a:lnTo>
                    <a:pt x="1107" y="6355"/>
                  </a:lnTo>
                  <a:lnTo>
                    <a:pt x="1072" y="6378"/>
                  </a:lnTo>
                  <a:lnTo>
                    <a:pt x="1037" y="6399"/>
                  </a:lnTo>
                  <a:lnTo>
                    <a:pt x="998" y="6420"/>
                  </a:lnTo>
                  <a:lnTo>
                    <a:pt x="957" y="6439"/>
                  </a:lnTo>
                  <a:lnTo>
                    <a:pt x="915" y="6457"/>
                  </a:lnTo>
                  <a:lnTo>
                    <a:pt x="869" y="6474"/>
                  </a:lnTo>
                  <a:lnTo>
                    <a:pt x="622" y="6688"/>
                  </a:lnTo>
                  <a:lnTo>
                    <a:pt x="679" y="6582"/>
                  </a:lnTo>
                  <a:lnTo>
                    <a:pt x="738" y="6472"/>
                  </a:lnTo>
                  <a:lnTo>
                    <a:pt x="801" y="6360"/>
                  </a:lnTo>
                  <a:lnTo>
                    <a:pt x="866" y="6244"/>
                  </a:lnTo>
                  <a:lnTo>
                    <a:pt x="934" y="6125"/>
                  </a:lnTo>
                  <a:lnTo>
                    <a:pt x="1001" y="6005"/>
                  </a:lnTo>
                  <a:lnTo>
                    <a:pt x="1071" y="5883"/>
                  </a:lnTo>
                  <a:lnTo>
                    <a:pt x="1141" y="5760"/>
                  </a:lnTo>
                  <a:lnTo>
                    <a:pt x="1148" y="5723"/>
                  </a:lnTo>
                  <a:lnTo>
                    <a:pt x="1158" y="5686"/>
                  </a:lnTo>
                  <a:lnTo>
                    <a:pt x="1169" y="5651"/>
                  </a:lnTo>
                  <a:lnTo>
                    <a:pt x="1182" y="5617"/>
                  </a:lnTo>
                  <a:lnTo>
                    <a:pt x="1194" y="5585"/>
                  </a:lnTo>
                  <a:lnTo>
                    <a:pt x="1208" y="5554"/>
                  </a:lnTo>
                  <a:lnTo>
                    <a:pt x="1223" y="5524"/>
                  </a:lnTo>
                  <a:lnTo>
                    <a:pt x="1238" y="5495"/>
                  </a:lnTo>
                  <a:lnTo>
                    <a:pt x="1256" y="5467"/>
                  </a:lnTo>
                  <a:lnTo>
                    <a:pt x="1272" y="5440"/>
                  </a:lnTo>
                  <a:lnTo>
                    <a:pt x="1290" y="5414"/>
                  </a:lnTo>
                  <a:lnTo>
                    <a:pt x="1308" y="5388"/>
                  </a:lnTo>
                  <a:lnTo>
                    <a:pt x="1345" y="5336"/>
                  </a:lnTo>
                  <a:lnTo>
                    <a:pt x="1382" y="5286"/>
                  </a:lnTo>
                  <a:lnTo>
                    <a:pt x="1420" y="5235"/>
                  </a:lnTo>
                  <a:lnTo>
                    <a:pt x="1457" y="5183"/>
                  </a:lnTo>
                  <a:lnTo>
                    <a:pt x="1475" y="5156"/>
                  </a:lnTo>
                  <a:lnTo>
                    <a:pt x="1493" y="5129"/>
                  </a:lnTo>
                  <a:lnTo>
                    <a:pt x="1510" y="5102"/>
                  </a:lnTo>
                  <a:lnTo>
                    <a:pt x="1526" y="5073"/>
                  </a:lnTo>
                  <a:lnTo>
                    <a:pt x="1542" y="5043"/>
                  </a:lnTo>
                  <a:lnTo>
                    <a:pt x="1557" y="5012"/>
                  </a:lnTo>
                  <a:lnTo>
                    <a:pt x="1571" y="4980"/>
                  </a:lnTo>
                  <a:lnTo>
                    <a:pt x="1584" y="4947"/>
                  </a:lnTo>
                  <a:lnTo>
                    <a:pt x="1596" y="4912"/>
                  </a:lnTo>
                  <a:lnTo>
                    <a:pt x="1606" y="4875"/>
                  </a:lnTo>
                  <a:lnTo>
                    <a:pt x="1616" y="4838"/>
                  </a:lnTo>
                  <a:lnTo>
                    <a:pt x="1625" y="4798"/>
                  </a:lnTo>
                  <a:close/>
                  <a:moveTo>
                    <a:pt x="5087" y="3935"/>
                  </a:moveTo>
                  <a:lnTo>
                    <a:pt x="5125" y="3909"/>
                  </a:lnTo>
                  <a:lnTo>
                    <a:pt x="5163" y="3884"/>
                  </a:lnTo>
                  <a:lnTo>
                    <a:pt x="5199" y="3859"/>
                  </a:lnTo>
                  <a:lnTo>
                    <a:pt x="5236" y="3834"/>
                  </a:lnTo>
                  <a:lnTo>
                    <a:pt x="5304" y="3783"/>
                  </a:lnTo>
                  <a:lnTo>
                    <a:pt x="5370" y="3732"/>
                  </a:lnTo>
                  <a:lnTo>
                    <a:pt x="5494" y="3631"/>
                  </a:lnTo>
                  <a:lnTo>
                    <a:pt x="5613" y="3535"/>
                  </a:lnTo>
                  <a:lnTo>
                    <a:pt x="5672" y="3489"/>
                  </a:lnTo>
                  <a:lnTo>
                    <a:pt x="5731" y="3445"/>
                  </a:lnTo>
                  <a:lnTo>
                    <a:pt x="5761" y="3424"/>
                  </a:lnTo>
                  <a:lnTo>
                    <a:pt x="5791" y="3404"/>
                  </a:lnTo>
                  <a:lnTo>
                    <a:pt x="5821" y="3384"/>
                  </a:lnTo>
                  <a:lnTo>
                    <a:pt x="5852" y="3365"/>
                  </a:lnTo>
                  <a:lnTo>
                    <a:pt x="5883" y="3347"/>
                  </a:lnTo>
                  <a:lnTo>
                    <a:pt x="5916" y="3329"/>
                  </a:lnTo>
                  <a:lnTo>
                    <a:pt x="5949" y="3313"/>
                  </a:lnTo>
                  <a:lnTo>
                    <a:pt x="5982" y="3297"/>
                  </a:lnTo>
                  <a:lnTo>
                    <a:pt x="6015" y="3282"/>
                  </a:lnTo>
                  <a:lnTo>
                    <a:pt x="6051" y="3268"/>
                  </a:lnTo>
                  <a:lnTo>
                    <a:pt x="6086" y="3255"/>
                  </a:lnTo>
                  <a:lnTo>
                    <a:pt x="6123" y="3243"/>
                  </a:lnTo>
                  <a:lnTo>
                    <a:pt x="6161" y="3225"/>
                  </a:lnTo>
                  <a:lnTo>
                    <a:pt x="6199" y="3204"/>
                  </a:lnTo>
                  <a:lnTo>
                    <a:pt x="6236" y="3182"/>
                  </a:lnTo>
                  <a:lnTo>
                    <a:pt x="6273" y="3157"/>
                  </a:lnTo>
                  <a:lnTo>
                    <a:pt x="6308" y="3132"/>
                  </a:lnTo>
                  <a:lnTo>
                    <a:pt x="6342" y="3105"/>
                  </a:lnTo>
                  <a:lnTo>
                    <a:pt x="6378" y="3076"/>
                  </a:lnTo>
                  <a:lnTo>
                    <a:pt x="6411" y="3047"/>
                  </a:lnTo>
                  <a:lnTo>
                    <a:pt x="6445" y="3016"/>
                  </a:lnTo>
                  <a:lnTo>
                    <a:pt x="6479" y="2986"/>
                  </a:lnTo>
                  <a:lnTo>
                    <a:pt x="6512" y="2954"/>
                  </a:lnTo>
                  <a:lnTo>
                    <a:pt x="6545" y="2921"/>
                  </a:lnTo>
                  <a:lnTo>
                    <a:pt x="6611" y="2857"/>
                  </a:lnTo>
                  <a:lnTo>
                    <a:pt x="6677" y="2794"/>
                  </a:lnTo>
                  <a:lnTo>
                    <a:pt x="6710" y="2763"/>
                  </a:lnTo>
                  <a:lnTo>
                    <a:pt x="6744" y="2733"/>
                  </a:lnTo>
                  <a:lnTo>
                    <a:pt x="6777" y="2704"/>
                  </a:lnTo>
                  <a:lnTo>
                    <a:pt x="6811" y="2675"/>
                  </a:lnTo>
                  <a:lnTo>
                    <a:pt x="6845" y="2648"/>
                  </a:lnTo>
                  <a:lnTo>
                    <a:pt x="6880" y="2622"/>
                  </a:lnTo>
                  <a:lnTo>
                    <a:pt x="6916" y="2599"/>
                  </a:lnTo>
                  <a:lnTo>
                    <a:pt x="6952" y="2576"/>
                  </a:lnTo>
                  <a:lnTo>
                    <a:pt x="6988" y="2556"/>
                  </a:lnTo>
                  <a:lnTo>
                    <a:pt x="7026" y="2537"/>
                  </a:lnTo>
                  <a:lnTo>
                    <a:pt x="7064" y="2521"/>
                  </a:lnTo>
                  <a:lnTo>
                    <a:pt x="7103" y="2509"/>
                  </a:lnTo>
                  <a:lnTo>
                    <a:pt x="7144" y="2498"/>
                  </a:lnTo>
                  <a:lnTo>
                    <a:pt x="7184" y="2489"/>
                  </a:lnTo>
                  <a:lnTo>
                    <a:pt x="7226" y="2485"/>
                  </a:lnTo>
                  <a:lnTo>
                    <a:pt x="7269" y="2483"/>
                  </a:lnTo>
                  <a:lnTo>
                    <a:pt x="7289" y="2482"/>
                  </a:lnTo>
                  <a:lnTo>
                    <a:pt x="7310" y="2482"/>
                  </a:lnTo>
                  <a:lnTo>
                    <a:pt x="7328" y="2484"/>
                  </a:lnTo>
                  <a:lnTo>
                    <a:pt x="7345" y="2486"/>
                  </a:lnTo>
                  <a:lnTo>
                    <a:pt x="7361" y="2489"/>
                  </a:lnTo>
                  <a:lnTo>
                    <a:pt x="7377" y="2493"/>
                  </a:lnTo>
                  <a:lnTo>
                    <a:pt x="7391" y="2500"/>
                  </a:lnTo>
                  <a:lnTo>
                    <a:pt x="7404" y="2505"/>
                  </a:lnTo>
                  <a:lnTo>
                    <a:pt x="7417" y="2513"/>
                  </a:lnTo>
                  <a:lnTo>
                    <a:pt x="7428" y="2521"/>
                  </a:lnTo>
                  <a:lnTo>
                    <a:pt x="7439" y="2530"/>
                  </a:lnTo>
                  <a:lnTo>
                    <a:pt x="7447" y="2540"/>
                  </a:lnTo>
                  <a:lnTo>
                    <a:pt x="7456" y="2549"/>
                  </a:lnTo>
                  <a:lnTo>
                    <a:pt x="7462" y="2560"/>
                  </a:lnTo>
                  <a:lnTo>
                    <a:pt x="7469" y="2572"/>
                  </a:lnTo>
                  <a:lnTo>
                    <a:pt x="7474" y="2584"/>
                  </a:lnTo>
                  <a:lnTo>
                    <a:pt x="7478" y="2596"/>
                  </a:lnTo>
                  <a:lnTo>
                    <a:pt x="7481" y="2609"/>
                  </a:lnTo>
                  <a:lnTo>
                    <a:pt x="7484" y="2622"/>
                  </a:lnTo>
                  <a:lnTo>
                    <a:pt x="7485" y="2636"/>
                  </a:lnTo>
                  <a:lnTo>
                    <a:pt x="7485" y="2649"/>
                  </a:lnTo>
                  <a:lnTo>
                    <a:pt x="7484" y="2663"/>
                  </a:lnTo>
                  <a:lnTo>
                    <a:pt x="7481" y="2678"/>
                  </a:lnTo>
                  <a:lnTo>
                    <a:pt x="7478" y="2692"/>
                  </a:lnTo>
                  <a:lnTo>
                    <a:pt x="7474" y="2706"/>
                  </a:lnTo>
                  <a:lnTo>
                    <a:pt x="7470" y="2721"/>
                  </a:lnTo>
                  <a:lnTo>
                    <a:pt x="7463" y="2735"/>
                  </a:lnTo>
                  <a:lnTo>
                    <a:pt x="7457" y="2750"/>
                  </a:lnTo>
                  <a:lnTo>
                    <a:pt x="7448" y="2764"/>
                  </a:lnTo>
                  <a:lnTo>
                    <a:pt x="7440" y="2778"/>
                  </a:lnTo>
                  <a:lnTo>
                    <a:pt x="7430" y="2792"/>
                  </a:lnTo>
                  <a:lnTo>
                    <a:pt x="7419" y="2806"/>
                  </a:lnTo>
                  <a:lnTo>
                    <a:pt x="7386" y="2845"/>
                  </a:lnTo>
                  <a:lnTo>
                    <a:pt x="7352" y="2885"/>
                  </a:lnTo>
                  <a:lnTo>
                    <a:pt x="7318" y="2924"/>
                  </a:lnTo>
                  <a:lnTo>
                    <a:pt x="7283" y="2961"/>
                  </a:lnTo>
                  <a:lnTo>
                    <a:pt x="7248" y="2998"/>
                  </a:lnTo>
                  <a:lnTo>
                    <a:pt x="7212" y="3034"/>
                  </a:lnTo>
                  <a:lnTo>
                    <a:pt x="7176" y="3068"/>
                  </a:lnTo>
                  <a:lnTo>
                    <a:pt x="7139" y="3103"/>
                  </a:lnTo>
                  <a:lnTo>
                    <a:pt x="7102" y="3137"/>
                  </a:lnTo>
                  <a:lnTo>
                    <a:pt x="7064" y="3169"/>
                  </a:lnTo>
                  <a:lnTo>
                    <a:pt x="7027" y="3201"/>
                  </a:lnTo>
                  <a:lnTo>
                    <a:pt x="6988" y="3232"/>
                  </a:lnTo>
                  <a:lnTo>
                    <a:pt x="6949" y="3263"/>
                  </a:lnTo>
                  <a:lnTo>
                    <a:pt x="6911" y="3292"/>
                  </a:lnTo>
                  <a:lnTo>
                    <a:pt x="6871" y="3321"/>
                  </a:lnTo>
                  <a:lnTo>
                    <a:pt x="6830" y="3349"/>
                  </a:lnTo>
                  <a:lnTo>
                    <a:pt x="6791" y="3377"/>
                  </a:lnTo>
                  <a:lnTo>
                    <a:pt x="6750" y="3404"/>
                  </a:lnTo>
                  <a:lnTo>
                    <a:pt x="6709" y="3430"/>
                  </a:lnTo>
                  <a:lnTo>
                    <a:pt x="6667" y="3455"/>
                  </a:lnTo>
                  <a:lnTo>
                    <a:pt x="6627" y="3480"/>
                  </a:lnTo>
                  <a:lnTo>
                    <a:pt x="6585" y="3504"/>
                  </a:lnTo>
                  <a:lnTo>
                    <a:pt x="6542" y="3526"/>
                  </a:lnTo>
                  <a:lnTo>
                    <a:pt x="6500" y="3549"/>
                  </a:lnTo>
                  <a:lnTo>
                    <a:pt x="6457" y="3571"/>
                  </a:lnTo>
                  <a:lnTo>
                    <a:pt x="6414" y="3592"/>
                  </a:lnTo>
                  <a:lnTo>
                    <a:pt x="6371" y="3612"/>
                  </a:lnTo>
                  <a:lnTo>
                    <a:pt x="6327" y="3631"/>
                  </a:lnTo>
                  <a:lnTo>
                    <a:pt x="6283" y="3651"/>
                  </a:lnTo>
                  <a:lnTo>
                    <a:pt x="6241" y="3669"/>
                  </a:lnTo>
                  <a:lnTo>
                    <a:pt x="6197" y="3687"/>
                  </a:lnTo>
                  <a:lnTo>
                    <a:pt x="6152" y="3704"/>
                  </a:lnTo>
                  <a:lnTo>
                    <a:pt x="6113" y="3717"/>
                  </a:lnTo>
                  <a:lnTo>
                    <a:pt x="6071" y="3730"/>
                  </a:lnTo>
                  <a:lnTo>
                    <a:pt x="6027" y="3742"/>
                  </a:lnTo>
                  <a:lnTo>
                    <a:pt x="5982" y="3754"/>
                  </a:lnTo>
                  <a:lnTo>
                    <a:pt x="5887" y="3775"/>
                  </a:lnTo>
                  <a:lnTo>
                    <a:pt x="5788" y="3798"/>
                  </a:lnTo>
                  <a:lnTo>
                    <a:pt x="5739" y="3809"/>
                  </a:lnTo>
                  <a:lnTo>
                    <a:pt x="5689" y="3821"/>
                  </a:lnTo>
                  <a:lnTo>
                    <a:pt x="5641" y="3834"/>
                  </a:lnTo>
                  <a:lnTo>
                    <a:pt x="5594" y="3848"/>
                  </a:lnTo>
                  <a:lnTo>
                    <a:pt x="5548" y="3863"/>
                  </a:lnTo>
                  <a:lnTo>
                    <a:pt x="5503" y="3879"/>
                  </a:lnTo>
                  <a:lnTo>
                    <a:pt x="5481" y="3889"/>
                  </a:lnTo>
                  <a:lnTo>
                    <a:pt x="5461" y="3897"/>
                  </a:lnTo>
                  <a:lnTo>
                    <a:pt x="5440" y="3907"/>
                  </a:lnTo>
                  <a:lnTo>
                    <a:pt x="5420" y="3917"/>
                  </a:lnTo>
                  <a:lnTo>
                    <a:pt x="5365" y="3943"/>
                  </a:lnTo>
                  <a:lnTo>
                    <a:pt x="5315" y="3967"/>
                  </a:lnTo>
                  <a:lnTo>
                    <a:pt x="5290" y="3978"/>
                  </a:lnTo>
                  <a:lnTo>
                    <a:pt x="5267" y="3986"/>
                  </a:lnTo>
                  <a:lnTo>
                    <a:pt x="5244" y="3994"/>
                  </a:lnTo>
                  <a:lnTo>
                    <a:pt x="5223" y="3999"/>
                  </a:lnTo>
                  <a:lnTo>
                    <a:pt x="5213" y="4001"/>
                  </a:lnTo>
                  <a:lnTo>
                    <a:pt x="5202" y="4002"/>
                  </a:lnTo>
                  <a:lnTo>
                    <a:pt x="5193" y="4002"/>
                  </a:lnTo>
                  <a:lnTo>
                    <a:pt x="5183" y="4002"/>
                  </a:lnTo>
                  <a:lnTo>
                    <a:pt x="5173" y="4002"/>
                  </a:lnTo>
                  <a:lnTo>
                    <a:pt x="5164" y="4000"/>
                  </a:lnTo>
                  <a:lnTo>
                    <a:pt x="5155" y="3998"/>
                  </a:lnTo>
                  <a:lnTo>
                    <a:pt x="5147" y="3995"/>
                  </a:lnTo>
                  <a:lnTo>
                    <a:pt x="5138" y="3991"/>
                  </a:lnTo>
                  <a:lnTo>
                    <a:pt x="5129" y="3985"/>
                  </a:lnTo>
                  <a:lnTo>
                    <a:pt x="5122" y="3980"/>
                  </a:lnTo>
                  <a:lnTo>
                    <a:pt x="5114" y="3972"/>
                  </a:lnTo>
                  <a:lnTo>
                    <a:pt x="5107" y="3965"/>
                  </a:lnTo>
                  <a:lnTo>
                    <a:pt x="5099" y="3956"/>
                  </a:lnTo>
                  <a:lnTo>
                    <a:pt x="5093" y="3946"/>
                  </a:lnTo>
                  <a:lnTo>
                    <a:pt x="5087" y="3935"/>
                  </a:lnTo>
                  <a:close/>
                  <a:moveTo>
                    <a:pt x="5097" y="4740"/>
                  </a:moveTo>
                  <a:lnTo>
                    <a:pt x="5164" y="4739"/>
                  </a:lnTo>
                  <a:lnTo>
                    <a:pt x="5228" y="4733"/>
                  </a:lnTo>
                  <a:lnTo>
                    <a:pt x="5294" y="4723"/>
                  </a:lnTo>
                  <a:lnTo>
                    <a:pt x="5357" y="4709"/>
                  </a:lnTo>
                  <a:lnTo>
                    <a:pt x="5420" y="4693"/>
                  </a:lnTo>
                  <a:lnTo>
                    <a:pt x="5483" y="4673"/>
                  </a:lnTo>
                  <a:lnTo>
                    <a:pt x="5546" y="4650"/>
                  </a:lnTo>
                  <a:lnTo>
                    <a:pt x="5608" y="4625"/>
                  </a:lnTo>
                  <a:lnTo>
                    <a:pt x="5668" y="4598"/>
                  </a:lnTo>
                  <a:lnTo>
                    <a:pt x="5729" y="4568"/>
                  </a:lnTo>
                  <a:lnTo>
                    <a:pt x="5788" y="4535"/>
                  </a:lnTo>
                  <a:lnTo>
                    <a:pt x="5847" y="4501"/>
                  </a:lnTo>
                  <a:lnTo>
                    <a:pt x="5906" y="4466"/>
                  </a:lnTo>
                  <a:lnTo>
                    <a:pt x="5963" y="4429"/>
                  </a:lnTo>
                  <a:lnTo>
                    <a:pt x="6020" y="4391"/>
                  </a:lnTo>
                  <a:lnTo>
                    <a:pt x="6076" y="4352"/>
                  </a:lnTo>
                  <a:lnTo>
                    <a:pt x="6131" y="4312"/>
                  </a:lnTo>
                  <a:lnTo>
                    <a:pt x="6186" y="4272"/>
                  </a:lnTo>
                  <a:lnTo>
                    <a:pt x="6241" y="4231"/>
                  </a:lnTo>
                  <a:lnTo>
                    <a:pt x="6293" y="4191"/>
                  </a:lnTo>
                  <a:lnTo>
                    <a:pt x="6396" y="4110"/>
                  </a:lnTo>
                  <a:lnTo>
                    <a:pt x="6497" y="4031"/>
                  </a:lnTo>
                  <a:lnTo>
                    <a:pt x="6545" y="3994"/>
                  </a:lnTo>
                  <a:lnTo>
                    <a:pt x="6593" y="3956"/>
                  </a:lnTo>
                  <a:lnTo>
                    <a:pt x="6641" y="3921"/>
                  </a:lnTo>
                  <a:lnTo>
                    <a:pt x="6686" y="3888"/>
                  </a:lnTo>
                  <a:lnTo>
                    <a:pt x="6731" y="3855"/>
                  </a:lnTo>
                  <a:lnTo>
                    <a:pt x="6776" y="3825"/>
                  </a:lnTo>
                  <a:lnTo>
                    <a:pt x="6819" y="3799"/>
                  </a:lnTo>
                  <a:lnTo>
                    <a:pt x="6860" y="3773"/>
                  </a:lnTo>
                  <a:lnTo>
                    <a:pt x="6899" y="3753"/>
                  </a:lnTo>
                  <a:lnTo>
                    <a:pt x="6937" y="3730"/>
                  </a:lnTo>
                  <a:lnTo>
                    <a:pt x="6975" y="3705"/>
                  </a:lnTo>
                  <a:lnTo>
                    <a:pt x="7013" y="3680"/>
                  </a:lnTo>
                  <a:lnTo>
                    <a:pt x="7050" y="3653"/>
                  </a:lnTo>
                  <a:lnTo>
                    <a:pt x="7089" y="3624"/>
                  </a:lnTo>
                  <a:lnTo>
                    <a:pt x="7126" y="3595"/>
                  </a:lnTo>
                  <a:lnTo>
                    <a:pt x="7164" y="3565"/>
                  </a:lnTo>
                  <a:lnTo>
                    <a:pt x="7239" y="3502"/>
                  </a:lnTo>
                  <a:lnTo>
                    <a:pt x="7315" y="3436"/>
                  </a:lnTo>
                  <a:lnTo>
                    <a:pt x="7390" y="3371"/>
                  </a:lnTo>
                  <a:lnTo>
                    <a:pt x="7466" y="3304"/>
                  </a:lnTo>
                  <a:lnTo>
                    <a:pt x="7542" y="3240"/>
                  </a:lnTo>
                  <a:lnTo>
                    <a:pt x="7619" y="3177"/>
                  </a:lnTo>
                  <a:lnTo>
                    <a:pt x="7657" y="3147"/>
                  </a:lnTo>
                  <a:lnTo>
                    <a:pt x="7696" y="3118"/>
                  </a:lnTo>
                  <a:lnTo>
                    <a:pt x="7735" y="3090"/>
                  </a:lnTo>
                  <a:lnTo>
                    <a:pt x="7773" y="3063"/>
                  </a:lnTo>
                  <a:lnTo>
                    <a:pt x="7813" y="3037"/>
                  </a:lnTo>
                  <a:lnTo>
                    <a:pt x="7851" y="3014"/>
                  </a:lnTo>
                  <a:lnTo>
                    <a:pt x="7891" y="2991"/>
                  </a:lnTo>
                  <a:lnTo>
                    <a:pt x="7931" y="2971"/>
                  </a:lnTo>
                  <a:lnTo>
                    <a:pt x="7972" y="2952"/>
                  </a:lnTo>
                  <a:lnTo>
                    <a:pt x="8011" y="2935"/>
                  </a:lnTo>
                  <a:lnTo>
                    <a:pt x="8052" y="2921"/>
                  </a:lnTo>
                  <a:lnTo>
                    <a:pt x="8093" y="2910"/>
                  </a:lnTo>
                  <a:lnTo>
                    <a:pt x="8129" y="2901"/>
                  </a:lnTo>
                  <a:lnTo>
                    <a:pt x="8166" y="2895"/>
                  </a:lnTo>
                  <a:lnTo>
                    <a:pt x="8202" y="2890"/>
                  </a:lnTo>
                  <a:lnTo>
                    <a:pt x="8238" y="2888"/>
                  </a:lnTo>
                  <a:lnTo>
                    <a:pt x="8274" y="2888"/>
                  </a:lnTo>
                  <a:lnTo>
                    <a:pt x="8309" y="2890"/>
                  </a:lnTo>
                  <a:lnTo>
                    <a:pt x="8345" y="2895"/>
                  </a:lnTo>
                  <a:lnTo>
                    <a:pt x="8380" y="2901"/>
                  </a:lnTo>
                  <a:lnTo>
                    <a:pt x="8415" y="2910"/>
                  </a:lnTo>
                  <a:lnTo>
                    <a:pt x="8449" y="2920"/>
                  </a:lnTo>
                  <a:lnTo>
                    <a:pt x="8482" y="2932"/>
                  </a:lnTo>
                  <a:lnTo>
                    <a:pt x="8514" y="2946"/>
                  </a:lnTo>
                  <a:lnTo>
                    <a:pt x="8546" y="2962"/>
                  </a:lnTo>
                  <a:lnTo>
                    <a:pt x="8576" y="2980"/>
                  </a:lnTo>
                  <a:lnTo>
                    <a:pt x="8606" y="3000"/>
                  </a:lnTo>
                  <a:lnTo>
                    <a:pt x="8635" y="3021"/>
                  </a:lnTo>
                  <a:lnTo>
                    <a:pt x="8663" y="3044"/>
                  </a:lnTo>
                  <a:lnTo>
                    <a:pt x="8689" y="3068"/>
                  </a:lnTo>
                  <a:lnTo>
                    <a:pt x="8715" y="3094"/>
                  </a:lnTo>
                  <a:lnTo>
                    <a:pt x="8738" y="3122"/>
                  </a:lnTo>
                  <a:lnTo>
                    <a:pt x="8761" y="3151"/>
                  </a:lnTo>
                  <a:lnTo>
                    <a:pt x="8781" y="3182"/>
                  </a:lnTo>
                  <a:lnTo>
                    <a:pt x="8801" y="3213"/>
                  </a:lnTo>
                  <a:lnTo>
                    <a:pt x="8818" y="3247"/>
                  </a:lnTo>
                  <a:lnTo>
                    <a:pt x="8834" y="3282"/>
                  </a:lnTo>
                  <a:lnTo>
                    <a:pt x="8848" y="3318"/>
                  </a:lnTo>
                  <a:lnTo>
                    <a:pt x="8860" y="3356"/>
                  </a:lnTo>
                  <a:lnTo>
                    <a:pt x="8869" y="3394"/>
                  </a:lnTo>
                  <a:lnTo>
                    <a:pt x="8878" y="3434"/>
                  </a:lnTo>
                  <a:lnTo>
                    <a:pt x="8883" y="3475"/>
                  </a:lnTo>
                  <a:lnTo>
                    <a:pt x="8886" y="3517"/>
                  </a:lnTo>
                  <a:lnTo>
                    <a:pt x="8889" y="3559"/>
                  </a:lnTo>
                  <a:lnTo>
                    <a:pt x="8790" y="3673"/>
                  </a:lnTo>
                  <a:lnTo>
                    <a:pt x="8688" y="3777"/>
                  </a:lnTo>
                  <a:lnTo>
                    <a:pt x="8583" y="3873"/>
                  </a:lnTo>
                  <a:lnTo>
                    <a:pt x="8475" y="3959"/>
                  </a:lnTo>
                  <a:lnTo>
                    <a:pt x="8364" y="4039"/>
                  </a:lnTo>
                  <a:lnTo>
                    <a:pt x="8251" y="4111"/>
                  </a:lnTo>
                  <a:lnTo>
                    <a:pt x="8136" y="4176"/>
                  </a:lnTo>
                  <a:lnTo>
                    <a:pt x="8018" y="4234"/>
                  </a:lnTo>
                  <a:lnTo>
                    <a:pt x="7899" y="4287"/>
                  </a:lnTo>
                  <a:lnTo>
                    <a:pt x="7777" y="4334"/>
                  </a:lnTo>
                  <a:lnTo>
                    <a:pt x="7654" y="4374"/>
                  </a:lnTo>
                  <a:lnTo>
                    <a:pt x="7531" y="4411"/>
                  </a:lnTo>
                  <a:lnTo>
                    <a:pt x="7405" y="4443"/>
                  </a:lnTo>
                  <a:lnTo>
                    <a:pt x="7279" y="4471"/>
                  </a:lnTo>
                  <a:lnTo>
                    <a:pt x="7152" y="4495"/>
                  </a:lnTo>
                  <a:lnTo>
                    <a:pt x="7026" y="4515"/>
                  </a:lnTo>
                  <a:lnTo>
                    <a:pt x="6898" y="4533"/>
                  </a:lnTo>
                  <a:lnTo>
                    <a:pt x="6770" y="4549"/>
                  </a:lnTo>
                  <a:lnTo>
                    <a:pt x="6643" y="4562"/>
                  </a:lnTo>
                  <a:lnTo>
                    <a:pt x="6516" y="4574"/>
                  </a:lnTo>
                  <a:lnTo>
                    <a:pt x="6264" y="4594"/>
                  </a:lnTo>
                  <a:lnTo>
                    <a:pt x="6016" y="4614"/>
                  </a:lnTo>
                  <a:lnTo>
                    <a:pt x="5894" y="4623"/>
                  </a:lnTo>
                  <a:lnTo>
                    <a:pt x="5774" y="4635"/>
                  </a:lnTo>
                  <a:lnTo>
                    <a:pt x="5656" y="4647"/>
                  </a:lnTo>
                  <a:lnTo>
                    <a:pt x="5539" y="4661"/>
                  </a:lnTo>
                  <a:lnTo>
                    <a:pt x="5424" y="4676"/>
                  </a:lnTo>
                  <a:lnTo>
                    <a:pt x="5313" y="4695"/>
                  </a:lnTo>
                  <a:lnTo>
                    <a:pt x="5205" y="4717"/>
                  </a:lnTo>
                  <a:lnTo>
                    <a:pt x="5097" y="4740"/>
                  </a:lnTo>
                  <a:close/>
                  <a:moveTo>
                    <a:pt x="9418" y="3807"/>
                  </a:moveTo>
                  <a:lnTo>
                    <a:pt x="9410" y="3832"/>
                  </a:lnTo>
                  <a:lnTo>
                    <a:pt x="9400" y="3855"/>
                  </a:lnTo>
                  <a:lnTo>
                    <a:pt x="9389" y="3881"/>
                  </a:lnTo>
                  <a:lnTo>
                    <a:pt x="9378" y="3906"/>
                  </a:lnTo>
                  <a:lnTo>
                    <a:pt x="9353" y="3957"/>
                  </a:lnTo>
                  <a:lnTo>
                    <a:pt x="9326" y="4009"/>
                  </a:lnTo>
                  <a:lnTo>
                    <a:pt x="9269" y="4116"/>
                  </a:lnTo>
                  <a:lnTo>
                    <a:pt x="9210" y="4227"/>
                  </a:lnTo>
                  <a:lnTo>
                    <a:pt x="9181" y="4282"/>
                  </a:lnTo>
                  <a:lnTo>
                    <a:pt x="9155" y="4338"/>
                  </a:lnTo>
                  <a:lnTo>
                    <a:pt x="9143" y="4367"/>
                  </a:lnTo>
                  <a:lnTo>
                    <a:pt x="9131" y="4395"/>
                  </a:lnTo>
                  <a:lnTo>
                    <a:pt x="9119" y="4423"/>
                  </a:lnTo>
                  <a:lnTo>
                    <a:pt x="9109" y="4451"/>
                  </a:lnTo>
                  <a:lnTo>
                    <a:pt x="9100" y="4479"/>
                  </a:lnTo>
                  <a:lnTo>
                    <a:pt x="9091" y="4506"/>
                  </a:lnTo>
                  <a:lnTo>
                    <a:pt x="9085" y="4534"/>
                  </a:lnTo>
                  <a:lnTo>
                    <a:pt x="9078" y="4562"/>
                  </a:lnTo>
                  <a:lnTo>
                    <a:pt x="9073" y="4590"/>
                  </a:lnTo>
                  <a:lnTo>
                    <a:pt x="9070" y="4617"/>
                  </a:lnTo>
                  <a:lnTo>
                    <a:pt x="9068" y="4645"/>
                  </a:lnTo>
                  <a:lnTo>
                    <a:pt x="9067" y="4672"/>
                  </a:lnTo>
                  <a:lnTo>
                    <a:pt x="9078" y="4678"/>
                  </a:lnTo>
                  <a:lnTo>
                    <a:pt x="9091" y="4683"/>
                  </a:lnTo>
                  <a:lnTo>
                    <a:pt x="9105" y="4688"/>
                  </a:lnTo>
                  <a:lnTo>
                    <a:pt x="9120" y="4691"/>
                  </a:lnTo>
                  <a:lnTo>
                    <a:pt x="9136" y="4694"/>
                  </a:lnTo>
                  <a:lnTo>
                    <a:pt x="9153" y="4697"/>
                  </a:lnTo>
                  <a:lnTo>
                    <a:pt x="9171" y="4698"/>
                  </a:lnTo>
                  <a:lnTo>
                    <a:pt x="9190" y="4699"/>
                  </a:lnTo>
                  <a:lnTo>
                    <a:pt x="9209" y="4701"/>
                  </a:lnTo>
                  <a:lnTo>
                    <a:pt x="9230" y="4699"/>
                  </a:lnTo>
                  <a:lnTo>
                    <a:pt x="9250" y="4699"/>
                  </a:lnTo>
                  <a:lnTo>
                    <a:pt x="9271" y="4698"/>
                  </a:lnTo>
                  <a:lnTo>
                    <a:pt x="9314" y="4694"/>
                  </a:lnTo>
                  <a:lnTo>
                    <a:pt x="9357" y="4688"/>
                  </a:lnTo>
                  <a:lnTo>
                    <a:pt x="9401" y="4680"/>
                  </a:lnTo>
                  <a:lnTo>
                    <a:pt x="9444" y="4672"/>
                  </a:lnTo>
                  <a:lnTo>
                    <a:pt x="9486" y="4661"/>
                  </a:lnTo>
                  <a:lnTo>
                    <a:pt x="9526" y="4650"/>
                  </a:lnTo>
                  <a:lnTo>
                    <a:pt x="9562" y="4637"/>
                  </a:lnTo>
                  <a:lnTo>
                    <a:pt x="9595" y="4624"/>
                  </a:lnTo>
                  <a:lnTo>
                    <a:pt x="9610" y="4618"/>
                  </a:lnTo>
                  <a:lnTo>
                    <a:pt x="9624" y="4610"/>
                  </a:lnTo>
                  <a:lnTo>
                    <a:pt x="9637" y="4604"/>
                  </a:lnTo>
                  <a:lnTo>
                    <a:pt x="9649" y="4596"/>
                  </a:lnTo>
                  <a:lnTo>
                    <a:pt x="9648" y="4721"/>
                  </a:lnTo>
                  <a:lnTo>
                    <a:pt x="9646" y="4838"/>
                  </a:lnTo>
                  <a:lnTo>
                    <a:pt x="9644" y="4895"/>
                  </a:lnTo>
                  <a:lnTo>
                    <a:pt x="9641" y="4949"/>
                  </a:lnTo>
                  <a:lnTo>
                    <a:pt x="9638" y="5002"/>
                  </a:lnTo>
                  <a:lnTo>
                    <a:pt x="9634" y="5054"/>
                  </a:lnTo>
                  <a:lnTo>
                    <a:pt x="9630" y="5105"/>
                  </a:lnTo>
                  <a:lnTo>
                    <a:pt x="9624" y="5155"/>
                  </a:lnTo>
                  <a:lnTo>
                    <a:pt x="9619" y="5205"/>
                  </a:lnTo>
                  <a:lnTo>
                    <a:pt x="9611" y="5253"/>
                  </a:lnTo>
                  <a:lnTo>
                    <a:pt x="9604" y="5301"/>
                  </a:lnTo>
                  <a:lnTo>
                    <a:pt x="9595" y="5348"/>
                  </a:lnTo>
                  <a:lnTo>
                    <a:pt x="9585" y="5397"/>
                  </a:lnTo>
                  <a:lnTo>
                    <a:pt x="9574" y="5444"/>
                  </a:lnTo>
                  <a:lnTo>
                    <a:pt x="9562" y="5491"/>
                  </a:lnTo>
                  <a:lnTo>
                    <a:pt x="9549" y="5538"/>
                  </a:lnTo>
                  <a:lnTo>
                    <a:pt x="9534" y="5585"/>
                  </a:lnTo>
                  <a:lnTo>
                    <a:pt x="9519" y="5634"/>
                  </a:lnTo>
                  <a:lnTo>
                    <a:pt x="9502" y="5683"/>
                  </a:lnTo>
                  <a:lnTo>
                    <a:pt x="9483" y="5732"/>
                  </a:lnTo>
                  <a:lnTo>
                    <a:pt x="9463" y="5781"/>
                  </a:lnTo>
                  <a:lnTo>
                    <a:pt x="9442" y="5833"/>
                  </a:lnTo>
                  <a:lnTo>
                    <a:pt x="9418" y="5884"/>
                  </a:lnTo>
                  <a:lnTo>
                    <a:pt x="9395" y="5938"/>
                  </a:lnTo>
                  <a:lnTo>
                    <a:pt x="9368" y="5993"/>
                  </a:lnTo>
                  <a:lnTo>
                    <a:pt x="9340" y="6049"/>
                  </a:lnTo>
                  <a:lnTo>
                    <a:pt x="9310" y="6106"/>
                  </a:lnTo>
                  <a:lnTo>
                    <a:pt x="9279" y="6165"/>
                  </a:lnTo>
                  <a:lnTo>
                    <a:pt x="9246" y="6227"/>
                  </a:lnTo>
                  <a:lnTo>
                    <a:pt x="9210" y="6290"/>
                  </a:lnTo>
                  <a:lnTo>
                    <a:pt x="9234" y="6681"/>
                  </a:lnTo>
                  <a:lnTo>
                    <a:pt x="7597" y="6681"/>
                  </a:lnTo>
                  <a:lnTo>
                    <a:pt x="7564" y="6684"/>
                  </a:lnTo>
                  <a:lnTo>
                    <a:pt x="7529" y="6687"/>
                  </a:lnTo>
                  <a:lnTo>
                    <a:pt x="7493" y="6688"/>
                  </a:lnTo>
                  <a:lnTo>
                    <a:pt x="7457" y="6688"/>
                  </a:lnTo>
                  <a:lnTo>
                    <a:pt x="7419" y="6687"/>
                  </a:lnTo>
                  <a:lnTo>
                    <a:pt x="7382" y="6684"/>
                  </a:lnTo>
                  <a:lnTo>
                    <a:pt x="7344" y="6681"/>
                  </a:lnTo>
                  <a:lnTo>
                    <a:pt x="7306" y="6677"/>
                  </a:lnTo>
                  <a:lnTo>
                    <a:pt x="7266" y="6671"/>
                  </a:lnTo>
                  <a:lnTo>
                    <a:pt x="7227" y="6664"/>
                  </a:lnTo>
                  <a:lnTo>
                    <a:pt x="7188" y="6657"/>
                  </a:lnTo>
                  <a:lnTo>
                    <a:pt x="7148" y="6648"/>
                  </a:lnTo>
                  <a:lnTo>
                    <a:pt x="7108" y="6638"/>
                  </a:lnTo>
                  <a:lnTo>
                    <a:pt x="7069" y="6627"/>
                  </a:lnTo>
                  <a:lnTo>
                    <a:pt x="7029" y="6615"/>
                  </a:lnTo>
                  <a:lnTo>
                    <a:pt x="6990" y="6602"/>
                  </a:lnTo>
                  <a:lnTo>
                    <a:pt x="6951" y="6588"/>
                  </a:lnTo>
                  <a:lnTo>
                    <a:pt x="6912" y="6573"/>
                  </a:lnTo>
                  <a:lnTo>
                    <a:pt x="6874" y="6556"/>
                  </a:lnTo>
                  <a:lnTo>
                    <a:pt x="6837" y="6539"/>
                  </a:lnTo>
                  <a:lnTo>
                    <a:pt x="6799" y="6520"/>
                  </a:lnTo>
                  <a:lnTo>
                    <a:pt x="6763" y="6501"/>
                  </a:lnTo>
                  <a:lnTo>
                    <a:pt x="6727" y="6481"/>
                  </a:lnTo>
                  <a:lnTo>
                    <a:pt x="6692" y="6459"/>
                  </a:lnTo>
                  <a:lnTo>
                    <a:pt x="6658" y="6437"/>
                  </a:lnTo>
                  <a:lnTo>
                    <a:pt x="6625" y="6413"/>
                  </a:lnTo>
                  <a:lnTo>
                    <a:pt x="6593" y="6388"/>
                  </a:lnTo>
                  <a:lnTo>
                    <a:pt x="6562" y="6363"/>
                  </a:lnTo>
                  <a:lnTo>
                    <a:pt x="6532" y="6336"/>
                  </a:lnTo>
                  <a:lnTo>
                    <a:pt x="6504" y="6308"/>
                  </a:lnTo>
                  <a:lnTo>
                    <a:pt x="6477" y="6279"/>
                  </a:lnTo>
                  <a:lnTo>
                    <a:pt x="6452" y="6250"/>
                  </a:lnTo>
                  <a:lnTo>
                    <a:pt x="6517" y="6249"/>
                  </a:lnTo>
                  <a:lnTo>
                    <a:pt x="6585" y="6248"/>
                  </a:lnTo>
                  <a:lnTo>
                    <a:pt x="6651" y="6247"/>
                  </a:lnTo>
                  <a:lnTo>
                    <a:pt x="6720" y="6245"/>
                  </a:lnTo>
                  <a:lnTo>
                    <a:pt x="6856" y="6238"/>
                  </a:lnTo>
                  <a:lnTo>
                    <a:pt x="6993" y="6232"/>
                  </a:lnTo>
                  <a:lnTo>
                    <a:pt x="7132" y="6227"/>
                  </a:lnTo>
                  <a:lnTo>
                    <a:pt x="7269" y="6220"/>
                  </a:lnTo>
                  <a:lnTo>
                    <a:pt x="7337" y="6218"/>
                  </a:lnTo>
                  <a:lnTo>
                    <a:pt x="7405" y="6217"/>
                  </a:lnTo>
                  <a:lnTo>
                    <a:pt x="7473" y="6216"/>
                  </a:lnTo>
                  <a:lnTo>
                    <a:pt x="7540" y="6215"/>
                  </a:lnTo>
                  <a:lnTo>
                    <a:pt x="7522" y="6214"/>
                  </a:lnTo>
                  <a:lnTo>
                    <a:pt x="7503" y="6210"/>
                  </a:lnTo>
                  <a:lnTo>
                    <a:pt x="7484" y="6205"/>
                  </a:lnTo>
                  <a:lnTo>
                    <a:pt x="7463" y="6198"/>
                  </a:lnTo>
                  <a:lnTo>
                    <a:pt x="7443" y="6190"/>
                  </a:lnTo>
                  <a:lnTo>
                    <a:pt x="7421" y="6180"/>
                  </a:lnTo>
                  <a:lnTo>
                    <a:pt x="7401" y="6171"/>
                  </a:lnTo>
                  <a:lnTo>
                    <a:pt x="7380" y="6160"/>
                  </a:lnTo>
                  <a:lnTo>
                    <a:pt x="7339" y="6141"/>
                  </a:lnTo>
                  <a:lnTo>
                    <a:pt x="7301" y="6123"/>
                  </a:lnTo>
                  <a:lnTo>
                    <a:pt x="7284" y="6116"/>
                  </a:lnTo>
                  <a:lnTo>
                    <a:pt x="7268" y="6111"/>
                  </a:lnTo>
                  <a:lnTo>
                    <a:pt x="7253" y="6106"/>
                  </a:lnTo>
                  <a:lnTo>
                    <a:pt x="7240" y="6105"/>
                  </a:lnTo>
                  <a:lnTo>
                    <a:pt x="7205" y="6096"/>
                  </a:lnTo>
                  <a:lnTo>
                    <a:pt x="7168" y="6087"/>
                  </a:lnTo>
                  <a:lnTo>
                    <a:pt x="7131" y="6079"/>
                  </a:lnTo>
                  <a:lnTo>
                    <a:pt x="7093" y="6071"/>
                  </a:lnTo>
                  <a:lnTo>
                    <a:pt x="7016" y="6056"/>
                  </a:lnTo>
                  <a:lnTo>
                    <a:pt x="6938" y="6042"/>
                  </a:lnTo>
                  <a:lnTo>
                    <a:pt x="6858" y="6029"/>
                  </a:lnTo>
                  <a:lnTo>
                    <a:pt x="6778" y="6015"/>
                  </a:lnTo>
                  <a:lnTo>
                    <a:pt x="6737" y="6007"/>
                  </a:lnTo>
                  <a:lnTo>
                    <a:pt x="6697" y="5999"/>
                  </a:lnTo>
                  <a:lnTo>
                    <a:pt x="6657" y="5990"/>
                  </a:lnTo>
                  <a:lnTo>
                    <a:pt x="6617" y="5981"/>
                  </a:lnTo>
                  <a:lnTo>
                    <a:pt x="6577" y="5970"/>
                  </a:lnTo>
                  <a:lnTo>
                    <a:pt x="6538" y="5958"/>
                  </a:lnTo>
                  <a:lnTo>
                    <a:pt x="6498" y="5947"/>
                  </a:lnTo>
                  <a:lnTo>
                    <a:pt x="6459" y="5933"/>
                  </a:lnTo>
                  <a:lnTo>
                    <a:pt x="6421" y="5918"/>
                  </a:lnTo>
                  <a:lnTo>
                    <a:pt x="6382" y="5902"/>
                  </a:lnTo>
                  <a:lnTo>
                    <a:pt x="6345" y="5883"/>
                  </a:lnTo>
                  <a:lnTo>
                    <a:pt x="6307" y="5864"/>
                  </a:lnTo>
                  <a:lnTo>
                    <a:pt x="6271" y="5844"/>
                  </a:lnTo>
                  <a:lnTo>
                    <a:pt x="6235" y="5820"/>
                  </a:lnTo>
                  <a:lnTo>
                    <a:pt x="6200" y="5795"/>
                  </a:lnTo>
                  <a:lnTo>
                    <a:pt x="6165" y="5769"/>
                  </a:lnTo>
                  <a:lnTo>
                    <a:pt x="6132" y="5740"/>
                  </a:lnTo>
                  <a:lnTo>
                    <a:pt x="6099" y="5709"/>
                  </a:lnTo>
                  <a:lnTo>
                    <a:pt x="6068" y="5675"/>
                  </a:lnTo>
                  <a:lnTo>
                    <a:pt x="6037" y="5639"/>
                  </a:lnTo>
                  <a:lnTo>
                    <a:pt x="6044" y="5629"/>
                  </a:lnTo>
                  <a:lnTo>
                    <a:pt x="6054" y="5620"/>
                  </a:lnTo>
                  <a:lnTo>
                    <a:pt x="6067" y="5611"/>
                  </a:lnTo>
                  <a:lnTo>
                    <a:pt x="6082" y="5603"/>
                  </a:lnTo>
                  <a:lnTo>
                    <a:pt x="6099" y="5596"/>
                  </a:lnTo>
                  <a:lnTo>
                    <a:pt x="6118" y="5588"/>
                  </a:lnTo>
                  <a:lnTo>
                    <a:pt x="6140" y="5582"/>
                  </a:lnTo>
                  <a:lnTo>
                    <a:pt x="6163" y="5576"/>
                  </a:lnTo>
                  <a:lnTo>
                    <a:pt x="6187" y="5570"/>
                  </a:lnTo>
                  <a:lnTo>
                    <a:pt x="6214" y="5565"/>
                  </a:lnTo>
                  <a:lnTo>
                    <a:pt x="6241" y="5561"/>
                  </a:lnTo>
                  <a:lnTo>
                    <a:pt x="6268" y="5556"/>
                  </a:lnTo>
                  <a:lnTo>
                    <a:pt x="6329" y="5549"/>
                  </a:lnTo>
                  <a:lnTo>
                    <a:pt x="6390" y="5543"/>
                  </a:lnTo>
                  <a:lnTo>
                    <a:pt x="6452" y="5539"/>
                  </a:lnTo>
                  <a:lnTo>
                    <a:pt x="6514" y="5536"/>
                  </a:lnTo>
                  <a:lnTo>
                    <a:pt x="6574" y="5533"/>
                  </a:lnTo>
                  <a:lnTo>
                    <a:pt x="6631" y="5532"/>
                  </a:lnTo>
                  <a:lnTo>
                    <a:pt x="6731" y="5529"/>
                  </a:lnTo>
                  <a:lnTo>
                    <a:pt x="6803" y="5529"/>
                  </a:lnTo>
                  <a:lnTo>
                    <a:pt x="6893" y="5529"/>
                  </a:lnTo>
                  <a:lnTo>
                    <a:pt x="7003" y="5527"/>
                  </a:lnTo>
                  <a:lnTo>
                    <a:pt x="7063" y="5524"/>
                  </a:lnTo>
                  <a:lnTo>
                    <a:pt x="7125" y="5521"/>
                  </a:lnTo>
                  <a:lnTo>
                    <a:pt x="7189" y="5514"/>
                  </a:lnTo>
                  <a:lnTo>
                    <a:pt x="7253" y="5507"/>
                  </a:lnTo>
                  <a:lnTo>
                    <a:pt x="7284" y="5503"/>
                  </a:lnTo>
                  <a:lnTo>
                    <a:pt x="7315" y="5498"/>
                  </a:lnTo>
                  <a:lnTo>
                    <a:pt x="7346" y="5492"/>
                  </a:lnTo>
                  <a:lnTo>
                    <a:pt x="7377" y="5487"/>
                  </a:lnTo>
                  <a:lnTo>
                    <a:pt x="7406" y="5479"/>
                  </a:lnTo>
                  <a:lnTo>
                    <a:pt x="7435" y="5472"/>
                  </a:lnTo>
                  <a:lnTo>
                    <a:pt x="7463" y="5463"/>
                  </a:lnTo>
                  <a:lnTo>
                    <a:pt x="7490" y="5454"/>
                  </a:lnTo>
                  <a:lnTo>
                    <a:pt x="7517" y="5445"/>
                  </a:lnTo>
                  <a:lnTo>
                    <a:pt x="7540" y="5434"/>
                  </a:lnTo>
                  <a:lnTo>
                    <a:pt x="7564" y="5422"/>
                  </a:lnTo>
                  <a:lnTo>
                    <a:pt x="7585" y="5410"/>
                  </a:lnTo>
                  <a:lnTo>
                    <a:pt x="7606" y="5397"/>
                  </a:lnTo>
                  <a:lnTo>
                    <a:pt x="7624" y="5383"/>
                  </a:lnTo>
                  <a:lnTo>
                    <a:pt x="7641" y="5368"/>
                  </a:lnTo>
                  <a:lnTo>
                    <a:pt x="7655" y="5351"/>
                  </a:lnTo>
                  <a:lnTo>
                    <a:pt x="7605" y="5324"/>
                  </a:lnTo>
                  <a:lnTo>
                    <a:pt x="7552" y="5302"/>
                  </a:lnTo>
                  <a:lnTo>
                    <a:pt x="7499" y="5285"/>
                  </a:lnTo>
                  <a:lnTo>
                    <a:pt x="7444" y="5272"/>
                  </a:lnTo>
                  <a:lnTo>
                    <a:pt x="7387" y="5264"/>
                  </a:lnTo>
                  <a:lnTo>
                    <a:pt x="7330" y="5259"/>
                  </a:lnTo>
                  <a:lnTo>
                    <a:pt x="7271" y="5258"/>
                  </a:lnTo>
                  <a:lnTo>
                    <a:pt x="7212" y="5259"/>
                  </a:lnTo>
                  <a:lnTo>
                    <a:pt x="7152" y="5264"/>
                  </a:lnTo>
                  <a:lnTo>
                    <a:pt x="7091" y="5270"/>
                  </a:lnTo>
                  <a:lnTo>
                    <a:pt x="7030" y="5279"/>
                  </a:lnTo>
                  <a:lnTo>
                    <a:pt x="6969" y="5288"/>
                  </a:lnTo>
                  <a:lnTo>
                    <a:pt x="6844" y="5311"/>
                  </a:lnTo>
                  <a:lnTo>
                    <a:pt x="6721" y="5333"/>
                  </a:lnTo>
                  <a:lnTo>
                    <a:pt x="6660" y="5344"/>
                  </a:lnTo>
                  <a:lnTo>
                    <a:pt x="6600" y="5354"/>
                  </a:lnTo>
                  <a:lnTo>
                    <a:pt x="6539" y="5362"/>
                  </a:lnTo>
                  <a:lnTo>
                    <a:pt x="6480" y="5370"/>
                  </a:lnTo>
                  <a:lnTo>
                    <a:pt x="6421" y="5374"/>
                  </a:lnTo>
                  <a:lnTo>
                    <a:pt x="6364" y="5376"/>
                  </a:lnTo>
                  <a:lnTo>
                    <a:pt x="6307" y="5375"/>
                  </a:lnTo>
                  <a:lnTo>
                    <a:pt x="6251" y="5372"/>
                  </a:lnTo>
                  <a:lnTo>
                    <a:pt x="6198" y="5363"/>
                  </a:lnTo>
                  <a:lnTo>
                    <a:pt x="6145" y="5351"/>
                  </a:lnTo>
                  <a:lnTo>
                    <a:pt x="6095" y="5335"/>
                  </a:lnTo>
                  <a:lnTo>
                    <a:pt x="6045" y="5314"/>
                  </a:lnTo>
                  <a:lnTo>
                    <a:pt x="5998" y="5288"/>
                  </a:lnTo>
                  <a:lnTo>
                    <a:pt x="5953" y="5256"/>
                  </a:lnTo>
                  <a:lnTo>
                    <a:pt x="5910" y="5217"/>
                  </a:lnTo>
                  <a:lnTo>
                    <a:pt x="5869" y="5172"/>
                  </a:lnTo>
                  <a:lnTo>
                    <a:pt x="5812" y="5104"/>
                  </a:lnTo>
                  <a:lnTo>
                    <a:pt x="5896" y="5116"/>
                  </a:lnTo>
                  <a:lnTo>
                    <a:pt x="5979" y="5124"/>
                  </a:lnTo>
                  <a:lnTo>
                    <a:pt x="6061" y="5129"/>
                  </a:lnTo>
                  <a:lnTo>
                    <a:pt x="6142" y="5132"/>
                  </a:lnTo>
                  <a:lnTo>
                    <a:pt x="6221" y="5131"/>
                  </a:lnTo>
                  <a:lnTo>
                    <a:pt x="6300" y="5126"/>
                  </a:lnTo>
                  <a:lnTo>
                    <a:pt x="6378" y="5120"/>
                  </a:lnTo>
                  <a:lnTo>
                    <a:pt x="6454" y="5110"/>
                  </a:lnTo>
                  <a:lnTo>
                    <a:pt x="6529" y="5098"/>
                  </a:lnTo>
                  <a:lnTo>
                    <a:pt x="6604" y="5084"/>
                  </a:lnTo>
                  <a:lnTo>
                    <a:pt x="6678" y="5067"/>
                  </a:lnTo>
                  <a:lnTo>
                    <a:pt x="6751" y="5049"/>
                  </a:lnTo>
                  <a:lnTo>
                    <a:pt x="6823" y="5030"/>
                  </a:lnTo>
                  <a:lnTo>
                    <a:pt x="6894" y="5008"/>
                  </a:lnTo>
                  <a:lnTo>
                    <a:pt x="6964" y="4985"/>
                  </a:lnTo>
                  <a:lnTo>
                    <a:pt x="7034" y="4960"/>
                  </a:lnTo>
                  <a:lnTo>
                    <a:pt x="7103" y="4934"/>
                  </a:lnTo>
                  <a:lnTo>
                    <a:pt x="7171" y="4909"/>
                  </a:lnTo>
                  <a:lnTo>
                    <a:pt x="7239" y="4881"/>
                  </a:lnTo>
                  <a:lnTo>
                    <a:pt x="7306" y="4853"/>
                  </a:lnTo>
                  <a:lnTo>
                    <a:pt x="7437" y="4796"/>
                  </a:lnTo>
                  <a:lnTo>
                    <a:pt x="7567" y="4738"/>
                  </a:lnTo>
                  <a:lnTo>
                    <a:pt x="7695" y="4681"/>
                  </a:lnTo>
                  <a:lnTo>
                    <a:pt x="7821" y="4627"/>
                  </a:lnTo>
                  <a:lnTo>
                    <a:pt x="7884" y="4600"/>
                  </a:lnTo>
                  <a:lnTo>
                    <a:pt x="7947" y="4575"/>
                  </a:lnTo>
                  <a:lnTo>
                    <a:pt x="8008" y="4550"/>
                  </a:lnTo>
                  <a:lnTo>
                    <a:pt x="8070" y="4528"/>
                  </a:lnTo>
                  <a:lnTo>
                    <a:pt x="8246" y="4464"/>
                  </a:lnTo>
                  <a:lnTo>
                    <a:pt x="8410" y="4405"/>
                  </a:lnTo>
                  <a:lnTo>
                    <a:pt x="8563" y="4349"/>
                  </a:lnTo>
                  <a:lnTo>
                    <a:pt x="8706" y="4294"/>
                  </a:lnTo>
                  <a:lnTo>
                    <a:pt x="8776" y="4267"/>
                  </a:lnTo>
                  <a:lnTo>
                    <a:pt x="8845" y="4240"/>
                  </a:lnTo>
                  <a:lnTo>
                    <a:pt x="8911" y="4213"/>
                  </a:lnTo>
                  <a:lnTo>
                    <a:pt x="8978" y="4185"/>
                  </a:lnTo>
                  <a:lnTo>
                    <a:pt x="9043" y="4155"/>
                  </a:lnTo>
                  <a:lnTo>
                    <a:pt x="9108" y="4125"/>
                  </a:lnTo>
                  <a:lnTo>
                    <a:pt x="9174" y="4094"/>
                  </a:lnTo>
                  <a:lnTo>
                    <a:pt x="9239" y="4061"/>
                  </a:lnTo>
                  <a:lnTo>
                    <a:pt x="9251" y="4054"/>
                  </a:lnTo>
                  <a:lnTo>
                    <a:pt x="9263" y="4046"/>
                  </a:lnTo>
                  <a:lnTo>
                    <a:pt x="9275" y="4037"/>
                  </a:lnTo>
                  <a:lnTo>
                    <a:pt x="9286" y="4027"/>
                  </a:lnTo>
                  <a:lnTo>
                    <a:pt x="9297" y="4016"/>
                  </a:lnTo>
                  <a:lnTo>
                    <a:pt x="9309" y="4003"/>
                  </a:lnTo>
                  <a:lnTo>
                    <a:pt x="9320" y="3991"/>
                  </a:lnTo>
                  <a:lnTo>
                    <a:pt x="9330" y="3976"/>
                  </a:lnTo>
                  <a:lnTo>
                    <a:pt x="9342" y="3959"/>
                  </a:lnTo>
                  <a:lnTo>
                    <a:pt x="9353" y="3942"/>
                  </a:lnTo>
                  <a:lnTo>
                    <a:pt x="9364" y="3923"/>
                  </a:lnTo>
                  <a:lnTo>
                    <a:pt x="9374" y="3903"/>
                  </a:lnTo>
                  <a:lnTo>
                    <a:pt x="9385" y="3881"/>
                  </a:lnTo>
                  <a:lnTo>
                    <a:pt x="9396" y="3859"/>
                  </a:lnTo>
                  <a:lnTo>
                    <a:pt x="9408" y="3834"/>
                  </a:lnTo>
                  <a:lnTo>
                    <a:pt x="9418" y="3807"/>
                  </a:lnTo>
                  <a:close/>
                  <a:moveTo>
                    <a:pt x="0" y="3041"/>
                  </a:moveTo>
                  <a:lnTo>
                    <a:pt x="48" y="2985"/>
                  </a:lnTo>
                  <a:lnTo>
                    <a:pt x="99" y="2924"/>
                  </a:lnTo>
                  <a:lnTo>
                    <a:pt x="155" y="2859"/>
                  </a:lnTo>
                  <a:lnTo>
                    <a:pt x="213" y="2793"/>
                  </a:lnTo>
                  <a:lnTo>
                    <a:pt x="275" y="2723"/>
                  </a:lnTo>
                  <a:lnTo>
                    <a:pt x="340" y="2652"/>
                  </a:lnTo>
                  <a:lnTo>
                    <a:pt x="407" y="2578"/>
                  </a:lnTo>
                  <a:lnTo>
                    <a:pt x="477" y="2503"/>
                  </a:lnTo>
                  <a:lnTo>
                    <a:pt x="549" y="2427"/>
                  </a:lnTo>
                  <a:lnTo>
                    <a:pt x="623" y="2349"/>
                  </a:lnTo>
                  <a:lnTo>
                    <a:pt x="698" y="2270"/>
                  </a:lnTo>
                  <a:lnTo>
                    <a:pt x="775" y="2192"/>
                  </a:lnTo>
                  <a:lnTo>
                    <a:pt x="853" y="2113"/>
                  </a:lnTo>
                  <a:lnTo>
                    <a:pt x="933" y="2035"/>
                  </a:lnTo>
                  <a:lnTo>
                    <a:pt x="1013" y="1956"/>
                  </a:lnTo>
                  <a:lnTo>
                    <a:pt x="1095" y="1878"/>
                  </a:lnTo>
                  <a:lnTo>
                    <a:pt x="1175" y="1802"/>
                  </a:lnTo>
                  <a:lnTo>
                    <a:pt x="1257" y="1726"/>
                  </a:lnTo>
                  <a:lnTo>
                    <a:pt x="1338" y="1653"/>
                  </a:lnTo>
                  <a:lnTo>
                    <a:pt x="1419" y="1581"/>
                  </a:lnTo>
                  <a:lnTo>
                    <a:pt x="1499" y="1511"/>
                  </a:lnTo>
                  <a:lnTo>
                    <a:pt x="1578" y="1444"/>
                  </a:lnTo>
                  <a:lnTo>
                    <a:pt x="1657" y="1379"/>
                  </a:lnTo>
                  <a:lnTo>
                    <a:pt x="1733" y="1318"/>
                  </a:lnTo>
                  <a:lnTo>
                    <a:pt x="1809" y="1260"/>
                  </a:lnTo>
                  <a:lnTo>
                    <a:pt x="1883" y="1206"/>
                  </a:lnTo>
                  <a:lnTo>
                    <a:pt x="1954" y="1155"/>
                  </a:lnTo>
                  <a:lnTo>
                    <a:pt x="2023" y="1109"/>
                  </a:lnTo>
                  <a:lnTo>
                    <a:pt x="2091" y="1068"/>
                  </a:lnTo>
                  <a:lnTo>
                    <a:pt x="2155" y="1032"/>
                  </a:lnTo>
                  <a:lnTo>
                    <a:pt x="2217" y="1000"/>
                  </a:lnTo>
                  <a:lnTo>
                    <a:pt x="2276" y="974"/>
                  </a:lnTo>
                  <a:lnTo>
                    <a:pt x="2315" y="958"/>
                  </a:lnTo>
                  <a:lnTo>
                    <a:pt x="2356" y="943"/>
                  </a:lnTo>
                  <a:lnTo>
                    <a:pt x="2398" y="929"/>
                  </a:lnTo>
                  <a:lnTo>
                    <a:pt x="2442" y="915"/>
                  </a:lnTo>
                  <a:lnTo>
                    <a:pt x="2487" y="903"/>
                  </a:lnTo>
                  <a:lnTo>
                    <a:pt x="2532" y="891"/>
                  </a:lnTo>
                  <a:lnTo>
                    <a:pt x="2579" y="882"/>
                  </a:lnTo>
                  <a:lnTo>
                    <a:pt x="2626" y="872"/>
                  </a:lnTo>
                  <a:lnTo>
                    <a:pt x="2674" y="865"/>
                  </a:lnTo>
                  <a:lnTo>
                    <a:pt x="2724" y="857"/>
                  </a:lnTo>
                  <a:lnTo>
                    <a:pt x="2773" y="851"/>
                  </a:lnTo>
                  <a:lnTo>
                    <a:pt x="2824" y="844"/>
                  </a:lnTo>
                  <a:lnTo>
                    <a:pt x="2874" y="840"/>
                  </a:lnTo>
                  <a:lnTo>
                    <a:pt x="2924" y="836"/>
                  </a:lnTo>
                  <a:lnTo>
                    <a:pt x="2975" y="832"/>
                  </a:lnTo>
                  <a:lnTo>
                    <a:pt x="3026" y="830"/>
                  </a:lnTo>
                  <a:lnTo>
                    <a:pt x="3077" y="829"/>
                  </a:lnTo>
                  <a:lnTo>
                    <a:pt x="3128" y="829"/>
                  </a:lnTo>
                  <a:lnTo>
                    <a:pt x="3179" y="829"/>
                  </a:lnTo>
                  <a:lnTo>
                    <a:pt x="3229" y="830"/>
                  </a:lnTo>
                  <a:lnTo>
                    <a:pt x="3278" y="832"/>
                  </a:lnTo>
                  <a:lnTo>
                    <a:pt x="3328" y="834"/>
                  </a:lnTo>
                  <a:lnTo>
                    <a:pt x="3377" y="838"/>
                  </a:lnTo>
                  <a:lnTo>
                    <a:pt x="3424" y="842"/>
                  </a:lnTo>
                  <a:lnTo>
                    <a:pt x="3472" y="846"/>
                  </a:lnTo>
                  <a:lnTo>
                    <a:pt x="3519" y="852"/>
                  </a:lnTo>
                  <a:lnTo>
                    <a:pt x="3564" y="858"/>
                  </a:lnTo>
                  <a:lnTo>
                    <a:pt x="3608" y="866"/>
                  </a:lnTo>
                  <a:lnTo>
                    <a:pt x="3652" y="873"/>
                  </a:lnTo>
                  <a:lnTo>
                    <a:pt x="3693" y="881"/>
                  </a:lnTo>
                  <a:lnTo>
                    <a:pt x="3734" y="889"/>
                  </a:lnTo>
                  <a:lnTo>
                    <a:pt x="3773" y="899"/>
                  </a:lnTo>
                  <a:lnTo>
                    <a:pt x="3785" y="900"/>
                  </a:lnTo>
                  <a:lnTo>
                    <a:pt x="3797" y="902"/>
                  </a:lnTo>
                  <a:lnTo>
                    <a:pt x="3810" y="906"/>
                  </a:lnTo>
                  <a:lnTo>
                    <a:pt x="3825" y="911"/>
                  </a:lnTo>
                  <a:lnTo>
                    <a:pt x="3857" y="922"/>
                  </a:lnTo>
                  <a:lnTo>
                    <a:pt x="3893" y="936"/>
                  </a:lnTo>
                  <a:lnTo>
                    <a:pt x="3928" y="950"/>
                  </a:lnTo>
                  <a:lnTo>
                    <a:pt x="3966" y="962"/>
                  </a:lnTo>
                  <a:lnTo>
                    <a:pt x="3984" y="967"/>
                  </a:lnTo>
                  <a:lnTo>
                    <a:pt x="4002" y="971"/>
                  </a:lnTo>
                  <a:lnTo>
                    <a:pt x="4020" y="973"/>
                  </a:lnTo>
                  <a:lnTo>
                    <a:pt x="4038" y="974"/>
                  </a:lnTo>
                  <a:lnTo>
                    <a:pt x="4014" y="947"/>
                  </a:lnTo>
                  <a:lnTo>
                    <a:pt x="3987" y="920"/>
                  </a:lnTo>
                  <a:lnTo>
                    <a:pt x="3959" y="893"/>
                  </a:lnTo>
                  <a:lnTo>
                    <a:pt x="3929" y="867"/>
                  </a:lnTo>
                  <a:lnTo>
                    <a:pt x="3898" y="841"/>
                  </a:lnTo>
                  <a:lnTo>
                    <a:pt x="3866" y="815"/>
                  </a:lnTo>
                  <a:lnTo>
                    <a:pt x="3832" y="791"/>
                  </a:lnTo>
                  <a:lnTo>
                    <a:pt x="3798" y="767"/>
                  </a:lnTo>
                  <a:lnTo>
                    <a:pt x="3764" y="743"/>
                  </a:lnTo>
                  <a:lnTo>
                    <a:pt x="3729" y="721"/>
                  </a:lnTo>
                  <a:lnTo>
                    <a:pt x="3694" y="699"/>
                  </a:lnTo>
                  <a:lnTo>
                    <a:pt x="3661" y="679"/>
                  </a:lnTo>
                  <a:lnTo>
                    <a:pt x="3628" y="660"/>
                  </a:lnTo>
                  <a:lnTo>
                    <a:pt x="3596" y="643"/>
                  </a:lnTo>
                  <a:lnTo>
                    <a:pt x="3566" y="626"/>
                  </a:lnTo>
                  <a:lnTo>
                    <a:pt x="3537" y="611"/>
                  </a:lnTo>
                  <a:lnTo>
                    <a:pt x="3514" y="601"/>
                  </a:lnTo>
                  <a:lnTo>
                    <a:pt x="3492" y="589"/>
                  </a:lnTo>
                  <a:lnTo>
                    <a:pt x="3469" y="575"/>
                  </a:lnTo>
                  <a:lnTo>
                    <a:pt x="3448" y="560"/>
                  </a:lnTo>
                  <a:lnTo>
                    <a:pt x="3424" y="544"/>
                  </a:lnTo>
                  <a:lnTo>
                    <a:pt x="3402" y="527"/>
                  </a:lnTo>
                  <a:lnTo>
                    <a:pt x="3379" y="508"/>
                  </a:lnTo>
                  <a:lnTo>
                    <a:pt x="3357" y="489"/>
                  </a:lnTo>
                  <a:lnTo>
                    <a:pt x="3312" y="448"/>
                  </a:lnTo>
                  <a:lnTo>
                    <a:pt x="3267" y="406"/>
                  </a:lnTo>
                  <a:lnTo>
                    <a:pt x="3221" y="360"/>
                  </a:lnTo>
                  <a:lnTo>
                    <a:pt x="3178" y="315"/>
                  </a:lnTo>
                  <a:lnTo>
                    <a:pt x="3134" y="269"/>
                  </a:lnTo>
                  <a:lnTo>
                    <a:pt x="3091" y="225"/>
                  </a:lnTo>
                  <a:lnTo>
                    <a:pt x="3049" y="182"/>
                  </a:lnTo>
                  <a:lnTo>
                    <a:pt x="3008" y="142"/>
                  </a:lnTo>
                  <a:lnTo>
                    <a:pt x="2988" y="123"/>
                  </a:lnTo>
                  <a:lnTo>
                    <a:pt x="2968" y="105"/>
                  </a:lnTo>
                  <a:lnTo>
                    <a:pt x="2948" y="88"/>
                  </a:lnTo>
                  <a:lnTo>
                    <a:pt x="2930" y="73"/>
                  </a:lnTo>
                  <a:lnTo>
                    <a:pt x="2910" y="58"/>
                  </a:lnTo>
                  <a:lnTo>
                    <a:pt x="2892" y="45"/>
                  </a:lnTo>
                  <a:lnTo>
                    <a:pt x="2874" y="33"/>
                  </a:lnTo>
                  <a:lnTo>
                    <a:pt x="2857" y="24"/>
                  </a:lnTo>
                  <a:lnTo>
                    <a:pt x="2849" y="19"/>
                  </a:lnTo>
                  <a:lnTo>
                    <a:pt x="2841" y="15"/>
                  </a:lnTo>
                  <a:lnTo>
                    <a:pt x="2831" y="11"/>
                  </a:lnTo>
                  <a:lnTo>
                    <a:pt x="2820" y="8"/>
                  </a:lnTo>
                  <a:lnTo>
                    <a:pt x="2809" y="4"/>
                  </a:lnTo>
                  <a:lnTo>
                    <a:pt x="2797" y="2"/>
                  </a:lnTo>
                  <a:lnTo>
                    <a:pt x="2784" y="1"/>
                  </a:lnTo>
                  <a:lnTo>
                    <a:pt x="2771" y="0"/>
                  </a:lnTo>
                  <a:lnTo>
                    <a:pt x="2707" y="38"/>
                  </a:lnTo>
                  <a:lnTo>
                    <a:pt x="2644" y="74"/>
                  </a:lnTo>
                  <a:lnTo>
                    <a:pt x="2581" y="112"/>
                  </a:lnTo>
                  <a:lnTo>
                    <a:pt x="2518" y="150"/>
                  </a:lnTo>
                  <a:lnTo>
                    <a:pt x="2455" y="191"/>
                  </a:lnTo>
                  <a:lnTo>
                    <a:pt x="2391" y="232"/>
                  </a:lnTo>
                  <a:lnTo>
                    <a:pt x="2327" y="276"/>
                  </a:lnTo>
                  <a:lnTo>
                    <a:pt x="2263" y="322"/>
                  </a:lnTo>
                  <a:lnTo>
                    <a:pt x="2196" y="370"/>
                  </a:lnTo>
                  <a:lnTo>
                    <a:pt x="2130" y="423"/>
                  </a:lnTo>
                  <a:lnTo>
                    <a:pt x="2061" y="477"/>
                  </a:lnTo>
                  <a:lnTo>
                    <a:pt x="1991" y="536"/>
                  </a:lnTo>
                  <a:lnTo>
                    <a:pt x="1921" y="600"/>
                  </a:lnTo>
                  <a:lnTo>
                    <a:pt x="1847" y="667"/>
                  </a:lnTo>
                  <a:lnTo>
                    <a:pt x="1771" y="739"/>
                  </a:lnTo>
                  <a:lnTo>
                    <a:pt x="1694" y="817"/>
                  </a:lnTo>
                  <a:lnTo>
                    <a:pt x="1614" y="900"/>
                  </a:lnTo>
                  <a:lnTo>
                    <a:pt x="1531" y="989"/>
                  </a:lnTo>
                  <a:lnTo>
                    <a:pt x="1446" y="1084"/>
                  </a:lnTo>
                  <a:lnTo>
                    <a:pt x="1359" y="1185"/>
                  </a:lnTo>
                  <a:lnTo>
                    <a:pt x="1266" y="1293"/>
                  </a:lnTo>
                  <a:lnTo>
                    <a:pt x="1172" y="1409"/>
                  </a:lnTo>
                  <a:lnTo>
                    <a:pt x="1073" y="1533"/>
                  </a:lnTo>
                  <a:lnTo>
                    <a:pt x="971" y="1665"/>
                  </a:lnTo>
                  <a:lnTo>
                    <a:pt x="865" y="1804"/>
                  </a:lnTo>
                  <a:lnTo>
                    <a:pt x="756" y="1952"/>
                  </a:lnTo>
                  <a:lnTo>
                    <a:pt x="641" y="2108"/>
                  </a:lnTo>
                  <a:lnTo>
                    <a:pt x="523" y="2276"/>
                  </a:lnTo>
                  <a:lnTo>
                    <a:pt x="400" y="2452"/>
                  </a:lnTo>
                  <a:lnTo>
                    <a:pt x="271" y="2638"/>
                  </a:lnTo>
                  <a:lnTo>
                    <a:pt x="138" y="2835"/>
                  </a:lnTo>
                  <a:lnTo>
                    <a:pt x="0" y="3041"/>
                  </a:lnTo>
                  <a:close/>
                  <a:moveTo>
                    <a:pt x="4153" y="1083"/>
                  </a:moveTo>
                  <a:lnTo>
                    <a:pt x="4104" y="1142"/>
                  </a:lnTo>
                  <a:lnTo>
                    <a:pt x="4055" y="1199"/>
                  </a:lnTo>
                  <a:lnTo>
                    <a:pt x="4007" y="1254"/>
                  </a:lnTo>
                  <a:lnTo>
                    <a:pt x="3959" y="1305"/>
                  </a:lnTo>
                  <a:lnTo>
                    <a:pt x="3912" y="1356"/>
                  </a:lnTo>
                  <a:lnTo>
                    <a:pt x="3866" y="1404"/>
                  </a:lnTo>
                  <a:lnTo>
                    <a:pt x="3820" y="1450"/>
                  </a:lnTo>
                  <a:lnTo>
                    <a:pt x="3775" y="1495"/>
                  </a:lnTo>
                  <a:lnTo>
                    <a:pt x="3685" y="1582"/>
                  </a:lnTo>
                  <a:lnTo>
                    <a:pt x="3597" y="1666"/>
                  </a:lnTo>
                  <a:lnTo>
                    <a:pt x="3510" y="1746"/>
                  </a:lnTo>
                  <a:lnTo>
                    <a:pt x="3423" y="1828"/>
                  </a:lnTo>
                  <a:lnTo>
                    <a:pt x="3336" y="1908"/>
                  </a:lnTo>
                  <a:lnTo>
                    <a:pt x="3250" y="1993"/>
                  </a:lnTo>
                  <a:lnTo>
                    <a:pt x="3208" y="2036"/>
                  </a:lnTo>
                  <a:lnTo>
                    <a:pt x="3165" y="2080"/>
                  </a:lnTo>
                  <a:lnTo>
                    <a:pt x="3121" y="2126"/>
                  </a:lnTo>
                  <a:lnTo>
                    <a:pt x="3078" y="2173"/>
                  </a:lnTo>
                  <a:lnTo>
                    <a:pt x="3034" y="2222"/>
                  </a:lnTo>
                  <a:lnTo>
                    <a:pt x="2990" y="2273"/>
                  </a:lnTo>
                  <a:lnTo>
                    <a:pt x="2946" y="2325"/>
                  </a:lnTo>
                  <a:lnTo>
                    <a:pt x="2901" y="2381"/>
                  </a:lnTo>
                  <a:lnTo>
                    <a:pt x="2856" y="2438"/>
                  </a:lnTo>
                  <a:lnTo>
                    <a:pt x="2811" y="2498"/>
                  </a:lnTo>
                  <a:lnTo>
                    <a:pt x="2765" y="2561"/>
                  </a:lnTo>
                  <a:lnTo>
                    <a:pt x="2718" y="2626"/>
                  </a:lnTo>
                  <a:lnTo>
                    <a:pt x="2732" y="2610"/>
                  </a:lnTo>
                  <a:lnTo>
                    <a:pt x="2749" y="2593"/>
                  </a:lnTo>
                  <a:lnTo>
                    <a:pt x="2765" y="2578"/>
                  </a:lnTo>
                  <a:lnTo>
                    <a:pt x="2783" y="2563"/>
                  </a:lnTo>
                  <a:lnTo>
                    <a:pt x="2802" y="2548"/>
                  </a:lnTo>
                  <a:lnTo>
                    <a:pt x="2821" y="2534"/>
                  </a:lnTo>
                  <a:lnTo>
                    <a:pt x="2842" y="2520"/>
                  </a:lnTo>
                  <a:lnTo>
                    <a:pt x="2863" y="2506"/>
                  </a:lnTo>
                  <a:lnTo>
                    <a:pt x="2908" y="2481"/>
                  </a:lnTo>
                  <a:lnTo>
                    <a:pt x="2955" y="2456"/>
                  </a:lnTo>
                  <a:lnTo>
                    <a:pt x="3004" y="2432"/>
                  </a:lnTo>
                  <a:lnTo>
                    <a:pt x="3053" y="2409"/>
                  </a:lnTo>
                  <a:lnTo>
                    <a:pt x="3102" y="2385"/>
                  </a:lnTo>
                  <a:lnTo>
                    <a:pt x="3152" y="2362"/>
                  </a:lnTo>
                  <a:lnTo>
                    <a:pt x="3199" y="2337"/>
                  </a:lnTo>
                  <a:lnTo>
                    <a:pt x="3244" y="2312"/>
                  </a:lnTo>
                  <a:lnTo>
                    <a:pt x="3267" y="2298"/>
                  </a:lnTo>
                  <a:lnTo>
                    <a:pt x="3287" y="2285"/>
                  </a:lnTo>
                  <a:lnTo>
                    <a:pt x="3307" y="2272"/>
                  </a:lnTo>
                  <a:lnTo>
                    <a:pt x="3327" y="2258"/>
                  </a:lnTo>
                  <a:lnTo>
                    <a:pt x="3345" y="2243"/>
                  </a:lnTo>
                  <a:lnTo>
                    <a:pt x="3362" y="2228"/>
                  </a:lnTo>
                  <a:lnTo>
                    <a:pt x="3378" y="2211"/>
                  </a:lnTo>
                  <a:lnTo>
                    <a:pt x="3393" y="2195"/>
                  </a:lnTo>
                  <a:lnTo>
                    <a:pt x="3431" y="2148"/>
                  </a:lnTo>
                  <a:lnTo>
                    <a:pt x="3477" y="2091"/>
                  </a:lnTo>
                  <a:lnTo>
                    <a:pt x="3529" y="2028"/>
                  </a:lnTo>
                  <a:lnTo>
                    <a:pt x="3586" y="1964"/>
                  </a:lnTo>
                  <a:lnTo>
                    <a:pt x="3615" y="1932"/>
                  </a:lnTo>
                  <a:lnTo>
                    <a:pt x="3644" y="1902"/>
                  </a:lnTo>
                  <a:lnTo>
                    <a:pt x="3673" y="1871"/>
                  </a:lnTo>
                  <a:lnTo>
                    <a:pt x="3701" y="1845"/>
                  </a:lnTo>
                  <a:lnTo>
                    <a:pt x="3729" y="1819"/>
                  </a:lnTo>
                  <a:lnTo>
                    <a:pt x="3755" y="1796"/>
                  </a:lnTo>
                  <a:lnTo>
                    <a:pt x="3779" y="1778"/>
                  </a:lnTo>
                  <a:lnTo>
                    <a:pt x="3802" y="1763"/>
                  </a:lnTo>
                  <a:lnTo>
                    <a:pt x="3883" y="1724"/>
                  </a:lnTo>
                  <a:lnTo>
                    <a:pt x="3963" y="1686"/>
                  </a:lnTo>
                  <a:lnTo>
                    <a:pt x="4040" y="1651"/>
                  </a:lnTo>
                  <a:lnTo>
                    <a:pt x="4116" y="1617"/>
                  </a:lnTo>
                  <a:lnTo>
                    <a:pt x="4191" y="1586"/>
                  </a:lnTo>
                  <a:lnTo>
                    <a:pt x="4265" y="1556"/>
                  </a:lnTo>
                  <a:lnTo>
                    <a:pt x="4301" y="1542"/>
                  </a:lnTo>
                  <a:lnTo>
                    <a:pt x="4339" y="1529"/>
                  </a:lnTo>
                  <a:lnTo>
                    <a:pt x="4375" y="1517"/>
                  </a:lnTo>
                  <a:lnTo>
                    <a:pt x="4413" y="1505"/>
                  </a:lnTo>
                  <a:lnTo>
                    <a:pt x="4451" y="1493"/>
                  </a:lnTo>
                  <a:lnTo>
                    <a:pt x="4488" y="1482"/>
                  </a:lnTo>
                  <a:lnTo>
                    <a:pt x="4526" y="1473"/>
                  </a:lnTo>
                  <a:lnTo>
                    <a:pt x="4563" y="1463"/>
                  </a:lnTo>
                  <a:lnTo>
                    <a:pt x="4602" y="1454"/>
                  </a:lnTo>
                  <a:lnTo>
                    <a:pt x="4640" y="1446"/>
                  </a:lnTo>
                  <a:lnTo>
                    <a:pt x="4680" y="1438"/>
                  </a:lnTo>
                  <a:lnTo>
                    <a:pt x="4720" y="1432"/>
                  </a:lnTo>
                  <a:lnTo>
                    <a:pt x="4759" y="1425"/>
                  </a:lnTo>
                  <a:lnTo>
                    <a:pt x="4801" y="1421"/>
                  </a:lnTo>
                  <a:lnTo>
                    <a:pt x="4842" y="1416"/>
                  </a:lnTo>
                  <a:lnTo>
                    <a:pt x="4885" y="1413"/>
                  </a:lnTo>
                  <a:lnTo>
                    <a:pt x="4928" y="1409"/>
                  </a:lnTo>
                  <a:lnTo>
                    <a:pt x="4972" y="1407"/>
                  </a:lnTo>
                  <a:lnTo>
                    <a:pt x="5017" y="1406"/>
                  </a:lnTo>
                  <a:lnTo>
                    <a:pt x="5063" y="1406"/>
                  </a:lnTo>
                  <a:lnTo>
                    <a:pt x="4981" y="1452"/>
                  </a:lnTo>
                  <a:lnTo>
                    <a:pt x="4900" y="1499"/>
                  </a:lnTo>
                  <a:lnTo>
                    <a:pt x="4819" y="1548"/>
                  </a:lnTo>
                  <a:lnTo>
                    <a:pt x="4741" y="1595"/>
                  </a:lnTo>
                  <a:lnTo>
                    <a:pt x="4664" y="1643"/>
                  </a:lnTo>
                  <a:lnTo>
                    <a:pt x="4590" y="1691"/>
                  </a:lnTo>
                  <a:lnTo>
                    <a:pt x="4519" y="1739"/>
                  </a:lnTo>
                  <a:lnTo>
                    <a:pt x="4452" y="1787"/>
                  </a:lnTo>
                  <a:lnTo>
                    <a:pt x="4419" y="1810"/>
                  </a:lnTo>
                  <a:lnTo>
                    <a:pt x="4388" y="1834"/>
                  </a:lnTo>
                  <a:lnTo>
                    <a:pt x="4358" y="1859"/>
                  </a:lnTo>
                  <a:lnTo>
                    <a:pt x="4329" y="1882"/>
                  </a:lnTo>
                  <a:lnTo>
                    <a:pt x="4301" y="1906"/>
                  </a:lnTo>
                  <a:lnTo>
                    <a:pt x="4275" y="1928"/>
                  </a:lnTo>
                  <a:lnTo>
                    <a:pt x="4250" y="1952"/>
                  </a:lnTo>
                  <a:lnTo>
                    <a:pt x="4226" y="1976"/>
                  </a:lnTo>
                  <a:lnTo>
                    <a:pt x="4204" y="1998"/>
                  </a:lnTo>
                  <a:lnTo>
                    <a:pt x="4184" y="2022"/>
                  </a:lnTo>
                  <a:lnTo>
                    <a:pt x="4164" y="2044"/>
                  </a:lnTo>
                  <a:lnTo>
                    <a:pt x="4147" y="2067"/>
                  </a:lnTo>
                  <a:lnTo>
                    <a:pt x="4132" y="2089"/>
                  </a:lnTo>
                  <a:lnTo>
                    <a:pt x="4118" y="2111"/>
                  </a:lnTo>
                  <a:lnTo>
                    <a:pt x="4105" y="2133"/>
                  </a:lnTo>
                  <a:lnTo>
                    <a:pt x="4096" y="2155"/>
                  </a:lnTo>
                  <a:lnTo>
                    <a:pt x="4115" y="2147"/>
                  </a:lnTo>
                  <a:lnTo>
                    <a:pt x="4138" y="2136"/>
                  </a:lnTo>
                  <a:lnTo>
                    <a:pt x="4163" y="2124"/>
                  </a:lnTo>
                  <a:lnTo>
                    <a:pt x="4190" y="2107"/>
                  </a:lnTo>
                  <a:lnTo>
                    <a:pt x="4249" y="2071"/>
                  </a:lnTo>
                  <a:lnTo>
                    <a:pt x="4310" y="2029"/>
                  </a:lnTo>
                  <a:lnTo>
                    <a:pt x="4371" y="1987"/>
                  </a:lnTo>
                  <a:lnTo>
                    <a:pt x="4428" y="1949"/>
                  </a:lnTo>
                  <a:lnTo>
                    <a:pt x="4454" y="1932"/>
                  </a:lnTo>
                  <a:lnTo>
                    <a:pt x="4477" y="1917"/>
                  </a:lnTo>
                  <a:lnTo>
                    <a:pt x="4498" y="1905"/>
                  </a:lnTo>
                  <a:lnTo>
                    <a:pt x="4516" y="1895"/>
                  </a:lnTo>
                  <a:lnTo>
                    <a:pt x="4555" y="1877"/>
                  </a:lnTo>
                  <a:lnTo>
                    <a:pt x="4593" y="1861"/>
                  </a:lnTo>
                  <a:lnTo>
                    <a:pt x="4632" y="1847"/>
                  </a:lnTo>
                  <a:lnTo>
                    <a:pt x="4670" y="1836"/>
                  </a:lnTo>
                  <a:lnTo>
                    <a:pt x="4709" y="1826"/>
                  </a:lnTo>
                  <a:lnTo>
                    <a:pt x="4748" y="1820"/>
                  </a:lnTo>
                  <a:lnTo>
                    <a:pt x="4787" y="1815"/>
                  </a:lnTo>
                  <a:lnTo>
                    <a:pt x="4826" y="1811"/>
                  </a:lnTo>
                  <a:lnTo>
                    <a:pt x="4866" y="1809"/>
                  </a:lnTo>
                  <a:lnTo>
                    <a:pt x="4905" y="1808"/>
                  </a:lnTo>
                  <a:lnTo>
                    <a:pt x="4944" y="1809"/>
                  </a:lnTo>
                  <a:lnTo>
                    <a:pt x="4984" y="1810"/>
                  </a:lnTo>
                  <a:lnTo>
                    <a:pt x="5023" y="1814"/>
                  </a:lnTo>
                  <a:lnTo>
                    <a:pt x="5063" y="1817"/>
                  </a:lnTo>
                  <a:lnTo>
                    <a:pt x="5103" y="1820"/>
                  </a:lnTo>
                  <a:lnTo>
                    <a:pt x="5141" y="1825"/>
                  </a:lnTo>
                  <a:lnTo>
                    <a:pt x="5221" y="1834"/>
                  </a:lnTo>
                  <a:lnTo>
                    <a:pt x="5300" y="1844"/>
                  </a:lnTo>
                  <a:lnTo>
                    <a:pt x="5340" y="1849"/>
                  </a:lnTo>
                  <a:lnTo>
                    <a:pt x="5379" y="1852"/>
                  </a:lnTo>
                  <a:lnTo>
                    <a:pt x="5419" y="1855"/>
                  </a:lnTo>
                  <a:lnTo>
                    <a:pt x="5458" y="1859"/>
                  </a:lnTo>
                  <a:lnTo>
                    <a:pt x="5497" y="1860"/>
                  </a:lnTo>
                  <a:lnTo>
                    <a:pt x="5537" y="1861"/>
                  </a:lnTo>
                  <a:lnTo>
                    <a:pt x="5577" y="1860"/>
                  </a:lnTo>
                  <a:lnTo>
                    <a:pt x="5615" y="1858"/>
                  </a:lnTo>
                  <a:lnTo>
                    <a:pt x="5655" y="1854"/>
                  </a:lnTo>
                  <a:lnTo>
                    <a:pt x="5694" y="1849"/>
                  </a:lnTo>
                  <a:lnTo>
                    <a:pt x="5733" y="1841"/>
                  </a:lnTo>
                  <a:lnTo>
                    <a:pt x="5772" y="1832"/>
                  </a:lnTo>
                  <a:lnTo>
                    <a:pt x="5794" y="1826"/>
                  </a:lnTo>
                  <a:lnTo>
                    <a:pt x="5818" y="1821"/>
                  </a:lnTo>
                  <a:lnTo>
                    <a:pt x="5843" y="1816"/>
                  </a:lnTo>
                  <a:lnTo>
                    <a:pt x="5868" y="1813"/>
                  </a:lnTo>
                  <a:lnTo>
                    <a:pt x="5895" y="1809"/>
                  </a:lnTo>
                  <a:lnTo>
                    <a:pt x="5923" y="1806"/>
                  </a:lnTo>
                  <a:lnTo>
                    <a:pt x="5952" y="1804"/>
                  </a:lnTo>
                  <a:lnTo>
                    <a:pt x="5981" y="1802"/>
                  </a:lnTo>
                  <a:lnTo>
                    <a:pt x="6040" y="1800"/>
                  </a:lnTo>
                  <a:lnTo>
                    <a:pt x="6099" y="1799"/>
                  </a:lnTo>
                  <a:lnTo>
                    <a:pt x="6158" y="1797"/>
                  </a:lnTo>
                  <a:lnTo>
                    <a:pt x="6215" y="1797"/>
                  </a:lnTo>
                  <a:lnTo>
                    <a:pt x="6178" y="1840"/>
                  </a:lnTo>
                  <a:lnTo>
                    <a:pt x="6143" y="1882"/>
                  </a:lnTo>
                  <a:lnTo>
                    <a:pt x="6127" y="1903"/>
                  </a:lnTo>
                  <a:lnTo>
                    <a:pt x="6113" y="1923"/>
                  </a:lnTo>
                  <a:lnTo>
                    <a:pt x="6100" y="1942"/>
                  </a:lnTo>
                  <a:lnTo>
                    <a:pt x="6090" y="1961"/>
                  </a:lnTo>
                  <a:lnTo>
                    <a:pt x="6087" y="1970"/>
                  </a:lnTo>
                  <a:lnTo>
                    <a:pt x="6084" y="1980"/>
                  </a:lnTo>
                  <a:lnTo>
                    <a:pt x="6082" y="1988"/>
                  </a:lnTo>
                  <a:lnTo>
                    <a:pt x="6081" y="1997"/>
                  </a:lnTo>
                  <a:lnTo>
                    <a:pt x="6080" y="2006"/>
                  </a:lnTo>
                  <a:lnTo>
                    <a:pt x="6081" y="2014"/>
                  </a:lnTo>
                  <a:lnTo>
                    <a:pt x="6082" y="2022"/>
                  </a:lnTo>
                  <a:lnTo>
                    <a:pt x="6085" y="2030"/>
                  </a:lnTo>
                  <a:lnTo>
                    <a:pt x="6088" y="2038"/>
                  </a:lnTo>
                  <a:lnTo>
                    <a:pt x="6094" y="2045"/>
                  </a:lnTo>
                  <a:lnTo>
                    <a:pt x="6100" y="2053"/>
                  </a:lnTo>
                  <a:lnTo>
                    <a:pt x="6108" y="2059"/>
                  </a:lnTo>
                  <a:lnTo>
                    <a:pt x="6116" y="2067"/>
                  </a:lnTo>
                  <a:lnTo>
                    <a:pt x="6127" y="2073"/>
                  </a:lnTo>
                  <a:lnTo>
                    <a:pt x="6139" y="2080"/>
                  </a:lnTo>
                  <a:lnTo>
                    <a:pt x="6152" y="2086"/>
                  </a:lnTo>
                  <a:lnTo>
                    <a:pt x="6208" y="2084"/>
                  </a:lnTo>
                  <a:lnTo>
                    <a:pt x="6263" y="2081"/>
                  </a:lnTo>
                  <a:lnTo>
                    <a:pt x="6317" y="2074"/>
                  </a:lnTo>
                  <a:lnTo>
                    <a:pt x="6368" y="2067"/>
                  </a:lnTo>
                  <a:lnTo>
                    <a:pt x="6419" y="2056"/>
                  </a:lnTo>
                  <a:lnTo>
                    <a:pt x="6467" y="2044"/>
                  </a:lnTo>
                  <a:lnTo>
                    <a:pt x="6515" y="2031"/>
                  </a:lnTo>
                  <a:lnTo>
                    <a:pt x="6562" y="2016"/>
                  </a:lnTo>
                  <a:lnTo>
                    <a:pt x="6607" y="2000"/>
                  </a:lnTo>
                  <a:lnTo>
                    <a:pt x="6652" y="1983"/>
                  </a:lnTo>
                  <a:lnTo>
                    <a:pt x="6697" y="1966"/>
                  </a:lnTo>
                  <a:lnTo>
                    <a:pt x="6741" y="1947"/>
                  </a:lnTo>
                  <a:lnTo>
                    <a:pt x="6829" y="1909"/>
                  </a:lnTo>
                  <a:lnTo>
                    <a:pt x="6916" y="1870"/>
                  </a:lnTo>
                  <a:lnTo>
                    <a:pt x="6960" y="1852"/>
                  </a:lnTo>
                  <a:lnTo>
                    <a:pt x="7005" y="1834"/>
                  </a:lnTo>
                  <a:lnTo>
                    <a:pt x="7050" y="1817"/>
                  </a:lnTo>
                  <a:lnTo>
                    <a:pt x="7096" y="1800"/>
                  </a:lnTo>
                  <a:lnTo>
                    <a:pt x="7144" y="1785"/>
                  </a:lnTo>
                  <a:lnTo>
                    <a:pt x="7192" y="1770"/>
                  </a:lnTo>
                  <a:lnTo>
                    <a:pt x="7240" y="1757"/>
                  </a:lnTo>
                  <a:lnTo>
                    <a:pt x="7291" y="1745"/>
                  </a:lnTo>
                  <a:lnTo>
                    <a:pt x="7343" y="1735"/>
                  </a:lnTo>
                  <a:lnTo>
                    <a:pt x="7396" y="1728"/>
                  </a:lnTo>
                  <a:lnTo>
                    <a:pt x="7451" y="1722"/>
                  </a:lnTo>
                  <a:lnTo>
                    <a:pt x="7508" y="1719"/>
                  </a:lnTo>
                  <a:lnTo>
                    <a:pt x="7567" y="1719"/>
                  </a:lnTo>
                  <a:lnTo>
                    <a:pt x="7629" y="1721"/>
                  </a:lnTo>
                  <a:lnTo>
                    <a:pt x="7693" y="1726"/>
                  </a:lnTo>
                  <a:lnTo>
                    <a:pt x="7759" y="1734"/>
                  </a:lnTo>
                  <a:lnTo>
                    <a:pt x="7773" y="1736"/>
                  </a:lnTo>
                  <a:lnTo>
                    <a:pt x="7789" y="1737"/>
                  </a:lnTo>
                  <a:lnTo>
                    <a:pt x="7807" y="1739"/>
                  </a:lnTo>
                  <a:lnTo>
                    <a:pt x="7827" y="1740"/>
                  </a:lnTo>
                  <a:lnTo>
                    <a:pt x="7847" y="1739"/>
                  </a:lnTo>
                  <a:lnTo>
                    <a:pt x="7868" y="1739"/>
                  </a:lnTo>
                  <a:lnTo>
                    <a:pt x="7889" y="1737"/>
                  </a:lnTo>
                  <a:lnTo>
                    <a:pt x="7910" y="1735"/>
                  </a:lnTo>
                  <a:lnTo>
                    <a:pt x="7931" y="1732"/>
                  </a:lnTo>
                  <a:lnTo>
                    <a:pt x="7951" y="1729"/>
                  </a:lnTo>
                  <a:lnTo>
                    <a:pt x="7971" y="1725"/>
                  </a:lnTo>
                  <a:lnTo>
                    <a:pt x="7988" y="1719"/>
                  </a:lnTo>
                  <a:lnTo>
                    <a:pt x="8003" y="1713"/>
                  </a:lnTo>
                  <a:lnTo>
                    <a:pt x="8017" y="1705"/>
                  </a:lnTo>
                  <a:lnTo>
                    <a:pt x="8022" y="1702"/>
                  </a:lnTo>
                  <a:lnTo>
                    <a:pt x="8027" y="1698"/>
                  </a:lnTo>
                  <a:lnTo>
                    <a:pt x="8032" y="1692"/>
                  </a:lnTo>
                  <a:lnTo>
                    <a:pt x="8036" y="1688"/>
                  </a:lnTo>
                  <a:lnTo>
                    <a:pt x="8005" y="1680"/>
                  </a:lnTo>
                  <a:lnTo>
                    <a:pt x="7971" y="1670"/>
                  </a:lnTo>
                  <a:lnTo>
                    <a:pt x="7934" y="1661"/>
                  </a:lnTo>
                  <a:lnTo>
                    <a:pt x="7893" y="1652"/>
                  </a:lnTo>
                  <a:lnTo>
                    <a:pt x="7804" y="1632"/>
                  </a:lnTo>
                  <a:lnTo>
                    <a:pt x="7707" y="1612"/>
                  </a:lnTo>
                  <a:lnTo>
                    <a:pt x="7492" y="1571"/>
                  </a:lnTo>
                  <a:lnTo>
                    <a:pt x="7267" y="1528"/>
                  </a:lnTo>
                  <a:lnTo>
                    <a:pt x="7154" y="1507"/>
                  </a:lnTo>
                  <a:lnTo>
                    <a:pt x="7046" y="1485"/>
                  </a:lnTo>
                  <a:lnTo>
                    <a:pt x="6943" y="1463"/>
                  </a:lnTo>
                  <a:lnTo>
                    <a:pt x="6848" y="1441"/>
                  </a:lnTo>
                  <a:lnTo>
                    <a:pt x="6804" y="1432"/>
                  </a:lnTo>
                  <a:lnTo>
                    <a:pt x="6762" y="1421"/>
                  </a:lnTo>
                  <a:lnTo>
                    <a:pt x="6723" y="1410"/>
                  </a:lnTo>
                  <a:lnTo>
                    <a:pt x="6688" y="1400"/>
                  </a:lnTo>
                  <a:lnTo>
                    <a:pt x="6657" y="1390"/>
                  </a:lnTo>
                  <a:lnTo>
                    <a:pt x="6628" y="1379"/>
                  </a:lnTo>
                  <a:lnTo>
                    <a:pt x="6604" y="1370"/>
                  </a:lnTo>
                  <a:lnTo>
                    <a:pt x="6584" y="1360"/>
                  </a:lnTo>
                  <a:lnTo>
                    <a:pt x="6502" y="1349"/>
                  </a:lnTo>
                  <a:lnTo>
                    <a:pt x="6423" y="1340"/>
                  </a:lnTo>
                  <a:lnTo>
                    <a:pt x="6347" y="1332"/>
                  </a:lnTo>
                  <a:lnTo>
                    <a:pt x="6274" y="1326"/>
                  </a:lnTo>
                  <a:lnTo>
                    <a:pt x="6204" y="1320"/>
                  </a:lnTo>
                  <a:lnTo>
                    <a:pt x="6137" y="1316"/>
                  </a:lnTo>
                  <a:lnTo>
                    <a:pt x="6071" y="1314"/>
                  </a:lnTo>
                  <a:lnTo>
                    <a:pt x="6008" y="1312"/>
                  </a:lnTo>
                  <a:lnTo>
                    <a:pt x="5889" y="1310"/>
                  </a:lnTo>
                  <a:lnTo>
                    <a:pt x="5776" y="1311"/>
                  </a:lnTo>
                  <a:lnTo>
                    <a:pt x="5670" y="1312"/>
                  </a:lnTo>
                  <a:lnTo>
                    <a:pt x="5569" y="1314"/>
                  </a:lnTo>
                  <a:lnTo>
                    <a:pt x="5471" y="1315"/>
                  </a:lnTo>
                  <a:lnTo>
                    <a:pt x="5375" y="1314"/>
                  </a:lnTo>
                  <a:lnTo>
                    <a:pt x="5329" y="1313"/>
                  </a:lnTo>
                  <a:lnTo>
                    <a:pt x="5282" y="1311"/>
                  </a:lnTo>
                  <a:lnTo>
                    <a:pt x="5235" y="1307"/>
                  </a:lnTo>
                  <a:lnTo>
                    <a:pt x="5187" y="1303"/>
                  </a:lnTo>
                  <a:lnTo>
                    <a:pt x="5140" y="1298"/>
                  </a:lnTo>
                  <a:lnTo>
                    <a:pt x="5092" y="1291"/>
                  </a:lnTo>
                  <a:lnTo>
                    <a:pt x="5044" y="1283"/>
                  </a:lnTo>
                  <a:lnTo>
                    <a:pt x="4994" y="1273"/>
                  </a:lnTo>
                  <a:lnTo>
                    <a:pt x="4944" y="1261"/>
                  </a:lnTo>
                  <a:lnTo>
                    <a:pt x="4892" y="1248"/>
                  </a:lnTo>
                  <a:lnTo>
                    <a:pt x="4841" y="1233"/>
                  </a:lnTo>
                  <a:lnTo>
                    <a:pt x="4786" y="1216"/>
                  </a:lnTo>
                  <a:lnTo>
                    <a:pt x="4762" y="1204"/>
                  </a:lnTo>
                  <a:lnTo>
                    <a:pt x="4729" y="1194"/>
                  </a:lnTo>
                  <a:lnTo>
                    <a:pt x="4693" y="1182"/>
                  </a:lnTo>
                  <a:lnTo>
                    <a:pt x="4651" y="1171"/>
                  </a:lnTo>
                  <a:lnTo>
                    <a:pt x="4606" y="1159"/>
                  </a:lnTo>
                  <a:lnTo>
                    <a:pt x="4559" y="1149"/>
                  </a:lnTo>
                  <a:lnTo>
                    <a:pt x="4510" y="1138"/>
                  </a:lnTo>
                  <a:lnTo>
                    <a:pt x="4459" y="1128"/>
                  </a:lnTo>
                  <a:lnTo>
                    <a:pt x="4410" y="1119"/>
                  </a:lnTo>
                  <a:lnTo>
                    <a:pt x="4362" y="1110"/>
                  </a:lnTo>
                  <a:lnTo>
                    <a:pt x="4315" y="1103"/>
                  </a:lnTo>
                  <a:lnTo>
                    <a:pt x="4273" y="1096"/>
                  </a:lnTo>
                  <a:lnTo>
                    <a:pt x="4234" y="1091"/>
                  </a:lnTo>
                  <a:lnTo>
                    <a:pt x="4201" y="1086"/>
                  </a:lnTo>
                  <a:lnTo>
                    <a:pt x="4173" y="1084"/>
                  </a:lnTo>
                  <a:lnTo>
                    <a:pt x="4153" y="108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60040" y="3254400"/>
              <a:ext cx="754920" cy="1173240"/>
            </a:xfrm>
            <a:custGeom>
              <a:avLst/>
              <a:gdLst/>
              <a:ahLst/>
              <a:rect l="l" t="t" r="r" b="b"/>
              <a:pathLst>
                <a:path w="4388" h="7399">
                  <a:moveTo>
                    <a:pt x="4388" y="7141"/>
                  </a:moveTo>
                  <a:lnTo>
                    <a:pt x="4387" y="7127"/>
                  </a:lnTo>
                  <a:lnTo>
                    <a:pt x="4386" y="7110"/>
                  </a:lnTo>
                  <a:lnTo>
                    <a:pt x="4383" y="7093"/>
                  </a:lnTo>
                  <a:lnTo>
                    <a:pt x="4380" y="7076"/>
                  </a:lnTo>
                  <a:lnTo>
                    <a:pt x="4374" y="7057"/>
                  </a:lnTo>
                  <a:lnTo>
                    <a:pt x="4369" y="7036"/>
                  </a:lnTo>
                  <a:lnTo>
                    <a:pt x="4363" y="7016"/>
                  </a:lnTo>
                  <a:lnTo>
                    <a:pt x="4356" y="6995"/>
                  </a:lnTo>
                  <a:lnTo>
                    <a:pt x="4340" y="6950"/>
                  </a:lnTo>
                  <a:lnTo>
                    <a:pt x="4322" y="6902"/>
                  </a:lnTo>
                  <a:lnTo>
                    <a:pt x="4302" y="6854"/>
                  </a:lnTo>
                  <a:lnTo>
                    <a:pt x="4279" y="6806"/>
                  </a:lnTo>
                  <a:lnTo>
                    <a:pt x="4256" y="6758"/>
                  </a:lnTo>
                  <a:lnTo>
                    <a:pt x="4233" y="6710"/>
                  </a:lnTo>
                  <a:lnTo>
                    <a:pt x="4209" y="6667"/>
                  </a:lnTo>
                  <a:lnTo>
                    <a:pt x="4187" y="6625"/>
                  </a:lnTo>
                  <a:lnTo>
                    <a:pt x="4164" y="6586"/>
                  </a:lnTo>
                  <a:lnTo>
                    <a:pt x="4143" y="6553"/>
                  </a:lnTo>
                  <a:lnTo>
                    <a:pt x="4123" y="6524"/>
                  </a:lnTo>
                  <a:lnTo>
                    <a:pt x="4106" y="6501"/>
                  </a:lnTo>
                  <a:lnTo>
                    <a:pt x="4105" y="6413"/>
                  </a:lnTo>
                  <a:lnTo>
                    <a:pt x="4102" y="6327"/>
                  </a:lnTo>
                  <a:lnTo>
                    <a:pt x="4097" y="6240"/>
                  </a:lnTo>
                  <a:lnTo>
                    <a:pt x="4089" y="6153"/>
                  </a:lnTo>
                  <a:lnTo>
                    <a:pt x="4081" y="6066"/>
                  </a:lnTo>
                  <a:lnTo>
                    <a:pt x="4070" y="5979"/>
                  </a:lnTo>
                  <a:lnTo>
                    <a:pt x="4058" y="5893"/>
                  </a:lnTo>
                  <a:lnTo>
                    <a:pt x="4045" y="5806"/>
                  </a:lnTo>
                  <a:lnTo>
                    <a:pt x="4031" y="5721"/>
                  </a:lnTo>
                  <a:lnTo>
                    <a:pt x="4015" y="5635"/>
                  </a:lnTo>
                  <a:lnTo>
                    <a:pt x="3999" y="5549"/>
                  </a:lnTo>
                  <a:lnTo>
                    <a:pt x="3982" y="5463"/>
                  </a:lnTo>
                  <a:lnTo>
                    <a:pt x="3945" y="5293"/>
                  </a:lnTo>
                  <a:lnTo>
                    <a:pt x="3908" y="5123"/>
                  </a:lnTo>
                  <a:lnTo>
                    <a:pt x="3869" y="4954"/>
                  </a:lnTo>
                  <a:lnTo>
                    <a:pt x="3831" y="4786"/>
                  </a:lnTo>
                  <a:lnTo>
                    <a:pt x="3811" y="4701"/>
                  </a:lnTo>
                  <a:lnTo>
                    <a:pt x="3793" y="4617"/>
                  </a:lnTo>
                  <a:lnTo>
                    <a:pt x="3775" y="4533"/>
                  </a:lnTo>
                  <a:lnTo>
                    <a:pt x="3759" y="4450"/>
                  </a:lnTo>
                  <a:lnTo>
                    <a:pt x="3742" y="4367"/>
                  </a:lnTo>
                  <a:lnTo>
                    <a:pt x="3727" y="4284"/>
                  </a:lnTo>
                  <a:lnTo>
                    <a:pt x="3713" y="4201"/>
                  </a:lnTo>
                  <a:lnTo>
                    <a:pt x="3700" y="4117"/>
                  </a:lnTo>
                  <a:lnTo>
                    <a:pt x="3688" y="4035"/>
                  </a:lnTo>
                  <a:lnTo>
                    <a:pt x="3677" y="3952"/>
                  </a:lnTo>
                  <a:lnTo>
                    <a:pt x="3669" y="3871"/>
                  </a:lnTo>
                  <a:lnTo>
                    <a:pt x="3662" y="3788"/>
                  </a:lnTo>
                  <a:lnTo>
                    <a:pt x="3646" y="3775"/>
                  </a:lnTo>
                  <a:lnTo>
                    <a:pt x="3630" y="3760"/>
                  </a:lnTo>
                  <a:lnTo>
                    <a:pt x="3614" y="3744"/>
                  </a:lnTo>
                  <a:lnTo>
                    <a:pt x="3599" y="3726"/>
                  </a:lnTo>
                  <a:lnTo>
                    <a:pt x="3585" y="3707"/>
                  </a:lnTo>
                  <a:lnTo>
                    <a:pt x="3571" y="3686"/>
                  </a:lnTo>
                  <a:lnTo>
                    <a:pt x="3557" y="3665"/>
                  </a:lnTo>
                  <a:lnTo>
                    <a:pt x="3544" y="3642"/>
                  </a:lnTo>
                  <a:lnTo>
                    <a:pt x="3531" y="3618"/>
                  </a:lnTo>
                  <a:lnTo>
                    <a:pt x="3520" y="3593"/>
                  </a:lnTo>
                  <a:lnTo>
                    <a:pt x="3508" y="3567"/>
                  </a:lnTo>
                  <a:lnTo>
                    <a:pt x="3496" y="3542"/>
                  </a:lnTo>
                  <a:lnTo>
                    <a:pt x="3485" y="3514"/>
                  </a:lnTo>
                  <a:lnTo>
                    <a:pt x="3475" y="3486"/>
                  </a:lnTo>
                  <a:lnTo>
                    <a:pt x="3465" y="3458"/>
                  </a:lnTo>
                  <a:lnTo>
                    <a:pt x="3455" y="3429"/>
                  </a:lnTo>
                  <a:lnTo>
                    <a:pt x="3438" y="3370"/>
                  </a:lnTo>
                  <a:lnTo>
                    <a:pt x="3422" y="3311"/>
                  </a:lnTo>
                  <a:lnTo>
                    <a:pt x="3407" y="3251"/>
                  </a:lnTo>
                  <a:lnTo>
                    <a:pt x="3394" y="3191"/>
                  </a:lnTo>
                  <a:lnTo>
                    <a:pt x="3382" y="3133"/>
                  </a:lnTo>
                  <a:lnTo>
                    <a:pt x="3373" y="3076"/>
                  </a:lnTo>
                  <a:lnTo>
                    <a:pt x="3364" y="3021"/>
                  </a:lnTo>
                  <a:lnTo>
                    <a:pt x="3357" y="2970"/>
                  </a:lnTo>
                  <a:lnTo>
                    <a:pt x="3345" y="2889"/>
                  </a:lnTo>
                  <a:lnTo>
                    <a:pt x="3333" y="2812"/>
                  </a:lnTo>
                  <a:lnTo>
                    <a:pt x="3320" y="2738"/>
                  </a:lnTo>
                  <a:lnTo>
                    <a:pt x="3308" y="2669"/>
                  </a:lnTo>
                  <a:lnTo>
                    <a:pt x="3296" y="2602"/>
                  </a:lnTo>
                  <a:lnTo>
                    <a:pt x="3283" y="2538"/>
                  </a:lnTo>
                  <a:lnTo>
                    <a:pt x="3269" y="2477"/>
                  </a:lnTo>
                  <a:lnTo>
                    <a:pt x="3256" y="2418"/>
                  </a:lnTo>
                  <a:lnTo>
                    <a:pt x="3242" y="2361"/>
                  </a:lnTo>
                  <a:lnTo>
                    <a:pt x="3227" y="2306"/>
                  </a:lnTo>
                  <a:lnTo>
                    <a:pt x="3212" y="2254"/>
                  </a:lnTo>
                  <a:lnTo>
                    <a:pt x="3197" y="2202"/>
                  </a:lnTo>
                  <a:lnTo>
                    <a:pt x="3182" y="2152"/>
                  </a:lnTo>
                  <a:lnTo>
                    <a:pt x="3166" y="2102"/>
                  </a:lnTo>
                  <a:lnTo>
                    <a:pt x="3149" y="2053"/>
                  </a:lnTo>
                  <a:lnTo>
                    <a:pt x="3131" y="2005"/>
                  </a:lnTo>
                  <a:lnTo>
                    <a:pt x="3096" y="1908"/>
                  </a:lnTo>
                  <a:lnTo>
                    <a:pt x="3057" y="1811"/>
                  </a:lnTo>
                  <a:lnTo>
                    <a:pt x="3016" y="1710"/>
                  </a:lnTo>
                  <a:lnTo>
                    <a:pt x="2973" y="1604"/>
                  </a:lnTo>
                  <a:lnTo>
                    <a:pt x="2925" y="1491"/>
                  </a:lnTo>
                  <a:lnTo>
                    <a:pt x="2875" y="1368"/>
                  </a:lnTo>
                  <a:lnTo>
                    <a:pt x="2821" y="1234"/>
                  </a:lnTo>
                  <a:lnTo>
                    <a:pt x="2764" y="1087"/>
                  </a:lnTo>
                  <a:lnTo>
                    <a:pt x="2755" y="1060"/>
                  </a:lnTo>
                  <a:lnTo>
                    <a:pt x="2745" y="1033"/>
                  </a:lnTo>
                  <a:lnTo>
                    <a:pt x="2734" y="1005"/>
                  </a:lnTo>
                  <a:lnTo>
                    <a:pt x="2722" y="978"/>
                  </a:lnTo>
                  <a:lnTo>
                    <a:pt x="2709" y="952"/>
                  </a:lnTo>
                  <a:lnTo>
                    <a:pt x="2695" y="925"/>
                  </a:lnTo>
                  <a:lnTo>
                    <a:pt x="2679" y="898"/>
                  </a:lnTo>
                  <a:lnTo>
                    <a:pt x="2663" y="871"/>
                  </a:lnTo>
                  <a:lnTo>
                    <a:pt x="2647" y="844"/>
                  </a:lnTo>
                  <a:lnTo>
                    <a:pt x="2628" y="818"/>
                  </a:lnTo>
                  <a:lnTo>
                    <a:pt x="2610" y="792"/>
                  </a:lnTo>
                  <a:lnTo>
                    <a:pt x="2591" y="766"/>
                  </a:lnTo>
                  <a:lnTo>
                    <a:pt x="2572" y="741"/>
                  </a:lnTo>
                  <a:lnTo>
                    <a:pt x="2551" y="716"/>
                  </a:lnTo>
                  <a:lnTo>
                    <a:pt x="2530" y="691"/>
                  </a:lnTo>
                  <a:lnTo>
                    <a:pt x="2508" y="667"/>
                  </a:lnTo>
                  <a:lnTo>
                    <a:pt x="2487" y="644"/>
                  </a:lnTo>
                  <a:lnTo>
                    <a:pt x="2464" y="620"/>
                  </a:lnTo>
                  <a:lnTo>
                    <a:pt x="2442" y="598"/>
                  </a:lnTo>
                  <a:lnTo>
                    <a:pt x="2419" y="576"/>
                  </a:lnTo>
                  <a:lnTo>
                    <a:pt x="2397" y="555"/>
                  </a:lnTo>
                  <a:lnTo>
                    <a:pt x="2373" y="534"/>
                  </a:lnTo>
                  <a:lnTo>
                    <a:pt x="2350" y="514"/>
                  </a:lnTo>
                  <a:lnTo>
                    <a:pt x="2326" y="495"/>
                  </a:lnTo>
                  <a:lnTo>
                    <a:pt x="2302" y="477"/>
                  </a:lnTo>
                  <a:lnTo>
                    <a:pt x="2279" y="459"/>
                  </a:lnTo>
                  <a:lnTo>
                    <a:pt x="2256" y="442"/>
                  </a:lnTo>
                  <a:lnTo>
                    <a:pt x="2233" y="426"/>
                  </a:lnTo>
                  <a:lnTo>
                    <a:pt x="2209" y="411"/>
                  </a:lnTo>
                  <a:lnTo>
                    <a:pt x="2187" y="397"/>
                  </a:lnTo>
                  <a:lnTo>
                    <a:pt x="2164" y="384"/>
                  </a:lnTo>
                  <a:lnTo>
                    <a:pt x="2142" y="373"/>
                  </a:lnTo>
                  <a:lnTo>
                    <a:pt x="2129" y="364"/>
                  </a:lnTo>
                  <a:lnTo>
                    <a:pt x="2117" y="355"/>
                  </a:lnTo>
                  <a:lnTo>
                    <a:pt x="2104" y="348"/>
                  </a:lnTo>
                  <a:lnTo>
                    <a:pt x="2091" y="341"/>
                  </a:lnTo>
                  <a:lnTo>
                    <a:pt x="2078" y="335"/>
                  </a:lnTo>
                  <a:lnTo>
                    <a:pt x="2065" y="331"/>
                  </a:lnTo>
                  <a:lnTo>
                    <a:pt x="2054" y="325"/>
                  </a:lnTo>
                  <a:lnTo>
                    <a:pt x="2041" y="322"/>
                  </a:lnTo>
                  <a:lnTo>
                    <a:pt x="2028" y="320"/>
                  </a:lnTo>
                  <a:lnTo>
                    <a:pt x="2016" y="319"/>
                  </a:lnTo>
                  <a:lnTo>
                    <a:pt x="2004" y="318"/>
                  </a:lnTo>
                  <a:lnTo>
                    <a:pt x="1992" y="319"/>
                  </a:lnTo>
                  <a:lnTo>
                    <a:pt x="1981" y="321"/>
                  </a:lnTo>
                  <a:lnTo>
                    <a:pt x="1970" y="323"/>
                  </a:lnTo>
                  <a:lnTo>
                    <a:pt x="1958" y="328"/>
                  </a:lnTo>
                  <a:lnTo>
                    <a:pt x="1947" y="333"/>
                  </a:lnTo>
                  <a:lnTo>
                    <a:pt x="1938" y="340"/>
                  </a:lnTo>
                  <a:lnTo>
                    <a:pt x="1928" y="348"/>
                  </a:lnTo>
                  <a:lnTo>
                    <a:pt x="1918" y="358"/>
                  </a:lnTo>
                  <a:lnTo>
                    <a:pt x="1910" y="368"/>
                  </a:lnTo>
                  <a:lnTo>
                    <a:pt x="1901" y="381"/>
                  </a:lnTo>
                  <a:lnTo>
                    <a:pt x="1894" y="395"/>
                  </a:lnTo>
                  <a:lnTo>
                    <a:pt x="1886" y="410"/>
                  </a:lnTo>
                  <a:lnTo>
                    <a:pt x="1880" y="427"/>
                  </a:lnTo>
                  <a:lnTo>
                    <a:pt x="1874" y="445"/>
                  </a:lnTo>
                  <a:lnTo>
                    <a:pt x="1869" y="466"/>
                  </a:lnTo>
                  <a:lnTo>
                    <a:pt x="1864" y="488"/>
                  </a:lnTo>
                  <a:lnTo>
                    <a:pt x="1861" y="512"/>
                  </a:lnTo>
                  <a:lnTo>
                    <a:pt x="1857" y="538"/>
                  </a:lnTo>
                  <a:lnTo>
                    <a:pt x="1855" y="566"/>
                  </a:lnTo>
                  <a:lnTo>
                    <a:pt x="1854" y="595"/>
                  </a:lnTo>
                  <a:lnTo>
                    <a:pt x="1854" y="626"/>
                  </a:lnTo>
                  <a:lnTo>
                    <a:pt x="1823" y="602"/>
                  </a:lnTo>
                  <a:lnTo>
                    <a:pt x="1791" y="575"/>
                  </a:lnTo>
                  <a:lnTo>
                    <a:pt x="1758" y="544"/>
                  </a:lnTo>
                  <a:lnTo>
                    <a:pt x="1722" y="511"/>
                  </a:lnTo>
                  <a:lnTo>
                    <a:pt x="1686" y="474"/>
                  </a:lnTo>
                  <a:lnTo>
                    <a:pt x="1649" y="437"/>
                  </a:lnTo>
                  <a:lnTo>
                    <a:pt x="1613" y="397"/>
                  </a:lnTo>
                  <a:lnTo>
                    <a:pt x="1576" y="358"/>
                  </a:lnTo>
                  <a:lnTo>
                    <a:pt x="1504" y="277"/>
                  </a:lnTo>
                  <a:lnTo>
                    <a:pt x="1438" y="199"/>
                  </a:lnTo>
                  <a:lnTo>
                    <a:pt x="1379" y="128"/>
                  </a:lnTo>
                  <a:lnTo>
                    <a:pt x="1330" y="68"/>
                  </a:lnTo>
                  <a:lnTo>
                    <a:pt x="1303" y="50"/>
                  </a:lnTo>
                  <a:lnTo>
                    <a:pt x="1277" y="36"/>
                  </a:lnTo>
                  <a:lnTo>
                    <a:pt x="1252" y="23"/>
                  </a:lnTo>
                  <a:lnTo>
                    <a:pt x="1227" y="13"/>
                  </a:lnTo>
                  <a:lnTo>
                    <a:pt x="1203" y="7"/>
                  </a:lnTo>
                  <a:lnTo>
                    <a:pt x="1179" y="3"/>
                  </a:lnTo>
                  <a:lnTo>
                    <a:pt x="1156" y="0"/>
                  </a:lnTo>
                  <a:lnTo>
                    <a:pt x="1133" y="0"/>
                  </a:lnTo>
                  <a:lnTo>
                    <a:pt x="1112" y="3"/>
                  </a:lnTo>
                  <a:lnTo>
                    <a:pt x="1092" y="8"/>
                  </a:lnTo>
                  <a:lnTo>
                    <a:pt x="1071" y="14"/>
                  </a:lnTo>
                  <a:lnTo>
                    <a:pt x="1052" y="23"/>
                  </a:lnTo>
                  <a:lnTo>
                    <a:pt x="1034" y="34"/>
                  </a:lnTo>
                  <a:lnTo>
                    <a:pt x="1016" y="47"/>
                  </a:lnTo>
                  <a:lnTo>
                    <a:pt x="999" y="60"/>
                  </a:lnTo>
                  <a:lnTo>
                    <a:pt x="984" y="77"/>
                  </a:lnTo>
                  <a:lnTo>
                    <a:pt x="969" y="94"/>
                  </a:lnTo>
                  <a:lnTo>
                    <a:pt x="955" y="113"/>
                  </a:lnTo>
                  <a:lnTo>
                    <a:pt x="944" y="133"/>
                  </a:lnTo>
                  <a:lnTo>
                    <a:pt x="932" y="155"/>
                  </a:lnTo>
                  <a:lnTo>
                    <a:pt x="922" y="178"/>
                  </a:lnTo>
                  <a:lnTo>
                    <a:pt x="912" y="203"/>
                  </a:lnTo>
                  <a:lnTo>
                    <a:pt x="905" y="229"/>
                  </a:lnTo>
                  <a:lnTo>
                    <a:pt x="898" y="256"/>
                  </a:lnTo>
                  <a:lnTo>
                    <a:pt x="893" y="284"/>
                  </a:lnTo>
                  <a:lnTo>
                    <a:pt x="890" y="311"/>
                  </a:lnTo>
                  <a:lnTo>
                    <a:pt x="887" y="341"/>
                  </a:lnTo>
                  <a:lnTo>
                    <a:pt x="886" y="371"/>
                  </a:lnTo>
                  <a:lnTo>
                    <a:pt x="887" y="403"/>
                  </a:lnTo>
                  <a:lnTo>
                    <a:pt x="889" y="435"/>
                  </a:lnTo>
                  <a:lnTo>
                    <a:pt x="892" y="467"/>
                  </a:lnTo>
                  <a:lnTo>
                    <a:pt x="897" y="499"/>
                  </a:lnTo>
                  <a:lnTo>
                    <a:pt x="1179" y="983"/>
                  </a:lnTo>
                  <a:lnTo>
                    <a:pt x="1163" y="981"/>
                  </a:lnTo>
                  <a:lnTo>
                    <a:pt x="1147" y="976"/>
                  </a:lnTo>
                  <a:lnTo>
                    <a:pt x="1131" y="970"/>
                  </a:lnTo>
                  <a:lnTo>
                    <a:pt x="1116" y="962"/>
                  </a:lnTo>
                  <a:lnTo>
                    <a:pt x="1101" y="954"/>
                  </a:lnTo>
                  <a:lnTo>
                    <a:pt x="1087" y="945"/>
                  </a:lnTo>
                  <a:lnTo>
                    <a:pt x="1073" y="934"/>
                  </a:lnTo>
                  <a:lnTo>
                    <a:pt x="1059" y="923"/>
                  </a:lnTo>
                  <a:lnTo>
                    <a:pt x="1045" y="910"/>
                  </a:lnTo>
                  <a:lnTo>
                    <a:pt x="1033" y="897"/>
                  </a:lnTo>
                  <a:lnTo>
                    <a:pt x="1020" y="884"/>
                  </a:lnTo>
                  <a:lnTo>
                    <a:pt x="1007" y="869"/>
                  </a:lnTo>
                  <a:lnTo>
                    <a:pt x="982" y="840"/>
                  </a:lnTo>
                  <a:lnTo>
                    <a:pt x="957" y="809"/>
                  </a:lnTo>
                  <a:lnTo>
                    <a:pt x="933" y="778"/>
                  </a:lnTo>
                  <a:lnTo>
                    <a:pt x="908" y="748"/>
                  </a:lnTo>
                  <a:lnTo>
                    <a:pt x="883" y="720"/>
                  </a:lnTo>
                  <a:lnTo>
                    <a:pt x="858" y="693"/>
                  </a:lnTo>
                  <a:lnTo>
                    <a:pt x="845" y="681"/>
                  </a:lnTo>
                  <a:lnTo>
                    <a:pt x="832" y="670"/>
                  </a:lnTo>
                  <a:lnTo>
                    <a:pt x="819" y="660"/>
                  </a:lnTo>
                  <a:lnTo>
                    <a:pt x="805" y="650"/>
                  </a:lnTo>
                  <a:lnTo>
                    <a:pt x="791" y="643"/>
                  </a:lnTo>
                  <a:lnTo>
                    <a:pt x="777" y="635"/>
                  </a:lnTo>
                  <a:lnTo>
                    <a:pt x="762" y="630"/>
                  </a:lnTo>
                  <a:lnTo>
                    <a:pt x="747" y="626"/>
                  </a:lnTo>
                  <a:lnTo>
                    <a:pt x="739" y="622"/>
                  </a:lnTo>
                  <a:lnTo>
                    <a:pt x="730" y="619"/>
                  </a:lnTo>
                  <a:lnTo>
                    <a:pt x="722" y="617"/>
                  </a:lnTo>
                  <a:lnTo>
                    <a:pt x="712" y="617"/>
                  </a:lnTo>
                  <a:lnTo>
                    <a:pt x="703" y="617"/>
                  </a:lnTo>
                  <a:lnTo>
                    <a:pt x="694" y="619"/>
                  </a:lnTo>
                  <a:lnTo>
                    <a:pt x="685" y="621"/>
                  </a:lnTo>
                  <a:lnTo>
                    <a:pt x="675" y="625"/>
                  </a:lnTo>
                  <a:lnTo>
                    <a:pt x="667" y="629"/>
                  </a:lnTo>
                  <a:lnTo>
                    <a:pt x="658" y="634"/>
                  </a:lnTo>
                  <a:lnTo>
                    <a:pt x="649" y="641"/>
                  </a:lnTo>
                  <a:lnTo>
                    <a:pt x="640" y="646"/>
                  </a:lnTo>
                  <a:lnTo>
                    <a:pt x="623" y="661"/>
                  </a:lnTo>
                  <a:lnTo>
                    <a:pt x="606" y="677"/>
                  </a:lnTo>
                  <a:lnTo>
                    <a:pt x="590" y="695"/>
                  </a:lnTo>
                  <a:lnTo>
                    <a:pt x="575" y="714"/>
                  </a:lnTo>
                  <a:lnTo>
                    <a:pt x="561" y="732"/>
                  </a:lnTo>
                  <a:lnTo>
                    <a:pt x="548" y="750"/>
                  </a:lnTo>
                  <a:lnTo>
                    <a:pt x="536" y="767"/>
                  </a:lnTo>
                  <a:lnTo>
                    <a:pt x="526" y="784"/>
                  </a:lnTo>
                  <a:lnTo>
                    <a:pt x="518" y="798"/>
                  </a:lnTo>
                  <a:lnTo>
                    <a:pt x="511" y="810"/>
                  </a:lnTo>
                  <a:lnTo>
                    <a:pt x="505" y="850"/>
                  </a:lnTo>
                  <a:lnTo>
                    <a:pt x="502" y="889"/>
                  </a:lnTo>
                  <a:lnTo>
                    <a:pt x="502" y="928"/>
                  </a:lnTo>
                  <a:lnTo>
                    <a:pt x="506" y="968"/>
                  </a:lnTo>
                  <a:lnTo>
                    <a:pt x="513" y="1007"/>
                  </a:lnTo>
                  <a:lnTo>
                    <a:pt x="524" y="1048"/>
                  </a:lnTo>
                  <a:lnTo>
                    <a:pt x="537" y="1090"/>
                  </a:lnTo>
                  <a:lnTo>
                    <a:pt x="553" y="1132"/>
                  </a:lnTo>
                  <a:lnTo>
                    <a:pt x="572" y="1175"/>
                  </a:lnTo>
                  <a:lnTo>
                    <a:pt x="594" y="1219"/>
                  </a:lnTo>
                  <a:lnTo>
                    <a:pt x="617" y="1265"/>
                  </a:lnTo>
                  <a:lnTo>
                    <a:pt x="643" y="1312"/>
                  </a:lnTo>
                  <a:lnTo>
                    <a:pt x="672" y="1360"/>
                  </a:lnTo>
                  <a:lnTo>
                    <a:pt x="702" y="1411"/>
                  </a:lnTo>
                  <a:lnTo>
                    <a:pt x="734" y="1463"/>
                  </a:lnTo>
                  <a:lnTo>
                    <a:pt x="769" y="1518"/>
                  </a:lnTo>
                  <a:lnTo>
                    <a:pt x="841" y="1634"/>
                  </a:lnTo>
                  <a:lnTo>
                    <a:pt x="918" y="1760"/>
                  </a:lnTo>
                  <a:lnTo>
                    <a:pt x="959" y="1827"/>
                  </a:lnTo>
                  <a:lnTo>
                    <a:pt x="999" y="1898"/>
                  </a:lnTo>
                  <a:lnTo>
                    <a:pt x="1041" y="1972"/>
                  </a:lnTo>
                  <a:lnTo>
                    <a:pt x="1084" y="2048"/>
                  </a:lnTo>
                  <a:lnTo>
                    <a:pt x="1127" y="2128"/>
                  </a:lnTo>
                  <a:lnTo>
                    <a:pt x="1170" y="2213"/>
                  </a:lnTo>
                  <a:lnTo>
                    <a:pt x="1214" y="2301"/>
                  </a:lnTo>
                  <a:lnTo>
                    <a:pt x="1257" y="2393"/>
                  </a:lnTo>
                  <a:lnTo>
                    <a:pt x="1300" y="2488"/>
                  </a:lnTo>
                  <a:lnTo>
                    <a:pt x="1342" y="2589"/>
                  </a:lnTo>
                  <a:lnTo>
                    <a:pt x="1385" y="2694"/>
                  </a:lnTo>
                  <a:lnTo>
                    <a:pt x="1427" y="2804"/>
                  </a:lnTo>
                  <a:lnTo>
                    <a:pt x="1458" y="2885"/>
                  </a:lnTo>
                  <a:lnTo>
                    <a:pt x="1490" y="2965"/>
                  </a:lnTo>
                  <a:lnTo>
                    <a:pt x="1525" y="3043"/>
                  </a:lnTo>
                  <a:lnTo>
                    <a:pt x="1560" y="3120"/>
                  </a:lnTo>
                  <a:lnTo>
                    <a:pt x="1597" y="3195"/>
                  </a:lnTo>
                  <a:lnTo>
                    <a:pt x="1633" y="3268"/>
                  </a:lnTo>
                  <a:lnTo>
                    <a:pt x="1671" y="3339"/>
                  </a:lnTo>
                  <a:lnTo>
                    <a:pt x="1708" y="3409"/>
                  </a:lnTo>
                  <a:lnTo>
                    <a:pt x="1746" y="3475"/>
                  </a:lnTo>
                  <a:lnTo>
                    <a:pt x="1783" y="3539"/>
                  </a:lnTo>
                  <a:lnTo>
                    <a:pt x="1821" y="3602"/>
                  </a:lnTo>
                  <a:lnTo>
                    <a:pt x="1858" y="3662"/>
                  </a:lnTo>
                  <a:lnTo>
                    <a:pt x="1895" y="3720"/>
                  </a:lnTo>
                  <a:lnTo>
                    <a:pt x="1930" y="3774"/>
                  </a:lnTo>
                  <a:lnTo>
                    <a:pt x="1965" y="3826"/>
                  </a:lnTo>
                  <a:lnTo>
                    <a:pt x="1998" y="3875"/>
                  </a:lnTo>
                  <a:lnTo>
                    <a:pt x="1993" y="3877"/>
                  </a:lnTo>
                  <a:lnTo>
                    <a:pt x="1989" y="3878"/>
                  </a:lnTo>
                  <a:lnTo>
                    <a:pt x="1984" y="3879"/>
                  </a:lnTo>
                  <a:lnTo>
                    <a:pt x="1978" y="3879"/>
                  </a:lnTo>
                  <a:lnTo>
                    <a:pt x="1973" y="3878"/>
                  </a:lnTo>
                  <a:lnTo>
                    <a:pt x="1967" y="3877"/>
                  </a:lnTo>
                  <a:lnTo>
                    <a:pt x="1961" y="3875"/>
                  </a:lnTo>
                  <a:lnTo>
                    <a:pt x="1955" y="3872"/>
                  </a:lnTo>
                  <a:lnTo>
                    <a:pt x="1941" y="3865"/>
                  </a:lnTo>
                  <a:lnTo>
                    <a:pt x="1927" y="3856"/>
                  </a:lnTo>
                  <a:lnTo>
                    <a:pt x="1913" y="3845"/>
                  </a:lnTo>
                  <a:lnTo>
                    <a:pt x="1899" y="3833"/>
                  </a:lnTo>
                  <a:lnTo>
                    <a:pt x="1885" y="3819"/>
                  </a:lnTo>
                  <a:lnTo>
                    <a:pt x="1872" y="3805"/>
                  </a:lnTo>
                  <a:lnTo>
                    <a:pt x="1862" y="3789"/>
                  </a:lnTo>
                  <a:lnTo>
                    <a:pt x="1851" y="3774"/>
                  </a:lnTo>
                  <a:lnTo>
                    <a:pt x="1842" y="3758"/>
                  </a:lnTo>
                  <a:lnTo>
                    <a:pt x="1836" y="3743"/>
                  </a:lnTo>
                  <a:lnTo>
                    <a:pt x="1834" y="3736"/>
                  </a:lnTo>
                  <a:lnTo>
                    <a:pt x="1832" y="3728"/>
                  </a:lnTo>
                  <a:lnTo>
                    <a:pt x="1830" y="3721"/>
                  </a:lnTo>
                  <a:lnTo>
                    <a:pt x="1830" y="3713"/>
                  </a:lnTo>
                  <a:lnTo>
                    <a:pt x="1824" y="3693"/>
                  </a:lnTo>
                  <a:lnTo>
                    <a:pt x="1817" y="3671"/>
                  </a:lnTo>
                  <a:lnTo>
                    <a:pt x="1807" y="3649"/>
                  </a:lnTo>
                  <a:lnTo>
                    <a:pt x="1796" y="3626"/>
                  </a:lnTo>
                  <a:lnTo>
                    <a:pt x="1784" y="3602"/>
                  </a:lnTo>
                  <a:lnTo>
                    <a:pt x="1771" y="3578"/>
                  </a:lnTo>
                  <a:lnTo>
                    <a:pt x="1758" y="3552"/>
                  </a:lnTo>
                  <a:lnTo>
                    <a:pt x="1743" y="3526"/>
                  </a:lnTo>
                  <a:lnTo>
                    <a:pt x="1709" y="3475"/>
                  </a:lnTo>
                  <a:lnTo>
                    <a:pt x="1673" y="3422"/>
                  </a:lnTo>
                  <a:lnTo>
                    <a:pt x="1635" y="3371"/>
                  </a:lnTo>
                  <a:lnTo>
                    <a:pt x="1596" y="3320"/>
                  </a:lnTo>
                  <a:lnTo>
                    <a:pt x="1556" y="3270"/>
                  </a:lnTo>
                  <a:lnTo>
                    <a:pt x="1515" y="3223"/>
                  </a:lnTo>
                  <a:lnTo>
                    <a:pt x="1477" y="3179"/>
                  </a:lnTo>
                  <a:lnTo>
                    <a:pt x="1438" y="3139"/>
                  </a:lnTo>
                  <a:lnTo>
                    <a:pt x="1403" y="3104"/>
                  </a:lnTo>
                  <a:lnTo>
                    <a:pt x="1370" y="3074"/>
                  </a:lnTo>
                  <a:lnTo>
                    <a:pt x="1355" y="3061"/>
                  </a:lnTo>
                  <a:lnTo>
                    <a:pt x="1341" y="3050"/>
                  </a:lnTo>
                  <a:lnTo>
                    <a:pt x="1330" y="3041"/>
                  </a:lnTo>
                  <a:lnTo>
                    <a:pt x="1318" y="3033"/>
                  </a:lnTo>
                  <a:lnTo>
                    <a:pt x="1292" y="3014"/>
                  </a:lnTo>
                  <a:lnTo>
                    <a:pt x="1259" y="2986"/>
                  </a:lnTo>
                  <a:lnTo>
                    <a:pt x="1242" y="2970"/>
                  </a:lnTo>
                  <a:lnTo>
                    <a:pt x="1223" y="2953"/>
                  </a:lnTo>
                  <a:lnTo>
                    <a:pt x="1205" y="2933"/>
                  </a:lnTo>
                  <a:lnTo>
                    <a:pt x="1187" y="2915"/>
                  </a:lnTo>
                  <a:lnTo>
                    <a:pt x="1170" y="2896"/>
                  </a:lnTo>
                  <a:lnTo>
                    <a:pt x="1153" y="2877"/>
                  </a:lnTo>
                  <a:lnTo>
                    <a:pt x="1138" y="2857"/>
                  </a:lnTo>
                  <a:lnTo>
                    <a:pt x="1125" y="2838"/>
                  </a:lnTo>
                  <a:lnTo>
                    <a:pt x="1114" y="2821"/>
                  </a:lnTo>
                  <a:lnTo>
                    <a:pt x="1105" y="2804"/>
                  </a:lnTo>
                  <a:lnTo>
                    <a:pt x="1103" y="2796"/>
                  </a:lnTo>
                  <a:lnTo>
                    <a:pt x="1101" y="2789"/>
                  </a:lnTo>
                  <a:lnTo>
                    <a:pt x="1099" y="2781"/>
                  </a:lnTo>
                  <a:lnTo>
                    <a:pt x="1099" y="2775"/>
                  </a:lnTo>
                  <a:lnTo>
                    <a:pt x="1089" y="2764"/>
                  </a:lnTo>
                  <a:lnTo>
                    <a:pt x="1064" y="2735"/>
                  </a:lnTo>
                  <a:lnTo>
                    <a:pt x="1043" y="2713"/>
                  </a:lnTo>
                  <a:lnTo>
                    <a:pt x="1018" y="2687"/>
                  </a:lnTo>
                  <a:lnTo>
                    <a:pt x="986" y="2657"/>
                  </a:lnTo>
                  <a:lnTo>
                    <a:pt x="950" y="2624"/>
                  </a:lnTo>
                  <a:lnTo>
                    <a:pt x="906" y="2586"/>
                  </a:lnTo>
                  <a:lnTo>
                    <a:pt x="856" y="2545"/>
                  </a:lnTo>
                  <a:lnTo>
                    <a:pt x="799" y="2501"/>
                  </a:lnTo>
                  <a:lnTo>
                    <a:pt x="733" y="2454"/>
                  </a:lnTo>
                  <a:lnTo>
                    <a:pt x="698" y="2429"/>
                  </a:lnTo>
                  <a:lnTo>
                    <a:pt x="660" y="2404"/>
                  </a:lnTo>
                  <a:lnTo>
                    <a:pt x="621" y="2378"/>
                  </a:lnTo>
                  <a:lnTo>
                    <a:pt x="579" y="2351"/>
                  </a:lnTo>
                  <a:lnTo>
                    <a:pt x="536" y="2324"/>
                  </a:lnTo>
                  <a:lnTo>
                    <a:pt x="490" y="2296"/>
                  </a:lnTo>
                  <a:lnTo>
                    <a:pt x="442" y="2267"/>
                  </a:lnTo>
                  <a:lnTo>
                    <a:pt x="390" y="2239"/>
                  </a:lnTo>
                  <a:lnTo>
                    <a:pt x="372" y="2229"/>
                  </a:lnTo>
                  <a:lnTo>
                    <a:pt x="353" y="2219"/>
                  </a:lnTo>
                  <a:lnTo>
                    <a:pt x="333" y="2212"/>
                  </a:lnTo>
                  <a:lnTo>
                    <a:pt x="314" y="2205"/>
                  </a:lnTo>
                  <a:lnTo>
                    <a:pt x="295" y="2200"/>
                  </a:lnTo>
                  <a:lnTo>
                    <a:pt x="274" y="2196"/>
                  </a:lnTo>
                  <a:lnTo>
                    <a:pt x="255" y="2192"/>
                  </a:lnTo>
                  <a:lnTo>
                    <a:pt x="236" y="2190"/>
                  </a:lnTo>
                  <a:lnTo>
                    <a:pt x="216" y="2190"/>
                  </a:lnTo>
                  <a:lnTo>
                    <a:pt x="197" y="2190"/>
                  </a:lnTo>
                  <a:lnTo>
                    <a:pt x="179" y="2192"/>
                  </a:lnTo>
                  <a:lnTo>
                    <a:pt x="161" y="2196"/>
                  </a:lnTo>
                  <a:lnTo>
                    <a:pt x="142" y="2201"/>
                  </a:lnTo>
                  <a:lnTo>
                    <a:pt x="125" y="2206"/>
                  </a:lnTo>
                  <a:lnTo>
                    <a:pt x="109" y="2214"/>
                  </a:lnTo>
                  <a:lnTo>
                    <a:pt x="94" y="2222"/>
                  </a:lnTo>
                  <a:lnTo>
                    <a:pt x="79" y="2232"/>
                  </a:lnTo>
                  <a:lnTo>
                    <a:pt x="65" y="2244"/>
                  </a:lnTo>
                  <a:lnTo>
                    <a:pt x="52" y="2257"/>
                  </a:lnTo>
                  <a:lnTo>
                    <a:pt x="42" y="2271"/>
                  </a:lnTo>
                  <a:lnTo>
                    <a:pt x="31" y="2287"/>
                  </a:lnTo>
                  <a:lnTo>
                    <a:pt x="22" y="2303"/>
                  </a:lnTo>
                  <a:lnTo>
                    <a:pt x="15" y="2322"/>
                  </a:lnTo>
                  <a:lnTo>
                    <a:pt x="8" y="2341"/>
                  </a:lnTo>
                  <a:lnTo>
                    <a:pt x="3" y="2363"/>
                  </a:lnTo>
                  <a:lnTo>
                    <a:pt x="1" y="2387"/>
                  </a:lnTo>
                  <a:lnTo>
                    <a:pt x="0" y="2410"/>
                  </a:lnTo>
                  <a:lnTo>
                    <a:pt x="0" y="2437"/>
                  </a:lnTo>
                  <a:lnTo>
                    <a:pt x="2" y="2464"/>
                  </a:lnTo>
                  <a:lnTo>
                    <a:pt x="6" y="2493"/>
                  </a:lnTo>
                  <a:lnTo>
                    <a:pt x="14" y="2524"/>
                  </a:lnTo>
                  <a:lnTo>
                    <a:pt x="22" y="2556"/>
                  </a:lnTo>
                  <a:lnTo>
                    <a:pt x="55" y="2599"/>
                  </a:lnTo>
                  <a:lnTo>
                    <a:pt x="87" y="2640"/>
                  </a:lnTo>
                  <a:lnTo>
                    <a:pt x="114" y="2679"/>
                  </a:lnTo>
                  <a:lnTo>
                    <a:pt x="140" y="2717"/>
                  </a:lnTo>
                  <a:lnTo>
                    <a:pt x="188" y="2787"/>
                  </a:lnTo>
                  <a:lnTo>
                    <a:pt x="235" y="2851"/>
                  </a:lnTo>
                  <a:lnTo>
                    <a:pt x="257" y="2881"/>
                  </a:lnTo>
                  <a:lnTo>
                    <a:pt x="282" y="2910"/>
                  </a:lnTo>
                  <a:lnTo>
                    <a:pt x="308" y="2938"/>
                  </a:lnTo>
                  <a:lnTo>
                    <a:pt x="335" y="2966"/>
                  </a:lnTo>
                  <a:lnTo>
                    <a:pt x="350" y="2978"/>
                  </a:lnTo>
                  <a:lnTo>
                    <a:pt x="365" y="2992"/>
                  </a:lnTo>
                  <a:lnTo>
                    <a:pt x="382" y="3005"/>
                  </a:lnTo>
                  <a:lnTo>
                    <a:pt x="399" y="3018"/>
                  </a:lnTo>
                  <a:lnTo>
                    <a:pt x="417" y="3031"/>
                  </a:lnTo>
                  <a:lnTo>
                    <a:pt x="436" y="3043"/>
                  </a:lnTo>
                  <a:lnTo>
                    <a:pt x="456" y="3056"/>
                  </a:lnTo>
                  <a:lnTo>
                    <a:pt x="477" y="3069"/>
                  </a:lnTo>
                  <a:lnTo>
                    <a:pt x="500" y="3084"/>
                  </a:lnTo>
                  <a:lnTo>
                    <a:pt x="522" y="3100"/>
                  </a:lnTo>
                  <a:lnTo>
                    <a:pt x="545" y="3118"/>
                  </a:lnTo>
                  <a:lnTo>
                    <a:pt x="567" y="3137"/>
                  </a:lnTo>
                  <a:lnTo>
                    <a:pt x="589" y="3158"/>
                  </a:lnTo>
                  <a:lnTo>
                    <a:pt x="609" y="3179"/>
                  </a:lnTo>
                  <a:lnTo>
                    <a:pt x="629" y="3202"/>
                  </a:lnTo>
                  <a:lnTo>
                    <a:pt x="648" y="3224"/>
                  </a:lnTo>
                  <a:lnTo>
                    <a:pt x="665" y="3247"/>
                  </a:lnTo>
                  <a:lnTo>
                    <a:pt x="681" y="3269"/>
                  </a:lnTo>
                  <a:lnTo>
                    <a:pt x="695" y="3292"/>
                  </a:lnTo>
                  <a:lnTo>
                    <a:pt x="708" y="3314"/>
                  </a:lnTo>
                  <a:lnTo>
                    <a:pt x="718" y="3337"/>
                  </a:lnTo>
                  <a:lnTo>
                    <a:pt x="727" y="3357"/>
                  </a:lnTo>
                  <a:lnTo>
                    <a:pt x="732" y="3377"/>
                  </a:lnTo>
                  <a:lnTo>
                    <a:pt x="737" y="3397"/>
                  </a:lnTo>
                  <a:lnTo>
                    <a:pt x="746" y="3410"/>
                  </a:lnTo>
                  <a:lnTo>
                    <a:pt x="759" y="3424"/>
                  </a:lnTo>
                  <a:lnTo>
                    <a:pt x="772" y="3439"/>
                  </a:lnTo>
                  <a:lnTo>
                    <a:pt x="787" y="3454"/>
                  </a:lnTo>
                  <a:lnTo>
                    <a:pt x="820" y="3487"/>
                  </a:lnTo>
                  <a:lnTo>
                    <a:pt x="857" y="3521"/>
                  </a:lnTo>
                  <a:lnTo>
                    <a:pt x="896" y="3558"/>
                  </a:lnTo>
                  <a:lnTo>
                    <a:pt x="936" y="3596"/>
                  </a:lnTo>
                  <a:lnTo>
                    <a:pt x="978" y="3636"/>
                  </a:lnTo>
                  <a:lnTo>
                    <a:pt x="1019" y="3678"/>
                  </a:lnTo>
                  <a:lnTo>
                    <a:pt x="1038" y="3698"/>
                  </a:lnTo>
                  <a:lnTo>
                    <a:pt x="1057" y="3720"/>
                  </a:lnTo>
                  <a:lnTo>
                    <a:pt x="1075" y="3741"/>
                  </a:lnTo>
                  <a:lnTo>
                    <a:pt x="1094" y="3762"/>
                  </a:lnTo>
                  <a:lnTo>
                    <a:pt x="1111" y="3784"/>
                  </a:lnTo>
                  <a:lnTo>
                    <a:pt x="1126" y="3805"/>
                  </a:lnTo>
                  <a:lnTo>
                    <a:pt x="1141" y="3827"/>
                  </a:lnTo>
                  <a:lnTo>
                    <a:pt x="1154" y="3848"/>
                  </a:lnTo>
                  <a:lnTo>
                    <a:pt x="1166" y="3870"/>
                  </a:lnTo>
                  <a:lnTo>
                    <a:pt x="1176" y="3892"/>
                  </a:lnTo>
                  <a:lnTo>
                    <a:pt x="1185" y="3914"/>
                  </a:lnTo>
                  <a:lnTo>
                    <a:pt x="1191" y="3935"/>
                  </a:lnTo>
                  <a:lnTo>
                    <a:pt x="1196" y="3957"/>
                  </a:lnTo>
                  <a:lnTo>
                    <a:pt x="1199" y="3977"/>
                  </a:lnTo>
                  <a:lnTo>
                    <a:pt x="1199" y="3998"/>
                  </a:lnTo>
                  <a:lnTo>
                    <a:pt x="1197" y="4019"/>
                  </a:lnTo>
                  <a:lnTo>
                    <a:pt x="1197" y="4026"/>
                  </a:lnTo>
                  <a:lnTo>
                    <a:pt x="1199" y="4035"/>
                  </a:lnTo>
                  <a:lnTo>
                    <a:pt x="1203" y="4044"/>
                  </a:lnTo>
                  <a:lnTo>
                    <a:pt x="1208" y="4053"/>
                  </a:lnTo>
                  <a:lnTo>
                    <a:pt x="1215" y="4063"/>
                  </a:lnTo>
                  <a:lnTo>
                    <a:pt x="1223" y="4073"/>
                  </a:lnTo>
                  <a:lnTo>
                    <a:pt x="1232" y="4083"/>
                  </a:lnTo>
                  <a:lnTo>
                    <a:pt x="1242" y="4094"/>
                  </a:lnTo>
                  <a:lnTo>
                    <a:pt x="1261" y="4114"/>
                  </a:lnTo>
                  <a:lnTo>
                    <a:pt x="1281" y="4133"/>
                  </a:lnTo>
                  <a:lnTo>
                    <a:pt x="1299" y="4152"/>
                  </a:lnTo>
                  <a:lnTo>
                    <a:pt x="1312" y="4169"/>
                  </a:lnTo>
                  <a:lnTo>
                    <a:pt x="1312" y="4212"/>
                  </a:lnTo>
                  <a:lnTo>
                    <a:pt x="1314" y="4256"/>
                  </a:lnTo>
                  <a:lnTo>
                    <a:pt x="1316" y="4301"/>
                  </a:lnTo>
                  <a:lnTo>
                    <a:pt x="1319" y="4346"/>
                  </a:lnTo>
                  <a:lnTo>
                    <a:pt x="1322" y="4392"/>
                  </a:lnTo>
                  <a:lnTo>
                    <a:pt x="1326" y="4438"/>
                  </a:lnTo>
                  <a:lnTo>
                    <a:pt x="1332" y="4484"/>
                  </a:lnTo>
                  <a:lnTo>
                    <a:pt x="1337" y="4531"/>
                  </a:lnTo>
                  <a:lnTo>
                    <a:pt x="1349" y="4626"/>
                  </a:lnTo>
                  <a:lnTo>
                    <a:pt x="1364" y="4721"/>
                  </a:lnTo>
                  <a:lnTo>
                    <a:pt x="1380" y="4818"/>
                  </a:lnTo>
                  <a:lnTo>
                    <a:pt x="1398" y="4913"/>
                  </a:lnTo>
                  <a:lnTo>
                    <a:pt x="1416" y="5010"/>
                  </a:lnTo>
                  <a:lnTo>
                    <a:pt x="1436" y="5104"/>
                  </a:lnTo>
                  <a:lnTo>
                    <a:pt x="1455" y="5197"/>
                  </a:lnTo>
                  <a:lnTo>
                    <a:pt x="1474" y="5291"/>
                  </a:lnTo>
                  <a:lnTo>
                    <a:pt x="1513" y="5469"/>
                  </a:lnTo>
                  <a:lnTo>
                    <a:pt x="1548" y="5637"/>
                  </a:lnTo>
                  <a:lnTo>
                    <a:pt x="1558" y="5715"/>
                  </a:lnTo>
                  <a:lnTo>
                    <a:pt x="1567" y="5787"/>
                  </a:lnTo>
                  <a:lnTo>
                    <a:pt x="1573" y="5854"/>
                  </a:lnTo>
                  <a:lnTo>
                    <a:pt x="1580" y="5916"/>
                  </a:lnTo>
                  <a:lnTo>
                    <a:pt x="1590" y="6031"/>
                  </a:lnTo>
                  <a:lnTo>
                    <a:pt x="1602" y="6137"/>
                  </a:lnTo>
                  <a:lnTo>
                    <a:pt x="1607" y="6189"/>
                  </a:lnTo>
                  <a:lnTo>
                    <a:pt x="1615" y="6242"/>
                  </a:lnTo>
                  <a:lnTo>
                    <a:pt x="1623" y="6295"/>
                  </a:lnTo>
                  <a:lnTo>
                    <a:pt x="1634" y="6351"/>
                  </a:lnTo>
                  <a:lnTo>
                    <a:pt x="1646" y="6410"/>
                  </a:lnTo>
                  <a:lnTo>
                    <a:pt x="1661" y="6472"/>
                  </a:lnTo>
                  <a:lnTo>
                    <a:pt x="1678" y="6539"/>
                  </a:lnTo>
                  <a:lnTo>
                    <a:pt x="1699" y="6611"/>
                  </a:lnTo>
                  <a:lnTo>
                    <a:pt x="1713" y="6644"/>
                  </a:lnTo>
                  <a:lnTo>
                    <a:pt x="1729" y="6679"/>
                  </a:lnTo>
                  <a:lnTo>
                    <a:pt x="1747" y="6716"/>
                  </a:lnTo>
                  <a:lnTo>
                    <a:pt x="1765" y="6752"/>
                  </a:lnTo>
                  <a:lnTo>
                    <a:pt x="1806" y="6827"/>
                  </a:lnTo>
                  <a:lnTo>
                    <a:pt x="1849" y="6905"/>
                  </a:lnTo>
                  <a:lnTo>
                    <a:pt x="1894" y="6981"/>
                  </a:lnTo>
                  <a:lnTo>
                    <a:pt x="1940" y="7056"/>
                  </a:lnTo>
                  <a:lnTo>
                    <a:pt x="1984" y="7129"/>
                  </a:lnTo>
                  <a:lnTo>
                    <a:pt x="2027" y="7198"/>
                  </a:lnTo>
                  <a:lnTo>
                    <a:pt x="2029" y="7212"/>
                  </a:lnTo>
                  <a:lnTo>
                    <a:pt x="2032" y="7226"/>
                  </a:lnTo>
                  <a:lnTo>
                    <a:pt x="2036" y="7241"/>
                  </a:lnTo>
                  <a:lnTo>
                    <a:pt x="2041" y="7256"/>
                  </a:lnTo>
                  <a:lnTo>
                    <a:pt x="2051" y="7285"/>
                  </a:lnTo>
                  <a:lnTo>
                    <a:pt x="2062" y="7314"/>
                  </a:lnTo>
                  <a:lnTo>
                    <a:pt x="2073" y="7340"/>
                  </a:lnTo>
                  <a:lnTo>
                    <a:pt x="2081" y="7364"/>
                  </a:lnTo>
                  <a:lnTo>
                    <a:pt x="2085" y="7374"/>
                  </a:lnTo>
                  <a:lnTo>
                    <a:pt x="2088" y="7384"/>
                  </a:lnTo>
                  <a:lnTo>
                    <a:pt x="2089" y="7393"/>
                  </a:lnTo>
                  <a:lnTo>
                    <a:pt x="2090" y="7399"/>
                  </a:lnTo>
                  <a:lnTo>
                    <a:pt x="2113" y="7374"/>
                  </a:lnTo>
                  <a:lnTo>
                    <a:pt x="2138" y="7350"/>
                  </a:lnTo>
                  <a:lnTo>
                    <a:pt x="2165" y="7325"/>
                  </a:lnTo>
                  <a:lnTo>
                    <a:pt x="2193" y="7300"/>
                  </a:lnTo>
                  <a:lnTo>
                    <a:pt x="2224" y="7277"/>
                  </a:lnTo>
                  <a:lnTo>
                    <a:pt x="2255" y="7253"/>
                  </a:lnTo>
                  <a:lnTo>
                    <a:pt x="2288" y="7230"/>
                  </a:lnTo>
                  <a:lnTo>
                    <a:pt x="2324" y="7207"/>
                  </a:lnTo>
                  <a:lnTo>
                    <a:pt x="2359" y="7184"/>
                  </a:lnTo>
                  <a:lnTo>
                    <a:pt x="2397" y="7163"/>
                  </a:lnTo>
                  <a:lnTo>
                    <a:pt x="2435" y="7143"/>
                  </a:lnTo>
                  <a:lnTo>
                    <a:pt x="2475" y="7122"/>
                  </a:lnTo>
                  <a:lnTo>
                    <a:pt x="2516" y="7102"/>
                  </a:lnTo>
                  <a:lnTo>
                    <a:pt x="2558" y="7084"/>
                  </a:lnTo>
                  <a:lnTo>
                    <a:pt x="2601" y="7065"/>
                  </a:lnTo>
                  <a:lnTo>
                    <a:pt x="2643" y="7047"/>
                  </a:lnTo>
                  <a:lnTo>
                    <a:pt x="2687" y="7031"/>
                  </a:lnTo>
                  <a:lnTo>
                    <a:pt x="2731" y="7015"/>
                  </a:lnTo>
                  <a:lnTo>
                    <a:pt x="2777" y="7000"/>
                  </a:lnTo>
                  <a:lnTo>
                    <a:pt x="2823" y="6986"/>
                  </a:lnTo>
                  <a:lnTo>
                    <a:pt x="2869" y="6972"/>
                  </a:lnTo>
                  <a:lnTo>
                    <a:pt x="2915" y="6960"/>
                  </a:lnTo>
                  <a:lnTo>
                    <a:pt x="2961" y="6949"/>
                  </a:lnTo>
                  <a:lnTo>
                    <a:pt x="3007" y="6939"/>
                  </a:lnTo>
                  <a:lnTo>
                    <a:pt x="3054" y="6929"/>
                  </a:lnTo>
                  <a:lnTo>
                    <a:pt x="3100" y="6922"/>
                  </a:lnTo>
                  <a:lnTo>
                    <a:pt x="3146" y="6914"/>
                  </a:lnTo>
                  <a:lnTo>
                    <a:pt x="3194" y="6909"/>
                  </a:lnTo>
                  <a:lnTo>
                    <a:pt x="3239" y="6905"/>
                  </a:lnTo>
                  <a:lnTo>
                    <a:pt x="3285" y="6901"/>
                  </a:lnTo>
                  <a:lnTo>
                    <a:pt x="3330" y="6899"/>
                  </a:lnTo>
                  <a:lnTo>
                    <a:pt x="3374" y="6898"/>
                  </a:lnTo>
                  <a:lnTo>
                    <a:pt x="3396" y="6880"/>
                  </a:lnTo>
                  <a:lnTo>
                    <a:pt x="3420" y="6863"/>
                  </a:lnTo>
                  <a:lnTo>
                    <a:pt x="3442" y="6847"/>
                  </a:lnTo>
                  <a:lnTo>
                    <a:pt x="3467" y="6833"/>
                  </a:lnTo>
                  <a:lnTo>
                    <a:pt x="3491" y="6820"/>
                  </a:lnTo>
                  <a:lnTo>
                    <a:pt x="3515" y="6809"/>
                  </a:lnTo>
                  <a:lnTo>
                    <a:pt x="3540" y="6799"/>
                  </a:lnTo>
                  <a:lnTo>
                    <a:pt x="3565" y="6791"/>
                  </a:lnTo>
                  <a:lnTo>
                    <a:pt x="3590" y="6784"/>
                  </a:lnTo>
                  <a:lnTo>
                    <a:pt x="3615" y="6779"/>
                  </a:lnTo>
                  <a:lnTo>
                    <a:pt x="3641" y="6776"/>
                  </a:lnTo>
                  <a:lnTo>
                    <a:pt x="3667" y="6773"/>
                  </a:lnTo>
                  <a:lnTo>
                    <a:pt x="3692" y="6772"/>
                  </a:lnTo>
                  <a:lnTo>
                    <a:pt x="3718" y="6773"/>
                  </a:lnTo>
                  <a:lnTo>
                    <a:pt x="3744" y="6774"/>
                  </a:lnTo>
                  <a:lnTo>
                    <a:pt x="3768" y="6777"/>
                  </a:lnTo>
                  <a:lnTo>
                    <a:pt x="3794" y="6781"/>
                  </a:lnTo>
                  <a:lnTo>
                    <a:pt x="3819" y="6787"/>
                  </a:lnTo>
                  <a:lnTo>
                    <a:pt x="3845" y="6794"/>
                  </a:lnTo>
                  <a:lnTo>
                    <a:pt x="3869" y="6802"/>
                  </a:lnTo>
                  <a:lnTo>
                    <a:pt x="3893" y="6811"/>
                  </a:lnTo>
                  <a:lnTo>
                    <a:pt x="3918" y="6822"/>
                  </a:lnTo>
                  <a:lnTo>
                    <a:pt x="3941" y="6834"/>
                  </a:lnTo>
                  <a:lnTo>
                    <a:pt x="3964" y="6848"/>
                  </a:lnTo>
                  <a:lnTo>
                    <a:pt x="3986" y="6862"/>
                  </a:lnTo>
                  <a:lnTo>
                    <a:pt x="4009" y="6878"/>
                  </a:lnTo>
                  <a:lnTo>
                    <a:pt x="4030" y="6895"/>
                  </a:lnTo>
                  <a:lnTo>
                    <a:pt x="4052" y="6912"/>
                  </a:lnTo>
                  <a:lnTo>
                    <a:pt x="4072" y="6931"/>
                  </a:lnTo>
                  <a:lnTo>
                    <a:pt x="4091" y="6952"/>
                  </a:lnTo>
                  <a:lnTo>
                    <a:pt x="4111" y="6973"/>
                  </a:lnTo>
                  <a:lnTo>
                    <a:pt x="4129" y="6997"/>
                  </a:lnTo>
                  <a:lnTo>
                    <a:pt x="4388" y="7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60040" y="3254400"/>
              <a:ext cx="754920" cy="1173240"/>
            </a:xfrm>
            <a:custGeom>
              <a:avLst/>
              <a:gdLst/>
              <a:ahLst/>
              <a:rect l="l" t="t" r="r" b="b"/>
              <a:pathLst>
                <a:path w="4388" h="7399">
                  <a:moveTo>
                    <a:pt x="4388" y="7141"/>
                  </a:moveTo>
                  <a:lnTo>
                    <a:pt x="4387" y="7127"/>
                  </a:lnTo>
                  <a:lnTo>
                    <a:pt x="4386" y="7110"/>
                  </a:lnTo>
                  <a:lnTo>
                    <a:pt x="4383" y="7093"/>
                  </a:lnTo>
                  <a:lnTo>
                    <a:pt x="4380" y="7076"/>
                  </a:lnTo>
                  <a:lnTo>
                    <a:pt x="4374" y="7057"/>
                  </a:lnTo>
                  <a:lnTo>
                    <a:pt x="4369" y="7036"/>
                  </a:lnTo>
                  <a:lnTo>
                    <a:pt x="4363" y="7016"/>
                  </a:lnTo>
                  <a:lnTo>
                    <a:pt x="4356" y="6995"/>
                  </a:lnTo>
                  <a:lnTo>
                    <a:pt x="4340" y="6950"/>
                  </a:lnTo>
                  <a:lnTo>
                    <a:pt x="4322" y="6902"/>
                  </a:lnTo>
                  <a:lnTo>
                    <a:pt x="4302" y="6854"/>
                  </a:lnTo>
                  <a:lnTo>
                    <a:pt x="4279" y="6806"/>
                  </a:lnTo>
                  <a:lnTo>
                    <a:pt x="4256" y="6758"/>
                  </a:lnTo>
                  <a:lnTo>
                    <a:pt x="4233" y="6710"/>
                  </a:lnTo>
                  <a:lnTo>
                    <a:pt x="4209" y="6667"/>
                  </a:lnTo>
                  <a:lnTo>
                    <a:pt x="4187" y="6625"/>
                  </a:lnTo>
                  <a:lnTo>
                    <a:pt x="4164" y="6586"/>
                  </a:lnTo>
                  <a:lnTo>
                    <a:pt x="4143" y="6553"/>
                  </a:lnTo>
                  <a:lnTo>
                    <a:pt x="4123" y="6524"/>
                  </a:lnTo>
                  <a:lnTo>
                    <a:pt x="4106" y="6501"/>
                  </a:lnTo>
                  <a:lnTo>
                    <a:pt x="4105" y="6413"/>
                  </a:lnTo>
                  <a:lnTo>
                    <a:pt x="4102" y="6327"/>
                  </a:lnTo>
                  <a:lnTo>
                    <a:pt x="4097" y="6240"/>
                  </a:lnTo>
                  <a:lnTo>
                    <a:pt x="4089" y="6153"/>
                  </a:lnTo>
                  <a:lnTo>
                    <a:pt x="4081" y="6066"/>
                  </a:lnTo>
                  <a:lnTo>
                    <a:pt x="4070" y="5979"/>
                  </a:lnTo>
                  <a:lnTo>
                    <a:pt x="4058" y="5893"/>
                  </a:lnTo>
                  <a:lnTo>
                    <a:pt x="4045" y="5806"/>
                  </a:lnTo>
                  <a:lnTo>
                    <a:pt x="4031" y="5721"/>
                  </a:lnTo>
                  <a:lnTo>
                    <a:pt x="4015" y="5635"/>
                  </a:lnTo>
                  <a:lnTo>
                    <a:pt x="3999" y="5549"/>
                  </a:lnTo>
                  <a:lnTo>
                    <a:pt x="3982" y="5463"/>
                  </a:lnTo>
                  <a:lnTo>
                    <a:pt x="3945" y="5293"/>
                  </a:lnTo>
                  <a:lnTo>
                    <a:pt x="3908" y="5123"/>
                  </a:lnTo>
                  <a:lnTo>
                    <a:pt x="3869" y="4954"/>
                  </a:lnTo>
                  <a:lnTo>
                    <a:pt x="3831" y="4786"/>
                  </a:lnTo>
                  <a:lnTo>
                    <a:pt x="3811" y="4701"/>
                  </a:lnTo>
                  <a:lnTo>
                    <a:pt x="3793" y="4617"/>
                  </a:lnTo>
                  <a:lnTo>
                    <a:pt x="3775" y="4533"/>
                  </a:lnTo>
                  <a:lnTo>
                    <a:pt x="3759" y="4450"/>
                  </a:lnTo>
                  <a:lnTo>
                    <a:pt x="3742" y="4367"/>
                  </a:lnTo>
                  <a:lnTo>
                    <a:pt x="3727" y="4284"/>
                  </a:lnTo>
                  <a:lnTo>
                    <a:pt x="3713" y="4201"/>
                  </a:lnTo>
                  <a:lnTo>
                    <a:pt x="3700" y="4117"/>
                  </a:lnTo>
                  <a:lnTo>
                    <a:pt x="3688" y="4035"/>
                  </a:lnTo>
                  <a:lnTo>
                    <a:pt x="3677" y="3952"/>
                  </a:lnTo>
                  <a:lnTo>
                    <a:pt x="3669" y="3871"/>
                  </a:lnTo>
                  <a:lnTo>
                    <a:pt x="3662" y="3788"/>
                  </a:lnTo>
                  <a:lnTo>
                    <a:pt x="3646" y="3775"/>
                  </a:lnTo>
                  <a:lnTo>
                    <a:pt x="3630" y="3760"/>
                  </a:lnTo>
                  <a:lnTo>
                    <a:pt x="3614" y="3744"/>
                  </a:lnTo>
                  <a:lnTo>
                    <a:pt x="3599" y="3726"/>
                  </a:lnTo>
                  <a:lnTo>
                    <a:pt x="3585" y="3707"/>
                  </a:lnTo>
                  <a:lnTo>
                    <a:pt x="3571" y="3686"/>
                  </a:lnTo>
                  <a:lnTo>
                    <a:pt x="3557" y="3665"/>
                  </a:lnTo>
                  <a:lnTo>
                    <a:pt x="3544" y="3642"/>
                  </a:lnTo>
                  <a:lnTo>
                    <a:pt x="3531" y="3618"/>
                  </a:lnTo>
                  <a:lnTo>
                    <a:pt x="3520" y="3593"/>
                  </a:lnTo>
                  <a:lnTo>
                    <a:pt x="3508" y="3567"/>
                  </a:lnTo>
                  <a:lnTo>
                    <a:pt x="3496" y="3542"/>
                  </a:lnTo>
                  <a:lnTo>
                    <a:pt x="3485" y="3514"/>
                  </a:lnTo>
                  <a:lnTo>
                    <a:pt x="3475" y="3486"/>
                  </a:lnTo>
                  <a:lnTo>
                    <a:pt x="3465" y="3458"/>
                  </a:lnTo>
                  <a:lnTo>
                    <a:pt x="3455" y="3429"/>
                  </a:lnTo>
                  <a:lnTo>
                    <a:pt x="3438" y="3370"/>
                  </a:lnTo>
                  <a:lnTo>
                    <a:pt x="3422" y="3311"/>
                  </a:lnTo>
                  <a:lnTo>
                    <a:pt x="3407" y="3251"/>
                  </a:lnTo>
                  <a:lnTo>
                    <a:pt x="3394" y="3191"/>
                  </a:lnTo>
                  <a:lnTo>
                    <a:pt x="3382" y="3133"/>
                  </a:lnTo>
                  <a:lnTo>
                    <a:pt x="3373" y="3076"/>
                  </a:lnTo>
                  <a:lnTo>
                    <a:pt x="3364" y="3021"/>
                  </a:lnTo>
                  <a:lnTo>
                    <a:pt x="3357" y="2970"/>
                  </a:lnTo>
                  <a:lnTo>
                    <a:pt x="3345" y="2889"/>
                  </a:lnTo>
                  <a:lnTo>
                    <a:pt x="3333" y="2812"/>
                  </a:lnTo>
                  <a:lnTo>
                    <a:pt x="3320" y="2738"/>
                  </a:lnTo>
                  <a:lnTo>
                    <a:pt x="3308" y="2669"/>
                  </a:lnTo>
                  <a:lnTo>
                    <a:pt x="3296" y="2602"/>
                  </a:lnTo>
                  <a:lnTo>
                    <a:pt x="3283" y="2538"/>
                  </a:lnTo>
                  <a:lnTo>
                    <a:pt x="3269" y="2477"/>
                  </a:lnTo>
                  <a:lnTo>
                    <a:pt x="3256" y="2418"/>
                  </a:lnTo>
                  <a:lnTo>
                    <a:pt x="3242" y="2361"/>
                  </a:lnTo>
                  <a:lnTo>
                    <a:pt x="3227" y="2306"/>
                  </a:lnTo>
                  <a:lnTo>
                    <a:pt x="3212" y="2254"/>
                  </a:lnTo>
                  <a:lnTo>
                    <a:pt x="3197" y="2202"/>
                  </a:lnTo>
                  <a:lnTo>
                    <a:pt x="3182" y="2152"/>
                  </a:lnTo>
                  <a:lnTo>
                    <a:pt x="3166" y="2102"/>
                  </a:lnTo>
                  <a:lnTo>
                    <a:pt x="3149" y="2053"/>
                  </a:lnTo>
                  <a:lnTo>
                    <a:pt x="3131" y="2005"/>
                  </a:lnTo>
                  <a:lnTo>
                    <a:pt x="3096" y="1908"/>
                  </a:lnTo>
                  <a:lnTo>
                    <a:pt x="3057" y="1811"/>
                  </a:lnTo>
                  <a:lnTo>
                    <a:pt x="3016" y="1710"/>
                  </a:lnTo>
                  <a:lnTo>
                    <a:pt x="2973" y="1604"/>
                  </a:lnTo>
                  <a:lnTo>
                    <a:pt x="2925" y="1491"/>
                  </a:lnTo>
                  <a:lnTo>
                    <a:pt x="2875" y="1368"/>
                  </a:lnTo>
                  <a:lnTo>
                    <a:pt x="2821" y="1234"/>
                  </a:lnTo>
                  <a:lnTo>
                    <a:pt x="2764" y="1087"/>
                  </a:lnTo>
                  <a:lnTo>
                    <a:pt x="2755" y="1060"/>
                  </a:lnTo>
                  <a:lnTo>
                    <a:pt x="2745" y="1033"/>
                  </a:lnTo>
                  <a:lnTo>
                    <a:pt x="2734" y="1005"/>
                  </a:lnTo>
                  <a:lnTo>
                    <a:pt x="2722" y="978"/>
                  </a:lnTo>
                  <a:lnTo>
                    <a:pt x="2709" y="952"/>
                  </a:lnTo>
                  <a:lnTo>
                    <a:pt x="2695" y="925"/>
                  </a:lnTo>
                  <a:lnTo>
                    <a:pt x="2679" y="898"/>
                  </a:lnTo>
                  <a:lnTo>
                    <a:pt x="2663" y="871"/>
                  </a:lnTo>
                  <a:lnTo>
                    <a:pt x="2647" y="844"/>
                  </a:lnTo>
                  <a:lnTo>
                    <a:pt x="2628" y="818"/>
                  </a:lnTo>
                  <a:lnTo>
                    <a:pt x="2610" y="792"/>
                  </a:lnTo>
                  <a:lnTo>
                    <a:pt x="2591" y="766"/>
                  </a:lnTo>
                  <a:lnTo>
                    <a:pt x="2572" y="741"/>
                  </a:lnTo>
                  <a:lnTo>
                    <a:pt x="2551" y="716"/>
                  </a:lnTo>
                  <a:lnTo>
                    <a:pt x="2530" y="691"/>
                  </a:lnTo>
                  <a:lnTo>
                    <a:pt x="2508" y="667"/>
                  </a:lnTo>
                  <a:lnTo>
                    <a:pt x="2487" y="644"/>
                  </a:lnTo>
                  <a:lnTo>
                    <a:pt x="2464" y="620"/>
                  </a:lnTo>
                  <a:lnTo>
                    <a:pt x="2442" y="598"/>
                  </a:lnTo>
                  <a:lnTo>
                    <a:pt x="2419" y="576"/>
                  </a:lnTo>
                  <a:lnTo>
                    <a:pt x="2397" y="555"/>
                  </a:lnTo>
                  <a:lnTo>
                    <a:pt x="2373" y="534"/>
                  </a:lnTo>
                  <a:lnTo>
                    <a:pt x="2350" y="514"/>
                  </a:lnTo>
                  <a:lnTo>
                    <a:pt x="2326" y="495"/>
                  </a:lnTo>
                  <a:lnTo>
                    <a:pt x="2302" y="477"/>
                  </a:lnTo>
                  <a:lnTo>
                    <a:pt x="2279" y="459"/>
                  </a:lnTo>
                  <a:lnTo>
                    <a:pt x="2256" y="442"/>
                  </a:lnTo>
                  <a:lnTo>
                    <a:pt x="2233" y="426"/>
                  </a:lnTo>
                  <a:lnTo>
                    <a:pt x="2209" y="411"/>
                  </a:lnTo>
                  <a:lnTo>
                    <a:pt x="2187" y="397"/>
                  </a:lnTo>
                  <a:lnTo>
                    <a:pt x="2164" y="384"/>
                  </a:lnTo>
                  <a:lnTo>
                    <a:pt x="2142" y="373"/>
                  </a:lnTo>
                  <a:lnTo>
                    <a:pt x="2129" y="364"/>
                  </a:lnTo>
                  <a:lnTo>
                    <a:pt x="2117" y="355"/>
                  </a:lnTo>
                  <a:lnTo>
                    <a:pt x="2104" y="348"/>
                  </a:lnTo>
                  <a:lnTo>
                    <a:pt x="2091" y="341"/>
                  </a:lnTo>
                  <a:lnTo>
                    <a:pt x="2078" y="335"/>
                  </a:lnTo>
                  <a:lnTo>
                    <a:pt x="2065" y="331"/>
                  </a:lnTo>
                  <a:lnTo>
                    <a:pt x="2054" y="325"/>
                  </a:lnTo>
                  <a:lnTo>
                    <a:pt x="2041" y="322"/>
                  </a:lnTo>
                  <a:lnTo>
                    <a:pt x="2028" y="320"/>
                  </a:lnTo>
                  <a:lnTo>
                    <a:pt x="2016" y="319"/>
                  </a:lnTo>
                  <a:lnTo>
                    <a:pt x="2004" y="318"/>
                  </a:lnTo>
                  <a:lnTo>
                    <a:pt x="1992" y="319"/>
                  </a:lnTo>
                  <a:lnTo>
                    <a:pt x="1981" y="321"/>
                  </a:lnTo>
                  <a:lnTo>
                    <a:pt x="1970" y="323"/>
                  </a:lnTo>
                  <a:lnTo>
                    <a:pt x="1958" y="328"/>
                  </a:lnTo>
                  <a:lnTo>
                    <a:pt x="1947" y="333"/>
                  </a:lnTo>
                  <a:lnTo>
                    <a:pt x="1938" y="340"/>
                  </a:lnTo>
                  <a:lnTo>
                    <a:pt x="1928" y="348"/>
                  </a:lnTo>
                  <a:lnTo>
                    <a:pt x="1918" y="358"/>
                  </a:lnTo>
                  <a:lnTo>
                    <a:pt x="1910" y="368"/>
                  </a:lnTo>
                  <a:lnTo>
                    <a:pt x="1901" y="381"/>
                  </a:lnTo>
                  <a:lnTo>
                    <a:pt x="1894" y="395"/>
                  </a:lnTo>
                  <a:lnTo>
                    <a:pt x="1886" y="410"/>
                  </a:lnTo>
                  <a:lnTo>
                    <a:pt x="1880" y="427"/>
                  </a:lnTo>
                  <a:lnTo>
                    <a:pt x="1874" y="445"/>
                  </a:lnTo>
                  <a:lnTo>
                    <a:pt x="1869" y="466"/>
                  </a:lnTo>
                  <a:lnTo>
                    <a:pt x="1864" y="488"/>
                  </a:lnTo>
                  <a:lnTo>
                    <a:pt x="1861" y="512"/>
                  </a:lnTo>
                  <a:lnTo>
                    <a:pt x="1857" y="538"/>
                  </a:lnTo>
                  <a:lnTo>
                    <a:pt x="1855" y="566"/>
                  </a:lnTo>
                  <a:lnTo>
                    <a:pt x="1854" y="595"/>
                  </a:lnTo>
                  <a:lnTo>
                    <a:pt x="1854" y="626"/>
                  </a:lnTo>
                  <a:lnTo>
                    <a:pt x="1823" y="602"/>
                  </a:lnTo>
                  <a:lnTo>
                    <a:pt x="1791" y="575"/>
                  </a:lnTo>
                  <a:lnTo>
                    <a:pt x="1758" y="544"/>
                  </a:lnTo>
                  <a:lnTo>
                    <a:pt x="1722" y="511"/>
                  </a:lnTo>
                  <a:lnTo>
                    <a:pt x="1686" y="474"/>
                  </a:lnTo>
                  <a:lnTo>
                    <a:pt x="1649" y="437"/>
                  </a:lnTo>
                  <a:lnTo>
                    <a:pt x="1613" y="397"/>
                  </a:lnTo>
                  <a:lnTo>
                    <a:pt x="1576" y="358"/>
                  </a:lnTo>
                  <a:lnTo>
                    <a:pt x="1504" y="277"/>
                  </a:lnTo>
                  <a:lnTo>
                    <a:pt x="1438" y="199"/>
                  </a:lnTo>
                  <a:lnTo>
                    <a:pt x="1379" y="128"/>
                  </a:lnTo>
                  <a:lnTo>
                    <a:pt x="1330" y="68"/>
                  </a:lnTo>
                  <a:lnTo>
                    <a:pt x="1303" y="50"/>
                  </a:lnTo>
                  <a:lnTo>
                    <a:pt x="1277" y="36"/>
                  </a:lnTo>
                  <a:lnTo>
                    <a:pt x="1252" y="23"/>
                  </a:lnTo>
                  <a:lnTo>
                    <a:pt x="1227" y="13"/>
                  </a:lnTo>
                  <a:lnTo>
                    <a:pt x="1203" y="7"/>
                  </a:lnTo>
                  <a:lnTo>
                    <a:pt x="1179" y="3"/>
                  </a:lnTo>
                  <a:lnTo>
                    <a:pt x="1156" y="0"/>
                  </a:lnTo>
                  <a:lnTo>
                    <a:pt x="1133" y="0"/>
                  </a:lnTo>
                  <a:lnTo>
                    <a:pt x="1112" y="3"/>
                  </a:lnTo>
                  <a:lnTo>
                    <a:pt x="1092" y="8"/>
                  </a:lnTo>
                  <a:lnTo>
                    <a:pt x="1071" y="14"/>
                  </a:lnTo>
                  <a:lnTo>
                    <a:pt x="1052" y="23"/>
                  </a:lnTo>
                  <a:lnTo>
                    <a:pt x="1034" y="34"/>
                  </a:lnTo>
                  <a:lnTo>
                    <a:pt x="1016" y="47"/>
                  </a:lnTo>
                  <a:lnTo>
                    <a:pt x="999" y="60"/>
                  </a:lnTo>
                  <a:lnTo>
                    <a:pt x="984" y="77"/>
                  </a:lnTo>
                  <a:lnTo>
                    <a:pt x="969" y="94"/>
                  </a:lnTo>
                  <a:lnTo>
                    <a:pt x="955" y="113"/>
                  </a:lnTo>
                  <a:lnTo>
                    <a:pt x="944" y="133"/>
                  </a:lnTo>
                  <a:lnTo>
                    <a:pt x="932" y="155"/>
                  </a:lnTo>
                  <a:lnTo>
                    <a:pt x="922" y="178"/>
                  </a:lnTo>
                  <a:lnTo>
                    <a:pt x="912" y="203"/>
                  </a:lnTo>
                  <a:lnTo>
                    <a:pt x="905" y="229"/>
                  </a:lnTo>
                  <a:lnTo>
                    <a:pt x="898" y="256"/>
                  </a:lnTo>
                  <a:lnTo>
                    <a:pt x="893" y="284"/>
                  </a:lnTo>
                  <a:lnTo>
                    <a:pt x="890" y="311"/>
                  </a:lnTo>
                  <a:lnTo>
                    <a:pt x="887" y="341"/>
                  </a:lnTo>
                  <a:lnTo>
                    <a:pt x="886" y="371"/>
                  </a:lnTo>
                  <a:lnTo>
                    <a:pt x="887" y="403"/>
                  </a:lnTo>
                  <a:lnTo>
                    <a:pt x="889" y="435"/>
                  </a:lnTo>
                  <a:lnTo>
                    <a:pt x="892" y="467"/>
                  </a:lnTo>
                  <a:lnTo>
                    <a:pt x="897" y="499"/>
                  </a:lnTo>
                  <a:lnTo>
                    <a:pt x="1179" y="983"/>
                  </a:lnTo>
                  <a:lnTo>
                    <a:pt x="1163" y="981"/>
                  </a:lnTo>
                  <a:lnTo>
                    <a:pt x="1147" y="976"/>
                  </a:lnTo>
                  <a:lnTo>
                    <a:pt x="1131" y="970"/>
                  </a:lnTo>
                  <a:lnTo>
                    <a:pt x="1116" y="962"/>
                  </a:lnTo>
                  <a:lnTo>
                    <a:pt x="1101" y="954"/>
                  </a:lnTo>
                  <a:lnTo>
                    <a:pt x="1087" y="945"/>
                  </a:lnTo>
                  <a:lnTo>
                    <a:pt x="1073" y="934"/>
                  </a:lnTo>
                  <a:lnTo>
                    <a:pt x="1059" y="923"/>
                  </a:lnTo>
                  <a:lnTo>
                    <a:pt x="1045" y="910"/>
                  </a:lnTo>
                  <a:lnTo>
                    <a:pt x="1033" y="897"/>
                  </a:lnTo>
                  <a:lnTo>
                    <a:pt x="1020" y="884"/>
                  </a:lnTo>
                  <a:lnTo>
                    <a:pt x="1007" y="869"/>
                  </a:lnTo>
                  <a:lnTo>
                    <a:pt x="982" y="840"/>
                  </a:lnTo>
                  <a:lnTo>
                    <a:pt x="957" y="809"/>
                  </a:lnTo>
                  <a:lnTo>
                    <a:pt x="933" y="778"/>
                  </a:lnTo>
                  <a:lnTo>
                    <a:pt x="908" y="748"/>
                  </a:lnTo>
                  <a:lnTo>
                    <a:pt x="883" y="720"/>
                  </a:lnTo>
                  <a:lnTo>
                    <a:pt x="858" y="693"/>
                  </a:lnTo>
                  <a:lnTo>
                    <a:pt x="845" y="681"/>
                  </a:lnTo>
                  <a:lnTo>
                    <a:pt x="832" y="670"/>
                  </a:lnTo>
                  <a:lnTo>
                    <a:pt x="819" y="660"/>
                  </a:lnTo>
                  <a:lnTo>
                    <a:pt x="805" y="650"/>
                  </a:lnTo>
                  <a:lnTo>
                    <a:pt x="791" y="643"/>
                  </a:lnTo>
                  <a:lnTo>
                    <a:pt x="777" y="635"/>
                  </a:lnTo>
                  <a:lnTo>
                    <a:pt x="762" y="630"/>
                  </a:lnTo>
                  <a:lnTo>
                    <a:pt x="747" y="626"/>
                  </a:lnTo>
                  <a:lnTo>
                    <a:pt x="739" y="622"/>
                  </a:lnTo>
                  <a:lnTo>
                    <a:pt x="730" y="619"/>
                  </a:lnTo>
                  <a:lnTo>
                    <a:pt x="722" y="617"/>
                  </a:lnTo>
                  <a:lnTo>
                    <a:pt x="712" y="617"/>
                  </a:lnTo>
                  <a:lnTo>
                    <a:pt x="703" y="617"/>
                  </a:lnTo>
                  <a:lnTo>
                    <a:pt x="694" y="619"/>
                  </a:lnTo>
                  <a:lnTo>
                    <a:pt x="685" y="621"/>
                  </a:lnTo>
                  <a:lnTo>
                    <a:pt x="675" y="625"/>
                  </a:lnTo>
                  <a:lnTo>
                    <a:pt x="667" y="629"/>
                  </a:lnTo>
                  <a:lnTo>
                    <a:pt x="658" y="634"/>
                  </a:lnTo>
                  <a:lnTo>
                    <a:pt x="649" y="641"/>
                  </a:lnTo>
                  <a:lnTo>
                    <a:pt x="640" y="646"/>
                  </a:lnTo>
                  <a:lnTo>
                    <a:pt x="623" y="661"/>
                  </a:lnTo>
                  <a:lnTo>
                    <a:pt x="606" y="677"/>
                  </a:lnTo>
                  <a:lnTo>
                    <a:pt x="590" y="695"/>
                  </a:lnTo>
                  <a:lnTo>
                    <a:pt x="575" y="714"/>
                  </a:lnTo>
                  <a:lnTo>
                    <a:pt x="561" y="732"/>
                  </a:lnTo>
                  <a:lnTo>
                    <a:pt x="548" y="750"/>
                  </a:lnTo>
                  <a:lnTo>
                    <a:pt x="536" y="767"/>
                  </a:lnTo>
                  <a:lnTo>
                    <a:pt x="526" y="784"/>
                  </a:lnTo>
                  <a:lnTo>
                    <a:pt x="518" y="798"/>
                  </a:lnTo>
                  <a:lnTo>
                    <a:pt x="511" y="810"/>
                  </a:lnTo>
                  <a:lnTo>
                    <a:pt x="505" y="850"/>
                  </a:lnTo>
                  <a:lnTo>
                    <a:pt x="502" y="889"/>
                  </a:lnTo>
                  <a:lnTo>
                    <a:pt x="502" y="928"/>
                  </a:lnTo>
                  <a:lnTo>
                    <a:pt x="506" y="968"/>
                  </a:lnTo>
                  <a:lnTo>
                    <a:pt x="513" y="1007"/>
                  </a:lnTo>
                  <a:lnTo>
                    <a:pt x="524" y="1048"/>
                  </a:lnTo>
                  <a:lnTo>
                    <a:pt x="537" y="1090"/>
                  </a:lnTo>
                  <a:lnTo>
                    <a:pt x="553" y="1132"/>
                  </a:lnTo>
                  <a:lnTo>
                    <a:pt x="572" y="1175"/>
                  </a:lnTo>
                  <a:lnTo>
                    <a:pt x="594" y="1219"/>
                  </a:lnTo>
                  <a:lnTo>
                    <a:pt x="617" y="1265"/>
                  </a:lnTo>
                  <a:lnTo>
                    <a:pt x="643" y="1312"/>
                  </a:lnTo>
                  <a:lnTo>
                    <a:pt x="672" y="1360"/>
                  </a:lnTo>
                  <a:lnTo>
                    <a:pt x="702" y="1411"/>
                  </a:lnTo>
                  <a:lnTo>
                    <a:pt x="734" y="1463"/>
                  </a:lnTo>
                  <a:lnTo>
                    <a:pt x="769" y="1518"/>
                  </a:lnTo>
                  <a:lnTo>
                    <a:pt x="841" y="1634"/>
                  </a:lnTo>
                  <a:lnTo>
                    <a:pt x="918" y="1760"/>
                  </a:lnTo>
                  <a:lnTo>
                    <a:pt x="959" y="1827"/>
                  </a:lnTo>
                  <a:lnTo>
                    <a:pt x="999" y="1898"/>
                  </a:lnTo>
                  <a:lnTo>
                    <a:pt x="1041" y="1972"/>
                  </a:lnTo>
                  <a:lnTo>
                    <a:pt x="1084" y="2048"/>
                  </a:lnTo>
                  <a:lnTo>
                    <a:pt x="1127" y="2128"/>
                  </a:lnTo>
                  <a:lnTo>
                    <a:pt x="1170" y="2213"/>
                  </a:lnTo>
                  <a:lnTo>
                    <a:pt x="1214" y="2301"/>
                  </a:lnTo>
                  <a:lnTo>
                    <a:pt x="1257" y="2393"/>
                  </a:lnTo>
                  <a:lnTo>
                    <a:pt x="1300" y="2488"/>
                  </a:lnTo>
                  <a:lnTo>
                    <a:pt x="1342" y="2589"/>
                  </a:lnTo>
                  <a:lnTo>
                    <a:pt x="1385" y="2694"/>
                  </a:lnTo>
                  <a:lnTo>
                    <a:pt x="1427" y="2804"/>
                  </a:lnTo>
                  <a:lnTo>
                    <a:pt x="1458" y="2885"/>
                  </a:lnTo>
                  <a:lnTo>
                    <a:pt x="1490" y="2965"/>
                  </a:lnTo>
                  <a:lnTo>
                    <a:pt x="1525" y="3043"/>
                  </a:lnTo>
                  <a:lnTo>
                    <a:pt x="1560" y="3120"/>
                  </a:lnTo>
                  <a:lnTo>
                    <a:pt x="1597" y="3195"/>
                  </a:lnTo>
                  <a:lnTo>
                    <a:pt x="1633" y="3268"/>
                  </a:lnTo>
                  <a:lnTo>
                    <a:pt x="1671" y="3339"/>
                  </a:lnTo>
                  <a:lnTo>
                    <a:pt x="1708" y="3409"/>
                  </a:lnTo>
                  <a:lnTo>
                    <a:pt x="1746" y="3475"/>
                  </a:lnTo>
                  <a:lnTo>
                    <a:pt x="1783" y="3539"/>
                  </a:lnTo>
                  <a:lnTo>
                    <a:pt x="1821" y="3602"/>
                  </a:lnTo>
                  <a:lnTo>
                    <a:pt x="1858" y="3662"/>
                  </a:lnTo>
                  <a:lnTo>
                    <a:pt x="1895" y="3720"/>
                  </a:lnTo>
                  <a:lnTo>
                    <a:pt x="1930" y="3774"/>
                  </a:lnTo>
                  <a:lnTo>
                    <a:pt x="1965" y="3826"/>
                  </a:lnTo>
                  <a:lnTo>
                    <a:pt x="1998" y="3875"/>
                  </a:lnTo>
                  <a:lnTo>
                    <a:pt x="1993" y="3877"/>
                  </a:lnTo>
                  <a:lnTo>
                    <a:pt x="1989" y="3878"/>
                  </a:lnTo>
                  <a:lnTo>
                    <a:pt x="1984" y="3879"/>
                  </a:lnTo>
                  <a:lnTo>
                    <a:pt x="1978" y="3879"/>
                  </a:lnTo>
                  <a:lnTo>
                    <a:pt x="1973" y="3878"/>
                  </a:lnTo>
                  <a:lnTo>
                    <a:pt x="1967" y="3877"/>
                  </a:lnTo>
                  <a:lnTo>
                    <a:pt x="1961" y="3875"/>
                  </a:lnTo>
                  <a:lnTo>
                    <a:pt x="1955" y="3872"/>
                  </a:lnTo>
                  <a:lnTo>
                    <a:pt x="1941" y="3865"/>
                  </a:lnTo>
                  <a:lnTo>
                    <a:pt x="1927" y="3856"/>
                  </a:lnTo>
                  <a:lnTo>
                    <a:pt x="1913" y="3845"/>
                  </a:lnTo>
                  <a:lnTo>
                    <a:pt x="1899" y="3833"/>
                  </a:lnTo>
                  <a:lnTo>
                    <a:pt x="1885" y="3819"/>
                  </a:lnTo>
                  <a:lnTo>
                    <a:pt x="1872" y="3805"/>
                  </a:lnTo>
                  <a:lnTo>
                    <a:pt x="1862" y="3789"/>
                  </a:lnTo>
                  <a:lnTo>
                    <a:pt x="1851" y="3774"/>
                  </a:lnTo>
                  <a:lnTo>
                    <a:pt x="1842" y="3758"/>
                  </a:lnTo>
                  <a:lnTo>
                    <a:pt x="1836" y="3743"/>
                  </a:lnTo>
                  <a:lnTo>
                    <a:pt x="1834" y="3736"/>
                  </a:lnTo>
                  <a:lnTo>
                    <a:pt x="1832" y="3728"/>
                  </a:lnTo>
                  <a:lnTo>
                    <a:pt x="1830" y="3721"/>
                  </a:lnTo>
                  <a:lnTo>
                    <a:pt x="1830" y="3713"/>
                  </a:lnTo>
                  <a:lnTo>
                    <a:pt x="1824" y="3693"/>
                  </a:lnTo>
                  <a:lnTo>
                    <a:pt x="1817" y="3671"/>
                  </a:lnTo>
                  <a:lnTo>
                    <a:pt x="1807" y="3649"/>
                  </a:lnTo>
                  <a:lnTo>
                    <a:pt x="1796" y="3626"/>
                  </a:lnTo>
                  <a:lnTo>
                    <a:pt x="1784" y="3602"/>
                  </a:lnTo>
                  <a:lnTo>
                    <a:pt x="1771" y="3578"/>
                  </a:lnTo>
                  <a:lnTo>
                    <a:pt x="1758" y="3552"/>
                  </a:lnTo>
                  <a:lnTo>
                    <a:pt x="1743" y="3526"/>
                  </a:lnTo>
                  <a:lnTo>
                    <a:pt x="1709" y="3475"/>
                  </a:lnTo>
                  <a:lnTo>
                    <a:pt x="1673" y="3422"/>
                  </a:lnTo>
                  <a:lnTo>
                    <a:pt x="1635" y="3371"/>
                  </a:lnTo>
                  <a:lnTo>
                    <a:pt x="1596" y="3320"/>
                  </a:lnTo>
                  <a:lnTo>
                    <a:pt x="1556" y="3270"/>
                  </a:lnTo>
                  <a:lnTo>
                    <a:pt x="1515" y="3223"/>
                  </a:lnTo>
                  <a:lnTo>
                    <a:pt x="1477" y="3179"/>
                  </a:lnTo>
                  <a:lnTo>
                    <a:pt x="1438" y="3139"/>
                  </a:lnTo>
                  <a:lnTo>
                    <a:pt x="1403" y="3104"/>
                  </a:lnTo>
                  <a:lnTo>
                    <a:pt x="1370" y="3074"/>
                  </a:lnTo>
                  <a:lnTo>
                    <a:pt x="1355" y="3061"/>
                  </a:lnTo>
                  <a:lnTo>
                    <a:pt x="1341" y="3050"/>
                  </a:lnTo>
                  <a:lnTo>
                    <a:pt x="1330" y="3041"/>
                  </a:lnTo>
                  <a:lnTo>
                    <a:pt x="1318" y="3033"/>
                  </a:lnTo>
                  <a:lnTo>
                    <a:pt x="1292" y="3014"/>
                  </a:lnTo>
                  <a:lnTo>
                    <a:pt x="1259" y="2986"/>
                  </a:lnTo>
                  <a:lnTo>
                    <a:pt x="1242" y="2970"/>
                  </a:lnTo>
                  <a:lnTo>
                    <a:pt x="1223" y="2953"/>
                  </a:lnTo>
                  <a:lnTo>
                    <a:pt x="1205" y="2933"/>
                  </a:lnTo>
                  <a:lnTo>
                    <a:pt x="1187" y="2915"/>
                  </a:lnTo>
                  <a:lnTo>
                    <a:pt x="1170" y="2896"/>
                  </a:lnTo>
                  <a:lnTo>
                    <a:pt x="1153" y="2877"/>
                  </a:lnTo>
                  <a:lnTo>
                    <a:pt x="1138" y="2857"/>
                  </a:lnTo>
                  <a:lnTo>
                    <a:pt x="1125" y="2838"/>
                  </a:lnTo>
                  <a:lnTo>
                    <a:pt x="1114" y="2821"/>
                  </a:lnTo>
                  <a:lnTo>
                    <a:pt x="1105" y="2804"/>
                  </a:lnTo>
                  <a:lnTo>
                    <a:pt x="1103" y="2796"/>
                  </a:lnTo>
                  <a:lnTo>
                    <a:pt x="1101" y="2789"/>
                  </a:lnTo>
                  <a:lnTo>
                    <a:pt x="1099" y="2781"/>
                  </a:lnTo>
                  <a:lnTo>
                    <a:pt x="1099" y="2775"/>
                  </a:lnTo>
                  <a:lnTo>
                    <a:pt x="1089" y="2764"/>
                  </a:lnTo>
                  <a:lnTo>
                    <a:pt x="1064" y="2735"/>
                  </a:lnTo>
                  <a:lnTo>
                    <a:pt x="1043" y="2713"/>
                  </a:lnTo>
                  <a:lnTo>
                    <a:pt x="1018" y="2687"/>
                  </a:lnTo>
                  <a:lnTo>
                    <a:pt x="986" y="2657"/>
                  </a:lnTo>
                  <a:lnTo>
                    <a:pt x="950" y="2624"/>
                  </a:lnTo>
                  <a:lnTo>
                    <a:pt x="906" y="2586"/>
                  </a:lnTo>
                  <a:lnTo>
                    <a:pt x="856" y="2545"/>
                  </a:lnTo>
                  <a:lnTo>
                    <a:pt x="799" y="2501"/>
                  </a:lnTo>
                  <a:lnTo>
                    <a:pt x="733" y="2454"/>
                  </a:lnTo>
                  <a:lnTo>
                    <a:pt x="698" y="2429"/>
                  </a:lnTo>
                  <a:lnTo>
                    <a:pt x="660" y="2404"/>
                  </a:lnTo>
                  <a:lnTo>
                    <a:pt x="621" y="2378"/>
                  </a:lnTo>
                  <a:lnTo>
                    <a:pt x="579" y="2351"/>
                  </a:lnTo>
                  <a:lnTo>
                    <a:pt x="536" y="2324"/>
                  </a:lnTo>
                  <a:lnTo>
                    <a:pt x="490" y="2296"/>
                  </a:lnTo>
                  <a:lnTo>
                    <a:pt x="442" y="2267"/>
                  </a:lnTo>
                  <a:lnTo>
                    <a:pt x="390" y="2239"/>
                  </a:lnTo>
                  <a:lnTo>
                    <a:pt x="372" y="2229"/>
                  </a:lnTo>
                  <a:lnTo>
                    <a:pt x="353" y="2219"/>
                  </a:lnTo>
                  <a:lnTo>
                    <a:pt x="333" y="2212"/>
                  </a:lnTo>
                  <a:lnTo>
                    <a:pt x="314" y="2205"/>
                  </a:lnTo>
                  <a:lnTo>
                    <a:pt x="295" y="2200"/>
                  </a:lnTo>
                  <a:lnTo>
                    <a:pt x="274" y="2196"/>
                  </a:lnTo>
                  <a:lnTo>
                    <a:pt x="255" y="2192"/>
                  </a:lnTo>
                  <a:lnTo>
                    <a:pt x="236" y="2190"/>
                  </a:lnTo>
                  <a:lnTo>
                    <a:pt x="216" y="2190"/>
                  </a:lnTo>
                  <a:lnTo>
                    <a:pt x="197" y="2190"/>
                  </a:lnTo>
                  <a:lnTo>
                    <a:pt x="179" y="2192"/>
                  </a:lnTo>
                  <a:lnTo>
                    <a:pt x="161" y="2196"/>
                  </a:lnTo>
                  <a:lnTo>
                    <a:pt x="142" y="2201"/>
                  </a:lnTo>
                  <a:lnTo>
                    <a:pt x="125" y="2206"/>
                  </a:lnTo>
                  <a:lnTo>
                    <a:pt x="109" y="2214"/>
                  </a:lnTo>
                  <a:lnTo>
                    <a:pt x="94" y="2222"/>
                  </a:lnTo>
                  <a:lnTo>
                    <a:pt x="79" y="2232"/>
                  </a:lnTo>
                  <a:lnTo>
                    <a:pt x="65" y="2244"/>
                  </a:lnTo>
                  <a:lnTo>
                    <a:pt x="52" y="2257"/>
                  </a:lnTo>
                  <a:lnTo>
                    <a:pt x="42" y="2271"/>
                  </a:lnTo>
                  <a:lnTo>
                    <a:pt x="31" y="2287"/>
                  </a:lnTo>
                  <a:lnTo>
                    <a:pt x="22" y="2303"/>
                  </a:lnTo>
                  <a:lnTo>
                    <a:pt x="15" y="2322"/>
                  </a:lnTo>
                  <a:lnTo>
                    <a:pt x="8" y="2341"/>
                  </a:lnTo>
                  <a:lnTo>
                    <a:pt x="3" y="2363"/>
                  </a:lnTo>
                  <a:lnTo>
                    <a:pt x="1" y="2387"/>
                  </a:lnTo>
                  <a:lnTo>
                    <a:pt x="0" y="2410"/>
                  </a:lnTo>
                  <a:lnTo>
                    <a:pt x="0" y="2437"/>
                  </a:lnTo>
                  <a:lnTo>
                    <a:pt x="2" y="2464"/>
                  </a:lnTo>
                  <a:lnTo>
                    <a:pt x="6" y="2493"/>
                  </a:lnTo>
                  <a:lnTo>
                    <a:pt x="14" y="2524"/>
                  </a:lnTo>
                  <a:lnTo>
                    <a:pt x="22" y="2556"/>
                  </a:lnTo>
                  <a:lnTo>
                    <a:pt x="55" y="2599"/>
                  </a:lnTo>
                  <a:lnTo>
                    <a:pt x="87" y="2640"/>
                  </a:lnTo>
                  <a:lnTo>
                    <a:pt x="114" y="2679"/>
                  </a:lnTo>
                  <a:lnTo>
                    <a:pt x="140" y="2717"/>
                  </a:lnTo>
                  <a:lnTo>
                    <a:pt x="188" y="2787"/>
                  </a:lnTo>
                  <a:lnTo>
                    <a:pt x="235" y="2851"/>
                  </a:lnTo>
                  <a:lnTo>
                    <a:pt x="257" y="2881"/>
                  </a:lnTo>
                  <a:lnTo>
                    <a:pt x="282" y="2910"/>
                  </a:lnTo>
                  <a:lnTo>
                    <a:pt x="308" y="2938"/>
                  </a:lnTo>
                  <a:lnTo>
                    <a:pt x="335" y="2966"/>
                  </a:lnTo>
                  <a:lnTo>
                    <a:pt x="350" y="2978"/>
                  </a:lnTo>
                  <a:lnTo>
                    <a:pt x="365" y="2992"/>
                  </a:lnTo>
                  <a:lnTo>
                    <a:pt x="382" y="3005"/>
                  </a:lnTo>
                  <a:lnTo>
                    <a:pt x="399" y="3018"/>
                  </a:lnTo>
                  <a:lnTo>
                    <a:pt x="417" y="3031"/>
                  </a:lnTo>
                  <a:lnTo>
                    <a:pt x="436" y="3043"/>
                  </a:lnTo>
                  <a:lnTo>
                    <a:pt x="456" y="3056"/>
                  </a:lnTo>
                  <a:lnTo>
                    <a:pt x="477" y="3069"/>
                  </a:lnTo>
                  <a:lnTo>
                    <a:pt x="500" y="3084"/>
                  </a:lnTo>
                  <a:lnTo>
                    <a:pt x="522" y="3100"/>
                  </a:lnTo>
                  <a:lnTo>
                    <a:pt x="545" y="3118"/>
                  </a:lnTo>
                  <a:lnTo>
                    <a:pt x="567" y="3137"/>
                  </a:lnTo>
                  <a:lnTo>
                    <a:pt x="589" y="3158"/>
                  </a:lnTo>
                  <a:lnTo>
                    <a:pt x="609" y="3179"/>
                  </a:lnTo>
                  <a:lnTo>
                    <a:pt x="629" y="3202"/>
                  </a:lnTo>
                  <a:lnTo>
                    <a:pt x="648" y="3224"/>
                  </a:lnTo>
                  <a:lnTo>
                    <a:pt x="665" y="3247"/>
                  </a:lnTo>
                  <a:lnTo>
                    <a:pt x="681" y="3269"/>
                  </a:lnTo>
                  <a:lnTo>
                    <a:pt x="695" y="3292"/>
                  </a:lnTo>
                  <a:lnTo>
                    <a:pt x="708" y="3314"/>
                  </a:lnTo>
                  <a:lnTo>
                    <a:pt x="718" y="3337"/>
                  </a:lnTo>
                  <a:lnTo>
                    <a:pt x="727" y="3357"/>
                  </a:lnTo>
                  <a:lnTo>
                    <a:pt x="732" y="3377"/>
                  </a:lnTo>
                  <a:lnTo>
                    <a:pt x="737" y="3397"/>
                  </a:lnTo>
                  <a:lnTo>
                    <a:pt x="746" y="3410"/>
                  </a:lnTo>
                  <a:lnTo>
                    <a:pt x="759" y="3424"/>
                  </a:lnTo>
                  <a:lnTo>
                    <a:pt x="772" y="3439"/>
                  </a:lnTo>
                  <a:lnTo>
                    <a:pt x="787" y="3454"/>
                  </a:lnTo>
                  <a:lnTo>
                    <a:pt x="820" y="3487"/>
                  </a:lnTo>
                  <a:lnTo>
                    <a:pt x="857" y="3521"/>
                  </a:lnTo>
                  <a:lnTo>
                    <a:pt x="896" y="3558"/>
                  </a:lnTo>
                  <a:lnTo>
                    <a:pt x="936" y="3596"/>
                  </a:lnTo>
                  <a:lnTo>
                    <a:pt x="978" y="3636"/>
                  </a:lnTo>
                  <a:lnTo>
                    <a:pt x="1019" y="3678"/>
                  </a:lnTo>
                  <a:lnTo>
                    <a:pt x="1038" y="3698"/>
                  </a:lnTo>
                  <a:lnTo>
                    <a:pt x="1057" y="3720"/>
                  </a:lnTo>
                  <a:lnTo>
                    <a:pt x="1075" y="3741"/>
                  </a:lnTo>
                  <a:lnTo>
                    <a:pt x="1094" y="3762"/>
                  </a:lnTo>
                  <a:lnTo>
                    <a:pt x="1111" y="3784"/>
                  </a:lnTo>
                  <a:lnTo>
                    <a:pt x="1126" y="3805"/>
                  </a:lnTo>
                  <a:lnTo>
                    <a:pt x="1141" y="3827"/>
                  </a:lnTo>
                  <a:lnTo>
                    <a:pt x="1154" y="3848"/>
                  </a:lnTo>
                  <a:lnTo>
                    <a:pt x="1166" y="3870"/>
                  </a:lnTo>
                  <a:lnTo>
                    <a:pt x="1176" y="3892"/>
                  </a:lnTo>
                  <a:lnTo>
                    <a:pt x="1185" y="3914"/>
                  </a:lnTo>
                  <a:lnTo>
                    <a:pt x="1191" y="3935"/>
                  </a:lnTo>
                  <a:lnTo>
                    <a:pt x="1196" y="3957"/>
                  </a:lnTo>
                  <a:lnTo>
                    <a:pt x="1199" y="3977"/>
                  </a:lnTo>
                  <a:lnTo>
                    <a:pt x="1199" y="3998"/>
                  </a:lnTo>
                  <a:lnTo>
                    <a:pt x="1197" y="4019"/>
                  </a:lnTo>
                  <a:lnTo>
                    <a:pt x="1197" y="4026"/>
                  </a:lnTo>
                  <a:lnTo>
                    <a:pt x="1199" y="4035"/>
                  </a:lnTo>
                  <a:lnTo>
                    <a:pt x="1203" y="4044"/>
                  </a:lnTo>
                  <a:lnTo>
                    <a:pt x="1208" y="4053"/>
                  </a:lnTo>
                  <a:lnTo>
                    <a:pt x="1215" y="4063"/>
                  </a:lnTo>
                  <a:lnTo>
                    <a:pt x="1223" y="4073"/>
                  </a:lnTo>
                  <a:lnTo>
                    <a:pt x="1232" y="4083"/>
                  </a:lnTo>
                  <a:lnTo>
                    <a:pt x="1242" y="4094"/>
                  </a:lnTo>
                  <a:lnTo>
                    <a:pt x="1261" y="4114"/>
                  </a:lnTo>
                  <a:lnTo>
                    <a:pt x="1281" y="4133"/>
                  </a:lnTo>
                  <a:lnTo>
                    <a:pt x="1299" y="4152"/>
                  </a:lnTo>
                  <a:lnTo>
                    <a:pt x="1312" y="4169"/>
                  </a:lnTo>
                  <a:lnTo>
                    <a:pt x="1312" y="4212"/>
                  </a:lnTo>
                  <a:lnTo>
                    <a:pt x="1314" y="4256"/>
                  </a:lnTo>
                  <a:lnTo>
                    <a:pt x="1316" y="4301"/>
                  </a:lnTo>
                  <a:lnTo>
                    <a:pt x="1319" y="4346"/>
                  </a:lnTo>
                  <a:lnTo>
                    <a:pt x="1322" y="4392"/>
                  </a:lnTo>
                  <a:lnTo>
                    <a:pt x="1326" y="4438"/>
                  </a:lnTo>
                  <a:lnTo>
                    <a:pt x="1332" y="4484"/>
                  </a:lnTo>
                  <a:lnTo>
                    <a:pt x="1337" y="4531"/>
                  </a:lnTo>
                  <a:lnTo>
                    <a:pt x="1349" y="4626"/>
                  </a:lnTo>
                  <a:lnTo>
                    <a:pt x="1364" y="4721"/>
                  </a:lnTo>
                  <a:lnTo>
                    <a:pt x="1380" y="4818"/>
                  </a:lnTo>
                  <a:lnTo>
                    <a:pt x="1398" y="4913"/>
                  </a:lnTo>
                  <a:lnTo>
                    <a:pt x="1416" y="5010"/>
                  </a:lnTo>
                  <a:lnTo>
                    <a:pt x="1436" y="5104"/>
                  </a:lnTo>
                  <a:lnTo>
                    <a:pt x="1455" y="5197"/>
                  </a:lnTo>
                  <a:lnTo>
                    <a:pt x="1474" y="5291"/>
                  </a:lnTo>
                  <a:lnTo>
                    <a:pt x="1513" y="5469"/>
                  </a:lnTo>
                  <a:lnTo>
                    <a:pt x="1548" y="5637"/>
                  </a:lnTo>
                  <a:lnTo>
                    <a:pt x="1558" y="5715"/>
                  </a:lnTo>
                  <a:lnTo>
                    <a:pt x="1567" y="5787"/>
                  </a:lnTo>
                  <a:lnTo>
                    <a:pt x="1573" y="5854"/>
                  </a:lnTo>
                  <a:lnTo>
                    <a:pt x="1580" y="5916"/>
                  </a:lnTo>
                  <a:lnTo>
                    <a:pt x="1590" y="6031"/>
                  </a:lnTo>
                  <a:lnTo>
                    <a:pt x="1602" y="6137"/>
                  </a:lnTo>
                  <a:lnTo>
                    <a:pt x="1607" y="6189"/>
                  </a:lnTo>
                  <a:lnTo>
                    <a:pt x="1615" y="6242"/>
                  </a:lnTo>
                  <a:lnTo>
                    <a:pt x="1623" y="6295"/>
                  </a:lnTo>
                  <a:lnTo>
                    <a:pt x="1634" y="6351"/>
                  </a:lnTo>
                  <a:lnTo>
                    <a:pt x="1646" y="6410"/>
                  </a:lnTo>
                  <a:lnTo>
                    <a:pt x="1661" y="6472"/>
                  </a:lnTo>
                  <a:lnTo>
                    <a:pt x="1678" y="6539"/>
                  </a:lnTo>
                  <a:lnTo>
                    <a:pt x="1699" y="6611"/>
                  </a:lnTo>
                  <a:lnTo>
                    <a:pt x="1713" y="6644"/>
                  </a:lnTo>
                  <a:lnTo>
                    <a:pt x="1729" y="6679"/>
                  </a:lnTo>
                  <a:lnTo>
                    <a:pt x="1747" y="6716"/>
                  </a:lnTo>
                  <a:lnTo>
                    <a:pt x="1765" y="6752"/>
                  </a:lnTo>
                  <a:lnTo>
                    <a:pt x="1806" y="6827"/>
                  </a:lnTo>
                  <a:lnTo>
                    <a:pt x="1849" y="6905"/>
                  </a:lnTo>
                  <a:lnTo>
                    <a:pt x="1894" y="6981"/>
                  </a:lnTo>
                  <a:lnTo>
                    <a:pt x="1940" y="7056"/>
                  </a:lnTo>
                  <a:lnTo>
                    <a:pt x="1984" y="7129"/>
                  </a:lnTo>
                  <a:lnTo>
                    <a:pt x="2027" y="7198"/>
                  </a:lnTo>
                  <a:lnTo>
                    <a:pt x="2029" y="7212"/>
                  </a:lnTo>
                  <a:lnTo>
                    <a:pt x="2032" y="7226"/>
                  </a:lnTo>
                  <a:lnTo>
                    <a:pt x="2036" y="7241"/>
                  </a:lnTo>
                  <a:lnTo>
                    <a:pt x="2041" y="7256"/>
                  </a:lnTo>
                  <a:lnTo>
                    <a:pt x="2051" y="7285"/>
                  </a:lnTo>
                  <a:lnTo>
                    <a:pt x="2062" y="7314"/>
                  </a:lnTo>
                  <a:lnTo>
                    <a:pt x="2073" y="7340"/>
                  </a:lnTo>
                  <a:lnTo>
                    <a:pt x="2081" y="7364"/>
                  </a:lnTo>
                  <a:lnTo>
                    <a:pt x="2085" y="7374"/>
                  </a:lnTo>
                  <a:lnTo>
                    <a:pt x="2088" y="7384"/>
                  </a:lnTo>
                  <a:lnTo>
                    <a:pt x="2089" y="7393"/>
                  </a:lnTo>
                  <a:lnTo>
                    <a:pt x="2090" y="7399"/>
                  </a:lnTo>
                  <a:lnTo>
                    <a:pt x="2113" y="7374"/>
                  </a:lnTo>
                  <a:lnTo>
                    <a:pt x="2138" y="7350"/>
                  </a:lnTo>
                  <a:lnTo>
                    <a:pt x="2165" y="7325"/>
                  </a:lnTo>
                  <a:lnTo>
                    <a:pt x="2193" y="7300"/>
                  </a:lnTo>
                  <a:lnTo>
                    <a:pt x="2224" y="7277"/>
                  </a:lnTo>
                  <a:lnTo>
                    <a:pt x="2255" y="7253"/>
                  </a:lnTo>
                  <a:lnTo>
                    <a:pt x="2288" y="7230"/>
                  </a:lnTo>
                  <a:lnTo>
                    <a:pt x="2324" y="7207"/>
                  </a:lnTo>
                  <a:lnTo>
                    <a:pt x="2359" y="7184"/>
                  </a:lnTo>
                  <a:lnTo>
                    <a:pt x="2397" y="7163"/>
                  </a:lnTo>
                  <a:lnTo>
                    <a:pt x="2435" y="7143"/>
                  </a:lnTo>
                  <a:lnTo>
                    <a:pt x="2475" y="7122"/>
                  </a:lnTo>
                  <a:lnTo>
                    <a:pt x="2516" y="7102"/>
                  </a:lnTo>
                  <a:lnTo>
                    <a:pt x="2558" y="7084"/>
                  </a:lnTo>
                  <a:lnTo>
                    <a:pt x="2601" y="7065"/>
                  </a:lnTo>
                  <a:lnTo>
                    <a:pt x="2643" y="7047"/>
                  </a:lnTo>
                  <a:lnTo>
                    <a:pt x="2687" y="7031"/>
                  </a:lnTo>
                  <a:lnTo>
                    <a:pt x="2731" y="7015"/>
                  </a:lnTo>
                  <a:lnTo>
                    <a:pt x="2777" y="7000"/>
                  </a:lnTo>
                  <a:lnTo>
                    <a:pt x="2823" y="6986"/>
                  </a:lnTo>
                  <a:lnTo>
                    <a:pt x="2869" y="6972"/>
                  </a:lnTo>
                  <a:lnTo>
                    <a:pt x="2915" y="6960"/>
                  </a:lnTo>
                  <a:lnTo>
                    <a:pt x="2961" y="6949"/>
                  </a:lnTo>
                  <a:lnTo>
                    <a:pt x="3007" y="6939"/>
                  </a:lnTo>
                  <a:lnTo>
                    <a:pt x="3054" y="6929"/>
                  </a:lnTo>
                  <a:lnTo>
                    <a:pt x="3100" y="6922"/>
                  </a:lnTo>
                  <a:lnTo>
                    <a:pt x="3146" y="6914"/>
                  </a:lnTo>
                  <a:lnTo>
                    <a:pt x="3194" y="6909"/>
                  </a:lnTo>
                  <a:lnTo>
                    <a:pt x="3239" y="6905"/>
                  </a:lnTo>
                  <a:lnTo>
                    <a:pt x="3285" y="6901"/>
                  </a:lnTo>
                  <a:lnTo>
                    <a:pt x="3330" y="6899"/>
                  </a:lnTo>
                  <a:lnTo>
                    <a:pt x="3374" y="6898"/>
                  </a:lnTo>
                  <a:lnTo>
                    <a:pt x="3396" y="6880"/>
                  </a:lnTo>
                  <a:lnTo>
                    <a:pt x="3420" y="6863"/>
                  </a:lnTo>
                  <a:lnTo>
                    <a:pt x="3442" y="6847"/>
                  </a:lnTo>
                  <a:lnTo>
                    <a:pt x="3467" y="6833"/>
                  </a:lnTo>
                  <a:lnTo>
                    <a:pt x="3491" y="6820"/>
                  </a:lnTo>
                  <a:lnTo>
                    <a:pt x="3515" y="6809"/>
                  </a:lnTo>
                  <a:lnTo>
                    <a:pt x="3540" y="6799"/>
                  </a:lnTo>
                  <a:lnTo>
                    <a:pt x="3565" y="6791"/>
                  </a:lnTo>
                  <a:lnTo>
                    <a:pt x="3590" y="6784"/>
                  </a:lnTo>
                  <a:lnTo>
                    <a:pt x="3615" y="6779"/>
                  </a:lnTo>
                  <a:lnTo>
                    <a:pt x="3641" y="6776"/>
                  </a:lnTo>
                  <a:lnTo>
                    <a:pt x="3667" y="6773"/>
                  </a:lnTo>
                  <a:lnTo>
                    <a:pt x="3692" y="6772"/>
                  </a:lnTo>
                  <a:lnTo>
                    <a:pt x="3718" y="6773"/>
                  </a:lnTo>
                  <a:lnTo>
                    <a:pt x="3744" y="6774"/>
                  </a:lnTo>
                  <a:lnTo>
                    <a:pt x="3768" y="6777"/>
                  </a:lnTo>
                  <a:lnTo>
                    <a:pt x="3794" y="6781"/>
                  </a:lnTo>
                  <a:lnTo>
                    <a:pt x="3819" y="6787"/>
                  </a:lnTo>
                  <a:lnTo>
                    <a:pt x="3845" y="6794"/>
                  </a:lnTo>
                  <a:lnTo>
                    <a:pt x="3869" y="6802"/>
                  </a:lnTo>
                  <a:lnTo>
                    <a:pt x="3893" y="6811"/>
                  </a:lnTo>
                  <a:lnTo>
                    <a:pt x="3918" y="6822"/>
                  </a:lnTo>
                  <a:lnTo>
                    <a:pt x="3941" y="6834"/>
                  </a:lnTo>
                  <a:lnTo>
                    <a:pt x="3964" y="6848"/>
                  </a:lnTo>
                  <a:lnTo>
                    <a:pt x="3986" y="6862"/>
                  </a:lnTo>
                  <a:lnTo>
                    <a:pt x="4009" y="6878"/>
                  </a:lnTo>
                  <a:lnTo>
                    <a:pt x="4030" y="6895"/>
                  </a:lnTo>
                  <a:lnTo>
                    <a:pt x="4052" y="6912"/>
                  </a:lnTo>
                  <a:lnTo>
                    <a:pt x="4072" y="6931"/>
                  </a:lnTo>
                  <a:lnTo>
                    <a:pt x="4091" y="6952"/>
                  </a:lnTo>
                  <a:lnTo>
                    <a:pt x="4111" y="6973"/>
                  </a:lnTo>
                  <a:lnTo>
                    <a:pt x="4129" y="6997"/>
                  </a:lnTo>
                  <a:lnTo>
                    <a:pt x="4388" y="7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52840" y="3257640"/>
              <a:ext cx="772200" cy="1170000"/>
            </a:xfrm>
            <a:custGeom>
              <a:avLst/>
              <a:gdLst/>
              <a:ahLst/>
              <a:rect l="l" t="t" r="r" b="b"/>
              <a:pathLst>
                <a:path w="4486" h="7373">
                  <a:moveTo>
                    <a:pt x="2125" y="7373"/>
                  </a:moveTo>
                  <a:lnTo>
                    <a:pt x="2125" y="7365"/>
                  </a:lnTo>
                  <a:lnTo>
                    <a:pt x="2122" y="7356"/>
                  </a:lnTo>
                  <a:lnTo>
                    <a:pt x="2119" y="7344"/>
                  </a:lnTo>
                  <a:lnTo>
                    <a:pt x="2115" y="7331"/>
                  </a:lnTo>
                  <a:lnTo>
                    <a:pt x="2105" y="7302"/>
                  </a:lnTo>
                  <a:lnTo>
                    <a:pt x="2093" y="7270"/>
                  </a:lnTo>
                  <a:lnTo>
                    <a:pt x="2082" y="7238"/>
                  </a:lnTo>
                  <a:lnTo>
                    <a:pt x="2071" y="7208"/>
                  </a:lnTo>
                  <a:lnTo>
                    <a:pt x="2068" y="7195"/>
                  </a:lnTo>
                  <a:lnTo>
                    <a:pt x="2065" y="7183"/>
                  </a:lnTo>
                  <a:lnTo>
                    <a:pt x="2062" y="7173"/>
                  </a:lnTo>
                  <a:lnTo>
                    <a:pt x="2061" y="7166"/>
                  </a:lnTo>
                  <a:lnTo>
                    <a:pt x="2045" y="7128"/>
                  </a:lnTo>
                  <a:lnTo>
                    <a:pt x="2029" y="7094"/>
                  </a:lnTo>
                  <a:lnTo>
                    <a:pt x="2013" y="7062"/>
                  </a:lnTo>
                  <a:lnTo>
                    <a:pt x="1998" y="7033"/>
                  </a:lnTo>
                  <a:lnTo>
                    <a:pt x="1966" y="6979"/>
                  </a:lnTo>
                  <a:lnTo>
                    <a:pt x="1935" y="6928"/>
                  </a:lnTo>
                  <a:lnTo>
                    <a:pt x="1919" y="6902"/>
                  </a:lnTo>
                  <a:lnTo>
                    <a:pt x="1904" y="6875"/>
                  </a:lnTo>
                  <a:lnTo>
                    <a:pt x="1888" y="6846"/>
                  </a:lnTo>
                  <a:lnTo>
                    <a:pt x="1873" y="6815"/>
                  </a:lnTo>
                  <a:lnTo>
                    <a:pt x="1856" y="6782"/>
                  </a:lnTo>
                  <a:lnTo>
                    <a:pt x="1840" y="6746"/>
                  </a:lnTo>
                  <a:lnTo>
                    <a:pt x="1824" y="6705"/>
                  </a:lnTo>
                  <a:lnTo>
                    <a:pt x="1808" y="6660"/>
                  </a:lnTo>
                  <a:lnTo>
                    <a:pt x="1790" y="6602"/>
                  </a:lnTo>
                  <a:lnTo>
                    <a:pt x="1773" y="6546"/>
                  </a:lnTo>
                  <a:lnTo>
                    <a:pt x="1757" y="6493"/>
                  </a:lnTo>
                  <a:lnTo>
                    <a:pt x="1742" y="6441"/>
                  </a:lnTo>
                  <a:lnTo>
                    <a:pt x="1729" y="6392"/>
                  </a:lnTo>
                  <a:lnTo>
                    <a:pt x="1717" y="6343"/>
                  </a:lnTo>
                  <a:lnTo>
                    <a:pt x="1706" y="6296"/>
                  </a:lnTo>
                  <a:lnTo>
                    <a:pt x="1697" y="6250"/>
                  </a:lnTo>
                  <a:lnTo>
                    <a:pt x="1687" y="6206"/>
                  </a:lnTo>
                  <a:lnTo>
                    <a:pt x="1678" y="6162"/>
                  </a:lnTo>
                  <a:lnTo>
                    <a:pt x="1672" y="6119"/>
                  </a:lnTo>
                  <a:lnTo>
                    <a:pt x="1664" y="6077"/>
                  </a:lnTo>
                  <a:lnTo>
                    <a:pt x="1653" y="5994"/>
                  </a:lnTo>
                  <a:lnTo>
                    <a:pt x="1643" y="5910"/>
                  </a:lnTo>
                  <a:lnTo>
                    <a:pt x="1624" y="5741"/>
                  </a:lnTo>
                  <a:lnTo>
                    <a:pt x="1604" y="5557"/>
                  </a:lnTo>
                  <a:lnTo>
                    <a:pt x="1592" y="5458"/>
                  </a:lnTo>
                  <a:lnTo>
                    <a:pt x="1577" y="5350"/>
                  </a:lnTo>
                  <a:lnTo>
                    <a:pt x="1559" y="5236"/>
                  </a:lnTo>
                  <a:lnTo>
                    <a:pt x="1538" y="5110"/>
                  </a:lnTo>
                  <a:lnTo>
                    <a:pt x="1525" y="5090"/>
                  </a:lnTo>
                  <a:lnTo>
                    <a:pt x="1513" y="5069"/>
                  </a:lnTo>
                  <a:lnTo>
                    <a:pt x="1503" y="5048"/>
                  </a:lnTo>
                  <a:lnTo>
                    <a:pt x="1492" y="5027"/>
                  </a:lnTo>
                  <a:lnTo>
                    <a:pt x="1482" y="5003"/>
                  </a:lnTo>
                  <a:lnTo>
                    <a:pt x="1473" y="4979"/>
                  </a:lnTo>
                  <a:lnTo>
                    <a:pt x="1463" y="4956"/>
                  </a:lnTo>
                  <a:lnTo>
                    <a:pt x="1454" y="4931"/>
                  </a:lnTo>
                  <a:lnTo>
                    <a:pt x="1447" y="4905"/>
                  </a:lnTo>
                  <a:lnTo>
                    <a:pt x="1439" y="4880"/>
                  </a:lnTo>
                  <a:lnTo>
                    <a:pt x="1432" y="4853"/>
                  </a:lnTo>
                  <a:lnTo>
                    <a:pt x="1425" y="4826"/>
                  </a:lnTo>
                  <a:lnTo>
                    <a:pt x="1420" y="4798"/>
                  </a:lnTo>
                  <a:lnTo>
                    <a:pt x="1414" y="4770"/>
                  </a:lnTo>
                  <a:lnTo>
                    <a:pt x="1409" y="4741"/>
                  </a:lnTo>
                  <a:lnTo>
                    <a:pt x="1405" y="4712"/>
                  </a:lnTo>
                  <a:lnTo>
                    <a:pt x="1401" y="4683"/>
                  </a:lnTo>
                  <a:lnTo>
                    <a:pt x="1397" y="4653"/>
                  </a:lnTo>
                  <a:lnTo>
                    <a:pt x="1395" y="4623"/>
                  </a:lnTo>
                  <a:lnTo>
                    <a:pt x="1393" y="4593"/>
                  </a:lnTo>
                  <a:lnTo>
                    <a:pt x="1391" y="4562"/>
                  </a:lnTo>
                  <a:lnTo>
                    <a:pt x="1390" y="4531"/>
                  </a:lnTo>
                  <a:lnTo>
                    <a:pt x="1390" y="4500"/>
                  </a:lnTo>
                  <a:lnTo>
                    <a:pt x="1390" y="4469"/>
                  </a:lnTo>
                  <a:lnTo>
                    <a:pt x="1391" y="4437"/>
                  </a:lnTo>
                  <a:lnTo>
                    <a:pt x="1392" y="4405"/>
                  </a:lnTo>
                  <a:lnTo>
                    <a:pt x="1393" y="4373"/>
                  </a:lnTo>
                  <a:lnTo>
                    <a:pt x="1395" y="4341"/>
                  </a:lnTo>
                  <a:lnTo>
                    <a:pt x="1399" y="4309"/>
                  </a:lnTo>
                  <a:lnTo>
                    <a:pt x="1402" y="4276"/>
                  </a:lnTo>
                  <a:lnTo>
                    <a:pt x="1406" y="4244"/>
                  </a:lnTo>
                  <a:lnTo>
                    <a:pt x="1410" y="4212"/>
                  </a:lnTo>
                  <a:lnTo>
                    <a:pt x="1386" y="4173"/>
                  </a:lnTo>
                  <a:lnTo>
                    <a:pt x="1361" y="4133"/>
                  </a:lnTo>
                  <a:lnTo>
                    <a:pt x="1338" y="4094"/>
                  </a:lnTo>
                  <a:lnTo>
                    <a:pt x="1316" y="4053"/>
                  </a:lnTo>
                  <a:lnTo>
                    <a:pt x="1272" y="3970"/>
                  </a:lnTo>
                  <a:lnTo>
                    <a:pt x="1226" y="3887"/>
                  </a:lnTo>
                  <a:lnTo>
                    <a:pt x="1202" y="3846"/>
                  </a:lnTo>
                  <a:lnTo>
                    <a:pt x="1178" y="3805"/>
                  </a:lnTo>
                  <a:lnTo>
                    <a:pt x="1152" y="3765"/>
                  </a:lnTo>
                  <a:lnTo>
                    <a:pt x="1124" y="3727"/>
                  </a:lnTo>
                  <a:lnTo>
                    <a:pt x="1109" y="3707"/>
                  </a:lnTo>
                  <a:lnTo>
                    <a:pt x="1094" y="3688"/>
                  </a:lnTo>
                  <a:lnTo>
                    <a:pt x="1079" y="3670"/>
                  </a:lnTo>
                  <a:lnTo>
                    <a:pt x="1062" y="3652"/>
                  </a:lnTo>
                  <a:lnTo>
                    <a:pt x="1046" y="3635"/>
                  </a:lnTo>
                  <a:lnTo>
                    <a:pt x="1027" y="3617"/>
                  </a:lnTo>
                  <a:lnTo>
                    <a:pt x="1009" y="3600"/>
                  </a:lnTo>
                  <a:lnTo>
                    <a:pt x="990" y="3584"/>
                  </a:lnTo>
                  <a:lnTo>
                    <a:pt x="964" y="3565"/>
                  </a:lnTo>
                  <a:lnTo>
                    <a:pt x="941" y="3547"/>
                  </a:lnTo>
                  <a:lnTo>
                    <a:pt x="918" y="3527"/>
                  </a:lnTo>
                  <a:lnTo>
                    <a:pt x="898" y="3508"/>
                  </a:lnTo>
                  <a:lnTo>
                    <a:pt x="879" y="3489"/>
                  </a:lnTo>
                  <a:lnTo>
                    <a:pt x="861" y="3469"/>
                  </a:lnTo>
                  <a:lnTo>
                    <a:pt x="845" y="3449"/>
                  </a:lnTo>
                  <a:lnTo>
                    <a:pt x="830" y="3430"/>
                  </a:lnTo>
                  <a:lnTo>
                    <a:pt x="802" y="3390"/>
                  </a:lnTo>
                  <a:lnTo>
                    <a:pt x="778" y="3349"/>
                  </a:lnTo>
                  <a:lnTo>
                    <a:pt x="754" y="3310"/>
                  </a:lnTo>
                  <a:lnTo>
                    <a:pt x="729" y="3271"/>
                  </a:lnTo>
                  <a:lnTo>
                    <a:pt x="717" y="3251"/>
                  </a:lnTo>
                  <a:lnTo>
                    <a:pt x="705" y="3231"/>
                  </a:lnTo>
                  <a:lnTo>
                    <a:pt x="691" y="3213"/>
                  </a:lnTo>
                  <a:lnTo>
                    <a:pt x="677" y="3194"/>
                  </a:lnTo>
                  <a:lnTo>
                    <a:pt x="662" y="3176"/>
                  </a:lnTo>
                  <a:lnTo>
                    <a:pt x="646" y="3157"/>
                  </a:lnTo>
                  <a:lnTo>
                    <a:pt x="628" y="3139"/>
                  </a:lnTo>
                  <a:lnTo>
                    <a:pt x="609" y="3121"/>
                  </a:lnTo>
                  <a:lnTo>
                    <a:pt x="589" y="3104"/>
                  </a:lnTo>
                  <a:lnTo>
                    <a:pt x="567" y="3088"/>
                  </a:lnTo>
                  <a:lnTo>
                    <a:pt x="544" y="3070"/>
                  </a:lnTo>
                  <a:lnTo>
                    <a:pt x="518" y="3054"/>
                  </a:lnTo>
                  <a:lnTo>
                    <a:pt x="489" y="3039"/>
                  </a:lnTo>
                  <a:lnTo>
                    <a:pt x="459" y="3024"/>
                  </a:lnTo>
                  <a:lnTo>
                    <a:pt x="427" y="3010"/>
                  </a:lnTo>
                  <a:lnTo>
                    <a:pt x="391" y="2996"/>
                  </a:lnTo>
                  <a:lnTo>
                    <a:pt x="368" y="2972"/>
                  </a:lnTo>
                  <a:lnTo>
                    <a:pt x="344" y="2945"/>
                  </a:lnTo>
                  <a:lnTo>
                    <a:pt x="320" y="2916"/>
                  </a:lnTo>
                  <a:lnTo>
                    <a:pt x="295" y="2886"/>
                  </a:lnTo>
                  <a:lnTo>
                    <a:pt x="270" y="2855"/>
                  </a:lnTo>
                  <a:lnTo>
                    <a:pt x="244" y="2822"/>
                  </a:lnTo>
                  <a:lnTo>
                    <a:pt x="220" y="2788"/>
                  </a:lnTo>
                  <a:lnTo>
                    <a:pt x="196" y="2754"/>
                  </a:lnTo>
                  <a:lnTo>
                    <a:pt x="173" y="2720"/>
                  </a:lnTo>
                  <a:lnTo>
                    <a:pt x="149" y="2684"/>
                  </a:lnTo>
                  <a:lnTo>
                    <a:pt x="128" y="2649"/>
                  </a:lnTo>
                  <a:lnTo>
                    <a:pt x="107" y="2614"/>
                  </a:lnTo>
                  <a:lnTo>
                    <a:pt x="88" y="2579"/>
                  </a:lnTo>
                  <a:lnTo>
                    <a:pt x="70" y="2545"/>
                  </a:lnTo>
                  <a:lnTo>
                    <a:pt x="54" y="2511"/>
                  </a:lnTo>
                  <a:lnTo>
                    <a:pt x="40" y="2477"/>
                  </a:lnTo>
                  <a:lnTo>
                    <a:pt x="30" y="2462"/>
                  </a:lnTo>
                  <a:lnTo>
                    <a:pt x="20" y="2446"/>
                  </a:lnTo>
                  <a:lnTo>
                    <a:pt x="14" y="2429"/>
                  </a:lnTo>
                  <a:lnTo>
                    <a:pt x="7" y="2411"/>
                  </a:lnTo>
                  <a:lnTo>
                    <a:pt x="3" y="2393"/>
                  </a:lnTo>
                  <a:lnTo>
                    <a:pt x="1" y="2374"/>
                  </a:lnTo>
                  <a:lnTo>
                    <a:pt x="0" y="2356"/>
                  </a:lnTo>
                  <a:lnTo>
                    <a:pt x="1" y="2337"/>
                  </a:lnTo>
                  <a:lnTo>
                    <a:pt x="3" y="2319"/>
                  </a:lnTo>
                  <a:lnTo>
                    <a:pt x="7" y="2300"/>
                  </a:lnTo>
                  <a:lnTo>
                    <a:pt x="14" y="2282"/>
                  </a:lnTo>
                  <a:lnTo>
                    <a:pt x="21" y="2265"/>
                  </a:lnTo>
                  <a:lnTo>
                    <a:pt x="32" y="2248"/>
                  </a:lnTo>
                  <a:lnTo>
                    <a:pt x="44" y="2232"/>
                  </a:lnTo>
                  <a:lnTo>
                    <a:pt x="50" y="2223"/>
                  </a:lnTo>
                  <a:lnTo>
                    <a:pt x="58" y="2216"/>
                  </a:lnTo>
                  <a:lnTo>
                    <a:pt x="65" y="2208"/>
                  </a:lnTo>
                  <a:lnTo>
                    <a:pt x="74" y="2202"/>
                  </a:lnTo>
                  <a:lnTo>
                    <a:pt x="102" y="2186"/>
                  </a:lnTo>
                  <a:lnTo>
                    <a:pt x="129" y="2173"/>
                  </a:lnTo>
                  <a:lnTo>
                    <a:pt x="157" y="2163"/>
                  </a:lnTo>
                  <a:lnTo>
                    <a:pt x="184" y="2158"/>
                  </a:lnTo>
                  <a:lnTo>
                    <a:pt x="213" y="2155"/>
                  </a:lnTo>
                  <a:lnTo>
                    <a:pt x="241" y="2154"/>
                  </a:lnTo>
                  <a:lnTo>
                    <a:pt x="270" y="2157"/>
                  </a:lnTo>
                  <a:lnTo>
                    <a:pt x="299" y="2161"/>
                  </a:lnTo>
                  <a:lnTo>
                    <a:pt x="328" y="2169"/>
                  </a:lnTo>
                  <a:lnTo>
                    <a:pt x="357" y="2177"/>
                  </a:lnTo>
                  <a:lnTo>
                    <a:pt x="386" y="2189"/>
                  </a:lnTo>
                  <a:lnTo>
                    <a:pt x="415" y="2202"/>
                  </a:lnTo>
                  <a:lnTo>
                    <a:pt x="445" y="2217"/>
                  </a:lnTo>
                  <a:lnTo>
                    <a:pt x="474" y="2233"/>
                  </a:lnTo>
                  <a:lnTo>
                    <a:pt x="503" y="2250"/>
                  </a:lnTo>
                  <a:lnTo>
                    <a:pt x="532" y="2268"/>
                  </a:lnTo>
                  <a:lnTo>
                    <a:pt x="561" y="2288"/>
                  </a:lnTo>
                  <a:lnTo>
                    <a:pt x="590" y="2308"/>
                  </a:lnTo>
                  <a:lnTo>
                    <a:pt x="619" y="2329"/>
                  </a:lnTo>
                  <a:lnTo>
                    <a:pt x="648" y="2351"/>
                  </a:lnTo>
                  <a:lnTo>
                    <a:pt x="705" y="2394"/>
                  </a:lnTo>
                  <a:lnTo>
                    <a:pt x="761" y="2437"/>
                  </a:lnTo>
                  <a:lnTo>
                    <a:pt x="816" y="2478"/>
                  </a:lnTo>
                  <a:lnTo>
                    <a:pt x="870" y="2518"/>
                  </a:lnTo>
                  <a:lnTo>
                    <a:pt x="897" y="2535"/>
                  </a:lnTo>
                  <a:lnTo>
                    <a:pt x="922" y="2552"/>
                  </a:lnTo>
                  <a:lnTo>
                    <a:pt x="948" y="2568"/>
                  </a:lnTo>
                  <a:lnTo>
                    <a:pt x="973" y="2581"/>
                  </a:lnTo>
                  <a:lnTo>
                    <a:pt x="1005" y="2616"/>
                  </a:lnTo>
                  <a:lnTo>
                    <a:pt x="1033" y="2648"/>
                  </a:lnTo>
                  <a:lnTo>
                    <a:pt x="1057" y="2680"/>
                  </a:lnTo>
                  <a:lnTo>
                    <a:pt x="1080" y="2710"/>
                  </a:lnTo>
                  <a:lnTo>
                    <a:pt x="1121" y="2768"/>
                  </a:lnTo>
                  <a:lnTo>
                    <a:pt x="1158" y="2822"/>
                  </a:lnTo>
                  <a:lnTo>
                    <a:pt x="1178" y="2847"/>
                  </a:lnTo>
                  <a:lnTo>
                    <a:pt x="1198" y="2872"/>
                  </a:lnTo>
                  <a:lnTo>
                    <a:pt x="1219" y="2896"/>
                  </a:lnTo>
                  <a:lnTo>
                    <a:pt x="1243" y="2918"/>
                  </a:lnTo>
                  <a:lnTo>
                    <a:pt x="1256" y="2930"/>
                  </a:lnTo>
                  <a:lnTo>
                    <a:pt x="1270" y="2941"/>
                  </a:lnTo>
                  <a:lnTo>
                    <a:pt x="1284" y="2951"/>
                  </a:lnTo>
                  <a:lnTo>
                    <a:pt x="1300" y="2962"/>
                  </a:lnTo>
                  <a:lnTo>
                    <a:pt x="1316" y="2972"/>
                  </a:lnTo>
                  <a:lnTo>
                    <a:pt x="1333" y="2983"/>
                  </a:lnTo>
                  <a:lnTo>
                    <a:pt x="1351" y="2992"/>
                  </a:lnTo>
                  <a:lnTo>
                    <a:pt x="1371" y="3002"/>
                  </a:lnTo>
                  <a:lnTo>
                    <a:pt x="1391" y="3023"/>
                  </a:lnTo>
                  <a:lnTo>
                    <a:pt x="1417" y="3051"/>
                  </a:lnTo>
                  <a:lnTo>
                    <a:pt x="1446" y="3083"/>
                  </a:lnTo>
                  <a:lnTo>
                    <a:pt x="1477" y="3121"/>
                  </a:lnTo>
                  <a:lnTo>
                    <a:pt x="1511" y="3161"/>
                  </a:lnTo>
                  <a:lnTo>
                    <a:pt x="1547" y="3203"/>
                  </a:lnTo>
                  <a:lnTo>
                    <a:pt x="1582" y="3248"/>
                  </a:lnTo>
                  <a:lnTo>
                    <a:pt x="1618" y="3294"/>
                  </a:lnTo>
                  <a:lnTo>
                    <a:pt x="1653" y="3339"/>
                  </a:lnTo>
                  <a:lnTo>
                    <a:pt x="1687" y="3384"/>
                  </a:lnTo>
                  <a:lnTo>
                    <a:pt x="1718" y="3427"/>
                  </a:lnTo>
                  <a:lnTo>
                    <a:pt x="1746" y="3467"/>
                  </a:lnTo>
                  <a:lnTo>
                    <a:pt x="1771" y="3505"/>
                  </a:lnTo>
                  <a:lnTo>
                    <a:pt x="1791" y="3538"/>
                  </a:lnTo>
                  <a:lnTo>
                    <a:pt x="1799" y="3553"/>
                  </a:lnTo>
                  <a:lnTo>
                    <a:pt x="1805" y="3567"/>
                  </a:lnTo>
                  <a:lnTo>
                    <a:pt x="1810" y="3579"/>
                  </a:lnTo>
                  <a:lnTo>
                    <a:pt x="1814" y="3590"/>
                  </a:lnTo>
                  <a:lnTo>
                    <a:pt x="1821" y="3612"/>
                  </a:lnTo>
                  <a:lnTo>
                    <a:pt x="1829" y="3632"/>
                  </a:lnTo>
                  <a:lnTo>
                    <a:pt x="1837" y="3652"/>
                  </a:lnTo>
                  <a:lnTo>
                    <a:pt x="1846" y="3671"/>
                  </a:lnTo>
                  <a:lnTo>
                    <a:pt x="1854" y="3688"/>
                  </a:lnTo>
                  <a:lnTo>
                    <a:pt x="1864" y="3705"/>
                  </a:lnTo>
                  <a:lnTo>
                    <a:pt x="1874" y="3720"/>
                  </a:lnTo>
                  <a:lnTo>
                    <a:pt x="1884" y="3735"/>
                  </a:lnTo>
                  <a:lnTo>
                    <a:pt x="1894" y="3749"/>
                  </a:lnTo>
                  <a:lnTo>
                    <a:pt x="1905" y="3762"/>
                  </a:lnTo>
                  <a:lnTo>
                    <a:pt x="1915" y="3775"/>
                  </a:lnTo>
                  <a:lnTo>
                    <a:pt x="1926" y="3786"/>
                  </a:lnTo>
                  <a:lnTo>
                    <a:pt x="1949" y="3808"/>
                  </a:lnTo>
                  <a:lnTo>
                    <a:pt x="1972" y="3827"/>
                  </a:lnTo>
                  <a:lnTo>
                    <a:pt x="1996" y="3845"/>
                  </a:lnTo>
                  <a:lnTo>
                    <a:pt x="2019" y="3861"/>
                  </a:lnTo>
                  <a:lnTo>
                    <a:pt x="2042" y="3876"/>
                  </a:lnTo>
                  <a:lnTo>
                    <a:pt x="2065" y="3891"/>
                  </a:lnTo>
                  <a:lnTo>
                    <a:pt x="2087" y="3905"/>
                  </a:lnTo>
                  <a:lnTo>
                    <a:pt x="2108" y="3920"/>
                  </a:lnTo>
                  <a:lnTo>
                    <a:pt x="2129" y="3936"/>
                  </a:lnTo>
                  <a:lnTo>
                    <a:pt x="2148" y="3952"/>
                  </a:lnTo>
                  <a:lnTo>
                    <a:pt x="2142" y="3946"/>
                  </a:lnTo>
                  <a:lnTo>
                    <a:pt x="2134" y="3935"/>
                  </a:lnTo>
                  <a:lnTo>
                    <a:pt x="2124" y="3918"/>
                  </a:lnTo>
                  <a:lnTo>
                    <a:pt x="2112" y="3897"/>
                  </a:lnTo>
                  <a:lnTo>
                    <a:pt x="2083" y="3844"/>
                  </a:lnTo>
                  <a:lnTo>
                    <a:pt x="2047" y="3775"/>
                  </a:lnTo>
                  <a:lnTo>
                    <a:pt x="1960" y="3605"/>
                  </a:lnTo>
                  <a:lnTo>
                    <a:pt x="1858" y="3404"/>
                  </a:lnTo>
                  <a:lnTo>
                    <a:pt x="1803" y="3300"/>
                  </a:lnTo>
                  <a:lnTo>
                    <a:pt x="1746" y="3195"/>
                  </a:lnTo>
                  <a:lnTo>
                    <a:pt x="1717" y="3143"/>
                  </a:lnTo>
                  <a:lnTo>
                    <a:pt x="1688" y="3092"/>
                  </a:lnTo>
                  <a:lnTo>
                    <a:pt x="1659" y="3043"/>
                  </a:lnTo>
                  <a:lnTo>
                    <a:pt x="1630" y="2994"/>
                  </a:lnTo>
                  <a:lnTo>
                    <a:pt x="1602" y="2947"/>
                  </a:lnTo>
                  <a:lnTo>
                    <a:pt x="1573" y="2903"/>
                  </a:lnTo>
                  <a:lnTo>
                    <a:pt x="1545" y="2861"/>
                  </a:lnTo>
                  <a:lnTo>
                    <a:pt x="1519" y="2822"/>
                  </a:lnTo>
                  <a:lnTo>
                    <a:pt x="1492" y="2785"/>
                  </a:lnTo>
                  <a:lnTo>
                    <a:pt x="1466" y="2752"/>
                  </a:lnTo>
                  <a:lnTo>
                    <a:pt x="1440" y="2723"/>
                  </a:lnTo>
                  <a:lnTo>
                    <a:pt x="1417" y="2696"/>
                  </a:lnTo>
                  <a:lnTo>
                    <a:pt x="1392" y="2634"/>
                  </a:lnTo>
                  <a:lnTo>
                    <a:pt x="1365" y="2571"/>
                  </a:lnTo>
                  <a:lnTo>
                    <a:pt x="1336" y="2507"/>
                  </a:lnTo>
                  <a:lnTo>
                    <a:pt x="1307" y="2444"/>
                  </a:lnTo>
                  <a:lnTo>
                    <a:pt x="1246" y="2318"/>
                  </a:lnTo>
                  <a:lnTo>
                    <a:pt x="1185" y="2194"/>
                  </a:lnTo>
                  <a:lnTo>
                    <a:pt x="1155" y="2133"/>
                  </a:lnTo>
                  <a:lnTo>
                    <a:pt x="1126" y="2074"/>
                  </a:lnTo>
                  <a:lnTo>
                    <a:pt x="1098" y="2016"/>
                  </a:lnTo>
                  <a:lnTo>
                    <a:pt x="1072" y="1959"/>
                  </a:lnTo>
                  <a:lnTo>
                    <a:pt x="1050" y="1905"/>
                  </a:lnTo>
                  <a:lnTo>
                    <a:pt x="1028" y="1852"/>
                  </a:lnTo>
                  <a:lnTo>
                    <a:pt x="1019" y="1826"/>
                  </a:lnTo>
                  <a:lnTo>
                    <a:pt x="1010" y="1801"/>
                  </a:lnTo>
                  <a:lnTo>
                    <a:pt x="1003" y="1776"/>
                  </a:lnTo>
                  <a:lnTo>
                    <a:pt x="996" y="1752"/>
                  </a:lnTo>
                  <a:lnTo>
                    <a:pt x="876" y="1586"/>
                  </a:lnTo>
                  <a:lnTo>
                    <a:pt x="778" y="1449"/>
                  </a:lnTo>
                  <a:lnTo>
                    <a:pt x="736" y="1389"/>
                  </a:lnTo>
                  <a:lnTo>
                    <a:pt x="699" y="1334"/>
                  </a:lnTo>
                  <a:lnTo>
                    <a:pt x="667" y="1283"/>
                  </a:lnTo>
                  <a:lnTo>
                    <a:pt x="639" y="1236"/>
                  </a:lnTo>
                  <a:lnTo>
                    <a:pt x="627" y="1212"/>
                  </a:lnTo>
                  <a:lnTo>
                    <a:pt x="616" y="1189"/>
                  </a:lnTo>
                  <a:lnTo>
                    <a:pt x="606" y="1168"/>
                  </a:lnTo>
                  <a:lnTo>
                    <a:pt x="596" y="1147"/>
                  </a:lnTo>
                  <a:lnTo>
                    <a:pt x="588" y="1125"/>
                  </a:lnTo>
                  <a:lnTo>
                    <a:pt x="580" y="1104"/>
                  </a:lnTo>
                  <a:lnTo>
                    <a:pt x="574" y="1083"/>
                  </a:lnTo>
                  <a:lnTo>
                    <a:pt x="567" y="1062"/>
                  </a:lnTo>
                  <a:lnTo>
                    <a:pt x="562" y="1041"/>
                  </a:lnTo>
                  <a:lnTo>
                    <a:pt x="558" y="1020"/>
                  </a:lnTo>
                  <a:lnTo>
                    <a:pt x="554" y="997"/>
                  </a:lnTo>
                  <a:lnTo>
                    <a:pt x="551" y="976"/>
                  </a:lnTo>
                  <a:lnTo>
                    <a:pt x="549" y="954"/>
                  </a:lnTo>
                  <a:lnTo>
                    <a:pt x="548" y="931"/>
                  </a:lnTo>
                  <a:lnTo>
                    <a:pt x="547" y="906"/>
                  </a:lnTo>
                  <a:lnTo>
                    <a:pt x="547" y="883"/>
                  </a:lnTo>
                  <a:lnTo>
                    <a:pt x="547" y="866"/>
                  </a:lnTo>
                  <a:lnTo>
                    <a:pt x="548" y="850"/>
                  </a:lnTo>
                  <a:lnTo>
                    <a:pt x="550" y="833"/>
                  </a:lnTo>
                  <a:lnTo>
                    <a:pt x="553" y="817"/>
                  </a:lnTo>
                  <a:lnTo>
                    <a:pt x="558" y="801"/>
                  </a:lnTo>
                  <a:lnTo>
                    <a:pt x="562" y="785"/>
                  </a:lnTo>
                  <a:lnTo>
                    <a:pt x="567" y="770"/>
                  </a:lnTo>
                  <a:lnTo>
                    <a:pt x="573" y="756"/>
                  </a:lnTo>
                  <a:lnTo>
                    <a:pt x="579" y="741"/>
                  </a:lnTo>
                  <a:lnTo>
                    <a:pt x="587" y="727"/>
                  </a:lnTo>
                  <a:lnTo>
                    <a:pt x="594" y="714"/>
                  </a:lnTo>
                  <a:lnTo>
                    <a:pt x="602" y="702"/>
                  </a:lnTo>
                  <a:lnTo>
                    <a:pt x="610" y="689"/>
                  </a:lnTo>
                  <a:lnTo>
                    <a:pt x="620" y="677"/>
                  </a:lnTo>
                  <a:lnTo>
                    <a:pt x="628" y="666"/>
                  </a:lnTo>
                  <a:lnTo>
                    <a:pt x="639" y="655"/>
                  </a:lnTo>
                  <a:lnTo>
                    <a:pt x="649" y="646"/>
                  </a:lnTo>
                  <a:lnTo>
                    <a:pt x="660" y="637"/>
                  </a:lnTo>
                  <a:lnTo>
                    <a:pt x="670" y="629"/>
                  </a:lnTo>
                  <a:lnTo>
                    <a:pt x="681" y="621"/>
                  </a:lnTo>
                  <a:lnTo>
                    <a:pt x="692" y="615"/>
                  </a:lnTo>
                  <a:lnTo>
                    <a:pt x="704" y="608"/>
                  </a:lnTo>
                  <a:lnTo>
                    <a:pt x="715" y="604"/>
                  </a:lnTo>
                  <a:lnTo>
                    <a:pt x="726" y="600"/>
                  </a:lnTo>
                  <a:lnTo>
                    <a:pt x="738" y="596"/>
                  </a:lnTo>
                  <a:lnTo>
                    <a:pt x="750" y="594"/>
                  </a:lnTo>
                  <a:lnTo>
                    <a:pt x="761" y="594"/>
                  </a:lnTo>
                  <a:lnTo>
                    <a:pt x="772" y="594"/>
                  </a:lnTo>
                  <a:lnTo>
                    <a:pt x="784" y="595"/>
                  </a:lnTo>
                  <a:lnTo>
                    <a:pt x="796" y="597"/>
                  </a:lnTo>
                  <a:lnTo>
                    <a:pt x="806" y="601"/>
                  </a:lnTo>
                  <a:lnTo>
                    <a:pt x="817" y="606"/>
                  </a:lnTo>
                  <a:lnTo>
                    <a:pt x="840" y="624"/>
                  </a:lnTo>
                  <a:lnTo>
                    <a:pt x="861" y="643"/>
                  </a:lnTo>
                  <a:lnTo>
                    <a:pt x="882" y="661"/>
                  </a:lnTo>
                  <a:lnTo>
                    <a:pt x="901" y="679"/>
                  </a:lnTo>
                  <a:lnTo>
                    <a:pt x="919" y="697"/>
                  </a:lnTo>
                  <a:lnTo>
                    <a:pt x="936" y="715"/>
                  </a:lnTo>
                  <a:lnTo>
                    <a:pt x="953" y="733"/>
                  </a:lnTo>
                  <a:lnTo>
                    <a:pt x="968" y="750"/>
                  </a:lnTo>
                  <a:lnTo>
                    <a:pt x="997" y="784"/>
                  </a:lnTo>
                  <a:lnTo>
                    <a:pt x="1022" y="817"/>
                  </a:lnTo>
                  <a:lnTo>
                    <a:pt x="1046" y="850"/>
                  </a:lnTo>
                  <a:lnTo>
                    <a:pt x="1066" y="878"/>
                  </a:lnTo>
                  <a:lnTo>
                    <a:pt x="1085" y="906"/>
                  </a:lnTo>
                  <a:lnTo>
                    <a:pt x="1104" y="932"/>
                  </a:lnTo>
                  <a:lnTo>
                    <a:pt x="1121" y="956"/>
                  </a:lnTo>
                  <a:lnTo>
                    <a:pt x="1137" y="976"/>
                  </a:lnTo>
                  <a:lnTo>
                    <a:pt x="1144" y="986"/>
                  </a:lnTo>
                  <a:lnTo>
                    <a:pt x="1153" y="993"/>
                  </a:lnTo>
                  <a:lnTo>
                    <a:pt x="1160" y="1002"/>
                  </a:lnTo>
                  <a:lnTo>
                    <a:pt x="1169" y="1008"/>
                  </a:lnTo>
                  <a:lnTo>
                    <a:pt x="1178" y="1014"/>
                  </a:lnTo>
                  <a:lnTo>
                    <a:pt x="1185" y="1019"/>
                  </a:lnTo>
                  <a:lnTo>
                    <a:pt x="1195" y="1023"/>
                  </a:lnTo>
                  <a:lnTo>
                    <a:pt x="1203" y="1026"/>
                  </a:lnTo>
                  <a:lnTo>
                    <a:pt x="1212" y="1030"/>
                  </a:lnTo>
                  <a:lnTo>
                    <a:pt x="1225" y="1041"/>
                  </a:lnTo>
                  <a:lnTo>
                    <a:pt x="1244" y="1063"/>
                  </a:lnTo>
                  <a:lnTo>
                    <a:pt x="1268" y="1092"/>
                  </a:lnTo>
                  <a:lnTo>
                    <a:pt x="1296" y="1129"/>
                  </a:lnTo>
                  <a:lnTo>
                    <a:pt x="1328" y="1173"/>
                  </a:lnTo>
                  <a:lnTo>
                    <a:pt x="1364" y="1224"/>
                  </a:lnTo>
                  <a:lnTo>
                    <a:pt x="1404" y="1281"/>
                  </a:lnTo>
                  <a:lnTo>
                    <a:pt x="1491" y="1410"/>
                  </a:lnTo>
                  <a:lnTo>
                    <a:pt x="1588" y="1558"/>
                  </a:lnTo>
                  <a:lnTo>
                    <a:pt x="1693" y="1720"/>
                  </a:lnTo>
                  <a:lnTo>
                    <a:pt x="1802" y="1893"/>
                  </a:lnTo>
                  <a:lnTo>
                    <a:pt x="1912" y="2071"/>
                  </a:lnTo>
                  <a:lnTo>
                    <a:pt x="2021" y="2250"/>
                  </a:lnTo>
                  <a:lnTo>
                    <a:pt x="2074" y="2339"/>
                  </a:lnTo>
                  <a:lnTo>
                    <a:pt x="2126" y="2428"/>
                  </a:lnTo>
                  <a:lnTo>
                    <a:pt x="2176" y="2514"/>
                  </a:lnTo>
                  <a:lnTo>
                    <a:pt x="2224" y="2599"/>
                  </a:lnTo>
                  <a:lnTo>
                    <a:pt x="2270" y="2680"/>
                  </a:lnTo>
                  <a:lnTo>
                    <a:pt x="2314" y="2758"/>
                  </a:lnTo>
                  <a:lnTo>
                    <a:pt x="2354" y="2833"/>
                  </a:lnTo>
                  <a:lnTo>
                    <a:pt x="2392" y="2904"/>
                  </a:lnTo>
                  <a:lnTo>
                    <a:pt x="2425" y="2970"/>
                  </a:lnTo>
                  <a:lnTo>
                    <a:pt x="2454" y="3031"/>
                  </a:lnTo>
                  <a:lnTo>
                    <a:pt x="2480" y="3085"/>
                  </a:lnTo>
                  <a:lnTo>
                    <a:pt x="2499" y="3135"/>
                  </a:lnTo>
                  <a:lnTo>
                    <a:pt x="2499" y="3144"/>
                  </a:lnTo>
                  <a:lnTo>
                    <a:pt x="2499" y="3155"/>
                  </a:lnTo>
                  <a:lnTo>
                    <a:pt x="2499" y="3165"/>
                  </a:lnTo>
                  <a:lnTo>
                    <a:pt x="2499" y="3174"/>
                  </a:lnTo>
                  <a:lnTo>
                    <a:pt x="2499" y="3183"/>
                  </a:lnTo>
                  <a:lnTo>
                    <a:pt x="2499" y="3192"/>
                  </a:lnTo>
                  <a:lnTo>
                    <a:pt x="2499" y="3200"/>
                  </a:lnTo>
                  <a:lnTo>
                    <a:pt x="2499" y="3209"/>
                  </a:lnTo>
                  <a:lnTo>
                    <a:pt x="2486" y="3171"/>
                  </a:lnTo>
                  <a:lnTo>
                    <a:pt x="2472" y="3135"/>
                  </a:lnTo>
                  <a:lnTo>
                    <a:pt x="2458" y="3098"/>
                  </a:lnTo>
                  <a:lnTo>
                    <a:pt x="2444" y="3062"/>
                  </a:lnTo>
                  <a:lnTo>
                    <a:pt x="2414" y="2991"/>
                  </a:lnTo>
                  <a:lnTo>
                    <a:pt x="2382" y="2921"/>
                  </a:lnTo>
                  <a:lnTo>
                    <a:pt x="2350" y="2853"/>
                  </a:lnTo>
                  <a:lnTo>
                    <a:pt x="2317" y="2785"/>
                  </a:lnTo>
                  <a:lnTo>
                    <a:pt x="2283" y="2719"/>
                  </a:lnTo>
                  <a:lnTo>
                    <a:pt x="2249" y="2652"/>
                  </a:lnTo>
                  <a:lnTo>
                    <a:pt x="2216" y="2586"/>
                  </a:lnTo>
                  <a:lnTo>
                    <a:pt x="2183" y="2519"/>
                  </a:lnTo>
                  <a:lnTo>
                    <a:pt x="2149" y="2453"/>
                  </a:lnTo>
                  <a:lnTo>
                    <a:pt x="2118" y="2385"/>
                  </a:lnTo>
                  <a:lnTo>
                    <a:pt x="2087" y="2317"/>
                  </a:lnTo>
                  <a:lnTo>
                    <a:pt x="2058" y="2247"/>
                  </a:lnTo>
                  <a:lnTo>
                    <a:pt x="2043" y="2211"/>
                  </a:lnTo>
                  <a:lnTo>
                    <a:pt x="2030" y="2176"/>
                  </a:lnTo>
                  <a:lnTo>
                    <a:pt x="2016" y="2140"/>
                  </a:lnTo>
                  <a:lnTo>
                    <a:pt x="2004" y="2103"/>
                  </a:lnTo>
                  <a:lnTo>
                    <a:pt x="1993" y="2082"/>
                  </a:lnTo>
                  <a:lnTo>
                    <a:pt x="1970" y="2039"/>
                  </a:lnTo>
                  <a:lnTo>
                    <a:pt x="1936" y="1980"/>
                  </a:lnTo>
                  <a:lnTo>
                    <a:pt x="1893" y="1905"/>
                  </a:lnTo>
                  <a:lnTo>
                    <a:pt x="1787" y="1724"/>
                  </a:lnTo>
                  <a:lnTo>
                    <a:pt x="1663" y="1519"/>
                  </a:lnTo>
                  <a:lnTo>
                    <a:pt x="1600" y="1415"/>
                  </a:lnTo>
                  <a:lnTo>
                    <a:pt x="1537" y="1313"/>
                  </a:lnTo>
                  <a:lnTo>
                    <a:pt x="1477" y="1216"/>
                  </a:lnTo>
                  <a:lnTo>
                    <a:pt x="1420" y="1128"/>
                  </a:lnTo>
                  <a:lnTo>
                    <a:pt x="1370" y="1051"/>
                  </a:lnTo>
                  <a:lnTo>
                    <a:pt x="1326" y="989"/>
                  </a:lnTo>
                  <a:lnTo>
                    <a:pt x="1307" y="963"/>
                  </a:lnTo>
                  <a:lnTo>
                    <a:pt x="1291" y="943"/>
                  </a:lnTo>
                  <a:lnTo>
                    <a:pt x="1277" y="928"/>
                  </a:lnTo>
                  <a:lnTo>
                    <a:pt x="1267" y="917"/>
                  </a:lnTo>
                  <a:lnTo>
                    <a:pt x="1247" y="901"/>
                  </a:lnTo>
                  <a:lnTo>
                    <a:pt x="1227" y="884"/>
                  </a:lnTo>
                  <a:lnTo>
                    <a:pt x="1207" y="865"/>
                  </a:lnTo>
                  <a:lnTo>
                    <a:pt x="1187" y="844"/>
                  </a:lnTo>
                  <a:lnTo>
                    <a:pt x="1167" y="823"/>
                  </a:lnTo>
                  <a:lnTo>
                    <a:pt x="1146" y="800"/>
                  </a:lnTo>
                  <a:lnTo>
                    <a:pt x="1126" y="778"/>
                  </a:lnTo>
                  <a:lnTo>
                    <a:pt x="1107" y="753"/>
                  </a:lnTo>
                  <a:lnTo>
                    <a:pt x="1087" y="729"/>
                  </a:lnTo>
                  <a:lnTo>
                    <a:pt x="1069" y="705"/>
                  </a:lnTo>
                  <a:lnTo>
                    <a:pt x="1051" y="680"/>
                  </a:lnTo>
                  <a:lnTo>
                    <a:pt x="1034" y="655"/>
                  </a:lnTo>
                  <a:lnTo>
                    <a:pt x="1017" y="631"/>
                  </a:lnTo>
                  <a:lnTo>
                    <a:pt x="1001" y="607"/>
                  </a:lnTo>
                  <a:lnTo>
                    <a:pt x="987" y="582"/>
                  </a:lnTo>
                  <a:lnTo>
                    <a:pt x="973" y="560"/>
                  </a:lnTo>
                  <a:lnTo>
                    <a:pt x="965" y="546"/>
                  </a:lnTo>
                  <a:lnTo>
                    <a:pt x="959" y="533"/>
                  </a:lnTo>
                  <a:lnTo>
                    <a:pt x="953" y="519"/>
                  </a:lnTo>
                  <a:lnTo>
                    <a:pt x="948" y="506"/>
                  </a:lnTo>
                  <a:lnTo>
                    <a:pt x="939" y="481"/>
                  </a:lnTo>
                  <a:lnTo>
                    <a:pt x="933" y="454"/>
                  </a:lnTo>
                  <a:lnTo>
                    <a:pt x="928" y="428"/>
                  </a:lnTo>
                  <a:lnTo>
                    <a:pt x="926" y="402"/>
                  </a:lnTo>
                  <a:lnTo>
                    <a:pt x="923" y="378"/>
                  </a:lnTo>
                  <a:lnTo>
                    <a:pt x="923" y="353"/>
                  </a:lnTo>
                  <a:lnTo>
                    <a:pt x="924" y="328"/>
                  </a:lnTo>
                  <a:lnTo>
                    <a:pt x="927" y="304"/>
                  </a:lnTo>
                  <a:lnTo>
                    <a:pt x="930" y="279"/>
                  </a:lnTo>
                  <a:lnTo>
                    <a:pt x="932" y="255"/>
                  </a:lnTo>
                  <a:lnTo>
                    <a:pt x="938" y="208"/>
                  </a:lnTo>
                  <a:lnTo>
                    <a:pt x="944" y="162"/>
                  </a:lnTo>
                  <a:lnTo>
                    <a:pt x="970" y="134"/>
                  </a:lnTo>
                  <a:lnTo>
                    <a:pt x="994" y="110"/>
                  </a:lnTo>
                  <a:lnTo>
                    <a:pt x="1018" y="88"/>
                  </a:lnTo>
                  <a:lnTo>
                    <a:pt x="1041" y="68"/>
                  </a:lnTo>
                  <a:lnTo>
                    <a:pt x="1064" y="52"/>
                  </a:lnTo>
                  <a:lnTo>
                    <a:pt x="1086" y="37"/>
                  </a:lnTo>
                  <a:lnTo>
                    <a:pt x="1109" y="25"/>
                  </a:lnTo>
                  <a:lnTo>
                    <a:pt x="1130" y="16"/>
                  </a:lnTo>
                  <a:lnTo>
                    <a:pt x="1151" y="9"/>
                  </a:lnTo>
                  <a:lnTo>
                    <a:pt x="1172" y="3"/>
                  </a:lnTo>
                  <a:lnTo>
                    <a:pt x="1193" y="1"/>
                  </a:lnTo>
                  <a:lnTo>
                    <a:pt x="1213" y="0"/>
                  </a:lnTo>
                  <a:lnTo>
                    <a:pt x="1232" y="1"/>
                  </a:lnTo>
                  <a:lnTo>
                    <a:pt x="1253" y="4"/>
                  </a:lnTo>
                  <a:lnTo>
                    <a:pt x="1272" y="10"/>
                  </a:lnTo>
                  <a:lnTo>
                    <a:pt x="1291" y="17"/>
                  </a:lnTo>
                  <a:lnTo>
                    <a:pt x="1311" y="26"/>
                  </a:lnTo>
                  <a:lnTo>
                    <a:pt x="1329" y="36"/>
                  </a:lnTo>
                  <a:lnTo>
                    <a:pt x="1348" y="48"/>
                  </a:lnTo>
                  <a:lnTo>
                    <a:pt x="1366" y="61"/>
                  </a:lnTo>
                  <a:lnTo>
                    <a:pt x="1386" y="76"/>
                  </a:lnTo>
                  <a:lnTo>
                    <a:pt x="1404" y="92"/>
                  </a:lnTo>
                  <a:lnTo>
                    <a:pt x="1423" y="110"/>
                  </a:lnTo>
                  <a:lnTo>
                    <a:pt x="1441" y="129"/>
                  </a:lnTo>
                  <a:lnTo>
                    <a:pt x="1460" y="148"/>
                  </a:lnTo>
                  <a:lnTo>
                    <a:pt x="1479" y="170"/>
                  </a:lnTo>
                  <a:lnTo>
                    <a:pt x="1498" y="191"/>
                  </a:lnTo>
                  <a:lnTo>
                    <a:pt x="1516" y="214"/>
                  </a:lnTo>
                  <a:lnTo>
                    <a:pt x="1555" y="262"/>
                  </a:lnTo>
                  <a:lnTo>
                    <a:pt x="1595" y="312"/>
                  </a:lnTo>
                  <a:lnTo>
                    <a:pt x="1617" y="334"/>
                  </a:lnTo>
                  <a:lnTo>
                    <a:pt x="1644" y="360"/>
                  </a:lnTo>
                  <a:lnTo>
                    <a:pt x="1674" y="392"/>
                  </a:lnTo>
                  <a:lnTo>
                    <a:pt x="1706" y="427"/>
                  </a:lnTo>
                  <a:lnTo>
                    <a:pt x="1777" y="505"/>
                  </a:lnTo>
                  <a:lnTo>
                    <a:pt x="1851" y="589"/>
                  </a:lnTo>
                  <a:lnTo>
                    <a:pt x="1924" y="671"/>
                  </a:lnTo>
                  <a:lnTo>
                    <a:pt x="1992" y="747"/>
                  </a:lnTo>
                  <a:lnTo>
                    <a:pt x="2022" y="779"/>
                  </a:lnTo>
                  <a:lnTo>
                    <a:pt x="2048" y="808"/>
                  </a:lnTo>
                  <a:lnTo>
                    <a:pt x="2072" y="830"/>
                  </a:lnTo>
                  <a:lnTo>
                    <a:pt x="2090" y="847"/>
                  </a:lnTo>
                  <a:lnTo>
                    <a:pt x="2119" y="854"/>
                  </a:lnTo>
                  <a:lnTo>
                    <a:pt x="2132" y="875"/>
                  </a:lnTo>
                  <a:lnTo>
                    <a:pt x="2149" y="901"/>
                  </a:lnTo>
                  <a:lnTo>
                    <a:pt x="2171" y="930"/>
                  </a:lnTo>
                  <a:lnTo>
                    <a:pt x="2194" y="962"/>
                  </a:lnTo>
                  <a:lnTo>
                    <a:pt x="2247" y="1034"/>
                  </a:lnTo>
                  <a:lnTo>
                    <a:pt x="2303" y="1112"/>
                  </a:lnTo>
                  <a:lnTo>
                    <a:pt x="2329" y="1152"/>
                  </a:lnTo>
                  <a:lnTo>
                    <a:pt x="2355" y="1192"/>
                  </a:lnTo>
                  <a:lnTo>
                    <a:pt x="2379" y="1231"/>
                  </a:lnTo>
                  <a:lnTo>
                    <a:pt x="2399" y="1269"/>
                  </a:lnTo>
                  <a:lnTo>
                    <a:pt x="2409" y="1288"/>
                  </a:lnTo>
                  <a:lnTo>
                    <a:pt x="2417" y="1305"/>
                  </a:lnTo>
                  <a:lnTo>
                    <a:pt x="2424" y="1324"/>
                  </a:lnTo>
                  <a:lnTo>
                    <a:pt x="2430" y="1341"/>
                  </a:lnTo>
                  <a:lnTo>
                    <a:pt x="2436" y="1357"/>
                  </a:lnTo>
                  <a:lnTo>
                    <a:pt x="2439" y="1372"/>
                  </a:lnTo>
                  <a:lnTo>
                    <a:pt x="2441" y="1387"/>
                  </a:lnTo>
                  <a:lnTo>
                    <a:pt x="2442" y="1401"/>
                  </a:lnTo>
                  <a:lnTo>
                    <a:pt x="2463" y="1428"/>
                  </a:lnTo>
                  <a:lnTo>
                    <a:pt x="2485" y="1455"/>
                  </a:lnTo>
                  <a:lnTo>
                    <a:pt x="2505" y="1482"/>
                  </a:lnTo>
                  <a:lnTo>
                    <a:pt x="2526" y="1510"/>
                  </a:lnTo>
                  <a:lnTo>
                    <a:pt x="2563" y="1566"/>
                  </a:lnTo>
                  <a:lnTo>
                    <a:pt x="2600" y="1622"/>
                  </a:lnTo>
                  <a:lnTo>
                    <a:pt x="2634" y="1678"/>
                  </a:lnTo>
                  <a:lnTo>
                    <a:pt x="2666" y="1735"/>
                  </a:lnTo>
                  <a:lnTo>
                    <a:pt x="2697" y="1793"/>
                  </a:lnTo>
                  <a:lnTo>
                    <a:pt x="2726" y="1851"/>
                  </a:lnTo>
                  <a:lnTo>
                    <a:pt x="2754" y="1910"/>
                  </a:lnTo>
                  <a:lnTo>
                    <a:pt x="2780" y="1969"/>
                  </a:lnTo>
                  <a:lnTo>
                    <a:pt x="2806" y="2028"/>
                  </a:lnTo>
                  <a:lnTo>
                    <a:pt x="2830" y="2087"/>
                  </a:lnTo>
                  <a:lnTo>
                    <a:pt x="2853" y="2147"/>
                  </a:lnTo>
                  <a:lnTo>
                    <a:pt x="2876" y="2207"/>
                  </a:lnTo>
                  <a:lnTo>
                    <a:pt x="2898" y="2267"/>
                  </a:lnTo>
                  <a:lnTo>
                    <a:pt x="2920" y="2328"/>
                  </a:lnTo>
                  <a:lnTo>
                    <a:pt x="2920" y="2341"/>
                  </a:lnTo>
                  <a:lnTo>
                    <a:pt x="2924" y="2353"/>
                  </a:lnTo>
                  <a:lnTo>
                    <a:pt x="2927" y="2366"/>
                  </a:lnTo>
                  <a:lnTo>
                    <a:pt x="2932" y="2378"/>
                  </a:lnTo>
                  <a:lnTo>
                    <a:pt x="2945" y="2402"/>
                  </a:lnTo>
                  <a:lnTo>
                    <a:pt x="2960" y="2427"/>
                  </a:lnTo>
                  <a:lnTo>
                    <a:pt x="2975" y="2452"/>
                  </a:lnTo>
                  <a:lnTo>
                    <a:pt x="2988" y="2476"/>
                  </a:lnTo>
                  <a:lnTo>
                    <a:pt x="2993" y="2489"/>
                  </a:lnTo>
                  <a:lnTo>
                    <a:pt x="2997" y="2502"/>
                  </a:lnTo>
                  <a:lnTo>
                    <a:pt x="3000" y="2516"/>
                  </a:lnTo>
                  <a:lnTo>
                    <a:pt x="3001" y="2530"/>
                  </a:lnTo>
                  <a:lnTo>
                    <a:pt x="3008" y="2571"/>
                  </a:lnTo>
                  <a:lnTo>
                    <a:pt x="3013" y="2590"/>
                  </a:lnTo>
                  <a:lnTo>
                    <a:pt x="3012" y="2590"/>
                  </a:lnTo>
                  <a:lnTo>
                    <a:pt x="3007" y="2572"/>
                  </a:lnTo>
                  <a:lnTo>
                    <a:pt x="2989" y="2496"/>
                  </a:lnTo>
                  <a:lnTo>
                    <a:pt x="2961" y="2378"/>
                  </a:lnTo>
                  <a:lnTo>
                    <a:pt x="2928" y="2239"/>
                  </a:lnTo>
                  <a:lnTo>
                    <a:pt x="2892" y="2098"/>
                  </a:lnTo>
                  <a:lnTo>
                    <a:pt x="2874" y="2032"/>
                  </a:lnTo>
                  <a:lnTo>
                    <a:pt x="2857" y="1973"/>
                  </a:lnTo>
                  <a:lnTo>
                    <a:pt x="2842" y="1923"/>
                  </a:lnTo>
                  <a:lnTo>
                    <a:pt x="2828" y="1884"/>
                  </a:lnTo>
                  <a:lnTo>
                    <a:pt x="2814" y="1856"/>
                  </a:lnTo>
                  <a:lnTo>
                    <a:pt x="2800" y="1826"/>
                  </a:lnTo>
                  <a:lnTo>
                    <a:pt x="2784" y="1796"/>
                  </a:lnTo>
                  <a:lnTo>
                    <a:pt x="2768" y="1766"/>
                  </a:lnTo>
                  <a:lnTo>
                    <a:pt x="2750" y="1735"/>
                  </a:lnTo>
                  <a:lnTo>
                    <a:pt x="2731" y="1703"/>
                  </a:lnTo>
                  <a:lnTo>
                    <a:pt x="2711" y="1671"/>
                  </a:lnTo>
                  <a:lnTo>
                    <a:pt x="2690" y="1639"/>
                  </a:lnTo>
                  <a:lnTo>
                    <a:pt x="2647" y="1572"/>
                  </a:lnTo>
                  <a:lnTo>
                    <a:pt x="2600" y="1504"/>
                  </a:lnTo>
                  <a:lnTo>
                    <a:pt x="2551" y="1436"/>
                  </a:lnTo>
                  <a:lnTo>
                    <a:pt x="2501" y="1366"/>
                  </a:lnTo>
                  <a:lnTo>
                    <a:pt x="2399" y="1230"/>
                  </a:lnTo>
                  <a:lnTo>
                    <a:pt x="2298" y="1096"/>
                  </a:lnTo>
                  <a:lnTo>
                    <a:pt x="2250" y="1032"/>
                  </a:lnTo>
                  <a:lnTo>
                    <a:pt x="2204" y="970"/>
                  </a:lnTo>
                  <a:lnTo>
                    <a:pt x="2160" y="911"/>
                  </a:lnTo>
                  <a:lnTo>
                    <a:pt x="2119" y="854"/>
                  </a:lnTo>
                  <a:lnTo>
                    <a:pt x="2110" y="840"/>
                  </a:lnTo>
                  <a:lnTo>
                    <a:pt x="2099" y="826"/>
                  </a:lnTo>
                  <a:lnTo>
                    <a:pt x="2086" y="811"/>
                  </a:lnTo>
                  <a:lnTo>
                    <a:pt x="2073" y="796"/>
                  </a:lnTo>
                  <a:lnTo>
                    <a:pt x="2043" y="763"/>
                  </a:lnTo>
                  <a:lnTo>
                    <a:pt x="2011" y="729"/>
                  </a:lnTo>
                  <a:lnTo>
                    <a:pt x="1979" y="695"/>
                  </a:lnTo>
                  <a:lnTo>
                    <a:pt x="1948" y="662"/>
                  </a:lnTo>
                  <a:lnTo>
                    <a:pt x="1919" y="630"/>
                  </a:lnTo>
                  <a:lnTo>
                    <a:pt x="1895" y="600"/>
                  </a:lnTo>
                  <a:lnTo>
                    <a:pt x="1904" y="534"/>
                  </a:lnTo>
                  <a:lnTo>
                    <a:pt x="1912" y="475"/>
                  </a:lnTo>
                  <a:lnTo>
                    <a:pt x="1917" y="448"/>
                  </a:lnTo>
                  <a:lnTo>
                    <a:pt x="1922" y="423"/>
                  </a:lnTo>
                  <a:lnTo>
                    <a:pt x="1928" y="400"/>
                  </a:lnTo>
                  <a:lnTo>
                    <a:pt x="1936" y="380"/>
                  </a:lnTo>
                  <a:lnTo>
                    <a:pt x="1941" y="370"/>
                  </a:lnTo>
                  <a:lnTo>
                    <a:pt x="1945" y="362"/>
                  </a:lnTo>
                  <a:lnTo>
                    <a:pt x="1952" y="353"/>
                  </a:lnTo>
                  <a:lnTo>
                    <a:pt x="1957" y="345"/>
                  </a:lnTo>
                  <a:lnTo>
                    <a:pt x="1964" y="339"/>
                  </a:lnTo>
                  <a:lnTo>
                    <a:pt x="1971" y="333"/>
                  </a:lnTo>
                  <a:lnTo>
                    <a:pt x="1980" y="326"/>
                  </a:lnTo>
                  <a:lnTo>
                    <a:pt x="1988" y="322"/>
                  </a:lnTo>
                  <a:lnTo>
                    <a:pt x="1998" y="318"/>
                  </a:lnTo>
                  <a:lnTo>
                    <a:pt x="2009" y="313"/>
                  </a:lnTo>
                  <a:lnTo>
                    <a:pt x="2019" y="310"/>
                  </a:lnTo>
                  <a:lnTo>
                    <a:pt x="2032" y="308"/>
                  </a:lnTo>
                  <a:lnTo>
                    <a:pt x="2045" y="307"/>
                  </a:lnTo>
                  <a:lnTo>
                    <a:pt x="2059" y="306"/>
                  </a:lnTo>
                  <a:lnTo>
                    <a:pt x="2074" y="306"/>
                  </a:lnTo>
                  <a:lnTo>
                    <a:pt x="2090" y="307"/>
                  </a:lnTo>
                  <a:lnTo>
                    <a:pt x="2104" y="307"/>
                  </a:lnTo>
                  <a:lnTo>
                    <a:pt x="2119" y="309"/>
                  </a:lnTo>
                  <a:lnTo>
                    <a:pt x="2134" y="313"/>
                  </a:lnTo>
                  <a:lnTo>
                    <a:pt x="2150" y="319"/>
                  </a:lnTo>
                  <a:lnTo>
                    <a:pt x="2166" y="325"/>
                  </a:lnTo>
                  <a:lnTo>
                    <a:pt x="2184" y="333"/>
                  </a:lnTo>
                  <a:lnTo>
                    <a:pt x="2201" y="341"/>
                  </a:lnTo>
                  <a:lnTo>
                    <a:pt x="2219" y="351"/>
                  </a:lnTo>
                  <a:lnTo>
                    <a:pt x="2236" y="362"/>
                  </a:lnTo>
                  <a:lnTo>
                    <a:pt x="2254" y="373"/>
                  </a:lnTo>
                  <a:lnTo>
                    <a:pt x="2274" y="386"/>
                  </a:lnTo>
                  <a:lnTo>
                    <a:pt x="2292" y="400"/>
                  </a:lnTo>
                  <a:lnTo>
                    <a:pt x="2329" y="429"/>
                  </a:lnTo>
                  <a:lnTo>
                    <a:pt x="2368" y="460"/>
                  </a:lnTo>
                  <a:lnTo>
                    <a:pt x="2405" y="492"/>
                  </a:lnTo>
                  <a:lnTo>
                    <a:pt x="2441" y="527"/>
                  </a:lnTo>
                  <a:lnTo>
                    <a:pt x="2476" y="561"/>
                  </a:lnTo>
                  <a:lnTo>
                    <a:pt x="2510" y="595"/>
                  </a:lnTo>
                  <a:lnTo>
                    <a:pt x="2540" y="630"/>
                  </a:lnTo>
                  <a:lnTo>
                    <a:pt x="2569" y="662"/>
                  </a:lnTo>
                  <a:lnTo>
                    <a:pt x="2593" y="693"/>
                  </a:lnTo>
                  <a:lnTo>
                    <a:pt x="2615" y="721"/>
                  </a:lnTo>
                  <a:lnTo>
                    <a:pt x="2639" y="755"/>
                  </a:lnTo>
                  <a:lnTo>
                    <a:pt x="2663" y="789"/>
                  </a:lnTo>
                  <a:lnTo>
                    <a:pt x="2687" y="824"/>
                  </a:lnTo>
                  <a:lnTo>
                    <a:pt x="2708" y="858"/>
                  </a:lnTo>
                  <a:lnTo>
                    <a:pt x="2729" y="892"/>
                  </a:lnTo>
                  <a:lnTo>
                    <a:pt x="2750" y="927"/>
                  </a:lnTo>
                  <a:lnTo>
                    <a:pt x="2769" y="962"/>
                  </a:lnTo>
                  <a:lnTo>
                    <a:pt x="2788" y="996"/>
                  </a:lnTo>
                  <a:lnTo>
                    <a:pt x="2807" y="1031"/>
                  </a:lnTo>
                  <a:lnTo>
                    <a:pt x="2824" y="1066"/>
                  </a:lnTo>
                  <a:lnTo>
                    <a:pt x="2841" y="1102"/>
                  </a:lnTo>
                  <a:lnTo>
                    <a:pt x="2857" y="1136"/>
                  </a:lnTo>
                  <a:lnTo>
                    <a:pt x="2888" y="1207"/>
                  </a:lnTo>
                  <a:lnTo>
                    <a:pt x="2917" y="1277"/>
                  </a:lnTo>
                  <a:lnTo>
                    <a:pt x="2944" y="1348"/>
                  </a:lnTo>
                  <a:lnTo>
                    <a:pt x="2971" y="1419"/>
                  </a:lnTo>
                  <a:lnTo>
                    <a:pt x="2995" y="1491"/>
                  </a:lnTo>
                  <a:lnTo>
                    <a:pt x="3020" y="1562"/>
                  </a:lnTo>
                  <a:lnTo>
                    <a:pt x="3067" y="1705"/>
                  </a:lnTo>
                  <a:lnTo>
                    <a:pt x="3116" y="1850"/>
                  </a:lnTo>
                  <a:lnTo>
                    <a:pt x="3139" y="1899"/>
                  </a:lnTo>
                  <a:lnTo>
                    <a:pt x="3162" y="1954"/>
                  </a:lnTo>
                  <a:lnTo>
                    <a:pt x="3182" y="2011"/>
                  </a:lnTo>
                  <a:lnTo>
                    <a:pt x="3202" y="2072"/>
                  </a:lnTo>
                  <a:lnTo>
                    <a:pt x="3223" y="2136"/>
                  </a:lnTo>
                  <a:lnTo>
                    <a:pt x="3241" y="2204"/>
                  </a:lnTo>
                  <a:lnTo>
                    <a:pt x="3259" y="2274"/>
                  </a:lnTo>
                  <a:lnTo>
                    <a:pt x="3278" y="2346"/>
                  </a:lnTo>
                  <a:lnTo>
                    <a:pt x="3295" y="2418"/>
                  </a:lnTo>
                  <a:lnTo>
                    <a:pt x="3311" y="2494"/>
                  </a:lnTo>
                  <a:lnTo>
                    <a:pt x="3328" y="2569"/>
                  </a:lnTo>
                  <a:lnTo>
                    <a:pt x="3343" y="2646"/>
                  </a:lnTo>
                  <a:lnTo>
                    <a:pt x="3375" y="2799"/>
                  </a:lnTo>
                  <a:lnTo>
                    <a:pt x="3406" y="2950"/>
                  </a:lnTo>
                  <a:lnTo>
                    <a:pt x="3421" y="3025"/>
                  </a:lnTo>
                  <a:lnTo>
                    <a:pt x="3437" y="3098"/>
                  </a:lnTo>
                  <a:lnTo>
                    <a:pt x="3453" y="3170"/>
                  </a:lnTo>
                  <a:lnTo>
                    <a:pt x="3470" y="3239"/>
                  </a:lnTo>
                  <a:lnTo>
                    <a:pt x="3486" y="3306"/>
                  </a:lnTo>
                  <a:lnTo>
                    <a:pt x="3503" y="3371"/>
                  </a:lnTo>
                  <a:lnTo>
                    <a:pt x="3520" y="3431"/>
                  </a:lnTo>
                  <a:lnTo>
                    <a:pt x="3538" y="3489"/>
                  </a:lnTo>
                  <a:lnTo>
                    <a:pt x="3556" y="3542"/>
                  </a:lnTo>
                  <a:lnTo>
                    <a:pt x="3576" y="3592"/>
                  </a:lnTo>
                  <a:lnTo>
                    <a:pt x="3595" y="3637"/>
                  </a:lnTo>
                  <a:lnTo>
                    <a:pt x="3616" y="3676"/>
                  </a:lnTo>
                  <a:lnTo>
                    <a:pt x="3638" y="3711"/>
                  </a:lnTo>
                  <a:lnTo>
                    <a:pt x="3660" y="3740"/>
                  </a:lnTo>
                  <a:lnTo>
                    <a:pt x="3684" y="3763"/>
                  </a:lnTo>
                  <a:lnTo>
                    <a:pt x="3709" y="3779"/>
                  </a:lnTo>
                  <a:lnTo>
                    <a:pt x="3757" y="4017"/>
                  </a:lnTo>
                  <a:lnTo>
                    <a:pt x="3798" y="4231"/>
                  </a:lnTo>
                  <a:lnTo>
                    <a:pt x="3834" y="4427"/>
                  </a:lnTo>
                  <a:lnTo>
                    <a:pt x="3867" y="4614"/>
                  </a:lnTo>
                  <a:lnTo>
                    <a:pt x="3900" y="4800"/>
                  </a:lnTo>
                  <a:lnTo>
                    <a:pt x="3933" y="4992"/>
                  </a:lnTo>
                  <a:lnTo>
                    <a:pt x="3968" y="5198"/>
                  </a:lnTo>
                  <a:lnTo>
                    <a:pt x="4009" y="5427"/>
                  </a:lnTo>
                  <a:lnTo>
                    <a:pt x="4015" y="5454"/>
                  </a:lnTo>
                  <a:lnTo>
                    <a:pt x="4024" y="5484"/>
                  </a:lnTo>
                  <a:lnTo>
                    <a:pt x="4034" y="5514"/>
                  </a:lnTo>
                  <a:lnTo>
                    <a:pt x="4044" y="5547"/>
                  </a:lnTo>
                  <a:lnTo>
                    <a:pt x="4066" y="5612"/>
                  </a:lnTo>
                  <a:lnTo>
                    <a:pt x="4087" y="5681"/>
                  </a:lnTo>
                  <a:lnTo>
                    <a:pt x="4097" y="5714"/>
                  </a:lnTo>
                  <a:lnTo>
                    <a:pt x="4105" y="5748"/>
                  </a:lnTo>
                  <a:lnTo>
                    <a:pt x="4112" y="5782"/>
                  </a:lnTo>
                  <a:lnTo>
                    <a:pt x="4118" y="5814"/>
                  </a:lnTo>
                  <a:lnTo>
                    <a:pt x="4122" y="5846"/>
                  </a:lnTo>
                  <a:lnTo>
                    <a:pt x="4123" y="5876"/>
                  </a:lnTo>
                  <a:lnTo>
                    <a:pt x="4123" y="5891"/>
                  </a:lnTo>
                  <a:lnTo>
                    <a:pt x="4122" y="5906"/>
                  </a:lnTo>
                  <a:lnTo>
                    <a:pt x="4121" y="5920"/>
                  </a:lnTo>
                  <a:lnTo>
                    <a:pt x="4118" y="5934"/>
                  </a:lnTo>
                  <a:lnTo>
                    <a:pt x="4112" y="5970"/>
                  </a:lnTo>
                  <a:lnTo>
                    <a:pt x="4107" y="6007"/>
                  </a:lnTo>
                  <a:lnTo>
                    <a:pt x="4102" y="6045"/>
                  </a:lnTo>
                  <a:lnTo>
                    <a:pt x="4100" y="6084"/>
                  </a:lnTo>
                  <a:lnTo>
                    <a:pt x="4099" y="6125"/>
                  </a:lnTo>
                  <a:lnTo>
                    <a:pt x="4099" y="6164"/>
                  </a:lnTo>
                  <a:lnTo>
                    <a:pt x="4100" y="6206"/>
                  </a:lnTo>
                  <a:lnTo>
                    <a:pt x="4102" y="6248"/>
                  </a:lnTo>
                  <a:lnTo>
                    <a:pt x="4105" y="6290"/>
                  </a:lnTo>
                  <a:lnTo>
                    <a:pt x="4110" y="6332"/>
                  </a:lnTo>
                  <a:lnTo>
                    <a:pt x="4116" y="6375"/>
                  </a:lnTo>
                  <a:lnTo>
                    <a:pt x="4123" y="6417"/>
                  </a:lnTo>
                  <a:lnTo>
                    <a:pt x="4131" y="6460"/>
                  </a:lnTo>
                  <a:lnTo>
                    <a:pt x="4140" y="6502"/>
                  </a:lnTo>
                  <a:lnTo>
                    <a:pt x="4151" y="6545"/>
                  </a:lnTo>
                  <a:lnTo>
                    <a:pt x="4162" y="6587"/>
                  </a:lnTo>
                  <a:lnTo>
                    <a:pt x="4174" y="6630"/>
                  </a:lnTo>
                  <a:lnTo>
                    <a:pt x="4188" y="6671"/>
                  </a:lnTo>
                  <a:lnTo>
                    <a:pt x="4203" y="6711"/>
                  </a:lnTo>
                  <a:lnTo>
                    <a:pt x="4219" y="6752"/>
                  </a:lnTo>
                  <a:lnTo>
                    <a:pt x="4235" y="6792"/>
                  </a:lnTo>
                  <a:lnTo>
                    <a:pt x="4253" y="6830"/>
                  </a:lnTo>
                  <a:lnTo>
                    <a:pt x="4272" y="6869"/>
                  </a:lnTo>
                  <a:lnTo>
                    <a:pt x="4292" y="6905"/>
                  </a:lnTo>
                  <a:lnTo>
                    <a:pt x="4314" y="6942"/>
                  </a:lnTo>
                  <a:lnTo>
                    <a:pt x="4335" y="6976"/>
                  </a:lnTo>
                  <a:lnTo>
                    <a:pt x="4358" y="7009"/>
                  </a:lnTo>
                  <a:lnTo>
                    <a:pt x="4382" y="7042"/>
                  </a:lnTo>
                  <a:lnTo>
                    <a:pt x="4407" y="7073"/>
                  </a:lnTo>
                  <a:lnTo>
                    <a:pt x="4433" y="7102"/>
                  </a:lnTo>
                  <a:lnTo>
                    <a:pt x="4459" y="7128"/>
                  </a:lnTo>
                  <a:lnTo>
                    <a:pt x="4486" y="7154"/>
                  </a:lnTo>
                  <a:lnTo>
                    <a:pt x="4462" y="7143"/>
                  </a:lnTo>
                  <a:lnTo>
                    <a:pt x="4438" y="7133"/>
                  </a:lnTo>
                  <a:lnTo>
                    <a:pt x="4415" y="7121"/>
                  </a:lnTo>
                  <a:lnTo>
                    <a:pt x="4394" y="7109"/>
                  </a:lnTo>
                  <a:lnTo>
                    <a:pt x="4353" y="7084"/>
                  </a:lnTo>
                  <a:lnTo>
                    <a:pt x="4316" y="7060"/>
                  </a:lnTo>
                  <a:lnTo>
                    <a:pt x="4280" y="7036"/>
                  </a:lnTo>
                  <a:lnTo>
                    <a:pt x="4246" y="7013"/>
                  </a:lnTo>
                  <a:lnTo>
                    <a:pt x="4212" y="6991"/>
                  </a:lnTo>
                  <a:lnTo>
                    <a:pt x="4175" y="6971"/>
                  </a:lnTo>
                  <a:lnTo>
                    <a:pt x="4153" y="6947"/>
                  </a:lnTo>
                  <a:lnTo>
                    <a:pt x="4130" y="6925"/>
                  </a:lnTo>
                  <a:lnTo>
                    <a:pt x="4107" y="6903"/>
                  </a:lnTo>
                  <a:lnTo>
                    <a:pt x="4083" y="6884"/>
                  </a:lnTo>
                  <a:lnTo>
                    <a:pt x="4058" y="6866"/>
                  </a:lnTo>
                  <a:lnTo>
                    <a:pt x="4034" y="6850"/>
                  </a:lnTo>
                  <a:lnTo>
                    <a:pt x="4009" y="6834"/>
                  </a:lnTo>
                  <a:lnTo>
                    <a:pt x="3984" y="6820"/>
                  </a:lnTo>
                  <a:lnTo>
                    <a:pt x="3959" y="6807"/>
                  </a:lnTo>
                  <a:lnTo>
                    <a:pt x="3934" y="6796"/>
                  </a:lnTo>
                  <a:lnTo>
                    <a:pt x="3908" y="6786"/>
                  </a:lnTo>
                  <a:lnTo>
                    <a:pt x="3882" y="6777"/>
                  </a:lnTo>
                  <a:lnTo>
                    <a:pt x="3857" y="6770"/>
                  </a:lnTo>
                  <a:lnTo>
                    <a:pt x="3832" y="6764"/>
                  </a:lnTo>
                  <a:lnTo>
                    <a:pt x="3806" y="6760"/>
                  </a:lnTo>
                  <a:lnTo>
                    <a:pt x="3781" y="6755"/>
                  </a:lnTo>
                  <a:lnTo>
                    <a:pt x="3756" y="6754"/>
                  </a:lnTo>
                  <a:lnTo>
                    <a:pt x="3731" y="6753"/>
                  </a:lnTo>
                  <a:lnTo>
                    <a:pt x="3707" y="6753"/>
                  </a:lnTo>
                  <a:lnTo>
                    <a:pt x="3683" y="6755"/>
                  </a:lnTo>
                  <a:lnTo>
                    <a:pt x="3659" y="6758"/>
                  </a:lnTo>
                  <a:lnTo>
                    <a:pt x="3636" y="6763"/>
                  </a:lnTo>
                  <a:lnTo>
                    <a:pt x="3613" y="6769"/>
                  </a:lnTo>
                  <a:lnTo>
                    <a:pt x="3591" y="6776"/>
                  </a:lnTo>
                  <a:lnTo>
                    <a:pt x="3569" y="6784"/>
                  </a:lnTo>
                  <a:lnTo>
                    <a:pt x="3548" y="6794"/>
                  </a:lnTo>
                  <a:lnTo>
                    <a:pt x="3527" y="6805"/>
                  </a:lnTo>
                  <a:lnTo>
                    <a:pt x="3508" y="6817"/>
                  </a:lnTo>
                  <a:lnTo>
                    <a:pt x="3490" y="6830"/>
                  </a:lnTo>
                  <a:lnTo>
                    <a:pt x="3472" y="6845"/>
                  </a:lnTo>
                  <a:lnTo>
                    <a:pt x="3454" y="6861"/>
                  </a:lnTo>
                  <a:lnTo>
                    <a:pt x="3438" y="6879"/>
                  </a:lnTo>
                  <a:lnTo>
                    <a:pt x="3378" y="6880"/>
                  </a:lnTo>
                  <a:lnTo>
                    <a:pt x="3320" y="6882"/>
                  </a:lnTo>
                  <a:lnTo>
                    <a:pt x="3264" y="6887"/>
                  </a:lnTo>
                  <a:lnTo>
                    <a:pt x="3208" y="6894"/>
                  </a:lnTo>
                  <a:lnTo>
                    <a:pt x="3154" y="6901"/>
                  </a:lnTo>
                  <a:lnTo>
                    <a:pt x="3101" y="6911"/>
                  </a:lnTo>
                  <a:lnTo>
                    <a:pt x="3048" y="6921"/>
                  </a:lnTo>
                  <a:lnTo>
                    <a:pt x="2997" y="6934"/>
                  </a:lnTo>
                  <a:lnTo>
                    <a:pt x="2945" y="6948"/>
                  </a:lnTo>
                  <a:lnTo>
                    <a:pt x="2895" y="6962"/>
                  </a:lnTo>
                  <a:lnTo>
                    <a:pt x="2845" y="6978"/>
                  </a:lnTo>
                  <a:lnTo>
                    <a:pt x="2795" y="6994"/>
                  </a:lnTo>
                  <a:lnTo>
                    <a:pt x="2746" y="7013"/>
                  </a:lnTo>
                  <a:lnTo>
                    <a:pt x="2696" y="7030"/>
                  </a:lnTo>
                  <a:lnTo>
                    <a:pt x="2647" y="7049"/>
                  </a:lnTo>
                  <a:lnTo>
                    <a:pt x="2598" y="7068"/>
                  </a:lnTo>
                  <a:lnTo>
                    <a:pt x="2581" y="7075"/>
                  </a:lnTo>
                  <a:lnTo>
                    <a:pt x="2562" y="7086"/>
                  </a:lnTo>
                  <a:lnTo>
                    <a:pt x="2537" y="7097"/>
                  </a:lnTo>
                  <a:lnTo>
                    <a:pt x="2511" y="7112"/>
                  </a:lnTo>
                  <a:lnTo>
                    <a:pt x="2447" y="7149"/>
                  </a:lnTo>
                  <a:lnTo>
                    <a:pt x="2379" y="7191"/>
                  </a:lnTo>
                  <a:lnTo>
                    <a:pt x="2342" y="7213"/>
                  </a:lnTo>
                  <a:lnTo>
                    <a:pt x="2307" y="7237"/>
                  </a:lnTo>
                  <a:lnTo>
                    <a:pt x="2272" y="7260"/>
                  </a:lnTo>
                  <a:lnTo>
                    <a:pt x="2237" y="7284"/>
                  </a:lnTo>
                  <a:lnTo>
                    <a:pt x="2205" y="7308"/>
                  </a:lnTo>
                  <a:lnTo>
                    <a:pt x="2175" y="7330"/>
                  </a:lnTo>
                  <a:lnTo>
                    <a:pt x="2148" y="7353"/>
                  </a:lnTo>
                  <a:lnTo>
                    <a:pt x="2125" y="7373"/>
                  </a:lnTo>
                  <a:close/>
                </a:path>
              </a:pathLst>
            </a:custGeom>
            <a:solidFill>
              <a:srgbClr val="ffb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52840" y="3257640"/>
              <a:ext cx="772200" cy="1170000"/>
            </a:xfrm>
            <a:custGeom>
              <a:avLst/>
              <a:gdLst/>
              <a:ahLst/>
              <a:rect l="l" t="t" r="r" b="b"/>
              <a:pathLst>
                <a:path w="4486" h="7373">
                  <a:moveTo>
                    <a:pt x="2125" y="7373"/>
                  </a:moveTo>
                  <a:lnTo>
                    <a:pt x="2125" y="7365"/>
                  </a:lnTo>
                  <a:lnTo>
                    <a:pt x="2122" y="7356"/>
                  </a:lnTo>
                  <a:lnTo>
                    <a:pt x="2119" y="7344"/>
                  </a:lnTo>
                  <a:lnTo>
                    <a:pt x="2115" y="7331"/>
                  </a:lnTo>
                  <a:lnTo>
                    <a:pt x="2105" y="7302"/>
                  </a:lnTo>
                  <a:lnTo>
                    <a:pt x="2093" y="7270"/>
                  </a:lnTo>
                  <a:lnTo>
                    <a:pt x="2082" y="7238"/>
                  </a:lnTo>
                  <a:lnTo>
                    <a:pt x="2071" y="7208"/>
                  </a:lnTo>
                  <a:lnTo>
                    <a:pt x="2068" y="7195"/>
                  </a:lnTo>
                  <a:lnTo>
                    <a:pt x="2065" y="7183"/>
                  </a:lnTo>
                  <a:lnTo>
                    <a:pt x="2062" y="7173"/>
                  </a:lnTo>
                  <a:lnTo>
                    <a:pt x="2061" y="7166"/>
                  </a:lnTo>
                  <a:lnTo>
                    <a:pt x="2045" y="7128"/>
                  </a:lnTo>
                  <a:lnTo>
                    <a:pt x="2029" y="7094"/>
                  </a:lnTo>
                  <a:lnTo>
                    <a:pt x="2013" y="7062"/>
                  </a:lnTo>
                  <a:lnTo>
                    <a:pt x="1998" y="7033"/>
                  </a:lnTo>
                  <a:lnTo>
                    <a:pt x="1966" y="6979"/>
                  </a:lnTo>
                  <a:lnTo>
                    <a:pt x="1935" y="6928"/>
                  </a:lnTo>
                  <a:lnTo>
                    <a:pt x="1919" y="6902"/>
                  </a:lnTo>
                  <a:lnTo>
                    <a:pt x="1904" y="6875"/>
                  </a:lnTo>
                  <a:lnTo>
                    <a:pt x="1888" y="6846"/>
                  </a:lnTo>
                  <a:lnTo>
                    <a:pt x="1873" y="6815"/>
                  </a:lnTo>
                  <a:lnTo>
                    <a:pt x="1856" y="6782"/>
                  </a:lnTo>
                  <a:lnTo>
                    <a:pt x="1840" y="6746"/>
                  </a:lnTo>
                  <a:lnTo>
                    <a:pt x="1824" y="6705"/>
                  </a:lnTo>
                  <a:lnTo>
                    <a:pt x="1808" y="6660"/>
                  </a:lnTo>
                  <a:lnTo>
                    <a:pt x="1790" y="6602"/>
                  </a:lnTo>
                  <a:lnTo>
                    <a:pt x="1773" y="6546"/>
                  </a:lnTo>
                  <a:lnTo>
                    <a:pt x="1757" y="6493"/>
                  </a:lnTo>
                  <a:lnTo>
                    <a:pt x="1742" y="6441"/>
                  </a:lnTo>
                  <a:lnTo>
                    <a:pt x="1729" y="6392"/>
                  </a:lnTo>
                  <a:lnTo>
                    <a:pt x="1717" y="6343"/>
                  </a:lnTo>
                  <a:lnTo>
                    <a:pt x="1706" y="6296"/>
                  </a:lnTo>
                  <a:lnTo>
                    <a:pt x="1697" y="6250"/>
                  </a:lnTo>
                  <a:lnTo>
                    <a:pt x="1687" y="6206"/>
                  </a:lnTo>
                  <a:lnTo>
                    <a:pt x="1678" y="6162"/>
                  </a:lnTo>
                  <a:lnTo>
                    <a:pt x="1672" y="6119"/>
                  </a:lnTo>
                  <a:lnTo>
                    <a:pt x="1664" y="6077"/>
                  </a:lnTo>
                  <a:lnTo>
                    <a:pt x="1653" y="5994"/>
                  </a:lnTo>
                  <a:lnTo>
                    <a:pt x="1643" y="5910"/>
                  </a:lnTo>
                  <a:lnTo>
                    <a:pt x="1624" y="5741"/>
                  </a:lnTo>
                  <a:lnTo>
                    <a:pt x="1604" y="5557"/>
                  </a:lnTo>
                  <a:lnTo>
                    <a:pt x="1592" y="5458"/>
                  </a:lnTo>
                  <a:lnTo>
                    <a:pt x="1577" y="5350"/>
                  </a:lnTo>
                  <a:lnTo>
                    <a:pt x="1559" y="5236"/>
                  </a:lnTo>
                  <a:lnTo>
                    <a:pt x="1538" y="5110"/>
                  </a:lnTo>
                  <a:lnTo>
                    <a:pt x="1525" y="5090"/>
                  </a:lnTo>
                  <a:lnTo>
                    <a:pt x="1513" y="5069"/>
                  </a:lnTo>
                  <a:lnTo>
                    <a:pt x="1503" y="5048"/>
                  </a:lnTo>
                  <a:lnTo>
                    <a:pt x="1492" y="5027"/>
                  </a:lnTo>
                  <a:lnTo>
                    <a:pt x="1482" y="5003"/>
                  </a:lnTo>
                  <a:lnTo>
                    <a:pt x="1473" y="4979"/>
                  </a:lnTo>
                  <a:lnTo>
                    <a:pt x="1463" y="4956"/>
                  </a:lnTo>
                  <a:lnTo>
                    <a:pt x="1454" y="4931"/>
                  </a:lnTo>
                  <a:lnTo>
                    <a:pt x="1447" y="4905"/>
                  </a:lnTo>
                  <a:lnTo>
                    <a:pt x="1439" y="4880"/>
                  </a:lnTo>
                  <a:lnTo>
                    <a:pt x="1432" y="4853"/>
                  </a:lnTo>
                  <a:lnTo>
                    <a:pt x="1425" y="4826"/>
                  </a:lnTo>
                  <a:lnTo>
                    <a:pt x="1420" y="4798"/>
                  </a:lnTo>
                  <a:lnTo>
                    <a:pt x="1414" y="4770"/>
                  </a:lnTo>
                  <a:lnTo>
                    <a:pt x="1409" y="4741"/>
                  </a:lnTo>
                  <a:lnTo>
                    <a:pt x="1405" y="4712"/>
                  </a:lnTo>
                  <a:lnTo>
                    <a:pt x="1401" y="4683"/>
                  </a:lnTo>
                  <a:lnTo>
                    <a:pt x="1397" y="4653"/>
                  </a:lnTo>
                  <a:lnTo>
                    <a:pt x="1395" y="4623"/>
                  </a:lnTo>
                  <a:lnTo>
                    <a:pt x="1393" y="4593"/>
                  </a:lnTo>
                  <a:lnTo>
                    <a:pt x="1391" y="4562"/>
                  </a:lnTo>
                  <a:lnTo>
                    <a:pt x="1390" y="4531"/>
                  </a:lnTo>
                  <a:lnTo>
                    <a:pt x="1390" y="4500"/>
                  </a:lnTo>
                  <a:lnTo>
                    <a:pt x="1390" y="4469"/>
                  </a:lnTo>
                  <a:lnTo>
                    <a:pt x="1391" y="4437"/>
                  </a:lnTo>
                  <a:lnTo>
                    <a:pt x="1392" y="4405"/>
                  </a:lnTo>
                  <a:lnTo>
                    <a:pt x="1393" y="4373"/>
                  </a:lnTo>
                  <a:lnTo>
                    <a:pt x="1395" y="4341"/>
                  </a:lnTo>
                  <a:lnTo>
                    <a:pt x="1399" y="4309"/>
                  </a:lnTo>
                  <a:lnTo>
                    <a:pt x="1402" y="4276"/>
                  </a:lnTo>
                  <a:lnTo>
                    <a:pt x="1406" y="4244"/>
                  </a:lnTo>
                  <a:lnTo>
                    <a:pt x="1410" y="4212"/>
                  </a:lnTo>
                  <a:lnTo>
                    <a:pt x="1386" y="4173"/>
                  </a:lnTo>
                  <a:lnTo>
                    <a:pt x="1361" y="4133"/>
                  </a:lnTo>
                  <a:lnTo>
                    <a:pt x="1338" y="4094"/>
                  </a:lnTo>
                  <a:lnTo>
                    <a:pt x="1316" y="4053"/>
                  </a:lnTo>
                  <a:lnTo>
                    <a:pt x="1272" y="3970"/>
                  </a:lnTo>
                  <a:lnTo>
                    <a:pt x="1226" y="3887"/>
                  </a:lnTo>
                  <a:lnTo>
                    <a:pt x="1202" y="3846"/>
                  </a:lnTo>
                  <a:lnTo>
                    <a:pt x="1178" y="3805"/>
                  </a:lnTo>
                  <a:lnTo>
                    <a:pt x="1152" y="3765"/>
                  </a:lnTo>
                  <a:lnTo>
                    <a:pt x="1124" y="3727"/>
                  </a:lnTo>
                  <a:lnTo>
                    <a:pt x="1109" y="3707"/>
                  </a:lnTo>
                  <a:lnTo>
                    <a:pt x="1094" y="3688"/>
                  </a:lnTo>
                  <a:lnTo>
                    <a:pt x="1079" y="3670"/>
                  </a:lnTo>
                  <a:lnTo>
                    <a:pt x="1062" y="3652"/>
                  </a:lnTo>
                  <a:lnTo>
                    <a:pt x="1046" y="3635"/>
                  </a:lnTo>
                  <a:lnTo>
                    <a:pt x="1027" y="3617"/>
                  </a:lnTo>
                  <a:lnTo>
                    <a:pt x="1009" y="3600"/>
                  </a:lnTo>
                  <a:lnTo>
                    <a:pt x="990" y="3584"/>
                  </a:lnTo>
                  <a:lnTo>
                    <a:pt x="964" y="3565"/>
                  </a:lnTo>
                  <a:lnTo>
                    <a:pt x="941" y="3547"/>
                  </a:lnTo>
                  <a:lnTo>
                    <a:pt x="918" y="3527"/>
                  </a:lnTo>
                  <a:lnTo>
                    <a:pt x="898" y="3508"/>
                  </a:lnTo>
                  <a:lnTo>
                    <a:pt x="879" y="3489"/>
                  </a:lnTo>
                  <a:lnTo>
                    <a:pt x="861" y="3469"/>
                  </a:lnTo>
                  <a:lnTo>
                    <a:pt x="845" y="3449"/>
                  </a:lnTo>
                  <a:lnTo>
                    <a:pt x="830" y="3430"/>
                  </a:lnTo>
                  <a:lnTo>
                    <a:pt x="802" y="3390"/>
                  </a:lnTo>
                  <a:lnTo>
                    <a:pt x="778" y="3349"/>
                  </a:lnTo>
                  <a:lnTo>
                    <a:pt x="754" y="3310"/>
                  </a:lnTo>
                  <a:lnTo>
                    <a:pt x="729" y="3271"/>
                  </a:lnTo>
                  <a:lnTo>
                    <a:pt x="717" y="3251"/>
                  </a:lnTo>
                  <a:lnTo>
                    <a:pt x="705" y="3231"/>
                  </a:lnTo>
                  <a:lnTo>
                    <a:pt x="691" y="3213"/>
                  </a:lnTo>
                  <a:lnTo>
                    <a:pt x="677" y="3194"/>
                  </a:lnTo>
                  <a:lnTo>
                    <a:pt x="662" y="3176"/>
                  </a:lnTo>
                  <a:lnTo>
                    <a:pt x="646" y="3157"/>
                  </a:lnTo>
                  <a:lnTo>
                    <a:pt x="628" y="3139"/>
                  </a:lnTo>
                  <a:lnTo>
                    <a:pt x="609" y="3121"/>
                  </a:lnTo>
                  <a:lnTo>
                    <a:pt x="589" y="3104"/>
                  </a:lnTo>
                  <a:lnTo>
                    <a:pt x="567" y="3088"/>
                  </a:lnTo>
                  <a:lnTo>
                    <a:pt x="544" y="3070"/>
                  </a:lnTo>
                  <a:lnTo>
                    <a:pt x="518" y="3054"/>
                  </a:lnTo>
                  <a:lnTo>
                    <a:pt x="489" y="3039"/>
                  </a:lnTo>
                  <a:lnTo>
                    <a:pt x="459" y="3024"/>
                  </a:lnTo>
                  <a:lnTo>
                    <a:pt x="427" y="3010"/>
                  </a:lnTo>
                  <a:lnTo>
                    <a:pt x="391" y="2996"/>
                  </a:lnTo>
                  <a:lnTo>
                    <a:pt x="368" y="2972"/>
                  </a:lnTo>
                  <a:lnTo>
                    <a:pt x="344" y="2945"/>
                  </a:lnTo>
                  <a:lnTo>
                    <a:pt x="320" y="2916"/>
                  </a:lnTo>
                  <a:lnTo>
                    <a:pt x="295" y="2886"/>
                  </a:lnTo>
                  <a:lnTo>
                    <a:pt x="270" y="2855"/>
                  </a:lnTo>
                  <a:lnTo>
                    <a:pt x="244" y="2822"/>
                  </a:lnTo>
                  <a:lnTo>
                    <a:pt x="220" y="2788"/>
                  </a:lnTo>
                  <a:lnTo>
                    <a:pt x="196" y="2754"/>
                  </a:lnTo>
                  <a:lnTo>
                    <a:pt x="173" y="2720"/>
                  </a:lnTo>
                  <a:lnTo>
                    <a:pt x="149" y="2684"/>
                  </a:lnTo>
                  <a:lnTo>
                    <a:pt x="128" y="2649"/>
                  </a:lnTo>
                  <a:lnTo>
                    <a:pt x="107" y="2614"/>
                  </a:lnTo>
                  <a:lnTo>
                    <a:pt x="88" y="2579"/>
                  </a:lnTo>
                  <a:lnTo>
                    <a:pt x="70" y="2545"/>
                  </a:lnTo>
                  <a:lnTo>
                    <a:pt x="54" y="2511"/>
                  </a:lnTo>
                  <a:lnTo>
                    <a:pt x="40" y="2477"/>
                  </a:lnTo>
                  <a:lnTo>
                    <a:pt x="30" y="2462"/>
                  </a:lnTo>
                  <a:lnTo>
                    <a:pt x="20" y="2446"/>
                  </a:lnTo>
                  <a:lnTo>
                    <a:pt x="14" y="2429"/>
                  </a:lnTo>
                  <a:lnTo>
                    <a:pt x="7" y="2411"/>
                  </a:lnTo>
                  <a:lnTo>
                    <a:pt x="3" y="2393"/>
                  </a:lnTo>
                  <a:lnTo>
                    <a:pt x="1" y="2374"/>
                  </a:lnTo>
                  <a:lnTo>
                    <a:pt x="0" y="2356"/>
                  </a:lnTo>
                  <a:lnTo>
                    <a:pt x="1" y="2337"/>
                  </a:lnTo>
                  <a:lnTo>
                    <a:pt x="3" y="2319"/>
                  </a:lnTo>
                  <a:lnTo>
                    <a:pt x="7" y="2300"/>
                  </a:lnTo>
                  <a:lnTo>
                    <a:pt x="14" y="2282"/>
                  </a:lnTo>
                  <a:lnTo>
                    <a:pt x="21" y="2265"/>
                  </a:lnTo>
                  <a:lnTo>
                    <a:pt x="32" y="2248"/>
                  </a:lnTo>
                  <a:lnTo>
                    <a:pt x="44" y="2232"/>
                  </a:lnTo>
                  <a:lnTo>
                    <a:pt x="50" y="2223"/>
                  </a:lnTo>
                  <a:lnTo>
                    <a:pt x="58" y="2216"/>
                  </a:lnTo>
                  <a:lnTo>
                    <a:pt x="65" y="2208"/>
                  </a:lnTo>
                  <a:lnTo>
                    <a:pt x="74" y="2202"/>
                  </a:lnTo>
                  <a:lnTo>
                    <a:pt x="102" y="2186"/>
                  </a:lnTo>
                  <a:lnTo>
                    <a:pt x="129" y="2173"/>
                  </a:lnTo>
                  <a:lnTo>
                    <a:pt x="157" y="2163"/>
                  </a:lnTo>
                  <a:lnTo>
                    <a:pt x="184" y="2158"/>
                  </a:lnTo>
                  <a:lnTo>
                    <a:pt x="213" y="2155"/>
                  </a:lnTo>
                  <a:lnTo>
                    <a:pt x="241" y="2154"/>
                  </a:lnTo>
                  <a:lnTo>
                    <a:pt x="270" y="2157"/>
                  </a:lnTo>
                  <a:lnTo>
                    <a:pt x="299" y="2161"/>
                  </a:lnTo>
                  <a:lnTo>
                    <a:pt x="328" y="2169"/>
                  </a:lnTo>
                  <a:lnTo>
                    <a:pt x="357" y="2177"/>
                  </a:lnTo>
                  <a:lnTo>
                    <a:pt x="386" y="2189"/>
                  </a:lnTo>
                  <a:lnTo>
                    <a:pt x="415" y="2202"/>
                  </a:lnTo>
                  <a:lnTo>
                    <a:pt x="445" y="2217"/>
                  </a:lnTo>
                  <a:lnTo>
                    <a:pt x="474" y="2233"/>
                  </a:lnTo>
                  <a:lnTo>
                    <a:pt x="503" y="2250"/>
                  </a:lnTo>
                  <a:lnTo>
                    <a:pt x="532" y="2268"/>
                  </a:lnTo>
                  <a:lnTo>
                    <a:pt x="561" y="2288"/>
                  </a:lnTo>
                  <a:lnTo>
                    <a:pt x="590" y="2308"/>
                  </a:lnTo>
                  <a:lnTo>
                    <a:pt x="619" y="2329"/>
                  </a:lnTo>
                  <a:lnTo>
                    <a:pt x="648" y="2351"/>
                  </a:lnTo>
                  <a:lnTo>
                    <a:pt x="705" y="2394"/>
                  </a:lnTo>
                  <a:lnTo>
                    <a:pt x="761" y="2437"/>
                  </a:lnTo>
                  <a:lnTo>
                    <a:pt x="816" y="2478"/>
                  </a:lnTo>
                  <a:lnTo>
                    <a:pt x="870" y="2518"/>
                  </a:lnTo>
                  <a:lnTo>
                    <a:pt x="897" y="2535"/>
                  </a:lnTo>
                  <a:lnTo>
                    <a:pt x="922" y="2552"/>
                  </a:lnTo>
                  <a:lnTo>
                    <a:pt x="948" y="2568"/>
                  </a:lnTo>
                  <a:lnTo>
                    <a:pt x="973" y="2581"/>
                  </a:lnTo>
                  <a:lnTo>
                    <a:pt x="1005" y="2616"/>
                  </a:lnTo>
                  <a:lnTo>
                    <a:pt x="1033" y="2648"/>
                  </a:lnTo>
                  <a:lnTo>
                    <a:pt x="1057" y="2680"/>
                  </a:lnTo>
                  <a:lnTo>
                    <a:pt x="1080" y="2710"/>
                  </a:lnTo>
                  <a:lnTo>
                    <a:pt x="1121" y="2768"/>
                  </a:lnTo>
                  <a:lnTo>
                    <a:pt x="1158" y="2822"/>
                  </a:lnTo>
                  <a:lnTo>
                    <a:pt x="1178" y="2847"/>
                  </a:lnTo>
                  <a:lnTo>
                    <a:pt x="1198" y="2872"/>
                  </a:lnTo>
                  <a:lnTo>
                    <a:pt x="1219" y="2896"/>
                  </a:lnTo>
                  <a:lnTo>
                    <a:pt x="1243" y="2918"/>
                  </a:lnTo>
                  <a:lnTo>
                    <a:pt x="1256" y="2930"/>
                  </a:lnTo>
                  <a:lnTo>
                    <a:pt x="1270" y="2941"/>
                  </a:lnTo>
                  <a:lnTo>
                    <a:pt x="1284" y="2951"/>
                  </a:lnTo>
                  <a:lnTo>
                    <a:pt x="1300" y="2962"/>
                  </a:lnTo>
                  <a:lnTo>
                    <a:pt x="1316" y="2972"/>
                  </a:lnTo>
                  <a:lnTo>
                    <a:pt x="1333" y="2983"/>
                  </a:lnTo>
                  <a:lnTo>
                    <a:pt x="1351" y="2992"/>
                  </a:lnTo>
                  <a:lnTo>
                    <a:pt x="1371" y="3002"/>
                  </a:lnTo>
                  <a:lnTo>
                    <a:pt x="1391" y="3023"/>
                  </a:lnTo>
                  <a:lnTo>
                    <a:pt x="1417" y="3051"/>
                  </a:lnTo>
                  <a:lnTo>
                    <a:pt x="1446" y="3083"/>
                  </a:lnTo>
                  <a:lnTo>
                    <a:pt x="1477" y="3121"/>
                  </a:lnTo>
                  <a:lnTo>
                    <a:pt x="1511" y="3161"/>
                  </a:lnTo>
                  <a:lnTo>
                    <a:pt x="1547" y="3203"/>
                  </a:lnTo>
                  <a:lnTo>
                    <a:pt x="1582" y="3248"/>
                  </a:lnTo>
                  <a:lnTo>
                    <a:pt x="1618" y="3294"/>
                  </a:lnTo>
                  <a:lnTo>
                    <a:pt x="1653" y="3339"/>
                  </a:lnTo>
                  <a:lnTo>
                    <a:pt x="1687" y="3384"/>
                  </a:lnTo>
                  <a:lnTo>
                    <a:pt x="1718" y="3427"/>
                  </a:lnTo>
                  <a:lnTo>
                    <a:pt x="1746" y="3467"/>
                  </a:lnTo>
                  <a:lnTo>
                    <a:pt x="1771" y="3505"/>
                  </a:lnTo>
                  <a:lnTo>
                    <a:pt x="1791" y="3538"/>
                  </a:lnTo>
                  <a:lnTo>
                    <a:pt x="1799" y="3553"/>
                  </a:lnTo>
                  <a:lnTo>
                    <a:pt x="1805" y="3567"/>
                  </a:lnTo>
                  <a:lnTo>
                    <a:pt x="1810" y="3579"/>
                  </a:lnTo>
                  <a:lnTo>
                    <a:pt x="1814" y="3590"/>
                  </a:lnTo>
                  <a:lnTo>
                    <a:pt x="1821" y="3612"/>
                  </a:lnTo>
                  <a:lnTo>
                    <a:pt x="1829" y="3632"/>
                  </a:lnTo>
                  <a:lnTo>
                    <a:pt x="1837" y="3652"/>
                  </a:lnTo>
                  <a:lnTo>
                    <a:pt x="1846" y="3671"/>
                  </a:lnTo>
                  <a:lnTo>
                    <a:pt x="1854" y="3688"/>
                  </a:lnTo>
                  <a:lnTo>
                    <a:pt x="1864" y="3705"/>
                  </a:lnTo>
                  <a:lnTo>
                    <a:pt x="1874" y="3720"/>
                  </a:lnTo>
                  <a:lnTo>
                    <a:pt x="1884" y="3735"/>
                  </a:lnTo>
                  <a:lnTo>
                    <a:pt x="1894" y="3749"/>
                  </a:lnTo>
                  <a:lnTo>
                    <a:pt x="1905" y="3762"/>
                  </a:lnTo>
                  <a:lnTo>
                    <a:pt x="1915" y="3775"/>
                  </a:lnTo>
                  <a:lnTo>
                    <a:pt x="1926" y="3786"/>
                  </a:lnTo>
                  <a:lnTo>
                    <a:pt x="1949" y="3808"/>
                  </a:lnTo>
                  <a:lnTo>
                    <a:pt x="1972" y="3827"/>
                  </a:lnTo>
                  <a:lnTo>
                    <a:pt x="1996" y="3845"/>
                  </a:lnTo>
                  <a:lnTo>
                    <a:pt x="2019" y="3861"/>
                  </a:lnTo>
                  <a:lnTo>
                    <a:pt x="2042" y="3876"/>
                  </a:lnTo>
                  <a:lnTo>
                    <a:pt x="2065" y="3891"/>
                  </a:lnTo>
                  <a:lnTo>
                    <a:pt x="2087" y="3905"/>
                  </a:lnTo>
                  <a:lnTo>
                    <a:pt x="2108" y="3920"/>
                  </a:lnTo>
                  <a:lnTo>
                    <a:pt x="2129" y="3936"/>
                  </a:lnTo>
                  <a:lnTo>
                    <a:pt x="2148" y="3952"/>
                  </a:lnTo>
                  <a:lnTo>
                    <a:pt x="2142" y="3946"/>
                  </a:lnTo>
                  <a:lnTo>
                    <a:pt x="2134" y="3935"/>
                  </a:lnTo>
                  <a:lnTo>
                    <a:pt x="2124" y="3918"/>
                  </a:lnTo>
                  <a:lnTo>
                    <a:pt x="2112" y="3897"/>
                  </a:lnTo>
                  <a:lnTo>
                    <a:pt x="2083" y="3844"/>
                  </a:lnTo>
                  <a:lnTo>
                    <a:pt x="2047" y="3775"/>
                  </a:lnTo>
                  <a:lnTo>
                    <a:pt x="1960" y="3605"/>
                  </a:lnTo>
                  <a:lnTo>
                    <a:pt x="1858" y="3404"/>
                  </a:lnTo>
                  <a:lnTo>
                    <a:pt x="1803" y="3300"/>
                  </a:lnTo>
                  <a:lnTo>
                    <a:pt x="1746" y="3195"/>
                  </a:lnTo>
                  <a:lnTo>
                    <a:pt x="1717" y="3143"/>
                  </a:lnTo>
                  <a:lnTo>
                    <a:pt x="1688" y="3092"/>
                  </a:lnTo>
                  <a:lnTo>
                    <a:pt x="1659" y="3043"/>
                  </a:lnTo>
                  <a:lnTo>
                    <a:pt x="1630" y="2994"/>
                  </a:lnTo>
                  <a:lnTo>
                    <a:pt x="1602" y="2947"/>
                  </a:lnTo>
                  <a:lnTo>
                    <a:pt x="1573" y="2903"/>
                  </a:lnTo>
                  <a:lnTo>
                    <a:pt x="1545" y="2861"/>
                  </a:lnTo>
                  <a:lnTo>
                    <a:pt x="1519" y="2822"/>
                  </a:lnTo>
                  <a:lnTo>
                    <a:pt x="1492" y="2785"/>
                  </a:lnTo>
                  <a:lnTo>
                    <a:pt x="1466" y="2752"/>
                  </a:lnTo>
                  <a:lnTo>
                    <a:pt x="1440" y="2723"/>
                  </a:lnTo>
                  <a:lnTo>
                    <a:pt x="1417" y="2696"/>
                  </a:lnTo>
                  <a:lnTo>
                    <a:pt x="1392" y="2634"/>
                  </a:lnTo>
                  <a:lnTo>
                    <a:pt x="1365" y="2571"/>
                  </a:lnTo>
                  <a:lnTo>
                    <a:pt x="1336" y="2507"/>
                  </a:lnTo>
                  <a:lnTo>
                    <a:pt x="1307" y="2444"/>
                  </a:lnTo>
                  <a:lnTo>
                    <a:pt x="1246" y="2318"/>
                  </a:lnTo>
                  <a:lnTo>
                    <a:pt x="1185" y="2194"/>
                  </a:lnTo>
                  <a:lnTo>
                    <a:pt x="1155" y="2133"/>
                  </a:lnTo>
                  <a:lnTo>
                    <a:pt x="1126" y="2074"/>
                  </a:lnTo>
                  <a:lnTo>
                    <a:pt x="1098" y="2016"/>
                  </a:lnTo>
                  <a:lnTo>
                    <a:pt x="1072" y="1959"/>
                  </a:lnTo>
                  <a:lnTo>
                    <a:pt x="1050" y="1905"/>
                  </a:lnTo>
                  <a:lnTo>
                    <a:pt x="1028" y="1852"/>
                  </a:lnTo>
                  <a:lnTo>
                    <a:pt x="1019" y="1826"/>
                  </a:lnTo>
                  <a:lnTo>
                    <a:pt x="1010" y="1801"/>
                  </a:lnTo>
                  <a:lnTo>
                    <a:pt x="1003" y="1776"/>
                  </a:lnTo>
                  <a:lnTo>
                    <a:pt x="996" y="1752"/>
                  </a:lnTo>
                  <a:lnTo>
                    <a:pt x="876" y="1586"/>
                  </a:lnTo>
                  <a:lnTo>
                    <a:pt x="778" y="1449"/>
                  </a:lnTo>
                  <a:lnTo>
                    <a:pt x="736" y="1389"/>
                  </a:lnTo>
                  <a:lnTo>
                    <a:pt x="699" y="1334"/>
                  </a:lnTo>
                  <a:lnTo>
                    <a:pt x="667" y="1283"/>
                  </a:lnTo>
                  <a:lnTo>
                    <a:pt x="639" y="1236"/>
                  </a:lnTo>
                  <a:lnTo>
                    <a:pt x="627" y="1212"/>
                  </a:lnTo>
                  <a:lnTo>
                    <a:pt x="616" y="1189"/>
                  </a:lnTo>
                  <a:lnTo>
                    <a:pt x="606" y="1168"/>
                  </a:lnTo>
                  <a:lnTo>
                    <a:pt x="596" y="1147"/>
                  </a:lnTo>
                  <a:lnTo>
                    <a:pt x="588" y="1125"/>
                  </a:lnTo>
                  <a:lnTo>
                    <a:pt x="580" y="1104"/>
                  </a:lnTo>
                  <a:lnTo>
                    <a:pt x="574" y="1083"/>
                  </a:lnTo>
                  <a:lnTo>
                    <a:pt x="567" y="1062"/>
                  </a:lnTo>
                  <a:lnTo>
                    <a:pt x="562" y="1041"/>
                  </a:lnTo>
                  <a:lnTo>
                    <a:pt x="558" y="1020"/>
                  </a:lnTo>
                  <a:lnTo>
                    <a:pt x="554" y="997"/>
                  </a:lnTo>
                  <a:lnTo>
                    <a:pt x="551" y="976"/>
                  </a:lnTo>
                  <a:lnTo>
                    <a:pt x="549" y="954"/>
                  </a:lnTo>
                  <a:lnTo>
                    <a:pt x="548" y="931"/>
                  </a:lnTo>
                  <a:lnTo>
                    <a:pt x="547" y="906"/>
                  </a:lnTo>
                  <a:lnTo>
                    <a:pt x="547" y="883"/>
                  </a:lnTo>
                  <a:lnTo>
                    <a:pt x="547" y="866"/>
                  </a:lnTo>
                  <a:lnTo>
                    <a:pt x="548" y="850"/>
                  </a:lnTo>
                  <a:lnTo>
                    <a:pt x="550" y="833"/>
                  </a:lnTo>
                  <a:lnTo>
                    <a:pt x="553" y="817"/>
                  </a:lnTo>
                  <a:lnTo>
                    <a:pt x="558" y="801"/>
                  </a:lnTo>
                  <a:lnTo>
                    <a:pt x="562" y="785"/>
                  </a:lnTo>
                  <a:lnTo>
                    <a:pt x="567" y="770"/>
                  </a:lnTo>
                  <a:lnTo>
                    <a:pt x="573" y="756"/>
                  </a:lnTo>
                  <a:lnTo>
                    <a:pt x="579" y="741"/>
                  </a:lnTo>
                  <a:lnTo>
                    <a:pt x="587" y="727"/>
                  </a:lnTo>
                  <a:lnTo>
                    <a:pt x="594" y="714"/>
                  </a:lnTo>
                  <a:lnTo>
                    <a:pt x="602" y="702"/>
                  </a:lnTo>
                  <a:lnTo>
                    <a:pt x="610" y="689"/>
                  </a:lnTo>
                  <a:lnTo>
                    <a:pt x="620" y="677"/>
                  </a:lnTo>
                  <a:lnTo>
                    <a:pt x="628" y="666"/>
                  </a:lnTo>
                  <a:lnTo>
                    <a:pt x="639" y="655"/>
                  </a:lnTo>
                  <a:lnTo>
                    <a:pt x="649" y="646"/>
                  </a:lnTo>
                  <a:lnTo>
                    <a:pt x="660" y="637"/>
                  </a:lnTo>
                  <a:lnTo>
                    <a:pt x="670" y="629"/>
                  </a:lnTo>
                  <a:lnTo>
                    <a:pt x="681" y="621"/>
                  </a:lnTo>
                  <a:lnTo>
                    <a:pt x="692" y="615"/>
                  </a:lnTo>
                  <a:lnTo>
                    <a:pt x="704" y="608"/>
                  </a:lnTo>
                  <a:lnTo>
                    <a:pt x="715" y="604"/>
                  </a:lnTo>
                  <a:lnTo>
                    <a:pt x="726" y="600"/>
                  </a:lnTo>
                  <a:lnTo>
                    <a:pt x="738" y="596"/>
                  </a:lnTo>
                  <a:lnTo>
                    <a:pt x="750" y="594"/>
                  </a:lnTo>
                  <a:lnTo>
                    <a:pt x="761" y="594"/>
                  </a:lnTo>
                  <a:lnTo>
                    <a:pt x="772" y="594"/>
                  </a:lnTo>
                  <a:lnTo>
                    <a:pt x="784" y="595"/>
                  </a:lnTo>
                  <a:lnTo>
                    <a:pt x="796" y="597"/>
                  </a:lnTo>
                  <a:lnTo>
                    <a:pt x="806" y="601"/>
                  </a:lnTo>
                  <a:lnTo>
                    <a:pt x="817" y="606"/>
                  </a:lnTo>
                  <a:lnTo>
                    <a:pt x="840" y="624"/>
                  </a:lnTo>
                  <a:lnTo>
                    <a:pt x="861" y="643"/>
                  </a:lnTo>
                  <a:lnTo>
                    <a:pt x="882" y="661"/>
                  </a:lnTo>
                  <a:lnTo>
                    <a:pt x="901" y="679"/>
                  </a:lnTo>
                  <a:lnTo>
                    <a:pt x="919" y="697"/>
                  </a:lnTo>
                  <a:lnTo>
                    <a:pt x="936" y="715"/>
                  </a:lnTo>
                  <a:lnTo>
                    <a:pt x="953" y="733"/>
                  </a:lnTo>
                  <a:lnTo>
                    <a:pt x="968" y="750"/>
                  </a:lnTo>
                  <a:lnTo>
                    <a:pt x="997" y="784"/>
                  </a:lnTo>
                  <a:lnTo>
                    <a:pt x="1022" y="817"/>
                  </a:lnTo>
                  <a:lnTo>
                    <a:pt x="1046" y="850"/>
                  </a:lnTo>
                  <a:lnTo>
                    <a:pt x="1066" y="878"/>
                  </a:lnTo>
                  <a:lnTo>
                    <a:pt x="1085" y="906"/>
                  </a:lnTo>
                  <a:lnTo>
                    <a:pt x="1104" y="932"/>
                  </a:lnTo>
                  <a:lnTo>
                    <a:pt x="1121" y="956"/>
                  </a:lnTo>
                  <a:lnTo>
                    <a:pt x="1137" y="976"/>
                  </a:lnTo>
                  <a:lnTo>
                    <a:pt x="1144" y="986"/>
                  </a:lnTo>
                  <a:lnTo>
                    <a:pt x="1153" y="993"/>
                  </a:lnTo>
                  <a:lnTo>
                    <a:pt x="1160" y="1002"/>
                  </a:lnTo>
                  <a:lnTo>
                    <a:pt x="1169" y="1008"/>
                  </a:lnTo>
                  <a:lnTo>
                    <a:pt x="1178" y="1014"/>
                  </a:lnTo>
                  <a:lnTo>
                    <a:pt x="1185" y="1019"/>
                  </a:lnTo>
                  <a:lnTo>
                    <a:pt x="1195" y="1023"/>
                  </a:lnTo>
                  <a:lnTo>
                    <a:pt x="1203" y="1026"/>
                  </a:lnTo>
                  <a:lnTo>
                    <a:pt x="1212" y="1030"/>
                  </a:lnTo>
                  <a:lnTo>
                    <a:pt x="1225" y="1041"/>
                  </a:lnTo>
                  <a:lnTo>
                    <a:pt x="1244" y="1063"/>
                  </a:lnTo>
                  <a:lnTo>
                    <a:pt x="1268" y="1092"/>
                  </a:lnTo>
                  <a:lnTo>
                    <a:pt x="1296" y="1129"/>
                  </a:lnTo>
                  <a:lnTo>
                    <a:pt x="1328" y="1173"/>
                  </a:lnTo>
                  <a:lnTo>
                    <a:pt x="1364" y="1224"/>
                  </a:lnTo>
                  <a:lnTo>
                    <a:pt x="1404" y="1281"/>
                  </a:lnTo>
                  <a:lnTo>
                    <a:pt x="1491" y="1410"/>
                  </a:lnTo>
                  <a:lnTo>
                    <a:pt x="1588" y="1558"/>
                  </a:lnTo>
                  <a:lnTo>
                    <a:pt x="1693" y="1720"/>
                  </a:lnTo>
                  <a:lnTo>
                    <a:pt x="1802" y="1893"/>
                  </a:lnTo>
                  <a:lnTo>
                    <a:pt x="1912" y="2071"/>
                  </a:lnTo>
                  <a:lnTo>
                    <a:pt x="2021" y="2250"/>
                  </a:lnTo>
                  <a:lnTo>
                    <a:pt x="2074" y="2339"/>
                  </a:lnTo>
                  <a:lnTo>
                    <a:pt x="2126" y="2428"/>
                  </a:lnTo>
                  <a:lnTo>
                    <a:pt x="2176" y="2514"/>
                  </a:lnTo>
                  <a:lnTo>
                    <a:pt x="2224" y="2599"/>
                  </a:lnTo>
                  <a:lnTo>
                    <a:pt x="2270" y="2680"/>
                  </a:lnTo>
                  <a:lnTo>
                    <a:pt x="2314" y="2758"/>
                  </a:lnTo>
                  <a:lnTo>
                    <a:pt x="2354" y="2833"/>
                  </a:lnTo>
                  <a:lnTo>
                    <a:pt x="2392" y="2904"/>
                  </a:lnTo>
                  <a:lnTo>
                    <a:pt x="2425" y="2970"/>
                  </a:lnTo>
                  <a:lnTo>
                    <a:pt x="2454" y="3031"/>
                  </a:lnTo>
                  <a:lnTo>
                    <a:pt x="2480" y="3085"/>
                  </a:lnTo>
                  <a:lnTo>
                    <a:pt x="2499" y="3135"/>
                  </a:lnTo>
                  <a:lnTo>
                    <a:pt x="2499" y="3144"/>
                  </a:lnTo>
                  <a:lnTo>
                    <a:pt x="2499" y="3155"/>
                  </a:lnTo>
                  <a:lnTo>
                    <a:pt x="2499" y="3165"/>
                  </a:lnTo>
                  <a:lnTo>
                    <a:pt x="2499" y="3174"/>
                  </a:lnTo>
                  <a:lnTo>
                    <a:pt x="2499" y="3183"/>
                  </a:lnTo>
                  <a:lnTo>
                    <a:pt x="2499" y="3192"/>
                  </a:lnTo>
                  <a:lnTo>
                    <a:pt x="2499" y="3200"/>
                  </a:lnTo>
                  <a:lnTo>
                    <a:pt x="2499" y="3209"/>
                  </a:lnTo>
                  <a:lnTo>
                    <a:pt x="2486" y="3171"/>
                  </a:lnTo>
                  <a:lnTo>
                    <a:pt x="2472" y="3135"/>
                  </a:lnTo>
                  <a:lnTo>
                    <a:pt x="2458" y="3098"/>
                  </a:lnTo>
                  <a:lnTo>
                    <a:pt x="2444" y="3062"/>
                  </a:lnTo>
                  <a:lnTo>
                    <a:pt x="2414" y="2991"/>
                  </a:lnTo>
                  <a:lnTo>
                    <a:pt x="2382" y="2921"/>
                  </a:lnTo>
                  <a:lnTo>
                    <a:pt x="2350" y="2853"/>
                  </a:lnTo>
                  <a:lnTo>
                    <a:pt x="2317" y="2785"/>
                  </a:lnTo>
                  <a:lnTo>
                    <a:pt x="2283" y="2719"/>
                  </a:lnTo>
                  <a:lnTo>
                    <a:pt x="2249" y="2652"/>
                  </a:lnTo>
                  <a:lnTo>
                    <a:pt x="2216" y="2586"/>
                  </a:lnTo>
                  <a:lnTo>
                    <a:pt x="2183" y="2519"/>
                  </a:lnTo>
                  <a:lnTo>
                    <a:pt x="2149" y="2453"/>
                  </a:lnTo>
                  <a:lnTo>
                    <a:pt x="2118" y="2385"/>
                  </a:lnTo>
                  <a:lnTo>
                    <a:pt x="2087" y="2317"/>
                  </a:lnTo>
                  <a:lnTo>
                    <a:pt x="2058" y="2247"/>
                  </a:lnTo>
                  <a:lnTo>
                    <a:pt x="2043" y="2211"/>
                  </a:lnTo>
                  <a:lnTo>
                    <a:pt x="2030" y="2176"/>
                  </a:lnTo>
                  <a:lnTo>
                    <a:pt x="2016" y="2140"/>
                  </a:lnTo>
                  <a:lnTo>
                    <a:pt x="2004" y="2103"/>
                  </a:lnTo>
                  <a:lnTo>
                    <a:pt x="1993" y="2082"/>
                  </a:lnTo>
                  <a:lnTo>
                    <a:pt x="1970" y="2039"/>
                  </a:lnTo>
                  <a:lnTo>
                    <a:pt x="1936" y="1980"/>
                  </a:lnTo>
                  <a:lnTo>
                    <a:pt x="1893" y="1905"/>
                  </a:lnTo>
                  <a:lnTo>
                    <a:pt x="1787" y="1724"/>
                  </a:lnTo>
                  <a:lnTo>
                    <a:pt x="1663" y="1519"/>
                  </a:lnTo>
                  <a:lnTo>
                    <a:pt x="1600" y="1415"/>
                  </a:lnTo>
                  <a:lnTo>
                    <a:pt x="1537" y="1313"/>
                  </a:lnTo>
                  <a:lnTo>
                    <a:pt x="1477" y="1216"/>
                  </a:lnTo>
                  <a:lnTo>
                    <a:pt x="1420" y="1128"/>
                  </a:lnTo>
                  <a:lnTo>
                    <a:pt x="1370" y="1051"/>
                  </a:lnTo>
                  <a:lnTo>
                    <a:pt x="1326" y="989"/>
                  </a:lnTo>
                  <a:lnTo>
                    <a:pt x="1307" y="963"/>
                  </a:lnTo>
                  <a:lnTo>
                    <a:pt x="1291" y="943"/>
                  </a:lnTo>
                  <a:lnTo>
                    <a:pt x="1277" y="928"/>
                  </a:lnTo>
                  <a:lnTo>
                    <a:pt x="1267" y="917"/>
                  </a:lnTo>
                  <a:lnTo>
                    <a:pt x="1247" y="901"/>
                  </a:lnTo>
                  <a:lnTo>
                    <a:pt x="1227" y="884"/>
                  </a:lnTo>
                  <a:lnTo>
                    <a:pt x="1207" y="865"/>
                  </a:lnTo>
                  <a:lnTo>
                    <a:pt x="1187" y="844"/>
                  </a:lnTo>
                  <a:lnTo>
                    <a:pt x="1167" y="823"/>
                  </a:lnTo>
                  <a:lnTo>
                    <a:pt x="1146" y="800"/>
                  </a:lnTo>
                  <a:lnTo>
                    <a:pt x="1126" y="778"/>
                  </a:lnTo>
                  <a:lnTo>
                    <a:pt x="1107" y="753"/>
                  </a:lnTo>
                  <a:lnTo>
                    <a:pt x="1087" y="729"/>
                  </a:lnTo>
                  <a:lnTo>
                    <a:pt x="1069" y="705"/>
                  </a:lnTo>
                  <a:lnTo>
                    <a:pt x="1051" y="680"/>
                  </a:lnTo>
                  <a:lnTo>
                    <a:pt x="1034" y="655"/>
                  </a:lnTo>
                  <a:lnTo>
                    <a:pt x="1017" y="631"/>
                  </a:lnTo>
                  <a:lnTo>
                    <a:pt x="1001" y="607"/>
                  </a:lnTo>
                  <a:lnTo>
                    <a:pt x="987" y="582"/>
                  </a:lnTo>
                  <a:lnTo>
                    <a:pt x="973" y="560"/>
                  </a:lnTo>
                  <a:lnTo>
                    <a:pt x="965" y="546"/>
                  </a:lnTo>
                  <a:lnTo>
                    <a:pt x="959" y="533"/>
                  </a:lnTo>
                  <a:lnTo>
                    <a:pt x="953" y="519"/>
                  </a:lnTo>
                  <a:lnTo>
                    <a:pt x="948" y="506"/>
                  </a:lnTo>
                  <a:lnTo>
                    <a:pt x="939" y="481"/>
                  </a:lnTo>
                  <a:lnTo>
                    <a:pt x="933" y="454"/>
                  </a:lnTo>
                  <a:lnTo>
                    <a:pt x="928" y="428"/>
                  </a:lnTo>
                  <a:lnTo>
                    <a:pt x="926" y="402"/>
                  </a:lnTo>
                  <a:lnTo>
                    <a:pt x="923" y="378"/>
                  </a:lnTo>
                  <a:lnTo>
                    <a:pt x="923" y="353"/>
                  </a:lnTo>
                  <a:lnTo>
                    <a:pt x="924" y="328"/>
                  </a:lnTo>
                  <a:lnTo>
                    <a:pt x="927" y="304"/>
                  </a:lnTo>
                  <a:lnTo>
                    <a:pt x="930" y="279"/>
                  </a:lnTo>
                  <a:lnTo>
                    <a:pt x="932" y="255"/>
                  </a:lnTo>
                  <a:lnTo>
                    <a:pt x="938" y="208"/>
                  </a:lnTo>
                  <a:lnTo>
                    <a:pt x="944" y="162"/>
                  </a:lnTo>
                  <a:lnTo>
                    <a:pt x="970" y="134"/>
                  </a:lnTo>
                  <a:lnTo>
                    <a:pt x="994" y="110"/>
                  </a:lnTo>
                  <a:lnTo>
                    <a:pt x="1018" y="88"/>
                  </a:lnTo>
                  <a:lnTo>
                    <a:pt x="1041" y="68"/>
                  </a:lnTo>
                  <a:lnTo>
                    <a:pt x="1064" y="52"/>
                  </a:lnTo>
                  <a:lnTo>
                    <a:pt x="1086" y="37"/>
                  </a:lnTo>
                  <a:lnTo>
                    <a:pt x="1109" y="25"/>
                  </a:lnTo>
                  <a:lnTo>
                    <a:pt x="1130" y="16"/>
                  </a:lnTo>
                  <a:lnTo>
                    <a:pt x="1151" y="9"/>
                  </a:lnTo>
                  <a:lnTo>
                    <a:pt x="1172" y="3"/>
                  </a:lnTo>
                  <a:lnTo>
                    <a:pt x="1193" y="1"/>
                  </a:lnTo>
                  <a:lnTo>
                    <a:pt x="1213" y="0"/>
                  </a:lnTo>
                  <a:lnTo>
                    <a:pt x="1232" y="1"/>
                  </a:lnTo>
                  <a:lnTo>
                    <a:pt x="1253" y="4"/>
                  </a:lnTo>
                  <a:lnTo>
                    <a:pt x="1272" y="10"/>
                  </a:lnTo>
                  <a:lnTo>
                    <a:pt x="1291" y="17"/>
                  </a:lnTo>
                  <a:lnTo>
                    <a:pt x="1311" y="26"/>
                  </a:lnTo>
                  <a:lnTo>
                    <a:pt x="1329" y="36"/>
                  </a:lnTo>
                  <a:lnTo>
                    <a:pt x="1348" y="48"/>
                  </a:lnTo>
                  <a:lnTo>
                    <a:pt x="1366" y="61"/>
                  </a:lnTo>
                  <a:lnTo>
                    <a:pt x="1386" y="76"/>
                  </a:lnTo>
                  <a:lnTo>
                    <a:pt x="1404" y="92"/>
                  </a:lnTo>
                  <a:lnTo>
                    <a:pt x="1423" y="110"/>
                  </a:lnTo>
                  <a:lnTo>
                    <a:pt x="1441" y="129"/>
                  </a:lnTo>
                  <a:lnTo>
                    <a:pt x="1460" y="148"/>
                  </a:lnTo>
                  <a:lnTo>
                    <a:pt x="1479" y="170"/>
                  </a:lnTo>
                  <a:lnTo>
                    <a:pt x="1498" y="191"/>
                  </a:lnTo>
                  <a:lnTo>
                    <a:pt x="1516" y="214"/>
                  </a:lnTo>
                  <a:lnTo>
                    <a:pt x="1555" y="262"/>
                  </a:lnTo>
                  <a:lnTo>
                    <a:pt x="1595" y="312"/>
                  </a:lnTo>
                  <a:lnTo>
                    <a:pt x="1617" y="334"/>
                  </a:lnTo>
                  <a:lnTo>
                    <a:pt x="1644" y="360"/>
                  </a:lnTo>
                  <a:lnTo>
                    <a:pt x="1674" y="392"/>
                  </a:lnTo>
                  <a:lnTo>
                    <a:pt x="1706" y="427"/>
                  </a:lnTo>
                  <a:lnTo>
                    <a:pt x="1777" y="505"/>
                  </a:lnTo>
                  <a:lnTo>
                    <a:pt x="1851" y="589"/>
                  </a:lnTo>
                  <a:lnTo>
                    <a:pt x="1924" y="671"/>
                  </a:lnTo>
                  <a:lnTo>
                    <a:pt x="1992" y="747"/>
                  </a:lnTo>
                  <a:lnTo>
                    <a:pt x="2022" y="779"/>
                  </a:lnTo>
                  <a:lnTo>
                    <a:pt x="2048" y="808"/>
                  </a:lnTo>
                  <a:lnTo>
                    <a:pt x="2072" y="830"/>
                  </a:lnTo>
                  <a:lnTo>
                    <a:pt x="2090" y="847"/>
                  </a:lnTo>
                  <a:lnTo>
                    <a:pt x="2119" y="854"/>
                  </a:lnTo>
                  <a:lnTo>
                    <a:pt x="2132" y="875"/>
                  </a:lnTo>
                  <a:lnTo>
                    <a:pt x="2149" y="901"/>
                  </a:lnTo>
                  <a:lnTo>
                    <a:pt x="2171" y="930"/>
                  </a:lnTo>
                  <a:lnTo>
                    <a:pt x="2194" y="962"/>
                  </a:lnTo>
                  <a:lnTo>
                    <a:pt x="2247" y="1034"/>
                  </a:lnTo>
                  <a:lnTo>
                    <a:pt x="2303" y="1112"/>
                  </a:lnTo>
                  <a:lnTo>
                    <a:pt x="2329" y="1152"/>
                  </a:lnTo>
                  <a:lnTo>
                    <a:pt x="2355" y="1192"/>
                  </a:lnTo>
                  <a:lnTo>
                    <a:pt x="2379" y="1231"/>
                  </a:lnTo>
                  <a:lnTo>
                    <a:pt x="2399" y="1269"/>
                  </a:lnTo>
                  <a:lnTo>
                    <a:pt x="2409" y="1288"/>
                  </a:lnTo>
                  <a:lnTo>
                    <a:pt x="2417" y="1305"/>
                  </a:lnTo>
                  <a:lnTo>
                    <a:pt x="2424" y="1324"/>
                  </a:lnTo>
                  <a:lnTo>
                    <a:pt x="2430" y="1341"/>
                  </a:lnTo>
                  <a:lnTo>
                    <a:pt x="2436" y="1357"/>
                  </a:lnTo>
                  <a:lnTo>
                    <a:pt x="2439" y="1372"/>
                  </a:lnTo>
                  <a:lnTo>
                    <a:pt x="2441" y="1387"/>
                  </a:lnTo>
                  <a:lnTo>
                    <a:pt x="2442" y="1401"/>
                  </a:lnTo>
                  <a:lnTo>
                    <a:pt x="2463" y="1428"/>
                  </a:lnTo>
                  <a:lnTo>
                    <a:pt x="2485" y="1455"/>
                  </a:lnTo>
                  <a:lnTo>
                    <a:pt x="2505" y="1482"/>
                  </a:lnTo>
                  <a:lnTo>
                    <a:pt x="2526" y="1510"/>
                  </a:lnTo>
                  <a:lnTo>
                    <a:pt x="2563" y="1566"/>
                  </a:lnTo>
                  <a:lnTo>
                    <a:pt x="2600" y="1622"/>
                  </a:lnTo>
                  <a:lnTo>
                    <a:pt x="2634" y="1678"/>
                  </a:lnTo>
                  <a:lnTo>
                    <a:pt x="2666" y="1735"/>
                  </a:lnTo>
                  <a:lnTo>
                    <a:pt x="2697" y="1793"/>
                  </a:lnTo>
                  <a:lnTo>
                    <a:pt x="2726" y="1851"/>
                  </a:lnTo>
                  <a:lnTo>
                    <a:pt x="2754" y="1910"/>
                  </a:lnTo>
                  <a:lnTo>
                    <a:pt x="2780" y="1969"/>
                  </a:lnTo>
                  <a:lnTo>
                    <a:pt x="2806" y="2028"/>
                  </a:lnTo>
                  <a:lnTo>
                    <a:pt x="2830" y="2087"/>
                  </a:lnTo>
                  <a:lnTo>
                    <a:pt x="2853" y="2147"/>
                  </a:lnTo>
                  <a:lnTo>
                    <a:pt x="2876" y="2207"/>
                  </a:lnTo>
                  <a:lnTo>
                    <a:pt x="2898" y="2267"/>
                  </a:lnTo>
                  <a:lnTo>
                    <a:pt x="2920" y="2328"/>
                  </a:lnTo>
                  <a:lnTo>
                    <a:pt x="2920" y="2341"/>
                  </a:lnTo>
                  <a:lnTo>
                    <a:pt x="2924" y="2353"/>
                  </a:lnTo>
                  <a:lnTo>
                    <a:pt x="2927" y="2366"/>
                  </a:lnTo>
                  <a:lnTo>
                    <a:pt x="2932" y="2378"/>
                  </a:lnTo>
                  <a:lnTo>
                    <a:pt x="2945" y="2402"/>
                  </a:lnTo>
                  <a:lnTo>
                    <a:pt x="2960" y="2427"/>
                  </a:lnTo>
                  <a:lnTo>
                    <a:pt x="2975" y="2452"/>
                  </a:lnTo>
                  <a:lnTo>
                    <a:pt x="2988" y="2476"/>
                  </a:lnTo>
                  <a:lnTo>
                    <a:pt x="2993" y="2489"/>
                  </a:lnTo>
                  <a:lnTo>
                    <a:pt x="2997" y="2502"/>
                  </a:lnTo>
                  <a:lnTo>
                    <a:pt x="3000" y="2516"/>
                  </a:lnTo>
                  <a:lnTo>
                    <a:pt x="3001" y="2530"/>
                  </a:lnTo>
                  <a:lnTo>
                    <a:pt x="3008" y="2571"/>
                  </a:lnTo>
                  <a:lnTo>
                    <a:pt x="3013" y="2590"/>
                  </a:lnTo>
                  <a:lnTo>
                    <a:pt x="3012" y="2590"/>
                  </a:lnTo>
                  <a:lnTo>
                    <a:pt x="3007" y="2572"/>
                  </a:lnTo>
                  <a:lnTo>
                    <a:pt x="2989" y="2496"/>
                  </a:lnTo>
                  <a:lnTo>
                    <a:pt x="2961" y="2378"/>
                  </a:lnTo>
                  <a:lnTo>
                    <a:pt x="2928" y="2239"/>
                  </a:lnTo>
                  <a:lnTo>
                    <a:pt x="2892" y="2098"/>
                  </a:lnTo>
                  <a:lnTo>
                    <a:pt x="2874" y="2032"/>
                  </a:lnTo>
                  <a:lnTo>
                    <a:pt x="2857" y="1973"/>
                  </a:lnTo>
                  <a:lnTo>
                    <a:pt x="2842" y="1923"/>
                  </a:lnTo>
                  <a:lnTo>
                    <a:pt x="2828" y="1884"/>
                  </a:lnTo>
                  <a:lnTo>
                    <a:pt x="2814" y="1856"/>
                  </a:lnTo>
                  <a:lnTo>
                    <a:pt x="2800" y="1826"/>
                  </a:lnTo>
                  <a:lnTo>
                    <a:pt x="2784" y="1796"/>
                  </a:lnTo>
                  <a:lnTo>
                    <a:pt x="2768" y="1766"/>
                  </a:lnTo>
                  <a:lnTo>
                    <a:pt x="2750" y="1735"/>
                  </a:lnTo>
                  <a:lnTo>
                    <a:pt x="2731" y="1703"/>
                  </a:lnTo>
                  <a:lnTo>
                    <a:pt x="2711" y="1671"/>
                  </a:lnTo>
                  <a:lnTo>
                    <a:pt x="2690" y="1639"/>
                  </a:lnTo>
                  <a:lnTo>
                    <a:pt x="2647" y="1572"/>
                  </a:lnTo>
                  <a:lnTo>
                    <a:pt x="2600" y="1504"/>
                  </a:lnTo>
                  <a:lnTo>
                    <a:pt x="2551" y="1436"/>
                  </a:lnTo>
                  <a:lnTo>
                    <a:pt x="2501" y="1366"/>
                  </a:lnTo>
                  <a:lnTo>
                    <a:pt x="2399" y="1230"/>
                  </a:lnTo>
                  <a:lnTo>
                    <a:pt x="2298" y="1096"/>
                  </a:lnTo>
                  <a:lnTo>
                    <a:pt x="2250" y="1032"/>
                  </a:lnTo>
                  <a:lnTo>
                    <a:pt x="2204" y="970"/>
                  </a:lnTo>
                  <a:lnTo>
                    <a:pt x="2160" y="911"/>
                  </a:lnTo>
                  <a:lnTo>
                    <a:pt x="2119" y="854"/>
                  </a:lnTo>
                  <a:lnTo>
                    <a:pt x="2110" y="840"/>
                  </a:lnTo>
                  <a:lnTo>
                    <a:pt x="2099" y="826"/>
                  </a:lnTo>
                  <a:lnTo>
                    <a:pt x="2086" y="811"/>
                  </a:lnTo>
                  <a:lnTo>
                    <a:pt x="2073" y="796"/>
                  </a:lnTo>
                  <a:lnTo>
                    <a:pt x="2043" y="763"/>
                  </a:lnTo>
                  <a:lnTo>
                    <a:pt x="2011" y="729"/>
                  </a:lnTo>
                  <a:lnTo>
                    <a:pt x="1979" y="695"/>
                  </a:lnTo>
                  <a:lnTo>
                    <a:pt x="1948" y="662"/>
                  </a:lnTo>
                  <a:lnTo>
                    <a:pt x="1919" y="630"/>
                  </a:lnTo>
                  <a:lnTo>
                    <a:pt x="1895" y="600"/>
                  </a:lnTo>
                  <a:lnTo>
                    <a:pt x="1904" y="534"/>
                  </a:lnTo>
                  <a:lnTo>
                    <a:pt x="1912" y="475"/>
                  </a:lnTo>
                  <a:lnTo>
                    <a:pt x="1917" y="448"/>
                  </a:lnTo>
                  <a:lnTo>
                    <a:pt x="1922" y="423"/>
                  </a:lnTo>
                  <a:lnTo>
                    <a:pt x="1928" y="400"/>
                  </a:lnTo>
                  <a:lnTo>
                    <a:pt x="1936" y="380"/>
                  </a:lnTo>
                  <a:lnTo>
                    <a:pt x="1941" y="370"/>
                  </a:lnTo>
                  <a:lnTo>
                    <a:pt x="1945" y="362"/>
                  </a:lnTo>
                  <a:lnTo>
                    <a:pt x="1952" y="353"/>
                  </a:lnTo>
                  <a:lnTo>
                    <a:pt x="1957" y="345"/>
                  </a:lnTo>
                  <a:lnTo>
                    <a:pt x="1964" y="339"/>
                  </a:lnTo>
                  <a:lnTo>
                    <a:pt x="1971" y="333"/>
                  </a:lnTo>
                  <a:lnTo>
                    <a:pt x="1980" y="326"/>
                  </a:lnTo>
                  <a:lnTo>
                    <a:pt x="1988" y="322"/>
                  </a:lnTo>
                  <a:lnTo>
                    <a:pt x="1998" y="318"/>
                  </a:lnTo>
                  <a:lnTo>
                    <a:pt x="2009" y="313"/>
                  </a:lnTo>
                  <a:lnTo>
                    <a:pt x="2019" y="310"/>
                  </a:lnTo>
                  <a:lnTo>
                    <a:pt x="2032" y="308"/>
                  </a:lnTo>
                  <a:lnTo>
                    <a:pt x="2045" y="307"/>
                  </a:lnTo>
                  <a:lnTo>
                    <a:pt x="2059" y="306"/>
                  </a:lnTo>
                  <a:lnTo>
                    <a:pt x="2074" y="306"/>
                  </a:lnTo>
                  <a:lnTo>
                    <a:pt x="2090" y="307"/>
                  </a:lnTo>
                  <a:lnTo>
                    <a:pt x="2104" y="307"/>
                  </a:lnTo>
                  <a:lnTo>
                    <a:pt x="2119" y="309"/>
                  </a:lnTo>
                  <a:lnTo>
                    <a:pt x="2134" y="313"/>
                  </a:lnTo>
                  <a:lnTo>
                    <a:pt x="2150" y="319"/>
                  </a:lnTo>
                  <a:lnTo>
                    <a:pt x="2166" y="325"/>
                  </a:lnTo>
                  <a:lnTo>
                    <a:pt x="2184" y="333"/>
                  </a:lnTo>
                  <a:lnTo>
                    <a:pt x="2201" y="341"/>
                  </a:lnTo>
                  <a:lnTo>
                    <a:pt x="2219" y="351"/>
                  </a:lnTo>
                  <a:lnTo>
                    <a:pt x="2236" y="362"/>
                  </a:lnTo>
                  <a:lnTo>
                    <a:pt x="2254" y="373"/>
                  </a:lnTo>
                  <a:lnTo>
                    <a:pt x="2274" y="386"/>
                  </a:lnTo>
                  <a:lnTo>
                    <a:pt x="2292" y="400"/>
                  </a:lnTo>
                  <a:lnTo>
                    <a:pt x="2329" y="429"/>
                  </a:lnTo>
                  <a:lnTo>
                    <a:pt x="2368" y="460"/>
                  </a:lnTo>
                  <a:lnTo>
                    <a:pt x="2405" y="492"/>
                  </a:lnTo>
                  <a:lnTo>
                    <a:pt x="2441" y="527"/>
                  </a:lnTo>
                  <a:lnTo>
                    <a:pt x="2476" y="561"/>
                  </a:lnTo>
                  <a:lnTo>
                    <a:pt x="2510" y="595"/>
                  </a:lnTo>
                  <a:lnTo>
                    <a:pt x="2540" y="630"/>
                  </a:lnTo>
                  <a:lnTo>
                    <a:pt x="2569" y="662"/>
                  </a:lnTo>
                  <a:lnTo>
                    <a:pt x="2593" y="693"/>
                  </a:lnTo>
                  <a:lnTo>
                    <a:pt x="2615" y="721"/>
                  </a:lnTo>
                  <a:lnTo>
                    <a:pt x="2639" y="755"/>
                  </a:lnTo>
                  <a:lnTo>
                    <a:pt x="2663" y="789"/>
                  </a:lnTo>
                  <a:lnTo>
                    <a:pt x="2687" y="824"/>
                  </a:lnTo>
                  <a:lnTo>
                    <a:pt x="2708" y="858"/>
                  </a:lnTo>
                  <a:lnTo>
                    <a:pt x="2729" y="892"/>
                  </a:lnTo>
                  <a:lnTo>
                    <a:pt x="2750" y="927"/>
                  </a:lnTo>
                  <a:lnTo>
                    <a:pt x="2769" y="962"/>
                  </a:lnTo>
                  <a:lnTo>
                    <a:pt x="2788" y="996"/>
                  </a:lnTo>
                  <a:lnTo>
                    <a:pt x="2807" y="1031"/>
                  </a:lnTo>
                  <a:lnTo>
                    <a:pt x="2824" y="1066"/>
                  </a:lnTo>
                  <a:lnTo>
                    <a:pt x="2841" y="1102"/>
                  </a:lnTo>
                  <a:lnTo>
                    <a:pt x="2857" y="1136"/>
                  </a:lnTo>
                  <a:lnTo>
                    <a:pt x="2888" y="1207"/>
                  </a:lnTo>
                  <a:lnTo>
                    <a:pt x="2917" y="1277"/>
                  </a:lnTo>
                  <a:lnTo>
                    <a:pt x="2944" y="1348"/>
                  </a:lnTo>
                  <a:lnTo>
                    <a:pt x="2971" y="1419"/>
                  </a:lnTo>
                  <a:lnTo>
                    <a:pt x="2995" y="1491"/>
                  </a:lnTo>
                  <a:lnTo>
                    <a:pt x="3020" y="1562"/>
                  </a:lnTo>
                  <a:lnTo>
                    <a:pt x="3067" y="1705"/>
                  </a:lnTo>
                  <a:lnTo>
                    <a:pt x="3116" y="1850"/>
                  </a:lnTo>
                  <a:lnTo>
                    <a:pt x="3139" y="1899"/>
                  </a:lnTo>
                  <a:lnTo>
                    <a:pt x="3162" y="1954"/>
                  </a:lnTo>
                  <a:lnTo>
                    <a:pt x="3182" y="2011"/>
                  </a:lnTo>
                  <a:lnTo>
                    <a:pt x="3202" y="2072"/>
                  </a:lnTo>
                  <a:lnTo>
                    <a:pt x="3223" y="2136"/>
                  </a:lnTo>
                  <a:lnTo>
                    <a:pt x="3241" y="2204"/>
                  </a:lnTo>
                  <a:lnTo>
                    <a:pt x="3259" y="2274"/>
                  </a:lnTo>
                  <a:lnTo>
                    <a:pt x="3278" y="2346"/>
                  </a:lnTo>
                  <a:lnTo>
                    <a:pt x="3295" y="2418"/>
                  </a:lnTo>
                  <a:lnTo>
                    <a:pt x="3311" y="2494"/>
                  </a:lnTo>
                  <a:lnTo>
                    <a:pt x="3328" y="2569"/>
                  </a:lnTo>
                  <a:lnTo>
                    <a:pt x="3343" y="2646"/>
                  </a:lnTo>
                  <a:lnTo>
                    <a:pt x="3375" y="2799"/>
                  </a:lnTo>
                  <a:lnTo>
                    <a:pt x="3406" y="2950"/>
                  </a:lnTo>
                  <a:lnTo>
                    <a:pt x="3421" y="3025"/>
                  </a:lnTo>
                  <a:lnTo>
                    <a:pt x="3437" y="3098"/>
                  </a:lnTo>
                  <a:lnTo>
                    <a:pt x="3453" y="3170"/>
                  </a:lnTo>
                  <a:lnTo>
                    <a:pt x="3470" y="3239"/>
                  </a:lnTo>
                  <a:lnTo>
                    <a:pt x="3486" y="3306"/>
                  </a:lnTo>
                  <a:lnTo>
                    <a:pt x="3503" y="3371"/>
                  </a:lnTo>
                  <a:lnTo>
                    <a:pt x="3520" y="3431"/>
                  </a:lnTo>
                  <a:lnTo>
                    <a:pt x="3538" y="3489"/>
                  </a:lnTo>
                  <a:lnTo>
                    <a:pt x="3556" y="3542"/>
                  </a:lnTo>
                  <a:lnTo>
                    <a:pt x="3576" y="3592"/>
                  </a:lnTo>
                  <a:lnTo>
                    <a:pt x="3595" y="3637"/>
                  </a:lnTo>
                  <a:lnTo>
                    <a:pt x="3616" y="3676"/>
                  </a:lnTo>
                  <a:lnTo>
                    <a:pt x="3638" y="3711"/>
                  </a:lnTo>
                  <a:lnTo>
                    <a:pt x="3660" y="3740"/>
                  </a:lnTo>
                  <a:lnTo>
                    <a:pt x="3684" y="3763"/>
                  </a:lnTo>
                  <a:lnTo>
                    <a:pt x="3709" y="3779"/>
                  </a:lnTo>
                  <a:lnTo>
                    <a:pt x="3757" y="4017"/>
                  </a:lnTo>
                  <a:lnTo>
                    <a:pt x="3798" y="4231"/>
                  </a:lnTo>
                  <a:lnTo>
                    <a:pt x="3834" y="4427"/>
                  </a:lnTo>
                  <a:lnTo>
                    <a:pt x="3867" y="4614"/>
                  </a:lnTo>
                  <a:lnTo>
                    <a:pt x="3900" y="4800"/>
                  </a:lnTo>
                  <a:lnTo>
                    <a:pt x="3933" y="4992"/>
                  </a:lnTo>
                  <a:lnTo>
                    <a:pt x="3968" y="5198"/>
                  </a:lnTo>
                  <a:lnTo>
                    <a:pt x="4009" y="5427"/>
                  </a:lnTo>
                  <a:lnTo>
                    <a:pt x="4015" y="5454"/>
                  </a:lnTo>
                  <a:lnTo>
                    <a:pt x="4024" y="5484"/>
                  </a:lnTo>
                  <a:lnTo>
                    <a:pt x="4034" y="5514"/>
                  </a:lnTo>
                  <a:lnTo>
                    <a:pt x="4044" y="5547"/>
                  </a:lnTo>
                  <a:lnTo>
                    <a:pt x="4066" y="5612"/>
                  </a:lnTo>
                  <a:lnTo>
                    <a:pt x="4087" y="5681"/>
                  </a:lnTo>
                  <a:lnTo>
                    <a:pt x="4097" y="5714"/>
                  </a:lnTo>
                  <a:lnTo>
                    <a:pt x="4105" y="5748"/>
                  </a:lnTo>
                  <a:lnTo>
                    <a:pt x="4112" y="5782"/>
                  </a:lnTo>
                  <a:lnTo>
                    <a:pt x="4118" y="5814"/>
                  </a:lnTo>
                  <a:lnTo>
                    <a:pt x="4122" y="5846"/>
                  </a:lnTo>
                  <a:lnTo>
                    <a:pt x="4123" y="5876"/>
                  </a:lnTo>
                  <a:lnTo>
                    <a:pt x="4123" y="5891"/>
                  </a:lnTo>
                  <a:lnTo>
                    <a:pt x="4122" y="5906"/>
                  </a:lnTo>
                  <a:lnTo>
                    <a:pt x="4121" y="5920"/>
                  </a:lnTo>
                  <a:lnTo>
                    <a:pt x="4118" y="5934"/>
                  </a:lnTo>
                  <a:lnTo>
                    <a:pt x="4112" y="5970"/>
                  </a:lnTo>
                  <a:lnTo>
                    <a:pt x="4107" y="6007"/>
                  </a:lnTo>
                  <a:lnTo>
                    <a:pt x="4102" y="6045"/>
                  </a:lnTo>
                  <a:lnTo>
                    <a:pt x="4100" y="6084"/>
                  </a:lnTo>
                  <a:lnTo>
                    <a:pt x="4099" y="6125"/>
                  </a:lnTo>
                  <a:lnTo>
                    <a:pt x="4099" y="6164"/>
                  </a:lnTo>
                  <a:lnTo>
                    <a:pt x="4100" y="6206"/>
                  </a:lnTo>
                  <a:lnTo>
                    <a:pt x="4102" y="6248"/>
                  </a:lnTo>
                  <a:lnTo>
                    <a:pt x="4105" y="6290"/>
                  </a:lnTo>
                  <a:lnTo>
                    <a:pt x="4110" y="6332"/>
                  </a:lnTo>
                  <a:lnTo>
                    <a:pt x="4116" y="6375"/>
                  </a:lnTo>
                  <a:lnTo>
                    <a:pt x="4123" y="6417"/>
                  </a:lnTo>
                  <a:lnTo>
                    <a:pt x="4131" y="6460"/>
                  </a:lnTo>
                  <a:lnTo>
                    <a:pt x="4140" y="6502"/>
                  </a:lnTo>
                  <a:lnTo>
                    <a:pt x="4151" y="6545"/>
                  </a:lnTo>
                  <a:lnTo>
                    <a:pt x="4162" y="6587"/>
                  </a:lnTo>
                  <a:lnTo>
                    <a:pt x="4174" y="6630"/>
                  </a:lnTo>
                  <a:lnTo>
                    <a:pt x="4188" y="6671"/>
                  </a:lnTo>
                  <a:lnTo>
                    <a:pt x="4203" y="6711"/>
                  </a:lnTo>
                  <a:lnTo>
                    <a:pt x="4219" y="6752"/>
                  </a:lnTo>
                  <a:lnTo>
                    <a:pt x="4235" y="6792"/>
                  </a:lnTo>
                  <a:lnTo>
                    <a:pt x="4253" y="6830"/>
                  </a:lnTo>
                  <a:lnTo>
                    <a:pt x="4272" y="6869"/>
                  </a:lnTo>
                  <a:lnTo>
                    <a:pt x="4292" y="6905"/>
                  </a:lnTo>
                  <a:lnTo>
                    <a:pt x="4314" y="6942"/>
                  </a:lnTo>
                  <a:lnTo>
                    <a:pt x="4335" y="6976"/>
                  </a:lnTo>
                  <a:lnTo>
                    <a:pt x="4358" y="7009"/>
                  </a:lnTo>
                  <a:lnTo>
                    <a:pt x="4382" y="7042"/>
                  </a:lnTo>
                  <a:lnTo>
                    <a:pt x="4407" y="7073"/>
                  </a:lnTo>
                  <a:lnTo>
                    <a:pt x="4433" y="7102"/>
                  </a:lnTo>
                  <a:lnTo>
                    <a:pt x="4459" y="7128"/>
                  </a:lnTo>
                  <a:lnTo>
                    <a:pt x="4486" y="7154"/>
                  </a:lnTo>
                  <a:lnTo>
                    <a:pt x="4462" y="7143"/>
                  </a:lnTo>
                  <a:lnTo>
                    <a:pt x="4438" y="7133"/>
                  </a:lnTo>
                  <a:lnTo>
                    <a:pt x="4415" y="7121"/>
                  </a:lnTo>
                  <a:lnTo>
                    <a:pt x="4394" y="7109"/>
                  </a:lnTo>
                  <a:lnTo>
                    <a:pt x="4353" y="7084"/>
                  </a:lnTo>
                  <a:lnTo>
                    <a:pt x="4316" y="7060"/>
                  </a:lnTo>
                  <a:lnTo>
                    <a:pt x="4280" y="7036"/>
                  </a:lnTo>
                  <a:lnTo>
                    <a:pt x="4246" y="7013"/>
                  </a:lnTo>
                  <a:lnTo>
                    <a:pt x="4212" y="6991"/>
                  </a:lnTo>
                  <a:lnTo>
                    <a:pt x="4175" y="6971"/>
                  </a:lnTo>
                  <a:lnTo>
                    <a:pt x="4153" y="6947"/>
                  </a:lnTo>
                  <a:lnTo>
                    <a:pt x="4130" y="6925"/>
                  </a:lnTo>
                  <a:lnTo>
                    <a:pt x="4107" y="6903"/>
                  </a:lnTo>
                  <a:lnTo>
                    <a:pt x="4083" y="6884"/>
                  </a:lnTo>
                  <a:lnTo>
                    <a:pt x="4058" y="6866"/>
                  </a:lnTo>
                  <a:lnTo>
                    <a:pt x="4034" y="6850"/>
                  </a:lnTo>
                  <a:lnTo>
                    <a:pt x="4009" y="6834"/>
                  </a:lnTo>
                  <a:lnTo>
                    <a:pt x="3984" y="6820"/>
                  </a:lnTo>
                  <a:lnTo>
                    <a:pt x="3959" y="6807"/>
                  </a:lnTo>
                  <a:lnTo>
                    <a:pt x="3934" y="6796"/>
                  </a:lnTo>
                  <a:lnTo>
                    <a:pt x="3908" y="6786"/>
                  </a:lnTo>
                  <a:lnTo>
                    <a:pt x="3882" y="6777"/>
                  </a:lnTo>
                  <a:lnTo>
                    <a:pt x="3857" y="6770"/>
                  </a:lnTo>
                  <a:lnTo>
                    <a:pt x="3832" y="6764"/>
                  </a:lnTo>
                  <a:lnTo>
                    <a:pt x="3806" y="6760"/>
                  </a:lnTo>
                  <a:lnTo>
                    <a:pt x="3781" y="6755"/>
                  </a:lnTo>
                  <a:lnTo>
                    <a:pt x="3756" y="6754"/>
                  </a:lnTo>
                  <a:lnTo>
                    <a:pt x="3731" y="6753"/>
                  </a:lnTo>
                  <a:lnTo>
                    <a:pt x="3707" y="6753"/>
                  </a:lnTo>
                  <a:lnTo>
                    <a:pt x="3683" y="6755"/>
                  </a:lnTo>
                  <a:lnTo>
                    <a:pt x="3659" y="6758"/>
                  </a:lnTo>
                  <a:lnTo>
                    <a:pt x="3636" y="6763"/>
                  </a:lnTo>
                  <a:lnTo>
                    <a:pt x="3613" y="6769"/>
                  </a:lnTo>
                  <a:lnTo>
                    <a:pt x="3591" y="6776"/>
                  </a:lnTo>
                  <a:lnTo>
                    <a:pt x="3569" y="6784"/>
                  </a:lnTo>
                  <a:lnTo>
                    <a:pt x="3548" y="6794"/>
                  </a:lnTo>
                  <a:lnTo>
                    <a:pt x="3527" y="6805"/>
                  </a:lnTo>
                  <a:lnTo>
                    <a:pt x="3508" y="6817"/>
                  </a:lnTo>
                  <a:lnTo>
                    <a:pt x="3490" y="6830"/>
                  </a:lnTo>
                  <a:lnTo>
                    <a:pt x="3472" y="6845"/>
                  </a:lnTo>
                  <a:lnTo>
                    <a:pt x="3454" y="6861"/>
                  </a:lnTo>
                  <a:lnTo>
                    <a:pt x="3438" y="6879"/>
                  </a:lnTo>
                  <a:lnTo>
                    <a:pt x="3378" y="6880"/>
                  </a:lnTo>
                  <a:lnTo>
                    <a:pt x="3320" y="6882"/>
                  </a:lnTo>
                  <a:lnTo>
                    <a:pt x="3264" y="6887"/>
                  </a:lnTo>
                  <a:lnTo>
                    <a:pt x="3208" y="6894"/>
                  </a:lnTo>
                  <a:lnTo>
                    <a:pt x="3154" y="6901"/>
                  </a:lnTo>
                  <a:lnTo>
                    <a:pt x="3101" y="6911"/>
                  </a:lnTo>
                  <a:lnTo>
                    <a:pt x="3048" y="6921"/>
                  </a:lnTo>
                  <a:lnTo>
                    <a:pt x="2997" y="6934"/>
                  </a:lnTo>
                  <a:lnTo>
                    <a:pt x="2945" y="6948"/>
                  </a:lnTo>
                  <a:lnTo>
                    <a:pt x="2895" y="6962"/>
                  </a:lnTo>
                  <a:lnTo>
                    <a:pt x="2845" y="6978"/>
                  </a:lnTo>
                  <a:lnTo>
                    <a:pt x="2795" y="6994"/>
                  </a:lnTo>
                  <a:lnTo>
                    <a:pt x="2746" y="7013"/>
                  </a:lnTo>
                  <a:lnTo>
                    <a:pt x="2696" y="7030"/>
                  </a:lnTo>
                  <a:lnTo>
                    <a:pt x="2647" y="7049"/>
                  </a:lnTo>
                  <a:lnTo>
                    <a:pt x="2598" y="7068"/>
                  </a:lnTo>
                  <a:lnTo>
                    <a:pt x="2581" y="7075"/>
                  </a:lnTo>
                  <a:lnTo>
                    <a:pt x="2562" y="7086"/>
                  </a:lnTo>
                  <a:lnTo>
                    <a:pt x="2537" y="7097"/>
                  </a:lnTo>
                  <a:lnTo>
                    <a:pt x="2511" y="7112"/>
                  </a:lnTo>
                  <a:lnTo>
                    <a:pt x="2447" y="7149"/>
                  </a:lnTo>
                  <a:lnTo>
                    <a:pt x="2379" y="7191"/>
                  </a:lnTo>
                  <a:lnTo>
                    <a:pt x="2342" y="7213"/>
                  </a:lnTo>
                  <a:lnTo>
                    <a:pt x="2307" y="7237"/>
                  </a:lnTo>
                  <a:lnTo>
                    <a:pt x="2272" y="7260"/>
                  </a:lnTo>
                  <a:lnTo>
                    <a:pt x="2237" y="7284"/>
                  </a:lnTo>
                  <a:lnTo>
                    <a:pt x="2205" y="7308"/>
                  </a:lnTo>
                  <a:lnTo>
                    <a:pt x="2175" y="7330"/>
                  </a:lnTo>
                  <a:lnTo>
                    <a:pt x="2148" y="7353"/>
                  </a:lnTo>
                  <a:lnTo>
                    <a:pt x="2125" y="73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12480" y="4467240"/>
              <a:ext cx="416160" cy="141480"/>
            </a:xfrm>
            <a:custGeom>
              <a:avLst/>
              <a:gdLst/>
              <a:ahLst/>
              <a:rect l="l" t="t" r="r" b="b"/>
              <a:pathLst>
                <a:path w="2414" h="892">
                  <a:moveTo>
                    <a:pt x="0" y="892"/>
                  </a:moveTo>
                  <a:lnTo>
                    <a:pt x="13" y="826"/>
                  </a:lnTo>
                  <a:lnTo>
                    <a:pt x="24" y="766"/>
                  </a:lnTo>
                  <a:lnTo>
                    <a:pt x="35" y="708"/>
                  </a:lnTo>
                  <a:lnTo>
                    <a:pt x="44" y="652"/>
                  </a:lnTo>
                  <a:lnTo>
                    <a:pt x="53" y="596"/>
                  </a:lnTo>
                  <a:lnTo>
                    <a:pt x="61" y="538"/>
                  </a:lnTo>
                  <a:lnTo>
                    <a:pt x="69" y="478"/>
                  </a:lnTo>
                  <a:lnTo>
                    <a:pt x="75" y="413"/>
                  </a:lnTo>
                  <a:lnTo>
                    <a:pt x="106" y="380"/>
                  </a:lnTo>
                  <a:lnTo>
                    <a:pt x="139" y="350"/>
                  </a:lnTo>
                  <a:lnTo>
                    <a:pt x="172" y="320"/>
                  </a:lnTo>
                  <a:lnTo>
                    <a:pt x="205" y="292"/>
                  </a:lnTo>
                  <a:lnTo>
                    <a:pt x="238" y="266"/>
                  </a:lnTo>
                  <a:lnTo>
                    <a:pt x="273" y="242"/>
                  </a:lnTo>
                  <a:lnTo>
                    <a:pt x="307" y="218"/>
                  </a:lnTo>
                  <a:lnTo>
                    <a:pt x="343" y="197"/>
                  </a:lnTo>
                  <a:lnTo>
                    <a:pt x="379" y="176"/>
                  </a:lnTo>
                  <a:lnTo>
                    <a:pt x="416" y="158"/>
                  </a:lnTo>
                  <a:lnTo>
                    <a:pt x="454" y="140"/>
                  </a:lnTo>
                  <a:lnTo>
                    <a:pt x="493" y="124"/>
                  </a:lnTo>
                  <a:lnTo>
                    <a:pt x="531" y="109"/>
                  </a:lnTo>
                  <a:lnTo>
                    <a:pt x="571" y="95"/>
                  </a:lnTo>
                  <a:lnTo>
                    <a:pt x="612" y="82"/>
                  </a:lnTo>
                  <a:lnTo>
                    <a:pt x="653" y="70"/>
                  </a:lnTo>
                  <a:lnTo>
                    <a:pt x="696" y="59"/>
                  </a:lnTo>
                  <a:lnTo>
                    <a:pt x="739" y="51"/>
                  </a:lnTo>
                  <a:lnTo>
                    <a:pt x="783" y="42"/>
                  </a:lnTo>
                  <a:lnTo>
                    <a:pt x="828" y="35"/>
                  </a:lnTo>
                  <a:lnTo>
                    <a:pt x="874" y="27"/>
                  </a:lnTo>
                  <a:lnTo>
                    <a:pt x="922" y="22"/>
                  </a:lnTo>
                  <a:lnTo>
                    <a:pt x="970" y="18"/>
                  </a:lnTo>
                  <a:lnTo>
                    <a:pt x="1019" y="13"/>
                  </a:lnTo>
                  <a:lnTo>
                    <a:pt x="1070" y="10"/>
                  </a:lnTo>
                  <a:lnTo>
                    <a:pt x="1120" y="7"/>
                  </a:lnTo>
                  <a:lnTo>
                    <a:pt x="1173" y="5"/>
                  </a:lnTo>
                  <a:lnTo>
                    <a:pt x="1226" y="4"/>
                  </a:lnTo>
                  <a:lnTo>
                    <a:pt x="1337" y="3"/>
                  </a:lnTo>
                  <a:lnTo>
                    <a:pt x="1452" y="4"/>
                  </a:lnTo>
                  <a:lnTo>
                    <a:pt x="1460" y="14"/>
                  </a:lnTo>
                  <a:lnTo>
                    <a:pt x="1470" y="24"/>
                  </a:lnTo>
                  <a:lnTo>
                    <a:pt x="1479" y="34"/>
                  </a:lnTo>
                  <a:lnTo>
                    <a:pt x="1490" y="43"/>
                  </a:lnTo>
                  <a:lnTo>
                    <a:pt x="1515" y="64"/>
                  </a:lnTo>
                  <a:lnTo>
                    <a:pt x="1543" y="83"/>
                  </a:lnTo>
                  <a:lnTo>
                    <a:pt x="1573" y="101"/>
                  </a:lnTo>
                  <a:lnTo>
                    <a:pt x="1604" y="120"/>
                  </a:lnTo>
                  <a:lnTo>
                    <a:pt x="1638" y="137"/>
                  </a:lnTo>
                  <a:lnTo>
                    <a:pt x="1672" y="153"/>
                  </a:lnTo>
                  <a:lnTo>
                    <a:pt x="1708" y="168"/>
                  </a:lnTo>
                  <a:lnTo>
                    <a:pt x="1743" y="181"/>
                  </a:lnTo>
                  <a:lnTo>
                    <a:pt x="1778" y="192"/>
                  </a:lnTo>
                  <a:lnTo>
                    <a:pt x="1813" y="201"/>
                  </a:lnTo>
                  <a:lnTo>
                    <a:pt x="1830" y="204"/>
                  </a:lnTo>
                  <a:lnTo>
                    <a:pt x="1847" y="207"/>
                  </a:lnTo>
                  <a:lnTo>
                    <a:pt x="1863" y="211"/>
                  </a:lnTo>
                  <a:lnTo>
                    <a:pt x="1878" y="212"/>
                  </a:lnTo>
                  <a:lnTo>
                    <a:pt x="1894" y="213"/>
                  </a:lnTo>
                  <a:lnTo>
                    <a:pt x="1908" y="213"/>
                  </a:lnTo>
                  <a:lnTo>
                    <a:pt x="1922" y="213"/>
                  </a:lnTo>
                  <a:lnTo>
                    <a:pt x="1936" y="212"/>
                  </a:lnTo>
                  <a:lnTo>
                    <a:pt x="1950" y="211"/>
                  </a:lnTo>
                  <a:lnTo>
                    <a:pt x="1963" y="210"/>
                  </a:lnTo>
                  <a:lnTo>
                    <a:pt x="1977" y="207"/>
                  </a:lnTo>
                  <a:lnTo>
                    <a:pt x="1990" y="205"/>
                  </a:lnTo>
                  <a:lnTo>
                    <a:pt x="2014" y="199"/>
                  </a:lnTo>
                  <a:lnTo>
                    <a:pt x="2039" y="190"/>
                  </a:lnTo>
                  <a:lnTo>
                    <a:pt x="2062" y="181"/>
                  </a:lnTo>
                  <a:lnTo>
                    <a:pt x="2083" y="169"/>
                  </a:lnTo>
                  <a:lnTo>
                    <a:pt x="2105" y="156"/>
                  </a:lnTo>
                  <a:lnTo>
                    <a:pt x="2124" y="142"/>
                  </a:lnTo>
                  <a:lnTo>
                    <a:pt x="2142" y="127"/>
                  </a:lnTo>
                  <a:lnTo>
                    <a:pt x="2160" y="111"/>
                  </a:lnTo>
                  <a:lnTo>
                    <a:pt x="2176" y="95"/>
                  </a:lnTo>
                  <a:lnTo>
                    <a:pt x="2192" y="77"/>
                  </a:lnTo>
                  <a:lnTo>
                    <a:pt x="2207" y="59"/>
                  </a:lnTo>
                  <a:lnTo>
                    <a:pt x="2221" y="41"/>
                  </a:lnTo>
                  <a:lnTo>
                    <a:pt x="2234" y="23"/>
                  </a:lnTo>
                  <a:lnTo>
                    <a:pt x="2247" y="4"/>
                  </a:lnTo>
                  <a:lnTo>
                    <a:pt x="2261" y="3"/>
                  </a:lnTo>
                  <a:lnTo>
                    <a:pt x="2276" y="2"/>
                  </a:lnTo>
                  <a:lnTo>
                    <a:pt x="2289" y="0"/>
                  </a:lnTo>
                  <a:lnTo>
                    <a:pt x="2302" y="2"/>
                  </a:lnTo>
                  <a:lnTo>
                    <a:pt x="2314" y="3"/>
                  </a:lnTo>
                  <a:lnTo>
                    <a:pt x="2324" y="5"/>
                  </a:lnTo>
                  <a:lnTo>
                    <a:pt x="2335" y="8"/>
                  </a:lnTo>
                  <a:lnTo>
                    <a:pt x="2346" y="11"/>
                  </a:lnTo>
                  <a:lnTo>
                    <a:pt x="2355" y="17"/>
                  </a:lnTo>
                  <a:lnTo>
                    <a:pt x="2365" y="22"/>
                  </a:lnTo>
                  <a:lnTo>
                    <a:pt x="2374" y="28"/>
                  </a:lnTo>
                  <a:lnTo>
                    <a:pt x="2382" y="37"/>
                  </a:lnTo>
                  <a:lnTo>
                    <a:pt x="2391" y="46"/>
                  </a:lnTo>
                  <a:lnTo>
                    <a:pt x="2398" y="55"/>
                  </a:lnTo>
                  <a:lnTo>
                    <a:pt x="2406" y="67"/>
                  </a:lnTo>
                  <a:lnTo>
                    <a:pt x="2414" y="79"/>
                  </a:lnTo>
                  <a:lnTo>
                    <a:pt x="2411" y="108"/>
                  </a:lnTo>
                  <a:lnTo>
                    <a:pt x="2408" y="138"/>
                  </a:lnTo>
                  <a:lnTo>
                    <a:pt x="2407" y="170"/>
                  </a:lnTo>
                  <a:lnTo>
                    <a:pt x="2405" y="203"/>
                  </a:lnTo>
                  <a:lnTo>
                    <a:pt x="2404" y="274"/>
                  </a:lnTo>
                  <a:lnTo>
                    <a:pt x="2403" y="347"/>
                  </a:lnTo>
                  <a:lnTo>
                    <a:pt x="2405" y="420"/>
                  </a:lnTo>
                  <a:lnTo>
                    <a:pt x="2407" y="491"/>
                  </a:lnTo>
                  <a:lnTo>
                    <a:pt x="2410" y="556"/>
                  </a:lnTo>
                  <a:lnTo>
                    <a:pt x="2414" y="615"/>
                  </a:lnTo>
                  <a:lnTo>
                    <a:pt x="2401" y="614"/>
                  </a:lnTo>
                  <a:lnTo>
                    <a:pt x="2384" y="611"/>
                  </a:lnTo>
                  <a:lnTo>
                    <a:pt x="2365" y="606"/>
                  </a:lnTo>
                  <a:lnTo>
                    <a:pt x="2345" y="601"/>
                  </a:lnTo>
                  <a:lnTo>
                    <a:pt x="2322" y="594"/>
                  </a:lnTo>
                  <a:lnTo>
                    <a:pt x="2299" y="586"/>
                  </a:lnTo>
                  <a:lnTo>
                    <a:pt x="2275" y="576"/>
                  </a:lnTo>
                  <a:lnTo>
                    <a:pt x="2251" y="567"/>
                  </a:lnTo>
                  <a:lnTo>
                    <a:pt x="2228" y="557"/>
                  </a:lnTo>
                  <a:lnTo>
                    <a:pt x="2205" y="547"/>
                  </a:lnTo>
                  <a:lnTo>
                    <a:pt x="2184" y="537"/>
                  </a:lnTo>
                  <a:lnTo>
                    <a:pt x="2165" y="527"/>
                  </a:lnTo>
                  <a:lnTo>
                    <a:pt x="2147" y="517"/>
                  </a:lnTo>
                  <a:lnTo>
                    <a:pt x="2133" y="509"/>
                  </a:lnTo>
                  <a:lnTo>
                    <a:pt x="2122" y="501"/>
                  </a:lnTo>
                  <a:lnTo>
                    <a:pt x="2114" y="494"/>
                  </a:lnTo>
                  <a:lnTo>
                    <a:pt x="1964" y="493"/>
                  </a:lnTo>
                  <a:lnTo>
                    <a:pt x="1824" y="492"/>
                  </a:lnTo>
                  <a:lnTo>
                    <a:pt x="1755" y="492"/>
                  </a:lnTo>
                  <a:lnTo>
                    <a:pt x="1688" y="493"/>
                  </a:lnTo>
                  <a:lnTo>
                    <a:pt x="1622" y="494"/>
                  </a:lnTo>
                  <a:lnTo>
                    <a:pt x="1556" y="496"/>
                  </a:lnTo>
                  <a:lnTo>
                    <a:pt x="1491" y="499"/>
                  </a:lnTo>
                  <a:lnTo>
                    <a:pt x="1425" y="505"/>
                  </a:lnTo>
                  <a:lnTo>
                    <a:pt x="1358" y="512"/>
                  </a:lnTo>
                  <a:lnTo>
                    <a:pt x="1290" y="521"/>
                  </a:lnTo>
                  <a:lnTo>
                    <a:pt x="1222" y="531"/>
                  </a:lnTo>
                  <a:lnTo>
                    <a:pt x="1151" y="545"/>
                  </a:lnTo>
                  <a:lnTo>
                    <a:pt x="1115" y="553"/>
                  </a:lnTo>
                  <a:lnTo>
                    <a:pt x="1078" y="561"/>
                  </a:lnTo>
                  <a:lnTo>
                    <a:pt x="1041" y="570"/>
                  </a:lnTo>
                  <a:lnTo>
                    <a:pt x="1003" y="581"/>
                  </a:lnTo>
                  <a:lnTo>
                    <a:pt x="949" y="594"/>
                  </a:lnTo>
                  <a:lnTo>
                    <a:pt x="900" y="606"/>
                  </a:lnTo>
                  <a:lnTo>
                    <a:pt x="854" y="619"/>
                  </a:lnTo>
                  <a:lnTo>
                    <a:pt x="810" y="633"/>
                  </a:lnTo>
                  <a:lnTo>
                    <a:pt x="728" y="660"/>
                  </a:lnTo>
                  <a:lnTo>
                    <a:pt x="651" y="688"/>
                  </a:lnTo>
                  <a:lnTo>
                    <a:pt x="574" y="715"/>
                  </a:lnTo>
                  <a:lnTo>
                    <a:pt x="493" y="743"/>
                  </a:lnTo>
                  <a:lnTo>
                    <a:pt x="449" y="757"/>
                  </a:lnTo>
                  <a:lnTo>
                    <a:pt x="402" y="770"/>
                  </a:lnTo>
                  <a:lnTo>
                    <a:pt x="353" y="785"/>
                  </a:lnTo>
                  <a:lnTo>
                    <a:pt x="299" y="799"/>
                  </a:lnTo>
                  <a:lnTo>
                    <a:pt x="288" y="799"/>
                  </a:lnTo>
                  <a:lnTo>
                    <a:pt x="272" y="803"/>
                  </a:lnTo>
                  <a:lnTo>
                    <a:pt x="253" y="807"/>
                  </a:lnTo>
                  <a:lnTo>
                    <a:pt x="234" y="812"/>
                  </a:lnTo>
                  <a:lnTo>
                    <a:pt x="189" y="825"/>
                  </a:lnTo>
                  <a:lnTo>
                    <a:pt x="142" y="841"/>
                  </a:lnTo>
                  <a:lnTo>
                    <a:pt x="95" y="857"/>
                  </a:lnTo>
                  <a:lnTo>
                    <a:pt x="54" y="872"/>
                  </a:lnTo>
                  <a:lnTo>
                    <a:pt x="21" y="88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ffb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12480" y="4467240"/>
              <a:ext cx="416160" cy="141480"/>
            </a:xfrm>
            <a:custGeom>
              <a:avLst/>
              <a:gdLst/>
              <a:ahLst/>
              <a:rect l="l" t="t" r="r" b="b"/>
              <a:pathLst>
                <a:path w="2414" h="892">
                  <a:moveTo>
                    <a:pt x="0" y="892"/>
                  </a:moveTo>
                  <a:lnTo>
                    <a:pt x="13" y="826"/>
                  </a:lnTo>
                  <a:lnTo>
                    <a:pt x="24" y="766"/>
                  </a:lnTo>
                  <a:lnTo>
                    <a:pt x="35" y="708"/>
                  </a:lnTo>
                  <a:lnTo>
                    <a:pt x="44" y="652"/>
                  </a:lnTo>
                  <a:lnTo>
                    <a:pt x="53" y="596"/>
                  </a:lnTo>
                  <a:lnTo>
                    <a:pt x="61" y="538"/>
                  </a:lnTo>
                  <a:lnTo>
                    <a:pt x="69" y="478"/>
                  </a:lnTo>
                  <a:lnTo>
                    <a:pt x="75" y="413"/>
                  </a:lnTo>
                  <a:lnTo>
                    <a:pt x="106" y="380"/>
                  </a:lnTo>
                  <a:lnTo>
                    <a:pt x="139" y="350"/>
                  </a:lnTo>
                  <a:lnTo>
                    <a:pt x="172" y="320"/>
                  </a:lnTo>
                  <a:lnTo>
                    <a:pt x="205" y="292"/>
                  </a:lnTo>
                  <a:lnTo>
                    <a:pt x="238" y="266"/>
                  </a:lnTo>
                  <a:lnTo>
                    <a:pt x="273" y="242"/>
                  </a:lnTo>
                  <a:lnTo>
                    <a:pt x="307" y="218"/>
                  </a:lnTo>
                  <a:lnTo>
                    <a:pt x="343" y="197"/>
                  </a:lnTo>
                  <a:lnTo>
                    <a:pt x="379" y="176"/>
                  </a:lnTo>
                  <a:lnTo>
                    <a:pt x="416" y="158"/>
                  </a:lnTo>
                  <a:lnTo>
                    <a:pt x="454" y="140"/>
                  </a:lnTo>
                  <a:lnTo>
                    <a:pt x="493" y="124"/>
                  </a:lnTo>
                  <a:lnTo>
                    <a:pt x="531" y="109"/>
                  </a:lnTo>
                  <a:lnTo>
                    <a:pt x="571" y="95"/>
                  </a:lnTo>
                  <a:lnTo>
                    <a:pt x="612" y="82"/>
                  </a:lnTo>
                  <a:lnTo>
                    <a:pt x="653" y="70"/>
                  </a:lnTo>
                  <a:lnTo>
                    <a:pt x="696" y="59"/>
                  </a:lnTo>
                  <a:lnTo>
                    <a:pt x="739" y="51"/>
                  </a:lnTo>
                  <a:lnTo>
                    <a:pt x="783" y="42"/>
                  </a:lnTo>
                  <a:lnTo>
                    <a:pt x="828" y="35"/>
                  </a:lnTo>
                  <a:lnTo>
                    <a:pt x="874" y="27"/>
                  </a:lnTo>
                  <a:lnTo>
                    <a:pt x="922" y="22"/>
                  </a:lnTo>
                  <a:lnTo>
                    <a:pt x="970" y="18"/>
                  </a:lnTo>
                  <a:lnTo>
                    <a:pt x="1019" y="13"/>
                  </a:lnTo>
                  <a:lnTo>
                    <a:pt x="1070" y="10"/>
                  </a:lnTo>
                  <a:lnTo>
                    <a:pt x="1120" y="7"/>
                  </a:lnTo>
                  <a:lnTo>
                    <a:pt x="1173" y="5"/>
                  </a:lnTo>
                  <a:lnTo>
                    <a:pt x="1226" y="4"/>
                  </a:lnTo>
                  <a:lnTo>
                    <a:pt x="1337" y="3"/>
                  </a:lnTo>
                  <a:lnTo>
                    <a:pt x="1452" y="4"/>
                  </a:lnTo>
                  <a:lnTo>
                    <a:pt x="1460" y="14"/>
                  </a:lnTo>
                  <a:lnTo>
                    <a:pt x="1470" y="24"/>
                  </a:lnTo>
                  <a:lnTo>
                    <a:pt x="1479" y="34"/>
                  </a:lnTo>
                  <a:lnTo>
                    <a:pt x="1490" y="43"/>
                  </a:lnTo>
                  <a:lnTo>
                    <a:pt x="1515" y="64"/>
                  </a:lnTo>
                  <a:lnTo>
                    <a:pt x="1543" y="83"/>
                  </a:lnTo>
                  <a:lnTo>
                    <a:pt x="1573" y="101"/>
                  </a:lnTo>
                  <a:lnTo>
                    <a:pt x="1604" y="120"/>
                  </a:lnTo>
                  <a:lnTo>
                    <a:pt x="1638" y="137"/>
                  </a:lnTo>
                  <a:lnTo>
                    <a:pt x="1672" y="153"/>
                  </a:lnTo>
                  <a:lnTo>
                    <a:pt x="1708" y="168"/>
                  </a:lnTo>
                  <a:lnTo>
                    <a:pt x="1743" y="181"/>
                  </a:lnTo>
                  <a:lnTo>
                    <a:pt x="1778" y="192"/>
                  </a:lnTo>
                  <a:lnTo>
                    <a:pt x="1813" y="201"/>
                  </a:lnTo>
                  <a:lnTo>
                    <a:pt x="1830" y="204"/>
                  </a:lnTo>
                  <a:lnTo>
                    <a:pt x="1847" y="207"/>
                  </a:lnTo>
                  <a:lnTo>
                    <a:pt x="1863" y="211"/>
                  </a:lnTo>
                  <a:lnTo>
                    <a:pt x="1878" y="212"/>
                  </a:lnTo>
                  <a:lnTo>
                    <a:pt x="1894" y="213"/>
                  </a:lnTo>
                  <a:lnTo>
                    <a:pt x="1908" y="213"/>
                  </a:lnTo>
                  <a:lnTo>
                    <a:pt x="1922" y="213"/>
                  </a:lnTo>
                  <a:lnTo>
                    <a:pt x="1936" y="212"/>
                  </a:lnTo>
                  <a:lnTo>
                    <a:pt x="1950" y="211"/>
                  </a:lnTo>
                  <a:lnTo>
                    <a:pt x="1963" y="210"/>
                  </a:lnTo>
                  <a:lnTo>
                    <a:pt x="1977" y="207"/>
                  </a:lnTo>
                  <a:lnTo>
                    <a:pt x="1990" y="205"/>
                  </a:lnTo>
                  <a:lnTo>
                    <a:pt x="2014" y="199"/>
                  </a:lnTo>
                  <a:lnTo>
                    <a:pt x="2039" y="190"/>
                  </a:lnTo>
                  <a:lnTo>
                    <a:pt x="2062" y="181"/>
                  </a:lnTo>
                  <a:lnTo>
                    <a:pt x="2083" y="169"/>
                  </a:lnTo>
                  <a:lnTo>
                    <a:pt x="2105" y="156"/>
                  </a:lnTo>
                  <a:lnTo>
                    <a:pt x="2124" y="142"/>
                  </a:lnTo>
                  <a:lnTo>
                    <a:pt x="2142" y="127"/>
                  </a:lnTo>
                  <a:lnTo>
                    <a:pt x="2160" y="111"/>
                  </a:lnTo>
                  <a:lnTo>
                    <a:pt x="2176" y="95"/>
                  </a:lnTo>
                  <a:lnTo>
                    <a:pt x="2192" y="77"/>
                  </a:lnTo>
                  <a:lnTo>
                    <a:pt x="2207" y="59"/>
                  </a:lnTo>
                  <a:lnTo>
                    <a:pt x="2221" y="41"/>
                  </a:lnTo>
                  <a:lnTo>
                    <a:pt x="2234" y="23"/>
                  </a:lnTo>
                  <a:lnTo>
                    <a:pt x="2247" y="4"/>
                  </a:lnTo>
                  <a:lnTo>
                    <a:pt x="2261" y="3"/>
                  </a:lnTo>
                  <a:lnTo>
                    <a:pt x="2276" y="2"/>
                  </a:lnTo>
                  <a:lnTo>
                    <a:pt x="2289" y="0"/>
                  </a:lnTo>
                  <a:lnTo>
                    <a:pt x="2302" y="2"/>
                  </a:lnTo>
                  <a:lnTo>
                    <a:pt x="2314" y="3"/>
                  </a:lnTo>
                  <a:lnTo>
                    <a:pt x="2324" y="5"/>
                  </a:lnTo>
                  <a:lnTo>
                    <a:pt x="2335" y="8"/>
                  </a:lnTo>
                  <a:lnTo>
                    <a:pt x="2346" y="11"/>
                  </a:lnTo>
                  <a:lnTo>
                    <a:pt x="2355" y="17"/>
                  </a:lnTo>
                  <a:lnTo>
                    <a:pt x="2365" y="22"/>
                  </a:lnTo>
                  <a:lnTo>
                    <a:pt x="2374" y="28"/>
                  </a:lnTo>
                  <a:lnTo>
                    <a:pt x="2382" y="37"/>
                  </a:lnTo>
                  <a:lnTo>
                    <a:pt x="2391" y="46"/>
                  </a:lnTo>
                  <a:lnTo>
                    <a:pt x="2398" y="55"/>
                  </a:lnTo>
                  <a:lnTo>
                    <a:pt x="2406" y="67"/>
                  </a:lnTo>
                  <a:lnTo>
                    <a:pt x="2414" y="79"/>
                  </a:lnTo>
                  <a:lnTo>
                    <a:pt x="2411" y="108"/>
                  </a:lnTo>
                  <a:lnTo>
                    <a:pt x="2408" y="138"/>
                  </a:lnTo>
                  <a:lnTo>
                    <a:pt x="2407" y="170"/>
                  </a:lnTo>
                  <a:lnTo>
                    <a:pt x="2405" y="203"/>
                  </a:lnTo>
                  <a:lnTo>
                    <a:pt x="2404" y="274"/>
                  </a:lnTo>
                  <a:lnTo>
                    <a:pt x="2403" y="347"/>
                  </a:lnTo>
                  <a:lnTo>
                    <a:pt x="2405" y="420"/>
                  </a:lnTo>
                  <a:lnTo>
                    <a:pt x="2407" y="491"/>
                  </a:lnTo>
                  <a:lnTo>
                    <a:pt x="2410" y="556"/>
                  </a:lnTo>
                  <a:lnTo>
                    <a:pt x="2414" y="615"/>
                  </a:lnTo>
                  <a:lnTo>
                    <a:pt x="2401" y="614"/>
                  </a:lnTo>
                  <a:lnTo>
                    <a:pt x="2384" y="611"/>
                  </a:lnTo>
                  <a:lnTo>
                    <a:pt x="2365" y="606"/>
                  </a:lnTo>
                  <a:lnTo>
                    <a:pt x="2345" y="601"/>
                  </a:lnTo>
                  <a:lnTo>
                    <a:pt x="2322" y="594"/>
                  </a:lnTo>
                  <a:lnTo>
                    <a:pt x="2299" y="586"/>
                  </a:lnTo>
                  <a:lnTo>
                    <a:pt x="2275" y="576"/>
                  </a:lnTo>
                  <a:lnTo>
                    <a:pt x="2251" y="567"/>
                  </a:lnTo>
                  <a:lnTo>
                    <a:pt x="2228" y="557"/>
                  </a:lnTo>
                  <a:lnTo>
                    <a:pt x="2205" y="547"/>
                  </a:lnTo>
                  <a:lnTo>
                    <a:pt x="2184" y="537"/>
                  </a:lnTo>
                  <a:lnTo>
                    <a:pt x="2165" y="527"/>
                  </a:lnTo>
                  <a:lnTo>
                    <a:pt x="2147" y="517"/>
                  </a:lnTo>
                  <a:lnTo>
                    <a:pt x="2133" y="509"/>
                  </a:lnTo>
                  <a:lnTo>
                    <a:pt x="2122" y="501"/>
                  </a:lnTo>
                  <a:lnTo>
                    <a:pt x="2114" y="494"/>
                  </a:lnTo>
                  <a:lnTo>
                    <a:pt x="1964" y="493"/>
                  </a:lnTo>
                  <a:lnTo>
                    <a:pt x="1824" y="492"/>
                  </a:lnTo>
                  <a:lnTo>
                    <a:pt x="1755" y="492"/>
                  </a:lnTo>
                  <a:lnTo>
                    <a:pt x="1688" y="493"/>
                  </a:lnTo>
                  <a:lnTo>
                    <a:pt x="1622" y="494"/>
                  </a:lnTo>
                  <a:lnTo>
                    <a:pt x="1556" y="496"/>
                  </a:lnTo>
                  <a:lnTo>
                    <a:pt x="1491" y="499"/>
                  </a:lnTo>
                  <a:lnTo>
                    <a:pt x="1425" y="505"/>
                  </a:lnTo>
                  <a:lnTo>
                    <a:pt x="1358" y="512"/>
                  </a:lnTo>
                  <a:lnTo>
                    <a:pt x="1290" y="521"/>
                  </a:lnTo>
                  <a:lnTo>
                    <a:pt x="1222" y="531"/>
                  </a:lnTo>
                  <a:lnTo>
                    <a:pt x="1151" y="545"/>
                  </a:lnTo>
                  <a:lnTo>
                    <a:pt x="1115" y="553"/>
                  </a:lnTo>
                  <a:lnTo>
                    <a:pt x="1078" y="561"/>
                  </a:lnTo>
                  <a:lnTo>
                    <a:pt x="1041" y="570"/>
                  </a:lnTo>
                  <a:lnTo>
                    <a:pt x="1003" y="581"/>
                  </a:lnTo>
                  <a:lnTo>
                    <a:pt x="949" y="594"/>
                  </a:lnTo>
                  <a:lnTo>
                    <a:pt x="900" y="606"/>
                  </a:lnTo>
                  <a:lnTo>
                    <a:pt x="854" y="619"/>
                  </a:lnTo>
                  <a:lnTo>
                    <a:pt x="810" y="633"/>
                  </a:lnTo>
                  <a:lnTo>
                    <a:pt x="728" y="660"/>
                  </a:lnTo>
                  <a:lnTo>
                    <a:pt x="651" y="688"/>
                  </a:lnTo>
                  <a:lnTo>
                    <a:pt x="574" y="715"/>
                  </a:lnTo>
                  <a:lnTo>
                    <a:pt x="493" y="743"/>
                  </a:lnTo>
                  <a:lnTo>
                    <a:pt x="449" y="757"/>
                  </a:lnTo>
                  <a:lnTo>
                    <a:pt x="402" y="770"/>
                  </a:lnTo>
                  <a:lnTo>
                    <a:pt x="353" y="785"/>
                  </a:lnTo>
                  <a:lnTo>
                    <a:pt x="299" y="799"/>
                  </a:lnTo>
                  <a:lnTo>
                    <a:pt x="288" y="799"/>
                  </a:lnTo>
                  <a:lnTo>
                    <a:pt x="272" y="803"/>
                  </a:lnTo>
                  <a:lnTo>
                    <a:pt x="253" y="807"/>
                  </a:lnTo>
                  <a:lnTo>
                    <a:pt x="234" y="812"/>
                  </a:lnTo>
                  <a:lnTo>
                    <a:pt x="189" y="825"/>
                  </a:lnTo>
                  <a:lnTo>
                    <a:pt x="142" y="841"/>
                  </a:lnTo>
                  <a:lnTo>
                    <a:pt x="95" y="857"/>
                  </a:lnTo>
                  <a:lnTo>
                    <a:pt x="54" y="872"/>
                  </a:lnTo>
                  <a:lnTo>
                    <a:pt x="21" y="884"/>
                  </a:lnTo>
                  <a:lnTo>
                    <a:pt x="0" y="8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81040" y="3619440"/>
              <a:ext cx="696600" cy="774720"/>
            </a:xfrm>
            <a:custGeom>
              <a:avLst/>
              <a:gdLst/>
              <a:ahLst/>
              <a:rect l="l" t="t" r="r" b="b"/>
              <a:pathLst>
                <a:path w="4056" h="4872">
                  <a:moveTo>
                    <a:pt x="3763" y="0"/>
                  </a:moveTo>
                  <a:lnTo>
                    <a:pt x="3762" y="32"/>
                  </a:lnTo>
                  <a:lnTo>
                    <a:pt x="3758" y="65"/>
                  </a:lnTo>
                  <a:lnTo>
                    <a:pt x="3754" y="98"/>
                  </a:lnTo>
                  <a:lnTo>
                    <a:pt x="3748" y="131"/>
                  </a:lnTo>
                  <a:lnTo>
                    <a:pt x="3733" y="196"/>
                  </a:lnTo>
                  <a:lnTo>
                    <a:pt x="3717" y="263"/>
                  </a:lnTo>
                  <a:lnTo>
                    <a:pt x="3707" y="297"/>
                  </a:lnTo>
                  <a:lnTo>
                    <a:pt x="3699" y="331"/>
                  </a:lnTo>
                  <a:lnTo>
                    <a:pt x="3691" y="365"/>
                  </a:lnTo>
                  <a:lnTo>
                    <a:pt x="3684" y="398"/>
                  </a:lnTo>
                  <a:lnTo>
                    <a:pt x="3678" y="432"/>
                  </a:lnTo>
                  <a:lnTo>
                    <a:pt x="3674" y="467"/>
                  </a:lnTo>
                  <a:lnTo>
                    <a:pt x="3670" y="501"/>
                  </a:lnTo>
                  <a:lnTo>
                    <a:pt x="3670" y="535"/>
                  </a:lnTo>
                  <a:lnTo>
                    <a:pt x="3681" y="549"/>
                  </a:lnTo>
                  <a:lnTo>
                    <a:pt x="3692" y="563"/>
                  </a:lnTo>
                  <a:lnTo>
                    <a:pt x="3702" y="577"/>
                  </a:lnTo>
                  <a:lnTo>
                    <a:pt x="3711" y="592"/>
                  </a:lnTo>
                  <a:lnTo>
                    <a:pt x="3731" y="624"/>
                  </a:lnTo>
                  <a:lnTo>
                    <a:pt x="3748" y="657"/>
                  </a:lnTo>
                  <a:lnTo>
                    <a:pt x="3781" y="726"/>
                  </a:lnTo>
                  <a:lnTo>
                    <a:pt x="3816" y="797"/>
                  </a:lnTo>
                  <a:lnTo>
                    <a:pt x="3835" y="832"/>
                  </a:lnTo>
                  <a:lnTo>
                    <a:pt x="3855" y="867"/>
                  </a:lnTo>
                  <a:lnTo>
                    <a:pt x="3866" y="884"/>
                  </a:lnTo>
                  <a:lnTo>
                    <a:pt x="3876" y="900"/>
                  </a:lnTo>
                  <a:lnTo>
                    <a:pt x="3888" y="916"/>
                  </a:lnTo>
                  <a:lnTo>
                    <a:pt x="3901" y="932"/>
                  </a:lnTo>
                  <a:lnTo>
                    <a:pt x="3914" y="947"/>
                  </a:lnTo>
                  <a:lnTo>
                    <a:pt x="3928" y="962"/>
                  </a:lnTo>
                  <a:lnTo>
                    <a:pt x="3942" y="976"/>
                  </a:lnTo>
                  <a:lnTo>
                    <a:pt x="3957" y="989"/>
                  </a:lnTo>
                  <a:lnTo>
                    <a:pt x="3973" y="1002"/>
                  </a:lnTo>
                  <a:lnTo>
                    <a:pt x="3990" y="1015"/>
                  </a:lnTo>
                  <a:lnTo>
                    <a:pt x="4008" y="1027"/>
                  </a:lnTo>
                  <a:lnTo>
                    <a:pt x="4028" y="1036"/>
                  </a:lnTo>
                  <a:lnTo>
                    <a:pt x="4056" y="1072"/>
                  </a:lnTo>
                  <a:lnTo>
                    <a:pt x="4038" y="1091"/>
                  </a:lnTo>
                  <a:lnTo>
                    <a:pt x="4020" y="1110"/>
                  </a:lnTo>
                  <a:lnTo>
                    <a:pt x="4002" y="1128"/>
                  </a:lnTo>
                  <a:lnTo>
                    <a:pt x="3984" y="1146"/>
                  </a:lnTo>
                  <a:lnTo>
                    <a:pt x="3964" y="1163"/>
                  </a:lnTo>
                  <a:lnTo>
                    <a:pt x="3945" y="1178"/>
                  </a:lnTo>
                  <a:lnTo>
                    <a:pt x="3926" y="1193"/>
                  </a:lnTo>
                  <a:lnTo>
                    <a:pt x="3906" y="1206"/>
                  </a:lnTo>
                  <a:lnTo>
                    <a:pt x="3888" y="1218"/>
                  </a:lnTo>
                  <a:lnTo>
                    <a:pt x="3869" y="1230"/>
                  </a:lnTo>
                  <a:lnTo>
                    <a:pt x="3850" y="1242"/>
                  </a:lnTo>
                  <a:lnTo>
                    <a:pt x="3831" y="1252"/>
                  </a:lnTo>
                  <a:lnTo>
                    <a:pt x="3813" y="1261"/>
                  </a:lnTo>
                  <a:lnTo>
                    <a:pt x="3796" y="1270"/>
                  </a:lnTo>
                  <a:lnTo>
                    <a:pt x="3779" y="1277"/>
                  </a:lnTo>
                  <a:lnTo>
                    <a:pt x="3763" y="1284"/>
                  </a:lnTo>
                  <a:lnTo>
                    <a:pt x="3696" y="1325"/>
                  </a:lnTo>
                  <a:lnTo>
                    <a:pt x="3627" y="1373"/>
                  </a:lnTo>
                  <a:lnTo>
                    <a:pt x="3550" y="1431"/>
                  </a:lnTo>
                  <a:lnTo>
                    <a:pt x="3471" y="1496"/>
                  </a:lnTo>
                  <a:lnTo>
                    <a:pt x="3386" y="1569"/>
                  </a:lnTo>
                  <a:lnTo>
                    <a:pt x="3299" y="1649"/>
                  </a:lnTo>
                  <a:lnTo>
                    <a:pt x="3208" y="1735"/>
                  </a:lnTo>
                  <a:lnTo>
                    <a:pt x="3115" y="1829"/>
                  </a:lnTo>
                  <a:lnTo>
                    <a:pt x="3018" y="1926"/>
                  </a:lnTo>
                  <a:lnTo>
                    <a:pt x="2921" y="2030"/>
                  </a:lnTo>
                  <a:lnTo>
                    <a:pt x="2822" y="2139"/>
                  </a:lnTo>
                  <a:lnTo>
                    <a:pt x="2721" y="2251"/>
                  </a:lnTo>
                  <a:lnTo>
                    <a:pt x="2621" y="2367"/>
                  </a:lnTo>
                  <a:lnTo>
                    <a:pt x="2520" y="2486"/>
                  </a:lnTo>
                  <a:lnTo>
                    <a:pt x="2419" y="2608"/>
                  </a:lnTo>
                  <a:lnTo>
                    <a:pt x="2319" y="2733"/>
                  </a:lnTo>
                  <a:lnTo>
                    <a:pt x="2220" y="2858"/>
                  </a:lnTo>
                  <a:lnTo>
                    <a:pt x="2123" y="2986"/>
                  </a:lnTo>
                  <a:lnTo>
                    <a:pt x="2027" y="3113"/>
                  </a:lnTo>
                  <a:lnTo>
                    <a:pt x="1934" y="3241"/>
                  </a:lnTo>
                  <a:lnTo>
                    <a:pt x="1843" y="3370"/>
                  </a:lnTo>
                  <a:lnTo>
                    <a:pt x="1756" y="3497"/>
                  </a:lnTo>
                  <a:lnTo>
                    <a:pt x="1672" y="3623"/>
                  </a:lnTo>
                  <a:lnTo>
                    <a:pt x="1593" y="3747"/>
                  </a:lnTo>
                  <a:lnTo>
                    <a:pt x="1518" y="3869"/>
                  </a:lnTo>
                  <a:lnTo>
                    <a:pt x="1447" y="3990"/>
                  </a:lnTo>
                  <a:lnTo>
                    <a:pt x="1383" y="4106"/>
                  </a:lnTo>
                  <a:lnTo>
                    <a:pt x="1324" y="4219"/>
                  </a:lnTo>
                  <a:lnTo>
                    <a:pt x="1270" y="4327"/>
                  </a:lnTo>
                  <a:lnTo>
                    <a:pt x="1224" y="4433"/>
                  </a:lnTo>
                  <a:lnTo>
                    <a:pt x="1184" y="4531"/>
                  </a:lnTo>
                  <a:lnTo>
                    <a:pt x="1152" y="4624"/>
                  </a:lnTo>
                  <a:lnTo>
                    <a:pt x="1149" y="4637"/>
                  </a:lnTo>
                  <a:lnTo>
                    <a:pt x="1145" y="4649"/>
                  </a:lnTo>
                  <a:lnTo>
                    <a:pt x="1138" y="4660"/>
                  </a:lnTo>
                  <a:lnTo>
                    <a:pt x="1131" y="4670"/>
                  </a:lnTo>
                  <a:lnTo>
                    <a:pt x="1122" y="4678"/>
                  </a:lnTo>
                  <a:lnTo>
                    <a:pt x="1114" y="4686"/>
                  </a:lnTo>
                  <a:lnTo>
                    <a:pt x="1103" y="4693"/>
                  </a:lnTo>
                  <a:lnTo>
                    <a:pt x="1092" y="4700"/>
                  </a:lnTo>
                  <a:lnTo>
                    <a:pt x="1080" y="4705"/>
                  </a:lnTo>
                  <a:lnTo>
                    <a:pt x="1068" y="4710"/>
                  </a:lnTo>
                  <a:lnTo>
                    <a:pt x="1055" y="4716"/>
                  </a:lnTo>
                  <a:lnTo>
                    <a:pt x="1042" y="4720"/>
                  </a:lnTo>
                  <a:lnTo>
                    <a:pt x="1014" y="4727"/>
                  </a:lnTo>
                  <a:lnTo>
                    <a:pt x="986" y="4736"/>
                  </a:lnTo>
                  <a:lnTo>
                    <a:pt x="959" y="4745"/>
                  </a:lnTo>
                  <a:lnTo>
                    <a:pt x="932" y="4754"/>
                  </a:lnTo>
                  <a:lnTo>
                    <a:pt x="920" y="4760"/>
                  </a:lnTo>
                  <a:lnTo>
                    <a:pt x="908" y="4765"/>
                  </a:lnTo>
                  <a:lnTo>
                    <a:pt x="897" y="4771"/>
                  </a:lnTo>
                  <a:lnTo>
                    <a:pt x="886" y="4779"/>
                  </a:lnTo>
                  <a:lnTo>
                    <a:pt x="877" y="4786"/>
                  </a:lnTo>
                  <a:lnTo>
                    <a:pt x="868" y="4796"/>
                  </a:lnTo>
                  <a:lnTo>
                    <a:pt x="861" y="4806"/>
                  </a:lnTo>
                  <a:lnTo>
                    <a:pt x="854" y="4816"/>
                  </a:lnTo>
                  <a:lnTo>
                    <a:pt x="849" y="4828"/>
                  </a:lnTo>
                  <a:lnTo>
                    <a:pt x="844" y="4842"/>
                  </a:lnTo>
                  <a:lnTo>
                    <a:pt x="842" y="4856"/>
                  </a:lnTo>
                  <a:lnTo>
                    <a:pt x="841" y="4872"/>
                  </a:lnTo>
                  <a:lnTo>
                    <a:pt x="825" y="4863"/>
                  </a:lnTo>
                  <a:lnTo>
                    <a:pt x="808" y="4850"/>
                  </a:lnTo>
                  <a:lnTo>
                    <a:pt x="790" y="4834"/>
                  </a:lnTo>
                  <a:lnTo>
                    <a:pt x="772" y="4815"/>
                  </a:lnTo>
                  <a:lnTo>
                    <a:pt x="752" y="4793"/>
                  </a:lnTo>
                  <a:lnTo>
                    <a:pt x="733" y="4769"/>
                  </a:lnTo>
                  <a:lnTo>
                    <a:pt x="714" y="4741"/>
                  </a:lnTo>
                  <a:lnTo>
                    <a:pt x="694" y="4712"/>
                  </a:lnTo>
                  <a:lnTo>
                    <a:pt x="675" y="4680"/>
                  </a:lnTo>
                  <a:lnTo>
                    <a:pt x="656" y="4647"/>
                  </a:lnTo>
                  <a:lnTo>
                    <a:pt x="636" y="4612"/>
                  </a:lnTo>
                  <a:lnTo>
                    <a:pt x="618" y="4573"/>
                  </a:lnTo>
                  <a:lnTo>
                    <a:pt x="600" y="4534"/>
                  </a:lnTo>
                  <a:lnTo>
                    <a:pt x="583" y="4494"/>
                  </a:lnTo>
                  <a:lnTo>
                    <a:pt x="566" y="4451"/>
                  </a:lnTo>
                  <a:lnTo>
                    <a:pt x="550" y="4407"/>
                  </a:lnTo>
                  <a:lnTo>
                    <a:pt x="534" y="4362"/>
                  </a:lnTo>
                  <a:lnTo>
                    <a:pt x="519" y="4316"/>
                  </a:lnTo>
                  <a:lnTo>
                    <a:pt x="507" y="4268"/>
                  </a:lnTo>
                  <a:lnTo>
                    <a:pt x="495" y="4221"/>
                  </a:lnTo>
                  <a:lnTo>
                    <a:pt x="485" y="4173"/>
                  </a:lnTo>
                  <a:lnTo>
                    <a:pt x="476" y="4124"/>
                  </a:lnTo>
                  <a:lnTo>
                    <a:pt x="468" y="4074"/>
                  </a:lnTo>
                  <a:lnTo>
                    <a:pt x="463" y="4025"/>
                  </a:lnTo>
                  <a:lnTo>
                    <a:pt x="458" y="3975"/>
                  </a:lnTo>
                  <a:lnTo>
                    <a:pt x="456" y="3925"/>
                  </a:lnTo>
                  <a:lnTo>
                    <a:pt x="456" y="3876"/>
                  </a:lnTo>
                  <a:lnTo>
                    <a:pt x="458" y="3827"/>
                  </a:lnTo>
                  <a:lnTo>
                    <a:pt x="463" y="3777"/>
                  </a:lnTo>
                  <a:lnTo>
                    <a:pt x="469" y="3729"/>
                  </a:lnTo>
                  <a:lnTo>
                    <a:pt x="479" y="3681"/>
                  </a:lnTo>
                  <a:lnTo>
                    <a:pt x="491" y="3635"/>
                  </a:lnTo>
                  <a:lnTo>
                    <a:pt x="489" y="3613"/>
                  </a:lnTo>
                  <a:lnTo>
                    <a:pt x="485" y="3587"/>
                  </a:lnTo>
                  <a:lnTo>
                    <a:pt x="480" y="3555"/>
                  </a:lnTo>
                  <a:lnTo>
                    <a:pt x="472" y="3518"/>
                  </a:lnTo>
                  <a:lnTo>
                    <a:pt x="452" y="3429"/>
                  </a:lnTo>
                  <a:lnTo>
                    <a:pt x="424" y="3324"/>
                  </a:lnTo>
                  <a:lnTo>
                    <a:pt x="356" y="3071"/>
                  </a:lnTo>
                  <a:lnTo>
                    <a:pt x="279" y="2778"/>
                  </a:lnTo>
                  <a:lnTo>
                    <a:pt x="240" y="2623"/>
                  </a:lnTo>
                  <a:lnTo>
                    <a:pt x="201" y="2467"/>
                  </a:lnTo>
                  <a:lnTo>
                    <a:pt x="183" y="2387"/>
                  </a:lnTo>
                  <a:lnTo>
                    <a:pt x="166" y="2309"/>
                  </a:lnTo>
                  <a:lnTo>
                    <a:pt x="148" y="2232"/>
                  </a:lnTo>
                  <a:lnTo>
                    <a:pt x="133" y="2155"/>
                  </a:lnTo>
                  <a:lnTo>
                    <a:pt x="118" y="2079"/>
                  </a:lnTo>
                  <a:lnTo>
                    <a:pt x="105" y="2005"/>
                  </a:lnTo>
                  <a:lnTo>
                    <a:pt x="94" y="1932"/>
                  </a:lnTo>
                  <a:lnTo>
                    <a:pt x="84" y="1862"/>
                  </a:lnTo>
                  <a:lnTo>
                    <a:pt x="75" y="1793"/>
                  </a:lnTo>
                  <a:lnTo>
                    <a:pt x="70" y="1728"/>
                  </a:lnTo>
                  <a:lnTo>
                    <a:pt x="66" y="1666"/>
                  </a:lnTo>
                  <a:lnTo>
                    <a:pt x="64" y="1607"/>
                  </a:lnTo>
                  <a:lnTo>
                    <a:pt x="63" y="1570"/>
                  </a:lnTo>
                  <a:lnTo>
                    <a:pt x="60" y="1541"/>
                  </a:lnTo>
                  <a:lnTo>
                    <a:pt x="58" y="1529"/>
                  </a:lnTo>
                  <a:lnTo>
                    <a:pt x="56" y="1519"/>
                  </a:lnTo>
                  <a:lnTo>
                    <a:pt x="54" y="1509"/>
                  </a:lnTo>
                  <a:lnTo>
                    <a:pt x="51" y="1501"/>
                  </a:lnTo>
                  <a:lnTo>
                    <a:pt x="48" y="1494"/>
                  </a:lnTo>
                  <a:lnTo>
                    <a:pt x="44" y="1488"/>
                  </a:lnTo>
                  <a:lnTo>
                    <a:pt x="41" y="1482"/>
                  </a:lnTo>
                  <a:lnTo>
                    <a:pt x="38" y="1479"/>
                  </a:lnTo>
                  <a:lnTo>
                    <a:pt x="31" y="1473"/>
                  </a:lnTo>
                  <a:lnTo>
                    <a:pt x="24" y="1469"/>
                  </a:lnTo>
                  <a:lnTo>
                    <a:pt x="12" y="1467"/>
                  </a:lnTo>
                  <a:lnTo>
                    <a:pt x="4" y="1465"/>
                  </a:lnTo>
                  <a:lnTo>
                    <a:pt x="1" y="1464"/>
                  </a:lnTo>
                  <a:lnTo>
                    <a:pt x="1" y="1463"/>
                  </a:lnTo>
                  <a:lnTo>
                    <a:pt x="0" y="1461"/>
                  </a:lnTo>
                  <a:lnTo>
                    <a:pt x="0" y="1458"/>
                  </a:lnTo>
                  <a:lnTo>
                    <a:pt x="3" y="1451"/>
                  </a:lnTo>
                  <a:lnTo>
                    <a:pt x="7" y="1439"/>
                  </a:lnTo>
                  <a:lnTo>
                    <a:pt x="52" y="1472"/>
                  </a:lnTo>
                  <a:lnTo>
                    <a:pt x="99" y="1502"/>
                  </a:lnTo>
                  <a:lnTo>
                    <a:pt x="148" y="1528"/>
                  </a:lnTo>
                  <a:lnTo>
                    <a:pt x="200" y="1554"/>
                  </a:lnTo>
                  <a:lnTo>
                    <a:pt x="252" y="1577"/>
                  </a:lnTo>
                  <a:lnTo>
                    <a:pt x="307" y="1598"/>
                  </a:lnTo>
                  <a:lnTo>
                    <a:pt x="363" y="1616"/>
                  </a:lnTo>
                  <a:lnTo>
                    <a:pt x="420" y="1634"/>
                  </a:lnTo>
                  <a:lnTo>
                    <a:pt x="478" y="1649"/>
                  </a:lnTo>
                  <a:lnTo>
                    <a:pt x="537" y="1661"/>
                  </a:lnTo>
                  <a:lnTo>
                    <a:pt x="597" y="1672"/>
                  </a:lnTo>
                  <a:lnTo>
                    <a:pt x="658" y="1681"/>
                  </a:lnTo>
                  <a:lnTo>
                    <a:pt x="719" y="1688"/>
                  </a:lnTo>
                  <a:lnTo>
                    <a:pt x="781" y="1694"/>
                  </a:lnTo>
                  <a:lnTo>
                    <a:pt x="843" y="1697"/>
                  </a:lnTo>
                  <a:lnTo>
                    <a:pt x="906" y="1698"/>
                  </a:lnTo>
                  <a:lnTo>
                    <a:pt x="968" y="1698"/>
                  </a:lnTo>
                  <a:lnTo>
                    <a:pt x="1031" y="1696"/>
                  </a:lnTo>
                  <a:lnTo>
                    <a:pt x="1093" y="1693"/>
                  </a:lnTo>
                  <a:lnTo>
                    <a:pt x="1155" y="1687"/>
                  </a:lnTo>
                  <a:lnTo>
                    <a:pt x="1217" y="1681"/>
                  </a:lnTo>
                  <a:lnTo>
                    <a:pt x="1278" y="1672"/>
                  </a:lnTo>
                  <a:lnTo>
                    <a:pt x="1338" y="1661"/>
                  </a:lnTo>
                  <a:lnTo>
                    <a:pt x="1397" y="1650"/>
                  </a:lnTo>
                  <a:lnTo>
                    <a:pt x="1456" y="1637"/>
                  </a:lnTo>
                  <a:lnTo>
                    <a:pt x="1513" y="1622"/>
                  </a:lnTo>
                  <a:lnTo>
                    <a:pt x="1569" y="1606"/>
                  </a:lnTo>
                  <a:lnTo>
                    <a:pt x="1624" y="1587"/>
                  </a:lnTo>
                  <a:lnTo>
                    <a:pt x="1677" y="1569"/>
                  </a:lnTo>
                  <a:lnTo>
                    <a:pt x="1729" y="1548"/>
                  </a:lnTo>
                  <a:lnTo>
                    <a:pt x="1779" y="1526"/>
                  </a:lnTo>
                  <a:lnTo>
                    <a:pt x="1827" y="1504"/>
                  </a:lnTo>
                  <a:lnTo>
                    <a:pt x="1980" y="1419"/>
                  </a:lnTo>
                  <a:lnTo>
                    <a:pt x="2124" y="1339"/>
                  </a:lnTo>
                  <a:lnTo>
                    <a:pt x="2194" y="1299"/>
                  </a:lnTo>
                  <a:lnTo>
                    <a:pt x="2261" y="1259"/>
                  </a:lnTo>
                  <a:lnTo>
                    <a:pt x="2327" y="1220"/>
                  </a:lnTo>
                  <a:lnTo>
                    <a:pt x="2391" y="1181"/>
                  </a:lnTo>
                  <a:lnTo>
                    <a:pt x="2453" y="1142"/>
                  </a:lnTo>
                  <a:lnTo>
                    <a:pt x="2514" y="1103"/>
                  </a:lnTo>
                  <a:lnTo>
                    <a:pt x="2574" y="1063"/>
                  </a:lnTo>
                  <a:lnTo>
                    <a:pt x="2634" y="1023"/>
                  </a:lnTo>
                  <a:lnTo>
                    <a:pt x="2692" y="984"/>
                  </a:lnTo>
                  <a:lnTo>
                    <a:pt x="2749" y="943"/>
                  </a:lnTo>
                  <a:lnTo>
                    <a:pt x="2806" y="902"/>
                  </a:lnTo>
                  <a:lnTo>
                    <a:pt x="2862" y="859"/>
                  </a:lnTo>
                  <a:lnTo>
                    <a:pt x="2917" y="816"/>
                  </a:lnTo>
                  <a:lnTo>
                    <a:pt x="2971" y="773"/>
                  </a:lnTo>
                  <a:lnTo>
                    <a:pt x="3026" y="728"/>
                  </a:lnTo>
                  <a:lnTo>
                    <a:pt x="3081" y="682"/>
                  </a:lnTo>
                  <a:lnTo>
                    <a:pt x="3134" y="635"/>
                  </a:lnTo>
                  <a:lnTo>
                    <a:pt x="3189" y="586"/>
                  </a:lnTo>
                  <a:lnTo>
                    <a:pt x="3244" y="536"/>
                  </a:lnTo>
                  <a:lnTo>
                    <a:pt x="3298" y="484"/>
                  </a:lnTo>
                  <a:lnTo>
                    <a:pt x="3354" y="431"/>
                  </a:lnTo>
                  <a:lnTo>
                    <a:pt x="3410" y="376"/>
                  </a:lnTo>
                  <a:lnTo>
                    <a:pt x="3466" y="319"/>
                  </a:lnTo>
                  <a:lnTo>
                    <a:pt x="3524" y="260"/>
                  </a:lnTo>
                  <a:lnTo>
                    <a:pt x="3581" y="198"/>
                  </a:lnTo>
                  <a:lnTo>
                    <a:pt x="3640" y="134"/>
                  </a:lnTo>
                  <a:lnTo>
                    <a:pt x="3701" y="69"/>
                  </a:lnTo>
                  <a:lnTo>
                    <a:pt x="3763" y="0"/>
                  </a:lnTo>
                  <a:close/>
                </a:path>
              </a:pathLst>
            </a:custGeom>
            <a:solidFill>
              <a:srgbClr val="cc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81040" y="3619440"/>
              <a:ext cx="696600" cy="774720"/>
            </a:xfrm>
            <a:custGeom>
              <a:avLst/>
              <a:gdLst/>
              <a:ahLst/>
              <a:rect l="l" t="t" r="r" b="b"/>
              <a:pathLst>
                <a:path w="4056" h="4872">
                  <a:moveTo>
                    <a:pt x="3763" y="0"/>
                  </a:moveTo>
                  <a:lnTo>
                    <a:pt x="3762" y="32"/>
                  </a:lnTo>
                  <a:lnTo>
                    <a:pt x="3758" y="65"/>
                  </a:lnTo>
                  <a:lnTo>
                    <a:pt x="3754" y="98"/>
                  </a:lnTo>
                  <a:lnTo>
                    <a:pt x="3748" y="131"/>
                  </a:lnTo>
                  <a:lnTo>
                    <a:pt x="3733" y="196"/>
                  </a:lnTo>
                  <a:lnTo>
                    <a:pt x="3717" y="263"/>
                  </a:lnTo>
                  <a:lnTo>
                    <a:pt x="3707" y="297"/>
                  </a:lnTo>
                  <a:lnTo>
                    <a:pt x="3699" y="331"/>
                  </a:lnTo>
                  <a:lnTo>
                    <a:pt x="3691" y="365"/>
                  </a:lnTo>
                  <a:lnTo>
                    <a:pt x="3684" y="398"/>
                  </a:lnTo>
                  <a:lnTo>
                    <a:pt x="3678" y="432"/>
                  </a:lnTo>
                  <a:lnTo>
                    <a:pt x="3674" y="467"/>
                  </a:lnTo>
                  <a:lnTo>
                    <a:pt x="3670" y="501"/>
                  </a:lnTo>
                  <a:lnTo>
                    <a:pt x="3670" y="535"/>
                  </a:lnTo>
                  <a:lnTo>
                    <a:pt x="3681" y="549"/>
                  </a:lnTo>
                  <a:lnTo>
                    <a:pt x="3692" y="563"/>
                  </a:lnTo>
                  <a:lnTo>
                    <a:pt x="3702" y="577"/>
                  </a:lnTo>
                  <a:lnTo>
                    <a:pt x="3711" y="592"/>
                  </a:lnTo>
                  <a:lnTo>
                    <a:pt x="3731" y="624"/>
                  </a:lnTo>
                  <a:lnTo>
                    <a:pt x="3748" y="657"/>
                  </a:lnTo>
                  <a:lnTo>
                    <a:pt x="3781" y="726"/>
                  </a:lnTo>
                  <a:lnTo>
                    <a:pt x="3816" y="797"/>
                  </a:lnTo>
                  <a:lnTo>
                    <a:pt x="3835" y="832"/>
                  </a:lnTo>
                  <a:lnTo>
                    <a:pt x="3855" y="867"/>
                  </a:lnTo>
                  <a:lnTo>
                    <a:pt x="3866" y="884"/>
                  </a:lnTo>
                  <a:lnTo>
                    <a:pt x="3876" y="900"/>
                  </a:lnTo>
                  <a:lnTo>
                    <a:pt x="3888" y="916"/>
                  </a:lnTo>
                  <a:lnTo>
                    <a:pt x="3901" y="932"/>
                  </a:lnTo>
                  <a:lnTo>
                    <a:pt x="3914" y="947"/>
                  </a:lnTo>
                  <a:lnTo>
                    <a:pt x="3928" y="962"/>
                  </a:lnTo>
                  <a:lnTo>
                    <a:pt x="3942" y="976"/>
                  </a:lnTo>
                  <a:lnTo>
                    <a:pt x="3957" y="989"/>
                  </a:lnTo>
                  <a:lnTo>
                    <a:pt x="3973" y="1002"/>
                  </a:lnTo>
                  <a:lnTo>
                    <a:pt x="3990" y="1015"/>
                  </a:lnTo>
                  <a:lnTo>
                    <a:pt x="4008" y="1027"/>
                  </a:lnTo>
                  <a:lnTo>
                    <a:pt x="4028" y="1036"/>
                  </a:lnTo>
                  <a:lnTo>
                    <a:pt x="4056" y="1072"/>
                  </a:lnTo>
                  <a:lnTo>
                    <a:pt x="4038" y="1091"/>
                  </a:lnTo>
                  <a:lnTo>
                    <a:pt x="4020" y="1110"/>
                  </a:lnTo>
                  <a:lnTo>
                    <a:pt x="4002" y="1128"/>
                  </a:lnTo>
                  <a:lnTo>
                    <a:pt x="3984" y="1146"/>
                  </a:lnTo>
                  <a:lnTo>
                    <a:pt x="3964" y="1163"/>
                  </a:lnTo>
                  <a:lnTo>
                    <a:pt x="3945" y="1178"/>
                  </a:lnTo>
                  <a:lnTo>
                    <a:pt x="3926" y="1193"/>
                  </a:lnTo>
                  <a:lnTo>
                    <a:pt x="3906" y="1206"/>
                  </a:lnTo>
                  <a:lnTo>
                    <a:pt x="3888" y="1218"/>
                  </a:lnTo>
                  <a:lnTo>
                    <a:pt x="3869" y="1230"/>
                  </a:lnTo>
                  <a:lnTo>
                    <a:pt x="3850" y="1242"/>
                  </a:lnTo>
                  <a:lnTo>
                    <a:pt x="3831" y="1252"/>
                  </a:lnTo>
                  <a:lnTo>
                    <a:pt x="3813" y="1261"/>
                  </a:lnTo>
                  <a:lnTo>
                    <a:pt x="3796" y="1270"/>
                  </a:lnTo>
                  <a:lnTo>
                    <a:pt x="3779" y="1277"/>
                  </a:lnTo>
                  <a:lnTo>
                    <a:pt x="3763" y="1284"/>
                  </a:lnTo>
                  <a:lnTo>
                    <a:pt x="3696" y="1325"/>
                  </a:lnTo>
                  <a:lnTo>
                    <a:pt x="3627" y="1373"/>
                  </a:lnTo>
                  <a:lnTo>
                    <a:pt x="3550" y="1431"/>
                  </a:lnTo>
                  <a:lnTo>
                    <a:pt x="3471" y="1496"/>
                  </a:lnTo>
                  <a:lnTo>
                    <a:pt x="3386" y="1569"/>
                  </a:lnTo>
                  <a:lnTo>
                    <a:pt x="3299" y="1649"/>
                  </a:lnTo>
                  <a:lnTo>
                    <a:pt x="3208" y="1735"/>
                  </a:lnTo>
                  <a:lnTo>
                    <a:pt x="3115" y="1829"/>
                  </a:lnTo>
                  <a:lnTo>
                    <a:pt x="3018" y="1926"/>
                  </a:lnTo>
                  <a:lnTo>
                    <a:pt x="2921" y="2030"/>
                  </a:lnTo>
                  <a:lnTo>
                    <a:pt x="2822" y="2139"/>
                  </a:lnTo>
                  <a:lnTo>
                    <a:pt x="2721" y="2251"/>
                  </a:lnTo>
                  <a:lnTo>
                    <a:pt x="2621" y="2367"/>
                  </a:lnTo>
                  <a:lnTo>
                    <a:pt x="2520" y="2486"/>
                  </a:lnTo>
                  <a:lnTo>
                    <a:pt x="2419" y="2608"/>
                  </a:lnTo>
                  <a:lnTo>
                    <a:pt x="2319" y="2733"/>
                  </a:lnTo>
                  <a:lnTo>
                    <a:pt x="2220" y="2858"/>
                  </a:lnTo>
                  <a:lnTo>
                    <a:pt x="2123" y="2986"/>
                  </a:lnTo>
                  <a:lnTo>
                    <a:pt x="2027" y="3113"/>
                  </a:lnTo>
                  <a:lnTo>
                    <a:pt x="1934" y="3241"/>
                  </a:lnTo>
                  <a:lnTo>
                    <a:pt x="1843" y="3370"/>
                  </a:lnTo>
                  <a:lnTo>
                    <a:pt x="1756" y="3497"/>
                  </a:lnTo>
                  <a:lnTo>
                    <a:pt x="1672" y="3623"/>
                  </a:lnTo>
                  <a:lnTo>
                    <a:pt x="1593" y="3747"/>
                  </a:lnTo>
                  <a:lnTo>
                    <a:pt x="1518" y="3869"/>
                  </a:lnTo>
                  <a:lnTo>
                    <a:pt x="1447" y="3990"/>
                  </a:lnTo>
                  <a:lnTo>
                    <a:pt x="1383" y="4106"/>
                  </a:lnTo>
                  <a:lnTo>
                    <a:pt x="1324" y="4219"/>
                  </a:lnTo>
                  <a:lnTo>
                    <a:pt x="1270" y="4327"/>
                  </a:lnTo>
                  <a:lnTo>
                    <a:pt x="1224" y="4433"/>
                  </a:lnTo>
                  <a:lnTo>
                    <a:pt x="1184" y="4531"/>
                  </a:lnTo>
                  <a:lnTo>
                    <a:pt x="1152" y="4624"/>
                  </a:lnTo>
                  <a:lnTo>
                    <a:pt x="1149" y="4637"/>
                  </a:lnTo>
                  <a:lnTo>
                    <a:pt x="1145" y="4649"/>
                  </a:lnTo>
                  <a:lnTo>
                    <a:pt x="1138" y="4660"/>
                  </a:lnTo>
                  <a:lnTo>
                    <a:pt x="1131" y="4670"/>
                  </a:lnTo>
                  <a:lnTo>
                    <a:pt x="1122" y="4678"/>
                  </a:lnTo>
                  <a:lnTo>
                    <a:pt x="1114" y="4686"/>
                  </a:lnTo>
                  <a:lnTo>
                    <a:pt x="1103" y="4693"/>
                  </a:lnTo>
                  <a:lnTo>
                    <a:pt x="1092" y="4700"/>
                  </a:lnTo>
                  <a:lnTo>
                    <a:pt x="1080" y="4705"/>
                  </a:lnTo>
                  <a:lnTo>
                    <a:pt x="1068" y="4710"/>
                  </a:lnTo>
                  <a:lnTo>
                    <a:pt x="1055" y="4716"/>
                  </a:lnTo>
                  <a:lnTo>
                    <a:pt x="1042" y="4720"/>
                  </a:lnTo>
                  <a:lnTo>
                    <a:pt x="1014" y="4727"/>
                  </a:lnTo>
                  <a:lnTo>
                    <a:pt x="986" y="4736"/>
                  </a:lnTo>
                  <a:lnTo>
                    <a:pt x="959" y="4745"/>
                  </a:lnTo>
                  <a:lnTo>
                    <a:pt x="932" y="4754"/>
                  </a:lnTo>
                  <a:lnTo>
                    <a:pt x="920" y="4760"/>
                  </a:lnTo>
                  <a:lnTo>
                    <a:pt x="908" y="4765"/>
                  </a:lnTo>
                  <a:lnTo>
                    <a:pt x="897" y="4771"/>
                  </a:lnTo>
                  <a:lnTo>
                    <a:pt x="886" y="4779"/>
                  </a:lnTo>
                  <a:lnTo>
                    <a:pt x="877" y="4786"/>
                  </a:lnTo>
                  <a:lnTo>
                    <a:pt x="868" y="4796"/>
                  </a:lnTo>
                  <a:lnTo>
                    <a:pt x="861" y="4806"/>
                  </a:lnTo>
                  <a:lnTo>
                    <a:pt x="854" y="4816"/>
                  </a:lnTo>
                  <a:lnTo>
                    <a:pt x="849" y="4828"/>
                  </a:lnTo>
                  <a:lnTo>
                    <a:pt x="844" y="4842"/>
                  </a:lnTo>
                  <a:lnTo>
                    <a:pt x="842" y="4856"/>
                  </a:lnTo>
                  <a:lnTo>
                    <a:pt x="841" y="4872"/>
                  </a:lnTo>
                  <a:lnTo>
                    <a:pt x="825" y="4863"/>
                  </a:lnTo>
                  <a:lnTo>
                    <a:pt x="808" y="4850"/>
                  </a:lnTo>
                  <a:lnTo>
                    <a:pt x="790" y="4834"/>
                  </a:lnTo>
                  <a:lnTo>
                    <a:pt x="772" y="4815"/>
                  </a:lnTo>
                  <a:lnTo>
                    <a:pt x="752" y="4793"/>
                  </a:lnTo>
                  <a:lnTo>
                    <a:pt x="733" y="4769"/>
                  </a:lnTo>
                  <a:lnTo>
                    <a:pt x="714" y="4741"/>
                  </a:lnTo>
                  <a:lnTo>
                    <a:pt x="694" y="4712"/>
                  </a:lnTo>
                  <a:lnTo>
                    <a:pt x="675" y="4680"/>
                  </a:lnTo>
                  <a:lnTo>
                    <a:pt x="656" y="4647"/>
                  </a:lnTo>
                  <a:lnTo>
                    <a:pt x="636" y="4612"/>
                  </a:lnTo>
                  <a:lnTo>
                    <a:pt x="618" y="4573"/>
                  </a:lnTo>
                  <a:lnTo>
                    <a:pt x="600" y="4534"/>
                  </a:lnTo>
                  <a:lnTo>
                    <a:pt x="583" y="4494"/>
                  </a:lnTo>
                  <a:lnTo>
                    <a:pt x="566" y="4451"/>
                  </a:lnTo>
                  <a:lnTo>
                    <a:pt x="550" y="4407"/>
                  </a:lnTo>
                  <a:lnTo>
                    <a:pt x="534" y="4362"/>
                  </a:lnTo>
                  <a:lnTo>
                    <a:pt x="519" y="4316"/>
                  </a:lnTo>
                  <a:lnTo>
                    <a:pt x="507" y="4268"/>
                  </a:lnTo>
                  <a:lnTo>
                    <a:pt x="495" y="4221"/>
                  </a:lnTo>
                  <a:lnTo>
                    <a:pt x="485" y="4173"/>
                  </a:lnTo>
                  <a:lnTo>
                    <a:pt x="476" y="4124"/>
                  </a:lnTo>
                  <a:lnTo>
                    <a:pt x="468" y="4074"/>
                  </a:lnTo>
                  <a:lnTo>
                    <a:pt x="463" y="4025"/>
                  </a:lnTo>
                  <a:lnTo>
                    <a:pt x="458" y="3975"/>
                  </a:lnTo>
                  <a:lnTo>
                    <a:pt x="456" y="3925"/>
                  </a:lnTo>
                  <a:lnTo>
                    <a:pt x="456" y="3876"/>
                  </a:lnTo>
                  <a:lnTo>
                    <a:pt x="458" y="3827"/>
                  </a:lnTo>
                  <a:lnTo>
                    <a:pt x="463" y="3777"/>
                  </a:lnTo>
                  <a:lnTo>
                    <a:pt x="469" y="3729"/>
                  </a:lnTo>
                  <a:lnTo>
                    <a:pt x="479" y="3681"/>
                  </a:lnTo>
                  <a:lnTo>
                    <a:pt x="491" y="3635"/>
                  </a:lnTo>
                  <a:lnTo>
                    <a:pt x="489" y="3613"/>
                  </a:lnTo>
                  <a:lnTo>
                    <a:pt x="485" y="3587"/>
                  </a:lnTo>
                  <a:lnTo>
                    <a:pt x="480" y="3555"/>
                  </a:lnTo>
                  <a:lnTo>
                    <a:pt x="472" y="3518"/>
                  </a:lnTo>
                  <a:lnTo>
                    <a:pt x="452" y="3429"/>
                  </a:lnTo>
                  <a:lnTo>
                    <a:pt x="424" y="3324"/>
                  </a:lnTo>
                  <a:lnTo>
                    <a:pt x="356" y="3071"/>
                  </a:lnTo>
                  <a:lnTo>
                    <a:pt x="279" y="2778"/>
                  </a:lnTo>
                  <a:lnTo>
                    <a:pt x="240" y="2623"/>
                  </a:lnTo>
                  <a:lnTo>
                    <a:pt x="201" y="2467"/>
                  </a:lnTo>
                  <a:lnTo>
                    <a:pt x="183" y="2387"/>
                  </a:lnTo>
                  <a:lnTo>
                    <a:pt x="166" y="2309"/>
                  </a:lnTo>
                  <a:lnTo>
                    <a:pt x="148" y="2232"/>
                  </a:lnTo>
                  <a:lnTo>
                    <a:pt x="133" y="2155"/>
                  </a:lnTo>
                  <a:lnTo>
                    <a:pt x="118" y="2079"/>
                  </a:lnTo>
                  <a:lnTo>
                    <a:pt x="105" y="2005"/>
                  </a:lnTo>
                  <a:lnTo>
                    <a:pt x="94" y="1932"/>
                  </a:lnTo>
                  <a:lnTo>
                    <a:pt x="84" y="1862"/>
                  </a:lnTo>
                  <a:lnTo>
                    <a:pt x="75" y="1793"/>
                  </a:lnTo>
                  <a:lnTo>
                    <a:pt x="70" y="1728"/>
                  </a:lnTo>
                  <a:lnTo>
                    <a:pt x="66" y="1666"/>
                  </a:lnTo>
                  <a:lnTo>
                    <a:pt x="64" y="1607"/>
                  </a:lnTo>
                  <a:lnTo>
                    <a:pt x="63" y="1570"/>
                  </a:lnTo>
                  <a:lnTo>
                    <a:pt x="60" y="1541"/>
                  </a:lnTo>
                  <a:lnTo>
                    <a:pt x="58" y="1529"/>
                  </a:lnTo>
                  <a:lnTo>
                    <a:pt x="56" y="1519"/>
                  </a:lnTo>
                  <a:lnTo>
                    <a:pt x="54" y="1509"/>
                  </a:lnTo>
                  <a:lnTo>
                    <a:pt x="51" y="1501"/>
                  </a:lnTo>
                  <a:lnTo>
                    <a:pt x="48" y="1494"/>
                  </a:lnTo>
                  <a:lnTo>
                    <a:pt x="44" y="1488"/>
                  </a:lnTo>
                  <a:lnTo>
                    <a:pt x="41" y="1482"/>
                  </a:lnTo>
                  <a:lnTo>
                    <a:pt x="38" y="1479"/>
                  </a:lnTo>
                  <a:lnTo>
                    <a:pt x="31" y="1473"/>
                  </a:lnTo>
                  <a:lnTo>
                    <a:pt x="24" y="1469"/>
                  </a:lnTo>
                  <a:lnTo>
                    <a:pt x="12" y="1467"/>
                  </a:lnTo>
                  <a:lnTo>
                    <a:pt x="4" y="1465"/>
                  </a:lnTo>
                  <a:lnTo>
                    <a:pt x="1" y="1464"/>
                  </a:lnTo>
                  <a:lnTo>
                    <a:pt x="1" y="1463"/>
                  </a:lnTo>
                  <a:lnTo>
                    <a:pt x="0" y="1461"/>
                  </a:lnTo>
                  <a:lnTo>
                    <a:pt x="0" y="1458"/>
                  </a:lnTo>
                  <a:lnTo>
                    <a:pt x="3" y="1451"/>
                  </a:lnTo>
                  <a:lnTo>
                    <a:pt x="7" y="1439"/>
                  </a:lnTo>
                  <a:lnTo>
                    <a:pt x="52" y="1472"/>
                  </a:lnTo>
                  <a:lnTo>
                    <a:pt x="99" y="1502"/>
                  </a:lnTo>
                  <a:lnTo>
                    <a:pt x="148" y="1528"/>
                  </a:lnTo>
                  <a:lnTo>
                    <a:pt x="200" y="1554"/>
                  </a:lnTo>
                  <a:lnTo>
                    <a:pt x="252" y="1577"/>
                  </a:lnTo>
                  <a:lnTo>
                    <a:pt x="307" y="1598"/>
                  </a:lnTo>
                  <a:lnTo>
                    <a:pt x="363" y="1616"/>
                  </a:lnTo>
                  <a:lnTo>
                    <a:pt x="420" y="1634"/>
                  </a:lnTo>
                  <a:lnTo>
                    <a:pt x="478" y="1649"/>
                  </a:lnTo>
                  <a:lnTo>
                    <a:pt x="537" y="1661"/>
                  </a:lnTo>
                  <a:lnTo>
                    <a:pt x="597" y="1672"/>
                  </a:lnTo>
                  <a:lnTo>
                    <a:pt x="658" y="1681"/>
                  </a:lnTo>
                  <a:lnTo>
                    <a:pt x="719" y="1688"/>
                  </a:lnTo>
                  <a:lnTo>
                    <a:pt x="781" y="1694"/>
                  </a:lnTo>
                  <a:lnTo>
                    <a:pt x="843" y="1697"/>
                  </a:lnTo>
                  <a:lnTo>
                    <a:pt x="906" y="1698"/>
                  </a:lnTo>
                  <a:lnTo>
                    <a:pt x="968" y="1698"/>
                  </a:lnTo>
                  <a:lnTo>
                    <a:pt x="1031" y="1696"/>
                  </a:lnTo>
                  <a:lnTo>
                    <a:pt x="1093" y="1693"/>
                  </a:lnTo>
                  <a:lnTo>
                    <a:pt x="1155" y="1687"/>
                  </a:lnTo>
                  <a:lnTo>
                    <a:pt x="1217" y="1681"/>
                  </a:lnTo>
                  <a:lnTo>
                    <a:pt x="1278" y="1672"/>
                  </a:lnTo>
                  <a:lnTo>
                    <a:pt x="1338" y="1661"/>
                  </a:lnTo>
                  <a:lnTo>
                    <a:pt x="1397" y="1650"/>
                  </a:lnTo>
                  <a:lnTo>
                    <a:pt x="1456" y="1637"/>
                  </a:lnTo>
                  <a:lnTo>
                    <a:pt x="1513" y="1622"/>
                  </a:lnTo>
                  <a:lnTo>
                    <a:pt x="1569" y="1606"/>
                  </a:lnTo>
                  <a:lnTo>
                    <a:pt x="1624" y="1587"/>
                  </a:lnTo>
                  <a:lnTo>
                    <a:pt x="1677" y="1569"/>
                  </a:lnTo>
                  <a:lnTo>
                    <a:pt x="1729" y="1548"/>
                  </a:lnTo>
                  <a:lnTo>
                    <a:pt x="1779" y="1526"/>
                  </a:lnTo>
                  <a:lnTo>
                    <a:pt x="1827" y="1504"/>
                  </a:lnTo>
                  <a:lnTo>
                    <a:pt x="1980" y="1419"/>
                  </a:lnTo>
                  <a:lnTo>
                    <a:pt x="2124" y="1339"/>
                  </a:lnTo>
                  <a:lnTo>
                    <a:pt x="2194" y="1299"/>
                  </a:lnTo>
                  <a:lnTo>
                    <a:pt x="2261" y="1259"/>
                  </a:lnTo>
                  <a:lnTo>
                    <a:pt x="2327" y="1220"/>
                  </a:lnTo>
                  <a:lnTo>
                    <a:pt x="2391" y="1181"/>
                  </a:lnTo>
                  <a:lnTo>
                    <a:pt x="2453" y="1142"/>
                  </a:lnTo>
                  <a:lnTo>
                    <a:pt x="2514" y="1103"/>
                  </a:lnTo>
                  <a:lnTo>
                    <a:pt x="2574" y="1063"/>
                  </a:lnTo>
                  <a:lnTo>
                    <a:pt x="2634" y="1023"/>
                  </a:lnTo>
                  <a:lnTo>
                    <a:pt x="2692" y="984"/>
                  </a:lnTo>
                  <a:lnTo>
                    <a:pt x="2749" y="943"/>
                  </a:lnTo>
                  <a:lnTo>
                    <a:pt x="2806" y="902"/>
                  </a:lnTo>
                  <a:lnTo>
                    <a:pt x="2862" y="859"/>
                  </a:lnTo>
                  <a:lnTo>
                    <a:pt x="2917" y="816"/>
                  </a:lnTo>
                  <a:lnTo>
                    <a:pt x="2971" y="773"/>
                  </a:lnTo>
                  <a:lnTo>
                    <a:pt x="3026" y="728"/>
                  </a:lnTo>
                  <a:lnTo>
                    <a:pt x="3081" y="682"/>
                  </a:lnTo>
                  <a:lnTo>
                    <a:pt x="3134" y="635"/>
                  </a:lnTo>
                  <a:lnTo>
                    <a:pt x="3189" y="586"/>
                  </a:lnTo>
                  <a:lnTo>
                    <a:pt x="3244" y="536"/>
                  </a:lnTo>
                  <a:lnTo>
                    <a:pt x="3298" y="484"/>
                  </a:lnTo>
                  <a:lnTo>
                    <a:pt x="3354" y="431"/>
                  </a:lnTo>
                  <a:lnTo>
                    <a:pt x="3410" y="376"/>
                  </a:lnTo>
                  <a:lnTo>
                    <a:pt x="3466" y="319"/>
                  </a:lnTo>
                  <a:lnTo>
                    <a:pt x="3524" y="260"/>
                  </a:lnTo>
                  <a:lnTo>
                    <a:pt x="3581" y="198"/>
                  </a:lnTo>
                  <a:lnTo>
                    <a:pt x="3640" y="134"/>
                  </a:lnTo>
                  <a:lnTo>
                    <a:pt x="3701" y="69"/>
                  </a:lnTo>
                  <a:lnTo>
                    <a:pt x="37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18840" y="3368880"/>
              <a:ext cx="235440" cy="153720"/>
            </a:xfrm>
            <a:custGeom>
              <a:avLst/>
              <a:gdLst/>
              <a:ahLst/>
              <a:rect l="l" t="t" r="r" b="b"/>
              <a:pathLst>
                <a:path w="1364" h="967">
                  <a:moveTo>
                    <a:pt x="718" y="357"/>
                  </a:moveTo>
                  <a:lnTo>
                    <a:pt x="734" y="358"/>
                  </a:lnTo>
                  <a:lnTo>
                    <a:pt x="752" y="359"/>
                  </a:lnTo>
                  <a:lnTo>
                    <a:pt x="768" y="360"/>
                  </a:lnTo>
                  <a:lnTo>
                    <a:pt x="784" y="362"/>
                  </a:lnTo>
                  <a:lnTo>
                    <a:pt x="817" y="367"/>
                  </a:lnTo>
                  <a:lnTo>
                    <a:pt x="851" y="374"/>
                  </a:lnTo>
                  <a:lnTo>
                    <a:pt x="885" y="380"/>
                  </a:lnTo>
                  <a:lnTo>
                    <a:pt x="918" y="386"/>
                  </a:lnTo>
                  <a:lnTo>
                    <a:pt x="934" y="388"/>
                  </a:lnTo>
                  <a:lnTo>
                    <a:pt x="951" y="390"/>
                  </a:lnTo>
                  <a:lnTo>
                    <a:pt x="967" y="391"/>
                  </a:lnTo>
                  <a:lnTo>
                    <a:pt x="983" y="391"/>
                  </a:lnTo>
                  <a:lnTo>
                    <a:pt x="1041" y="322"/>
                  </a:lnTo>
                  <a:lnTo>
                    <a:pt x="1045" y="335"/>
                  </a:lnTo>
                  <a:lnTo>
                    <a:pt x="1048" y="348"/>
                  </a:lnTo>
                  <a:lnTo>
                    <a:pt x="1049" y="361"/>
                  </a:lnTo>
                  <a:lnTo>
                    <a:pt x="1048" y="374"/>
                  </a:lnTo>
                  <a:lnTo>
                    <a:pt x="1045" y="387"/>
                  </a:lnTo>
                  <a:lnTo>
                    <a:pt x="1041" y="399"/>
                  </a:lnTo>
                  <a:lnTo>
                    <a:pt x="1037" y="409"/>
                  </a:lnTo>
                  <a:lnTo>
                    <a:pt x="1030" y="420"/>
                  </a:lnTo>
                  <a:lnTo>
                    <a:pt x="1023" y="430"/>
                  </a:lnTo>
                  <a:lnTo>
                    <a:pt x="1014" y="439"/>
                  </a:lnTo>
                  <a:lnTo>
                    <a:pt x="1006" y="447"/>
                  </a:lnTo>
                  <a:lnTo>
                    <a:pt x="996" y="453"/>
                  </a:lnTo>
                  <a:lnTo>
                    <a:pt x="986" y="459"/>
                  </a:lnTo>
                  <a:lnTo>
                    <a:pt x="976" y="463"/>
                  </a:lnTo>
                  <a:lnTo>
                    <a:pt x="965" y="465"/>
                  </a:lnTo>
                  <a:lnTo>
                    <a:pt x="954" y="466"/>
                  </a:lnTo>
                  <a:lnTo>
                    <a:pt x="1070" y="466"/>
                  </a:lnTo>
                  <a:lnTo>
                    <a:pt x="1081" y="453"/>
                  </a:lnTo>
                  <a:lnTo>
                    <a:pt x="1091" y="441"/>
                  </a:lnTo>
                  <a:lnTo>
                    <a:pt x="1102" y="431"/>
                  </a:lnTo>
                  <a:lnTo>
                    <a:pt x="1113" y="422"/>
                  </a:lnTo>
                  <a:lnTo>
                    <a:pt x="1134" y="406"/>
                  </a:lnTo>
                  <a:lnTo>
                    <a:pt x="1157" y="392"/>
                  </a:lnTo>
                  <a:lnTo>
                    <a:pt x="1179" y="378"/>
                  </a:lnTo>
                  <a:lnTo>
                    <a:pt x="1202" y="363"/>
                  </a:lnTo>
                  <a:lnTo>
                    <a:pt x="1213" y="355"/>
                  </a:lnTo>
                  <a:lnTo>
                    <a:pt x="1224" y="345"/>
                  </a:lnTo>
                  <a:lnTo>
                    <a:pt x="1236" y="334"/>
                  </a:lnTo>
                  <a:lnTo>
                    <a:pt x="1248" y="322"/>
                  </a:lnTo>
                  <a:lnTo>
                    <a:pt x="1248" y="104"/>
                  </a:lnTo>
                  <a:lnTo>
                    <a:pt x="1156" y="0"/>
                  </a:lnTo>
                  <a:lnTo>
                    <a:pt x="1170" y="1"/>
                  </a:lnTo>
                  <a:lnTo>
                    <a:pt x="1183" y="3"/>
                  </a:lnTo>
                  <a:lnTo>
                    <a:pt x="1196" y="6"/>
                  </a:lnTo>
                  <a:lnTo>
                    <a:pt x="1208" y="11"/>
                  </a:lnTo>
                  <a:lnTo>
                    <a:pt x="1220" y="17"/>
                  </a:lnTo>
                  <a:lnTo>
                    <a:pt x="1231" y="24"/>
                  </a:lnTo>
                  <a:lnTo>
                    <a:pt x="1242" y="33"/>
                  </a:lnTo>
                  <a:lnTo>
                    <a:pt x="1251" y="41"/>
                  </a:lnTo>
                  <a:lnTo>
                    <a:pt x="1261" y="52"/>
                  </a:lnTo>
                  <a:lnTo>
                    <a:pt x="1271" y="63"/>
                  </a:lnTo>
                  <a:lnTo>
                    <a:pt x="1279" y="75"/>
                  </a:lnTo>
                  <a:lnTo>
                    <a:pt x="1288" y="88"/>
                  </a:lnTo>
                  <a:lnTo>
                    <a:pt x="1295" y="100"/>
                  </a:lnTo>
                  <a:lnTo>
                    <a:pt x="1303" y="114"/>
                  </a:lnTo>
                  <a:lnTo>
                    <a:pt x="1309" y="129"/>
                  </a:lnTo>
                  <a:lnTo>
                    <a:pt x="1316" y="143"/>
                  </a:lnTo>
                  <a:lnTo>
                    <a:pt x="1327" y="174"/>
                  </a:lnTo>
                  <a:lnTo>
                    <a:pt x="1337" y="207"/>
                  </a:lnTo>
                  <a:lnTo>
                    <a:pt x="1346" y="240"/>
                  </a:lnTo>
                  <a:lnTo>
                    <a:pt x="1352" y="272"/>
                  </a:lnTo>
                  <a:lnTo>
                    <a:pt x="1357" y="304"/>
                  </a:lnTo>
                  <a:lnTo>
                    <a:pt x="1361" y="335"/>
                  </a:lnTo>
                  <a:lnTo>
                    <a:pt x="1363" y="364"/>
                  </a:lnTo>
                  <a:lnTo>
                    <a:pt x="1364" y="391"/>
                  </a:lnTo>
                  <a:lnTo>
                    <a:pt x="1356" y="400"/>
                  </a:lnTo>
                  <a:lnTo>
                    <a:pt x="1348" y="409"/>
                  </a:lnTo>
                  <a:lnTo>
                    <a:pt x="1336" y="420"/>
                  </a:lnTo>
                  <a:lnTo>
                    <a:pt x="1322" y="431"/>
                  </a:lnTo>
                  <a:lnTo>
                    <a:pt x="1307" y="443"/>
                  </a:lnTo>
                  <a:lnTo>
                    <a:pt x="1291" y="454"/>
                  </a:lnTo>
                  <a:lnTo>
                    <a:pt x="1274" y="467"/>
                  </a:lnTo>
                  <a:lnTo>
                    <a:pt x="1257" y="479"/>
                  </a:lnTo>
                  <a:lnTo>
                    <a:pt x="1238" y="490"/>
                  </a:lnTo>
                  <a:lnTo>
                    <a:pt x="1220" y="500"/>
                  </a:lnTo>
                  <a:lnTo>
                    <a:pt x="1202" y="510"/>
                  </a:lnTo>
                  <a:lnTo>
                    <a:pt x="1185" y="519"/>
                  </a:lnTo>
                  <a:lnTo>
                    <a:pt x="1168" y="526"/>
                  </a:lnTo>
                  <a:lnTo>
                    <a:pt x="1153" y="530"/>
                  </a:lnTo>
                  <a:lnTo>
                    <a:pt x="1139" y="535"/>
                  </a:lnTo>
                  <a:lnTo>
                    <a:pt x="1127" y="536"/>
                  </a:lnTo>
                  <a:lnTo>
                    <a:pt x="1139" y="536"/>
                  </a:lnTo>
                  <a:lnTo>
                    <a:pt x="1149" y="539"/>
                  </a:lnTo>
                  <a:lnTo>
                    <a:pt x="1160" y="542"/>
                  </a:lnTo>
                  <a:lnTo>
                    <a:pt x="1171" y="548"/>
                  </a:lnTo>
                  <a:lnTo>
                    <a:pt x="1182" y="554"/>
                  </a:lnTo>
                  <a:lnTo>
                    <a:pt x="1192" y="561"/>
                  </a:lnTo>
                  <a:lnTo>
                    <a:pt x="1203" y="569"/>
                  </a:lnTo>
                  <a:lnTo>
                    <a:pt x="1213" y="578"/>
                  </a:lnTo>
                  <a:lnTo>
                    <a:pt x="1232" y="595"/>
                  </a:lnTo>
                  <a:lnTo>
                    <a:pt x="1249" y="613"/>
                  </a:lnTo>
                  <a:lnTo>
                    <a:pt x="1265" y="630"/>
                  </a:lnTo>
                  <a:lnTo>
                    <a:pt x="1277" y="645"/>
                  </a:lnTo>
                  <a:lnTo>
                    <a:pt x="1277" y="789"/>
                  </a:lnTo>
                  <a:lnTo>
                    <a:pt x="1266" y="789"/>
                  </a:lnTo>
                  <a:lnTo>
                    <a:pt x="1257" y="790"/>
                  </a:lnTo>
                  <a:lnTo>
                    <a:pt x="1247" y="792"/>
                  </a:lnTo>
                  <a:lnTo>
                    <a:pt x="1238" y="795"/>
                  </a:lnTo>
                  <a:lnTo>
                    <a:pt x="1230" y="798"/>
                  </a:lnTo>
                  <a:lnTo>
                    <a:pt x="1221" y="802"/>
                  </a:lnTo>
                  <a:lnTo>
                    <a:pt x="1214" y="806"/>
                  </a:lnTo>
                  <a:lnTo>
                    <a:pt x="1206" y="810"/>
                  </a:lnTo>
                  <a:lnTo>
                    <a:pt x="1192" y="821"/>
                  </a:lnTo>
                  <a:lnTo>
                    <a:pt x="1179" y="833"/>
                  </a:lnTo>
                  <a:lnTo>
                    <a:pt x="1168" y="845"/>
                  </a:lnTo>
                  <a:lnTo>
                    <a:pt x="1156" y="858"/>
                  </a:lnTo>
                  <a:lnTo>
                    <a:pt x="1140" y="859"/>
                  </a:lnTo>
                  <a:lnTo>
                    <a:pt x="1123" y="860"/>
                  </a:lnTo>
                  <a:lnTo>
                    <a:pt x="1105" y="862"/>
                  </a:lnTo>
                  <a:lnTo>
                    <a:pt x="1087" y="865"/>
                  </a:lnTo>
                  <a:lnTo>
                    <a:pt x="1069" y="869"/>
                  </a:lnTo>
                  <a:lnTo>
                    <a:pt x="1052" y="875"/>
                  </a:lnTo>
                  <a:lnTo>
                    <a:pt x="1034" y="880"/>
                  </a:lnTo>
                  <a:lnTo>
                    <a:pt x="1015" y="887"/>
                  </a:lnTo>
                  <a:lnTo>
                    <a:pt x="998" y="894"/>
                  </a:lnTo>
                  <a:lnTo>
                    <a:pt x="981" y="903"/>
                  </a:lnTo>
                  <a:lnTo>
                    <a:pt x="965" y="911"/>
                  </a:lnTo>
                  <a:lnTo>
                    <a:pt x="950" y="921"/>
                  </a:lnTo>
                  <a:lnTo>
                    <a:pt x="935" y="932"/>
                  </a:lnTo>
                  <a:lnTo>
                    <a:pt x="921" y="943"/>
                  </a:lnTo>
                  <a:lnTo>
                    <a:pt x="908" y="955"/>
                  </a:lnTo>
                  <a:lnTo>
                    <a:pt x="897" y="967"/>
                  </a:lnTo>
                  <a:lnTo>
                    <a:pt x="776" y="967"/>
                  </a:lnTo>
                  <a:lnTo>
                    <a:pt x="540" y="680"/>
                  </a:lnTo>
                  <a:lnTo>
                    <a:pt x="525" y="678"/>
                  </a:lnTo>
                  <a:lnTo>
                    <a:pt x="509" y="676"/>
                  </a:lnTo>
                  <a:lnTo>
                    <a:pt x="491" y="672"/>
                  </a:lnTo>
                  <a:lnTo>
                    <a:pt x="472" y="667"/>
                  </a:lnTo>
                  <a:lnTo>
                    <a:pt x="451" y="660"/>
                  </a:lnTo>
                  <a:lnTo>
                    <a:pt x="430" y="653"/>
                  </a:lnTo>
                  <a:lnTo>
                    <a:pt x="407" y="644"/>
                  </a:lnTo>
                  <a:lnTo>
                    <a:pt x="384" y="636"/>
                  </a:lnTo>
                  <a:lnTo>
                    <a:pt x="335" y="614"/>
                  </a:lnTo>
                  <a:lnTo>
                    <a:pt x="286" y="591"/>
                  </a:lnTo>
                  <a:lnTo>
                    <a:pt x="237" y="566"/>
                  </a:lnTo>
                  <a:lnTo>
                    <a:pt x="188" y="540"/>
                  </a:lnTo>
                  <a:lnTo>
                    <a:pt x="143" y="515"/>
                  </a:lnTo>
                  <a:lnTo>
                    <a:pt x="102" y="493"/>
                  </a:lnTo>
                  <a:lnTo>
                    <a:pt x="65" y="472"/>
                  </a:lnTo>
                  <a:lnTo>
                    <a:pt x="36" y="453"/>
                  </a:lnTo>
                  <a:lnTo>
                    <a:pt x="15" y="439"/>
                  </a:lnTo>
                  <a:lnTo>
                    <a:pt x="2" y="431"/>
                  </a:lnTo>
                  <a:lnTo>
                    <a:pt x="0" y="429"/>
                  </a:lnTo>
                  <a:lnTo>
                    <a:pt x="0" y="428"/>
                  </a:lnTo>
                  <a:lnTo>
                    <a:pt x="3" y="429"/>
                  </a:lnTo>
                  <a:lnTo>
                    <a:pt x="9" y="432"/>
                  </a:lnTo>
                  <a:lnTo>
                    <a:pt x="63" y="448"/>
                  </a:lnTo>
                  <a:lnTo>
                    <a:pt x="127" y="467"/>
                  </a:lnTo>
                  <a:lnTo>
                    <a:pt x="163" y="477"/>
                  </a:lnTo>
                  <a:lnTo>
                    <a:pt x="200" y="488"/>
                  </a:lnTo>
                  <a:lnTo>
                    <a:pt x="239" y="496"/>
                  </a:lnTo>
                  <a:lnTo>
                    <a:pt x="277" y="505"/>
                  </a:lnTo>
                  <a:lnTo>
                    <a:pt x="315" y="512"/>
                  </a:lnTo>
                  <a:lnTo>
                    <a:pt x="354" y="519"/>
                  </a:lnTo>
                  <a:lnTo>
                    <a:pt x="372" y="521"/>
                  </a:lnTo>
                  <a:lnTo>
                    <a:pt x="390" y="523"/>
                  </a:lnTo>
                  <a:lnTo>
                    <a:pt x="408" y="524"/>
                  </a:lnTo>
                  <a:lnTo>
                    <a:pt x="425" y="524"/>
                  </a:lnTo>
                  <a:lnTo>
                    <a:pt x="443" y="524"/>
                  </a:lnTo>
                  <a:lnTo>
                    <a:pt x="459" y="523"/>
                  </a:lnTo>
                  <a:lnTo>
                    <a:pt x="474" y="522"/>
                  </a:lnTo>
                  <a:lnTo>
                    <a:pt x="489" y="519"/>
                  </a:lnTo>
                  <a:lnTo>
                    <a:pt x="503" y="517"/>
                  </a:lnTo>
                  <a:lnTo>
                    <a:pt x="517" y="512"/>
                  </a:lnTo>
                  <a:lnTo>
                    <a:pt x="528" y="507"/>
                  </a:lnTo>
                  <a:lnTo>
                    <a:pt x="540" y="500"/>
                  </a:lnTo>
                  <a:lnTo>
                    <a:pt x="550" y="494"/>
                  </a:lnTo>
                  <a:lnTo>
                    <a:pt x="561" y="484"/>
                  </a:lnTo>
                  <a:lnTo>
                    <a:pt x="570" y="475"/>
                  </a:lnTo>
                  <a:lnTo>
                    <a:pt x="579" y="464"/>
                  </a:lnTo>
                  <a:lnTo>
                    <a:pt x="597" y="440"/>
                  </a:lnTo>
                  <a:lnTo>
                    <a:pt x="616" y="416"/>
                  </a:lnTo>
                  <a:lnTo>
                    <a:pt x="626" y="404"/>
                  </a:lnTo>
                  <a:lnTo>
                    <a:pt x="637" y="393"/>
                  </a:lnTo>
                  <a:lnTo>
                    <a:pt x="647" y="384"/>
                  </a:lnTo>
                  <a:lnTo>
                    <a:pt x="659" y="375"/>
                  </a:lnTo>
                  <a:lnTo>
                    <a:pt x="672" y="367"/>
                  </a:lnTo>
                  <a:lnTo>
                    <a:pt x="686" y="362"/>
                  </a:lnTo>
                  <a:lnTo>
                    <a:pt x="694" y="360"/>
                  </a:lnTo>
                  <a:lnTo>
                    <a:pt x="702" y="358"/>
                  </a:lnTo>
                  <a:lnTo>
                    <a:pt x="710" y="357"/>
                  </a:lnTo>
                  <a:lnTo>
                    <a:pt x="718" y="357"/>
                  </a:lnTo>
                  <a:close/>
                </a:path>
              </a:pathLst>
            </a:custGeom>
            <a:solidFill>
              <a:srgbClr val="e5a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89600" y="3544920"/>
              <a:ext cx="333720" cy="345960"/>
            </a:xfrm>
            <a:custGeom>
              <a:avLst/>
              <a:gdLst/>
              <a:ahLst/>
              <a:rect l="l" t="t" r="r" b="b"/>
              <a:pathLst>
                <a:path w="1935" h="2180">
                  <a:moveTo>
                    <a:pt x="1584" y="735"/>
                  </a:moveTo>
                  <a:lnTo>
                    <a:pt x="1544" y="763"/>
                  </a:lnTo>
                  <a:lnTo>
                    <a:pt x="1505" y="789"/>
                  </a:lnTo>
                  <a:lnTo>
                    <a:pt x="1464" y="816"/>
                  </a:lnTo>
                  <a:lnTo>
                    <a:pt x="1422" y="841"/>
                  </a:lnTo>
                  <a:lnTo>
                    <a:pt x="1380" y="863"/>
                  </a:lnTo>
                  <a:lnTo>
                    <a:pt x="1338" y="885"/>
                  </a:lnTo>
                  <a:lnTo>
                    <a:pt x="1317" y="894"/>
                  </a:lnTo>
                  <a:lnTo>
                    <a:pt x="1295" y="903"/>
                  </a:lnTo>
                  <a:lnTo>
                    <a:pt x="1273" y="913"/>
                  </a:lnTo>
                  <a:lnTo>
                    <a:pt x="1251" y="920"/>
                  </a:lnTo>
                  <a:lnTo>
                    <a:pt x="1229" y="928"/>
                  </a:lnTo>
                  <a:lnTo>
                    <a:pt x="1207" y="934"/>
                  </a:lnTo>
                  <a:lnTo>
                    <a:pt x="1184" y="941"/>
                  </a:lnTo>
                  <a:lnTo>
                    <a:pt x="1160" y="945"/>
                  </a:lnTo>
                  <a:lnTo>
                    <a:pt x="1138" y="950"/>
                  </a:lnTo>
                  <a:lnTo>
                    <a:pt x="1115" y="953"/>
                  </a:lnTo>
                  <a:lnTo>
                    <a:pt x="1092" y="956"/>
                  </a:lnTo>
                  <a:lnTo>
                    <a:pt x="1068" y="958"/>
                  </a:lnTo>
                  <a:lnTo>
                    <a:pt x="1045" y="959"/>
                  </a:lnTo>
                  <a:lnTo>
                    <a:pt x="1021" y="959"/>
                  </a:lnTo>
                  <a:lnTo>
                    <a:pt x="997" y="958"/>
                  </a:lnTo>
                  <a:lnTo>
                    <a:pt x="973" y="956"/>
                  </a:lnTo>
                  <a:lnTo>
                    <a:pt x="949" y="952"/>
                  </a:lnTo>
                  <a:lnTo>
                    <a:pt x="925" y="948"/>
                  </a:lnTo>
                  <a:lnTo>
                    <a:pt x="900" y="943"/>
                  </a:lnTo>
                  <a:lnTo>
                    <a:pt x="875" y="936"/>
                  </a:lnTo>
                  <a:lnTo>
                    <a:pt x="853" y="930"/>
                  </a:lnTo>
                  <a:lnTo>
                    <a:pt x="829" y="920"/>
                  </a:lnTo>
                  <a:lnTo>
                    <a:pt x="805" y="911"/>
                  </a:lnTo>
                  <a:lnTo>
                    <a:pt x="782" y="900"/>
                  </a:lnTo>
                  <a:lnTo>
                    <a:pt x="734" y="876"/>
                  </a:lnTo>
                  <a:lnTo>
                    <a:pt x="685" y="852"/>
                  </a:lnTo>
                  <a:lnTo>
                    <a:pt x="661" y="840"/>
                  </a:lnTo>
                  <a:lnTo>
                    <a:pt x="636" y="829"/>
                  </a:lnTo>
                  <a:lnTo>
                    <a:pt x="612" y="819"/>
                  </a:lnTo>
                  <a:lnTo>
                    <a:pt x="589" y="811"/>
                  </a:lnTo>
                  <a:lnTo>
                    <a:pt x="564" y="803"/>
                  </a:lnTo>
                  <a:lnTo>
                    <a:pt x="541" y="798"/>
                  </a:lnTo>
                  <a:lnTo>
                    <a:pt x="529" y="796"/>
                  </a:lnTo>
                  <a:lnTo>
                    <a:pt x="518" y="794"/>
                  </a:lnTo>
                  <a:lnTo>
                    <a:pt x="506" y="793"/>
                  </a:lnTo>
                  <a:lnTo>
                    <a:pt x="494" y="793"/>
                  </a:lnTo>
                  <a:lnTo>
                    <a:pt x="438" y="862"/>
                  </a:lnTo>
                  <a:lnTo>
                    <a:pt x="438" y="911"/>
                  </a:lnTo>
                  <a:lnTo>
                    <a:pt x="439" y="960"/>
                  </a:lnTo>
                  <a:lnTo>
                    <a:pt x="441" y="1011"/>
                  </a:lnTo>
                  <a:lnTo>
                    <a:pt x="445" y="1065"/>
                  </a:lnTo>
                  <a:lnTo>
                    <a:pt x="449" y="1119"/>
                  </a:lnTo>
                  <a:lnTo>
                    <a:pt x="455" y="1174"/>
                  </a:lnTo>
                  <a:lnTo>
                    <a:pt x="462" y="1230"/>
                  </a:lnTo>
                  <a:lnTo>
                    <a:pt x="471" y="1287"/>
                  </a:lnTo>
                  <a:lnTo>
                    <a:pt x="480" y="1345"/>
                  </a:lnTo>
                  <a:lnTo>
                    <a:pt x="492" y="1404"/>
                  </a:lnTo>
                  <a:lnTo>
                    <a:pt x="505" y="1463"/>
                  </a:lnTo>
                  <a:lnTo>
                    <a:pt x="520" y="1522"/>
                  </a:lnTo>
                  <a:lnTo>
                    <a:pt x="536" y="1582"/>
                  </a:lnTo>
                  <a:lnTo>
                    <a:pt x="556" y="1641"/>
                  </a:lnTo>
                  <a:lnTo>
                    <a:pt x="576" y="1701"/>
                  </a:lnTo>
                  <a:lnTo>
                    <a:pt x="598" y="1760"/>
                  </a:lnTo>
                  <a:lnTo>
                    <a:pt x="603" y="1770"/>
                  </a:lnTo>
                  <a:lnTo>
                    <a:pt x="608" y="1778"/>
                  </a:lnTo>
                  <a:lnTo>
                    <a:pt x="613" y="1788"/>
                  </a:lnTo>
                  <a:lnTo>
                    <a:pt x="621" y="1796"/>
                  </a:lnTo>
                  <a:lnTo>
                    <a:pt x="628" y="1805"/>
                  </a:lnTo>
                  <a:lnTo>
                    <a:pt x="636" y="1814"/>
                  </a:lnTo>
                  <a:lnTo>
                    <a:pt x="646" y="1822"/>
                  </a:lnTo>
                  <a:lnTo>
                    <a:pt x="654" y="1831"/>
                  </a:lnTo>
                  <a:lnTo>
                    <a:pt x="675" y="1848"/>
                  </a:lnTo>
                  <a:lnTo>
                    <a:pt x="697" y="1864"/>
                  </a:lnTo>
                  <a:lnTo>
                    <a:pt x="721" y="1879"/>
                  </a:lnTo>
                  <a:lnTo>
                    <a:pt x="745" y="1894"/>
                  </a:lnTo>
                  <a:lnTo>
                    <a:pt x="770" y="1908"/>
                  </a:lnTo>
                  <a:lnTo>
                    <a:pt x="796" y="1921"/>
                  </a:lnTo>
                  <a:lnTo>
                    <a:pt x="820" y="1933"/>
                  </a:lnTo>
                  <a:lnTo>
                    <a:pt x="845" y="1944"/>
                  </a:lnTo>
                  <a:lnTo>
                    <a:pt x="889" y="1964"/>
                  </a:lnTo>
                  <a:lnTo>
                    <a:pt x="927" y="1980"/>
                  </a:lnTo>
                  <a:lnTo>
                    <a:pt x="952" y="1993"/>
                  </a:lnTo>
                  <a:lnTo>
                    <a:pt x="978" y="2004"/>
                  </a:lnTo>
                  <a:lnTo>
                    <a:pt x="1004" y="2016"/>
                  </a:lnTo>
                  <a:lnTo>
                    <a:pt x="1031" y="2027"/>
                  </a:lnTo>
                  <a:lnTo>
                    <a:pt x="1057" y="2037"/>
                  </a:lnTo>
                  <a:lnTo>
                    <a:pt x="1084" y="2045"/>
                  </a:lnTo>
                  <a:lnTo>
                    <a:pt x="1112" y="2054"/>
                  </a:lnTo>
                  <a:lnTo>
                    <a:pt x="1140" y="2061"/>
                  </a:lnTo>
                  <a:lnTo>
                    <a:pt x="1168" y="2069"/>
                  </a:lnTo>
                  <a:lnTo>
                    <a:pt x="1197" y="2075"/>
                  </a:lnTo>
                  <a:lnTo>
                    <a:pt x="1226" y="2081"/>
                  </a:lnTo>
                  <a:lnTo>
                    <a:pt x="1255" y="2086"/>
                  </a:lnTo>
                  <a:lnTo>
                    <a:pt x="1313" y="2096"/>
                  </a:lnTo>
                  <a:lnTo>
                    <a:pt x="1371" y="2102"/>
                  </a:lnTo>
                  <a:lnTo>
                    <a:pt x="1430" y="2107"/>
                  </a:lnTo>
                  <a:lnTo>
                    <a:pt x="1489" y="2112"/>
                  </a:lnTo>
                  <a:lnTo>
                    <a:pt x="1547" y="2115"/>
                  </a:lnTo>
                  <a:lnTo>
                    <a:pt x="1603" y="2116"/>
                  </a:lnTo>
                  <a:lnTo>
                    <a:pt x="1715" y="2117"/>
                  </a:lnTo>
                  <a:lnTo>
                    <a:pt x="1820" y="2117"/>
                  </a:lnTo>
                  <a:lnTo>
                    <a:pt x="1935" y="2117"/>
                  </a:lnTo>
                  <a:lnTo>
                    <a:pt x="1911" y="2126"/>
                  </a:lnTo>
                  <a:lnTo>
                    <a:pt x="1885" y="2132"/>
                  </a:lnTo>
                  <a:lnTo>
                    <a:pt x="1860" y="2140"/>
                  </a:lnTo>
                  <a:lnTo>
                    <a:pt x="1833" y="2145"/>
                  </a:lnTo>
                  <a:lnTo>
                    <a:pt x="1804" y="2151"/>
                  </a:lnTo>
                  <a:lnTo>
                    <a:pt x="1775" y="2156"/>
                  </a:lnTo>
                  <a:lnTo>
                    <a:pt x="1745" y="2161"/>
                  </a:lnTo>
                  <a:lnTo>
                    <a:pt x="1714" y="2164"/>
                  </a:lnTo>
                  <a:lnTo>
                    <a:pt x="1651" y="2172"/>
                  </a:lnTo>
                  <a:lnTo>
                    <a:pt x="1586" y="2176"/>
                  </a:lnTo>
                  <a:lnTo>
                    <a:pt x="1520" y="2179"/>
                  </a:lnTo>
                  <a:lnTo>
                    <a:pt x="1452" y="2180"/>
                  </a:lnTo>
                  <a:lnTo>
                    <a:pt x="1386" y="2179"/>
                  </a:lnTo>
                  <a:lnTo>
                    <a:pt x="1320" y="2177"/>
                  </a:lnTo>
                  <a:lnTo>
                    <a:pt x="1255" y="2174"/>
                  </a:lnTo>
                  <a:lnTo>
                    <a:pt x="1193" y="2169"/>
                  </a:lnTo>
                  <a:lnTo>
                    <a:pt x="1134" y="2162"/>
                  </a:lnTo>
                  <a:lnTo>
                    <a:pt x="1078" y="2155"/>
                  </a:lnTo>
                  <a:lnTo>
                    <a:pt x="1025" y="2145"/>
                  </a:lnTo>
                  <a:lnTo>
                    <a:pt x="979" y="2135"/>
                  </a:lnTo>
                  <a:lnTo>
                    <a:pt x="906" y="2116"/>
                  </a:lnTo>
                  <a:lnTo>
                    <a:pt x="827" y="2095"/>
                  </a:lnTo>
                  <a:lnTo>
                    <a:pt x="785" y="2081"/>
                  </a:lnTo>
                  <a:lnTo>
                    <a:pt x="743" y="2066"/>
                  </a:lnTo>
                  <a:lnTo>
                    <a:pt x="722" y="2056"/>
                  </a:lnTo>
                  <a:lnTo>
                    <a:pt x="701" y="2047"/>
                  </a:lnTo>
                  <a:lnTo>
                    <a:pt x="681" y="2037"/>
                  </a:lnTo>
                  <a:lnTo>
                    <a:pt x="661" y="2026"/>
                  </a:lnTo>
                  <a:lnTo>
                    <a:pt x="640" y="2014"/>
                  </a:lnTo>
                  <a:lnTo>
                    <a:pt x="621" y="2002"/>
                  </a:lnTo>
                  <a:lnTo>
                    <a:pt x="602" y="1988"/>
                  </a:lnTo>
                  <a:lnTo>
                    <a:pt x="582" y="1974"/>
                  </a:lnTo>
                  <a:lnTo>
                    <a:pt x="564" y="1959"/>
                  </a:lnTo>
                  <a:lnTo>
                    <a:pt x="547" y="1943"/>
                  </a:lnTo>
                  <a:lnTo>
                    <a:pt x="530" y="1926"/>
                  </a:lnTo>
                  <a:lnTo>
                    <a:pt x="514" y="1907"/>
                  </a:lnTo>
                  <a:lnTo>
                    <a:pt x="499" y="1888"/>
                  </a:lnTo>
                  <a:lnTo>
                    <a:pt x="484" y="1867"/>
                  </a:lnTo>
                  <a:lnTo>
                    <a:pt x="471" y="1845"/>
                  </a:lnTo>
                  <a:lnTo>
                    <a:pt x="458" y="1821"/>
                  </a:lnTo>
                  <a:lnTo>
                    <a:pt x="447" y="1796"/>
                  </a:lnTo>
                  <a:lnTo>
                    <a:pt x="437" y="1771"/>
                  </a:lnTo>
                  <a:lnTo>
                    <a:pt x="428" y="1743"/>
                  </a:lnTo>
                  <a:lnTo>
                    <a:pt x="420" y="1714"/>
                  </a:lnTo>
                  <a:lnTo>
                    <a:pt x="373" y="1518"/>
                  </a:lnTo>
                  <a:lnTo>
                    <a:pt x="331" y="1338"/>
                  </a:lnTo>
                  <a:lnTo>
                    <a:pt x="294" y="1175"/>
                  </a:lnTo>
                  <a:lnTo>
                    <a:pt x="261" y="1027"/>
                  </a:lnTo>
                  <a:lnTo>
                    <a:pt x="204" y="774"/>
                  </a:lnTo>
                  <a:lnTo>
                    <a:pt x="158" y="568"/>
                  </a:lnTo>
                  <a:lnTo>
                    <a:pt x="137" y="481"/>
                  </a:lnTo>
                  <a:lnTo>
                    <a:pt x="118" y="401"/>
                  </a:lnTo>
                  <a:lnTo>
                    <a:pt x="100" y="328"/>
                  </a:lnTo>
                  <a:lnTo>
                    <a:pt x="82" y="262"/>
                  </a:lnTo>
                  <a:lnTo>
                    <a:pt x="62" y="201"/>
                  </a:lnTo>
                  <a:lnTo>
                    <a:pt x="43" y="143"/>
                  </a:lnTo>
                  <a:lnTo>
                    <a:pt x="33" y="115"/>
                  </a:lnTo>
                  <a:lnTo>
                    <a:pt x="23" y="87"/>
                  </a:lnTo>
                  <a:lnTo>
                    <a:pt x="11" y="59"/>
                  </a:lnTo>
                  <a:lnTo>
                    <a:pt x="0" y="32"/>
                  </a:lnTo>
                  <a:lnTo>
                    <a:pt x="26" y="20"/>
                  </a:lnTo>
                  <a:lnTo>
                    <a:pt x="50" y="11"/>
                  </a:lnTo>
                  <a:lnTo>
                    <a:pt x="61" y="8"/>
                  </a:lnTo>
                  <a:lnTo>
                    <a:pt x="72" y="4"/>
                  </a:lnTo>
                  <a:lnTo>
                    <a:pt x="82" y="2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3" y="1"/>
                  </a:lnTo>
                  <a:lnTo>
                    <a:pt x="131" y="3"/>
                  </a:lnTo>
                  <a:lnTo>
                    <a:pt x="137" y="5"/>
                  </a:lnTo>
                  <a:lnTo>
                    <a:pt x="144" y="9"/>
                  </a:lnTo>
                  <a:lnTo>
                    <a:pt x="150" y="12"/>
                  </a:lnTo>
                  <a:lnTo>
                    <a:pt x="162" y="20"/>
                  </a:lnTo>
                  <a:lnTo>
                    <a:pt x="173" y="30"/>
                  </a:lnTo>
                  <a:lnTo>
                    <a:pt x="183" y="42"/>
                  </a:lnTo>
                  <a:lnTo>
                    <a:pt x="193" y="56"/>
                  </a:lnTo>
                  <a:lnTo>
                    <a:pt x="213" y="88"/>
                  </a:lnTo>
                  <a:lnTo>
                    <a:pt x="236" y="124"/>
                  </a:lnTo>
                  <a:lnTo>
                    <a:pt x="305" y="234"/>
                  </a:lnTo>
                  <a:lnTo>
                    <a:pt x="312" y="257"/>
                  </a:lnTo>
                  <a:lnTo>
                    <a:pt x="323" y="282"/>
                  </a:lnTo>
                  <a:lnTo>
                    <a:pt x="336" y="310"/>
                  </a:lnTo>
                  <a:lnTo>
                    <a:pt x="351" y="339"/>
                  </a:lnTo>
                  <a:lnTo>
                    <a:pt x="368" y="369"/>
                  </a:lnTo>
                  <a:lnTo>
                    <a:pt x="387" y="399"/>
                  </a:lnTo>
                  <a:lnTo>
                    <a:pt x="408" y="430"/>
                  </a:lnTo>
                  <a:lnTo>
                    <a:pt x="430" y="461"/>
                  </a:lnTo>
                  <a:lnTo>
                    <a:pt x="454" y="491"/>
                  </a:lnTo>
                  <a:lnTo>
                    <a:pt x="479" y="520"/>
                  </a:lnTo>
                  <a:lnTo>
                    <a:pt x="506" y="548"/>
                  </a:lnTo>
                  <a:lnTo>
                    <a:pt x="533" y="574"/>
                  </a:lnTo>
                  <a:lnTo>
                    <a:pt x="547" y="586"/>
                  </a:lnTo>
                  <a:lnTo>
                    <a:pt x="562" y="596"/>
                  </a:lnTo>
                  <a:lnTo>
                    <a:pt x="576" y="607"/>
                  </a:lnTo>
                  <a:lnTo>
                    <a:pt x="591" y="618"/>
                  </a:lnTo>
                  <a:lnTo>
                    <a:pt x="605" y="626"/>
                  </a:lnTo>
                  <a:lnTo>
                    <a:pt x="620" y="635"/>
                  </a:lnTo>
                  <a:lnTo>
                    <a:pt x="635" y="642"/>
                  </a:lnTo>
                  <a:lnTo>
                    <a:pt x="650" y="649"/>
                  </a:lnTo>
                  <a:lnTo>
                    <a:pt x="707" y="670"/>
                  </a:lnTo>
                  <a:lnTo>
                    <a:pt x="760" y="690"/>
                  </a:lnTo>
                  <a:lnTo>
                    <a:pt x="814" y="708"/>
                  </a:lnTo>
                  <a:lnTo>
                    <a:pt x="866" y="723"/>
                  </a:lnTo>
                  <a:lnTo>
                    <a:pt x="891" y="730"/>
                  </a:lnTo>
                  <a:lnTo>
                    <a:pt x="917" y="737"/>
                  </a:lnTo>
                  <a:lnTo>
                    <a:pt x="943" y="742"/>
                  </a:lnTo>
                  <a:lnTo>
                    <a:pt x="968" y="748"/>
                  </a:lnTo>
                  <a:lnTo>
                    <a:pt x="995" y="752"/>
                  </a:lnTo>
                  <a:lnTo>
                    <a:pt x="1021" y="756"/>
                  </a:lnTo>
                  <a:lnTo>
                    <a:pt x="1047" y="760"/>
                  </a:lnTo>
                  <a:lnTo>
                    <a:pt x="1074" y="764"/>
                  </a:lnTo>
                  <a:lnTo>
                    <a:pt x="1100" y="766"/>
                  </a:lnTo>
                  <a:lnTo>
                    <a:pt x="1128" y="768"/>
                  </a:lnTo>
                  <a:lnTo>
                    <a:pt x="1156" y="769"/>
                  </a:lnTo>
                  <a:lnTo>
                    <a:pt x="1184" y="770"/>
                  </a:lnTo>
                  <a:lnTo>
                    <a:pt x="1213" y="770"/>
                  </a:lnTo>
                  <a:lnTo>
                    <a:pt x="1242" y="770"/>
                  </a:lnTo>
                  <a:lnTo>
                    <a:pt x="1272" y="769"/>
                  </a:lnTo>
                  <a:lnTo>
                    <a:pt x="1303" y="768"/>
                  </a:lnTo>
                  <a:lnTo>
                    <a:pt x="1367" y="764"/>
                  </a:lnTo>
                  <a:lnTo>
                    <a:pt x="1435" y="756"/>
                  </a:lnTo>
                  <a:lnTo>
                    <a:pt x="1507" y="746"/>
                  </a:lnTo>
                  <a:lnTo>
                    <a:pt x="1584" y="735"/>
                  </a:lnTo>
                  <a:close/>
                </a:path>
              </a:pathLst>
            </a:custGeom>
            <a:solidFill>
              <a:srgbClr val="e5a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19880" y="2612880"/>
              <a:ext cx="1417320" cy="1814760"/>
            </a:xfrm>
            <a:custGeom>
              <a:avLst/>
              <a:gdLst/>
              <a:ahLst/>
              <a:rect l="l" t="t" r="r" b="b"/>
              <a:pathLst>
                <a:path w="8231" h="11433">
                  <a:moveTo>
                    <a:pt x="2765" y="565"/>
                  </a:moveTo>
                  <a:lnTo>
                    <a:pt x="2843" y="529"/>
                  </a:lnTo>
                  <a:lnTo>
                    <a:pt x="2921" y="499"/>
                  </a:lnTo>
                  <a:lnTo>
                    <a:pt x="3002" y="473"/>
                  </a:lnTo>
                  <a:lnTo>
                    <a:pt x="3082" y="450"/>
                  </a:lnTo>
                  <a:lnTo>
                    <a:pt x="3164" y="431"/>
                  </a:lnTo>
                  <a:lnTo>
                    <a:pt x="3246" y="415"/>
                  </a:lnTo>
                  <a:lnTo>
                    <a:pt x="3330" y="403"/>
                  </a:lnTo>
                  <a:lnTo>
                    <a:pt x="3413" y="394"/>
                  </a:lnTo>
                  <a:lnTo>
                    <a:pt x="3497" y="388"/>
                  </a:lnTo>
                  <a:lnTo>
                    <a:pt x="3582" y="386"/>
                  </a:lnTo>
                  <a:lnTo>
                    <a:pt x="3667" y="386"/>
                  </a:lnTo>
                  <a:lnTo>
                    <a:pt x="3752" y="389"/>
                  </a:lnTo>
                  <a:lnTo>
                    <a:pt x="3837" y="395"/>
                  </a:lnTo>
                  <a:lnTo>
                    <a:pt x="3923" y="404"/>
                  </a:lnTo>
                  <a:lnTo>
                    <a:pt x="4008" y="415"/>
                  </a:lnTo>
                  <a:lnTo>
                    <a:pt x="4093" y="428"/>
                  </a:lnTo>
                  <a:lnTo>
                    <a:pt x="4178" y="443"/>
                  </a:lnTo>
                  <a:lnTo>
                    <a:pt x="4263" y="461"/>
                  </a:lnTo>
                  <a:lnTo>
                    <a:pt x="4348" y="480"/>
                  </a:lnTo>
                  <a:lnTo>
                    <a:pt x="4431" y="502"/>
                  </a:lnTo>
                  <a:lnTo>
                    <a:pt x="4515" y="524"/>
                  </a:lnTo>
                  <a:lnTo>
                    <a:pt x="4598" y="549"/>
                  </a:lnTo>
                  <a:lnTo>
                    <a:pt x="4680" y="574"/>
                  </a:lnTo>
                  <a:lnTo>
                    <a:pt x="4762" y="601"/>
                  </a:lnTo>
                  <a:lnTo>
                    <a:pt x="4842" y="630"/>
                  </a:lnTo>
                  <a:lnTo>
                    <a:pt x="4921" y="659"/>
                  </a:lnTo>
                  <a:lnTo>
                    <a:pt x="5000" y="690"/>
                  </a:lnTo>
                  <a:lnTo>
                    <a:pt x="5078" y="721"/>
                  </a:lnTo>
                  <a:lnTo>
                    <a:pt x="5154" y="754"/>
                  </a:lnTo>
                  <a:lnTo>
                    <a:pt x="5229" y="786"/>
                  </a:lnTo>
                  <a:lnTo>
                    <a:pt x="5302" y="819"/>
                  </a:lnTo>
                  <a:lnTo>
                    <a:pt x="5374" y="852"/>
                  </a:lnTo>
                  <a:lnTo>
                    <a:pt x="5397" y="863"/>
                  </a:lnTo>
                  <a:lnTo>
                    <a:pt x="5420" y="875"/>
                  </a:lnTo>
                  <a:lnTo>
                    <a:pt x="5446" y="888"/>
                  </a:lnTo>
                  <a:lnTo>
                    <a:pt x="5472" y="903"/>
                  </a:lnTo>
                  <a:lnTo>
                    <a:pt x="5527" y="936"/>
                  </a:lnTo>
                  <a:lnTo>
                    <a:pt x="5587" y="973"/>
                  </a:lnTo>
                  <a:lnTo>
                    <a:pt x="5617" y="994"/>
                  </a:lnTo>
                  <a:lnTo>
                    <a:pt x="5649" y="1015"/>
                  </a:lnTo>
                  <a:lnTo>
                    <a:pt x="5680" y="1038"/>
                  </a:lnTo>
                  <a:lnTo>
                    <a:pt x="5712" y="1060"/>
                  </a:lnTo>
                  <a:lnTo>
                    <a:pt x="5743" y="1085"/>
                  </a:lnTo>
                  <a:lnTo>
                    <a:pt x="5775" y="1110"/>
                  </a:lnTo>
                  <a:lnTo>
                    <a:pt x="5806" y="1134"/>
                  </a:lnTo>
                  <a:lnTo>
                    <a:pt x="5837" y="1160"/>
                  </a:lnTo>
                  <a:lnTo>
                    <a:pt x="5868" y="1187"/>
                  </a:lnTo>
                  <a:lnTo>
                    <a:pt x="5898" y="1214"/>
                  </a:lnTo>
                  <a:lnTo>
                    <a:pt x="5927" y="1242"/>
                  </a:lnTo>
                  <a:lnTo>
                    <a:pt x="5956" y="1269"/>
                  </a:lnTo>
                  <a:lnTo>
                    <a:pt x="5984" y="1297"/>
                  </a:lnTo>
                  <a:lnTo>
                    <a:pt x="6011" y="1325"/>
                  </a:lnTo>
                  <a:lnTo>
                    <a:pt x="6036" y="1353"/>
                  </a:lnTo>
                  <a:lnTo>
                    <a:pt x="6060" y="1382"/>
                  </a:lnTo>
                  <a:lnTo>
                    <a:pt x="6083" y="1411"/>
                  </a:lnTo>
                  <a:lnTo>
                    <a:pt x="6104" y="1439"/>
                  </a:lnTo>
                  <a:lnTo>
                    <a:pt x="6124" y="1468"/>
                  </a:lnTo>
                  <a:lnTo>
                    <a:pt x="6142" y="1496"/>
                  </a:lnTo>
                  <a:lnTo>
                    <a:pt x="6158" y="1525"/>
                  </a:lnTo>
                  <a:lnTo>
                    <a:pt x="6171" y="1553"/>
                  </a:lnTo>
                  <a:lnTo>
                    <a:pt x="6183" y="1579"/>
                  </a:lnTo>
                  <a:lnTo>
                    <a:pt x="6192" y="1607"/>
                  </a:lnTo>
                  <a:lnTo>
                    <a:pt x="6203" y="1637"/>
                  </a:lnTo>
                  <a:lnTo>
                    <a:pt x="6214" y="1669"/>
                  </a:lnTo>
                  <a:lnTo>
                    <a:pt x="6223" y="1703"/>
                  </a:lnTo>
                  <a:lnTo>
                    <a:pt x="6232" y="1737"/>
                  </a:lnTo>
                  <a:lnTo>
                    <a:pt x="6241" y="1772"/>
                  </a:lnTo>
                  <a:lnTo>
                    <a:pt x="6248" y="1808"/>
                  </a:lnTo>
                  <a:lnTo>
                    <a:pt x="6256" y="1845"/>
                  </a:lnTo>
                  <a:lnTo>
                    <a:pt x="6263" y="1883"/>
                  </a:lnTo>
                  <a:lnTo>
                    <a:pt x="6275" y="1960"/>
                  </a:lnTo>
                  <a:lnTo>
                    <a:pt x="6286" y="2039"/>
                  </a:lnTo>
                  <a:lnTo>
                    <a:pt x="6294" y="2120"/>
                  </a:lnTo>
                  <a:lnTo>
                    <a:pt x="6302" y="2201"/>
                  </a:lnTo>
                  <a:lnTo>
                    <a:pt x="6308" y="2284"/>
                  </a:lnTo>
                  <a:lnTo>
                    <a:pt x="6314" y="2365"/>
                  </a:lnTo>
                  <a:lnTo>
                    <a:pt x="6319" y="2447"/>
                  </a:lnTo>
                  <a:lnTo>
                    <a:pt x="6323" y="2527"/>
                  </a:lnTo>
                  <a:lnTo>
                    <a:pt x="6332" y="2681"/>
                  </a:lnTo>
                  <a:lnTo>
                    <a:pt x="6342" y="2822"/>
                  </a:lnTo>
                  <a:lnTo>
                    <a:pt x="6314" y="3007"/>
                  </a:lnTo>
                  <a:lnTo>
                    <a:pt x="6256" y="3007"/>
                  </a:lnTo>
                  <a:lnTo>
                    <a:pt x="6248" y="3021"/>
                  </a:lnTo>
                  <a:lnTo>
                    <a:pt x="6242" y="3035"/>
                  </a:lnTo>
                  <a:lnTo>
                    <a:pt x="6236" y="3049"/>
                  </a:lnTo>
                  <a:lnTo>
                    <a:pt x="6233" y="3064"/>
                  </a:lnTo>
                  <a:lnTo>
                    <a:pt x="6231" y="3079"/>
                  </a:lnTo>
                  <a:lnTo>
                    <a:pt x="6230" y="3094"/>
                  </a:lnTo>
                  <a:lnTo>
                    <a:pt x="6230" y="3109"/>
                  </a:lnTo>
                  <a:lnTo>
                    <a:pt x="6232" y="3125"/>
                  </a:lnTo>
                  <a:lnTo>
                    <a:pt x="6234" y="3141"/>
                  </a:lnTo>
                  <a:lnTo>
                    <a:pt x="6237" y="3157"/>
                  </a:lnTo>
                  <a:lnTo>
                    <a:pt x="6242" y="3173"/>
                  </a:lnTo>
                  <a:lnTo>
                    <a:pt x="6247" y="3189"/>
                  </a:lnTo>
                  <a:lnTo>
                    <a:pt x="6253" y="3205"/>
                  </a:lnTo>
                  <a:lnTo>
                    <a:pt x="6260" y="3220"/>
                  </a:lnTo>
                  <a:lnTo>
                    <a:pt x="6267" y="3236"/>
                  </a:lnTo>
                  <a:lnTo>
                    <a:pt x="6275" y="3252"/>
                  </a:lnTo>
                  <a:lnTo>
                    <a:pt x="6292" y="3284"/>
                  </a:lnTo>
                  <a:lnTo>
                    <a:pt x="6311" y="3316"/>
                  </a:lnTo>
                  <a:lnTo>
                    <a:pt x="6332" y="3346"/>
                  </a:lnTo>
                  <a:lnTo>
                    <a:pt x="6352" y="3375"/>
                  </a:lnTo>
                  <a:lnTo>
                    <a:pt x="6393" y="3427"/>
                  </a:lnTo>
                  <a:lnTo>
                    <a:pt x="6428" y="3473"/>
                  </a:lnTo>
                  <a:lnTo>
                    <a:pt x="6031" y="3714"/>
                  </a:lnTo>
                  <a:lnTo>
                    <a:pt x="6015" y="3728"/>
                  </a:lnTo>
                  <a:lnTo>
                    <a:pt x="6004" y="3741"/>
                  </a:lnTo>
                  <a:lnTo>
                    <a:pt x="5995" y="3755"/>
                  </a:lnTo>
                  <a:lnTo>
                    <a:pt x="5989" y="3768"/>
                  </a:lnTo>
                  <a:lnTo>
                    <a:pt x="5985" y="3781"/>
                  </a:lnTo>
                  <a:lnTo>
                    <a:pt x="5984" y="3794"/>
                  </a:lnTo>
                  <a:lnTo>
                    <a:pt x="5985" y="3807"/>
                  </a:lnTo>
                  <a:lnTo>
                    <a:pt x="5990" y="3820"/>
                  </a:lnTo>
                  <a:lnTo>
                    <a:pt x="5995" y="3832"/>
                  </a:lnTo>
                  <a:lnTo>
                    <a:pt x="6003" y="3845"/>
                  </a:lnTo>
                  <a:lnTo>
                    <a:pt x="6012" y="3857"/>
                  </a:lnTo>
                  <a:lnTo>
                    <a:pt x="6024" y="3870"/>
                  </a:lnTo>
                  <a:lnTo>
                    <a:pt x="6037" y="3882"/>
                  </a:lnTo>
                  <a:lnTo>
                    <a:pt x="6051" y="3895"/>
                  </a:lnTo>
                  <a:lnTo>
                    <a:pt x="6066" y="3906"/>
                  </a:lnTo>
                  <a:lnTo>
                    <a:pt x="6083" y="3918"/>
                  </a:lnTo>
                  <a:lnTo>
                    <a:pt x="6118" y="3943"/>
                  </a:lnTo>
                  <a:lnTo>
                    <a:pt x="6157" y="3966"/>
                  </a:lnTo>
                  <a:lnTo>
                    <a:pt x="6197" y="3989"/>
                  </a:lnTo>
                  <a:lnTo>
                    <a:pt x="6236" y="4013"/>
                  </a:lnTo>
                  <a:lnTo>
                    <a:pt x="6276" y="4035"/>
                  </a:lnTo>
                  <a:lnTo>
                    <a:pt x="6314" y="4057"/>
                  </a:lnTo>
                  <a:lnTo>
                    <a:pt x="6331" y="4068"/>
                  </a:lnTo>
                  <a:lnTo>
                    <a:pt x="6347" y="4079"/>
                  </a:lnTo>
                  <a:lnTo>
                    <a:pt x="6363" y="4090"/>
                  </a:lnTo>
                  <a:lnTo>
                    <a:pt x="6377" y="4101"/>
                  </a:lnTo>
                  <a:lnTo>
                    <a:pt x="6412" y="4132"/>
                  </a:lnTo>
                  <a:lnTo>
                    <a:pt x="6442" y="4169"/>
                  </a:lnTo>
                  <a:lnTo>
                    <a:pt x="6469" y="4211"/>
                  </a:lnTo>
                  <a:lnTo>
                    <a:pt x="6492" y="4258"/>
                  </a:lnTo>
                  <a:lnTo>
                    <a:pt x="6509" y="4311"/>
                  </a:lnTo>
                  <a:lnTo>
                    <a:pt x="6524" y="4367"/>
                  </a:lnTo>
                  <a:lnTo>
                    <a:pt x="6534" y="4428"/>
                  </a:lnTo>
                  <a:lnTo>
                    <a:pt x="6542" y="4491"/>
                  </a:lnTo>
                  <a:lnTo>
                    <a:pt x="6546" y="4558"/>
                  </a:lnTo>
                  <a:lnTo>
                    <a:pt x="6547" y="4629"/>
                  </a:lnTo>
                  <a:lnTo>
                    <a:pt x="6546" y="4702"/>
                  </a:lnTo>
                  <a:lnTo>
                    <a:pt x="6542" y="4778"/>
                  </a:lnTo>
                  <a:lnTo>
                    <a:pt x="6536" y="4856"/>
                  </a:lnTo>
                  <a:lnTo>
                    <a:pt x="6527" y="4935"/>
                  </a:lnTo>
                  <a:lnTo>
                    <a:pt x="6517" y="5015"/>
                  </a:lnTo>
                  <a:lnTo>
                    <a:pt x="6506" y="5097"/>
                  </a:lnTo>
                  <a:lnTo>
                    <a:pt x="6493" y="5178"/>
                  </a:lnTo>
                  <a:lnTo>
                    <a:pt x="6478" y="5261"/>
                  </a:lnTo>
                  <a:lnTo>
                    <a:pt x="6463" y="5342"/>
                  </a:lnTo>
                  <a:lnTo>
                    <a:pt x="6447" y="5424"/>
                  </a:lnTo>
                  <a:lnTo>
                    <a:pt x="6412" y="5585"/>
                  </a:lnTo>
                  <a:lnTo>
                    <a:pt x="6378" y="5739"/>
                  </a:lnTo>
                  <a:lnTo>
                    <a:pt x="6344" y="5885"/>
                  </a:lnTo>
                  <a:lnTo>
                    <a:pt x="6314" y="6020"/>
                  </a:lnTo>
                  <a:lnTo>
                    <a:pt x="6300" y="6081"/>
                  </a:lnTo>
                  <a:lnTo>
                    <a:pt x="6287" y="6140"/>
                  </a:lnTo>
                  <a:lnTo>
                    <a:pt x="6276" y="6194"/>
                  </a:lnTo>
                  <a:lnTo>
                    <a:pt x="6267" y="6243"/>
                  </a:lnTo>
                  <a:lnTo>
                    <a:pt x="6266" y="6251"/>
                  </a:lnTo>
                  <a:lnTo>
                    <a:pt x="6265" y="6260"/>
                  </a:lnTo>
                  <a:lnTo>
                    <a:pt x="6263" y="6270"/>
                  </a:lnTo>
                  <a:lnTo>
                    <a:pt x="6260" y="6282"/>
                  </a:lnTo>
                  <a:lnTo>
                    <a:pt x="6252" y="6308"/>
                  </a:lnTo>
                  <a:lnTo>
                    <a:pt x="6242" y="6337"/>
                  </a:lnTo>
                  <a:lnTo>
                    <a:pt x="6216" y="6402"/>
                  </a:lnTo>
                  <a:lnTo>
                    <a:pt x="6187" y="6472"/>
                  </a:lnTo>
                  <a:lnTo>
                    <a:pt x="6157" y="6539"/>
                  </a:lnTo>
                  <a:lnTo>
                    <a:pt x="6131" y="6599"/>
                  </a:lnTo>
                  <a:lnTo>
                    <a:pt x="6120" y="6624"/>
                  </a:lnTo>
                  <a:lnTo>
                    <a:pt x="6113" y="6644"/>
                  </a:lnTo>
                  <a:lnTo>
                    <a:pt x="6108" y="6660"/>
                  </a:lnTo>
                  <a:lnTo>
                    <a:pt x="6105" y="6670"/>
                  </a:lnTo>
                  <a:lnTo>
                    <a:pt x="6151" y="6642"/>
                  </a:lnTo>
                  <a:lnTo>
                    <a:pt x="6193" y="6611"/>
                  </a:lnTo>
                  <a:lnTo>
                    <a:pt x="6234" y="6578"/>
                  </a:lnTo>
                  <a:lnTo>
                    <a:pt x="6273" y="6542"/>
                  </a:lnTo>
                  <a:lnTo>
                    <a:pt x="6309" y="6505"/>
                  </a:lnTo>
                  <a:lnTo>
                    <a:pt x="6344" y="6465"/>
                  </a:lnTo>
                  <a:lnTo>
                    <a:pt x="6377" y="6423"/>
                  </a:lnTo>
                  <a:lnTo>
                    <a:pt x="6408" y="6379"/>
                  </a:lnTo>
                  <a:lnTo>
                    <a:pt x="6438" y="6334"/>
                  </a:lnTo>
                  <a:lnTo>
                    <a:pt x="6466" y="6288"/>
                  </a:lnTo>
                  <a:lnTo>
                    <a:pt x="6493" y="6240"/>
                  </a:lnTo>
                  <a:lnTo>
                    <a:pt x="6517" y="6191"/>
                  </a:lnTo>
                  <a:lnTo>
                    <a:pt x="6542" y="6141"/>
                  </a:lnTo>
                  <a:lnTo>
                    <a:pt x="6564" y="6090"/>
                  </a:lnTo>
                  <a:lnTo>
                    <a:pt x="6586" y="6038"/>
                  </a:lnTo>
                  <a:lnTo>
                    <a:pt x="6606" y="5986"/>
                  </a:lnTo>
                  <a:lnTo>
                    <a:pt x="6626" y="5932"/>
                  </a:lnTo>
                  <a:lnTo>
                    <a:pt x="6644" y="5880"/>
                  </a:lnTo>
                  <a:lnTo>
                    <a:pt x="6661" y="5826"/>
                  </a:lnTo>
                  <a:lnTo>
                    <a:pt x="6678" y="5774"/>
                  </a:lnTo>
                  <a:lnTo>
                    <a:pt x="6709" y="5667"/>
                  </a:lnTo>
                  <a:lnTo>
                    <a:pt x="6738" y="5563"/>
                  </a:lnTo>
                  <a:lnTo>
                    <a:pt x="6766" y="5463"/>
                  </a:lnTo>
                  <a:lnTo>
                    <a:pt x="6792" y="5365"/>
                  </a:lnTo>
                  <a:lnTo>
                    <a:pt x="6818" y="5274"/>
                  </a:lnTo>
                  <a:lnTo>
                    <a:pt x="6843" y="5189"/>
                  </a:lnTo>
                  <a:lnTo>
                    <a:pt x="6872" y="5216"/>
                  </a:lnTo>
                  <a:lnTo>
                    <a:pt x="6901" y="5241"/>
                  </a:lnTo>
                  <a:lnTo>
                    <a:pt x="6931" y="5263"/>
                  </a:lnTo>
                  <a:lnTo>
                    <a:pt x="6962" y="5283"/>
                  </a:lnTo>
                  <a:lnTo>
                    <a:pt x="6992" y="5301"/>
                  </a:lnTo>
                  <a:lnTo>
                    <a:pt x="7024" y="5316"/>
                  </a:lnTo>
                  <a:lnTo>
                    <a:pt x="7056" y="5328"/>
                  </a:lnTo>
                  <a:lnTo>
                    <a:pt x="7087" y="5338"/>
                  </a:lnTo>
                  <a:lnTo>
                    <a:pt x="7118" y="5346"/>
                  </a:lnTo>
                  <a:lnTo>
                    <a:pt x="7150" y="5351"/>
                  </a:lnTo>
                  <a:lnTo>
                    <a:pt x="7181" y="5354"/>
                  </a:lnTo>
                  <a:lnTo>
                    <a:pt x="7212" y="5354"/>
                  </a:lnTo>
                  <a:lnTo>
                    <a:pt x="7243" y="5351"/>
                  </a:lnTo>
                  <a:lnTo>
                    <a:pt x="7274" y="5346"/>
                  </a:lnTo>
                  <a:lnTo>
                    <a:pt x="7306" y="5338"/>
                  </a:lnTo>
                  <a:lnTo>
                    <a:pt x="7336" y="5327"/>
                  </a:lnTo>
                  <a:lnTo>
                    <a:pt x="7366" y="5315"/>
                  </a:lnTo>
                  <a:lnTo>
                    <a:pt x="7395" y="5298"/>
                  </a:lnTo>
                  <a:lnTo>
                    <a:pt x="7424" y="5279"/>
                  </a:lnTo>
                  <a:lnTo>
                    <a:pt x="7451" y="5258"/>
                  </a:lnTo>
                  <a:lnTo>
                    <a:pt x="7478" y="5234"/>
                  </a:lnTo>
                  <a:lnTo>
                    <a:pt x="7504" y="5207"/>
                  </a:lnTo>
                  <a:lnTo>
                    <a:pt x="7530" y="5177"/>
                  </a:lnTo>
                  <a:lnTo>
                    <a:pt x="7554" y="5144"/>
                  </a:lnTo>
                  <a:lnTo>
                    <a:pt x="7578" y="5109"/>
                  </a:lnTo>
                  <a:lnTo>
                    <a:pt x="7601" y="5070"/>
                  </a:lnTo>
                  <a:lnTo>
                    <a:pt x="7621" y="5028"/>
                  </a:lnTo>
                  <a:lnTo>
                    <a:pt x="7641" y="4983"/>
                  </a:lnTo>
                  <a:lnTo>
                    <a:pt x="7660" y="4936"/>
                  </a:lnTo>
                  <a:lnTo>
                    <a:pt x="7677" y="4886"/>
                  </a:lnTo>
                  <a:lnTo>
                    <a:pt x="7693" y="4832"/>
                  </a:lnTo>
                  <a:lnTo>
                    <a:pt x="7707" y="4775"/>
                  </a:lnTo>
                  <a:lnTo>
                    <a:pt x="7741" y="4736"/>
                  </a:lnTo>
                  <a:lnTo>
                    <a:pt x="7773" y="4697"/>
                  </a:lnTo>
                  <a:lnTo>
                    <a:pt x="7804" y="4654"/>
                  </a:lnTo>
                  <a:lnTo>
                    <a:pt x="7834" y="4610"/>
                  </a:lnTo>
                  <a:lnTo>
                    <a:pt x="7863" y="4564"/>
                  </a:lnTo>
                  <a:lnTo>
                    <a:pt x="7890" y="4517"/>
                  </a:lnTo>
                  <a:lnTo>
                    <a:pt x="7916" y="4467"/>
                  </a:lnTo>
                  <a:lnTo>
                    <a:pt x="7941" y="4418"/>
                  </a:lnTo>
                  <a:lnTo>
                    <a:pt x="7964" y="4367"/>
                  </a:lnTo>
                  <a:lnTo>
                    <a:pt x="7987" y="4315"/>
                  </a:lnTo>
                  <a:lnTo>
                    <a:pt x="8007" y="4262"/>
                  </a:lnTo>
                  <a:lnTo>
                    <a:pt x="8027" y="4209"/>
                  </a:lnTo>
                  <a:lnTo>
                    <a:pt x="8047" y="4156"/>
                  </a:lnTo>
                  <a:lnTo>
                    <a:pt x="8064" y="4103"/>
                  </a:lnTo>
                  <a:lnTo>
                    <a:pt x="8081" y="4049"/>
                  </a:lnTo>
                  <a:lnTo>
                    <a:pt x="8097" y="3997"/>
                  </a:lnTo>
                  <a:lnTo>
                    <a:pt x="8111" y="3944"/>
                  </a:lnTo>
                  <a:lnTo>
                    <a:pt x="8125" y="3891"/>
                  </a:lnTo>
                  <a:lnTo>
                    <a:pt x="8138" y="3841"/>
                  </a:lnTo>
                  <a:lnTo>
                    <a:pt x="8150" y="3791"/>
                  </a:lnTo>
                  <a:lnTo>
                    <a:pt x="8171" y="3694"/>
                  </a:lnTo>
                  <a:lnTo>
                    <a:pt x="8189" y="3604"/>
                  </a:lnTo>
                  <a:lnTo>
                    <a:pt x="8204" y="3521"/>
                  </a:lnTo>
                  <a:lnTo>
                    <a:pt x="8216" y="3449"/>
                  </a:lnTo>
                  <a:lnTo>
                    <a:pt x="8225" y="3385"/>
                  </a:lnTo>
                  <a:lnTo>
                    <a:pt x="8231" y="3335"/>
                  </a:lnTo>
                  <a:lnTo>
                    <a:pt x="8194" y="3355"/>
                  </a:lnTo>
                  <a:lnTo>
                    <a:pt x="8149" y="3379"/>
                  </a:lnTo>
                  <a:lnTo>
                    <a:pt x="8097" y="3406"/>
                  </a:lnTo>
                  <a:lnTo>
                    <a:pt x="8041" y="3434"/>
                  </a:lnTo>
                  <a:lnTo>
                    <a:pt x="7918" y="3494"/>
                  </a:lnTo>
                  <a:lnTo>
                    <a:pt x="7786" y="3557"/>
                  </a:lnTo>
                  <a:lnTo>
                    <a:pt x="7653" y="3621"/>
                  </a:lnTo>
                  <a:lnTo>
                    <a:pt x="7525" y="3682"/>
                  </a:lnTo>
                  <a:lnTo>
                    <a:pt x="7410" y="3737"/>
                  </a:lnTo>
                  <a:lnTo>
                    <a:pt x="7315" y="3784"/>
                  </a:lnTo>
                  <a:lnTo>
                    <a:pt x="7315" y="3847"/>
                  </a:lnTo>
                  <a:lnTo>
                    <a:pt x="7312" y="3905"/>
                  </a:lnTo>
                  <a:lnTo>
                    <a:pt x="7307" y="3959"/>
                  </a:lnTo>
                  <a:lnTo>
                    <a:pt x="7299" y="4006"/>
                  </a:lnTo>
                  <a:lnTo>
                    <a:pt x="7290" y="4050"/>
                  </a:lnTo>
                  <a:lnTo>
                    <a:pt x="7279" y="4089"/>
                  </a:lnTo>
                  <a:lnTo>
                    <a:pt x="7265" y="4123"/>
                  </a:lnTo>
                  <a:lnTo>
                    <a:pt x="7250" y="4153"/>
                  </a:lnTo>
                  <a:lnTo>
                    <a:pt x="7234" y="4179"/>
                  </a:lnTo>
                  <a:lnTo>
                    <a:pt x="7217" y="4201"/>
                  </a:lnTo>
                  <a:lnTo>
                    <a:pt x="7198" y="4221"/>
                  </a:lnTo>
                  <a:lnTo>
                    <a:pt x="7178" y="4237"/>
                  </a:lnTo>
                  <a:lnTo>
                    <a:pt x="7159" y="4249"/>
                  </a:lnTo>
                  <a:lnTo>
                    <a:pt x="7137" y="4259"/>
                  </a:lnTo>
                  <a:lnTo>
                    <a:pt x="7117" y="4267"/>
                  </a:lnTo>
                  <a:lnTo>
                    <a:pt x="7095" y="4271"/>
                  </a:lnTo>
                  <a:lnTo>
                    <a:pt x="7074" y="4274"/>
                  </a:lnTo>
                  <a:lnTo>
                    <a:pt x="7052" y="4275"/>
                  </a:lnTo>
                  <a:lnTo>
                    <a:pt x="7032" y="4274"/>
                  </a:lnTo>
                  <a:lnTo>
                    <a:pt x="7012" y="4272"/>
                  </a:lnTo>
                  <a:lnTo>
                    <a:pt x="6991" y="4269"/>
                  </a:lnTo>
                  <a:lnTo>
                    <a:pt x="6973" y="4265"/>
                  </a:lnTo>
                  <a:lnTo>
                    <a:pt x="6955" y="4259"/>
                  </a:lnTo>
                  <a:lnTo>
                    <a:pt x="6938" y="4253"/>
                  </a:lnTo>
                  <a:lnTo>
                    <a:pt x="6923" y="4246"/>
                  </a:lnTo>
                  <a:lnTo>
                    <a:pt x="6909" y="4240"/>
                  </a:lnTo>
                  <a:lnTo>
                    <a:pt x="6896" y="4234"/>
                  </a:lnTo>
                  <a:lnTo>
                    <a:pt x="6886" y="4227"/>
                  </a:lnTo>
                  <a:lnTo>
                    <a:pt x="6878" y="4222"/>
                  </a:lnTo>
                  <a:lnTo>
                    <a:pt x="6871" y="4217"/>
                  </a:lnTo>
                  <a:lnTo>
                    <a:pt x="6868" y="4213"/>
                  </a:lnTo>
                  <a:lnTo>
                    <a:pt x="6866" y="4210"/>
                  </a:lnTo>
                  <a:lnTo>
                    <a:pt x="6865" y="4178"/>
                  </a:lnTo>
                  <a:lnTo>
                    <a:pt x="6864" y="4118"/>
                  </a:lnTo>
                  <a:lnTo>
                    <a:pt x="6863" y="4033"/>
                  </a:lnTo>
                  <a:lnTo>
                    <a:pt x="6863" y="3930"/>
                  </a:lnTo>
                  <a:lnTo>
                    <a:pt x="6865" y="3683"/>
                  </a:lnTo>
                  <a:lnTo>
                    <a:pt x="6868" y="3410"/>
                  </a:lnTo>
                  <a:lnTo>
                    <a:pt x="6871" y="3145"/>
                  </a:lnTo>
                  <a:lnTo>
                    <a:pt x="6874" y="2922"/>
                  </a:lnTo>
                  <a:lnTo>
                    <a:pt x="6877" y="2774"/>
                  </a:lnTo>
                  <a:lnTo>
                    <a:pt x="6878" y="2735"/>
                  </a:lnTo>
                  <a:lnTo>
                    <a:pt x="6803" y="2592"/>
                  </a:lnTo>
                  <a:lnTo>
                    <a:pt x="6803" y="2548"/>
                  </a:lnTo>
                  <a:lnTo>
                    <a:pt x="6802" y="2504"/>
                  </a:lnTo>
                  <a:lnTo>
                    <a:pt x="6800" y="2460"/>
                  </a:lnTo>
                  <a:lnTo>
                    <a:pt x="6798" y="2416"/>
                  </a:lnTo>
                  <a:lnTo>
                    <a:pt x="6793" y="2329"/>
                  </a:lnTo>
                  <a:lnTo>
                    <a:pt x="6785" y="2242"/>
                  </a:lnTo>
                  <a:lnTo>
                    <a:pt x="6776" y="2156"/>
                  </a:lnTo>
                  <a:lnTo>
                    <a:pt x="6764" y="2072"/>
                  </a:lnTo>
                  <a:lnTo>
                    <a:pt x="6751" y="1988"/>
                  </a:lnTo>
                  <a:lnTo>
                    <a:pt x="6736" y="1904"/>
                  </a:lnTo>
                  <a:lnTo>
                    <a:pt x="6719" y="1822"/>
                  </a:lnTo>
                  <a:lnTo>
                    <a:pt x="6701" y="1740"/>
                  </a:lnTo>
                  <a:lnTo>
                    <a:pt x="6680" y="1660"/>
                  </a:lnTo>
                  <a:lnTo>
                    <a:pt x="6660" y="1580"/>
                  </a:lnTo>
                  <a:lnTo>
                    <a:pt x="6636" y="1502"/>
                  </a:lnTo>
                  <a:lnTo>
                    <a:pt x="6613" y="1424"/>
                  </a:lnTo>
                  <a:lnTo>
                    <a:pt x="6587" y="1348"/>
                  </a:lnTo>
                  <a:lnTo>
                    <a:pt x="6561" y="1273"/>
                  </a:lnTo>
                  <a:lnTo>
                    <a:pt x="6549" y="1243"/>
                  </a:lnTo>
                  <a:lnTo>
                    <a:pt x="6536" y="1213"/>
                  </a:lnTo>
                  <a:lnTo>
                    <a:pt x="6521" y="1183"/>
                  </a:lnTo>
                  <a:lnTo>
                    <a:pt x="6504" y="1152"/>
                  </a:lnTo>
                  <a:lnTo>
                    <a:pt x="6486" y="1122"/>
                  </a:lnTo>
                  <a:lnTo>
                    <a:pt x="6467" y="1094"/>
                  </a:lnTo>
                  <a:lnTo>
                    <a:pt x="6447" y="1065"/>
                  </a:lnTo>
                  <a:lnTo>
                    <a:pt x="6424" y="1036"/>
                  </a:lnTo>
                  <a:lnTo>
                    <a:pt x="6401" y="1007"/>
                  </a:lnTo>
                  <a:lnTo>
                    <a:pt x="6378" y="979"/>
                  </a:lnTo>
                  <a:lnTo>
                    <a:pt x="6353" y="951"/>
                  </a:lnTo>
                  <a:lnTo>
                    <a:pt x="6327" y="923"/>
                  </a:lnTo>
                  <a:lnTo>
                    <a:pt x="6302" y="896"/>
                  </a:lnTo>
                  <a:lnTo>
                    <a:pt x="6275" y="870"/>
                  </a:lnTo>
                  <a:lnTo>
                    <a:pt x="6248" y="845"/>
                  </a:lnTo>
                  <a:lnTo>
                    <a:pt x="6221" y="819"/>
                  </a:lnTo>
                  <a:lnTo>
                    <a:pt x="6193" y="794"/>
                  </a:lnTo>
                  <a:lnTo>
                    <a:pt x="6166" y="771"/>
                  </a:lnTo>
                  <a:lnTo>
                    <a:pt x="6138" y="748"/>
                  </a:lnTo>
                  <a:lnTo>
                    <a:pt x="6110" y="726"/>
                  </a:lnTo>
                  <a:lnTo>
                    <a:pt x="6054" y="683"/>
                  </a:lnTo>
                  <a:lnTo>
                    <a:pt x="6000" y="644"/>
                  </a:lnTo>
                  <a:lnTo>
                    <a:pt x="5948" y="609"/>
                  </a:lnTo>
                  <a:lnTo>
                    <a:pt x="5900" y="579"/>
                  </a:lnTo>
                  <a:lnTo>
                    <a:pt x="5853" y="552"/>
                  </a:lnTo>
                  <a:lnTo>
                    <a:pt x="5812" y="529"/>
                  </a:lnTo>
                  <a:lnTo>
                    <a:pt x="5801" y="529"/>
                  </a:lnTo>
                  <a:lnTo>
                    <a:pt x="5789" y="527"/>
                  </a:lnTo>
                  <a:lnTo>
                    <a:pt x="5777" y="523"/>
                  </a:lnTo>
                  <a:lnTo>
                    <a:pt x="5764" y="519"/>
                  </a:lnTo>
                  <a:lnTo>
                    <a:pt x="5738" y="508"/>
                  </a:lnTo>
                  <a:lnTo>
                    <a:pt x="5711" y="495"/>
                  </a:lnTo>
                  <a:lnTo>
                    <a:pt x="5683" y="482"/>
                  </a:lnTo>
                  <a:lnTo>
                    <a:pt x="5656" y="472"/>
                  </a:lnTo>
                  <a:lnTo>
                    <a:pt x="5642" y="467"/>
                  </a:lnTo>
                  <a:lnTo>
                    <a:pt x="5629" y="464"/>
                  </a:lnTo>
                  <a:lnTo>
                    <a:pt x="5616" y="462"/>
                  </a:lnTo>
                  <a:lnTo>
                    <a:pt x="5605" y="461"/>
                  </a:lnTo>
                  <a:lnTo>
                    <a:pt x="5503" y="414"/>
                  </a:lnTo>
                  <a:lnTo>
                    <a:pt x="5399" y="370"/>
                  </a:lnTo>
                  <a:lnTo>
                    <a:pt x="5293" y="327"/>
                  </a:lnTo>
                  <a:lnTo>
                    <a:pt x="5185" y="286"/>
                  </a:lnTo>
                  <a:lnTo>
                    <a:pt x="5076" y="247"/>
                  </a:lnTo>
                  <a:lnTo>
                    <a:pt x="4965" y="211"/>
                  </a:lnTo>
                  <a:lnTo>
                    <a:pt x="4854" y="178"/>
                  </a:lnTo>
                  <a:lnTo>
                    <a:pt x="4740" y="147"/>
                  </a:lnTo>
                  <a:lnTo>
                    <a:pt x="4625" y="118"/>
                  </a:lnTo>
                  <a:lnTo>
                    <a:pt x="4510" y="92"/>
                  </a:lnTo>
                  <a:lnTo>
                    <a:pt x="4393" y="69"/>
                  </a:lnTo>
                  <a:lnTo>
                    <a:pt x="4275" y="50"/>
                  </a:lnTo>
                  <a:lnTo>
                    <a:pt x="4156" y="33"/>
                  </a:lnTo>
                  <a:lnTo>
                    <a:pt x="4036" y="19"/>
                  </a:lnTo>
                  <a:lnTo>
                    <a:pt x="3915" y="9"/>
                  </a:lnTo>
                  <a:lnTo>
                    <a:pt x="3794" y="3"/>
                  </a:lnTo>
                  <a:lnTo>
                    <a:pt x="3673" y="0"/>
                  </a:lnTo>
                  <a:lnTo>
                    <a:pt x="3551" y="1"/>
                  </a:lnTo>
                  <a:lnTo>
                    <a:pt x="3429" y="5"/>
                  </a:lnTo>
                  <a:lnTo>
                    <a:pt x="3306" y="14"/>
                  </a:lnTo>
                  <a:lnTo>
                    <a:pt x="3184" y="25"/>
                  </a:lnTo>
                  <a:lnTo>
                    <a:pt x="3062" y="43"/>
                  </a:lnTo>
                  <a:lnTo>
                    <a:pt x="2938" y="63"/>
                  </a:lnTo>
                  <a:lnTo>
                    <a:pt x="2816" y="88"/>
                  </a:lnTo>
                  <a:lnTo>
                    <a:pt x="2694" y="118"/>
                  </a:lnTo>
                  <a:lnTo>
                    <a:pt x="2573" y="152"/>
                  </a:lnTo>
                  <a:lnTo>
                    <a:pt x="2451" y="191"/>
                  </a:lnTo>
                  <a:lnTo>
                    <a:pt x="2330" y="235"/>
                  </a:lnTo>
                  <a:lnTo>
                    <a:pt x="2210" y="284"/>
                  </a:lnTo>
                  <a:lnTo>
                    <a:pt x="2091" y="337"/>
                  </a:lnTo>
                  <a:lnTo>
                    <a:pt x="1972" y="396"/>
                  </a:lnTo>
                  <a:lnTo>
                    <a:pt x="1855" y="461"/>
                  </a:lnTo>
                  <a:lnTo>
                    <a:pt x="1843" y="467"/>
                  </a:lnTo>
                  <a:lnTo>
                    <a:pt x="1832" y="475"/>
                  </a:lnTo>
                  <a:lnTo>
                    <a:pt x="1820" y="482"/>
                  </a:lnTo>
                  <a:lnTo>
                    <a:pt x="1808" y="492"/>
                  </a:lnTo>
                  <a:lnTo>
                    <a:pt x="1784" y="511"/>
                  </a:lnTo>
                  <a:lnTo>
                    <a:pt x="1760" y="535"/>
                  </a:lnTo>
                  <a:lnTo>
                    <a:pt x="1736" y="559"/>
                  </a:lnTo>
                  <a:lnTo>
                    <a:pt x="1713" y="587"/>
                  </a:lnTo>
                  <a:lnTo>
                    <a:pt x="1690" y="616"/>
                  </a:lnTo>
                  <a:lnTo>
                    <a:pt x="1667" y="646"/>
                  </a:lnTo>
                  <a:lnTo>
                    <a:pt x="1646" y="677"/>
                  </a:lnTo>
                  <a:lnTo>
                    <a:pt x="1627" y="710"/>
                  </a:lnTo>
                  <a:lnTo>
                    <a:pt x="1608" y="742"/>
                  </a:lnTo>
                  <a:lnTo>
                    <a:pt x="1592" y="773"/>
                  </a:lnTo>
                  <a:lnTo>
                    <a:pt x="1577" y="805"/>
                  </a:lnTo>
                  <a:lnTo>
                    <a:pt x="1566" y="835"/>
                  </a:lnTo>
                  <a:lnTo>
                    <a:pt x="1560" y="850"/>
                  </a:lnTo>
                  <a:lnTo>
                    <a:pt x="1556" y="865"/>
                  </a:lnTo>
                  <a:lnTo>
                    <a:pt x="1553" y="879"/>
                  </a:lnTo>
                  <a:lnTo>
                    <a:pt x="1549" y="893"/>
                  </a:lnTo>
                  <a:lnTo>
                    <a:pt x="1523" y="981"/>
                  </a:lnTo>
                  <a:lnTo>
                    <a:pt x="1499" y="1070"/>
                  </a:lnTo>
                  <a:lnTo>
                    <a:pt x="1487" y="1116"/>
                  </a:lnTo>
                  <a:lnTo>
                    <a:pt x="1475" y="1161"/>
                  </a:lnTo>
                  <a:lnTo>
                    <a:pt x="1465" y="1207"/>
                  </a:lnTo>
                  <a:lnTo>
                    <a:pt x="1455" y="1253"/>
                  </a:lnTo>
                  <a:lnTo>
                    <a:pt x="1445" y="1300"/>
                  </a:lnTo>
                  <a:lnTo>
                    <a:pt x="1436" y="1347"/>
                  </a:lnTo>
                  <a:lnTo>
                    <a:pt x="1427" y="1394"/>
                  </a:lnTo>
                  <a:lnTo>
                    <a:pt x="1420" y="1441"/>
                  </a:lnTo>
                  <a:lnTo>
                    <a:pt x="1412" y="1489"/>
                  </a:lnTo>
                  <a:lnTo>
                    <a:pt x="1406" y="1537"/>
                  </a:lnTo>
                  <a:lnTo>
                    <a:pt x="1399" y="1585"/>
                  </a:lnTo>
                  <a:lnTo>
                    <a:pt x="1394" y="1633"/>
                  </a:lnTo>
                  <a:lnTo>
                    <a:pt x="1389" y="1682"/>
                  </a:lnTo>
                  <a:lnTo>
                    <a:pt x="1385" y="1731"/>
                  </a:lnTo>
                  <a:lnTo>
                    <a:pt x="1381" y="1780"/>
                  </a:lnTo>
                  <a:lnTo>
                    <a:pt x="1379" y="1829"/>
                  </a:lnTo>
                  <a:lnTo>
                    <a:pt x="1377" y="1879"/>
                  </a:lnTo>
                  <a:lnTo>
                    <a:pt x="1376" y="1928"/>
                  </a:lnTo>
                  <a:lnTo>
                    <a:pt x="1376" y="1977"/>
                  </a:lnTo>
                  <a:lnTo>
                    <a:pt x="1376" y="2028"/>
                  </a:lnTo>
                  <a:lnTo>
                    <a:pt x="1378" y="2077"/>
                  </a:lnTo>
                  <a:lnTo>
                    <a:pt x="1379" y="2127"/>
                  </a:lnTo>
                  <a:lnTo>
                    <a:pt x="1382" y="2178"/>
                  </a:lnTo>
                  <a:lnTo>
                    <a:pt x="1386" y="2228"/>
                  </a:lnTo>
                  <a:lnTo>
                    <a:pt x="1391" y="2279"/>
                  </a:lnTo>
                  <a:lnTo>
                    <a:pt x="1397" y="2329"/>
                  </a:lnTo>
                  <a:lnTo>
                    <a:pt x="1404" y="2379"/>
                  </a:lnTo>
                  <a:lnTo>
                    <a:pt x="1411" y="2431"/>
                  </a:lnTo>
                  <a:lnTo>
                    <a:pt x="1412" y="2444"/>
                  </a:lnTo>
                  <a:lnTo>
                    <a:pt x="1415" y="2458"/>
                  </a:lnTo>
                  <a:lnTo>
                    <a:pt x="1420" y="2472"/>
                  </a:lnTo>
                  <a:lnTo>
                    <a:pt x="1425" y="2485"/>
                  </a:lnTo>
                  <a:lnTo>
                    <a:pt x="1430" y="2499"/>
                  </a:lnTo>
                  <a:lnTo>
                    <a:pt x="1436" y="2513"/>
                  </a:lnTo>
                  <a:lnTo>
                    <a:pt x="1439" y="2526"/>
                  </a:lnTo>
                  <a:lnTo>
                    <a:pt x="1440" y="2540"/>
                  </a:lnTo>
                  <a:lnTo>
                    <a:pt x="1441" y="2496"/>
                  </a:lnTo>
                  <a:lnTo>
                    <a:pt x="1442" y="2453"/>
                  </a:lnTo>
                  <a:lnTo>
                    <a:pt x="1445" y="2410"/>
                  </a:lnTo>
                  <a:lnTo>
                    <a:pt x="1451" y="2368"/>
                  </a:lnTo>
                  <a:lnTo>
                    <a:pt x="1456" y="2326"/>
                  </a:lnTo>
                  <a:lnTo>
                    <a:pt x="1463" y="2284"/>
                  </a:lnTo>
                  <a:lnTo>
                    <a:pt x="1470" y="2242"/>
                  </a:lnTo>
                  <a:lnTo>
                    <a:pt x="1479" y="2201"/>
                  </a:lnTo>
                  <a:lnTo>
                    <a:pt x="1488" y="2159"/>
                  </a:lnTo>
                  <a:lnTo>
                    <a:pt x="1499" y="2120"/>
                  </a:lnTo>
                  <a:lnTo>
                    <a:pt x="1511" y="2079"/>
                  </a:lnTo>
                  <a:lnTo>
                    <a:pt x="1523" y="2038"/>
                  </a:lnTo>
                  <a:lnTo>
                    <a:pt x="1536" y="1999"/>
                  </a:lnTo>
                  <a:lnTo>
                    <a:pt x="1548" y="1959"/>
                  </a:lnTo>
                  <a:lnTo>
                    <a:pt x="1562" y="1919"/>
                  </a:lnTo>
                  <a:lnTo>
                    <a:pt x="1576" y="1881"/>
                  </a:lnTo>
                  <a:lnTo>
                    <a:pt x="1606" y="1802"/>
                  </a:lnTo>
                  <a:lnTo>
                    <a:pt x="1637" y="1725"/>
                  </a:lnTo>
                  <a:lnTo>
                    <a:pt x="1670" y="1649"/>
                  </a:lnTo>
                  <a:lnTo>
                    <a:pt x="1703" y="1573"/>
                  </a:lnTo>
                  <a:lnTo>
                    <a:pt x="1735" y="1498"/>
                  </a:lnTo>
                  <a:lnTo>
                    <a:pt x="1766" y="1422"/>
                  </a:lnTo>
                  <a:lnTo>
                    <a:pt x="1797" y="1348"/>
                  </a:lnTo>
                  <a:lnTo>
                    <a:pt x="1826" y="1273"/>
                  </a:lnTo>
                  <a:lnTo>
                    <a:pt x="1827" y="1265"/>
                  </a:lnTo>
                  <a:lnTo>
                    <a:pt x="1830" y="1257"/>
                  </a:lnTo>
                  <a:lnTo>
                    <a:pt x="1837" y="1247"/>
                  </a:lnTo>
                  <a:lnTo>
                    <a:pt x="1844" y="1236"/>
                  </a:lnTo>
                  <a:lnTo>
                    <a:pt x="1864" y="1211"/>
                  </a:lnTo>
                  <a:lnTo>
                    <a:pt x="1887" y="1187"/>
                  </a:lnTo>
                  <a:lnTo>
                    <a:pt x="1912" y="1161"/>
                  </a:lnTo>
                  <a:lnTo>
                    <a:pt x="1936" y="1136"/>
                  </a:lnTo>
                  <a:lnTo>
                    <a:pt x="1956" y="1116"/>
                  </a:lnTo>
                  <a:lnTo>
                    <a:pt x="1970" y="1100"/>
                  </a:lnTo>
                  <a:lnTo>
                    <a:pt x="1958" y="1083"/>
                  </a:lnTo>
                  <a:lnTo>
                    <a:pt x="1944" y="1063"/>
                  </a:lnTo>
                  <a:lnTo>
                    <a:pt x="1930" y="1042"/>
                  </a:lnTo>
                  <a:lnTo>
                    <a:pt x="1916" y="1018"/>
                  </a:lnTo>
                  <a:lnTo>
                    <a:pt x="1910" y="1007"/>
                  </a:lnTo>
                  <a:lnTo>
                    <a:pt x="1903" y="994"/>
                  </a:lnTo>
                  <a:lnTo>
                    <a:pt x="1898" y="981"/>
                  </a:lnTo>
                  <a:lnTo>
                    <a:pt x="1893" y="968"/>
                  </a:lnTo>
                  <a:lnTo>
                    <a:pt x="1889" y="955"/>
                  </a:lnTo>
                  <a:lnTo>
                    <a:pt x="1886" y="941"/>
                  </a:lnTo>
                  <a:lnTo>
                    <a:pt x="1884" y="928"/>
                  </a:lnTo>
                  <a:lnTo>
                    <a:pt x="1883" y="915"/>
                  </a:lnTo>
                  <a:lnTo>
                    <a:pt x="1903" y="903"/>
                  </a:lnTo>
                  <a:lnTo>
                    <a:pt x="1925" y="889"/>
                  </a:lnTo>
                  <a:lnTo>
                    <a:pt x="1947" y="876"/>
                  </a:lnTo>
                  <a:lnTo>
                    <a:pt x="1971" y="864"/>
                  </a:lnTo>
                  <a:lnTo>
                    <a:pt x="1996" y="851"/>
                  </a:lnTo>
                  <a:lnTo>
                    <a:pt x="2022" y="839"/>
                  </a:lnTo>
                  <a:lnTo>
                    <a:pt x="2049" y="828"/>
                  </a:lnTo>
                  <a:lnTo>
                    <a:pt x="2078" y="816"/>
                  </a:lnTo>
                  <a:lnTo>
                    <a:pt x="2136" y="792"/>
                  </a:lnTo>
                  <a:lnTo>
                    <a:pt x="2197" y="770"/>
                  </a:lnTo>
                  <a:lnTo>
                    <a:pt x="2261" y="748"/>
                  </a:lnTo>
                  <a:lnTo>
                    <a:pt x="2324" y="727"/>
                  </a:lnTo>
                  <a:lnTo>
                    <a:pt x="2450" y="686"/>
                  </a:lnTo>
                  <a:lnTo>
                    <a:pt x="2571" y="645"/>
                  </a:lnTo>
                  <a:lnTo>
                    <a:pt x="2626" y="625"/>
                  </a:lnTo>
                  <a:lnTo>
                    <a:pt x="2678" y="604"/>
                  </a:lnTo>
                  <a:lnTo>
                    <a:pt x="2701" y="595"/>
                  </a:lnTo>
                  <a:lnTo>
                    <a:pt x="2724" y="585"/>
                  </a:lnTo>
                  <a:lnTo>
                    <a:pt x="2745" y="574"/>
                  </a:lnTo>
                  <a:lnTo>
                    <a:pt x="2765" y="565"/>
                  </a:lnTo>
                  <a:close/>
                  <a:moveTo>
                    <a:pt x="5058" y="2793"/>
                  </a:moveTo>
                  <a:lnTo>
                    <a:pt x="5043" y="2822"/>
                  </a:lnTo>
                  <a:lnTo>
                    <a:pt x="5025" y="2848"/>
                  </a:lnTo>
                  <a:lnTo>
                    <a:pt x="5006" y="2873"/>
                  </a:lnTo>
                  <a:lnTo>
                    <a:pt x="4985" y="2895"/>
                  </a:lnTo>
                  <a:lnTo>
                    <a:pt x="4962" y="2917"/>
                  </a:lnTo>
                  <a:lnTo>
                    <a:pt x="4939" y="2936"/>
                  </a:lnTo>
                  <a:lnTo>
                    <a:pt x="4913" y="2955"/>
                  </a:lnTo>
                  <a:lnTo>
                    <a:pt x="4886" y="2972"/>
                  </a:lnTo>
                  <a:lnTo>
                    <a:pt x="4858" y="2988"/>
                  </a:lnTo>
                  <a:lnTo>
                    <a:pt x="4829" y="3003"/>
                  </a:lnTo>
                  <a:lnTo>
                    <a:pt x="4799" y="3017"/>
                  </a:lnTo>
                  <a:lnTo>
                    <a:pt x="4769" y="3031"/>
                  </a:lnTo>
                  <a:lnTo>
                    <a:pt x="4707" y="3059"/>
                  </a:lnTo>
                  <a:lnTo>
                    <a:pt x="4644" y="3086"/>
                  </a:lnTo>
                  <a:lnTo>
                    <a:pt x="4611" y="3099"/>
                  </a:lnTo>
                  <a:lnTo>
                    <a:pt x="4580" y="3113"/>
                  </a:lnTo>
                  <a:lnTo>
                    <a:pt x="4549" y="3128"/>
                  </a:lnTo>
                  <a:lnTo>
                    <a:pt x="4518" y="3143"/>
                  </a:lnTo>
                  <a:lnTo>
                    <a:pt x="4488" y="3159"/>
                  </a:lnTo>
                  <a:lnTo>
                    <a:pt x="4458" y="3176"/>
                  </a:lnTo>
                  <a:lnTo>
                    <a:pt x="4430" y="3194"/>
                  </a:lnTo>
                  <a:lnTo>
                    <a:pt x="4402" y="3215"/>
                  </a:lnTo>
                  <a:lnTo>
                    <a:pt x="4376" y="3236"/>
                  </a:lnTo>
                  <a:lnTo>
                    <a:pt x="4351" y="3259"/>
                  </a:lnTo>
                  <a:lnTo>
                    <a:pt x="4326" y="3283"/>
                  </a:lnTo>
                  <a:lnTo>
                    <a:pt x="4305" y="3309"/>
                  </a:lnTo>
                  <a:lnTo>
                    <a:pt x="4283" y="3338"/>
                  </a:lnTo>
                  <a:lnTo>
                    <a:pt x="4265" y="3369"/>
                  </a:lnTo>
                  <a:lnTo>
                    <a:pt x="4248" y="3402"/>
                  </a:lnTo>
                  <a:lnTo>
                    <a:pt x="4234" y="3439"/>
                  </a:lnTo>
                  <a:lnTo>
                    <a:pt x="4233" y="3446"/>
                  </a:lnTo>
                  <a:lnTo>
                    <a:pt x="4231" y="3456"/>
                  </a:lnTo>
                  <a:lnTo>
                    <a:pt x="4229" y="3468"/>
                  </a:lnTo>
                  <a:lnTo>
                    <a:pt x="4224" y="3482"/>
                  </a:lnTo>
                  <a:lnTo>
                    <a:pt x="4216" y="3512"/>
                  </a:lnTo>
                  <a:lnTo>
                    <a:pt x="4205" y="3545"/>
                  </a:lnTo>
                  <a:lnTo>
                    <a:pt x="4194" y="3578"/>
                  </a:lnTo>
                  <a:lnTo>
                    <a:pt x="4185" y="3608"/>
                  </a:lnTo>
                  <a:lnTo>
                    <a:pt x="4181" y="3622"/>
                  </a:lnTo>
                  <a:lnTo>
                    <a:pt x="4178" y="3634"/>
                  </a:lnTo>
                  <a:lnTo>
                    <a:pt x="4177" y="3644"/>
                  </a:lnTo>
                  <a:lnTo>
                    <a:pt x="4176" y="3651"/>
                  </a:lnTo>
                  <a:lnTo>
                    <a:pt x="4187" y="3658"/>
                  </a:lnTo>
                  <a:lnTo>
                    <a:pt x="4199" y="3664"/>
                  </a:lnTo>
                  <a:lnTo>
                    <a:pt x="4210" y="3668"/>
                  </a:lnTo>
                  <a:lnTo>
                    <a:pt x="4223" y="3673"/>
                  </a:lnTo>
                  <a:lnTo>
                    <a:pt x="4236" y="3677"/>
                  </a:lnTo>
                  <a:lnTo>
                    <a:pt x="4250" y="3679"/>
                  </a:lnTo>
                  <a:lnTo>
                    <a:pt x="4263" y="3681"/>
                  </a:lnTo>
                  <a:lnTo>
                    <a:pt x="4277" y="3683"/>
                  </a:lnTo>
                  <a:lnTo>
                    <a:pt x="4307" y="3684"/>
                  </a:lnTo>
                  <a:lnTo>
                    <a:pt x="4337" y="3684"/>
                  </a:lnTo>
                  <a:lnTo>
                    <a:pt x="4367" y="3682"/>
                  </a:lnTo>
                  <a:lnTo>
                    <a:pt x="4399" y="3679"/>
                  </a:lnTo>
                  <a:lnTo>
                    <a:pt x="4462" y="3672"/>
                  </a:lnTo>
                  <a:lnTo>
                    <a:pt x="4526" y="3662"/>
                  </a:lnTo>
                  <a:lnTo>
                    <a:pt x="4556" y="3658"/>
                  </a:lnTo>
                  <a:lnTo>
                    <a:pt x="4586" y="3654"/>
                  </a:lnTo>
                  <a:lnTo>
                    <a:pt x="4615" y="3652"/>
                  </a:lnTo>
                  <a:lnTo>
                    <a:pt x="4643" y="3651"/>
                  </a:lnTo>
                  <a:lnTo>
                    <a:pt x="4585" y="3726"/>
                  </a:lnTo>
                  <a:lnTo>
                    <a:pt x="4558" y="3727"/>
                  </a:lnTo>
                  <a:lnTo>
                    <a:pt x="4531" y="3731"/>
                  </a:lnTo>
                  <a:lnTo>
                    <a:pt x="4503" y="3736"/>
                  </a:lnTo>
                  <a:lnTo>
                    <a:pt x="4476" y="3742"/>
                  </a:lnTo>
                  <a:lnTo>
                    <a:pt x="4448" y="3751"/>
                  </a:lnTo>
                  <a:lnTo>
                    <a:pt x="4422" y="3760"/>
                  </a:lnTo>
                  <a:lnTo>
                    <a:pt x="4394" y="3768"/>
                  </a:lnTo>
                  <a:lnTo>
                    <a:pt x="4366" y="3778"/>
                  </a:lnTo>
                  <a:lnTo>
                    <a:pt x="4339" y="3787"/>
                  </a:lnTo>
                  <a:lnTo>
                    <a:pt x="4311" y="3797"/>
                  </a:lnTo>
                  <a:lnTo>
                    <a:pt x="4283" y="3806"/>
                  </a:lnTo>
                  <a:lnTo>
                    <a:pt x="4256" y="3814"/>
                  </a:lnTo>
                  <a:lnTo>
                    <a:pt x="4229" y="3821"/>
                  </a:lnTo>
                  <a:lnTo>
                    <a:pt x="4202" y="3826"/>
                  </a:lnTo>
                  <a:lnTo>
                    <a:pt x="4188" y="3827"/>
                  </a:lnTo>
                  <a:lnTo>
                    <a:pt x="4174" y="3829"/>
                  </a:lnTo>
                  <a:lnTo>
                    <a:pt x="4161" y="3829"/>
                  </a:lnTo>
                  <a:lnTo>
                    <a:pt x="4147" y="3830"/>
                  </a:lnTo>
                  <a:lnTo>
                    <a:pt x="4146" y="3850"/>
                  </a:lnTo>
                  <a:lnTo>
                    <a:pt x="4144" y="3870"/>
                  </a:lnTo>
                  <a:lnTo>
                    <a:pt x="4140" y="3890"/>
                  </a:lnTo>
                  <a:lnTo>
                    <a:pt x="4134" y="3911"/>
                  </a:lnTo>
                  <a:lnTo>
                    <a:pt x="4128" y="3930"/>
                  </a:lnTo>
                  <a:lnTo>
                    <a:pt x="4120" y="3950"/>
                  </a:lnTo>
                  <a:lnTo>
                    <a:pt x="4112" y="3971"/>
                  </a:lnTo>
                  <a:lnTo>
                    <a:pt x="4101" y="3991"/>
                  </a:lnTo>
                  <a:lnTo>
                    <a:pt x="4080" y="4032"/>
                  </a:lnTo>
                  <a:lnTo>
                    <a:pt x="4055" y="4074"/>
                  </a:lnTo>
                  <a:lnTo>
                    <a:pt x="4028" y="4116"/>
                  </a:lnTo>
                  <a:lnTo>
                    <a:pt x="4000" y="4157"/>
                  </a:lnTo>
                  <a:lnTo>
                    <a:pt x="3973" y="4200"/>
                  </a:lnTo>
                  <a:lnTo>
                    <a:pt x="3947" y="4243"/>
                  </a:lnTo>
                  <a:lnTo>
                    <a:pt x="3934" y="4266"/>
                  </a:lnTo>
                  <a:lnTo>
                    <a:pt x="3922" y="4287"/>
                  </a:lnTo>
                  <a:lnTo>
                    <a:pt x="3910" y="4310"/>
                  </a:lnTo>
                  <a:lnTo>
                    <a:pt x="3899" y="4331"/>
                  </a:lnTo>
                  <a:lnTo>
                    <a:pt x="3890" y="4354"/>
                  </a:lnTo>
                  <a:lnTo>
                    <a:pt x="3881" y="4376"/>
                  </a:lnTo>
                  <a:lnTo>
                    <a:pt x="3873" y="4399"/>
                  </a:lnTo>
                  <a:lnTo>
                    <a:pt x="3866" y="4422"/>
                  </a:lnTo>
                  <a:lnTo>
                    <a:pt x="3861" y="4445"/>
                  </a:lnTo>
                  <a:lnTo>
                    <a:pt x="3856" y="4468"/>
                  </a:lnTo>
                  <a:lnTo>
                    <a:pt x="3854" y="4492"/>
                  </a:lnTo>
                  <a:lnTo>
                    <a:pt x="3853" y="4516"/>
                  </a:lnTo>
                  <a:lnTo>
                    <a:pt x="3969" y="4516"/>
                  </a:lnTo>
                  <a:lnTo>
                    <a:pt x="3992" y="4543"/>
                  </a:lnTo>
                  <a:lnTo>
                    <a:pt x="4017" y="4575"/>
                  </a:lnTo>
                  <a:lnTo>
                    <a:pt x="4043" y="4608"/>
                  </a:lnTo>
                  <a:lnTo>
                    <a:pt x="4069" y="4643"/>
                  </a:lnTo>
                  <a:lnTo>
                    <a:pt x="4082" y="4662"/>
                  </a:lnTo>
                  <a:lnTo>
                    <a:pt x="4093" y="4681"/>
                  </a:lnTo>
                  <a:lnTo>
                    <a:pt x="4105" y="4700"/>
                  </a:lnTo>
                  <a:lnTo>
                    <a:pt x="4115" y="4719"/>
                  </a:lnTo>
                  <a:lnTo>
                    <a:pt x="4125" y="4739"/>
                  </a:lnTo>
                  <a:lnTo>
                    <a:pt x="4134" y="4759"/>
                  </a:lnTo>
                  <a:lnTo>
                    <a:pt x="4142" y="4778"/>
                  </a:lnTo>
                  <a:lnTo>
                    <a:pt x="4147" y="4798"/>
                  </a:lnTo>
                  <a:lnTo>
                    <a:pt x="4135" y="4797"/>
                  </a:lnTo>
                  <a:lnTo>
                    <a:pt x="4123" y="4794"/>
                  </a:lnTo>
                  <a:lnTo>
                    <a:pt x="4113" y="4791"/>
                  </a:lnTo>
                  <a:lnTo>
                    <a:pt x="4101" y="4786"/>
                  </a:lnTo>
                  <a:lnTo>
                    <a:pt x="4090" y="4780"/>
                  </a:lnTo>
                  <a:lnTo>
                    <a:pt x="4080" y="4774"/>
                  </a:lnTo>
                  <a:lnTo>
                    <a:pt x="4070" y="4767"/>
                  </a:lnTo>
                  <a:lnTo>
                    <a:pt x="4059" y="4759"/>
                  </a:lnTo>
                  <a:lnTo>
                    <a:pt x="4041" y="4742"/>
                  </a:lnTo>
                  <a:lnTo>
                    <a:pt x="4024" y="4725"/>
                  </a:lnTo>
                  <a:lnTo>
                    <a:pt x="4010" y="4709"/>
                  </a:lnTo>
                  <a:lnTo>
                    <a:pt x="3998" y="4694"/>
                  </a:lnTo>
                  <a:lnTo>
                    <a:pt x="3974" y="4694"/>
                  </a:lnTo>
                  <a:lnTo>
                    <a:pt x="3950" y="4695"/>
                  </a:lnTo>
                  <a:lnTo>
                    <a:pt x="3924" y="4696"/>
                  </a:lnTo>
                  <a:lnTo>
                    <a:pt x="3897" y="4698"/>
                  </a:lnTo>
                  <a:lnTo>
                    <a:pt x="3870" y="4702"/>
                  </a:lnTo>
                  <a:lnTo>
                    <a:pt x="3844" y="4709"/>
                  </a:lnTo>
                  <a:lnTo>
                    <a:pt x="3831" y="4713"/>
                  </a:lnTo>
                  <a:lnTo>
                    <a:pt x="3819" y="4717"/>
                  </a:lnTo>
                  <a:lnTo>
                    <a:pt x="3807" y="4723"/>
                  </a:lnTo>
                  <a:lnTo>
                    <a:pt x="3796" y="4729"/>
                  </a:lnTo>
                  <a:lnTo>
                    <a:pt x="3802" y="4729"/>
                  </a:lnTo>
                  <a:lnTo>
                    <a:pt x="3807" y="4730"/>
                  </a:lnTo>
                  <a:lnTo>
                    <a:pt x="3812" y="4731"/>
                  </a:lnTo>
                  <a:lnTo>
                    <a:pt x="3819" y="4733"/>
                  </a:lnTo>
                  <a:lnTo>
                    <a:pt x="3831" y="4739"/>
                  </a:lnTo>
                  <a:lnTo>
                    <a:pt x="3842" y="4747"/>
                  </a:lnTo>
                  <a:lnTo>
                    <a:pt x="3855" y="4756"/>
                  </a:lnTo>
                  <a:lnTo>
                    <a:pt x="3867" y="4767"/>
                  </a:lnTo>
                  <a:lnTo>
                    <a:pt x="3878" y="4779"/>
                  </a:lnTo>
                  <a:lnTo>
                    <a:pt x="3890" y="4792"/>
                  </a:lnTo>
                  <a:lnTo>
                    <a:pt x="3900" y="4806"/>
                  </a:lnTo>
                  <a:lnTo>
                    <a:pt x="3910" y="4820"/>
                  </a:lnTo>
                  <a:lnTo>
                    <a:pt x="3919" y="4835"/>
                  </a:lnTo>
                  <a:lnTo>
                    <a:pt x="3925" y="4850"/>
                  </a:lnTo>
                  <a:lnTo>
                    <a:pt x="3932" y="4865"/>
                  </a:lnTo>
                  <a:lnTo>
                    <a:pt x="3936" y="4879"/>
                  </a:lnTo>
                  <a:lnTo>
                    <a:pt x="3939" y="4894"/>
                  </a:lnTo>
                  <a:lnTo>
                    <a:pt x="3940" y="4907"/>
                  </a:lnTo>
                  <a:lnTo>
                    <a:pt x="3932" y="4907"/>
                  </a:lnTo>
                  <a:lnTo>
                    <a:pt x="3924" y="4908"/>
                  </a:lnTo>
                  <a:lnTo>
                    <a:pt x="3915" y="4910"/>
                  </a:lnTo>
                  <a:lnTo>
                    <a:pt x="3907" y="4911"/>
                  </a:lnTo>
                  <a:lnTo>
                    <a:pt x="3891" y="4918"/>
                  </a:lnTo>
                  <a:lnTo>
                    <a:pt x="3875" y="4924"/>
                  </a:lnTo>
                  <a:lnTo>
                    <a:pt x="3841" y="4941"/>
                  </a:lnTo>
                  <a:lnTo>
                    <a:pt x="3807" y="4962"/>
                  </a:lnTo>
                  <a:lnTo>
                    <a:pt x="3791" y="4972"/>
                  </a:lnTo>
                  <a:lnTo>
                    <a:pt x="3774" y="4982"/>
                  </a:lnTo>
                  <a:lnTo>
                    <a:pt x="3758" y="4991"/>
                  </a:lnTo>
                  <a:lnTo>
                    <a:pt x="3741" y="4999"/>
                  </a:lnTo>
                  <a:lnTo>
                    <a:pt x="3725" y="5007"/>
                  </a:lnTo>
                  <a:lnTo>
                    <a:pt x="3707" y="5012"/>
                  </a:lnTo>
                  <a:lnTo>
                    <a:pt x="3700" y="5014"/>
                  </a:lnTo>
                  <a:lnTo>
                    <a:pt x="3691" y="5015"/>
                  </a:lnTo>
                  <a:lnTo>
                    <a:pt x="3683" y="5016"/>
                  </a:lnTo>
                  <a:lnTo>
                    <a:pt x="3675" y="5016"/>
                  </a:lnTo>
                  <a:lnTo>
                    <a:pt x="3617" y="4941"/>
                  </a:lnTo>
                  <a:lnTo>
                    <a:pt x="3617" y="4798"/>
                  </a:lnTo>
                  <a:lnTo>
                    <a:pt x="3675" y="4729"/>
                  </a:lnTo>
                  <a:lnTo>
                    <a:pt x="3676" y="4650"/>
                  </a:lnTo>
                  <a:lnTo>
                    <a:pt x="3677" y="4572"/>
                  </a:lnTo>
                  <a:lnTo>
                    <a:pt x="3679" y="4498"/>
                  </a:lnTo>
                  <a:lnTo>
                    <a:pt x="3679" y="4424"/>
                  </a:lnTo>
                  <a:lnTo>
                    <a:pt x="3678" y="4389"/>
                  </a:lnTo>
                  <a:lnTo>
                    <a:pt x="3676" y="4354"/>
                  </a:lnTo>
                  <a:lnTo>
                    <a:pt x="3674" y="4318"/>
                  </a:lnTo>
                  <a:lnTo>
                    <a:pt x="3670" y="4283"/>
                  </a:lnTo>
                  <a:lnTo>
                    <a:pt x="3664" y="4249"/>
                  </a:lnTo>
                  <a:lnTo>
                    <a:pt x="3658" y="4214"/>
                  </a:lnTo>
                  <a:lnTo>
                    <a:pt x="3651" y="4181"/>
                  </a:lnTo>
                  <a:lnTo>
                    <a:pt x="3641" y="4147"/>
                  </a:lnTo>
                  <a:lnTo>
                    <a:pt x="3657" y="4103"/>
                  </a:lnTo>
                  <a:lnTo>
                    <a:pt x="3673" y="4059"/>
                  </a:lnTo>
                  <a:lnTo>
                    <a:pt x="3688" y="4015"/>
                  </a:lnTo>
                  <a:lnTo>
                    <a:pt x="3703" y="3971"/>
                  </a:lnTo>
                  <a:lnTo>
                    <a:pt x="3731" y="3883"/>
                  </a:lnTo>
                  <a:lnTo>
                    <a:pt x="3756" y="3796"/>
                  </a:lnTo>
                  <a:lnTo>
                    <a:pt x="3804" y="3625"/>
                  </a:lnTo>
                  <a:lnTo>
                    <a:pt x="3853" y="3458"/>
                  </a:lnTo>
                  <a:lnTo>
                    <a:pt x="3865" y="3417"/>
                  </a:lnTo>
                  <a:lnTo>
                    <a:pt x="3879" y="3377"/>
                  </a:lnTo>
                  <a:lnTo>
                    <a:pt x="3892" y="3337"/>
                  </a:lnTo>
                  <a:lnTo>
                    <a:pt x="3907" y="3297"/>
                  </a:lnTo>
                  <a:lnTo>
                    <a:pt x="3921" y="3258"/>
                  </a:lnTo>
                  <a:lnTo>
                    <a:pt x="3937" y="3219"/>
                  </a:lnTo>
                  <a:lnTo>
                    <a:pt x="3953" y="3180"/>
                  </a:lnTo>
                  <a:lnTo>
                    <a:pt x="3970" y="3143"/>
                  </a:lnTo>
                  <a:lnTo>
                    <a:pt x="3988" y="3105"/>
                  </a:lnTo>
                  <a:lnTo>
                    <a:pt x="4008" y="3068"/>
                  </a:lnTo>
                  <a:lnTo>
                    <a:pt x="4027" y="3031"/>
                  </a:lnTo>
                  <a:lnTo>
                    <a:pt x="4048" y="2995"/>
                  </a:lnTo>
                  <a:lnTo>
                    <a:pt x="4071" y="2960"/>
                  </a:lnTo>
                  <a:lnTo>
                    <a:pt x="4096" y="2925"/>
                  </a:lnTo>
                  <a:lnTo>
                    <a:pt x="4120" y="2891"/>
                  </a:lnTo>
                  <a:lnTo>
                    <a:pt x="4147" y="2857"/>
                  </a:lnTo>
                  <a:lnTo>
                    <a:pt x="4230" y="2855"/>
                  </a:lnTo>
                  <a:lnTo>
                    <a:pt x="4336" y="2851"/>
                  </a:lnTo>
                  <a:lnTo>
                    <a:pt x="4459" y="2844"/>
                  </a:lnTo>
                  <a:lnTo>
                    <a:pt x="4591" y="2836"/>
                  </a:lnTo>
                  <a:lnTo>
                    <a:pt x="4725" y="2827"/>
                  </a:lnTo>
                  <a:lnTo>
                    <a:pt x="4853" y="2816"/>
                  </a:lnTo>
                  <a:lnTo>
                    <a:pt x="4912" y="2809"/>
                  </a:lnTo>
                  <a:lnTo>
                    <a:pt x="4966" y="2804"/>
                  </a:lnTo>
                  <a:lnTo>
                    <a:pt x="5015" y="2799"/>
                  </a:lnTo>
                  <a:lnTo>
                    <a:pt x="5058" y="2793"/>
                  </a:lnTo>
                  <a:close/>
                  <a:moveTo>
                    <a:pt x="1567" y="11145"/>
                  </a:moveTo>
                  <a:lnTo>
                    <a:pt x="1539" y="11154"/>
                  </a:lnTo>
                  <a:lnTo>
                    <a:pt x="1511" y="11166"/>
                  </a:lnTo>
                  <a:lnTo>
                    <a:pt x="1483" y="11178"/>
                  </a:lnTo>
                  <a:lnTo>
                    <a:pt x="1456" y="11192"/>
                  </a:lnTo>
                  <a:lnTo>
                    <a:pt x="1428" y="11207"/>
                  </a:lnTo>
                  <a:lnTo>
                    <a:pt x="1401" y="11225"/>
                  </a:lnTo>
                  <a:lnTo>
                    <a:pt x="1375" y="11242"/>
                  </a:lnTo>
                  <a:lnTo>
                    <a:pt x="1349" y="11261"/>
                  </a:lnTo>
                  <a:lnTo>
                    <a:pt x="1322" y="11280"/>
                  </a:lnTo>
                  <a:lnTo>
                    <a:pt x="1296" y="11301"/>
                  </a:lnTo>
                  <a:lnTo>
                    <a:pt x="1272" y="11322"/>
                  </a:lnTo>
                  <a:lnTo>
                    <a:pt x="1247" y="11344"/>
                  </a:lnTo>
                  <a:lnTo>
                    <a:pt x="1199" y="11388"/>
                  </a:lnTo>
                  <a:lnTo>
                    <a:pt x="1152" y="11433"/>
                  </a:lnTo>
                  <a:lnTo>
                    <a:pt x="1138" y="11381"/>
                  </a:lnTo>
                  <a:lnTo>
                    <a:pt x="1125" y="11336"/>
                  </a:lnTo>
                  <a:lnTo>
                    <a:pt x="1113" y="11295"/>
                  </a:lnTo>
                  <a:lnTo>
                    <a:pt x="1102" y="11259"/>
                  </a:lnTo>
                  <a:lnTo>
                    <a:pt x="1093" y="11227"/>
                  </a:lnTo>
                  <a:lnTo>
                    <a:pt x="1083" y="11199"/>
                  </a:lnTo>
                  <a:lnTo>
                    <a:pt x="1074" y="11173"/>
                  </a:lnTo>
                  <a:lnTo>
                    <a:pt x="1066" y="11151"/>
                  </a:lnTo>
                  <a:lnTo>
                    <a:pt x="1058" y="11133"/>
                  </a:lnTo>
                  <a:lnTo>
                    <a:pt x="1048" y="11111"/>
                  </a:lnTo>
                  <a:lnTo>
                    <a:pt x="1034" y="11084"/>
                  </a:lnTo>
                  <a:lnTo>
                    <a:pt x="1016" y="11054"/>
                  </a:lnTo>
                  <a:lnTo>
                    <a:pt x="977" y="10985"/>
                  </a:lnTo>
                  <a:lnTo>
                    <a:pt x="933" y="10908"/>
                  </a:lnTo>
                  <a:lnTo>
                    <a:pt x="909" y="10869"/>
                  </a:lnTo>
                  <a:lnTo>
                    <a:pt x="887" y="10828"/>
                  </a:lnTo>
                  <a:lnTo>
                    <a:pt x="864" y="10786"/>
                  </a:lnTo>
                  <a:lnTo>
                    <a:pt x="843" y="10745"/>
                  </a:lnTo>
                  <a:lnTo>
                    <a:pt x="823" y="10706"/>
                  </a:lnTo>
                  <a:lnTo>
                    <a:pt x="805" y="10668"/>
                  </a:lnTo>
                  <a:lnTo>
                    <a:pt x="790" y="10632"/>
                  </a:lnTo>
                  <a:lnTo>
                    <a:pt x="777" y="10597"/>
                  </a:lnTo>
                  <a:lnTo>
                    <a:pt x="770" y="10568"/>
                  </a:lnTo>
                  <a:lnTo>
                    <a:pt x="760" y="10523"/>
                  </a:lnTo>
                  <a:lnTo>
                    <a:pt x="748" y="10469"/>
                  </a:lnTo>
                  <a:lnTo>
                    <a:pt x="738" y="10408"/>
                  </a:lnTo>
                  <a:lnTo>
                    <a:pt x="729" y="10348"/>
                  </a:lnTo>
                  <a:lnTo>
                    <a:pt x="722" y="10294"/>
                  </a:lnTo>
                  <a:lnTo>
                    <a:pt x="719" y="10270"/>
                  </a:lnTo>
                  <a:lnTo>
                    <a:pt x="718" y="10251"/>
                  </a:lnTo>
                  <a:lnTo>
                    <a:pt x="718" y="10235"/>
                  </a:lnTo>
                  <a:lnTo>
                    <a:pt x="720" y="10223"/>
                  </a:lnTo>
                  <a:lnTo>
                    <a:pt x="713" y="10193"/>
                  </a:lnTo>
                  <a:lnTo>
                    <a:pt x="704" y="10149"/>
                  </a:lnTo>
                  <a:lnTo>
                    <a:pt x="695" y="10092"/>
                  </a:lnTo>
                  <a:lnTo>
                    <a:pt x="685" y="10027"/>
                  </a:lnTo>
                  <a:lnTo>
                    <a:pt x="663" y="9872"/>
                  </a:lnTo>
                  <a:lnTo>
                    <a:pt x="638" y="9703"/>
                  </a:lnTo>
                  <a:lnTo>
                    <a:pt x="613" y="9533"/>
                  </a:lnTo>
                  <a:lnTo>
                    <a:pt x="589" y="9380"/>
                  </a:lnTo>
                  <a:lnTo>
                    <a:pt x="577" y="9315"/>
                  </a:lnTo>
                  <a:lnTo>
                    <a:pt x="566" y="9259"/>
                  </a:lnTo>
                  <a:lnTo>
                    <a:pt x="561" y="9236"/>
                  </a:lnTo>
                  <a:lnTo>
                    <a:pt x="556" y="9216"/>
                  </a:lnTo>
                  <a:lnTo>
                    <a:pt x="552" y="9199"/>
                  </a:lnTo>
                  <a:lnTo>
                    <a:pt x="547" y="9187"/>
                  </a:lnTo>
                  <a:lnTo>
                    <a:pt x="532" y="9149"/>
                  </a:lnTo>
                  <a:lnTo>
                    <a:pt x="518" y="9112"/>
                  </a:lnTo>
                  <a:lnTo>
                    <a:pt x="505" y="9075"/>
                  </a:lnTo>
                  <a:lnTo>
                    <a:pt x="493" y="9037"/>
                  </a:lnTo>
                  <a:lnTo>
                    <a:pt x="482" y="8997"/>
                  </a:lnTo>
                  <a:lnTo>
                    <a:pt x="473" y="8955"/>
                  </a:lnTo>
                  <a:lnTo>
                    <a:pt x="464" y="8910"/>
                  </a:lnTo>
                  <a:lnTo>
                    <a:pt x="457" y="8862"/>
                  </a:lnTo>
                  <a:lnTo>
                    <a:pt x="451" y="8809"/>
                  </a:lnTo>
                  <a:lnTo>
                    <a:pt x="446" y="8752"/>
                  </a:lnTo>
                  <a:lnTo>
                    <a:pt x="442" y="8688"/>
                  </a:lnTo>
                  <a:lnTo>
                    <a:pt x="437" y="8619"/>
                  </a:lnTo>
                  <a:lnTo>
                    <a:pt x="435" y="8542"/>
                  </a:lnTo>
                  <a:lnTo>
                    <a:pt x="433" y="8459"/>
                  </a:lnTo>
                  <a:lnTo>
                    <a:pt x="432" y="8367"/>
                  </a:lnTo>
                  <a:lnTo>
                    <a:pt x="432" y="8265"/>
                  </a:lnTo>
                  <a:lnTo>
                    <a:pt x="416" y="8249"/>
                  </a:lnTo>
                  <a:lnTo>
                    <a:pt x="401" y="8233"/>
                  </a:lnTo>
                  <a:lnTo>
                    <a:pt x="386" y="8215"/>
                  </a:lnTo>
                  <a:lnTo>
                    <a:pt x="371" y="8197"/>
                  </a:lnTo>
                  <a:lnTo>
                    <a:pt x="357" y="8178"/>
                  </a:lnTo>
                  <a:lnTo>
                    <a:pt x="343" y="8160"/>
                  </a:lnTo>
                  <a:lnTo>
                    <a:pt x="329" y="8139"/>
                  </a:lnTo>
                  <a:lnTo>
                    <a:pt x="316" y="8120"/>
                  </a:lnTo>
                  <a:lnTo>
                    <a:pt x="290" y="8079"/>
                  </a:lnTo>
                  <a:lnTo>
                    <a:pt x="265" y="8036"/>
                  </a:lnTo>
                  <a:lnTo>
                    <a:pt x="240" y="7993"/>
                  </a:lnTo>
                  <a:lnTo>
                    <a:pt x="216" y="7950"/>
                  </a:lnTo>
                  <a:lnTo>
                    <a:pt x="192" y="7907"/>
                  </a:lnTo>
                  <a:lnTo>
                    <a:pt x="167" y="7864"/>
                  </a:lnTo>
                  <a:lnTo>
                    <a:pt x="141" y="7822"/>
                  </a:lnTo>
                  <a:lnTo>
                    <a:pt x="116" y="7780"/>
                  </a:lnTo>
                  <a:lnTo>
                    <a:pt x="89" y="7739"/>
                  </a:lnTo>
                  <a:lnTo>
                    <a:pt x="61" y="7702"/>
                  </a:lnTo>
                  <a:lnTo>
                    <a:pt x="46" y="7683"/>
                  </a:lnTo>
                  <a:lnTo>
                    <a:pt x="31" y="7665"/>
                  </a:lnTo>
                  <a:lnTo>
                    <a:pt x="16" y="7648"/>
                  </a:lnTo>
                  <a:lnTo>
                    <a:pt x="0" y="7631"/>
                  </a:lnTo>
                  <a:lnTo>
                    <a:pt x="18" y="7626"/>
                  </a:lnTo>
                  <a:lnTo>
                    <a:pt x="37" y="7622"/>
                  </a:lnTo>
                  <a:lnTo>
                    <a:pt x="58" y="7622"/>
                  </a:lnTo>
                  <a:lnTo>
                    <a:pt x="78" y="7626"/>
                  </a:lnTo>
                  <a:lnTo>
                    <a:pt x="99" y="7631"/>
                  </a:lnTo>
                  <a:lnTo>
                    <a:pt x="122" y="7639"/>
                  </a:lnTo>
                  <a:lnTo>
                    <a:pt x="145" y="7650"/>
                  </a:lnTo>
                  <a:lnTo>
                    <a:pt x="167" y="7663"/>
                  </a:lnTo>
                  <a:lnTo>
                    <a:pt x="191" y="7678"/>
                  </a:lnTo>
                  <a:lnTo>
                    <a:pt x="214" y="7695"/>
                  </a:lnTo>
                  <a:lnTo>
                    <a:pt x="238" y="7713"/>
                  </a:lnTo>
                  <a:lnTo>
                    <a:pt x="261" y="7734"/>
                  </a:lnTo>
                  <a:lnTo>
                    <a:pt x="286" y="7755"/>
                  </a:lnTo>
                  <a:lnTo>
                    <a:pt x="310" y="7778"/>
                  </a:lnTo>
                  <a:lnTo>
                    <a:pt x="333" y="7801"/>
                  </a:lnTo>
                  <a:lnTo>
                    <a:pt x="357" y="7825"/>
                  </a:lnTo>
                  <a:lnTo>
                    <a:pt x="403" y="7874"/>
                  </a:lnTo>
                  <a:lnTo>
                    <a:pt x="448" y="7926"/>
                  </a:lnTo>
                  <a:lnTo>
                    <a:pt x="490" y="7975"/>
                  </a:lnTo>
                  <a:lnTo>
                    <a:pt x="530" y="8022"/>
                  </a:lnTo>
                  <a:lnTo>
                    <a:pt x="565" y="8066"/>
                  </a:lnTo>
                  <a:lnTo>
                    <a:pt x="597" y="8105"/>
                  </a:lnTo>
                  <a:lnTo>
                    <a:pt x="624" y="8137"/>
                  </a:lnTo>
                  <a:lnTo>
                    <a:pt x="645" y="8162"/>
                  </a:lnTo>
                  <a:lnTo>
                    <a:pt x="714" y="8162"/>
                  </a:lnTo>
                  <a:lnTo>
                    <a:pt x="700" y="8181"/>
                  </a:lnTo>
                  <a:lnTo>
                    <a:pt x="684" y="8203"/>
                  </a:lnTo>
                  <a:lnTo>
                    <a:pt x="666" y="8225"/>
                  </a:lnTo>
                  <a:lnTo>
                    <a:pt x="645" y="8248"/>
                  </a:lnTo>
                  <a:lnTo>
                    <a:pt x="625" y="8270"/>
                  </a:lnTo>
                  <a:lnTo>
                    <a:pt x="605" y="8293"/>
                  </a:lnTo>
                  <a:lnTo>
                    <a:pt x="584" y="8314"/>
                  </a:lnTo>
                  <a:lnTo>
                    <a:pt x="565" y="8334"/>
                  </a:lnTo>
                  <a:lnTo>
                    <a:pt x="565" y="8368"/>
                  </a:lnTo>
                  <a:lnTo>
                    <a:pt x="567" y="8401"/>
                  </a:lnTo>
                  <a:lnTo>
                    <a:pt x="570" y="8435"/>
                  </a:lnTo>
                  <a:lnTo>
                    <a:pt x="575" y="8471"/>
                  </a:lnTo>
                  <a:lnTo>
                    <a:pt x="580" y="8506"/>
                  </a:lnTo>
                  <a:lnTo>
                    <a:pt x="586" y="8541"/>
                  </a:lnTo>
                  <a:lnTo>
                    <a:pt x="594" y="8578"/>
                  </a:lnTo>
                  <a:lnTo>
                    <a:pt x="602" y="8614"/>
                  </a:lnTo>
                  <a:lnTo>
                    <a:pt x="611" y="8652"/>
                  </a:lnTo>
                  <a:lnTo>
                    <a:pt x="622" y="8688"/>
                  </a:lnTo>
                  <a:lnTo>
                    <a:pt x="631" y="8726"/>
                  </a:lnTo>
                  <a:lnTo>
                    <a:pt x="643" y="8763"/>
                  </a:lnTo>
                  <a:lnTo>
                    <a:pt x="666" y="8838"/>
                  </a:lnTo>
                  <a:lnTo>
                    <a:pt x="691" y="8915"/>
                  </a:lnTo>
                  <a:lnTo>
                    <a:pt x="743" y="9065"/>
                  </a:lnTo>
                  <a:lnTo>
                    <a:pt x="792" y="9212"/>
                  </a:lnTo>
                  <a:lnTo>
                    <a:pt x="816" y="9283"/>
                  </a:lnTo>
                  <a:lnTo>
                    <a:pt x="836" y="9353"/>
                  </a:lnTo>
                  <a:lnTo>
                    <a:pt x="846" y="9388"/>
                  </a:lnTo>
                  <a:lnTo>
                    <a:pt x="855" y="9421"/>
                  </a:lnTo>
                  <a:lnTo>
                    <a:pt x="863" y="9454"/>
                  </a:lnTo>
                  <a:lnTo>
                    <a:pt x="870" y="9486"/>
                  </a:lnTo>
                  <a:lnTo>
                    <a:pt x="895" y="9597"/>
                  </a:lnTo>
                  <a:lnTo>
                    <a:pt x="922" y="9704"/>
                  </a:lnTo>
                  <a:lnTo>
                    <a:pt x="949" y="9809"/>
                  </a:lnTo>
                  <a:lnTo>
                    <a:pt x="976" y="9912"/>
                  </a:lnTo>
                  <a:lnTo>
                    <a:pt x="1004" y="10013"/>
                  </a:lnTo>
                  <a:lnTo>
                    <a:pt x="1030" y="10112"/>
                  </a:lnTo>
                  <a:lnTo>
                    <a:pt x="1056" y="10211"/>
                  </a:lnTo>
                  <a:lnTo>
                    <a:pt x="1081" y="10310"/>
                  </a:lnTo>
                  <a:lnTo>
                    <a:pt x="1103" y="10410"/>
                  </a:lnTo>
                  <a:lnTo>
                    <a:pt x="1125" y="10510"/>
                  </a:lnTo>
                  <a:lnTo>
                    <a:pt x="1134" y="10561"/>
                  </a:lnTo>
                  <a:lnTo>
                    <a:pt x="1144" y="10611"/>
                  </a:lnTo>
                  <a:lnTo>
                    <a:pt x="1153" y="10663"/>
                  </a:lnTo>
                  <a:lnTo>
                    <a:pt x="1160" y="10715"/>
                  </a:lnTo>
                  <a:lnTo>
                    <a:pt x="1168" y="10768"/>
                  </a:lnTo>
                  <a:lnTo>
                    <a:pt x="1174" y="10820"/>
                  </a:lnTo>
                  <a:lnTo>
                    <a:pt x="1179" y="10874"/>
                  </a:lnTo>
                  <a:lnTo>
                    <a:pt x="1184" y="10929"/>
                  </a:lnTo>
                  <a:lnTo>
                    <a:pt x="1187" y="10984"/>
                  </a:lnTo>
                  <a:lnTo>
                    <a:pt x="1190" y="11041"/>
                  </a:lnTo>
                  <a:lnTo>
                    <a:pt x="1191" y="11098"/>
                  </a:lnTo>
                  <a:lnTo>
                    <a:pt x="1192" y="11156"/>
                  </a:lnTo>
                  <a:lnTo>
                    <a:pt x="1567" y="11145"/>
                  </a:lnTo>
                  <a:close/>
                  <a:moveTo>
                    <a:pt x="709" y="6554"/>
                  </a:moveTo>
                  <a:lnTo>
                    <a:pt x="730" y="6553"/>
                  </a:lnTo>
                  <a:lnTo>
                    <a:pt x="753" y="6551"/>
                  </a:lnTo>
                  <a:lnTo>
                    <a:pt x="775" y="6548"/>
                  </a:lnTo>
                  <a:lnTo>
                    <a:pt x="799" y="6542"/>
                  </a:lnTo>
                  <a:lnTo>
                    <a:pt x="822" y="6536"/>
                  </a:lnTo>
                  <a:lnTo>
                    <a:pt x="846" y="6528"/>
                  </a:lnTo>
                  <a:lnTo>
                    <a:pt x="868" y="6520"/>
                  </a:lnTo>
                  <a:lnTo>
                    <a:pt x="892" y="6509"/>
                  </a:lnTo>
                  <a:lnTo>
                    <a:pt x="915" y="6497"/>
                  </a:lnTo>
                  <a:lnTo>
                    <a:pt x="937" y="6485"/>
                  </a:lnTo>
                  <a:lnTo>
                    <a:pt x="959" y="6471"/>
                  </a:lnTo>
                  <a:lnTo>
                    <a:pt x="980" y="6454"/>
                  </a:lnTo>
                  <a:lnTo>
                    <a:pt x="1000" y="6438"/>
                  </a:lnTo>
                  <a:lnTo>
                    <a:pt x="1019" y="6420"/>
                  </a:lnTo>
                  <a:lnTo>
                    <a:pt x="1037" y="6402"/>
                  </a:lnTo>
                  <a:lnTo>
                    <a:pt x="1054" y="6382"/>
                  </a:lnTo>
                  <a:lnTo>
                    <a:pt x="1053" y="6394"/>
                  </a:lnTo>
                  <a:lnTo>
                    <a:pt x="1050" y="6408"/>
                  </a:lnTo>
                  <a:lnTo>
                    <a:pt x="1045" y="6422"/>
                  </a:lnTo>
                  <a:lnTo>
                    <a:pt x="1040" y="6436"/>
                  </a:lnTo>
                  <a:lnTo>
                    <a:pt x="1035" y="6450"/>
                  </a:lnTo>
                  <a:lnTo>
                    <a:pt x="1029" y="6464"/>
                  </a:lnTo>
                  <a:lnTo>
                    <a:pt x="1026" y="6478"/>
                  </a:lnTo>
                  <a:lnTo>
                    <a:pt x="1025" y="6491"/>
                  </a:lnTo>
                  <a:lnTo>
                    <a:pt x="1037" y="6502"/>
                  </a:lnTo>
                  <a:lnTo>
                    <a:pt x="1049" y="6512"/>
                  </a:lnTo>
                  <a:lnTo>
                    <a:pt x="1060" y="6521"/>
                  </a:lnTo>
                  <a:lnTo>
                    <a:pt x="1072" y="6528"/>
                  </a:lnTo>
                  <a:lnTo>
                    <a:pt x="1095" y="6542"/>
                  </a:lnTo>
                  <a:lnTo>
                    <a:pt x="1116" y="6555"/>
                  </a:lnTo>
                  <a:lnTo>
                    <a:pt x="1139" y="6568"/>
                  </a:lnTo>
                  <a:lnTo>
                    <a:pt x="1160" y="6582"/>
                  </a:lnTo>
                  <a:lnTo>
                    <a:pt x="1171" y="6591"/>
                  </a:lnTo>
                  <a:lnTo>
                    <a:pt x="1183" y="6600"/>
                  </a:lnTo>
                  <a:lnTo>
                    <a:pt x="1193" y="6611"/>
                  </a:lnTo>
                  <a:lnTo>
                    <a:pt x="1204" y="6624"/>
                  </a:lnTo>
                  <a:lnTo>
                    <a:pt x="1192" y="6638"/>
                  </a:lnTo>
                  <a:lnTo>
                    <a:pt x="1179" y="6651"/>
                  </a:lnTo>
                  <a:lnTo>
                    <a:pt x="1166" y="6665"/>
                  </a:lnTo>
                  <a:lnTo>
                    <a:pt x="1151" y="6678"/>
                  </a:lnTo>
                  <a:lnTo>
                    <a:pt x="1134" y="6690"/>
                  </a:lnTo>
                  <a:lnTo>
                    <a:pt x="1117" y="6702"/>
                  </a:lnTo>
                  <a:lnTo>
                    <a:pt x="1100" y="6713"/>
                  </a:lnTo>
                  <a:lnTo>
                    <a:pt x="1082" y="6724"/>
                  </a:lnTo>
                  <a:lnTo>
                    <a:pt x="1064" y="6733"/>
                  </a:lnTo>
                  <a:lnTo>
                    <a:pt x="1045" y="6742"/>
                  </a:lnTo>
                  <a:lnTo>
                    <a:pt x="1027" y="6749"/>
                  </a:lnTo>
                  <a:lnTo>
                    <a:pt x="1009" y="6756"/>
                  </a:lnTo>
                  <a:lnTo>
                    <a:pt x="991" y="6760"/>
                  </a:lnTo>
                  <a:lnTo>
                    <a:pt x="972" y="6764"/>
                  </a:lnTo>
                  <a:lnTo>
                    <a:pt x="955" y="6767"/>
                  </a:lnTo>
                  <a:lnTo>
                    <a:pt x="939" y="6768"/>
                  </a:lnTo>
                  <a:lnTo>
                    <a:pt x="996" y="6843"/>
                  </a:lnTo>
                  <a:lnTo>
                    <a:pt x="1020" y="6828"/>
                  </a:lnTo>
                  <a:lnTo>
                    <a:pt x="1045" y="6811"/>
                  </a:lnTo>
                  <a:lnTo>
                    <a:pt x="1072" y="6792"/>
                  </a:lnTo>
                  <a:lnTo>
                    <a:pt x="1100" y="6775"/>
                  </a:lnTo>
                  <a:lnTo>
                    <a:pt x="1114" y="6767"/>
                  </a:lnTo>
                  <a:lnTo>
                    <a:pt x="1128" y="6758"/>
                  </a:lnTo>
                  <a:lnTo>
                    <a:pt x="1142" y="6752"/>
                  </a:lnTo>
                  <a:lnTo>
                    <a:pt x="1155" y="6745"/>
                  </a:lnTo>
                  <a:lnTo>
                    <a:pt x="1168" y="6740"/>
                  </a:lnTo>
                  <a:lnTo>
                    <a:pt x="1181" y="6737"/>
                  </a:lnTo>
                  <a:lnTo>
                    <a:pt x="1192" y="6733"/>
                  </a:lnTo>
                  <a:lnTo>
                    <a:pt x="1204" y="6733"/>
                  </a:lnTo>
                  <a:lnTo>
                    <a:pt x="1203" y="6749"/>
                  </a:lnTo>
                  <a:lnTo>
                    <a:pt x="1200" y="6764"/>
                  </a:lnTo>
                  <a:lnTo>
                    <a:pt x="1194" y="6779"/>
                  </a:lnTo>
                  <a:lnTo>
                    <a:pt x="1187" y="6793"/>
                  </a:lnTo>
                  <a:lnTo>
                    <a:pt x="1178" y="6806"/>
                  </a:lnTo>
                  <a:lnTo>
                    <a:pt x="1169" y="6818"/>
                  </a:lnTo>
                  <a:lnTo>
                    <a:pt x="1157" y="6829"/>
                  </a:lnTo>
                  <a:lnTo>
                    <a:pt x="1144" y="6839"/>
                  </a:lnTo>
                  <a:lnTo>
                    <a:pt x="1130" y="6849"/>
                  </a:lnTo>
                  <a:lnTo>
                    <a:pt x="1115" y="6858"/>
                  </a:lnTo>
                  <a:lnTo>
                    <a:pt x="1099" y="6865"/>
                  </a:lnTo>
                  <a:lnTo>
                    <a:pt x="1082" y="6872"/>
                  </a:lnTo>
                  <a:lnTo>
                    <a:pt x="1065" y="6877"/>
                  </a:lnTo>
                  <a:lnTo>
                    <a:pt x="1046" y="6882"/>
                  </a:lnTo>
                  <a:lnTo>
                    <a:pt x="1028" y="6886"/>
                  </a:lnTo>
                  <a:lnTo>
                    <a:pt x="1010" y="6889"/>
                  </a:lnTo>
                  <a:lnTo>
                    <a:pt x="992" y="6891"/>
                  </a:lnTo>
                  <a:lnTo>
                    <a:pt x="974" y="6892"/>
                  </a:lnTo>
                  <a:lnTo>
                    <a:pt x="955" y="6893"/>
                  </a:lnTo>
                  <a:lnTo>
                    <a:pt x="937" y="6892"/>
                  </a:lnTo>
                  <a:lnTo>
                    <a:pt x="919" y="6890"/>
                  </a:lnTo>
                  <a:lnTo>
                    <a:pt x="903" y="6888"/>
                  </a:lnTo>
                  <a:lnTo>
                    <a:pt x="887" y="6885"/>
                  </a:lnTo>
                  <a:lnTo>
                    <a:pt x="871" y="6879"/>
                  </a:lnTo>
                  <a:lnTo>
                    <a:pt x="857" y="6874"/>
                  </a:lnTo>
                  <a:lnTo>
                    <a:pt x="843" y="6867"/>
                  </a:lnTo>
                  <a:lnTo>
                    <a:pt x="831" y="6860"/>
                  </a:lnTo>
                  <a:lnTo>
                    <a:pt x="820" y="6851"/>
                  </a:lnTo>
                  <a:lnTo>
                    <a:pt x="812" y="6842"/>
                  </a:lnTo>
                  <a:lnTo>
                    <a:pt x="804" y="6832"/>
                  </a:lnTo>
                  <a:lnTo>
                    <a:pt x="799" y="6820"/>
                  </a:lnTo>
                  <a:lnTo>
                    <a:pt x="794" y="6807"/>
                  </a:lnTo>
                  <a:lnTo>
                    <a:pt x="800" y="6808"/>
                  </a:lnTo>
                  <a:lnTo>
                    <a:pt x="805" y="6809"/>
                  </a:lnTo>
                  <a:lnTo>
                    <a:pt x="811" y="6811"/>
                  </a:lnTo>
                  <a:lnTo>
                    <a:pt x="816" y="6813"/>
                  </a:lnTo>
                  <a:lnTo>
                    <a:pt x="828" y="6819"/>
                  </a:lnTo>
                  <a:lnTo>
                    <a:pt x="838" y="6826"/>
                  </a:lnTo>
                  <a:lnTo>
                    <a:pt x="849" y="6831"/>
                  </a:lnTo>
                  <a:lnTo>
                    <a:pt x="860" y="6837"/>
                  </a:lnTo>
                  <a:lnTo>
                    <a:pt x="865" y="6839"/>
                  </a:lnTo>
                  <a:lnTo>
                    <a:pt x="871" y="6841"/>
                  </a:lnTo>
                  <a:lnTo>
                    <a:pt x="876" y="6842"/>
                  </a:lnTo>
                  <a:lnTo>
                    <a:pt x="881" y="6843"/>
                  </a:lnTo>
                  <a:lnTo>
                    <a:pt x="939" y="6768"/>
                  </a:lnTo>
                  <a:lnTo>
                    <a:pt x="938" y="6755"/>
                  </a:lnTo>
                  <a:lnTo>
                    <a:pt x="936" y="6742"/>
                  </a:lnTo>
                  <a:lnTo>
                    <a:pt x="933" y="6730"/>
                  </a:lnTo>
                  <a:lnTo>
                    <a:pt x="929" y="6718"/>
                  </a:lnTo>
                  <a:lnTo>
                    <a:pt x="919" y="6695"/>
                  </a:lnTo>
                  <a:lnTo>
                    <a:pt x="907" y="6674"/>
                  </a:lnTo>
                  <a:lnTo>
                    <a:pt x="895" y="6654"/>
                  </a:lnTo>
                  <a:lnTo>
                    <a:pt x="886" y="6636"/>
                  </a:lnTo>
                  <a:lnTo>
                    <a:pt x="881" y="6628"/>
                  </a:lnTo>
                  <a:lnTo>
                    <a:pt x="878" y="6621"/>
                  </a:lnTo>
                  <a:lnTo>
                    <a:pt x="876" y="6613"/>
                  </a:lnTo>
                  <a:lnTo>
                    <a:pt x="876" y="6606"/>
                  </a:lnTo>
                  <a:lnTo>
                    <a:pt x="876" y="6604"/>
                  </a:lnTo>
                  <a:lnTo>
                    <a:pt x="877" y="6601"/>
                  </a:lnTo>
                  <a:lnTo>
                    <a:pt x="879" y="6599"/>
                  </a:lnTo>
                  <a:lnTo>
                    <a:pt x="881" y="6597"/>
                  </a:lnTo>
                  <a:lnTo>
                    <a:pt x="883" y="6595"/>
                  </a:lnTo>
                  <a:lnTo>
                    <a:pt x="886" y="6593"/>
                  </a:lnTo>
                  <a:lnTo>
                    <a:pt x="887" y="6591"/>
                  </a:lnTo>
                  <a:lnTo>
                    <a:pt x="887" y="6589"/>
                  </a:lnTo>
                  <a:lnTo>
                    <a:pt x="882" y="6589"/>
                  </a:lnTo>
                  <a:lnTo>
                    <a:pt x="879" y="6589"/>
                  </a:lnTo>
                  <a:lnTo>
                    <a:pt x="876" y="6587"/>
                  </a:lnTo>
                  <a:lnTo>
                    <a:pt x="874" y="6586"/>
                  </a:lnTo>
                  <a:lnTo>
                    <a:pt x="871" y="6585"/>
                  </a:lnTo>
                  <a:lnTo>
                    <a:pt x="868" y="6584"/>
                  </a:lnTo>
                  <a:lnTo>
                    <a:pt x="866" y="6583"/>
                  </a:lnTo>
                  <a:lnTo>
                    <a:pt x="864" y="6583"/>
                  </a:lnTo>
                  <a:lnTo>
                    <a:pt x="839" y="6580"/>
                  </a:lnTo>
                  <a:lnTo>
                    <a:pt x="816" y="6577"/>
                  </a:lnTo>
                  <a:lnTo>
                    <a:pt x="791" y="6576"/>
                  </a:lnTo>
                  <a:lnTo>
                    <a:pt x="768" y="6574"/>
                  </a:lnTo>
                  <a:lnTo>
                    <a:pt x="744" y="6572"/>
                  </a:lnTo>
                  <a:lnTo>
                    <a:pt x="722" y="6569"/>
                  </a:lnTo>
                  <a:lnTo>
                    <a:pt x="700" y="6566"/>
                  </a:lnTo>
                  <a:lnTo>
                    <a:pt x="680" y="6560"/>
                  </a:lnTo>
                  <a:lnTo>
                    <a:pt x="678" y="6560"/>
                  </a:lnTo>
                  <a:lnTo>
                    <a:pt x="675" y="6560"/>
                  </a:lnTo>
                  <a:lnTo>
                    <a:pt x="673" y="6559"/>
                  </a:lnTo>
                  <a:lnTo>
                    <a:pt x="672" y="6557"/>
                  </a:lnTo>
                  <a:lnTo>
                    <a:pt x="670" y="6556"/>
                  </a:lnTo>
                  <a:lnTo>
                    <a:pt x="669" y="6555"/>
                  </a:lnTo>
                  <a:lnTo>
                    <a:pt x="668" y="6554"/>
                  </a:lnTo>
                  <a:lnTo>
                    <a:pt x="668" y="6554"/>
                  </a:lnTo>
                  <a:lnTo>
                    <a:pt x="672" y="6554"/>
                  </a:lnTo>
                  <a:lnTo>
                    <a:pt x="676" y="6554"/>
                  </a:lnTo>
                  <a:lnTo>
                    <a:pt x="682" y="6554"/>
                  </a:lnTo>
                  <a:lnTo>
                    <a:pt x="686" y="6554"/>
                  </a:lnTo>
                  <a:lnTo>
                    <a:pt x="691" y="6554"/>
                  </a:lnTo>
                  <a:lnTo>
                    <a:pt x="697" y="6554"/>
                  </a:lnTo>
                  <a:lnTo>
                    <a:pt x="702" y="6554"/>
                  </a:lnTo>
                  <a:lnTo>
                    <a:pt x="709" y="6554"/>
                  </a:lnTo>
                  <a:close/>
                </a:path>
              </a:pathLst>
            </a:custGeom>
            <a:solidFill>
              <a:srgbClr val="e5a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2640" y="3094200"/>
              <a:ext cx="672480" cy="1407960"/>
            </a:xfrm>
            <a:custGeom>
              <a:avLst/>
              <a:gdLst/>
              <a:ahLst/>
              <a:rect l="l" t="t" r="r" b="b"/>
              <a:pathLst>
                <a:path w="3912" h="8873">
                  <a:moveTo>
                    <a:pt x="1263" y="7862"/>
                  </a:moveTo>
                  <a:lnTo>
                    <a:pt x="1287" y="7877"/>
                  </a:lnTo>
                  <a:lnTo>
                    <a:pt x="1312" y="7894"/>
                  </a:lnTo>
                  <a:lnTo>
                    <a:pt x="1336" y="7911"/>
                  </a:lnTo>
                  <a:lnTo>
                    <a:pt x="1358" y="7928"/>
                  </a:lnTo>
                  <a:lnTo>
                    <a:pt x="1381" y="7947"/>
                  </a:lnTo>
                  <a:lnTo>
                    <a:pt x="1402" y="7966"/>
                  </a:lnTo>
                  <a:lnTo>
                    <a:pt x="1423" y="7987"/>
                  </a:lnTo>
                  <a:lnTo>
                    <a:pt x="1443" y="8008"/>
                  </a:lnTo>
                  <a:lnTo>
                    <a:pt x="1462" y="8030"/>
                  </a:lnTo>
                  <a:lnTo>
                    <a:pt x="1479" y="8052"/>
                  </a:lnTo>
                  <a:lnTo>
                    <a:pt x="1498" y="8076"/>
                  </a:lnTo>
                  <a:lnTo>
                    <a:pt x="1514" y="8099"/>
                  </a:lnTo>
                  <a:lnTo>
                    <a:pt x="1529" y="8123"/>
                  </a:lnTo>
                  <a:lnTo>
                    <a:pt x="1544" y="8148"/>
                  </a:lnTo>
                  <a:lnTo>
                    <a:pt x="1557" y="8172"/>
                  </a:lnTo>
                  <a:lnTo>
                    <a:pt x="1570" y="8197"/>
                  </a:lnTo>
                  <a:lnTo>
                    <a:pt x="1581" y="8223"/>
                  </a:lnTo>
                  <a:lnTo>
                    <a:pt x="1592" y="8249"/>
                  </a:lnTo>
                  <a:lnTo>
                    <a:pt x="1601" y="8275"/>
                  </a:lnTo>
                  <a:lnTo>
                    <a:pt x="1609" y="8301"/>
                  </a:lnTo>
                  <a:lnTo>
                    <a:pt x="1617" y="8328"/>
                  </a:lnTo>
                  <a:lnTo>
                    <a:pt x="1622" y="8354"/>
                  </a:lnTo>
                  <a:lnTo>
                    <a:pt x="1627" y="8380"/>
                  </a:lnTo>
                  <a:lnTo>
                    <a:pt x="1631" y="8406"/>
                  </a:lnTo>
                  <a:lnTo>
                    <a:pt x="1633" y="8433"/>
                  </a:lnTo>
                  <a:lnTo>
                    <a:pt x="1634" y="8459"/>
                  </a:lnTo>
                  <a:lnTo>
                    <a:pt x="1634" y="8484"/>
                  </a:lnTo>
                  <a:lnTo>
                    <a:pt x="1633" y="8510"/>
                  </a:lnTo>
                  <a:lnTo>
                    <a:pt x="1630" y="8536"/>
                  </a:lnTo>
                  <a:lnTo>
                    <a:pt x="1626" y="8562"/>
                  </a:lnTo>
                  <a:lnTo>
                    <a:pt x="1621" y="8586"/>
                  </a:lnTo>
                  <a:lnTo>
                    <a:pt x="1614" y="8611"/>
                  </a:lnTo>
                  <a:lnTo>
                    <a:pt x="1606" y="8635"/>
                  </a:lnTo>
                  <a:lnTo>
                    <a:pt x="1596" y="8656"/>
                  </a:lnTo>
                  <a:lnTo>
                    <a:pt x="1586" y="8678"/>
                  </a:lnTo>
                  <a:lnTo>
                    <a:pt x="1575" y="8698"/>
                  </a:lnTo>
                  <a:lnTo>
                    <a:pt x="1562" y="8717"/>
                  </a:lnTo>
                  <a:lnTo>
                    <a:pt x="1548" y="8735"/>
                  </a:lnTo>
                  <a:lnTo>
                    <a:pt x="1534" y="8753"/>
                  </a:lnTo>
                  <a:lnTo>
                    <a:pt x="1519" y="8769"/>
                  </a:lnTo>
                  <a:lnTo>
                    <a:pt x="1502" y="8784"/>
                  </a:lnTo>
                  <a:lnTo>
                    <a:pt x="1486" y="8798"/>
                  </a:lnTo>
                  <a:lnTo>
                    <a:pt x="1468" y="8810"/>
                  </a:lnTo>
                  <a:lnTo>
                    <a:pt x="1449" y="8821"/>
                  </a:lnTo>
                  <a:lnTo>
                    <a:pt x="1430" y="8832"/>
                  </a:lnTo>
                  <a:lnTo>
                    <a:pt x="1410" y="8842"/>
                  </a:lnTo>
                  <a:lnTo>
                    <a:pt x="1389" y="8849"/>
                  </a:lnTo>
                  <a:lnTo>
                    <a:pt x="1368" y="8857"/>
                  </a:lnTo>
                  <a:lnTo>
                    <a:pt x="1346" y="8862"/>
                  </a:lnTo>
                  <a:lnTo>
                    <a:pt x="1324" y="8866"/>
                  </a:lnTo>
                  <a:lnTo>
                    <a:pt x="1301" y="8869"/>
                  </a:lnTo>
                  <a:lnTo>
                    <a:pt x="1278" y="8872"/>
                  </a:lnTo>
                  <a:lnTo>
                    <a:pt x="1254" y="8873"/>
                  </a:lnTo>
                  <a:lnTo>
                    <a:pt x="1231" y="8873"/>
                  </a:lnTo>
                  <a:lnTo>
                    <a:pt x="1206" y="8871"/>
                  </a:lnTo>
                  <a:lnTo>
                    <a:pt x="1182" y="8867"/>
                  </a:lnTo>
                  <a:lnTo>
                    <a:pt x="1157" y="8863"/>
                  </a:lnTo>
                  <a:lnTo>
                    <a:pt x="1132" y="8858"/>
                  </a:lnTo>
                  <a:lnTo>
                    <a:pt x="1107" y="8850"/>
                  </a:lnTo>
                  <a:lnTo>
                    <a:pt x="1082" y="8843"/>
                  </a:lnTo>
                  <a:lnTo>
                    <a:pt x="1056" y="8833"/>
                  </a:lnTo>
                  <a:lnTo>
                    <a:pt x="1031" y="8821"/>
                  </a:lnTo>
                  <a:lnTo>
                    <a:pt x="1005" y="8809"/>
                  </a:lnTo>
                  <a:lnTo>
                    <a:pt x="980" y="8795"/>
                  </a:lnTo>
                  <a:lnTo>
                    <a:pt x="955" y="8780"/>
                  </a:lnTo>
                  <a:lnTo>
                    <a:pt x="930" y="8764"/>
                  </a:lnTo>
                  <a:lnTo>
                    <a:pt x="907" y="8747"/>
                  </a:lnTo>
                  <a:lnTo>
                    <a:pt x="884" y="8729"/>
                  </a:lnTo>
                  <a:lnTo>
                    <a:pt x="862" y="8710"/>
                  </a:lnTo>
                  <a:lnTo>
                    <a:pt x="840" y="8690"/>
                  </a:lnTo>
                  <a:lnTo>
                    <a:pt x="820" y="8670"/>
                  </a:lnTo>
                  <a:lnTo>
                    <a:pt x="799" y="8649"/>
                  </a:lnTo>
                  <a:lnTo>
                    <a:pt x="780" y="8627"/>
                  </a:lnTo>
                  <a:lnTo>
                    <a:pt x="762" y="8605"/>
                  </a:lnTo>
                  <a:lnTo>
                    <a:pt x="745" y="8582"/>
                  </a:lnTo>
                  <a:lnTo>
                    <a:pt x="729" y="8558"/>
                  </a:lnTo>
                  <a:lnTo>
                    <a:pt x="713" y="8534"/>
                  </a:lnTo>
                  <a:lnTo>
                    <a:pt x="699" y="8510"/>
                  </a:lnTo>
                  <a:lnTo>
                    <a:pt x="685" y="8484"/>
                  </a:lnTo>
                  <a:lnTo>
                    <a:pt x="673" y="8460"/>
                  </a:lnTo>
                  <a:lnTo>
                    <a:pt x="661" y="8434"/>
                  </a:lnTo>
                  <a:lnTo>
                    <a:pt x="650" y="8408"/>
                  </a:lnTo>
                  <a:lnTo>
                    <a:pt x="641" y="8383"/>
                  </a:lnTo>
                  <a:lnTo>
                    <a:pt x="633" y="8356"/>
                  </a:lnTo>
                  <a:lnTo>
                    <a:pt x="626" y="8330"/>
                  </a:lnTo>
                  <a:lnTo>
                    <a:pt x="620" y="8303"/>
                  </a:lnTo>
                  <a:lnTo>
                    <a:pt x="615" y="8277"/>
                  </a:lnTo>
                  <a:lnTo>
                    <a:pt x="612" y="8251"/>
                  </a:lnTo>
                  <a:lnTo>
                    <a:pt x="609" y="8225"/>
                  </a:lnTo>
                  <a:lnTo>
                    <a:pt x="608" y="8198"/>
                  </a:lnTo>
                  <a:lnTo>
                    <a:pt x="608" y="8172"/>
                  </a:lnTo>
                  <a:lnTo>
                    <a:pt x="610" y="8147"/>
                  </a:lnTo>
                  <a:lnTo>
                    <a:pt x="612" y="8121"/>
                  </a:lnTo>
                  <a:lnTo>
                    <a:pt x="616" y="8096"/>
                  </a:lnTo>
                  <a:lnTo>
                    <a:pt x="621" y="8071"/>
                  </a:lnTo>
                  <a:lnTo>
                    <a:pt x="629" y="8047"/>
                  </a:lnTo>
                  <a:lnTo>
                    <a:pt x="636" y="8023"/>
                  </a:lnTo>
                  <a:lnTo>
                    <a:pt x="645" y="8001"/>
                  </a:lnTo>
                  <a:lnTo>
                    <a:pt x="655" y="7979"/>
                  </a:lnTo>
                  <a:lnTo>
                    <a:pt x="666" y="7959"/>
                  </a:lnTo>
                  <a:lnTo>
                    <a:pt x="678" y="7940"/>
                  </a:lnTo>
                  <a:lnTo>
                    <a:pt x="691" y="7923"/>
                  </a:lnTo>
                  <a:lnTo>
                    <a:pt x="706" y="7905"/>
                  </a:lnTo>
                  <a:lnTo>
                    <a:pt x="721" y="7889"/>
                  </a:lnTo>
                  <a:lnTo>
                    <a:pt x="737" y="7874"/>
                  </a:lnTo>
                  <a:lnTo>
                    <a:pt x="754" y="7860"/>
                  </a:lnTo>
                  <a:lnTo>
                    <a:pt x="772" y="7847"/>
                  </a:lnTo>
                  <a:lnTo>
                    <a:pt x="791" y="7836"/>
                  </a:lnTo>
                  <a:lnTo>
                    <a:pt x="810" y="7825"/>
                  </a:lnTo>
                  <a:lnTo>
                    <a:pt x="830" y="7816"/>
                  </a:lnTo>
                  <a:lnTo>
                    <a:pt x="851" y="7808"/>
                  </a:lnTo>
                  <a:lnTo>
                    <a:pt x="872" y="7801"/>
                  </a:lnTo>
                  <a:lnTo>
                    <a:pt x="894" y="7795"/>
                  </a:lnTo>
                  <a:lnTo>
                    <a:pt x="916" y="7791"/>
                  </a:lnTo>
                  <a:lnTo>
                    <a:pt x="939" y="7787"/>
                  </a:lnTo>
                  <a:lnTo>
                    <a:pt x="963" y="7785"/>
                  </a:lnTo>
                  <a:lnTo>
                    <a:pt x="986" y="7784"/>
                  </a:lnTo>
                  <a:lnTo>
                    <a:pt x="1011" y="7785"/>
                  </a:lnTo>
                  <a:lnTo>
                    <a:pt x="1034" y="7786"/>
                  </a:lnTo>
                  <a:lnTo>
                    <a:pt x="1060" y="7790"/>
                  </a:lnTo>
                  <a:lnTo>
                    <a:pt x="1085" y="7794"/>
                  </a:lnTo>
                  <a:lnTo>
                    <a:pt x="1109" y="7799"/>
                  </a:lnTo>
                  <a:lnTo>
                    <a:pt x="1135" y="7807"/>
                  </a:lnTo>
                  <a:lnTo>
                    <a:pt x="1161" y="7815"/>
                  </a:lnTo>
                  <a:lnTo>
                    <a:pt x="1186" y="7825"/>
                  </a:lnTo>
                  <a:lnTo>
                    <a:pt x="1211" y="7836"/>
                  </a:lnTo>
                  <a:lnTo>
                    <a:pt x="1237" y="7849"/>
                  </a:lnTo>
                  <a:lnTo>
                    <a:pt x="1263" y="7862"/>
                  </a:lnTo>
                  <a:close/>
                  <a:moveTo>
                    <a:pt x="0" y="156"/>
                  </a:moveTo>
                  <a:lnTo>
                    <a:pt x="4" y="167"/>
                  </a:lnTo>
                  <a:lnTo>
                    <a:pt x="7" y="178"/>
                  </a:lnTo>
                  <a:lnTo>
                    <a:pt x="11" y="188"/>
                  </a:lnTo>
                  <a:lnTo>
                    <a:pt x="15" y="198"/>
                  </a:lnTo>
                  <a:lnTo>
                    <a:pt x="21" y="209"/>
                  </a:lnTo>
                  <a:lnTo>
                    <a:pt x="26" y="218"/>
                  </a:lnTo>
                  <a:lnTo>
                    <a:pt x="33" y="228"/>
                  </a:lnTo>
                  <a:lnTo>
                    <a:pt x="40" y="237"/>
                  </a:lnTo>
                  <a:lnTo>
                    <a:pt x="47" y="245"/>
                  </a:lnTo>
                  <a:lnTo>
                    <a:pt x="54" y="253"/>
                  </a:lnTo>
                  <a:lnTo>
                    <a:pt x="63" y="259"/>
                  </a:lnTo>
                  <a:lnTo>
                    <a:pt x="70" y="266"/>
                  </a:lnTo>
                  <a:lnTo>
                    <a:pt x="79" y="271"/>
                  </a:lnTo>
                  <a:lnTo>
                    <a:pt x="87" y="276"/>
                  </a:lnTo>
                  <a:lnTo>
                    <a:pt x="96" y="279"/>
                  </a:lnTo>
                  <a:lnTo>
                    <a:pt x="105" y="283"/>
                  </a:lnTo>
                  <a:lnTo>
                    <a:pt x="124" y="293"/>
                  </a:lnTo>
                  <a:lnTo>
                    <a:pt x="143" y="303"/>
                  </a:lnTo>
                  <a:lnTo>
                    <a:pt x="165" y="313"/>
                  </a:lnTo>
                  <a:lnTo>
                    <a:pt x="186" y="321"/>
                  </a:lnTo>
                  <a:lnTo>
                    <a:pt x="209" y="330"/>
                  </a:lnTo>
                  <a:lnTo>
                    <a:pt x="232" y="337"/>
                  </a:lnTo>
                  <a:lnTo>
                    <a:pt x="256" y="344"/>
                  </a:lnTo>
                  <a:lnTo>
                    <a:pt x="280" y="351"/>
                  </a:lnTo>
                  <a:lnTo>
                    <a:pt x="306" y="357"/>
                  </a:lnTo>
                  <a:lnTo>
                    <a:pt x="332" y="362"/>
                  </a:lnTo>
                  <a:lnTo>
                    <a:pt x="358" y="367"/>
                  </a:lnTo>
                  <a:lnTo>
                    <a:pt x="384" y="372"/>
                  </a:lnTo>
                  <a:lnTo>
                    <a:pt x="411" y="376"/>
                  </a:lnTo>
                  <a:lnTo>
                    <a:pt x="439" y="379"/>
                  </a:lnTo>
                  <a:lnTo>
                    <a:pt x="466" y="382"/>
                  </a:lnTo>
                  <a:lnTo>
                    <a:pt x="494" y="385"/>
                  </a:lnTo>
                  <a:lnTo>
                    <a:pt x="550" y="388"/>
                  </a:lnTo>
                  <a:lnTo>
                    <a:pt x="604" y="389"/>
                  </a:lnTo>
                  <a:lnTo>
                    <a:pt x="659" y="389"/>
                  </a:lnTo>
                  <a:lnTo>
                    <a:pt x="713" y="386"/>
                  </a:lnTo>
                  <a:lnTo>
                    <a:pt x="764" y="381"/>
                  </a:lnTo>
                  <a:lnTo>
                    <a:pt x="815" y="375"/>
                  </a:lnTo>
                  <a:lnTo>
                    <a:pt x="838" y="372"/>
                  </a:lnTo>
                  <a:lnTo>
                    <a:pt x="862" y="367"/>
                  </a:lnTo>
                  <a:lnTo>
                    <a:pt x="883" y="362"/>
                  </a:lnTo>
                  <a:lnTo>
                    <a:pt x="906" y="358"/>
                  </a:lnTo>
                  <a:lnTo>
                    <a:pt x="911" y="357"/>
                  </a:lnTo>
                  <a:lnTo>
                    <a:pt x="916" y="355"/>
                  </a:lnTo>
                  <a:lnTo>
                    <a:pt x="923" y="352"/>
                  </a:lnTo>
                  <a:lnTo>
                    <a:pt x="929" y="349"/>
                  </a:lnTo>
                  <a:lnTo>
                    <a:pt x="942" y="340"/>
                  </a:lnTo>
                  <a:lnTo>
                    <a:pt x="956" y="329"/>
                  </a:lnTo>
                  <a:lnTo>
                    <a:pt x="968" y="316"/>
                  </a:lnTo>
                  <a:lnTo>
                    <a:pt x="980" y="304"/>
                  </a:lnTo>
                  <a:lnTo>
                    <a:pt x="989" y="292"/>
                  </a:lnTo>
                  <a:lnTo>
                    <a:pt x="997" y="283"/>
                  </a:lnTo>
                  <a:lnTo>
                    <a:pt x="997" y="213"/>
                  </a:lnTo>
                  <a:lnTo>
                    <a:pt x="982" y="197"/>
                  </a:lnTo>
                  <a:lnTo>
                    <a:pt x="967" y="182"/>
                  </a:lnTo>
                  <a:lnTo>
                    <a:pt x="952" y="169"/>
                  </a:lnTo>
                  <a:lnTo>
                    <a:pt x="936" y="156"/>
                  </a:lnTo>
                  <a:lnTo>
                    <a:pt x="920" y="145"/>
                  </a:lnTo>
                  <a:lnTo>
                    <a:pt x="905" y="135"/>
                  </a:lnTo>
                  <a:lnTo>
                    <a:pt x="889" y="126"/>
                  </a:lnTo>
                  <a:lnTo>
                    <a:pt x="872" y="116"/>
                  </a:lnTo>
                  <a:lnTo>
                    <a:pt x="839" y="100"/>
                  </a:lnTo>
                  <a:lnTo>
                    <a:pt x="806" y="83"/>
                  </a:lnTo>
                  <a:lnTo>
                    <a:pt x="773" y="66"/>
                  </a:lnTo>
                  <a:lnTo>
                    <a:pt x="738" y="47"/>
                  </a:lnTo>
                  <a:lnTo>
                    <a:pt x="709" y="11"/>
                  </a:lnTo>
                  <a:lnTo>
                    <a:pt x="663" y="11"/>
                  </a:lnTo>
                  <a:lnTo>
                    <a:pt x="616" y="9"/>
                  </a:lnTo>
                  <a:lnTo>
                    <a:pt x="568" y="6"/>
                  </a:lnTo>
                  <a:lnTo>
                    <a:pt x="520" y="4"/>
                  </a:lnTo>
                  <a:lnTo>
                    <a:pt x="470" y="1"/>
                  </a:lnTo>
                  <a:lnTo>
                    <a:pt x="421" y="0"/>
                  </a:lnTo>
                  <a:lnTo>
                    <a:pt x="373" y="0"/>
                  </a:lnTo>
                  <a:lnTo>
                    <a:pt x="324" y="2"/>
                  </a:lnTo>
                  <a:lnTo>
                    <a:pt x="301" y="4"/>
                  </a:lnTo>
                  <a:lnTo>
                    <a:pt x="278" y="6"/>
                  </a:lnTo>
                  <a:lnTo>
                    <a:pt x="255" y="9"/>
                  </a:lnTo>
                  <a:lnTo>
                    <a:pt x="232" y="14"/>
                  </a:lnTo>
                  <a:lnTo>
                    <a:pt x="210" y="19"/>
                  </a:lnTo>
                  <a:lnTo>
                    <a:pt x="188" y="25"/>
                  </a:lnTo>
                  <a:lnTo>
                    <a:pt x="167" y="33"/>
                  </a:lnTo>
                  <a:lnTo>
                    <a:pt x="145" y="41"/>
                  </a:lnTo>
                  <a:lnTo>
                    <a:pt x="125" y="50"/>
                  </a:lnTo>
                  <a:lnTo>
                    <a:pt x="106" y="61"/>
                  </a:lnTo>
                  <a:lnTo>
                    <a:pt x="86" y="74"/>
                  </a:lnTo>
                  <a:lnTo>
                    <a:pt x="68" y="86"/>
                  </a:lnTo>
                  <a:lnTo>
                    <a:pt x="50" y="101"/>
                  </a:lnTo>
                  <a:lnTo>
                    <a:pt x="33" y="118"/>
                  </a:lnTo>
                  <a:lnTo>
                    <a:pt x="17" y="136"/>
                  </a:lnTo>
                  <a:lnTo>
                    <a:pt x="0" y="156"/>
                  </a:lnTo>
                  <a:close/>
                  <a:moveTo>
                    <a:pt x="2858" y="346"/>
                  </a:moveTo>
                  <a:lnTo>
                    <a:pt x="2875" y="360"/>
                  </a:lnTo>
                  <a:lnTo>
                    <a:pt x="2893" y="374"/>
                  </a:lnTo>
                  <a:lnTo>
                    <a:pt x="2910" y="390"/>
                  </a:lnTo>
                  <a:lnTo>
                    <a:pt x="2927" y="405"/>
                  </a:lnTo>
                  <a:lnTo>
                    <a:pt x="2944" y="420"/>
                  </a:lnTo>
                  <a:lnTo>
                    <a:pt x="2962" y="433"/>
                  </a:lnTo>
                  <a:lnTo>
                    <a:pt x="2979" y="446"/>
                  </a:lnTo>
                  <a:lnTo>
                    <a:pt x="2996" y="455"/>
                  </a:lnTo>
                  <a:lnTo>
                    <a:pt x="3023" y="468"/>
                  </a:lnTo>
                  <a:lnTo>
                    <a:pt x="3051" y="481"/>
                  </a:lnTo>
                  <a:lnTo>
                    <a:pt x="3077" y="493"/>
                  </a:lnTo>
                  <a:lnTo>
                    <a:pt x="3105" y="504"/>
                  </a:lnTo>
                  <a:lnTo>
                    <a:pt x="3133" y="513"/>
                  </a:lnTo>
                  <a:lnTo>
                    <a:pt x="3161" y="523"/>
                  </a:lnTo>
                  <a:lnTo>
                    <a:pt x="3189" y="531"/>
                  </a:lnTo>
                  <a:lnTo>
                    <a:pt x="3218" y="539"/>
                  </a:lnTo>
                  <a:lnTo>
                    <a:pt x="3246" y="546"/>
                  </a:lnTo>
                  <a:lnTo>
                    <a:pt x="3274" y="552"/>
                  </a:lnTo>
                  <a:lnTo>
                    <a:pt x="3303" y="557"/>
                  </a:lnTo>
                  <a:lnTo>
                    <a:pt x="3331" y="562"/>
                  </a:lnTo>
                  <a:lnTo>
                    <a:pt x="3360" y="565"/>
                  </a:lnTo>
                  <a:lnTo>
                    <a:pt x="3389" y="567"/>
                  </a:lnTo>
                  <a:lnTo>
                    <a:pt x="3416" y="568"/>
                  </a:lnTo>
                  <a:lnTo>
                    <a:pt x="3445" y="569"/>
                  </a:lnTo>
                  <a:lnTo>
                    <a:pt x="3474" y="568"/>
                  </a:lnTo>
                  <a:lnTo>
                    <a:pt x="3502" y="567"/>
                  </a:lnTo>
                  <a:lnTo>
                    <a:pt x="3531" y="565"/>
                  </a:lnTo>
                  <a:lnTo>
                    <a:pt x="3560" y="560"/>
                  </a:lnTo>
                  <a:lnTo>
                    <a:pt x="3588" y="556"/>
                  </a:lnTo>
                  <a:lnTo>
                    <a:pt x="3617" y="551"/>
                  </a:lnTo>
                  <a:lnTo>
                    <a:pt x="3645" y="544"/>
                  </a:lnTo>
                  <a:lnTo>
                    <a:pt x="3674" y="536"/>
                  </a:lnTo>
                  <a:lnTo>
                    <a:pt x="3702" y="527"/>
                  </a:lnTo>
                  <a:lnTo>
                    <a:pt x="3730" y="518"/>
                  </a:lnTo>
                  <a:lnTo>
                    <a:pt x="3757" y="506"/>
                  </a:lnTo>
                  <a:lnTo>
                    <a:pt x="3785" y="494"/>
                  </a:lnTo>
                  <a:lnTo>
                    <a:pt x="3813" y="480"/>
                  </a:lnTo>
                  <a:lnTo>
                    <a:pt x="3840" y="465"/>
                  </a:lnTo>
                  <a:lnTo>
                    <a:pt x="3868" y="449"/>
                  </a:lnTo>
                  <a:lnTo>
                    <a:pt x="3895" y="432"/>
                  </a:lnTo>
                  <a:lnTo>
                    <a:pt x="3912" y="415"/>
                  </a:lnTo>
                  <a:lnTo>
                    <a:pt x="3912" y="408"/>
                  </a:lnTo>
                  <a:lnTo>
                    <a:pt x="3911" y="402"/>
                  </a:lnTo>
                  <a:lnTo>
                    <a:pt x="3909" y="395"/>
                  </a:lnTo>
                  <a:lnTo>
                    <a:pt x="3907" y="388"/>
                  </a:lnTo>
                  <a:lnTo>
                    <a:pt x="3900" y="374"/>
                  </a:lnTo>
                  <a:lnTo>
                    <a:pt x="3893" y="360"/>
                  </a:lnTo>
                  <a:lnTo>
                    <a:pt x="3883" y="346"/>
                  </a:lnTo>
                  <a:lnTo>
                    <a:pt x="3871" y="332"/>
                  </a:lnTo>
                  <a:lnTo>
                    <a:pt x="3859" y="319"/>
                  </a:lnTo>
                  <a:lnTo>
                    <a:pt x="3845" y="305"/>
                  </a:lnTo>
                  <a:lnTo>
                    <a:pt x="3833" y="292"/>
                  </a:lnTo>
                  <a:lnTo>
                    <a:pt x="3819" y="281"/>
                  </a:lnTo>
                  <a:lnTo>
                    <a:pt x="3805" y="270"/>
                  </a:lnTo>
                  <a:lnTo>
                    <a:pt x="3791" y="259"/>
                  </a:lnTo>
                  <a:lnTo>
                    <a:pt x="3765" y="242"/>
                  </a:lnTo>
                  <a:lnTo>
                    <a:pt x="3745" y="230"/>
                  </a:lnTo>
                  <a:lnTo>
                    <a:pt x="3676" y="211"/>
                  </a:lnTo>
                  <a:lnTo>
                    <a:pt x="3602" y="190"/>
                  </a:lnTo>
                  <a:lnTo>
                    <a:pt x="3562" y="181"/>
                  </a:lnTo>
                  <a:lnTo>
                    <a:pt x="3523" y="172"/>
                  </a:lnTo>
                  <a:lnTo>
                    <a:pt x="3483" y="166"/>
                  </a:lnTo>
                  <a:lnTo>
                    <a:pt x="3442" y="159"/>
                  </a:lnTo>
                  <a:lnTo>
                    <a:pt x="3401" y="155"/>
                  </a:lnTo>
                  <a:lnTo>
                    <a:pt x="3361" y="153"/>
                  </a:lnTo>
                  <a:lnTo>
                    <a:pt x="3340" y="153"/>
                  </a:lnTo>
                  <a:lnTo>
                    <a:pt x="3320" y="153"/>
                  </a:lnTo>
                  <a:lnTo>
                    <a:pt x="3301" y="154"/>
                  </a:lnTo>
                  <a:lnTo>
                    <a:pt x="3281" y="155"/>
                  </a:lnTo>
                  <a:lnTo>
                    <a:pt x="3261" y="157"/>
                  </a:lnTo>
                  <a:lnTo>
                    <a:pt x="3243" y="160"/>
                  </a:lnTo>
                  <a:lnTo>
                    <a:pt x="3223" y="165"/>
                  </a:lnTo>
                  <a:lnTo>
                    <a:pt x="3205" y="169"/>
                  </a:lnTo>
                  <a:lnTo>
                    <a:pt x="3187" y="174"/>
                  </a:lnTo>
                  <a:lnTo>
                    <a:pt x="3169" y="181"/>
                  </a:lnTo>
                  <a:lnTo>
                    <a:pt x="3151" y="188"/>
                  </a:lnTo>
                  <a:lnTo>
                    <a:pt x="3134" y="196"/>
                  </a:lnTo>
                  <a:lnTo>
                    <a:pt x="3099" y="209"/>
                  </a:lnTo>
                  <a:lnTo>
                    <a:pt x="3061" y="222"/>
                  </a:lnTo>
                  <a:lnTo>
                    <a:pt x="3023" y="234"/>
                  </a:lnTo>
                  <a:lnTo>
                    <a:pt x="2985" y="249"/>
                  </a:lnTo>
                  <a:lnTo>
                    <a:pt x="2967" y="258"/>
                  </a:lnTo>
                  <a:lnTo>
                    <a:pt x="2949" y="267"/>
                  </a:lnTo>
                  <a:lnTo>
                    <a:pt x="2932" y="277"/>
                  </a:lnTo>
                  <a:lnTo>
                    <a:pt x="2914" y="288"/>
                  </a:lnTo>
                  <a:lnTo>
                    <a:pt x="2899" y="301"/>
                  </a:lnTo>
                  <a:lnTo>
                    <a:pt x="2884" y="314"/>
                  </a:lnTo>
                  <a:lnTo>
                    <a:pt x="2870" y="329"/>
                  </a:lnTo>
                  <a:lnTo>
                    <a:pt x="2858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27400" y="4330800"/>
              <a:ext cx="175320" cy="171360"/>
            </a:xfrm>
            <a:custGeom>
              <a:avLst/>
              <a:gdLst/>
              <a:ahLst/>
              <a:rect l="l" t="t" r="r" b="b"/>
              <a:pathLst>
                <a:path w="1026" h="1089">
                  <a:moveTo>
                    <a:pt x="655" y="78"/>
                  </a:moveTo>
                  <a:lnTo>
                    <a:pt x="679" y="93"/>
                  </a:lnTo>
                  <a:lnTo>
                    <a:pt x="704" y="110"/>
                  </a:lnTo>
                  <a:lnTo>
                    <a:pt x="728" y="127"/>
                  </a:lnTo>
                  <a:lnTo>
                    <a:pt x="750" y="144"/>
                  </a:lnTo>
                  <a:lnTo>
                    <a:pt x="773" y="163"/>
                  </a:lnTo>
                  <a:lnTo>
                    <a:pt x="794" y="182"/>
                  </a:lnTo>
                  <a:lnTo>
                    <a:pt x="815" y="203"/>
                  </a:lnTo>
                  <a:lnTo>
                    <a:pt x="835" y="224"/>
                  </a:lnTo>
                  <a:lnTo>
                    <a:pt x="854" y="246"/>
                  </a:lnTo>
                  <a:lnTo>
                    <a:pt x="871" y="268"/>
                  </a:lnTo>
                  <a:lnTo>
                    <a:pt x="890" y="292"/>
                  </a:lnTo>
                  <a:lnTo>
                    <a:pt x="906" y="315"/>
                  </a:lnTo>
                  <a:lnTo>
                    <a:pt x="921" y="339"/>
                  </a:lnTo>
                  <a:lnTo>
                    <a:pt x="936" y="364"/>
                  </a:lnTo>
                  <a:lnTo>
                    <a:pt x="949" y="388"/>
                  </a:lnTo>
                  <a:lnTo>
                    <a:pt x="962" y="413"/>
                  </a:lnTo>
                  <a:lnTo>
                    <a:pt x="973" y="439"/>
                  </a:lnTo>
                  <a:lnTo>
                    <a:pt x="984" y="465"/>
                  </a:lnTo>
                  <a:lnTo>
                    <a:pt x="993" y="491"/>
                  </a:lnTo>
                  <a:lnTo>
                    <a:pt x="1001" y="517"/>
                  </a:lnTo>
                  <a:lnTo>
                    <a:pt x="1009" y="544"/>
                  </a:lnTo>
                  <a:lnTo>
                    <a:pt x="1014" y="570"/>
                  </a:lnTo>
                  <a:lnTo>
                    <a:pt x="1019" y="596"/>
                  </a:lnTo>
                  <a:lnTo>
                    <a:pt x="1023" y="622"/>
                  </a:lnTo>
                  <a:lnTo>
                    <a:pt x="1025" y="649"/>
                  </a:lnTo>
                  <a:lnTo>
                    <a:pt x="1026" y="675"/>
                  </a:lnTo>
                  <a:lnTo>
                    <a:pt x="1026" y="700"/>
                  </a:lnTo>
                  <a:lnTo>
                    <a:pt x="1025" y="726"/>
                  </a:lnTo>
                  <a:lnTo>
                    <a:pt x="1022" y="752"/>
                  </a:lnTo>
                  <a:lnTo>
                    <a:pt x="1018" y="778"/>
                  </a:lnTo>
                  <a:lnTo>
                    <a:pt x="1013" y="802"/>
                  </a:lnTo>
                  <a:lnTo>
                    <a:pt x="1006" y="827"/>
                  </a:lnTo>
                  <a:lnTo>
                    <a:pt x="998" y="851"/>
                  </a:lnTo>
                  <a:lnTo>
                    <a:pt x="988" y="872"/>
                  </a:lnTo>
                  <a:lnTo>
                    <a:pt x="978" y="894"/>
                  </a:lnTo>
                  <a:lnTo>
                    <a:pt x="967" y="914"/>
                  </a:lnTo>
                  <a:lnTo>
                    <a:pt x="954" y="933"/>
                  </a:lnTo>
                  <a:lnTo>
                    <a:pt x="940" y="951"/>
                  </a:lnTo>
                  <a:lnTo>
                    <a:pt x="926" y="969"/>
                  </a:lnTo>
                  <a:lnTo>
                    <a:pt x="911" y="985"/>
                  </a:lnTo>
                  <a:lnTo>
                    <a:pt x="894" y="1000"/>
                  </a:lnTo>
                  <a:lnTo>
                    <a:pt x="878" y="1014"/>
                  </a:lnTo>
                  <a:lnTo>
                    <a:pt x="860" y="1026"/>
                  </a:lnTo>
                  <a:lnTo>
                    <a:pt x="841" y="1037"/>
                  </a:lnTo>
                  <a:lnTo>
                    <a:pt x="822" y="1048"/>
                  </a:lnTo>
                  <a:lnTo>
                    <a:pt x="802" y="1058"/>
                  </a:lnTo>
                  <a:lnTo>
                    <a:pt x="781" y="1065"/>
                  </a:lnTo>
                  <a:lnTo>
                    <a:pt x="760" y="1073"/>
                  </a:lnTo>
                  <a:lnTo>
                    <a:pt x="738" y="1078"/>
                  </a:lnTo>
                  <a:lnTo>
                    <a:pt x="716" y="1082"/>
                  </a:lnTo>
                  <a:lnTo>
                    <a:pt x="693" y="1085"/>
                  </a:lnTo>
                  <a:lnTo>
                    <a:pt x="670" y="1088"/>
                  </a:lnTo>
                  <a:lnTo>
                    <a:pt x="646" y="1089"/>
                  </a:lnTo>
                  <a:lnTo>
                    <a:pt x="623" y="1089"/>
                  </a:lnTo>
                  <a:lnTo>
                    <a:pt x="598" y="1087"/>
                  </a:lnTo>
                  <a:lnTo>
                    <a:pt x="574" y="1083"/>
                  </a:lnTo>
                  <a:lnTo>
                    <a:pt x="549" y="1079"/>
                  </a:lnTo>
                  <a:lnTo>
                    <a:pt x="524" y="1074"/>
                  </a:lnTo>
                  <a:lnTo>
                    <a:pt x="499" y="1066"/>
                  </a:lnTo>
                  <a:lnTo>
                    <a:pt x="474" y="1059"/>
                  </a:lnTo>
                  <a:lnTo>
                    <a:pt x="448" y="1049"/>
                  </a:lnTo>
                  <a:lnTo>
                    <a:pt x="423" y="1037"/>
                  </a:lnTo>
                  <a:lnTo>
                    <a:pt x="397" y="1025"/>
                  </a:lnTo>
                  <a:lnTo>
                    <a:pt x="372" y="1011"/>
                  </a:lnTo>
                  <a:lnTo>
                    <a:pt x="347" y="996"/>
                  </a:lnTo>
                  <a:lnTo>
                    <a:pt x="322" y="980"/>
                  </a:lnTo>
                  <a:lnTo>
                    <a:pt x="299" y="963"/>
                  </a:lnTo>
                  <a:lnTo>
                    <a:pt x="276" y="945"/>
                  </a:lnTo>
                  <a:lnTo>
                    <a:pt x="254" y="926"/>
                  </a:lnTo>
                  <a:lnTo>
                    <a:pt x="232" y="906"/>
                  </a:lnTo>
                  <a:lnTo>
                    <a:pt x="212" y="886"/>
                  </a:lnTo>
                  <a:lnTo>
                    <a:pt x="191" y="865"/>
                  </a:lnTo>
                  <a:lnTo>
                    <a:pt x="172" y="843"/>
                  </a:lnTo>
                  <a:lnTo>
                    <a:pt x="154" y="821"/>
                  </a:lnTo>
                  <a:lnTo>
                    <a:pt x="137" y="798"/>
                  </a:lnTo>
                  <a:lnTo>
                    <a:pt x="121" y="774"/>
                  </a:lnTo>
                  <a:lnTo>
                    <a:pt x="105" y="750"/>
                  </a:lnTo>
                  <a:lnTo>
                    <a:pt x="91" y="726"/>
                  </a:lnTo>
                  <a:lnTo>
                    <a:pt x="77" y="700"/>
                  </a:lnTo>
                  <a:lnTo>
                    <a:pt x="65" y="676"/>
                  </a:lnTo>
                  <a:lnTo>
                    <a:pt x="53" y="650"/>
                  </a:lnTo>
                  <a:lnTo>
                    <a:pt x="42" y="624"/>
                  </a:lnTo>
                  <a:lnTo>
                    <a:pt x="33" y="599"/>
                  </a:lnTo>
                  <a:lnTo>
                    <a:pt x="25" y="572"/>
                  </a:lnTo>
                  <a:lnTo>
                    <a:pt x="18" y="546"/>
                  </a:lnTo>
                  <a:lnTo>
                    <a:pt x="12" y="519"/>
                  </a:lnTo>
                  <a:lnTo>
                    <a:pt x="7" y="493"/>
                  </a:lnTo>
                  <a:lnTo>
                    <a:pt x="4" y="467"/>
                  </a:lnTo>
                  <a:lnTo>
                    <a:pt x="1" y="441"/>
                  </a:lnTo>
                  <a:lnTo>
                    <a:pt x="0" y="414"/>
                  </a:lnTo>
                  <a:lnTo>
                    <a:pt x="0" y="388"/>
                  </a:lnTo>
                  <a:lnTo>
                    <a:pt x="2" y="363"/>
                  </a:lnTo>
                  <a:lnTo>
                    <a:pt x="4" y="337"/>
                  </a:lnTo>
                  <a:lnTo>
                    <a:pt x="8" y="312"/>
                  </a:lnTo>
                  <a:lnTo>
                    <a:pt x="13" y="287"/>
                  </a:lnTo>
                  <a:lnTo>
                    <a:pt x="21" y="263"/>
                  </a:lnTo>
                  <a:lnTo>
                    <a:pt x="28" y="239"/>
                  </a:lnTo>
                  <a:lnTo>
                    <a:pt x="37" y="217"/>
                  </a:lnTo>
                  <a:lnTo>
                    <a:pt x="47" y="195"/>
                  </a:lnTo>
                  <a:lnTo>
                    <a:pt x="58" y="175"/>
                  </a:lnTo>
                  <a:lnTo>
                    <a:pt x="70" y="156"/>
                  </a:lnTo>
                  <a:lnTo>
                    <a:pt x="83" y="139"/>
                  </a:lnTo>
                  <a:lnTo>
                    <a:pt x="98" y="121"/>
                  </a:lnTo>
                  <a:lnTo>
                    <a:pt x="113" y="105"/>
                  </a:lnTo>
                  <a:lnTo>
                    <a:pt x="129" y="90"/>
                  </a:lnTo>
                  <a:lnTo>
                    <a:pt x="146" y="76"/>
                  </a:lnTo>
                  <a:lnTo>
                    <a:pt x="164" y="63"/>
                  </a:lnTo>
                  <a:lnTo>
                    <a:pt x="183" y="52"/>
                  </a:lnTo>
                  <a:lnTo>
                    <a:pt x="202" y="41"/>
                  </a:lnTo>
                  <a:lnTo>
                    <a:pt x="222" y="32"/>
                  </a:lnTo>
                  <a:lnTo>
                    <a:pt x="243" y="24"/>
                  </a:lnTo>
                  <a:lnTo>
                    <a:pt x="264" y="17"/>
                  </a:lnTo>
                  <a:lnTo>
                    <a:pt x="286" y="11"/>
                  </a:lnTo>
                  <a:lnTo>
                    <a:pt x="308" y="7"/>
                  </a:lnTo>
                  <a:lnTo>
                    <a:pt x="331" y="3"/>
                  </a:lnTo>
                  <a:lnTo>
                    <a:pt x="355" y="1"/>
                  </a:lnTo>
                  <a:lnTo>
                    <a:pt x="378" y="0"/>
                  </a:lnTo>
                  <a:lnTo>
                    <a:pt x="403" y="1"/>
                  </a:lnTo>
                  <a:lnTo>
                    <a:pt x="426" y="2"/>
                  </a:lnTo>
                  <a:lnTo>
                    <a:pt x="452" y="6"/>
                  </a:lnTo>
                  <a:lnTo>
                    <a:pt x="477" y="10"/>
                  </a:lnTo>
                  <a:lnTo>
                    <a:pt x="501" y="15"/>
                  </a:lnTo>
                  <a:lnTo>
                    <a:pt x="527" y="23"/>
                  </a:lnTo>
                  <a:lnTo>
                    <a:pt x="553" y="31"/>
                  </a:lnTo>
                  <a:lnTo>
                    <a:pt x="578" y="41"/>
                  </a:lnTo>
                  <a:lnTo>
                    <a:pt x="603" y="52"/>
                  </a:lnTo>
                  <a:lnTo>
                    <a:pt x="629" y="65"/>
                  </a:lnTo>
                  <a:lnTo>
                    <a:pt x="655" y="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22640" y="3094200"/>
              <a:ext cx="171720" cy="61920"/>
            </a:xfrm>
            <a:custGeom>
              <a:avLst/>
              <a:gdLst/>
              <a:ahLst/>
              <a:rect l="l" t="t" r="r" b="b"/>
              <a:pathLst>
                <a:path w="997" h="389">
                  <a:moveTo>
                    <a:pt x="0" y="156"/>
                  </a:moveTo>
                  <a:lnTo>
                    <a:pt x="4" y="167"/>
                  </a:lnTo>
                  <a:lnTo>
                    <a:pt x="7" y="178"/>
                  </a:lnTo>
                  <a:lnTo>
                    <a:pt x="11" y="188"/>
                  </a:lnTo>
                  <a:lnTo>
                    <a:pt x="15" y="198"/>
                  </a:lnTo>
                  <a:lnTo>
                    <a:pt x="21" y="209"/>
                  </a:lnTo>
                  <a:lnTo>
                    <a:pt x="26" y="218"/>
                  </a:lnTo>
                  <a:lnTo>
                    <a:pt x="33" y="228"/>
                  </a:lnTo>
                  <a:lnTo>
                    <a:pt x="40" y="237"/>
                  </a:lnTo>
                  <a:lnTo>
                    <a:pt x="47" y="245"/>
                  </a:lnTo>
                  <a:lnTo>
                    <a:pt x="54" y="253"/>
                  </a:lnTo>
                  <a:lnTo>
                    <a:pt x="63" y="259"/>
                  </a:lnTo>
                  <a:lnTo>
                    <a:pt x="70" y="266"/>
                  </a:lnTo>
                  <a:lnTo>
                    <a:pt x="79" y="271"/>
                  </a:lnTo>
                  <a:lnTo>
                    <a:pt x="87" y="276"/>
                  </a:lnTo>
                  <a:lnTo>
                    <a:pt x="96" y="279"/>
                  </a:lnTo>
                  <a:lnTo>
                    <a:pt x="105" y="283"/>
                  </a:lnTo>
                  <a:lnTo>
                    <a:pt x="124" y="293"/>
                  </a:lnTo>
                  <a:lnTo>
                    <a:pt x="143" y="303"/>
                  </a:lnTo>
                  <a:lnTo>
                    <a:pt x="165" y="313"/>
                  </a:lnTo>
                  <a:lnTo>
                    <a:pt x="186" y="321"/>
                  </a:lnTo>
                  <a:lnTo>
                    <a:pt x="209" y="330"/>
                  </a:lnTo>
                  <a:lnTo>
                    <a:pt x="232" y="337"/>
                  </a:lnTo>
                  <a:lnTo>
                    <a:pt x="256" y="344"/>
                  </a:lnTo>
                  <a:lnTo>
                    <a:pt x="280" y="351"/>
                  </a:lnTo>
                  <a:lnTo>
                    <a:pt x="306" y="357"/>
                  </a:lnTo>
                  <a:lnTo>
                    <a:pt x="332" y="362"/>
                  </a:lnTo>
                  <a:lnTo>
                    <a:pt x="358" y="367"/>
                  </a:lnTo>
                  <a:lnTo>
                    <a:pt x="384" y="372"/>
                  </a:lnTo>
                  <a:lnTo>
                    <a:pt x="411" y="376"/>
                  </a:lnTo>
                  <a:lnTo>
                    <a:pt x="439" y="379"/>
                  </a:lnTo>
                  <a:lnTo>
                    <a:pt x="466" y="382"/>
                  </a:lnTo>
                  <a:lnTo>
                    <a:pt x="494" y="385"/>
                  </a:lnTo>
                  <a:lnTo>
                    <a:pt x="550" y="388"/>
                  </a:lnTo>
                  <a:lnTo>
                    <a:pt x="604" y="389"/>
                  </a:lnTo>
                  <a:lnTo>
                    <a:pt x="659" y="389"/>
                  </a:lnTo>
                  <a:lnTo>
                    <a:pt x="713" y="386"/>
                  </a:lnTo>
                  <a:lnTo>
                    <a:pt x="764" y="381"/>
                  </a:lnTo>
                  <a:lnTo>
                    <a:pt x="815" y="375"/>
                  </a:lnTo>
                  <a:lnTo>
                    <a:pt x="838" y="372"/>
                  </a:lnTo>
                  <a:lnTo>
                    <a:pt x="862" y="367"/>
                  </a:lnTo>
                  <a:lnTo>
                    <a:pt x="883" y="362"/>
                  </a:lnTo>
                  <a:lnTo>
                    <a:pt x="906" y="358"/>
                  </a:lnTo>
                  <a:lnTo>
                    <a:pt x="911" y="357"/>
                  </a:lnTo>
                  <a:lnTo>
                    <a:pt x="916" y="355"/>
                  </a:lnTo>
                  <a:lnTo>
                    <a:pt x="923" y="352"/>
                  </a:lnTo>
                  <a:lnTo>
                    <a:pt x="929" y="349"/>
                  </a:lnTo>
                  <a:lnTo>
                    <a:pt x="942" y="340"/>
                  </a:lnTo>
                  <a:lnTo>
                    <a:pt x="956" y="329"/>
                  </a:lnTo>
                  <a:lnTo>
                    <a:pt x="968" y="316"/>
                  </a:lnTo>
                  <a:lnTo>
                    <a:pt x="980" y="304"/>
                  </a:lnTo>
                  <a:lnTo>
                    <a:pt x="989" y="292"/>
                  </a:lnTo>
                  <a:lnTo>
                    <a:pt x="997" y="283"/>
                  </a:lnTo>
                  <a:lnTo>
                    <a:pt x="997" y="213"/>
                  </a:lnTo>
                  <a:lnTo>
                    <a:pt x="982" y="197"/>
                  </a:lnTo>
                  <a:lnTo>
                    <a:pt x="967" y="182"/>
                  </a:lnTo>
                  <a:lnTo>
                    <a:pt x="952" y="169"/>
                  </a:lnTo>
                  <a:lnTo>
                    <a:pt x="936" y="156"/>
                  </a:lnTo>
                  <a:lnTo>
                    <a:pt x="920" y="145"/>
                  </a:lnTo>
                  <a:lnTo>
                    <a:pt x="905" y="135"/>
                  </a:lnTo>
                  <a:lnTo>
                    <a:pt x="889" y="126"/>
                  </a:lnTo>
                  <a:lnTo>
                    <a:pt x="872" y="116"/>
                  </a:lnTo>
                  <a:lnTo>
                    <a:pt x="839" y="100"/>
                  </a:lnTo>
                  <a:lnTo>
                    <a:pt x="806" y="83"/>
                  </a:lnTo>
                  <a:lnTo>
                    <a:pt x="773" y="66"/>
                  </a:lnTo>
                  <a:lnTo>
                    <a:pt x="738" y="47"/>
                  </a:lnTo>
                  <a:lnTo>
                    <a:pt x="709" y="11"/>
                  </a:lnTo>
                  <a:lnTo>
                    <a:pt x="663" y="11"/>
                  </a:lnTo>
                  <a:lnTo>
                    <a:pt x="616" y="9"/>
                  </a:lnTo>
                  <a:lnTo>
                    <a:pt x="568" y="6"/>
                  </a:lnTo>
                  <a:lnTo>
                    <a:pt x="520" y="4"/>
                  </a:lnTo>
                  <a:lnTo>
                    <a:pt x="470" y="1"/>
                  </a:lnTo>
                  <a:lnTo>
                    <a:pt x="421" y="0"/>
                  </a:lnTo>
                  <a:lnTo>
                    <a:pt x="373" y="0"/>
                  </a:lnTo>
                  <a:lnTo>
                    <a:pt x="324" y="2"/>
                  </a:lnTo>
                  <a:lnTo>
                    <a:pt x="301" y="4"/>
                  </a:lnTo>
                  <a:lnTo>
                    <a:pt x="278" y="6"/>
                  </a:lnTo>
                  <a:lnTo>
                    <a:pt x="255" y="9"/>
                  </a:lnTo>
                  <a:lnTo>
                    <a:pt x="232" y="14"/>
                  </a:lnTo>
                  <a:lnTo>
                    <a:pt x="210" y="19"/>
                  </a:lnTo>
                  <a:lnTo>
                    <a:pt x="188" y="25"/>
                  </a:lnTo>
                  <a:lnTo>
                    <a:pt x="167" y="33"/>
                  </a:lnTo>
                  <a:lnTo>
                    <a:pt x="145" y="41"/>
                  </a:lnTo>
                  <a:lnTo>
                    <a:pt x="125" y="50"/>
                  </a:lnTo>
                  <a:lnTo>
                    <a:pt x="106" y="61"/>
                  </a:lnTo>
                  <a:lnTo>
                    <a:pt x="86" y="74"/>
                  </a:lnTo>
                  <a:lnTo>
                    <a:pt x="68" y="86"/>
                  </a:lnTo>
                  <a:lnTo>
                    <a:pt x="50" y="101"/>
                  </a:lnTo>
                  <a:lnTo>
                    <a:pt x="33" y="118"/>
                  </a:lnTo>
                  <a:lnTo>
                    <a:pt x="17" y="136"/>
                  </a:lnTo>
                  <a:lnTo>
                    <a:pt x="0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14400" y="3117960"/>
              <a:ext cx="180360" cy="66600"/>
            </a:xfrm>
            <a:custGeom>
              <a:avLst/>
              <a:gdLst/>
              <a:ahLst/>
              <a:rect l="l" t="t" r="r" b="b"/>
              <a:pathLst>
                <a:path w="1054" h="416">
                  <a:moveTo>
                    <a:pt x="0" y="193"/>
                  </a:moveTo>
                  <a:lnTo>
                    <a:pt x="17" y="207"/>
                  </a:lnTo>
                  <a:lnTo>
                    <a:pt x="35" y="221"/>
                  </a:lnTo>
                  <a:lnTo>
                    <a:pt x="52" y="237"/>
                  </a:lnTo>
                  <a:lnTo>
                    <a:pt x="69" y="252"/>
                  </a:lnTo>
                  <a:lnTo>
                    <a:pt x="86" y="267"/>
                  </a:lnTo>
                  <a:lnTo>
                    <a:pt x="104" y="280"/>
                  </a:lnTo>
                  <a:lnTo>
                    <a:pt x="121" y="293"/>
                  </a:lnTo>
                  <a:lnTo>
                    <a:pt x="138" y="302"/>
                  </a:lnTo>
                  <a:lnTo>
                    <a:pt x="165" y="315"/>
                  </a:lnTo>
                  <a:lnTo>
                    <a:pt x="193" y="328"/>
                  </a:lnTo>
                  <a:lnTo>
                    <a:pt x="219" y="340"/>
                  </a:lnTo>
                  <a:lnTo>
                    <a:pt x="247" y="351"/>
                  </a:lnTo>
                  <a:lnTo>
                    <a:pt x="275" y="360"/>
                  </a:lnTo>
                  <a:lnTo>
                    <a:pt x="303" y="370"/>
                  </a:lnTo>
                  <a:lnTo>
                    <a:pt x="331" y="378"/>
                  </a:lnTo>
                  <a:lnTo>
                    <a:pt x="360" y="386"/>
                  </a:lnTo>
                  <a:lnTo>
                    <a:pt x="388" y="393"/>
                  </a:lnTo>
                  <a:lnTo>
                    <a:pt x="416" y="399"/>
                  </a:lnTo>
                  <a:lnTo>
                    <a:pt x="445" y="404"/>
                  </a:lnTo>
                  <a:lnTo>
                    <a:pt x="473" y="409"/>
                  </a:lnTo>
                  <a:lnTo>
                    <a:pt x="502" y="412"/>
                  </a:lnTo>
                  <a:lnTo>
                    <a:pt x="531" y="414"/>
                  </a:lnTo>
                  <a:lnTo>
                    <a:pt x="558" y="415"/>
                  </a:lnTo>
                  <a:lnTo>
                    <a:pt x="587" y="416"/>
                  </a:lnTo>
                  <a:lnTo>
                    <a:pt x="616" y="415"/>
                  </a:lnTo>
                  <a:lnTo>
                    <a:pt x="644" y="414"/>
                  </a:lnTo>
                  <a:lnTo>
                    <a:pt x="673" y="412"/>
                  </a:lnTo>
                  <a:lnTo>
                    <a:pt x="702" y="407"/>
                  </a:lnTo>
                  <a:lnTo>
                    <a:pt x="730" y="403"/>
                  </a:lnTo>
                  <a:lnTo>
                    <a:pt x="759" y="398"/>
                  </a:lnTo>
                  <a:lnTo>
                    <a:pt x="787" y="391"/>
                  </a:lnTo>
                  <a:lnTo>
                    <a:pt x="816" y="383"/>
                  </a:lnTo>
                  <a:lnTo>
                    <a:pt x="844" y="374"/>
                  </a:lnTo>
                  <a:lnTo>
                    <a:pt x="872" y="365"/>
                  </a:lnTo>
                  <a:lnTo>
                    <a:pt x="899" y="353"/>
                  </a:lnTo>
                  <a:lnTo>
                    <a:pt x="927" y="341"/>
                  </a:lnTo>
                  <a:lnTo>
                    <a:pt x="955" y="327"/>
                  </a:lnTo>
                  <a:lnTo>
                    <a:pt x="982" y="312"/>
                  </a:lnTo>
                  <a:lnTo>
                    <a:pt x="1010" y="296"/>
                  </a:lnTo>
                  <a:lnTo>
                    <a:pt x="1037" y="279"/>
                  </a:lnTo>
                  <a:lnTo>
                    <a:pt x="1054" y="262"/>
                  </a:lnTo>
                  <a:lnTo>
                    <a:pt x="1054" y="255"/>
                  </a:lnTo>
                  <a:lnTo>
                    <a:pt x="1053" y="249"/>
                  </a:lnTo>
                  <a:lnTo>
                    <a:pt x="1051" y="242"/>
                  </a:lnTo>
                  <a:lnTo>
                    <a:pt x="1049" y="235"/>
                  </a:lnTo>
                  <a:lnTo>
                    <a:pt x="1042" y="221"/>
                  </a:lnTo>
                  <a:lnTo>
                    <a:pt x="1035" y="207"/>
                  </a:lnTo>
                  <a:lnTo>
                    <a:pt x="1025" y="193"/>
                  </a:lnTo>
                  <a:lnTo>
                    <a:pt x="1013" y="179"/>
                  </a:lnTo>
                  <a:lnTo>
                    <a:pt x="1001" y="166"/>
                  </a:lnTo>
                  <a:lnTo>
                    <a:pt x="987" y="152"/>
                  </a:lnTo>
                  <a:lnTo>
                    <a:pt x="975" y="139"/>
                  </a:lnTo>
                  <a:lnTo>
                    <a:pt x="961" y="128"/>
                  </a:lnTo>
                  <a:lnTo>
                    <a:pt x="947" y="117"/>
                  </a:lnTo>
                  <a:lnTo>
                    <a:pt x="933" y="106"/>
                  </a:lnTo>
                  <a:lnTo>
                    <a:pt x="907" y="89"/>
                  </a:lnTo>
                  <a:lnTo>
                    <a:pt x="887" y="77"/>
                  </a:lnTo>
                  <a:lnTo>
                    <a:pt x="818" y="58"/>
                  </a:lnTo>
                  <a:lnTo>
                    <a:pt x="744" y="37"/>
                  </a:lnTo>
                  <a:lnTo>
                    <a:pt x="704" y="28"/>
                  </a:lnTo>
                  <a:lnTo>
                    <a:pt x="665" y="19"/>
                  </a:lnTo>
                  <a:lnTo>
                    <a:pt x="625" y="13"/>
                  </a:lnTo>
                  <a:lnTo>
                    <a:pt x="584" y="6"/>
                  </a:lnTo>
                  <a:lnTo>
                    <a:pt x="543" y="2"/>
                  </a:lnTo>
                  <a:lnTo>
                    <a:pt x="503" y="0"/>
                  </a:lnTo>
                  <a:lnTo>
                    <a:pt x="482" y="0"/>
                  </a:lnTo>
                  <a:lnTo>
                    <a:pt x="462" y="0"/>
                  </a:lnTo>
                  <a:lnTo>
                    <a:pt x="443" y="1"/>
                  </a:lnTo>
                  <a:lnTo>
                    <a:pt x="423" y="2"/>
                  </a:lnTo>
                  <a:lnTo>
                    <a:pt x="403" y="4"/>
                  </a:lnTo>
                  <a:lnTo>
                    <a:pt x="385" y="7"/>
                  </a:lnTo>
                  <a:lnTo>
                    <a:pt x="365" y="12"/>
                  </a:lnTo>
                  <a:lnTo>
                    <a:pt x="347" y="16"/>
                  </a:lnTo>
                  <a:lnTo>
                    <a:pt x="329" y="21"/>
                  </a:lnTo>
                  <a:lnTo>
                    <a:pt x="311" y="28"/>
                  </a:lnTo>
                  <a:lnTo>
                    <a:pt x="293" y="35"/>
                  </a:lnTo>
                  <a:lnTo>
                    <a:pt x="276" y="43"/>
                  </a:lnTo>
                  <a:lnTo>
                    <a:pt x="241" y="56"/>
                  </a:lnTo>
                  <a:lnTo>
                    <a:pt x="203" y="69"/>
                  </a:lnTo>
                  <a:lnTo>
                    <a:pt x="165" y="81"/>
                  </a:lnTo>
                  <a:lnTo>
                    <a:pt x="127" y="96"/>
                  </a:lnTo>
                  <a:lnTo>
                    <a:pt x="109" y="105"/>
                  </a:lnTo>
                  <a:lnTo>
                    <a:pt x="91" y="114"/>
                  </a:lnTo>
                  <a:lnTo>
                    <a:pt x="74" y="124"/>
                  </a:lnTo>
                  <a:lnTo>
                    <a:pt x="56" y="135"/>
                  </a:lnTo>
                  <a:lnTo>
                    <a:pt x="41" y="148"/>
                  </a:lnTo>
                  <a:lnTo>
                    <a:pt x="26" y="161"/>
                  </a:lnTo>
                  <a:lnTo>
                    <a:pt x="12" y="176"/>
                  </a:lnTo>
                  <a:lnTo>
                    <a:pt x="0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75520" y="3254400"/>
              <a:ext cx="395280" cy="414360"/>
            </a:xfrm>
            <a:custGeom>
              <a:avLst/>
              <a:gdLst/>
              <a:ahLst/>
              <a:rect l="l" t="t" r="r" b="b"/>
              <a:pathLst>
                <a:path w="2298" h="2616">
                  <a:moveTo>
                    <a:pt x="0" y="2369"/>
                  </a:moveTo>
                  <a:lnTo>
                    <a:pt x="30" y="2406"/>
                  </a:lnTo>
                  <a:lnTo>
                    <a:pt x="58" y="2440"/>
                  </a:lnTo>
                  <a:lnTo>
                    <a:pt x="86" y="2473"/>
                  </a:lnTo>
                  <a:lnTo>
                    <a:pt x="112" y="2503"/>
                  </a:lnTo>
                  <a:lnTo>
                    <a:pt x="140" y="2533"/>
                  </a:lnTo>
                  <a:lnTo>
                    <a:pt x="169" y="2560"/>
                  </a:lnTo>
                  <a:lnTo>
                    <a:pt x="199" y="2588"/>
                  </a:lnTo>
                  <a:lnTo>
                    <a:pt x="230" y="2616"/>
                  </a:lnTo>
                  <a:lnTo>
                    <a:pt x="259" y="2616"/>
                  </a:lnTo>
                  <a:lnTo>
                    <a:pt x="286" y="2615"/>
                  </a:lnTo>
                  <a:lnTo>
                    <a:pt x="311" y="2614"/>
                  </a:lnTo>
                  <a:lnTo>
                    <a:pt x="331" y="2612"/>
                  </a:lnTo>
                  <a:lnTo>
                    <a:pt x="351" y="2610"/>
                  </a:lnTo>
                  <a:lnTo>
                    <a:pt x="369" y="2606"/>
                  </a:lnTo>
                  <a:lnTo>
                    <a:pt x="384" y="2600"/>
                  </a:lnTo>
                  <a:lnTo>
                    <a:pt x="399" y="2594"/>
                  </a:lnTo>
                  <a:lnTo>
                    <a:pt x="413" y="2585"/>
                  </a:lnTo>
                  <a:lnTo>
                    <a:pt x="426" y="2575"/>
                  </a:lnTo>
                  <a:lnTo>
                    <a:pt x="437" y="2564"/>
                  </a:lnTo>
                  <a:lnTo>
                    <a:pt x="450" y="2551"/>
                  </a:lnTo>
                  <a:lnTo>
                    <a:pt x="463" y="2535"/>
                  </a:lnTo>
                  <a:lnTo>
                    <a:pt x="477" y="2517"/>
                  </a:lnTo>
                  <a:lnTo>
                    <a:pt x="491" y="2495"/>
                  </a:lnTo>
                  <a:lnTo>
                    <a:pt x="507" y="2473"/>
                  </a:lnTo>
                  <a:lnTo>
                    <a:pt x="506" y="2460"/>
                  </a:lnTo>
                  <a:lnTo>
                    <a:pt x="505" y="2447"/>
                  </a:lnTo>
                  <a:lnTo>
                    <a:pt x="502" y="2436"/>
                  </a:lnTo>
                  <a:lnTo>
                    <a:pt x="499" y="2424"/>
                  </a:lnTo>
                  <a:lnTo>
                    <a:pt x="494" y="2415"/>
                  </a:lnTo>
                  <a:lnTo>
                    <a:pt x="489" y="2404"/>
                  </a:lnTo>
                  <a:lnTo>
                    <a:pt x="484" y="2394"/>
                  </a:lnTo>
                  <a:lnTo>
                    <a:pt x="476" y="2385"/>
                  </a:lnTo>
                  <a:lnTo>
                    <a:pt x="470" y="2376"/>
                  </a:lnTo>
                  <a:lnTo>
                    <a:pt x="461" y="2367"/>
                  </a:lnTo>
                  <a:lnTo>
                    <a:pt x="452" y="2359"/>
                  </a:lnTo>
                  <a:lnTo>
                    <a:pt x="444" y="2351"/>
                  </a:lnTo>
                  <a:lnTo>
                    <a:pt x="425" y="2335"/>
                  </a:lnTo>
                  <a:lnTo>
                    <a:pt x="403" y="2320"/>
                  </a:lnTo>
                  <a:lnTo>
                    <a:pt x="358" y="2290"/>
                  </a:lnTo>
                  <a:lnTo>
                    <a:pt x="312" y="2260"/>
                  </a:lnTo>
                  <a:lnTo>
                    <a:pt x="291" y="2245"/>
                  </a:lnTo>
                  <a:lnTo>
                    <a:pt x="269" y="2228"/>
                  </a:lnTo>
                  <a:lnTo>
                    <a:pt x="258" y="2218"/>
                  </a:lnTo>
                  <a:lnTo>
                    <a:pt x="249" y="2210"/>
                  </a:lnTo>
                  <a:lnTo>
                    <a:pt x="239" y="2200"/>
                  </a:lnTo>
                  <a:lnTo>
                    <a:pt x="230" y="2189"/>
                  </a:lnTo>
                  <a:lnTo>
                    <a:pt x="207" y="2190"/>
                  </a:lnTo>
                  <a:lnTo>
                    <a:pt x="185" y="2190"/>
                  </a:lnTo>
                  <a:lnTo>
                    <a:pt x="166" y="2192"/>
                  </a:lnTo>
                  <a:lnTo>
                    <a:pt x="148" y="2194"/>
                  </a:lnTo>
                  <a:lnTo>
                    <a:pt x="132" y="2198"/>
                  </a:lnTo>
                  <a:lnTo>
                    <a:pt x="118" y="2202"/>
                  </a:lnTo>
                  <a:lnTo>
                    <a:pt x="104" y="2209"/>
                  </a:lnTo>
                  <a:lnTo>
                    <a:pt x="91" y="2216"/>
                  </a:lnTo>
                  <a:lnTo>
                    <a:pt x="79" y="2226"/>
                  </a:lnTo>
                  <a:lnTo>
                    <a:pt x="69" y="2239"/>
                  </a:lnTo>
                  <a:lnTo>
                    <a:pt x="57" y="2253"/>
                  </a:lnTo>
                  <a:lnTo>
                    <a:pt x="46" y="2270"/>
                  </a:lnTo>
                  <a:lnTo>
                    <a:pt x="35" y="2290"/>
                  </a:lnTo>
                  <a:lnTo>
                    <a:pt x="25" y="2313"/>
                  </a:lnTo>
                  <a:lnTo>
                    <a:pt x="13" y="2338"/>
                  </a:lnTo>
                  <a:lnTo>
                    <a:pt x="0" y="2369"/>
                  </a:lnTo>
                  <a:close/>
                  <a:moveTo>
                    <a:pt x="513" y="899"/>
                  </a:moveTo>
                  <a:lnTo>
                    <a:pt x="789" y="1181"/>
                  </a:lnTo>
                  <a:lnTo>
                    <a:pt x="802" y="1186"/>
                  </a:lnTo>
                  <a:lnTo>
                    <a:pt x="815" y="1188"/>
                  </a:lnTo>
                  <a:lnTo>
                    <a:pt x="827" y="1190"/>
                  </a:lnTo>
                  <a:lnTo>
                    <a:pt x="839" y="1190"/>
                  </a:lnTo>
                  <a:lnTo>
                    <a:pt x="849" y="1191"/>
                  </a:lnTo>
                  <a:lnTo>
                    <a:pt x="860" y="1190"/>
                  </a:lnTo>
                  <a:lnTo>
                    <a:pt x="870" y="1189"/>
                  </a:lnTo>
                  <a:lnTo>
                    <a:pt x="879" y="1187"/>
                  </a:lnTo>
                  <a:lnTo>
                    <a:pt x="889" y="1185"/>
                  </a:lnTo>
                  <a:lnTo>
                    <a:pt x="898" y="1181"/>
                  </a:lnTo>
                  <a:lnTo>
                    <a:pt x="905" y="1178"/>
                  </a:lnTo>
                  <a:lnTo>
                    <a:pt x="914" y="1174"/>
                  </a:lnTo>
                  <a:lnTo>
                    <a:pt x="921" y="1170"/>
                  </a:lnTo>
                  <a:lnTo>
                    <a:pt x="928" y="1165"/>
                  </a:lnTo>
                  <a:lnTo>
                    <a:pt x="934" y="1160"/>
                  </a:lnTo>
                  <a:lnTo>
                    <a:pt x="940" y="1155"/>
                  </a:lnTo>
                  <a:lnTo>
                    <a:pt x="951" y="1143"/>
                  </a:lnTo>
                  <a:lnTo>
                    <a:pt x="961" y="1130"/>
                  </a:lnTo>
                  <a:lnTo>
                    <a:pt x="969" y="1116"/>
                  </a:lnTo>
                  <a:lnTo>
                    <a:pt x="977" y="1102"/>
                  </a:lnTo>
                  <a:lnTo>
                    <a:pt x="983" y="1089"/>
                  </a:lnTo>
                  <a:lnTo>
                    <a:pt x="989" y="1075"/>
                  </a:lnTo>
                  <a:lnTo>
                    <a:pt x="993" y="1061"/>
                  </a:lnTo>
                  <a:lnTo>
                    <a:pt x="996" y="1049"/>
                  </a:lnTo>
                  <a:lnTo>
                    <a:pt x="967" y="996"/>
                  </a:lnTo>
                  <a:lnTo>
                    <a:pt x="939" y="948"/>
                  </a:lnTo>
                  <a:lnTo>
                    <a:pt x="913" y="904"/>
                  </a:lnTo>
                  <a:lnTo>
                    <a:pt x="884" y="860"/>
                  </a:lnTo>
                  <a:lnTo>
                    <a:pt x="854" y="817"/>
                  </a:lnTo>
                  <a:lnTo>
                    <a:pt x="820" y="773"/>
                  </a:lnTo>
                  <a:lnTo>
                    <a:pt x="782" y="727"/>
                  </a:lnTo>
                  <a:lnTo>
                    <a:pt x="737" y="675"/>
                  </a:lnTo>
                  <a:lnTo>
                    <a:pt x="727" y="662"/>
                  </a:lnTo>
                  <a:lnTo>
                    <a:pt x="715" y="652"/>
                  </a:lnTo>
                  <a:lnTo>
                    <a:pt x="703" y="643"/>
                  </a:lnTo>
                  <a:lnTo>
                    <a:pt x="692" y="636"/>
                  </a:lnTo>
                  <a:lnTo>
                    <a:pt x="680" y="629"/>
                  </a:lnTo>
                  <a:lnTo>
                    <a:pt x="667" y="625"/>
                  </a:lnTo>
                  <a:lnTo>
                    <a:pt x="654" y="623"/>
                  </a:lnTo>
                  <a:lnTo>
                    <a:pt x="641" y="622"/>
                  </a:lnTo>
                  <a:lnTo>
                    <a:pt x="628" y="622"/>
                  </a:lnTo>
                  <a:lnTo>
                    <a:pt x="615" y="623"/>
                  </a:lnTo>
                  <a:lnTo>
                    <a:pt x="603" y="626"/>
                  </a:lnTo>
                  <a:lnTo>
                    <a:pt x="591" y="630"/>
                  </a:lnTo>
                  <a:lnTo>
                    <a:pt x="579" y="636"/>
                  </a:lnTo>
                  <a:lnTo>
                    <a:pt x="567" y="642"/>
                  </a:lnTo>
                  <a:lnTo>
                    <a:pt x="555" y="649"/>
                  </a:lnTo>
                  <a:lnTo>
                    <a:pt x="545" y="658"/>
                  </a:lnTo>
                  <a:lnTo>
                    <a:pt x="535" y="668"/>
                  </a:lnTo>
                  <a:lnTo>
                    <a:pt x="525" y="678"/>
                  </a:lnTo>
                  <a:lnTo>
                    <a:pt x="517" y="689"/>
                  </a:lnTo>
                  <a:lnTo>
                    <a:pt x="509" y="702"/>
                  </a:lnTo>
                  <a:lnTo>
                    <a:pt x="503" y="715"/>
                  </a:lnTo>
                  <a:lnTo>
                    <a:pt x="496" y="729"/>
                  </a:lnTo>
                  <a:lnTo>
                    <a:pt x="492" y="744"/>
                  </a:lnTo>
                  <a:lnTo>
                    <a:pt x="489" y="759"/>
                  </a:lnTo>
                  <a:lnTo>
                    <a:pt x="487" y="775"/>
                  </a:lnTo>
                  <a:lnTo>
                    <a:pt x="486" y="792"/>
                  </a:lnTo>
                  <a:lnTo>
                    <a:pt x="486" y="809"/>
                  </a:lnTo>
                  <a:lnTo>
                    <a:pt x="488" y="826"/>
                  </a:lnTo>
                  <a:lnTo>
                    <a:pt x="491" y="845"/>
                  </a:lnTo>
                  <a:lnTo>
                    <a:pt x="496" y="863"/>
                  </a:lnTo>
                  <a:lnTo>
                    <a:pt x="504" y="881"/>
                  </a:lnTo>
                  <a:lnTo>
                    <a:pt x="513" y="899"/>
                  </a:lnTo>
                  <a:close/>
                  <a:moveTo>
                    <a:pt x="899" y="301"/>
                  </a:moveTo>
                  <a:lnTo>
                    <a:pt x="917" y="323"/>
                  </a:lnTo>
                  <a:lnTo>
                    <a:pt x="936" y="346"/>
                  </a:lnTo>
                  <a:lnTo>
                    <a:pt x="958" y="367"/>
                  </a:lnTo>
                  <a:lnTo>
                    <a:pt x="980" y="390"/>
                  </a:lnTo>
                  <a:lnTo>
                    <a:pt x="1028" y="433"/>
                  </a:lnTo>
                  <a:lnTo>
                    <a:pt x="1077" y="474"/>
                  </a:lnTo>
                  <a:lnTo>
                    <a:pt x="1123" y="512"/>
                  </a:lnTo>
                  <a:lnTo>
                    <a:pt x="1167" y="549"/>
                  </a:lnTo>
                  <a:lnTo>
                    <a:pt x="1186" y="566"/>
                  </a:lnTo>
                  <a:lnTo>
                    <a:pt x="1204" y="582"/>
                  </a:lnTo>
                  <a:lnTo>
                    <a:pt x="1219" y="597"/>
                  </a:lnTo>
                  <a:lnTo>
                    <a:pt x="1232" y="612"/>
                  </a:lnTo>
                  <a:lnTo>
                    <a:pt x="1279" y="613"/>
                  </a:lnTo>
                  <a:lnTo>
                    <a:pt x="1323" y="616"/>
                  </a:lnTo>
                  <a:lnTo>
                    <a:pt x="1345" y="617"/>
                  </a:lnTo>
                  <a:lnTo>
                    <a:pt x="1365" y="617"/>
                  </a:lnTo>
                  <a:lnTo>
                    <a:pt x="1383" y="616"/>
                  </a:lnTo>
                  <a:lnTo>
                    <a:pt x="1401" y="612"/>
                  </a:lnTo>
                  <a:lnTo>
                    <a:pt x="1409" y="610"/>
                  </a:lnTo>
                  <a:lnTo>
                    <a:pt x="1417" y="607"/>
                  </a:lnTo>
                  <a:lnTo>
                    <a:pt x="1424" y="602"/>
                  </a:lnTo>
                  <a:lnTo>
                    <a:pt x="1432" y="598"/>
                  </a:lnTo>
                  <a:lnTo>
                    <a:pt x="1438" y="593"/>
                  </a:lnTo>
                  <a:lnTo>
                    <a:pt x="1443" y="586"/>
                  </a:lnTo>
                  <a:lnTo>
                    <a:pt x="1450" y="579"/>
                  </a:lnTo>
                  <a:lnTo>
                    <a:pt x="1454" y="570"/>
                  </a:lnTo>
                  <a:lnTo>
                    <a:pt x="1460" y="562"/>
                  </a:lnTo>
                  <a:lnTo>
                    <a:pt x="1463" y="551"/>
                  </a:lnTo>
                  <a:lnTo>
                    <a:pt x="1466" y="539"/>
                  </a:lnTo>
                  <a:lnTo>
                    <a:pt x="1469" y="526"/>
                  </a:lnTo>
                  <a:lnTo>
                    <a:pt x="1471" y="512"/>
                  </a:lnTo>
                  <a:lnTo>
                    <a:pt x="1473" y="497"/>
                  </a:lnTo>
                  <a:lnTo>
                    <a:pt x="1475" y="480"/>
                  </a:lnTo>
                  <a:lnTo>
                    <a:pt x="1475" y="462"/>
                  </a:lnTo>
                  <a:lnTo>
                    <a:pt x="1457" y="425"/>
                  </a:lnTo>
                  <a:lnTo>
                    <a:pt x="1433" y="378"/>
                  </a:lnTo>
                  <a:lnTo>
                    <a:pt x="1404" y="325"/>
                  </a:lnTo>
                  <a:lnTo>
                    <a:pt x="1371" y="267"/>
                  </a:lnTo>
                  <a:lnTo>
                    <a:pt x="1337" y="210"/>
                  </a:lnTo>
                  <a:lnTo>
                    <a:pt x="1304" y="156"/>
                  </a:lnTo>
                  <a:lnTo>
                    <a:pt x="1275" y="111"/>
                  </a:lnTo>
                  <a:lnTo>
                    <a:pt x="1250" y="76"/>
                  </a:lnTo>
                  <a:lnTo>
                    <a:pt x="1229" y="61"/>
                  </a:lnTo>
                  <a:lnTo>
                    <a:pt x="1209" y="47"/>
                  </a:lnTo>
                  <a:lnTo>
                    <a:pt x="1188" y="35"/>
                  </a:lnTo>
                  <a:lnTo>
                    <a:pt x="1168" y="24"/>
                  </a:lnTo>
                  <a:lnTo>
                    <a:pt x="1149" y="16"/>
                  </a:lnTo>
                  <a:lnTo>
                    <a:pt x="1130" y="9"/>
                  </a:lnTo>
                  <a:lnTo>
                    <a:pt x="1112" y="4"/>
                  </a:lnTo>
                  <a:lnTo>
                    <a:pt x="1094" y="1"/>
                  </a:lnTo>
                  <a:lnTo>
                    <a:pt x="1077" y="0"/>
                  </a:lnTo>
                  <a:lnTo>
                    <a:pt x="1060" y="0"/>
                  </a:lnTo>
                  <a:lnTo>
                    <a:pt x="1043" y="1"/>
                  </a:lnTo>
                  <a:lnTo>
                    <a:pt x="1027" y="4"/>
                  </a:lnTo>
                  <a:lnTo>
                    <a:pt x="1013" y="7"/>
                  </a:lnTo>
                  <a:lnTo>
                    <a:pt x="998" y="14"/>
                  </a:lnTo>
                  <a:lnTo>
                    <a:pt x="986" y="20"/>
                  </a:lnTo>
                  <a:lnTo>
                    <a:pt x="973" y="29"/>
                  </a:lnTo>
                  <a:lnTo>
                    <a:pt x="961" y="38"/>
                  </a:lnTo>
                  <a:lnTo>
                    <a:pt x="950" y="49"/>
                  </a:lnTo>
                  <a:lnTo>
                    <a:pt x="939" y="61"/>
                  </a:lnTo>
                  <a:lnTo>
                    <a:pt x="930" y="74"/>
                  </a:lnTo>
                  <a:lnTo>
                    <a:pt x="922" y="87"/>
                  </a:lnTo>
                  <a:lnTo>
                    <a:pt x="915" y="103"/>
                  </a:lnTo>
                  <a:lnTo>
                    <a:pt x="908" y="119"/>
                  </a:lnTo>
                  <a:lnTo>
                    <a:pt x="902" y="136"/>
                  </a:lnTo>
                  <a:lnTo>
                    <a:pt x="898" y="154"/>
                  </a:lnTo>
                  <a:lnTo>
                    <a:pt x="894" y="172"/>
                  </a:lnTo>
                  <a:lnTo>
                    <a:pt x="892" y="193"/>
                  </a:lnTo>
                  <a:lnTo>
                    <a:pt x="891" y="213"/>
                  </a:lnTo>
                  <a:lnTo>
                    <a:pt x="891" y="233"/>
                  </a:lnTo>
                  <a:lnTo>
                    <a:pt x="892" y="256"/>
                  </a:lnTo>
                  <a:lnTo>
                    <a:pt x="894" y="277"/>
                  </a:lnTo>
                  <a:lnTo>
                    <a:pt x="899" y="301"/>
                  </a:lnTo>
                  <a:close/>
                  <a:moveTo>
                    <a:pt x="1768" y="623"/>
                  </a:moveTo>
                  <a:lnTo>
                    <a:pt x="1777" y="634"/>
                  </a:lnTo>
                  <a:lnTo>
                    <a:pt x="1786" y="644"/>
                  </a:lnTo>
                  <a:lnTo>
                    <a:pt x="1795" y="654"/>
                  </a:lnTo>
                  <a:lnTo>
                    <a:pt x="1805" y="662"/>
                  </a:lnTo>
                  <a:lnTo>
                    <a:pt x="1823" y="678"/>
                  </a:lnTo>
                  <a:lnTo>
                    <a:pt x="1844" y="692"/>
                  </a:lnTo>
                  <a:lnTo>
                    <a:pt x="1863" y="704"/>
                  </a:lnTo>
                  <a:lnTo>
                    <a:pt x="1883" y="715"/>
                  </a:lnTo>
                  <a:lnTo>
                    <a:pt x="1902" y="725"/>
                  </a:lnTo>
                  <a:lnTo>
                    <a:pt x="1923" y="733"/>
                  </a:lnTo>
                  <a:lnTo>
                    <a:pt x="1960" y="748"/>
                  </a:lnTo>
                  <a:lnTo>
                    <a:pt x="1995" y="764"/>
                  </a:lnTo>
                  <a:lnTo>
                    <a:pt x="2011" y="773"/>
                  </a:lnTo>
                  <a:lnTo>
                    <a:pt x="2026" y="783"/>
                  </a:lnTo>
                  <a:lnTo>
                    <a:pt x="2032" y="789"/>
                  </a:lnTo>
                  <a:lnTo>
                    <a:pt x="2039" y="794"/>
                  </a:lnTo>
                  <a:lnTo>
                    <a:pt x="2045" y="801"/>
                  </a:lnTo>
                  <a:lnTo>
                    <a:pt x="2051" y="807"/>
                  </a:lnTo>
                  <a:lnTo>
                    <a:pt x="2099" y="809"/>
                  </a:lnTo>
                  <a:lnTo>
                    <a:pt x="2145" y="812"/>
                  </a:lnTo>
                  <a:lnTo>
                    <a:pt x="2166" y="814"/>
                  </a:lnTo>
                  <a:lnTo>
                    <a:pt x="2187" y="814"/>
                  </a:lnTo>
                  <a:lnTo>
                    <a:pt x="2206" y="811"/>
                  </a:lnTo>
                  <a:lnTo>
                    <a:pt x="2224" y="808"/>
                  </a:lnTo>
                  <a:lnTo>
                    <a:pt x="2233" y="806"/>
                  </a:lnTo>
                  <a:lnTo>
                    <a:pt x="2240" y="803"/>
                  </a:lnTo>
                  <a:lnTo>
                    <a:pt x="2248" y="799"/>
                  </a:lnTo>
                  <a:lnTo>
                    <a:pt x="2254" y="794"/>
                  </a:lnTo>
                  <a:lnTo>
                    <a:pt x="2262" y="788"/>
                  </a:lnTo>
                  <a:lnTo>
                    <a:pt x="2267" y="781"/>
                  </a:lnTo>
                  <a:lnTo>
                    <a:pt x="2274" y="775"/>
                  </a:lnTo>
                  <a:lnTo>
                    <a:pt x="2278" y="766"/>
                  </a:lnTo>
                  <a:lnTo>
                    <a:pt x="2283" y="757"/>
                  </a:lnTo>
                  <a:lnTo>
                    <a:pt x="2286" y="746"/>
                  </a:lnTo>
                  <a:lnTo>
                    <a:pt x="2290" y="735"/>
                  </a:lnTo>
                  <a:lnTo>
                    <a:pt x="2293" y="722"/>
                  </a:lnTo>
                  <a:lnTo>
                    <a:pt x="2295" y="708"/>
                  </a:lnTo>
                  <a:lnTo>
                    <a:pt x="2297" y="692"/>
                  </a:lnTo>
                  <a:lnTo>
                    <a:pt x="2298" y="676"/>
                  </a:lnTo>
                  <a:lnTo>
                    <a:pt x="2298" y="658"/>
                  </a:lnTo>
                  <a:lnTo>
                    <a:pt x="2281" y="627"/>
                  </a:lnTo>
                  <a:lnTo>
                    <a:pt x="2262" y="594"/>
                  </a:lnTo>
                  <a:lnTo>
                    <a:pt x="2239" y="560"/>
                  </a:lnTo>
                  <a:lnTo>
                    <a:pt x="2216" y="526"/>
                  </a:lnTo>
                  <a:lnTo>
                    <a:pt x="2191" y="492"/>
                  </a:lnTo>
                  <a:lnTo>
                    <a:pt x="2166" y="460"/>
                  </a:lnTo>
                  <a:lnTo>
                    <a:pt x="2143" y="427"/>
                  </a:lnTo>
                  <a:lnTo>
                    <a:pt x="2120" y="398"/>
                  </a:lnTo>
                  <a:lnTo>
                    <a:pt x="2099" y="382"/>
                  </a:lnTo>
                  <a:lnTo>
                    <a:pt x="2078" y="368"/>
                  </a:lnTo>
                  <a:lnTo>
                    <a:pt x="2058" y="356"/>
                  </a:lnTo>
                  <a:lnTo>
                    <a:pt x="2039" y="345"/>
                  </a:lnTo>
                  <a:lnTo>
                    <a:pt x="2019" y="336"/>
                  </a:lnTo>
                  <a:lnTo>
                    <a:pt x="2001" y="330"/>
                  </a:lnTo>
                  <a:lnTo>
                    <a:pt x="1983" y="325"/>
                  </a:lnTo>
                  <a:lnTo>
                    <a:pt x="1965" y="321"/>
                  </a:lnTo>
                  <a:lnTo>
                    <a:pt x="1949" y="319"/>
                  </a:lnTo>
                  <a:lnTo>
                    <a:pt x="1931" y="319"/>
                  </a:lnTo>
                  <a:lnTo>
                    <a:pt x="1915" y="320"/>
                  </a:lnTo>
                  <a:lnTo>
                    <a:pt x="1900" y="323"/>
                  </a:lnTo>
                  <a:lnTo>
                    <a:pt x="1886" y="328"/>
                  </a:lnTo>
                  <a:lnTo>
                    <a:pt x="1872" y="333"/>
                  </a:lnTo>
                  <a:lnTo>
                    <a:pt x="1860" y="341"/>
                  </a:lnTo>
                  <a:lnTo>
                    <a:pt x="1847" y="349"/>
                  </a:lnTo>
                  <a:lnTo>
                    <a:pt x="1835" y="359"/>
                  </a:lnTo>
                  <a:lnTo>
                    <a:pt x="1824" y="370"/>
                  </a:lnTo>
                  <a:lnTo>
                    <a:pt x="1815" y="381"/>
                  </a:lnTo>
                  <a:lnTo>
                    <a:pt x="1805" y="394"/>
                  </a:lnTo>
                  <a:lnTo>
                    <a:pt x="1796" y="409"/>
                  </a:lnTo>
                  <a:lnTo>
                    <a:pt x="1789" y="424"/>
                  </a:lnTo>
                  <a:lnTo>
                    <a:pt x="1782" y="440"/>
                  </a:lnTo>
                  <a:lnTo>
                    <a:pt x="1777" y="457"/>
                  </a:lnTo>
                  <a:lnTo>
                    <a:pt x="1773" y="476"/>
                  </a:lnTo>
                  <a:lnTo>
                    <a:pt x="1768" y="495"/>
                  </a:lnTo>
                  <a:lnTo>
                    <a:pt x="1766" y="514"/>
                  </a:lnTo>
                  <a:lnTo>
                    <a:pt x="1764" y="535"/>
                  </a:lnTo>
                  <a:lnTo>
                    <a:pt x="1763" y="556"/>
                  </a:lnTo>
                  <a:lnTo>
                    <a:pt x="1764" y="578"/>
                  </a:lnTo>
                  <a:lnTo>
                    <a:pt x="1765" y="600"/>
                  </a:lnTo>
                  <a:lnTo>
                    <a:pt x="1768" y="623"/>
                  </a:lnTo>
                  <a:close/>
                </a:path>
              </a:pathLst>
            </a:cu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75520" y="3602160"/>
              <a:ext cx="87480" cy="66600"/>
            </a:xfrm>
            <a:custGeom>
              <a:avLst/>
              <a:gdLst/>
              <a:ahLst/>
              <a:rect l="l" t="t" r="r" b="b"/>
              <a:pathLst>
                <a:path w="507" h="427">
                  <a:moveTo>
                    <a:pt x="0" y="180"/>
                  </a:moveTo>
                  <a:lnTo>
                    <a:pt x="30" y="217"/>
                  </a:lnTo>
                  <a:lnTo>
                    <a:pt x="58" y="251"/>
                  </a:lnTo>
                  <a:lnTo>
                    <a:pt x="86" y="284"/>
                  </a:lnTo>
                  <a:lnTo>
                    <a:pt x="112" y="314"/>
                  </a:lnTo>
                  <a:lnTo>
                    <a:pt x="140" y="344"/>
                  </a:lnTo>
                  <a:lnTo>
                    <a:pt x="169" y="371"/>
                  </a:lnTo>
                  <a:lnTo>
                    <a:pt x="199" y="399"/>
                  </a:lnTo>
                  <a:lnTo>
                    <a:pt x="230" y="427"/>
                  </a:lnTo>
                  <a:lnTo>
                    <a:pt x="259" y="427"/>
                  </a:lnTo>
                  <a:lnTo>
                    <a:pt x="286" y="426"/>
                  </a:lnTo>
                  <a:lnTo>
                    <a:pt x="311" y="425"/>
                  </a:lnTo>
                  <a:lnTo>
                    <a:pt x="331" y="423"/>
                  </a:lnTo>
                  <a:lnTo>
                    <a:pt x="351" y="421"/>
                  </a:lnTo>
                  <a:lnTo>
                    <a:pt x="369" y="417"/>
                  </a:lnTo>
                  <a:lnTo>
                    <a:pt x="384" y="411"/>
                  </a:lnTo>
                  <a:lnTo>
                    <a:pt x="399" y="405"/>
                  </a:lnTo>
                  <a:lnTo>
                    <a:pt x="413" y="396"/>
                  </a:lnTo>
                  <a:lnTo>
                    <a:pt x="426" y="386"/>
                  </a:lnTo>
                  <a:lnTo>
                    <a:pt x="437" y="375"/>
                  </a:lnTo>
                  <a:lnTo>
                    <a:pt x="450" y="362"/>
                  </a:lnTo>
                  <a:lnTo>
                    <a:pt x="463" y="346"/>
                  </a:lnTo>
                  <a:lnTo>
                    <a:pt x="477" y="328"/>
                  </a:lnTo>
                  <a:lnTo>
                    <a:pt x="491" y="306"/>
                  </a:lnTo>
                  <a:lnTo>
                    <a:pt x="507" y="284"/>
                  </a:lnTo>
                  <a:lnTo>
                    <a:pt x="506" y="271"/>
                  </a:lnTo>
                  <a:lnTo>
                    <a:pt x="505" y="258"/>
                  </a:lnTo>
                  <a:lnTo>
                    <a:pt x="502" y="247"/>
                  </a:lnTo>
                  <a:lnTo>
                    <a:pt x="499" y="235"/>
                  </a:lnTo>
                  <a:lnTo>
                    <a:pt x="494" y="226"/>
                  </a:lnTo>
                  <a:lnTo>
                    <a:pt x="489" y="215"/>
                  </a:lnTo>
                  <a:lnTo>
                    <a:pt x="484" y="205"/>
                  </a:lnTo>
                  <a:lnTo>
                    <a:pt x="476" y="196"/>
                  </a:lnTo>
                  <a:lnTo>
                    <a:pt x="470" y="187"/>
                  </a:lnTo>
                  <a:lnTo>
                    <a:pt x="461" y="178"/>
                  </a:lnTo>
                  <a:lnTo>
                    <a:pt x="452" y="170"/>
                  </a:lnTo>
                  <a:lnTo>
                    <a:pt x="444" y="162"/>
                  </a:lnTo>
                  <a:lnTo>
                    <a:pt x="425" y="146"/>
                  </a:lnTo>
                  <a:lnTo>
                    <a:pt x="403" y="131"/>
                  </a:lnTo>
                  <a:lnTo>
                    <a:pt x="358" y="101"/>
                  </a:lnTo>
                  <a:lnTo>
                    <a:pt x="312" y="71"/>
                  </a:lnTo>
                  <a:lnTo>
                    <a:pt x="291" y="56"/>
                  </a:lnTo>
                  <a:lnTo>
                    <a:pt x="269" y="39"/>
                  </a:lnTo>
                  <a:lnTo>
                    <a:pt x="258" y="29"/>
                  </a:lnTo>
                  <a:lnTo>
                    <a:pt x="249" y="21"/>
                  </a:lnTo>
                  <a:lnTo>
                    <a:pt x="239" y="11"/>
                  </a:lnTo>
                  <a:lnTo>
                    <a:pt x="230" y="0"/>
                  </a:lnTo>
                  <a:lnTo>
                    <a:pt x="207" y="1"/>
                  </a:lnTo>
                  <a:lnTo>
                    <a:pt x="185" y="1"/>
                  </a:lnTo>
                  <a:lnTo>
                    <a:pt x="166" y="3"/>
                  </a:lnTo>
                  <a:lnTo>
                    <a:pt x="148" y="5"/>
                  </a:lnTo>
                  <a:lnTo>
                    <a:pt x="132" y="9"/>
                  </a:lnTo>
                  <a:lnTo>
                    <a:pt x="118" y="13"/>
                  </a:lnTo>
                  <a:lnTo>
                    <a:pt x="104" y="20"/>
                  </a:lnTo>
                  <a:lnTo>
                    <a:pt x="91" y="27"/>
                  </a:lnTo>
                  <a:lnTo>
                    <a:pt x="79" y="37"/>
                  </a:lnTo>
                  <a:lnTo>
                    <a:pt x="69" y="50"/>
                  </a:lnTo>
                  <a:lnTo>
                    <a:pt x="57" y="64"/>
                  </a:lnTo>
                  <a:lnTo>
                    <a:pt x="46" y="81"/>
                  </a:lnTo>
                  <a:lnTo>
                    <a:pt x="35" y="101"/>
                  </a:lnTo>
                  <a:lnTo>
                    <a:pt x="25" y="124"/>
                  </a:lnTo>
                  <a:lnTo>
                    <a:pt x="13" y="149"/>
                  </a:lnTo>
                  <a:lnTo>
                    <a:pt x="0" y="1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59760" y="3352680"/>
              <a:ext cx="87480" cy="90720"/>
            </a:xfrm>
            <a:custGeom>
              <a:avLst/>
              <a:gdLst/>
              <a:ahLst/>
              <a:rect l="l" t="t" r="r" b="b"/>
              <a:pathLst>
                <a:path w="510" h="569">
                  <a:moveTo>
                    <a:pt x="27" y="277"/>
                  </a:moveTo>
                  <a:lnTo>
                    <a:pt x="303" y="559"/>
                  </a:lnTo>
                  <a:lnTo>
                    <a:pt x="316" y="564"/>
                  </a:lnTo>
                  <a:lnTo>
                    <a:pt x="329" y="566"/>
                  </a:lnTo>
                  <a:lnTo>
                    <a:pt x="341" y="568"/>
                  </a:lnTo>
                  <a:lnTo>
                    <a:pt x="353" y="568"/>
                  </a:lnTo>
                  <a:lnTo>
                    <a:pt x="363" y="569"/>
                  </a:lnTo>
                  <a:lnTo>
                    <a:pt x="374" y="568"/>
                  </a:lnTo>
                  <a:lnTo>
                    <a:pt x="384" y="567"/>
                  </a:lnTo>
                  <a:lnTo>
                    <a:pt x="393" y="565"/>
                  </a:lnTo>
                  <a:lnTo>
                    <a:pt x="403" y="563"/>
                  </a:lnTo>
                  <a:lnTo>
                    <a:pt x="412" y="559"/>
                  </a:lnTo>
                  <a:lnTo>
                    <a:pt x="419" y="556"/>
                  </a:lnTo>
                  <a:lnTo>
                    <a:pt x="428" y="552"/>
                  </a:lnTo>
                  <a:lnTo>
                    <a:pt x="435" y="548"/>
                  </a:lnTo>
                  <a:lnTo>
                    <a:pt x="442" y="543"/>
                  </a:lnTo>
                  <a:lnTo>
                    <a:pt x="448" y="538"/>
                  </a:lnTo>
                  <a:lnTo>
                    <a:pt x="454" y="533"/>
                  </a:lnTo>
                  <a:lnTo>
                    <a:pt x="465" y="521"/>
                  </a:lnTo>
                  <a:lnTo>
                    <a:pt x="475" y="508"/>
                  </a:lnTo>
                  <a:lnTo>
                    <a:pt x="483" y="494"/>
                  </a:lnTo>
                  <a:lnTo>
                    <a:pt x="491" y="480"/>
                  </a:lnTo>
                  <a:lnTo>
                    <a:pt x="497" y="467"/>
                  </a:lnTo>
                  <a:lnTo>
                    <a:pt x="503" y="453"/>
                  </a:lnTo>
                  <a:lnTo>
                    <a:pt x="507" y="439"/>
                  </a:lnTo>
                  <a:lnTo>
                    <a:pt x="510" y="427"/>
                  </a:lnTo>
                  <a:lnTo>
                    <a:pt x="481" y="374"/>
                  </a:lnTo>
                  <a:lnTo>
                    <a:pt x="453" y="326"/>
                  </a:lnTo>
                  <a:lnTo>
                    <a:pt x="427" y="282"/>
                  </a:lnTo>
                  <a:lnTo>
                    <a:pt x="398" y="238"/>
                  </a:lnTo>
                  <a:lnTo>
                    <a:pt x="368" y="195"/>
                  </a:lnTo>
                  <a:lnTo>
                    <a:pt x="334" y="151"/>
                  </a:lnTo>
                  <a:lnTo>
                    <a:pt x="296" y="105"/>
                  </a:lnTo>
                  <a:lnTo>
                    <a:pt x="251" y="53"/>
                  </a:lnTo>
                  <a:lnTo>
                    <a:pt x="241" y="40"/>
                  </a:lnTo>
                  <a:lnTo>
                    <a:pt x="229" y="30"/>
                  </a:lnTo>
                  <a:lnTo>
                    <a:pt x="217" y="21"/>
                  </a:lnTo>
                  <a:lnTo>
                    <a:pt x="206" y="14"/>
                  </a:lnTo>
                  <a:lnTo>
                    <a:pt x="194" y="7"/>
                  </a:lnTo>
                  <a:lnTo>
                    <a:pt x="181" y="3"/>
                  </a:lnTo>
                  <a:lnTo>
                    <a:pt x="168" y="1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1"/>
                  </a:lnTo>
                  <a:lnTo>
                    <a:pt x="117" y="4"/>
                  </a:lnTo>
                  <a:lnTo>
                    <a:pt x="105" y="8"/>
                  </a:lnTo>
                  <a:lnTo>
                    <a:pt x="93" y="14"/>
                  </a:lnTo>
                  <a:lnTo>
                    <a:pt x="81" y="20"/>
                  </a:lnTo>
                  <a:lnTo>
                    <a:pt x="69" y="27"/>
                  </a:lnTo>
                  <a:lnTo>
                    <a:pt x="59" y="36"/>
                  </a:lnTo>
                  <a:lnTo>
                    <a:pt x="49" y="46"/>
                  </a:lnTo>
                  <a:lnTo>
                    <a:pt x="39" y="56"/>
                  </a:lnTo>
                  <a:lnTo>
                    <a:pt x="31" y="67"/>
                  </a:lnTo>
                  <a:lnTo>
                    <a:pt x="23" y="80"/>
                  </a:lnTo>
                  <a:lnTo>
                    <a:pt x="17" y="93"/>
                  </a:lnTo>
                  <a:lnTo>
                    <a:pt x="10" y="107"/>
                  </a:lnTo>
                  <a:lnTo>
                    <a:pt x="6" y="122"/>
                  </a:lnTo>
                  <a:lnTo>
                    <a:pt x="3" y="137"/>
                  </a:lnTo>
                  <a:lnTo>
                    <a:pt x="1" y="153"/>
                  </a:lnTo>
                  <a:lnTo>
                    <a:pt x="0" y="170"/>
                  </a:lnTo>
                  <a:lnTo>
                    <a:pt x="0" y="187"/>
                  </a:lnTo>
                  <a:lnTo>
                    <a:pt x="2" y="204"/>
                  </a:lnTo>
                  <a:lnTo>
                    <a:pt x="5" y="223"/>
                  </a:lnTo>
                  <a:lnTo>
                    <a:pt x="10" y="241"/>
                  </a:lnTo>
                  <a:lnTo>
                    <a:pt x="18" y="259"/>
                  </a:lnTo>
                  <a:lnTo>
                    <a:pt x="27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30320" y="3254400"/>
              <a:ext cx="99360" cy="98280"/>
            </a:xfrm>
            <a:custGeom>
              <a:avLst/>
              <a:gdLst/>
              <a:ahLst/>
              <a:rect l="l" t="t" r="r" b="b"/>
              <a:pathLst>
                <a:path w="584" h="617">
                  <a:moveTo>
                    <a:pt x="8" y="301"/>
                  </a:moveTo>
                  <a:lnTo>
                    <a:pt x="26" y="323"/>
                  </a:lnTo>
                  <a:lnTo>
                    <a:pt x="45" y="346"/>
                  </a:lnTo>
                  <a:lnTo>
                    <a:pt x="67" y="367"/>
                  </a:lnTo>
                  <a:lnTo>
                    <a:pt x="89" y="390"/>
                  </a:lnTo>
                  <a:lnTo>
                    <a:pt x="137" y="433"/>
                  </a:lnTo>
                  <a:lnTo>
                    <a:pt x="186" y="474"/>
                  </a:lnTo>
                  <a:lnTo>
                    <a:pt x="232" y="512"/>
                  </a:lnTo>
                  <a:lnTo>
                    <a:pt x="276" y="549"/>
                  </a:lnTo>
                  <a:lnTo>
                    <a:pt x="295" y="566"/>
                  </a:lnTo>
                  <a:lnTo>
                    <a:pt x="313" y="582"/>
                  </a:lnTo>
                  <a:lnTo>
                    <a:pt x="328" y="597"/>
                  </a:lnTo>
                  <a:lnTo>
                    <a:pt x="341" y="612"/>
                  </a:lnTo>
                  <a:lnTo>
                    <a:pt x="388" y="613"/>
                  </a:lnTo>
                  <a:lnTo>
                    <a:pt x="432" y="616"/>
                  </a:lnTo>
                  <a:lnTo>
                    <a:pt x="454" y="617"/>
                  </a:lnTo>
                  <a:lnTo>
                    <a:pt x="474" y="617"/>
                  </a:lnTo>
                  <a:lnTo>
                    <a:pt x="492" y="616"/>
                  </a:lnTo>
                  <a:lnTo>
                    <a:pt x="510" y="612"/>
                  </a:lnTo>
                  <a:lnTo>
                    <a:pt x="518" y="610"/>
                  </a:lnTo>
                  <a:lnTo>
                    <a:pt x="526" y="607"/>
                  </a:lnTo>
                  <a:lnTo>
                    <a:pt x="533" y="602"/>
                  </a:lnTo>
                  <a:lnTo>
                    <a:pt x="541" y="598"/>
                  </a:lnTo>
                  <a:lnTo>
                    <a:pt x="547" y="593"/>
                  </a:lnTo>
                  <a:lnTo>
                    <a:pt x="552" y="586"/>
                  </a:lnTo>
                  <a:lnTo>
                    <a:pt x="559" y="579"/>
                  </a:lnTo>
                  <a:lnTo>
                    <a:pt x="563" y="570"/>
                  </a:lnTo>
                  <a:lnTo>
                    <a:pt x="569" y="562"/>
                  </a:lnTo>
                  <a:lnTo>
                    <a:pt x="572" y="551"/>
                  </a:lnTo>
                  <a:lnTo>
                    <a:pt x="575" y="539"/>
                  </a:lnTo>
                  <a:lnTo>
                    <a:pt x="578" y="526"/>
                  </a:lnTo>
                  <a:lnTo>
                    <a:pt x="580" y="512"/>
                  </a:lnTo>
                  <a:lnTo>
                    <a:pt x="582" y="497"/>
                  </a:lnTo>
                  <a:lnTo>
                    <a:pt x="584" y="480"/>
                  </a:lnTo>
                  <a:lnTo>
                    <a:pt x="584" y="462"/>
                  </a:lnTo>
                  <a:lnTo>
                    <a:pt x="566" y="425"/>
                  </a:lnTo>
                  <a:lnTo>
                    <a:pt x="542" y="378"/>
                  </a:lnTo>
                  <a:lnTo>
                    <a:pt x="513" y="325"/>
                  </a:lnTo>
                  <a:lnTo>
                    <a:pt x="480" y="267"/>
                  </a:lnTo>
                  <a:lnTo>
                    <a:pt x="446" y="210"/>
                  </a:lnTo>
                  <a:lnTo>
                    <a:pt x="413" y="156"/>
                  </a:lnTo>
                  <a:lnTo>
                    <a:pt x="384" y="111"/>
                  </a:lnTo>
                  <a:lnTo>
                    <a:pt x="359" y="76"/>
                  </a:lnTo>
                  <a:lnTo>
                    <a:pt x="338" y="61"/>
                  </a:lnTo>
                  <a:lnTo>
                    <a:pt x="318" y="47"/>
                  </a:lnTo>
                  <a:lnTo>
                    <a:pt x="297" y="35"/>
                  </a:lnTo>
                  <a:lnTo>
                    <a:pt x="277" y="24"/>
                  </a:lnTo>
                  <a:lnTo>
                    <a:pt x="258" y="16"/>
                  </a:lnTo>
                  <a:lnTo>
                    <a:pt x="239" y="9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6" y="0"/>
                  </a:lnTo>
                  <a:lnTo>
                    <a:pt x="169" y="0"/>
                  </a:lnTo>
                  <a:lnTo>
                    <a:pt x="152" y="1"/>
                  </a:lnTo>
                  <a:lnTo>
                    <a:pt x="136" y="4"/>
                  </a:lnTo>
                  <a:lnTo>
                    <a:pt x="122" y="7"/>
                  </a:lnTo>
                  <a:lnTo>
                    <a:pt x="107" y="14"/>
                  </a:lnTo>
                  <a:lnTo>
                    <a:pt x="95" y="20"/>
                  </a:lnTo>
                  <a:lnTo>
                    <a:pt x="82" y="29"/>
                  </a:lnTo>
                  <a:lnTo>
                    <a:pt x="70" y="38"/>
                  </a:lnTo>
                  <a:lnTo>
                    <a:pt x="59" y="49"/>
                  </a:lnTo>
                  <a:lnTo>
                    <a:pt x="48" y="61"/>
                  </a:lnTo>
                  <a:lnTo>
                    <a:pt x="39" y="74"/>
                  </a:lnTo>
                  <a:lnTo>
                    <a:pt x="31" y="87"/>
                  </a:lnTo>
                  <a:lnTo>
                    <a:pt x="24" y="103"/>
                  </a:lnTo>
                  <a:lnTo>
                    <a:pt x="17" y="119"/>
                  </a:lnTo>
                  <a:lnTo>
                    <a:pt x="11" y="136"/>
                  </a:lnTo>
                  <a:lnTo>
                    <a:pt x="7" y="154"/>
                  </a:lnTo>
                  <a:lnTo>
                    <a:pt x="3" y="172"/>
                  </a:lnTo>
                  <a:lnTo>
                    <a:pt x="1" y="193"/>
                  </a:lnTo>
                  <a:lnTo>
                    <a:pt x="0" y="213"/>
                  </a:lnTo>
                  <a:lnTo>
                    <a:pt x="0" y="233"/>
                  </a:lnTo>
                  <a:lnTo>
                    <a:pt x="1" y="256"/>
                  </a:lnTo>
                  <a:lnTo>
                    <a:pt x="3" y="277"/>
                  </a:lnTo>
                  <a:lnTo>
                    <a:pt x="8" y="3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79720" y="3305160"/>
              <a:ext cx="91080" cy="77760"/>
            </a:xfrm>
            <a:custGeom>
              <a:avLst/>
              <a:gdLst/>
              <a:ahLst/>
              <a:rect l="l" t="t" r="r" b="b"/>
              <a:pathLst>
                <a:path w="535" h="495">
                  <a:moveTo>
                    <a:pt x="5" y="304"/>
                  </a:moveTo>
                  <a:lnTo>
                    <a:pt x="14" y="315"/>
                  </a:lnTo>
                  <a:lnTo>
                    <a:pt x="23" y="325"/>
                  </a:lnTo>
                  <a:lnTo>
                    <a:pt x="32" y="335"/>
                  </a:lnTo>
                  <a:lnTo>
                    <a:pt x="42" y="343"/>
                  </a:lnTo>
                  <a:lnTo>
                    <a:pt x="60" y="359"/>
                  </a:lnTo>
                  <a:lnTo>
                    <a:pt x="81" y="373"/>
                  </a:lnTo>
                  <a:lnTo>
                    <a:pt x="100" y="385"/>
                  </a:lnTo>
                  <a:lnTo>
                    <a:pt x="120" y="396"/>
                  </a:lnTo>
                  <a:lnTo>
                    <a:pt x="139" y="406"/>
                  </a:lnTo>
                  <a:lnTo>
                    <a:pt x="160" y="414"/>
                  </a:lnTo>
                  <a:lnTo>
                    <a:pt x="197" y="429"/>
                  </a:lnTo>
                  <a:lnTo>
                    <a:pt x="232" y="445"/>
                  </a:lnTo>
                  <a:lnTo>
                    <a:pt x="248" y="454"/>
                  </a:lnTo>
                  <a:lnTo>
                    <a:pt x="263" y="464"/>
                  </a:lnTo>
                  <a:lnTo>
                    <a:pt x="269" y="470"/>
                  </a:lnTo>
                  <a:lnTo>
                    <a:pt x="276" y="475"/>
                  </a:lnTo>
                  <a:lnTo>
                    <a:pt x="282" y="482"/>
                  </a:lnTo>
                  <a:lnTo>
                    <a:pt x="288" y="488"/>
                  </a:lnTo>
                  <a:lnTo>
                    <a:pt x="336" y="490"/>
                  </a:lnTo>
                  <a:lnTo>
                    <a:pt x="382" y="493"/>
                  </a:lnTo>
                  <a:lnTo>
                    <a:pt x="403" y="495"/>
                  </a:lnTo>
                  <a:lnTo>
                    <a:pt x="424" y="495"/>
                  </a:lnTo>
                  <a:lnTo>
                    <a:pt x="443" y="492"/>
                  </a:lnTo>
                  <a:lnTo>
                    <a:pt x="461" y="489"/>
                  </a:lnTo>
                  <a:lnTo>
                    <a:pt x="470" y="487"/>
                  </a:lnTo>
                  <a:lnTo>
                    <a:pt x="477" y="484"/>
                  </a:lnTo>
                  <a:lnTo>
                    <a:pt x="485" y="480"/>
                  </a:lnTo>
                  <a:lnTo>
                    <a:pt x="491" y="475"/>
                  </a:lnTo>
                  <a:lnTo>
                    <a:pt x="499" y="469"/>
                  </a:lnTo>
                  <a:lnTo>
                    <a:pt x="504" y="462"/>
                  </a:lnTo>
                  <a:lnTo>
                    <a:pt x="511" y="456"/>
                  </a:lnTo>
                  <a:lnTo>
                    <a:pt x="515" y="447"/>
                  </a:lnTo>
                  <a:lnTo>
                    <a:pt x="520" y="438"/>
                  </a:lnTo>
                  <a:lnTo>
                    <a:pt x="523" y="427"/>
                  </a:lnTo>
                  <a:lnTo>
                    <a:pt x="527" y="416"/>
                  </a:lnTo>
                  <a:lnTo>
                    <a:pt x="530" y="403"/>
                  </a:lnTo>
                  <a:lnTo>
                    <a:pt x="532" y="389"/>
                  </a:lnTo>
                  <a:lnTo>
                    <a:pt x="534" y="373"/>
                  </a:lnTo>
                  <a:lnTo>
                    <a:pt x="535" y="357"/>
                  </a:lnTo>
                  <a:lnTo>
                    <a:pt x="535" y="339"/>
                  </a:lnTo>
                  <a:lnTo>
                    <a:pt x="518" y="308"/>
                  </a:lnTo>
                  <a:lnTo>
                    <a:pt x="499" y="275"/>
                  </a:lnTo>
                  <a:lnTo>
                    <a:pt x="476" y="241"/>
                  </a:lnTo>
                  <a:lnTo>
                    <a:pt x="453" y="207"/>
                  </a:lnTo>
                  <a:lnTo>
                    <a:pt x="428" y="173"/>
                  </a:lnTo>
                  <a:lnTo>
                    <a:pt x="403" y="141"/>
                  </a:lnTo>
                  <a:lnTo>
                    <a:pt x="380" y="108"/>
                  </a:lnTo>
                  <a:lnTo>
                    <a:pt x="357" y="79"/>
                  </a:lnTo>
                  <a:lnTo>
                    <a:pt x="336" y="63"/>
                  </a:lnTo>
                  <a:lnTo>
                    <a:pt x="315" y="49"/>
                  </a:lnTo>
                  <a:lnTo>
                    <a:pt x="295" y="37"/>
                  </a:lnTo>
                  <a:lnTo>
                    <a:pt x="276" y="26"/>
                  </a:lnTo>
                  <a:lnTo>
                    <a:pt x="256" y="17"/>
                  </a:lnTo>
                  <a:lnTo>
                    <a:pt x="238" y="11"/>
                  </a:lnTo>
                  <a:lnTo>
                    <a:pt x="220" y="6"/>
                  </a:lnTo>
                  <a:lnTo>
                    <a:pt x="202" y="2"/>
                  </a:lnTo>
                  <a:lnTo>
                    <a:pt x="186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7" y="4"/>
                  </a:lnTo>
                  <a:lnTo>
                    <a:pt x="123" y="9"/>
                  </a:lnTo>
                  <a:lnTo>
                    <a:pt x="109" y="14"/>
                  </a:lnTo>
                  <a:lnTo>
                    <a:pt x="97" y="22"/>
                  </a:lnTo>
                  <a:lnTo>
                    <a:pt x="84" y="30"/>
                  </a:lnTo>
                  <a:lnTo>
                    <a:pt x="72" y="40"/>
                  </a:lnTo>
                  <a:lnTo>
                    <a:pt x="61" y="51"/>
                  </a:lnTo>
                  <a:lnTo>
                    <a:pt x="52" y="62"/>
                  </a:lnTo>
                  <a:lnTo>
                    <a:pt x="42" y="75"/>
                  </a:lnTo>
                  <a:lnTo>
                    <a:pt x="33" y="90"/>
                  </a:lnTo>
                  <a:lnTo>
                    <a:pt x="26" y="105"/>
                  </a:lnTo>
                  <a:lnTo>
                    <a:pt x="19" y="121"/>
                  </a:lnTo>
                  <a:lnTo>
                    <a:pt x="14" y="138"/>
                  </a:lnTo>
                  <a:lnTo>
                    <a:pt x="10" y="157"/>
                  </a:lnTo>
                  <a:lnTo>
                    <a:pt x="5" y="176"/>
                  </a:lnTo>
                  <a:lnTo>
                    <a:pt x="3" y="195"/>
                  </a:lnTo>
                  <a:lnTo>
                    <a:pt x="1" y="216"/>
                  </a:lnTo>
                  <a:lnTo>
                    <a:pt x="0" y="237"/>
                  </a:lnTo>
                  <a:lnTo>
                    <a:pt x="1" y="259"/>
                  </a:lnTo>
                  <a:lnTo>
                    <a:pt x="2" y="281"/>
                  </a:lnTo>
                  <a:lnTo>
                    <a:pt x="5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82000" y="3357720"/>
              <a:ext cx="156600" cy="303120"/>
            </a:xfrm>
            <a:custGeom>
              <a:avLst/>
              <a:gdLst/>
              <a:ahLst/>
              <a:rect l="l" t="t" r="r" b="b"/>
              <a:pathLst>
                <a:path w="904" h="1905">
                  <a:moveTo>
                    <a:pt x="385" y="1901"/>
                  </a:moveTo>
                  <a:lnTo>
                    <a:pt x="356" y="1889"/>
                  </a:lnTo>
                  <a:lnTo>
                    <a:pt x="328" y="1875"/>
                  </a:lnTo>
                  <a:lnTo>
                    <a:pt x="301" y="1861"/>
                  </a:lnTo>
                  <a:lnTo>
                    <a:pt x="275" y="1845"/>
                  </a:lnTo>
                  <a:lnTo>
                    <a:pt x="251" y="1828"/>
                  </a:lnTo>
                  <a:lnTo>
                    <a:pt x="227" y="1810"/>
                  </a:lnTo>
                  <a:lnTo>
                    <a:pt x="204" y="1791"/>
                  </a:lnTo>
                  <a:lnTo>
                    <a:pt x="183" y="1770"/>
                  </a:lnTo>
                  <a:lnTo>
                    <a:pt x="163" y="1750"/>
                  </a:lnTo>
                  <a:lnTo>
                    <a:pt x="143" y="1728"/>
                  </a:lnTo>
                  <a:lnTo>
                    <a:pt x="124" y="1708"/>
                  </a:lnTo>
                  <a:lnTo>
                    <a:pt x="105" y="1686"/>
                  </a:lnTo>
                  <a:lnTo>
                    <a:pt x="68" y="1644"/>
                  </a:lnTo>
                  <a:lnTo>
                    <a:pt x="34" y="1601"/>
                  </a:lnTo>
                  <a:lnTo>
                    <a:pt x="0" y="1647"/>
                  </a:lnTo>
                  <a:lnTo>
                    <a:pt x="21" y="1678"/>
                  </a:lnTo>
                  <a:lnTo>
                    <a:pt x="43" y="1707"/>
                  </a:lnTo>
                  <a:lnTo>
                    <a:pt x="63" y="1735"/>
                  </a:lnTo>
                  <a:lnTo>
                    <a:pt x="84" y="1762"/>
                  </a:lnTo>
                  <a:lnTo>
                    <a:pt x="106" y="1786"/>
                  </a:lnTo>
                  <a:lnTo>
                    <a:pt x="128" y="1809"/>
                  </a:lnTo>
                  <a:lnTo>
                    <a:pt x="150" y="1829"/>
                  </a:lnTo>
                  <a:lnTo>
                    <a:pt x="172" y="1847"/>
                  </a:lnTo>
                  <a:lnTo>
                    <a:pt x="184" y="1856"/>
                  </a:lnTo>
                  <a:lnTo>
                    <a:pt x="196" y="1863"/>
                  </a:lnTo>
                  <a:lnTo>
                    <a:pt x="208" y="1871"/>
                  </a:lnTo>
                  <a:lnTo>
                    <a:pt x="219" y="1877"/>
                  </a:lnTo>
                  <a:lnTo>
                    <a:pt x="232" y="1883"/>
                  </a:lnTo>
                  <a:lnTo>
                    <a:pt x="245" y="1888"/>
                  </a:lnTo>
                  <a:lnTo>
                    <a:pt x="257" y="1892"/>
                  </a:lnTo>
                  <a:lnTo>
                    <a:pt x="271" y="1897"/>
                  </a:lnTo>
                  <a:lnTo>
                    <a:pt x="284" y="1900"/>
                  </a:lnTo>
                  <a:lnTo>
                    <a:pt x="298" y="1902"/>
                  </a:lnTo>
                  <a:lnTo>
                    <a:pt x="311" y="1904"/>
                  </a:lnTo>
                  <a:lnTo>
                    <a:pt x="326" y="1905"/>
                  </a:lnTo>
                  <a:lnTo>
                    <a:pt x="340" y="1905"/>
                  </a:lnTo>
                  <a:lnTo>
                    <a:pt x="355" y="1904"/>
                  </a:lnTo>
                  <a:lnTo>
                    <a:pt x="370" y="1903"/>
                  </a:lnTo>
                  <a:lnTo>
                    <a:pt x="385" y="1901"/>
                  </a:lnTo>
                  <a:close/>
                  <a:moveTo>
                    <a:pt x="529" y="40"/>
                  </a:moveTo>
                  <a:lnTo>
                    <a:pt x="540" y="41"/>
                  </a:lnTo>
                  <a:lnTo>
                    <a:pt x="551" y="47"/>
                  </a:lnTo>
                  <a:lnTo>
                    <a:pt x="563" y="54"/>
                  </a:lnTo>
                  <a:lnTo>
                    <a:pt x="574" y="64"/>
                  </a:lnTo>
                  <a:lnTo>
                    <a:pt x="586" y="76"/>
                  </a:lnTo>
                  <a:lnTo>
                    <a:pt x="599" y="91"/>
                  </a:lnTo>
                  <a:lnTo>
                    <a:pt x="611" y="107"/>
                  </a:lnTo>
                  <a:lnTo>
                    <a:pt x="624" y="125"/>
                  </a:lnTo>
                  <a:lnTo>
                    <a:pt x="650" y="166"/>
                  </a:lnTo>
                  <a:lnTo>
                    <a:pt x="675" y="210"/>
                  </a:lnTo>
                  <a:lnTo>
                    <a:pt x="701" y="257"/>
                  </a:lnTo>
                  <a:lnTo>
                    <a:pt x="727" y="304"/>
                  </a:lnTo>
                  <a:lnTo>
                    <a:pt x="753" y="350"/>
                  </a:lnTo>
                  <a:lnTo>
                    <a:pt x="777" y="393"/>
                  </a:lnTo>
                  <a:lnTo>
                    <a:pt x="790" y="412"/>
                  </a:lnTo>
                  <a:lnTo>
                    <a:pt x="802" y="432"/>
                  </a:lnTo>
                  <a:lnTo>
                    <a:pt x="814" y="448"/>
                  </a:lnTo>
                  <a:lnTo>
                    <a:pt x="824" y="463"/>
                  </a:lnTo>
                  <a:lnTo>
                    <a:pt x="836" y="476"/>
                  </a:lnTo>
                  <a:lnTo>
                    <a:pt x="847" y="486"/>
                  </a:lnTo>
                  <a:lnTo>
                    <a:pt x="858" y="495"/>
                  </a:lnTo>
                  <a:lnTo>
                    <a:pt x="867" y="500"/>
                  </a:lnTo>
                  <a:lnTo>
                    <a:pt x="877" y="503"/>
                  </a:lnTo>
                  <a:lnTo>
                    <a:pt x="887" y="501"/>
                  </a:lnTo>
                  <a:lnTo>
                    <a:pt x="895" y="497"/>
                  </a:lnTo>
                  <a:lnTo>
                    <a:pt x="904" y="490"/>
                  </a:lnTo>
                  <a:lnTo>
                    <a:pt x="887" y="467"/>
                  </a:lnTo>
                  <a:lnTo>
                    <a:pt x="869" y="442"/>
                  </a:lnTo>
                  <a:lnTo>
                    <a:pt x="851" y="416"/>
                  </a:lnTo>
                  <a:lnTo>
                    <a:pt x="832" y="387"/>
                  </a:lnTo>
                  <a:lnTo>
                    <a:pt x="792" y="325"/>
                  </a:lnTo>
                  <a:lnTo>
                    <a:pt x="750" y="258"/>
                  </a:lnTo>
                  <a:lnTo>
                    <a:pt x="707" y="189"/>
                  </a:lnTo>
                  <a:lnTo>
                    <a:pt x="664" y="122"/>
                  </a:lnTo>
                  <a:lnTo>
                    <a:pt x="641" y="90"/>
                  </a:lnTo>
                  <a:lnTo>
                    <a:pt x="618" y="57"/>
                  </a:lnTo>
                  <a:lnTo>
                    <a:pt x="597" y="27"/>
                  </a:lnTo>
                  <a:lnTo>
                    <a:pt x="576" y="0"/>
                  </a:lnTo>
                  <a:lnTo>
                    <a:pt x="52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91120" y="3203640"/>
              <a:ext cx="877320" cy="1190520"/>
            </a:xfrm>
            <a:custGeom>
              <a:avLst/>
              <a:gdLst/>
              <a:ahLst/>
              <a:rect l="l" t="t" r="r" b="b"/>
              <a:pathLst>
                <a:path w="5110" h="7500">
                  <a:moveTo>
                    <a:pt x="0" y="4125"/>
                  </a:moveTo>
                  <a:lnTo>
                    <a:pt x="25" y="4141"/>
                  </a:lnTo>
                  <a:lnTo>
                    <a:pt x="50" y="4156"/>
                  </a:lnTo>
                  <a:lnTo>
                    <a:pt x="75" y="4171"/>
                  </a:lnTo>
                  <a:lnTo>
                    <a:pt x="102" y="4184"/>
                  </a:lnTo>
                  <a:lnTo>
                    <a:pt x="130" y="4197"/>
                  </a:lnTo>
                  <a:lnTo>
                    <a:pt x="158" y="4209"/>
                  </a:lnTo>
                  <a:lnTo>
                    <a:pt x="187" y="4220"/>
                  </a:lnTo>
                  <a:lnTo>
                    <a:pt x="216" y="4231"/>
                  </a:lnTo>
                  <a:lnTo>
                    <a:pt x="246" y="4241"/>
                  </a:lnTo>
                  <a:lnTo>
                    <a:pt x="277" y="4250"/>
                  </a:lnTo>
                  <a:lnTo>
                    <a:pt x="307" y="4259"/>
                  </a:lnTo>
                  <a:lnTo>
                    <a:pt x="338" y="4266"/>
                  </a:lnTo>
                  <a:lnTo>
                    <a:pt x="370" y="4274"/>
                  </a:lnTo>
                  <a:lnTo>
                    <a:pt x="401" y="4280"/>
                  </a:lnTo>
                  <a:lnTo>
                    <a:pt x="434" y="4287"/>
                  </a:lnTo>
                  <a:lnTo>
                    <a:pt x="466" y="4292"/>
                  </a:lnTo>
                  <a:lnTo>
                    <a:pt x="531" y="4302"/>
                  </a:lnTo>
                  <a:lnTo>
                    <a:pt x="596" y="4309"/>
                  </a:lnTo>
                  <a:lnTo>
                    <a:pt x="660" y="4315"/>
                  </a:lnTo>
                  <a:lnTo>
                    <a:pt x="723" y="4320"/>
                  </a:lnTo>
                  <a:lnTo>
                    <a:pt x="786" y="4322"/>
                  </a:lnTo>
                  <a:lnTo>
                    <a:pt x="847" y="4324"/>
                  </a:lnTo>
                  <a:lnTo>
                    <a:pt x="905" y="4325"/>
                  </a:lnTo>
                  <a:lnTo>
                    <a:pt x="962" y="4325"/>
                  </a:lnTo>
                  <a:lnTo>
                    <a:pt x="945" y="4346"/>
                  </a:lnTo>
                  <a:lnTo>
                    <a:pt x="927" y="4364"/>
                  </a:lnTo>
                  <a:lnTo>
                    <a:pt x="907" y="4381"/>
                  </a:lnTo>
                  <a:lnTo>
                    <a:pt x="885" y="4397"/>
                  </a:lnTo>
                  <a:lnTo>
                    <a:pt x="864" y="4412"/>
                  </a:lnTo>
                  <a:lnTo>
                    <a:pt x="841" y="4427"/>
                  </a:lnTo>
                  <a:lnTo>
                    <a:pt x="819" y="4440"/>
                  </a:lnTo>
                  <a:lnTo>
                    <a:pt x="796" y="4453"/>
                  </a:lnTo>
                  <a:lnTo>
                    <a:pt x="752" y="4478"/>
                  </a:lnTo>
                  <a:lnTo>
                    <a:pt x="712" y="4501"/>
                  </a:lnTo>
                  <a:lnTo>
                    <a:pt x="694" y="4513"/>
                  </a:lnTo>
                  <a:lnTo>
                    <a:pt x="677" y="4526"/>
                  </a:lnTo>
                  <a:lnTo>
                    <a:pt x="663" y="4538"/>
                  </a:lnTo>
                  <a:lnTo>
                    <a:pt x="651" y="4551"/>
                  </a:lnTo>
                  <a:lnTo>
                    <a:pt x="651" y="4694"/>
                  </a:lnTo>
                  <a:lnTo>
                    <a:pt x="674" y="4711"/>
                  </a:lnTo>
                  <a:lnTo>
                    <a:pt x="699" y="4730"/>
                  </a:lnTo>
                  <a:lnTo>
                    <a:pt x="725" y="4750"/>
                  </a:lnTo>
                  <a:lnTo>
                    <a:pt x="753" y="4772"/>
                  </a:lnTo>
                  <a:lnTo>
                    <a:pt x="780" y="4797"/>
                  </a:lnTo>
                  <a:lnTo>
                    <a:pt x="808" y="4822"/>
                  </a:lnTo>
                  <a:lnTo>
                    <a:pt x="834" y="4848"/>
                  </a:lnTo>
                  <a:lnTo>
                    <a:pt x="858" y="4873"/>
                  </a:lnTo>
                  <a:lnTo>
                    <a:pt x="858" y="4887"/>
                  </a:lnTo>
                  <a:lnTo>
                    <a:pt x="857" y="4902"/>
                  </a:lnTo>
                  <a:lnTo>
                    <a:pt x="855" y="4918"/>
                  </a:lnTo>
                  <a:lnTo>
                    <a:pt x="853" y="4934"/>
                  </a:lnTo>
                  <a:lnTo>
                    <a:pt x="848" y="4968"/>
                  </a:lnTo>
                  <a:lnTo>
                    <a:pt x="841" y="5002"/>
                  </a:lnTo>
                  <a:lnTo>
                    <a:pt x="835" y="5035"/>
                  </a:lnTo>
                  <a:lnTo>
                    <a:pt x="829" y="5068"/>
                  </a:lnTo>
                  <a:lnTo>
                    <a:pt x="827" y="5083"/>
                  </a:lnTo>
                  <a:lnTo>
                    <a:pt x="825" y="5099"/>
                  </a:lnTo>
                  <a:lnTo>
                    <a:pt x="824" y="5114"/>
                  </a:lnTo>
                  <a:lnTo>
                    <a:pt x="824" y="5126"/>
                  </a:lnTo>
                  <a:lnTo>
                    <a:pt x="844" y="5223"/>
                  </a:lnTo>
                  <a:lnTo>
                    <a:pt x="866" y="5314"/>
                  </a:lnTo>
                  <a:lnTo>
                    <a:pt x="888" y="5398"/>
                  </a:lnTo>
                  <a:lnTo>
                    <a:pt x="911" y="5477"/>
                  </a:lnTo>
                  <a:lnTo>
                    <a:pt x="936" y="5549"/>
                  </a:lnTo>
                  <a:lnTo>
                    <a:pt x="960" y="5615"/>
                  </a:lnTo>
                  <a:lnTo>
                    <a:pt x="986" y="5677"/>
                  </a:lnTo>
                  <a:lnTo>
                    <a:pt x="1013" y="5732"/>
                  </a:lnTo>
                  <a:lnTo>
                    <a:pt x="1041" y="5783"/>
                  </a:lnTo>
                  <a:lnTo>
                    <a:pt x="1069" y="5827"/>
                  </a:lnTo>
                  <a:lnTo>
                    <a:pt x="1097" y="5866"/>
                  </a:lnTo>
                  <a:lnTo>
                    <a:pt x="1128" y="5901"/>
                  </a:lnTo>
                  <a:lnTo>
                    <a:pt x="1159" y="5930"/>
                  </a:lnTo>
                  <a:lnTo>
                    <a:pt x="1190" y="5954"/>
                  </a:lnTo>
                  <a:lnTo>
                    <a:pt x="1222" y="5973"/>
                  </a:lnTo>
                  <a:lnTo>
                    <a:pt x="1255" y="5988"/>
                  </a:lnTo>
                  <a:lnTo>
                    <a:pt x="1289" y="5997"/>
                  </a:lnTo>
                  <a:lnTo>
                    <a:pt x="1324" y="6003"/>
                  </a:lnTo>
                  <a:lnTo>
                    <a:pt x="1358" y="6004"/>
                  </a:lnTo>
                  <a:lnTo>
                    <a:pt x="1395" y="6000"/>
                  </a:lnTo>
                  <a:lnTo>
                    <a:pt x="1431" y="5992"/>
                  </a:lnTo>
                  <a:lnTo>
                    <a:pt x="1467" y="5980"/>
                  </a:lnTo>
                  <a:lnTo>
                    <a:pt x="1506" y="5964"/>
                  </a:lnTo>
                  <a:lnTo>
                    <a:pt x="1544" y="5945"/>
                  </a:lnTo>
                  <a:lnTo>
                    <a:pt x="1583" y="5921"/>
                  </a:lnTo>
                  <a:lnTo>
                    <a:pt x="1623" y="5893"/>
                  </a:lnTo>
                  <a:lnTo>
                    <a:pt x="1663" y="5862"/>
                  </a:lnTo>
                  <a:lnTo>
                    <a:pt x="1703" y="5828"/>
                  </a:lnTo>
                  <a:lnTo>
                    <a:pt x="1745" y="5790"/>
                  </a:lnTo>
                  <a:lnTo>
                    <a:pt x="1787" y="5748"/>
                  </a:lnTo>
                  <a:lnTo>
                    <a:pt x="1829" y="5704"/>
                  </a:lnTo>
                  <a:lnTo>
                    <a:pt x="1873" y="5656"/>
                  </a:lnTo>
                  <a:lnTo>
                    <a:pt x="2092" y="5408"/>
                  </a:lnTo>
                  <a:lnTo>
                    <a:pt x="2118" y="5379"/>
                  </a:lnTo>
                  <a:lnTo>
                    <a:pt x="2151" y="5347"/>
                  </a:lnTo>
                  <a:lnTo>
                    <a:pt x="2169" y="5330"/>
                  </a:lnTo>
                  <a:lnTo>
                    <a:pt x="2187" y="5313"/>
                  </a:lnTo>
                  <a:lnTo>
                    <a:pt x="2206" y="5296"/>
                  </a:lnTo>
                  <a:lnTo>
                    <a:pt x="2227" y="5279"/>
                  </a:lnTo>
                  <a:lnTo>
                    <a:pt x="2247" y="5264"/>
                  </a:lnTo>
                  <a:lnTo>
                    <a:pt x="2266" y="5249"/>
                  </a:lnTo>
                  <a:lnTo>
                    <a:pt x="2287" y="5236"/>
                  </a:lnTo>
                  <a:lnTo>
                    <a:pt x="2307" y="5224"/>
                  </a:lnTo>
                  <a:lnTo>
                    <a:pt x="2325" y="5214"/>
                  </a:lnTo>
                  <a:lnTo>
                    <a:pt x="2345" y="5208"/>
                  </a:lnTo>
                  <a:lnTo>
                    <a:pt x="2353" y="5205"/>
                  </a:lnTo>
                  <a:lnTo>
                    <a:pt x="2363" y="5203"/>
                  </a:lnTo>
                  <a:lnTo>
                    <a:pt x="2371" y="5201"/>
                  </a:lnTo>
                  <a:lnTo>
                    <a:pt x="2379" y="5201"/>
                  </a:lnTo>
                  <a:lnTo>
                    <a:pt x="2351" y="5233"/>
                  </a:lnTo>
                  <a:lnTo>
                    <a:pt x="2323" y="5267"/>
                  </a:lnTo>
                  <a:lnTo>
                    <a:pt x="2294" y="5304"/>
                  </a:lnTo>
                  <a:lnTo>
                    <a:pt x="2264" y="5342"/>
                  </a:lnTo>
                  <a:lnTo>
                    <a:pt x="2204" y="5422"/>
                  </a:lnTo>
                  <a:lnTo>
                    <a:pt x="2144" y="5503"/>
                  </a:lnTo>
                  <a:lnTo>
                    <a:pt x="2087" y="5581"/>
                  </a:lnTo>
                  <a:lnTo>
                    <a:pt x="2036" y="5654"/>
                  </a:lnTo>
                  <a:lnTo>
                    <a:pt x="1990" y="5716"/>
                  </a:lnTo>
                  <a:lnTo>
                    <a:pt x="1953" y="5766"/>
                  </a:lnTo>
                  <a:lnTo>
                    <a:pt x="1917" y="5810"/>
                  </a:lnTo>
                  <a:lnTo>
                    <a:pt x="1881" y="5855"/>
                  </a:lnTo>
                  <a:lnTo>
                    <a:pt x="1847" y="5901"/>
                  </a:lnTo>
                  <a:lnTo>
                    <a:pt x="1813" y="5948"/>
                  </a:lnTo>
                  <a:lnTo>
                    <a:pt x="1780" y="5995"/>
                  </a:lnTo>
                  <a:lnTo>
                    <a:pt x="1746" y="6043"/>
                  </a:lnTo>
                  <a:lnTo>
                    <a:pt x="1713" y="6092"/>
                  </a:lnTo>
                  <a:lnTo>
                    <a:pt x="1681" y="6141"/>
                  </a:lnTo>
                  <a:lnTo>
                    <a:pt x="1618" y="6242"/>
                  </a:lnTo>
                  <a:lnTo>
                    <a:pt x="1555" y="6344"/>
                  </a:lnTo>
                  <a:lnTo>
                    <a:pt x="1494" y="6448"/>
                  </a:lnTo>
                  <a:lnTo>
                    <a:pt x="1434" y="6552"/>
                  </a:lnTo>
                  <a:lnTo>
                    <a:pt x="1314" y="6764"/>
                  </a:lnTo>
                  <a:lnTo>
                    <a:pt x="1194" y="6976"/>
                  </a:lnTo>
                  <a:lnTo>
                    <a:pt x="1133" y="7081"/>
                  </a:lnTo>
                  <a:lnTo>
                    <a:pt x="1072" y="7185"/>
                  </a:lnTo>
                  <a:lnTo>
                    <a:pt x="1008" y="7288"/>
                  </a:lnTo>
                  <a:lnTo>
                    <a:pt x="945" y="7390"/>
                  </a:lnTo>
                  <a:lnTo>
                    <a:pt x="941" y="7396"/>
                  </a:lnTo>
                  <a:lnTo>
                    <a:pt x="937" y="7401"/>
                  </a:lnTo>
                  <a:lnTo>
                    <a:pt x="931" y="7406"/>
                  </a:lnTo>
                  <a:lnTo>
                    <a:pt x="927" y="7411"/>
                  </a:lnTo>
                  <a:lnTo>
                    <a:pt x="915" y="7417"/>
                  </a:lnTo>
                  <a:lnTo>
                    <a:pt x="902" y="7421"/>
                  </a:lnTo>
                  <a:lnTo>
                    <a:pt x="877" y="7428"/>
                  </a:lnTo>
                  <a:lnTo>
                    <a:pt x="850" y="7432"/>
                  </a:lnTo>
                  <a:lnTo>
                    <a:pt x="836" y="7434"/>
                  </a:lnTo>
                  <a:lnTo>
                    <a:pt x="824" y="7437"/>
                  </a:lnTo>
                  <a:lnTo>
                    <a:pt x="813" y="7442"/>
                  </a:lnTo>
                  <a:lnTo>
                    <a:pt x="804" y="7448"/>
                  </a:lnTo>
                  <a:lnTo>
                    <a:pt x="799" y="7452"/>
                  </a:lnTo>
                  <a:lnTo>
                    <a:pt x="795" y="7457"/>
                  </a:lnTo>
                  <a:lnTo>
                    <a:pt x="792" y="7462"/>
                  </a:lnTo>
                  <a:lnTo>
                    <a:pt x="789" y="7467"/>
                  </a:lnTo>
                  <a:lnTo>
                    <a:pt x="786" y="7475"/>
                  </a:lnTo>
                  <a:lnTo>
                    <a:pt x="785" y="7481"/>
                  </a:lnTo>
                  <a:lnTo>
                    <a:pt x="784" y="7490"/>
                  </a:lnTo>
                  <a:lnTo>
                    <a:pt x="783" y="7500"/>
                  </a:lnTo>
                  <a:lnTo>
                    <a:pt x="778" y="7493"/>
                  </a:lnTo>
                  <a:lnTo>
                    <a:pt x="773" y="7489"/>
                  </a:lnTo>
                  <a:lnTo>
                    <a:pt x="767" y="7485"/>
                  </a:lnTo>
                  <a:lnTo>
                    <a:pt x="763" y="7481"/>
                  </a:lnTo>
                  <a:lnTo>
                    <a:pt x="752" y="7477"/>
                  </a:lnTo>
                  <a:lnTo>
                    <a:pt x="744" y="7474"/>
                  </a:lnTo>
                  <a:lnTo>
                    <a:pt x="735" y="7470"/>
                  </a:lnTo>
                  <a:lnTo>
                    <a:pt x="729" y="7465"/>
                  </a:lnTo>
                  <a:lnTo>
                    <a:pt x="725" y="7462"/>
                  </a:lnTo>
                  <a:lnTo>
                    <a:pt x="723" y="7458"/>
                  </a:lnTo>
                  <a:lnTo>
                    <a:pt x="722" y="7454"/>
                  </a:lnTo>
                  <a:lnTo>
                    <a:pt x="720" y="7447"/>
                  </a:lnTo>
                  <a:lnTo>
                    <a:pt x="704" y="7429"/>
                  </a:lnTo>
                  <a:lnTo>
                    <a:pt x="688" y="7408"/>
                  </a:lnTo>
                  <a:lnTo>
                    <a:pt x="672" y="7388"/>
                  </a:lnTo>
                  <a:lnTo>
                    <a:pt x="657" y="7367"/>
                  </a:lnTo>
                  <a:lnTo>
                    <a:pt x="642" y="7344"/>
                  </a:lnTo>
                  <a:lnTo>
                    <a:pt x="628" y="7322"/>
                  </a:lnTo>
                  <a:lnTo>
                    <a:pt x="614" y="7298"/>
                  </a:lnTo>
                  <a:lnTo>
                    <a:pt x="601" y="7274"/>
                  </a:lnTo>
                  <a:lnTo>
                    <a:pt x="576" y="7226"/>
                  </a:lnTo>
                  <a:lnTo>
                    <a:pt x="553" y="7177"/>
                  </a:lnTo>
                  <a:lnTo>
                    <a:pt x="531" y="7130"/>
                  </a:lnTo>
                  <a:lnTo>
                    <a:pt x="512" y="7082"/>
                  </a:lnTo>
                  <a:lnTo>
                    <a:pt x="495" y="7038"/>
                  </a:lnTo>
                  <a:lnTo>
                    <a:pt x="481" y="6997"/>
                  </a:lnTo>
                  <a:lnTo>
                    <a:pt x="468" y="6959"/>
                  </a:lnTo>
                  <a:lnTo>
                    <a:pt x="457" y="6927"/>
                  </a:lnTo>
                  <a:lnTo>
                    <a:pt x="443" y="6879"/>
                  </a:lnTo>
                  <a:lnTo>
                    <a:pt x="438" y="6860"/>
                  </a:lnTo>
                  <a:lnTo>
                    <a:pt x="430" y="6833"/>
                  </a:lnTo>
                  <a:lnTo>
                    <a:pt x="423" y="6806"/>
                  </a:lnTo>
                  <a:lnTo>
                    <a:pt x="418" y="6778"/>
                  </a:lnTo>
                  <a:lnTo>
                    <a:pt x="413" y="6751"/>
                  </a:lnTo>
                  <a:lnTo>
                    <a:pt x="409" y="6723"/>
                  </a:lnTo>
                  <a:lnTo>
                    <a:pt x="407" y="6695"/>
                  </a:lnTo>
                  <a:lnTo>
                    <a:pt x="405" y="6667"/>
                  </a:lnTo>
                  <a:lnTo>
                    <a:pt x="404" y="6640"/>
                  </a:lnTo>
                  <a:lnTo>
                    <a:pt x="402" y="6584"/>
                  </a:lnTo>
                  <a:lnTo>
                    <a:pt x="404" y="6527"/>
                  </a:lnTo>
                  <a:lnTo>
                    <a:pt x="406" y="6470"/>
                  </a:lnTo>
                  <a:lnTo>
                    <a:pt x="409" y="6413"/>
                  </a:lnTo>
                  <a:lnTo>
                    <a:pt x="412" y="6358"/>
                  </a:lnTo>
                  <a:lnTo>
                    <a:pt x="415" y="6301"/>
                  </a:lnTo>
                  <a:lnTo>
                    <a:pt x="416" y="6244"/>
                  </a:lnTo>
                  <a:lnTo>
                    <a:pt x="415" y="6188"/>
                  </a:lnTo>
                  <a:lnTo>
                    <a:pt x="414" y="6160"/>
                  </a:lnTo>
                  <a:lnTo>
                    <a:pt x="412" y="6132"/>
                  </a:lnTo>
                  <a:lnTo>
                    <a:pt x="409" y="6104"/>
                  </a:lnTo>
                  <a:lnTo>
                    <a:pt x="406" y="6077"/>
                  </a:lnTo>
                  <a:lnTo>
                    <a:pt x="401" y="6049"/>
                  </a:lnTo>
                  <a:lnTo>
                    <a:pt x="395" y="6022"/>
                  </a:lnTo>
                  <a:lnTo>
                    <a:pt x="389" y="5994"/>
                  </a:lnTo>
                  <a:lnTo>
                    <a:pt x="380" y="5967"/>
                  </a:lnTo>
                  <a:lnTo>
                    <a:pt x="369" y="5938"/>
                  </a:lnTo>
                  <a:lnTo>
                    <a:pt x="359" y="5906"/>
                  </a:lnTo>
                  <a:lnTo>
                    <a:pt x="348" y="5871"/>
                  </a:lnTo>
                  <a:lnTo>
                    <a:pt x="336" y="5833"/>
                  </a:lnTo>
                  <a:lnTo>
                    <a:pt x="313" y="5753"/>
                  </a:lnTo>
                  <a:lnTo>
                    <a:pt x="291" y="5668"/>
                  </a:lnTo>
                  <a:lnTo>
                    <a:pt x="268" y="5583"/>
                  </a:lnTo>
                  <a:lnTo>
                    <a:pt x="246" y="5503"/>
                  </a:lnTo>
                  <a:lnTo>
                    <a:pt x="235" y="5465"/>
                  </a:lnTo>
                  <a:lnTo>
                    <a:pt x="223" y="5430"/>
                  </a:lnTo>
                  <a:lnTo>
                    <a:pt x="213" y="5398"/>
                  </a:lnTo>
                  <a:lnTo>
                    <a:pt x="202" y="5369"/>
                  </a:lnTo>
                  <a:lnTo>
                    <a:pt x="185" y="5314"/>
                  </a:lnTo>
                  <a:lnTo>
                    <a:pt x="169" y="5257"/>
                  </a:lnTo>
                  <a:lnTo>
                    <a:pt x="154" y="5199"/>
                  </a:lnTo>
                  <a:lnTo>
                    <a:pt x="140" y="5141"/>
                  </a:lnTo>
                  <a:lnTo>
                    <a:pt x="126" y="5081"/>
                  </a:lnTo>
                  <a:lnTo>
                    <a:pt x="113" y="5021"/>
                  </a:lnTo>
                  <a:lnTo>
                    <a:pt x="100" y="4960"/>
                  </a:lnTo>
                  <a:lnTo>
                    <a:pt x="88" y="4899"/>
                  </a:lnTo>
                  <a:lnTo>
                    <a:pt x="65" y="4776"/>
                  </a:lnTo>
                  <a:lnTo>
                    <a:pt x="43" y="4652"/>
                  </a:lnTo>
                  <a:lnTo>
                    <a:pt x="22" y="4531"/>
                  </a:lnTo>
                  <a:lnTo>
                    <a:pt x="0" y="4412"/>
                  </a:lnTo>
                  <a:lnTo>
                    <a:pt x="0" y="4374"/>
                  </a:lnTo>
                  <a:lnTo>
                    <a:pt x="0" y="4336"/>
                  </a:lnTo>
                  <a:lnTo>
                    <a:pt x="0" y="4298"/>
                  </a:lnTo>
                  <a:lnTo>
                    <a:pt x="0" y="4262"/>
                  </a:lnTo>
                  <a:lnTo>
                    <a:pt x="0" y="4226"/>
                  </a:lnTo>
                  <a:lnTo>
                    <a:pt x="0" y="4191"/>
                  </a:lnTo>
                  <a:lnTo>
                    <a:pt x="0" y="4157"/>
                  </a:lnTo>
                  <a:lnTo>
                    <a:pt x="0" y="4125"/>
                  </a:lnTo>
                  <a:close/>
                  <a:moveTo>
                    <a:pt x="4643" y="179"/>
                  </a:moveTo>
                  <a:lnTo>
                    <a:pt x="4653" y="223"/>
                  </a:lnTo>
                  <a:lnTo>
                    <a:pt x="4666" y="272"/>
                  </a:lnTo>
                  <a:lnTo>
                    <a:pt x="4671" y="297"/>
                  </a:lnTo>
                  <a:lnTo>
                    <a:pt x="4677" y="323"/>
                  </a:lnTo>
                  <a:lnTo>
                    <a:pt x="4683" y="350"/>
                  </a:lnTo>
                  <a:lnTo>
                    <a:pt x="4687" y="377"/>
                  </a:lnTo>
                  <a:lnTo>
                    <a:pt x="4690" y="403"/>
                  </a:lnTo>
                  <a:lnTo>
                    <a:pt x="4692" y="430"/>
                  </a:lnTo>
                  <a:lnTo>
                    <a:pt x="4694" y="456"/>
                  </a:lnTo>
                  <a:lnTo>
                    <a:pt x="4692" y="481"/>
                  </a:lnTo>
                  <a:lnTo>
                    <a:pt x="4691" y="494"/>
                  </a:lnTo>
                  <a:lnTo>
                    <a:pt x="4689" y="505"/>
                  </a:lnTo>
                  <a:lnTo>
                    <a:pt x="4687" y="517"/>
                  </a:lnTo>
                  <a:lnTo>
                    <a:pt x="4684" y="529"/>
                  </a:lnTo>
                  <a:lnTo>
                    <a:pt x="4681" y="540"/>
                  </a:lnTo>
                  <a:lnTo>
                    <a:pt x="4676" y="550"/>
                  </a:lnTo>
                  <a:lnTo>
                    <a:pt x="4672" y="561"/>
                  </a:lnTo>
                  <a:lnTo>
                    <a:pt x="4666" y="571"/>
                  </a:lnTo>
                  <a:lnTo>
                    <a:pt x="4643" y="605"/>
                  </a:lnTo>
                  <a:lnTo>
                    <a:pt x="4580" y="605"/>
                  </a:lnTo>
                  <a:lnTo>
                    <a:pt x="4551" y="646"/>
                  </a:lnTo>
                  <a:lnTo>
                    <a:pt x="4550" y="651"/>
                  </a:lnTo>
                  <a:lnTo>
                    <a:pt x="4547" y="668"/>
                  </a:lnTo>
                  <a:lnTo>
                    <a:pt x="4541" y="693"/>
                  </a:lnTo>
                  <a:lnTo>
                    <a:pt x="4537" y="722"/>
                  </a:lnTo>
                  <a:lnTo>
                    <a:pt x="4532" y="752"/>
                  </a:lnTo>
                  <a:lnTo>
                    <a:pt x="4526" y="781"/>
                  </a:lnTo>
                  <a:lnTo>
                    <a:pt x="4523" y="807"/>
                  </a:lnTo>
                  <a:lnTo>
                    <a:pt x="4522" y="824"/>
                  </a:lnTo>
                  <a:lnTo>
                    <a:pt x="4536" y="808"/>
                  </a:lnTo>
                  <a:lnTo>
                    <a:pt x="4551" y="792"/>
                  </a:lnTo>
                  <a:lnTo>
                    <a:pt x="4566" y="777"/>
                  </a:lnTo>
                  <a:lnTo>
                    <a:pt x="4583" y="763"/>
                  </a:lnTo>
                  <a:lnTo>
                    <a:pt x="4599" y="750"/>
                  </a:lnTo>
                  <a:lnTo>
                    <a:pt x="4617" y="736"/>
                  </a:lnTo>
                  <a:lnTo>
                    <a:pt x="4635" y="724"/>
                  </a:lnTo>
                  <a:lnTo>
                    <a:pt x="4654" y="711"/>
                  </a:lnTo>
                  <a:lnTo>
                    <a:pt x="4692" y="689"/>
                  </a:lnTo>
                  <a:lnTo>
                    <a:pt x="4732" y="667"/>
                  </a:lnTo>
                  <a:lnTo>
                    <a:pt x="4773" y="646"/>
                  </a:lnTo>
                  <a:lnTo>
                    <a:pt x="4814" y="625"/>
                  </a:lnTo>
                  <a:lnTo>
                    <a:pt x="4856" y="605"/>
                  </a:lnTo>
                  <a:lnTo>
                    <a:pt x="4896" y="584"/>
                  </a:lnTo>
                  <a:lnTo>
                    <a:pt x="4936" y="562"/>
                  </a:lnTo>
                  <a:lnTo>
                    <a:pt x="4975" y="539"/>
                  </a:lnTo>
                  <a:lnTo>
                    <a:pt x="4994" y="527"/>
                  </a:lnTo>
                  <a:lnTo>
                    <a:pt x="5012" y="514"/>
                  </a:lnTo>
                  <a:lnTo>
                    <a:pt x="5030" y="501"/>
                  </a:lnTo>
                  <a:lnTo>
                    <a:pt x="5047" y="487"/>
                  </a:lnTo>
                  <a:lnTo>
                    <a:pt x="5064" y="473"/>
                  </a:lnTo>
                  <a:lnTo>
                    <a:pt x="5080" y="458"/>
                  </a:lnTo>
                  <a:lnTo>
                    <a:pt x="5095" y="443"/>
                  </a:lnTo>
                  <a:lnTo>
                    <a:pt x="5110" y="426"/>
                  </a:lnTo>
                  <a:lnTo>
                    <a:pt x="5110" y="400"/>
                  </a:lnTo>
                  <a:lnTo>
                    <a:pt x="5109" y="373"/>
                  </a:lnTo>
                  <a:lnTo>
                    <a:pt x="5106" y="346"/>
                  </a:lnTo>
                  <a:lnTo>
                    <a:pt x="5103" y="317"/>
                  </a:lnTo>
                  <a:lnTo>
                    <a:pt x="5100" y="289"/>
                  </a:lnTo>
                  <a:lnTo>
                    <a:pt x="5096" y="260"/>
                  </a:lnTo>
                  <a:lnTo>
                    <a:pt x="5090" y="231"/>
                  </a:lnTo>
                  <a:lnTo>
                    <a:pt x="5084" y="203"/>
                  </a:lnTo>
                  <a:lnTo>
                    <a:pt x="5076" y="174"/>
                  </a:lnTo>
                  <a:lnTo>
                    <a:pt x="5068" y="147"/>
                  </a:lnTo>
                  <a:lnTo>
                    <a:pt x="5057" y="120"/>
                  </a:lnTo>
                  <a:lnTo>
                    <a:pt x="5046" y="94"/>
                  </a:lnTo>
                  <a:lnTo>
                    <a:pt x="5035" y="69"/>
                  </a:lnTo>
                  <a:lnTo>
                    <a:pt x="5021" y="44"/>
                  </a:lnTo>
                  <a:lnTo>
                    <a:pt x="5006" y="22"/>
                  </a:lnTo>
                  <a:lnTo>
                    <a:pt x="4989" y="0"/>
                  </a:lnTo>
                  <a:lnTo>
                    <a:pt x="4954" y="1"/>
                  </a:lnTo>
                  <a:lnTo>
                    <a:pt x="4915" y="6"/>
                  </a:lnTo>
                  <a:lnTo>
                    <a:pt x="4873" y="11"/>
                  </a:lnTo>
                  <a:lnTo>
                    <a:pt x="4830" y="17"/>
                  </a:lnTo>
                  <a:lnTo>
                    <a:pt x="4786" y="24"/>
                  </a:lnTo>
                  <a:lnTo>
                    <a:pt x="4743" y="29"/>
                  </a:lnTo>
                  <a:lnTo>
                    <a:pt x="4723" y="31"/>
                  </a:lnTo>
                  <a:lnTo>
                    <a:pt x="4703" y="34"/>
                  </a:lnTo>
                  <a:lnTo>
                    <a:pt x="4684" y="35"/>
                  </a:lnTo>
                  <a:lnTo>
                    <a:pt x="4666" y="35"/>
                  </a:lnTo>
                  <a:lnTo>
                    <a:pt x="4666" y="50"/>
                  </a:lnTo>
                  <a:lnTo>
                    <a:pt x="4662" y="65"/>
                  </a:lnTo>
                  <a:lnTo>
                    <a:pt x="4659" y="80"/>
                  </a:lnTo>
                  <a:lnTo>
                    <a:pt x="4655" y="96"/>
                  </a:lnTo>
                  <a:lnTo>
                    <a:pt x="4651" y="114"/>
                  </a:lnTo>
                  <a:lnTo>
                    <a:pt x="4646" y="133"/>
                  </a:lnTo>
                  <a:lnTo>
                    <a:pt x="4644" y="155"/>
                  </a:lnTo>
                  <a:lnTo>
                    <a:pt x="4643" y="179"/>
                  </a:lnTo>
                  <a:close/>
                </a:path>
              </a:pathLst>
            </a:custGeom>
            <a:solidFill>
              <a:srgbClr val="b26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49320" y="2438280"/>
              <a:ext cx="1845720" cy="2092320"/>
            </a:xfrm>
            <a:custGeom>
              <a:avLst/>
              <a:gdLst/>
              <a:ahLst/>
              <a:rect l="l" t="t" r="r" b="b"/>
              <a:pathLst>
                <a:path w="10726" h="13190">
                  <a:moveTo>
                    <a:pt x="2875" y="12045"/>
                  </a:moveTo>
                  <a:lnTo>
                    <a:pt x="2833" y="12045"/>
                  </a:lnTo>
                  <a:lnTo>
                    <a:pt x="2790" y="12047"/>
                  </a:lnTo>
                  <a:lnTo>
                    <a:pt x="2746" y="12050"/>
                  </a:lnTo>
                  <a:lnTo>
                    <a:pt x="2702" y="12054"/>
                  </a:lnTo>
                  <a:lnTo>
                    <a:pt x="2656" y="12060"/>
                  </a:lnTo>
                  <a:lnTo>
                    <a:pt x="2610" y="12066"/>
                  </a:lnTo>
                  <a:lnTo>
                    <a:pt x="2564" y="12074"/>
                  </a:lnTo>
                  <a:lnTo>
                    <a:pt x="2517" y="12082"/>
                  </a:lnTo>
                  <a:lnTo>
                    <a:pt x="2470" y="12092"/>
                  </a:lnTo>
                  <a:lnTo>
                    <a:pt x="2421" y="12104"/>
                  </a:lnTo>
                  <a:lnTo>
                    <a:pt x="2374" y="12115"/>
                  </a:lnTo>
                  <a:lnTo>
                    <a:pt x="2326" y="12128"/>
                  </a:lnTo>
                  <a:lnTo>
                    <a:pt x="2278" y="12143"/>
                  </a:lnTo>
                  <a:lnTo>
                    <a:pt x="2230" y="12158"/>
                  </a:lnTo>
                  <a:lnTo>
                    <a:pt x="2182" y="12175"/>
                  </a:lnTo>
                  <a:lnTo>
                    <a:pt x="2135" y="12193"/>
                  </a:lnTo>
                  <a:lnTo>
                    <a:pt x="2088" y="12211"/>
                  </a:lnTo>
                  <a:lnTo>
                    <a:pt x="2042" y="12231"/>
                  </a:lnTo>
                  <a:lnTo>
                    <a:pt x="1996" y="12252"/>
                  </a:lnTo>
                  <a:lnTo>
                    <a:pt x="1951" y="12273"/>
                  </a:lnTo>
                  <a:lnTo>
                    <a:pt x="1907" y="12296"/>
                  </a:lnTo>
                  <a:lnTo>
                    <a:pt x="1864" y="12319"/>
                  </a:lnTo>
                  <a:lnTo>
                    <a:pt x="1821" y="12344"/>
                  </a:lnTo>
                  <a:lnTo>
                    <a:pt x="1780" y="12370"/>
                  </a:lnTo>
                  <a:lnTo>
                    <a:pt x="1740" y="12396"/>
                  </a:lnTo>
                  <a:lnTo>
                    <a:pt x="1702" y="12424"/>
                  </a:lnTo>
                  <a:lnTo>
                    <a:pt x="1664" y="12452"/>
                  </a:lnTo>
                  <a:lnTo>
                    <a:pt x="1629" y="12482"/>
                  </a:lnTo>
                  <a:lnTo>
                    <a:pt x="1594" y="12512"/>
                  </a:lnTo>
                  <a:lnTo>
                    <a:pt x="1562" y="12543"/>
                  </a:lnTo>
                  <a:lnTo>
                    <a:pt x="1532" y="12575"/>
                  </a:lnTo>
                  <a:lnTo>
                    <a:pt x="1503" y="12609"/>
                  </a:lnTo>
                  <a:lnTo>
                    <a:pt x="1494" y="12614"/>
                  </a:lnTo>
                  <a:lnTo>
                    <a:pt x="1486" y="12620"/>
                  </a:lnTo>
                  <a:lnTo>
                    <a:pt x="1480" y="12630"/>
                  </a:lnTo>
                  <a:lnTo>
                    <a:pt x="1475" y="12641"/>
                  </a:lnTo>
                  <a:lnTo>
                    <a:pt x="1472" y="12654"/>
                  </a:lnTo>
                  <a:lnTo>
                    <a:pt x="1470" y="12669"/>
                  </a:lnTo>
                  <a:lnTo>
                    <a:pt x="1469" y="12685"/>
                  </a:lnTo>
                  <a:lnTo>
                    <a:pt x="1470" y="12702"/>
                  </a:lnTo>
                  <a:lnTo>
                    <a:pt x="1471" y="12720"/>
                  </a:lnTo>
                  <a:lnTo>
                    <a:pt x="1473" y="12741"/>
                  </a:lnTo>
                  <a:lnTo>
                    <a:pt x="1476" y="12761"/>
                  </a:lnTo>
                  <a:lnTo>
                    <a:pt x="1481" y="12783"/>
                  </a:lnTo>
                  <a:lnTo>
                    <a:pt x="1492" y="12829"/>
                  </a:lnTo>
                  <a:lnTo>
                    <a:pt x="1504" y="12876"/>
                  </a:lnTo>
                  <a:lnTo>
                    <a:pt x="1518" y="12924"/>
                  </a:lnTo>
                  <a:lnTo>
                    <a:pt x="1534" y="12971"/>
                  </a:lnTo>
                  <a:lnTo>
                    <a:pt x="1550" y="13017"/>
                  </a:lnTo>
                  <a:lnTo>
                    <a:pt x="1566" y="13061"/>
                  </a:lnTo>
                  <a:lnTo>
                    <a:pt x="1593" y="13137"/>
                  </a:lnTo>
                  <a:lnTo>
                    <a:pt x="1613" y="13190"/>
                  </a:lnTo>
                  <a:lnTo>
                    <a:pt x="1647" y="13162"/>
                  </a:lnTo>
                  <a:lnTo>
                    <a:pt x="1685" y="13130"/>
                  </a:lnTo>
                  <a:lnTo>
                    <a:pt x="1725" y="13097"/>
                  </a:lnTo>
                  <a:lnTo>
                    <a:pt x="1766" y="13062"/>
                  </a:lnTo>
                  <a:lnTo>
                    <a:pt x="1807" y="13030"/>
                  </a:lnTo>
                  <a:lnTo>
                    <a:pt x="1847" y="13001"/>
                  </a:lnTo>
                  <a:lnTo>
                    <a:pt x="1866" y="12988"/>
                  </a:lnTo>
                  <a:lnTo>
                    <a:pt x="1884" y="12977"/>
                  </a:lnTo>
                  <a:lnTo>
                    <a:pt x="1901" y="12968"/>
                  </a:lnTo>
                  <a:lnTo>
                    <a:pt x="1918" y="12960"/>
                  </a:lnTo>
                  <a:lnTo>
                    <a:pt x="1949" y="12944"/>
                  </a:lnTo>
                  <a:lnTo>
                    <a:pt x="1981" y="12929"/>
                  </a:lnTo>
                  <a:lnTo>
                    <a:pt x="2012" y="12915"/>
                  </a:lnTo>
                  <a:lnTo>
                    <a:pt x="2043" y="12903"/>
                  </a:lnTo>
                  <a:lnTo>
                    <a:pt x="2075" y="12891"/>
                  </a:lnTo>
                  <a:lnTo>
                    <a:pt x="2106" y="12881"/>
                  </a:lnTo>
                  <a:lnTo>
                    <a:pt x="2138" y="12871"/>
                  </a:lnTo>
                  <a:lnTo>
                    <a:pt x="2170" y="12863"/>
                  </a:lnTo>
                  <a:lnTo>
                    <a:pt x="2202" y="12854"/>
                  </a:lnTo>
                  <a:lnTo>
                    <a:pt x="2234" y="12848"/>
                  </a:lnTo>
                  <a:lnTo>
                    <a:pt x="2266" y="12841"/>
                  </a:lnTo>
                  <a:lnTo>
                    <a:pt x="2298" y="12836"/>
                  </a:lnTo>
                  <a:lnTo>
                    <a:pt x="2362" y="12826"/>
                  </a:lnTo>
                  <a:lnTo>
                    <a:pt x="2428" y="12820"/>
                  </a:lnTo>
                  <a:lnTo>
                    <a:pt x="2492" y="12815"/>
                  </a:lnTo>
                  <a:lnTo>
                    <a:pt x="2557" y="12810"/>
                  </a:lnTo>
                  <a:lnTo>
                    <a:pt x="2620" y="12807"/>
                  </a:lnTo>
                  <a:lnTo>
                    <a:pt x="2684" y="12804"/>
                  </a:lnTo>
                  <a:lnTo>
                    <a:pt x="2747" y="12801"/>
                  </a:lnTo>
                  <a:lnTo>
                    <a:pt x="2810" y="12797"/>
                  </a:lnTo>
                  <a:lnTo>
                    <a:pt x="2871" y="12793"/>
                  </a:lnTo>
                  <a:lnTo>
                    <a:pt x="2932" y="12787"/>
                  </a:lnTo>
                  <a:lnTo>
                    <a:pt x="2966" y="12770"/>
                  </a:lnTo>
                  <a:lnTo>
                    <a:pt x="2946" y="12746"/>
                  </a:lnTo>
                  <a:lnTo>
                    <a:pt x="2928" y="12721"/>
                  </a:lnTo>
                  <a:lnTo>
                    <a:pt x="2909" y="12697"/>
                  </a:lnTo>
                  <a:lnTo>
                    <a:pt x="2892" y="12672"/>
                  </a:lnTo>
                  <a:lnTo>
                    <a:pt x="2877" y="12647"/>
                  </a:lnTo>
                  <a:lnTo>
                    <a:pt x="2863" y="12622"/>
                  </a:lnTo>
                  <a:lnTo>
                    <a:pt x="2850" y="12597"/>
                  </a:lnTo>
                  <a:lnTo>
                    <a:pt x="2839" y="12572"/>
                  </a:lnTo>
                  <a:lnTo>
                    <a:pt x="2828" y="12548"/>
                  </a:lnTo>
                  <a:lnTo>
                    <a:pt x="2818" y="12523"/>
                  </a:lnTo>
                  <a:lnTo>
                    <a:pt x="2810" y="12498"/>
                  </a:lnTo>
                  <a:lnTo>
                    <a:pt x="2802" y="12474"/>
                  </a:lnTo>
                  <a:lnTo>
                    <a:pt x="2797" y="12449"/>
                  </a:lnTo>
                  <a:lnTo>
                    <a:pt x="2791" y="12425"/>
                  </a:lnTo>
                  <a:lnTo>
                    <a:pt x="2787" y="12401"/>
                  </a:lnTo>
                  <a:lnTo>
                    <a:pt x="2785" y="12377"/>
                  </a:lnTo>
                  <a:lnTo>
                    <a:pt x="2783" y="12353"/>
                  </a:lnTo>
                  <a:lnTo>
                    <a:pt x="2782" y="12330"/>
                  </a:lnTo>
                  <a:lnTo>
                    <a:pt x="2783" y="12306"/>
                  </a:lnTo>
                  <a:lnTo>
                    <a:pt x="2784" y="12284"/>
                  </a:lnTo>
                  <a:lnTo>
                    <a:pt x="2786" y="12261"/>
                  </a:lnTo>
                  <a:lnTo>
                    <a:pt x="2789" y="12240"/>
                  </a:lnTo>
                  <a:lnTo>
                    <a:pt x="2794" y="12217"/>
                  </a:lnTo>
                  <a:lnTo>
                    <a:pt x="2799" y="12197"/>
                  </a:lnTo>
                  <a:lnTo>
                    <a:pt x="2805" y="12175"/>
                  </a:lnTo>
                  <a:lnTo>
                    <a:pt x="2813" y="12155"/>
                  </a:lnTo>
                  <a:lnTo>
                    <a:pt x="2820" y="12136"/>
                  </a:lnTo>
                  <a:lnTo>
                    <a:pt x="2830" y="12116"/>
                  </a:lnTo>
                  <a:lnTo>
                    <a:pt x="2840" y="12097"/>
                  </a:lnTo>
                  <a:lnTo>
                    <a:pt x="2850" y="12079"/>
                  </a:lnTo>
                  <a:lnTo>
                    <a:pt x="2862" y="12062"/>
                  </a:lnTo>
                  <a:lnTo>
                    <a:pt x="2875" y="12045"/>
                  </a:lnTo>
                  <a:close/>
                  <a:moveTo>
                    <a:pt x="7460" y="8588"/>
                  </a:moveTo>
                  <a:lnTo>
                    <a:pt x="7481" y="8577"/>
                  </a:lnTo>
                  <a:lnTo>
                    <a:pt x="7504" y="8566"/>
                  </a:lnTo>
                  <a:lnTo>
                    <a:pt x="7525" y="8553"/>
                  </a:lnTo>
                  <a:lnTo>
                    <a:pt x="7547" y="8539"/>
                  </a:lnTo>
                  <a:lnTo>
                    <a:pt x="7568" y="8523"/>
                  </a:lnTo>
                  <a:lnTo>
                    <a:pt x="7590" y="8506"/>
                  </a:lnTo>
                  <a:lnTo>
                    <a:pt x="7611" y="8488"/>
                  </a:lnTo>
                  <a:lnTo>
                    <a:pt x="7632" y="8470"/>
                  </a:lnTo>
                  <a:lnTo>
                    <a:pt x="7673" y="8431"/>
                  </a:lnTo>
                  <a:lnTo>
                    <a:pt x="7714" y="8390"/>
                  </a:lnTo>
                  <a:lnTo>
                    <a:pt x="7755" y="8347"/>
                  </a:lnTo>
                  <a:lnTo>
                    <a:pt x="7796" y="8303"/>
                  </a:lnTo>
                  <a:lnTo>
                    <a:pt x="7835" y="8259"/>
                  </a:lnTo>
                  <a:lnTo>
                    <a:pt x="7874" y="8215"/>
                  </a:lnTo>
                  <a:lnTo>
                    <a:pt x="7914" y="8173"/>
                  </a:lnTo>
                  <a:lnTo>
                    <a:pt x="7952" y="8134"/>
                  </a:lnTo>
                  <a:lnTo>
                    <a:pt x="7972" y="8115"/>
                  </a:lnTo>
                  <a:lnTo>
                    <a:pt x="7991" y="8097"/>
                  </a:lnTo>
                  <a:lnTo>
                    <a:pt x="8010" y="8080"/>
                  </a:lnTo>
                  <a:lnTo>
                    <a:pt x="8029" y="8065"/>
                  </a:lnTo>
                  <a:lnTo>
                    <a:pt x="8048" y="8050"/>
                  </a:lnTo>
                  <a:lnTo>
                    <a:pt x="8067" y="8036"/>
                  </a:lnTo>
                  <a:lnTo>
                    <a:pt x="8086" y="8023"/>
                  </a:lnTo>
                  <a:lnTo>
                    <a:pt x="8105" y="8012"/>
                  </a:lnTo>
                  <a:lnTo>
                    <a:pt x="8099" y="8001"/>
                  </a:lnTo>
                  <a:lnTo>
                    <a:pt x="8093" y="7990"/>
                  </a:lnTo>
                  <a:lnTo>
                    <a:pt x="8086" y="7980"/>
                  </a:lnTo>
                  <a:lnTo>
                    <a:pt x="8079" y="7972"/>
                  </a:lnTo>
                  <a:lnTo>
                    <a:pt x="8070" y="7964"/>
                  </a:lnTo>
                  <a:lnTo>
                    <a:pt x="8062" y="7957"/>
                  </a:lnTo>
                  <a:lnTo>
                    <a:pt x="8053" y="7950"/>
                  </a:lnTo>
                  <a:lnTo>
                    <a:pt x="8043" y="7944"/>
                  </a:lnTo>
                  <a:lnTo>
                    <a:pt x="8024" y="7930"/>
                  </a:lnTo>
                  <a:lnTo>
                    <a:pt x="8004" y="7915"/>
                  </a:lnTo>
                  <a:lnTo>
                    <a:pt x="7993" y="7907"/>
                  </a:lnTo>
                  <a:lnTo>
                    <a:pt x="7982" y="7898"/>
                  </a:lnTo>
                  <a:lnTo>
                    <a:pt x="7972" y="7887"/>
                  </a:lnTo>
                  <a:lnTo>
                    <a:pt x="7961" y="7874"/>
                  </a:lnTo>
                  <a:lnTo>
                    <a:pt x="7980" y="7850"/>
                  </a:lnTo>
                  <a:lnTo>
                    <a:pt x="8002" y="7828"/>
                  </a:lnTo>
                  <a:lnTo>
                    <a:pt x="8022" y="7806"/>
                  </a:lnTo>
                  <a:lnTo>
                    <a:pt x="8043" y="7786"/>
                  </a:lnTo>
                  <a:lnTo>
                    <a:pt x="8066" y="7766"/>
                  </a:lnTo>
                  <a:lnTo>
                    <a:pt x="8088" y="7745"/>
                  </a:lnTo>
                  <a:lnTo>
                    <a:pt x="8111" y="7726"/>
                  </a:lnTo>
                  <a:lnTo>
                    <a:pt x="8135" y="7707"/>
                  </a:lnTo>
                  <a:lnTo>
                    <a:pt x="8183" y="7670"/>
                  </a:lnTo>
                  <a:lnTo>
                    <a:pt x="8232" y="7635"/>
                  </a:lnTo>
                  <a:lnTo>
                    <a:pt x="8283" y="7601"/>
                  </a:lnTo>
                  <a:lnTo>
                    <a:pt x="8333" y="7565"/>
                  </a:lnTo>
                  <a:lnTo>
                    <a:pt x="8384" y="7531"/>
                  </a:lnTo>
                  <a:lnTo>
                    <a:pt x="8436" y="7494"/>
                  </a:lnTo>
                  <a:lnTo>
                    <a:pt x="8486" y="7457"/>
                  </a:lnTo>
                  <a:lnTo>
                    <a:pt x="8537" y="7418"/>
                  </a:lnTo>
                  <a:lnTo>
                    <a:pt x="8561" y="7398"/>
                  </a:lnTo>
                  <a:lnTo>
                    <a:pt x="8586" y="7377"/>
                  </a:lnTo>
                  <a:lnTo>
                    <a:pt x="8611" y="7355"/>
                  </a:lnTo>
                  <a:lnTo>
                    <a:pt x="8634" y="7333"/>
                  </a:lnTo>
                  <a:lnTo>
                    <a:pt x="8658" y="7310"/>
                  </a:lnTo>
                  <a:lnTo>
                    <a:pt x="8682" y="7286"/>
                  </a:lnTo>
                  <a:lnTo>
                    <a:pt x="8705" y="7261"/>
                  </a:lnTo>
                  <a:lnTo>
                    <a:pt x="8727" y="7235"/>
                  </a:lnTo>
                  <a:lnTo>
                    <a:pt x="8738" y="7236"/>
                  </a:lnTo>
                  <a:lnTo>
                    <a:pt x="8751" y="7238"/>
                  </a:lnTo>
                  <a:lnTo>
                    <a:pt x="8764" y="7241"/>
                  </a:lnTo>
                  <a:lnTo>
                    <a:pt x="8779" y="7247"/>
                  </a:lnTo>
                  <a:lnTo>
                    <a:pt x="8793" y="7252"/>
                  </a:lnTo>
                  <a:lnTo>
                    <a:pt x="8808" y="7258"/>
                  </a:lnTo>
                  <a:lnTo>
                    <a:pt x="8823" y="7266"/>
                  </a:lnTo>
                  <a:lnTo>
                    <a:pt x="8838" y="7273"/>
                  </a:lnTo>
                  <a:lnTo>
                    <a:pt x="8867" y="7291"/>
                  </a:lnTo>
                  <a:lnTo>
                    <a:pt x="8893" y="7308"/>
                  </a:lnTo>
                  <a:lnTo>
                    <a:pt x="8905" y="7316"/>
                  </a:lnTo>
                  <a:lnTo>
                    <a:pt x="8914" y="7324"/>
                  </a:lnTo>
                  <a:lnTo>
                    <a:pt x="8922" y="7331"/>
                  </a:lnTo>
                  <a:lnTo>
                    <a:pt x="8928" y="7339"/>
                  </a:lnTo>
                  <a:lnTo>
                    <a:pt x="8935" y="7338"/>
                  </a:lnTo>
                  <a:lnTo>
                    <a:pt x="8943" y="7336"/>
                  </a:lnTo>
                  <a:lnTo>
                    <a:pt x="8953" y="7331"/>
                  </a:lnTo>
                  <a:lnTo>
                    <a:pt x="8965" y="7327"/>
                  </a:lnTo>
                  <a:lnTo>
                    <a:pt x="8976" y="7321"/>
                  </a:lnTo>
                  <a:lnTo>
                    <a:pt x="8990" y="7313"/>
                  </a:lnTo>
                  <a:lnTo>
                    <a:pt x="9004" y="7305"/>
                  </a:lnTo>
                  <a:lnTo>
                    <a:pt x="9018" y="7295"/>
                  </a:lnTo>
                  <a:lnTo>
                    <a:pt x="9032" y="7284"/>
                  </a:lnTo>
                  <a:lnTo>
                    <a:pt x="9045" y="7273"/>
                  </a:lnTo>
                  <a:lnTo>
                    <a:pt x="9059" y="7262"/>
                  </a:lnTo>
                  <a:lnTo>
                    <a:pt x="9071" y="7249"/>
                  </a:lnTo>
                  <a:lnTo>
                    <a:pt x="9083" y="7236"/>
                  </a:lnTo>
                  <a:lnTo>
                    <a:pt x="9092" y="7222"/>
                  </a:lnTo>
                  <a:lnTo>
                    <a:pt x="9101" y="7208"/>
                  </a:lnTo>
                  <a:lnTo>
                    <a:pt x="9107" y="7194"/>
                  </a:lnTo>
                  <a:lnTo>
                    <a:pt x="9118" y="7158"/>
                  </a:lnTo>
                  <a:lnTo>
                    <a:pt x="9128" y="7119"/>
                  </a:lnTo>
                  <a:lnTo>
                    <a:pt x="9137" y="7080"/>
                  </a:lnTo>
                  <a:lnTo>
                    <a:pt x="9146" y="7041"/>
                  </a:lnTo>
                  <a:lnTo>
                    <a:pt x="9156" y="7001"/>
                  </a:lnTo>
                  <a:lnTo>
                    <a:pt x="9163" y="6960"/>
                  </a:lnTo>
                  <a:lnTo>
                    <a:pt x="9171" y="6918"/>
                  </a:lnTo>
                  <a:lnTo>
                    <a:pt x="9178" y="6877"/>
                  </a:lnTo>
                  <a:lnTo>
                    <a:pt x="9192" y="6792"/>
                  </a:lnTo>
                  <a:lnTo>
                    <a:pt x="9204" y="6704"/>
                  </a:lnTo>
                  <a:lnTo>
                    <a:pt x="9214" y="6616"/>
                  </a:lnTo>
                  <a:lnTo>
                    <a:pt x="9222" y="6527"/>
                  </a:lnTo>
                  <a:lnTo>
                    <a:pt x="9230" y="6438"/>
                  </a:lnTo>
                  <a:lnTo>
                    <a:pt x="9236" y="6348"/>
                  </a:lnTo>
                  <a:lnTo>
                    <a:pt x="9241" y="6259"/>
                  </a:lnTo>
                  <a:lnTo>
                    <a:pt x="9245" y="6170"/>
                  </a:lnTo>
                  <a:lnTo>
                    <a:pt x="9248" y="6082"/>
                  </a:lnTo>
                  <a:lnTo>
                    <a:pt x="9250" y="5996"/>
                  </a:lnTo>
                  <a:lnTo>
                    <a:pt x="9251" y="5911"/>
                  </a:lnTo>
                  <a:lnTo>
                    <a:pt x="9251" y="5830"/>
                  </a:lnTo>
                  <a:lnTo>
                    <a:pt x="9275" y="5803"/>
                  </a:lnTo>
                  <a:lnTo>
                    <a:pt x="9297" y="5779"/>
                  </a:lnTo>
                  <a:lnTo>
                    <a:pt x="9322" y="5756"/>
                  </a:lnTo>
                  <a:lnTo>
                    <a:pt x="9347" y="5736"/>
                  </a:lnTo>
                  <a:lnTo>
                    <a:pt x="9371" y="5716"/>
                  </a:lnTo>
                  <a:lnTo>
                    <a:pt x="9396" y="5699"/>
                  </a:lnTo>
                  <a:lnTo>
                    <a:pt x="9422" y="5683"/>
                  </a:lnTo>
                  <a:lnTo>
                    <a:pt x="9447" y="5669"/>
                  </a:lnTo>
                  <a:lnTo>
                    <a:pt x="9474" y="5656"/>
                  </a:lnTo>
                  <a:lnTo>
                    <a:pt x="9501" y="5646"/>
                  </a:lnTo>
                  <a:lnTo>
                    <a:pt x="9528" y="5637"/>
                  </a:lnTo>
                  <a:lnTo>
                    <a:pt x="9555" y="5629"/>
                  </a:lnTo>
                  <a:lnTo>
                    <a:pt x="9582" y="5624"/>
                  </a:lnTo>
                  <a:lnTo>
                    <a:pt x="9610" y="5620"/>
                  </a:lnTo>
                  <a:lnTo>
                    <a:pt x="9638" y="5618"/>
                  </a:lnTo>
                  <a:lnTo>
                    <a:pt x="9666" y="5617"/>
                  </a:lnTo>
                  <a:lnTo>
                    <a:pt x="9654" y="5600"/>
                  </a:lnTo>
                  <a:lnTo>
                    <a:pt x="9640" y="5579"/>
                  </a:lnTo>
                  <a:lnTo>
                    <a:pt x="9624" y="5554"/>
                  </a:lnTo>
                  <a:lnTo>
                    <a:pt x="9608" y="5528"/>
                  </a:lnTo>
                  <a:lnTo>
                    <a:pt x="9592" y="5501"/>
                  </a:lnTo>
                  <a:lnTo>
                    <a:pt x="9577" y="5475"/>
                  </a:lnTo>
                  <a:lnTo>
                    <a:pt x="9563" y="5454"/>
                  </a:lnTo>
                  <a:lnTo>
                    <a:pt x="9550" y="5437"/>
                  </a:lnTo>
                  <a:lnTo>
                    <a:pt x="9538" y="5437"/>
                  </a:lnTo>
                  <a:lnTo>
                    <a:pt x="9528" y="5436"/>
                  </a:lnTo>
                  <a:lnTo>
                    <a:pt x="9516" y="5434"/>
                  </a:lnTo>
                  <a:lnTo>
                    <a:pt x="9504" y="5432"/>
                  </a:lnTo>
                  <a:lnTo>
                    <a:pt x="9483" y="5427"/>
                  </a:lnTo>
                  <a:lnTo>
                    <a:pt x="9463" y="5420"/>
                  </a:lnTo>
                  <a:lnTo>
                    <a:pt x="9444" y="5414"/>
                  </a:lnTo>
                  <a:lnTo>
                    <a:pt x="9428" y="5409"/>
                  </a:lnTo>
                  <a:lnTo>
                    <a:pt x="9413" y="5405"/>
                  </a:lnTo>
                  <a:lnTo>
                    <a:pt x="9401" y="5403"/>
                  </a:lnTo>
                  <a:lnTo>
                    <a:pt x="9430" y="5402"/>
                  </a:lnTo>
                  <a:lnTo>
                    <a:pt x="9463" y="5400"/>
                  </a:lnTo>
                  <a:lnTo>
                    <a:pt x="9499" y="5396"/>
                  </a:lnTo>
                  <a:lnTo>
                    <a:pt x="9535" y="5389"/>
                  </a:lnTo>
                  <a:lnTo>
                    <a:pt x="9574" y="5382"/>
                  </a:lnTo>
                  <a:lnTo>
                    <a:pt x="9614" y="5372"/>
                  </a:lnTo>
                  <a:lnTo>
                    <a:pt x="9653" y="5361"/>
                  </a:lnTo>
                  <a:lnTo>
                    <a:pt x="9693" y="5347"/>
                  </a:lnTo>
                  <a:lnTo>
                    <a:pt x="9733" y="5333"/>
                  </a:lnTo>
                  <a:lnTo>
                    <a:pt x="9772" y="5317"/>
                  </a:lnTo>
                  <a:lnTo>
                    <a:pt x="9791" y="5308"/>
                  </a:lnTo>
                  <a:lnTo>
                    <a:pt x="9809" y="5299"/>
                  </a:lnTo>
                  <a:lnTo>
                    <a:pt x="9827" y="5289"/>
                  </a:lnTo>
                  <a:lnTo>
                    <a:pt x="9845" y="5280"/>
                  </a:lnTo>
                  <a:lnTo>
                    <a:pt x="9862" y="5269"/>
                  </a:lnTo>
                  <a:lnTo>
                    <a:pt x="9878" y="5258"/>
                  </a:lnTo>
                  <a:lnTo>
                    <a:pt x="9893" y="5247"/>
                  </a:lnTo>
                  <a:lnTo>
                    <a:pt x="9908" y="5235"/>
                  </a:lnTo>
                  <a:lnTo>
                    <a:pt x="9922" y="5223"/>
                  </a:lnTo>
                  <a:lnTo>
                    <a:pt x="9936" y="5210"/>
                  </a:lnTo>
                  <a:lnTo>
                    <a:pt x="9948" y="5197"/>
                  </a:lnTo>
                  <a:lnTo>
                    <a:pt x="9960" y="5184"/>
                  </a:lnTo>
                  <a:lnTo>
                    <a:pt x="9960" y="5124"/>
                  </a:lnTo>
                  <a:lnTo>
                    <a:pt x="9959" y="5066"/>
                  </a:lnTo>
                  <a:lnTo>
                    <a:pt x="9959" y="5011"/>
                  </a:lnTo>
                  <a:lnTo>
                    <a:pt x="9957" y="4955"/>
                  </a:lnTo>
                  <a:lnTo>
                    <a:pt x="9954" y="4901"/>
                  </a:lnTo>
                  <a:lnTo>
                    <a:pt x="9949" y="4849"/>
                  </a:lnTo>
                  <a:lnTo>
                    <a:pt x="9946" y="4823"/>
                  </a:lnTo>
                  <a:lnTo>
                    <a:pt x="9943" y="4797"/>
                  </a:lnTo>
                  <a:lnTo>
                    <a:pt x="9939" y="4772"/>
                  </a:lnTo>
                  <a:lnTo>
                    <a:pt x="9934" y="4747"/>
                  </a:lnTo>
                  <a:lnTo>
                    <a:pt x="9929" y="4722"/>
                  </a:lnTo>
                  <a:lnTo>
                    <a:pt x="9922" y="4696"/>
                  </a:lnTo>
                  <a:lnTo>
                    <a:pt x="9916" y="4672"/>
                  </a:lnTo>
                  <a:lnTo>
                    <a:pt x="9910" y="4648"/>
                  </a:lnTo>
                  <a:lnTo>
                    <a:pt x="9901" y="4624"/>
                  </a:lnTo>
                  <a:lnTo>
                    <a:pt x="9892" y="4599"/>
                  </a:lnTo>
                  <a:lnTo>
                    <a:pt x="9883" y="4575"/>
                  </a:lnTo>
                  <a:lnTo>
                    <a:pt x="9872" y="4551"/>
                  </a:lnTo>
                  <a:lnTo>
                    <a:pt x="9861" y="4527"/>
                  </a:lnTo>
                  <a:lnTo>
                    <a:pt x="9848" y="4503"/>
                  </a:lnTo>
                  <a:lnTo>
                    <a:pt x="9836" y="4480"/>
                  </a:lnTo>
                  <a:lnTo>
                    <a:pt x="9821" y="4456"/>
                  </a:lnTo>
                  <a:lnTo>
                    <a:pt x="9806" y="4432"/>
                  </a:lnTo>
                  <a:lnTo>
                    <a:pt x="9788" y="4408"/>
                  </a:lnTo>
                  <a:lnTo>
                    <a:pt x="9771" y="4384"/>
                  </a:lnTo>
                  <a:lnTo>
                    <a:pt x="9752" y="4361"/>
                  </a:lnTo>
                  <a:lnTo>
                    <a:pt x="9781" y="4328"/>
                  </a:lnTo>
                  <a:lnTo>
                    <a:pt x="9810" y="4295"/>
                  </a:lnTo>
                  <a:lnTo>
                    <a:pt x="9839" y="4264"/>
                  </a:lnTo>
                  <a:lnTo>
                    <a:pt x="9869" y="4234"/>
                  </a:lnTo>
                  <a:lnTo>
                    <a:pt x="9899" y="4204"/>
                  </a:lnTo>
                  <a:lnTo>
                    <a:pt x="9930" y="4176"/>
                  </a:lnTo>
                  <a:lnTo>
                    <a:pt x="9961" y="4150"/>
                  </a:lnTo>
                  <a:lnTo>
                    <a:pt x="9992" y="4123"/>
                  </a:lnTo>
                  <a:lnTo>
                    <a:pt x="10024" y="4098"/>
                  </a:lnTo>
                  <a:lnTo>
                    <a:pt x="10055" y="4076"/>
                  </a:lnTo>
                  <a:lnTo>
                    <a:pt x="10089" y="4053"/>
                  </a:lnTo>
                  <a:lnTo>
                    <a:pt x="10121" y="4032"/>
                  </a:lnTo>
                  <a:lnTo>
                    <a:pt x="10154" y="4012"/>
                  </a:lnTo>
                  <a:lnTo>
                    <a:pt x="10187" y="3995"/>
                  </a:lnTo>
                  <a:lnTo>
                    <a:pt x="10221" y="3978"/>
                  </a:lnTo>
                  <a:lnTo>
                    <a:pt x="10254" y="3963"/>
                  </a:lnTo>
                  <a:lnTo>
                    <a:pt x="10267" y="3956"/>
                  </a:lnTo>
                  <a:lnTo>
                    <a:pt x="10281" y="3948"/>
                  </a:lnTo>
                  <a:lnTo>
                    <a:pt x="10294" y="3937"/>
                  </a:lnTo>
                  <a:lnTo>
                    <a:pt x="10307" y="3926"/>
                  </a:lnTo>
                  <a:lnTo>
                    <a:pt x="10321" y="3914"/>
                  </a:lnTo>
                  <a:lnTo>
                    <a:pt x="10334" y="3901"/>
                  </a:lnTo>
                  <a:lnTo>
                    <a:pt x="10347" y="3886"/>
                  </a:lnTo>
                  <a:lnTo>
                    <a:pt x="10361" y="3871"/>
                  </a:lnTo>
                  <a:lnTo>
                    <a:pt x="10374" y="3855"/>
                  </a:lnTo>
                  <a:lnTo>
                    <a:pt x="10387" y="3837"/>
                  </a:lnTo>
                  <a:lnTo>
                    <a:pt x="10399" y="3820"/>
                  </a:lnTo>
                  <a:lnTo>
                    <a:pt x="10411" y="3802"/>
                  </a:lnTo>
                  <a:lnTo>
                    <a:pt x="10435" y="3763"/>
                  </a:lnTo>
                  <a:lnTo>
                    <a:pt x="10458" y="3724"/>
                  </a:lnTo>
                  <a:lnTo>
                    <a:pt x="10479" y="3683"/>
                  </a:lnTo>
                  <a:lnTo>
                    <a:pt x="10499" y="3642"/>
                  </a:lnTo>
                  <a:lnTo>
                    <a:pt x="10518" y="3602"/>
                  </a:lnTo>
                  <a:lnTo>
                    <a:pt x="10534" y="3563"/>
                  </a:lnTo>
                  <a:lnTo>
                    <a:pt x="10548" y="3524"/>
                  </a:lnTo>
                  <a:lnTo>
                    <a:pt x="10559" y="3489"/>
                  </a:lnTo>
                  <a:lnTo>
                    <a:pt x="10569" y="3457"/>
                  </a:lnTo>
                  <a:lnTo>
                    <a:pt x="10576" y="3428"/>
                  </a:lnTo>
                  <a:lnTo>
                    <a:pt x="10593" y="3377"/>
                  </a:lnTo>
                  <a:lnTo>
                    <a:pt x="10608" y="3328"/>
                  </a:lnTo>
                  <a:lnTo>
                    <a:pt x="10623" y="3279"/>
                  </a:lnTo>
                  <a:lnTo>
                    <a:pt x="10636" y="3229"/>
                  </a:lnTo>
                  <a:lnTo>
                    <a:pt x="10649" y="3181"/>
                  </a:lnTo>
                  <a:lnTo>
                    <a:pt x="10660" y="3134"/>
                  </a:lnTo>
                  <a:lnTo>
                    <a:pt x="10671" y="3087"/>
                  </a:lnTo>
                  <a:lnTo>
                    <a:pt x="10681" y="3040"/>
                  </a:lnTo>
                  <a:lnTo>
                    <a:pt x="10690" y="2993"/>
                  </a:lnTo>
                  <a:lnTo>
                    <a:pt x="10698" y="2947"/>
                  </a:lnTo>
                  <a:lnTo>
                    <a:pt x="10704" y="2901"/>
                  </a:lnTo>
                  <a:lnTo>
                    <a:pt x="10711" y="2855"/>
                  </a:lnTo>
                  <a:lnTo>
                    <a:pt x="10716" y="2809"/>
                  </a:lnTo>
                  <a:lnTo>
                    <a:pt x="10719" y="2764"/>
                  </a:lnTo>
                  <a:lnTo>
                    <a:pt x="10723" y="2719"/>
                  </a:lnTo>
                  <a:lnTo>
                    <a:pt x="10725" y="2673"/>
                  </a:lnTo>
                  <a:lnTo>
                    <a:pt x="10726" y="2628"/>
                  </a:lnTo>
                  <a:lnTo>
                    <a:pt x="10725" y="2583"/>
                  </a:lnTo>
                  <a:lnTo>
                    <a:pt x="10724" y="2537"/>
                  </a:lnTo>
                  <a:lnTo>
                    <a:pt x="10721" y="2492"/>
                  </a:lnTo>
                  <a:lnTo>
                    <a:pt x="10718" y="2445"/>
                  </a:lnTo>
                  <a:lnTo>
                    <a:pt x="10713" y="2399"/>
                  </a:lnTo>
                  <a:lnTo>
                    <a:pt x="10708" y="2353"/>
                  </a:lnTo>
                  <a:lnTo>
                    <a:pt x="10701" y="2307"/>
                  </a:lnTo>
                  <a:lnTo>
                    <a:pt x="10692" y="2260"/>
                  </a:lnTo>
                  <a:lnTo>
                    <a:pt x="10684" y="2213"/>
                  </a:lnTo>
                  <a:lnTo>
                    <a:pt x="10673" y="2164"/>
                  </a:lnTo>
                  <a:lnTo>
                    <a:pt x="10662" y="2117"/>
                  </a:lnTo>
                  <a:lnTo>
                    <a:pt x="10650" y="2068"/>
                  </a:lnTo>
                  <a:lnTo>
                    <a:pt x="10636" y="2019"/>
                  </a:lnTo>
                  <a:lnTo>
                    <a:pt x="10621" y="1969"/>
                  </a:lnTo>
                  <a:lnTo>
                    <a:pt x="10605" y="1919"/>
                  </a:lnTo>
                  <a:lnTo>
                    <a:pt x="10582" y="1859"/>
                  </a:lnTo>
                  <a:lnTo>
                    <a:pt x="10557" y="1802"/>
                  </a:lnTo>
                  <a:lnTo>
                    <a:pt x="10531" y="1746"/>
                  </a:lnTo>
                  <a:lnTo>
                    <a:pt x="10504" y="1694"/>
                  </a:lnTo>
                  <a:lnTo>
                    <a:pt x="10474" y="1642"/>
                  </a:lnTo>
                  <a:lnTo>
                    <a:pt x="10444" y="1593"/>
                  </a:lnTo>
                  <a:lnTo>
                    <a:pt x="10411" y="1546"/>
                  </a:lnTo>
                  <a:lnTo>
                    <a:pt x="10377" y="1501"/>
                  </a:lnTo>
                  <a:lnTo>
                    <a:pt x="10343" y="1458"/>
                  </a:lnTo>
                  <a:lnTo>
                    <a:pt x="10306" y="1417"/>
                  </a:lnTo>
                  <a:lnTo>
                    <a:pt x="10269" y="1377"/>
                  </a:lnTo>
                  <a:lnTo>
                    <a:pt x="10230" y="1340"/>
                  </a:lnTo>
                  <a:lnTo>
                    <a:pt x="10191" y="1304"/>
                  </a:lnTo>
                  <a:lnTo>
                    <a:pt x="10150" y="1271"/>
                  </a:lnTo>
                  <a:lnTo>
                    <a:pt x="10108" y="1240"/>
                  </a:lnTo>
                  <a:lnTo>
                    <a:pt x="10065" y="1210"/>
                  </a:lnTo>
                  <a:lnTo>
                    <a:pt x="10022" y="1182"/>
                  </a:lnTo>
                  <a:lnTo>
                    <a:pt x="9977" y="1156"/>
                  </a:lnTo>
                  <a:lnTo>
                    <a:pt x="9931" y="1133"/>
                  </a:lnTo>
                  <a:lnTo>
                    <a:pt x="9885" y="1110"/>
                  </a:lnTo>
                  <a:lnTo>
                    <a:pt x="9838" y="1091"/>
                  </a:lnTo>
                  <a:lnTo>
                    <a:pt x="9789" y="1072"/>
                  </a:lnTo>
                  <a:lnTo>
                    <a:pt x="9741" y="1056"/>
                  </a:lnTo>
                  <a:lnTo>
                    <a:pt x="9692" y="1041"/>
                  </a:lnTo>
                  <a:lnTo>
                    <a:pt x="9643" y="1028"/>
                  </a:lnTo>
                  <a:lnTo>
                    <a:pt x="9592" y="1017"/>
                  </a:lnTo>
                  <a:lnTo>
                    <a:pt x="9541" y="1007"/>
                  </a:lnTo>
                  <a:lnTo>
                    <a:pt x="9489" y="999"/>
                  </a:lnTo>
                  <a:lnTo>
                    <a:pt x="9438" y="993"/>
                  </a:lnTo>
                  <a:lnTo>
                    <a:pt x="9385" y="989"/>
                  </a:lnTo>
                  <a:lnTo>
                    <a:pt x="9333" y="987"/>
                  </a:lnTo>
                  <a:lnTo>
                    <a:pt x="9280" y="986"/>
                  </a:lnTo>
                  <a:lnTo>
                    <a:pt x="9281" y="962"/>
                  </a:lnTo>
                  <a:lnTo>
                    <a:pt x="9282" y="938"/>
                  </a:lnTo>
                  <a:lnTo>
                    <a:pt x="9285" y="914"/>
                  </a:lnTo>
                  <a:lnTo>
                    <a:pt x="9290" y="890"/>
                  </a:lnTo>
                  <a:lnTo>
                    <a:pt x="9295" y="867"/>
                  </a:lnTo>
                  <a:lnTo>
                    <a:pt x="9301" y="842"/>
                  </a:lnTo>
                  <a:lnTo>
                    <a:pt x="9308" y="819"/>
                  </a:lnTo>
                  <a:lnTo>
                    <a:pt x="9315" y="795"/>
                  </a:lnTo>
                  <a:lnTo>
                    <a:pt x="9333" y="747"/>
                  </a:lnTo>
                  <a:lnTo>
                    <a:pt x="9352" y="699"/>
                  </a:lnTo>
                  <a:lnTo>
                    <a:pt x="9371" y="650"/>
                  </a:lnTo>
                  <a:lnTo>
                    <a:pt x="9392" y="603"/>
                  </a:lnTo>
                  <a:lnTo>
                    <a:pt x="9412" y="555"/>
                  </a:lnTo>
                  <a:lnTo>
                    <a:pt x="9430" y="507"/>
                  </a:lnTo>
                  <a:lnTo>
                    <a:pt x="9440" y="483"/>
                  </a:lnTo>
                  <a:lnTo>
                    <a:pt x="9447" y="458"/>
                  </a:lnTo>
                  <a:lnTo>
                    <a:pt x="9455" y="435"/>
                  </a:lnTo>
                  <a:lnTo>
                    <a:pt x="9462" y="411"/>
                  </a:lnTo>
                  <a:lnTo>
                    <a:pt x="9469" y="386"/>
                  </a:lnTo>
                  <a:lnTo>
                    <a:pt x="9474" y="363"/>
                  </a:lnTo>
                  <a:lnTo>
                    <a:pt x="9478" y="339"/>
                  </a:lnTo>
                  <a:lnTo>
                    <a:pt x="9482" y="315"/>
                  </a:lnTo>
                  <a:lnTo>
                    <a:pt x="9484" y="291"/>
                  </a:lnTo>
                  <a:lnTo>
                    <a:pt x="9484" y="267"/>
                  </a:lnTo>
                  <a:lnTo>
                    <a:pt x="9484" y="244"/>
                  </a:lnTo>
                  <a:lnTo>
                    <a:pt x="9482" y="219"/>
                  </a:lnTo>
                  <a:lnTo>
                    <a:pt x="9481" y="206"/>
                  </a:lnTo>
                  <a:lnTo>
                    <a:pt x="9479" y="193"/>
                  </a:lnTo>
                  <a:lnTo>
                    <a:pt x="9476" y="181"/>
                  </a:lnTo>
                  <a:lnTo>
                    <a:pt x="9473" y="167"/>
                  </a:lnTo>
                  <a:lnTo>
                    <a:pt x="9463" y="140"/>
                  </a:lnTo>
                  <a:lnTo>
                    <a:pt x="9453" y="112"/>
                  </a:lnTo>
                  <a:lnTo>
                    <a:pt x="9442" y="85"/>
                  </a:lnTo>
                  <a:lnTo>
                    <a:pt x="9433" y="57"/>
                  </a:lnTo>
                  <a:lnTo>
                    <a:pt x="9429" y="43"/>
                  </a:lnTo>
                  <a:lnTo>
                    <a:pt x="9427" y="29"/>
                  </a:lnTo>
                  <a:lnTo>
                    <a:pt x="9425" y="15"/>
                  </a:lnTo>
                  <a:lnTo>
                    <a:pt x="9424" y="0"/>
                  </a:lnTo>
                  <a:lnTo>
                    <a:pt x="1694" y="0"/>
                  </a:lnTo>
                  <a:lnTo>
                    <a:pt x="1625" y="1"/>
                  </a:lnTo>
                  <a:lnTo>
                    <a:pt x="1560" y="3"/>
                  </a:lnTo>
                  <a:lnTo>
                    <a:pt x="1502" y="5"/>
                  </a:lnTo>
                  <a:lnTo>
                    <a:pt x="1446" y="9"/>
                  </a:lnTo>
                  <a:lnTo>
                    <a:pt x="1421" y="12"/>
                  </a:lnTo>
                  <a:lnTo>
                    <a:pt x="1395" y="15"/>
                  </a:lnTo>
                  <a:lnTo>
                    <a:pt x="1370" y="20"/>
                  </a:lnTo>
                  <a:lnTo>
                    <a:pt x="1347" y="24"/>
                  </a:lnTo>
                  <a:lnTo>
                    <a:pt x="1323" y="30"/>
                  </a:lnTo>
                  <a:lnTo>
                    <a:pt x="1300" y="36"/>
                  </a:lnTo>
                  <a:lnTo>
                    <a:pt x="1277" y="43"/>
                  </a:lnTo>
                  <a:lnTo>
                    <a:pt x="1253" y="51"/>
                  </a:lnTo>
                  <a:lnTo>
                    <a:pt x="1231" y="60"/>
                  </a:lnTo>
                  <a:lnTo>
                    <a:pt x="1208" y="70"/>
                  </a:lnTo>
                  <a:lnTo>
                    <a:pt x="1185" y="81"/>
                  </a:lnTo>
                  <a:lnTo>
                    <a:pt x="1162" y="93"/>
                  </a:lnTo>
                  <a:lnTo>
                    <a:pt x="1139" y="105"/>
                  </a:lnTo>
                  <a:lnTo>
                    <a:pt x="1115" y="119"/>
                  </a:lnTo>
                  <a:lnTo>
                    <a:pt x="1090" y="134"/>
                  </a:lnTo>
                  <a:lnTo>
                    <a:pt x="1066" y="152"/>
                  </a:lnTo>
                  <a:lnTo>
                    <a:pt x="1040" y="170"/>
                  </a:lnTo>
                  <a:lnTo>
                    <a:pt x="1014" y="188"/>
                  </a:lnTo>
                  <a:lnTo>
                    <a:pt x="987" y="209"/>
                  </a:lnTo>
                  <a:lnTo>
                    <a:pt x="958" y="231"/>
                  </a:lnTo>
                  <a:lnTo>
                    <a:pt x="899" y="280"/>
                  </a:lnTo>
                  <a:lnTo>
                    <a:pt x="835" y="335"/>
                  </a:lnTo>
                  <a:lnTo>
                    <a:pt x="709" y="444"/>
                  </a:lnTo>
                  <a:lnTo>
                    <a:pt x="582" y="646"/>
                  </a:lnTo>
                  <a:lnTo>
                    <a:pt x="818" y="979"/>
                  </a:lnTo>
                  <a:lnTo>
                    <a:pt x="881" y="1418"/>
                  </a:lnTo>
                  <a:lnTo>
                    <a:pt x="888" y="1455"/>
                  </a:lnTo>
                  <a:lnTo>
                    <a:pt x="894" y="1489"/>
                  </a:lnTo>
                  <a:lnTo>
                    <a:pt x="903" y="1520"/>
                  </a:lnTo>
                  <a:lnTo>
                    <a:pt x="910" y="1549"/>
                  </a:lnTo>
                  <a:lnTo>
                    <a:pt x="919" y="1575"/>
                  </a:lnTo>
                  <a:lnTo>
                    <a:pt x="928" y="1598"/>
                  </a:lnTo>
                  <a:lnTo>
                    <a:pt x="938" y="1621"/>
                  </a:lnTo>
                  <a:lnTo>
                    <a:pt x="948" y="1640"/>
                  </a:lnTo>
                  <a:lnTo>
                    <a:pt x="958" y="1658"/>
                  </a:lnTo>
                  <a:lnTo>
                    <a:pt x="969" y="1674"/>
                  </a:lnTo>
                  <a:lnTo>
                    <a:pt x="980" y="1688"/>
                  </a:lnTo>
                  <a:lnTo>
                    <a:pt x="992" y="1701"/>
                  </a:lnTo>
                  <a:lnTo>
                    <a:pt x="1004" y="1713"/>
                  </a:lnTo>
                  <a:lnTo>
                    <a:pt x="1015" y="1724"/>
                  </a:lnTo>
                  <a:lnTo>
                    <a:pt x="1028" y="1733"/>
                  </a:lnTo>
                  <a:lnTo>
                    <a:pt x="1041" y="1742"/>
                  </a:lnTo>
                  <a:lnTo>
                    <a:pt x="1066" y="1757"/>
                  </a:lnTo>
                  <a:lnTo>
                    <a:pt x="1091" y="1770"/>
                  </a:lnTo>
                  <a:lnTo>
                    <a:pt x="1117" y="1782"/>
                  </a:lnTo>
                  <a:lnTo>
                    <a:pt x="1143" y="1793"/>
                  </a:lnTo>
                  <a:lnTo>
                    <a:pt x="1156" y="1800"/>
                  </a:lnTo>
                  <a:lnTo>
                    <a:pt x="1169" y="1807"/>
                  </a:lnTo>
                  <a:lnTo>
                    <a:pt x="1180" y="1815"/>
                  </a:lnTo>
                  <a:lnTo>
                    <a:pt x="1192" y="1823"/>
                  </a:lnTo>
                  <a:lnTo>
                    <a:pt x="1205" y="1832"/>
                  </a:lnTo>
                  <a:lnTo>
                    <a:pt x="1216" y="1843"/>
                  </a:lnTo>
                  <a:lnTo>
                    <a:pt x="1228" y="1855"/>
                  </a:lnTo>
                  <a:lnTo>
                    <a:pt x="1238" y="1866"/>
                  </a:lnTo>
                  <a:lnTo>
                    <a:pt x="1130" y="1956"/>
                  </a:lnTo>
                  <a:lnTo>
                    <a:pt x="1027" y="2039"/>
                  </a:lnTo>
                  <a:lnTo>
                    <a:pt x="979" y="2078"/>
                  </a:lnTo>
                  <a:lnTo>
                    <a:pt x="932" y="2113"/>
                  </a:lnTo>
                  <a:lnTo>
                    <a:pt x="886" y="2147"/>
                  </a:lnTo>
                  <a:lnTo>
                    <a:pt x="841" y="2179"/>
                  </a:lnTo>
                  <a:lnTo>
                    <a:pt x="798" y="2210"/>
                  </a:lnTo>
                  <a:lnTo>
                    <a:pt x="756" y="2236"/>
                  </a:lnTo>
                  <a:lnTo>
                    <a:pt x="715" y="2261"/>
                  </a:lnTo>
                  <a:lnTo>
                    <a:pt x="674" y="2284"/>
                  </a:lnTo>
                  <a:lnTo>
                    <a:pt x="636" y="2303"/>
                  </a:lnTo>
                  <a:lnTo>
                    <a:pt x="598" y="2320"/>
                  </a:lnTo>
                  <a:lnTo>
                    <a:pt x="561" y="2334"/>
                  </a:lnTo>
                  <a:lnTo>
                    <a:pt x="524" y="2345"/>
                  </a:lnTo>
                  <a:lnTo>
                    <a:pt x="489" y="2353"/>
                  </a:lnTo>
                  <a:lnTo>
                    <a:pt x="454" y="2359"/>
                  </a:lnTo>
                  <a:lnTo>
                    <a:pt x="420" y="2361"/>
                  </a:lnTo>
                  <a:lnTo>
                    <a:pt x="386" y="2360"/>
                  </a:lnTo>
                  <a:lnTo>
                    <a:pt x="353" y="2354"/>
                  </a:lnTo>
                  <a:lnTo>
                    <a:pt x="320" y="2347"/>
                  </a:lnTo>
                  <a:lnTo>
                    <a:pt x="287" y="2335"/>
                  </a:lnTo>
                  <a:lnTo>
                    <a:pt x="255" y="2320"/>
                  </a:lnTo>
                  <a:lnTo>
                    <a:pt x="223" y="2302"/>
                  </a:lnTo>
                  <a:lnTo>
                    <a:pt x="192" y="2279"/>
                  </a:lnTo>
                  <a:lnTo>
                    <a:pt x="159" y="2253"/>
                  </a:lnTo>
                  <a:lnTo>
                    <a:pt x="128" y="2223"/>
                  </a:lnTo>
                  <a:lnTo>
                    <a:pt x="96" y="2189"/>
                  </a:lnTo>
                  <a:lnTo>
                    <a:pt x="64" y="2152"/>
                  </a:lnTo>
                  <a:lnTo>
                    <a:pt x="33" y="2109"/>
                  </a:lnTo>
                  <a:lnTo>
                    <a:pt x="0" y="2063"/>
                  </a:lnTo>
                  <a:lnTo>
                    <a:pt x="25" y="2123"/>
                  </a:lnTo>
                  <a:lnTo>
                    <a:pt x="53" y="2176"/>
                  </a:lnTo>
                  <a:lnTo>
                    <a:pt x="84" y="2225"/>
                  </a:lnTo>
                  <a:lnTo>
                    <a:pt x="118" y="2267"/>
                  </a:lnTo>
                  <a:lnTo>
                    <a:pt x="154" y="2304"/>
                  </a:lnTo>
                  <a:lnTo>
                    <a:pt x="192" y="2336"/>
                  </a:lnTo>
                  <a:lnTo>
                    <a:pt x="232" y="2363"/>
                  </a:lnTo>
                  <a:lnTo>
                    <a:pt x="274" y="2384"/>
                  </a:lnTo>
                  <a:lnTo>
                    <a:pt x="317" y="2401"/>
                  </a:lnTo>
                  <a:lnTo>
                    <a:pt x="362" y="2413"/>
                  </a:lnTo>
                  <a:lnTo>
                    <a:pt x="409" y="2422"/>
                  </a:lnTo>
                  <a:lnTo>
                    <a:pt x="457" y="2426"/>
                  </a:lnTo>
                  <a:lnTo>
                    <a:pt x="505" y="2426"/>
                  </a:lnTo>
                  <a:lnTo>
                    <a:pt x="554" y="2423"/>
                  </a:lnTo>
                  <a:lnTo>
                    <a:pt x="603" y="2415"/>
                  </a:lnTo>
                  <a:lnTo>
                    <a:pt x="653" y="2406"/>
                  </a:lnTo>
                  <a:lnTo>
                    <a:pt x="703" y="2392"/>
                  </a:lnTo>
                  <a:lnTo>
                    <a:pt x="754" y="2376"/>
                  </a:lnTo>
                  <a:lnTo>
                    <a:pt x="803" y="2356"/>
                  </a:lnTo>
                  <a:lnTo>
                    <a:pt x="853" y="2335"/>
                  </a:lnTo>
                  <a:lnTo>
                    <a:pt x="902" y="2311"/>
                  </a:lnTo>
                  <a:lnTo>
                    <a:pt x="951" y="2286"/>
                  </a:lnTo>
                  <a:lnTo>
                    <a:pt x="998" y="2258"/>
                  </a:lnTo>
                  <a:lnTo>
                    <a:pt x="1044" y="2228"/>
                  </a:lnTo>
                  <a:lnTo>
                    <a:pt x="1089" y="2197"/>
                  </a:lnTo>
                  <a:lnTo>
                    <a:pt x="1133" y="2164"/>
                  </a:lnTo>
                  <a:lnTo>
                    <a:pt x="1175" y="2131"/>
                  </a:lnTo>
                  <a:lnTo>
                    <a:pt x="1215" y="2097"/>
                  </a:lnTo>
                  <a:lnTo>
                    <a:pt x="1253" y="2062"/>
                  </a:lnTo>
                  <a:lnTo>
                    <a:pt x="1289" y="2025"/>
                  </a:lnTo>
                  <a:lnTo>
                    <a:pt x="1323" y="1990"/>
                  </a:lnTo>
                  <a:lnTo>
                    <a:pt x="1354" y="1953"/>
                  </a:lnTo>
                  <a:lnTo>
                    <a:pt x="1365" y="1954"/>
                  </a:lnTo>
                  <a:lnTo>
                    <a:pt x="1378" y="1956"/>
                  </a:lnTo>
                  <a:lnTo>
                    <a:pt x="1392" y="1961"/>
                  </a:lnTo>
                  <a:lnTo>
                    <a:pt x="1407" y="1965"/>
                  </a:lnTo>
                  <a:lnTo>
                    <a:pt x="1422" y="1971"/>
                  </a:lnTo>
                  <a:lnTo>
                    <a:pt x="1437" y="1979"/>
                  </a:lnTo>
                  <a:lnTo>
                    <a:pt x="1453" y="1986"/>
                  </a:lnTo>
                  <a:lnTo>
                    <a:pt x="1468" y="1995"/>
                  </a:lnTo>
                  <a:lnTo>
                    <a:pt x="1498" y="2013"/>
                  </a:lnTo>
                  <a:lnTo>
                    <a:pt x="1525" y="2032"/>
                  </a:lnTo>
                  <a:lnTo>
                    <a:pt x="1537" y="2040"/>
                  </a:lnTo>
                  <a:lnTo>
                    <a:pt x="1546" y="2048"/>
                  </a:lnTo>
                  <a:lnTo>
                    <a:pt x="1555" y="2056"/>
                  </a:lnTo>
                  <a:lnTo>
                    <a:pt x="1561" y="2063"/>
                  </a:lnTo>
                  <a:lnTo>
                    <a:pt x="1572" y="2063"/>
                  </a:lnTo>
                  <a:lnTo>
                    <a:pt x="1584" y="2064"/>
                  </a:lnTo>
                  <a:lnTo>
                    <a:pt x="1597" y="2066"/>
                  </a:lnTo>
                  <a:lnTo>
                    <a:pt x="1608" y="2068"/>
                  </a:lnTo>
                  <a:lnTo>
                    <a:pt x="1635" y="2073"/>
                  </a:lnTo>
                  <a:lnTo>
                    <a:pt x="1662" y="2080"/>
                  </a:lnTo>
                  <a:lnTo>
                    <a:pt x="1689" y="2086"/>
                  </a:lnTo>
                  <a:lnTo>
                    <a:pt x="1715" y="2092"/>
                  </a:lnTo>
                  <a:lnTo>
                    <a:pt x="1727" y="2094"/>
                  </a:lnTo>
                  <a:lnTo>
                    <a:pt x="1740" y="2096"/>
                  </a:lnTo>
                  <a:lnTo>
                    <a:pt x="1752" y="2097"/>
                  </a:lnTo>
                  <a:lnTo>
                    <a:pt x="1763" y="2097"/>
                  </a:lnTo>
                  <a:lnTo>
                    <a:pt x="1757" y="2115"/>
                  </a:lnTo>
                  <a:lnTo>
                    <a:pt x="1752" y="2130"/>
                  </a:lnTo>
                  <a:lnTo>
                    <a:pt x="1748" y="2141"/>
                  </a:lnTo>
                  <a:lnTo>
                    <a:pt x="1742" y="2148"/>
                  </a:lnTo>
                  <a:lnTo>
                    <a:pt x="1738" y="2155"/>
                  </a:lnTo>
                  <a:lnTo>
                    <a:pt x="1734" y="2158"/>
                  </a:lnTo>
                  <a:lnTo>
                    <a:pt x="1730" y="2161"/>
                  </a:lnTo>
                  <a:lnTo>
                    <a:pt x="1726" y="2162"/>
                  </a:lnTo>
                  <a:lnTo>
                    <a:pt x="1723" y="2164"/>
                  </a:lnTo>
                  <a:lnTo>
                    <a:pt x="1720" y="2168"/>
                  </a:lnTo>
                  <a:lnTo>
                    <a:pt x="1717" y="2171"/>
                  </a:lnTo>
                  <a:lnTo>
                    <a:pt x="1715" y="2176"/>
                  </a:lnTo>
                  <a:lnTo>
                    <a:pt x="1714" y="2183"/>
                  </a:lnTo>
                  <a:lnTo>
                    <a:pt x="1712" y="2193"/>
                  </a:lnTo>
                  <a:lnTo>
                    <a:pt x="1711" y="2206"/>
                  </a:lnTo>
                  <a:lnTo>
                    <a:pt x="1711" y="2223"/>
                  </a:lnTo>
                  <a:lnTo>
                    <a:pt x="1711" y="5513"/>
                  </a:lnTo>
                  <a:lnTo>
                    <a:pt x="1724" y="5435"/>
                  </a:lnTo>
                  <a:lnTo>
                    <a:pt x="1736" y="5350"/>
                  </a:lnTo>
                  <a:lnTo>
                    <a:pt x="1747" y="5258"/>
                  </a:lnTo>
                  <a:lnTo>
                    <a:pt x="1756" y="5161"/>
                  </a:lnTo>
                  <a:lnTo>
                    <a:pt x="1765" y="5058"/>
                  </a:lnTo>
                  <a:lnTo>
                    <a:pt x="1774" y="4950"/>
                  </a:lnTo>
                  <a:lnTo>
                    <a:pt x="1781" y="4837"/>
                  </a:lnTo>
                  <a:lnTo>
                    <a:pt x="1789" y="4721"/>
                  </a:lnTo>
                  <a:lnTo>
                    <a:pt x="1800" y="4480"/>
                  </a:lnTo>
                  <a:lnTo>
                    <a:pt x="1812" y="4231"/>
                  </a:lnTo>
                  <a:lnTo>
                    <a:pt x="1823" y="3979"/>
                  </a:lnTo>
                  <a:lnTo>
                    <a:pt x="1834" y="3729"/>
                  </a:lnTo>
                  <a:lnTo>
                    <a:pt x="1844" y="3485"/>
                  </a:lnTo>
                  <a:lnTo>
                    <a:pt x="1857" y="3252"/>
                  </a:lnTo>
                  <a:lnTo>
                    <a:pt x="1864" y="3141"/>
                  </a:lnTo>
                  <a:lnTo>
                    <a:pt x="1872" y="3035"/>
                  </a:lnTo>
                  <a:lnTo>
                    <a:pt x="1880" y="2933"/>
                  </a:lnTo>
                  <a:lnTo>
                    <a:pt x="1889" y="2838"/>
                  </a:lnTo>
                  <a:lnTo>
                    <a:pt x="1899" y="2749"/>
                  </a:lnTo>
                  <a:lnTo>
                    <a:pt x="1910" y="2666"/>
                  </a:lnTo>
                  <a:lnTo>
                    <a:pt x="1922" y="2592"/>
                  </a:lnTo>
                  <a:lnTo>
                    <a:pt x="1934" y="2525"/>
                  </a:lnTo>
                  <a:lnTo>
                    <a:pt x="1948" y="2467"/>
                  </a:lnTo>
                  <a:lnTo>
                    <a:pt x="1964" y="2419"/>
                  </a:lnTo>
                  <a:lnTo>
                    <a:pt x="1981" y="2379"/>
                  </a:lnTo>
                  <a:lnTo>
                    <a:pt x="1999" y="2351"/>
                  </a:lnTo>
                  <a:lnTo>
                    <a:pt x="2028" y="2351"/>
                  </a:lnTo>
                  <a:lnTo>
                    <a:pt x="2060" y="2350"/>
                  </a:lnTo>
                  <a:lnTo>
                    <a:pt x="2093" y="2349"/>
                  </a:lnTo>
                  <a:lnTo>
                    <a:pt x="2128" y="2347"/>
                  </a:lnTo>
                  <a:lnTo>
                    <a:pt x="2164" y="2344"/>
                  </a:lnTo>
                  <a:lnTo>
                    <a:pt x="2202" y="2339"/>
                  </a:lnTo>
                  <a:lnTo>
                    <a:pt x="2240" y="2335"/>
                  </a:lnTo>
                  <a:lnTo>
                    <a:pt x="2279" y="2327"/>
                  </a:lnTo>
                  <a:lnTo>
                    <a:pt x="2318" y="2319"/>
                  </a:lnTo>
                  <a:lnTo>
                    <a:pt x="2358" y="2309"/>
                  </a:lnTo>
                  <a:lnTo>
                    <a:pt x="2377" y="2303"/>
                  </a:lnTo>
                  <a:lnTo>
                    <a:pt x="2397" y="2297"/>
                  </a:lnTo>
                  <a:lnTo>
                    <a:pt x="2416" y="2290"/>
                  </a:lnTo>
                  <a:lnTo>
                    <a:pt x="2435" y="2282"/>
                  </a:lnTo>
                  <a:lnTo>
                    <a:pt x="2455" y="2275"/>
                  </a:lnTo>
                  <a:lnTo>
                    <a:pt x="2474" y="2266"/>
                  </a:lnTo>
                  <a:lnTo>
                    <a:pt x="2492" y="2257"/>
                  </a:lnTo>
                  <a:lnTo>
                    <a:pt x="2510" y="2247"/>
                  </a:lnTo>
                  <a:lnTo>
                    <a:pt x="2529" y="2236"/>
                  </a:lnTo>
                  <a:lnTo>
                    <a:pt x="2547" y="2226"/>
                  </a:lnTo>
                  <a:lnTo>
                    <a:pt x="2564" y="2214"/>
                  </a:lnTo>
                  <a:lnTo>
                    <a:pt x="2581" y="2201"/>
                  </a:lnTo>
                  <a:lnTo>
                    <a:pt x="2609" y="2178"/>
                  </a:lnTo>
                  <a:lnTo>
                    <a:pt x="2637" y="2157"/>
                  </a:lnTo>
                  <a:lnTo>
                    <a:pt x="2663" y="2137"/>
                  </a:lnTo>
                  <a:lnTo>
                    <a:pt x="2686" y="2116"/>
                  </a:lnTo>
                  <a:lnTo>
                    <a:pt x="2697" y="2107"/>
                  </a:lnTo>
                  <a:lnTo>
                    <a:pt x="2707" y="2097"/>
                  </a:lnTo>
                  <a:lnTo>
                    <a:pt x="2715" y="2086"/>
                  </a:lnTo>
                  <a:lnTo>
                    <a:pt x="2723" y="2075"/>
                  </a:lnTo>
                  <a:lnTo>
                    <a:pt x="2728" y="2065"/>
                  </a:lnTo>
                  <a:lnTo>
                    <a:pt x="2732" y="2053"/>
                  </a:lnTo>
                  <a:lnTo>
                    <a:pt x="2736" y="2041"/>
                  </a:lnTo>
                  <a:lnTo>
                    <a:pt x="2737" y="2028"/>
                  </a:lnTo>
                  <a:lnTo>
                    <a:pt x="2708" y="2029"/>
                  </a:lnTo>
                  <a:lnTo>
                    <a:pt x="2680" y="2030"/>
                  </a:lnTo>
                  <a:lnTo>
                    <a:pt x="2652" y="2034"/>
                  </a:lnTo>
                  <a:lnTo>
                    <a:pt x="2623" y="2038"/>
                  </a:lnTo>
                  <a:lnTo>
                    <a:pt x="2566" y="2049"/>
                  </a:lnTo>
                  <a:lnTo>
                    <a:pt x="2509" y="2059"/>
                  </a:lnTo>
                  <a:lnTo>
                    <a:pt x="2452" y="2071"/>
                  </a:lnTo>
                  <a:lnTo>
                    <a:pt x="2397" y="2082"/>
                  </a:lnTo>
                  <a:lnTo>
                    <a:pt x="2369" y="2086"/>
                  </a:lnTo>
                  <a:lnTo>
                    <a:pt x="2342" y="2088"/>
                  </a:lnTo>
                  <a:lnTo>
                    <a:pt x="2314" y="2090"/>
                  </a:lnTo>
                  <a:lnTo>
                    <a:pt x="2287" y="2092"/>
                  </a:lnTo>
                  <a:lnTo>
                    <a:pt x="2222" y="2111"/>
                  </a:lnTo>
                  <a:lnTo>
                    <a:pt x="2164" y="2125"/>
                  </a:lnTo>
                  <a:lnTo>
                    <a:pt x="2115" y="2136"/>
                  </a:lnTo>
                  <a:lnTo>
                    <a:pt x="2072" y="2143"/>
                  </a:lnTo>
                  <a:lnTo>
                    <a:pt x="2036" y="2146"/>
                  </a:lnTo>
                  <a:lnTo>
                    <a:pt x="2006" y="2146"/>
                  </a:lnTo>
                  <a:lnTo>
                    <a:pt x="1984" y="2143"/>
                  </a:lnTo>
                  <a:lnTo>
                    <a:pt x="1967" y="2138"/>
                  </a:lnTo>
                  <a:lnTo>
                    <a:pt x="1955" y="2129"/>
                  </a:lnTo>
                  <a:lnTo>
                    <a:pt x="1947" y="2118"/>
                  </a:lnTo>
                  <a:lnTo>
                    <a:pt x="1945" y="2104"/>
                  </a:lnTo>
                  <a:lnTo>
                    <a:pt x="1946" y="2090"/>
                  </a:lnTo>
                  <a:lnTo>
                    <a:pt x="1952" y="2073"/>
                  </a:lnTo>
                  <a:lnTo>
                    <a:pt x="1960" y="2055"/>
                  </a:lnTo>
                  <a:lnTo>
                    <a:pt x="1972" y="2036"/>
                  </a:lnTo>
                  <a:lnTo>
                    <a:pt x="1987" y="2015"/>
                  </a:lnTo>
                  <a:lnTo>
                    <a:pt x="2003" y="1995"/>
                  </a:lnTo>
                  <a:lnTo>
                    <a:pt x="2021" y="1974"/>
                  </a:lnTo>
                  <a:lnTo>
                    <a:pt x="2042" y="1952"/>
                  </a:lnTo>
                  <a:lnTo>
                    <a:pt x="2062" y="1930"/>
                  </a:lnTo>
                  <a:lnTo>
                    <a:pt x="2106" y="1887"/>
                  </a:lnTo>
                  <a:lnTo>
                    <a:pt x="2149" y="1846"/>
                  </a:lnTo>
                  <a:lnTo>
                    <a:pt x="2188" y="1810"/>
                  </a:lnTo>
                  <a:lnTo>
                    <a:pt x="2220" y="1779"/>
                  </a:lnTo>
                  <a:lnTo>
                    <a:pt x="2233" y="1768"/>
                  </a:lnTo>
                  <a:lnTo>
                    <a:pt x="2242" y="1758"/>
                  </a:lnTo>
                  <a:lnTo>
                    <a:pt x="2250" y="1751"/>
                  </a:lnTo>
                  <a:lnTo>
                    <a:pt x="2252" y="1746"/>
                  </a:lnTo>
                  <a:lnTo>
                    <a:pt x="2292" y="1747"/>
                  </a:lnTo>
                  <a:lnTo>
                    <a:pt x="2330" y="1752"/>
                  </a:lnTo>
                  <a:lnTo>
                    <a:pt x="2369" y="1759"/>
                  </a:lnTo>
                  <a:lnTo>
                    <a:pt x="2407" y="1769"/>
                  </a:lnTo>
                  <a:lnTo>
                    <a:pt x="2445" y="1781"/>
                  </a:lnTo>
                  <a:lnTo>
                    <a:pt x="2483" y="1796"/>
                  </a:lnTo>
                  <a:lnTo>
                    <a:pt x="2520" y="1813"/>
                  </a:lnTo>
                  <a:lnTo>
                    <a:pt x="2558" y="1832"/>
                  </a:lnTo>
                  <a:lnTo>
                    <a:pt x="2594" y="1852"/>
                  </a:lnTo>
                  <a:lnTo>
                    <a:pt x="2631" y="1876"/>
                  </a:lnTo>
                  <a:lnTo>
                    <a:pt x="2667" y="1901"/>
                  </a:lnTo>
                  <a:lnTo>
                    <a:pt x="2702" y="1926"/>
                  </a:lnTo>
                  <a:lnTo>
                    <a:pt x="2737" y="1954"/>
                  </a:lnTo>
                  <a:lnTo>
                    <a:pt x="2771" y="1984"/>
                  </a:lnTo>
                  <a:lnTo>
                    <a:pt x="2804" y="2014"/>
                  </a:lnTo>
                  <a:lnTo>
                    <a:pt x="2837" y="2047"/>
                  </a:lnTo>
                  <a:lnTo>
                    <a:pt x="2869" y="2079"/>
                  </a:lnTo>
                  <a:lnTo>
                    <a:pt x="2901" y="2113"/>
                  </a:lnTo>
                  <a:lnTo>
                    <a:pt x="2931" y="2147"/>
                  </a:lnTo>
                  <a:lnTo>
                    <a:pt x="2961" y="2182"/>
                  </a:lnTo>
                  <a:lnTo>
                    <a:pt x="2989" y="2218"/>
                  </a:lnTo>
                  <a:lnTo>
                    <a:pt x="3017" y="2253"/>
                  </a:lnTo>
                  <a:lnTo>
                    <a:pt x="3043" y="2290"/>
                  </a:lnTo>
                  <a:lnTo>
                    <a:pt x="3069" y="2326"/>
                  </a:lnTo>
                  <a:lnTo>
                    <a:pt x="3094" y="2363"/>
                  </a:lnTo>
                  <a:lnTo>
                    <a:pt x="3117" y="2399"/>
                  </a:lnTo>
                  <a:lnTo>
                    <a:pt x="3139" y="2436"/>
                  </a:lnTo>
                  <a:lnTo>
                    <a:pt x="3160" y="2472"/>
                  </a:lnTo>
                  <a:lnTo>
                    <a:pt x="3180" y="2508"/>
                  </a:lnTo>
                  <a:lnTo>
                    <a:pt x="3199" y="2542"/>
                  </a:lnTo>
                  <a:lnTo>
                    <a:pt x="3216" y="2576"/>
                  </a:lnTo>
                  <a:lnTo>
                    <a:pt x="3232" y="2610"/>
                  </a:lnTo>
                  <a:lnTo>
                    <a:pt x="3240" y="2634"/>
                  </a:lnTo>
                  <a:lnTo>
                    <a:pt x="3247" y="2658"/>
                  </a:lnTo>
                  <a:lnTo>
                    <a:pt x="3254" y="2682"/>
                  </a:lnTo>
                  <a:lnTo>
                    <a:pt x="3260" y="2708"/>
                  </a:lnTo>
                  <a:lnTo>
                    <a:pt x="3265" y="2733"/>
                  </a:lnTo>
                  <a:lnTo>
                    <a:pt x="3271" y="2759"/>
                  </a:lnTo>
                  <a:lnTo>
                    <a:pt x="3275" y="2785"/>
                  </a:lnTo>
                  <a:lnTo>
                    <a:pt x="3279" y="2811"/>
                  </a:lnTo>
                  <a:lnTo>
                    <a:pt x="3283" y="2838"/>
                  </a:lnTo>
                  <a:lnTo>
                    <a:pt x="3286" y="2864"/>
                  </a:lnTo>
                  <a:lnTo>
                    <a:pt x="3288" y="2892"/>
                  </a:lnTo>
                  <a:lnTo>
                    <a:pt x="3290" y="2918"/>
                  </a:lnTo>
                  <a:lnTo>
                    <a:pt x="3291" y="2945"/>
                  </a:lnTo>
                  <a:lnTo>
                    <a:pt x="3291" y="2973"/>
                  </a:lnTo>
                  <a:lnTo>
                    <a:pt x="3291" y="3000"/>
                  </a:lnTo>
                  <a:lnTo>
                    <a:pt x="3290" y="3028"/>
                  </a:lnTo>
                  <a:lnTo>
                    <a:pt x="3288" y="3055"/>
                  </a:lnTo>
                  <a:lnTo>
                    <a:pt x="3286" y="3082"/>
                  </a:lnTo>
                  <a:lnTo>
                    <a:pt x="3284" y="3110"/>
                  </a:lnTo>
                  <a:lnTo>
                    <a:pt x="3279" y="3138"/>
                  </a:lnTo>
                  <a:lnTo>
                    <a:pt x="3275" y="3166"/>
                  </a:lnTo>
                  <a:lnTo>
                    <a:pt x="3271" y="3193"/>
                  </a:lnTo>
                  <a:lnTo>
                    <a:pt x="3264" y="3221"/>
                  </a:lnTo>
                  <a:lnTo>
                    <a:pt x="3258" y="3248"/>
                  </a:lnTo>
                  <a:lnTo>
                    <a:pt x="3251" y="3275"/>
                  </a:lnTo>
                  <a:lnTo>
                    <a:pt x="3243" y="3302"/>
                  </a:lnTo>
                  <a:lnTo>
                    <a:pt x="3234" y="3330"/>
                  </a:lnTo>
                  <a:lnTo>
                    <a:pt x="3226" y="3357"/>
                  </a:lnTo>
                  <a:lnTo>
                    <a:pt x="3215" y="3384"/>
                  </a:lnTo>
                  <a:lnTo>
                    <a:pt x="3204" y="3410"/>
                  </a:lnTo>
                  <a:lnTo>
                    <a:pt x="3192" y="3436"/>
                  </a:lnTo>
                  <a:lnTo>
                    <a:pt x="3180" y="3462"/>
                  </a:lnTo>
                  <a:lnTo>
                    <a:pt x="3215" y="3449"/>
                  </a:lnTo>
                  <a:lnTo>
                    <a:pt x="3248" y="3433"/>
                  </a:lnTo>
                  <a:lnTo>
                    <a:pt x="3278" y="3415"/>
                  </a:lnTo>
                  <a:lnTo>
                    <a:pt x="3305" y="3393"/>
                  </a:lnTo>
                  <a:lnTo>
                    <a:pt x="3330" y="3370"/>
                  </a:lnTo>
                  <a:lnTo>
                    <a:pt x="3351" y="3344"/>
                  </a:lnTo>
                  <a:lnTo>
                    <a:pt x="3372" y="3315"/>
                  </a:lnTo>
                  <a:lnTo>
                    <a:pt x="3389" y="3285"/>
                  </a:lnTo>
                  <a:lnTo>
                    <a:pt x="3404" y="3254"/>
                  </a:lnTo>
                  <a:lnTo>
                    <a:pt x="3417" y="3221"/>
                  </a:lnTo>
                  <a:lnTo>
                    <a:pt x="3427" y="3185"/>
                  </a:lnTo>
                  <a:lnTo>
                    <a:pt x="3437" y="3150"/>
                  </a:lnTo>
                  <a:lnTo>
                    <a:pt x="3443" y="3112"/>
                  </a:lnTo>
                  <a:lnTo>
                    <a:pt x="3450" y="3075"/>
                  </a:lnTo>
                  <a:lnTo>
                    <a:pt x="3454" y="3036"/>
                  </a:lnTo>
                  <a:lnTo>
                    <a:pt x="3457" y="2998"/>
                  </a:lnTo>
                  <a:lnTo>
                    <a:pt x="3458" y="2959"/>
                  </a:lnTo>
                  <a:lnTo>
                    <a:pt x="3460" y="2919"/>
                  </a:lnTo>
                  <a:lnTo>
                    <a:pt x="3458" y="2881"/>
                  </a:lnTo>
                  <a:lnTo>
                    <a:pt x="3457" y="2841"/>
                  </a:lnTo>
                  <a:lnTo>
                    <a:pt x="3455" y="2803"/>
                  </a:lnTo>
                  <a:lnTo>
                    <a:pt x="3452" y="2765"/>
                  </a:lnTo>
                  <a:lnTo>
                    <a:pt x="3449" y="2729"/>
                  </a:lnTo>
                  <a:lnTo>
                    <a:pt x="3445" y="2692"/>
                  </a:lnTo>
                  <a:lnTo>
                    <a:pt x="3436" y="2623"/>
                  </a:lnTo>
                  <a:lnTo>
                    <a:pt x="3426" y="2561"/>
                  </a:lnTo>
                  <a:lnTo>
                    <a:pt x="3418" y="2507"/>
                  </a:lnTo>
                  <a:lnTo>
                    <a:pt x="3410" y="2460"/>
                  </a:lnTo>
                  <a:lnTo>
                    <a:pt x="3379" y="2418"/>
                  </a:lnTo>
                  <a:lnTo>
                    <a:pt x="3347" y="2376"/>
                  </a:lnTo>
                  <a:lnTo>
                    <a:pt x="3314" y="2334"/>
                  </a:lnTo>
                  <a:lnTo>
                    <a:pt x="3280" y="2294"/>
                  </a:lnTo>
                  <a:lnTo>
                    <a:pt x="3247" y="2255"/>
                  </a:lnTo>
                  <a:lnTo>
                    <a:pt x="3214" y="2216"/>
                  </a:lnTo>
                  <a:lnTo>
                    <a:pt x="3180" y="2177"/>
                  </a:lnTo>
                  <a:lnTo>
                    <a:pt x="3144" y="2141"/>
                  </a:lnTo>
                  <a:lnTo>
                    <a:pt x="3110" y="2104"/>
                  </a:lnTo>
                  <a:lnTo>
                    <a:pt x="3075" y="2069"/>
                  </a:lnTo>
                  <a:lnTo>
                    <a:pt x="3039" y="2034"/>
                  </a:lnTo>
                  <a:lnTo>
                    <a:pt x="3003" y="2000"/>
                  </a:lnTo>
                  <a:lnTo>
                    <a:pt x="2966" y="1967"/>
                  </a:lnTo>
                  <a:lnTo>
                    <a:pt x="2931" y="1935"/>
                  </a:lnTo>
                  <a:lnTo>
                    <a:pt x="2894" y="1903"/>
                  </a:lnTo>
                  <a:lnTo>
                    <a:pt x="2857" y="1873"/>
                  </a:lnTo>
                  <a:lnTo>
                    <a:pt x="2826" y="1846"/>
                  </a:lnTo>
                  <a:lnTo>
                    <a:pt x="2786" y="1814"/>
                  </a:lnTo>
                  <a:lnTo>
                    <a:pt x="2743" y="1779"/>
                  </a:lnTo>
                  <a:lnTo>
                    <a:pt x="2697" y="1744"/>
                  </a:lnTo>
                  <a:lnTo>
                    <a:pt x="2673" y="1727"/>
                  </a:lnTo>
                  <a:lnTo>
                    <a:pt x="2650" y="1710"/>
                  </a:lnTo>
                  <a:lnTo>
                    <a:pt x="2626" y="1694"/>
                  </a:lnTo>
                  <a:lnTo>
                    <a:pt x="2604" y="1679"/>
                  </a:lnTo>
                  <a:lnTo>
                    <a:pt x="2582" y="1666"/>
                  </a:lnTo>
                  <a:lnTo>
                    <a:pt x="2561" y="1654"/>
                  </a:lnTo>
                  <a:lnTo>
                    <a:pt x="2541" y="1644"/>
                  </a:lnTo>
                  <a:lnTo>
                    <a:pt x="2523" y="1637"/>
                  </a:lnTo>
                  <a:lnTo>
                    <a:pt x="2570" y="1599"/>
                  </a:lnTo>
                  <a:lnTo>
                    <a:pt x="2615" y="1565"/>
                  </a:lnTo>
                  <a:lnTo>
                    <a:pt x="2658" y="1534"/>
                  </a:lnTo>
                  <a:lnTo>
                    <a:pt x="2700" y="1506"/>
                  </a:lnTo>
                  <a:lnTo>
                    <a:pt x="2740" y="1480"/>
                  </a:lnTo>
                  <a:lnTo>
                    <a:pt x="2779" y="1458"/>
                  </a:lnTo>
                  <a:lnTo>
                    <a:pt x="2815" y="1437"/>
                  </a:lnTo>
                  <a:lnTo>
                    <a:pt x="2850" y="1419"/>
                  </a:lnTo>
                  <a:lnTo>
                    <a:pt x="2885" y="1402"/>
                  </a:lnTo>
                  <a:lnTo>
                    <a:pt x="2918" y="1388"/>
                  </a:lnTo>
                  <a:lnTo>
                    <a:pt x="2950" y="1375"/>
                  </a:lnTo>
                  <a:lnTo>
                    <a:pt x="2981" y="1364"/>
                  </a:lnTo>
                  <a:lnTo>
                    <a:pt x="3011" y="1355"/>
                  </a:lnTo>
                  <a:lnTo>
                    <a:pt x="3040" y="1346"/>
                  </a:lnTo>
                  <a:lnTo>
                    <a:pt x="3068" y="1339"/>
                  </a:lnTo>
                  <a:lnTo>
                    <a:pt x="3096" y="1332"/>
                  </a:lnTo>
                  <a:lnTo>
                    <a:pt x="3203" y="1313"/>
                  </a:lnTo>
                  <a:lnTo>
                    <a:pt x="3307" y="1296"/>
                  </a:lnTo>
                  <a:lnTo>
                    <a:pt x="3334" y="1292"/>
                  </a:lnTo>
                  <a:lnTo>
                    <a:pt x="3360" y="1285"/>
                  </a:lnTo>
                  <a:lnTo>
                    <a:pt x="3387" y="1279"/>
                  </a:lnTo>
                  <a:lnTo>
                    <a:pt x="3415" y="1271"/>
                  </a:lnTo>
                  <a:lnTo>
                    <a:pt x="3442" y="1263"/>
                  </a:lnTo>
                  <a:lnTo>
                    <a:pt x="3471" y="1252"/>
                  </a:lnTo>
                  <a:lnTo>
                    <a:pt x="3501" y="1241"/>
                  </a:lnTo>
                  <a:lnTo>
                    <a:pt x="3531" y="1227"/>
                  </a:lnTo>
                  <a:lnTo>
                    <a:pt x="3566" y="1212"/>
                  </a:lnTo>
                  <a:lnTo>
                    <a:pt x="3601" y="1198"/>
                  </a:lnTo>
                  <a:lnTo>
                    <a:pt x="3638" y="1184"/>
                  </a:lnTo>
                  <a:lnTo>
                    <a:pt x="3675" y="1170"/>
                  </a:lnTo>
                  <a:lnTo>
                    <a:pt x="3714" y="1159"/>
                  </a:lnTo>
                  <a:lnTo>
                    <a:pt x="3752" y="1147"/>
                  </a:lnTo>
                  <a:lnTo>
                    <a:pt x="3791" y="1137"/>
                  </a:lnTo>
                  <a:lnTo>
                    <a:pt x="3830" y="1129"/>
                  </a:lnTo>
                  <a:lnTo>
                    <a:pt x="3868" y="1122"/>
                  </a:lnTo>
                  <a:lnTo>
                    <a:pt x="3907" y="1118"/>
                  </a:lnTo>
                  <a:lnTo>
                    <a:pt x="3925" y="1117"/>
                  </a:lnTo>
                  <a:lnTo>
                    <a:pt x="3943" y="1117"/>
                  </a:lnTo>
                  <a:lnTo>
                    <a:pt x="3961" y="1116"/>
                  </a:lnTo>
                  <a:lnTo>
                    <a:pt x="3980" y="1117"/>
                  </a:lnTo>
                  <a:lnTo>
                    <a:pt x="3997" y="1118"/>
                  </a:lnTo>
                  <a:lnTo>
                    <a:pt x="4014" y="1120"/>
                  </a:lnTo>
                  <a:lnTo>
                    <a:pt x="4030" y="1122"/>
                  </a:lnTo>
                  <a:lnTo>
                    <a:pt x="4047" y="1125"/>
                  </a:lnTo>
                  <a:lnTo>
                    <a:pt x="4062" y="1130"/>
                  </a:lnTo>
                  <a:lnTo>
                    <a:pt x="4078" y="1135"/>
                  </a:lnTo>
                  <a:lnTo>
                    <a:pt x="4093" y="1140"/>
                  </a:lnTo>
                  <a:lnTo>
                    <a:pt x="4107" y="1147"/>
                  </a:lnTo>
                  <a:lnTo>
                    <a:pt x="4088" y="1161"/>
                  </a:lnTo>
                  <a:lnTo>
                    <a:pt x="4070" y="1175"/>
                  </a:lnTo>
                  <a:lnTo>
                    <a:pt x="4053" y="1190"/>
                  </a:lnTo>
                  <a:lnTo>
                    <a:pt x="4037" y="1206"/>
                  </a:lnTo>
                  <a:lnTo>
                    <a:pt x="4022" y="1221"/>
                  </a:lnTo>
                  <a:lnTo>
                    <a:pt x="4008" y="1237"/>
                  </a:lnTo>
                  <a:lnTo>
                    <a:pt x="3995" y="1253"/>
                  </a:lnTo>
                  <a:lnTo>
                    <a:pt x="3983" y="1270"/>
                  </a:lnTo>
                  <a:lnTo>
                    <a:pt x="3972" y="1287"/>
                  </a:lnTo>
                  <a:lnTo>
                    <a:pt x="3963" y="1303"/>
                  </a:lnTo>
                  <a:lnTo>
                    <a:pt x="3954" y="1320"/>
                  </a:lnTo>
                  <a:lnTo>
                    <a:pt x="3945" y="1338"/>
                  </a:lnTo>
                  <a:lnTo>
                    <a:pt x="3938" y="1355"/>
                  </a:lnTo>
                  <a:lnTo>
                    <a:pt x="3931" y="1372"/>
                  </a:lnTo>
                  <a:lnTo>
                    <a:pt x="3925" y="1389"/>
                  </a:lnTo>
                  <a:lnTo>
                    <a:pt x="3920" y="1406"/>
                  </a:lnTo>
                  <a:lnTo>
                    <a:pt x="3915" y="1422"/>
                  </a:lnTo>
                  <a:lnTo>
                    <a:pt x="3911" y="1440"/>
                  </a:lnTo>
                  <a:lnTo>
                    <a:pt x="3908" y="1456"/>
                  </a:lnTo>
                  <a:lnTo>
                    <a:pt x="3906" y="1471"/>
                  </a:lnTo>
                  <a:lnTo>
                    <a:pt x="3901" y="1501"/>
                  </a:lnTo>
                  <a:lnTo>
                    <a:pt x="3900" y="1530"/>
                  </a:lnTo>
                  <a:lnTo>
                    <a:pt x="3899" y="1555"/>
                  </a:lnTo>
                  <a:lnTo>
                    <a:pt x="3900" y="1578"/>
                  </a:lnTo>
                  <a:lnTo>
                    <a:pt x="3902" y="1597"/>
                  </a:lnTo>
                  <a:lnTo>
                    <a:pt x="3906" y="1613"/>
                  </a:lnTo>
                  <a:lnTo>
                    <a:pt x="3900" y="1693"/>
                  </a:lnTo>
                  <a:lnTo>
                    <a:pt x="3898" y="1758"/>
                  </a:lnTo>
                  <a:lnTo>
                    <a:pt x="3897" y="1813"/>
                  </a:lnTo>
                  <a:lnTo>
                    <a:pt x="3898" y="1862"/>
                  </a:lnTo>
                  <a:lnTo>
                    <a:pt x="3901" y="1910"/>
                  </a:lnTo>
                  <a:lnTo>
                    <a:pt x="3906" y="1963"/>
                  </a:lnTo>
                  <a:lnTo>
                    <a:pt x="3911" y="2023"/>
                  </a:lnTo>
                  <a:lnTo>
                    <a:pt x="3918" y="2097"/>
                  </a:lnTo>
                  <a:lnTo>
                    <a:pt x="3921" y="2131"/>
                  </a:lnTo>
                  <a:lnTo>
                    <a:pt x="3926" y="2163"/>
                  </a:lnTo>
                  <a:lnTo>
                    <a:pt x="3933" y="2193"/>
                  </a:lnTo>
                  <a:lnTo>
                    <a:pt x="3940" y="2223"/>
                  </a:lnTo>
                  <a:lnTo>
                    <a:pt x="3949" y="2251"/>
                  </a:lnTo>
                  <a:lnTo>
                    <a:pt x="3957" y="2279"/>
                  </a:lnTo>
                  <a:lnTo>
                    <a:pt x="3968" y="2305"/>
                  </a:lnTo>
                  <a:lnTo>
                    <a:pt x="3980" y="2331"/>
                  </a:lnTo>
                  <a:lnTo>
                    <a:pt x="3992" y="2355"/>
                  </a:lnTo>
                  <a:lnTo>
                    <a:pt x="4005" y="2380"/>
                  </a:lnTo>
                  <a:lnTo>
                    <a:pt x="4019" y="2405"/>
                  </a:lnTo>
                  <a:lnTo>
                    <a:pt x="4034" y="2429"/>
                  </a:lnTo>
                  <a:lnTo>
                    <a:pt x="4067" y="2478"/>
                  </a:lnTo>
                  <a:lnTo>
                    <a:pt x="4102" y="2527"/>
                  </a:lnTo>
                  <a:lnTo>
                    <a:pt x="4138" y="2578"/>
                  </a:lnTo>
                  <a:lnTo>
                    <a:pt x="4178" y="2634"/>
                  </a:lnTo>
                  <a:lnTo>
                    <a:pt x="4220" y="2694"/>
                  </a:lnTo>
                  <a:lnTo>
                    <a:pt x="4262" y="2759"/>
                  </a:lnTo>
                  <a:lnTo>
                    <a:pt x="4284" y="2794"/>
                  </a:lnTo>
                  <a:lnTo>
                    <a:pt x="4306" y="2832"/>
                  </a:lnTo>
                  <a:lnTo>
                    <a:pt x="4328" y="2870"/>
                  </a:lnTo>
                  <a:lnTo>
                    <a:pt x="4351" y="2911"/>
                  </a:lnTo>
                  <a:lnTo>
                    <a:pt x="4373" y="2955"/>
                  </a:lnTo>
                  <a:lnTo>
                    <a:pt x="4396" y="3000"/>
                  </a:lnTo>
                  <a:lnTo>
                    <a:pt x="4418" y="3048"/>
                  </a:lnTo>
                  <a:lnTo>
                    <a:pt x="4441" y="3100"/>
                  </a:lnTo>
                  <a:lnTo>
                    <a:pt x="4467" y="3163"/>
                  </a:lnTo>
                  <a:lnTo>
                    <a:pt x="4487" y="3225"/>
                  </a:lnTo>
                  <a:lnTo>
                    <a:pt x="4503" y="3285"/>
                  </a:lnTo>
                  <a:lnTo>
                    <a:pt x="4514" y="3344"/>
                  </a:lnTo>
                  <a:lnTo>
                    <a:pt x="4521" y="3401"/>
                  </a:lnTo>
                  <a:lnTo>
                    <a:pt x="4525" y="3457"/>
                  </a:lnTo>
                  <a:lnTo>
                    <a:pt x="4523" y="3511"/>
                  </a:lnTo>
                  <a:lnTo>
                    <a:pt x="4519" y="3563"/>
                  </a:lnTo>
                  <a:lnTo>
                    <a:pt x="4512" y="3614"/>
                  </a:lnTo>
                  <a:lnTo>
                    <a:pt x="4501" y="3663"/>
                  </a:lnTo>
                  <a:lnTo>
                    <a:pt x="4486" y="3710"/>
                  </a:lnTo>
                  <a:lnTo>
                    <a:pt x="4469" y="3756"/>
                  </a:lnTo>
                  <a:lnTo>
                    <a:pt x="4449" y="3800"/>
                  </a:lnTo>
                  <a:lnTo>
                    <a:pt x="4427" y="3842"/>
                  </a:lnTo>
                  <a:lnTo>
                    <a:pt x="4402" y="3881"/>
                  </a:lnTo>
                  <a:lnTo>
                    <a:pt x="4375" y="3920"/>
                  </a:lnTo>
                  <a:lnTo>
                    <a:pt x="4347" y="3956"/>
                  </a:lnTo>
                  <a:lnTo>
                    <a:pt x="4315" y="3992"/>
                  </a:lnTo>
                  <a:lnTo>
                    <a:pt x="4282" y="4024"/>
                  </a:lnTo>
                  <a:lnTo>
                    <a:pt x="4249" y="4055"/>
                  </a:lnTo>
                  <a:lnTo>
                    <a:pt x="4214" y="4085"/>
                  </a:lnTo>
                  <a:lnTo>
                    <a:pt x="4177" y="4112"/>
                  </a:lnTo>
                  <a:lnTo>
                    <a:pt x="4140" y="4138"/>
                  </a:lnTo>
                  <a:lnTo>
                    <a:pt x="4101" y="4160"/>
                  </a:lnTo>
                  <a:lnTo>
                    <a:pt x="4062" y="4182"/>
                  </a:lnTo>
                  <a:lnTo>
                    <a:pt x="4024" y="4201"/>
                  </a:lnTo>
                  <a:lnTo>
                    <a:pt x="3984" y="4218"/>
                  </a:lnTo>
                  <a:lnTo>
                    <a:pt x="3944" y="4234"/>
                  </a:lnTo>
                  <a:lnTo>
                    <a:pt x="3906" y="4247"/>
                  </a:lnTo>
                  <a:lnTo>
                    <a:pt x="3866" y="4258"/>
                  </a:lnTo>
                  <a:lnTo>
                    <a:pt x="3828" y="4267"/>
                  </a:lnTo>
                  <a:lnTo>
                    <a:pt x="3791" y="4274"/>
                  </a:lnTo>
                  <a:lnTo>
                    <a:pt x="3716" y="4289"/>
                  </a:lnTo>
                  <a:lnTo>
                    <a:pt x="3645" y="4302"/>
                  </a:lnTo>
                  <a:lnTo>
                    <a:pt x="3579" y="4314"/>
                  </a:lnTo>
                  <a:lnTo>
                    <a:pt x="3514" y="4324"/>
                  </a:lnTo>
                  <a:lnTo>
                    <a:pt x="3452" y="4332"/>
                  </a:lnTo>
                  <a:lnTo>
                    <a:pt x="3390" y="4338"/>
                  </a:lnTo>
                  <a:lnTo>
                    <a:pt x="3358" y="4340"/>
                  </a:lnTo>
                  <a:lnTo>
                    <a:pt x="3325" y="4343"/>
                  </a:lnTo>
                  <a:lnTo>
                    <a:pt x="3293" y="4344"/>
                  </a:lnTo>
                  <a:lnTo>
                    <a:pt x="3260" y="4344"/>
                  </a:lnTo>
                  <a:lnTo>
                    <a:pt x="3290" y="4363"/>
                  </a:lnTo>
                  <a:lnTo>
                    <a:pt x="3321" y="4379"/>
                  </a:lnTo>
                  <a:lnTo>
                    <a:pt x="3352" y="4393"/>
                  </a:lnTo>
                  <a:lnTo>
                    <a:pt x="3384" y="4404"/>
                  </a:lnTo>
                  <a:lnTo>
                    <a:pt x="3417" y="4412"/>
                  </a:lnTo>
                  <a:lnTo>
                    <a:pt x="3450" y="4418"/>
                  </a:lnTo>
                  <a:lnTo>
                    <a:pt x="3482" y="4422"/>
                  </a:lnTo>
                  <a:lnTo>
                    <a:pt x="3516" y="4424"/>
                  </a:lnTo>
                  <a:lnTo>
                    <a:pt x="3550" y="4423"/>
                  </a:lnTo>
                  <a:lnTo>
                    <a:pt x="3584" y="4421"/>
                  </a:lnTo>
                  <a:lnTo>
                    <a:pt x="3618" y="4418"/>
                  </a:lnTo>
                  <a:lnTo>
                    <a:pt x="3653" y="4412"/>
                  </a:lnTo>
                  <a:lnTo>
                    <a:pt x="3687" y="4405"/>
                  </a:lnTo>
                  <a:lnTo>
                    <a:pt x="3720" y="4396"/>
                  </a:lnTo>
                  <a:lnTo>
                    <a:pt x="3754" y="4387"/>
                  </a:lnTo>
                  <a:lnTo>
                    <a:pt x="3789" y="4375"/>
                  </a:lnTo>
                  <a:lnTo>
                    <a:pt x="3823" y="4363"/>
                  </a:lnTo>
                  <a:lnTo>
                    <a:pt x="3856" y="4350"/>
                  </a:lnTo>
                  <a:lnTo>
                    <a:pt x="3890" y="4336"/>
                  </a:lnTo>
                  <a:lnTo>
                    <a:pt x="3923" y="4321"/>
                  </a:lnTo>
                  <a:lnTo>
                    <a:pt x="3956" y="4306"/>
                  </a:lnTo>
                  <a:lnTo>
                    <a:pt x="3988" y="4290"/>
                  </a:lnTo>
                  <a:lnTo>
                    <a:pt x="4019" y="4274"/>
                  </a:lnTo>
                  <a:lnTo>
                    <a:pt x="4052" y="4258"/>
                  </a:lnTo>
                  <a:lnTo>
                    <a:pt x="4112" y="4225"/>
                  </a:lnTo>
                  <a:lnTo>
                    <a:pt x="4170" y="4191"/>
                  </a:lnTo>
                  <a:lnTo>
                    <a:pt x="4223" y="4160"/>
                  </a:lnTo>
                  <a:lnTo>
                    <a:pt x="4275" y="4130"/>
                  </a:lnTo>
                  <a:lnTo>
                    <a:pt x="4305" y="4113"/>
                  </a:lnTo>
                  <a:lnTo>
                    <a:pt x="4334" y="4095"/>
                  </a:lnTo>
                  <a:lnTo>
                    <a:pt x="4362" y="4074"/>
                  </a:lnTo>
                  <a:lnTo>
                    <a:pt x="4389" y="4054"/>
                  </a:lnTo>
                  <a:lnTo>
                    <a:pt x="4415" y="4033"/>
                  </a:lnTo>
                  <a:lnTo>
                    <a:pt x="4440" y="4009"/>
                  </a:lnTo>
                  <a:lnTo>
                    <a:pt x="4463" y="3985"/>
                  </a:lnTo>
                  <a:lnTo>
                    <a:pt x="4486" y="3961"/>
                  </a:lnTo>
                  <a:lnTo>
                    <a:pt x="4507" y="3935"/>
                  </a:lnTo>
                  <a:lnTo>
                    <a:pt x="4527" y="3909"/>
                  </a:lnTo>
                  <a:lnTo>
                    <a:pt x="4546" y="3882"/>
                  </a:lnTo>
                  <a:lnTo>
                    <a:pt x="4563" y="3855"/>
                  </a:lnTo>
                  <a:lnTo>
                    <a:pt x="4580" y="3827"/>
                  </a:lnTo>
                  <a:lnTo>
                    <a:pt x="4595" y="3798"/>
                  </a:lnTo>
                  <a:lnTo>
                    <a:pt x="4609" y="3768"/>
                  </a:lnTo>
                  <a:lnTo>
                    <a:pt x="4621" y="3738"/>
                  </a:lnTo>
                  <a:lnTo>
                    <a:pt x="4633" y="3708"/>
                  </a:lnTo>
                  <a:lnTo>
                    <a:pt x="4643" y="3677"/>
                  </a:lnTo>
                  <a:lnTo>
                    <a:pt x="4651" y="3647"/>
                  </a:lnTo>
                  <a:lnTo>
                    <a:pt x="4659" y="3614"/>
                  </a:lnTo>
                  <a:lnTo>
                    <a:pt x="4664" y="3583"/>
                  </a:lnTo>
                  <a:lnTo>
                    <a:pt x="4668" y="3552"/>
                  </a:lnTo>
                  <a:lnTo>
                    <a:pt x="4671" y="3520"/>
                  </a:lnTo>
                  <a:lnTo>
                    <a:pt x="4673" y="3488"/>
                  </a:lnTo>
                  <a:lnTo>
                    <a:pt x="4673" y="3457"/>
                  </a:lnTo>
                  <a:lnTo>
                    <a:pt x="4671" y="3425"/>
                  </a:lnTo>
                  <a:lnTo>
                    <a:pt x="4668" y="3392"/>
                  </a:lnTo>
                  <a:lnTo>
                    <a:pt x="4664" y="3361"/>
                  </a:lnTo>
                  <a:lnTo>
                    <a:pt x="4659" y="3330"/>
                  </a:lnTo>
                  <a:lnTo>
                    <a:pt x="4651" y="3299"/>
                  </a:lnTo>
                  <a:lnTo>
                    <a:pt x="4643" y="3268"/>
                  </a:lnTo>
                  <a:lnTo>
                    <a:pt x="4632" y="3238"/>
                  </a:lnTo>
                  <a:lnTo>
                    <a:pt x="4619" y="3193"/>
                  </a:lnTo>
                  <a:lnTo>
                    <a:pt x="4603" y="3143"/>
                  </a:lnTo>
                  <a:lnTo>
                    <a:pt x="4584" y="3087"/>
                  </a:lnTo>
                  <a:lnTo>
                    <a:pt x="4562" y="3027"/>
                  </a:lnTo>
                  <a:lnTo>
                    <a:pt x="4514" y="2895"/>
                  </a:lnTo>
                  <a:lnTo>
                    <a:pt x="4461" y="2752"/>
                  </a:lnTo>
                  <a:lnTo>
                    <a:pt x="4436" y="2679"/>
                  </a:lnTo>
                  <a:lnTo>
                    <a:pt x="4409" y="2606"/>
                  </a:lnTo>
                  <a:lnTo>
                    <a:pt x="4384" y="2534"/>
                  </a:lnTo>
                  <a:lnTo>
                    <a:pt x="4360" y="2464"/>
                  </a:lnTo>
                  <a:lnTo>
                    <a:pt x="4339" y="2394"/>
                  </a:lnTo>
                  <a:lnTo>
                    <a:pt x="4321" y="2329"/>
                  </a:lnTo>
                  <a:lnTo>
                    <a:pt x="4312" y="2296"/>
                  </a:lnTo>
                  <a:lnTo>
                    <a:pt x="4305" y="2265"/>
                  </a:lnTo>
                  <a:lnTo>
                    <a:pt x="4297" y="2235"/>
                  </a:lnTo>
                  <a:lnTo>
                    <a:pt x="4292" y="2206"/>
                  </a:lnTo>
                  <a:lnTo>
                    <a:pt x="4290" y="2093"/>
                  </a:lnTo>
                  <a:lnTo>
                    <a:pt x="4288" y="1970"/>
                  </a:lnTo>
                  <a:lnTo>
                    <a:pt x="4288" y="1908"/>
                  </a:lnTo>
                  <a:lnTo>
                    <a:pt x="4289" y="1845"/>
                  </a:lnTo>
                  <a:lnTo>
                    <a:pt x="4291" y="1814"/>
                  </a:lnTo>
                  <a:lnTo>
                    <a:pt x="4293" y="1783"/>
                  </a:lnTo>
                  <a:lnTo>
                    <a:pt x="4296" y="1752"/>
                  </a:lnTo>
                  <a:lnTo>
                    <a:pt x="4299" y="1721"/>
                  </a:lnTo>
                  <a:lnTo>
                    <a:pt x="4304" y="1690"/>
                  </a:lnTo>
                  <a:lnTo>
                    <a:pt x="4310" y="1660"/>
                  </a:lnTo>
                  <a:lnTo>
                    <a:pt x="4316" y="1631"/>
                  </a:lnTo>
                  <a:lnTo>
                    <a:pt x="4324" y="1604"/>
                  </a:lnTo>
                  <a:lnTo>
                    <a:pt x="4333" y="1576"/>
                  </a:lnTo>
                  <a:lnTo>
                    <a:pt x="4343" y="1549"/>
                  </a:lnTo>
                  <a:lnTo>
                    <a:pt x="4354" y="1523"/>
                  </a:lnTo>
                  <a:lnTo>
                    <a:pt x="4367" y="1499"/>
                  </a:lnTo>
                  <a:lnTo>
                    <a:pt x="4381" y="1474"/>
                  </a:lnTo>
                  <a:lnTo>
                    <a:pt x="4397" y="1451"/>
                  </a:lnTo>
                  <a:lnTo>
                    <a:pt x="4414" y="1430"/>
                  </a:lnTo>
                  <a:lnTo>
                    <a:pt x="4433" y="1410"/>
                  </a:lnTo>
                  <a:lnTo>
                    <a:pt x="4454" y="1390"/>
                  </a:lnTo>
                  <a:lnTo>
                    <a:pt x="4476" y="1373"/>
                  </a:lnTo>
                  <a:lnTo>
                    <a:pt x="4501" y="1357"/>
                  </a:lnTo>
                  <a:lnTo>
                    <a:pt x="4528" y="1343"/>
                  </a:lnTo>
                  <a:lnTo>
                    <a:pt x="4580" y="1319"/>
                  </a:lnTo>
                  <a:lnTo>
                    <a:pt x="4639" y="1301"/>
                  </a:lnTo>
                  <a:lnTo>
                    <a:pt x="4704" y="1287"/>
                  </a:lnTo>
                  <a:lnTo>
                    <a:pt x="4772" y="1277"/>
                  </a:lnTo>
                  <a:lnTo>
                    <a:pt x="4846" y="1271"/>
                  </a:lnTo>
                  <a:lnTo>
                    <a:pt x="4924" y="1269"/>
                  </a:lnTo>
                  <a:lnTo>
                    <a:pt x="5005" y="1272"/>
                  </a:lnTo>
                  <a:lnTo>
                    <a:pt x="5091" y="1279"/>
                  </a:lnTo>
                  <a:lnTo>
                    <a:pt x="5178" y="1288"/>
                  </a:lnTo>
                  <a:lnTo>
                    <a:pt x="5268" y="1302"/>
                  </a:lnTo>
                  <a:lnTo>
                    <a:pt x="5360" y="1320"/>
                  </a:lnTo>
                  <a:lnTo>
                    <a:pt x="5454" y="1342"/>
                  </a:lnTo>
                  <a:lnTo>
                    <a:pt x="5549" y="1367"/>
                  </a:lnTo>
                  <a:lnTo>
                    <a:pt x="5644" y="1396"/>
                  </a:lnTo>
                  <a:lnTo>
                    <a:pt x="5741" y="1427"/>
                  </a:lnTo>
                  <a:lnTo>
                    <a:pt x="5836" y="1462"/>
                  </a:lnTo>
                  <a:lnTo>
                    <a:pt x="5932" y="1501"/>
                  </a:lnTo>
                  <a:lnTo>
                    <a:pt x="6025" y="1542"/>
                  </a:lnTo>
                  <a:lnTo>
                    <a:pt x="6118" y="1586"/>
                  </a:lnTo>
                  <a:lnTo>
                    <a:pt x="6208" y="1634"/>
                  </a:lnTo>
                  <a:lnTo>
                    <a:pt x="6297" y="1684"/>
                  </a:lnTo>
                  <a:lnTo>
                    <a:pt x="6382" y="1738"/>
                  </a:lnTo>
                  <a:lnTo>
                    <a:pt x="6465" y="1793"/>
                  </a:lnTo>
                  <a:lnTo>
                    <a:pt x="6544" y="1851"/>
                  </a:lnTo>
                  <a:lnTo>
                    <a:pt x="6619" y="1912"/>
                  </a:lnTo>
                  <a:lnTo>
                    <a:pt x="6689" y="1976"/>
                  </a:lnTo>
                  <a:lnTo>
                    <a:pt x="6754" y="2041"/>
                  </a:lnTo>
                  <a:lnTo>
                    <a:pt x="6814" y="2110"/>
                  </a:lnTo>
                  <a:lnTo>
                    <a:pt x="6869" y="2179"/>
                  </a:lnTo>
                  <a:lnTo>
                    <a:pt x="6917" y="2252"/>
                  </a:lnTo>
                  <a:lnTo>
                    <a:pt x="6959" y="2326"/>
                  </a:lnTo>
                  <a:lnTo>
                    <a:pt x="6993" y="2403"/>
                  </a:lnTo>
                  <a:lnTo>
                    <a:pt x="7005" y="2433"/>
                  </a:lnTo>
                  <a:lnTo>
                    <a:pt x="7016" y="2465"/>
                  </a:lnTo>
                  <a:lnTo>
                    <a:pt x="7027" y="2497"/>
                  </a:lnTo>
                  <a:lnTo>
                    <a:pt x="7037" y="2530"/>
                  </a:lnTo>
                  <a:lnTo>
                    <a:pt x="7047" y="2564"/>
                  </a:lnTo>
                  <a:lnTo>
                    <a:pt x="7057" y="2600"/>
                  </a:lnTo>
                  <a:lnTo>
                    <a:pt x="7066" y="2636"/>
                  </a:lnTo>
                  <a:lnTo>
                    <a:pt x="7075" y="2673"/>
                  </a:lnTo>
                  <a:lnTo>
                    <a:pt x="7092" y="2748"/>
                  </a:lnTo>
                  <a:lnTo>
                    <a:pt x="7107" y="2825"/>
                  </a:lnTo>
                  <a:lnTo>
                    <a:pt x="7121" y="2902"/>
                  </a:lnTo>
                  <a:lnTo>
                    <a:pt x="7133" y="2981"/>
                  </a:lnTo>
                  <a:lnTo>
                    <a:pt x="7144" y="3059"/>
                  </a:lnTo>
                  <a:lnTo>
                    <a:pt x="7152" y="3135"/>
                  </a:lnTo>
                  <a:lnTo>
                    <a:pt x="7161" y="3210"/>
                  </a:lnTo>
                  <a:lnTo>
                    <a:pt x="7166" y="3283"/>
                  </a:lnTo>
                  <a:lnTo>
                    <a:pt x="7171" y="3353"/>
                  </a:lnTo>
                  <a:lnTo>
                    <a:pt x="7175" y="3419"/>
                  </a:lnTo>
                  <a:lnTo>
                    <a:pt x="7177" y="3480"/>
                  </a:lnTo>
                  <a:lnTo>
                    <a:pt x="7178" y="3537"/>
                  </a:lnTo>
                  <a:lnTo>
                    <a:pt x="7188" y="3551"/>
                  </a:lnTo>
                  <a:lnTo>
                    <a:pt x="7197" y="3567"/>
                  </a:lnTo>
                  <a:lnTo>
                    <a:pt x="7205" y="3585"/>
                  </a:lnTo>
                  <a:lnTo>
                    <a:pt x="7212" y="3605"/>
                  </a:lnTo>
                  <a:lnTo>
                    <a:pt x="7226" y="3647"/>
                  </a:lnTo>
                  <a:lnTo>
                    <a:pt x="7239" y="3691"/>
                  </a:lnTo>
                  <a:lnTo>
                    <a:pt x="7252" y="3736"/>
                  </a:lnTo>
                  <a:lnTo>
                    <a:pt x="7266" y="3777"/>
                  </a:lnTo>
                  <a:lnTo>
                    <a:pt x="7274" y="3798"/>
                  </a:lnTo>
                  <a:lnTo>
                    <a:pt x="7283" y="3816"/>
                  </a:lnTo>
                  <a:lnTo>
                    <a:pt x="7293" y="3833"/>
                  </a:lnTo>
                  <a:lnTo>
                    <a:pt x="7304" y="3848"/>
                  </a:lnTo>
                  <a:lnTo>
                    <a:pt x="7287" y="5317"/>
                  </a:lnTo>
                  <a:lnTo>
                    <a:pt x="7312" y="5336"/>
                  </a:lnTo>
                  <a:lnTo>
                    <a:pt x="7337" y="5352"/>
                  </a:lnTo>
                  <a:lnTo>
                    <a:pt x="7360" y="5365"/>
                  </a:lnTo>
                  <a:lnTo>
                    <a:pt x="7385" y="5375"/>
                  </a:lnTo>
                  <a:lnTo>
                    <a:pt x="7408" y="5383"/>
                  </a:lnTo>
                  <a:lnTo>
                    <a:pt x="7431" y="5387"/>
                  </a:lnTo>
                  <a:lnTo>
                    <a:pt x="7454" y="5389"/>
                  </a:lnTo>
                  <a:lnTo>
                    <a:pt x="7476" y="5388"/>
                  </a:lnTo>
                  <a:lnTo>
                    <a:pt x="7498" y="5386"/>
                  </a:lnTo>
                  <a:lnTo>
                    <a:pt x="7519" y="5381"/>
                  </a:lnTo>
                  <a:lnTo>
                    <a:pt x="7539" y="5373"/>
                  </a:lnTo>
                  <a:lnTo>
                    <a:pt x="7560" y="5365"/>
                  </a:lnTo>
                  <a:lnTo>
                    <a:pt x="7578" y="5353"/>
                  </a:lnTo>
                  <a:lnTo>
                    <a:pt x="7596" y="5340"/>
                  </a:lnTo>
                  <a:lnTo>
                    <a:pt x="7613" y="5325"/>
                  </a:lnTo>
                  <a:lnTo>
                    <a:pt x="7631" y="5308"/>
                  </a:lnTo>
                  <a:lnTo>
                    <a:pt x="7646" y="5289"/>
                  </a:lnTo>
                  <a:lnTo>
                    <a:pt x="7661" y="5269"/>
                  </a:lnTo>
                  <a:lnTo>
                    <a:pt x="7674" y="5248"/>
                  </a:lnTo>
                  <a:lnTo>
                    <a:pt x="7686" y="5225"/>
                  </a:lnTo>
                  <a:lnTo>
                    <a:pt x="7698" y="5200"/>
                  </a:lnTo>
                  <a:lnTo>
                    <a:pt x="7709" y="5176"/>
                  </a:lnTo>
                  <a:lnTo>
                    <a:pt x="7717" y="5149"/>
                  </a:lnTo>
                  <a:lnTo>
                    <a:pt x="7725" y="5122"/>
                  </a:lnTo>
                  <a:lnTo>
                    <a:pt x="7731" y="5093"/>
                  </a:lnTo>
                  <a:lnTo>
                    <a:pt x="7737" y="5064"/>
                  </a:lnTo>
                  <a:lnTo>
                    <a:pt x="7740" y="5035"/>
                  </a:lnTo>
                  <a:lnTo>
                    <a:pt x="7743" y="5004"/>
                  </a:lnTo>
                  <a:lnTo>
                    <a:pt x="7743" y="4974"/>
                  </a:lnTo>
                  <a:lnTo>
                    <a:pt x="7743" y="4942"/>
                  </a:lnTo>
                  <a:lnTo>
                    <a:pt x="7740" y="4911"/>
                  </a:lnTo>
                  <a:lnTo>
                    <a:pt x="7737" y="4879"/>
                  </a:lnTo>
                  <a:lnTo>
                    <a:pt x="7790" y="4851"/>
                  </a:lnTo>
                  <a:lnTo>
                    <a:pt x="7845" y="4824"/>
                  </a:lnTo>
                  <a:lnTo>
                    <a:pt x="7899" y="4798"/>
                  </a:lnTo>
                  <a:lnTo>
                    <a:pt x="7954" y="4774"/>
                  </a:lnTo>
                  <a:lnTo>
                    <a:pt x="8065" y="4725"/>
                  </a:lnTo>
                  <a:lnTo>
                    <a:pt x="8176" y="4677"/>
                  </a:lnTo>
                  <a:lnTo>
                    <a:pt x="8234" y="4651"/>
                  </a:lnTo>
                  <a:lnTo>
                    <a:pt x="8291" y="4625"/>
                  </a:lnTo>
                  <a:lnTo>
                    <a:pt x="8350" y="4596"/>
                  </a:lnTo>
                  <a:lnTo>
                    <a:pt x="8409" y="4566"/>
                  </a:lnTo>
                  <a:lnTo>
                    <a:pt x="8468" y="4533"/>
                  </a:lnTo>
                  <a:lnTo>
                    <a:pt x="8528" y="4498"/>
                  </a:lnTo>
                  <a:lnTo>
                    <a:pt x="8559" y="4480"/>
                  </a:lnTo>
                  <a:lnTo>
                    <a:pt x="8590" y="4459"/>
                  </a:lnTo>
                  <a:lnTo>
                    <a:pt x="8620" y="4439"/>
                  </a:lnTo>
                  <a:lnTo>
                    <a:pt x="8653" y="4419"/>
                  </a:lnTo>
                  <a:lnTo>
                    <a:pt x="8652" y="4453"/>
                  </a:lnTo>
                  <a:lnTo>
                    <a:pt x="8649" y="4488"/>
                  </a:lnTo>
                  <a:lnTo>
                    <a:pt x="8647" y="4525"/>
                  </a:lnTo>
                  <a:lnTo>
                    <a:pt x="8643" y="4562"/>
                  </a:lnTo>
                  <a:lnTo>
                    <a:pt x="8639" y="4601"/>
                  </a:lnTo>
                  <a:lnTo>
                    <a:pt x="8632" y="4641"/>
                  </a:lnTo>
                  <a:lnTo>
                    <a:pt x="8626" y="4681"/>
                  </a:lnTo>
                  <a:lnTo>
                    <a:pt x="8618" y="4722"/>
                  </a:lnTo>
                  <a:lnTo>
                    <a:pt x="8610" y="4764"/>
                  </a:lnTo>
                  <a:lnTo>
                    <a:pt x="8601" y="4806"/>
                  </a:lnTo>
                  <a:lnTo>
                    <a:pt x="8590" y="4849"/>
                  </a:lnTo>
                  <a:lnTo>
                    <a:pt x="8580" y="4892"/>
                  </a:lnTo>
                  <a:lnTo>
                    <a:pt x="8557" y="4978"/>
                  </a:lnTo>
                  <a:lnTo>
                    <a:pt x="8531" y="5065"/>
                  </a:lnTo>
                  <a:lnTo>
                    <a:pt x="8505" y="5151"/>
                  </a:lnTo>
                  <a:lnTo>
                    <a:pt x="8477" y="5236"/>
                  </a:lnTo>
                  <a:lnTo>
                    <a:pt x="8447" y="5317"/>
                  </a:lnTo>
                  <a:lnTo>
                    <a:pt x="8417" y="5397"/>
                  </a:lnTo>
                  <a:lnTo>
                    <a:pt x="8386" y="5472"/>
                  </a:lnTo>
                  <a:lnTo>
                    <a:pt x="8356" y="5544"/>
                  </a:lnTo>
                  <a:lnTo>
                    <a:pt x="8324" y="5609"/>
                  </a:lnTo>
                  <a:lnTo>
                    <a:pt x="8295" y="5668"/>
                  </a:lnTo>
                  <a:lnTo>
                    <a:pt x="8288" y="5679"/>
                  </a:lnTo>
                  <a:lnTo>
                    <a:pt x="8279" y="5691"/>
                  </a:lnTo>
                  <a:lnTo>
                    <a:pt x="8270" y="5702"/>
                  </a:lnTo>
                  <a:lnTo>
                    <a:pt x="8260" y="5713"/>
                  </a:lnTo>
                  <a:lnTo>
                    <a:pt x="8236" y="5738"/>
                  </a:lnTo>
                  <a:lnTo>
                    <a:pt x="8211" y="5762"/>
                  </a:lnTo>
                  <a:lnTo>
                    <a:pt x="8184" y="5788"/>
                  </a:lnTo>
                  <a:lnTo>
                    <a:pt x="8156" y="5815"/>
                  </a:lnTo>
                  <a:lnTo>
                    <a:pt x="8130" y="5842"/>
                  </a:lnTo>
                  <a:lnTo>
                    <a:pt x="8105" y="5870"/>
                  </a:lnTo>
                  <a:lnTo>
                    <a:pt x="8103" y="5916"/>
                  </a:lnTo>
                  <a:lnTo>
                    <a:pt x="8098" y="5961"/>
                  </a:lnTo>
                  <a:lnTo>
                    <a:pt x="8091" y="6005"/>
                  </a:lnTo>
                  <a:lnTo>
                    <a:pt x="8081" y="6047"/>
                  </a:lnTo>
                  <a:lnTo>
                    <a:pt x="8067" y="6087"/>
                  </a:lnTo>
                  <a:lnTo>
                    <a:pt x="8052" y="6126"/>
                  </a:lnTo>
                  <a:lnTo>
                    <a:pt x="8034" y="6163"/>
                  </a:lnTo>
                  <a:lnTo>
                    <a:pt x="8014" y="6199"/>
                  </a:lnTo>
                  <a:lnTo>
                    <a:pt x="7992" y="6232"/>
                  </a:lnTo>
                  <a:lnTo>
                    <a:pt x="7967" y="6264"/>
                  </a:lnTo>
                  <a:lnTo>
                    <a:pt x="7942" y="6293"/>
                  </a:lnTo>
                  <a:lnTo>
                    <a:pt x="7915" y="6321"/>
                  </a:lnTo>
                  <a:lnTo>
                    <a:pt x="7886" y="6346"/>
                  </a:lnTo>
                  <a:lnTo>
                    <a:pt x="7856" y="6369"/>
                  </a:lnTo>
                  <a:lnTo>
                    <a:pt x="7824" y="6390"/>
                  </a:lnTo>
                  <a:lnTo>
                    <a:pt x="7791" y="6408"/>
                  </a:lnTo>
                  <a:lnTo>
                    <a:pt x="7758" y="6423"/>
                  </a:lnTo>
                  <a:lnTo>
                    <a:pt x="7725" y="6436"/>
                  </a:lnTo>
                  <a:lnTo>
                    <a:pt x="7691" y="6447"/>
                  </a:lnTo>
                  <a:lnTo>
                    <a:pt x="7655" y="6454"/>
                  </a:lnTo>
                  <a:lnTo>
                    <a:pt x="7620" y="6459"/>
                  </a:lnTo>
                  <a:lnTo>
                    <a:pt x="7584" y="6461"/>
                  </a:lnTo>
                  <a:lnTo>
                    <a:pt x="7549" y="6459"/>
                  </a:lnTo>
                  <a:lnTo>
                    <a:pt x="7515" y="6455"/>
                  </a:lnTo>
                  <a:lnTo>
                    <a:pt x="7479" y="6448"/>
                  </a:lnTo>
                  <a:lnTo>
                    <a:pt x="7445" y="6438"/>
                  </a:lnTo>
                  <a:lnTo>
                    <a:pt x="7412" y="6424"/>
                  </a:lnTo>
                  <a:lnTo>
                    <a:pt x="7378" y="6406"/>
                  </a:lnTo>
                  <a:lnTo>
                    <a:pt x="7347" y="6385"/>
                  </a:lnTo>
                  <a:lnTo>
                    <a:pt x="7316" y="6361"/>
                  </a:lnTo>
                  <a:lnTo>
                    <a:pt x="7286" y="6333"/>
                  </a:lnTo>
                  <a:lnTo>
                    <a:pt x="7258" y="6302"/>
                  </a:lnTo>
                  <a:lnTo>
                    <a:pt x="7244" y="6336"/>
                  </a:lnTo>
                  <a:lnTo>
                    <a:pt x="7230" y="6370"/>
                  </a:lnTo>
                  <a:lnTo>
                    <a:pt x="7218" y="6407"/>
                  </a:lnTo>
                  <a:lnTo>
                    <a:pt x="7205" y="6443"/>
                  </a:lnTo>
                  <a:lnTo>
                    <a:pt x="7179" y="6518"/>
                  </a:lnTo>
                  <a:lnTo>
                    <a:pt x="7154" y="6597"/>
                  </a:lnTo>
                  <a:lnTo>
                    <a:pt x="7105" y="6757"/>
                  </a:lnTo>
                  <a:lnTo>
                    <a:pt x="7055" y="6918"/>
                  </a:lnTo>
                  <a:lnTo>
                    <a:pt x="7028" y="6998"/>
                  </a:lnTo>
                  <a:lnTo>
                    <a:pt x="7000" y="7076"/>
                  </a:lnTo>
                  <a:lnTo>
                    <a:pt x="6985" y="7115"/>
                  </a:lnTo>
                  <a:lnTo>
                    <a:pt x="6970" y="7153"/>
                  </a:lnTo>
                  <a:lnTo>
                    <a:pt x="6954" y="7190"/>
                  </a:lnTo>
                  <a:lnTo>
                    <a:pt x="6938" y="7227"/>
                  </a:lnTo>
                  <a:lnTo>
                    <a:pt x="6922" y="7263"/>
                  </a:lnTo>
                  <a:lnTo>
                    <a:pt x="6904" y="7297"/>
                  </a:lnTo>
                  <a:lnTo>
                    <a:pt x="6886" y="7331"/>
                  </a:lnTo>
                  <a:lnTo>
                    <a:pt x="6868" y="7364"/>
                  </a:lnTo>
                  <a:lnTo>
                    <a:pt x="6849" y="7396"/>
                  </a:lnTo>
                  <a:lnTo>
                    <a:pt x="6828" y="7426"/>
                  </a:lnTo>
                  <a:lnTo>
                    <a:pt x="6808" y="7455"/>
                  </a:lnTo>
                  <a:lnTo>
                    <a:pt x="6785" y="7483"/>
                  </a:lnTo>
                  <a:lnTo>
                    <a:pt x="6775" y="7579"/>
                  </a:lnTo>
                  <a:lnTo>
                    <a:pt x="6765" y="7668"/>
                  </a:lnTo>
                  <a:lnTo>
                    <a:pt x="6757" y="7750"/>
                  </a:lnTo>
                  <a:lnTo>
                    <a:pt x="6752" y="7825"/>
                  </a:lnTo>
                  <a:lnTo>
                    <a:pt x="6751" y="7860"/>
                  </a:lnTo>
                  <a:lnTo>
                    <a:pt x="6750" y="7894"/>
                  </a:lnTo>
                  <a:lnTo>
                    <a:pt x="6750" y="7928"/>
                  </a:lnTo>
                  <a:lnTo>
                    <a:pt x="6751" y="7959"/>
                  </a:lnTo>
                  <a:lnTo>
                    <a:pt x="6754" y="7990"/>
                  </a:lnTo>
                  <a:lnTo>
                    <a:pt x="6757" y="8020"/>
                  </a:lnTo>
                  <a:lnTo>
                    <a:pt x="6762" y="8049"/>
                  </a:lnTo>
                  <a:lnTo>
                    <a:pt x="6767" y="8077"/>
                  </a:lnTo>
                  <a:lnTo>
                    <a:pt x="6774" y="8103"/>
                  </a:lnTo>
                  <a:lnTo>
                    <a:pt x="6782" y="8130"/>
                  </a:lnTo>
                  <a:lnTo>
                    <a:pt x="6792" y="8157"/>
                  </a:lnTo>
                  <a:lnTo>
                    <a:pt x="6803" y="8183"/>
                  </a:lnTo>
                  <a:lnTo>
                    <a:pt x="6815" y="8208"/>
                  </a:lnTo>
                  <a:lnTo>
                    <a:pt x="6829" y="8232"/>
                  </a:lnTo>
                  <a:lnTo>
                    <a:pt x="6844" y="8257"/>
                  </a:lnTo>
                  <a:lnTo>
                    <a:pt x="6862" y="8282"/>
                  </a:lnTo>
                  <a:lnTo>
                    <a:pt x="6881" y="8306"/>
                  </a:lnTo>
                  <a:lnTo>
                    <a:pt x="6902" y="8331"/>
                  </a:lnTo>
                  <a:lnTo>
                    <a:pt x="6925" y="8355"/>
                  </a:lnTo>
                  <a:lnTo>
                    <a:pt x="6949" y="8381"/>
                  </a:lnTo>
                  <a:lnTo>
                    <a:pt x="6975" y="8406"/>
                  </a:lnTo>
                  <a:lnTo>
                    <a:pt x="7004" y="8432"/>
                  </a:lnTo>
                  <a:lnTo>
                    <a:pt x="7035" y="8458"/>
                  </a:lnTo>
                  <a:lnTo>
                    <a:pt x="7069" y="8484"/>
                  </a:lnTo>
                  <a:lnTo>
                    <a:pt x="7086" y="8484"/>
                  </a:lnTo>
                  <a:lnTo>
                    <a:pt x="7115" y="8484"/>
                  </a:lnTo>
                  <a:lnTo>
                    <a:pt x="7151" y="8484"/>
                  </a:lnTo>
                  <a:lnTo>
                    <a:pt x="7192" y="8484"/>
                  </a:lnTo>
                  <a:lnTo>
                    <a:pt x="7233" y="8484"/>
                  </a:lnTo>
                  <a:lnTo>
                    <a:pt x="7269" y="8484"/>
                  </a:lnTo>
                  <a:lnTo>
                    <a:pt x="7298" y="8484"/>
                  </a:lnTo>
                  <a:lnTo>
                    <a:pt x="7316" y="8484"/>
                  </a:lnTo>
                  <a:lnTo>
                    <a:pt x="7327" y="8498"/>
                  </a:lnTo>
                  <a:lnTo>
                    <a:pt x="7338" y="8510"/>
                  </a:lnTo>
                  <a:lnTo>
                    <a:pt x="7350" y="8522"/>
                  </a:lnTo>
                  <a:lnTo>
                    <a:pt x="7362" y="8532"/>
                  </a:lnTo>
                  <a:lnTo>
                    <a:pt x="7370" y="8537"/>
                  </a:lnTo>
                  <a:lnTo>
                    <a:pt x="7376" y="8541"/>
                  </a:lnTo>
                  <a:lnTo>
                    <a:pt x="7385" y="8545"/>
                  </a:lnTo>
                  <a:lnTo>
                    <a:pt x="7392" y="8547"/>
                  </a:lnTo>
                  <a:lnTo>
                    <a:pt x="7401" y="8551"/>
                  </a:lnTo>
                  <a:lnTo>
                    <a:pt x="7411" y="8553"/>
                  </a:lnTo>
                  <a:lnTo>
                    <a:pt x="7420" y="8554"/>
                  </a:lnTo>
                  <a:lnTo>
                    <a:pt x="7431" y="8554"/>
                  </a:lnTo>
                  <a:lnTo>
                    <a:pt x="7431" y="8560"/>
                  </a:lnTo>
                  <a:lnTo>
                    <a:pt x="7432" y="8567"/>
                  </a:lnTo>
                  <a:lnTo>
                    <a:pt x="7434" y="8573"/>
                  </a:lnTo>
                  <a:lnTo>
                    <a:pt x="7436" y="8580"/>
                  </a:lnTo>
                  <a:lnTo>
                    <a:pt x="7442" y="8591"/>
                  </a:lnTo>
                  <a:lnTo>
                    <a:pt x="7449" y="8601"/>
                  </a:lnTo>
                  <a:lnTo>
                    <a:pt x="7454" y="8606"/>
                  </a:lnTo>
                  <a:lnTo>
                    <a:pt x="7458" y="8611"/>
                  </a:lnTo>
                  <a:lnTo>
                    <a:pt x="7462" y="8614"/>
                  </a:lnTo>
                  <a:lnTo>
                    <a:pt x="7467" y="8617"/>
                  </a:lnTo>
                  <a:lnTo>
                    <a:pt x="7473" y="8619"/>
                  </a:lnTo>
                  <a:lnTo>
                    <a:pt x="7478" y="8621"/>
                  </a:lnTo>
                  <a:lnTo>
                    <a:pt x="7484" y="8623"/>
                  </a:lnTo>
                  <a:lnTo>
                    <a:pt x="7489" y="8623"/>
                  </a:lnTo>
                  <a:lnTo>
                    <a:pt x="7484" y="8623"/>
                  </a:lnTo>
                  <a:lnTo>
                    <a:pt x="7478" y="8621"/>
                  </a:lnTo>
                  <a:lnTo>
                    <a:pt x="7473" y="8619"/>
                  </a:lnTo>
                  <a:lnTo>
                    <a:pt x="7467" y="8617"/>
                  </a:lnTo>
                  <a:lnTo>
                    <a:pt x="7459" y="8612"/>
                  </a:lnTo>
                  <a:lnTo>
                    <a:pt x="7452" y="8605"/>
                  </a:lnTo>
                  <a:lnTo>
                    <a:pt x="7450" y="8602"/>
                  </a:lnTo>
                  <a:lnTo>
                    <a:pt x="7448" y="8599"/>
                  </a:lnTo>
                  <a:lnTo>
                    <a:pt x="7448" y="8597"/>
                  </a:lnTo>
                  <a:lnTo>
                    <a:pt x="7448" y="8594"/>
                  </a:lnTo>
                  <a:lnTo>
                    <a:pt x="7449" y="8591"/>
                  </a:lnTo>
                  <a:lnTo>
                    <a:pt x="7451" y="8590"/>
                  </a:lnTo>
                  <a:lnTo>
                    <a:pt x="7455" y="8589"/>
                  </a:lnTo>
                  <a:lnTo>
                    <a:pt x="7460" y="85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31000" y="3521160"/>
              <a:ext cx="383400" cy="144360"/>
            </a:xfrm>
            <a:custGeom>
              <a:avLst/>
              <a:gdLst/>
              <a:ahLst/>
              <a:rect l="l" t="t" r="r" b="b"/>
              <a:pathLst>
                <a:path w="2229" h="915">
                  <a:moveTo>
                    <a:pt x="2229" y="370"/>
                  </a:moveTo>
                  <a:lnTo>
                    <a:pt x="2225" y="384"/>
                  </a:lnTo>
                  <a:lnTo>
                    <a:pt x="2221" y="396"/>
                  </a:lnTo>
                  <a:lnTo>
                    <a:pt x="2217" y="409"/>
                  </a:lnTo>
                  <a:lnTo>
                    <a:pt x="2210" y="419"/>
                  </a:lnTo>
                  <a:lnTo>
                    <a:pt x="2203" y="430"/>
                  </a:lnTo>
                  <a:lnTo>
                    <a:pt x="2195" y="441"/>
                  </a:lnTo>
                  <a:lnTo>
                    <a:pt x="2187" y="451"/>
                  </a:lnTo>
                  <a:lnTo>
                    <a:pt x="2178" y="460"/>
                  </a:lnTo>
                  <a:lnTo>
                    <a:pt x="2169" y="470"/>
                  </a:lnTo>
                  <a:lnTo>
                    <a:pt x="2158" y="478"/>
                  </a:lnTo>
                  <a:lnTo>
                    <a:pt x="2147" y="486"/>
                  </a:lnTo>
                  <a:lnTo>
                    <a:pt x="2135" y="494"/>
                  </a:lnTo>
                  <a:lnTo>
                    <a:pt x="2112" y="509"/>
                  </a:lnTo>
                  <a:lnTo>
                    <a:pt x="2086" y="523"/>
                  </a:lnTo>
                  <a:lnTo>
                    <a:pt x="2031" y="549"/>
                  </a:lnTo>
                  <a:lnTo>
                    <a:pt x="1977" y="573"/>
                  </a:lnTo>
                  <a:lnTo>
                    <a:pt x="1950" y="586"/>
                  </a:lnTo>
                  <a:lnTo>
                    <a:pt x="1924" y="597"/>
                  </a:lnTo>
                  <a:lnTo>
                    <a:pt x="1900" y="610"/>
                  </a:lnTo>
                  <a:lnTo>
                    <a:pt x="1878" y="624"/>
                  </a:lnTo>
                  <a:lnTo>
                    <a:pt x="1866" y="632"/>
                  </a:lnTo>
                  <a:lnTo>
                    <a:pt x="1853" y="640"/>
                  </a:lnTo>
                  <a:lnTo>
                    <a:pt x="1840" y="651"/>
                  </a:lnTo>
                  <a:lnTo>
                    <a:pt x="1825" y="664"/>
                  </a:lnTo>
                  <a:lnTo>
                    <a:pt x="1794" y="691"/>
                  </a:lnTo>
                  <a:lnTo>
                    <a:pt x="1761" y="720"/>
                  </a:lnTo>
                  <a:lnTo>
                    <a:pt x="1726" y="750"/>
                  </a:lnTo>
                  <a:lnTo>
                    <a:pt x="1689" y="777"/>
                  </a:lnTo>
                  <a:lnTo>
                    <a:pt x="1672" y="789"/>
                  </a:lnTo>
                  <a:lnTo>
                    <a:pt x="1654" y="801"/>
                  </a:lnTo>
                  <a:lnTo>
                    <a:pt x="1636" y="811"/>
                  </a:lnTo>
                  <a:lnTo>
                    <a:pt x="1618" y="819"/>
                  </a:lnTo>
                  <a:lnTo>
                    <a:pt x="1585" y="829"/>
                  </a:lnTo>
                  <a:lnTo>
                    <a:pt x="1551" y="839"/>
                  </a:lnTo>
                  <a:lnTo>
                    <a:pt x="1515" y="847"/>
                  </a:lnTo>
                  <a:lnTo>
                    <a:pt x="1480" y="856"/>
                  </a:lnTo>
                  <a:lnTo>
                    <a:pt x="1444" y="864"/>
                  </a:lnTo>
                  <a:lnTo>
                    <a:pt x="1406" y="872"/>
                  </a:lnTo>
                  <a:lnTo>
                    <a:pt x="1368" y="878"/>
                  </a:lnTo>
                  <a:lnTo>
                    <a:pt x="1331" y="885"/>
                  </a:lnTo>
                  <a:lnTo>
                    <a:pt x="1292" y="891"/>
                  </a:lnTo>
                  <a:lnTo>
                    <a:pt x="1253" y="897"/>
                  </a:lnTo>
                  <a:lnTo>
                    <a:pt x="1213" y="901"/>
                  </a:lnTo>
                  <a:lnTo>
                    <a:pt x="1173" y="905"/>
                  </a:lnTo>
                  <a:lnTo>
                    <a:pt x="1134" y="908"/>
                  </a:lnTo>
                  <a:lnTo>
                    <a:pt x="1094" y="912"/>
                  </a:lnTo>
                  <a:lnTo>
                    <a:pt x="1053" y="913"/>
                  </a:lnTo>
                  <a:lnTo>
                    <a:pt x="1013" y="914"/>
                  </a:lnTo>
                  <a:lnTo>
                    <a:pt x="973" y="915"/>
                  </a:lnTo>
                  <a:lnTo>
                    <a:pt x="933" y="914"/>
                  </a:lnTo>
                  <a:lnTo>
                    <a:pt x="893" y="913"/>
                  </a:lnTo>
                  <a:lnTo>
                    <a:pt x="853" y="910"/>
                  </a:lnTo>
                  <a:lnTo>
                    <a:pt x="813" y="906"/>
                  </a:lnTo>
                  <a:lnTo>
                    <a:pt x="774" y="902"/>
                  </a:lnTo>
                  <a:lnTo>
                    <a:pt x="735" y="897"/>
                  </a:lnTo>
                  <a:lnTo>
                    <a:pt x="696" y="890"/>
                  </a:lnTo>
                  <a:lnTo>
                    <a:pt x="658" y="883"/>
                  </a:lnTo>
                  <a:lnTo>
                    <a:pt x="621" y="874"/>
                  </a:lnTo>
                  <a:lnTo>
                    <a:pt x="583" y="864"/>
                  </a:lnTo>
                  <a:lnTo>
                    <a:pt x="547" y="854"/>
                  </a:lnTo>
                  <a:lnTo>
                    <a:pt x="512" y="841"/>
                  </a:lnTo>
                  <a:lnTo>
                    <a:pt x="476" y="828"/>
                  </a:lnTo>
                  <a:lnTo>
                    <a:pt x="442" y="813"/>
                  </a:lnTo>
                  <a:lnTo>
                    <a:pt x="409" y="797"/>
                  </a:lnTo>
                  <a:lnTo>
                    <a:pt x="400" y="793"/>
                  </a:lnTo>
                  <a:lnTo>
                    <a:pt x="390" y="787"/>
                  </a:lnTo>
                  <a:lnTo>
                    <a:pt x="381" y="781"/>
                  </a:lnTo>
                  <a:lnTo>
                    <a:pt x="370" y="773"/>
                  </a:lnTo>
                  <a:lnTo>
                    <a:pt x="345" y="755"/>
                  </a:lnTo>
                  <a:lnTo>
                    <a:pt x="320" y="731"/>
                  </a:lnTo>
                  <a:lnTo>
                    <a:pt x="293" y="706"/>
                  </a:lnTo>
                  <a:lnTo>
                    <a:pt x="265" y="678"/>
                  </a:lnTo>
                  <a:lnTo>
                    <a:pt x="237" y="647"/>
                  </a:lnTo>
                  <a:lnTo>
                    <a:pt x="209" y="616"/>
                  </a:lnTo>
                  <a:lnTo>
                    <a:pt x="182" y="582"/>
                  </a:lnTo>
                  <a:lnTo>
                    <a:pt x="158" y="550"/>
                  </a:lnTo>
                  <a:lnTo>
                    <a:pt x="135" y="517"/>
                  </a:lnTo>
                  <a:lnTo>
                    <a:pt x="115" y="486"/>
                  </a:lnTo>
                  <a:lnTo>
                    <a:pt x="106" y="471"/>
                  </a:lnTo>
                  <a:lnTo>
                    <a:pt x="98" y="456"/>
                  </a:lnTo>
                  <a:lnTo>
                    <a:pt x="91" y="442"/>
                  </a:lnTo>
                  <a:lnTo>
                    <a:pt x="86" y="428"/>
                  </a:lnTo>
                  <a:lnTo>
                    <a:pt x="80" y="415"/>
                  </a:lnTo>
                  <a:lnTo>
                    <a:pt x="77" y="403"/>
                  </a:lnTo>
                  <a:lnTo>
                    <a:pt x="75" y="393"/>
                  </a:lnTo>
                  <a:lnTo>
                    <a:pt x="75" y="382"/>
                  </a:lnTo>
                  <a:lnTo>
                    <a:pt x="0" y="267"/>
                  </a:lnTo>
                  <a:lnTo>
                    <a:pt x="39" y="241"/>
                  </a:lnTo>
                  <a:lnTo>
                    <a:pt x="80" y="217"/>
                  </a:lnTo>
                  <a:lnTo>
                    <a:pt x="123" y="191"/>
                  </a:lnTo>
                  <a:lnTo>
                    <a:pt x="168" y="166"/>
                  </a:lnTo>
                  <a:lnTo>
                    <a:pt x="213" y="142"/>
                  </a:lnTo>
                  <a:lnTo>
                    <a:pt x="257" y="119"/>
                  </a:lnTo>
                  <a:lnTo>
                    <a:pt x="301" y="97"/>
                  </a:lnTo>
                  <a:lnTo>
                    <a:pt x="344" y="76"/>
                  </a:lnTo>
                  <a:lnTo>
                    <a:pt x="385" y="57"/>
                  </a:lnTo>
                  <a:lnTo>
                    <a:pt x="424" y="41"/>
                  </a:lnTo>
                  <a:lnTo>
                    <a:pt x="459" y="27"/>
                  </a:lnTo>
                  <a:lnTo>
                    <a:pt x="490" y="15"/>
                  </a:lnTo>
                  <a:lnTo>
                    <a:pt x="517" y="7"/>
                  </a:lnTo>
                  <a:lnTo>
                    <a:pt x="538" y="1"/>
                  </a:lnTo>
                  <a:lnTo>
                    <a:pt x="547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4" y="2"/>
                  </a:lnTo>
                  <a:lnTo>
                    <a:pt x="574" y="5"/>
                  </a:lnTo>
                  <a:lnTo>
                    <a:pt x="591" y="9"/>
                  </a:lnTo>
                  <a:lnTo>
                    <a:pt x="613" y="12"/>
                  </a:lnTo>
                  <a:lnTo>
                    <a:pt x="641" y="16"/>
                  </a:lnTo>
                  <a:lnTo>
                    <a:pt x="673" y="19"/>
                  </a:lnTo>
                  <a:lnTo>
                    <a:pt x="710" y="23"/>
                  </a:lnTo>
                  <a:lnTo>
                    <a:pt x="749" y="25"/>
                  </a:lnTo>
                  <a:lnTo>
                    <a:pt x="790" y="27"/>
                  </a:lnTo>
                  <a:lnTo>
                    <a:pt x="833" y="29"/>
                  </a:lnTo>
                  <a:lnTo>
                    <a:pt x="876" y="30"/>
                  </a:lnTo>
                  <a:lnTo>
                    <a:pt x="920" y="30"/>
                  </a:lnTo>
                  <a:lnTo>
                    <a:pt x="963" y="29"/>
                  </a:lnTo>
                  <a:lnTo>
                    <a:pt x="1004" y="27"/>
                  </a:lnTo>
                  <a:lnTo>
                    <a:pt x="1044" y="24"/>
                  </a:lnTo>
                  <a:lnTo>
                    <a:pt x="1079" y="19"/>
                  </a:lnTo>
                  <a:lnTo>
                    <a:pt x="1111" y="13"/>
                  </a:lnTo>
                  <a:lnTo>
                    <a:pt x="1142" y="8"/>
                  </a:lnTo>
                  <a:lnTo>
                    <a:pt x="1172" y="4"/>
                  </a:lnTo>
                  <a:lnTo>
                    <a:pt x="1203" y="4"/>
                  </a:lnTo>
                  <a:lnTo>
                    <a:pt x="1235" y="5"/>
                  </a:lnTo>
                  <a:lnTo>
                    <a:pt x="1267" y="10"/>
                  </a:lnTo>
                  <a:lnTo>
                    <a:pt x="1299" y="16"/>
                  </a:lnTo>
                  <a:lnTo>
                    <a:pt x="1332" y="24"/>
                  </a:lnTo>
                  <a:lnTo>
                    <a:pt x="1364" y="33"/>
                  </a:lnTo>
                  <a:lnTo>
                    <a:pt x="1397" y="44"/>
                  </a:lnTo>
                  <a:lnTo>
                    <a:pt x="1431" y="56"/>
                  </a:lnTo>
                  <a:lnTo>
                    <a:pt x="1465" y="70"/>
                  </a:lnTo>
                  <a:lnTo>
                    <a:pt x="1499" y="85"/>
                  </a:lnTo>
                  <a:lnTo>
                    <a:pt x="1568" y="117"/>
                  </a:lnTo>
                  <a:lnTo>
                    <a:pt x="1638" y="151"/>
                  </a:lnTo>
                  <a:lnTo>
                    <a:pt x="1708" y="187"/>
                  </a:lnTo>
                  <a:lnTo>
                    <a:pt x="1780" y="223"/>
                  </a:lnTo>
                  <a:lnTo>
                    <a:pt x="1817" y="240"/>
                  </a:lnTo>
                  <a:lnTo>
                    <a:pt x="1853" y="257"/>
                  </a:lnTo>
                  <a:lnTo>
                    <a:pt x="1890" y="274"/>
                  </a:lnTo>
                  <a:lnTo>
                    <a:pt x="1927" y="290"/>
                  </a:lnTo>
                  <a:lnTo>
                    <a:pt x="1964" y="305"/>
                  </a:lnTo>
                  <a:lnTo>
                    <a:pt x="2001" y="319"/>
                  </a:lnTo>
                  <a:lnTo>
                    <a:pt x="2039" y="331"/>
                  </a:lnTo>
                  <a:lnTo>
                    <a:pt x="2076" y="342"/>
                  </a:lnTo>
                  <a:lnTo>
                    <a:pt x="2115" y="352"/>
                  </a:lnTo>
                  <a:lnTo>
                    <a:pt x="2152" y="360"/>
                  </a:lnTo>
                  <a:lnTo>
                    <a:pt x="2191" y="366"/>
                  </a:lnTo>
                  <a:lnTo>
                    <a:pt x="2229" y="370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31000" y="3521160"/>
              <a:ext cx="383400" cy="144360"/>
            </a:xfrm>
            <a:custGeom>
              <a:avLst/>
              <a:gdLst/>
              <a:ahLst/>
              <a:rect l="l" t="t" r="r" b="b"/>
              <a:pathLst>
                <a:path w="2229" h="915">
                  <a:moveTo>
                    <a:pt x="2229" y="370"/>
                  </a:moveTo>
                  <a:lnTo>
                    <a:pt x="2225" y="384"/>
                  </a:lnTo>
                  <a:lnTo>
                    <a:pt x="2221" y="396"/>
                  </a:lnTo>
                  <a:lnTo>
                    <a:pt x="2217" y="409"/>
                  </a:lnTo>
                  <a:lnTo>
                    <a:pt x="2210" y="419"/>
                  </a:lnTo>
                  <a:lnTo>
                    <a:pt x="2203" y="430"/>
                  </a:lnTo>
                  <a:lnTo>
                    <a:pt x="2195" y="441"/>
                  </a:lnTo>
                  <a:lnTo>
                    <a:pt x="2187" y="451"/>
                  </a:lnTo>
                  <a:lnTo>
                    <a:pt x="2178" y="460"/>
                  </a:lnTo>
                  <a:lnTo>
                    <a:pt x="2169" y="470"/>
                  </a:lnTo>
                  <a:lnTo>
                    <a:pt x="2158" y="478"/>
                  </a:lnTo>
                  <a:lnTo>
                    <a:pt x="2147" y="486"/>
                  </a:lnTo>
                  <a:lnTo>
                    <a:pt x="2135" y="494"/>
                  </a:lnTo>
                  <a:lnTo>
                    <a:pt x="2112" y="509"/>
                  </a:lnTo>
                  <a:lnTo>
                    <a:pt x="2086" y="523"/>
                  </a:lnTo>
                  <a:lnTo>
                    <a:pt x="2031" y="549"/>
                  </a:lnTo>
                  <a:lnTo>
                    <a:pt x="1977" y="573"/>
                  </a:lnTo>
                  <a:lnTo>
                    <a:pt x="1950" y="586"/>
                  </a:lnTo>
                  <a:lnTo>
                    <a:pt x="1924" y="597"/>
                  </a:lnTo>
                  <a:lnTo>
                    <a:pt x="1900" y="610"/>
                  </a:lnTo>
                  <a:lnTo>
                    <a:pt x="1878" y="624"/>
                  </a:lnTo>
                  <a:lnTo>
                    <a:pt x="1866" y="632"/>
                  </a:lnTo>
                  <a:lnTo>
                    <a:pt x="1853" y="640"/>
                  </a:lnTo>
                  <a:lnTo>
                    <a:pt x="1840" y="651"/>
                  </a:lnTo>
                  <a:lnTo>
                    <a:pt x="1825" y="664"/>
                  </a:lnTo>
                  <a:lnTo>
                    <a:pt x="1794" y="691"/>
                  </a:lnTo>
                  <a:lnTo>
                    <a:pt x="1761" y="720"/>
                  </a:lnTo>
                  <a:lnTo>
                    <a:pt x="1726" y="750"/>
                  </a:lnTo>
                  <a:lnTo>
                    <a:pt x="1689" y="777"/>
                  </a:lnTo>
                  <a:lnTo>
                    <a:pt x="1672" y="789"/>
                  </a:lnTo>
                  <a:lnTo>
                    <a:pt x="1654" y="801"/>
                  </a:lnTo>
                  <a:lnTo>
                    <a:pt x="1636" y="811"/>
                  </a:lnTo>
                  <a:lnTo>
                    <a:pt x="1618" y="819"/>
                  </a:lnTo>
                  <a:lnTo>
                    <a:pt x="1585" y="829"/>
                  </a:lnTo>
                  <a:lnTo>
                    <a:pt x="1551" y="839"/>
                  </a:lnTo>
                  <a:lnTo>
                    <a:pt x="1515" y="847"/>
                  </a:lnTo>
                  <a:lnTo>
                    <a:pt x="1480" y="856"/>
                  </a:lnTo>
                  <a:lnTo>
                    <a:pt x="1444" y="864"/>
                  </a:lnTo>
                  <a:lnTo>
                    <a:pt x="1406" y="872"/>
                  </a:lnTo>
                  <a:lnTo>
                    <a:pt x="1368" y="878"/>
                  </a:lnTo>
                  <a:lnTo>
                    <a:pt x="1331" y="885"/>
                  </a:lnTo>
                  <a:lnTo>
                    <a:pt x="1292" y="891"/>
                  </a:lnTo>
                  <a:lnTo>
                    <a:pt x="1253" y="897"/>
                  </a:lnTo>
                  <a:lnTo>
                    <a:pt x="1213" y="901"/>
                  </a:lnTo>
                  <a:lnTo>
                    <a:pt x="1173" y="905"/>
                  </a:lnTo>
                  <a:lnTo>
                    <a:pt x="1134" y="908"/>
                  </a:lnTo>
                  <a:lnTo>
                    <a:pt x="1094" y="912"/>
                  </a:lnTo>
                  <a:lnTo>
                    <a:pt x="1053" y="913"/>
                  </a:lnTo>
                  <a:lnTo>
                    <a:pt x="1013" y="914"/>
                  </a:lnTo>
                  <a:lnTo>
                    <a:pt x="973" y="915"/>
                  </a:lnTo>
                  <a:lnTo>
                    <a:pt x="933" y="914"/>
                  </a:lnTo>
                  <a:lnTo>
                    <a:pt x="893" y="913"/>
                  </a:lnTo>
                  <a:lnTo>
                    <a:pt x="853" y="910"/>
                  </a:lnTo>
                  <a:lnTo>
                    <a:pt x="813" y="906"/>
                  </a:lnTo>
                  <a:lnTo>
                    <a:pt x="774" y="902"/>
                  </a:lnTo>
                  <a:lnTo>
                    <a:pt x="735" y="897"/>
                  </a:lnTo>
                  <a:lnTo>
                    <a:pt x="696" y="890"/>
                  </a:lnTo>
                  <a:lnTo>
                    <a:pt x="658" y="883"/>
                  </a:lnTo>
                  <a:lnTo>
                    <a:pt x="621" y="874"/>
                  </a:lnTo>
                  <a:lnTo>
                    <a:pt x="583" y="864"/>
                  </a:lnTo>
                  <a:lnTo>
                    <a:pt x="547" y="854"/>
                  </a:lnTo>
                  <a:lnTo>
                    <a:pt x="512" y="841"/>
                  </a:lnTo>
                  <a:lnTo>
                    <a:pt x="476" y="828"/>
                  </a:lnTo>
                  <a:lnTo>
                    <a:pt x="442" y="813"/>
                  </a:lnTo>
                  <a:lnTo>
                    <a:pt x="409" y="797"/>
                  </a:lnTo>
                  <a:lnTo>
                    <a:pt x="400" y="793"/>
                  </a:lnTo>
                  <a:lnTo>
                    <a:pt x="390" y="787"/>
                  </a:lnTo>
                  <a:lnTo>
                    <a:pt x="381" y="781"/>
                  </a:lnTo>
                  <a:lnTo>
                    <a:pt x="370" y="773"/>
                  </a:lnTo>
                  <a:lnTo>
                    <a:pt x="345" y="755"/>
                  </a:lnTo>
                  <a:lnTo>
                    <a:pt x="320" y="731"/>
                  </a:lnTo>
                  <a:lnTo>
                    <a:pt x="293" y="706"/>
                  </a:lnTo>
                  <a:lnTo>
                    <a:pt x="265" y="678"/>
                  </a:lnTo>
                  <a:lnTo>
                    <a:pt x="237" y="647"/>
                  </a:lnTo>
                  <a:lnTo>
                    <a:pt x="209" y="616"/>
                  </a:lnTo>
                  <a:lnTo>
                    <a:pt x="182" y="582"/>
                  </a:lnTo>
                  <a:lnTo>
                    <a:pt x="158" y="550"/>
                  </a:lnTo>
                  <a:lnTo>
                    <a:pt x="135" y="517"/>
                  </a:lnTo>
                  <a:lnTo>
                    <a:pt x="115" y="486"/>
                  </a:lnTo>
                  <a:lnTo>
                    <a:pt x="106" y="471"/>
                  </a:lnTo>
                  <a:lnTo>
                    <a:pt x="98" y="456"/>
                  </a:lnTo>
                  <a:lnTo>
                    <a:pt x="91" y="442"/>
                  </a:lnTo>
                  <a:lnTo>
                    <a:pt x="86" y="428"/>
                  </a:lnTo>
                  <a:lnTo>
                    <a:pt x="80" y="415"/>
                  </a:lnTo>
                  <a:lnTo>
                    <a:pt x="77" y="403"/>
                  </a:lnTo>
                  <a:lnTo>
                    <a:pt x="75" y="393"/>
                  </a:lnTo>
                  <a:lnTo>
                    <a:pt x="75" y="382"/>
                  </a:lnTo>
                  <a:lnTo>
                    <a:pt x="0" y="267"/>
                  </a:lnTo>
                  <a:lnTo>
                    <a:pt x="39" y="241"/>
                  </a:lnTo>
                  <a:lnTo>
                    <a:pt x="80" y="217"/>
                  </a:lnTo>
                  <a:lnTo>
                    <a:pt x="123" y="191"/>
                  </a:lnTo>
                  <a:lnTo>
                    <a:pt x="168" y="166"/>
                  </a:lnTo>
                  <a:lnTo>
                    <a:pt x="213" y="142"/>
                  </a:lnTo>
                  <a:lnTo>
                    <a:pt x="257" y="119"/>
                  </a:lnTo>
                  <a:lnTo>
                    <a:pt x="301" y="97"/>
                  </a:lnTo>
                  <a:lnTo>
                    <a:pt x="344" y="76"/>
                  </a:lnTo>
                  <a:lnTo>
                    <a:pt x="385" y="57"/>
                  </a:lnTo>
                  <a:lnTo>
                    <a:pt x="424" y="41"/>
                  </a:lnTo>
                  <a:lnTo>
                    <a:pt x="459" y="27"/>
                  </a:lnTo>
                  <a:lnTo>
                    <a:pt x="490" y="15"/>
                  </a:lnTo>
                  <a:lnTo>
                    <a:pt x="517" y="7"/>
                  </a:lnTo>
                  <a:lnTo>
                    <a:pt x="538" y="1"/>
                  </a:lnTo>
                  <a:lnTo>
                    <a:pt x="547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4" y="2"/>
                  </a:lnTo>
                  <a:lnTo>
                    <a:pt x="574" y="5"/>
                  </a:lnTo>
                  <a:lnTo>
                    <a:pt x="591" y="9"/>
                  </a:lnTo>
                  <a:lnTo>
                    <a:pt x="613" y="12"/>
                  </a:lnTo>
                  <a:lnTo>
                    <a:pt x="641" y="16"/>
                  </a:lnTo>
                  <a:lnTo>
                    <a:pt x="673" y="19"/>
                  </a:lnTo>
                  <a:lnTo>
                    <a:pt x="710" y="23"/>
                  </a:lnTo>
                  <a:lnTo>
                    <a:pt x="749" y="25"/>
                  </a:lnTo>
                  <a:lnTo>
                    <a:pt x="790" y="27"/>
                  </a:lnTo>
                  <a:lnTo>
                    <a:pt x="833" y="29"/>
                  </a:lnTo>
                  <a:lnTo>
                    <a:pt x="876" y="30"/>
                  </a:lnTo>
                  <a:lnTo>
                    <a:pt x="920" y="30"/>
                  </a:lnTo>
                  <a:lnTo>
                    <a:pt x="963" y="29"/>
                  </a:lnTo>
                  <a:lnTo>
                    <a:pt x="1004" y="27"/>
                  </a:lnTo>
                  <a:lnTo>
                    <a:pt x="1044" y="24"/>
                  </a:lnTo>
                  <a:lnTo>
                    <a:pt x="1079" y="19"/>
                  </a:lnTo>
                  <a:lnTo>
                    <a:pt x="1111" y="13"/>
                  </a:lnTo>
                  <a:lnTo>
                    <a:pt x="1142" y="8"/>
                  </a:lnTo>
                  <a:lnTo>
                    <a:pt x="1172" y="4"/>
                  </a:lnTo>
                  <a:lnTo>
                    <a:pt x="1203" y="4"/>
                  </a:lnTo>
                  <a:lnTo>
                    <a:pt x="1235" y="5"/>
                  </a:lnTo>
                  <a:lnTo>
                    <a:pt x="1267" y="10"/>
                  </a:lnTo>
                  <a:lnTo>
                    <a:pt x="1299" y="16"/>
                  </a:lnTo>
                  <a:lnTo>
                    <a:pt x="1332" y="24"/>
                  </a:lnTo>
                  <a:lnTo>
                    <a:pt x="1364" y="33"/>
                  </a:lnTo>
                  <a:lnTo>
                    <a:pt x="1397" y="44"/>
                  </a:lnTo>
                  <a:lnTo>
                    <a:pt x="1431" y="56"/>
                  </a:lnTo>
                  <a:lnTo>
                    <a:pt x="1465" y="70"/>
                  </a:lnTo>
                  <a:lnTo>
                    <a:pt x="1499" y="85"/>
                  </a:lnTo>
                  <a:lnTo>
                    <a:pt x="1568" y="117"/>
                  </a:lnTo>
                  <a:lnTo>
                    <a:pt x="1638" y="151"/>
                  </a:lnTo>
                  <a:lnTo>
                    <a:pt x="1708" y="187"/>
                  </a:lnTo>
                  <a:lnTo>
                    <a:pt x="1780" y="223"/>
                  </a:lnTo>
                  <a:lnTo>
                    <a:pt x="1817" y="240"/>
                  </a:lnTo>
                  <a:lnTo>
                    <a:pt x="1853" y="257"/>
                  </a:lnTo>
                  <a:lnTo>
                    <a:pt x="1890" y="274"/>
                  </a:lnTo>
                  <a:lnTo>
                    <a:pt x="1927" y="290"/>
                  </a:lnTo>
                  <a:lnTo>
                    <a:pt x="1964" y="305"/>
                  </a:lnTo>
                  <a:lnTo>
                    <a:pt x="2001" y="319"/>
                  </a:lnTo>
                  <a:lnTo>
                    <a:pt x="2039" y="331"/>
                  </a:lnTo>
                  <a:lnTo>
                    <a:pt x="2076" y="342"/>
                  </a:lnTo>
                  <a:lnTo>
                    <a:pt x="2115" y="352"/>
                  </a:lnTo>
                  <a:lnTo>
                    <a:pt x="2152" y="360"/>
                  </a:lnTo>
                  <a:lnTo>
                    <a:pt x="2191" y="366"/>
                  </a:lnTo>
                  <a:lnTo>
                    <a:pt x="2229" y="3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69360" y="2986200"/>
              <a:ext cx="827280" cy="1458720"/>
            </a:xfrm>
            <a:custGeom>
              <a:avLst/>
              <a:gdLst/>
              <a:ahLst/>
              <a:rect l="l" t="t" r="r" b="b"/>
              <a:pathLst>
                <a:path w="4816" h="9189">
                  <a:moveTo>
                    <a:pt x="1279" y="8814"/>
                  </a:moveTo>
                  <a:lnTo>
                    <a:pt x="1475" y="9010"/>
                  </a:lnTo>
                  <a:lnTo>
                    <a:pt x="1423" y="9189"/>
                  </a:lnTo>
                  <a:lnTo>
                    <a:pt x="1601" y="9056"/>
                  </a:lnTo>
                  <a:lnTo>
                    <a:pt x="1279" y="8814"/>
                  </a:lnTo>
                  <a:close/>
                  <a:moveTo>
                    <a:pt x="3496" y="855"/>
                  </a:moveTo>
                  <a:lnTo>
                    <a:pt x="3466" y="860"/>
                  </a:lnTo>
                  <a:lnTo>
                    <a:pt x="3437" y="866"/>
                  </a:lnTo>
                  <a:lnTo>
                    <a:pt x="3410" y="874"/>
                  </a:lnTo>
                  <a:lnTo>
                    <a:pt x="3384" y="881"/>
                  </a:lnTo>
                  <a:lnTo>
                    <a:pt x="3360" y="890"/>
                  </a:lnTo>
                  <a:lnTo>
                    <a:pt x="3337" y="900"/>
                  </a:lnTo>
                  <a:lnTo>
                    <a:pt x="3315" y="909"/>
                  </a:lnTo>
                  <a:lnTo>
                    <a:pt x="3295" y="919"/>
                  </a:lnTo>
                  <a:lnTo>
                    <a:pt x="3276" y="931"/>
                  </a:lnTo>
                  <a:lnTo>
                    <a:pt x="3257" y="943"/>
                  </a:lnTo>
                  <a:lnTo>
                    <a:pt x="3239" y="955"/>
                  </a:lnTo>
                  <a:lnTo>
                    <a:pt x="3223" y="968"/>
                  </a:lnTo>
                  <a:lnTo>
                    <a:pt x="3207" y="982"/>
                  </a:lnTo>
                  <a:lnTo>
                    <a:pt x="3192" y="996"/>
                  </a:lnTo>
                  <a:lnTo>
                    <a:pt x="3177" y="1011"/>
                  </a:lnTo>
                  <a:lnTo>
                    <a:pt x="3163" y="1027"/>
                  </a:lnTo>
                  <a:lnTo>
                    <a:pt x="3185" y="1046"/>
                  </a:lnTo>
                  <a:lnTo>
                    <a:pt x="3209" y="1065"/>
                  </a:lnTo>
                  <a:lnTo>
                    <a:pt x="3234" y="1084"/>
                  </a:lnTo>
                  <a:lnTo>
                    <a:pt x="3256" y="1102"/>
                  </a:lnTo>
                  <a:lnTo>
                    <a:pt x="3276" y="1121"/>
                  </a:lnTo>
                  <a:lnTo>
                    <a:pt x="3292" y="1136"/>
                  </a:lnTo>
                  <a:lnTo>
                    <a:pt x="3298" y="1143"/>
                  </a:lnTo>
                  <a:lnTo>
                    <a:pt x="3302" y="1150"/>
                  </a:lnTo>
                  <a:lnTo>
                    <a:pt x="3306" y="1155"/>
                  </a:lnTo>
                  <a:lnTo>
                    <a:pt x="3307" y="1160"/>
                  </a:lnTo>
                  <a:lnTo>
                    <a:pt x="3059" y="1080"/>
                  </a:lnTo>
                  <a:lnTo>
                    <a:pt x="3081" y="1053"/>
                  </a:lnTo>
                  <a:lnTo>
                    <a:pt x="3106" y="1027"/>
                  </a:lnTo>
                  <a:lnTo>
                    <a:pt x="3133" y="1003"/>
                  </a:lnTo>
                  <a:lnTo>
                    <a:pt x="3161" y="979"/>
                  </a:lnTo>
                  <a:lnTo>
                    <a:pt x="3190" y="957"/>
                  </a:lnTo>
                  <a:lnTo>
                    <a:pt x="3221" y="936"/>
                  </a:lnTo>
                  <a:lnTo>
                    <a:pt x="3252" y="917"/>
                  </a:lnTo>
                  <a:lnTo>
                    <a:pt x="3285" y="899"/>
                  </a:lnTo>
                  <a:lnTo>
                    <a:pt x="3318" y="883"/>
                  </a:lnTo>
                  <a:lnTo>
                    <a:pt x="3352" y="869"/>
                  </a:lnTo>
                  <a:lnTo>
                    <a:pt x="3386" y="856"/>
                  </a:lnTo>
                  <a:lnTo>
                    <a:pt x="3420" y="845"/>
                  </a:lnTo>
                  <a:lnTo>
                    <a:pt x="3454" y="838"/>
                  </a:lnTo>
                  <a:lnTo>
                    <a:pt x="3488" y="831"/>
                  </a:lnTo>
                  <a:lnTo>
                    <a:pt x="3505" y="829"/>
                  </a:lnTo>
                  <a:lnTo>
                    <a:pt x="3521" y="827"/>
                  </a:lnTo>
                  <a:lnTo>
                    <a:pt x="3538" y="827"/>
                  </a:lnTo>
                  <a:lnTo>
                    <a:pt x="3554" y="826"/>
                  </a:lnTo>
                  <a:lnTo>
                    <a:pt x="3496" y="757"/>
                  </a:lnTo>
                  <a:lnTo>
                    <a:pt x="3482" y="757"/>
                  </a:lnTo>
                  <a:lnTo>
                    <a:pt x="3469" y="758"/>
                  </a:lnTo>
                  <a:lnTo>
                    <a:pt x="3456" y="759"/>
                  </a:lnTo>
                  <a:lnTo>
                    <a:pt x="3442" y="761"/>
                  </a:lnTo>
                  <a:lnTo>
                    <a:pt x="3415" y="768"/>
                  </a:lnTo>
                  <a:lnTo>
                    <a:pt x="3389" y="775"/>
                  </a:lnTo>
                  <a:lnTo>
                    <a:pt x="3362" y="784"/>
                  </a:lnTo>
                  <a:lnTo>
                    <a:pt x="3337" y="795"/>
                  </a:lnTo>
                  <a:lnTo>
                    <a:pt x="3310" y="807"/>
                  </a:lnTo>
                  <a:lnTo>
                    <a:pt x="3283" y="820"/>
                  </a:lnTo>
                  <a:lnTo>
                    <a:pt x="3226" y="848"/>
                  </a:lnTo>
                  <a:lnTo>
                    <a:pt x="3167" y="878"/>
                  </a:lnTo>
                  <a:lnTo>
                    <a:pt x="3135" y="893"/>
                  </a:lnTo>
                  <a:lnTo>
                    <a:pt x="3102" y="908"/>
                  </a:lnTo>
                  <a:lnTo>
                    <a:pt x="3066" y="922"/>
                  </a:lnTo>
                  <a:lnTo>
                    <a:pt x="3030" y="935"/>
                  </a:lnTo>
                  <a:lnTo>
                    <a:pt x="3047" y="928"/>
                  </a:lnTo>
                  <a:lnTo>
                    <a:pt x="3064" y="919"/>
                  </a:lnTo>
                  <a:lnTo>
                    <a:pt x="3084" y="908"/>
                  </a:lnTo>
                  <a:lnTo>
                    <a:pt x="3103" y="898"/>
                  </a:lnTo>
                  <a:lnTo>
                    <a:pt x="3123" y="885"/>
                  </a:lnTo>
                  <a:lnTo>
                    <a:pt x="3144" y="871"/>
                  </a:lnTo>
                  <a:lnTo>
                    <a:pt x="3165" y="856"/>
                  </a:lnTo>
                  <a:lnTo>
                    <a:pt x="3185" y="841"/>
                  </a:lnTo>
                  <a:lnTo>
                    <a:pt x="3206" y="826"/>
                  </a:lnTo>
                  <a:lnTo>
                    <a:pt x="3226" y="810"/>
                  </a:lnTo>
                  <a:lnTo>
                    <a:pt x="3244" y="794"/>
                  </a:lnTo>
                  <a:lnTo>
                    <a:pt x="3264" y="777"/>
                  </a:lnTo>
                  <a:lnTo>
                    <a:pt x="3281" y="761"/>
                  </a:lnTo>
                  <a:lnTo>
                    <a:pt x="3296" y="746"/>
                  </a:lnTo>
                  <a:lnTo>
                    <a:pt x="3311" y="731"/>
                  </a:lnTo>
                  <a:lnTo>
                    <a:pt x="3324" y="716"/>
                  </a:lnTo>
                  <a:lnTo>
                    <a:pt x="3401" y="716"/>
                  </a:lnTo>
                  <a:lnTo>
                    <a:pt x="3478" y="717"/>
                  </a:lnTo>
                  <a:lnTo>
                    <a:pt x="3555" y="718"/>
                  </a:lnTo>
                  <a:lnTo>
                    <a:pt x="3633" y="722"/>
                  </a:lnTo>
                  <a:lnTo>
                    <a:pt x="3670" y="725"/>
                  </a:lnTo>
                  <a:lnTo>
                    <a:pt x="3709" y="728"/>
                  </a:lnTo>
                  <a:lnTo>
                    <a:pt x="3747" y="731"/>
                  </a:lnTo>
                  <a:lnTo>
                    <a:pt x="3785" y="736"/>
                  </a:lnTo>
                  <a:lnTo>
                    <a:pt x="3822" y="741"/>
                  </a:lnTo>
                  <a:lnTo>
                    <a:pt x="3860" y="747"/>
                  </a:lnTo>
                  <a:lnTo>
                    <a:pt x="3898" y="754"/>
                  </a:lnTo>
                  <a:lnTo>
                    <a:pt x="3934" y="761"/>
                  </a:lnTo>
                  <a:lnTo>
                    <a:pt x="3970" y="771"/>
                  </a:lnTo>
                  <a:lnTo>
                    <a:pt x="4007" y="781"/>
                  </a:lnTo>
                  <a:lnTo>
                    <a:pt x="4042" y="792"/>
                  </a:lnTo>
                  <a:lnTo>
                    <a:pt x="4078" y="805"/>
                  </a:lnTo>
                  <a:lnTo>
                    <a:pt x="4113" y="819"/>
                  </a:lnTo>
                  <a:lnTo>
                    <a:pt x="4147" y="834"/>
                  </a:lnTo>
                  <a:lnTo>
                    <a:pt x="4182" y="851"/>
                  </a:lnTo>
                  <a:lnTo>
                    <a:pt x="4215" y="870"/>
                  </a:lnTo>
                  <a:lnTo>
                    <a:pt x="4247" y="890"/>
                  </a:lnTo>
                  <a:lnTo>
                    <a:pt x="4279" y="911"/>
                  </a:lnTo>
                  <a:lnTo>
                    <a:pt x="4312" y="934"/>
                  </a:lnTo>
                  <a:lnTo>
                    <a:pt x="4343" y="960"/>
                  </a:lnTo>
                  <a:lnTo>
                    <a:pt x="4373" y="987"/>
                  </a:lnTo>
                  <a:lnTo>
                    <a:pt x="4402" y="1016"/>
                  </a:lnTo>
                  <a:lnTo>
                    <a:pt x="4431" y="1047"/>
                  </a:lnTo>
                  <a:lnTo>
                    <a:pt x="4458" y="1080"/>
                  </a:lnTo>
                  <a:lnTo>
                    <a:pt x="4446" y="1102"/>
                  </a:lnTo>
                  <a:lnTo>
                    <a:pt x="4431" y="1124"/>
                  </a:lnTo>
                  <a:lnTo>
                    <a:pt x="4412" y="1143"/>
                  </a:lnTo>
                  <a:lnTo>
                    <a:pt x="4391" y="1162"/>
                  </a:lnTo>
                  <a:lnTo>
                    <a:pt x="4367" y="1181"/>
                  </a:lnTo>
                  <a:lnTo>
                    <a:pt x="4342" y="1197"/>
                  </a:lnTo>
                  <a:lnTo>
                    <a:pt x="4314" y="1212"/>
                  </a:lnTo>
                  <a:lnTo>
                    <a:pt x="4285" y="1227"/>
                  </a:lnTo>
                  <a:lnTo>
                    <a:pt x="4253" y="1240"/>
                  </a:lnTo>
                  <a:lnTo>
                    <a:pt x="4219" y="1251"/>
                  </a:lnTo>
                  <a:lnTo>
                    <a:pt x="4185" y="1262"/>
                  </a:lnTo>
                  <a:lnTo>
                    <a:pt x="4149" y="1272"/>
                  </a:lnTo>
                  <a:lnTo>
                    <a:pt x="4112" y="1280"/>
                  </a:lnTo>
                  <a:lnTo>
                    <a:pt x="4075" y="1288"/>
                  </a:lnTo>
                  <a:lnTo>
                    <a:pt x="4036" y="1295"/>
                  </a:lnTo>
                  <a:lnTo>
                    <a:pt x="3997" y="1301"/>
                  </a:lnTo>
                  <a:lnTo>
                    <a:pt x="3959" y="1305"/>
                  </a:lnTo>
                  <a:lnTo>
                    <a:pt x="3920" y="1308"/>
                  </a:lnTo>
                  <a:lnTo>
                    <a:pt x="3880" y="1310"/>
                  </a:lnTo>
                  <a:lnTo>
                    <a:pt x="3842" y="1313"/>
                  </a:lnTo>
                  <a:lnTo>
                    <a:pt x="3803" y="1313"/>
                  </a:lnTo>
                  <a:lnTo>
                    <a:pt x="3766" y="1313"/>
                  </a:lnTo>
                  <a:lnTo>
                    <a:pt x="3729" y="1310"/>
                  </a:lnTo>
                  <a:lnTo>
                    <a:pt x="3694" y="1308"/>
                  </a:lnTo>
                  <a:lnTo>
                    <a:pt x="3659" y="1305"/>
                  </a:lnTo>
                  <a:lnTo>
                    <a:pt x="3626" y="1301"/>
                  </a:lnTo>
                  <a:lnTo>
                    <a:pt x="3595" y="1296"/>
                  </a:lnTo>
                  <a:lnTo>
                    <a:pt x="3565" y="1290"/>
                  </a:lnTo>
                  <a:lnTo>
                    <a:pt x="3537" y="1284"/>
                  </a:lnTo>
                  <a:lnTo>
                    <a:pt x="3511" y="1276"/>
                  </a:lnTo>
                  <a:lnTo>
                    <a:pt x="3489" y="1268"/>
                  </a:lnTo>
                  <a:lnTo>
                    <a:pt x="3467" y="1258"/>
                  </a:lnTo>
                  <a:lnTo>
                    <a:pt x="3410" y="1183"/>
                  </a:lnTo>
                  <a:lnTo>
                    <a:pt x="3430" y="1192"/>
                  </a:lnTo>
                  <a:lnTo>
                    <a:pt x="3449" y="1201"/>
                  </a:lnTo>
                  <a:lnTo>
                    <a:pt x="3470" y="1209"/>
                  </a:lnTo>
                  <a:lnTo>
                    <a:pt x="3490" y="1215"/>
                  </a:lnTo>
                  <a:lnTo>
                    <a:pt x="3510" y="1219"/>
                  </a:lnTo>
                  <a:lnTo>
                    <a:pt x="3532" y="1224"/>
                  </a:lnTo>
                  <a:lnTo>
                    <a:pt x="3552" y="1227"/>
                  </a:lnTo>
                  <a:lnTo>
                    <a:pt x="3574" y="1229"/>
                  </a:lnTo>
                  <a:lnTo>
                    <a:pt x="3595" y="1231"/>
                  </a:lnTo>
                  <a:lnTo>
                    <a:pt x="3618" y="1231"/>
                  </a:lnTo>
                  <a:lnTo>
                    <a:pt x="3639" y="1232"/>
                  </a:lnTo>
                  <a:lnTo>
                    <a:pt x="3661" y="1231"/>
                  </a:lnTo>
                  <a:lnTo>
                    <a:pt x="3706" y="1229"/>
                  </a:lnTo>
                  <a:lnTo>
                    <a:pt x="3750" y="1224"/>
                  </a:lnTo>
                  <a:lnTo>
                    <a:pt x="3840" y="1212"/>
                  </a:lnTo>
                  <a:lnTo>
                    <a:pt x="3930" y="1199"/>
                  </a:lnTo>
                  <a:lnTo>
                    <a:pt x="3975" y="1192"/>
                  </a:lnTo>
                  <a:lnTo>
                    <a:pt x="4020" y="1187"/>
                  </a:lnTo>
                  <a:lnTo>
                    <a:pt x="4064" y="1184"/>
                  </a:lnTo>
                  <a:lnTo>
                    <a:pt x="4107" y="1183"/>
                  </a:lnTo>
                  <a:lnTo>
                    <a:pt x="4199" y="1080"/>
                  </a:lnTo>
                  <a:lnTo>
                    <a:pt x="4184" y="1063"/>
                  </a:lnTo>
                  <a:lnTo>
                    <a:pt x="4166" y="1046"/>
                  </a:lnTo>
                  <a:lnTo>
                    <a:pt x="4144" y="1027"/>
                  </a:lnTo>
                  <a:lnTo>
                    <a:pt x="4122" y="1009"/>
                  </a:lnTo>
                  <a:lnTo>
                    <a:pt x="4100" y="994"/>
                  </a:lnTo>
                  <a:lnTo>
                    <a:pt x="4080" y="981"/>
                  </a:lnTo>
                  <a:lnTo>
                    <a:pt x="4071" y="977"/>
                  </a:lnTo>
                  <a:lnTo>
                    <a:pt x="4063" y="973"/>
                  </a:lnTo>
                  <a:lnTo>
                    <a:pt x="4055" y="970"/>
                  </a:lnTo>
                  <a:lnTo>
                    <a:pt x="4050" y="969"/>
                  </a:lnTo>
                  <a:lnTo>
                    <a:pt x="4048" y="996"/>
                  </a:lnTo>
                  <a:lnTo>
                    <a:pt x="4043" y="1021"/>
                  </a:lnTo>
                  <a:lnTo>
                    <a:pt x="4036" y="1043"/>
                  </a:lnTo>
                  <a:lnTo>
                    <a:pt x="4026" y="1065"/>
                  </a:lnTo>
                  <a:lnTo>
                    <a:pt x="4013" y="1085"/>
                  </a:lnTo>
                  <a:lnTo>
                    <a:pt x="3999" y="1103"/>
                  </a:lnTo>
                  <a:lnTo>
                    <a:pt x="3983" y="1120"/>
                  </a:lnTo>
                  <a:lnTo>
                    <a:pt x="3965" y="1135"/>
                  </a:lnTo>
                  <a:lnTo>
                    <a:pt x="3945" y="1149"/>
                  </a:lnTo>
                  <a:lnTo>
                    <a:pt x="3923" y="1160"/>
                  </a:lnTo>
                  <a:lnTo>
                    <a:pt x="3901" y="1170"/>
                  </a:lnTo>
                  <a:lnTo>
                    <a:pt x="3877" y="1179"/>
                  </a:lnTo>
                  <a:lnTo>
                    <a:pt x="3854" y="1186"/>
                  </a:lnTo>
                  <a:lnTo>
                    <a:pt x="3828" y="1191"/>
                  </a:lnTo>
                  <a:lnTo>
                    <a:pt x="3803" y="1195"/>
                  </a:lnTo>
                  <a:lnTo>
                    <a:pt x="3777" y="1197"/>
                  </a:lnTo>
                  <a:lnTo>
                    <a:pt x="3752" y="1197"/>
                  </a:lnTo>
                  <a:lnTo>
                    <a:pt x="3726" y="1196"/>
                  </a:lnTo>
                  <a:lnTo>
                    <a:pt x="3701" y="1194"/>
                  </a:lnTo>
                  <a:lnTo>
                    <a:pt x="3677" y="1188"/>
                  </a:lnTo>
                  <a:lnTo>
                    <a:pt x="3653" y="1183"/>
                  </a:lnTo>
                  <a:lnTo>
                    <a:pt x="3629" y="1174"/>
                  </a:lnTo>
                  <a:lnTo>
                    <a:pt x="3608" y="1165"/>
                  </a:lnTo>
                  <a:lnTo>
                    <a:pt x="3588" y="1154"/>
                  </a:lnTo>
                  <a:lnTo>
                    <a:pt x="3569" y="1141"/>
                  </a:lnTo>
                  <a:lnTo>
                    <a:pt x="3552" y="1127"/>
                  </a:lnTo>
                  <a:lnTo>
                    <a:pt x="3536" y="1110"/>
                  </a:lnTo>
                  <a:lnTo>
                    <a:pt x="3523" y="1093"/>
                  </a:lnTo>
                  <a:lnTo>
                    <a:pt x="3513" y="1073"/>
                  </a:lnTo>
                  <a:lnTo>
                    <a:pt x="3505" y="1052"/>
                  </a:lnTo>
                  <a:lnTo>
                    <a:pt x="3499" y="1029"/>
                  </a:lnTo>
                  <a:lnTo>
                    <a:pt x="3496" y="1005"/>
                  </a:lnTo>
                  <a:lnTo>
                    <a:pt x="3496" y="855"/>
                  </a:lnTo>
                  <a:close/>
                  <a:moveTo>
                    <a:pt x="2731" y="503"/>
                  </a:moveTo>
                  <a:lnTo>
                    <a:pt x="2748" y="471"/>
                  </a:lnTo>
                  <a:lnTo>
                    <a:pt x="2769" y="441"/>
                  </a:lnTo>
                  <a:lnTo>
                    <a:pt x="2792" y="413"/>
                  </a:lnTo>
                  <a:lnTo>
                    <a:pt x="2816" y="387"/>
                  </a:lnTo>
                  <a:lnTo>
                    <a:pt x="2843" y="362"/>
                  </a:lnTo>
                  <a:lnTo>
                    <a:pt x="2872" y="341"/>
                  </a:lnTo>
                  <a:lnTo>
                    <a:pt x="2902" y="321"/>
                  </a:lnTo>
                  <a:lnTo>
                    <a:pt x="2934" y="301"/>
                  </a:lnTo>
                  <a:lnTo>
                    <a:pt x="2968" y="284"/>
                  </a:lnTo>
                  <a:lnTo>
                    <a:pt x="3003" y="268"/>
                  </a:lnTo>
                  <a:lnTo>
                    <a:pt x="3038" y="254"/>
                  </a:lnTo>
                  <a:lnTo>
                    <a:pt x="3076" y="241"/>
                  </a:lnTo>
                  <a:lnTo>
                    <a:pt x="3114" y="229"/>
                  </a:lnTo>
                  <a:lnTo>
                    <a:pt x="3152" y="218"/>
                  </a:lnTo>
                  <a:lnTo>
                    <a:pt x="3192" y="208"/>
                  </a:lnTo>
                  <a:lnTo>
                    <a:pt x="3232" y="199"/>
                  </a:lnTo>
                  <a:lnTo>
                    <a:pt x="3271" y="192"/>
                  </a:lnTo>
                  <a:lnTo>
                    <a:pt x="3312" y="184"/>
                  </a:lnTo>
                  <a:lnTo>
                    <a:pt x="3353" y="178"/>
                  </a:lnTo>
                  <a:lnTo>
                    <a:pt x="3392" y="172"/>
                  </a:lnTo>
                  <a:lnTo>
                    <a:pt x="3473" y="161"/>
                  </a:lnTo>
                  <a:lnTo>
                    <a:pt x="3550" y="152"/>
                  </a:lnTo>
                  <a:lnTo>
                    <a:pt x="3625" y="143"/>
                  </a:lnTo>
                  <a:lnTo>
                    <a:pt x="3695" y="134"/>
                  </a:lnTo>
                  <a:lnTo>
                    <a:pt x="3728" y="129"/>
                  </a:lnTo>
                  <a:lnTo>
                    <a:pt x="3760" y="123"/>
                  </a:lnTo>
                  <a:lnTo>
                    <a:pt x="3790" y="118"/>
                  </a:lnTo>
                  <a:lnTo>
                    <a:pt x="3819" y="111"/>
                  </a:lnTo>
                  <a:lnTo>
                    <a:pt x="3841" y="106"/>
                  </a:lnTo>
                  <a:lnTo>
                    <a:pt x="3864" y="102"/>
                  </a:lnTo>
                  <a:lnTo>
                    <a:pt x="3889" y="100"/>
                  </a:lnTo>
                  <a:lnTo>
                    <a:pt x="3915" y="100"/>
                  </a:lnTo>
                  <a:lnTo>
                    <a:pt x="3940" y="101"/>
                  </a:lnTo>
                  <a:lnTo>
                    <a:pt x="3967" y="104"/>
                  </a:lnTo>
                  <a:lnTo>
                    <a:pt x="3995" y="109"/>
                  </a:lnTo>
                  <a:lnTo>
                    <a:pt x="4024" y="115"/>
                  </a:lnTo>
                  <a:lnTo>
                    <a:pt x="4053" y="122"/>
                  </a:lnTo>
                  <a:lnTo>
                    <a:pt x="4082" y="132"/>
                  </a:lnTo>
                  <a:lnTo>
                    <a:pt x="4112" y="142"/>
                  </a:lnTo>
                  <a:lnTo>
                    <a:pt x="4143" y="152"/>
                  </a:lnTo>
                  <a:lnTo>
                    <a:pt x="4173" y="164"/>
                  </a:lnTo>
                  <a:lnTo>
                    <a:pt x="4204" y="177"/>
                  </a:lnTo>
                  <a:lnTo>
                    <a:pt x="4234" y="190"/>
                  </a:lnTo>
                  <a:lnTo>
                    <a:pt x="4265" y="204"/>
                  </a:lnTo>
                  <a:lnTo>
                    <a:pt x="4327" y="234"/>
                  </a:lnTo>
                  <a:lnTo>
                    <a:pt x="4388" y="265"/>
                  </a:lnTo>
                  <a:lnTo>
                    <a:pt x="4446" y="296"/>
                  </a:lnTo>
                  <a:lnTo>
                    <a:pt x="4502" y="327"/>
                  </a:lnTo>
                  <a:lnTo>
                    <a:pt x="4606" y="386"/>
                  </a:lnTo>
                  <a:lnTo>
                    <a:pt x="4694" y="434"/>
                  </a:lnTo>
                  <a:lnTo>
                    <a:pt x="4816" y="573"/>
                  </a:lnTo>
                  <a:lnTo>
                    <a:pt x="4781" y="612"/>
                  </a:lnTo>
                  <a:lnTo>
                    <a:pt x="4723" y="538"/>
                  </a:lnTo>
                  <a:lnTo>
                    <a:pt x="4691" y="537"/>
                  </a:lnTo>
                  <a:lnTo>
                    <a:pt x="4659" y="535"/>
                  </a:lnTo>
                  <a:lnTo>
                    <a:pt x="4627" y="533"/>
                  </a:lnTo>
                  <a:lnTo>
                    <a:pt x="4596" y="529"/>
                  </a:lnTo>
                  <a:lnTo>
                    <a:pt x="4565" y="524"/>
                  </a:lnTo>
                  <a:lnTo>
                    <a:pt x="4534" y="519"/>
                  </a:lnTo>
                  <a:lnTo>
                    <a:pt x="4504" y="513"/>
                  </a:lnTo>
                  <a:lnTo>
                    <a:pt x="4473" y="506"/>
                  </a:lnTo>
                  <a:lnTo>
                    <a:pt x="4356" y="476"/>
                  </a:lnTo>
                  <a:lnTo>
                    <a:pt x="4241" y="445"/>
                  </a:lnTo>
                  <a:lnTo>
                    <a:pt x="4183" y="431"/>
                  </a:lnTo>
                  <a:lnTo>
                    <a:pt x="4125" y="419"/>
                  </a:lnTo>
                  <a:lnTo>
                    <a:pt x="4096" y="414"/>
                  </a:lnTo>
                  <a:lnTo>
                    <a:pt x="4067" y="410"/>
                  </a:lnTo>
                  <a:lnTo>
                    <a:pt x="4038" y="406"/>
                  </a:lnTo>
                  <a:lnTo>
                    <a:pt x="4008" y="404"/>
                  </a:lnTo>
                  <a:lnTo>
                    <a:pt x="3978" y="403"/>
                  </a:lnTo>
                  <a:lnTo>
                    <a:pt x="3948" y="403"/>
                  </a:lnTo>
                  <a:lnTo>
                    <a:pt x="3918" y="404"/>
                  </a:lnTo>
                  <a:lnTo>
                    <a:pt x="3888" y="407"/>
                  </a:lnTo>
                  <a:lnTo>
                    <a:pt x="3857" y="412"/>
                  </a:lnTo>
                  <a:lnTo>
                    <a:pt x="3826" y="417"/>
                  </a:lnTo>
                  <a:lnTo>
                    <a:pt x="3794" y="425"/>
                  </a:lnTo>
                  <a:lnTo>
                    <a:pt x="3761" y="434"/>
                  </a:lnTo>
                  <a:lnTo>
                    <a:pt x="3718" y="441"/>
                  </a:lnTo>
                  <a:lnTo>
                    <a:pt x="3670" y="448"/>
                  </a:lnTo>
                  <a:lnTo>
                    <a:pt x="3615" y="456"/>
                  </a:lnTo>
                  <a:lnTo>
                    <a:pt x="3556" y="462"/>
                  </a:lnTo>
                  <a:lnTo>
                    <a:pt x="3494" y="469"/>
                  </a:lnTo>
                  <a:lnTo>
                    <a:pt x="3430" y="473"/>
                  </a:lnTo>
                  <a:lnTo>
                    <a:pt x="3363" y="476"/>
                  </a:lnTo>
                  <a:lnTo>
                    <a:pt x="3297" y="477"/>
                  </a:lnTo>
                  <a:lnTo>
                    <a:pt x="3264" y="476"/>
                  </a:lnTo>
                  <a:lnTo>
                    <a:pt x="3232" y="475"/>
                  </a:lnTo>
                  <a:lnTo>
                    <a:pt x="3199" y="473"/>
                  </a:lnTo>
                  <a:lnTo>
                    <a:pt x="3167" y="471"/>
                  </a:lnTo>
                  <a:lnTo>
                    <a:pt x="3137" y="468"/>
                  </a:lnTo>
                  <a:lnTo>
                    <a:pt x="3106" y="463"/>
                  </a:lnTo>
                  <a:lnTo>
                    <a:pt x="3077" y="458"/>
                  </a:lnTo>
                  <a:lnTo>
                    <a:pt x="3049" y="451"/>
                  </a:lnTo>
                  <a:lnTo>
                    <a:pt x="3022" y="444"/>
                  </a:lnTo>
                  <a:lnTo>
                    <a:pt x="2997" y="435"/>
                  </a:lnTo>
                  <a:lnTo>
                    <a:pt x="2973" y="426"/>
                  </a:lnTo>
                  <a:lnTo>
                    <a:pt x="2951" y="415"/>
                  </a:lnTo>
                  <a:lnTo>
                    <a:pt x="2930" y="403"/>
                  </a:lnTo>
                  <a:lnTo>
                    <a:pt x="2912" y="390"/>
                  </a:lnTo>
                  <a:lnTo>
                    <a:pt x="2895" y="375"/>
                  </a:lnTo>
                  <a:lnTo>
                    <a:pt x="2880" y="359"/>
                  </a:lnTo>
                  <a:lnTo>
                    <a:pt x="2883" y="363"/>
                  </a:lnTo>
                  <a:lnTo>
                    <a:pt x="2884" y="368"/>
                  </a:lnTo>
                  <a:lnTo>
                    <a:pt x="2885" y="371"/>
                  </a:lnTo>
                  <a:lnTo>
                    <a:pt x="2886" y="375"/>
                  </a:lnTo>
                  <a:lnTo>
                    <a:pt x="2885" y="385"/>
                  </a:lnTo>
                  <a:lnTo>
                    <a:pt x="2882" y="395"/>
                  </a:lnTo>
                  <a:lnTo>
                    <a:pt x="2877" y="404"/>
                  </a:lnTo>
                  <a:lnTo>
                    <a:pt x="2870" y="414"/>
                  </a:lnTo>
                  <a:lnTo>
                    <a:pt x="2860" y="424"/>
                  </a:lnTo>
                  <a:lnTo>
                    <a:pt x="2851" y="433"/>
                  </a:lnTo>
                  <a:lnTo>
                    <a:pt x="2839" y="444"/>
                  </a:lnTo>
                  <a:lnTo>
                    <a:pt x="2826" y="454"/>
                  </a:lnTo>
                  <a:lnTo>
                    <a:pt x="2812" y="463"/>
                  </a:lnTo>
                  <a:lnTo>
                    <a:pt x="2797" y="472"/>
                  </a:lnTo>
                  <a:lnTo>
                    <a:pt x="2781" y="480"/>
                  </a:lnTo>
                  <a:lnTo>
                    <a:pt x="2764" y="489"/>
                  </a:lnTo>
                  <a:lnTo>
                    <a:pt x="2748" y="496"/>
                  </a:lnTo>
                  <a:lnTo>
                    <a:pt x="2731" y="503"/>
                  </a:lnTo>
                  <a:close/>
                  <a:moveTo>
                    <a:pt x="1676" y="538"/>
                  </a:moveTo>
                  <a:lnTo>
                    <a:pt x="1662" y="509"/>
                  </a:lnTo>
                  <a:lnTo>
                    <a:pt x="1647" y="483"/>
                  </a:lnTo>
                  <a:lnTo>
                    <a:pt x="1631" y="459"/>
                  </a:lnTo>
                  <a:lnTo>
                    <a:pt x="1614" y="436"/>
                  </a:lnTo>
                  <a:lnTo>
                    <a:pt x="1596" y="415"/>
                  </a:lnTo>
                  <a:lnTo>
                    <a:pt x="1578" y="396"/>
                  </a:lnTo>
                  <a:lnTo>
                    <a:pt x="1558" y="379"/>
                  </a:lnTo>
                  <a:lnTo>
                    <a:pt x="1539" y="362"/>
                  </a:lnTo>
                  <a:lnTo>
                    <a:pt x="1519" y="347"/>
                  </a:lnTo>
                  <a:lnTo>
                    <a:pt x="1497" y="333"/>
                  </a:lnTo>
                  <a:lnTo>
                    <a:pt x="1476" y="321"/>
                  </a:lnTo>
                  <a:lnTo>
                    <a:pt x="1454" y="309"/>
                  </a:lnTo>
                  <a:lnTo>
                    <a:pt x="1432" y="298"/>
                  </a:lnTo>
                  <a:lnTo>
                    <a:pt x="1409" y="287"/>
                  </a:lnTo>
                  <a:lnTo>
                    <a:pt x="1387" y="278"/>
                  </a:lnTo>
                  <a:lnTo>
                    <a:pt x="1364" y="269"/>
                  </a:lnTo>
                  <a:lnTo>
                    <a:pt x="1318" y="251"/>
                  </a:lnTo>
                  <a:lnTo>
                    <a:pt x="1273" y="233"/>
                  </a:lnTo>
                  <a:lnTo>
                    <a:pt x="1228" y="214"/>
                  </a:lnTo>
                  <a:lnTo>
                    <a:pt x="1184" y="194"/>
                  </a:lnTo>
                  <a:lnTo>
                    <a:pt x="1164" y="183"/>
                  </a:lnTo>
                  <a:lnTo>
                    <a:pt x="1142" y="172"/>
                  </a:lnTo>
                  <a:lnTo>
                    <a:pt x="1122" y="159"/>
                  </a:lnTo>
                  <a:lnTo>
                    <a:pt x="1103" y="145"/>
                  </a:lnTo>
                  <a:lnTo>
                    <a:pt x="1083" y="131"/>
                  </a:lnTo>
                  <a:lnTo>
                    <a:pt x="1065" y="114"/>
                  </a:lnTo>
                  <a:lnTo>
                    <a:pt x="1048" y="96"/>
                  </a:lnTo>
                  <a:lnTo>
                    <a:pt x="1031" y="77"/>
                  </a:lnTo>
                  <a:lnTo>
                    <a:pt x="1006" y="77"/>
                  </a:lnTo>
                  <a:lnTo>
                    <a:pt x="981" y="76"/>
                  </a:lnTo>
                  <a:lnTo>
                    <a:pt x="957" y="74"/>
                  </a:lnTo>
                  <a:lnTo>
                    <a:pt x="932" y="71"/>
                  </a:lnTo>
                  <a:lnTo>
                    <a:pt x="882" y="64"/>
                  </a:lnTo>
                  <a:lnTo>
                    <a:pt x="832" y="57"/>
                  </a:lnTo>
                  <a:lnTo>
                    <a:pt x="733" y="37"/>
                  </a:lnTo>
                  <a:lnTo>
                    <a:pt x="634" y="18"/>
                  </a:lnTo>
                  <a:lnTo>
                    <a:pt x="584" y="11"/>
                  </a:lnTo>
                  <a:lnTo>
                    <a:pt x="534" y="4"/>
                  </a:lnTo>
                  <a:lnTo>
                    <a:pt x="510" y="2"/>
                  </a:lnTo>
                  <a:lnTo>
                    <a:pt x="485" y="0"/>
                  </a:lnTo>
                  <a:lnTo>
                    <a:pt x="460" y="0"/>
                  </a:lnTo>
                  <a:lnTo>
                    <a:pt x="434" y="0"/>
                  </a:lnTo>
                  <a:lnTo>
                    <a:pt x="410" y="0"/>
                  </a:lnTo>
                  <a:lnTo>
                    <a:pt x="385" y="2"/>
                  </a:lnTo>
                  <a:lnTo>
                    <a:pt x="360" y="5"/>
                  </a:lnTo>
                  <a:lnTo>
                    <a:pt x="336" y="9"/>
                  </a:lnTo>
                  <a:lnTo>
                    <a:pt x="311" y="14"/>
                  </a:lnTo>
                  <a:lnTo>
                    <a:pt x="285" y="20"/>
                  </a:lnTo>
                  <a:lnTo>
                    <a:pt x="261" y="28"/>
                  </a:lnTo>
                  <a:lnTo>
                    <a:pt x="236" y="36"/>
                  </a:lnTo>
                  <a:lnTo>
                    <a:pt x="227" y="37"/>
                  </a:lnTo>
                  <a:lnTo>
                    <a:pt x="219" y="39"/>
                  </a:lnTo>
                  <a:lnTo>
                    <a:pt x="210" y="41"/>
                  </a:lnTo>
                  <a:lnTo>
                    <a:pt x="201" y="43"/>
                  </a:lnTo>
                  <a:lnTo>
                    <a:pt x="182" y="51"/>
                  </a:lnTo>
                  <a:lnTo>
                    <a:pt x="163" y="61"/>
                  </a:lnTo>
                  <a:lnTo>
                    <a:pt x="143" y="74"/>
                  </a:lnTo>
                  <a:lnTo>
                    <a:pt x="123" y="88"/>
                  </a:lnTo>
                  <a:lnTo>
                    <a:pt x="104" y="105"/>
                  </a:lnTo>
                  <a:lnTo>
                    <a:pt x="86" y="122"/>
                  </a:lnTo>
                  <a:lnTo>
                    <a:pt x="68" y="142"/>
                  </a:lnTo>
                  <a:lnTo>
                    <a:pt x="52" y="162"/>
                  </a:lnTo>
                  <a:lnTo>
                    <a:pt x="38" y="183"/>
                  </a:lnTo>
                  <a:lnTo>
                    <a:pt x="25" y="205"/>
                  </a:lnTo>
                  <a:lnTo>
                    <a:pt x="19" y="216"/>
                  </a:lnTo>
                  <a:lnTo>
                    <a:pt x="14" y="226"/>
                  </a:lnTo>
                  <a:lnTo>
                    <a:pt x="10" y="237"/>
                  </a:lnTo>
                  <a:lnTo>
                    <a:pt x="7" y="248"/>
                  </a:lnTo>
                  <a:lnTo>
                    <a:pt x="3" y="258"/>
                  </a:lnTo>
                  <a:lnTo>
                    <a:pt x="1" y="269"/>
                  </a:lnTo>
                  <a:lnTo>
                    <a:pt x="0" y="280"/>
                  </a:lnTo>
                  <a:lnTo>
                    <a:pt x="0" y="291"/>
                  </a:lnTo>
                  <a:lnTo>
                    <a:pt x="56" y="290"/>
                  </a:lnTo>
                  <a:lnTo>
                    <a:pt x="112" y="287"/>
                  </a:lnTo>
                  <a:lnTo>
                    <a:pt x="167" y="284"/>
                  </a:lnTo>
                  <a:lnTo>
                    <a:pt x="225" y="281"/>
                  </a:lnTo>
                  <a:lnTo>
                    <a:pt x="340" y="272"/>
                  </a:lnTo>
                  <a:lnTo>
                    <a:pt x="455" y="265"/>
                  </a:lnTo>
                  <a:lnTo>
                    <a:pt x="513" y="262"/>
                  </a:lnTo>
                  <a:lnTo>
                    <a:pt x="571" y="259"/>
                  </a:lnTo>
                  <a:lnTo>
                    <a:pt x="628" y="259"/>
                  </a:lnTo>
                  <a:lnTo>
                    <a:pt x="685" y="262"/>
                  </a:lnTo>
                  <a:lnTo>
                    <a:pt x="713" y="263"/>
                  </a:lnTo>
                  <a:lnTo>
                    <a:pt x="742" y="265"/>
                  </a:lnTo>
                  <a:lnTo>
                    <a:pt x="770" y="267"/>
                  </a:lnTo>
                  <a:lnTo>
                    <a:pt x="799" y="270"/>
                  </a:lnTo>
                  <a:lnTo>
                    <a:pt x="827" y="274"/>
                  </a:lnTo>
                  <a:lnTo>
                    <a:pt x="855" y="279"/>
                  </a:lnTo>
                  <a:lnTo>
                    <a:pt x="883" y="284"/>
                  </a:lnTo>
                  <a:lnTo>
                    <a:pt x="911" y="291"/>
                  </a:lnTo>
                  <a:lnTo>
                    <a:pt x="930" y="294"/>
                  </a:lnTo>
                  <a:lnTo>
                    <a:pt x="949" y="299"/>
                  </a:lnTo>
                  <a:lnTo>
                    <a:pt x="970" y="306"/>
                  </a:lnTo>
                  <a:lnTo>
                    <a:pt x="990" y="312"/>
                  </a:lnTo>
                  <a:lnTo>
                    <a:pt x="1033" y="329"/>
                  </a:lnTo>
                  <a:lnTo>
                    <a:pt x="1076" y="348"/>
                  </a:lnTo>
                  <a:lnTo>
                    <a:pt x="1166" y="392"/>
                  </a:lnTo>
                  <a:lnTo>
                    <a:pt x="1260" y="440"/>
                  </a:lnTo>
                  <a:lnTo>
                    <a:pt x="1310" y="463"/>
                  </a:lnTo>
                  <a:lnTo>
                    <a:pt x="1359" y="484"/>
                  </a:lnTo>
                  <a:lnTo>
                    <a:pt x="1385" y="493"/>
                  </a:lnTo>
                  <a:lnTo>
                    <a:pt x="1410" y="503"/>
                  </a:lnTo>
                  <a:lnTo>
                    <a:pt x="1436" y="511"/>
                  </a:lnTo>
                  <a:lnTo>
                    <a:pt x="1462" y="519"/>
                  </a:lnTo>
                  <a:lnTo>
                    <a:pt x="1488" y="525"/>
                  </a:lnTo>
                  <a:lnTo>
                    <a:pt x="1514" y="531"/>
                  </a:lnTo>
                  <a:lnTo>
                    <a:pt x="1540" y="535"/>
                  </a:lnTo>
                  <a:lnTo>
                    <a:pt x="1567" y="538"/>
                  </a:lnTo>
                  <a:lnTo>
                    <a:pt x="1594" y="540"/>
                  </a:lnTo>
                  <a:lnTo>
                    <a:pt x="1622" y="542"/>
                  </a:lnTo>
                  <a:lnTo>
                    <a:pt x="1649" y="540"/>
                  </a:lnTo>
                  <a:lnTo>
                    <a:pt x="1676" y="538"/>
                  </a:lnTo>
                  <a:close/>
                  <a:moveTo>
                    <a:pt x="29" y="826"/>
                  </a:moveTo>
                  <a:lnTo>
                    <a:pt x="30" y="853"/>
                  </a:lnTo>
                  <a:lnTo>
                    <a:pt x="32" y="876"/>
                  </a:lnTo>
                  <a:lnTo>
                    <a:pt x="38" y="900"/>
                  </a:lnTo>
                  <a:lnTo>
                    <a:pt x="44" y="921"/>
                  </a:lnTo>
                  <a:lnTo>
                    <a:pt x="52" y="940"/>
                  </a:lnTo>
                  <a:lnTo>
                    <a:pt x="60" y="959"/>
                  </a:lnTo>
                  <a:lnTo>
                    <a:pt x="71" y="976"/>
                  </a:lnTo>
                  <a:lnTo>
                    <a:pt x="83" y="992"/>
                  </a:lnTo>
                  <a:lnTo>
                    <a:pt x="96" y="1006"/>
                  </a:lnTo>
                  <a:lnTo>
                    <a:pt x="108" y="1020"/>
                  </a:lnTo>
                  <a:lnTo>
                    <a:pt x="123" y="1032"/>
                  </a:lnTo>
                  <a:lnTo>
                    <a:pt x="138" y="1043"/>
                  </a:lnTo>
                  <a:lnTo>
                    <a:pt x="153" y="1053"/>
                  </a:lnTo>
                  <a:lnTo>
                    <a:pt x="170" y="1063"/>
                  </a:lnTo>
                  <a:lnTo>
                    <a:pt x="186" y="1071"/>
                  </a:lnTo>
                  <a:lnTo>
                    <a:pt x="202" y="1080"/>
                  </a:lnTo>
                  <a:lnTo>
                    <a:pt x="221" y="1088"/>
                  </a:lnTo>
                  <a:lnTo>
                    <a:pt x="241" y="1097"/>
                  </a:lnTo>
                  <a:lnTo>
                    <a:pt x="262" y="1105"/>
                  </a:lnTo>
                  <a:lnTo>
                    <a:pt x="282" y="1112"/>
                  </a:lnTo>
                  <a:lnTo>
                    <a:pt x="303" y="1118"/>
                  </a:lnTo>
                  <a:lnTo>
                    <a:pt x="324" y="1124"/>
                  </a:lnTo>
                  <a:lnTo>
                    <a:pt x="345" y="1129"/>
                  </a:lnTo>
                  <a:lnTo>
                    <a:pt x="367" y="1133"/>
                  </a:lnTo>
                  <a:lnTo>
                    <a:pt x="410" y="1141"/>
                  </a:lnTo>
                  <a:lnTo>
                    <a:pt x="455" y="1146"/>
                  </a:lnTo>
                  <a:lnTo>
                    <a:pt x="500" y="1151"/>
                  </a:lnTo>
                  <a:lnTo>
                    <a:pt x="545" y="1153"/>
                  </a:lnTo>
                  <a:lnTo>
                    <a:pt x="591" y="1154"/>
                  </a:lnTo>
                  <a:lnTo>
                    <a:pt x="637" y="1154"/>
                  </a:lnTo>
                  <a:lnTo>
                    <a:pt x="683" y="1154"/>
                  </a:lnTo>
                  <a:lnTo>
                    <a:pt x="729" y="1153"/>
                  </a:lnTo>
                  <a:lnTo>
                    <a:pt x="821" y="1150"/>
                  </a:lnTo>
                  <a:lnTo>
                    <a:pt x="911" y="1149"/>
                  </a:lnTo>
                  <a:lnTo>
                    <a:pt x="895" y="1142"/>
                  </a:lnTo>
                  <a:lnTo>
                    <a:pt x="878" y="1138"/>
                  </a:lnTo>
                  <a:lnTo>
                    <a:pt x="859" y="1133"/>
                  </a:lnTo>
                  <a:lnTo>
                    <a:pt x="839" y="1129"/>
                  </a:lnTo>
                  <a:lnTo>
                    <a:pt x="817" y="1127"/>
                  </a:lnTo>
                  <a:lnTo>
                    <a:pt x="794" y="1125"/>
                  </a:lnTo>
                  <a:lnTo>
                    <a:pt x="769" y="1123"/>
                  </a:lnTo>
                  <a:lnTo>
                    <a:pt x="743" y="1122"/>
                  </a:lnTo>
                  <a:lnTo>
                    <a:pt x="634" y="1117"/>
                  </a:lnTo>
                  <a:lnTo>
                    <a:pt x="518" y="1113"/>
                  </a:lnTo>
                  <a:lnTo>
                    <a:pt x="489" y="1111"/>
                  </a:lnTo>
                  <a:lnTo>
                    <a:pt x="460" y="1109"/>
                  </a:lnTo>
                  <a:lnTo>
                    <a:pt x="432" y="1106"/>
                  </a:lnTo>
                  <a:lnTo>
                    <a:pt x="404" y="1102"/>
                  </a:lnTo>
                  <a:lnTo>
                    <a:pt x="378" y="1097"/>
                  </a:lnTo>
                  <a:lnTo>
                    <a:pt x="352" y="1092"/>
                  </a:lnTo>
                  <a:lnTo>
                    <a:pt x="327" y="1085"/>
                  </a:lnTo>
                  <a:lnTo>
                    <a:pt x="304" y="1078"/>
                  </a:lnTo>
                  <a:lnTo>
                    <a:pt x="281" y="1069"/>
                  </a:lnTo>
                  <a:lnTo>
                    <a:pt x="260" y="1059"/>
                  </a:lnTo>
                  <a:lnTo>
                    <a:pt x="240" y="1049"/>
                  </a:lnTo>
                  <a:lnTo>
                    <a:pt x="223" y="1036"/>
                  </a:lnTo>
                  <a:lnTo>
                    <a:pt x="207" y="1022"/>
                  </a:lnTo>
                  <a:lnTo>
                    <a:pt x="193" y="1006"/>
                  </a:lnTo>
                  <a:lnTo>
                    <a:pt x="182" y="989"/>
                  </a:lnTo>
                  <a:lnTo>
                    <a:pt x="173" y="969"/>
                  </a:lnTo>
                  <a:lnTo>
                    <a:pt x="173" y="901"/>
                  </a:lnTo>
                  <a:lnTo>
                    <a:pt x="195" y="914"/>
                  </a:lnTo>
                  <a:lnTo>
                    <a:pt x="218" y="925"/>
                  </a:lnTo>
                  <a:lnTo>
                    <a:pt x="240" y="936"/>
                  </a:lnTo>
                  <a:lnTo>
                    <a:pt x="263" y="946"/>
                  </a:lnTo>
                  <a:lnTo>
                    <a:pt x="285" y="955"/>
                  </a:lnTo>
                  <a:lnTo>
                    <a:pt x="309" y="964"/>
                  </a:lnTo>
                  <a:lnTo>
                    <a:pt x="331" y="972"/>
                  </a:lnTo>
                  <a:lnTo>
                    <a:pt x="355" y="979"/>
                  </a:lnTo>
                  <a:lnTo>
                    <a:pt x="379" y="984"/>
                  </a:lnTo>
                  <a:lnTo>
                    <a:pt x="402" y="990"/>
                  </a:lnTo>
                  <a:lnTo>
                    <a:pt x="427" y="994"/>
                  </a:lnTo>
                  <a:lnTo>
                    <a:pt x="453" y="998"/>
                  </a:lnTo>
                  <a:lnTo>
                    <a:pt x="477" y="1001"/>
                  </a:lnTo>
                  <a:lnTo>
                    <a:pt x="504" y="1003"/>
                  </a:lnTo>
                  <a:lnTo>
                    <a:pt x="531" y="1004"/>
                  </a:lnTo>
                  <a:lnTo>
                    <a:pt x="559" y="1005"/>
                  </a:lnTo>
                  <a:lnTo>
                    <a:pt x="547" y="1004"/>
                  </a:lnTo>
                  <a:lnTo>
                    <a:pt x="534" y="999"/>
                  </a:lnTo>
                  <a:lnTo>
                    <a:pt x="521" y="995"/>
                  </a:lnTo>
                  <a:lnTo>
                    <a:pt x="508" y="988"/>
                  </a:lnTo>
                  <a:lnTo>
                    <a:pt x="495" y="979"/>
                  </a:lnTo>
                  <a:lnTo>
                    <a:pt x="482" y="969"/>
                  </a:lnTo>
                  <a:lnTo>
                    <a:pt x="469" y="959"/>
                  </a:lnTo>
                  <a:lnTo>
                    <a:pt x="457" y="948"/>
                  </a:lnTo>
                  <a:lnTo>
                    <a:pt x="432" y="923"/>
                  </a:lnTo>
                  <a:lnTo>
                    <a:pt x="411" y="900"/>
                  </a:lnTo>
                  <a:lnTo>
                    <a:pt x="394" y="878"/>
                  </a:lnTo>
                  <a:lnTo>
                    <a:pt x="380" y="860"/>
                  </a:lnTo>
                  <a:lnTo>
                    <a:pt x="390" y="848"/>
                  </a:lnTo>
                  <a:lnTo>
                    <a:pt x="402" y="838"/>
                  </a:lnTo>
                  <a:lnTo>
                    <a:pt x="413" y="828"/>
                  </a:lnTo>
                  <a:lnTo>
                    <a:pt x="424" y="819"/>
                  </a:lnTo>
                  <a:lnTo>
                    <a:pt x="445" y="804"/>
                  </a:lnTo>
                  <a:lnTo>
                    <a:pt x="468" y="791"/>
                  </a:lnTo>
                  <a:lnTo>
                    <a:pt x="489" y="779"/>
                  </a:lnTo>
                  <a:lnTo>
                    <a:pt x="512" y="764"/>
                  </a:lnTo>
                  <a:lnTo>
                    <a:pt x="523" y="755"/>
                  </a:lnTo>
                  <a:lnTo>
                    <a:pt x="535" y="745"/>
                  </a:lnTo>
                  <a:lnTo>
                    <a:pt x="547" y="735"/>
                  </a:lnTo>
                  <a:lnTo>
                    <a:pt x="559" y="723"/>
                  </a:lnTo>
                  <a:lnTo>
                    <a:pt x="674" y="723"/>
                  </a:lnTo>
                  <a:lnTo>
                    <a:pt x="664" y="723"/>
                  </a:lnTo>
                  <a:lnTo>
                    <a:pt x="655" y="724"/>
                  </a:lnTo>
                  <a:lnTo>
                    <a:pt x="647" y="726"/>
                  </a:lnTo>
                  <a:lnTo>
                    <a:pt x="640" y="729"/>
                  </a:lnTo>
                  <a:lnTo>
                    <a:pt x="635" y="733"/>
                  </a:lnTo>
                  <a:lnTo>
                    <a:pt x="631" y="739"/>
                  </a:lnTo>
                  <a:lnTo>
                    <a:pt x="626" y="745"/>
                  </a:lnTo>
                  <a:lnTo>
                    <a:pt x="623" y="753"/>
                  </a:lnTo>
                  <a:lnTo>
                    <a:pt x="621" y="761"/>
                  </a:lnTo>
                  <a:lnTo>
                    <a:pt x="619" y="771"/>
                  </a:lnTo>
                  <a:lnTo>
                    <a:pt x="618" y="783"/>
                  </a:lnTo>
                  <a:lnTo>
                    <a:pt x="617" y="796"/>
                  </a:lnTo>
                  <a:lnTo>
                    <a:pt x="617" y="825"/>
                  </a:lnTo>
                  <a:lnTo>
                    <a:pt x="617" y="860"/>
                  </a:lnTo>
                  <a:lnTo>
                    <a:pt x="630" y="877"/>
                  </a:lnTo>
                  <a:lnTo>
                    <a:pt x="644" y="891"/>
                  </a:lnTo>
                  <a:lnTo>
                    <a:pt x="658" y="905"/>
                  </a:lnTo>
                  <a:lnTo>
                    <a:pt x="671" y="918"/>
                  </a:lnTo>
                  <a:lnTo>
                    <a:pt x="686" y="930"/>
                  </a:lnTo>
                  <a:lnTo>
                    <a:pt x="700" y="940"/>
                  </a:lnTo>
                  <a:lnTo>
                    <a:pt x="715" y="950"/>
                  </a:lnTo>
                  <a:lnTo>
                    <a:pt x="730" y="959"/>
                  </a:lnTo>
                  <a:lnTo>
                    <a:pt x="745" y="966"/>
                  </a:lnTo>
                  <a:lnTo>
                    <a:pt x="762" y="973"/>
                  </a:lnTo>
                  <a:lnTo>
                    <a:pt x="777" y="979"/>
                  </a:lnTo>
                  <a:lnTo>
                    <a:pt x="793" y="984"/>
                  </a:lnTo>
                  <a:lnTo>
                    <a:pt x="809" y="989"/>
                  </a:lnTo>
                  <a:lnTo>
                    <a:pt x="825" y="993"/>
                  </a:lnTo>
                  <a:lnTo>
                    <a:pt x="841" y="996"/>
                  </a:lnTo>
                  <a:lnTo>
                    <a:pt x="857" y="999"/>
                  </a:lnTo>
                  <a:lnTo>
                    <a:pt x="891" y="1004"/>
                  </a:lnTo>
                  <a:lnTo>
                    <a:pt x="926" y="1006"/>
                  </a:lnTo>
                  <a:lnTo>
                    <a:pt x="960" y="1007"/>
                  </a:lnTo>
                  <a:lnTo>
                    <a:pt x="996" y="1007"/>
                  </a:lnTo>
                  <a:lnTo>
                    <a:pt x="1069" y="1006"/>
                  </a:lnTo>
                  <a:lnTo>
                    <a:pt x="1147" y="1005"/>
                  </a:lnTo>
                  <a:lnTo>
                    <a:pt x="1158" y="989"/>
                  </a:lnTo>
                  <a:lnTo>
                    <a:pt x="1172" y="967"/>
                  </a:lnTo>
                  <a:lnTo>
                    <a:pt x="1186" y="942"/>
                  </a:lnTo>
                  <a:lnTo>
                    <a:pt x="1200" y="915"/>
                  </a:lnTo>
                  <a:lnTo>
                    <a:pt x="1213" y="889"/>
                  </a:lnTo>
                  <a:lnTo>
                    <a:pt x="1223" y="863"/>
                  </a:lnTo>
                  <a:lnTo>
                    <a:pt x="1227" y="853"/>
                  </a:lnTo>
                  <a:lnTo>
                    <a:pt x="1230" y="842"/>
                  </a:lnTo>
                  <a:lnTo>
                    <a:pt x="1232" y="833"/>
                  </a:lnTo>
                  <a:lnTo>
                    <a:pt x="1232" y="826"/>
                  </a:lnTo>
                  <a:lnTo>
                    <a:pt x="1319" y="935"/>
                  </a:lnTo>
                  <a:lnTo>
                    <a:pt x="1316" y="938"/>
                  </a:lnTo>
                  <a:lnTo>
                    <a:pt x="1310" y="946"/>
                  </a:lnTo>
                  <a:lnTo>
                    <a:pt x="1299" y="958"/>
                  </a:lnTo>
                  <a:lnTo>
                    <a:pt x="1287" y="969"/>
                  </a:lnTo>
                  <a:lnTo>
                    <a:pt x="1273" y="982"/>
                  </a:lnTo>
                  <a:lnTo>
                    <a:pt x="1258" y="994"/>
                  </a:lnTo>
                  <a:lnTo>
                    <a:pt x="1252" y="998"/>
                  </a:lnTo>
                  <a:lnTo>
                    <a:pt x="1244" y="1002"/>
                  </a:lnTo>
                  <a:lnTo>
                    <a:pt x="1239" y="1004"/>
                  </a:lnTo>
                  <a:lnTo>
                    <a:pt x="1232" y="1005"/>
                  </a:lnTo>
                  <a:lnTo>
                    <a:pt x="1227" y="1004"/>
                  </a:lnTo>
                  <a:lnTo>
                    <a:pt x="1222" y="1003"/>
                  </a:lnTo>
                  <a:lnTo>
                    <a:pt x="1216" y="1002"/>
                  </a:lnTo>
                  <a:lnTo>
                    <a:pt x="1211" y="999"/>
                  </a:lnTo>
                  <a:lnTo>
                    <a:pt x="1200" y="994"/>
                  </a:lnTo>
                  <a:lnTo>
                    <a:pt x="1189" y="988"/>
                  </a:lnTo>
                  <a:lnTo>
                    <a:pt x="1179" y="981"/>
                  </a:lnTo>
                  <a:lnTo>
                    <a:pt x="1168" y="976"/>
                  </a:lnTo>
                  <a:lnTo>
                    <a:pt x="1163" y="973"/>
                  </a:lnTo>
                  <a:lnTo>
                    <a:pt x="1157" y="972"/>
                  </a:lnTo>
                  <a:lnTo>
                    <a:pt x="1152" y="970"/>
                  </a:lnTo>
                  <a:lnTo>
                    <a:pt x="1147" y="969"/>
                  </a:lnTo>
                  <a:lnTo>
                    <a:pt x="1158" y="977"/>
                  </a:lnTo>
                  <a:lnTo>
                    <a:pt x="1173" y="983"/>
                  </a:lnTo>
                  <a:lnTo>
                    <a:pt x="1189" y="989"/>
                  </a:lnTo>
                  <a:lnTo>
                    <a:pt x="1209" y="995"/>
                  </a:lnTo>
                  <a:lnTo>
                    <a:pt x="1229" y="1002"/>
                  </a:lnTo>
                  <a:lnTo>
                    <a:pt x="1251" y="1007"/>
                  </a:lnTo>
                  <a:lnTo>
                    <a:pt x="1273" y="1012"/>
                  </a:lnTo>
                  <a:lnTo>
                    <a:pt x="1297" y="1018"/>
                  </a:lnTo>
                  <a:lnTo>
                    <a:pt x="1344" y="1026"/>
                  </a:lnTo>
                  <a:lnTo>
                    <a:pt x="1390" y="1033"/>
                  </a:lnTo>
                  <a:lnTo>
                    <a:pt x="1411" y="1036"/>
                  </a:lnTo>
                  <a:lnTo>
                    <a:pt x="1433" y="1038"/>
                  </a:lnTo>
                  <a:lnTo>
                    <a:pt x="1451" y="1039"/>
                  </a:lnTo>
                  <a:lnTo>
                    <a:pt x="1468" y="1039"/>
                  </a:lnTo>
                  <a:lnTo>
                    <a:pt x="1526" y="969"/>
                  </a:lnTo>
                  <a:lnTo>
                    <a:pt x="1488" y="924"/>
                  </a:lnTo>
                  <a:lnTo>
                    <a:pt x="1449" y="881"/>
                  </a:lnTo>
                  <a:lnTo>
                    <a:pt x="1409" y="841"/>
                  </a:lnTo>
                  <a:lnTo>
                    <a:pt x="1369" y="802"/>
                  </a:lnTo>
                  <a:lnTo>
                    <a:pt x="1328" y="767"/>
                  </a:lnTo>
                  <a:lnTo>
                    <a:pt x="1287" y="733"/>
                  </a:lnTo>
                  <a:lnTo>
                    <a:pt x="1245" y="702"/>
                  </a:lnTo>
                  <a:lnTo>
                    <a:pt x="1203" y="673"/>
                  </a:lnTo>
                  <a:lnTo>
                    <a:pt x="1161" y="648"/>
                  </a:lnTo>
                  <a:lnTo>
                    <a:pt x="1118" y="624"/>
                  </a:lnTo>
                  <a:lnTo>
                    <a:pt x="1075" y="604"/>
                  </a:lnTo>
                  <a:lnTo>
                    <a:pt x="1031" y="584"/>
                  </a:lnTo>
                  <a:lnTo>
                    <a:pt x="987" y="568"/>
                  </a:lnTo>
                  <a:lnTo>
                    <a:pt x="942" y="554"/>
                  </a:lnTo>
                  <a:lnTo>
                    <a:pt x="897" y="543"/>
                  </a:lnTo>
                  <a:lnTo>
                    <a:pt x="852" y="533"/>
                  </a:lnTo>
                  <a:lnTo>
                    <a:pt x="807" y="525"/>
                  </a:lnTo>
                  <a:lnTo>
                    <a:pt x="760" y="521"/>
                  </a:lnTo>
                  <a:lnTo>
                    <a:pt x="713" y="519"/>
                  </a:lnTo>
                  <a:lnTo>
                    <a:pt x="667" y="518"/>
                  </a:lnTo>
                  <a:lnTo>
                    <a:pt x="620" y="520"/>
                  </a:lnTo>
                  <a:lnTo>
                    <a:pt x="573" y="524"/>
                  </a:lnTo>
                  <a:lnTo>
                    <a:pt x="526" y="531"/>
                  </a:lnTo>
                  <a:lnTo>
                    <a:pt x="477" y="539"/>
                  </a:lnTo>
                  <a:lnTo>
                    <a:pt x="429" y="551"/>
                  </a:lnTo>
                  <a:lnTo>
                    <a:pt x="381" y="564"/>
                  </a:lnTo>
                  <a:lnTo>
                    <a:pt x="333" y="579"/>
                  </a:lnTo>
                  <a:lnTo>
                    <a:pt x="283" y="596"/>
                  </a:lnTo>
                  <a:lnTo>
                    <a:pt x="235" y="617"/>
                  </a:lnTo>
                  <a:lnTo>
                    <a:pt x="186" y="638"/>
                  </a:lnTo>
                  <a:lnTo>
                    <a:pt x="136" y="662"/>
                  </a:lnTo>
                  <a:lnTo>
                    <a:pt x="86" y="687"/>
                  </a:lnTo>
                  <a:lnTo>
                    <a:pt x="84" y="688"/>
                  </a:lnTo>
                  <a:lnTo>
                    <a:pt x="81" y="690"/>
                  </a:lnTo>
                  <a:lnTo>
                    <a:pt x="77" y="692"/>
                  </a:lnTo>
                  <a:lnTo>
                    <a:pt x="74" y="694"/>
                  </a:lnTo>
                  <a:lnTo>
                    <a:pt x="68" y="700"/>
                  </a:lnTo>
                  <a:lnTo>
                    <a:pt x="61" y="709"/>
                  </a:lnTo>
                  <a:lnTo>
                    <a:pt x="55" y="720"/>
                  </a:lnTo>
                  <a:lnTo>
                    <a:pt x="48" y="731"/>
                  </a:lnTo>
                  <a:lnTo>
                    <a:pt x="42" y="744"/>
                  </a:lnTo>
                  <a:lnTo>
                    <a:pt x="35" y="757"/>
                  </a:lnTo>
                  <a:lnTo>
                    <a:pt x="31" y="770"/>
                  </a:lnTo>
                  <a:lnTo>
                    <a:pt x="27" y="782"/>
                  </a:lnTo>
                  <a:lnTo>
                    <a:pt x="24" y="794"/>
                  </a:lnTo>
                  <a:lnTo>
                    <a:pt x="22" y="804"/>
                  </a:lnTo>
                  <a:lnTo>
                    <a:pt x="20" y="813"/>
                  </a:lnTo>
                  <a:lnTo>
                    <a:pt x="22" y="820"/>
                  </a:lnTo>
                  <a:lnTo>
                    <a:pt x="23" y="822"/>
                  </a:lnTo>
                  <a:lnTo>
                    <a:pt x="25" y="825"/>
                  </a:lnTo>
                  <a:lnTo>
                    <a:pt x="26" y="826"/>
                  </a:lnTo>
                  <a:lnTo>
                    <a:pt x="29" y="826"/>
                  </a:lnTo>
                  <a:close/>
                  <a:moveTo>
                    <a:pt x="1014" y="3741"/>
                  </a:moveTo>
                  <a:lnTo>
                    <a:pt x="1020" y="3743"/>
                  </a:lnTo>
                  <a:lnTo>
                    <a:pt x="1029" y="3745"/>
                  </a:lnTo>
                  <a:lnTo>
                    <a:pt x="1040" y="3746"/>
                  </a:lnTo>
                  <a:lnTo>
                    <a:pt x="1052" y="3745"/>
                  </a:lnTo>
                  <a:lnTo>
                    <a:pt x="1083" y="3743"/>
                  </a:lnTo>
                  <a:lnTo>
                    <a:pt x="1120" y="3736"/>
                  </a:lnTo>
                  <a:lnTo>
                    <a:pt x="1161" y="3729"/>
                  </a:lnTo>
                  <a:lnTo>
                    <a:pt x="1205" y="3719"/>
                  </a:lnTo>
                  <a:lnTo>
                    <a:pt x="1251" y="3708"/>
                  </a:lnTo>
                  <a:lnTo>
                    <a:pt x="1298" y="3698"/>
                  </a:lnTo>
                  <a:lnTo>
                    <a:pt x="1390" y="3675"/>
                  </a:lnTo>
                  <a:lnTo>
                    <a:pt x="1472" y="3658"/>
                  </a:lnTo>
                  <a:lnTo>
                    <a:pt x="1505" y="3653"/>
                  </a:lnTo>
                  <a:lnTo>
                    <a:pt x="1532" y="3649"/>
                  </a:lnTo>
                  <a:lnTo>
                    <a:pt x="1542" y="3649"/>
                  </a:lnTo>
                  <a:lnTo>
                    <a:pt x="1551" y="3649"/>
                  </a:lnTo>
                  <a:lnTo>
                    <a:pt x="1557" y="3652"/>
                  </a:lnTo>
                  <a:lnTo>
                    <a:pt x="1561" y="3654"/>
                  </a:lnTo>
                  <a:lnTo>
                    <a:pt x="1571" y="3665"/>
                  </a:lnTo>
                  <a:lnTo>
                    <a:pt x="1583" y="3677"/>
                  </a:lnTo>
                  <a:lnTo>
                    <a:pt x="1595" y="3687"/>
                  </a:lnTo>
                  <a:lnTo>
                    <a:pt x="1608" y="3695"/>
                  </a:lnTo>
                  <a:lnTo>
                    <a:pt x="1621" y="3704"/>
                  </a:lnTo>
                  <a:lnTo>
                    <a:pt x="1635" y="3712"/>
                  </a:lnTo>
                  <a:lnTo>
                    <a:pt x="1649" y="3718"/>
                  </a:lnTo>
                  <a:lnTo>
                    <a:pt x="1664" y="3723"/>
                  </a:lnTo>
                  <a:lnTo>
                    <a:pt x="1679" y="3728"/>
                  </a:lnTo>
                  <a:lnTo>
                    <a:pt x="1695" y="3732"/>
                  </a:lnTo>
                  <a:lnTo>
                    <a:pt x="1711" y="3735"/>
                  </a:lnTo>
                  <a:lnTo>
                    <a:pt x="1727" y="3737"/>
                  </a:lnTo>
                  <a:lnTo>
                    <a:pt x="1744" y="3739"/>
                  </a:lnTo>
                  <a:lnTo>
                    <a:pt x="1761" y="3741"/>
                  </a:lnTo>
                  <a:lnTo>
                    <a:pt x="1778" y="3742"/>
                  </a:lnTo>
                  <a:lnTo>
                    <a:pt x="1795" y="3741"/>
                  </a:lnTo>
                  <a:lnTo>
                    <a:pt x="1814" y="3741"/>
                  </a:lnTo>
                  <a:lnTo>
                    <a:pt x="1831" y="3739"/>
                  </a:lnTo>
                  <a:lnTo>
                    <a:pt x="1849" y="3737"/>
                  </a:lnTo>
                  <a:lnTo>
                    <a:pt x="1867" y="3735"/>
                  </a:lnTo>
                  <a:lnTo>
                    <a:pt x="1903" y="3729"/>
                  </a:lnTo>
                  <a:lnTo>
                    <a:pt x="1938" y="3721"/>
                  </a:lnTo>
                  <a:lnTo>
                    <a:pt x="1973" y="3712"/>
                  </a:lnTo>
                  <a:lnTo>
                    <a:pt x="2008" y="3701"/>
                  </a:lnTo>
                  <a:lnTo>
                    <a:pt x="2041" y="3689"/>
                  </a:lnTo>
                  <a:lnTo>
                    <a:pt x="2073" y="3677"/>
                  </a:lnTo>
                  <a:lnTo>
                    <a:pt x="2099" y="3690"/>
                  </a:lnTo>
                  <a:lnTo>
                    <a:pt x="2125" y="3701"/>
                  </a:lnTo>
                  <a:lnTo>
                    <a:pt x="2153" y="3709"/>
                  </a:lnTo>
                  <a:lnTo>
                    <a:pt x="2180" y="3718"/>
                  </a:lnTo>
                  <a:lnTo>
                    <a:pt x="2211" y="3724"/>
                  </a:lnTo>
                  <a:lnTo>
                    <a:pt x="2241" y="3730"/>
                  </a:lnTo>
                  <a:lnTo>
                    <a:pt x="2272" y="3733"/>
                  </a:lnTo>
                  <a:lnTo>
                    <a:pt x="2304" y="3736"/>
                  </a:lnTo>
                  <a:lnTo>
                    <a:pt x="2337" y="3738"/>
                  </a:lnTo>
                  <a:lnTo>
                    <a:pt x="2370" y="3739"/>
                  </a:lnTo>
                  <a:lnTo>
                    <a:pt x="2404" y="3739"/>
                  </a:lnTo>
                  <a:lnTo>
                    <a:pt x="2438" y="3738"/>
                  </a:lnTo>
                  <a:lnTo>
                    <a:pt x="2508" y="3736"/>
                  </a:lnTo>
                  <a:lnTo>
                    <a:pt x="2577" y="3732"/>
                  </a:lnTo>
                  <a:lnTo>
                    <a:pt x="2648" y="3727"/>
                  </a:lnTo>
                  <a:lnTo>
                    <a:pt x="2717" y="3721"/>
                  </a:lnTo>
                  <a:lnTo>
                    <a:pt x="2785" y="3717"/>
                  </a:lnTo>
                  <a:lnTo>
                    <a:pt x="2851" y="3714"/>
                  </a:lnTo>
                  <a:lnTo>
                    <a:pt x="2883" y="3714"/>
                  </a:lnTo>
                  <a:lnTo>
                    <a:pt x="2915" y="3714"/>
                  </a:lnTo>
                  <a:lnTo>
                    <a:pt x="2945" y="3715"/>
                  </a:lnTo>
                  <a:lnTo>
                    <a:pt x="2974" y="3717"/>
                  </a:lnTo>
                  <a:lnTo>
                    <a:pt x="3003" y="3719"/>
                  </a:lnTo>
                  <a:lnTo>
                    <a:pt x="3031" y="3723"/>
                  </a:lnTo>
                  <a:lnTo>
                    <a:pt x="3057" y="3729"/>
                  </a:lnTo>
                  <a:lnTo>
                    <a:pt x="3081" y="3734"/>
                  </a:lnTo>
                  <a:lnTo>
                    <a:pt x="3163" y="3763"/>
                  </a:lnTo>
                  <a:lnTo>
                    <a:pt x="3141" y="3756"/>
                  </a:lnTo>
                  <a:lnTo>
                    <a:pt x="3120" y="3750"/>
                  </a:lnTo>
                  <a:lnTo>
                    <a:pt x="3097" y="3746"/>
                  </a:lnTo>
                  <a:lnTo>
                    <a:pt x="3075" y="3743"/>
                  </a:lnTo>
                  <a:lnTo>
                    <a:pt x="3050" y="3741"/>
                  </a:lnTo>
                  <a:lnTo>
                    <a:pt x="3027" y="3739"/>
                  </a:lnTo>
                  <a:lnTo>
                    <a:pt x="3001" y="3739"/>
                  </a:lnTo>
                  <a:lnTo>
                    <a:pt x="2975" y="3741"/>
                  </a:lnTo>
                  <a:lnTo>
                    <a:pt x="2948" y="3742"/>
                  </a:lnTo>
                  <a:lnTo>
                    <a:pt x="2922" y="3745"/>
                  </a:lnTo>
                  <a:lnTo>
                    <a:pt x="2894" y="3747"/>
                  </a:lnTo>
                  <a:lnTo>
                    <a:pt x="2866" y="3751"/>
                  </a:lnTo>
                  <a:lnTo>
                    <a:pt x="2807" y="3759"/>
                  </a:lnTo>
                  <a:lnTo>
                    <a:pt x="2746" y="3768"/>
                  </a:lnTo>
                  <a:lnTo>
                    <a:pt x="2682" y="3778"/>
                  </a:lnTo>
                  <a:lnTo>
                    <a:pt x="2616" y="3787"/>
                  </a:lnTo>
                  <a:lnTo>
                    <a:pt x="2583" y="3791"/>
                  </a:lnTo>
                  <a:lnTo>
                    <a:pt x="2548" y="3794"/>
                  </a:lnTo>
                  <a:lnTo>
                    <a:pt x="2513" y="3797"/>
                  </a:lnTo>
                  <a:lnTo>
                    <a:pt x="2478" y="3799"/>
                  </a:lnTo>
                  <a:lnTo>
                    <a:pt x="2442" y="3802"/>
                  </a:lnTo>
                  <a:lnTo>
                    <a:pt x="2406" y="3803"/>
                  </a:lnTo>
                  <a:lnTo>
                    <a:pt x="2369" y="3803"/>
                  </a:lnTo>
                  <a:lnTo>
                    <a:pt x="2332" y="3802"/>
                  </a:lnTo>
                  <a:lnTo>
                    <a:pt x="2293" y="3799"/>
                  </a:lnTo>
                  <a:lnTo>
                    <a:pt x="2256" y="3796"/>
                  </a:lnTo>
                  <a:lnTo>
                    <a:pt x="2217" y="3792"/>
                  </a:lnTo>
                  <a:lnTo>
                    <a:pt x="2177" y="3787"/>
                  </a:lnTo>
                  <a:lnTo>
                    <a:pt x="2153" y="3780"/>
                  </a:lnTo>
                  <a:lnTo>
                    <a:pt x="2127" y="3775"/>
                  </a:lnTo>
                  <a:lnTo>
                    <a:pt x="2100" y="3769"/>
                  </a:lnTo>
                  <a:lnTo>
                    <a:pt x="2072" y="3765"/>
                  </a:lnTo>
                  <a:lnTo>
                    <a:pt x="2013" y="3758"/>
                  </a:lnTo>
                  <a:lnTo>
                    <a:pt x="1952" y="3752"/>
                  </a:lnTo>
                  <a:lnTo>
                    <a:pt x="1889" y="3749"/>
                  </a:lnTo>
                  <a:lnTo>
                    <a:pt x="1824" y="3746"/>
                  </a:lnTo>
                  <a:lnTo>
                    <a:pt x="1761" y="3745"/>
                  </a:lnTo>
                  <a:lnTo>
                    <a:pt x="1699" y="3744"/>
                  </a:lnTo>
                  <a:lnTo>
                    <a:pt x="1583" y="3745"/>
                  </a:lnTo>
                  <a:lnTo>
                    <a:pt x="1486" y="3745"/>
                  </a:lnTo>
                  <a:lnTo>
                    <a:pt x="1446" y="3745"/>
                  </a:lnTo>
                  <a:lnTo>
                    <a:pt x="1414" y="3745"/>
                  </a:lnTo>
                  <a:lnTo>
                    <a:pt x="1401" y="3744"/>
                  </a:lnTo>
                  <a:lnTo>
                    <a:pt x="1390" y="3743"/>
                  </a:lnTo>
                  <a:lnTo>
                    <a:pt x="1383" y="3742"/>
                  </a:lnTo>
                  <a:lnTo>
                    <a:pt x="1377" y="3741"/>
                  </a:lnTo>
                  <a:lnTo>
                    <a:pt x="1347" y="3741"/>
                  </a:lnTo>
                  <a:lnTo>
                    <a:pt x="1320" y="3743"/>
                  </a:lnTo>
                  <a:lnTo>
                    <a:pt x="1295" y="3745"/>
                  </a:lnTo>
                  <a:lnTo>
                    <a:pt x="1271" y="3747"/>
                  </a:lnTo>
                  <a:lnTo>
                    <a:pt x="1226" y="3752"/>
                  </a:lnTo>
                  <a:lnTo>
                    <a:pt x="1184" y="3758"/>
                  </a:lnTo>
                  <a:lnTo>
                    <a:pt x="1164" y="3760"/>
                  </a:lnTo>
                  <a:lnTo>
                    <a:pt x="1144" y="3761"/>
                  </a:lnTo>
                  <a:lnTo>
                    <a:pt x="1124" y="3761"/>
                  </a:lnTo>
                  <a:lnTo>
                    <a:pt x="1104" y="3760"/>
                  </a:lnTo>
                  <a:lnTo>
                    <a:pt x="1082" y="3758"/>
                  </a:lnTo>
                  <a:lnTo>
                    <a:pt x="1061" y="3753"/>
                  </a:lnTo>
                  <a:lnTo>
                    <a:pt x="1038" y="3748"/>
                  </a:lnTo>
                  <a:lnTo>
                    <a:pt x="1014" y="3741"/>
                  </a:lnTo>
                  <a:close/>
                  <a:moveTo>
                    <a:pt x="1354" y="2548"/>
                  </a:moveTo>
                  <a:lnTo>
                    <a:pt x="1371" y="2556"/>
                  </a:lnTo>
                  <a:lnTo>
                    <a:pt x="1388" y="2564"/>
                  </a:lnTo>
                  <a:lnTo>
                    <a:pt x="1407" y="2575"/>
                  </a:lnTo>
                  <a:lnTo>
                    <a:pt x="1427" y="2588"/>
                  </a:lnTo>
                  <a:lnTo>
                    <a:pt x="1446" y="2602"/>
                  </a:lnTo>
                  <a:lnTo>
                    <a:pt x="1464" y="2617"/>
                  </a:lnTo>
                  <a:lnTo>
                    <a:pt x="1483" y="2633"/>
                  </a:lnTo>
                  <a:lnTo>
                    <a:pt x="1502" y="2651"/>
                  </a:lnTo>
                  <a:lnTo>
                    <a:pt x="1519" y="2670"/>
                  </a:lnTo>
                  <a:lnTo>
                    <a:pt x="1534" y="2691"/>
                  </a:lnTo>
                  <a:lnTo>
                    <a:pt x="1541" y="2701"/>
                  </a:lnTo>
                  <a:lnTo>
                    <a:pt x="1548" y="2712"/>
                  </a:lnTo>
                  <a:lnTo>
                    <a:pt x="1554" y="2724"/>
                  </a:lnTo>
                  <a:lnTo>
                    <a:pt x="1561" y="2736"/>
                  </a:lnTo>
                  <a:lnTo>
                    <a:pt x="1566" y="2747"/>
                  </a:lnTo>
                  <a:lnTo>
                    <a:pt x="1570" y="2759"/>
                  </a:lnTo>
                  <a:lnTo>
                    <a:pt x="1575" y="2771"/>
                  </a:lnTo>
                  <a:lnTo>
                    <a:pt x="1578" y="2784"/>
                  </a:lnTo>
                  <a:lnTo>
                    <a:pt x="1580" y="2797"/>
                  </a:lnTo>
                  <a:lnTo>
                    <a:pt x="1582" y="2810"/>
                  </a:lnTo>
                  <a:lnTo>
                    <a:pt x="1584" y="2823"/>
                  </a:lnTo>
                  <a:lnTo>
                    <a:pt x="1584" y="2836"/>
                  </a:lnTo>
                  <a:lnTo>
                    <a:pt x="1576" y="2835"/>
                  </a:lnTo>
                  <a:lnTo>
                    <a:pt x="1568" y="2834"/>
                  </a:lnTo>
                  <a:lnTo>
                    <a:pt x="1560" y="2832"/>
                  </a:lnTo>
                  <a:lnTo>
                    <a:pt x="1552" y="2830"/>
                  </a:lnTo>
                  <a:lnTo>
                    <a:pt x="1543" y="2826"/>
                  </a:lnTo>
                  <a:lnTo>
                    <a:pt x="1536" y="2821"/>
                  </a:lnTo>
                  <a:lnTo>
                    <a:pt x="1527" y="2817"/>
                  </a:lnTo>
                  <a:lnTo>
                    <a:pt x="1520" y="2812"/>
                  </a:lnTo>
                  <a:lnTo>
                    <a:pt x="1504" y="2798"/>
                  </a:lnTo>
                  <a:lnTo>
                    <a:pt x="1489" y="2783"/>
                  </a:lnTo>
                  <a:lnTo>
                    <a:pt x="1473" y="2766"/>
                  </a:lnTo>
                  <a:lnTo>
                    <a:pt x="1458" y="2746"/>
                  </a:lnTo>
                  <a:lnTo>
                    <a:pt x="1444" y="2725"/>
                  </a:lnTo>
                  <a:lnTo>
                    <a:pt x="1429" y="2702"/>
                  </a:lnTo>
                  <a:lnTo>
                    <a:pt x="1415" y="2679"/>
                  </a:lnTo>
                  <a:lnTo>
                    <a:pt x="1402" y="2654"/>
                  </a:lnTo>
                  <a:lnTo>
                    <a:pt x="1389" y="2628"/>
                  </a:lnTo>
                  <a:lnTo>
                    <a:pt x="1376" y="2602"/>
                  </a:lnTo>
                  <a:lnTo>
                    <a:pt x="1364" y="2575"/>
                  </a:lnTo>
                  <a:lnTo>
                    <a:pt x="1354" y="2548"/>
                  </a:lnTo>
                  <a:close/>
                  <a:moveTo>
                    <a:pt x="1999" y="2871"/>
                  </a:moveTo>
                  <a:lnTo>
                    <a:pt x="2019" y="2856"/>
                  </a:lnTo>
                  <a:lnTo>
                    <a:pt x="2046" y="2836"/>
                  </a:lnTo>
                  <a:lnTo>
                    <a:pt x="2080" y="2814"/>
                  </a:lnTo>
                  <a:lnTo>
                    <a:pt x="2117" y="2790"/>
                  </a:lnTo>
                  <a:lnTo>
                    <a:pt x="2159" y="2766"/>
                  </a:lnTo>
                  <a:lnTo>
                    <a:pt x="2203" y="2742"/>
                  </a:lnTo>
                  <a:lnTo>
                    <a:pt x="2226" y="2731"/>
                  </a:lnTo>
                  <a:lnTo>
                    <a:pt x="2248" y="2721"/>
                  </a:lnTo>
                  <a:lnTo>
                    <a:pt x="2271" y="2711"/>
                  </a:lnTo>
                  <a:lnTo>
                    <a:pt x="2293" y="2702"/>
                  </a:lnTo>
                  <a:lnTo>
                    <a:pt x="2316" y="2694"/>
                  </a:lnTo>
                  <a:lnTo>
                    <a:pt x="2338" y="2687"/>
                  </a:lnTo>
                  <a:lnTo>
                    <a:pt x="2360" y="2682"/>
                  </a:lnTo>
                  <a:lnTo>
                    <a:pt x="2380" y="2679"/>
                  </a:lnTo>
                  <a:lnTo>
                    <a:pt x="2400" y="2677"/>
                  </a:lnTo>
                  <a:lnTo>
                    <a:pt x="2419" y="2676"/>
                  </a:lnTo>
                  <a:lnTo>
                    <a:pt x="2437" y="2678"/>
                  </a:lnTo>
                  <a:lnTo>
                    <a:pt x="2453" y="2681"/>
                  </a:lnTo>
                  <a:lnTo>
                    <a:pt x="2468" y="2687"/>
                  </a:lnTo>
                  <a:lnTo>
                    <a:pt x="2482" y="2695"/>
                  </a:lnTo>
                  <a:lnTo>
                    <a:pt x="2494" y="2706"/>
                  </a:lnTo>
                  <a:lnTo>
                    <a:pt x="2504" y="2719"/>
                  </a:lnTo>
                  <a:lnTo>
                    <a:pt x="2512" y="2735"/>
                  </a:lnTo>
                  <a:lnTo>
                    <a:pt x="2518" y="2754"/>
                  </a:lnTo>
                  <a:lnTo>
                    <a:pt x="2522" y="2776"/>
                  </a:lnTo>
                  <a:lnTo>
                    <a:pt x="2523" y="2801"/>
                  </a:lnTo>
                  <a:lnTo>
                    <a:pt x="2507" y="2802"/>
                  </a:lnTo>
                  <a:lnTo>
                    <a:pt x="2489" y="2803"/>
                  </a:lnTo>
                  <a:lnTo>
                    <a:pt x="2471" y="2805"/>
                  </a:lnTo>
                  <a:lnTo>
                    <a:pt x="2453" y="2808"/>
                  </a:lnTo>
                  <a:lnTo>
                    <a:pt x="2416" y="2814"/>
                  </a:lnTo>
                  <a:lnTo>
                    <a:pt x="2380" y="2821"/>
                  </a:lnTo>
                  <a:lnTo>
                    <a:pt x="2346" y="2829"/>
                  </a:lnTo>
                  <a:lnTo>
                    <a:pt x="2313" y="2835"/>
                  </a:lnTo>
                  <a:lnTo>
                    <a:pt x="2300" y="2839"/>
                  </a:lnTo>
                  <a:lnTo>
                    <a:pt x="2287" y="2840"/>
                  </a:lnTo>
                  <a:lnTo>
                    <a:pt x="2274" y="2842"/>
                  </a:lnTo>
                  <a:lnTo>
                    <a:pt x="2264" y="2842"/>
                  </a:lnTo>
                  <a:lnTo>
                    <a:pt x="2201" y="2767"/>
                  </a:lnTo>
                  <a:lnTo>
                    <a:pt x="2160" y="2761"/>
                  </a:lnTo>
                  <a:lnTo>
                    <a:pt x="1999" y="2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25960" y="3103560"/>
              <a:ext cx="519480" cy="522360"/>
            </a:xfrm>
            <a:custGeom>
              <a:avLst/>
              <a:gdLst/>
              <a:ahLst/>
              <a:rect l="l" t="t" r="r" b="b"/>
              <a:pathLst>
                <a:path w="3023" h="3283">
                  <a:moveTo>
                    <a:pt x="443" y="3064"/>
                  </a:moveTo>
                  <a:lnTo>
                    <a:pt x="453" y="3092"/>
                  </a:lnTo>
                  <a:lnTo>
                    <a:pt x="464" y="3118"/>
                  </a:lnTo>
                  <a:lnTo>
                    <a:pt x="475" y="3145"/>
                  </a:lnTo>
                  <a:lnTo>
                    <a:pt x="487" y="3172"/>
                  </a:lnTo>
                  <a:lnTo>
                    <a:pt x="499" y="3199"/>
                  </a:lnTo>
                  <a:lnTo>
                    <a:pt x="514" y="3225"/>
                  </a:lnTo>
                  <a:lnTo>
                    <a:pt x="523" y="3238"/>
                  </a:lnTo>
                  <a:lnTo>
                    <a:pt x="532" y="3250"/>
                  </a:lnTo>
                  <a:lnTo>
                    <a:pt x="541" y="3264"/>
                  </a:lnTo>
                  <a:lnTo>
                    <a:pt x="552" y="3277"/>
                  </a:lnTo>
                  <a:lnTo>
                    <a:pt x="552" y="3264"/>
                  </a:lnTo>
                  <a:lnTo>
                    <a:pt x="553" y="3253"/>
                  </a:lnTo>
                  <a:lnTo>
                    <a:pt x="555" y="3242"/>
                  </a:lnTo>
                  <a:lnTo>
                    <a:pt x="557" y="3231"/>
                  </a:lnTo>
                  <a:lnTo>
                    <a:pt x="563" y="3212"/>
                  </a:lnTo>
                  <a:lnTo>
                    <a:pt x="569" y="3195"/>
                  </a:lnTo>
                  <a:lnTo>
                    <a:pt x="576" y="3180"/>
                  </a:lnTo>
                  <a:lnTo>
                    <a:pt x="581" y="3165"/>
                  </a:lnTo>
                  <a:lnTo>
                    <a:pt x="583" y="3158"/>
                  </a:lnTo>
                  <a:lnTo>
                    <a:pt x="585" y="3152"/>
                  </a:lnTo>
                  <a:lnTo>
                    <a:pt x="586" y="3145"/>
                  </a:lnTo>
                  <a:lnTo>
                    <a:pt x="586" y="3139"/>
                  </a:lnTo>
                  <a:lnTo>
                    <a:pt x="594" y="3150"/>
                  </a:lnTo>
                  <a:lnTo>
                    <a:pt x="599" y="3160"/>
                  </a:lnTo>
                  <a:lnTo>
                    <a:pt x="605" y="3170"/>
                  </a:lnTo>
                  <a:lnTo>
                    <a:pt x="609" y="3181"/>
                  </a:lnTo>
                  <a:lnTo>
                    <a:pt x="615" y="3200"/>
                  </a:lnTo>
                  <a:lnTo>
                    <a:pt x="620" y="3219"/>
                  </a:lnTo>
                  <a:lnTo>
                    <a:pt x="624" y="3238"/>
                  </a:lnTo>
                  <a:lnTo>
                    <a:pt x="629" y="3254"/>
                  </a:lnTo>
                  <a:lnTo>
                    <a:pt x="631" y="3261"/>
                  </a:lnTo>
                  <a:lnTo>
                    <a:pt x="636" y="3269"/>
                  </a:lnTo>
                  <a:lnTo>
                    <a:pt x="639" y="3276"/>
                  </a:lnTo>
                  <a:lnTo>
                    <a:pt x="644" y="3283"/>
                  </a:lnTo>
                  <a:lnTo>
                    <a:pt x="759" y="3283"/>
                  </a:lnTo>
                  <a:lnTo>
                    <a:pt x="751" y="3258"/>
                  </a:lnTo>
                  <a:lnTo>
                    <a:pt x="746" y="3239"/>
                  </a:lnTo>
                  <a:lnTo>
                    <a:pt x="743" y="3223"/>
                  </a:lnTo>
                  <a:lnTo>
                    <a:pt x="742" y="3209"/>
                  </a:lnTo>
                  <a:lnTo>
                    <a:pt x="743" y="3195"/>
                  </a:lnTo>
                  <a:lnTo>
                    <a:pt x="746" y="3180"/>
                  </a:lnTo>
                  <a:lnTo>
                    <a:pt x="751" y="3161"/>
                  </a:lnTo>
                  <a:lnTo>
                    <a:pt x="759" y="3139"/>
                  </a:lnTo>
                  <a:lnTo>
                    <a:pt x="760" y="3152"/>
                  </a:lnTo>
                  <a:lnTo>
                    <a:pt x="761" y="3164"/>
                  </a:lnTo>
                  <a:lnTo>
                    <a:pt x="763" y="3174"/>
                  </a:lnTo>
                  <a:lnTo>
                    <a:pt x="765" y="3185"/>
                  </a:lnTo>
                  <a:lnTo>
                    <a:pt x="769" y="3196"/>
                  </a:lnTo>
                  <a:lnTo>
                    <a:pt x="772" y="3205"/>
                  </a:lnTo>
                  <a:lnTo>
                    <a:pt x="776" y="3215"/>
                  </a:lnTo>
                  <a:lnTo>
                    <a:pt x="780" y="3224"/>
                  </a:lnTo>
                  <a:lnTo>
                    <a:pt x="790" y="3240"/>
                  </a:lnTo>
                  <a:lnTo>
                    <a:pt x="801" y="3255"/>
                  </a:lnTo>
                  <a:lnTo>
                    <a:pt x="812" y="3270"/>
                  </a:lnTo>
                  <a:lnTo>
                    <a:pt x="823" y="3283"/>
                  </a:lnTo>
                  <a:lnTo>
                    <a:pt x="834" y="3283"/>
                  </a:lnTo>
                  <a:lnTo>
                    <a:pt x="845" y="3281"/>
                  </a:lnTo>
                  <a:lnTo>
                    <a:pt x="855" y="3279"/>
                  </a:lnTo>
                  <a:lnTo>
                    <a:pt x="865" y="3277"/>
                  </a:lnTo>
                  <a:lnTo>
                    <a:pt x="887" y="3272"/>
                  </a:lnTo>
                  <a:lnTo>
                    <a:pt x="906" y="3265"/>
                  </a:lnTo>
                  <a:lnTo>
                    <a:pt x="924" y="3259"/>
                  </a:lnTo>
                  <a:lnTo>
                    <a:pt x="940" y="3254"/>
                  </a:lnTo>
                  <a:lnTo>
                    <a:pt x="955" y="3249"/>
                  </a:lnTo>
                  <a:lnTo>
                    <a:pt x="967" y="3248"/>
                  </a:lnTo>
                  <a:lnTo>
                    <a:pt x="941" y="3216"/>
                  </a:lnTo>
                  <a:lnTo>
                    <a:pt x="924" y="3192"/>
                  </a:lnTo>
                  <a:lnTo>
                    <a:pt x="919" y="3184"/>
                  </a:lnTo>
                  <a:lnTo>
                    <a:pt x="914" y="3177"/>
                  </a:lnTo>
                  <a:lnTo>
                    <a:pt x="912" y="3172"/>
                  </a:lnTo>
                  <a:lnTo>
                    <a:pt x="911" y="3169"/>
                  </a:lnTo>
                  <a:lnTo>
                    <a:pt x="912" y="3168"/>
                  </a:lnTo>
                  <a:lnTo>
                    <a:pt x="914" y="3167"/>
                  </a:lnTo>
                  <a:lnTo>
                    <a:pt x="918" y="3168"/>
                  </a:lnTo>
                  <a:lnTo>
                    <a:pt x="922" y="3170"/>
                  </a:lnTo>
                  <a:lnTo>
                    <a:pt x="934" y="3177"/>
                  </a:lnTo>
                  <a:lnTo>
                    <a:pt x="948" y="3187"/>
                  </a:lnTo>
                  <a:lnTo>
                    <a:pt x="982" y="3215"/>
                  </a:lnTo>
                  <a:lnTo>
                    <a:pt x="1017" y="3245"/>
                  </a:lnTo>
                  <a:lnTo>
                    <a:pt x="1045" y="3270"/>
                  </a:lnTo>
                  <a:lnTo>
                    <a:pt x="1059" y="3283"/>
                  </a:lnTo>
                  <a:lnTo>
                    <a:pt x="1237" y="3283"/>
                  </a:lnTo>
                  <a:lnTo>
                    <a:pt x="1174" y="3207"/>
                  </a:lnTo>
                  <a:lnTo>
                    <a:pt x="1186" y="3202"/>
                  </a:lnTo>
                  <a:lnTo>
                    <a:pt x="1198" y="3198"/>
                  </a:lnTo>
                  <a:lnTo>
                    <a:pt x="1209" y="3196"/>
                  </a:lnTo>
                  <a:lnTo>
                    <a:pt x="1221" y="3195"/>
                  </a:lnTo>
                  <a:lnTo>
                    <a:pt x="1232" y="3195"/>
                  </a:lnTo>
                  <a:lnTo>
                    <a:pt x="1244" y="3197"/>
                  </a:lnTo>
                  <a:lnTo>
                    <a:pt x="1254" y="3200"/>
                  </a:lnTo>
                  <a:lnTo>
                    <a:pt x="1265" y="3204"/>
                  </a:lnTo>
                  <a:lnTo>
                    <a:pt x="1277" y="3210"/>
                  </a:lnTo>
                  <a:lnTo>
                    <a:pt x="1288" y="3217"/>
                  </a:lnTo>
                  <a:lnTo>
                    <a:pt x="1298" y="3225"/>
                  </a:lnTo>
                  <a:lnTo>
                    <a:pt x="1309" y="3234"/>
                  </a:lnTo>
                  <a:lnTo>
                    <a:pt x="1320" y="3245"/>
                  </a:lnTo>
                  <a:lnTo>
                    <a:pt x="1332" y="3257"/>
                  </a:lnTo>
                  <a:lnTo>
                    <a:pt x="1342" y="3269"/>
                  </a:lnTo>
                  <a:lnTo>
                    <a:pt x="1353" y="3283"/>
                  </a:lnTo>
                  <a:lnTo>
                    <a:pt x="1410" y="3207"/>
                  </a:lnTo>
                  <a:lnTo>
                    <a:pt x="1415" y="3209"/>
                  </a:lnTo>
                  <a:lnTo>
                    <a:pt x="1421" y="3210"/>
                  </a:lnTo>
                  <a:lnTo>
                    <a:pt x="1426" y="3212"/>
                  </a:lnTo>
                  <a:lnTo>
                    <a:pt x="1431" y="3214"/>
                  </a:lnTo>
                  <a:lnTo>
                    <a:pt x="1443" y="3220"/>
                  </a:lnTo>
                  <a:lnTo>
                    <a:pt x="1454" y="3228"/>
                  </a:lnTo>
                  <a:lnTo>
                    <a:pt x="1465" y="3235"/>
                  </a:lnTo>
                  <a:lnTo>
                    <a:pt x="1475" y="3242"/>
                  </a:lnTo>
                  <a:lnTo>
                    <a:pt x="1481" y="3244"/>
                  </a:lnTo>
                  <a:lnTo>
                    <a:pt x="1486" y="3246"/>
                  </a:lnTo>
                  <a:lnTo>
                    <a:pt x="1491" y="3247"/>
                  </a:lnTo>
                  <a:lnTo>
                    <a:pt x="1497" y="3248"/>
                  </a:lnTo>
                  <a:lnTo>
                    <a:pt x="1410" y="3139"/>
                  </a:lnTo>
                  <a:lnTo>
                    <a:pt x="1399" y="3138"/>
                  </a:lnTo>
                  <a:lnTo>
                    <a:pt x="1389" y="3137"/>
                  </a:lnTo>
                  <a:lnTo>
                    <a:pt x="1378" y="3135"/>
                  </a:lnTo>
                  <a:lnTo>
                    <a:pt x="1368" y="3132"/>
                  </a:lnTo>
                  <a:lnTo>
                    <a:pt x="1347" y="3126"/>
                  </a:lnTo>
                  <a:lnTo>
                    <a:pt x="1327" y="3118"/>
                  </a:lnTo>
                  <a:lnTo>
                    <a:pt x="1309" y="3111"/>
                  </a:lnTo>
                  <a:lnTo>
                    <a:pt x="1293" y="3105"/>
                  </a:lnTo>
                  <a:lnTo>
                    <a:pt x="1286" y="3102"/>
                  </a:lnTo>
                  <a:lnTo>
                    <a:pt x="1278" y="3100"/>
                  </a:lnTo>
                  <a:lnTo>
                    <a:pt x="1272" y="3099"/>
                  </a:lnTo>
                  <a:lnTo>
                    <a:pt x="1266" y="3098"/>
                  </a:lnTo>
                  <a:lnTo>
                    <a:pt x="1245" y="3107"/>
                  </a:lnTo>
                  <a:lnTo>
                    <a:pt x="1222" y="3114"/>
                  </a:lnTo>
                  <a:lnTo>
                    <a:pt x="1199" y="3122"/>
                  </a:lnTo>
                  <a:lnTo>
                    <a:pt x="1176" y="3127"/>
                  </a:lnTo>
                  <a:lnTo>
                    <a:pt x="1153" y="3132"/>
                  </a:lnTo>
                  <a:lnTo>
                    <a:pt x="1129" y="3137"/>
                  </a:lnTo>
                  <a:lnTo>
                    <a:pt x="1105" y="3140"/>
                  </a:lnTo>
                  <a:lnTo>
                    <a:pt x="1082" y="3141"/>
                  </a:lnTo>
                  <a:lnTo>
                    <a:pt x="1058" y="3142"/>
                  </a:lnTo>
                  <a:lnTo>
                    <a:pt x="1035" y="3141"/>
                  </a:lnTo>
                  <a:lnTo>
                    <a:pt x="1012" y="3138"/>
                  </a:lnTo>
                  <a:lnTo>
                    <a:pt x="991" y="3133"/>
                  </a:lnTo>
                  <a:lnTo>
                    <a:pt x="969" y="3128"/>
                  </a:lnTo>
                  <a:lnTo>
                    <a:pt x="948" y="3120"/>
                  </a:lnTo>
                  <a:lnTo>
                    <a:pt x="938" y="3115"/>
                  </a:lnTo>
                  <a:lnTo>
                    <a:pt x="928" y="3110"/>
                  </a:lnTo>
                  <a:lnTo>
                    <a:pt x="919" y="3105"/>
                  </a:lnTo>
                  <a:lnTo>
                    <a:pt x="909" y="3098"/>
                  </a:lnTo>
                  <a:lnTo>
                    <a:pt x="887" y="3098"/>
                  </a:lnTo>
                  <a:lnTo>
                    <a:pt x="861" y="3099"/>
                  </a:lnTo>
                  <a:lnTo>
                    <a:pt x="833" y="3100"/>
                  </a:lnTo>
                  <a:lnTo>
                    <a:pt x="805" y="3103"/>
                  </a:lnTo>
                  <a:lnTo>
                    <a:pt x="791" y="3106"/>
                  </a:lnTo>
                  <a:lnTo>
                    <a:pt x="777" y="3108"/>
                  </a:lnTo>
                  <a:lnTo>
                    <a:pt x="764" y="3111"/>
                  </a:lnTo>
                  <a:lnTo>
                    <a:pt x="750" y="3115"/>
                  </a:lnTo>
                  <a:lnTo>
                    <a:pt x="738" y="3120"/>
                  </a:lnTo>
                  <a:lnTo>
                    <a:pt x="725" y="3125"/>
                  </a:lnTo>
                  <a:lnTo>
                    <a:pt x="713" y="3131"/>
                  </a:lnTo>
                  <a:lnTo>
                    <a:pt x="702" y="3139"/>
                  </a:lnTo>
                  <a:lnTo>
                    <a:pt x="697" y="3138"/>
                  </a:lnTo>
                  <a:lnTo>
                    <a:pt x="691" y="3137"/>
                  </a:lnTo>
                  <a:lnTo>
                    <a:pt x="686" y="3135"/>
                  </a:lnTo>
                  <a:lnTo>
                    <a:pt x="681" y="3132"/>
                  </a:lnTo>
                  <a:lnTo>
                    <a:pt x="670" y="3126"/>
                  </a:lnTo>
                  <a:lnTo>
                    <a:pt x="658" y="3118"/>
                  </a:lnTo>
                  <a:lnTo>
                    <a:pt x="647" y="3111"/>
                  </a:lnTo>
                  <a:lnTo>
                    <a:pt x="637" y="3105"/>
                  </a:lnTo>
                  <a:lnTo>
                    <a:pt x="631" y="3102"/>
                  </a:lnTo>
                  <a:lnTo>
                    <a:pt x="626" y="3100"/>
                  </a:lnTo>
                  <a:lnTo>
                    <a:pt x="621" y="3099"/>
                  </a:lnTo>
                  <a:lnTo>
                    <a:pt x="615" y="3098"/>
                  </a:lnTo>
                  <a:lnTo>
                    <a:pt x="615" y="3092"/>
                  </a:lnTo>
                  <a:lnTo>
                    <a:pt x="614" y="3085"/>
                  </a:lnTo>
                  <a:lnTo>
                    <a:pt x="612" y="3080"/>
                  </a:lnTo>
                  <a:lnTo>
                    <a:pt x="609" y="3075"/>
                  </a:lnTo>
                  <a:lnTo>
                    <a:pt x="605" y="3069"/>
                  </a:lnTo>
                  <a:lnTo>
                    <a:pt x="599" y="3065"/>
                  </a:lnTo>
                  <a:lnTo>
                    <a:pt x="592" y="3061"/>
                  </a:lnTo>
                  <a:lnTo>
                    <a:pt x="583" y="3057"/>
                  </a:lnTo>
                  <a:lnTo>
                    <a:pt x="572" y="3054"/>
                  </a:lnTo>
                  <a:lnTo>
                    <a:pt x="561" y="3053"/>
                  </a:lnTo>
                  <a:lnTo>
                    <a:pt x="547" y="3052"/>
                  </a:lnTo>
                  <a:lnTo>
                    <a:pt x="531" y="3052"/>
                  </a:lnTo>
                  <a:lnTo>
                    <a:pt x="512" y="3053"/>
                  </a:lnTo>
                  <a:lnTo>
                    <a:pt x="492" y="3055"/>
                  </a:lnTo>
                  <a:lnTo>
                    <a:pt x="468" y="3059"/>
                  </a:lnTo>
                  <a:lnTo>
                    <a:pt x="443" y="3064"/>
                  </a:lnTo>
                  <a:close/>
                  <a:moveTo>
                    <a:pt x="2931" y="138"/>
                  </a:moveTo>
                  <a:lnTo>
                    <a:pt x="2950" y="139"/>
                  </a:lnTo>
                  <a:lnTo>
                    <a:pt x="2967" y="141"/>
                  </a:lnTo>
                  <a:lnTo>
                    <a:pt x="2983" y="147"/>
                  </a:lnTo>
                  <a:lnTo>
                    <a:pt x="2996" y="153"/>
                  </a:lnTo>
                  <a:lnTo>
                    <a:pt x="3003" y="156"/>
                  </a:lnTo>
                  <a:lnTo>
                    <a:pt x="3008" y="161"/>
                  </a:lnTo>
                  <a:lnTo>
                    <a:pt x="3012" y="165"/>
                  </a:lnTo>
                  <a:lnTo>
                    <a:pt x="3017" y="169"/>
                  </a:lnTo>
                  <a:lnTo>
                    <a:pt x="3019" y="174"/>
                  </a:lnTo>
                  <a:lnTo>
                    <a:pt x="3022" y="179"/>
                  </a:lnTo>
                  <a:lnTo>
                    <a:pt x="3023" y="184"/>
                  </a:lnTo>
                  <a:lnTo>
                    <a:pt x="3023" y="190"/>
                  </a:lnTo>
                  <a:lnTo>
                    <a:pt x="3023" y="195"/>
                  </a:lnTo>
                  <a:lnTo>
                    <a:pt x="3022" y="200"/>
                  </a:lnTo>
                  <a:lnTo>
                    <a:pt x="3019" y="206"/>
                  </a:lnTo>
                  <a:lnTo>
                    <a:pt x="3017" y="211"/>
                  </a:lnTo>
                  <a:lnTo>
                    <a:pt x="3012" y="215"/>
                  </a:lnTo>
                  <a:lnTo>
                    <a:pt x="3008" y="221"/>
                  </a:lnTo>
                  <a:lnTo>
                    <a:pt x="3003" y="225"/>
                  </a:lnTo>
                  <a:lnTo>
                    <a:pt x="2996" y="229"/>
                  </a:lnTo>
                  <a:lnTo>
                    <a:pt x="2990" y="233"/>
                  </a:lnTo>
                  <a:lnTo>
                    <a:pt x="2983" y="237"/>
                  </a:lnTo>
                  <a:lnTo>
                    <a:pt x="2976" y="240"/>
                  </a:lnTo>
                  <a:lnTo>
                    <a:pt x="2967" y="242"/>
                  </a:lnTo>
                  <a:lnTo>
                    <a:pt x="2959" y="244"/>
                  </a:lnTo>
                  <a:lnTo>
                    <a:pt x="2950" y="245"/>
                  </a:lnTo>
                  <a:lnTo>
                    <a:pt x="2940" y="247"/>
                  </a:lnTo>
                  <a:lnTo>
                    <a:pt x="2931" y="248"/>
                  </a:lnTo>
                  <a:lnTo>
                    <a:pt x="2921" y="247"/>
                  </a:lnTo>
                  <a:lnTo>
                    <a:pt x="2911" y="245"/>
                  </a:lnTo>
                  <a:lnTo>
                    <a:pt x="2903" y="244"/>
                  </a:lnTo>
                  <a:lnTo>
                    <a:pt x="2894" y="242"/>
                  </a:lnTo>
                  <a:lnTo>
                    <a:pt x="2886" y="240"/>
                  </a:lnTo>
                  <a:lnTo>
                    <a:pt x="2877" y="237"/>
                  </a:lnTo>
                  <a:lnTo>
                    <a:pt x="2870" y="233"/>
                  </a:lnTo>
                  <a:lnTo>
                    <a:pt x="2863" y="229"/>
                  </a:lnTo>
                  <a:lnTo>
                    <a:pt x="2856" y="225"/>
                  </a:lnTo>
                  <a:lnTo>
                    <a:pt x="2850" y="221"/>
                  </a:lnTo>
                  <a:lnTo>
                    <a:pt x="2845" y="215"/>
                  </a:lnTo>
                  <a:lnTo>
                    <a:pt x="2841" y="211"/>
                  </a:lnTo>
                  <a:lnTo>
                    <a:pt x="2837" y="206"/>
                  </a:lnTo>
                  <a:lnTo>
                    <a:pt x="2835" y="200"/>
                  </a:lnTo>
                  <a:lnTo>
                    <a:pt x="2833" y="195"/>
                  </a:lnTo>
                  <a:lnTo>
                    <a:pt x="2833" y="190"/>
                  </a:lnTo>
                  <a:lnTo>
                    <a:pt x="2833" y="184"/>
                  </a:lnTo>
                  <a:lnTo>
                    <a:pt x="2835" y="179"/>
                  </a:lnTo>
                  <a:lnTo>
                    <a:pt x="2837" y="174"/>
                  </a:lnTo>
                  <a:lnTo>
                    <a:pt x="2841" y="169"/>
                  </a:lnTo>
                  <a:lnTo>
                    <a:pt x="2845" y="165"/>
                  </a:lnTo>
                  <a:lnTo>
                    <a:pt x="2850" y="161"/>
                  </a:lnTo>
                  <a:lnTo>
                    <a:pt x="2856" y="156"/>
                  </a:lnTo>
                  <a:lnTo>
                    <a:pt x="2863" y="153"/>
                  </a:lnTo>
                  <a:lnTo>
                    <a:pt x="2877" y="147"/>
                  </a:lnTo>
                  <a:lnTo>
                    <a:pt x="2894" y="141"/>
                  </a:lnTo>
                  <a:lnTo>
                    <a:pt x="2911" y="139"/>
                  </a:lnTo>
                  <a:lnTo>
                    <a:pt x="2931" y="138"/>
                  </a:lnTo>
                  <a:close/>
                  <a:moveTo>
                    <a:pt x="97" y="0"/>
                  </a:moveTo>
                  <a:lnTo>
                    <a:pt x="107" y="0"/>
                  </a:lnTo>
                  <a:lnTo>
                    <a:pt x="117" y="1"/>
                  </a:lnTo>
                  <a:lnTo>
                    <a:pt x="125" y="2"/>
                  </a:lnTo>
                  <a:lnTo>
                    <a:pt x="134" y="4"/>
                  </a:lnTo>
                  <a:lnTo>
                    <a:pt x="142" y="7"/>
                  </a:lnTo>
                  <a:lnTo>
                    <a:pt x="151" y="11"/>
                  </a:lnTo>
                  <a:lnTo>
                    <a:pt x="158" y="15"/>
                  </a:lnTo>
                  <a:lnTo>
                    <a:pt x="166" y="19"/>
                  </a:lnTo>
                  <a:lnTo>
                    <a:pt x="172" y="24"/>
                  </a:lnTo>
                  <a:lnTo>
                    <a:pt x="178" y="29"/>
                  </a:lnTo>
                  <a:lnTo>
                    <a:pt x="183" y="35"/>
                  </a:lnTo>
                  <a:lnTo>
                    <a:pt x="187" y="41"/>
                  </a:lnTo>
                  <a:lnTo>
                    <a:pt x="191" y="47"/>
                  </a:lnTo>
                  <a:lnTo>
                    <a:pt x="193" y="55"/>
                  </a:lnTo>
                  <a:lnTo>
                    <a:pt x="195" y="61"/>
                  </a:lnTo>
                  <a:lnTo>
                    <a:pt x="195" y="69"/>
                  </a:lnTo>
                  <a:lnTo>
                    <a:pt x="195" y="75"/>
                  </a:lnTo>
                  <a:lnTo>
                    <a:pt x="193" y="81"/>
                  </a:lnTo>
                  <a:lnTo>
                    <a:pt x="191" y="88"/>
                  </a:lnTo>
                  <a:lnTo>
                    <a:pt x="187" y="93"/>
                  </a:lnTo>
                  <a:lnTo>
                    <a:pt x="183" y="99"/>
                  </a:lnTo>
                  <a:lnTo>
                    <a:pt x="178" y="104"/>
                  </a:lnTo>
                  <a:lnTo>
                    <a:pt x="172" y="109"/>
                  </a:lnTo>
                  <a:lnTo>
                    <a:pt x="166" y="114"/>
                  </a:lnTo>
                  <a:lnTo>
                    <a:pt x="158" y="118"/>
                  </a:lnTo>
                  <a:lnTo>
                    <a:pt x="151" y="121"/>
                  </a:lnTo>
                  <a:lnTo>
                    <a:pt x="142" y="124"/>
                  </a:lnTo>
                  <a:lnTo>
                    <a:pt x="134" y="128"/>
                  </a:lnTo>
                  <a:lnTo>
                    <a:pt x="125" y="130"/>
                  </a:lnTo>
                  <a:lnTo>
                    <a:pt x="117" y="131"/>
                  </a:lnTo>
                  <a:lnTo>
                    <a:pt x="107" y="132"/>
                  </a:lnTo>
                  <a:lnTo>
                    <a:pt x="97" y="132"/>
                  </a:lnTo>
                  <a:lnTo>
                    <a:pt x="88" y="132"/>
                  </a:lnTo>
                  <a:lnTo>
                    <a:pt x="78" y="131"/>
                  </a:lnTo>
                  <a:lnTo>
                    <a:pt x="68" y="130"/>
                  </a:lnTo>
                  <a:lnTo>
                    <a:pt x="60" y="128"/>
                  </a:lnTo>
                  <a:lnTo>
                    <a:pt x="51" y="124"/>
                  </a:lnTo>
                  <a:lnTo>
                    <a:pt x="44" y="121"/>
                  </a:lnTo>
                  <a:lnTo>
                    <a:pt x="36" y="118"/>
                  </a:lnTo>
                  <a:lnTo>
                    <a:pt x="29" y="114"/>
                  </a:lnTo>
                  <a:lnTo>
                    <a:pt x="22" y="109"/>
                  </a:lnTo>
                  <a:lnTo>
                    <a:pt x="17" y="104"/>
                  </a:lnTo>
                  <a:lnTo>
                    <a:pt x="11" y="99"/>
                  </a:lnTo>
                  <a:lnTo>
                    <a:pt x="7" y="93"/>
                  </a:lnTo>
                  <a:lnTo>
                    <a:pt x="4" y="88"/>
                  </a:lnTo>
                  <a:lnTo>
                    <a:pt x="1" y="81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1"/>
                  </a:lnTo>
                  <a:lnTo>
                    <a:pt x="1" y="55"/>
                  </a:lnTo>
                  <a:lnTo>
                    <a:pt x="4" y="47"/>
                  </a:lnTo>
                  <a:lnTo>
                    <a:pt x="7" y="41"/>
                  </a:lnTo>
                  <a:lnTo>
                    <a:pt x="11" y="35"/>
                  </a:lnTo>
                  <a:lnTo>
                    <a:pt x="17" y="29"/>
                  </a:lnTo>
                  <a:lnTo>
                    <a:pt x="22" y="24"/>
                  </a:lnTo>
                  <a:lnTo>
                    <a:pt x="29" y="19"/>
                  </a:lnTo>
                  <a:lnTo>
                    <a:pt x="36" y="15"/>
                  </a:lnTo>
                  <a:lnTo>
                    <a:pt x="44" y="11"/>
                  </a:lnTo>
                  <a:lnTo>
                    <a:pt x="51" y="7"/>
                  </a:lnTo>
                  <a:lnTo>
                    <a:pt x="60" y="4"/>
                  </a:lnTo>
                  <a:lnTo>
                    <a:pt x="68" y="2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沟通中树立双赢思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476440" y="2590920"/>
          <a:ext cx="5283000" cy="30985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</a:tblGrid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双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输你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赢你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输你也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385080" y="205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4320" y="205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74880" y="309852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81720" y="44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06640" y="165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69160" y="367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19520" y="30481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7840" y="2286000"/>
            <a:ext cx="67690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20" y="2743200"/>
            <a:ext cx="65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家不要生气，生气会犯嗔戒的。你也太调皮了，我跟你说过，叫你不要乱扔东西，乱扔东西是不对的。诺，你看，我还没有说完呢，你把棍子又给扔掉了。月光宝盒是宝物，你把它扔掉会污染环境。唉，要是砸到小朋友呢怎么办？就算没砸到小朋友，砸到那些花花草草也总是不对的呀。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某大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47920"/>
            <a:ext cx="61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是良好沟通吗？有什么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5680" y="380880"/>
            <a:ext cx="4146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85720" y="1523880"/>
            <a:ext cx="808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信息传送给对方，并期望得到对方作出相应反应效果的过程。我们做的每一件事情都是在沟通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2819520"/>
            <a:ext cx="8420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是一个过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05840" y="2895480"/>
            <a:ext cx="1576080" cy="1220760"/>
          </a:xfrm>
          <a:prstGeom prst="wedgeEllipseCallout">
            <a:avLst>
              <a:gd name="adj1" fmla="val -49782"/>
              <a:gd name="adj2" fmla="val 51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04080" y="4091040"/>
            <a:ext cx="345960" cy="57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76680" y="4108320"/>
            <a:ext cx="350640" cy="592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97240" y="3505320"/>
            <a:ext cx="961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352680"/>
            <a:ext cx="801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码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00400" y="3708360"/>
            <a:ext cx="457200" cy="112680"/>
          </a:xfrm>
          <a:custGeom>
            <a:avLst/>
            <a:gdLst/>
            <a:ahLst/>
            <a:rect l="l" t="t" r="r" b="b"/>
            <a:pathLst>
              <a:path w="384" h="160">
                <a:moveTo>
                  <a:pt x="0" y="64"/>
                </a:moveTo>
                <a:cubicBezTo>
                  <a:pt x="36" y="68"/>
                  <a:pt x="72" y="72"/>
                  <a:pt x="96" y="64"/>
                </a:cubicBezTo>
                <a:cubicBezTo>
                  <a:pt x="120" y="56"/>
                  <a:pt x="120" y="0"/>
                  <a:pt x="144" y="16"/>
                </a:cubicBezTo>
                <a:cubicBezTo>
                  <a:pt x="168" y="32"/>
                  <a:pt x="208" y="160"/>
                  <a:pt x="240" y="160"/>
                </a:cubicBezTo>
                <a:cubicBezTo>
                  <a:pt x="272" y="160"/>
                  <a:pt x="312" y="24"/>
                  <a:pt x="336" y="16"/>
                </a:cubicBezTo>
                <a:cubicBezTo>
                  <a:pt x="360" y="8"/>
                  <a:pt x="368" y="96"/>
                  <a:pt x="38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57600" y="378144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6520" y="3700440"/>
            <a:ext cx="460080" cy="112680"/>
          </a:xfrm>
          <a:custGeom>
            <a:avLst/>
            <a:gdLst/>
            <a:ahLst/>
            <a:rect l="l" t="t" r="r" b="b"/>
            <a:pathLst>
              <a:path w="384" h="160">
                <a:moveTo>
                  <a:pt x="0" y="64"/>
                </a:moveTo>
                <a:cubicBezTo>
                  <a:pt x="36" y="68"/>
                  <a:pt x="72" y="72"/>
                  <a:pt x="96" y="64"/>
                </a:cubicBezTo>
                <a:cubicBezTo>
                  <a:pt x="120" y="56"/>
                  <a:pt x="120" y="0"/>
                  <a:pt x="144" y="16"/>
                </a:cubicBezTo>
                <a:cubicBezTo>
                  <a:pt x="168" y="32"/>
                  <a:pt x="208" y="160"/>
                  <a:pt x="240" y="160"/>
                </a:cubicBezTo>
                <a:cubicBezTo>
                  <a:pt x="272" y="160"/>
                  <a:pt x="312" y="24"/>
                  <a:pt x="336" y="16"/>
                </a:cubicBezTo>
                <a:cubicBezTo>
                  <a:pt x="360" y="8"/>
                  <a:pt x="368" y="96"/>
                  <a:pt x="38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46600" y="377676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36960" y="2971800"/>
            <a:ext cx="4604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127320" y="3854520"/>
            <a:ext cx="343080" cy="203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2800" y="3887640"/>
            <a:ext cx="344520" cy="169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52600" y="3429000"/>
            <a:ext cx="1650960" cy="762120"/>
          </a:xfrm>
          <a:prstGeom prst="wedgeEllipseCallout">
            <a:avLst>
              <a:gd name="adj1" fmla="val 29689"/>
              <a:gd name="adj2" fmla="val 3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17840" y="3429000"/>
            <a:ext cx="13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算发送的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26320" y="3048120"/>
            <a:ext cx="96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到的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676920" y="4734000"/>
            <a:ext cx="285840" cy="23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31000" y="5021280"/>
            <a:ext cx="801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8000" y="4994280"/>
            <a:ext cx="513000" cy="192240"/>
          </a:xfrm>
          <a:custGeom>
            <a:avLst/>
            <a:gdLst/>
            <a:ahLst/>
            <a:rect l="l" t="t" r="r" b="b"/>
            <a:pathLst>
              <a:path w="432" h="272">
                <a:moveTo>
                  <a:pt x="432" y="160"/>
                </a:moveTo>
                <a:cubicBezTo>
                  <a:pt x="396" y="164"/>
                  <a:pt x="360" y="168"/>
                  <a:pt x="336" y="160"/>
                </a:cubicBezTo>
                <a:cubicBezTo>
                  <a:pt x="312" y="152"/>
                  <a:pt x="304" y="96"/>
                  <a:pt x="288" y="112"/>
                </a:cubicBezTo>
                <a:cubicBezTo>
                  <a:pt x="272" y="128"/>
                  <a:pt x="264" y="272"/>
                  <a:pt x="240" y="256"/>
                </a:cubicBezTo>
                <a:cubicBezTo>
                  <a:pt x="216" y="240"/>
                  <a:pt x="168" y="32"/>
                  <a:pt x="144" y="16"/>
                </a:cubicBezTo>
                <a:cubicBezTo>
                  <a:pt x="120" y="0"/>
                  <a:pt x="120" y="136"/>
                  <a:pt x="96" y="160"/>
                </a:cubicBezTo>
                <a:cubicBezTo>
                  <a:pt x="72" y="184"/>
                  <a:pt x="16" y="160"/>
                  <a:pt x="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02080" y="51069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43440" y="4971960"/>
            <a:ext cx="3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3080" y="4997520"/>
            <a:ext cx="516240" cy="191880"/>
          </a:xfrm>
          <a:custGeom>
            <a:avLst/>
            <a:gdLst/>
            <a:ahLst/>
            <a:rect l="l" t="t" r="r" b="b"/>
            <a:pathLst>
              <a:path w="432" h="272">
                <a:moveTo>
                  <a:pt x="432" y="160"/>
                </a:moveTo>
                <a:cubicBezTo>
                  <a:pt x="396" y="164"/>
                  <a:pt x="360" y="168"/>
                  <a:pt x="336" y="160"/>
                </a:cubicBezTo>
                <a:cubicBezTo>
                  <a:pt x="312" y="152"/>
                  <a:pt x="304" y="96"/>
                  <a:pt x="288" y="112"/>
                </a:cubicBezTo>
                <a:cubicBezTo>
                  <a:pt x="272" y="128"/>
                  <a:pt x="264" y="272"/>
                  <a:pt x="240" y="256"/>
                </a:cubicBezTo>
                <a:cubicBezTo>
                  <a:pt x="216" y="240"/>
                  <a:pt x="168" y="32"/>
                  <a:pt x="144" y="16"/>
                </a:cubicBezTo>
                <a:cubicBezTo>
                  <a:pt x="120" y="0"/>
                  <a:pt x="120" y="136"/>
                  <a:pt x="96" y="160"/>
                </a:cubicBezTo>
                <a:cubicBezTo>
                  <a:pt x="72" y="184"/>
                  <a:pt x="16" y="160"/>
                  <a:pt x="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100040" y="511164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029200"/>
            <a:ext cx="801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码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952360" y="4768560"/>
            <a:ext cx="230040" cy="23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5433840"/>
            <a:ext cx="459000" cy="113040"/>
          </a:xfrm>
          <a:custGeom>
            <a:avLst/>
            <a:gdLst/>
            <a:ahLst/>
            <a:rect l="l" t="t" r="r" b="b"/>
            <a:pathLst>
              <a:path w="384" h="160">
                <a:moveTo>
                  <a:pt x="0" y="64"/>
                </a:moveTo>
                <a:cubicBezTo>
                  <a:pt x="36" y="68"/>
                  <a:pt x="72" y="72"/>
                  <a:pt x="96" y="64"/>
                </a:cubicBezTo>
                <a:cubicBezTo>
                  <a:pt x="120" y="56"/>
                  <a:pt x="120" y="0"/>
                  <a:pt x="144" y="16"/>
                </a:cubicBezTo>
                <a:cubicBezTo>
                  <a:pt x="168" y="32"/>
                  <a:pt x="208" y="160"/>
                  <a:pt x="240" y="160"/>
                </a:cubicBezTo>
                <a:cubicBezTo>
                  <a:pt x="272" y="160"/>
                  <a:pt x="312" y="24"/>
                  <a:pt x="336" y="16"/>
                </a:cubicBezTo>
                <a:cubicBezTo>
                  <a:pt x="360" y="8"/>
                  <a:pt x="368" y="96"/>
                  <a:pt x="38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51600" y="5508720"/>
            <a:ext cx="172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56386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噪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4294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10120" y="42926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受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80880"/>
            <a:ext cx="222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05:28:16Z</dcterms:created>
  <dc:creator>ZengMaojun</dc:creator>
  <dc:description/>
  <dc:language>en-US</dc:language>
  <cp:lastModifiedBy>Zeng</cp:lastModifiedBy>
  <cp:lastPrinted>1999-12-28T05:53:47Z</cp:lastPrinted>
  <dcterms:modified xsi:type="dcterms:W3CDTF">2004-02-06T07:30:58Z</dcterms:modified>
  <cp:revision>371</cp:revision>
  <dc:subject/>
  <dc:title>团队与沟通</dc:title>
</cp:coreProperties>
</file>