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3900-442C-4176-ADEF-2C4C563B7EA1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0B4-C320-4BFD-BFDB-9060E8F53E9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系统安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的准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安装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安装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安装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载入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学习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多操作系统共存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最佳配置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安装，自由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概念及其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始化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不同的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类存储管理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的表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362320"/>
            <a:ext cx="2590560" cy="5814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/dev/hda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514600"/>
            <a:ext cx="2895840" cy="343080"/>
          </a:xfrm>
          <a:prstGeom prst="borderCallout1">
            <a:avLst>
              <a:gd name="adj1" fmla="val 18750"/>
              <a:gd name="adj2" fmla="val -8333"/>
              <a:gd name="adj3" fmla="val 37962"/>
              <a:gd name="adj4" fmla="val -15023"/>
            </a:avLst>
          </a:prstGeom>
          <a:solidFill>
            <a:srgbClr val="cc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用文件来表示硬件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2120" y="2895480"/>
            <a:ext cx="1981080" cy="2513880"/>
            <a:chOff x="762120" y="2895480"/>
            <a:chExt cx="1981080" cy="2513880"/>
          </a:xfrm>
        </p:grpSpPr>
        <p:sp>
          <p:nvSpPr>
            <p:cNvPr id="206" name=""/>
            <p:cNvSpPr/>
            <p:nvPr/>
          </p:nvSpPr>
          <p:spPr>
            <a:xfrm>
              <a:off x="1828800" y="289548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3554280"/>
              <a:ext cx="1447920" cy="1855080"/>
            </a:xfrm>
            <a:prstGeom prst="borderCallout2">
              <a:avLst>
                <a:gd name="adj1" fmla="val 18750"/>
                <a:gd name="adj2" fmla="val -8333"/>
                <a:gd name="adj3" fmla="val 9675"/>
                <a:gd name="adj4" fmla="val 117212"/>
                <a:gd name="adj5" fmla="val -34273"/>
                <a:gd name="adj6" fmla="val 129384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所有硬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文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目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95480" y="2895480"/>
            <a:ext cx="1828800" cy="2514600"/>
            <a:chOff x="2895480" y="2895480"/>
            <a:chExt cx="1828800" cy="2514600"/>
          </a:xfrm>
        </p:grpSpPr>
        <p:sp>
          <p:nvSpPr>
            <p:cNvPr id="209" name=""/>
            <p:cNvSpPr/>
            <p:nvPr/>
          </p:nvSpPr>
          <p:spPr>
            <a:xfrm>
              <a:off x="2895480" y="28954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3581280"/>
              <a:ext cx="1523880" cy="1828800"/>
            </a:xfrm>
            <a:prstGeom prst="borderCallout2">
              <a:avLst>
                <a:gd name="adj1" fmla="val 18750"/>
                <a:gd name="adj2" fmla="val -8333"/>
                <a:gd name="adj3" fmla="val 6250"/>
                <a:gd name="adj4" fmla="val -10208"/>
                <a:gd name="adj5" fmla="val -36717"/>
                <a:gd name="adj6" fmla="val -15625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硬件设备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号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hd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IDE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d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C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7600" y="2895480"/>
            <a:ext cx="2971440" cy="2514240"/>
            <a:chOff x="3657600" y="2895480"/>
            <a:chExt cx="2971440" cy="2514240"/>
          </a:xfrm>
        </p:grpSpPr>
        <p:sp>
          <p:nvSpPr>
            <p:cNvPr id="212" name=""/>
            <p:cNvSpPr/>
            <p:nvPr/>
          </p:nvSpPr>
          <p:spPr>
            <a:xfrm>
              <a:off x="3657600" y="2895480"/>
              <a:ext cx="202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2960" y="3327840"/>
              <a:ext cx="1756080" cy="2081880"/>
            </a:xfrm>
            <a:prstGeom prst="borderCallout2">
              <a:avLst>
                <a:gd name="adj1" fmla="val 18750"/>
                <a:gd name="adj2" fmla="val -8333"/>
                <a:gd name="adj3" fmla="val 5662"/>
                <a:gd name="adj4" fmla="val -34055"/>
                <a:gd name="adj5" fmla="val -20754"/>
                <a:gd name="adj6" fmla="val -65384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类型设备的编号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第一个硬盘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第二个硬盘，如此类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86200" y="1828800"/>
            <a:ext cx="2666880" cy="1066680"/>
            <a:chOff x="3886200" y="1828800"/>
            <a:chExt cx="2666880" cy="1066680"/>
          </a:xfrm>
        </p:grpSpPr>
        <p:sp>
          <p:nvSpPr>
            <p:cNvPr id="215" name=""/>
            <p:cNvSpPr/>
            <p:nvPr/>
          </p:nvSpPr>
          <p:spPr>
            <a:xfrm>
              <a:off x="3886200" y="289548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1828800"/>
              <a:ext cx="121896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5337"/>
                <a:gd name="adj5" fmla="val 311111"/>
                <a:gd name="adj6" fmla="val -106250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区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241720" y="4343400"/>
          <a:ext cx="3714480" cy="18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343400"/>
                    <a:ext cx="3714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分区装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rcRect l="0" t="54191" r="32043" b="32288"/>
          <a:stretch/>
        </p:blipFill>
        <p:spPr>
          <a:xfrm>
            <a:off x="1219320" y="2133720"/>
            <a:ext cx="6627600" cy="98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5181480" y="49528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7242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9528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5181480"/>
            <a:ext cx="53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5638680"/>
            <a:ext cx="13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3429000"/>
            <a:ext cx="30492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429000"/>
            <a:ext cx="68580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3429000"/>
            <a:ext cx="838440" cy="337680"/>
          </a:xfrm>
          <a:prstGeom prst="rect">
            <a:avLst/>
          </a:prstGeom>
          <a:solidFill>
            <a:srgbClr val="cc99ff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3429000"/>
            <a:ext cx="83844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u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429000"/>
            <a:ext cx="121932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usr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429000"/>
            <a:ext cx="1523880" cy="337680"/>
          </a:xfrm>
          <a:prstGeom prst="rect">
            <a:avLst/>
          </a:prstGeom>
          <a:solidFill>
            <a:srgbClr val="cc99ff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oot/gr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809880"/>
            <a:ext cx="1143000" cy="11430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3809880"/>
            <a:ext cx="685800" cy="9907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3809880"/>
            <a:ext cx="2286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57240" y="3809880"/>
            <a:ext cx="304920" cy="8384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48320" y="3809880"/>
            <a:ext cx="1295280" cy="8384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86040" y="3886200"/>
            <a:ext cx="152388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安装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安装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writ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系统载入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加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3048120"/>
            <a:ext cx="143964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自检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BIO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装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MB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代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7692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启动代码运行，载入指定操作系统内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0400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操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3352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334120" cy="3333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639040" cy="342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起源和发展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计算机发展历史中的地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工程的相关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诞生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功能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与其它操作系统的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过程中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定网络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完成后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与登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登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登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登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1543" t="4104" r="0" b="0"/>
          <a:stretch/>
        </p:blipFill>
        <p:spPr>
          <a:xfrm>
            <a:off x="1676520" y="2133720"/>
            <a:ext cx="510516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登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登录（文本方式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12502" r="41419" b="38539"/>
          <a:stretch/>
        </p:blipFill>
        <p:spPr>
          <a:xfrm>
            <a:off x="1143000" y="2209680"/>
            <a:ext cx="5713560" cy="358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和一系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及程序组成。根据其所处的位置，从内向外依次分为：内核、运行期库和系统程序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实用工具程序四个层次。外层向内层提出相关请求，递归调用到内核完成外部硬件管理或计算命令，然后将结果逐级返回到外部调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虚拟文件系统支持多个不同的文件系统，在不同的系统之间共享资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的文件系统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文件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类型：普通文件、目录文件、链接文件和特殊文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通过目录将系统中的所有文件分级、分层组织在一起，形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树型层次结构。以根目录为起点，所有其他目录都由根目录派生而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/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部分程序的执行从不同的配置文件中获得相关的信息，执行不同的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分区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xxy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系统中登记，必须通过装载才能被其它应用程序访问读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d Hat 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可以采用光盘、硬盘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方式进行，也可以使用软盘启动安装。安装启动软盘的制作可分别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wri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多系统装载程序可以在一个机器中安装多个操作系统，可以在启动时选择需要启动的系统，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包中使用最多的装载程序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L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安装光盘，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环境，安装过程中主要注意规划好磁盘分区、软件包选择和启动装载器的安装位置等问题，并在最后制作系统启动软盘，防止因装载器的问题不能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通用安装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磁盘分区的原则和分区工具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系统启动的过程，了解启动装载器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台的组成成分及应用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920" y="1706040"/>
            <a:ext cx="698976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基本组成及文件系统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安装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磁盘分区的基本知识及其与系统安装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统管理员进行全面的控制和定制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步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步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应用程序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制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05520" cy="34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登录安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0" t="1644" r="0" b="0"/>
          <a:stretch/>
        </p:blipFill>
        <p:spPr>
          <a:xfrm>
            <a:off x="1447920" y="2286000"/>
            <a:ext cx="4952880" cy="32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/Uni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文件系统与目录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/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配置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057400"/>
            <a:ext cx="4267080" cy="3733920"/>
          </a:xfrm>
          <a:prstGeom prst="rect">
            <a:avLst/>
          </a:prstGeom>
          <a:solidFill>
            <a:srgbClr val="ff00ff">
              <a:alpha val="70000"/>
            </a:srgbClr>
          </a:soli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666880"/>
            <a:ext cx="3353040" cy="259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276720"/>
            <a:ext cx="2514600" cy="1371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809880"/>
            <a:ext cx="1676520" cy="386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Linu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内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71800" y="3429000"/>
            <a:ext cx="1676520" cy="1224360"/>
            <a:chOff x="2971800" y="3429000"/>
            <a:chExt cx="1676520" cy="1224360"/>
          </a:xfrm>
        </p:grpSpPr>
        <p:sp>
          <p:nvSpPr>
            <p:cNvPr id="103" name=""/>
            <p:cNvSpPr/>
            <p:nvPr/>
          </p:nvSpPr>
          <p:spPr>
            <a:xfrm>
              <a:off x="2971800" y="3429000"/>
              <a:ext cx="1676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运行期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1800" y="4267080"/>
              <a:ext cx="1676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系统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48120" y="2895480"/>
            <a:ext cx="13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209680"/>
            <a:ext cx="2057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实用工具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文件系统与目录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133720"/>
            <a:ext cx="1447920" cy="386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应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590920"/>
            <a:ext cx="228600" cy="761760"/>
          </a:xfrm>
          <a:prstGeom prst="upDownArrow">
            <a:avLst>
              <a:gd name="adj1" fmla="val 50000"/>
              <a:gd name="adj2" fmla="val 66337"/>
            </a:avLst>
          </a:prstGeom>
          <a:solidFill>
            <a:srgbClr val="cc99ff"/>
          </a:solidFill>
          <a:ln w="12600">
            <a:solidFill>
              <a:srgbClr val="66669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90920" y="3352680"/>
            <a:ext cx="2133360" cy="462600"/>
            <a:chOff x="2590920" y="3352680"/>
            <a:chExt cx="2133360" cy="462600"/>
          </a:xfrm>
        </p:grpSpPr>
        <p:sp>
          <p:nvSpPr>
            <p:cNvPr id="112" name=""/>
            <p:cNvSpPr/>
            <p:nvPr/>
          </p:nvSpPr>
          <p:spPr>
            <a:xfrm>
              <a:off x="2590920" y="3352680"/>
              <a:ext cx="213336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429000"/>
              <a:ext cx="990360" cy="386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VF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4267080"/>
            <a:ext cx="160020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Reiser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828440" y="3809880"/>
            <a:ext cx="762120" cy="38124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267080"/>
            <a:ext cx="99072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52680" y="3809880"/>
            <a:ext cx="0" cy="4572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267080"/>
            <a:ext cx="106704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809880"/>
            <a:ext cx="0" cy="4572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267080"/>
            <a:ext cx="144792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ISO966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809880"/>
            <a:ext cx="762120" cy="38124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724280"/>
            <a:ext cx="91440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4724280"/>
            <a:ext cx="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724280"/>
            <a:ext cx="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648320" y="4648320"/>
            <a:ext cx="914400" cy="76176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743200"/>
            <a:ext cx="2210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文件访问请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90920" y="5410080"/>
            <a:ext cx="2057400" cy="810000"/>
            <a:chOff x="2590920" y="5410080"/>
            <a:chExt cx="2057400" cy="810000"/>
          </a:xfrm>
        </p:grpSpPr>
        <p:sp>
          <p:nvSpPr>
            <p:cNvPr id="128" name=""/>
            <p:cNvSpPr/>
            <p:nvPr/>
          </p:nvSpPr>
          <p:spPr>
            <a:xfrm>
              <a:off x="2590920" y="5410080"/>
              <a:ext cx="2057400" cy="386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设备驱动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5833800"/>
              <a:ext cx="2057400" cy="38628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存储设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文件系统与目录结构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名：字母、数字、下划线、圆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链接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殊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文件系统与目录结构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结构及目录路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057400"/>
            <a:ext cx="685800" cy="288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880" y="2362320"/>
            <a:ext cx="8001000" cy="745560"/>
            <a:chOff x="380880" y="2362320"/>
            <a:chExt cx="8001000" cy="745560"/>
          </a:xfrm>
        </p:grpSpPr>
        <p:sp>
          <p:nvSpPr>
            <p:cNvPr id="136" name=""/>
            <p:cNvSpPr/>
            <p:nvPr/>
          </p:nvSpPr>
          <p:spPr>
            <a:xfrm>
              <a:off x="8001000" y="2514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80880" y="2362320"/>
              <a:ext cx="8001000" cy="745560"/>
              <a:chOff x="380880" y="2362320"/>
              <a:chExt cx="8001000" cy="745560"/>
            </a:xfrm>
          </p:grpSpPr>
          <p:sp>
            <p:nvSpPr>
              <p:cNvPr id="138" name=""/>
              <p:cNvSpPr/>
              <p:nvPr/>
            </p:nvSpPr>
            <p:spPr>
              <a:xfrm>
                <a:off x="11430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oo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810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de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2819520"/>
                <a:ext cx="76212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h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956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li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08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578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pro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960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us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580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v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19720" y="23623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080" y="2514600"/>
                <a:ext cx="716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08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79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004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148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006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7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771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629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609480" y="3124080"/>
            <a:ext cx="2210040" cy="821880"/>
            <a:chOff x="609480" y="3124080"/>
            <a:chExt cx="2210040" cy="821880"/>
          </a:xfrm>
        </p:grpSpPr>
        <p:sp>
          <p:nvSpPr>
            <p:cNvPr id="160" name=""/>
            <p:cNvSpPr/>
            <p:nvPr/>
          </p:nvSpPr>
          <p:spPr>
            <a:xfrm>
              <a:off x="6094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ru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3657600"/>
              <a:ext cx="121932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ost+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0720" y="33526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3124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907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124080"/>
            <a:ext cx="3505320" cy="821880"/>
            <a:chOff x="4495680" y="3124080"/>
            <a:chExt cx="3505320" cy="821880"/>
          </a:xfrm>
        </p:grpSpPr>
        <p:sp>
          <p:nvSpPr>
            <p:cNvPr id="167" name=""/>
            <p:cNvSpPr/>
            <p:nvPr/>
          </p:nvSpPr>
          <p:spPr>
            <a:xfrm>
              <a:off x="6324480" y="3657600"/>
              <a:ext cx="76212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h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520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33526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3124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060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01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91120" y="3962520"/>
            <a:ext cx="3657600" cy="974160"/>
            <a:chOff x="4191120" y="3962520"/>
            <a:chExt cx="3657600" cy="974160"/>
          </a:xfrm>
        </p:grpSpPr>
        <p:sp>
          <p:nvSpPr>
            <p:cNvPr id="178" name=""/>
            <p:cNvSpPr/>
            <p:nvPr/>
          </p:nvSpPr>
          <p:spPr>
            <a:xfrm>
              <a:off x="518148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292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267080"/>
              <a:ext cx="29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74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105520" y="4952880"/>
            <a:ext cx="838080" cy="1050480"/>
            <a:chOff x="5105520" y="4952880"/>
            <a:chExt cx="838080" cy="1050480"/>
          </a:xfrm>
        </p:grpSpPr>
        <p:sp>
          <p:nvSpPr>
            <p:cNvPr id="189" name=""/>
            <p:cNvSpPr/>
            <p:nvPr/>
          </p:nvSpPr>
          <p:spPr>
            <a:xfrm>
              <a:off x="5105520" y="5181480"/>
              <a:ext cx="838080" cy="288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520" y="5715000"/>
              <a:ext cx="838080" cy="28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php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86400" y="4952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5486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/Uni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配置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参数，定制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位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主机信息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引导登录的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文件系统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管理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服务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2-05T07:47:02Z</dcterms:modified>
  <cp:revision>782</cp:revision>
  <dc:subject/>
  <dc:title>Session 1</dc:title>
</cp:coreProperties>
</file>