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25A8-2214-482B-89A9-56ED1EB671BF}" type="slidenum"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inu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赢得了大型数据库软件公司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rac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formi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gr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等的支持，使它适应于大、中型企业的信息系统建设，从而更具有竞争力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0973-464F-493E-90DE-FA332FDCAD52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80C5-5972-4994-8451-306F2AA2DC1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590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Linux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操作系统基础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42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开放源码的发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&amp;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keley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行的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版本 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&amp;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kele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诞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BSD 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系列的操作系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76240" y="1523880"/>
          <a:ext cx="7391520" cy="4543560"/>
        </p:xfrm>
        <a:graphic>
          <a:graphicData uri="http://schemas.openxmlformats.org/drawingml/2006/table">
            <a:tbl>
              <a:tblPr/>
              <a:tblGrid>
                <a:gridCol w="2781360"/>
                <a:gridCol w="4610160"/>
              </a:tblGrid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操作系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NetB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在世界上最多的平台上运行的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Unix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操作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FreeB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专注于实用领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OpenB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专注于安全性和可靠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Darw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Apple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的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BSD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操作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DragonflyB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最新诞生的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BSD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分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诞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4610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芬兰赫尔辛基大学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s Torval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个公开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.0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版发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1.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版发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标志是可爱的企鹅，取自芬兰的吉祥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62720" y="1143000"/>
            <a:ext cx="1685880" cy="22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114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31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  <a:ea typeface="Times New Roman"/>
              </a:rPr>
              <a:t>GNU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与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  <a:ea typeface="Times New Roman"/>
              </a:rPr>
              <a:t>GPL/LGPL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N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旨在消除对计算机软件拷贝、分发、修改的限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Public Licen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用公共许可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GP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aray General Public Licen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序库通用公共许可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现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GPL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途径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要求软件以源代码的形式发布，并规定，任何用户都能够以源代码的形式将软件复制或发布给别的用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提醒每个用户，对于该软件不提供任何形式的担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用户的软件使用了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护的任何软件的一部分，那么，该软件就继承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，并因此而成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，也就是说必须随应用程序一起发布源代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现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GPL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途径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不排斥对自由软件进行商业性质的包装和发行，也不限制在自由软件的基础上打包发行其它非自由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发展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赢得了大型数据库软件公司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型机全面预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也将推出自己的桌面发行版本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G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开发大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工作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球十大巨型机中，有四台在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版本号的命名规则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6514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内核版本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分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版本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版本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末版本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038480" y="2819520"/>
          <a:ext cx="274320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819520"/>
                    <a:ext cx="27432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3048120" y="3657240"/>
            <a:ext cx="1828800" cy="1072440"/>
            <a:chOff x="3048120" y="3657240"/>
            <a:chExt cx="1828800" cy="1072440"/>
          </a:xfrm>
        </p:grpSpPr>
        <p:sp>
          <p:nvSpPr>
            <p:cNvPr id="141" name=""/>
            <p:cNvSpPr/>
            <p:nvPr/>
          </p:nvSpPr>
          <p:spPr>
            <a:xfrm flipV="1">
              <a:off x="4114800" y="3657240"/>
              <a:ext cx="60984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6040" y="365760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8120" y="4343400"/>
              <a:ext cx="15238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主版本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4440" y="4267080"/>
              <a:ext cx="1371600" cy="45720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495680" y="3657600"/>
            <a:ext cx="1523880" cy="1910160"/>
            <a:chOff x="4495680" y="3657600"/>
            <a:chExt cx="1523880" cy="1910160"/>
          </a:xfrm>
        </p:grpSpPr>
        <p:sp>
          <p:nvSpPr>
            <p:cNvPr id="146" name=""/>
            <p:cNvSpPr/>
            <p:nvPr/>
          </p:nvSpPr>
          <p:spPr>
            <a:xfrm>
              <a:off x="5028840" y="365760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257440" y="3657600"/>
              <a:ext cx="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1640" y="5105520"/>
              <a:ext cx="1371600" cy="45720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5181480"/>
              <a:ext cx="15238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次版本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3657240"/>
            <a:ext cx="1676520" cy="1072440"/>
            <a:chOff x="5715000" y="3657240"/>
            <a:chExt cx="1676520" cy="1072440"/>
          </a:xfrm>
        </p:grpSpPr>
        <p:sp>
          <p:nvSpPr>
            <p:cNvPr id="151" name=""/>
            <p:cNvSpPr/>
            <p:nvPr/>
          </p:nvSpPr>
          <p:spPr>
            <a:xfrm>
              <a:off x="5715000" y="365760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943600" y="3657240"/>
              <a:ext cx="60984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4267080"/>
              <a:ext cx="1371600" cy="45720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7640" y="4343400"/>
              <a:ext cx="15238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末版本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内核的两种版本号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版本号的第二位数字，可以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版本的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发版本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位数字是奇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稳定版本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位数字是偶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3962520"/>
            <a:ext cx="167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9280" y="3851280"/>
            <a:ext cx="214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2.5.7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8280" y="3851280"/>
            <a:ext cx="20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2.4.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5200" y="468648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08240" y="468648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457200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57200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内核版本发展图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6515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3880" y="1219320"/>
          <a:ext cx="563904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9320"/>
                    <a:ext cx="563904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的基本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安装的基本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使用的基本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管理的基本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内核版本发展图示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143000"/>
          <a:ext cx="525780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525780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l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著名的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发行版本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90720" y="1523880"/>
          <a:ext cx="7277040" cy="3773520"/>
        </p:xfrm>
        <a:graphic>
          <a:graphicData uri="http://schemas.openxmlformats.org/drawingml/2006/table">
            <a:tbl>
              <a:tblPr/>
              <a:tblGrid>
                <a:gridCol w="2836800"/>
                <a:gridCol w="4440240"/>
              </a:tblGrid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Linux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的发行版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RedHat Lin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易用，易维护 ，目前已成为最流行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Linu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发行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Novell/SuSE Lin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欧洲大陆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Lin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Debian Lin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目前唯一由非商业组织维护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Linu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发行版本，功能强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与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Windows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功能比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火墙功能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方面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/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方面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件服务器方面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服务方面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 Narrow"/>
              </a:rPr>
              <a:t>与</a:t>
            </a:r>
            <a:r>
              <a:rPr b="1" lang="en-US" sz="3200" spc="-1" strike="noStrike">
                <a:solidFill>
                  <a:srgbClr val="ffcf01"/>
                </a:solidFill>
                <a:latin typeface="Arial Narrow"/>
              </a:rPr>
              <a:t>Windows</a:t>
            </a:r>
            <a:r>
              <a:rPr b="1" lang="zh-CN" sz="3200" spc="-1" strike="noStrike">
                <a:solidFill>
                  <a:srgbClr val="ffcf01"/>
                </a:solidFill>
                <a:latin typeface="Arial Narrow"/>
              </a:rPr>
              <a:t>的灵活性和易用性比较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优缺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易用性方面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仍然处于优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灵活性方面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占据上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在对客户端软件和多媒体软件的支持方面，一直是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的强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与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Windows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具体特点比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523880"/>
          <a:ext cx="7924680" cy="4648320"/>
        </p:xfrm>
        <a:graphic>
          <a:graphicData uri="http://schemas.openxmlformats.org/drawingml/2006/table">
            <a:tbl>
              <a:tblPr/>
              <a:tblGrid>
                <a:gridCol w="2003400"/>
                <a:gridCol w="3432240"/>
                <a:gridCol w="2489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特点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Windows 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Lin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安全性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一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稳定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很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软件支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很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硬件支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一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源代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保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开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系统可调节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基于界面的规范性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,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更易于调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具有极大的可调节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使用方便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非常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版权限制和费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技术支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基于社团形式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53352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学习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意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掌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I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的方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掌握方法 培养能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放与共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业界的支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相似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操作系统的源代码是公开和免费的，这一特点成为它迅速发展壮大的主要原因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操作系统已经赢得了国际上众多大型软件公司的支持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要了解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操作系统的发展，首先要了解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操作系统的发展和开放源代码操作系统的发展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的主要目标是保证软件对所有的用户来说是自由的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的版本分为发行版本和内核版本，而内核版本又分为开发版本和稳定版本，开发版本和稳定版本是相互关联的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两个操作系统各有优缺点，两者也在很多情况下在互相借鉴，互相融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认识和应用开放源代码软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管理员全面的控制和定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启动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主要应用程序文件的作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编辑习惯和约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行参数的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编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批处理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道的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包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心文件的配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并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日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启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内容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676520"/>
          <a:ext cx="8229600" cy="3809880"/>
        </p:xfrm>
        <a:graphic>
          <a:graphicData uri="http://schemas.openxmlformats.org/drawingml/2006/table">
            <a:tbl>
              <a:tblPr/>
              <a:tblGrid>
                <a:gridCol w="1876680"/>
                <a:gridCol w="2085840"/>
                <a:gridCol w="1920960"/>
                <a:gridCol w="234612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模块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模块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模块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模块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97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inu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基础知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（第一章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inu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系统安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（第二章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文本编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（第三章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常用命令与基本管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（第四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－第九章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宋体"/>
                <a:ea typeface="宋体"/>
              </a:rPr>
              <a:t>Linux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  <a:ea typeface="宋体"/>
              </a:rPr>
              <a:t>基础知识 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一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起源与地位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掌握有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基本常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学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版本知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了解开放源代码的许可协议及其开发模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各自的特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Uni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起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1969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年：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系统的第一个版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年代末：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T&amp;T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成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系统实验室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年代末：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SRG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对操作系统进行研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SD Uni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x System V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形成了当今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两大主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Uni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版本号表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版本其标识方式不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&amp;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发的内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顺序号标识版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主版本加次版本的方法标识，在原始版本的基础上还有派生版本，这些版本通常有自己的名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&amp;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罗马数字标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版本，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表示次版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商业公司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各自的版本标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09240" y="213372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V 1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到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V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59160" y="3048120"/>
            <a:ext cx="40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4.2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BSD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4.3B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3680" y="3657600"/>
            <a:ext cx="61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4.3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BSD-Net/1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4.3BSD-Net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44640" y="3886200"/>
            <a:ext cx="71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System V Release 4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简写为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SVR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" y="472428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Sun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的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Solaris 2.6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IBM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的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AIX 4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1680" y="4495680"/>
            <a:ext cx="60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AT&amp;T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nix System V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第四次发布的版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ttsnow</cp:lastModifiedBy>
  <dcterms:modified xsi:type="dcterms:W3CDTF">2004-02-13T03:56:30Z</dcterms:modified>
  <cp:revision>970</cp:revision>
  <dc:subject/>
  <dc:title>Session 1</dc:title>
</cp:coreProperties>
</file>