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9430-E49F-4D97-B302-04470551178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 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BDC0-5546-4FA7-9948-2B41E982CF1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 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综合实验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九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如何使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root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用户进行远程登录管理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方式对数据采用了加密传输，相对比较安全，因此允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直接登录系统进行远程管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方式由于采用明文传输数据（包括用户名和口令），因此安全性较差，所以不支持用户直接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登录系统进行远程管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如需要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对系统进行管理，需要先使用普通用户帐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到系统，然后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转换用户身份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下如何获得帮助信息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读取光盘中的文件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认系统中的光盘设备文件，一般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dev/cdrom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光盘文件系统的装载点目录，一般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mnt/cdrom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装载光盘到装载点目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取光盘中的文件，文件的位置在装载点目录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使用光盘时需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ou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对光盘进行卸载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如何知道某个命令是哪个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包安装的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询命令的命令文件路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 -qf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询命令文件所属的软件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判断文件的类型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观察文件后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观察文件所在的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确定文件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格式化软盘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，软盘设备文件的名称通常是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dev/fd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多种文件系统格式，在软盘上通常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格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软盘上建立文件系统（格式化软盘），根据文件系统的不同需要使用不同的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ke2f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kdosf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快速的转换目录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绝对路径和相对路径相结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回到当前用户宿主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入指定用于的宿主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返回用户上一次所在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对运行的程序进行调度管理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程序运行分为前台运行和后台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程序运行可以在前台和后台之间转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h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保持程序始终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中如何保存命令的屏幕输出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定向屏幕输出到文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定向屏幕输出并追加到现有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将命令的输出到屏幕上显示并保存到文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中有哪些方法可以退出用户登录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ou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rl+D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捷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系统启动过程和运行级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对系统中的进程进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任务的周期性自动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系统的日志文件及其格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用户和组进行磁盘配额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文件进行归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的软硬件信息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中的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pro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虚拟的文件系统，其中的很多文件都保存了系统的运行状态和相关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pro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文件可以使用文件查看命令浏览其内容，文件中包含了系统的特定信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inf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道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ystem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文件系统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中断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port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号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inf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内存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核版本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查看系统进程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tre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确定当前用户身份和系统中的其他登录用户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定当前用户身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am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系统中的登录用户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459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查询和分析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系统中用户的登录信息记录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的日志文件放置在目录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var/lo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var/log/secure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记录了用户登录系统的认证信息，包括认证成功的和认证失败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进行分析可以了解用户的登录时间、主机地址和身份认证情况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Red Hat Linux 9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有哪些安装的方式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装程序的引导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装介质选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装配置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中对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ISO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文件提供了那些支持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光盘制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现有目录文件制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镜像中的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刻录到光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安装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之前需要进行哪些准备工作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记录系统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备份现有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硬盘分区和空闲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获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介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置主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以从相应介质引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中如何使用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分区中的内容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支持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的访问，而不支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使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格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使用某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之前，最好先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支持该分区类型（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dis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可以查看分区的类型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装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查询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软件包中包含的特定类型文件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9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查询已安装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中的文件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 -q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查询指定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文件中的文件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 -qp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2209320"/>
            <a:ext cx="626436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通过题目的形式对系统管理中的重点内容进行了复习和总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以题目的形式对本书前八章的内容进行复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题目覆盖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的重点和难点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题目的后面都给出了相应的解题思路和参考答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部分是结合本阶段课程，运用已学过的系统管理各知识点完成一个综合实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已学过的系统管理各知识点完成一个综合实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中的各任务都是以前各章中的实验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应的实验任务中给出对实验结果的要求，按照各章中的实验步骤完成实验达到要求即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实验侧重对以往各章实验的复习和综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环境要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 Hat Linux 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主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 Hat Linux 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光盘一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人一台机器，一人一组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实验各任务的完成标准可以参照前各章中的实验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实验的重点并不在于实验结果本身，而是更侧重于对以往实验的复习和综合，在实验过程中要明确这一实验目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ash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提高命令的输入效率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046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197000"/>
            <a:ext cx="739152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命令行输入状态，除了可以使用退格键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ckspa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删除已键入的字符外，还可以使用左右方向键和删除键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elet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进行命令行的编辑，从而提高了命令编辑的效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在输入命令的过程中可以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a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键对命令和文件名（路径）进行补全，从而实现了命令和文件名的快速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提示符状态下可以使用上下方向键追溯命令的历史记录，即可以对以前输入的命令进行编辑或执行，此外还可以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istory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查看历史记录列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把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的图形界面登录改为字符界面登录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界面登录的运行级别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字符界面登录的运行级别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t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，改变系统的缺省运行级别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快速删除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的非空目录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di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能够删除一个空目录，但对于非空目录需要先删除该目录中的所有文件和子目录，因此不能做到快速删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非空目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配合相应的参数可以快速删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非空目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，该参数允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删除整个目录树（包括目录中的文件和子目录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默认提示用户确认所有将被删除的文件和目录，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f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强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删除文件而不进行提示，可以省去对每个文件都进行删除确认的麻烦（但是也比较危险，可能误删除文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有哪些命令可以用于关闭系统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ut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在虚拟控制台之间进行切换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虚拟控制台通常分为两类：文本控制台和图形控制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所有的虚拟控制台进行统一编号，并用相应的按键代表，例如：虚拟控制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常为文本控制台，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”-“F6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，虚拟控制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图形控制台，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7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文本控制台切换到其他控制台（文本或图形控制台），需要使用组合键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+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需要切换到的控制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图形控制台切换到其他控制台，需要使用组合键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rl+Alt+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需要切换到的控制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停止无反应的程序进程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停止指定进程号的进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看需要停止的程序对应的进程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停止指定进程号的进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不能正常停止的进程（无反应的进程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9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停止指定程序名称的所有进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l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可以停止指定名称的进程，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需查询进程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xuetao.du</cp:lastModifiedBy>
  <dcterms:modified xsi:type="dcterms:W3CDTF">2004-04-01T01:24:37Z</dcterms:modified>
  <cp:revision>97</cp:revision>
  <dc:subject/>
  <dc:title>Understanding Basic HTML</dc:title>
</cp:coreProperties>
</file>