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楷体_GB2312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0E3F-85F7-4BB1-8171-DA322E6EE3BD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楷体_GB2312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D571-4906-455B-8E57-28A782D4F4E0}" type="slidenum"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/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clipart.com/www.arttoday.com.cn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32004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宋体"/>
              </a:rPr>
              <a:t>Shell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宋体"/>
              </a:rPr>
              <a:t>的使用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2286000"/>
            <a:ext cx="312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五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环境变量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置环境变量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用环境变量 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常用环境变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W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53000" y="2057400"/>
            <a:ext cx="3757320" cy="386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$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变量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53000" y="1600200"/>
            <a:ext cx="3752640" cy="386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export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变量名＝变量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位置参数变量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程序运行时设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变量，从程序名开始依次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递归访问参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44249" r="47768" b="37702"/>
          <a:stretch/>
        </p:blipFill>
        <p:spPr>
          <a:xfrm>
            <a:off x="990720" y="2971800"/>
            <a:ext cx="6516720" cy="1415880"/>
          </a:xfrm>
          <a:prstGeom prst="rect">
            <a:avLst/>
          </a:prstGeom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</p:pic>
      <p:sp>
        <p:nvSpPr>
          <p:cNvPr id="139" name=""/>
          <p:cNvSpPr/>
          <p:nvPr/>
        </p:nvSpPr>
        <p:spPr>
          <a:xfrm>
            <a:off x="3962520" y="2743200"/>
            <a:ext cx="5331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$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00600" y="2743200"/>
            <a:ext cx="533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$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2743200"/>
            <a:ext cx="5331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$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19920" y="2743200"/>
            <a:ext cx="5331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$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743200"/>
            <a:ext cx="6094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预定义变量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828800"/>
          <a:ext cx="7696080" cy="3289320"/>
        </p:xfrm>
        <a:graphic>
          <a:graphicData uri="http://schemas.openxmlformats.org/drawingml/2006/table">
            <a:tbl>
              <a:tblPr/>
              <a:tblGrid>
                <a:gridCol w="1700280"/>
                <a:gridCol w="599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变量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值意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$#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传递到脚本的参数的数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$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以一个单字符串显示传递到脚本的所有参数内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$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命令执行后返回的状态，返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表示成功执行，其它值则表明执行错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$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当前进程的进程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$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后台运行的最后一个进程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$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当前执行的进程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066680" y="3505320"/>
            <a:ext cx="6096240" cy="1904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38280" y="4038480"/>
            <a:ext cx="43434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LINUX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系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hell 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环境配置文件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etc/profil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etc/profile.d/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~/.bash_profil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~/.bashr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etc/bashr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3657600"/>
            <a:ext cx="4495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/etc/profile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/etc/profile.d/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295280" y="4267080"/>
            <a:ext cx="1524240" cy="914400"/>
            <a:chOff x="1295280" y="4267080"/>
            <a:chExt cx="1524240" cy="914400"/>
          </a:xfrm>
        </p:grpSpPr>
        <p:sp>
          <p:nvSpPr>
            <p:cNvPr id="152" name=""/>
            <p:cNvSpPr/>
            <p:nvPr/>
          </p:nvSpPr>
          <p:spPr>
            <a:xfrm>
              <a:off x="1295280" y="4267080"/>
              <a:ext cx="1524240" cy="914400"/>
            </a:xfrm>
            <a:prstGeom prst="rect">
              <a:avLst/>
            </a:prstGeom>
            <a:solidFill>
              <a:srgbClr val="ffcf01"/>
            </a:solidFill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95280" y="4267080"/>
              <a:ext cx="1447920" cy="8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用户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~/.bash_profi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~/.bashr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048120" y="4267080"/>
            <a:ext cx="1523880" cy="914400"/>
            <a:chOff x="3048120" y="4267080"/>
            <a:chExt cx="1523880" cy="914400"/>
          </a:xfrm>
        </p:grpSpPr>
        <p:sp>
          <p:nvSpPr>
            <p:cNvPr id="155" name=""/>
            <p:cNvSpPr/>
            <p:nvPr/>
          </p:nvSpPr>
          <p:spPr>
            <a:xfrm>
              <a:off x="3048120" y="4267080"/>
              <a:ext cx="1523880" cy="914400"/>
            </a:xfrm>
            <a:prstGeom prst="rect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48120" y="4267080"/>
              <a:ext cx="1447560" cy="8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用户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~/.bash_profi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~/.bashr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800600" y="4267080"/>
            <a:ext cx="1523880" cy="914400"/>
            <a:chOff x="4800600" y="4267080"/>
            <a:chExt cx="1523880" cy="914400"/>
          </a:xfrm>
        </p:grpSpPr>
        <p:sp>
          <p:nvSpPr>
            <p:cNvPr id="158" name=""/>
            <p:cNvSpPr/>
            <p:nvPr/>
          </p:nvSpPr>
          <p:spPr>
            <a:xfrm>
              <a:off x="4800600" y="4267080"/>
              <a:ext cx="1523880" cy="91440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0600" y="4267080"/>
              <a:ext cx="1447920" cy="8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用户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~/.bash_profi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~/.bashr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477120" y="4572000"/>
            <a:ext cx="6094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202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bash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常用功能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配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自动展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历史与命令重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通配符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配符：匹配任意多个任意字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配符：匹配任意一个字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2590920"/>
            <a:ext cx="657360" cy="12859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828800" y="2971800"/>
            <a:ext cx="480060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判断下列使用了通配符的字符串的能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匹配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reportfiles”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字符串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05120" y="3962520"/>
            <a:ext cx="1904760" cy="17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r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f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repor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repor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\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[opq]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report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24280" y="3962520"/>
            <a:ext cx="1905120" cy="17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r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f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eport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epor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*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[opq]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repor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3809880"/>
            <a:ext cx="6094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6466"/>
                </a:solidFill>
                <a:latin typeface="Times New Roman"/>
                <a:ea typeface="楷体_GB2312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91120" y="3962520"/>
            <a:ext cx="4572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06466"/>
                </a:solidFill>
                <a:latin typeface="楷体_GB2312"/>
                <a:ea typeface="楷体_GB2312"/>
              </a:rPr>
              <a:t>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4648320"/>
            <a:ext cx="6094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6466"/>
                </a:solidFill>
                <a:latin typeface="Times New Roman"/>
                <a:ea typeface="楷体_GB2312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5334120"/>
            <a:ext cx="6094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6466"/>
                </a:solidFill>
                <a:latin typeface="Times New Roman"/>
                <a:ea typeface="楷体_GB2312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19320" y="4267080"/>
            <a:ext cx="6094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6466"/>
                </a:solidFill>
                <a:latin typeface="Times New Roman"/>
                <a:ea typeface="楷体_GB2312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5029200"/>
            <a:ext cx="4572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06466"/>
                </a:solidFill>
                <a:latin typeface="楷体_GB2312"/>
                <a:ea typeface="楷体_GB2312"/>
              </a:rPr>
              <a:t>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91120" y="4343400"/>
            <a:ext cx="4572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06466"/>
                </a:solidFill>
                <a:latin typeface="楷体_GB2312"/>
                <a:ea typeface="楷体_GB2312"/>
              </a:rPr>
              <a:t>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91120" y="5410080"/>
            <a:ext cx="4572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06466"/>
                </a:solidFill>
                <a:latin typeface="楷体_GB2312"/>
                <a:ea typeface="楷体_GB2312"/>
              </a:rPr>
              <a:t>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14800" y="4648320"/>
            <a:ext cx="6094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6466"/>
                </a:solidFill>
                <a:latin typeface="Times New Roman"/>
                <a:ea typeface="楷体_GB2312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14800" y="5029200"/>
            <a:ext cx="6094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6466"/>
                </a:solidFill>
                <a:latin typeface="Times New Roman"/>
                <a:ea typeface="楷体_GB2312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命令自动展开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Tab&gt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境变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目录路径展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命令历史与命令重复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光标上下移动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str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!: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$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管道与重定向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标准输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输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定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标准输入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输出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进程都会打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文件用来处理程序的输入输出工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609480" y="2514600"/>
          <a:ext cx="7467840" cy="2743200"/>
        </p:xfrm>
        <a:graphic>
          <a:graphicData uri="http://schemas.openxmlformats.org/drawingml/2006/table">
            <a:tbl>
              <a:tblPr/>
              <a:tblGrid>
                <a:gridCol w="3810240"/>
                <a:gridCol w="1904760"/>
                <a:gridCol w="175284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文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1872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文件描述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1872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默认设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18720">
                      <a:solidFill>
                        <a:srgbClr val="339966"/>
                      </a:solidFill>
                    </a:lnR>
                    <a:lnT w="1872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输入文件：标准输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键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1872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输出文件：标准输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屏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1872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错误输出文件：标准错误输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18720">
                      <a:solidFill>
                        <a:srgbClr val="339966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1872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屏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1872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18720">
                      <a:solidFill>
                        <a:srgbClr val="3399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容回顾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6629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的使用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和目录的操作管理命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户和组管理命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打印系统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重定向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输入重定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法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输出重定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法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&gt;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错误输出重定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法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71800" y="2133720"/>
            <a:ext cx="5181480" cy="386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命令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&lt;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输入文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2514600"/>
            <a:ext cx="5181480" cy="386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[root@pc root]# cat &lt; input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71800" y="3517920"/>
            <a:ext cx="5181480" cy="386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命令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&gt;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输出文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71800" y="3898800"/>
            <a:ext cx="5181480" cy="386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[root@pc root]# ls &gt; output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971800" y="4876920"/>
            <a:ext cx="5181480" cy="386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命令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&gt;error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71800" y="5257800"/>
            <a:ext cx="5181480" cy="386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[root@pc root]# ls 2 &gt; input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重定向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常用文件重定向命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762120" y="2057400"/>
          <a:ext cx="6886440" cy="3433680"/>
        </p:xfrm>
        <a:graphic>
          <a:graphicData uri="http://schemas.openxmlformats.org/drawingml/2006/table">
            <a:tbl>
              <a:tblPr/>
              <a:tblGrid>
                <a:gridCol w="2971800"/>
                <a:gridCol w="3914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重定向命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意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mmand &gt; file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把标准输出重定向到一个文件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mmand &gt;&gt; file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把标准输出追加重定向到一个文件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mmand 1&gt; fiel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把标准输出重定向到一个文件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mmand &gt; filename 2 &gt; &amp;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把标准输出和标准错误输出重定向到一个文件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mmand 2 &gt; file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把标准错误输出重定向到一个文件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mmand &lt; filename &gt; filename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以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filename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为标准输入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filename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为标准输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mmand &lt; file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把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filename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作为命令的标准输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mmand &lt;&lt; delimi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从标准输入读入数据，直到遇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limiter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为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2666880" y="4343400"/>
            <a:ext cx="2438640" cy="462600"/>
            <a:chOff x="2666880" y="4343400"/>
            <a:chExt cx="2438640" cy="462600"/>
          </a:xfrm>
        </p:grpSpPr>
        <p:sp>
          <p:nvSpPr>
            <p:cNvPr id="200" name=""/>
            <p:cNvSpPr/>
            <p:nvPr/>
          </p:nvSpPr>
          <p:spPr>
            <a:xfrm>
              <a:off x="2743200" y="4419720"/>
              <a:ext cx="21337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06466"/>
                  </a:solidFill>
                  <a:latin typeface="Arial"/>
                  <a:ea typeface="楷体_GB2312"/>
                </a:rPr>
                <a:t>ls</a:t>
              </a:r>
              <a:r>
                <a:rPr b="1" lang="zh-CN" sz="2400" spc="-1" strike="noStrike">
                  <a:solidFill>
                    <a:srgbClr val="206466"/>
                  </a:solidFill>
                  <a:latin typeface="Arial"/>
                  <a:ea typeface="楷体_GB2312"/>
                </a:rPr>
                <a:t>命令的输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66880" y="4343400"/>
              <a:ext cx="243864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66880" y="4800600"/>
              <a:ext cx="243864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管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道操作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示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295280" y="4114800"/>
            <a:ext cx="1371600" cy="990720"/>
            <a:chOff x="1295280" y="4114800"/>
            <a:chExt cx="1371600" cy="990720"/>
          </a:xfrm>
        </p:grpSpPr>
        <p:sp>
          <p:nvSpPr>
            <p:cNvPr id="206" name=""/>
            <p:cNvSpPr/>
            <p:nvPr/>
          </p:nvSpPr>
          <p:spPr>
            <a:xfrm>
              <a:off x="1295280" y="4114800"/>
              <a:ext cx="1371600" cy="9907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00200" y="4419720"/>
              <a:ext cx="5335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5105520" y="4114800"/>
            <a:ext cx="1752480" cy="990720"/>
            <a:chOff x="5105520" y="4114800"/>
            <a:chExt cx="1752480" cy="990720"/>
          </a:xfrm>
        </p:grpSpPr>
        <p:sp>
          <p:nvSpPr>
            <p:cNvPr id="209" name=""/>
            <p:cNvSpPr/>
            <p:nvPr/>
          </p:nvSpPr>
          <p:spPr>
            <a:xfrm>
              <a:off x="5105520" y="4114800"/>
              <a:ext cx="1752480" cy="9907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181480" y="4419720"/>
              <a:ext cx="16002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grep *.t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276720" y="3962520"/>
            <a:ext cx="838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6466"/>
                </a:solidFill>
                <a:latin typeface="Arial"/>
                <a:ea typeface="楷体_GB2312"/>
              </a:rPr>
              <a:t>管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4600" y="2057400"/>
            <a:ext cx="5181480" cy="386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command1 | command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14600" y="2971800"/>
            <a:ext cx="5181480" cy="386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[root@pc root]# ls | grep *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500"/>
                            </p:stCondLst>
                            <p:childTnLst>
                              <p:par>
                                <p:cTn id="4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hell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脚本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脚本概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脚本运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脚本编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脚本概念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需编译，解释执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本文件形式存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强大的正则表达式操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运行速度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类型支持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于系统管理和文件操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脚本运行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编写脚本程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改变脚本程序文件的权限为可执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运行脚本程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 .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脚本程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 bash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脚本程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 . .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脚本程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 exec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脚本程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基本脚本编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量类型（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hlinkClick r:id="rId1" action="ppaction://hlinksldjump"/>
              </a:rPr>
              <a:t>Shell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hlinkClick r:id="rId2" action="ppaction://hlinksldjump"/>
              </a:rPr>
              <a:t>变量一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件测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流程控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条件测试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法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括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[ 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法：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件表达式的值为真返回零，为假时返回非零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66880" y="2057400"/>
            <a:ext cx="5181840" cy="386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test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条件表达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666880" y="3581280"/>
            <a:ext cx="5181840" cy="386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[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条件表达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666880" y="3733920"/>
            <a:ext cx="2971800" cy="213336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743200" y="4724280"/>
            <a:ext cx="2286000" cy="685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4038480"/>
            <a:ext cx="2286000" cy="6858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666880" y="3048120"/>
            <a:ext cx="2971800" cy="6858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流程控制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then els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语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[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件语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]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if [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件语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]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3048120"/>
            <a:ext cx="12193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cf01"/>
                </a:solidFill>
                <a:latin typeface="Arial"/>
                <a:ea typeface="楷体_GB2312"/>
              </a:rPr>
              <a:t>条件</a:t>
            </a:r>
            <a:r>
              <a:rPr b="1" lang="en-US" sz="1600" spc="-1" strike="noStrike">
                <a:solidFill>
                  <a:srgbClr val="ffcf01"/>
                </a:solidFill>
                <a:latin typeface="Arial"/>
                <a:ea typeface="楷体_GB2312"/>
              </a:rPr>
              <a:t>1</a:t>
            </a:r>
            <a:r>
              <a:rPr b="1" lang="zh-CN" sz="1600" spc="-1" strike="noStrike">
                <a:solidFill>
                  <a:srgbClr val="ffcf01"/>
                </a:solidFill>
                <a:latin typeface="Arial"/>
                <a:ea typeface="楷体_GB2312"/>
              </a:rPr>
              <a:t>为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95280" y="3733920"/>
            <a:ext cx="12193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e4a8"/>
                </a:solidFill>
                <a:latin typeface="Arial"/>
                <a:ea typeface="楷体_GB2312"/>
              </a:rPr>
              <a:t>条件</a:t>
            </a:r>
            <a:r>
              <a:rPr b="1" lang="en-US" sz="1600" spc="-1" strike="noStrike">
                <a:solidFill>
                  <a:srgbClr val="00e4a8"/>
                </a:solidFill>
                <a:latin typeface="Arial"/>
                <a:ea typeface="楷体_GB2312"/>
              </a:rPr>
              <a:t>1</a:t>
            </a:r>
            <a:r>
              <a:rPr b="1" lang="zh-CN" sz="1600" spc="-1" strike="noStrike">
                <a:solidFill>
                  <a:srgbClr val="00e4a8"/>
                </a:solidFill>
                <a:latin typeface="Arial"/>
                <a:ea typeface="楷体_GB2312"/>
              </a:rPr>
              <a:t>为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95280" y="4038480"/>
            <a:ext cx="12193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3366"/>
                </a:solidFill>
                <a:latin typeface="Arial"/>
                <a:ea typeface="楷体_GB2312"/>
              </a:rPr>
              <a:t>条件</a:t>
            </a:r>
            <a:r>
              <a:rPr b="1" lang="en-US" sz="1600" spc="-1" strike="noStrike">
                <a:solidFill>
                  <a:srgbClr val="993366"/>
                </a:solidFill>
                <a:latin typeface="Arial"/>
                <a:ea typeface="楷体_GB2312"/>
              </a:rPr>
              <a:t>2</a:t>
            </a:r>
            <a:r>
              <a:rPr b="1" lang="zh-CN" sz="1600" spc="-1" strike="noStrike">
                <a:solidFill>
                  <a:srgbClr val="993366"/>
                </a:solidFill>
                <a:latin typeface="Arial"/>
                <a:ea typeface="楷体_GB2312"/>
              </a:rPr>
              <a:t>为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95280" y="4724280"/>
            <a:ext cx="12193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9966"/>
                </a:solidFill>
                <a:latin typeface="Arial"/>
                <a:ea typeface="楷体_GB2312"/>
              </a:rPr>
              <a:t>条件</a:t>
            </a:r>
            <a:r>
              <a:rPr b="1" lang="en-US" sz="1600" spc="-1" strike="noStrike">
                <a:solidFill>
                  <a:srgbClr val="339966"/>
                </a:solidFill>
                <a:latin typeface="Arial"/>
                <a:ea typeface="楷体_GB2312"/>
              </a:rPr>
              <a:t>2</a:t>
            </a:r>
            <a:r>
              <a:rPr b="1" lang="zh-CN" sz="1600" spc="-1" strike="noStrike">
                <a:solidFill>
                  <a:srgbClr val="339966"/>
                </a:solidFill>
                <a:latin typeface="Arial"/>
                <a:ea typeface="楷体_GB2312"/>
              </a:rPr>
              <a:t>为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500"/>
                            </p:stCondLst>
                            <p:childTnLst>
                              <p:par>
                                <p:cTn id="4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3000"/>
                            </p:stCondLst>
                            <p:childTnLst>
                              <p:par>
                                <p:cTn id="4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4000"/>
                            </p:stCondLst>
                            <p:childTnLst>
                              <p:par>
                                <p:cTn id="4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4500"/>
                            </p:stCondLst>
                            <p:childTnLst>
                              <p:par>
                                <p:cTn id="4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流程控制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循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2895480"/>
            <a:ext cx="5181480" cy="1834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for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变量名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in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列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32000" y="412920"/>
            <a:ext cx="7812000" cy="65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34560" y="1706040"/>
            <a:ext cx="638028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产生与发展的过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境变量的设置和使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基本操作方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输入输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简单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脚本编辑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流程控制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ti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循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743200"/>
            <a:ext cx="5181480" cy="1834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until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流程控制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循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2895480"/>
            <a:ext cx="5181840" cy="1834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while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流程控制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76240" y="1219320"/>
            <a:ext cx="7391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s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语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76520" y="2362320"/>
            <a:ext cx="5181480" cy="37656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case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模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命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;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模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命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;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模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命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;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es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函数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函数定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函数调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函数导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95280" y="2133720"/>
            <a:ext cx="4267440" cy="1834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函数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系统与用户之间的交互界面，用户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提交任务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向系统内核转交任务，并管理相关工作，执行完成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取回工作结果，通过界面返回给用户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还提供编程语言，接受用户关于批处理任务的提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一个重要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hen Bourneshe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7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底提出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urne she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另外两个重要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ron shell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she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支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种类型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默认的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urne she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变体版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NU ba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支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种类型的变量（本地变量、环境变量、参数变量及预定义变量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本章总结（</a:t>
            </a: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通配符包括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*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 ”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别匹配任意多的字符和一个任意字符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提供了命令行自动展开和历史命令管理操作的功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打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号文件描述符文件，并对应为键盘和屏幕，构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标准输入输出，大多数命令的输入输出通过标准输入输出进行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提供了输入输出重定向和管道，把标准的输入输出方向改变为其它的文件或命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提供了数据变量、参数传递、条件测试、流程控制、数据输入和输出、函数等丰富的程序控制功能，用户可以通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言编码实现系统管理任务的批处理和环境设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实验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6438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nux she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操作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环境变量的设置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重定向使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会编写简单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脚本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实验完成标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743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验完成，删除实验中设置的环境变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rcRect l="0" t="59208" r="7603" b="28248"/>
          <a:stretch/>
        </p:blipFill>
        <p:spPr>
          <a:xfrm>
            <a:off x="1066680" y="2362320"/>
            <a:ext cx="6629400" cy="1218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</p:pic>
    </p:spTree>
  </p:cSld>
  <p:transition>
    <p:blinds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标准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743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复使用前一个命令的参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rcRect l="0" t="56944" r="11959" b="26526"/>
          <a:stretch/>
        </p:blipFill>
        <p:spPr>
          <a:xfrm>
            <a:off x="685800" y="2438280"/>
            <a:ext cx="7315200" cy="10335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</p:pic>
    </p:spTree>
  </p:cSld>
  <p:transition>
    <p:blinds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标准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743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定义自己的命令提示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rcRect l="0" t="60684" r="43111" b="28593"/>
          <a:stretch/>
        </p:blipFill>
        <p:spPr>
          <a:xfrm>
            <a:off x="914400" y="2819520"/>
            <a:ext cx="5865840" cy="836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hell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环境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产生与发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 She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境配置文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标准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743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显示重定向输出的文件内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rcRect l="0" t="62402" r="29639" b="20768"/>
          <a:stretch/>
        </p:blipFill>
        <p:spPr>
          <a:xfrm>
            <a:off x="685800" y="2438280"/>
            <a:ext cx="6703920" cy="1203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</p:pic>
    </p:spTree>
  </p:cSld>
  <p:transition>
    <p:blinds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标准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743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运行用户编写的脚本程序信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rcRect l="0" t="52953" r="29749" b="27608"/>
          <a:stretch/>
        </p:blipFill>
        <p:spPr>
          <a:xfrm>
            <a:off x="762120" y="2438280"/>
            <a:ext cx="6629400" cy="1376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</p:pic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hell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产生与发展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作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操作系统与用户进行交互操作的界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提供脚本语言编程环境，方便用户自动批量处理大量的工作任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4038480"/>
            <a:ext cx="0" cy="457200"/>
          </a:xfrm>
          <a:prstGeom prst="line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724280" y="4038480"/>
            <a:ext cx="0" cy="457200"/>
          </a:xfrm>
          <a:prstGeom prst="line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505320" y="2666880"/>
            <a:ext cx="1676160" cy="457200"/>
            <a:chOff x="3505320" y="2666880"/>
            <a:chExt cx="1676160" cy="457200"/>
          </a:xfrm>
        </p:grpSpPr>
        <p:sp>
          <p:nvSpPr>
            <p:cNvPr id="102" name=""/>
            <p:cNvSpPr/>
            <p:nvPr/>
          </p:nvSpPr>
          <p:spPr>
            <a:xfrm>
              <a:off x="3505320" y="2666880"/>
              <a:ext cx="1676160" cy="45720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50000">
                  <a:srgbClr val="99ffcc"/>
                </a:gs>
                <a:gs pos="100000">
                  <a:srgbClr val="339966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62520" y="2666880"/>
              <a:ext cx="9144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206466"/>
                  </a:solidFill>
                  <a:latin typeface="Arial"/>
                  <a:ea typeface="楷体_GB2312"/>
                </a:rPr>
                <a:t>用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276720" y="3124080"/>
            <a:ext cx="838080" cy="533520"/>
            <a:chOff x="3276720" y="3124080"/>
            <a:chExt cx="838080" cy="533520"/>
          </a:xfrm>
        </p:grpSpPr>
        <p:sp>
          <p:nvSpPr>
            <p:cNvPr id="105" name=""/>
            <p:cNvSpPr/>
            <p:nvPr/>
          </p:nvSpPr>
          <p:spPr>
            <a:xfrm>
              <a:off x="4038480" y="3124080"/>
              <a:ext cx="0" cy="53352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276720" y="3200400"/>
              <a:ext cx="8380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206466"/>
                  </a:solidFill>
                  <a:latin typeface="Arial"/>
                  <a:ea typeface="楷体_GB2312"/>
                </a:rPr>
                <a:t>命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724280" y="3124080"/>
            <a:ext cx="990720" cy="533520"/>
            <a:chOff x="4724280" y="3124080"/>
            <a:chExt cx="990720" cy="533520"/>
          </a:xfrm>
        </p:grpSpPr>
        <p:sp>
          <p:nvSpPr>
            <p:cNvPr id="108" name=""/>
            <p:cNvSpPr/>
            <p:nvPr/>
          </p:nvSpPr>
          <p:spPr>
            <a:xfrm flipV="1">
              <a:off x="4724280" y="3124080"/>
              <a:ext cx="0" cy="53352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0600" y="3200400"/>
              <a:ext cx="9144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206466"/>
                  </a:solidFill>
                  <a:latin typeface="Arial"/>
                  <a:ea typeface="楷体_GB2312"/>
                </a:rPr>
                <a:t>结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971800" y="4551480"/>
            <a:ext cx="2819520" cy="422280"/>
            <a:chOff x="2971800" y="4551480"/>
            <a:chExt cx="2819520" cy="422280"/>
          </a:xfrm>
        </p:grpSpPr>
        <p:sp>
          <p:nvSpPr>
            <p:cNvPr id="111" name=""/>
            <p:cNvSpPr/>
            <p:nvPr/>
          </p:nvSpPr>
          <p:spPr>
            <a:xfrm>
              <a:off x="2971800" y="4551480"/>
              <a:ext cx="2819520" cy="42228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50000">
                  <a:srgbClr val="99ffcc"/>
                </a:gs>
                <a:gs pos="100000">
                  <a:srgbClr val="339966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57600" y="4572000"/>
              <a:ext cx="16002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206466"/>
                  </a:solidFill>
                  <a:latin typeface="Arial"/>
                  <a:ea typeface="楷体_GB2312"/>
                </a:rPr>
                <a:t>操作系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514600" y="3657600"/>
            <a:ext cx="3581280" cy="380880"/>
            <a:chOff x="2514600" y="3657600"/>
            <a:chExt cx="3581280" cy="380880"/>
          </a:xfrm>
        </p:grpSpPr>
        <p:sp>
          <p:nvSpPr>
            <p:cNvPr id="114" name=""/>
            <p:cNvSpPr/>
            <p:nvPr/>
          </p:nvSpPr>
          <p:spPr>
            <a:xfrm>
              <a:off x="2514600" y="3657600"/>
              <a:ext cx="3581280" cy="38088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50000">
                  <a:srgbClr val="99ffcc"/>
                </a:gs>
                <a:gs pos="100000">
                  <a:srgbClr val="339966"/>
                </a:gs>
              </a:gsLst>
              <a:lin ang="13500000"/>
            </a:gradFill>
            <a:ln w="25560">
              <a:solidFill>
                <a:srgbClr val="339966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86200" y="3657600"/>
              <a:ext cx="9907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06466"/>
                  </a:solidFill>
                  <a:latin typeface="Arial"/>
                  <a:ea typeface="楷体_GB2312"/>
                </a:rPr>
                <a:t>She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hell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产生与发展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种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urne she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hen Bourn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7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shell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llJoy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代末期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rn shell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Kor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代中期 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Linux Shell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支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urne she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 she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rn shell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标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NU Bourne-Again She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urne she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向下兼容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作业控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b contro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别名功能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iase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命令历史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and histor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命令行编辑功能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自定义功能键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提供更丰富的变量类型、命令与控制结构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hell 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变量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语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变量名由下划线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、字母、数字组成，但变量名不能以数字开头，大小写敏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变量值为一个字符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用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符号获得变量的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类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地变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环境变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置参数变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预定义变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地变量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置变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用变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清除变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查看变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量值置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71800" y="1628640"/>
            <a:ext cx="4419720" cy="386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变量名＝变量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339920" y="4222800"/>
            <a:ext cx="5181480" cy="386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变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=${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参数变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-wor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71800" y="2111400"/>
            <a:ext cx="4419720" cy="386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$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变量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2595600"/>
            <a:ext cx="4419720" cy="386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unset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变量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079800"/>
            <a:ext cx="4419720" cy="386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39920" y="4603680"/>
            <a:ext cx="5181480" cy="386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变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=${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参数变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=wor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9920" y="4984920"/>
            <a:ext cx="5181480" cy="386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变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=${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参数变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?wor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39920" y="5365800"/>
            <a:ext cx="5181480" cy="386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变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=${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参数变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+wor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13:32:42Z</dcterms:created>
  <dc:creator>Aniket</dc:creator>
  <dc:description/>
  <dc:language>en-US</dc:language>
  <cp:lastModifiedBy>ttsnow</cp:lastModifiedBy>
  <dcterms:modified xsi:type="dcterms:W3CDTF">2004-02-16T09:11:30Z</dcterms:modified>
  <cp:revision>793</cp:revision>
  <dc:subject/>
  <dc:title>Session 1</dc:title>
</cp:coreProperties>
</file>