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06CA-96AD-4B66-8BCF-0765D6341B3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95E9-FB7D-4B76-8BE7-9A0A4B5180F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5280" y="2205000"/>
            <a:ext cx="518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</a:rPr>
              <a:t>项目实践规划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现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943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公司组织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公司管理概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公司各部门经理向总经理负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各部门员工向部门经理负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19272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现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6240" y="1523520"/>
            <a:ext cx="7391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司现有网络和系统状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目前拥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台台式计算机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台笔记本计算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台台式机配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双工自适应网络接口卡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台配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半双工网络接口卡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笔记本均自带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双工自适应网络接口卡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点需求数量分布如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理室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财务室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议室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    房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    厅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58920" y="1125360"/>
          <a:ext cx="426888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5360"/>
                    <a:ext cx="42688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435640" y="1484280"/>
            <a:ext cx="2808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办公区布局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08360" y="1557000"/>
            <a:ext cx="18730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经设计好的暗埋线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58920" y="1197000"/>
          <a:ext cx="4203720" cy="49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97000"/>
                    <a:ext cx="420372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设备参数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交换机的选择上应满足如下条件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满足公司现有计算机设备的接入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背板带宽大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Gbp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节数据包的传输速率大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6Mpp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线速传输速率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大传输带宽大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Gbp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于等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M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管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址大于等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路由器的选择上应满足如下条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块化设计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Kpp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上的包转发能力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以太网口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交换机、路由器应选用相同厂商的产品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的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厦提供了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0/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公司网络连接的大厦路由器端口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4/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3500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厦通过第二配线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端口与公司网络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55640" y="1341360"/>
          <a:ext cx="72738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2738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需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账户集中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部门管理帐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止员工设置口令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止其他员工盗用帐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录和审核员工登录和访问公司文档的行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公司有一台服务器保存文档，空间不低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G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经理可读取和修改全公司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门经理可读取和修改本部门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通员工可读取和修改自己的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经理存储文档空间不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员工存储文档占用空间每人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G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项目的一般流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836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务部和总经理各专用一台打印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员工共用另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打印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部门经理对打印机具有优先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员和总经理对所有打印机有管理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可监控员工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招标的其他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实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验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运行与维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费（招标书中一般不写，应标书写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招标书内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招标书一般包括以下内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现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需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需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实施与验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营维护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培训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时间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标书内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标书一般包括以下内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现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布线设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设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设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标书内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标书一般包括以下内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实施与验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营维护方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培训方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费预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时间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实施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实施以标书为依据，一般有以下步骤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布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备采购与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的调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的调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服务的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招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北京飞腾技术有限公司办公网络系统项目招标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建设目标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放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采用开放标准、开放技术、开放结构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用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络系统的设计以实用、满足应用为主，不追求最高、最新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进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计思想先进，软硬件设备先进，网络结构先进，应用软件的先进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可靠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应用系统的设计、网络系统设计、硬件设备的选型配置几个方面同时考虑，以确保数据的安全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建设目标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兼容与可扩充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采用成熟的技术，保证系统可以在广泛的设备上使用，同时应具有更新与升级的能力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济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满足功能与性能的基础上的性能、价格比最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管理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着网络规模和复杂程度的增加，网络系统的管理和故障排除将成为较难的事情，针对各种设备都要提供一定的网络管理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fei.feng</cp:lastModifiedBy>
  <dcterms:modified xsi:type="dcterms:W3CDTF">2004-03-04T09:32:38Z</dcterms:modified>
  <cp:revision>79</cp:revision>
  <dc:subject/>
  <dc:title>Understanding Basic HTML</dc:title>
</cp:coreProperties>
</file>