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1C0D-5206-4412-899D-70DC1E6BC2A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B788-6986-4620-B817-29F09698346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image" Target="../media/image12.wmf"/><Relationship Id="rId20" Type="http://schemas.openxmlformats.org/officeDocument/2006/relationships/image" Target="../media/image13.wmf"/><Relationship Id="rId21" Type="http://schemas.openxmlformats.org/officeDocument/2006/relationships/image" Target="../media/image14.wmf"/><Relationship Id="rId22" Type="http://schemas.openxmlformats.org/officeDocument/2006/relationships/image" Target="../media/image14.wmf"/><Relationship Id="rId23" Type="http://schemas.openxmlformats.org/officeDocument/2006/relationships/image" Target="../media/image14.wmf"/><Relationship Id="rId24" Type="http://schemas.openxmlformats.org/officeDocument/2006/relationships/image" Target="../media/image14.wmf"/><Relationship Id="rId25" Type="http://schemas.openxmlformats.org/officeDocument/2006/relationships/image" Target="../media/image12.wmf"/><Relationship Id="rId26" Type="http://schemas.openxmlformats.org/officeDocument/2006/relationships/image" Target="../media/image13.wmf"/><Relationship Id="rId27" Type="http://schemas.openxmlformats.org/officeDocument/2006/relationships/image" Target="../media/image14.wmf"/><Relationship Id="rId28" Type="http://schemas.openxmlformats.org/officeDocument/2006/relationships/image" Target="../media/image14.wmf"/><Relationship Id="rId29" Type="http://schemas.openxmlformats.org/officeDocument/2006/relationships/image" Target="../media/image14.wmf"/><Relationship Id="rId30" Type="http://schemas.openxmlformats.org/officeDocument/2006/relationships/image" Target="../media/image14.wmf"/><Relationship Id="rId31" Type="http://schemas.openxmlformats.org/officeDocument/2006/relationships/image" Target="../media/image12.wmf"/><Relationship Id="rId32" Type="http://schemas.openxmlformats.org/officeDocument/2006/relationships/image" Target="../media/image15.wmf"/><Relationship Id="rId33" Type="http://schemas.openxmlformats.org/officeDocument/2006/relationships/image" Target="../media/image14.wmf"/><Relationship Id="rId3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5280" y="2205000"/>
            <a:ext cx="518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</a:rPr>
              <a:t>项目实践指导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78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账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命名规范：员工姓名汉语全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始化密码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jft1234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个员工账户在相应部门组织单位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账户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组命名规范：部门名称的汉语全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组成员：本部门的所有员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组的类型：全局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组在相应的组织单位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全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密码策略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启用密码必须符合复杂性要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密码长度最小值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密码最长存留期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锁定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账户锁定阈值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无效登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审核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启用审核登录事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启用审核对象访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机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sr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:192.168.1.21/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缺省网关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硬盘容量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G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个用户设置默认的磁盘空间配额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G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警告级别设置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M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经理不设磁盘配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创建一个共享文件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shar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共享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shar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按部门文件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每个部门的文件夹下创建每个员工的文件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经理对所有文件夹有完全访问权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个部门经理对本部门的文件夹有完全访问权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个员工对自己的文件夹有完全访问权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印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计算机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rintingsr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TCP/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P:192.168.1.23/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缺省网关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印设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6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印机权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80360" cy="36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公用打印机优先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总经理的优先级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部门经理优先级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员工优先级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代理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计算机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roxysr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TCP/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P:192.168.1.24/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缺省网关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代理服务软件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CC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所有服务使用默认端口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布线设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23763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点布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线设计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700360" y="981000"/>
          <a:ext cx="511164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981000"/>
                    <a:ext cx="511164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客户机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将客户机加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bjft.loc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域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客户机在相应部门的组织单位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映射网络驱动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\\Filesrv\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添加并设置网络打印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代理服务器的客户端设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32000" y="3808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第一阶段项目网络拓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03280" y="1600200"/>
            <a:ext cx="7418520" cy="4495680"/>
            <a:chOff x="1403280" y="1600200"/>
            <a:chExt cx="7418520" cy="4495680"/>
          </a:xfrm>
        </p:grpSpPr>
        <p:sp>
          <p:nvSpPr>
            <p:cNvPr id="145" name=""/>
            <p:cNvSpPr/>
            <p:nvPr/>
          </p:nvSpPr>
          <p:spPr>
            <a:xfrm>
              <a:off x="8275320" y="5261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教师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905120" y="4016520"/>
              <a:ext cx="90144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190512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1905120" y="19810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2057400" y="21337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2209680" y="22860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>
              <a:off x="2362320" y="24382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05740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2743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3124080" y="4016520"/>
              <a:ext cx="9018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312408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50532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9"/>
            <a:stretch/>
          </p:blipFill>
          <p:spPr>
            <a:xfrm>
              <a:off x="3124080" y="1981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0"/>
            <a:stretch/>
          </p:blipFill>
          <p:spPr>
            <a:xfrm>
              <a:off x="3276720" y="21337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3429000" y="22860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2"/>
            <a:stretch/>
          </p:blipFill>
          <p:spPr>
            <a:xfrm>
              <a:off x="3581280" y="24382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27672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3"/>
            <a:stretch/>
          </p:blipFill>
          <p:spPr>
            <a:xfrm>
              <a:off x="4343400" y="4016520"/>
              <a:ext cx="9018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4"/>
            <a:stretch/>
          </p:blipFill>
          <p:spPr>
            <a:xfrm>
              <a:off x="434340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72428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5"/>
            <a:stretch/>
          </p:blipFill>
          <p:spPr>
            <a:xfrm>
              <a:off x="4343400" y="1981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6"/>
            <a:stretch/>
          </p:blipFill>
          <p:spPr>
            <a:xfrm>
              <a:off x="4495680" y="21337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7"/>
            <a:stretch/>
          </p:blipFill>
          <p:spPr>
            <a:xfrm>
              <a:off x="4648320" y="22860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8"/>
            <a:stretch/>
          </p:blipFill>
          <p:spPr>
            <a:xfrm>
              <a:off x="4800600" y="24382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49568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2880" y="2743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9"/>
            <a:stretch/>
          </p:blipFill>
          <p:spPr>
            <a:xfrm>
              <a:off x="5562720" y="4016520"/>
              <a:ext cx="90144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0"/>
            <a:stretch/>
          </p:blipFill>
          <p:spPr>
            <a:xfrm>
              <a:off x="556272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4360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1"/>
            <a:stretch/>
          </p:blipFill>
          <p:spPr>
            <a:xfrm>
              <a:off x="5562720" y="19810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2"/>
            <a:stretch/>
          </p:blipFill>
          <p:spPr>
            <a:xfrm>
              <a:off x="5715000" y="21337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3"/>
            <a:stretch/>
          </p:blipFill>
          <p:spPr>
            <a:xfrm>
              <a:off x="5867280" y="22860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4"/>
            <a:stretch/>
          </p:blipFill>
          <p:spPr>
            <a:xfrm>
              <a:off x="6019920" y="24382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71500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2200" y="2743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5"/>
            <a:stretch/>
          </p:blipFill>
          <p:spPr>
            <a:xfrm>
              <a:off x="6781680" y="4016520"/>
              <a:ext cx="9018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6"/>
            <a:stretch/>
          </p:blipFill>
          <p:spPr>
            <a:xfrm>
              <a:off x="678168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16292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7"/>
            <a:stretch/>
          </p:blipFill>
          <p:spPr>
            <a:xfrm>
              <a:off x="6781680" y="1981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8"/>
            <a:stretch/>
          </p:blipFill>
          <p:spPr>
            <a:xfrm>
              <a:off x="6934320" y="21337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9"/>
            <a:stretch/>
          </p:blipFill>
          <p:spPr>
            <a:xfrm>
              <a:off x="7086600" y="22860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0"/>
            <a:stretch/>
          </p:blipFill>
          <p:spPr>
            <a:xfrm>
              <a:off x="7238880" y="24382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93432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660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888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91520" y="2743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31"/>
            <a:stretch/>
          </p:blipFill>
          <p:spPr>
            <a:xfrm>
              <a:off x="4343400" y="4952880"/>
              <a:ext cx="90180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286000" y="4495680"/>
              <a:ext cx="2057400" cy="685800"/>
            </a:xfrm>
            <a:custGeom>
              <a:avLst/>
              <a:gdLst/>
              <a:ahLst/>
              <a:rect l="l" t="t" r="r" b="b"/>
              <a:pathLst>
                <a:path w="1296" h="480">
                  <a:moveTo>
                    <a:pt x="0" y="0"/>
                  </a:moveTo>
                  <a:lnTo>
                    <a:pt x="0" y="480"/>
                  </a:lnTo>
                  <a:lnTo>
                    <a:pt x="1296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81280" y="4495680"/>
              <a:ext cx="914400" cy="5335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0"/>
                  </a:moveTo>
                  <a:lnTo>
                    <a:pt x="0" y="240"/>
                  </a:lnTo>
                  <a:lnTo>
                    <a:pt x="576" y="240"/>
                  </a:lnTo>
                  <a:lnTo>
                    <a:pt x="57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0600" y="4495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1480" y="4495680"/>
              <a:ext cx="2057400" cy="685800"/>
            </a:xfrm>
            <a:custGeom>
              <a:avLst/>
              <a:gdLst/>
              <a:ahLst/>
              <a:rect l="l" t="t" r="r" b="b"/>
              <a:pathLst>
                <a:path w="1248" h="480">
                  <a:moveTo>
                    <a:pt x="1248" y="0"/>
                  </a:moveTo>
                  <a:lnTo>
                    <a:pt x="1248" y="480"/>
                  </a:lnTo>
                  <a:lnTo>
                    <a:pt x="0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248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7180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112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008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2480" y="4800600"/>
              <a:ext cx="6019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0600" y="5410080"/>
              <a:ext cx="1066680" cy="30492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0" y="0"/>
                  </a:moveTo>
                  <a:lnTo>
                    <a:pt x="0" y="192"/>
                  </a:lnTo>
                  <a:lnTo>
                    <a:pt x="672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449568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0" y="288"/>
                  </a:moveTo>
                  <a:lnTo>
                    <a:pt x="0" y="240"/>
                  </a:lnTo>
                  <a:lnTo>
                    <a:pt x="624" y="240"/>
                  </a:lnTo>
                  <a:lnTo>
                    <a:pt x="6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32"/>
            <a:stretch/>
          </p:blipFill>
          <p:spPr>
            <a:xfrm>
              <a:off x="5884920" y="5384880"/>
              <a:ext cx="1049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113520" y="561348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33"/>
            <a:stretch/>
          </p:blipFill>
          <p:spPr>
            <a:xfrm>
              <a:off x="7956720" y="551664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948360" y="573408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5280" y="508464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636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0036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2436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7672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7236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0328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7164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2436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4836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364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第一阶段项目网络拓扑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95280" y="1125360"/>
          <a:ext cx="698508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69850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分组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分组要求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学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立一名组长组织协调本组工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工作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路由器和交换机的配置调试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域控制器的配置调试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文件服务的配置调试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服务的配置调试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代理服务的配置调试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完成标准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备连接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网络拓扑正确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和交换机的主机名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和交换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的路由表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何一台机器都可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教师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完成标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76240" y="1197000"/>
            <a:ext cx="73915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账户能顺利登录到域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策略设置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单位和账户组设置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能够提供正常的文件共享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享文件夹权限设置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能够实现网络打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权限设置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代理服务器访问教师机的网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布线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线管理系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配线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端口与公司网络连接使用交叉线（级联线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0000" y="1773360"/>
          <a:ext cx="727416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727416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设备的选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选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固定安装的线速快速以太网桌面交换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Catalyst 29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lyst2950-4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则选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路由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块化多服务设计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系列路由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2611x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的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厦提供了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0/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划分一个子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2/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共两个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3/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4/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分别给路由器外端口和大厦路由器端口使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划分子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0/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内部网络使用，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1/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126/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可用地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留做备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63640" y="1268280"/>
          <a:ext cx="648180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8280"/>
                    <a:ext cx="64818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和路由器的配置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主机名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jft-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11/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主机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Bjft-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进入特权模式的密码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0/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1/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0/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3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上联路由指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0/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下联路由指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0/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路由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密码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控制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域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jft.lo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域控制器的计算机名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域控制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:192.168.1.21/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缺省网关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26920" y="2205000"/>
          <a:ext cx="78487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7848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域用户组织单位和用户组拓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gaowei</cp:lastModifiedBy>
  <dcterms:modified xsi:type="dcterms:W3CDTF">2004-03-15T04:08:46Z</dcterms:modified>
  <cp:revision>143</cp:revision>
  <dc:subject/>
  <dc:title>Understanding Basic HTML</dc:title>
</cp:coreProperties>
</file>