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0ECD-CBD9-40F5-8B52-4CBB0660755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46CF-844A-478D-8FF7-7727AC023CA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Narrow"/>
                <a:ea typeface="宋体"/>
              </a:rPr>
              <a:t>SQL Server 2000</a:t>
            </a:r>
            <a:r>
              <a:rPr b="1" lang="zh-CN" sz="4400" spc="-1" strike="noStrike">
                <a:solidFill>
                  <a:srgbClr val="3333cc"/>
                </a:solidFill>
                <a:latin typeface="Arial Narrow"/>
                <a:ea typeface="宋体"/>
              </a:rPr>
              <a:t>安装与简介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二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企业内部网应用中的客户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04600" y="1656360"/>
            <a:ext cx="4343400" cy="1684440"/>
            <a:chOff x="1704600" y="1656360"/>
            <a:chExt cx="4343400" cy="1684440"/>
          </a:xfrm>
        </p:grpSpPr>
        <p:sp>
          <p:nvSpPr>
            <p:cNvPr id="210" name=""/>
            <p:cNvSpPr/>
            <p:nvPr/>
          </p:nvSpPr>
          <p:spPr>
            <a:xfrm>
              <a:off x="4562280" y="1656360"/>
              <a:ext cx="14857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（群集）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33560" y="1755360"/>
              <a:ext cx="1485720" cy="11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47680" y="205200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应用程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0880" y="195372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服务程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90880" y="244908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服务队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47680" y="254808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网络接口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19000" y="235008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19000" y="2845440"/>
              <a:ext cx="36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04600" y="3142800"/>
              <a:ext cx="3085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19280" y="2350080"/>
              <a:ext cx="45720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90880" y="294480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网络接口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62560" y="274644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2560" y="225072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631520" y="4104360"/>
            <a:ext cx="4343760" cy="1684440"/>
            <a:chOff x="1631520" y="4104360"/>
            <a:chExt cx="4343760" cy="1684440"/>
          </a:xfrm>
        </p:grpSpPr>
        <p:sp>
          <p:nvSpPr>
            <p:cNvPr id="224" name=""/>
            <p:cNvSpPr/>
            <p:nvPr/>
          </p:nvSpPr>
          <p:spPr>
            <a:xfrm>
              <a:off x="4489200" y="4104360"/>
              <a:ext cx="14857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（群集）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46480" y="4350240"/>
              <a:ext cx="1828800" cy="943200"/>
            </a:xfrm>
            <a:prstGeom prst="rect">
              <a:avLst/>
            </a:prstGeom>
            <a:solidFill>
              <a:srgbClr val="ffffff">
                <a:alpha val="21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3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DB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60480" y="4203360"/>
              <a:ext cx="1485720" cy="11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74600" y="450072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前端程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17800" y="440172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后台服务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74600" y="499608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网络接口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45920" y="479808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45920" y="5293440"/>
              <a:ext cx="36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31520" y="5590800"/>
              <a:ext cx="3085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46200" y="4798080"/>
              <a:ext cx="45720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7800" y="539280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网络接口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9480" y="519444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9480" y="469872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17800" y="489708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事务队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中的客户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033280" y="2841840"/>
            <a:ext cx="4229280" cy="1783080"/>
            <a:chOff x="2033280" y="2841840"/>
            <a:chExt cx="4229280" cy="1783080"/>
          </a:xfrm>
        </p:grpSpPr>
        <p:sp>
          <p:nvSpPr>
            <p:cNvPr id="240" name=""/>
            <p:cNvSpPr/>
            <p:nvPr/>
          </p:nvSpPr>
          <p:spPr>
            <a:xfrm>
              <a:off x="2490480" y="2841840"/>
              <a:ext cx="799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19360" y="2841840"/>
              <a:ext cx="799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76480" y="2841840"/>
              <a:ext cx="799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19280" y="2982960"/>
              <a:ext cx="45720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61880" y="3535560"/>
              <a:ext cx="10285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应用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19360" y="3535560"/>
              <a:ext cx="10285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应用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5080" y="3535560"/>
              <a:ext cx="10285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应用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47880" y="3663000"/>
              <a:ext cx="45720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490480" y="3139200"/>
              <a:ext cx="34272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47680" y="3139200"/>
              <a:ext cx="91440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719080" y="3139200"/>
              <a:ext cx="125712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090320" y="3139200"/>
              <a:ext cx="114300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176280" y="3139200"/>
              <a:ext cx="182880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48160" y="3139200"/>
              <a:ext cx="11412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33280" y="4327920"/>
              <a:ext cx="114264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19360" y="4327920"/>
              <a:ext cx="114264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19560" y="4327920"/>
              <a:ext cx="114300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261520" y="3832920"/>
              <a:ext cx="5713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47680" y="3832920"/>
              <a:ext cx="10285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76280" y="3832920"/>
              <a:ext cx="2400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490120" y="3832920"/>
              <a:ext cx="14857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90680" y="38329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3760" y="3832920"/>
              <a:ext cx="137160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205160" y="3832920"/>
              <a:ext cx="1257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76760" y="38329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客户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790720" cy="1924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3571560" cy="2495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2676600" cy="35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关系型数据库管理系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关系模式的扩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定义数据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定义数据规则和约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关系子模式的扩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允许索引视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存储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关系模式和子模式间映射的扩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-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触发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的逻辑和物理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逻辑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库对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排序规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录、用户和角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理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布式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运行的软硬件环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件环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低要求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内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M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上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M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上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高支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环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低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高支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88000" y="2781360"/>
            <a:ext cx="1439640" cy="136836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f00"/>
              </a:gs>
              <a:gs pos="50000">
                <a:srgbClr val="ffcf01"/>
              </a:gs>
              <a:gs pos="100000">
                <a:srgbClr val="755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00720" y="2997360"/>
            <a:ext cx="2305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极具伸缩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前的准备工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前的考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用什么硬件（性价比、升级、存储、辅助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用什么软件（操作系统、第三方软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部署怎样的结构（星形、层次、三层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类型考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全新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升级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人值守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企业版的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全新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升级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程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人值守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地全新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基本的安装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25636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地升级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7.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~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必经的升级之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系统备份（升级前、升级后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5041800" cy="33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今常用的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的发展历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发展过程中的经典数据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远程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合远程部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安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稳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程机需打开管理共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无人值守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系统的管理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自动应答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借助光盘上的例子执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组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件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企业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件探查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分析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网络实用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机丛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组件概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95640" y="3141720"/>
            <a:ext cx="1656000" cy="180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企业管理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合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470560" cy="4095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987640" y="2565360"/>
            <a:ext cx="1655640" cy="863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数据库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4365720"/>
            <a:ext cx="1944720" cy="863640"/>
          </a:xfrm>
          <a:prstGeom prst="wedgeRoundRectCallout">
            <a:avLst>
              <a:gd name="adj1" fmla="val -44694"/>
              <a:gd name="adj2" fmla="val 70037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用户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1360" y="4005360"/>
            <a:ext cx="1879560" cy="863640"/>
          </a:xfrm>
          <a:prstGeom prst="wedgeRoundRectCallout">
            <a:avLst>
              <a:gd name="adj1" fmla="val 47129"/>
              <a:gd name="adj2" fmla="val 125185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其它管理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95640" y="3573360"/>
            <a:ext cx="129672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5229360"/>
            <a:ext cx="1008000" cy="79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79640" y="5445000"/>
            <a:ext cx="64764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事件探查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件跟踪，辅助调试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4981680" cy="3730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500720" y="2349360"/>
            <a:ext cx="2303280" cy="935280"/>
          </a:xfrm>
          <a:prstGeom prst="wedgeRoundRectCallout">
            <a:avLst>
              <a:gd name="adj1" fmla="val -54481"/>
              <a:gd name="adj2" fmla="val 80222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跟踪详细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95640" y="3357720"/>
            <a:ext cx="2376360" cy="86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询分析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辅助开发，性能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259240" cy="39448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516720" y="3214800"/>
            <a:ext cx="1366920" cy="503280"/>
          </a:xfrm>
          <a:prstGeom prst="wedgeRoundRectCallout">
            <a:avLst>
              <a:gd name="adj1" fmla="val -54879"/>
              <a:gd name="adj2" fmla="val 86907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执行结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2133720"/>
            <a:ext cx="1366920" cy="503280"/>
          </a:xfrm>
          <a:prstGeom prst="wedgeRoundRectCallout">
            <a:avLst>
              <a:gd name="adj1" fmla="val -59060"/>
              <a:gd name="adj2" fmla="val 71768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执行命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2276640"/>
            <a:ext cx="1366920" cy="502920"/>
          </a:xfrm>
          <a:prstGeom prst="wedgeRoundRectCallout">
            <a:avLst>
              <a:gd name="adj1" fmla="val -62657"/>
              <a:gd name="adj2" fmla="val 121925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执行位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64000" y="3860640"/>
            <a:ext cx="2952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端网络实用工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便管理、开发、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923000" cy="4325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987640" y="2565360"/>
            <a:ext cx="4168800" cy="1506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27640" y="5180040"/>
            <a:ext cx="1482480" cy="6429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联机丛书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帮助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835280" y="2997360"/>
            <a:ext cx="50472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68360" y="2997360"/>
            <a:ext cx="50508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0360" y="2997360"/>
            <a:ext cx="50472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32000" y="2997360"/>
            <a:ext cx="50508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卸载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安装光盘卸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4591080" cy="35906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516720" y="2492280"/>
            <a:ext cx="2016000" cy="576360"/>
          </a:xfrm>
          <a:prstGeom prst="wedgeRoundRectCallout">
            <a:avLst>
              <a:gd name="adj1" fmla="val -52518"/>
              <a:gd name="adj2" fmla="val 115564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 Narrow"/>
                <a:ea typeface="楷体_GB2312"/>
              </a:rPr>
              <a:t>卸载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楷体_GB2312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224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学会各种安装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企业版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了解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企业版的各组件功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了解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QL Server DBA</a:t>
            </a: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的角色和任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DBA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角色和任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和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全性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能调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和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础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网络操作系统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QL Server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的应用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tive Direc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全性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帐户的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管理员帐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库所有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库普通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身份验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方安全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防火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防杀病毒工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性能调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硬件的考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内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存储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软件的考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操作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数据库管理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应用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5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是优秀的关系数据库管理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使用客户机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服务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主要版本：企业版和标准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可以适应低端到高端的系统，极具伸缩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企业版的安装主要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种类型，易部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应用组件丰富易用，易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DBA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角色和任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企业版的安装和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企业版的组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无人值守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成功安装对话框出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可以看到类似下面的组织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68944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概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产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企业对数据库的需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提供的特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076640"/>
            <a:ext cx="180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企业需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479736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36572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93372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789360"/>
            <a:ext cx="1441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大规模</a:t>
            </a: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OL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4221000"/>
            <a:ext cx="1441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大型网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724280"/>
            <a:ext cx="1441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大规模电子商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4149720"/>
            <a:ext cx="144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SQL Server 2000</a:t>
            </a: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提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500360" y="3933360"/>
            <a:ext cx="93492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84720" y="4365720"/>
            <a:ext cx="1079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642920" y="4437000"/>
            <a:ext cx="79236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24000" y="522936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5084640"/>
            <a:ext cx="1441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27280" y="4437000"/>
            <a:ext cx="115236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概述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版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企业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32</a:t>
            </a: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个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64GB</a:t>
            </a: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内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电子商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64</a:t>
            </a: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位支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标准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个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2GB</a:t>
            </a: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内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其他特殊版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的基本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型数据库管理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逻辑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理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数据库的基本结构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700280"/>
            <a:ext cx="1028880" cy="29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用户级数据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4257720"/>
            <a:ext cx="1028880" cy="2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物理级数据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3070080"/>
            <a:ext cx="1028880" cy="2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概念级数据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2276640"/>
            <a:ext cx="800280" cy="296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用户视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52880" y="1682640"/>
            <a:ext cx="68580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53080" y="1682640"/>
            <a:ext cx="68580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53000" y="1682640"/>
            <a:ext cx="68580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52880" y="2276640"/>
            <a:ext cx="914400" cy="296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SQL</a:t>
            </a: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请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38640" y="2276640"/>
            <a:ext cx="857160" cy="296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视图请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667120" y="1979640"/>
            <a:ext cx="22860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866840" y="1979640"/>
            <a:ext cx="22860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81400" y="1979640"/>
            <a:ext cx="22860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1979640"/>
            <a:ext cx="22860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610080" y="257508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638600" y="257508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210280" y="257508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95880" y="3465360"/>
            <a:ext cx="687240" cy="298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316872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8600" y="316872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53080" y="316872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654440"/>
            <a:ext cx="2286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分布式）文件系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38600" y="3763800"/>
            <a:ext cx="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8600" y="495288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2781360"/>
            <a:ext cx="799920" cy="39528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DB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53280" y="4259160"/>
            <a:ext cx="799920" cy="39528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09840" y="4457880"/>
            <a:ext cx="343080" cy="49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4160" y="3168720"/>
            <a:ext cx="0" cy="10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667480" y="3168720"/>
            <a:ext cx="91440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857560" y="3165480"/>
            <a:ext cx="68580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781600" y="2970360"/>
            <a:ext cx="571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124680" y="2575080"/>
            <a:ext cx="34272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124680" y="1979280"/>
            <a:ext cx="45720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52600" y="30272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52600" y="42069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95680" y="1881360"/>
            <a:ext cx="457200" cy="49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95680" y="2475000"/>
            <a:ext cx="79992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809440" y="3070080"/>
            <a:ext cx="68580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09800" y="3664080"/>
            <a:ext cx="685800" cy="49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3465360"/>
            <a:ext cx="799920" cy="298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aa01"/>
                </a:solidFill>
                <a:latin typeface="Arial Narrow"/>
                <a:ea typeface="楷体_GB2312"/>
              </a:rPr>
              <a:t>DBA</a:t>
            </a: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视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809440" y="4259160"/>
            <a:ext cx="68580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09800" y="4853160"/>
            <a:ext cx="571680" cy="69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38480" y="4654440"/>
            <a:ext cx="799920" cy="298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物理视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0" y="1682640"/>
            <a:ext cx="68580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24400" y="2276640"/>
            <a:ext cx="800280" cy="296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请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67000" y="3465360"/>
            <a:ext cx="685800" cy="298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24400" y="3465360"/>
            <a:ext cx="687600" cy="298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5600" y="2871720"/>
            <a:ext cx="228600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客户端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0" y="36133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610080" y="316872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10280" y="316872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981680" y="35942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0" y="3392640"/>
            <a:ext cx="343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1680" y="3367080"/>
            <a:ext cx="342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5600" y="5249880"/>
            <a:ext cx="743040" cy="792000"/>
          </a:xfrm>
          <a:prstGeom prst="flowChartMagneticDisk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主要数据文件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95880" y="5249880"/>
            <a:ext cx="742680" cy="792000"/>
          </a:xfrm>
          <a:prstGeom prst="flowChartMagneticDisk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次要数据文件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95800" y="5249880"/>
            <a:ext cx="743040" cy="792000"/>
          </a:xfrm>
          <a:prstGeom prst="flowChartMagneticDisk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日志文件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38680" y="495288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38880" y="495288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723840" y="3763800"/>
            <a:ext cx="34308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210280" y="3763800"/>
            <a:ext cx="45720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4149720"/>
            <a:ext cx="2514600" cy="1981080"/>
          </a:xfrm>
          <a:prstGeom prst="flowChartMagneticDisk">
            <a:avLst/>
          </a:prstGeom>
          <a:gradFill rotWithShape="0">
            <a:gsLst>
              <a:gs pos="0">
                <a:srgbClr val="755e00"/>
              </a:gs>
              <a:gs pos="50000">
                <a:srgbClr val="ffcc00">
                  <a:alpha val="8235"/>
                </a:srgbClr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端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早的客户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中式系统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规模企业内部网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泛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客户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终端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093760" y="2141640"/>
            <a:ext cx="4800960" cy="891360"/>
            <a:chOff x="2093760" y="2141640"/>
            <a:chExt cx="4800960" cy="891360"/>
          </a:xfrm>
        </p:grpSpPr>
        <p:sp>
          <p:nvSpPr>
            <p:cNvPr id="182" name=""/>
            <p:cNvSpPr/>
            <p:nvPr/>
          </p:nvSpPr>
          <p:spPr>
            <a:xfrm>
              <a:off x="2093760" y="2141640"/>
              <a:ext cx="57096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终端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79560" y="2141640"/>
              <a:ext cx="57060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终端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65360" y="2141640"/>
              <a:ext cx="57096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终端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79760" y="2141640"/>
              <a:ext cx="5713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终端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7040" y="2282400"/>
              <a:ext cx="34272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93760" y="2736000"/>
              <a:ext cx="422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0520" y="2438640"/>
              <a:ext cx="72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65400" y="2438640"/>
              <a:ext cx="72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51200" y="2438640"/>
              <a:ext cx="3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22840" y="2438640"/>
              <a:ext cx="3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0320" y="2240640"/>
              <a:ext cx="914400" cy="5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440" y="2736000"/>
              <a:ext cx="9144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网络连接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80320" y="2538000"/>
              <a:ext cx="799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任务队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365200" y="3599280"/>
            <a:ext cx="4572000" cy="1783440"/>
            <a:chOff x="2365200" y="3599280"/>
            <a:chExt cx="4572000" cy="1783440"/>
          </a:xfrm>
        </p:grpSpPr>
        <p:sp>
          <p:nvSpPr>
            <p:cNvPr id="196" name=""/>
            <p:cNvSpPr/>
            <p:nvPr/>
          </p:nvSpPr>
          <p:spPr>
            <a:xfrm>
              <a:off x="5337000" y="4788360"/>
              <a:ext cx="1600200" cy="59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服务器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50640" y="3599280"/>
              <a:ext cx="5713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用户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79320" y="4094640"/>
              <a:ext cx="7333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输入终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8200" y="4094640"/>
              <a:ext cx="7333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输出终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822400" y="3896640"/>
              <a:ext cx="34272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393720" y="3896640"/>
              <a:ext cx="45720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36520" y="4590000"/>
              <a:ext cx="799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网络接口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2400" y="4392000"/>
              <a:ext cx="45720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393720" y="4392000"/>
              <a:ext cx="45720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5200" y="518436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9600" y="488736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51120" y="5085360"/>
              <a:ext cx="14857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服务事务队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Patric</dc:creator>
  <dc:description/>
  <dc:language>en-US</dc:language>
  <cp:lastModifiedBy>fei.feng</cp:lastModifiedBy>
  <dcterms:modified xsi:type="dcterms:W3CDTF">2004-03-12T04:01:27Z</dcterms:modified>
  <cp:revision>411</cp:revision>
  <dc:subject/>
  <dc:title>SQL Server 2000安装与简介</dc:title>
</cp:coreProperties>
</file>