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F78-F566-4EA9-B3E8-0D27856ED8D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09DA-843A-4365-A0C4-C034B555DD2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QL Server 2000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数据库管理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四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存储过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允许模块化程序设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允许更快执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少网络流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作为安全机制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触发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是一种特殊的存储过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与一个表相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可通过数据库中的相关表实现级联更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可以强制比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HECK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约束定义的约束更为复杂的约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自定义函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标量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嵌表值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语句表值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图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3953160" cy="38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文索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普通索引和全文索引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76240" y="1523880"/>
          <a:ext cx="7391520" cy="4648320"/>
        </p:xfrm>
        <a:graphic>
          <a:graphicData uri="http://schemas.openxmlformats.org/drawingml/2006/table"/>
        </a:graphic>
      </p:graphicFrame>
      <p:graphicFrame>
        <p:nvGraphicFramePr>
          <p:cNvPr id="128" name=""/>
          <p:cNvGraphicFramePr/>
          <p:nvPr/>
        </p:nvGraphicFramePr>
        <p:xfrm>
          <a:off x="1332000" y="2060640"/>
          <a:ext cx="5945040" cy="3811680"/>
        </p:xfrm>
        <a:graphic>
          <a:graphicData uri="http://schemas.openxmlformats.org/drawingml/2006/table">
            <a:tbl>
              <a:tblPr/>
              <a:tblGrid>
                <a:gridCol w="2973240"/>
                <a:gridCol w="29718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时受定义它们所在的数据库的控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在文件系统中，但通过数据库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个表允许有若干个普通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个表只允许有一个全文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对作为其基础的数据进行插入、更新或删除时，它们自动更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数据添加到全文索引称为填充，全文索引可通过调度或特定请求来请求，也可以在添加新数据时自动发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分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同一个数据库内分组为一个或多个全文目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使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 Server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企业管理器、向导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act-SQL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语句创建和除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使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 Server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企业管理器、向导或存储过程创建、管理和除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分类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aste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empd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ode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sd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istribu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数据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客户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数据库”管理目录上，单击鼠标右键，如图选择“新建数据库”的菜单选项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490840"/>
            <a:ext cx="3619440" cy="27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弹出的“数据库属性”对话框中，如图在“常规”选项卡中填入数据库名称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149560"/>
            <a:ext cx="3619440" cy="33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76240" y="2147760"/>
            <a:ext cx="3619440" cy="3399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8320" y="2144880"/>
            <a:ext cx="3619440" cy="34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116320" cy="383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修改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收缩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附加和分离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收缩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收缩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76600" y="1914480"/>
            <a:ext cx="379080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6160" y="2371680"/>
            <a:ext cx="41716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中的一些常用数据对象：表、索引、视图、存储过程、触发器、用户自定义函数和全文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的基本操作：创建、删除、收缩和移动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的重要概念： 文件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419640" cy="2248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2263680" cy="2248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208584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st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413000"/>
            <a:ext cx="7812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build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st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7920" y="2071800"/>
            <a:ext cx="444816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数据库的概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面复杂的数据库查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数据库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57480" y="1581120"/>
            <a:ext cx="482904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架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应用程序和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讯组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57480" y="1585800"/>
            <a:ext cx="482904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66840" y="1585800"/>
            <a:ext cx="48103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62160" y="1581120"/>
            <a:ext cx="481968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52800" y="1581120"/>
            <a:ext cx="483840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52800" y="1581120"/>
            <a:ext cx="483840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关系数据库组件包括：数据库应用程序和服务器、登录、客户端组件、通讯组件、服务器组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系统中的对象包括：数据库、表、索引、视图、存储过程、触发器、用户自定义函数、关系图、全文索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按使用情况分为系统数据库和用户数据库。系统数据库包括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用户数据库由用户定制，默认存在的示例数据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hwi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是用户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管理工作主要包括：创建数据库、修改数据库、查看数据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修改数据库中，收缩数据库、附加和分离数据库以及重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是重要的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文件组优化数据库文件存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创建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查看和修改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收缩数据库及相关文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移动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文件组的管理和使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修改数据库文件大小等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收缩数据库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将数据库移到另一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文件组是如何提高数据库存储性能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架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库架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7960" y="2116080"/>
            <a:ext cx="524664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中的对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索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户自定义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关系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全文索引目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68600" y="2665440"/>
            <a:ext cx="2206800" cy="236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6720" y="2781360"/>
            <a:ext cx="50328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429000"/>
            <a:ext cx="25905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068640"/>
            <a:ext cx="1079280" cy="649440"/>
          </a:xfrm>
          <a:prstGeom prst="wedgeEllipseCallout">
            <a:avLst>
              <a:gd name="adj1" fmla="val 131912"/>
              <a:gd name="adj2" fmla="val 223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2349360"/>
            <a:ext cx="1079640" cy="649440"/>
          </a:xfrm>
          <a:prstGeom prst="wedgeEllipseCallout">
            <a:avLst>
              <a:gd name="adj1" fmla="val -178236"/>
              <a:gd name="adj2" fmla="val 8862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索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2036880"/>
            <a:ext cx="594360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视图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02080" cy="34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6:58:10Z</dcterms:modified>
  <cp:revision>714</cp:revision>
  <dc:subject/>
  <dc:title>SQL Server 2000安装与简介</dc:title>
</cp:coreProperties>
</file>