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6AF-0D45-44E2-803B-E90C98E915B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8B44-C1B8-4CE3-92D5-0F33AF47D93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多表的数据查询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LE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中使用多个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019920" cy="2051280"/>
          </a:xfrm>
          <a:prstGeom prst="rect">
            <a:avLst/>
          </a:prstGeom>
          <a:ln w="28440">
            <a:solidFill>
              <a:srgbClr val="f4a98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多表的查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[Order Details].Orderid,Products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Order Details].Quantity,Products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,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[Order Details].Productid = Products.Producti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,Employees,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rders.Employeeid=Employees.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Orders.Customerid=Customers.Customeri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表的别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D.Orderid,P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.Quantity,P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AS OD ,Products a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D.Productid = P.Producti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 AS o,Employees AS e,Customers A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.Employeeid=e.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o.Customerid=c.Custom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1956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UNIO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运算符合并结果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191120"/>
            <a:ext cx="518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752480"/>
            <a:ext cx="739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返回的列数和列的顺序必须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列的数据类型必须一一对应并且是兼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ntactName,city,postal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lastname + ' ' + firstname ,city,postal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内联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OD.Orderid,P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D.Quantity,P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AS OD INNER JOIN Products A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D.Productid = P.Product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内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 AS o INNER JOIN Employees A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.Employeeid=e.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NER JOIN Customers A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.Customerid=c.Custom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外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外联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 LEFT OUTER JOIN publisher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外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S a RIGHT OUTER JOIN publishers A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全外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 FULL OUTER JOIN publisher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叉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两个表作交叉联接的结果集相当于“乘法”，两个集合进行迪卡尔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SE North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EmployeeID,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 CROSS JOIN 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联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每位员工的上司的姓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e.Las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员工的名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.Las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上司的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 AS e LEFT JOIN Employees A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e.Reportsto = m.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查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直接取值的子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Produc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UM(unitprice*quantity*(1-discount)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每种产品的销售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UM(unitprice*quantity*(1-discount)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SELECT SUM(unitprice*quantity*(1-discoun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百分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produc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productI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中的子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USE North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o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Orders A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20&lt; (SELECT Quantity FROM [order details] AS 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o.OrderID = od.Ord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AND od.Productid = 2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删除和更新记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981080"/>
            <a:ext cx="5639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添加记录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INSERT INTO…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修改数据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删除数据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DE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表是二维的数据集合，是数据库中最基本最重要的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表的操作有：创建表、更改表、删除表、插入数据、修改数据、删除数据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言是操作数据库的语言，对表操作可以使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言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单表的查询使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句，基本子句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子句中可以对结果集做各种限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ORDER B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子句可以对查询的结果集排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提供了大量函数，常用的有字符串函数、数学函数和日期时间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、修改和删除数据的案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CREATE TABL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nvarchar(1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nvarchar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生日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smalldate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职位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rchar(2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基本工资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money 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INSERT INTO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LUES(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北京市海淀区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1978-01-20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销售代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25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INSERT INTO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LUES(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李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上海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1970-08-02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销售经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4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UPDAT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SET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基本工资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3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WHER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DELETE FROM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WHER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错误消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唯一标识该错误信息的消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明问题类型的严重级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识发出错误的来源的错误状态号，错误也可能从多个位置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声明问题的消息正文，有时还有可能的解决方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楷体_GB2312"/>
              </a:rPr>
              <a:t>sysmessages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</a:rPr>
              <a:t>表中的错误消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86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019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理解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关系图对象可以显示数据库中表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的数据可以来自于多个表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子句中可以包含多个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为了使多表查询语句更简洁，可以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子句中使用别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运算符可以联接多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，并把结果集合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多表联接的方式有内联接、外联接、交叉联接、自联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子查询可以完成一些复杂的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添加、修改和删除记录的语句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INSERT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PDAT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DE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ysmessage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表中保存了系统的错误消息，错误消息有不同的严重级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88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创建关系图对象，查看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一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语句中使用多个表查询，并使用表的别名简化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合并多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的结果集为一个结果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内联接、外联接、交叉联接和自联接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子查询完成复杂的查询求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19320"/>
            <a:ext cx="6438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照每个任务的要求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558440"/>
            <a:ext cx="731988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理解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查看表间关系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内联接、外联接、交叉联接和自联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合并结果集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添加、删除和更新记录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需求，创建表，定义列、主键和数据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表之间的关系，定义外键约束保证参照完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化数据的设计，实现数据的完整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62240" y="5410080"/>
            <a:ext cx="1232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e4d9"/>
                </a:solidFill>
                <a:latin typeface="Arial"/>
                <a:ea typeface="宋体"/>
              </a:rPr>
              <a:t>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orthwind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中的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084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6705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键维护实体完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5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9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外键的意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616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3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41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间的关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447920"/>
            <a:ext cx="5562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一对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一对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多对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1472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70866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图对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176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3341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4:19:53Z</dcterms:created>
  <dc:creator>henry</dc:creator>
  <dc:description/>
  <dc:language>en-US</dc:language>
  <cp:lastModifiedBy>fei.feng</cp:lastModifiedBy>
  <dcterms:modified xsi:type="dcterms:W3CDTF">2004-03-15T03:38:24Z</dcterms:modified>
  <cp:revision>287</cp:revision>
  <dc:subject/>
  <dc:title>PowerPoint 演示文稿</dc:title>
</cp:coreProperties>
</file>