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7391520" cy="609480"/>
          </a:xfrm>
          <a:prstGeom prst="rect">
            <a:avLst/>
          </a:prstGeom>
          <a:gradFill rotWithShape="0">
            <a:gsLst>
              <a:gs pos="0">
                <a:srgbClr val="8194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2400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2F85-5DA5-4698-B3A7-BBA26E980E46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91520" y="5829480"/>
            <a:ext cx="175248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467480" y="5873760"/>
            <a:ext cx="1676520" cy="984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0" y="6324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ersion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521D-BD3D-4794-A7F8-9ACAD1E16C4F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76320" y="304920"/>
            <a:ext cx="2286000" cy="869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95400" algn="ctr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实验综合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249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第七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如何连接到服务器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情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服务器端修改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P/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协议的端口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客户端无法连接到服务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决方案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用网络客户端实用工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修改客户端网络协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建议使用别名方便修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35280" y="378936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如何选择磁盘放置数据库文件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情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2000 Server + SQL Server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动态硬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低速硬盘分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硬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ID-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阵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速硬盘分区，可靠性，大容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决办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事务日志文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低速硬盘分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据文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速硬盘分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35280" y="378936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如何作数据文件优化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情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2000 Server + SQL Server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硬盘阵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RA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何优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据文件的文件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35280" y="378936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如何自动收缩数据库文件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情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测试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L Server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据文件增大需要收缩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手动收缩麻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何自动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设置自动收缩数据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35280" y="378936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如何找到效率低下的原因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条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L Server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业务执行效率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决办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探查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378936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如何完成硬盘升级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条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硬盘需要更换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决方案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收缩数据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离数据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附加数据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635280" y="378936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如何恢复崩溃后的系统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条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病毒入侵，系统崩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决办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重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t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据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注意平时备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635280" y="378936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如何对多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PU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进行升级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条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2000 Server + SQL Server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系统最大能使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决办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提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升级依赖与系统软硬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35280" y="378936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何时备份比较好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条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常备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决办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计划任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避开高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35280" y="378936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如何下调部分商品价格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?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条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thwi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决办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produ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 unitprice=unitprice*0.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unitprice&gt;3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35280" y="378936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如何选择合适的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QL Server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版本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条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大型网站＋电子商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并发用户数大于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存储大量数据信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选择版本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标准版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企业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71640" y="393372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如何创建门禁记录表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条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门禁系统记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间＋卡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决办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企业管理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35280" y="378936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如何知道不足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位客户的城市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条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thwi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决办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B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DER B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635280" y="378936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如何知道在各城市各有多少客户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条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thwi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逆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决办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B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DER B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35280" y="378936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如何知道有哪些职位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条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thWi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loye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决办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IN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B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35280" y="378936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如何查询员工下属数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条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thWi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loye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决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35280" y="378936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如何修改员工的上级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条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thWi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loye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决办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自联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…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35280" y="378936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如何列出上下级关系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条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thWi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loye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决办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自联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内联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…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35280" y="378936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章总结了全课程中的一些难点重点的内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安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安全策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管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单表和多表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句查询和操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内容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000" y="1523880"/>
            <a:ext cx="7559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任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验证通过客户端登录到服务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任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使用企业管理器创建一个数据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任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使用企业管理器和语句分别建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任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将表用不同磁盘上的文件组来保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任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针对表的操作（单表、多表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任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关闭服务器端尝试是否能联接上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完成标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000" y="1523880"/>
            <a:ext cx="7559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功登录到服务器端数据库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功创建一个数据库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功创建两个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利用新建的文件组保存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功对表实现查看、插入等操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验证已关闭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服务器无法连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如何选择合适的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QL Server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版本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条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公司研发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研发信息存储＋支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辅助项目管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选择版本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标准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企业版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8000" y="378936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如何部署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QL Server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升级安装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26920" y="12682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条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原先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L Server 7.0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标准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计划升级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L Server 20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企业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辅助自动化办公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部署计划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L Server 7.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L Server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标准版到企业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升级计划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备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08360" y="472428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如何登录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QL Server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服务器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情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2000 Server + SQL Server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 +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正确密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登录失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帐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登录成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问题所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身份验证模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它安全措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5280" y="4005360"/>
            <a:ext cx="79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26920" y="12682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基本情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Windows 2000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SQL Server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启动服务帐户设为域用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发生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管理员修改域用户口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重新启动失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如何启动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QL Server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服务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40360" y="357336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如何识别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QL Server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服务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基本情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Windows 2000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默认实例＋命名实例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CC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发生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修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CC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重新启动服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如何识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MSSQL$AC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35280" y="378936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如何做好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Internet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发布的安全措施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情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L Server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发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全措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禁用命名管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修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P/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协议端口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设定隐藏服务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防火墙等应用服务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35280" y="378936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如何应对病毒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情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32.SQLExp.Wor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肆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措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修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P/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协议发布服务的端口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及时安装系统补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安装杀毒软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35280" y="378936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11:58:20Z</dcterms:created>
  <dc:creator>Patric</dc:creator>
  <dc:description/>
  <dc:language>en-US</dc:language>
  <cp:lastModifiedBy>Administrator</cp:lastModifiedBy>
  <dcterms:modified xsi:type="dcterms:W3CDTF">2004-02-17T08:26:30Z</dcterms:modified>
  <cp:revision>1337</cp:revision>
  <dc:subject/>
  <dc:title>SQL Server 2000安装与简介</dc:title>
</cp:coreProperties>
</file>