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ongtao.gu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<Relationship Id="rId49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04-02-04T09:23:11.628000000" idx="1">
    <p:pos x="10" y="10"/>
    <p:text>在转换完的截图显示出来后，单击后再出现一个文本框，说明什么样的转换需要重新启动计算机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264F-9481-42E2-83FF-F81E4D390FCF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8D5-9AA2-49CD-BD8D-749DD91BF42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Server 2003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磁盘管理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十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磁盘的基本属性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790960" cy="3438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429000" y="1447920"/>
            <a:ext cx="2160360" cy="3276000"/>
            <a:chOff x="3429000" y="1447920"/>
            <a:chExt cx="2160360" cy="3276000"/>
          </a:xfrm>
        </p:grpSpPr>
        <p:sp>
          <p:nvSpPr>
            <p:cNvPr id="151" name=""/>
            <p:cNvSpPr/>
            <p:nvPr/>
          </p:nvSpPr>
          <p:spPr>
            <a:xfrm>
              <a:off x="3429000" y="4094280"/>
              <a:ext cx="838080" cy="629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733920" y="1447920"/>
              <a:ext cx="1855440" cy="2645640"/>
              <a:chOff x="3733920" y="1447920"/>
              <a:chExt cx="1855440" cy="2645640"/>
            </a:xfrm>
          </p:grpSpPr>
          <p:sp>
            <p:nvSpPr>
              <p:cNvPr id="153" name=""/>
              <p:cNvSpPr/>
              <p:nvPr/>
            </p:nvSpPr>
            <p:spPr>
              <a:xfrm>
                <a:off x="4275000" y="1447920"/>
                <a:ext cx="131436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磁盘属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733920" y="1805040"/>
                <a:ext cx="541080" cy="2288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5230800" y="1523880"/>
            <a:ext cx="2617920" cy="3200400"/>
            <a:chOff x="5230800" y="1523880"/>
            <a:chExt cx="2617920" cy="3200400"/>
          </a:xfrm>
        </p:grpSpPr>
        <p:sp>
          <p:nvSpPr>
            <p:cNvPr id="156" name=""/>
            <p:cNvSpPr/>
            <p:nvPr/>
          </p:nvSpPr>
          <p:spPr>
            <a:xfrm>
              <a:off x="5230800" y="4267080"/>
              <a:ext cx="74916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7880" y="1523880"/>
              <a:ext cx="1860840" cy="313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盘符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容量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状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504040" y="1872720"/>
              <a:ext cx="483840" cy="22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管理工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029200" cy="3305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PAR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1143000"/>
            <a:ext cx="4647960" cy="4613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867120" y="1143000"/>
            <a:ext cx="5276880" cy="51721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495680" y="2133720"/>
            <a:ext cx="3886200" cy="241200"/>
            <a:chOff x="4495680" y="2133720"/>
            <a:chExt cx="3886200" cy="241200"/>
          </a:xfrm>
        </p:grpSpPr>
        <p:sp>
          <p:nvSpPr>
            <p:cNvPr id="165" name=""/>
            <p:cNvSpPr/>
            <p:nvPr/>
          </p:nvSpPr>
          <p:spPr>
            <a:xfrm>
              <a:off x="4495680" y="2133720"/>
              <a:ext cx="914400" cy="241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2146320"/>
              <a:ext cx="10666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选择磁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2222640"/>
              <a:ext cx="1752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495680" y="2666880"/>
            <a:ext cx="4191120" cy="241560"/>
            <a:chOff x="4495680" y="2666880"/>
            <a:chExt cx="4191120" cy="241560"/>
          </a:xfrm>
        </p:grpSpPr>
        <p:sp>
          <p:nvSpPr>
            <p:cNvPr id="169" name=""/>
            <p:cNvSpPr/>
            <p:nvPr/>
          </p:nvSpPr>
          <p:spPr>
            <a:xfrm>
              <a:off x="4495680" y="2666880"/>
              <a:ext cx="914400" cy="24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5200" y="2666880"/>
              <a:ext cx="1371600" cy="24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显示磁盘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2755800"/>
              <a:ext cx="1752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0" y="2971800"/>
            <a:ext cx="6629400" cy="2895480"/>
            <a:chOff x="2286000" y="2971800"/>
            <a:chExt cx="6629400" cy="2895480"/>
          </a:xfrm>
        </p:grpSpPr>
        <p:sp>
          <p:nvSpPr>
            <p:cNvPr id="173" name=""/>
            <p:cNvSpPr/>
            <p:nvPr/>
          </p:nvSpPr>
          <p:spPr>
            <a:xfrm>
              <a:off x="3886200" y="2971800"/>
              <a:ext cx="5029200" cy="2895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0" y="3962520"/>
              <a:ext cx="106668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磁盘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429000" y="41148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分区（逻辑驱动器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主分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分区是可以用来引导操作系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基本磁盘可以建立一到四个主分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能有一个主分区处于激活状态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NT/XP/2000/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真正支持多主分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981080"/>
            <a:ext cx="1828800" cy="3962520"/>
          </a:xfrm>
          <a:prstGeom prst="can">
            <a:avLst>
              <a:gd name="adj" fmla="val 9777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主分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419720" y="1981080"/>
            <a:ext cx="1752120" cy="4038480"/>
            <a:chOff x="4419720" y="1981080"/>
            <a:chExt cx="1752120" cy="4038480"/>
          </a:xfrm>
        </p:grpSpPr>
        <p:sp>
          <p:nvSpPr>
            <p:cNvPr id="182" name=""/>
            <p:cNvSpPr/>
            <p:nvPr/>
          </p:nvSpPr>
          <p:spPr>
            <a:xfrm>
              <a:off x="4419720" y="4838040"/>
              <a:ext cx="1752120" cy="118152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3885840"/>
              <a:ext cx="1752120" cy="118116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2933280"/>
              <a:ext cx="1752120" cy="118152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1981080"/>
              <a:ext cx="1752120" cy="118116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58000" y="1981080"/>
            <a:ext cx="1752120" cy="4038120"/>
            <a:chOff x="6858000" y="1981080"/>
            <a:chExt cx="1752120" cy="4038120"/>
          </a:xfrm>
        </p:grpSpPr>
        <p:sp>
          <p:nvSpPr>
            <p:cNvPr id="187" name=""/>
            <p:cNvSpPr/>
            <p:nvPr/>
          </p:nvSpPr>
          <p:spPr>
            <a:xfrm>
              <a:off x="6858000" y="4981680"/>
              <a:ext cx="1752120" cy="10375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86500"/>
                </a:gs>
                <a:gs pos="50000">
                  <a:srgbClr val="ff9900"/>
                </a:gs>
                <a:gs pos="100000">
                  <a:srgbClr val="a86500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7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4393440"/>
              <a:ext cx="1752120" cy="10382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86500"/>
                </a:gs>
                <a:gs pos="50000">
                  <a:srgbClr val="ff9900"/>
                </a:gs>
                <a:gs pos="100000">
                  <a:srgbClr val="a86500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7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3806280"/>
              <a:ext cx="1752120" cy="10339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86500"/>
                </a:gs>
                <a:gs pos="50000">
                  <a:srgbClr val="ff9900"/>
                </a:gs>
                <a:gs pos="100000">
                  <a:srgbClr val="a86500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16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1981080"/>
              <a:ext cx="1752120" cy="223668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: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扩展分区和逻辑分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最多可以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主分区和一个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分区可进一步划分为多个逻辑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扩展分区和逻辑分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62720" y="2286000"/>
            <a:ext cx="1828800" cy="4114800"/>
            <a:chOff x="5562720" y="2286000"/>
            <a:chExt cx="1828800" cy="4114800"/>
          </a:xfrm>
        </p:grpSpPr>
        <p:sp>
          <p:nvSpPr>
            <p:cNvPr id="195" name=""/>
            <p:cNvSpPr/>
            <p:nvPr/>
          </p:nvSpPr>
          <p:spPr>
            <a:xfrm>
              <a:off x="5562720" y="4419720"/>
              <a:ext cx="1828800" cy="1981080"/>
            </a:xfrm>
            <a:custGeom>
              <a:avLst/>
              <a:gdLst>
                <a:gd name="textAreaLeft" fmla="*/ 22320 w 1828800"/>
                <a:gd name="textAreaRight" fmla="*/ 1806480 w 1828800"/>
                <a:gd name="textAreaTop" fmla="*/ 22320 h 1981080"/>
                <a:gd name="textAreaBottom" fmla="*/ 1958760 h 1981080"/>
              </a:gdLst>
              <a:ahLst/>
              <a:rect l="textAreaLeft" t="textAreaTop" r="textAreaRight" b="textAreaBottom"/>
              <a:pathLst>
                <a:path w="21600" h="23398">
                  <a:moveTo>
                    <a:pt x="900" y="0"/>
                  </a:moveTo>
                  <a:arcTo wR="900" hR="900" stAng="16200000" swAng="-5400000"/>
                  <a:lnTo>
                    <a:pt x="0" y="22498"/>
                  </a:lnTo>
                  <a:arcTo wR="900" hR="900" stAng="10800000" swAng="-5400000"/>
                  <a:lnTo>
                    <a:pt x="20700" y="2339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d5d69c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2286000"/>
              <a:ext cx="1828800" cy="2057400"/>
            </a:xfrm>
            <a:custGeom>
              <a:avLst/>
              <a:gdLst>
                <a:gd name="textAreaLeft" fmla="*/ 22320 w 1828800"/>
                <a:gd name="textAreaRight" fmla="*/ 1806480 w 1828800"/>
                <a:gd name="textAreaTop" fmla="*/ 22320 h 2057400"/>
                <a:gd name="textAreaBottom" fmla="*/ 203508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900" y="0"/>
                  </a:moveTo>
                  <a:arcTo wR="900" hR="900" stAng="16200000" swAng="-5400000"/>
                  <a:lnTo>
                    <a:pt x="0" y="23399"/>
                  </a:lnTo>
                  <a:arcTo wR="900" hR="900" stAng="10800000" swAng="-5400000"/>
                  <a:lnTo>
                    <a:pt x="20700" y="24299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24600" y="2373480"/>
              <a:ext cx="903240" cy="307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0320" y="5803920"/>
              <a:ext cx="1533600" cy="5540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扩展分区和逻辑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685120" y="2743200"/>
              <a:ext cx="1584000" cy="2941560"/>
              <a:chOff x="5685120" y="2743200"/>
              <a:chExt cx="1584000" cy="29415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685120" y="2743200"/>
                <a:ext cx="1584000" cy="2941560"/>
                <a:chOff x="5685120" y="2743200"/>
                <a:chExt cx="1584000" cy="294156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3200" y="3687480"/>
                  <a:ext cx="1530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85120" y="2743200"/>
                  <a:ext cx="1584000" cy="220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3" name=""/>
              <p:cNvSpPr/>
              <p:nvPr/>
            </p:nvSpPr>
            <p:spPr>
              <a:xfrm>
                <a:off x="6283080" y="326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C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83080" y="3680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D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83080" y="4094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E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83080" y="450864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F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83080" y="492300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G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83080" y="533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H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819520" y="1147320"/>
            <a:ext cx="3886200" cy="1105200"/>
            <a:chOff x="2819520" y="1147320"/>
            <a:chExt cx="3886200" cy="1105200"/>
          </a:xfrm>
        </p:grpSpPr>
        <p:sp>
          <p:nvSpPr>
            <p:cNvPr id="210" name=""/>
            <p:cNvSpPr/>
            <p:nvPr/>
          </p:nvSpPr>
          <p:spPr>
            <a:xfrm>
              <a:off x="4536360" y="1147320"/>
              <a:ext cx="738000" cy="376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基本磁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95680" y="1756080"/>
              <a:ext cx="762120" cy="345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或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9520" y="1600200"/>
              <a:ext cx="3886200" cy="652320"/>
            </a:xfrm>
            <a:custGeom>
              <a:avLst/>
              <a:gdLst/>
              <a:ahLst/>
              <a:rect l="l" t="t" r="r" b="b"/>
              <a:pathLst>
                <a:path w="2181" h="439">
                  <a:moveTo>
                    <a:pt x="2123" y="256"/>
                  </a:moveTo>
                  <a:lnTo>
                    <a:pt x="2181" y="245"/>
                  </a:lnTo>
                  <a:lnTo>
                    <a:pt x="2088" y="439"/>
                  </a:lnTo>
                  <a:lnTo>
                    <a:pt x="1988" y="246"/>
                  </a:lnTo>
                  <a:lnTo>
                    <a:pt x="2044" y="255"/>
                  </a:lnTo>
                  <a:lnTo>
                    <a:pt x="2054" y="62"/>
                  </a:lnTo>
                  <a:lnTo>
                    <a:pt x="1088" y="62"/>
                  </a:lnTo>
                  <a:lnTo>
                    <a:pt x="123" y="62"/>
                  </a:lnTo>
                  <a:lnTo>
                    <a:pt x="135" y="256"/>
                  </a:lnTo>
                  <a:lnTo>
                    <a:pt x="191" y="245"/>
                  </a:lnTo>
                  <a:lnTo>
                    <a:pt x="98" y="439"/>
                  </a:lnTo>
                  <a:lnTo>
                    <a:pt x="0" y="246"/>
                  </a:lnTo>
                  <a:lnTo>
                    <a:pt x="54" y="255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120" y="0"/>
                  </a:lnTo>
                  <a:lnTo>
                    <a:pt x="1088" y="0"/>
                  </a:lnTo>
                  <a:lnTo>
                    <a:pt x="2058" y="0"/>
                  </a:lnTo>
                  <a:lnTo>
                    <a:pt x="2109" y="0"/>
                  </a:lnTo>
                  <a:lnTo>
                    <a:pt x="2123" y="256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133720" y="2286000"/>
            <a:ext cx="1778040" cy="4114800"/>
            <a:chOff x="2133720" y="2286000"/>
            <a:chExt cx="1778040" cy="4114800"/>
          </a:xfrm>
        </p:grpSpPr>
        <p:sp>
          <p:nvSpPr>
            <p:cNvPr id="214" name=""/>
            <p:cNvSpPr/>
            <p:nvPr/>
          </p:nvSpPr>
          <p:spPr>
            <a:xfrm>
              <a:off x="2133720" y="3429000"/>
              <a:ext cx="1778040" cy="2971800"/>
            </a:xfrm>
            <a:custGeom>
              <a:avLst/>
              <a:gdLst>
                <a:gd name="textAreaLeft" fmla="*/ 21600 w 1778040"/>
                <a:gd name="textAreaRight" fmla="*/ 1756440 w 1778040"/>
                <a:gd name="textAreaTop" fmla="*/ 21600 h 2971800"/>
                <a:gd name="textAreaBottom" fmla="*/ 2950200 h 2971800"/>
              </a:gdLst>
              <a:ahLst/>
              <a:rect l="textAreaLeft" t="textAreaTop" r="textAreaRight" b="textAreaBottom"/>
              <a:pathLst>
                <a:path w="21600" h="36099">
                  <a:moveTo>
                    <a:pt x="900" y="0"/>
                  </a:moveTo>
                  <a:arcTo wR="900" hR="900" stAng="16200000" swAng="-5400000"/>
                  <a:lnTo>
                    <a:pt x="0" y="35199"/>
                  </a:lnTo>
                  <a:arcTo wR="900" hR="900" stAng="10800000" swAng="-5400000"/>
                  <a:lnTo>
                    <a:pt x="20700" y="36099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d5d69c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720" y="2286000"/>
              <a:ext cx="1752480" cy="1143000"/>
            </a:xfrm>
            <a:prstGeom prst="roundRect">
              <a:avLst>
                <a:gd name="adj" fmla="val 4167"/>
              </a:avLst>
            </a:pr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5600" y="2373120"/>
              <a:ext cx="90324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1320" y="5803920"/>
              <a:ext cx="1533600" cy="5540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扩展分区和逻辑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256120" y="2743200"/>
              <a:ext cx="1584000" cy="2941560"/>
              <a:chOff x="2256120" y="2743200"/>
              <a:chExt cx="1584000" cy="29415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2256120" y="2743200"/>
                <a:ext cx="1584000" cy="2941560"/>
                <a:chOff x="2256120" y="2743200"/>
                <a:chExt cx="1584000" cy="2941560"/>
              </a:xfrm>
            </p:grpSpPr>
            <p:pic>
              <p:nvPicPr>
                <p:cNvPr id="2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4200" y="3687480"/>
                  <a:ext cx="1530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56120" y="2743200"/>
                  <a:ext cx="1584000" cy="220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2" name=""/>
              <p:cNvSpPr/>
              <p:nvPr/>
            </p:nvSpPr>
            <p:spPr>
              <a:xfrm>
                <a:off x="2854080" y="326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C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54080" y="3680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D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54080" y="4094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E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54080" y="450864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F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54080" y="492300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G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54080" y="533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H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磁盘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和动态磁盘的转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简单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跨区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p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带区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镜像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 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的扩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53272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基本磁盘和动态磁盘的转换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在不影响数据存储的情况下将基本磁盘转换为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被转换为简单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可被转换为基本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配置和数据将丢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换前应备份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和动态磁盘的转换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16960" cy="4303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086280" cy="1971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6818400" cy="4305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升级的磁盘是正在使用的磁盘，比如操作系统所在的磁盘，那么就需要重新启动计算机才能升级到动态磁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简单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75880" y="1371600"/>
            <a:ext cx="6667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个磁盘上的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能在动态磁盘上创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使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, FAT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3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被扩展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5029200" cy="313344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52280" y="4584600"/>
            <a:ext cx="5562720" cy="596880"/>
            <a:chOff x="152280" y="4584600"/>
            <a:chExt cx="5562720" cy="596880"/>
          </a:xfrm>
        </p:grpSpPr>
        <p:sp>
          <p:nvSpPr>
            <p:cNvPr id="241" name=""/>
            <p:cNvSpPr/>
            <p:nvPr/>
          </p:nvSpPr>
          <p:spPr>
            <a:xfrm>
              <a:off x="2971800" y="4584600"/>
              <a:ext cx="2743200" cy="59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280" y="4708440"/>
              <a:ext cx="990720" cy="313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简单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1143000" y="4861080"/>
              <a:ext cx="1752480" cy="1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3124080" cy="2248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3124080" cy="2248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90720" y="83196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创建简单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495440" y="2698920"/>
            <a:ext cx="6124680" cy="4006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90720" y="1365120"/>
            <a:ext cx="2133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卷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822320"/>
            <a:ext cx="2361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输入卷的容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359080"/>
            <a:ext cx="289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创建完成的简单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0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的相关概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设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队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机安装与共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优先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布到活动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跨区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两块或多块硬盘上的存储空间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磁盘可以提供不同的磁盘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随时扩展容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跨区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21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跨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卷类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块区卷使用的磁盘和容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立完成后在磁盘管理器中的跨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124440" cy="2247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3124440" cy="2247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56293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带区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两块或两块以上硬盘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每块硬盘所贡献的空间大小必须相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写效率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7040" y="3954600"/>
            <a:ext cx="2538360" cy="376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以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64K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为单位写到所有的磁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32480" y="3809880"/>
            <a:ext cx="1484280" cy="2057400"/>
            <a:chOff x="4632480" y="3809880"/>
            <a:chExt cx="1484280" cy="2057400"/>
          </a:xfrm>
        </p:grpSpPr>
        <p:sp>
          <p:nvSpPr>
            <p:cNvPr id="262" name=""/>
            <p:cNvSpPr/>
            <p:nvPr/>
          </p:nvSpPr>
          <p:spPr>
            <a:xfrm>
              <a:off x="4632480" y="3809880"/>
              <a:ext cx="1484280" cy="2057400"/>
            </a:xfrm>
            <a:custGeom>
              <a:avLst/>
              <a:gdLst>
                <a:gd name="textAreaLeft" fmla="*/ 18000 w 1484280"/>
                <a:gd name="textAreaRight" fmla="*/ 1466280 w 1484280"/>
                <a:gd name="textAreaTop" fmla="*/ 18000 h 2057400"/>
                <a:gd name="textAreaBottom" fmla="*/ 2039400 h 2057400"/>
              </a:gdLst>
              <a:ahLst/>
              <a:rect l="textAreaLeft" t="textAreaTop" r="textAreaRight" b="textAreaBottom"/>
              <a:pathLst>
                <a:path w="21600" h="29938">
                  <a:moveTo>
                    <a:pt x="900" y="0"/>
                  </a:moveTo>
                  <a:arcTo wR="900" hR="900" stAng="16200000" swAng="-5400000"/>
                  <a:lnTo>
                    <a:pt x="0" y="29038"/>
                  </a:lnTo>
                  <a:arcTo wR="900" hR="900" stAng="10800000" swAng="-5400000"/>
                  <a:lnTo>
                    <a:pt x="20700" y="2993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775400" y="3886200"/>
              <a:ext cx="1200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032440" y="5485320"/>
              <a:ext cx="685800" cy="345240"/>
            </a:xfrm>
            <a:prstGeom prst="roundRect">
              <a:avLst>
                <a:gd name="adj" fmla="val 4167"/>
              </a:avLst>
            </a:prstGeom>
            <a:solidFill>
              <a:srgbClr val="00e4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64 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38320" y="3809880"/>
            <a:ext cx="1484280" cy="2057400"/>
            <a:chOff x="2938320" y="3809880"/>
            <a:chExt cx="1484280" cy="2057400"/>
          </a:xfrm>
        </p:grpSpPr>
        <p:sp>
          <p:nvSpPr>
            <p:cNvPr id="266" name=""/>
            <p:cNvSpPr/>
            <p:nvPr/>
          </p:nvSpPr>
          <p:spPr>
            <a:xfrm>
              <a:off x="2938320" y="3809880"/>
              <a:ext cx="1484280" cy="2057400"/>
            </a:xfrm>
            <a:custGeom>
              <a:avLst/>
              <a:gdLst>
                <a:gd name="textAreaLeft" fmla="*/ 18000 w 1484280"/>
                <a:gd name="textAreaRight" fmla="*/ 1466280 w 1484280"/>
                <a:gd name="textAreaTop" fmla="*/ 18000 h 2057400"/>
                <a:gd name="textAreaBottom" fmla="*/ 2039400 h 2057400"/>
              </a:gdLst>
              <a:ahLst/>
              <a:rect l="textAreaLeft" t="textAreaTop" r="textAreaRight" b="textAreaBottom"/>
              <a:pathLst>
                <a:path w="21600" h="29938">
                  <a:moveTo>
                    <a:pt x="900" y="0"/>
                  </a:moveTo>
                  <a:arcTo wR="900" hR="900" stAng="16200000" swAng="-5400000"/>
                  <a:lnTo>
                    <a:pt x="0" y="29038"/>
                  </a:lnTo>
                  <a:arcTo wR="900" hR="900" stAng="10800000" swAng="-5400000"/>
                  <a:lnTo>
                    <a:pt x="20700" y="2993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3081240" y="3886200"/>
              <a:ext cx="1200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338280" y="5485320"/>
              <a:ext cx="685800" cy="345240"/>
            </a:xfrm>
            <a:prstGeom prst="roundRect">
              <a:avLst>
                <a:gd name="adj" fmla="val 4167"/>
              </a:avLst>
            </a:prstGeom>
            <a:solidFill>
              <a:srgbClr val="00e4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64 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144440" y="3809880"/>
            <a:ext cx="1484280" cy="2057400"/>
            <a:chOff x="1144440" y="3809880"/>
            <a:chExt cx="1484280" cy="2057400"/>
          </a:xfrm>
        </p:grpSpPr>
        <p:sp>
          <p:nvSpPr>
            <p:cNvPr id="270" name=""/>
            <p:cNvSpPr/>
            <p:nvPr/>
          </p:nvSpPr>
          <p:spPr>
            <a:xfrm>
              <a:off x="1144440" y="3809880"/>
              <a:ext cx="1484280" cy="2057400"/>
            </a:xfrm>
            <a:custGeom>
              <a:avLst/>
              <a:gdLst>
                <a:gd name="textAreaLeft" fmla="*/ 18000 w 1484280"/>
                <a:gd name="textAreaRight" fmla="*/ 1466280 w 1484280"/>
                <a:gd name="textAreaTop" fmla="*/ 18000 h 2057400"/>
                <a:gd name="textAreaBottom" fmla="*/ 2039400 h 2057400"/>
              </a:gdLst>
              <a:ahLst/>
              <a:rect l="textAreaLeft" t="textAreaTop" r="textAreaRight" b="textAreaBottom"/>
              <a:pathLst>
                <a:path w="21600" h="29938">
                  <a:moveTo>
                    <a:pt x="900" y="0"/>
                  </a:moveTo>
                  <a:arcTo wR="900" hR="900" stAng="16200000" swAng="-5400000"/>
                  <a:lnTo>
                    <a:pt x="0" y="29038"/>
                  </a:lnTo>
                  <a:arcTo wR="900" hR="900" stAng="10800000" swAng="-5400000"/>
                  <a:lnTo>
                    <a:pt x="20700" y="2993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287360" y="3886200"/>
              <a:ext cx="1200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544400" y="5485320"/>
              <a:ext cx="685800" cy="345240"/>
            </a:xfrm>
            <a:prstGeom prst="roundRect">
              <a:avLst>
                <a:gd name="adj" fmla="val 4167"/>
              </a:avLst>
            </a:prstGeom>
            <a:solidFill>
              <a:srgbClr val="00e4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64 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带区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4533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带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卷类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带区卷使用的磁盘和容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管理中的带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124440" cy="2248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124440" cy="22482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380880" y="1371600"/>
            <a:ext cx="8000640" cy="4952520"/>
            <a:chOff x="380880" y="1371600"/>
            <a:chExt cx="8000640" cy="495252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380880" y="1371600"/>
              <a:ext cx="8000640" cy="49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4425120" y="4046760"/>
              <a:ext cx="2021400" cy="1751040"/>
              <a:chOff x="4425120" y="4046760"/>
              <a:chExt cx="2021400" cy="1751040"/>
            </a:xfrm>
          </p:grpSpPr>
          <p:sp>
            <p:nvSpPr>
              <p:cNvPr id="280" name=""/>
              <p:cNvSpPr/>
              <p:nvPr/>
            </p:nvSpPr>
            <p:spPr>
              <a:xfrm>
                <a:off x="5040000" y="4046760"/>
                <a:ext cx="1406520" cy="8755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25120" y="4922280"/>
                <a:ext cx="1406160" cy="8755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镜像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两块磁盘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磁盘提供相同大小的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容错，即一块硬盘损坏后数据不会丢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空间利用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5280" y="3733920"/>
            <a:ext cx="7162560" cy="2655720"/>
            <a:chOff x="1295280" y="3733920"/>
            <a:chExt cx="7162560" cy="2655720"/>
          </a:xfrm>
        </p:grpSpPr>
        <p:sp>
          <p:nvSpPr>
            <p:cNvPr id="285" name=""/>
            <p:cNvSpPr/>
            <p:nvPr/>
          </p:nvSpPr>
          <p:spPr>
            <a:xfrm>
              <a:off x="1295280" y="3733920"/>
              <a:ext cx="7162560" cy="265572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镜像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47560" y="4251600"/>
              <a:ext cx="1712520" cy="934560"/>
              <a:chOff x="1447560" y="4251600"/>
              <a:chExt cx="1712520" cy="934560"/>
            </a:xfrm>
          </p:grpSpPr>
          <p:sp>
            <p:nvSpPr>
              <p:cNvPr id="287" name=""/>
              <p:cNvSpPr/>
              <p:nvPr/>
            </p:nvSpPr>
            <p:spPr>
              <a:xfrm>
                <a:off x="1447560" y="4251600"/>
                <a:ext cx="1712520" cy="9345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11280" y="4302000"/>
                <a:ext cx="1513800" cy="74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97960" y="4294440"/>
                <a:ext cx="1546200" cy="822600"/>
              </a:xfrm>
              <a:custGeom>
                <a:avLst/>
                <a:gdLst/>
                <a:ahLst/>
                <a:rect l="l" t="t" r="r" b="b"/>
                <a:pathLst>
                  <a:path w="825" h="439">
                    <a:moveTo>
                      <a:pt x="824" y="0"/>
                    </a:moveTo>
                    <a:lnTo>
                      <a:pt x="0" y="0"/>
                    </a:lnTo>
                    <a:lnTo>
                      <a:pt x="0" y="436"/>
                    </a:lnTo>
                    <a:lnTo>
                      <a:pt x="45" y="438"/>
                    </a:lnTo>
                    <a:lnTo>
                      <a:pt x="45" y="53"/>
                    </a:lnTo>
                    <a:lnTo>
                      <a:pt x="824" y="50"/>
                    </a:lnTo>
                    <a:lnTo>
                      <a:pt x="8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41680" y="46278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5920" y="4817160"/>
                <a:ext cx="18324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41680" y="44874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76760" y="4251600"/>
              <a:ext cx="1712520" cy="934560"/>
              <a:chOff x="6476760" y="4251600"/>
              <a:chExt cx="1712520" cy="934560"/>
            </a:xfrm>
          </p:grpSpPr>
          <p:sp>
            <p:nvSpPr>
              <p:cNvPr id="294" name=""/>
              <p:cNvSpPr/>
              <p:nvPr/>
            </p:nvSpPr>
            <p:spPr>
              <a:xfrm>
                <a:off x="6476760" y="4251600"/>
                <a:ext cx="1712520" cy="9345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40480" y="4302000"/>
                <a:ext cx="1513800" cy="74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27160" y="4294440"/>
                <a:ext cx="1546200" cy="822600"/>
              </a:xfrm>
              <a:custGeom>
                <a:avLst/>
                <a:gdLst/>
                <a:ahLst/>
                <a:rect l="l" t="t" r="r" b="b"/>
                <a:pathLst>
                  <a:path w="825" h="439">
                    <a:moveTo>
                      <a:pt x="824" y="0"/>
                    </a:moveTo>
                    <a:lnTo>
                      <a:pt x="0" y="0"/>
                    </a:lnTo>
                    <a:lnTo>
                      <a:pt x="0" y="436"/>
                    </a:lnTo>
                    <a:lnTo>
                      <a:pt x="45" y="438"/>
                    </a:lnTo>
                    <a:lnTo>
                      <a:pt x="45" y="53"/>
                    </a:lnTo>
                    <a:lnTo>
                      <a:pt x="824" y="50"/>
                    </a:lnTo>
                    <a:lnTo>
                      <a:pt x="8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0880" y="46278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5120" y="4817160"/>
                <a:ext cx="18324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0880" y="44874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99840" y="37944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磁盘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9040" y="37944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磁盘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324480" y="4861080"/>
              <a:ext cx="1593360" cy="1387080"/>
              <a:chOff x="6324480" y="4861080"/>
              <a:chExt cx="1593360" cy="1387080"/>
            </a:xfrm>
          </p:grpSpPr>
          <p:sp>
            <p:nvSpPr>
              <p:cNvPr id="303" name=""/>
              <p:cNvSpPr/>
              <p:nvPr/>
            </p:nvSpPr>
            <p:spPr>
              <a:xfrm>
                <a:off x="6364440" y="5784480"/>
                <a:ext cx="1553400" cy="4636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480" y="4861080"/>
                <a:ext cx="1513080" cy="12866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7b0054"/>
                  </a:gs>
                  <a:gs pos="50000">
                    <a:srgbClr val="d60093"/>
                  </a:gs>
                  <a:gs pos="100000">
                    <a:srgbClr val="7b0054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57040" y="4862520"/>
              <a:ext cx="1603080" cy="1385640"/>
              <a:chOff x="2057040" y="4862520"/>
              <a:chExt cx="1603080" cy="1385640"/>
            </a:xfrm>
          </p:grpSpPr>
          <p:sp>
            <p:nvSpPr>
              <p:cNvPr id="306" name=""/>
              <p:cNvSpPr/>
              <p:nvPr/>
            </p:nvSpPr>
            <p:spPr>
              <a:xfrm>
                <a:off x="2107080" y="5784840"/>
                <a:ext cx="1553040" cy="463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57040" y="4862520"/>
                <a:ext cx="1512360" cy="12852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276360" y="3962520"/>
              <a:ext cx="1600200" cy="1905120"/>
            </a:xfrm>
            <a:custGeom>
              <a:avLst/>
              <a:gdLst/>
              <a:ahLst/>
              <a:rect l="l" t="t" r="r" b="b"/>
              <a:pathLst>
                <a:path w="1008" h="1200">
                  <a:moveTo>
                    <a:pt x="768" y="0"/>
                  </a:moveTo>
                  <a:lnTo>
                    <a:pt x="768" y="816"/>
                  </a:lnTo>
                  <a:lnTo>
                    <a:pt x="384" y="816"/>
                  </a:lnTo>
                  <a:lnTo>
                    <a:pt x="384" y="720"/>
                  </a:lnTo>
                  <a:lnTo>
                    <a:pt x="0" y="960"/>
                  </a:lnTo>
                  <a:lnTo>
                    <a:pt x="384" y="1200"/>
                  </a:lnTo>
                  <a:lnTo>
                    <a:pt x="384" y="1104"/>
                  </a:lnTo>
                  <a:lnTo>
                    <a:pt x="1008" y="1104"/>
                  </a:lnTo>
                  <a:lnTo>
                    <a:pt x="1008" y="0"/>
                  </a:lnTo>
                  <a:lnTo>
                    <a:pt x="7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ee785"/>
                </a:gs>
                <a:gs pos="100000">
                  <a:srgbClr val="ffcf01"/>
                </a:gs>
              </a:gsLst>
              <a:lin ang="5400000"/>
            </a:gradFill>
            <a:ln w="6480">
              <a:solidFill>
                <a:srgbClr val="800080"/>
              </a:solidFill>
              <a:round/>
            </a:ln>
            <a:effectLst>
              <a:outerShdw dist="633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952160" y="3962520"/>
              <a:ext cx="1600200" cy="1905120"/>
            </a:xfrm>
            <a:custGeom>
              <a:avLst/>
              <a:gdLst/>
              <a:ahLst/>
              <a:rect l="l" t="t" r="r" b="b"/>
              <a:pathLst>
                <a:path w="1008" h="1200">
                  <a:moveTo>
                    <a:pt x="768" y="0"/>
                  </a:moveTo>
                  <a:lnTo>
                    <a:pt x="768" y="816"/>
                  </a:lnTo>
                  <a:lnTo>
                    <a:pt x="384" y="816"/>
                  </a:lnTo>
                  <a:lnTo>
                    <a:pt x="384" y="720"/>
                  </a:lnTo>
                  <a:lnTo>
                    <a:pt x="0" y="960"/>
                  </a:lnTo>
                  <a:lnTo>
                    <a:pt x="384" y="1200"/>
                  </a:lnTo>
                  <a:lnTo>
                    <a:pt x="384" y="1104"/>
                  </a:lnTo>
                  <a:lnTo>
                    <a:pt x="1008" y="1104"/>
                  </a:lnTo>
                  <a:lnTo>
                    <a:pt x="1008" y="0"/>
                  </a:lnTo>
                  <a:lnTo>
                    <a:pt x="7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ee785"/>
                </a:gs>
                <a:gs pos="100000">
                  <a:srgbClr val="ffcf01"/>
                </a:gs>
              </a:gsLst>
              <a:lin ang="5400000"/>
            </a:gradFill>
            <a:ln w="6480">
              <a:solidFill>
                <a:srgbClr val="800080"/>
              </a:solidFill>
              <a:round/>
            </a:ln>
            <a:effectLst>
              <a:outerShdw dist="633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0760" y="487692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镜像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276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镜像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镜像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镜像使用的磁盘和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器中的镜像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791240" cy="3448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4791240" cy="344808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09480" y="1066680"/>
            <a:ext cx="8153280" cy="5181480"/>
            <a:chOff x="609480" y="1066680"/>
            <a:chExt cx="8153280" cy="518148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09480" y="1066680"/>
              <a:ext cx="81532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913000" y="3913200"/>
              <a:ext cx="1266480" cy="813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58960" y="4726800"/>
              <a:ext cx="1583280" cy="975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ID 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少需要三块硬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硬盘必须提供相同的磁盘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容错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空间利用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-1/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磁盘数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ID 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76520" y="1558800"/>
            <a:ext cx="6526080" cy="4656240"/>
            <a:chOff x="1676520" y="1558800"/>
            <a:chExt cx="6526080" cy="4656240"/>
          </a:xfrm>
        </p:grpSpPr>
        <p:grpSp>
          <p:nvGrpSpPr>
            <p:cNvPr id="323" name=""/>
            <p:cNvGrpSpPr/>
            <p:nvPr/>
          </p:nvGrpSpPr>
          <p:grpSpPr>
            <a:xfrm>
              <a:off x="1676520" y="1573200"/>
              <a:ext cx="1944720" cy="4641480"/>
              <a:chOff x="1676520" y="1573200"/>
              <a:chExt cx="1944720" cy="4641480"/>
            </a:xfrm>
          </p:grpSpPr>
          <p:sp>
            <p:nvSpPr>
              <p:cNvPr id="324" name=""/>
              <p:cNvSpPr/>
              <p:nvPr/>
            </p:nvSpPr>
            <p:spPr>
              <a:xfrm>
                <a:off x="1676520" y="5097600"/>
                <a:ext cx="194328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76520" y="4394160"/>
                <a:ext cx="19447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76520" y="3675600"/>
                <a:ext cx="1943280" cy="1125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76520" y="2961360"/>
                <a:ext cx="19447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76520" y="2282760"/>
                <a:ext cx="19447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76520" y="1573200"/>
                <a:ext cx="194328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968640" y="1581120"/>
              <a:ext cx="1938600" cy="4633560"/>
              <a:chOff x="3968640" y="1581120"/>
              <a:chExt cx="1938600" cy="4633560"/>
            </a:xfrm>
          </p:grpSpPr>
          <p:sp>
            <p:nvSpPr>
              <p:cNvPr id="331" name=""/>
              <p:cNvSpPr/>
              <p:nvPr/>
            </p:nvSpPr>
            <p:spPr>
              <a:xfrm>
                <a:off x="3968640" y="509796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68640" y="441036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968640" y="3693600"/>
                <a:ext cx="1938600" cy="112104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68640" y="298548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68640" y="229212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8640" y="158112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254640" y="1558800"/>
              <a:ext cx="1947960" cy="4656240"/>
              <a:chOff x="6254640" y="1558800"/>
              <a:chExt cx="1947960" cy="4656240"/>
            </a:xfrm>
          </p:grpSpPr>
          <p:sp>
            <p:nvSpPr>
              <p:cNvPr id="338" name=""/>
              <p:cNvSpPr/>
              <p:nvPr/>
            </p:nvSpPr>
            <p:spPr>
              <a:xfrm>
                <a:off x="6255720" y="5097960"/>
                <a:ext cx="19465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55720" y="4391280"/>
                <a:ext cx="19465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54640" y="3669840"/>
                <a:ext cx="1947960" cy="112896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54640" y="2963160"/>
                <a:ext cx="194796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55720" y="2269800"/>
                <a:ext cx="19465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54640" y="1558800"/>
                <a:ext cx="194796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2268360" y="12574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磁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56160" y="12574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磁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6840" y="12574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磁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ID 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卷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最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磁盘，并设定磁盘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器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791240" cy="3448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4791240" cy="3448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33520" y="1447920"/>
            <a:ext cx="83818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的扩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扩展简单卷或跨区卷的容量，而不丢失数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必须格式化成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NTF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以将简单卷扩展为跨区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以扩展跨区卷的空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基本磁盘和动态磁盘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和动态磁盘的区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及动态磁盘的配置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配额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的远程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的扩展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磁盘管理器进行扩展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需要扩展到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后的结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931080" cy="4303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790880" cy="3448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295280" y="1066680"/>
            <a:ext cx="69343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驱动器盘符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或卷的盘符可以更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盘和启动盘的盘符禁止更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符硬盘也可以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将磁盘分区或卷装入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的文件夹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驱动器盘符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磁盘管理器更改驱动器盘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需要更改盘符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更改按钮更改盘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定新的盘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931080" cy="4494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657600" cy="2210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36576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驱动器盘符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驱动器装入至文件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需要装入文件加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浏览按钮浏览文件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入文件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396200" cy="4416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657600" cy="1628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354348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2819520" y="3124080"/>
            <a:ext cx="3657600" cy="22100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590920" y="2743200"/>
            <a:ext cx="4362480" cy="3171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114800" y="4572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配额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磁盘配额可以限制用户使用磁盘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上实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o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员不受限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配额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494160" cy="4379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184560" y="2438280"/>
            <a:ext cx="5959440" cy="2293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5181480" y="2133720"/>
            <a:ext cx="3276720" cy="35337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695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用磁盘配额，设置配额限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M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0M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额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单个用户设置配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的远程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计算机管理远程连接到其他计算机，就可以通过磁盘管理远程计算机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控制台远程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管理员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的远程管理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计算机管理连接到远程计算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计算机名，或者浏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计算机的计算机管理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6073560" cy="43038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3962520" y="2895480"/>
            <a:ext cx="4790880" cy="2009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6933960" cy="499248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85800" y="685800"/>
            <a:ext cx="3200400" cy="1371600"/>
            <a:chOff x="685800" y="685800"/>
            <a:chExt cx="3200400" cy="1371600"/>
          </a:xfrm>
        </p:grpSpPr>
        <p:sp>
          <p:nvSpPr>
            <p:cNvPr id="389" name=""/>
            <p:cNvSpPr/>
            <p:nvPr/>
          </p:nvSpPr>
          <p:spPr>
            <a:xfrm>
              <a:off x="685800" y="1752480"/>
              <a:ext cx="106668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685800"/>
              <a:ext cx="1905120" cy="313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远程计算机名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219320" y="990360"/>
              <a:ext cx="761760" cy="74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配置方式有基本磁盘和动态磁盘两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和其他所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默认的磁盘配置方式是基本磁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磁盘的磁盘分区分为主分区和扩展分区，扩展分区中可以建立逻辑分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分区可以用来启动操作系统，每块硬盘最多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主分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块硬盘只能建立一个扩展分区，扩展分区中可以建立若干个逻辑分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可以转换成动态磁盘，并且保持数据无损。只有将所有卷删除后，才能将动态磁盘转换为基本磁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可以建立简单卷、跨区卷、带区卷、镜像卷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镜像卷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是容错卷，并且需要多块硬盘实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单卷可以转换成跨区卷或者镜像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Server 2003 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磁盘管理概述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磁盘的基本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跨区卷扩展磁盘空间最为方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区卷的读写速度最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磁盘配额可以限制用户使用磁盘的空间，管理员组的成员除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磁盘管理工具更改分区或卷的盘符，但操作系统所在分区不能更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计算机管理可以连接到远程计算机，并可以远程管理计算机的磁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在基本磁盘上建立主分区、扩展分区和逻辑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将基本磁盘升级为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动态磁盘上建立各种动态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简单卷和跨区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连接到远程计算机上并进行远程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台或三台计算机为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部分操作在本地计算机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磁盘管理需要多台计算机合作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操作需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Operator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 rot="20335800">
            <a:off x="4495680" y="2819160"/>
            <a:ext cx="4876920" cy="3429000"/>
          </a:xfrm>
          <a:prstGeom prst="ellipse">
            <a:avLst/>
          </a:prstGeom>
          <a:gradFill rotWithShape="0">
            <a:gsLst>
              <a:gs pos="0">
                <a:srgbClr val="cfe1c2"/>
              </a:gs>
              <a:gs pos="100000">
                <a:srgbClr val="ffffff"/>
              </a:gs>
            </a:gsLst>
            <a:lin ang="9366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 rot="1731000">
            <a:off x="694440" y="3317400"/>
            <a:ext cx="3449160" cy="2425320"/>
          </a:xfrm>
          <a:prstGeom prst="rect">
            <a:avLst/>
          </a:prstGeom>
          <a:gradFill rotWithShape="0">
            <a:gsLst>
              <a:gs pos="0">
                <a:srgbClr val="cfe1c2"/>
              </a:gs>
              <a:gs pos="100000">
                <a:srgbClr val="ffffff"/>
              </a:gs>
            </a:gsLst>
            <a:lin ang="6372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44520" y="2814480"/>
            <a:ext cx="6588360" cy="1851120"/>
            <a:chOff x="1244520" y="2814480"/>
            <a:chExt cx="6588360" cy="1851120"/>
          </a:xfrm>
        </p:grpSpPr>
        <p:sp>
          <p:nvSpPr>
            <p:cNvPr id="406" name=""/>
            <p:cNvSpPr/>
            <p:nvPr/>
          </p:nvSpPr>
          <p:spPr>
            <a:xfrm>
              <a:off x="1244520" y="3695760"/>
              <a:ext cx="6588360" cy="96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194472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340524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5400000">
              <a:off x="5614920" y="324468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360 h 108000"/>
                <a:gd name="textAreaBottom" fmla="*/ 10872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6200000">
              <a:off x="638964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490392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28800" y="4572000"/>
            <a:ext cx="1036800" cy="12938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1036440" cy="1293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924440" y="4632480"/>
            <a:ext cx="1036800" cy="12934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6400800" y="4572000"/>
            <a:ext cx="1036800" cy="1293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334800" y="3200400"/>
            <a:ext cx="1036800" cy="12938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5477040" y="1523880"/>
            <a:ext cx="1228680" cy="1478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7696080" y="3048120"/>
            <a:ext cx="1036800" cy="12938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295280" y="5791320"/>
            <a:ext cx="1447920" cy="53316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本地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5943600"/>
            <a:ext cx="160020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本地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4495680"/>
            <a:ext cx="144792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5943600"/>
            <a:ext cx="144792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5943600"/>
            <a:ext cx="137160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96080" y="4343400"/>
            <a:ext cx="144792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1828800"/>
            <a:ext cx="144756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服务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完成主分区、扩展分区和逻辑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基本磁盘升级为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完成简单卷、跨区卷、带区卷、镜像卷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到远程计算机并进行分区和卷的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历史悠久、应用广泛的一种磁盘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兼容性好，兼容微软所有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834320" cy="4699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133720" y="1219320"/>
            <a:ext cx="2057400" cy="2818800"/>
            <a:chOff x="2133720" y="1219320"/>
            <a:chExt cx="2057400" cy="2818800"/>
          </a:xfrm>
        </p:grpSpPr>
        <p:sp>
          <p:nvSpPr>
            <p:cNvPr id="102" name=""/>
            <p:cNvSpPr/>
            <p:nvPr/>
          </p:nvSpPr>
          <p:spPr>
            <a:xfrm>
              <a:off x="2133720" y="3769920"/>
              <a:ext cx="381240" cy="26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362320" y="1219320"/>
              <a:ext cx="1828800" cy="2483280"/>
              <a:chOff x="2362320" y="1219320"/>
              <a:chExt cx="1828800" cy="2483280"/>
            </a:xfrm>
          </p:grpSpPr>
          <p:sp>
            <p:nvSpPr>
              <p:cNvPr id="104" name=""/>
              <p:cNvSpPr/>
              <p:nvPr/>
            </p:nvSpPr>
            <p:spPr>
              <a:xfrm>
                <a:off x="2895840" y="1219320"/>
                <a:ext cx="129528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基本磁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362320" y="1554840"/>
                <a:ext cx="533520" cy="2147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2819520" y="388620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00400" y="1219320"/>
            <a:ext cx="2133720" cy="3047400"/>
            <a:chOff x="3200400" y="1219320"/>
            <a:chExt cx="2133720" cy="3047400"/>
          </a:xfrm>
        </p:grpSpPr>
        <p:sp>
          <p:nvSpPr>
            <p:cNvPr id="108" name=""/>
            <p:cNvSpPr/>
            <p:nvPr/>
          </p:nvSpPr>
          <p:spPr>
            <a:xfrm>
              <a:off x="3200400" y="3670560"/>
              <a:ext cx="2133720" cy="596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782160" y="1219320"/>
              <a:ext cx="1551240" cy="2450880"/>
              <a:chOff x="3782160" y="1219320"/>
              <a:chExt cx="1551240" cy="245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4234680" y="1219320"/>
                <a:ext cx="109872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主分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782160" y="1550520"/>
                <a:ext cx="452520" cy="211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5334120" y="1219320"/>
            <a:ext cx="3124080" cy="3047400"/>
            <a:chOff x="5334120" y="1219320"/>
            <a:chExt cx="3124080" cy="3047400"/>
          </a:xfrm>
        </p:grpSpPr>
        <p:sp>
          <p:nvSpPr>
            <p:cNvPr id="113" name=""/>
            <p:cNvSpPr/>
            <p:nvPr/>
          </p:nvSpPr>
          <p:spPr>
            <a:xfrm>
              <a:off x="5334120" y="3670560"/>
              <a:ext cx="3124080" cy="596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464440" y="1219320"/>
              <a:ext cx="1850400" cy="2450880"/>
              <a:chOff x="5464440" y="1219320"/>
              <a:chExt cx="1850400" cy="245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6004080" y="1219320"/>
                <a:ext cx="131076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扩展分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5464440" y="1550520"/>
                <a:ext cx="539640" cy="211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磁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磁盘的特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的数量可以超过四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可以扩展和转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持容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兼容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indows 2000/Windows Server 2003 /Windows X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磁盘卷有五种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简单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跨区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镜像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区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ID-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磁盘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5110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311120" y="762120"/>
            <a:ext cx="2057400" cy="3580920"/>
            <a:chOff x="1311120" y="762120"/>
            <a:chExt cx="2057400" cy="3580920"/>
          </a:xfrm>
        </p:grpSpPr>
        <p:sp>
          <p:nvSpPr>
            <p:cNvPr id="123" name=""/>
            <p:cNvSpPr/>
            <p:nvPr/>
          </p:nvSpPr>
          <p:spPr>
            <a:xfrm>
              <a:off x="1311120" y="4002480"/>
              <a:ext cx="381240" cy="340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539720" y="762120"/>
              <a:ext cx="1828800" cy="3154320"/>
              <a:chOff x="1539720" y="762120"/>
              <a:chExt cx="1828800" cy="315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2073240" y="762120"/>
                <a:ext cx="129528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动态磁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539720" y="1188360"/>
                <a:ext cx="533520" cy="272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2819520" y="762120"/>
            <a:ext cx="4114800" cy="3962160"/>
            <a:chOff x="2819520" y="762120"/>
            <a:chExt cx="4114800" cy="3962160"/>
          </a:xfrm>
        </p:grpSpPr>
        <p:sp>
          <p:nvSpPr>
            <p:cNvPr id="128" name=""/>
            <p:cNvSpPr/>
            <p:nvPr/>
          </p:nvSpPr>
          <p:spPr>
            <a:xfrm>
              <a:off x="2819520" y="3962520"/>
              <a:ext cx="4114800" cy="761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505320" y="762120"/>
              <a:ext cx="1855440" cy="3199680"/>
              <a:chOff x="3505320" y="762120"/>
              <a:chExt cx="1855440" cy="3199680"/>
            </a:xfrm>
          </p:grpSpPr>
          <p:sp>
            <p:nvSpPr>
              <p:cNvPr id="130" name=""/>
              <p:cNvSpPr/>
              <p:nvPr/>
            </p:nvSpPr>
            <p:spPr>
              <a:xfrm>
                <a:off x="4046400" y="762120"/>
                <a:ext cx="131436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505320" y="1194480"/>
                <a:ext cx="541080" cy="2767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磁盘的基本属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卷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容量已用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用空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34938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572000" y="1968480"/>
            <a:ext cx="3886200" cy="241200"/>
            <a:chOff x="4572000" y="1968480"/>
            <a:chExt cx="3886200" cy="241200"/>
          </a:xfrm>
        </p:grpSpPr>
        <p:sp>
          <p:nvSpPr>
            <p:cNvPr id="136" name=""/>
            <p:cNvSpPr/>
            <p:nvPr/>
          </p:nvSpPr>
          <p:spPr>
            <a:xfrm>
              <a:off x="4572000" y="1968480"/>
              <a:ext cx="914400" cy="241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91520" y="1981080"/>
              <a:ext cx="10666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卷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2057400"/>
              <a:ext cx="1752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86200" y="2362320"/>
            <a:ext cx="5257800" cy="380880"/>
            <a:chOff x="3886200" y="2362320"/>
            <a:chExt cx="5257800" cy="380880"/>
          </a:xfrm>
        </p:grpSpPr>
        <p:sp>
          <p:nvSpPr>
            <p:cNvPr id="140" name=""/>
            <p:cNvSpPr/>
            <p:nvPr/>
          </p:nvSpPr>
          <p:spPr>
            <a:xfrm>
              <a:off x="3886200" y="2362320"/>
              <a:ext cx="1371600" cy="380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67480" y="2438280"/>
              <a:ext cx="16765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类型和文件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4120" y="2590920"/>
              <a:ext cx="2133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86200" y="2819520"/>
            <a:ext cx="4572000" cy="609480"/>
            <a:chOff x="3886200" y="2819520"/>
            <a:chExt cx="4572000" cy="609480"/>
          </a:xfrm>
        </p:grpSpPr>
        <p:sp>
          <p:nvSpPr>
            <p:cNvPr id="144" name=""/>
            <p:cNvSpPr/>
            <p:nvPr/>
          </p:nvSpPr>
          <p:spPr>
            <a:xfrm>
              <a:off x="3886200" y="2819520"/>
              <a:ext cx="289548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2895480"/>
              <a:ext cx="106668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已用空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可用空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1240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gaowei</cp:lastModifiedBy>
  <dcterms:modified xsi:type="dcterms:W3CDTF">2004-03-18T08:39:09Z</dcterms:modified>
  <cp:revision>633</cp:revision>
  <dc:subject/>
  <dc:title>Ses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673025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十章PPT第二次修改建议</vt:lpwstr>
  </property>
  <property fmtid="{D5CDD505-2E9C-101B-9397-08002B2CF9AE}" pid="6" name="_PreviousAdHocReviewCycleID">
    <vt:r8>845167401</vt:r8>
  </property>
  <property fmtid="{D5CDD505-2E9C-101B-9397-08002B2CF9AE}" pid="7" name="_ReviewingToolsShownOnce">
    <vt:lpwstr/>
  </property>
</Properties>
</file>