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8.wmf" ContentType="image/x-wmf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0.jpeg" ContentType="image/jpeg"/>
  <Override PartName="/ppt/media/image2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B921-0E7A-454D-87DF-CD28E40312E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149E-546A-4C69-8129-6DFF7EE5BF4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宋体"/>
              </a:rPr>
              <a:t>配置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宋体"/>
              </a:rPr>
              <a:t>Internet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宋体"/>
              </a:rPr>
              <a:t>访问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十一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代理服务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194120"/>
            <a:ext cx="7561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lient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出资源的请求，根据客户机上的代理服务器    设置，该请求会发到代理服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28720" y="3203640"/>
            <a:ext cx="3517920" cy="1366920"/>
            <a:chOff x="828720" y="3203640"/>
            <a:chExt cx="3517920" cy="1366920"/>
          </a:xfrm>
        </p:grpSpPr>
        <p:sp>
          <p:nvSpPr>
            <p:cNvPr id="127" name=""/>
            <p:cNvSpPr/>
            <p:nvPr/>
          </p:nvSpPr>
          <p:spPr>
            <a:xfrm>
              <a:off x="2708280" y="3203640"/>
              <a:ext cx="163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oxy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28720" y="3736800"/>
              <a:ext cx="89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en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1008000" y="3548160"/>
              <a:ext cx="2911680" cy="1022400"/>
              <a:chOff x="1008000" y="3548160"/>
              <a:chExt cx="2911680" cy="102240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3132000" y="3548160"/>
                <a:ext cx="787680" cy="753480"/>
                <a:chOff x="3132000" y="3548160"/>
                <a:chExt cx="787680" cy="753480"/>
              </a:xfrm>
            </p:grpSpPr>
            <p:sp>
              <p:nvSpPr>
                <p:cNvPr id="131" name="mainfrm"/>
                <p:cNvSpPr/>
                <p:nvPr/>
              </p:nvSpPr>
              <p:spPr>
                <a:xfrm>
                  <a:off x="3132000" y="3548160"/>
                  <a:ext cx="463680" cy="7275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3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435480" y="4032360"/>
                  <a:ext cx="484200" cy="269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33" name="computr1"/>
              <p:cNvSpPr/>
              <p:nvPr/>
            </p:nvSpPr>
            <p:spPr>
              <a:xfrm>
                <a:off x="1008000" y="4086360"/>
                <a:ext cx="466920" cy="48420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1494000" y="3817440"/>
                <a:ext cx="1577880" cy="43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100240" y="3710160"/>
                <a:ext cx="239760" cy="368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" name=""/>
          <p:cNvSpPr/>
          <p:nvPr/>
        </p:nvSpPr>
        <p:spPr>
          <a:xfrm>
            <a:off x="324000" y="1523160"/>
            <a:ext cx="756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理服务器将客户机的请求发送到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erne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的一台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946240" y="1989000"/>
            <a:ext cx="4218120" cy="1828440"/>
            <a:chOff x="2946240" y="1989000"/>
            <a:chExt cx="4218120" cy="1828440"/>
          </a:xfrm>
        </p:grpSpPr>
        <p:sp>
          <p:nvSpPr>
            <p:cNvPr id="138" name="Cloud"/>
            <p:cNvSpPr/>
            <p:nvPr/>
          </p:nvSpPr>
          <p:spPr>
            <a:xfrm>
              <a:off x="2946240" y="1989000"/>
              <a:ext cx="4218120" cy="106308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tern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mainfrm"/>
            <p:cNvSpPr/>
            <p:nvPr/>
          </p:nvSpPr>
          <p:spPr>
            <a:xfrm>
              <a:off x="5618160" y="2336760"/>
              <a:ext cx="365040" cy="435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65160" y="206964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676680" y="2728440"/>
              <a:ext cx="1881000" cy="10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44840" y="2989440"/>
              <a:ext cx="241560" cy="368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4000" y="1194840"/>
            <a:ext cx="756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机将资源返回给代理服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779640" y="2852640"/>
            <a:ext cx="1871640" cy="1079640"/>
            <a:chOff x="3779640" y="2852640"/>
            <a:chExt cx="1871640" cy="1079640"/>
          </a:xfrm>
        </p:grpSpPr>
        <p:sp>
          <p:nvSpPr>
            <p:cNvPr id="145" name=""/>
            <p:cNvSpPr/>
            <p:nvPr/>
          </p:nvSpPr>
          <p:spPr>
            <a:xfrm>
              <a:off x="4618080" y="3514680"/>
              <a:ext cx="243000" cy="368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779640" y="2852640"/>
              <a:ext cx="187164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24000" y="1194840"/>
            <a:ext cx="756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理服务器将内容存储在本地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ach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56080" y="4322880"/>
            <a:ext cx="24264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523160"/>
            <a:ext cx="756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代理服务器将资源内容发送给客户机，客户机可以看到自己请求的资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555560" y="4032360"/>
            <a:ext cx="1515960" cy="691920"/>
            <a:chOff x="1555560" y="4032360"/>
            <a:chExt cx="1515960" cy="691920"/>
          </a:xfrm>
        </p:grpSpPr>
        <p:sp>
          <p:nvSpPr>
            <p:cNvPr id="151" name=""/>
            <p:cNvSpPr/>
            <p:nvPr/>
          </p:nvSpPr>
          <p:spPr>
            <a:xfrm flipH="1">
              <a:off x="1555560" y="4032360"/>
              <a:ext cx="151596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60720" y="4356000"/>
              <a:ext cx="242640" cy="368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24000" y="1523160"/>
            <a:ext cx="756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lient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与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lient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同的资源，和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lient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样，也会将请求发送到代理服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85960" y="4302000"/>
            <a:ext cx="1406520" cy="1730520"/>
            <a:chOff x="1785960" y="4302000"/>
            <a:chExt cx="1406520" cy="1730520"/>
          </a:xfrm>
        </p:grpSpPr>
        <p:sp>
          <p:nvSpPr>
            <p:cNvPr id="155" name="computr1"/>
            <p:cNvSpPr/>
            <p:nvPr/>
          </p:nvSpPr>
          <p:spPr>
            <a:xfrm>
              <a:off x="1965240" y="5548320"/>
              <a:ext cx="466920" cy="4842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85960" y="5199120"/>
              <a:ext cx="89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ent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343240" y="4302000"/>
              <a:ext cx="849240" cy="968400"/>
              <a:chOff x="2343240" y="4302000"/>
              <a:chExt cx="849240" cy="968400"/>
            </a:xfrm>
          </p:grpSpPr>
          <p:sp>
            <p:nvSpPr>
              <p:cNvPr id="158" name=""/>
              <p:cNvSpPr/>
              <p:nvPr/>
            </p:nvSpPr>
            <p:spPr>
              <a:xfrm flipV="1">
                <a:off x="2343240" y="4302000"/>
                <a:ext cx="849240" cy="96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646360" y="4356000"/>
                <a:ext cx="241200" cy="368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324000" y="1194120"/>
            <a:ext cx="7561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理服务器上已经有该资源的内容，所以代理服务器直接将资源内容发送给客户机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lien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585880" y="4356000"/>
            <a:ext cx="849600" cy="968400"/>
            <a:chOff x="2585880" y="4356000"/>
            <a:chExt cx="849600" cy="968400"/>
          </a:xfrm>
        </p:grpSpPr>
        <p:sp>
          <p:nvSpPr>
            <p:cNvPr id="162" name=""/>
            <p:cNvSpPr/>
            <p:nvPr/>
          </p:nvSpPr>
          <p:spPr>
            <a:xfrm flipH="1">
              <a:off x="2585880" y="4356000"/>
              <a:ext cx="849600" cy="9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09960" y="4894200"/>
              <a:ext cx="243000" cy="368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代理服务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lient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出资源的请求，根据客户机上的代理服务器设置，该请求会发到代理服务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理服务器将客户机的请求发送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的一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机将资源返回给代理服务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理服务器将内容存储在本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理服务器将资源内容发送给客户机，客户机可以看到自己请求的资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lient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求与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lient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同的资源，和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lient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样，也会将请求发送到代理服务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理服务器上已经有该资源的内容，所以代理服务器直接将资源内容发送给客户机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lien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代理服务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缓存内容可以提高访问速度，减少不必要的网络流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隐藏内部网络细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防火墙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监控用户行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CS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有一个网络连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无法激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067280" y="1484280"/>
            <a:ext cx="4456080" cy="46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C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有两个网络连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查看网络连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激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服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查看共享图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查看专用连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查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服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284720" y="1484280"/>
            <a:ext cx="4608360" cy="4681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284720" y="1484280"/>
            <a:ext cx="4608360" cy="4681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284720" y="1484280"/>
            <a:ext cx="4608360" cy="4681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284720" y="1484280"/>
            <a:ext cx="4633920" cy="4753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4211640" y="1413000"/>
            <a:ext cx="4681440" cy="48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C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456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有多个连接，只希望使用一个专用连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查看网络连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激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并选择一个专用连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查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配置结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284720" y="1484280"/>
            <a:ext cx="4464000" cy="4392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284720" y="1484280"/>
            <a:ext cx="4464000" cy="4392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284720" y="1484280"/>
            <a:ext cx="446400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8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924360" y="1628640"/>
            <a:ext cx="4824360" cy="46087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C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19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有多个连接，希望使用所有的专用连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查看网络连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创建网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网桥创建失败提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网桥创建过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查看网桥创建结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激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查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共享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924360" y="1700280"/>
            <a:ext cx="4824360" cy="4537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924360" y="1700280"/>
            <a:ext cx="4824360" cy="4537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067280" y="3141720"/>
            <a:ext cx="4608360" cy="10191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4067280" y="2852640"/>
            <a:ext cx="4681440" cy="1086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3924360" y="1650960"/>
            <a:ext cx="4824360" cy="45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代理服务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理服务器的选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性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本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易用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全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CProx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284720" y="1700280"/>
            <a:ext cx="4464000" cy="4321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284720" y="1700280"/>
            <a:ext cx="4464000" cy="43210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CProxy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行安装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向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路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始菜单文件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快捷方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始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完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Pprox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284720" y="1700280"/>
            <a:ext cx="4464000" cy="1334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284720" y="1700280"/>
            <a:ext cx="4464000" cy="4321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4284720" y="1700280"/>
            <a:ext cx="4464000" cy="4321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4284720" y="1700280"/>
            <a:ext cx="4464000" cy="4321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4284720" y="1700280"/>
            <a:ext cx="4464000" cy="4321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4284720" y="1700280"/>
            <a:ext cx="4464000" cy="43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9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5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7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9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3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代理服务器设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44084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置”对话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议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端口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服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284720" y="1268280"/>
            <a:ext cx="3887640" cy="314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"/>
          <p:cNvGraphicFramePr/>
          <p:nvPr/>
        </p:nvGraphicFramePr>
        <p:xfrm>
          <a:off x="395280" y="1557360"/>
          <a:ext cx="8399520" cy="3414600"/>
        </p:xfrm>
        <a:graphic>
          <a:graphicData uri="http://schemas.openxmlformats.org/drawingml/2006/table">
            <a:tbl>
              <a:tblPr/>
              <a:tblGrid>
                <a:gridCol w="1582920"/>
                <a:gridCol w="1579320"/>
                <a:gridCol w="523728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协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端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HTT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用于使用浏览器上网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9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FTP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WEB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）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用于使用浏览器访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FTP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站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FT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用于使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FTP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客户端软件访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FTP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站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RTS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用于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Real Play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SOCKS/MM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SOCKS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用于某些网络应用程序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QQ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MMS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用于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microsoft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媒体服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Telne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用于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Telnet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客户端程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扩展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逻辑驱动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态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简单卷、跨区卷、带区卷、镜像卷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D 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配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帐号设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帐号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建帐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获取地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创建完的帐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动扫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995640" y="1628640"/>
            <a:ext cx="4824360" cy="4176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995640" y="1628640"/>
            <a:ext cx="4824360" cy="4176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995640" y="1628640"/>
            <a:ext cx="4392720" cy="1754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995640" y="1628640"/>
            <a:ext cx="4824360" cy="4176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4027320" y="1628640"/>
            <a:ext cx="479268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8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0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2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4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看用户连接信息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时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事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475272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二级代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启用二级代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理地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理协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00720" y="1268280"/>
            <a:ext cx="3619440" cy="291960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755640" y="4417920"/>
            <a:ext cx="6553080" cy="1098720"/>
            <a:chOff x="755640" y="4417920"/>
            <a:chExt cx="6553080" cy="1098720"/>
          </a:xfrm>
        </p:grpSpPr>
        <p:grpSp>
          <p:nvGrpSpPr>
            <p:cNvPr id="221" name=""/>
            <p:cNvGrpSpPr/>
            <p:nvPr/>
          </p:nvGrpSpPr>
          <p:grpSpPr>
            <a:xfrm>
              <a:off x="2195640" y="4417920"/>
              <a:ext cx="1638000" cy="1098720"/>
              <a:chOff x="2195640" y="4417920"/>
              <a:chExt cx="1638000" cy="1098720"/>
            </a:xfrm>
          </p:grpSpPr>
          <p:sp>
            <p:nvSpPr>
              <p:cNvPr id="222" name=""/>
              <p:cNvSpPr/>
              <p:nvPr/>
            </p:nvSpPr>
            <p:spPr>
              <a:xfrm>
                <a:off x="2195640" y="4417920"/>
                <a:ext cx="163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二级代理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619360" y="4762440"/>
                <a:ext cx="786600" cy="754200"/>
                <a:chOff x="2619360" y="4762440"/>
                <a:chExt cx="786600" cy="754200"/>
              </a:xfrm>
            </p:grpSpPr>
            <p:sp>
              <p:nvSpPr>
                <p:cNvPr id="224" name="mainfrm"/>
                <p:cNvSpPr/>
                <p:nvPr/>
              </p:nvSpPr>
              <p:spPr>
                <a:xfrm>
                  <a:off x="2619360" y="4762440"/>
                  <a:ext cx="463320" cy="7279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2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22480" y="5247000"/>
                  <a:ext cx="483480" cy="269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26" name=""/>
            <p:cNvGrpSpPr/>
            <p:nvPr/>
          </p:nvGrpSpPr>
          <p:grpSpPr>
            <a:xfrm>
              <a:off x="755640" y="4562640"/>
              <a:ext cx="897120" cy="833400"/>
              <a:chOff x="755640" y="4562640"/>
              <a:chExt cx="897120" cy="833400"/>
            </a:xfrm>
          </p:grpSpPr>
          <p:sp>
            <p:nvSpPr>
              <p:cNvPr id="227" name=""/>
              <p:cNvSpPr/>
              <p:nvPr/>
            </p:nvSpPr>
            <p:spPr>
              <a:xfrm>
                <a:off x="755640" y="4562640"/>
                <a:ext cx="897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li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computr1"/>
              <p:cNvSpPr/>
              <p:nvPr/>
            </p:nvSpPr>
            <p:spPr>
              <a:xfrm>
                <a:off x="934920" y="4911840"/>
                <a:ext cx="466920" cy="48420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852720" y="4417920"/>
              <a:ext cx="1638360" cy="1098720"/>
              <a:chOff x="3852720" y="4417920"/>
              <a:chExt cx="1638360" cy="1098720"/>
            </a:xfrm>
          </p:grpSpPr>
          <p:sp>
            <p:nvSpPr>
              <p:cNvPr id="230" name=""/>
              <p:cNvSpPr/>
              <p:nvPr/>
            </p:nvSpPr>
            <p:spPr>
              <a:xfrm>
                <a:off x="3852720" y="4417920"/>
                <a:ext cx="163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Proxy 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4276800" y="4762440"/>
                <a:ext cx="786960" cy="754200"/>
                <a:chOff x="4276800" y="4762440"/>
                <a:chExt cx="786960" cy="754200"/>
              </a:xfrm>
            </p:grpSpPr>
            <p:sp>
              <p:nvSpPr>
                <p:cNvPr id="232" name="mainfrm"/>
                <p:cNvSpPr/>
                <p:nvPr/>
              </p:nvSpPr>
              <p:spPr>
                <a:xfrm>
                  <a:off x="4276800" y="4762440"/>
                  <a:ext cx="463680" cy="7279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579920" y="5247000"/>
                  <a:ext cx="483840" cy="269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4" name="Cloud"/>
            <p:cNvSpPr/>
            <p:nvPr/>
          </p:nvSpPr>
          <p:spPr>
            <a:xfrm>
              <a:off x="5940360" y="4776840"/>
              <a:ext cx="1368360" cy="59832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ter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76360" y="4994280"/>
              <a:ext cx="1008000" cy="144360"/>
            </a:xfrm>
            <a:prstGeom prst="leftRightArrow">
              <a:avLst>
                <a:gd name="adj1" fmla="val 50000"/>
                <a:gd name="adj2" fmla="val 139004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3640" y="4994280"/>
              <a:ext cx="1008000" cy="144360"/>
            </a:xfrm>
            <a:prstGeom prst="leftRightArrow">
              <a:avLst>
                <a:gd name="adj1" fmla="val 50000"/>
                <a:gd name="adj2" fmla="val 139004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88000" y="4994280"/>
              <a:ext cx="1008000" cy="144360"/>
            </a:xfrm>
            <a:prstGeom prst="leftRightArrow">
              <a:avLst>
                <a:gd name="adj1" fmla="val 50000"/>
                <a:gd name="adj2" fmla="val 139004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缓存设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新时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缓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缓存路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缓存大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总是从缓存中读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140360" y="1341360"/>
            <a:ext cx="467964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站过滤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站过滤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站点过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禁止连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禁止内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过滤规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284720" y="1484280"/>
            <a:ext cx="4464000" cy="43210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284720" y="1484280"/>
            <a:ext cx="4464000" cy="43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9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时间安排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安排对话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间安排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星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间段复选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用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140360" y="1700280"/>
            <a:ext cx="4464000" cy="41050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4464000" cy="410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日志管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志保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志文件最大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打开日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除日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464000" cy="42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356000" y="1484280"/>
            <a:ext cx="4464000" cy="35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3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E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浏览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局域网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设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理服务器设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176720" cy="43214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673800" cy="31654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3673800" cy="35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8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1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2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2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7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互联网使用安全常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及时更新操作系统，下载并安装漏洞补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停止和禁用不必要的服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管理员及其他用户设置复杂的密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禁用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U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帐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更改系统默认的设置，例如将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ministrato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帐户重命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关键数据定期完成备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互联网使用安全常识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杀毒软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邮件附件进行病毒检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滤非法网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范软盘、光盘的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硬件或软件防火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制定完善的网络安全策略及故障处理措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将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Windows Server 200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网络接入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Inter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熟悉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ICS(Internet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连接共享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的配置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熟悉代理服务器软件的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配置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IE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浏览器设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了解互联网使用安全常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源于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PA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供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服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a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为企业内部网，用于在企业内部实现资源共享和信息交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a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常常配置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服务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用于将小型网络接入互联网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机具有至少两个连接分别接内网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代理服务器软件将企业网络接入互联网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接入的一种主要方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理服务器软件可以实现对用户上网实现代理、缓存、过滤、监控等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CProx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一种适用于小型网络的代理服务器软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客户端可以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项中设置代理服务器地址和端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网络安全常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代理服务器软件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CProx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置客户机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企业网络接入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目标图示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6985080" cy="471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两台服务器上成功安装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CProx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客户机可以通过代理服务器上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客户机可以通过二级代理服务器上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确按照计算机名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创建用户帐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网站过滤规则成功限制客户机上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时间安排规则成功限制客户机上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够记录上网日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nterne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接入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万维网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新闻组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B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电子公告版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q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ntrane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概述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准技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服务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企业内部信息交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外信息发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ntrane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概述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an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示意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5905440" cy="44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5977080" cy="4483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IC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Interne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连接共享</a:t>
            </a: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示意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Interne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连接共享（</a:t>
            </a: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专用连接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2.168.0.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部客户机配置为自动获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在专用连接上激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法修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默认设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部网络具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服务器，应采用其他技术接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适用于家庭和小型企业网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代理服务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理服务器示意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24000" y="2133720"/>
            <a:ext cx="6838920" cy="3324240"/>
            <a:chOff x="324000" y="2133720"/>
            <a:chExt cx="6838920" cy="3324240"/>
          </a:xfrm>
        </p:grpSpPr>
        <p:sp>
          <p:nvSpPr>
            <p:cNvPr id="109" name=""/>
            <p:cNvSpPr/>
            <p:nvPr/>
          </p:nvSpPr>
          <p:spPr>
            <a:xfrm rot="18505800">
              <a:off x="1539720" y="4300560"/>
              <a:ext cx="1757520" cy="160200"/>
            </a:xfrm>
            <a:prstGeom prst="leftRightArrow">
              <a:avLst>
                <a:gd name="adj1" fmla="val 50000"/>
                <a:gd name="adj2" fmla="val 218400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Cloud"/>
            <p:cNvSpPr/>
            <p:nvPr/>
          </p:nvSpPr>
          <p:spPr>
            <a:xfrm>
              <a:off x="4354560" y="2133720"/>
              <a:ext cx="2808360" cy="131436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tern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mainfrm"/>
            <p:cNvSpPr/>
            <p:nvPr/>
          </p:nvSpPr>
          <p:spPr>
            <a:xfrm>
              <a:off x="5507280" y="2854440"/>
              <a:ext cx="365040" cy="538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68720" y="292572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627280" y="2973600"/>
              <a:ext cx="787680" cy="753480"/>
              <a:chOff x="2627280" y="2973600"/>
              <a:chExt cx="787680" cy="753480"/>
            </a:xfrm>
          </p:grpSpPr>
          <p:sp>
            <p:nvSpPr>
              <p:cNvPr id="114" name="mainfrm"/>
              <p:cNvSpPr/>
              <p:nvPr/>
            </p:nvSpPr>
            <p:spPr>
              <a:xfrm>
                <a:off x="2627280" y="2973600"/>
                <a:ext cx="463680" cy="72756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30760" y="3457800"/>
                <a:ext cx="484200" cy="269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" name=""/>
            <p:cNvSpPr/>
            <p:nvPr/>
          </p:nvSpPr>
          <p:spPr>
            <a:xfrm>
              <a:off x="2203560" y="2629080"/>
              <a:ext cx="163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oxy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computr1"/>
            <p:cNvSpPr/>
            <p:nvPr/>
          </p:nvSpPr>
          <p:spPr>
            <a:xfrm>
              <a:off x="503280" y="3511800"/>
              <a:ext cx="466920" cy="4842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4000" y="3162240"/>
              <a:ext cx="89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en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computr1"/>
            <p:cNvSpPr/>
            <p:nvPr/>
          </p:nvSpPr>
          <p:spPr>
            <a:xfrm>
              <a:off x="1460520" y="4973760"/>
              <a:ext cx="466920" cy="4842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81240" y="4624560"/>
              <a:ext cx="89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ent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57720" y="3426120"/>
              <a:ext cx="9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0733000">
              <a:off x="1042560" y="3501720"/>
              <a:ext cx="1511640" cy="144360"/>
            </a:xfrm>
            <a:prstGeom prst="leftRightArrow">
              <a:avLst>
                <a:gd name="adj1" fmla="val 50000"/>
                <a:gd name="adj2" fmla="val 208457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03640" y="3141720"/>
              <a:ext cx="2232000" cy="144360"/>
            </a:xfrm>
            <a:prstGeom prst="leftRightArrow">
              <a:avLst>
                <a:gd name="adj1" fmla="val 50000"/>
                <a:gd name="adj2" fmla="val 307795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gaowei</cp:lastModifiedBy>
  <dcterms:modified xsi:type="dcterms:W3CDTF">2004-03-19T02:35:00Z</dcterms:modified>
  <cp:revision>80</cp:revision>
  <dc:subject/>
  <dc:title>Understanding Basic HTML</dc:title>
</cp:coreProperties>
</file>