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DE7B-E173-4A8C-B870-B292CFC29885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C9B2-BE7C-402C-9CE6-6C13B190CA2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indows Server 2003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系统管理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服务器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邮件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站点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介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86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版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 We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版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企业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 Datacent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版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Server 2003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企业版的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硬件需求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624720" cy="4313160"/>
        </p:xfrm>
        <a:graphic>
          <a:graphicData uri="http://schemas.openxmlformats.org/drawingml/2006/table">
            <a:tbl>
              <a:tblPr/>
              <a:tblGrid>
                <a:gridCol w="2381400"/>
                <a:gridCol w="424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硬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3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33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容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容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6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处理器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最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处理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最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处理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安装所需的磁盘空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5 GB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 GB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安装或升级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Server 2003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注意事项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512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好不要在正在使用的服务器上安装新操作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好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多系统共存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619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光盘引导计算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192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授权协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553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磁盘分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3668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Windows Server 2003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480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磁盘分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3668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Windows Server 2003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磁盘分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81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式化磁盘并选择文件系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80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和升级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 Server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环境进行基本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部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，实现工作组或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配置适当的权限和策略来保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安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配置和管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资源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和管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系统进行必要的备份和灾难恢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环境中配置和管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目录服务的基本配置和管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式化磁盘并选择文件系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制文件并重新启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19200" y="1717560"/>
            <a:ext cx="66531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入图形界面安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1708200"/>
            <a:ext cx="65772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设置数字、货币以及日期格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985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输入姓名和单位名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3880" y="166536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输入产品密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73664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选择授权模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51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输入计算机名和管理员密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73664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设置时区、日期和时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70028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网络设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66536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76240" y="1557360"/>
          <a:ext cx="7391520" cy="2971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基本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部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介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indow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erver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产品的组成、特性和环境的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本配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一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主要介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地址配置、工作组和域的实现、帐户管理等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二章至第四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设置网络工作模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3880" y="173664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完成安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66536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登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4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安装或升级过程中的常见问题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572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盘介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兼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本差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硬件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管理的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和升级硬件驱动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卸载硬件驱动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停止硬件的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硬件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硬件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1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硬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管理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4623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硬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36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配置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3276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6119640" cy="4589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693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件的安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“管理您的服务器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件向导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命令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6264360" cy="2665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908000" y="2421000"/>
            <a:ext cx="53280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8920" y="1196640"/>
            <a:ext cx="3619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的管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4087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49197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系统信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过“系统属性”窗口查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“系统信息”窗口查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887480" y="2349360"/>
            <a:ext cx="4124520" cy="443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50403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76240" y="1557360"/>
          <a:ext cx="7391520" cy="295128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安全管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应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介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indows Server 200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统中的安全特性和安全配置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五章至第七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介绍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indow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中实现常见的网络应用，如打印、共享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nterne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访问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并完成一个小型企业的网络部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八章至第十二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对于服务器最有用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常见任务的新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佳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见管理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疑难解答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7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面向企业用户的网络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四个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服务”窗口管理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当前操作系统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帮助获得相关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6983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立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立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下对软、硬件的基本管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698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可以登录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添加、管理和删除硬件，并可以配置相应的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不同的硬件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当前计算机和操作系统的详细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使用帮助找到相关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安装和配置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Server 2003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一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族成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与升级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的基本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341360"/>
            <a:ext cx="8424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模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：用户使用的计算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：用来完成某一特定功能的计算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050920" y="2852640"/>
            <a:ext cx="4327200" cy="3730320"/>
            <a:chOff x="2050920" y="2852640"/>
            <a:chExt cx="4327200" cy="3730320"/>
          </a:xfrm>
        </p:grpSpPr>
        <p:sp>
          <p:nvSpPr>
            <p:cNvPr id="103" name=""/>
            <p:cNvSpPr/>
            <p:nvPr/>
          </p:nvSpPr>
          <p:spPr>
            <a:xfrm flipV="1">
              <a:off x="2050920" y="4535640"/>
              <a:ext cx="4000680" cy="10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30880" y="3929400"/>
              <a:ext cx="0" cy="596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639400" y="3929400"/>
              <a:ext cx="0" cy="596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184200" y="3223800"/>
              <a:ext cx="753120" cy="91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11800" y="3223800"/>
              <a:ext cx="76680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flipV="1">
              <a:off x="2718720" y="4536360"/>
              <a:ext cx="0" cy="595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2310480" y="4970880"/>
              <a:ext cx="752760" cy="91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5484960" y="4536360"/>
              <a:ext cx="0" cy="1109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54360" y="2852640"/>
              <a:ext cx="151632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96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56920" y="2852640"/>
              <a:ext cx="114660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16080" y="5935680"/>
              <a:ext cx="1146600" cy="307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18680" y="6274800"/>
              <a:ext cx="114660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服务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997880" y="5204520"/>
              <a:ext cx="1380240" cy="1209960"/>
              <a:chOff x="4997880" y="5204520"/>
              <a:chExt cx="1380240" cy="12099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7880" y="5204520"/>
                <a:ext cx="1025640" cy="120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65680" y="5839200"/>
                <a:ext cx="712440" cy="57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341360"/>
            <a:ext cx="705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软件区别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操作系统软件主要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9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NT Workst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Profess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XP Profess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在这些操作系统上运行一些客户端使用的软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：操作系统软件主要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NT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或者是其他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产品。在服务器上运行的都是为客户端提供各种服务的组件和应用软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区别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硬件要求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：对硬件要求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23:44Z</dcterms:created>
  <dc:creator>Bill Wang</dc:creator>
  <dc:description/>
  <dc:language>en-US</dc:language>
  <cp:lastModifiedBy>work</cp:lastModifiedBy>
  <dcterms:modified xsi:type="dcterms:W3CDTF">2004-04-05T09:07:50Z</dcterms:modified>
  <cp:revision>171</cp:revision>
  <dc:subject/>
  <dc:title>第八章 配置Windows网络访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9966477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dows系统管理PPT－1</vt:lpwstr>
  </property>
  <property fmtid="{D5CDD505-2E9C-101B-9397-08002B2CF9AE}" pid="6" name="_PreviousAdHocReviewCycleID">
    <vt:r8>1727226899</vt:r8>
  </property>
</Properties>
</file>