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9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F9F4-3BAE-476D-94F5-0D25E3E1EAAD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37D8-0603-41BD-B717-AE611475C35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实现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工作组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账户属性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终端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终端服务配置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1295280"/>
            <a:ext cx="6933960" cy="4767480"/>
            <a:chOff x="1219320" y="1295280"/>
            <a:chExt cx="6933960" cy="47674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011480" y="1920960"/>
              <a:ext cx="13208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740040" y="1295280"/>
              <a:ext cx="226872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758960" y="4500720"/>
              <a:ext cx="1170720" cy="935640"/>
              <a:chOff x="1758960" y="4500720"/>
              <a:chExt cx="1170720" cy="9356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758960" y="4993920"/>
                <a:ext cx="1151640" cy="442440"/>
                <a:chOff x="1758960" y="4993920"/>
                <a:chExt cx="1151640" cy="442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511720" y="5108760"/>
                  <a:ext cx="396720" cy="3276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8960" y="4993920"/>
                  <a:ext cx="1151640" cy="2836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758960" y="5133240"/>
                  <a:ext cx="752760" cy="3031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52800" y="5240880"/>
                  <a:ext cx="295560" cy="1472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58920" y="5295600"/>
                  <a:ext cx="284760" cy="525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51360" y="5239800"/>
                  <a:ext cx="295560" cy="889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78360" y="5270040"/>
                  <a:ext cx="230760" cy="406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74560" y="5353920"/>
                  <a:ext cx="43560" cy="64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251080" y="5280840"/>
                  <a:ext cx="70560" cy="266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78400" y="5166000"/>
                  <a:ext cx="304920" cy="60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78400" y="518940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78400" y="5214240"/>
                  <a:ext cx="304920" cy="61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78400" y="523764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55680" y="5304600"/>
                  <a:ext cx="298440" cy="90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852200" y="4500720"/>
                <a:ext cx="1077480" cy="722520"/>
                <a:chOff x="1852200" y="4500720"/>
                <a:chExt cx="1077480" cy="722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933920" y="4970520"/>
                  <a:ext cx="838800" cy="25272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44000" y="4975560"/>
                  <a:ext cx="812160" cy="223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46320" y="5030640"/>
                  <a:ext cx="422640" cy="120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15560" y="5034960"/>
                  <a:ext cx="681840" cy="1350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078640" y="4500720"/>
                  <a:ext cx="851040" cy="558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10000" y="4624200"/>
                  <a:ext cx="170280" cy="543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852200" y="4507200"/>
                  <a:ext cx="928080" cy="1846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52200" y="4561920"/>
                  <a:ext cx="757800" cy="6080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10880" y="4615560"/>
                  <a:ext cx="641520" cy="4986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50120" y="4649040"/>
                  <a:ext cx="561240" cy="42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00160" y="4684320"/>
                  <a:ext cx="0" cy="65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1219320" y="5516640"/>
              <a:ext cx="226836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客户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4200" y="5516640"/>
              <a:ext cx="2270160" cy="5461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客户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3411360"/>
              <a:ext cx="2057400" cy="4636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键盘鼠标操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60760" y="2936520"/>
              <a:ext cx="153036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930400" y="3171960"/>
              <a:ext cx="144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4108320"/>
              <a:ext cx="178128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桌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1480" y="3562200"/>
              <a:ext cx="2431800" cy="5461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RDP(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远程桌面协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760" y="3014640"/>
              <a:ext cx="117144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721480" y="4500720"/>
              <a:ext cx="1170720" cy="935640"/>
              <a:chOff x="5721480" y="4500720"/>
              <a:chExt cx="1170720" cy="935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721480" y="4993920"/>
                <a:ext cx="1151640" cy="442440"/>
                <a:chOff x="5721480" y="4993920"/>
                <a:chExt cx="1151640" cy="442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74240" y="5108760"/>
                  <a:ext cx="396720" cy="3276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21480" y="4993920"/>
                  <a:ext cx="1151640" cy="2836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21480" y="5133240"/>
                  <a:ext cx="752760" cy="3031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15320" y="5240880"/>
                  <a:ext cx="295560" cy="1472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121440" y="5295600"/>
                  <a:ext cx="284760" cy="525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13880" y="5239800"/>
                  <a:ext cx="295560" cy="889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140880" y="5270040"/>
                  <a:ext cx="230760" cy="406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37080" y="5353920"/>
                  <a:ext cx="43560" cy="64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213600" y="5280840"/>
                  <a:ext cx="70560" cy="266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40920" y="5166000"/>
                  <a:ext cx="304920" cy="60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740920" y="518940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40920" y="5214240"/>
                  <a:ext cx="304920" cy="61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740920" y="523764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18200" y="5304600"/>
                  <a:ext cx="298440" cy="90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814720" y="4500720"/>
                <a:ext cx="1077480" cy="722520"/>
                <a:chOff x="5814720" y="4500720"/>
                <a:chExt cx="1077480" cy="722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896440" y="4970520"/>
                  <a:ext cx="838800" cy="25272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06520" y="4975560"/>
                  <a:ext cx="812160" cy="223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08840" y="5030640"/>
                  <a:ext cx="422640" cy="120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78080" y="5034960"/>
                  <a:ext cx="681840" cy="1350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41160" y="4500720"/>
                  <a:ext cx="851040" cy="558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572520" y="4624200"/>
                  <a:ext cx="170280" cy="543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14720" y="4507200"/>
                  <a:ext cx="928080" cy="1846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814720" y="4561920"/>
                  <a:ext cx="757800" cy="6080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873400" y="4615560"/>
                  <a:ext cx="641520" cy="4986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12640" y="4649040"/>
                  <a:ext cx="561240" cy="42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962680" y="4684320"/>
                  <a:ext cx="0" cy="65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账户密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设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由管理员完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改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由用户完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29040" y="2638440"/>
            <a:ext cx="3656160" cy="2152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3970440" cy="2665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657600" y="2362320"/>
            <a:ext cx="3941640" cy="2712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0400" y="1905120"/>
            <a:ext cx="5113440" cy="3617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5880" y="3505320"/>
            <a:ext cx="1295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00400" y="19051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113440" cy="36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命名和删除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命名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:S-1-5-21-1292074401-2054391636-2487779615-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删除后不能重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90920" y="5105520"/>
            <a:ext cx="6084720" cy="131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781680" y="3581280"/>
            <a:ext cx="13716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69 L 3.33333E-006 -0.03261 E">
                                      <p:cBhvr>
                                        <p:cTn id="45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479760" y="1143000"/>
            <a:ext cx="5664240" cy="3532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46600" cy="4379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配置文件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配置文件包括用户的工作环境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桌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文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藏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近访问过的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用户属性中可以指定配置文件的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1828800"/>
            <a:ext cx="28954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38280"/>
            <a:ext cx="2361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13040" cy="3884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51520" cy="446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467480" y="3505320"/>
            <a:ext cx="990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配置文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系统属性中可以看登录到当前计算机中的用户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048120"/>
            <a:ext cx="45720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个用户加入到一个组以后，该用户会继承该组所拥有的所有权限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用户账户可以同时加入到多个组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些情况下，组可以加入到其他组，或者说组里可以包括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9565" t="11665" r="12333" b="22159"/>
          <a:stretch/>
        </p:blipFill>
        <p:spPr>
          <a:xfrm>
            <a:off x="762120" y="1066680"/>
            <a:ext cx="754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计算机管理工具中的用户和组管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需要输入组名和描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直接添加成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656160" cy="3351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475160" cy="259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00600" y="3962520"/>
            <a:ext cx="9907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267080"/>
            <a:ext cx="9903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49611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置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认本地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动建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拥有特殊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些组是动态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940800" cy="37134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967120" y="3809880"/>
            <a:ext cx="1147680" cy="1752840"/>
            <a:chOff x="2967120" y="3809880"/>
            <a:chExt cx="1147680" cy="1752840"/>
          </a:xfrm>
        </p:grpSpPr>
        <p:sp>
          <p:nvSpPr>
            <p:cNvPr id="231" name=""/>
            <p:cNvSpPr/>
            <p:nvPr/>
          </p:nvSpPr>
          <p:spPr>
            <a:xfrm>
              <a:off x="2971800" y="380988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7120" y="476712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71800" y="541008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置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600200"/>
          <a:ext cx="8534520" cy="3914640"/>
        </p:xfrm>
        <a:graphic>
          <a:graphicData uri="http://schemas.openxmlformats.org/drawingml/2006/table">
            <a:tbl>
              <a:tblPr/>
              <a:tblGrid>
                <a:gridCol w="2017800"/>
                <a:gridCol w="6516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描述信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具有对服务器的完全控制权限，并且可以下其他用户分配用户权利和访问控制权限。管理员账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就是这个组的默认成员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ackup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入该组的成员可以备份和还原服务器上的所有文件，而不管这些文件的是否设有权限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e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拥有一个在登录时创建的临时配置文件，在注销时，该配置文件将被删除。来宾账户（默认情况下已禁用）也是该组的默认成员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etwork Configuration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更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CP/I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并更新和发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CP/I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具有创建用户账户和组账户的权利，可以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User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ser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est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中添加或删除用户，但是不能管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s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成员。可以创建和管理共享资源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int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管理打印机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执行一些常见任务，例如运行应用程序、使用本地和网络打印机以及锁定服务器。用户不能共享目录或创建本地打印机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996000" cy="4114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038480" y="2057400"/>
            <a:ext cx="4038840" cy="2144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038480" y="2133720"/>
            <a:ext cx="4038840" cy="2144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组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组成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命名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员和权限不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ＡＬＰ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038480" y="1600200"/>
            <a:ext cx="3996000" cy="411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848040" cy="4381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191120" y="4952880"/>
            <a:ext cx="9144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3276720"/>
            <a:ext cx="914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352680"/>
            <a:ext cx="22860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971800"/>
            <a:ext cx="83844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静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测试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作组模式的网络适用于小型网络，计算机数量最好不要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工作组模式中，每台计算机都需要维护自己的用户安全数据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装后会自动建立若干个默认帐户和组。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管理员帐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通用户只具有基本的登录和运行简单应用程序的权限，不具有类似于关机、修改时间、设置网络等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不在使用的帐户可以暂时先将其禁用，因为如果删除后，及时建立了同名帐户，也不能保留原来的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组帐户都有其特殊的权利，有些本地组是动态的，即需要添加相应的服务才会出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配置文件保存了用户工作环境的所有信息，比如桌面、我的文档、收藏夹等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的本地组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use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opear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Configuration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中可以加入多个用户，用户具有此组的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组不能添加本地组作为自己的成员，但可以添加内置安全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工作组方式部署企业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计算机加入工作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工作组中的计算机上建立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本地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计算机成功加入工作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用户需求的帐户，并设置好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创建了本地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将用户加入组或从组中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工作组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本地用户账户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本地用户账户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用户配置文件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本地组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组的特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计算机管理自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计算机都在本地存储用户的账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组中计算机的数量最好不要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在工作组中使用本地账户登录到计算机，一个账户只能登录到一台计算机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8580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用户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存储在本地计算机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能够并且只能够登录到本地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可以用“计算机管理”中的“本地用户和组”来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主要用于工作组环境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588360" cy="327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3951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046840" cy="3494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2520" y="2514600"/>
            <a:ext cx="365580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计算机管理工具进行用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相关选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657600"/>
            <a:ext cx="12952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用户名：用户名最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字符，不区分大小写，也可以使用中文，但不能使用一些特殊字符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 / \ [ ] : ; | = , + * ? &lt; 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全名和描述：此信息为可选项，可以输入一些员工的个人信息和公司信息，如姓名和部门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密码和确认密码：密码的最大长度可以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位，密码的设置不应过于简单，应该使用字母、数字及特殊符号的组合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619800" cy="331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下次登录时必须更改密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不能更改密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永不过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已禁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8620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120" y="-34445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障用户隐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45788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255" y="-56864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于共享账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6736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255" y="-79282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默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天过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502920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570" y="-66600"/>
                </a:moveTo>
                <a:lnTo>
                  <a:pt x="-720" y="5891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暂时禁止登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账户属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391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隶属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拨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work</cp:lastModifiedBy>
  <dcterms:modified xsi:type="dcterms:W3CDTF">2004-03-24T04:54:31Z</dcterms:modified>
  <cp:revision>694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