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4.jpeg" ContentType="image/jpeg"/>
  <Override PartName="/ppt/media/image36.jpeg" ContentType="image/jpeg"/>
  <Override PartName="/ppt/media/image35.gif" ContentType="image/gif"/>
  <Override PartName="/ppt/media/image38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17.wmf" ContentType="image/x-wmf"/>
  <Override PartName="/ppt/media/image37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95BE-B624-4358-B571-F9FED282490A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CF1-2805-4C75-9483-DD702BF18A3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440-4785-4E50-98B9-E2D0DDC2D88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5.jpeg"/><Relationship Id="rId3" Type="http://schemas.openxmlformats.org/officeDocument/2006/relationships/hyperlink" Target="http://www8.ccidnet.com/DIY/apply/2001/06/06/68_6160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chinabyte.com/20020903/1628541_11.shtml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media.ccidnet.com/media/ciw/1136/d2102.htm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chinabyte.com/20020903/1628541_7.shtml" TargetMode="External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-900.ibm.com/cn/products/printers/product/product_list.shtml" TargetMode="External"/><Relationship Id="rId3" Type="http://schemas.openxmlformats.org/officeDocument/2006/relationships/image" Target="../media/image32.png"/><Relationship Id="rId4" Type="http://schemas.openxmlformats.org/officeDocument/2006/relationships/hyperlink" Target="http://www.77778888.com/zhenshidayinji/a580k%20.htm" TargetMode="External"/><Relationship Id="rId5" Type="http://schemas.openxmlformats.org/officeDocument/2006/relationships/image" Target="../media/image33.png"/><Relationship Id="rId6" Type="http://schemas.openxmlformats.org/officeDocument/2006/relationships/hyperlink" Target="http://xtcdn.51.net/HPpeimodayinji.htm" TargetMode="External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t.sohu.com/quote/pjzt/pjpc/0608b.html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www.yesky.com/Hardware/72653559404953600/20030305/1655305.shtml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shbear.com/2/lib/200209/02/20020902261.htm" TargetMode="External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pb365.com/netschool/school/dnzc/hard/hard/xianka/xian0504.htm" TargetMode="External"/><Relationship Id="rId3" Type="http://schemas.openxmlformats.org/officeDocument/2006/relationships/image" Target="../media/image37.jpeg"/><Relationship Id="rId4" Type="http://schemas.openxmlformats.org/officeDocument/2006/relationships/hyperlink" Target="http://bolong-xx.com/computer/zj_0606_05.htm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b.pconline.com.cn/pchardware/tpylab/graphics/0111/19mx400_1.htm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it.sohu.com/quote/xpkd/0102121.html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3.png"/><Relationship Id="rId3" Type="http://schemas.openxmlformats.org/officeDocument/2006/relationships/image" Target="../media/image21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8.ccidnet.com/DIY/apply/2001/06/06/68_6160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cxdz.com/jp_sb_5.htm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6.gif"/><Relationship Id="rId7" Type="http://schemas.openxmlformats.org/officeDocument/2006/relationships/hyperlink" Target="http://www.yesky.com/Hardware/72653559404953600/20030305/1655305.shtml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fuxun.net/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gi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image.baidu.com/ir?u=http://www8.ccidnet.com/DIY/apply/2001/06/06/image/01401t02.jpg&amp;f=http://www8.ccidnet.com/DIY/apply/2001/06/06/68_6160.html&amp;c=baidu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t.sohu.com/quote/pjzt/pjpc/0608b.html" TargetMode="External"/><Relationship Id="rId5" Type="http://schemas.openxmlformats.org/officeDocument/2006/relationships/image" Target="../media/image21.jpeg"/><Relationship Id="rId6" Type="http://schemas.openxmlformats.org/officeDocument/2006/relationships/hyperlink" Target="http://www.yesky.com/Hardware/72653559404953600/20030305/1655305.s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输入、输出和接口卡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二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鼠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机械鼠标的结构"/>
          <p:cNvPicPr/>
          <p:nvPr/>
        </p:nvPicPr>
        <p:blipFill>
          <a:blip r:embed="rId2"/>
          <a:stretch/>
        </p:blipFill>
        <p:spPr>
          <a:xfrm>
            <a:off x="2438280" y="4076640"/>
            <a:ext cx="4648320" cy="2324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PS/2型鼠标和串行鼠标"/>
          <p:cNvPicPr/>
          <p:nvPr/>
        </p:nvPicPr>
        <p:blipFill>
          <a:blip r:embed="rId3"/>
          <a:stretch/>
        </p:blipFill>
        <p:spPr>
          <a:xfrm>
            <a:off x="3429000" y="12952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的按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71640" y="2349360"/>
          <a:ext cx="7345440" cy="30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734544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840360" y="1989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状态指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5445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编辑控制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打字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198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功能键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2000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副键盘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8920" y="1627200"/>
            <a:ext cx="2808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工程学键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学鼠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1503120016b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2229120" cy="2000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3573360"/>
            <a:ext cx="2857320" cy="15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8920" y="1627200"/>
            <a:ext cx="2808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显示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电子束激发荧光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荧光粉受激发构成像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030309_crtzt01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6819840" cy="3033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391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晶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双层超扭曲向列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T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薄膜晶体管型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126828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3429000"/>
            <a:ext cx="1689120" cy="22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逐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隔行显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刷新频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辨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调节方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眩光防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液晶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视角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亮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响应时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显示色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1828800"/>
            <a:ext cx="260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560" y="4221000"/>
            <a:ext cx="458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263700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1197000"/>
            <a:ext cx="634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常见产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rcRect l="14532" t="0" r="0" b="0"/>
          <a:stretch/>
        </p:blipFill>
        <p:spPr>
          <a:xfrm>
            <a:off x="900000" y="1844640"/>
            <a:ext cx="2540160" cy="2228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284720" y="1916280"/>
            <a:ext cx="1724040" cy="2238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780000" y="4221000"/>
            <a:ext cx="458928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液晶显示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打印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41988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针式打印机：打印针头击打色带，把色带上的墨打在纸上，形成文本或图形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喷墨打印机：通过喷头，将墨盒中的墨喷射到纸上，形成打印内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激光打印机：采用类似复印机的静电照相技术，将打印内容转变为感光鼓上以像素点为单位的点阵位图图像，再转印到打印纸上，形成打印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596268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通讯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一般通过并口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传输率较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rcRect l="0" t="0" r="0" b="47685"/>
          <a:stretch/>
        </p:blipFill>
        <p:spPr>
          <a:xfrm>
            <a:off x="3348000" y="3068640"/>
            <a:ext cx="3611520" cy="215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662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要类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针式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喷墨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激光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500280"/>
            <a:ext cx="2971800" cy="2376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4"/>
          </p:cNvPr>
          <p:cNvPicPr/>
          <p:nvPr/>
        </p:nvPicPr>
        <p:blipFill>
          <a:blip r:embed="rId5"/>
          <a:srcRect l="3754" t="5921" r="5493" b="3326"/>
          <a:stretch/>
        </p:blipFill>
        <p:spPr>
          <a:xfrm>
            <a:off x="4643280" y="148428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11280" y="3716280"/>
            <a:ext cx="3429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35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的诞生和发展历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的发展现状及未来的趋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内部（中央处理单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存储设备）的主要构成及工作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分区的概念，分区与操作系统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打印机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6484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分辨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色彩调和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打印速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打印幅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349200" y="-565200"/>
            <a:ext cx="8686800" cy="8001000"/>
            <a:chOff x="349200" y="-565200"/>
            <a:chExt cx="8686800" cy="8001000"/>
          </a:xfrm>
        </p:grpSpPr>
        <p:sp>
          <p:nvSpPr>
            <p:cNvPr id="233" name=""/>
            <p:cNvSpPr/>
            <p:nvPr/>
          </p:nvSpPr>
          <p:spPr>
            <a:xfrm>
              <a:off x="349200" y="-565200"/>
              <a:ext cx="8686800" cy="80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200" y="-565200"/>
              <a:ext cx="813744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  </a:t>
              </a:r>
              <a:r>
                <a:rPr b="0" lang="zh-CN" sz="108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_x000b__x000c_"/>
                  <a:ea typeface="宋体"/>
                </a:rPr>
                <a:t>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08000" y="-577800"/>
            <a:ext cx="6107040" cy="25200"/>
            <a:chOff x="108000" y="-577800"/>
            <a:chExt cx="6107040" cy="25200"/>
          </a:xfrm>
        </p:grpSpPr>
        <p:grpSp>
          <p:nvGrpSpPr>
            <p:cNvPr id="236" name=""/>
            <p:cNvGrpSpPr/>
            <p:nvPr/>
          </p:nvGrpSpPr>
          <p:grpSpPr>
            <a:xfrm>
              <a:off x="120600" y="-565200"/>
              <a:ext cx="6081840" cy="360"/>
              <a:chOff x="120600" y="-565200"/>
              <a:chExt cx="6081840" cy="3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120600" y="-565200"/>
                <a:ext cx="6081840" cy="360"/>
                <a:chOff x="120600" y="-565200"/>
                <a:chExt cx="6081840" cy="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0600" y="-565200"/>
                  <a:ext cx="608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120600" y="-565200"/>
                <a:ext cx="60818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08000" y="-577800"/>
              <a:ext cx="6107040" cy="25200"/>
            </a:xfrm>
            <a:prstGeom prst="rect">
              <a:avLst/>
            </a:prstGeom>
            <a:noFill/>
            <a:ln w="270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327672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显示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662472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2438280"/>
            <a:ext cx="1820880" cy="1809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2565360"/>
            <a:ext cx="1622520" cy="1657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19520" y="4915080"/>
            <a:ext cx="2590560" cy="194292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324000" y="4240080"/>
            <a:ext cx="2720160" cy="1546920"/>
            <a:chOff x="324000" y="4240080"/>
            <a:chExt cx="2720160" cy="1546920"/>
          </a:xfrm>
        </p:grpSpPr>
        <p:sp>
          <p:nvSpPr>
            <p:cNvPr id="250" name=""/>
            <p:cNvSpPr/>
            <p:nvPr/>
          </p:nvSpPr>
          <p:spPr>
            <a:xfrm>
              <a:off x="324000" y="5084640"/>
              <a:ext cx="18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处理完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66000">
              <a:off x="1186920" y="465300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96080" y="4164840"/>
            <a:ext cx="2331360" cy="1581840"/>
            <a:chOff x="4996080" y="4164840"/>
            <a:chExt cx="2331360" cy="1581840"/>
          </a:xfrm>
        </p:grpSpPr>
        <p:sp>
          <p:nvSpPr>
            <p:cNvPr id="253" name=""/>
            <p:cNvSpPr/>
            <p:nvPr/>
          </p:nvSpPr>
          <p:spPr>
            <a:xfrm>
              <a:off x="6293160" y="5226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加速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040400">
              <a:off x="5049720" y="4557240"/>
              <a:ext cx="1440000" cy="720720"/>
            </a:xfrm>
            <a:prstGeom prst="rightArrow">
              <a:avLst>
                <a:gd name="adj1" fmla="val 50000"/>
                <a:gd name="adj2" fmla="val 49950"/>
              </a:avLst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40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125000"/>
            <a:ext cx="675828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卡的主要技术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存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辨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刷新频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1628640"/>
            <a:ext cx="2536920" cy="301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46530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87240" y="27082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A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18520" y="551664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P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125360"/>
            <a:ext cx="6758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显示卡的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显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印刷电路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显示芯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其他电子元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20720" y="3502080"/>
            <a:ext cx="2895840" cy="21146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701440" y="5907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显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42160" y="5907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显示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3429000"/>
            <a:ext cx="2211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显示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125360"/>
            <a:ext cx="6758280" cy="35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di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2539800" cy="2236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3581280" cy="24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声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6247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666880" y="4724280"/>
            <a:ext cx="2667240" cy="1878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1820880" cy="1809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105520" y="2590920"/>
            <a:ext cx="228600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324000" y="4240080"/>
            <a:ext cx="2720160" cy="1546920"/>
            <a:chOff x="324000" y="4240080"/>
            <a:chExt cx="2720160" cy="1546920"/>
          </a:xfrm>
        </p:grpSpPr>
        <p:sp>
          <p:nvSpPr>
            <p:cNvPr id="281" name=""/>
            <p:cNvSpPr/>
            <p:nvPr/>
          </p:nvSpPr>
          <p:spPr>
            <a:xfrm>
              <a:off x="324000" y="5084640"/>
              <a:ext cx="18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发送指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66000">
              <a:off x="1186920" y="465300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3534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10720" y="3899880"/>
            <a:ext cx="2331000" cy="1581480"/>
            <a:chOff x="5310720" y="3899880"/>
            <a:chExt cx="2331000" cy="1581480"/>
          </a:xfrm>
        </p:grpSpPr>
        <p:sp>
          <p:nvSpPr>
            <p:cNvPr id="284" name=""/>
            <p:cNvSpPr/>
            <p:nvPr/>
          </p:nvSpPr>
          <p:spPr>
            <a:xfrm>
              <a:off x="6607440" y="49608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处理输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9040400">
              <a:off x="5364000" y="4292280"/>
              <a:ext cx="1440000" cy="720360"/>
            </a:xfrm>
            <a:prstGeom prst="rightArrow">
              <a:avLst>
                <a:gd name="adj1" fmla="val 50000"/>
                <a:gd name="adj2" fmla="val 49975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7962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2000"/>
                            </p:stCondLst>
                            <p:childTnLst>
                              <p:par>
                                <p:cTn id="8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声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572160" cy="51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声卡的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道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单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双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声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线形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成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软波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硬波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声卡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41988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产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声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3048120" cy="2697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images714458.jpg (29354 字节)"/>
          <p:cNvPicPr/>
          <p:nvPr/>
        </p:nvPicPr>
        <p:blipFill>
          <a:blip r:embed="rId3"/>
          <a:stretch/>
        </p:blipFill>
        <p:spPr>
          <a:xfrm>
            <a:off x="4859280" y="2852640"/>
            <a:ext cx="327672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微型计算机通过输入、输出端口使用输入输出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计算机的主要输入、输出设备有键盘、鼠标、显示器、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微型计算机通过接口卡实现图像和声音的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计算机输入与输出的概念和通讯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计算机输入与输出设备的使用和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计算机输入与输出设备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打印机的工作原理及使用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计算机接口卡的主要原理及主要技术指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341360"/>
            <a:ext cx="2770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3143160"/>
            <a:ext cx="2770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4583160"/>
            <a:ext cx="3763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1640" y="380880"/>
            <a:ext cx="7705800" cy="6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输入、输出设备概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19640" y="3047760"/>
            <a:ext cx="936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6308640"/>
            <a:ext cx="3763800" cy="6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1844640"/>
          <a:ext cx="7543800" cy="3362400"/>
        </p:xfrm>
        <a:graphic>
          <a:graphicData uri="http://schemas.openxmlformats.org/drawingml/2006/table">
            <a:tbl>
              <a:tblPr/>
              <a:tblGrid>
                <a:gridCol w="1828800"/>
                <a:gridCol w="3124440"/>
                <a:gridCol w="259056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输入输出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主要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早期计算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标准混乱，效率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浪费资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现代计算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99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具有统一的标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用方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24000" y="2924280"/>
            <a:ext cx="7632720" cy="107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7632720" cy="1071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输入输出设备的种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输入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鼠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扫描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码相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摄像头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输出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音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57758" b="0"/>
          <a:stretch/>
        </p:blipFill>
        <p:spPr>
          <a:xfrm>
            <a:off x="3059280" y="270828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1628640"/>
            <a:ext cx="2171520" cy="1155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27640" y="1557360"/>
            <a:ext cx="1198800" cy="1328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4941720"/>
            <a:ext cx="1128960" cy="1152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00720" y="4941720"/>
            <a:ext cx="1835280" cy="11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1"/>
          <a:stretch/>
        </p:blipFill>
        <p:spPr>
          <a:xfrm>
            <a:off x="5003640" y="2997360"/>
            <a:ext cx="1440000" cy="1285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2"/>
          <a:stretch/>
        </p:blipFill>
        <p:spPr>
          <a:xfrm>
            <a:off x="6516720" y="2924280"/>
            <a:ext cx="871560" cy="151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3"/>
          <a:srcRect l="0" t="0" r="42607" b="0"/>
          <a:stretch/>
        </p:blipFill>
        <p:spPr>
          <a:xfrm>
            <a:off x="4427640" y="5013360"/>
            <a:ext cx="1904760" cy="10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输入输出设备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通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总线：共用的连接线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连接对象分类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部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部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功能分类：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址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控制总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断：处理突发事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硬件中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外部中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内部中断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软件中断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459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计算机输入输出设备与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通讯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137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串行通讯与并行通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步方式与异步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异步方式：用一个起止位传送一个字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步方式：用一个同步字传送多个字符（数据块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60360" y="2060640"/>
            <a:ext cx="12240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6960" y="1901880"/>
            <a:ext cx="1224000" cy="1297080"/>
            <a:chOff x="5106960" y="1901880"/>
            <a:chExt cx="1224000" cy="1297080"/>
          </a:xfrm>
        </p:grpSpPr>
        <p:sp>
          <p:nvSpPr>
            <p:cNvPr id="132" name=""/>
            <p:cNvSpPr/>
            <p:nvPr/>
          </p:nvSpPr>
          <p:spPr>
            <a:xfrm>
              <a:off x="5106960" y="1901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6960" y="2117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6960" y="2333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06960" y="254988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6960" y="276732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6960" y="298296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6960" y="3198960"/>
              <a:ext cx="122400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2360" y="19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发送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3080" y="19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收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24360" y="2278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发送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2780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接收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2276640"/>
            <a:ext cx="18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一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（串行通讯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335772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一次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（并行通讯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050920" y="5013360"/>
            <a:ext cx="4680000" cy="934560"/>
            <a:chOff x="2050920" y="5013360"/>
            <a:chExt cx="4680000" cy="934560"/>
          </a:xfrm>
        </p:grpSpPr>
        <p:sp>
          <p:nvSpPr>
            <p:cNvPr id="146" name=""/>
            <p:cNvSpPr/>
            <p:nvPr/>
          </p:nvSpPr>
          <p:spPr>
            <a:xfrm>
              <a:off x="2124000" y="5013360"/>
              <a:ext cx="4535640" cy="433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起始位          数据位          校验位   停止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7640" y="5013360"/>
              <a:ext cx="1800" cy="39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76720" y="5013360"/>
              <a:ext cx="1800" cy="3967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67280" y="5013360"/>
              <a:ext cx="0" cy="3967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0920" y="5518080"/>
              <a:ext cx="468000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-8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-2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位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3429000"/>
            <a:ext cx="3352680" cy="1482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计算机的通讯端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2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串行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13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行接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并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S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2617560" cy="2248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067280" y="1628640"/>
            <a:ext cx="4114800" cy="2484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4427640" y="1989000"/>
            <a:ext cx="318276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rcRect l="7115" t="0" r="22213" b="22965"/>
          <a:stretch/>
        </p:blipFill>
        <p:spPr>
          <a:xfrm>
            <a:off x="3851280" y="2349360"/>
            <a:ext cx="4267080" cy="345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键盘与鼠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1920" y="2352600"/>
            <a:ext cx="2361960" cy="1251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92360" y="4365720"/>
            <a:ext cx="1535400" cy="152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227640" y="2205000"/>
            <a:ext cx="162252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706760" y="3447720"/>
            <a:ext cx="1913760" cy="1654200"/>
            <a:chOff x="1706760" y="3447720"/>
            <a:chExt cx="1913760" cy="1654200"/>
          </a:xfrm>
        </p:grpSpPr>
        <p:sp>
          <p:nvSpPr>
            <p:cNvPr id="168" name=""/>
            <p:cNvSpPr/>
            <p:nvPr/>
          </p:nvSpPr>
          <p:spPr>
            <a:xfrm>
              <a:off x="1909080" y="45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输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866000">
              <a:off x="1763280" y="3860640"/>
              <a:ext cx="1800360" cy="720720"/>
            </a:xfrm>
            <a:prstGeom prst="rightArrow">
              <a:avLst>
                <a:gd name="adj1" fmla="val 50000"/>
                <a:gd name="adj2" fmla="val 62450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3534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946760" y="3596040"/>
            <a:ext cx="1986120" cy="1648800"/>
            <a:chOff x="4946760" y="3596040"/>
            <a:chExt cx="1986120" cy="1648800"/>
          </a:xfrm>
        </p:grpSpPr>
        <p:sp>
          <p:nvSpPr>
            <p:cNvPr id="171" name=""/>
            <p:cNvSpPr/>
            <p:nvPr/>
          </p:nvSpPr>
          <p:spPr>
            <a:xfrm>
              <a:off x="6012720" y="4724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反馈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9855200">
              <a:off x="5003640" y="4005360"/>
              <a:ext cx="1872000" cy="720360"/>
            </a:xfrm>
            <a:prstGeom prst="rightArrow">
              <a:avLst>
                <a:gd name="adj1" fmla="val 50000"/>
                <a:gd name="adj2" fmla="val 64968"/>
              </a:avLst>
            </a:prstGeom>
            <a:gradFill rotWithShape="0">
              <a:gsLst>
                <a:gs pos="0">
                  <a:srgbClr val="755f00"/>
                </a:gs>
                <a:gs pos="50000">
                  <a:srgbClr val="ffcf01"/>
                </a:gs>
                <a:gs pos="100000">
                  <a:srgbClr val="755f00"/>
                </a:gs>
              </a:gsLst>
              <a:lin ang="7146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2:26Z</dcterms:modified>
  <cp:revision>414</cp:revision>
  <dc:subject/>
  <dc:title>Understanding Basic HTML</dc:title>
</cp:coreProperties>
</file>