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5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5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1.wmf" ContentType="image/x-wmf"/>
  <Override PartName="/ppt/media/image50.png" ContentType="image/png"/>
  <Override PartName="/ppt/media/image29.jpeg" ContentType="image/jpeg"/>
  <Override PartName="/ppt/media/image10.jpeg" ContentType="image/jpeg"/>
  <Override PartName="/ppt/media/image41.png" ContentType="image/png"/>
  <Override PartName="/ppt/media/image45.png" ContentType="image/png"/>
  <Override PartName="/ppt/media/image33.jpeg" ContentType="image/jpeg"/>
  <Override PartName="/ppt/media/image46.png" ContentType="image/png"/>
  <Override PartName="/ppt/media/image48.png" ContentType="image/png"/>
  <Override PartName="/ppt/media/image37.jpeg" ContentType="image/jpeg"/>
  <Override PartName="/ppt/media/image12.jpeg" ContentType="image/jpeg"/>
  <Override PartName="/ppt/media/image13.png" ContentType="image/png"/>
  <Override PartName="/ppt/media/image49.png" ContentType="image/png"/>
  <Override PartName="/ppt/media/image51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0.wmf" ContentType="image/x-wmf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4.png" ContentType="image/png"/>
  <Override PartName="/ppt/media/image56.png" ContentType="image/png"/>
  <Override PartName="/ppt/media/image36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572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4840" y="15238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762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572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4840" y="395208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32000" y="380520"/>
            <a:ext cx="781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3800" y="39520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800" y="152388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76240" y="395208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7391520" cy="609480"/>
          </a:xfrm>
          <a:prstGeom prst="rect">
            <a:avLst/>
          </a:prstGeom>
          <a:gradFill rotWithShape="0">
            <a:gsLst>
              <a:gs pos="0">
                <a:srgbClr val="8194e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spcBef>
                <a:spcPts val="700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76480" indent="-228600">
              <a:spcBef>
                <a:spcPts val="700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7648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2580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FD07-E01C-4DD9-807C-BB4E2AC4595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391520" y="5829480"/>
            <a:ext cx="175248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1520" y="12600"/>
            <a:ext cx="1752480" cy="684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67480" y="5873760"/>
            <a:ext cx="1676520" cy="984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200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0" y="6324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Version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32448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E7C5-76D7-446B-9CA2-E6AFCB699CF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/Slide num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5794200"/>
            <a:ext cx="10666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320" y="304920"/>
            <a:ext cx="2286000" cy="86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95400" algn="ctr">
              <a:spcBef>
                <a:spcPts val="499"/>
              </a:spcBef>
              <a:buClr>
                <a:srgbClr val="00ff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99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9080" algn="ctr">
              <a:spcBef>
                <a:spcPts val="349"/>
              </a:spcBef>
              <a:buClr>
                <a:srgbClr val="0099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908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以太网交换机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14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七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交换体系结构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享内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03280" y="2139840"/>
            <a:ext cx="5761080" cy="424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交换体系结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共享总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6551640" cy="30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交换体系结构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叉点阵列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矩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5905440" cy="40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700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yst 2950-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/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42920" y="2428920"/>
            <a:ext cx="6193080" cy="30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08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yst 2950-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/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6480360" cy="31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7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yst 2950T-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/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条固定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BASE-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行链路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2920" y="2581200"/>
            <a:ext cx="612144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50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yst 2950-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换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/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2637000"/>
            <a:ext cx="6121440" cy="30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供出色的网络可用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安全功能加强网络安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68360" y="2491920"/>
            <a:ext cx="6857640" cy="3311640"/>
            <a:chOff x="468360" y="2491920"/>
            <a:chExt cx="6857640" cy="331164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841760" y="3089520"/>
              <a:ext cx="4139280" cy="220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1961280" y="5359680"/>
              <a:ext cx="1576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3513960" y="2491920"/>
              <a:ext cx="1082520" cy="33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 flipH="1" rot="10800000">
              <a:off x="1364040" y="2611440"/>
              <a:ext cx="143928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5902920" y="3388320"/>
              <a:ext cx="13932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6"/>
            <a:stretch/>
          </p:blipFill>
          <p:spPr>
            <a:xfrm>
              <a:off x="528120" y="4702680"/>
              <a:ext cx="1379520" cy="45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7"/>
            <a:stretch/>
          </p:blipFill>
          <p:spPr>
            <a:xfrm>
              <a:off x="3812760" y="5419440"/>
              <a:ext cx="150516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"/>
            <a:stretch/>
          </p:blipFill>
          <p:spPr>
            <a:xfrm>
              <a:off x="5604480" y="5180400"/>
              <a:ext cx="119916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5126400" y="2671200"/>
              <a:ext cx="13932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0"/>
            <a:stretch/>
          </p:blipFill>
          <p:spPr>
            <a:xfrm>
              <a:off x="6090840" y="4344120"/>
              <a:ext cx="1235160" cy="3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1"/>
            <a:stretch/>
          </p:blipFill>
          <p:spPr>
            <a:xfrm>
              <a:off x="468360" y="3686760"/>
              <a:ext cx="142308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isco Catalyst 2950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产品介绍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交换机的第二层服务质量功能进行网络控制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可用性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11280" y="2924280"/>
            <a:ext cx="8089560" cy="2852280"/>
            <a:chOff x="611280" y="2924280"/>
            <a:chExt cx="8089560" cy="28522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611280" y="2958840"/>
              <a:ext cx="2451600" cy="28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"/>
            <a:stretch/>
          </p:blipFill>
          <p:spPr>
            <a:xfrm>
              <a:off x="1602000" y="2924280"/>
              <a:ext cx="7098840" cy="24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访问方法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26160" cy="161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回顾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以太网发展过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几种主要的以太网标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帧结构及命名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的连接及传输技术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以太网的全双工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的流控概念及自动配置机制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启动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129440" cy="46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的启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11280" y="1077840"/>
            <a:ext cx="7135560" cy="46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2000" y="62028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enable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命令进入特权执行模式</a:t>
            </a:r>
            <a:br>
              <a:rPr sz="3200"/>
            </a:b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f01"/>
                </a:solidFill>
                <a:latin typeface="Arial"/>
              </a:rPr>
              <a:t>conf t</a:t>
            </a:r>
            <a:r>
              <a:rPr b="1" lang="zh-CN" sz="3200" spc="-1" strike="noStrike">
                <a:solidFill>
                  <a:srgbClr val="ffcf01"/>
                </a:solidFill>
                <a:latin typeface="Arial"/>
              </a:rPr>
              <a:t>命令进入配置模式 </a:t>
            </a:r>
            <a:endParaRPr b="1" lang="en-US" sz="32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0800" y="1278000"/>
            <a:ext cx="7207200" cy="474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命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1895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密码保护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9040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设置管理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I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 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1899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缺省网关及域名服务器地址的设置 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1899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版本信息的查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264360" cy="53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清单的查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408720" cy="470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出厂默认的恢复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se startup-confi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33577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0000"/>
          </a:solidFill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357720"/>
            <a:ext cx="2808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rase startup-conf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3357720"/>
            <a:ext cx="11527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33577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0000"/>
          </a:solidFill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3357720"/>
            <a:ext cx="936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lo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目标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以太网交换机技术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具体型号的交换机特性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co Catalyst 29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交换机的基本操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交换机的基本维护方法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配置端口描述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049800" cy="22921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6048360" cy="24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端口双工模式的配置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391520" cy="24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表超时时间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391520" cy="361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查看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MAC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地址表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6294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使用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CDP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协议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093080" cy="245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7058160" cy="24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密码恢复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647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58920" y="1413000"/>
            <a:ext cx="2736720" cy="668160"/>
            <a:chOff x="1258920" y="1413000"/>
            <a:chExt cx="2736720" cy="668160"/>
          </a:xfrm>
        </p:grpSpPr>
        <p:sp>
          <p:nvSpPr>
            <p:cNvPr id="250" name=""/>
            <p:cNvSpPr/>
            <p:nvPr/>
          </p:nvSpPr>
          <p:spPr>
            <a:xfrm>
              <a:off x="1258920" y="170028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9640" y="1413000"/>
              <a:ext cx="201600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按住交换机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E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同时开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140360" y="1557360"/>
            <a:ext cx="2374920" cy="613080"/>
            <a:chOff x="4140360" y="1557360"/>
            <a:chExt cx="2374920" cy="613080"/>
          </a:xfrm>
        </p:grpSpPr>
        <p:sp>
          <p:nvSpPr>
            <p:cNvPr id="253" name=""/>
            <p:cNvSpPr/>
            <p:nvPr/>
          </p:nvSpPr>
          <p:spPr>
            <a:xfrm>
              <a:off x="4140360" y="170028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1557360"/>
              <a:ext cx="151164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松开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E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键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27640" y="2276640"/>
            <a:ext cx="2917440" cy="761760"/>
            <a:chOff x="4427640" y="2276640"/>
            <a:chExt cx="2917440" cy="761760"/>
          </a:xfrm>
        </p:grpSpPr>
        <p:sp>
          <p:nvSpPr>
            <p:cNvPr id="256" name=""/>
            <p:cNvSpPr/>
            <p:nvPr/>
          </p:nvSpPr>
          <p:spPr>
            <a:xfrm rot="10800000">
              <a:off x="6659280" y="227664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4850" y="4275"/>
                  </a:lnTo>
                  <a:lnTo>
                    <a:pt x="14850" y="0"/>
                  </a:lnTo>
                  <a:lnTo>
                    <a:pt x="21600" y="6079"/>
                  </a:lnTo>
                  <a:lnTo>
                    <a:pt x="14850" y="12158"/>
                  </a:lnTo>
                  <a:lnTo>
                    <a:pt x="14850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27640" y="2636280"/>
              <a:ext cx="21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执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ash_init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命令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68360" y="2491920"/>
            <a:ext cx="3920760" cy="642600"/>
            <a:chOff x="468360" y="2491920"/>
            <a:chExt cx="3920760" cy="642600"/>
          </a:xfrm>
        </p:grpSpPr>
        <p:sp>
          <p:nvSpPr>
            <p:cNvPr id="259" name=""/>
            <p:cNvSpPr/>
            <p:nvPr/>
          </p:nvSpPr>
          <p:spPr>
            <a:xfrm rot="10800000">
              <a:off x="3779640" y="263700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8360" y="2491920"/>
              <a:ext cx="31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ash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里的 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text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件改名为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old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件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94560" y="3357720"/>
            <a:ext cx="2593080" cy="857880"/>
            <a:chOff x="394560" y="3357720"/>
            <a:chExt cx="2593080" cy="857880"/>
          </a:xfrm>
        </p:grpSpPr>
        <p:sp>
          <p:nvSpPr>
            <p:cNvPr id="262" name=""/>
            <p:cNvSpPr/>
            <p:nvPr/>
          </p:nvSpPr>
          <p:spPr>
            <a:xfrm flipH="1" rot="10800000">
              <a:off x="394200" y="3357720"/>
              <a:ext cx="754200" cy="761760"/>
            </a:xfrm>
            <a:custGeom>
              <a:avLst/>
              <a:gdLst>
                <a:gd name="textAreaLeft" fmla="*/ -360 w 754200"/>
                <a:gd name="textAreaRight" fmla="*/ 754200 w 7542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4850" y="4275"/>
                  </a:lnTo>
                  <a:lnTo>
                    <a:pt x="14850" y="0"/>
                  </a:lnTo>
                  <a:lnTo>
                    <a:pt x="21600" y="6079"/>
                  </a:lnTo>
                  <a:lnTo>
                    <a:pt x="14850" y="12158"/>
                  </a:lnTo>
                  <a:lnTo>
                    <a:pt x="14850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357300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执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t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命令启动交换机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203640" y="3573000"/>
            <a:ext cx="3814560" cy="642600"/>
            <a:chOff x="3203640" y="3573000"/>
            <a:chExt cx="3814560" cy="642600"/>
          </a:xfrm>
        </p:grpSpPr>
        <p:sp>
          <p:nvSpPr>
            <p:cNvPr id="265" name=""/>
            <p:cNvSpPr/>
            <p:nvPr/>
          </p:nvSpPr>
          <p:spPr>
            <a:xfrm>
              <a:off x="3203640" y="371628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51280" y="3573000"/>
              <a:ext cx="31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flash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里的 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old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件改回为 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text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文件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851280" y="4365720"/>
            <a:ext cx="3493800" cy="857880"/>
            <a:chOff x="3851280" y="4365720"/>
            <a:chExt cx="3493800" cy="857880"/>
          </a:xfrm>
        </p:grpSpPr>
        <p:sp>
          <p:nvSpPr>
            <p:cNvPr id="268" name=""/>
            <p:cNvSpPr/>
            <p:nvPr/>
          </p:nvSpPr>
          <p:spPr>
            <a:xfrm>
              <a:off x="3851280" y="4581000"/>
              <a:ext cx="28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nfig.text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考入系统的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unning-config”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659280" y="4365720"/>
              <a:ext cx="685800" cy="761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4850" y="4275"/>
                  </a:lnTo>
                  <a:lnTo>
                    <a:pt x="14850" y="0"/>
                  </a:lnTo>
                  <a:lnTo>
                    <a:pt x="21600" y="6079"/>
                  </a:lnTo>
                  <a:lnTo>
                    <a:pt x="14850" y="12158"/>
                  </a:lnTo>
                  <a:lnTo>
                    <a:pt x="14850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39640" y="4652280"/>
            <a:ext cx="3057120" cy="642600"/>
            <a:chOff x="539640" y="4652280"/>
            <a:chExt cx="3057120" cy="642600"/>
          </a:xfrm>
        </p:grpSpPr>
        <p:sp>
          <p:nvSpPr>
            <p:cNvPr id="271" name=""/>
            <p:cNvSpPr/>
            <p:nvPr/>
          </p:nvSpPr>
          <p:spPr>
            <a:xfrm rot="10800000">
              <a:off x="2987280" y="4723920"/>
              <a:ext cx="609480" cy="381240"/>
            </a:xfrm>
            <a:prstGeom prst="rightArrow">
              <a:avLst>
                <a:gd name="adj1" fmla="val 50000"/>
                <a:gd name="adj2" fmla="val 39967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640" y="465228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加入配置模式重新设置密码并存盘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本章总结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了以太网交换机的内部交换技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了具体型号的交换机特性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sco Catalyst 29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了对交换机的基本配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会了对交换机的基本维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195640" y="1268280"/>
          <a:ext cx="408456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268280"/>
                    <a:ext cx="40845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实验完成标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效的访问控制交换机设备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简单配置交换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查看交换机的各种参数及状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察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协议状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进行交换机密码的恢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课程重点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基本操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换机的基本维护方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-LAN</a:t>
            </a: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的主要组成部分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47640" y="1628640"/>
            <a:ext cx="5562360" cy="3276720"/>
            <a:chOff x="1547640" y="1628640"/>
            <a:chExt cx="5562360" cy="327672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903680" y="1628640"/>
              <a:ext cx="4499280" cy="327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1547640" y="3258000"/>
              <a:ext cx="1618560" cy="1058040"/>
              <a:chOff x="1547640" y="3258000"/>
              <a:chExt cx="1618560" cy="1058040"/>
            </a:xfrm>
          </p:grpSpPr>
          <p:pic>
            <p:nvPicPr>
              <p:cNvPr id="1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3258000"/>
                <a:ext cx="1618560" cy="10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90280" y="3363840"/>
                <a:ext cx="939600" cy="84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2" name=""/>
            <p:cNvGrpSpPr/>
            <p:nvPr/>
          </p:nvGrpSpPr>
          <p:grpSpPr>
            <a:xfrm>
              <a:off x="5793840" y="1669320"/>
              <a:ext cx="1267920" cy="810000"/>
              <a:chOff x="5793840" y="1669320"/>
              <a:chExt cx="1267920" cy="8100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5956560" y="1857960"/>
                <a:ext cx="662040" cy="486000"/>
                <a:chOff x="5956560" y="1857960"/>
                <a:chExt cx="662040" cy="48600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956560" y="1857960"/>
                  <a:ext cx="662040" cy="48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454800" y="2084040"/>
                  <a:ext cx="127800" cy="90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6" name=""/>
              <p:cNvSpPr/>
              <p:nvPr/>
            </p:nvSpPr>
            <p:spPr>
              <a:xfrm>
                <a:off x="5793840" y="1669320"/>
                <a:ext cx="126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918040" y="2319840"/>
                <a:ext cx="259920" cy="159480"/>
              </a:xfrm>
              <a:prstGeom prst="line">
                <a:avLst/>
              </a:prstGeom>
              <a:ln w="1908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839560" y="2521080"/>
              <a:ext cx="1270440" cy="843480"/>
              <a:chOff x="5839560" y="2521080"/>
              <a:chExt cx="1270440" cy="843480"/>
            </a:xfrm>
          </p:grpSpPr>
          <p:pic>
            <p:nvPicPr>
              <p:cNvPr id="1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24840" y="2521080"/>
                <a:ext cx="70200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5839560" y="3060360"/>
                <a:ext cx="127044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63400" y="2608200"/>
                <a:ext cx="309240" cy="110880"/>
              </a:xfrm>
              <a:prstGeom prst="line">
                <a:avLst/>
              </a:prstGeom>
              <a:ln w="1908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flipH="1" flipV="1" rot="6932400">
              <a:off x="3598560" y="2473560"/>
              <a:ext cx="1066320" cy="1078920"/>
            </a:xfrm>
            <a:custGeom>
              <a:avLst/>
              <a:gdLst/>
              <a:ahLst/>
              <a:rect l="l" t="t" r="r" b="b"/>
              <a:pathLst>
                <a:path w="747" h="269">
                  <a:moveTo>
                    <a:pt x="0" y="0"/>
                  </a:moveTo>
                  <a:lnTo>
                    <a:pt x="120" y="0"/>
                  </a:lnTo>
                  <a:lnTo>
                    <a:pt x="100" y="28"/>
                  </a:lnTo>
                  <a:lnTo>
                    <a:pt x="120" y="56"/>
                  </a:lnTo>
                  <a:lnTo>
                    <a:pt x="140" y="76"/>
                  </a:lnTo>
                  <a:lnTo>
                    <a:pt x="152" y="88"/>
                  </a:lnTo>
                  <a:lnTo>
                    <a:pt x="170" y="99"/>
                  </a:lnTo>
                  <a:lnTo>
                    <a:pt x="196" y="112"/>
                  </a:lnTo>
                  <a:lnTo>
                    <a:pt x="224" y="126"/>
                  </a:lnTo>
                  <a:lnTo>
                    <a:pt x="253" y="138"/>
                  </a:lnTo>
                  <a:lnTo>
                    <a:pt x="281" y="148"/>
                  </a:lnTo>
                  <a:lnTo>
                    <a:pt x="311" y="159"/>
                  </a:lnTo>
                  <a:lnTo>
                    <a:pt x="338" y="168"/>
                  </a:lnTo>
                  <a:lnTo>
                    <a:pt x="367" y="177"/>
                  </a:lnTo>
                  <a:lnTo>
                    <a:pt x="389" y="184"/>
                  </a:lnTo>
                  <a:lnTo>
                    <a:pt x="413" y="192"/>
                  </a:lnTo>
                  <a:lnTo>
                    <a:pt x="445" y="201"/>
                  </a:lnTo>
                  <a:lnTo>
                    <a:pt x="478" y="210"/>
                  </a:lnTo>
                  <a:lnTo>
                    <a:pt x="502" y="217"/>
                  </a:lnTo>
                  <a:lnTo>
                    <a:pt x="528" y="223"/>
                  </a:lnTo>
                  <a:lnTo>
                    <a:pt x="556" y="231"/>
                  </a:lnTo>
                  <a:lnTo>
                    <a:pt x="585" y="240"/>
                  </a:lnTo>
                  <a:lnTo>
                    <a:pt x="619" y="246"/>
                  </a:lnTo>
                  <a:lnTo>
                    <a:pt x="645" y="254"/>
                  </a:lnTo>
                  <a:lnTo>
                    <a:pt x="675" y="259"/>
                  </a:lnTo>
                  <a:lnTo>
                    <a:pt x="700" y="261"/>
                  </a:lnTo>
                  <a:lnTo>
                    <a:pt x="721" y="265"/>
                  </a:lnTo>
                  <a:lnTo>
                    <a:pt x="747" y="265"/>
                  </a:lnTo>
                  <a:lnTo>
                    <a:pt x="727" y="267"/>
                  </a:lnTo>
                  <a:lnTo>
                    <a:pt x="704" y="269"/>
                  </a:lnTo>
                  <a:lnTo>
                    <a:pt x="677" y="269"/>
                  </a:lnTo>
                  <a:lnTo>
                    <a:pt x="648" y="267"/>
                  </a:lnTo>
                  <a:lnTo>
                    <a:pt x="616" y="265"/>
                  </a:lnTo>
                  <a:lnTo>
                    <a:pt x="583" y="265"/>
                  </a:lnTo>
                  <a:lnTo>
                    <a:pt x="553" y="263"/>
                  </a:lnTo>
                  <a:lnTo>
                    <a:pt x="524" y="261"/>
                  </a:lnTo>
                  <a:lnTo>
                    <a:pt x="493" y="259"/>
                  </a:lnTo>
                  <a:lnTo>
                    <a:pt x="464" y="256"/>
                  </a:lnTo>
                  <a:lnTo>
                    <a:pt x="436" y="253"/>
                  </a:lnTo>
                  <a:lnTo>
                    <a:pt x="404" y="250"/>
                  </a:lnTo>
                  <a:lnTo>
                    <a:pt x="374" y="246"/>
                  </a:lnTo>
                  <a:lnTo>
                    <a:pt x="344" y="242"/>
                  </a:lnTo>
                  <a:lnTo>
                    <a:pt x="314" y="237"/>
                  </a:lnTo>
                  <a:lnTo>
                    <a:pt x="284" y="231"/>
                  </a:lnTo>
                  <a:lnTo>
                    <a:pt x="259" y="225"/>
                  </a:lnTo>
                  <a:lnTo>
                    <a:pt x="232" y="220"/>
                  </a:lnTo>
                  <a:lnTo>
                    <a:pt x="206" y="212"/>
                  </a:lnTo>
                  <a:lnTo>
                    <a:pt x="179" y="205"/>
                  </a:lnTo>
                  <a:lnTo>
                    <a:pt x="152" y="195"/>
                  </a:lnTo>
                  <a:lnTo>
                    <a:pt x="126" y="182"/>
                  </a:lnTo>
                  <a:lnTo>
                    <a:pt x="103" y="166"/>
                  </a:lnTo>
                  <a:lnTo>
                    <a:pt x="85" y="154"/>
                  </a:lnTo>
                  <a:lnTo>
                    <a:pt x="67" y="136"/>
                  </a:lnTo>
                  <a:lnTo>
                    <a:pt x="52" y="120"/>
                  </a:lnTo>
                  <a:lnTo>
                    <a:pt x="32" y="100"/>
                  </a:lnTo>
                  <a:lnTo>
                    <a:pt x="4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1562040" y="2280600"/>
              <a:ext cx="905400" cy="9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2358000" y="2231280"/>
              <a:ext cx="1013760" cy="81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局域网交换机协议流程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68360" y="907920"/>
          <a:ext cx="4524480" cy="589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907920"/>
                    <a:ext cx="452448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内部交换方式 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5880" y="1523880"/>
            <a:ext cx="6288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储转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3563640" y="263700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4850" y="4275"/>
                </a:lnTo>
                <a:lnTo>
                  <a:pt x="14850" y="0"/>
                </a:lnTo>
                <a:lnTo>
                  <a:pt x="21600" y="6079"/>
                </a:lnTo>
                <a:lnTo>
                  <a:pt x="14850" y="12158"/>
                </a:lnTo>
                <a:lnTo>
                  <a:pt x="14850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3672000" y="4686840"/>
            <a:ext cx="687600" cy="762120"/>
          </a:xfrm>
          <a:custGeom>
            <a:avLst/>
            <a:gdLst>
              <a:gd name="textAreaLeft" fmla="*/ 0 w 687600"/>
              <a:gd name="textAreaRight" fmla="*/ 687600 w 687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4850" y="4275"/>
                </a:lnTo>
                <a:lnTo>
                  <a:pt x="14850" y="0"/>
                </a:lnTo>
                <a:lnTo>
                  <a:pt x="21600" y="6079"/>
                </a:lnTo>
                <a:lnTo>
                  <a:pt x="14850" y="12158"/>
                </a:lnTo>
                <a:lnTo>
                  <a:pt x="14850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76520" y="1916280"/>
            <a:ext cx="4227480" cy="4419360"/>
            <a:chOff x="2576520" y="1916280"/>
            <a:chExt cx="4227480" cy="441936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4716360" y="2421000"/>
              <a:ext cx="18108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4067280" y="1916280"/>
              <a:ext cx="144144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379760" y="3571920"/>
              <a:ext cx="797040" cy="85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6520" y="3495600"/>
              <a:ext cx="4227480" cy="1013040"/>
            </a:xfrm>
            <a:prstGeom prst="rect">
              <a:avLst/>
            </a:prstGeom>
            <a:gradFill rotWithShape="0">
              <a:gsLst>
                <a:gs pos="0">
                  <a:srgbClr val="214386"/>
                </a:gs>
                <a:gs pos="50000">
                  <a:srgbClr val="3366cc"/>
                </a:gs>
                <a:gs pos="100000">
                  <a:srgbClr val="214386"/>
                </a:gs>
              </a:gsLst>
              <a:lin ang="135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2871720" y="3817800"/>
              <a:ext cx="155412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2673360" y="3632040"/>
              <a:ext cx="892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861280" y="3986280"/>
              <a:ext cx="439920" cy="28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缓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 Narrow"/>
                  <a:ea typeface="宋体"/>
                </a:rPr>
                <a:t>存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0240" y="3871800"/>
              <a:ext cx="5313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交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换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5"/>
            <a:stretch/>
          </p:blipFill>
          <p:spPr>
            <a:xfrm>
              <a:off x="4211640" y="3357720"/>
              <a:ext cx="12700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6"/>
            <a:stretch/>
          </p:blipFill>
          <p:spPr>
            <a:xfrm>
              <a:off x="4067280" y="5373720"/>
              <a:ext cx="1361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480560" y="213336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发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80560" y="566064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接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51640" y="3789000"/>
              <a:ext cx="79200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CS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校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内部交换方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速转发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067280" y="1916280"/>
            <a:ext cx="1441440" cy="4419360"/>
            <a:chOff x="4067280" y="1916280"/>
            <a:chExt cx="1441440" cy="44193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716360" y="2421000"/>
              <a:ext cx="18108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067280" y="1916280"/>
              <a:ext cx="144144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379760" y="3571920"/>
              <a:ext cx="797040" cy="85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30240" y="3871800"/>
              <a:ext cx="5313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交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换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4211640" y="3357720"/>
              <a:ext cx="12700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4067280" y="5373720"/>
              <a:ext cx="1361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480560" y="213336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发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80560" y="566064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接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882880" y="3068640"/>
            <a:ext cx="1062000" cy="2089080"/>
            <a:chOff x="2882880" y="3068640"/>
            <a:chExt cx="1062000" cy="2089080"/>
          </a:xfrm>
        </p:grpSpPr>
        <p:sp>
          <p:nvSpPr>
            <p:cNvPr id="150" name=""/>
            <p:cNvSpPr/>
            <p:nvPr/>
          </p:nvSpPr>
          <p:spPr>
            <a:xfrm rot="5400000">
              <a:off x="2817720" y="4030560"/>
              <a:ext cx="2089080" cy="164880"/>
            </a:xfrm>
            <a:prstGeom prst="rightArrow">
              <a:avLst>
                <a:gd name="adj1" fmla="val 50000"/>
                <a:gd name="adj2" fmla="val 316758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880" y="3789000"/>
              <a:ext cx="71424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直接发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2000" y="380520"/>
            <a:ext cx="7812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f01"/>
                </a:solidFill>
                <a:latin typeface="Arial"/>
              </a:rPr>
              <a:t>交换机内部交换方式</a:t>
            </a:r>
            <a:r>
              <a:rPr b="1" lang="en-US" sz="3600" spc="-1" strike="noStrike">
                <a:solidFill>
                  <a:srgbClr val="ffcf01"/>
                </a:solidFill>
                <a:latin typeface="Arial"/>
              </a:rPr>
              <a:t>(Cont.)</a:t>
            </a:r>
            <a:endParaRPr b="1" lang="en-US" sz="3600" spc="-1" strike="noStrike">
              <a:solidFill>
                <a:srgbClr val="ffcf0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段过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gment Fre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843280" y="2133720"/>
            <a:ext cx="2520720" cy="4419360"/>
            <a:chOff x="2843280" y="2133720"/>
            <a:chExt cx="2520720" cy="4419360"/>
          </a:xfrm>
        </p:grpSpPr>
        <p:sp>
          <p:nvSpPr>
            <p:cNvPr id="155" name=""/>
            <p:cNvSpPr/>
            <p:nvPr/>
          </p:nvSpPr>
          <p:spPr>
            <a:xfrm>
              <a:off x="2843280" y="3645000"/>
              <a:ext cx="2520720" cy="1038240"/>
            </a:xfrm>
            <a:prstGeom prst="rect">
              <a:avLst/>
            </a:prstGeom>
            <a:gradFill rotWithShape="0">
              <a:gsLst>
                <a:gs pos="0">
                  <a:srgbClr val="214386"/>
                </a:gs>
                <a:gs pos="50000">
                  <a:srgbClr val="3366cc"/>
                </a:gs>
                <a:gs pos="100000">
                  <a:srgbClr val="214386"/>
                </a:gs>
              </a:gsLst>
              <a:lin ang="135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4429080" y="2638440"/>
              <a:ext cx="181080" cy="31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3780000" y="2133720"/>
              <a:ext cx="144144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092480" y="3789360"/>
              <a:ext cx="797040" cy="85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42960" y="4089240"/>
              <a:ext cx="5313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交</a:t>
              </a:r>
              <a:r>
                <a:rPr b="1" lang="zh-CN" sz="1600" spc="-1" strike="noStrike">
                  <a:solidFill>
                    <a:srgbClr val="000000"/>
                  </a:solidFill>
                  <a:latin typeface="Arial Narrow"/>
                  <a:ea typeface="宋体"/>
                </a:rPr>
                <a:t>换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3924360" y="3575160"/>
              <a:ext cx="12700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3780000" y="5591160"/>
              <a:ext cx="1361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4193280" y="235080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发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93280" y="5878080"/>
              <a:ext cx="43992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接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59280" y="4033440"/>
              <a:ext cx="792000" cy="30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冲突检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423080" y="3141720"/>
            <a:ext cx="1153440" cy="2233080"/>
            <a:chOff x="1423080" y="3141720"/>
            <a:chExt cx="1153440" cy="2233080"/>
          </a:xfrm>
        </p:grpSpPr>
        <p:sp>
          <p:nvSpPr>
            <p:cNvPr id="166" name=""/>
            <p:cNvSpPr/>
            <p:nvPr/>
          </p:nvSpPr>
          <p:spPr>
            <a:xfrm rot="5400000">
              <a:off x="1377360" y="4175640"/>
              <a:ext cx="2233080" cy="164880"/>
            </a:xfrm>
            <a:prstGeom prst="rightArrow">
              <a:avLst>
                <a:gd name="adj1" fmla="val 50000"/>
                <a:gd name="adj2" fmla="val 338592"/>
              </a:avLst>
            </a:prstGeom>
            <a:solidFill>
              <a:srgbClr val="ff0000"/>
            </a:solidFill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3080" y="3812400"/>
              <a:ext cx="89388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收到</a:t>
              </a: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64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节后</a:t>
              </a:r>
              <a:r>
                <a:rPr b="1" lang="en-US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发</a:t>
              </a:r>
              <a:r>
                <a:rPr b="1" lang="zh-CN" sz="1800" spc="-1" strike="noStrike">
                  <a:solidFill>
                    <a:srgbClr val="1c1c1c"/>
                  </a:solidFill>
                  <a:latin typeface="Arial Narrow"/>
                  <a:ea typeface="宋体"/>
                </a:rPr>
                <a:t>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apt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1:58:20Z</dcterms:created>
  <dc:creator>wei.gao</dc:creator>
  <dc:description/>
  <dc:language>en-US</dc:language>
  <cp:lastModifiedBy>yanzhou.tian</cp:lastModifiedBy>
  <dcterms:modified xsi:type="dcterms:W3CDTF">2004-03-05T08:47:15Z</dcterms:modified>
  <cp:revision>85</cp:revision>
  <dc:subject/>
  <dc:title>Understanding Basic HTML</dc:title>
</cp:coreProperties>
</file>