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8.wmf" ContentType="image/x-wmf"/>
  <Override PartName="/ppt/media/image5.jpeg" ContentType="image/jpeg"/>
  <Override PartName="/ppt/media/image20.wmf" ContentType="image/x-wmf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7.wmf" ContentType="image/x-wmf"/>
  <Override PartName="/ppt/media/image29.wmf" ContentType="image/x-wmf"/>
  <Override PartName="/ppt/media/image6.wmf" ContentType="image/x-wmf"/>
  <Override PartName="/ppt/media/image11.png" ContentType="image/png"/>
  <Override PartName="/ppt/media/image12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27.png" ContentType="image/png"/>
  <Override PartName="/ppt/media/image30.wmf" ContentType="image/x-wmf"/>
  <Override PartName="/ppt/media/image14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2C5A-9E08-493E-BAFD-8291A60A81BC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1600-A996-41F3-BDC9-43FD97BA678A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E8C3-BA2D-4EBE-A44E-ACFEEE5373BA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9FEC-5EA8-4498-B33D-BA959BAE4417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916E-08C0-475B-9B76-C6895435EEF6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EC6E-B8D8-44A9-9096-C1D70CD9D131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333C-8629-4DA6-BE07-F73EDEF9D32B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19F0-2640-481B-915E-16E57CF6C1D0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E23B-D8D9-4979-BF46-A3504F5A0054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2937-08CE-4A5C-A40F-F88D95EB6F3F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DE75-3438-4D50-A316-39D178A48499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E7C4-03D2-4754-8200-658AD5062157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FF96-1A46-4403-8193-35E8BAE2F470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5C3E-6938-4C6D-814E-AA50A0C5CABD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531360" y="4589640"/>
            <a:ext cx="579276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538200" y="204840"/>
            <a:ext cx="5780160" cy="4335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7820-6493-4E39-9DC5-2E9495C16A8F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01600" y="299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822240" y="4052880"/>
            <a:ext cx="523728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8AC4-C6E1-4248-8C3C-C0E766DF80A5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01600" y="299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822240" y="4052880"/>
            <a:ext cx="568656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Courier New"/>
              <a:ea typeface="宋体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45CB-29C4-480D-8316-2C5950E2F324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03400" y="301680"/>
            <a:ext cx="4700520" cy="35258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523800" y="4052880"/>
            <a:ext cx="583560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BA34-AB7F-4F60-B9CD-300FA4B608B2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03400" y="301680"/>
            <a:ext cx="4700520" cy="35258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523800" y="4052880"/>
            <a:ext cx="58356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lide 2 of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B9D3-AACC-4455-80DC-9B6F48C6324F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089000" y="306360"/>
            <a:ext cx="4705200" cy="352908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822240" y="4052880"/>
            <a:ext cx="523728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6610-5C53-46F7-9D69-607C2922C0D2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089000" y="306360"/>
            <a:ext cx="4705200" cy="35290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822240" y="4052880"/>
            <a:ext cx="523728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83E4-FE99-4935-8571-4FDD5BBBBC75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368360" y="457200"/>
            <a:ext cx="4064040" cy="304812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12960" y="3733560"/>
            <a:ext cx="5032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40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0" y="6324480"/>
            <a:ext cx="241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C2C8-D0F8-4347-9BC3-60E1D3AE3D98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57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F5B2-86AE-4F47-8EAB-01207D50DD71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0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6.wmf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10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7.png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3.png"/><Relationship Id="rId2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计算机网络层协议与设备应用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八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的分类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06280" y="1268280"/>
            <a:ext cx="8686800" cy="4924440"/>
            <a:chOff x="206280" y="1268280"/>
            <a:chExt cx="8686800" cy="4924440"/>
          </a:xfrm>
        </p:grpSpPr>
        <p:sp>
          <p:nvSpPr>
            <p:cNvPr id="450" name=""/>
            <p:cNvSpPr/>
            <p:nvPr/>
          </p:nvSpPr>
          <p:spPr>
            <a:xfrm>
              <a:off x="211140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8080" y="1878120"/>
              <a:ext cx="15984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3149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ass A: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20600" y="144144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25800" y="16495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NNNNN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01960" y="1649520"/>
              <a:ext cx="171468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78480" y="16495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40600" y="16495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584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3076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35400" y="1268280"/>
              <a:ext cx="3146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0692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1192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8344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88440" y="12682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93800" y="218916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ange (1-126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85840" y="2535120"/>
              <a:ext cx="3146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6280" y="3144960"/>
              <a:ext cx="15987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3149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ass B: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19160" y="270828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124000" y="2916360"/>
              <a:ext cx="171468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NNNN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00520" y="291636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77040" y="291636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139160" y="291636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2440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2896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3396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0548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1048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82000" y="253512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86640" y="2535120"/>
              <a:ext cx="3146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92360" y="345600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ange (128-19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6216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6280" y="4392720"/>
              <a:ext cx="159876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3149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ass C: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19160" y="395604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24000" y="4164120"/>
              <a:ext cx="171468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10NNNN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00520" y="41641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77040" y="41641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39160" y="4164120"/>
              <a:ext cx="1714320" cy="533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0036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0528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1028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8180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86440" y="3706920"/>
              <a:ext cx="3146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21692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562960" y="3706920"/>
              <a:ext cx="3142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92360" y="4703760"/>
              <a:ext cx="81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ange (192-22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7800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22120" y="5611680"/>
              <a:ext cx="1598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3149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ass D: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35000" y="5175360"/>
              <a:ext cx="8128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39840" y="5383080"/>
              <a:ext cx="1714680" cy="533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110MM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16360" y="5383080"/>
              <a:ext cx="1714320" cy="533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492880" y="5383080"/>
              <a:ext cx="1714320" cy="533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55000" y="5383080"/>
              <a:ext cx="1714320" cy="533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47600" rIns="147600" tIns="73800" bIns="73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ulticast Gro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1620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2112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2612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9764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902280" y="4925880"/>
              <a:ext cx="31464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1692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578800" y="4925880"/>
              <a:ext cx="31428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608200" y="5923080"/>
              <a:ext cx="8128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2320" rIns="652320" tIns="0" bIns="0" anchor="ctr" anchorCtr="1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ange (224-239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网掩码的使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92160" y="1690560"/>
            <a:ext cx="7107120" cy="4300560"/>
            <a:chOff x="992160" y="1690560"/>
            <a:chExt cx="7107120" cy="4300560"/>
          </a:xfrm>
        </p:grpSpPr>
        <p:sp>
          <p:nvSpPr>
            <p:cNvPr id="512" name=""/>
            <p:cNvSpPr/>
            <p:nvPr/>
          </p:nvSpPr>
          <p:spPr>
            <a:xfrm>
              <a:off x="992160" y="1690560"/>
              <a:ext cx="7107120" cy="430056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23880" y="3962520"/>
              <a:ext cx="5943600" cy="838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576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34120" y="4633920"/>
              <a:ext cx="1676160" cy="654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Host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13200" y="4633920"/>
              <a:ext cx="1676160" cy="654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Network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3200" y="4038480"/>
              <a:ext cx="2286000" cy="685800"/>
            </a:xfrm>
            <a:prstGeom prst="rect">
              <a:avLst/>
            </a:prstGeom>
            <a:solidFill>
              <a:srgbClr val="c20073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192.168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29200" y="4038480"/>
              <a:ext cx="2286000" cy="685800"/>
            </a:xfrm>
            <a:prstGeom prst="rect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84880" y="4087800"/>
              <a:ext cx="1552320" cy="587520"/>
            </a:xfrm>
            <a:prstGeom prst="rect">
              <a:avLst/>
            </a:prstGeom>
            <a:solidFill>
              <a:srgbClr val="e9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 Narrow"/>
                  <a:ea typeface="宋体"/>
                </a:rPr>
                <a:t>2.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410080" y="2709720"/>
              <a:ext cx="1476360" cy="1295640"/>
            </a:xfrm>
            <a:custGeom>
              <a:avLst/>
              <a:gdLst/>
              <a:ahLst/>
              <a:rect l="l" t="t" r="r" b="b"/>
              <a:pathLst>
                <a:path w="930" h="816">
                  <a:moveTo>
                    <a:pt x="345" y="7"/>
                  </a:moveTo>
                  <a:lnTo>
                    <a:pt x="0" y="816"/>
                  </a:lnTo>
                  <a:lnTo>
                    <a:pt x="930" y="816"/>
                  </a:lnTo>
                  <a:lnTo>
                    <a:pt x="584" y="0"/>
                  </a:lnTo>
                  <a:lnTo>
                    <a:pt x="345" y="7"/>
                  </a:lnTo>
                  <a:close/>
                </a:path>
              </a:pathLst>
            </a:custGeom>
            <a:gradFill rotWithShape="0">
              <a:gsLst>
                <a:gs pos="0">
                  <a:srgbClr val="f7fcfb"/>
                </a:gs>
                <a:gs pos="100000">
                  <a:srgbClr val="c2f0eb"/>
                </a:gs>
              </a:gsLst>
              <a:lin ang="5400000"/>
            </a:gradFill>
            <a:ln w="9360">
              <a:solidFill>
                <a:srgbClr val="a4ea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1"/>
            <a:stretch/>
          </p:blipFill>
          <p:spPr>
            <a:xfrm>
              <a:off x="5159520" y="3817800"/>
              <a:ext cx="203832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1523880" y="2057400"/>
              <a:ext cx="5943600" cy="838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6576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M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86280" y="2778120"/>
              <a:ext cx="1476360" cy="1284120"/>
            </a:xfrm>
            <a:custGeom>
              <a:avLst/>
              <a:gdLst/>
              <a:ahLst/>
              <a:rect l="l" t="t" r="r" b="b"/>
              <a:pathLst>
                <a:path w="930" h="809">
                  <a:moveTo>
                    <a:pt x="345" y="0"/>
                  </a:moveTo>
                  <a:lnTo>
                    <a:pt x="0" y="809"/>
                  </a:lnTo>
                  <a:lnTo>
                    <a:pt x="930" y="809"/>
                  </a:lnTo>
                  <a:lnTo>
                    <a:pt x="586" y="0"/>
                  </a:lnTo>
                  <a:lnTo>
                    <a:pt x="345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4fa"/>
                </a:gs>
                <a:gs pos="100000">
                  <a:srgbClr val="ff57bb"/>
                </a:gs>
              </a:gsLst>
              <a:lin ang="5400000"/>
            </a:gradFill>
            <a:ln w="9360">
              <a:solidFill>
                <a:srgbClr val="ffcf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3200" y="2133720"/>
              <a:ext cx="2286000" cy="685800"/>
            </a:xfrm>
            <a:prstGeom prst="rect">
              <a:avLst/>
            </a:prstGeom>
            <a:solidFill>
              <a:srgbClr val="c20073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255.255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29200" y="2133720"/>
              <a:ext cx="2286000" cy="685800"/>
            </a:xfrm>
            <a:prstGeom prst="rect">
              <a:avLst/>
            </a:prstGeom>
            <a:solidFill>
              <a:srgbClr val="bfb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0.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76560" y="4087800"/>
              <a:ext cx="1552680" cy="590400"/>
            </a:xfrm>
            <a:prstGeom prst="rect">
              <a:avLst/>
            </a:prstGeom>
            <a:solidFill>
              <a:srgbClr val="ffc3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b02c84"/>
                  </a:solidFill>
                  <a:latin typeface="Arial Narrow"/>
                  <a:ea typeface="宋体"/>
                </a:rPr>
                <a:t>192.168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6" name="" descr=""/>
            <p:cNvPicPr/>
            <p:nvPr/>
          </p:nvPicPr>
          <p:blipFill>
            <a:blip r:embed="rId2"/>
            <a:stretch/>
          </p:blipFill>
          <p:spPr>
            <a:xfrm>
              <a:off x="2813040" y="3817800"/>
              <a:ext cx="2038320" cy="11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7" name=""/>
          <p:cNvGrpSpPr/>
          <p:nvPr/>
        </p:nvGrpSpPr>
        <p:grpSpPr>
          <a:xfrm>
            <a:off x="14400" y="6615000"/>
            <a:ext cx="609480" cy="228600"/>
            <a:chOff x="14400" y="6615000"/>
            <a:chExt cx="609480" cy="228600"/>
          </a:xfrm>
        </p:grpSpPr>
        <p:grpSp>
          <p:nvGrpSpPr>
            <p:cNvPr id="528" name=""/>
            <p:cNvGrpSpPr/>
            <p:nvPr/>
          </p:nvGrpSpPr>
          <p:grpSpPr>
            <a:xfrm>
              <a:off x="14400" y="6615000"/>
              <a:ext cx="286560" cy="228600"/>
              <a:chOff x="14400" y="6615000"/>
              <a:chExt cx="286560" cy="228600"/>
            </a:xfrm>
          </p:grpSpPr>
          <p:sp>
            <p:nvSpPr>
              <p:cNvPr id="529" name=""/>
              <p:cNvSpPr/>
              <p:nvPr/>
            </p:nvSpPr>
            <p:spPr>
              <a:xfrm>
                <a:off x="14400" y="6615000"/>
                <a:ext cx="28656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040" y="6667560"/>
                <a:ext cx="214560" cy="123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080" y="6671880"/>
                <a:ext cx="134640" cy="5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629" y="19664"/>
                    </a:moveTo>
                    <a:arcTo wR="10800" hR="10800" stAng="7490636" swAng="88239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629" y="19664"/>
                    </a:moveTo>
                    <a:arcTo wR="10800" hR="10800" stAng="7490636" swAng="8823993"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  <a:effectLst>
                <a:outerShdw dist="1260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6040" y="6703200"/>
                <a:ext cx="135360" cy="5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1421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142173"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  <a:effectLst>
                <a:outerShdw dist="1260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336960" y="6615000"/>
              <a:ext cx="286920" cy="228600"/>
              <a:chOff x="336960" y="6615000"/>
              <a:chExt cx="286920" cy="228600"/>
            </a:xfrm>
          </p:grpSpPr>
          <p:sp>
            <p:nvSpPr>
              <p:cNvPr id="534" name=""/>
              <p:cNvSpPr/>
              <p:nvPr/>
            </p:nvSpPr>
            <p:spPr>
              <a:xfrm>
                <a:off x="336960" y="6615000"/>
                <a:ext cx="28692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72960" y="6667560"/>
                <a:ext cx="214560" cy="123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08960" y="6703200"/>
                <a:ext cx="134640" cy="50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949" y="19878"/>
                    </a:moveTo>
                    <a:arcTo wR="10800" hR="10800" stAng="7368319" swAng="89463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949" y="19878"/>
                    </a:moveTo>
                    <a:arcTo wR="10800" hR="10800" stAng="7368319" swAng="8946310"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  <a:effectLst>
                <a:outerShdw dist="1260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8960" y="6703200"/>
                <a:ext cx="135000" cy="50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5139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513965"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  <a:effectLst>
                <a:outerShdw dist="1260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235080" y="6667560"/>
              <a:ext cx="166320" cy="134280"/>
            </a:xfrm>
            <a:prstGeom prst="rightArrow">
              <a:avLst>
                <a:gd name="adj1" fmla="val 54546"/>
                <a:gd name="adj2" fmla="val 91748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992160" y="1690560"/>
            <a:ext cx="7107120" cy="4300560"/>
            <a:chOff x="992160" y="1690560"/>
            <a:chExt cx="7107120" cy="4300560"/>
          </a:xfrm>
        </p:grpSpPr>
        <p:sp>
          <p:nvSpPr>
            <p:cNvPr id="540" name=""/>
            <p:cNvSpPr/>
            <p:nvPr/>
          </p:nvSpPr>
          <p:spPr>
            <a:xfrm>
              <a:off x="992160" y="1690560"/>
              <a:ext cx="7107120" cy="430056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1523880" y="2048040"/>
              <a:ext cx="5943600" cy="2863800"/>
              <a:chOff x="1523880" y="2048040"/>
              <a:chExt cx="5943600" cy="2863800"/>
            </a:xfrm>
          </p:grpSpPr>
          <p:sp>
            <p:nvSpPr>
              <p:cNvPr id="542" name=""/>
              <p:cNvSpPr/>
              <p:nvPr/>
            </p:nvSpPr>
            <p:spPr>
              <a:xfrm>
                <a:off x="1523880" y="204804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743200" y="212400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029200" y="212400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50.100.2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523880" y="305928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43200" y="313524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25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029200" y="313524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.0.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23880" y="4073400"/>
                <a:ext cx="5943600" cy="83844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743200" y="414972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029200" y="414972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.0.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1" name=""/>
          <p:cNvGrpSpPr/>
          <p:nvPr/>
        </p:nvGrpSpPr>
        <p:grpSpPr>
          <a:xfrm>
            <a:off x="992160" y="1690560"/>
            <a:ext cx="7107120" cy="4300560"/>
            <a:chOff x="992160" y="1690560"/>
            <a:chExt cx="7107120" cy="4300560"/>
          </a:xfrm>
        </p:grpSpPr>
        <p:sp>
          <p:nvSpPr>
            <p:cNvPr id="552" name=""/>
            <p:cNvSpPr/>
            <p:nvPr/>
          </p:nvSpPr>
          <p:spPr>
            <a:xfrm>
              <a:off x="992160" y="1690560"/>
              <a:ext cx="7107120" cy="430056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1523880" y="2048040"/>
              <a:ext cx="5943600" cy="2863800"/>
              <a:chOff x="1523880" y="2048040"/>
              <a:chExt cx="5943600" cy="2863800"/>
            </a:xfrm>
          </p:grpSpPr>
          <p:sp>
            <p:nvSpPr>
              <p:cNvPr id="554" name=""/>
              <p:cNvSpPr/>
              <p:nvPr/>
            </p:nvSpPr>
            <p:spPr>
              <a:xfrm>
                <a:off x="1523880" y="204804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743200" y="212400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5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029200" y="212400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100.2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523880" y="305928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743200" y="313524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255.25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029200" y="313524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.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23880" y="4073400"/>
                <a:ext cx="5943600" cy="83844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743200" y="414972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5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29200" y="414972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.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992160" y="1690560"/>
            <a:ext cx="7107120" cy="4300560"/>
            <a:chOff x="992160" y="1690560"/>
            <a:chExt cx="7107120" cy="4300560"/>
          </a:xfrm>
        </p:grpSpPr>
        <p:sp>
          <p:nvSpPr>
            <p:cNvPr id="564" name=""/>
            <p:cNvSpPr/>
            <p:nvPr/>
          </p:nvSpPr>
          <p:spPr>
            <a:xfrm>
              <a:off x="992160" y="1690560"/>
              <a:ext cx="7107120" cy="430056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1523880" y="2048040"/>
              <a:ext cx="5943600" cy="2863800"/>
              <a:chOff x="1523880" y="2048040"/>
              <a:chExt cx="5943600" cy="2863800"/>
            </a:xfrm>
          </p:grpSpPr>
          <p:sp>
            <p:nvSpPr>
              <p:cNvPr id="566" name=""/>
              <p:cNvSpPr/>
              <p:nvPr/>
            </p:nvSpPr>
            <p:spPr>
              <a:xfrm>
                <a:off x="1523880" y="204804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Addr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43200" y="212400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50.10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029200" y="212400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20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23880" y="3059280"/>
                <a:ext cx="594360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Mas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743200" y="313524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255.255.25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029200" y="313524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23880" y="4073400"/>
                <a:ext cx="5943600" cy="83844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743200" y="4149720"/>
                <a:ext cx="2286000" cy="68580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0.50.100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029200" y="4149720"/>
                <a:ext cx="2286000" cy="685800"/>
              </a:xfrm>
              <a:prstGeom prst="rect">
                <a:avLst/>
              </a:prstGeom>
              <a:solidFill>
                <a:srgbClr val="bfb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43876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 flipV="1">
            <a:off x="1895400" y="424188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5480" y="424188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3838680" y="425592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796000" y="424188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6767640" y="425592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1549440" y="368460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2577960" y="368460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3521160" y="368460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5492880" y="3684600"/>
            <a:ext cx="645840" cy="5857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6435720" y="3684600"/>
            <a:ext cx="646200" cy="58572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58640" y="5943240"/>
            <a:ext cx="8226720" cy="639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343080" indent="-343080">
              <a:spcBef>
                <a:spcPts val="6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Network 172.16.0.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986280" y="4713120"/>
            <a:ext cx="1528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未划分子网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371600" y="3352680"/>
            <a:ext cx="1528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3352680"/>
            <a:ext cx="1528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05320" y="3362400"/>
            <a:ext cx="1528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6680" y="3886200"/>
            <a:ext cx="1528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5280" y="3352680"/>
            <a:ext cx="1528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255.2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324480" y="3352680"/>
            <a:ext cx="1528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255.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52760" y="4641840"/>
            <a:ext cx="541476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62120" y="1708200"/>
            <a:ext cx="7238880" cy="438768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58640" y="6019560"/>
            <a:ext cx="8226720" cy="554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343080" indent="-343080">
              <a:spcBef>
                <a:spcPts val="6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宋体"/>
              </a:rPr>
              <a:t>Network 172.16.0.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划分子网后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886040" y="455616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728800" y="4570200"/>
            <a:ext cx="0" cy="3711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57520" y="45414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6186600" y="4570200"/>
            <a:ext cx="0" cy="385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7015320" y="4555800"/>
            <a:ext cx="0" cy="385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315040" y="4555800"/>
            <a:ext cx="0" cy="385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786120" y="2541600"/>
            <a:ext cx="0" cy="3859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4743360" y="2526840"/>
            <a:ext cx="0" cy="871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715000" y="2512800"/>
            <a:ext cx="0" cy="385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00480" y="2927520"/>
            <a:ext cx="27432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59120" y="4997520"/>
            <a:ext cx="10699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16400" y="4997520"/>
            <a:ext cx="1070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02120" y="2954160"/>
            <a:ext cx="10414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59240" y="3716280"/>
            <a:ext cx="10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3570120"/>
            <a:ext cx="173160" cy="1373400"/>
          </a:xfrm>
          <a:custGeom>
            <a:avLst/>
            <a:gdLst/>
            <a:ahLst/>
            <a:rect l="l" t="t" r="r" b="b"/>
            <a:pathLst>
              <a:path w="97" h="769">
                <a:moveTo>
                  <a:pt x="0" y="768"/>
                </a:moveTo>
                <a:lnTo>
                  <a:pt x="0" y="336"/>
                </a:lnTo>
                <a:lnTo>
                  <a:pt x="96" y="432"/>
                </a:lnTo>
                <a:lnTo>
                  <a:pt x="96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300560" y="3271680"/>
            <a:ext cx="928800" cy="5400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3497400" y="2055960"/>
            <a:ext cx="645840" cy="5857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440240" y="20559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5383080" y="20559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5040360" y="41133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7"/>
          <a:stretch/>
        </p:blipFill>
        <p:spPr>
          <a:xfrm>
            <a:off x="5897520" y="41133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8"/>
          <a:stretch/>
        </p:blipFill>
        <p:spPr>
          <a:xfrm>
            <a:off x="6754680" y="41133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9"/>
          <a:stretch/>
        </p:blipFill>
        <p:spPr>
          <a:xfrm>
            <a:off x="1611360" y="41133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10"/>
          <a:stretch/>
        </p:blipFill>
        <p:spPr>
          <a:xfrm>
            <a:off x="2468520" y="411336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11"/>
          <a:stretch/>
        </p:blipFill>
        <p:spPr>
          <a:xfrm>
            <a:off x="3325680" y="4113360"/>
            <a:ext cx="646200" cy="5857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1600200" y="4970520"/>
            <a:ext cx="57150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2"/>
          <a:stretch/>
        </p:blipFill>
        <p:spPr>
          <a:xfrm>
            <a:off x="4043520" y="4643280"/>
            <a:ext cx="92844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330280" y="1530360"/>
            <a:ext cx="45007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218592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Host Addre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2.16.2.1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218592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net Mask:  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458640" y="5141880"/>
            <a:ext cx="8226720" cy="1411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4000"/>
          </a:bodyPr>
          <a:p>
            <a:pPr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net Address = 172.16.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st Addresses = 172.16.2.1–172.16.2.25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 Address = 172.16.2.2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ht bits of subnet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038480" y="2133720"/>
            <a:ext cx="0" cy="2438280"/>
          </a:xfrm>
          <a:prstGeom prst="line">
            <a:avLst/>
          </a:prstGeom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67080" y="2286000"/>
            <a:ext cx="144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34160" y="2286000"/>
            <a:ext cx="128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424640" y="2286000"/>
            <a:ext cx="9572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28800" y="3757680"/>
            <a:ext cx="5786640" cy="0"/>
          </a:xfrm>
          <a:prstGeom prst="line">
            <a:avLst/>
          </a:prstGeom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14560" y="4343400"/>
            <a:ext cx="700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10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43480" y="4343400"/>
            <a:ext cx="700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29280" y="4343400"/>
            <a:ext cx="442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0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162920" y="4343400"/>
            <a:ext cx="657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4440" y="2943360"/>
            <a:ext cx="2043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2.16.2.12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4360" y="3386160"/>
            <a:ext cx="21430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r">
              <a:lnSpc>
                <a:spcPts val="2024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5.255.255.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29080" y="2943360"/>
            <a:ext cx="1257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10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43040" y="3371760"/>
            <a:ext cx="1400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024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57400" y="387180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n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600280" y="3871800"/>
            <a:ext cx="1285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10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57640" y="3871800"/>
            <a:ext cx="1285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29200" y="2943360"/>
            <a:ext cx="1314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43240" y="3371760"/>
            <a:ext cx="1300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024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00880" y="2943360"/>
            <a:ext cx="1299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spcBef>
                <a:spcPts val="134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0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614920" y="3871800"/>
            <a:ext cx="1285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  <a:ea typeface="宋体"/>
              </a:rPr>
              <a:t>00000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00880" y="3371760"/>
            <a:ext cx="1299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024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  <a:ea typeface="宋体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29440" y="2943360"/>
            <a:ext cx="1743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11110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101000" y="3371760"/>
            <a:ext cx="1700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024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29440" y="3871800"/>
            <a:ext cx="1771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0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562720" y="2133720"/>
            <a:ext cx="0" cy="2361960"/>
          </a:xfrm>
          <a:prstGeom prst="line">
            <a:avLst/>
          </a:prstGeom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010280" y="2133720"/>
            <a:ext cx="0" cy="2361960"/>
          </a:xfrm>
          <a:prstGeom prst="line">
            <a:avLst/>
          </a:prstGeom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43200" y="2743200"/>
            <a:ext cx="5786280" cy="0"/>
          </a:xfrm>
          <a:prstGeom prst="line">
            <a:avLst/>
          </a:prstGeom>
          <a:ln w="507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43000" y="4338720"/>
            <a:ext cx="1400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r">
              <a:lnSpc>
                <a:spcPts val="2137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47880" y="2209680"/>
            <a:ext cx="1443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变长子网掩码及子网规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316080" y="1349280"/>
            <a:ext cx="7399080" cy="448488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 flipV="1">
            <a:off x="1450800" y="431784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293920" y="4332240"/>
            <a:ext cx="0" cy="3715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3122640" y="430344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751360" y="4332240"/>
            <a:ext cx="0" cy="3859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580080" y="4317840"/>
            <a:ext cx="0" cy="3859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4879800" y="4317840"/>
            <a:ext cx="0" cy="3859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351240" y="2303280"/>
            <a:ext cx="0" cy="385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4308480" y="2288880"/>
            <a:ext cx="0" cy="8715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5280120" y="2274840"/>
            <a:ext cx="0" cy="3859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65600" y="2689200"/>
            <a:ext cx="27432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467240" y="2716200"/>
            <a:ext cx="10414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24360" y="3478320"/>
            <a:ext cx="10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137120" y="3332160"/>
            <a:ext cx="172800" cy="1373040"/>
          </a:xfrm>
          <a:custGeom>
            <a:avLst/>
            <a:gdLst/>
            <a:ahLst/>
            <a:rect l="l" t="t" r="r" b="b"/>
            <a:pathLst>
              <a:path w="97" h="769">
                <a:moveTo>
                  <a:pt x="0" y="768"/>
                </a:moveTo>
                <a:lnTo>
                  <a:pt x="0" y="336"/>
                </a:lnTo>
                <a:lnTo>
                  <a:pt x="96" y="432"/>
                </a:lnTo>
                <a:lnTo>
                  <a:pt x="96" y="0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3062160" y="181764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005360" y="1817640"/>
            <a:ext cx="645840" cy="58572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4948200" y="181764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4605480" y="3875040"/>
            <a:ext cx="645840" cy="58572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5462640" y="387504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6319800" y="387504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8"/>
          <a:stretch/>
        </p:blipFill>
        <p:spPr>
          <a:xfrm>
            <a:off x="1176480" y="3875040"/>
            <a:ext cx="645840" cy="58572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9"/>
          <a:stretch/>
        </p:blipFill>
        <p:spPr>
          <a:xfrm>
            <a:off x="2033640" y="3875040"/>
            <a:ext cx="646200" cy="58572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10"/>
          <a:stretch/>
        </p:blipFill>
        <p:spPr>
          <a:xfrm>
            <a:off x="2890800" y="3875040"/>
            <a:ext cx="646200" cy="58572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1724040" y="2946240"/>
            <a:ext cx="1071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508120" y="3160800"/>
            <a:ext cx="1373400" cy="172800"/>
          </a:xfrm>
          <a:custGeom>
            <a:avLst/>
            <a:gdLst/>
            <a:ahLst/>
            <a:rect l="l" t="t" r="r" b="b"/>
            <a:pathLst>
              <a:path w="769" h="97">
                <a:moveTo>
                  <a:pt x="0" y="0"/>
                </a:moveTo>
                <a:lnTo>
                  <a:pt x="432" y="0"/>
                </a:lnTo>
                <a:lnTo>
                  <a:pt x="336" y="96"/>
                </a:lnTo>
                <a:lnTo>
                  <a:pt x="768" y="96"/>
                </a:lnTo>
              </a:path>
            </a:pathLst>
          </a:custGeom>
          <a:noFill/>
          <a:ln cap="rnd" w="50760">
            <a:solidFill>
              <a:srgbClr val="ffcf01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94080" y="2671920"/>
            <a:ext cx="139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5.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879560" y="4757760"/>
            <a:ext cx="139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5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208480" y="4757760"/>
            <a:ext cx="1392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5.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251000" y="4732200"/>
            <a:ext cx="57150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1"/>
          <a:stretch/>
        </p:blipFill>
        <p:spPr>
          <a:xfrm>
            <a:off x="3608280" y="4405320"/>
            <a:ext cx="928800" cy="53964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12"/>
          <a:stretch/>
        </p:blipFill>
        <p:spPr>
          <a:xfrm>
            <a:off x="3865680" y="3033720"/>
            <a:ext cx="928440" cy="53964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5253120" y="2463840"/>
            <a:ext cx="1272960" cy="838080"/>
          </a:xfrm>
          <a:custGeom>
            <a:avLst/>
            <a:gdLst/>
            <a:ahLst/>
            <a:rect l="l" t="t" r="r" b="b"/>
            <a:pathLst>
              <a:path w="802" h="528">
                <a:moveTo>
                  <a:pt x="802" y="0"/>
                </a:moveTo>
                <a:lnTo>
                  <a:pt x="802" y="528"/>
                </a:lnTo>
                <a:lnTo>
                  <a:pt x="0" y="52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58080" y="1197000"/>
            <a:ext cx="2043000" cy="12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0 sub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 hosts per sub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ass C add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6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子网规划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79640" y="5948280"/>
            <a:ext cx="4608360" cy="7207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应该用什么的子网掩码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11280" y="4797000"/>
            <a:ext cx="451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解析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622040" y="155736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①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检查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缓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rot="5400000">
            <a:off x="1306800" y="2840760"/>
            <a:ext cx="2797200" cy="131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7e7e7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636280" y="1737720"/>
            <a:ext cx="1269720" cy="128520"/>
          </a:xfrm>
          <a:custGeom>
            <a:avLst/>
            <a:gdLst>
              <a:gd name="textAreaLeft" fmla="*/ -360 w 1269720"/>
              <a:gd name="textAreaRight" fmla="*/ 1269720 w 1269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7e7e7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636280" y="3814200"/>
            <a:ext cx="1269720" cy="128520"/>
          </a:xfrm>
          <a:custGeom>
            <a:avLst/>
            <a:gdLst>
              <a:gd name="textAreaLeft" fmla="*/ -360 w 1269720"/>
              <a:gd name="textAreaRight" fmla="*/ 1269720 w 1269720"/>
              <a:gd name="textAreaTop" fmla="*/ -360 h 128520"/>
              <a:gd name="textAreaBottom" fmla="*/ 128520 h 1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7e7e7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446120" y="2724840"/>
            <a:ext cx="1271520" cy="127080"/>
          </a:xfrm>
          <a:custGeom>
            <a:avLst/>
            <a:gdLst>
              <a:gd name="textAreaLeft" fmla="*/ 0 w 1271520"/>
              <a:gd name="textAreaRight" fmla="*/ 1271520 w 1271520"/>
              <a:gd name="textAreaTop" fmla="*/ -360 h 127080"/>
              <a:gd name="textAreaBottom" fmla="*/ 12708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02" y="0"/>
                </a:lnTo>
                <a:lnTo>
                  <a:pt x="21600" y="10800"/>
                </a:lnTo>
                <a:lnTo>
                  <a:pt x="203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7e7e7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584520" y="1278000"/>
            <a:ext cx="1069560" cy="1164960"/>
            <a:chOff x="3584520" y="1278000"/>
            <a:chExt cx="1069560" cy="1164960"/>
          </a:xfrm>
        </p:grpSpPr>
        <p:pic>
          <p:nvPicPr>
            <p:cNvPr id="701" name="" descr=""/>
            <p:cNvPicPr/>
            <p:nvPr/>
          </p:nvPicPr>
          <p:blipFill>
            <a:blip r:embed="rId1"/>
            <a:stretch/>
          </p:blipFill>
          <p:spPr>
            <a:xfrm>
              <a:off x="3584520" y="1278000"/>
              <a:ext cx="10695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3835440" y="1491840"/>
              <a:ext cx="400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f3f5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3584520" y="3270240"/>
            <a:ext cx="1069560" cy="1164960"/>
            <a:chOff x="3584520" y="3270240"/>
            <a:chExt cx="1069560" cy="1164960"/>
          </a:xfrm>
        </p:grpSpPr>
        <p:pic>
          <p:nvPicPr>
            <p:cNvPr id="704" name="" descr=""/>
            <p:cNvPicPr/>
            <p:nvPr/>
          </p:nvPicPr>
          <p:blipFill>
            <a:blip r:embed="rId2"/>
            <a:stretch/>
          </p:blipFill>
          <p:spPr>
            <a:xfrm>
              <a:off x="3584520" y="3270240"/>
              <a:ext cx="10695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835440" y="3508200"/>
              <a:ext cx="400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f3f5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539640" y="2235240"/>
            <a:ext cx="1069560" cy="1166400"/>
            <a:chOff x="539640" y="2235240"/>
            <a:chExt cx="1069560" cy="1166400"/>
          </a:xfrm>
        </p:grpSpPr>
        <p:pic>
          <p:nvPicPr>
            <p:cNvPr id="707" name="" descr=""/>
            <p:cNvPicPr/>
            <p:nvPr/>
          </p:nvPicPr>
          <p:blipFill>
            <a:blip r:embed="rId3"/>
            <a:stretch/>
          </p:blipFill>
          <p:spPr>
            <a:xfrm>
              <a:off x="539640" y="2235240"/>
              <a:ext cx="1069560" cy="11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828720" y="2472120"/>
              <a:ext cx="4003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f3f5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828720" y="1584360"/>
            <a:ext cx="928440" cy="613800"/>
            <a:chOff x="828720" y="1584360"/>
            <a:chExt cx="928440" cy="613800"/>
          </a:xfrm>
        </p:grpSpPr>
        <p:sp>
          <p:nvSpPr>
            <p:cNvPr id="710" name=""/>
            <p:cNvSpPr/>
            <p:nvPr/>
          </p:nvSpPr>
          <p:spPr>
            <a:xfrm>
              <a:off x="828720" y="1584360"/>
              <a:ext cx="928440" cy="613800"/>
            </a:xfrm>
            <a:custGeom>
              <a:avLst/>
              <a:gdLst/>
              <a:ahLst/>
              <a:rect l="l" t="t" r="r" b="b"/>
              <a:pathLst>
                <a:path w="1248" h="996">
                  <a:moveTo>
                    <a:pt x="0" y="996"/>
                  </a:moveTo>
                  <a:lnTo>
                    <a:pt x="0" y="94"/>
                  </a:lnTo>
                  <a:lnTo>
                    <a:pt x="79" y="0"/>
                  </a:lnTo>
                  <a:lnTo>
                    <a:pt x="467" y="0"/>
                  </a:lnTo>
                  <a:lnTo>
                    <a:pt x="526" y="93"/>
                  </a:lnTo>
                  <a:lnTo>
                    <a:pt x="1248" y="94"/>
                  </a:lnTo>
                  <a:lnTo>
                    <a:pt x="1248" y="996"/>
                  </a:lnTo>
                  <a:lnTo>
                    <a:pt x="0" y="99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45929" dir="2028877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80200" y="1650600"/>
              <a:ext cx="6822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AR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Ca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2874960" y="1558800"/>
            <a:ext cx="622440" cy="2022480"/>
          </a:xfrm>
          <a:custGeom>
            <a:avLst/>
            <a:gdLst/>
            <a:ahLst/>
            <a:rect l="l" t="t" r="r" b="b"/>
            <a:pathLst>
              <a:path w="672" h="1152">
                <a:moveTo>
                  <a:pt x="672" y="1152"/>
                </a:moveTo>
                <a:lnTo>
                  <a:pt x="0" y="1152"/>
                </a:lnTo>
                <a:lnTo>
                  <a:pt x="0" y="0"/>
                </a:lnTo>
                <a:lnTo>
                  <a:pt x="672" y="0"/>
                </a:lnTo>
              </a:path>
            </a:pathLst>
          </a:custGeom>
          <a:noFill/>
          <a:ln w="57240">
            <a:solidFill>
              <a:srgbClr val="d6009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706400" y="2336760"/>
            <a:ext cx="116856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706400" y="3036960"/>
            <a:ext cx="1791000" cy="1089000"/>
          </a:xfrm>
          <a:custGeom>
            <a:avLst/>
            <a:gdLst/>
            <a:ahLst/>
            <a:rect l="l" t="t" r="r" b="b"/>
            <a:pathLst>
              <a:path w="1104" h="624">
                <a:moveTo>
                  <a:pt x="1104" y="624"/>
                </a:moveTo>
                <a:lnTo>
                  <a:pt x="480" y="624"/>
                </a:lnTo>
                <a:lnTo>
                  <a:pt x="480" y="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628640" y="3348000"/>
            <a:ext cx="1868760" cy="1089000"/>
          </a:xfrm>
          <a:custGeom>
            <a:avLst/>
            <a:gdLst/>
            <a:ahLst/>
            <a:rect l="l" t="t" r="r" b="b"/>
            <a:pathLst>
              <a:path w="1056" h="672">
                <a:moveTo>
                  <a:pt x="0" y="0"/>
                </a:moveTo>
                <a:lnTo>
                  <a:pt x="336" y="0"/>
                </a:lnTo>
                <a:lnTo>
                  <a:pt x="336" y="672"/>
                </a:lnTo>
                <a:lnTo>
                  <a:pt x="1056" y="672"/>
                </a:lnTo>
              </a:path>
            </a:pathLst>
          </a:custGeom>
          <a:noFill/>
          <a:ln w="5724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73120" y="2181240"/>
            <a:ext cx="31140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2960" y="1528920"/>
            <a:ext cx="31104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60093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341520" y="3970440"/>
            <a:ext cx="31140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36680" y="3192480"/>
            <a:ext cx="31284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  <a:ea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36480" y="1870200"/>
            <a:ext cx="31140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  <a:ea typeface="宋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3513240" y="2666880"/>
            <a:ext cx="928080" cy="614160"/>
            <a:chOff x="3513240" y="2666880"/>
            <a:chExt cx="928080" cy="614160"/>
          </a:xfrm>
        </p:grpSpPr>
        <p:sp>
          <p:nvSpPr>
            <p:cNvPr id="722" name=""/>
            <p:cNvSpPr/>
            <p:nvPr/>
          </p:nvSpPr>
          <p:spPr>
            <a:xfrm>
              <a:off x="3513240" y="2666880"/>
              <a:ext cx="928080" cy="614160"/>
            </a:xfrm>
            <a:custGeom>
              <a:avLst/>
              <a:gdLst/>
              <a:ahLst/>
              <a:rect l="l" t="t" r="r" b="b"/>
              <a:pathLst>
                <a:path w="1248" h="996">
                  <a:moveTo>
                    <a:pt x="0" y="996"/>
                  </a:moveTo>
                  <a:lnTo>
                    <a:pt x="0" y="94"/>
                  </a:lnTo>
                  <a:lnTo>
                    <a:pt x="79" y="0"/>
                  </a:lnTo>
                  <a:lnTo>
                    <a:pt x="467" y="0"/>
                  </a:lnTo>
                  <a:lnTo>
                    <a:pt x="526" y="93"/>
                  </a:lnTo>
                  <a:lnTo>
                    <a:pt x="1248" y="94"/>
                  </a:lnTo>
                  <a:lnTo>
                    <a:pt x="1248" y="996"/>
                  </a:lnTo>
                  <a:lnTo>
                    <a:pt x="0" y="99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45929" dir="2028877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64720" y="2733120"/>
              <a:ext cx="6822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AR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Ca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 flipV="1">
            <a:off x="2876400" y="1431720"/>
            <a:ext cx="5040" cy="289440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306600" y="2711520"/>
            <a:ext cx="311400" cy="3110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627080" y="198900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②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发送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请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19960" y="2421000"/>
            <a:ext cx="27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③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添加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缓存条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22040" y="285264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④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发送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回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713480" y="3284640"/>
            <a:ext cx="27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⑤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添加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AR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缓存条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68840" y="37162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⑥ 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发送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IP</a:t>
            </a:r>
            <a:r>
              <a:rPr b="1" lang="zh-CN" sz="1800" spc="-1" strike="noStrike">
                <a:solidFill>
                  <a:srgbClr val="000000"/>
                </a:solidFill>
                <a:latin typeface="Arial Narrow"/>
                <a:ea typeface="宋体"/>
              </a:rPr>
              <a:t>数据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584820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76228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990800" y="3533760"/>
            <a:ext cx="481464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51280" y="323064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019320"/>
            <a:ext cx="41256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0" y="0"/>
                </a:moveTo>
                <a:lnTo>
                  <a:pt x="0" y="720"/>
                </a:lnTo>
                <a:lnTo>
                  <a:pt x="96" y="720"/>
                </a:lnTo>
                <a:lnTo>
                  <a:pt x="192" y="720"/>
                </a:lnTo>
                <a:lnTo>
                  <a:pt x="384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819680" y="3276720"/>
            <a:ext cx="777960" cy="1030320"/>
          </a:xfrm>
          <a:custGeom>
            <a:avLst/>
            <a:gdLst/>
            <a:ahLst/>
            <a:rect l="l" t="t" r="r" b="b"/>
            <a:pathLst>
              <a:path w="436" h="577">
                <a:moveTo>
                  <a:pt x="0" y="576"/>
                </a:moveTo>
                <a:lnTo>
                  <a:pt x="432" y="576"/>
                </a:lnTo>
                <a:lnTo>
                  <a:pt x="435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619520" y="3236760"/>
            <a:ext cx="771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5459400" y="253368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2990880" y="4148280"/>
            <a:ext cx="211464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33400" y="3019320"/>
            <a:ext cx="68760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2201760" y="253368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336600" y="1614600"/>
            <a:ext cx="1654200" cy="1662120"/>
          </a:xfrm>
          <a:prstGeom prst="cloudCallout">
            <a:avLst>
              <a:gd name="adj1" fmla="val 59787"/>
              <a:gd name="adj2" fmla="val 4369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60280" y="1781640"/>
            <a:ext cx="1857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 anchorCtr="1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 need the Ethernet address of 176.16.3.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84820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6228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90800" y="3533760"/>
            <a:ext cx="481464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951280" y="323064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90920" y="3019320"/>
            <a:ext cx="41256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0" y="0"/>
                </a:moveTo>
                <a:lnTo>
                  <a:pt x="0" y="720"/>
                </a:lnTo>
                <a:lnTo>
                  <a:pt x="96" y="720"/>
                </a:lnTo>
                <a:lnTo>
                  <a:pt x="192" y="720"/>
                </a:lnTo>
                <a:lnTo>
                  <a:pt x="384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19680" y="3276720"/>
            <a:ext cx="777960" cy="1030320"/>
          </a:xfrm>
          <a:custGeom>
            <a:avLst/>
            <a:gdLst/>
            <a:ahLst/>
            <a:rect l="l" t="t" r="r" b="b"/>
            <a:pathLst>
              <a:path w="436" h="577">
                <a:moveTo>
                  <a:pt x="0" y="576"/>
                </a:moveTo>
                <a:lnTo>
                  <a:pt x="432" y="576"/>
                </a:lnTo>
                <a:lnTo>
                  <a:pt x="435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619520" y="3236760"/>
            <a:ext cx="771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5459400" y="253368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990880" y="4148280"/>
            <a:ext cx="211464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733400" y="3019320"/>
            <a:ext cx="68760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2201760" y="253368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757" name=""/>
          <p:cNvGrpSpPr/>
          <p:nvPr/>
        </p:nvGrpSpPr>
        <p:grpSpPr>
          <a:xfrm>
            <a:off x="154080" y="1531800"/>
            <a:ext cx="8913600" cy="2000520"/>
            <a:chOff x="154080" y="1531800"/>
            <a:chExt cx="8913600" cy="2000520"/>
          </a:xfrm>
        </p:grpSpPr>
        <p:sp>
          <p:nvSpPr>
            <p:cNvPr id="758" name=""/>
            <p:cNvSpPr/>
            <p:nvPr/>
          </p:nvSpPr>
          <p:spPr>
            <a:xfrm>
              <a:off x="6291360" y="1549440"/>
              <a:ext cx="2655720" cy="1982880"/>
            </a:xfrm>
            <a:prstGeom prst="cloudCallout">
              <a:avLst>
                <a:gd name="adj1" fmla="val -53166"/>
                <a:gd name="adj2" fmla="val 29101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59560" y="1943280"/>
              <a:ext cx="2508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heard that broadcast. The message is for me. Here is my Ethernet addre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4080" y="1531800"/>
              <a:ext cx="2008080" cy="1744920"/>
            </a:xfrm>
            <a:prstGeom prst="cloudCallout">
              <a:avLst>
                <a:gd name="adj1" fmla="val 54032"/>
                <a:gd name="adj2" fmla="val 4399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60280" y="1781640"/>
              <a:ext cx="1857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 anchorCtr="1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need the Ethernet address of 176.16.3.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584820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76228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90800" y="3533760"/>
            <a:ext cx="481464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951280" y="323064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590920" y="3019320"/>
            <a:ext cx="41256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0" y="0"/>
                </a:moveTo>
                <a:lnTo>
                  <a:pt x="0" y="720"/>
                </a:lnTo>
                <a:lnTo>
                  <a:pt x="96" y="720"/>
                </a:lnTo>
                <a:lnTo>
                  <a:pt x="192" y="720"/>
                </a:lnTo>
                <a:lnTo>
                  <a:pt x="384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19680" y="3276720"/>
            <a:ext cx="777960" cy="1030320"/>
          </a:xfrm>
          <a:custGeom>
            <a:avLst/>
            <a:gdLst/>
            <a:ahLst/>
            <a:rect l="l" t="t" r="r" b="b"/>
            <a:pathLst>
              <a:path w="436" h="577">
                <a:moveTo>
                  <a:pt x="0" y="576"/>
                </a:moveTo>
                <a:lnTo>
                  <a:pt x="432" y="576"/>
                </a:lnTo>
                <a:lnTo>
                  <a:pt x="435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32640" y="3105000"/>
            <a:ext cx="374400" cy="1887840"/>
          </a:xfrm>
          <a:custGeom>
            <a:avLst/>
            <a:gdLst/>
            <a:ahLst/>
            <a:rect l="l" t="t" r="r" b="b"/>
            <a:pathLst>
              <a:path w="289" h="1057">
                <a:moveTo>
                  <a:pt x="287" y="0"/>
                </a:moveTo>
                <a:lnTo>
                  <a:pt x="288" y="1056"/>
                </a:lnTo>
                <a:lnTo>
                  <a:pt x="216" y="1056"/>
                </a:lnTo>
                <a:lnTo>
                  <a:pt x="144" y="1056"/>
                </a:lnTo>
                <a:lnTo>
                  <a:pt x="0" y="1056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003480" y="4662360"/>
            <a:ext cx="2729160" cy="5716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19520" y="3236760"/>
            <a:ext cx="771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5459400" y="253368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2990880" y="4148280"/>
            <a:ext cx="211464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33400" y="3019320"/>
            <a:ext cx="68760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2201760" y="253368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776" name=""/>
          <p:cNvGrpSpPr/>
          <p:nvPr/>
        </p:nvGrpSpPr>
        <p:grpSpPr>
          <a:xfrm>
            <a:off x="154080" y="1531800"/>
            <a:ext cx="8913600" cy="2000520"/>
            <a:chOff x="154080" y="1531800"/>
            <a:chExt cx="8913600" cy="2000520"/>
          </a:xfrm>
        </p:grpSpPr>
        <p:sp>
          <p:nvSpPr>
            <p:cNvPr id="777" name=""/>
            <p:cNvSpPr/>
            <p:nvPr/>
          </p:nvSpPr>
          <p:spPr>
            <a:xfrm>
              <a:off x="6291360" y="1549440"/>
              <a:ext cx="2655720" cy="1982880"/>
            </a:xfrm>
            <a:prstGeom prst="cloudCallout">
              <a:avLst>
                <a:gd name="adj1" fmla="val -53166"/>
                <a:gd name="adj2" fmla="val 29101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59560" y="1943280"/>
              <a:ext cx="2508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heard that broadcast. The message is for me. Here is my Ethernet addre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54080" y="1531800"/>
              <a:ext cx="2008080" cy="1744920"/>
            </a:xfrm>
            <a:prstGeom prst="cloudCallout">
              <a:avLst>
                <a:gd name="adj1" fmla="val 54032"/>
                <a:gd name="adj2" fmla="val 4399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60280" y="1781640"/>
              <a:ext cx="1857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 anchorCtr="1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need the Ethernet address of 176.16.3.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内容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工作原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基本配置和维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584820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192040" y="5362560"/>
            <a:ext cx="497052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p I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 Ethern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Local AR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887640" y="5667480"/>
            <a:ext cx="1371600" cy="0"/>
          </a:xfrm>
          <a:prstGeom prst="line">
            <a:avLst/>
          </a:prstGeom>
          <a:ln w="255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762280" y="3133800"/>
            <a:ext cx="0" cy="39996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90800" y="3533760"/>
            <a:ext cx="481464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51280" y="3230640"/>
            <a:ext cx="771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90920" y="3019320"/>
            <a:ext cx="41256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0" y="0"/>
                </a:moveTo>
                <a:lnTo>
                  <a:pt x="0" y="720"/>
                </a:lnTo>
                <a:lnTo>
                  <a:pt x="96" y="720"/>
                </a:lnTo>
                <a:lnTo>
                  <a:pt x="192" y="720"/>
                </a:lnTo>
                <a:lnTo>
                  <a:pt x="384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819680" y="3276720"/>
            <a:ext cx="777960" cy="1030320"/>
          </a:xfrm>
          <a:custGeom>
            <a:avLst/>
            <a:gdLst/>
            <a:ahLst/>
            <a:rect l="l" t="t" r="r" b="b"/>
            <a:pathLst>
              <a:path w="436" h="577">
                <a:moveTo>
                  <a:pt x="0" y="576"/>
                </a:moveTo>
                <a:lnTo>
                  <a:pt x="432" y="576"/>
                </a:lnTo>
                <a:lnTo>
                  <a:pt x="435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32640" y="3105000"/>
            <a:ext cx="374400" cy="1887840"/>
          </a:xfrm>
          <a:custGeom>
            <a:avLst/>
            <a:gdLst/>
            <a:ahLst/>
            <a:rect l="l" t="t" r="r" b="b"/>
            <a:pathLst>
              <a:path w="289" h="1057">
                <a:moveTo>
                  <a:pt x="287" y="0"/>
                </a:moveTo>
                <a:lnTo>
                  <a:pt x="288" y="1056"/>
                </a:lnTo>
                <a:lnTo>
                  <a:pt x="216" y="1056"/>
                </a:lnTo>
                <a:lnTo>
                  <a:pt x="144" y="1056"/>
                </a:lnTo>
                <a:lnTo>
                  <a:pt x="0" y="1056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003480" y="4662360"/>
            <a:ext cx="2729160" cy="5716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19520" y="3236760"/>
            <a:ext cx="771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72.16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5459400" y="253368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990880" y="4148280"/>
            <a:ext cx="211464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733400" y="3019320"/>
            <a:ext cx="687600" cy="128772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2201760" y="2533680"/>
            <a:ext cx="817560" cy="739800"/>
          </a:xfrm>
          <a:prstGeom prst="rect">
            <a:avLst/>
          </a:prstGeom>
          <a:ln w="0">
            <a:noFill/>
          </a:ln>
        </p:spPr>
      </p:pic>
      <p:grpSp>
        <p:nvGrpSpPr>
          <p:cNvPr id="797" name=""/>
          <p:cNvGrpSpPr/>
          <p:nvPr/>
        </p:nvGrpSpPr>
        <p:grpSpPr>
          <a:xfrm>
            <a:off x="154080" y="1531800"/>
            <a:ext cx="8913600" cy="2000520"/>
            <a:chOff x="154080" y="1531800"/>
            <a:chExt cx="8913600" cy="2000520"/>
          </a:xfrm>
        </p:grpSpPr>
        <p:sp>
          <p:nvSpPr>
            <p:cNvPr id="798" name=""/>
            <p:cNvSpPr/>
            <p:nvPr/>
          </p:nvSpPr>
          <p:spPr>
            <a:xfrm>
              <a:off x="6291360" y="1549440"/>
              <a:ext cx="2655720" cy="1982880"/>
            </a:xfrm>
            <a:prstGeom prst="cloudCallout">
              <a:avLst>
                <a:gd name="adj1" fmla="val -53166"/>
                <a:gd name="adj2" fmla="val 29101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59560" y="1943280"/>
              <a:ext cx="2508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heard that broadcast. The message is for me. Here is my Ethernet addres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54080" y="1531800"/>
              <a:ext cx="2008080" cy="1744920"/>
            </a:xfrm>
            <a:prstGeom prst="cloudCallout">
              <a:avLst>
                <a:gd name="adj1" fmla="val 54032"/>
                <a:gd name="adj2" fmla="val 4399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0280" y="1781640"/>
              <a:ext cx="1857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 anchorCtr="1">
              <a:spAutoFit/>
            </a:bodyPr>
            <a:p>
              <a:pPr>
                <a:lnSpc>
                  <a:spcPts val="2137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 need the Ethernet address of 176.16.3.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647712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0524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733400" y="3710160"/>
            <a:ext cx="525636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333520" y="3195720"/>
            <a:ext cx="428760" cy="1287360"/>
          </a:xfrm>
          <a:custGeom>
            <a:avLst/>
            <a:gdLst/>
            <a:ahLst/>
            <a:rect l="l" t="t" r="r" b="b"/>
            <a:pathLst>
              <a:path w="337" h="721">
                <a:moveTo>
                  <a:pt x="0" y="0"/>
                </a:moveTo>
                <a:lnTo>
                  <a:pt x="0" y="720"/>
                </a:lnTo>
                <a:lnTo>
                  <a:pt x="84" y="720"/>
                </a:lnTo>
                <a:lnTo>
                  <a:pt x="168" y="720"/>
                </a:lnTo>
                <a:lnTo>
                  <a:pt x="336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609588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2743200" y="4324320"/>
            <a:ext cx="331488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IP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76360" y="3195720"/>
            <a:ext cx="687240" cy="128736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200196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52280" y="2133720"/>
            <a:ext cx="1522440" cy="1299960"/>
          </a:xfrm>
          <a:prstGeom prst="cloudCallout">
            <a:avLst>
              <a:gd name="adj1" fmla="val 71481"/>
              <a:gd name="adj2" fmla="val 4193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0880" y="2281320"/>
            <a:ext cx="121788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is my IP add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647712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50524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733400" y="3710160"/>
            <a:ext cx="525636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3520" y="3195720"/>
            <a:ext cx="428760" cy="1287360"/>
          </a:xfrm>
          <a:custGeom>
            <a:avLst/>
            <a:gdLst/>
            <a:ahLst/>
            <a:rect l="l" t="t" r="r" b="b"/>
            <a:pathLst>
              <a:path w="337" h="721">
                <a:moveTo>
                  <a:pt x="0" y="0"/>
                </a:moveTo>
                <a:lnTo>
                  <a:pt x="0" y="720"/>
                </a:lnTo>
                <a:lnTo>
                  <a:pt x="84" y="720"/>
                </a:lnTo>
                <a:lnTo>
                  <a:pt x="168" y="720"/>
                </a:lnTo>
                <a:lnTo>
                  <a:pt x="336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467320" y="3452760"/>
            <a:ext cx="800280" cy="1090800"/>
          </a:xfrm>
          <a:custGeom>
            <a:avLst/>
            <a:gdLst/>
            <a:ahLst/>
            <a:rect l="l" t="t" r="r" b="b"/>
            <a:pathLst>
              <a:path w="504" h="687">
                <a:moveTo>
                  <a:pt x="0" y="687"/>
                </a:moveTo>
                <a:lnTo>
                  <a:pt x="504" y="687"/>
                </a:lnTo>
                <a:lnTo>
                  <a:pt x="502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609588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2743200" y="4324320"/>
            <a:ext cx="331488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IP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476360" y="3195720"/>
            <a:ext cx="687240" cy="128736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200196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52280" y="2133720"/>
            <a:ext cx="1522440" cy="1299960"/>
          </a:xfrm>
          <a:prstGeom prst="cloudCallout">
            <a:avLst>
              <a:gd name="adj1" fmla="val 71481"/>
              <a:gd name="adj2" fmla="val 4193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0880" y="2281320"/>
            <a:ext cx="121788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is my IP add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11880" y="1684440"/>
            <a:ext cx="1779840" cy="2025720"/>
          </a:xfrm>
          <a:prstGeom prst="cloudCallout">
            <a:avLst>
              <a:gd name="adj1" fmla="val -73370"/>
              <a:gd name="adj2" fmla="val 289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78640" y="1905120"/>
            <a:ext cx="14749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 heard that broadcast. Your IP address is 172.16.3.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40080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0524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733400" y="3710160"/>
            <a:ext cx="525636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33520" y="3195720"/>
            <a:ext cx="428760" cy="1287360"/>
          </a:xfrm>
          <a:custGeom>
            <a:avLst/>
            <a:gdLst/>
            <a:ahLst/>
            <a:rect l="l" t="t" r="r" b="b"/>
            <a:pathLst>
              <a:path w="337" h="721">
                <a:moveTo>
                  <a:pt x="0" y="0"/>
                </a:moveTo>
                <a:lnTo>
                  <a:pt x="0" y="720"/>
                </a:lnTo>
                <a:lnTo>
                  <a:pt x="84" y="720"/>
                </a:lnTo>
                <a:lnTo>
                  <a:pt x="168" y="720"/>
                </a:lnTo>
                <a:lnTo>
                  <a:pt x="336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77040" y="3452760"/>
            <a:ext cx="790560" cy="1119240"/>
          </a:xfrm>
          <a:custGeom>
            <a:avLst/>
            <a:gdLst/>
            <a:ahLst/>
            <a:rect l="l" t="t" r="r" b="b"/>
            <a:pathLst>
              <a:path w="498" h="705">
                <a:moveTo>
                  <a:pt x="0" y="705"/>
                </a:moveTo>
                <a:lnTo>
                  <a:pt x="498" y="699"/>
                </a:lnTo>
                <a:lnTo>
                  <a:pt x="496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00560" y="3305160"/>
            <a:ext cx="1409760" cy="1862280"/>
          </a:xfrm>
          <a:custGeom>
            <a:avLst/>
            <a:gdLst/>
            <a:ahLst/>
            <a:rect l="l" t="t" r="r" b="b"/>
            <a:pathLst>
              <a:path w="888" h="1173">
                <a:moveTo>
                  <a:pt x="888" y="0"/>
                </a:moveTo>
                <a:lnTo>
                  <a:pt x="888" y="1164"/>
                </a:lnTo>
                <a:lnTo>
                  <a:pt x="0" y="1173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43200" y="4838760"/>
            <a:ext cx="2457360" cy="57132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609588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2743200" y="4324320"/>
            <a:ext cx="331488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IP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476360" y="3195720"/>
            <a:ext cx="687240" cy="128736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200196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152280" y="2133720"/>
            <a:ext cx="1522440" cy="1299960"/>
          </a:xfrm>
          <a:prstGeom prst="cloudCallout">
            <a:avLst>
              <a:gd name="adj1" fmla="val 71481"/>
              <a:gd name="adj2" fmla="val 4193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80880" y="2281320"/>
            <a:ext cx="121788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is my IP add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211880" y="1684440"/>
            <a:ext cx="1779840" cy="2025720"/>
          </a:xfrm>
          <a:prstGeom prst="cloudCallout">
            <a:avLst>
              <a:gd name="adj1" fmla="val -72569"/>
              <a:gd name="adj2" fmla="val 289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478640" y="1905120"/>
            <a:ext cx="147492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 heard that broadcast. Your IP address is 172.16.3.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477040" y="3452760"/>
            <a:ext cx="790560" cy="1119240"/>
          </a:xfrm>
          <a:custGeom>
            <a:avLst/>
            <a:gdLst/>
            <a:ahLst/>
            <a:rect l="l" t="t" r="r" b="b"/>
            <a:pathLst>
              <a:path w="498" h="705">
                <a:moveTo>
                  <a:pt x="0" y="705"/>
                </a:moveTo>
                <a:lnTo>
                  <a:pt x="498" y="699"/>
                </a:lnTo>
                <a:lnTo>
                  <a:pt x="496" y="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124600" y="3305160"/>
            <a:ext cx="1485720" cy="1862280"/>
          </a:xfrm>
          <a:custGeom>
            <a:avLst/>
            <a:gdLst/>
            <a:ahLst/>
            <a:rect l="l" t="t" r="r" b="b"/>
            <a:pathLst>
              <a:path w="888" h="1173">
                <a:moveTo>
                  <a:pt x="888" y="0"/>
                </a:moveTo>
                <a:lnTo>
                  <a:pt x="888" y="1164"/>
                </a:lnTo>
                <a:lnTo>
                  <a:pt x="0" y="1173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40080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RAR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工作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120" y="5400720"/>
            <a:ext cx="7543800" cy="1457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343080" indent="-343080">
              <a:spcBef>
                <a:spcPts val="975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Map Ethernet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I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029200" y="5867280"/>
            <a:ext cx="762120" cy="0"/>
          </a:xfrm>
          <a:prstGeom prst="line">
            <a:avLst/>
          </a:prstGeom>
          <a:ln w="255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428920" y="3309840"/>
            <a:ext cx="0" cy="40032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657440" y="3710160"/>
            <a:ext cx="52560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57560" y="3195720"/>
            <a:ext cx="428400" cy="1287360"/>
          </a:xfrm>
          <a:custGeom>
            <a:avLst/>
            <a:gdLst/>
            <a:ahLst/>
            <a:rect l="l" t="t" r="r" b="b"/>
            <a:pathLst>
              <a:path w="337" h="721">
                <a:moveTo>
                  <a:pt x="0" y="0"/>
                </a:moveTo>
                <a:lnTo>
                  <a:pt x="0" y="720"/>
                </a:lnTo>
                <a:lnTo>
                  <a:pt x="84" y="720"/>
                </a:lnTo>
                <a:lnTo>
                  <a:pt x="168" y="720"/>
                </a:lnTo>
                <a:lnTo>
                  <a:pt x="336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666880" y="4838760"/>
            <a:ext cx="2457720" cy="57132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 172.16.3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601992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2666880" y="4324320"/>
            <a:ext cx="3314880" cy="314280"/>
          </a:xfrm>
          <a:prstGeom prst="rect">
            <a:avLst/>
          </a:prstGeom>
          <a:solidFill>
            <a:srgbClr val="00ccff"/>
          </a:solidFill>
          <a:ln w="19080">
            <a:solidFill>
              <a:srgbClr val="1c1c1c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thernet: 0800.0020.1111 IP =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400040" y="3195720"/>
            <a:ext cx="687600" cy="1287360"/>
          </a:xfrm>
          <a:custGeom>
            <a:avLst/>
            <a:gdLst/>
            <a:ahLst/>
            <a:rect l="l" t="t" r="r" b="b"/>
            <a:pathLst>
              <a:path w="385" h="721">
                <a:moveTo>
                  <a:pt x="384" y="0"/>
                </a:moveTo>
                <a:lnTo>
                  <a:pt x="384" y="720"/>
                </a:lnTo>
                <a:lnTo>
                  <a:pt x="288" y="720"/>
                </a:lnTo>
                <a:lnTo>
                  <a:pt x="192" y="720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ffcf01"/>
            </a:solidFill>
            <a:round/>
            <a:tailEnd len="med" type="triangle" w="med"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1925640" y="2709720"/>
            <a:ext cx="817560" cy="73980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76320" y="2133720"/>
            <a:ext cx="1522440" cy="1299960"/>
          </a:xfrm>
          <a:prstGeom prst="cloudCallout">
            <a:avLst>
              <a:gd name="adj1" fmla="val 71481"/>
              <a:gd name="adj2" fmla="val 4193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4920" y="2281320"/>
            <a:ext cx="1217520" cy="9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hat is my IP addr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135920" y="1684440"/>
            <a:ext cx="1779480" cy="2025720"/>
          </a:xfrm>
          <a:prstGeom prst="cloudCallout">
            <a:avLst>
              <a:gd name="adj1" fmla="val -74708"/>
              <a:gd name="adj2" fmla="val 283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402680" y="1905120"/>
            <a:ext cx="1474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ts val="2137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 heard that broadcast. Your IP address is 172.16.3.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M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消息通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报传送，被用来发送错误和控制信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了很多信息类型，例如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的地不可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超时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息请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息应答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请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应答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CM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的应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00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台计算机上向远程主机发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时，可能收到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接建立成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标主机不可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求时间超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未知主机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工作原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819760" y="3363840"/>
            <a:ext cx="685800" cy="933480"/>
          </a:xfrm>
          <a:prstGeom prst="downArrow">
            <a:avLst>
              <a:gd name="adj1" fmla="val 50000"/>
              <a:gd name="adj2" fmla="val 46531"/>
            </a:avLst>
          </a:prstGeom>
          <a:gradFill rotWithShape="0">
            <a:gsLst>
              <a:gs pos="0">
                <a:srgbClr val="054d64"/>
              </a:gs>
              <a:gs pos="100000">
                <a:srgbClr val="0ba8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43680" y="4335480"/>
            <a:ext cx="2006280" cy="140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278320" y="428220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ing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156280" y="457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835600" y="45777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336360" y="4577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296320" y="489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296320" y="51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96320" y="538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91400" y="48920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891400" y="5139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891400" y="5387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615360" y="489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615360" y="51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615360" y="538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543040" y="3363840"/>
            <a:ext cx="685800" cy="933480"/>
          </a:xfrm>
          <a:prstGeom prst="downArrow">
            <a:avLst>
              <a:gd name="adj1" fmla="val 50000"/>
              <a:gd name="adj2" fmla="val 46531"/>
            </a:avLst>
          </a:prstGeom>
          <a:gradFill rotWithShape="0">
            <a:gsLst>
              <a:gs pos="0">
                <a:srgbClr val="054d64"/>
              </a:gs>
              <a:gs pos="100000">
                <a:srgbClr val="0ba8d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209760" y="3002040"/>
            <a:ext cx="743040" cy="164880"/>
          </a:xfrm>
          <a:custGeom>
            <a:avLst/>
            <a:gdLst/>
            <a:ahLst/>
            <a:rect l="l" t="t" r="r" b="b"/>
            <a:pathLst>
              <a:path w="468" h="104">
                <a:moveTo>
                  <a:pt x="0" y="104"/>
                </a:moveTo>
                <a:lnTo>
                  <a:pt x="328" y="104"/>
                </a:lnTo>
                <a:lnTo>
                  <a:pt x="168" y="0"/>
                </a:lnTo>
                <a:lnTo>
                  <a:pt x="468" y="2"/>
                </a:lnTo>
              </a:path>
            </a:pathLst>
          </a:custGeom>
          <a:noFill/>
          <a:ln w="38160">
            <a:solidFill>
              <a:srgbClr val="ffcf01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5104800" y="3002040"/>
            <a:ext cx="742680" cy="164880"/>
          </a:xfrm>
          <a:custGeom>
            <a:avLst/>
            <a:gdLst/>
            <a:ahLst/>
            <a:rect l="l" t="t" r="r" b="b"/>
            <a:pathLst>
              <a:path w="468" h="104">
                <a:moveTo>
                  <a:pt x="0" y="104"/>
                </a:moveTo>
                <a:lnTo>
                  <a:pt x="328" y="104"/>
                </a:lnTo>
                <a:lnTo>
                  <a:pt x="168" y="0"/>
                </a:lnTo>
                <a:lnTo>
                  <a:pt x="468" y="2"/>
                </a:lnTo>
              </a:path>
            </a:pathLst>
          </a:custGeom>
          <a:noFill/>
          <a:ln w="38160">
            <a:solidFill>
              <a:srgbClr val="ffcf01"/>
            </a:solidFill>
            <a:round/>
          </a:ln>
          <a:effectLst>
            <a:outerShdw dist="28496" dir="38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578640" y="314496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28800" y="314496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238880" y="261144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238880" y="374508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55600" y="261144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155600" y="3745080"/>
            <a:ext cx="68580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762120" y="2135160"/>
            <a:ext cx="761760" cy="68904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762120" y="3278160"/>
            <a:ext cx="761760" cy="68904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3"/>
          <a:stretch/>
        </p:blipFill>
        <p:spPr>
          <a:xfrm>
            <a:off x="7543800" y="2135160"/>
            <a:ext cx="762120" cy="68904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4"/>
          <a:stretch/>
        </p:blipFill>
        <p:spPr>
          <a:xfrm>
            <a:off x="7543800" y="3278160"/>
            <a:ext cx="762120" cy="68904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5"/>
          <a:stretch/>
        </p:blipFill>
        <p:spPr>
          <a:xfrm>
            <a:off x="3797280" y="2687760"/>
            <a:ext cx="1447920" cy="876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1c1c1c"/>
            </a:outerShdw>
          </a:effectLst>
        </p:spPr>
      </p:pic>
      <p:pic>
        <p:nvPicPr>
          <p:cNvPr id="895" name="" descr=""/>
          <p:cNvPicPr/>
          <p:nvPr/>
        </p:nvPicPr>
        <p:blipFill>
          <a:blip r:embed="rId6"/>
          <a:stretch/>
        </p:blipFill>
        <p:spPr>
          <a:xfrm>
            <a:off x="2446200" y="2916360"/>
            <a:ext cx="906480" cy="53316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7"/>
          <a:stretch/>
        </p:blipFill>
        <p:spPr>
          <a:xfrm>
            <a:off x="5715000" y="2916360"/>
            <a:ext cx="906480" cy="53316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1828800" y="2077920"/>
            <a:ext cx="0" cy="22100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38880" y="2077920"/>
            <a:ext cx="0" cy="22100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573560" y="175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993000" y="1753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32200" y="2824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51280" y="3129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561360" y="2824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329440" y="3187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10360" y="269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581880" y="32061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43600" y="269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262680" y="3129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670880" y="1834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670880" y="2977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98560" y="1834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98560" y="29775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33560" y="4351320"/>
            <a:ext cx="2057400" cy="138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144880" y="429192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ing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930320" y="457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28720" y="457776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96080" y="45777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tr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943280" y="49068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219480" y="4630680"/>
            <a:ext cx="0" cy="11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95920" y="489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095920" y="51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095920" y="538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662560" y="48920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662560" y="5139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662560" y="5387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424680" y="4892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24680" y="51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24680" y="538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940040" y="4621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33960" y="4897440"/>
            <a:ext cx="2038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143680" y="4614840"/>
            <a:ext cx="20062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577960" y="4630680"/>
            <a:ext cx="0" cy="11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97440" y="4630680"/>
            <a:ext cx="0" cy="11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381720" y="4630680"/>
            <a:ext cx="0" cy="11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342160" y="248616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oute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726520" y="2492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oute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从主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1.1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到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4.2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数据传送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76240" y="1125000"/>
            <a:ext cx="7391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包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发传给缺省网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接收到数据后，查看数据包的目的地址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并查找路由表是否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段的路由条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路由表中找到相应路由条目，并把数据包转到接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包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转发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接收到数据后，查看数据包的目的地址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并查找路由表看是否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网段的路由条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路由表中找到相应路由条目，并把数据包转到接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据包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出发直接到达主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的基本概念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66960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：跨越从源主机到目标主机的一个互联网络来转发数据包的过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器：是专门设计用于路由的设备，不能运行应用程序。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系列路由器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C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司的系列路由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表：在路由器中维护的路由条目，路由器根据路由表做路径选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发现：路由器学习路由条目的过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选择：路由器根据路由表选择到达目标网络的最佳路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由维护：路由器根据拓朴结构的变化对路由条目进行重配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网络层的各个协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网的划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P/RAR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概念，原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由器的基本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配置静态路由和默认路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静态路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943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态路由是由管理员手工配置的，是单向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909720" y="5016600"/>
            <a:ext cx="7118280" cy="5382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480" rIns="69480" tIns="98640" bIns="9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A(config)#ip route 192.168.1.0 255.255.255.0 192.168.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900000" y="2338560"/>
            <a:ext cx="7659720" cy="2552400"/>
            <a:chOff x="900000" y="2338560"/>
            <a:chExt cx="7659720" cy="2552400"/>
          </a:xfrm>
        </p:grpSpPr>
        <p:sp>
          <p:nvSpPr>
            <p:cNvPr id="945" name=""/>
            <p:cNvSpPr/>
            <p:nvPr/>
          </p:nvSpPr>
          <p:spPr>
            <a:xfrm>
              <a:off x="5688000" y="2338560"/>
              <a:ext cx="2871720" cy="2430360"/>
            </a:xfrm>
            <a:prstGeom prst="ellipse">
              <a:avLst/>
            </a:prstGeom>
            <a:solidFill>
              <a:srgbClr val="cad2d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82920" y="2849400"/>
              <a:ext cx="20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84320" y="2736720"/>
              <a:ext cx="2574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98280" bIns="9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072040" y="3743280"/>
              <a:ext cx="28440" cy="42840"/>
            </a:xfrm>
            <a:prstGeom prst="rect">
              <a:avLst/>
            </a:prstGeom>
            <a:solidFill>
              <a:srgbClr val="ff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-55440" bIns="-55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1"/>
            <a:stretch/>
          </p:blipFill>
          <p:spPr>
            <a:xfrm>
              <a:off x="900000" y="3041640"/>
              <a:ext cx="2286000" cy="1300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950" name=""/>
            <p:cNvSpPr/>
            <p:nvPr/>
          </p:nvSpPr>
          <p:spPr>
            <a:xfrm>
              <a:off x="4530960" y="3900600"/>
              <a:ext cx="1072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2.168.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51240" y="3355920"/>
              <a:ext cx="2934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509080" y="3024360"/>
              <a:ext cx="1072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2.168.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54160" y="3760920"/>
              <a:ext cx="146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73"/>
                </a:lnSpc>
                <a:spcAft>
                  <a:spcPts val="901"/>
                </a:spcAft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46840" y="3897360"/>
              <a:ext cx="1072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998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2.168.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348200" y="355536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1303200" y="2916360"/>
              <a:ext cx="84312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718320" y="3170160"/>
              <a:ext cx="509400" cy="1116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35600" y="4057560"/>
              <a:ext cx="525600" cy="180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31080" y="3755880"/>
              <a:ext cx="684000" cy="324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0" name="" descr=""/>
            <p:cNvPicPr/>
            <p:nvPr/>
          </p:nvPicPr>
          <p:blipFill>
            <a:blip r:embed="rId3"/>
            <a:stretch/>
          </p:blipFill>
          <p:spPr>
            <a:xfrm>
              <a:off x="6988320" y="3780000"/>
              <a:ext cx="742680" cy="7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4"/>
            <a:stretch/>
          </p:blipFill>
          <p:spPr>
            <a:xfrm>
              <a:off x="6997680" y="2760840"/>
              <a:ext cx="743040" cy="7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6721560" y="3029040"/>
              <a:ext cx="1440" cy="121896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3094200" y="3629160"/>
              <a:ext cx="2442600" cy="158400"/>
              <a:chOff x="3094200" y="3629160"/>
              <a:chExt cx="2442600" cy="158400"/>
            </a:xfrm>
          </p:grpSpPr>
          <p:sp>
            <p:nvSpPr>
              <p:cNvPr id="964" name=""/>
              <p:cNvSpPr/>
              <p:nvPr/>
            </p:nvSpPr>
            <p:spPr>
              <a:xfrm>
                <a:off x="3094200" y="3636000"/>
                <a:ext cx="1571040" cy="28440"/>
              </a:xfrm>
              <a:prstGeom prst="rect">
                <a:avLst/>
              </a:prstGeom>
              <a:solidFill>
                <a:srgbClr val="ffcf01"/>
              </a:solidFill>
              <a:ln w="12600">
                <a:solidFill>
                  <a:srgbClr val="ffcf01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308120" y="3750480"/>
                <a:ext cx="1228680" cy="28080"/>
              </a:xfrm>
              <a:prstGeom prst="rect">
                <a:avLst/>
              </a:prstGeom>
              <a:solidFill>
                <a:srgbClr val="ffcf01"/>
              </a:solidFill>
              <a:ln w="12600">
                <a:solidFill>
                  <a:srgbClr val="ffcf01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01280" y="3629160"/>
                <a:ext cx="401400" cy="158400"/>
              </a:xfrm>
              <a:custGeom>
                <a:avLst/>
                <a:gdLst/>
                <a:ahLst/>
                <a:rect l="l" t="t" r="r" b="b"/>
                <a:pathLst>
                  <a:path w="225" h="89">
                    <a:moveTo>
                      <a:pt x="0" y="64"/>
                    </a:moveTo>
                    <a:lnTo>
                      <a:pt x="8" y="88"/>
                    </a:lnTo>
                    <a:lnTo>
                      <a:pt x="224" y="24"/>
                    </a:lnTo>
                    <a:lnTo>
                      <a:pt x="216" y="0"/>
                    </a:lnTo>
                    <a:lnTo>
                      <a:pt x="0" y="64"/>
                    </a:lnTo>
                  </a:path>
                </a:pathLst>
              </a:custGeom>
              <a:solidFill>
                <a:srgbClr val="ffcf01"/>
              </a:solidFill>
              <a:ln cap="rnd" w="12600">
                <a:solidFill>
                  <a:srgbClr val="ffcf01"/>
                </a:solidFill>
                <a:round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67" name="" descr=""/>
            <p:cNvPicPr/>
            <p:nvPr/>
          </p:nvPicPr>
          <p:blipFill>
            <a:blip r:embed="rId5"/>
            <a:stretch/>
          </p:blipFill>
          <p:spPr>
            <a:xfrm>
              <a:off x="2486160" y="3479760"/>
              <a:ext cx="79992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" descr=""/>
            <p:cNvPicPr/>
            <p:nvPr/>
          </p:nvPicPr>
          <p:blipFill>
            <a:blip r:embed="rId6"/>
            <a:stretch/>
          </p:blipFill>
          <p:spPr>
            <a:xfrm>
              <a:off x="5300640" y="3479760"/>
              <a:ext cx="8002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2822040" y="3754440"/>
              <a:ext cx="146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73"/>
                </a:lnSpc>
                <a:spcAft>
                  <a:spcPts val="901"/>
                </a:spcAft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0" name="" descr=""/>
            <p:cNvPicPr/>
            <p:nvPr/>
          </p:nvPicPr>
          <p:blipFill>
            <a:blip r:embed="rId7"/>
            <a:stretch/>
          </p:blipFill>
          <p:spPr>
            <a:xfrm>
              <a:off x="932040" y="3979800"/>
              <a:ext cx="84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5630400" y="3759120"/>
              <a:ext cx="14688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1573"/>
                </a:lnSpc>
                <a:spcAft>
                  <a:spcPts val="901"/>
                </a:spcAft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63880" y="3954600"/>
              <a:ext cx="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98280" bIns="9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默认路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79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路由器在路由表中找不到目标网络的路由条目时，路由器把请求转发到默认路由接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03560" y="3975120"/>
            <a:ext cx="2448000" cy="162000"/>
          </a:xfrm>
          <a:custGeom>
            <a:avLst/>
            <a:gdLst/>
            <a:ahLst/>
            <a:rect l="l" t="t" r="r" b="b"/>
            <a:pathLst>
              <a:path w="1542" h="102">
                <a:moveTo>
                  <a:pt x="0" y="0"/>
                </a:moveTo>
                <a:lnTo>
                  <a:pt x="894" y="6"/>
                </a:lnTo>
                <a:lnTo>
                  <a:pt x="696" y="102"/>
                </a:lnTo>
                <a:lnTo>
                  <a:pt x="1542" y="96"/>
                </a:lnTo>
              </a:path>
            </a:pathLst>
          </a:custGeom>
          <a:noFill/>
          <a:ln w="38160">
            <a:solidFill>
              <a:srgbClr val="ffcf01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732640" y="2930400"/>
            <a:ext cx="2871720" cy="2430720"/>
          </a:xfrm>
          <a:prstGeom prst="ellipse">
            <a:avLst/>
          </a:prstGeom>
          <a:solidFill>
            <a:srgbClr val="cad2d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33640" y="2676600"/>
            <a:ext cx="1969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ub Network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末节网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400560" y="4910040"/>
            <a:ext cx="20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403280" y="5504040"/>
            <a:ext cx="5905440" cy="5378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9480" rIns="69480" tIns="98280" bIns="9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76360" y="5595840"/>
            <a:ext cx="71992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B(config)#ip route 0.0.0.0 0.0.0.0 192.168.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917720" y="5722920"/>
            <a:ext cx="257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480" rIns="69480" tIns="98280" bIns="9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820000" y="5786280"/>
            <a:ext cx="0" cy="10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9480" rIns="69480" tIns="98280" bIns="9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028960" y="3092400"/>
            <a:ext cx="257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480" rIns="69480" tIns="98280" bIns="9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1"/>
          <a:stretch/>
        </p:blipFill>
        <p:spPr>
          <a:xfrm>
            <a:off x="944640" y="3397320"/>
            <a:ext cx="2286000" cy="129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985" name=""/>
          <p:cNvSpPr/>
          <p:nvPr/>
        </p:nvSpPr>
        <p:spPr>
          <a:xfrm>
            <a:off x="4575600" y="4255920"/>
            <a:ext cx="1072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2.168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395520" y="3711600"/>
            <a:ext cx="2934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80360" y="3379680"/>
            <a:ext cx="1072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92.168.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698800" y="4116240"/>
            <a:ext cx="146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73"/>
              </a:lnSpc>
              <a:spcAft>
                <a:spcPts val="901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291120" y="4253040"/>
            <a:ext cx="1072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2.168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92840" y="39110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1347840" y="3271680"/>
            <a:ext cx="842760" cy="48924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/>
          <p:nvPr/>
        </p:nvSpPr>
        <p:spPr>
          <a:xfrm>
            <a:off x="6762600" y="3525840"/>
            <a:ext cx="490680" cy="14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780240" y="4413240"/>
            <a:ext cx="525600" cy="14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75360" y="4130640"/>
            <a:ext cx="684360" cy="324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3"/>
          <a:stretch/>
        </p:blipFill>
        <p:spPr>
          <a:xfrm>
            <a:off x="7032600" y="4135320"/>
            <a:ext cx="743040" cy="7398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4"/>
          <a:stretch/>
        </p:blipFill>
        <p:spPr>
          <a:xfrm>
            <a:off x="7042320" y="3116160"/>
            <a:ext cx="742680" cy="7398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6765840" y="3384720"/>
            <a:ext cx="1800" cy="12189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8" name="" descr=""/>
          <p:cNvPicPr/>
          <p:nvPr/>
        </p:nvPicPr>
        <p:blipFill>
          <a:blip r:embed="rId5"/>
          <a:stretch/>
        </p:blipFill>
        <p:spPr>
          <a:xfrm>
            <a:off x="2530440" y="3835440"/>
            <a:ext cx="800280" cy="46188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6"/>
          <a:stretch/>
        </p:blipFill>
        <p:spPr>
          <a:xfrm>
            <a:off x="5345280" y="3835440"/>
            <a:ext cx="799920" cy="46188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2815920" y="4084560"/>
            <a:ext cx="146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73"/>
              </a:lnSpc>
              <a:spcAft>
                <a:spcPts val="901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7"/>
          <a:stretch/>
        </p:blipFill>
        <p:spPr>
          <a:xfrm>
            <a:off x="976320" y="4335480"/>
            <a:ext cx="843120" cy="48888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5648040" y="4097160"/>
            <a:ext cx="1468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73"/>
              </a:lnSpc>
              <a:spcAft>
                <a:spcPts val="901"/>
              </a:spcAft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动态路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运行路由协议，使路由器可以自动根据网络拓朴结构的变化调整路由条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之间利用路由协议进行路由交换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需管理员手工维护，减轻了管理员的工作负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广域网上使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和交换对比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75880" y="119700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由工作在网络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由是路由器根据自己的路由表进行的，其间经过了路由选择和路由转发的过程，从路由器的一个接口“路由”到的另外一个接口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工作在数据链路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是交换机根据自己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表在交换机的不同端口之间进行的，从交换机的一个端口“交换”到另外一个端口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硬件组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841640" cy="48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启动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465360" y="1800360"/>
            <a:ext cx="2186280" cy="3857400"/>
          </a:xfrm>
          <a:prstGeom prst="rect">
            <a:avLst/>
          </a:prstGeom>
          <a:solidFill>
            <a:srgbClr val="2a6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100400" y="1428840"/>
            <a:ext cx="9144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 algn="ctr"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893880" y="1743120"/>
            <a:ext cx="6857640" cy="442440"/>
            <a:chOff x="893880" y="1743120"/>
            <a:chExt cx="6857640" cy="442440"/>
          </a:xfrm>
        </p:grpSpPr>
        <p:sp>
          <p:nvSpPr>
            <p:cNvPr id="1013" name=""/>
            <p:cNvSpPr/>
            <p:nvPr/>
          </p:nvSpPr>
          <p:spPr>
            <a:xfrm>
              <a:off x="893880" y="1800000"/>
              <a:ext cx="1414080" cy="385560"/>
            </a:xfrm>
            <a:prstGeom prst="roundRect">
              <a:avLst>
                <a:gd name="adj" fmla="val 24130"/>
              </a:avLst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65360" y="1800000"/>
              <a:ext cx="2185560" cy="385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829680" y="1828800"/>
              <a:ext cx="145728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tstr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722920" y="1743120"/>
              <a:ext cx="20286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>
                <a:lnSpc>
                  <a:spcPts val="2361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装载引导代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893880" y="2185920"/>
            <a:ext cx="7286040" cy="1800000"/>
            <a:chOff x="893880" y="2185920"/>
            <a:chExt cx="7286040" cy="1800000"/>
          </a:xfrm>
        </p:grpSpPr>
        <p:sp>
          <p:nvSpPr>
            <p:cNvPr id="1018" name=""/>
            <p:cNvSpPr/>
            <p:nvPr/>
          </p:nvSpPr>
          <p:spPr>
            <a:xfrm>
              <a:off x="1279080" y="2828520"/>
              <a:ext cx="1414440" cy="385920"/>
            </a:xfrm>
            <a:prstGeom prst="roundRect">
              <a:avLst>
                <a:gd name="adj" fmla="val 24130"/>
              </a:avLst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FTP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93880" y="2314080"/>
              <a:ext cx="1414080" cy="385920"/>
            </a:xfrm>
            <a:prstGeom prst="roundRect">
              <a:avLst>
                <a:gd name="adj" fmla="val 24130"/>
              </a:avLst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l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36480" y="3342960"/>
              <a:ext cx="1414440" cy="385920"/>
            </a:xfrm>
            <a:prstGeom prst="roundRect">
              <a:avLst>
                <a:gd name="adj" fmla="val 24130"/>
              </a:avLst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465360" y="2185920"/>
              <a:ext cx="2185560" cy="1800000"/>
            </a:xfrm>
            <a:prstGeom prst="rect">
              <a:avLst/>
            </a:prstGeom>
            <a:solidFill>
              <a:srgbClr val="3399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50920" y="2621160"/>
              <a:ext cx="14144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nter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per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07960" y="2442960"/>
              <a:ext cx="11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693880" y="2957400"/>
              <a:ext cx="771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50920" y="3471840"/>
              <a:ext cx="51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722560" y="2185920"/>
              <a:ext cx="24573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现和装载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OS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软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893880" y="3986280"/>
            <a:ext cx="7371720" cy="1671120"/>
            <a:chOff x="893880" y="3986280"/>
            <a:chExt cx="7371720" cy="1671120"/>
          </a:xfrm>
        </p:grpSpPr>
        <p:sp>
          <p:nvSpPr>
            <p:cNvPr id="1028" name=""/>
            <p:cNvSpPr/>
            <p:nvPr/>
          </p:nvSpPr>
          <p:spPr>
            <a:xfrm>
              <a:off x="1536480" y="5143320"/>
              <a:ext cx="1414440" cy="385920"/>
            </a:xfrm>
            <a:prstGeom prst="roundRect">
              <a:avLst>
                <a:gd name="adj" fmla="val 24130"/>
              </a:avLst>
            </a:prstGeom>
            <a:solidFill>
              <a:srgbClr val="ff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Cons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79080" y="4628880"/>
              <a:ext cx="1414440" cy="385920"/>
            </a:xfrm>
            <a:prstGeom prst="roundRect">
              <a:avLst>
                <a:gd name="adj" fmla="val 24130"/>
              </a:avLst>
            </a:prstGeom>
            <a:solidFill>
              <a:srgbClr val="ff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FTP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93880" y="4114440"/>
              <a:ext cx="1414080" cy="385920"/>
            </a:xfrm>
            <a:prstGeom prst="roundRect">
              <a:avLst>
                <a:gd name="adj" fmla="val 24130"/>
              </a:avLst>
            </a:prstGeom>
            <a:solidFill>
              <a:srgbClr val="ff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NV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465360" y="3986280"/>
              <a:ext cx="2185560" cy="16711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79560" y="4593240"/>
              <a:ext cx="1757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u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307960" y="4243320"/>
              <a:ext cx="115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693880" y="4757760"/>
              <a:ext cx="771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50920" y="5271840"/>
              <a:ext cx="51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22920" y="4057560"/>
              <a:ext cx="25426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发现和应用配置文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或进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tup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模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1019160" y="5949720"/>
            <a:ext cx="7873920" cy="67788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480" bIns="51480" anchor="t">
            <a:normAutofit/>
          </a:bodyPr>
          <a:p>
            <a:pPr lvl="1" marL="819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没有配置文件与有配置文件的路由器启动对比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475240" y="1484280"/>
            <a:ext cx="1814400" cy="0"/>
          </a:xfrm>
          <a:prstGeom prst="line">
            <a:avLst/>
          </a:prstGeom>
          <a:ln w="507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4154400" y="1052640"/>
            <a:ext cx="1675080" cy="79200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422280" y="1916280"/>
            <a:ext cx="7156440" cy="20095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68360" y="1989000"/>
            <a:ext cx="6910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---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ystem Configuration Dialog 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ontinue with configuration dialog? [yes/no]: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t any point you may enter a question mark '?' for help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se ctrl-c to abort configuration dialog at any prompt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Default settings are in square brackets '[ ]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169360" y="3789360"/>
            <a:ext cx="1754280" cy="689040"/>
          </a:xfrm>
          <a:custGeom>
            <a:avLst/>
            <a:gdLst/>
            <a:ahLst/>
            <a:rect l="l" t="t" r="r" b="b"/>
            <a:pathLst>
              <a:path w="1353" h="193">
                <a:moveTo>
                  <a:pt x="1352" y="192"/>
                </a:moveTo>
                <a:lnTo>
                  <a:pt x="0" y="0"/>
                </a:lnTo>
                <a:lnTo>
                  <a:pt x="1352" y="128"/>
                </a:lnTo>
                <a:lnTo>
                  <a:pt x="1352" y="192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8360" y="4149720"/>
            <a:ext cx="1700280" cy="68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556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tu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99160" y="3819600"/>
            <a:ext cx="3924000" cy="192384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889520" y="3900600"/>
            <a:ext cx="393840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34200" bIns="342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Router con0 is now avail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Press RETURN to get starte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6056280" y="5229360"/>
            <a:ext cx="2187360" cy="633240"/>
            <a:chOff x="6056280" y="5229360"/>
            <a:chExt cx="2187360" cy="633240"/>
          </a:xfrm>
        </p:grpSpPr>
        <p:sp>
          <p:nvSpPr>
            <p:cNvPr id="1047" name=""/>
            <p:cNvSpPr/>
            <p:nvPr/>
          </p:nvSpPr>
          <p:spPr>
            <a:xfrm>
              <a:off x="6056280" y="5229360"/>
              <a:ext cx="1360440" cy="490320"/>
            </a:xfrm>
            <a:custGeom>
              <a:avLst/>
              <a:gdLst/>
              <a:ahLst/>
              <a:rect l="l" t="t" r="r" b="b"/>
              <a:pathLst>
                <a:path w="1353" h="193">
                  <a:moveTo>
                    <a:pt x="1352" y="192"/>
                  </a:moveTo>
                  <a:lnTo>
                    <a:pt x="0" y="0"/>
                  </a:lnTo>
                  <a:lnTo>
                    <a:pt x="1352" y="128"/>
                  </a:lnTo>
                  <a:lnTo>
                    <a:pt x="1352" y="192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926040" y="5229360"/>
              <a:ext cx="1317600" cy="6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户模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5052960" y="5076720"/>
            <a:ext cx="31305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34200" bIns="34200" anchor="t">
            <a:noAutofit/>
          </a:bodyPr>
          <a:p>
            <a:pPr>
              <a:lnSpc>
                <a:spcPts val="1899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Rou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启动时在控制台上的输出内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2"/>
          <a:stretch/>
        </p:blipFill>
        <p:spPr>
          <a:xfrm>
            <a:off x="6888240" y="1117440"/>
            <a:ext cx="1382760" cy="137484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>
            <a:off x="7246800" y="1519200"/>
            <a:ext cx="115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4120" rIns="24120" tIns="34200" bIns="34200" anchor="t">
            <a:noAutofit/>
          </a:bodyPr>
          <a:p>
            <a:pPr>
              <a:lnSpc>
                <a:spcPts val="1774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3467160"/>
                <a:tab algn="l" pos="4622760"/>
                <a:tab algn="l" pos="5778360"/>
                <a:tab algn="l" pos="6934320"/>
                <a:tab algn="l" pos="8089920"/>
                <a:tab algn="l" pos="9245520"/>
                <a:tab algn="l" pos="104014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控制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1012680" y="1852560"/>
            <a:ext cx="7156440" cy="402264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211760" y="1995840"/>
            <a:ext cx="64749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#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宋体"/>
              </a:rPr>
              <a:t>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--- System Configuration Dialog 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ontinue with configuration dialog? [yes/no]: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t any point you may enter a question mark '?' for hel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se ctrl-c to abort configuration dialog at any promp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fault settings are in square brackets '[]'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asic management setup configures only enough conne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or management of the system, extended setup will ask 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o configure each interface on the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Would you like to enter basic management setup? [yes/no]: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etup: 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初始配置对话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配置模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395280" y="1511280"/>
            <a:ext cx="748980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"/>
          <p:cNvSpPr/>
          <p:nvPr/>
        </p:nvSpPr>
        <p:spPr>
          <a:xfrm>
            <a:off x="534960" y="1197000"/>
            <a:ext cx="7180200" cy="462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3760" rIns="2376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610080" y="2671920"/>
            <a:ext cx="3786120" cy="16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  <a:ea typeface="宋体"/>
              </a:rPr>
              <a:t>IO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宋体"/>
              </a:rPr>
              <a:t>使用技巧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35760" y="123984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299960" y="1239840"/>
            <a:ext cx="57816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011320" y="12398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39000" y="1501920"/>
            <a:ext cx="18583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Translating "CLOK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55560" y="1738440"/>
            <a:ext cx="661320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Unknown command or computer name, or unable to find compute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30360" y="20019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30360" y="42386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30360" y="49719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35760" y="223668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299600" y="2236680"/>
            <a:ext cx="4867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890720" y="223668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37560" y="2500200"/>
            <a:ext cx="14011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ear  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30360" y="273852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35760" y="297504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300320" y="2975040"/>
            <a:ext cx="66960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120760" y="29750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40080" y="3236760"/>
            <a:ext cx="213264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30360" y="34718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5760" y="373680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00680" y="3736800"/>
            <a:ext cx="85248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42600" y="3975120"/>
            <a:ext cx="286416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et     Set the time and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35760" y="447516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301400" y="4475160"/>
            <a:ext cx="103536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40080" y="4714920"/>
            <a:ext cx="213264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88960" y="43815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5760" y="521352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304640" y="5213520"/>
            <a:ext cx="194976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&lt;Ctrl-P&gt;clock se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40800" y="5472000"/>
            <a:ext cx="23155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hh:mm:ss  Current 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88960" y="5070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770280" y="2449440"/>
            <a:ext cx="425772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符号翻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命令提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79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回上一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427120" y="1606680"/>
            <a:ext cx="1371600" cy="1333440"/>
          </a:xfrm>
          <a:custGeom>
            <a:avLst/>
            <a:gdLst/>
            <a:ahLst/>
            <a:rect l="l" t="t" r="r" b="b"/>
            <a:pathLst>
              <a:path w="800" h="752">
                <a:moveTo>
                  <a:pt x="800" y="752"/>
                </a:moveTo>
                <a:lnTo>
                  <a:pt x="504" y="752"/>
                </a:lnTo>
                <a:lnTo>
                  <a:pt x="5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3252960" y="4006080"/>
            <a:ext cx="545760" cy="1359000"/>
          </a:xfrm>
          <a:custGeom>
            <a:avLst/>
            <a:gdLst/>
            <a:ahLst/>
            <a:rect l="l" t="t" r="r" b="b"/>
            <a:pathLst>
              <a:path w="800" h="752">
                <a:moveTo>
                  <a:pt x="800" y="752"/>
                </a:moveTo>
                <a:lnTo>
                  <a:pt x="504" y="752"/>
                </a:lnTo>
                <a:lnTo>
                  <a:pt x="5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716120" y="2355840"/>
            <a:ext cx="2082600" cy="1054080"/>
          </a:xfrm>
          <a:custGeom>
            <a:avLst/>
            <a:gdLst/>
            <a:ahLst/>
            <a:rect l="l" t="t" r="r" b="b"/>
            <a:pathLst>
              <a:path w="800" h="752">
                <a:moveTo>
                  <a:pt x="800" y="752"/>
                </a:moveTo>
                <a:lnTo>
                  <a:pt x="504" y="752"/>
                </a:lnTo>
                <a:lnTo>
                  <a:pt x="5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2109960" y="3498120"/>
            <a:ext cx="1688760" cy="368280"/>
          </a:xfrm>
          <a:custGeom>
            <a:avLst/>
            <a:gdLst/>
            <a:ahLst/>
            <a:rect l="l" t="t" r="r" b="b"/>
            <a:pathLst>
              <a:path w="800" h="752">
                <a:moveTo>
                  <a:pt x="800" y="752"/>
                </a:moveTo>
                <a:lnTo>
                  <a:pt x="504" y="752"/>
                </a:lnTo>
                <a:lnTo>
                  <a:pt x="5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网络层的功能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义了基于某个协议的逻辑地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数据通过网络的最佳路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不同的媒介类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482760" y="1654200"/>
            <a:ext cx="6005520" cy="433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  <a:ea typeface="宋体"/>
              </a:rPr>
              <a:t>IOS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  <a:ea typeface="宋体"/>
              </a:rPr>
              <a:t>使用技巧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23800" y="1654200"/>
            <a:ext cx="110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 cl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23080" y="1905120"/>
            <a:ext cx="1446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Translating "CLOK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14800" y="2130480"/>
            <a:ext cx="501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% Unknown command or computer name, or unable to find computer addr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9120" y="2382840"/>
            <a:ext cx="212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9120" y="4519440"/>
            <a:ext cx="212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9120" y="5221440"/>
            <a:ext cx="212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24520" y="260676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23800" y="2859120"/>
            <a:ext cx="1104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clear  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19120" y="3086280"/>
            <a:ext cx="212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24520" y="331164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22360" y="3562200"/>
            <a:ext cx="165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9120" y="3787920"/>
            <a:ext cx="212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24520" y="404028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20920" y="4267080"/>
            <a:ext cx="2201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set     Set the time and 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24520" y="474516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22360" y="4975200"/>
            <a:ext cx="165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79520" y="46562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24520" y="5451480"/>
            <a:ext cx="761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2440" y="5699160"/>
            <a:ext cx="222408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hh:mm:ss  Curren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79520" y="53150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968400" y="2131920"/>
            <a:ext cx="5183280" cy="4125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7008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280520" y="213660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950480" y="2136600"/>
            <a:ext cx="18583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 19:56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11804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284840" y="2365200"/>
            <a:ext cx="213264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270080" y="261288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27008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280520" y="284328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951200" y="2843280"/>
            <a:ext cx="204120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 19:56:00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262400" y="284328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87360" y="3090960"/>
            <a:ext cx="286416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&lt;1-31&gt;       Day of the 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383000" y="30909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286640" y="3319560"/>
            <a:ext cx="268128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MONTH     Month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162320" y="33195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270080" y="35463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27008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280520" y="379584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51920" y="3795840"/>
            <a:ext cx="23155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 19:56:00 04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92520" y="37958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287720" y="4025880"/>
            <a:ext cx="304704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^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06920" y="402588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1320" y="4276800"/>
            <a:ext cx="405288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Invalid input detected at the '^' m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70080" y="450216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7008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280520" y="475452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53720" y="4754520"/>
            <a:ext cx="27727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 19:56:00 04 Aug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284840" y="4979880"/>
            <a:ext cx="213264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% Incomplete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270080" y="520524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270080" y="2136600"/>
            <a:ext cx="212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80520" y="5457960"/>
            <a:ext cx="94392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54440" y="5457960"/>
            <a:ext cx="295560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lock set 19:56:00 04 Augus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84480" y="5683320"/>
            <a:ext cx="2041200" cy="2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3640" bIns="53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&lt;1993-2035&gt;    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694480" y="2782800"/>
            <a:ext cx="2816280" cy="207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2772720"/>
            <a:ext cx="2592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0040" indent="-230040"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命令提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4873680" y="4317840"/>
            <a:ext cx="877680" cy="1270080"/>
          </a:xfrm>
          <a:custGeom>
            <a:avLst/>
            <a:gdLst/>
            <a:ahLst/>
            <a:rect l="l" t="t" r="r" b="b"/>
            <a:pathLst>
              <a:path w="800" h="752">
                <a:moveTo>
                  <a:pt x="800" y="752"/>
                </a:moveTo>
                <a:lnTo>
                  <a:pt x="504" y="752"/>
                </a:lnTo>
                <a:lnTo>
                  <a:pt x="5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962520" y="2984400"/>
            <a:ext cx="180324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80040" y="3860640"/>
            <a:ext cx="148572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96000" y="3572640"/>
            <a:ext cx="2592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0040" indent="-230040"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法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24360" y="4149000"/>
            <a:ext cx="259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0040" indent="-230040">
              <a:lnSpc>
                <a:spcPct val="95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命令提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基本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900000" y="1197000"/>
            <a:ext cx="3672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用户模式进入特权模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909720" y="1547640"/>
            <a:ext cx="3884400" cy="58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&gt;e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927000" y="2347920"/>
            <a:ext cx="4005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特权模式进入全局配置模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36720" y="2698920"/>
            <a:ext cx="3951360" cy="65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#config  ter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(config)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927000" y="3498840"/>
            <a:ext cx="4005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路由器配置主机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36720" y="3849840"/>
            <a:ext cx="4240080" cy="65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(config)#hostname teac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4651200"/>
            <a:ext cx="439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进入路由器的以太口配置模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909720" y="5002200"/>
            <a:ext cx="5175000" cy="65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fastethernet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基本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900000" y="1197000"/>
            <a:ext cx="38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路由器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nner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900000" y="1547640"/>
            <a:ext cx="6480360" cy="101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rcher(config)#banner motd $This is Apte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ompany’s Router! Please don’t chang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onfiguration without permission! 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927000" y="2852640"/>
            <a:ext cx="3861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路由器接口的描述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36720" y="3274920"/>
            <a:ext cx="6443640" cy="101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fastethernet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description This is a fast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port used to connecting the company’s intranet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配置密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927000" y="1197000"/>
            <a:ext cx="4508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控制台密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900000" y="1557360"/>
            <a:ext cx="482436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line consol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line)#lo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line)#password 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900000" y="2708280"/>
            <a:ext cx="46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特权模式密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907920" y="3716280"/>
            <a:ext cx="4888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安全的加密密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907920" y="4078440"/>
            <a:ext cx="4959360" cy="50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enable secret 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00000" y="3068640"/>
            <a:ext cx="4967280" cy="50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enable password 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907920" y="4651200"/>
            <a:ext cx="5032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对所有密码进行加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907920" y="5013360"/>
            <a:ext cx="568008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service password-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路由器的控制台会话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927000" y="162864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控制台会话时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900000" y="1989000"/>
            <a:ext cx="482436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line consol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line)#exec-timeout 0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927000" y="299556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控制台输出日志同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900000" y="3355920"/>
            <a:ext cx="5472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line consol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line)#logging 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配置串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927000" y="119700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入路由器的串口配置模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900000" y="1557360"/>
            <a:ext cx="5472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927000" y="234936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查看路由器串口的物理状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900000" y="2709720"/>
            <a:ext cx="6408720" cy="93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#show controllers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HD unit 0,idb=0x122c04,driver structure at 0x1270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buffer size 1524 HD unit 0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V.35 D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no 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98640" y="3716280"/>
            <a:ext cx="30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设置串口的时钟频率（仅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C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端口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900000" y="4076640"/>
            <a:ext cx="5472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clock rate 6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998640" y="4869000"/>
            <a:ext cx="30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设置串口的带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900000" y="5229360"/>
            <a:ext cx="547236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bandwidth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配置串口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900000" y="1268280"/>
            <a:ext cx="489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启用路由器的串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900000" y="1630440"/>
            <a:ext cx="640872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no shut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%LINK-3-UPDOWN:  Interface Seria0/0, changed state t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%LINEPROTO-5-UPDOWN:  Line Protocol on Interface Serial0/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hanged state t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900000" y="3430440"/>
            <a:ext cx="496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禁用路由器的串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900000" y="3790800"/>
            <a:ext cx="6408720" cy="179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shut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%LINK-3-UPDOWN:  Interface Seria0/0, changed state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administratively dow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%LINEPROTO-5-UPDOWN:  Line Protocol on Interface Serial0/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hanged state t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的串口状态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042920" y="1917720"/>
            <a:ext cx="6408720" cy="71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show 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erial 0/0 is up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line protocol is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900000" y="3357720"/>
            <a:ext cx="7488360" cy="208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可操作状态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………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rial 0/0 is up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line protocol i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连接问题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…………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rial 0/0 is up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line protocol i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接口问题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…………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rial 0/0 is down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line protocol i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禁用状态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…………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rial 0/0 is administratively down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，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line protocol i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260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路由器配置接口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927000" y="162864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路由器以太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900000" y="1989000"/>
            <a:ext cx="6840720" cy="64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fastethernet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ip address 192.168.1.1 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927000" y="2997360"/>
            <a:ext cx="302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配置路由器串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900000" y="3357720"/>
            <a:ext cx="684072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)#interface serial 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acher(config_if)#ip address 192.168.2.1 255.255.25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路由器配置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show version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50920" y="1125360"/>
            <a:ext cx="8561160" cy="4108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34800" y="1197000"/>
            <a:ext cx="851076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#show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isco Internetwork Operating System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OS (tm) 2600 Software (C2600-JS-L), Version 12.0(3), RELEASE SOFTWARE (fc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opyright (c) 1986-1999 by cisco System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ompiled Mon 08-Feb-99 18:18 by phangu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mage text-base: 0x03050C84, data-base: 0x0000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M: System Bootstrap, Version 11.0(10c),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BOOTFLASH: 3000 Bootstrap Software (IGS-BOOT-R), Version 11.0(10c), RELEASE SOFTWARE(fc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wg_ro_a uptime is 2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ystem restarted by re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ystem image file is "flash:c2600-js-l_120-3.bi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(output omit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--More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73"/>
              </a:lnSpc>
              <a:tabLst>
                <a:tab algn="l" pos="0"/>
                <a:tab algn="l" pos="514440"/>
                <a:tab algn="l" pos="1027080"/>
                <a:tab algn="l" pos="154296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onfiguration register is 0x210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76280" y="5762520"/>
            <a:ext cx="4306680" cy="352440"/>
          </a:xfrm>
          <a:custGeom>
            <a:avLst/>
            <a:gdLst/>
            <a:ahLst/>
            <a:rect l="l" t="t" r="r" b="b"/>
            <a:pathLst>
              <a:path w="2713" h="222">
                <a:moveTo>
                  <a:pt x="0" y="0"/>
                </a:moveTo>
                <a:lnTo>
                  <a:pt x="343" y="222"/>
                </a:lnTo>
                <a:lnTo>
                  <a:pt x="2712" y="216"/>
                </a:lnTo>
                <a:lnTo>
                  <a:pt x="2713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42840" y="4105440"/>
            <a:ext cx="3838680" cy="618840"/>
          </a:xfrm>
          <a:custGeom>
            <a:avLst/>
            <a:gdLst/>
            <a:ahLst/>
            <a:rect l="l" t="t" r="r" b="b"/>
            <a:pathLst>
              <a:path w="2418" h="390">
                <a:moveTo>
                  <a:pt x="0" y="90"/>
                </a:moveTo>
                <a:lnTo>
                  <a:pt x="1164" y="390"/>
                </a:lnTo>
                <a:lnTo>
                  <a:pt x="2418" y="390"/>
                </a:lnTo>
                <a:lnTo>
                  <a:pt x="2418" y="0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38120" y="3430440"/>
            <a:ext cx="3424320" cy="533520"/>
          </a:xfrm>
          <a:custGeom>
            <a:avLst/>
            <a:gdLst/>
            <a:ahLst/>
            <a:rect l="l" t="t" r="r" b="b"/>
            <a:pathLst>
              <a:path w="2157" h="336">
                <a:moveTo>
                  <a:pt x="0" y="0"/>
                </a:moveTo>
                <a:lnTo>
                  <a:pt x="936" y="336"/>
                </a:lnTo>
                <a:lnTo>
                  <a:pt x="2157" y="329"/>
                </a:lnTo>
                <a:lnTo>
                  <a:pt x="2157" y="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87560" y="2847960"/>
            <a:ext cx="1855800" cy="260280"/>
          </a:xfrm>
          <a:custGeom>
            <a:avLst/>
            <a:gdLst/>
            <a:ahLst/>
            <a:rect l="l" t="t" r="r" b="b"/>
            <a:pathLst>
              <a:path w="1169" h="164">
                <a:moveTo>
                  <a:pt x="0" y="20"/>
                </a:moveTo>
                <a:lnTo>
                  <a:pt x="108" y="164"/>
                </a:lnTo>
                <a:lnTo>
                  <a:pt x="1169" y="162"/>
                </a:lnTo>
                <a:lnTo>
                  <a:pt x="1169" y="0"/>
                </a:lnTo>
                <a:lnTo>
                  <a:pt x="0" y="2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9640" y="5000760"/>
            <a:ext cx="3971880" cy="447480"/>
          </a:xfrm>
          <a:custGeom>
            <a:avLst/>
            <a:gdLst/>
            <a:ahLst/>
            <a:rect l="l" t="t" r="r" b="b"/>
            <a:pathLst>
              <a:path w="2502" h="282">
                <a:moveTo>
                  <a:pt x="0" y="12"/>
                </a:moveTo>
                <a:lnTo>
                  <a:pt x="1290" y="282"/>
                </a:lnTo>
                <a:lnTo>
                  <a:pt x="2502" y="276"/>
                </a:lnTo>
                <a:lnTo>
                  <a:pt x="2502" y="0"/>
                </a:lnTo>
                <a:lnTo>
                  <a:pt x="0" y="12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100000">
                <a:srgbClr val="73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57120"/>
            <a:ext cx="9144000" cy="8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05320" y="2759040"/>
            <a:ext cx="1570320" cy="6256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06840" y="28893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ns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5320" y="4537080"/>
            <a:ext cx="1570320" cy="9684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7600" y="48182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05320" y="5769000"/>
            <a:ext cx="1570320" cy="6825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76680" y="59133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5320" y="3597120"/>
            <a:ext cx="1570320" cy="6447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9640" y="37368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30920" y="3409920"/>
            <a:ext cx="438120" cy="336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2498760"/>
            <a:ext cx="1901880" cy="350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82800" y="2495160"/>
            <a:ext cx="20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15880" y="3103560"/>
            <a:ext cx="3332160" cy="34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22520" y="3093840"/>
            <a:ext cx="24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13000" y="309384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C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5360" y="30970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58680" y="3925800"/>
            <a:ext cx="3799080" cy="312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4040" y="391752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26120" y="391752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49400" y="3929040"/>
            <a:ext cx="0" cy="33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" y="4716360"/>
            <a:ext cx="399924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4560" y="46861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24520" y="4686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LC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49400" y="4724280"/>
            <a:ext cx="0" cy="27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35000" y="6102360"/>
            <a:ext cx="37371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80560" y="612756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101110101001000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442120"/>
            <a:ext cx="4327560" cy="303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68560" y="54226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56120" y="542268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C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9400" y="54608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91000" y="2038320"/>
            <a:ext cx="438120" cy="399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76520" y="1616040"/>
            <a:ext cx="731880" cy="571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280120" y="1673280"/>
            <a:ext cx="1569960" cy="3398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73640" y="2041560"/>
            <a:ext cx="157320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75440" y="2049480"/>
            <a:ext cx="14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77680" y="1665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0120" y="2416320"/>
            <a:ext cx="1569960" cy="3204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40760" y="239868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12120" y="2736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13200" y="3746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12120" y="60087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93760" y="48657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10320" y="2220120"/>
            <a:ext cx="14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633920" y="5436720"/>
            <a:ext cx="754200" cy="337320"/>
            <a:chOff x="4633920" y="5436720"/>
            <a:chExt cx="754200" cy="337320"/>
          </a:xfrm>
        </p:grpSpPr>
        <p:sp>
          <p:nvSpPr>
            <p:cNvPr id="152" name=""/>
            <p:cNvSpPr/>
            <p:nvPr/>
          </p:nvSpPr>
          <p:spPr>
            <a:xfrm>
              <a:off x="4788000" y="5447520"/>
              <a:ext cx="434880" cy="299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33920" y="5436720"/>
              <a:ext cx="75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633920" y="4701960"/>
            <a:ext cx="754200" cy="337320"/>
            <a:chOff x="4633920" y="4701960"/>
            <a:chExt cx="754200" cy="337320"/>
          </a:xfrm>
        </p:grpSpPr>
        <p:sp>
          <p:nvSpPr>
            <p:cNvPr id="155" name=""/>
            <p:cNvSpPr/>
            <p:nvPr/>
          </p:nvSpPr>
          <p:spPr>
            <a:xfrm>
              <a:off x="4788000" y="4718880"/>
              <a:ext cx="434880" cy="28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33920" y="4701960"/>
              <a:ext cx="75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830920" y="4184640"/>
            <a:ext cx="438120" cy="336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30920" y="5440320"/>
            <a:ext cx="438120" cy="312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00840" y="2757600"/>
            <a:ext cx="533520" cy="641160"/>
          </a:xfrm>
          <a:custGeom>
            <a:avLst/>
            <a:gdLst>
              <a:gd name="textAreaLeft" fmla="*/ 0 w 533520"/>
              <a:gd name="textAreaRight" fmla="*/ 533880 w 53352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97600" y="5767560"/>
            <a:ext cx="533520" cy="706320"/>
          </a:xfrm>
          <a:custGeom>
            <a:avLst/>
            <a:gdLst>
              <a:gd name="textAreaLeft" fmla="*/ 0 w 533520"/>
              <a:gd name="textAreaRight" fmla="*/ 533880 w 53352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91480" y="3591000"/>
            <a:ext cx="533160" cy="666720"/>
          </a:xfrm>
          <a:custGeom>
            <a:avLst/>
            <a:gdLst>
              <a:gd name="textAreaLeft" fmla="*/ 0 w 533160"/>
              <a:gd name="textAreaRight" fmla="*/ 533520 w 533160"/>
              <a:gd name="textAreaTop" fmla="*/ 0 h 666720"/>
              <a:gd name="textAreaBottom" fmla="*/ 667080 h 66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88240" y="4530600"/>
            <a:ext cx="533160" cy="993960"/>
          </a:xfrm>
          <a:custGeom>
            <a:avLst/>
            <a:gdLst>
              <a:gd name="textAreaLeft" fmla="*/ 0 w 533160"/>
              <a:gd name="textAreaRight" fmla="*/ 533520 w 53316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10800000"/>
          </a:gradFill>
          <a:ln w="648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封装数据的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查看路由器配置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show running-config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#show running-conf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50920" y="1341360"/>
            <a:ext cx="7129440" cy="4108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#show running-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Building configuration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urrent configuration:493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Last configuration change at 17:37:14 UTC Sat Febru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Version 1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ervice timestamps debug up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ervice timestamps log up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No service password-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Hostname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--More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查看路由器配置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show startup-config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935000" y="566244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30240" bIns="30240" anchor="t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删除路由器的配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08000" y="6022800"/>
            <a:ext cx="5256360" cy="35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outer#erase startup-conf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50920" y="1341360"/>
            <a:ext cx="7129440" cy="4108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#show startup-conf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sing 433 out of 29688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version 1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ervice timestamps debug up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ervice timestamps log up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no service password-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hostname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emory-size iomem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p subnet-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--More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层的基本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址及子网规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的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M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作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静态路由和默认路由的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态路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由器的硬件组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由器的基本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悉路由器的基本操作，能够根据指定的要求配置路由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配置静态路由和默认路由，并对其进行检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B1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：路由器的基本操作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1447920" y="1670040"/>
            <a:ext cx="5788080" cy="377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照实验拓朴结构图连接各设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成对路由器的各项配置，熟悉各命令的使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LAB2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：静态路由和默认路由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332000" y="1484280"/>
            <a:ext cx="4824360" cy="4362480"/>
            <a:chOff x="1332000" y="1484280"/>
            <a:chExt cx="4824360" cy="4362480"/>
          </a:xfrm>
        </p:grpSpPr>
        <p:grpSp>
          <p:nvGrpSpPr>
            <p:cNvPr id="1227" name=""/>
            <p:cNvGrpSpPr/>
            <p:nvPr/>
          </p:nvGrpSpPr>
          <p:grpSpPr>
            <a:xfrm>
              <a:off x="1332000" y="1484280"/>
              <a:ext cx="1511280" cy="4362480"/>
              <a:chOff x="1332000" y="1484280"/>
              <a:chExt cx="1511280" cy="4362480"/>
            </a:xfrm>
          </p:grpSpPr>
          <p:graphicFrame>
            <p:nvGraphicFramePr>
              <p:cNvPr id="1228" name=""/>
              <p:cNvGraphicFramePr/>
              <p:nvPr/>
            </p:nvGraphicFramePr>
            <p:xfrm>
              <a:off x="1403280" y="1484280"/>
              <a:ext cx="1440000" cy="833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03280" y="1484280"/>
                        <a:ext cx="1440000" cy="833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30" name=""/>
              <p:cNvGraphicFramePr/>
              <p:nvPr/>
            </p:nvGraphicFramePr>
            <p:xfrm>
              <a:off x="1332000" y="3357720"/>
              <a:ext cx="1439640" cy="639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3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32000" y="3357720"/>
                        <a:ext cx="1439640" cy="63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32" name=""/>
              <p:cNvGraphicFramePr/>
              <p:nvPr/>
            </p:nvGraphicFramePr>
            <p:xfrm>
              <a:off x="1476360" y="4869000"/>
              <a:ext cx="1081080" cy="977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3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476360" y="4869000"/>
                        <a:ext cx="1081080" cy="97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34" name=""/>
              <p:cNvSpPr/>
              <p:nvPr/>
            </p:nvSpPr>
            <p:spPr>
              <a:xfrm>
                <a:off x="2050920" y="2276640"/>
                <a:ext cx="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979640" y="4005360"/>
                <a:ext cx="0" cy="8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645080" y="1484280"/>
              <a:ext cx="1511280" cy="4362480"/>
              <a:chOff x="4645080" y="1484280"/>
              <a:chExt cx="1511280" cy="4362480"/>
            </a:xfrm>
          </p:grpSpPr>
          <p:graphicFrame>
            <p:nvGraphicFramePr>
              <p:cNvPr id="1237" name=""/>
              <p:cNvGraphicFramePr/>
              <p:nvPr/>
            </p:nvGraphicFramePr>
            <p:xfrm>
              <a:off x="4716360" y="1484280"/>
              <a:ext cx="1440000" cy="8334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3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716360" y="1484280"/>
                        <a:ext cx="1440000" cy="833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39" name=""/>
              <p:cNvGraphicFramePr/>
              <p:nvPr/>
            </p:nvGraphicFramePr>
            <p:xfrm>
              <a:off x="4645080" y="3357720"/>
              <a:ext cx="1439640" cy="6397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24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5080" y="3357720"/>
                        <a:ext cx="1439640" cy="63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41" name=""/>
              <p:cNvGraphicFramePr/>
              <p:nvPr/>
            </p:nvGraphicFramePr>
            <p:xfrm>
              <a:off x="4789440" y="4869000"/>
              <a:ext cx="1081080" cy="977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242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789440" y="4869000"/>
                        <a:ext cx="1081080" cy="977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3" name=""/>
              <p:cNvSpPr/>
              <p:nvPr/>
            </p:nvSpPr>
            <p:spPr>
              <a:xfrm>
                <a:off x="5364000" y="2276640"/>
                <a:ext cx="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292720" y="4005360"/>
                <a:ext cx="0" cy="8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2843280" y="191628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6" name=""/>
          <p:cNvGraphicFramePr/>
          <p:nvPr/>
        </p:nvGraphicFramePr>
        <p:xfrm>
          <a:off x="1403280" y="1484280"/>
          <a:ext cx="1440000" cy="83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1484280"/>
                    <a:ext cx="14400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8" name=""/>
          <p:cNvGraphicFramePr/>
          <p:nvPr/>
        </p:nvGraphicFramePr>
        <p:xfrm>
          <a:off x="1332000" y="3357720"/>
          <a:ext cx="1439640" cy="63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32000" y="3357720"/>
                    <a:ext cx="14396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0" name=""/>
          <p:cNvGraphicFramePr/>
          <p:nvPr/>
        </p:nvGraphicFramePr>
        <p:xfrm>
          <a:off x="1476360" y="4869000"/>
          <a:ext cx="1081080" cy="977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76360" y="4869000"/>
                    <a:ext cx="10810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205092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979640" y="400536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92360" y="5948280"/>
            <a:ext cx="2087640" cy="865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atio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192.168.1.10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ateway:192.168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292720" y="5950080"/>
            <a:ext cx="2087640" cy="865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atio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:192.168.3.10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ateway:192.168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8360" y="1270080"/>
            <a:ext cx="936720" cy="3585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ut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156360" y="1268280"/>
            <a:ext cx="93672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ute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79280" y="2565360"/>
            <a:ext cx="208908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0/0:192.168.1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556000" y="1125360"/>
            <a:ext cx="208908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0/0:192.168.2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722920" y="2638440"/>
            <a:ext cx="208908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0/0:192.168.3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16360" y="2349360"/>
            <a:ext cx="208908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0/0:192.168.2.2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1187280" y="227664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771280" y="148428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3851280" y="1915920"/>
            <a:ext cx="8650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 flipV="1">
            <a:off x="5363640" y="2276280"/>
            <a:ext cx="129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照实验拓朴结构图连接各设备，并配置相关参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配置静态路由，最终可以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相通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配置默认路由，最终可以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相通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路由器上利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ip rout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令查看路由条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0440" y="2082960"/>
            <a:ext cx="1569960" cy="3394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5800" y="2585880"/>
            <a:ext cx="1930320" cy="33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571480"/>
            <a:ext cx="20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76920" y="1650960"/>
            <a:ext cx="731880" cy="571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835520" y="5373720"/>
            <a:ext cx="3979800" cy="29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86200" y="5339880"/>
            <a:ext cx="407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LC Hdr + IP + TCP + 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0433600">
            <a:off x="3070080" y="5651640"/>
            <a:ext cx="173700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0433600">
            <a:off x="3253320" y="5657040"/>
            <a:ext cx="138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C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4681440"/>
            <a:ext cx="3048120" cy="29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53080" y="4650840"/>
            <a:ext cx="30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+ TCP + 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08400" y="4648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20309400">
            <a:off x="2763720" y="4946760"/>
            <a:ext cx="195120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0309400">
            <a:off x="3086640" y="49575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LC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57880" y="4008600"/>
            <a:ext cx="2387520" cy="331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8040" y="4005000"/>
            <a:ext cx="30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CP+ 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0309400">
            <a:off x="2572920" y="4236840"/>
            <a:ext cx="173664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0309400">
            <a:off x="2891160" y="42332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5800" y="3303720"/>
            <a:ext cx="1930320" cy="32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08320" y="3285720"/>
            <a:ext cx="20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per Lay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309400">
            <a:off x="2420640" y="3588840"/>
            <a:ext cx="173664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20309400">
            <a:off x="2633760" y="36000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C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970520" y="2248920"/>
            <a:ext cx="438120" cy="285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7640" y="6180120"/>
            <a:ext cx="3148200" cy="322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62360" y="6184440"/>
            <a:ext cx="34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0101110101001000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970520" y="5751360"/>
            <a:ext cx="43812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970520" y="5029200"/>
            <a:ext cx="43812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970520" y="3695760"/>
            <a:ext cx="43812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970520" y="2982960"/>
            <a:ext cx="43812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970520" y="4362480"/>
            <a:ext cx="438120" cy="28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0440" y="2787480"/>
            <a:ext cx="1569960" cy="6256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7160" y="29178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ans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0440" y="4565520"/>
            <a:ext cx="1569960" cy="9684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920" y="48466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0440" y="5797440"/>
            <a:ext cx="1569960" cy="6825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7000" y="59421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0440" y="3654360"/>
            <a:ext cx="1569960" cy="64476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9960" y="37656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11240" y="3452040"/>
            <a:ext cx="438120" cy="336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0440" y="1720800"/>
            <a:ext cx="1569960" cy="3398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0440" y="2444760"/>
            <a:ext cx="1569960" cy="32076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039680" y="4357080"/>
            <a:ext cx="438120" cy="336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011240" y="5582520"/>
            <a:ext cx="438120" cy="312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98ca6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2640" y="2077920"/>
            <a:ext cx="14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240" y="17128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8320" y="24271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解封装数据的过程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包头的格式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905120"/>
            <a:ext cx="8072280" cy="45720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4680" y="1905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28600" y="2514600"/>
            <a:ext cx="8071920" cy="3048120"/>
            <a:chOff x="228600" y="2514600"/>
            <a:chExt cx="8071920" cy="3048120"/>
          </a:xfrm>
        </p:grpSpPr>
        <p:sp>
          <p:nvSpPr>
            <p:cNvPr id="215" name=""/>
            <p:cNvSpPr/>
            <p:nvPr/>
          </p:nvSpPr>
          <p:spPr>
            <a:xfrm>
              <a:off x="228600" y="251460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8600" y="312408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8600" y="373392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8600" y="434340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8600" y="495288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562720"/>
              <a:ext cx="807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06720" y="190332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ers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46520" y="449496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tination IP Address (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87720" y="510480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tions (0 or 32 if an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01280" y="586656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ata (varies if an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682120" y="19051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4160" y="1523160"/>
            <a:ext cx="30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5800" y="1461240"/>
            <a:ext cx="676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t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91360" y="1523160"/>
            <a:ext cx="80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t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6840" y="1523160"/>
            <a:ext cx="80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t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72600" y="1523160"/>
            <a:ext cx="80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it 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1905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70080" y="1905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7000" y="1903320"/>
            <a:ext cx="115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ea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ength 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71400" y="190440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iority  &amp; Typ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of Service 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89840" y="205668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otal Length (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2514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16600" y="26661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entification (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02080" y="248220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lag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25146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2080" y="26661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agment offset (1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5640" y="3260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me to live 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85520" y="327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tocol 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40800" y="327600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ader checksum (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81960" y="388548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ource IP Address (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10480" y="3238560"/>
            <a:ext cx="165240" cy="57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35440" y="3200040"/>
            <a:ext cx="8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的作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58640" y="1133640"/>
            <a:ext cx="8210520" cy="4944600"/>
            <a:chOff x="458640" y="1133640"/>
            <a:chExt cx="8210520" cy="4944600"/>
          </a:xfrm>
        </p:grpSpPr>
        <p:sp>
          <p:nvSpPr>
            <p:cNvPr id="250" name=""/>
            <p:cNvSpPr/>
            <p:nvPr/>
          </p:nvSpPr>
          <p:spPr>
            <a:xfrm>
              <a:off x="3297240" y="3541680"/>
              <a:ext cx="2592360" cy="15228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3132000" y="4122360"/>
              <a:ext cx="1219320" cy="1364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71" y="0"/>
                  </a:lnTo>
                  <a:lnTo>
                    <a:pt x="21600" y="10800"/>
                  </a:lnTo>
                  <a:lnTo>
                    <a:pt x="1977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 rot="5400000">
              <a:off x="4840920" y="3023280"/>
              <a:ext cx="1170000" cy="15228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4816440" y="1209600"/>
              <a:ext cx="1252440" cy="1380960"/>
              <a:chOff x="4816440" y="1209600"/>
              <a:chExt cx="1252440" cy="13809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4816440" y="1936440"/>
                <a:ext cx="1211040" cy="654120"/>
                <a:chOff x="4816440" y="1936440"/>
                <a:chExt cx="1211040" cy="6541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608440" y="210636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816440" y="193644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816440" y="214308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230440" y="230148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236920" y="238248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230440" y="230004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257440" y="234468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464080" y="246852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333760" y="236052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836960" y="219060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836960" y="222552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36960" y="226188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836960" y="229680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233680" y="239544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4935240" y="1209600"/>
                <a:ext cx="1133640" cy="1066680"/>
                <a:chOff x="4935240" y="1209600"/>
                <a:chExt cx="1133640" cy="10666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020920" y="190332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032080" y="191124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44840" y="199224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001840" y="199836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173560" y="120960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732280" y="139212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935240" y="121896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935240" y="129996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97160" y="137916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038560" y="142848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090760" y="148104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" name=""/>
            <p:cNvGrpSpPr/>
            <p:nvPr/>
          </p:nvGrpSpPr>
          <p:grpSpPr>
            <a:xfrm>
              <a:off x="3063960" y="4697280"/>
              <a:ext cx="1252440" cy="1380960"/>
              <a:chOff x="3063960" y="4697280"/>
              <a:chExt cx="1252440" cy="138096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3063960" y="5424120"/>
                <a:ext cx="1211040" cy="654120"/>
                <a:chOff x="3063960" y="5424120"/>
                <a:chExt cx="1211040" cy="6541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855960" y="559404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063960" y="542412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63960" y="563076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77960" y="578916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84440" y="587016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477960" y="578772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3504960" y="583236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11600" y="595620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81280" y="584820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084480" y="567828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084480" y="571320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084480" y="574956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084480" y="578448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481200" y="588312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182760" y="4697280"/>
                <a:ext cx="1133640" cy="1066680"/>
                <a:chOff x="3182760" y="4697280"/>
                <a:chExt cx="1133640" cy="10666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268440" y="539100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279600" y="539892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492360" y="547992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249360" y="548604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421080" y="469728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979800" y="487980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182760" y="470664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182760" y="478764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244680" y="486684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286080" y="491616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338280" y="496872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 rot="16200000">
              <a:off x="685800" y="4190760"/>
              <a:ext cx="1066680" cy="1522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33520" y="4697280"/>
              <a:ext cx="1252440" cy="1380960"/>
              <a:chOff x="533520" y="4697280"/>
              <a:chExt cx="1252440" cy="138096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533520" y="5424120"/>
                <a:ext cx="1211040" cy="654120"/>
                <a:chOff x="533520" y="5424120"/>
                <a:chExt cx="1211040" cy="654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325520" y="559404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33520" y="542412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33520" y="563076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947520" y="578916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954000" y="587016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947520" y="578772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74520" y="583236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181160" y="595620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050840" y="584820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54040" y="567828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54040" y="571320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54040" y="574956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54040" y="578448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950760" y="588312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52320" y="4697280"/>
                <a:ext cx="1133640" cy="1066680"/>
                <a:chOff x="652320" y="4697280"/>
                <a:chExt cx="1133640" cy="10666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38000" y="539100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49160" y="539892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61920" y="547992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18920" y="548604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890640" y="469728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449360" y="487980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52320" y="470664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52320" y="478764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14240" y="486684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55640" y="491616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807840" y="496872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 flipV="1" rot="5400000">
              <a:off x="7263360" y="2871000"/>
              <a:ext cx="1170000" cy="152280"/>
            </a:xfrm>
            <a:custGeom>
              <a:avLst/>
              <a:gdLst>
                <a:gd name="textAreaLeft" fmla="*/ 0 w 1170000"/>
                <a:gd name="textAreaRight" fmla="*/ 1170360 w 117000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103" y="0"/>
                  </a:lnTo>
                  <a:lnTo>
                    <a:pt x="21600" y="10800"/>
                  </a:lnTo>
                  <a:lnTo>
                    <a:pt x="19103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f3c8e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238880" y="1133640"/>
              <a:ext cx="1252440" cy="1380960"/>
              <a:chOff x="7238880" y="1133640"/>
              <a:chExt cx="1252440" cy="138096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7238880" y="1860480"/>
                <a:ext cx="1211040" cy="654120"/>
                <a:chOff x="7238880" y="1860480"/>
                <a:chExt cx="1211040" cy="654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8030880" y="2030400"/>
                  <a:ext cx="417240" cy="48420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238880" y="1860480"/>
                  <a:ext cx="1211040" cy="41904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238880" y="2067120"/>
                  <a:ext cx="792000" cy="4474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652880" y="2225520"/>
                  <a:ext cx="311040" cy="2178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659360" y="2306520"/>
                  <a:ext cx="299520" cy="7776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652880" y="2224080"/>
                  <a:ext cx="309240" cy="13356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679880" y="2268720"/>
                  <a:ext cx="242640" cy="60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886520" y="2392560"/>
                  <a:ext cx="45360" cy="93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756200" y="2284560"/>
                  <a:ext cx="74160" cy="3960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240" bIns="12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259400" y="2114640"/>
                  <a:ext cx="320040" cy="903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259400" y="214956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59400" y="2185920"/>
                  <a:ext cx="320040" cy="907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259400" y="2220840"/>
                  <a:ext cx="320040" cy="889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656120" y="2319480"/>
                  <a:ext cx="313920" cy="1332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7357680" y="1133640"/>
                <a:ext cx="1133640" cy="1066680"/>
                <a:chOff x="7357680" y="1133640"/>
                <a:chExt cx="1133640" cy="10666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443360" y="1827360"/>
                  <a:ext cx="882720" cy="372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454520" y="1835280"/>
                  <a:ext cx="854280" cy="33012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667280" y="1916280"/>
                  <a:ext cx="444600" cy="177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424280" y="1922400"/>
                  <a:ext cx="717480" cy="20016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596000" y="1133640"/>
                  <a:ext cx="895320" cy="82548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154720" y="1316160"/>
                  <a:ext cx="179280" cy="803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2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357680" y="1143000"/>
                  <a:ext cx="976320" cy="273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357680" y="1224000"/>
                  <a:ext cx="797040" cy="8985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419600" y="1303200"/>
                  <a:ext cx="674640" cy="7369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461000" y="1352520"/>
                  <a:ext cx="590400" cy="6350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513200" y="1405080"/>
                  <a:ext cx="0" cy="968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7" name=""/>
            <p:cNvSpPr/>
            <p:nvPr/>
          </p:nvSpPr>
          <p:spPr>
            <a:xfrm>
              <a:off x="458640" y="3311640"/>
              <a:ext cx="1482840" cy="530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86680" y="3311640"/>
              <a:ext cx="1482480" cy="530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3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1480000">
              <a:off x="1775880" y="3501720"/>
              <a:ext cx="1544760" cy="287280"/>
            </a:xfrm>
            <a:custGeom>
              <a:avLst/>
              <a:gdLst/>
              <a:ahLst/>
              <a:rect l="l" t="t" r="r" b="b"/>
              <a:pathLst>
                <a:path w="1808" h="272">
                  <a:moveTo>
                    <a:pt x="0" y="69"/>
                  </a:moveTo>
                  <a:lnTo>
                    <a:pt x="1081" y="0"/>
                  </a:lnTo>
                  <a:lnTo>
                    <a:pt x="910" y="159"/>
                  </a:lnTo>
                  <a:lnTo>
                    <a:pt x="1807" y="123"/>
                  </a:lnTo>
                  <a:lnTo>
                    <a:pt x="648" y="271"/>
                  </a:lnTo>
                  <a:lnTo>
                    <a:pt x="915" y="98"/>
                  </a:lnTo>
                  <a:lnTo>
                    <a:pt x="0" y="69"/>
                  </a:lnTo>
                </a:path>
              </a:pathLst>
            </a:custGeom>
            <a:solidFill>
              <a:srgbClr val="ffcf01"/>
            </a:solidFill>
            <a:ln cap="rnd" w="6480">
              <a:solidFill>
                <a:srgbClr val="800080"/>
              </a:solidFill>
              <a:round/>
            </a:ln>
            <a:effectLst>
              <a:outerShdw dist="381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1480000">
              <a:off x="5781240" y="3501720"/>
              <a:ext cx="1544760" cy="287280"/>
            </a:xfrm>
            <a:custGeom>
              <a:avLst/>
              <a:gdLst/>
              <a:ahLst/>
              <a:rect l="l" t="t" r="r" b="b"/>
              <a:pathLst>
                <a:path w="1808" h="272">
                  <a:moveTo>
                    <a:pt x="0" y="69"/>
                  </a:moveTo>
                  <a:lnTo>
                    <a:pt x="1081" y="0"/>
                  </a:lnTo>
                  <a:lnTo>
                    <a:pt x="910" y="159"/>
                  </a:lnTo>
                  <a:lnTo>
                    <a:pt x="1807" y="123"/>
                  </a:lnTo>
                  <a:lnTo>
                    <a:pt x="648" y="271"/>
                  </a:lnTo>
                  <a:lnTo>
                    <a:pt x="915" y="98"/>
                  </a:lnTo>
                  <a:lnTo>
                    <a:pt x="0" y="69"/>
                  </a:lnTo>
                </a:path>
              </a:pathLst>
            </a:custGeom>
            <a:solidFill>
              <a:srgbClr val="ffcf01"/>
            </a:solidFill>
            <a:ln cap="rnd" w="6480">
              <a:solidFill>
                <a:srgbClr val="800080"/>
              </a:solidFill>
              <a:round/>
            </a:ln>
            <a:effectLst>
              <a:outerShdw dist="381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1218600" y="5105520"/>
              <a:ext cx="1447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1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733200" y="5105520"/>
              <a:ext cx="1447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1523880"/>
              <a:ext cx="1447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72200" y="1523880"/>
              <a:ext cx="1447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3.</a:t>
              </a:r>
              <a:r>
                <a:rPr b="1" lang="en-US" sz="1800" spc="-1" strike="noStrike">
                  <a:solidFill>
                    <a:srgbClr val="ffcf01"/>
                  </a:solidFill>
                  <a:latin typeface="Arial Narrow"/>
                  <a:ea typeface="宋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68560" y="3311640"/>
              <a:ext cx="1482840" cy="530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9fb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192.168.2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843480" y="1979640"/>
              <a:ext cx="3412080" cy="838080"/>
              <a:chOff x="843480" y="1979640"/>
              <a:chExt cx="3412080" cy="838080"/>
            </a:xfrm>
          </p:grpSpPr>
          <p:sp>
            <p:nvSpPr>
              <p:cNvPr id="377" name=""/>
              <p:cNvSpPr/>
              <p:nvPr/>
            </p:nvSpPr>
            <p:spPr>
              <a:xfrm>
                <a:off x="850680" y="1979640"/>
                <a:ext cx="3404880" cy="83808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36576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47600" y="2139840"/>
                <a:ext cx="2206080" cy="517680"/>
              </a:xfrm>
              <a:prstGeom prst="rect">
                <a:avLst/>
              </a:prstGeom>
              <a:solidFill>
                <a:srgbClr val="c2007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ffffff"/>
                    </a:solidFill>
                    <a:latin typeface="Arial Narrow"/>
                    <a:ea typeface="宋体"/>
                  </a:rPr>
                  <a:t>192.168.1.10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43480" y="2046960"/>
                <a:ext cx="1015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  <a:ea typeface="宋体"/>
                  </a:rPr>
                  <a:t>Addr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5483160" y="5178600"/>
              <a:ext cx="135576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Host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83160" y="4275000"/>
              <a:ext cx="135576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Network 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91160" y="4967280"/>
              <a:ext cx="488880" cy="530280"/>
            </a:xfrm>
            <a:custGeom>
              <a:avLst/>
              <a:gdLst>
                <a:gd name="textAreaLeft" fmla="*/ 71640 w 488880"/>
                <a:gd name="textAreaRight" fmla="*/ 417240 w 488880"/>
                <a:gd name="textAreaTop" fmla="*/ 71640 h 530280"/>
                <a:gd name="textAreaBottom" fmla="*/ 458640 h 530280"/>
              </a:gdLst>
              <a:ahLst/>
              <a:rect l="textAreaLeft" t="textAreaTop" r="textAreaRight" b="textAreaBottom"/>
              <a:pathLst>
                <a:path w="21600" h="23428">
                  <a:moveTo>
                    <a:pt x="10800" y="0"/>
                  </a:moveTo>
                  <a:arcTo wR="10800" hR="10800" stAng="16200000" swAng="-5400000"/>
                  <a:lnTo>
                    <a:pt x="0" y="12628"/>
                  </a:lnTo>
                  <a:arcTo wR="10800" hR="10800" stAng="10800000" swAng="-5400000"/>
                  <a:lnTo>
                    <a:pt x="10800" y="2342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5152680" y="5256000"/>
              <a:ext cx="356400" cy="12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836960" y="3803400"/>
              <a:ext cx="663840" cy="63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的组成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1577880"/>
            <a:ext cx="407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点分十进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2120" y="2568600"/>
            <a:ext cx="407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最大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3880" y="53118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e4a8"/>
                </a:solidFill>
                <a:latin typeface="Arial"/>
                <a:ea typeface="宋体"/>
              </a:rPr>
              <a:t>1010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3635280"/>
            <a:ext cx="407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二进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4702320"/>
            <a:ext cx="407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十进制例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7920" y="5464080"/>
            <a:ext cx="407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二进制例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234936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30520" y="2465280"/>
            <a:ext cx="1761840" cy="603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8600" rIns="48600" tIns="69120" bIns="69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81560" y="2467080"/>
            <a:ext cx="1758600" cy="6080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8600" rIns="48600" tIns="69120" bIns="69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40160" y="2467080"/>
            <a:ext cx="1758960" cy="6080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8600" rIns="48600" tIns="69120" bIns="69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142560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11970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04160" y="2465280"/>
            <a:ext cx="1758960" cy="6080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8600" rIns="48600" tIns="69120" bIns="69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1655640"/>
            <a:ext cx="7010640" cy="684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8600" rIns="48600" tIns="69120" bIns="69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2680" y="2313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11480" y="2340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1640" y="2340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97640" y="18054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eec"/>
                </a:solidFill>
                <a:latin typeface="Arial"/>
                <a:ea typeface="宋体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9280" y="1805400"/>
            <a:ext cx="8575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eec"/>
                </a:solidFill>
                <a:latin typeface="Arial"/>
                <a:ea typeface="宋体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7149240" y="3980160"/>
            <a:ext cx="484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752480" y="3483000"/>
            <a:ext cx="6973560" cy="609120"/>
            <a:chOff x="1752480" y="3483000"/>
            <a:chExt cx="6973560" cy="609120"/>
          </a:xfrm>
        </p:grpSpPr>
        <p:sp>
          <p:nvSpPr>
            <p:cNvPr id="407" name=""/>
            <p:cNvSpPr/>
            <p:nvPr/>
          </p:nvSpPr>
          <p:spPr>
            <a:xfrm>
              <a:off x="1752480" y="3483720"/>
              <a:ext cx="1762200" cy="6040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81560" y="3483720"/>
              <a:ext cx="1758960" cy="608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39440" y="3483720"/>
              <a:ext cx="1758960" cy="608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67080" y="3483000"/>
              <a:ext cx="1758960" cy="6084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1573200" y="3384720"/>
            <a:ext cx="1855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25680" y="3384720"/>
            <a:ext cx="1855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54480" y="3384720"/>
            <a:ext cx="1855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07320" y="3384720"/>
            <a:ext cx="1855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703520" y="5464080"/>
            <a:ext cx="6973560" cy="609480"/>
            <a:chOff x="1703520" y="5464080"/>
            <a:chExt cx="6973560" cy="609480"/>
          </a:xfrm>
        </p:grpSpPr>
        <p:sp>
          <p:nvSpPr>
            <p:cNvPr id="416" name=""/>
            <p:cNvSpPr/>
            <p:nvPr/>
          </p:nvSpPr>
          <p:spPr>
            <a:xfrm>
              <a:off x="1703520" y="5464800"/>
              <a:ext cx="1762200" cy="6044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32600" y="546480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90480" y="546480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18120" y="546408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276720" y="53118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0001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05520" y="53118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3e3ee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0111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0" y="53118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100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712880" y="4778280"/>
            <a:ext cx="6973560" cy="609480"/>
            <a:chOff x="1712880" y="4778280"/>
            <a:chExt cx="6973560" cy="609480"/>
          </a:xfrm>
        </p:grpSpPr>
        <p:sp>
          <p:nvSpPr>
            <p:cNvPr id="424" name=""/>
            <p:cNvSpPr/>
            <p:nvPr/>
          </p:nvSpPr>
          <p:spPr>
            <a:xfrm>
              <a:off x="1712880" y="4779000"/>
              <a:ext cx="1762200" cy="6044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41960" y="477900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99840" y="477900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27480" y="4778280"/>
              <a:ext cx="1758960" cy="6087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8600" rIns="48600" tIns="69120" bIns="69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079720" y="4626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3e3ee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84480" y="4626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62720" y="4626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99080" y="48546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48546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4312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2408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48440" y="3102120"/>
            <a:ext cx="3142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0564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7716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72520" y="3116160"/>
            <a:ext cx="3142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2320" rIns="652320" tIns="0" bIns="0" anchor="ctr" anchorCtr="1">
            <a:noAutofit/>
          </a:bodyPr>
          <a:p>
            <a:pPr>
              <a:lnSpc>
                <a:spcPts val="2361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5396760" y="4002480"/>
            <a:ext cx="484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3567960" y="4029480"/>
            <a:ext cx="484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1815120" y="4029480"/>
            <a:ext cx="484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19880" y="1195920"/>
            <a:ext cx="10616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2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288200" y="465300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2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24560" y="234936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47640" y="5300640"/>
            <a:ext cx="1855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960" rIns="48960" tIns="69120" bIns="69120" anchor="t">
            <a:noAutofit/>
          </a:bodyPr>
          <a:p>
            <a:pPr>
              <a:lnSpc>
                <a:spcPts val="4836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4100" spc="-1" strike="noStrike">
                <a:solidFill>
                  <a:srgbClr val="00e4a8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e3eec"/>
                </a:solidFill>
                <a:latin typeface="Arial"/>
                <a:ea typeface="宋体"/>
              </a:rPr>
              <a:t>10101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shanhgt</dc:creator>
  <dc:description/>
  <dc:language>en-US</dc:language>
  <cp:lastModifiedBy>wei.gao</cp:lastModifiedBy>
  <dcterms:modified xsi:type="dcterms:W3CDTF">2004-04-21T07:26:29Z</dcterms:modified>
  <cp:revision>267</cp:revision>
  <dc:subject/>
  <dc:title>计算机网络层协议与设备应用</dc:title>
</cp:coreProperties>
</file>