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1.png" ContentType="image/png"/>
  <Override PartName="/ppt/media/image17.wmf" ContentType="image/x-wmf"/>
  <Override PartName="/ppt/media/image15.jpeg" ContentType="image/jpeg"/>
  <Override PartName="/ppt/media/image16.jpeg" ContentType="image/jpeg"/>
  <Override PartName="/ppt/media/image5.jpeg" ContentType="image/jpe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1BA7-F9B9-4498-967E-CF369626C3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28328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32004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76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28328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76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9168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83360" y="2514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9168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83360" y="28328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320040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28328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2514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28328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2552-DF52-46B6-9B3E-89A9ADC2745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/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7762-14BF-4FF0-A545-1F6DC8B07F47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/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计算机网络传输层协议与应用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第九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U D P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首部的 数据格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3960" y="2049480"/>
            <a:ext cx="7834680" cy="3098880"/>
            <a:chOff x="183960" y="2049480"/>
            <a:chExt cx="7834680" cy="3098880"/>
          </a:xfrm>
        </p:grpSpPr>
        <p:graphicFrame>
          <p:nvGraphicFramePr>
            <p:cNvPr id="233" name=""/>
            <p:cNvGraphicFramePr/>
            <p:nvPr/>
          </p:nvGraphicFramePr>
          <p:xfrm>
            <a:off x="6527880" y="3402000"/>
            <a:ext cx="1216080" cy="105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27880" y="3402000"/>
                      <a:ext cx="1216080" cy="105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5" name=""/>
            <p:cNvGraphicFramePr/>
            <p:nvPr/>
          </p:nvGraphicFramePr>
          <p:xfrm>
            <a:off x="183960" y="3344760"/>
            <a:ext cx="1216080" cy="105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3960" y="3344760"/>
                      <a:ext cx="1216080" cy="105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7" name=""/>
            <p:cNvSpPr/>
            <p:nvPr/>
          </p:nvSpPr>
          <p:spPr>
            <a:xfrm>
              <a:off x="1152360" y="3719520"/>
              <a:ext cx="5507280" cy="744480"/>
            </a:xfrm>
            <a:custGeom>
              <a:avLst/>
              <a:gdLst/>
              <a:ahLst/>
              <a:rect l="l" t="t" r="r" b="b"/>
              <a:pathLst>
                <a:path w="3469" h="469">
                  <a:moveTo>
                    <a:pt x="0" y="360"/>
                  </a:moveTo>
                  <a:lnTo>
                    <a:pt x="36" y="353"/>
                  </a:lnTo>
                  <a:lnTo>
                    <a:pt x="156" y="324"/>
                  </a:lnTo>
                  <a:lnTo>
                    <a:pt x="300" y="281"/>
                  </a:lnTo>
                  <a:lnTo>
                    <a:pt x="492" y="209"/>
                  </a:lnTo>
                  <a:lnTo>
                    <a:pt x="756" y="122"/>
                  </a:lnTo>
                  <a:lnTo>
                    <a:pt x="1044" y="50"/>
                  </a:lnTo>
                  <a:lnTo>
                    <a:pt x="1356" y="7"/>
                  </a:lnTo>
                  <a:lnTo>
                    <a:pt x="1572" y="0"/>
                  </a:lnTo>
                  <a:lnTo>
                    <a:pt x="1692" y="14"/>
                  </a:lnTo>
                  <a:lnTo>
                    <a:pt x="1716" y="72"/>
                  </a:lnTo>
                  <a:lnTo>
                    <a:pt x="1812" y="173"/>
                  </a:lnTo>
                  <a:lnTo>
                    <a:pt x="1884" y="302"/>
                  </a:lnTo>
                  <a:lnTo>
                    <a:pt x="1884" y="389"/>
                  </a:lnTo>
                  <a:lnTo>
                    <a:pt x="1872" y="432"/>
                  </a:lnTo>
                  <a:lnTo>
                    <a:pt x="1728" y="454"/>
                  </a:lnTo>
                  <a:lnTo>
                    <a:pt x="1584" y="461"/>
                  </a:lnTo>
                  <a:lnTo>
                    <a:pt x="1488" y="468"/>
                  </a:lnTo>
                  <a:lnTo>
                    <a:pt x="1476" y="418"/>
                  </a:lnTo>
                  <a:lnTo>
                    <a:pt x="1476" y="374"/>
                  </a:lnTo>
                  <a:lnTo>
                    <a:pt x="1500" y="302"/>
                  </a:lnTo>
                  <a:lnTo>
                    <a:pt x="1644" y="230"/>
                  </a:lnTo>
                  <a:lnTo>
                    <a:pt x="1884" y="173"/>
                  </a:lnTo>
                  <a:lnTo>
                    <a:pt x="2100" y="115"/>
                  </a:lnTo>
                  <a:lnTo>
                    <a:pt x="2268" y="101"/>
                  </a:lnTo>
                  <a:lnTo>
                    <a:pt x="2304" y="101"/>
                  </a:lnTo>
                  <a:lnTo>
                    <a:pt x="2400" y="151"/>
                  </a:lnTo>
                  <a:lnTo>
                    <a:pt x="2424" y="180"/>
                  </a:lnTo>
                  <a:lnTo>
                    <a:pt x="2424" y="223"/>
                  </a:lnTo>
                  <a:lnTo>
                    <a:pt x="2424" y="266"/>
                  </a:lnTo>
                  <a:lnTo>
                    <a:pt x="2340" y="288"/>
                  </a:lnTo>
                  <a:lnTo>
                    <a:pt x="2268" y="295"/>
                  </a:lnTo>
                  <a:lnTo>
                    <a:pt x="2280" y="238"/>
                  </a:lnTo>
                  <a:lnTo>
                    <a:pt x="2424" y="194"/>
                  </a:lnTo>
                  <a:lnTo>
                    <a:pt x="2544" y="151"/>
                  </a:lnTo>
                  <a:lnTo>
                    <a:pt x="2664" y="108"/>
                  </a:lnTo>
                  <a:lnTo>
                    <a:pt x="2760" y="94"/>
                  </a:lnTo>
                  <a:lnTo>
                    <a:pt x="2808" y="86"/>
                  </a:lnTo>
                  <a:lnTo>
                    <a:pt x="2976" y="130"/>
                  </a:lnTo>
                  <a:lnTo>
                    <a:pt x="3144" y="173"/>
                  </a:lnTo>
                  <a:lnTo>
                    <a:pt x="3240" y="216"/>
                  </a:lnTo>
                  <a:lnTo>
                    <a:pt x="3252" y="245"/>
                  </a:lnTo>
                  <a:lnTo>
                    <a:pt x="3264" y="266"/>
                  </a:lnTo>
                  <a:lnTo>
                    <a:pt x="3264" y="288"/>
                  </a:lnTo>
                  <a:lnTo>
                    <a:pt x="3276" y="310"/>
                  </a:lnTo>
                  <a:lnTo>
                    <a:pt x="3288" y="331"/>
                  </a:lnTo>
                  <a:lnTo>
                    <a:pt x="3336" y="338"/>
                  </a:lnTo>
                  <a:lnTo>
                    <a:pt x="3372" y="338"/>
                  </a:lnTo>
                  <a:lnTo>
                    <a:pt x="3408" y="360"/>
                  </a:lnTo>
                  <a:lnTo>
                    <a:pt x="3444" y="374"/>
                  </a:lnTo>
                  <a:lnTo>
                    <a:pt x="3468" y="39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8" name=""/>
            <p:cNvGraphicFramePr/>
            <p:nvPr/>
          </p:nvGraphicFramePr>
          <p:xfrm>
            <a:off x="3227400" y="3186000"/>
            <a:ext cx="971640" cy="14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27400" y="3186000"/>
                      <a:ext cx="971640" cy="14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0" name=""/>
            <p:cNvSpPr/>
            <p:nvPr/>
          </p:nvSpPr>
          <p:spPr>
            <a:xfrm>
              <a:off x="4035240" y="2049480"/>
              <a:ext cx="2806920" cy="1511280"/>
            </a:xfrm>
            <a:custGeom>
              <a:avLst/>
              <a:gdLst>
                <a:gd name="textAreaLeft" fmla="*/ 103680 w 2806920"/>
                <a:gd name="textAreaRight" fmla="*/ 2703240 w 2806920"/>
                <a:gd name="textAreaTop" fmla="*/ 55800 h 1511280"/>
                <a:gd name="textAreaBottom" fmla="*/ 120708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39400" y="2327040"/>
              <a:ext cx="1461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注意：丢了数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可不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1200" y="4411440"/>
              <a:ext cx="142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网络服务 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922800" y="4449600"/>
              <a:ext cx="10958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简单客户应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Q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343640" y="1371600"/>
            <a:ext cx="531720" cy="2093760"/>
            <a:chOff x="7343640" y="1371600"/>
            <a:chExt cx="531720" cy="2093760"/>
          </a:xfrm>
        </p:grpSpPr>
        <p:sp>
          <p:nvSpPr>
            <p:cNvPr id="245" name=""/>
            <p:cNvSpPr/>
            <p:nvPr/>
          </p:nvSpPr>
          <p:spPr>
            <a:xfrm>
              <a:off x="7343640" y="1371600"/>
              <a:ext cx="140040" cy="2093760"/>
            </a:xfrm>
            <a:custGeom>
              <a:avLst/>
              <a:gdLst>
                <a:gd name="textAreaLeft" fmla="*/ 0 w 140040"/>
                <a:gd name="textAreaRight" fmla="*/ 50400 w 140040"/>
                <a:gd name="textAreaTop" fmla="*/ 54360 h 2093760"/>
                <a:gd name="textAreaBottom" fmla="*/ 2039400 h 20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86200" y="1490040"/>
              <a:ext cx="389160" cy="19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共 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8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个字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7" name=""/>
          <p:cNvGraphicFramePr/>
          <p:nvPr/>
        </p:nvGraphicFramePr>
        <p:xfrm>
          <a:off x="844560" y="1244520"/>
          <a:ext cx="6313320" cy="4427280"/>
        </p:xfrm>
        <a:graphic>
          <a:graphicData uri="http://schemas.openxmlformats.org/drawingml/2006/table">
            <a:tbl>
              <a:tblPr/>
              <a:tblGrid>
                <a:gridCol w="287640"/>
                <a:gridCol w="2497320"/>
                <a:gridCol w="305280"/>
                <a:gridCol w="306360"/>
                <a:gridCol w="2609640"/>
                <a:gridCol w="307080"/>
              </a:tblGrid>
              <a:tr h="859680">
                <a:tc>
                  <a:txBody>
                    <a:bodyPr lIns="0" rIns="0" tIns="0" bIns="0" anchor="ctr" anchorCtr="1">
                      <a:noAutofit/>
                    </a:bodyPr>
                    <a:p>
                      <a:pPr marL="42840" indent="-42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87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源端口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目的端口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1531800"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长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检验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5800">
                <a:tc gridSpan="6"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U D P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首部的 数据格式（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69080" cy="4500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V="1">
            <a:off x="3887640" y="2889000"/>
            <a:ext cx="46836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14840" y="2379240"/>
            <a:ext cx="2944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ource Por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X05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源端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356000" y="3015720"/>
            <a:ext cx="46836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3880" y="2642400"/>
            <a:ext cx="37051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estination Port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X6774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目标端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006800" y="3104640"/>
            <a:ext cx="46836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91720" y="2731320"/>
            <a:ext cx="26492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otal Length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1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总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176720" y="3212640"/>
            <a:ext cx="46836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6840" y="2839320"/>
            <a:ext cx="36792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UDP Checksum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X0BDC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校验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943280" y="5788080"/>
            <a:ext cx="914400" cy="66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放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概述与工作原理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619280" y="1341360"/>
            <a:ext cx="5724360" cy="4151520"/>
            <a:chOff x="1619280" y="1341360"/>
            <a:chExt cx="5724360" cy="415152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619280" y="1341360"/>
              <a:ext cx="5040360" cy="415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435640" y="2529000"/>
              <a:ext cx="1404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传输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77080" y="3537000"/>
              <a:ext cx="8632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网络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59280" y="1521000"/>
              <a:ext cx="1081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应用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77080" y="4473720"/>
              <a:ext cx="136656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数据链路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184480" y="1762200"/>
            <a:ext cx="206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2800" spc="-1" strike="noStrike">
                <a:solidFill>
                  <a:srgbClr val="004e47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004e47"/>
                </a:solidFill>
                <a:latin typeface="Times New Roman"/>
              </a:rPr>
              <a:t>协议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454040" y="2487600"/>
            <a:ext cx="1511280" cy="3187800"/>
            <a:chOff x="1454040" y="2487600"/>
            <a:chExt cx="1511280" cy="3187800"/>
          </a:xfrm>
        </p:grpSpPr>
        <p:sp>
          <p:nvSpPr>
            <p:cNvPr id="268" name=""/>
            <p:cNvSpPr/>
            <p:nvPr/>
          </p:nvSpPr>
          <p:spPr>
            <a:xfrm>
              <a:off x="1454040" y="24876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54040" y="29448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4040" y="34020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54040" y="38592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54040" y="43164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54040" y="47736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454040" y="5230800"/>
              <a:ext cx="151128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81480" y="52498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物理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84800" y="4792680"/>
              <a:ext cx="94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数据链路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81480" y="43354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网络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81480" y="38782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传输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81480" y="34210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会话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81480" y="29638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表示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81480" y="2506680"/>
              <a:ext cx="63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应用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978280" y="43099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78280" y="4773600"/>
            <a:ext cx="749160" cy="291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78280" y="38527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713040" y="4300560"/>
            <a:ext cx="4357800" cy="765000"/>
            <a:chOff x="3713040" y="4300560"/>
            <a:chExt cx="4357800" cy="765000"/>
          </a:xfrm>
        </p:grpSpPr>
        <p:sp>
          <p:nvSpPr>
            <p:cNvPr id="286" name=""/>
            <p:cNvSpPr/>
            <p:nvPr/>
          </p:nvSpPr>
          <p:spPr>
            <a:xfrm>
              <a:off x="3740040" y="4319640"/>
              <a:ext cx="4330800" cy="745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13040" y="430056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cf01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24320" y="4413240"/>
              <a:ext cx="3619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SPF  RIP   ARP  RARP  BOOTP  ICM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49880" y="4319640"/>
              <a:ext cx="59688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9360" y="4319640"/>
              <a:ext cx="44460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6560" y="4319640"/>
              <a:ext cx="52056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50080" y="4319640"/>
              <a:ext cx="59688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59560" y="4319640"/>
              <a:ext cx="74916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21680" y="4319640"/>
              <a:ext cx="596880" cy="461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740040" y="3859200"/>
            <a:ext cx="433080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385920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23240" y="390852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09960" y="3908520"/>
            <a:ext cx="78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4004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4988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5936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6884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7868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88160" y="2411280"/>
            <a:ext cx="596880" cy="143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5680" y="2384280"/>
            <a:ext cx="37944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仿宋体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1160" y="2887560"/>
            <a:ext cx="57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09040" y="2909880"/>
            <a:ext cx="59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542200" y="2924280"/>
            <a:ext cx="73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52040" y="29242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61160" y="2889360"/>
            <a:ext cx="61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2978280" y="2398320"/>
            <a:ext cx="749160" cy="88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概述与工作原理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连接与断开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面向连接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 algn="just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两个主机之间建立一个端对端的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 algn="just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进行连接时需要使用端口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 algn="just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传输数据之前，建立对话的两个端点之间交换称为握手的控制信息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三个段要交换，故称为“三段式握手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 algn="just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终止一个连接要经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连接与断开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34920" y="1592280"/>
            <a:ext cx="6301080" cy="4537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 flipV="1">
            <a:off x="5832360" y="2009520"/>
            <a:ext cx="28908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14800" y="1230480"/>
            <a:ext cx="3754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DO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窗口下看到的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TCP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连接目标端口是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，所以是客户端上网浏览时建立的连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03040" y="2477880"/>
            <a:ext cx="7414200" cy="91692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ctive Connections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方框中内容放大效果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roto    Local Address                Foreign Address    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CP      19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8•1•3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600       192•168•1•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0      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连接与断开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934920" y="1066680"/>
            <a:ext cx="72741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57320" y="2616120"/>
            <a:ext cx="24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100 ctl=SY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57480" y="3086280"/>
            <a:ext cx="1543320" cy="25704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7480" y="2414520"/>
            <a:ext cx="0" cy="33433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29240" y="2414520"/>
            <a:ext cx="0" cy="3343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4324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97160" y="182880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54372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6497640" y="182880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465120" y="2662200"/>
            <a:ext cx="417240" cy="454320"/>
            <a:chOff x="465120" y="2662200"/>
            <a:chExt cx="417240" cy="454320"/>
          </a:xfrm>
        </p:grpSpPr>
        <p:sp>
          <p:nvSpPr>
            <p:cNvPr id="332" name=""/>
            <p:cNvSpPr/>
            <p:nvPr/>
          </p:nvSpPr>
          <p:spPr>
            <a:xfrm>
              <a:off x="465120" y="2678040"/>
              <a:ext cx="399960" cy="4017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1200" y="266220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57320" y="2616120"/>
            <a:ext cx="24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100 ctl=SY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30760" y="3102120"/>
            <a:ext cx="2729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收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71880" y="3086280"/>
            <a:ext cx="1542960" cy="25704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57480" y="2414520"/>
            <a:ext cx="0" cy="33433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29240" y="2414520"/>
            <a:ext cx="0" cy="3343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45160" y="363060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, 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300 ack=101 ctl=syn,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929040" y="3786120"/>
            <a:ext cx="1571760" cy="228600"/>
          </a:xfrm>
          <a:prstGeom prst="line">
            <a:avLst/>
          </a:prstGeom>
          <a:ln w="50760">
            <a:solidFill>
              <a:srgbClr val="00b1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34324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297160" y="182880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54372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497640" y="182880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346" name=""/>
          <p:cNvGrpSpPr/>
          <p:nvPr/>
        </p:nvGrpSpPr>
        <p:grpSpPr>
          <a:xfrm>
            <a:off x="465120" y="2662200"/>
            <a:ext cx="417240" cy="454320"/>
            <a:chOff x="465120" y="2662200"/>
            <a:chExt cx="417240" cy="454320"/>
          </a:xfrm>
        </p:grpSpPr>
        <p:sp>
          <p:nvSpPr>
            <p:cNvPr id="347" name=""/>
            <p:cNvSpPr/>
            <p:nvPr/>
          </p:nvSpPr>
          <p:spPr>
            <a:xfrm>
              <a:off x="465120" y="2678040"/>
              <a:ext cx="399960" cy="4017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200" y="266220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508880" y="3462480"/>
            <a:ext cx="417240" cy="454320"/>
            <a:chOff x="7508880" y="3462480"/>
            <a:chExt cx="417240" cy="454320"/>
          </a:xfrm>
        </p:grpSpPr>
        <p:sp>
          <p:nvSpPr>
            <p:cNvPr id="350" name=""/>
            <p:cNvSpPr/>
            <p:nvPr/>
          </p:nvSpPr>
          <p:spPr>
            <a:xfrm>
              <a:off x="7508880" y="3478320"/>
              <a:ext cx="399960" cy="40140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54960" y="346248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57320" y="2616120"/>
            <a:ext cx="24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100 ctl=SY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630760" y="3102120"/>
            <a:ext cx="2729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收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71880" y="3086280"/>
            <a:ext cx="1542960" cy="25704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57480" y="2414520"/>
            <a:ext cx="0" cy="33433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29240" y="2414520"/>
            <a:ext cx="0" cy="3343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645160" y="3630600"/>
            <a:ext cx="3341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, 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300 ack=101 ctl=syn,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929040" y="3786120"/>
            <a:ext cx="1571760" cy="228600"/>
          </a:xfrm>
          <a:prstGeom prst="line">
            <a:avLst/>
          </a:prstGeom>
          <a:ln w="50760">
            <a:solidFill>
              <a:srgbClr val="00b1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57320" y="4330800"/>
            <a:ext cx="267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会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seq=101 ack=301 ctl=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71880" y="4800600"/>
            <a:ext cx="1542960" cy="17136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4324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297160" y="182880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543720" y="154476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497640" y="182880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465120" y="2662200"/>
            <a:ext cx="417240" cy="454320"/>
            <a:chOff x="465120" y="2662200"/>
            <a:chExt cx="417240" cy="454320"/>
          </a:xfrm>
        </p:grpSpPr>
        <p:sp>
          <p:nvSpPr>
            <p:cNvPr id="367" name=""/>
            <p:cNvSpPr/>
            <p:nvPr/>
          </p:nvSpPr>
          <p:spPr>
            <a:xfrm>
              <a:off x="465120" y="2678040"/>
              <a:ext cx="399960" cy="4017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1200" y="266220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508880" y="3462480"/>
            <a:ext cx="417240" cy="454320"/>
            <a:chOff x="7508880" y="3462480"/>
            <a:chExt cx="417240" cy="454320"/>
          </a:xfrm>
        </p:grpSpPr>
        <p:sp>
          <p:nvSpPr>
            <p:cNvPr id="370" name=""/>
            <p:cNvSpPr/>
            <p:nvPr/>
          </p:nvSpPr>
          <p:spPr>
            <a:xfrm>
              <a:off x="7508880" y="3478320"/>
              <a:ext cx="399960" cy="40140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54960" y="346248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479520" y="4390920"/>
            <a:ext cx="417240" cy="454320"/>
            <a:chOff x="479520" y="4390920"/>
            <a:chExt cx="417240" cy="454320"/>
          </a:xfrm>
        </p:grpSpPr>
        <p:sp>
          <p:nvSpPr>
            <p:cNvPr id="373" name=""/>
            <p:cNvSpPr/>
            <p:nvPr/>
          </p:nvSpPr>
          <p:spPr>
            <a:xfrm>
              <a:off x="479520" y="4406760"/>
              <a:ext cx="399960" cy="401760"/>
            </a:xfrm>
            <a:prstGeom prst="ellipse">
              <a:avLst/>
            </a:prstGeom>
            <a:solidFill>
              <a:srgbClr val="ffd255"/>
            </a:solidFill>
            <a:ln w="12600">
              <a:solidFill>
                <a:srgbClr val="ffd255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5600" y="4390920"/>
              <a:ext cx="37116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148120" y="3844800"/>
            <a:ext cx="10659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收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络层的基本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址及子网规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AR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议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议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态路由和动态路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态路由的基本配置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由器的硬件组成和基本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1150920" y="1089000"/>
            <a:ext cx="6194520" cy="46814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5796000" y="281628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92720" y="3933720"/>
            <a:ext cx="144720" cy="1447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0000" y="3284640"/>
            <a:ext cx="48974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Ip:Source Address =192.168.1.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967280" y="257004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76360" y="3284640"/>
            <a:ext cx="48974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Ip:Destination Address =192.168.1.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76360" y="3284640"/>
            <a:ext cx="48974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CP…1…=Synchronize sequenc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8.14815E-006 C -1.66667E-006 -0.00047 -0.00052 -0.01228 -0.00208 -0.01528 C -0.00555 -0.02246 -0.01267 -0.02709 -0.01875 -0.02917 C -0.02812 -0.03751 -0.03837 -0.04121 -0.04896 -0.04584 C -0.05035 -0.04653 -0.05156 -0.04815 -0.05312 -0.04862 C -0.05885 -0.05024 -0.06493 -0.05001 -0.07083 -0.0514 C -0.08923 -0.05579 -0.10746 -0.06112 -0.12604 -0.0639 C -0.1401 -0.06853 -0.15434 -0.06829 -0.16875 -0.07084 C -0.17691 -0.07223 -0.18455 -0.0764 -0.19271 -0.07778 C -0.20173 -0.07917 -0.21076 -0.08056 -0.21979 -0.08195 C -0.2559 -0.08103 -0.26493 -0.08265 -0.29062 -0.07778 C -0.29479 -0.07593 -0.29878 -0.07478 -0.30312 -0.07362 C -0.30677 -0.06876 -0.30868 -0.0669 -0.31354 -0.06528 C -0.31719 -0.06204 -0.325 -0.05695 -0.325 -0.05695 C -0.33038 -0.0463 -0.34097 -0.03728 -0.35 -0.03334 C -0.3559 -0.02755 -0.36215 -0.02246 -0.36875 -0.01806 C -0.37187 -0.01181 -0.375 -0.00626 -0.37812 -8.14815E-006 C -0.37778 0.00694 -0.37847 0.01411 -0.37708 0.02083 C -0.37569 0.02777 -0.36198 0.02847 -0.35833 0.02916 C -0.35139 0.03217 -0.35399 0.03055 -0.35 0.03333 E">
                                      <p:cBhvr>
                                        <p:cTn id="689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48148E-006 C -0.00104 -0.0074 -0.00174 -0.00995 -0.00729 -0.0125 C -0.01476 -0.0199 -0.02222 -0.02291 -0.03125 -0.025 C -0.05 -0.03495 -0.05643 -0.03634 -0.07813 -0.03889 C -0.08438 -0.03958 -0.09688 -0.04166 -0.09688 -0.04166 C -0.1316 -0.05717 -0.17309 -0.05995 -0.20938 -0.0625 C -0.27917 -0.0618 -0.29896 -0.06389 -0.34792 -0.05833 C -0.36771 -0.05602 -0.38924 -0.05717 -0.40833 -0.04861 C -0.42118 -0.04282 -0.43212 -0.03055 -0.44479 -0.02639 C -0.44774 -0.02106 -0.44948 -0.01736 -0.45417 -0.01527 C -0.45781 -0.00879 -0.46233 -0.00648 -0.46771 -0.00277 C -0.46875 -0.00069 -0.47083 0.00278 -0.47083 0.00556 C -0.47083 0.00973 -0.47083 0.01412 -0.46979 0.01806 C -0.46858 0.02246 -0.45608 0.02454 -0.45313 0.025 C -0.4507 0.02454 -0.44809 0.025 -0.44583 0.02361 C -0.44479 0.02292 -0.44566 0.02014 -0.44479 0.01945 C -0.44358 0.01852 -0.44202 0.01945 -0.44063 0.01945 E">
                                      <p:cBhvr>
                                        <p:cTn id="711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C -0.11667 0.00047 -0.23316 0.00047 -0.35 0.00139 C -0.36788 0.00162 -0.40399 0.00556 -0.40399 0.00556 C -0.42344 0.01204 -0.44375 0.01297 -0.46337 0.01945 C -0.46979 0.02153 -0.47569 0.02685 -0.48212 0.02917 C -0.4849 0.03009 -0.49045 0.03195 -0.49045 0.03195 C -0.49792 0.03935 -0.50885 0.05162 -0.51753 0.05556 C -0.52083 0.06204 -0.52396 0.06829 -0.52691 0.075 C -0.52865 0.07894 -0.53108 0.0875 -0.53108 0.0875 C -0.52569 0.1088 -0.51024 0.10417 -0.4967 0.10417 E">
                                      <p:cBhvr>
                                        <p:cTn id="733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4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150920" y="1089000"/>
            <a:ext cx="6194520" cy="46814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867280" y="3645000"/>
            <a:ext cx="144720" cy="144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96000" y="425916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76360" y="3645000"/>
            <a:ext cx="53640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CP…1…=Acknowledgement field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360" y="4141800"/>
            <a:ext cx="48974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CP…1…=Synchronize sequenc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C -0.0026 -0.00185 -0.00451 -0.00324 -0.00729 -0.00417 C -0.01076 -0.00532 -0.01771 -0.00694 -0.01771 -0.00694 C -0.14219 -0.00602 -0.2625 -1.85185000000005E-006 -0.38646 0.00139 C -0.40174 0.00231 -0.41424 0.00532 -0.42917 0.00694 C -0.43681 0.01389 -0.44635 0.02106 -0.45521 0.025 C -0.45955 0.04236 -0.46632 0.01597 -0.45833 0.05833 C -0.45799 0.05995 -0.44167 0.06435 -0.44062 0.06528 C -0.43142 0.07338 -0.42014 0.07222 -0.40937 0.07222 C -0.32361 0.07315 -0.23785 0.07315 -0.15208 0.07361 C -0.14219 0.07454 -0.09896 0.08333 -0.09896 0.07222 E">
                                      <p:cBhvr>
                                        <p:cTn id="762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7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1.85185E-006 C -0.02136 0.01436 -0.0849 0.00533 -0.11962 0.00834 C -0.1533 0.01482 -0.18646 0.01922 -0.22066 0.02084 C -0.28455 0.01991 -0.35365 0.01459 -0.41754 0.02223 C -0.42379 0.025 -0.43004 0.02824 -0.43629 0.03056 C -0.43907 0.03148 -0.44185 0.03241 -0.44462 0.03334 C -0.44601 0.0338 -0.44879 0.03473 -0.44879 0.03473 C -0.45087 0.0463 -0.45018 0.05278 -0.4415 0.05556 C -0.41823 0.05371 -0.39497 0.05255 -0.37171 0.05139 C -0.3599 0.04954 -0.3481 0.04861 -0.33629 0.04723 C -0.31598 0.0382 -0.29931 0.03843 -0.27691 0.0375 C -0.2165 0.0382 -0.16789 0.04028 -0.11129 0.04306 C -0.1106 0.04607 -0.10938 0.05139 -0.11337 0.05139 E">
                                      <p:cBhvr>
                                        <p:cTn id="78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79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三段式握手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150920" y="1089000"/>
            <a:ext cx="6194520" cy="46814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867280" y="3645000"/>
            <a:ext cx="144720" cy="14436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76360" y="3925800"/>
            <a:ext cx="536400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CP…1…=Acknowledgement field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C -0.01615 -0.01435 -0.04792 -0.01273 -0.06667 -0.01528 C -0.11111 -0.02129 -0.15539 -0.025 -0.2 -0.02778 C -0.24861 -0.02731 -0.30122 -0.05046 -0.34584 -0.025 C -0.35521 -0.01967 -0.34098 -0.0243 -0.35417 -0.02083 C -0.37275 -0.00856 -0.39236 0.00162 -0.41146 0.0125 C -0.42032 0.01759 -0.42813 0.02547 -0.43646 0.03195 C -0.4441 0.03773 -0.45365 0.04584 -0.45729 0.05695 C -0.45868 0.06088 -0.45938 0.06528 -0.46042 0.06945 C -0.46111 0.07222 -0.4625 0.07778 -0.4625 0.07778 C -0.45903 0.09167 -0.44914 0.08935 -0.43959 0.09028 C -0.42882 0.09398 -0.44063 0.09028 -0.41771 0.09306 C -0.39393 0.09584 -0.37205 0.09769 -0.34792 0.09861 C -0.30209 0.0956 -0.31858 0.09908 -0.29792 0.09445 C -0.25278 0.09491 -0.20764 0.09514 -0.1625 0.09584 C -0.13716 0.09607 -0.11181 0.09722 -0.08646 0.09722 C -0.08542 0.09722 -0.08334 0.09584 -0.08334 0.09584 E">
                                      <p:cBhvr>
                                        <p:cTn id="81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82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流控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滑动窗口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发送方停止并且等待确认前可以连续发送多个分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发送方不必每发一个分组就停下来等待确认，因此该协议可以加速数据的传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窗口合拢 ：窗口左边沿向右边沿靠近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窗口张开： 窗口右边沿向右移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窗口收缩 ：右边沿向左移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4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滑动窗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28760" y="2800440"/>
            <a:ext cx="168588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28760" y="2243160"/>
            <a:ext cx="168588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68280" y="2343240"/>
            <a:ext cx="18464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3000" y="1700280"/>
            <a:ext cx="1085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发送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77080" y="1671480"/>
            <a:ext cx="1285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接收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5000" y="1843200"/>
            <a:ext cx="0" cy="3811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00320" y="1757520"/>
            <a:ext cx="0" cy="38970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801800" y="2930400"/>
            <a:ext cx="11574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328760" y="1628640"/>
            <a:ext cx="1685880" cy="44316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97080" y="1728720"/>
            <a:ext cx="18460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1920960"/>
            <a:ext cx="220968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2454120"/>
            <a:ext cx="226836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2987640"/>
            <a:ext cx="226836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68280" y="2903400"/>
            <a:ext cx="18464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滑动窗口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28760" y="2800440"/>
            <a:ext cx="168588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28760" y="2243160"/>
            <a:ext cx="168588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68280" y="2343240"/>
            <a:ext cx="18464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3000" y="1671480"/>
            <a:ext cx="1085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发送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1843200"/>
            <a:ext cx="0" cy="3811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00320" y="1757520"/>
            <a:ext cx="0" cy="38970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801800" y="2930400"/>
            <a:ext cx="11574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28760" y="1628640"/>
            <a:ext cx="1685880" cy="44316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297080" y="1728720"/>
            <a:ext cx="18460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76720" y="1920960"/>
            <a:ext cx="220968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97720" y="2200320"/>
            <a:ext cx="703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2454120"/>
            <a:ext cx="226836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2987640"/>
            <a:ext cx="2268360" cy="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3157200" y="3443400"/>
            <a:ext cx="2328840" cy="1440"/>
          </a:xfrm>
          <a:prstGeom prst="line">
            <a:avLst/>
          </a:prstGeom>
          <a:ln w="50760">
            <a:solidFill>
              <a:srgbClr val="00b1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68280" y="2903400"/>
            <a:ext cx="18464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867280" y="3184560"/>
            <a:ext cx="1676520" cy="48888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K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indow size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731720" y="324396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丢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940360" y="1671480"/>
            <a:ext cx="128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接收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滑动窗口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38120" y="2800440"/>
            <a:ext cx="167652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38120" y="2243160"/>
            <a:ext cx="1676520" cy="44280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78000" y="2343240"/>
            <a:ext cx="1836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65360" y="6257880"/>
            <a:ext cx="1150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9120" y="1671480"/>
            <a:ext cx="1079640" cy="4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发送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1843200"/>
            <a:ext cx="0" cy="3811320"/>
          </a:xfrm>
          <a:prstGeom prst="line">
            <a:avLst/>
          </a:prstGeom>
          <a:ln w="50760">
            <a:solidFill>
              <a:srgbClr val="00b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00320" y="1757520"/>
            <a:ext cx="0" cy="389700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8280" y="2930400"/>
            <a:ext cx="1150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38120" y="1628640"/>
            <a:ext cx="1676520" cy="44316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06440" y="1728720"/>
            <a:ext cx="1836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87880" y="1920960"/>
            <a:ext cx="2198520" cy="144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600960" y="2200320"/>
            <a:ext cx="699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87880" y="2454120"/>
            <a:ext cx="2257200" cy="180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87880" y="2987280"/>
            <a:ext cx="2257200" cy="180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3170160" y="3443400"/>
            <a:ext cx="2316240" cy="1440"/>
          </a:xfrm>
          <a:prstGeom prst="line">
            <a:avLst/>
          </a:prstGeom>
          <a:ln w="50760">
            <a:solidFill>
              <a:srgbClr val="00b1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78000" y="2903400"/>
            <a:ext cx="1836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75200" y="3184560"/>
            <a:ext cx="1668600" cy="48888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00760" y="3314880"/>
            <a:ext cx="17478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ct val="3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K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indow size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634880" y="324396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数据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丢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38120" y="4267080"/>
            <a:ext cx="1676520" cy="44316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63600" y="4367160"/>
            <a:ext cx="1836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38120" y="3724200"/>
            <a:ext cx="1676520" cy="44316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78000" y="3824280"/>
            <a:ext cx="1836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 size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89320" y="4435560"/>
            <a:ext cx="2284560" cy="1584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287880" y="3901680"/>
            <a:ext cx="2274840" cy="1800"/>
          </a:xfrm>
          <a:prstGeom prst="line">
            <a:avLst/>
          </a:prstGeom>
          <a:ln w="507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3247920" y="4982760"/>
            <a:ext cx="2316240" cy="1800"/>
          </a:xfrm>
          <a:prstGeom prst="line">
            <a:avLst/>
          </a:prstGeom>
          <a:ln w="50760">
            <a:solidFill>
              <a:srgbClr val="00b17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46840" y="1671480"/>
            <a:ext cx="12794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8aae"/>
                </a:solidFill>
                <a:latin typeface="Arial"/>
              </a:rPr>
              <a:t>接收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67280" y="4776840"/>
            <a:ext cx="1668600" cy="488880"/>
          </a:xfrm>
          <a:prstGeom prst="rect">
            <a:avLst/>
          </a:prstGeom>
          <a:solidFill>
            <a:srgbClr val="ffe59b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CK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indow size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差错控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差错检测和纠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检验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确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超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受损伤的数据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被丢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丢失的数据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认为接收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2500"/>
                            </p:stCondLst>
                            <p:childTnLst>
                              <p:par>
                                <p:cTn id="9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差错控制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重复的数据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接丢弃重复的数据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失序的数据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失序的数据段不确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丢失的确认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用累计确认系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500"/>
                            </p:stCondLst>
                            <p:childTnLst>
                              <p:par>
                                <p:cTn id="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拥塞控制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拥塞的原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接收分组过快，超过处理能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拥塞导致分组被丢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发导致更多的重传和更严重的拥塞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只考虑了发送端窗口和接收端窗口而忽略了传输介质网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解决的办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用接收端通知的窗口和拥塞窗口中的最小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本章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输层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差错控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拥塞控制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89080" y="1306440"/>
            <a:ext cx="7019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计时器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了平滑地完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功能，它有四种计时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重传计时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在计时器截至时间之前收到了对此报文段的确认，则撤销此计时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在计时器截至时间之前没有收到了对此报文段的确认，则重传此报文段，并将计时器复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坚持计时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零窗口死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572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探测报文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4" dur="500"/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计时器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保活计时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防止在两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之间的连接长时间空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保活计时器超时通常设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超时发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探测报文段（每个相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秒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没有响应中止该连接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间等待计时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连接终止期间使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复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报文段到达目的站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计时器的值通常设置为一个报文段的寿命期待值的两倍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的使用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6240" y="1267920"/>
            <a:ext cx="7391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网络中使用的范围很广，下面将列出一些常用的端口号及其功能。以便进一步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进行检测和管理。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为常用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C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端口及应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900000" y="2565360"/>
          <a:ext cx="7632720" cy="3068640"/>
        </p:xfrm>
        <a:graphic>
          <a:graphicData uri="http://schemas.openxmlformats.org/drawingml/2006/table">
            <a:tbl>
              <a:tblPr/>
              <a:tblGrid>
                <a:gridCol w="827280"/>
                <a:gridCol w="1000080"/>
                <a:gridCol w="5805360"/>
              </a:tblGrid>
              <a:tr h="51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端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协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说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1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T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服务器所开放的控制端口，用于上传、下载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用于远程登陆，通过连接目的计算机的这一端口，得到验证后可以远程控制管理目标计算机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T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服务器开放的端口，用于发送邮件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服务器开放的端口，当用户输入网站的名称后，由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NS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负责将它解析成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地址，这个过程中用到的端口号就是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0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0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概述与工作原理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一个简单的面向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层数据包的传输层协议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进程的每个输出操作都正好产生一个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段，并组装成一份待发送的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I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不提供可靠性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使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发送一个很短的数据 ，在发送端和接收端之间的交互要比使用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时少的多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5111640" y="1523880"/>
            <a:ext cx="3095640" cy="1800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7" name=""/>
          <p:cNvSpPr/>
          <p:nvPr/>
        </p:nvSpPr>
        <p:spPr>
          <a:xfrm flipH="1">
            <a:off x="5977080" y="2744640"/>
            <a:ext cx="466560" cy="1476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695640" y="2744640"/>
            <a:ext cx="647640" cy="2268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364000" y="2744640"/>
            <a:ext cx="216000" cy="579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55520" y="3364560"/>
            <a:ext cx="1158120" cy="27648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封装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821200" y="5031360"/>
            <a:ext cx="812880" cy="276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334840" y="4310640"/>
            <a:ext cx="630000" cy="276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5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概述与工作原理（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端口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用于发送进程和接收进程进行连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根据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I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首部中协议字段值来确定端口号是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或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 C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端口号与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端口号是相互独立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两个协议有时选择相同的端口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长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首部＋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的字节长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1" dur="500"/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 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校验和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检验和覆盖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首部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检验和是可选的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报的长度可以为奇数字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必要时在最后增加填充字节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检验和是一个端到端的检验和它由发送端计算，然后由接收端验证。其目的是为了发现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首部和数据在发送端到接收端之间发生的任何改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4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 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校验和（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876240" y="3395520"/>
            <a:ext cx="3619440" cy="23018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5003640" y="3395520"/>
            <a:ext cx="3264120" cy="2301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600360" y="3659040"/>
            <a:ext cx="1656000" cy="75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35280" y="3948120"/>
            <a:ext cx="1656000" cy="7556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465200" y="2563560"/>
            <a:ext cx="2920680" cy="5202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协议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T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零后得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71640" y="2917800"/>
            <a:ext cx="2519640" cy="125244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332000" y="2917800"/>
            <a:ext cx="1152360" cy="1246320"/>
          </a:xfrm>
          <a:prstGeom prst="line">
            <a:avLst/>
          </a:prstGeom>
          <a:ln w="38160">
            <a:solidFill>
              <a:srgbClr val="00e4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303640" y="4257720"/>
            <a:ext cx="36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040360" y="1377000"/>
            <a:ext cx="237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的协议号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的协议号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9800" y="1268280"/>
            <a:ext cx="34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段中的一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节长的伪首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332000" y="562464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检验和计算过程中使用的各个字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76720" y="5624640"/>
            <a:ext cx="2340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数据包格式及首部中的各字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0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流控和差错控制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没有流控机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没有窗口机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报文太多时，接收端会溢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除校验和外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也没有差错控制机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接收端使用校验和检测出差错时，就悄悄地将此用户数据段丢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使用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进程必须要提供这些机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 Narrow"/>
                <a:ea typeface="楷体_GB2312"/>
              </a:rPr>
              <a:t>的使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755640" y="1305000"/>
          <a:ext cx="6827760" cy="4647960"/>
        </p:xfrm>
        <a:graphic>
          <a:graphicData uri="http://schemas.openxmlformats.org/drawingml/2006/table">
            <a:tbl>
              <a:tblPr/>
              <a:tblGrid>
                <a:gridCol w="1054440"/>
                <a:gridCol w="1661400"/>
                <a:gridCol w="4111920"/>
              </a:tblGrid>
              <a:tr h="46476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端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14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协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14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说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14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c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将收到的数据报回送到发送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isc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丢弃任何收到的数据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ay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返回日期和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ame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域名服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ot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下载引导程序信息的服务器端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oot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下载引导程序信息的客户端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F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简单文件传输协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P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远程过程调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1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14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网络时间协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14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传输层概述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/IP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指一整套数据通信协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传输层完成端到端的连接和传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输层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包含以下两个协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传输控制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ransmission Control Protocol——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用户数据报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（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ser Dategram Protocol——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个很大的协议簇，是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OSIR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工业标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传输层协议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首部包含了重要的信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面向连接的，可靠传输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三段式握手非常重要，保证了连接的可靠性，但也有缺点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流控和差错控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1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（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Cont.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面向非连接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首部介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没有提供流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差错控制是通过校验和完成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可靠性依赖于使用它的客户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C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UD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的使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这里主要介绍了一些端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1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4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3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0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4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8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2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6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0" dur="5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4" dur="5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0" y="0"/>
          <a:ext cx="936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6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 txBox="1"/>
          <p:nvPr/>
        </p:nvSpPr>
        <p:spPr>
          <a:xfrm>
            <a:off x="7618320" y="5300640"/>
            <a:ext cx="914400" cy="66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返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0" y="7920"/>
          <a:ext cx="9144000" cy="68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 txBox="1"/>
          <p:nvPr/>
        </p:nvSpPr>
        <p:spPr>
          <a:xfrm>
            <a:off x="7545240" y="5229360"/>
            <a:ext cx="914400" cy="66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返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TCP/IP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传输层概述（</a:t>
            </a:r>
            <a:r>
              <a:rPr b="1" lang="zh-CN" sz="36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00000" y="1557360"/>
            <a:ext cx="6443640" cy="4176720"/>
            <a:chOff x="900000" y="1557360"/>
            <a:chExt cx="6443640" cy="4176720"/>
          </a:xfrm>
        </p:grpSpPr>
        <p:sp>
          <p:nvSpPr>
            <p:cNvPr id="105" name=""/>
            <p:cNvSpPr/>
            <p:nvPr/>
          </p:nvSpPr>
          <p:spPr>
            <a:xfrm>
              <a:off x="2354400" y="2189160"/>
              <a:ext cx="1309680" cy="1849320"/>
            </a:xfrm>
            <a:custGeom>
              <a:avLst/>
              <a:gdLst/>
              <a:ahLst/>
              <a:rect l="l" t="t" r="r" b="b"/>
              <a:pathLst>
                <a:path w="1069" h="943">
                  <a:moveTo>
                    <a:pt x="0" y="432"/>
                  </a:moveTo>
                  <a:lnTo>
                    <a:pt x="1053" y="0"/>
                  </a:lnTo>
                  <a:lnTo>
                    <a:pt x="1069" y="943"/>
                  </a:lnTo>
                  <a:lnTo>
                    <a:pt x="180" y="702"/>
                  </a:lnTo>
                </a:path>
              </a:pathLst>
            </a:cu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1120" y="2189160"/>
              <a:ext cx="3692520" cy="18525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sion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col (TC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r Datagra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col (UD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44760" y="1557360"/>
              <a:ext cx="133200" cy="4176720"/>
            </a:xfrm>
            <a:custGeom>
              <a:avLst/>
              <a:gdLst/>
              <a:ahLst/>
              <a:rect l="l" t="t" r="r" b="b"/>
              <a:pathLst>
                <a:path w="97" h="1585">
                  <a:moveTo>
                    <a:pt x="96" y="0"/>
                  </a:moveTo>
                  <a:lnTo>
                    <a:pt x="96" y="0"/>
                  </a:lnTo>
                  <a:lnTo>
                    <a:pt x="0" y="96"/>
                  </a:lnTo>
                  <a:lnTo>
                    <a:pt x="0" y="1584"/>
                  </a:lnTo>
                  <a:lnTo>
                    <a:pt x="96" y="1488"/>
                  </a:lnTo>
                  <a:lnTo>
                    <a:pt x="96" y="0"/>
                  </a:lnTo>
                </a:path>
              </a:pathLst>
            </a:custGeom>
            <a:solidFill>
              <a:srgbClr val="ffd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5040" y="1746360"/>
              <a:ext cx="1539720" cy="3987720"/>
            </a:xfrm>
            <a:prstGeom prst="rect">
              <a:avLst/>
            </a:prstGeom>
            <a:solidFill>
              <a:srgbClr val="ffe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76480" y="2573280"/>
              <a:ext cx="1011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应用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76480" y="3200400"/>
              <a:ext cx="10112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传输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76480" y="3873600"/>
              <a:ext cx="10112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Internet</a:t>
              </a: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76480" y="4437000"/>
              <a:ext cx="10112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数据链路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6480" y="5214960"/>
              <a:ext cx="1011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840" rIns="186840" tIns="93240" bIns="93240" anchor="ctr">
              <a:noAutofit/>
            </a:bodyPr>
            <a:p>
              <a:pPr algn="ctr">
                <a:lnSpc>
                  <a:spcPct val="95000"/>
                </a:lnSpc>
                <a:spcBef>
                  <a:spcPts val="1001"/>
                </a:spcBef>
                <a:tabLst>
                  <a:tab algn="l" pos="0"/>
                  <a:tab algn="l" pos="831960"/>
                  <a:tab algn="l" pos="1663560"/>
                  <a:tab algn="l" pos="2495520"/>
                  <a:tab algn="l" pos="3327480"/>
                  <a:tab algn="l" pos="4159080"/>
                  <a:tab algn="l" pos="4991040"/>
                  <a:tab algn="l" pos="5823000"/>
                  <a:tab algn="l" pos="6654960"/>
                  <a:tab algn="l" pos="7486560"/>
                  <a:tab algn="l" pos="8318520"/>
                  <a:tab algn="l" pos="9150480"/>
                  <a:tab algn="l" pos="9982080"/>
                  <a:tab algn="l" pos="10814040"/>
                </a:tabLst>
              </a:pPr>
              <a:r>
                <a:rPr b="1" lang="zh-CN" sz="1600" spc="-1" strike="noStrike">
                  <a:solidFill>
                    <a:srgbClr val="333399"/>
                  </a:solidFill>
                  <a:latin typeface="Arial"/>
                </a:rPr>
                <a:t>物理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0000" y="1557360"/>
              <a:ext cx="1668600" cy="193680"/>
            </a:xfrm>
            <a:custGeom>
              <a:avLst/>
              <a:gdLst/>
              <a:ahLst/>
              <a:rect l="l" t="t" r="r" b="b"/>
              <a:pathLst>
                <a:path w="1211" h="87">
                  <a:moveTo>
                    <a:pt x="0" y="86"/>
                  </a:moveTo>
                  <a:lnTo>
                    <a:pt x="89" y="0"/>
                  </a:lnTo>
                  <a:lnTo>
                    <a:pt x="1210" y="0"/>
                  </a:lnTo>
                  <a:lnTo>
                    <a:pt x="1124" y="86"/>
                  </a:lnTo>
                  <a:lnTo>
                    <a:pt x="0" y="86"/>
                  </a:lnTo>
                </a:path>
              </a:pathLst>
            </a:custGeom>
            <a:solidFill>
              <a:srgbClr val="ffd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00000" y="2865600"/>
              <a:ext cx="1668600" cy="195120"/>
            </a:xfrm>
            <a:custGeom>
              <a:avLst/>
              <a:gdLst/>
              <a:ahLst/>
              <a:rect l="l" t="t" r="r" b="b"/>
              <a:pathLst>
                <a:path w="1211" h="88">
                  <a:moveTo>
                    <a:pt x="0" y="87"/>
                  </a:moveTo>
                  <a:lnTo>
                    <a:pt x="1124" y="87"/>
                  </a:lnTo>
                  <a:lnTo>
                    <a:pt x="1210" y="0"/>
                  </a:lnTo>
                </a:path>
              </a:pathLst>
            </a:custGeom>
            <a:noFill/>
            <a:ln cap="rnd" w="255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00000" y="3537000"/>
              <a:ext cx="1668600" cy="195120"/>
            </a:xfrm>
            <a:custGeom>
              <a:avLst/>
              <a:gdLst/>
              <a:ahLst/>
              <a:rect l="l" t="t" r="r" b="b"/>
              <a:pathLst>
                <a:path w="1211" h="88">
                  <a:moveTo>
                    <a:pt x="0" y="87"/>
                  </a:moveTo>
                  <a:lnTo>
                    <a:pt x="1124" y="87"/>
                  </a:lnTo>
                  <a:lnTo>
                    <a:pt x="1210" y="0"/>
                  </a:lnTo>
                </a:path>
              </a:pathLst>
            </a:custGeom>
            <a:noFill/>
            <a:ln cap="rnd" w="255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4208400"/>
              <a:ext cx="1668600" cy="193680"/>
            </a:xfrm>
            <a:custGeom>
              <a:avLst/>
              <a:gdLst/>
              <a:ahLst/>
              <a:rect l="l" t="t" r="r" b="b"/>
              <a:pathLst>
                <a:path w="1211" h="87">
                  <a:moveTo>
                    <a:pt x="0" y="86"/>
                  </a:moveTo>
                  <a:lnTo>
                    <a:pt x="1124" y="86"/>
                  </a:lnTo>
                  <a:lnTo>
                    <a:pt x="1210" y="0"/>
                  </a:lnTo>
                </a:path>
              </a:pathLst>
            </a:custGeom>
            <a:noFill/>
            <a:ln cap="rnd" w="255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878360"/>
              <a:ext cx="1668600" cy="195120"/>
            </a:xfrm>
            <a:custGeom>
              <a:avLst/>
              <a:gdLst/>
              <a:ahLst/>
              <a:rect l="l" t="t" r="r" b="b"/>
              <a:pathLst>
                <a:path w="1211" h="88">
                  <a:moveTo>
                    <a:pt x="0" y="87"/>
                  </a:moveTo>
                  <a:lnTo>
                    <a:pt x="1124" y="87"/>
                  </a:lnTo>
                  <a:lnTo>
                    <a:pt x="1210" y="0"/>
                  </a:lnTo>
                </a:path>
              </a:pathLst>
            </a:custGeom>
            <a:noFill/>
            <a:ln cap="rnd" w="255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6480" rIns="186480" tIns="93240" bIns="9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22920" y="2603880"/>
              <a:ext cx="15271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面向连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非面向连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65280" y="2924280"/>
            <a:ext cx="7759440" cy="2199240"/>
            <a:chOff x="665280" y="2924280"/>
            <a:chExt cx="7759440" cy="2199240"/>
          </a:xfrm>
        </p:grpSpPr>
        <p:sp>
          <p:nvSpPr>
            <p:cNvPr id="121" name=""/>
            <p:cNvSpPr/>
            <p:nvPr/>
          </p:nvSpPr>
          <p:spPr>
            <a:xfrm>
              <a:off x="684000" y="2924280"/>
              <a:ext cx="2292480" cy="55872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61160" y="2973240"/>
              <a:ext cx="9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上层协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5280" y="4562280"/>
              <a:ext cx="2292120" cy="55836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03920" y="4649760"/>
              <a:ext cx="9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下层协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48560" y="2992320"/>
              <a:ext cx="91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应用程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735120" y="3498840"/>
            <a:ext cx="739800" cy="103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5120" y="3498840"/>
                      <a:ext cx="739800" cy="103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1756440" y="379260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传输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44600" y="4668840"/>
              <a:ext cx="73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数据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94160" y="3819240"/>
              <a:ext cx="501840" cy="158400"/>
            </a:xfrm>
            <a:prstGeom prst="rightArrow">
              <a:avLst>
                <a:gd name="adj1" fmla="val 50000"/>
                <a:gd name="adj2" fmla="val 158424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98880" y="3095640"/>
              <a:ext cx="4425840" cy="1415520"/>
            </a:xfrm>
            <a:custGeom>
              <a:avLst/>
              <a:gdLst>
                <a:gd name="textAreaLeft" fmla="*/ 163800 w 4425840"/>
                <a:gd name="textAreaRight" fmla="*/ 4262040 w 4425840"/>
                <a:gd name="textAreaTop" fmla="*/ 52200 h 1415520"/>
                <a:gd name="textAreaBottom" fmla="*/ 1130400 h 141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768240" y="3520800"/>
            <a:ext cx="739800" cy="103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8240" y="3520800"/>
                      <a:ext cx="73980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011560" y="3335400"/>
              <a:ext cx="2558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我将上下层之间的数据进行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组，大    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TC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简介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 C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是传输控制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创建进程到进程的通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提供流控制机制 →滑动窗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差错控制机制 →确认分组、超时和重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 C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提供一种面向连接的、可靠的字节流服务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握手机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楷体_GB2312"/>
              </a:rPr>
              <a:t>数据流分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在一个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T C P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连接中，仅有两方进行彼此通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T C 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首部的数据格式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24200" y="1197000"/>
          <a:ext cx="3619080" cy="464760"/>
        </p:xfrm>
        <a:graphic>
          <a:graphicData uri="http://schemas.openxmlformats.org/drawingml/2006/table">
            <a:tbl>
              <a:tblPr/>
              <a:tblGrid>
                <a:gridCol w="1111320"/>
                <a:gridCol w="2507760"/>
              </a:tblGrid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首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0000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540480" y="4010040"/>
            <a:ext cx="162000" cy="59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2440" y="2270160"/>
            <a:ext cx="297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52440" y="2270160"/>
            <a:ext cx="297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52440" y="2270160"/>
            <a:ext cx="297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064280" y="2252520"/>
            <a:ext cx="531720" cy="3227400"/>
            <a:chOff x="7064280" y="2252520"/>
            <a:chExt cx="531720" cy="3227400"/>
          </a:xfrm>
        </p:grpSpPr>
        <p:sp>
          <p:nvSpPr>
            <p:cNvPr id="144" name=""/>
            <p:cNvSpPr/>
            <p:nvPr/>
          </p:nvSpPr>
          <p:spPr>
            <a:xfrm>
              <a:off x="7064280" y="2252520"/>
              <a:ext cx="140040" cy="3227400"/>
            </a:xfrm>
            <a:custGeom>
              <a:avLst/>
              <a:gdLst>
                <a:gd name="textAreaLeft" fmla="*/ 0 w 140040"/>
                <a:gd name="textAreaRight" fmla="*/ 50400 w 140040"/>
                <a:gd name="textAreaTop" fmla="*/ 83880 h 3227400"/>
                <a:gd name="textAreaBottom" fmla="*/ 3143520 h 322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06840" y="2435040"/>
              <a:ext cx="389160" cy="30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共 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20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个字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6" name=""/>
          <p:cNvGraphicFramePr/>
          <p:nvPr/>
        </p:nvGraphicFramePr>
        <p:xfrm>
          <a:off x="876240" y="2252520"/>
          <a:ext cx="6048360" cy="3768840"/>
        </p:xfrm>
        <a:graphic>
          <a:graphicData uri="http://schemas.openxmlformats.org/drawingml/2006/table">
            <a:tbl>
              <a:tblPr/>
              <a:tblGrid>
                <a:gridCol w="652320"/>
                <a:gridCol w="679680"/>
                <a:gridCol w="315720"/>
                <a:gridCol w="316080"/>
                <a:gridCol w="317520"/>
                <a:gridCol w="317160"/>
                <a:gridCol w="316080"/>
                <a:gridCol w="272880"/>
                <a:gridCol w="2860920"/>
              </a:tblGrid>
              <a:tr h="914760">
                <a:tc gridSpan="8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源端口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目标端口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476640">
                <a:tc gridSpan="9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序列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440">
                <a:tc gridSpan="9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确认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51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位首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长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保留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   R   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1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    C   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    S   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    S   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    Y    N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    I   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窗口大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506520">
                <a:tc gridSpan="8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校验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位紧急指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</a:tr>
              <a:tr h="477360">
                <a:tc gridSpan="9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选项及填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f01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63640" y="1665360"/>
            <a:ext cx="6048360" cy="541440"/>
          </a:xfrm>
          <a:custGeom>
            <a:avLst/>
            <a:gdLst/>
            <a:ahLst/>
            <a:rect l="l" t="t" r="r" b="b"/>
            <a:pathLst>
              <a:path w="3810" h="341">
                <a:moveTo>
                  <a:pt x="680" y="0"/>
                </a:moveTo>
                <a:lnTo>
                  <a:pt x="0" y="341"/>
                </a:lnTo>
                <a:lnTo>
                  <a:pt x="3810" y="341"/>
                </a:lnTo>
                <a:lnTo>
                  <a:pt x="1338" y="0"/>
                </a:lnTo>
                <a:lnTo>
                  <a:pt x="68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0000"/>
              </a:gs>
            </a:gsLst>
            <a:lin ang="13500000"/>
          </a:gradFill>
          <a:ln w="38160">
            <a:solidFill>
              <a:srgbClr val="000000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1376280"/>
            <a:ext cx="28728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421000"/>
            <a:ext cx="248436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送该数据段的应用程序端口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2421000"/>
            <a:ext cx="2346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接收该数据段的应用程序端口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9440" y="2600280"/>
            <a:ext cx="46069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位字段定义了一个数，它指配给本数据段的第一个字节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流式传输协议，为了保证连同性，要发送的每个字节都要编上号。序号告诉目的地这个序列中的哪一字节是数据段的第一个字节。在连接建立时，每一方使用随机数产生器产生一个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初始序号（ 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ISN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2600280"/>
            <a:ext cx="46069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位字段定义了源进程期望从对方接收的数据段的序号。如果数据段的接收段成功地接收了对方发送来的序号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它就将确认号定义为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＋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6240" y="4292640"/>
            <a:ext cx="133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指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首部共有多少四字节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4292640"/>
            <a:ext cx="16099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留为今后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8920" y="3621240"/>
            <a:ext cx="501156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158920" y="3193920"/>
          <a:ext cx="361944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193920"/>
                    <a:ext cx="361944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111640" y="4500720"/>
            <a:ext cx="15908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滑动窗口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8120" y="3254400"/>
            <a:ext cx="3000240" cy="36828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只有当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UR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有效，这时数据段中包括紧急数据。它定义了一个数，将此数加到序号上就得出报文数据部分中最后一个紧急字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T C 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首部的数据格式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32000" y="1279440"/>
            <a:ext cx="5832360" cy="453708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3433320" y="2326680"/>
            <a:ext cx="3220560" cy="741960"/>
            <a:chOff x="3433320" y="2326680"/>
            <a:chExt cx="3220560" cy="741960"/>
          </a:xfrm>
        </p:grpSpPr>
        <p:sp>
          <p:nvSpPr>
            <p:cNvPr id="163" name=""/>
            <p:cNvSpPr/>
            <p:nvPr/>
          </p:nvSpPr>
          <p:spPr>
            <a:xfrm flipV="1">
              <a:off x="3959280" y="256536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33320" y="2326680"/>
              <a:ext cx="322056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Source Port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0X0518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源端口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375720" y="2456640"/>
            <a:ext cx="4357800" cy="741960"/>
            <a:chOff x="3375720" y="2456640"/>
            <a:chExt cx="4357800" cy="741960"/>
          </a:xfrm>
        </p:grpSpPr>
        <p:sp>
          <p:nvSpPr>
            <p:cNvPr id="166" name=""/>
            <p:cNvSpPr/>
            <p:nvPr/>
          </p:nvSpPr>
          <p:spPr>
            <a:xfrm flipV="1">
              <a:off x="4470480" y="269532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75720" y="2456640"/>
              <a:ext cx="43578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Destination Port = Microsoft-DS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目标端口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074840" y="2532960"/>
            <a:ext cx="4145400" cy="741960"/>
            <a:chOff x="4074840" y="2532960"/>
            <a:chExt cx="4145400" cy="741960"/>
          </a:xfrm>
        </p:grpSpPr>
        <p:sp>
          <p:nvSpPr>
            <p:cNvPr id="169" name=""/>
            <p:cNvSpPr/>
            <p:nvPr/>
          </p:nvSpPr>
          <p:spPr>
            <a:xfrm flipV="1">
              <a:off x="5062680" y="2771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74840" y="2532960"/>
              <a:ext cx="41454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SequenceNumber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3443894637 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序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902760" y="2640960"/>
            <a:ext cx="5160600" cy="741960"/>
            <a:chOff x="3902760" y="2640960"/>
            <a:chExt cx="5160600" cy="741960"/>
          </a:xfrm>
        </p:grpSpPr>
        <p:sp>
          <p:nvSpPr>
            <p:cNvPr id="172" name=""/>
            <p:cNvSpPr/>
            <p:nvPr/>
          </p:nvSpPr>
          <p:spPr>
            <a:xfrm flipV="1">
              <a:off x="5398920" y="2879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02760" y="2640960"/>
              <a:ext cx="51606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Acknowledgement Number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976615895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确认号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240080" y="3180600"/>
            <a:ext cx="1460160" cy="741960"/>
            <a:chOff x="4240080" y="3180600"/>
            <a:chExt cx="1460160" cy="741960"/>
          </a:xfrm>
        </p:grpSpPr>
        <p:sp>
          <p:nvSpPr>
            <p:cNvPr id="175" name=""/>
            <p:cNvSpPr/>
            <p:nvPr/>
          </p:nvSpPr>
          <p:spPr>
            <a:xfrm flipV="1">
              <a:off x="4240080" y="341928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47840" y="3180600"/>
              <a:ext cx="7524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R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73720" y="3324960"/>
            <a:ext cx="1453680" cy="741960"/>
            <a:chOff x="5373720" y="3324960"/>
            <a:chExt cx="1453680" cy="741960"/>
          </a:xfrm>
        </p:grpSpPr>
        <p:sp>
          <p:nvSpPr>
            <p:cNvPr id="178" name=""/>
            <p:cNvSpPr/>
            <p:nvPr/>
          </p:nvSpPr>
          <p:spPr>
            <a:xfrm flipV="1">
              <a:off x="5373720" y="3563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8680" y="3324960"/>
              <a:ext cx="73872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56000" y="3432960"/>
            <a:ext cx="1409040" cy="741960"/>
            <a:chOff x="4356000" y="3432960"/>
            <a:chExt cx="1409040" cy="741960"/>
          </a:xfrm>
        </p:grpSpPr>
        <p:sp>
          <p:nvSpPr>
            <p:cNvPr id="181" name=""/>
            <p:cNvSpPr/>
            <p:nvPr/>
          </p:nvSpPr>
          <p:spPr>
            <a:xfrm flipV="1">
              <a:off x="4356000" y="3671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14880" y="3432960"/>
              <a:ext cx="65016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948120" y="3540960"/>
            <a:ext cx="1402920" cy="741960"/>
            <a:chOff x="3948120" y="3540960"/>
            <a:chExt cx="1402920" cy="741960"/>
          </a:xfrm>
        </p:grpSpPr>
        <p:sp>
          <p:nvSpPr>
            <p:cNvPr id="184" name=""/>
            <p:cNvSpPr/>
            <p:nvPr/>
          </p:nvSpPr>
          <p:spPr>
            <a:xfrm flipV="1">
              <a:off x="3948120" y="3779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13120" y="3540960"/>
              <a:ext cx="63792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241880" y="3648960"/>
            <a:ext cx="1409040" cy="741960"/>
            <a:chOff x="4241880" y="3648960"/>
            <a:chExt cx="1409040" cy="741960"/>
          </a:xfrm>
        </p:grpSpPr>
        <p:sp>
          <p:nvSpPr>
            <p:cNvPr id="187" name=""/>
            <p:cNvSpPr/>
            <p:nvPr/>
          </p:nvSpPr>
          <p:spPr>
            <a:xfrm flipV="1">
              <a:off x="4241880" y="3887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00760" y="3648960"/>
              <a:ext cx="65016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51280" y="3766320"/>
            <a:ext cx="1358640" cy="741960"/>
            <a:chOff x="4751280" y="3766320"/>
            <a:chExt cx="1358640" cy="741960"/>
          </a:xfrm>
        </p:grpSpPr>
        <p:sp>
          <p:nvSpPr>
            <p:cNvPr id="190" name=""/>
            <p:cNvSpPr/>
            <p:nvPr/>
          </p:nvSpPr>
          <p:spPr>
            <a:xfrm flipV="1">
              <a:off x="4751280" y="4005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0560" y="3766320"/>
              <a:ext cx="54936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98880" y="3864960"/>
            <a:ext cx="1448640" cy="741960"/>
            <a:chOff x="3998880" y="3864960"/>
            <a:chExt cx="1448640" cy="741960"/>
          </a:xfrm>
        </p:grpSpPr>
        <p:sp>
          <p:nvSpPr>
            <p:cNvPr id="193" name=""/>
            <p:cNvSpPr/>
            <p:nvPr/>
          </p:nvSpPr>
          <p:spPr>
            <a:xfrm flipV="1">
              <a:off x="3998880" y="410364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18160" y="3864960"/>
              <a:ext cx="72936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滑动窗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600360" y="4009320"/>
            <a:ext cx="1380960" cy="741960"/>
            <a:chOff x="3600360" y="4009320"/>
            <a:chExt cx="1380960" cy="741960"/>
          </a:xfrm>
        </p:grpSpPr>
        <p:sp>
          <p:nvSpPr>
            <p:cNvPr id="196" name=""/>
            <p:cNvSpPr/>
            <p:nvPr/>
          </p:nvSpPr>
          <p:spPr>
            <a:xfrm flipV="1">
              <a:off x="3600360" y="4248000"/>
              <a:ext cx="576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89120" y="4009320"/>
              <a:ext cx="5922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校验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 txBox="1"/>
          <p:nvPr/>
        </p:nvSpPr>
        <p:spPr>
          <a:xfrm>
            <a:off x="2016000" y="5896080"/>
            <a:ext cx="914400" cy="66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放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UD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楷体_GB2312"/>
              </a:rPr>
              <a:t>简介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U D 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一个简单的面向数据包的传输层协议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U D 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提供可靠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输小数据文件中发挥了重要的作用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例如：在互联网中众多网友热衷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QQ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聊天就是使用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传输机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55640" y="2313000"/>
            <a:ext cx="6994440" cy="3519360"/>
            <a:chOff x="755640" y="2313000"/>
            <a:chExt cx="6994440" cy="3519360"/>
          </a:xfrm>
        </p:grpSpPr>
        <p:sp>
          <p:nvSpPr>
            <p:cNvPr id="202" name=""/>
            <p:cNvSpPr/>
            <p:nvPr/>
          </p:nvSpPr>
          <p:spPr>
            <a:xfrm flipH="1">
              <a:off x="755640" y="2484360"/>
              <a:ext cx="2502000" cy="978120"/>
            </a:xfrm>
            <a:custGeom>
              <a:avLst/>
              <a:gdLst>
                <a:gd name="textAreaLeft" fmla="*/ 92520 w 2502000"/>
                <a:gd name="textAreaRight" fmla="*/ 2409480 w 2502000"/>
                <a:gd name="textAreaTop" fmla="*/ 36000 h 978120"/>
                <a:gd name="textAreaBottom" fmla="*/ 781200 h 97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3" name=""/>
            <p:cNvGraphicFramePr/>
            <p:nvPr/>
          </p:nvGraphicFramePr>
          <p:xfrm>
            <a:off x="1739880" y="3801960"/>
            <a:ext cx="736560" cy="65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9880" y="3801960"/>
                      <a:ext cx="73656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2901960" y="5135400"/>
            <a:ext cx="736560" cy="65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1960" y="5135400"/>
                      <a:ext cx="73656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4025880" y="3782880"/>
            <a:ext cx="736560" cy="658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25880" y="3782880"/>
                      <a:ext cx="73656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"/>
            <p:cNvGraphicFramePr/>
            <p:nvPr/>
          </p:nvGraphicFramePr>
          <p:xfrm>
            <a:off x="5511960" y="5173560"/>
            <a:ext cx="736560" cy="658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11960" y="5173560"/>
                      <a:ext cx="73656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"/>
            <p:cNvGraphicFramePr/>
            <p:nvPr/>
          </p:nvGraphicFramePr>
          <p:xfrm>
            <a:off x="6483240" y="3801960"/>
            <a:ext cx="736560" cy="658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483240" y="3801960"/>
                      <a:ext cx="736560" cy="65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"/>
            <p:cNvSpPr/>
            <p:nvPr/>
          </p:nvSpPr>
          <p:spPr>
            <a:xfrm>
              <a:off x="1523880" y="4764240"/>
              <a:ext cx="6032520" cy="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82960" y="4510080"/>
              <a:ext cx="0" cy="22212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06760" y="4510080"/>
              <a:ext cx="0" cy="22212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02280" y="4529160"/>
              <a:ext cx="0" cy="22212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54680" y="4871880"/>
              <a:ext cx="0" cy="22248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4680" y="4834080"/>
              <a:ext cx="0" cy="222120"/>
            </a:xfrm>
            <a:prstGeom prst="line">
              <a:avLst/>
            </a:prstGeom>
            <a:ln w="1015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35400" y="454176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8680" y="4916520"/>
              <a:ext cx="5797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1" name=""/>
            <p:cNvGraphicFramePr/>
            <p:nvPr/>
          </p:nvGraphicFramePr>
          <p:xfrm>
            <a:off x="4788000" y="3525840"/>
            <a:ext cx="493560" cy="1122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88000" y="3525840"/>
                      <a:ext cx="493560" cy="112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3" name=""/>
            <p:cNvGraphicFramePr/>
            <p:nvPr/>
          </p:nvGraphicFramePr>
          <p:xfrm>
            <a:off x="2441520" y="3468600"/>
            <a:ext cx="1203480" cy="1228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41520" y="3468600"/>
                      <a:ext cx="1203480" cy="12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5208480" y="2313000"/>
              <a:ext cx="2541600" cy="1073160"/>
            </a:xfrm>
            <a:custGeom>
              <a:avLst/>
              <a:gdLst>
                <a:gd name="textAreaLeft" fmla="*/ 93960 w 2541600"/>
                <a:gd name="textAreaRight" fmla="*/ 2447640 w 2541600"/>
                <a:gd name="textAreaTop" fmla="*/ 39600 h 1073160"/>
                <a:gd name="textAreaBottom" fmla="*/ 857160 h 107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90" y="0"/>
                  </a:moveTo>
                  <a:arcTo wR="3590" hR="3590" stAng="16200000" swAng="-5400000"/>
                  <a:lnTo>
                    <a:pt x="0" y="14460"/>
                  </a:lnTo>
                  <a:arcTo wR="3590" hR="3590" stAng="10800000" swAng="-5400000"/>
                  <a:lnTo>
                    <a:pt x="1799" y="21600"/>
                  </a:lnTo>
                  <a:lnTo>
                    <a:pt x="5420" y="18050"/>
                  </a:lnTo>
                  <a:lnTo>
                    <a:pt x="18010" y="18050"/>
                  </a:lnTo>
                  <a:arcTo wR="3590" hR="3590" stAng="5400000" swAng="-5400000"/>
                  <a:lnTo>
                    <a:pt x="21600" y="3590"/>
                  </a:lnTo>
                  <a:arcTo wR="3590" hR="359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10160" y="2465280"/>
              <a:ext cx="178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79760" y="4522680"/>
              <a:ext cx="1473120" cy="825480"/>
            </a:xfrm>
            <a:custGeom>
              <a:avLst/>
              <a:gdLst>
                <a:gd name="textAreaLeft" fmla="*/ 336240 w 1473120"/>
                <a:gd name="textAreaRight" fmla="*/ 1136880 w 1473120"/>
                <a:gd name="textAreaTop" fmla="*/ 188280 h 825480"/>
                <a:gd name="textAreaBottom" fmla="*/ 637200 h 82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51920" y="2541600"/>
              <a:ext cx="1296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DNS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解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37240" y="4726800"/>
              <a:ext cx="72648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36160" y="2568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在聊天软件中发送短消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1:56:24Z</dcterms:created>
  <dc:creator>administrator</dc:creator>
  <dc:description/>
  <dc:language>en-US</dc:language>
  <cp:lastModifiedBy>wei.gao</cp:lastModifiedBy>
  <dcterms:modified xsi:type="dcterms:W3CDTF">2004-05-11T01:18:33Z</dcterms:modified>
  <cp:revision>57</cp:revision>
  <dc:subject/>
  <dc:title>幻灯片 1</dc:title>
</cp:coreProperties>
</file>