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907588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58B-7814-420B-9E71-08F2B6E6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000" y="426420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6337-817B-4A78-9860-5BC6FC33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DE9F-679E-4977-9416-A67023C8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964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4280" y="242064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00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0964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4280" y="4264200"/>
            <a:ext cx="2870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312-4EC7-42E0-B47B-E6C7D227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26C-A92C-4CD7-BEDE-450D39D4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039B-47ED-4437-951D-B68D22F7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026-30DF-4B02-B8CB-6BD826F9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44B-6C12-4EAE-B006-C8FAE25E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76464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7EB-8169-4C59-9797-1B7F6717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854-13FE-4D3D-A33F-60525F5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26420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E8F-FE4C-4CE7-877F-8BB24C28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2420640"/>
            <a:ext cx="4350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000" y="4264200"/>
            <a:ext cx="89154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C42-76D6-4A76-9665-7701CE4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76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613D-F150-4B49-A7FF-4B5722B9C9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137360" y="5353200"/>
            <a:ext cx="2768760" cy="1504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0" y="0"/>
            <a:ext cx="3782880" cy="12924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650960" y="1397160"/>
            <a:ext cx="66042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404040"/>
            <a:ext cx="9759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560" y="16002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高绩效团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60840" y="361944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498640" y="151920"/>
            <a:ext cx="272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团队建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41880" y="461880"/>
            <a:ext cx="344520" cy="311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80360" y="461880"/>
            <a:ext cx="344520" cy="311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19720" y="457200"/>
            <a:ext cx="4489200" cy="722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队形成的过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60240" y="3048120"/>
            <a:ext cx="8280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98640" y="2971800"/>
            <a:ext cx="99072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467160" y="3200040"/>
            <a:ext cx="2476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01920" y="2971800"/>
            <a:ext cx="99072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0440" y="2971800"/>
            <a:ext cx="99072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38960" y="2971800"/>
            <a:ext cx="99072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07480" y="2971800"/>
            <a:ext cx="990360" cy="91440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825480" y="2971440"/>
            <a:ext cx="330120" cy="152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38400" y="3429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360" y="3657600"/>
            <a:ext cx="49536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907920" y="3276720"/>
            <a:ext cx="8280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145960" y="3048120"/>
            <a:ext cx="82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11560" y="3047760"/>
            <a:ext cx="330120" cy="152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4120" y="3429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81080" y="3581280"/>
            <a:ext cx="495360" cy="76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393640" y="3276720"/>
            <a:ext cx="82440" cy="533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97280" y="3352320"/>
            <a:ext cx="24768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797280" y="3048120"/>
            <a:ext cx="82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32040" y="3429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044600" y="3352680"/>
            <a:ext cx="8244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466800" y="3124080"/>
            <a:ext cx="8244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18120" y="3123720"/>
            <a:ext cx="16524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6580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52880" y="3123720"/>
            <a:ext cx="24768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530680" y="3504960"/>
            <a:ext cx="16524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65800" y="3200400"/>
            <a:ext cx="330120" cy="533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03840" y="3123720"/>
            <a:ext cx="16524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603480" y="3429000"/>
            <a:ext cx="1652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769080" y="3657240"/>
            <a:ext cx="495360" cy="152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264440" y="3276720"/>
            <a:ext cx="82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9080" y="3124080"/>
            <a:ext cx="57780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86640" y="3429000"/>
            <a:ext cx="577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769080" y="3276360"/>
            <a:ext cx="5778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69080" y="3124080"/>
            <a:ext cx="49536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172360" y="3123720"/>
            <a:ext cx="16524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8172000" y="3429000"/>
            <a:ext cx="1652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337600" y="3657240"/>
            <a:ext cx="495360" cy="152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832960" y="3276720"/>
            <a:ext cx="82440" cy="38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37600" y="3124080"/>
            <a:ext cx="577800" cy="152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55160" y="3429000"/>
            <a:ext cx="577800" cy="22860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337600" y="3276360"/>
            <a:ext cx="5778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8337600" y="3124080"/>
            <a:ext cx="4953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86080" y="3429000"/>
            <a:ext cx="41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89360" y="3429000"/>
            <a:ext cx="41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3429000"/>
            <a:ext cx="41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75080" y="3429000"/>
            <a:ext cx="412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12120" y="3429000"/>
            <a:ext cx="41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5120" y="4257720"/>
            <a:ext cx="729360" cy="45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前阶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3100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2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震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584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3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规范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5048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4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执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1900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解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0520" y="4211640"/>
            <a:ext cx="77184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阶段</a:t>
            </a: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1</a:t>
            </a:r>
            <a:br>
              <a:rPr sz="2400"/>
            </a:br>
            <a:r>
              <a:rPr b="1" lang="zh-CN" sz="2400" spc="-1" strike="noStrike">
                <a:solidFill>
                  <a:srgbClr val="ff66ff"/>
                </a:solidFill>
                <a:latin typeface="Times New Roman"/>
                <a:ea typeface="仿宋_GB2312"/>
              </a:rPr>
              <a:t>形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19360" y="609120"/>
            <a:ext cx="4343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团队发展的三个阶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3680" y="2057400"/>
            <a:ext cx="8623800" cy="4361400"/>
            <a:chOff x="373680" y="2057400"/>
            <a:chExt cx="8623800" cy="4361400"/>
          </a:xfrm>
        </p:grpSpPr>
        <p:sp>
          <p:nvSpPr>
            <p:cNvPr id="134" name=""/>
            <p:cNvSpPr/>
            <p:nvPr/>
          </p:nvSpPr>
          <p:spPr>
            <a:xfrm>
              <a:off x="1402920" y="6019920"/>
              <a:ext cx="676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402920" y="2286000"/>
              <a:ext cx="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981080" y="2590200"/>
              <a:ext cx="3137040" cy="281988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25560">
              <a:solidFill>
                <a:srgbClr val="3366ff"/>
              </a:solidFill>
              <a:miter/>
            </a:ln>
          </p:spPr>
        </p:cxnSp>
        <p:cxnSp>
          <p:nvCxnSpPr>
            <p:cNvPr id="137" name=""/>
            <p:cNvCxnSpPr/>
            <p:nvPr/>
          </p:nvCxnSpPr>
          <p:spPr>
            <a:xfrm>
              <a:off x="5117760" y="2590560"/>
              <a:ext cx="2394720" cy="1600920"/>
            </a:xfrm>
            <a:prstGeom prst="curvedConnector5">
              <a:avLst>
                <a:gd name="adj1" fmla="val 44745"/>
                <a:gd name="adj2" fmla="val 50000"/>
                <a:gd name="adj3" fmla="val 44745"/>
              </a:avLst>
            </a:prstGeom>
            <a:ln w="25560">
              <a:solidFill>
                <a:srgbClr val="3366ff"/>
              </a:solidFill>
              <a:prstDash val="dash"/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5628600" y="2801880"/>
              <a:ext cx="2390400" cy="885960"/>
            </a:xfrm>
            <a:custGeom>
              <a:avLst/>
              <a:gdLst/>
              <a:ahLst/>
              <a:rect l="l" t="t" r="r" b="b"/>
              <a:pathLst>
                <a:path w="1390" h="558">
                  <a:moveTo>
                    <a:pt x="0" y="521"/>
                  </a:moveTo>
                  <a:cubicBezTo>
                    <a:pt x="56" y="539"/>
                    <a:pt x="116" y="539"/>
                    <a:pt x="174" y="548"/>
                  </a:cubicBezTo>
                  <a:cubicBezTo>
                    <a:pt x="326" y="544"/>
                    <a:pt x="481" y="558"/>
                    <a:pt x="631" y="530"/>
                  </a:cubicBezTo>
                  <a:cubicBezTo>
                    <a:pt x="720" y="514"/>
                    <a:pt x="794" y="468"/>
                    <a:pt x="878" y="438"/>
                  </a:cubicBezTo>
                  <a:cubicBezTo>
                    <a:pt x="931" y="397"/>
                    <a:pt x="992" y="340"/>
                    <a:pt x="1052" y="310"/>
                  </a:cubicBezTo>
                  <a:cubicBezTo>
                    <a:pt x="1094" y="289"/>
                    <a:pt x="1125" y="268"/>
                    <a:pt x="1161" y="237"/>
                  </a:cubicBezTo>
                  <a:cubicBezTo>
                    <a:pt x="1225" y="182"/>
                    <a:pt x="1274" y="110"/>
                    <a:pt x="1344" y="64"/>
                  </a:cubicBezTo>
                  <a:cubicBezTo>
                    <a:pt x="1383" y="5"/>
                    <a:pt x="1365" y="25"/>
                    <a:pt x="1390" y="0"/>
                  </a:cubicBezTo>
                </a:path>
              </a:pathLst>
            </a:custGeom>
            <a:noFill/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71440" y="2438280"/>
              <a:ext cx="0" cy="3581640"/>
            </a:xfrm>
            <a:prstGeom prst="line">
              <a:avLst/>
            </a:prstGeom>
            <a:ln w="1908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35320" y="2438280"/>
              <a:ext cx="0" cy="3581640"/>
            </a:xfrm>
            <a:prstGeom prst="line">
              <a:avLst/>
            </a:prstGeom>
            <a:ln w="1908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25240" y="53942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形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05880" y="54100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磨合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58640" y="41911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规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6560" y="2590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执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93600" y="2590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转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98600" y="403848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顺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05480" y="2075040"/>
              <a:ext cx="74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阶段</a:t>
              </a: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81200" y="2057400"/>
              <a:ext cx="84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阶段</a:t>
              </a: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07560" y="4098960"/>
              <a:ext cx="64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阶段</a:t>
              </a: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  <a:ea typeface="仿宋_GB2312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3680" y="2268360"/>
              <a:ext cx="69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成功</a:t>
              </a: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/</a:t>
              </a:r>
              <a:br>
                <a:rPr sz="2000"/>
              </a:b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复杂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6520" y="6019920"/>
              <a:ext cx="165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时间</a:t>
              </a: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/</a:t>
              </a:r>
              <a:r>
                <a:rPr b="1" lang="zh-CN" sz="2000" spc="-1" strike="noStrike">
                  <a:solidFill>
                    <a:srgbClr val="ff6600"/>
                  </a:solidFill>
                  <a:latin typeface="仿宋_GB2312"/>
                  <a:ea typeface="仿宋_GB2312"/>
                </a:rPr>
                <a:t>努力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14680" y="228600"/>
            <a:ext cx="74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文鼎中特广告体"/>
              </a:rPr>
              <a:t>团队建设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76320" y="757080"/>
            <a:ext cx="9523440" cy="61009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74760" y="1163880"/>
            <a:ext cx="4747680" cy="5016240"/>
            <a:chOff x="2174760" y="1163880"/>
            <a:chExt cx="4747680" cy="5016240"/>
          </a:xfrm>
        </p:grpSpPr>
        <p:sp>
          <p:nvSpPr>
            <p:cNvPr id="155" name=""/>
            <p:cNvSpPr/>
            <p:nvPr/>
          </p:nvSpPr>
          <p:spPr>
            <a:xfrm>
              <a:off x="2490480" y="1714680"/>
              <a:ext cx="4105800" cy="39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201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201500"/>
                </a:path>
              </a:pathLst>
            </a:cu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89040" y="1715040"/>
              <a:ext cx="4109040" cy="39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98" y="653"/>
                  </a:moveTo>
                  <a:arcTo wR="10800" hR="10800" stAng="-4198500" swAng="1198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98" y="653"/>
                  </a:moveTo>
                  <a:arcTo wR="10800" hR="10800" stAng="-4198500" swAng="1198576"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90120" y="1715400"/>
              <a:ext cx="4106880" cy="39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42" y="2527"/>
                  </a:moveTo>
                  <a:arcTo wR="10800" hR="10800" stAng="-2999924" swAng="1198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42" y="2527"/>
                  </a:moveTo>
                  <a:arcTo wR="10800" hR="10800" stAng="-2999924" swAng="1198009"/>
                </a:path>
              </a:pathLst>
            </a:custGeom>
            <a:solidFill>
              <a:srgbClr val="8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88680" y="1713240"/>
              <a:ext cx="4109400" cy="39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50" y="5395"/>
                  </a:moveTo>
                  <a:arcTo wR="10800" hR="10800" stAng="-1801915" swAng="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50" y="5395"/>
                  </a:moveTo>
                  <a:arcTo wR="10800" hR="10800" stAng="-1801915" swAng="1203994"/>
                </a:path>
              </a:pathLst>
            </a:cu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87960" y="1717560"/>
              <a:ext cx="4110840" cy="392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37" y="8931"/>
                  </a:moveTo>
                  <a:arcTo wR="10800" hR="10800" stAng="-597921" swAng="119584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37" y="8931"/>
                  </a:moveTo>
                  <a:arcTo wR="10800" hR="10800" stAng="-597921" swAng="1195842"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88680" y="1716480"/>
              <a:ext cx="4109400" cy="392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37" y="12669"/>
                  </a:moveTo>
                  <a:arcTo wR="10800" hR="10800" stAng="597921" swAng="120645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37" y="12669"/>
                  </a:moveTo>
                  <a:arcTo wR="10800" hR="10800" stAng="597921" swAng="1206455"/>
                </a:path>
              </a:pathLst>
            </a:cu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9040" y="1714320"/>
              <a:ext cx="4108680" cy="393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46" y="16212"/>
                  </a:moveTo>
                  <a:arcTo wR="10800" hR="10800" stAng="1804376" swAng="1195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46" y="16212"/>
                  </a:moveTo>
                  <a:arcTo wR="10800" hR="10800" stAng="1804376" swAng="1195548"/>
                </a:path>
              </a:pathLst>
            </a:cu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9040" y="1715760"/>
              <a:ext cx="4109040" cy="392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42" y="19073"/>
                  </a:moveTo>
                  <a:arcTo wR="10800" hR="10800" stAng="2999924" swAng="1199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42" y="19073"/>
                  </a:moveTo>
                  <a:arcTo wR="10800" hR="10800" stAng="2999924" swAng="1199551"/>
                </a:path>
              </a:pathLst>
            </a:cu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93000" y="1715040"/>
              <a:ext cx="4100760" cy="39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95" y="20948"/>
                  </a:moveTo>
                  <a:arcTo wR="10800" hR="10800" stAng="4199475" swAng="1200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95" y="20948"/>
                  </a:moveTo>
                  <a:arcTo wR="10800" hR="10800" stAng="4199475" swAng="1200525"/>
                </a:path>
              </a:pathLst>
            </a:cu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87960" y="1715040"/>
              <a:ext cx="4111200" cy="39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2005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200525"/>
                </a:path>
              </a:pathLst>
            </a:cu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6160" y="1715760"/>
              <a:ext cx="4114800" cy="392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05" y="20948"/>
                  </a:moveTo>
                  <a:arcTo wR="10800" hR="10800" stAng="6600525" swAng="1199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7105" y="20948"/>
                  </a:moveTo>
                  <a:arcTo wR="10800" hR="10800" stAng="6600525" swAng="1199551"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6880" y="1714320"/>
              <a:ext cx="4113000" cy="393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58" y="19073"/>
                  </a:moveTo>
                  <a:arcTo wR="10800" hR="10800" stAng="7800076" swAng="1195548"/>
                  <a:lnTo>
                    <a:pt x="10800" y="10800"/>
                  </a:lnTo>
                  <a:close/>
                </a:path>
                <a:path fill="none" w="21600" h="21600">
                  <a:moveTo>
                    <a:pt x="3858" y="19073"/>
                  </a:moveTo>
                  <a:arcTo wR="10800" hR="10800" stAng="7800076" swAng="1195548"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86880" y="1716480"/>
              <a:ext cx="4113000" cy="3927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4" y="16212"/>
                  </a:moveTo>
                  <a:arcTo wR="10800" hR="10800" stAng="8995624" swAng="12064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4" y="16212"/>
                  </a:moveTo>
                  <a:arcTo wR="10800" hR="10800" stAng="8995624" swAng="1206455"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87600" y="1717560"/>
              <a:ext cx="4111560" cy="392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" y="12669"/>
                  </a:moveTo>
                  <a:arcTo wR="10800" hR="10800" stAng="10202079" swAng="11958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" y="12669"/>
                  </a:moveTo>
                  <a:arcTo wR="10800" hR="10800" stAng="10202079" swAng="1195842"/>
                </a:path>
              </a:pathLst>
            </a:cu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6880" y="1713240"/>
              <a:ext cx="4113000" cy="39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" y="8931"/>
                  </a:moveTo>
                  <a:arcTo wR="10800" hR="10800" stAng="-10202079" swAng="1203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" y="8931"/>
                  </a:moveTo>
                  <a:arcTo wR="10800" hR="10800" stAng="-10202079" swAng="1203994"/>
                </a:path>
              </a:pathLst>
            </a:cu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87960" y="1715400"/>
              <a:ext cx="4111200" cy="39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50" y="5395"/>
                  </a:moveTo>
                  <a:arcTo wR="10800" hR="10800" stAng="-8998085" swAng="11980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50" y="5395"/>
                  </a:moveTo>
                  <a:arcTo wR="10800" hR="10800" stAng="-8998085" swAng="1198009"/>
                </a:path>
              </a:pathLst>
            </a:cu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6160" y="1715040"/>
              <a:ext cx="4114800" cy="39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58" y="2527"/>
                  </a:moveTo>
                  <a:arcTo wR="10800" hR="10800" stAng="-7800076" swAng="1198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3858" y="2527"/>
                  </a:moveTo>
                  <a:arcTo wR="10800" hR="10800" stAng="-7800076" swAng="1198576"/>
                </a:path>
              </a:pathLst>
            </a:cu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85440" y="1714680"/>
              <a:ext cx="4116240" cy="39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02" y="653"/>
                  </a:moveTo>
                  <a:arcTo wR="10800" hR="10800" stAng="-6601500" swAng="1201500"/>
                  <a:lnTo>
                    <a:pt x="10800" y="10800"/>
                  </a:lnTo>
                  <a:close/>
                </a:path>
                <a:path fill="none" w="21600" h="21600">
                  <a:moveTo>
                    <a:pt x="7102" y="653"/>
                  </a:moveTo>
                  <a:arcTo wR="10800" hR="10800" stAng="-6601500" swAng="1201500"/>
                </a:path>
              </a:pathLst>
            </a:custGeom>
            <a:solidFill>
              <a:srgbClr val="cc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2367000" y="2273760"/>
            <a:ext cx="4292640" cy="2751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7000" y="2273760"/>
                      <a:ext cx="4292640" cy="275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5" name=""/>
            <p:cNvSpPr/>
            <p:nvPr/>
          </p:nvSpPr>
          <p:spPr>
            <a:xfrm>
              <a:off x="4609800" y="2872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开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21200" y="3470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摸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14680" y="3470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成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6720" y="4069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成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09800" y="40690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稳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37000" y="2872080"/>
              <a:ext cx="104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升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95960" y="1749600"/>
              <a:ext cx="101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征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3520" y="204984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接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4120" y="242424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梦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24720" y="29466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竞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70000" y="4518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成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62040" y="4889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99"/>
                  </a:solidFill>
                  <a:latin typeface="黑体"/>
                  <a:ea typeface="黑体"/>
                </a:rPr>
                <a:t>负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0280" y="5116680"/>
              <a:ext cx="9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执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95960" y="5116680"/>
              <a:ext cx="85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be0e3"/>
                  </a:solidFill>
                  <a:latin typeface="黑体"/>
                  <a:ea typeface="黑体"/>
                </a:rPr>
                <a:t>接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55920" y="4816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角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46520" y="4440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成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24720" y="3994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观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24720" y="34704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内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83400" y="1825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文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36720" y="39945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惊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79400" y="3470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超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36720" y="2946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完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35360" y="2351520"/>
              <a:ext cx="8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黑体"/>
                  <a:ea typeface="黑体"/>
                </a:rPr>
                <a:t>庆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35840" y="2049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影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 rot="5605200">
              <a:off x="5368680" y="3311640"/>
              <a:ext cx="2079720" cy="90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确立目标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935000">
              <a:off x="4473720" y="1676160"/>
              <a:ext cx="2171520" cy="866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建立信任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 rot="9105000">
              <a:off x="4385520" y="4839840"/>
              <a:ext cx="2171880" cy="865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角色认知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 rot="12655200">
              <a:off x="2522160" y="4816800"/>
              <a:ext cx="2171880" cy="866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核心领导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 rot="16084200">
              <a:off x="1622160" y="3234960"/>
              <a:ext cx="2079720" cy="90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相互沟通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9698600">
              <a:off x="2522160" y="1676160"/>
              <a:ext cx="2171880" cy="8668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85773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隶书"/>
                </a:rPr>
                <a:t>不断进取</a:t>
              </a:r>
              <a:endPara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457200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队角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干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协调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进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新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信息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监督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凝聚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善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304920" y="0"/>
            <a:ext cx="1426680" cy="1018800"/>
            <a:chOff x="304920" y="0"/>
            <a:chExt cx="1426680" cy="1018800"/>
          </a:xfrm>
        </p:grpSpPr>
        <p:sp>
          <p:nvSpPr>
            <p:cNvPr id="208" name=""/>
            <p:cNvSpPr/>
            <p:nvPr/>
          </p:nvSpPr>
          <p:spPr>
            <a:xfrm>
              <a:off x="304920" y="0"/>
              <a:ext cx="1426680" cy="10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04920" y="0"/>
              <a:ext cx="1426320" cy="1018440"/>
              <a:chOff x="304920" y="0"/>
              <a:chExt cx="1426320" cy="1018440"/>
            </a:xfrm>
          </p:grpSpPr>
          <p:sp>
            <p:nvSpPr>
              <p:cNvPr id="210" name=""/>
              <p:cNvSpPr/>
              <p:nvPr/>
            </p:nvSpPr>
            <p:spPr>
              <a:xfrm>
                <a:off x="408600" y="0"/>
                <a:ext cx="121896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Times New Roman"/>
                  </a:rPr>
                  <a:t>类型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4920" y="0"/>
                <a:ext cx="1426320" cy="1018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1739880" y="7920"/>
            <a:ext cx="2047680" cy="1018800"/>
            <a:chOff x="1739880" y="7920"/>
            <a:chExt cx="2047680" cy="1018800"/>
          </a:xfrm>
        </p:grpSpPr>
        <p:sp>
          <p:nvSpPr>
            <p:cNvPr id="213" name=""/>
            <p:cNvSpPr/>
            <p:nvPr/>
          </p:nvSpPr>
          <p:spPr>
            <a:xfrm>
              <a:off x="1739880" y="7920"/>
              <a:ext cx="2047680" cy="10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739880" y="7920"/>
              <a:ext cx="2047320" cy="1018440"/>
              <a:chOff x="1739880" y="7920"/>
              <a:chExt cx="2047320" cy="1018440"/>
            </a:xfrm>
          </p:grpSpPr>
          <p:sp>
            <p:nvSpPr>
              <p:cNvPr id="215" name=""/>
              <p:cNvSpPr/>
              <p:nvPr/>
            </p:nvSpPr>
            <p:spPr>
              <a:xfrm>
                <a:off x="1843560" y="7920"/>
                <a:ext cx="183924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Times New Roman"/>
                  </a:rPr>
                  <a:t>典型特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39880" y="7920"/>
                <a:ext cx="2047320" cy="1018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787920" y="7920"/>
            <a:ext cx="3336480" cy="1018800"/>
            <a:chOff x="3787920" y="7920"/>
            <a:chExt cx="3336480" cy="1018800"/>
          </a:xfrm>
        </p:grpSpPr>
        <p:sp>
          <p:nvSpPr>
            <p:cNvPr id="218" name=""/>
            <p:cNvSpPr/>
            <p:nvPr/>
          </p:nvSpPr>
          <p:spPr>
            <a:xfrm>
              <a:off x="3787920" y="7920"/>
              <a:ext cx="3336480" cy="10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787920" y="7920"/>
              <a:ext cx="3336120" cy="1018440"/>
              <a:chOff x="3787920" y="7920"/>
              <a:chExt cx="3336120" cy="1018440"/>
            </a:xfrm>
          </p:grpSpPr>
          <p:sp>
            <p:nvSpPr>
              <p:cNvPr id="220" name=""/>
              <p:cNvSpPr/>
              <p:nvPr/>
            </p:nvSpPr>
            <p:spPr>
              <a:xfrm>
                <a:off x="3891240" y="7920"/>
                <a:ext cx="312876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Times New Roman"/>
                  </a:rPr>
                  <a:t>积极特性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87920" y="7920"/>
                <a:ext cx="3336120" cy="1018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124760" y="7920"/>
            <a:ext cx="2544480" cy="1018800"/>
            <a:chOff x="7124760" y="7920"/>
            <a:chExt cx="2544480" cy="1018800"/>
          </a:xfrm>
        </p:grpSpPr>
        <p:sp>
          <p:nvSpPr>
            <p:cNvPr id="223" name=""/>
            <p:cNvSpPr/>
            <p:nvPr/>
          </p:nvSpPr>
          <p:spPr>
            <a:xfrm>
              <a:off x="7124760" y="7920"/>
              <a:ext cx="2544480" cy="10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124760" y="7920"/>
              <a:ext cx="2544120" cy="1018440"/>
              <a:chOff x="7124760" y="7920"/>
              <a:chExt cx="2544120" cy="1018440"/>
            </a:xfrm>
          </p:grpSpPr>
          <p:sp>
            <p:nvSpPr>
              <p:cNvPr id="225" name=""/>
              <p:cNvSpPr/>
              <p:nvPr/>
            </p:nvSpPr>
            <p:spPr>
              <a:xfrm>
                <a:off x="7228080" y="7920"/>
                <a:ext cx="233676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Times New Roman"/>
                  </a:rPr>
                  <a:t>能容忍的弱点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124760" y="7920"/>
                <a:ext cx="2544120" cy="1018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312840" y="1027080"/>
            <a:ext cx="1426680" cy="1601640"/>
            <a:chOff x="312840" y="1027080"/>
            <a:chExt cx="1426680" cy="1601640"/>
          </a:xfrm>
        </p:grpSpPr>
        <p:sp>
          <p:nvSpPr>
            <p:cNvPr id="228" name=""/>
            <p:cNvSpPr/>
            <p:nvPr/>
          </p:nvSpPr>
          <p:spPr>
            <a:xfrm>
              <a:off x="416520" y="1027080"/>
              <a:ext cx="12193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实干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2840" y="1027080"/>
              <a:ext cx="1426680" cy="16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739880" y="1027080"/>
            <a:ext cx="2047680" cy="1601640"/>
            <a:chOff x="1739880" y="1027080"/>
            <a:chExt cx="2047680" cy="1601640"/>
          </a:xfrm>
        </p:grpSpPr>
        <p:sp>
          <p:nvSpPr>
            <p:cNvPr id="231" name=""/>
            <p:cNvSpPr/>
            <p:nvPr/>
          </p:nvSpPr>
          <p:spPr>
            <a:xfrm>
              <a:off x="1843560" y="1027080"/>
              <a:ext cx="183960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保守；顺从；务实可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39880" y="1027080"/>
              <a:ext cx="2047680" cy="16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787920" y="1027080"/>
            <a:ext cx="3336480" cy="1601640"/>
            <a:chOff x="3787920" y="1027080"/>
            <a:chExt cx="3336480" cy="1601640"/>
          </a:xfrm>
        </p:grpSpPr>
        <p:sp>
          <p:nvSpPr>
            <p:cNvPr id="234" name=""/>
            <p:cNvSpPr/>
            <p:nvPr/>
          </p:nvSpPr>
          <p:spPr>
            <a:xfrm>
              <a:off x="3891240" y="1027080"/>
              <a:ext cx="31291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组织能力、实践经验；工作勤奋；有自我约束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87920" y="1027080"/>
              <a:ext cx="3336480" cy="16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124760" y="1027080"/>
            <a:ext cx="2544480" cy="1601640"/>
            <a:chOff x="7124760" y="1027080"/>
            <a:chExt cx="2544480" cy="1601640"/>
          </a:xfrm>
        </p:grpSpPr>
        <p:sp>
          <p:nvSpPr>
            <p:cNvPr id="237" name=""/>
            <p:cNvSpPr/>
            <p:nvPr/>
          </p:nvSpPr>
          <p:spPr>
            <a:xfrm>
              <a:off x="7228080" y="1027080"/>
              <a:ext cx="233712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缺乏灵活；对没有把握的主意不感兴趣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lang="zh-CN" sz="2400" spc="-1" strike="noStrike">
                  <a:solidFill>
                    <a:srgbClr val="ff66ff"/>
                  </a:solidFill>
                  <a:latin typeface="Times New Roman"/>
                </a:rPr>
                <a:t>缺乏主动性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24760" y="1027080"/>
              <a:ext cx="2544480" cy="1601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12840" y="2629080"/>
            <a:ext cx="1426680" cy="1309320"/>
            <a:chOff x="312840" y="2629080"/>
            <a:chExt cx="1426680" cy="1309320"/>
          </a:xfrm>
        </p:grpSpPr>
        <p:sp>
          <p:nvSpPr>
            <p:cNvPr id="240" name=""/>
            <p:cNvSpPr/>
            <p:nvPr/>
          </p:nvSpPr>
          <p:spPr>
            <a:xfrm>
              <a:off x="416520" y="2629080"/>
              <a:ext cx="12193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协调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12840" y="2629080"/>
              <a:ext cx="14266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39880" y="2629080"/>
            <a:ext cx="2047680" cy="1309320"/>
            <a:chOff x="1739880" y="2629080"/>
            <a:chExt cx="2047680" cy="1309320"/>
          </a:xfrm>
        </p:grpSpPr>
        <p:sp>
          <p:nvSpPr>
            <p:cNvPr id="243" name=""/>
            <p:cNvSpPr/>
            <p:nvPr/>
          </p:nvSpPr>
          <p:spPr>
            <a:xfrm>
              <a:off x="1843560" y="2629080"/>
              <a:ext cx="1839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沉着；自信；有抑制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39880" y="2629080"/>
              <a:ext cx="20476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787920" y="2629080"/>
            <a:ext cx="3336480" cy="1309320"/>
            <a:chOff x="3787920" y="2629080"/>
            <a:chExt cx="3336480" cy="1309320"/>
          </a:xfrm>
        </p:grpSpPr>
        <p:sp>
          <p:nvSpPr>
            <p:cNvPr id="246" name=""/>
            <p:cNvSpPr/>
            <p:nvPr/>
          </p:nvSpPr>
          <p:spPr>
            <a:xfrm>
              <a:off x="3891240" y="2629080"/>
              <a:ext cx="31291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对各种有价值的意见不带偏见地兼容并蓄，甚为客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7920" y="2629080"/>
              <a:ext cx="33364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124760" y="2629080"/>
            <a:ext cx="2544480" cy="1309320"/>
            <a:chOff x="7124760" y="2629080"/>
            <a:chExt cx="2544480" cy="1309320"/>
          </a:xfrm>
        </p:grpSpPr>
        <p:sp>
          <p:nvSpPr>
            <p:cNvPr id="249" name=""/>
            <p:cNvSpPr/>
            <p:nvPr/>
          </p:nvSpPr>
          <p:spPr>
            <a:xfrm>
              <a:off x="7228080" y="2629080"/>
              <a:ext cx="23371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智能及创造力方面并非超常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24760" y="2629080"/>
              <a:ext cx="25444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12840" y="3938760"/>
            <a:ext cx="1426680" cy="1309320"/>
            <a:chOff x="312840" y="3938760"/>
            <a:chExt cx="1426680" cy="1309320"/>
          </a:xfrm>
        </p:grpSpPr>
        <p:sp>
          <p:nvSpPr>
            <p:cNvPr id="252" name=""/>
            <p:cNvSpPr/>
            <p:nvPr/>
          </p:nvSpPr>
          <p:spPr>
            <a:xfrm>
              <a:off x="416520" y="3938760"/>
              <a:ext cx="12193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推进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2840" y="3938760"/>
              <a:ext cx="14266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39880" y="3938760"/>
            <a:ext cx="2047680" cy="1309320"/>
            <a:chOff x="1739880" y="3938760"/>
            <a:chExt cx="2047680" cy="1309320"/>
          </a:xfrm>
        </p:grpSpPr>
        <p:sp>
          <p:nvSpPr>
            <p:cNvPr id="255" name=""/>
            <p:cNvSpPr/>
            <p:nvPr/>
          </p:nvSpPr>
          <p:spPr>
            <a:xfrm>
              <a:off x="1843560" y="3938760"/>
              <a:ext cx="183960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思维敏捷；开朗；主动探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39880" y="3938760"/>
              <a:ext cx="20476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787920" y="3938760"/>
            <a:ext cx="3336480" cy="1309320"/>
            <a:chOff x="3787920" y="3938760"/>
            <a:chExt cx="3336480" cy="1309320"/>
          </a:xfrm>
        </p:grpSpPr>
        <p:sp>
          <p:nvSpPr>
            <p:cNvPr id="258" name=""/>
            <p:cNvSpPr/>
            <p:nvPr/>
          </p:nvSpPr>
          <p:spPr>
            <a:xfrm>
              <a:off x="3891240" y="3938760"/>
              <a:ext cx="31291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干劲，随时准备向传统、向低效率、向自满自足挑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87920" y="3938760"/>
              <a:ext cx="33364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124760" y="3938760"/>
            <a:ext cx="2544480" cy="1309320"/>
            <a:chOff x="7124760" y="3938760"/>
            <a:chExt cx="2544480" cy="1309320"/>
          </a:xfrm>
        </p:grpSpPr>
        <p:sp>
          <p:nvSpPr>
            <p:cNvPr id="261" name=""/>
            <p:cNvSpPr/>
            <p:nvPr/>
          </p:nvSpPr>
          <p:spPr>
            <a:xfrm>
              <a:off x="7228080" y="3938760"/>
              <a:ext cx="2337120" cy="13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ff"/>
                  </a:solidFill>
                  <a:latin typeface="Times New Roman"/>
                </a:rPr>
                <a:t>好激起争端，爱冲动，易急燥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24760" y="3938760"/>
              <a:ext cx="2544480" cy="13093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12840" y="5248440"/>
            <a:ext cx="1426680" cy="1601280"/>
            <a:chOff x="312840" y="5248440"/>
            <a:chExt cx="1426680" cy="1601280"/>
          </a:xfrm>
        </p:grpSpPr>
        <p:sp>
          <p:nvSpPr>
            <p:cNvPr id="264" name=""/>
            <p:cNvSpPr/>
            <p:nvPr/>
          </p:nvSpPr>
          <p:spPr>
            <a:xfrm>
              <a:off x="416520" y="5248440"/>
              <a:ext cx="121932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创新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2840" y="5248440"/>
              <a:ext cx="1426680" cy="1601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739880" y="5248440"/>
            <a:ext cx="2047680" cy="1601280"/>
            <a:chOff x="1739880" y="5248440"/>
            <a:chExt cx="2047680" cy="1601280"/>
          </a:xfrm>
        </p:grpSpPr>
        <p:sp>
          <p:nvSpPr>
            <p:cNvPr id="267" name=""/>
            <p:cNvSpPr/>
            <p:nvPr/>
          </p:nvSpPr>
          <p:spPr>
            <a:xfrm>
              <a:off x="1843560" y="5248440"/>
              <a:ext cx="18396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有个性；思想深刻；不拘一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39880" y="5248440"/>
              <a:ext cx="2047680" cy="1601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787920" y="5248440"/>
            <a:ext cx="3336480" cy="1601280"/>
            <a:chOff x="3787920" y="5248440"/>
            <a:chExt cx="3336480" cy="1601280"/>
          </a:xfrm>
        </p:grpSpPr>
        <p:sp>
          <p:nvSpPr>
            <p:cNvPr id="270" name=""/>
            <p:cNvSpPr/>
            <p:nvPr/>
          </p:nvSpPr>
          <p:spPr>
            <a:xfrm>
              <a:off x="3891240" y="5248440"/>
              <a:ext cx="312912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才华横溢；富有想象力；智慧；知识渊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87920" y="5248440"/>
              <a:ext cx="3336480" cy="1601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124760" y="5248440"/>
            <a:ext cx="2544480" cy="1601280"/>
            <a:chOff x="7124760" y="5248440"/>
            <a:chExt cx="2544480" cy="1601280"/>
          </a:xfrm>
        </p:grpSpPr>
        <p:sp>
          <p:nvSpPr>
            <p:cNvPr id="273" name=""/>
            <p:cNvSpPr/>
            <p:nvPr/>
          </p:nvSpPr>
          <p:spPr>
            <a:xfrm>
              <a:off x="7228080" y="5248440"/>
              <a:ext cx="233712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6ff"/>
                  </a:solidFill>
                  <a:latin typeface="Times New Roman"/>
                </a:rPr>
                <a:t>高高在上；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重细节；不拘礼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24760" y="5248440"/>
              <a:ext cx="2544480" cy="16012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04920" y="0"/>
            <a:ext cx="9372600" cy="6858000"/>
          </a:xfrm>
          <a:prstGeom prst="rect">
            <a:avLst/>
          </a:prstGeom>
          <a:noFill/>
          <a:ln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228600" y="0"/>
            <a:ext cx="9677160" cy="6857640"/>
            <a:chOff x="228600" y="0"/>
            <a:chExt cx="9677160" cy="6857640"/>
          </a:xfrm>
        </p:grpSpPr>
        <p:grpSp>
          <p:nvGrpSpPr>
            <p:cNvPr id="277" name=""/>
            <p:cNvGrpSpPr/>
            <p:nvPr/>
          </p:nvGrpSpPr>
          <p:grpSpPr>
            <a:xfrm>
              <a:off x="235800" y="6840"/>
              <a:ext cx="9661680" cy="6842160"/>
              <a:chOff x="235800" y="6840"/>
              <a:chExt cx="9661680" cy="684216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235800" y="6840"/>
                <a:ext cx="1473120" cy="977400"/>
                <a:chOff x="235800" y="6840"/>
                <a:chExt cx="1473120" cy="977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35800" y="6840"/>
                  <a:ext cx="1473120" cy="9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235800" y="6840"/>
                  <a:ext cx="1472760" cy="977040"/>
                  <a:chOff x="235800" y="6840"/>
                  <a:chExt cx="1472760" cy="9770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343080" y="6840"/>
                    <a:ext cx="1258560" cy="97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66ff"/>
                        </a:solidFill>
                        <a:latin typeface="Times New Roman"/>
                      </a:rPr>
                      <a:t>类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235800" y="6840"/>
                    <a:ext cx="1472760" cy="977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" name=""/>
              <p:cNvGrpSpPr/>
              <p:nvPr/>
            </p:nvGrpSpPr>
            <p:grpSpPr>
              <a:xfrm>
                <a:off x="1709280" y="6840"/>
                <a:ext cx="2114280" cy="977400"/>
                <a:chOff x="1709280" y="6840"/>
                <a:chExt cx="2114280" cy="9774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1709280" y="6840"/>
                  <a:ext cx="2114280" cy="9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1709280" y="6840"/>
                  <a:ext cx="2113920" cy="977040"/>
                  <a:chOff x="1709280" y="6840"/>
                  <a:chExt cx="2113920" cy="9770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1816560" y="6840"/>
                    <a:ext cx="1899000" cy="97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66ff"/>
                        </a:solidFill>
                        <a:latin typeface="Times New Roman"/>
                      </a:rPr>
                      <a:t>典型特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709280" y="6840"/>
                    <a:ext cx="2113920" cy="977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3823920" y="6840"/>
                <a:ext cx="3445200" cy="977400"/>
                <a:chOff x="3823920" y="6840"/>
                <a:chExt cx="3445200" cy="97740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823920" y="6840"/>
                  <a:ext cx="3445200" cy="9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3823920" y="6840"/>
                  <a:ext cx="3444840" cy="977040"/>
                  <a:chOff x="3823920" y="6840"/>
                  <a:chExt cx="3444840" cy="9770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3930480" y="6840"/>
                    <a:ext cx="3230640" cy="97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66ff"/>
                        </a:solidFill>
                        <a:latin typeface="Times New Roman"/>
                      </a:rPr>
                      <a:t>积极特性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823920" y="6840"/>
                    <a:ext cx="3444840" cy="977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" name=""/>
              <p:cNvGrpSpPr/>
              <p:nvPr/>
            </p:nvGrpSpPr>
            <p:grpSpPr>
              <a:xfrm>
                <a:off x="7269840" y="6840"/>
                <a:ext cx="2627640" cy="977400"/>
                <a:chOff x="7269840" y="6840"/>
                <a:chExt cx="2627640" cy="9774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269840" y="6840"/>
                  <a:ext cx="2627640" cy="97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7269840" y="6840"/>
                  <a:ext cx="2627280" cy="977040"/>
                  <a:chOff x="7269840" y="6840"/>
                  <a:chExt cx="2627280" cy="97704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7376400" y="6840"/>
                    <a:ext cx="2413080" cy="97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66ff"/>
                        </a:solidFill>
                        <a:latin typeface="Times New Roman"/>
                      </a:rPr>
                      <a:t>能容忍的弱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7269840" y="6840"/>
                    <a:ext cx="2627280" cy="977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" name=""/>
              <p:cNvGrpSpPr/>
              <p:nvPr/>
            </p:nvGrpSpPr>
            <p:grpSpPr>
              <a:xfrm>
                <a:off x="235800" y="984600"/>
                <a:ext cx="1473120" cy="1814760"/>
                <a:chOff x="235800" y="984600"/>
                <a:chExt cx="1473120" cy="18147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43080" y="984600"/>
                  <a:ext cx="1258920" cy="181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信息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35800" y="984600"/>
                  <a:ext cx="1473120" cy="181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1709280" y="984600"/>
                <a:ext cx="2114280" cy="1814760"/>
                <a:chOff x="1709280" y="984600"/>
                <a:chExt cx="2114280" cy="1814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1816560" y="984600"/>
                  <a:ext cx="1899360" cy="181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性格外倾；热情；好奇；联系广泛；消息灵通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09280" y="984600"/>
                  <a:ext cx="2114280" cy="181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823920" y="984600"/>
                <a:ext cx="3445200" cy="1814760"/>
                <a:chOff x="3823920" y="984600"/>
                <a:chExt cx="3445200" cy="1814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930480" y="984600"/>
                  <a:ext cx="3231000" cy="181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有广泛联系人的能力，不断探索新的事物；勇于迎接新的挑战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23920" y="984600"/>
                  <a:ext cx="3445200" cy="181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7269840" y="984600"/>
                <a:ext cx="2627640" cy="1814760"/>
                <a:chOff x="7269840" y="984600"/>
                <a:chExt cx="2627640" cy="18147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7376400" y="984600"/>
                  <a:ext cx="2413440" cy="181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事过境迁，兴趣马上转移；</a:t>
                  </a:r>
                  <a:r>
                    <a:rPr b="1" lang="zh-CN" sz="2400" spc="-1" strike="noStrike">
                      <a:solidFill>
                        <a:srgbClr val="ff66ff"/>
                      </a:solidFill>
                      <a:latin typeface="Times New Roman"/>
                    </a:rPr>
                    <a:t>不能说到做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269840" y="984600"/>
                  <a:ext cx="2627640" cy="181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35800" y="2799720"/>
                <a:ext cx="1473120" cy="1256400"/>
                <a:chOff x="235800" y="2799720"/>
                <a:chExt cx="1473120" cy="12564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43080" y="2799720"/>
                  <a:ext cx="125892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监督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35800" y="2799720"/>
                  <a:ext cx="147312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709280" y="2799720"/>
                <a:ext cx="2114280" cy="1256400"/>
                <a:chOff x="1709280" y="2799720"/>
                <a:chExt cx="2114280" cy="12564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816560" y="2799720"/>
                  <a:ext cx="189936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清醒；理智；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谨慎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709280" y="2799720"/>
                  <a:ext cx="211428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823920" y="2799720"/>
                <a:ext cx="3445200" cy="1256400"/>
                <a:chOff x="3823920" y="2799720"/>
                <a:chExt cx="3445200" cy="12564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930480" y="2799720"/>
                  <a:ext cx="323100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判断力强；分辨力强；讲求实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823920" y="2799720"/>
                  <a:ext cx="344520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269840" y="2799720"/>
                <a:ext cx="2627640" cy="1256400"/>
                <a:chOff x="7269840" y="2799720"/>
                <a:chExt cx="2627640" cy="12564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7376400" y="2799720"/>
                  <a:ext cx="241344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缺乏鼓动力和激发他人的能力；</a:t>
                  </a:r>
                  <a:r>
                    <a:rPr b="1" lang="zh-CN" sz="2400" spc="-1" strike="noStrike">
                      <a:solidFill>
                        <a:srgbClr val="ff66ff"/>
                      </a:solidFill>
                      <a:latin typeface="Times New Roman"/>
                    </a:rPr>
                    <a:t>怀疑别人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269840" y="2799720"/>
                  <a:ext cx="262764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35800" y="4056840"/>
                <a:ext cx="1473120" cy="1256400"/>
                <a:chOff x="235800" y="4056840"/>
                <a:chExt cx="1473120" cy="1256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43080" y="4056840"/>
                  <a:ext cx="125892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凝聚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35800" y="4056840"/>
                  <a:ext cx="147312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709280" y="4056840"/>
                <a:ext cx="2114280" cy="1256400"/>
                <a:chOff x="1709280" y="4056840"/>
                <a:chExt cx="2114280" cy="12564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816560" y="4056840"/>
                  <a:ext cx="189936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擅长人际交往；温和；敏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09280" y="4056840"/>
                  <a:ext cx="211428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823920" y="4056840"/>
                <a:ext cx="3445200" cy="1256400"/>
                <a:chOff x="3823920" y="4056840"/>
                <a:chExt cx="3445200" cy="12564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930480" y="4056840"/>
                  <a:ext cx="323100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有适应周围环境及人的力；能促进团队的合作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23920" y="4056840"/>
                  <a:ext cx="344520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269840" y="4056840"/>
                <a:ext cx="2627640" cy="1256400"/>
                <a:chOff x="7269840" y="4056840"/>
                <a:chExt cx="2627640" cy="125640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376400" y="4056840"/>
                  <a:ext cx="2413440" cy="12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在危急时刻</a:t>
                  </a:r>
                  <a:r>
                    <a:rPr b="1" lang="zh-CN" sz="2400" spc="-1" strike="noStrike">
                      <a:solidFill>
                        <a:srgbClr val="ff66ff"/>
                      </a:solidFill>
                      <a:latin typeface="Times New Roman"/>
                    </a:rPr>
                    <a:t>优柔寡断；在意别人评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269840" y="4056840"/>
                  <a:ext cx="2627640" cy="12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235800" y="5313600"/>
                <a:ext cx="1473120" cy="1535400"/>
                <a:chOff x="235800" y="5313600"/>
                <a:chExt cx="1473120" cy="15354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43080" y="5313600"/>
                  <a:ext cx="1258920" cy="15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完善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5800" y="5313600"/>
                  <a:ext cx="1473120" cy="15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709280" y="5313600"/>
                <a:ext cx="2114280" cy="1535400"/>
                <a:chOff x="1709280" y="5313600"/>
                <a:chExt cx="2114280" cy="1535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816560" y="5313600"/>
                  <a:ext cx="1899360" cy="15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勤奋有序；认真；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有紧迫感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09280" y="5313600"/>
                  <a:ext cx="2114280" cy="15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823920" y="5313600"/>
                <a:ext cx="3445200" cy="1535400"/>
                <a:chOff x="3823920" y="5313600"/>
                <a:chExt cx="3445200" cy="1535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930480" y="5313600"/>
                  <a:ext cx="3231000" cy="15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持之以恒；理想主义追求完美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823920" y="5313600"/>
                  <a:ext cx="3445200" cy="15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7269840" y="5313600"/>
                <a:ext cx="2627640" cy="1535400"/>
                <a:chOff x="7269840" y="5313600"/>
                <a:chExt cx="2627640" cy="15354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376400" y="5313600"/>
                  <a:ext cx="2413440" cy="153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常拘泥于细节，不洒脱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269840" y="5313600"/>
                  <a:ext cx="2627640" cy="153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6" name=""/>
            <p:cNvSpPr/>
            <p:nvPr/>
          </p:nvSpPr>
          <p:spPr>
            <a:xfrm>
              <a:off x="228600" y="0"/>
              <a:ext cx="9677160" cy="6857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724280" y="761760"/>
            <a:ext cx="4191120" cy="6858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 队 的 角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380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个人不可能完美，但团队可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每个角色都是优点缺点相伴相生，领导者要学会用人之长，容人之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尊重角色差异，发挥个性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合作能弥补能力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30480" y="761760"/>
            <a:ext cx="5670720" cy="1143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Project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目标和价值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Entit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赋能授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Relationship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沟通和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Flexib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灵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最佳的生产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Recogniz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肯定与表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Mora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士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038480" y="685440"/>
            <a:ext cx="5486400" cy="7621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7862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Project</a:t>
            </a: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目标和价值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成员能描述共同的使命与目标，并献身于这个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目标十分明确，具有挑战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达成目标的策略十分明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"/>
              </a:rPr>
              <a:t>个人的角色十分明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4120" y="-360"/>
            <a:ext cx="318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绩效团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19160" y="190512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94160" y="3096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33000" y="3096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Entit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赋能授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感到个人拥有能力，整个群体也拥有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有渠道获得必要的技能和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政策和做法能够支持团队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很明显地可以看出成员相互尊重，并愿意帮助别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4038480" y="380520"/>
            <a:ext cx="5486400" cy="7621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2049120" y="2420640"/>
            <a:ext cx="66150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Relationship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沟通和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肯公开且诚实地表达自己的想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会表示温情，了解与接受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会积极主动聆听别人的意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不同的意见和观点受到重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9080" y="838080"/>
            <a:ext cx="549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4133520" y="533520"/>
            <a:ext cx="5467320" cy="7617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85840" y="457200"/>
            <a:ext cx="5746680" cy="8380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644120" y="2420640"/>
            <a:ext cx="73422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Flexib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灵活与弹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会视需要去执行不同的角色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分担团队领导和团队发展的责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能自我调节，满足变迁中的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会探讨各种观念和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38120" y="456840"/>
            <a:ext cx="5257800" cy="7621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38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523880" y="266652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最佳的生产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产出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品质卓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决策效果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显然具有明确的问题解决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90760" y="380880"/>
            <a:ext cx="5365800" cy="9907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86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Recogniz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认可与赞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个人的贡献受到领导者和其他成员的认可与赞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团队的成就受到成员的认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团队成员觉得受到尊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团队的贡献受到组织的重视和认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14800" y="380520"/>
            <a:ext cx="5486400" cy="8384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 效 团 队 的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隶书"/>
              </a:rPr>
              <a:t>per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48880" y="2515680"/>
            <a:ext cx="7643880" cy="27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Moral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士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个人乐于作为团队的一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个人有信心，而且士气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成员对自己的工作引以为荣，而且很满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Arial"/>
              </a:rPr>
              <a:t>向心力强，团队精神高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498640" y="151920"/>
            <a:ext cx="311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绩效团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241880" y="461880"/>
            <a:ext cx="344520" cy="311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80360" y="461880"/>
            <a:ext cx="344520" cy="3114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4317840" y="3240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256680" y="3240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20840" y="15238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46920" y="318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汉鼎繁黑变"/>
                <a:ea typeface="汉鼎繁黑变"/>
              </a:rPr>
              <a:t>团队的七个主要特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63800" y="1676520"/>
            <a:ext cx="3252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明确的团队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资源共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个体拥有差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良好的人际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共同的价值观和行为规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归属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※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有效的授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219480" y="2895480"/>
            <a:ext cx="2806560" cy="25909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2819520"/>
            <a:ext cx="247680" cy="228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37040" y="4648320"/>
            <a:ext cx="247680" cy="228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5334120"/>
            <a:ext cx="247680" cy="228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4648320"/>
            <a:ext cx="247680" cy="228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035680" y="2819520"/>
            <a:ext cx="247680" cy="228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43600" y="3581280"/>
            <a:ext cx="247680" cy="228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18120" y="5334120"/>
            <a:ext cx="247680" cy="228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37040" y="3581280"/>
            <a:ext cx="247680" cy="2286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65800" y="2590920"/>
            <a:ext cx="1733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开放的沟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50960" y="2590920"/>
            <a:ext cx="1981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对目标的关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25480" y="3352680"/>
            <a:ext cx="23940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有效的工作流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356520" y="3581280"/>
            <a:ext cx="2145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相互信任和尊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73720" y="4572000"/>
            <a:ext cx="1733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尊重差异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06560" y="5410080"/>
            <a:ext cx="1733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持续的学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00560" y="5410080"/>
            <a:ext cx="1733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共享的领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38400" y="4572000"/>
            <a:ext cx="1733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仿宋_GB2312"/>
              </a:rPr>
              <a:t>灵活和适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67160" y="3886200"/>
            <a:ext cx="2558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仿宋_GB2312"/>
              </a:rPr>
              <a:t>高效团队的特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038480" y="990360"/>
            <a:ext cx="4740480" cy="1143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高效团队的特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27240" y="228240"/>
            <a:ext cx="272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团队建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54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70480" y="538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408960" y="538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0480" y="430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408960" y="430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20840" y="15238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53880" y="685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汉鼎繁黑变"/>
                <a:ea typeface="汉鼎繁黑变"/>
              </a:rPr>
              <a:t>古老的寓言故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3840" y="1879560"/>
            <a:ext cx="5813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在非洲的草原上如果见到羚羊在奔跑，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一定是狮子来了；如果见到狮子在躲避，那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是象群发怒了；如果见到成百上千的狮子和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象集体逃命的壮观景象，那时什么来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8160" y="4616280"/>
            <a:ext cx="170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汉鼎繁仿宋"/>
              </a:rPr>
              <a:t>蚂蚁军团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14440" y="533520"/>
            <a:ext cx="5467320" cy="7617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队合作的关键问题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2533680"/>
            <a:ext cx="685800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信任－相互认可、共同的经历和价值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沟通－关键是动机和意愿、结果</a:t>
            </a: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/</a:t>
            </a: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情绪关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主动性－责任心、激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执行力－纪律、服从、尊重权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领导力－专业技能与影响力匹配原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角色认知－一个中心、别越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66ff"/>
                </a:solidFill>
                <a:latin typeface="Arial"/>
              </a:rPr>
              <a:t>团队环境－清除破坏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571500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合作的前提是先约束自己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412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绩效团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1960" y="213372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认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建设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的特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团队合作的关键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个人与团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17840" y="538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256680" y="5382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H01619J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86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85720" y="10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9900"/>
                </a:solidFill>
                <a:latin typeface="Arial"/>
                <a:ea typeface="隶书"/>
              </a:rPr>
              <a:t>态度、角色与技能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H02037J" descr=""/>
          <p:cNvPicPr/>
          <p:nvPr/>
        </p:nvPicPr>
        <p:blipFill>
          <a:blip r:embed="rId2"/>
          <a:stretch/>
        </p:blipFill>
        <p:spPr>
          <a:xfrm>
            <a:off x="6603840" y="3048120"/>
            <a:ext cx="2476800" cy="1514520"/>
          </a:xfrm>
          <a:prstGeom prst="rect">
            <a:avLst/>
          </a:prstGeom>
          <a:ln w="0">
            <a:noFill/>
          </a:ln>
        </p:spPr>
      </p:pic>
      <p:pic>
        <p:nvPicPr>
          <p:cNvPr id="408" name="PH02039U" descr=""/>
          <p:cNvPicPr/>
          <p:nvPr/>
        </p:nvPicPr>
        <p:blipFill>
          <a:blip r:embed="rId3"/>
          <a:stretch/>
        </p:blipFill>
        <p:spPr>
          <a:xfrm>
            <a:off x="577800" y="3032280"/>
            <a:ext cx="2394000" cy="1463400"/>
          </a:xfrm>
          <a:prstGeom prst="rect">
            <a:avLst/>
          </a:prstGeom>
          <a:ln w="0">
            <a:noFill/>
          </a:ln>
        </p:spPr>
      </p:pic>
      <p:pic>
        <p:nvPicPr>
          <p:cNvPr id="409" name="PH01800J" descr=""/>
          <p:cNvPicPr/>
          <p:nvPr/>
        </p:nvPicPr>
        <p:blipFill>
          <a:blip r:embed="rId4"/>
          <a:stretch/>
        </p:blipFill>
        <p:spPr>
          <a:xfrm>
            <a:off x="3549600" y="2987640"/>
            <a:ext cx="2476440" cy="1508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137360" y="5353200"/>
            <a:ext cx="2768760" cy="1504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>
            <a:lum bright="36000"/>
          </a:blip>
          <a:stretch/>
        </p:blipFill>
        <p:spPr>
          <a:xfrm>
            <a:off x="0" y="0"/>
            <a:ext cx="37828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876920" y="990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个人生活目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18960" y="2819520"/>
            <a:ext cx="52959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三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、手段、资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系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38400" y="1600200"/>
            <a:ext cx="7511760" cy="3352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06000" y="909360"/>
            <a:ext cx="75027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了解你的生活状况曲线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03280" y="1892160"/>
            <a:ext cx="7182000" cy="2463840"/>
          </a:xfrm>
          <a:custGeom>
            <a:avLst/>
            <a:gdLst/>
            <a:ahLst/>
            <a:rect l="l" t="t" r="r" b="b"/>
            <a:pathLst>
              <a:path w="3600" h="1552">
                <a:moveTo>
                  <a:pt x="0" y="1400"/>
                </a:moveTo>
                <a:cubicBezTo>
                  <a:pt x="116" y="1112"/>
                  <a:pt x="232" y="824"/>
                  <a:pt x="384" y="824"/>
                </a:cubicBezTo>
                <a:cubicBezTo>
                  <a:pt x="536" y="824"/>
                  <a:pt x="720" y="1456"/>
                  <a:pt x="912" y="1400"/>
                </a:cubicBezTo>
                <a:cubicBezTo>
                  <a:pt x="1104" y="1344"/>
                  <a:pt x="1320" y="472"/>
                  <a:pt x="1536" y="488"/>
                </a:cubicBezTo>
                <a:cubicBezTo>
                  <a:pt x="1752" y="504"/>
                  <a:pt x="1936" y="1552"/>
                  <a:pt x="2208" y="1496"/>
                </a:cubicBezTo>
                <a:cubicBezTo>
                  <a:pt x="2480" y="1440"/>
                  <a:pt x="2936" y="304"/>
                  <a:pt x="3168" y="152"/>
                </a:cubicBezTo>
                <a:cubicBezTo>
                  <a:pt x="3400" y="0"/>
                  <a:pt x="3500" y="292"/>
                  <a:pt x="3600" y="584"/>
                </a:cubicBezTo>
              </a:path>
            </a:pathLst>
          </a:custGeom>
          <a:noFill/>
          <a:ln w="5724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568520" y="1828800"/>
            <a:ext cx="6769080" cy="1447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03280" y="4114800"/>
            <a:ext cx="6934320" cy="30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1080" y="5562720"/>
            <a:ext cx="6108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黑体"/>
              </a:rPr>
              <a:t>人们如何评价你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黑体"/>
              </a:rPr>
              <a:t>?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黑体"/>
              <a:ea typeface="黑体"/>
            </a:endParaRPr>
          </a:p>
        </p:txBody>
      </p:sp>
    </p:spTree>
  </p:cSld>
  <p:transition spd="slow"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95320" y="6091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家庭财务目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99840" y="2742840"/>
            <a:ext cx="62866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财富——朴素与寒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可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房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旅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奢侈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19720" y="5331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职业生涯目标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2420640"/>
            <a:ext cx="89154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男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俱乐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你没有从事理想职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消除这些原因，你迄今做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是你取得理想职位最大的困难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是你必须做的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愿为此付出努力吗？——舒适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828800" y="2133720"/>
            <a:ext cx="639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没有完美的个人，只有完美的团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57400" y="3276720"/>
            <a:ext cx="5791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个人目标必须和组织目标契合才能实现个人和组织目标的最大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62720" y="68580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个人与团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4089240" y="3096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028080" y="309600"/>
            <a:ext cx="344520" cy="3110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5b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20840" y="15238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08360" y="304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汉鼎繁黑变"/>
                <a:ea typeface="汉鼎繁黑变"/>
              </a:rPr>
              <a:t>团队冲突处理的五方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79840" y="5562720"/>
            <a:ext cx="177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806560" y="2922120"/>
            <a:ext cx="0" cy="143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19480" y="2362320"/>
            <a:ext cx="4275000" cy="28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3880" y="2411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武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473200" y="4481640"/>
            <a:ext cx="5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武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00000" y="2970360"/>
            <a:ext cx="39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文鼎特粗宋简"/>
                <a:ea typeface="文鼎特粗宋简"/>
              </a:rPr>
              <a:t>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文鼎特粗宋简"/>
                <a:ea typeface="文鼎特粗宋简"/>
              </a:rPr>
              <a:t>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文鼎特粗宋简"/>
                <a:ea typeface="文鼎特粗宋简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78240" y="5354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不合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18960" y="5348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文鼎特粗宋简"/>
                <a:ea typeface="文鼎特粗宋简"/>
              </a:rPr>
              <a:t>合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85200" y="591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文鼎特粗宋简"/>
                <a:ea typeface="文鼎特粗宋简"/>
              </a:rPr>
              <a:t>合作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30640" y="3738600"/>
            <a:ext cx="424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88120" y="2362320"/>
            <a:ext cx="0" cy="28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40320" y="3276720"/>
            <a:ext cx="166212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16440" y="26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竞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1824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回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185160" y="26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合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73840" y="347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妥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7480" y="4205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汉鼎繁仿宋"/>
                <a:ea typeface="汉鼎繁仿宋"/>
              </a:rPr>
              <a:t>迁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91120" y="533160"/>
            <a:ext cx="508320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4800" spc="-1" strike="noStrike">
                <a:solidFill>
                  <a:srgbClr val="ff66ff"/>
                </a:solidFill>
                <a:latin typeface="昆仑粗隶书"/>
                <a:ea typeface="昆仑粗隶书"/>
              </a:rPr>
              <a:t>运用知识管理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788000" y="2963880"/>
            <a:ext cx="3714480" cy="99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KM=(p+k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华文行楷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3040" y="3116160"/>
            <a:ext cx="247644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知识管理架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73720" y="1820880"/>
            <a:ext cx="21463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隶书"/>
              </a:rPr>
              <a:t>Share: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分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77800" y="1363680"/>
            <a:ext cx="3136680" cy="914400"/>
            <a:chOff x="577800" y="1363680"/>
            <a:chExt cx="3136680" cy="914400"/>
          </a:xfrm>
        </p:grpSpPr>
        <p:sp>
          <p:nvSpPr>
            <p:cNvPr id="453" name=""/>
            <p:cNvSpPr/>
            <p:nvPr/>
          </p:nvSpPr>
          <p:spPr>
            <a:xfrm>
              <a:off x="577800" y="1363680"/>
              <a:ext cx="3136680" cy="914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资讯科技协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知识管理的建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7800" y="1363680"/>
              <a:ext cx="313668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Technology(+):</a:t>
              </a:r>
              <a:r>
                <a:rPr b="0" lang="zh-CN" sz="20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资讯科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0" y="4411800"/>
            <a:ext cx="3549240" cy="1143000"/>
            <a:chOff x="0" y="4411800"/>
            <a:chExt cx="3549240" cy="1143000"/>
          </a:xfrm>
        </p:grpSpPr>
        <p:sp>
          <p:nvSpPr>
            <p:cNvPr id="456" name=""/>
            <p:cNvSpPr/>
            <p:nvPr/>
          </p:nvSpPr>
          <p:spPr>
            <a:xfrm>
              <a:off x="0" y="4411800"/>
              <a:ext cx="3549240" cy="1143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知识运载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4411800"/>
              <a:ext cx="3549240" cy="47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People: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044960" y="4411800"/>
            <a:ext cx="4870080" cy="1150920"/>
            <a:chOff x="4044960" y="4411800"/>
            <a:chExt cx="4870080" cy="1150920"/>
          </a:xfrm>
        </p:grpSpPr>
        <p:sp>
          <p:nvSpPr>
            <p:cNvPr id="459" name=""/>
            <p:cNvSpPr/>
            <p:nvPr/>
          </p:nvSpPr>
          <p:spPr>
            <a:xfrm>
              <a:off x="4044960" y="4411800"/>
              <a:ext cx="4870080" cy="1150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资料、信息、知识、智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4960" y="4411800"/>
              <a:ext cx="4870080" cy="479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Knowledge: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隶书"/>
                </a:rPr>
                <a:t>知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 flipV="1">
            <a:off x="2558880" y="3725640"/>
            <a:ext cx="41277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7264440" y="37256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301920" y="3497400"/>
            <a:ext cx="1320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11560" y="2278080"/>
            <a:ext cx="46227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594560" y="227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63520" y="2057040"/>
            <a:ext cx="599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大雁的启示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819520" y="30481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24280" y="456840"/>
            <a:ext cx="44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大雁的启示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905120"/>
            <a:ext cx="8864640" cy="2727000"/>
          </a:xfrm>
          <a:prstGeom prst="rect">
            <a:avLst/>
          </a:prstGeom>
          <a:solidFill>
            <a:srgbClr val="ccff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大雁按队形飞行的距离比独自飞行的距离至少可以增加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71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％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某只大雁脱离了队形，它会突然感到增大的飞行阻力，这使它立即返回原位以借助其团队的力量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当头雁体力不支时，它将退到队尾。另外一只大雁担当头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后面大雁的叫声是在鼓励前面的大雁保持速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当某只大雁生病或因受枪伤而掉队时，就会有两只大雁离开队形来帮助或保护这只伤病雁。它们会跟随其它的大雁一同飞行直至赶上它们自己的队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隶书"/>
                <a:ea typeface="隶书"/>
              </a:rPr>
              <a:t>你以后有机会看到大雁的队形时，你将记住：这是鼓励，挑战和作为有价值团队成员的责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9880" y="1294920"/>
            <a:ext cx="8502840" cy="1295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隶书"/>
              </a:rPr>
              <a:t>企业文化</a:t>
            </a:r>
            <a:br>
              <a:rPr sz="3600"/>
            </a:b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隶书"/>
              </a:rPr>
              <a:t>    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隶书"/>
              </a:rPr>
              <a:t>--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隶书"/>
              </a:rPr>
              <a:t>企业的灵魂、企业的软指令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2895480"/>
            <a:ext cx="8420040" cy="32767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一个富于创造的企业，必定有它的理想，正是这个理想，向未来显示出这个企业在于社会的意义。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团队成员们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将从这个理想中看到自己作为集体一员的意义。正是从这里，人们感受到生活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                          ——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  <a:ea typeface="楷体_GB2312"/>
              </a:rPr>
              <a:t>日本  土光敏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457200"/>
            <a:ext cx="404496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隶书"/>
              </a:rPr>
              <a:t>团队与企业文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68480" y="536400"/>
            <a:ext cx="70232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讨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的团队合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的特征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14720" y="3733920"/>
            <a:ext cx="3395520" cy="2616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5800" y="35924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五分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250040" y="3200400"/>
            <a:ext cx="165420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16080" y="838080"/>
            <a:ext cx="6508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小组结论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团队合作应该是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25320" y="3260880"/>
            <a:ext cx="3062520" cy="3597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19120" y="3962520"/>
            <a:ext cx="236232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43600" y="914040"/>
            <a:ext cx="3571920" cy="7621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隶书"/>
              </a:rPr>
              <a:t>团队的定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7036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13760" y="1905120"/>
            <a:ext cx="19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个清晰的团队定义有助于将这种新的组织形式与更传统的工作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roup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区分开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4054680"/>
            <a:ext cx="7759440" cy="78012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336699"/>
                </a:solidFill>
                <a:latin typeface="宋体"/>
              </a:rPr>
              <a:t>一个团队由少量的人组织，这些人具有互补的技能，对一个共同目的、绩效目标及方法做出承诺并彼此负责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05:28:16Z</dcterms:created>
  <dc:creator>ZengMaojun</dc:creator>
  <dc:description/>
  <dc:language>en-US</dc:language>
  <cp:lastModifiedBy>Zeng</cp:lastModifiedBy>
  <cp:lastPrinted>1999-12-28T05:53:47Z</cp:lastPrinted>
  <dcterms:modified xsi:type="dcterms:W3CDTF">2003-06-16T07:40:33Z</dcterms:modified>
  <cp:revision>361</cp:revision>
  <dc:subject/>
  <dc:title>团队与沟通</dc:title>
</cp:coreProperties>
</file>