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6A6F-50AC-4AA3-9475-AE04EDE82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61040"/>
            <a:ext cx="82296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5DB3-43EC-4FC2-814D-8C9C5C16D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40158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781360"/>
            <a:ext cx="40158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61040"/>
            <a:ext cx="40158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61040"/>
            <a:ext cx="40158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EC2C-21CA-421E-A111-04AA9DA99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26496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781360"/>
            <a:ext cx="26496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781360"/>
            <a:ext cx="26496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61040"/>
            <a:ext cx="26496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61040"/>
            <a:ext cx="26496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61040"/>
            <a:ext cx="26496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DD7D-B5A9-4E15-A3BE-D0127D1558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781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601C-2E73-496B-8943-790ADCDFD2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4430-4136-4BBC-B74A-FE4A1C3B0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4015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781360"/>
            <a:ext cx="4015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5CB4-9F41-4DE2-B2FF-DE60732DC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5C7B-C3B9-4897-A536-92B2738A1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2CAD-6510-47E5-81D9-E88F4EAAF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40158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781360"/>
            <a:ext cx="4015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61040"/>
            <a:ext cx="40158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0BDB-C543-4A9A-961A-13E71E9FC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4015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781360"/>
            <a:ext cx="40158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61040"/>
            <a:ext cx="40158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3B71-B865-4F74-B98A-34655536F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40158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781360"/>
            <a:ext cx="40158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61040"/>
            <a:ext cx="8229600" cy="14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E7E4-7ABE-449B-BC2A-14B87453B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781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6800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26A9-D3D7-4AD1-A7B9-3073316FC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3492360" cy="12924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588000" y="5353200"/>
            <a:ext cx="2556000" cy="150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1563120"/>
            <a:ext cx="693432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时间管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Time Manage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2003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66720" y="228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工作清单分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2133720"/>
            <a:ext cx="7010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析你在一个工作日内都做了那些工作事项并填入下表，连续记录四周后汇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明：累计超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钟的工作填入“工作事项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1120" y="380520"/>
            <a:ext cx="441936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工作重要性分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35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析一段时间内各工作事项的重要程度并填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说明：“重要性”的标准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非常重要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A —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绝对重要（其他事情都可以不做也要做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重要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需要做（你不做就要出问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太重要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C —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应该做（可做可不做但做比不做好一点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重要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不做（做也不见得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1911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工作紧急性分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析一段时间内各工作事项的紧急程度并填入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说明：“紧急性”的标准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非常紧急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 —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现在就做（马上放下其他事情开始做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紧急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短时间内需要做（一般为当天要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太紧急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C —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可放一放再做（可纳入计划中去安排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紧急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 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什么时候干都行（无需计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14440" y="533160"/>
            <a:ext cx="42670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工作效益性分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这里的效益指投入单位的人力资源（时间、精力、努力）而产出的成果。分析一段时间内各工作事项的效益并填入下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说明：“工作效益” 可以从以下三个的指标衡量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A —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目标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职务贡献度：某事项对实现工作目标或履行岗位职责的贡献大小，贡献越大，效益越高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B —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必要性：某事项由你来做的必要程度（可否由其他同事或下属完成），必要性越强，效益越高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C —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所需人力资源（时间、精力、努力），显然，所需资源越少，效益越高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95320" y="45684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我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尽可能全面地列出你具有代表性的一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个月的所有工作事项，并按照上面介绍的方法进行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时间管理的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制订计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排序分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0/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符合生理周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养成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33920" y="6091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制订计划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计划：为完成一定的目标而事前对措施和步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作出的部署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计划的作用：事先计划是时间管理的根本途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要想控制时间，必须首先制订计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092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计划的前提是确立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240" y="22096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哈佛大学有一个非常著名的关于目标对人生影响的跟踪调查。对象是一群智力、学历、环境等条件都差不多的年轻人，调查结果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76720" y="1143000"/>
            <a:ext cx="5790960" cy="5410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15000" y="1143000"/>
            <a:ext cx="1066680" cy="914400"/>
          </a:xfrm>
          <a:prstGeom prst="triangle">
            <a:avLst>
              <a:gd name="adj" fmla="val 4438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105520" y="2056680"/>
            <a:ext cx="2209680" cy="1066680"/>
          </a:xfrm>
          <a:custGeom>
            <a:avLst/>
            <a:gdLst>
              <a:gd name="textAreaLeft" fmla="*/ 508680 w 2209680"/>
              <a:gd name="textAreaRight" fmla="*/ 1701000 w 2209680"/>
              <a:gd name="textAreaTop" fmla="*/ 245520 h 1066680"/>
              <a:gd name="textAreaBottom" fmla="*/ 8211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99" y="21600"/>
                </a:lnTo>
                <a:lnTo>
                  <a:pt x="5801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809880" y="3047400"/>
            <a:ext cx="4800600" cy="2514600"/>
          </a:xfrm>
          <a:custGeom>
            <a:avLst/>
            <a:gdLst>
              <a:gd name="textAreaLeft" fmla="*/ 1126800 w 4800600"/>
              <a:gd name="textAreaRight" fmla="*/ 3673800 w 4800600"/>
              <a:gd name="textAreaTop" fmla="*/ 590400 h 2514600"/>
              <a:gd name="textAreaBottom" fmla="*/ 192420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22" y="21600"/>
                </a:lnTo>
                <a:lnTo>
                  <a:pt x="5978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276720" y="5561640"/>
            <a:ext cx="5867280" cy="990360"/>
          </a:xfrm>
          <a:custGeom>
            <a:avLst/>
            <a:gdLst>
              <a:gd name="textAreaLeft" fmla="*/ 783720 w 5867280"/>
              <a:gd name="textAreaRight" fmla="*/ 5083560 w 5867280"/>
              <a:gd name="textAreaTop" fmla="*/ 132120 h 990360"/>
              <a:gd name="textAreaBottom" fmla="*/ 85824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55" y="21600"/>
                </a:lnTo>
                <a:lnTo>
                  <a:pt x="2045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1066680"/>
            <a:ext cx="5867280" cy="548640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295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清晰且长期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的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286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清晰但短期 的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39625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较模糊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5791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924680" y="838080"/>
            <a:ext cx="304920" cy="990720"/>
          </a:xfrm>
          <a:prstGeom prst="triangle">
            <a:avLst>
              <a:gd name="adj" fmla="val 4427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772400" y="1828080"/>
            <a:ext cx="609480" cy="1143000"/>
          </a:xfrm>
          <a:custGeom>
            <a:avLst/>
            <a:gdLst>
              <a:gd name="textAreaLeft" fmla="*/ 140040 w 609480"/>
              <a:gd name="textAreaRight" fmla="*/ 469440 w 609480"/>
              <a:gd name="textAreaTop" fmla="*/ 263160 h 1143000"/>
              <a:gd name="textAreaBottom" fmla="*/ 879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99" y="21600"/>
                </a:lnTo>
                <a:lnTo>
                  <a:pt x="5801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ahoma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467480" y="2971080"/>
            <a:ext cx="1219320" cy="2514600"/>
          </a:xfrm>
          <a:custGeom>
            <a:avLst/>
            <a:gdLst>
              <a:gd name="textAreaLeft" fmla="*/ 264240 w 1219320"/>
              <a:gd name="textAreaRight" fmla="*/ 955080 w 1219320"/>
              <a:gd name="textAreaTop" fmla="*/ 545040 h 2514600"/>
              <a:gd name="textAreaBottom" fmla="*/ 19695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321" y="21600"/>
                </a:lnTo>
                <a:lnTo>
                  <a:pt x="5279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315200" y="5485680"/>
            <a:ext cx="1523880" cy="1066680"/>
          </a:xfrm>
          <a:custGeom>
            <a:avLst/>
            <a:gdLst>
              <a:gd name="textAreaLeft" fmla="*/ 167400 w 1523880"/>
              <a:gd name="textAreaRight" fmla="*/ 1356480 w 1523880"/>
              <a:gd name="textAreaTop" fmla="*/ 117000 h 1066680"/>
              <a:gd name="textAreaBottom" fmla="*/ 949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476" y="21600"/>
                </a:lnTo>
                <a:lnTo>
                  <a:pt x="1124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609480"/>
            <a:ext cx="1523880" cy="5943600"/>
          </a:xfrm>
          <a:prstGeom prst="triangle">
            <a:avLst>
              <a:gd name="adj" fmla="val 48231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373392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5400" y="2209680"/>
            <a:ext cx="729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二十五年后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762120"/>
            <a:ext cx="640080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年来几乎都不曾更改过自己的人生目标。他们都朝着同一个方向不懈地努力，现在，他们几乎都成了社会备界的顶尖成功人士，他们中不乏白手创业者、行业领袖、社会精英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1905120"/>
            <a:ext cx="632448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ff66"/>
                </a:solidFill>
                <a:latin typeface="Times New Roman"/>
              </a:rPr>
              <a:t>大都生活在社会的中上层。他们的共同特点是，那些短期目标不断被达成，生活状态稳步上升，成为各行各业的不可或缺的专业人士。如医生、律师、工程师、高级主管等等</a:t>
            </a:r>
            <a:r>
              <a:rPr b="1" lang="zh-CN" sz="1800" spc="-1" strike="noStrike">
                <a:solidFill>
                  <a:srgbClr val="99ff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3657600"/>
            <a:ext cx="617220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几乎都生活在社会的中下层面，他们能安稳地生活与工作，但都没有什么特别的成绩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5486400"/>
            <a:ext cx="5867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几乎都生活在社会的最底层，他们的生活都过得很不如意，常常失业。靠社会救济，并且常常都在抱怨他人，抱怨社会，抱怨世界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85840" y="380520"/>
            <a:ext cx="472428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引子：你了解时间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587320"/>
            <a:ext cx="7696440" cy="23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项调查表明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繁忙的人同其配偶或其他“主要共同生活者”有意义的交流时间平均每天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&lt;2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人们一般平均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受一次干扰，每小时约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每次大约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，每天大约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一天自学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至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年后成为专家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72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制订计划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MAR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S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明确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Specific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衡量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Measurable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达成又具挑战性的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chievab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适的或称合理的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elevanc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时间性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imelines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1676520"/>
            <a:ext cx="7543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我的目标是想在一年内赚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万！请问我应该如何计划我的目标呢？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个符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SMAR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则的计划是目标能否实现的度量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计划的形成：采用树杈法（鱼骨法）将目标分解成任务形成计划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774"/>
              </a:spcBef>
              <a:spcAft>
                <a:spcPts val="77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写下一个大目标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774"/>
              </a:spcBef>
              <a:spcAft>
                <a:spcPts val="77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写出实现该目标所有的必要条件及充分条件，作为小目标，即第一层树杈 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774"/>
              </a:spcBef>
              <a:spcAft>
                <a:spcPts val="77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写出实现每个小目标所需的必要条件及充分条件，变成第二层树杈 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774"/>
              </a:spcBef>
              <a:spcAft>
                <a:spcPts val="77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此类推，直到画出所有的树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即时目标为止，才算完成该目标多杈树的分解 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774"/>
              </a:spcBef>
              <a:spcAft>
                <a:spcPts val="77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检查多杈树分解是否充分、即反之从叶子到树枝再到树干，不断检查如果小目标均达成，大目标是否一定会达成，如是则表示分解已完成；如不是则表明所列的条件还不够充分，继续补充被忽略的树枝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752480"/>
            <a:ext cx="1371600" cy="4724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寻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如意配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5486400"/>
            <a:ext cx="1371600" cy="762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相遇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3505320"/>
            <a:ext cx="1371600" cy="761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你的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1371600"/>
            <a:ext cx="1371600" cy="7621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对象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990720"/>
            <a:ext cx="1219320" cy="30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609480"/>
            <a:ext cx="1218960" cy="30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品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152280"/>
            <a:ext cx="1218960" cy="381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生理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990720"/>
            <a:ext cx="990720" cy="30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4191120"/>
            <a:ext cx="2971800" cy="380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他可能期望你达到的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8880" y="5410080"/>
            <a:ext cx="1524240" cy="381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如何吸引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4952880"/>
            <a:ext cx="1447920" cy="381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如何找到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8880" y="5867280"/>
            <a:ext cx="1600200" cy="381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如何创造缘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1752480"/>
            <a:ext cx="914400" cy="30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收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1371600"/>
            <a:ext cx="914400" cy="30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未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6324480"/>
            <a:ext cx="2209680" cy="381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感情长期维系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609480"/>
            <a:ext cx="1219320" cy="53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人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2438280"/>
            <a:ext cx="1218960" cy="53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人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1828800"/>
            <a:ext cx="1218960" cy="5335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家庭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352680"/>
            <a:ext cx="2971800" cy="30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基本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3733920"/>
            <a:ext cx="2971800" cy="380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应自我塑造的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4952880"/>
            <a:ext cx="2057400" cy="381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他会在哪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5867280"/>
            <a:ext cx="2209680" cy="381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如何处理竞争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5410080"/>
            <a:ext cx="2209680" cy="381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如何接触到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219320"/>
            <a:ext cx="1219320" cy="5331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事业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3886200"/>
            <a:ext cx="6858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523880" y="1752120"/>
            <a:ext cx="4572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352680" y="9144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175248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352680" y="15235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1752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105520" y="4572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105520" y="7617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838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15238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162920" y="1143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1523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429000" y="35053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3886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581280" y="518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581280" y="56383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58672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58672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629400" y="51814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5638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257800" y="18284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2133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181480" y="24379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27432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04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781680" y="-36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304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762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858000" y="4568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0" y="7621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1143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934320" y="837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11430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534520" y="1905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534520" y="15998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34520" y="19051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1143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534520" y="837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534520" y="11430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534520" y="12193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534520" y="15238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315200" y="31237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3429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315200" y="36572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5200" y="39625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4343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38880" y="40381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83908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8839080" y="48002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839080" y="51055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839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8839080" y="52574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839080" y="5562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83908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839080" y="57146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39080" y="6019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9400" y="6477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629400" y="61718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64771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4038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4800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419720" y="3949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位人事主管的周工作计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1371600"/>
          <a:ext cx="731520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315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004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排序分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排出顺序、分配时间资源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657600" y="228600"/>
            <a:ext cx="472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间管理矩阵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2362320"/>
            <a:ext cx="723888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42670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23623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-193680" y="2286000"/>
            <a:ext cx="1033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重要              不重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18288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紧急                                  不紧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2514600"/>
            <a:ext cx="358164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危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急迫的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期的任务，会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筹备事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2590920"/>
            <a:ext cx="358128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准备及预防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系的建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培训，授权，创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4495680"/>
            <a:ext cx="365760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干扰，一些电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些会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些紧急事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符合别人期望的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4495680"/>
            <a:ext cx="350532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琐的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浪费时间的闲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关紧要的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关紧要的私人电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3520" y="1295280"/>
            <a:ext cx="784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错误倾向：偏重第一类事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18148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19051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32767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828800"/>
            <a:ext cx="5105520" cy="33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压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筋疲力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危机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忙于收拾残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26320" y="205740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69440" y="3429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0040" y="525780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错误倾向：偏重第三类事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68580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25146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0" y="19051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905120"/>
            <a:ext cx="5105520" cy="38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轻重不分，未有效完成本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缺乏自制力，怪罪他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面临危机压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失去目标与计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69320" y="198108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12440" y="28195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0040" y="259092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733920" y="380880"/>
            <a:ext cx="48765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象限工作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合理的按照紧急和重要两个纬度划分自己的工作事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将大部分时间和精力放在第二象限的工作上，主要根据第二象限的工作制订计划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时间资源放在第二象限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放在其他象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175212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一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时间和时间管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时间的概念和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时间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14440" y="304560"/>
            <a:ext cx="410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0/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0/2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原则（也叫帕雷托原则）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工作价值来自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工作事项，而剩下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价值来自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工作事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86200" y="304560"/>
            <a:ext cx="47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0/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则的启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启示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的工作事项创造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的工作价值；抓住工作的关键，集中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的主要精力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的主要工作，可以保证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的工作结果；改进这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的工作处理方法，可以获得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的新效果。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误区：面面俱到——都想做好；完全主义——都想做完；平均分配时间和精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77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符合生理周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294920" y="2133360"/>
            <a:ext cx="6629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了解你的“兴奋”和“低潮”时间段并以此为依据制定你每天的工作计划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做以下测试，了解自己的生活节奏，以便有效的工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57240" y="456840"/>
            <a:ext cx="5257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养成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5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74"/>
              </a:spcBef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送给参训者三句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spcAft>
                <a:spcPts val="77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好习惯是在有意识的控制中形成的，坏习惯是在无意识的放任中形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spcAft>
                <a:spcPts val="77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们先要塑造自己良好的习惯，然后好习惯会塑造我们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spcAft>
                <a:spcPts val="77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形成好习惯的过程同时也是克服坏习惯的过程，形成过程中会比较困难，但好习惯一旦养成也会具有自然的惯性，保持起来相对比较容易；坚持下去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天可基本形成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33560" y="22824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间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时间是过去、现在、未来组成的一连串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事件。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－《韦氏字典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时间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金钱，时间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生命的价值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时间的特征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－公平性：时间对每个人都同样公平，每人 每天都是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小时，每小时都是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分，每分都是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秒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－单程性：时间一去不返，人生是一次单程旅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240" y="205740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？既然时间是公平的，那么为什么有人在有限的时间里既取得了学业的成就、事业的成功，又没耽误享受亲情和友情，还能使自己的生活丰富多彩，秘密何在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38480" y="456840"/>
            <a:ext cx="4572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何谓时间管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2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秘密在于是否掌握时间管理－其本质是主动有效地控制时间，而非被动的受制于时间。时间管理实际包含三个层次的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意愿和决心：由人生观价值观等决定，由个人自行解决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原则和方法：本培训要解决的核心问题，将围绕此展开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形成行为习惯：关键是观念和毅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章  时间那去了？－对时间的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2781360"/>
            <a:ext cx="83818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你分析：软件开发部项目经理王鹏的一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问：王鹏的时间管理是否存在问题，如有，应如何改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9520" y="456840"/>
            <a:ext cx="50943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我测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能支配自己的时间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9720" y="228240"/>
            <a:ext cx="379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间分析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工作清单分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工作重要性分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工作紧急性分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工作效益性分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0:46:53Z</dcterms:created>
  <dc:creator>linhai.yue</dc:creator>
  <dc:description/>
  <dc:language>en-US</dc:language>
  <cp:lastModifiedBy>a</cp:lastModifiedBy>
  <dcterms:modified xsi:type="dcterms:W3CDTF">2003-05-27T14:55:14Z</dcterms:modified>
  <cp:revision>29</cp:revision>
  <dc:subject/>
  <dc:title> </dc:title>
</cp:coreProperties>
</file>