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878-052B-4C27-A2DA-B0F8E87B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42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BE8-5570-4CD1-B6F6-96590FFF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9D0-CF56-4ADF-9881-180B3F6D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2064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6420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08A-9F51-4E69-B732-02AF7F15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E12-CA6B-4D4F-A285-AD5B29A2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F92-6391-42C9-A225-FBE218B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0C5-B791-4440-A578-CBB877C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F6E-1CC1-41FF-BFEA-8202F04E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A55-1628-4BD0-A9D2-D39B7CD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E91-B90D-4A80-8E82-5F62302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6420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928-C964-491C-B5E2-8970FCD2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2064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420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EFE-7475-4374-8292-3FB9484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C8B-3BE6-421C-8FC4-600EA1562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588000" y="5353200"/>
            <a:ext cx="255600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49236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23623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讲及报告技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6905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立故事框架乃是关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824280"/>
            <a:ext cx="327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  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  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885840" y="1766520"/>
            <a:ext cx="4191120" cy="3634200"/>
            <a:chOff x="3885840" y="1766520"/>
            <a:chExt cx="4191120" cy="3634200"/>
          </a:xfrm>
        </p:grpSpPr>
        <p:sp>
          <p:nvSpPr>
            <p:cNvPr id="65" name=""/>
            <p:cNvSpPr/>
            <p:nvPr/>
          </p:nvSpPr>
          <p:spPr>
            <a:xfrm>
              <a:off x="4495680" y="28339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故  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05440" y="2224080"/>
              <a:ext cx="2309760" cy="31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flipV="1">
              <a:off x="7238880" y="26812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560" y="207144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553080" y="176652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7315200" y="3290760"/>
              <a:ext cx="7617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038480" y="26812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886200" y="321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885840" y="374832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800600" y="457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建立故事框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9810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良好的引言作为开场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6765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666880"/>
            <a:ext cx="609624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立主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该主题对听众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各项要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02800" y="5335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57600" y="457200"/>
            <a:ext cx="548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确定有力的正文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1752480"/>
            <a:ext cx="670572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—5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便于听众理解的话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恰当地构筑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论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逻辑组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正文部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51814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逻辑性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说服力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帮助人们记住信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把握的部分就去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渡要平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要“丢”了听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重新排列内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持内容的重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990720" y="1523520"/>
            <a:ext cx="7238880" cy="3734280"/>
            <a:chOff x="990720" y="1523520"/>
            <a:chExt cx="7238880" cy="3734280"/>
          </a:xfrm>
        </p:grpSpPr>
        <p:sp>
          <p:nvSpPr>
            <p:cNvPr id="84" name=""/>
            <p:cNvSpPr/>
            <p:nvPr/>
          </p:nvSpPr>
          <p:spPr>
            <a:xfrm>
              <a:off x="990720" y="1523880"/>
              <a:ext cx="7238880" cy="373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1896840"/>
              <a:ext cx="2209320" cy="30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听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主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666880"/>
              <a:ext cx="3504600" cy="1523880"/>
            </a:xfrm>
            <a:prstGeom prst="flowChartInputOutpu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019560" y="2361600"/>
              <a:ext cx="22096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3760" y="4190760"/>
              <a:ext cx="685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142640" y="4190760"/>
              <a:ext cx="137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438280" y="1523520"/>
              <a:ext cx="7617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257800" y="304920"/>
            <a:ext cx="3429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展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190512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媒体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5984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9880" y="609480"/>
            <a:ext cx="53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构筑内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逻辑论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005280"/>
            <a:ext cx="99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2896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062160"/>
            <a:ext cx="190512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1995480"/>
            <a:ext cx="289548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39006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53160" y="3900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0621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无可争议的内容来陈述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078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情况加以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06216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阐述情况的意义并加以说（“因此”……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109960"/>
            <a:ext cx="25146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400440" y="260496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57600" y="38088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构筑内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逻辑组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076480"/>
            <a:ext cx="99072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13372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28960" y="2133720"/>
            <a:ext cx="2210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2133720"/>
            <a:ext cx="2210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066680"/>
            <a:ext cx="289548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34792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34792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34792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措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038480"/>
            <a:ext cx="78483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便于记住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注重具体措施的听众极为有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点被 否定，其余各点仍能支持说服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一些听众有勉强之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181160"/>
            <a:ext cx="251460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400440" y="1676520"/>
            <a:ext cx="10666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182844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14600" y="1676520"/>
            <a:ext cx="9907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6920" y="304560"/>
            <a:ext cx="22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  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720" y="1905120"/>
            <a:ext cx="4572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定的份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复主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要回顾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听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组织你的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你自己看作一个销售人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推销你的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销售人员的第一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告诉人们你想表达的内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始演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结你演讲过的内容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想传达给听众的思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3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312c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62720" y="30456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4760" y="2362320"/>
            <a:ext cx="3733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服语言障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克服紧张情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的开始和结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众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服语言的障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准的发音不是必须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到你的缺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使用不常用的单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复杂的句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何时候都不要表现出无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上你的手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257440" y="2282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纲和手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有大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笔记、大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备必要的时候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一篇稿件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不熟练时，不能祈求听众谅解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  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一直盯住稿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喜欢就背下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7280" y="2282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克服紧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4876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克服紧张是可能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让抖动露出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首先确保握住讲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声讲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深呼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友好的看着大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看着听众的上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195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幽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好的幽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受到尊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相关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好是原创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简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划你的笑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住故事情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合的时候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任何时候适合的幽默都会有帮助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00600" y="304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让听众参与进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参与－－听众记住内容的最好方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听众一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与他们的讨论或答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有趣的或相关的内容进行点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76760" y="228240"/>
            <a:ext cx="190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5715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利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大你的观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增加你的可行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一步宣传你的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处理问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4419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扩大你的观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难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需要直接回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但千万不要隐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尖锐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迂回的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&amp;A –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出好的回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尊敬听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良好的身体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复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重复如果听众不能听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释帮助增加你的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人们比较害羞，你自己开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争论或辩解某一个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0" y="6858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润    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452680"/>
            <a:ext cx="4876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觉润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每天都在演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商业会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产品推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见律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讨论商业计划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梯” 谈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867280" y="45720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语言润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00200"/>
            <a:ext cx="655344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听众的语言来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恰当词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实在而非抽象的词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明扼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事例，类比，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幽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86200" y="6091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沟通技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欺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要的是要有激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你充满激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的声音和形象技巧将变得很自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激情可以来自主题、训练和环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一个办法能治愈不好的演讲－真正的充满激情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％的错误就会消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-- Robert Montgo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38320" y="304920"/>
            <a:ext cx="312444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语的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182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单和清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跑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要的时候停下来想一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91320" y="380520"/>
            <a:ext cx="3124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头的技能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口头语言不同于书面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使用简单的词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使用复杂的句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使用不确定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样的信息可以有多种方式表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315200" y="502920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0292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314400" y="609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音技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声音技巧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充满激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热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你没有激情，如何能引起我们的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没有激情就不要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76720" y="2895480"/>
            <a:ext cx="1523880" cy="1219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4114800"/>
            <a:ext cx="167652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14800"/>
            <a:ext cx="1523880" cy="11430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2895480"/>
            <a:ext cx="1600200" cy="121932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523880"/>
            <a:ext cx="167652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523880"/>
            <a:ext cx="1600200" cy="1371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572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帮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80880" y="2057400"/>
            <a:ext cx="1397160" cy="2662200"/>
            <a:chOff x="380880" y="2057400"/>
            <a:chExt cx="1397160" cy="2662200"/>
          </a:xfrm>
        </p:grpSpPr>
        <p:sp>
          <p:nvSpPr>
            <p:cNvPr id="170" name=""/>
            <p:cNvSpPr/>
            <p:nvPr/>
          </p:nvSpPr>
          <p:spPr>
            <a:xfrm>
              <a:off x="380880" y="2057400"/>
              <a:ext cx="1362240" cy="2646360"/>
            </a:xfrm>
            <a:custGeom>
              <a:avLst/>
              <a:gdLst/>
              <a:ahLst/>
              <a:rect l="l" t="t" r="r" b="b"/>
              <a:pathLst>
                <a:path w="858" h="1667">
                  <a:moveTo>
                    <a:pt x="308" y="0"/>
                  </a:moveTo>
                  <a:lnTo>
                    <a:pt x="567" y="0"/>
                  </a:lnTo>
                  <a:lnTo>
                    <a:pt x="518" y="64"/>
                  </a:lnTo>
                  <a:lnTo>
                    <a:pt x="367" y="64"/>
                  </a:lnTo>
                  <a:lnTo>
                    <a:pt x="310" y="166"/>
                  </a:lnTo>
                  <a:lnTo>
                    <a:pt x="570" y="166"/>
                  </a:lnTo>
                  <a:lnTo>
                    <a:pt x="517" y="65"/>
                  </a:lnTo>
                  <a:lnTo>
                    <a:pt x="567" y="1"/>
                  </a:lnTo>
                  <a:lnTo>
                    <a:pt x="658" y="159"/>
                  </a:lnTo>
                  <a:lnTo>
                    <a:pt x="707" y="160"/>
                  </a:lnTo>
                  <a:lnTo>
                    <a:pt x="724" y="214"/>
                  </a:lnTo>
                  <a:lnTo>
                    <a:pt x="801" y="214"/>
                  </a:lnTo>
                  <a:lnTo>
                    <a:pt x="802" y="252"/>
                  </a:lnTo>
                  <a:lnTo>
                    <a:pt x="831" y="253"/>
                  </a:lnTo>
                  <a:lnTo>
                    <a:pt x="858" y="253"/>
                  </a:lnTo>
                  <a:lnTo>
                    <a:pt x="858" y="486"/>
                  </a:lnTo>
                  <a:lnTo>
                    <a:pt x="801" y="487"/>
                  </a:lnTo>
                  <a:lnTo>
                    <a:pt x="800" y="536"/>
                  </a:lnTo>
                  <a:lnTo>
                    <a:pt x="727" y="536"/>
                  </a:lnTo>
                  <a:lnTo>
                    <a:pt x="706" y="594"/>
                  </a:lnTo>
                  <a:lnTo>
                    <a:pt x="666" y="595"/>
                  </a:lnTo>
                  <a:lnTo>
                    <a:pt x="663" y="713"/>
                  </a:lnTo>
                  <a:lnTo>
                    <a:pt x="636" y="713"/>
                  </a:lnTo>
                  <a:lnTo>
                    <a:pt x="627" y="731"/>
                  </a:lnTo>
                  <a:lnTo>
                    <a:pt x="627" y="849"/>
                  </a:lnTo>
                  <a:lnTo>
                    <a:pt x="579" y="850"/>
                  </a:lnTo>
                  <a:lnTo>
                    <a:pt x="582" y="1560"/>
                  </a:lnTo>
                  <a:lnTo>
                    <a:pt x="468" y="1667"/>
                  </a:lnTo>
                  <a:lnTo>
                    <a:pt x="322" y="1544"/>
                  </a:lnTo>
                  <a:lnTo>
                    <a:pt x="374" y="1509"/>
                  </a:lnTo>
                  <a:lnTo>
                    <a:pt x="374" y="1468"/>
                  </a:lnTo>
                  <a:lnTo>
                    <a:pt x="322" y="1431"/>
                  </a:lnTo>
                  <a:lnTo>
                    <a:pt x="374" y="1399"/>
                  </a:lnTo>
                  <a:lnTo>
                    <a:pt x="366" y="1386"/>
                  </a:lnTo>
                  <a:lnTo>
                    <a:pt x="321" y="1357"/>
                  </a:lnTo>
                  <a:lnTo>
                    <a:pt x="313" y="1265"/>
                  </a:lnTo>
                  <a:lnTo>
                    <a:pt x="307" y="1256"/>
                  </a:lnTo>
                  <a:lnTo>
                    <a:pt x="375" y="1203"/>
                  </a:lnTo>
                  <a:lnTo>
                    <a:pt x="375" y="1157"/>
                  </a:lnTo>
                  <a:lnTo>
                    <a:pt x="321" y="1103"/>
                  </a:lnTo>
                  <a:lnTo>
                    <a:pt x="374" y="1055"/>
                  </a:lnTo>
                  <a:lnTo>
                    <a:pt x="374" y="1007"/>
                  </a:lnTo>
                  <a:lnTo>
                    <a:pt x="322" y="945"/>
                  </a:lnTo>
                  <a:lnTo>
                    <a:pt x="312" y="844"/>
                  </a:lnTo>
                  <a:lnTo>
                    <a:pt x="249" y="844"/>
                  </a:lnTo>
                  <a:lnTo>
                    <a:pt x="249" y="708"/>
                  </a:lnTo>
                  <a:lnTo>
                    <a:pt x="211" y="708"/>
                  </a:lnTo>
                  <a:lnTo>
                    <a:pt x="211" y="589"/>
                  </a:lnTo>
                  <a:lnTo>
                    <a:pt x="169" y="589"/>
                  </a:lnTo>
                  <a:lnTo>
                    <a:pt x="150" y="532"/>
                  </a:lnTo>
                  <a:lnTo>
                    <a:pt x="65" y="532"/>
                  </a:lnTo>
                  <a:lnTo>
                    <a:pt x="65" y="482"/>
                  </a:lnTo>
                  <a:lnTo>
                    <a:pt x="0" y="482"/>
                  </a:lnTo>
                  <a:lnTo>
                    <a:pt x="0" y="247"/>
                  </a:lnTo>
                  <a:lnTo>
                    <a:pt x="64" y="247"/>
                  </a:lnTo>
                  <a:lnTo>
                    <a:pt x="64" y="213"/>
                  </a:lnTo>
                  <a:lnTo>
                    <a:pt x="136" y="213"/>
                  </a:lnTo>
                  <a:lnTo>
                    <a:pt x="153" y="198"/>
                  </a:lnTo>
                  <a:lnTo>
                    <a:pt x="170" y="160"/>
                  </a:lnTo>
                  <a:lnTo>
                    <a:pt x="211" y="16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4360" y="2071800"/>
              <a:ext cx="1363680" cy="2647800"/>
            </a:xfrm>
            <a:custGeom>
              <a:avLst/>
              <a:gdLst/>
              <a:ahLst/>
              <a:rect l="l" t="t" r="r" b="b"/>
              <a:pathLst>
                <a:path w="859" h="1668">
                  <a:moveTo>
                    <a:pt x="308" y="0"/>
                  </a:moveTo>
                  <a:lnTo>
                    <a:pt x="567" y="0"/>
                  </a:lnTo>
                  <a:lnTo>
                    <a:pt x="518" y="64"/>
                  </a:lnTo>
                  <a:lnTo>
                    <a:pt x="367" y="64"/>
                  </a:lnTo>
                  <a:lnTo>
                    <a:pt x="310" y="166"/>
                  </a:lnTo>
                  <a:lnTo>
                    <a:pt x="570" y="166"/>
                  </a:lnTo>
                  <a:lnTo>
                    <a:pt x="517" y="65"/>
                  </a:lnTo>
                  <a:lnTo>
                    <a:pt x="567" y="1"/>
                  </a:lnTo>
                  <a:lnTo>
                    <a:pt x="659" y="159"/>
                  </a:lnTo>
                  <a:lnTo>
                    <a:pt x="707" y="160"/>
                  </a:lnTo>
                  <a:lnTo>
                    <a:pt x="724" y="214"/>
                  </a:lnTo>
                  <a:lnTo>
                    <a:pt x="801" y="214"/>
                  </a:lnTo>
                  <a:lnTo>
                    <a:pt x="802" y="252"/>
                  </a:lnTo>
                  <a:lnTo>
                    <a:pt x="831" y="253"/>
                  </a:lnTo>
                  <a:lnTo>
                    <a:pt x="859" y="253"/>
                  </a:lnTo>
                  <a:lnTo>
                    <a:pt x="859" y="486"/>
                  </a:lnTo>
                  <a:lnTo>
                    <a:pt x="801" y="487"/>
                  </a:lnTo>
                  <a:lnTo>
                    <a:pt x="800" y="536"/>
                  </a:lnTo>
                  <a:lnTo>
                    <a:pt x="727" y="536"/>
                  </a:lnTo>
                  <a:lnTo>
                    <a:pt x="706" y="594"/>
                  </a:lnTo>
                  <a:lnTo>
                    <a:pt x="666" y="595"/>
                  </a:lnTo>
                  <a:lnTo>
                    <a:pt x="663" y="713"/>
                  </a:lnTo>
                  <a:lnTo>
                    <a:pt x="636" y="713"/>
                  </a:lnTo>
                  <a:lnTo>
                    <a:pt x="629" y="723"/>
                  </a:lnTo>
                  <a:lnTo>
                    <a:pt x="629" y="850"/>
                  </a:lnTo>
                  <a:lnTo>
                    <a:pt x="579" y="850"/>
                  </a:lnTo>
                  <a:lnTo>
                    <a:pt x="582" y="1560"/>
                  </a:lnTo>
                  <a:lnTo>
                    <a:pt x="468" y="1668"/>
                  </a:lnTo>
                  <a:lnTo>
                    <a:pt x="322" y="1544"/>
                  </a:lnTo>
                  <a:lnTo>
                    <a:pt x="374" y="1509"/>
                  </a:lnTo>
                  <a:lnTo>
                    <a:pt x="374" y="1468"/>
                  </a:lnTo>
                  <a:lnTo>
                    <a:pt x="322" y="1431"/>
                  </a:lnTo>
                  <a:lnTo>
                    <a:pt x="374" y="1399"/>
                  </a:lnTo>
                  <a:lnTo>
                    <a:pt x="366" y="1386"/>
                  </a:lnTo>
                  <a:lnTo>
                    <a:pt x="321" y="1357"/>
                  </a:lnTo>
                  <a:lnTo>
                    <a:pt x="313" y="1265"/>
                  </a:lnTo>
                  <a:lnTo>
                    <a:pt x="307" y="1257"/>
                  </a:lnTo>
                  <a:lnTo>
                    <a:pt x="375" y="1203"/>
                  </a:lnTo>
                  <a:lnTo>
                    <a:pt x="375" y="1157"/>
                  </a:lnTo>
                  <a:lnTo>
                    <a:pt x="321" y="1103"/>
                  </a:lnTo>
                  <a:lnTo>
                    <a:pt x="374" y="1055"/>
                  </a:lnTo>
                  <a:lnTo>
                    <a:pt x="374" y="1007"/>
                  </a:lnTo>
                  <a:lnTo>
                    <a:pt x="322" y="945"/>
                  </a:lnTo>
                  <a:lnTo>
                    <a:pt x="312" y="844"/>
                  </a:lnTo>
                  <a:lnTo>
                    <a:pt x="249" y="844"/>
                  </a:lnTo>
                  <a:lnTo>
                    <a:pt x="249" y="708"/>
                  </a:lnTo>
                  <a:lnTo>
                    <a:pt x="212" y="708"/>
                  </a:lnTo>
                  <a:lnTo>
                    <a:pt x="212" y="589"/>
                  </a:lnTo>
                  <a:lnTo>
                    <a:pt x="169" y="589"/>
                  </a:lnTo>
                  <a:lnTo>
                    <a:pt x="150" y="532"/>
                  </a:lnTo>
                  <a:lnTo>
                    <a:pt x="65" y="532"/>
                  </a:lnTo>
                  <a:lnTo>
                    <a:pt x="65" y="482"/>
                  </a:lnTo>
                  <a:lnTo>
                    <a:pt x="0" y="482"/>
                  </a:lnTo>
                  <a:lnTo>
                    <a:pt x="0" y="247"/>
                  </a:lnTo>
                  <a:lnTo>
                    <a:pt x="64" y="247"/>
                  </a:lnTo>
                  <a:lnTo>
                    <a:pt x="64" y="213"/>
                  </a:lnTo>
                  <a:lnTo>
                    <a:pt x="136" y="213"/>
                  </a:lnTo>
                  <a:lnTo>
                    <a:pt x="153" y="198"/>
                  </a:lnTo>
                  <a:lnTo>
                    <a:pt x="170" y="160"/>
                  </a:lnTo>
                  <a:lnTo>
                    <a:pt x="212" y="160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4800" y="2495520"/>
              <a:ext cx="1040040" cy="304920"/>
              <a:chOff x="604800" y="2495520"/>
              <a:chExt cx="104004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604800" y="2497320"/>
                <a:ext cx="963720" cy="303120"/>
              </a:xfrm>
              <a:custGeom>
                <a:avLst/>
                <a:gdLst/>
                <a:ahLst/>
                <a:rect l="l" t="t" r="r" b="b"/>
                <a:pathLst>
                  <a:path w="607" h="191">
                    <a:moveTo>
                      <a:pt x="0" y="99"/>
                    </a:moveTo>
                    <a:lnTo>
                      <a:pt x="53" y="0"/>
                    </a:lnTo>
                    <a:lnTo>
                      <a:pt x="607" y="0"/>
                    </a:lnTo>
                    <a:lnTo>
                      <a:pt x="602" y="7"/>
                    </a:lnTo>
                    <a:lnTo>
                      <a:pt x="59" y="7"/>
                    </a:lnTo>
                    <a:lnTo>
                      <a:pt x="10" y="99"/>
                    </a:lnTo>
                    <a:lnTo>
                      <a:pt x="58" y="185"/>
                    </a:lnTo>
                    <a:lnTo>
                      <a:pt x="49" y="191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1120" y="2495520"/>
                <a:ext cx="963720" cy="303120"/>
              </a:xfrm>
              <a:custGeom>
                <a:avLst/>
                <a:gdLst/>
                <a:ahLst/>
                <a:rect l="l" t="t" r="r" b="b"/>
                <a:pathLst>
                  <a:path w="607" h="191">
                    <a:moveTo>
                      <a:pt x="607" y="91"/>
                    </a:moveTo>
                    <a:lnTo>
                      <a:pt x="554" y="191"/>
                    </a:lnTo>
                    <a:lnTo>
                      <a:pt x="0" y="191"/>
                    </a:lnTo>
                    <a:lnTo>
                      <a:pt x="5" y="184"/>
                    </a:lnTo>
                    <a:lnTo>
                      <a:pt x="548" y="184"/>
                    </a:lnTo>
                    <a:lnTo>
                      <a:pt x="597" y="91"/>
                    </a:lnTo>
                    <a:lnTo>
                      <a:pt x="549" y="6"/>
                    </a:lnTo>
                    <a:lnTo>
                      <a:pt x="558" y="0"/>
                    </a:lnTo>
                    <a:lnTo>
                      <a:pt x="607" y="91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22360" y="2451240"/>
              <a:ext cx="1157400" cy="140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6480" y="2390760"/>
              <a:ext cx="903600" cy="1584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50840" y="3206880"/>
              <a:ext cx="30240" cy="1446120"/>
            </a:xfrm>
            <a:custGeom>
              <a:avLst/>
              <a:gdLst/>
              <a:ahLst/>
              <a:rect l="l" t="t" r="r" b="b"/>
              <a:pathLst>
                <a:path w="19" h="911">
                  <a:moveTo>
                    <a:pt x="19" y="0"/>
                  </a:moveTo>
                  <a:lnTo>
                    <a:pt x="18" y="911"/>
                  </a:lnTo>
                  <a:lnTo>
                    <a:pt x="2" y="897"/>
                  </a:lnTo>
                  <a:lnTo>
                    <a:pt x="0" y="2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17520" y="3245040"/>
              <a:ext cx="27000" cy="1411200"/>
            </a:xfrm>
            <a:custGeom>
              <a:avLst/>
              <a:gdLst/>
              <a:ahLst/>
              <a:rect l="l" t="t" r="r" b="b"/>
              <a:pathLst>
                <a:path w="17" h="889">
                  <a:moveTo>
                    <a:pt x="14" y="0"/>
                  </a:moveTo>
                  <a:lnTo>
                    <a:pt x="17" y="874"/>
                  </a:lnTo>
                  <a:lnTo>
                    <a:pt x="2" y="889"/>
                  </a:lnTo>
                  <a:lnTo>
                    <a:pt x="0" y="7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0560" y="2840040"/>
              <a:ext cx="1163880" cy="1876320"/>
              <a:chOff x="520560" y="2840040"/>
              <a:chExt cx="1163880" cy="1876320"/>
            </a:xfrm>
          </p:grpSpPr>
          <p:sp>
            <p:nvSpPr>
              <p:cNvPr id="180" name=""/>
              <p:cNvSpPr/>
              <p:nvPr/>
            </p:nvSpPr>
            <p:spPr>
              <a:xfrm>
                <a:off x="520560" y="2840040"/>
                <a:ext cx="1163880" cy="34920"/>
              </a:xfrm>
              <a:prstGeom prst="rect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8880" y="3014640"/>
                <a:ext cx="711360" cy="31680"/>
              </a:xfrm>
              <a:prstGeom prst="rect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50920" y="3247920"/>
                <a:ext cx="88920" cy="1468440"/>
              </a:xfrm>
              <a:custGeom>
                <a:avLst/>
                <a:gdLst/>
                <a:ahLst/>
                <a:rect l="l" t="t" r="r" b="b"/>
                <a:pathLst>
                  <a:path w="56" h="925">
                    <a:moveTo>
                      <a:pt x="56" y="0"/>
                    </a:moveTo>
                    <a:lnTo>
                      <a:pt x="43" y="60"/>
                    </a:lnTo>
                    <a:lnTo>
                      <a:pt x="21" y="112"/>
                    </a:lnTo>
                    <a:lnTo>
                      <a:pt x="21" y="908"/>
                    </a:lnTo>
                    <a:lnTo>
                      <a:pt x="4" y="925"/>
                    </a:lnTo>
                    <a:lnTo>
                      <a:pt x="0" y="97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640" y="3193920"/>
                <a:ext cx="620640" cy="220680"/>
              </a:xfrm>
              <a:custGeom>
                <a:avLst/>
                <a:gdLst/>
                <a:ahLst/>
                <a:rect l="l" t="t" r="r" b="b"/>
                <a:pathLst>
                  <a:path w="391" h="139">
                    <a:moveTo>
                      <a:pt x="66" y="139"/>
                    </a:moveTo>
                    <a:lnTo>
                      <a:pt x="40" y="108"/>
                    </a:lnTo>
                    <a:lnTo>
                      <a:pt x="40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391" y="0"/>
                    </a:lnTo>
                    <a:lnTo>
                      <a:pt x="381" y="16"/>
                    </a:lnTo>
                    <a:lnTo>
                      <a:pt x="170" y="16"/>
                    </a:lnTo>
                    <a:lnTo>
                      <a:pt x="152" y="42"/>
                    </a:lnTo>
                    <a:lnTo>
                      <a:pt x="74" y="42"/>
                    </a:lnTo>
                    <a:lnTo>
                      <a:pt x="66" y="139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54120" y="2913120"/>
                <a:ext cx="917640" cy="30240"/>
              </a:xfrm>
              <a:custGeom>
                <a:avLst/>
                <a:gdLst/>
                <a:ahLst/>
                <a:rect l="l" t="t" r="r" b="b"/>
                <a:pathLst>
                  <a:path w="578" h="19">
                    <a:moveTo>
                      <a:pt x="0" y="1"/>
                    </a:moveTo>
                    <a:lnTo>
                      <a:pt x="578" y="0"/>
                    </a:lnTo>
                    <a:lnTo>
                      <a:pt x="572" y="18"/>
                    </a:lnTo>
                    <a:lnTo>
                      <a:pt x="5" y="1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048120" y="137160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4864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523880"/>
            <a:ext cx="4800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523880"/>
            <a:ext cx="4800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1523880"/>
            <a:ext cx="4800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15238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1600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236232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449568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3048120"/>
            <a:ext cx="6858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1240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05640" y="46864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01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72428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4724280"/>
            <a:ext cx="1371600" cy="304920"/>
          </a:xfrm>
          <a:prstGeom prst="lef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10200" y="222876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9716600">
            <a:off x="3809880" y="2666520"/>
            <a:ext cx="38124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5880" y="320040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1828800"/>
            <a:ext cx="2438280" cy="304920"/>
          </a:xfrm>
          <a:prstGeom prst="leftArrow">
            <a:avLst>
              <a:gd name="adj1" fmla="val 50000"/>
              <a:gd name="adj2" fmla="val 1999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511600">
            <a:off x="4876560" y="289512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99760" y="3493080"/>
            <a:ext cx="3077280" cy="1272960"/>
            <a:chOff x="3299760" y="3493080"/>
            <a:chExt cx="3077280" cy="1272960"/>
          </a:xfrm>
        </p:grpSpPr>
        <p:sp>
          <p:nvSpPr>
            <p:cNvPr id="210" name=""/>
            <p:cNvSpPr/>
            <p:nvPr/>
          </p:nvSpPr>
          <p:spPr>
            <a:xfrm rot="21138600">
              <a:off x="4619520" y="3832560"/>
              <a:ext cx="1717560" cy="649800"/>
            </a:xfrm>
            <a:custGeom>
              <a:avLst/>
              <a:gdLst/>
              <a:ahLst/>
              <a:rect l="l" t="t" r="r" b="b"/>
              <a:pathLst>
                <a:path w="951" h="606">
                  <a:moveTo>
                    <a:pt x="951" y="606"/>
                  </a:moveTo>
                  <a:lnTo>
                    <a:pt x="951" y="562"/>
                  </a:lnTo>
                  <a:lnTo>
                    <a:pt x="882" y="550"/>
                  </a:lnTo>
                  <a:lnTo>
                    <a:pt x="820" y="535"/>
                  </a:lnTo>
                  <a:lnTo>
                    <a:pt x="763" y="517"/>
                  </a:lnTo>
                  <a:lnTo>
                    <a:pt x="704" y="499"/>
                  </a:lnTo>
                  <a:lnTo>
                    <a:pt x="654" y="481"/>
                  </a:lnTo>
                  <a:lnTo>
                    <a:pt x="612" y="463"/>
                  </a:lnTo>
                  <a:lnTo>
                    <a:pt x="573" y="446"/>
                  </a:lnTo>
                  <a:lnTo>
                    <a:pt x="528" y="426"/>
                  </a:lnTo>
                  <a:lnTo>
                    <a:pt x="489" y="402"/>
                  </a:lnTo>
                  <a:lnTo>
                    <a:pt x="444" y="372"/>
                  </a:lnTo>
                  <a:lnTo>
                    <a:pt x="408" y="345"/>
                  </a:lnTo>
                  <a:lnTo>
                    <a:pt x="372" y="318"/>
                  </a:lnTo>
                  <a:lnTo>
                    <a:pt x="339" y="288"/>
                  </a:lnTo>
                  <a:lnTo>
                    <a:pt x="297" y="252"/>
                  </a:lnTo>
                  <a:lnTo>
                    <a:pt x="252" y="210"/>
                  </a:lnTo>
                  <a:lnTo>
                    <a:pt x="226" y="180"/>
                  </a:lnTo>
                  <a:lnTo>
                    <a:pt x="199" y="148"/>
                  </a:lnTo>
                  <a:lnTo>
                    <a:pt x="172" y="118"/>
                  </a:lnTo>
                  <a:lnTo>
                    <a:pt x="148" y="87"/>
                  </a:lnTo>
                  <a:lnTo>
                    <a:pt x="118" y="39"/>
                  </a:lnTo>
                  <a:lnTo>
                    <a:pt x="100" y="0"/>
                  </a:lnTo>
                  <a:lnTo>
                    <a:pt x="0" y="12"/>
                  </a:lnTo>
                  <a:lnTo>
                    <a:pt x="33" y="78"/>
                  </a:lnTo>
                  <a:lnTo>
                    <a:pt x="82" y="148"/>
                  </a:lnTo>
                  <a:lnTo>
                    <a:pt x="133" y="207"/>
                  </a:lnTo>
                  <a:lnTo>
                    <a:pt x="199" y="270"/>
                  </a:lnTo>
                  <a:lnTo>
                    <a:pt x="288" y="360"/>
                  </a:lnTo>
                  <a:lnTo>
                    <a:pt x="387" y="435"/>
                  </a:lnTo>
                  <a:lnTo>
                    <a:pt x="492" y="499"/>
                  </a:lnTo>
                  <a:lnTo>
                    <a:pt x="585" y="538"/>
                  </a:lnTo>
                  <a:lnTo>
                    <a:pt x="701" y="577"/>
                  </a:lnTo>
                  <a:lnTo>
                    <a:pt x="796" y="592"/>
                  </a:lnTo>
                  <a:lnTo>
                    <a:pt x="951" y="60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1138600">
              <a:off x="3326760" y="3722760"/>
              <a:ext cx="890280" cy="466200"/>
            </a:xfrm>
            <a:custGeom>
              <a:avLst/>
              <a:gdLst/>
              <a:ahLst/>
              <a:rect l="l" t="t" r="r" b="b"/>
              <a:pathLst>
                <a:path w="493" h="435">
                  <a:moveTo>
                    <a:pt x="493" y="98"/>
                  </a:moveTo>
                  <a:lnTo>
                    <a:pt x="493" y="0"/>
                  </a:lnTo>
                  <a:lnTo>
                    <a:pt x="473" y="25"/>
                  </a:lnTo>
                  <a:lnTo>
                    <a:pt x="451" y="51"/>
                  </a:lnTo>
                  <a:lnTo>
                    <a:pt x="422" y="78"/>
                  </a:lnTo>
                  <a:lnTo>
                    <a:pt x="386" y="109"/>
                  </a:lnTo>
                  <a:lnTo>
                    <a:pt x="351" y="143"/>
                  </a:lnTo>
                  <a:lnTo>
                    <a:pt x="315" y="175"/>
                  </a:lnTo>
                  <a:lnTo>
                    <a:pt x="282" y="202"/>
                  </a:lnTo>
                  <a:lnTo>
                    <a:pt x="252" y="226"/>
                  </a:lnTo>
                  <a:lnTo>
                    <a:pt x="219" y="248"/>
                  </a:lnTo>
                  <a:lnTo>
                    <a:pt x="185" y="270"/>
                  </a:lnTo>
                  <a:lnTo>
                    <a:pt x="145" y="293"/>
                  </a:lnTo>
                  <a:lnTo>
                    <a:pt x="108" y="311"/>
                  </a:lnTo>
                  <a:lnTo>
                    <a:pt x="70" y="327"/>
                  </a:lnTo>
                  <a:lnTo>
                    <a:pt x="30" y="344"/>
                  </a:lnTo>
                  <a:lnTo>
                    <a:pt x="0" y="358"/>
                  </a:lnTo>
                  <a:lnTo>
                    <a:pt x="0" y="435"/>
                  </a:lnTo>
                  <a:lnTo>
                    <a:pt x="54" y="419"/>
                  </a:lnTo>
                  <a:lnTo>
                    <a:pt x="133" y="385"/>
                  </a:lnTo>
                  <a:lnTo>
                    <a:pt x="234" y="342"/>
                  </a:lnTo>
                  <a:lnTo>
                    <a:pt x="308" y="296"/>
                  </a:lnTo>
                  <a:lnTo>
                    <a:pt x="376" y="230"/>
                  </a:lnTo>
                  <a:lnTo>
                    <a:pt x="443" y="175"/>
                  </a:lnTo>
                  <a:lnTo>
                    <a:pt x="493" y="122"/>
                  </a:lnTo>
                  <a:lnTo>
                    <a:pt x="493" y="1"/>
                  </a:lnTo>
                  <a:lnTo>
                    <a:pt x="493" y="3"/>
                  </a:lnTo>
                  <a:lnTo>
                    <a:pt x="493" y="9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1138600">
              <a:off x="4200480" y="3592800"/>
              <a:ext cx="1063800" cy="2894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589" y="270"/>
                  </a:moveTo>
                  <a:lnTo>
                    <a:pt x="589" y="187"/>
                  </a:lnTo>
                  <a:lnTo>
                    <a:pt x="551" y="180"/>
                  </a:lnTo>
                  <a:lnTo>
                    <a:pt x="512" y="173"/>
                  </a:lnTo>
                  <a:lnTo>
                    <a:pt x="475" y="164"/>
                  </a:lnTo>
                  <a:lnTo>
                    <a:pt x="437" y="155"/>
                  </a:lnTo>
                  <a:lnTo>
                    <a:pt x="393" y="144"/>
                  </a:lnTo>
                  <a:lnTo>
                    <a:pt x="345" y="132"/>
                  </a:lnTo>
                  <a:lnTo>
                    <a:pt x="285" y="114"/>
                  </a:lnTo>
                  <a:lnTo>
                    <a:pt x="227" y="97"/>
                  </a:lnTo>
                  <a:lnTo>
                    <a:pt x="189" y="85"/>
                  </a:lnTo>
                  <a:lnTo>
                    <a:pt x="144" y="68"/>
                  </a:lnTo>
                  <a:lnTo>
                    <a:pt x="95" y="47"/>
                  </a:lnTo>
                  <a:lnTo>
                    <a:pt x="51" y="27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37" y="129"/>
                  </a:lnTo>
                  <a:lnTo>
                    <a:pt x="111" y="165"/>
                  </a:lnTo>
                  <a:lnTo>
                    <a:pt x="197" y="201"/>
                  </a:lnTo>
                  <a:lnTo>
                    <a:pt x="274" y="221"/>
                  </a:lnTo>
                  <a:lnTo>
                    <a:pt x="363" y="246"/>
                  </a:lnTo>
                  <a:lnTo>
                    <a:pt x="452" y="263"/>
                  </a:lnTo>
                  <a:lnTo>
                    <a:pt x="515" y="269"/>
                  </a:lnTo>
                  <a:lnTo>
                    <a:pt x="589" y="27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1138600">
              <a:off x="3359880" y="3687480"/>
              <a:ext cx="2971440" cy="883440"/>
            </a:xfrm>
            <a:custGeom>
              <a:avLst/>
              <a:gdLst/>
              <a:ahLst/>
              <a:rect l="l" t="t" r="r" b="b"/>
              <a:pathLst>
                <a:path w="1645" h="824">
                  <a:moveTo>
                    <a:pt x="1645" y="817"/>
                  </a:moveTo>
                  <a:lnTo>
                    <a:pt x="1554" y="824"/>
                  </a:lnTo>
                  <a:lnTo>
                    <a:pt x="1510" y="824"/>
                  </a:lnTo>
                  <a:lnTo>
                    <a:pt x="1456" y="824"/>
                  </a:lnTo>
                  <a:lnTo>
                    <a:pt x="1405" y="820"/>
                  </a:lnTo>
                  <a:lnTo>
                    <a:pt x="1354" y="817"/>
                  </a:lnTo>
                  <a:lnTo>
                    <a:pt x="1304" y="811"/>
                  </a:lnTo>
                  <a:lnTo>
                    <a:pt x="1259" y="803"/>
                  </a:lnTo>
                  <a:lnTo>
                    <a:pt x="1209" y="794"/>
                  </a:lnTo>
                  <a:lnTo>
                    <a:pt x="1149" y="779"/>
                  </a:lnTo>
                  <a:lnTo>
                    <a:pt x="1095" y="761"/>
                  </a:lnTo>
                  <a:lnTo>
                    <a:pt x="1044" y="746"/>
                  </a:lnTo>
                  <a:lnTo>
                    <a:pt x="987" y="725"/>
                  </a:lnTo>
                  <a:lnTo>
                    <a:pt x="933" y="701"/>
                  </a:lnTo>
                  <a:lnTo>
                    <a:pt x="879" y="677"/>
                  </a:lnTo>
                  <a:lnTo>
                    <a:pt x="834" y="654"/>
                  </a:lnTo>
                  <a:lnTo>
                    <a:pt x="783" y="630"/>
                  </a:lnTo>
                  <a:lnTo>
                    <a:pt x="740" y="607"/>
                  </a:lnTo>
                  <a:lnTo>
                    <a:pt x="692" y="580"/>
                  </a:lnTo>
                  <a:lnTo>
                    <a:pt x="644" y="553"/>
                  </a:lnTo>
                  <a:lnTo>
                    <a:pt x="596" y="520"/>
                  </a:lnTo>
                  <a:lnTo>
                    <a:pt x="554" y="493"/>
                  </a:lnTo>
                  <a:lnTo>
                    <a:pt x="509" y="457"/>
                  </a:lnTo>
                  <a:lnTo>
                    <a:pt x="467" y="424"/>
                  </a:lnTo>
                  <a:lnTo>
                    <a:pt x="428" y="391"/>
                  </a:lnTo>
                  <a:lnTo>
                    <a:pt x="396" y="355"/>
                  </a:lnTo>
                  <a:lnTo>
                    <a:pt x="369" y="324"/>
                  </a:lnTo>
                  <a:lnTo>
                    <a:pt x="348" y="291"/>
                  </a:lnTo>
                  <a:lnTo>
                    <a:pt x="0" y="336"/>
                  </a:lnTo>
                  <a:lnTo>
                    <a:pt x="49" y="312"/>
                  </a:lnTo>
                  <a:lnTo>
                    <a:pt x="106" y="288"/>
                  </a:lnTo>
                  <a:lnTo>
                    <a:pt x="151" y="267"/>
                  </a:lnTo>
                  <a:lnTo>
                    <a:pt x="185" y="251"/>
                  </a:lnTo>
                  <a:lnTo>
                    <a:pt x="222" y="231"/>
                  </a:lnTo>
                  <a:lnTo>
                    <a:pt x="252" y="213"/>
                  </a:lnTo>
                  <a:lnTo>
                    <a:pt x="281" y="194"/>
                  </a:lnTo>
                  <a:lnTo>
                    <a:pt x="307" y="171"/>
                  </a:lnTo>
                  <a:lnTo>
                    <a:pt x="338" y="148"/>
                  </a:lnTo>
                  <a:lnTo>
                    <a:pt x="372" y="119"/>
                  </a:lnTo>
                  <a:lnTo>
                    <a:pt x="405" y="88"/>
                  </a:lnTo>
                  <a:lnTo>
                    <a:pt x="434" y="62"/>
                  </a:lnTo>
                  <a:lnTo>
                    <a:pt x="469" y="30"/>
                  </a:lnTo>
                  <a:lnTo>
                    <a:pt x="494" y="0"/>
                  </a:lnTo>
                  <a:lnTo>
                    <a:pt x="521" y="13"/>
                  </a:lnTo>
                  <a:lnTo>
                    <a:pt x="548" y="28"/>
                  </a:lnTo>
                  <a:lnTo>
                    <a:pt x="577" y="41"/>
                  </a:lnTo>
                  <a:lnTo>
                    <a:pt x="611" y="55"/>
                  </a:lnTo>
                  <a:lnTo>
                    <a:pt x="646" y="69"/>
                  </a:lnTo>
                  <a:lnTo>
                    <a:pt x="678" y="80"/>
                  </a:lnTo>
                  <a:lnTo>
                    <a:pt x="709" y="89"/>
                  </a:lnTo>
                  <a:lnTo>
                    <a:pt x="744" y="100"/>
                  </a:lnTo>
                  <a:lnTo>
                    <a:pt x="781" y="109"/>
                  </a:lnTo>
                  <a:lnTo>
                    <a:pt x="819" y="119"/>
                  </a:lnTo>
                  <a:lnTo>
                    <a:pt x="854" y="128"/>
                  </a:lnTo>
                  <a:lnTo>
                    <a:pt x="888" y="137"/>
                  </a:lnTo>
                  <a:lnTo>
                    <a:pt x="925" y="143"/>
                  </a:lnTo>
                  <a:lnTo>
                    <a:pt x="960" y="151"/>
                  </a:lnTo>
                  <a:lnTo>
                    <a:pt x="993" y="158"/>
                  </a:lnTo>
                  <a:lnTo>
                    <a:pt x="1032" y="166"/>
                  </a:lnTo>
                  <a:lnTo>
                    <a:pt x="1085" y="172"/>
                  </a:lnTo>
                  <a:lnTo>
                    <a:pt x="725" y="234"/>
                  </a:lnTo>
                  <a:lnTo>
                    <a:pt x="749" y="282"/>
                  </a:lnTo>
                  <a:lnTo>
                    <a:pt x="777" y="318"/>
                  </a:lnTo>
                  <a:lnTo>
                    <a:pt x="828" y="385"/>
                  </a:lnTo>
                  <a:lnTo>
                    <a:pt x="858" y="415"/>
                  </a:lnTo>
                  <a:lnTo>
                    <a:pt x="888" y="445"/>
                  </a:lnTo>
                  <a:lnTo>
                    <a:pt x="942" y="496"/>
                  </a:lnTo>
                  <a:lnTo>
                    <a:pt x="975" y="526"/>
                  </a:lnTo>
                  <a:lnTo>
                    <a:pt x="1014" y="562"/>
                  </a:lnTo>
                  <a:lnTo>
                    <a:pt x="1050" y="589"/>
                  </a:lnTo>
                  <a:lnTo>
                    <a:pt x="1080" y="613"/>
                  </a:lnTo>
                  <a:lnTo>
                    <a:pt x="1110" y="636"/>
                  </a:lnTo>
                  <a:lnTo>
                    <a:pt x="1146" y="659"/>
                  </a:lnTo>
                  <a:lnTo>
                    <a:pt x="1185" y="683"/>
                  </a:lnTo>
                  <a:lnTo>
                    <a:pt x="1224" y="701"/>
                  </a:lnTo>
                  <a:lnTo>
                    <a:pt x="1262" y="722"/>
                  </a:lnTo>
                  <a:lnTo>
                    <a:pt x="1310" y="740"/>
                  </a:lnTo>
                  <a:lnTo>
                    <a:pt x="1354" y="755"/>
                  </a:lnTo>
                  <a:lnTo>
                    <a:pt x="1405" y="767"/>
                  </a:lnTo>
                  <a:lnTo>
                    <a:pt x="1453" y="779"/>
                  </a:lnTo>
                  <a:lnTo>
                    <a:pt x="1504" y="791"/>
                  </a:lnTo>
                  <a:lnTo>
                    <a:pt x="1557" y="800"/>
                  </a:lnTo>
                  <a:lnTo>
                    <a:pt x="1645" y="81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86040" y="45684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形象 – 最重要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信赖的和受人尊敬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视觉技巧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身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眼睛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眼睛向前看着观众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信赖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频繁移动眼球，不要只盯着角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要太多的看电脑屏幕和你的笔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听众的脸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眼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每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随便的移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点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面部的表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身体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2590920"/>
            <a:ext cx="47242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的时候站立起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周走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正式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摆、晃动、倾斜太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是我不擅长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讲技巧很难掌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说话有口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手势帮助演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应该自然而然，不要经过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确保手势相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要时需要夸张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别是听众很多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坐立不安或者将手放到口袋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视觉技巧 – 表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达感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多数时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非常关心这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真的很相信这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喜欢我的工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响应问题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我无法忍受的，我从没听说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于这样的情况，我无话可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62520" y="609480"/>
            <a:ext cx="472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室内的目光交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2286000"/>
            <a:ext cx="723888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讲话前看着某一个听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个体，而不是看整个集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段或一句话结束时，与会场中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保持几秒钟的目光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听众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62520" y="304920"/>
            <a:ext cx="541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表现你的情绪与感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2666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真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5257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坚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感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1371600" cy="162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867280" y="1220760"/>
            <a:ext cx="1981440" cy="1327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581280" y="2133720"/>
            <a:ext cx="1219320" cy="17017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295280" y="3657600"/>
            <a:ext cx="1219320" cy="154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1295280" y="1066680"/>
            <a:ext cx="10670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57200" y="5562720"/>
            <a:ext cx="5486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1371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生动的演讲要求演讲者聚精会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  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14920" y="2057400"/>
            <a:ext cx="2309760" cy="3176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7848720" y="1371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772400" y="19047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162920" y="15998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924680" y="1981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648320" y="251424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4956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95320" y="3581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0212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4435560"/>
            <a:ext cx="693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容（故事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中信息（话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达（传递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集中精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880" y="15494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精力集中于如何改善效果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368316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置讲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运用视觉效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效运用身体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时准备应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26416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6924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  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081760" y="2082960"/>
            <a:ext cx="2309760" cy="3176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7315200" y="25398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238880" y="1929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629400" y="162576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91520" y="314928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800" y="25398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520" y="3073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62160" y="3606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5880" y="380880"/>
            <a:ext cx="266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布置讲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5416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2465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855800"/>
            <a:ext cx="63248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间的合理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响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备到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屏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投影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笔、教鞭、粉笔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排足够的座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9880" y="380880"/>
            <a:ext cx="533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、练习、再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1981080"/>
            <a:ext cx="601992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现场布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前亲临现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设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悉讲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如何表达，尤其着重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言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多了后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再需要录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个新的主题仍需演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带上笔记，如果你不自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逃避演讲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借口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没有啥可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会在朋友、家人、同事、商业伙伴面前出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得了喉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没有时间准备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在别人眼中形象不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没有人能听懂我的口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太紧张了，我怕得要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刚刚做了补牙手术，嘴唇现在还麻着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会忘记我要讲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稿件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19360" y="6854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任何人都可以学会演讲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1981080"/>
            <a:ext cx="7696080" cy="22100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演讲的时候记住要充满激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否则不要演讲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68580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简单的词汇，语言清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63868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聚焦你的声音在关键点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5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候沉默是有效的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15000" y="5331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充分准备每份讲稿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2209680"/>
            <a:ext cx="7238880" cy="251460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告诉大家你的主要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结你演讲的内容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63832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人问“你在演讲什么？”时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告诉他一个清晰的中心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0552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9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开场白要引人入胜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81120" y="3045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幻灯片要简洁、清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8672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209680"/>
            <a:ext cx="74674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只是从头到尾低头念幻灯片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2209680"/>
            <a:ext cx="76960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#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你的自动演示部分按顺序事先排列好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反复演练每个讲稿两遍以上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562720" y="2282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给每张幻灯片事先设定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27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#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准备好手稿，以备万一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0552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6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保持清醒的状态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演讲之前喝三杯咖啡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638680" y="30456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7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隐藏紧张情绪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8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不同场合度身定制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146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19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记住几倍于演讲的内容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2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幽默和互动不能脱离主题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且事先周密计划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调查背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你被邀请时，需了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属于你的时间有多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是你不熟悉的主题，最好回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众的构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旦你答应了，就应该认真准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257800" y="3045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种秘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2209680"/>
            <a:ext cx="7238880" cy="198144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#21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Q&amp;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更好的帮助你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7920" y="2742840"/>
            <a:ext cx="44956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讲演是容易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它只需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点激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许多的练习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06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b0601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257800" y="7621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有效地沟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正确地回应对方的话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注意沟通过程的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注意倾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话语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理解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b0c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Arial"/>
                <a:ea typeface="黑体"/>
              </a:rPr>
              <a:t>如同身受的水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经常不断地确认沟通的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b0c17"/>
                </a:solidFill>
                <a:latin typeface="Arial"/>
                <a:ea typeface="黑体"/>
              </a:rPr>
              <a:t>表达出让人印象深刻的沟通话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E02097_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00528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禁忌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不良的口头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用过多的专业术语或夹杂英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只顾表达自己的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用威胁的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易受干扰的环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忽略了确认不了的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只听自己想要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BD07304_" descr=""/>
          <p:cNvPicPr/>
          <p:nvPr/>
        </p:nvPicPr>
        <p:blipFill>
          <a:blip r:embed="rId1"/>
          <a:stretch/>
        </p:blipFill>
        <p:spPr>
          <a:xfrm>
            <a:off x="6324480" y="1843200"/>
            <a:ext cx="2590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有那些准备工作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BD06639_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18414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前的准备步骤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①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心里明确您沟通的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②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收集沟通对象的资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③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决定沟通的场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④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准备沟通进行的程度与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⑤</a:t>
            </a: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做出沟通计划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BD04912_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24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企业内的沟通准则及方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企业内沟通三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迅速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正确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容易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DD01352_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163044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38480" y="609480"/>
            <a:ext cx="4191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沟通三个要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440" y="2682720"/>
            <a:ext cx="55674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从整体大方向开始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确认对方理解的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b0c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b0c17"/>
                </a:solidFill>
                <a:latin typeface="Arial"/>
                <a:ea typeface="黑体"/>
              </a:rPr>
              <a:t>完整不遗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DD01352_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630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343040" y="3045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企业内沟通文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7560" y="2133360"/>
            <a:ext cx="2895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电话留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策划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81120" y="7646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准备你的稿件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是准备若干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准备的内容包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背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何组织报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作幻灯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反复演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分钟备忘录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895480" y="1523880"/>
            <a:ext cx="434340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报告对象</a:t>
            </a:r>
            <a:r>
              <a:rPr b="0" lang="zh-CN" sz="22900" spc="-1" strike="noStrike">
                <a:solidFill>
                  <a:srgbClr val="ff3300"/>
                </a:solidFill>
                <a:latin typeface="Ruach LET"/>
                <a:ea typeface="黑体"/>
              </a:rPr>
              <a:t>?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752480" y="3200400"/>
            <a:ext cx="6782040" cy="243828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2868480" y="4680"/>
            <a:ext cx="16624080" cy="76323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报告对象：直接上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注意：切忌越级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ahoma"/>
                <a:ea typeface="黑体"/>
              </a:rPr>
              <a:t>除非直接上级指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066680" y="167652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在什么时机报告合适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E01931_" descr=""/>
          <p:cNvPicPr/>
          <p:nvPr/>
        </p:nvPicPr>
        <p:blipFill>
          <a:blip r:embed="rId1"/>
          <a:stretch/>
        </p:blipFill>
        <p:spPr>
          <a:xfrm>
            <a:off x="2057400" y="2719440"/>
            <a:ext cx="38862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2057400"/>
            <a:ext cx="746748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一、做好计划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了解计划的内容，籍此请主管确认一些重要事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请主管指示和审核计划，并认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E01561_" descr=""/>
          <p:cNvPicPr/>
          <p:nvPr/>
        </p:nvPicPr>
        <p:blipFill>
          <a:blip r:embed="rId1"/>
          <a:stretch/>
        </p:blipFill>
        <p:spPr>
          <a:xfrm>
            <a:off x="6013440" y="3962520"/>
            <a:ext cx="30542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90720" y="1752480"/>
            <a:ext cx="746748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二、中间报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了解您的工作进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让主管知道您在干什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BD07153_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2900520" cy="31734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990720" y="1752480"/>
            <a:ext cx="74674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三、紧急报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发生可能影响目标的实现的重大问题和突发事件时，应及时向主管报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E01605_" descr=""/>
          <p:cNvPicPr/>
          <p:nvPr/>
        </p:nvPicPr>
        <p:blipFill>
          <a:blip r:embed="rId1"/>
          <a:stretch/>
        </p:blipFill>
        <p:spPr>
          <a:xfrm>
            <a:off x="1600200" y="3962520"/>
            <a:ext cx="3276720" cy="2116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90720" y="1752480"/>
            <a:ext cx="746748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四、工作结束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主要作用和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工作终了时一定要向主管报告，让主管及时知道工作完成是您工作成效得到确认重要步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、保证工作的有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D06675_" descr=""/>
          <p:cNvPicPr/>
          <p:nvPr/>
        </p:nvPicPr>
        <p:blipFill>
          <a:blip r:embed="rId1"/>
          <a:stretch/>
        </p:blipFill>
        <p:spPr>
          <a:xfrm>
            <a:off x="6629400" y="3657600"/>
            <a:ext cx="2009880" cy="2486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191120" y="6094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305c7"/>
                </a:solidFill>
                <a:latin typeface="Tahoma"/>
                <a:ea typeface="黑体"/>
              </a:rPr>
              <a:t>您可以报告时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43000" y="17524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ahoma"/>
                <a:ea typeface="黑体"/>
              </a:rPr>
              <a:t>如何报告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E01616_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697200" cy="3468600"/>
          </a:xfrm>
          <a:prstGeom prst="rect">
            <a:avLst/>
          </a:prstGeom>
          <a:ln w="0">
            <a:noFill/>
          </a:ln>
        </p:spPr>
      </p:pic>
      <p:pic>
        <p:nvPicPr>
          <p:cNvPr id="356" name="BD00028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12189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243828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口头报告的原则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447920" y="1981080"/>
            <a:ext cx="6781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先说结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简洁、正确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要事实不要臆测，误导是要负责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不要遗漏重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、成功、失败要明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05320" y="762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口头报告的原则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DD01352_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2011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57600" y="228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个明确的中心意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不可能记住全部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个清晰的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希望人们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月后记住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的答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演讲的主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程中重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295280" y="2971800"/>
            <a:ext cx="7239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书面报告原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28800" y="2133720"/>
            <a:ext cx="6705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谴词用语要简单易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标题清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尽量用图表、数字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报告顺序要合逻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利用添附资料说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D01352_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0113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报告的技巧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73152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t Short and Simp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报告的内容要简明扼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t Large and Legibl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幻灯片要大而清晰易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4304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何有效的报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有效的报告应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D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  (Planning)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  (Organiz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组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  (Develop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(Deliverin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)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144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6W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1981080"/>
            <a:ext cx="4800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事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AT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时候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EN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在那里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ERE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对象是谁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O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什么目的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Y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那些选择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WHICH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W3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38080" y="1447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1981080"/>
            <a:ext cx="4800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怎样办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W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多少数量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W MANY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、费用如何？（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HOE MUCH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533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W3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14440" y="4568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主要内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5791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演讲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告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666880" y="2971800"/>
            <a:ext cx="327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大家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04:47:05Z</dcterms:created>
  <dc:creator>k7</dc:creator>
  <dc:description/>
  <dc:language>en-US</dc:language>
  <cp:lastModifiedBy>Hewenrui</cp:lastModifiedBy>
  <dcterms:modified xsi:type="dcterms:W3CDTF">2003-07-30T01:41:50Z</dcterms:modified>
  <cp:revision>181</cp:revision>
  <dc:subject/>
  <dc:title>PowerPoint 演示文稿</dc:title>
</cp:coreProperties>
</file>