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eorgi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eorgi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eorgi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eorgi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eorgi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eorgi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2A9C-2216-496B-A037-AA48A1F697E0}" type="slidenum">
              <a:rPr b="0" lang="zh-CN" sz="1200" spc="-1" strike="noStrike">
                <a:solidFill>
                  <a:srgbClr val="000000"/>
                </a:solidFill>
                <a:latin typeface="Georgi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inu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赢得了大型数据库软件公司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rac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formi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gre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等的支持，使它适应于大、中型企业的信息系统建设，从而更具有竞争力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703A-ABE1-4717-9F3A-2BC6B7A2649E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/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528C-D1CE-4349-9713-7C6E07068834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590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宋体"/>
              </a:rPr>
              <a:t>Linux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宋体"/>
              </a:rPr>
              <a:t>操作系统基础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2742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开放源码的发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&amp;T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rkeley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行的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版本 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&amp;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rkele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诞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BSD 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系列的操作系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76240" y="1523880"/>
          <a:ext cx="7391520" cy="4543560"/>
        </p:xfrm>
        <a:graphic>
          <a:graphicData uri="http://schemas.openxmlformats.org/drawingml/2006/table">
            <a:tbl>
              <a:tblPr/>
              <a:tblGrid>
                <a:gridCol w="2781360"/>
                <a:gridCol w="4610160"/>
              </a:tblGrid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操作系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NetBS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在世界上最多的平台上运行的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Unix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操作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5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FreeBS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专注于实用领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OpenBS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专注于安全性和可靠性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Darw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Apple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的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BSD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操作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DragonflyBS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最新诞生的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BSD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分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的诞生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4610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芬兰赫尔辛基大学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s Torvald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个公开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0.0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版发布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1.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版发布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标志是可爱的企鹅，取自芬兰的吉祥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562720" y="1143000"/>
            <a:ext cx="1685880" cy="2247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1147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31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  <a:ea typeface="Times New Roman"/>
              </a:rPr>
              <a:t>GNU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与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  <a:ea typeface="Times New Roman"/>
              </a:rPr>
              <a:t>GPL/LGPL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6172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N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旨在消除对计算机软件拷贝、分发、修改的限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P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Public Licen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用公共许可证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GP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raray General Public Licen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程序库通用公共许可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现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GPL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的途径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6781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要求软件以源代码的形式发布，并规定，任何用户都能够以源代码的形式将软件复制或发布给别的用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提醒每个用户，对于该软件不提供任何形式的担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用户的软件使用了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P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护的任何软件的一部分，那么，该软件就继承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P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，并因此而成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P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软件，也就是说必须随应用程序一起发布源代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现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GPL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的途径（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438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P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不排斥对自由软件进行商业性质的包装和发行，也不限制在自由软件的基础上打包发行其它非自由软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的发展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赢得了大型数据库软件公司支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B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型机全面预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作系统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司也将推出自己的桌面发行版本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G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开发大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形工作站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球十大巨型机中，有四台在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作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版本号的命名规则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6514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内核版本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分组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版本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次版本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末版本号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038480" y="2819520"/>
          <a:ext cx="274320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819520"/>
                    <a:ext cx="274320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3048120" y="3657240"/>
            <a:ext cx="1828800" cy="1072440"/>
            <a:chOff x="3048120" y="3657240"/>
            <a:chExt cx="1828800" cy="1072440"/>
          </a:xfrm>
        </p:grpSpPr>
        <p:sp>
          <p:nvSpPr>
            <p:cNvPr id="141" name=""/>
            <p:cNvSpPr/>
            <p:nvPr/>
          </p:nvSpPr>
          <p:spPr>
            <a:xfrm flipV="1">
              <a:off x="4114800" y="3657240"/>
              <a:ext cx="60984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96040" y="365760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48120" y="4343400"/>
              <a:ext cx="15238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主版本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24440" y="4267080"/>
              <a:ext cx="1371600" cy="457200"/>
            </a:xfrm>
            <a:prstGeom prst="flowChartAlternateProcess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495680" y="3657600"/>
            <a:ext cx="1523880" cy="1910160"/>
            <a:chOff x="4495680" y="3657600"/>
            <a:chExt cx="1523880" cy="1910160"/>
          </a:xfrm>
        </p:grpSpPr>
        <p:sp>
          <p:nvSpPr>
            <p:cNvPr id="146" name=""/>
            <p:cNvSpPr/>
            <p:nvPr/>
          </p:nvSpPr>
          <p:spPr>
            <a:xfrm>
              <a:off x="5028840" y="365760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257440" y="3657600"/>
              <a:ext cx="0" cy="144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1640" y="5105520"/>
              <a:ext cx="1371600" cy="457200"/>
            </a:xfrm>
            <a:prstGeom prst="flowChartAlternateProcess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95680" y="5181480"/>
              <a:ext cx="15238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次版本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15000" y="3657240"/>
            <a:ext cx="1676520" cy="1072440"/>
            <a:chOff x="5715000" y="3657240"/>
            <a:chExt cx="1676520" cy="1072440"/>
          </a:xfrm>
        </p:grpSpPr>
        <p:sp>
          <p:nvSpPr>
            <p:cNvPr id="151" name=""/>
            <p:cNvSpPr/>
            <p:nvPr/>
          </p:nvSpPr>
          <p:spPr>
            <a:xfrm>
              <a:off x="5715000" y="365760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5943600" y="3657240"/>
              <a:ext cx="60984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43600" y="4267080"/>
              <a:ext cx="1371600" cy="457200"/>
            </a:xfrm>
            <a:prstGeom prst="flowChartAlternateProcess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67640" y="4343400"/>
              <a:ext cx="15238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末版本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l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内核的两种版本号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版本号的第二位数字，可以确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版本的类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发版本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位数字是奇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稳定版本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位数字是偶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3962520"/>
            <a:ext cx="1676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59280" y="3851280"/>
            <a:ext cx="214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2.5.7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8280" y="3851280"/>
            <a:ext cx="202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宋体"/>
              </a:rPr>
              <a:t>2.4.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5200" y="468648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奇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08240" y="468648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偶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4572000"/>
            <a:ext cx="3049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4572000"/>
            <a:ext cx="3049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内核版本发展图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6515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23880" y="1219320"/>
          <a:ext cx="5639040" cy="49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19320"/>
                    <a:ext cx="563904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sh dir="l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的基本知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安装的基本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使用的基本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管理的基本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内核版本发展图示（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）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3880" y="1143000"/>
          <a:ext cx="525780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525780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sh dir="l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著名的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的发行版本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90720" y="1523880"/>
          <a:ext cx="7277040" cy="3773520"/>
        </p:xfrm>
        <a:graphic>
          <a:graphicData uri="http://schemas.openxmlformats.org/drawingml/2006/table">
            <a:tbl>
              <a:tblPr/>
              <a:tblGrid>
                <a:gridCol w="2836800"/>
                <a:gridCol w="4440240"/>
              </a:tblGrid>
              <a:tr h="78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Linux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的发行版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RedHat Linu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易用，易维护 ，目前已成为最流行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Linux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发行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Novell/SuSE Linu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欧洲大陆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Linu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Debian Linu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目前唯一由非商业组织维护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Linux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发行版本，功能强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与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Windows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的功能比较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防火墙功能比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库方面比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/F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服务器方面比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邮件服务器方面比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录服务方面比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Arial Narrow"/>
              </a:rPr>
              <a:t>Linux</a:t>
            </a:r>
            <a:r>
              <a:rPr b="1" lang="zh-CN" sz="3200" spc="-1" strike="noStrike">
                <a:solidFill>
                  <a:srgbClr val="ffcf01"/>
                </a:solidFill>
                <a:latin typeface="Arial Narrow"/>
              </a:rPr>
              <a:t>与</a:t>
            </a:r>
            <a:r>
              <a:rPr b="1" lang="en-US" sz="3200" spc="-1" strike="noStrike">
                <a:solidFill>
                  <a:srgbClr val="ffcf01"/>
                </a:solidFill>
                <a:latin typeface="Arial Narrow"/>
              </a:rPr>
              <a:t>Windows</a:t>
            </a:r>
            <a:r>
              <a:rPr b="1" lang="zh-CN" sz="3200" spc="-1" strike="noStrike">
                <a:solidFill>
                  <a:srgbClr val="ffcf01"/>
                </a:solidFill>
                <a:latin typeface="Arial Narrow"/>
              </a:rPr>
              <a:t>的灵活性和易用性比较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的优缺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易用性方面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仍然处于优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灵活性方面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则占据上风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在对客户端软件和多媒体软件的支持方面，一直是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indows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的强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与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Windows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的具体特点比较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85800" y="1523880"/>
          <a:ext cx="7924680" cy="4648320"/>
        </p:xfrm>
        <a:graphic>
          <a:graphicData uri="http://schemas.openxmlformats.org/drawingml/2006/table">
            <a:tbl>
              <a:tblPr/>
              <a:tblGrid>
                <a:gridCol w="2003400"/>
                <a:gridCol w="3432240"/>
                <a:gridCol w="248904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特点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Windows 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  <a:ea typeface="宋体"/>
                        </a:rPr>
                        <a:t>Linu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安全性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一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稳定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很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软件支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很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硬件支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一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源代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保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开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系统可调节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基于界面的规范性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,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更易于调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具有极大的可调节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使用方便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非常方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方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版权限制和费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技术支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 Narrow"/>
                          <a:ea typeface="宋体"/>
                        </a:rPr>
                        <a:t>基于社团形式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-533520"/>
            <a:ext cx="7772400" cy="152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学习</a:t>
            </a:r>
            <a:r>
              <a:rPr b="1" lang="en-GB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意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掌握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</a:rPr>
              <a:t>IT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的方向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掌握方法 培养能力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开放与共赢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业界的支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相似性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6858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操作系统的源代码是公开和免费的，这一特点成为它迅速发展壮大的主要原因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目前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操作系统已经赢得了国际上众多大型软件公司的支持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要了解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操作系统的发展，首先要了解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操作系统的发展和开放源代码操作系统的发展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PL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的主要目标是保证软件对所有的用户来说是自由的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本章总结（</a:t>
            </a: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6553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的版本分为发行版本和内核版本，而内核版本又分为开发版本和稳定版本，开发版本和稳定版本是相互关联的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</a:rPr>
              <a:t>两个操作系统各有优缺点，两者也在很多情况下在互相借鉴，互相融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重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确认识和应用开放源代码软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管理员全面的控制和定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启动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主要应用程序文件的作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编辑习惯和约定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行参数的意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何编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批处理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重点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道的意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配置文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包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心文件的配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查看并分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日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启动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安全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内容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480" y="1676520"/>
          <a:ext cx="8229600" cy="3809880"/>
        </p:xfrm>
        <a:graphic>
          <a:graphicData uri="http://schemas.openxmlformats.org/drawingml/2006/table">
            <a:tbl>
              <a:tblPr/>
              <a:tblGrid>
                <a:gridCol w="1876680"/>
                <a:gridCol w="2085840"/>
                <a:gridCol w="1920960"/>
                <a:gridCol w="2346120"/>
              </a:tblGrid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Times New Roman"/>
                        </a:rPr>
                        <a:t>模块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Times New Roman"/>
                        </a:rPr>
                        <a:t>模块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Times New Roman"/>
                        </a:rPr>
                        <a:t>模块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Times New Roman"/>
                        </a:rPr>
                        <a:t>模块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297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inux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基础知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（第一章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Linux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系统安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（第二章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文本编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（第三章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常用命令与基本管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（第四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－第九章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p:transition spd="med">
    <p:push dir="l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宋体"/>
                <a:ea typeface="宋体"/>
              </a:rPr>
              <a:t>Linux</a:t>
            </a:r>
            <a:r>
              <a:rPr b="1" lang="zh-CN" sz="4400" spc="-1" strike="noStrike">
                <a:solidFill>
                  <a:srgbClr val="3333cc"/>
                </a:solidFill>
                <a:latin typeface="宋体"/>
                <a:ea typeface="宋体"/>
              </a:rPr>
              <a:t>基础知识 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第一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起源与地位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掌握有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基本常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学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意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版本知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了解开放源代码的许可协议及其开发模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各自的特色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Unix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的起源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6705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1969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年：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nix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系统的第一个版本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年代末：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T&amp;T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成立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nix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系统实验室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年代末：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SRG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使用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nix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对操作系统进行研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SD Unix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x System V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形成了当今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x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的两大主流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 Narrow"/>
              </a:rPr>
              <a:t>Unix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的版本号表示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同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版本其标识方式不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&amp;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开发的内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顺序号标识版本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S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主版本加次版本的方法标识，在原始版本的基础上还有派生版本，这些版本通常有自己的名字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&amp;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罗马数字标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版本，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来表示次版本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他商业公司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各自的版本标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09240" y="2133720"/>
            <a:ext cx="24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V 1</a:t>
            </a:r>
            <a:r>
              <a:rPr b="1" lang="zh-CN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到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V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59160" y="3048120"/>
            <a:ext cx="409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4.2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BSD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4.3BS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3680" y="3657600"/>
            <a:ext cx="61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 Narrow"/>
                <a:ea typeface="宋体"/>
              </a:rPr>
              <a:t>4.3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宋体"/>
              </a:rPr>
              <a:t>BSD-Net/1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宋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宋体"/>
              </a:rPr>
              <a:t>4.3BSD-Net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44640" y="3886200"/>
            <a:ext cx="71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System V Release 4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简写为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SVR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200" y="472428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Sun</a:t>
            </a:r>
            <a:r>
              <a:rPr b="1" lang="zh-CN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的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Solaris 2.6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IBM</a:t>
            </a:r>
            <a:r>
              <a:rPr b="1" lang="zh-CN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的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AIX 4.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1680" y="4495680"/>
            <a:ext cx="60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AT&amp;T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nix System V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第四次发布的版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7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7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7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3:32:42Z</dcterms:created>
  <dc:creator>Aniket</dc:creator>
  <dc:description/>
  <dc:language>en-US</dc:language>
  <cp:lastModifiedBy>ttsnow</cp:lastModifiedBy>
  <dcterms:modified xsi:type="dcterms:W3CDTF">2004-02-13T03:56:30Z</dcterms:modified>
  <cp:revision>970</cp:revision>
  <dc:subject/>
  <dc:title>Session 1</dc:title>
</cp:coreProperties>
</file>