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46E-A8CC-4F00-A5FA-8D4F0D82152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00D5-C986-42B9-AB11-EA807FB55E2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lipart.com/www.arttoday.com.cn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clipart.com/www.arttoday.com.cn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clipart.com/www.arttoday.com.cn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clipart.com/www.arttoday.com.cn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clipart.com/www.arttoday.com.cn" TargetMode="External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应用程序安装与管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六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包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ced Package Too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名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ename_version_arch.de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an-binary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.tar.gz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.tar.g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Hat Package Managemen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名：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agename_version_arch.r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ckagename_version_arch.src.rp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成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文件＋应用程序源代码包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514600"/>
            <a:ext cx="8286840" cy="10130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i|--install} [ install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004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3733920"/>
            <a:ext cx="3124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安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5740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3200400"/>
            <a:ext cx="23619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37339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安装选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64832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3200400"/>
            <a:ext cx="236232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373392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安装的软件包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238880" y="32004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erl-CG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为例进行安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51422" r="7618" b="32274"/>
          <a:stretch/>
        </p:blipFill>
        <p:spPr>
          <a:xfrm>
            <a:off x="838080" y="2514600"/>
            <a:ext cx="7848720" cy="1905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卸载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590920"/>
            <a:ext cx="8286840" cy="10130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e|--erase} [ erase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3526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8862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卸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81080" y="33526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33354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86856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卸载选项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7080" y="3335040"/>
            <a:ext cx="0" cy="533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33526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3886200"/>
            <a:ext cx="274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卸载的软件包名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629400" y="33526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2666880"/>
            <a:ext cx="8286840" cy="12038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U|--upgrade} [ install-options ] 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114800"/>
            <a:ext cx="2971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升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4114800"/>
            <a:ext cx="236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升级选项，基本与安装选项相同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49568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8128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4114800"/>
            <a:ext cx="26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升级的软件包名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86600" y="358128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下载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mtool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0" b="8002"/>
          <a:stretch/>
        </p:blipFill>
        <p:spPr>
          <a:xfrm>
            <a:off x="1473120" y="1523880"/>
            <a:ext cx="6197760" cy="4648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升级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mtool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软件包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46654" r="9785" b="37175"/>
          <a:stretch/>
        </p:blipFill>
        <p:spPr>
          <a:xfrm>
            <a:off x="838080" y="2590920"/>
            <a:ext cx="777240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升级后的版本信息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1324" r="9785" b="34990"/>
          <a:stretch/>
        </p:blipFill>
        <p:spPr>
          <a:xfrm>
            <a:off x="1473120" y="1828800"/>
            <a:ext cx="706140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询软件包信息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971800"/>
            <a:ext cx="8286480" cy="1501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-q|--query} [ select-options ] [verify-options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PACKAGE FIL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373392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362320"/>
            <a:ext cx="3048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执行软件包查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743200"/>
            <a:ext cx="0" cy="68580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38862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46483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本次查询的对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267080" y="3885840"/>
            <a:ext cx="0" cy="7621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8862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648320"/>
            <a:ext cx="2362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本次查询要获得的信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934320" y="3885840"/>
            <a:ext cx="0" cy="7621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472428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要查询的软件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523880" y="4190760"/>
            <a:ext cx="0" cy="533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校验已安装的软件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2819520"/>
            <a:ext cx="8286840" cy="113544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rpm { -V|--verify } [select-options] [verify-option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191120"/>
            <a:ext cx="2666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表明要校验软件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90512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4191120"/>
            <a:ext cx="2361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校验对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340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3657600"/>
            <a:ext cx="18288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4191120"/>
            <a:ext cx="2362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指定校验选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010280" y="3657600"/>
            <a:ext cx="0" cy="53352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、发展及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的设置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输出重定向及管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代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与应用程序的编译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前的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与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代码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开发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商业开发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放源代码开发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工程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免费分发的源代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模块化的体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市式的开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方式提供用户自行编译安装的代码，使得应用程序更方便自我定制和升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补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2949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补丁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始文件 新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应用补丁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c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始文件 补丁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3581280"/>
            <a:ext cx="1371600" cy="1126800"/>
            <a:chOff x="990720" y="3581280"/>
            <a:chExt cx="1371600" cy="1126800"/>
          </a:xfrm>
        </p:grpSpPr>
        <p:pic>
          <p:nvPicPr>
            <p:cNvPr id="21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3581280"/>
              <a:ext cx="838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4419720"/>
              <a:ext cx="1371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原始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219320" y="4952880"/>
            <a:ext cx="1143000" cy="1126800"/>
            <a:chOff x="1219320" y="4952880"/>
            <a:chExt cx="1143000" cy="1126800"/>
          </a:xfrm>
        </p:grpSpPr>
        <p:pic>
          <p:nvPicPr>
            <p:cNvPr id="220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219320" y="4952880"/>
              <a:ext cx="914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219320" y="5791320"/>
              <a:ext cx="1143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新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52680" y="4267080"/>
            <a:ext cx="1067040" cy="1050480"/>
            <a:chOff x="3352680" y="4267080"/>
            <a:chExt cx="1067040" cy="1050480"/>
          </a:xfrm>
        </p:grpSpPr>
        <p:pic>
          <p:nvPicPr>
            <p:cNvPr id="223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352680" y="4267080"/>
              <a:ext cx="838440" cy="5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3352680" y="5029200"/>
              <a:ext cx="1067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补丁文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876920" y="4191120"/>
            <a:ext cx="1143000" cy="1126440"/>
            <a:chOff x="4876920" y="4191120"/>
            <a:chExt cx="1143000" cy="1126440"/>
          </a:xfrm>
        </p:grpSpPr>
        <p:pic>
          <p:nvPicPr>
            <p:cNvPr id="226" name="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876920" y="4191120"/>
              <a:ext cx="83808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952880" y="5029200"/>
              <a:ext cx="106704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原始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400800" y="4114800"/>
            <a:ext cx="1143000" cy="1202760"/>
            <a:chOff x="6400800" y="4114800"/>
            <a:chExt cx="1143000" cy="1202760"/>
          </a:xfrm>
        </p:grpSpPr>
        <p:pic>
          <p:nvPicPr>
            <p:cNvPr id="229" name="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6400800" y="4114800"/>
              <a:ext cx="914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00800" y="5029200"/>
              <a:ext cx="1143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新代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85800" y="3429000"/>
            <a:ext cx="2971800" cy="2666880"/>
            <a:chOff x="685800" y="3429000"/>
            <a:chExt cx="2971800" cy="2666880"/>
          </a:xfrm>
        </p:grpSpPr>
        <p:sp>
          <p:nvSpPr>
            <p:cNvPr id="232" name=""/>
            <p:cNvSpPr/>
            <p:nvPr/>
          </p:nvSpPr>
          <p:spPr>
            <a:xfrm>
              <a:off x="685800" y="3581280"/>
              <a:ext cx="2971800" cy="2514600"/>
            </a:xfrm>
            <a:prstGeom prst="rect">
              <a:avLst/>
            </a:prstGeom>
            <a:solidFill>
              <a:srgbClr val="ff99cc">
                <a:alpha val="29000"/>
              </a:srgbClr>
            </a:solidFill>
            <a:ln w="2556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33720" y="3429000"/>
              <a:ext cx="12952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开发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86200" y="3429000"/>
            <a:ext cx="3429000" cy="2666880"/>
            <a:chOff x="3886200" y="3429000"/>
            <a:chExt cx="3429000" cy="2666880"/>
          </a:xfrm>
        </p:grpSpPr>
        <p:sp>
          <p:nvSpPr>
            <p:cNvPr id="235" name=""/>
            <p:cNvSpPr/>
            <p:nvPr/>
          </p:nvSpPr>
          <p:spPr>
            <a:xfrm>
              <a:off x="3886200" y="3581280"/>
              <a:ext cx="3429000" cy="2514600"/>
            </a:xfrm>
            <a:prstGeom prst="rect">
              <a:avLst/>
            </a:prstGeom>
            <a:solidFill>
              <a:srgbClr val="ccffcc">
                <a:alpha val="48000"/>
              </a:srgbClr>
            </a:solidFill>
            <a:ln w="255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67280" y="3429000"/>
              <a:ext cx="838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438280" y="4267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343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43434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gradFill rotWithShape="0">
            <a:gsLst>
              <a:gs pos="0">
                <a:srgbClr val="6a7442"/>
              </a:gs>
              <a:gs pos="50000">
                <a:srgbClr val="e7fc90"/>
              </a:gs>
              <a:gs pos="100000">
                <a:srgbClr val="6a7442"/>
              </a:gs>
            </a:gsLst>
            <a:lin ang="5400000"/>
          </a:gra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457200" y="2666880"/>
            <a:ext cx="3048120" cy="2362320"/>
            <a:chOff x="457200" y="2666880"/>
            <a:chExt cx="3048120" cy="2362320"/>
          </a:xfrm>
        </p:grpSpPr>
        <p:sp>
          <p:nvSpPr>
            <p:cNvPr id="241" name=""/>
            <p:cNvSpPr/>
            <p:nvPr/>
          </p:nvSpPr>
          <p:spPr>
            <a:xfrm>
              <a:off x="457200" y="2895480"/>
              <a:ext cx="3048120" cy="2133720"/>
            </a:xfrm>
            <a:prstGeom prst="rect">
              <a:avLst/>
            </a:prstGeom>
            <a:solidFill>
              <a:srgbClr val="ccffff">
                <a:alpha val="27000"/>
              </a:srgbClr>
            </a:solidFill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" y="2666880"/>
              <a:ext cx="12193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开发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657600" y="1600200"/>
            <a:ext cx="3657600" cy="2362320"/>
            <a:chOff x="3657600" y="1600200"/>
            <a:chExt cx="3657600" cy="2362320"/>
          </a:xfrm>
        </p:grpSpPr>
        <p:sp>
          <p:nvSpPr>
            <p:cNvPr id="244" name=""/>
            <p:cNvSpPr/>
            <p:nvPr/>
          </p:nvSpPr>
          <p:spPr>
            <a:xfrm>
              <a:off x="3657600" y="1828800"/>
              <a:ext cx="3657600" cy="2133720"/>
            </a:xfrm>
            <a:prstGeom prst="rect">
              <a:avLst/>
            </a:prstGeom>
            <a:solidFill>
              <a:srgbClr val="ffff99">
                <a:alpha val="27000"/>
              </a:srgbClr>
            </a:solidFill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1600200"/>
              <a:ext cx="914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译前的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962520" y="2209680"/>
            <a:ext cx="2133360" cy="1143000"/>
            <a:chOff x="3962520" y="2209680"/>
            <a:chExt cx="2133360" cy="1143000"/>
          </a:xfrm>
        </p:grpSpPr>
        <p:sp>
          <p:nvSpPr>
            <p:cNvPr id="248" name=""/>
            <p:cNvSpPr/>
            <p:nvPr/>
          </p:nvSpPr>
          <p:spPr>
            <a:xfrm>
              <a:off x="3962520" y="2209680"/>
              <a:ext cx="213336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配置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962520" y="2666880"/>
              <a:ext cx="457200" cy="68580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3886200" y="3733920"/>
            <a:ext cx="0" cy="457200"/>
          </a:xfrm>
          <a:prstGeom prst="line">
            <a:avLst/>
          </a:prstGeom>
          <a:ln w="507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800600" y="3352680"/>
            <a:ext cx="2438280" cy="337680"/>
            <a:chOff x="4800600" y="3352680"/>
            <a:chExt cx="2438280" cy="337680"/>
          </a:xfrm>
        </p:grpSpPr>
        <p:sp>
          <p:nvSpPr>
            <p:cNvPr id="252" name=""/>
            <p:cNvSpPr/>
            <p:nvPr/>
          </p:nvSpPr>
          <p:spPr>
            <a:xfrm>
              <a:off x="4800600" y="3505320"/>
              <a:ext cx="685800" cy="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62720" y="3352680"/>
              <a:ext cx="167616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kef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09480" y="3352680"/>
            <a:ext cx="1524240" cy="337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uto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191120"/>
            <a:ext cx="1524240" cy="337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auto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286000" y="3352680"/>
            <a:ext cx="2438280" cy="337680"/>
            <a:chOff x="2286000" y="3352680"/>
            <a:chExt cx="2438280" cy="337680"/>
          </a:xfrm>
        </p:grpSpPr>
        <p:sp>
          <p:nvSpPr>
            <p:cNvPr id="257" name=""/>
            <p:cNvSpPr/>
            <p:nvPr/>
          </p:nvSpPr>
          <p:spPr>
            <a:xfrm>
              <a:off x="2895480" y="3352680"/>
              <a:ext cx="182880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./config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0" y="3505320"/>
              <a:ext cx="5335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286000" y="4191120"/>
            <a:ext cx="2514240" cy="337680"/>
            <a:chOff x="2286000" y="4191120"/>
            <a:chExt cx="2514240" cy="337680"/>
          </a:xfrm>
        </p:grpSpPr>
        <p:sp>
          <p:nvSpPr>
            <p:cNvPr id="260" name=""/>
            <p:cNvSpPr/>
            <p:nvPr/>
          </p:nvSpPr>
          <p:spPr>
            <a:xfrm>
              <a:off x="2835720" y="4191120"/>
              <a:ext cx="1964520" cy="337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kefile.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343400"/>
              <a:ext cx="4712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译与安装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译源代码，链接目标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应用程序二进制代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2286000"/>
            <a:ext cx="5867640" cy="952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4343400"/>
            <a:ext cx="5867640" cy="952200"/>
          </a:xfrm>
          <a:prstGeom prst="rect">
            <a:avLst/>
          </a:prstGeom>
          <a:solidFill>
            <a:srgbClr val="fbe4d9"/>
          </a:solidFill>
          <a:ln w="12600">
            <a:solidFill>
              <a:srgbClr val="80808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楷体_GB2312"/>
              </a:rPr>
              <a:t>make ins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的基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的安装与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享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加载函数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库的安装与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ld.so.con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ld.so.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confi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C_LIBRARY_PA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PRELOA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用程序是调用操作系统内核提供的接口，完成用户的特定任务的一组程序，它们一般包括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执行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函数库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置文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帮助文档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的包管理系统包括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主要应用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ian 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布系统，除了日常软件包管理以外，还提供了强大的自动在线升级系统功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包管理系统提供了方便的生成软件包、安装、查询、卸载、校验软件包的操作手段，应用于大量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布版系统，已成为实际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软件包管理标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源代码编译安装能够提供更灵活的系统定制功能，可以使应用程序以更加贴近用户要求的形式建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源代码发布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的升级可以采用打补丁的形式，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生成补丁文件，然后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c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将补丁文件应用于目标程序的源代码，即可完成升级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代码发布的应用程序，在本地主机通过编译前配置、编译、链接、安装的方式建立可执行系统。这个过程中使用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gu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工具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920" y="1706040"/>
            <a:ext cx="66088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的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管理系统的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管理软件包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普遍的软件源码包的编译安装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序运行库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一般运行库的安装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程序都会使用函数库来快速开发和获得强大的应用功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系统库目录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usr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库分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静态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动态加载函数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confi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管理函数库，设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LIBRARY_P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_PRELOA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可获得优先的函数库访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查找、安装、升级特定的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为程序打补丁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源代码编译安装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向系统中添加库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在系统中安装的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1565" r="9781" b="29970"/>
          <a:stretch/>
        </p:blipFill>
        <p:spPr>
          <a:xfrm>
            <a:off x="1219320" y="2133720"/>
            <a:ext cx="6172200" cy="3857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制卸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-CG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0" t="57480" r="9781" b="33120"/>
          <a:stretch/>
        </p:blipFill>
        <p:spPr>
          <a:xfrm>
            <a:off x="990720" y="2514600"/>
            <a:ext cx="6248160" cy="736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升级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tool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包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11319" r="9781" b="34990"/>
          <a:stretch/>
        </p:blipFill>
        <p:spPr>
          <a:xfrm>
            <a:off x="762120" y="2514600"/>
            <a:ext cx="6324480" cy="282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tool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代码应用软件补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0" t="22096" r="9781" b="46506"/>
          <a:stretch/>
        </p:blipFill>
        <p:spPr>
          <a:xfrm>
            <a:off x="1219320" y="2440080"/>
            <a:ext cx="6095880" cy="1855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最新安装的软件包中的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0" t="43799" r="31418" b="36368"/>
          <a:stretch/>
        </p:blipFill>
        <p:spPr>
          <a:xfrm>
            <a:off x="1219320" y="2514600"/>
            <a:ext cx="6172200" cy="13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GB" sz="2800" spc="-1" strike="noStrike">
                <a:solidFill>
                  <a:srgbClr val="ffcf01"/>
                </a:solidFill>
                <a:latin typeface="Arial"/>
              </a:rPr>
              <a:t>/usr/sbin/netconfig</a:t>
            </a:r>
            <a:r>
              <a:rPr b="1" lang="zh-CN" sz="2800" spc="-1" strike="noStrike">
                <a:solidFill>
                  <a:srgbClr val="ffcf01"/>
                </a:solidFill>
                <a:latin typeface="Arial"/>
              </a:rPr>
              <a:t>需要载入库的信息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36629" r="9785" b="36919"/>
          <a:stretch/>
        </p:blipFill>
        <p:spPr>
          <a:xfrm>
            <a:off x="762120" y="2133720"/>
            <a:ext cx="7467480" cy="2819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移动库文件到其它目录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0" t="55138" r="9785" b="34350"/>
          <a:stretch/>
        </p:blipFill>
        <p:spPr>
          <a:xfrm>
            <a:off x="838080" y="2057400"/>
            <a:ext cx="769644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执行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/usr/sbin/netconfig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0" t="53450" r="3285" b="34222"/>
          <a:stretch/>
        </p:blipFill>
        <p:spPr>
          <a:xfrm>
            <a:off x="685800" y="2895480"/>
            <a:ext cx="8077320" cy="19814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57200" y="1523880"/>
            <a:ext cx="93376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执行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usr/sbin/netconfi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，程序显示找不到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载入的库的信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基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与命令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程序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步骤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编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etc/ld.so.conf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20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编辑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etc/ld.so.con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，在其中加入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usr/local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路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dconfig -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重新更新系统的库搜索缓存，使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/usr/local/li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的库文件能够被搜索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rcRect l="0" t="64193" r="9785" b="25891"/>
          <a:stretch/>
        </p:blipFill>
        <p:spPr>
          <a:xfrm>
            <a:off x="914400" y="4114800"/>
            <a:ext cx="7696080" cy="1143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载新的函数库后成功运行应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rcRect l="0" t="11073" r="3470" b="32480"/>
          <a:stretch/>
        </p:blipFill>
        <p:spPr>
          <a:xfrm>
            <a:off x="1523880" y="2514600"/>
            <a:ext cx="57150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与命令的关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部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部应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种形式的命令操作方法相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3505320"/>
            <a:ext cx="4952880" cy="1828800"/>
            <a:chOff x="1600200" y="3505320"/>
            <a:chExt cx="4952880" cy="1828800"/>
          </a:xfrm>
        </p:grpSpPr>
        <p:sp>
          <p:nvSpPr>
            <p:cNvPr id="100" name=""/>
            <p:cNvSpPr/>
            <p:nvPr/>
          </p:nvSpPr>
          <p:spPr>
            <a:xfrm>
              <a:off x="1600200" y="3505320"/>
              <a:ext cx="4952880" cy="18288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0600" y="3886200"/>
              <a:ext cx="17524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inu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外部应用程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ls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ount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rpm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cc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676520" y="3886200"/>
            <a:ext cx="3047760" cy="1219320"/>
            <a:chOff x="1676520" y="3886200"/>
            <a:chExt cx="3047760" cy="1219320"/>
          </a:xfrm>
        </p:grpSpPr>
        <p:sp>
          <p:nvSpPr>
            <p:cNvPr id="103" name=""/>
            <p:cNvSpPr/>
            <p:nvPr/>
          </p:nvSpPr>
          <p:spPr>
            <a:xfrm>
              <a:off x="1676520" y="3886200"/>
              <a:ext cx="3047760" cy="12193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4080" y="3962520"/>
              <a:ext cx="1524240" cy="9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h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包括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d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pw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等内部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2480" y="4114800"/>
            <a:ext cx="1523880" cy="685800"/>
            <a:chOff x="1752480" y="4114800"/>
            <a:chExt cx="1523880" cy="685800"/>
          </a:xfrm>
        </p:grpSpPr>
        <p:sp>
          <p:nvSpPr>
            <p:cNvPr id="106" name=""/>
            <p:cNvSpPr/>
            <p:nvPr/>
          </p:nvSpPr>
          <p:spPr>
            <a:xfrm>
              <a:off x="1752480" y="4114800"/>
              <a:ext cx="1371600" cy="68580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28440" y="4343400"/>
              <a:ext cx="14479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inux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内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应用程序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590920"/>
            <a:ext cx="1981080" cy="1079280"/>
            <a:chOff x="1828800" y="2590920"/>
            <a:chExt cx="1981080" cy="1079280"/>
          </a:xfrm>
        </p:grpSpPr>
        <p:sp>
          <p:nvSpPr>
            <p:cNvPr id="111" name=""/>
            <p:cNvSpPr/>
            <p:nvPr/>
          </p:nvSpPr>
          <p:spPr>
            <a:xfrm>
              <a:off x="1828800" y="2590920"/>
              <a:ext cx="1800000" cy="107928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895480"/>
              <a:ext cx="19810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可执行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733920" y="2590920"/>
            <a:ext cx="1800000" cy="1079280"/>
            <a:chOff x="3733920" y="2590920"/>
            <a:chExt cx="1800000" cy="1079280"/>
          </a:xfrm>
        </p:grpSpPr>
        <p:sp>
          <p:nvSpPr>
            <p:cNvPr id="114" name=""/>
            <p:cNvSpPr/>
            <p:nvPr/>
          </p:nvSpPr>
          <p:spPr>
            <a:xfrm>
              <a:off x="3733920" y="2590920"/>
              <a:ext cx="1800000" cy="107928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289548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配置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3809880"/>
            <a:ext cx="1800360" cy="1079640"/>
            <a:chOff x="1828800" y="3809880"/>
            <a:chExt cx="1800360" cy="1079640"/>
          </a:xfrm>
        </p:grpSpPr>
        <p:sp>
          <p:nvSpPr>
            <p:cNvPr id="117" name=""/>
            <p:cNvSpPr/>
            <p:nvPr/>
          </p:nvSpPr>
          <p:spPr>
            <a:xfrm>
              <a:off x="1828800" y="3809880"/>
              <a:ext cx="1800360" cy="1079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4114800"/>
              <a:ext cx="14475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帮助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733920" y="3809880"/>
            <a:ext cx="1800000" cy="1079640"/>
            <a:chOff x="3733920" y="3809880"/>
            <a:chExt cx="1800000" cy="1079640"/>
          </a:xfrm>
        </p:grpSpPr>
        <p:sp>
          <p:nvSpPr>
            <p:cNvPr id="120" name=""/>
            <p:cNvSpPr/>
            <p:nvPr/>
          </p:nvSpPr>
          <p:spPr>
            <a:xfrm>
              <a:off x="3733920" y="3809880"/>
              <a:ext cx="1800000" cy="1079640"/>
            </a:xfrm>
            <a:prstGeom prst="rect">
              <a:avLst/>
            </a:prstGeom>
            <a:gradFill rotWithShape="0">
              <a:gsLst>
                <a:gs pos="0">
                  <a:srgbClr val="005e75"/>
                </a:gs>
                <a:gs pos="50000">
                  <a:srgbClr val="00ccff"/>
                </a:gs>
                <a:gs pos="100000">
                  <a:srgbClr val="005e75"/>
                </a:gs>
              </a:gsLst>
              <a:lin ang="13500000"/>
            </a:gradFill>
            <a:ln w="1260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4190760"/>
              <a:ext cx="1447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楷体_GB2312"/>
                </a:rPr>
                <a:t>库文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PM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初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用软件之间的依赖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809880"/>
            <a:ext cx="2286000" cy="386280"/>
          </a:xfrm>
          <a:prstGeom prst="rect">
            <a:avLst/>
          </a:prstGeom>
          <a:solidFill>
            <a:srgbClr val="e7fc90"/>
          </a:solidFill>
          <a:ln w="12600">
            <a:solidFill>
              <a:srgbClr val="cef919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ash-2.05b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990720" y="4343400"/>
            <a:ext cx="6095880" cy="1072080"/>
            <a:chOff x="990720" y="4343400"/>
            <a:chExt cx="6095880" cy="1072080"/>
          </a:xfrm>
        </p:grpSpPr>
        <p:sp>
          <p:nvSpPr>
            <p:cNvPr id="128" name=""/>
            <p:cNvSpPr/>
            <p:nvPr/>
          </p:nvSpPr>
          <p:spPr>
            <a:xfrm>
              <a:off x="1752480" y="5029200"/>
              <a:ext cx="4419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libtermcap</a:t>
              </a:r>
              <a:r>
                <a:rPr b="1" lang="zh-CN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37aeb1"/>
                  </a:solidFill>
                  <a:latin typeface="Arial"/>
                  <a:ea typeface="楷体_GB2312"/>
                </a:rPr>
                <a:t>glibc-2.3.2-1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90720" y="4800600"/>
              <a:ext cx="6095880" cy="0"/>
            </a:xfrm>
            <a:prstGeom prst="line">
              <a:avLst/>
            </a:prstGeom>
            <a:ln w="2556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7600" y="434340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6a7442"/>
                </a:gs>
                <a:gs pos="50000">
                  <a:srgbClr val="e7fc90"/>
                </a:gs>
                <a:gs pos="100000">
                  <a:srgbClr val="6a7442"/>
                </a:gs>
              </a:gsLst>
              <a:lin ang="10800000"/>
            </a:gradFill>
            <a:ln w="12600">
              <a:solidFill>
                <a:srgbClr val="cef91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90720" y="2438280"/>
            <a:ext cx="6095880" cy="1219320"/>
            <a:chOff x="990720" y="2438280"/>
            <a:chExt cx="6095880" cy="1219320"/>
          </a:xfrm>
        </p:grpSpPr>
        <p:sp>
          <p:nvSpPr>
            <p:cNvPr id="132" name=""/>
            <p:cNvSpPr/>
            <p:nvPr/>
          </p:nvSpPr>
          <p:spPr>
            <a:xfrm>
              <a:off x="3657600" y="327672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736964"/>
                </a:gs>
                <a:gs pos="50000">
                  <a:srgbClr val="fbe4d9"/>
                </a:gs>
                <a:gs pos="100000">
                  <a:srgbClr val="736964"/>
                </a:gs>
              </a:gsLst>
              <a:lin ang="10800000"/>
            </a:gradFill>
            <a:ln w="12600">
              <a:solidFill>
                <a:srgbClr val="ff99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0720" y="3124080"/>
              <a:ext cx="609588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2438280"/>
              <a:ext cx="6019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sysklogd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info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at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autofs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httpd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zip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less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pine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cc</a:t>
              </a:r>
              <a:r>
                <a:rPr b="1" lang="zh-CN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、</a:t>
              </a:r>
              <a:r>
                <a:rPr b="1" lang="en-US" sz="2400" spc="-1" strike="noStrike">
                  <a:solidFill>
                    <a:srgbClr val="f4a988"/>
                  </a:solidFill>
                  <a:latin typeface="Arial"/>
                  <a:ea typeface="楷体_GB2312"/>
                </a:rPr>
                <a:t>gdb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管理系统初步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管理系统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卸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软件信息查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软件包生成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xuetao.du</cp:lastModifiedBy>
  <dcterms:modified xsi:type="dcterms:W3CDTF">2004-04-01T01:21:41Z</dcterms:modified>
  <cp:revision>809</cp:revision>
  <dc:subject/>
  <dc:title>Session 1</dc:title>
</cp:coreProperties>
</file>