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5224-283C-44AE-97A7-F2BDF80E71A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F346-04A3-480D-8D31-E4226B6ADE76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inux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核心管理与定制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七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模块的概念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模块简称模块，是一段可执行的程序，但是它可以被动态加载到内核中，并成为内核的一部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载到内核里的模块具有与内核一样的权力，可以访问任何内核中的数据结构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的配置界面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交互 配置界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窗口配置界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形窗口配置界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原有配置文件自动生成新的配置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本配置界面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交互 配置界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make confi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原有配置文件自动生成新的配置文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make oldconfi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本窗口配置界面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799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本窗口配置界面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make menuconfi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2637000"/>
            <a:ext cx="7272360" cy="40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图形窗口配置界面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形窗口配置界面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make xconfi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7201080" cy="3736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3619440" cy="97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功能的配置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某功能编译进内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某功能作为模块编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不使用某功能（既不编译进内核，也不作为模块编译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配置项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可装载模块支持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799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装载模块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通常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中都需要对该项进行支持，否则内核将不能使用内核模块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360" y="3141720"/>
            <a:ext cx="7416720" cy="293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配置项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处理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73915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332000" y="38088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配置项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常规设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6696000" cy="522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配置项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设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7343640" cy="482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程序基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管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程序编译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库管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退出并保存内核配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656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完成对内核的配置后，选择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ve and Exit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钮保存并退出配置界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2593800"/>
            <a:ext cx="7848720" cy="40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配置文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confi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论采用哪种方法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进行配置，最终的目的都是为了生成内核配置文件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config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的编译过程将完全按照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confi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中的配置内容进行编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名称标志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AVERSION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fil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中的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AVERSION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量的值将被用于生成新内核的版本标志，该标志用于命名内核文件、内核模块目录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AVERSION = -8cust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Hat  Linux  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预设定该变量的值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8cust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在编译内核前用户可以自行设定（通过编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fil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与模块的编译、安装步骤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de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生成依赖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bzImag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编译内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module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编译内核模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modules_insta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安装内核模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insta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安装内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ake dep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make dep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编译内核前，需要使用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dep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生成内核功能间的依赖关系，为编译内核做准备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ake bzImage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make bzImag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bzImage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进行内核编译，编译过程将持续相当长的时间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以上），请耐心等候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zImage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/i386/boot/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下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zImage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是新编译生成的内核文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ake modules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make modul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module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编译内核模块，编译过程将持续相当长的时间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钟以上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ake modules_install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make modules_instal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模块编译好后需要安装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的相应目录中才可以使用，使用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modules_install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安装内核模块 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lib/modules/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lib/modules/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用于存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中的内核模块，内核的各版本都在该目录下建有子目录用于存放内核模块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ake install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583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make instal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install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安装新内核到系统中 ，并且自动为使用新内核做必要的配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mlinuz-2.4.20-8custo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编译的内核被放在目录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boot/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各内核版本有唯一的文件名称，与内核文件配合使用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r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映像文件也在此目录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GRUB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引导配置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etc/grub.conf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安装过程已经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U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启动引导器的配置文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ub.con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对新内核的引导进行了适当的配置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 Red Hat Linux (2.4.20-8custo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ot (hd0,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 /boot/vmlinuz-2.4.20-8custom ro root=LABEL=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rd /boot/initrd-2.4.20-8custom.im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的作用和基本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获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的源码包，并进行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内核的多种配置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内核配置项的含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内核的编译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内核模块的编译与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中应用新内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使用新内核启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2111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reboo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重新启动系统，并选择新内核进行引导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5977080" cy="44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内核与内核模块的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源码的获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的配置界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的配置选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及模块的编译与安装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中了解主机的硬件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的配置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及模块的编译安装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新内核引导系统运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环境要求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14264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Hat Linux 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的主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Hat Linux 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装光盘一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人一台机器，一人一组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配置正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够正确的生成内核配置文件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config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及模块编译正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译过程能够顺利完成，并正确生成内核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（续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及模块安装正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文件安装到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boot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模块文件安装到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lib/module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启动、工作正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U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启动菜单中选择新内核引导系统启动，启动过程正常，能够正常进行用户登陆并运行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的概念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是一个操作系统的核心，它负责管理系统的进程、内存、设备驱动程序、文件和网络系统，决定着系统的性能和稳定性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以独占的方式执行最底层任务，保证系统正常运行，协调多个并发进程，管理进程使用的内存，使它们相互之间不产生冲突，满足进程访问磁盘的请求等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为什么要升级内核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728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有内核中会不断发现漏洞，需要打补丁后重新编译内核，以便系统能够更加安全的运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的内核版本通常会带来用户所需要的新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的内核版本会支持较新的硬件设备正常工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确地为主机配置个性化的内核会使系统运行得更加快速、稳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系统中的设备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主机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信息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 more /proc/cpuinf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主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C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备信息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 lspci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系统中所使用的内核模块信息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 more /proc/modul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获取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源代码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44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发行版本中获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内核源代码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网络下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内核源代码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kernel.o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55640" y="2924280"/>
            <a:ext cx="7237440" cy="35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核源代码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728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源代码以打包的形式提供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z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种格式的源码包的安装方法不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Hat Linux 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源码包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rpm -ivh kernel-source-2.4.20-8.i386.rp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网络下载的内核源码包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tar jxvf linux-2.4.24.tar.bz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内核前的准备工作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67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cd /usr/src/linux-2.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入内核源码目录后，才能够正确执行所有的内核配置、编译命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 make mrprop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每次配置并重新编译内核前需要先执行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mrproper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清理源代码树，包括过去曾经配置的内核配置文件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config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将被清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xuetao.du</cp:lastModifiedBy>
  <dcterms:modified xsi:type="dcterms:W3CDTF">2004-04-01T01:22:46Z</dcterms:modified>
  <cp:revision>56</cp:revision>
  <dc:subject/>
  <dc:title>Understanding Basic HTML</dc:title>
</cp:coreProperties>
</file>