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DE24-2324-453C-BC46-4ECA15B931A2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8B86-E76E-488C-9A4F-FF608A4EC912}" type="slidenum"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/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32004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文本编辑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2286000"/>
            <a:ext cx="312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三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PICO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使用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查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8661" r="5241" b="25295"/>
          <a:stretch/>
        </p:blipFill>
        <p:spPr>
          <a:xfrm>
            <a:off x="1219320" y="2209680"/>
            <a:ext cx="5715000" cy="298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1" name=""/>
          <p:cNvGrpSpPr/>
          <p:nvPr/>
        </p:nvGrpSpPr>
        <p:grpSpPr>
          <a:xfrm>
            <a:off x="1600200" y="4648320"/>
            <a:ext cx="4267080" cy="1143000"/>
            <a:chOff x="1600200" y="4648320"/>
            <a:chExt cx="4267080" cy="1143000"/>
          </a:xfrm>
        </p:grpSpPr>
        <p:sp>
          <p:nvSpPr>
            <p:cNvPr id="132" name=""/>
            <p:cNvSpPr/>
            <p:nvPr/>
          </p:nvSpPr>
          <p:spPr>
            <a:xfrm>
              <a:off x="1600200" y="4648320"/>
              <a:ext cx="312408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14800" y="5372280"/>
              <a:ext cx="1752480" cy="419040"/>
            </a:xfrm>
            <a:prstGeom prst="borderCallout2">
              <a:avLst>
                <a:gd name="adj1" fmla="val 18750"/>
                <a:gd name="adj2" fmla="val -8333"/>
                <a:gd name="adj3" fmla="val 27273"/>
                <a:gd name="adj4" fmla="val -47009"/>
                <a:gd name="adj5" fmla="val -27273"/>
                <a:gd name="adj6" fmla="val -91305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查找操作指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VI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模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基本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高级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V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特点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纯文本编辑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屏幕编辑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作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模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命令进行编辑操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 Hat 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V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模式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种模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令模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输入模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末行模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1905120"/>
            <a:ext cx="914400" cy="33768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2438280"/>
            <a:ext cx="838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退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2438280"/>
            <a:ext cx="990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vi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410080" y="5105520"/>
            <a:ext cx="1600200" cy="533160"/>
            <a:chOff x="5410080" y="5105520"/>
            <a:chExt cx="1600200" cy="533160"/>
          </a:xfrm>
        </p:grpSpPr>
        <p:sp>
          <p:nvSpPr>
            <p:cNvPr id="145" name=""/>
            <p:cNvSpPr/>
            <p:nvPr/>
          </p:nvSpPr>
          <p:spPr>
            <a:xfrm>
              <a:off x="5410080" y="5105520"/>
              <a:ext cx="1524240" cy="533160"/>
            </a:xfrm>
            <a:prstGeom prst="ellipse">
              <a:avLst/>
            </a:prstGeom>
            <a:solidFill>
              <a:srgbClr val="33cc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86400" y="5181480"/>
              <a:ext cx="15238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末行模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362320" y="5105520"/>
            <a:ext cx="1600200" cy="533160"/>
            <a:chOff x="2362320" y="5105520"/>
            <a:chExt cx="1600200" cy="533160"/>
          </a:xfrm>
        </p:grpSpPr>
        <p:sp>
          <p:nvSpPr>
            <p:cNvPr id="148" name=""/>
            <p:cNvSpPr/>
            <p:nvPr/>
          </p:nvSpPr>
          <p:spPr>
            <a:xfrm>
              <a:off x="2362320" y="5105520"/>
              <a:ext cx="1523880" cy="533160"/>
            </a:xfrm>
            <a:prstGeom prst="ellipse">
              <a:avLst/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5181480"/>
              <a:ext cx="15242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输入模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648320" y="2286000"/>
            <a:ext cx="0" cy="53352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256000" y="3352680"/>
            <a:ext cx="1068480" cy="1752840"/>
            <a:chOff x="5256000" y="3352680"/>
            <a:chExt cx="1068480" cy="1752840"/>
          </a:xfrm>
        </p:grpSpPr>
        <p:sp>
          <p:nvSpPr>
            <p:cNvPr id="153" name=""/>
            <p:cNvSpPr/>
            <p:nvPr/>
          </p:nvSpPr>
          <p:spPr>
            <a:xfrm>
              <a:off x="5334120" y="3352680"/>
              <a:ext cx="990360" cy="17528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9899600">
              <a:off x="5456880" y="3474360"/>
              <a:ext cx="5691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转义命令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429000" y="3352320"/>
            <a:ext cx="1143000" cy="1809720"/>
            <a:chOff x="3429000" y="3352320"/>
            <a:chExt cx="1143000" cy="1809720"/>
          </a:xfrm>
        </p:grpSpPr>
        <p:sp>
          <p:nvSpPr>
            <p:cNvPr id="156" name=""/>
            <p:cNvSpPr/>
            <p:nvPr/>
          </p:nvSpPr>
          <p:spPr>
            <a:xfrm flipV="1">
              <a:off x="3429000" y="3352320"/>
              <a:ext cx="1143000" cy="17528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977600">
              <a:off x="3810960" y="3810240"/>
              <a:ext cx="374760" cy="13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按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[Esc]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915280" y="3257280"/>
            <a:ext cx="1351800" cy="1848240"/>
            <a:chOff x="2915280" y="3257280"/>
            <a:chExt cx="1351800" cy="1848240"/>
          </a:xfrm>
        </p:grpSpPr>
        <p:sp>
          <p:nvSpPr>
            <p:cNvPr id="159" name=""/>
            <p:cNvSpPr/>
            <p:nvPr/>
          </p:nvSpPr>
          <p:spPr>
            <a:xfrm flipH="1">
              <a:off x="3048120" y="3276720"/>
              <a:ext cx="1218960" cy="182880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098800">
              <a:off x="3253320" y="3297600"/>
              <a:ext cx="569160" cy="13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文本输入命令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584600" y="3352320"/>
            <a:ext cx="1393560" cy="2143080"/>
            <a:chOff x="4584600" y="3352320"/>
            <a:chExt cx="1393560" cy="2143080"/>
          </a:xfrm>
        </p:grpSpPr>
        <p:sp>
          <p:nvSpPr>
            <p:cNvPr id="162" name=""/>
            <p:cNvSpPr/>
            <p:nvPr/>
          </p:nvSpPr>
          <p:spPr>
            <a:xfrm flipH="1" flipV="1">
              <a:off x="4952880" y="3352320"/>
              <a:ext cx="914400" cy="17528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9953600">
              <a:off x="5020920" y="3467880"/>
              <a:ext cx="520920" cy="20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执行完毕或按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[Esc]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114800" y="2819520"/>
            <a:ext cx="1600200" cy="533160"/>
            <a:chOff x="4114800" y="2819520"/>
            <a:chExt cx="1600200" cy="533160"/>
          </a:xfrm>
        </p:grpSpPr>
        <p:sp>
          <p:nvSpPr>
            <p:cNvPr id="165" name=""/>
            <p:cNvSpPr/>
            <p:nvPr/>
          </p:nvSpPr>
          <p:spPr>
            <a:xfrm>
              <a:off x="4114800" y="2819520"/>
              <a:ext cx="1523880" cy="533160"/>
            </a:xfrm>
            <a:prstGeom prst="ellipse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91120" y="2895480"/>
              <a:ext cx="15238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命令模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V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模式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模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12502" r="2363" b="22936"/>
          <a:stretch/>
        </p:blipFill>
        <p:spPr>
          <a:xfrm>
            <a:off x="609480" y="2133720"/>
            <a:ext cx="6551640" cy="3247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170" name=""/>
          <p:cNvGrpSpPr/>
          <p:nvPr/>
        </p:nvGrpSpPr>
        <p:grpSpPr>
          <a:xfrm>
            <a:off x="685800" y="5334120"/>
            <a:ext cx="6400800" cy="609480"/>
            <a:chOff x="685800" y="5334120"/>
            <a:chExt cx="6400800" cy="609480"/>
          </a:xfrm>
        </p:grpSpPr>
        <p:sp>
          <p:nvSpPr>
            <p:cNvPr id="171" name=""/>
            <p:cNvSpPr/>
            <p:nvPr/>
          </p:nvSpPr>
          <p:spPr>
            <a:xfrm>
              <a:off x="685800" y="5334120"/>
              <a:ext cx="6400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52680" y="5524560"/>
              <a:ext cx="1295640" cy="419040"/>
            </a:xfrm>
            <a:prstGeom prst="borderCallout2">
              <a:avLst>
                <a:gd name="adj1" fmla="val 18750"/>
                <a:gd name="adj2" fmla="val -8333"/>
                <a:gd name="adj3" fmla="val 27273"/>
                <a:gd name="adj4" fmla="val -60662"/>
                <a:gd name="adj5" fmla="val -45453"/>
                <a:gd name="adj6" fmla="val -117648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状态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143000" y="2286000"/>
            <a:ext cx="5486400" cy="762120"/>
            <a:chOff x="1143000" y="2286000"/>
            <a:chExt cx="5486400" cy="762120"/>
          </a:xfrm>
        </p:grpSpPr>
        <p:sp>
          <p:nvSpPr>
            <p:cNvPr id="174" name=""/>
            <p:cNvSpPr/>
            <p:nvPr/>
          </p:nvSpPr>
          <p:spPr>
            <a:xfrm>
              <a:off x="1143000" y="2286000"/>
              <a:ext cx="2514600" cy="762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10080" y="2438280"/>
              <a:ext cx="1219320" cy="381240"/>
            </a:xfrm>
            <a:prstGeom prst="borderCallout2">
              <a:avLst>
                <a:gd name="adj1" fmla="val 18750"/>
                <a:gd name="adj2" fmla="val -8333"/>
                <a:gd name="adj3" fmla="val 30000"/>
                <a:gd name="adj4" fmla="val -73569"/>
                <a:gd name="adj5" fmla="val 46250"/>
                <a:gd name="adj6" fmla="val -143361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编辑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447920" y="3581280"/>
            <a:ext cx="2819160" cy="129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69920" y="3970440"/>
            <a:ext cx="16700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  <a:ea typeface="楷体_GB2312"/>
              </a:rPr>
              <a:t>空白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V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模式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入模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12502" r="3138" b="21854"/>
          <a:stretch/>
        </p:blipFill>
        <p:spPr>
          <a:xfrm>
            <a:off x="990720" y="2286000"/>
            <a:ext cx="6095880" cy="3049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181" name=""/>
          <p:cNvGrpSpPr/>
          <p:nvPr/>
        </p:nvGrpSpPr>
        <p:grpSpPr>
          <a:xfrm>
            <a:off x="990720" y="4305240"/>
            <a:ext cx="3352680" cy="1104840"/>
            <a:chOff x="990720" y="4305240"/>
            <a:chExt cx="3352680" cy="1104840"/>
          </a:xfrm>
        </p:grpSpPr>
        <p:sp>
          <p:nvSpPr>
            <p:cNvPr id="182" name=""/>
            <p:cNvSpPr/>
            <p:nvPr/>
          </p:nvSpPr>
          <p:spPr>
            <a:xfrm>
              <a:off x="990720" y="4952880"/>
              <a:ext cx="99036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0920" y="4305240"/>
              <a:ext cx="1752480" cy="419040"/>
            </a:xfrm>
            <a:prstGeom prst="borderCallout2">
              <a:avLst>
                <a:gd name="adj1" fmla="val 18750"/>
                <a:gd name="adj2" fmla="val -8333"/>
                <a:gd name="adj3" fmla="val 27273"/>
                <a:gd name="adj4" fmla="val -34240"/>
                <a:gd name="adj5" fmla="val 154546"/>
                <a:gd name="adj6" fmla="val -65217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输入模式标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332000" y="38088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V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模式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末行模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0" t="22936" r="28905" b="22936"/>
          <a:stretch/>
        </p:blipFill>
        <p:spPr>
          <a:xfrm>
            <a:off x="1295280" y="2209680"/>
            <a:ext cx="5562720" cy="2818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187" name=""/>
          <p:cNvGrpSpPr/>
          <p:nvPr/>
        </p:nvGrpSpPr>
        <p:grpSpPr>
          <a:xfrm>
            <a:off x="1219320" y="4305240"/>
            <a:ext cx="3276360" cy="800280"/>
            <a:chOff x="1219320" y="4305240"/>
            <a:chExt cx="3276360" cy="800280"/>
          </a:xfrm>
        </p:grpSpPr>
        <p:sp>
          <p:nvSpPr>
            <p:cNvPr id="188" name=""/>
            <p:cNvSpPr/>
            <p:nvPr/>
          </p:nvSpPr>
          <p:spPr>
            <a:xfrm>
              <a:off x="1219320" y="4724280"/>
              <a:ext cx="457200" cy="381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66880" y="4305240"/>
              <a:ext cx="1828800" cy="419040"/>
            </a:xfrm>
            <a:prstGeom prst="borderCallout2">
              <a:avLst>
                <a:gd name="adj1" fmla="val 18750"/>
                <a:gd name="adj2" fmla="val -8333"/>
                <a:gd name="adj3" fmla="val 27273"/>
                <a:gd name="adj4" fmla="val -32814"/>
                <a:gd name="adj5" fmla="val 100000"/>
                <a:gd name="adj6" fmla="val -62500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末行模式标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V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基本命令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模式下的编辑操作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入模式下的编辑操作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末行模式下的编辑操作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命令模式下的编辑操作命令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光标控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替换和删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复制粘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搜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撤销和重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本选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15800" y="5418000"/>
            <a:ext cx="1598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a988"/>
                </a:solidFill>
                <a:latin typeface="Arial"/>
                <a:ea typeface="楷体_GB2312"/>
              </a:rPr>
              <a:t>操作演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输入模式下的编辑操作命令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进入输入模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本编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退出输入模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15800" y="5418000"/>
            <a:ext cx="1598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a988"/>
                </a:solidFill>
                <a:latin typeface="Arial"/>
                <a:ea typeface="楷体_GB2312"/>
              </a:rPr>
              <a:t>操作演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操作系统的基本组成和文件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 Hat Linux 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安装步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的基本配置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分区的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操作系统的启动过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末行模式下的编辑操作命令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退出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号操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字符串搜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本替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删除文本内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恢复文件内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15800" y="5418000"/>
            <a:ext cx="1598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a988"/>
                </a:solidFill>
                <a:latin typeface="Arial"/>
                <a:ea typeface="楷体_GB2312"/>
              </a:rPr>
              <a:t>操作演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VI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高级命令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文件操作（多窗口显示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令组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切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更多末行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se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选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915800" y="5418000"/>
            <a:ext cx="1598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a988"/>
                </a:solidFill>
                <a:latin typeface="Arial"/>
                <a:ea typeface="楷体_GB2312"/>
              </a:rPr>
              <a:t>操作演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EMACS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简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基本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EMAC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简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hard Stallma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7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首次发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N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系列之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言开发，具有开放的体系结构，方便扩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强大的文本编辑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编辑器为基础的应用平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送电子邮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集成开发环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阅读新闻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EMAC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基本使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键序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Ctrl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Alt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键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Esc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回车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制表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空格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EMAC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基本使用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编辑界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12502" r="28905" b="22936"/>
          <a:stretch/>
        </p:blipFill>
        <p:spPr>
          <a:xfrm>
            <a:off x="990720" y="2209680"/>
            <a:ext cx="5943600" cy="3551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213" name=""/>
          <p:cNvGrpSpPr/>
          <p:nvPr/>
        </p:nvGrpSpPr>
        <p:grpSpPr>
          <a:xfrm>
            <a:off x="990720" y="1752480"/>
            <a:ext cx="4572000" cy="609840"/>
            <a:chOff x="990720" y="1752480"/>
            <a:chExt cx="4572000" cy="609840"/>
          </a:xfrm>
        </p:grpSpPr>
        <p:sp>
          <p:nvSpPr>
            <p:cNvPr id="214" name=""/>
            <p:cNvSpPr/>
            <p:nvPr/>
          </p:nvSpPr>
          <p:spPr>
            <a:xfrm>
              <a:off x="990720" y="2362320"/>
              <a:ext cx="2895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67080" y="1752480"/>
              <a:ext cx="1295640" cy="343080"/>
            </a:xfrm>
            <a:prstGeom prst="borderCallout2">
              <a:avLst>
                <a:gd name="adj1" fmla="val 18750"/>
                <a:gd name="adj2" fmla="val -8333"/>
                <a:gd name="adj3" fmla="val 33333"/>
                <a:gd name="adj4" fmla="val -60662"/>
                <a:gd name="adj5" fmla="val 177777"/>
                <a:gd name="adj6" fmla="val -117648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  <a:effectLst>
              <a:outerShdw dist="89604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菜单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371600" y="2514600"/>
            <a:ext cx="4724280" cy="1447920"/>
            <a:chOff x="1371600" y="2514600"/>
            <a:chExt cx="4724280" cy="1447920"/>
          </a:xfrm>
        </p:grpSpPr>
        <p:sp>
          <p:nvSpPr>
            <p:cNvPr id="217" name=""/>
            <p:cNvSpPr/>
            <p:nvPr/>
          </p:nvSpPr>
          <p:spPr>
            <a:xfrm>
              <a:off x="1371600" y="2514600"/>
              <a:ext cx="350532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0" y="3619440"/>
              <a:ext cx="1523880" cy="343080"/>
            </a:xfrm>
            <a:prstGeom prst="borderCallout2">
              <a:avLst>
                <a:gd name="adj1" fmla="val 18750"/>
                <a:gd name="adj2" fmla="val -8333"/>
                <a:gd name="adj3" fmla="val 33333"/>
                <a:gd name="adj4" fmla="val -56458"/>
                <a:gd name="adj5" fmla="val -77777"/>
                <a:gd name="adj6" fmla="val -110000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文本编辑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447920" y="4533840"/>
            <a:ext cx="4343400" cy="1181160"/>
            <a:chOff x="1447920" y="4533840"/>
            <a:chExt cx="4343400" cy="1181160"/>
          </a:xfrm>
        </p:grpSpPr>
        <p:sp>
          <p:nvSpPr>
            <p:cNvPr id="220" name=""/>
            <p:cNvSpPr/>
            <p:nvPr/>
          </p:nvSpPr>
          <p:spPr>
            <a:xfrm>
              <a:off x="1447920" y="5334120"/>
              <a:ext cx="4343400" cy="380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00600" y="4533840"/>
              <a:ext cx="990720" cy="343080"/>
            </a:xfrm>
            <a:prstGeom prst="borderCallout2">
              <a:avLst>
                <a:gd name="adj1" fmla="val 18750"/>
                <a:gd name="adj2" fmla="val -8333"/>
                <a:gd name="adj3" fmla="val 33333"/>
                <a:gd name="adj4" fmla="val -53046"/>
                <a:gd name="adj5" fmla="val 233333"/>
                <a:gd name="adj6" fmla="val -100000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状态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EMAC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基本使用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启动和退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本编辑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光标控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插入删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制粘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和缓冲区操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7848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本编辑器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的字处理工具，主要用作文本编辑、程序编写、配置文件的修改等工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的文本编辑器包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EMA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C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，都是传统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编辑工具，使用方法基本相同，可跨平台使用编辑工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C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小而精的文本编辑器，通过一系列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Ctrl]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头的命令键序列支持普通的文本操作。主要用来进行邮件编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本章总结（</a:t>
            </a: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操作包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模式：命令模式、文本输入模式、末行模式。它的命令主要是单个字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编辑操作没有模式的区别，随时接受非命令字符作为文本的修改内容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命令使用组合键序列来表示，一般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Ctrl]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Esc]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引导命令序列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支持多文件、多窗口、文件类型风格显示、自动缩进等高级功能，且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中支持邮件操作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执行、查看日历、新闻组阅读等强大功能，已经超越一个文本编辑器的意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438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IC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编辑器的编辑操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编辑器的主要编辑操作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412920"/>
            <a:ext cx="7812000" cy="65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34560" y="1706040"/>
            <a:ext cx="638028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台上的编辑器知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熟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ICO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编辑器的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I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编辑器的使用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编辑器的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505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C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编辑工作，保存修改后退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0" t="9646" r="4540" b="24360"/>
          <a:stretch/>
        </p:blipFill>
        <p:spPr>
          <a:xfrm>
            <a:off x="1828800" y="2286000"/>
            <a:ext cx="4570560" cy="3219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blinds dir="horz"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429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文件的编辑操作，保存修改退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0" t="8907" r="7419" b="24557"/>
          <a:stretch/>
        </p:blipFill>
        <p:spPr>
          <a:xfrm>
            <a:off x="1600200" y="2514600"/>
            <a:ext cx="4724280" cy="2820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blinds dir="horz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编辑器概述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本编辑器与字处理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本编辑器只处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码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字处理程序进行复杂的文字编辑工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本编辑器类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行编辑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全屏幕编辑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流行的文本编辑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c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d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PICO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C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C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PICO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特点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屏幕编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随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邮件程序包发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用文本编辑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组对文本进行操作的指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意外崩溃保护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PICO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使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法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o [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[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选项列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19320" y="3124080"/>
          <a:ext cx="5790960" cy="2567160"/>
        </p:xfrm>
        <a:graphic>
          <a:graphicData uri="http://schemas.openxmlformats.org/drawingml/2006/table">
            <a:tbl>
              <a:tblPr/>
              <a:tblGrid>
                <a:gridCol w="1230120"/>
                <a:gridCol w="4560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意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+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打开文件时光标定位在第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n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-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在文件浏览器中显示所有文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-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允许查找和替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-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使用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F1-F1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的功能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-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支持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Go”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命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-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只读打开文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</a:tbl>
          </a:graphicData>
        </a:graphic>
      </p:graphicFrame>
    </p:spTree>
  </p:cSld>
  <p:transition>
    <p:blinds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PICO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使用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本编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9400" r="9597" b="26033"/>
          <a:stretch/>
        </p:blipFill>
        <p:spPr>
          <a:xfrm>
            <a:off x="1143000" y="2286000"/>
            <a:ext cx="5486400" cy="294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07" name=""/>
          <p:cNvGrpSpPr/>
          <p:nvPr/>
        </p:nvGrpSpPr>
        <p:grpSpPr>
          <a:xfrm>
            <a:off x="1219320" y="1562040"/>
            <a:ext cx="5257800" cy="876240"/>
            <a:chOff x="1219320" y="1562040"/>
            <a:chExt cx="5257800" cy="876240"/>
          </a:xfrm>
        </p:grpSpPr>
        <p:sp>
          <p:nvSpPr>
            <p:cNvPr id="108" name=""/>
            <p:cNvSpPr/>
            <p:nvPr/>
          </p:nvSpPr>
          <p:spPr>
            <a:xfrm>
              <a:off x="1219320" y="2209680"/>
              <a:ext cx="5257800" cy="228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05520" y="1562040"/>
              <a:ext cx="1371600" cy="343080"/>
            </a:xfrm>
            <a:prstGeom prst="borderCallout2">
              <a:avLst>
                <a:gd name="adj1" fmla="val 18750"/>
                <a:gd name="adj2" fmla="val -8333"/>
                <a:gd name="adj3" fmla="val 33333"/>
                <a:gd name="adj4" fmla="val -65509"/>
                <a:gd name="adj5" fmla="val 188888"/>
                <a:gd name="adj6" fmla="val -127777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标题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295280" y="2514600"/>
            <a:ext cx="6019920" cy="2133720"/>
            <a:chOff x="1295280" y="2514600"/>
            <a:chExt cx="6019920" cy="2133720"/>
          </a:xfrm>
        </p:grpSpPr>
        <p:sp>
          <p:nvSpPr>
            <p:cNvPr id="111" name=""/>
            <p:cNvSpPr/>
            <p:nvPr/>
          </p:nvSpPr>
          <p:spPr>
            <a:xfrm>
              <a:off x="1295280" y="2514600"/>
              <a:ext cx="4038840" cy="2133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15000" y="2743200"/>
              <a:ext cx="1600200" cy="419040"/>
            </a:xfrm>
            <a:prstGeom prst="borderCallout2">
              <a:avLst>
                <a:gd name="adj1" fmla="val 18750"/>
                <a:gd name="adj2" fmla="val -8333"/>
                <a:gd name="adj3" fmla="val 27273"/>
                <a:gd name="adj4" fmla="val -21129"/>
                <a:gd name="adj5" fmla="val 72726"/>
                <a:gd name="adj6" fmla="val -38097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文本编辑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219320" y="5181480"/>
            <a:ext cx="5181480" cy="685800"/>
            <a:chOff x="1219320" y="5181480"/>
            <a:chExt cx="5181480" cy="685800"/>
          </a:xfrm>
        </p:grpSpPr>
        <p:sp>
          <p:nvSpPr>
            <p:cNvPr id="114" name=""/>
            <p:cNvSpPr/>
            <p:nvPr/>
          </p:nvSpPr>
          <p:spPr>
            <a:xfrm>
              <a:off x="1219320" y="5181480"/>
              <a:ext cx="5181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3920" y="5524560"/>
              <a:ext cx="1523880" cy="342720"/>
            </a:xfrm>
            <a:prstGeom prst="borderCallout2">
              <a:avLst>
                <a:gd name="adj1" fmla="val 18750"/>
                <a:gd name="adj2" fmla="val -8333"/>
                <a:gd name="adj3" fmla="val 33333"/>
                <a:gd name="adj4" fmla="val -61458"/>
                <a:gd name="adj5" fmla="val -100000"/>
                <a:gd name="adj6" fmla="val -120000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命令提示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PICO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使用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浏览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9154" r="7419" b="26033"/>
          <a:stretch/>
        </p:blipFill>
        <p:spPr>
          <a:xfrm>
            <a:off x="1371600" y="2286000"/>
            <a:ext cx="5257800" cy="276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19" name=""/>
          <p:cNvGrpSpPr/>
          <p:nvPr/>
        </p:nvGrpSpPr>
        <p:grpSpPr>
          <a:xfrm>
            <a:off x="1752480" y="2514600"/>
            <a:ext cx="4343400" cy="1371600"/>
            <a:chOff x="1752480" y="2514600"/>
            <a:chExt cx="4343400" cy="1371600"/>
          </a:xfrm>
        </p:grpSpPr>
        <p:sp>
          <p:nvSpPr>
            <p:cNvPr id="120" name=""/>
            <p:cNvSpPr/>
            <p:nvPr/>
          </p:nvSpPr>
          <p:spPr>
            <a:xfrm>
              <a:off x="1752480" y="2514600"/>
              <a:ext cx="3581640" cy="762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00600" y="3467160"/>
              <a:ext cx="1295280" cy="419040"/>
            </a:xfrm>
            <a:prstGeom prst="borderCallout2">
              <a:avLst>
                <a:gd name="adj1" fmla="val 18750"/>
                <a:gd name="adj2" fmla="val -8333"/>
                <a:gd name="adj3" fmla="val 27273"/>
                <a:gd name="adj4" fmla="val -72305"/>
                <a:gd name="adj5" fmla="val -45453"/>
                <a:gd name="adj6" fmla="val -141175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文件列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600200" y="4952880"/>
            <a:ext cx="4419720" cy="876600"/>
            <a:chOff x="1600200" y="4952880"/>
            <a:chExt cx="4419720" cy="876600"/>
          </a:xfrm>
        </p:grpSpPr>
        <p:sp>
          <p:nvSpPr>
            <p:cNvPr id="123" name=""/>
            <p:cNvSpPr/>
            <p:nvPr/>
          </p:nvSpPr>
          <p:spPr>
            <a:xfrm>
              <a:off x="1600200" y="4952880"/>
              <a:ext cx="4419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38480" y="5219640"/>
              <a:ext cx="1600200" cy="60984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39782"/>
                <a:gd name="adj5" fmla="val -43750"/>
                <a:gd name="adj6" fmla="val -76189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文件浏览器操作指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191120" y="1600200"/>
            <a:ext cx="2286000" cy="838080"/>
            <a:chOff x="4191120" y="1600200"/>
            <a:chExt cx="2286000" cy="838080"/>
          </a:xfrm>
        </p:grpSpPr>
        <p:sp>
          <p:nvSpPr>
            <p:cNvPr id="126" name=""/>
            <p:cNvSpPr/>
            <p:nvPr/>
          </p:nvSpPr>
          <p:spPr>
            <a:xfrm>
              <a:off x="4191120" y="2209680"/>
              <a:ext cx="761760" cy="228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1600200"/>
              <a:ext cx="1295640" cy="343080"/>
            </a:xfrm>
            <a:prstGeom prst="borderCallout2">
              <a:avLst>
                <a:gd name="adj1" fmla="val 18750"/>
                <a:gd name="adj2" fmla="val -8333"/>
                <a:gd name="adj3" fmla="val 33333"/>
                <a:gd name="adj4" fmla="val -28921"/>
                <a:gd name="adj5" fmla="val 177777"/>
                <a:gd name="adj6" fmla="val -52939"/>
              </a:avLst>
            </a:prstGeom>
            <a:solidFill>
              <a:srgbClr val="ffcc99"/>
            </a:solidFill>
            <a:ln w="1260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66"/>
                  </a:solidFill>
                  <a:latin typeface="Arial"/>
                  <a:ea typeface="楷体_GB2312"/>
                </a:rPr>
                <a:t>目录路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3:32:42Z</dcterms:created>
  <dc:creator>Aniket</dc:creator>
  <dc:description/>
  <dc:language>en-US</dc:language>
  <cp:lastModifiedBy>gaowei</cp:lastModifiedBy>
  <dcterms:modified xsi:type="dcterms:W3CDTF">2004-02-05T07:16:23Z</dcterms:modified>
  <cp:revision>780</cp:revision>
  <dc:subject/>
  <dc:title>Session 1</dc:title>
</cp:coreProperties>
</file>