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BEDF-0672-4B70-8781-A4C176F6BCEA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B422-8620-48CD-8216-409C9F6ECC8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lipart.com/www.arttoday.com.cn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Shell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的使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860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环境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环境变量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用环境变量 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环境变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53000" y="2057400"/>
            <a:ext cx="37573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53000" y="1600200"/>
            <a:ext cx="375264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expor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＝变量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位置参数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程序运行时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变量，从程序名开始依次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递归访问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44249" r="47768" b="37702"/>
          <a:stretch/>
        </p:blipFill>
        <p:spPr>
          <a:xfrm>
            <a:off x="990720" y="2971800"/>
            <a:ext cx="6516720" cy="1415880"/>
          </a:xfrm>
          <a:prstGeom prst="rect">
            <a:avLst/>
          </a:prstGeom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</p:pic>
      <p:sp>
        <p:nvSpPr>
          <p:cNvPr id="139" name=""/>
          <p:cNvSpPr/>
          <p:nvPr/>
        </p:nvSpPr>
        <p:spPr>
          <a:xfrm>
            <a:off x="3962520" y="2743200"/>
            <a:ext cx="533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$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2743200"/>
            <a:ext cx="533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$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743200"/>
            <a:ext cx="533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743200"/>
            <a:ext cx="5331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$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743200"/>
            <a:ext cx="609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预定义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828800"/>
          <a:ext cx="7696080" cy="3289320"/>
        </p:xfrm>
        <a:graphic>
          <a:graphicData uri="http://schemas.openxmlformats.org/drawingml/2006/table">
            <a:tbl>
              <a:tblPr/>
              <a:tblGrid>
                <a:gridCol w="1700280"/>
                <a:gridCol w="599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变量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值意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传递到脚本的参数的数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以一个单字符串显示传递到脚本的所有参数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命令执行后返回的状态，返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表示成功执行，其它值则表明执行错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当前进程的进程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后台运行的最后一个进程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当前执行的进程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66680" y="3505320"/>
            <a:ext cx="6096240" cy="1904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038480"/>
            <a:ext cx="43434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LINU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环境配置文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pro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profile.d/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/.bash_prof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/.bashr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tc/bashr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657600"/>
            <a:ext cx="449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/etc/profil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/etc/profile.d/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95280" y="4267080"/>
            <a:ext cx="1524240" cy="914400"/>
            <a:chOff x="1295280" y="4267080"/>
            <a:chExt cx="1524240" cy="914400"/>
          </a:xfrm>
        </p:grpSpPr>
        <p:sp>
          <p:nvSpPr>
            <p:cNvPr id="152" name=""/>
            <p:cNvSpPr/>
            <p:nvPr/>
          </p:nvSpPr>
          <p:spPr>
            <a:xfrm>
              <a:off x="1295280" y="4267080"/>
              <a:ext cx="1524240" cy="914400"/>
            </a:xfrm>
            <a:prstGeom prst="rect">
              <a:avLst/>
            </a:prstGeom>
            <a:solidFill>
              <a:srgbClr val="ffcf01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95280" y="4267080"/>
              <a:ext cx="14479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_pro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048120" y="4267080"/>
            <a:ext cx="1523880" cy="914400"/>
            <a:chOff x="3048120" y="4267080"/>
            <a:chExt cx="1523880" cy="914400"/>
          </a:xfrm>
        </p:grpSpPr>
        <p:sp>
          <p:nvSpPr>
            <p:cNvPr id="155" name=""/>
            <p:cNvSpPr/>
            <p:nvPr/>
          </p:nvSpPr>
          <p:spPr>
            <a:xfrm>
              <a:off x="3048120" y="4267080"/>
              <a:ext cx="1523880" cy="91440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8120" y="4267080"/>
              <a:ext cx="144756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_pro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00600" y="4267080"/>
            <a:ext cx="1523880" cy="914400"/>
            <a:chOff x="4800600" y="4267080"/>
            <a:chExt cx="1523880" cy="914400"/>
          </a:xfrm>
        </p:grpSpPr>
        <p:sp>
          <p:nvSpPr>
            <p:cNvPr id="158" name=""/>
            <p:cNvSpPr/>
            <p:nvPr/>
          </p:nvSpPr>
          <p:spPr>
            <a:xfrm>
              <a:off x="4800600" y="4267080"/>
              <a:ext cx="1523880" cy="9144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267080"/>
              <a:ext cx="14479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户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_pro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~/.bashr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477120" y="4572000"/>
            <a:ext cx="609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0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bash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常用功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配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自动展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历史与命令重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通配符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配符：匹配任意多个任意字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配符：匹配任意一个字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590920"/>
            <a:ext cx="65736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828800" y="2971800"/>
            <a:ext cx="48006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判断下列使用了通配符的字符串的能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匹配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files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字符串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3962520"/>
            <a:ext cx="190476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\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[opq]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962520"/>
            <a:ext cx="1905120" cy="17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eport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epor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[opq]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repor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380988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3962520"/>
            <a:ext cx="457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6466"/>
                </a:solidFill>
                <a:latin typeface="楷体_GB2312"/>
                <a:ea typeface="楷体_GB2312"/>
              </a:rPr>
              <a:t>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832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533412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26708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5029200"/>
            <a:ext cx="457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6466"/>
                </a:solidFill>
                <a:latin typeface="楷体_GB2312"/>
                <a:ea typeface="楷体_GB2312"/>
              </a:rPr>
              <a:t>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4343400"/>
            <a:ext cx="457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6466"/>
                </a:solidFill>
                <a:latin typeface="楷体_GB2312"/>
                <a:ea typeface="楷体_GB2312"/>
              </a:rPr>
              <a:t>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5410080"/>
            <a:ext cx="457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6466"/>
                </a:solidFill>
                <a:latin typeface="楷体_GB2312"/>
                <a:ea typeface="楷体_GB2312"/>
              </a:rPr>
              <a:t>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64832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5029200"/>
            <a:ext cx="609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6466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自动展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Tab&gt;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变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路径展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历史与命令重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标上下移动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st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!: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$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道与重定向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输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定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标准输入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输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程都会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文件用来处理程序的输入输出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09480" y="2514600"/>
          <a:ext cx="7467840" cy="2743200"/>
        </p:xfrm>
        <a:graphic>
          <a:graphicData uri="http://schemas.openxmlformats.org/drawingml/2006/table">
            <a:tbl>
              <a:tblPr/>
              <a:tblGrid>
                <a:gridCol w="3810240"/>
                <a:gridCol w="1904760"/>
                <a:gridCol w="17528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文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872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文件描述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1872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默认设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9966"/>
                      </a:solidFill>
                    </a:lnL>
                    <a:lnR w="18720">
                      <a:solidFill>
                        <a:srgbClr val="339966"/>
                      </a:solidFill>
                    </a:lnR>
                    <a:lnT w="1872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输入文件：标准输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键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872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输出文件：标准输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屏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872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5760">
                      <a:solidFill>
                        <a:srgbClr val="339966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错误输出文件：标准错误输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8720">
                      <a:solidFill>
                        <a:srgbClr val="339966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576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8720">
                      <a:solidFill>
                        <a:srgbClr val="3399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屏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66"/>
                      </a:solidFill>
                    </a:lnL>
                    <a:lnR w="18720">
                      <a:solidFill>
                        <a:srgbClr val="339966"/>
                      </a:solidFill>
                    </a:lnR>
                    <a:lnT w="5760">
                      <a:solidFill>
                        <a:srgbClr val="339966"/>
                      </a:solidFill>
                    </a:lnT>
                    <a:lnB w="18720">
                      <a:solidFill>
                        <a:srgbClr val="3399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的使用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和目录的操作管理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户和组管理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印系统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定向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重定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重定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&gt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错误输出重定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213372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lt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输入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25146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root@pc root]# cat &lt; inpu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351792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&gt;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输出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3898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root@pc root]# ls &gt; outpu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87692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&gt;error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5257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root@pc root]# ls 2 &gt; input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重定向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文件重定向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62120" y="2057400"/>
          <a:ext cx="6886440" cy="3433680"/>
        </p:xfrm>
        <a:graphic>
          <a:graphicData uri="http://schemas.openxmlformats.org/drawingml/2006/table">
            <a:tbl>
              <a:tblPr/>
              <a:tblGrid>
                <a:gridCol w="2971800"/>
                <a:gridCol w="3914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重定向命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意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gt; file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输出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gt;&gt; file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输出追加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1&gt; fiel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输出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gt; filename 2 &gt; &amp;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输出和标准错误输出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2 &gt; file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标准错误输出重定向到一个文件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lt; filename &gt; filenam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以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lename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为标准输入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lename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为标准输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lt; file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把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lename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作为命令的标准输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and &lt;&lt; delim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从标准输入读入数据，直到遇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miter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为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2666880" y="4343400"/>
            <a:ext cx="2438640" cy="462600"/>
            <a:chOff x="2666880" y="4343400"/>
            <a:chExt cx="2438640" cy="462600"/>
          </a:xfrm>
        </p:grpSpPr>
        <p:sp>
          <p:nvSpPr>
            <p:cNvPr id="200" name=""/>
            <p:cNvSpPr/>
            <p:nvPr/>
          </p:nvSpPr>
          <p:spPr>
            <a:xfrm>
              <a:off x="2743200" y="4419720"/>
              <a:ext cx="2133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ls</a:t>
              </a:r>
              <a:r>
                <a:rPr b="1" lang="zh-CN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命令的输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66880" y="4343400"/>
              <a:ext cx="243864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66880" y="4800600"/>
              <a:ext cx="243864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道操作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95280" y="4114800"/>
            <a:ext cx="1371600" cy="990720"/>
            <a:chOff x="1295280" y="4114800"/>
            <a:chExt cx="1371600" cy="990720"/>
          </a:xfrm>
        </p:grpSpPr>
        <p:sp>
          <p:nvSpPr>
            <p:cNvPr id="206" name=""/>
            <p:cNvSpPr/>
            <p:nvPr/>
          </p:nvSpPr>
          <p:spPr>
            <a:xfrm>
              <a:off x="1295280" y="4114800"/>
              <a:ext cx="1371600" cy="9907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200" y="4419720"/>
              <a:ext cx="5335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105520" y="4114800"/>
            <a:ext cx="1752480" cy="990720"/>
            <a:chOff x="5105520" y="4114800"/>
            <a:chExt cx="1752480" cy="990720"/>
          </a:xfrm>
        </p:grpSpPr>
        <p:sp>
          <p:nvSpPr>
            <p:cNvPr id="209" name=""/>
            <p:cNvSpPr/>
            <p:nvPr/>
          </p:nvSpPr>
          <p:spPr>
            <a:xfrm>
              <a:off x="5105520" y="4114800"/>
              <a:ext cx="1752480" cy="9907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81480" y="4419720"/>
              <a:ext cx="16002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grep *.t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76720" y="3962520"/>
            <a:ext cx="838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管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20574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ommand1 | comman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971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root@pc root]# ls | grep *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脚本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运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脚本编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脚本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需编译，解释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文件形式存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大的正则表达式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速度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类型支持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于系统管理和文件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脚本运行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写脚本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改变脚本程序文件的权限为可执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脚本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.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bas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. .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exec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脚本程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脚本编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类型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Shell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变量一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件测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流程控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条件测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括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：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件表达式的值为真返回零，为假时返回非零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2057400"/>
            <a:ext cx="518184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est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条件表达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3581280"/>
            <a:ext cx="518184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[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条件表达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6880" y="3733920"/>
            <a:ext cx="2971800" cy="2133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3200" y="4724280"/>
            <a:ext cx="2286000" cy="685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4038480"/>
            <a:ext cx="2286000" cy="6858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3048120"/>
            <a:ext cx="2971800" cy="685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n el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[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件语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f [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条件语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048120"/>
            <a:ext cx="1219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f01"/>
                </a:solidFill>
                <a:latin typeface="Arial"/>
                <a:ea typeface="楷体_GB2312"/>
              </a:rPr>
              <a:t>条件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楷体_GB2312"/>
              </a:rPr>
              <a:t>1</a:t>
            </a:r>
            <a:r>
              <a:rPr b="1" lang="zh-CN" sz="1600" spc="-1" strike="noStrike">
                <a:solidFill>
                  <a:srgbClr val="ffcf01"/>
                </a:solidFill>
                <a:latin typeface="Arial"/>
                <a:ea typeface="楷体_GB2312"/>
              </a:rPr>
              <a:t>为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733920"/>
            <a:ext cx="1219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e4a8"/>
                </a:solidFill>
                <a:latin typeface="Arial"/>
                <a:ea typeface="楷体_GB2312"/>
              </a:rPr>
              <a:t>条件</a:t>
            </a:r>
            <a:r>
              <a:rPr b="1" lang="en-US" sz="1600" spc="-1" strike="noStrike">
                <a:solidFill>
                  <a:srgbClr val="00e4a8"/>
                </a:solidFill>
                <a:latin typeface="Arial"/>
                <a:ea typeface="楷体_GB2312"/>
              </a:rPr>
              <a:t>1</a:t>
            </a:r>
            <a:r>
              <a:rPr b="1" lang="zh-CN" sz="1600" spc="-1" strike="noStrike">
                <a:solidFill>
                  <a:srgbClr val="00e4a8"/>
                </a:solidFill>
                <a:latin typeface="Arial"/>
                <a:ea typeface="楷体_GB2312"/>
              </a:rPr>
              <a:t>为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4038480"/>
            <a:ext cx="1219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3366"/>
                </a:solidFill>
                <a:latin typeface="Arial"/>
                <a:ea typeface="楷体_GB2312"/>
              </a:rPr>
              <a:t>条件</a:t>
            </a:r>
            <a:r>
              <a:rPr b="1" lang="en-US" sz="1600" spc="-1" strike="noStrike">
                <a:solidFill>
                  <a:srgbClr val="993366"/>
                </a:solidFill>
                <a:latin typeface="Arial"/>
                <a:ea typeface="楷体_GB2312"/>
              </a:rPr>
              <a:t>2</a:t>
            </a:r>
            <a:r>
              <a:rPr b="1" lang="zh-CN" sz="1600" spc="-1" strike="noStrike">
                <a:solidFill>
                  <a:srgbClr val="993366"/>
                </a:solidFill>
                <a:latin typeface="Arial"/>
                <a:ea typeface="楷体_GB2312"/>
              </a:rPr>
              <a:t>为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724280"/>
            <a:ext cx="1219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66"/>
                </a:solidFill>
                <a:latin typeface="Arial"/>
                <a:ea typeface="楷体_GB2312"/>
              </a:rPr>
              <a:t>条件</a:t>
            </a:r>
            <a:r>
              <a:rPr b="1" lang="en-US" sz="1600" spc="-1" strike="noStrike">
                <a:solidFill>
                  <a:srgbClr val="339966"/>
                </a:solidFill>
                <a:latin typeface="Arial"/>
                <a:ea typeface="楷体_GB2312"/>
              </a:rPr>
              <a:t>2</a:t>
            </a:r>
            <a:r>
              <a:rPr b="1" lang="zh-CN" sz="1600" spc="-1" strike="noStrike">
                <a:solidFill>
                  <a:srgbClr val="339966"/>
                </a:solidFill>
                <a:latin typeface="Arial"/>
                <a:ea typeface="楷体_GB2312"/>
              </a:rPr>
              <a:t>为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2895480"/>
            <a:ext cx="5181480" cy="183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or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n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列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4560" y="1706040"/>
            <a:ext cx="638028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产生与发展的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变量的设置和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操作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输入输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简单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编辑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743200"/>
            <a:ext cx="5181480" cy="183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unti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循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2895480"/>
            <a:ext cx="5181840" cy="183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while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流程控制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76240" y="12193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2362320"/>
            <a:ext cx="5181480" cy="3765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ase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模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;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es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函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调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导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2133720"/>
            <a:ext cx="4267440" cy="1834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统与用户之间的交互界面，用户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交任务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系统内核转交任务，并管理相关工作，执行完成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回工作结果，通过界面返回给用户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提供编程语言，接受用户关于批处理任务的提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个重要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hen Bourne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底提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另外两个重要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on she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类型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默认的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变体版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NU ba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类型的变量（本地变量、环境变量、参数变量及预定义变量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通配符包括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”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匹配任意多的字符和一个任意字符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了命令行自动展开和历史命令管理操作的功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号文件描述符文件，并对应为键盘和屏幕，构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标准输入输出，大多数命令的输入输出通过标准输入输出进行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了输入输出重定向和管道，把标准的输入输出方向改变为其它的文件或命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了数据变量、参数传递、条件测试、流程控制、数据输入和输出、函数等丰富的程序控制功能，用户可以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言编码实现系统管理任务的批处理和环境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 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操作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环境变量的设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重定向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编写简单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脚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完成，删除实验中设置的环境变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0" t="59208" r="7603" b="28248"/>
          <a:stretch/>
        </p:blipFill>
        <p:spPr>
          <a:xfrm>
            <a:off x="1066680" y="2362320"/>
            <a:ext cx="66294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复使用前一个命令的参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0" t="56944" r="11959" b="26526"/>
          <a:stretch/>
        </p:blipFill>
        <p:spPr>
          <a:xfrm>
            <a:off x="685800" y="2438280"/>
            <a:ext cx="7315200" cy="1033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自己的命令提示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0" t="60684" r="43111" b="28593"/>
          <a:stretch/>
        </p:blipFill>
        <p:spPr>
          <a:xfrm>
            <a:off x="914400" y="2819520"/>
            <a:ext cx="586584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环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产生与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 Sh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显示重定向输出的文件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0" t="62402" r="29639" b="20768"/>
          <a:stretch/>
        </p:blipFill>
        <p:spPr>
          <a:xfrm>
            <a:off x="685800" y="2438280"/>
            <a:ext cx="6703920" cy="12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行用户编写的脚本程序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52953" r="29749" b="27608"/>
          <a:stretch/>
        </p:blipFill>
        <p:spPr>
          <a:xfrm>
            <a:off x="762120" y="2438280"/>
            <a:ext cx="6629400" cy="1376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产生与发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操作系统与用户进行交互操作的界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脚本语言编程环境，方便用户自动批量处理大量的工作任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038480"/>
            <a:ext cx="0" cy="457200"/>
          </a:xfrm>
          <a:prstGeom prst="line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724280" y="4038480"/>
            <a:ext cx="0" cy="457200"/>
          </a:xfrm>
          <a:prstGeom prst="line">
            <a:avLst/>
          </a:prstGeom>
          <a:ln w="63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505320" y="2666880"/>
            <a:ext cx="1676160" cy="457200"/>
            <a:chOff x="3505320" y="2666880"/>
            <a:chExt cx="1676160" cy="457200"/>
          </a:xfrm>
        </p:grpSpPr>
        <p:sp>
          <p:nvSpPr>
            <p:cNvPr id="102" name=""/>
            <p:cNvSpPr/>
            <p:nvPr/>
          </p:nvSpPr>
          <p:spPr>
            <a:xfrm>
              <a:off x="3505320" y="2666880"/>
              <a:ext cx="1676160" cy="4572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99ffcc"/>
                </a:gs>
                <a:gs pos="100000">
                  <a:srgbClr val="339966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62520" y="2666880"/>
              <a:ext cx="914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用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76720" y="3124080"/>
            <a:ext cx="838080" cy="533520"/>
            <a:chOff x="3276720" y="3124080"/>
            <a:chExt cx="838080" cy="533520"/>
          </a:xfrm>
        </p:grpSpPr>
        <p:sp>
          <p:nvSpPr>
            <p:cNvPr id="105" name=""/>
            <p:cNvSpPr/>
            <p:nvPr/>
          </p:nvSpPr>
          <p:spPr>
            <a:xfrm>
              <a:off x="4038480" y="3124080"/>
              <a:ext cx="0" cy="5335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76720" y="3200400"/>
              <a:ext cx="838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命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724280" y="3124080"/>
            <a:ext cx="990720" cy="533520"/>
            <a:chOff x="4724280" y="3124080"/>
            <a:chExt cx="990720" cy="533520"/>
          </a:xfrm>
        </p:grpSpPr>
        <p:sp>
          <p:nvSpPr>
            <p:cNvPr id="108" name=""/>
            <p:cNvSpPr/>
            <p:nvPr/>
          </p:nvSpPr>
          <p:spPr>
            <a:xfrm flipV="1">
              <a:off x="4724280" y="3124080"/>
              <a:ext cx="0" cy="533520"/>
            </a:xfrm>
            <a:prstGeom prst="line">
              <a:avLst/>
            </a:prstGeom>
            <a:ln w="63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0600" y="3200400"/>
              <a:ext cx="914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结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4551480"/>
            <a:ext cx="2819520" cy="422280"/>
            <a:chOff x="2971800" y="4551480"/>
            <a:chExt cx="2819520" cy="422280"/>
          </a:xfrm>
        </p:grpSpPr>
        <p:sp>
          <p:nvSpPr>
            <p:cNvPr id="111" name=""/>
            <p:cNvSpPr/>
            <p:nvPr/>
          </p:nvSpPr>
          <p:spPr>
            <a:xfrm>
              <a:off x="2971800" y="4551480"/>
              <a:ext cx="2819520" cy="4222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99ffcc"/>
                </a:gs>
                <a:gs pos="100000">
                  <a:srgbClr val="339966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4572000"/>
              <a:ext cx="16002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操作系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514600" y="3657600"/>
            <a:ext cx="3581280" cy="380880"/>
            <a:chOff x="2514600" y="3657600"/>
            <a:chExt cx="3581280" cy="380880"/>
          </a:xfrm>
        </p:grpSpPr>
        <p:sp>
          <p:nvSpPr>
            <p:cNvPr id="114" name=""/>
            <p:cNvSpPr/>
            <p:nvPr/>
          </p:nvSpPr>
          <p:spPr>
            <a:xfrm>
              <a:off x="2514600" y="3657600"/>
              <a:ext cx="3581280" cy="3808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50000">
                  <a:srgbClr val="99ffcc"/>
                </a:gs>
                <a:gs pos="100000">
                  <a:srgbClr val="339966"/>
                </a:gs>
              </a:gsLst>
              <a:lin ang="13500000"/>
            </a:gradFill>
            <a:ln w="25560">
              <a:solidFill>
                <a:srgbClr val="339966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6200" y="3657600"/>
              <a:ext cx="9907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Sh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产生与发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hen Bourn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she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lJoy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代末期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rn she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Kor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代中期 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 Shell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n shel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U Bourne-Again 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rne she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向下兼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业控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contro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别名功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as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历史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 histor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行编辑功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定义功能键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供更丰富的变量类型、命令与控制结构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ell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量名由下划线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字母、数字组成，但变量名不能以数字开头，大小写敏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量值为一个字符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符号获得变量的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地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环境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置参数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预定义变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地变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置变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用变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除变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变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量值置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1628640"/>
            <a:ext cx="44197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＝变量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9920" y="4222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${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参数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-wor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111400"/>
            <a:ext cx="44197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595600"/>
            <a:ext cx="44197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unse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079800"/>
            <a:ext cx="441972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9920" y="460368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${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参数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=wor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9920" y="498492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${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参数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?wor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9920" y="5365800"/>
            <a:ext cx="5181480" cy="386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${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参数变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+wor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ttsnow</cp:lastModifiedBy>
  <dcterms:modified xsi:type="dcterms:W3CDTF">2004-02-16T09:11:30Z</dcterms:modified>
  <cp:revision>793</cp:revision>
  <dc:subject/>
  <dc:title>Session 1</dc:title>
</cp:coreProperties>
</file>