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3.wmf" ContentType="image/x-wmf"/>
  <Override PartName="/ppt/media/image16.wmf" ContentType="image/x-wmf"/>
  <Override PartName="/ppt/media/image14.wmf" ContentType="image/x-wmf"/>
  <Override PartName="/ppt/media/image5.jpeg" ContentType="image/jpeg"/>
  <Override PartName="/ppt/media/image9.wmf" ContentType="image/x-wmf"/>
  <Override PartName="/ppt/media/image15.wmf" ContentType="image/x-wmf"/>
  <Override PartName="/ppt/media/image1.jpeg" ContentType="image/jpe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7.wmf" ContentType="image/x-wmf"/>
  <Override PartName="/ppt/media/image12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57200"/>
            <a:ext cx="7391520" cy="609480"/>
          </a:xfrm>
          <a:prstGeom prst="rect">
            <a:avLst/>
          </a:prstGeom>
          <a:gradFill rotWithShape="0">
            <a:gsLst>
              <a:gs pos="0">
                <a:srgbClr val="8194e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28600">
              <a:spcBef>
                <a:spcPts val="7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76480" indent="-228600">
              <a:spcBef>
                <a:spcPts val="700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24000" cy="80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-36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6680C-6EDD-49C9-AF1C-42CF88BF8055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/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7391520" y="5829480"/>
            <a:ext cx="1752480" cy="10285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467480" y="5873760"/>
            <a:ext cx="1676520" cy="984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0" y="63241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Version 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D712A-796A-4F67-B3D9-F26B881FB690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/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76320" y="304920"/>
            <a:ext cx="2286000" cy="869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95400" algn="ctr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57240" algn="ctr">
              <a:spcBef>
                <a:spcPts val="4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9080" algn="ctr">
              <a:spcBef>
                <a:spcPts val="34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image" Target="../media/image12.wmf"/><Relationship Id="rId8" Type="http://schemas.openxmlformats.org/officeDocument/2006/relationships/image" Target="../media/image13.wmf"/><Relationship Id="rId9" Type="http://schemas.openxmlformats.org/officeDocument/2006/relationships/image" Target="../media/image14.wmf"/><Relationship Id="rId10" Type="http://schemas.openxmlformats.org/officeDocument/2006/relationships/image" Target="../media/image14.wmf"/><Relationship Id="rId11" Type="http://schemas.openxmlformats.org/officeDocument/2006/relationships/image" Target="../media/image14.wmf"/><Relationship Id="rId12" Type="http://schemas.openxmlformats.org/officeDocument/2006/relationships/image" Target="../media/image14.wmf"/><Relationship Id="rId13" Type="http://schemas.openxmlformats.org/officeDocument/2006/relationships/image" Target="../media/image12.wmf"/><Relationship Id="rId14" Type="http://schemas.openxmlformats.org/officeDocument/2006/relationships/image" Target="../media/image13.wmf"/><Relationship Id="rId15" Type="http://schemas.openxmlformats.org/officeDocument/2006/relationships/image" Target="../media/image14.wmf"/><Relationship Id="rId16" Type="http://schemas.openxmlformats.org/officeDocument/2006/relationships/image" Target="../media/image14.wmf"/><Relationship Id="rId17" Type="http://schemas.openxmlformats.org/officeDocument/2006/relationships/image" Target="../media/image14.wmf"/><Relationship Id="rId18" Type="http://schemas.openxmlformats.org/officeDocument/2006/relationships/image" Target="../media/image14.wmf"/><Relationship Id="rId19" Type="http://schemas.openxmlformats.org/officeDocument/2006/relationships/image" Target="../media/image12.wmf"/><Relationship Id="rId20" Type="http://schemas.openxmlformats.org/officeDocument/2006/relationships/image" Target="../media/image13.wmf"/><Relationship Id="rId21" Type="http://schemas.openxmlformats.org/officeDocument/2006/relationships/image" Target="../media/image14.wmf"/><Relationship Id="rId22" Type="http://schemas.openxmlformats.org/officeDocument/2006/relationships/image" Target="../media/image14.wmf"/><Relationship Id="rId23" Type="http://schemas.openxmlformats.org/officeDocument/2006/relationships/image" Target="../media/image14.wmf"/><Relationship Id="rId24" Type="http://schemas.openxmlformats.org/officeDocument/2006/relationships/image" Target="../media/image14.wmf"/><Relationship Id="rId25" Type="http://schemas.openxmlformats.org/officeDocument/2006/relationships/image" Target="../media/image12.wmf"/><Relationship Id="rId26" Type="http://schemas.openxmlformats.org/officeDocument/2006/relationships/image" Target="../media/image13.wmf"/><Relationship Id="rId27" Type="http://schemas.openxmlformats.org/officeDocument/2006/relationships/image" Target="../media/image14.wmf"/><Relationship Id="rId28" Type="http://schemas.openxmlformats.org/officeDocument/2006/relationships/image" Target="../media/image14.wmf"/><Relationship Id="rId29" Type="http://schemas.openxmlformats.org/officeDocument/2006/relationships/image" Target="../media/image14.wmf"/><Relationship Id="rId30" Type="http://schemas.openxmlformats.org/officeDocument/2006/relationships/image" Target="../media/image14.wmf"/><Relationship Id="rId31" Type="http://schemas.openxmlformats.org/officeDocument/2006/relationships/image" Target="../media/image12.wmf"/><Relationship Id="rId32" Type="http://schemas.openxmlformats.org/officeDocument/2006/relationships/image" Target="../media/image15.wmf"/><Relationship Id="rId33" Type="http://schemas.openxmlformats.org/officeDocument/2006/relationships/image" Target="../media/image14.wmf"/><Relationship Id="rId3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35280" y="2205000"/>
            <a:ext cx="5184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楷体_GB2312"/>
              </a:rPr>
              <a:t>项目实践指导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378900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系统设计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00000" y="119700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域账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账户命名规范：员工姓名汉语全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初始化密码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jft1234#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每个员工账户在相应部门组织单位中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系统设计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00000" y="119700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域账户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账户组命名规范：部门名称的汉语全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账户组成员：本部门的所有员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账户组的类型：全局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账户组在相应的组织单位中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系统设计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00000" y="119700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安全策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密码策略为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启用密码必须符合复杂性要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密码长度最小值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密码最长存留期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天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账户锁定策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账户锁定阈值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次无效登录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审核策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启用审核登录事件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启用审核对象访问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系统设计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751212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文件服务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计算机名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esrv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P/IP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参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:192.168.1.21/2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缺省网关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2.168.1.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硬盘容量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0G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每个用户设置默认的磁盘空间配额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G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警告级别设置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00M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总经理不设磁盘配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系统设计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751212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文件服务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创建一个共享文件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:\shar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共享名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:\shar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下按部门文件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在每个部门的文件夹下创建每个员工的文件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总经理对所有文件夹有完全访问权限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每个部门经理对本部门的文件夹有完全访问权限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每个员工对自己的文件夹有完全访问权限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系统设计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76240" y="1523880"/>
            <a:ext cx="7512120" cy="40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打印服务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计算机名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Printingsr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TCP/IP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参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IP:192.168.1.23/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缺省网关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192.168.1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系统设计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76240" y="1523880"/>
            <a:ext cx="7512120" cy="40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打印设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7993080" cy="3673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系统设计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76240" y="1523880"/>
            <a:ext cx="7512120" cy="40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打印机权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8280360" cy="36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系统设计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76240" y="1523880"/>
            <a:ext cx="7512120" cy="40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公用打印机优先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总经理的优先级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部门经理优先级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员工优先级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系统设计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76240" y="1523880"/>
            <a:ext cx="7512120" cy="40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代理服务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计算机名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Proxysr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TCP/IP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参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IP:192.168.1.24/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缺省网关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192.168.1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代理服务软件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CCPro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所有服务使用默认端口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布线设计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4920" y="1052640"/>
            <a:ext cx="237636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信息点布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管线设计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2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700360" y="981000"/>
          <a:ext cx="5111640" cy="568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981000"/>
                    <a:ext cx="5111640" cy="56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系统设计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76240" y="1523880"/>
            <a:ext cx="7512120" cy="40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客户机设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将客户机加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bjft.local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域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客户机在相应部门的组织单位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映射网络驱动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\\Filesrv\sh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添加并设置网络打印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代理服务器的客户端设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332000" y="38088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第一阶段项目网络拓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403280" y="1600200"/>
            <a:ext cx="7418520" cy="4495680"/>
            <a:chOff x="1403280" y="1600200"/>
            <a:chExt cx="7418520" cy="4495680"/>
          </a:xfrm>
        </p:grpSpPr>
        <p:sp>
          <p:nvSpPr>
            <p:cNvPr id="145" name=""/>
            <p:cNvSpPr/>
            <p:nvPr/>
          </p:nvSpPr>
          <p:spPr>
            <a:xfrm>
              <a:off x="8275320" y="526104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教师机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6" name="" descr=""/>
            <p:cNvPicPr/>
            <p:nvPr/>
          </p:nvPicPr>
          <p:blipFill>
            <a:blip r:embed="rId1"/>
            <a:stretch/>
          </p:blipFill>
          <p:spPr>
            <a:xfrm>
              <a:off x="1905120" y="4016520"/>
              <a:ext cx="90144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2"/>
            <a:stretch/>
          </p:blipFill>
          <p:spPr>
            <a:xfrm>
              <a:off x="1905120" y="3124080"/>
              <a:ext cx="91440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2286000" y="35053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9" name="" descr=""/>
            <p:cNvPicPr/>
            <p:nvPr/>
          </p:nvPicPr>
          <p:blipFill>
            <a:blip r:embed="rId3"/>
            <a:stretch/>
          </p:blipFill>
          <p:spPr>
            <a:xfrm>
              <a:off x="1905120" y="198108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4"/>
            <a:stretch/>
          </p:blipFill>
          <p:spPr>
            <a:xfrm>
              <a:off x="2057400" y="21337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5"/>
            <a:stretch/>
          </p:blipFill>
          <p:spPr>
            <a:xfrm>
              <a:off x="2209680" y="228600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6"/>
            <a:stretch/>
          </p:blipFill>
          <p:spPr>
            <a:xfrm>
              <a:off x="2362320" y="243828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2057400" y="22860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09680" y="243828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62320" y="259092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514600" y="2743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7" name="" descr=""/>
            <p:cNvPicPr/>
            <p:nvPr/>
          </p:nvPicPr>
          <p:blipFill>
            <a:blip r:embed="rId7"/>
            <a:stretch/>
          </p:blipFill>
          <p:spPr>
            <a:xfrm>
              <a:off x="3124080" y="4016520"/>
              <a:ext cx="90180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8"/>
            <a:stretch/>
          </p:blipFill>
          <p:spPr>
            <a:xfrm>
              <a:off x="3124080" y="3124080"/>
              <a:ext cx="91440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3505320" y="35053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9"/>
            <a:stretch/>
          </p:blipFill>
          <p:spPr>
            <a:xfrm>
              <a:off x="3124080" y="198108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10"/>
            <a:stretch/>
          </p:blipFill>
          <p:spPr>
            <a:xfrm>
              <a:off x="3276720" y="21337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11"/>
            <a:stretch/>
          </p:blipFill>
          <p:spPr>
            <a:xfrm>
              <a:off x="3429000" y="228600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12"/>
            <a:stretch/>
          </p:blipFill>
          <p:spPr>
            <a:xfrm>
              <a:off x="3581280" y="243828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3276720" y="22860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29000" y="243828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581280" y="259092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7" name="" descr=""/>
            <p:cNvPicPr/>
            <p:nvPr/>
          </p:nvPicPr>
          <p:blipFill>
            <a:blip r:embed="rId13"/>
            <a:stretch/>
          </p:blipFill>
          <p:spPr>
            <a:xfrm>
              <a:off x="4343400" y="4016520"/>
              <a:ext cx="90180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14"/>
            <a:stretch/>
          </p:blipFill>
          <p:spPr>
            <a:xfrm>
              <a:off x="4343400" y="3124080"/>
              <a:ext cx="91440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4724280" y="35053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0" name="" descr=""/>
            <p:cNvPicPr/>
            <p:nvPr/>
          </p:nvPicPr>
          <p:blipFill>
            <a:blip r:embed="rId15"/>
            <a:stretch/>
          </p:blipFill>
          <p:spPr>
            <a:xfrm>
              <a:off x="4343400" y="198108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16"/>
            <a:stretch/>
          </p:blipFill>
          <p:spPr>
            <a:xfrm>
              <a:off x="4495680" y="21337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17"/>
            <a:stretch/>
          </p:blipFill>
          <p:spPr>
            <a:xfrm>
              <a:off x="4648320" y="228600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18"/>
            <a:stretch/>
          </p:blipFill>
          <p:spPr>
            <a:xfrm>
              <a:off x="4800600" y="243828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4495680" y="22860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648320" y="243828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00600" y="259092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952880" y="2743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8" name="" descr=""/>
            <p:cNvPicPr/>
            <p:nvPr/>
          </p:nvPicPr>
          <p:blipFill>
            <a:blip r:embed="rId19"/>
            <a:stretch/>
          </p:blipFill>
          <p:spPr>
            <a:xfrm>
              <a:off x="5562720" y="4016520"/>
              <a:ext cx="90144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" descr=""/>
            <p:cNvPicPr/>
            <p:nvPr/>
          </p:nvPicPr>
          <p:blipFill>
            <a:blip r:embed="rId20"/>
            <a:stretch/>
          </p:blipFill>
          <p:spPr>
            <a:xfrm>
              <a:off x="5562720" y="3124080"/>
              <a:ext cx="91440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5943600" y="35053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1" name="" descr=""/>
            <p:cNvPicPr/>
            <p:nvPr/>
          </p:nvPicPr>
          <p:blipFill>
            <a:blip r:embed="rId21"/>
            <a:stretch/>
          </p:blipFill>
          <p:spPr>
            <a:xfrm>
              <a:off x="5562720" y="198108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22"/>
            <a:stretch/>
          </p:blipFill>
          <p:spPr>
            <a:xfrm>
              <a:off x="5715000" y="21337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" descr=""/>
            <p:cNvPicPr/>
            <p:nvPr/>
          </p:nvPicPr>
          <p:blipFill>
            <a:blip r:embed="rId23"/>
            <a:stretch/>
          </p:blipFill>
          <p:spPr>
            <a:xfrm>
              <a:off x="5867280" y="228600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24"/>
            <a:stretch/>
          </p:blipFill>
          <p:spPr>
            <a:xfrm>
              <a:off x="6019920" y="243828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5715000" y="22860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867280" y="243828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019920" y="259092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172200" y="2743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9" name="" descr=""/>
            <p:cNvPicPr/>
            <p:nvPr/>
          </p:nvPicPr>
          <p:blipFill>
            <a:blip r:embed="rId25"/>
            <a:stretch/>
          </p:blipFill>
          <p:spPr>
            <a:xfrm>
              <a:off x="6781680" y="4016520"/>
              <a:ext cx="90180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26"/>
            <a:stretch/>
          </p:blipFill>
          <p:spPr>
            <a:xfrm>
              <a:off x="6781680" y="3124080"/>
              <a:ext cx="91440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7162920" y="35053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2" name="" descr=""/>
            <p:cNvPicPr/>
            <p:nvPr/>
          </p:nvPicPr>
          <p:blipFill>
            <a:blip r:embed="rId27"/>
            <a:stretch/>
          </p:blipFill>
          <p:spPr>
            <a:xfrm>
              <a:off x="6781680" y="198108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28"/>
            <a:stretch/>
          </p:blipFill>
          <p:spPr>
            <a:xfrm>
              <a:off x="6934320" y="213372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29"/>
            <a:stretch/>
          </p:blipFill>
          <p:spPr>
            <a:xfrm>
              <a:off x="7086600" y="228600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30"/>
            <a:stretch/>
          </p:blipFill>
          <p:spPr>
            <a:xfrm>
              <a:off x="7238880" y="243828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6934320" y="22860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086600" y="243828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238880" y="259092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391520" y="2743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0" name="" descr=""/>
            <p:cNvPicPr/>
            <p:nvPr/>
          </p:nvPicPr>
          <p:blipFill>
            <a:blip r:embed="rId31"/>
            <a:stretch/>
          </p:blipFill>
          <p:spPr>
            <a:xfrm>
              <a:off x="4343400" y="4952880"/>
              <a:ext cx="901800" cy="47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2286000" y="4495680"/>
              <a:ext cx="2057400" cy="685800"/>
            </a:xfrm>
            <a:custGeom>
              <a:avLst/>
              <a:gdLst/>
              <a:ahLst/>
              <a:rect l="l" t="t" r="r" b="b"/>
              <a:pathLst>
                <a:path w="1296" h="480">
                  <a:moveTo>
                    <a:pt x="0" y="0"/>
                  </a:moveTo>
                  <a:lnTo>
                    <a:pt x="0" y="480"/>
                  </a:lnTo>
                  <a:lnTo>
                    <a:pt x="1296" y="48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581280" y="4495680"/>
              <a:ext cx="914400" cy="533520"/>
            </a:xfrm>
            <a:custGeom>
              <a:avLst/>
              <a:gdLst/>
              <a:ahLst/>
              <a:rect l="l" t="t" r="r" b="b"/>
              <a:pathLst>
                <a:path w="576" h="336">
                  <a:moveTo>
                    <a:pt x="0" y="0"/>
                  </a:moveTo>
                  <a:lnTo>
                    <a:pt x="0" y="240"/>
                  </a:lnTo>
                  <a:lnTo>
                    <a:pt x="576" y="240"/>
                  </a:lnTo>
                  <a:lnTo>
                    <a:pt x="576" y="3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800600" y="44956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181480" y="4495680"/>
              <a:ext cx="2057400" cy="685800"/>
            </a:xfrm>
            <a:custGeom>
              <a:avLst/>
              <a:gdLst/>
              <a:ahLst/>
              <a:rect l="l" t="t" r="r" b="b"/>
              <a:pathLst>
                <a:path w="1248" h="480">
                  <a:moveTo>
                    <a:pt x="1248" y="0"/>
                  </a:moveTo>
                  <a:lnTo>
                    <a:pt x="1248" y="480"/>
                  </a:lnTo>
                  <a:lnTo>
                    <a:pt x="0" y="48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752480" y="1600200"/>
              <a:ext cx="1143000" cy="3048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971800" y="1600200"/>
              <a:ext cx="1143000" cy="3048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191120" y="1600200"/>
              <a:ext cx="1143000" cy="3048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410080" y="1600200"/>
              <a:ext cx="1143000" cy="3048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629400" y="1600200"/>
              <a:ext cx="1143000" cy="3048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752480" y="4800600"/>
              <a:ext cx="601992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800600" y="5410080"/>
              <a:ext cx="1066680" cy="304920"/>
            </a:xfrm>
            <a:custGeom>
              <a:avLst/>
              <a:gdLst/>
              <a:ahLst/>
              <a:rect l="l" t="t" r="r" b="b"/>
              <a:pathLst>
                <a:path w="672" h="192">
                  <a:moveTo>
                    <a:pt x="0" y="0"/>
                  </a:moveTo>
                  <a:lnTo>
                    <a:pt x="0" y="192"/>
                  </a:lnTo>
                  <a:lnTo>
                    <a:pt x="672" y="19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029200" y="4495680"/>
              <a:ext cx="990720" cy="457200"/>
            </a:xfrm>
            <a:custGeom>
              <a:avLst/>
              <a:gdLst/>
              <a:ahLst/>
              <a:rect l="l" t="t" r="r" b="b"/>
              <a:pathLst>
                <a:path w="624" h="288">
                  <a:moveTo>
                    <a:pt x="0" y="288"/>
                  </a:moveTo>
                  <a:lnTo>
                    <a:pt x="0" y="240"/>
                  </a:lnTo>
                  <a:lnTo>
                    <a:pt x="624" y="240"/>
                  </a:lnTo>
                  <a:lnTo>
                    <a:pt x="62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3" name="" descr=""/>
            <p:cNvPicPr/>
            <p:nvPr/>
          </p:nvPicPr>
          <p:blipFill>
            <a:blip r:embed="rId32"/>
            <a:stretch/>
          </p:blipFill>
          <p:spPr>
            <a:xfrm>
              <a:off x="5884920" y="5384880"/>
              <a:ext cx="104940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6113520" y="561348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Inter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5" name="" descr=""/>
            <p:cNvPicPr/>
            <p:nvPr/>
          </p:nvPicPr>
          <p:blipFill>
            <a:blip r:embed="rId33"/>
            <a:stretch/>
          </p:blipFill>
          <p:spPr>
            <a:xfrm>
              <a:off x="7956720" y="551664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6948360" y="5734080"/>
              <a:ext cx="100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35280" y="5084640"/>
              <a:ext cx="720720" cy="287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f01"/>
                  </a:solidFill>
                  <a:latin typeface="Arial"/>
                  <a:ea typeface="楷体_GB2312"/>
                </a:rPr>
                <a:t>R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476360" y="4437000"/>
              <a:ext cx="720720" cy="287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f01"/>
                  </a:solidFill>
                  <a:latin typeface="Arial"/>
                  <a:ea typeface="楷体_GB2312"/>
                </a:rPr>
                <a:t>R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00360" y="4437000"/>
              <a:ext cx="720720" cy="287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f01"/>
                  </a:solidFill>
                  <a:latin typeface="Arial"/>
                  <a:ea typeface="楷体_GB2312"/>
                </a:rPr>
                <a:t>R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24360" y="4437000"/>
              <a:ext cx="720720" cy="287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f01"/>
                  </a:solidFill>
                  <a:latin typeface="Arial"/>
                  <a:ea typeface="楷体_GB2312"/>
                </a:rPr>
                <a:t>R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076720" y="4437000"/>
              <a:ext cx="720720" cy="287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f01"/>
                  </a:solidFill>
                  <a:latin typeface="Arial"/>
                  <a:ea typeface="楷体_GB2312"/>
                </a:rPr>
                <a:t>R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372360" y="4437000"/>
              <a:ext cx="720720" cy="287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f01"/>
                  </a:solidFill>
                  <a:latin typeface="Arial"/>
                  <a:ea typeface="楷体_GB2312"/>
                </a:rPr>
                <a:t>R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403280" y="3500280"/>
              <a:ext cx="720720" cy="287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f01"/>
                  </a:solidFill>
                  <a:latin typeface="Arial"/>
                  <a:ea typeface="楷体_GB2312"/>
                </a:rPr>
                <a:t>S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771640" y="3500280"/>
              <a:ext cx="720720" cy="287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f01"/>
                  </a:solidFill>
                  <a:latin typeface="Arial"/>
                  <a:ea typeface="楷体_GB2312"/>
                </a:rPr>
                <a:t>S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924360" y="3500280"/>
              <a:ext cx="720720" cy="287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f01"/>
                  </a:solidFill>
                  <a:latin typeface="Arial"/>
                  <a:ea typeface="楷体_GB2312"/>
                </a:rPr>
                <a:t>S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148360" y="3500280"/>
              <a:ext cx="720720" cy="287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f01"/>
                  </a:solidFill>
                  <a:latin typeface="Arial"/>
                  <a:ea typeface="楷体_GB2312"/>
                </a:rPr>
                <a:t>S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443640" y="3500280"/>
              <a:ext cx="720720" cy="287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f01"/>
                  </a:solidFill>
                  <a:latin typeface="Arial"/>
                  <a:ea typeface="楷体_GB2312"/>
                </a:rPr>
                <a:t>S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第一阶段项目网络拓扑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2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395280" y="1125360"/>
          <a:ext cx="6985080" cy="482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25360"/>
                    <a:ext cx="6985080" cy="48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项目分组结构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项目分组要求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每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名学员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设立一名组长组织协调本组工作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主要工作有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路由器和交换机的配置调试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域控制器的配置调试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文件服务的配置调试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打印服务的配置调试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代理服务的配置调试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项目完成标准　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设备连接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根据网络拓扑正确连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网络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路由器和交换机的主机名正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路由器和交换机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正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路由器的路由表正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任何一台机器都可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n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通教师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项目完成标准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　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76240" y="1197000"/>
            <a:ext cx="739152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系统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所有账户能顺利登录到域中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安全策略设置正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组织单位和账户组设置正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文件服务器能够提供正常的文件共享服务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共享文件夹权限设置正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户能够实现网络打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打印机权限设置正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通过代理服务器访问教师机的网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布线设计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00000" y="1268280"/>
            <a:ext cx="73915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配线管理系统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二配线架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端口与公司网络连接使用交叉线（级联线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900000" y="1773360"/>
          <a:ext cx="7274160" cy="208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773360"/>
                    <a:ext cx="7274160" cy="20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网络设计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网络设备的选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交换机选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sc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公司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95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系列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固定安装的线速快速以太网桌面交换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sco Catalyst 295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系列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talyst2950-4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路由器则选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6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系列路由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模块化多服务设计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6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系列路由器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sco 2611x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网络设计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00000" y="119700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地址的划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厦提供了一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地址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2.168.1.0/2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划分一个子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2.168.1.252/3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共两个可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地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2.168.1.253/3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2.168.1.254/3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分别给路由器外端口和大厦路由器端口使用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划分子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2.168.1.0/2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给内部网络使用，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2.168.1.1/2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2.168.1.126/2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可用地址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其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地址留做备用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网络设计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63640" y="1268280"/>
          <a:ext cx="6481800" cy="49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268280"/>
                    <a:ext cx="6481800" cy="49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网络设计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00000" y="119700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交换机和路由器的配置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交换机主机名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jft-Swit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交换机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2.168.1.11/2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路由器主机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Bjft-Rou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路由器进入特权模式的密码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路由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0/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2.168.1.1/2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路由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0/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2.168.1.253/3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路由器上联路由指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0/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路由器下联路由指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0/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配置路由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ne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密码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系统设计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00000" y="119700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域控制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域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jft.loc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域控制器的计算机名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域控制器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P/I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参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P:192.168.1.21/2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缺省网关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2.168.1.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系统设计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4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826920" y="2205000"/>
          <a:ext cx="7848720" cy="38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205000"/>
                    <a:ext cx="784872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域用户组织单位和用户组拓扑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11:58:20Z</dcterms:created>
  <dc:creator>wei.gao</dc:creator>
  <dc:description/>
  <dc:language>en-US</dc:language>
  <cp:lastModifiedBy>gaowei</cp:lastModifiedBy>
  <dcterms:modified xsi:type="dcterms:W3CDTF">2004-03-15T04:08:46Z</dcterms:modified>
  <cp:revision>143</cp:revision>
  <dc:subject/>
  <dc:title>Understanding Basic HTML</dc:title>
</cp:coreProperties>
</file>