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4F81-351F-4C6E-960D-61E9BC55145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C2A-ACA6-4851-8E92-E605A16AD38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SQL Server 2000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的服务和配置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三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628640"/>
            <a:ext cx="58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最基本最综合的管理组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可以调用其它的管理组件（工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9200" cy="425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微软管理控制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013360"/>
            <a:ext cx="108108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1680" y="2133720"/>
            <a:ext cx="61992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以很方便地组织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197400" cy="439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个自定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控制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197760" cy="3822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M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管理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管理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M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与企业管理器环境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73120" y="1844640"/>
            <a:ext cx="6197760" cy="432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独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企业管理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的注册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新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注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199200" cy="4327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1844640"/>
            <a:ext cx="1871640" cy="936720"/>
          </a:xfrm>
          <a:prstGeom prst="wedgeRoundRectCallout">
            <a:avLst>
              <a:gd name="adj1" fmla="val -128370"/>
              <a:gd name="adj2" fmla="val 7762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2997360"/>
            <a:ext cx="1871640" cy="936360"/>
          </a:xfrm>
          <a:prstGeom prst="wedgeRoundRectCallout">
            <a:avLst>
              <a:gd name="adj1" fmla="val -121499"/>
              <a:gd name="adj2" fmla="val 62032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别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6720" y="4149720"/>
            <a:ext cx="1871640" cy="936720"/>
          </a:xfrm>
          <a:prstGeom prst="wedgeRoundRectCallout">
            <a:avLst>
              <a:gd name="adj1" fmla="val -128370"/>
              <a:gd name="adj2" fmla="val -4728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调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具和向导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95960" cy="4111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工具的调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380520"/>
            <a:ext cx="82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调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工具和向导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导的调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049800" cy="40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可用来辅助数据库开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可用来辅助数据查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方便了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可视化数据库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版的主要管理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DB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5691240" cy="4052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据库关系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8532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5280" y="380520"/>
            <a:ext cx="83883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设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8532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开发和可视化数据库工具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47640" y="1903320"/>
            <a:ext cx="5689800" cy="426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视图生成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查询和可视化数据库工具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472360" cy="3727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视化数据库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生成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启动、暂停和停止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动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工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暂停和继续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停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419640" y="2708280"/>
            <a:ext cx="3622680" cy="3005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3933720"/>
            <a:ext cx="1871640" cy="936720"/>
          </a:xfrm>
          <a:prstGeom prst="wedgeRoundRectCallout">
            <a:avLst>
              <a:gd name="adj1" fmla="val 104199"/>
              <a:gd name="adj2" fmla="val 89324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自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自动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897880" cy="42256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516720" y="2708280"/>
            <a:ext cx="1871640" cy="936720"/>
          </a:xfrm>
          <a:prstGeom prst="wedgeRoundRectCallout">
            <a:avLst>
              <a:gd name="adj1" fmla="val -119550"/>
              <a:gd name="adj2" fmla="val 102879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自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手工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3762360" cy="305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工启动使用的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停止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服务设置为手动启动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328464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手动启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暂停和继续运行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2760840" cy="2641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管理需要暂停和继续运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76720" y="2060640"/>
            <a:ext cx="2757600" cy="2697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780000" y="2852640"/>
            <a:ext cx="1223640" cy="503280"/>
          </a:xfrm>
          <a:prstGeom prst="rightArrow">
            <a:avLst>
              <a:gd name="adj1" fmla="val 50000"/>
              <a:gd name="adj2" fmla="val 60783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2421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暂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08360" y="3500280"/>
            <a:ext cx="1224000" cy="505080"/>
          </a:xfrm>
          <a:prstGeom prst="leftArrow">
            <a:avLst>
              <a:gd name="adj1" fmla="val 50000"/>
              <a:gd name="adj2" fmla="val 60584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41497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继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停止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2772000" cy="22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76240" y="1268280"/>
            <a:ext cx="739152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系统维护停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2764080" cy="224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780000" y="2852640"/>
            <a:ext cx="1223640" cy="503280"/>
          </a:xfrm>
          <a:prstGeom prst="rightArrow">
            <a:avLst>
              <a:gd name="adj1" fmla="val 50000"/>
              <a:gd name="adj2" fmla="val 60783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421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360" y="3500280"/>
            <a:ext cx="1224000" cy="505080"/>
          </a:xfrm>
          <a:prstGeom prst="leftArrow">
            <a:avLst>
              <a:gd name="adj1" fmla="val 50000"/>
              <a:gd name="adj2" fmla="val 60584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414972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8576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各项服务启动、停止、暂停、继续的操作方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8576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的各属性配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注册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建立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方便在企业管理器中进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在企业管理器中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需要先创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应该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组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服务器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4174920" cy="3641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创建服务器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328464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创建子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2133720"/>
            <a:ext cx="1871640" cy="936360"/>
          </a:xfrm>
          <a:prstGeom prst="wedgeRoundRectCallout">
            <a:avLst>
              <a:gd name="adj1" fmla="val -164250"/>
              <a:gd name="adj2" fmla="val 7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指定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服务器组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619960" cy="4182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00000" y="141300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组的应用样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访问服务器注册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3533760" cy="392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的注册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95640" y="2924280"/>
            <a:ext cx="3168360" cy="143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1773360"/>
            <a:ext cx="1871640" cy="1224000"/>
          </a:xfrm>
          <a:prstGeom prst="wedgeRoundRectCallout">
            <a:avLst>
              <a:gd name="adj1" fmla="val -153814"/>
              <a:gd name="adj2" fmla="val 5687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设定身份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验证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59640" y="3429000"/>
            <a:ext cx="1871640" cy="1224000"/>
          </a:xfrm>
          <a:prstGeom prst="wedgeRoundRectCallout">
            <a:avLst>
              <a:gd name="adj1" fmla="val -153814"/>
              <a:gd name="adj2" fmla="val 5687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设定所属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器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属性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规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存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器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性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制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项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规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3835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名称、产品信息和运行环境的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在操作系统启动时自动启动的策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或设置启动参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或设置网络设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197000"/>
            <a:ext cx="4471920" cy="532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284720" y="2421000"/>
            <a:ext cx="4464000" cy="20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508640"/>
            <a:ext cx="4464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5445000"/>
            <a:ext cx="446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56000" y="5805360"/>
            <a:ext cx="4464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存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523880"/>
            <a:ext cx="410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地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固定的内存大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留的物理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小查询内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259160" y="1052640"/>
            <a:ext cx="4873680" cy="58053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88000" y="2708280"/>
            <a:ext cx="3168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88000" y="4292640"/>
            <a:ext cx="316872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5157720"/>
            <a:ext cx="31687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516640"/>
            <a:ext cx="212400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处理器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495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器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大工作线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提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优先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纤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所有可用的处理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处理器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允许查询并行执行须满足的最小查询计划阈值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00720" y="1123920"/>
            <a:ext cx="4643280" cy="5734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076720" y="4005360"/>
            <a:ext cx="2664000" cy="290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48360" y="4941720"/>
            <a:ext cx="2663640" cy="254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5229360"/>
            <a:ext cx="266364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0720" y="5589720"/>
            <a:ext cx="100800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16280"/>
            <a:ext cx="331164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3311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04000" y="3429000"/>
            <a:ext cx="1655640" cy="217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9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全性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份验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审核级别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服务的账户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752720" cy="566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16360" y="2708280"/>
            <a:ext cx="266400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3602160"/>
            <a:ext cx="2808360" cy="834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4581360"/>
            <a:ext cx="2808360" cy="136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连接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发用户连接的最大数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连接选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其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连接到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超时（秒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制分布式事务处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451400" y="1268280"/>
            <a:ext cx="4692600" cy="5589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667640" y="2133720"/>
            <a:ext cx="115236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2997360"/>
            <a:ext cx="28796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4797360"/>
            <a:ext cx="359892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5157720"/>
            <a:ext cx="115272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5516640"/>
            <a:ext cx="2303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服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L Server Ag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 Sear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Transaction Coordinat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SQLServerADHelp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选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500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的默认语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对系统目录直接进行修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允许激发会激发其它触发器（嵌套触发器）的触发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查询调控器防止超出指定成本的查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登录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两个数字表示年份时，代表图中时间段的年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451400" y="1268280"/>
            <a:ext cx="4692600" cy="5589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451640" y="2133720"/>
            <a:ext cx="1152720" cy="57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2870280"/>
            <a:ext cx="25210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9640" y="3284640"/>
            <a:ext cx="352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3716280"/>
            <a:ext cx="35276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4365720"/>
            <a:ext cx="26654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92720" y="5589720"/>
            <a:ext cx="273528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建索引设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超时期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的备份媒体保持期（天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恢复间隔（分钟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数据目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日志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设置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268880" y="1052640"/>
            <a:ext cx="4875120" cy="58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92720" y="2276640"/>
            <a:ext cx="2665440" cy="50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3284640"/>
            <a:ext cx="1800000" cy="736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12000" y="3789360"/>
            <a:ext cx="1008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4437000"/>
            <a:ext cx="1008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5229360"/>
            <a:ext cx="20872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2720" y="5589720"/>
            <a:ext cx="208728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复制选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070440" cy="3655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076560" cy="3662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140360" y="4149720"/>
            <a:ext cx="1008000" cy="574560"/>
          </a:xfrm>
          <a:prstGeom prst="rightArrow">
            <a:avLst>
              <a:gd name="adj1" fmla="val 50000"/>
              <a:gd name="adj2" fmla="val 4386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3789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发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11640" y="4797360"/>
            <a:ext cx="72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分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器的发布和分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ctive Directory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070080" cy="36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3087720" cy="36748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添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ctive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40360" y="4149720"/>
            <a:ext cx="1008000" cy="574560"/>
          </a:xfrm>
          <a:prstGeom prst="rightArrow">
            <a:avLst>
              <a:gd name="adj1" fmla="val 50000"/>
              <a:gd name="adj2" fmla="val 4386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客户端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需要管理的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950000" cy="4343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03640" y="3645000"/>
            <a:ext cx="3384360" cy="360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4221000"/>
            <a:ext cx="1584000" cy="7923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141720"/>
            <a:ext cx="4176720" cy="3585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0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4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 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Net-Library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和网络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来提供网络通讯需要的接口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支持不同的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协议因为相似或比较相同，在具体实现上放在同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但在使用中当作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可根据自己需要，使用或自行设计第三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支持通用或专用的网络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用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0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别名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933560" y="198612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55640" y="134136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DB-Librar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0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客户端网络连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276880" cy="3724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客户端网络实用工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网络库查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5688000" cy="382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2692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92280"/>
            <a:ext cx="2160720" cy="1008000"/>
          </a:xfrm>
          <a:prstGeom prst="wedgeRoundRectCallout">
            <a:avLst>
              <a:gd name="adj1" fmla="val -110986"/>
              <a:gd name="adj2" fmla="val 172046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服务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221000"/>
            <a:ext cx="2160720" cy="1008360"/>
          </a:xfrm>
          <a:prstGeom prst="wedgeRoundRectCallout">
            <a:avLst>
              <a:gd name="adj1" fmla="val -78800"/>
              <a:gd name="adj2" fmla="val 121180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服务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SQL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SERVER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sof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始、停止、暂停、继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各项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启动、停止、暂停、继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各项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1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6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性”选项卡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企业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客户端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-Librar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网络协议管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客户端网络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4000" y="1523880"/>
            <a:ext cx="6624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项服务启动、停止、暂停、继续的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的各属性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启动、停止、暂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项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注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配置客户端网络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184720" cy="3767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627280" y="2925720"/>
            <a:ext cx="4824360" cy="136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基本管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1916280"/>
            <a:ext cx="2160720" cy="865080"/>
          </a:xfrm>
          <a:prstGeom prst="wedgeRoundRectCallout">
            <a:avLst>
              <a:gd name="adj1" fmla="val -73731"/>
              <a:gd name="adj2" fmla="val 7146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6195960" cy="417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067280" y="4941720"/>
            <a:ext cx="208908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快捷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508640"/>
            <a:ext cx="2305080" cy="1152360"/>
          </a:xfrm>
          <a:prstGeom prst="wedgeRoundRectCallout">
            <a:avLst>
              <a:gd name="adj1" fmla="val -73004"/>
              <a:gd name="adj2" fmla="val 96282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右键菜单简单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Windows 2000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服务管理器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9596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56360" y="2781360"/>
            <a:ext cx="2663640" cy="1152360"/>
          </a:xfrm>
          <a:prstGeom prst="wedgeRoundRectCallout">
            <a:avLst>
              <a:gd name="adj1" fmla="val -77532"/>
              <a:gd name="adj2" fmla="val 59777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启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Windows 20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管理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Windows 20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管理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5956200" cy="388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6000" y="2565360"/>
            <a:ext cx="1296720" cy="863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2421000"/>
            <a:ext cx="647640" cy="144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服务管理器的基本管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520" y="3284640"/>
            <a:ext cx="2160720" cy="1224000"/>
          </a:xfrm>
          <a:prstGeom prst="wedgeRoundRectCallout">
            <a:avLst>
              <a:gd name="adj1" fmla="val 64402"/>
              <a:gd name="adj2" fmla="val -75939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管理器中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SQL Server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724280"/>
            <a:ext cx="1872000" cy="936720"/>
          </a:xfrm>
          <a:prstGeom prst="wedgeRoundRectCallout">
            <a:avLst>
              <a:gd name="adj1" fmla="val 103773"/>
              <a:gd name="adj2" fmla="val -171694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服务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1700280"/>
            <a:ext cx="1871640" cy="936720"/>
          </a:xfrm>
          <a:prstGeom prst="wedgeRoundRectCallout">
            <a:avLst>
              <a:gd name="adj1" fmla="val -142958"/>
              <a:gd name="adj2" fmla="val 3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645000"/>
            <a:ext cx="1871640" cy="936360"/>
          </a:xfrm>
          <a:prstGeom prst="wedgeRoundRectCallout">
            <a:avLst>
              <a:gd name="adj1" fmla="val -142958"/>
              <a:gd name="adj2" fmla="val 34745"/>
              <a:gd name="adj3" fmla="val 16667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12600">
            <a:solidFill>
              <a:srgbClr val="969696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楷体_GB2312"/>
              </a:rPr>
              <a:t>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zoom dir="in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3:42:53Z</dcterms:modified>
  <cp:revision>694</cp:revision>
  <dc:subject/>
  <dc:title>SQL Server 2000安装与简介</dc:title>
</cp:coreProperties>
</file>