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eorgi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eorg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eorgi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eorg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eorgi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eorg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523E-8C94-4AFF-8B9A-AE0B31BB1DDF}" type="slidenum">
              <a:rPr b="0" lang="zh-CN" sz="1200" spc="-1" strike="noStrike">
                <a:solidFill>
                  <a:srgbClr val="000000"/>
                </a:solidFill>
                <a:latin typeface="Georg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-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对第五章安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A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内容介绍，本章所要讲解的主题，最长讲课时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钟。教员向学员介绍，在本章中他们将要学到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A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特征及作用，学员将学习使用规划部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A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indows Server 20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安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A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企业版，并且需要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A Serv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企业初始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71FD-4037-4185-9B68-8A1F7B1B4D0F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/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5EA5-2974-4805-8FC0-79B6A8E0501D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886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单表数据查询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  <a:ea typeface="宋体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五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语言介绍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什么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UCTURE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构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结构化的语句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TEMENT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子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LAUSE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使用和管理数据库。如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，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UERY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用来查询数据库信息。广义的查询还包括创建数据库、给用户指派权限等功能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ANGUAGE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在对应的服务器提供的解释或编译环境下运行的，因此不能脱离运行环境独立运行。例如，操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-SQ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就不能脱离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境运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语言介绍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990720"/>
            <a:ext cx="73915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键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键字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有特殊意义的字。常见的关键字有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REATE”“SELECT”“FROM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最小可以执行的单位。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CREATE DATABASE newD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可以由多个子句组成，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SELECT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姓名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地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SELECT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子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FROM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地址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FROM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子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WHERE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基本工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&gt;=2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WHERE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子句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语言介绍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9907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的分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DL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a Definition Language</a:t>
            </a:r>
            <a:r>
              <a:rPr b="1" lang="en-GB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定义语言，用于定义和管理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中的所有对象的语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ML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a Manipulation Language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操纵语言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处理数据（包括数据的增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LETE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操作统称为数据操纵语言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CL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a Control Language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控制语言，主要实现对用户权限的分配等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1956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语言介绍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4191120"/>
            <a:ext cx="51814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752480"/>
            <a:ext cx="7391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是基础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义的查询还可包括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插入数据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数据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DAT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数据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LET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ELEC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语句的语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860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2387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指定列名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orthwin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stomer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中查询出所有的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* FROM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stomer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中查询出部分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CompanyName, ContactName ,Address,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结果集中给查询的列以别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CompanyName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公司名称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ontactName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联系人姓名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ddress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地址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Phone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电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DISTINC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和批处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219320"/>
            <a:ext cx="8001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Employe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中查询“所有的员工来自于哪几个不同的城市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DISTINCT city FROM Employe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将多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-SQ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作为一个批处理执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语句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它们分成不同的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REATE DATABASE new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USE new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CREATE TABLE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地址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姓名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varchar(10)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生日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malldatetime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职位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varchar(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基本工资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HERE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子句限制行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orthwin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mployee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中查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irstNam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为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ndrew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记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SELECT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WHERE FirstName='Andrew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untry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不等于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SA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记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SELECT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WHERE Country&lt;&gt;'USA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询单价大于等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于等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产品记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SELECT 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FROM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WHERE UnitPrice&gt;=18 AND UnitPrice&lt;=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选取某一范围的数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查询单价大于等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于等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产品记录，使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BETWEEN…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* FROM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WHERE UnitPrice BETWEEN 18 AND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查询员工所在的城市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Seatt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Lond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Redmo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记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SELECT 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WHERE city IN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Seatt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Lond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Redmo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'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识别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UL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值数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查询员工表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Reg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的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NU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记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WHERE Region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查询员工表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Reg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的值非空的记录，使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IS NOT NU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WHERE Region IS NOT NULL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用数据对象：表、索引、视图、存储过程、触发器、用户自定义函数和全文索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的基本操作：创建、删除、收缩和移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的重要概念： 文件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字符串函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324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字符串函数举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L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求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cit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Lond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公司的名称字符串的长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LEN(CompanyName) AS 'Length', Compan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WHERE city='London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UPP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LOW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实现字符串的大小写转换。下面的查询用大写显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FirstNa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，用小写显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LastNa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UPPER(FirstName) AS First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LOWER(LastName) AS 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的语句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REVER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把字符串反转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REVERSE(FirstName)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反转的名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学函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6734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学函数举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AB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返回给定数字或者表达式的绝对值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ABS(-123.0), ABS(0.0), ABS(7891.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CEIL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返回大于或等于所给数字表达式的最小整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CEILING(123.45), CEILING(-123.45), CEILING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FLO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返回小于或等于所给数字表达式的最大整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FLOOR(123.45), FLOOR(-123.45), FLOOR(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函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到圆周率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ROU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四舍五入到指定的精度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SQUA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平方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SQ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平方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PI(),ROUND(123.4567, 4), SQUARE(34), SQRT(3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日期和时间函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67438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日期和时间函数举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服务器上得到当前的日期和时间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GETDA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GETDA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YE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MON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D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分别获得当前日期的年份、月份和日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YEAR(GETDATE()),MONTH(GETDATE()),DAY(GETDA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GROUP BY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子句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Pub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库中，统计每一类图书的平均价格，可以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GROUP B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子句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typ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列分组，然后用聚合函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AVG(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各组的平均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句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type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图书分类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VG(price)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平均价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ti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GROUP BY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HAVING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子句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Pub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库中，求各类图书的平均价格并按价格从大到小排列，使用下面的语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type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图书分类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VG(price)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平均价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ti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GROUP BY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ORDER BY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平均价格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返回平均价格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间的图书分类，使用下面的查询语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type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图书分类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AVG(price) A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平均价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ti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GROUP BY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HAVING AVG(price) BETWEEN 13 AND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UN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函数统计记录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100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9536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统计表中总的记录数可以使用聚合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orthwin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Order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表的总记录数可以用下面的语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SELECT COUNT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FROM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15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表是二维的数据集合，是数据库中最基本最重要的对象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表的操作有：创建表、更改表、删除表、插入数据、修改数据、删除数据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语言是操作数据库的语言，对表操作可以使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-SQ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语言完成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查询分析器中可以执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语句从而完成对数据库的操作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单表的查询使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语句，基本子句有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子句中可以对结果集做各种限制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子句可以对查询的结果集排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子句和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VING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子句对结果集分组聚合并筛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提供了大量函数，常用的有字符串函数、数学函数和日期时间函数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412920"/>
            <a:ext cx="781200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37960" y="1558440"/>
            <a:ext cx="731988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创建表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修改和删除表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了解结构化查询语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SELECT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子句的用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FROM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子句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WHERE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子句的用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GROUP BY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HAVING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的用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ORDER BY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子句的用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</a:rPr>
              <a:t>掌握常用的字符串函数、数学函数和日期时间函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886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利用企业管理器创建表、修改表结构、插入数据、修改数据、删除数据、删除表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理解主键的意义并在企业管理器中为表设置主键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T-SQL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语句完成创建表、插入数据、修改数据、删除数据、删除表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对单表查询所有列、特定的列、使用列的别名、使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DISTINCT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关键字、使用批处理语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G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WHERE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子句限制查询的行，使用算数比较符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BETWEEN…AND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IN(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等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在查询中使用函数，包括字符串函数、数学函数和日期时间函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对结果排序、分组和聚合，使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ORDER BY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GROUP BY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</a:rPr>
              <a:t>HAVING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</a:rPr>
              <a:t>子句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8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照每个任务的要求完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自己设计查询目标并写查询语句得到结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什么是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是数据库中最重要的对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所有的数据存储在表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是由横行和纵列组成的二维数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8610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对表的操作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建新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表中插入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表中的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表中的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表的名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表结构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在企业管理器中创建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6704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4800600" cy="3646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9580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00200" y="4724280"/>
            <a:ext cx="3657600" cy="1282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8200" y="1307880"/>
            <a:ext cx="3610440" cy="1492200"/>
          </a:xfrm>
          <a:prstGeom prst="rect">
            <a:avLst/>
          </a:prstGeom>
          <a:noFill/>
          <a:ln w="38160">
            <a:solidFill>
              <a:srgbClr val="f4a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33360" rIns="533160" tIns="46800" bIns="46800" anchor="ctr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姓名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varchar(50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地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varchar(50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生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ateti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职位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nvarchar(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主键的意义和设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143000"/>
            <a:ext cx="7086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中经常有一个列或列的组合，其值能唯一地标识表中的每一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的一列或多列称为表的主键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MARY KEY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它可强制表的实体完整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616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4648320" cy="3246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2895480"/>
            <a:ext cx="3505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键可以为表中的一列设置，也可以在多列的组合上共同设置一个复合主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合主键强制实现记录的多列不能同时完全相同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的插入和修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9076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638680" cy="3852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1240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05320" y="3809880"/>
            <a:ext cx="2147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接插入或修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REATE TABLE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语句创建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4038480"/>
            <a:ext cx="3733920" cy="2590920"/>
          </a:xfrm>
          <a:prstGeom prst="rect">
            <a:avLst/>
          </a:prstGeom>
          <a:noFill/>
          <a:ln w="38160">
            <a:solidFill>
              <a:srgbClr val="f4a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REATE TABLE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址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姓名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varchar(1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地址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varchar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生日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malldate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职位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archar(2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基本工资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6324840" cy="2411640"/>
          </a:xfrm>
          <a:prstGeom prst="rect">
            <a:avLst/>
          </a:prstGeom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7" name=""/>
          <p:cNvSpPr/>
          <p:nvPr/>
        </p:nvSpPr>
        <p:spPr>
          <a:xfrm>
            <a:off x="1016280" y="3505320"/>
            <a:ext cx="33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创建表“地址本”的范例语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14:19:53Z</dcterms:created>
  <dc:creator>henry</dc:creator>
  <dc:description/>
  <dc:language>en-US</dc:language>
  <cp:lastModifiedBy>fei.feng</cp:lastModifiedBy>
  <dcterms:modified xsi:type="dcterms:W3CDTF">2004-03-12T09:18:29Z</dcterms:modified>
  <cp:revision>232</cp:revision>
  <dc:subject/>
  <dc:title>PowerPoint 演示文稿</dc:title>
</cp:coreProperties>
</file>