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4DBC-A122-4CF8-AABA-1058674C72EC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A857-2414-4956-98BC-F5C8CA34B00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多表的数据查询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六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ELEC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句中使用多个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019920" cy="2051280"/>
          </a:xfrm>
          <a:prstGeom prst="rect">
            <a:avLst/>
          </a:prstGeom>
          <a:ln w="28440">
            <a:solidFill>
              <a:srgbClr val="f4a98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多表的查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表的查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[Order Details].Orderid,Products.Produc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[Order Details].Quantity,Products.Unitsin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[Order Details] ,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[Order Details].Productid = Products.Productid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表的查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Orderid,LastName,Contac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Orders,Employees,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Orders.Employeeid=Employees.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Orders.Customerid=Customers.Customerid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使用表的别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表的查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OD.Orderid,P.Produc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D.Quantity,P.Unitsin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[Order Details] AS OD ,Products a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OD.Productid = P.Producti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表的查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 Orderid,LastName,Contac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Orders AS o,Employees AS e,Customers A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RE o.Employeeid=e.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o.Customerid=c.Custome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31956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使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UNIO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运算符合并结果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4191120"/>
            <a:ext cx="51814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752480"/>
            <a:ext cx="7391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返回的列数和列的顺序必须一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列的数据类型必须一一对应并且是兼容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ContactName,city,postal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lastname + ' ' + firstname ,city,postal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联接范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表的内联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OD.Orderid,P.Produc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D.Quantity,P.Unitsin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[Order Details] AS OD INNER JOIN Products A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N OD.Productid = P.Product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表的内联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Orderid,LastName,Contac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Orders AS o INNER JOIN Employees AS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N o.Employeeid=e.Employee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INNER JOIN Customers A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N o.Customerid=c.Custome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外联接范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外联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SELECT a.au_fname, a.au_lname, p.pub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FROM authors a LEFT OUTER JOIN publishers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N a.city = p.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RDER BY p.pub_name ASC, a.au_lname ASC, a.au_fname 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外联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SELECT a.au_fname, a.au_lname, p.pub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FROM authors AS a RIGHT OUTER JOIN publishers AS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N a.city = p.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RDER BY p.pub_name ASC, a.au_lname ASC, a.au_fname AS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全外联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SELECT a.au_fname, a.au_lname, p.pub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FROM authors a FULL OUTER JOIN publishers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N a.city = p.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ORDER BY p.pub_name ASC, a.au_lname ASC, a.au_fname ASC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叉联接范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两个表作交叉联接的结果集相当于“乘法”，两个集合进行迪卡尔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SE North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EmployeeID,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 CROSS JOIN 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RDER BY Employee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联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2193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每位员工的上司的姓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e.LastNam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员工的名字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.LastNam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上司的名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 AS e LEFT JOIN Employees AS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N e.Reportsto = m.Employee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查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914400"/>
            <a:ext cx="800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直接取值的子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ProductI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UM(unitprice*quantity*(1-discount)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每种产品的销售额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UM(unitprice*quantity*(1-discount))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(SELECT SUM(unitprice*quantity*(1-discoun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[order details]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百分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[order detail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ROUP BY produc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RDER BY productI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中的子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USE North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o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Orders AS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20&lt; (SELECT Quantity FROM [order details] AS 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o.OrderID = od.Ord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AND od.Productid = 2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添加删除和更新记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1981080"/>
            <a:ext cx="5639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添加记录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INSERT INTO…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修改数据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删除数据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DELE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表是二维的数据集合，是数据库中最基本最重要的对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表的操作有：创建表、更改表、删除表、插入数据、修改数据、删除数据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语言是操作数据库的语言，对表操作可以使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T-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语言完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单表的查询使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SELEC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语句，基本子句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FRO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W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WHER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子句中可以对结果集做各种限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ORDER BY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子句可以对查询的结果集排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提供了大量函数，常用的有字符串函数、数学函数和日期时间函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添加、修改和删除数据的案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295280"/>
            <a:ext cx="8001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CREATE TABLE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姓名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nvarchar(1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nvarchar(5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生日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smalldatetim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职位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varchar(20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基本工资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money  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INSERT INTO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VALUES(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张三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北京市海淀区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'1978-01-20',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销售代表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25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INSERT INTO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VALUES(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李四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上海市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'1970-08-02',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销售经理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,4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UPDATE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SET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基本工资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=3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WHERE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姓名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张三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DELETE FROM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WHERE 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姓名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张三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错误消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唯一标识该错误信息的消息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明问题类型的严重级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标识发出错误的来源的错误状态号，错误也可能从多个位置发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声明问题的消息正文，有时还有可能的解决方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f01"/>
                </a:solidFill>
                <a:latin typeface="楷体_GB2312"/>
              </a:rPr>
              <a:t>sysmessages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</a:rPr>
              <a:t>表中的错误消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860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01992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15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理解数据库的实体关系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用关系图对象可以显示数据库中表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查询的数据可以来自于多个表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子句中可以包含多个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为了使多表查询语句更简洁，可以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子句中使用别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UNIO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运算符可以联接多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SELEC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查询，并把结果集合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多表联接的方式有内联接、外联接、交叉联接、自联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用子查询可以完成一些复杂的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添加、修改和删除记录的语句分别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INSERT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UPDAT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DELE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Sysmessage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表中保存了系统的错误消息，错误消息有不同的严重级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886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创建关系图对象，查看数据库的实体关系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在一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SELEC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语句中使用多个表查询，并使用表的别名简化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UNIO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合并多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</a:rPr>
              <a:t>SELEC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查询的结果集为一个结果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使用内联接、外联接、交叉联接和自联接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使用子查询完成复杂的查询求解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19320"/>
            <a:ext cx="6438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照每个任务的要求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37960" y="1558440"/>
            <a:ext cx="731988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理解数据库的实体关系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查看表间关系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内联接、外联接、交叉联接和自联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UNION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合并结果集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添加、删除和更新记录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数据库的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需求，创建表，定义列、主键和数据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表之间的关系，定义外键约束保证参照完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化数据的设计，实现数据的完整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62240" y="5410080"/>
            <a:ext cx="1232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be4d9"/>
                </a:solidFill>
                <a:latin typeface="Arial"/>
                <a:ea typeface="宋体"/>
              </a:rPr>
              <a:t>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orthwind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中的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9084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6705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主键维护实体完整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670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958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1948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3967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外键的意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616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3388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441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表间的关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447920"/>
            <a:ext cx="5562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一对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一对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多对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1472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70866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关系图对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176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533412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4:19:53Z</dcterms:created>
  <dc:creator>henry</dc:creator>
  <dc:description/>
  <dc:language>en-US</dc:language>
  <cp:lastModifiedBy>fei.feng</cp:lastModifiedBy>
  <dcterms:modified xsi:type="dcterms:W3CDTF">2004-03-15T03:38:24Z</dcterms:modified>
  <cp:revision>287</cp:revision>
  <dc:subject/>
  <dc:title>PowerPoint 演示文稿</dc:title>
</cp:coreProperties>
</file>