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EBA-DC2F-49AE-8251-CE965723DB9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3BF1-E4C3-493B-ADAE-F1813BAB502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实验综合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七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连接到服务器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端修改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的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无法连接到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方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网络客户端实用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客户端网络协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建议使用别名方便修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选择磁盘放置数据库文件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硬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速硬盘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阵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速硬盘分区，可靠性，大容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务日志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速硬盘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速硬盘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作数据文件优化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阵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RA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优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的文件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自动收缩数据库文件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增大需要收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手动收缩麻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自动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置自动收缩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找到效率低下的原因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业务执行效率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查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完成硬盘升级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需要更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方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缩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离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附加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恢复崩溃后的系统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病毒入侵，系统崩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平时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对多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PU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进行升级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最大能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依赖与系统软硬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何时备份比较好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常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划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避开高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下调部分商品价格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unitprice=unitprice*0.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unitprice&gt;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选择合适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版本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大型网站＋电子商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并发用户数大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存储大量数据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标准版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9337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创建门禁记录表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门禁系统记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＋卡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管理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知道不足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位客户的城市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知道在各城市各有多少客户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逆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知道有哪些职位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IN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查询员工下属数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修改员工的上级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联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列出上下级关系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thWi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联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联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总结了全课程中的一些难点重点的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安全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单表和多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查询和操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内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000" y="15238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验证通过客户端登录到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使用企业管理器创建一个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使用企业管理器和语句分别建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表用不同磁盘上的文件组来保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针对表的操作（单表、多表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关闭服务器端尝试是否能联接上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000" y="1523880"/>
            <a:ext cx="7559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登录到服务器端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一个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两个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新建的文件组保存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对表实现查看、插入等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验证已关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无法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选择合适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版本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研发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发信息存储＋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项目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版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部署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升级安装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条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7.0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划升级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辅助自动化办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署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7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准版到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计划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备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0836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登录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000 Server + 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 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密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失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帐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成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所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验证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它安全措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2692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启动服务帐户设为域用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发生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管理员修改域用户口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新启动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服务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3573360"/>
            <a:ext cx="79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识别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服务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默认实例＋命名实例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C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发生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C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新启动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识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SSQL$AC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做好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发布的安全措施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措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禁用命名管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定隐藏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防火墙等应用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应对病毒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情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32.SQLExp.Wo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肆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措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协议发布服务的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安装系统补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杀毒软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78936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Administrator</cp:lastModifiedBy>
  <dcterms:modified xsi:type="dcterms:W3CDTF">2004-02-17T08:26:30Z</dcterms:modified>
  <cp:revision>1337</cp:revision>
  <dc:subject/>
  <dc:title>SQL Server 2000安装与简介</dc:title>
</cp:coreProperties>
</file>