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ongtao.gu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<Relationship Id="rId49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04-02-04T09:23:11.628000000" idx="1">
    <p:pos x="10" y="10"/>
    <p:text>在转换完的截图显示出来后，单击后再出现一个文本框，说明什么样的转换需要重新启动计算机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2A9D-5B8A-498F-AA53-CB567638163E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B178-951C-4074-B13C-A18CF63BFF6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<Relationship Id="rId5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Windows Server 2003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磁盘管理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十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磁盘的基本属性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属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容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状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790960" cy="343836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3429000" y="1447920"/>
            <a:ext cx="2160360" cy="3276000"/>
            <a:chOff x="3429000" y="1447920"/>
            <a:chExt cx="2160360" cy="3276000"/>
          </a:xfrm>
        </p:grpSpPr>
        <p:sp>
          <p:nvSpPr>
            <p:cNvPr id="151" name=""/>
            <p:cNvSpPr/>
            <p:nvPr/>
          </p:nvSpPr>
          <p:spPr>
            <a:xfrm>
              <a:off x="3429000" y="4094280"/>
              <a:ext cx="838080" cy="629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733920" y="1447920"/>
              <a:ext cx="1855440" cy="2645640"/>
              <a:chOff x="3733920" y="1447920"/>
              <a:chExt cx="1855440" cy="2645640"/>
            </a:xfrm>
          </p:grpSpPr>
          <p:sp>
            <p:nvSpPr>
              <p:cNvPr id="153" name=""/>
              <p:cNvSpPr/>
              <p:nvPr/>
            </p:nvSpPr>
            <p:spPr>
              <a:xfrm>
                <a:off x="4275000" y="1447920"/>
                <a:ext cx="1314360" cy="3132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磁盘属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3733920" y="1805040"/>
                <a:ext cx="541080" cy="2288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5230800" y="1523880"/>
            <a:ext cx="2617920" cy="3200400"/>
            <a:chOff x="5230800" y="1523880"/>
            <a:chExt cx="2617920" cy="3200400"/>
          </a:xfrm>
        </p:grpSpPr>
        <p:sp>
          <p:nvSpPr>
            <p:cNvPr id="156" name=""/>
            <p:cNvSpPr/>
            <p:nvPr/>
          </p:nvSpPr>
          <p:spPr>
            <a:xfrm>
              <a:off x="5230800" y="4267080"/>
              <a:ext cx="749160" cy="457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87880" y="1523880"/>
              <a:ext cx="1860840" cy="313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盘符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/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容量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/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状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504040" y="1872720"/>
              <a:ext cx="483840" cy="2235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磁盘管理工具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5029200" cy="33051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KPAR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191120" y="1143000"/>
            <a:ext cx="4647960" cy="4613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867120" y="1143000"/>
            <a:ext cx="5276880" cy="51721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4495680" y="2133720"/>
            <a:ext cx="3886200" cy="241200"/>
            <a:chOff x="4495680" y="2133720"/>
            <a:chExt cx="3886200" cy="241200"/>
          </a:xfrm>
        </p:grpSpPr>
        <p:sp>
          <p:nvSpPr>
            <p:cNvPr id="165" name=""/>
            <p:cNvSpPr/>
            <p:nvPr/>
          </p:nvSpPr>
          <p:spPr>
            <a:xfrm>
              <a:off x="4495680" y="2133720"/>
              <a:ext cx="914400" cy="241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15200" y="2146320"/>
              <a:ext cx="106668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选择磁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6400" y="2222640"/>
              <a:ext cx="1752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495680" y="2666880"/>
            <a:ext cx="4191120" cy="241560"/>
            <a:chOff x="4495680" y="2666880"/>
            <a:chExt cx="4191120" cy="241560"/>
          </a:xfrm>
        </p:grpSpPr>
        <p:sp>
          <p:nvSpPr>
            <p:cNvPr id="169" name=""/>
            <p:cNvSpPr/>
            <p:nvPr/>
          </p:nvSpPr>
          <p:spPr>
            <a:xfrm>
              <a:off x="4495680" y="2666880"/>
              <a:ext cx="914400" cy="241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15200" y="2666880"/>
              <a:ext cx="1371600" cy="241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显示磁盘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2755800"/>
              <a:ext cx="1752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286000" y="2971800"/>
            <a:ext cx="6629400" cy="2895480"/>
            <a:chOff x="2286000" y="2971800"/>
            <a:chExt cx="6629400" cy="2895480"/>
          </a:xfrm>
        </p:grpSpPr>
        <p:sp>
          <p:nvSpPr>
            <p:cNvPr id="173" name=""/>
            <p:cNvSpPr/>
            <p:nvPr/>
          </p:nvSpPr>
          <p:spPr>
            <a:xfrm>
              <a:off x="3886200" y="2971800"/>
              <a:ext cx="5029200" cy="2895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6000" y="3962520"/>
              <a:ext cx="1066680" cy="304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磁盘信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429000" y="4114800"/>
              <a:ext cx="457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基本磁盘管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分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扩展分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逻辑分区（逻辑驱动器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主分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分区是可以用来引导操作系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块基本磁盘可以建立一到四个主分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能有一个主分区处于激活状态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NT/XP/2000/Server 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才真正支持多主分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1981080"/>
            <a:ext cx="1828800" cy="3962520"/>
          </a:xfrm>
          <a:prstGeom prst="can">
            <a:avLst>
              <a:gd name="adj" fmla="val 9777"/>
            </a:avLst>
          </a:prstGeom>
          <a:gradFill rotWithShape="0">
            <a:gsLst>
              <a:gs pos="0">
                <a:srgbClr val="425fa7"/>
              </a:gs>
              <a:gs pos="50000">
                <a:srgbClr val="6590fd"/>
              </a:gs>
              <a:gs pos="100000">
                <a:srgbClr val="425fa7"/>
              </a:gs>
            </a:gsLst>
            <a:lin ang="10800000"/>
          </a:gra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主分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419720" y="1981080"/>
            <a:ext cx="1752120" cy="4038480"/>
            <a:chOff x="4419720" y="1981080"/>
            <a:chExt cx="1752120" cy="4038480"/>
          </a:xfrm>
        </p:grpSpPr>
        <p:sp>
          <p:nvSpPr>
            <p:cNvPr id="182" name=""/>
            <p:cNvSpPr/>
            <p:nvPr/>
          </p:nvSpPr>
          <p:spPr>
            <a:xfrm>
              <a:off x="4419720" y="4838040"/>
              <a:ext cx="1752120" cy="1181520"/>
            </a:xfrm>
            <a:prstGeom prst="can">
              <a:avLst>
                <a:gd name="adj" fmla="val 23319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: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3885840"/>
              <a:ext cx="1752120" cy="1181160"/>
            </a:xfrm>
            <a:prstGeom prst="can">
              <a:avLst>
                <a:gd name="adj" fmla="val 23319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: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9720" y="2933280"/>
              <a:ext cx="1752120" cy="1181520"/>
            </a:xfrm>
            <a:prstGeom prst="can">
              <a:avLst>
                <a:gd name="adj" fmla="val 23319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: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19720" y="1981080"/>
              <a:ext cx="1752120" cy="1181160"/>
            </a:xfrm>
            <a:prstGeom prst="can">
              <a:avLst>
                <a:gd name="adj" fmla="val 23319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: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858000" y="1981080"/>
            <a:ext cx="1752120" cy="4038120"/>
            <a:chOff x="6858000" y="1981080"/>
            <a:chExt cx="1752120" cy="4038120"/>
          </a:xfrm>
        </p:grpSpPr>
        <p:sp>
          <p:nvSpPr>
            <p:cNvPr id="187" name=""/>
            <p:cNvSpPr/>
            <p:nvPr/>
          </p:nvSpPr>
          <p:spPr>
            <a:xfrm>
              <a:off x="6858000" y="4981680"/>
              <a:ext cx="1752120" cy="103752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a86500"/>
                </a:gs>
                <a:gs pos="50000">
                  <a:srgbClr val="ff9900"/>
                </a:gs>
                <a:gs pos="100000">
                  <a:srgbClr val="a86500"/>
                </a:gs>
              </a:gsLst>
              <a:lin ang="10800000"/>
            </a:gra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7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4393440"/>
              <a:ext cx="1752120" cy="10382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a86500"/>
                </a:gs>
                <a:gs pos="50000">
                  <a:srgbClr val="ff9900"/>
                </a:gs>
                <a:gs pos="100000">
                  <a:srgbClr val="a86500"/>
                </a:gs>
              </a:gsLst>
              <a:lin ang="10800000"/>
            </a:gra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7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0" y="3806280"/>
              <a:ext cx="1752120" cy="103392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a86500"/>
                </a:gs>
                <a:gs pos="50000">
                  <a:srgbClr val="ff9900"/>
                </a:gs>
                <a:gs pos="100000">
                  <a:srgbClr val="a86500"/>
                </a:gs>
              </a:gsLst>
              <a:lin ang="10800000"/>
            </a:gra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16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0" y="1981080"/>
              <a:ext cx="1752120" cy="2236680"/>
            </a:xfrm>
            <a:prstGeom prst="can">
              <a:avLst>
                <a:gd name="adj" fmla="val 23319"/>
              </a:avLst>
            </a:prstGeom>
            <a:gradFill rotWithShape="0">
              <a:gsLst>
                <a:gs pos="0">
                  <a:srgbClr val="425fa7"/>
                </a:gs>
                <a:gs pos="50000">
                  <a:srgbClr val="6590fd"/>
                </a:gs>
                <a:gs pos="100000">
                  <a:srgbClr val="425fa7"/>
                </a:gs>
              </a:gsLst>
              <a:lin ang="10800000"/>
            </a:gra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: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分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6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9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2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扩展分区和逻辑分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磁盘最多可以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主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主分区和一个扩展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扩展分区可进一步划分为多个逻辑分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扩展分区和逻辑分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562720" y="2286000"/>
            <a:ext cx="1828800" cy="4114800"/>
            <a:chOff x="5562720" y="2286000"/>
            <a:chExt cx="1828800" cy="4114800"/>
          </a:xfrm>
        </p:grpSpPr>
        <p:sp>
          <p:nvSpPr>
            <p:cNvPr id="195" name=""/>
            <p:cNvSpPr/>
            <p:nvPr/>
          </p:nvSpPr>
          <p:spPr>
            <a:xfrm>
              <a:off x="5562720" y="4419720"/>
              <a:ext cx="1828800" cy="1981080"/>
            </a:xfrm>
            <a:custGeom>
              <a:avLst/>
              <a:gdLst>
                <a:gd name="textAreaLeft" fmla="*/ 22320 w 1828800"/>
                <a:gd name="textAreaRight" fmla="*/ 1806480 w 1828800"/>
                <a:gd name="textAreaTop" fmla="*/ 22320 h 1981080"/>
                <a:gd name="textAreaBottom" fmla="*/ 1958760 h 1981080"/>
              </a:gdLst>
              <a:ahLst/>
              <a:rect l="textAreaLeft" t="textAreaTop" r="textAreaRight" b="textAreaBottom"/>
              <a:pathLst>
                <a:path w="21600" h="23398">
                  <a:moveTo>
                    <a:pt x="900" y="0"/>
                  </a:moveTo>
                  <a:arcTo wR="900" hR="900" stAng="16200000" swAng="-5400000"/>
                  <a:lnTo>
                    <a:pt x="0" y="22498"/>
                  </a:lnTo>
                  <a:arcTo wR="900" hR="900" stAng="10800000" swAng="-5400000"/>
                  <a:lnTo>
                    <a:pt x="20700" y="23398"/>
                  </a:lnTo>
                  <a:arcTo wR="900" hR="900" stAng="5400000" swAng="-5400000"/>
                  <a:lnTo>
                    <a:pt x="21600" y="900"/>
                  </a:lnTo>
                  <a:arcTo wR="900" hR="900" stAng="0" swAng="-5400000"/>
                  <a:close/>
                </a:path>
              </a:pathLst>
            </a:custGeom>
            <a:solidFill>
              <a:srgbClr val="d5d69c"/>
            </a:solidFill>
            <a:ln w="255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62720" y="2286000"/>
              <a:ext cx="1828800" cy="2057400"/>
            </a:xfrm>
            <a:custGeom>
              <a:avLst/>
              <a:gdLst>
                <a:gd name="textAreaLeft" fmla="*/ 22320 w 1828800"/>
                <a:gd name="textAreaRight" fmla="*/ 1806480 w 1828800"/>
                <a:gd name="textAreaTop" fmla="*/ 22320 h 2057400"/>
                <a:gd name="textAreaBottom" fmla="*/ 2035080 h 2057400"/>
              </a:gdLst>
              <a:ahLst/>
              <a:rect l="textAreaLeft" t="textAreaTop" r="textAreaRight" b="textAreaBottom"/>
              <a:pathLst>
                <a:path w="21600" h="24299">
                  <a:moveTo>
                    <a:pt x="900" y="0"/>
                  </a:moveTo>
                  <a:arcTo wR="900" hR="900" stAng="16200000" swAng="-5400000"/>
                  <a:lnTo>
                    <a:pt x="0" y="23399"/>
                  </a:lnTo>
                  <a:arcTo wR="900" hR="900" stAng="10800000" swAng="-5400000"/>
                  <a:lnTo>
                    <a:pt x="20700" y="24299"/>
                  </a:lnTo>
                  <a:arcTo wR="900" hR="900" stAng="5400000" swAng="-5400000"/>
                  <a:lnTo>
                    <a:pt x="21600" y="900"/>
                  </a:lnTo>
                  <a:arcTo wR="900" hR="900" stAng="0" swAng="-5400000"/>
                  <a:close/>
                </a:path>
              </a:pathLst>
            </a:custGeom>
            <a:solidFill>
              <a:srgbClr val="bbcde3"/>
            </a:solidFill>
            <a:ln w="255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24600" y="2373480"/>
              <a:ext cx="903240" cy="30780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0320" y="5803920"/>
              <a:ext cx="1533600" cy="55404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扩展分区和逻辑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5685120" y="2743200"/>
              <a:ext cx="1584000" cy="2941560"/>
              <a:chOff x="5685120" y="2743200"/>
              <a:chExt cx="1584000" cy="294156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5685120" y="2743200"/>
                <a:ext cx="1584000" cy="2941560"/>
                <a:chOff x="5685120" y="2743200"/>
                <a:chExt cx="1584000" cy="2941560"/>
              </a:xfrm>
            </p:grpSpPr>
            <p:pic>
              <p:nvPicPr>
                <p:cNvPr id="20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3200" y="3687480"/>
                  <a:ext cx="1530000" cy="199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85120" y="2743200"/>
                  <a:ext cx="1584000" cy="220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3" name=""/>
              <p:cNvSpPr/>
              <p:nvPr/>
            </p:nvSpPr>
            <p:spPr>
              <a:xfrm>
                <a:off x="6283080" y="326736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C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83080" y="368028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D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83080" y="409428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E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283080" y="450864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F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83080" y="492300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G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83080" y="533736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H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2819520" y="1147320"/>
            <a:ext cx="3886200" cy="1105200"/>
            <a:chOff x="2819520" y="1147320"/>
            <a:chExt cx="3886200" cy="1105200"/>
          </a:xfrm>
        </p:grpSpPr>
        <p:sp>
          <p:nvSpPr>
            <p:cNvPr id="210" name=""/>
            <p:cNvSpPr/>
            <p:nvPr/>
          </p:nvSpPr>
          <p:spPr>
            <a:xfrm>
              <a:off x="4536360" y="1147320"/>
              <a:ext cx="738000" cy="37692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基本磁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95680" y="1756080"/>
              <a:ext cx="762120" cy="34524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或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9520" y="1600200"/>
              <a:ext cx="3886200" cy="652320"/>
            </a:xfrm>
            <a:custGeom>
              <a:avLst/>
              <a:gdLst/>
              <a:ahLst/>
              <a:rect l="l" t="t" r="r" b="b"/>
              <a:pathLst>
                <a:path w="2181" h="439">
                  <a:moveTo>
                    <a:pt x="2123" y="256"/>
                  </a:moveTo>
                  <a:lnTo>
                    <a:pt x="2181" y="245"/>
                  </a:lnTo>
                  <a:lnTo>
                    <a:pt x="2088" y="439"/>
                  </a:lnTo>
                  <a:lnTo>
                    <a:pt x="1988" y="246"/>
                  </a:lnTo>
                  <a:lnTo>
                    <a:pt x="2044" y="255"/>
                  </a:lnTo>
                  <a:lnTo>
                    <a:pt x="2054" y="62"/>
                  </a:lnTo>
                  <a:lnTo>
                    <a:pt x="1088" y="62"/>
                  </a:lnTo>
                  <a:lnTo>
                    <a:pt x="123" y="62"/>
                  </a:lnTo>
                  <a:lnTo>
                    <a:pt x="135" y="256"/>
                  </a:lnTo>
                  <a:lnTo>
                    <a:pt x="191" y="245"/>
                  </a:lnTo>
                  <a:lnTo>
                    <a:pt x="98" y="439"/>
                  </a:lnTo>
                  <a:lnTo>
                    <a:pt x="0" y="246"/>
                  </a:lnTo>
                  <a:lnTo>
                    <a:pt x="54" y="255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120" y="0"/>
                  </a:lnTo>
                  <a:lnTo>
                    <a:pt x="1088" y="0"/>
                  </a:lnTo>
                  <a:lnTo>
                    <a:pt x="2058" y="0"/>
                  </a:lnTo>
                  <a:lnTo>
                    <a:pt x="2109" y="0"/>
                  </a:lnTo>
                  <a:lnTo>
                    <a:pt x="2123" y="256"/>
                  </a:lnTo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133720" y="2286000"/>
            <a:ext cx="1778040" cy="4114800"/>
            <a:chOff x="2133720" y="2286000"/>
            <a:chExt cx="1778040" cy="4114800"/>
          </a:xfrm>
        </p:grpSpPr>
        <p:sp>
          <p:nvSpPr>
            <p:cNvPr id="214" name=""/>
            <p:cNvSpPr/>
            <p:nvPr/>
          </p:nvSpPr>
          <p:spPr>
            <a:xfrm>
              <a:off x="2133720" y="3429000"/>
              <a:ext cx="1778040" cy="2971800"/>
            </a:xfrm>
            <a:custGeom>
              <a:avLst/>
              <a:gdLst>
                <a:gd name="textAreaLeft" fmla="*/ 21600 w 1778040"/>
                <a:gd name="textAreaRight" fmla="*/ 1756440 w 1778040"/>
                <a:gd name="textAreaTop" fmla="*/ 21600 h 2971800"/>
                <a:gd name="textAreaBottom" fmla="*/ 2950200 h 2971800"/>
              </a:gdLst>
              <a:ahLst/>
              <a:rect l="textAreaLeft" t="textAreaTop" r="textAreaRight" b="textAreaBottom"/>
              <a:pathLst>
                <a:path w="21600" h="36099">
                  <a:moveTo>
                    <a:pt x="900" y="0"/>
                  </a:moveTo>
                  <a:arcTo wR="900" hR="900" stAng="16200000" swAng="-5400000"/>
                  <a:lnTo>
                    <a:pt x="0" y="35199"/>
                  </a:lnTo>
                  <a:arcTo wR="900" hR="900" stAng="10800000" swAng="-5400000"/>
                  <a:lnTo>
                    <a:pt x="20700" y="36099"/>
                  </a:lnTo>
                  <a:arcTo wR="900" hR="900" stAng="5400000" swAng="-5400000"/>
                  <a:lnTo>
                    <a:pt x="21600" y="900"/>
                  </a:lnTo>
                  <a:arcTo wR="900" hR="900" stAng="0" swAng="-5400000"/>
                  <a:close/>
                </a:path>
              </a:pathLst>
            </a:custGeom>
            <a:solidFill>
              <a:srgbClr val="d5d69c"/>
            </a:solidFill>
            <a:ln w="255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33720" y="2286000"/>
              <a:ext cx="1752480" cy="1143000"/>
            </a:xfrm>
            <a:prstGeom prst="roundRect">
              <a:avLst>
                <a:gd name="adj" fmla="val 4167"/>
              </a:avLst>
            </a:prstGeom>
            <a:solidFill>
              <a:srgbClr val="bbcde3"/>
            </a:solidFill>
            <a:ln w="255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95600" y="2373120"/>
              <a:ext cx="903240" cy="30816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主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81320" y="5803920"/>
              <a:ext cx="1533600" cy="55404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扩展分区和逻辑分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256120" y="2743200"/>
              <a:ext cx="1584000" cy="2941560"/>
              <a:chOff x="2256120" y="2743200"/>
              <a:chExt cx="1584000" cy="294156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2256120" y="2743200"/>
                <a:ext cx="1584000" cy="2941560"/>
                <a:chOff x="2256120" y="2743200"/>
                <a:chExt cx="1584000" cy="2941560"/>
              </a:xfrm>
            </p:grpSpPr>
            <p:pic>
              <p:nvPicPr>
                <p:cNvPr id="22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284200" y="3687480"/>
                  <a:ext cx="1530000" cy="199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56120" y="2743200"/>
                  <a:ext cx="1584000" cy="220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22" name=""/>
              <p:cNvSpPr/>
              <p:nvPr/>
            </p:nvSpPr>
            <p:spPr>
              <a:xfrm>
                <a:off x="2854080" y="326736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C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854080" y="368028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D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854080" y="409428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E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54080" y="450864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F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54080" y="492300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G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54080" y="5337360"/>
                <a:ext cx="415800" cy="3452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H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动态磁盘管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磁盘和动态磁盘的转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简单）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anne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跨区）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pe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带区）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rro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镜像）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D 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的扩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53272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基本磁盘和动态磁盘的转换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在不影响数据存储的情况下将基本磁盘转换为动态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被转换为简单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态磁盘可被转换为基本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盘配置和数据将丢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转换前应备份数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基本磁盘和动态磁盘的转换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816960" cy="4303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3086280" cy="1971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09480" y="1371600"/>
            <a:ext cx="6818400" cy="43052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升级的磁盘是正在使用的磁盘，比如操作系统所在的磁盘，那么就需要重新启动计算机才能升级到动态磁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简单卷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75880" y="1371600"/>
            <a:ext cx="6667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个磁盘上的空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能在动态磁盘上创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使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FS, FAT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3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被扩展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TF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系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5029200" cy="313344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152280" y="4584600"/>
            <a:ext cx="5562720" cy="596880"/>
            <a:chOff x="152280" y="4584600"/>
            <a:chExt cx="5562720" cy="596880"/>
          </a:xfrm>
        </p:grpSpPr>
        <p:sp>
          <p:nvSpPr>
            <p:cNvPr id="241" name=""/>
            <p:cNvSpPr/>
            <p:nvPr/>
          </p:nvSpPr>
          <p:spPr>
            <a:xfrm>
              <a:off x="2971800" y="4584600"/>
              <a:ext cx="2743200" cy="59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2280" y="4708440"/>
              <a:ext cx="990720" cy="313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简单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1143000" y="4861080"/>
              <a:ext cx="1752480" cy="1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3124080" cy="2248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600200" y="2666880"/>
            <a:ext cx="3124080" cy="22482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990720" y="831960"/>
            <a:ext cx="2514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创建简单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1495440" y="2698920"/>
            <a:ext cx="6124680" cy="40068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90720" y="1365120"/>
            <a:ext cx="2133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卷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822320"/>
            <a:ext cx="2361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输入卷的容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359080"/>
            <a:ext cx="2895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创建完成的简单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0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机的相关概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打印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打印设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打印队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打印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机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打印机安装与共享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打印权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优先级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布到活动目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管理打印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跨区卷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两块或多块硬盘上的存储空间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块磁盘可以提供不同的磁盘空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随时扩展容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系统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跨区卷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21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跨区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卷类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块区卷使用的磁盘和容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建立完成后在磁盘管理器中的跨区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666880" y="3200400"/>
            <a:ext cx="3124440" cy="22478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3124440" cy="22478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676520" y="3124080"/>
            <a:ext cx="562932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带区卷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两块或两块以上硬盘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是每块硬盘所贡献的空间大小必须相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写效率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77040" y="3954600"/>
            <a:ext cx="2538360" cy="376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数据以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64K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为单位写到所有的磁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632480" y="3809880"/>
            <a:ext cx="1484280" cy="2057400"/>
            <a:chOff x="4632480" y="3809880"/>
            <a:chExt cx="1484280" cy="2057400"/>
          </a:xfrm>
        </p:grpSpPr>
        <p:sp>
          <p:nvSpPr>
            <p:cNvPr id="262" name=""/>
            <p:cNvSpPr/>
            <p:nvPr/>
          </p:nvSpPr>
          <p:spPr>
            <a:xfrm>
              <a:off x="4632480" y="3809880"/>
              <a:ext cx="1484280" cy="2057400"/>
            </a:xfrm>
            <a:custGeom>
              <a:avLst/>
              <a:gdLst>
                <a:gd name="textAreaLeft" fmla="*/ 18000 w 1484280"/>
                <a:gd name="textAreaRight" fmla="*/ 1466280 w 1484280"/>
                <a:gd name="textAreaTop" fmla="*/ 18000 h 2057400"/>
                <a:gd name="textAreaBottom" fmla="*/ 2039400 h 2057400"/>
              </a:gdLst>
              <a:ahLst/>
              <a:rect l="textAreaLeft" t="textAreaTop" r="textAreaRight" b="textAreaBottom"/>
              <a:pathLst>
                <a:path w="21600" h="29938">
                  <a:moveTo>
                    <a:pt x="900" y="0"/>
                  </a:moveTo>
                  <a:arcTo wR="900" hR="900" stAng="16200000" swAng="-5400000"/>
                  <a:lnTo>
                    <a:pt x="0" y="29038"/>
                  </a:lnTo>
                  <a:arcTo wR="900" hR="900" stAng="10800000" swAng="-5400000"/>
                  <a:lnTo>
                    <a:pt x="20700" y="29938"/>
                  </a:lnTo>
                  <a:arcTo wR="900" hR="900" stAng="5400000" swAng="-5400000"/>
                  <a:lnTo>
                    <a:pt x="21600" y="900"/>
                  </a:lnTo>
                  <a:arcTo wR="900" hR="900" stAng="0" swAng="-5400000"/>
                  <a:close/>
                </a:path>
              </a:pathLst>
            </a:custGeom>
            <a:solidFill>
              <a:srgbClr val="bbcde3"/>
            </a:solidFill>
            <a:ln w="255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4775400" y="3886200"/>
              <a:ext cx="1200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032440" y="5485320"/>
              <a:ext cx="685800" cy="345240"/>
            </a:xfrm>
            <a:prstGeom prst="roundRect">
              <a:avLst>
                <a:gd name="adj" fmla="val 4167"/>
              </a:avLst>
            </a:prstGeom>
            <a:solidFill>
              <a:srgbClr val="00e4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64 K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938320" y="3809880"/>
            <a:ext cx="1484280" cy="2057400"/>
            <a:chOff x="2938320" y="3809880"/>
            <a:chExt cx="1484280" cy="2057400"/>
          </a:xfrm>
        </p:grpSpPr>
        <p:sp>
          <p:nvSpPr>
            <p:cNvPr id="266" name=""/>
            <p:cNvSpPr/>
            <p:nvPr/>
          </p:nvSpPr>
          <p:spPr>
            <a:xfrm>
              <a:off x="2938320" y="3809880"/>
              <a:ext cx="1484280" cy="2057400"/>
            </a:xfrm>
            <a:custGeom>
              <a:avLst/>
              <a:gdLst>
                <a:gd name="textAreaLeft" fmla="*/ 18000 w 1484280"/>
                <a:gd name="textAreaRight" fmla="*/ 1466280 w 1484280"/>
                <a:gd name="textAreaTop" fmla="*/ 18000 h 2057400"/>
                <a:gd name="textAreaBottom" fmla="*/ 2039400 h 2057400"/>
              </a:gdLst>
              <a:ahLst/>
              <a:rect l="textAreaLeft" t="textAreaTop" r="textAreaRight" b="textAreaBottom"/>
              <a:pathLst>
                <a:path w="21600" h="29938">
                  <a:moveTo>
                    <a:pt x="900" y="0"/>
                  </a:moveTo>
                  <a:arcTo wR="900" hR="900" stAng="16200000" swAng="-5400000"/>
                  <a:lnTo>
                    <a:pt x="0" y="29038"/>
                  </a:lnTo>
                  <a:arcTo wR="900" hR="900" stAng="10800000" swAng="-5400000"/>
                  <a:lnTo>
                    <a:pt x="20700" y="29938"/>
                  </a:lnTo>
                  <a:arcTo wR="900" hR="900" stAng="5400000" swAng="-5400000"/>
                  <a:lnTo>
                    <a:pt x="21600" y="900"/>
                  </a:lnTo>
                  <a:arcTo wR="900" hR="900" stAng="0" swAng="-5400000"/>
                  <a:close/>
                </a:path>
              </a:pathLst>
            </a:custGeom>
            <a:solidFill>
              <a:srgbClr val="bbcde3"/>
            </a:solidFill>
            <a:ln w="255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2"/>
            <a:stretch/>
          </p:blipFill>
          <p:spPr>
            <a:xfrm>
              <a:off x="3081240" y="3886200"/>
              <a:ext cx="1200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338280" y="5485320"/>
              <a:ext cx="685800" cy="345240"/>
            </a:xfrm>
            <a:prstGeom prst="roundRect">
              <a:avLst>
                <a:gd name="adj" fmla="val 4167"/>
              </a:avLst>
            </a:prstGeom>
            <a:solidFill>
              <a:srgbClr val="00e4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64 K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144440" y="3809880"/>
            <a:ext cx="1484280" cy="2057400"/>
            <a:chOff x="1144440" y="3809880"/>
            <a:chExt cx="1484280" cy="2057400"/>
          </a:xfrm>
        </p:grpSpPr>
        <p:sp>
          <p:nvSpPr>
            <p:cNvPr id="270" name=""/>
            <p:cNvSpPr/>
            <p:nvPr/>
          </p:nvSpPr>
          <p:spPr>
            <a:xfrm>
              <a:off x="1144440" y="3809880"/>
              <a:ext cx="1484280" cy="2057400"/>
            </a:xfrm>
            <a:custGeom>
              <a:avLst/>
              <a:gdLst>
                <a:gd name="textAreaLeft" fmla="*/ 18000 w 1484280"/>
                <a:gd name="textAreaRight" fmla="*/ 1466280 w 1484280"/>
                <a:gd name="textAreaTop" fmla="*/ 18000 h 2057400"/>
                <a:gd name="textAreaBottom" fmla="*/ 2039400 h 2057400"/>
              </a:gdLst>
              <a:ahLst/>
              <a:rect l="textAreaLeft" t="textAreaTop" r="textAreaRight" b="textAreaBottom"/>
              <a:pathLst>
                <a:path w="21600" h="29938">
                  <a:moveTo>
                    <a:pt x="900" y="0"/>
                  </a:moveTo>
                  <a:arcTo wR="900" hR="900" stAng="16200000" swAng="-5400000"/>
                  <a:lnTo>
                    <a:pt x="0" y="29038"/>
                  </a:lnTo>
                  <a:arcTo wR="900" hR="900" stAng="10800000" swAng="-5400000"/>
                  <a:lnTo>
                    <a:pt x="20700" y="29938"/>
                  </a:lnTo>
                  <a:arcTo wR="900" hR="900" stAng="5400000" swAng="-5400000"/>
                  <a:lnTo>
                    <a:pt x="21600" y="900"/>
                  </a:lnTo>
                  <a:arcTo wR="900" hR="900" stAng="0" swAng="-5400000"/>
                  <a:close/>
                </a:path>
              </a:pathLst>
            </a:custGeom>
            <a:solidFill>
              <a:srgbClr val="bbcde3"/>
            </a:solidFill>
            <a:ln w="255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287360" y="3886200"/>
              <a:ext cx="120024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544400" y="5485320"/>
              <a:ext cx="685800" cy="345240"/>
            </a:xfrm>
            <a:prstGeom prst="roundRect">
              <a:avLst>
                <a:gd name="adj" fmla="val 4167"/>
              </a:avLst>
            </a:prstGeom>
            <a:solidFill>
              <a:srgbClr val="00e4a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64 K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带区卷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4533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带区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卷类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选择带区卷使用的磁盘和容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盘管理中的带区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181480" y="3124080"/>
            <a:ext cx="3124440" cy="2248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124440" cy="224820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380880" y="1371600"/>
            <a:ext cx="8000640" cy="4952520"/>
            <a:chOff x="380880" y="1371600"/>
            <a:chExt cx="8000640" cy="4952520"/>
          </a:xfrm>
        </p:grpSpPr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380880" y="1371600"/>
              <a:ext cx="8000640" cy="495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"/>
            <p:cNvGrpSpPr/>
            <p:nvPr/>
          </p:nvGrpSpPr>
          <p:grpSpPr>
            <a:xfrm>
              <a:off x="4425120" y="4046760"/>
              <a:ext cx="2021400" cy="1751040"/>
              <a:chOff x="4425120" y="4046760"/>
              <a:chExt cx="2021400" cy="1751040"/>
            </a:xfrm>
          </p:grpSpPr>
          <p:sp>
            <p:nvSpPr>
              <p:cNvPr id="280" name=""/>
              <p:cNvSpPr/>
              <p:nvPr/>
            </p:nvSpPr>
            <p:spPr>
              <a:xfrm>
                <a:off x="5040000" y="4046760"/>
                <a:ext cx="1406520" cy="8755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25120" y="4922280"/>
                <a:ext cx="1406160" cy="8755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2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镜像卷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两块磁盘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块磁盘提供相同大小的空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支持容错，即一块硬盘损坏后数据不会丢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空间利用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295280" y="3733920"/>
            <a:ext cx="7162560" cy="2655720"/>
            <a:chOff x="1295280" y="3733920"/>
            <a:chExt cx="7162560" cy="2655720"/>
          </a:xfrm>
        </p:grpSpPr>
        <p:sp>
          <p:nvSpPr>
            <p:cNvPr id="285" name=""/>
            <p:cNvSpPr/>
            <p:nvPr/>
          </p:nvSpPr>
          <p:spPr>
            <a:xfrm>
              <a:off x="1295280" y="3733920"/>
              <a:ext cx="7162560" cy="265572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镜像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47560" y="4251600"/>
              <a:ext cx="1712520" cy="934560"/>
              <a:chOff x="1447560" y="4251600"/>
              <a:chExt cx="1712520" cy="934560"/>
            </a:xfrm>
          </p:grpSpPr>
          <p:sp>
            <p:nvSpPr>
              <p:cNvPr id="287" name=""/>
              <p:cNvSpPr/>
              <p:nvPr/>
            </p:nvSpPr>
            <p:spPr>
              <a:xfrm>
                <a:off x="1447560" y="4251600"/>
                <a:ext cx="1712520" cy="9345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11280" y="4302000"/>
                <a:ext cx="1513800" cy="741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97960" y="4294440"/>
                <a:ext cx="1546200" cy="822600"/>
              </a:xfrm>
              <a:custGeom>
                <a:avLst/>
                <a:gdLst/>
                <a:ahLst/>
                <a:rect l="l" t="t" r="r" b="b"/>
                <a:pathLst>
                  <a:path w="825" h="439">
                    <a:moveTo>
                      <a:pt x="824" y="0"/>
                    </a:moveTo>
                    <a:lnTo>
                      <a:pt x="0" y="0"/>
                    </a:lnTo>
                    <a:lnTo>
                      <a:pt x="0" y="436"/>
                    </a:lnTo>
                    <a:lnTo>
                      <a:pt x="45" y="438"/>
                    </a:lnTo>
                    <a:lnTo>
                      <a:pt x="45" y="53"/>
                    </a:lnTo>
                    <a:lnTo>
                      <a:pt x="824" y="50"/>
                    </a:lnTo>
                    <a:lnTo>
                      <a:pt x="8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741680" y="4627800"/>
                <a:ext cx="111276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25920" y="4817160"/>
                <a:ext cx="183240" cy="12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741680" y="4487400"/>
                <a:ext cx="111276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476760" y="4251600"/>
              <a:ext cx="1712520" cy="934560"/>
              <a:chOff x="6476760" y="4251600"/>
              <a:chExt cx="1712520" cy="934560"/>
            </a:xfrm>
          </p:grpSpPr>
          <p:sp>
            <p:nvSpPr>
              <p:cNvPr id="294" name=""/>
              <p:cNvSpPr/>
              <p:nvPr/>
            </p:nvSpPr>
            <p:spPr>
              <a:xfrm>
                <a:off x="6476760" y="4251600"/>
                <a:ext cx="1712520" cy="9345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540480" y="4302000"/>
                <a:ext cx="1513800" cy="741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27160" y="4294440"/>
                <a:ext cx="1546200" cy="822600"/>
              </a:xfrm>
              <a:custGeom>
                <a:avLst/>
                <a:gdLst/>
                <a:ahLst/>
                <a:rect l="l" t="t" r="r" b="b"/>
                <a:pathLst>
                  <a:path w="825" h="439">
                    <a:moveTo>
                      <a:pt x="824" y="0"/>
                    </a:moveTo>
                    <a:lnTo>
                      <a:pt x="0" y="0"/>
                    </a:lnTo>
                    <a:lnTo>
                      <a:pt x="0" y="436"/>
                    </a:lnTo>
                    <a:lnTo>
                      <a:pt x="45" y="438"/>
                    </a:lnTo>
                    <a:lnTo>
                      <a:pt x="45" y="53"/>
                    </a:lnTo>
                    <a:lnTo>
                      <a:pt x="824" y="50"/>
                    </a:lnTo>
                    <a:lnTo>
                      <a:pt x="824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70880" y="4627800"/>
                <a:ext cx="111276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55120" y="4817160"/>
                <a:ext cx="183240" cy="12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770880" y="4487400"/>
                <a:ext cx="1112760" cy="4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599840" y="379440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磁盘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29040" y="379440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磁盘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6324480" y="4861080"/>
              <a:ext cx="1593360" cy="1387080"/>
              <a:chOff x="6324480" y="4861080"/>
              <a:chExt cx="1593360" cy="1387080"/>
            </a:xfrm>
          </p:grpSpPr>
          <p:sp>
            <p:nvSpPr>
              <p:cNvPr id="303" name=""/>
              <p:cNvSpPr/>
              <p:nvPr/>
            </p:nvSpPr>
            <p:spPr>
              <a:xfrm>
                <a:off x="6364440" y="5784480"/>
                <a:ext cx="1553400" cy="46368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24480" y="4861080"/>
                <a:ext cx="1513080" cy="12866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7b0054"/>
                  </a:gs>
                  <a:gs pos="50000">
                    <a:srgbClr val="d60093"/>
                  </a:gs>
                  <a:gs pos="100000">
                    <a:srgbClr val="7b0054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2057040" y="4862520"/>
              <a:ext cx="1603080" cy="1385640"/>
              <a:chOff x="2057040" y="4862520"/>
              <a:chExt cx="1603080" cy="1385640"/>
            </a:xfrm>
          </p:grpSpPr>
          <p:sp>
            <p:nvSpPr>
              <p:cNvPr id="306" name=""/>
              <p:cNvSpPr/>
              <p:nvPr/>
            </p:nvSpPr>
            <p:spPr>
              <a:xfrm>
                <a:off x="2107080" y="5784840"/>
                <a:ext cx="1553040" cy="46332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057040" y="4862520"/>
                <a:ext cx="1512360" cy="12852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3276360" y="3962520"/>
              <a:ext cx="1600200" cy="1905120"/>
            </a:xfrm>
            <a:custGeom>
              <a:avLst/>
              <a:gdLst/>
              <a:ahLst/>
              <a:rect l="l" t="t" r="r" b="b"/>
              <a:pathLst>
                <a:path w="1008" h="1200">
                  <a:moveTo>
                    <a:pt x="768" y="0"/>
                  </a:moveTo>
                  <a:lnTo>
                    <a:pt x="768" y="816"/>
                  </a:lnTo>
                  <a:lnTo>
                    <a:pt x="384" y="816"/>
                  </a:lnTo>
                  <a:lnTo>
                    <a:pt x="384" y="720"/>
                  </a:lnTo>
                  <a:lnTo>
                    <a:pt x="0" y="960"/>
                  </a:lnTo>
                  <a:lnTo>
                    <a:pt x="384" y="1200"/>
                  </a:lnTo>
                  <a:lnTo>
                    <a:pt x="384" y="1104"/>
                  </a:lnTo>
                  <a:lnTo>
                    <a:pt x="1008" y="1104"/>
                  </a:lnTo>
                  <a:lnTo>
                    <a:pt x="1008" y="0"/>
                  </a:lnTo>
                  <a:lnTo>
                    <a:pt x="768" y="0"/>
                  </a:lnTo>
                  <a:close/>
                </a:path>
              </a:pathLst>
            </a:custGeom>
            <a:gradFill rotWithShape="0">
              <a:gsLst>
                <a:gs pos="0">
                  <a:srgbClr val="fee785"/>
                </a:gs>
                <a:gs pos="100000">
                  <a:srgbClr val="ffcf01"/>
                </a:gs>
              </a:gsLst>
              <a:lin ang="5400000"/>
            </a:gradFill>
            <a:ln w="6480">
              <a:solidFill>
                <a:srgbClr val="800080"/>
              </a:solidFill>
              <a:round/>
            </a:ln>
            <a:effectLst>
              <a:outerShdw dist="6336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27360" bIns="27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4952160" y="3962520"/>
              <a:ext cx="1600200" cy="1905120"/>
            </a:xfrm>
            <a:custGeom>
              <a:avLst/>
              <a:gdLst/>
              <a:ahLst/>
              <a:rect l="l" t="t" r="r" b="b"/>
              <a:pathLst>
                <a:path w="1008" h="1200">
                  <a:moveTo>
                    <a:pt x="768" y="0"/>
                  </a:moveTo>
                  <a:lnTo>
                    <a:pt x="768" y="816"/>
                  </a:lnTo>
                  <a:lnTo>
                    <a:pt x="384" y="816"/>
                  </a:lnTo>
                  <a:lnTo>
                    <a:pt x="384" y="720"/>
                  </a:lnTo>
                  <a:lnTo>
                    <a:pt x="0" y="960"/>
                  </a:lnTo>
                  <a:lnTo>
                    <a:pt x="384" y="1200"/>
                  </a:lnTo>
                  <a:lnTo>
                    <a:pt x="384" y="1104"/>
                  </a:lnTo>
                  <a:lnTo>
                    <a:pt x="1008" y="1104"/>
                  </a:lnTo>
                  <a:lnTo>
                    <a:pt x="1008" y="0"/>
                  </a:lnTo>
                  <a:lnTo>
                    <a:pt x="768" y="0"/>
                  </a:lnTo>
                  <a:close/>
                </a:path>
              </a:pathLst>
            </a:custGeom>
            <a:gradFill rotWithShape="0">
              <a:gsLst>
                <a:gs pos="0">
                  <a:srgbClr val="fee785"/>
                </a:gs>
                <a:gs pos="100000">
                  <a:srgbClr val="ffcf01"/>
                </a:gs>
              </a:gsLst>
              <a:lin ang="5400000"/>
            </a:gradFill>
            <a:ln w="6480">
              <a:solidFill>
                <a:srgbClr val="800080"/>
              </a:solidFill>
              <a:round/>
            </a:ln>
            <a:effectLst>
              <a:outerShdw dist="6336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27360" bIns="27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90760" y="4876920"/>
              <a:ext cx="1371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数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镜像卷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276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镜像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镜像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镜像使用的磁盘和容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管理器中的镜像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4791240" cy="34480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886200" y="1219320"/>
            <a:ext cx="4791240" cy="344808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609480" y="1066680"/>
            <a:ext cx="8153280" cy="5181480"/>
            <a:chOff x="609480" y="1066680"/>
            <a:chExt cx="8153280" cy="518148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09480" y="1066680"/>
              <a:ext cx="81532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913000" y="3913200"/>
              <a:ext cx="1266480" cy="813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58960" y="4726800"/>
              <a:ext cx="1583280" cy="975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AID 5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卷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少需要三块硬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块硬盘必须提供相同的磁盘空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供容错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空间利用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-1/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磁盘数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AID 5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卷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676520" y="1558800"/>
            <a:ext cx="6526080" cy="4656240"/>
            <a:chOff x="1676520" y="1558800"/>
            <a:chExt cx="6526080" cy="4656240"/>
          </a:xfrm>
        </p:grpSpPr>
        <p:grpSp>
          <p:nvGrpSpPr>
            <p:cNvPr id="323" name=""/>
            <p:cNvGrpSpPr/>
            <p:nvPr/>
          </p:nvGrpSpPr>
          <p:grpSpPr>
            <a:xfrm>
              <a:off x="1676520" y="1573200"/>
              <a:ext cx="1944720" cy="4641480"/>
              <a:chOff x="1676520" y="1573200"/>
              <a:chExt cx="1944720" cy="4641480"/>
            </a:xfrm>
          </p:grpSpPr>
          <p:sp>
            <p:nvSpPr>
              <p:cNvPr id="324" name=""/>
              <p:cNvSpPr/>
              <p:nvPr/>
            </p:nvSpPr>
            <p:spPr>
              <a:xfrm>
                <a:off x="1676520" y="5097600"/>
                <a:ext cx="194328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676520" y="4394160"/>
                <a:ext cx="194472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676520" y="3675600"/>
                <a:ext cx="1943280" cy="112572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935875"/>
                  </a:gs>
                  <a:gs pos="50000">
                    <a:srgbClr val="ff99cc"/>
                  </a:gs>
                  <a:gs pos="100000">
                    <a:srgbClr val="9358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校验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76520" y="2961360"/>
                <a:ext cx="194472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676520" y="2282760"/>
                <a:ext cx="194472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676520" y="1573200"/>
                <a:ext cx="194328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935875"/>
                  </a:gs>
                  <a:gs pos="50000">
                    <a:srgbClr val="ff99cc"/>
                  </a:gs>
                  <a:gs pos="100000">
                    <a:srgbClr val="9358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校验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968640" y="1581120"/>
              <a:ext cx="1938600" cy="4633560"/>
              <a:chOff x="3968640" y="1581120"/>
              <a:chExt cx="1938600" cy="4633560"/>
            </a:xfrm>
          </p:grpSpPr>
          <p:sp>
            <p:nvSpPr>
              <p:cNvPr id="331" name=""/>
              <p:cNvSpPr/>
              <p:nvPr/>
            </p:nvSpPr>
            <p:spPr>
              <a:xfrm>
                <a:off x="3968640" y="5097960"/>
                <a:ext cx="1938600" cy="111672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68640" y="4410360"/>
                <a:ext cx="1938600" cy="111672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935875"/>
                  </a:gs>
                  <a:gs pos="50000">
                    <a:srgbClr val="ff99cc"/>
                  </a:gs>
                  <a:gs pos="100000">
                    <a:srgbClr val="9358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校验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968640" y="3693600"/>
                <a:ext cx="1938600" cy="112104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968640" y="2985480"/>
                <a:ext cx="1938600" cy="111672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68640" y="2292120"/>
                <a:ext cx="1938600" cy="111672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935875"/>
                  </a:gs>
                  <a:gs pos="50000">
                    <a:srgbClr val="ff99cc"/>
                  </a:gs>
                  <a:gs pos="100000">
                    <a:srgbClr val="9358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校验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68640" y="1581120"/>
                <a:ext cx="1938600" cy="111672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254640" y="1558800"/>
              <a:ext cx="1947960" cy="4656240"/>
              <a:chOff x="6254640" y="1558800"/>
              <a:chExt cx="1947960" cy="4656240"/>
            </a:xfrm>
          </p:grpSpPr>
          <p:sp>
            <p:nvSpPr>
              <p:cNvPr id="338" name=""/>
              <p:cNvSpPr/>
              <p:nvPr/>
            </p:nvSpPr>
            <p:spPr>
              <a:xfrm>
                <a:off x="6255720" y="5097960"/>
                <a:ext cx="194652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935875"/>
                  </a:gs>
                  <a:gs pos="50000">
                    <a:srgbClr val="ff99cc"/>
                  </a:gs>
                  <a:gs pos="100000">
                    <a:srgbClr val="9358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校验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255720" y="4391280"/>
                <a:ext cx="194652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254640" y="3669840"/>
                <a:ext cx="1947960" cy="112896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254640" y="2963160"/>
                <a:ext cx="194796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935875"/>
                  </a:gs>
                  <a:gs pos="50000">
                    <a:srgbClr val="ff99cc"/>
                  </a:gs>
                  <a:gs pos="100000">
                    <a:srgbClr val="935875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校验位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255720" y="2269800"/>
                <a:ext cx="194652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254640" y="1558800"/>
                <a:ext cx="1947960" cy="1117080"/>
              </a:xfrm>
              <a:prstGeom prst="can">
                <a:avLst>
                  <a:gd name="adj" fmla="val 36259"/>
                </a:avLst>
              </a:prstGeom>
              <a:gradFill rotWithShape="0">
                <a:gsLst>
                  <a:gs pos="0">
                    <a:srgbClr val="008361"/>
                  </a:gs>
                  <a:gs pos="50000">
                    <a:srgbClr val="00e4a8"/>
                  </a:gs>
                  <a:gs pos="100000">
                    <a:srgbClr val="008361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4" name=""/>
          <p:cNvSpPr/>
          <p:nvPr/>
        </p:nvSpPr>
        <p:spPr>
          <a:xfrm>
            <a:off x="2268360" y="125748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磁盘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56160" y="125748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磁盘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6840" y="125748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磁盘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AID 5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卷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D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卷类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最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块磁盘，并设定磁盘容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管理器中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D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038480" y="1447920"/>
            <a:ext cx="4791240" cy="34480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4791240" cy="3448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533520" y="1447920"/>
            <a:ext cx="83818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卷的扩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扩展简单卷或跨区卷的容量，而不丢失数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必须格式化成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NTF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可以将简单卷扩展为跨区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可以扩展跨区卷的空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基本磁盘和动态磁盘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磁盘和动态磁盘的区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磁盘及动态磁盘的配置和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配额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的远程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卷的扩展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磁盘管理器进行扩展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需要扩展到的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扩展后的结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931080" cy="43038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2590920" y="1447920"/>
            <a:ext cx="4790880" cy="34480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1295280" y="1066680"/>
            <a:ext cx="693432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7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更改驱动器盘符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分区或卷的盘符可以更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盘和启动盘的盘符禁止更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盘符硬盘也可以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将磁盘分区或卷装入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系统的文件夹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更改驱动器盘符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磁盘管理器更改驱动器盘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需要更改盘符的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更改按钮更改盘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定新的盘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6931080" cy="44942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3657600" cy="22100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4572000" y="3581280"/>
            <a:ext cx="36576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更改驱动器盘符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驱动器装入至文件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需要装入文件加的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浏览按钮浏览文件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装入文件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7396200" cy="44164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3657600" cy="16286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724280" y="3429000"/>
            <a:ext cx="3543480" cy="2286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2819520" y="3124080"/>
            <a:ext cx="3657600" cy="22100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2590920" y="2743200"/>
            <a:ext cx="4362480" cy="3171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114800" y="45720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0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1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磁盘配额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磁盘配额可以限制用户使用磁盘空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系统上实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rator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成员不受限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磁盘配额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494160" cy="43797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3184560" y="2438280"/>
            <a:ext cx="5959440" cy="22939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5181480" y="2133720"/>
            <a:ext cx="3276720" cy="35337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3695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启用磁盘配额，设置配额限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M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0M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额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单个用户设置配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8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磁盘的远程管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计算机管理远程连接到其他计算机，就可以通过磁盘管理远程计算机的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利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控制台远程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有管理员权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磁盘的远程管理 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计算机管理连接到远程计算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入计算机名，或者浏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程计算机的计算机管理工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6073560" cy="43038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3962520" y="2895480"/>
            <a:ext cx="4790880" cy="20098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533520" y="1219320"/>
            <a:ext cx="6933960" cy="499248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85800" y="685800"/>
            <a:ext cx="3200400" cy="1371600"/>
            <a:chOff x="685800" y="685800"/>
            <a:chExt cx="3200400" cy="1371600"/>
          </a:xfrm>
        </p:grpSpPr>
        <p:sp>
          <p:nvSpPr>
            <p:cNvPr id="389" name=""/>
            <p:cNvSpPr/>
            <p:nvPr/>
          </p:nvSpPr>
          <p:spPr>
            <a:xfrm>
              <a:off x="685800" y="1752480"/>
              <a:ext cx="106668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81080" y="685800"/>
              <a:ext cx="1905120" cy="313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远程计算机名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1219320" y="990360"/>
              <a:ext cx="761760" cy="74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4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Server 200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盘配置方式有基本磁盘和动态磁盘两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操作系统和其他所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操作系统默认的磁盘配置方式是基本磁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磁盘的磁盘分区分为主分区和扩展分区，扩展分区中可以建立逻辑分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分区可以用来启动操作系统，每块硬盘最多建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主分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块硬盘只能建立一个扩展分区，扩展分区中可以建立若干个逻辑分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磁盘可以转换成动态磁盘，并且保持数据无损。只有将所有卷删除后，才能将动态磁盘转换为基本磁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态磁盘可以建立简单卷、跨区卷、带区卷、镜像卷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D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镜像卷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D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是容错卷，并且需要多块硬盘实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简单卷可以转换成跨区卷或者镜像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Windows Server 2003 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磁盘管理概述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态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磁盘的基本属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管理工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跨区卷扩展磁盘空间最为方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带区卷的读写速度最快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磁盘配额可以限制用户使用磁盘的空间，管理员组的成员除外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利用磁盘管理工具更改分区或卷的盘符，但操作系统所在分区不能更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计算机管理可以连接到远程计算机，并可以远程管理计算机的磁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在基本磁盘上建立主分区、扩展分区和逻辑分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将基本磁盘升级为动态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动态磁盘上建立各种动态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扩展简单卷和跨区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连接到远程计算机上并进行远程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目标图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台或三台计算机为一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部分操作在本地计算机完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远程磁盘管理需要多台计算机合作完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盘操作需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up Operator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tor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权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 rot="20335800">
            <a:off x="4495680" y="2819160"/>
            <a:ext cx="4876920" cy="3429000"/>
          </a:xfrm>
          <a:prstGeom prst="ellipse">
            <a:avLst/>
          </a:prstGeom>
          <a:gradFill rotWithShape="0">
            <a:gsLst>
              <a:gs pos="0">
                <a:srgbClr val="cfe1c2"/>
              </a:gs>
              <a:gs pos="100000">
                <a:srgbClr val="ffffff"/>
              </a:gs>
            </a:gsLst>
            <a:lin ang="9366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 rot="1731000">
            <a:off x="694440" y="3317400"/>
            <a:ext cx="3449160" cy="2425320"/>
          </a:xfrm>
          <a:prstGeom prst="rect">
            <a:avLst/>
          </a:prstGeom>
          <a:gradFill rotWithShape="0">
            <a:gsLst>
              <a:gs pos="0">
                <a:srgbClr val="cfe1c2"/>
              </a:gs>
              <a:gs pos="100000">
                <a:srgbClr val="ffffff"/>
              </a:gs>
            </a:gsLst>
            <a:lin ang="6372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目标图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244520" y="2814480"/>
            <a:ext cx="6588360" cy="1851120"/>
            <a:chOff x="1244520" y="2814480"/>
            <a:chExt cx="6588360" cy="1851120"/>
          </a:xfrm>
        </p:grpSpPr>
        <p:sp>
          <p:nvSpPr>
            <p:cNvPr id="406" name=""/>
            <p:cNvSpPr/>
            <p:nvPr/>
          </p:nvSpPr>
          <p:spPr>
            <a:xfrm>
              <a:off x="1244520" y="3695760"/>
              <a:ext cx="6588360" cy="96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6200000">
              <a:off x="1944720" y="412740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6200000">
              <a:off x="3405240" y="412740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 rot="5400000">
              <a:off x="5614920" y="324468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360 h 108000"/>
                <a:gd name="textAreaBottom" fmla="*/ 10872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6200000">
              <a:off x="6389640" y="412740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6200000">
              <a:off x="4903920" y="4127400"/>
              <a:ext cx="968400" cy="108000"/>
            </a:xfrm>
            <a:custGeom>
              <a:avLst/>
              <a:gdLst>
                <a:gd name="textAreaLeft" fmla="*/ 0 w 968400"/>
                <a:gd name="textAreaRight" fmla="*/ 968760 w 9684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10" y="0"/>
                  </a:lnTo>
                  <a:lnTo>
                    <a:pt x="21600" y="10800"/>
                  </a:lnTo>
                  <a:lnTo>
                    <a:pt x="1951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7e7e7"/>
                </a:gs>
                <a:gs pos="100000">
                  <a:srgbClr val="96969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828800" y="4572000"/>
            <a:ext cx="1036800" cy="12938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3505320" y="4572000"/>
            <a:ext cx="1036440" cy="12938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4924440" y="4632480"/>
            <a:ext cx="1036800" cy="12934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6400800" y="4572000"/>
            <a:ext cx="1036800" cy="12938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334800" y="3200400"/>
            <a:ext cx="1036800" cy="12938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5477040" y="1523880"/>
            <a:ext cx="1228680" cy="14781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7"/>
          <a:stretch/>
        </p:blipFill>
        <p:spPr>
          <a:xfrm>
            <a:off x="7696080" y="3048120"/>
            <a:ext cx="1036800" cy="12938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295280" y="5791320"/>
            <a:ext cx="1447920" cy="533160"/>
          </a:xfrm>
          <a:prstGeom prst="roundRect">
            <a:avLst>
              <a:gd name="adj" fmla="val 3755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本地计算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324480" y="5943600"/>
            <a:ext cx="1600200" cy="533520"/>
          </a:xfrm>
          <a:prstGeom prst="roundRect">
            <a:avLst>
              <a:gd name="adj" fmla="val 3755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本地计算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28600" y="4495680"/>
            <a:ext cx="1447920" cy="533520"/>
          </a:xfrm>
          <a:prstGeom prst="roundRect">
            <a:avLst>
              <a:gd name="adj" fmla="val 3755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远程计算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00400" y="5943600"/>
            <a:ext cx="1447920" cy="533520"/>
          </a:xfrm>
          <a:prstGeom prst="roundRect">
            <a:avLst>
              <a:gd name="adj" fmla="val 3755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远程计算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24280" y="5943600"/>
            <a:ext cx="1371600" cy="533520"/>
          </a:xfrm>
          <a:prstGeom prst="roundRect">
            <a:avLst>
              <a:gd name="adj" fmla="val 3755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远程计算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96080" y="4343400"/>
            <a:ext cx="1447920" cy="533520"/>
          </a:xfrm>
          <a:prstGeom prst="roundRect">
            <a:avLst>
              <a:gd name="adj" fmla="val 3755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远程计算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1828800"/>
            <a:ext cx="1447560" cy="533520"/>
          </a:xfrm>
          <a:prstGeom prst="roundRect">
            <a:avLst>
              <a:gd name="adj" fmla="val 3755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服务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完成主分区、扩展分区和逻辑分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基本磁盘升级为动态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完成简单卷、跨区卷、带区卷、镜像卷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D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到远程计算机并进行分区和卷的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基本磁盘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历史悠久、应用广泛的一种磁盘类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兼容性好，兼容微软所有操作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分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扩展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逻辑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834320" cy="46990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基本磁盘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133720" y="1219320"/>
            <a:ext cx="2057400" cy="2818800"/>
            <a:chOff x="2133720" y="1219320"/>
            <a:chExt cx="2057400" cy="2818800"/>
          </a:xfrm>
        </p:grpSpPr>
        <p:sp>
          <p:nvSpPr>
            <p:cNvPr id="102" name=""/>
            <p:cNvSpPr/>
            <p:nvPr/>
          </p:nvSpPr>
          <p:spPr>
            <a:xfrm>
              <a:off x="2133720" y="3769920"/>
              <a:ext cx="381240" cy="268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362320" y="1219320"/>
              <a:ext cx="1828800" cy="2483280"/>
              <a:chOff x="2362320" y="1219320"/>
              <a:chExt cx="1828800" cy="2483280"/>
            </a:xfrm>
          </p:grpSpPr>
          <p:sp>
            <p:nvSpPr>
              <p:cNvPr id="104" name=""/>
              <p:cNvSpPr/>
              <p:nvPr/>
            </p:nvSpPr>
            <p:spPr>
              <a:xfrm>
                <a:off x="2895840" y="1219320"/>
                <a:ext cx="1295280" cy="3132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基本磁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2362320" y="1554840"/>
                <a:ext cx="533520" cy="2147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2819520" y="388620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00400" y="1219320"/>
            <a:ext cx="2133720" cy="3047400"/>
            <a:chOff x="3200400" y="1219320"/>
            <a:chExt cx="2133720" cy="3047400"/>
          </a:xfrm>
        </p:grpSpPr>
        <p:sp>
          <p:nvSpPr>
            <p:cNvPr id="108" name=""/>
            <p:cNvSpPr/>
            <p:nvPr/>
          </p:nvSpPr>
          <p:spPr>
            <a:xfrm>
              <a:off x="3200400" y="3670560"/>
              <a:ext cx="2133720" cy="596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782160" y="1219320"/>
              <a:ext cx="1551240" cy="2450880"/>
              <a:chOff x="3782160" y="1219320"/>
              <a:chExt cx="1551240" cy="2450880"/>
            </a:xfrm>
          </p:grpSpPr>
          <p:sp>
            <p:nvSpPr>
              <p:cNvPr id="110" name=""/>
              <p:cNvSpPr/>
              <p:nvPr/>
            </p:nvSpPr>
            <p:spPr>
              <a:xfrm>
                <a:off x="4234680" y="1219320"/>
                <a:ext cx="1098720" cy="3132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主分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3782160" y="1550520"/>
                <a:ext cx="452520" cy="2119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5334120" y="1219320"/>
            <a:ext cx="3124080" cy="3047400"/>
            <a:chOff x="5334120" y="1219320"/>
            <a:chExt cx="3124080" cy="3047400"/>
          </a:xfrm>
        </p:grpSpPr>
        <p:sp>
          <p:nvSpPr>
            <p:cNvPr id="113" name=""/>
            <p:cNvSpPr/>
            <p:nvPr/>
          </p:nvSpPr>
          <p:spPr>
            <a:xfrm>
              <a:off x="5334120" y="3670560"/>
              <a:ext cx="3124080" cy="5961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464440" y="1219320"/>
              <a:ext cx="1850400" cy="2450880"/>
              <a:chOff x="5464440" y="1219320"/>
              <a:chExt cx="1850400" cy="2450880"/>
            </a:xfrm>
          </p:grpSpPr>
          <p:sp>
            <p:nvSpPr>
              <p:cNvPr id="115" name=""/>
              <p:cNvSpPr/>
              <p:nvPr/>
            </p:nvSpPr>
            <p:spPr>
              <a:xfrm>
                <a:off x="6004080" y="1219320"/>
                <a:ext cx="1310760" cy="3132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扩展分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5464440" y="1550520"/>
                <a:ext cx="539640" cy="2119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动态磁盘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态磁盘的特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卷的数量可以超过四个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卷可以扩展和转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支持容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兼容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Windows 2000/Windows Server 2003 /Windows X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态磁盘卷有五种类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简单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跨区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镜像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带区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ID-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动态磁盘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229600" cy="51102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1311120" y="762120"/>
            <a:ext cx="2057400" cy="3580920"/>
            <a:chOff x="1311120" y="762120"/>
            <a:chExt cx="2057400" cy="3580920"/>
          </a:xfrm>
        </p:grpSpPr>
        <p:sp>
          <p:nvSpPr>
            <p:cNvPr id="123" name=""/>
            <p:cNvSpPr/>
            <p:nvPr/>
          </p:nvSpPr>
          <p:spPr>
            <a:xfrm>
              <a:off x="1311120" y="4002480"/>
              <a:ext cx="381240" cy="340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539720" y="762120"/>
              <a:ext cx="1828800" cy="3154320"/>
              <a:chOff x="1539720" y="762120"/>
              <a:chExt cx="1828800" cy="3154320"/>
            </a:xfrm>
          </p:grpSpPr>
          <p:sp>
            <p:nvSpPr>
              <p:cNvPr id="125" name=""/>
              <p:cNvSpPr/>
              <p:nvPr/>
            </p:nvSpPr>
            <p:spPr>
              <a:xfrm>
                <a:off x="2073240" y="762120"/>
                <a:ext cx="1295280" cy="3132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动态磁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539720" y="1188360"/>
                <a:ext cx="533520" cy="272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2819520" y="762120"/>
            <a:ext cx="4114800" cy="3962160"/>
            <a:chOff x="2819520" y="762120"/>
            <a:chExt cx="4114800" cy="3962160"/>
          </a:xfrm>
        </p:grpSpPr>
        <p:sp>
          <p:nvSpPr>
            <p:cNvPr id="128" name=""/>
            <p:cNvSpPr/>
            <p:nvPr/>
          </p:nvSpPr>
          <p:spPr>
            <a:xfrm>
              <a:off x="2819520" y="3962520"/>
              <a:ext cx="4114800" cy="761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505320" y="762120"/>
              <a:ext cx="1855440" cy="3199680"/>
              <a:chOff x="3505320" y="762120"/>
              <a:chExt cx="1855440" cy="3199680"/>
            </a:xfrm>
          </p:grpSpPr>
          <p:sp>
            <p:nvSpPr>
              <p:cNvPr id="130" name=""/>
              <p:cNvSpPr/>
              <p:nvPr/>
            </p:nvSpPr>
            <p:spPr>
              <a:xfrm>
                <a:off x="4046400" y="762120"/>
                <a:ext cx="1314360" cy="3132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3505320" y="1194480"/>
                <a:ext cx="541080" cy="2767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磁盘的基本属性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分区属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盘卷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容量已用空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用空间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733920" y="1371600"/>
            <a:ext cx="3493800" cy="421812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4572000" y="1968480"/>
            <a:ext cx="3886200" cy="241200"/>
            <a:chOff x="4572000" y="1968480"/>
            <a:chExt cx="3886200" cy="241200"/>
          </a:xfrm>
        </p:grpSpPr>
        <p:sp>
          <p:nvSpPr>
            <p:cNvPr id="136" name=""/>
            <p:cNvSpPr/>
            <p:nvPr/>
          </p:nvSpPr>
          <p:spPr>
            <a:xfrm>
              <a:off x="4572000" y="1968480"/>
              <a:ext cx="914400" cy="241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91520" y="1981080"/>
              <a:ext cx="106668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卷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2720" y="2057400"/>
              <a:ext cx="1752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886200" y="2362320"/>
            <a:ext cx="5257800" cy="380880"/>
            <a:chOff x="3886200" y="2362320"/>
            <a:chExt cx="5257800" cy="380880"/>
          </a:xfrm>
        </p:grpSpPr>
        <p:sp>
          <p:nvSpPr>
            <p:cNvPr id="140" name=""/>
            <p:cNvSpPr/>
            <p:nvPr/>
          </p:nvSpPr>
          <p:spPr>
            <a:xfrm>
              <a:off x="3886200" y="2362320"/>
              <a:ext cx="1371600" cy="380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67480" y="2438280"/>
              <a:ext cx="16765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类型和文件系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34120" y="2590920"/>
              <a:ext cx="2133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886200" y="2819520"/>
            <a:ext cx="4572000" cy="609480"/>
            <a:chOff x="3886200" y="2819520"/>
            <a:chExt cx="4572000" cy="609480"/>
          </a:xfrm>
        </p:grpSpPr>
        <p:sp>
          <p:nvSpPr>
            <p:cNvPr id="144" name=""/>
            <p:cNvSpPr/>
            <p:nvPr/>
          </p:nvSpPr>
          <p:spPr>
            <a:xfrm>
              <a:off x="3886200" y="2819520"/>
              <a:ext cx="2895480" cy="457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91520" y="2895480"/>
              <a:ext cx="1066680" cy="533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已用空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可用空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124080"/>
              <a:ext cx="533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32:42Z</dcterms:created>
  <dc:creator>Aniket</dc:creator>
  <dc:description/>
  <dc:language>en-US</dc:language>
  <cp:lastModifiedBy>gaowei</cp:lastModifiedBy>
  <dcterms:modified xsi:type="dcterms:W3CDTF">2004-03-18T08:39:09Z</dcterms:modified>
  <cp:revision>633</cp:revision>
  <dc:subject/>
  <dc:title>Session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76730258</vt:r8>
  </property>
  <property fmtid="{D5CDD505-2E9C-101B-9397-08002B2CF9AE}" pid="3" name="_AuthorEmail">
    <vt:lpwstr>dongtao.gu@jb-aptech.com.cn</vt:lpwstr>
  </property>
  <property fmtid="{D5CDD505-2E9C-101B-9397-08002B2CF9AE}" pid="4" name="_AuthorEmailDisplayName">
    <vt:lpwstr>gudongtao(古东涛)</vt:lpwstr>
  </property>
  <property fmtid="{D5CDD505-2E9C-101B-9397-08002B2CF9AE}" pid="5" name="_EmailSubject">
    <vt:lpwstr>win2003一阶段第十章PPT第二次修改建议</vt:lpwstr>
  </property>
  <property fmtid="{D5CDD505-2E9C-101B-9397-08002B2CF9AE}" pid="6" name="_PreviousAdHocReviewCycleID">
    <vt:r8>845167401</vt:r8>
  </property>
  <property fmtid="{D5CDD505-2E9C-101B-9397-08002B2CF9AE}" pid="7" name="_ReviewingToolsShownOnce">
    <vt:lpwstr/>
  </property>
</Properties>
</file>