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wmf" ContentType="image/x-wmf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2A1E-4DF0-4892-85EB-699D191EE5C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B96-5276-4BE8-ABEA-BF43EFB2A30E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配置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Internet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宋体"/>
              </a:rPr>
              <a:t>访问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十一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19412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出资源的请求，根据客户机上的代理服务器    设置，该请求会发到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720" y="3203640"/>
            <a:ext cx="3517920" cy="1366920"/>
            <a:chOff x="828720" y="3203640"/>
            <a:chExt cx="3517920" cy="1366920"/>
          </a:xfrm>
        </p:grpSpPr>
        <p:sp>
          <p:nvSpPr>
            <p:cNvPr id="127" name=""/>
            <p:cNvSpPr/>
            <p:nvPr/>
          </p:nvSpPr>
          <p:spPr>
            <a:xfrm>
              <a:off x="2708280" y="3203640"/>
              <a:ext cx="16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xy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720" y="373680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008000" y="3548160"/>
              <a:ext cx="2911680" cy="1022400"/>
              <a:chOff x="1008000" y="3548160"/>
              <a:chExt cx="2911680" cy="102240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3132000" y="3548160"/>
                <a:ext cx="787680" cy="753480"/>
                <a:chOff x="3132000" y="3548160"/>
                <a:chExt cx="787680" cy="753480"/>
              </a:xfrm>
            </p:grpSpPr>
            <p:sp>
              <p:nvSpPr>
                <p:cNvPr id="131" name="mainfrm"/>
                <p:cNvSpPr/>
                <p:nvPr/>
              </p:nvSpPr>
              <p:spPr>
                <a:xfrm>
                  <a:off x="3132000" y="3548160"/>
                  <a:ext cx="463680" cy="72756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3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35480" y="4032360"/>
                  <a:ext cx="484200" cy="26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3" name="computr1"/>
              <p:cNvSpPr/>
              <p:nvPr/>
            </p:nvSpPr>
            <p:spPr>
              <a:xfrm>
                <a:off x="1008000" y="4086360"/>
                <a:ext cx="466920" cy="4842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1494000" y="3817440"/>
                <a:ext cx="157788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100240" y="3710160"/>
                <a:ext cx="23976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将客户机的请求发送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一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46240" y="1989000"/>
            <a:ext cx="4218120" cy="1828440"/>
            <a:chOff x="2946240" y="1989000"/>
            <a:chExt cx="4218120" cy="1828440"/>
          </a:xfrm>
        </p:grpSpPr>
        <p:sp>
          <p:nvSpPr>
            <p:cNvPr id="138" name="Cloud"/>
            <p:cNvSpPr/>
            <p:nvPr/>
          </p:nvSpPr>
          <p:spPr>
            <a:xfrm>
              <a:off x="2946240" y="1989000"/>
              <a:ext cx="4218120" cy="106308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mainfrm"/>
            <p:cNvSpPr/>
            <p:nvPr/>
          </p:nvSpPr>
          <p:spPr>
            <a:xfrm>
              <a:off x="5618160" y="2336760"/>
              <a:ext cx="365040" cy="435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5160" y="20696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676680" y="2728440"/>
              <a:ext cx="188100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44840" y="2989440"/>
              <a:ext cx="2415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4000" y="119484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机将资源返回给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779640" y="2852640"/>
            <a:ext cx="1871640" cy="1079640"/>
            <a:chOff x="3779640" y="2852640"/>
            <a:chExt cx="1871640" cy="1079640"/>
          </a:xfrm>
        </p:grpSpPr>
        <p:sp>
          <p:nvSpPr>
            <p:cNvPr id="145" name=""/>
            <p:cNvSpPr/>
            <p:nvPr/>
          </p:nvSpPr>
          <p:spPr>
            <a:xfrm>
              <a:off x="4618080" y="3514680"/>
              <a:ext cx="24300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779640" y="2852640"/>
              <a:ext cx="187164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24000" y="119484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将内容存储在本地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6080" y="4322880"/>
            <a:ext cx="24264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将资源内容发送给客户机，客户机可以看到自己请求的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55560" y="4032360"/>
            <a:ext cx="1515960" cy="691920"/>
            <a:chOff x="1555560" y="4032360"/>
            <a:chExt cx="1515960" cy="691920"/>
          </a:xfrm>
        </p:grpSpPr>
        <p:sp>
          <p:nvSpPr>
            <p:cNvPr id="151" name=""/>
            <p:cNvSpPr/>
            <p:nvPr/>
          </p:nvSpPr>
          <p:spPr>
            <a:xfrm flipH="1">
              <a:off x="1555560" y="4032360"/>
              <a:ext cx="151596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60720" y="4356000"/>
              <a:ext cx="24264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24000" y="15231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与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的资源，和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，也会将请求发送到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785960" y="4302000"/>
            <a:ext cx="1406520" cy="1730520"/>
            <a:chOff x="1785960" y="4302000"/>
            <a:chExt cx="1406520" cy="1730520"/>
          </a:xfrm>
        </p:grpSpPr>
        <p:sp>
          <p:nvSpPr>
            <p:cNvPr id="155" name="computr1"/>
            <p:cNvSpPr/>
            <p:nvPr/>
          </p:nvSpPr>
          <p:spPr>
            <a:xfrm>
              <a:off x="1965240" y="554832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85960" y="519912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343240" y="4302000"/>
              <a:ext cx="849240" cy="968400"/>
              <a:chOff x="2343240" y="4302000"/>
              <a:chExt cx="849240" cy="96840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2343240" y="4302000"/>
                <a:ext cx="849240" cy="96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46360" y="4356000"/>
                <a:ext cx="241200" cy="368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324000" y="119412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理服务器上已经有该资源的内容，所以代理服务器直接将资源内容发送给客户机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ien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85880" y="4356000"/>
            <a:ext cx="849600" cy="968400"/>
            <a:chOff x="2585880" y="4356000"/>
            <a:chExt cx="849600" cy="968400"/>
          </a:xfrm>
        </p:grpSpPr>
        <p:sp>
          <p:nvSpPr>
            <p:cNvPr id="162" name=""/>
            <p:cNvSpPr/>
            <p:nvPr/>
          </p:nvSpPr>
          <p:spPr>
            <a:xfrm flipH="1">
              <a:off x="2585880" y="4356000"/>
              <a:ext cx="84960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09960" y="4894200"/>
              <a:ext cx="24300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出资源的请求，根据客户机上的代理服务器设置，该请求会发到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客户机的请求发送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的一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机将资源返回给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内容存储在本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将资源内容发送给客户机，客户机可以看到自己请求的资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求与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同的资源，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样，也会将请求发送到代理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服务器上已经有该资源的内容，所以代理服务器直接将资源内容发送给客户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ien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缓存内容可以提高访问速度，减少不必要的网络流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藏内部网络细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火墙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监控用户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有一个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无法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4456080" cy="46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两个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共享图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专用连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608360" cy="4681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284720" y="1484280"/>
            <a:ext cx="4633920" cy="475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211640" y="1413000"/>
            <a:ext cx="4681440" cy="48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456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多个连接，只希望使用一个专用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选择一个专用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结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824360" cy="4608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19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具有多个连接，希望使用所有的专用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络连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建网桥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桥创建失败提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桥创建过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网桥创建结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激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共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24360" y="1700280"/>
            <a:ext cx="4824360" cy="453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24360" y="1700280"/>
            <a:ext cx="4824360" cy="453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067280" y="3141720"/>
            <a:ext cx="4608360" cy="1019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067280" y="2852640"/>
            <a:ext cx="4681440" cy="1086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924360" y="1650960"/>
            <a:ext cx="482436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代理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的选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性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易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CProxy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行安装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向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菜单文件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快捷方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P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4464000" cy="1334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4284720" y="1700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44084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”对话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协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3887640" cy="31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395280" y="1557360"/>
          <a:ext cx="8399520" cy="3414600"/>
        </p:xfrm>
        <a:graphic>
          <a:graphicData uri="http://schemas.openxmlformats.org/drawingml/2006/table">
            <a:tbl>
              <a:tblPr/>
              <a:tblGrid>
                <a:gridCol w="1582920"/>
                <a:gridCol w="1579320"/>
                <a:gridCol w="523728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端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cc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HT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浏览器上网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WEB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）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浏览器访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站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使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客户端软件访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TP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站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T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Real Play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OCKS/MM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SOCK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某些网络应用程序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QQ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MS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microsoft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媒体服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elne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用于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Telnet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客户端程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驱动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卷、跨区卷、带区卷、镜像卷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帐号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号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建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取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完的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扫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995640" y="1628640"/>
            <a:ext cx="4392720" cy="1754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4824360" cy="417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027320" y="1628640"/>
            <a:ext cx="479268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用户连接信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事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7527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二级代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用二级代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3619440" cy="2919600"/>
          </a:xfrm>
          <a:prstGeom prst="rect">
            <a:avLst/>
          </a:prstGeom>
          <a:ln w="0">
            <a:noFill/>
          </a:ln>
        </p:spPr>
      </p:pic>
      <p:grpSp>
        <p:nvGrpSpPr>
          <p:cNvPr id="220" name=""/>
          <p:cNvGrpSpPr/>
          <p:nvPr/>
        </p:nvGrpSpPr>
        <p:grpSpPr>
          <a:xfrm>
            <a:off x="755640" y="4417920"/>
            <a:ext cx="6553080" cy="1098720"/>
            <a:chOff x="755640" y="4417920"/>
            <a:chExt cx="6553080" cy="1098720"/>
          </a:xfrm>
        </p:grpSpPr>
        <p:grpSp>
          <p:nvGrpSpPr>
            <p:cNvPr id="221" name=""/>
            <p:cNvGrpSpPr/>
            <p:nvPr/>
          </p:nvGrpSpPr>
          <p:grpSpPr>
            <a:xfrm>
              <a:off x="2195640" y="4417920"/>
              <a:ext cx="1638000" cy="1098720"/>
              <a:chOff x="2195640" y="4417920"/>
              <a:chExt cx="1638000" cy="1098720"/>
            </a:xfrm>
          </p:grpSpPr>
          <p:sp>
            <p:nvSpPr>
              <p:cNvPr id="222" name=""/>
              <p:cNvSpPr/>
              <p:nvPr/>
            </p:nvSpPr>
            <p:spPr>
              <a:xfrm>
                <a:off x="2195640" y="4417920"/>
                <a:ext cx="163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二级代理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619360" y="4762440"/>
                <a:ext cx="786600" cy="754200"/>
                <a:chOff x="2619360" y="4762440"/>
                <a:chExt cx="786600" cy="754200"/>
              </a:xfrm>
            </p:grpSpPr>
            <p:sp>
              <p:nvSpPr>
                <p:cNvPr id="224" name="mainfrm"/>
                <p:cNvSpPr/>
                <p:nvPr/>
              </p:nvSpPr>
              <p:spPr>
                <a:xfrm>
                  <a:off x="2619360" y="4762440"/>
                  <a:ext cx="463320" cy="727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22480" y="5247000"/>
                  <a:ext cx="48348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26" name=""/>
            <p:cNvGrpSpPr/>
            <p:nvPr/>
          </p:nvGrpSpPr>
          <p:grpSpPr>
            <a:xfrm>
              <a:off x="755640" y="4562640"/>
              <a:ext cx="897120" cy="833400"/>
              <a:chOff x="755640" y="4562640"/>
              <a:chExt cx="897120" cy="833400"/>
            </a:xfrm>
          </p:grpSpPr>
          <p:sp>
            <p:nvSpPr>
              <p:cNvPr id="227" name=""/>
              <p:cNvSpPr/>
              <p:nvPr/>
            </p:nvSpPr>
            <p:spPr>
              <a:xfrm>
                <a:off x="755640" y="456264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computr1"/>
              <p:cNvSpPr/>
              <p:nvPr/>
            </p:nvSpPr>
            <p:spPr>
              <a:xfrm>
                <a:off x="934920" y="4911840"/>
                <a:ext cx="466920" cy="4842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852720" y="4417920"/>
              <a:ext cx="1638360" cy="1098720"/>
              <a:chOff x="3852720" y="4417920"/>
              <a:chExt cx="1638360" cy="1098720"/>
            </a:xfrm>
          </p:grpSpPr>
          <p:sp>
            <p:nvSpPr>
              <p:cNvPr id="230" name=""/>
              <p:cNvSpPr/>
              <p:nvPr/>
            </p:nvSpPr>
            <p:spPr>
              <a:xfrm>
                <a:off x="3852720" y="4417920"/>
                <a:ext cx="163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Proxy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276800" y="4762440"/>
                <a:ext cx="786960" cy="754200"/>
                <a:chOff x="4276800" y="4762440"/>
                <a:chExt cx="786960" cy="754200"/>
              </a:xfrm>
            </p:grpSpPr>
            <p:sp>
              <p:nvSpPr>
                <p:cNvPr id="232" name="mainfrm"/>
                <p:cNvSpPr/>
                <p:nvPr/>
              </p:nvSpPr>
              <p:spPr>
                <a:xfrm>
                  <a:off x="4276800" y="4762440"/>
                  <a:ext cx="463680" cy="72792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579920" y="5247000"/>
                  <a:ext cx="483840" cy="26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4" name="Cloud"/>
            <p:cNvSpPr/>
            <p:nvPr/>
          </p:nvSpPr>
          <p:spPr>
            <a:xfrm>
              <a:off x="5940360" y="4776840"/>
              <a:ext cx="1368360" cy="5983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636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364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88000" y="4994280"/>
              <a:ext cx="1008000" cy="144360"/>
            </a:xfrm>
            <a:prstGeom prst="leftRightArrow">
              <a:avLst>
                <a:gd name="adj1" fmla="val 50000"/>
                <a:gd name="adj2" fmla="val 139004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缓存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新时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路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缓存大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是从缓存中读取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40360" y="1341360"/>
            <a:ext cx="467964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站过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站过滤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站点过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过滤规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84720" y="1484280"/>
            <a:ext cx="4464000" cy="4321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284720" y="1484280"/>
            <a:ext cx="4464000" cy="43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时间安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安排对话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安排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段复选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140360" y="1700280"/>
            <a:ext cx="4464000" cy="41050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46400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志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志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志文件最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除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464000" cy="42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356000" y="1484280"/>
            <a:ext cx="446400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浏览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局域网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321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673800" cy="3165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367380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使用安全常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更新操作系统，下载并安装漏洞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停止和禁用不必要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管理员及其他用户设置复杂的密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改系统默认的设置，例如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重命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键数据定期完成备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互联网使用安全常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杀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邮件附件进行病毒检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滤非法网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范软盘、光盘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硬件或软件防火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定完善的网络安全策略及故障处理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Windows Server 200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网络接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熟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CS(Internet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连接共享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熟悉代理服务器软件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配置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I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浏览器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了解互联网使用安全常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源于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PA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为企业内部网，用于在企业内部实现资源共享和信息交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常常配置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用于将小型网络接入互联网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机具有至少两个连接分别接内网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代理服务器软件将企业网络接入互联网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接入的一种主要方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软件可以实现对用户上网实现代理、缓存、过滤、监控等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种适用于小型网络的代理服务器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可以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中设置代理服务器地址和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网络安全常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代理服务器软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客户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企业网络接入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6985080" cy="47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两台服务器上成功安装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Pro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可以通过代理服务器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可以通过二级代理服务器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按照计算机名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创建用户帐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网站过滤规则成功限制客户机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时间安排规则成功限制客户机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记录上网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接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万维网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新闻组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B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电子公告版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ra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服务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内部信息交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外信息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ra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概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共享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意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共享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用连接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客户机配置为自动获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在专用连接上激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法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网络具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服务器，应采用其他技术接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用于家庭和小型企业网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代理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理服务器示意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24000" y="2133720"/>
            <a:ext cx="6838920" cy="3324240"/>
            <a:chOff x="324000" y="2133720"/>
            <a:chExt cx="6838920" cy="3324240"/>
          </a:xfrm>
        </p:grpSpPr>
        <p:sp>
          <p:nvSpPr>
            <p:cNvPr id="109" name=""/>
            <p:cNvSpPr/>
            <p:nvPr/>
          </p:nvSpPr>
          <p:spPr>
            <a:xfrm rot="18505800">
              <a:off x="1539720" y="4300560"/>
              <a:ext cx="1757520" cy="160200"/>
            </a:xfrm>
            <a:prstGeom prst="leftRightArrow">
              <a:avLst>
                <a:gd name="adj1" fmla="val 50000"/>
                <a:gd name="adj2" fmla="val 21840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Cloud"/>
            <p:cNvSpPr/>
            <p:nvPr/>
          </p:nvSpPr>
          <p:spPr>
            <a:xfrm>
              <a:off x="4354560" y="2133720"/>
              <a:ext cx="2808360" cy="131436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mainfrm"/>
            <p:cNvSpPr/>
            <p:nvPr/>
          </p:nvSpPr>
          <p:spPr>
            <a:xfrm>
              <a:off x="5507280" y="2854440"/>
              <a:ext cx="365040" cy="538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68720" y="292572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627280" y="2973600"/>
              <a:ext cx="787680" cy="753480"/>
              <a:chOff x="2627280" y="2973600"/>
              <a:chExt cx="787680" cy="753480"/>
            </a:xfrm>
          </p:grpSpPr>
          <p:sp>
            <p:nvSpPr>
              <p:cNvPr id="114" name="mainfrm"/>
              <p:cNvSpPr/>
              <p:nvPr/>
            </p:nvSpPr>
            <p:spPr>
              <a:xfrm>
                <a:off x="2627280" y="2973600"/>
                <a:ext cx="463680" cy="7275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30760" y="3457800"/>
                <a:ext cx="484200" cy="26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2203560" y="2629080"/>
              <a:ext cx="16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xy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computr1"/>
            <p:cNvSpPr/>
            <p:nvPr/>
          </p:nvSpPr>
          <p:spPr>
            <a:xfrm>
              <a:off x="503280" y="351180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4000" y="316224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computr1"/>
            <p:cNvSpPr/>
            <p:nvPr/>
          </p:nvSpPr>
          <p:spPr>
            <a:xfrm>
              <a:off x="1460520" y="4973760"/>
              <a:ext cx="466920" cy="4842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81240" y="4624560"/>
              <a:ext cx="89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ent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57720" y="3426120"/>
              <a:ext cx="9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733000">
              <a:off x="1042560" y="3501720"/>
              <a:ext cx="1511640" cy="144360"/>
            </a:xfrm>
            <a:prstGeom prst="leftRightArrow">
              <a:avLst>
                <a:gd name="adj1" fmla="val 50000"/>
                <a:gd name="adj2" fmla="val 208457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3640" y="3141720"/>
              <a:ext cx="2232000" cy="144360"/>
            </a:xfrm>
            <a:prstGeom prst="leftRightArrow">
              <a:avLst>
                <a:gd name="adj1" fmla="val 50000"/>
                <a:gd name="adj2" fmla="val 307795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19T02:35:00Z</dcterms:modified>
  <cp:revision>80</cp:revision>
  <dc:subject/>
  <dc:title>Understanding Basic HTML</dc:title>
</cp:coreProperties>
</file>