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56AE-315B-4D59-8F97-3F57EAB070C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2B3B-481F-4AD1-8F12-4FDC00C73A9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宋体"/>
              </a:rPr>
              <a:t>综合实验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十二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需求分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76240" y="1523880"/>
          <a:ext cx="7512120" cy="4062600"/>
        </p:xfrm>
        <a:graphic>
          <a:graphicData uri="http://schemas.openxmlformats.org/drawingml/2006/table">
            <a:tbl>
              <a:tblPr/>
              <a:tblGrid>
                <a:gridCol w="1824120"/>
                <a:gridCol w="1836720"/>
                <a:gridCol w="1835280"/>
                <a:gridCol w="2016000"/>
              </a:tblGrid>
              <a:tr h="60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需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商业价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技术手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必要设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企业内资源共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提高员工工作效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,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降低成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建立文件服务器和打印服务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服务器一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访问互联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方便员工与客户交流信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net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连接共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服务器一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管理简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降低网络管理成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建立单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域控制器两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数据安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保障商业机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权限分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服务器一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配合公司管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降低管理成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为不同部门创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域控制器两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网络运行稳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避免故障导致的商业损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添加附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域控制器两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项目规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企业网络搭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计算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测试网络连通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规划和配置计算机名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计算机加入工作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安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域控制器及辅助域控制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客户机加入域完成域环境的建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部门划分建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用户账户及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项目规划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互联网接入和网络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代理服务器软件实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共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文件服务器并分配适当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打印服务器实现打印机共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组策略，保障网络安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拓扑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76240" y="1523520"/>
            <a:ext cx="73677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39640" y="1844640"/>
            <a:ext cx="7561080" cy="3889080"/>
            <a:chOff x="539640" y="1844640"/>
            <a:chExt cx="7561080" cy="3889080"/>
          </a:xfrm>
        </p:grpSpPr>
        <p:sp>
          <p:nvSpPr>
            <p:cNvPr id="194" name=""/>
            <p:cNvSpPr/>
            <p:nvPr/>
          </p:nvSpPr>
          <p:spPr>
            <a:xfrm>
              <a:off x="4334040" y="5127120"/>
              <a:ext cx="1469880" cy="60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部门客户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79400" y="2080440"/>
              <a:ext cx="980640" cy="60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服务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Cloud"/>
            <p:cNvSpPr/>
            <p:nvPr/>
          </p:nvSpPr>
          <p:spPr>
            <a:xfrm>
              <a:off x="2071080" y="3318120"/>
              <a:ext cx="1838160" cy="6066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本地网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84040" y="3601440"/>
              <a:ext cx="10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205520" y="3072240"/>
              <a:ext cx="31608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46360" y="3834000"/>
              <a:ext cx="459360" cy="73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05720" y="3834360"/>
              <a:ext cx="91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mainfrm"/>
            <p:cNvSpPr/>
            <p:nvPr/>
          </p:nvSpPr>
          <p:spPr>
            <a:xfrm>
              <a:off x="5134320" y="1844640"/>
              <a:ext cx="305280" cy="122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mainfrm"/>
            <p:cNvSpPr/>
            <p:nvPr/>
          </p:nvSpPr>
          <p:spPr>
            <a:xfrm>
              <a:off x="4367880" y="1844640"/>
              <a:ext cx="306360" cy="1227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computr2"/>
            <p:cNvSpPr/>
            <p:nvPr/>
          </p:nvSpPr>
          <p:spPr>
            <a:xfrm>
              <a:off x="539640" y="4572360"/>
              <a:ext cx="554760" cy="690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458720" y="3834000"/>
              <a:ext cx="459720" cy="73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computr2"/>
            <p:cNvSpPr/>
            <p:nvPr/>
          </p:nvSpPr>
          <p:spPr>
            <a:xfrm>
              <a:off x="1151640" y="4572360"/>
              <a:ext cx="554760" cy="690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48800" y="3834360"/>
              <a:ext cx="10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48800" y="3834000"/>
              <a:ext cx="460440" cy="73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4061160" y="3834000"/>
              <a:ext cx="460800" cy="73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computr2"/>
            <p:cNvSpPr/>
            <p:nvPr/>
          </p:nvSpPr>
          <p:spPr>
            <a:xfrm>
              <a:off x="3755160" y="4572360"/>
              <a:ext cx="554760" cy="690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computr2"/>
            <p:cNvSpPr/>
            <p:nvPr/>
          </p:nvSpPr>
          <p:spPr>
            <a:xfrm>
              <a:off x="3143160" y="4572360"/>
              <a:ext cx="554760" cy="690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Cloud"/>
            <p:cNvSpPr/>
            <p:nvPr/>
          </p:nvSpPr>
          <p:spPr>
            <a:xfrm>
              <a:off x="6263640" y="2399400"/>
              <a:ext cx="1837080" cy="6163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39600" y="2450520"/>
              <a:ext cx="980640" cy="303120"/>
            </a:xfrm>
            <a:custGeom>
              <a:avLst/>
              <a:gdLst/>
              <a:ahLst/>
              <a:rect l="l" t="t" r="r" b="b"/>
              <a:pathLst>
                <a:path w="624" h="84">
                  <a:moveTo>
                    <a:pt x="0" y="0"/>
                  </a:moveTo>
                  <a:lnTo>
                    <a:pt x="330" y="0"/>
                  </a:lnTo>
                  <a:lnTo>
                    <a:pt x="258" y="84"/>
                  </a:lnTo>
                  <a:lnTo>
                    <a:pt x="624" y="84"/>
                  </a:lnTo>
                </a:path>
              </a:pathLst>
            </a:custGeom>
            <a:noFill/>
            <a:ln w="38160">
              <a:solidFill>
                <a:srgbClr val="cf0e30"/>
              </a:solidFill>
              <a:prstDash val="dash"/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912920" y="3046320"/>
              <a:ext cx="31608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域规划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835280" y="1628640"/>
            <a:ext cx="5508360" cy="3929040"/>
            <a:chOff x="1835280" y="1628640"/>
            <a:chExt cx="5508360" cy="3929040"/>
          </a:xfrm>
        </p:grpSpPr>
        <p:sp>
          <p:nvSpPr>
            <p:cNvPr id="217" name=""/>
            <p:cNvSpPr/>
            <p:nvPr/>
          </p:nvSpPr>
          <p:spPr>
            <a:xfrm>
              <a:off x="1835280" y="1628640"/>
              <a:ext cx="5508360" cy="3929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48000" y="2637000"/>
              <a:ext cx="2389320" cy="490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ianhua.co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67280" y="4653000"/>
              <a:ext cx="557280" cy="49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59280" y="4653000"/>
              <a:ext cx="555840" cy="49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80000" y="4653000"/>
              <a:ext cx="556920" cy="49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066920" y="3102120"/>
              <a:ext cx="368280" cy="15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35560" y="3102120"/>
              <a:ext cx="1720800" cy="15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131640" y="3102120"/>
              <a:ext cx="1303560" cy="15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4000" y="5084640"/>
              <a:ext cx="131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ccou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72000" y="5084640"/>
              <a:ext cx="131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evelop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67280" y="5084640"/>
              <a:ext cx="106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3640" y="1773360"/>
              <a:ext cx="206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域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:tianhua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771640" y="4653000"/>
            <a:ext cx="557280" cy="49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27640" y="3068640"/>
            <a:ext cx="64908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84360" y="508464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U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及用户组规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95280" y="1341360"/>
          <a:ext cx="6481800" cy="2594160"/>
        </p:xfrm>
        <a:graphic>
          <a:graphicData uri="http://schemas.openxmlformats.org/drawingml/2006/table">
            <a:tbl>
              <a:tblPr/>
              <a:tblGrid>
                <a:gridCol w="1622520"/>
                <a:gridCol w="1619280"/>
                <a:gridCol w="1620720"/>
                <a:gridCol w="1619280"/>
              </a:tblGrid>
              <a:tr h="60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部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全局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域本地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经理办公室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manage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gmanag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dlmanag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财务部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account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gaccoun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dlaccoun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市场部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sal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gsal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dlsal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开发部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develope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gdevelop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dldevelop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1763640" y="4221000"/>
            <a:ext cx="1274760" cy="1224000"/>
          </a:xfrm>
          <a:prstGeom prst="borderCallout1">
            <a:avLst>
              <a:gd name="adj1" fmla="val 18750"/>
              <a:gd name="adj2" fmla="val -8333"/>
              <a:gd name="adj3" fmla="val -152916"/>
              <a:gd name="adj4" fmla="val 158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Chenb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Wangq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Wuz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zhangh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4508640"/>
            <a:ext cx="1596960" cy="609480"/>
          </a:xfrm>
          <a:prstGeom prst="borderCallout1">
            <a:avLst>
              <a:gd name="adj1" fmla="val 18750"/>
              <a:gd name="adj2" fmla="val -8333"/>
              <a:gd name="adj3" fmla="val -185416"/>
              <a:gd name="adj4" fmla="val 1090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g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g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环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域控制器的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客户机加入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企业管理结构创建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和管理用户账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和管理文件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系统安全的基本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目标图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loud"/>
          <p:cNvSpPr/>
          <p:nvPr/>
        </p:nvSpPr>
        <p:spPr>
          <a:xfrm>
            <a:off x="6227640" y="1916280"/>
            <a:ext cx="1811520" cy="650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916280"/>
            <a:ext cx="968400" cy="323640"/>
          </a:xfrm>
          <a:custGeom>
            <a:avLst/>
            <a:gdLst/>
            <a:ahLst/>
            <a:rect l="l" t="t" r="r" b="b"/>
            <a:pathLst>
              <a:path w="624" h="84">
                <a:moveTo>
                  <a:pt x="0" y="0"/>
                </a:moveTo>
                <a:lnTo>
                  <a:pt x="330" y="0"/>
                </a:lnTo>
                <a:lnTo>
                  <a:pt x="258" y="84"/>
                </a:lnTo>
                <a:lnTo>
                  <a:pt x="624" y="84"/>
                </a:lnTo>
              </a:path>
            </a:pathLst>
          </a:custGeom>
          <a:noFill/>
          <a:ln w="38160">
            <a:solidFill>
              <a:srgbClr val="cf0e30"/>
            </a:solidFill>
            <a:prstDash val="dash"/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921200" y="2276640"/>
            <a:ext cx="11160" cy="172872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50560" y="5302080"/>
            <a:ext cx="4670280" cy="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309840" y="3914640"/>
            <a:ext cx="0" cy="138744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921200" y="4436640"/>
            <a:ext cx="11160" cy="86508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794040" y="3914640"/>
            <a:ext cx="0" cy="138744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505240" y="4240080"/>
            <a:ext cx="0" cy="106200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860480" y="4240080"/>
            <a:ext cx="0" cy="106200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217520" y="4562640"/>
            <a:ext cx="0" cy="73800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73120" y="4562640"/>
            <a:ext cx="0" cy="73800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computr2"/>
          <p:cNvSpPr/>
          <p:nvPr/>
        </p:nvSpPr>
        <p:spPr>
          <a:xfrm>
            <a:off x="2182680" y="3914640"/>
            <a:ext cx="546120" cy="738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omputr2"/>
          <p:cNvSpPr/>
          <p:nvPr/>
        </p:nvSpPr>
        <p:spPr>
          <a:xfrm>
            <a:off x="1538280" y="3914640"/>
            <a:ext cx="547560" cy="738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computr2"/>
          <p:cNvSpPr/>
          <p:nvPr/>
        </p:nvSpPr>
        <p:spPr>
          <a:xfrm>
            <a:off x="895320" y="3914640"/>
            <a:ext cx="546120" cy="738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computr2"/>
          <p:cNvSpPr/>
          <p:nvPr/>
        </p:nvSpPr>
        <p:spPr>
          <a:xfrm>
            <a:off x="250920" y="3914640"/>
            <a:ext cx="546120" cy="738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mainfrm"/>
          <p:cNvSpPr/>
          <p:nvPr/>
        </p:nvSpPr>
        <p:spPr>
          <a:xfrm>
            <a:off x="3635280" y="3357720"/>
            <a:ext cx="298440" cy="12222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mainfrm"/>
          <p:cNvSpPr/>
          <p:nvPr/>
        </p:nvSpPr>
        <p:spPr>
          <a:xfrm>
            <a:off x="3132000" y="3357720"/>
            <a:ext cx="319320" cy="12222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19640" y="148428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A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30520" y="291636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rv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356000" y="3716280"/>
            <a:ext cx="1128960" cy="792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390760" y="2916360"/>
            <a:ext cx="12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erve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32360" y="4508640"/>
            <a:ext cx="9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交换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9280" y="3614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" y="361476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60520" y="36147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04920" y="3614760"/>
            <a:ext cx="7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2200" y="2216160"/>
            <a:ext cx="2138400" cy="1165320"/>
          </a:xfrm>
          <a:prstGeom prst="borderCallout1">
            <a:avLst>
              <a:gd name="adj1" fmla="val 18750"/>
              <a:gd name="adj2" fmla="val -8333"/>
              <a:gd name="adj3" fmla="val 68125"/>
              <a:gd name="adj4" fmla="val 12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域控制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文件服务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打印服务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2200" y="1052640"/>
            <a:ext cx="2138400" cy="1047600"/>
          </a:xfrm>
          <a:prstGeom prst="borderCallout1">
            <a:avLst>
              <a:gd name="adj1" fmla="val 18750"/>
              <a:gd name="adj2" fmla="val -8333"/>
              <a:gd name="adj3" fmla="val 185416"/>
              <a:gd name="adj4" fmla="val 16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域控制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DNS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服务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代理服务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23479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192.168.0.2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64000" y="3620880"/>
            <a:ext cx="2953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Servera:192.168.0.1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Serverb:192.168.0.2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Ws1:192.168.0.3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Ws2:192.168.0.4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Ws3:192.168.0.5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Ws4:192.168.0.6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599000" y="1676520"/>
            <a:ext cx="681120" cy="67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命令列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876240" y="1523880"/>
          <a:ext cx="7391520" cy="3660840"/>
        </p:xfrm>
        <a:graphic>
          <a:graphicData uri="http://schemas.openxmlformats.org/drawingml/2006/table">
            <a:tbl>
              <a:tblPr/>
              <a:tblGrid>
                <a:gridCol w="1608120"/>
                <a:gridCol w="5783400"/>
              </a:tblGrid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命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</a:tr>
              <a:tr h="96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Ipconfi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利用此命令可以查看本机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IP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地址及其他相关配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,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DN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服务器、默认网关等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例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ipconfig /al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Ping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使用此命令可以验证网络是否已经调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例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ping 192.168.0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dcprom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执行此命令会安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A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，从而提升该计算机为域控制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此命令也可以用于卸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A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Conve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利用此命令可以将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FAT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分区转换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NTF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分区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例：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convert e:/fs:ntfs /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微软最新的网络操作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组织成工作组或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个用户都拥有自己的用户账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供了多种保障网络安全的手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策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创建各种应用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印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了计算机的基本配置，如计算机名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了单域环境的创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照规划创建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用户及用户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了文件服务器并且分配了适当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了打印机服务器实现了打印共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实现了互联网访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域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配置了适当的安全策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连通且所有服务工作正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了项目实施的基本环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设计和规划，利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匹配公司的管理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利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prom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安装域控制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利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confi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命令测试网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tive director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和计算机”可以创建用户账户，组及组策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代理服务器软件可以实现共享上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“管理您的服务器”可以将一台计算机配置成文件服务器和打印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组策略可以在域或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级别上控制用户的桌面显示及网络行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熟悉企业对网络环境的基本需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环境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域环境的创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用户账户的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现企业网络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文件服务器及打印服务器的创建和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下的安全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组策略的基本使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指导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目背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概况、公司管理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结构、现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状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息反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需求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目规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拓扑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划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项目背景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司概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司管理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47640" y="2781360"/>
            <a:ext cx="5113080" cy="2734920"/>
            <a:chOff x="1547640" y="2781360"/>
            <a:chExt cx="5113080" cy="2734920"/>
          </a:xfrm>
        </p:grpSpPr>
        <p:sp>
          <p:nvSpPr>
            <p:cNvPr id="101" name=""/>
            <p:cNvSpPr/>
            <p:nvPr/>
          </p:nvSpPr>
          <p:spPr>
            <a:xfrm>
              <a:off x="3465000" y="2781360"/>
              <a:ext cx="1278000" cy="50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经理办公室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82720" y="5023800"/>
              <a:ext cx="1278000" cy="49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财务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65000" y="5023800"/>
              <a:ext cx="1278000" cy="49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市场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47640" y="5023800"/>
              <a:ext cx="1278000" cy="49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开发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04360" y="3283560"/>
              <a:ext cx="0" cy="174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86640" y="4153680"/>
              <a:ext cx="38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86640" y="4153680"/>
              <a:ext cx="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22080" y="4153680"/>
              <a:ext cx="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OU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组织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划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位置划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部门划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设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771640" y="2276640"/>
            <a:ext cx="4608720" cy="3340080"/>
            <a:chOff x="2771640" y="2276640"/>
            <a:chExt cx="4608720" cy="3340080"/>
          </a:xfrm>
        </p:grpSpPr>
        <p:sp>
          <p:nvSpPr>
            <p:cNvPr id="112" name=""/>
            <p:cNvSpPr/>
            <p:nvPr/>
          </p:nvSpPr>
          <p:spPr>
            <a:xfrm>
              <a:off x="2771640" y="2276640"/>
              <a:ext cx="4608720" cy="3340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20040" y="3111480"/>
              <a:ext cx="511920" cy="41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44240" y="4781520"/>
              <a:ext cx="511920" cy="417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20040" y="4781520"/>
              <a:ext cx="511920" cy="417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95840" y="4781520"/>
              <a:ext cx="511920" cy="417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76000" y="3529080"/>
              <a:ext cx="0" cy="12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76000" y="3529080"/>
              <a:ext cx="1024200" cy="12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051440" y="3529080"/>
              <a:ext cx="1024200" cy="125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15560" y="5200200"/>
              <a:ext cx="9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计算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39480" y="5199120"/>
              <a:ext cx="70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用户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83400" y="5199120"/>
              <a:ext cx="106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打印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771640" y="2276640"/>
            <a:ext cx="4608720" cy="3456000"/>
            <a:chOff x="2771640" y="2276640"/>
            <a:chExt cx="4608720" cy="3456000"/>
          </a:xfrm>
        </p:grpSpPr>
        <p:sp>
          <p:nvSpPr>
            <p:cNvPr id="124" name=""/>
            <p:cNvSpPr/>
            <p:nvPr/>
          </p:nvSpPr>
          <p:spPr>
            <a:xfrm>
              <a:off x="2771640" y="2276640"/>
              <a:ext cx="4608720" cy="3456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65440" y="3140640"/>
              <a:ext cx="11815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根域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44240" y="4868640"/>
              <a:ext cx="511920" cy="43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0040" y="4868640"/>
              <a:ext cx="511920" cy="43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95840" y="4868640"/>
              <a:ext cx="511920" cy="43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76000" y="3572640"/>
              <a:ext cx="0" cy="12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76000" y="3572640"/>
              <a:ext cx="1024200" cy="12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51440" y="3572640"/>
              <a:ext cx="1024200" cy="12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09440" y="5303880"/>
              <a:ext cx="94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上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24720" y="5303880"/>
              <a:ext cx="92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北京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31640" y="5303880"/>
              <a:ext cx="106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沈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771640" y="2276640"/>
            <a:ext cx="4665960" cy="3485880"/>
            <a:chOff x="2771640" y="2276640"/>
            <a:chExt cx="4665960" cy="3485880"/>
          </a:xfrm>
        </p:grpSpPr>
        <p:sp>
          <p:nvSpPr>
            <p:cNvPr id="136" name=""/>
            <p:cNvSpPr/>
            <p:nvPr/>
          </p:nvSpPr>
          <p:spPr>
            <a:xfrm>
              <a:off x="2771640" y="2276640"/>
              <a:ext cx="4665960" cy="34858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86320" y="3148200"/>
              <a:ext cx="1196280" cy="43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根域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82400" y="4890960"/>
              <a:ext cx="518040" cy="43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45240" y="4890960"/>
              <a:ext cx="518040" cy="43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440" y="4890960"/>
              <a:ext cx="518040" cy="43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4440" y="3583800"/>
              <a:ext cx="0" cy="13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4440" y="3583800"/>
              <a:ext cx="1036800" cy="13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067640" y="3583800"/>
              <a:ext cx="1036800" cy="130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20960" y="5331240"/>
              <a:ext cx="95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技术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51360" y="5331240"/>
              <a:ext cx="93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财务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68360" y="5330160"/>
              <a:ext cx="107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市场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71640" y="2276640"/>
            <a:ext cx="4680000" cy="3456000"/>
            <a:chOff x="2771640" y="2276640"/>
            <a:chExt cx="4680000" cy="3456000"/>
          </a:xfrm>
        </p:grpSpPr>
        <p:sp>
          <p:nvSpPr>
            <p:cNvPr id="148" name=""/>
            <p:cNvSpPr/>
            <p:nvPr/>
          </p:nvSpPr>
          <p:spPr>
            <a:xfrm>
              <a:off x="2771640" y="2276640"/>
              <a:ext cx="4680000" cy="3456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46360" y="3410640"/>
              <a:ext cx="119988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根域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40000" y="3839040"/>
              <a:ext cx="1133640" cy="6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132800" y="3839040"/>
              <a:ext cx="907200" cy="6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735360" y="4400640"/>
              <a:ext cx="959760" cy="431640"/>
              <a:chOff x="3735360" y="4400640"/>
              <a:chExt cx="959760" cy="431640"/>
            </a:xfrm>
          </p:grpSpPr>
          <p:sp>
            <p:nvSpPr>
              <p:cNvPr id="153" name=""/>
              <p:cNvSpPr/>
              <p:nvPr/>
            </p:nvSpPr>
            <p:spPr>
              <a:xfrm>
                <a:off x="3735360" y="4400640"/>
                <a:ext cx="519840" cy="43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35360" y="4451040"/>
                <a:ext cx="95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上海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4812840" y="4400640"/>
              <a:ext cx="939960" cy="431640"/>
              <a:chOff x="4812840" y="4400640"/>
              <a:chExt cx="939960" cy="431640"/>
            </a:xfrm>
          </p:grpSpPr>
          <p:sp>
            <p:nvSpPr>
              <p:cNvPr id="156" name=""/>
              <p:cNvSpPr/>
              <p:nvPr/>
            </p:nvSpPr>
            <p:spPr>
              <a:xfrm>
                <a:off x="4812840" y="4400640"/>
                <a:ext cx="519840" cy="43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812840" y="4449960"/>
                <a:ext cx="939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北京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060240" y="4451040"/>
              <a:ext cx="1080000" cy="431640"/>
              <a:chOff x="6060240" y="4451040"/>
              <a:chExt cx="1080000" cy="431640"/>
            </a:xfrm>
          </p:grpSpPr>
          <p:sp>
            <p:nvSpPr>
              <p:cNvPr id="159" name=""/>
              <p:cNvSpPr/>
              <p:nvPr/>
            </p:nvSpPr>
            <p:spPr>
              <a:xfrm>
                <a:off x="6060240" y="4451040"/>
                <a:ext cx="519840" cy="43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60240" y="4500360"/>
                <a:ext cx="108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沈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339000" y="5114880"/>
              <a:ext cx="5198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33800" y="5114880"/>
              <a:ext cx="5198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57680" y="5114880"/>
              <a:ext cx="5198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06360" y="5114880"/>
              <a:ext cx="5198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86400" y="5114880"/>
              <a:ext cx="5198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10280" y="5114880"/>
              <a:ext cx="51984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0080" y="5164560"/>
              <a:ext cx="95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市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33800" y="5164560"/>
              <a:ext cx="95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市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06360" y="5164560"/>
              <a:ext cx="95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财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58760" y="5164560"/>
              <a:ext cx="95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财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10280" y="5164560"/>
              <a:ext cx="95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财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28800" y="5164560"/>
              <a:ext cx="95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市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40000" y="3839040"/>
              <a:ext cx="0" cy="56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678840" y="4808880"/>
              <a:ext cx="283680" cy="306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678840" y="4808880"/>
              <a:ext cx="28368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62520" y="4808880"/>
              <a:ext cx="16992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812840" y="4808880"/>
              <a:ext cx="28368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96520" y="4808880"/>
              <a:ext cx="33984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117120" y="4859640"/>
              <a:ext cx="28260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00080" y="4859640"/>
              <a:ext cx="28368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现有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状况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及网络设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有网络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入情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信息反馈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经理：希望能通过网络提高员工的工作效率，并能够控制员工在网络中的行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财务部：不希望其他部门的员工看到公司的财务数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发部：希望能够利用网络方便的交流信息资源，但不希望别人看到我们的开发资料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市场部：希望能够利用网络及时的与客户沟通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员工：希望能方便的获得和打印公司信息资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员：希望网络是便于维护和管理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dongtao.gu</cp:lastModifiedBy>
  <dcterms:modified xsi:type="dcterms:W3CDTF">2004-02-25T01:43:37Z</dcterms:modified>
  <cp:revision>81</cp:revision>
  <dc:subject/>
  <dc:title>Understanding Basic HTML</dc:title>
</cp:coreProperties>
</file>