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9.png" ContentType="image/png"/>
  <Override PartName="/ppt/media/image3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7572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748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762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7572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748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32000" y="380520"/>
            <a:ext cx="781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7572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748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762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7572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748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32000" y="380520"/>
            <a:ext cx="781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57200"/>
            <a:ext cx="7391520" cy="609480"/>
          </a:xfrm>
          <a:prstGeom prst="rect">
            <a:avLst/>
          </a:prstGeom>
          <a:gradFill rotWithShape="0">
            <a:gsLst>
              <a:gs pos="0">
                <a:srgbClr val="8194e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391520" y="12600"/>
            <a:ext cx="1752480" cy="6845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28600">
              <a:spcBef>
                <a:spcPts val="700"/>
              </a:spcBef>
              <a:buClr>
                <a:srgbClr val="99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76480" indent="-228600">
              <a:spcBef>
                <a:spcPts val="700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7648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7648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24000" cy="80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2"/>
          <p:cNvSpPr>
            <a:spLocks noGrp="1"/>
          </p:cNvSpPr>
          <p:nvPr>
            <p:ph type="ftr" idx="1"/>
          </p:nvPr>
        </p:nvSpPr>
        <p:spPr>
          <a:xfrm>
            <a:off x="-36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CB4B5-DFA9-442D-BC7A-074DD6276010}" type="slidenum"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/4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7391520" y="5829480"/>
            <a:ext cx="1752480" cy="10285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304920" y="5794200"/>
            <a:ext cx="1066680" cy="53028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391520" y="12600"/>
            <a:ext cx="1752480" cy="6845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467480" y="5873760"/>
            <a:ext cx="1676520" cy="9842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0" y="63241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Version 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FB18E-E5C2-4575-893D-EE7FDAFAE089}" type="slidenum"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/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304920" y="5794200"/>
            <a:ext cx="1066680" cy="530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76320" y="304920"/>
            <a:ext cx="2286000" cy="8697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95400" algn="ctr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57240" algn="ctr">
              <a:spcBef>
                <a:spcPts val="400"/>
              </a:spcBef>
              <a:buClr>
                <a:srgbClr val="990000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19080" algn="ctr">
              <a:spcBef>
                <a:spcPts val="349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19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19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8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0" y="2514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Windows Server 2003</a:t>
            </a: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系统管理</a:t>
            </a: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客户机与服务器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常见服务器的种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文件服务器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打印服务器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邮件服务器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站点服务器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Windows Server 2003 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介绍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6864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Server 2003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版本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ndows Server 2003 Web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版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ndows Server 200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标准版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ndows Server 200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企业版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ndows Server 2003 Datacenter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版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32000" y="83628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f01"/>
                </a:solidFill>
                <a:latin typeface="Arial"/>
              </a:rPr>
              <a:t>安装</a:t>
            </a:r>
            <a:r>
              <a:rPr b="1" lang="en-US" sz="3200" spc="-1" strike="noStrike">
                <a:solidFill>
                  <a:srgbClr val="ffcf01"/>
                </a:solidFill>
                <a:latin typeface="Arial"/>
              </a:rPr>
              <a:t>Windows Server 2003</a:t>
            </a:r>
            <a:r>
              <a:rPr b="1" lang="zh-CN" sz="3200" spc="-1" strike="noStrike">
                <a:solidFill>
                  <a:srgbClr val="ffcf01"/>
                </a:solidFill>
                <a:latin typeface="Arial"/>
              </a:rPr>
              <a:t>企业版的</a:t>
            </a:r>
            <a:br>
              <a:rPr sz="3200"/>
            </a:br>
            <a:r>
              <a:rPr b="1" lang="zh-CN" sz="3200" spc="-1" strike="noStrike">
                <a:solidFill>
                  <a:srgbClr val="ffcf01"/>
                </a:solidFill>
                <a:latin typeface="Arial"/>
              </a:rPr>
              <a:t>硬件需求 </a:t>
            </a:r>
            <a:endParaRPr b="1" lang="en-US" sz="3200" spc="-1" strike="noStrike">
              <a:solidFill>
                <a:srgbClr val="ffcf01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547640" y="1700280"/>
          <a:ext cx="6624720" cy="4313160"/>
        </p:xfrm>
        <a:graphic>
          <a:graphicData uri="http://schemas.openxmlformats.org/drawingml/2006/table">
            <a:tbl>
              <a:tblPr/>
              <a:tblGrid>
                <a:gridCol w="2381400"/>
                <a:gridCol w="42433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硬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最小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PU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速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基于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X86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的计算机：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33M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基于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taniu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的计算机：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33M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推荐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PU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速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基于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X86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的计算机：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50 M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最小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A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容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基于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X86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的计算机：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28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基于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taniu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的计算机：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推荐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A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容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基于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X86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的计算机：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56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最大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基于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X86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的计算机：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2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基于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taniu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的计算机：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4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多处理器支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基于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X86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的计算机：最多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个处理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基于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taniu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的计算机：最多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个处理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安装所需的磁盘空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基于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x86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的计算机：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.25 GB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到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 G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基于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taniu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的计算机：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 GB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到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 G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32000" y="90756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f01"/>
                </a:solidFill>
                <a:latin typeface="Arial"/>
              </a:rPr>
              <a:t>安装或升级</a:t>
            </a:r>
            <a:r>
              <a:rPr b="1" lang="en-US" sz="3200" spc="-1" strike="noStrike">
                <a:solidFill>
                  <a:srgbClr val="ffcf01"/>
                </a:solidFill>
                <a:latin typeface="Arial"/>
              </a:rPr>
              <a:t>Windows Server 2003</a:t>
            </a:r>
            <a:r>
              <a:rPr b="1" lang="zh-CN" sz="3200" spc="-1" strike="noStrike">
                <a:solidFill>
                  <a:srgbClr val="ffcf01"/>
                </a:solidFill>
                <a:latin typeface="Arial"/>
              </a:rPr>
              <a:t>的</a:t>
            </a:r>
            <a:br>
              <a:rPr sz="3200"/>
            </a:br>
            <a:r>
              <a:rPr b="1" lang="zh-CN" sz="3200" spc="-1" strike="noStrike">
                <a:solidFill>
                  <a:srgbClr val="ffcf01"/>
                </a:solidFill>
                <a:latin typeface="Arial"/>
              </a:rPr>
              <a:t>注意事项 </a:t>
            </a:r>
            <a:endParaRPr b="1" lang="en-US" sz="32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55280" y="1483920"/>
            <a:ext cx="75121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最好不要在正在使用的服务器上安装新操作系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做好备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注意多系统共存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安装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Windows Server 2003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26560" y="1197000"/>
            <a:ext cx="361980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光盘引导计算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619280" y="1844640"/>
            <a:ext cx="619272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安装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Windows Server 2003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00000" y="1197000"/>
            <a:ext cx="36194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授权协议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6553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900000" y="1197000"/>
            <a:ext cx="3619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创建磁盘分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332000" y="36684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  <a:ea typeface="楷体_GB2312"/>
              </a:rPr>
              <a:t>安装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  <a:ea typeface="楷体_GB2312"/>
              </a:rPr>
              <a:t>Windows Server 2003(Cont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763640" y="1773360"/>
            <a:ext cx="6480360" cy="48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00000" y="1197000"/>
            <a:ext cx="3619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创建磁盘分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0" y="36684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  <a:ea typeface="楷体_GB2312"/>
              </a:rPr>
              <a:t>安装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  <a:ea typeface="楷体_GB2312"/>
              </a:rPr>
              <a:t>Windows Server 2003(Cont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547640" y="1844640"/>
            <a:ext cx="6409080" cy="47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安装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Windows Server 2003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00000" y="1197000"/>
            <a:ext cx="3619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创建磁盘分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6481800" cy="48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安装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Windows Server 2003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00000" y="1197000"/>
            <a:ext cx="597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格式化磁盘并选择文件系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6480360" cy="48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课程目标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安装和升级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 Server 20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 Server 200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环境进行基本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部署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indows  Server 2003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网络，实现工作组或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配置适当的权限和策略来保障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indows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网络安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配置和管理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indows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网络资源访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和管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 Server 200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存储设备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对系统进行必要的备份和灾难恢复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在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indows  Server 2003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网络环境中配置和管理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net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访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indows  Server 2003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　目录服务的基本配置和管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安装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Windows Server 2003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00000" y="1197000"/>
            <a:ext cx="597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格式化磁盘并选择文件系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6624720" cy="49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安装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Windows Server 2003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00000" y="1197000"/>
            <a:ext cx="597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复制文件并重新启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519200" y="1717560"/>
            <a:ext cx="665316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安装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Windows Server 2003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00000" y="1197000"/>
            <a:ext cx="597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进入图形界面安装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523880" y="1708200"/>
            <a:ext cx="6577200" cy="49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安装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Windows Server 2003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00000" y="1197000"/>
            <a:ext cx="597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设置数字、货币以及日期格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403280" y="1700280"/>
            <a:ext cx="698508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安装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Windows Server 2003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00000" y="1197000"/>
            <a:ext cx="597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输入姓名和单位名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523880" y="1665360"/>
            <a:ext cx="6648480" cy="49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安装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Windows Server 2003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00000" y="1197000"/>
            <a:ext cx="597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输入产品密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523880" y="1736640"/>
            <a:ext cx="657720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安装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Windows Server 2003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00000" y="1197000"/>
            <a:ext cx="597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选择授权模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6551640" cy="49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安装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Windows Server 2003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00000" y="1197000"/>
            <a:ext cx="597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输入计算机名和管理员密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523880" y="1736640"/>
            <a:ext cx="657720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安装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Windows Server 2003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900000" y="1197000"/>
            <a:ext cx="597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设置时区、日期和时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523880" y="1700280"/>
            <a:ext cx="6648480" cy="49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安装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Windows Server 2003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00000" y="1197000"/>
            <a:ext cx="597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网络设置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523880" y="1665360"/>
            <a:ext cx="657720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课程内容结构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876240" y="1557360"/>
          <a:ext cx="7391520" cy="2971800"/>
        </p:xfrm>
        <a:graphic>
          <a:graphicData uri="http://schemas.openxmlformats.org/drawingml/2006/table">
            <a:tbl>
              <a:tblPr/>
              <a:tblGrid>
                <a:gridCol w="3695760"/>
                <a:gridCol w="369576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基本配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网络部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介绍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Windows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Server 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产品的组成、特性和环境的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本配置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第一章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主要介绍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IP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地址配置、工作组和域的实现、帐户管理等内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第二章至第四章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安装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Windows Server 2003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900000" y="1197000"/>
            <a:ext cx="597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设置网络工作模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523880" y="1736640"/>
            <a:ext cx="657720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安装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Windows Server 2003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00000" y="1197000"/>
            <a:ext cx="597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完成安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523880" y="1665360"/>
            <a:ext cx="6648480" cy="49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安装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Windows Server 2003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900000" y="1197000"/>
            <a:ext cx="597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登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476360" y="1989000"/>
            <a:ext cx="626436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32000" y="33300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f01"/>
                </a:solidFill>
                <a:latin typeface="Arial"/>
              </a:rPr>
              <a:t>安装或升级过程中的常见问题</a:t>
            </a:r>
            <a:endParaRPr b="1" lang="en-US" sz="32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5724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硬盘空间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光盘介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硬件兼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用户权限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版本差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硬件管理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7848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硬件管理的内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安装和升级硬件驱动程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卸载硬件驱动程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停止硬件的使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查看硬件信息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修改硬件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716360" y="1989000"/>
            <a:ext cx="415296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硬件管理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00000" y="1197000"/>
            <a:ext cx="36194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设备管理器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908000" y="1628640"/>
            <a:ext cx="46231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硬件管理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55640" y="1052640"/>
            <a:ext cx="36194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硬件配置文件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763640" y="1484280"/>
            <a:ext cx="532764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835280" y="2133720"/>
            <a:ext cx="6119640" cy="45892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软件管理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6936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组件的安装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使用“管理您的服务器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使用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组件向导”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使用命令行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1763640" y="3284640"/>
            <a:ext cx="6264360" cy="26654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1908000" y="2421000"/>
            <a:ext cx="5328000" cy="42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7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9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软件管理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58920" y="1196640"/>
            <a:ext cx="36194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服务的管理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6408720" cy="46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软件管理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00000" y="1197000"/>
            <a:ext cx="491976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查看系统信息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通过“系统属性”窗口查看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使用“系统信息”窗口查看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887480" y="2349360"/>
            <a:ext cx="4124520" cy="44373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1908000" y="2349360"/>
            <a:ext cx="5040360" cy="44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3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1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课程内容结构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876240" y="1557360"/>
          <a:ext cx="7391520" cy="2951280"/>
        </p:xfrm>
        <a:graphic>
          <a:graphicData uri="http://schemas.openxmlformats.org/drawingml/2006/table">
            <a:tbl>
              <a:tblPr/>
              <a:tblGrid>
                <a:gridCol w="3695760"/>
                <a:gridCol w="369576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安全管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网络应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介绍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Windows Server 200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统中的安全特性和安全配置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第五章至第七章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介绍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Windows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网络中实现常见的网络应用，如打印、共享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Internet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访问等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,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并完成一个小型企业的网络部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第八章至第十二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软件管理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帮助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选择对于服务器最有用的功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执行常见任务的新方法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最佳操作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常见管理任务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清单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疑难解答策略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3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8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3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8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3" dur="5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50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总结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657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 Server 200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面向企业用户的网络操作系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 Server 200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四个版本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管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 Server 200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硬件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管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 Server 200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软件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用“服务”窗口管理服务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查看当前操作系统信息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用帮助获得相关信息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0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5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0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5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0" dur="500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实验目标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698328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独立完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 Server 200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安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独立完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环境下对软、硬件的基本管理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7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2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实验完成标准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6983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成功安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 Server 200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并可以登录使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以添加、管理和删除硬件，并可以配置相应的驱动程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创建不同的硬件配置文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了解当前计算机和操作系统的详细信息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以使用帮助找到相关的信息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9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4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9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4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Arial"/>
                <a:ea typeface="楷体_GB2312"/>
              </a:rPr>
              <a:t>安装和配置</a:t>
            </a:r>
            <a:r>
              <a:rPr b="1" lang="en-US" sz="4400" spc="-1" strike="noStrike">
                <a:solidFill>
                  <a:srgbClr val="3333cc"/>
                </a:solidFill>
                <a:latin typeface="Arial"/>
                <a:ea typeface="楷体_GB2312"/>
              </a:rPr>
              <a:t>Windows Server 2003</a:t>
            </a:r>
            <a:r>
              <a:rPr b="1" lang="en-US" sz="4000" spc="-1" strike="noStrike">
                <a:solidFill>
                  <a:srgbClr val="3333cc"/>
                </a:solidFill>
                <a:latin typeface="Arial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251460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第一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目标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6648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熟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 Server 200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家族成员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 Server 200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安装与升级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 Server 200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环境的基本配置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客户机与服务器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4000" y="1341360"/>
            <a:ext cx="842472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客户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服务器模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客户机：用户使用的计算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服务器：用来完成某一特定功能的计算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050920" y="2852640"/>
            <a:ext cx="4327200" cy="3730320"/>
            <a:chOff x="2050920" y="2852640"/>
            <a:chExt cx="4327200" cy="3730320"/>
          </a:xfrm>
        </p:grpSpPr>
        <p:sp>
          <p:nvSpPr>
            <p:cNvPr id="103" name=""/>
            <p:cNvSpPr/>
            <p:nvPr/>
          </p:nvSpPr>
          <p:spPr>
            <a:xfrm flipV="1">
              <a:off x="2050920" y="4535640"/>
              <a:ext cx="4000680" cy="1044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3530880" y="3929400"/>
              <a:ext cx="0" cy="59652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5639400" y="3929400"/>
              <a:ext cx="0" cy="59652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" name="" descr=""/>
            <p:cNvPicPr/>
            <p:nvPr/>
          </p:nvPicPr>
          <p:blipFill>
            <a:blip r:embed="rId1"/>
            <a:stretch/>
          </p:blipFill>
          <p:spPr>
            <a:xfrm>
              <a:off x="3184200" y="3223800"/>
              <a:ext cx="753120" cy="91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2"/>
            <a:stretch/>
          </p:blipFill>
          <p:spPr>
            <a:xfrm>
              <a:off x="5311800" y="3223800"/>
              <a:ext cx="76680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 flipV="1">
              <a:off x="2718720" y="4536360"/>
              <a:ext cx="0" cy="59580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9" name="" descr=""/>
            <p:cNvPicPr/>
            <p:nvPr/>
          </p:nvPicPr>
          <p:blipFill>
            <a:blip r:embed="rId3"/>
            <a:stretch/>
          </p:blipFill>
          <p:spPr>
            <a:xfrm>
              <a:off x="2310480" y="4970880"/>
              <a:ext cx="752760" cy="91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 flipV="1">
              <a:off x="5484960" y="4536360"/>
              <a:ext cx="0" cy="110988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754360" y="2852640"/>
              <a:ext cx="1516320" cy="308160"/>
            </a:xfrm>
            <a:prstGeom prst="roundRect">
              <a:avLst>
                <a:gd name="adj" fmla="val 4167"/>
              </a:avLst>
            </a:prstGeom>
            <a:solidFill>
              <a:srgbClr val="ffffff"/>
            </a:solidFill>
            <a:ln w="9360">
              <a:solidFill>
                <a:srgbClr val="4d4d4d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4160" rIns="74160" tIns="37080" bIns="37080" anchor="ctr">
              <a:noAutofit/>
            </a:bodyPr>
            <a:p>
              <a:pPr marL="343080" indent="-343080" algn="ctr">
                <a:lnSpc>
                  <a:spcPct val="96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客户机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-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56920" y="2852640"/>
              <a:ext cx="1146600" cy="308160"/>
            </a:xfrm>
            <a:prstGeom prst="roundRect">
              <a:avLst>
                <a:gd name="adj" fmla="val 4167"/>
              </a:avLst>
            </a:prstGeom>
            <a:solidFill>
              <a:srgbClr val="ffffff"/>
            </a:solidFill>
            <a:ln w="9360">
              <a:solidFill>
                <a:srgbClr val="4d4d4d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4160" rIns="74160" tIns="37080" bIns="37080" anchor="ctr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客户机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-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116080" y="5935680"/>
              <a:ext cx="1146600" cy="307800"/>
            </a:xfrm>
            <a:prstGeom prst="roundRect">
              <a:avLst>
                <a:gd name="adj" fmla="val 4167"/>
              </a:avLst>
            </a:prstGeom>
            <a:solidFill>
              <a:srgbClr val="ffffff"/>
            </a:solidFill>
            <a:ln w="9360">
              <a:solidFill>
                <a:srgbClr val="4d4d4d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4160" rIns="74160" tIns="37080" bIns="37080" anchor="ctr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客户机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-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018680" y="6274800"/>
              <a:ext cx="1146600" cy="308160"/>
            </a:xfrm>
            <a:prstGeom prst="roundRect">
              <a:avLst>
                <a:gd name="adj" fmla="val 4167"/>
              </a:avLst>
            </a:prstGeom>
            <a:solidFill>
              <a:srgbClr val="ffffff"/>
            </a:solidFill>
            <a:ln w="9360">
              <a:solidFill>
                <a:srgbClr val="4d4d4d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4160" rIns="74160" tIns="37080" bIns="37080" anchor="ctr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服务器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4997880" y="5204520"/>
              <a:ext cx="1380240" cy="1209960"/>
              <a:chOff x="4997880" y="5204520"/>
              <a:chExt cx="1380240" cy="1209960"/>
            </a:xfrm>
          </p:grpSpPr>
          <p:pic>
            <p:nvPicPr>
              <p:cNvPr id="11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997880" y="5204520"/>
                <a:ext cx="1025640" cy="120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665680" y="5839200"/>
                <a:ext cx="712440" cy="575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客户机与服务器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4000" y="1341360"/>
            <a:ext cx="705636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软件区别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客户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操作系统软件主要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Windows 9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Windows 9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、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Windows NT Workstatio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Windows 2000 Professio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Windows XP Professio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。在这些操作系统上运行一些客户端使用的软件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服务器：操作系统软件主要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Windows NT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Windows 2000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Windows Server 200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，或者是其他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Windows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产品。在服务器上运行的都是为客户端提供各种服务的组件和应用软件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客户机与服务器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硬件区别　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客户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对硬件要求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服务器：对硬件要求高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9T09:23:44Z</dcterms:created>
  <dc:creator>Bill Wang</dc:creator>
  <dc:description/>
  <dc:language>en-US</dc:language>
  <cp:lastModifiedBy>work</cp:lastModifiedBy>
  <dcterms:modified xsi:type="dcterms:W3CDTF">2004-04-05T09:07:50Z</dcterms:modified>
  <cp:revision>171</cp:revision>
  <dc:subject/>
  <dc:title>第八章 配置Windows网络访问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119966477</vt:r8>
  </property>
  <property fmtid="{D5CDD505-2E9C-101B-9397-08002B2CF9AE}" pid="3" name="_AuthorEmail">
    <vt:lpwstr>dongtao.gu@jb-aptech.com.cn</vt:lpwstr>
  </property>
  <property fmtid="{D5CDD505-2E9C-101B-9397-08002B2CF9AE}" pid="4" name="_AuthorEmailDisplayName">
    <vt:lpwstr>gudongtao(古东涛)</vt:lpwstr>
  </property>
  <property fmtid="{D5CDD505-2E9C-101B-9397-08002B2CF9AE}" pid="5" name="_EmailSubject">
    <vt:lpwstr>windows系统管理PPT－1</vt:lpwstr>
  </property>
  <property fmtid="{D5CDD505-2E9C-101B-9397-08002B2CF9AE}" pid="6" name="_PreviousAdHocReviewCycleID">
    <vt:r8>1727226899</vt:r8>
  </property>
</Properties>
</file>