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60.png" ContentType="image/png"/>
  <Override PartName="/ppt/media/image50.png" ContentType="image/png"/>
  <Override PartName="/ppt/media/image40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5.png" ContentType="image/png"/>
  <Override PartName="/ppt/media/image62.png" ContentType="image/png"/>
  <Override PartName="/ppt/media/image27.png" ContentType="image/png"/>
  <Override PartName="/ppt/media/image28.png" ContentType="image/png"/>
  <Override PartName="/ppt/media/image16.png" ContentType="image/png"/>
  <Override PartName="/ppt/media/image5.jpeg" ContentType="image/jpe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63.jpeg" ContentType="image/jpe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0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0AB3-34C5-4F3D-922C-4D1288EB2AC3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03CC-F51C-4923-83B8-961DB706C57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jpe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	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部署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Windows Server 2003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网络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备用配置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61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备用配置在动态无法获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的时候起作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19440" cy="39686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971800" y="3200400"/>
            <a:ext cx="3048120" cy="1523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测试工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A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config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当前计算机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ONF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ONFIG /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ONFIG /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267440" cy="38862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267440" cy="38102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419720" y="1676520"/>
            <a:ext cx="4419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config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895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ONFIG/A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详细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3124080" y="1295280"/>
          <a:ext cx="5639040" cy="4854600"/>
        </p:xfrm>
        <a:graphic>
          <a:graphicData uri="http://schemas.openxmlformats.org/drawingml/2006/table">
            <a:tbl>
              <a:tblPr/>
              <a:tblGrid>
                <a:gridCol w="3035520"/>
                <a:gridCol w="2603520"/>
              </a:tblGrid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解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ost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主机名，就是计算机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thernet adapter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本地连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网卡类型和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nection-specific DNS Suffi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连接指定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后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网卡的型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hysical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网卡的物理地址或者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C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hcp 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是否启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HC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P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P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ubnet M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子网掩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fault Gate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网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NS Serv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266760"/>
                          <a:tab algn="l" pos="536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服务器，有时会有多个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N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服务器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ng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3619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测试网络的连通情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判断当前的网络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络正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超时（一般为网络不通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主机不可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381560" y="1066680"/>
            <a:ext cx="3619440" cy="17924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419720" y="2971800"/>
            <a:ext cx="3619440" cy="1682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4419720" y="4724280"/>
            <a:ext cx="360036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Tracer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r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是一个探测路由的程序，可以看见数据到达目的地经过的路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默认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648320" y="1523880"/>
          <a:ext cx="3504960" cy="4345200"/>
        </p:xfrm>
        <a:graphic>
          <a:graphicData uri="http://schemas.openxmlformats.org/drawingml/2006/table">
            <a:tbl>
              <a:tblPr/>
              <a:tblGrid>
                <a:gridCol w="3504960"/>
              </a:tblGrid>
              <a:tr h="478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:\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〉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tracert 211.99.199.204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Tracing route to 211.99.199.204 over a maximum of 30 hops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 10 ms 10 ms 20 ms 211.99.57.121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2 10 ms 10 ms 10 ms 202.96.13.1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10 ms 20 ms 202.96.13.62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4 20 ms 10 ms 10 ms 210.77.139.186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5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10 ms 20 ms 210.77.139.170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6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10 ms 211.99.193.154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7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10 m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0 ms 211.99.199.204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Trace complete. 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hoam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286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显示用户组的相关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ami /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admi /gro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553080" cy="30481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447920" y="2895480"/>
            <a:ext cx="6476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上邻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943600" cy="33876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676520" y="2743200"/>
            <a:ext cx="5943600" cy="33354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网上邻居可以查看网络中的资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算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共享文件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676520" y="2743200"/>
            <a:ext cx="5943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 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控制台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中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统一管理界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5562720" cy="38829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733920" y="2286000"/>
            <a:ext cx="478944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添加删除管理单元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将不同的多个管理单元加入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控制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添加独立的管理单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存／删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5181480" cy="3005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4267080" y="1828800"/>
            <a:ext cx="3951360" cy="43513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343400" y="1905120"/>
            <a:ext cx="3656160" cy="3456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267080" y="1828800"/>
            <a:ext cx="3951360" cy="43513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191120" y="1905120"/>
            <a:ext cx="46735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族成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和升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件需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级注意事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备管理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的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系统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控制台的保存和打开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完全访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受限访问，多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受限访问，单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6198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管理工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客户端的计算机上安装管理服务器的工具软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systemroot%\system32\adminpak.m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386\adminpak.m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rcRect l="0" t="5212" r="36690" b="0"/>
          <a:stretch/>
        </p:blipFill>
        <p:spPr>
          <a:xfrm>
            <a:off x="1295280" y="2438280"/>
            <a:ext cx="5562720" cy="39625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064200" cy="40003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1295280" y="2438280"/>
            <a:ext cx="6019920" cy="39625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1295280" y="2362320"/>
            <a:ext cx="6019920" cy="403848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1295280" y="2362320"/>
            <a:ext cx="601992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理工具的组成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05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录服务管理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30481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un a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3619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用户登录后，可以切换其他用户的身份运行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形窗口中运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示符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rcRect l="0" t="0" r="0" b="11485"/>
          <a:stretch/>
        </p:blipFill>
        <p:spPr>
          <a:xfrm>
            <a:off x="3048120" y="1828800"/>
            <a:ext cx="5486400" cy="429084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038480" y="2666880"/>
            <a:ext cx="3656160" cy="29988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2819520" y="2743200"/>
            <a:ext cx="5749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连接到网络的三个必备条件：网络硬件设备、协议和网络服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机名称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字符表示，他是计算机在网络中的标识，而且名字必须唯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常用的通讯协议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址是配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协议的关键，可以手动设计静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可以动态分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onfi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用来显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配置信息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来测试网络的连通情况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网上邻居，可以访问网络上的资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控制台是一个管理工具的平台，可以在控制台中添加各种工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控制台不仅可以管理本地计算机，只要具有权限，也可以管理网络中的服务或计算机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在某些客户机上安装管理工具，以让其可以管理网络中的服务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计算机名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计算机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和相关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命令测试网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台管理计算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管理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台或四台计算机为一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需要一台作为网关的计算机或路由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测试命令需要多台计算机合作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0" y="1095480"/>
            <a:ext cx="8991720" cy="5457600"/>
            <a:chOff x="0" y="1095480"/>
            <a:chExt cx="8991720" cy="5457600"/>
          </a:xfrm>
        </p:grpSpPr>
        <p:sp>
          <p:nvSpPr>
            <p:cNvPr id="451" name=""/>
            <p:cNvSpPr/>
            <p:nvPr/>
          </p:nvSpPr>
          <p:spPr>
            <a:xfrm>
              <a:off x="2362320" y="3718080"/>
              <a:ext cx="5470560" cy="74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194472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389268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5400000">
              <a:off x="5014800" y="324468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360 h 108000"/>
                <a:gd name="textAreaBottom" fmla="*/ 10872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6200000">
              <a:off x="593244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1981080" y="4495680"/>
              <a:ext cx="103680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3992400" y="4648320"/>
              <a:ext cx="103680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3"/>
            <a:stretch/>
          </p:blipFill>
          <p:spPr>
            <a:xfrm>
              <a:off x="5943600" y="4572000"/>
              <a:ext cx="103680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4"/>
            <a:stretch/>
          </p:blipFill>
          <p:spPr>
            <a:xfrm>
              <a:off x="4876920" y="1523880"/>
              <a:ext cx="1228680" cy="14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324480" y="1371600"/>
              <a:ext cx="1828800" cy="137160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服务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P:192.168.0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掩码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55.255.255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网关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DNS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" descr=""/>
            <p:cNvPicPr/>
            <p:nvPr/>
          </p:nvPicPr>
          <p:blipFill>
            <a:blip r:embed="rId5"/>
            <a:srcRect l="55685" t="19848" r="35047" b="60346"/>
            <a:stretch/>
          </p:blipFill>
          <p:spPr>
            <a:xfrm>
              <a:off x="1523880" y="1095480"/>
              <a:ext cx="179100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 rot="16200000">
              <a:off x="1703520" y="2967120"/>
              <a:ext cx="1425600" cy="10800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" descr=""/>
            <p:cNvPicPr/>
            <p:nvPr/>
          </p:nvPicPr>
          <p:blipFill>
            <a:blip r:embed="rId6"/>
            <a:stretch/>
          </p:blipFill>
          <p:spPr>
            <a:xfrm>
              <a:off x="7848720" y="2895480"/>
              <a:ext cx="103644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733920" y="6019920"/>
              <a:ext cx="1447560" cy="53316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67280" y="5943600"/>
              <a:ext cx="1447920" cy="53352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1905120"/>
              <a:ext cx="1523880" cy="99036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网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55.255.255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4114800"/>
              <a:ext cx="1981080" cy="137160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客户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P:192.168.0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掩码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55.255.255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网关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DNS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10280" y="4267080"/>
              <a:ext cx="1981440" cy="1371600"/>
            </a:xfrm>
            <a:prstGeom prst="roundRect">
              <a:avLst>
                <a:gd name="adj" fmla="val 3755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客户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P:192.168.0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掩码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255.255.255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网关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DNS</a:t>
              </a:r>
              <a:r>
                <a:rPr b="0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：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0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练使用常用的网络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台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管理工具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网络互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计算机名称成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设置计算机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和相关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网络命令测试网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台添加管理单元，并保存到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工具在客户端安装成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组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协议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429000" y="1295280"/>
            <a:ext cx="5334120" cy="1152000"/>
            <a:chOff x="3429000" y="1295280"/>
            <a:chExt cx="5334120" cy="1152000"/>
          </a:xfrm>
        </p:grpSpPr>
        <p:sp>
          <p:nvSpPr>
            <p:cNvPr id="98" name=""/>
            <p:cNvSpPr/>
            <p:nvPr/>
          </p:nvSpPr>
          <p:spPr>
            <a:xfrm>
              <a:off x="3429000" y="1447920"/>
              <a:ext cx="5334120" cy="9144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945480" y="1295280"/>
              <a:ext cx="1043640" cy="1152000"/>
              <a:chOff x="6945480" y="1295280"/>
              <a:chExt cx="1043640" cy="11520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945480" y="1901880"/>
                <a:ext cx="1009800" cy="545400"/>
                <a:chOff x="6945480" y="1901880"/>
                <a:chExt cx="1009800" cy="5454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605720" y="2043360"/>
                  <a:ext cx="348120" cy="40392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945480" y="1901880"/>
                  <a:ext cx="1009800" cy="3495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945480" y="2073960"/>
                  <a:ext cx="660240" cy="37332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290720" y="2206440"/>
                  <a:ext cx="259560" cy="18144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296120" y="2273760"/>
                  <a:ext cx="249840" cy="6480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290720" y="2205000"/>
                  <a:ext cx="257760" cy="11124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313400" y="2242440"/>
                  <a:ext cx="202320" cy="500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485480" y="2345760"/>
                  <a:ext cx="3780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376760" y="2255400"/>
                  <a:ext cx="61920" cy="3276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400" bIns="54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962760" y="2113920"/>
                  <a:ext cx="266760" cy="752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62760" y="2143080"/>
                  <a:ext cx="266760" cy="741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962760" y="2173320"/>
                  <a:ext cx="266760" cy="756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962760" y="2202480"/>
                  <a:ext cx="266760" cy="741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293600" y="2284560"/>
                  <a:ext cx="261720" cy="1108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7044480" y="1295280"/>
                <a:ext cx="944640" cy="889920"/>
                <a:chOff x="7044480" y="1295280"/>
                <a:chExt cx="944640" cy="8899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7115760" y="1874160"/>
                  <a:ext cx="735840" cy="3110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25120" y="1880640"/>
                  <a:ext cx="712080" cy="27540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02240" y="1948320"/>
                  <a:ext cx="370440" cy="14796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099920" y="1953360"/>
                  <a:ext cx="597960" cy="1670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242840" y="1295280"/>
                  <a:ext cx="746280" cy="6886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708680" y="1447560"/>
                  <a:ext cx="149400" cy="6703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044480" y="1302840"/>
                  <a:ext cx="813600" cy="22788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044480" y="1370520"/>
                  <a:ext cx="664200" cy="74988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095960" y="1436760"/>
                  <a:ext cx="562320" cy="61488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130520" y="1477800"/>
                  <a:ext cx="492120" cy="5299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174080" y="1521720"/>
                  <a:ext cx="0" cy="806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" name=""/>
            <p:cNvSpPr/>
            <p:nvPr/>
          </p:nvSpPr>
          <p:spPr>
            <a:xfrm>
              <a:off x="3963240" y="1523880"/>
              <a:ext cx="2280960" cy="82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cap="sq" w="0">
              <a:solidFill>
                <a:srgbClr val="99ccff"/>
              </a:solidFill>
            </a:ln>
            <a:effectLst>
              <a:outerShdw dist="53966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Windows 2003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781680" y="5516640"/>
            <a:ext cx="1370880" cy="964440"/>
            <a:chOff x="6781680" y="5516640"/>
            <a:chExt cx="1370880" cy="964440"/>
          </a:xfrm>
        </p:grpSpPr>
        <p:sp>
          <p:nvSpPr>
            <p:cNvPr id="129" name=""/>
            <p:cNvSpPr/>
            <p:nvPr/>
          </p:nvSpPr>
          <p:spPr>
            <a:xfrm>
              <a:off x="7988760" y="5676840"/>
              <a:ext cx="163800" cy="487800"/>
            </a:xfrm>
            <a:custGeom>
              <a:avLst/>
              <a:gdLst/>
              <a:ahLst/>
              <a:rect l="l" t="t" r="r" b="b"/>
              <a:pathLst>
                <a:path w="44" h="131">
                  <a:moveTo>
                    <a:pt x="0" y="0"/>
                  </a:moveTo>
                  <a:lnTo>
                    <a:pt x="0" y="130"/>
                  </a:lnTo>
                  <a:lnTo>
                    <a:pt x="43" y="130"/>
                  </a:lnTo>
                  <a:lnTo>
                    <a:pt x="43" y="0"/>
                  </a:lnTo>
                </a:path>
              </a:pathLst>
            </a:custGeom>
            <a:solidFill>
              <a:srgbClr val="3333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88760" y="5676840"/>
              <a:ext cx="163800" cy="849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3" y="0"/>
                  </a:moveTo>
                  <a:lnTo>
                    <a:pt x="43" y="22"/>
                  </a:lnTo>
                  <a:lnTo>
                    <a:pt x="0" y="22"/>
                  </a:lnTo>
                  <a:lnTo>
                    <a:pt x="0" y="0"/>
                  </a:lnTo>
                </a:path>
              </a:pathLst>
            </a:custGeom>
            <a:solidFill>
              <a:srgbClr val="67676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81680" y="5516640"/>
              <a:ext cx="1293120" cy="807480"/>
            </a:xfrm>
            <a:custGeom>
              <a:avLst/>
              <a:gdLst/>
              <a:ahLst/>
              <a:rect l="l" t="t" r="r" b="b"/>
              <a:pathLst>
                <a:path w="347" h="217">
                  <a:moveTo>
                    <a:pt x="0" y="216"/>
                  </a:moveTo>
                  <a:lnTo>
                    <a:pt x="0" y="0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6" y="216"/>
                  </a:lnTo>
                  <a:lnTo>
                    <a:pt x="0" y="216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  <a:effectLst>
              <a:outerShdw dist="17819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26080" y="6320880"/>
              <a:ext cx="480600" cy="16020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17819" dir="2700000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8160" y="6336000"/>
              <a:ext cx="0" cy="129960"/>
            </a:xfrm>
            <a:prstGeom prst="line">
              <a:avLst/>
            </a:prstGeom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86640" y="6336000"/>
              <a:ext cx="0" cy="129960"/>
            </a:xfrm>
            <a:prstGeom prst="line">
              <a:avLst/>
            </a:prstGeom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68720" y="6336000"/>
              <a:ext cx="0" cy="129960"/>
            </a:xfrm>
            <a:prstGeom prst="line">
              <a:avLst/>
            </a:prstGeom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47200" y="6336000"/>
              <a:ext cx="0" cy="129960"/>
            </a:xfrm>
            <a:prstGeom prst="line">
              <a:avLst/>
            </a:prstGeom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28920" y="6336000"/>
              <a:ext cx="0" cy="129960"/>
            </a:xfrm>
            <a:prstGeom prst="line">
              <a:avLst/>
            </a:prstGeom>
            <a:ln w="12600">
              <a:solidFill>
                <a:srgbClr val="767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07600" y="5546880"/>
              <a:ext cx="0" cy="744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8200" y="5568840"/>
              <a:ext cx="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38200" y="5729040"/>
              <a:ext cx="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38200" y="5888520"/>
              <a:ext cx="0" cy="4464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81680" y="5516640"/>
              <a:ext cx="1293120" cy="3960"/>
            </a:xfrm>
            <a:custGeom>
              <a:avLst/>
              <a:gdLst/>
              <a:ahLst/>
              <a:rect l="l" t="t" r="r" b="b"/>
              <a:pathLst>
                <a:path w="347" h="1">
                  <a:moveTo>
                    <a:pt x="0" y="0"/>
                  </a:moveTo>
                  <a:lnTo>
                    <a:pt x="346" y="0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810560" y="6093720"/>
              <a:ext cx="158760" cy="69840"/>
              <a:chOff x="7810560" y="6093720"/>
              <a:chExt cx="158760" cy="69840"/>
            </a:xfrm>
          </p:grpSpPr>
          <p:sp>
            <p:nvSpPr>
              <p:cNvPr id="144" name=""/>
              <p:cNvSpPr/>
              <p:nvPr/>
            </p:nvSpPr>
            <p:spPr>
              <a:xfrm>
                <a:off x="7810560" y="6093720"/>
                <a:ext cx="158760" cy="6588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10560" y="6093720"/>
                <a:ext cx="3240" cy="698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38640" y="5900400"/>
              <a:ext cx="163080" cy="95400"/>
              <a:chOff x="6938640" y="5900400"/>
              <a:chExt cx="163080" cy="95400"/>
            </a:xfrm>
          </p:grpSpPr>
          <p:sp>
            <p:nvSpPr>
              <p:cNvPr id="147" name=""/>
              <p:cNvSpPr/>
              <p:nvPr/>
            </p:nvSpPr>
            <p:spPr>
              <a:xfrm>
                <a:off x="6938640" y="5900400"/>
                <a:ext cx="158760" cy="921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38640" y="5900400"/>
                <a:ext cx="163080" cy="95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25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180200" y="5900400"/>
              <a:ext cx="163080" cy="95400"/>
              <a:chOff x="7180200" y="5900400"/>
              <a:chExt cx="163080" cy="95400"/>
            </a:xfrm>
          </p:grpSpPr>
          <p:sp>
            <p:nvSpPr>
              <p:cNvPr id="150" name=""/>
              <p:cNvSpPr/>
              <p:nvPr/>
            </p:nvSpPr>
            <p:spPr>
              <a:xfrm>
                <a:off x="7180200" y="5900400"/>
                <a:ext cx="159840" cy="921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80200" y="5900400"/>
                <a:ext cx="163080" cy="95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25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426080" y="6336000"/>
              <a:ext cx="0" cy="12996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26080" y="5516640"/>
              <a:ext cx="566640" cy="487800"/>
            </a:xfrm>
            <a:custGeom>
              <a:avLst/>
              <a:gdLst/>
              <a:ahLst/>
              <a:rect l="l" t="t" r="r" b="b"/>
              <a:pathLst>
                <a:path w="152" h="131">
                  <a:moveTo>
                    <a:pt x="0" y="130"/>
                  </a:moveTo>
                  <a:lnTo>
                    <a:pt x="151" y="130"/>
                  </a:lnTo>
                  <a:lnTo>
                    <a:pt x="151" y="0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26080" y="5531760"/>
              <a:ext cx="0" cy="7736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99360" y="6175440"/>
              <a:ext cx="0" cy="1299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57800" y="6175440"/>
              <a:ext cx="0" cy="1299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938640" y="6093720"/>
              <a:ext cx="163080" cy="99360"/>
              <a:chOff x="6938640" y="6093720"/>
              <a:chExt cx="163080" cy="99360"/>
            </a:xfrm>
          </p:grpSpPr>
          <p:sp>
            <p:nvSpPr>
              <p:cNvPr id="158" name=""/>
              <p:cNvSpPr/>
              <p:nvPr/>
            </p:nvSpPr>
            <p:spPr>
              <a:xfrm>
                <a:off x="6938640" y="6093720"/>
                <a:ext cx="158760" cy="9612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938640" y="6093720"/>
                <a:ext cx="163080" cy="9936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26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7180200" y="6093720"/>
              <a:ext cx="163080" cy="99360"/>
              <a:chOff x="7180200" y="6093720"/>
              <a:chExt cx="163080" cy="99360"/>
            </a:xfrm>
          </p:grpSpPr>
          <p:sp>
            <p:nvSpPr>
              <p:cNvPr id="161" name=""/>
              <p:cNvSpPr/>
              <p:nvPr/>
            </p:nvSpPr>
            <p:spPr>
              <a:xfrm>
                <a:off x="7180200" y="6093720"/>
                <a:ext cx="159840" cy="9612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180200" y="6093720"/>
                <a:ext cx="163080" cy="9936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0" y="26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7023960" y="5531760"/>
              <a:ext cx="0" cy="211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66240" y="5531760"/>
              <a:ext cx="0" cy="211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938640" y="5710680"/>
              <a:ext cx="163080" cy="95400"/>
              <a:chOff x="6938640" y="5710680"/>
              <a:chExt cx="163080" cy="954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38640" y="5710680"/>
                <a:ext cx="158760" cy="921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38640" y="5710680"/>
                <a:ext cx="163080" cy="95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25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180200" y="5710680"/>
              <a:ext cx="163080" cy="95400"/>
              <a:chOff x="7180200" y="5710680"/>
              <a:chExt cx="163080" cy="95400"/>
            </a:xfrm>
          </p:grpSpPr>
          <p:sp>
            <p:nvSpPr>
              <p:cNvPr id="169" name=""/>
              <p:cNvSpPr/>
              <p:nvPr/>
            </p:nvSpPr>
            <p:spPr>
              <a:xfrm>
                <a:off x="7180200" y="5710680"/>
                <a:ext cx="159840" cy="921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80200" y="5710680"/>
                <a:ext cx="163080" cy="9540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0" y="25"/>
                    </a:moveTo>
                    <a:lnTo>
                      <a:pt x="0" y="0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7601760" y="6000840"/>
              <a:ext cx="290520" cy="0"/>
            </a:xfrm>
            <a:prstGeom prst="line">
              <a:avLst/>
            </a:prstGeom>
            <a:ln w="1260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03880" y="5676840"/>
              <a:ext cx="522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3880" y="5840640"/>
              <a:ext cx="522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96800" y="5531760"/>
              <a:ext cx="12592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542000" y="6291360"/>
              <a:ext cx="363960" cy="0"/>
              <a:chOff x="7542000" y="6291360"/>
              <a:chExt cx="363960" cy="0"/>
            </a:xfrm>
          </p:grpSpPr>
          <p:sp>
            <p:nvSpPr>
              <p:cNvPr id="176" name=""/>
              <p:cNvSpPr/>
              <p:nvPr/>
            </p:nvSpPr>
            <p:spPr>
              <a:xfrm>
                <a:off x="7542000" y="6291360"/>
                <a:ext cx="44640" cy="0"/>
              </a:xfrm>
              <a:prstGeom prst="line">
                <a:avLst/>
              </a:prstGeom>
              <a:ln w="2556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701840" y="6291360"/>
                <a:ext cx="44640" cy="0"/>
              </a:xfrm>
              <a:prstGeom prst="line">
                <a:avLst/>
              </a:prstGeom>
              <a:ln w="2556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61320" y="6291360"/>
                <a:ext cx="44640" cy="0"/>
              </a:xfrm>
              <a:prstGeom prst="line">
                <a:avLst/>
              </a:prstGeom>
              <a:ln w="25560">
                <a:solidFill>
                  <a:srgbClr val="79001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7426080" y="5516640"/>
              <a:ext cx="163800" cy="327240"/>
            </a:xfrm>
            <a:custGeom>
              <a:avLst/>
              <a:gdLst/>
              <a:ahLst/>
              <a:rect l="l" t="t" r="r" b="b"/>
              <a:pathLst>
                <a:path w="44" h="88">
                  <a:moveTo>
                    <a:pt x="0" y="87"/>
                  </a:moveTo>
                  <a:lnTo>
                    <a:pt x="43" y="87"/>
                  </a:lnTo>
                  <a:lnTo>
                    <a:pt x="43" y="0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58000" y="5531760"/>
              <a:ext cx="0" cy="21168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09040" y="5710680"/>
              <a:ext cx="178200" cy="195840"/>
              <a:chOff x="7709040" y="5710680"/>
              <a:chExt cx="178200" cy="195840"/>
            </a:xfrm>
          </p:grpSpPr>
          <p:sp>
            <p:nvSpPr>
              <p:cNvPr id="182" name=""/>
              <p:cNvSpPr/>
              <p:nvPr/>
            </p:nvSpPr>
            <p:spPr>
              <a:xfrm>
                <a:off x="7709040" y="5710680"/>
                <a:ext cx="174960" cy="1926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09040" y="5710680"/>
                <a:ext cx="178200" cy="195840"/>
              </a:xfrm>
              <a:custGeom>
                <a:avLst/>
                <a:gdLst/>
                <a:ahLst/>
                <a:rect l="l" t="t" r="r" b="b"/>
                <a:pathLst>
                  <a:path w="48" h="53">
                    <a:moveTo>
                      <a:pt x="0" y="52"/>
                    </a:moveTo>
                    <a:lnTo>
                      <a:pt x="0" y="0"/>
                    </a:ln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7560360" y="5557680"/>
              <a:ext cx="4788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02200" y="5557680"/>
              <a:ext cx="44640" cy="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81680" y="5516640"/>
              <a:ext cx="1293120" cy="807480"/>
            </a:xfrm>
            <a:custGeom>
              <a:avLst/>
              <a:gdLst/>
              <a:ahLst/>
              <a:rect l="l" t="t" r="r" b="b"/>
              <a:pathLst>
                <a:path w="347" h="217">
                  <a:moveTo>
                    <a:pt x="346" y="0"/>
                  </a:moveTo>
                  <a:lnTo>
                    <a:pt x="0" y="0"/>
                  </a:lnTo>
                  <a:lnTo>
                    <a:pt x="0" y="216"/>
                  </a:lnTo>
                  <a:lnTo>
                    <a:pt x="346" y="216"/>
                  </a:lnTo>
                </a:path>
              </a:pathLst>
            </a:custGeom>
            <a:noFill/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567920" y="6093720"/>
              <a:ext cx="159480" cy="69840"/>
              <a:chOff x="7567920" y="6093720"/>
              <a:chExt cx="159480" cy="69840"/>
            </a:xfrm>
          </p:grpSpPr>
          <p:sp>
            <p:nvSpPr>
              <p:cNvPr id="188" name=""/>
              <p:cNvSpPr/>
              <p:nvPr/>
            </p:nvSpPr>
            <p:spPr>
              <a:xfrm>
                <a:off x="7567920" y="6093720"/>
                <a:ext cx="159480" cy="6588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  <a:effectLst>
                <a:outerShdw dist="17819" dir="27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567920" y="6093720"/>
                <a:ext cx="3240" cy="698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18"/>
                    </a:move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429000" y="3962520"/>
            <a:ext cx="5334120" cy="1600200"/>
            <a:chOff x="3429000" y="3962520"/>
            <a:chExt cx="5334120" cy="1600200"/>
          </a:xfrm>
        </p:grpSpPr>
        <p:sp>
          <p:nvSpPr>
            <p:cNvPr id="191" name=""/>
            <p:cNvSpPr/>
            <p:nvPr/>
          </p:nvSpPr>
          <p:spPr>
            <a:xfrm>
              <a:off x="3429000" y="3962520"/>
              <a:ext cx="5334120" cy="83808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4920" y="4178160"/>
              <a:ext cx="1365480" cy="4064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协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29600" y="4183200"/>
              <a:ext cx="999000" cy="3988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cap="sq" w="0">
              <a:solidFill>
                <a:srgbClr val="99ccff"/>
              </a:solidFill>
            </a:ln>
            <a:effectLst>
              <a:outerShdw dist="53966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CP/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01080" y="4572000"/>
              <a:ext cx="533160" cy="990720"/>
            </a:xfrm>
            <a:prstGeom prst="upDownArrow">
              <a:avLst>
                <a:gd name="adj1" fmla="val 50000"/>
                <a:gd name="adj2" fmla="val 5301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ea85ca"/>
                </a:gs>
              </a:gsLst>
              <a:lin ang="8100000"/>
            </a:gradFill>
            <a:ln w="6480">
              <a:solidFill>
                <a:srgbClr val="660066"/>
              </a:solidFill>
              <a:miter/>
            </a:ln>
            <a:effectLst>
              <a:outerShdw dist="73964" dir="3536435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429000" y="2438280"/>
            <a:ext cx="5334120" cy="1752840"/>
            <a:chOff x="3429000" y="2438280"/>
            <a:chExt cx="5334120" cy="1752840"/>
          </a:xfrm>
        </p:grpSpPr>
        <p:sp>
          <p:nvSpPr>
            <p:cNvPr id="196" name=""/>
            <p:cNvSpPr/>
            <p:nvPr/>
          </p:nvSpPr>
          <p:spPr>
            <a:xfrm>
              <a:off x="3429000" y="2514600"/>
              <a:ext cx="5334120" cy="99072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99ccff"/>
              </a:solidFill>
              <a:miter/>
            </a:ln>
            <a:effectLst>
              <a:outerShdw dist="17819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48640" y="2773440"/>
              <a:ext cx="1238040" cy="40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服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89800" y="2666880"/>
              <a:ext cx="2513880" cy="703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cap="sq" w="0">
              <a:solidFill>
                <a:srgbClr val="99ccff"/>
              </a:solidFill>
            </a:ln>
            <a:effectLst>
              <a:outerShdw dist="53966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ent for Microsof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Net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01080" y="3200400"/>
              <a:ext cx="533160" cy="990720"/>
            </a:xfrm>
            <a:prstGeom prst="upDownArrow">
              <a:avLst>
                <a:gd name="adj1" fmla="val 50000"/>
                <a:gd name="adj2" fmla="val 53010"/>
              </a:avLst>
            </a:prstGeom>
            <a:gradFill rotWithShape="0">
              <a:gsLst>
                <a:gs pos="0">
                  <a:srgbClr val="d60093"/>
                </a:gs>
                <a:gs pos="100000">
                  <a:srgbClr val="ea85ca"/>
                </a:gs>
              </a:gsLst>
              <a:lin ang="8100000"/>
            </a:gradFill>
            <a:ln w="6480">
              <a:solidFill>
                <a:srgbClr val="660066"/>
              </a:solidFill>
              <a:miter/>
            </a:ln>
            <a:effectLst>
              <a:outerShdw dist="73964" dir="3536435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24120" y="2438280"/>
              <a:ext cx="52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429000" y="2209680"/>
            <a:ext cx="5334120" cy="34419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3429000" y="1295280"/>
            <a:ext cx="53514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名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识计算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etBI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字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+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重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name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3824280" cy="4114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819520" y="388620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3505320"/>
            <a:ext cx="9144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419720" y="1676520"/>
            <a:ext cx="38383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992160" y="1608120"/>
            <a:ext cx="7107120" cy="4868640"/>
            <a:chOff x="992160" y="1608120"/>
            <a:chExt cx="7107120" cy="4868640"/>
          </a:xfrm>
        </p:grpSpPr>
        <p:grpSp>
          <p:nvGrpSpPr>
            <p:cNvPr id="210" name=""/>
            <p:cNvGrpSpPr/>
            <p:nvPr/>
          </p:nvGrpSpPr>
          <p:grpSpPr>
            <a:xfrm>
              <a:off x="992160" y="1608120"/>
              <a:ext cx="7107120" cy="4868640"/>
              <a:chOff x="992160" y="1608120"/>
              <a:chExt cx="7107120" cy="4868640"/>
            </a:xfrm>
          </p:grpSpPr>
          <p:sp>
            <p:nvSpPr>
              <p:cNvPr id="211" name=""/>
              <p:cNvSpPr/>
              <p:nvPr/>
            </p:nvSpPr>
            <p:spPr>
              <a:xfrm>
                <a:off x="992160" y="2089080"/>
                <a:ext cx="7107120" cy="4300560"/>
              </a:xfrm>
              <a:prstGeom prst="rect">
                <a:avLst/>
              </a:prstGeom>
              <a:gradFill rotWithShape="0">
                <a:gsLst>
                  <a:gs pos="0">
                    <a:srgbClr val="fcfeb9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816440" y="1608120"/>
                <a:ext cx="1252440" cy="1380960"/>
                <a:chOff x="4816440" y="1608120"/>
                <a:chExt cx="1252440" cy="138096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4816440" y="2334960"/>
                  <a:ext cx="1211040" cy="654120"/>
                  <a:chOff x="4816440" y="2334960"/>
                  <a:chExt cx="1211040" cy="6541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5608440" y="2504880"/>
                    <a:ext cx="417240" cy="4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4" y="180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4816440" y="2334960"/>
                    <a:ext cx="121104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377">
                        <a:moveTo>
                          <a:pt x="715" y="376"/>
                        </a:moveTo>
                        <a:lnTo>
                          <a:pt x="0" y="187"/>
                        </a:lnTo>
                        <a:lnTo>
                          <a:pt x="397" y="0"/>
                        </a:lnTo>
                        <a:lnTo>
                          <a:pt x="1090" y="152"/>
                        </a:lnTo>
                        <a:lnTo>
                          <a:pt x="715" y="376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816440" y="2541600"/>
                    <a:ext cx="7920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230440" y="2700000"/>
                    <a:ext cx="31104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5236920" y="2781000"/>
                    <a:ext cx="2995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5230440" y="2698560"/>
                    <a:ext cx="30924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4">
                        <a:moveTo>
                          <a:pt x="0" y="84"/>
                        </a:moveTo>
                        <a:lnTo>
                          <a:pt x="0" y="0"/>
                        </a:lnTo>
                        <a:lnTo>
                          <a:pt x="195" y="54"/>
                        </a:lnTo>
                      </a:path>
                    </a:pathLst>
                  </a:custGeom>
                  <a:noFill/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5257440" y="2743200"/>
                    <a:ext cx="242640" cy="60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5464080" y="2867040"/>
                    <a:ext cx="45360" cy="93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5333760" y="2759040"/>
                    <a:ext cx="74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4836960" y="2589120"/>
                    <a:ext cx="320040" cy="903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836960" y="2624040"/>
                    <a:ext cx="320040" cy="889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836960" y="2660400"/>
                    <a:ext cx="320040" cy="907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4836960" y="2695320"/>
                    <a:ext cx="320040" cy="889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5233680" y="2793960"/>
                    <a:ext cx="3139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4935240" y="1608120"/>
                  <a:ext cx="1133640" cy="1066680"/>
                  <a:chOff x="4935240" y="1608120"/>
                  <a:chExt cx="1133640" cy="10666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5020920" y="2301840"/>
                    <a:ext cx="882720" cy="37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235">
                        <a:moveTo>
                          <a:pt x="0" y="128"/>
                        </a:moveTo>
                        <a:lnTo>
                          <a:pt x="238" y="0"/>
                        </a:lnTo>
                        <a:lnTo>
                          <a:pt x="556" y="91"/>
                        </a:lnTo>
                        <a:lnTo>
                          <a:pt x="556" y="108"/>
                        </a:lnTo>
                        <a:lnTo>
                          <a:pt x="334" y="235"/>
                        </a:lnTo>
                        <a:lnTo>
                          <a:pt x="0" y="148"/>
                        </a:lnTo>
                        <a:lnTo>
                          <a:pt x="0" y="12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032080" y="2309760"/>
                    <a:ext cx="8542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208">
                        <a:moveTo>
                          <a:pt x="0" y="124"/>
                        </a:moveTo>
                        <a:lnTo>
                          <a:pt x="327" y="208"/>
                        </a:lnTo>
                        <a:lnTo>
                          <a:pt x="538" y="86"/>
                        </a:lnTo>
                        <a:lnTo>
                          <a:pt x="233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244840" y="2390760"/>
                    <a:ext cx="444600" cy="17748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001840" y="2396880"/>
                    <a:ext cx="71748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173560" y="1608120"/>
                    <a:ext cx="895320" cy="82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732280" y="1790640"/>
                    <a:ext cx="17928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935240" y="1617480"/>
                    <a:ext cx="97632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935240" y="1698480"/>
                    <a:ext cx="797040" cy="89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997160" y="1777680"/>
                    <a:ext cx="674640" cy="73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038560" y="1827000"/>
                    <a:ext cx="590400" cy="63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w="6480">
                    <a:solidFill>
                      <a:srgbClr val="777777"/>
                    </a:solidFill>
                    <a:round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090760" y="1879560"/>
                    <a:ext cx="0" cy="968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0" name=""/>
              <p:cNvGrpSpPr/>
              <p:nvPr/>
            </p:nvGrpSpPr>
            <p:grpSpPr>
              <a:xfrm>
                <a:off x="3063960" y="5095800"/>
                <a:ext cx="1252440" cy="1380960"/>
                <a:chOff x="3063960" y="5095800"/>
                <a:chExt cx="1252440" cy="1380960"/>
              </a:xfrm>
            </p:grpSpPr>
            <p:grpSp>
              <p:nvGrpSpPr>
                <p:cNvPr id="241" name=""/>
                <p:cNvGrpSpPr/>
                <p:nvPr/>
              </p:nvGrpSpPr>
              <p:grpSpPr>
                <a:xfrm>
                  <a:off x="3063960" y="5822640"/>
                  <a:ext cx="1211040" cy="654120"/>
                  <a:chOff x="3063960" y="5822640"/>
                  <a:chExt cx="1211040" cy="6541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3855960" y="5992560"/>
                    <a:ext cx="417240" cy="4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4" y="180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063960" y="5822640"/>
                    <a:ext cx="121104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377">
                        <a:moveTo>
                          <a:pt x="715" y="376"/>
                        </a:moveTo>
                        <a:lnTo>
                          <a:pt x="0" y="187"/>
                        </a:lnTo>
                        <a:lnTo>
                          <a:pt x="397" y="0"/>
                        </a:lnTo>
                        <a:lnTo>
                          <a:pt x="1090" y="152"/>
                        </a:lnTo>
                        <a:lnTo>
                          <a:pt x="715" y="376"/>
                        </a:lnTo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063960" y="6029280"/>
                    <a:ext cx="792000" cy="4474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3477960" y="6187680"/>
                    <a:ext cx="31104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484440" y="6268680"/>
                    <a:ext cx="29952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477960" y="6186240"/>
                    <a:ext cx="30924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4">
                        <a:moveTo>
                          <a:pt x="0" y="84"/>
                        </a:moveTo>
                        <a:lnTo>
                          <a:pt x="0" y="0"/>
                        </a:lnTo>
                        <a:lnTo>
                          <a:pt x="195" y="54"/>
                        </a:lnTo>
                      </a:path>
                    </a:pathLst>
                  </a:custGeom>
                  <a:noFill/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504960" y="6230880"/>
                    <a:ext cx="242640" cy="60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711600" y="6354720"/>
                    <a:ext cx="45360" cy="93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581280" y="6246720"/>
                    <a:ext cx="74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2240" bIns="122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084480" y="6076800"/>
                    <a:ext cx="320040" cy="903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084480" y="6111720"/>
                    <a:ext cx="320040" cy="889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084480" y="6148080"/>
                    <a:ext cx="320040" cy="907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084480" y="6183000"/>
                    <a:ext cx="320040" cy="889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481200" y="6281640"/>
                    <a:ext cx="31392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3182760" y="5095800"/>
                  <a:ext cx="1133640" cy="1066680"/>
                  <a:chOff x="3182760" y="5095800"/>
                  <a:chExt cx="1133640" cy="10666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3268440" y="5789520"/>
                    <a:ext cx="882720" cy="37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235">
                        <a:moveTo>
                          <a:pt x="0" y="128"/>
                        </a:moveTo>
                        <a:lnTo>
                          <a:pt x="238" y="0"/>
                        </a:lnTo>
                        <a:lnTo>
                          <a:pt x="556" y="91"/>
                        </a:lnTo>
                        <a:lnTo>
                          <a:pt x="556" y="108"/>
                        </a:lnTo>
                        <a:lnTo>
                          <a:pt x="334" y="235"/>
                        </a:lnTo>
                        <a:lnTo>
                          <a:pt x="0" y="148"/>
                        </a:lnTo>
                        <a:lnTo>
                          <a:pt x="0" y="12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3279600" y="5797440"/>
                    <a:ext cx="8542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208">
                        <a:moveTo>
                          <a:pt x="0" y="124"/>
                        </a:moveTo>
                        <a:lnTo>
                          <a:pt x="327" y="208"/>
                        </a:lnTo>
                        <a:lnTo>
                          <a:pt x="538" y="86"/>
                        </a:lnTo>
                        <a:lnTo>
                          <a:pt x="233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492360" y="5878440"/>
                    <a:ext cx="444600" cy="17748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249360" y="5884560"/>
                    <a:ext cx="71748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421080" y="5095800"/>
                    <a:ext cx="895320" cy="825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979800" y="5278320"/>
                    <a:ext cx="17928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182760" y="5105160"/>
                    <a:ext cx="976320" cy="27324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82760" y="5186160"/>
                    <a:ext cx="797040" cy="89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13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244680" y="5265360"/>
                    <a:ext cx="674640" cy="736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286080" y="5314680"/>
                    <a:ext cx="590400" cy="63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stretch/>
                  </a:blipFill>
                  <a:ln w="6480">
                    <a:solidFill>
                      <a:srgbClr val="777777"/>
                    </a:solidFill>
                    <a:round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338280" y="5367240"/>
                    <a:ext cx="0" cy="968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8" name=""/>
            <p:cNvSpPr/>
            <p:nvPr/>
          </p:nvSpPr>
          <p:spPr>
            <a:xfrm flipH="1">
              <a:off x="3733200" y="5504040"/>
              <a:ext cx="1447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33920" y="1922400"/>
              <a:ext cx="1447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419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一台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的计算机都需要配置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8640" y="1531800"/>
            <a:ext cx="8210520" cy="4944960"/>
            <a:chOff x="458640" y="1531800"/>
            <a:chExt cx="8210520" cy="4944960"/>
          </a:xfrm>
        </p:grpSpPr>
        <p:sp>
          <p:nvSpPr>
            <p:cNvPr id="273" name=""/>
            <p:cNvSpPr/>
            <p:nvPr/>
          </p:nvSpPr>
          <p:spPr>
            <a:xfrm rot="16200000">
              <a:off x="685800" y="4589280"/>
              <a:ext cx="1066680" cy="1522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533520" y="5095800"/>
              <a:ext cx="1252440" cy="1380960"/>
              <a:chOff x="533520" y="5095800"/>
              <a:chExt cx="1252440" cy="138096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533520" y="5822640"/>
                <a:ext cx="1211040" cy="654120"/>
                <a:chOff x="533520" y="5822640"/>
                <a:chExt cx="1211040" cy="654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325520" y="599256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33520" y="582264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3520" y="602928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947520" y="618768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954000" y="626868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947520" y="618624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974520" y="623088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181160" y="635472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050840" y="624672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4040" y="607680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54040" y="611172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54040" y="614808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54040" y="618300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950760" y="628164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52320" y="5095800"/>
                <a:ext cx="1133640" cy="1066680"/>
                <a:chOff x="652320" y="5095800"/>
                <a:chExt cx="1133640" cy="1066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38000" y="578952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49160" y="579744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961920" y="587844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18920" y="588456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90640" y="509580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449360" y="527832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52320" y="510516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52320" y="518616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14240" y="526536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55640" y="531468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07840" y="536724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 flipV="1" rot="5400000">
              <a:off x="7263720" y="3268440"/>
              <a:ext cx="1169640" cy="152280"/>
            </a:xfrm>
            <a:custGeom>
              <a:avLst/>
              <a:gdLst>
                <a:gd name="textAreaLeft" fmla="*/ 0 w 1169640"/>
                <a:gd name="textAreaRight" fmla="*/ 1170000 w 116964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38880" y="1531800"/>
              <a:ext cx="1252440" cy="1380960"/>
              <a:chOff x="7238880" y="1531800"/>
              <a:chExt cx="1252440" cy="138096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7238880" y="2258640"/>
                <a:ext cx="1211040" cy="654120"/>
                <a:chOff x="7238880" y="2258640"/>
                <a:chExt cx="1211040" cy="654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8030880" y="242856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238880" y="225864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238880" y="246528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652880" y="262368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659360" y="270468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52880" y="262224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679880" y="266688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886520" y="279072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756200" y="268272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259400" y="251280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259400" y="254772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259400" y="258408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259400" y="261900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656120" y="271764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357680" y="1531800"/>
                <a:ext cx="1133640" cy="1066680"/>
                <a:chOff x="7357680" y="1531800"/>
                <a:chExt cx="1133640" cy="10666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443360" y="222552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54520" y="223344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667280" y="231444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424280" y="232056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596000" y="153180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8154720" y="171432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2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357680" y="154116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357680" y="162216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419600" y="170136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461000" y="175068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513200" y="180324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"/>
            <p:cNvSpPr/>
            <p:nvPr/>
          </p:nvSpPr>
          <p:spPr>
            <a:xfrm>
              <a:off x="458640" y="3710160"/>
              <a:ext cx="1482840" cy="52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1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86680" y="3710160"/>
              <a:ext cx="1482480" cy="52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3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1480000">
              <a:off x="1775880" y="3900240"/>
              <a:ext cx="1544760" cy="287280"/>
            </a:xfrm>
            <a:custGeom>
              <a:avLst/>
              <a:gdLst/>
              <a:ahLst/>
              <a:rect l="l" t="t" r="r" b="b"/>
              <a:pathLst>
                <a:path w="1808" h="272">
                  <a:moveTo>
                    <a:pt x="0" y="69"/>
                  </a:moveTo>
                  <a:lnTo>
                    <a:pt x="1081" y="0"/>
                  </a:lnTo>
                  <a:lnTo>
                    <a:pt x="910" y="159"/>
                  </a:lnTo>
                  <a:lnTo>
                    <a:pt x="1807" y="123"/>
                  </a:lnTo>
                  <a:lnTo>
                    <a:pt x="648" y="271"/>
                  </a:lnTo>
                  <a:lnTo>
                    <a:pt x="915" y="98"/>
                  </a:lnTo>
                  <a:lnTo>
                    <a:pt x="0" y="69"/>
                  </a:lnTo>
                </a:path>
              </a:pathLst>
            </a:custGeom>
            <a:solidFill>
              <a:srgbClr val="ffcf01"/>
            </a:solidFill>
            <a:ln cap="rnd" w="6480">
              <a:solidFill>
                <a:srgbClr val="800080"/>
              </a:solidFill>
              <a:round/>
            </a:ln>
            <a:effectLst>
              <a:outerShdw dist="381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1480000">
              <a:off x="5781240" y="3900240"/>
              <a:ext cx="1544760" cy="287280"/>
            </a:xfrm>
            <a:custGeom>
              <a:avLst/>
              <a:gdLst/>
              <a:ahLst/>
              <a:rect l="l" t="t" r="r" b="b"/>
              <a:pathLst>
                <a:path w="1808" h="272">
                  <a:moveTo>
                    <a:pt x="0" y="69"/>
                  </a:moveTo>
                  <a:lnTo>
                    <a:pt x="1081" y="0"/>
                  </a:lnTo>
                  <a:lnTo>
                    <a:pt x="910" y="159"/>
                  </a:lnTo>
                  <a:lnTo>
                    <a:pt x="1807" y="123"/>
                  </a:lnTo>
                  <a:lnTo>
                    <a:pt x="648" y="271"/>
                  </a:lnTo>
                  <a:lnTo>
                    <a:pt x="915" y="98"/>
                  </a:lnTo>
                  <a:lnTo>
                    <a:pt x="0" y="69"/>
                  </a:lnTo>
                </a:path>
              </a:pathLst>
            </a:custGeom>
            <a:solidFill>
              <a:srgbClr val="ffcf01"/>
            </a:solidFill>
            <a:ln cap="rnd" w="6480">
              <a:solidFill>
                <a:srgbClr val="800080"/>
              </a:solidFill>
              <a:round/>
            </a:ln>
            <a:effectLst>
              <a:outerShdw dist="381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218600" y="5504040"/>
              <a:ext cx="1447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1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2200" y="1922400"/>
              <a:ext cx="1447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3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297240" y="2913120"/>
            <a:ext cx="2592360" cy="2285640"/>
            <a:chOff x="3297240" y="2913120"/>
            <a:chExt cx="2592360" cy="2285640"/>
          </a:xfrm>
        </p:grpSpPr>
        <p:sp>
          <p:nvSpPr>
            <p:cNvPr id="338" name=""/>
            <p:cNvSpPr/>
            <p:nvPr/>
          </p:nvSpPr>
          <p:spPr>
            <a:xfrm>
              <a:off x="3297240" y="3940200"/>
              <a:ext cx="2592360" cy="15228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3132000" y="4520880"/>
              <a:ext cx="1219320" cy="136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71" y="0"/>
                  </a:lnTo>
                  <a:lnTo>
                    <a:pt x="21600" y="10800"/>
                  </a:lnTo>
                  <a:lnTo>
                    <a:pt x="1977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 rot="5400000">
              <a:off x="4840920" y="3421800"/>
              <a:ext cx="1170000" cy="15228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68560" y="3710160"/>
              <a:ext cx="1482840" cy="529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843480" y="2378160"/>
            <a:ext cx="3412080" cy="838080"/>
            <a:chOff x="843480" y="2378160"/>
            <a:chExt cx="3412080" cy="838080"/>
          </a:xfrm>
        </p:grpSpPr>
        <p:sp>
          <p:nvSpPr>
            <p:cNvPr id="343" name=""/>
            <p:cNvSpPr/>
            <p:nvPr/>
          </p:nvSpPr>
          <p:spPr>
            <a:xfrm>
              <a:off x="850680" y="2378160"/>
              <a:ext cx="3404880" cy="838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576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47600" y="2538360"/>
              <a:ext cx="2206080" cy="517680"/>
            </a:xfrm>
            <a:prstGeom prst="rect">
              <a:avLst/>
            </a:prstGeom>
            <a:solidFill>
              <a:srgbClr val="c20073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192.168.1.10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3480" y="2445480"/>
              <a:ext cx="101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Addr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4451400" cy="41148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2819520" y="2057400"/>
            <a:ext cx="4395600" cy="44956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静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1371600" y="2438280"/>
            <a:ext cx="4191120" cy="40449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固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设置多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581280" y="3581280"/>
            <a:ext cx="3581640" cy="533520"/>
            <a:chOff x="3581280" y="3581280"/>
            <a:chExt cx="3581640" cy="533520"/>
          </a:xfrm>
        </p:grpSpPr>
        <p:sp>
          <p:nvSpPr>
            <p:cNvPr id="352" name=""/>
            <p:cNvSpPr/>
            <p:nvPr/>
          </p:nvSpPr>
          <p:spPr>
            <a:xfrm>
              <a:off x="3581280" y="3809880"/>
              <a:ext cx="13716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4952880" y="3809520"/>
              <a:ext cx="91440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67280" y="3581280"/>
              <a:ext cx="129564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581280" y="4038480"/>
            <a:ext cx="3581640" cy="304920"/>
            <a:chOff x="3581280" y="4038480"/>
            <a:chExt cx="3581640" cy="304920"/>
          </a:xfrm>
        </p:grpSpPr>
        <p:sp>
          <p:nvSpPr>
            <p:cNvPr id="356" name=""/>
            <p:cNvSpPr/>
            <p:nvPr/>
          </p:nvSpPr>
          <p:spPr>
            <a:xfrm>
              <a:off x="3581280" y="4114800"/>
              <a:ext cx="137160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52880" y="426708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67280" y="4038480"/>
              <a:ext cx="129564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子网掩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581280" y="4343400"/>
            <a:ext cx="3581640" cy="380880"/>
            <a:chOff x="3581280" y="4343400"/>
            <a:chExt cx="3581640" cy="380880"/>
          </a:xfrm>
        </p:grpSpPr>
        <p:sp>
          <p:nvSpPr>
            <p:cNvPr id="360" name=""/>
            <p:cNvSpPr/>
            <p:nvPr/>
          </p:nvSpPr>
          <p:spPr>
            <a:xfrm>
              <a:off x="3581280" y="4343400"/>
              <a:ext cx="13716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457200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4419720"/>
              <a:ext cx="129564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网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505320" y="5105520"/>
            <a:ext cx="3657600" cy="609480"/>
            <a:chOff x="3505320" y="5105520"/>
            <a:chExt cx="3657600" cy="609480"/>
          </a:xfrm>
        </p:grpSpPr>
        <p:sp>
          <p:nvSpPr>
            <p:cNvPr id="364" name=""/>
            <p:cNvSpPr/>
            <p:nvPr/>
          </p:nvSpPr>
          <p:spPr>
            <a:xfrm>
              <a:off x="3505320" y="5105520"/>
              <a:ext cx="1371600" cy="533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5105520"/>
              <a:ext cx="1295640" cy="609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NS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服务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52880" y="541008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819520" y="2133720"/>
            <a:ext cx="4462200" cy="44956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343400" y="5715000"/>
            <a:ext cx="9907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配置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增大管理员的工作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手动输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信息，可能会输入错误的信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能会引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冲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网络更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段时，需要重新做配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由计算机频繁在多个网段间移动时，每次都需要作重新配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619800" cy="396864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4952880" y="2438280"/>
            <a:ext cx="1676520" cy="1371600"/>
            <a:chOff x="4952880" y="2438280"/>
            <a:chExt cx="1676520" cy="1371600"/>
          </a:xfrm>
        </p:grpSpPr>
        <p:sp>
          <p:nvSpPr>
            <p:cNvPr id="373" name=""/>
            <p:cNvSpPr/>
            <p:nvPr/>
          </p:nvSpPr>
          <p:spPr>
            <a:xfrm>
              <a:off x="4952880" y="2438280"/>
              <a:ext cx="1524240" cy="152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29200" y="3657600"/>
              <a:ext cx="1600200" cy="152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通过支持查动态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3275280" cy="3236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724280" y="2666880"/>
            <a:ext cx="330372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work</cp:lastModifiedBy>
  <dcterms:modified xsi:type="dcterms:W3CDTF">2004-03-24T04:53:30Z</dcterms:modified>
  <cp:revision>677</cp:revision>
  <dc:subject/>
  <dc:title>Session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76730258</vt:r8>
  </property>
  <property fmtid="{D5CDD505-2E9C-101B-9397-08002B2CF9AE}" pid="3" name="_AuthorEmail">
    <vt:lpwstr>dongtao.gu@jb-aptech.com.cn</vt:lpwstr>
  </property>
  <property fmtid="{D5CDD505-2E9C-101B-9397-08002B2CF9AE}" pid="4" name="_AuthorEmailDisplayName">
    <vt:lpwstr>gudongtao(古东涛)</vt:lpwstr>
  </property>
  <property fmtid="{D5CDD505-2E9C-101B-9397-08002B2CF9AE}" pid="5" name="_EmailSubject">
    <vt:lpwstr>win2003一阶段第十章PPT第二次修改建议</vt:lpwstr>
  </property>
  <property fmtid="{D5CDD505-2E9C-101B-9397-08002B2CF9AE}" pid="6" name="_PreviousAdHocReviewCycleID">
    <vt:r8>845167401</vt:r8>
  </property>
  <property fmtid="{D5CDD505-2E9C-101B-9397-08002B2CF9AE}" pid="7" name="_ReviewingToolsShownOnce">
    <vt:lpwstr/>
  </property>
</Properties>
</file>