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29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1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39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DE34-B684-4761-AE6E-C9ABA42D8AD1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0144-827D-4C29-BD59-0D92CB02374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实现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indows Server 2003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工作组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置账户属性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终端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环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终端服务配置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19320" y="1295280"/>
            <a:ext cx="6933960" cy="4767480"/>
            <a:chOff x="1219320" y="1295280"/>
            <a:chExt cx="6933960" cy="47674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011480" y="1920960"/>
              <a:ext cx="1320840" cy="11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740040" y="1295280"/>
              <a:ext cx="2268720" cy="4683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终端服务服务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758960" y="4500720"/>
              <a:ext cx="1170720" cy="935640"/>
              <a:chOff x="1758960" y="4500720"/>
              <a:chExt cx="1170720" cy="9356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758960" y="4993920"/>
                <a:ext cx="1151640" cy="442440"/>
                <a:chOff x="1758960" y="4993920"/>
                <a:chExt cx="1151640" cy="442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511720" y="5108760"/>
                  <a:ext cx="396720" cy="3276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8960" y="4993920"/>
                  <a:ext cx="1151640" cy="2836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758960" y="5133240"/>
                  <a:ext cx="752760" cy="30312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52800" y="5240880"/>
                  <a:ext cx="295560" cy="1472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58920" y="5295600"/>
                  <a:ext cx="284760" cy="525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51360" y="5239800"/>
                  <a:ext cx="295560" cy="889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78360" y="5270040"/>
                  <a:ext cx="230760" cy="4068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74560" y="5353920"/>
                  <a:ext cx="43560" cy="64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251080" y="5280840"/>
                  <a:ext cx="70560" cy="266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78400" y="5166000"/>
                  <a:ext cx="304920" cy="60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78400" y="518940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78400" y="5214240"/>
                  <a:ext cx="304920" cy="61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78400" y="523764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55680" y="5304600"/>
                  <a:ext cx="298440" cy="90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852200" y="4500720"/>
                <a:ext cx="1077480" cy="722520"/>
                <a:chOff x="1852200" y="4500720"/>
                <a:chExt cx="1077480" cy="722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933920" y="4970520"/>
                  <a:ext cx="838800" cy="25272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44000" y="4975560"/>
                  <a:ext cx="812160" cy="223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146320" y="5030640"/>
                  <a:ext cx="422640" cy="120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15560" y="5034960"/>
                  <a:ext cx="681840" cy="1350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078640" y="4500720"/>
                  <a:ext cx="851040" cy="558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10000" y="4624200"/>
                  <a:ext cx="170280" cy="5439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852200" y="4507200"/>
                  <a:ext cx="928080" cy="1846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52200" y="4561920"/>
                  <a:ext cx="757800" cy="6080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10880" y="4615560"/>
                  <a:ext cx="641520" cy="4986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50120" y="4649040"/>
                  <a:ext cx="561240" cy="42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000160" y="4684320"/>
                  <a:ext cx="0" cy="655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1219320" y="5516640"/>
              <a:ext cx="2268360" cy="4683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终端服务客户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4200" y="5516640"/>
              <a:ext cx="2270160" cy="5461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终端服务客户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3411360"/>
              <a:ext cx="2057400" cy="4636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键盘鼠标操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660760" y="2936520"/>
              <a:ext cx="1530360" cy="140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930400" y="3171960"/>
              <a:ext cx="144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00400" y="4108320"/>
              <a:ext cx="1781280" cy="4683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服务器桌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21480" y="3562200"/>
              <a:ext cx="2431800" cy="5461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ctr">
              <a:noAutofit/>
            </a:bodyPr>
            <a:p>
              <a:pPr lvl="1" marL="45720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RDP(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远程桌面协议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760" y="3014640"/>
              <a:ext cx="117144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5721480" y="4500720"/>
              <a:ext cx="1170720" cy="935640"/>
              <a:chOff x="5721480" y="4500720"/>
              <a:chExt cx="1170720" cy="93564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721480" y="4993920"/>
                <a:ext cx="1151640" cy="442440"/>
                <a:chOff x="5721480" y="4993920"/>
                <a:chExt cx="1151640" cy="4424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474240" y="5108760"/>
                  <a:ext cx="396720" cy="3276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21480" y="4993920"/>
                  <a:ext cx="1151640" cy="2836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721480" y="5133240"/>
                  <a:ext cx="752760" cy="30312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15320" y="5240880"/>
                  <a:ext cx="295560" cy="1472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121440" y="5295600"/>
                  <a:ext cx="284760" cy="525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113880" y="5239800"/>
                  <a:ext cx="295560" cy="8892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140880" y="5270040"/>
                  <a:ext cx="230760" cy="4068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337080" y="5353920"/>
                  <a:ext cx="43560" cy="64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213600" y="5280840"/>
                  <a:ext cx="70560" cy="2664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40920" y="5166000"/>
                  <a:ext cx="304920" cy="60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740920" y="518940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740920" y="5214240"/>
                  <a:ext cx="304920" cy="61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740920" y="5237640"/>
                  <a:ext cx="304920" cy="60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18200" y="5304600"/>
                  <a:ext cx="298440" cy="90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814720" y="4500720"/>
                <a:ext cx="1077480" cy="722520"/>
                <a:chOff x="5814720" y="4500720"/>
                <a:chExt cx="1077480" cy="722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896440" y="4970520"/>
                  <a:ext cx="838800" cy="25272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06520" y="4975560"/>
                  <a:ext cx="812160" cy="2235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108840" y="5030640"/>
                  <a:ext cx="422640" cy="120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878080" y="5034960"/>
                  <a:ext cx="681840" cy="1350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41160" y="4500720"/>
                  <a:ext cx="851040" cy="558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572520" y="4624200"/>
                  <a:ext cx="170280" cy="5439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814720" y="4507200"/>
                  <a:ext cx="928080" cy="1846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5814720" y="4561920"/>
                  <a:ext cx="757800" cy="6080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873400" y="4615560"/>
                  <a:ext cx="641520" cy="4986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12640" y="4649040"/>
                  <a:ext cx="561240" cy="42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962680" y="4684320"/>
                  <a:ext cx="0" cy="655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账户密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设密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由管理员完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改密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由用户完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29040" y="2638440"/>
            <a:ext cx="3656160" cy="2152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3970440" cy="26654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3657600" y="2362320"/>
            <a:ext cx="3941640" cy="2712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200400" y="1905120"/>
            <a:ext cx="5113440" cy="3617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5880" y="3505320"/>
            <a:ext cx="129564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200400" y="1905120"/>
            <a:ext cx="5105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5113440" cy="36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命名和删除账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命名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:S-1-5-21-1292074401-2054391636-2487779615-5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删除后不能重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590920" y="5105520"/>
            <a:ext cx="6084720" cy="131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781680" y="3581280"/>
            <a:ext cx="13716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69 L 3.33333E-006 -0.03261 E">
                                      <p:cBhvr>
                                        <p:cTn id="458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479760" y="1143000"/>
            <a:ext cx="5664240" cy="35323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95680" y="1600200"/>
            <a:ext cx="3846600" cy="43797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配置文件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50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配置文件包括用户的工作环境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桌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文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收藏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近访问过的文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用户属性中可以指定配置文件的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1828800"/>
            <a:ext cx="28954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38280"/>
            <a:ext cx="23619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713040" cy="3884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51520" cy="446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467480" y="3505320"/>
            <a:ext cx="99072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配置文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利用系统属性中可以看登录到当前计算机中的用户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3048120"/>
            <a:ext cx="45720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本地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一个用户加入到一个组以后，该用户会继承该组所拥有的所有权限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用户账户可以同时加入到多个组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些情况下，组可以加入到其他组，或者说组里可以包括组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9565" t="11665" r="12333" b="22159"/>
          <a:stretch/>
        </p:blipFill>
        <p:spPr>
          <a:xfrm>
            <a:off x="762120" y="1066680"/>
            <a:ext cx="75438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计算机管理工具中的用户和组管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需要输入组名和描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直接添加成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656160" cy="3351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343400" y="2057400"/>
            <a:ext cx="4475160" cy="259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00600" y="3962520"/>
            <a:ext cx="9907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720" y="4267080"/>
            <a:ext cx="99036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49611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置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认本地组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动建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拥有特殊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些组是动态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52480" y="2895480"/>
            <a:ext cx="6940800" cy="37134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2967120" y="3809880"/>
            <a:ext cx="1147680" cy="1752840"/>
            <a:chOff x="2967120" y="3809880"/>
            <a:chExt cx="1147680" cy="1752840"/>
          </a:xfrm>
        </p:grpSpPr>
        <p:sp>
          <p:nvSpPr>
            <p:cNvPr id="231" name=""/>
            <p:cNvSpPr/>
            <p:nvPr/>
          </p:nvSpPr>
          <p:spPr>
            <a:xfrm>
              <a:off x="2971800" y="3809880"/>
              <a:ext cx="114300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7120" y="4767120"/>
              <a:ext cx="114300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71800" y="5410080"/>
              <a:ext cx="114300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置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1600200"/>
          <a:ext cx="8534520" cy="3914640"/>
        </p:xfrm>
        <a:graphic>
          <a:graphicData uri="http://schemas.openxmlformats.org/drawingml/2006/table">
            <a:tbl>
              <a:tblPr/>
              <a:tblGrid>
                <a:gridCol w="2017800"/>
                <a:gridCol w="6516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描述信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minist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具有对服务器的完全控制权限，并且可以下其他用户分配用户权利和访问控制权限。管理员账户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ministrator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就是这个组的默认成员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ackup Ope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加入该组的成员可以备份和还原服务器上的所有文件，而不管这些文件的是否设有权限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e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拥有一个在登录时创建的临时配置文件，在注销时，该配置文件将被删除。来宾账户（默认情况下已禁用）也是该组的默认成员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etwork Configuration Ope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可以更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CP/I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设置并更新和发布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CP/IP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址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具有创建用户账户和组账户的权利，可以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wer Users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sers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uests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中添加或删除用户，但是不能管理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ministrators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成员。可以创建和管理共享资源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int Oper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可以管理打印机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s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该组的成员可以执行一些常见任务，例如运行应用程序、使用本地和网络打印机以及锁定服务器。用户不能共享目录或创建本地打印机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本地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3996000" cy="4114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038480" y="2057400"/>
            <a:ext cx="4038840" cy="2144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038480" y="2133720"/>
            <a:ext cx="4038840" cy="2144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组的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组成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命名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员和权限不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ＡＬＰ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038480" y="1600200"/>
            <a:ext cx="3996000" cy="4114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114800" y="1600200"/>
            <a:ext cx="3848040" cy="4381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191120" y="4952880"/>
            <a:ext cx="9144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3276720"/>
            <a:ext cx="9144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3352680"/>
            <a:ext cx="22860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971800"/>
            <a:ext cx="83844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静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测试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AM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作组模式的网络适用于小型网络，计算机数量最好不要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工作组模式中，每台计算机都需要维护自己的用户安全数据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装后会自动建立若干个默认帐户和组。其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管理员帐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通用户只具有基本的登录和运行简单应用程序的权限，不具有类似于关机、修改时间、设置网络等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不在使用的帐户可以暂时先将其禁用，因为如果删除后，及时建立了同名帐户，也不能保留原来的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组帐户都有其特殊的权利，有些本地组是动态的，即需要添加相应的服务才会出现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配置文件保存了用户工作环境的所有信息，比如桌面、我的文档、收藏夹等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的本地组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o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use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opearto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Configuration Opera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中可以加入多个用户，用户具有此组的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组不能添加本地组作为自己的成员，但可以添加内置安全主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工作组方式部署企业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计算机加入工作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工作组中的计算机上建立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本地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计算机成功加入工作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用户需求的帐户，并设置好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的创建了本地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将用户加入组或从组中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工作组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本地用户账户的创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本地用户账户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用户配置文件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本地组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作组的特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台计算机管理自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台计算机都在本地存储用户的账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组中计算机的数量最好不要超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在工作组中使用本地账户登录到计算机，一个账户只能登录到一台计算机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685800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用户账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存储在本地计算机上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能够并且只能够登录到本地计算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可以用“计算机管理”中的“本地用户和组”来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账户主要用于工作组环境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588360" cy="3274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19520" y="388620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3951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046840" cy="3494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用户账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62520" y="2514600"/>
            <a:ext cx="365580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计算机管理工具进行用户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相关选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3657600"/>
            <a:ext cx="12952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用户账户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用户名：用户名最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字符，不区分大小写，也可以使用中文，但不能使用一些特殊字符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" / \ [ ] : ; | = , + * ? &lt; 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全名和描述：此信息为可选项，可以输入一些员工的个人信息和公司信息，如姓名和部门等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密码和确认密码：密码的最大长度可以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位，密码的设置不应过于简单，应该使用字母、数字及特殊符号的组合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3619800" cy="3318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本地用户账户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下次登录时必须更改密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不能更改密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永不过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已禁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8620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120" y="-34445"/>
                </a:moveTo>
                <a:lnTo>
                  <a:pt x="22320" y="5891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障用户隐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445788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255" y="-56864"/>
                </a:moveTo>
                <a:lnTo>
                  <a:pt x="22320" y="5891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于共享账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06736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255" y="-79282"/>
                </a:moveTo>
                <a:lnTo>
                  <a:pt x="22320" y="5891"/>
                </a:lnTo>
              </a:path>
              <a:path w="21600" h="21600">
                <a:moveTo>
                  <a:pt x="22320" y="0"/>
                </a:moveTo>
                <a:lnTo>
                  <a:pt x="223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默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天过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5029200"/>
            <a:ext cx="2286000" cy="4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570" y="-66600"/>
                </a:moveTo>
                <a:lnTo>
                  <a:pt x="-720" y="5891"/>
                </a:lnTo>
              </a:path>
              <a:path w="21600" h="21600">
                <a:moveTo>
                  <a:pt x="-720" y="0"/>
                </a:moveTo>
                <a:lnTo>
                  <a:pt x="-720" y="21600"/>
                </a:ln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暂时禁止登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置账户属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343400" y="1523880"/>
            <a:ext cx="3846600" cy="4380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391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隶属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拨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work</cp:lastModifiedBy>
  <dcterms:modified xsi:type="dcterms:W3CDTF">2004-03-24T04:54:31Z</dcterms:modified>
  <cp:revision>694</cp:revision>
  <dc:subject/>
  <dc:title>Ses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673025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十章PPT第二次修改建议</vt:lpwstr>
  </property>
  <property fmtid="{D5CDD505-2E9C-101B-9397-08002B2CF9AE}" pid="6" name="_PreviousAdHocReviewCycleID">
    <vt:r8>845167401</vt:r8>
  </property>
  <property fmtid="{D5CDD505-2E9C-101B-9397-08002B2CF9AE}" pid="7" name="_ReviewingToolsShownOnce">
    <vt:lpwstr/>
  </property>
</Properties>
</file>