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Bill Wang" initials="B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04-02-13T12:24:53.000000000" idx="1">
    <p:pos x="8" y="48"/>
    <p:text>加了一个图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665A-8721-49EE-85B1-5E0F37A117C3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09E1-BFFD-4537-81FE-E8CD2A1C4AE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<Relationship Id="rId5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TFS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权限应用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五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特殊权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95640" y="2060640"/>
            <a:ext cx="3494160" cy="4132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340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文件或文件夹数据本身没有关系的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取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改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得所有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140360" y="4797360"/>
            <a:ext cx="4426920" cy="719280"/>
            <a:chOff x="4140360" y="4797360"/>
            <a:chExt cx="4426920" cy="719280"/>
          </a:xfrm>
        </p:grpSpPr>
        <p:sp>
          <p:nvSpPr>
            <p:cNvPr id="129" name=""/>
            <p:cNvSpPr/>
            <p:nvPr/>
          </p:nvSpPr>
          <p:spPr>
            <a:xfrm>
              <a:off x="4140360" y="4797360"/>
              <a:ext cx="3168360" cy="719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08720" y="5156640"/>
              <a:ext cx="286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96000" y="5036760"/>
              <a:ext cx="971280" cy="199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特殊权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3494160" cy="421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164360" y="4797360"/>
            <a:ext cx="100800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897360" y="1773360"/>
            <a:ext cx="5246640" cy="4152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003640" y="4005360"/>
            <a:ext cx="1008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取得文件或文件夹的所有权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其他用户建立的文件夹，如果拒绝管理员管理，可以取得其所有权，然后再进行管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置在安全选项卡中的高级里的所有者选项卡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修改权限的文件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得所有权后的文件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97360" y="1484280"/>
            <a:ext cx="5246640" cy="4151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495600" cy="4219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49416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的组合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705636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的有效权限是用户所属各个组权限的总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读权限）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写权限）两个组，那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读写权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所属的组有一个被拒绝，此用户也会被拒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读写权限）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拒绝权限）两个组，那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被拒绝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的继承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新建的的子文件夹和文件会继承上一级目录的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目录下的文件夹或文件继承驱动器的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3280" y="1442880"/>
            <a:ext cx="349416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4932360" y="3933720"/>
            <a:ext cx="4211640" cy="503280"/>
            <a:chOff x="4932360" y="3933720"/>
            <a:chExt cx="4211640" cy="503280"/>
          </a:xfrm>
        </p:grpSpPr>
        <p:sp>
          <p:nvSpPr>
            <p:cNvPr id="147" name=""/>
            <p:cNvSpPr/>
            <p:nvPr/>
          </p:nvSpPr>
          <p:spPr>
            <a:xfrm>
              <a:off x="4932360" y="4005360"/>
              <a:ext cx="2735280" cy="431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67640" y="4149720"/>
              <a:ext cx="504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72360" y="3933720"/>
              <a:ext cx="971640" cy="432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灰色为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承权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97360" y="1341360"/>
            <a:ext cx="5246640" cy="41515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6516720" y="981000"/>
            <a:ext cx="1008000" cy="2232000"/>
            <a:chOff x="6516720" y="981000"/>
            <a:chExt cx="1008000" cy="2232000"/>
          </a:xfrm>
        </p:grpSpPr>
        <p:sp>
          <p:nvSpPr>
            <p:cNvPr id="152" name=""/>
            <p:cNvSpPr/>
            <p:nvPr/>
          </p:nvSpPr>
          <p:spPr>
            <a:xfrm>
              <a:off x="6659640" y="2276640"/>
              <a:ext cx="865080" cy="936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020000" y="1196640"/>
              <a:ext cx="0" cy="1079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16720" y="981000"/>
              <a:ext cx="1008000" cy="216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继承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的继承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拒绝继承上级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强制向下继承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46640" cy="415116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1403280" y="4869000"/>
            <a:ext cx="6193080" cy="360360"/>
            <a:chOff x="1403280" y="4869000"/>
            <a:chExt cx="6193080" cy="360360"/>
          </a:xfrm>
        </p:grpSpPr>
        <p:sp>
          <p:nvSpPr>
            <p:cNvPr id="159" name=""/>
            <p:cNvSpPr/>
            <p:nvPr/>
          </p:nvSpPr>
          <p:spPr>
            <a:xfrm>
              <a:off x="1403280" y="4941720"/>
              <a:ext cx="4897440" cy="28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5084640"/>
              <a:ext cx="358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59640" y="4869000"/>
              <a:ext cx="936720" cy="36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从上继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403280" y="5157720"/>
            <a:ext cx="6193080" cy="360360"/>
            <a:chOff x="1403280" y="5157720"/>
            <a:chExt cx="6193080" cy="360360"/>
          </a:xfrm>
        </p:grpSpPr>
        <p:sp>
          <p:nvSpPr>
            <p:cNvPr id="163" name=""/>
            <p:cNvSpPr/>
            <p:nvPr/>
          </p:nvSpPr>
          <p:spPr>
            <a:xfrm>
              <a:off x="1403280" y="5230440"/>
              <a:ext cx="4897440" cy="28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00720" y="5373360"/>
              <a:ext cx="358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59640" y="5157720"/>
              <a:ext cx="936720" cy="36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向下继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的拒绝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836640"/>
            <a:ext cx="576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拒绝用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户将不能访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拒绝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里的所有成员都不能访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47640" y="2451240"/>
            <a:ext cx="3494160" cy="4217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35640" y="2379600"/>
            <a:ext cx="3494160" cy="4218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4683240"/>
            <a:ext cx="502920" cy="12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56720" y="4611600"/>
            <a:ext cx="502920" cy="122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移动和复制操作对权限的影响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复制文件和文件夹时，继承目的文件夹的权限设置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在同一分区移动文件或文件夹时，权限不变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在不同分区移动文件或文件夹时，继承目的文件夹的权限设置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403280" y="4005360"/>
            <a:ext cx="7047000" cy="2309400"/>
            <a:chOff x="1403280" y="4005360"/>
            <a:chExt cx="7047000" cy="2309400"/>
          </a:xfrm>
        </p:grpSpPr>
        <p:grpSp>
          <p:nvGrpSpPr>
            <p:cNvPr id="175" name=""/>
            <p:cNvGrpSpPr/>
            <p:nvPr/>
          </p:nvGrpSpPr>
          <p:grpSpPr>
            <a:xfrm>
              <a:off x="1403280" y="4008600"/>
              <a:ext cx="2188800" cy="2053800"/>
              <a:chOff x="1403280" y="4008600"/>
              <a:chExt cx="2188800" cy="205380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22360" y="4740480"/>
                <a:ext cx="2157120" cy="132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03280" y="4008600"/>
                <a:ext cx="2188800" cy="1341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5156280" y="4005360"/>
              <a:ext cx="215712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975320" y="4670640"/>
              <a:ext cx="105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NTFS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C: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11040" y="4206960"/>
              <a:ext cx="105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NTFS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E: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75320" y="5378760"/>
              <a:ext cx="105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NTFS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D: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10080" y="4386600"/>
              <a:ext cx="1674720" cy="517320"/>
            </a:xfrm>
            <a:custGeom>
              <a:avLst/>
              <a:gdLst>
                <a:gd name="textAreaLeft" fmla="*/ 261720 w 1674720"/>
                <a:gd name="textAreaRight" fmla="*/ 1287360 w 1674720"/>
                <a:gd name="textAreaTop" fmla="*/ 105120 h 517320"/>
                <a:gd name="textAreaBottom" fmla="*/ 41220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400"/>
                  </a:moveTo>
                  <a:lnTo>
                    <a:pt x="13165" y="4400"/>
                  </a:lnTo>
                  <a:lnTo>
                    <a:pt x="13165" y="0"/>
                  </a:lnTo>
                  <a:lnTo>
                    <a:pt x="21600" y="10800"/>
                  </a:lnTo>
                  <a:lnTo>
                    <a:pt x="13165" y="21600"/>
                  </a:lnTo>
                  <a:lnTo>
                    <a:pt x="13165" y="17200"/>
                  </a:lnTo>
                  <a:lnTo>
                    <a:pt x="3375" y="17200"/>
                  </a:lnTo>
                  <a:close/>
                </a:path>
                <a:path w="21600" h="21600">
                  <a:moveTo>
                    <a:pt x="0" y="4400"/>
                  </a:moveTo>
                  <a:lnTo>
                    <a:pt x="675" y="4400"/>
                  </a:lnTo>
                  <a:lnTo>
                    <a:pt x="675" y="17200"/>
                  </a:lnTo>
                  <a:lnTo>
                    <a:pt x="0" y="17200"/>
                  </a:lnTo>
                  <a:close/>
                </a:path>
                <a:path w="21600" h="21600">
                  <a:moveTo>
                    <a:pt x="1350" y="4400"/>
                  </a:moveTo>
                  <a:lnTo>
                    <a:pt x="2700" y="4400"/>
                  </a:lnTo>
                  <a:lnTo>
                    <a:pt x="2700" y="17200"/>
                  </a:lnTo>
                  <a:lnTo>
                    <a:pt x="1350" y="17200"/>
                  </a:lnTo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7520" y="531504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 rot="20082000">
              <a:off x="3544560" y="5033160"/>
              <a:ext cx="1652400" cy="974520"/>
            </a:xfrm>
            <a:custGeom>
              <a:avLst/>
              <a:gdLst/>
              <a:ahLst/>
              <a:rect l="l" t="t" r="r" b="b"/>
              <a:pathLst>
                <a:path w="671" h="395">
                  <a:moveTo>
                    <a:pt x="430" y="149"/>
                  </a:moveTo>
                  <a:lnTo>
                    <a:pt x="427" y="165"/>
                  </a:lnTo>
                  <a:lnTo>
                    <a:pt x="425" y="182"/>
                  </a:lnTo>
                  <a:lnTo>
                    <a:pt x="422" y="204"/>
                  </a:lnTo>
                  <a:lnTo>
                    <a:pt x="671" y="98"/>
                  </a:lnTo>
                  <a:lnTo>
                    <a:pt x="422" y="0"/>
                  </a:lnTo>
                  <a:lnTo>
                    <a:pt x="425" y="20"/>
                  </a:lnTo>
                  <a:lnTo>
                    <a:pt x="427" y="37"/>
                  </a:lnTo>
                  <a:lnTo>
                    <a:pt x="430" y="53"/>
                  </a:lnTo>
                  <a:lnTo>
                    <a:pt x="414" y="55"/>
                  </a:lnTo>
                  <a:lnTo>
                    <a:pt x="396" y="58"/>
                  </a:lnTo>
                  <a:lnTo>
                    <a:pt x="372" y="62"/>
                  </a:lnTo>
                  <a:lnTo>
                    <a:pt x="343" y="69"/>
                  </a:lnTo>
                  <a:lnTo>
                    <a:pt x="311" y="78"/>
                  </a:lnTo>
                  <a:lnTo>
                    <a:pt x="275" y="90"/>
                  </a:lnTo>
                  <a:lnTo>
                    <a:pt x="258" y="97"/>
                  </a:lnTo>
                  <a:lnTo>
                    <a:pt x="239" y="105"/>
                  </a:lnTo>
                  <a:lnTo>
                    <a:pt x="220" y="114"/>
                  </a:lnTo>
                  <a:lnTo>
                    <a:pt x="201" y="124"/>
                  </a:lnTo>
                  <a:lnTo>
                    <a:pt x="182" y="136"/>
                  </a:lnTo>
                  <a:lnTo>
                    <a:pt x="164" y="147"/>
                  </a:lnTo>
                  <a:lnTo>
                    <a:pt x="146" y="161"/>
                  </a:lnTo>
                  <a:lnTo>
                    <a:pt x="127" y="175"/>
                  </a:lnTo>
                  <a:lnTo>
                    <a:pt x="111" y="191"/>
                  </a:lnTo>
                  <a:lnTo>
                    <a:pt x="94" y="208"/>
                  </a:lnTo>
                  <a:lnTo>
                    <a:pt x="78" y="226"/>
                  </a:lnTo>
                  <a:lnTo>
                    <a:pt x="64" y="246"/>
                  </a:lnTo>
                  <a:lnTo>
                    <a:pt x="49" y="268"/>
                  </a:lnTo>
                  <a:lnTo>
                    <a:pt x="38" y="290"/>
                  </a:lnTo>
                  <a:lnTo>
                    <a:pt x="32" y="301"/>
                  </a:lnTo>
                  <a:lnTo>
                    <a:pt x="26" y="314"/>
                  </a:lnTo>
                  <a:lnTo>
                    <a:pt x="20" y="326"/>
                  </a:lnTo>
                  <a:lnTo>
                    <a:pt x="16" y="339"/>
                  </a:lnTo>
                  <a:lnTo>
                    <a:pt x="7" y="366"/>
                  </a:lnTo>
                  <a:lnTo>
                    <a:pt x="0" y="395"/>
                  </a:lnTo>
                  <a:lnTo>
                    <a:pt x="7" y="382"/>
                  </a:lnTo>
                  <a:lnTo>
                    <a:pt x="13" y="369"/>
                  </a:lnTo>
                  <a:lnTo>
                    <a:pt x="27" y="345"/>
                  </a:lnTo>
                  <a:lnTo>
                    <a:pt x="42" y="323"/>
                  </a:lnTo>
                  <a:lnTo>
                    <a:pt x="56" y="301"/>
                  </a:lnTo>
                  <a:lnTo>
                    <a:pt x="72" y="282"/>
                  </a:lnTo>
                  <a:lnTo>
                    <a:pt x="90" y="265"/>
                  </a:lnTo>
                  <a:lnTo>
                    <a:pt x="106" y="249"/>
                  </a:lnTo>
                  <a:lnTo>
                    <a:pt x="123" y="234"/>
                  </a:lnTo>
                  <a:lnTo>
                    <a:pt x="140" y="221"/>
                  </a:lnTo>
                  <a:lnTo>
                    <a:pt x="159" y="210"/>
                  </a:lnTo>
                  <a:lnTo>
                    <a:pt x="177" y="200"/>
                  </a:lnTo>
                  <a:lnTo>
                    <a:pt x="194" y="190"/>
                  </a:lnTo>
                  <a:lnTo>
                    <a:pt x="213" y="182"/>
                  </a:lnTo>
                  <a:lnTo>
                    <a:pt x="230" y="175"/>
                  </a:lnTo>
                  <a:lnTo>
                    <a:pt x="248" y="168"/>
                  </a:lnTo>
                  <a:lnTo>
                    <a:pt x="265" y="163"/>
                  </a:lnTo>
                  <a:lnTo>
                    <a:pt x="281" y="159"/>
                  </a:lnTo>
                  <a:lnTo>
                    <a:pt x="298" y="156"/>
                  </a:lnTo>
                  <a:lnTo>
                    <a:pt x="329" y="150"/>
                  </a:lnTo>
                  <a:lnTo>
                    <a:pt x="343" y="149"/>
                  </a:lnTo>
                  <a:lnTo>
                    <a:pt x="356" y="147"/>
                  </a:lnTo>
                  <a:lnTo>
                    <a:pt x="381" y="147"/>
                  </a:lnTo>
                  <a:lnTo>
                    <a:pt x="401" y="147"/>
                  </a:lnTo>
                  <a:lnTo>
                    <a:pt x="417" y="147"/>
                  </a:lnTo>
                  <a:lnTo>
                    <a:pt x="430" y="149"/>
                  </a:lnTo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7520" y="411660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复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 rot="18085800">
              <a:off x="6865560" y="4626000"/>
              <a:ext cx="1208160" cy="939600"/>
            </a:xfrm>
            <a:custGeom>
              <a:avLst/>
              <a:gdLst/>
              <a:ahLst/>
              <a:rect l="l" t="t" r="r" b="b"/>
              <a:pathLst>
                <a:path w="671" h="395">
                  <a:moveTo>
                    <a:pt x="430" y="149"/>
                  </a:moveTo>
                  <a:lnTo>
                    <a:pt x="427" y="165"/>
                  </a:lnTo>
                  <a:lnTo>
                    <a:pt x="425" y="182"/>
                  </a:lnTo>
                  <a:lnTo>
                    <a:pt x="422" y="204"/>
                  </a:lnTo>
                  <a:lnTo>
                    <a:pt x="671" y="98"/>
                  </a:lnTo>
                  <a:lnTo>
                    <a:pt x="422" y="0"/>
                  </a:lnTo>
                  <a:lnTo>
                    <a:pt x="425" y="20"/>
                  </a:lnTo>
                  <a:lnTo>
                    <a:pt x="427" y="37"/>
                  </a:lnTo>
                  <a:lnTo>
                    <a:pt x="430" y="53"/>
                  </a:lnTo>
                  <a:lnTo>
                    <a:pt x="414" y="55"/>
                  </a:lnTo>
                  <a:lnTo>
                    <a:pt x="396" y="58"/>
                  </a:lnTo>
                  <a:lnTo>
                    <a:pt x="372" y="62"/>
                  </a:lnTo>
                  <a:lnTo>
                    <a:pt x="343" y="69"/>
                  </a:lnTo>
                  <a:lnTo>
                    <a:pt x="311" y="78"/>
                  </a:lnTo>
                  <a:lnTo>
                    <a:pt x="275" y="90"/>
                  </a:lnTo>
                  <a:lnTo>
                    <a:pt x="258" y="97"/>
                  </a:lnTo>
                  <a:lnTo>
                    <a:pt x="239" y="105"/>
                  </a:lnTo>
                  <a:lnTo>
                    <a:pt x="220" y="114"/>
                  </a:lnTo>
                  <a:lnTo>
                    <a:pt x="201" y="124"/>
                  </a:lnTo>
                  <a:lnTo>
                    <a:pt x="182" y="136"/>
                  </a:lnTo>
                  <a:lnTo>
                    <a:pt x="164" y="147"/>
                  </a:lnTo>
                  <a:lnTo>
                    <a:pt x="146" y="161"/>
                  </a:lnTo>
                  <a:lnTo>
                    <a:pt x="127" y="175"/>
                  </a:lnTo>
                  <a:lnTo>
                    <a:pt x="111" y="191"/>
                  </a:lnTo>
                  <a:lnTo>
                    <a:pt x="94" y="208"/>
                  </a:lnTo>
                  <a:lnTo>
                    <a:pt x="78" y="226"/>
                  </a:lnTo>
                  <a:lnTo>
                    <a:pt x="64" y="246"/>
                  </a:lnTo>
                  <a:lnTo>
                    <a:pt x="49" y="268"/>
                  </a:lnTo>
                  <a:lnTo>
                    <a:pt x="38" y="290"/>
                  </a:lnTo>
                  <a:lnTo>
                    <a:pt x="32" y="301"/>
                  </a:lnTo>
                  <a:lnTo>
                    <a:pt x="26" y="314"/>
                  </a:lnTo>
                  <a:lnTo>
                    <a:pt x="20" y="326"/>
                  </a:lnTo>
                  <a:lnTo>
                    <a:pt x="16" y="339"/>
                  </a:lnTo>
                  <a:lnTo>
                    <a:pt x="7" y="366"/>
                  </a:lnTo>
                  <a:lnTo>
                    <a:pt x="0" y="395"/>
                  </a:lnTo>
                  <a:lnTo>
                    <a:pt x="7" y="382"/>
                  </a:lnTo>
                  <a:lnTo>
                    <a:pt x="13" y="369"/>
                  </a:lnTo>
                  <a:lnTo>
                    <a:pt x="27" y="345"/>
                  </a:lnTo>
                  <a:lnTo>
                    <a:pt x="42" y="323"/>
                  </a:lnTo>
                  <a:lnTo>
                    <a:pt x="56" y="301"/>
                  </a:lnTo>
                  <a:lnTo>
                    <a:pt x="72" y="282"/>
                  </a:lnTo>
                  <a:lnTo>
                    <a:pt x="90" y="265"/>
                  </a:lnTo>
                  <a:lnTo>
                    <a:pt x="106" y="249"/>
                  </a:lnTo>
                  <a:lnTo>
                    <a:pt x="123" y="234"/>
                  </a:lnTo>
                  <a:lnTo>
                    <a:pt x="140" y="221"/>
                  </a:lnTo>
                  <a:lnTo>
                    <a:pt x="159" y="210"/>
                  </a:lnTo>
                  <a:lnTo>
                    <a:pt x="177" y="200"/>
                  </a:lnTo>
                  <a:lnTo>
                    <a:pt x="194" y="190"/>
                  </a:lnTo>
                  <a:lnTo>
                    <a:pt x="213" y="182"/>
                  </a:lnTo>
                  <a:lnTo>
                    <a:pt x="230" y="175"/>
                  </a:lnTo>
                  <a:lnTo>
                    <a:pt x="248" y="168"/>
                  </a:lnTo>
                  <a:lnTo>
                    <a:pt x="265" y="163"/>
                  </a:lnTo>
                  <a:lnTo>
                    <a:pt x="281" y="159"/>
                  </a:lnTo>
                  <a:lnTo>
                    <a:pt x="298" y="156"/>
                  </a:lnTo>
                  <a:lnTo>
                    <a:pt x="329" y="150"/>
                  </a:lnTo>
                  <a:lnTo>
                    <a:pt x="343" y="149"/>
                  </a:lnTo>
                  <a:lnTo>
                    <a:pt x="356" y="147"/>
                  </a:lnTo>
                  <a:lnTo>
                    <a:pt x="381" y="147"/>
                  </a:lnTo>
                  <a:lnTo>
                    <a:pt x="401" y="147"/>
                  </a:lnTo>
                  <a:lnTo>
                    <a:pt x="417" y="147"/>
                  </a:lnTo>
                  <a:lnTo>
                    <a:pt x="430" y="149"/>
                  </a:lnTo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81760" y="4618080"/>
              <a:ext cx="66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复制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500" autoRev="1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39" dur="500" autoRev="1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40" dur="500" autoRev="1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及文件夹的压缩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中的文件和文件夹都具有压缩属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压缩文件可以节约磁盘空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压缩和加密只能选择一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颜色来区分压缩的文件（夹），蓝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降低性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16560" y="1982880"/>
            <a:ext cx="3655800" cy="27414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643280" y="3716280"/>
            <a:ext cx="4429440" cy="360360"/>
            <a:chOff x="4643280" y="3716280"/>
            <a:chExt cx="4429440" cy="360360"/>
          </a:xfrm>
        </p:grpSpPr>
        <p:sp>
          <p:nvSpPr>
            <p:cNvPr id="192" name=""/>
            <p:cNvSpPr/>
            <p:nvPr/>
          </p:nvSpPr>
          <p:spPr>
            <a:xfrm>
              <a:off x="4643280" y="3789360"/>
              <a:ext cx="1944720" cy="216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88000" y="3860640"/>
              <a:ext cx="1729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17080" y="3716280"/>
              <a:ext cx="755640" cy="36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压缩属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46432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复制、移动操作对压缩的影响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压缩的文件或文件夹移动至另一文件夹，同分区移动后文件仍保持压缩状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否则遵从目标文件夹的压缩状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拷贝文件到另一文件夹时，文件将遵从目标文件夹的压缩属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将压缩文件复制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上时，都会自动解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及文件夹的加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卷上的文件或文件夹才能被加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将加密的文件复制或移动到非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格式的文件系统上，该文件将会被解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加密文件夹或文件不能防止删除或列出文件和目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颜色区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00720" y="1743120"/>
            <a:ext cx="3655800" cy="27414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4680000" y="3716280"/>
            <a:ext cx="4428720" cy="360360"/>
            <a:chOff x="4680000" y="3716280"/>
            <a:chExt cx="4428720" cy="360360"/>
          </a:xfrm>
        </p:grpSpPr>
        <p:sp>
          <p:nvSpPr>
            <p:cNvPr id="202" name=""/>
            <p:cNvSpPr/>
            <p:nvPr/>
          </p:nvSpPr>
          <p:spPr>
            <a:xfrm>
              <a:off x="4680000" y="3789360"/>
              <a:ext cx="1944360" cy="216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24360" y="3860640"/>
              <a:ext cx="172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53440" y="3716280"/>
              <a:ext cx="755280" cy="36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加密属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7880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目录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现活动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活动目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域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用户帐户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的分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的作用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的优点：权限控制、压缩、加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的工作原理，通过访问控制列表和访问控制项工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中的常用权限，完全控制、修改、读取和运行、列出文件夹目录、读取、写入、特别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夹比文件多一个列出文件夹目录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优先级高于文件夹的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权限具有继承性，即使没有做任何设置，子文件夹和文件也会继承父级别的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具有累加性，当用户属于多个组时，它的有效权限是所有组权限的总和，但拒绝权限会高于其他所有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600" spc="-1" strike="noStrike">
                <a:solidFill>
                  <a:srgbClr val="ffcf01"/>
                </a:solidFill>
                <a:latin typeface="楷体_GB2312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移动和复制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的影响，只有本地磁盘移动时才保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文件可以进行加密，以保护数据的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文件可以使用压缩功能，可以节约一部分磁盘空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和修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权限的继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的压缩和解压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移动和复制对权限和压缩状态的影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79640" y="1846440"/>
            <a:ext cx="4463280" cy="4173480"/>
            <a:chOff x="1979640" y="1846440"/>
            <a:chExt cx="4463280" cy="4173480"/>
          </a:xfrm>
        </p:grpSpPr>
        <p:sp>
          <p:nvSpPr>
            <p:cNvPr id="216" name=""/>
            <p:cNvSpPr/>
            <p:nvPr/>
          </p:nvSpPr>
          <p:spPr>
            <a:xfrm>
              <a:off x="2694600" y="3716280"/>
              <a:ext cx="2877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71200" y="371628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572080" y="3697200"/>
              <a:ext cx="13320" cy="59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1979640" y="4149720"/>
              <a:ext cx="149904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204280" y="5607000"/>
              <a:ext cx="938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4943520" y="4292640"/>
              <a:ext cx="149940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68520" y="5749920"/>
              <a:ext cx="9381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3717360" y="1846440"/>
              <a:ext cx="100332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565440" y="2852640"/>
              <a:ext cx="1395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域控制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172760" y="3060720"/>
              <a:ext cx="2160" cy="62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查看文件或文件夹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员正确更改了文件或文件夹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取消子文件夹的继承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父文件夹能够强制向下继承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将文件夹压缩和解压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道移动和复制对权限的影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文件及文件夹权限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访问控制列表）的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权限的应用规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下的压缩和加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TF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概述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9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设置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好的伸缩性使扩展为大驱动器成为可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压缩功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加密，它极大地增强了安全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控制器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Directory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使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配额，可用来监视和控制单个用户使用的磁盘空间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TF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概述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16000" y="1484280"/>
          <a:ext cx="7391520" cy="4183200"/>
        </p:xfrm>
        <a:graphic>
          <a:graphicData uri="http://schemas.openxmlformats.org/drawingml/2006/table">
            <a:tbl>
              <a:tblPr/>
              <a:tblGrid>
                <a:gridCol w="4013280"/>
                <a:gridCol w="1127160"/>
                <a:gridCol w="1125360"/>
                <a:gridCol w="112572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AT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AT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TF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97/98/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X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INDOWS SERVER 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619280" y="5877000"/>
            <a:ext cx="633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注释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╳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代表不支持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∨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代表支持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∨╳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代表有时需要安装微软提供的补丁才能够更好的支持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获得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TF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系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420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格式化磁盘，在格式化时选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转换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t e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fs:nt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第三方软件转换，如分区大师软件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736720" cy="3753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651640" y="2349360"/>
            <a:ext cx="2808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什么是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TF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或文件夹的属性中都增加了一个安全选项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选项卡中有一个访问控制列表和访问控制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有被授予权限的用户或组才能访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505320" cy="42195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4859280" y="1197000"/>
            <a:ext cx="3168720" cy="4608360"/>
            <a:chOff x="4859280" y="1197000"/>
            <a:chExt cx="3168720" cy="4608360"/>
          </a:xfrm>
        </p:grpSpPr>
        <p:sp>
          <p:nvSpPr>
            <p:cNvPr id="108" name=""/>
            <p:cNvSpPr/>
            <p:nvPr/>
          </p:nvSpPr>
          <p:spPr>
            <a:xfrm>
              <a:off x="4859280" y="2637000"/>
              <a:ext cx="3168720" cy="3168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796000" y="1484280"/>
              <a:ext cx="576360" cy="115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27640" y="1197000"/>
              <a:ext cx="1297080" cy="244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安全选项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夹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TF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384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完全控制。对文件或者文件夹可执行所有操作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修改。可以修改、删除文件或者文件夹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取和运行。可以读取内容，并且可以执行应用程序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出文件夹目录。可以列出文件夹的内容。此权限只针对文件夹存在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读取。可以读取文件或者文件夹的内容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写入。可以创建文件夹或者文件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特别的权限。其他不常用的权限，如删除权限、更改权限的权限等等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48040" y="1484280"/>
            <a:ext cx="3495960" cy="42195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753080" y="3645000"/>
            <a:ext cx="4390560" cy="1296720"/>
            <a:chOff x="4753080" y="3645000"/>
            <a:chExt cx="4390560" cy="1296720"/>
          </a:xfrm>
        </p:grpSpPr>
        <p:sp>
          <p:nvSpPr>
            <p:cNvPr id="115" name=""/>
            <p:cNvSpPr/>
            <p:nvPr/>
          </p:nvSpPr>
          <p:spPr>
            <a:xfrm>
              <a:off x="4753080" y="3645000"/>
              <a:ext cx="3142440" cy="1296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95520" y="4292640"/>
              <a:ext cx="284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80280" y="4076640"/>
              <a:ext cx="963360" cy="360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文件夹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限列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TF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权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or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内置管理员组，对所有子文件夹和文件都具有完全控制权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此账户是代表操作系统本身，默认权限是完全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此组代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上所有的用户，默认权限是读取和运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特殊权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89480" y="1341360"/>
            <a:ext cx="3495600" cy="44388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4643280" y="1989000"/>
            <a:ext cx="4427640" cy="863640"/>
            <a:chOff x="4643280" y="1989000"/>
            <a:chExt cx="4427640" cy="863640"/>
          </a:xfrm>
        </p:grpSpPr>
        <p:sp>
          <p:nvSpPr>
            <p:cNvPr id="122" name=""/>
            <p:cNvSpPr/>
            <p:nvPr/>
          </p:nvSpPr>
          <p:spPr>
            <a:xfrm>
              <a:off x="4643280" y="1989000"/>
              <a:ext cx="3168720" cy="863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12000" y="2420280"/>
              <a:ext cx="287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99280" y="2276280"/>
              <a:ext cx="971640" cy="239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用户列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9:23:44Z</dcterms:created>
  <dc:creator>Bill Wang</dc:creator>
  <dc:description/>
  <dc:language>en-US</dc:language>
  <cp:lastModifiedBy>work</cp:lastModifiedBy>
  <dcterms:modified xsi:type="dcterms:W3CDTF">2004-03-24T05:00:29Z</dcterms:modified>
  <cp:revision>137</cp:revision>
  <dc:subject/>
  <dc:title>第八章 配置Windows网络访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0927478</vt:r8>
  </property>
  <property fmtid="{D5CDD505-2E9C-101B-9397-08002B2CF9AE}" pid="3" name="_AuthorEmail">
    <vt:lpwstr>dongtao.gu@jb-aptech.com.cn</vt:lpwstr>
  </property>
  <property fmtid="{D5CDD505-2E9C-101B-9397-08002B2CF9AE}" pid="4" name="_AuthorEmailDisplayName">
    <vt:lpwstr>gudongtao(古东涛)</vt:lpwstr>
  </property>
  <property fmtid="{D5CDD505-2E9C-101B-9397-08002B2CF9AE}" pid="5" name="_EmailSubject">
    <vt:lpwstr>WIN2003一阶段第八章PPT第一次修改建议</vt:lpwstr>
  </property>
  <property fmtid="{D5CDD505-2E9C-101B-9397-08002B2CF9AE}" pid="6" name="_ReviewingToolsShownOnce">
    <vt:lpwstr/>
  </property>
</Properties>
</file>