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1AD-8CCF-4B2A-90CC-E52FB15D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585-1907-4F8F-8664-EBD5A298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2A972-0AB5-4965-8A80-869A0A34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36E77-9EAA-4873-9DF3-3B84A91B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53C7B-7670-48E7-9360-A7CF1032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CAAD7-B960-4FEA-A020-E73E9D51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E8D7E-98DA-479A-8977-C7828292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604CD-4636-43A0-BD8E-DD752532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90024-62AB-4DE2-AAD0-E56A60CE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162F9-BCA6-4B0C-BD12-62686B0F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2A343-56E2-40F2-930D-3972F778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89F7D-232A-4AFD-A7C5-F475AB45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1CD-A6E6-4A35-9D1A-F194A568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52878-2D70-4EB9-AB20-C33D16D1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18A27-BE1B-40DD-8BC1-19A118F6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757B9-1F32-4BB3-885E-9BD8ACDD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C649B-1B0E-460A-BE5D-85B7A6A8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3C1AD-83D5-42E2-8425-874E3CEE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DF37E-808D-4B07-8023-A47E50A3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8A496-E5D1-4CD0-A931-E521BE60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A845D-9CE1-4A1D-B823-6D7E66FC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4DE1A-1A9B-4E2D-8959-57B37B98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67FD7-00FF-4329-A2D7-22F186E7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3753-F783-491C-BB65-03BE639F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BF688-7AA1-46C4-AFF2-B84143A7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4C6E2-B743-4411-850F-AF406D42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6B3BA-F198-4815-9BD0-8492B61F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A8EEF-E9B8-46C7-85FC-E2D44215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87CDD-B1C9-4628-BA5B-44DDA248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C2AF0-C5DD-454F-BF23-086712C0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382A8-B1D7-44DB-B5A9-B118BD1D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C21FE-C636-4E01-AB6E-8B058F5C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36A96-5E2D-45FB-8DB9-A80FCFE8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279B0-DE76-43F1-89BF-14BCAAD6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77DD-EE0A-4794-955B-3A6042BF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1A8D7-ED34-4B9B-B6AB-1BD12AFD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A0F14-1CB0-4EA4-945D-E663FCB3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6C249-97CD-4875-B886-0E7B7A6B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740C0-1D6D-495D-8C09-66B3847D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C087C-5AB0-4D72-94AD-E8872675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8F57D-7AAA-45E1-A96E-6AD63F4D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A8623-9884-4371-BCA3-E16C4E08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1F513-6B91-4BE4-A743-FFD0F6B0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8E91A-F1A9-4027-A19F-A0023DD6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90877-EFA7-46EC-886C-E42370C9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F3E8-71B8-4C54-BBE3-519EA850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7A555-FAB0-48E4-B73F-ECF0C2C5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47155-EF6C-402F-84FD-80C55A8D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85824-890B-48B9-BA89-89903B78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CCD62-E162-4B30-BDD6-1C129589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F7DEB-C011-4B8B-8750-2408AF7D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737F-0DF8-4121-B0DB-4C0B9219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5E91-BBEA-406A-A2C3-87113FCC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0A0B-D41D-4098-BA46-383DAD53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FD80-28D6-4CAE-8BE3-BF3C8528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FF85-8612-4752-A5A6-C08FBCE2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D049-0052-4AEB-8840-6C65D0BC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DA19-0E08-4E8F-9499-2D1DEA1D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1E9B-AE63-4D43-AAE0-3E556C42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F907-8777-4A7F-B9C7-5940EAE5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0A24-6394-41B3-A57D-F6B7BB11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1FD8-D329-4794-AB82-B2022310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2FD78-1C81-46F1-A7FD-3A78FEE8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66BF5-15B1-426C-8875-A5E1D765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297FD-A2C0-46A5-9ED6-EA7D69A2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79047-01C5-4AF6-9EAE-363CB204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C6EE1-DC95-4655-B921-5EF8F16F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0A9-9670-4776-9C43-79EB20B5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4D149-623A-4C48-9AED-DCAB5ABF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7A6D9-D3AB-4DA6-A392-303EC17F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CC888-B83D-4591-AA12-B50D4C4E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726C9-9037-4EC5-B5E8-1407B911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4F11D-E0D2-4D35-B010-36F5A069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CF02D-D949-4FB4-91E5-DBA8E704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B4113-6F20-462F-89F9-DEA57497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53CC5-DD50-4C80-A6B2-A5335608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C8612-3E26-4356-84AE-7B5C9831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31777-3B2D-4D3C-ADCE-6460FBAE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424-64AB-4EF4-9A1B-C94BB195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58316-CD26-45C8-A547-27D17181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70460-AE29-41D3-99B9-05E53102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B4778-6D82-4C84-B445-FA87519E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5B9B2-08B5-40C3-AEFF-E59DF32F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964BC-D25B-4BE6-BAE7-A1FBB699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F583E-8CB9-4A79-A928-3D6995D9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52118-947D-4D8D-8709-CBBCCA7F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B7A17-23DB-418E-A3C4-3289F206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68122-8CCC-4B68-BFED-68E0F6C4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172D5-73E6-4D64-8293-EA98413A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F7A-AA73-4BDA-9AE1-6D028FB2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8C887-35F1-4A76-9041-568AF22E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A371C-77F5-4473-8FEF-9214CE27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A7A55-9695-42F2-8F84-13760675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32BE0-FB14-48C0-AD5D-56614EC2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522EC-E356-433B-8CD1-EA5CC6A9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BAAA0-25C9-4467-8775-75DD271C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0A9E7-898E-4362-A54F-DB545A1D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C07CC-5DB0-4AAD-8B9C-2A328EB3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AD80D-2F3E-4F66-87E4-BC0B076C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9B409-18C1-4DCE-A8C5-2E73AD86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A93-21F7-495A-9AAA-EDDBB216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F430A-3839-44DF-96F6-DAEB794F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82130-21F9-46A6-95BA-5477AC7A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D3505-F250-4C8D-A5BD-CBDCFE3F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DB41B-D80E-4221-B525-EBBFA523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EB594-610B-4CD4-B386-9A926F97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9F066-A968-4F73-AA74-68CECD71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63B2B-3C74-4D8E-B06B-D6003D26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51A05-72A6-47B8-9F53-7DB23B6F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8CFAE-E7E6-4509-A9FD-B6647DA5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1814B-0E7B-4CBC-97D8-0F7B5CF9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27B-E092-434C-BDCA-24000279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04214-8EEE-4414-88EE-872CD5A0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8904E-2CAD-472B-A9FC-9CF4F5AC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3E37B-CEF8-4CCC-8ED4-A015C1E6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7D2E1-3678-41FE-B92B-7BE7C3AC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E74C2-2248-4046-8ED3-CF0C028C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FE897-19CF-470E-AE37-7B5D6646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FB310-2C05-4163-B00B-FB77F1AE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579E3-5538-4692-AEB7-789C6DA3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643E3-E2D2-41C0-85D0-D992250E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0AC3B-3377-495A-A828-876140C4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946-0B45-4E83-AC42-E1CF9450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76355-3F03-4F37-8048-E7104125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C5A0C-D543-4A94-9509-2461BE5C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C9203-9E2C-4974-941D-7788AC37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23985-9E0F-402C-A5F2-B30E51F2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9A85F-DEBD-4A72-BE9B-804B9B61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07631-8332-43F6-92C4-F42FD198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D81AC-7E2C-496B-9BFD-F0E34407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F4609-B73D-45B7-A15A-620176D8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A23E7-DAD8-470F-BC6E-1396434D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B63F4-648D-466A-9C57-D3A98CBA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07A-1AC8-4269-A7DB-68D785E6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8E425-0C62-43CF-9DA2-9BDF177D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5E749-09A4-4DD2-9A92-B09E727D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CE355-3C0A-48F1-AC90-A47B6C4C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BA8B9-4AA6-4A9D-8AB0-F35320F5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FC781-8043-41EE-8F8C-35134BED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B22D7-9076-4A4C-8541-3ABC6B5B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B2495-BBDB-43E1-AFBF-4B783153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3134A-FB20-4013-A922-D3A51E4D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CB6E7-BBE1-49E7-8A6D-A186F16B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A7367-57FA-40E5-B151-1475D576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Verdana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Verdana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7DF6-7148-4693-A200-67BD440DDDDC}" type="slidenum">
              <a:rPr b="0" lang="zh-CN" sz="1200" spc="-1" strike="noStrike">
                <a:solidFill>
                  <a:srgbClr val="898989"/>
                </a:solidFill>
                <a:latin typeface="Verdana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72C5-F7BB-4034-B28C-FF750BD3BAC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9784-4550-4933-867A-8117F73AEB9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BCD0-6C5E-4935-96F2-1DF2F192EA2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38DB-A7BD-4ADC-ACFB-59B41D1354C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7C74-13F3-4582-8B90-2023982AAD0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AB45-1A98-4586-A7B5-6E5FA6BBAE1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D5E9-36FC-4DE2-BF82-E703C1AAADD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ED60-9ABE-49A5-B9DB-2FBB69BC113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EF6D-CCDE-4F8A-B20C-F404BD2728A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FEB1-A2DC-4A4A-899E-83FD8BEE3CA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30F4-4F12-4CF4-A7C8-2E691BF2388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CDCD-93C8-4302-A567-EFAEF3A2500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28CA-3D3B-4DA4-8BD6-E251CE61C82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A641-8DC9-4B96-BE50-34D846DAE31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DE64-D59A-4696-BEB0-5A284A7C507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215C-5109-4564-9854-A0347E8D569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04F2-2A3B-43AF-BA02-A10B33E699F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C51C-7420-434A-B434-7CFD631041A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2438-FDFF-4DA3-87BE-16BAE9F5B18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8709-85E9-4B19-AD8A-87E08F24D01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2716-2173-406D-9330-226291D3459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17F3-4321-4034-9693-5EE9A383B26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梯形 6"/>
          <p:cNvSpPr/>
          <p:nvPr/>
        </p:nvSpPr>
        <p:spPr>
          <a:xfrm flipH="1" rot="16200000">
            <a:off x="4231080" y="3519360"/>
            <a:ext cx="869760" cy="530280"/>
          </a:xfrm>
          <a:prstGeom prst="pie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矩形 3"/>
          <p:cNvSpPr/>
          <p:nvPr/>
        </p:nvSpPr>
        <p:spPr>
          <a:xfrm>
            <a:off x="4572000" y="6480"/>
            <a:ext cx="4572000" cy="514332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5"/>
          <p:cNvSpPr/>
          <p:nvPr/>
        </p:nvSpPr>
        <p:spPr>
          <a:xfrm>
            <a:off x="4572000" y="201924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风满楼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5" name="组合 14"/>
          <p:cNvGrpSpPr/>
          <p:nvPr/>
        </p:nvGrpSpPr>
        <p:grpSpPr>
          <a:xfrm>
            <a:off x="4400640" y="3181320"/>
            <a:ext cx="4743360" cy="793800"/>
            <a:chOff x="4400640" y="3181320"/>
            <a:chExt cx="4743360" cy="793800"/>
          </a:xfrm>
        </p:grpSpPr>
        <p:sp>
          <p:nvSpPr>
            <p:cNvPr id="496" name="矩形 4"/>
            <p:cNvSpPr/>
            <p:nvPr/>
          </p:nvSpPr>
          <p:spPr>
            <a:xfrm>
              <a:off x="4400640" y="3181320"/>
              <a:ext cx="4743360" cy="793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7" name="TextBox 8"/>
            <p:cNvSpPr/>
            <p:nvPr/>
          </p:nvSpPr>
          <p:spPr>
            <a:xfrm>
              <a:off x="4486320" y="3348000"/>
              <a:ext cx="465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15c60"/>
                  </a:solidFill>
                  <a:latin typeface="微软雅黑"/>
                  <a:ea typeface="微软雅黑"/>
                </a:rPr>
                <a:t>求职意向</a:t>
              </a:r>
              <a:r>
                <a:rPr b="1" lang="en-US" sz="2400" spc="-1" strike="noStrike">
                  <a:solidFill>
                    <a:srgbClr val="615c60"/>
                  </a:solidFill>
                  <a:latin typeface="微软雅黑"/>
                  <a:ea typeface="微软雅黑"/>
                </a:rPr>
                <a:t>:XX</a:t>
              </a:r>
              <a:r>
                <a:rPr b="1" lang="zh-CN" sz="2400" spc="-1" strike="noStrike">
                  <a:solidFill>
                    <a:srgbClr val="615c60"/>
                  </a:solidFill>
                  <a:latin typeface="微软雅黑"/>
                  <a:ea typeface="微软雅黑"/>
                </a:rPr>
                <a:t>公司</a:t>
              </a:r>
              <a:r>
                <a:rPr b="1" lang="en-US" sz="2400" spc="-1" strike="noStrike">
                  <a:solidFill>
                    <a:srgbClr val="615c60"/>
                  </a:solidFill>
                  <a:latin typeface="微软雅黑"/>
                  <a:ea typeface="微软雅黑"/>
                </a:rPr>
                <a:t>XX</a:t>
              </a:r>
              <a:r>
                <a:rPr b="1" lang="zh-CN" sz="2400" spc="-1" strike="noStrike">
                  <a:solidFill>
                    <a:srgbClr val="615c60"/>
                  </a:solidFill>
                  <a:latin typeface="微软雅黑"/>
                  <a:ea typeface="微软雅黑"/>
                </a:rPr>
                <a:t>岗位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8" name="TextBox 9"/>
          <p:cNvSpPr/>
          <p:nvPr/>
        </p:nvSpPr>
        <p:spPr>
          <a:xfrm>
            <a:off x="4572000" y="26478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Edward Fe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9" name="椭圆 10"/>
          <p:cNvGrpSpPr/>
          <p:nvPr/>
        </p:nvGrpSpPr>
        <p:grpSpPr>
          <a:xfrm>
            <a:off x="5943600" y="396720"/>
            <a:ext cx="1657440" cy="1657440"/>
            <a:chOff x="5943600" y="396720"/>
            <a:chExt cx="1657440" cy="1657440"/>
          </a:xfrm>
        </p:grpSpPr>
        <p:pic>
          <p:nvPicPr>
            <p:cNvPr id="500" name="椭圆 10" descr=""/>
            <p:cNvPicPr/>
            <p:nvPr/>
          </p:nvPicPr>
          <p:blipFill>
            <a:blip r:embed="rId1"/>
            <a:stretch/>
          </p:blipFill>
          <p:spPr>
            <a:xfrm>
              <a:off x="5943600" y="396720"/>
              <a:ext cx="165744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6189840" y="641160"/>
              <a:ext cx="116496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02" name="组合 83"/>
          <p:cNvGrpSpPr/>
          <p:nvPr/>
        </p:nvGrpSpPr>
        <p:grpSpPr>
          <a:xfrm>
            <a:off x="631800" y="1258920"/>
            <a:ext cx="3854520" cy="2625840"/>
            <a:chOff x="631800" y="1258920"/>
            <a:chExt cx="3854520" cy="2625840"/>
          </a:xfrm>
        </p:grpSpPr>
        <p:grpSp>
          <p:nvGrpSpPr>
            <p:cNvPr id="503" name="组合 48"/>
            <p:cNvGrpSpPr/>
            <p:nvPr/>
          </p:nvGrpSpPr>
          <p:grpSpPr>
            <a:xfrm>
              <a:off x="631800" y="2296800"/>
              <a:ext cx="576360" cy="576720"/>
              <a:chOff x="631800" y="2296800"/>
              <a:chExt cx="576360" cy="576720"/>
            </a:xfrm>
          </p:grpSpPr>
          <p:sp>
            <p:nvSpPr>
              <p:cNvPr id="504" name="矩形 52"/>
              <p:cNvSpPr/>
              <p:nvPr/>
            </p:nvSpPr>
            <p:spPr>
              <a:xfrm>
                <a:off x="631800" y="2296800"/>
                <a:ext cx="576360" cy="576720"/>
              </a:xfrm>
              <a:prstGeom prst="rect">
                <a:avLst/>
              </a:prstGeom>
              <a:solidFill>
                <a:srgbClr val="f36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5" name="Freeform 122"/>
              <p:cNvSpPr/>
              <p:nvPr/>
            </p:nvSpPr>
            <p:spPr>
              <a:xfrm>
                <a:off x="676080" y="2455200"/>
                <a:ext cx="487440" cy="303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06" name="组合 66"/>
            <p:cNvGrpSpPr/>
            <p:nvPr/>
          </p:nvGrpSpPr>
          <p:grpSpPr>
            <a:xfrm>
              <a:off x="631800" y="3267720"/>
              <a:ext cx="576360" cy="576720"/>
              <a:chOff x="631800" y="3267720"/>
              <a:chExt cx="576360" cy="576720"/>
            </a:xfrm>
          </p:grpSpPr>
          <p:sp>
            <p:nvSpPr>
              <p:cNvPr id="507" name="矩形 59"/>
              <p:cNvSpPr/>
              <p:nvPr/>
            </p:nvSpPr>
            <p:spPr>
              <a:xfrm>
                <a:off x="631800" y="3267720"/>
                <a:ext cx="576360" cy="576720"/>
              </a:xfrm>
              <a:prstGeom prst="rect">
                <a:avLst/>
              </a:prstGeom>
              <a:solidFill>
                <a:srgbClr val="f360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8" name="Freeform 12"/>
              <p:cNvSpPr/>
              <p:nvPr/>
            </p:nvSpPr>
            <p:spPr>
              <a:xfrm>
                <a:off x="704160" y="3411000"/>
                <a:ext cx="432000" cy="28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09" name="组合 74"/>
            <p:cNvGrpSpPr/>
            <p:nvPr/>
          </p:nvGrpSpPr>
          <p:grpSpPr>
            <a:xfrm>
              <a:off x="631800" y="1258920"/>
              <a:ext cx="3854520" cy="577080"/>
              <a:chOff x="631800" y="1258920"/>
              <a:chExt cx="3854520" cy="577080"/>
            </a:xfrm>
          </p:grpSpPr>
          <p:grpSp>
            <p:nvGrpSpPr>
              <p:cNvPr id="510" name="组合 47"/>
              <p:cNvGrpSpPr/>
              <p:nvPr/>
            </p:nvGrpSpPr>
            <p:grpSpPr>
              <a:xfrm>
                <a:off x="631800" y="1259280"/>
                <a:ext cx="576360" cy="576720"/>
                <a:chOff x="631800" y="1259280"/>
                <a:chExt cx="576360" cy="576720"/>
              </a:xfrm>
            </p:grpSpPr>
            <p:sp>
              <p:nvSpPr>
                <p:cNvPr id="511" name="矩形 46"/>
                <p:cNvSpPr/>
                <p:nvPr/>
              </p:nvSpPr>
              <p:spPr>
                <a:xfrm>
                  <a:off x="631800" y="1259280"/>
                  <a:ext cx="576360" cy="576720"/>
                </a:xfrm>
                <a:prstGeom prst="rect">
                  <a:avLst/>
                </a:prstGeom>
                <a:solidFill>
                  <a:srgbClr val="f360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pic>
              <p:nvPicPr>
                <p:cNvPr id="512" name="组合 2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94800" y="1341360"/>
                  <a:ext cx="451440" cy="413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13" name="组合 70"/>
              <p:cNvGrpSpPr/>
              <p:nvPr/>
            </p:nvGrpSpPr>
            <p:grpSpPr>
              <a:xfrm>
                <a:off x="1259640" y="1258920"/>
                <a:ext cx="3226680" cy="576720"/>
                <a:chOff x="1259640" y="1258920"/>
                <a:chExt cx="3226680" cy="576720"/>
              </a:xfrm>
            </p:grpSpPr>
            <p:sp>
              <p:nvSpPr>
                <p:cNvPr id="514" name="TextBox 28"/>
                <p:cNvSpPr/>
                <p:nvPr/>
              </p:nvSpPr>
              <p:spPr>
                <a:xfrm>
                  <a:off x="1259640" y="1258920"/>
                  <a:ext cx="2736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f2f2f2"/>
                      </a:solidFill>
                      <a:latin typeface="Verdana"/>
                      <a:ea typeface="微软雅黑"/>
                    </a:rPr>
                    <a:t>现住址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15" name="TextBox 61"/>
                <p:cNvSpPr/>
                <p:nvPr/>
              </p:nvSpPr>
              <p:spPr>
                <a:xfrm>
                  <a:off x="1259640" y="1528560"/>
                  <a:ext cx="322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f2f2f2"/>
                      </a:solidFill>
                      <a:latin typeface="Verdana"/>
                      <a:ea typeface="微软雅黑"/>
                    </a:rPr>
                    <a:t>杭州市西湖区西湖街道</a:t>
                  </a:r>
                  <a:r>
                    <a:rPr b="0" lang="en-US" sz="1400" spc="-1" strike="noStrike">
                      <a:solidFill>
                        <a:srgbClr val="f2f2f2"/>
                      </a:solidFill>
                      <a:latin typeface="Verdana"/>
                      <a:ea typeface="微软雅黑"/>
                    </a:rPr>
                    <a:t>18</a:t>
                  </a:r>
                  <a:r>
                    <a:rPr b="0" lang="zh-CN" sz="1400" spc="-1" strike="noStrike">
                      <a:solidFill>
                        <a:srgbClr val="f2f2f2"/>
                      </a:solidFill>
                      <a:latin typeface="Verdana"/>
                      <a:ea typeface="微软雅黑"/>
                    </a:rPr>
                    <a:t>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16" name="组合 75"/>
            <p:cNvGrpSpPr/>
            <p:nvPr/>
          </p:nvGrpSpPr>
          <p:grpSpPr>
            <a:xfrm>
              <a:off x="1259640" y="2296440"/>
              <a:ext cx="3226680" cy="576000"/>
              <a:chOff x="1259640" y="2296440"/>
              <a:chExt cx="3226680" cy="576000"/>
            </a:xfrm>
          </p:grpSpPr>
          <p:sp>
            <p:nvSpPr>
              <p:cNvPr id="517" name="TextBox 76"/>
              <p:cNvSpPr/>
              <p:nvPr/>
            </p:nvSpPr>
            <p:spPr>
              <a:xfrm>
                <a:off x="1259640" y="2296440"/>
                <a:ext cx="273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2f2f2"/>
                    </a:solidFill>
                    <a:latin typeface="Verdana"/>
                    <a:ea typeface="微软雅黑"/>
                  </a:rPr>
                  <a:t>联系电话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8" name="TextBox 77"/>
              <p:cNvSpPr/>
              <p:nvPr/>
            </p:nvSpPr>
            <p:spPr>
              <a:xfrm>
                <a:off x="1259640" y="2565360"/>
                <a:ext cx="322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2f2f2"/>
                    </a:solidFill>
                    <a:latin typeface="Verdana"/>
                    <a:ea typeface="微软雅黑"/>
                  </a:rPr>
                  <a:t>13688886666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9" name="组合 78"/>
            <p:cNvGrpSpPr/>
            <p:nvPr/>
          </p:nvGrpSpPr>
          <p:grpSpPr>
            <a:xfrm>
              <a:off x="1259640" y="3267360"/>
              <a:ext cx="3226680" cy="576720"/>
              <a:chOff x="1259640" y="3267360"/>
              <a:chExt cx="3226680" cy="576720"/>
            </a:xfrm>
          </p:grpSpPr>
          <p:sp>
            <p:nvSpPr>
              <p:cNvPr id="520" name="TextBox 79"/>
              <p:cNvSpPr/>
              <p:nvPr/>
            </p:nvSpPr>
            <p:spPr>
              <a:xfrm>
                <a:off x="1259640" y="3267360"/>
                <a:ext cx="2736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2f2f2"/>
                    </a:solidFill>
                    <a:latin typeface="Verdana"/>
                    <a:ea typeface="微软雅黑"/>
                  </a:rPr>
                  <a:t>邮箱地址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1" name="TextBox 80"/>
              <p:cNvSpPr/>
              <p:nvPr/>
            </p:nvSpPr>
            <p:spPr>
              <a:xfrm>
                <a:off x="1259640" y="3537000"/>
                <a:ext cx="322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2f2f2"/>
                    </a:solidFill>
                    <a:latin typeface="Arial Narrow"/>
                    <a:ea typeface="微软雅黑"/>
                  </a:rPr>
                  <a:t>1272481@qq.com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22" name="直接连接符 72"/>
            <p:cNvSpPr/>
            <p:nvPr/>
          </p:nvSpPr>
          <p:spPr>
            <a:xfrm>
              <a:off x="631800" y="1892160"/>
              <a:ext cx="3464280" cy="0"/>
            </a:xfrm>
            <a:prstGeom prst="line">
              <a:avLst/>
            </a:prstGeom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3" name="直接连接符 84"/>
            <p:cNvSpPr/>
            <p:nvPr/>
          </p:nvSpPr>
          <p:spPr>
            <a:xfrm>
              <a:off x="631800" y="2922840"/>
              <a:ext cx="3464280" cy="0"/>
            </a:xfrm>
            <a:prstGeom prst="line">
              <a:avLst/>
            </a:prstGeom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4" name="直接连接符 85"/>
            <p:cNvSpPr/>
            <p:nvPr/>
          </p:nvSpPr>
          <p:spPr>
            <a:xfrm>
              <a:off x="631800" y="3884760"/>
              <a:ext cx="3464280" cy="0"/>
            </a:xfrm>
            <a:prstGeom prst="line">
              <a:avLst/>
            </a:prstGeom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25" name="TextBox 89"/>
          <p:cNvSpPr/>
          <p:nvPr/>
        </p:nvSpPr>
        <p:spPr>
          <a:xfrm>
            <a:off x="3530520" y="1303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543a"/>
                </a:solidFill>
                <a:latin typeface="Verdana"/>
                <a:ea typeface="微软雅黑"/>
              </a:rPr>
              <a:t>Res</a:t>
            </a:r>
            <a:r>
              <a:rPr b="1" lang="en-US" sz="2800" spc="-1" strike="noStrike">
                <a:solidFill>
                  <a:srgbClr val="f2f2f2"/>
                </a:solidFill>
                <a:latin typeface="Verdana"/>
                <a:ea typeface="微软雅黑"/>
              </a:rPr>
              <a:t>u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6" name="直接连接符 91" descr=""/>
          <p:cNvPicPr/>
          <p:nvPr/>
        </p:nvPicPr>
        <p:blipFill>
          <a:blip r:embed="rId3"/>
          <a:stretch/>
        </p:blipFill>
        <p:spPr>
          <a:xfrm>
            <a:off x="3790800" y="566640"/>
            <a:ext cx="1665360" cy="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直接连接符 51"/>
          <p:cNvSpPr/>
          <p:nvPr/>
        </p:nvSpPr>
        <p:spPr>
          <a:xfrm flipV="1">
            <a:off x="668160" y="950400"/>
            <a:ext cx="3472200" cy="180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Box 64"/>
          <p:cNvSpPr/>
          <p:nvPr/>
        </p:nvSpPr>
        <p:spPr>
          <a:xfrm>
            <a:off x="790560" y="137808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姓名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</a:t>
            </a: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风满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Box 65"/>
          <p:cNvSpPr/>
          <p:nvPr/>
        </p:nvSpPr>
        <p:spPr>
          <a:xfrm>
            <a:off x="790560" y="1801800"/>
            <a:ext cx="28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出生年月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1992-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TextBox 70"/>
          <p:cNvSpPr/>
          <p:nvPr/>
        </p:nvSpPr>
        <p:spPr>
          <a:xfrm>
            <a:off x="790560" y="222552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籍贯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</a:t>
            </a: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浙江杭州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Box 71"/>
          <p:cNvSpPr/>
          <p:nvPr/>
        </p:nvSpPr>
        <p:spPr>
          <a:xfrm>
            <a:off x="6283440" y="1409760"/>
            <a:ext cx="217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XXXXXX</a:t>
            </a:r>
            <a:r>
              <a:rPr b="0" lang="zh-CN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大学（</a:t>
            </a:r>
            <a:r>
              <a:rPr b="0" lang="en-US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211/985</a:t>
            </a:r>
            <a:r>
              <a:rPr b="0" lang="zh-CN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院校）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TextBox 73"/>
          <p:cNvSpPr/>
          <p:nvPr/>
        </p:nvSpPr>
        <p:spPr>
          <a:xfrm>
            <a:off x="790560" y="3073320"/>
            <a:ext cx="24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政治面貌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</a:t>
            </a: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中共党员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Box 74"/>
          <p:cNvSpPr/>
          <p:nvPr/>
        </p:nvSpPr>
        <p:spPr>
          <a:xfrm>
            <a:off x="790560" y="2649600"/>
            <a:ext cx="26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毕业时间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2015-0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TextBox 75"/>
          <p:cNvSpPr/>
          <p:nvPr/>
        </p:nvSpPr>
        <p:spPr>
          <a:xfrm>
            <a:off x="4840200" y="144144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2012-</a:t>
            </a: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至今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TextBox 76"/>
          <p:cNvSpPr/>
          <p:nvPr/>
        </p:nvSpPr>
        <p:spPr>
          <a:xfrm>
            <a:off x="790560" y="3497400"/>
            <a:ext cx="378144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职业目标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成为业内最优秀的</a:t>
            </a: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XXX</a:t>
            </a:r>
            <a:r>
              <a:rPr b="0" lang="zh-CN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专业人士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36" name="组合 4099"/>
          <p:cNvGrpSpPr/>
          <p:nvPr/>
        </p:nvGrpSpPr>
        <p:grpSpPr>
          <a:xfrm>
            <a:off x="642960" y="557280"/>
            <a:ext cx="476280" cy="417600"/>
            <a:chOff x="642960" y="557280"/>
            <a:chExt cx="476280" cy="417600"/>
          </a:xfrm>
        </p:grpSpPr>
        <p:sp>
          <p:nvSpPr>
            <p:cNvPr id="537" name="矩形 79"/>
            <p:cNvSpPr/>
            <p:nvPr/>
          </p:nvSpPr>
          <p:spPr>
            <a:xfrm>
              <a:off x="642960" y="557280"/>
              <a:ext cx="476280" cy="417600"/>
            </a:xfrm>
            <a:prstGeom prst="rect">
              <a:avLst/>
            </a:prstGeom>
            <a:solidFill>
              <a:srgbClr val="f360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8" name="Freeform 10"/>
            <p:cNvSpPr/>
            <p:nvPr/>
          </p:nvSpPr>
          <p:spPr>
            <a:xfrm>
              <a:off x="766800" y="601560"/>
              <a:ext cx="228600" cy="3286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9" name="TextBox 81"/>
          <p:cNvSpPr/>
          <p:nvPr/>
        </p:nvSpPr>
        <p:spPr>
          <a:xfrm>
            <a:off x="1112760" y="5810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个人信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直接连接符 82"/>
          <p:cNvSpPr/>
          <p:nvPr/>
        </p:nvSpPr>
        <p:spPr>
          <a:xfrm flipV="1">
            <a:off x="4989600" y="950400"/>
            <a:ext cx="3470040" cy="180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矩形 84"/>
          <p:cNvSpPr/>
          <p:nvPr/>
        </p:nvSpPr>
        <p:spPr>
          <a:xfrm>
            <a:off x="4962600" y="557280"/>
            <a:ext cx="477720" cy="41760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86"/>
          <p:cNvSpPr/>
          <p:nvPr/>
        </p:nvSpPr>
        <p:spPr>
          <a:xfrm>
            <a:off x="5432400" y="5810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教育情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87"/>
          <p:cNvSpPr/>
          <p:nvPr/>
        </p:nvSpPr>
        <p:spPr>
          <a:xfrm>
            <a:off x="6283440" y="1935000"/>
            <a:ext cx="217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Verdana"/>
                <a:ea typeface="微软雅黑"/>
              </a:rPr>
              <a:t>-</a:t>
            </a:r>
            <a:r>
              <a:rPr b="0" lang="zh-CN" sz="1200" spc="-1" strike="noStrike">
                <a:solidFill>
                  <a:srgbClr val="f2f2f2"/>
                </a:solidFill>
                <a:latin typeface="Verdana"/>
                <a:ea typeface="微软雅黑"/>
              </a:rPr>
              <a:t>主修专业</a:t>
            </a:r>
            <a:r>
              <a:rPr b="0" lang="en-US" sz="1200" spc="-1" strike="noStrike">
                <a:solidFill>
                  <a:srgbClr val="f2f2f2"/>
                </a:solidFill>
                <a:latin typeface="Verdana"/>
                <a:ea typeface="微软雅黑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直接连接符 23"/>
          <p:cNvSpPr/>
          <p:nvPr/>
        </p:nvSpPr>
        <p:spPr>
          <a:xfrm flipV="1">
            <a:off x="4572000" y="1163520"/>
            <a:ext cx="0" cy="3424320"/>
          </a:xfrm>
          <a:prstGeom prst="line">
            <a:avLst/>
          </a:prstGeom>
          <a:ln w="19080">
            <a:solidFill>
              <a:srgbClr val="f2f2f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88"/>
          <p:cNvSpPr/>
          <p:nvPr/>
        </p:nvSpPr>
        <p:spPr>
          <a:xfrm>
            <a:off x="6283440" y="2898720"/>
            <a:ext cx="217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XXXXXX</a:t>
            </a:r>
            <a:r>
              <a:rPr b="0" lang="zh-CN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学校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89"/>
          <p:cNvSpPr/>
          <p:nvPr/>
        </p:nvSpPr>
        <p:spPr>
          <a:xfrm>
            <a:off x="4840200" y="288144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Verdana"/>
                <a:ea typeface="微软雅黑"/>
              </a:rPr>
              <a:t>2009-20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47" name="组合 4100"/>
          <p:cNvGrpSpPr/>
          <p:nvPr/>
        </p:nvGrpSpPr>
        <p:grpSpPr>
          <a:xfrm>
            <a:off x="5060880" y="814320"/>
            <a:ext cx="303120" cy="98640"/>
            <a:chOff x="5060880" y="814320"/>
            <a:chExt cx="303120" cy="98640"/>
          </a:xfrm>
        </p:grpSpPr>
        <p:sp>
          <p:nvSpPr>
            <p:cNvPr id="548" name="Freeform 8"/>
            <p:cNvSpPr/>
            <p:nvPr/>
          </p:nvSpPr>
          <p:spPr>
            <a:xfrm>
              <a:off x="5060880" y="814320"/>
              <a:ext cx="293760" cy="892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9" name="Freeform 9"/>
            <p:cNvSpPr/>
            <p:nvPr/>
          </p:nvSpPr>
          <p:spPr>
            <a:xfrm>
              <a:off x="5065560" y="814320"/>
              <a:ext cx="298440" cy="986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5182920" y="873360"/>
              <a:ext cx="63360" cy="205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5155920" y="873360"/>
              <a:ext cx="63360" cy="237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52" name="组合 103" descr=""/>
          <p:cNvPicPr/>
          <p:nvPr/>
        </p:nvPicPr>
        <p:blipFill>
          <a:blip r:embed="rId1"/>
          <a:stretch/>
        </p:blipFill>
        <p:spPr>
          <a:xfrm>
            <a:off x="5035680" y="615960"/>
            <a:ext cx="334800" cy="304920"/>
          </a:xfrm>
          <a:prstGeom prst="rect">
            <a:avLst/>
          </a:prstGeom>
          <a:ln w="0">
            <a:noFill/>
          </a:ln>
        </p:spPr>
      </p:pic>
      <p:sp>
        <p:nvSpPr>
          <p:cNvPr id="553" name="TextBox 108"/>
          <p:cNvSpPr/>
          <p:nvPr/>
        </p:nvSpPr>
        <p:spPr>
          <a:xfrm>
            <a:off x="6283440" y="2184480"/>
            <a:ext cx="217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Verdana"/>
                <a:ea typeface="微软雅黑"/>
              </a:rPr>
              <a:t>Xxxxxx  xxxxx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TextBox 109"/>
          <p:cNvSpPr/>
          <p:nvPr/>
        </p:nvSpPr>
        <p:spPr>
          <a:xfrm>
            <a:off x="6283440" y="2433600"/>
            <a:ext cx="217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Verdana"/>
                <a:ea typeface="微软雅黑"/>
              </a:rPr>
              <a:t>Xxxxxx  xxxxx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直接连接符 51"/>
          <p:cNvSpPr/>
          <p:nvPr/>
        </p:nvSpPr>
        <p:spPr>
          <a:xfrm>
            <a:off x="668160" y="952560"/>
            <a:ext cx="7863120" cy="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矩形 79"/>
          <p:cNvSpPr/>
          <p:nvPr/>
        </p:nvSpPr>
        <p:spPr>
          <a:xfrm>
            <a:off x="642960" y="557280"/>
            <a:ext cx="476280" cy="41760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TextBox 81"/>
          <p:cNvSpPr/>
          <p:nvPr/>
        </p:nvSpPr>
        <p:spPr>
          <a:xfrm>
            <a:off x="1112760" y="581040"/>
            <a:ext cx="68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社会实践经验（只写与求职目标相关的实践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8" name="组合 7"/>
          <p:cNvGrpSpPr/>
          <p:nvPr/>
        </p:nvGrpSpPr>
        <p:grpSpPr>
          <a:xfrm>
            <a:off x="1077840" y="1176480"/>
            <a:ext cx="6302520" cy="307080"/>
            <a:chOff x="1077840" y="1176480"/>
            <a:chExt cx="6302520" cy="307080"/>
          </a:xfrm>
        </p:grpSpPr>
        <p:sp>
          <p:nvSpPr>
            <p:cNvPr id="559" name="TextBox 32"/>
            <p:cNvSpPr/>
            <p:nvPr/>
          </p:nvSpPr>
          <p:spPr>
            <a:xfrm>
              <a:off x="1077840" y="117648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4.7-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至今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TextBox 33"/>
            <p:cNvSpPr/>
            <p:nvPr/>
          </p:nvSpPr>
          <p:spPr>
            <a:xfrm>
              <a:off x="2843280" y="11764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有限公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TextBox 34"/>
            <p:cNvSpPr/>
            <p:nvPr/>
          </p:nvSpPr>
          <p:spPr>
            <a:xfrm>
              <a:off x="5219640" y="11764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岗位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2" name="TextBox 35"/>
          <p:cNvSpPr/>
          <p:nvPr/>
        </p:nvSpPr>
        <p:spPr>
          <a:xfrm>
            <a:off x="1120680" y="1504800"/>
            <a:ext cx="75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公司简介：诞生于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年，</a:t>
            </a:r>
            <a:r>
              <a:rPr b="0" lang="zh-CN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基于演示设计的一站式在线演示、素材销售、服务交易系统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3" name="组合 6"/>
          <p:cNvGrpSpPr/>
          <p:nvPr/>
        </p:nvGrpSpPr>
        <p:grpSpPr>
          <a:xfrm>
            <a:off x="1084320" y="2176560"/>
            <a:ext cx="7377120" cy="1459800"/>
            <a:chOff x="1084320" y="2176560"/>
            <a:chExt cx="7377120" cy="1459800"/>
          </a:xfrm>
        </p:grpSpPr>
        <p:sp>
          <p:nvSpPr>
            <p:cNvPr id="564" name="TextBox 36"/>
            <p:cNvSpPr/>
            <p:nvPr/>
          </p:nvSpPr>
          <p:spPr>
            <a:xfrm>
              <a:off x="1084320" y="2176560"/>
              <a:ext cx="737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工作职责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TextBox 37"/>
            <p:cNvSpPr/>
            <p:nvPr/>
          </p:nvSpPr>
          <p:spPr>
            <a:xfrm>
              <a:off x="1531800" y="252108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6" name="TextBox 38"/>
            <p:cNvSpPr/>
            <p:nvPr/>
          </p:nvSpPr>
          <p:spPr>
            <a:xfrm>
              <a:off x="1531800" y="289404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TextBox 39"/>
            <p:cNvSpPr/>
            <p:nvPr/>
          </p:nvSpPr>
          <p:spPr>
            <a:xfrm>
              <a:off x="1531800" y="326556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8" name="组合 5"/>
          <p:cNvGrpSpPr/>
          <p:nvPr/>
        </p:nvGrpSpPr>
        <p:grpSpPr>
          <a:xfrm>
            <a:off x="1084320" y="3659040"/>
            <a:ext cx="7377120" cy="1086840"/>
            <a:chOff x="1084320" y="3659040"/>
            <a:chExt cx="7377120" cy="1086840"/>
          </a:xfrm>
        </p:grpSpPr>
        <p:sp>
          <p:nvSpPr>
            <p:cNvPr id="569" name="TextBox 40"/>
            <p:cNvSpPr/>
            <p:nvPr/>
          </p:nvSpPr>
          <p:spPr>
            <a:xfrm>
              <a:off x="1084320" y="3659040"/>
              <a:ext cx="737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工作业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0" name="TextBox 41"/>
            <p:cNvSpPr/>
            <p:nvPr/>
          </p:nvSpPr>
          <p:spPr>
            <a:xfrm>
              <a:off x="1531800" y="400356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1" name="TextBox 42"/>
            <p:cNvSpPr/>
            <p:nvPr/>
          </p:nvSpPr>
          <p:spPr>
            <a:xfrm>
              <a:off x="1531800" y="437508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72" name="AutoShape 4"/>
          <p:cNvSpPr/>
          <p:nvPr/>
        </p:nvSpPr>
        <p:spPr>
          <a:xfrm>
            <a:off x="5970600" y="2162160"/>
            <a:ext cx="342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Freeform 6"/>
          <p:cNvSpPr/>
          <p:nvPr/>
        </p:nvSpPr>
        <p:spPr>
          <a:xfrm>
            <a:off x="709560" y="619200"/>
            <a:ext cx="343080" cy="2937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直接连接符 51"/>
          <p:cNvSpPr/>
          <p:nvPr/>
        </p:nvSpPr>
        <p:spPr>
          <a:xfrm>
            <a:off x="668160" y="952560"/>
            <a:ext cx="7863120" cy="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矩形 79"/>
          <p:cNvSpPr/>
          <p:nvPr/>
        </p:nvSpPr>
        <p:spPr>
          <a:xfrm>
            <a:off x="642960" y="557280"/>
            <a:ext cx="476280" cy="41760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TextBox 81"/>
          <p:cNvSpPr/>
          <p:nvPr/>
        </p:nvSpPr>
        <p:spPr>
          <a:xfrm>
            <a:off x="1112760" y="58104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社会实践经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7" name="组合 7"/>
          <p:cNvGrpSpPr/>
          <p:nvPr/>
        </p:nvGrpSpPr>
        <p:grpSpPr>
          <a:xfrm>
            <a:off x="1077840" y="1176480"/>
            <a:ext cx="6302520" cy="307080"/>
            <a:chOff x="1077840" y="1176480"/>
            <a:chExt cx="6302520" cy="307080"/>
          </a:xfrm>
        </p:grpSpPr>
        <p:sp>
          <p:nvSpPr>
            <p:cNvPr id="578" name="TextBox 32"/>
            <p:cNvSpPr/>
            <p:nvPr/>
          </p:nvSpPr>
          <p:spPr>
            <a:xfrm>
              <a:off x="1077840" y="117648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3.7-2013.9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9" name="TextBox 33"/>
            <p:cNvSpPr/>
            <p:nvPr/>
          </p:nvSpPr>
          <p:spPr>
            <a:xfrm>
              <a:off x="2843280" y="11764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有限公司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0" name="TextBox 34"/>
            <p:cNvSpPr/>
            <p:nvPr/>
          </p:nvSpPr>
          <p:spPr>
            <a:xfrm>
              <a:off x="5219640" y="1176480"/>
              <a:ext cx="21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岗位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1" name="TextBox 35"/>
          <p:cNvSpPr/>
          <p:nvPr/>
        </p:nvSpPr>
        <p:spPr>
          <a:xfrm>
            <a:off x="1120680" y="1504800"/>
            <a:ext cx="755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公司简介：诞生于</a:t>
            </a:r>
            <a:r>
              <a:rPr b="0" lang="en-US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年，</a:t>
            </a:r>
            <a:r>
              <a:rPr b="0" lang="zh-CN" sz="1400" spc="-1" strike="noStrike">
                <a:solidFill>
                  <a:srgbClr val="f2f2f2"/>
                </a:solidFill>
                <a:latin typeface="Verdana"/>
                <a:ea typeface="微软雅黑"/>
              </a:rPr>
              <a:t>基于演示设计的一站式在线演示、素材销售、服务交易系统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82" name="组合 6"/>
          <p:cNvGrpSpPr/>
          <p:nvPr/>
        </p:nvGrpSpPr>
        <p:grpSpPr>
          <a:xfrm>
            <a:off x="1084320" y="2176560"/>
            <a:ext cx="7377120" cy="1459800"/>
            <a:chOff x="1084320" y="2176560"/>
            <a:chExt cx="7377120" cy="1459800"/>
          </a:xfrm>
        </p:grpSpPr>
        <p:sp>
          <p:nvSpPr>
            <p:cNvPr id="583" name="TextBox 36"/>
            <p:cNvSpPr/>
            <p:nvPr/>
          </p:nvSpPr>
          <p:spPr>
            <a:xfrm>
              <a:off x="1084320" y="2176560"/>
              <a:ext cx="737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工作职责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4" name="TextBox 37"/>
            <p:cNvSpPr/>
            <p:nvPr/>
          </p:nvSpPr>
          <p:spPr>
            <a:xfrm>
              <a:off x="1531800" y="252108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5" name="TextBox 38"/>
            <p:cNvSpPr/>
            <p:nvPr/>
          </p:nvSpPr>
          <p:spPr>
            <a:xfrm>
              <a:off x="1531800" y="289404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6" name="TextBox 39"/>
            <p:cNvSpPr/>
            <p:nvPr/>
          </p:nvSpPr>
          <p:spPr>
            <a:xfrm>
              <a:off x="1531800" y="326556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87" name="组合 5"/>
          <p:cNvGrpSpPr/>
          <p:nvPr/>
        </p:nvGrpSpPr>
        <p:grpSpPr>
          <a:xfrm>
            <a:off x="1084320" y="3659040"/>
            <a:ext cx="7377120" cy="1086840"/>
            <a:chOff x="1084320" y="3659040"/>
            <a:chExt cx="7377120" cy="1086840"/>
          </a:xfrm>
        </p:grpSpPr>
        <p:sp>
          <p:nvSpPr>
            <p:cNvPr id="588" name="TextBox 40"/>
            <p:cNvSpPr/>
            <p:nvPr/>
          </p:nvSpPr>
          <p:spPr>
            <a:xfrm>
              <a:off x="1084320" y="3659040"/>
              <a:ext cx="7377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工作业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9" name="TextBox 41"/>
            <p:cNvSpPr/>
            <p:nvPr/>
          </p:nvSpPr>
          <p:spPr>
            <a:xfrm>
              <a:off x="1531800" y="400356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0" name="TextBox 42"/>
            <p:cNvSpPr/>
            <p:nvPr/>
          </p:nvSpPr>
          <p:spPr>
            <a:xfrm>
              <a:off x="1531800" y="4375080"/>
              <a:ext cx="6909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30000"/>
                </a:lnSpc>
                <a:buClr>
                  <a:srgbClr val="f2f2f2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由中国最好的</a:t>
              </a: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设计公司锐普全面运作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91" name="AutoShape 4"/>
          <p:cNvSpPr/>
          <p:nvPr/>
        </p:nvSpPr>
        <p:spPr>
          <a:xfrm>
            <a:off x="5970600" y="2162160"/>
            <a:ext cx="342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Freeform 6"/>
          <p:cNvSpPr/>
          <p:nvPr/>
        </p:nvSpPr>
        <p:spPr>
          <a:xfrm>
            <a:off x="709560" y="619200"/>
            <a:ext cx="343080" cy="2937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直接连接符 51"/>
          <p:cNvSpPr/>
          <p:nvPr/>
        </p:nvSpPr>
        <p:spPr>
          <a:xfrm>
            <a:off x="668160" y="957240"/>
            <a:ext cx="7863120" cy="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矩形 79"/>
          <p:cNvSpPr/>
          <p:nvPr/>
        </p:nvSpPr>
        <p:spPr>
          <a:xfrm>
            <a:off x="642960" y="557280"/>
            <a:ext cx="476280" cy="41760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TextBox 81"/>
          <p:cNvSpPr/>
          <p:nvPr/>
        </p:nvSpPr>
        <p:spPr>
          <a:xfrm>
            <a:off x="1112760" y="58104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曾获荣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6" name="组合 9"/>
          <p:cNvGrpSpPr/>
          <p:nvPr/>
        </p:nvGrpSpPr>
        <p:grpSpPr>
          <a:xfrm>
            <a:off x="1077840" y="1413000"/>
            <a:ext cx="6086520" cy="337320"/>
            <a:chOff x="1077840" y="1413000"/>
            <a:chExt cx="6086520" cy="337320"/>
          </a:xfrm>
        </p:grpSpPr>
        <p:sp>
          <p:nvSpPr>
            <p:cNvPr id="597" name="TextBox 32"/>
            <p:cNvSpPr/>
            <p:nvPr/>
          </p:nvSpPr>
          <p:spPr>
            <a:xfrm>
              <a:off x="1077840" y="142884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2.1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8" name="TextBox 33"/>
            <p:cNvSpPr/>
            <p:nvPr/>
          </p:nvSpPr>
          <p:spPr>
            <a:xfrm>
              <a:off x="2555640" y="1413000"/>
              <a:ext cx="46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获校内</a:t>
              </a: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荣誉（班级内</a:t>
              </a:r>
              <a:r>
                <a:rPr b="1" lang="zh-CN" sz="16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唯一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获此荣誉）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99" name="组合 8"/>
          <p:cNvGrpSpPr/>
          <p:nvPr/>
        </p:nvGrpSpPr>
        <p:grpSpPr>
          <a:xfrm>
            <a:off x="1084320" y="1974960"/>
            <a:ext cx="7446960" cy="337320"/>
            <a:chOff x="1084320" y="1974960"/>
            <a:chExt cx="7446960" cy="337320"/>
          </a:xfrm>
        </p:grpSpPr>
        <p:sp>
          <p:nvSpPr>
            <p:cNvPr id="600" name="TextBox 20"/>
            <p:cNvSpPr/>
            <p:nvPr/>
          </p:nvSpPr>
          <p:spPr>
            <a:xfrm>
              <a:off x="1084320" y="199080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3.0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1" name="TextBox 21"/>
            <p:cNvSpPr/>
            <p:nvPr/>
          </p:nvSpPr>
          <p:spPr>
            <a:xfrm>
              <a:off x="2562120" y="1974960"/>
              <a:ext cx="596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在全省</a:t>
              </a: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竞赛中获优秀奖（校内十人参赛，仅</a:t>
              </a:r>
              <a:r>
                <a:rPr b="1" lang="zh-CN" sz="16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一人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获此奖项）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2" name="组合 2"/>
          <p:cNvGrpSpPr/>
          <p:nvPr/>
        </p:nvGrpSpPr>
        <p:grpSpPr>
          <a:xfrm>
            <a:off x="1077840" y="2538360"/>
            <a:ext cx="7446960" cy="498960"/>
            <a:chOff x="1077840" y="2538360"/>
            <a:chExt cx="7446960" cy="498960"/>
          </a:xfrm>
        </p:grpSpPr>
        <p:sp>
          <p:nvSpPr>
            <p:cNvPr id="603" name="TextBox 22"/>
            <p:cNvSpPr/>
            <p:nvPr/>
          </p:nvSpPr>
          <p:spPr>
            <a:xfrm>
              <a:off x="1077840" y="273024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4.1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4" name="TextBox 23"/>
            <p:cNvSpPr/>
            <p:nvPr/>
          </p:nvSpPr>
          <p:spPr>
            <a:xfrm>
              <a:off x="2555640" y="2538360"/>
              <a:ext cx="5969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在全国</a:t>
              </a:r>
              <a:r>
                <a:rPr b="0" lang="en-US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竞赛中获优秀创新奖（全国两百人参赛，仅</a:t>
              </a:r>
              <a:r>
                <a:rPr b="1" lang="zh-CN" sz="16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二人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获此奖项）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5" name="组合 1"/>
          <p:cNvGrpSpPr/>
          <p:nvPr/>
        </p:nvGrpSpPr>
        <p:grpSpPr>
          <a:xfrm>
            <a:off x="1077840" y="3456000"/>
            <a:ext cx="7446960" cy="410040"/>
            <a:chOff x="1077840" y="3456000"/>
            <a:chExt cx="7446960" cy="410040"/>
          </a:xfrm>
        </p:grpSpPr>
        <p:sp>
          <p:nvSpPr>
            <p:cNvPr id="606" name="TextBox 24"/>
            <p:cNvSpPr/>
            <p:nvPr/>
          </p:nvSpPr>
          <p:spPr>
            <a:xfrm>
              <a:off x="1077840" y="350820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2f2f2"/>
                  </a:solidFill>
                  <a:latin typeface="Verdana"/>
                  <a:ea typeface="微软雅黑"/>
                </a:rPr>
                <a:t>2012-201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7" name="TextBox 25"/>
            <p:cNvSpPr/>
            <p:nvPr/>
          </p:nvSpPr>
          <p:spPr>
            <a:xfrm>
              <a:off x="2555640" y="3456000"/>
              <a:ext cx="596916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共获</a:t>
              </a:r>
              <a:r>
                <a:rPr b="1" lang="zh-CN" sz="1600" spc="-1" strike="noStrike">
                  <a:solidFill>
                    <a:srgbClr val="f2543a"/>
                  </a:solidFill>
                  <a:latin typeface="微软雅黑"/>
                  <a:ea typeface="微软雅黑"/>
                </a:rPr>
                <a:t>一等奖</a:t>
              </a:r>
              <a:r>
                <a:rPr b="0" lang="zh-CN" sz="1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学金三次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08" name="AutoShape 4"/>
          <p:cNvSpPr/>
          <p:nvPr/>
        </p:nvSpPr>
        <p:spPr>
          <a:xfrm>
            <a:off x="4452840" y="2292480"/>
            <a:ext cx="4064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Freeform 6"/>
          <p:cNvSpPr/>
          <p:nvPr/>
        </p:nvSpPr>
        <p:spPr>
          <a:xfrm>
            <a:off x="750960" y="638280"/>
            <a:ext cx="260280" cy="2556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直接连接符 51"/>
          <p:cNvSpPr/>
          <p:nvPr/>
        </p:nvSpPr>
        <p:spPr>
          <a:xfrm>
            <a:off x="668160" y="957240"/>
            <a:ext cx="7863120" cy="0"/>
          </a:xfrm>
          <a:prstGeom prst="line">
            <a:avLst/>
          </a:prstGeom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矩形 79"/>
          <p:cNvSpPr/>
          <p:nvPr/>
        </p:nvSpPr>
        <p:spPr>
          <a:xfrm>
            <a:off x="642960" y="557280"/>
            <a:ext cx="476280" cy="41760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TextBox 81"/>
          <p:cNvSpPr/>
          <p:nvPr/>
        </p:nvSpPr>
        <p:spPr>
          <a:xfrm>
            <a:off x="1112760" y="58104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Verdana"/>
                <a:ea typeface="微软雅黑"/>
              </a:rPr>
              <a:t>工作技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3" name="Picture 34" descr=""/>
          <p:cNvPicPr/>
          <p:nvPr/>
        </p:nvPicPr>
        <p:blipFill>
          <a:blip r:embed="rId1"/>
          <a:stretch/>
        </p:blipFill>
        <p:spPr>
          <a:xfrm>
            <a:off x="2130480" y="2251080"/>
            <a:ext cx="2879640" cy="60804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5" descr=""/>
          <p:cNvPicPr/>
          <p:nvPr/>
        </p:nvPicPr>
        <p:blipFill>
          <a:blip r:embed="rId2"/>
          <a:stretch/>
        </p:blipFill>
        <p:spPr>
          <a:xfrm>
            <a:off x="1979640" y="3003480"/>
            <a:ext cx="3127320" cy="5828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6" descr=""/>
          <p:cNvPicPr/>
          <p:nvPr/>
        </p:nvPicPr>
        <p:blipFill>
          <a:blip r:embed="rId3"/>
          <a:stretch/>
        </p:blipFill>
        <p:spPr>
          <a:xfrm>
            <a:off x="2173320" y="3724200"/>
            <a:ext cx="2854440" cy="527040"/>
          </a:xfrm>
          <a:prstGeom prst="rect">
            <a:avLst/>
          </a:prstGeom>
          <a:ln w="0">
            <a:noFill/>
          </a:ln>
        </p:spPr>
      </p:pic>
      <p:grpSp>
        <p:nvGrpSpPr>
          <p:cNvPr id="616" name="组合 16"/>
          <p:cNvGrpSpPr/>
          <p:nvPr/>
        </p:nvGrpSpPr>
        <p:grpSpPr>
          <a:xfrm>
            <a:off x="708120" y="617400"/>
            <a:ext cx="344520" cy="297000"/>
            <a:chOff x="708120" y="617400"/>
            <a:chExt cx="344520" cy="297000"/>
          </a:xfrm>
        </p:grpSpPr>
        <p:sp>
          <p:nvSpPr>
            <p:cNvPr id="617" name="AutoShape 40"/>
            <p:cNvSpPr/>
            <p:nvPr/>
          </p:nvSpPr>
          <p:spPr>
            <a:xfrm>
              <a:off x="708120" y="621360"/>
              <a:ext cx="34452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8" name="Freeform 42"/>
            <p:cNvSpPr/>
            <p:nvPr/>
          </p:nvSpPr>
          <p:spPr>
            <a:xfrm>
              <a:off x="824040" y="685440"/>
              <a:ext cx="228600" cy="2289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9" name="Freeform 43"/>
            <p:cNvSpPr/>
            <p:nvPr/>
          </p:nvSpPr>
          <p:spPr>
            <a:xfrm>
              <a:off x="712800" y="617400"/>
              <a:ext cx="146160" cy="1461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0" name="Freeform 44"/>
            <p:cNvSpPr/>
            <p:nvPr/>
          </p:nvSpPr>
          <p:spPr>
            <a:xfrm>
              <a:off x="712800" y="763560"/>
              <a:ext cx="114120" cy="1159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621" name="Picture 37" descr=""/>
          <p:cNvPicPr/>
          <p:nvPr/>
        </p:nvPicPr>
        <p:blipFill>
          <a:blip r:embed="rId4"/>
          <a:stretch/>
        </p:blipFill>
        <p:spPr>
          <a:xfrm>
            <a:off x="2173320" y="1444680"/>
            <a:ext cx="2879640" cy="608040"/>
          </a:xfrm>
          <a:prstGeom prst="rect">
            <a:avLst/>
          </a:prstGeom>
          <a:ln w="0">
            <a:noFill/>
          </a:ln>
        </p:spPr>
      </p:pic>
      <p:sp>
        <p:nvSpPr>
          <p:cNvPr id="622" name="矩形 16"/>
          <p:cNvSpPr/>
          <p:nvPr/>
        </p:nvSpPr>
        <p:spPr>
          <a:xfrm>
            <a:off x="1236600" y="1577880"/>
            <a:ext cx="601560" cy="52704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A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矩形 17"/>
          <p:cNvSpPr/>
          <p:nvPr/>
        </p:nvSpPr>
        <p:spPr>
          <a:xfrm>
            <a:off x="1236600" y="2292480"/>
            <a:ext cx="601560" cy="52704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矩形 18"/>
          <p:cNvSpPr/>
          <p:nvPr/>
        </p:nvSpPr>
        <p:spPr>
          <a:xfrm>
            <a:off x="1236600" y="2981160"/>
            <a:ext cx="601560" cy="52704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矩形 19"/>
          <p:cNvSpPr/>
          <p:nvPr/>
        </p:nvSpPr>
        <p:spPr>
          <a:xfrm>
            <a:off x="1236600" y="3724200"/>
            <a:ext cx="601560" cy="527040"/>
          </a:xfrm>
          <a:prstGeom prst="rect">
            <a:avLst/>
          </a:prstGeom>
          <a:solidFill>
            <a:srgbClr val="f36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D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5c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矩形 4"/>
          <p:cNvSpPr/>
          <p:nvPr/>
        </p:nvSpPr>
        <p:spPr>
          <a:xfrm>
            <a:off x="3203640" y="2274840"/>
            <a:ext cx="2736720" cy="593640"/>
          </a:xfrm>
          <a:prstGeom prst="rect">
            <a:avLst/>
          </a:prstGeom>
          <a:solidFill>
            <a:srgbClr val="f25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TextBox 40"/>
          <p:cNvSpPr/>
          <p:nvPr/>
        </p:nvSpPr>
        <p:spPr>
          <a:xfrm>
            <a:off x="851040" y="552456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ac090"/>
                </a:solidFill>
                <a:latin typeface="Verdana"/>
                <a:ea typeface="微软雅黑"/>
              </a:rPr>
              <a:t>所学专业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TextBox 3"/>
          <p:cNvSpPr/>
          <p:nvPr/>
        </p:nvSpPr>
        <p:spPr>
          <a:xfrm>
            <a:off x="3503520" y="2341440"/>
            <a:ext cx="21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Verdana"/>
              </a:rPr>
              <a:t>THA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TextBox 5"/>
          <p:cNvSpPr/>
          <p:nvPr/>
        </p:nvSpPr>
        <p:spPr>
          <a:xfrm>
            <a:off x="2508120" y="296244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期待能与您面谈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1T05:53:38Z</dcterms:created>
  <dc:creator>www.pptbz.com</dc:creator>
  <dc:description/>
  <dc:language>en-US</dc:language>
  <cp:lastModifiedBy>微软用户</cp:lastModifiedBy>
  <dcterms:modified xsi:type="dcterms:W3CDTF">2015-04-23T17:29:26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