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C06E-E5B4-48C1-BFC3-07221D55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097E-8C90-4A16-B1F3-8F4C9D70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339E-9EC9-43A6-A204-4FC804BB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740C-5F88-4409-AC99-F585298D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F5EE-FEA1-44BF-962C-C4B713C8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B670-3DF9-4C0B-9351-2DF88B6E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5F41-6825-472A-B47A-33EE33F6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251F-DEEC-4CC0-84B8-AAB9FD4C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8723-D5E3-4415-8DF1-D1FE1745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F5D3-4C02-4675-B085-739CA885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E415-B5FB-4484-9D78-4F35F881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6F0F-9549-49D0-9A24-7246065B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AB6D-3984-4C64-A349-309BAE56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1202-321A-44A9-A32E-9A59DAA4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19BB-01B6-4BBC-8B4D-21287A2E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D02A-67D3-4CE4-B378-89F1ECC5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5BCE-6578-4E3A-93E6-7353F1EE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3D11A-F5B4-4850-8139-470084B1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07801-3325-4C42-A5E4-2FE8D759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FE688-36C6-46A4-9CAF-8E4A748E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02113-6427-4A47-9B11-3FF91C43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6BACB-DC1A-4096-ACEE-C0BCA73D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3FB5-39E9-475A-A536-99EB81B1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D18CA-7242-4B46-A092-D5B796C7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1DC85-6E20-486E-910F-641D22A1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34A59-0710-415E-A792-F0A88710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00821-47B9-455A-A26D-B17AECED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FEB1A-85AD-402E-8E11-8F5A04D6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7C159-0E4D-4018-9246-D0AFFB22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9F564-D4D6-4558-9F78-80B7B1D5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2634E-4D64-4117-98F8-01AFAC57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76855-0388-4AE7-8748-3EE068A7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21E8E-4CBA-44C9-8760-903A083D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BF87-8935-40B1-B81E-7C1E7947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A5C94-7486-4E13-B563-E74013EC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A98FE-3F87-40B5-88DB-91E18FF3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9C111-0A19-4E38-9AE3-A74F53B2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2DE4E-92DF-40FA-B109-115B5AD1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0FECE-FF1E-4993-B4A4-6EC434DD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42BCA-B7F1-4BB1-B809-C4118A0A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F159D-02CB-4D51-AE29-6C657CEE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9DCE6-BF20-4DF3-9250-51248C07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E8AE0-8DF7-4EE4-901E-0A4E1EC6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2D1F-CB2C-4CCA-96E0-052AC42A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50D8-A828-4065-BB7F-C456DF5E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542F-2AC6-47A4-84C7-B98F3C1F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6578-C20A-40CE-9165-AA2C6821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F5C-1F33-4B5E-B7B8-8989367B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3F5A-9D45-4AAF-A6A2-DFB159890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872D-7812-4085-984F-5E2CD7083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5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7282-A679-4931-A774-3E82A45B6A0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30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32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36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35040" y="6854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DAC6-45E5-427B-8872-704FB6BB2C5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家校同心，</a:t>
            </a:r>
            <a:br>
              <a:rPr sz="8800"/>
            </a:br>
            <a:r>
              <a:rPr b="1" lang="zh-CN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师生同行</a:t>
            </a:r>
            <a:endParaRPr b="0" lang="en-US" sz="8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633680" y="4805280"/>
            <a:ext cx="604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东坡下载站编辑整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62160" y="2133360"/>
            <a:ext cx="4647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572"/>
                </a:solidFill>
                <a:latin typeface="华文行楷"/>
                <a:ea typeface="华文行楷"/>
              </a:rPr>
              <a:t>学生现状</a:t>
            </a:r>
            <a:endParaRPr b="0" lang="en-US" sz="80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533520" y="7621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1﹑</a:t>
            </a: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学习成绩</a:t>
            </a:r>
            <a:br>
              <a:rPr sz="3600"/>
            </a:b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  在学习上，初二是一个分水岭，一部分同学在初二进步很快，由成绩中等上升为优秀，但也有一部分学生存在畏难情绪，将心思用在学习之外，成绩迅速下降，对学习失去兴趣，自暴自弃，从此一蹶不振。这样的同学到了初三往往很难有所突破，中孝的失利难以避免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这些孩子在初中学习将近二年，老本基本吃光了，但是有些孩子不肯吃苦，课堂上老师讲的知识还一知半解就满足了，自以为我会了，不在跟着老师讲课的步伐进行下去。真问到头上，支支吾吾说不出个一二三四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有些孩子流于作业形式，白纸画黑道，作业我写了，对与错是老师的事情，明显感觉写作业很盲目，没目标，对自己不负责任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4475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有的学生学习本末倒置。有些科目应该温习课上知识后，再通过练习检查掌握的程度，然后弥补不足。但是他们只忙于书面作业，不会去翻书，翻笔记，只达到完成作业这一表面任务，力气没少用，效果不好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有些孩子学无章法，老师讲老师的，我做我的，有些孩子只学习自己感兴趣的学科，不均衡发展。而且有的孩子玩心太重，心思都在玩上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有些孩子之所以学习成绩和优秀生落差很大，源于习惯极其不好，缺乏耐心、恒心、专心，即使大型公开课，大型活动，也都是我行我素，瞻前顾后，左顾右盼，这样的场合他都肆无忌惮，反映出长期的养成教育不足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这不仅需要我们督促，作为父母的你们在日常生活中也要强化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971800" y="91404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572"/>
                </a:solidFill>
                <a:latin typeface="华文行楷"/>
                <a:ea typeface="华文行楷"/>
              </a:rPr>
              <a:t>对家长的建议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2895120" y="3580920"/>
            <a:ext cx="6985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华文行楷"/>
                <a:ea typeface="华文行楷"/>
              </a:rPr>
              <a:t>从学校及教师的角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行楷"/>
                <a:ea typeface="华文行楷"/>
              </a:rPr>
              <a:t>也许有偏颇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3"/>
          <p:cNvSpPr/>
          <p:nvPr/>
        </p:nvSpPr>
        <p:spPr>
          <a:xfrm>
            <a:off x="457200" y="1447920"/>
            <a:ext cx="815328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Arial"/>
              </a:rPr>
              <a:t>不做准备的人，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Arial"/>
              </a:rPr>
              <a:t>就是准备失败的人！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04920" y="14475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找准孩子学习的短板，要真正知道了解自己的孩子，在哪一学科是弱项。和其他孩子们横向、纵向比较一下，我究竟差到哪里，差到哪个学科，什么原因，并要积极应对，及时的查漏补缺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抓住学习的主次，比如数学 物理初二下学期知识逻辑性比较强，有的习题比较深，所以对于数学物理等学科的习题量一定要保证。并要保证即学即会，不留死角，不要单纯追求数量，而忽视做题的质量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家长会的主题 ：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是介绍前阶段同学们在校表现和学习情况。结合本学期期中考试的情况，分析学生的学习和心理状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二是和家长们探讨今后学生的教育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掌握学习方法。对于英语等学科，要夯实基础，无论学习时间怎么紧张，必要的英语单词，最基本的句型，语法，都要熟练掌握，达到零失误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对于政治历史等学科，要充分利用课堂的主阵地，把考点要及时的勾画好，积累好，以备考试之用。同时也要利用一定的时间对阶段学习内容进行复习。从而保证在闭卷考试的时候，能有一定的知识储备。在开卷考试时能够积累全面知识点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对于语文学科，要训练好孩子把握基础知识的能力，各类的书上的文言文，古诗词，老师要求背好记好的，一个字也不能差。同时也要鼓励孩子认认真真的去完成老师布置的作文和阅读，掌握阅读和作文的能力。考试的时候不发慌，等心应手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正确看待孩子的学习成绩。有的孩子学习各科成绩不算太高，比如说能达到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0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多分 但是很难达到高分，这样的孩子还有很大提升的潜力，所以就要帮助孩子找出出现差距的原因。而不要一味的指责。有的孩子可能学习成绩差点，达到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80-90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这个时候到了学业临界点，所以家长就要携同老师全方位的，对各学科学习进行监控。严防持续下滑的现象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保证家中一切为孩子的学习让路，例如四平市实验中学高考状元的班主任在谈体会的时候说，孩子回家的时候一般情况下应该有一位家长在家，让他感觉到一种依靠，使他能够全身心的投入到学习当中。中午孩子回家要及时吃上饭菜，保证孩子有合适的休息时间和空间。从而保证孩子学习充沛的经历。这个时候我们家长有的时候做些必要的牺牲，对于意义不重大应酬活动尽量避免参加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54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关注孩子的日常表现，防止思想出现波动，家长和孩子之间要建立互信，保持经常的有效沟通。比如说有的孩子情绪低落，那么要弄清楚什么原因造成，是不是和同学发生矛盾还是被老师误解啊，还是学习上遇到了困难，家长都要在第一时间掌握情况，做好疏导。如果发现孩子近期在某个时间段爱美，总是特别注意自己的仪表，上学前在镜子旁边照个半天，没事发呆，情绪无常，这个时候家长要和老师及时的沟通，是不是孩子出现感情问题，因为这个阶段正是青春期，以便及时应对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54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关于安全问题。掌握放学时间　规定到家时间，很多学生放学在街上游荡，容易接触社会青年，不给过多零花钱　，不允许到朋友家过夜，尤其周末，不带贵重物品到校，例如手机，提醒安全过马路，严查抽烟现象，放在课后班的家长也不要撒手不管，要及时和老师保持联系掌握放学时间，有家长接送的还好，要是不接送的容易出现差错，老师这放学了，结果孩子没回家去哪里玩，可是家长还以为在老师这上课。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培养孩子吃苦耐劳的精神。初二属于攻坚阶段，初三属于冲刺阶段，虽然我们将来面对的是高考，但是初中阶段的成绩，对于一个人的知识储备和未来形成的心理暗示，非常的重要。如果中考取得好成绩孩子就会在学习上有种优越感，到高中也会形成自信，进取的学习状态，认为我能行，而不是我不行，我不如别人。神童和特殊的尖子生毕竟是少数，绝大多数的孩子还需要有铁杵磨成针的精神。家长要保证孩子晚上必要的学习时间。我感觉中午要是午睡的话，晚上学习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点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-1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点没什么问题。这样到初三就能适应这种学习生活，到高中更会适应。现在的学习不能是只写完作业就完事。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要严格规范孩子的学习习惯。平时做的习题要保证步骤完整，书写规范，不似是而非，培养孩子答题精准的习惯。会的题要做对。到了这个时候应该尽量不能出现马虎现像。不要从孩子历次考试的失利中单纯的寻求客观原因，而忽视主观因素。要知道考的不好只能证明平时学的不好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每周找一定时间和孩子聊一聊各科学习上有什么问题，给孩子创造良好的学习环境，多鼓励孩子，多与孩子一同学习。哪怕不是经常性的沟通，聊天，那么对于孩子也是莫大的鼓励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066680" y="685800"/>
            <a:ext cx="6858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排名榜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38160" dir="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133720" y="3886200"/>
            <a:ext cx="445932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种瓜得瓜 种豆得豆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38160" dir="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1"/>
          <p:cNvSpPr/>
          <p:nvPr/>
        </p:nvSpPr>
        <p:spPr>
          <a:xfrm>
            <a:off x="838080" y="762120"/>
            <a:ext cx="7315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557"/>
                </a:solidFill>
                <a:latin typeface="华文行楷"/>
                <a:ea typeface="华文行楷"/>
              </a:rPr>
              <a:t> 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加强与老师的联系。个别学生不愿意与家长交流，尤其不想和家长说学校里的情况，这样一来，家长往往不能从孩子那里知道他们最近的表现和变化，这就需要家长能够经常和老师联系，了解孩子的全面情况，就一些问题和老师沟通，双方合作，为孩子保驾护航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掌握好孩子的上学时间 早上 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点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到校，中午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点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到校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注意孩子的衣着，男生不留长发，女生不穿时髦衣服，不许带首饰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努力一定会有成效，放弃必定要失败，无论什么时候都要对自己的孩子有信心，只是在家长的心目当中一定要找准孩子发展的目标换和方向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0520" y="1218960"/>
            <a:ext cx="8078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557"/>
                </a:solidFill>
                <a:latin typeface="华文行楷"/>
                <a:ea typeface="华文行楷"/>
              </a:rPr>
              <a:t>    </a:t>
            </a: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家长们，我们的目标是统一的，我们的任务是一致的，愿我们相互合作，把我们的学生，您的孩子，培养成学习勤奋，品质优良的优秀人才，为将来学生的升学、就业、乃至整个人生的发展打下坚实的良好的基础。在此衷心祝愿我们每一个孩子健康成长，每一个家庭幸福平安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-7308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77800" y="99072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320040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过来看看！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03480" y="2666880"/>
            <a:ext cx="321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6"/>
          <p:cNvSpPr/>
          <p:nvPr/>
        </p:nvSpPr>
        <p:spPr>
          <a:xfrm>
            <a:off x="3124080" y="2895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3489480" y="215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4" name="矩形 7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716256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期中进入年部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 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，前三名是咱班的。第一名付晏升、总分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57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第二名张效明，总分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52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第三名孙璐瑶 总分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5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第五名佟彩瑜 总分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4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第六名 王子越 总分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47.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进入年部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 咱班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；进入年部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6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；进入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3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；进入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7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；进入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；进入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9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20---119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8---116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5---11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 ，人数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7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2---11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0—108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43000" y="914400"/>
            <a:ext cx="1447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数学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1.5---11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 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9.5—106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6---10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   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4.5—103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3—101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   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8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295280" y="762120"/>
            <a:ext cx="198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语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9---117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7---115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6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5—114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3.5—110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8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66680" y="533520"/>
            <a:ext cx="1447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英语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名的分数段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00--9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8—97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6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7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5—9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8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62120" y="838080"/>
            <a:ext cx="1600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物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政治年部满分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4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，咱班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历史年部满分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，咱班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1:08:10Z</dcterms:created>
  <dc:creator>Administrator</dc:creator>
  <dc:description/>
  <cp:keywords/>
  <dc:language>en-US</dc:language>
  <cp:lastModifiedBy>Sky123.Org</cp:lastModifiedBy>
  <dcterms:modified xsi:type="dcterms:W3CDTF">2015-03-30T01:35:14Z</dcterms:modified>
  <cp:revision>1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  <property fmtid="{D5CDD505-2E9C-101B-9397-08002B2CF9AE}" pid="3" name="Version">
    <vt:r8>1</vt:r8>
  </property>
</Properties>
</file>