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Down.WAV" ContentType="audio/x-wav"/>
  <Override PartName="/ppt/media/image24.png" ContentType="image/png"/>
  <Override PartName="/ppt/media/image11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29.png" ContentType="image/png"/>
  <Override PartName="/ppt/media/Failed.WAV" ContentType="audio/x-wav"/>
  <Override PartName="/ppt/media/image16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%E9%92%A2%E7%90%B4.wav" ContentType="audio/x-wav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E4D-590B-4D21-AD75-377AF3FE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8FE-0189-483D-8280-3EE65678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48D2D-D3A8-4C77-989B-3CADB741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CF569-F936-428A-A318-1FF0B24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46B06-2AAF-4CC6-BF15-E7597BBE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5BB61-23F6-47CA-9317-E6558D3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C7B0-CAA8-46D0-9889-88D4E2F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D7380-3C3D-4392-8B7A-BA760FE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67659-C220-40F0-9376-EE1F0492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75F4D-4580-49EF-8C83-871DC9F6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73823-28F1-45BA-A216-D0ED2134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B4DDA-83A6-4457-85B6-0106C203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FD2-C140-4B6B-A6D8-AD816400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4F593-395B-40ED-A1FD-BCE11DF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5945-E3E4-49DF-AA8F-4D112032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624DE-8D11-4B12-92F5-05C4505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61ED8-D976-4865-BE03-95CE026A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7894-50EC-4F52-846F-A0446487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DB392-7BF3-4956-B9FB-4A6F358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ED84C-E4F2-409D-823A-F122DE02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39F69-8431-43EB-A98E-C6B49E7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7C383-9A25-4B7C-B803-78898847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E679-5B55-419F-8BD3-F69F47DC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447-A677-4EB3-A616-3D6E1010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1096E-0CD6-4D53-8A80-197E94D4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7D154-8BEF-4FC9-ADDC-E5598BE6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D013-7485-477E-81CB-5F0F93C3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DC814-77FA-4C01-ABD2-ED43EF02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C6A1C-A535-4B14-9BC4-321EC542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D959B-368D-41CC-9211-9D5E8AD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61C40-7B44-43F8-94DE-2CE2F92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AA293-C20C-4671-A4D7-1F9EDECA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BE43-2885-4459-A1A8-86E4393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7C25D-F67C-4F21-84D3-15A4CBE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30FB-2A80-4E93-B71A-CC029B67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1B1F-F9C6-4C02-881F-791AC91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BA094-1CC8-44F2-A82B-1CF76FD3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1CC0-E36C-4F51-BDE5-5F29797B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39FBC-DB1D-4D12-9F56-4AFE8041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ADAA7-F16D-43F4-ABC2-A605F9F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D60E8-A721-465A-8D63-A801410F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E9F7E-9048-437F-A6CD-964001E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48733-33B7-47C0-B708-09B4BA95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975AE-0D3E-4AC3-B489-4E03BB83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D5626-D096-41D1-9C10-62A199E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5148-42B9-4F77-88C1-9E26F29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B7BE1-4BA8-481A-969A-B9BFCB6C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03ED7-816C-4687-8458-EDF98F1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47082-0A7A-4346-94D6-62BAD4E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7DEE5-566D-4B6C-997F-0201C305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E7D32-DD94-4960-8AF1-7982068A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813DE-356F-44F0-BB5B-47DC55A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7295C-E544-4CC8-91E0-5DB852A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0635A-AF75-4782-A77A-B23EF91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CF7D1-584C-4877-9C5E-3C67B7E6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251BB-249C-47D0-A485-59DBE6CD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D547-E26B-483F-9BAF-F792E229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E3FBB-5199-4D4E-A3A5-85E5CD1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93AF0-AAC4-4F8C-AC77-5695EDB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4F75A-E79E-428C-B1AF-5E5B49FB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4D672-E36D-4A22-B939-0AE6E961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AF545-723B-4FF2-8631-62AA7D83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1106B-D513-4063-B8B0-E75E8A85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9F1A7-FEF8-4AA3-BBE8-7779BAD8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82A5F-AEC4-4F63-B0DF-2419BAF9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1908B-9706-46CC-9041-AB03992F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AC0B9-C83A-480E-827D-EC3F23C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CDF-4A5C-4EE9-AD24-DE5D7A7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CD038-B3DC-434E-9470-E19E5628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71DC4-83CF-486A-9EC4-6DAA4253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AABA1-12B7-4F8C-90EE-41AD9E46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E238B-7654-4F6A-98BF-7CA95300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4CA0C-3F35-4CCB-9DAE-2CA559BC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0D289-C5FD-4DB0-899D-76D3C4AC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A449A-1252-4750-9BA5-40C4DC87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FE5AC-4261-41BD-893C-3EF6B01E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08B84-B1F5-464E-BEDF-3DF8564C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5F5EB-E07A-4A42-9F88-41F5DFE8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F3B3-D3AE-4BF1-8E3D-77487D3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B155B-7814-48A0-8034-4261338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50BA7-1C98-4EE9-96AF-AE7BCCF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E9C29-4CBB-4A1B-8072-A043FEA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AC02E-8BBA-4D39-B4AA-80263B72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312C6-42D6-4827-AECE-B35631AA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85794-72BC-43F6-908C-9C2E38A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33150-7EC2-4A81-BC59-BB2D9922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1BBEA-4001-4B65-A21E-2097EF6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D05B6-5194-4DB1-9978-A1C186B4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566DF-E1BD-469A-A476-FECDE773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E5E4-D57A-41B0-8DA6-05985028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12DCD-EDAC-47F1-A295-E660D410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E8B96-9D0C-419B-B0E4-275AD1D9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A12EA-55EC-4098-9B6C-00641B7C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8637A-67B4-4FA3-9F23-A9976157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56311-3100-4F57-86DB-B5C415F3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EB7B8-DE06-4267-BD40-FAB099F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8559D-C0F3-47BB-9222-ECC0DC97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32715-E8FE-45C7-BF35-83B28D7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03A92-A4D3-4120-9F58-6F2ECBB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A783A-7538-4338-B5B9-D0860B8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050A-1B46-4EE7-9D42-725CBCEC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A4A01-2109-4867-8DF1-B92513A1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51911-F8BB-4A67-B7D9-65E75C9C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AD8AA-72A6-4DB0-9838-43F37D7B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10E9C-0E9C-4D2B-A378-92796E93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4CF9E-C507-4095-A153-76ED795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FB6FC-B40E-4764-96B2-D47ECDD0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F64B6-8248-4793-8FA1-5682F8BF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418EB-B035-4A5E-85B2-37F79863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0F2DE-5E41-4324-A63D-F124C348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E0CBC-079D-4A97-AABC-F84FB1CB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470-7C3C-45DC-9132-53EF9A8A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A170-6379-434D-90A7-F0B10CC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93E91-418A-4970-972E-797BD07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04370-B8DE-4AB9-BB10-CCBEEC5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3C468-5A95-4583-90F1-106E021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A9627-F7AC-4AA6-A56F-F8E37966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606EA-F000-4611-81B4-63A55C6D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013A6-45A7-496F-8686-3CB478CD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630DE-BC82-4706-B957-ED5EC33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2E8DA-9DB0-469C-B173-9683AF9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A4FF9-636B-426C-AB5F-29CF31F1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4FC7C-EF4A-4892-BCDD-EFCDB319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58E0-8DD7-47DC-A638-7E7E2785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0ECFE-54EB-4968-A643-01AC35FE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37668-9E6B-4D3D-A453-269FB67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A450A-4205-47E3-9188-A0D3594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08172-9B4B-4B39-AEF1-259F303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4A768-AFAE-49CD-AFDF-33263C5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A6BF3-F9C7-4C53-A3F7-D7AE137A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4E1BA-C72E-425B-8C90-04030944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7F166-EDD3-4CA5-A20C-22A772FC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69F90-2722-4294-AEDB-0FA465A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838CF-61D3-4C23-B1A1-A7789BB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C2DF-93E4-4C0E-B6C4-FEB506E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BD2C9-B47B-4EDE-9214-F0669B9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82A30-F1CD-4AEB-89CA-E03E019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CEA9D-3779-4CCF-9E70-2E934FD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475732-427B-4D13-A519-97D2C1A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A48DB-B272-4FB6-96CB-62E4776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4D6F4-3B4B-4F96-867D-F7ECFBEE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6F6F7-4EAF-40EE-A736-C17AD7E6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0F261-4095-4155-9FF3-FF48C3DB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75614-F5C2-49BB-B4B3-CCE668DF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94F5-9EDE-4991-B3FD-ECC91BC9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BE68-837A-4CB8-85AD-D7ADD0A7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0C65-8532-4AFE-AA97-59C44D21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2640-6BF9-482F-89BD-B25B0699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FE35-D01D-4152-AF2C-74C7D8B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71BC-B80C-4E74-BA29-410508B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F4EE-9A45-4115-BC2C-D99CA8F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6F9-9729-4BEF-8162-1CB8675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8053-F387-47C1-8C41-043A13C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6FEE-DC36-49E3-A570-D55A286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2B13-D49E-4209-BEB0-8EF7414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5721-C0B0-488D-935C-6DA5A8EE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1915-87AD-4362-8EA0-C0D3D91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80E6-2404-48C4-A3F2-3CE6DA43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30A1-C779-4A6E-AC11-A04005CE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5F18-F394-4BBF-969A-DB6A95A0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E7E0-EA62-411C-BB73-A89577A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5D3F-286A-4A70-BA5B-A9AF86ED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85C-8DE0-49D5-B145-8B6637A1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9EEC-B703-4DFF-BFA5-1D79C7C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D462-AD5A-43F0-A25E-B6146F2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2930-B4D6-4D0B-8CA3-8687C95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CDFD-DFFB-45C5-BDC7-0D2FBAF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7127-165E-4035-8C08-5E0CEE7F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9333-4B00-4511-B16F-26CB43D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B2B4-F506-4E91-B1DC-EC97010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F1B6-4DB5-4BE9-8464-743F4100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3BAD-0359-4638-91AF-0C21ABC5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F6FC-FD53-42A0-9652-B9AC45BF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AC3-522F-458C-B4E7-182EAFE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0C45-9581-40BB-8116-533037E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D5EE-805D-4E20-AB25-83D6817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26969-7A8A-41F7-A167-D8267E7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1970-797A-40A0-8DAF-0EA69E35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77E4-5DF1-4E61-AF9C-99AAF905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2DB7-10C9-4A44-96D0-C0E45578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B884-135F-4BF9-8A03-E7D8B405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561D2-9975-411E-A17A-E281BBF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890B-4293-480B-99F2-89F18C47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BFB7F-5C1C-4DE1-87C1-7FA5AAD4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51F-F719-4307-A48A-DC8757EB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27CC-C82C-416B-A2A8-96F74E35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39D2-99CA-484F-9E07-5A791A66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00D47-22E1-482E-A4C5-8FD9D582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BCBF0-EDF6-4742-A0E2-67C61B2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F1B9B-01D3-4352-8EE3-B52D05B1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61BF-E308-4378-8C73-A2FE8DA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91C3-937B-44C1-A09B-F9997107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4833-48E4-40A8-AE74-3DB5894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2CC3-3CBF-4592-9799-82765EF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F8935-7CD5-47CB-9C79-6859931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7A6-3A7C-437C-A28A-9782B80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6028-452A-4036-9586-F5C4E05F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9635-B9B6-4953-823A-C43D76DE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F08E-253C-4BC3-9B74-80D2BCFA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41FF-5462-4B78-96B4-F9C48D88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9B2EC-24E0-426F-82E0-572D50E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7030-C78C-4D9D-93F3-DA5A30C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6BB50-6EA1-4E7D-9D76-0F59F773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98F8-8CFC-4EF1-BDB1-D91744D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DE64-58E3-4875-AC3E-51974EF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94C0-4874-4190-90D4-C3ED31A3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BF4-2490-4044-9C23-78A8183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9420-3DD5-4C34-93C1-62ADEDD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2369-D45B-4541-A584-F254A9A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76DF-B2EF-4983-8F79-5E3FC67E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A994-E3E5-47A0-9939-C35BA9B5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9A5D-1886-4DF3-B531-89A27E7F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513B-8B49-41A2-80D2-4843F4FC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62275-440C-4652-9942-9BE81FE4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F91AC-518F-498F-B56E-3F86CD83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10AC-9C60-43B2-B587-87C6FF3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547DA-9EB4-4293-B666-64FBD20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88B-4085-4E95-8624-D91BE3B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53D06-5350-460D-A736-B8209E1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3AD61-EAD8-4645-9D2C-D6F085F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F26B-5B45-4D0D-9FFE-DA3F2428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B110A-45B7-4494-8879-114A1A0D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A4383-164F-4911-BB88-663A436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A1D7C-6816-4751-A00D-2DC6624C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EFFB2-3A65-4E80-8FEC-43977056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4CD3E-CD6B-4E84-A1EB-A5B7273A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3F27D-F274-4E1F-951D-4651B03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4172-5F94-4178-A1FF-E97D2F3B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BB0-3830-46B6-A904-62151F663E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0D81-FCDE-42C8-A563-54EAFD5BCA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83A4-A4F1-41E9-ACC8-9102D663EE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DCD4-3E40-4102-BA36-7ACE475133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0227-FAEC-4C78-AA90-DA04410D9B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EA7-D4B7-4DF8-A1EC-4683B1D9DE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DEF-9466-4305-901F-EF24222433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0519-577C-43A7-8A26-7F65D75047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7253-DFEA-4910-9FA8-43C09C8778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EC78-E4E4-4876-BE70-0387FAF8A2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4BBB-1DAC-4987-844B-984992CF61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72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699-CC1C-429C-9F5E-E0AEA3097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29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4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75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8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89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03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6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17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0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31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4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45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8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559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60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561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A19-71B3-408A-8872-0E6A9F962B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616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7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8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9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AC9-753C-4F57-981B-F024FEFAAA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E63-1690-4B5D-95B0-B38254143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6EE-AF06-458E-830F-00E4EEEFB2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4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46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60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6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2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6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0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2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0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06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351-C43F-4D4A-A0D9-F911435C09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62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76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0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3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4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5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0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1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2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4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5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6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7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8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9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0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1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6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8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0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2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4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5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6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7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6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7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0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8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0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1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2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3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4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5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6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7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8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0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2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122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3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CEF-D7BD-4446-AA0C-0BD8CDE35A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7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6668-8F9A-4C54-809B-AB615F92FF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own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&#38050;&#29748;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Failed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audio" Target="../media/&#38050;&#29748;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矩形 1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9180720" cy="318132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 txBox="1"/>
          <p:nvPr/>
        </p:nvSpPr>
        <p:spPr>
          <a:xfrm>
            <a:off x="2556000" y="98100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三家长会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5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7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68" name="WordArt 6"/>
          <p:cNvSpPr txBox="1"/>
          <p:nvPr/>
        </p:nvSpPr>
        <p:spPr>
          <a:xfrm>
            <a:off x="611280" y="26028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英语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69" name=""/>
          <p:cNvGraphicFramePr/>
          <p:nvPr/>
        </p:nvGraphicFramePr>
        <p:xfrm>
          <a:off x="1979640" y="1700280"/>
          <a:ext cx="4681440" cy="4114800"/>
        </p:xfrm>
        <a:graphic>
          <a:graphicData uri="http://schemas.openxmlformats.org/drawingml/2006/table">
            <a:tbl>
              <a:tblPr/>
              <a:tblGrid>
                <a:gridCol w="2341440"/>
                <a:gridCol w="234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0" name="Picture 2" descr="1600_047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1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1" name=""/>
          <p:cNvGraphicFramePr/>
          <p:nvPr/>
        </p:nvGraphicFramePr>
        <p:xfrm>
          <a:off x="2050920" y="476280"/>
          <a:ext cx="4824720" cy="5727600"/>
        </p:xfrm>
        <a:graphic>
          <a:graphicData uri="http://schemas.openxmlformats.org/drawingml/2006/table">
            <a:tbl>
              <a:tblPr/>
              <a:tblGrid>
                <a:gridCol w="2343240"/>
                <a:gridCol w="24814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何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  楠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爽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子鸣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  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2" name="WordArt 41"/>
          <p:cNvSpPr txBox="1"/>
          <p:nvPr/>
        </p:nvSpPr>
        <p:spPr>
          <a:xfrm rot="5400000">
            <a:off x="-1866240" y="2666160"/>
            <a:ext cx="58197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期中物理成绩优秀的学生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82440" y="-504720"/>
            <a:ext cx="9367560" cy="7022880"/>
          </a:xfrm>
          <a:prstGeom prst="rect">
            <a:avLst/>
          </a:prstGeom>
          <a:ln w="0">
            <a:noFill/>
          </a:ln>
        </p:spPr>
      </p:pic>
      <p:sp>
        <p:nvSpPr>
          <p:cNvPr id="1674" name="WordArt 3"/>
          <p:cNvSpPr txBox="1"/>
          <p:nvPr/>
        </p:nvSpPr>
        <p:spPr>
          <a:xfrm>
            <a:off x="395280" y="-14616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化学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1763640" y="1341360"/>
          <a:ext cx="5472360" cy="520236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Picture 2" descr="gifmb034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7" name=""/>
          <p:cNvGraphicFramePr/>
          <p:nvPr/>
        </p:nvGraphicFramePr>
        <p:xfrm>
          <a:off x="2771640" y="981000"/>
          <a:ext cx="4753080" cy="4686480"/>
        </p:xfrm>
        <a:graphic>
          <a:graphicData uri="http://schemas.openxmlformats.org/drawingml/2006/table">
            <a:tbl>
              <a:tblPr/>
              <a:tblGrid>
                <a:gridCol w="2378160"/>
                <a:gridCol w="237492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WordArt 35"/>
          <p:cNvSpPr txBox="1"/>
          <p:nvPr/>
        </p:nvSpPr>
        <p:spPr>
          <a:xfrm rot="5400000">
            <a:off x="-1103040" y="3126600"/>
            <a:ext cx="5326200" cy="74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期中政治成绩优秀的学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Picture 2" descr="11"/>
          <p:cNvPicPr/>
          <p:nvPr/>
        </p:nvPicPr>
        <p:blipFill>
          <a:blip r:embed="rId1"/>
          <a:stretch/>
        </p:blipFill>
        <p:spPr>
          <a:xfrm>
            <a:off x="396720" y="-444600"/>
            <a:ext cx="9753840" cy="7290000"/>
          </a:xfrm>
          <a:prstGeom prst="rect">
            <a:avLst/>
          </a:prstGeom>
          <a:ln w="0">
            <a:noFill/>
          </a:ln>
        </p:spPr>
      </p:pic>
      <p:sp>
        <p:nvSpPr>
          <p:cNvPr id="1680" name="WordArt 3"/>
          <p:cNvSpPr txBox="1"/>
          <p:nvPr/>
        </p:nvSpPr>
        <p:spPr>
          <a:xfrm>
            <a:off x="324000" y="-21744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历史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81" name=""/>
          <p:cNvGraphicFramePr/>
          <p:nvPr/>
        </p:nvGraphicFramePr>
        <p:xfrm>
          <a:off x="2700360" y="1052640"/>
          <a:ext cx="5400720" cy="532908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莹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Picture 2" descr="18"/>
          <p:cNvPicPr/>
          <p:nvPr/>
        </p:nvPicPr>
        <p:blipFill>
          <a:blip r:embed="rId1"/>
          <a:stretch/>
        </p:blipFill>
        <p:spPr>
          <a:xfrm>
            <a:off x="0" y="-228600"/>
            <a:ext cx="9312120" cy="696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3" name=""/>
          <p:cNvGraphicFramePr/>
          <p:nvPr/>
        </p:nvGraphicFramePr>
        <p:xfrm>
          <a:off x="2197080" y="-84240"/>
          <a:ext cx="5543640" cy="6683400"/>
        </p:xfrm>
        <a:graphic>
          <a:graphicData uri="http://schemas.openxmlformats.org/drawingml/2006/table">
            <a:tbl>
              <a:tblPr/>
              <a:tblGrid>
                <a:gridCol w="3022560"/>
                <a:gridCol w="25210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4" name="WordArt 47"/>
          <p:cNvSpPr txBox="1"/>
          <p:nvPr/>
        </p:nvSpPr>
        <p:spPr>
          <a:xfrm rot="5400000">
            <a:off x="-1728000" y="2743920"/>
            <a:ext cx="59738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地生成绩优秀的学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/>
          </p:nvPr>
        </p:nvSpPr>
        <p:spPr>
          <a:xfrm>
            <a:off x="108000" y="117000"/>
            <a:ext cx="9036000" cy="66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存在的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存在偏科现象，影响整体成绩的提高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伟 倪百川 张昆 顾子椿 朱昭昭  阮小娜（数）王爽 徐斌  李俊龙  朱昭昭  王腾（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曹璇（理化）王莹莹（政治）等同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学习不积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信心不足，不能吃苦，没有毕业班学生应有的紧迫感和强烈的竞争意识，导致学习成绩只退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/>
          </p:nvPr>
        </p:nvSpPr>
        <p:spPr>
          <a:xfrm>
            <a:off x="466200" y="9806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部分学生知识基础薄弱，有厌学并弃学的做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不少学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独立能力较差，倚赖思想严重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能独立作业，抄作业现象严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时间的占有与利用率较低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Text Box 2"/>
          <p:cNvSpPr/>
          <p:nvPr/>
        </p:nvSpPr>
        <p:spPr>
          <a:xfrm>
            <a:off x="250920" y="18900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努力的目标和方向：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狠抓班级纪律，培养学生的良好学             习、行为习惯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保持并强化良好的班风和学风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帮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生树立信心，激发学生学习热情，学会自主学习，力争明年中考取得理想成绩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进一步做好培优、补差工作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689" name="Text Box 6"/>
          <p:cNvSpPr/>
          <p:nvPr/>
        </p:nvSpPr>
        <p:spPr>
          <a:xfrm>
            <a:off x="2824200" y="191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中考形势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家长会程序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班主任谈班级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家长与任课老师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/>
          </p:nvPr>
        </p:nvSpPr>
        <p:spPr>
          <a:xfrm>
            <a:off x="34920" y="117000"/>
            <a:ext cx="90043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中考考试科目、分数、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各科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数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物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政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地理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生物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语听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机属于过关考试，不过关不能上重点高中。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门文化科考试时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17.18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总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上一届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最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才能取得上普通高中资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 Box 2"/>
          <p:cNvSpPr/>
          <p:nvPr/>
        </p:nvSpPr>
        <p:spPr>
          <a:xfrm>
            <a:off x="324000" y="1484280"/>
            <a:ext cx="8497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份    徐州一中      睢中南         睢中北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5             633              633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3       65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0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1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8       64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4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2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2" name="Text Box 3"/>
          <p:cNvSpPr/>
          <p:nvPr/>
        </p:nvSpPr>
        <p:spPr>
          <a:xfrm>
            <a:off x="250920" y="11736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重点中学录取分数线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/>
          </p:nvPr>
        </p:nvSpPr>
        <p:spPr>
          <a:xfrm>
            <a:off x="107640" y="117360"/>
            <a:ext cx="878508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招生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、北两校单独招生，互不兼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录取人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轨生、指标生，即免费生；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，缴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3360--193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近三年我校录取睢中免费生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0--7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上择校生总共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0---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取方法：并轨、指标、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2"/>
          <p:cNvSpPr/>
          <p:nvPr/>
        </p:nvSpPr>
        <p:spPr>
          <a:xfrm>
            <a:off x="252360" y="2279520"/>
            <a:ext cx="8763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前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我校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我校学生包揽前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9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8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2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另：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79.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初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现初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地生中考满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7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再过千人（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9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中考总均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7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，我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87.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注：以上分数不含政策性加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5" name="WordArt 3" descr=""/>
          <p:cNvPicPr/>
          <p:nvPr/>
        </p:nvPicPr>
        <p:blipFill>
          <a:blip r:embed="rId1"/>
          <a:stretch/>
        </p:blipFill>
        <p:spPr>
          <a:xfrm>
            <a:off x="907920" y="0"/>
            <a:ext cx="6529680" cy="2182680"/>
          </a:xfrm>
          <a:prstGeom prst="rect">
            <a:avLst/>
          </a:prstGeom>
          <a:ln w="0">
            <a:noFill/>
          </a:ln>
        </p:spPr>
      </p:pic>
      <p:sp>
        <p:nvSpPr>
          <p:cNvPr id="1696" name="WordArt 4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1697" name="WordArt 5"/>
          <p:cNvSpPr txBox="1"/>
          <p:nvPr/>
        </p:nvSpPr>
        <p:spPr>
          <a:xfrm>
            <a:off x="612720" y="-23760"/>
            <a:ext cx="669600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8" name="Picture 2" descr="1-110521010381-1胡璐"/>
          <p:cNvPicPr/>
          <p:nvPr/>
        </p:nvPicPr>
        <p:blipFill>
          <a:blip r:embed="rId1"/>
          <a:stretch/>
        </p:blipFill>
        <p:spPr>
          <a:xfrm>
            <a:off x="352440" y="1735200"/>
            <a:ext cx="1324080" cy="1743120"/>
          </a:xfrm>
          <a:prstGeom prst="rect">
            <a:avLst/>
          </a:prstGeom>
          <a:ln w="0">
            <a:noFill/>
          </a:ln>
        </p:spPr>
      </p:pic>
      <p:sp>
        <p:nvSpPr>
          <p:cNvPr id="1699" name="Text Box 3"/>
          <p:cNvSpPr/>
          <p:nvPr/>
        </p:nvSpPr>
        <p:spPr>
          <a:xfrm>
            <a:off x="190440" y="355140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0" name="Text Box 4"/>
          <p:cNvSpPr/>
          <p:nvPr/>
        </p:nvSpPr>
        <p:spPr>
          <a:xfrm>
            <a:off x="2514600" y="358128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11052101136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卢欢 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710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全县第二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1" name="Text Box 5"/>
          <p:cNvSpPr/>
          <p:nvPr/>
        </p:nvSpPr>
        <p:spPr>
          <a:xfrm>
            <a:off x="5086440" y="3551400"/>
            <a:ext cx="200016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18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胡桂铭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7.5   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三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2" name="Text Box 6"/>
          <p:cNvSpPr/>
          <p:nvPr/>
        </p:nvSpPr>
        <p:spPr>
          <a:xfrm>
            <a:off x="7257960" y="3551400"/>
            <a:ext cx="18288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79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滕瑶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6.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四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3" name="Text Box 7"/>
          <p:cNvSpPr/>
          <p:nvPr/>
        </p:nvSpPr>
        <p:spPr>
          <a:xfrm>
            <a:off x="228600" y="6070680"/>
            <a:ext cx="2057400" cy="55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708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倪浩伦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6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五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4" name="Text Box 8"/>
          <p:cNvSpPr/>
          <p:nvPr/>
        </p:nvSpPr>
        <p:spPr>
          <a:xfrm>
            <a:off x="2514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06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徐晓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5" name="Text Box 9"/>
          <p:cNvSpPr/>
          <p:nvPr/>
        </p:nvSpPr>
        <p:spPr>
          <a:xfrm>
            <a:off x="491508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66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姚若愚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6" name="Text Box 10"/>
          <p:cNvSpPr/>
          <p:nvPr/>
        </p:nvSpPr>
        <p:spPr>
          <a:xfrm>
            <a:off x="7086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273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吴雨晨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07" name="Picture 11" descr="2-卢欢110521011369"/>
          <p:cNvPicPr/>
          <p:nvPr/>
        </p:nvPicPr>
        <p:blipFill>
          <a:blip r:embed="rId2"/>
          <a:stretch/>
        </p:blipFill>
        <p:spPr>
          <a:xfrm>
            <a:off x="267480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12" descr="3-110521011189-3胡桂铭"/>
          <p:cNvPicPr/>
          <p:nvPr/>
        </p:nvPicPr>
        <p:blipFill>
          <a:blip r:embed="rId3"/>
          <a:stretch/>
        </p:blipFill>
        <p:spPr>
          <a:xfrm>
            <a:off x="517212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3" descr="4-110521010792-4滕瑶"/>
          <p:cNvPicPr/>
          <p:nvPr/>
        </p:nvPicPr>
        <p:blipFill>
          <a:blip r:embed="rId4"/>
          <a:stretch/>
        </p:blipFill>
        <p:spPr>
          <a:xfrm>
            <a:off x="748656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14" descr="110521011708"/>
          <p:cNvPicPr/>
          <p:nvPr/>
        </p:nvPicPr>
        <p:blipFill>
          <a:blip r:embed="rId5"/>
          <a:stretch/>
        </p:blipFill>
        <p:spPr>
          <a:xfrm>
            <a:off x="439560" y="4411800"/>
            <a:ext cx="1236960" cy="161604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15" descr="7-姚若愚110521010665"/>
          <p:cNvPicPr/>
          <p:nvPr/>
        </p:nvPicPr>
        <p:blipFill>
          <a:blip r:embed="rId6"/>
          <a:stretch/>
        </p:blipFill>
        <p:spPr>
          <a:xfrm>
            <a:off x="53150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16" descr="6-徐晓110521010061"/>
          <p:cNvPicPr/>
          <p:nvPr/>
        </p:nvPicPr>
        <p:blipFill>
          <a:blip r:embed="rId7"/>
          <a:stretch/>
        </p:blipFill>
        <p:spPr>
          <a:xfrm>
            <a:off x="28004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17" descr="8-吴雨晨110521011273"/>
          <p:cNvPicPr/>
          <p:nvPr/>
        </p:nvPicPr>
        <p:blipFill>
          <a:blip r:embed="rId8"/>
          <a:stretch/>
        </p:blipFill>
        <p:spPr>
          <a:xfrm>
            <a:off x="7486560" y="4467240"/>
            <a:ext cx="1236600" cy="1616040"/>
          </a:xfrm>
          <a:prstGeom prst="rect">
            <a:avLst/>
          </a:prstGeom>
          <a:ln w="0">
            <a:noFill/>
          </a:ln>
        </p:spPr>
      </p:pic>
      <p:sp>
        <p:nvSpPr>
          <p:cNvPr id="1714" name="Rectangle 18"/>
          <p:cNvSpPr/>
          <p:nvPr/>
        </p:nvSpPr>
        <p:spPr>
          <a:xfrm>
            <a:off x="57240" y="13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5" name="Rectangle 19"/>
          <p:cNvSpPr/>
          <p:nvPr/>
        </p:nvSpPr>
        <p:spPr>
          <a:xfrm>
            <a:off x="-68400" y="25095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6" name="WordArt 20" descr=""/>
          <p:cNvPicPr/>
          <p:nvPr/>
        </p:nvPicPr>
        <p:blipFill>
          <a:blip r:embed="rId9"/>
          <a:stretch/>
        </p:blipFill>
        <p:spPr>
          <a:xfrm>
            <a:off x="1195560" y="-420840"/>
            <a:ext cx="6527520" cy="2170440"/>
          </a:xfrm>
          <a:prstGeom prst="rect">
            <a:avLst/>
          </a:prstGeom>
          <a:ln w="0">
            <a:noFill/>
          </a:ln>
        </p:spPr>
      </p:pic>
      <p:sp>
        <p:nvSpPr>
          <p:cNvPr id="1717" name="WordArt 21"/>
          <p:cNvSpPr txBox="1"/>
          <p:nvPr/>
        </p:nvSpPr>
        <p:spPr>
          <a:xfrm>
            <a:off x="612720" y="-23760"/>
            <a:ext cx="720108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WordArt 2" descr=""/>
          <p:cNvPicPr/>
          <p:nvPr/>
        </p:nvPicPr>
        <p:blipFill>
          <a:blip r:embed="rId1"/>
          <a:stretch/>
        </p:blipFill>
        <p:spPr>
          <a:xfrm>
            <a:off x="1457280" y="433440"/>
            <a:ext cx="6534360" cy="218124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3" descr="1-110521010381-1胡璐"/>
          <p:cNvPicPr/>
          <p:nvPr/>
        </p:nvPicPr>
        <p:blipFill>
          <a:blip r:embed="rId2"/>
          <a:stretch/>
        </p:blipFill>
        <p:spPr>
          <a:xfrm>
            <a:off x="457200" y="1981080"/>
            <a:ext cx="2193840" cy="2886120"/>
          </a:xfrm>
          <a:prstGeom prst="rect">
            <a:avLst/>
          </a:prstGeom>
          <a:ln w="0">
            <a:noFill/>
          </a:ln>
        </p:spPr>
      </p:pic>
      <p:sp>
        <p:nvSpPr>
          <p:cNvPr id="1720" name="Text Box 4"/>
          <p:cNvSpPr/>
          <p:nvPr/>
        </p:nvSpPr>
        <p:spPr>
          <a:xfrm>
            <a:off x="3048120" y="2286000"/>
            <a:ext cx="5495760" cy="176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1" name="WordArt 5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1722" name="WordArt 6"/>
          <p:cNvSpPr txBox="1"/>
          <p:nvPr/>
        </p:nvSpPr>
        <p:spPr>
          <a:xfrm>
            <a:off x="3203640" y="4508640"/>
            <a:ext cx="53308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180720" y="259920"/>
            <a:ext cx="85820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前全年级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比上届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6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，在班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-----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2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--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5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--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9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1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3"/>
          <p:cNvSpPr/>
          <p:nvPr/>
        </p:nvSpPr>
        <p:spPr>
          <a:xfrm>
            <a:off x="108000" y="4581360"/>
            <a:ext cx="85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3---5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学生尤其需要努力。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WordArt 2"/>
          <p:cNvSpPr txBox="1"/>
          <p:nvPr/>
        </p:nvSpPr>
        <p:spPr>
          <a:xfrm>
            <a:off x="1116000" y="177336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流与建议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6" name="Picture 2" descr="1600_047"/>
          <p:cNvPicPr/>
          <p:nvPr/>
        </p:nvPicPr>
        <p:blipFill>
          <a:blip r:embed="rId1"/>
          <a:stretch/>
        </p:blipFill>
        <p:spPr>
          <a:xfrm>
            <a:off x="179280" y="-95400"/>
            <a:ext cx="9142560" cy="6824880"/>
          </a:xfrm>
          <a:prstGeom prst="rect">
            <a:avLst/>
          </a:prstGeom>
          <a:ln w="0">
            <a:noFill/>
          </a:ln>
        </p:spPr>
      </p:pic>
      <p:sp>
        <p:nvSpPr>
          <p:cNvPr id="1727" name="Text Box 3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8" name="Text Box 4"/>
          <p:cNvSpPr/>
          <p:nvPr/>
        </p:nvSpPr>
        <p:spPr>
          <a:xfrm>
            <a:off x="828720" y="242100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9" name="Text Box 5"/>
          <p:cNvSpPr/>
          <p:nvPr/>
        </p:nvSpPr>
        <p:spPr>
          <a:xfrm>
            <a:off x="466560" y="1052640"/>
            <a:ext cx="828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在外留宿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带同学回家住宿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回家很迟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受伤回家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打电话时间长，次数多，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超常消费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超出友谊的交往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成绩突然下降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穿奇装异服，爱好打扮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说话、做事和平时明显不同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0" name="WordArt 6"/>
          <p:cNvSpPr txBox="1"/>
          <p:nvPr/>
        </p:nvSpPr>
        <p:spPr>
          <a:xfrm>
            <a:off x="684360" y="189000"/>
            <a:ext cx="345600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关注孩子的变化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Dow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1" name="Picture 2" descr="JKS15_100"/>
          <p:cNvPicPr/>
          <p:nvPr/>
        </p:nvPicPr>
        <p:blipFill>
          <a:blip r:embed="rId1"/>
          <a:stretch/>
        </p:blipFill>
        <p:spPr>
          <a:xfrm>
            <a:off x="108000" y="-9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32" name="Text Box 3"/>
          <p:cNvSpPr/>
          <p:nvPr/>
        </p:nvSpPr>
        <p:spPr>
          <a:xfrm>
            <a:off x="61128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要尽量控制孩子的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零用钱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和上学、回家的时间，时刻了解学生的动向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539640" y="44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这样会更好！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4" name="Text Box 5"/>
          <p:cNvSpPr/>
          <p:nvPr/>
        </p:nvSpPr>
        <p:spPr>
          <a:xfrm>
            <a:off x="1403280" y="2781360"/>
            <a:ext cx="734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早    晨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中午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1: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午休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2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（在家午休的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）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晚上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2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5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周六下午放学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:1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5" name="Text Box 6"/>
          <p:cNvSpPr/>
          <p:nvPr/>
        </p:nvSpPr>
        <p:spPr>
          <a:xfrm>
            <a:off x="468360" y="198900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作息时间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%E9%92%A2%E7%90%B4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250920" y="117360"/>
            <a:ext cx="595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班级基本情况：</a:t>
            </a:r>
            <a:endParaRPr b="1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9" name="Text Box 3"/>
          <p:cNvSpPr/>
          <p:nvPr/>
        </p:nvSpPr>
        <p:spPr>
          <a:xfrm>
            <a:off x="250920" y="1123920"/>
            <a:ext cx="858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全班共有学生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7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其中男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女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 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由原初二年级学生平均分配组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0" name="Rectangle 4"/>
          <p:cNvSpPr/>
          <p:nvPr/>
        </p:nvSpPr>
        <p:spPr>
          <a:xfrm>
            <a:off x="250920" y="2708280"/>
            <a:ext cx="8232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班级管理总体原则</a:t>
            </a: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培养好习惯、做文明人、树信心、学会学习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目前班级已形成良好的班风、学风、正沿着健康的轨道向前发展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1" name="Picture 5" descr="图片22"/>
          <p:cNvPicPr/>
          <p:nvPr/>
        </p:nvPicPr>
        <p:blipFill>
          <a:blip r:embed="rId1"/>
          <a:stretch/>
        </p:blipFill>
        <p:spPr>
          <a:xfrm>
            <a:off x="108000" y="508464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2" descr="JKS15_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7" name="Text Box 3"/>
          <p:cNvSpPr/>
          <p:nvPr/>
        </p:nvSpPr>
        <p:spPr>
          <a:xfrm>
            <a:off x="612720" y="69228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2 </a:t>
            </a:r>
            <a:r>
              <a:rPr b="1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在假期、周六、周日这段时间内督促孩子多看书，少看电视，尽量不要上网打游戏</a:t>
            </a:r>
            <a:r>
              <a:rPr b="0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8" name="Text Box 4"/>
          <p:cNvSpPr/>
          <p:nvPr/>
        </p:nvSpPr>
        <p:spPr>
          <a:xfrm>
            <a:off x="684360" y="1917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不要把手机、</a:t>
            </a: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MP3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等通讯工具给子女使用，甚至带到学校（学校有明确的处罚规定）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9" name="Rectangle 5"/>
          <p:cNvSpPr/>
          <p:nvPr/>
        </p:nvSpPr>
        <p:spPr>
          <a:xfrm>
            <a:off x="755640" y="350208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4 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关心学生每一天的学习情况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督促学生晚上在家独立完成各科家庭作业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作业签字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并进行适当的复习和预习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对于学有余力的学生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安排适当的课外习题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0" name="Picture 6" descr="27_4200_578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Failed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42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3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4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45" name="Text Box 6"/>
          <p:cNvSpPr/>
          <p:nvPr/>
        </p:nvSpPr>
        <p:spPr>
          <a:xfrm>
            <a:off x="252360" y="549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5 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每天给孩子创造良好的学习环境，多鼓励孩子，多与孩子一同学习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多注意孩子的书包，看一看里面装的是啥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体育训练马上要开始了，注意早饭的营养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工作再忙也要抽点时间来多了解孩子在校的表现和学习成绩情况。</a:t>
            </a:r>
            <a:r>
              <a:rPr b="1" lang="zh-CN" sz="4800" spc="-1" strike="noStrike">
                <a:solidFill>
                  <a:srgbClr val="ff00ff"/>
                </a:solidFill>
                <a:latin typeface="新宋体"/>
                <a:ea typeface="华文中宋"/>
              </a:rPr>
              <a:t>他们的自制能力是很差的</a:t>
            </a: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，需要我们的监督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2"/>
          <p:cNvGrpSpPr/>
          <p:nvPr/>
        </p:nvGrpSpPr>
        <p:grpSpPr>
          <a:xfrm>
            <a:off x="-33480" y="-95400"/>
            <a:ext cx="9141120" cy="6855120"/>
            <a:chOff x="-33480" y="-95400"/>
            <a:chExt cx="9141120" cy="6855120"/>
          </a:xfrm>
        </p:grpSpPr>
        <p:pic>
          <p:nvPicPr>
            <p:cNvPr id="1748" name="Picture 3" descr="未命名"/>
            <p:cNvPicPr/>
            <p:nvPr/>
          </p:nvPicPr>
          <p:blipFill>
            <a:blip r:embed="rId2"/>
            <a:stretch/>
          </p:blipFill>
          <p:spPr>
            <a:xfrm>
              <a:off x="-33480" y="-95400"/>
              <a:ext cx="914112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Rectangle 4"/>
            <p:cNvSpPr/>
            <p:nvPr/>
          </p:nvSpPr>
          <p:spPr>
            <a:xfrm>
              <a:off x="-33480" y="-95400"/>
              <a:ext cx="25135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0" name="Rectangle 5"/>
            <p:cNvSpPr/>
            <p:nvPr/>
          </p:nvSpPr>
          <p:spPr>
            <a:xfrm>
              <a:off x="5146200" y="3789000"/>
              <a:ext cx="3123360" cy="24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1" name="WordArt 6"/>
          <p:cNvSpPr txBox="1"/>
          <p:nvPr/>
        </p:nvSpPr>
        <p:spPr>
          <a:xfrm>
            <a:off x="1476360" y="3240"/>
            <a:ext cx="5472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谢谢光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52" name="Text Box 7"/>
          <p:cNvSpPr/>
          <p:nvPr/>
        </p:nvSpPr>
        <p:spPr>
          <a:xfrm>
            <a:off x="36360" y="155736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让我们一起帮助孩子走好人生的十字路口！</a:t>
            </a:r>
            <a:endParaRPr b="1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3" name="WordArt 8"/>
          <p:cNvSpPr txBox="1"/>
          <p:nvPr/>
        </p:nvSpPr>
        <p:spPr>
          <a:xfrm>
            <a:off x="4211640" y="56610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常过来看看！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5" name="%E9%92%A2%E7%90%B4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Text Box 2"/>
          <p:cNvSpPr/>
          <p:nvPr/>
        </p:nvSpPr>
        <p:spPr>
          <a:xfrm>
            <a:off x="179280" y="117360"/>
            <a:ext cx="89298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欢迎各位家长与各科任课老师交流！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语文          孙瑞渠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152516918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数学          马远宗   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15952258131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英语          孙   璇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921782791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物理          庄   诚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85213796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化学          姬中友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61512124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政治          郑    柱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92178037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历史          李冬梅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85224294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643" name="Text Box 6"/>
          <p:cNvSpPr/>
          <p:nvPr/>
        </p:nvSpPr>
        <p:spPr>
          <a:xfrm>
            <a:off x="1549440" y="23493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期中考试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　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WordArt 2"/>
          <p:cNvSpPr txBox="1"/>
          <p:nvPr/>
        </p:nvSpPr>
        <p:spPr>
          <a:xfrm>
            <a:off x="324000" y="-3240"/>
            <a:ext cx="5400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45" name=""/>
          <p:cNvGraphicFramePr/>
          <p:nvPr/>
        </p:nvGraphicFramePr>
        <p:xfrm>
          <a:off x="-22320" y="838080"/>
          <a:ext cx="8879040" cy="5904000"/>
        </p:xfrm>
        <a:graphic>
          <a:graphicData uri="http://schemas.openxmlformats.org/drawingml/2006/table">
            <a:tbl>
              <a:tblPr/>
              <a:tblGrid>
                <a:gridCol w="1114560"/>
                <a:gridCol w="855720"/>
                <a:gridCol w="690480"/>
                <a:gridCol w="762120"/>
                <a:gridCol w="644400"/>
                <a:gridCol w="884160"/>
                <a:gridCol w="692280"/>
                <a:gridCol w="649080"/>
                <a:gridCol w="648000"/>
                <a:gridCol w="887400"/>
                <a:gridCol w="441360"/>
                <a:gridCol w="60948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语文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物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化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政治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历史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地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次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变化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4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WordArt 2"/>
          <p:cNvSpPr txBox="1"/>
          <p:nvPr/>
        </p:nvSpPr>
        <p:spPr>
          <a:xfrm>
            <a:off x="468360" y="-7308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进步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7" name="Text Box 3"/>
          <p:cNvSpPr/>
          <p:nvPr/>
        </p:nvSpPr>
        <p:spPr>
          <a:xfrm>
            <a:off x="1042920" y="2349360"/>
            <a:ext cx="756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8" name="Text Box 4"/>
          <p:cNvSpPr/>
          <p:nvPr/>
        </p:nvSpPr>
        <p:spPr>
          <a:xfrm>
            <a:off x="900000" y="1989000"/>
            <a:ext cx="751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仝梦莹    王中源     刘思秀      陈欣宇    潘    婷     何   伟      朱子彧    徐    也     张佳钰      王子鸣    倪百川     吴    琪      朱柳青    吴    祥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2"/>
          <p:cNvSpPr txBox="1"/>
          <p:nvPr/>
        </p:nvSpPr>
        <p:spPr>
          <a:xfrm>
            <a:off x="324000" y="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退步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0" name="Text Box 3"/>
          <p:cNvSpPr/>
          <p:nvPr/>
        </p:nvSpPr>
        <p:spPr>
          <a:xfrm>
            <a:off x="1144440" y="1962000"/>
            <a:ext cx="731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尹腾川      顾子春    徐   斌  陈思宇      王莹莹    祁润东胡   宝       戴梓升    主   宰 张   坤       纪松凯    袁婉玲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矩形 5"/>
          <p:cNvSpPr/>
          <p:nvPr/>
        </p:nvSpPr>
        <p:spPr>
          <a:xfrm>
            <a:off x="179280" y="63039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2" name="Picture 2" descr="gifmb034"/>
          <p:cNvPicPr/>
          <p:nvPr/>
        </p:nvPicPr>
        <p:blipFill>
          <a:blip r:embed="rId2"/>
          <a:stretch/>
        </p:blipFill>
        <p:spPr>
          <a:xfrm>
            <a:off x="-22320" y="-12600"/>
            <a:ext cx="9526680" cy="68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3" name=""/>
          <p:cNvGraphicFramePr/>
          <p:nvPr/>
        </p:nvGraphicFramePr>
        <p:xfrm>
          <a:off x="2771640" y="620640"/>
          <a:ext cx="4319640" cy="5726160"/>
        </p:xfrm>
        <a:graphic>
          <a:graphicData uri="http://schemas.openxmlformats.org/drawingml/2006/table">
            <a:tbl>
              <a:tblPr/>
              <a:tblGrid>
                <a:gridCol w="2136960"/>
                <a:gridCol w="21826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吴  祥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邢丽娜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4" name="WordArt 41"/>
          <p:cNvSpPr txBox="1"/>
          <p:nvPr/>
        </p:nvSpPr>
        <p:spPr>
          <a:xfrm rot="5400000">
            <a:off x="-438840" y="2676960"/>
            <a:ext cx="44751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语文成绩优秀的学生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826920" y="6093000"/>
            <a:ext cx="7624800" cy="525240"/>
            <a:chOff x="826920" y="6093000"/>
            <a:chExt cx="7624800" cy="525240"/>
          </a:xfrm>
        </p:grpSpPr>
        <p:pic>
          <p:nvPicPr>
            <p:cNvPr id="1656" name="Picture 3" descr="2"/>
            <p:cNvPicPr/>
            <p:nvPr/>
          </p:nvPicPr>
          <p:blipFill>
            <a:blip r:embed="rId1"/>
            <a:stretch/>
          </p:blipFill>
          <p:spPr>
            <a:xfrm>
              <a:off x="6999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Picture 4" descr="2"/>
            <p:cNvPicPr/>
            <p:nvPr/>
          </p:nvPicPr>
          <p:blipFill>
            <a:blip r:embed="rId2"/>
            <a:stretch/>
          </p:blipFill>
          <p:spPr>
            <a:xfrm>
              <a:off x="55512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Picture 5" descr="2"/>
            <p:cNvPicPr/>
            <p:nvPr/>
          </p:nvPicPr>
          <p:blipFill>
            <a:blip r:embed="rId3"/>
            <a:stretch/>
          </p:blipFill>
          <p:spPr>
            <a:xfrm>
              <a:off x="39510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Picture 6" descr="2"/>
            <p:cNvPicPr/>
            <p:nvPr/>
          </p:nvPicPr>
          <p:blipFill>
            <a:blip r:embed="rId4"/>
            <a:stretch/>
          </p:blipFill>
          <p:spPr>
            <a:xfrm>
              <a:off x="2427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Picture 7" descr="2"/>
            <p:cNvPicPr/>
            <p:nvPr/>
          </p:nvPicPr>
          <p:blipFill>
            <a:blip r:embed="rId5"/>
            <a:stretch/>
          </p:blipFill>
          <p:spPr>
            <a:xfrm>
              <a:off x="8269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1" name="Text Box 8"/>
          <p:cNvSpPr/>
          <p:nvPr/>
        </p:nvSpPr>
        <p:spPr>
          <a:xfrm>
            <a:off x="1187280" y="1844640"/>
            <a:ext cx="71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2627280" y="549360"/>
          <a:ext cx="4464000" cy="52038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思秀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3" name="WordArt 44"/>
          <p:cNvSpPr txBox="1"/>
          <p:nvPr/>
        </p:nvSpPr>
        <p:spPr>
          <a:xfrm rot="5400000">
            <a:off x="-1368360" y="2816280"/>
            <a:ext cx="52545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期中数学成绩优秀的学生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3:30:41Z</dcterms:created>
  <dc:creator>雨林木风</dc:creator>
  <dc:description/>
  <cp:keywords/>
  <dc:language>en-US</dc:language>
  <cp:lastModifiedBy>admin</cp:lastModifiedBy>
  <cp:lastPrinted>1899-12-30T00:00:00Z</cp:lastPrinted>
  <dcterms:modified xsi:type="dcterms:W3CDTF">2015-03-31T01:54:16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0802000000000001024120</vt:lpwstr>
  </property>
</Properties>
</file>