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png" ContentType="image/png"/>
  <Override PartName="/ppt/media/chimes.wav" ContentType="audio/x-wav"/>
  <Override PartName="/ppt/media/image21.jpeg" ContentType="image/jpeg"/>
  <Override PartName="/ppt/media/image7.jpeg" ContentType="image/jpeg"/>
  <Override PartName="/ppt/media/image15.gif" ContentType="image/gif"/>
  <Override PartName="/ppt/media/image5.jpeg" ContentType="image/jpeg"/>
  <Override PartName="/ppt/media/image10.jpeg" ContentType="image/jpeg"/>
  <Override PartName="/ppt/media/image11.gif" ContentType="image/gif"/>
  <Override PartName="/ppt/media/image6.png" ContentType="image/png"/>
  <Override PartName="/ppt/media/image8.png" ContentType="image/png"/>
  <Override PartName="/ppt/media/image9.jpeg" ContentType="image/jpeg"/>
  <Override PartName="/ppt/media/type.wav" ContentType="audio/x-wav"/>
  <Override PartName="/ppt/media/image26.gif" ContentType="image/gif"/>
  <Override PartName="/ppt/media/image20.jpeg" ContentType="image/jpeg"/>
  <Override PartName="/ppt/media/clap.wav" ContentType="audio/x-wav"/>
  <Override PartName="/ppt/media/image27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9.gif" ContentType="image/gif"/>
  <Override PartName="/ppt/media/image13.jpeg" ContentType="image/jpeg"/>
  <Override PartName="/ppt/media/image16.gif" ContentType="image/gif"/>
  <Override PartName="/ppt/media/image17.jpeg" ContentType="image/jpeg"/>
  <Override PartName="/ppt/media/image18.jpeg" ContentType="image/jpeg"/>
  <Override PartName="/ppt/media/camera.wav" ContentType="audio/x-wav"/>
  <Override PartName="/ppt/media/cashreg.wav" ContentType="audio/x-wav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D57-E02C-4BD5-851A-4C73450B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3A8-8F4C-42EB-BB6D-3F20B561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582-C4D1-4DC3-9831-422E4FD7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FF7-DFEE-4BD4-978A-44DC86BE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01F0-67DA-40A5-A67C-D22F9151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70CA-0972-45FE-A1E4-BF08CB46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8FA3-880B-4A0B-8E82-76ABA1D8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FD5C-A4C9-4601-B4AC-BFEDE281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6525-2C49-44CC-9F09-14853248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4BB6-A2B3-45B1-9289-30CE181E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E36E-A87C-413C-83E1-F9ABF64F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477-CE9E-47C5-B854-629452D3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4E99-2FC1-4EC8-BD39-B74C39FE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9061-ABEE-402B-9F6A-7659BC9C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26CC-7003-4389-B774-FAC0C089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B8CF-7BB3-40FC-9EBB-21396D59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A287-96EB-4B1D-9C7F-E5B60B08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C342C-C568-43F6-885A-EEF45F32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6C6A2-2C11-4F7C-B788-DA02CE3F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85134-EF94-480C-91A2-29BF7DE1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8E62A-FB34-4930-91A9-17178C24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CA962-E57A-41EC-B8B9-D4055775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BE2-69DA-4A03-BCD4-98BDA036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B599E-97D9-4B0A-A725-85BB84FA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6C8F8-B543-4715-BFE1-7CDB95BD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A2A87-4795-490B-AE1B-EB755B7E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FE9C9-7C4C-47D6-ABCA-D0BFC060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5C5D1-C740-48FB-AD54-7495695D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965E8-996B-462B-9A5D-EDAC7447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FB8EB-AB34-4B88-BC4A-352F2156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2DCD1-242D-4F87-8BEA-18BB068F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9AB14-D732-4504-A6D9-5139BBD5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D99EB-4EE0-424C-9AE5-DCCFB479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8377-B825-4F5B-8117-884147CA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8CED7-01B2-483C-8177-14591842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C9033-AC3E-4FC2-BC0F-4EA46F1F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33D83-A40D-451B-A5A5-B614338E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5DD86-470C-480A-BA47-EA08B7AD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FE715-2F8F-47A5-88A6-EE3A36D5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FDA47-593F-45CC-9B30-7ED7B03C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35DB6-3F70-4B9F-8C6A-9021E921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559D2-1930-451C-8408-8D9F78AC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781E2-8204-42A4-B748-4E68CE9B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538-FF37-4F16-B84A-BA92AF6A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413-3945-4DFB-B9F5-288F3D87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2E1-A6F7-47C1-8B91-2E4A0DB2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DDC-FBF5-4DFB-92C9-5D778EAA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F25-499B-4F7A-B562-30D2C748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3E62-6E81-46C9-88E0-7AB3552EE790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5FDA-6566-4610-B8E1-30955D20AA86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C728-BD50-4122-98B1-968BD9E0E9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D930-F1E6-40C4-931F-D712984386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image" Target="../media/image25.pn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990720" y="1371600"/>
            <a:ext cx="7305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同样的心情 一样的期待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6443640" y="1773360"/>
            <a:ext cx="792000" cy="2557440"/>
            <a:chOff x="6443640" y="1773360"/>
            <a:chExt cx="792000" cy="2557440"/>
          </a:xfrm>
        </p:grpSpPr>
        <p:sp>
          <p:nvSpPr>
            <p:cNvPr id="483" name=""/>
            <p:cNvSpPr/>
            <p:nvPr/>
          </p:nvSpPr>
          <p:spPr>
            <a:xfrm>
              <a:off x="6443640" y="3963960"/>
              <a:ext cx="790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43640" y="3598920"/>
              <a:ext cx="790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43640" y="3233880"/>
              <a:ext cx="790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43640" y="2868480"/>
              <a:ext cx="790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43640" y="2503440"/>
              <a:ext cx="790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43640" y="2138400"/>
              <a:ext cx="790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443640" y="1773360"/>
              <a:ext cx="790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43640" y="1773360"/>
              <a:ext cx="790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43640" y="4329000"/>
              <a:ext cx="790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43640" y="1773360"/>
              <a:ext cx="1080" cy="255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34560" y="1773360"/>
              <a:ext cx="1080" cy="255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39640" y="189000"/>
            <a:ext cx="8209080" cy="916920"/>
            <a:chOff x="539640" y="189000"/>
            <a:chExt cx="8209080" cy="916920"/>
          </a:xfrm>
        </p:grpSpPr>
        <p:sp>
          <p:nvSpPr>
            <p:cNvPr id="495" name="DownRibbonSharp"/>
            <p:cNvSpPr/>
            <p:nvPr/>
          </p:nvSpPr>
          <p:spPr>
            <a:xfrm>
              <a:off x="539640" y="189000"/>
              <a:ext cx="8209080" cy="762120"/>
            </a:xfrm>
            <a:custGeom>
              <a:avLst/>
              <a:gdLst>
                <a:gd name="textAreaLeft" fmla="*/ 2052000 w 8209080"/>
                <a:gd name="textAreaRight" fmla="*/ 6157080 w 8209080"/>
                <a:gd name="textAreaTop" fmla="*/ 9504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0" y="0"/>
                  </a:lnTo>
                  <a:lnTo>
                    <a:pt x="8100" y="2700"/>
                  </a:lnTo>
                  <a:lnTo>
                    <a:pt x="13500" y="2700"/>
                  </a:lnTo>
                  <a:lnTo>
                    <a:pt x="13500" y="0"/>
                  </a:lnTo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2700"/>
                  </a:moveTo>
                  <a:lnTo>
                    <a:pt x="5400" y="2700"/>
                  </a:lnTo>
                  <a:lnTo>
                    <a:pt x="5400" y="18900"/>
                  </a:lnTo>
                </a:path>
                <a:path fill="none" w="21600" h="21600">
                  <a:moveTo>
                    <a:pt x="5400" y="2700"/>
                  </a:moveTo>
                  <a:lnTo>
                    <a:pt x="8100" y="0"/>
                  </a:lnTo>
                </a:path>
                <a:path fill="none" w="21600" h="21600">
                  <a:moveTo>
                    <a:pt x="13500" y="2700"/>
                  </a:moveTo>
                  <a:lnTo>
                    <a:pt x="16200" y="2700"/>
                  </a:lnTo>
                  <a:lnTo>
                    <a:pt x="16200" y="18900"/>
                  </a:lnTo>
                </a:path>
                <a:path fill="none" w="21600" h="21600">
                  <a:moveTo>
                    <a:pt x="16200" y="2700"/>
                  </a:moveTo>
                  <a:lnTo>
                    <a:pt x="13500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40000" y="189000"/>
              <a:ext cx="460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期中考光荣榜</a:t>
              </a:r>
              <a:endParaRPr b="0" lang="en-US" sz="5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324000" y="2452320"/>
            <a:ext cx="86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班级优秀生名单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58920" y="1773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"/>
              </a:rPr>
              <a:t>李慧林、沈福涛、赵一楠、张晴、刘秀成、冯春良、陈飞、吕桂蕾、赵映源、魏立江、赵文笑、吴淑敏、陈金、张爱婧、吴娟、叶青娜、赵晨晖、刘本栋、赵叶青、王浩、李浩然、许长富、王倩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3419640" y="5661000"/>
            <a:ext cx="91440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611280" y="290520"/>
            <a:ext cx="8208720" cy="762120"/>
            <a:chOff x="611280" y="290520"/>
            <a:chExt cx="8208720" cy="762120"/>
          </a:xfrm>
        </p:grpSpPr>
        <p:sp>
          <p:nvSpPr>
            <p:cNvPr id="501" name="DownRibbonSharp"/>
            <p:cNvSpPr/>
            <p:nvPr/>
          </p:nvSpPr>
          <p:spPr>
            <a:xfrm>
              <a:off x="611280" y="290520"/>
              <a:ext cx="8208720" cy="762120"/>
            </a:xfrm>
            <a:custGeom>
              <a:avLst/>
              <a:gdLst>
                <a:gd name="textAreaLeft" fmla="*/ 2052000 w 8208720"/>
                <a:gd name="textAreaRight" fmla="*/ 6156720 w 8208720"/>
                <a:gd name="textAreaTop" fmla="*/ 9504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0" y="0"/>
                  </a:lnTo>
                  <a:lnTo>
                    <a:pt x="8100" y="2700"/>
                  </a:lnTo>
                  <a:lnTo>
                    <a:pt x="13500" y="2700"/>
                  </a:lnTo>
                  <a:lnTo>
                    <a:pt x="13500" y="0"/>
                  </a:lnTo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2700"/>
                  </a:moveTo>
                  <a:lnTo>
                    <a:pt x="5400" y="2700"/>
                  </a:lnTo>
                  <a:lnTo>
                    <a:pt x="5400" y="18900"/>
                  </a:lnTo>
                </a:path>
                <a:path fill="none" w="21600" h="21600">
                  <a:moveTo>
                    <a:pt x="5400" y="2700"/>
                  </a:moveTo>
                  <a:lnTo>
                    <a:pt x="8100" y="0"/>
                  </a:lnTo>
                </a:path>
                <a:path fill="none" w="21600" h="21600">
                  <a:moveTo>
                    <a:pt x="13500" y="2700"/>
                  </a:moveTo>
                  <a:lnTo>
                    <a:pt x="16200" y="2700"/>
                  </a:lnTo>
                  <a:lnTo>
                    <a:pt x="16200" y="18900"/>
                  </a:lnTo>
                </a:path>
                <a:path fill="none" w="21600" h="21600">
                  <a:moveTo>
                    <a:pt x="16200" y="2700"/>
                  </a:moveTo>
                  <a:lnTo>
                    <a:pt x="13500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411280" y="290520"/>
              <a:ext cx="46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华文行楷"/>
                </a:rPr>
                <a:t>进步标兵</a:t>
              </a:r>
              <a:endParaRPr b="0" lang="en-US" sz="36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419640" y="1773360"/>
            <a:ext cx="345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14440" y="29973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学习状况急需稳定的学生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03280" y="119700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32000" y="1267200"/>
            <a:ext cx="6381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赵晨晖、朱聪颖 、赵一楠 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魏丽江、吕桂蕾、赵叶青、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王倩 、王壮 、许长远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周泉成、 李晨旭、 陈飞、 赵华磊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76360" y="393228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489040" y="4003920"/>
            <a:ext cx="4098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叶青娜 、刘秀成  、赵文笑、  张爱婧 、王浩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吕梦雨 、 李文谱 、 赵振 、 刘高利 、李浩然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赵娟 、吴胜杰  、许树昕 、 刘墩慧  、王梦雨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 advTm="30000">
    <p:pull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630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学习习惯好：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  <a:ea typeface="黑体"/>
              </a:rPr>
              <a:t>勤向老师提问：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  <a:ea typeface="黑体"/>
              </a:rPr>
              <a:t>同学间讨论：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611280" y="579600"/>
            <a:ext cx="8208720" cy="761760"/>
            <a:chOff x="611280" y="579600"/>
            <a:chExt cx="8208720" cy="761760"/>
          </a:xfrm>
        </p:grpSpPr>
        <p:sp>
          <p:nvSpPr>
            <p:cNvPr id="511" name="DownRibbonSharp"/>
            <p:cNvSpPr/>
            <p:nvPr/>
          </p:nvSpPr>
          <p:spPr>
            <a:xfrm>
              <a:off x="611280" y="579600"/>
              <a:ext cx="8208720" cy="761760"/>
            </a:xfrm>
            <a:custGeom>
              <a:avLst/>
              <a:gdLst>
                <a:gd name="textAreaLeft" fmla="*/ 2052000 w 8208720"/>
                <a:gd name="textAreaRight" fmla="*/ 6156720 w 8208720"/>
                <a:gd name="textAreaTop" fmla="*/ 9504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0" y="0"/>
                  </a:lnTo>
                  <a:lnTo>
                    <a:pt x="8100" y="2700"/>
                  </a:lnTo>
                  <a:lnTo>
                    <a:pt x="13500" y="2700"/>
                  </a:lnTo>
                  <a:lnTo>
                    <a:pt x="13500" y="0"/>
                  </a:lnTo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2700"/>
                  </a:moveTo>
                  <a:lnTo>
                    <a:pt x="5400" y="2700"/>
                  </a:lnTo>
                  <a:lnTo>
                    <a:pt x="5400" y="18900"/>
                  </a:lnTo>
                </a:path>
                <a:path fill="none" w="21600" h="21600">
                  <a:moveTo>
                    <a:pt x="5400" y="2700"/>
                  </a:moveTo>
                  <a:lnTo>
                    <a:pt x="8100" y="0"/>
                  </a:lnTo>
                </a:path>
                <a:path fill="none" w="21600" h="21600">
                  <a:moveTo>
                    <a:pt x="13500" y="2700"/>
                  </a:moveTo>
                  <a:lnTo>
                    <a:pt x="16200" y="2700"/>
                  </a:lnTo>
                  <a:lnTo>
                    <a:pt x="16200" y="18900"/>
                  </a:lnTo>
                </a:path>
                <a:path fill="none" w="21600" h="21600">
                  <a:moveTo>
                    <a:pt x="16200" y="2700"/>
                  </a:moveTo>
                  <a:lnTo>
                    <a:pt x="13500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11280" y="579600"/>
              <a:ext cx="4608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3300"/>
                  </a:solidFill>
                  <a:latin typeface="Arial"/>
                  <a:ea typeface="华文行楷"/>
                </a:rPr>
                <a:t>榜样在身边</a:t>
              </a:r>
              <a:endParaRPr b="0" lang="en-US" sz="42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320" y="-27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 Black"/>
                <a:ea typeface="黑体"/>
              </a:rPr>
              <a:t>成绩中看问题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"/>
          <p:cNvSpPr/>
          <p:nvPr/>
        </p:nvSpPr>
        <p:spPr>
          <a:xfrm>
            <a:off x="971640" y="10144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、对小科不够重视，平时记录，背诵不自觉，导致优秀人数较少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547640" y="2249640"/>
            <a:ext cx="662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地理：优秀分（）以上有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14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人；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生物：优秀分（）以上有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13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人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47640" y="4581360"/>
            <a:ext cx="64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语文：虽然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117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分以上有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18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人；           但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117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分就有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人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-27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 Black"/>
                <a:ea typeface="黑体"/>
              </a:rPr>
              <a:t>成绩中看问题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"/>
          <p:cNvSpPr/>
          <p:nvPr/>
        </p:nvSpPr>
        <p:spPr>
          <a:xfrm>
            <a:off x="971640" y="10144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、偏科现象不同程度存在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26920" y="3500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、单科拔尖人数太少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300" spc="-1" strike="noStrike">
                <a:solidFill>
                  <a:srgbClr val="ffffff"/>
                </a:solidFill>
                <a:latin typeface="Arial Black"/>
                <a:ea typeface="华文行楷"/>
              </a:rPr>
              <a:t>期中反思</a:t>
            </a:r>
            <a:endParaRPr b="0" lang="en-US" sz="5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课堂效率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作业订正、纠错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复习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读背情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向老师提问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对部分男生情绪的稳定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4428720" y="31399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Arial Black"/>
              </a:rPr>
              <a:t>考后显露出的问题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在这次考试后，我们发现很多同学的总分高不了，究其原因，偏科太厉害！尤其要引起重视的是英语、数学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由于各个方面的原因，很多同学都在这些科目中出现“瘸腿”现象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试卷答题过程中暴露出来的不规范性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基础掌握不扎实。基础题失分太多或答不完全，不审题，做题马虎导致失分过多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老师反复强调的知识点没落实到位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，部分同学态度不端正，上课不够专心，出现开小差、想心思、玩手机，自己做自己的事情，完全不顾老师所讲的内容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，有些学生作业马虎、差错多，选择题乱猜，计算题只写一个答案；学生没有养成提前预习和适时复习的习惯，导致绩效不高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竞争意识不强，尤其是中层的学生自我满足，部分学生成绩波动较大，偏科现象较突出。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自我学习的效率不高，无法迅速进入学习的状态。放松学习，临考试才匆忙复习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行为懒散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考试心理状态调整不好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学习不扎实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不能落实到实处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个别同学对老师有抵触情绪现象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不能合理安排时间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个别同学没有明确的目标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基础太差，学习习惯不好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学生自觉性差，个别同学有严重违纪行为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有个别同学上课打瞌睡、看课外书，影响课堂效果；有的想提高成绩，但方法不对又不积极主动问老师和同学，时间一长就有放弃的心理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26920" y="45813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960e32"/>
                </a:solidFill>
                <a:latin typeface="华文行楷"/>
                <a:ea typeface="华文行楷"/>
              </a:rPr>
              <a:t>曹庄中学 七（</a:t>
            </a:r>
            <a:r>
              <a:rPr b="1" lang="zh-CN" sz="4000" spc="-1" strike="noStrike">
                <a:solidFill>
                  <a:srgbClr val="960e32"/>
                </a:solidFill>
                <a:latin typeface="华文行楷"/>
                <a:ea typeface="华文行楷"/>
              </a:rPr>
              <a:t>5</a:t>
            </a:r>
            <a:r>
              <a:rPr b="1" lang="zh-CN" sz="4000" spc="-1" strike="noStrike">
                <a:solidFill>
                  <a:srgbClr val="960e32"/>
                </a:solidFill>
                <a:latin typeface="华文行楷"/>
                <a:ea typeface="华文行楷"/>
              </a:rPr>
              <a:t>） 班家长会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762120" y="1981080"/>
            <a:ext cx="7772400" cy="365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欢迎您尊敬的家长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-6858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0684" fill="hold"/>
                                        <p:tgtEl>
                                          <p:spTgt spid="4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619280" y="404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对家长的希望：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1187280" y="1601640"/>
            <a:ext cx="4249800" cy="525636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2720520" y="2205000"/>
            <a:ext cx="1521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一、重视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二、了解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三、关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四、鼓励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五、督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六、配合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6172200" y="414972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24000" y="1197000"/>
            <a:ext cx="92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适时关注孩子学习、生活情况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213372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特别注意思想动态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4365720"/>
            <a:ext cx="86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给孩子创造良好的学习环境（物质、文化、精神环境）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567600" y="299736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提醒孩子注意安全（交通安全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运动安全、饮食安全等）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对子女的期望水平适中， 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ts val="4997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不能一味追求高目标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ts val="4997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控制零花钱，引导孩子合理消费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ts val="4997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注意观察学生变化（交友、着装、      学习态度），碰到孩子的新问题， 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ts val="4997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辩证思考再处理，切莫鲁莽行事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ts val="4997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引导孩子正确对待老师的教育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"/>
          <p:cNvSpPr/>
          <p:nvPr/>
        </p:nvSpPr>
        <p:spPr>
          <a:xfrm>
            <a:off x="1654560" y="33336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始终关心孩子的学习，不要放弃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努力；创造家庭迎考气氛，适当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施加压力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经常和老师沟通，多了解孩子的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在校情况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注意学生各学科的全面发展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5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0" y="0"/>
              <a:ext cx="2514600" cy="25146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81480" y="3886200"/>
              <a:ext cx="3124440" cy="243828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1692360" y="33336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有问题的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8360" y="1704240"/>
            <a:ext cx="831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语言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爱说谎话，黑话，脏话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及喜欢说话时带有江湖气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穿着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太过于时髦，暴露，喜欢擅改衣服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外貌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发型怪异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身上有刺青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有外伤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行为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较为标新立异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行为诡异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不敢让家人知道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长时间反锁自己房门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且神色紧张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态度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易于动怒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情绪极端变化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与家人赌气或自暴自弃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828800" y="3808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1706400"/>
            <a:ext cx="82803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6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作息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早出晚归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常无端数日不归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晚上外出去向不交代清楚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7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物品：有不良刊物、药物、香烟酒类，甚至不明巨款或当票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8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课业：成绩一落千丈，经常迟到早退、逃学、读书时间骤减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9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交友：有社会人士的朋友、电话，有朋友也不敢介绍给家人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习惯：有吸烟喝酒习惯，用钱需求量突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如果所列举的特征与孩子的行为相似愈多，父母就应该愈加注意，愈早防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"/>
          <p:cNvSpPr/>
          <p:nvPr/>
        </p:nvSpPr>
        <p:spPr>
          <a:xfrm>
            <a:off x="324000" y="393372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良好习惯的养成非常重要，包括学习习惯、思维习惯、生活习惯、饮食习惯、卫生习惯等，这些都有助于孩子的成长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8360" y="1700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要教育孩子怎样做人，关心孩子的思想动态使孩子有正确的思想导向、明确的奋斗目标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" y="14130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要尽量控制孩子的零用钱和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上学、回家的时间，教育孩子少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社会上的或其他学校的人搭朋友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71400" y="33577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工作再忙也要抽点时间来多了解孩子在校的表现和学习成绩情况。因为孩子是自己身上的肉呀，我们的一切工作难道不是为了孩子将来的美好前途吗？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1268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家长最好能经常与学校、老师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取得联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及时了解学校对学生的要求，学生在校的各方面表现，积极配合学校做好工作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364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家长要培养孩子的处事能力，要让孩子自己管理自己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01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要学会欣赏孩子，要善于发现他们的闪光点，及时给予鼓励，以增强他们的自信心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1f08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e1f08"/>
                </a:solidFill>
                <a:latin typeface="Times New Roman"/>
              </a:rPr>
              <a:t>首先感谢您在百忙之中抽空来参加家长会，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66680" y="685800"/>
            <a:ext cx="518184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50920" y="692280"/>
            <a:ext cx="83041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、不以成绩论英雄，您的子女学习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成绩好，并不意味着思想好、能力高，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您的子女学习成绩落后，并不意味着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思想差、能力低。现在的社会需要各种各样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的人才。只要有能力，任何一个学生都能在社会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上立足，并且成就一番事业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50920" y="314172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科学地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50920" y="4797360"/>
            <a:ext cx="84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抓好子女在家的行为习惯。如良好的休息、科学的学习、适量的劳动（劳动是育人的较好方式，只有劳动，他才懂得来之不易，懂得珍惜）等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609300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孩子面前做好表率，身教重于言教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116000" y="1844640"/>
            <a:ext cx="914400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在外留宿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回家很迟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带同学住宿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打电话时间长，次数多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受伤回家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超消费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</a:rPr>
              <a:t>         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50920" y="26028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需要注意十问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超出友谊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成绩突然下降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穿奇装异服，爱好打扮，沉默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老是玩电脑，手机，看闲书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需要注意十问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randomBar dir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5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古往今来，一切伟大的民族都会自觉地重视教育。犹太民族在他们的犹太教义中指出：“宁可变卖所有的东西，也要把女儿嫁给学者”。犹太人还说：“假如父母和教师两人同时坐牢而又只能保释一个人出来的话，做孩子的应该应先保释教师。”正因为有对教育如此重视的观念，才造就了犹太人的聪明和富有，从而获得了世界上第一富有民族的声誉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flipV="1">
            <a:off x="1763640" y="-459360"/>
            <a:ext cx="4953240" cy="9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结束语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3520" y="1095480"/>
            <a:ext cx="82296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每个孩子身上都蕴藏着巨大的、不可估量的潜力。假如我们能与他们做朋友，多一点沟通交流，少一点打骂，多一点信任理解，少一点猜疑，那么我们的孩子都有可能成为栋梁之材。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139840" y="-3240"/>
            <a:ext cx="372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imes New Roman"/>
              </a:rPr>
              <a:t>结  束  语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268000" y="4756320"/>
            <a:ext cx="65516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  <a:ea typeface="楷体_GB2312"/>
              </a:rPr>
              <a:t>让我们携起手来，共创孩子的美好明天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611280" y="53895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 txBox="1"/>
          <p:nvPr/>
        </p:nvSpPr>
        <p:spPr>
          <a:xfrm>
            <a:off x="1403280" y="333360"/>
            <a:ext cx="6858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您全家幸福万事如意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0" y="3789360"/>
            <a:ext cx="2136600" cy="28195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>
            <a:off x="8028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237663" fill="hold"/>
                                        <p:tgtEl>
                                          <p:spTgt spid="5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289536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4495680" y="419112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99"/>
                </a:solidFill>
                <a:latin typeface="Arial"/>
                <a:ea typeface="隶书"/>
              </a:rPr>
              <a:t>感谢光临</a:t>
            </a:r>
            <a:endParaRPr b="0" lang="en-US" sz="8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-76320" y="179856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1</a:t>
            </a: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、加强老师、家长、学校与学生之间的联系，相互交流学生在校及在家的情况，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2</a:t>
            </a: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、便于老师更有针对性的实施教育，家长更好教育自己的子女做人与成材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" y="380880"/>
            <a:ext cx="6191280" cy="8636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召开这次家长会的目的</a:t>
            </a: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4000" y="1341360"/>
            <a:ext cx="5184720" cy="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000" y="1341360"/>
            <a:ext cx="0" cy="865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604360" y="3357720"/>
            <a:ext cx="0" cy="388764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258920" y="7245000"/>
            <a:ext cx="7345440" cy="7308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320" y="5788800"/>
            <a:ext cx="9144000" cy="76428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619280" y="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家长会议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907920"/>
            <a:ext cx="648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5" name="">
            <a:hlinkClick r:id="rId2" action="ppaction://hlinksldjump"/>
          </p:cNvPr>
          <p:cNvSpPr/>
          <p:nvPr/>
        </p:nvSpPr>
        <p:spPr>
          <a:xfrm>
            <a:off x="1332000" y="2492280"/>
            <a:ext cx="73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    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6" name="">
            <a:hlinkClick r:id="rId3" action="ppaction://hlinksldjump"/>
          </p:cNvPr>
          <p:cNvSpPr/>
          <p:nvPr/>
        </p:nvSpPr>
        <p:spPr>
          <a:xfrm>
            <a:off x="1258920" y="3068640"/>
            <a:ext cx="5226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二、给家长的几点建议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32000" y="4508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三、大家相互交流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32000" y="1557360"/>
            <a:ext cx="38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、班主任发言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466560" y="62064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 rot="2269200">
            <a:off x="2805120" y="196920"/>
            <a:ext cx="2806560" cy="15876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80280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990720" y="152280"/>
            <a:ext cx="6400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学期工作重点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8080" y="2133720"/>
            <a:ext cx="6858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培养良好的学习习惯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培养良性的竞争意识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506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 Black"/>
                <a:ea typeface="华文隶书"/>
              </a:rPr>
              <a:t>班级教学理念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关注每一个学生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仅追求好，更追求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看中一时成绩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希望每个人都有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1619280" y="1052640"/>
            <a:ext cx="61927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回顾刚刚过去的学习情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 Black"/>
              </a:rPr>
              <a:t>期中考试成绩情况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511200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07:13:24Z</dcterms:created>
  <dc:creator>USER</dc:creator>
  <dc:description/>
  <dc:language>en-US</dc:language>
  <cp:lastModifiedBy>雨林木风</cp:lastModifiedBy>
  <dcterms:modified xsi:type="dcterms:W3CDTF">2012-11-22T12:13:21Z</dcterms:modified>
  <cp:revision>252</cp:revision>
  <dc:subject/>
  <dc:title>热烈欢迎各位家长</dc:title>
</cp:coreProperties>
</file>