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678-A72A-4099-83C5-CAFC5C34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ADF-4D02-4BC6-87D3-A4A1295F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79F-0A3F-4469-8B0D-BE40BC5F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CDF-14C4-4476-A393-12497613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C58-B293-4538-9D23-7FCE16E8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C2C-9D57-4F2A-82CA-7E20C456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7D0-3C22-4A26-882F-8A33F8C6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58FD-A88F-4A10-A875-87C1FB15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FE4-45AD-447B-BDE4-2291AD6A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1D8-C41D-49E9-B048-4272869F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5FE-F28A-4D30-99D7-4BB3D992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5F8-0174-4AAD-8197-2F571452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E0FB-1796-4931-9840-D480017C788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3926-03BB-4246-B655-E9447C216D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514840" cy="3500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4786200" y="0"/>
            <a:ext cx="4389480" cy="2786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0" y="4643280"/>
            <a:ext cx="9144000" cy="222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5"/>
          <a:stretch/>
        </p:blipFill>
        <p:spPr>
          <a:xfrm>
            <a:off x="1857240" y="2060640"/>
            <a:ext cx="5500800" cy="72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6"/>
          <a:stretch/>
        </p:blipFill>
        <p:spPr>
          <a:xfrm>
            <a:off x="3143160" y="2857680"/>
            <a:ext cx="26431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2454120" y="2394000"/>
            <a:ext cx="6118560" cy="1441440"/>
            <a:chOff x="2454120" y="2394000"/>
            <a:chExt cx="6118560" cy="1441440"/>
          </a:xfrm>
        </p:grpSpPr>
        <p:sp>
          <p:nvSpPr>
            <p:cNvPr id="47" name="矩形 4"/>
            <p:cNvSpPr/>
            <p:nvPr/>
          </p:nvSpPr>
          <p:spPr>
            <a:xfrm>
              <a:off x="2454120" y="2394000"/>
              <a:ext cx="5690160" cy="1441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圆角矩形 10"/>
            <p:cNvSpPr/>
            <p:nvPr/>
          </p:nvSpPr>
          <p:spPr>
            <a:xfrm>
              <a:off x="2680920" y="2754360"/>
              <a:ext cx="432000" cy="432360"/>
            </a:xfrm>
            <a:custGeom>
              <a:avLst/>
              <a:gdLst>
                <a:gd name="textAreaLeft" fmla="*/ 20880 w 432000"/>
                <a:gd name="textAreaRight" fmla="*/ 411120 w 432000"/>
                <a:gd name="textAreaTop" fmla="*/ 20880 h 432360"/>
                <a:gd name="textAreaBottom" fmla="*/ 411480 h 432360"/>
              </a:gdLst>
              <a:ahLst/>
              <a:rect l="textAreaLeft" t="textAreaTop" r="textAreaRight" b="textAreaBottom"/>
              <a:pathLst>
                <a:path w="21600" h="21618">
                  <a:moveTo>
                    <a:pt x="3600" y="0"/>
                  </a:moveTo>
                  <a:arcTo wR="3600" hR="3600" stAng="16200000" swAng="-5400000"/>
                  <a:lnTo>
                    <a:pt x="0" y="18018"/>
                  </a:lnTo>
                  <a:arcTo wR="3600" hR="3600" stAng="10800000" swAng="-5400000"/>
                  <a:lnTo>
                    <a:pt x="18000" y="216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n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61"/>
            <p:cNvSpPr/>
            <p:nvPr/>
          </p:nvSpPr>
          <p:spPr>
            <a:xfrm>
              <a:off x="2707560" y="2817000"/>
              <a:ext cx="3790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71"/>
            <p:cNvSpPr/>
            <p:nvPr/>
          </p:nvSpPr>
          <p:spPr>
            <a:xfrm>
              <a:off x="3196440" y="3019320"/>
              <a:ext cx="537624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任意多边形 19"/>
          <p:cNvSpPr/>
          <p:nvPr/>
        </p:nvSpPr>
        <p:spPr>
          <a:xfrm>
            <a:off x="341280" y="1500120"/>
            <a:ext cx="2516400" cy="3857760"/>
          </a:xfrm>
          <a:custGeom>
            <a:avLst/>
            <a:gdLst>
              <a:gd name="textAreaLeft" fmla="*/ 0 w 2516400"/>
              <a:gd name="textAreaRight" fmla="*/ 2516760 w 25164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569967" h="4454493">
                <a:moveTo>
                  <a:pt x="0" y="4454493"/>
                </a:moveTo>
                <a:lnTo>
                  <a:pt x="2305578" y="228483"/>
                </a:lnTo>
                <a:lnTo>
                  <a:pt x="2219081" y="166699"/>
                </a:lnTo>
                <a:lnTo>
                  <a:pt x="2569967" y="0"/>
                </a:lnTo>
                <a:lnTo>
                  <a:pt x="2560174" y="416165"/>
                </a:lnTo>
                <a:lnTo>
                  <a:pt x="2465050" y="366739"/>
                </a:lnTo>
                <a:lnTo>
                  <a:pt x="0" y="4454493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962000" y="3278160"/>
            <a:ext cx="6396120" cy="1440000"/>
            <a:chOff x="1962000" y="3278160"/>
            <a:chExt cx="6396120" cy="1440000"/>
          </a:xfrm>
        </p:grpSpPr>
        <p:sp>
          <p:nvSpPr>
            <p:cNvPr id="53" name="矩形 5"/>
            <p:cNvSpPr/>
            <p:nvPr/>
          </p:nvSpPr>
          <p:spPr>
            <a:xfrm>
              <a:off x="1962000" y="3278160"/>
              <a:ext cx="6181920" cy="1440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圆角矩形 13"/>
            <p:cNvSpPr/>
            <p:nvPr/>
          </p:nvSpPr>
          <p:spPr>
            <a:xfrm>
              <a:off x="2241000" y="3629520"/>
              <a:ext cx="43200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n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61"/>
            <p:cNvSpPr/>
            <p:nvPr/>
          </p:nvSpPr>
          <p:spPr>
            <a:xfrm>
              <a:off x="2266920" y="3692160"/>
              <a:ext cx="379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34"/>
            <p:cNvSpPr/>
            <p:nvPr/>
          </p:nvSpPr>
          <p:spPr>
            <a:xfrm>
              <a:off x="2814480" y="3876840"/>
              <a:ext cx="5543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428840" y="4203720"/>
            <a:ext cx="6715080" cy="1440000"/>
            <a:chOff x="1428840" y="4203720"/>
            <a:chExt cx="6715080" cy="1440000"/>
          </a:xfrm>
        </p:grpSpPr>
        <p:sp>
          <p:nvSpPr>
            <p:cNvPr id="58" name="矩形 6"/>
            <p:cNvSpPr/>
            <p:nvPr/>
          </p:nvSpPr>
          <p:spPr>
            <a:xfrm>
              <a:off x="1428840" y="4203720"/>
              <a:ext cx="6715080" cy="1440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圆角矩形 15"/>
            <p:cNvSpPr/>
            <p:nvPr/>
          </p:nvSpPr>
          <p:spPr>
            <a:xfrm>
              <a:off x="1708200" y="4497120"/>
              <a:ext cx="43200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n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61"/>
            <p:cNvSpPr/>
            <p:nvPr/>
          </p:nvSpPr>
          <p:spPr>
            <a:xfrm>
              <a:off x="1734480" y="4551480"/>
              <a:ext cx="379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71"/>
            <p:cNvSpPr/>
            <p:nvPr/>
          </p:nvSpPr>
          <p:spPr>
            <a:xfrm>
              <a:off x="2293200" y="4804920"/>
              <a:ext cx="442188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933640" y="1482840"/>
            <a:ext cx="5543640" cy="1439640"/>
            <a:chOff x="2933640" y="1482840"/>
            <a:chExt cx="5543640" cy="1439640"/>
          </a:xfrm>
        </p:grpSpPr>
        <p:sp>
          <p:nvSpPr>
            <p:cNvPr id="63" name="矩形 3"/>
            <p:cNvSpPr/>
            <p:nvPr/>
          </p:nvSpPr>
          <p:spPr>
            <a:xfrm>
              <a:off x="2933640" y="1482840"/>
              <a:ext cx="5211000" cy="1439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34"/>
            <p:cNvSpPr/>
            <p:nvPr/>
          </p:nvSpPr>
          <p:spPr>
            <a:xfrm>
              <a:off x="3719160" y="2086920"/>
              <a:ext cx="47581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23"/>
            <p:cNvSpPr/>
            <p:nvPr/>
          </p:nvSpPr>
          <p:spPr>
            <a:xfrm>
              <a:off x="3191400" y="1891800"/>
              <a:ext cx="432000" cy="43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n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61"/>
            <p:cNvSpPr/>
            <p:nvPr/>
          </p:nvSpPr>
          <p:spPr>
            <a:xfrm>
              <a:off x="3217680" y="1953360"/>
              <a:ext cx="379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0" y="478620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428760" y="1174680"/>
            <a:ext cx="8358120" cy="482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Picture 4" descr=""/>
          <p:cNvPicPr/>
          <p:nvPr/>
        </p:nvPicPr>
        <p:blipFill>
          <a:blip r:embed="rId4"/>
          <a:stretch/>
        </p:blipFill>
        <p:spPr>
          <a:xfrm>
            <a:off x="-146160" y="5643720"/>
            <a:ext cx="9433080" cy="1230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5"/>
          <a:stretch/>
        </p:blipFill>
        <p:spPr>
          <a:xfrm>
            <a:off x="7072200" y="0"/>
            <a:ext cx="2071800" cy="1000080"/>
          </a:xfrm>
          <a:prstGeom prst="rect">
            <a:avLst/>
          </a:prstGeom>
          <a:ln w="0">
            <a:noFill/>
          </a:ln>
        </p:spPr>
      </p:pic>
      <p:sp>
        <p:nvSpPr>
          <p:cNvPr id="71" name="矩形 32"/>
          <p:cNvSpPr/>
          <p:nvPr/>
        </p:nvSpPr>
        <p:spPr>
          <a:xfrm>
            <a:off x="1285920" y="285840"/>
            <a:ext cx="8072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型组织理论与党支部建设之间的内在联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00040" y="1571760"/>
            <a:ext cx="2071800" cy="4000320"/>
            <a:chOff x="500040" y="1571760"/>
            <a:chExt cx="2071800" cy="4000320"/>
          </a:xfrm>
        </p:grpSpPr>
        <p:sp>
          <p:nvSpPr>
            <p:cNvPr id="73" name="圆角矩形 39"/>
            <p:cNvSpPr/>
            <p:nvPr/>
          </p:nvSpPr>
          <p:spPr>
            <a:xfrm>
              <a:off x="642600" y="1714320"/>
              <a:ext cx="1929240" cy="3857760"/>
            </a:xfrm>
            <a:custGeom>
              <a:avLst/>
              <a:gdLst>
                <a:gd name="textAreaLeft" fmla="*/ 33120 w 1929240"/>
                <a:gd name="textAreaRight" fmla="*/ 1896120 w 1929240"/>
                <a:gd name="textAreaTop" fmla="*/ 33120 h 3857760"/>
                <a:gd name="textAreaBottom" fmla="*/ 3824640 h 3857760"/>
              </a:gdLst>
              <a:ahLst/>
              <a:rect l="textAreaLeft" t="textAreaTop" r="textAreaRight" b="textAreaBottom"/>
              <a:pathLst>
                <a:path w="21600" h="43188">
                  <a:moveTo>
                    <a:pt x="1267" y="0"/>
                  </a:moveTo>
                  <a:arcTo wR="1267" hR="1267" stAng="16200000" swAng="-5400000"/>
                  <a:lnTo>
                    <a:pt x="0" y="41921"/>
                  </a:lnTo>
                  <a:arcTo wR="1267" hR="1267" stAng="10800000" swAng="-5400000"/>
                  <a:lnTo>
                    <a:pt x="20333" y="43188"/>
                  </a:lnTo>
                  <a:arcTo wR="1267" hR="1267" stAng="5400000" swAng="-5400000"/>
                  <a:lnTo>
                    <a:pt x="21600" y="1267"/>
                  </a:lnTo>
                  <a:arcTo wR="1267" hR="1267" stAng="0" swAng="-5400000"/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n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00040" y="1571760"/>
              <a:ext cx="360360" cy="358560"/>
              <a:chOff x="500040" y="1571760"/>
              <a:chExt cx="360360" cy="358560"/>
            </a:xfrm>
          </p:grpSpPr>
          <p:sp>
            <p:nvSpPr>
              <p:cNvPr id="75" name="Oval 84"/>
              <p:cNvSpPr/>
              <p:nvPr/>
            </p:nvSpPr>
            <p:spPr>
              <a:xfrm>
                <a:off x="500040" y="1571760"/>
                <a:ext cx="360360" cy="358560"/>
              </a:xfrm>
              <a:prstGeom prst="ellipse">
                <a:avLst/>
              </a:prstGeom>
              <a:gradFill rotWithShape="0">
                <a:gsLst>
                  <a:gs pos="0">
                    <a:srgbClr val="ed6601"/>
                  </a:gs>
                  <a:gs pos="100000">
                    <a:srgbClr val="f6b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Arial"/>
                  <a:buChar char="u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85"/>
              <p:cNvSpPr/>
              <p:nvPr/>
            </p:nvSpPr>
            <p:spPr>
              <a:xfrm>
                <a:off x="514080" y="1595520"/>
                <a:ext cx="3319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2500200" y="1571760"/>
            <a:ext cx="2071800" cy="4000320"/>
            <a:chOff x="2500200" y="1571760"/>
            <a:chExt cx="2071800" cy="4000320"/>
          </a:xfrm>
        </p:grpSpPr>
        <p:sp>
          <p:nvSpPr>
            <p:cNvPr id="78" name="圆角矩形 55"/>
            <p:cNvSpPr/>
            <p:nvPr/>
          </p:nvSpPr>
          <p:spPr>
            <a:xfrm>
              <a:off x="2642760" y="1714320"/>
              <a:ext cx="1929240" cy="3857760"/>
            </a:xfrm>
            <a:custGeom>
              <a:avLst/>
              <a:gdLst>
                <a:gd name="textAreaLeft" fmla="*/ 33120 w 1929240"/>
                <a:gd name="textAreaRight" fmla="*/ 1896120 w 1929240"/>
                <a:gd name="textAreaTop" fmla="*/ 33120 h 3857760"/>
                <a:gd name="textAreaBottom" fmla="*/ 3824640 h 3857760"/>
              </a:gdLst>
              <a:ahLst/>
              <a:rect l="textAreaLeft" t="textAreaTop" r="textAreaRight" b="textAreaBottom"/>
              <a:pathLst>
                <a:path w="21600" h="43188">
                  <a:moveTo>
                    <a:pt x="1267" y="0"/>
                  </a:moveTo>
                  <a:arcTo wR="1267" hR="1267" stAng="16200000" swAng="-5400000"/>
                  <a:lnTo>
                    <a:pt x="0" y="41921"/>
                  </a:lnTo>
                  <a:arcTo wR="1267" hR="1267" stAng="10800000" swAng="-5400000"/>
                  <a:lnTo>
                    <a:pt x="20333" y="43188"/>
                  </a:lnTo>
                  <a:arcTo wR="1267" hR="1267" stAng="5400000" swAng="-5400000"/>
                  <a:lnTo>
                    <a:pt x="21600" y="1267"/>
                  </a:lnTo>
                  <a:arcTo wR="1267" hR="1267" stAng="0" swAng="-5400000"/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500200" y="1571760"/>
              <a:ext cx="360360" cy="358560"/>
              <a:chOff x="2500200" y="1571760"/>
              <a:chExt cx="360360" cy="358560"/>
            </a:xfrm>
          </p:grpSpPr>
          <p:sp>
            <p:nvSpPr>
              <p:cNvPr id="80" name="Oval 84"/>
              <p:cNvSpPr/>
              <p:nvPr/>
            </p:nvSpPr>
            <p:spPr>
              <a:xfrm>
                <a:off x="2500200" y="1571760"/>
                <a:ext cx="360360" cy="358560"/>
              </a:xfrm>
              <a:prstGeom prst="ellipse">
                <a:avLst/>
              </a:prstGeom>
              <a:gradFill rotWithShape="0">
                <a:gsLst>
                  <a:gs pos="0">
                    <a:srgbClr val="ed6601"/>
                  </a:gs>
                  <a:gs pos="100000">
                    <a:srgbClr val="f6b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Arial"/>
                  <a:buChar char="u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85"/>
              <p:cNvSpPr/>
              <p:nvPr/>
            </p:nvSpPr>
            <p:spPr>
              <a:xfrm>
                <a:off x="2514240" y="1595520"/>
                <a:ext cx="33192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"/>
          <p:cNvGrpSpPr/>
          <p:nvPr/>
        </p:nvGrpSpPr>
        <p:grpSpPr>
          <a:xfrm>
            <a:off x="4500720" y="1571760"/>
            <a:ext cx="2071440" cy="4000320"/>
            <a:chOff x="4500720" y="1571760"/>
            <a:chExt cx="2071440" cy="4000320"/>
          </a:xfrm>
        </p:grpSpPr>
        <p:sp>
          <p:nvSpPr>
            <p:cNvPr id="83" name="圆角矩形 60"/>
            <p:cNvSpPr/>
            <p:nvPr/>
          </p:nvSpPr>
          <p:spPr>
            <a:xfrm>
              <a:off x="4643280" y="1714320"/>
              <a:ext cx="1928880" cy="3857760"/>
            </a:xfrm>
            <a:custGeom>
              <a:avLst/>
              <a:gdLst>
                <a:gd name="textAreaLeft" fmla="*/ 33120 w 1928880"/>
                <a:gd name="textAreaRight" fmla="*/ 1895760 w 1928880"/>
                <a:gd name="textAreaTop" fmla="*/ 33120 h 3857760"/>
                <a:gd name="textAreaBottom" fmla="*/ 3824640 h 3857760"/>
              </a:gdLst>
              <a:ahLst/>
              <a:rect l="textAreaLeft" t="textAreaTop" r="textAreaRight" b="textAreaBottom"/>
              <a:pathLst>
                <a:path w="21600" h="43196">
                  <a:moveTo>
                    <a:pt x="1267" y="0"/>
                  </a:moveTo>
                  <a:arcTo wR="1267" hR="1267" stAng="16200000" swAng="-5400000"/>
                  <a:lnTo>
                    <a:pt x="0" y="41929"/>
                  </a:lnTo>
                  <a:arcTo wR="1267" hR="1267" stAng="10800000" swAng="-5400000"/>
                  <a:lnTo>
                    <a:pt x="20333" y="43196"/>
                  </a:lnTo>
                  <a:arcTo wR="1267" hR="1267" stAng="5400000" swAng="-5400000"/>
                  <a:lnTo>
                    <a:pt x="21600" y="1267"/>
                  </a:lnTo>
                  <a:arcTo wR="1267" hR="1267" stAng="0" swAng="-5400000"/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500720" y="1571760"/>
              <a:ext cx="360360" cy="358560"/>
              <a:chOff x="4500720" y="1571760"/>
              <a:chExt cx="360360" cy="358560"/>
            </a:xfrm>
          </p:grpSpPr>
          <p:sp>
            <p:nvSpPr>
              <p:cNvPr id="85" name="Oval 84"/>
              <p:cNvSpPr/>
              <p:nvPr/>
            </p:nvSpPr>
            <p:spPr>
              <a:xfrm>
                <a:off x="4500720" y="1571760"/>
                <a:ext cx="360360" cy="358560"/>
              </a:xfrm>
              <a:prstGeom prst="ellipse">
                <a:avLst/>
              </a:prstGeom>
              <a:gradFill rotWithShape="0">
                <a:gsLst>
                  <a:gs pos="0">
                    <a:srgbClr val="ed6601"/>
                  </a:gs>
                  <a:gs pos="100000">
                    <a:srgbClr val="f6b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Arial"/>
                  <a:buChar char="u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85"/>
              <p:cNvSpPr/>
              <p:nvPr/>
            </p:nvSpPr>
            <p:spPr>
              <a:xfrm>
                <a:off x="4514760" y="1595520"/>
                <a:ext cx="33192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6500880" y="1214280"/>
            <a:ext cx="2071800" cy="4643640"/>
            <a:chOff x="6500880" y="1214280"/>
            <a:chExt cx="2071800" cy="4643640"/>
          </a:xfrm>
        </p:grpSpPr>
        <p:sp>
          <p:nvSpPr>
            <p:cNvPr id="88" name="圆角矩形 65"/>
            <p:cNvSpPr/>
            <p:nvPr/>
          </p:nvSpPr>
          <p:spPr>
            <a:xfrm>
              <a:off x="6643440" y="1369800"/>
              <a:ext cx="1929240" cy="4488120"/>
            </a:xfrm>
            <a:custGeom>
              <a:avLst/>
              <a:gdLst>
                <a:gd name="textAreaLeft" fmla="*/ 33120 w 1929240"/>
                <a:gd name="textAreaRight" fmla="*/ 1896120 w 1929240"/>
                <a:gd name="textAreaTop" fmla="*/ 33120 h 4488120"/>
                <a:gd name="textAreaBottom" fmla="*/ 4455000 h 4488120"/>
              </a:gdLst>
              <a:ahLst/>
              <a:rect l="textAreaLeft" t="textAreaTop" r="textAreaRight" b="textAreaBottom"/>
              <a:pathLst>
                <a:path w="21600" h="50244">
                  <a:moveTo>
                    <a:pt x="1267" y="0"/>
                  </a:moveTo>
                  <a:arcTo wR="1267" hR="1267" stAng="16200000" swAng="-5400000"/>
                  <a:lnTo>
                    <a:pt x="0" y="48977"/>
                  </a:lnTo>
                  <a:arcTo wR="1267" hR="1267" stAng="10800000" swAng="-5400000"/>
                  <a:lnTo>
                    <a:pt x="20333" y="50244"/>
                  </a:lnTo>
                  <a:arcTo wR="1267" hR="1267" stAng="5400000" swAng="-5400000"/>
                  <a:lnTo>
                    <a:pt x="21600" y="1267"/>
                  </a:lnTo>
                  <a:arcTo wR="1267" hR="1267" stAng="0" swAng="-5400000"/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500880" y="1214280"/>
              <a:ext cx="360360" cy="390600"/>
              <a:chOff x="6500880" y="1214280"/>
              <a:chExt cx="360360" cy="390600"/>
            </a:xfrm>
          </p:grpSpPr>
          <p:sp>
            <p:nvSpPr>
              <p:cNvPr id="90" name="Oval 84"/>
              <p:cNvSpPr/>
              <p:nvPr/>
            </p:nvSpPr>
            <p:spPr>
              <a:xfrm>
                <a:off x="6500880" y="1214280"/>
                <a:ext cx="360360" cy="390600"/>
              </a:xfrm>
              <a:prstGeom prst="ellipse">
                <a:avLst/>
              </a:prstGeom>
              <a:gradFill rotWithShape="0">
                <a:gsLst>
                  <a:gs pos="0">
                    <a:srgbClr val="ed6601"/>
                  </a:gs>
                  <a:gs pos="100000">
                    <a:srgbClr val="f6b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Arial"/>
                  <a:buChar char="u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85"/>
              <p:cNvSpPr/>
              <p:nvPr/>
            </p:nvSpPr>
            <p:spPr>
              <a:xfrm>
                <a:off x="6514920" y="1240200"/>
                <a:ext cx="3319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478620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28760" y="1174680"/>
            <a:ext cx="8358120" cy="482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Picture 4" descr=""/>
          <p:cNvPicPr/>
          <p:nvPr/>
        </p:nvPicPr>
        <p:blipFill>
          <a:blip r:embed="rId4"/>
          <a:stretch/>
        </p:blipFill>
        <p:spPr>
          <a:xfrm>
            <a:off x="-146160" y="5643720"/>
            <a:ext cx="9433080" cy="1230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5"/>
          <a:stretch/>
        </p:blipFill>
        <p:spPr>
          <a:xfrm>
            <a:off x="7072200" y="0"/>
            <a:ext cx="2071800" cy="1000080"/>
          </a:xfrm>
          <a:prstGeom prst="rect">
            <a:avLst/>
          </a:prstGeom>
          <a:ln w="0">
            <a:noFill/>
          </a:ln>
        </p:spPr>
      </p:pic>
      <p:sp>
        <p:nvSpPr>
          <p:cNvPr id="96" name="矩形 32"/>
          <p:cNvSpPr/>
          <p:nvPr/>
        </p:nvSpPr>
        <p:spPr>
          <a:xfrm>
            <a:off x="1285920" y="285840"/>
            <a:ext cx="8072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设学习型党支部对保持和发展党先进性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3297240" y="1828800"/>
            <a:ext cx="4859280" cy="3780000"/>
          </a:xfrm>
          <a:prstGeom prst="roundRect">
            <a:avLst>
              <a:gd name="adj" fmla="val 2269"/>
            </a:avLst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2201760" y="2008080"/>
            <a:ext cx="1816200" cy="3421080"/>
          </a:xfrm>
          <a:prstGeom prst="rightArrow">
            <a:avLst>
              <a:gd name="adj1" fmla="val 69120"/>
              <a:gd name="adj2" fmla="val 50329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28800" y="3071880"/>
            <a:ext cx="2593800" cy="927000"/>
            <a:chOff x="928800" y="3071880"/>
            <a:chExt cx="2593800" cy="927000"/>
          </a:xfrm>
        </p:grpSpPr>
        <p:sp>
          <p:nvSpPr>
            <p:cNvPr id="100" name="双波形 46"/>
            <p:cNvSpPr/>
            <p:nvPr/>
          </p:nvSpPr>
          <p:spPr>
            <a:xfrm>
              <a:off x="928800" y="3071880"/>
              <a:ext cx="2593800" cy="927000"/>
            </a:xfrm>
            <a:custGeom>
              <a:avLst/>
              <a:gdLst>
                <a:gd name="textAreaLeft" fmla="*/ 229680 w 2593800"/>
                <a:gd name="textAreaRight" fmla="*/ 2823840 w 2593800"/>
                <a:gd name="textAreaTop" fmla="*/ 115920 h 927000"/>
                <a:gd name="textAreaBottom" fmla="*/ 811440 h 92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14" y="1350"/>
                  </a:moveTo>
                  <a:cubicBezTo>
                    <a:pt x="4557" y="-3433"/>
                    <a:pt x="9114" y="6133"/>
                    <a:pt x="11757" y="1350"/>
                  </a:cubicBezTo>
                  <a:cubicBezTo>
                    <a:pt x="14400" y="-3433"/>
                    <a:pt x="18957" y="6133"/>
                    <a:pt x="21600" y="1350"/>
                  </a:cubicBezTo>
                  <a:lnTo>
                    <a:pt x="19686" y="20250"/>
                  </a:lnTo>
                  <a:cubicBezTo>
                    <a:pt x="17043" y="25033"/>
                    <a:pt x="12486" y="15467"/>
                    <a:pt x="9843" y="20250"/>
                  </a:cubicBezTo>
                  <a:cubicBezTo>
                    <a:pt x="7200" y="25033"/>
                    <a:pt x="2643" y="15467"/>
                    <a:pt x="0" y="20250"/>
                  </a:cubicBezTo>
                  <a:close/>
                </a:path>
              </a:pathLst>
            </a:custGeom>
            <a:gradFill rotWithShape="0">
              <a:gsLst>
                <a:gs pos="0">
                  <a:srgbClr val="e22000"/>
                </a:gs>
                <a:gs pos="100000">
                  <a:srgbClr val="ffcf01"/>
                </a:gs>
              </a:gsLst>
              <a:lin ang="135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22"/>
            <p:cNvSpPr/>
            <p:nvPr/>
          </p:nvSpPr>
          <p:spPr>
            <a:xfrm>
              <a:off x="1010520" y="3229200"/>
              <a:ext cx="24300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857160" y="4214880"/>
            <a:ext cx="2808360" cy="992160"/>
            <a:chOff x="857160" y="4214880"/>
            <a:chExt cx="2808360" cy="992160"/>
          </a:xfrm>
        </p:grpSpPr>
        <p:sp>
          <p:nvSpPr>
            <p:cNvPr id="103" name="双波形 49"/>
            <p:cNvSpPr/>
            <p:nvPr/>
          </p:nvSpPr>
          <p:spPr>
            <a:xfrm>
              <a:off x="857160" y="4214880"/>
              <a:ext cx="2808360" cy="992160"/>
            </a:xfrm>
            <a:custGeom>
              <a:avLst/>
              <a:gdLst>
                <a:gd name="textAreaLeft" fmla="*/ 248760 w 2808360"/>
                <a:gd name="textAreaRight" fmla="*/ 3057480 w 2808360"/>
                <a:gd name="textAreaTop" fmla="*/ 123840 h 992160"/>
                <a:gd name="textAreaBottom" fmla="*/ 868320 h 9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14" y="1350"/>
                  </a:moveTo>
                  <a:cubicBezTo>
                    <a:pt x="4557" y="-3433"/>
                    <a:pt x="9114" y="6133"/>
                    <a:pt x="11757" y="1350"/>
                  </a:cubicBezTo>
                  <a:cubicBezTo>
                    <a:pt x="14400" y="-3433"/>
                    <a:pt x="18957" y="6133"/>
                    <a:pt x="21600" y="1350"/>
                  </a:cubicBezTo>
                  <a:lnTo>
                    <a:pt x="19686" y="20250"/>
                  </a:lnTo>
                  <a:cubicBezTo>
                    <a:pt x="17043" y="25033"/>
                    <a:pt x="12486" y="15467"/>
                    <a:pt x="9843" y="20250"/>
                  </a:cubicBezTo>
                  <a:cubicBezTo>
                    <a:pt x="7200" y="25033"/>
                    <a:pt x="2643" y="15467"/>
                    <a:pt x="0" y="20250"/>
                  </a:cubicBezTo>
                  <a:close/>
                </a:path>
              </a:pathLst>
            </a:custGeom>
            <a:gradFill rotWithShape="0">
              <a:gsLst>
                <a:gs pos="0">
                  <a:srgbClr val="e22000"/>
                </a:gs>
                <a:gs pos="100000">
                  <a:srgbClr val="ffcf01"/>
                </a:gs>
              </a:gsLst>
              <a:lin ang="135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22"/>
            <p:cNvSpPr/>
            <p:nvPr/>
          </p:nvSpPr>
          <p:spPr>
            <a:xfrm>
              <a:off x="945720" y="4409280"/>
              <a:ext cx="263124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977760" y="2359080"/>
            <a:ext cx="2522520" cy="576360"/>
            <a:chOff x="977760" y="2359080"/>
            <a:chExt cx="2522520" cy="576360"/>
          </a:xfrm>
        </p:grpSpPr>
        <p:sp>
          <p:nvSpPr>
            <p:cNvPr id="106" name="双波形 54"/>
            <p:cNvSpPr/>
            <p:nvPr/>
          </p:nvSpPr>
          <p:spPr>
            <a:xfrm>
              <a:off x="977760" y="2359080"/>
              <a:ext cx="2522520" cy="576360"/>
            </a:xfrm>
            <a:custGeom>
              <a:avLst/>
              <a:gdLst>
                <a:gd name="textAreaLeft" fmla="*/ 223200 w 2522520"/>
                <a:gd name="textAreaRight" fmla="*/ 2746080 w 2522520"/>
                <a:gd name="textAreaTop" fmla="*/ 72000 h 576360"/>
                <a:gd name="textAreaBottom" fmla="*/ 504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14" y="1350"/>
                  </a:moveTo>
                  <a:cubicBezTo>
                    <a:pt x="4557" y="-3433"/>
                    <a:pt x="9114" y="6133"/>
                    <a:pt x="11757" y="1350"/>
                  </a:cubicBezTo>
                  <a:cubicBezTo>
                    <a:pt x="14400" y="-3433"/>
                    <a:pt x="18957" y="6133"/>
                    <a:pt x="21600" y="1350"/>
                  </a:cubicBezTo>
                  <a:lnTo>
                    <a:pt x="19686" y="20250"/>
                  </a:lnTo>
                  <a:cubicBezTo>
                    <a:pt x="17043" y="25033"/>
                    <a:pt x="12486" y="15467"/>
                    <a:pt x="9843" y="20250"/>
                  </a:cubicBezTo>
                  <a:cubicBezTo>
                    <a:pt x="7200" y="25033"/>
                    <a:pt x="2643" y="15467"/>
                    <a:pt x="0" y="20250"/>
                  </a:cubicBezTo>
                  <a:close/>
                </a:path>
              </a:pathLst>
            </a:custGeom>
            <a:gradFill rotWithShape="0">
              <a:gsLst>
                <a:gs pos="0">
                  <a:srgbClr val="e22000"/>
                </a:gs>
                <a:gs pos="100000">
                  <a:srgbClr val="ffcf01"/>
                </a:gs>
              </a:gsLst>
              <a:lin ang="135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22"/>
            <p:cNvSpPr/>
            <p:nvPr/>
          </p:nvSpPr>
          <p:spPr>
            <a:xfrm>
              <a:off x="1057320" y="2441520"/>
              <a:ext cx="2363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500720" y="2286000"/>
            <a:ext cx="3227400" cy="571680"/>
            <a:chOff x="4500720" y="2286000"/>
            <a:chExt cx="3227400" cy="571680"/>
          </a:xfrm>
        </p:grpSpPr>
        <p:sp>
          <p:nvSpPr>
            <p:cNvPr id="109" name="圆角矩形 61"/>
            <p:cNvSpPr/>
            <p:nvPr/>
          </p:nvSpPr>
          <p:spPr>
            <a:xfrm>
              <a:off x="4500720" y="2286000"/>
              <a:ext cx="3215880" cy="571680"/>
            </a:xfrm>
            <a:prstGeom prst="roundRect">
              <a:avLst>
                <a:gd name="adj" fmla="val 10565"/>
              </a:avLst>
            </a:prstGeom>
            <a:gradFill rotWithShape="0">
              <a:gsLst>
                <a:gs pos="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14"/>
            <p:cNvSpPr/>
            <p:nvPr/>
          </p:nvSpPr>
          <p:spPr>
            <a:xfrm>
              <a:off x="4631760" y="2428920"/>
              <a:ext cx="3096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429080" y="3286080"/>
            <a:ext cx="3648240" cy="571680"/>
            <a:chOff x="4429080" y="3286080"/>
            <a:chExt cx="3648240" cy="571680"/>
          </a:xfrm>
        </p:grpSpPr>
        <p:sp>
          <p:nvSpPr>
            <p:cNvPr id="112" name="圆角矩形 69"/>
            <p:cNvSpPr/>
            <p:nvPr/>
          </p:nvSpPr>
          <p:spPr>
            <a:xfrm>
              <a:off x="4429080" y="3286080"/>
              <a:ext cx="3571920" cy="571680"/>
            </a:xfrm>
            <a:prstGeom prst="roundRect">
              <a:avLst>
                <a:gd name="adj" fmla="val 10565"/>
              </a:avLst>
            </a:prstGeom>
            <a:gradFill rotWithShape="0">
              <a:gsLst>
                <a:gs pos="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14"/>
            <p:cNvSpPr/>
            <p:nvPr/>
          </p:nvSpPr>
          <p:spPr>
            <a:xfrm>
              <a:off x="4638240" y="3286080"/>
              <a:ext cx="34390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429080" y="4282920"/>
            <a:ext cx="3648240" cy="571680"/>
            <a:chOff x="4429080" y="4282920"/>
            <a:chExt cx="3648240" cy="571680"/>
          </a:xfrm>
        </p:grpSpPr>
        <p:sp>
          <p:nvSpPr>
            <p:cNvPr id="115" name="圆角矩形 72"/>
            <p:cNvSpPr/>
            <p:nvPr/>
          </p:nvSpPr>
          <p:spPr>
            <a:xfrm>
              <a:off x="4429080" y="4282920"/>
              <a:ext cx="3571920" cy="571680"/>
            </a:xfrm>
            <a:prstGeom prst="roundRect">
              <a:avLst>
                <a:gd name="adj" fmla="val 10565"/>
              </a:avLst>
            </a:prstGeom>
            <a:gradFill rotWithShape="0">
              <a:gsLst>
                <a:gs pos="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4"/>
            <p:cNvSpPr/>
            <p:nvPr/>
          </p:nvSpPr>
          <p:spPr>
            <a:xfrm>
              <a:off x="4638240" y="4345560"/>
              <a:ext cx="34390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0" y="478620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428760" y="1174680"/>
            <a:ext cx="8358120" cy="482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4" descr=""/>
          <p:cNvPicPr/>
          <p:nvPr/>
        </p:nvPicPr>
        <p:blipFill>
          <a:blip r:embed="rId4"/>
          <a:stretch/>
        </p:blipFill>
        <p:spPr>
          <a:xfrm>
            <a:off x="-146160" y="5643720"/>
            <a:ext cx="9433080" cy="1230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5"/>
          <a:stretch/>
        </p:blipFill>
        <p:spPr>
          <a:xfrm>
            <a:off x="7072200" y="0"/>
            <a:ext cx="2071800" cy="1000080"/>
          </a:xfrm>
          <a:prstGeom prst="rect">
            <a:avLst/>
          </a:prstGeom>
          <a:ln w="0">
            <a:noFill/>
          </a:ln>
        </p:spPr>
      </p:pic>
      <p:sp>
        <p:nvSpPr>
          <p:cNvPr id="121" name="矩形 32"/>
          <p:cNvSpPr/>
          <p:nvPr/>
        </p:nvSpPr>
        <p:spPr>
          <a:xfrm>
            <a:off x="1285920" y="285840"/>
            <a:ext cx="8072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设学习型党支部对保持和发展党先进性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09520" y="1717560"/>
            <a:ext cx="7034400" cy="1114560"/>
            <a:chOff x="1109520" y="1717560"/>
            <a:chExt cx="7034400" cy="1114560"/>
          </a:xfrm>
        </p:grpSpPr>
        <p:sp>
          <p:nvSpPr>
            <p:cNvPr id="123" name="圆角矩形 34"/>
            <p:cNvSpPr/>
            <p:nvPr/>
          </p:nvSpPr>
          <p:spPr>
            <a:xfrm>
              <a:off x="1128960" y="1717560"/>
              <a:ext cx="7014960" cy="1114560"/>
            </a:xfrm>
            <a:prstGeom prst="roundRect">
              <a:avLst>
                <a:gd name="adj" fmla="val 2745"/>
              </a:avLst>
            </a:prstGeom>
            <a:gradFill rotWithShape="0">
              <a:gsLst>
                <a:gs pos="0">
                  <a:srgbClr val="e22000"/>
                </a:gs>
                <a:gs pos="100000">
                  <a:srgbClr val="ffcf01"/>
                </a:gs>
              </a:gsLst>
              <a:lin ang="135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9"/>
            <p:cNvSpPr/>
            <p:nvPr/>
          </p:nvSpPr>
          <p:spPr>
            <a:xfrm>
              <a:off x="1109520" y="1982880"/>
              <a:ext cx="689184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09520" y="2989440"/>
            <a:ext cx="7034400" cy="1116000"/>
            <a:chOff x="1109520" y="2989440"/>
            <a:chExt cx="7034400" cy="1116000"/>
          </a:xfrm>
        </p:grpSpPr>
        <p:sp>
          <p:nvSpPr>
            <p:cNvPr id="126" name="圆角矩形 36"/>
            <p:cNvSpPr/>
            <p:nvPr/>
          </p:nvSpPr>
          <p:spPr>
            <a:xfrm>
              <a:off x="1128960" y="2989440"/>
              <a:ext cx="7014960" cy="1116000"/>
            </a:xfrm>
            <a:prstGeom prst="roundRect">
              <a:avLst>
                <a:gd name="adj" fmla="val 2745"/>
              </a:avLst>
            </a:prstGeom>
            <a:gradFill rotWithShape="0">
              <a:gsLst>
                <a:gs pos="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9"/>
            <p:cNvSpPr/>
            <p:nvPr/>
          </p:nvSpPr>
          <p:spPr>
            <a:xfrm>
              <a:off x="1109520" y="3255120"/>
              <a:ext cx="68202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109520" y="4241880"/>
            <a:ext cx="7034400" cy="1116000"/>
            <a:chOff x="1109520" y="4241880"/>
            <a:chExt cx="7034400" cy="1116000"/>
          </a:xfrm>
        </p:grpSpPr>
        <p:sp>
          <p:nvSpPr>
            <p:cNvPr id="129" name="圆角矩形 38"/>
            <p:cNvSpPr/>
            <p:nvPr/>
          </p:nvSpPr>
          <p:spPr>
            <a:xfrm>
              <a:off x="1128960" y="4241880"/>
              <a:ext cx="7014960" cy="1116000"/>
            </a:xfrm>
            <a:prstGeom prst="roundRect">
              <a:avLst>
                <a:gd name="adj" fmla="val 2745"/>
              </a:avLst>
            </a:prstGeom>
            <a:gradFill rotWithShape="0">
              <a:gsLst>
                <a:gs pos="0">
                  <a:srgbClr val="0f5000"/>
                </a:gs>
                <a:gs pos="100000">
                  <a:srgbClr val="6eff01"/>
                </a:gs>
              </a:gsLst>
              <a:lin ang="135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9"/>
            <p:cNvSpPr/>
            <p:nvPr/>
          </p:nvSpPr>
          <p:spPr>
            <a:xfrm>
              <a:off x="1109520" y="4507560"/>
              <a:ext cx="689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478620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428760" y="1174680"/>
            <a:ext cx="8358120" cy="482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cture 4" descr=""/>
          <p:cNvPicPr/>
          <p:nvPr/>
        </p:nvPicPr>
        <p:blipFill>
          <a:blip r:embed="rId4"/>
          <a:stretch/>
        </p:blipFill>
        <p:spPr>
          <a:xfrm>
            <a:off x="-146160" y="5643720"/>
            <a:ext cx="9433080" cy="1230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7072200" y="0"/>
            <a:ext cx="2071800" cy="1000080"/>
          </a:xfrm>
          <a:prstGeom prst="rect">
            <a:avLst/>
          </a:prstGeom>
          <a:ln w="0">
            <a:noFill/>
          </a:ln>
        </p:spPr>
      </p:pic>
      <p:sp>
        <p:nvSpPr>
          <p:cNvPr id="135" name="矩形 32"/>
          <p:cNvSpPr/>
          <p:nvPr/>
        </p:nvSpPr>
        <p:spPr>
          <a:xfrm>
            <a:off x="1285920" y="285840"/>
            <a:ext cx="8072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设学习型党支部需要遵循的基本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燕尾形 43"/>
          <p:cNvSpPr/>
          <p:nvPr/>
        </p:nvSpPr>
        <p:spPr>
          <a:xfrm flipH="1" flipV="1" rot="5227800">
            <a:off x="1717200" y="4444920"/>
            <a:ext cx="432000" cy="576360"/>
          </a:xfrm>
          <a:custGeom>
            <a:avLst/>
            <a:gdLst>
              <a:gd name="textAreaLeft" fmla="*/ 360 w 432000"/>
              <a:gd name="textAreaRight" fmla="*/ 432720 w 43200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90" y="0"/>
                </a:lnTo>
                <a:lnTo>
                  <a:pt x="21600" y="10800"/>
                </a:lnTo>
                <a:lnTo>
                  <a:pt x="13090" y="21600"/>
                </a:lnTo>
                <a:lnTo>
                  <a:pt x="0" y="21600"/>
                </a:lnTo>
                <a:lnTo>
                  <a:pt x="8510" y="10800"/>
                </a:lnTo>
                <a:close/>
              </a:path>
            </a:pathLst>
          </a:custGeom>
          <a:gradFill rotWithShape="0">
            <a:gsLst>
              <a:gs pos="0">
                <a:srgbClr val="e22000"/>
              </a:gs>
              <a:gs pos="100000">
                <a:srgbClr val="ffcf01"/>
              </a:gs>
            </a:gsLst>
            <a:lin ang="55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71400" y="5065560"/>
            <a:ext cx="7761240" cy="541440"/>
            <a:chOff x="671400" y="5065560"/>
            <a:chExt cx="7761240" cy="541440"/>
          </a:xfrm>
        </p:grpSpPr>
        <p:sp>
          <p:nvSpPr>
            <p:cNvPr id="138" name="Rectangle 20"/>
            <p:cNvSpPr/>
            <p:nvPr/>
          </p:nvSpPr>
          <p:spPr>
            <a:xfrm>
              <a:off x="671400" y="5065560"/>
              <a:ext cx="77612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48"/>
            <p:cNvSpPr/>
            <p:nvPr/>
          </p:nvSpPr>
          <p:spPr>
            <a:xfrm>
              <a:off x="713880" y="5160960"/>
              <a:ext cx="7715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燕尾形 51"/>
          <p:cNvSpPr/>
          <p:nvPr/>
        </p:nvSpPr>
        <p:spPr>
          <a:xfrm flipH="1" flipV="1" rot="5400000">
            <a:off x="4305960" y="4446000"/>
            <a:ext cx="432000" cy="576000"/>
          </a:xfrm>
          <a:custGeom>
            <a:avLst/>
            <a:gdLst>
              <a:gd name="textAreaLeft" fmla="*/ 360 w 432000"/>
              <a:gd name="textAreaRight" fmla="*/ 432720 w 432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90" y="0"/>
                </a:lnTo>
                <a:lnTo>
                  <a:pt x="21600" y="10800"/>
                </a:lnTo>
                <a:lnTo>
                  <a:pt x="13090" y="21600"/>
                </a:lnTo>
                <a:lnTo>
                  <a:pt x="0" y="21600"/>
                </a:lnTo>
                <a:lnTo>
                  <a:pt x="8510" y="10800"/>
                </a:lnTo>
                <a:close/>
              </a:path>
            </a:pathLst>
          </a:custGeom>
          <a:gradFill rotWithShape="0">
            <a:gsLst>
              <a:gs pos="0">
                <a:srgbClr val="e22000"/>
              </a:gs>
              <a:gs pos="100000">
                <a:srgbClr val="ffcf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燕尾形 52"/>
          <p:cNvSpPr/>
          <p:nvPr/>
        </p:nvSpPr>
        <p:spPr>
          <a:xfrm flipH="1" flipV="1" rot="5400000">
            <a:off x="6890760" y="4445640"/>
            <a:ext cx="432000" cy="576360"/>
          </a:xfrm>
          <a:custGeom>
            <a:avLst/>
            <a:gdLst>
              <a:gd name="textAreaLeft" fmla="*/ 360 w 432000"/>
              <a:gd name="textAreaRight" fmla="*/ 432720 w 43200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90" y="0"/>
                </a:lnTo>
                <a:lnTo>
                  <a:pt x="21600" y="10800"/>
                </a:lnTo>
                <a:lnTo>
                  <a:pt x="13090" y="21600"/>
                </a:lnTo>
                <a:lnTo>
                  <a:pt x="0" y="21600"/>
                </a:lnTo>
                <a:lnTo>
                  <a:pt x="8510" y="10800"/>
                </a:lnTo>
                <a:close/>
              </a:path>
            </a:pathLst>
          </a:custGeom>
          <a:gradFill rotWithShape="0">
            <a:gsLst>
              <a:gs pos="0">
                <a:srgbClr val="e22000"/>
              </a:gs>
              <a:gs pos="100000">
                <a:srgbClr val="ffcf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48960" y="2142720"/>
            <a:ext cx="1979640" cy="1979640"/>
            <a:chOff x="948960" y="2142720"/>
            <a:chExt cx="1979640" cy="1979640"/>
          </a:xfrm>
        </p:grpSpPr>
        <p:sp>
          <p:nvSpPr>
            <p:cNvPr id="143" name="上箭头 53"/>
            <p:cNvSpPr/>
            <p:nvPr/>
          </p:nvSpPr>
          <p:spPr>
            <a:xfrm rot="10800000">
              <a:off x="948960" y="2142720"/>
              <a:ext cx="1979640" cy="1979640"/>
            </a:xfrm>
            <a:prstGeom prst="upArrow">
              <a:avLst>
                <a:gd name="adj1" fmla="val 61889"/>
                <a:gd name="adj2" fmla="val 41843"/>
              </a:avLst>
            </a:prstGeom>
            <a:gradFill rotWithShape="0">
              <a:gsLst>
                <a:gs pos="0">
                  <a:srgbClr val="ffcf01"/>
                </a:gs>
                <a:gs pos="100000">
                  <a:srgbClr val="e22000"/>
                </a:gs>
              </a:gsLst>
              <a:lin ang="54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58"/>
            <p:cNvSpPr/>
            <p:nvPr/>
          </p:nvSpPr>
          <p:spPr>
            <a:xfrm>
              <a:off x="1285920" y="2219760"/>
              <a:ext cx="13572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520800" y="2142720"/>
            <a:ext cx="1979640" cy="1979640"/>
            <a:chOff x="3520800" y="2142720"/>
            <a:chExt cx="1979640" cy="1979640"/>
          </a:xfrm>
        </p:grpSpPr>
        <p:sp>
          <p:nvSpPr>
            <p:cNvPr id="146" name="上箭头 55"/>
            <p:cNvSpPr/>
            <p:nvPr/>
          </p:nvSpPr>
          <p:spPr>
            <a:xfrm rot="10800000">
              <a:off x="3520800" y="2142720"/>
              <a:ext cx="1979640" cy="1979640"/>
            </a:xfrm>
            <a:prstGeom prst="upArrow">
              <a:avLst>
                <a:gd name="adj1" fmla="val 61889"/>
                <a:gd name="adj2" fmla="val 41843"/>
              </a:avLst>
            </a:prstGeom>
            <a:gradFill rotWithShape="0">
              <a:gsLst>
                <a:gs pos="0">
                  <a:srgbClr val="ffcf01"/>
                </a:gs>
                <a:gs pos="100000">
                  <a:srgbClr val="e22000"/>
                </a:gs>
              </a:gsLst>
              <a:lin ang="54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59"/>
            <p:cNvSpPr/>
            <p:nvPr/>
          </p:nvSpPr>
          <p:spPr>
            <a:xfrm>
              <a:off x="3857760" y="2219760"/>
              <a:ext cx="13572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093000" y="2142720"/>
            <a:ext cx="1979280" cy="1979640"/>
            <a:chOff x="6093000" y="2142720"/>
            <a:chExt cx="1979280" cy="1979640"/>
          </a:xfrm>
        </p:grpSpPr>
        <p:sp>
          <p:nvSpPr>
            <p:cNvPr id="149" name="上箭头 57"/>
            <p:cNvSpPr/>
            <p:nvPr/>
          </p:nvSpPr>
          <p:spPr>
            <a:xfrm rot="10800000">
              <a:off x="6093000" y="2142720"/>
              <a:ext cx="1979280" cy="1979640"/>
            </a:xfrm>
            <a:prstGeom prst="upArrow">
              <a:avLst>
                <a:gd name="adj1" fmla="val 61889"/>
                <a:gd name="adj2" fmla="val 41850"/>
              </a:avLst>
            </a:prstGeom>
            <a:gradFill rotWithShape="0">
              <a:gsLst>
                <a:gs pos="0">
                  <a:srgbClr val="ffcf01"/>
                </a:gs>
                <a:gs pos="100000">
                  <a:srgbClr val="e22000"/>
                </a:gs>
              </a:gsLst>
              <a:lin ang="5400000"/>
            </a:gra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Arial"/>
                <a:buChar char="u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60"/>
            <p:cNvSpPr/>
            <p:nvPr/>
          </p:nvSpPr>
          <p:spPr>
            <a:xfrm>
              <a:off x="6429600" y="2214360"/>
              <a:ext cx="135684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514840" cy="3500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4786200" y="0"/>
            <a:ext cx="4389480" cy="2786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0" y="4643280"/>
            <a:ext cx="9144000" cy="2227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5"/>
          <a:stretch/>
        </p:blipFill>
        <p:spPr>
          <a:xfrm>
            <a:off x="2928960" y="3571920"/>
            <a:ext cx="2643120" cy="1438200"/>
          </a:xfrm>
          <a:prstGeom prst="rect">
            <a:avLst/>
          </a:prstGeom>
          <a:ln w="0">
            <a:noFill/>
          </a:ln>
        </p:spPr>
      </p:pic>
      <p:sp>
        <p:nvSpPr>
          <p:cNvPr id="155" name="矩形 8"/>
          <p:cNvSpPr/>
          <p:nvPr/>
        </p:nvSpPr>
        <p:spPr>
          <a:xfrm>
            <a:off x="3214800" y="2286000"/>
            <a:ext cx="237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  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9"/>
          <p:cNvSpPr/>
          <p:nvPr/>
        </p:nvSpPr>
        <p:spPr>
          <a:xfrm>
            <a:off x="6000840" y="5214960"/>
            <a:ext cx="123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7:16:20Z</dcterms:created>
  <dc:creator/>
  <dc:description/>
  <cp:keywords/>
  <dc:language>en-US</dc:language>
  <cp:lastModifiedBy>GZB</cp:lastModifiedBy>
  <cp:lastPrinted>1899-12-30T00:00:00Z</cp:lastPrinted>
  <dcterms:modified xsi:type="dcterms:W3CDTF">2012-09-09T03:14:47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NXTAG2">
    <vt:lpwstr>000800c40d000000000001024140</vt:lpwstr>
  </property>
</Properties>
</file>